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67E5-FCC5-469B-97B6-0E445B51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F6DC-E915-4430-8D20-88349889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0981-4AE1-47D5-9E10-E69E09EB8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E8C1-F88D-449C-934D-95323894B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CBCF-F53F-4AF9-A970-C818B11B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3DFD-050A-4EF1-BFC2-4EFC7DE3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46CF-D4A5-4935-89B6-7CBB42F2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AE15-FDDE-448C-80F4-977746F4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B630-53F0-437D-9A99-FA055855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2866-4FF0-450E-A843-C29A627F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9049-3F85-4C70-8228-B3DFED21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61C2-0D4B-464E-8AE9-57BA0446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A0FE-FA28-4D8C-BBDE-30CD8EE9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625A-30CF-4C31-A400-74E9ED40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42A2-7729-4986-96C8-07FE3008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74BF-A074-44E4-830A-DC267966A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09A8-6820-4845-A53C-4F478479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96DC-17BC-4706-BF19-49375F7B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451B-C1F1-43DA-B3F3-CEB6CE14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8131-CF44-4481-AAD7-55BBF763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786C-711E-4BEC-B1C9-A66F1912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94C1-298C-4F73-816F-503082D4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56CF-1B50-4AF7-BDD8-C61C4CDA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279F-EC58-4243-9AAC-955E4EC0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2062-1616-4F73-9E25-DFEFD6A4E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2912-2640-4AA1-A846-55B13E430C8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0BF3-5A92-4FB6-93A5-76179AF18DD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Oval 415"/>
          <p:cNvSpPr/>
          <p:nvPr/>
        </p:nvSpPr>
        <p:spPr>
          <a:xfrm rot="16200000">
            <a:off x="4419360" y="3124080"/>
            <a:ext cx="533520" cy="2361960"/>
          </a:xfrm>
          <a:prstGeom prst="ellipse">
            <a:avLst/>
          </a:prstGeom>
          <a:gradFill rotWithShape="0">
            <a:gsLst>
              <a:gs pos="0">
                <a:srgbClr val="ffffff">
                  <a:alpha val="43137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417"/>
          <p:cNvGrpSpPr/>
          <p:nvPr/>
        </p:nvGrpSpPr>
        <p:grpSpPr>
          <a:xfrm>
            <a:off x="4876920" y="1676520"/>
            <a:ext cx="606240" cy="1218960"/>
            <a:chOff x="4876920" y="1676520"/>
            <a:chExt cx="606240" cy="1218960"/>
          </a:xfrm>
        </p:grpSpPr>
        <p:sp>
          <p:nvSpPr>
            <p:cNvPr id="84" name="Freeform 418"/>
            <p:cNvSpPr/>
            <p:nvPr/>
          </p:nvSpPr>
          <p:spPr>
            <a:xfrm>
              <a:off x="4998960" y="1676520"/>
              <a:ext cx="273600" cy="215280"/>
            </a:xfrm>
            <a:custGeom>
              <a:avLst/>
              <a:gdLst/>
              <a:ahLst/>
              <a:rect l="l" t="t" r="r" b="b"/>
              <a:pathLst>
                <a:path w="428" h="336">
                  <a:moveTo>
                    <a:pt x="262" y="146"/>
                  </a:moveTo>
                  <a:cubicBezTo>
                    <a:pt x="274" y="99"/>
                    <a:pt x="274" y="52"/>
                    <a:pt x="288" y="6"/>
                  </a:cubicBezTo>
                  <a:cubicBezTo>
                    <a:pt x="313" y="10"/>
                    <a:pt x="364" y="14"/>
                    <a:pt x="367" y="32"/>
                  </a:cubicBezTo>
                  <a:cubicBezTo>
                    <a:pt x="381" y="109"/>
                    <a:pt x="336" y="159"/>
                    <a:pt x="271" y="181"/>
                  </a:cubicBezTo>
                  <a:cubicBezTo>
                    <a:pt x="291" y="184"/>
                    <a:pt x="312" y="184"/>
                    <a:pt x="332" y="189"/>
                  </a:cubicBezTo>
                  <a:cubicBezTo>
                    <a:pt x="350" y="193"/>
                    <a:pt x="384" y="207"/>
                    <a:pt x="384" y="207"/>
                  </a:cubicBezTo>
                  <a:cubicBezTo>
                    <a:pt x="406" y="228"/>
                    <a:pt x="418" y="239"/>
                    <a:pt x="428" y="268"/>
                  </a:cubicBezTo>
                  <a:cubicBezTo>
                    <a:pt x="405" y="336"/>
                    <a:pt x="325" y="298"/>
                    <a:pt x="262" y="294"/>
                  </a:cubicBezTo>
                  <a:cubicBezTo>
                    <a:pt x="256" y="285"/>
                    <a:pt x="250" y="277"/>
                    <a:pt x="245" y="268"/>
                  </a:cubicBezTo>
                  <a:cubicBezTo>
                    <a:pt x="241" y="260"/>
                    <a:pt x="245" y="245"/>
                    <a:pt x="236" y="242"/>
                  </a:cubicBezTo>
                  <a:cubicBezTo>
                    <a:pt x="228" y="239"/>
                    <a:pt x="225" y="255"/>
                    <a:pt x="218" y="259"/>
                  </a:cubicBezTo>
                  <a:cubicBezTo>
                    <a:pt x="210" y="264"/>
                    <a:pt x="201" y="265"/>
                    <a:pt x="192" y="268"/>
                  </a:cubicBezTo>
                  <a:cubicBezTo>
                    <a:pt x="158" y="320"/>
                    <a:pt x="136" y="301"/>
                    <a:pt x="70" y="294"/>
                  </a:cubicBezTo>
                  <a:cubicBezTo>
                    <a:pt x="29" y="280"/>
                    <a:pt x="14" y="256"/>
                    <a:pt x="0" y="216"/>
                  </a:cubicBezTo>
                  <a:cubicBezTo>
                    <a:pt x="9" y="171"/>
                    <a:pt x="9" y="152"/>
                    <a:pt x="53" y="137"/>
                  </a:cubicBezTo>
                  <a:cubicBezTo>
                    <a:pt x="110" y="143"/>
                    <a:pt x="145" y="135"/>
                    <a:pt x="184" y="172"/>
                  </a:cubicBezTo>
                  <a:cubicBezTo>
                    <a:pt x="178" y="155"/>
                    <a:pt x="172" y="137"/>
                    <a:pt x="166" y="120"/>
                  </a:cubicBezTo>
                  <a:cubicBezTo>
                    <a:pt x="163" y="111"/>
                    <a:pt x="157" y="93"/>
                    <a:pt x="157" y="93"/>
                  </a:cubicBezTo>
                  <a:cubicBezTo>
                    <a:pt x="160" y="73"/>
                    <a:pt x="157" y="50"/>
                    <a:pt x="166" y="32"/>
                  </a:cubicBezTo>
                  <a:cubicBezTo>
                    <a:pt x="182" y="0"/>
                    <a:pt x="247" y="66"/>
                    <a:pt x="262" y="76"/>
                  </a:cubicBezTo>
                  <a:cubicBezTo>
                    <a:pt x="268" y="93"/>
                    <a:pt x="286" y="111"/>
                    <a:pt x="280" y="128"/>
                  </a:cubicBezTo>
                  <a:cubicBezTo>
                    <a:pt x="270" y="159"/>
                    <a:pt x="278" y="162"/>
                    <a:pt x="262" y="146"/>
                  </a:cubicBez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19"/>
            <p:cNvSpPr/>
            <p:nvPr/>
          </p:nvSpPr>
          <p:spPr>
            <a:xfrm>
              <a:off x="4917240" y="1882440"/>
              <a:ext cx="203400" cy="160200"/>
            </a:xfrm>
            <a:custGeom>
              <a:avLst/>
              <a:gdLst/>
              <a:ahLst/>
              <a:rect l="l" t="t" r="r" b="b"/>
              <a:pathLst>
                <a:path w="428" h="336">
                  <a:moveTo>
                    <a:pt x="262" y="146"/>
                  </a:moveTo>
                  <a:cubicBezTo>
                    <a:pt x="274" y="99"/>
                    <a:pt x="274" y="52"/>
                    <a:pt x="288" y="6"/>
                  </a:cubicBezTo>
                  <a:cubicBezTo>
                    <a:pt x="313" y="10"/>
                    <a:pt x="364" y="14"/>
                    <a:pt x="367" y="32"/>
                  </a:cubicBezTo>
                  <a:cubicBezTo>
                    <a:pt x="381" y="109"/>
                    <a:pt x="336" y="159"/>
                    <a:pt x="271" y="181"/>
                  </a:cubicBezTo>
                  <a:cubicBezTo>
                    <a:pt x="291" y="184"/>
                    <a:pt x="312" y="184"/>
                    <a:pt x="332" y="189"/>
                  </a:cubicBezTo>
                  <a:cubicBezTo>
                    <a:pt x="350" y="193"/>
                    <a:pt x="384" y="207"/>
                    <a:pt x="384" y="207"/>
                  </a:cubicBezTo>
                  <a:cubicBezTo>
                    <a:pt x="406" y="228"/>
                    <a:pt x="418" y="239"/>
                    <a:pt x="428" y="268"/>
                  </a:cubicBezTo>
                  <a:cubicBezTo>
                    <a:pt x="405" y="336"/>
                    <a:pt x="325" y="298"/>
                    <a:pt x="262" y="294"/>
                  </a:cubicBezTo>
                  <a:cubicBezTo>
                    <a:pt x="256" y="285"/>
                    <a:pt x="250" y="277"/>
                    <a:pt x="245" y="268"/>
                  </a:cubicBezTo>
                  <a:cubicBezTo>
                    <a:pt x="241" y="260"/>
                    <a:pt x="245" y="245"/>
                    <a:pt x="236" y="242"/>
                  </a:cubicBezTo>
                  <a:cubicBezTo>
                    <a:pt x="228" y="239"/>
                    <a:pt x="225" y="255"/>
                    <a:pt x="218" y="259"/>
                  </a:cubicBezTo>
                  <a:cubicBezTo>
                    <a:pt x="210" y="264"/>
                    <a:pt x="201" y="265"/>
                    <a:pt x="192" y="268"/>
                  </a:cubicBezTo>
                  <a:cubicBezTo>
                    <a:pt x="158" y="320"/>
                    <a:pt x="136" y="301"/>
                    <a:pt x="70" y="294"/>
                  </a:cubicBezTo>
                  <a:cubicBezTo>
                    <a:pt x="29" y="280"/>
                    <a:pt x="14" y="256"/>
                    <a:pt x="0" y="216"/>
                  </a:cubicBezTo>
                  <a:cubicBezTo>
                    <a:pt x="9" y="171"/>
                    <a:pt x="9" y="152"/>
                    <a:pt x="53" y="137"/>
                  </a:cubicBezTo>
                  <a:cubicBezTo>
                    <a:pt x="110" y="143"/>
                    <a:pt x="145" y="135"/>
                    <a:pt x="184" y="172"/>
                  </a:cubicBezTo>
                  <a:cubicBezTo>
                    <a:pt x="178" y="155"/>
                    <a:pt x="172" y="137"/>
                    <a:pt x="166" y="120"/>
                  </a:cubicBezTo>
                  <a:cubicBezTo>
                    <a:pt x="163" y="111"/>
                    <a:pt x="157" y="93"/>
                    <a:pt x="157" y="93"/>
                  </a:cubicBezTo>
                  <a:cubicBezTo>
                    <a:pt x="160" y="73"/>
                    <a:pt x="157" y="50"/>
                    <a:pt x="166" y="32"/>
                  </a:cubicBezTo>
                  <a:cubicBezTo>
                    <a:pt x="182" y="0"/>
                    <a:pt x="247" y="66"/>
                    <a:pt x="262" y="76"/>
                  </a:cubicBezTo>
                  <a:cubicBezTo>
                    <a:pt x="268" y="93"/>
                    <a:pt x="286" y="111"/>
                    <a:pt x="280" y="128"/>
                  </a:cubicBezTo>
                  <a:cubicBezTo>
                    <a:pt x="270" y="159"/>
                    <a:pt x="278" y="162"/>
                    <a:pt x="262" y="146"/>
                  </a:cubicBez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20"/>
            <p:cNvSpPr/>
            <p:nvPr/>
          </p:nvSpPr>
          <p:spPr>
            <a:xfrm>
              <a:off x="5080320" y="1961280"/>
              <a:ext cx="203400" cy="160200"/>
            </a:xfrm>
            <a:custGeom>
              <a:avLst/>
              <a:gdLst/>
              <a:ahLst/>
              <a:rect l="l" t="t" r="r" b="b"/>
              <a:pathLst>
                <a:path w="428" h="336">
                  <a:moveTo>
                    <a:pt x="262" y="146"/>
                  </a:moveTo>
                  <a:cubicBezTo>
                    <a:pt x="274" y="99"/>
                    <a:pt x="274" y="52"/>
                    <a:pt x="288" y="6"/>
                  </a:cubicBezTo>
                  <a:cubicBezTo>
                    <a:pt x="313" y="10"/>
                    <a:pt x="364" y="14"/>
                    <a:pt x="367" y="32"/>
                  </a:cubicBezTo>
                  <a:cubicBezTo>
                    <a:pt x="381" y="109"/>
                    <a:pt x="336" y="159"/>
                    <a:pt x="271" y="181"/>
                  </a:cubicBezTo>
                  <a:cubicBezTo>
                    <a:pt x="291" y="184"/>
                    <a:pt x="312" y="184"/>
                    <a:pt x="332" y="189"/>
                  </a:cubicBezTo>
                  <a:cubicBezTo>
                    <a:pt x="350" y="193"/>
                    <a:pt x="384" y="207"/>
                    <a:pt x="384" y="207"/>
                  </a:cubicBezTo>
                  <a:cubicBezTo>
                    <a:pt x="406" y="228"/>
                    <a:pt x="418" y="239"/>
                    <a:pt x="428" y="268"/>
                  </a:cubicBezTo>
                  <a:cubicBezTo>
                    <a:pt x="405" y="336"/>
                    <a:pt x="325" y="298"/>
                    <a:pt x="262" y="294"/>
                  </a:cubicBezTo>
                  <a:cubicBezTo>
                    <a:pt x="256" y="285"/>
                    <a:pt x="250" y="277"/>
                    <a:pt x="245" y="268"/>
                  </a:cubicBezTo>
                  <a:cubicBezTo>
                    <a:pt x="241" y="260"/>
                    <a:pt x="245" y="245"/>
                    <a:pt x="236" y="242"/>
                  </a:cubicBezTo>
                  <a:cubicBezTo>
                    <a:pt x="228" y="239"/>
                    <a:pt x="225" y="255"/>
                    <a:pt x="218" y="259"/>
                  </a:cubicBezTo>
                  <a:cubicBezTo>
                    <a:pt x="210" y="264"/>
                    <a:pt x="201" y="265"/>
                    <a:pt x="192" y="268"/>
                  </a:cubicBezTo>
                  <a:cubicBezTo>
                    <a:pt x="158" y="320"/>
                    <a:pt x="136" y="301"/>
                    <a:pt x="70" y="294"/>
                  </a:cubicBezTo>
                  <a:cubicBezTo>
                    <a:pt x="29" y="280"/>
                    <a:pt x="14" y="256"/>
                    <a:pt x="0" y="216"/>
                  </a:cubicBezTo>
                  <a:cubicBezTo>
                    <a:pt x="9" y="171"/>
                    <a:pt x="9" y="152"/>
                    <a:pt x="53" y="137"/>
                  </a:cubicBezTo>
                  <a:cubicBezTo>
                    <a:pt x="110" y="143"/>
                    <a:pt x="145" y="135"/>
                    <a:pt x="184" y="172"/>
                  </a:cubicBezTo>
                  <a:cubicBezTo>
                    <a:pt x="178" y="155"/>
                    <a:pt x="172" y="137"/>
                    <a:pt x="166" y="120"/>
                  </a:cubicBezTo>
                  <a:cubicBezTo>
                    <a:pt x="163" y="111"/>
                    <a:pt x="157" y="93"/>
                    <a:pt x="157" y="93"/>
                  </a:cubicBezTo>
                  <a:cubicBezTo>
                    <a:pt x="160" y="73"/>
                    <a:pt x="157" y="50"/>
                    <a:pt x="166" y="32"/>
                  </a:cubicBezTo>
                  <a:cubicBezTo>
                    <a:pt x="182" y="0"/>
                    <a:pt x="247" y="66"/>
                    <a:pt x="262" y="76"/>
                  </a:cubicBezTo>
                  <a:cubicBezTo>
                    <a:pt x="268" y="93"/>
                    <a:pt x="286" y="111"/>
                    <a:pt x="280" y="128"/>
                  </a:cubicBezTo>
                  <a:cubicBezTo>
                    <a:pt x="270" y="159"/>
                    <a:pt x="278" y="162"/>
                    <a:pt x="262" y="146"/>
                  </a:cubicBez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21"/>
            <p:cNvSpPr/>
            <p:nvPr/>
          </p:nvSpPr>
          <p:spPr>
            <a:xfrm>
              <a:off x="5283720" y="1882440"/>
              <a:ext cx="162720" cy="127800"/>
            </a:xfrm>
            <a:custGeom>
              <a:avLst/>
              <a:gdLst/>
              <a:ahLst/>
              <a:rect l="l" t="t" r="r" b="b"/>
              <a:pathLst>
                <a:path w="428" h="336">
                  <a:moveTo>
                    <a:pt x="262" y="146"/>
                  </a:moveTo>
                  <a:cubicBezTo>
                    <a:pt x="274" y="99"/>
                    <a:pt x="274" y="52"/>
                    <a:pt x="288" y="6"/>
                  </a:cubicBezTo>
                  <a:cubicBezTo>
                    <a:pt x="313" y="10"/>
                    <a:pt x="364" y="14"/>
                    <a:pt x="367" y="32"/>
                  </a:cubicBezTo>
                  <a:cubicBezTo>
                    <a:pt x="381" y="109"/>
                    <a:pt x="336" y="159"/>
                    <a:pt x="271" y="181"/>
                  </a:cubicBezTo>
                  <a:cubicBezTo>
                    <a:pt x="291" y="184"/>
                    <a:pt x="312" y="184"/>
                    <a:pt x="332" y="189"/>
                  </a:cubicBezTo>
                  <a:cubicBezTo>
                    <a:pt x="350" y="193"/>
                    <a:pt x="384" y="207"/>
                    <a:pt x="384" y="207"/>
                  </a:cubicBezTo>
                  <a:cubicBezTo>
                    <a:pt x="406" y="228"/>
                    <a:pt x="418" y="239"/>
                    <a:pt x="428" y="268"/>
                  </a:cubicBezTo>
                  <a:cubicBezTo>
                    <a:pt x="405" y="336"/>
                    <a:pt x="325" y="298"/>
                    <a:pt x="262" y="294"/>
                  </a:cubicBezTo>
                  <a:cubicBezTo>
                    <a:pt x="256" y="285"/>
                    <a:pt x="250" y="277"/>
                    <a:pt x="245" y="268"/>
                  </a:cubicBezTo>
                  <a:cubicBezTo>
                    <a:pt x="241" y="260"/>
                    <a:pt x="245" y="245"/>
                    <a:pt x="236" y="242"/>
                  </a:cubicBezTo>
                  <a:cubicBezTo>
                    <a:pt x="228" y="239"/>
                    <a:pt x="225" y="255"/>
                    <a:pt x="218" y="259"/>
                  </a:cubicBezTo>
                  <a:cubicBezTo>
                    <a:pt x="210" y="264"/>
                    <a:pt x="201" y="265"/>
                    <a:pt x="192" y="268"/>
                  </a:cubicBezTo>
                  <a:cubicBezTo>
                    <a:pt x="158" y="320"/>
                    <a:pt x="136" y="301"/>
                    <a:pt x="70" y="294"/>
                  </a:cubicBezTo>
                  <a:cubicBezTo>
                    <a:pt x="29" y="280"/>
                    <a:pt x="14" y="256"/>
                    <a:pt x="0" y="216"/>
                  </a:cubicBezTo>
                  <a:cubicBezTo>
                    <a:pt x="9" y="171"/>
                    <a:pt x="9" y="152"/>
                    <a:pt x="53" y="137"/>
                  </a:cubicBezTo>
                  <a:cubicBezTo>
                    <a:pt x="110" y="143"/>
                    <a:pt x="145" y="135"/>
                    <a:pt x="184" y="172"/>
                  </a:cubicBezTo>
                  <a:cubicBezTo>
                    <a:pt x="178" y="155"/>
                    <a:pt x="172" y="137"/>
                    <a:pt x="166" y="120"/>
                  </a:cubicBezTo>
                  <a:cubicBezTo>
                    <a:pt x="163" y="111"/>
                    <a:pt x="157" y="93"/>
                    <a:pt x="157" y="93"/>
                  </a:cubicBezTo>
                  <a:cubicBezTo>
                    <a:pt x="160" y="73"/>
                    <a:pt x="157" y="50"/>
                    <a:pt x="166" y="32"/>
                  </a:cubicBezTo>
                  <a:cubicBezTo>
                    <a:pt x="182" y="0"/>
                    <a:pt x="247" y="66"/>
                    <a:pt x="262" y="76"/>
                  </a:cubicBezTo>
                  <a:cubicBezTo>
                    <a:pt x="268" y="93"/>
                    <a:pt x="286" y="111"/>
                    <a:pt x="280" y="128"/>
                  </a:cubicBezTo>
                  <a:cubicBezTo>
                    <a:pt x="270" y="159"/>
                    <a:pt x="278" y="162"/>
                    <a:pt x="262" y="146"/>
                  </a:cubicBez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Group 422"/>
            <p:cNvGrpSpPr/>
            <p:nvPr/>
          </p:nvGrpSpPr>
          <p:grpSpPr>
            <a:xfrm>
              <a:off x="4943520" y="1784880"/>
              <a:ext cx="421200" cy="1110600"/>
              <a:chOff x="4943520" y="1784880"/>
              <a:chExt cx="421200" cy="1110600"/>
            </a:xfrm>
          </p:grpSpPr>
          <p:sp>
            <p:nvSpPr>
              <p:cNvPr id="89" name="Freeform 423"/>
              <p:cNvSpPr/>
              <p:nvPr/>
            </p:nvSpPr>
            <p:spPr>
              <a:xfrm>
                <a:off x="4943520" y="1969560"/>
                <a:ext cx="242280" cy="836640"/>
              </a:xfrm>
              <a:custGeom>
                <a:avLst/>
                <a:gdLst/>
                <a:ahLst/>
                <a:rect l="l" t="t" r="r" b="b"/>
                <a:pathLst>
                  <a:path w="286" h="986">
                    <a:moveTo>
                      <a:pt x="0" y="0"/>
                    </a:moveTo>
                    <a:cubicBezTo>
                      <a:pt x="41" y="14"/>
                      <a:pt x="51" y="54"/>
                      <a:pt x="87" y="79"/>
                    </a:cubicBezTo>
                    <a:cubicBezTo>
                      <a:pt x="93" y="91"/>
                      <a:pt x="97" y="103"/>
                      <a:pt x="104" y="114"/>
                    </a:cubicBezTo>
                    <a:cubicBezTo>
                      <a:pt x="109" y="121"/>
                      <a:pt x="118" y="124"/>
                      <a:pt x="122" y="131"/>
                    </a:cubicBezTo>
                    <a:cubicBezTo>
                      <a:pt x="131" y="147"/>
                      <a:pt x="131" y="167"/>
                      <a:pt x="139" y="183"/>
                    </a:cubicBezTo>
                    <a:cubicBezTo>
                      <a:pt x="169" y="242"/>
                      <a:pt x="146" y="176"/>
                      <a:pt x="174" y="244"/>
                    </a:cubicBezTo>
                    <a:cubicBezTo>
                      <a:pt x="206" y="322"/>
                      <a:pt x="176" y="273"/>
                      <a:pt x="209" y="323"/>
                    </a:cubicBezTo>
                    <a:cubicBezTo>
                      <a:pt x="234" y="422"/>
                      <a:pt x="262" y="519"/>
                      <a:pt x="279" y="620"/>
                    </a:cubicBezTo>
                    <a:cubicBezTo>
                      <a:pt x="275" y="718"/>
                      <a:pt x="286" y="853"/>
                      <a:pt x="226" y="943"/>
                    </a:cubicBezTo>
                    <a:cubicBezTo>
                      <a:pt x="217" y="981"/>
                      <a:pt x="218" y="966"/>
                      <a:pt x="218" y="986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424"/>
              <p:cNvSpPr/>
              <p:nvPr/>
            </p:nvSpPr>
            <p:spPr>
              <a:xfrm>
                <a:off x="5090760" y="1955160"/>
                <a:ext cx="125280" cy="873000"/>
              </a:xfrm>
              <a:custGeom>
                <a:avLst/>
                <a:gdLst/>
                <a:ahLst/>
                <a:rect l="l" t="t" r="r" b="b"/>
                <a:pathLst>
                  <a:path w="148" h="1029">
                    <a:moveTo>
                      <a:pt x="0" y="0"/>
                    </a:moveTo>
                    <a:cubicBezTo>
                      <a:pt x="15" y="44"/>
                      <a:pt x="6" y="23"/>
                      <a:pt x="44" y="78"/>
                    </a:cubicBezTo>
                    <a:cubicBezTo>
                      <a:pt x="52" y="90"/>
                      <a:pt x="70" y="113"/>
                      <a:pt x="70" y="113"/>
                    </a:cubicBezTo>
                    <a:cubicBezTo>
                      <a:pt x="80" y="142"/>
                      <a:pt x="83" y="161"/>
                      <a:pt x="105" y="183"/>
                    </a:cubicBezTo>
                    <a:cubicBezTo>
                      <a:pt x="122" y="250"/>
                      <a:pt x="139" y="315"/>
                      <a:pt x="148" y="384"/>
                    </a:cubicBezTo>
                    <a:cubicBezTo>
                      <a:pt x="145" y="451"/>
                      <a:pt x="145" y="517"/>
                      <a:pt x="140" y="584"/>
                    </a:cubicBezTo>
                    <a:cubicBezTo>
                      <a:pt x="138" y="612"/>
                      <a:pt x="125" y="612"/>
                      <a:pt x="114" y="637"/>
                    </a:cubicBezTo>
                    <a:cubicBezTo>
                      <a:pt x="106" y="654"/>
                      <a:pt x="96" y="689"/>
                      <a:pt x="96" y="689"/>
                    </a:cubicBezTo>
                    <a:cubicBezTo>
                      <a:pt x="99" y="747"/>
                      <a:pt x="105" y="806"/>
                      <a:pt x="105" y="864"/>
                    </a:cubicBezTo>
                    <a:cubicBezTo>
                      <a:pt x="105" y="919"/>
                      <a:pt x="87" y="973"/>
                      <a:pt x="87" y="1029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425"/>
              <p:cNvSpPr/>
              <p:nvPr/>
            </p:nvSpPr>
            <p:spPr>
              <a:xfrm>
                <a:off x="5142600" y="1991880"/>
                <a:ext cx="110880" cy="814320"/>
              </a:xfrm>
              <a:custGeom>
                <a:avLst/>
                <a:gdLst/>
                <a:ahLst/>
                <a:rect l="l" t="t" r="r" b="b"/>
                <a:pathLst>
                  <a:path w="131" h="960">
                    <a:moveTo>
                      <a:pt x="131" y="0"/>
                    </a:moveTo>
                    <a:cubicBezTo>
                      <a:pt x="124" y="62"/>
                      <a:pt x="122" y="107"/>
                      <a:pt x="87" y="157"/>
                    </a:cubicBezTo>
                    <a:cubicBezTo>
                      <a:pt x="59" y="253"/>
                      <a:pt x="26" y="343"/>
                      <a:pt x="18" y="445"/>
                    </a:cubicBezTo>
                    <a:cubicBezTo>
                      <a:pt x="11" y="538"/>
                      <a:pt x="0" y="725"/>
                      <a:pt x="0" y="725"/>
                    </a:cubicBezTo>
                    <a:cubicBezTo>
                      <a:pt x="3" y="757"/>
                      <a:pt x="4" y="789"/>
                      <a:pt x="9" y="821"/>
                    </a:cubicBezTo>
                    <a:cubicBezTo>
                      <a:pt x="10" y="830"/>
                      <a:pt x="18" y="838"/>
                      <a:pt x="18" y="847"/>
                    </a:cubicBezTo>
                    <a:cubicBezTo>
                      <a:pt x="18" y="890"/>
                      <a:pt x="0" y="920"/>
                      <a:pt x="0" y="960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426"/>
              <p:cNvSpPr/>
              <p:nvPr/>
            </p:nvSpPr>
            <p:spPr>
              <a:xfrm>
                <a:off x="5119920" y="1784880"/>
                <a:ext cx="95760" cy="1088640"/>
              </a:xfrm>
              <a:custGeom>
                <a:avLst/>
                <a:gdLst/>
                <a:ahLst/>
                <a:rect l="l" t="t" r="r" b="b"/>
                <a:pathLst>
                  <a:path w="113" h="1283">
                    <a:moveTo>
                      <a:pt x="88" y="0"/>
                    </a:moveTo>
                    <a:cubicBezTo>
                      <a:pt x="84" y="128"/>
                      <a:pt x="113" y="244"/>
                      <a:pt x="45" y="349"/>
                    </a:cubicBezTo>
                    <a:cubicBezTo>
                      <a:pt x="24" y="429"/>
                      <a:pt x="35" y="513"/>
                      <a:pt x="10" y="593"/>
                    </a:cubicBezTo>
                    <a:cubicBezTo>
                      <a:pt x="15" y="729"/>
                      <a:pt x="0" y="890"/>
                      <a:pt x="45" y="1021"/>
                    </a:cubicBezTo>
                    <a:cubicBezTo>
                      <a:pt x="42" y="1047"/>
                      <a:pt x="40" y="1074"/>
                      <a:pt x="36" y="1100"/>
                    </a:cubicBezTo>
                    <a:cubicBezTo>
                      <a:pt x="34" y="1109"/>
                      <a:pt x="27" y="1117"/>
                      <a:pt x="27" y="1126"/>
                    </a:cubicBezTo>
                    <a:cubicBezTo>
                      <a:pt x="27" y="1184"/>
                      <a:pt x="51" y="1242"/>
                      <a:pt x="88" y="1283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427"/>
              <p:cNvSpPr/>
              <p:nvPr/>
            </p:nvSpPr>
            <p:spPr>
              <a:xfrm>
                <a:off x="5108760" y="1910520"/>
                <a:ext cx="255960" cy="984960"/>
              </a:xfrm>
              <a:custGeom>
                <a:avLst/>
                <a:gdLst/>
                <a:ahLst/>
                <a:rect l="l" t="t" r="r" b="b"/>
                <a:pathLst>
                  <a:path w="302" h="1161">
                    <a:moveTo>
                      <a:pt x="288" y="0"/>
                    </a:moveTo>
                    <a:cubicBezTo>
                      <a:pt x="301" y="43"/>
                      <a:pt x="302" y="32"/>
                      <a:pt x="288" y="96"/>
                    </a:cubicBezTo>
                    <a:cubicBezTo>
                      <a:pt x="276" y="154"/>
                      <a:pt x="233" y="285"/>
                      <a:pt x="200" y="332"/>
                    </a:cubicBezTo>
                    <a:cubicBezTo>
                      <a:pt x="179" y="401"/>
                      <a:pt x="156" y="470"/>
                      <a:pt x="139" y="541"/>
                    </a:cubicBezTo>
                    <a:cubicBezTo>
                      <a:pt x="129" y="580"/>
                      <a:pt x="133" y="600"/>
                      <a:pt x="104" y="629"/>
                    </a:cubicBezTo>
                    <a:cubicBezTo>
                      <a:pt x="95" y="658"/>
                      <a:pt x="86" y="686"/>
                      <a:pt x="78" y="716"/>
                    </a:cubicBezTo>
                    <a:cubicBezTo>
                      <a:pt x="72" y="777"/>
                      <a:pt x="66" y="832"/>
                      <a:pt x="52" y="890"/>
                    </a:cubicBezTo>
                    <a:cubicBezTo>
                      <a:pt x="48" y="908"/>
                      <a:pt x="41" y="925"/>
                      <a:pt x="35" y="943"/>
                    </a:cubicBezTo>
                    <a:cubicBezTo>
                      <a:pt x="29" y="960"/>
                      <a:pt x="17" y="995"/>
                      <a:pt x="17" y="995"/>
                    </a:cubicBezTo>
                    <a:cubicBezTo>
                      <a:pt x="30" y="1046"/>
                      <a:pt x="29" y="1025"/>
                      <a:pt x="17" y="1091"/>
                    </a:cubicBezTo>
                    <a:cubicBezTo>
                      <a:pt x="15" y="1103"/>
                      <a:pt x="11" y="1114"/>
                      <a:pt x="8" y="1126"/>
                    </a:cubicBezTo>
                    <a:cubicBezTo>
                      <a:pt x="5" y="1138"/>
                      <a:pt x="0" y="1161"/>
                      <a:pt x="0" y="1161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428"/>
            <p:cNvGrpSpPr/>
            <p:nvPr/>
          </p:nvGrpSpPr>
          <p:grpSpPr>
            <a:xfrm>
              <a:off x="4876920" y="1836720"/>
              <a:ext cx="606240" cy="1049400"/>
              <a:chOff x="4876920" y="1836720"/>
              <a:chExt cx="606240" cy="1049400"/>
            </a:xfrm>
          </p:grpSpPr>
          <p:sp>
            <p:nvSpPr>
              <p:cNvPr id="95" name="Freeform 429"/>
              <p:cNvSpPr/>
              <p:nvPr/>
            </p:nvSpPr>
            <p:spPr>
              <a:xfrm>
                <a:off x="4876920" y="1836720"/>
                <a:ext cx="606240" cy="1049400"/>
              </a:xfrm>
              <a:custGeom>
                <a:avLst/>
                <a:gdLst/>
                <a:ahLst/>
                <a:rect l="l" t="t" r="r" b="b"/>
                <a:pathLst>
                  <a:path w="715" h="1237">
                    <a:moveTo>
                      <a:pt x="139" y="1129"/>
                    </a:moveTo>
                    <a:cubicBezTo>
                      <a:pt x="167" y="1101"/>
                      <a:pt x="193" y="1064"/>
                      <a:pt x="226" y="1042"/>
                    </a:cubicBezTo>
                    <a:cubicBezTo>
                      <a:pt x="236" y="1026"/>
                      <a:pt x="251" y="1014"/>
                      <a:pt x="261" y="998"/>
                    </a:cubicBezTo>
                    <a:cubicBezTo>
                      <a:pt x="293" y="944"/>
                      <a:pt x="243" y="997"/>
                      <a:pt x="287" y="955"/>
                    </a:cubicBezTo>
                    <a:cubicBezTo>
                      <a:pt x="301" y="900"/>
                      <a:pt x="320" y="833"/>
                      <a:pt x="287" y="780"/>
                    </a:cubicBezTo>
                    <a:cubicBezTo>
                      <a:pt x="241" y="706"/>
                      <a:pt x="300" y="834"/>
                      <a:pt x="252" y="736"/>
                    </a:cubicBezTo>
                    <a:cubicBezTo>
                      <a:pt x="234" y="698"/>
                      <a:pt x="240" y="662"/>
                      <a:pt x="208" y="632"/>
                    </a:cubicBezTo>
                    <a:cubicBezTo>
                      <a:pt x="194" y="585"/>
                      <a:pt x="162" y="547"/>
                      <a:pt x="147" y="501"/>
                    </a:cubicBezTo>
                    <a:cubicBezTo>
                      <a:pt x="141" y="483"/>
                      <a:pt x="136" y="466"/>
                      <a:pt x="130" y="448"/>
                    </a:cubicBezTo>
                    <a:cubicBezTo>
                      <a:pt x="127" y="439"/>
                      <a:pt x="121" y="422"/>
                      <a:pt x="121" y="422"/>
                    </a:cubicBezTo>
                    <a:cubicBezTo>
                      <a:pt x="115" y="337"/>
                      <a:pt x="133" y="252"/>
                      <a:pt x="43" y="221"/>
                    </a:cubicBezTo>
                    <a:cubicBezTo>
                      <a:pt x="0" y="97"/>
                      <a:pt x="113" y="82"/>
                      <a:pt x="200" y="56"/>
                    </a:cubicBezTo>
                    <a:cubicBezTo>
                      <a:pt x="281" y="0"/>
                      <a:pt x="397" y="8"/>
                      <a:pt x="488" y="3"/>
                    </a:cubicBezTo>
                    <a:cubicBezTo>
                      <a:pt x="517" y="6"/>
                      <a:pt x="547" y="5"/>
                      <a:pt x="575" y="12"/>
                    </a:cubicBezTo>
                    <a:cubicBezTo>
                      <a:pt x="612" y="20"/>
                      <a:pt x="655" y="77"/>
                      <a:pt x="680" y="108"/>
                    </a:cubicBezTo>
                    <a:cubicBezTo>
                      <a:pt x="698" y="130"/>
                      <a:pt x="715" y="187"/>
                      <a:pt x="715" y="187"/>
                    </a:cubicBezTo>
                    <a:cubicBezTo>
                      <a:pt x="706" y="240"/>
                      <a:pt x="710" y="249"/>
                      <a:pt x="662" y="265"/>
                    </a:cubicBezTo>
                    <a:cubicBezTo>
                      <a:pt x="641" y="287"/>
                      <a:pt x="630" y="299"/>
                      <a:pt x="601" y="309"/>
                    </a:cubicBezTo>
                    <a:cubicBezTo>
                      <a:pt x="586" y="323"/>
                      <a:pt x="572" y="338"/>
                      <a:pt x="557" y="352"/>
                    </a:cubicBezTo>
                    <a:cubicBezTo>
                      <a:pt x="531" y="378"/>
                      <a:pt x="530" y="416"/>
                      <a:pt x="496" y="448"/>
                    </a:cubicBezTo>
                    <a:cubicBezTo>
                      <a:pt x="481" y="497"/>
                      <a:pt x="471" y="535"/>
                      <a:pt x="435" y="571"/>
                    </a:cubicBezTo>
                    <a:cubicBezTo>
                      <a:pt x="426" y="600"/>
                      <a:pt x="422" y="619"/>
                      <a:pt x="400" y="640"/>
                    </a:cubicBezTo>
                    <a:cubicBezTo>
                      <a:pt x="390" y="673"/>
                      <a:pt x="384" y="699"/>
                      <a:pt x="365" y="728"/>
                    </a:cubicBezTo>
                    <a:cubicBezTo>
                      <a:pt x="345" y="793"/>
                      <a:pt x="372" y="713"/>
                      <a:pt x="339" y="780"/>
                    </a:cubicBezTo>
                    <a:cubicBezTo>
                      <a:pt x="326" y="806"/>
                      <a:pt x="323" y="839"/>
                      <a:pt x="313" y="867"/>
                    </a:cubicBezTo>
                    <a:cubicBezTo>
                      <a:pt x="314" y="881"/>
                      <a:pt x="320" y="977"/>
                      <a:pt x="331" y="1007"/>
                    </a:cubicBezTo>
                    <a:cubicBezTo>
                      <a:pt x="335" y="1017"/>
                      <a:pt x="343" y="1024"/>
                      <a:pt x="348" y="1033"/>
                    </a:cubicBezTo>
                    <a:cubicBezTo>
                      <a:pt x="361" y="1060"/>
                      <a:pt x="364" y="1092"/>
                      <a:pt x="374" y="1120"/>
                    </a:cubicBezTo>
                    <a:cubicBezTo>
                      <a:pt x="344" y="1237"/>
                      <a:pt x="199" y="1120"/>
                      <a:pt x="121" y="1120"/>
                    </a:cubicBezTo>
                    <a:cubicBezTo>
                      <a:pt x="114" y="1120"/>
                      <a:pt x="133" y="1126"/>
                      <a:pt x="139" y="11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aeaea">
                      <a:alpha val="30196"/>
                    </a:srgbClr>
                  </a:gs>
                  <a:gs pos="100000">
                    <a:srgbClr val="d8d8d8">
                      <a:alpha val="25098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430"/>
              <p:cNvSpPr/>
              <p:nvPr/>
            </p:nvSpPr>
            <p:spPr>
              <a:xfrm>
                <a:off x="4989600" y="2496600"/>
                <a:ext cx="334800" cy="357840"/>
              </a:xfrm>
              <a:custGeom>
                <a:avLst/>
                <a:gdLst/>
                <a:ahLst/>
                <a:rect l="l" t="t" r="r" b="b"/>
                <a:pathLst>
                  <a:path w="705" h="753">
                    <a:moveTo>
                      <a:pt x="330" y="95"/>
                    </a:moveTo>
                    <a:cubicBezTo>
                      <a:pt x="396" y="72"/>
                      <a:pt x="364" y="73"/>
                      <a:pt x="426" y="86"/>
                    </a:cubicBezTo>
                    <a:cubicBezTo>
                      <a:pt x="436" y="115"/>
                      <a:pt x="439" y="134"/>
                      <a:pt x="461" y="156"/>
                    </a:cubicBezTo>
                    <a:cubicBezTo>
                      <a:pt x="472" y="188"/>
                      <a:pt x="492" y="212"/>
                      <a:pt x="505" y="243"/>
                    </a:cubicBezTo>
                    <a:cubicBezTo>
                      <a:pt x="520" y="279"/>
                      <a:pt x="527" y="320"/>
                      <a:pt x="539" y="357"/>
                    </a:cubicBezTo>
                    <a:cubicBezTo>
                      <a:pt x="562" y="426"/>
                      <a:pt x="592" y="495"/>
                      <a:pt x="609" y="566"/>
                    </a:cubicBezTo>
                    <a:cubicBezTo>
                      <a:pt x="617" y="598"/>
                      <a:pt x="622" y="631"/>
                      <a:pt x="635" y="662"/>
                    </a:cubicBezTo>
                    <a:cubicBezTo>
                      <a:pt x="674" y="753"/>
                      <a:pt x="637" y="651"/>
                      <a:pt x="662" y="723"/>
                    </a:cubicBezTo>
                    <a:cubicBezTo>
                      <a:pt x="705" y="658"/>
                      <a:pt x="690" y="548"/>
                      <a:pt x="697" y="470"/>
                    </a:cubicBezTo>
                    <a:cubicBezTo>
                      <a:pt x="692" y="429"/>
                      <a:pt x="690" y="375"/>
                      <a:pt x="662" y="339"/>
                    </a:cubicBezTo>
                    <a:cubicBezTo>
                      <a:pt x="633" y="301"/>
                      <a:pt x="587" y="270"/>
                      <a:pt x="548" y="243"/>
                    </a:cubicBezTo>
                    <a:cubicBezTo>
                      <a:pt x="539" y="198"/>
                      <a:pt x="530" y="160"/>
                      <a:pt x="505" y="121"/>
                    </a:cubicBezTo>
                    <a:cubicBezTo>
                      <a:pt x="526" y="98"/>
                      <a:pt x="545" y="87"/>
                      <a:pt x="574" y="77"/>
                    </a:cubicBezTo>
                    <a:cubicBezTo>
                      <a:pt x="609" y="44"/>
                      <a:pt x="600" y="22"/>
                      <a:pt x="557" y="7"/>
                    </a:cubicBezTo>
                    <a:cubicBezTo>
                      <a:pt x="522" y="11"/>
                      <a:pt x="477" y="0"/>
                      <a:pt x="452" y="25"/>
                    </a:cubicBezTo>
                    <a:cubicBezTo>
                      <a:pt x="446" y="31"/>
                      <a:pt x="450" y="46"/>
                      <a:pt x="443" y="51"/>
                    </a:cubicBezTo>
                    <a:cubicBezTo>
                      <a:pt x="428" y="62"/>
                      <a:pt x="391" y="69"/>
                      <a:pt x="391" y="69"/>
                    </a:cubicBezTo>
                    <a:cubicBezTo>
                      <a:pt x="335" y="61"/>
                      <a:pt x="281" y="49"/>
                      <a:pt x="225" y="42"/>
                    </a:cubicBezTo>
                    <a:cubicBezTo>
                      <a:pt x="213" y="45"/>
                      <a:pt x="193" y="39"/>
                      <a:pt x="190" y="51"/>
                    </a:cubicBezTo>
                    <a:cubicBezTo>
                      <a:pt x="177" y="96"/>
                      <a:pt x="188" y="145"/>
                      <a:pt x="182" y="191"/>
                    </a:cubicBezTo>
                    <a:cubicBezTo>
                      <a:pt x="176" y="233"/>
                      <a:pt x="118" y="340"/>
                      <a:pt x="94" y="374"/>
                    </a:cubicBezTo>
                    <a:cubicBezTo>
                      <a:pt x="75" y="457"/>
                      <a:pt x="34" y="522"/>
                      <a:pt x="7" y="601"/>
                    </a:cubicBezTo>
                    <a:cubicBezTo>
                      <a:pt x="0" y="620"/>
                      <a:pt x="48" y="595"/>
                      <a:pt x="68" y="592"/>
                    </a:cubicBezTo>
                    <a:cubicBezTo>
                      <a:pt x="78" y="563"/>
                      <a:pt x="90" y="544"/>
                      <a:pt x="112" y="522"/>
                    </a:cubicBezTo>
                    <a:cubicBezTo>
                      <a:pt x="135" y="456"/>
                      <a:pt x="104" y="537"/>
                      <a:pt x="138" y="470"/>
                    </a:cubicBezTo>
                    <a:cubicBezTo>
                      <a:pt x="153" y="440"/>
                      <a:pt x="148" y="416"/>
                      <a:pt x="173" y="391"/>
                    </a:cubicBezTo>
                    <a:cubicBezTo>
                      <a:pt x="196" y="325"/>
                      <a:pt x="163" y="404"/>
                      <a:pt x="208" y="348"/>
                    </a:cubicBezTo>
                    <a:cubicBezTo>
                      <a:pt x="214" y="341"/>
                      <a:pt x="212" y="330"/>
                      <a:pt x="217" y="322"/>
                    </a:cubicBezTo>
                    <a:cubicBezTo>
                      <a:pt x="221" y="315"/>
                      <a:pt x="228" y="310"/>
                      <a:pt x="234" y="304"/>
                    </a:cubicBezTo>
                    <a:cubicBezTo>
                      <a:pt x="250" y="259"/>
                      <a:pt x="247" y="220"/>
                      <a:pt x="260" y="173"/>
                    </a:cubicBezTo>
                    <a:cubicBezTo>
                      <a:pt x="267" y="148"/>
                      <a:pt x="330" y="138"/>
                      <a:pt x="330" y="138"/>
                    </a:cubicBezTo>
                    <a:cubicBezTo>
                      <a:pt x="338" y="126"/>
                      <a:pt x="379" y="86"/>
                      <a:pt x="382" y="77"/>
                    </a:cubicBezTo>
                    <a:cubicBezTo>
                      <a:pt x="383" y="73"/>
                      <a:pt x="377" y="72"/>
                      <a:pt x="374" y="69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" name="Group 431"/>
          <p:cNvGrpSpPr/>
          <p:nvPr/>
        </p:nvGrpSpPr>
        <p:grpSpPr>
          <a:xfrm>
            <a:off x="4190760" y="2215080"/>
            <a:ext cx="629280" cy="2036880"/>
            <a:chOff x="4190760" y="2215080"/>
            <a:chExt cx="629280" cy="2036880"/>
          </a:xfrm>
        </p:grpSpPr>
        <p:grpSp>
          <p:nvGrpSpPr>
            <p:cNvPr id="98" name="Group 432"/>
            <p:cNvGrpSpPr/>
            <p:nvPr/>
          </p:nvGrpSpPr>
          <p:grpSpPr>
            <a:xfrm>
              <a:off x="4190760" y="3206160"/>
              <a:ext cx="628920" cy="1045800"/>
              <a:chOff x="4190760" y="3206160"/>
              <a:chExt cx="628920" cy="1045800"/>
            </a:xfrm>
          </p:grpSpPr>
          <p:grpSp>
            <p:nvGrpSpPr>
              <p:cNvPr id="99" name="Group 433"/>
              <p:cNvGrpSpPr/>
              <p:nvPr/>
            </p:nvGrpSpPr>
            <p:grpSpPr>
              <a:xfrm>
                <a:off x="4190760" y="3225960"/>
                <a:ext cx="628920" cy="1026000"/>
                <a:chOff x="4190760" y="3225960"/>
                <a:chExt cx="628920" cy="1026000"/>
              </a:xfrm>
            </p:grpSpPr>
            <p:grpSp>
              <p:nvGrpSpPr>
                <p:cNvPr id="100" name="Group 434"/>
                <p:cNvGrpSpPr/>
                <p:nvPr/>
              </p:nvGrpSpPr>
              <p:grpSpPr>
                <a:xfrm>
                  <a:off x="4379400" y="3736440"/>
                  <a:ext cx="440280" cy="515520"/>
                  <a:chOff x="4379400" y="3736440"/>
                  <a:chExt cx="440280" cy="515520"/>
                </a:xfrm>
              </p:grpSpPr>
              <p:sp>
                <p:nvSpPr>
                  <p:cNvPr id="101" name="AutoShape 435"/>
                  <p:cNvSpPr/>
                  <p:nvPr/>
                </p:nvSpPr>
                <p:spPr>
                  <a:xfrm rot="10800000">
                    <a:off x="4385880" y="3736440"/>
                    <a:ext cx="2444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2" name="Group 436"/>
                  <p:cNvGrpSpPr/>
                  <p:nvPr/>
                </p:nvGrpSpPr>
                <p:grpSpPr>
                  <a:xfrm>
                    <a:off x="4379400" y="4031640"/>
                    <a:ext cx="440280" cy="220320"/>
                    <a:chOff x="4379400" y="4031640"/>
                    <a:chExt cx="440280" cy="220320"/>
                  </a:xfrm>
                </p:grpSpPr>
                <p:grpSp>
                  <p:nvGrpSpPr>
                    <p:cNvPr id="103" name="Group 437"/>
                    <p:cNvGrpSpPr/>
                    <p:nvPr/>
                  </p:nvGrpSpPr>
                  <p:grpSpPr>
                    <a:xfrm>
                      <a:off x="4379400" y="4126680"/>
                      <a:ext cx="440280" cy="125280"/>
                      <a:chOff x="4379400" y="4126680"/>
                      <a:chExt cx="440280" cy="125280"/>
                    </a:xfrm>
                  </p:grpSpPr>
                  <p:grpSp>
                    <p:nvGrpSpPr>
                      <p:cNvPr id="104" name="Group 438"/>
                      <p:cNvGrpSpPr/>
                      <p:nvPr/>
                    </p:nvGrpSpPr>
                    <p:grpSpPr>
                      <a:xfrm>
                        <a:off x="4379400" y="4126680"/>
                        <a:ext cx="433080" cy="125280"/>
                        <a:chOff x="4379400" y="4126680"/>
                        <a:chExt cx="433080" cy="125280"/>
                      </a:xfrm>
                    </p:grpSpPr>
                    <p:sp>
                      <p:nvSpPr>
                        <p:cNvPr id="105" name="Rectangle 439"/>
                        <p:cNvSpPr/>
                        <p:nvPr/>
                      </p:nvSpPr>
                      <p:spPr>
                        <a:xfrm>
                          <a:off x="4379400" y="4127760"/>
                          <a:ext cx="288720" cy="12420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" name="Freeform 440"/>
                        <p:cNvSpPr/>
                        <p:nvPr/>
                      </p:nvSpPr>
                      <p:spPr>
                        <a:xfrm>
                          <a:off x="4668120" y="412668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7" name=""/>
                      <p:cNvGrpSpPr/>
                      <p:nvPr/>
                    </p:nvGrpSpPr>
                    <p:grpSpPr>
                      <a:xfrm>
                        <a:off x="4379400" y="4224600"/>
                        <a:ext cx="440280" cy="360"/>
                        <a:chOff x="4379400" y="4224600"/>
                        <a:chExt cx="440280" cy="360"/>
                      </a:xfrm>
                    </p:grpSpPr>
                    <p:sp>
                      <p:nvSpPr>
                        <p:cNvPr id="108" name="Line 441"/>
                        <p:cNvSpPr/>
                        <p:nvPr/>
                      </p:nvSpPr>
                      <p:spPr>
                        <a:xfrm>
                          <a:off x="4379400" y="4224600"/>
                          <a:ext cx="440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" name=""/>
                        <p:cNvSpPr txBox="1"/>
                        <p:nvPr/>
                      </p:nvSpPr>
                      <p:spPr>
                        <a:xfrm>
                          <a:off x="4379400" y="422460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10" name="Oval 442"/>
                    <p:cNvSpPr/>
                    <p:nvPr/>
                  </p:nvSpPr>
                  <p:spPr>
                    <a:xfrm>
                      <a:off x="4456800" y="4092120"/>
                      <a:ext cx="87840" cy="97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" name="Freeform 443"/>
                    <p:cNvSpPr/>
                    <p:nvPr/>
                  </p:nvSpPr>
                  <p:spPr>
                    <a:xfrm rot="11352000">
                      <a:off x="4592160" y="403992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10248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2" name="Group 444"/>
                <p:cNvGrpSpPr/>
                <p:nvPr/>
              </p:nvGrpSpPr>
              <p:grpSpPr>
                <a:xfrm>
                  <a:off x="4190760" y="3225960"/>
                  <a:ext cx="440280" cy="515520"/>
                  <a:chOff x="4190760" y="3225960"/>
                  <a:chExt cx="440280" cy="515520"/>
                </a:xfrm>
              </p:grpSpPr>
              <p:sp>
                <p:nvSpPr>
                  <p:cNvPr id="113" name="AutoShape 445"/>
                  <p:cNvSpPr/>
                  <p:nvPr/>
                </p:nvSpPr>
                <p:spPr>
                  <a:xfrm>
                    <a:off x="4380120" y="3350160"/>
                    <a:ext cx="24444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4" name="Group 446"/>
                  <p:cNvGrpSpPr/>
                  <p:nvPr/>
                </p:nvGrpSpPr>
                <p:grpSpPr>
                  <a:xfrm>
                    <a:off x="4190760" y="3225960"/>
                    <a:ext cx="440280" cy="220320"/>
                    <a:chOff x="4190760" y="3225960"/>
                    <a:chExt cx="440280" cy="220320"/>
                  </a:xfrm>
                </p:grpSpPr>
                <p:grpSp>
                  <p:nvGrpSpPr>
                    <p:cNvPr id="115" name="Group 447"/>
                    <p:cNvGrpSpPr/>
                    <p:nvPr/>
                  </p:nvGrpSpPr>
                  <p:grpSpPr>
                    <a:xfrm>
                      <a:off x="4190760" y="3225960"/>
                      <a:ext cx="440280" cy="125280"/>
                      <a:chOff x="4190760" y="3225960"/>
                      <a:chExt cx="440280" cy="125280"/>
                    </a:xfrm>
                  </p:grpSpPr>
                  <p:grpSp>
                    <p:nvGrpSpPr>
                      <p:cNvPr id="116" name="Group 448"/>
                      <p:cNvGrpSpPr/>
                      <p:nvPr/>
                    </p:nvGrpSpPr>
                    <p:grpSpPr>
                      <a:xfrm>
                        <a:off x="4197960" y="3225960"/>
                        <a:ext cx="433080" cy="125280"/>
                        <a:chOff x="4197960" y="3225960"/>
                        <a:chExt cx="433080" cy="125280"/>
                      </a:xfrm>
                    </p:grpSpPr>
                    <p:sp>
                      <p:nvSpPr>
                        <p:cNvPr id="117" name="Rectangle 449"/>
                        <p:cNvSpPr/>
                        <p:nvPr/>
                      </p:nvSpPr>
                      <p:spPr>
                        <a:xfrm rot="10800000">
                          <a:off x="4342320" y="322596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Freeform 450"/>
                        <p:cNvSpPr/>
                        <p:nvPr/>
                      </p:nvSpPr>
                      <p:spPr>
                        <a:xfrm rot="10800000">
                          <a:off x="4197960" y="322776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19" name=""/>
                      <p:cNvGrpSpPr/>
                      <p:nvPr/>
                    </p:nvGrpSpPr>
                    <p:grpSpPr>
                      <a:xfrm>
                        <a:off x="4190760" y="3252960"/>
                        <a:ext cx="440280" cy="360"/>
                        <a:chOff x="4190760" y="3252960"/>
                        <a:chExt cx="440280" cy="360"/>
                      </a:xfrm>
                    </p:grpSpPr>
                    <p:sp>
                      <p:nvSpPr>
                        <p:cNvPr id="120" name="Line 451"/>
                        <p:cNvSpPr/>
                        <p:nvPr/>
                      </p:nvSpPr>
                      <p:spPr>
                        <a:xfrm flipH="1">
                          <a:off x="4190760" y="3253320"/>
                          <a:ext cx="44028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"/>
                        <p:cNvSpPr txBox="1"/>
                        <p:nvPr/>
                      </p:nvSpPr>
                      <p:spPr>
                        <a:xfrm rot="10800000">
                          <a:off x="4190760" y="325296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22" name="Oval 452"/>
                    <p:cNvSpPr/>
                    <p:nvPr/>
                  </p:nvSpPr>
                  <p:spPr>
                    <a:xfrm rot="10800000">
                      <a:off x="4465800" y="328788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Freeform 453"/>
                    <p:cNvSpPr/>
                    <p:nvPr/>
                  </p:nvSpPr>
                  <p:spPr>
                    <a:xfrm rot="552000">
                      <a:off x="4299840" y="329112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24" name="Group 454"/>
              <p:cNvGrpSpPr/>
              <p:nvPr/>
            </p:nvGrpSpPr>
            <p:grpSpPr>
              <a:xfrm>
                <a:off x="4365000" y="3206160"/>
                <a:ext cx="284400" cy="627480"/>
                <a:chOff x="4365000" y="3206160"/>
                <a:chExt cx="284400" cy="627480"/>
              </a:xfrm>
            </p:grpSpPr>
            <p:grpSp>
              <p:nvGrpSpPr>
                <p:cNvPr id="125" name="Group 455"/>
                <p:cNvGrpSpPr/>
                <p:nvPr/>
              </p:nvGrpSpPr>
              <p:grpSpPr>
                <a:xfrm>
                  <a:off x="4365000" y="3206160"/>
                  <a:ext cx="284400" cy="506880"/>
                  <a:chOff x="4365000" y="3206160"/>
                  <a:chExt cx="284400" cy="506880"/>
                </a:xfrm>
              </p:grpSpPr>
              <p:sp>
                <p:nvSpPr>
                  <p:cNvPr id="126" name="AutoShape 456"/>
                  <p:cNvSpPr/>
                  <p:nvPr/>
                </p:nvSpPr>
                <p:spPr>
                  <a:xfrm>
                    <a:off x="4365000" y="3321720"/>
                    <a:ext cx="28440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Oval 457"/>
                  <p:cNvSpPr/>
                  <p:nvPr/>
                </p:nvSpPr>
                <p:spPr>
                  <a:xfrm>
                    <a:off x="4365000" y="3206160"/>
                    <a:ext cx="279360" cy="24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8" name="Oval 458"/>
                <p:cNvSpPr/>
                <p:nvPr/>
              </p:nvSpPr>
              <p:spPr>
                <a:xfrm>
                  <a:off x="4382640" y="3597480"/>
                  <a:ext cx="244440" cy="23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ddddd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" name="AutoShape 459"/>
              <p:cNvSpPr/>
              <p:nvPr/>
            </p:nvSpPr>
            <p:spPr>
              <a:xfrm>
                <a:off x="4453200" y="3674160"/>
                <a:ext cx="104760" cy="90720"/>
              </a:xfrm>
              <a:prstGeom prst="hexagon">
                <a:avLst>
                  <a:gd name="adj" fmla="val 28869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460"/>
            <p:cNvGrpSpPr/>
            <p:nvPr/>
          </p:nvGrpSpPr>
          <p:grpSpPr>
            <a:xfrm>
              <a:off x="4191120" y="2215080"/>
              <a:ext cx="628920" cy="1045800"/>
              <a:chOff x="4191120" y="2215080"/>
              <a:chExt cx="628920" cy="1045800"/>
            </a:xfrm>
          </p:grpSpPr>
          <p:grpSp>
            <p:nvGrpSpPr>
              <p:cNvPr id="131" name="Group 461"/>
              <p:cNvGrpSpPr/>
              <p:nvPr/>
            </p:nvGrpSpPr>
            <p:grpSpPr>
              <a:xfrm>
                <a:off x="4191120" y="2215080"/>
                <a:ext cx="628920" cy="1026000"/>
                <a:chOff x="4191120" y="2215080"/>
                <a:chExt cx="628920" cy="1026000"/>
              </a:xfrm>
            </p:grpSpPr>
            <p:grpSp>
              <p:nvGrpSpPr>
                <p:cNvPr id="132" name="Group 462"/>
                <p:cNvGrpSpPr/>
                <p:nvPr/>
              </p:nvGrpSpPr>
              <p:grpSpPr>
                <a:xfrm>
                  <a:off x="4191120" y="2215080"/>
                  <a:ext cx="440280" cy="515520"/>
                  <a:chOff x="4191120" y="2215080"/>
                  <a:chExt cx="440280" cy="515520"/>
                </a:xfrm>
              </p:grpSpPr>
              <p:sp>
                <p:nvSpPr>
                  <p:cNvPr id="133" name="AutoShape 463"/>
                  <p:cNvSpPr/>
                  <p:nvPr/>
                </p:nvSpPr>
                <p:spPr>
                  <a:xfrm>
                    <a:off x="4380480" y="2338920"/>
                    <a:ext cx="2444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4" name="Group 464"/>
                  <p:cNvGrpSpPr/>
                  <p:nvPr/>
                </p:nvGrpSpPr>
                <p:grpSpPr>
                  <a:xfrm>
                    <a:off x="4191120" y="2215080"/>
                    <a:ext cx="440280" cy="220320"/>
                    <a:chOff x="4191120" y="2215080"/>
                    <a:chExt cx="440280" cy="220320"/>
                  </a:xfrm>
                </p:grpSpPr>
                <p:grpSp>
                  <p:nvGrpSpPr>
                    <p:cNvPr id="135" name="Group 465"/>
                    <p:cNvGrpSpPr/>
                    <p:nvPr/>
                  </p:nvGrpSpPr>
                  <p:grpSpPr>
                    <a:xfrm>
                      <a:off x="4191120" y="2215080"/>
                      <a:ext cx="440280" cy="125280"/>
                      <a:chOff x="4191120" y="2215080"/>
                      <a:chExt cx="440280" cy="125280"/>
                    </a:xfrm>
                  </p:grpSpPr>
                  <p:grpSp>
                    <p:nvGrpSpPr>
                      <p:cNvPr id="136" name="Group 466"/>
                      <p:cNvGrpSpPr/>
                      <p:nvPr/>
                    </p:nvGrpSpPr>
                    <p:grpSpPr>
                      <a:xfrm>
                        <a:off x="4198320" y="2215080"/>
                        <a:ext cx="433080" cy="125280"/>
                        <a:chOff x="4198320" y="2215080"/>
                        <a:chExt cx="433080" cy="125280"/>
                      </a:xfrm>
                    </p:grpSpPr>
                    <p:sp>
                      <p:nvSpPr>
                        <p:cNvPr id="137" name="Rectangle 467"/>
                        <p:cNvSpPr/>
                        <p:nvPr/>
                      </p:nvSpPr>
                      <p:spPr>
                        <a:xfrm rot="10800000">
                          <a:off x="4342680" y="221508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" name="Freeform 468"/>
                        <p:cNvSpPr/>
                        <p:nvPr/>
                      </p:nvSpPr>
                      <p:spPr>
                        <a:xfrm rot="10800000">
                          <a:off x="4198320" y="221688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9" name=""/>
                      <p:cNvGrpSpPr/>
                      <p:nvPr/>
                    </p:nvGrpSpPr>
                    <p:grpSpPr>
                      <a:xfrm>
                        <a:off x="4191120" y="2242080"/>
                        <a:ext cx="440280" cy="360"/>
                        <a:chOff x="4191120" y="2242080"/>
                        <a:chExt cx="440280" cy="360"/>
                      </a:xfrm>
                    </p:grpSpPr>
                    <p:sp>
                      <p:nvSpPr>
                        <p:cNvPr id="140" name="Line 469"/>
                        <p:cNvSpPr/>
                        <p:nvPr/>
                      </p:nvSpPr>
                      <p:spPr>
                        <a:xfrm flipH="1">
                          <a:off x="4191120" y="2242440"/>
                          <a:ext cx="44028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" name=""/>
                        <p:cNvSpPr txBox="1"/>
                        <p:nvPr/>
                      </p:nvSpPr>
                      <p:spPr>
                        <a:xfrm rot="10800000">
                          <a:off x="4191120" y="224208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42" name="Oval 470"/>
                    <p:cNvSpPr/>
                    <p:nvPr/>
                  </p:nvSpPr>
                  <p:spPr>
                    <a:xfrm rot="10800000">
                      <a:off x="4466160" y="227700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Freeform 471"/>
                    <p:cNvSpPr/>
                    <p:nvPr/>
                  </p:nvSpPr>
                  <p:spPr>
                    <a:xfrm rot="552000">
                      <a:off x="4300200" y="228024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4" name="Group 472"/>
                <p:cNvGrpSpPr/>
                <p:nvPr/>
              </p:nvGrpSpPr>
              <p:grpSpPr>
                <a:xfrm>
                  <a:off x="4379760" y="2725560"/>
                  <a:ext cx="440280" cy="515520"/>
                  <a:chOff x="4379760" y="2725560"/>
                  <a:chExt cx="440280" cy="515520"/>
                </a:xfrm>
              </p:grpSpPr>
              <p:sp>
                <p:nvSpPr>
                  <p:cNvPr id="145" name="AutoShape 473"/>
                  <p:cNvSpPr/>
                  <p:nvPr/>
                </p:nvSpPr>
                <p:spPr>
                  <a:xfrm rot="10800000">
                    <a:off x="4386240" y="2725560"/>
                    <a:ext cx="24444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474"/>
                  <p:cNvGrpSpPr/>
                  <p:nvPr/>
                </p:nvGrpSpPr>
                <p:grpSpPr>
                  <a:xfrm>
                    <a:off x="4379760" y="3020760"/>
                    <a:ext cx="440280" cy="220320"/>
                    <a:chOff x="4379760" y="3020760"/>
                    <a:chExt cx="440280" cy="220320"/>
                  </a:xfrm>
                </p:grpSpPr>
                <p:grpSp>
                  <p:nvGrpSpPr>
                    <p:cNvPr id="147" name="Group 475"/>
                    <p:cNvGrpSpPr/>
                    <p:nvPr/>
                  </p:nvGrpSpPr>
                  <p:grpSpPr>
                    <a:xfrm>
                      <a:off x="4379760" y="3115800"/>
                      <a:ext cx="440280" cy="125280"/>
                      <a:chOff x="4379760" y="3115800"/>
                      <a:chExt cx="440280" cy="125280"/>
                    </a:xfrm>
                  </p:grpSpPr>
                  <p:grpSp>
                    <p:nvGrpSpPr>
                      <p:cNvPr id="148" name="Group 476"/>
                      <p:cNvGrpSpPr/>
                      <p:nvPr/>
                    </p:nvGrpSpPr>
                    <p:grpSpPr>
                      <a:xfrm>
                        <a:off x="4379760" y="3115800"/>
                        <a:ext cx="433080" cy="125280"/>
                        <a:chOff x="4379760" y="3115800"/>
                        <a:chExt cx="433080" cy="125280"/>
                      </a:xfrm>
                    </p:grpSpPr>
                    <p:sp>
                      <p:nvSpPr>
                        <p:cNvPr id="149" name="Rectangle 477"/>
                        <p:cNvSpPr/>
                        <p:nvPr/>
                      </p:nvSpPr>
                      <p:spPr>
                        <a:xfrm>
                          <a:off x="4379760" y="311688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" name="Freeform 478"/>
                        <p:cNvSpPr/>
                        <p:nvPr/>
                      </p:nvSpPr>
                      <p:spPr>
                        <a:xfrm>
                          <a:off x="4668480" y="311580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1" name=""/>
                      <p:cNvGrpSpPr/>
                      <p:nvPr/>
                    </p:nvGrpSpPr>
                    <p:grpSpPr>
                      <a:xfrm>
                        <a:off x="4379760" y="3213720"/>
                        <a:ext cx="440280" cy="360"/>
                        <a:chOff x="4379760" y="3213720"/>
                        <a:chExt cx="440280" cy="360"/>
                      </a:xfrm>
                    </p:grpSpPr>
                    <p:sp>
                      <p:nvSpPr>
                        <p:cNvPr id="152" name="Line 479"/>
                        <p:cNvSpPr/>
                        <p:nvPr/>
                      </p:nvSpPr>
                      <p:spPr>
                        <a:xfrm>
                          <a:off x="4379760" y="3213720"/>
                          <a:ext cx="44028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" name=""/>
                        <p:cNvSpPr txBox="1"/>
                        <p:nvPr/>
                      </p:nvSpPr>
                      <p:spPr>
                        <a:xfrm>
                          <a:off x="4379760" y="321372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54" name="Oval 480"/>
                    <p:cNvSpPr/>
                    <p:nvPr/>
                  </p:nvSpPr>
                  <p:spPr>
                    <a:xfrm>
                      <a:off x="4457160" y="308124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Freeform 481"/>
                    <p:cNvSpPr/>
                    <p:nvPr/>
                  </p:nvSpPr>
                  <p:spPr>
                    <a:xfrm rot="11352600">
                      <a:off x="4592520" y="302904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6" name="Group 482"/>
              <p:cNvGrpSpPr/>
              <p:nvPr/>
            </p:nvGrpSpPr>
            <p:grpSpPr>
              <a:xfrm>
                <a:off x="4361400" y="2633400"/>
                <a:ext cx="284400" cy="627480"/>
                <a:chOff x="4361400" y="2633400"/>
                <a:chExt cx="284400" cy="627480"/>
              </a:xfrm>
            </p:grpSpPr>
            <p:grpSp>
              <p:nvGrpSpPr>
                <p:cNvPr id="157" name="Group 483"/>
                <p:cNvGrpSpPr/>
                <p:nvPr/>
              </p:nvGrpSpPr>
              <p:grpSpPr>
                <a:xfrm>
                  <a:off x="4361400" y="2754000"/>
                  <a:ext cx="284400" cy="506880"/>
                  <a:chOff x="4361400" y="2754000"/>
                  <a:chExt cx="284400" cy="506880"/>
                </a:xfrm>
              </p:grpSpPr>
              <p:sp>
                <p:nvSpPr>
                  <p:cNvPr id="158" name="AutoShape 484"/>
                  <p:cNvSpPr/>
                  <p:nvPr/>
                </p:nvSpPr>
                <p:spPr>
                  <a:xfrm rot="10800000">
                    <a:off x="4361400" y="2754000"/>
                    <a:ext cx="28440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Oval 485"/>
                  <p:cNvSpPr/>
                  <p:nvPr/>
                </p:nvSpPr>
                <p:spPr>
                  <a:xfrm rot="10800000">
                    <a:off x="4366440" y="3020760"/>
                    <a:ext cx="279360" cy="2401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0" name="Oval 486"/>
                <p:cNvSpPr/>
                <p:nvPr/>
              </p:nvSpPr>
              <p:spPr>
                <a:xfrm rot="10800000">
                  <a:off x="4383720" y="2633400"/>
                  <a:ext cx="244440" cy="236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AutoShape 487"/>
              <p:cNvSpPr/>
              <p:nvPr/>
            </p:nvSpPr>
            <p:spPr>
              <a:xfrm rot="10800000">
                <a:off x="4452840" y="2702160"/>
                <a:ext cx="104760" cy="90720"/>
              </a:xfrm>
              <a:prstGeom prst="hexagon">
                <a:avLst>
                  <a:gd name="adj" fmla="val 28869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" name="Group 488"/>
          <p:cNvGrpSpPr/>
          <p:nvPr/>
        </p:nvGrpSpPr>
        <p:grpSpPr>
          <a:xfrm>
            <a:off x="4162320" y="1822680"/>
            <a:ext cx="707040" cy="1566720"/>
            <a:chOff x="4162320" y="1822680"/>
            <a:chExt cx="707040" cy="1566720"/>
          </a:xfrm>
        </p:grpSpPr>
        <p:sp>
          <p:nvSpPr>
            <p:cNvPr id="163" name="Oval 489"/>
            <p:cNvSpPr/>
            <p:nvPr/>
          </p:nvSpPr>
          <p:spPr>
            <a:xfrm rot="385800">
              <a:off x="4191120" y="2812320"/>
              <a:ext cx="569520" cy="5464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21216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490"/>
            <p:cNvSpPr/>
            <p:nvPr/>
          </p:nvSpPr>
          <p:spPr>
            <a:xfrm rot="385800">
              <a:off x="4832280" y="2319120"/>
              <a:ext cx="32760" cy="49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491"/>
            <p:cNvSpPr/>
            <p:nvPr/>
          </p:nvSpPr>
          <p:spPr>
            <a:xfrm rot="385800">
              <a:off x="4803840" y="2616480"/>
              <a:ext cx="32760" cy="4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492"/>
            <p:cNvSpPr/>
            <p:nvPr/>
          </p:nvSpPr>
          <p:spPr>
            <a:xfrm rot="385800">
              <a:off x="4770720" y="2912040"/>
              <a:ext cx="32760" cy="49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493"/>
            <p:cNvSpPr/>
            <p:nvPr/>
          </p:nvSpPr>
          <p:spPr>
            <a:xfrm rot="385800">
              <a:off x="4221720" y="2157120"/>
              <a:ext cx="591840" cy="1021320"/>
            </a:xfrm>
            <a:prstGeom prst="can">
              <a:avLst>
                <a:gd name="adj" fmla="val 2652"/>
              </a:avLst>
            </a:prstGeom>
            <a:gradFill rotWithShape="0">
              <a:gsLst>
                <a:gs pos="0">
                  <a:srgbClr val="996633"/>
                </a:gs>
                <a:gs pos="100000">
                  <a:srgbClr val="ffffff"/>
                </a:gs>
              </a:gsLst>
              <a:lin ang="21216000"/>
            </a:gra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494"/>
            <p:cNvSpPr/>
            <p:nvPr/>
          </p:nvSpPr>
          <p:spPr>
            <a:xfrm rot="385800">
              <a:off x="4510080" y="2076840"/>
              <a:ext cx="149040" cy="986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21216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Group 495"/>
            <p:cNvGrpSpPr/>
            <p:nvPr/>
          </p:nvGrpSpPr>
          <p:grpSpPr>
            <a:xfrm>
              <a:off x="4412520" y="1822680"/>
              <a:ext cx="285480" cy="690480"/>
              <a:chOff x="4412520" y="1822680"/>
              <a:chExt cx="285480" cy="690480"/>
            </a:xfrm>
          </p:grpSpPr>
          <p:sp>
            <p:nvSpPr>
              <p:cNvPr id="170" name="AutoShape 496"/>
              <p:cNvSpPr/>
              <p:nvPr/>
            </p:nvSpPr>
            <p:spPr>
              <a:xfrm rot="11007600">
                <a:off x="4477320" y="1828080"/>
                <a:ext cx="199800" cy="545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556" y="21600"/>
                    </a:lnTo>
                    <a:lnTo>
                      <a:pt x="20044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AutoShape 497"/>
              <p:cNvSpPr/>
              <p:nvPr/>
            </p:nvSpPr>
            <p:spPr>
              <a:xfrm rot="16585800">
                <a:off x="4448520" y="2260800"/>
                <a:ext cx="213120" cy="263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934" y="2201"/>
                      <a:pt x="12267" y="5080"/>
                      <a:pt x="12267" y="10800"/>
                    </a:cubicBezTo>
                    <a:cubicBezTo>
                      <a:pt x="12267" y="16520"/>
                      <a:pt x="16934" y="1939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Group 498"/>
          <p:cNvGrpSpPr/>
          <p:nvPr/>
        </p:nvGrpSpPr>
        <p:grpSpPr>
          <a:xfrm>
            <a:off x="4133880" y="2167200"/>
            <a:ext cx="653760" cy="2116800"/>
            <a:chOff x="4133880" y="2167200"/>
            <a:chExt cx="653760" cy="2116800"/>
          </a:xfrm>
        </p:grpSpPr>
        <p:grpSp>
          <p:nvGrpSpPr>
            <p:cNvPr id="173" name="Group 499"/>
            <p:cNvGrpSpPr/>
            <p:nvPr/>
          </p:nvGrpSpPr>
          <p:grpSpPr>
            <a:xfrm>
              <a:off x="4133880" y="3197160"/>
              <a:ext cx="653760" cy="1086840"/>
              <a:chOff x="4133880" y="3197160"/>
              <a:chExt cx="653760" cy="1086840"/>
            </a:xfrm>
          </p:grpSpPr>
          <p:grpSp>
            <p:nvGrpSpPr>
              <p:cNvPr id="174" name="Group 500"/>
              <p:cNvGrpSpPr/>
              <p:nvPr/>
            </p:nvGrpSpPr>
            <p:grpSpPr>
              <a:xfrm>
                <a:off x="4133880" y="3217320"/>
                <a:ext cx="653760" cy="1066680"/>
                <a:chOff x="4133880" y="3217320"/>
                <a:chExt cx="653760" cy="1066680"/>
              </a:xfrm>
            </p:grpSpPr>
            <p:grpSp>
              <p:nvGrpSpPr>
                <p:cNvPr id="175" name="Group 501"/>
                <p:cNvGrpSpPr/>
                <p:nvPr/>
              </p:nvGrpSpPr>
              <p:grpSpPr>
                <a:xfrm>
                  <a:off x="4329720" y="3747600"/>
                  <a:ext cx="457920" cy="536400"/>
                  <a:chOff x="4329720" y="3747600"/>
                  <a:chExt cx="457920" cy="536400"/>
                </a:xfrm>
              </p:grpSpPr>
              <p:sp>
                <p:nvSpPr>
                  <p:cNvPr id="176" name="AutoShape 502"/>
                  <p:cNvSpPr/>
                  <p:nvPr/>
                </p:nvSpPr>
                <p:spPr>
                  <a:xfrm rot="10800000">
                    <a:off x="4336920" y="3747600"/>
                    <a:ext cx="254160" cy="40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7" name="Group 503"/>
                  <p:cNvGrpSpPr/>
                  <p:nvPr/>
                </p:nvGrpSpPr>
                <p:grpSpPr>
                  <a:xfrm>
                    <a:off x="4329720" y="4054320"/>
                    <a:ext cx="457920" cy="229680"/>
                    <a:chOff x="4329720" y="4054320"/>
                    <a:chExt cx="457920" cy="229680"/>
                  </a:xfrm>
                </p:grpSpPr>
                <p:grpSp>
                  <p:nvGrpSpPr>
                    <p:cNvPr id="178" name="Group 504"/>
                    <p:cNvGrpSpPr/>
                    <p:nvPr/>
                  </p:nvGrpSpPr>
                  <p:grpSpPr>
                    <a:xfrm>
                      <a:off x="4329720" y="4153680"/>
                      <a:ext cx="457920" cy="130320"/>
                      <a:chOff x="4329720" y="4153680"/>
                      <a:chExt cx="457920" cy="130320"/>
                    </a:xfrm>
                  </p:grpSpPr>
                  <p:grpSp>
                    <p:nvGrpSpPr>
                      <p:cNvPr id="179" name="Group 505"/>
                      <p:cNvGrpSpPr/>
                      <p:nvPr/>
                    </p:nvGrpSpPr>
                    <p:grpSpPr>
                      <a:xfrm>
                        <a:off x="4329720" y="4153680"/>
                        <a:ext cx="450360" cy="130320"/>
                        <a:chOff x="4329720" y="4153680"/>
                        <a:chExt cx="450360" cy="130320"/>
                      </a:xfrm>
                    </p:grpSpPr>
                    <p:sp>
                      <p:nvSpPr>
                        <p:cNvPr id="180" name="Rectangle 506"/>
                        <p:cNvSpPr/>
                        <p:nvPr/>
                      </p:nvSpPr>
                      <p:spPr>
                        <a:xfrm>
                          <a:off x="4329720" y="4154760"/>
                          <a:ext cx="300240" cy="1292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Freeform 507"/>
                        <p:cNvSpPr/>
                        <p:nvPr/>
                      </p:nvSpPr>
                      <p:spPr>
                        <a:xfrm>
                          <a:off x="4629960" y="415368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82" name=""/>
                      <p:cNvGrpSpPr/>
                      <p:nvPr/>
                    </p:nvGrpSpPr>
                    <p:grpSpPr>
                      <a:xfrm>
                        <a:off x="4329720" y="4255200"/>
                        <a:ext cx="457920" cy="360"/>
                        <a:chOff x="4329720" y="4255200"/>
                        <a:chExt cx="457920" cy="360"/>
                      </a:xfrm>
                    </p:grpSpPr>
                    <p:sp>
                      <p:nvSpPr>
                        <p:cNvPr id="183" name="Line 508"/>
                        <p:cNvSpPr/>
                        <p:nvPr/>
                      </p:nvSpPr>
                      <p:spPr>
                        <a:xfrm>
                          <a:off x="4329720" y="4255200"/>
                          <a:ext cx="4579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 txBox="1"/>
                        <p:nvPr/>
                      </p:nvSpPr>
                      <p:spPr>
                        <a:xfrm>
                          <a:off x="4329720" y="425520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85" name="Oval 509"/>
                    <p:cNvSpPr/>
                    <p:nvPr/>
                  </p:nvSpPr>
                  <p:spPr>
                    <a:xfrm>
                      <a:off x="4410000" y="4117680"/>
                      <a:ext cx="91080" cy="101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Freeform 510"/>
                    <p:cNvSpPr/>
                    <p:nvPr/>
                  </p:nvSpPr>
                  <p:spPr>
                    <a:xfrm rot="11352000">
                      <a:off x="4550760" y="406296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aeaea"/>
                        </a:gs>
                      </a:gsLst>
                      <a:lin ang="10248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7" name="Group 511"/>
                <p:cNvGrpSpPr/>
                <p:nvPr/>
              </p:nvGrpSpPr>
              <p:grpSpPr>
                <a:xfrm>
                  <a:off x="4133880" y="3217320"/>
                  <a:ext cx="457920" cy="535680"/>
                  <a:chOff x="4133880" y="3217320"/>
                  <a:chExt cx="457920" cy="535680"/>
                </a:xfrm>
              </p:grpSpPr>
              <p:sp>
                <p:nvSpPr>
                  <p:cNvPr id="188" name="AutoShape 512"/>
                  <p:cNvSpPr/>
                  <p:nvPr/>
                </p:nvSpPr>
                <p:spPr>
                  <a:xfrm>
                    <a:off x="4330440" y="334620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9" name="Group 513"/>
                  <p:cNvGrpSpPr/>
                  <p:nvPr/>
                </p:nvGrpSpPr>
                <p:grpSpPr>
                  <a:xfrm>
                    <a:off x="4133880" y="3217320"/>
                    <a:ext cx="457920" cy="229680"/>
                    <a:chOff x="4133880" y="3217320"/>
                    <a:chExt cx="457920" cy="229680"/>
                  </a:xfrm>
                </p:grpSpPr>
                <p:grpSp>
                  <p:nvGrpSpPr>
                    <p:cNvPr id="190" name="Group 514"/>
                    <p:cNvGrpSpPr/>
                    <p:nvPr/>
                  </p:nvGrpSpPr>
                  <p:grpSpPr>
                    <a:xfrm>
                      <a:off x="4133880" y="3217320"/>
                      <a:ext cx="457920" cy="130320"/>
                      <a:chOff x="4133880" y="3217320"/>
                      <a:chExt cx="457920" cy="130320"/>
                    </a:xfrm>
                  </p:grpSpPr>
                  <p:grpSp>
                    <p:nvGrpSpPr>
                      <p:cNvPr id="191" name="Group 515"/>
                      <p:cNvGrpSpPr/>
                      <p:nvPr/>
                    </p:nvGrpSpPr>
                    <p:grpSpPr>
                      <a:xfrm>
                        <a:off x="4141440" y="3217320"/>
                        <a:ext cx="450360" cy="130320"/>
                        <a:chOff x="4141440" y="3217320"/>
                        <a:chExt cx="450360" cy="130320"/>
                      </a:xfrm>
                    </p:grpSpPr>
                    <p:sp>
                      <p:nvSpPr>
                        <p:cNvPr id="192" name="Rectangle 516"/>
                        <p:cNvSpPr/>
                        <p:nvPr/>
                      </p:nvSpPr>
                      <p:spPr>
                        <a:xfrm rot="10800000">
                          <a:off x="4291560" y="321732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Freeform 517"/>
                        <p:cNvSpPr/>
                        <p:nvPr/>
                      </p:nvSpPr>
                      <p:spPr>
                        <a:xfrm rot="10800000">
                          <a:off x="4141440" y="321912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94" name=""/>
                      <p:cNvGrpSpPr/>
                      <p:nvPr/>
                    </p:nvGrpSpPr>
                    <p:grpSpPr>
                      <a:xfrm>
                        <a:off x="4133880" y="3245760"/>
                        <a:ext cx="457920" cy="360"/>
                        <a:chOff x="4133880" y="3245760"/>
                        <a:chExt cx="457920" cy="360"/>
                      </a:xfrm>
                    </p:grpSpPr>
                    <p:sp>
                      <p:nvSpPr>
                        <p:cNvPr id="195" name="Line 518"/>
                        <p:cNvSpPr/>
                        <p:nvPr/>
                      </p:nvSpPr>
                      <p:spPr>
                        <a:xfrm flipH="1">
                          <a:off x="4133880" y="3246120"/>
                          <a:ext cx="45792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 txBox="1"/>
                        <p:nvPr/>
                      </p:nvSpPr>
                      <p:spPr>
                        <a:xfrm rot="10800000">
                          <a:off x="4133880" y="324576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97" name="Oval 519"/>
                    <p:cNvSpPr/>
                    <p:nvPr/>
                  </p:nvSpPr>
                  <p:spPr>
                    <a:xfrm rot="10800000">
                      <a:off x="4420440" y="328212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Freeform 520"/>
                    <p:cNvSpPr/>
                    <p:nvPr/>
                  </p:nvSpPr>
                  <p:spPr>
                    <a:xfrm rot="552000">
                      <a:off x="4247640" y="328572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99" name="Group 521"/>
              <p:cNvGrpSpPr/>
              <p:nvPr/>
            </p:nvGrpSpPr>
            <p:grpSpPr>
              <a:xfrm>
                <a:off x="4314600" y="3197160"/>
                <a:ext cx="295920" cy="652320"/>
                <a:chOff x="4314600" y="3197160"/>
                <a:chExt cx="295920" cy="652320"/>
              </a:xfrm>
            </p:grpSpPr>
            <p:grpSp>
              <p:nvGrpSpPr>
                <p:cNvPr id="200" name="Group 522"/>
                <p:cNvGrpSpPr/>
                <p:nvPr/>
              </p:nvGrpSpPr>
              <p:grpSpPr>
                <a:xfrm>
                  <a:off x="4314600" y="3197160"/>
                  <a:ext cx="295920" cy="527040"/>
                  <a:chOff x="4314600" y="3197160"/>
                  <a:chExt cx="295920" cy="527040"/>
                </a:xfrm>
              </p:grpSpPr>
              <p:sp>
                <p:nvSpPr>
                  <p:cNvPr id="201" name="AutoShape 523"/>
                  <p:cNvSpPr/>
                  <p:nvPr/>
                </p:nvSpPr>
                <p:spPr>
                  <a:xfrm>
                    <a:off x="4314600" y="3317400"/>
                    <a:ext cx="29592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Oval 524"/>
                  <p:cNvSpPr/>
                  <p:nvPr/>
                </p:nvSpPr>
                <p:spPr>
                  <a:xfrm>
                    <a:off x="4314600" y="3197160"/>
                    <a:ext cx="290520" cy="249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3" name="Oval 525"/>
                <p:cNvSpPr/>
                <p:nvPr/>
              </p:nvSpPr>
              <p:spPr>
                <a:xfrm>
                  <a:off x="4332960" y="3603960"/>
                  <a:ext cx="254160" cy="24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" name="AutoShape 526"/>
              <p:cNvSpPr/>
              <p:nvPr/>
            </p:nvSpPr>
            <p:spPr>
              <a:xfrm>
                <a:off x="4406760" y="3683520"/>
                <a:ext cx="109080" cy="94320"/>
              </a:xfrm>
              <a:prstGeom prst="hexagon">
                <a:avLst>
                  <a:gd name="adj" fmla="val 28912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527"/>
            <p:cNvGrpSpPr/>
            <p:nvPr/>
          </p:nvGrpSpPr>
          <p:grpSpPr>
            <a:xfrm>
              <a:off x="4133880" y="2167200"/>
              <a:ext cx="653760" cy="1086840"/>
              <a:chOff x="4133880" y="2167200"/>
              <a:chExt cx="653760" cy="1086840"/>
            </a:xfrm>
          </p:grpSpPr>
          <p:grpSp>
            <p:nvGrpSpPr>
              <p:cNvPr id="206" name="Group 528"/>
              <p:cNvGrpSpPr/>
              <p:nvPr/>
            </p:nvGrpSpPr>
            <p:grpSpPr>
              <a:xfrm>
                <a:off x="4133880" y="2167200"/>
                <a:ext cx="653760" cy="1066680"/>
                <a:chOff x="4133880" y="2167200"/>
                <a:chExt cx="653760" cy="1066680"/>
              </a:xfrm>
            </p:grpSpPr>
            <p:grpSp>
              <p:nvGrpSpPr>
                <p:cNvPr id="207" name="Group 529"/>
                <p:cNvGrpSpPr/>
                <p:nvPr/>
              </p:nvGrpSpPr>
              <p:grpSpPr>
                <a:xfrm>
                  <a:off x="4133880" y="2167200"/>
                  <a:ext cx="457920" cy="536400"/>
                  <a:chOff x="4133880" y="2167200"/>
                  <a:chExt cx="457920" cy="536400"/>
                </a:xfrm>
              </p:grpSpPr>
              <p:sp>
                <p:nvSpPr>
                  <p:cNvPr id="208" name="AutoShape 530"/>
                  <p:cNvSpPr/>
                  <p:nvPr/>
                </p:nvSpPr>
                <p:spPr>
                  <a:xfrm>
                    <a:off x="4330440" y="2296440"/>
                    <a:ext cx="254160" cy="40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9" name="Group 531"/>
                  <p:cNvGrpSpPr/>
                  <p:nvPr/>
                </p:nvGrpSpPr>
                <p:grpSpPr>
                  <a:xfrm>
                    <a:off x="4133880" y="2167200"/>
                    <a:ext cx="457920" cy="229680"/>
                    <a:chOff x="4133880" y="2167200"/>
                    <a:chExt cx="457920" cy="229680"/>
                  </a:xfrm>
                </p:grpSpPr>
                <p:grpSp>
                  <p:nvGrpSpPr>
                    <p:cNvPr id="210" name="Group 532"/>
                    <p:cNvGrpSpPr/>
                    <p:nvPr/>
                  </p:nvGrpSpPr>
                  <p:grpSpPr>
                    <a:xfrm>
                      <a:off x="4133880" y="2167200"/>
                      <a:ext cx="457920" cy="130320"/>
                      <a:chOff x="4133880" y="2167200"/>
                      <a:chExt cx="457920" cy="130320"/>
                    </a:xfrm>
                  </p:grpSpPr>
                  <p:grpSp>
                    <p:nvGrpSpPr>
                      <p:cNvPr id="211" name="Group 533"/>
                      <p:cNvGrpSpPr/>
                      <p:nvPr/>
                    </p:nvGrpSpPr>
                    <p:grpSpPr>
                      <a:xfrm>
                        <a:off x="4141440" y="2167200"/>
                        <a:ext cx="450360" cy="130320"/>
                        <a:chOff x="4141440" y="2167200"/>
                        <a:chExt cx="450360" cy="130320"/>
                      </a:xfrm>
                    </p:grpSpPr>
                    <p:sp>
                      <p:nvSpPr>
                        <p:cNvPr id="212" name="Rectangle 534"/>
                        <p:cNvSpPr/>
                        <p:nvPr/>
                      </p:nvSpPr>
                      <p:spPr>
                        <a:xfrm rot="10800000">
                          <a:off x="4291560" y="216720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Freeform 535"/>
                        <p:cNvSpPr/>
                        <p:nvPr/>
                      </p:nvSpPr>
                      <p:spPr>
                        <a:xfrm rot="10800000">
                          <a:off x="4141440" y="216900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14" name=""/>
                      <p:cNvGrpSpPr/>
                      <p:nvPr/>
                    </p:nvGrpSpPr>
                    <p:grpSpPr>
                      <a:xfrm>
                        <a:off x="4133880" y="2195640"/>
                        <a:ext cx="457920" cy="360"/>
                        <a:chOff x="4133880" y="2195640"/>
                        <a:chExt cx="457920" cy="360"/>
                      </a:xfrm>
                    </p:grpSpPr>
                    <p:sp>
                      <p:nvSpPr>
                        <p:cNvPr id="215" name="Line 536"/>
                        <p:cNvSpPr/>
                        <p:nvPr/>
                      </p:nvSpPr>
                      <p:spPr>
                        <a:xfrm flipH="1">
                          <a:off x="4133880" y="2196000"/>
                          <a:ext cx="45792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6" name=""/>
                        <p:cNvSpPr txBox="1"/>
                        <p:nvPr/>
                      </p:nvSpPr>
                      <p:spPr>
                        <a:xfrm rot="10800000">
                          <a:off x="4133880" y="219564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17" name="Oval 537"/>
                    <p:cNvSpPr/>
                    <p:nvPr/>
                  </p:nvSpPr>
                  <p:spPr>
                    <a:xfrm rot="10800000">
                      <a:off x="4420440" y="223200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Freeform 538"/>
                    <p:cNvSpPr/>
                    <p:nvPr/>
                  </p:nvSpPr>
                  <p:spPr>
                    <a:xfrm rot="552000">
                      <a:off x="4247640" y="223560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19" name="Group 539"/>
                <p:cNvGrpSpPr/>
                <p:nvPr/>
              </p:nvGrpSpPr>
              <p:grpSpPr>
                <a:xfrm>
                  <a:off x="4329720" y="2698200"/>
                  <a:ext cx="457920" cy="535680"/>
                  <a:chOff x="4329720" y="2698200"/>
                  <a:chExt cx="457920" cy="535680"/>
                </a:xfrm>
              </p:grpSpPr>
              <p:sp>
                <p:nvSpPr>
                  <p:cNvPr id="220" name="AutoShape 540"/>
                  <p:cNvSpPr/>
                  <p:nvPr/>
                </p:nvSpPr>
                <p:spPr>
                  <a:xfrm rot="10800000">
                    <a:off x="4336920" y="269820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1" name="Group 541"/>
                  <p:cNvGrpSpPr/>
                  <p:nvPr/>
                </p:nvGrpSpPr>
                <p:grpSpPr>
                  <a:xfrm>
                    <a:off x="4329720" y="3004200"/>
                    <a:ext cx="457920" cy="229680"/>
                    <a:chOff x="4329720" y="3004200"/>
                    <a:chExt cx="457920" cy="229680"/>
                  </a:xfrm>
                </p:grpSpPr>
                <p:grpSp>
                  <p:nvGrpSpPr>
                    <p:cNvPr id="222" name="Group 542"/>
                    <p:cNvGrpSpPr/>
                    <p:nvPr/>
                  </p:nvGrpSpPr>
                  <p:grpSpPr>
                    <a:xfrm>
                      <a:off x="4329720" y="3103560"/>
                      <a:ext cx="457920" cy="130320"/>
                      <a:chOff x="4329720" y="3103560"/>
                      <a:chExt cx="457920" cy="130320"/>
                    </a:xfrm>
                  </p:grpSpPr>
                  <p:grpSp>
                    <p:nvGrpSpPr>
                      <p:cNvPr id="223" name="Group 543"/>
                      <p:cNvGrpSpPr/>
                      <p:nvPr/>
                    </p:nvGrpSpPr>
                    <p:grpSpPr>
                      <a:xfrm>
                        <a:off x="4329720" y="3103560"/>
                        <a:ext cx="450360" cy="130320"/>
                        <a:chOff x="4329720" y="3103560"/>
                        <a:chExt cx="450360" cy="130320"/>
                      </a:xfrm>
                    </p:grpSpPr>
                    <p:sp>
                      <p:nvSpPr>
                        <p:cNvPr id="224" name="Rectangle 544"/>
                        <p:cNvSpPr/>
                        <p:nvPr/>
                      </p:nvSpPr>
                      <p:spPr>
                        <a:xfrm>
                          <a:off x="4329720" y="310464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" name="Freeform 545"/>
                        <p:cNvSpPr/>
                        <p:nvPr/>
                      </p:nvSpPr>
                      <p:spPr>
                        <a:xfrm>
                          <a:off x="4629960" y="310356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26" name=""/>
                      <p:cNvGrpSpPr/>
                      <p:nvPr/>
                    </p:nvGrpSpPr>
                    <p:grpSpPr>
                      <a:xfrm>
                        <a:off x="4329720" y="3205080"/>
                        <a:ext cx="457920" cy="360"/>
                        <a:chOff x="4329720" y="3205080"/>
                        <a:chExt cx="457920" cy="360"/>
                      </a:xfrm>
                    </p:grpSpPr>
                    <p:sp>
                      <p:nvSpPr>
                        <p:cNvPr id="227" name="Line 546"/>
                        <p:cNvSpPr/>
                        <p:nvPr/>
                      </p:nvSpPr>
                      <p:spPr>
                        <a:xfrm>
                          <a:off x="4329720" y="3205080"/>
                          <a:ext cx="45792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 txBox="1"/>
                        <p:nvPr/>
                      </p:nvSpPr>
                      <p:spPr>
                        <a:xfrm>
                          <a:off x="4329720" y="320508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29" name="Oval 547"/>
                    <p:cNvSpPr/>
                    <p:nvPr/>
                  </p:nvSpPr>
                  <p:spPr>
                    <a:xfrm>
                      <a:off x="4410000" y="306756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Freeform 548"/>
                    <p:cNvSpPr/>
                    <p:nvPr/>
                  </p:nvSpPr>
                  <p:spPr>
                    <a:xfrm rot="11352600">
                      <a:off x="4550760" y="301284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31" name="Group 549"/>
              <p:cNvGrpSpPr/>
              <p:nvPr/>
            </p:nvGrpSpPr>
            <p:grpSpPr>
              <a:xfrm>
                <a:off x="4311000" y="2601720"/>
                <a:ext cx="295920" cy="652320"/>
                <a:chOff x="4311000" y="2601720"/>
                <a:chExt cx="295920" cy="652320"/>
              </a:xfrm>
            </p:grpSpPr>
            <p:grpSp>
              <p:nvGrpSpPr>
                <p:cNvPr id="232" name="Group 550"/>
                <p:cNvGrpSpPr/>
                <p:nvPr/>
              </p:nvGrpSpPr>
              <p:grpSpPr>
                <a:xfrm>
                  <a:off x="4311000" y="2727000"/>
                  <a:ext cx="295920" cy="527040"/>
                  <a:chOff x="4311000" y="2727000"/>
                  <a:chExt cx="295920" cy="527040"/>
                </a:xfrm>
              </p:grpSpPr>
              <p:sp>
                <p:nvSpPr>
                  <p:cNvPr id="233" name="AutoShape 551"/>
                  <p:cNvSpPr/>
                  <p:nvPr/>
                </p:nvSpPr>
                <p:spPr>
                  <a:xfrm rot="10800000">
                    <a:off x="4311000" y="2727000"/>
                    <a:ext cx="29592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Oval 552"/>
                  <p:cNvSpPr/>
                  <p:nvPr/>
                </p:nvSpPr>
                <p:spPr>
                  <a:xfrm rot="10800000">
                    <a:off x="4316400" y="3004560"/>
                    <a:ext cx="290520" cy="24948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5" name="Oval 553"/>
                <p:cNvSpPr/>
                <p:nvPr/>
              </p:nvSpPr>
              <p:spPr>
                <a:xfrm rot="10800000">
                  <a:off x="4334400" y="2601720"/>
                  <a:ext cx="254160" cy="2455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6" name="AutoShape 554"/>
              <p:cNvSpPr/>
              <p:nvPr/>
            </p:nvSpPr>
            <p:spPr>
              <a:xfrm rot="10800000">
                <a:off x="4405680" y="2673360"/>
                <a:ext cx="109080" cy="94320"/>
              </a:xfrm>
              <a:prstGeom prst="hexagon">
                <a:avLst>
                  <a:gd name="adj" fmla="val 28912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Group 555"/>
          <p:cNvGrpSpPr/>
          <p:nvPr/>
        </p:nvGrpSpPr>
        <p:grpSpPr>
          <a:xfrm>
            <a:off x="4335120" y="1200240"/>
            <a:ext cx="277560" cy="1244880"/>
            <a:chOff x="4335120" y="1200240"/>
            <a:chExt cx="277560" cy="1244880"/>
          </a:xfrm>
        </p:grpSpPr>
        <p:grpSp>
          <p:nvGrpSpPr>
            <p:cNvPr id="238" name="Group 556"/>
            <p:cNvGrpSpPr/>
            <p:nvPr/>
          </p:nvGrpSpPr>
          <p:grpSpPr>
            <a:xfrm>
              <a:off x="4371480" y="1834560"/>
              <a:ext cx="241200" cy="610560"/>
              <a:chOff x="4371480" y="1834560"/>
              <a:chExt cx="241200" cy="610560"/>
            </a:xfrm>
          </p:grpSpPr>
          <p:sp>
            <p:nvSpPr>
              <p:cNvPr id="239" name="AutoShape 557"/>
              <p:cNvSpPr/>
              <p:nvPr/>
            </p:nvSpPr>
            <p:spPr>
              <a:xfrm rot="10707000">
                <a:off x="4398840" y="1836720"/>
                <a:ext cx="179640" cy="491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556" y="21600"/>
                    </a:lnTo>
                    <a:lnTo>
                      <a:pt x="20044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AutoShape 558"/>
              <p:cNvSpPr/>
              <p:nvPr/>
            </p:nvSpPr>
            <p:spPr>
              <a:xfrm rot="16285200">
                <a:off x="4395960" y="2228040"/>
                <a:ext cx="191520" cy="236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934" y="2201"/>
                      <a:pt x="12267" y="5080"/>
                      <a:pt x="12267" y="10800"/>
                    </a:cubicBezTo>
                    <a:cubicBezTo>
                      <a:pt x="12267" y="16520"/>
                      <a:pt x="16934" y="1939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559"/>
            <p:cNvGrpSpPr/>
            <p:nvPr/>
          </p:nvGrpSpPr>
          <p:grpSpPr>
            <a:xfrm>
              <a:off x="4335120" y="1200240"/>
              <a:ext cx="253080" cy="747360"/>
              <a:chOff x="4335120" y="1200240"/>
              <a:chExt cx="253080" cy="747360"/>
            </a:xfrm>
          </p:grpSpPr>
          <p:sp>
            <p:nvSpPr>
              <p:cNvPr id="242" name="AutoShape 560"/>
              <p:cNvSpPr/>
              <p:nvPr/>
            </p:nvSpPr>
            <p:spPr>
              <a:xfrm rot="10722000">
                <a:off x="4387680" y="1454400"/>
                <a:ext cx="180000" cy="360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308" y="21600"/>
                    </a:lnTo>
                    <a:lnTo>
                      <a:pt x="17292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561"/>
              <p:cNvSpPr/>
              <p:nvPr/>
            </p:nvSpPr>
            <p:spPr>
              <a:xfrm rot="11260800">
                <a:off x="4388760" y="1745280"/>
                <a:ext cx="187200" cy="1904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562"/>
              <p:cNvSpPr/>
              <p:nvPr/>
            </p:nvSpPr>
            <p:spPr>
              <a:xfrm rot="20755800">
                <a:off x="4367160" y="1216800"/>
                <a:ext cx="175320" cy="287640"/>
              </a:xfrm>
              <a:custGeom>
                <a:avLst/>
                <a:gdLst/>
                <a:ahLst/>
                <a:rect l="l" t="t" r="r" b="b"/>
                <a:pathLst>
                  <a:path w="1402" h="2302">
                    <a:moveTo>
                      <a:pt x="361" y="1127"/>
                    </a:moveTo>
                    <a:lnTo>
                      <a:pt x="280" y="1116"/>
                    </a:lnTo>
                    <a:lnTo>
                      <a:pt x="373" y="711"/>
                    </a:lnTo>
                    <a:lnTo>
                      <a:pt x="373" y="709"/>
                    </a:lnTo>
                    <a:lnTo>
                      <a:pt x="375" y="705"/>
                    </a:lnTo>
                    <a:lnTo>
                      <a:pt x="375" y="703"/>
                    </a:lnTo>
                    <a:lnTo>
                      <a:pt x="375" y="700"/>
                    </a:lnTo>
                    <a:lnTo>
                      <a:pt x="375" y="698"/>
                    </a:lnTo>
                    <a:lnTo>
                      <a:pt x="375" y="696"/>
                    </a:lnTo>
                    <a:lnTo>
                      <a:pt x="375" y="692"/>
                    </a:lnTo>
                    <a:lnTo>
                      <a:pt x="375" y="690"/>
                    </a:lnTo>
                    <a:lnTo>
                      <a:pt x="375" y="684"/>
                    </a:lnTo>
                    <a:lnTo>
                      <a:pt x="375" y="681"/>
                    </a:lnTo>
                    <a:lnTo>
                      <a:pt x="375" y="675"/>
                    </a:lnTo>
                    <a:lnTo>
                      <a:pt x="375" y="669"/>
                    </a:lnTo>
                    <a:lnTo>
                      <a:pt x="371" y="665"/>
                    </a:lnTo>
                    <a:lnTo>
                      <a:pt x="371" y="660"/>
                    </a:lnTo>
                    <a:lnTo>
                      <a:pt x="369" y="654"/>
                    </a:lnTo>
                    <a:lnTo>
                      <a:pt x="367" y="652"/>
                    </a:lnTo>
                    <a:lnTo>
                      <a:pt x="365" y="646"/>
                    </a:lnTo>
                    <a:lnTo>
                      <a:pt x="363" y="641"/>
                    </a:lnTo>
                    <a:lnTo>
                      <a:pt x="361" y="637"/>
                    </a:lnTo>
                    <a:lnTo>
                      <a:pt x="358" y="633"/>
                    </a:lnTo>
                    <a:lnTo>
                      <a:pt x="356" y="629"/>
                    </a:lnTo>
                    <a:lnTo>
                      <a:pt x="354" y="623"/>
                    </a:lnTo>
                    <a:lnTo>
                      <a:pt x="350" y="620"/>
                    </a:lnTo>
                    <a:lnTo>
                      <a:pt x="346" y="616"/>
                    </a:lnTo>
                    <a:lnTo>
                      <a:pt x="342" y="612"/>
                    </a:lnTo>
                    <a:lnTo>
                      <a:pt x="339" y="610"/>
                    </a:lnTo>
                    <a:lnTo>
                      <a:pt x="335" y="606"/>
                    </a:lnTo>
                    <a:lnTo>
                      <a:pt x="331" y="603"/>
                    </a:lnTo>
                    <a:lnTo>
                      <a:pt x="325" y="601"/>
                    </a:lnTo>
                    <a:lnTo>
                      <a:pt x="321" y="597"/>
                    </a:lnTo>
                    <a:lnTo>
                      <a:pt x="318" y="595"/>
                    </a:lnTo>
                    <a:lnTo>
                      <a:pt x="312" y="593"/>
                    </a:lnTo>
                    <a:lnTo>
                      <a:pt x="306" y="591"/>
                    </a:lnTo>
                    <a:lnTo>
                      <a:pt x="302" y="589"/>
                    </a:lnTo>
                    <a:lnTo>
                      <a:pt x="299" y="589"/>
                    </a:lnTo>
                    <a:lnTo>
                      <a:pt x="295" y="587"/>
                    </a:lnTo>
                    <a:lnTo>
                      <a:pt x="291" y="587"/>
                    </a:lnTo>
                    <a:lnTo>
                      <a:pt x="287" y="585"/>
                    </a:lnTo>
                    <a:lnTo>
                      <a:pt x="285" y="585"/>
                    </a:lnTo>
                    <a:lnTo>
                      <a:pt x="283" y="585"/>
                    </a:lnTo>
                    <a:lnTo>
                      <a:pt x="280" y="585"/>
                    </a:lnTo>
                    <a:lnTo>
                      <a:pt x="276" y="585"/>
                    </a:lnTo>
                    <a:lnTo>
                      <a:pt x="274" y="585"/>
                    </a:lnTo>
                    <a:lnTo>
                      <a:pt x="272" y="585"/>
                    </a:lnTo>
                    <a:lnTo>
                      <a:pt x="268" y="585"/>
                    </a:lnTo>
                    <a:lnTo>
                      <a:pt x="266" y="585"/>
                    </a:lnTo>
                    <a:lnTo>
                      <a:pt x="263" y="585"/>
                    </a:lnTo>
                    <a:lnTo>
                      <a:pt x="261" y="587"/>
                    </a:lnTo>
                    <a:lnTo>
                      <a:pt x="259" y="587"/>
                    </a:lnTo>
                    <a:lnTo>
                      <a:pt x="255" y="587"/>
                    </a:lnTo>
                    <a:lnTo>
                      <a:pt x="253" y="589"/>
                    </a:lnTo>
                    <a:lnTo>
                      <a:pt x="249" y="589"/>
                    </a:lnTo>
                    <a:lnTo>
                      <a:pt x="247" y="589"/>
                    </a:lnTo>
                    <a:lnTo>
                      <a:pt x="243" y="591"/>
                    </a:lnTo>
                    <a:lnTo>
                      <a:pt x="240" y="591"/>
                    </a:lnTo>
                    <a:lnTo>
                      <a:pt x="238" y="593"/>
                    </a:lnTo>
                    <a:lnTo>
                      <a:pt x="236" y="595"/>
                    </a:lnTo>
                    <a:lnTo>
                      <a:pt x="232" y="595"/>
                    </a:lnTo>
                    <a:lnTo>
                      <a:pt x="230" y="597"/>
                    </a:lnTo>
                    <a:lnTo>
                      <a:pt x="228" y="599"/>
                    </a:lnTo>
                    <a:lnTo>
                      <a:pt x="224" y="601"/>
                    </a:lnTo>
                    <a:lnTo>
                      <a:pt x="223" y="601"/>
                    </a:lnTo>
                    <a:lnTo>
                      <a:pt x="219" y="603"/>
                    </a:lnTo>
                    <a:lnTo>
                      <a:pt x="217" y="604"/>
                    </a:lnTo>
                    <a:lnTo>
                      <a:pt x="211" y="608"/>
                    </a:lnTo>
                    <a:lnTo>
                      <a:pt x="207" y="612"/>
                    </a:lnTo>
                    <a:lnTo>
                      <a:pt x="204" y="616"/>
                    </a:lnTo>
                    <a:lnTo>
                      <a:pt x="198" y="618"/>
                    </a:lnTo>
                    <a:lnTo>
                      <a:pt x="194" y="623"/>
                    </a:lnTo>
                    <a:lnTo>
                      <a:pt x="188" y="627"/>
                    </a:lnTo>
                    <a:lnTo>
                      <a:pt x="185" y="633"/>
                    </a:lnTo>
                    <a:lnTo>
                      <a:pt x="181" y="637"/>
                    </a:lnTo>
                    <a:lnTo>
                      <a:pt x="177" y="641"/>
                    </a:lnTo>
                    <a:lnTo>
                      <a:pt x="173" y="646"/>
                    </a:lnTo>
                    <a:lnTo>
                      <a:pt x="169" y="652"/>
                    </a:lnTo>
                    <a:lnTo>
                      <a:pt x="166" y="656"/>
                    </a:lnTo>
                    <a:lnTo>
                      <a:pt x="162" y="662"/>
                    </a:lnTo>
                    <a:lnTo>
                      <a:pt x="160" y="665"/>
                    </a:lnTo>
                    <a:lnTo>
                      <a:pt x="158" y="669"/>
                    </a:lnTo>
                    <a:lnTo>
                      <a:pt x="158" y="671"/>
                    </a:lnTo>
                    <a:lnTo>
                      <a:pt x="156" y="673"/>
                    </a:lnTo>
                    <a:lnTo>
                      <a:pt x="154" y="677"/>
                    </a:lnTo>
                    <a:lnTo>
                      <a:pt x="152" y="679"/>
                    </a:lnTo>
                    <a:lnTo>
                      <a:pt x="152" y="681"/>
                    </a:lnTo>
                    <a:lnTo>
                      <a:pt x="150" y="684"/>
                    </a:lnTo>
                    <a:lnTo>
                      <a:pt x="150" y="688"/>
                    </a:lnTo>
                    <a:lnTo>
                      <a:pt x="146" y="694"/>
                    </a:lnTo>
                    <a:lnTo>
                      <a:pt x="145" y="701"/>
                    </a:lnTo>
                    <a:lnTo>
                      <a:pt x="143" y="709"/>
                    </a:lnTo>
                    <a:lnTo>
                      <a:pt x="139" y="717"/>
                    </a:lnTo>
                    <a:lnTo>
                      <a:pt x="137" y="724"/>
                    </a:lnTo>
                    <a:lnTo>
                      <a:pt x="135" y="732"/>
                    </a:lnTo>
                    <a:lnTo>
                      <a:pt x="131" y="739"/>
                    </a:lnTo>
                    <a:lnTo>
                      <a:pt x="129" y="747"/>
                    </a:lnTo>
                    <a:lnTo>
                      <a:pt x="126" y="755"/>
                    </a:lnTo>
                    <a:lnTo>
                      <a:pt x="124" y="760"/>
                    </a:lnTo>
                    <a:lnTo>
                      <a:pt x="122" y="768"/>
                    </a:lnTo>
                    <a:lnTo>
                      <a:pt x="120" y="776"/>
                    </a:lnTo>
                    <a:lnTo>
                      <a:pt x="116" y="781"/>
                    </a:lnTo>
                    <a:lnTo>
                      <a:pt x="114" y="789"/>
                    </a:lnTo>
                    <a:lnTo>
                      <a:pt x="112" y="796"/>
                    </a:lnTo>
                    <a:lnTo>
                      <a:pt x="110" y="804"/>
                    </a:lnTo>
                    <a:lnTo>
                      <a:pt x="107" y="812"/>
                    </a:lnTo>
                    <a:lnTo>
                      <a:pt x="107" y="817"/>
                    </a:lnTo>
                    <a:lnTo>
                      <a:pt x="103" y="823"/>
                    </a:lnTo>
                    <a:lnTo>
                      <a:pt x="101" y="831"/>
                    </a:lnTo>
                    <a:lnTo>
                      <a:pt x="97" y="836"/>
                    </a:lnTo>
                    <a:lnTo>
                      <a:pt x="97" y="844"/>
                    </a:lnTo>
                    <a:lnTo>
                      <a:pt x="93" y="852"/>
                    </a:lnTo>
                    <a:lnTo>
                      <a:pt x="93" y="857"/>
                    </a:lnTo>
                    <a:lnTo>
                      <a:pt x="89" y="865"/>
                    </a:lnTo>
                    <a:lnTo>
                      <a:pt x="88" y="871"/>
                    </a:lnTo>
                    <a:lnTo>
                      <a:pt x="86" y="878"/>
                    </a:lnTo>
                    <a:lnTo>
                      <a:pt x="84" y="884"/>
                    </a:lnTo>
                    <a:lnTo>
                      <a:pt x="82" y="892"/>
                    </a:lnTo>
                    <a:lnTo>
                      <a:pt x="80" y="899"/>
                    </a:lnTo>
                    <a:lnTo>
                      <a:pt x="78" y="907"/>
                    </a:lnTo>
                    <a:lnTo>
                      <a:pt x="74" y="912"/>
                    </a:lnTo>
                    <a:lnTo>
                      <a:pt x="72" y="920"/>
                    </a:lnTo>
                    <a:lnTo>
                      <a:pt x="72" y="926"/>
                    </a:lnTo>
                    <a:lnTo>
                      <a:pt x="68" y="931"/>
                    </a:lnTo>
                    <a:lnTo>
                      <a:pt x="67" y="939"/>
                    </a:lnTo>
                    <a:lnTo>
                      <a:pt x="65" y="945"/>
                    </a:lnTo>
                    <a:lnTo>
                      <a:pt x="63" y="952"/>
                    </a:lnTo>
                    <a:lnTo>
                      <a:pt x="59" y="958"/>
                    </a:lnTo>
                    <a:lnTo>
                      <a:pt x="57" y="966"/>
                    </a:lnTo>
                    <a:lnTo>
                      <a:pt x="55" y="971"/>
                    </a:lnTo>
                    <a:lnTo>
                      <a:pt x="53" y="979"/>
                    </a:lnTo>
                    <a:lnTo>
                      <a:pt x="51" y="987"/>
                    </a:lnTo>
                    <a:lnTo>
                      <a:pt x="49" y="994"/>
                    </a:lnTo>
                    <a:lnTo>
                      <a:pt x="48" y="1000"/>
                    </a:lnTo>
                    <a:lnTo>
                      <a:pt x="46" y="1007"/>
                    </a:lnTo>
                    <a:lnTo>
                      <a:pt x="44" y="1015"/>
                    </a:lnTo>
                    <a:lnTo>
                      <a:pt x="42" y="1021"/>
                    </a:lnTo>
                    <a:lnTo>
                      <a:pt x="42" y="1028"/>
                    </a:lnTo>
                    <a:lnTo>
                      <a:pt x="38" y="1036"/>
                    </a:lnTo>
                    <a:lnTo>
                      <a:pt x="36" y="1042"/>
                    </a:lnTo>
                    <a:lnTo>
                      <a:pt x="36" y="1049"/>
                    </a:lnTo>
                    <a:lnTo>
                      <a:pt x="34" y="1057"/>
                    </a:lnTo>
                    <a:lnTo>
                      <a:pt x="30" y="1063"/>
                    </a:lnTo>
                    <a:lnTo>
                      <a:pt x="30" y="1070"/>
                    </a:lnTo>
                    <a:lnTo>
                      <a:pt x="29" y="1078"/>
                    </a:lnTo>
                    <a:lnTo>
                      <a:pt x="27" y="1085"/>
                    </a:lnTo>
                    <a:lnTo>
                      <a:pt x="25" y="1093"/>
                    </a:lnTo>
                    <a:lnTo>
                      <a:pt x="23" y="1101"/>
                    </a:lnTo>
                    <a:lnTo>
                      <a:pt x="21" y="1108"/>
                    </a:lnTo>
                    <a:lnTo>
                      <a:pt x="19" y="1116"/>
                    </a:lnTo>
                    <a:lnTo>
                      <a:pt x="17" y="1123"/>
                    </a:lnTo>
                    <a:lnTo>
                      <a:pt x="17" y="1131"/>
                    </a:lnTo>
                    <a:lnTo>
                      <a:pt x="15" y="1139"/>
                    </a:lnTo>
                    <a:lnTo>
                      <a:pt x="13" y="1148"/>
                    </a:lnTo>
                    <a:lnTo>
                      <a:pt x="10" y="1158"/>
                    </a:lnTo>
                    <a:lnTo>
                      <a:pt x="10" y="1165"/>
                    </a:lnTo>
                    <a:lnTo>
                      <a:pt x="8" y="1175"/>
                    </a:lnTo>
                    <a:lnTo>
                      <a:pt x="6" y="1182"/>
                    </a:lnTo>
                    <a:lnTo>
                      <a:pt x="6" y="1192"/>
                    </a:lnTo>
                    <a:lnTo>
                      <a:pt x="4" y="1201"/>
                    </a:lnTo>
                    <a:lnTo>
                      <a:pt x="2" y="1211"/>
                    </a:lnTo>
                    <a:lnTo>
                      <a:pt x="2" y="1218"/>
                    </a:lnTo>
                    <a:lnTo>
                      <a:pt x="0" y="1230"/>
                    </a:lnTo>
                    <a:lnTo>
                      <a:pt x="0" y="1237"/>
                    </a:lnTo>
                    <a:lnTo>
                      <a:pt x="0" y="1247"/>
                    </a:lnTo>
                    <a:lnTo>
                      <a:pt x="0" y="1257"/>
                    </a:lnTo>
                    <a:lnTo>
                      <a:pt x="0" y="1268"/>
                    </a:lnTo>
                    <a:lnTo>
                      <a:pt x="0" y="1276"/>
                    </a:lnTo>
                    <a:lnTo>
                      <a:pt x="0" y="1285"/>
                    </a:lnTo>
                    <a:lnTo>
                      <a:pt x="0" y="1296"/>
                    </a:lnTo>
                    <a:lnTo>
                      <a:pt x="0" y="1304"/>
                    </a:lnTo>
                    <a:lnTo>
                      <a:pt x="0" y="1314"/>
                    </a:lnTo>
                    <a:lnTo>
                      <a:pt x="0" y="1323"/>
                    </a:lnTo>
                    <a:lnTo>
                      <a:pt x="0" y="1333"/>
                    </a:lnTo>
                    <a:lnTo>
                      <a:pt x="2" y="1342"/>
                    </a:lnTo>
                    <a:lnTo>
                      <a:pt x="2" y="1352"/>
                    </a:lnTo>
                    <a:lnTo>
                      <a:pt x="4" y="1363"/>
                    </a:lnTo>
                    <a:lnTo>
                      <a:pt x="4" y="1371"/>
                    </a:lnTo>
                    <a:lnTo>
                      <a:pt x="6" y="1382"/>
                    </a:lnTo>
                    <a:lnTo>
                      <a:pt x="8" y="1390"/>
                    </a:lnTo>
                    <a:lnTo>
                      <a:pt x="8" y="1401"/>
                    </a:lnTo>
                    <a:lnTo>
                      <a:pt x="10" y="1409"/>
                    </a:lnTo>
                    <a:lnTo>
                      <a:pt x="11" y="1420"/>
                    </a:lnTo>
                    <a:lnTo>
                      <a:pt x="13" y="1429"/>
                    </a:lnTo>
                    <a:lnTo>
                      <a:pt x="15" y="1439"/>
                    </a:lnTo>
                    <a:lnTo>
                      <a:pt x="17" y="1448"/>
                    </a:lnTo>
                    <a:lnTo>
                      <a:pt x="19" y="1458"/>
                    </a:lnTo>
                    <a:lnTo>
                      <a:pt x="21" y="1468"/>
                    </a:lnTo>
                    <a:lnTo>
                      <a:pt x="23" y="1477"/>
                    </a:lnTo>
                    <a:lnTo>
                      <a:pt x="27" y="1487"/>
                    </a:lnTo>
                    <a:lnTo>
                      <a:pt x="29" y="1496"/>
                    </a:lnTo>
                    <a:lnTo>
                      <a:pt x="30" y="1506"/>
                    </a:lnTo>
                    <a:lnTo>
                      <a:pt x="34" y="1515"/>
                    </a:lnTo>
                    <a:lnTo>
                      <a:pt x="36" y="1525"/>
                    </a:lnTo>
                    <a:lnTo>
                      <a:pt x="38" y="1534"/>
                    </a:lnTo>
                    <a:lnTo>
                      <a:pt x="42" y="1544"/>
                    </a:lnTo>
                    <a:lnTo>
                      <a:pt x="46" y="1553"/>
                    </a:lnTo>
                    <a:lnTo>
                      <a:pt x="48" y="1561"/>
                    </a:lnTo>
                    <a:lnTo>
                      <a:pt x="51" y="1572"/>
                    </a:lnTo>
                    <a:lnTo>
                      <a:pt x="55" y="1580"/>
                    </a:lnTo>
                    <a:lnTo>
                      <a:pt x="59" y="1589"/>
                    </a:lnTo>
                    <a:lnTo>
                      <a:pt x="63" y="1599"/>
                    </a:lnTo>
                    <a:lnTo>
                      <a:pt x="67" y="1608"/>
                    </a:lnTo>
                    <a:lnTo>
                      <a:pt x="68" y="1616"/>
                    </a:lnTo>
                    <a:lnTo>
                      <a:pt x="74" y="1627"/>
                    </a:lnTo>
                    <a:lnTo>
                      <a:pt x="78" y="1635"/>
                    </a:lnTo>
                    <a:lnTo>
                      <a:pt x="82" y="1644"/>
                    </a:lnTo>
                    <a:lnTo>
                      <a:pt x="86" y="1652"/>
                    </a:lnTo>
                    <a:lnTo>
                      <a:pt x="89" y="1661"/>
                    </a:lnTo>
                    <a:lnTo>
                      <a:pt x="95" y="1669"/>
                    </a:lnTo>
                    <a:lnTo>
                      <a:pt x="99" y="1679"/>
                    </a:lnTo>
                    <a:lnTo>
                      <a:pt x="103" y="1688"/>
                    </a:lnTo>
                    <a:lnTo>
                      <a:pt x="108" y="1696"/>
                    </a:lnTo>
                    <a:lnTo>
                      <a:pt x="114" y="1703"/>
                    </a:lnTo>
                    <a:lnTo>
                      <a:pt x="118" y="1713"/>
                    </a:lnTo>
                    <a:lnTo>
                      <a:pt x="124" y="1722"/>
                    </a:lnTo>
                    <a:lnTo>
                      <a:pt x="127" y="1732"/>
                    </a:lnTo>
                    <a:lnTo>
                      <a:pt x="131" y="1736"/>
                    </a:lnTo>
                    <a:lnTo>
                      <a:pt x="135" y="1739"/>
                    </a:lnTo>
                    <a:lnTo>
                      <a:pt x="135" y="1743"/>
                    </a:lnTo>
                    <a:lnTo>
                      <a:pt x="137" y="1745"/>
                    </a:lnTo>
                    <a:lnTo>
                      <a:pt x="139" y="1747"/>
                    </a:lnTo>
                    <a:lnTo>
                      <a:pt x="141" y="1751"/>
                    </a:lnTo>
                    <a:lnTo>
                      <a:pt x="143" y="1755"/>
                    </a:lnTo>
                    <a:lnTo>
                      <a:pt x="143" y="1756"/>
                    </a:lnTo>
                    <a:lnTo>
                      <a:pt x="145" y="1760"/>
                    </a:lnTo>
                    <a:lnTo>
                      <a:pt x="146" y="1762"/>
                    </a:lnTo>
                    <a:lnTo>
                      <a:pt x="148" y="1766"/>
                    </a:lnTo>
                    <a:lnTo>
                      <a:pt x="150" y="1768"/>
                    </a:lnTo>
                    <a:lnTo>
                      <a:pt x="152" y="1770"/>
                    </a:lnTo>
                    <a:lnTo>
                      <a:pt x="156" y="1774"/>
                    </a:lnTo>
                    <a:lnTo>
                      <a:pt x="158" y="1777"/>
                    </a:lnTo>
                    <a:lnTo>
                      <a:pt x="160" y="1779"/>
                    </a:lnTo>
                    <a:lnTo>
                      <a:pt x="160" y="1783"/>
                    </a:lnTo>
                    <a:lnTo>
                      <a:pt x="162" y="1787"/>
                    </a:lnTo>
                    <a:lnTo>
                      <a:pt x="166" y="1789"/>
                    </a:lnTo>
                    <a:lnTo>
                      <a:pt x="166" y="1791"/>
                    </a:lnTo>
                    <a:lnTo>
                      <a:pt x="167" y="1794"/>
                    </a:lnTo>
                    <a:lnTo>
                      <a:pt x="169" y="1796"/>
                    </a:lnTo>
                    <a:lnTo>
                      <a:pt x="171" y="1800"/>
                    </a:lnTo>
                    <a:lnTo>
                      <a:pt x="173" y="1802"/>
                    </a:lnTo>
                    <a:lnTo>
                      <a:pt x="175" y="1806"/>
                    </a:lnTo>
                    <a:lnTo>
                      <a:pt x="177" y="1808"/>
                    </a:lnTo>
                    <a:lnTo>
                      <a:pt x="179" y="1812"/>
                    </a:lnTo>
                    <a:lnTo>
                      <a:pt x="181" y="1815"/>
                    </a:lnTo>
                    <a:lnTo>
                      <a:pt x="183" y="1817"/>
                    </a:lnTo>
                    <a:lnTo>
                      <a:pt x="185" y="1821"/>
                    </a:lnTo>
                    <a:lnTo>
                      <a:pt x="188" y="1827"/>
                    </a:lnTo>
                    <a:lnTo>
                      <a:pt x="190" y="1831"/>
                    </a:lnTo>
                    <a:lnTo>
                      <a:pt x="194" y="1836"/>
                    </a:lnTo>
                    <a:lnTo>
                      <a:pt x="198" y="1842"/>
                    </a:lnTo>
                    <a:lnTo>
                      <a:pt x="200" y="1846"/>
                    </a:lnTo>
                    <a:lnTo>
                      <a:pt x="204" y="1850"/>
                    </a:lnTo>
                    <a:lnTo>
                      <a:pt x="205" y="1853"/>
                    </a:lnTo>
                    <a:lnTo>
                      <a:pt x="207" y="1859"/>
                    </a:lnTo>
                    <a:lnTo>
                      <a:pt x="209" y="1861"/>
                    </a:lnTo>
                    <a:lnTo>
                      <a:pt x="211" y="1863"/>
                    </a:lnTo>
                    <a:lnTo>
                      <a:pt x="213" y="1867"/>
                    </a:lnTo>
                    <a:lnTo>
                      <a:pt x="215" y="1869"/>
                    </a:lnTo>
                    <a:lnTo>
                      <a:pt x="217" y="1870"/>
                    </a:lnTo>
                    <a:lnTo>
                      <a:pt x="219" y="1874"/>
                    </a:lnTo>
                    <a:lnTo>
                      <a:pt x="141" y="2163"/>
                    </a:lnTo>
                    <a:lnTo>
                      <a:pt x="143" y="2165"/>
                    </a:lnTo>
                    <a:lnTo>
                      <a:pt x="146" y="2165"/>
                    </a:lnTo>
                    <a:lnTo>
                      <a:pt x="150" y="2167"/>
                    </a:lnTo>
                    <a:lnTo>
                      <a:pt x="152" y="2167"/>
                    </a:lnTo>
                    <a:lnTo>
                      <a:pt x="154" y="2167"/>
                    </a:lnTo>
                    <a:lnTo>
                      <a:pt x="158" y="2167"/>
                    </a:lnTo>
                    <a:lnTo>
                      <a:pt x="162" y="2171"/>
                    </a:lnTo>
                    <a:lnTo>
                      <a:pt x="166" y="2171"/>
                    </a:lnTo>
                    <a:lnTo>
                      <a:pt x="167" y="2173"/>
                    </a:lnTo>
                    <a:lnTo>
                      <a:pt x="171" y="2173"/>
                    </a:lnTo>
                    <a:lnTo>
                      <a:pt x="175" y="2175"/>
                    </a:lnTo>
                    <a:lnTo>
                      <a:pt x="181" y="2175"/>
                    </a:lnTo>
                    <a:lnTo>
                      <a:pt x="185" y="2175"/>
                    </a:lnTo>
                    <a:lnTo>
                      <a:pt x="188" y="2177"/>
                    </a:lnTo>
                    <a:lnTo>
                      <a:pt x="194" y="2180"/>
                    </a:lnTo>
                    <a:lnTo>
                      <a:pt x="198" y="2180"/>
                    </a:lnTo>
                    <a:lnTo>
                      <a:pt x="204" y="2182"/>
                    </a:lnTo>
                    <a:lnTo>
                      <a:pt x="209" y="2182"/>
                    </a:lnTo>
                    <a:lnTo>
                      <a:pt x="215" y="2184"/>
                    </a:lnTo>
                    <a:lnTo>
                      <a:pt x="219" y="2186"/>
                    </a:lnTo>
                    <a:lnTo>
                      <a:pt x="224" y="2188"/>
                    </a:lnTo>
                    <a:lnTo>
                      <a:pt x="232" y="2188"/>
                    </a:lnTo>
                    <a:lnTo>
                      <a:pt x="238" y="2190"/>
                    </a:lnTo>
                    <a:lnTo>
                      <a:pt x="243" y="2190"/>
                    </a:lnTo>
                    <a:lnTo>
                      <a:pt x="251" y="2192"/>
                    </a:lnTo>
                    <a:lnTo>
                      <a:pt x="257" y="2194"/>
                    </a:lnTo>
                    <a:lnTo>
                      <a:pt x="264" y="2194"/>
                    </a:lnTo>
                    <a:lnTo>
                      <a:pt x="270" y="2196"/>
                    </a:lnTo>
                    <a:lnTo>
                      <a:pt x="276" y="2196"/>
                    </a:lnTo>
                    <a:lnTo>
                      <a:pt x="283" y="2197"/>
                    </a:lnTo>
                    <a:lnTo>
                      <a:pt x="291" y="2199"/>
                    </a:lnTo>
                    <a:lnTo>
                      <a:pt x="297" y="2199"/>
                    </a:lnTo>
                    <a:lnTo>
                      <a:pt x="304" y="2199"/>
                    </a:lnTo>
                    <a:lnTo>
                      <a:pt x="312" y="2199"/>
                    </a:lnTo>
                    <a:lnTo>
                      <a:pt x="320" y="2201"/>
                    </a:lnTo>
                    <a:lnTo>
                      <a:pt x="325" y="2201"/>
                    </a:lnTo>
                    <a:lnTo>
                      <a:pt x="333" y="2201"/>
                    </a:lnTo>
                    <a:lnTo>
                      <a:pt x="341" y="2201"/>
                    </a:lnTo>
                    <a:lnTo>
                      <a:pt x="348" y="2201"/>
                    </a:lnTo>
                    <a:lnTo>
                      <a:pt x="356" y="2201"/>
                    </a:lnTo>
                    <a:lnTo>
                      <a:pt x="363" y="2201"/>
                    </a:lnTo>
                    <a:lnTo>
                      <a:pt x="371" y="2201"/>
                    </a:lnTo>
                    <a:lnTo>
                      <a:pt x="379" y="2201"/>
                    </a:lnTo>
                    <a:lnTo>
                      <a:pt x="386" y="2201"/>
                    </a:lnTo>
                    <a:lnTo>
                      <a:pt x="394" y="2201"/>
                    </a:lnTo>
                    <a:lnTo>
                      <a:pt x="401" y="2199"/>
                    </a:lnTo>
                    <a:lnTo>
                      <a:pt x="409" y="2199"/>
                    </a:lnTo>
                    <a:lnTo>
                      <a:pt x="415" y="2197"/>
                    </a:lnTo>
                    <a:lnTo>
                      <a:pt x="422" y="2196"/>
                    </a:lnTo>
                    <a:lnTo>
                      <a:pt x="432" y="2196"/>
                    </a:lnTo>
                    <a:lnTo>
                      <a:pt x="439" y="2194"/>
                    </a:lnTo>
                    <a:lnTo>
                      <a:pt x="447" y="2192"/>
                    </a:lnTo>
                    <a:lnTo>
                      <a:pt x="455" y="2190"/>
                    </a:lnTo>
                    <a:lnTo>
                      <a:pt x="462" y="2188"/>
                    </a:lnTo>
                    <a:lnTo>
                      <a:pt x="470" y="2188"/>
                    </a:lnTo>
                    <a:lnTo>
                      <a:pt x="476" y="2184"/>
                    </a:lnTo>
                    <a:lnTo>
                      <a:pt x="483" y="2182"/>
                    </a:lnTo>
                    <a:lnTo>
                      <a:pt x="491" y="2180"/>
                    </a:lnTo>
                    <a:lnTo>
                      <a:pt x="498" y="2175"/>
                    </a:lnTo>
                    <a:lnTo>
                      <a:pt x="504" y="2173"/>
                    </a:lnTo>
                    <a:lnTo>
                      <a:pt x="512" y="2169"/>
                    </a:lnTo>
                    <a:lnTo>
                      <a:pt x="517" y="2165"/>
                    </a:lnTo>
                    <a:lnTo>
                      <a:pt x="525" y="2161"/>
                    </a:lnTo>
                    <a:lnTo>
                      <a:pt x="531" y="2158"/>
                    </a:lnTo>
                    <a:lnTo>
                      <a:pt x="536" y="2154"/>
                    </a:lnTo>
                    <a:lnTo>
                      <a:pt x="542" y="2150"/>
                    </a:lnTo>
                    <a:lnTo>
                      <a:pt x="550" y="2146"/>
                    </a:lnTo>
                    <a:lnTo>
                      <a:pt x="555" y="2142"/>
                    </a:lnTo>
                    <a:lnTo>
                      <a:pt x="559" y="2137"/>
                    </a:lnTo>
                    <a:lnTo>
                      <a:pt x="565" y="2133"/>
                    </a:lnTo>
                    <a:lnTo>
                      <a:pt x="571" y="2129"/>
                    </a:lnTo>
                    <a:lnTo>
                      <a:pt x="576" y="2123"/>
                    </a:lnTo>
                    <a:lnTo>
                      <a:pt x="582" y="2120"/>
                    </a:lnTo>
                    <a:lnTo>
                      <a:pt x="588" y="2114"/>
                    </a:lnTo>
                    <a:lnTo>
                      <a:pt x="592" y="2110"/>
                    </a:lnTo>
                    <a:lnTo>
                      <a:pt x="595" y="2106"/>
                    </a:lnTo>
                    <a:lnTo>
                      <a:pt x="601" y="2101"/>
                    </a:lnTo>
                    <a:lnTo>
                      <a:pt x="605" y="2095"/>
                    </a:lnTo>
                    <a:lnTo>
                      <a:pt x="611" y="2091"/>
                    </a:lnTo>
                    <a:lnTo>
                      <a:pt x="614" y="2085"/>
                    </a:lnTo>
                    <a:lnTo>
                      <a:pt x="618" y="2080"/>
                    </a:lnTo>
                    <a:lnTo>
                      <a:pt x="624" y="2076"/>
                    </a:lnTo>
                    <a:lnTo>
                      <a:pt x="628" y="2070"/>
                    </a:lnTo>
                    <a:lnTo>
                      <a:pt x="632" y="2064"/>
                    </a:lnTo>
                    <a:lnTo>
                      <a:pt x="635" y="2059"/>
                    </a:lnTo>
                    <a:lnTo>
                      <a:pt x="637" y="2055"/>
                    </a:lnTo>
                    <a:lnTo>
                      <a:pt x="643" y="2049"/>
                    </a:lnTo>
                    <a:lnTo>
                      <a:pt x="645" y="2043"/>
                    </a:lnTo>
                    <a:lnTo>
                      <a:pt x="649" y="2040"/>
                    </a:lnTo>
                    <a:lnTo>
                      <a:pt x="652" y="2034"/>
                    </a:lnTo>
                    <a:lnTo>
                      <a:pt x="654" y="2030"/>
                    </a:lnTo>
                    <a:lnTo>
                      <a:pt x="658" y="2024"/>
                    </a:lnTo>
                    <a:lnTo>
                      <a:pt x="660" y="2021"/>
                    </a:lnTo>
                    <a:lnTo>
                      <a:pt x="664" y="2015"/>
                    </a:lnTo>
                    <a:lnTo>
                      <a:pt x="666" y="2011"/>
                    </a:lnTo>
                    <a:lnTo>
                      <a:pt x="668" y="2005"/>
                    </a:lnTo>
                    <a:lnTo>
                      <a:pt x="672" y="2002"/>
                    </a:lnTo>
                    <a:lnTo>
                      <a:pt x="673" y="1998"/>
                    </a:lnTo>
                    <a:lnTo>
                      <a:pt x="675" y="1992"/>
                    </a:lnTo>
                    <a:lnTo>
                      <a:pt x="677" y="1986"/>
                    </a:lnTo>
                    <a:lnTo>
                      <a:pt x="679" y="1983"/>
                    </a:lnTo>
                    <a:lnTo>
                      <a:pt x="681" y="1979"/>
                    </a:lnTo>
                    <a:lnTo>
                      <a:pt x="683" y="1975"/>
                    </a:lnTo>
                    <a:lnTo>
                      <a:pt x="685" y="1971"/>
                    </a:lnTo>
                    <a:lnTo>
                      <a:pt x="687" y="1969"/>
                    </a:lnTo>
                    <a:lnTo>
                      <a:pt x="689" y="1964"/>
                    </a:lnTo>
                    <a:lnTo>
                      <a:pt x="691" y="1962"/>
                    </a:lnTo>
                    <a:lnTo>
                      <a:pt x="692" y="1958"/>
                    </a:lnTo>
                    <a:lnTo>
                      <a:pt x="692" y="1954"/>
                    </a:lnTo>
                    <a:lnTo>
                      <a:pt x="692" y="1952"/>
                    </a:lnTo>
                    <a:lnTo>
                      <a:pt x="694" y="1950"/>
                    </a:lnTo>
                    <a:lnTo>
                      <a:pt x="696" y="1945"/>
                    </a:lnTo>
                    <a:lnTo>
                      <a:pt x="698" y="1941"/>
                    </a:lnTo>
                    <a:lnTo>
                      <a:pt x="700" y="1937"/>
                    </a:lnTo>
                    <a:lnTo>
                      <a:pt x="700" y="1935"/>
                    </a:lnTo>
                    <a:lnTo>
                      <a:pt x="700" y="1933"/>
                    </a:lnTo>
                    <a:lnTo>
                      <a:pt x="702" y="1933"/>
                    </a:lnTo>
                    <a:lnTo>
                      <a:pt x="740" y="1943"/>
                    </a:lnTo>
                    <a:lnTo>
                      <a:pt x="740" y="1943"/>
                    </a:lnTo>
                    <a:lnTo>
                      <a:pt x="738" y="1945"/>
                    </a:lnTo>
                    <a:lnTo>
                      <a:pt x="738" y="1947"/>
                    </a:lnTo>
                    <a:lnTo>
                      <a:pt x="738" y="1950"/>
                    </a:lnTo>
                    <a:lnTo>
                      <a:pt x="738" y="1954"/>
                    </a:lnTo>
                    <a:lnTo>
                      <a:pt x="738" y="1958"/>
                    </a:lnTo>
                    <a:lnTo>
                      <a:pt x="736" y="1962"/>
                    </a:lnTo>
                    <a:lnTo>
                      <a:pt x="736" y="1964"/>
                    </a:lnTo>
                    <a:lnTo>
                      <a:pt x="736" y="1967"/>
                    </a:lnTo>
                    <a:lnTo>
                      <a:pt x="736" y="1971"/>
                    </a:lnTo>
                    <a:lnTo>
                      <a:pt x="736" y="1975"/>
                    </a:lnTo>
                    <a:lnTo>
                      <a:pt x="736" y="1979"/>
                    </a:lnTo>
                    <a:lnTo>
                      <a:pt x="736" y="1983"/>
                    </a:lnTo>
                    <a:lnTo>
                      <a:pt x="736" y="1985"/>
                    </a:lnTo>
                    <a:lnTo>
                      <a:pt x="736" y="1990"/>
                    </a:lnTo>
                    <a:lnTo>
                      <a:pt x="736" y="1994"/>
                    </a:lnTo>
                    <a:lnTo>
                      <a:pt x="736" y="1998"/>
                    </a:lnTo>
                    <a:lnTo>
                      <a:pt x="736" y="2004"/>
                    </a:lnTo>
                    <a:lnTo>
                      <a:pt x="736" y="2007"/>
                    </a:lnTo>
                    <a:lnTo>
                      <a:pt x="736" y="2013"/>
                    </a:lnTo>
                    <a:lnTo>
                      <a:pt x="736" y="2015"/>
                    </a:lnTo>
                    <a:lnTo>
                      <a:pt x="736" y="2021"/>
                    </a:lnTo>
                    <a:lnTo>
                      <a:pt x="736" y="2026"/>
                    </a:lnTo>
                    <a:lnTo>
                      <a:pt x="736" y="2030"/>
                    </a:lnTo>
                    <a:lnTo>
                      <a:pt x="736" y="2036"/>
                    </a:lnTo>
                    <a:lnTo>
                      <a:pt x="736" y="2042"/>
                    </a:lnTo>
                    <a:lnTo>
                      <a:pt x="736" y="2047"/>
                    </a:lnTo>
                    <a:lnTo>
                      <a:pt x="738" y="2051"/>
                    </a:lnTo>
                    <a:lnTo>
                      <a:pt x="738" y="2057"/>
                    </a:lnTo>
                    <a:lnTo>
                      <a:pt x="738" y="2062"/>
                    </a:lnTo>
                    <a:lnTo>
                      <a:pt x="740" y="2066"/>
                    </a:lnTo>
                    <a:lnTo>
                      <a:pt x="740" y="2072"/>
                    </a:lnTo>
                    <a:lnTo>
                      <a:pt x="742" y="2078"/>
                    </a:lnTo>
                    <a:lnTo>
                      <a:pt x="744" y="2083"/>
                    </a:lnTo>
                    <a:lnTo>
                      <a:pt x="744" y="2091"/>
                    </a:lnTo>
                    <a:lnTo>
                      <a:pt x="746" y="2095"/>
                    </a:lnTo>
                    <a:lnTo>
                      <a:pt x="748" y="2101"/>
                    </a:lnTo>
                    <a:lnTo>
                      <a:pt x="748" y="2106"/>
                    </a:lnTo>
                    <a:lnTo>
                      <a:pt x="751" y="2110"/>
                    </a:lnTo>
                    <a:lnTo>
                      <a:pt x="753" y="2118"/>
                    </a:lnTo>
                    <a:lnTo>
                      <a:pt x="753" y="2123"/>
                    </a:lnTo>
                    <a:lnTo>
                      <a:pt x="757" y="2129"/>
                    </a:lnTo>
                    <a:lnTo>
                      <a:pt x="759" y="2135"/>
                    </a:lnTo>
                    <a:lnTo>
                      <a:pt x="761" y="2139"/>
                    </a:lnTo>
                    <a:lnTo>
                      <a:pt x="765" y="2144"/>
                    </a:lnTo>
                    <a:lnTo>
                      <a:pt x="767" y="2150"/>
                    </a:lnTo>
                    <a:lnTo>
                      <a:pt x="769" y="2156"/>
                    </a:lnTo>
                    <a:lnTo>
                      <a:pt x="772" y="2159"/>
                    </a:lnTo>
                    <a:lnTo>
                      <a:pt x="776" y="2165"/>
                    </a:lnTo>
                    <a:lnTo>
                      <a:pt x="780" y="2171"/>
                    </a:lnTo>
                    <a:lnTo>
                      <a:pt x="782" y="2175"/>
                    </a:lnTo>
                    <a:lnTo>
                      <a:pt x="786" y="2180"/>
                    </a:lnTo>
                    <a:lnTo>
                      <a:pt x="789" y="2186"/>
                    </a:lnTo>
                    <a:lnTo>
                      <a:pt x="795" y="2190"/>
                    </a:lnTo>
                    <a:lnTo>
                      <a:pt x="799" y="2196"/>
                    </a:lnTo>
                    <a:lnTo>
                      <a:pt x="805" y="2201"/>
                    </a:lnTo>
                    <a:lnTo>
                      <a:pt x="808" y="2205"/>
                    </a:lnTo>
                    <a:lnTo>
                      <a:pt x="814" y="2209"/>
                    </a:lnTo>
                    <a:lnTo>
                      <a:pt x="818" y="2213"/>
                    </a:lnTo>
                    <a:lnTo>
                      <a:pt x="824" y="2216"/>
                    </a:lnTo>
                    <a:lnTo>
                      <a:pt x="828" y="2222"/>
                    </a:lnTo>
                    <a:lnTo>
                      <a:pt x="833" y="2224"/>
                    </a:lnTo>
                    <a:lnTo>
                      <a:pt x="839" y="2228"/>
                    </a:lnTo>
                    <a:lnTo>
                      <a:pt x="845" y="2232"/>
                    </a:lnTo>
                    <a:lnTo>
                      <a:pt x="848" y="2235"/>
                    </a:lnTo>
                    <a:lnTo>
                      <a:pt x="854" y="2239"/>
                    </a:lnTo>
                    <a:lnTo>
                      <a:pt x="858" y="2243"/>
                    </a:lnTo>
                    <a:lnTo>
                      <a:pt x="864" y="2245"/>
                    </a:lnTo>
                    <a:lnTo>
                      <a:pt x="867" y="2249"/>
                    </a:lnTo>
                    <a:lnTo>
                      <a:pt x="873" y="2253"/>
                    </a:lnTo>
                    <a:lnTo>
                      <a:pt x="877" y="2256"/>
                    </a:lnTo>
                    <a:lnTo>
                      <a:pt x="883" y="2258"/>
                    </a:lnTo>
                    <a:lnTo>
                      <a:pt x="890" y="2260"/>
                    </a:lnTo>
                    <a:lnTo>
                      <a:pt x="896" y="2264"/>
                    </a:lnTo>
                    <a:lnTo>
                      <a:pt x="900" y="2266"/>
                    </a:lnTo>
                    <a:lnTo>
                      <a:pt x="904" y="2268"/>
                    </a:lnTo>
                    <a:lnTo>
                      <a:pt x="907" y="2270"/>
                    </a:lnTo>
                    <a:lnTo>
                      <a:pt x="913" y="2273"/>
                    </a:lnTo>
                    <a:lnTo>
                      <a:pt x="919" y="2275"/>
                    </a:lnTo>
                    <a:lnTo>
                      <a:pt x="925" y="2277"/>
                    </a:lnTo>
                    <a:lnTo>
                      <a:pt x="928" y="2279"/>
                    </a:lnTo>
                    <a:lnTo>
                      <a:pt x="934" y="2281"/>
                    </a:lnTo>
                    <a:lnTo>
                      <a:pt x="938" y="2283"/>
                    </a:lnTo>
                    <a:lnTo>
                      <a:pt x="942" y="2285"/>
                    </a:lnTo>
                    <a:lnTo>
                      <a:pt x="947" y="2287"/>
                    </a:lnTo>
                    <a:lnTo>
                      <a:pt x="951" y="2289"/>
                    </a:lnTo>
                    <a:lnTo>
                      <a:pt x="955" y="2289"/>
                    </a:lnTo>
                    <a:lnTo>
                      <a:pt x="961" y="2291"/>
                    </a:lnTo>
                    <a:lnTo>
                      <a:pt x="964" y="2291"/>
                    </a:lnTo>
                    <a:lnTo>
                      <a:pt x="968" y="2294"/>
                    </a:lnTo>
                    <a:lnTo>
                      <a:pt x="972" y="2294"/>
                    </a:lnTo>
                    <a:lnTo>
                      <a:pt x="978" y="2294"/>
                    </a:lnTo>
                    <a:lnTo>
                      <a:pt x="982" y="2296"/>
                    </a:lnTo>
                    <a:lnTo>
                      <a:pt x="985" y="2296"/>
                    </a:lnTo>
                    <a:lnTo>
                      <a:pt x="989" y="2296"/>
                    </a:lnTo>
                    <a:lnTo>
                      <a:pt x="993" y="2298"/>
                    </a:lnTo>
                    <a:lnTo>
                      <a:pt x="997" y="2298"/>
                    </a:lnTo>
                    <a:lnTo>
                      <a:pt x="1001" y="2298"/>
                    </a:lnTo>
                    <a:lnTo>
                      <a:pt x="1004" y="2298"/>
                    </a:lnTo>
                    <a:lnTo>
                      <a:pt x="1008" y="2300"/>
                    </a:lnTo>
                    <a:lnTo>
                      <a:pt x="1010" y="2300"/>
                    </a:lnTo>
                    <a:lnTo>
                      <a:pt x="1014" y="2300"/>
                    </a:lnTo>
                    <a:lnTo>
                      <a:pt x="1016" y="2300"/>
                    </a:lnTo>
                    <a:lnTo>
                      <a:pt x="1020" y="2300"/>
                    </a:lnTo>
                    <a:lnTo>
                      <a:pt x="1022" y="2300"/>
                    </a:lnTo>
                    <a:lnTo>
                      <a:pt x="1025" y="2302"/>
                    </a:lnTo>
                    <a:lnTo>
                      <a:pt x="1029" y="2300"/>
                    </a:lnTo>
                    <a:lnTo>
                      <a:pt x="1035" y="2300"/>
                    </a:lnTo>
                    <a:lnTo>
                      <a:pt x="1039" y="2298"/>
                    </a:lnTo>
                    <a:lnTo>
                      <a:pt x="1042" y="2298"/>
                    </a:lnTo>
                    <a:lnTo>
                      <a:pt x="1044" y="2296"/>
                    </a:lnTo>
                    <a:lnTo>
                      <a:pt x="1048" y="2296"/>
                    </a:lnTo>
                    <a:lnTo>
                      <a:pt x="1048" y="2294"/>
                    </a:lnTo>
                    <a:lnTo>
                      <a:pt x="1050" y="2294"/>
                    </a:lnTo>
                    <a:lnTo>
                      <a:pt x="1246" y="1334"/>
                    </a:lnTo>
                    <a:lnTo>
                      <a:pt x="1246" y="1333"/>
                    </a:lnTo>
                    <a:lnTo>
                      <a:pt x="1248" y="1331"/>
                    </a:lnTo>
                    <a:lnTo>
                      <a:pt x="1250" y="1327"/>
                    </a:lnTo>
                    <a:lnTo>
                      <a:pt x="1252" y="1325"/>
                    </a:lnTo>
                    <a:lnTo>
                      <a:pt x="1252" y="1323"/>
                    </a:lnTo>
                    <a:lnTo>
                      <a:pt x="1254" y="1319"/>
                    </a:lnTo>
                    <a:lnTo>
                      <a:pt x="1256" y="1315"/>
                    </a:lnTo>
                    <a:lnTo>
                      <a:pt x="1259" y="1312"/>
                    </a:lnTo>
                    <a:lnTo>
                      <a:pt x="1259" y="1306"/>
                    </a:lnTo>
                    <a:lnTo>
                      <a:pt x="1263" y="1302"/>
                    </a:lnTo>
                    <a:lnTo>
                      <a:pt x="1265" y="1296"/>
                    </a:lnTo>
                    <a:lnTo>
                      <a:pt x="1269" y="1293"/>
                    </a:lnTo>
                    <a:lnTo>
                      <a:pt x="1271" y="1285"/>
                    </a:lnTo>
                    <a:lnTo>
                      <a:pt x="1275" y="1281"/>
                    </a:lnTo>
                    <a:lnTo>
                      <a:pt x="1276" y="1274"/>
                    </a:lnTo>
                    <a:lnTo>
                      <a:pt x="1280" y="1266"/>
                    </a:lnTo>
                    <a:lnTo>
                      <a:pt x="1284" y="1258"/>
                    </a:lnTo>
                    <a:lnTo>
                      <a:pt x="1288" y="1249"/>
                    </a:lnTo>
                    <a:lnTo>
                      <a:pt x="1290" y="1241"/>
                    </a:lnTo>
                    <a:lnTo>
                      <a:pt x="1294" y="1234"/>
                    </a:lnTo>
                    <a:lnTo>
                      <a:pt x="1297" y="1224"/>
                    </a:lnTo>
                    <a:lnTo>
                      <a:pt x="1301" y="1217"/>
                    </a:lnTo>
                    <a:lnTo>
                      <a:pt x="1305" y="1207"/>
                    </a:lnTo>
                    <a:lnTo>
                      <a:pt x="1309" y="1198"/>
                    </a:lnTo>
                    <a:lnTo>
                      <a:pt x="1313" y="1188"/>
                    </a:lnTo>
                    <a:lnTo>
                      <a:pt x="1316" y="1177"/>
                    </a:lnTo>
                    <a:lnTo>
                      <a:pt x="1320" y="1165"/>
                    </a:lnTo>
                    <a:lnTo>
                      <a:pt x="1324" y="1154"/>
                    </a:lnTo>
                    <a:lnTo>
                      <a:pt x="1330" y="1144"/>
                    </a:lnTo>
                    <a:lnTo>
                      <a:pt x="1334" y="1133"/>
                    </a:lnTo>
                    <a:lnTo>
                      <a:pt x="1337" y="1122"/>
                    </a:lnTo>
                    <a:lnTo>
                      <a:pt x="1339" y="1108"/>
                    </a:lnTo>
                    <a:lnTo>
                      <a:pt x="1345" y="1097"/>
                    </a:lnTo>
                    <a:lnTo>
                      <a:pt x="1349" y="1084"/>
                    </a:lnTo>
                    <a:lnTo>
                      <a:pt x="1353" y="1070"/>
                    </a:lnTo>
                    <a:lnTo>
                      <a:pt x="1354" y="1059"/>
                    </a:lnTo>
                    <a:lnTo>
                      <a:pt x="1358" y="1044"/>
                    </a:lnTo>
                    <a:lnTo>
                      <a:pt x="1362" y="1032"/>
                    </a:lnTo>
                    <a:lnTo>
                      <a:pt x="1366" y="1017"/>
                    </a:lnTo>
                    <a:lnTo>
                      <a:pt x="1370" y="1004"/>
                    </a:lnTo>
                    <a:lnTo>
                      <a:pt x="1372" y="988"/>
                    </a:lnTo>
                    <a:lnTo>
                      <a:pt x="1375" y="975"/>
                    </a:lnTo>
                    <a:lnTo>
                      <a:pt x="1377" y="960"/>
                    </a:lnTo>
                    <a:lnTo>
                      <a:pt x="1381" y="947"/>
                    </a:lnTo>
                    <a:lnTo>
                      <a:pt x="1383" y="931"/>
                    </a:lnTo>
                    <a:lnTo>
                      <a:pt x="1387" y="916"/>
                    </a:lnTo>
                    <a:lnTo>
                      <a:pt x="1389" y="901"/>
                    </a:lnTo>
                    <a:lnTo>
                      <a:pt x="1391" y="886"/>
                    </a:lnTo>
                    <a:lnTo>
                      <a:pt x="1392" y="871"/>
                    </a:lnTo>
                    <a:lnTo>
                      <a:pt x="1394" y="855"/>
                    </a:lnTo>
                    <a:lnTo>
                      <a:pt x="1396" y="838"/>
                    </a:lnTo>
                    <a:lnTo>
                      <a:pt x="1398" y="823"/>
                    </a:lnTo>
                    <a:lnTo>
                      <a:pt x="1398" y="806"/>
                    </a:lnTo>
                    <a:lnTo>
                      <a:pt x="1400" y="791"/>
                    </a:lnTo>
                    <a:lnTo>
                      <a:pt x="1402" y="774"/>
                    </a:lnTo>
                    <a:lnTo>
                      <a:pt x="1402" y="757"/>
                    </a:lnTo>
                    <a:lnTo>
                      <a:pt x="1402" y="741"/>
                    </a:lnTo>
                    <a:lnTo>
                      <a:pt x="1402" y="724"/>
                    </a:lnTo>
                    <a:lnTo>
                      <a:pt x="1402" y="705"/>
                    </a:lnTo>
                    <a:lnTo>
                      <a:pt x="1402" y="690"/>
                    </a:lnTo>
                    <a:lnTo>
                      <a:pt x="1400" y="673"/>
                    </a:lnTo>
                    <a:lnTo>
                      <a:pt x="1400" y="656"/>
                    </a:lnTo>
                    <a:lnTo>
                      <a:pt x="1398" y="654"/>
                    </a:lnTo>
                    <a:lnTo>
                      <a:pt x="1398" y="652"/>
                    </a:lnTo>
                    <a:lnTo>
                      <a:pt x="1398" y="648"/>
                    </a:lnTo>
                    <a:lnTo>
                      <a:pt x="1398" y="644"/>
                    </a:lnTo>
                    <a:lnTo>
                      <a:pt x="1398" y="643"/>
                    </a:lnTo>
                    <a:lnTo>
                      <a:pt x="1398" y="639"/>
                    </a:lnTo>
                    <a:lnTo>
                      <a:pt x="1396" y="637"/>
                    </a:lnTo>
                    <a:lnTo>
                      <a:pt x="1396" y="633"/>
                    </a:lnTo>
                    <a:lnTo>
                      <a:pt x="1396" y="631"/>
                    </a:lnTo>
                    <a:lnTo>
                      <a:pt x="1396" y="627"/>
                    </a:lnTo>
                    <a:lnTo>
                      <a:pt x="1396" y="623"/>
                    </a:lnTo>
                    <a:lnTo>
                      <a:pt x="1394" y="620"/>
                    </a:lnTo>
                    <a:lnTo>
                      <a:pt x="1394" y="618"/>
                    </a:lnTo>
                    <a:lnTo>
                      <a:pt x="1394" y="616"/>
                    </a:lnTo>
                    <a:lnTo>
                      <a:pt x="1392" y="612"/>
                    </a:lnTo>
                    <a:lnTo>
                      <a:pt x="1392" y="610"/>
                    </a:lnTo>
                    <a:lnTo>
                      <a:pt x="1392" y="608"/>
                    </a:lnTo>
                    <a:lnTo>
                      <a:pt x="1391" y="604"/>
                    </a:lnTo>
                    <a:lnTo>
                      <a:pt x="1391" y="603"/>
                    </a:lnTo>
                    <a:lnTo>
                      <a:pt x="1391" y="599"/>
                    </a:lnTo>
                    <a:lnTo>
                      <a:pt x="1389" y="597"/>
                    </a:lnTo>
                    <a:lnTo>
                      <a:pt x="1389" y="593"/>
                    </a:lnTo>
                    <a:lnTo>
                      <a:pt x="1389" y="589"/>
                    </a:lnTo>
                    <a:lnTo>
                      <a:pt x="1389" y="587"/>
                    </a:lnTo>
                    <a:lnTo>
                      <a:pt x="1387" y="585"/>
                    </a:lnTo>
                    <a:lnTo>
                      <a:pt x="1385" y="582"/>
                    </a:lnTo>
                    <a:lnTo>
                      <a:pt x="1385" y="580"/>
                    </a:lnTo>
                    <a:lnTo>
                      <a:pt x="1383" y="578"/>
                    </a:lnTo>
                    <a:lnTo>
                      <a:pt x="1383" y="572"/>
                    </a:lnTo>
                    <a:lnTo>
                      <a:pt x="1381" y="568"/>
                    </a:lnTo>
                    <a:lnTo>
                      <a:pt x="1377" y="563"/>
                    </a:lnTo>
                    <a:lnTo>
                      <a:pt x="1375" y="557"/>
                    </a:lnTo>
                    <a:lnTo>
                      <a:pt x="1373" y="553"/>
                    </a:lnTo>
                    <a:lnTo>
                      <a:pt x="1370" y="547"/>
                    </a:lnTo>
                    <a:lnTo>
                      <a:pt x="1366" y="544"/>
                    </a:lnTo>
                    <a:lnTo>
                      <a:pt x="1364" y="540"/>
                    </a:lnTo>
                    <a:lnTo>
                      <a:pt x="1360" y="536"/>
                    </a:lnTo>
                    <a:lnTo>
                      <a:pt x="1356" y="532"/>
                    </a:lnTo>
                    <a:lnTo>
                      <a:pt x="1353" y="528"/>
                    </a:lnTo>
                    <a:lnTo>
                      <a:pt x="1349" y="525"/>
                    </a:lnTo>
                    <a:lnTo>
                      <a:pt x="1345" y="523"/>
                    </a:lnTo>
                    <a:lnTo>
                      <a:pt x="1339" y="521"/>
                    </a:lnTo>
                    <a:lnTo>
                      <a:pt x="1335" y="517"/>
                    </a:lnTo>
                    <a:lnTo>
                      <a:pt x="1332" y="515"/>
                    </a:lnTo>
                    <a:lnTo>
                      <a:pt x="1326" y="515"/>
                    </a:lnTo>
                    <a:lnTo>
                      <a:pt x="1322" y="513"/>
                    </a:lnTo>
                    <a:lnTo>
                      <a:pt x="1318" y="511"/>
                    </a:lnTo>
                    <a:lnTo>
                      <a:pt x="1316" y="511"/>
                    </a:lnTo>
                    <a:lnTo>
                      <a:pt x="1313" y="511"/>
                    </a:lnTo>
                    <a:lnTo>
                      <a:pt x="1311" y="511"/>
                    </a:lnTo>
                    <a:lnTo>
                      <a:pt x="1309" y="509"/>
                    </a:lnTo>
                    <a:lnTo>
                      <a:pt x="1305" y="509"/>
                    </a:lnTo>
                    <a:lnTo>
                      <a:pt x="1303" y="509"/>
                    </a:lnTo>
                    <a:lnTo>
                      <a:pt x="1301" y="509"/>
                    </a:lnTo>
                    <a:lnTo>
                      <a:pt x="1297" y="509"/>
                    </a:lnTo>
                    <a:lnTo>
                      <a:pt x="1295" y="509"/>
                    </a:lnTo>
                    <a:lnTo>
                      <a:pt x="1292" y="509"/>
                    </a:lnTo>
                    <a:lnTo>
                      <a:pt x="1290" y="509"/>
                    </a:lnTo>
                    <a:lnTo>
                      <a:pt x="1284" y="509"/>
                    </a:lnTo>
                    <a:lnTo>
                      <a:pt x="1280" y="509"/>
                    </a:lnTo>
                    <a:lnTo>
                      <a:pt x="1275" y="509"/>
                    </a:lnTo>
                    <a:lnTo>
                      <a:pt x="1269" y="509"/>
                    </a:lnTo>
                    <a:lnTo>
                      <a:pt x="1265" y="509"/>
                    </a:lnTo>
                    <a:lnTo>
                      <a:pt x="1259" y="509"/>
                    </a:lnTo>
                    <a:lnTo>
                      <a:pt x="1256" y="511"/>
                    </a:lnTo>
                    <a:lnTo>
                      <a:pt x="1252" y="511"/>
                    </a:lnTo>
                    <a:lnTo>
                      <a:pt x="1246" y="515"/>
                    </a:lnTo>
                    <a:lnTo>
                      <a:pt x="1242" y="515"/>
                    </a:lnTo>
                    <a:lnTo>
                      <a:pt x="1238" y="517"/>
                    </a:lnTo>
                    <a:lnTo>
                      <a:pt x="1235" y="521"/>
                    </a:lnTo>
                    <a:lnTo>
                      <a:pt x="1231" y="523"/>
                    </a:lnTo>
                    <a:lnTo>
                      <a:pt x="1229" y="525"/>
                    </a:lnTo>
                    <a:lnTo>
                      <a:pt x="1225" y="527"/>
                    </a:lnTo>
                    <a:lnTo>
                      <a:pt x="1221" y="530"/>
                    </a:lnTo>
                    <a:lnTo>
                      <a:pt x="1219" y="532"/>
                    </a:lnTo>
                    <a:lnTo>
                      <a:pt x="1216" y="538"/>
                    </a:lnTo>
                    <a:lnTo>
                      <a:pt x="1214" y="542"/>
                    </a:lnTo>
                    <a:lnTo>
                      <a:pt x="1212" y="546"/>
                    </a:lnTo>
                    <a:lnTo>
                      <a:pt x="1210" y="549"/>
                    </a:lnTo>
                    <a:lnTo>
                      <a:pt x="1208" y="555"/>
                    </a:lnTo>
                    <a:lnTo>
                      <a:pt x="1208" y="557"/>
                    </a:lnTo>
                    <a:lnTo>
                      <a:pt x="1206" y="559"/>
                    </a:lnTo>
                    <a:lnTo>
                      <a:pt x="1204" y="561"/>
                    </a:lnTo>
                    <a:lnTo>
                      <a:pt x="1204" y="565"/>
                    </a:lnTo>
                    <a:lnTo>
                      <a:pt x="1204" y="566"/>
                    </a:lnTo>
                    <a:lnTo>
                      <a:pt x="1204" y="570"/>
                    </a:lnTo>
                    <a:lnTo>
                      <a:pt x="1204" y="572"/>
                    </a:lnTo>
                    <a:lnTo>
                      <a:pt x="1204" y="576"/>
                    </a:lnTo>
                    <a:lnTo>
                      <a:pt x="1139" y="895"/>
                    </a:lnTo>
                    <a:lnTo>
                      <a:pt x="1136" y="893"/>
                    </a:lnTo>
                    <a:lnTo>
                      <a:pt x="1132" y="892"/>
                    </a:lnTo>
                    <a:lnTo>
                      <a:pt x="1126" y="888"/>
                    </a:lnTo>
                    <a:lnTo>
                      <a:pt x="1122" y="886"/>
                    </a:lnTo>
                    <a:lnTo>
                      <a:pt x="1117" y="884"/>
                    </a:lnTo>
                    <a:lnTo>
                      <a:pt x="1113" y="880"/>
                    </a:lnTo>
                    <a:lnTo>
                      <a:pt x="1107" y="878"/>
                    </a:lnTo>
                    <a:lnTo>
                      <a:pt x="1105" y="876"/>
                    </a:lnTo>
                    <a:lnTo>
                      <a:pt x="1227" y="316"/>
                    </a:lnTo>
                    <a:lnTo>
                      <a:pt x="1227" y="312"/>
                    </a:lnTo>
                    <a:lnTo>
                      <a:pt x="1227" y="308"/>
                    </a:lnTo>
                    <a:lnTo>
                      <a:pt x="1229" y="306"/>
                    </a:lnTo>
                    <a:lnTo>
                      <a:pt x="1229" y="304"/>
                    </a:lnTo>
                    <a:lnTo>
                      <a:pt x="1229" y="300"/>
                    </a:lnTo>
                    <a:lnTo>
                      <a:pt x="1229" y="298"/>
                    </a:lnTo>
                    <a:lnTo>
                      <a:pt x="1229" y="295"/>
                    </a:lnTo>
                    <a:lnTo>
                      <a:pt x="1229" y="293"/>
                    </a:lnTo>
                    <a:lnTo>
                      <a:pt x="1229" y="291"/>
                    </a:lnTo>
                    <a:lnTo>
                      <a:pt x="1229" y="287"/>
                    </a:lnTo>
                    <a:lnTo>
                      <a:pt x="1229" y="285"/>
                    </a:lnTo>
                    <a:lnTo>
                      <a:pt x="1229" y="283"/>
                    </a:lnTo>
                    <a:lnTo>
                      <a:pt x="1229" y="278"/>
                    </a:lnTo>
                    <a:lnTo>
                      <a:pt x="1227" y="272"/>
                    </a:lnTo>
                    <a:lnTo>
                      <a:pt x="1225" y="268"/>
                    </a:lnTo>
                    <a:lnTo>
                      <a:pt x="1225" y="262"/>
                    </a:lnTo>
                    <a:lnTo>
                      <a:pt x="1223" y="257"/>
                    </a:lnTo>
                    <a:lnTo>
                      <a:pt x="1221" y="253"/>
                    </a:lnTo>
                    <a:lnTo>
                      <a:pt x="1219" y="247"/>
                    </a:lnTo>
                    <a:lnTo>
                      <a:pt x="1217" y="243"/>
                    </a:lnTo>
                    <a:lnTo>
                      <a:pt x="1216" y="240"/>
                    </a:lnTo>
                    <a:lnTo>
                      <a:pt x="1214" y="236"/>
                    </a:lnTo>
                    <a:lnTo>
                      <a:pt x="1210" y="232"/>
                    </a:lnTo>
                    <a:lnTo>
                      <a:pt x="1206" y="226"/>
                    </a:lnTo>
                    <a:lnTo>
                      <a:pt x="1202" y="222"/>
                    </a:lnTo>
                    <a:lnTo>
                      <a:pt x="1200" y="219"/>
                    </a:lnTo>
                    <a:lnTo>
                      <a:pt x="1197" y="215"/>
                    </a:lnTo>
                    <a:lnTo>
                      <a:pt x="1193" y="211"/>
                    </a:lnTo>
                    <a:lnTo>
                      <a:pt x="1189" y="207"/>
                    </a:lnTo>
                    <a:lnTo>
                      <a:pt x="1185" y="205"/>
                    </a:lnTo>
                    <a:lnTo>
                      <a:pt x="1179" y="203"/>
                    </a:lnTo>
                    <a:lnTo>
                      <a:pt x="1176" y="200"/>
                    </a:lnTo>
                    <a:lnTo>
                      <a:pt x="1172" y="198"/>
                    </a:lnTo>
                    <a:lnTo>
                      <a:pt x="1166" y="194"/>
                    </a:lnTo>
                    <a:lnTo>
                      <a:pt x="1160" y="192"/>
                    </a:lnTo>
                    <a:lnTo>
                      <a:pt x="1157" y="192"/>
                    </a:lnTo>
                    <a:lnTo>
                      <a:pt x="1151" y="190"/>
                    </a:lnTo>
                    <a:lnTo>
                      <a:pt x="1147" y="190"/>
                    </a:lnTo>
                    <a:lnTo>
                      <a:pt x="1143" y="188"/>
                    </a:lnTo>
                    <a:lnTo>
                      <a:pt x="1141" y="186"/>
                    </a:lnTo>
                    <a:lnTo>
                      <a:pt x="1138" y="186"/>
                    </a:lnTo>
                    <a:lnTo>
                      <a:pt x="1136" y="186"/>
                    </a:lnTo>
                    <a:lnTo>
                      <a:pt x="1134" y="186"/>
                    </a:lnTo>
                    <a:lnTo>
                      <a:pt x="1130" y="186"/>
                    </a:lnTo>
                    <a:lnTo>
                      <a:pt x="1128" y="186"/>
                    </a:lnTo>
                    <a:lnTo>
                      <a:pt x="1124" y="186"/>
                    </a:lnTo>
                    <a:lnTo>
                      <a:pt x="1122" y="186"/>
                    </a:lnTo>
                    <a:lnTo>
                      <a:pt x="1120" y="186"/>
                    </a:lnTo>
                    <a:lnTo>
                      <a:pt x="1117" y="186"/>
                    </a:lnTo>
                    <a:lnTo>
                      <a:pt x="1115" y="186"/>
                    </a:lnTo>
                    <a:lnTo>
                      <a:pt x="1109" y="186"/>
                    </a:lnTo>
                    <a:lnTo>
                      <a:pt x="1105" y="188"/>
                    </a:lnTo>
                    <a:lnTo>
                      <a:pt x="1100" y="188"/>
                    </a:lnTo>
                    <a:lnTo>
                      <a:pt x="1094" y="190"/>
                    </a:lnTo>
                    <a:lnTo>
                      <a:pt x="1090" y="192"/>
                    </a:lnTo>
                    <a:lnTo>
                      <a:pt x="1086" y="192"/>
                    </a:lnTo>
                    <a:lnTo>
                      <a:pt x="1081" y="194"/>
                    </a:lnTo>
                    <a:lnTo>
                      <a:pt x="1077" y="198"/>
                    </a:lnTo>
                    <a:lnTo>
                      <a:pt x="1073" y="200"/>
                    </a:lnTo>
                    <a:lnTo>
                      <a:pt x="1067" y="203"/>
                    </a:lnTo>
                    <a:lnTo>
                      <a:pt x="1063" y="205"/>
                    </a:lnTo>
                    <a:lnTo>
                      <a:pt x="1058" y="207"/>
                    </a:lnTo>
                    <a:lnTo>
                      <a:pt x="1054" y="211"/>
                    </a:lnTo>
                    <a:lnTo>
                      <a:pt x="1050" y="215"/>
                    </a:lnTo>
                    <a:lnTo>
                      <a:pt x="1048" y="219"/>
                    </a:lnTo>
                    <a:lnTo>
                      <a:pt x="1044" y="222"/>
                    </a:lnTo>
                    <a:lnTo>
                      <a:pt x="1041" y="226"/>
                    </a:lnTo>
                    <a:lnTo>
                      <a:pt x="1039" y="232"/>
                    </a:lnTo>
                    <a:lnTo>
                      <a:pt x="1035" y="234"/>
                    </a:lnTo>
                    <a:lnTo>
                      <a:pt x="1033" y="240"/>
                    </a:lnTo>
                    <a:lnTo>
                      <a:pt x="1029" y="243"/>
                    </a:lnTo>
                    <a:lnTo>
                      <a:pt x="1027" y="249"/>
                    </a:lnTo>
                    <a:lnTo>
                      <a:pt x="1025" y="253"/>
                    </a:lnTo>
                    <a:lnTo>
                      <a:pt x="1023" y="259"/>
                    </a:lnTo>
                    <a:lnTo>
                      <a:pt x="1022" y="260"/>
                    </a:lnTo>
                    <a:lnTo>
                      <a:pt x="1022" y="264"/>
                    </a:lnTo>
                    <a:lnTo>
                      <a:pt x="1022" y="266"/>
                    </a:lnTo>
                    <a:lnTo>
                      <a:pt x="1022" y="270"/>
                    </a:lnTo>
                    <a:lnTo>
                      <a:pt x="919" y="730"/>
                    </a:lnTo>
                    <a:lnTo>
                      <a:pt x="915" y="728"/>
                    </a:lnTo>
                    <a:lnTo>
                      <a:pt x="913" y="726"/>
                    </a:lnTo>
                    <a:lnTo>
                      <a:pt x="907" y="724"/>
                    </a:lnTo>
                    <a:lnTo>
                      <a:pt x="905" y="720"/>
                    </a:lnTo>
                    <a:lnTo>
                      <a:pt x="904" y="719"/>
                    </a:lnTo>
                    <a:lnTo>
                      <a:pt x="900" y="717"/>
                    </a:lnTo>
                    <a:lnTo>
                      <a:pt x="896" y="713"/>
                    </a:lnTo>
                    <a:lnTo>
                      <a:pt x="892" y="713"/>
                    </a:lnTo>
                    <a:lnTo>
                      <a:pt x="1022" y="129"/>
                    </a:lnTo>
                    <a:lnTo>
                      <a:pt x="1022" y="125"/>
                    </a:lnTo>
                    <a:lnTo>
                      <a:pt x="1022" y="124"/>
                    </a:lnTo>
                    <a:lnTo>
                      <a:pt x="1022" y="120"/>
                    </a:lnTo>
                    <a:lnTo>
                      <a:pt x="1022" y="118"/>
                    </a:lnTo>
                    <a:lnTo>
                      <a:pt x="1022" y="114"/>
                    </a:lnTo>
                    <a:lnTo>
                      <a:pt x="1022" y="112"/>
                    </a:lnTo>
                    <a:lnTo>
                      <a:pt x="1022" y="110"/>
                    </a:lnTo>
                    <a:lnTo>
                      <a:pt x="1022" y="106"/>
                    </a:lnTo>
                    <a:lnTo>
                      <a:pt x="1022" y="105"/>
                    </a:lnTo>
                    <a:lnTo>
                      <a:pt x="1022" y="103"/>
                    </a:lnTo>
                    <a:lnTo>
                      <a:pt x="1022" y="99"/>
                    </a:lnTo>
                    <a:lnTo>
                      <a:pt x="1022" y="97"/>
                    </a:lnTo>
                    <a:lnTo>
                      <a:pt x="1022" y="91"/>
                    </a:lnTo>
                    <a:lnTo>
                      <a:pt x="1022" y="86"/>
                    </a:lnTo>
                    <a:lnTo>
                      <a:pt x="1020" y="82"/>
                    </a:lnTo>
                    <a:lnTo>
                      <a:pt x="1018" y="76"/>
                    </a:lnTo>
                    <a:lnTo>
                      <a:pt x="1016" y="70"/>
                    </a:lnTo>
                    <a:lnTo>
                      <a:pt x="1014" y="67"/>
                    </a:lnTo>
                    <a:lnTo>
                      <a:pt x="1012" y="61"/>
                    </a:lnTo>
                    <a:lnTo>
                      <a:pt x="1010" y="57"/>
                    </a:lnTo>
                    <a:lnTo>
                      <a:pt x="1008" y="53"/>
                    </a:lnTo>
                    <a:lnTo>
                      <a:pt x="1006" y="48"/>
                    </a:lnTo>
                    <a:lnTo>
                      <a:pt x="1004" y="44"/>
                    </a:lnTo>
                    <a:lnTo>
                      <a:pt x="1001" y="40"/>
                    </a:lnTo>
                    <a:lnTo>
                      <a:pt x="997" y="36"/>
                    </a:lnTo>
                    <a:lnTo>
                      <a:pt x="993" y="32"/>
                    </a:lnTo>
                    <a:lnTo>
                      <a:pt x="991" y="29"/>
                    </a:lnTo>
                    <a:lnTo>
                      <a:pt x="985" y="25"/>
                    </a:lnTo>
                    <a:lnTo>
                      <a:pt x="983" y="23"/>
                    </a:lnTo>
                    <a:lnTo>
                      <a:pt x="978" y="19"/>
                    </a:lnTo>
                    <a:lnTo>
                      <a:pt x="972" y="17"/>
                    </a:lnTo>
                    <a:lnTo>
                      <a:pt x="968" y="13"/>
                    </a:lnTo>
                    <a:lnTo>
                      <a:pt x="964" y="11"/>
                    </a:lnTo>
                    <a:lnTo>
                      <a:pt x="961" y="10"/>
                    </a:lnTo>
                    <a:lnTo>
                      <a:pt x="955" y="6"/>
                    </a:lnTo>
                    <a:lnTo>
                      <a:pt x="949" y="6"/>
                    </a:lnTo>
                    <a:lnTo>
                      <a:pt x="944" y="4"/>
                    </a:lnTo>
                    <a:lnTo>
                      <a:pt x="940" y="4"/>
                    </a:lnTo>
                    <a:lnTo>
                      <a:pt x="936" y="2"/>
                    </a:lnTo>
                    <a:lnTo>
                      <a:pt x="934" y="2"/>
                    </a:lnTo>
                    <a:lnTo>
                      <a:pt x="932" y="0"/>
                    </a:lnTo>
                    <a:lnTo>
                      <a:pt x="928" y="0"/>
                    </a:lnTo>
                    <a:lnTo>
                      <a:pt x="926" y="0"/>
                    </a:lnTo>
                    <a:lnTo>
                      <a:pt x="925" y="0"/>
                    </a:lnTo>
                    <a:lnTo>
                      <a:pt x="921" y="0"/>
                    </a:lnTo>
                    <a:lnTo>
                      <a:pt x="919" y="0"/>
                    </a:lnTo>
                    <a:lnTo>
                      <a:pt x="915" y="0"/>
                    </a:lnTo>
                    <a:lnTo>
                      <a:pt x="913" y="0"/>
                    </a:lnTo>
                    <a:lnTo>
                      <a:pt x="911" y="0"/>
                    </a:lnTo>
                    <a:lnTo>
                      <a:pt x="907" y="0"/>
                    </a:lnTo>
                    <a:lnTo>
                      <a:pt x="904" y="0"/>
                    </a:lnTo>
                    <a:lnTo>
                      <a:pt x="898" y="2"/>
                    </a:lnTo>
                    <a:lnTo>
                      <a:pt x="896" y="2"/>
                    </a:lnTo>
                    <a:lnTo>
                      <a:pt x="892" y="2"/>
                    </a:lnTo>
                    <a:lnTo>
                      <a:pt x="890" y="2"/>
                    </a:lnTo>
                    <a:lnTo>
                      <a:pt x="888" y="4"/>
                    </a:lnTo>
                    <a:lnTo>
                      <a:pt x="881" y="4"/>
                    </a:lnTo>
                    <a:lnTo>
                      <a:pt x="877" y="6"/>
                    </a:lnTo>
                    <a:lnTo>
                      <a:pt x="873" y="10"/>
                    </a:lnTo>
                    <a:lnTo>
                      <a:pt x="867" y="11"/>
                    </a:lnTo>
                    <a:lnTo>
                      <a:pt x="864" y="15"/>
                    </a:lnTo>
                    <a:lnTo>
                      <a:pt x="860" y="17"/>
                    </a:lnTo>
                    <a:lnTo>
                      <a:pt x="854" y="19"/>
                    </a:lnTo>
                    <a:lnTo>
                      <a:pt x="850" y="23"/>
                    </a:lnTo>
                    <a:lnTo>
                      <a:pt x="847" y="25"/>
                    </a:lnTo>
                    <a:lnTo>
                      <a:pt x="843" y="29"/>
                    </a:lnTo>
                    <a:lnTo>
                      <a:pt x="839" y="32"/>
                    </a:lnTo>
                    <a:lnTo>
                      <a:pt x="835" y="36"/>
                    </a:lnTo>
                    <a:lnTo>
                      <a:pt x="833" y="40"/>
                    </a:lnTo>
                    <a:lnTo>
                      <a:pt x="831" y="44"/>
                    </a:lnTo>
                    <a:lnTo>
                      <a:pt x="828" y="48"/>
                    </a:lnTo>
                    <a:lnTo>
                      <a:pt x="824" y="53"/>
                    </a:lnTo>
                    <a:lnTo>
                      <a:pt x="822" y="57"/>
                    </a:lnTo>
                    <a:lnTo>
                      <a:pt x="820" y="61"/>
                    </a:lnTo>
                    <a:lnTo>
                      <a:pt x="818" y="67"/>
                    </a:lnTo>
                    <a:lnTo>
                      <a:pt x="816" y="70"/>
                    </a:lnTo>
                    <a:lnTo>
                      <a:pt x="816" y="74"/>
                    </a:lnTo>
                    <a:lnTo>
                      <a:pt x="814" y="76"/>
                    </a:lnTo>
                    <a:lnTo>
                      <a:pt x="812" y="82"/>
                    </a:lnTo>
                    <a:lnTo>
                      <a:pt x="812" y="84"/>
                    </a:lnTo>
                    <a:lnTo>
                      <a:pt x="687" y="663"/>
                    </a:lnTo>
                    <a:lnTo>
                      <a:pt x="681" y="663"/>
                    </a:lnTo>
                    <a:lnTo>
                      <a:pt x="677" y="663"/>
                    </a:lnTo>
                    <a:lnTo>
                      <a:pt x="673" y="663"/>
                    </a:lnTo>
                    <a:lnTo>
                      <a:pt x="670" y="663"/>
                    </a:lnTo>
                    <a:lnTo>
                      <a:pt x="666" y="663"/>
                    </a:lnTo>
                    <a:lnTo>
                      <a:pt x="660" y="665"/>
                    </a:lnTo>
                    <a:lnTo>
                      <a:pt x="656" y="665"/>
                    </a:lnTo>
                    <a:lnTo>
                      <a:pt x="652" y="667"/>
                    </a:lnTo>
                    <a:lnTo>
                      <a:pt x="753" y="213"/>
                    </a:lnTo>
                    <a:lnTo>
                      <a:pt x="753" y="209"/>
                    </a:lnTo>
                    <a:lnTo>
                      <a:pt x="753" y="207"/>
                    </a:lnTo>
                    <a:lnTo>
                      <a:pt x="753" y="203"/>
                    </a:lnTo>
                    <a:lnTo>
                      <a:pt x="753" y="201"/>
                    </a:lnTo>
                    <a:lnTo>
                      <a:pt x="753" y="198"/>
                    </a:lnTo>
                    <a:lnTo>
                      <a:pt x="753" y="196"/>
                    </a:lnTo>
                    <a:lnTo>
                      <a:pt x="753" y="192"/>
                    </a:lnTo>
                    <a:lnTo>
                      <a:pt x="753" y="190"/>
                    </a:lnTo>
                    <a:lnTo>
                      <a:pt x="753" y="188"/>
                    </a:lnTo>
                    <a:lnTo>
                      <a:pt x="753" y="184"/>
                    </a:lnTo>
                    <a:lnTo>
                      <a:pt x="753" y="182"/>
                    </a:lnTo>
                    <a:lnTo>
                      <a:pt x="753" y="181"/>
                    </a:lnTo>
                    <a:lnTo>
                      <a:pt x="753" y="175"/>
                    </a:lnTo>
                    <a:lnTo>
                      <a:pt x="753" y="169"/>
                    </a:lnTo>
                    <a:lnTo>
                      <a:pt x="751" y="167"/>
                    </a:lnTo>
                    <a:lnTo>
                      <a:pt x="751" y="163"/>
                    </a:lnTo>
                    <a:lnTo>
                      <a:pt x="751" y="162"/>
                    </a:lnTo>
                    <a:lnTo>
                      <a:pt x="750" y="160"/>
                    </a:lnTo>
                    <a:lnTo>
                      <a:pt x="748" y="154"/>
                    </a:lnTo>
                    <a:lnTo>
                      <a:pt x="746" y="148"/>
                    </a:lnTo>
                    <a:lnTo>
                      <a:pt x="744" y="144"/>
                    </a:lnTo>
                    <a:lnTo>
                      <a:pt x="742" y="141"/>
                    </a:lnTo>
                    <a:lnTo>
                      <a:pt x="740" y="135"/>
                    </a:lnTo>
                    <a:lnTo>
                      <a:pt x="738" y="131"/>
                    </a:lnTo>
                    <a:lnTo>
                      <a:pt x="734" y="127"/>
                    </a:lnTo>
                    <a:lnTo>
                      <a:pt x="730" y="124"/>
                    </a:lnTo>
                    <a:lnTo>
                      <a:pt x="727" y="120"/>
                    </a:lnTo>
                    <a:lnTo>
                      <a:pt x="725" y="116"/>
                    </a:lnTo>
                    <a:lnTo>
                      <a:pt x="721" y="112"/>
                    </a:lnTo>
                    <a:lnTo>
                      <a:pt x="717" y="108"/>
                    </a:lnTo>
                    <a:lnTo>
                      <a:pt x="713" y="105"/>
                    </a:lnTo>
                    <a:lnTo>
                      <a:pt x="710" y="103"/>
                    </a:lnTo>
                    <a:lnTo>
                      <a:pt x="704" y="99"/>
                    </a:lnTo>
                    <a:lnTo>
                      <a:pt x="700" y="97"/>
                    </a:lnTo>
                    <a:lnTo>
                      <a:pt x="694" y="95"/>
                    </a:lnTo>
                    <a:lnTo>
                      <a:pt x="691" y="91"/>
                    </a:lnTo>
                    <a:lnTo>
                      <a:pt x="685" y="89"/>
                    </a:lnTo>
                    <a:lnTo>
                      <a:pt x="681" y="87"/>
                    </a:lnTo>
                    <a:lnTo>
                      <a:pt x="675" y="86"/>
                    </a:lnTo>
                    <a:lnTo>
                      <a:pt x="672" y="86"/>
                    </a:lnTo>
                    <a:lnTo>
                      <a:pt x="668" y="84"/>
                    </a:lnTo>
                    <a:lnTo>
                      <a:pt x="666" y="84"/>
                    </a:lnTo>
                    <a:lnTo>
                      <a:pt x="664" y="84"/>
                    </a:lnTo>
                    <a:lnTo>
                      <a:pt x="660" y="84"/>
                    </a:lnTo>
                    <a:lnTo>
                      <a:pt x="658" y="84"/>
                    </a:lnTo>
                    <a:lnTo>
                      <a:pt x="654" y="84"/>
                    </a:lnTo>
                    <a:lnTo>
                      <a:pt x="652" y="84"/>
                    </a:lnTo>
                    <a:lnTo>
                      <a:pt x="651" y="84"/>
                    </a:lnTo>
                    <a:lnTo>
                      <a:pt x="647" y="84"/>
                    </a:lnTo>
                    <a:lnTo>
                      <a:pt x="645" y="84"/>
                    </a:lnTo>
                    <a:lnTo>
                      <a:pt x="643" y="84"/>
                    </a:lnTo>
                    <a:lnTo>
                      <a:pt x="639" y="84"/>
                    </a:lnTo>
                    <a:lnTo>
                      <a:pt x="635" y="84"/>
                    </a:lnTo>
                    <a:lnTo>
                      <a:pt x="630" y="84"/>
                    </a:lnTo>
                    <a:lnTo>
                      <a:pt x="628" y="84"/>
                    </a:lnTo>
                    <a:lnTo>
                      <a:pt x="624" y="86"/>
                    </a:lnTo>
                    <a:lnTo>
                      <a:pt x="622" y="86"/>
                    </a:lnTo>
                    <a:lnTo>
                      <a:pt x="618" y="86"/>
                    </a:lnTo>
                    <a:lnTo>
                      <a:pt x="614" y="87"/>
                    </a:lnTo>
                    <a:lnTo>
                      <a:pt x="609" y="89"/>
                    </a:lnTo>
                    <a:lnTo>
                      <a:pt x="603" y="91"/>
                    </a:lnTo>
                    <a:lnTo>
                      <a:pt x="599" y="95"/>
                    </a:lnTo>
                    <a:lnTo>
                      <a:pt x="595" y="97"/>
                    </a:lnTo>
                    <a:lnTo>
                      <a:pt x="592" y="99"/>
                    </a:lnTo>
                    <a:lnTo>
                      <a:pt x="586" y="103"/>
                    </a:lnTo>
                    <a:lnTo>
                      <a:pt x="582" y="105"/>
                    </a:lnTo>
                    <a:lnTo>
                      <a:pt x="578" y="108"/>
                    </a:lnTo>
                    <a:lnTo>
                      <a:pt x="574" y="112"/>
                    </a:lnTo>
                    <a:lnTo>
                      <a:pt x="571" y="116"/>
                    </a:lnTo>
                    <a:lnTo>
                      <a:pt x="567" y="120"/>
                    </a:lnTo>
                    <a:lnTo>
                      <a:pt x="565" y="124"/>
                    </a:lnTo>
                    <a:lnTo>
                      <a:pt x="563" y="127"/>
                    </a:lnTo>
                    <a:lnTo>
                      <a:pt x="559" y="131"/>
                    </a:lnTo>
                    <a:lnTo>
                      <a:pt x="555" y="135"/>
                    </a:lnTo>
                    <a:lnTo>
                      <a:pt x="554" y="141"/>
                    </a:lnTo>
                    <a:lnTo>
                      <a:pt x="552" y="146"/>
                    </a:lnTo>
                    <a:lnTo>
                      <a:pt x="550" y="150"/>
                    </a:lnTo>
                    <a:lnTo>
                      <a:pt x="548" y="156"/>
                    </a:lnTo>
                    <a:lnTo>
                      <a:pt x="546" y="158"/>
                    </a:lnTo>
                    <a:lnTo>
                      <a:pt x="546" y="160"/>
                    </a:lnTo>
                    <a:lnTo>
                      <a:pt x="544" y="163"/>
                    </a:lnTo>
                    <a:lnTo>
                      <a:pt x="544" y="167"/>
                    </a:lnTo>
                    <a:lnTo>
                      <a:pt x="361" y="1127"/>
                    </a:lnTo>
                    <a:lnTo>
                      <a:pt x="361" y="112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AutoShape 563"/>
            <p:cNvSpPr/>
            <p:nvPr/>
          </p:nvSpPr>
          <p:spPr>
            <a:xfrm rot="10690800">
              <a:off x="4436280" y="1805760"/>
              <a:ext cx="88560" cy="75960"/>
            </a:xfrm>
            <a:prstGeom prst="hexagon">
              <a:avLst>
                <a:gd name="adj" fmla="val 29147"/>
                <a:gd name="vf" fmla="val 1154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564"/>
          <p:cNvGrpSpPr/>
          <p:nvPr/>
        </p:nvGrpSpPr>
        <p:grpSpPr>
          <a:xfrm>
            <a:off x="4172760" y="2059200"/>
            <a:ext cx="798840" cy="1043280"/>
            <a:chOff x="4172760" y="2059200"/>
            <a:chExt cx="798840" cy="1043280"/>
          </a:xfrm>
        </p:grpSpPr>
        <p:grpSp>
          <p:nvGrpSpPr>
            <p:cNvPr id="247" name=""/>
            <p:cNvGrpSpPr/>
            <p:nvPr/>
          </p:nvGrpSpPr>
          <p:grpSpPr>
            <a:xfrm>
              <a:off x="4404960" y="2628000"/>
              <a:ext cx="305640" cy="199440"/>
              <a:chOff x="4404960" y="2628000"/>
              <a:chExt cx="305640" cy="199440"/>
            </a:xfrm>
          </p:grpSpPr>
          <p:sp>
            <p:nvSpPr>
              <p:cNvPr id="248" name="Line 565"/>
              <p:cNvSpPr/>
              <p:nvPr/>
            </p:nvSpPr>
            <p:spPr>
              <a:xfrm flipH="1" flipV="1">
                <a:off x="4430520" y="2628000"/>
                <a:ext cx="254880" cy="199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 txBox="1"/>
              <p:nvPr/>
            </p:nvSpPr>
            <p:spPr>
              <a:xfrm rot="11358600">
                <a:off x="4415760" y="2649960"/>
                <a:ext cx="284040" cy="15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566"/>
            <p:cNvGrpSpPr/>
            <p:nvPr/>
          </p:nvGrpSpPr>
          <p:grpSpPr>
            <a:xfrm>
              <a:off x="4172760" y="2059200"/>
              <a:ext cx="798840" cy="852840"/>
              <a:chOff x="4172760" y="2059200"/>
              <a:chExt cx="798840" cy="852840"/>
            </a:xfrm>
          </p:grpSpPr>
          <p:sp>
            <p:nvSpPr>
              <p:cNvPr id="251" name="AutoShape 567"/>
              <p:cNvSpPr/>
              <p:nvPr/>
            </p:nvSpPr>
            <p:spPr>
              <a:xfrm rot="10860600">
                <a:off x="4177080" y="2077920"/>
                <a:ext cx="405360" cy="516600"/>
              </a:xfrm>
              <a:custGeom>
                <a:avLst/>
                <a:gdLst>
                  <a:gd name="textAreaLeft" fmla="*/ 0 w 405360"/>
                  <a:gd name="textAreaRight" fmla="*/ 146160 w 405360"/>
                  <a:gd name="textAreaTop" fmla="*/ 13320 h 516600"/>
                  <a:gd name="textAreaBottom" fmla="*/ 503280 h 51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AutoShape 568"/>
              <p:cNvSpPr/>
              <p:nvPr/>
            </p:nvSpPr>
            <p:spPr>
              <a:xfrm rot="10984200">
                <a:off x="4424400" y="2070360"/>
                <a:ext cx="446040" cy="526680"/>
              </a:xfrm>
              <a:custGeom>
                <a:avLst/>
                <a:gdLst>
                  <a:gd name="textAreaLeft" fmla="*/ 21600 w 446040"/>
                  <a:gd name="textAreaRight" fmla="*/ 424440 w 446040"/>
                  <a:gd name="textAreaTop" fmla="*/ 21600 h 526680"/>
                  <a:gd name="textAreaBottom" fmla="*/ 505080 h 526680"/>
                </a:gdLst>
                <a:ahLst/>
                <a:rect l="textAreaLeft" t="textAreaTop" r="textAreaRight" b="textAreaBottom"/>
                <a:pathLst>
                  <a:path w="21600" h="25502">
                    <a:moveTo>
                      <a:pt x="3600" y="0"/>
                    </a:moveTo>
                    <a:arcTo wR="3600" hR="3600" stAng="16200000" swAng="-5400000"/>
                    <a:lnTo>
                      <a:pt x="0" y="21902"/>
                    </a:lnTo>
                    <a:arcTo wR="3600" hR="3600" stAng="10800000" swAng="-5400000"/>
                    <a:lnTo>
                      <a:pt x="18000" y="2550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AutoShape 569"/>
              <p:cNvSpPr/>
              <p:nvPr/>
            </p:nvSpPr>
            <p:spPr>
              <a:xfrm rot="9809400">
                <a:off x="4488480" y="2530800"/>
                <a:ext cx="446040" cy="324360"/>
              </a:xfrm>
              <a:prstGeom prst="triangle">
                <a:avLst>
                  <a:gd name="adj" fmla="val 50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AutoShape 570"/>
              <p:cNvSpPr/>
              <p:nvPr/>
            </p:nvSpPr>
            <p:spPr>
              <a:xfrm rot="11176200">
                <a:off x="4584240" y="2271240"/>
                <a:ext cx="99720" cy="143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725" y="3202"/>
                      <a:pt x="17850" y="5080"/>
                      <a:pt x="17850" y="10800"/>
                    </a:cubicBezTo>
                    <a:cubicBezTo>
                      <a:pt x="17850" y="16520"/>
                      <a:pt x="19725" y="1839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AutoShape 571"/>
            <p:cNvSpPr/>
            <p:nvPr/>
          </p:nvSpPr>
          <p:spPr>
            <a:xfrm rot="8890200">
              <a:off x="4789800" y="2810520"/>
              <a:ext cx="71280" cy="29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572"/>
          <p:cNvGrpSpPr/>
          <p:nvPr/>
        </p:nvGrpSpPr>
        <p:grpSpPr>
          <a:xfrm>
            <a:off x="4183920" y="1162440"/>
            <a:ext cx="930600" cy="1872720"/>
            <a:chOff x="4183920" y="1162440"/>
            <a:chExt cx="930600" cy="1872720"/>
          </a:xfrm>
        </p:grpSpPr>
        <p:grpSp>
          <p:nvGrpSpPr>
            <p:cNvPr id="257" name="Group 573"/>
            <p:cNvGrpSpPr/>
            <p:nvPr/>
          </p:nvGrpSpPr>
          <p:grpSpPr>
            <a:xfrm>
              <a:off x="4212360" y="1162440"/>
              <a:ext cx="902160" cy="1008000"/>
              <a:chOff x="4212360" y="1162440"/>
              <a:chExt cx="902160" cy="100800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4495680" y="1403640"/>
                <a:ext cx="284040" cy="155520"/>
                <a:chOff x="4495680" y="1403640"/>
                <a:chExt cx="284040" cy="155520"/>
              </a:xfrm>
            </p:grpSpPr>
            <p:sp>
              <p:nvSpPr>
                <p:cNvPr id="259" name="Line 574"/>
                <p:cNvSpPr/>
                <p:nvPr/>
              </p:nvSpPr>
              <p:spPr>
                <a:xfrm>
                  <a:off x="4495680" y="1403640"/>
                  <a:ext cx="284040" cy="155520"/>
                </a:xfrm>
                <a:prstGeom prst="line">
                  <a:avLst/>
                </a:prstGeom>
                <a:ln w="64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 txBox="1"/>
                <p:nvPr/>
              </p:nvSpPr>
              <p:spPr>
                <a:xfrm>
                  <a:off x="4495680" y="1403640"/>
                  <a:ext cx="284040" cy="15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575"/>
              <p:cNvGrpSpPr/>
              <p:nvPr/>
            </p:nvGrpSpPr>
            <p:grpSpPr>
              <a:xfrm>
                <a:off x="4220280" y="1297080"/>
                <a:ext cx="894240" cy="873360"/>
                <a:chOff x="4220280" y="1297080"/>
                <a:chExt cx="894240" cy="873360"/>
              </a:xfrm>
            </p:grpSpPr>
            <p:sp>
              <p:nvSpPr>
                <p:cNvPr id="262" name="AutoShape 576"/>
                <p:cNvSpPr/>
                <p:nvPr/>
              </p:nvSpPr>
              <p:spPr>
                <a:xfrm rot="21102000">
                  <a:off x="4673880" y="1580760"/>
                  <a:ext cx="405360" cy="516600"/>
                </a:xfrm>
                <a:custGeom>
                  <a:avLst/>
                  <a:gdLst>
                    <a:gd name="textAreaLeft" fmla="*/ 0 w 405360"/>
                    <a:gd name="textAreaRight" fmla="*/ 146160 w 405360"/>
                    <a:gd name="textAreaTop" fmla="*/ 13320 h 516600"/>
                    <a:gd name="textAreaBottom" fmla="*/ 503280 h 516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1260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AutoShape 577"/>
                <p:cNvSpPr/>
                <p:nvPr/>
              </p:nvSpPr>
              <p:spPr>
                <a:xfrm rot="21225600">
                  <a:off x="4389840" y="1621080"/>
                  <a:ext cx="446040" cy="526680"/>
                </a:xfrm>
                <a:custGeom>
                  <a:avLst/>
                  <a:gdLst>
                    <a:gd name="textAreaLeft" fmla="*/ 21600 w 446040"/>
                    <a:gd name="textAreaRight" fmla="*/ 424440 w 446040"/>
                    <a:gd name="textAreaTop" fmla="*/ 21600 h 526680"/>
                    <a:gd name="textAreaBottom" fmla="*/ 505080 h 526680"/>
                  </a:gdLst>
                  <a:ahLst/>
                  <a:rect l="textAreaLeft" t="textAreaTop" r="textAreaRight" b="textAreaBottom"/>
                  <a:pathLst>
                    <a:path w="21600" h="25502">
                      <a:moveTo>
                        <a:pt x="3600" y="0"/>
                      </a:moveTo>
                      <a:arcTo wR="3600" hR="3600" stAng="16200000" swAng="-5400000"/>
                      <a:lnTo>
                        <a:pt x="0" y="21902"/>
                      </a:lnTo>
                      <a:arcTo wR="3600" hR="3600" stAng="10800000" swAng="-5400000"/>
                      <a:lnTo>
                        <a:pt x="18000" y="2550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37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AutoShape 578"/>
                <p:cNvSpPr/>
                <p:nvPr/>
              </p:nvSpPr>
              <p:spPr>
                <a:xfrm rot="20050800">
                  <a:off x="4268520" y="1378080"/>
                  <a:ext cx="446040" cy="3243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20448000"/>
                </a:gra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AutoShape 579"/>
                <p:cNvSpPr/>
                <p:nvPr/>
              </p:nvSpPr>
              <p:spPr>
                <a:xfrm rot="21417600">
                  <a:off x="4574520" y="1801800"/>
                  <a:ext cx="99720" cy="143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9725" y="3202"/>
                        <a:pt x="17850" y="5080"/>
                        <a:pt x="17850" y="10800"/>
                      </a:cubicBezTo>
                      <a:cubicBezTo>
                        <a:pt x="17850" y="16520"/>
                        <a:pt x="19725" y="1839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18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AutoShape 580"/>
              <p:cNvSpPr/>
              <p:nvPr/>
            </p:nvSpPr>
            <p:spPr>
              <a:xfrm rot="19131600">
                <a:off x="4300560" y="1149120"/>
                <a:ext cx="71280" cy="295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21366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581"/>
            <p:cNvGrpSpPr/>
            <p:nvPr/>
          </p:nvGrpSpPr>
          <p:grpSpPr>
            <a:xfrm>
              <a:off x="4183920" y="2026800"/>
              <a:ext cx="903240" cy="1008360"/>
              <a:chOff x="4183920" y="2026800"/>
              <a:chExt cx="903240" cy="1008360"/>
            </a:xfrm>
          </p:grpSpPr>
          <p:grpSp>
            <p:nvGrpSpPr>
              <p:cNvPr id="268" name=""/>
              <p:cNvGrpSpPr/>
              <p:nvPr/>
            </p:nvGrpSpPr>
            <p:grpSpPr>
              <a:xfrm>
                <a:off x="4519800" y="2638440"/>
                <a:ext cx="283680" cy="155520"/>
                <a:chOff x="4519800" y="2638440"/>
                <a:chExt cx="283680" cy="155520"/>
              </a:xfrm>
            </p:grpSpPr>
            <p:sp>
              <p:nvSpPr>
                <p:cNvPr id="269" name="Line 582"/>
                <p:cNvSpPr/>
                <p:nvPr/>
              </p:nvSpPr>
              <p:spPr>
                <a:xfrm flipH="1" flipV="1">
                  <a:off x="4519800" y="2638440"/>
                  <a:ext cx="283680" cy="155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 txBox="1"/>
                <p:nvPr/>
              </p:nvSpPr>
              <p:spPr>
                <a:xfrm rot="10800000">
                  <a:off x="4519800" y="2638440"/>
                  <a:ext cx="283680" cy="15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Group 583"/>
              <p:cNvGrpSpPr/>
              <p:nvPr/>
            </p:nvGrpSpPr>
            <p:grpSpPr>
              <a:xfrm>
                <a:off x="4183920" y="2026800"/>
                <a:ext cx="894600" cy="873720"/>
                <a:chOff x="4183920" y="2026800"/>
                <a:chExt cx="894600" cy="873720"/>
              </a:xfrm>
            </p:grpSpPr>
            <p:sp>
              <p:nvSpPr>
                <p:cNvPr id="272" name="AutoShape 584"/>
                <p:cNvSpPr/>
                <p:nvPr/>
              </p:nvSpPr>
              <p:spPr>
                <a:xfrm flipH="1" flipV="1" rot="21102000">
                  <a:off x="4218840" y="2099520"/>
                  <a:ext cx="405360" cy="516600"/>
                </a:xfrm>
                <a:custGeom>
                  <a:avLst/>
                  <a:gdLst>
                    <a:gd name="textAreaLeft" fmla="*/ 0 w 405360"/>
                    <a:gd name="textAreaRight" fmla="*/ 146160 w 405360"/>
                    <a:gd name="textAreaTop" fmla="*/ 13320 h 516600"/>
                    <a:gd name="textAreaBottom" fmla="*/ 503280 h 516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585"/>
                <p:cNvSpPr/>
                <p:nvPr/>
              </p:nvSpPr>
              <p:spPr>
                <a:xfrm flipH="1" flipV="1" rot="21225600">
                  <a:off x="4462200" y="2049480"/>
                  <a:ext cx="446040" cy="527040"/>
                </a:xfrm>
                <a:custGeom>
                  <a:avLst/>
                  <a:gdLst>
                    <a:gd name="textAreaLeft" fmla="*/ 21600 w 446040"/>
                    <a:gd name="textAreaRight" fmla="*/ 424440 w 446040"/>
                    <a:gd name="textAreaTop" fmla="*/ 21600 h 527040"/>
                    <a:gd name="textAreaBottom" fmla="*/ 505440 h 527040"/>
                  </a:gdLst>
                  <a:ahLst/>
                  <a:rect l="textAreaLeft" t="textAreaTop" r="textAreaRight" b="textAreaBottom"/>
                  <a:pathLst>
                    <a:path w="21600" h="25519">
                      <a:moveTo>
                        <a:pt x="3600" y="0"/>
                      </a:moveTo>
                      <a:arcTo wR="3600" hR="3600" stAng="16200000" swAng="-5400000"/>
                      <a:lnTo>
                        <a:pt x="0" y="21919"/>
                      </a:lnTo>
                      <a:arcTo wR="3600" hR="3600" stAng="10800000" swAng="-5400000"/>
                      <a:lnTo>
                        <a:pt x="18000" y="2551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AutoShape 586"/>
                <p:cNvSpPr/>
                <p:nvPr/>
              </p:nvSpPr>
              <p:spPr>
                <a:xfrm flipH="1" flipV="1" rot="20050800">
                  <a:off x="4583880" y="2494440"/>
                  <a:ext cx="446040" cy="324360"/>
                </a:xfrm>
                <a:prstGeom prst="triangle">
                  <a:avLst>
                    <a:gd name="adj" fmla="val 5000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AutoShape 587"/>
                <p:cNvSpPr/>
                <p:nvPr/>
              </p:nvSpPr>
              <p:spPr>
                <a:xfrm flipH="1" flipV="1" rot="21417600">
                  <a:off x="4624560" y="2251800"/>
                  <a:ext cx="99720" cy="143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9725" y="3202"/>
                        <a:pt x="17850" y="5080"/>
                        <a:pt x="17850" y="10800"/>
                      </a:cubicBezTo>
                      <a:cubicBezTo>
                        <a:pt x="17850" y="16520"/>
                        <a:pt x="19725" y="1839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" name="AutoShape 588"/>
              <p:cNvSpPr/>
              <p:nvPr/>
            </p:nvSpPr>
            <p:spPr>
              <a:xfrm flipH="1" flipV="1" rot="19131600">
                <a:off x="4927320" y="2752200"/>
                <a:ext cx="70920" cy="295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Group 589"/>
          <p:cNvGrpSpPr/>
          <p:nvPr/>
        </p:nvGrpSpPr>
        <p:grpSpPr>
          <a:xfrm>
            <a:off x="4442400" y="1770840"/>
            <a:ext cx="348480" cy="1100160"/>
            <a:chOff x="4442400" y="1770840"/>
            <a:chExt cx="348480" cy="1100160"/>
          </a:xfrm>
        </p:grpSpPr>
        <p:grpSp>
          <p:nvGrpSpPr>
            <p:cNvPr id="278" name="Group 590"/>
            <p:cNvGrpSpPr/>
            <p:nvPr/>
          </p:nvGrpSpPr>
          <p:grpSpPr>
            <a:xfrm>
              <a:off x="4442400" y="2236680"/>
              <a:ext cx="348480" cy="634320"/>
              <a:chOff x="4442400" y="2236680"/>
              <a:chExt cx="348480" cy="634320"/>
            </a:xfrm>
          </p:grpSpPr>
          <p:sp>
            <p:nvSpPr>
              <p:cNvPr id="279" name="AutoShape 591"/>
              <p:cNvSpPr/>
              <p:nvPr/>
            </p:nvSpPr>
            <p:spPr>
              <a:xfrm rot="20713200">
                <a:off x="4551120" y="2364480"/>
                <a:ext cx="179640" cy="491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556" y="21600"/>
                    </a:lnTo>
                    <a:lnTo>
                      <a:pt x="20044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8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AutoShape 592"/>
              <p:cNvSpPr/>
              <p:nvPr/>
            </p:nvSpPr>
            <p:spPr>
              <a:xfrm rot="4691400">
                <a:off x="4481640" y="2236320"/>
                <a:ext cx="191520" cy="236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934" y="2201"/>
                      <a:pt x="12267" y="5080"/>
                      <a:pt x="12267" y="10800"/>
                    </a:cubicBezTo>
                    <a:cubicBezTo>
                      <a:pt x="12267" y="16520"/>
                      <a:pt x="16934" y="1939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162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AutoShape 593"/>
            <p:cNvSpPr/>
            <p:nvPr/>
          </p:nvSpPr>
          <p:spPr>
            <a:xfrm rot="20385000">
              <a:off x="4535280" y="2484360"/>
              <a:ext cx="181080" cy="12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Group 594"/>
            <p:cNvGrpSpPr/>
            <p:nvPr/>
          </p:nvGrpSpPr>
          <p:grpSpPr>
            <a:xfrm>
              <a:off x="4442400" y="1770840"/>
              <a:ext cx="348120" cy="634320"/>
              <a:chOff x="4442400" y="1770840"/>
              <a:chExt cx="348120" cy="634320"/>
            </a:xfrm>
          </p:grpSpPr>
          <p:grpSp>
            <p:nvGrpSpPr>
              <p:cNvPr id="283" name="Group 595"/>
              <p:cNvGrpSpPr/>
              <p:nvPr/>
            </p:nvGrpSpPr>
            <p:grpSpPr>
              <a:xfrm>
                <a:off x="4442400" y="1770840"/>
                <a:ext cx="348120" cy="634320"/>
                <a:chOff x="4442400" y="1770840"/>
                <a:chExt cx="348120" cy="634320"/>
              </a:xfrm>
            </p:grpSpPr>
            <p:sp>
              <p:nvSpPr>
                <p:cNvPr id="284" name="AutoShape 596"/>
                <p:cNvSpPr/>
                <p:nvPr/>
              </p:nvSpPr>
              <p:spPr>
                <a:xfrm flipV="1" rot="886800">
                  <a:off x="4551120" y="1785240"/>
                  <a:ext cx="179280" cy="491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1556" y="21600"/>
                      </a:lnTo>
                      <a:lnTo>
                        <a:pt x="20044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AutoShape 597"/>
                <p:cNvSpPr/>
                <p:nvPr/>
              </p:nvSpPr>
              <p:spPr>
                <a:xfrm flipV="1" rot="16908600">
                  <a:off x="4481640" y="2168640"/>
                  <a:ext cx="191520" cy="23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934" y="2201"/>
                        <a:pt x="12267" y="5080"/>
                        <a:pt x="12267" y="10800"/>
                      </a:cubicBezTo>
                      <a:cubicBezTo>
                        <a:pt x="12267" y="16520"/>
                        <a:pt x="16934" y="1939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6" name="AutoShape 598"/>
              <p:cNvSpPr/>
              <p:nvPr/>
            </p:nvSpPr>
            <p:spPr>
              <a:xfrm flipV="1" rot="21535200">
                <a:off x="4535280" y="2034720"/>
                <a:ext cx="180720" cy="122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AutoShape 599"/>
              <p:cNvSpPr/>
              <p:nvPr/>
            </p:nvSpPr>
            <p:spPr>
              <a:xfrm flipV="1" rot="72600">
                <a:off x="4562640" y="2050560"/>
                <a:ext cx="115560" cy="109440"/>
              </a:xfrm>
              <a:custGeom>
                <a:avLst/>
                <a:gdLst/>
                <a:ahLst/>
                <a:rect l="l" t="t" r="r" b="b"/>
                <a:pathLst>
                  <a:path w="73" h="69">
                    <a:moveTo>
                      <a:pt x="0" y="26"/>
                    </a:moveTo>
                    <a:lnTo>
                      <a:pt x="27" y="26"/>
                    </a:lnTo>
                    <a:lnTo>
                      <a:pt x="36" y="0"/>
                    </a:lnTo>
                    <a:lnTo>
                      <a:pt x="45" y="26"/>
                    </a:lnTo>
                    <a:lnTo>
                      <a:pt x="72" y="26"/>
                    </a:lnTo>
                    <a:lnTo>
                      <a:pt x="50" y="42"/>
                    </a:lnTo>
                    <a:lnTo>
                      <a:pt x="59" y="68"/>
                    </a:lnTo>
                    <a:lnTo>
                      <a:pt x="36" y="52"/>
                    </a:lnTo>
                    <a:lnTo>
                      <a:pt x="13" y="68"/>
                    </a:lnTo>
                    <a:lnTo>
                      <a:pt x="22" y="42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AutoShape 600"/>
            <p:cNvSpPr/>
            <p:nvPr/>
          </p:nvSpPr>
          <p:spPr>
            <a:xfrm rot="20422200">
              <a:off x="4559040" y="2486160"/>
              <a:ext cx="133560" cy="11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601"/>
          <p:cNvGrpSpPr/>
          <p:nvPr/>
        </p:nvGrpSpPr>
        <p:grpSpPr>
          <a:xfrm>
            <a:off x="4159080" y="2405880"/>
            <a:ext cx="1136160" cy="893520"/>
            <a:chOff x="4159080" y="2405880"/>
            <a:chExt cx="1136160" cy="893520"/>
          </a:xfrm>
        </p:grpSpPr>
        <p:grpSp>
          <p:nvGrpSpPr>
            <p:cNvPr id="290" name="Group 602"/>
            <p:cNvGrpSpPr/>
            <p:nvPr/>
          </p:nvGrpSpPr>
          <p:grpSpPr>
            <a:xfrm>
              <a:off x="4609080" y="2405880"/>
              <a:ext cx="686160" cy="555840"/>
              <a:chOff x="4609080" y="2405880"/>
              <a:chExt cx="686160" cy="555840"/>
            </a:xfrm>
          </p:grpSpPr>
          <p:grpSp>
            <p:nvGrpSpPr>
              <p:cNvPr id="291" name="Group 603"/>
              <p:cNvGrpSpPr/>
              <p:nvPr/>
            </p:nvGrpSpPr>
            <p:grpSpPr>
              <a:xfrm>
                <a:off x="4609080" y="2405880"/>
                <a:ext cx="686160" cy="555840"/>
                <a:chOff x="4609080" y="2405880"/>
                <a:chExt cx="686160" cy="555840"/>
              </a:xfrm>
            </p:grpSpPr>
            <p:sp>
              <p:nvSpPr>
                <p:cNvPr id="292" name="AutoShape 604"/>
                <p:cNvSpPr/>
                <p:nvPr/>
              </p:nvSpPr>
              <p:spPr>
                <a:xfrm rot="14276400">
                  <a:off x="4817880" y="2548800"/>
                  <a:ext cx="179640" cy="36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4308" y="21600"/>
                      </a:lnTo>
                      <a:lnTo>
                        <a:pt x="17292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54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Oval 605"/>
                <p:cNvSpPr/>
                <p:nvPr/>
              </p:nvSpPr>
              <p:spPr>
                <a:xfrm rot="14815800">
                  <a:off x="4639680" y="2743560"/>
                  <a:ext cx="186480" cy="19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606"/>
                <p:cNvSpPr/>
                <p:nvPr/>
              </p:nvSpPr>
              <p:spPr>
                <a:xfrm rot="2710200">
                  <a:off x="5043600" y="2425320"/>
                  <a:ext cx="174960" cy="287640"/>
                </a:xfrm>
                <a:custGeom>
                  <a:avLst/>
                  <a:gdLst/>
                  <a:ahLst/>
                  <a:rect l="l" t="t" r="r" b="b"/>
                  <a:pathLst>
                    <a:path w="1402" h="2302">
                      <a:moveTo>
                        <a:pt x="361" y="1127"/>
                      </a:moveTo>
                      <a:lnTo>
                        <a:pt x="280" y="1116"/>
                      </a:lnTo>
                      <a:lnTo>
                        <a:pt x="373" y="711"/>
                      </a:lnTo>
                      <a:lnTo>
                        <a:pt x="373" y="709"/>
                      </a:lnTo>
                      <a:lnTo>
                        <a:pt x="375" y="705"/>
                      </a:lnTo>
                      <a:lnTo>
                        <a:pt x="375" y="703"/>
                      </a:lnTo>
                      <a:lnTo>
                        <a:pt x="375" y="700"/>
                      </a:lnTo>
                      <a:lnTo>
                        <a:pt x="375" y="698"/>
                      </a:lnTo>
                      <a:lnTo>
                        <a:pt x="375" y="696"/>
                      </a:lnTo>
                      <a:lnTo>
                        <a:pt x="375" y="692"/>
                      </a:lnTo>
                      <a:lnTo>
                        <a:pt x="375" y="690"/>
                      </a:lnTo>
                      <a:lnTo>
                        <a:pt x="375" y="684"/>
                      </a:lnTo>
                      <a:lnTo>
                        <a:pt x="375" y="681"/>
                      </a:lnTo>
                      <a:lnTo>
                        <a:pt x="375" y="675"/>
                      </a:lnTo>
                      <a:lnTo>
                        <a:pt x="375" y="669"/>
                      </a:lnTo>
                      <a:lnTo>
                        <a:pt x="371" y="665"/>
                      </a:lnTo>
                      <a:lnTo>
                        <a:pt x="371" y="660"/>
                      </a:lnTo>
                      <a:lnTo>
                        <a:pt x="369" y="654"/>
                      </a:lnTo>
                      <a:lnTo>
                        <a:pt x="367" y="652"/>
                      </a:lnTo>
                      <a:lnTo>
                        <a:pt x="365" y="646"/>
                      </a:lnTo>
                      <a:lnTo>
                        <a:pt x="363" y="641"/>
                      </a:lnTo>
                      <a:lnTo>
                        <a:pt x="361" y="637"/>
                      </a:lnTo>
                      <a:lnTo>
                        <a:pt x="358" y="633"/>
                      </a:lnTo>
                      <a:lnTo>
                        <a:pt x="356" y="629"/>
                      </a:lnTo>
                      <a:lnTo>
                        <a:pt x="354" y="623"/>
                      </a:lnTo>
                      <a:lnTo>
                        <a:pt x="350" y="620"/>
                      </a:lnTo>
                      <a:lnTo>
                        <a:pt x="346" y="616"/>
                      </a:lnTo>
                      <a:lnTo>
                        <a:pt x="342" y="612"/>
                      </a:lnTo>
                      <a:lnTo>
                        <a:pt x="339" y="610"/>
                      </a:lnTo>
                      <a:lnTo>
                        <a:pt x="335" y="606"/>
                      </a:lnTo>
                      <a:lnTo>
                        <a:pt x="331" y="603"/>
                      </a:lnTo>
                      <a:lnTo>
                        <a:pt x="325" y="601"/>
                      </a:lnTo>
                      <a:lnTo>
                        <a:pt x="321" y="597"/>
                      </a:lnTo>
                      <a:lnTo>
                        <a:pt x="318" y="595"/>
                      </a:lnTo>
                      <a:lnTo>
                        <a:pt x="312" y="593"/>
                      </a:lnTo>
                      <a:lnTo>
                        <a:pt x="306" y="591"/>
                      </a:lnTo>
                      <a:lnTo>
                        <a:pt x="302" y="589"/>
                      </a:lnTo>
                      <a:lnTo>
                        <a:pt x="299" y="589"/>
                      </a:lnTo>
                      <a:lnTo>
                        <a:pt x="295" y="587"/>
                      </a:lnTo>
                      <a:lnTo>
                        <a:pt x="291" y="587"/>
                      </a:lnTo>
                      <a:lnTo>
                        <a:pt x="287" y="585"/>
                      </a:lnTo>
                      <a:lnTo>
                        <a:pt x="285" y="585"/>
                      </a:lnTo>
                      <a:lnTo>
                        <a:pt x="283" y="585"/>
                      </a:lnTo>
                      <a:lnTo>
                        <a:pt x="280" y="585"/>
                      </a:lnTo>
                      <a:lnTo>
                        <a:pt x="276" y="585"/>
                      </a:lnTo>
                      <a:lnTo>
                        <a:pt x="274" y="585"/>
                      </a:lnTo>
                      <a:lnTo>
                        <a:pt x="272" y="585"/>
                      </a:lnTo>
                      <a:lnTo>
                        <a:pt x="268" y="585"/>
                      </a:lnTo>
                      <a:lnTo>
                        <a:pt x="266" y="585"/>
                      </a:lnTo>
                      <a:lnTo>
                        <a:pt x="263" y="585"/>
                      </a:lnTo>
                      <a:lnTo>
                        <a:pt x="261" y="587"/>
                      </a:lnTo>
                      <a:lnTo>
                        <a:pt x="259" y="587"/>
                      </a:lnTo>
                      <a:lnTo>
                        <a:pt x="255" y="587"/>
                      </a:lnTo>
                      <a:lnTo>
                        <a:pt x="253" y="589"/>
                      </a:lnTo>
                      <a:lnTo>
                        <a:pt x="249" y="589"/>
                      </a:lnTo>
                      <a:lnTo>
                        <a:pt x="247" y="589"/>
                      </a:lnTo>
                      <a:lnTo>
                        <a:pt x="243" y="591"/>
                      </a:lnTo>
                      <a:lnTo>
                        <a:pt x="240" y="591"/>
                      </a:lnTo>
                      <a:lnTo>
                        <a:pt x="238" y="593"/>
                      </a:lnTo>
                      <a:lnTo>
                        <a:pt x="236" y="595"/>
                      </a:lnTo>
                      <a:lnTo>
                        <a:pt x="232" y="595"/>
                      </a:lnTo>
                      <a:lnTo>
                        <a:pt x="230" y="597"/>
                      </a:lnTo>
                      <a:lnTo>
                        <a:pt x="228" y="599"/>
                      </a:lnTo>
                      <a:lnTo>
                        <a:pt x="224" y="601"/>
                      </a:lnTo>
                      <a:lnTo>
                        <a:pt x="223" y="601"/>
                      </a:lnTo>
                      <a:lnTo>
                        <a:pt x="219" y="603"/>
                      </a:lnTo>
                      <a:lnTo>
                        <a:pt x="217" y="604"/>
                      </a:lnTo>
                      <a:lnTo>
                        <a:pt x="211" y="608"/>
                      </a:lnTo>
                      <a:lnTo>
                        <a:pt x="207" y="612"/>
                      </a:lnTo>
                      <a:lnTo>
                        <a:pt x="204" y="616"/>
                      </a:lnTo>
                      <a:lnTo>
                        <a:pt x="198" y="618"/>
                      </a:lnTo>
                      <a:lnTo>
                        <a:pt x="194" y="623"/>
                      </a:lnTo>
                      <a:lnTo>
                        <a:pt x="188" y="627"/>
                      </a:lnTo>
                      <a:lnTo>
                        <a:pt x="185" y="633"/>
                      </a:lnTo>
                      <a:lnTo>
                        <a:pt x="181" y="637"/>
                      </a:lnTo>
                      <a:lnTo>
                        <a:pt x="177" y="641"/>
                      </a:lnTo>
                      <a:lnTo>
                        <a:pt x="173" y="646"/>
                      </a:lnTo>
                      <a:lnTo>
                        <a:pt x="169" y="652"/>
                      </a:lnTo>
                      <a:lnTo>
                        <a:pt x="166" y="656"/>
                      </a:lnTo>
                      <a:lnTo>
                        <a:pt x="162" y="662"/>
                      </a:lnTo>
                      <a:lnTo>
                        <a:pt x="160" y="665"/>
                      </a:lnTo>
                      <a:lnTo>
                        <a:pt x="158" y="669"/>
                      </a:lnTo>
                      <a:lnTo>
                        <a:pt x="158" y="671"/>
                      </a:lnTo>
                      <a:lnTo>
                        <a:pt x="156" y="673"/>
                      </a:lnTo>
                      <a:lnTo>
                        <a:pt x="154" y="677"/>
                      </a:lnTo>
                      <a:lnTo>
                        <a:pt x="152" y="679"/>
                      </a:lnTo>
                      <a:lnTo>
                        <a:pt x="152" y="681"/>
                      </a:lnTo>
                      <a:lnTo>
                        <a:pt x="150" y="684"/>
                      </a:lnTo>
                      <a:lnTo>
                        <a:pt x="150" y="688"/>
                      </a:lnTo>
                      <a:lnTo>
                        <a:pt x="146" y="694"/>
                      </a:lnTo>
                      <a:lnTo>
                        <a:pt x="145" y="701"/>
                      </a:lnTo>
                      <a:lnTo>
                        <a:pt x="143" y="709"/>
                      </a:lnTo>
                      <a:lnTo>
                        <a:pt x="139" y="717"/>
                      </a:lnTo>
                      <a:lnTo>
                        <a:pt x="137" y="724"/>
                      </a:lnTo>
                      <a:lnTo>
                        <a:pt x="135" y="732"/>
                      </a:lnTo>
                      <a:lnTo>
                        <a:pt x="131" y="739"/>
                      </a:lnTo>
                      <a:lnTo>
                        <a:pt x="129" y="747"/>
                      </a:lnTo>
                      <a:lnTo>
                        <a:pt x="126" y="755"/>
                      </a:lnTo>
                      <a:lnTo>
                        <a:pt x="124" y="760"/>
                      </a:lnTo>
                      <a:lnTo>
                        <a:pt x="122" y="768"/>
                      </a:lnTo>
                      <a:lnTo>
                        <a:pt x="120" y="776"/>
                      </a:lnTo>
                      <a:lnTo>
                        <a:pt x="116" y="781"/>
                      </a:lnTo>
                      <a:lnTo>
                        <a:pt x="114" y="789"/>
                      </a:lnTo>
                      <a:lnTo>
                        <a:pt x="112" y="796"/>
                      </a:lnTo>
                      <a:lnTo>
                        <a:pt x="110" y="804"/>
                      </a:lnTo>
                      <a:lnTo>
                        <a:pt x="107" y="812"/>
                      </a:lnTo>
                      <a:lnTo>
                        <a:pt x="107" y="817"/>
                      </a:lnTo>
                      <a:lnTo>
                        <a:pt x="103" y="823"/>
                      </a:lnTo>
                      <a:lnTo>
                        <a:pt x="101" y="831"/>
                      </a:lnTo>
                      <a:lnTo>
                        <a:pt x="97" y="836"/>
                      </a:lnTo>
                      <a:lnTo>
                        <a:pt x="97" y="844"/>
                      </a:lnTo>
                      <a:lnTo>
                        <a:pt x="93" y="852"/>
                      </a:lnTo>
                      <a:lnTo>
                        <a:pt x="93" y="857"/>
                      </a:lnTo>
                      <a:lnTo>
                        <a:pt x="89" y="865"/>
                      </a:lnTo>
                      <a:lnTo>
                        <a:pt x="88" y="871"/>
                      </a:lnTo>
                      <a:lnTo>
                        <a:pt x="86" y="878"/>
                      </a:lnTo>
                      <a:lnTo>
                        <a:pt x="84" y="884"/>
                      </a:lnTo>
                      <a:lnTo>
                        <a:pt x="82" y="892"/>
                      </a:lnTo>
                      <a:lnTo>
                        <a:pt x="80" y="899"/>
                      </a:lnTo>
                      <a:lnTo>
                        <a:pt x="78" y="907"/>
                      </a:lnTo>
                      <a:lnTo>
                        <a:pt x="74" y="912"/>
                      </a:lnTo>
                      <a:lnTo>
                        <a:pt x="72" y="920"/>
                      </a:lnTo>
                      <a:lnTo>
                        <a:pt x="72" y="926"/>
                      </a:lnTo>
                      <a:lnTo>
                        <a:pt x="68" y="931"/>
                      </a:lnTo>
                      <a:lnTo>
                        <a:pt x="67" y="939"/>
                      </a:lnTo>
                      <a:lnTo>
                        <a:pt x="65" y="945"/>
                      </a:lnTo>
                      <a:lnTo>
                        <a:pt x="63" y="952"/>
                      </a:lnTo>
                      <a:lnTo>
                        <a:pt x="59" y="958"/>
                      </a:lnTo>
                      <a:lnTo>
                        <a:pt x="57" y="966"/>
                      </a:lnTo>
                      <a:lnTo>
                        <a:pt x="55" y="971"/>
                      </a:lnTo>
                      <a:lnTo>
                        <a:pt x="53" y="979"/>
                      </a:lnTo>
                      <a:lnTo>
                        <a:pt x="51" y="987"/>
                      </a:lnTo>
                      <a:lnTo>
                        <a:pt x="49" y="994"/>
                      </a:lnTo>
                      <a:lnTo>
                        <a:pt x="48" y="1000"/>
                      </a:lnTo>
                      <a:lnTo>
                        <a:pt x="46" y="1007"/>
                      </a:lnTo>
                      <a:lnTo>
                        <a:pt x="44" y="1015"/>
                      </a:lnTo>
                      <a:lnTo>
                        <a:pt x="42" y="1021"/>
                      </a:lnTo>
                      <a:lnTo>
                        <a:pt x="42" y="1028"/>
                      </a:lnTo>
                      <a:lnTo>
                        <a:pt x="38" y="1036"/>
                      </a:lnTo>
                      <a:lnTo>
                        <a:pt x="36" y="1042"/>
                      </a:lnTo>
                      <a:lnTo>
                        <a:pt x="36" y="1049"/>
                      </a:lnTo>
                      <a:lnTo>
                        <a:pt x="34" y="1057"/>
                      </a:lnTo>
                      <a:lnTo>
                        <a:pt x="30" y="1063"/>
                      </a:lnTo>
                      <a:lnTo>
                        <a:pt x="30" y="1070"/>
                      </a:lnTo>
                      <a:lnTo>
                        <a:pt x="29" y="1078"/>
                      </a:lnTo>
                      <a:lnTo>
                        <a:pt x="27" y="1085"/>
                      </a:lnTo>
                      <a:lnTo>
                        <a:pt x="25" y="1093"/>
                      </a:lnTo>
                      <a:lnTo>
                        <a:pt x="23" y="1101"/>
                      </a:lnTo>
                      <a:lnTo>
                        <a:pt x="21" y="1108"/>
                      </a:lnTo>
                      <a:lnTo>
                        <a:pt x="19" y="1116"/>
                      </a:lnTo>
                      <a:lnTo>
                        <a:pt x="17" y="1123"/>
                      </a:lnTo>
                      <a:lnTo>
                        <a:pt x="17" y="1131"/>
                      </a:lnTo>
                      <a:lnTo>
                        <a:pt x="15" y="1139"/>
                      </a:lnTo>
                      <a:lnTo>
                        <a:pt x="13" y="1148"/>
                      </a:lnTo>
                      <a:lnTo>
                        <a:pt x="10" y="1158"/>
                      </a:lnTo>
                      <a:lnTo>
                        <a:pt x="10" y="1165"/>
                      </a:lnTo>
                      <a:lnTo>
                        <a:pt x="8" y="1175"/>
                      </a:lnTo>
                      <a:lnTo>
                        <a:pt x="6" y="1182"/>
                      </a:lnTo>
                      <a:lnTo>
                        <a:pt x="6" y="1192"/>
                      </a:lnTo>
                      <a:lnTo>
                        <a:pt x="4" y="1201"/>
                      </a:lnTo>
                      <a:lnTo>
                        <a:pt x="2" y="1211"/>
                      </a:lnTo>
                      <a:lnTo>
                        <a:pt x="2" y="1218"/>
                      </a:lnTo>
                      <a:lnTo>
                        <a:pt x="0" y="1230"/>
                      </a:lnTo>
                      <a:lnTo>
                        <a:pt x="0" y="1237"/>
                      </a:lnTo>
                      <a:lnTo>
                        <a:pt x="0" y="1247"/>
                      </a:lnTo>
                      <a:lnTo>
                        <a:pt x="0" y="1257"/>
                      </a:lnTo>
                      <a:lnTo>
                        <a:pt x="0" y="1268"/>
                      </a:lnTo>
                      <a:lnTo>
                        <a:pt x="0" y="1276"/>
                      </a:lnTo>
                      <a:lnTo>
                        <a:pt x="0" y="1285"/>
                      </a:lnTo>
                      <a:lnTo>
                        <a:pt x="0" y="1296"/>
                      </a:lnTo>
                      <a:lnTo>
                        <a:pt x="0" y="1304"/>
                      </a:lnTo>
                      <a:lnTo>
                        <a:pt x="0" y="1314"/>
                      </a:lnTo>
                      <a:lnTo>
                        <a:pt x="0" y="1323"/>
                      </a:lnTo>
                      <a:lnTo>
                        <a:pt x="0" y="1333"/>
                      </a:lnTo>
                      <a:lnTo>
                        <a:pt x="2" y="1342"/>
                      </a:lnTo>
                      <a:lnTo>
                        <a:pt x="2" y="1352"/>
                      </a:lnTo>
                      <a:lnTo>
                        <a:pt x="4" y="1363"/>
                      </a:lnTo>
                      <a:lnTo>
                        <a:pt x="4" y="1371"/>
                      </a:lnTo>
                      <a:lnTo>
                        <a:pt x="6" y="1382"/>
                      </a:lnTo>
                      <a:lnTo>
                        <a:pt x="8" y="1390"/>
                      </a:lnTo>
                      <a:lnTo>
                        <a:pt x="8" y="1401"/>
                      </a:lnTo>
                      <a:lnTo>
                        <a:pt x="10" y="1409"/>
                      </a:lnTo>
                      <a:lnTo>
                        <a:pt x="11" y="1420"/>
                      </a:lnTo>
                      <a:lnTo>
                        <a:pt x="13" y="1429"/>
                      </a:lnTo>
                      <a:lnTo>
                        <a:pt x="15" y="1439"/>
                      </a:lnTo>
                      <a:lnTo>
                        <a:pt x="17" y="1448"/>
                      </a:lnTo>
                      <a:lnTo>
                        <a:pt x="19" y="1458"/>
                      </a:lnTo>
                      <a:lnTo>
                        <a:pt x="21" y="1468"/>
                      </a:lnTo>
                      <a:lnTo>
                        <a:pt x="23" y="1477"/>
                      </a:lnTo>
                      <a:lnTo>
                        <a:pt x="27" y="1487"/>
                      </a:lnTo>
                      <a:lnTo>
                        <a:pt x="29" y="1496"/>
                      </a:lnTo>
                      <a:lnTo>
                        <a:pt x="30" y="1506"/>
                      </a:lnTo>
                      <a:lnTo>
                        <a:pt x="34" y="1515"/>
                      </a:lnTo>
                      <a:lnTo>
                        <a:pt x="36" y="1525"/>
                      </a:lnTo>
                      <a:lnTo>
                        <a:pt x="38" y="1534"/>
                      </a:lnTo>
                      <a:lnTo>
                        <a:pt x="42" y="1544"/>
                      </a:lnTo>
                      <a:lnTo>
                        <a:pt x="46" y="1553"/>
                      </a:lnTo>
                      <a:lnTo>
                        <a:pt x="48" y="1561"/>
                      </a:lnTo>
                      <a:lnTo>
                        <a:pt x="51" y="1572"/>
                      </a:lnTo>
                      <a:lnTo>
                        <a:pt x="55" y="1580"/>
                      </a:lnTo>
                      <a:lnTo>
                        <a:pt x="59" y="1589"/>
                      </a:lnTo>
                      <a:lnTo>
                        <a:pt x="63" y="1599"/>
                      </a:lnTo>
                      <a:lnTo>
                        <a:pt x="67" y="1608"/>
                      </a:lnTo>
                      <a:lnTo>
                        <a:pt x="68" y="1616"/>
                      </a:lnTo>
                      <a:lnTo>
                        <a:pt x="74" y="1627"/>
                      </a:lnTo>
                      <a:lnTo>
                        <a:pt x="78" y="1635"/>
                      </a:lnTo>
                      <a:lnTo>
                        <a:pt x="82" y="1644"/>
                      </a:lnTo>
                      <a:lnTo>
                        <a:pt x="86" y="1652"/>
                      </a:lnTo>
                      <a:lnTo>
                        <a:pt x="89" y="1661"/>
                      </a:lnTo>
                      <a:lnTo>
                        <a:pt x="95" y="1669"/>
                      </a:lnTo>
                      <a:lnTo>
                        <a:pt x="99" y="1679"/>
                      </a:lnTo>
                      <a:lnTo>
                        <a:pt x="103" y="1688"/>
                      </a:lnTo>
                      <a:lnTo>
                        <a:pt x="108" y="1696"/>
                      </a:lnTo>
                      <a:lnTo>
                        <a:pt x="114" y="1703"/>
                      </a:lnTo>
                      <a:lnTo>
                        <a:pt x="118" y="1713"/>
                      </a:lnTo>
                      <a:lnTo>
                        <a:pt x="124" y="1722"/>
                      </a:lnTo>
                      <a:lnTo>
                        <a:pt x="127" y="1732"/>
                      </a:lnTo>
                      <a:lnTo>
                        <a:pt x="131" y="1736"/>
                      </a:lnTo>
                      <a:lnTo>
                        <a:pt x="135" y="1739"/>
                      </a:lnTo>
                      <a:lnTo>
                        <a:pt x="135" y="1743"/>
                      </a:lnTo>
                      <a:lnTo>
                        <a:pt x="137" y="1745"/>
                      </a:lnTo>
                      <a:lnTo>
                        <a:pt x="139" y="1747"/>
                      </a:lnTo>
                      <a:lnTo>
                        <a:pt x="141" y="1751"/>
                      </a:lnTo>
                      <a:lnTo>
                        <a:pt x="143" y="1755"/>
                      </a:lnTo>
                      <a:lnTo>
                        <a:pt x="143" y="1756"/>
                      </a:lnTo>
                      <a:lnTo>
                        <a:pt x="145" y="1760"/>
                      </a:lnTo>
                      <a:lnTo>
                        <a:pt x="146" y="1762"/>
                      </a:lnTo>
                      <a:lnTo>
                        <a:pt x="148" y="1766"/>
                      </a:lnTo>
                      <a:lnTo>
                        <a:pt x="150" y="1768"/>
                      </a:lnTo>
                      <a:lnTo>
                        <a:pt x="152" y="1770"/>
                      </a:lnTo>
                      <a:lnTo>
                        <a:pt x="156" y="1774"/>
                      </a:lnTo>
                      <a:lnTo>
                        <a:pt x="158" y="1777"/>
                      </a:lnTo>
                      <a:lnTo>
                        <a:pt x="160" y="1779"/>
                      </a:lnTo>
                      <a:lnTo>
                        <a:pt x="160" y="1783"/>
                      </a:lnTo>
                      <a:lnTo>
                        <a:pt x="162" y="1787"/>
                      </a:lnTo>
                      <a:lnTo>
                        <a:pt x="166" y="1789"/>
                      </a:lnTo>
                      <a:lnTo>
                        <a:pt x="166" y="1791"/>
                      </a:lnTo>
                      <a:lnTo>
                        <a:pt x="167" y="1794"/>
                      </a:lnTo>
                      <a:lnTo>
                        <a:pt x="169" y="1796"/>
                      </a:lnTo>
                      <a:lnTo>
                        <a:pt x="171" y="1800"/>
                      </a:lnTo>
                      <a:lnTo>
                        <a:pt x="173" y="1802"/>
                      </a:lnTo>
                      <a:lnTo>
                        <a:pt x="175" y="1806"/>
                      </a:lnTo>
                      <a:lnTo>
                        <a:pt x="177" y="1808"/>
                      </a:lnTo>
                      <a:lnTo>
                        <a:pt x="179" y="1812"/>
                      </a:lnTo>
                      <a:lnTo>
                        <a:pt x="181" y="1815"/>
                      </a:lnTo>
                      <a:lnTo>
                        <a:pt x="183" y="1817"/>
                      </a:lnTo>
                      <a:lnTo>
                        <a:pt x="185" y="1821"/>
                      </a:lnTo>
                      <a:lnTo>
                        <a:pt x="188" y="1827"/>
                      </a:lnTo>
                      <a:lnTo>
                        <a:pt x="190" y="1831"/>
                      </a:lnTo>
                      <a:lnTo>
                        <a:pt x="194" y="1836"/>
                      </a:lnTo>
                      <a:lnTo>
                        <a:pt x="198" y="1842"/>
                      </a:lnTo>
                      <a:lnTo>
                        <a:pt x="200" y="1846"/>
                      </a:lnTo>
                      <a:lnTo>
                        <a:pt x="204" y="1850"/>
                      </a:lnTo>
                      <a:lnTo>
                        <a:pt x="205" y="1853"/>
                      </a:lnTo>
                      <a:lnTo>
                        <a:pt x="207" y="1859"/>
                      </a:lnTo>
                      <a:lnTo>
                        <a:pt x="209" y="1861"/>
                      </a:lnTo>
                      <a:lnTo>
                        <a:pt x="211" y="1863"/>
                      </a:lnTo>
                      <a:lnTo>
                        <a:pt x="213" y="1867"/>
                      </a:lnTo>
                      <a:lnTo>
                        <a:pt x="215" y="1869"/>
                      </a:lnTo>
                      <a:lnTo>
                        <a:pt x="217" y="1870"/>
                      </a:lnTo>
                      <a:lnTo>
                        <a:pt x="219" y="1874"/>
                      </a:lnTo>
                      <a:lnTo>
                        <a:pt x="141" y="2163"/>
                      </a:lnTo>
                      <a:lnTo>
                        <a:pt x="143" y="2165"/>
                      </a:lnTo>
                      <a:lnTo>
                        <a:pt x="146" y="2165"/>
                      </a:lnTo>
                      <a:lnTo>
                        <a:pt x="150" y="2167"/>
                      </a:lnTo>
                      <a:lnTo>
                        <a:pt x="152" y="2167"/>
                      </a:lnTo>
                      <a:lnTo>
                        <a:pt x="154" y="2167"/>
                      </a:lnTo>
                      <a:lnTo>
                        <a:pt x="158" y="2167"/>
                      </a:lnTo>
                      <a:lnTo>
                        <a:pt x="162" y="2171"/>
                      </a:lnTo>
                      <a:lnTo>
                        <a:pt x="166" y="2171"/>
                      </a:lnTo>
                      <a:lnTo>
                        <a:pt x="167" y="2173"/>
                      </a:lnTo>
                      <a:lnTo>
                        <a:pt x="171" y="2173"/>
                      </a:lnTo>
                      <a:lnTo>
                        <a:pt x="175" y="2175"/>
                      </a:lnTo>
                      <a:lnTo>
                        <a:pt x="181" y="2175"/>
                      </a:lnTo>
                      <a:lnTo>
                        <a:pt x="185" y="2175"/>
                      </a:lnTo>
                      <a:lnTo>
                        <a:pt x="188" y="2177"/>
                      </a:lnTo>
                      <a:lnTo>
                        <a:pt x="194" y="2180"/>
                      </a:lnTo>
                      <a:lnTo>
                        <a:pt x="198" y="2180"/>
                      </a:lnTo>
                      <a:lnTo>
                        <a:pt x="204" y="2182"/>
                      </a:lnTo>
                      <a:lnTo>
                        <a:pt x="209" y="2182"/>
                      </a:lnTo>
                      <a:lnTo>
                        <a:pt x="215" y="2184"/>
                      </a:lnTo>
                      <a:lnTo>
                        <a:pt x="219" y="2186"/>
                      </a:lnTo>
                      <a:lnTo>
                        <a:pt x="224" y="2188"/>
                      </a:lnTo>
                      <a:lnTo>
                        <a:pt x="232" y="2188"/>
                      </a:lnTo>
                      <a:lnTo>
                        <a:pt x="238" y="2190"/>
                      </a:lnTo>
                      <a:lnTo>
                        <a:pt x="243" y="2190"/>
                      </a:lnTo>
                      <a:lnTo>
                        <a:pt x="251" y="2192"/>
                      </a:lnTo>
                      <a:lnTo>
                        <a:pt x="257" y="2194"/>
                      </a:lnTo>
                      <a:lnTo>
                        <a:pt x="264" y="2194"/>
                      </a:lnTo>
                      <a:lnTo>
                        <a:pt x="270" y="2196"/>
                      </a:lnTo>
                      <a:lnTo>
                        <a:pt x="276" y="2196"/>
                      </a:lnTo>
                      <a:lnTo>
                        <a:pt x="283" y="2197"/>
                      </a:lnTo>
                      <a:lnTo>
                        <a:pt x="291" y="2199"/>
                      </a:lnTo>
                      <a:lnTo>
                        <a:pt x="297" y="2199"/>
                      </a:lnTo>
                      <a:lnTo>
                        <a:pt x="304" y="2199"/>
                      </a:lnTo>
                      <a:lnTo>
                        <a:pt x="312" y="2199"/>
                      </a:lnTo>
                      <a:lnTo>
                        <a:pt x="320" y="2201"/>
                      </a:lnTo>
                      <a:lnTo>
                        <a:pt x="325" y="2201"/>
                      </a:lnTo>
                      <a:lnTo>
                        <a:pt x="333" y="2201"/>
                      </a:lnTo>
                      <a:lnTo>
                        <a:pt x="341" y="2201"/>
                      </a:lnTo>
                      <a:lnTo>
                        <a:pt x="348" y="2201"/>
                      </a:lnTo>
                      <a:lnTo>
                        <a:pt x="356" y="2201"/>
                      </a:lnTo>
                      <a:lnTo>
                        <a:pt x="363" y="2201"/>
                      </a:lnTo>
                      <a:lnTo>
                        <a:pt x="371" y="2201"/>
                      </a:lnTo>
                      <a:lnTo>
                        <a:pt x="379" y="2201"/>
                      </a:lnTo>
                      <a:lnTo>
                        <a:pt x="386" y="2201"/>
                      </a:lnTo>
                      <a:lnTo>
                        <a:pt x="394" y="2201"/>
                      </a:lnTo>
                      <a:lnTo>
                        <a:pt x="401" y="2199"/>
                      </a:lnTo>
                      <a:lnTo>
                        <a:pt x="409" y="2199"/>
                      </a:lnTo>
                      <a:lnTo>
                        <a:pt x="415" y="2197"/>
                      </a:lnTo>
                      <a:lnTo>
                        <a:pt x="422" y="2196"/>
                      </a:lnTo>
                      <a:lnTo>
                        <a:pt x="432" y="2196"/>
                      </a:lnTo>
                      <a:lnTo>
                        <a:pt x="439" y="2194"/>
                      </a:lnTo>
                      <a:lnTo>
                        <a:pt x="447" y="2192"/>
                      </a:lnTo>
                      <a:lnTo>
                        <a:pt x="455" y="2190"/>
                      </a:lnTo>
                      <a:lnTo>
                        <a:pt x="462" y="2188"/>
                      </a:lnTo>
                      <a:lnTo>
                        <a:pt x="470" y="2188"/>
                      </a:lnTo>
                      <a:lnTo>
                        <a:pt x="476" y="2184"/>
                      </a:lnTo>
                      <a:lnTo>
                        <a:pt x="483" y="2182"/>
                      </a:lnTo>
                      <a:lnTo>
                        <a:pt x="491" y="2180"/>
                      </a:lnTo>
                      <a:lnTo>
                        <a:pt x="498" y="2175"/>
                      </a:lnTo>
                      <a:lnTo>
                        <a:pt x="504" y="2173"/>
                      </a:lnTo>
                      <a:lnTo>
                        <a:pt x="512" y="2169"/>
                      </a:lnTo>
                      <a:lnTo>
                        <a:pt x="517" y="2165"/>
                      </a:lnTo>
                      <a:lnTo>
                        <a:pt x="525" y="2161"/>
                      </a:lnTo>
                      <a:lnTo>
                        <a:pt x="531" y="2158"/>
                      </a:lnTo>
                      <a:lnTo>
                        <a:pt x="536" y="2154"/>
                      </a:lnTo>
                      <a:lnTo>
                        <a:pt x="542" y="2150"/>
                      </a:lnTo>
                      <a:lnTo>
                        <a:pt x="550" y="2146"/>
                      </a:lnTo>
                      <a:lnTo>
                        <a:pt x="555" y="2142"/>
                      </a:lnTo>
                      <a:lnTo>
                        <a:pt x="559" y="2137"/>
                      </a:lnTo>
                      <a:lnTo>
                        <a:pt x="565" y="2133"/>
                      </a:lnTo>
                      <a:lnTo>
                        <a:pt x="571" y="2129"/>
                      </a:lnTo>
                      <a:lnTo>
                        <a:pt x="576" y="2123"/>
                      </a:lnTo>
                      <a:lnTo>
                        <a:pt x="582" y="2120"/>
                      </a:lnTo>
                      <a:lnTo>
                        <a:pt x="588" y="2114"/>
                      </a:lnTo>
                      <a:lnTo>
                        <a:pt x="592" y="2110"/>
                      </a:lnTo>
                      <a:lnTo>
                        <a:pt x="595" y="2106"/>
                      </a:lnTo>
                      <a:lnTo>
                        <a:pt x="601" y="2101"/>
                      </a:lnTo>
                      <a:lnTo>
                        <a:pt x="605" y="2095"/>
                      </a:lnTo>
                      <a:lnTo>
                        <a:pt x="611" y="2091"/>
                      </a:lnTo>
                      <a:lnTo>
                        <a:pt x="614" y="2085"/>
                      </a:lnTo>
                      <a:lnTo>
                        <a:pt x="618" y="2080"/>
                      </a:lnTo>
                      <a:lnTo>
                        <a:pt x="624" y="2076"/>
                      </a:lnTo>
                      <a:lnTo>
                        <a:pt x="628" y="2070"/>
                      </a:lnTo>
                      <a:lnTo>
                        <a:pt x="632" y="2064"/>
                      </a:lnTo>
                      <a:lnTo>
                        <a:pt x="635" y="2059"/>
                      </a:lnTo>
                      <a:lnTo>
                        <a:pt x="637" y="2055"/>
                      </a:lnTo>
                      <a:lnTo>
                        <a:pt x="643" y="2049"/>
                      </a:lnTo>
                      <a:lnTo>
                        <a:pt x="645" y="2043"/>
                      </a:lnTo>
                      <a:lnTo>
                        <a:pt x="649" y="2040"/>
                      </a:lnTo>
                      <a:lnTo>
                        <a:pt x="652" y="2034"/>
                      </a:lnTo>
                      <a:lnTo>
                        <a:pt x="654" y="2030"/>
                      </a:lnTo>
                      <a:lnTo>
                        <a:pt x="658" y="2024"/>
                      </a:lnTo>
                      <a:lnTo>
                        <a:pt x="660" y="2021"/>
                      </a:lnTo>
                      <a:lnTo>
                        <a:pt x="664" y="2015"/>
                      </a:lnTo>
                      <a:lnTo>
                        <a:pt x="666" y="2011"/>
                      </a:lnTo>
                      <a:lnTo>
                        <a:pt x="668" y="2005"/>
                      </a:lnTo>
                      <a:lnTo>
                        <a:pt x="672" y="2002"/>
                      </a:lnTo>
                      <a:lnTo>
                        <a:pt x="673" y="1998"/>
                      </a:lnTo>
                      <a:lnTo>
                        <a:pt x="675" y="1992"/>
                      </a:lnTo>
                      <a:lnTo>
                        <a:pt x="677" y="1986"/>
                      </a:lnTo>
                      <a:lnTo>
                        <a:pt x="679" y="1983"/>
                      </a:lnTo>
                      <a:lnTo>
                        <a:pt x="681" y="1979"/>
                      </a:lnTo>
                      <a:lnTo>
                        <a:pt x="683" y="1975"/>
                      </a:lnTo>
                      <a:lnTo>
                        <a:pt x="685" y="1971"/>
                      </a:lnTo>
                      <a:lnTo>
                        <a:pt x="687" y="1969"/>
                      </a:lnTo>
                      <a:lnTo>
                        <a:pt x="689" y="1964"/>
                      </a:lnTo>
                      <a:lnTo>
                        <a:pt x="691" y="1962"/>
                      </a:lnTo>
                      <a:lnTo>
                        <a:pt x="692" y="1958"/>
                      </a:lnTo>
                      <a:lnTo>
                        <a:pt x="692" y="1954"/>
                      </a:lnTo>
                      <a:lnTo>
                        <a:pt x="692" y="1952"/>
                      </a:lnTo>
                      <a:lnTo>
                        <a:pt x="694" y="1950"/>
                      </a:lnTo>
                      <a:lnTo>
                        <a:pt x="696" y="1945"/>
                      </a:lnTo>
                      <a:lnTo>
                        <a:pt x="698" y="1941"/>
                      </a:lnTo>
                      <a:lnTo>
                        <a:pt x="700" y="1937"/>
                      </a:lnTo>
                      <a:lnTo>
                        <a:pt x="700" y="1935"/>
                      </a:lnTo>
                      <a:lnTo>
                        <a:pt x="700" y="1933"/>
                      </a:lnTo>
                      <a:lnTo>
                        <a:pt x="702" y="1933"/>
                      </a:lnTo>
                      <a:lnTo>
                        <a:pt x="740" y="1943"/>
                      </a:lnTo>
                      <a:lnTo>
                        <a:pt x="740" y="1943"/>
                      </a:lnTo>
                      <a:lnTo>
                        <a:pt x="738" y="1945"/>
                      </a:lnTo>
                      <a:lnTo>
                        <a:pt x="738" y="1947"/>
                      </a:lnTo>
                      <a:lnTo>
                        <a:pt x="738" y="1950"/>
                      </a:lnTo>
                      <a:lnTo>
                        <a:pt x="738" y="1954"/>
                      </a:lnTo>
                      <a:lnTo>
                        <a:pt x="738" y="1958"/>
                      </a:lnTo>
                      <a:lnTo>
                        <a:pt x="736" y="1962"/>
                      </a:lnTo>
                      <a:lnTo>
                        <a:pt x="736" y="1964"/>
                      </a:lnTo>
                      <a:lnTo>
                        <a:pt x="736" y="1967"/>
                      </a:lnTo>
                      <a:lnTo>
                        <a:pt x="736" y="1971"/>
                      </a:lnTo>
                      <a:lnTo>
                        <a:pt x="736" y="1975"/>
                      </a:lnTo>
                      <a:lnTo>
                        <a:pt x="736" y="1979"/>
                      </a:lnTo>
                      <a:lnTo>
                        <a:pt x="736" y="1983"/>
                      </a:lnTo>
                      <a:lnTo>
                        <a:pt x="736" y="1985"/>
                      </a:lnTo>
                      <a:lnTo>
                        <a:pt x="736" y="1990"/>
                      </a:lnTo>
                      <a:lnTo>
                        <a:pt x="736" y="1994"/>
                      </a:lnTo>
                      <a:lnTo>
                        <a:pt x="736" y="1998"/>
                      </a:lnTo>
                      <a:lnTo>
                        <a:pt x="736" y="2004"/>
                      </a:lnTo>
                      <a:lnTo>
                        <a:pt x="736" y="2007"/>
                      </a:lnTo>
                      <a:lnTo>
                        <a:pt x="736" y="2013"/>
                      </a:lnTo>
                      <a:lnTo>
                        <a:pt x="736" y="2015"/>
                      </a:lnTo>
                      <a:lnTo>
                        <a:pt x="736" y="2021"/>
                      </a:lnTo>
                      <a:lnTo>
                        <a:pt x="736" y="2026"/>
                      </a:lnTo>
                      <a:lnTo>
                        <a:pt x="736" y="2030"/>
                      </a:lnTo>
                      <a:lnTo>
                        <a:pt x="736" y="2036"/>
                      </a:lnTo>
                      <a:lnTo>
                        <a:pt x="736" y="2042"/>
                      </a:lnTo>
                      <a:lnTo>
                        <a:pt x="736" y="2047"/>
                      </a:lnTo>
                      <a:lnTo>
                        <a:pt x="738" y="2051"/>
                      </a:lnTo>
                      <a:lnTo>
                        <a:pt x="738" y="2057"/>
                      </a:lnTo>
                      <a:lnTo>
                        <a:pt x="738" y="2062"/>
                      </a:lnTo>
                      <a:lnTo>
                        <a:pt x="740" y="2066"/>
                      </a:lnTo>
                      <a:lnTo>
                        <a:pt x="740" y="2072"/>
                      </a:lnTo>
                      <a:lnTo>
                        <a:pt x="742" y="2078"/>
                      </a:lnTo>
                      <a:lnTo>
                        <a:pt x="744" y="2083"/>
                      </a:lnTo>
                      <a:lnTo>
                        <a:pt x="744" y="2091"/>
                      </a:lnTo>
                      <a:lnTo>
                        <a:pt x="746" y="2095"/>
                      </a:lnTo>
                      <a:lnTo>
                        <a:pt x="748" y="2101"/>
                      </a:lnTo>
                      <a:lnTo>
                        <a:pt x="748" y="2106"/>
                      </a:lnTo>
                      <a:lnTo>
                        <a:pt x="751" y="2110"/>
                      </a:lnTo>
                      <a:lnTo>
                        <a:pt x="753" y="2118"/>
                      </a:lnTo>
                      <a:lnTo>
                        <a:pt x="753" y="2123"/>
                      </a:lnTo>
                      <a:lnTo>
                        <a:pt x="757" y="2129"/>
                      </a:lnTo>
                      <a:lnTo>
                        <a:pt x="759" y="2135"/>
                      </a:lnTo>
                      <a:lnTo>
                        <a:pt x="761" y="2139"/>
                      </a:lnTo>
                      <a:lnTo>
                        <a:pt x="765" y="2144"/>
                      </a:lnTo>
                      <a:lnTo>
                        <a:pt x="767" y="2150"/>
                      </a:lnTo>
                      <a:lnTo>
                        <a:pt x="769" y="2156"/>
                      </a:lnTo>
                      <a:lnTo>
                        <a:pt x="772" y="2159"/>
                      </a:lnTo>
                      <a:lnTo>
                        <a:pt x="776" y="2165"/>
                      </a:lnTo>
                      <a:lnTo>
                        <a:pt x="780" y="2171"/>
                      </a:lnTo>
                      <a:lnTo>
                        <a:pt x="782" y="2175"/>
                      </a:lnTo>
                      <a:lnTo>
                        <a:pt x="786" y="2180"/>
                      </a:lnTo>
                      <a:lnTo>
                        <a:pt x="789" y="2186"/>
                      </a:lnTo>
                      <a:lnTo>
                        <a:pt x="795" y="2190"/>
                      </a:lnTo>
                      <a:lnTo>
                        <a:pt x="799" y="2196"/>
                      </a:lnTo>
                      <a:lnTo>
                        <a:pt x="805" y="2201"/>
                      </a:lnTo>
                      <a:lnTo>
                        <a:pt x="808" y="2205"/>
                      </a:lnTo>
                      <a:lnTo>
                        <a:pt x="814" y="2209"/>
                      </a:lnTo>
                      <a:lnTo>
                        <a:pt x="818" y="2213"/>
                      </a:lnTo>
                      <a:lnTo>
                        <a:pt x="824" y="2216"/>
                      </a:lnTo>
                      <a:lnTo>
                        <a:pt x="828" y="2222"/>
                      </a:lnTo>
                      <a:lnTo>
                        <a:pt x="833" y="2224"/>
                      </a:lnTo>
                      <a:lnTo>
                        <a:pt x="839" y="2228"/>
                      </a:lnTo>
                      <a:lnTo>
                        <a:pt x="845" y="2232"/>
                      </a:lnTo>
                      <a:lnTo>
                        <a:pt x="848" y="2235"/>
                      </a:lnTo>
                      <a:lnTo>
                        <a:pt x="854" y="2239"/>
                      </a:lnTo>
                      <a:lnTo>
                        <a:pt x="858" y="2243"/>
                      </a:lnTo>
                      <a:lnTo>
                        <a:pt x="864" y="2245"/>
                      </a:lnTo>
                      <a:lnTo>
                        <a:pt x="867" y="2249"/>
                      </a:lnTo>
                      <a:lnTo>
                        <a:pt x="873" y="2253"/>
                      </a:lnTo>
                      <a:lnTo>
                        <a:pt x="877" y="2256"/>
                      </a:lnTo>
                      <a:lnTo>
                        <a:pt x="883" y="2258"/>
                      </a:lnTo>
                      <a:lnTo>
                        <a:pt x="890" y="2260"/>
                      </a:lnTo>
                      <a:lnTo>
                        <a:pt x="896" y="2264"/>
                      </a:lnTo>
                      <a:lnTo>
                        <a:pt x="900" y="2266"/>
                      </a:lnTo>
                      <a:lnTo>
                        <a:pt x="904" y="2268"/>
                      </a:lnTo>
                      <a:lnTo>
                        <a:pt x="907" y="2270"/>
                      </a:lnTo>
                      <a:lnTo>
                        <a:pt x="913" y="2273"/>
                      </a:lnTo>
                      <a:lnTo>
                        <a:pt x="919" y="2275"/>
                      </a:lnTo>
                      <a:lnTo>
                        <a:pt x="925" y="2277"/>
                      </a:lnTo>
                      <a:lnTo>
                        <a:pt x="928" y="2279"/>
                      </a:lnTo>
                      <a:lnTo>
                        <a:pt x="934" y="2281"/>
                      </a:lnTo>
                      <a:lnTo>
                        <a:pt x="938" y="2283"/>
                      </a:lnTo>
                      <a:lnTo>
                        <a:pt x="942" y="2285"/>
                      </a:lnTo>
                      <a:lnTo>
                        <a:pt x="947" y="2287"/>
                      </a:lnTo>
                      <a:lnTo>
                        <a:pt x="951" y="2289"/>
                      </a:lnTo>
                      <a:lnTo>
                        <a:pt x="955" y="2289"/>
                      </a:lnTo>
                      <a:lnTo>
                        <a:pt x="961" y="2291"/>
                      </a:lnTo>
                      <a:lnTo>
                        <a:pt x="964" y="2291"/>
                      </a:lnTo>
                      <a:lnTo>
                        <a:pt x="968" y="2294"/>
                      </a:lnTo>
                      <a:lnTo>
                        <a:pt x="972" y="2294"/>
                      </a:lnTo>
                      <a:lnTo>
                        <a:pt x="978" y="2294"/>
                      </a:lnTo>
                      <a:lnTo>
                        <a:pt x="982" y="2296"/>
                      </a:lnTo>
                      <a:lnTo>
                        <a:pt x="985" y="2296"/>
                      </a:lnTo>
                      <a:lnTo>
                        <a:pt x="989" y="2296"/>
                      </a:lnTo>
                      <a:lnTo>
                        <a:pt x="993" y="2298"/>
                      </a:lnTo>
                      <a:lnTo>
                        <a:pt x="997" y="2298"/>
                      </a:lnTo>
                      <a:lnTo>
                        <a:pt x="1001" y="2298"/>
                      </a:lnTo>
                      <a:lnTo>
                        <a:pt x="1004" y="2298"/>
                      </a:lnTo>
                      <a:lnTo>
                        <a:pt x="1008" y="2300"/>
                      </a:lnTo>
                      <a:lnTo>
                        <a:pt x="1010" y="2300"/>
                      </a:lnTo>
                      <a:lnTo>
                        <a:pt x="1014" y="2300"/>
                      </a:lnTo>
                      <a:lnTo>
                        <a:pt x="1016" y="2300"/>
                      </a:lnTo>
                      <a:lnTo>
                        <a:pt x="1020" y="2300"/>
                      </a:lnTo>
                      <a:lnTo>
                        <a:pt x="1022" y="2300"/>
                      </a:lnTo>
                      <a:lnTo>
                        <a:pt x="1025" y="2302"/>
                      </a:lnTo>
                      <a:lnTo>
                        <a:pt x="1029" y="2300"/>
                      </a:lnTo>
                      <a:lnTo>
                        <a:pt x="1035" y="2300"/>
                      </a:lnTo>
                      <a:lnTo>
                        <a:pt x="1039" y="2298"/>
                      </a:lnTo>
                      <a:lnTo>
                        <a:pt x="1042" y="2298"/>
                      </a:lnTo>
                      <a:lnTo>
                        <a:pt x="1044" y="2296"/>
                      </a:lnTo>
                      <a:lnTo>
                        <a:pt x="1048" y="2296"/>
                      </a:lnTo>
                      <a:lnTo>
                        <a:pt x="1048" y="2294"/>
                      </a:lnTo>
                      <a:lnTo>
                        <a:pt x="1050" y="2294"/>
                      </a:lnTo>
                      <a:lnTo>
                        <a:pt x="1246" y="1334"/>
                      </a:lnTo>
                      <a:lnTo>
                        <a:pt x="1246" y="1333"/>
                      </a:lnTo>
                      <a:lnTo>
                        <a:pt x="1248" y="1331"/>
                      </a:lnTo>
                      <a:lnTo>
                        <a:pt x="1250" y="1327"/>
                      </a:lnTo>
                      <a:lnTo>
                        <a:pt x="1252" y="1325"/>
                      </a:lnTo>
                      <a:lnTo>
                        <a:pt x="1252" y="1323"/>
                      </a:lnTo>
                      <a:lnTo>
                        <a:pt x="1254" y="1319"/>
                      </a:lnTo>
                      <a:lnTo>
                        <a:pt x="1256" y="1315"/>
                      </a:lnTo>
                      <a:lnTo>
                        <a:pt x="1259" y="1312"/>
                      </a:lnTo>
                      <a:lnTo>
                        <a:pt x="1259" y="1306"/>
                      </a:lnTo>
                      <a:lnTo>
                        <a:pt x="1263" y="1302"/>
                      </a:lnTo>
                      <a:lnTo>
                        <a:pt x="1265" y="1296"/>
                      </a:lnTo>
                      <a:lnTo>
                        <a:pt x="1269" y="1293"/>
                      </a:lnTo>
                      <a:lnTo>
                        <a:pt x="1271" y="1285"/>
                      </a:lnTo>
                      <a:lnTo>
                        <a:pt x="1275" y="1281"/>
                      </a:lnTo>
                      <a:lnTo>
                        <a:pt x="1276" y="1274"/>
                      </a:lnTo>
                      <a:lnTo>
                        <a:pt x="1280" y="1266"/>
                      </a:lnTo>
                      <a:lnTo>
                        <a:pt x="1284" y="1258"/>
                      </a:lnTo>
                      <a:lnTo>
                        <a:pt x="1288" y="1249"/>
                      </a:lnTo>
                      <a:lnTo>
                        <a:pt x="1290" y="1241"/>
                      </a:lnTo>
                      <a:lnTo>
                        <a:pt x="1294" y="1234"/>
                      </a:lnTo>
                      <a:lnTo>
                        <a:pt x="1297" y="1224"/>
                      </a:lnTo>
                      <a:lnTo>
                        <a:pt x="1301" y="1217"/>
                      </a:lnTo>
                      <a:lnTo>
                        <a:pt x="1305" y="1207"/>
                      </a:lnTo>
                      <a:lnTo>
                        <a:pt x="1309" y="1198"/>
                      </a:lnTo>
                      <a:lnTo>
                        <a:pt x="1313" y="1188"/>
                      </a:lnTo>
                      <a:lnTo>
                        <a:pt x="1316" y="1177"/>
                      </a:lnTo>
                      <a:lnTo>
                        <a:pt x="1320" y="1165"/>
                      </a:lnTo>
                      <a:lnTo>
                        <a:pt x="1324" y="1154"/>
                      </a:lnTo>
                      <a:lnTo>
                        <a:pt x="1330" y="1144"/>
                      </a:lnTo>
                      <a:lnTo>
                        <a:pt x="1334" y="1133"/>
                      </a:lnTo>
                      <a:lnTo>
                        <a:pt x="1337" y="1122"/>
                      </a:lnTo>
                      <a:lnTo>
                        <a:pt x="1339" y="1108"/>
                      </a:lnTo>
                      <a:lnTo>
                        <a:pt x="1345" y="1097"/>
                      </a:lnTo>
                      <a:lnTo>
                        <a:pt x="1349" y="1084"/>
                      </a:lnTo>
                      <a:lnTo>
                        <a:pt x="1353" y="1070"/>
                      </a:lnTo>
                      <a:lnTo>
                        <a:pt x="1354" y="1059"/>
                      </a:lnTo>
                      <a:lnTo>
                        <a:pt x="1358" y="1044"/>
                      </a:lnTo>
                      <a:lnTo>
                        <a:pt x="1362" y="1032"/>
                      </a:lnTo>
                      <a:lnTo>
                        <a:pt x="1366" y="1017"/>
                      </a:lnTo>
                      <a:lnTo>
                        <a:pt x="1370" y="1004"/>
                      </a:lnTo>
                      <a:lnTo>
                        <a:pt x="1372" y="988"/>
                      </a:lnTo>
                      <a:lnTo>
                        <a:pt x="1375" y="975"/>
                      </a:lnTo>
                      <a:lnTo>
                        <a:pt x="1377" y="960"/>
                      </a:lnTo>
                      <a:lnTo>
                        <a:pt x="1381" y="947"/>
                      </a:lnTo>
                      <a:lnTo>
                        <a:pt x="1383" y="931"/>
                      </a:lnTo>
                      <a:lnTo>
                        <a:pt x="1387" y="916"/>
                      </a:lnTo>
                      <a:lnTo>
                        <a:pt x="1389" y="901"/>
                      </a:lnTo>
                      <a:lnTo>
                        <a:pt x="1391" y="886"/>
                      </a:lnTo>
                      <a:lnTo>
                        <a:pt x="1392" y="871"/>
                      </a:lnTo>
                      <a:lnTo>
                        <a:pt x="1394" y="855"/>
                      </a:lnTo>
                      <a:lnTo>
                        <a:pt x="1396" y="838"/>
                      </a:lnTo>
                      <a:lnTo>
                        <a:pt x="1398" y="823"/>
                      </a:lnTo>
                      <a:lnTo>
                        <a:pt x="1398" y="806"/>
                      </a:lnTo>
                      <a:lnTo>
                        <a:pt x="1400" y="791"/>
                      </a:lnTo>
                      <a:lnTo>
                        <a:pt x="1402" y="774"/>
                      </a:lnTo>
                      <a:lnTo>
                        <a:pt x="1402" y="757"/>
                      </a:lnTo>
                      <a:lnTo>
                        <a:pt x="1402" y="741"/>
                      </a:lnTo>
                      <a:lnTo>
                        <a:pt x="1402" y="724"/>
                      </a:lnTo>
                      <a:lnTo>
                        <a:pt x="1402" y="705"/>
                      </a:lnTo>
                      <a:lnTo>
                        <a:pt x="1402" y="690"/>
                      </a:lnTo>
                      <a:lnTo>
                        <a:pt x="1400" y="673"/>
                      </a:lnTo>
                      <a:lnTo>
                        <a:pt x="1400" y="656"/>
                      </a:lnTo>
                      <a:lnTo>
                        <a:pt x="1398" y="654"/>
                      </a:lnTo>
                      <a:lnTo>
                        <a:pt x="1398" y="652"/>
                      </a:lnTo>
                      <a:lnTo>
                        <a:pt x="1398" y="648"/>
                      </a:lnTo>
                      <a:lnTo>
                        <a:pt x="1398" y="644"/>
                      </a:lnTo>
                      <a:lnTo>
                        <a:pt x="1398" y="643"/>
                      </a:lnTo>
                      <a:lnTo>
                        <a:pt x="1398" y="639"/>
                      </a:lnTo>
                      <a:lnTo>
                        <a:pt x="1396" y="637"/>
                      </a:lnTo>
                      <a:lnTo>
                        <a:pt x="1396" y="633"/>
                      </a:lnTo>
                      <a:lnTo>
                        <a:pt x="1396" y="631"/>
                      </a:lnTo>
                      <a:lnTo>
                        <a:pt x="1396" y="627"/>
                      </a:lnTo>
                      <a:lnTo>
                        <a:pt x="1396" y="623"/>
                      </a:lnTo>
                      <a:lnTo>
                        <a:pt x="1394" y="620"/>
                      </a:lnTo>
                      <a:lnTo>
                        <a:pt x="1394" y="618"/>
                      </a:lnTo>
                      <a:lnTo>
                        <a:pt x="1394" y="616"/>
                      </a:lnTo>
                      <a:lnTo>
                        <a:pt x="1392" y="612"/>
                      </a:lnTo>
                      <a:lnTo>
                        <a:pt x="1392" y="610"/>
                      </a:lnTo>
                      <a:lnTo>
                        <a:pt x="1392" y="608"/>
                      </a:lnTo>
                      <a:lnTo>
                        <a:pt x="1391" y="604"/>
                      </a:lnTo>
                      <a:lnTo>
                        <a:pt x="1391" y="603"/>
                      </a:lnTo>
                      <a:lnTo>
                        <a:pt x="1391" y="599"/>
                      </a:lnTo>
                      <a:lnTo>
                        <a:pt x="1389" y="597"/>
                      </a:lnTo>
                      <a:lnTo>
                        <a:pt x="1389" y="593"/>
                      </a:lnTo>
                      <a:lnTo>
                        <a:pt x="1389" y="589"/>
                      </a:lnTo>
                      <a:lnTo>
                        <a:pt x="1389" y="587"/>
                      </a:lnTo>
                      <a:lnTo>
                        <a:pt x="1387" y="585"/>
                      </a:lnTo>
                      <a:lnTo>
                        <a:pt x="1385" y="582"/>
                      </a:lnTo>
                      <a:lnTo>
                        <a:pt x="1385" y="580"/>
                      </a:lnTo>
                      <a:lnTo>
                        <a:pt x="1383" y="578"/>
                      </a:lnTo>
                      <a:lnTo>
                        <a:pt x="1383" y="572"/>
                      </a:lnTo>
                      <a:lnTo>
                        <a:pt x="1381" y="568"/>
                      </a:lnTo>
                      <a:lnTo>
                        <a:pt x="1377" y="563"/>
                      </a:lnTo>
                      <a:lnTo>
                        <a:pt x="1375" y="557"/>
                      </a:lnTo>
                      <a:lnTo>
                        <a:pt x="1373" y="553"/>
                      </a:lnTo>
                      <a:lnTo>
                        <a:pt x="1370" y="547"/>
                      </a:lnTo>
                      <a:lnTo>
                        <a:pt x="1366" y="544"/>
                      </a:lnTo>
                      <a:lnTo>
                        <a:pt x="1364" y="540"/>
                      </a:lnTo>
                      <a:lnTo>
                        <a:pt x="1360" y="536"/>
                      </a:lnTo>
                      <a:lnTo>
                        <a:pt x="1356" y="532"/>
                      </a:lnTo>
                      <a:lnTo>
                        <a:pt x="1353" y="528"/>
                      </a:lnTo>
                      <a:lnTo>
                        <a:pt x="1349" y="525"/>
                      </a:lnTo>
                      <a:lnTo>
                        <a:pt x="1345" y="523"/>
                      </a:lnTo>
                      <a:lnTo>
                        <a:pt x="1339" y="521"/>
                      </a:lnTo>
                      <a:lnTo>
                        <a:pt x="1335" y="517"/>
                      </a:lnTo>
                      <a:lnTo>
                        <a:pt x="1332" y="515"/>
                      </a:lnTo>
                      <a:lnTo>
                        <a:pt x="1326" y="515"/>
                      </a:lnTo>
                      <a:lnTo>
                        <a:pt x="1322" y="513"/>
                      </a:lnTo>
                      <a:lnTo>
                        <a:pt x="1318" y="511"/>
                      </a:lnTo>
                      <a:lnTo>
                        <a:pt x="1316" y="511"/>
                      </a:lnTo>
                      <a:lnTo>
                        <a:pt x="1313" y="511"/>
                      </a:lnTo>
                      <a:lnTo>
                        <a:pt x="1311" y="511"/>
                      </a:lnTo>
                      <a:lnTo>
                        <a:pt x="1309" y="509"/>
                      </a:lnTo>
                      <a:lnTo>
                        <a:pt x="1305" y="509"/>
                      </a:lnTo>
                      <a:lnTo>
                        <a:pt x="1303" y="509"/>
                      </a:lnTo>
                      <a:lnTo>
                        <a:pt x="1301" y="509"/>
                      </a:lnTo>
                      <a:lnTo>
                        <a:pt x="1297" y="509"/>
                      </a:lnTo>
                      <a:lnTo>
                        <a:pt x="1295" y="509"/>
                      </a:lnTo>
                      <a:lnTo>
                        <a:pt x="1292" y="509"/>
                      </a:lnTo>
                      <a:lnTo>
                        <a:pt x="1290" y="509"/>
                      </a:lnTo>
                      <a:lnTo>
                        <a:pt x="1284" y="509"/>
                      </a:lnTo>
                      <a:lnTo>
                        <a:pt x="1280" y="509"/>
                      </a:lnTo>
                      <a:lnTo>
                        <a:pt x="1275" y="509"/>
                      </a:lnTo>
                      <a:lnTo>
                        <a:pt x="1269" y="509"/>
                      </a:lnTo>
                      <a:lnTo>
                        <a:pt x="1265" y="509"/>
                      </a:lnTo>
                      <a:lnTo>
                        <a:pt x="1259" y="509"/>
                      </a:lnTo>
                      <a:lnTo>
                        <a:pt x="1256" y="511"/>
                      </a:lnTo>
                      <a:lnTo>
                        <a:pt x="1252" y="511"/>
                      </a:lnTo>
                      <a:lnTo>
                        <a:pt x="1246" y="515"/>
                      </a:lnTo>
                      <a:lnTo>
                        <a:pt x="1242" y="515"/>
                      </a:lnTo>
                      <a:lnTo>
                        <a:pt x="1238" y="517"/>
                      </a:lnTo>
                      <a:lnTo>
                        <a:pt x="1235" y="521"/>
                      </a:lnTo>
                      <a:lnTo>
                        <a:pt x="1231" y="523"/>
                      </a:lnTo>
                      <a:lnTo>
                        <a:pt x="1229" y="525"/>
                      </a:lnTo>
                      <a:lnTo>
                        <a:pt x="1225" y="527"/>
                      </a:lnTo>
                      <a:lnTo>
                        <a:pt x="1221" y="530"/>
                      </a:lnTo>
                      <a:lnTo>
                        <a:pt x="1219" y="532"/>
                      </a:lnTo>
                      <a:lnTo>
                        <a:pt x="1216" y="538"/>
                      </a:lnTo>
                      <a:lnTo>
                        <a:pt x="1214" y="542"/>
                      </a:lnTo>
                      <a:lnTo>
                        <a:pt x="1212" y="546"/>
                      </a:lnTo>
                      <a:lnTo>
                        <a:pt x="1210" y="549"/>
                      </a:lnTo>
                      <a:lnTo>
                        <a:pt x="1208" y="555"/>
                      </a:lnTo>
                      <a:lnTo>
                        <a:pt x="1208" y="557"/>
                      </a:lnTo>
                      <a:lnTo>
                        <a:pt x="1206" y="559"/>
                      </a:lnTo>
                      <a:lnTo>
                        <a:pt x="1204" y="561"/>
                      </a:lnTo>
                      <a:lnTo>
                        <a:pt x="1204" y="565"/>
                      </a:lnTo>
                      <a:lnTo>
                        <a:pt x="1204" y="566"/>
                      </a:lnTo>
                      <a:lnTo>
                        <a:pt x="1204" y="570"/>
                      </a:lnTo>
                      <a:lnTo>
                        <a:pt x="1204" y="572"/>
                      </a:lnTo>
                      <a:lnTo>
                        <a:pt x="1204" y="576"/>
                      </a:lnTo>
                      <a:lnTo>
                        <a:pt x="1139" y="895"/>
                      </a:lnTo>
                      <a:lnTo>
                        <a:pt x="1136" y="893"/>
                      </a:lnTo>
                      <a:lnTo>
                        <a:pt x="1132" y="892"/>
                      </a:lnTo>
                      <a:lnTo>
                        <a:pt x="1126" y="888"/>
                      </a:lnTo>
                      <a:lnTo>
                        <a:pt x="1122" y="886"/>
                      </a:lnTo>
                      <a:lnTo>
                        <a:pt x="1117" y="884"/>
                      </a:lnTo>
                      <a:lnTo>
                        <a:pt x="1113" y="880"/>
                      </a:lnTo>
                      <a:lnTo>
                        <a:pt x="1107" y="878"/>
                      </a:lnTo>
                      <a:lnTo>
                        <a:pt x="1105" y="876"/>
                      </a:lnTo>
                      <a:lnTo>
                        <a:pt x="1227" y="316"/>
                      </a:lnTo>
                      <a:lnTo>
                        <a:pt x="1227" y="312"/>
                      </a:lnTo>
                      <a:lnTo>
                        <a:pt x="1227" y="308"/>
                      </a:lnTo>
                      <a:lnTo>
                        <a:pt x="1229" y="306"/>
                      </a:lnTo>
                      <a:lnTo>
                        <a:pt x="1229" y="304"/>
                      </a:lnTo>
                      <a:lnTo>
                        <a:pt x="1229" y="300"/>
                      </a:lnTo>
                      <a:lnTo>
                        <a:pt x="1229" y="298"/>
                      </a:lnTo>
                      <a:lnTo>
                        <a:pt x="1229" y="295"/>
                      </a:lnTo>
                      <a:lnTo>
                        <a:pt x="1229" y="293"/>
                      </a:lnTo>
                      <a:lnTo>
                        <a:pt x="1229" y="291"/>
                      </a:lnTo>
                      <a:lnTo>
                        <a:pt x="1229" y="287"/>
                      </a:lnTo>
                      <a:lnTo>
                        <a:pt x="1229" y="285"/>
                      </a:lnTo>
                      <a:lnTo>
                        <a:pt x="1229" y="283"/>
                      </a:lnTo>
                      <a:lnTo>
                        <a:pt x="1229" y="278"/>
                      </a:lnTo>
                      <a:lnTo>
                        <a:pt x="1227" y="272"/>
                      </a:lnTo>
                      <a:lnTo>
                        <a:pt x="1225" y="268"/>
                      </a:lnTo>
                      <a:lnTo>
                        <a:pt x="1225" y="262"/>
                      </a:lnTo>
                      <a:lnTo>
                        <a:pt x="1223" y="257"/>
                      </a:lnTo>
                      <a:lnTo>
                        <a:pt x="1221" y="253"/>
                      </a:lnTo>
                      <a:lnTo>
                        <a:pt x="1219" y="247"/>
                      </a:lnTo>
                      <a:lnTo>
                        <a:pt x="1217" y="243"/>
                      </a:lnTo>
                      <a:lnTo>
                        <a:pt x="1216" y="240"/>
                      </a:lnTo>
                      <a:lnTo>
                        <a:pt x="1214" y="236"/>
                      </a:lnTo>
                      <a:lnTo>
                        <a:pt x="1210" y="232"/>
                      </a:lnTo>
                      <a:lnTo>
                        <a:pt x="1206" y="226"/>
                      </a:lnTo>
                      <a:lnTo>
                        <a:pt x="1202" y="222"/>
                      </a:lnTo>
                      <a:lnTo>
                        <a:pt x="1200" y="219"/>
                      </a:lnTo>
                      <a:lnTo>
                        <a:pt x="1197" y="215"/>
                      </a:lnTo>
                      <a:lnTo>
                        <a:pt x="1193" y="211"/>
                      </a:lnTo>
                      <a:lnTo>
                        <a:pt x="1189" y="207"/>
                      </a:lnTo>
                      <a:lnTo>
                        <a:pt x="1185" y="205"/>
                      </a:lnTo>
                      <a:lnTo>
                        <a:pt x="1179" y="203"/>
                      </a:lnTo>
                      <a:lnTo>
                        <a:pt x="1176" y="200"/>
                      </a:lnTo>
                      <a:lnTo>
                        <a:pt x="1172" y="198"/>
                      </a:lnTo>
                      <a:lnTo>
                        <a:pt x="1166" y="194"/>
                      </a:lnTo>
                      <a:lnTo>
                        <a:pt x="1160" y="192"/>
                      </a:lnTo>
                      <a:lnTo>
                        <a:pt x="1157" y="192"/>
                      </a:lnTo>
                      <a:lnTo>
                        <a:pt x="1151" y="190"/>
                      </a:lnTo>
                      <a:lnTo>
                        <a:pt x="1147" y="190"/>
                      </a:lnTo>
                      <a:lnTo>
                        <a:pt x="1143" y="188"/>
                      </a:lnTo>
                      <a:lnTo>
                        <a:pt x="1141" y="186"/>
                      </a:lnTo>
                      <a:lnTo>
                        <a:pt x="1138" y="186"/>
                      </a:lnTo>
                      <a:lnTo>
                        <a:pt x="1136" y="186"/>
                      </a:lnTo>
                      <a:lnTo>
                        <a:pt x="1134" y="186"/>
                      </a:lnTo>
                      <a:lnTo>
                        <a:pt x="1130" y="186"/>
                      </a:lnTo>
                      <a:lnTo>
                        <a:pt x="1128" y="186"/>
                      </a:lnTo>
                      <a:lnTo>
                        <a:pt x="1124" y="186"/>
                      </a:lnTo>
                      <a:lnTo>
                        <a:pt x="1122" y="186"/>
                      </a:lnTo>
                      <a:lnTo>
                        <a:pt x="1120" y="186"/>
                      </a:lnTo>
                      <a:lnTo>
                        <a:pt x="1117" y="186"/>
                      </a:lnTo>
                      <a:lnTo>
                        <a:pt x="1115" y="186"/>
                      </a:lnTo>
                      <a:lnTo>
                        <a:pt x="1109" y="186"/>
                      </a:lnTo>
                      <a:lnTo>
                        <a:pt x="1105" y="188"/>
                      </a:lnTo>
                      <a:lnTo>
                        <a:pt x="1100" y="188"/>
                      </a:lnTo>
                      <a:lnTo>
                        <a:pt x="1094" y="190"/>
                      </a:lnTo>
                      <a:lnTo>
                        <a:pt x="1090" y="192"/>
                      </a:lnTo>
                      <a:lnTo>
                        <a:pt x="1086" y="192"/>
                      </a:lnTo>
                      <a:lnTo>
                        <a:pt x="1081" y="194"/>
                      </a:lnTo>
                      <a:lnTo>
                        <a:pt x="1077" y="198"/>
                      </a:lnTo>
                      <a:lnTo>
                        <a:pt x="1073" y="200"/>
                      </a:lnTo>
                      <a:lnTo>
                        <a:pt x="1067" y="203"/>
                      </a:lnTo>
                      <a:lnTo>
                        <a:pt x="1063" y="205"/>
                      </a:lnTo>
                      <a:lnTo>
                        <a:pt x="1058" y="207"/>
                      </a:lnTo>
                      <a:lnTo>
                        <a:pt x="1054" y="211"/>
                      </a:lnTo>
                      <a:lnTo>
                        <a:pt x="1050" y="215"/>
                      </a:lnTo>
                      <a:lnTo>
                        <a:pt x="1048" y="219"/>
                      </a:lnTo>
                      <a:lnTo>
                        <a:pt x="1044" y="222"/>
                      </a:lnTo>
                      <a:lnTo>
                        <a:pt x="1041" y="226"/>
                      </a:lnTo>
                      <a:lnTo>
                        <a:pt x="1039" y="232"/>
                      </a:lnTo>
                      <a:lnTo>
                        <a:pt x="1035" y="234"/>
                      </a:lnTo>
                      <a:lnTo>
                        <a:pt x="1033" y="240"/>
                      </a:lnTo>
                      <a:lnTo>
                        <a:pt x="1029" y="243"/>
                      </a:lnTo>
                      <a:lnTo>
                        <a:pt x="1027" y="249"/>
                      </a:lnTo>
                      <a:lnTo>
                        <a:pt x="1025" y="253"/>
                      </a:lnTo>
                      <a:lnTo>
                        <a:pt x="1023" y="259"/>
                      </a:lnTo>
                      <a:lnTo>
                        <a:pt x="1022" y="260"/>
                      </a:lnTo>
                      <a:lnTo>
                        <a:pt x="1022" y="264"/>
                      </a:lnTo>
                      <a:lnTo>
                        <a:pt x="1022" y="266"/>
                      </a:lnTo>
                      <a:lnTo>
                        <a:pt x="1022" y="270"/>
                      </a:lnTo>
                      <a:lnTo>
                        <a:pt x="919" y="730"/>
                      </a:lnTo>
                      <a:lnTo>
                        <a:pt x="915" y="728"/>
                      </a:lnTo>
                      <a:lnTo>
                        <a:pt x="913" y="726"/>
                      </a:lnTo>
                      <a:lnTo>
                        <a:pt x="907" y="724"/>
                      </a:lnTo>
                      <a:lnTo>
                        <a:pt x="905" y="720"/>
                      </a:lnTo>
                      <a:lnTo>
                        <a:pt x="904" y="719"/>
                      </a:lnTo>
                      <a:lnTo>
                        <a:pt x="900" y="717"/>
                      </a:lnTo>
                      <a:lnTo>
                        <a:pt x="896" y="713"/>
                      </a:lnTo>
                      <a:lnTo>
                        <a:pt x="892" y="713"/>
                      </a:lnTo>
                      <a:lnTo>
                        <a:pt x="1022" y="129"/>
                      </a:lnTo>
                      <a:lnTo>
                        <a:pt x="1022" y="125"/>
                      </a:lnTo>
                      <a:lnTo>
                        <a:pt x="1022" y="124"/>
                      </a:lnTo>
                      <a:lnTo>
                        <a:pt x="1022" y="120"/>
                      </a:lnTo>
                      <a:lnTo>
                        <a:pt x="1022" y="118"/>
                      </a:lnTo>
                      <a:lnTo>
                        <a:pt x="1022" y="114"/>
                      </a:lnTo>
                      <a:lnTo>
                        <a:pt x="1022" y="112"/>
                      </a:lnTo>
                      <a:lnTo>
                        <a:pt x="1022" y="110"/>
                      </a:lnTo>
                      <a:lnTo>
                        <a:pt x="1022" y="106"/>
                      </a:lnTo>
                      <a:lnTo>
                        <a:pt x="1022" y="105"/>
                      </a:lnTo>
                      <a:lnTo>
                        <a:pt x="1022" y="103"/>
                      </a:lnTo>
                      <a:lnTo>
                        <a:pt x="1022" y="99"/>
                      </a:lnTo>
                      <a:lnTo>
                        <a:pt x="1022" y="97"/>
                      </a:lnTo>
                      <a:lnTo>
                        <a:pt x="1022" y="91"/>
                      </a:lnTo>
                      <a:lnTo>
                        <a:pt x="1022" y="86"/>
                      </a:lnTo>
                      <a:lnTo>
                        <a:pt x="1020" y="82"/>
                      </a:lnTo>
                      <a:lnTo>
                        <a:pt x="1018" y="76"/>
                      </a:lnTo>
                      <a:lnTo>
                        <a:pt x="1016" y="70"/>
                      </a:lnTo>
                      <a:lnTo>
                        <a:pt x="1014" y="67"/>
                      </a:lnTo>
                      <a:lnTo>
                        <a:pt x="1012" y="61"/>
                      </a:lnTo>
                      <a:lnTo>
                        <a:pt x="1010" y="57"/>
                      </a:lnTo>
                      <a:lnTo>
                        <a:pt x="1008" y="53"/>
                      </a:lnTo>
                      <a:lnTo>
                        <a:pt x="1006" y="48"/>
                      </a:lnTo>
                      <a:lnTo>
                        <a:pt x="1004" y="44"/>
                      </a:lnTo>
                      <a:lnTo>
                        <a:pt x="1001" y="40"/>
                      </a:lnTo>
                      <a:lnTo>
                        <a:pt x="997" y="36"/>
                      </a:lnTo>
                      <a:lnTo>
                        <a:pt x="993" y="32"/>
                      </a:lnTo>
                      <a:lnTo>
                        <a:pt x="991" y="29"/>
                      </a:lnTo>
                      <a:lnTo>
                        <a:pt x="985" y="25"/>
                      </a:lnTo>
                      <a:lnTo>
                        <a:pt x="983" y="23"/>
                      </a:lnTo>
                      <a:lnTo>
                        <a:pt x="978" y="19"/>
                      </a:lnTo>
                      <a:lnTo>
                        <a:pt x="972" y="17"/>
                      </a:lnTo>
                      <a:lnTo>
                        <a:pt x="968" y="13"/>
                      </a:lnTo>
                      <a:lnTo>
                        <a:pt x="964" y="11"/>
                      </a:lnTo>
                      <a:lnTo>
                        <a:pt x="961" y="10"/>
                      </a:lnTo>
                      <a:lnTo>
                        <a:pt x="955" y="6"/>
                      </a:lnTo>
                      <a:lnTo>
                        <a:pt x="949" y="6"/>
                      </a:lnTo>
                      <a:lnTo>
                        <a:pt x="944" y="4"/>
                      </a:lnTo>
                      <a:lnTo>
                        <a:pt x="940" y="4"/>
                      </a:lnTo>
                      <a:lnTo>
                        <a:pt x="936" y="2"/>
                      </a:lnTo>
                      <a:lnTo>
                        <a:pt x="934" y="2"/>
                      </a:lnTo>
                      <a:lnTo>
                        <a:pt x="932" y="0"/>
                      </a:lnTo>
                      <a:lnTo>
                        <a:pt x="928" y="0"/>
                      </a:lnTo>
                      <a:lnTo>
                        <a:pt x="926" y="0"/>
                      </a:lnTo>
                      <a:lnTo>
                        <a:pt x="925" y="0"/>
                      </a:lnTo>
                      <a:lnTo>
                        <a:pt x="921" y="0"/>
                      </a:lnTo>
                      <a:lnTo>
                        <a:pt x="919" y="0"/>
                      </a:lnTo>
                      <a:lnTo>
                        <a:pt x="915" y="0"/>
                      </a:lnTo>
                      <a:lnTo>
                        <a:pt x="913" y="0"/>
                      </a:lnTo>
                      <a:lnTo>
                        <a:pt x="911" y="0"/>
                      </a:lnTo>
                      <a:lnTo>
                        <a:pt x="907" y="0"/>
                      </a:lnTo>
                      <a:lnTo>
                        <a:pt x="904" y="0"/>
                      </a:lnTo>
                      <a:lnTo>
                        <a:pt x="898" y="2"/>
                      </a:lnTo>
                      <a:lnTo>
                        <a:pt x="896" y="2"/>
                      </a:lnTo>
                      <a:lnTo>
                        <a:pt x="892" y="2"/>
                      </a:lnTo>
                      <a:lnTo>
                        <a:pt x="890" y="2"/>
                      </a:lnTo>
                      <a:lnTo>
                        <a:pt x="888" y="4"/>
                      </a:lnTo>
                      <a:lnTo>
                        <a:pt x="881" y="4"/>
                      </a:lnTo>
                      <a:lnTo>
                        <a:pt x="877" y="6"/>
                      </a:lnTo>
                      <a:lnTo>
                        <a:pt x="873" y="10"/>
                      </a:lnTo>
                      <a:lnTo>
                        <a:pt x="867" y="11"/>
                      </a:lnTo>
                      <a:lnTo>
                        <a:pt x="864" y="15"/>
                      </a:lnTo>
                      <a:lnTo>
                        <a:pt x="860" y="17"/>
                      </a:lnTo>
                      <a:lnTo>
                        <a:pt x="854" y="19"/>
                      </a:lnTo>
                      <a:lnTo>
                        <a:pt x="850" y="23"/>
                      </a:lnTo>
                      <a:lnTo>
                        <a:pt x="847" y="25"/>
                      </a:lnTo>
                      <a:lnTo>
                        <a:pt x="843" y="29"/>
                      </a:lnTo>
                      <a:lnTo>
                        <a:pt x="839" y="32"/>
                      </a:lnTo>
                      <a:lnTo>
                        <a:pt x="835" y="36"/>
                      </a:lnTo>
                      <a:lnTo>
                        <a:pt x="833" y="40"/>
                      </a:lnTo>
                      <a:lnTo>
                        <a:pt x="831" y="44"/>
                      </a:lnTo>
                      <a:lnTo>
                        <a:pt x="828" y="48"/>
                      </a:lnTo>
                      <a:lnTo>
                        <a:pt x="824" y="53"/>
                      </a:lnTo>
                      <a:lnTo>
                        <a:pt x="822" y="57"/>
                      </a:lnTo>
                      <a:lnTo>
                        <a:pt x="820" y="61"/>
                      </a:lnTo>
                      <a:lnTo>
                        <a:pt x="818" y="67"/>
                      </a:lnTo>
                      <a:lnTo>
                        <a:pt x="816" y="70"/>
                      </a:lnTo>
                      <a:lnTo>
                        <a:pt x="816" y="74"/>
                      </a:lnTo>
                      <a:lnTo>
                        <a:pt x="814" y="76"/>
                      </a:lnTo>
                      <a:lnTo>
                        <a:pt x="812" y="82"/>
                      </a:lnTo>
                      <a:lnTo>
                        <a:pt x="812" y="84"/>
                      </a:lnTo>
                      <a:lnTo>
                        <a:pt x="687" y="663"/>
                      </a:lnTo>
                      <a:lnTo>
                        <a:pt x="681" y="663"/>
                      </a:lnTo>
                      <a:lnTo>
                        <a:pt x="677" y="663"/>
                      </a:lnTo>
                      <a:lnTo>
                        <a:pt x="673" y="663"/>
                      </a:lnTo>
                      <a:lnTo>
                        <a:pt x="670" y="663"/>
                      </a:lnTo>
                      <a:lnTo>
                        <a:pt x="666" y="663"/>
                      </a:lnTo>
                      <a:lnTo>
                        <a:pt x="660" y="665"/>
                      </a:lnTo>
                      <a:lnTo>
                        <a:pt x="656" y="665"/>
                      </a:lnTo>
                      <a:lnTo>
                        <a:pt x="652" y="667"/>
                      </a:lnTo>
                      <a:lnTo>
                        <a:pt x="753" y="213"/>
                      </a:lnTo>
                      <a:lnTo>
                        <a:pt x="753" y="209"/>
                      </a:lnTo>
                      <a:lnTo>
                        <a:pt x="753" y="207"/>
                      </a:lnTo>
                      <a:lnTo>
                        <a:pt x="753" y="203"/>
                      </a:lnTo>
                      <a:lnTo>
                        <a:pt x="753" y="201"/>
                      </a:lnTo>
                      <a:lnTo>
                        <a:pt x="753" y="198"/>
                      </a:lnTo>
                      <a:lnTo>
                        <a:pt x="753" y="196"/>
                      </a:lnTo>
                      <a:lnTo>
                        <a:pt x="753" y="192"/>
                      </a:lnTo>
                      <a:lnTo>
                        <a:pt x="753" y="190"/>
                      </a:lnTo>
                      <a:lnTo>
                        <a:pt x="753" y="188"/>
                      </a:lnTo>
                      <a:lnTo>
                        <a:pt x="753" y="184"/>
                      </a:lnTo>
                      <a:lnTo>
                        <a:pt x="753" y="182"/>
                      </a:lnTo>
                      <a:lnTo>
                        <a:pt x="753" y="181"/>
                      </a:lnTo>
                      <a:lnTo>
                        <a:pt x="753" y="175"/>
                      </a:lnTo>
                      <a:lnTo>
                        <a:pt x="753" y="169"/>
                      </a:lnTo>
                      <a:lnTo>
                        <a:pt x="751" y="167"/>
                      </a:lnTo>
                      <a:lnTo>
                        <a:pt x="751" y="163"/>
                      </a:lnTo>
                      <a:lnTo>
                        <a:pt x="751" y="162"/>
                      </a:lnTo>
                      <a:lnTo>
                        <a:pt x="750" y="160"/>
                      </a:lnTo>
                      <a:lnTo>
                        <a:pt x="748" y="154"/>
                      </a:lnTo>
                      <a:lnTo>
                        <a:pt x="746" y="148"/>
                      </a:lnTo>
                      <a:lnTo>
                        <a:pt x="744" y="144"/>
                      </a:lnTo>
                      <a:lnTo>
                        <a:pt x="742" y="141"/>
                      </a:lnTo>
                      <a:lnTo>
                        <a:pt x="740" y="135"/>
                      </a:lnTo>
                      <a:lnTo>
                        <a:pt x="738" y="131"/>
                      </a:lnTo>
                      <a:lnTo>
                        <a:pt x="734" y="127"/>
                      </a:lnTo>
                      <a:lnTo>
                        <a:pt x="730" y="124"/>
                      </a:lnTo>
                      <a:lnTo>
                        <a:pt x="727" y="120"/>
                      </a:lnTo>
                      <a:lnTo>
                        <a:pt x="725" y="116"/>
                      </a:lnTo>
                      <a:lnTo>
                        <a:pt x="721" y="112"/>
                      </a:lnTo>
                      <a:lnTo>
                        <a:pt x="717" y="108"/>
                      </a:lnTo>
                      <a:lnTo>
                        <a:pt x="713" y="105"/>
                      </a:lnTo>
                      <a:lnTo>
                        <a:pt x="710" y="103"/>
                      </a:lnTo>
                      <a:lnTo>
                        <a:pt x="704" y="99"/>
                      </a:lnTo>
                      <a:lnTo>
                        <a:pt x="700" y="97"/>
                      </a:lnTo>
                      <a:lnTo>
                        <a:pt x="694" y="95"/>
                      </a:lnTo>
                      <a:lnTo>
                        <a:pt x="691" y="91"/>
                      </a:lnTo>
                      <a:lnTo>
                        <a:pt x="685" y="89"/>
                      </a:lnTo>
                      <a:lnTo>
                        <a:pt x="681" y="87"/>
                      </a:lnTo>
                      <a:lnTo>
                        <a:pt x="675" y="86"/>
                      </a:lnTo>
                      <a:lnTo>
                        <a:pt x="672" y="86"/>
                      </a:lnTo>
                      <a:lnTo>
                        <a:pt x="668" y="84"/>
                      </a:lnTo>
                      <a:lnTo>
                        <a:pt x="666" y="84"/>
                      </a:lnTo>
                      <a:lnTo>
                        <a:pt x="664" y="84"/>
                      </a:lnTo>
                      <a:lnTo>
                        <a:pt x="660" y="84"/>
                      </a:lnTo>
                      <a:lnTo>
                        <a:pt x="658" y="84"/>
                      </a:lnTo>
                      <a:lnTo>
                        <a:pt x="654" y="84"/>
                      </a:lnTo>
                      <a:lnTo>
                        <a:pt x="652" y="84"/>
                      </a:lnTo>
                      <a:lnTo>
                        <a:pt x="651" y="84"/>
                      </a:lnTo>
                      <a:lnTo>
                        <a:pt x="647" y="84"/>
                      </a:lnTo>
                      <a:lnTo>
                        <a:pt x="645" y="84"/>
                      </a:lnTo>
                      <a:lnTo>
                        <a:pt x="643" y="84"/>
                      </a:lnTo>
                      <a:lnTo>
                        <a:pt x="639" y="84"/>
                      </a:lnTo>
                      <a:lnTo>
                        <a:pt x="635" y="84"/>
                      </a:lnTo>
                      <a:lnTo>
                        <a:pt x="630" y="84"/>
                      </a:lnTo>
                      <a:lnTo>
                        <a:pt x="628" y="84"/>
                      </a:lnTo>
                      <a:lnTo>
                        <a:pt x="624" y="86"/>
                      </a:lnTo>
                      <a:lnTo>
                        <a:pt x="622" y="86"/>
                      </a:lnTo>
                      <a:lnTo>
                        <a:pt x="618" y="86"/>
                      </a:lnTo>
                      <a:lnTo>
                        <a:pt x="614" y="87"/>
                      </a:lnTo>
                      <a:lnTo>
                        <a:pt x="609" y="89"/>
                      </a:lnTo>
                      <a:lnTo>
                        <a:pt x="603" y="91"/>
                      </a:lnTo>
                      <a:lnTo>
                        <a:pt x="599" y="95"/>
                      </a:lnTo>
                      <a:lnTo>
                        <a:pt x="595" y="97"/>
                      </a:lnTo>
                      <a:lnTo>
                        <a:pt x="592" y="99"/>
                      </a:lnTo>
                      <a:lnTo>
                        <a:pt x="586" y="103"/>
                      </a:lnTo>
                      <a:lnTo>
                        <a:pt x="582" y="105"/>
                      </a:lnTo>
                      <a:lnTo>
                        <a:pt x="578" y="108"/>
                      </a:lnTo>
                      <a:lnTo>
                        <a:pt x="574" y="112"/>
                      </a:lnTo>
                      <a:lnTo>
                        <a:pt x="571" y="116"/>
                      </a:lnTo>
                      <a:lnTo>
                        <a:pt x="567" y="120"/>
                      </a:lnTo>
                      <a:lnTo>
                        <a:pt x="565" y="124"/>
                      </a:lnTo>
                      <a:lnTo>
                        <a:pt x="563" y="127"/>
                      </a:lnTo>
                      <a:lnTo>
                        <a:pt x="559" y="131"/>
                      </a:lnTo>
                      <a:lnTo>
                        <a:pt x="555" y="135"/>
                      </a:lnTo>
                      <a:lnTo>
                        <a:pt x="554" y="141"/>
                      </a:lnTo>
                      <a:lnTo>
                        <a:pt x="552" y="146"/>
                      </a:lnTo>
                      <a:lnTo>
                        <a:pt x="550" y="150"/>
                      </a:lnTo>
                      <a:lnTo>
                        <a:pt x="548" y="156"/>
                      </a:lnTo>
                      <a:lnTo>
                        <a:pt x="546" y="158"/>
                      </a:lnTo>
                      <a:lnTo>
                        <a:pt x="546" y="160"/>
                      </a:lnTo>
                      <a:lnTo>
                        <a:pt x="544" y="163"/>
                      </a:lnTo>
                      <a:lnTo>
                        <a:pt x="544" y="167"/>
                      </a:lnTo>
                      <a:lnTo>
                        <a:pt x="361" y="1127"/>
                      </a:lnTo>
                      <a:lnTo>
                        <a:pt x="361" y="1127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5" name="AutoShape 607"/>
              <p:cNvSpPr/>
              <p:nvPr/>
            </p:nvSpPr>
            <p:spPr>
              <a:xfrm rot="14245800">
                <a:off x="4682880" y="2800800"/>
                <a:ext cx="88560" cy="75960"/>
              </a:xfrm>
              <a:prstGeom prst="hexagon">
                <a:avLst>
                  <a:gd name="adj" fmla="val 29147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AutoShape 608"/>
              <p:cNvSpPr/>
              <p:nvPr/>
            </p:nvSpPr>
            <p:spPr>
              <a:xfrm rot="14276400">
                <a:off x="4946760" y="2613960"/>
                <a:ext cx="193320" cy="55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308" y="21600"/>
                    </a:lnTo>
                    <a:lnTo>
                      <a:pt x="1729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609"/>
            <p:cNvGrpSpPr/>
            <p:nvPr/>
          </p:nvGrpSpPr>
          <p:grpSpPr>
            <a:xfrm>
              <a:off x="4159080" y="2743560"/>
              <a:ext cx="686160" cy="555840"/>
              <a:chOff x="4159080" y="2743560"/>
              <a:chExt cx="686160" cy="555840"/>
            </a:xfrm>
          </p:grpSpPr>
          <p:grpSp>
            <p:nvGrpSpPr>
              <p:cNvPr id="298" name="Group 610"/>
              <p:cNvGrpSpPr/>
              <p:nvPr/>
            </p:nvGrpSpPr>
            <p:grpSpPr>
              <a:xfrm>
                <a:off x="4159080" y="2743560"/>
                <a:ext cx="686160" cy="555840"/>
                <a:chOff x="4159080" y="2743560"/>
                <a:chExt cx="686160" cy="555840"/>
              </a:xfrm>
            </p:grpSpPr>
            <p:sp>
              <p:nvSpPr>
                <p:cNvPr id="299" name="AutoShape 611"/>
                <p:cNvSpPr/>
                <p:nvPr/>
              </p:nvSpPr>
              <p:spPr>
                <a:xfrm flipH="1" flipV="1" rot="14276400">
                  <a:off x="4456440" y="2795040"/>
                  <a:ext cx="179640" cy="36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4308" y="21600"/>
                      </a:lnTo>
                      <a:lnTo>
                        <a:pt x="17292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Oval 612"/>
                <p:cNvSpPr/>
                <p:nvPr/>
              </p:nvSpPr>
              <p:spPr>
                <a:xfrm flipH="1" flipV="1" rot="14815800">
                  <a:off x="4627440" y="2770920"/>
                  <a:ext cx="186480" cy="1900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613"/>
                <p:cNvSpPr/>
                <p:nvPr/>
              </p:nvSpPr>
              <p:spPr>
                <a:xfrm flipH="1" flipV="1" rot="2710200">
                  <a:off x="4235040" y="2991960"/>
                  <a:ext cx="174960" cy="287640"/>
                </a:xfrm>
                <a:custGeom>
                  <a:avLst/>
                  <a:gdLst/>
                  <a:ahLst/>
                  <a:rect l="l" t="t" r="r" b="b"/>
                  <a:pathLst>
                    <a:path w="1402" h="2302">
                      <a:moveTo>
                        <a:pt x="361" y="1127"/>
                      </a:moveTo>
                      <a:lnTo>
                        <a:pt x="280" y="1116"/>
                      </a:lnTo>
                      <a:lnTo>
                        <a:pt x="373" y="711"/>
                      </a:lnTo>
                      <a:lnTo>
                        <a:pt x="373" y="709"/>
                      </a:lnTo>
                      <a:lnTo>
                        <a:pt x="375" y="705"/>
                      </a:lnTo>
                      <a:lnTo>
                        <a:pt x="375" y="703"/>
                      </a:lnTo>
                      <a:lnTo>
                        <a:pt x="375" y="700"/>
                      </a:lnTo>
                      <a:lnTo>
                        <a:pt x="375" y="698"/>
                      </a:lnTo>
                      <a:lnTo>
                        <a:pt x="375" y="696"/>
                      </a:lnTo>
                      <a:lnTo>
                        <a:pt x="375" y="692"/>
                      </a:lnTo>
                      <a:lnTo>
                        <a:pt x="375" y="690"/>
                      </a:lnTo>
                      <a:lnTo>
                        <a:pt x="375" y="684"/>
                      </a:lnTo>
                      <a:lnTo>
                        <a:pt x="375" y="681"/>
                      </a:lnTo>
                      <a:lnTo>
                        <a:pt x="375" y="675"/>
                      </a:lnTo>
                      <a:lnTo>
                        <a:pt x="375" y="669"/>
                      </a:lnTo>
                      <a:lnTo>
                        <a:pt x="371" y="665"/>
                      </a:lnTo>
                      <a:lnTo>
                        <a:pt x="371" y="660"/>
                      </a:lnTo>
                      <a:lnTo>
                        <a:pt x="369" y="654"/>
                      </a:lnTo>
                      <a:lnTo>
                        <a:pt x="367" y="652"/>
                      </a:lnTo>
                      <a:lnTo>
                        <a:pt x="365" y="646"/>
                      </a:lnTo>
                      <a:lnTo>
                        <a:pt x="363" y="641"/>
                      </a:lnTo>
                      <a:lnTo>
                        <a:pt x="361" y="637"/>
                      </a:lnTo>
                      <a:lnTo>
                        <a:pt x="358" y="633"/>
                      </a:lnTo>
                      <a:lnTo>
                        <a:pt x="356" y="629"/>
                      </a:lnTo>
                      <a:lnTo>
                        <a:pt x="354" y="623"/>
                      </a:lnTo>
                      <a:lnTo>
                        <a:pt x="350" y="620"/>
                      </a:lnTo>
                      <a:lnTo>
                        <a:pt x="346" y="616"/>
                      </a:lnTo>
                      <a:lnTo>
                        <a:pt x="342" y="612"/>
                      </a:lnTo>
                      <a:lnTo>
                        <a:pt x="339" y="610"/>
                      </a:lnTo>
                      <a:lnTo>
                        <a:pt x="335" y="606"/>
                      </a:lnTo>
                      <a:lnTo>
                        <a:pt x="331" y="603"/>
                      </a:lnTo>
                      <a:lnTo>
                        <a:pt x="325" y="601"/>
                      </a:lnTo>
                      <a:lnTo>
                        <a:pt x="321" y="597"/>
                      </a:lnTo>
                      <a:lnTo>
                        <a:pt x="318" y="595"/>
                      </a:lnTo>
                      <a:lnTo>
                        <a:pt x="312" y="593"/>
                      </a:lnTo>
                      <a:lnTo>
                        <a:pt x="306" y="591"/>
                      </a:lnTo>
                      <a:lnTo>
                        <a:pt x="302" y="589"/>
                      </a:lnTo>
                      <a:lnTo>
                        <a:pt x="299" y="589"/>
                      </a:lnTo>
                      <a:lnTo>
                        <a:pt x="295" y="587"/>
                      </a:lnTo>
                      <a:lnTo>
                        <a:pt x="291" y="587"/>
                      </a:lnTo>
                      <a:lnTo>
                        <a:pt x="287" y="585"/>
                      </a:lnTo>
                      <a:lnTo>
                        <a:pt x="285" y="585"/>
                      </a:lnTo>
                      <a:lnTo>
                        <a:pt x="283" y="585"/>
                      </a:lnTo>
                      <a:lnTo>
                        <a:pt x="280" y="585"/>
                      </a:lnTo>
                      <a:lnTo>
                        <a:pt x="276" y="585"/>
                      </a:lnTo>
                      <a:lnTo>
                        <a:pt x="274" y="585"/>
                      </a:lnTo>
                      <a:lnTo>
                        <a:pt x="272" y="585"/>
                      </a:lnTo>
                      <a:lnTo>
                        <a:pt x="268" y="585"/>
                      </a:lnTo>
                      <a:lnTo>
                        <a:pt x="266" y="585"/>
                      </a:lnTo>
                      <a:lnTo>
                        <a:pt x="263" y="585"/>
                      </a:lnTo>
                      <a:lnTo>
                        <a:pt x="261" y="587"/>
                      </a:lnTo>
                      <a:lnTo>
                        <a:pt x="259" y="587"/>
                      </a:lnTo>
                      <a:lnTo>
                        <a:pt x="255" y="587"/>
                      </a:lnTo>
                      <a:lnTo>
                        <a:pt x="253" y="589"/>
                      </a:lnTo>
                      <a:lnTo>
                        <a:pt x="249" y="589"/>
                      </a:lnTo>
                      <a:lnTo>
                        <a:pt x="247" y="589"/>
                      </a:lnTo>
                      <a:lnTo>
                        <a:pt x="243" y="591"/>
                      </a:lnTo>
                      <a:lnTo>
                        <a:pt x="240" y="591"/>
                      </a:lnTo>
                      <a:lnTo>
                        <a:pt x="238" y="593"/>
                      </a:lnTo>
                      <a:lnTo>
                        <a:pt x="236" y="595"/>
                      </a:lnTo>
                      <a:lnTo>
                        <a:pt x="232" y="595"/>
                      </a:lnTo>
                      <a:lnTo>
                        <a:pt x="230" y="597"/>
                      </a:lnTo>
                      <a:lnTo>
                        <a:pt x="228" y="599"/>
                      </a:lnTo>
                      <a:lnTo>
                        <a:pt x="224" y="601"/>
                      </a:lnTo>
                      <a:lnTo>
                        <a:pt x="223" y="601"/>
                      </a:lnTo>
                      <a:lnTo>
                        <a:pt x="219" y="603"/>
                      </a:lnTo>
                      <a:lnTo>
                        <a:pt x="217" y="604"/>
                      </a:lnTo>
                      <a:lnTo>
                        <a:pt x="211" y="608"/>
                      </a:lnTo>
                      <a:lnTo>
                        <a:pt x="207" y="612"/>
                      </a:lnTo>
                      <a:lnTo>
                        <a:pt x="204" y="616"/>
                      </a:lnTo>
                      <a:lnTo>
                        <a:pt x="198" y="618"/>
                      </a:lnTo>
                      <a:lnTo>
                        <a:pt x="194" y="623"/>
                      </a:lnTo>
                      <a:lnTo>
                        <a:pt x="188" y="627"/>
                      </a:lnTo>
                      <a:lnTo>
                        <a:pt x="185" y="633"/>
                      </a:lnTo>
                      <a:lnTo>
                        <a:pt x="181" y="637"/>
                      </a:lnTo>
                      <a:lnTo>
                        <a:pt x="177" y="641"/>
                      </a:lnTo>
                      <a:lnTo>
                        <a:pt x="173" y="646"/>
                      </a:lnTo>
                      <a:lnTo>
                        <a:pt x="169" y="652"/>
                      </a:lnTo>
                      <a:lnTo>
                        <a:pt x="166" y="656"/>
                      </a:lnTo>
                      <a:lnTo>
                        <a:pt x="162" y="662"/>
                      </a:lnTo>
                      <a:lnTo>
                        <a:pt x="160" y="665"/>
                      </a:lnTo>
                      <a:lnTo>
                        <a:pt x="158" y="669"/>
                      </a:lnTo>
                      <a:lnTo>
                        <a:pt x="158" y="671"/>
                      </a:lnTo>
                      <a:lnTo>
                        <a:pt x="156" y="673"/>
                      </a:lnTo>
                      <a:lnTo>
                        <a:pt x="154" y="677"/>
                      </a:lnTo>
                      <a:lnTo>
                        <a:pt x="152" y="679"/>
                      </a:lnTo>
                      <a:lnTo>
                        <a:pt x="152" y="681"/>
                      </a:lnTo>
                      <a:lnTo>
                        <a:pt x="150" y="684"/>
                      </a:lnTo>
                      <a:lnTo>
                        <a:pt x="150" y="688"/>
                      </a:lnTo>
                      <a:lnTo>
                        <a:pt x="146" y="694"/>
                      </a:lnTo>
                      <a:lnTo>
                        <a:pt x="145" y="701"/>
                      </a:lnTo>
                      <a:lnTo>
                        <a:pt x="143" y="709"/>
                      </a:lnTo>
                      <a:lnTo>
                        <a:pt x="139" y="717"/>
                      </a:lnTo>
                      <a:lnTo>
                        <a:pt x="137" y="724"/>
                      </a:lnTo>
                      <a:lnTo>
                        <a:pt x="135" y="732"/>
                      </a:lnTo>
                      <a:lnTo>
                        <a:pt x="131" y="739"/>
                      </a:lnTo>
                      <a:lnTo>
                        <a:pt x="129" y="747"/>
                      </a:lnTo>
                      <a:lnTo>
                        <a:pt x="126" y="755"/>
                      </a:lnTo>
                      <a:lnTo>
                        <a:pt x="124" y="760"/>
                      </a:lnTo>
                      <a:lnTo>
                        <a:pt x="122" y="768"/>
                      </a:lnTo>
                      <a:lnTo>
                        <a:pt x="120" y="776"/>
                      </a:lnTo>
                      <a:lnTo>
                        <a:pt x="116" y="781"/>
                      </a:lnTo>
                      <a:lnTo>
                        <a:pt x="114" y="789"/>
                      </a:lnTo>
                      <a:lnTo>
                        <a:pt x="112" y="796"/>
                      </a:lnTo>
                      <a:lnTo>
                        <a:pt x="110" y="804"/>
                      </a:lnTo>
                      <a:lnTo>
                        <a:pt x="107" y="812"/>
                      </a:lnTo>
                      <a:lnTo>
                        <a:pt x="107" y="817"/>
                      </a:lnTo>
                      <a:lnTo>
                        <a:pt x="103" y="823"/>
                      </a:lnTo>
                      <a:lnTo>
                        <a:pt x="101" y="831"/>
                      </a:lnTo>
                      <a:lnTo>
                        <a:pt x="97" y="836"/>
                      </a:lnTo>
                      <a:lnTo>
                        <a:pt x="97" y="844"/>
                      </a:lnTo>
                      <a:lnTo>
                        <a:pt x="93" y="852"/>
                      </a:lnTo>
                      <a:lnTo>
                        <a:pt x="93" y="857"/>
                      </a:lnTo>
                      <a:lnTo>
                        <a:pt x="89" y="865"/>
                      </a:lnTo>
                      <a:lnTo>
                        <a:pt x="88" y="871"/>
                      </a:lnTo>
                      <a:lnTo>
                        <a:pt x="86" y="878"/>
                      </a:lnTo>
                      <a:lnTo>
                        <a:pt x="84" y="884"/>
                      </a:lnTo>
                      <a:lnTo>
                        <a:pt x="82" y="892"/>
                      </a:lnTo>
                      <a:lnTo>
                        <a:pt x="80" y="899"/>
                      </a:lnTo>
                      <a:lnTo>
                        <a:pt x="78" y="907"/>
                      </a:lnTo>
                      <a:lnTo>
                        <a:pt x="74" y="912"/>
                      </a:lnTo>
                      <a:lnTo>
                        <a:pt x="72" y="920"/>
                      </a:lnTo>
                      <a:lnTo>
                        <a:pt x="72" y="926"/>
                      </a:lnTo>
                      <a:lnTo>
                        <a:pt x="68" y="931"/>
                      </a:lnTo>
                      <a:lnTo>
                        <a:pt x="67" y="939"/>
                      </a:lnTo>
                      <a:lnTo>
                        <a:pt x="65" y="945"/>
                      </a:lnTo>
                      <a:lnTo>
                        <a:pt x="63" y="952"/>
                      </a:lnTo>
                      <a:lnTo>
                        <a:pt x="59" y="958"/>
                      </a:lnTo>
                      <a:lnTo>
                        <a:pt x="57" y="966"/>
                      </a:lnTo>
                      <a:lnTo>
                        <a:pt x="55" y="971"/>
                      </a:lnTo>
                      <a:lnTo>
                        <a:pt x="53" y="979"/>
                      </a:lnTo>
                      <a:lnTo>
                        <a:pt x="51" y="987"/>
                      </a:lnTo>
                      <a:lnTo>
                        <a:pt x="49" y="994"/>
                      </a:lnTo>
                      <a:lnTo>
                        <a:pt x="48" y="1000"/>
                      </a:lnTo>
                      <a:lnTo>
                        <a:pt x="46" y="1007"/>
                      </a:lnTo>
                      <a:lnTo>
                        <a:pt x="44" y="1015"/>
                      </a:lnTo>
                      <a:lnTo>
                        <a:pt x="42" y="1021"/>
                      </a:lnTo>
                      <a:lnTo>
                        <a:pt x="42" y="1028"/>
                      </a:lnTo>
                      <a:lnTo>
                        <a:pt x="38" y="1036"/>
                      </a:lnTo>
                      <a:lnTo>
                        <a:pt x="36" y="1042"/>
                      </a:lnTo>
                      <a:lnTo>
                        <a:pt x="36" y="1049"/>
                      </a:lnTo>
                      <a:lnTo>
                        <a:pt x="34" y="1057"/>
                      </a:lnTo>
                      <a:lnTo>
                        <a:pt x="30" y="1063"/>
                      </a:lnTo>
                      <a:lnTo>
                        <a:pt x="30" y="1070"/>
                      </a:lnTo>
                      <a:lnTo>
                        <a:pt x="29" y="1078"/>
                      </a:lnTo>
                      <a:lnTo>
                        <a:pt x="27" y="1085"/>
                      </a:lnTo>
                      <a:lnTo>
                        <a:pt x="25" y="1093"/>
                      </a:lnTo>
                      <a:lnTo>
                        <a:pt x="23" y="1101"/>
                      </a:lnTo>
                      <a:lnTo>
                        <a:pt x="21" y="1108"/>
                      </a:lnTo>
                      <a:lnTo>
                        <a:pt x="19" y="1116"/>
                      </a:lnTo>
                      <a:lnTo>
                        <a:pt x="17" y="1123"/>
                      </a:lnTo>
                      <a:lnTo>
                        <a:pt x="17" y="1131"/>
                      </a:lnTo>
                      <a:lnTo>
                        <a:pt x="15" y="1139"/>
                      </a:lnTo>
                      <a:lnTo>
                        <a:pt x="13" y="1148"/>
                      </a:lnTo>
                      <a:lnTo>
                        <a:pt x="10" y="1158"/>
                      </a:lnTo>
                      <a:lnTo>
                        <a:pt x="10" y="1165"/>
                      </a:lnTo>
                      <a:lnTo>
                        <a:pt x="8" y="1175"/>
                      </a:lnTo>
                      <a:lnTo>
                        <a:pt x="6" y="1182"/>
                      </a:lnTo>
                      <a:lnTo>
                        <a:pt x="6" y="1192"/>
                      </a:lnTo>
                      <a:lnTo>
                        <a:pt x="4" y="1201"/>
                      </a:lnTo>
                      <a:lnTo>
                        <a:pt x="2" y="1211"/>
                      </a:lnTo>
                      <a:lnTo>
                        <a:pt x="2" y="1218"/>
                      </a:lnTo>
                      <a:lnTo>
                        <a:pt x="0" y="1230"/>
                      </a:lnTo>
                      <a:lnTo>
                        <a:pt x="0" y="1237"/>
                      </a:lnTo>
                      <a:lnTo>
                        <a:pt x="0" y="1247"/>
                      </a:lnTo>
                      <a:lnTo>
                        <a:pt x="0" y="1257"/>
                      </a:lnTo>
                      <a:lnTo>
                        <a:pt x="0" y="1268"/>
                      </a:lnTo>
                      <a:lnTo>
                        <a:pt x="0" y="1276"/>
                      </a:lnTo>
                      <a:lnTo>
                        <a:pt x="0" y="1285"/>
                      </a:lnTo>
                      <a:lnTo>
                        <a:pt x="0" y="1296"/>
                      </a:lnTo>
                      <a:lnTo>
                        <a:pt x="0" y="1304"/>
                      </a:lnTo>
                      <a:lnTo>
                        <a:pt x="0" y="1314"/>
                      </a:lnTo>
                      <a:lnTo>
                        <a:pt x="0" y="1323"/>
                      </a:lnTo>
                      <a:lnTo>
                        <a:pt x="0" y="1333"/>
                      </a:lnTo>
                      <a:lnTo>
                        <a:pt x="2" y="1342"/>
                      </a:lnTo>
                      <a:lnTo>
                        <a:pt x="2" y="1352"/>
                      </a:lnTo>
                      <a:lnTo>
                        <a:pt x="4" y="1363"/>
                      </a:lnTo>
                      <a:lnTo>
                        <a:pt x="4" y="1371"/>
                      </a:lnTo>
                      <a:lnTo>
                        <a:pt x="6" y="1382"/>
                      </a:lnTo>
                      <a:lnTo>
                        <a:pt x="8" y="1390"/>
                      </a:lnTo>
                      <a:lnTo>
                        <a:pt x="8" y="1401"/>
                      </a:lnTo>
                      <a:lnTo>
                        <a:pt x="10" y="1409"/>
                      </a:lnTo>
                      <a:lnTo>
                        <a:pt x="11" y="1420"/>
                      </a:lnTo>
                      <a:lnTo>
                        <a:pt x="13" y="1429"/>
                      </a:lnTo>
                      <a:lnTo>
                        <a:pt x="15" y="1439"/>
                      </a:lnTo>
                      <a:lnTo>
                        <a:pt x="17" y="1448"/>
                      </a:lnTo>
                      <a:lnTo>
                        <a:pt x="19" y="1458"/>
                      </a:lnTo>
                      <a:lnTo>
                        <a:pt x="21" y="1468"/>
                      </a:lnTo>
                      <a:lnTo>
                        <a:pt x="23" y="1477"/>
                      </a:lnTo>
                      <a:lnTo>
                        <a:pt x="27" y="1487"/>
                      </a:lnTo>
                      <a:lnTo>
                        <a:pt x="29" y="1496"/>
                      </a:lnTo>
                      <a:lnTo>
                        <a:pt x="30" y="1506"/>
                      </a:lnTo>
                      <a:lnTo>
                        <a:pt x="34" y="1515"/>
                      </a:lnTo>
                      <a:lnTo>
                        <a:pt x="36" y="1525"/>
                      </a:lnTo>
                      <a:lnTo>
                        <a:pt x="38" y="1534"/>
                      </a:lnTo>
                      <a:lnTo>
                        <a:pt x="42" y="1544"/>
                      </a:lnTo>
                      <a:lnTo>
                        <a:pt x="46" y="1553"/>
                      </a:lnTo>
                      <a:lnTo>
                        <a:pt x="48" y="1561"/>
                      </a:lnTo>
                      <a:lnTo>
                        <a:pt x="51" y="1572"/>
                      </a:lnTo>
                      <a:lnTo>
                        <a:pt x="55" y="1580"/>
                      </a:lnTo>
                      <a:lnTo>
                        <a:pt x="59" y="1589"/>
                      </a:lnTo>
                      <a:lnTo>
                        <a:pt x="63" y="1599"/>
                      </a:lnTo>
                      <a:lnTo>
                        <a:pt x="67" y="1608"/>
                      </a:lnTo>
                      <a:lnTo>
                        <a:pt x="68" y="1616"/>
                      </a:lnTo>
                      <a:lnTo>
                        <a:pt x="74" y="1627"/>
                      </a:lnTo>
                      <a:lnTo>
                        <a:pt x="78" y="1635"/>
                      </a:lnTo>
                      <a:lnTo>
                        <a:pt x="82" y="1644"/>
                      </a:lnTo>
                      <a:lnTo>
                        <a:pt x="86" y="1652"/>
                      </a:lnTo>
                      <a:lnTo>
                        <a:pt x="89" y="1661"/>
                      </a:lnTo>
                      <a:lnTo>
                        <a:pt x="95" y="1669"/>
                      </a:lnTo>
                      <a:lnTo>
                        <a:pt x="99" y="1679"/>
                      </a:lnTo>
                      <a:lnTo>
                        <a:pt x="103" y="1688"/>
                      </a:lnTo>
                      <a:lnTo>
                        <a:pt x="108" y="1696"/>
                      </a:lnTo>
                      <a:lnTo>
                        <a:pt x="114" y="1703"/>
                      </a:lnTo>
                      <a:lnTo>
                        <a:pt x="118" y="1713"/>
                      </a:lnTo>
                      <a:lnTo>
                        <a:pt x="124" y="1722"/>
                      </a:lnTo>
                      <a:lnTo>
                        <a:pt x="127" y="1732"/>
                      </a:lnTo>
                      <a:lnTo>
                        <a:pt x="131" y="1736"/>
                      </a:lnTo>
                      <a:lnTo>
                        <a:pt x="135" y="1739"/>
                      </a:lnTo>
                      <a:lnTo>
                        <a:pt x="135" y="1743"/>
                      </a:lnTo>
                      <a:lnTo>
                        <a:pt x="137" y="1745"/>
                      </a:lnTo>
                      <a:lnTo>
                        <a:pt x="139" y="1747"/>
                      </a:lnTo>
                      <a:lnTo>
                        <a:pt x="141" y="1751"/>
                      </a:lnTo>
                      <a:lnTo>
                        <a:pt x="143" y="1755"/>
                      </a:lnTo>
                      <a:lnTo>
                        <a:pt x="143" y="1756"/>
                      </a:lnTo>
                      <a:lnTo>
                        <a:pt x="145" y="1760"/>
                      </a:lnTo>
                      <a:lnTo>
                        <a:pt x="146" y="1762"/>
                      </a:lnTo>
                      <a:lnTo>
                        <a:pt x="148" y="1766"/>
                      </a:lnTo>
                      <a:lnTo>
                        <a:pt x="150" y="1768"/>
                      </a:lnTo>
                      <a:lnTo>
                        <a:pt x="152" y="1770"/>
                      </a:lnTo>
                      <a:lnTo>
                        <a:pt x="156" y="1774"/>
                      </a:lnTo>
                      <a:lnTo>
                        <a:pt x="158" y="1777"/>
                      </a:lnTo>
                      <a:lnTo>
                        <a:pt x="160" y="1779"/>
                      </a:lnTo>
                      <a:lnTo>
                        <a:pt x="160" y="1783"/>
                      </a:lnTo>
                      <a:lnTo>
                        <a:pt x="162" y="1787"/>
                      </a:lnTo>
                      <a:lnTo>
                        <a:pt x="166" y="1789"/>
                      </a:lnTo>
                      <a:lnTo>
                        <a:pt x="166" y="1791"/>
                      </a:lnTo>
                      <a:lnTo>
                        <a:pt x="167" y="1794"/>
                      </a:lnTo>
                      <a:lnTo>
                        <a:pt x="169" y="1796"/>
                      </a:lnTo>
                      <a:lnTo>
                        <a:pt x="171" y="1800"/>
                      </a:lnTo>
                      <a:lnTo>
                        <a:pt x="173" y="1802"/>
                      </a:lnTo>
                      <a:lnTo>
                        <a:pt x="175" y="1806"/>
                      </a:lnTo>
                      <a:lnTo>
                        <a:pt x="177" y="1808"/>
                      </a:lnTo>
                      <a:lnTo>
                        <a:pt x="179" y="1812"/>
                      </a:lnTo>
                      <a:lnTo>
                        <a:pt x="181" y="1815"/>
                      </a:lnTo>
                      <a:lnTo>
                        <a:pt x="183" y="1817"/>
                      </a:lnTo>
                      <a:lnTo>
                        <a:pt x="185" y="1821"/>
                      </a:lnTo>
                      <a:lnTo>
                        <a:pt x="188" y="1827"/>
                      </a:lnTo>
                      <a:lnTo>
                        <a:pt x="190" y="1831"/>
                      </a:lnTo>
                      <a:lnTo>
                        <a:pt x="194" y="1836"/>
                      </a:lnTo>
                      <a:lnTo>
                        <a:pt x="198" y="1842"/>
                      </a:lnTo>
                      <a:lnTo>
                        <a:pt x="200" y="1846"/>
                      </a:lnTo>
                      <a:lnTo>
                        <a:pt x="204" y="1850"/>
                      </a:lnTo>
                      <a:lnTo>
                        <a:pt x="205" y="1853"/>
                      </a:lnTo>
                      <a:lnTo>
                        <a:pt x="207" y="1859"/>
                      </a:lnTo>
                      <a:lnTo>
                        <a:pt x="209" y="1861"/>
                      </a:lnTo>
                      <a:lnTo>
                        <a:pt x="211" y="1863"/>
                      </a:lnTo>
                      <a:lnTo>
                        <a:pt x="213" y="1867"/>
                      </a:lnTo>
                      <a:lnTo>
                        <a:pt x="215" y="1869"/>
                      </a:lnTo>
                      <a:lnTo>
                        <a:pt x="217" y="1870"/>
                      </a:lnTo>
                      <a:lnTo>
                        <a:pt x="219" y="1874"/>
                      </a:lnTo>
                      <a:lnTo>
                        <a:pt x="141" y="2163"/>
                      </a:lnTo>
                      <a:lnTo>
                        <a:pt x="143" y="2165"/>
                      </a:lnTo>
                      <a:lnTo>
                        <a:pt x="146" y="2165"/>
                      </a:lnTo>
                      <a:lnTo>
                        <a:pt x="150" y="2167"/>
                      </a:lnTo>
                      <a:lnTo>
                        <a:pt x="152" y="2167"/>
                      </a:lnTo>
                      <a:lnTo>
                        <a:pt x="154" y="2167"/>
                      </a:lnTo>
                      <a:lnTo>
                        <a:pt x="158" y="2167"/>
                      </a:lnTo>
                      <a:lnTo>
                        <a:pt x="162" y="2171"/>
                      </a:lnTo>
                      <a:lnTo>
                        <a:pt x="166" y="2171"/>
                      </a:lnTo>
                      <a:lnTo>
                        <a:pt x="167" y="2173"/>
                      </a:lnTo>
                      <a:lnTo>
                        <a:pt x="171" y="2173"/>
                      </a:lnTo>
                      <a:lnTo>
                        <a:pt x="175" y="2175"/>
                      </a:lnTo>
                      <a:lnTo>
                        <a:pt x="181" y="2175"/>
                      </a:lnTo>
                      <a:lnTo>
                        <a:pt x="185" y="2175"/>
                      </a:lnTo>
                      <a:lnTo>
                        <a:pt x="188" y="2177"/>
                      </a:lnTo>
                      <a:lnTo>
                        <a:pt x="194" y="2180"/>
                      </a:lnTo>
                      <a:lnTo>
                        <a:pt x="198" y="2180"/>
                      </a:lnTo>
                      <a:lnTo>
                        <a:pt x="204" y="2182"/>
                      </a:lnTo>
                      <a:lnTo>
                        <a:pt x="209" y="2182"/>
                      </a:lnTo>
                      <a:lnTo>
                        <a:pt x="215" y="2184"/>
                      </a:lnTo>
                      <a:lnTo>
                        <a:pt x="219" y="2186"/>
                      </a:lnTo>
                      <a:lnTo>
                        <a:pt x="224" y="2188"/>
                      </a:lnTo>
                      <a:lnTo>
                        <a:pt x="232" y="2188"/>
                      </a:lnTo>
                      <a:lnTo>
                        <a:pt x="238" y="2190"/>
                      </a:lnTo>
                      <a:lnTo>
                        <a:pt x="243" y="2190"/>
                      </a:lnTo>
                      <a:lnTo>
                        <a:pt x="251" y="2192"/>
                      </a:lnTo>
                      <a:lnTo>
                        <a:pt x="257" y="2194"/>
                      </a:lnTo>
                      <a:lnTo>
                        <a:pt x="264" y="2194"/>
                      </a:lnTo>
                      <a:lnTo>
                        <a:pt x="270" y="2196"/>
                      </a:lnTo>
                      <a:lnTo>
                        <a:pt x="276" y="2196"/>
                      </a:lnTo>
                      <a:lnTo>
                        <a:pt x="283" y="2197"/>
                      </a:lnTo>
                      <a:lnTo>
                        <a:pt x="291" y="2199"/>
                      </a:lnTo>
                      <a:lnTo>
                        <a:pt x="297" y="2199"/>
                      </a:lnTo>
                      <a:lnTo>
                        <a:pt x="304" y="2199"/>
                      </a:lnTo>
                      <a:lnTo>
                        <a:pt x="312" y="2199"/>
                      </a:lnTo>
                      <a:lnTo>
                        <a:pt x="320" y="2201"/>
                      </a:lnTo>
                      <a:lnTo>
                        <a:pt x="325" y="2201"/>
                      </a:lnTo>
                      <a:lnTo>
                        <a:pt x="333" y="2201"/>
                      </a:lnTo>
                      <a:lnTo>
                        <a:pt x="341" y="2201"/>
                      </a:lnTo>
                      <a:lnTo>
                        <a:pt x="348" y="2201"/>
                      </a:lnTo>
                      <a:lnTo>
                        <a:pt x="356" y="2201"/>
                      </a:lnTo>
                      <a:lnTo>
                        <a:pt x="363" y="2201"/>
                      </a:lnTo>
                      <a:lnTo>
                        <a:pt x="371" y="2201"/>
                      </a:lnTo>
                      <a:lnTo>
                        <a:pt x="379" y="2201"/>
                      </a:lnTo>
                      <a:lnTo>
                        <a:pt x="386" y="2201"/>
                      </a:lnTo>
                      <a:lnTo>
                        <a:pt x="394" y="2201"/>
                      </a:lnTo>
                      <a:lnTo>
                        <a:pt x="401" y="2199"/>
                      </a:lnTo>
                      <a:lnTo>
                        <a:pt x="409" y="2199"/>
                      </a:lnTo>
                      <a:lnTo>
                        <a:pt x="415" y="2197"/>
                      </a:lnTo>
                      <a:lnTo>
                        <a:pt x="422" y="2196"/>
                      </a:lnTo>
                      <a:lnTo>
                        <a:pt x="432" y="2196"/>
                      </a:lnTo>
                      <a:lnTo>
                        <a:pt x="439" y="2194"/>
                      </a:lnTo>
                      <a:lnTo>
                        <a:pt x="447" y="2192"/>
                      </a:lnTo>
                      <a:lnTo>
                        <a:pt x="455" y="2190"/>
                      </a:lnTo>
                      <a:lnTo>
                        <a:pt x="462" y="2188"/>
                      </a:lnTo>
                      <a:lnTo>
                        <a:pt x="470" y="2188"/>
                      </a:lnTo>
                      <a:lnTo>
                        <a:pt x="476" y="2184"/>
                      </a:lnTo>
                      <a:lnTo>
                        <a:pt x="483" y="2182"/>
                      </a:lnTo>
                      <a:lnTo>
                        <a:pt x="491" y="2180"/>
                      </a:lnTo>
                      <a:lnTo>
                        <a:pt x="498" y="2175"/>
                      </a:lnTo>
                      <a:lnTo>
                        <a:pt x="504" y="2173"/>
                      </a:lnTo>
                      <a:lnTo>
                        <a:pt x="512" y="2169"/>
                      </a:lnTo>
                      <a:lnTo>
                        <a:pt x="517" y="2165"/>
                      </a:lnTo>
                      <a:lnTo>
                        <a:pt x="525" y="2161"/>
                      </a:lnTo>
                      <a:lnTo>
                        <a:pt x="531" y="2158"/>
                      </a:lnTo>
                      <a:lnTo>
                        <a:pt x="536" y="2154"/>
                      </a:lnTo>
                      <a:lnTo>
                        <a:pt x="542" y="2150"/>
                      </a:lnTo>
                      <a:lnTo>
                        <a:pt x="550" y="2146"/>
                      </a:lnTo>
                      <a:lnTo>
                        <a:pt x="555" y="2142"/>
                      </a:lnTo>
                      <a:lnTo>
                        <a:pt x="559" y="2137"/>
                      </a:lnTo>
                      <a:lnTo>
                        <a:pt x="565" y="2133"/>
                      </a:lnTo>
                      <a:lnTo>
                        <a:pt x="571" y="2129"/>
                      </a:lnTo>
                      <a:lnTo>
                        <a:pt x="576" y="2123"/>
                      </a:lnTo>
                      <a:lnTo>
                        <a:pt x="582" y="2120"/>
                      </a:lnTo>
                      <a:lnTo>
                        <a:pt x="588" y="2114"/>
                      </a:lnTo>
                      <a:lnTo>
                        <a:pt x="592" y="2110"/>
                      </a:lnTo>
                      <a:lnTo>
                        <a:pt x="595" y="2106"/>
                      </a:lnTo>
                      <a:lnTo>
                        <a:pt x="601" y="2101"/>
                      </a:lnTo>
                      <a:lnTo>
                        <a:pt x="605" y="2095"/>
                      </a:lnTo>
                      <a:lnTo>
                        <a:pt x="611" y="2091"/>
                      </a:lnTo>
                      <a:lnTo>
                        <a:pt x="614" y="2085"/>
                      </a:lnTo>
                      <a:lnTo>
                        <a:pt x="618" y="2080"/>
                      </a:lnTo>
                      <a:lnTo>
                        <a:pt x="624" y="2076"/>
                      </a:lnTo>
                      <a:lnTo>
                        <a:pt x="628" y="2070"/>
                      </a:lnTo>
                      <a:lnTo>
                        <a:pt x="632" y="2064"/>
                      </a:lnTo>
                      <a:lnTo>
                        <a:pt x="635" y="2059"/>
                      </a:lnTo>
                      <a:lnTo>
                        <a:pt x="637" y="2055"/>
                      </a:lnTo>
                      <a:lnTo>
                        <a:pt x="643" y="2049"/>
                      </a:lnTo>
                      <a:lnTo>
                        <a:pt x="645" y="2043"/>
                      </a:lnTo>
                      <a:lnTo>
                        <a:pt x="649" y="2040"/>
                      </a:lnTo>
                      <a:lnTo>
                        <a:pt x="652" y="2034"/>
                      </a:lnTo>
                      <a:lnTo>
                        <a:pt x="654" y="2030"/>
                      </a:lnTo>
                      <a:lnTo>
                        <a:pt x="658" y="2024"/>
                      </a:lnTo>
                      <a:lnTo>
                        <a:pt x="660" y="2021"/>
                      </a:lnTo>
                      <a:lnTo>
                        <a:pt x="664" y="2015"/>
                      </a:lnTo>
                      <a:lnTo>
                        <a:pt x="666" y="2011"/>
                      </a:lnTo>
                      <a:lnTo>
                        <a:pt x="668" y="2005"/>
                      </a:lnTo>
                      <a:lnTo>
                        <a:pt x="672" y="2002"/>
                      </a:lnTo>
                      <a:lnTo>
                        <a:pt x="673" y="1998"/>
                      </a:lnTo>
                      <a:lnTo>
                        <a:pt x="675" y="1992"/>
                      </a:lnTo>
                      <a:lnTo>
                        <a:pt x="677" y="1986"/>
                      </a:lnTo>
                      <a:lnTo>
                        <a:pt x="679" y="1983"/>
                      </a:lnTo>
                      <a:lnTo>
                        <a:pt x="681" y="1979"/>
                      </a:lnTo>
                      <a:lnTo>
                        <a:pt x="683" y="1975"/>
                      </a:lnTo>
                      <a:lnTo>
                        <a:pt x="685" y="1971"/>
                      </a:lnTo>
                      <a:lnTo>
                        <a:pt x="687" y="1969"/>
                      </a:lnTo>
                      <a:lnTo>
                        <a:pt x="689" y="1964"/>
                      </a:lnTo>
                      <a:lnTo>
                        <a:pt x="691" y="1962"/>
                      </a:lnTo>
                      <a:lnTo>
                        <a:pt x="692" y="1958"/>
                      </a:lnTo>
                      <a:lnTo>
                        <a:pt x="692" y="1954"/>
                      </a:lnTo>
                      <a:lnTo>
                        <a:pt x="692" y="1952"/>
                      </a:lnTo>
                      <a:lnTo>
                        <a:pt x="694" y="1950"/>
                      </a:lnTo>
                      <a:lnTo>
                        <a:pt x="696" y="1945"/>
                      </a:lnTo>
                      <a:lnTo>
                        <a:pt x="698" y="1941"/>
                      </a:lnTo>
                      <a:lnTo>
                        <a:pt x="700" y="1937"/>
                      </a:lnTo>
                      <a:lnTo>
                        <a:pt x="700" y="1935"/>
                      </a:lnTo>
                      <a:lnTo>
                        <a:pt x="700" y="1933"/>
                      </a:lnTo>
                      <a:lnTo>
                        <a:pt x="702" y="1933"/>
                      </a:lnTo>
                      <a:lnTo>
                        <a:pt x="740" y="1943"/>
                      </a:lnTo>
                      <a:lnTo>
                        <a:pt x="740" y="1943"/>
                      </a:lnTo>
                      <a:lnTo>
                        <a:pt x="738" y="1945"/>
                      </a:lnTo>
                      <a:lnTo>
                        <a:pt x="738" y="1947"/>
                      </a:lnTo>
                      <a:lnTo>
                        <a:pt x="738" y="1950"/>
                      </a:lnTo>
                      <a:lnTo>
                        <a:pt x="738" y="1954"/>
                      </a:lnTo>
                      <a:lnTo>
                        <a:pt x="738" y="1958"/>
                      </a:lnTo>
                      <a:lnTo>
                        <a:pt x="736" y="1962"/>
                      </a:lnTo>
                      <a:lnTo>
                        <a:pt x="736" y="1964"/>
                      </a:lnTo>
                      <a:lnTo>
                        <a:pt x="736" y="1967"/>
                      </a:lnTo>
                      <a:lnTo>
                        <a:pt x="736" y="1971"/>
                      </a:lnTo>
                      <a:lnTo>
                        <a:pt x="736" y="1975"/>
                      </a:lnTo>
                      <a:lnTo>
                        <a:pt x="736" y="1979"/>
                      </a:lnTo>
                      <a:lnTo>
                        <a:pt x="736" y="1983"/>
                      </a:lnTo>
                      <a:lnTo>
                        <a:pt x="736" y="1985"/>
                      </a:lnTo>
                      <a:lnTo>
                        <a:pt x="736" y="1990"/>
                      </a:lnTo>
                      <a:lnTo>
                        <a:pt x="736" y="1994"/>
                      </a:lnTo>
                      <a:lnTo>
                        <a:pt x="736" y="1998"/>
                      </a:lnTo>
                      <a:lnTo>
                        <a:pt x="736" y="2004"/>
                      </a:lnTo>
                      <a:lnTo>
                        <a:pt x="736" y="2007"/>
                      </a:lnTo>
                      <a:lnTo>
                        <a:pt x="736" y="2013"/>
                      </a:lnTo>
                      <a:lnTo>
                        <a:pt x="736" y="2015"/>
                      </a:lnTo>
                      <a:lnTo>
                        <a:pt x="736" y="2021"/>
                      </a:lnTo>
                      <a:lnTo>
                        <a:pt x="736" y="2026"/>
                      </a:lnTo>
                      <a:lnTo>
                        <a:pt x="736" y="2030"/>
                      </a:lnTo>
                      <a:lnTo>
                        <a:pt x="736" y="2036"/>
                      </a:lnTo>
                      <a:lnTo>
                        <a:pt x="736" y="2042"/>
                      </a:lnTo>
                      <a:lnTo>
                        <a:pt x="736" y="2047"/>
                      </a:lnTo>
                      <a:lnTo>
                        <a:pt x="738" y="2051"/>
                      </a:lnTo>
                      <a:lnTo>
                        <a:pt x="738" y="2057"/>
                      </a:lnTo>
                      <a:lnTo>
                        <a:pt x="738" y="2062"/>
                      </a:lnTo>
                      <a:lnTo>
                        <a:pt x="740" y="2066"/>
                      </a:lnTo>
                      <a:lnTo>
                        <a:pt x="740" y="2072"/>
                      </a:lnTo>
                      <a:lnTo>
                        <a:pt x="742" y="2078"/>
                      </a:lnTo>
                      <a:lnTo>
                        <a:pt x="744" y="2083"/>
                      </a:lnTo>
                      <a:lnTo>
                        <a:pt x="744" y="2091"/>
                      </a:lnTo>
                      <a:lnTo>
                        <a:pt x="746" y="2095"/>
                      </a:lnTo>
                      <a:lnTo>
                        <a:pt x="748" y="2101"/>
                      </a:lnTo>
                      <a:lnTo>
                        <a:pt x="748" y="2106"/>
                      </a:lnTo>
                      <a:lnTo>
                        <a:pt x="751" y="2110"/>
                      </a:lnTo>
                      <a:lnTo>
                        <a:pt x="753" y="2118"/>
                      </a:lnTo>
                      <a:lnTo>
                        <a:pt x="753" y="2123"/>
                      </a:lnTo>
                      <a:lnTo>
                        <a:pt x="757" y="2129"/>
                      </a:lnTo>
                      <a:lnTo>
                        <a:pt x="759" y="2135"/>
                      </a:lnTo>
                      <a:lnTo>
                        <a:pt x="761" y="2139"/>
                      </a:lnTo>
                      <a:lnTo>
                        <a:pt x="765" y="2144"/>
                      </a:lnTo>
                      <a:lnTo>
                        <a:pt x="767" y="2150"/>
                      </a:lnTo>
                      <a:lnTo>
                        <a:pt x="769" y="2156"/>
                      </a:lnTo>
                      <a:lnTo>
                        <a:pt x="772" y="2159"/>
                      </a:lnTo>
                      <a:lnTo>
                        <a:pt x="776" y="2165"/>
                      </a:lnTo>
                      <a:lnTo>
                        <a:pt x="780" y="2171"/>
                      </a:lnTo>
                      <a:lnTo>
                        <a:pt x="782" y="2175"/>
                      </a:lnTo>
                      <a:lnTo>
                        <a:pt x="786" y="2180"/>
                      </a:lnTo>
                      <a:lnTo>
                        <a:pt x="789" y="2186"/>
                      </a:lnTo>
                      <a:lnTo>
                        <a:pt x="795" y="2190"/>
                      </a:lnTo>
                      <a:lnTo>
                        <a:pt x="799" y="2196"/>
                      </a:lnTo>
                      <a:lnTo>
                        <a:pt x="805" y="2201"/>
                      </a:lnTo>
                      <a:lnTo>
                        <a:pt x="808" y="2205"/>
                      </a:lnTo>
                      <a:lnTo>
                        <a:pt x="814" y="2209"/>
                      </a:lnTo>
                      <a:lnTo>
                        <a:pt x="818" y="2213"/>
                      </a:lnTo>
                      <a:lnTo>
                        <a:pt x="824" y="2216"/>
                      </a:lnTo>
                      <a:lnTo>
                        <a:pt x="828" y="2222"/>
                      </a:lnTo>
                      <a:lnTo>
                        <a:pt x="833" y="2224"/>
                      </a:lnTo>
                      <a:lnTo>
                        <a:pt x="839" y="2228"/>
                      </a:lnTo>
                      <a:lnTo>
                        <a:pt x="845" y="2232"/>
                      </a:lnTo>
                      <a:lnTo>
                        <a:pt x="848" y="2235"/>
                      </a:lnTo>
                      <a:lnTo>
                        <a:pt x="854" y="2239"/>
                      </a:lnTo>
                      <a:lnTo>
                        <a:pt x="858" y="2243"/>
                      </a:lnTo>
                      <a:lnTo>
                        <a:pt x="864" y="2245"/>
                      </a:lnTo>
                      <a:lnTo>
                        <a:pt x="867" y="2249"/>
                      </a:lnTo>
                      <a:lnTo>
                        <a:pt x="873" y="2253"/>
                      </a:lnTo>
                      <a:lnTo>
                        <a:pt x="877" y="2256"/>
                      </a:lnTo>
                      <a:lnTo>
                        <a:pt x="883" y="2258"/>
                      </a:lnTo>
                      <a:lnTo>
                        <a:pt x="890" y="2260"/>
                      </a:lnTo>
                      <a:lnTo>
                        <a:pt x="896" y="2264"/>
                      </a:lnTo>
                      <a:lnTo>
                        <a:pt x="900" y="2266"/>
                      </a:lnTo>
                      <a:lnTo>
                        <a:pt x="904" y="2268"/>
                      </a:lnTo>
                      <a:lnTo>
                        <a:pt x="907" y="2270"/>
                      </a:lnTo>
                      <a:lnTo>
                        <a:pt x="913" y="2273"/>
                      </a:lnTo>
                      <a:lnTo>
                        <a:pt x="919" y="2275"/>
                      </a:lnTo>
                      <a:lnTo>
                        <a:pt x="925" y="2277"/>
                      </a:lnTo>
                      <a:lnTo>
                        <a:pt x="928" y="2279"/>
                      </a:lnTo>
                      <a:lnTo>
                        <a:pt x="934" y="2281"/>
                      </a:lnTo>
                      <a:lnTo>
                        <a:pt x="938" y="2283"/>
                      </a:lnTo>
                      <a:lnTo>
                        <a:pt x="942" y="2285"/>
                      </a:lnTo>
                      <a:lnTo>
                        <a:pt x="947" y="2287"/>
                      </a:lnTo>
                      <a:lnTo>
                        <a:pt x="951" y="2289"/>
                      </a:lnTo>
                      <a:lnTo>
                        <a:pt x="955" y="2289"/>
                      </a:lnTo>
                      <a:lnTo>
                        <a:pt x="961" y="2291"/>
                      </a:lnTo>
                      <a:lnTo>
                        <a:pt x="964" y="2291"/>
                      </a:lnTo>
                      <a:lnTo>
                        <a:pt x="968" y="2294"/>
                      </a:lnTo>
                      <a:lnTo>
                        <a:pt x="972" y="2294"/>
                      </a:lnTo>
                      <a:lnTo>
                        <a:pt x="978" y="2294"/>
                      </a:lnTo>
                      <a:lnTo>
                        <a:pt x="982" y="2296"/>
                      </a:lnTo>
                      <a:lnTo>
                        <a:pt x="985" y="2296"/>
                      </a:lnTo>
                      <a:lnTo>
                        <a:pt x="989" y="2296"/>
                      </a:lnTo>
                      <a:lnTo>
                        <a:pt x="993" y="2298"/>
                      </a:lnTo>
                      <a:lnTo>
                        <a:pt x="997" y="2298"/>
                      </a:lnTo>
                      <a:lnTo>
                        <a:pt x="1001" y="2298"/>
                      </a:lnTo>
                      <a:lnTo>
                        <a:pt x="1004" y="2298"/>
                      </a:lnTo>
                      <a:lnTo>
                        <a:pt x="1008" y="2300"/>
                      </a:lnTo>
                      <a:lnTo>
                        <a:pt x="1010" y="2300"/>
                      </a:lnTo>
                      <a:lnTo>
                        <a:pt x="1014" y="2300"/>
                      </a:lnTo>
                      <a:lnTo>
                        <a:pt x="1016" y="2300"/>
                      </a:lnTo>
                      <a:lnTo>
                        <a:pt x="1020" y="2300"/>
                      </a:lnTo>
                      <a:lnTo>
                        <a:pt x="1022" y="2300"/>
                      </a:lnTo>
                      <a:lnTo>
                        <a:pt x="1025" y="2302"/>
                      </a:lnTo>
                      <a:lnTo>
                        <a:pt x="1029" y="2300"/>
                      </a:lnTo>
                      <a:lnTo>
                        <a:pt x="1035" y="2300"/>
                      </a:lnTo>
                      <a:lnTo>
                        <a:pt x="1039" y="2298"/>
                      </a:lnTo>
                      <a:lnTo>
                        <a:pt x="1042" y="2298"/>
                      </a:lnTo>
                      <a:lnTo>
                        <a:pt x="1044" y="2296"/>
                      </a:lnTo>
                      <a:lnTo>
                        <a:pt x="1048" y="2296"/>
                      </a:lnTo>
                      <a:lnTo>
                        <a:pt x="1048" y="2294"/>
                      </a:lnTo>
                      <a:lnTo>
                        <a:pt x="1050" y="2294"/>
                      </a:lnTo>
                      <a:lnTo>
                        <a:pt x="1246" y="1334"/>
                      </a:lnTo>
                      <a:lnTo>
                        <a:pt x="1246" y="1333"/>
                      </a:lnTo>
                      <a:lnTo>
                        <a:pt x="1248" y="1331"/>
                      </a:lnTo>
                      <a:lnTo>
                        <a:pt x="1250" y="1327"/>
                      </a:lnTo>
                      <a:lnTo>
                        <a:pt x="1252" y="1325"/>
                      </a:lnTo>
                      <a:lnTo>
                        <a:pt x="1252" y="1323"/>
                      </a:lnTo>
                      <a:lnTo>
                        <a:pt x="1254" y="1319"/>
                      </a:lnTo>
                      <a:lnTo>
                        <a:pt x="1256" y="1315"/>
                      </a:lnTo>
                      <a:lnTo>
                        <a:pt x="1259" y="1312"/>
                      </a:lnTo>
                      <a:lnTo>
                        <a:pt x="1259" y="1306"/>
                      </a:lnTo>
                      <a:lnTo>
                        <a:pt x="1263" y="1302"/>
                      </a:lnTo>
                      <a:lnTo>
                        <a:pt x="1265" y="1296"/>
                      </a:lnTo>
                      <a:lnTo>
                        <a:pt x="1269" y="1293"/>
                      </a:lnTo>
                      <a:lnTo>
                        <a:pt x="1271" y="1285"/>
                      </a:lnTo>
                      <a:lnTo>
                        <a:pt x="1275" y="1281"/>
                      </a:lnTo>
                      <a:lnTo>
                        <a:pt x="1276" y="1274"/>
                      </a:lnTo>
                      <a:lnTo>
                        <a:pt x="1280" y="1266"/>
                      </a:lnTo>
                      <a:lnTo>
                        <a:pt x="1284" y="1258"/>
                      </a:lnTo>
                      <a:lnTo>
                        <a:pt x="1288" y="1249"/>
                      </a:lnTo>
                      <a:lnTo>
                        <a:pt x="1290" y="1241"/>
                      </a:lnTo>
                      <a:lnTo>
                        <a:pt x="1294" y="1234"/>
                      </a:lnTo>
                      <a:lnTo>
                        <a:pt x="1297" y="1224"/>
                      </a:lnTo>
                      <a:lnTo>
                        <a:pt x="1301" y="1217"/>
                      </a:lnTo>
                      <a:lnTo>
                        <a:pt x="1305" y="1207"/>
                      </a:lnTo>
                      <a:lnTo>
                        <a:pt x="1309" y="1198"/>
                      </a:lnTo>
                      <a:lnTo>
                        <a:pt x="1313" y="1188"/>
                      </a:lnTo>
                      <a:lnTo>
                        <a:pt x="1316" y="1177"/>
                      </a:lnTo>
                      <a:lnTo>
                        <a:pt x="1320" y="1165"/>
                      </a:lnTo>
                      <a:lnTo>
                        <a:pt x="1324" y="1154"/>
                      </a:lnTo>
                      <a:lnTo>
                        <a:pt x="1330" y="1144"/>
                      </a:lnTo>
                      <a:lnTo>
                        <a:pt x="1334" y="1133"/>
                      </a:lnTo>
                      <a:lnTo>
                        <a:pt x="1337" y="1122"/>
                      </a:lnTo>
                      <a:lnTo>
                        <a:pt x="1339" y="1108"/>
                      </a:lnTo>
                      <a:lnTo>
                        <a:pt x="1345" y="1097"/>
                      </a:lnTo>
                      <a:lnTo>
                        <a:pt x="1349" y="1084"/>
                      </a:lnTo>
                      <a:lnTo>
                        <a:pt x="1353" y="1070"/>
                      </a:lnTo>
                      <a:lnTo>
                        <a:pt x="1354" y="1059"/>
                      </a:lnTo>
                      <a:lnTo>
                        <a:pt x="1358" y="1044"/>
                      </a:lnTo>
                      <a:lnTo>
                        <a:pt x="1362" y="1032"/>
                      </a:lnTo>
                      <a:lnTo>
                        <a:pt x="1366" y="1017"/>
                      </a:lnTo>
                      <a:lnTo>
                        <a:pt x="1370" y="1004"/>
                      </a:lnTo>
                      <a:lnTo>
                        <a:pt x="1372" y="988"/>
                      </a:lnTo>
                      <a:lnTo>
                        <a:pt x="1375" y="975"/>
                      </a:lnTo>
                      <a:lnTo>
                        <a:pt x="1377" y="960"/>
                      </a:lnTo>
                      <a:lnTo>
                        <a:pt x="1381" y="947"/>
                      </a:lnTo>
                      <a:lnTo>
                        <a:pt x="1383" y="931"/>
                      </a:lnTo>
                      <a:lnTo>
                        <a:pt x="1387" y="916"/>
                      </a:lnTo>
                      <a:lnTo>
                        <a:pt x="1389" y="901"/>
                      </a:lnTo>
                      <a:lnTo>
                        <a:pt x="1391" y="886"/>
                      </a:lnTo>
                      <a:lnTo>
                        <a:pt x="1392" y="871"/>
                      </a:lnTo>
                      <a:lnTo>
                        <a:pt x="1394" y="855"/>
                      </a:lnTo>
                      <a:lnTo>
                        <a:pt x="1396" y="838"/>
                      </a:lnTo>
                      <a:lnTo>
                        <a:pt x="1398" y="823"/>
                      </a:lnTo>
                      <a:lnTo>
                        <a:pt x="1398" y="806"/>
                      </a:lnTo>
                      <a:lnTo>
                        <a:pt x="1400" y="791"/>
                      </a:lnTo>
                      <a:lnTo>
                        <a:pt x="1402" y="774"/>
                      </a:lnTo>
                      <a:lnTo>
                        <a:pt x="1402" y="757"/>
                      </a:lnTo>
                      <a:lnTo>
                        <a:pt x="1402" y="741"/>
                      </a:lnTo>
                      <a:lnTo>
                        <a:pt x="1402" y="724"/>
                      </a:lnTo>
                      <a:lnTo>
                        <a:pt x="1402" y="705"/>
                      </a:lnTo>
                      <a:lnTo>
                        <a:pt x="1402" y="690"/>
                      </a:lnTo>
                      <a:lnTo>
                        <a:pt x="1400" y="673"/>
                      </a:lnTo>
                      <a:lnTo>
                        <a:pt x="1400" y="656"/>
                      </a:lnTo>
                      <a:lnTo>
                        <a:pt x="1398" y="654"/>
                      </a:lnTo>
                      <a:lnTo>
                        <a:pt x="1398" y="652"/>
                      </a:lnTo>
                      <a:lnTo>
                        <a:pt x="1398" y="648"/>
                      </a:lnTo>
                      <a:lnTo>
                        <a:pt x="1398" y="644"/>
                      </a:lnTo>
                      <a:lnTo>
                        <a:pt x="1398" y="643"/>
                      </a:lnTo>
                      <a:lnTo>
                        <a:pt x="1398" y="639"/>
                      </a:lnTo>
                      <a:lnTo>
                        <a:pt x="1396" y="637"/>
                      </a:lnTo>
                      <a:lnTo>
                        <a:pt x="1396" y="633"/>
                      </a:lnTo>
                      <a:lnTo>
                        <a:pt x="1396" y="631"/>
                      </a:lnTo>
                      <a:lnTo>
                        <a:pt x="1396" y="627"/>
                      </a:lnTo>
                      <a:lnTo>
                        <a:pt x="1396" y="623"/>
                      </a:lnTo>
                      <a:lnTo>
                        <a:pt x="1394" y="620"/>
                      </a:lnTo>
                      <a:lnTo>
                        <a:pt x="1394" y="618"/>
                      </a:lnTo>
                      <a:lnTo>
                        <a:pt x="1394" y="616"/>
                      </a:lnTo>
                      <a:lnTo>
                        <a:pt x="1392" y="612"/>
                      </a:lnTo>
                      <a:lnTo>
                        <a:pt x="1392" y="610"/>
                      </a:lnTo>
                      <a:lnTo>
                        <a:pt x="1392" y="608"/>
                      </a:lnTo>
                      <a:lnTo>
                        <a:pt x="1391" y="604"/>
                      </a:lnTo>
                      <a:lnTo>
                        <a:pt x="1391" y="603"/>
                      </a:lnTo>
                      <a:lnTo>
                        <a:pt x="1391" y="599"/>
                      </a:lnTo>
                      <a:lnTo>
                        <a:pt x="1389" y="597"/>
                      </a:lnTo>
                      <a:lnTo>
                        <a:pt x="1389" y="593"/>
                      </a:lnTo>
                      <a:lnTo>
                        <a:pt x="1389" y="589"/>
                      </a:lnTo>
                      <a:lnTo>
                        <a:pt x="1389" y="587"/>
                      </a:lnTo>
                      <a:lnTo>
                        <a:pt x="1387" y="585"/>
                      </a:lnTo>
                      <a:lnTo>
                        <a:pt x="1385" y="582"/>
                      </a:lnTo>
                      <a:lnTo>
                        <a:pt x="1385" y="580"/>
                      </a:lnTo>
                      <a:lnTo>
                        <a:pt x="1383" y="578"/>
                      </a:lnTo>
                      <a:lnTo>
                        <a:pt x="1383" y="572"/>
                      </a:lnTo>
                      <a:lnTo>
                        <a:pt x="1381" y="568"/>
                      </a:lnTo>
                      <a:lnTo>
                        <a:pt x="1377" y="563"/>
                      </a:lnTo>
                      <a:lnTo>
                        <a:pt x="1375" y="557"/>
                      </a:lnTo>
                      <a:lnTo>
                        <a:pt x="1373" y="553"/>
                      </a:lnTo>
                      <a:lnTo>
                        <a:pt x="1370" y="547"/>
                      </a:lnTo>
                      <a:lnTo>
                        <a:pt x="1366" y="544"/>
                      </a:lnTo>
                      <a:lnTo>
                        <a:pt x="1364" y="540"/>
                      </a:lnTo>
                      <a:lnTo>
                        <a:pt x="1360" y="536"/>
                      </a:lnTo>
                      <a:lnTo>
                        <a:pt x="1356" y="532"/>
                      </a:lnTo>
                      <a:lnTo>
                        <a:pt x="1353" y="528"/>
                      </a:lnTo>
                      <a:lnTo>
                        <a:pt x="1349" y="525"/>
                      </a:lnTo>
                      <a:lnTo>
                        <a:pt x="1345" y="523"/>
                      </a:lnTo>
                      <a:lnTo>
                        <a:pt x="1339" y="521"/>
                      </a:lnTo>
                      <a:lnTo>
                        <a:pt x="1335" y="517"/>
                      </a:lnTo>
                      <a:lnTo>
                        <a:pt x="1332" y="515"/>
                      </a:lnTo>
                      <a:lnTo>
                        <a:pt x="1326" y="515"/>
                      </a:lnTo>
                      <a:lnTo>
                        <a:pt x="1322" y="513"/>
                      </a:lnTo>
                      <a:lnTo>
                        <a:pt x="1318" y="511"/>
                      </a:lnTo>
                      <a:lnTo>
                        <a:pt x="1316" y="511"/>
                      </a:lnTo>
                      <a:lnTo>
                        <a:pt x="1313" y="511"/>
                      </a:lnTo>
                      <a:lnTo>
                        <a:pt x="1311" y="511"/>
                      </a:lnTo>
                      <a:lnTo>
                        <a:pt x="1309" y="509"/>
                      </a:lnTo>
                      <a:lnTo>
                        <a:pt x="1305" y="509"/>
                      </a:lnTo>
                      <a:lnTo>
                        <a:pt x="1303" y="509"/>
                      </a:lnTo>
                      <a:lnTo>
                        <a:pt x="1301" y="509"/>
                      </a:lnTo>
                      <a:lnTo>
                        <a:pt x="1297" y="509"/>
                      </a:lnTo>
                      <a:lnTo>
                        <a:pt x="1295" y="509"/>
                      </a:lnTo>
                      <a:lnTo>
                        <a:pt x="1292" y="509"/>
                      </a:lnTo>
                      <a:lnTo>
                        <a:pt x="1290" y="509"/>
                      </a:lnTo>
                      <a:lnTo>
                        <a:pt x="1284" y="509"/>
                      </a:lnTo>
                      <a:lnTo>
                        <a:pt x="1280" y="509"/>
                      </a:lnTo>
                      <a:lnTo>
                        <a:pt x="1275" y="509"/>
                      </a:lnTo>
                      <a:lnTo>
                        <a:pt x="1269" y="509"/>
                      </a:lnTo>
                      <a:lnTo>
                        <a:pt x="1265" y="509"/>
                      </a:lnTo>
                      <a:lnTo>
                        <a:pt x="1259" y="509"/>
                      </a:lnTo>
                      <a:lnTo>
                        <a:pt x="1256" y="511"/>
                      </a:lnTo>
                      <a:lnTo>
                        <a:pt x="1252" y="511"/>
                      </a:lnTo>
                      <a:lnTo>
                        <a:pt x="1246" y="515"/>
                      </a:lnTo>
                      <a:lnTo>
                        <a:pt x="1242" y="515"/>
                      </a:lnTo>
                      <a:lnTo>
                        <a:pt x="1238" y="517"/>
                      </a:lnTo>
                      <a:lnTo>
                        <a:pt x="1235" y="521"/>
                      </a:lnTo>
                      <a:lnTo>
                        <a:pt x="1231" y="523"/>
                      </a:lnTo>
                      <a:lnTo>
                        <a:pt x="1229" y="525"/>
                      </a:lnTo>
                      <a:lnTo>
                        <a:pt x="1225" y="527"/>
                      </a:lnTo>
                      <a:lnTo>
                        <a:pt x="1221" y="530"/>
                      </a:lnTo>
                      <a:lnTo>
                        <a:pt x="1219" y="532"/>
                      </a:lnTo>
                      <a:lnTo>
                        <a:pt x="1216" y="538"/>
                      </a:lnTo>
                      <a:lnTo>
                        <a:pt x="1214" y="542"/>
                      </a:lnTo>
                      <a:lnTo>
                        <a:pt x="1212" y="546"/>
                      </a:lnTo>
                      <a:lnTo>
                        <a:pt x="1210" y="549"/>
                      </a:lnTo>
                      <a:lnTo>
                        <a:pt x="1208" y="555"/>
                      </a:lnTo>
                      <a:lnTo>
                        <a:pt x="1208" y="557"/>
                      </a:lnTo>
                      <a:lnTo>
                        <a:pt x="1206" y="559"/>
                      </a:lnTo>
                      <a:lnTo>
                        <a:pt x="1204" y="561"/>
                      </a:lnTo>
                      <a:lnTo>
                        <a:pt x="1204" y="565"/>
                      </a:lnTo>
                      <a:lnTo>
                        <a:pt x="1204" y="566"/>
                      </a:lnTo>
                      <a:lnTo>
                        <a:pt x="1204" y="570"/>
                      </a:lnTo>
                      <a:lnTo>
                        <a:pt x="1204" y="572"/>
                      </a:lnTo>
                      <a:lnTo>
                        <a:pt x="1204" y="576"/>
                      </a:lnTo>
                      <a:lnTo>
                        <a:pt x="1139" y="895"/>
                      </a:lnTo>
                      <a:lnTo>
                        <a:pt x="1136" y="893"/>
                      </a:lnTo>
                      <a:lnTo>
                        <a:pt x="1132" y="892"/>
                      </a:lnTo>
                      <a:lnTo>
                        <a:pt x="1126" y="888"/>
                      </a:lnTo>
                      <a:lnTo>
                        <a:pt x="1122" y="886"/>
                      </a:lnTo>
                      <a:lnTo>
                        <a:pt x="1117" y="884"/>
                      </a:lnTo>
                      <a:lnTo>
                        <a:pt x="1113" y="880"/>
                      </a:lnTo>
                      <a:lnTo>
                        <a:pt x="1107" y="878"/>
                      </a:lnTo>
                      <a:lnTo>
                        <a:pt x="1105" y="876"/>
                      </a:lnTo>
                      <a:lnTo>
                        <a:pt x="1227" y="316"/>
                      </a:lnTo>
                      <a:lnTo>
                        <a:pt x="1227" y="312"/>
                      </a:lnTo>
                      <a:lnTo>
                        <a:pt x="1227" y="308"/>
                      </a:lnTo>
                      <a:lnTo>
                        <a:pt x="1229" y="306"/>
                      </a:lnTo>
                      <a:lnTo>
                        <a:pt x="1229" y="304"/>
                      </a:lnTo>
                      <a:lnTo>
                        <a:pt x="1229" y="300"/>
                      </a:lnTo>
                      <a:lnTo>
                        <a:pt x="1229" y="298"/>
                      </a:lnTo>
                      <a:lnTo>
                        <a:pt x="1229" y="295"/>
                      </a:lnTo>
                      <a:lnTo>
                        <a:pt x="1229" y="293"/>
                      </a:lnTo>
                      <a:lnTo>
                        <a:pt x="1229" y="291"/>
                      </a:lnTo>
                      <a:lnTo>
                        <a:pt x="1229" y="287"/>
                      </a:lnTo>
                      <a:lnTo>
                        <a:pt x="1229" y="285"/>
                      </a:lnTo>
                      <a:lnTo>
                        <a:pt x="1229" y="283"/>
                      </a:lnTo>
                      <a:lnTo>
                        <a:pt x="1229" y="278"/>
                      </a:lnTo>
                      <a:lnTo>
                        <a:pt x="1227" y="272"/>
                      </a:lnTo>
                      <a:lnTo>
                        <a:pt x="1225" y="268"/>
                      </a:lnTo>
                      <a:lnTo>
                        <a:pt x="1225" y="262"/>
                      </a:lnTo>
                      <a:lnTo>
                        <a:pt x="1223" y="257"/>
                      </a:lnTo>
                      <a:lnTo>
                        <a:pt x="1221" y="253"/>
                      </a:lnTo>
                      <a:lnTo>
                        <a:pt x="1219" y="247"/>
                      </a:lnTo>
                      <a:lnTo>
                        <a:pt x="1217" y="243"/>
                      </a:lnTo>
                      <a:lnTo>
                        <a:pt x="1216" y="240"/>
                      </a:lnTo>
                      <a:lnTo>
                        <a:pt x="1214" y="236"/>
                      </a:lnTo>
                      <a:lnTo>
                        <a:pt x="1210" y="232"/>
                      </a:lnTo>
                      <a:lnTo>
                        <a:pt x="1206" y="226"/>
                      </a:lnTo>
                      <a:lnTo>
                        <a:pt x="1202" y="222"/>
                      </a:lnTo>
                      <a:lnTo>
                        <a:pt x="1200" y="219"/>
                      </a:lnTo>
                      <a:lnTo>
                        <a:pt x="1197" y="215"/>
                      </a:lnTo>
                      <a:lnTo>
                        <a:pt x="1193" y="211"/>
                      </a:lnTo>
                      <a:lnTo>
                        <a:pt x="1189" y="207"/>
                      </a:lnTo>
                      <a:lnTo>
                        <a:pt x="1185" y="205"/>
                      </a:lnTo>
                      <a:lnTo>
                        <a:pt x="1179" y="203"/>
                      </a:lnTo>
                      <a:lnTo>
                        <a:pt x="1176" y="200"/>
                      </a:lnTo>
                      <a:lnTo>
                        <a:pt x="1172" y="198"/>
                      </a:lnTo>
                      <a:lnTo>
                        <a:pt x="1166" y="194"/>
                      </a:lnTo>
                      <a:lnTo>
                        <a:pt x="1160" y="192"/>
                      </a:lnTo>
                      <a:lnTo>
                        <a:pt x="1157" y="192"/>
                      </a:lnTo>
                      <a:lnTo>
                        <a:pt x="1151" y="190"/>
                      </a:lnTo>
                      <a:lnTo>
                        <a:pt x="1147" y="190"/>
                      </a:lnTo>
                      <a:lnTo>
                        <a:pt x="1143" y="188"/>
                      </a:lnTo>
                      <a:lnTo>
                        <a:pt x="1141" y="186"/>
                      </a:lnTo>
                      <a:lnTo>
                        <a:pt x="1138" y="186"/>
                      </a:lnTo>
                      <a:lnTo>
                        <a:pt x="1136" y="186"/>
                      </a:lnTo>
                      <a:lnTo>
                        <a:pt x="1134" y="186"/>
                      </a:lnTo>
                      <a:lnTo>
                        <a:pt x="1130" y="186"/>
                      </a:lnTo>
                      <a:lnTo>
                        <a:pt x="1128" y="186"/>
                      </a:lnTo>
                      <a:lnTo>
                        <a:pt x="1124" y="186"/>
                      </a:lnTo>
                      <a:lnTo>
                        <a:pt x="1122" y="186"/>
                      </a:lnTo>
                      <a:lnTo>
                        <a:pt x="1120" y="186"/>
                      </a:lnTo>
                      <a:lnTo>
                        <a:pt x="1117" y="186"/>
                      </a:lnTo>
                      <a:lnTo>
                        <a:pt x="1115" y="186"/>
                      </a:lnTo>
                      <a:lnTo>
                        <a:pt x="1109" y="186"/>
                      </a:lnTo>
                      <a:lnTo>
                        <a:pt x="1105" y="188"/>
                      </a:lnTo>
                      <a:lnTo>
                        <a:pt x="1100" y="188"/>
                      </a:lnTo>
                      <a:lnTo>
                        <a:pt x="1094" y="190"/>
                      </a:lnTo>
                      <a:lnTo>
                        <a:pt x="1090" y="192"/>
                      </a:lnTo>
                      <a:lnTo>
                        <a:pt x="1086" y="192"/>
                      </a:lnTo>
                      <a:lnTo>
                        <a:pt x="1081" y="194"/>
                      </a:lnTo>
                      <a:lnTo>
                        <a:pt x="1077" y="198"/>
                      </a:lnTo>
                      <a:lnTo>
                        <a:pt x="1073" y="200"/>
                      </a:lnTo>
                      <a:lnTo>
                        <a:pt x="1067" y="203"/>
                      </a:lnTo>
                      <a:lnTo>
                        <a:pt x="1063" y="205"/>
                      </a:lnTo>
                      <a:lnTo>
                        <a:pt x="1058" y="207"/>
                      </a:lnTo>
                      <a:lnTo>
                        <a:pt x="1054" y="211"/>
                      </a:lnTo>
                      <a:lnTo>
                        <a:pt x="1050" y="215"/>
                      </a:lnTo>
                      <a:lnTo>
                        <a:pt x="1048" y="219"/>
                      </a:lnTo>
                      <a:lnTo>
                        <a:pt x="1044" y="222"/>
                      </a:lnTo>
                      <a:lnTo>
                        <a:pt x="1041" y="226"/>
                      </a:lnTo>
                      <a:lnTo>
                        <a:pt x="1039" y="232"/>
                      </a:lnTo>
                      <a:lnTo>
                        <a:pt x="1035" y="234"/>
                      </a:lnTo>
                      <a:lnTo>
                        <a:pt x="1033" y="240"/>
                      </a:lnTo>
                      <a:lnTo>
                        <a:pt x="1029" y="243"/>
                      </a:lnTo>
                      <a:lnTo>
                        <a:pt x="1027" y="249"/>
                      </a:lnTo>
                      <a:lnTo>
                        <a:pt x="1025" y="253"/>
                      </a:lnTo>
                      <a:lnTo>
                        <a:pt x="1023" y="259"/>
                      </a:lnTo>
                      <a:lnTo>
                        <a:pt x="1022" y="260"/>
                      </a:lnTo>
                      <a:lnTo>
                        <a:pt x="1022" y="264"/>
                      </a:lnTo>
                      <a:lnTo>
                        <a:pt x="1022" y="266"/>
                      </a:lnTo>
                      <a:lnTo>
                        <a:pt x="1022" y="270"/>
                      </a:lnTo>
                      <a:lnTo>
                        <a:pt x="919" y="730"/>
                      </a:lnTo>
                      <a:lnTo>
                        <a:pt x="915" y="728"/>
                      </a:lnTo>
                      <a:lnTo>
                        <a:pt x="913" y="726"/>
                      </a:lnTo>
                      <a:lnTo>
                        <a:pt x="907" y="724"/>
                      </a:lnTo>
                      <a:lnTo>
                        <a:pt x="905" y="720"/>
                      </a:lnTo>
                      <a:lnTo>
                        <a:pt x="904" y="719"/>
                      </a:lnTo>
                      <a:lnTo>
                        <a:pt x="900" y="717"/>
                      </a:lnTo>
                      <a:lnTo>
                        <a:pt x="896" y="713"/>
                      </a:lnTo>
                      <a:lnTo>
                        <a:pt x="892" y="713"/>
                      </a:lnTo>
                      <a:lnTo>
                        <a:pt x="1022" y="129"/>
                      </a:lnTo>
                      <a:lnTo>
                        <a:pt x="1022" y="125"/>
                      </a:lnTo>
                      <a:lnTo>
                        <a:pt x="1022" y="124"/>
                      </a:lnTo>
                      <a:lnTo>
                        <a:pt x="1022" y="120"/>
                      </a:lnTo>
                      <a:lnTo>
                        <a:pt x="1022" y="118"/>
                      </a:lnTo>
                      <a:lnTo>
                        <a:pt x="1022" y="114"/>
                      </a:lnTo>
                      <a:lnTo>
                        <a:pt x="1022" y="112"/>
                      </a:lnTo>
                      <a:lnTo>
                        <a:pt x="1022" y="110"/>
                      </a:lnTo>
                      <a:lnTo>
                        <a:pt x="1022" y="106"/>
                      </a:lnTo>
                      <a:lnTo>
                        <a:pt x="1022" y="105"/>
                      </a:lnTo>
                      <a:lnTo>
                        <a:pt x="1022" y="103"/>
                      </a:lnTo>
                      <a:lnTo>
                        <a:pt x="1022" y="99"/>
                      </a:lnTo>
                      <a:lnTo>
                        <a:pt x="1022" y="97"/>
                      </a:lnTo>
                      <a:lnTo>
                        <a:pt x="1022" y="91"/>
                      </a:lnTo>
                      <a:lnTo>
                        <a:pt x="1022" y="86"/>
                      </a:lnTo>
                      <a:lnTo>
                        <a:pt x="1020" y="82"/>
                      </a:lnTo>
                      <a:lnTo>
                        <a:pt x="1018" y="76"/>
                      </a:lnTo>
                      <a:lnTo>
                        <a:pt x="1016" y="70"/>
                      </a:lnTo>
                      <a:lnTo>
                        <a:pt x="1014" y="67"/>
                      </a:lnTo>
                      <a:lnTo>
                        <a:pt x="1012" y="61"/>
                      </a:lnTo>
                      <a:lnTo>
                        <a:pt x="1010" y="57"/>
                      </a:lnTo>
                      <a:lnTo>
                        <a:pt x="1008" y="53"/>
                      </a:lnTo>
                      <a:lnTo>
                        <a:pt x="1006" y="48"/>
                      </a:lnTo>
                      <a:lnTo>
                        <a:pt x="1004" y="44"/>
                      </a:lnTo>
                      <a:lnTo>
                        <a:pt x="1001" y="40"/>
                      </a:lnTo>
                      <a:lnTo>
                        <a:pt x="997" y="36"/>
                      </a:lnTo>
                      <a:lnTo>
                        <a:pt x="993" y="32"/>
                      </a:lnTo>
                      <a:lnTo>
                        <a:pt x="991" y="29"/>
                      </a:lnTo>
                      <a:lnTo>
                        <a:pt x="985" y="25"/>
                      </a:lnTo>
                      <a:lnTo>
                        <a:pt x="983" y="23"/>
                      </a:lnTo>
                      <a:lnTo>
                        <a:pt x="978" y="19"/>
                      </a:lnTo>
                      <a:lnTo>
                        <a:pt x="972" y="17"/>
                      </a:lnTo>
                      <a:lnTo>
                        <a:pt x="968" y="13"/>
                      </a:lnTo>
                      <a:lnTo>
                        <a:pt x="964" y="11"/>
                      </a:lnTo>
                      <a:lnTo>
                        <a:pt x="961" y="10"/>
                      </a:lnTo>
                      <a:lnTo>
                        <a:pt x="955" y="6"/>
                      </a:lnTo>
                      <a:lnTo>
                        <a:pt x="949" y="6"/>
                      </a:lnTo>
                      <a:lnTo>
                        <a:pt x="944" y="4"/>
                      </a:lnTo>
                      <a:lnTo>
                        <a:pt x="940" y="4"/>
                      </a:lnTo>
                      <a:lnTo>
                        <a:pt x="936" y="2"/>
                      </a:lnTo>
                      <a:lnTo>
                        <a:pt x="934" y="2"/>
                      </a:lnTo>
                      <a:lnTo>
                        <a:pt x="932" y="0"/>
                      </a:lnTo>
                      <a:lnTo>
                        <a:pt x="928" y="0"/>
                      </a:lnTo>
                      <a:lnTo>
                        <a:pt x="926" y="0"/>
                      </a:lnTo>
                      <a:lnTo>
                        <a:pt x="925" y="0"/>
                      </a:lnTo>
                      <a:lnTo>
                        <a:pt x="921" y="0"/>
                      </a:lnTo>
                      <a:lnTo>
                        <a:pt x="919" y="0"/>
                      </a:lnTo>
                      <a:lnTo>
                        <a:pt x="915" y="0"/>
                      </a:lnTo>
                      <a:lnTo>
                        <a:pt x="913" y="0"/>
                      </a:lnTo>
                      <a:lnTo>
                        <a:pt x="911" y="0"/>
                      </a:lnTo>
                      <a:lnTo>
                        <a:pt x="907" y="0"/>
                      </a:lnTo>
                      <a:lnTo>
                        <a:pt x="904" y="0"/>
                      </a:lnTo>
                      <a:lnTo>
                        <a:pt x="898" y="2"/>
                      </a:lnTo>
                      <a:lnTo>
                        <a:pt x="896" y="2"/>
                      </a:lnTo>
                      <a:lnTo>
                        <a:pt x="892" y="2"/>
                      </a:lnTo>
                      <a:lnTo>
                        <a:pt x="890" y="2"/>
                      </a:lnTo>
                      <a:lnTo>
                        <a:pt x="888" y="4"/>
                      </a:lnTo>
                      <a:lnTo>
                        <a:pt x="881" y="4"/>
                      </a:lnTo>
                      <a:lnTo>
                        <a:pt x="877" y="6"/>
                      </a:lnTo>
                      <a:lnTo>
                        <a:pt x="873" y="10"/>
                      </a:lnTo>
                      <a:lnTo>
                        <a:pt x="867" y="11"/>
                      </a:lnTo>
                      <a:lnTo>
                        <a:pt x="864" y="15"/>
                      </a:lnTo>
                      <a:lnTo>
                        <a:pt x="860" y="17"/>
                      </a:lnTo>
                      <a:lnTo>
                        <a:pt x="854" y="19"/>
                      </a:lnTo>
                      <a:lnTo>
                        <a:pt x="850" y="23"/>
                      </a:lnTo>
                      <a:lnTo>
                        <a:pt x="847" y="25"/>
                      </a:lnTo>
                      <a:lnTo>
                        <a:pt x="843" y="29"/>
                      </a:lnTo>
                      <a:lnTo>
                        <a:pt x="839" y="32"/>
                      </a:lnTo>
                      <a:lnTo>
                        <a:pt x="835" y="36"/>
                      </a:lnTo>
                      <a:lnTo>
                        <a:pt x="833" y="40"/>
                      </a:lnTo>
                      <a:lnTo>
                        <a:pt x="831" y="44"/>
                      </a:lnTo>
                      <a:lnTo>
                        <a:pt x="828" y="48"/>
                      </a:lnTo>
                      <a:lnTo>
                        <a:pt x="824" y="53"/>
                      </a:lnTo>
                      <a:lnTo>
                        <a:pt x="822" y="57"/>
                      </a:lnTo>
                      <a:lnTo>
                        <a:pt x="820" y="61"/>
                      </a:lnTo>
                      <a:lnTo>
                        <a:pt x="818" y="67"/>
                      </a:lnTo>
                      <a:lnTo>
                        <a:pt x="816" y="70"/>
                      </a:lnTo>
                      <a:lnTo>
                        <a:pt x="816" y="74"/>
                      </a:lnTo>
                      <a:lnTo>
                        <a:pt x="814" y="76"/>
                      </a:lnTo>
                      <a:lnTo>
                        <a:pt x="812" y="82"/>
                      </a:lnTo>
                      <a:lnTo>
                        <a:pt x="812" y="84"/>
                      </a:lnTo>
                      <a:lnTo>
                        <a:pt x="687" y="663"/>
                      </a:lnTo>
                      <a:lnTo>
                        <a:pt x="681" y="663"/>
                      </a:lnTo>
                      <a:lnTo>
                        <a:pt x="677" y="663"/>
                      </a:lnTo>
                      <a:lnTo>
                        <a:pt x="673" y="663"/>
                      </a:lnTo>
                      <a:lnTo>
                        <a:pt x="670" y="663"/>
                      </a:lnTo>
                      <a:lnTo>
                        <a:pt x="666" y="663"/>
                      </a:lnTo>
                      <a:lnTo>
                        <a:pt x="660" y="665"/>
                      </a:lnTo>
                      <a:lnTo>
                        <a:pt x="656" y="665"/>
                      </a:lnTo>
                      <a:lnTo>
                        <a:pt x="652" y="667"/>
                      </a:lnTo>
                      <a:lnTo>
                        <a:pt x="753" y="213"/>
                      </a:lnTo>
                      <a:lnTo>
                        <a:pt x="753" y="209"/>
                      </a:lnTo>
                      <a:lnTo>
                        <a:pt x="753" y="207"/>
                      </a:lnTo>
                      <a:lnTo>
                        <a:pt x="753" y="203"/>
                      </a:lnTo>
                      <a:lnTo>
                        <a:pt x="753" y="201"/>
                      </a:lnTo>
                      <a:lnTo>
                        <a:pt x="753" y="198"/>
                      </a:lnTo>
                      <a:lnTo>
                        <a:pt x="753" y="196"/>
                      </a:lnTo>
                      <a:lnTo>
                        <a:pt x="753" y="192"/>
                      </a:lnTo>
                      <a:lnTo>
                        <a:pt x="753" y="190"/>
                      </a:lnTo>
                      <a:lnTo>
                        <a:pt x="753" y="188"/>
                      </a:lnTo>
                      <a:lnTo>
                        <a:pt x="753" y="184"/>
                      </a:lnTo>
                      <a:lnTo>
                        <a:pt x="753" y="182"/>
                      </a:lnTo>
                      <a:lnTo>
                        <a:pt x="753" y="181"/>
                      </a:lnTo>
                      <a:lnTo>
                        <a:pt x="753" y="175"/>
                      </a:lnTo>
                      <a:lnTo>
                        <a:pt x="753" y="169"/>
                      </a:lnTo>
                      <a:lnTo>
                        <a:pt x="751" y="167"/>
                      </a:lnTo>
                      <a:lnTo>
                        <a:pt x="751" y="163"/>
                      </a:lnTo>
                      <a:lnTo>
                        <a:pt x="751" y="162"/>
                      </a:lnTo>
                      <a:lnTo>
                        <a:pt x="750" y="160"/>
                      </a:lnTo>
                      <a:lnTo>
                        <a:pt x="748" y="154"/>
                      </a:lnTo>
                      <a:lnTo>
                        <a:pt x="746" y="148"/>
                      </a:lnTo>
                      <a:lnTo>
                        <a:pt x="744" y="144"/>
                      </a:lnTo>
                      <a:lnTo>
                        <a:pt x="742" y="141"/>
                      </a:lnTo>
                      <a:lnTo>
                        <a:pt x="740" y="135"/>
                      </a:lnTo>
                      <a:lnTo>
                        <a:pt x="738" y="131"/>
                      </a:lnTo>
                      <a:lnTo>
                        <a:pt x="734" y="127"/>
                      </a:lnTo>
                      <a:lnTo>
                        <a:pt x="730" y="124"/>
                      </a:lnTo>
                      <a:lnTo>
                        <a:pt x="727" y="120"/>
                      </a:lnTo>
                      <a:lnTo>
                        <a:pt x="725" y="116"/>
                      </a:lnTo>
                      <a:lnTo>
                        <a:pt x="721" y="112"/>
                      </a:lnTo>
                      <a:lnTo>
                        <a:pt x="717" y="108"/>
                      </a:lnTo>
                      <a:lnTo>
                        <a:pt x="713" y="105"/>
                      </a:lnTo>
                      <a:lnTo>
                        <a:pt x="710" y="103"/>
                      </a:lnTo>
                      <a:lnTo>
                        <a:pt x="704" y="99"/>
                      </a:lnTo>
                      <a:lnTo>
                        <a:pt x="700" y="97"/>
                      </a:lnTo>
                      <a:lnTo>
                        <a:pt x="694" y="95"/>
                      </a:lnTo>
                      <a:lnTo>
                        <a:pt x="691" y="91"/>
                      </a:lnTo>
                      <a:lnTo>
                        <a:pt x="685" y="89"/>
                      </a:lnTo>
                      <a:lnTo>
                        <a:pt x="681" y="87"/>
                      </a:lnTo>
                      <a:lnTo>
                        <a:pt x="675" y="86"/>
                      </a:lnTo>
                      <a:lnTo>
                        <a:pt x="672" y="86"/>
                      </a:lnTo>
                      <a:lnTo>
                        <a:pt x="668" y="84"/>
                      </a:lnTo>
                      <a:lnTo>
                        <a:pt x="666" y="84"/>
                      </a:lnTo>
                      <a:lnTo>
                        <a:pt x="664" y="84"/>
                      </a:lnTo>
                      <a:lnTo>
                        <a:pt x="660" y="84"/>
                      </a:lnTo>
                      <a:lnTo>
                        <a:pt x="658" y="84"/>
                      </a:lnTo>
                      <a:lnTo>
                        <a:pt x="654" y="84"/>
                      </a:lnTo>
                      <a:lnTo>
                        <a:pt x="652" y="84"/>
                      </a:lnTo>
                      <a:lnTo>
                        <a:pt x="651" y="84"/>
                      </a:lnTo>
                      <a:lnTo>
                        <a:pt x="647" y="84"/>
                      </a:lnTo>
                      <a:lnTo>
                        <a:pt x="645" y="84"/>
                      </a:lnTo>
                      <a:lnTo>
                        <a:pt x="643" y="84"/>
                      </a:lnTo>
                      <a:lnTo>
                        <a:pt x="639" y="84"/>
                      </a:lnTo>
                      <a:lnTo>
                        <a:pt x="635" y="84"/>
                      </a:lnTo>
                      <a:lnTo>
                        <a:pt x="630" y="84"/>
                      </a:lnTo>
                      <a:lnTo>
                        <a:pt x="628" y="84"/>
                      </a:lnTo>
                      <a:lnTo>
                        <a:pt x="624" y="86"/>
                      </a:lnTo>
                      <a:lnTo>
                        <a:pt x="622" y="86"/>
                      </a:lnTo>
                      <a:lnTo>
                        <a:pt x="618" y="86"/>
                      </a:lnTo>
                      <a:lnTo>
                        <a:pt x="614" y="87"/>
                      </a:lnTo>
                      <a:lnTo>
                        <a:pt x="609" y="89"/>
                      </a:lnTo>
                      <a:lnTo>
                        <a:pt x="603" y="91"/>
                      </a:lnTo>
                      <a:lnTo>
                        <a:pt x="599" y="95"/>
                      </a:lnTo>
                      <a:lnTo>
                        <a:pt x="595" y="97"/>
                      </a:lnTo>
                      <a:lnTo>
                        <a:pt x="592" y="99"/>
                      </a:lnTo>
                      <a:lnTo>
                        <a:pt x="586" y="103"/>
                      </a:lnTo>
                      <a:lnTo>
                        <a:pt x="582" y="105"/>
                      </a:lnTo>
                      <a:lnTo>
                        <a:pt x="578" y="108"/>
                      </a:lnTo>
                      <a:lnTo>
                        <a:pt x="574" y="112"/>
                      </a:lnTo>
                      <a:lnTo>
                        <a:pt x="571" y="116"/>
                      </a:lnTo>
                      <a:lnTo>
                        <a:pt x="567" y="120"/>
                      </a:lnTo>
                      <a:lnTo>
                        <a:pt x="565" y="124"/>
                      </a:lnTo>
                      <a:lnTo>
                        <a:pt x="563" y="127"/>
                      </a:lnTo>
                      <a:lnTo>
                        <a:pt x="559" y="131"/>
                      </a:lnTo>
                      <a:lnTo>
                        <a:pt x="555" y="135"/>
                      </a:lnTo>
                      <a:lnTo>
                        <a:pt x="554" y="141"/>
                      </a:lnTo>
                      <a:lnTo>
                        <a:pt x="552" y="146"/>
                      </a:lnTo>
                      <a:lnTo>
                        <a:pt x="550" y="150"/>
                      </a:lnTo>
                      <a:lnTo>
                        <a:pt x="548" y="156"/>
                      </a:lnTo>
                      <a:lnTo>
                        <a:pt x="546" y="158"/>
                      </a:lnTo>
                      <a:lnTo>
                        <a:pt x="546" y="160"/>
                      </a:lnTo>
                      <a:lnTo>
                        <a:pt x="544" y="163"/>
                      </a:lnTo>
                      <a:lnTo>
                        <a:pt x="544" y="167"/>
                      </a:lnTo>
                      <a:lnTo>
                        <a:pt x="361" y="1127"/>
                      </a:lnTo>
                      <a:lnTo>
                        <a:pt x="361" y="112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AutoShape 614"/>
              <p:cNvSpPr/>
              <p:nvPr/>
            </p:nvSpPr>
            <p:spPr>
              <a:xfrm flipH="1" flipV="1" rot="14245800">
                <a:off x="4682160" y="2828160"/>
                <a:ext cx="88560" cy="75960"/>
              </a:xfrm>
              <a:prstGeom prst="hexagon">
                <a:avLst>
                  <a:gd name="adj" fmla="val 29147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AutoShape 615"/>
              <p:cNvSpPr/>
              <p:nvPr/>
            </p:nvSpPr>
            <p:spPr>
              <a:xfrm flipH="1" flipV="1" rot="14276400">
                <a:off x="4313160" y="3035880"/>
                <a:ext cx="193320" cy="55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308" y="21600"/>
                    </a:lnTo>
                    <a:lnTo>
                      <a:pt x="1729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Text Box 616"/>
          <p:cNvSpPr/>
          <p:nvPr/>
        </p:nvSpPr>
        <p:spPr>
          <a:xfrm>
            <a:off x="1981080" y="56386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片名：铁皮人的爱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6155"/>
          <p:cNvSpPr/>
          <p:nvPr/>
        </p:nvSpPr>
        <p:spPr>
          <a:xfrm>
            <a:off x="76320" y="640080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374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铁皮人的爱情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7800000">
                                      <p:cBhvr>
                                        <p:cTn id="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3.05556E-006 -3.33333E-006 L -3.05556E-006 0.22223 E">
                                      <p:cBhvr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800000">
                                      <p:cBhvr>
                                        <p:cTn id="10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mph" presetID="8">
                                  <p:stCondLst>
                                    <p:cond delay="4000"/>
                                  </p:stCondLst>
                                  <p:childTnLst>
                                    <p:animRot by="-3600000">
                                      <p:cBhvr>
                                        <p:cTn id="1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900000">
                                      <p:cBhvr>
                                        <p:cTn id="1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7200000">
                                      <p:cBhvr>
                                        <p:cTn id="16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5.55556E-006 2.22222E-006 L -0.01666 2.22222E-006 E">
                                      <p:cBhvr>
                                        <p:cTn id="18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5" name="Group 419"/>
          <p:cNvGrpSpPr/>
          <p:nvPr/>
        </p:nvGrpSpPr>
        <p:grpSpPr>
          <a:xfrm>
            <a:off x="4548240" y="3563280"/>
            <a:ext cx="910080" cy="841320"/>
            <a:chOff x="4548240" y="3563280"/>
            <a:chExt cx="910080" cy="841320"/>
          </a:xfrm>
        </p:grpSpPr>
        <p:grpSp>
          <p:nvGrpSpPr>
            <p:cNvPr id="1576" name="Group 392"/>
            <p:cNvGrpSpPr/>
            <p:nvPr/>
          </p:nvGrpSpPr>
          <p:grpSpPr>
            <a:xfrm>
              <a:off x="4977720" y="3854520"/>
              <a:ext cx="480600" cy="550080"/>
              <a:chOff x="4977720" y="3854520"/>
              <a:chExt cx="480600" cy="550080"/>
            </a:xfrm>
          </p:grpSpPr>
          <p:sp>
            <p:nvSpPr>
              <p:cNvPr id="1577" name="AutoShape 393"/>
              <p:cNvSpPr/>
              <p:nvPr/>
            </p:nvSpPr>
            <p:spPr>
              <a:xfrm rot="10572600">
                <a:off x="4990680" y="3862440"/>
                <a:ext cx="252720" cy="405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700" y="21600"/>
                    </a:lnTo>
                    <a:lnTo>
                      <a:pt x="189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8" name="Group 394"/>
              <p:cNvGrpSpPr/>
              <p:nvPr/>
            </p:nvGrpSpPr>
            <p:grpSpPr>
              <a:xfrm>
                <a:off x="4997520" y="4161240"/>
                <a:ext cx="460800" cy="243360"/>
                <a:chOff x="4997520" y="4161240"/>
                <a:chExt cx="460800" cy="243360"/>
              </a:xfrm>
            </p:grpSpPr>
            <p:grpSp>
              <p:nvGrpSpPr>
                <p:cNvPr id="1579" name="Group 395"/>
                <p:cNvGrpSpPr/>
                <p:nvPr/>
              </p:nvGrpSpPr>
              <p:grpSpPr>
                <a:xfrm>
                  <a:off x="4997520" y="4245480"/>
                  <a:ext cx="460800" cy="159120"/>
                  <a:chOff x="4997520" y="4245480"/>
                  <a:chExt cx="460800" cy="159120"/>
                </a:xfrm>
              </p:grpSpPr>
              <p:grpSp>
                <p:nvGrpSpPr>
                  <p:cNvPr id="1580" name="Group 396"/>
                  <p:cNvGrpSpPr/>
                  <p:nvPr/>
                </p:nvGrpSpPr>
                <p:grpSpPr>
                  <a:xfrm>
                    <a:off x="4997520" y="4245480"/>
                    <a:ext cx="455040" cy="159120"/>
                    <a:chOff x="4997520" y="4245480"/>
                    <a:chExt cx="455040" cy="159120"/>
                  </a:xfrm>
                </p:grpSpPr>
                <p:sp>
                  <p:nvSpPr>
                    <p:cNvPr id="1581" name="Rectangle 397"/>
                    <p:cNvSpPr/>
                    <p:nvPr/>
                  </p:nvSpPr>
                  <p:spPr>
                    <a:xfrm rot="21372600">
                      <a:off x="5001120" y="4266000"/>
                      <a:ext cx="298440" cy="1288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2" name="Freeform 398"/>
                    <p:cNvSpPr/>
                    <p:nvPr/>
                  </p:nvSpPr>
                  <p:spPr>
                    <a:xfrm rot="21372600">
                      <a:off x="5299200" y="4249800"/>
                      <a:ext cx="149040" cy="12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2" h="672">
                          <a:moveTo>
                            <a:pt x="0" y="0"/>
                          </a:moveTo>
                          <a:lnTo>
                            <a:pt x="672" y="528"/>
                          </a:lnTo>
                          <a:lnTo>
                            <a:pt x="672" y="672"/>
                          </a:lnTo>
                          <a:lnTo>
                            <a:pt x="0" y="67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83" name=""/>
                  <p:cNvGrpSpPr/>
                  <p:nvPr/>
                </p:nvGrpSpPr>
                <p:grpSpPr>
                  <a:xfrm>
                    <a:off x="5004000" y="4345920"/>
                    <a:ext cx="454320" cy="30600"/>
                    <a:chOff x="5004000" y="4345920"/>
                    <a:chExt cx="454320" cy="30600"/>
                  </a:xfrm>
                </p:grpSpPr>
                <p:sp>
                  <p:nvSpPr>
                    <p:cNvPr id="1584" name="Line 399"/>
                    <p:cNvSpPr/>
                    <p:nvPr/>
                  </p:nvSpPr>
                  <p:spPr>
                    <a:xfrm flipV="1">
                      <a:off x="5004000" y="4346280"/>
                      <a:ext cx="454320" cy="2988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5" name=""/>
                    <p:cNvSpPr txBox="1"/>
                    <p:nvPr/>
                  </p:nvSpPr>
                  <p:spPr>
                    <a:xfrm rot="21372600">
                      <a:off x="5003280" y="4361040"/>
                      <a:ext cx="4554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86" name="Oval 400"/>
                <p:cNvSpPr/>
                <p:nvPr/>
              </p:nvSpPr>
              <p:spPr>
                <a:xfrm rot="21372600">
                  <a:off x="5077800" y="4230360"/>
                  <a:ext cx="90720" cy="10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Freeform 401"/>
                <p:cNvSpPr/>
                <p:nvPr/>
              </p:nvSpPr>
              <p:spPr>
                <a:xfrm rot="11124600">
                  <a:off x="5215680" y="4166280"/>
                  <a:ext cx="122040" cy="151920"/>
                </a:xfrm>
                <a:custGeom>
                  <a:avLst/>
                  <a:gdLst/>
                  <a:ahLst/>
                  <a:rect l="l" t="t" r="r" b="b"/>
                  <a:pathLst>
                    <a:path w="400" h="656">
                      <a:moveTo>
                        <a:pt x="360" y="64"/>
                      </a:moveTo>
                      <a:cubicBezTo>
                        <a:pt x="400" y="128"/>
                        <a:pt x="376" y="448"/>
                        <a:pt x="360" y="544"/>
                      </a:cubicBezTo>
                      <a:cubicBezTo>
                        <a:pt x="344" y="640"/>
                        <a:pt x="320" y="656"/>
                        <a:pt x="264" y="640"/>
                      </a:cubicBezTo>
                      <a:cubicBezTo>
                        <a:pt x="208" y="624"/>
                        <a:pt x="48" y="528"/>
                        <a:pt x="24" y="448"/>
                      </a:cubicBezTo>
                      <a:cubicBezTo>
                        <a:pt x="0" y="368"/>
                        <a:pt x="64" y="224"/>
                        <a:pt x="120" y="160"/>
                      </a:cubicBezTo>
                      <a:cubicBezTo>
                        <a:pt x="176" y="96"/>
                        <a:pt x="320" y="0"/>
                        <a:pt x="360" y="6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10248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88" name="Group 402"/>
            <p:cNvGrpSpPr/>
            <p:nvPr/>
          </p:nvGrpSpPr>
          <p:grpSpPr>
            <a:xfrm>
              <a:off x="4548240" y="3563280"/>
              <a:ext cx="692280" cy="470520"/>
              <a:chOff x="4548240" y="3563280"/>
              <a:chExt cx="692280" cy="470520"/>
            </a:xfrm>
          </p:grpSpPr>
          <p:grpSp>
            <p:nvGrpSpPr>
              <p:cNvPr id="1589" name="Group 403"/>
              <p:cNvGrpSpPr/>
              <p:nvPr/>
            </p:nvGrpSpPr>
            <p:grpSpPr>
              <a:xfrm>
                <a:off x="4548240" y="3574800"/>
                <a:ext cx="577440" cy="459000"/>
                <a:chOff x="4548240" y="3574800"/>
                <a:chExt cx="577440" cy="459000"/>
              </a:xfrm>
            </p:grpSpPr>
            <p:sp>
              <p:nvSpPr>
                <p:cNvPr id="1590" name="AutoShape 404"/>
                <p:cNvSpPr/>
                <p:nvPr/>
              </p:nvSpPr>
              <p:spPr>
                <a:xfrm rot="16583400">
                  <a:off x="4784040" y="3541320"/>
                  <a:ext cx="252360" cy="405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2700" y="21600"/>
                      </a:lnTo>
                      <a:lnTo>
                        <a:pt x="189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91" name="Group 405"/>
                <p:cNvGrpSpPr/>
                <p:nvPr/>
              </p:nvGrpSpPr>
              <p:grpSpPr>
                <a:xfrm>
                  <a:off x="4548240" y="3574800"/>
                  <a:ext cx="248760" cy="459000"/>
                  <a:chOff x="4548240" y="3574800"/>
                  <a:chExt cx="248760" cy="459000"/>
                </a:xfrm>
              </p:grpSpPr>
              <p:grpSp>
                <p:nvGrpSpPr>
                  <p:cNvPr id="1592" name="Group 406"/>
                  <p:cNvGrpSpPr/>
                  <p:nvPr/>
                </p:nvGrpSpPr>
                <p:grpSpPr>
                  <a:xfrm>
                    <a:off x="4548240" y="3574800"/>
                    <a:ext cx="176040" cy="459000"/>
                    <a:chOff x="4548240" y="3574800"/>
                    <a:chExt cx="176040" cy="459000"/>
                  </a:xfrm>
                </p:grpSpPr>
                <p:grpSp>
                  <p:nvGrpSpPr>
                    <p:cNvPr id="1593" name="Group 407"/>
                    <p:cNvGrpSpPr/>
                    <p:nvPr/>
                  </p:nvGrpSpPr>
                  <p:grpSpPr>
                    <a:xfrm>
                      <a:off x="4548240" y="3574800"/>
                      <a:ext cx="176040" cy="459000"/>
                      <a:chOff x="4548240" y="3574800"/>
                      <a:chExt cx="176040" cy="459000"/>
                    </a:xfrm>
                  </p:grpSpPr>
                  <p:sp>
                    <p:nvSpPr>
                      <p:cNvPr id="1594" name="Rectangle 408"/>
                      <p:cNvSpPr/>
                      <p:nvPr/>
                    </p:nvSpPr>
                    <p:spPr>
                      <a:xfrm rot="5783400">
                        <a:off x="4494600" y="3665520"/>
                        <a:ext cx="298080" cy="12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5" name="Freeform 409"/>
                      <p:cNvSpPr/>
                      <p:nvPr/>
                    </p:nvSpPr>
                    <p:spPr>
                      <a:xfrm rot="5783400">
                        <a:off x="4545720" y="3888360"/>
                        <a:ext cx="149040" cy="12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2" h="672">
                            <a:moveTo>
                              <a:pt x="0" y="0"/>
                            </a:moveTo>
                            <a:lnTo>
                              <a:pt x="672" y="528"/>
                            </a:lnTo>
                            <a:lnTo>
                              <a:pt x="672" y="672"/>
                            </a:lnTo>
                            <a:lnTo>
                              <a:pt x="0" y="67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96" name=""/>
                    <p:cNvGrpSpPr/>
                    <p:nvPr/>
                  </p:nvGrpSpPr>
                  <p:grpSpPr>
                    <a:xfrm>
                      <a:off x="4573440" y="3578040"/>
                      <a:ext cx="51120" cy="451800"/>
                      <a:chOff x="4573440" y="3578040"/>
                      <a:chExt cx="51120" cy="451800"/>
                    </a:xfrm>
                  </p:grpSpPr>
                  <p:sp>
                    <p:nvSpPr>
                      <p:cNvPr id="1597" name="Line 410"/>
                      <p:cNvSpPr/>
                      <p:nvPr/>
                    </p:nvSpPr>
                    <p:spPr>
                      <a:xfrm flipH="1">
                        <a:off x="4573800" y="3578040"/>
                        <a:ext cx="50400" cy="45180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8" name=""/>
                      <p:cNvSpPr txBox="1"/>
                      <p:nvPr/>
                    </p:nvSpPr>
                    <p:spPr>
                      <a:xfrm rot="5783400">
                        <a:off x="4371480" y="3803760"/>
                        <a:ext cx="45468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599" name="Oval 411"/>
                  <p:cNvSpPr/>
                  <p:nvPr/>
                </p:nvSpPr>
                <p:spPr>
                  <a:xfrm rot="5783400">
                    <a:off x="4651560" y="3661560"/>
                    <a:ext cx="90720" cy="10116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840" bIns="24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Freeform 412"/>
                  <p:cNvSpPr/>
                  <p:nvPr/>
                </p:nvSpPr>
                <p:spPr>
                  <a:xfrm rot="17135400">
                    <a:off x="4646520" y="3793680"/>
                    <a:ext cx="12168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656">
                        <a:moveTo>
                          <a:pt x="360" y="64"/>
                        </a:moveTo>
                        <a:cubicBezTo>
                          <a:pt x="400" y="128"/>
                          <a:pt x="376" y="448"/>
                          <a:pt x="360" y="544"/>
                        </a:cubicBezTo>
                        <a:cubicBezTo>
                          <a:pt x="344" y="640"/>
                          <a:pt x="320" y="656"/>
                          <a:pt x="264" y="640"/>
                        </a:cubicBezTo>
                        <a:cubicBezTo>
                          <a:pt x="208" y="624"/>
                          <a:pt x="48" y="528"/>
                          <a:pt x="24" y="448"/>
                        </a:cubicBezTo>
                        <a:cubicBezTo>
                          <a:pt x="0" y="368"/>
                          <a:pt x="64" y="224"/>
                          <a:pt x="120" y="160"/>
                        </a:cubicBezTo>
                        <a:cubicBezTo>
                          <a:pt x="176" y="96"/>
                          <a:pt x="320" y="0"/>
                          <a:pt x="360" y="64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01" name="Group 413"/>
              <p:cNvGrpSpPr/>
              <p:nvPr/>
            </p:nvGrpSpPr>
            <p:grpSpPr>
              <a:xfrm>
                <a:off x="4564440" y="3563280"/>
                <a:ext cx="676080" cy="344520"/>
                <a:chOff x="4564440" y="3563280"/>
                <a:chExt cx="676080" cy="344520"/>
              </a:xfrm>
            </p:grpSpPr>
            <p:grpSp>
              <p:nvGrpSpPr>
                <p:cNvPr id="1602" name="Group 414"/>
                <p:cNvGrpSpPr/>
                <p:nvPr/>
              </p:nvGrpSpPr>
              <p:grpSpPr>
                <a:xfrm>
                  <a:off x="4564440" y="3563280"/>
                  <a:ext cx="554040" cy="344520"/>
                  <a:chOff x="4564440" y="3563280"/>
                  <a:chExt cx="554040" cy="344520"/>
                </a:xfrm>
              </p:grpSpPr>
              <p:sp>
                <p:nvSpPr>
                  <p:cNvPr id="1603" name="AutoShape 415"/>
                  <p:cNvSpPr/>
                  <p:nvPr/>
                </p:nvSpPr>
                <p:spPr>
                  <a:xfrm rot="16583400">
                    <a:off x="4753800" y="3536640"/>
                    <a:ext cx="293400" cy="40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Oval 416"/>
                  <p:cNvSpPr/>
                  <p:nvPr/>
                </p:nvSpPr>
                <p:spPr>
                  <a:xfrm rot="16583400">
                    <a:off x="4559760" y="3595680"/>
                    <a:ext cx="288000" cy="24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05" name="Oval 417"/>
                <p:cNvSpPr/>
                <p:nvPr/>
              </p:nvSpPr>
              <p:spPr>
                <a:xfrm rot="16583400">
                  <a:off x="4978440" y="3642120"/>
                  <a:ext cx="252000" cy="244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6" name="AutoShape 418"/>
              <p:cNvSpPr/>
              <p:nvPr/>
            </p:nvSpPr>
            <p:spPr>
              <a:xfrm rot="16583400">
                <a:off x="5053320" y="3715200"/>
                <a:ext cx="108720" cy="94320"/>
              </a:xfrm>
              <a:prstGeom prst="hexagon">
                <a:avLst>
                  <a:gd name="adj" fmla="val 28817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07" name="Group 434"/>
          <p:cNvGrpSpPr/>
          <p:nvPr/>
        </p:nvGrpSpPr>
        <p:grpSpPr>
          <a:xfrm>
            <a:off x="3981600" y="1651320"/>
            <a:ext cx="999720" cy="2181600"/>
            <a:chOff x="3981600" y="1651320"/>
            <a:chExt cx="999720" cy="2181600"/>
          </a:xfrm>
        </p:grpSpPr>
        <p:grpSp>
          <p:nvGrpSpPr>
            <p:cNvPr id="1608" name=""/>
            <p:cNvGrpSpPr/>
            <p:nvPr/>
          </p:nvGrpSpPr>
          <p:grpSpPr>
            <a:xfrm>
              <a:off x="4294080" y="1838160"/>
              <a:ext cx="299160" cy="184320"/>
              <a:chOff x="4294080" y="1838160"/>
              <a:chExt cx="299160" cy="184320"/>
            </a:xfrm>
          </p:grpSpPr>
          <p:sp>
            <p:nvSpPr>
              <p:cNvPr id="1609" name="Line 435"/>
              <p:cNvSpPr/>
              <p:nvPr/>
            </p:nvSpPr>
            <p:spPr>
              <a:xfrm>
                <a:off x="4294080" y="1867680"/>
                <a:ext cx="298800" cy="125280"/>
              </a:xfrm>
              <a:prstGeom prst="line">
                <a:avLst/>
              </a:prstGeom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 txBox="1"/>
              <p:nvPr/>
            </p:nvSpPr>
            <p:spPr>
              <a:xfrm rot="21241800">
                <a:off x="4301280" y="1852200"/>
                <a:ext cx="284400" cy="15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1" name="AutoShape 436"/>
            <p:cNvSpPr/>
            <p:nvPr/>
          </p:nvSpPr>
          <p:spPr>
            <a:xfrm rot="113400">
              <a:off x="3990240" y="2738880"/>
              <a:ext cx="152280" cy="53316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21960 h 533160"/>
                <a:gd name="textAreaBottom" fmla="*/ 51120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2" name="Group 437"/>
            <p:cNvGrpSpPr/>
            <p:nvPr/>
          </p:nvGrpSpPr>
          <p:grpSpPr>
            <a:xfrm>
              <a:off x="3997080" y="1651320"/>
              <a:ext cx="984240" cy="2181600"/>
              <a:chOff x="3997080" y="1651320"/>
              <a:chExt cx="984240" cy="2181600"/>
            </a:xfrm>
          </p:grpSpPr>
          <p:grpSp>
            <p:nvGrpSpPr>
              <p:cNvPr id="1613" name="Group 438"/>
              <p:cNvGrpSpPr/>
              <p:nvPr/>
            </p:nvGrpSpPr>
            <p:grpSpPr>
              <a:xfrm>
                <a:off x="4031280" y="1730160"/>
                <a:ext cx="950040" cy="2102760"/>
                <a:chOff x="4031280" y="1730160"/>
                <a:chExt cx="950040" cy="2102760"/>
              </a:xfrm>
            </p:grpSpPr>
            <p:grpSp>
              <p:nvGrpSpPr>
                <p:cNvPr id="1614" name="Group 439"/>
                <p:cNvGrpSpPr/>
                <p:nvPr/>
              </p:nvGrpSpPr>
              <p:grpSpPr>
                <a:xfrm>
                  <a:off x="4190400" y="2289600"/>
                  <a:ext cx="613800" cy="1543320"/>
                  <a:chOff x="4190400" y="2289600"/>
                  <a:chExt cx="613800" cy="1543320"/>
                </a:xfrm>
              </p:grpSpPr>
              <p:sp>
                <p:nvSpPr>
                  <p:cNvPr id="1615" name="Oval 440"/>
                  <p:cNvSpPr/>
                  <p:nvPr/>
                </p:nvSpPr>
                <p:spPr>
                  <a:xfrm rot="27600">
                    <a:off x="4206960" y="3283560"/>
                    <a:ext cx="569160" cy="546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2121600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6" name="Oval 441"/>
                  <p:cNvSpPr/>
                  <p:nvPr/>
                </p:nvSpPr>
                <p:spPr>
                  <a:xfrm rot="27600">
                    <a:off x="4768560" y="2755080"/>
                    <a:ext cx="32760" cy="49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7" name="Oval 442"/>
                  <p:cNvSpPr/>
                  <p:nvPr/>
                </p:nvSpPr>
                <p:spPr>
                  <a:xfrm rot="27600">
                    <a:off x="4771080" y="3053880"/>
                    <a:ext cx="32760" cy="48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8" name="Oval 443"/>
                  <p:cNvSpPr/>
                  <p:nvPr/>
                </p:nvSpPr>
                <p:spPr>
                  <a:xfrm rot="27600">
                    <a:off x="4769280" y="3351600"/>
                    <a:ext cx="32760" cy="49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9" name="AutoShape 444"/>
                  <p:cNvSpPr/>
                  <p:nvPr/>
                </p:nvSpPr>
                <p:spPr>
                  <a:xfrm rot="27600">
                    <a:off x="4194360" y="2625480"/>
                    <a:ext cx="591120" cy="1022040"/>
                  </a:xfrm>
                  <a:prstGeom prst="can">
                    <a:avLst>
                      <a:gd name="adj" fmla="val 2652"/>
                    </a:avLst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2121600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0" name="Rectangle 445"/>
                  <p:cNvSpPr/>
                  <p:nvPr/>
                </p:nvSpPr>
                <p:spPr>
                  <a:xfrm rot="27600">
                    <a:off x="4425120" y="2541240"/>
                    <a:ext cx="148680" cy="9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21216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21" name="Group 446"/>
                  <p:cNvGrpSpPr/>
                  <p:nvPr/>
                </p:nvGrpSpPr>
                <p:grpSpPr>
                  <a:xfrm>
                    <a:off x="4366080" y="2289600"/>
                    <a:ext cx="264600" cy="677160"/>
                    <a:chOff x="4366080" y="2289600"/>
                    <a:chExt cx="264600" cy="677160"/>
                  </a:xfrm>
                </p:grpSpPr>
                <p:sp>
                  <p:nvSpPr>
                    <p:cNvPr id="1622" name="AutoShape 447"/>
                    <p:cNvSpPr/>
                    <p:nvPr/>
                  </p:nvSpPr>
                  <p:spPr>
                    <a:xfrm rot="10649400">
                      <a:off x="4390200" y="2293560"/>
                      <a:ext cx="199440" cy="54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3" name="AutoShape 448"/>
                    <p:cNvSpPr/>
                    <p:nvPr/>
                  </p:nvSpPr>
                  <p:spPr>
                    <a:xfrm rot="16227600">
                      <a:off x="4391640" y="2727360"/>
                      <a:ext cx="213120" cy="26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624" name="Group 449"/>
                <p:cNvGrpSpPr/>
                <p:nvPr/>
              </p:nvGrpSpPr>
              <p:grpSpPr>
                <a:xfrm>
                  <a:off x="4031280" y="1730160"/>
                  <a:ext cx="950040" cy="890640"/>
                  <a:chOff x="4031280" y="1730160"/>
                  <a:chExt cx="950040" cy="890640"/>
                </a:xfrm>
              </p:grpSpPr>
              <p:sp>
                <p:nvSpPr>
                  <p:cNvPr id="1625" name="AutoShape 450"/>
                  <p:cNvSpPr/>
                  <p:nvPr/>
                </p:nvSpPr>
                <p:spPr>
                  <a:xfrm rot="20743800">
                    <a:off x="4518000" y="1983960"/>
                    <a:ext cx="405720" cy="516960"/>
                  </a:xfrm>
                  <a:custGeom>
                    <a:avLst/>
                    <a:gdLst>
                      <a:gd name="textAreaLeft" fmla="*/ 0 w 405720"/>
                      <a:gd name="textAreaRight" fmla="*/ 146520 w 405720"/>
                      <a:gd name="textAreaTop" fmla="*/ 13320 h 516960"/>
                      <a:gd name="textAreaBottom" fmla="*/ 503640 h 516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5400" y="0"/>
                          <a:pt x="10800" y="900"/>
                          <a:pt x="10800" y="1800"/>
                        </a:cubicBezTo>
                        <a:lnTo>
                          <a:pt x="10800" y="9000"/>
                        </a:lnTo>
                        <a:cubicBezTo>
                          <a:pt x="10800" y="9900"/>
                          <a:pt x="16200" y="10800"/>
                          <a:pt x="21600" y="10800"/>
                        </a:cubicBezTo>
                        <a:cubicBezTo>
                          <a:pt x="16200" y="10800"/>
                          <a:pt x="10800" y="11700"/>
                          <a:pt x="10800" y="12600"/>
                        </a:cubicBezTo>
                        <a:lnTo>
                          <a:pt x="10800" y="19800"/>
                        </a:lnTo>
                        <a:cubicBezTo>
                          <a:pt x="10800" y="20700"/>
                          <a:pt x="5400" y="21600"/>
                          <a:pt x="0" y="21600"/>
                        </a:cubicBezTo>
                      </a:path>
                    </a:pathLst>
                  </a:custGeom>
                  <a:noFill/>
                  <a:ln w="12600">
                    <a:solidFill>
                      <a:srgbClr val="dddd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6" name="AutoShape 451"/>
                  <p:cNvSpPr/>
                  <p:nvPr/>
                </p:nvSpPr>
                <p:spPr>
                  <a:xfrm rot="20867400">
                    <a:off x="4239720" y="2052000"/>
                    <a:ext cx="446400" cy="527400"/>
                  </a:xfrm>
                  <a:custGeom>
                    <a:avLst/>
                    <a:gdLst>
                      <a:gd name="textAreaLeft" fmla="*/ 21600 w 446400"/>
                      <a:gd name="textAreaRight" fmla="*/ 424800 w 446400"/>
                      <a:gd name="textAreaTop" fmla="*/ 21600 h 527400"/>
                      <a:gd name="textAreaBottom" fmla="*/ 505800 h 527400"/>
                    </a:gdLst>
                    <a:ahLst/>
                    <a:rect l="textAreaLeft" t="textAreaTop" r="textAreaRight" b="textAreaBottom"/>
                    <a:pathLst>
                      <a:path w="21600" h="25516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1916"/>
                        </a:lnTo>
                        <a:arcTo wR="3600" hR="3600" stAng="10800000" swAng="-5400000"/>
                        <a:lnTo>
                          <a:pt x="18000" y="25516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372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7" name="AutoShape 452"/>
                  <p:cNvSpPr/>
                  <p:nvPr/>
                </p:nvSpPr>
                <p:spPr>
                  <a:xfrm rot="19692600">
                    <a:off x="4083120" y="1823040"/>
                    <a:ext cx="446400" cy="324360"/>
                  </a:xfrm>
                  <a:prstGeom prst="triangle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2044800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8" name="AutoShape 453"/>
                  <p:cNvSpPr/>
                  <p:nvPr/>
                </p:nvSpPr>
                <p:spPr>
                  <a:xfrm rot="21059400">
                    <a:off x="4422960" y="2231640"/>
                    <a:ext cx="9972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9725" y="3202"/>
                          <a:pt x="17850" y="5080"/>
                          <a:pt x="17850" y="10800"/>
                        </a:cubicBezTo>
                        <a:cubicBezTo>
                          <a:pt x="17850" y="16520"/>
                          <a:pt x="19725" y="1839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ffffff"/>
                      </a:gs>
                    </a:gsLst>
                    <a:lin ang="18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29" name="AutoShape 454"/>
              <p:cNvSpPr/>
              <p:nvPr/>
            </p:nvSpPr>
            <p:spPr>
              <a:xfrm rot="18773400">
                <a:off x="4093560" y="1630080"/>
                <a:ext cx="70920" cy="294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21366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0" name="AutoShape 455"/>
            <p:cNvSpPr/>
            <p:nvPr/>
          </p:nvSpPr>
          <p:spPr>
            <a:xfrm rot="89400">
              <a:off x="4037400" y="2733120"/>
              <a:ext cx="162000" cy="527040"/>
            </a:xfrm>
            <a:custGeom>
              <a:avLst/>
              <a:gdLst>
                <a:gd name="textAreaLeft" fmla="*/ 7920 w 162000"/>
                <a:gd name="textAreaRight" fmla="*/ 154080 w 162000"/>
                <a:gd name="textAreaTop" fmla="*/ 7920 h 527040"/>
                <a:gd name="textAreaBottom" fmla="*/ 519120 h 527040"/>
              </a:gdLst>
              <a:ahLst/>
              <a:rect l="textAreaLeft" t="textAreaTop" r="textAreaRight" b="textAreaBottom"/>
              <a:pathLst>
                <a:path w="21600" h="70164">
                  <a:moveTo>
                    <a:pt x="3600" y="0"/>
                  </a:moveTo>
                  <a:arcTo wR="3600" hR="3600" stAng="16200000" swAng="-5400000"/>
                  <a:lnTo>
                    <a:pt x="0" y="66564"/>
                  </a:lnTo>
                  <a:arcTo wR="3600" hR="3600" stAng="10800000" swAng="-5400000"/>
                  <a:lnTo>
                    <a:pt x="18000" y="701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115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1" name="Group 456"/>
          <p:cNvGrpSpPr/>
          <p:nvPr/>
        </p:nvGrpSpPr>
        <p:grpSpPr>
          <a:xfrm>
            <a:off x="4928400" y="3923640"/>
            <a:ext cx="483120" cy="552600"/>
            <a:chOff x="4928400" y="3923640"/>
            <a:chExt cx="483120" cy="552600"/>
          </a:xfrm>
        </p:grpSpPr>
        <p:sp>
          <p:nvSpPr>
            <p:cNvPr id="1632" name="AutoShape 457"/>
            <p:cNvSpPr/>
            <p:nvPr/>
          </p:nvSpPr>
          <p:spPr>
            <a:xfrm rot="10572600">
              <a:off x="4941360" y="3931560"/>
              <a:ext cx="253800" cy="407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700" y="21600"/>
                  </a:lnTo>
                  <a:lnTo>
                    <a:pt x="189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08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3" name="Group 458"/>
            <p:cNvGrpSpPr/>
            <p:nvPr/>
          </p:nvGrpSpPr>
          <p:grpSpPr>
            <a:xfrm>
              <a:off x="4948560" y="4232160"/>
              <a:ext cx="462960" cy="244080"/>
              <a:chOff x="4948560" y="4232160"/>
              <a:chExt cx="462960" cy="244080"/>
            </a:xfrm>
          </p:grpSpPr>
          <p:grpSp>
            <p:nvGrpSpPr>
              <p:cNvPr id="1634" name="Group 459"/>
              <p:cNvGrpSpPr/>
              <p:nvPr/>
            </p:nvGrpSpPr>
            <p:grpSpPr>
              <a:xfrm>
                <a:off x="4948560" y="4316760"/>
                <a:ext cx="462960" cy="159480"/>
                <a:chOff x="4948560" y="4316760"/>
                <a:chExt cx="462960" cy="159480"/>
              </a:xfrm>
            </p:grpSpPr>
            <p:grpSp>
              <p:nvGrpSpPr>
                <p:cNvPr id="1635" name="Group 460"/>
                <p:cNvGrpSpPr/>
                <p:nvPr/>
              </p:nvGrpSpPr>
              <p:grpSpPr>
                <a:xfrm>
                  <a:off x="4948560" y="4316760"/>
                  <a:ext cx="457200" cy="159480"/>
                  <a:chOff x="4948560" y="4316760"/>
                  <a:chExt cx="457200" cy="159480"/>
                </a:xfrm>
              </p:grpSpPr>
              <p:sp>
                <p:nvSpPr>
                  <p:cNvPr id="1636" name="Rectangle 461"/>
                  <p:cNvSpPr/>
                  <p:nvPr/>
                </p:nvSpPr>
                <p:spPr>
                  <a:xfrm rot="21372600">
                    <a:off x="4952160" y="4337280"/>
                    <a:ext cx="299880" cy="129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dddddd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7" name="Freeform 462"/>
                  <p:cNvSpPr/>
                  <p:nvPr/>
                </p:nvSpPr>
                <p:spPr>
                  <a:xfrm rot="21372600">
                    <a:off x="5251680" y="4321080"/>
                    <a:ext cx="14976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672" h="672">
                        <a:moveTo>
                          <a:pt x="0" y="0"/>
                        </a:moveTo>
                        <a:lnTo>
                          <a:pt x="672" y="528"/>
                        </a:lnTo>
                        <a:lnTo>
                          <a:pt x="672" y="672"/>
                        </a:lnTo>
                        <a:lnTo>
                          <a:pt x="0" y="6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dddddd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8" name=""/>
                <p:cNvGrpSpPr/>
                <p:nvPr/>
              </p:nvGrpSpPr>
              <p:grpSpPr>
                <a:xfrm>
                  <a:off x="4955040" y="4417560"/>
                  <a:ext cx="456480" cy="30600"/>
                  <a:chOff x="4955040" y="4417560"/>
                  <a:chExt cx="456480" cy="30600"/>
                </a:xfrm>
              </p:grpSpPr>
              <p:sp>
                <p:nvSpPr>
                  <p:cNvPr id="1639" name="Line 463"/>
                  <p:cNvSpPr/>
                  <p:nvPr/>
                </p:nvSpPr>
                <p:spPr>
                  <a:xfrm flipV="1">
                    <a:off x="4955040" y="4417560"/>
                    <a:ext cx="456480" cy="3024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0" name=""/>
                  <p:cNvSpPr txBox="1"/>
                  <p:nvPr/>
                </p:nvSpPr>
                <p:spPr>
                  <a:xfrm rot="21372600">
                    <a:off x="4954320" y="4432680"/>
                    <a:ext cx="4572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41" name="Oval 464"/>
              <p:cNvSpPr/>
              <p:nvPr/>
            </p:nvSpPr>
            <p:spPr>
              <a:xfrm rot="21372600">
                <a:off x="5029560" y="4302000"/>
                <a:ext cx="91080" cy="10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dddddd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465"/>
              <p:cNvSpPr/>
              <p:nvPr/>
            </p:nvSpPr>
            <p:spPr>
              <a:xfrm rot="11124600">
                <a:off x="5167800" y="4237200"/>
                <a:ext cx="122400" cy="152640"/>
              </a:xfrm>
              <a:custGeom>
                <a:avLst/>
                <a:gdLst/>
                <a:ahLst/>
                <a:rect l="l" t="t" r="r" b="b"/>
                <a:pathLst>
                  <a:path w="400" h="656">
                    <a:moveTo>
                      <a:pt x="360" y="64"/>
                    </a:moveTo>
                    <a:cubicBezTo>
                      <a:pt x="400" y="128"/>
                      <a:pt x="376" y="448"/>
                      <a:pt x="360" y="544"/>
                    </a:cubicBezTo>
                    <a:cubicBezTo>
                      <a:pt x="344" y="640"/>
                      <a:pt x="320" y="656"/>
                      <a:pt x="264" y="640"/>
                    </a:cubicBezTo>
                    <a:cubicBezTo>
                      <a:pt x="208" y="624"/>
                      <a:pt x="48" y="528"/>
                      <a:pt x="24" y="448"/>
                    </a:cubicBezTo>
                    <a:cubicBezTo>
                      <a:pt x="0" y="368"/>
                      <a:pt x="64" y="224"/>
                      <a:pt x="120" y="160"/>
                    </a:cubicBezTo>
                    <a:cubicBezTo>
                      <a:pt x="176" y="96"/>
                      <a:pt x="320" y="0"/>
                      <a:pt x="360" y="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10248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3" name="Rectangle 471"/>
          <p:cNvSpPr/>
          <p:nvPr/>
        </p:nvSpPr>
        <p:spPr>
          <a:xfrm rot="21196800">
            <a:off x="3962160" y="2674440"/>
            <a:ext cx="152280" cy="1219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AutoShape 472"/>
          <p:cNvSpPr/>
          <p:nvPr/>
        </p:nvSpPr>
        <p:spPr>
          <a:xfrm rot="11436000">
            <a:off x="4038480" y="3873240"/>
            <a:ext cx="208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AutoShape 473"/>
          <p:cNvSpPr/>
          <p:nvPr/>
        </p:nvSpPr>
        <p:spPr>
          <a:xfrm flipH="1" rot="10164000">
            <a:off x="4571640" y="3900240"/>
            <a:ext cx="208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6" name="Group 474"/>
          <p:cNvGrpSpPr/>
          <p:nvPr/>
        </p:nvGrpSpPr>
        <p:grpSpPr>
          <a:xfrm>
            <a:off x="4496760" y="3630960"/>
            <a:ext cx="695520" cy="473040"/>
            <a:chOff x="4496760" y="3630960"/>
            <a:chExt cx="695520" cy="473040"/>
          </a:xfrm>
        </p:grpSpPr>
        <p:grpSp>
          <p:nvGrpSpPr>
            <p:cNvPr id="1647" name="Group 475"/>
            <p:cNvGrpSpPr/>
            <p:nvPr/>
          </p:nvGrpSpPr>
          <p:grpSpPr>
            <a:xfrm>
              <a:off x="4496760" y="3642840"/>
              <a:ext cx="579600" cy="461160"/>
              <a:chOff x="4496760" y="3642840"/>
              <a:chExt cx="579600" cy="461160"/>
            </a:xfrm>
          </p:grpSpPr>
          <p:sp>
            <p:nvSpPr>
              <p:cNvPr id="1648" name="AutoShape 476"/>
              <p:cNvSpPr/>
              <p:nvPr/>
            </p:nvSpPr>
            <p:spPr>
              <a:xfrm rot="16583400">
                <a:off x="4733280" y="3609000"/>
                <a:ext cx="253800" cy="40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700" y="21600"/>
                    </a:lnTo>
                    <a:lnTo>
                      <a:pt x="189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9" name="Group 477"/>
              <p:cNvGrpSpPr/>
              <p:nvPr/>
            </p:nvGrpSpPr>
            <p:grpSpPr>
              <a:xfrm>
                <a:off x="4496760" y="3642840"/>
                <a:ext cx="250920" cy="461160"/>
                <a:chOff x="4496760" y="3642840"/>
                <a:chExt cx="250920" cy="461160"/>
              </a:xfrm>
            </p:grpSpPr>
            <p:grpSp>
              <p:nvGrpSpPr>
                <p:cNvPr id="1650" name="Group 478"/>
                <p:cNvGrpSpPr/>
                <p:nvPr/>
              </p:nvGrpSpPr>
              <p:grpSpPr>
                <a:xfrm>
                  <a:off x="4496760" y="3642840"/>
                  <a:ext cx="176760" cy="461160"/>
                  <a:chOff x="4496760" y="3642840"/>
                  <a:chExt cx="176760" cy="461160"/>
                </a:xfrm>
              </p:grpSpPr>
              <p:grpSp>
                <p:nvGrpSpPr>
                  <p:cNvPr id="1651" name="Group 479"/>
                  <p:cNvGrpSpPr/>
                  <p:nvPr/>
                </p:nvGrpSpPr>
                <p:grpSpPr>
                  <a:xfrm>
                    <a:off x="4496760" y="3642840"/>
                    <a:ext cx="176760" cy="461160"/>
                    <a:chOff x="4496760" y="3642840"/>
                    <a:chExt cx="176760" cy="461160"/>
                  </a:xfrm>
                </p:grpSpPr>
                <p:sp>
                  <p:nvSpPr>
                    <p:cNvPr id="1652" name="Rectangle 480"/>
                    <p:cNvSpPr/>
                    <p:nvPr/>
                  </p:nvSpPr>
                  <p:spPr>
                    <a:xfrm rot="5783400">
                      <a:off x="4442400" y="3734280"/>
                      <a:ext cx="299880" cy="129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3" name="Freeform 481"/>
                    <p:cNvSpPr/>
                    <p:nvPr/>
                  </p:nvSpPr>
                  <p:spPr>
                    <a:xfrm rot="5783400">
                      <a:off x="4493880" y="3958200"/>
                      <a:ext cx="149760" cy="12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2" h="672">
                          <a:moveTo>
                            <a:pt x="0" y="0"/>
                          </a:moveTo>
                          <a:lnTo>
                            <a:pt x="672" y="528"/>
                          </a:lnTo>
                          <a:lnTo>
                            <a:pt x="672" y="672"/>
                          </a:lnTo>
                          <a:lnTo>
                            <a:pt x="0" y="67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4" name=""/>
                  <p:cNvGrpSpPr/>
                  <p:nvPr/>
                </p:nvGrpSpPr>
                <p:grpSpPr>
                  <a:xfrm>
                    <a:off x="4522680" y="3645720"/>
                    <a:ext cx="51120" cy="454680"/>
                    <a:chOff x="4522680" y="3645720"/>
                    <a:chExt cx="51120" cy="454680"/>
                  </a:xfrm>
                </p:grpSpPr>
                <p:sp>
                  <p:nvSpPr>
                    <p:cNvPr id="1655" name="Line 482"/>
                    <p:cNvSpPr/>
                    <p:nvPr/>
                  </p:nvSpPr>
                  <p:spPr>
                    <a:xfrm flipH="1">
                      <a:off x="4523040" y="3645720"/>
                      <a:ext cx="50760" cy="45468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"/>
                    <p:cNvSpPr txBox="1"/>
                    <p:nvPr/>
                  </p:nvSpPr>
                  <p:spPr>
                    <a:xfrm rot="5783400">
                      <a:off x="4319280" y="3872880"/>
                      <a:ext cx="4572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7" name="Oval 483"/>
                <p:cNvSpPr/>
                <p:nvPr/>
              </p:nvSpPr>
              <p:spPr>
                <a:xfrm rot="5783400">
                  <a:off x="4600440" y="3729600"/>
                  <a:ext cx="91080" cy="1015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8" name="Freeform 484"/>
                <p:cNvSpPr/>
                <p:nvPr/>
              </p:nvSpPr>
              <p:spPr>
                <a:xfrm rot="17135400">
                  <a:off x="4596480" y="3862800"/>
                  <a:ext cx="122400" cy="152280"/>
                </a:xfrm>
                <a:custGeom>
                  <a:avLst/>
                  <a:gdLst/>
                  <a:ahLst/>
                  <a:rect l="l" t="t" r="r" b="b"/>
                  <a:pathLst>
                    <a:path w="400" h="656">
                      <a:moveTo>
                        <a:pt x="360" y="64"/>
                      </a:moveTo>
                      <a:cubicBezTo>
                        <a:pt x="400" y="128"/>
                        <a:pt x="376" y="448"/>
                        <a:pt x="360" y="544"/>
                      </a:cubicBezTo>
                      <a:cubicBezTo>
                        <a:pt x="344" y="640"/>
                        <a:pt x="320" y="656"/>
                        <a:pt x="264" y="640"/>
                      </a:cubicBezTo>
                      <a:cubicBezTo>
                        <a:pt x="208" y="624"/>
                        <a:pt x="48" y="528"/>
                        <a:pt x="24" y="448"/>
                      </a:cubicBezTo>
                      <a:cubicBezTo>
                        <a:pt x="0" y="368"/>
                        <a:pt x="64" y="224"/>
                        <a:pt x="120" y="160"/>
                      </a:cubicBezTo>
                      <a:cubicBezTo>
                        <a:pt x="176" y="96"/>
                        <a:pt x="320" y="0"/>
                        <a:pt x="360" y="64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9" name="Group 485"/>
            <p:cNvGrpSpPr/>
            <p:nvPr/>
          </p:nvGrpSpPr>
          <p:grpSpPr>
            <a:xfrm>
              <a:off x="4513680" y="3630960"/>
              <a:ext cx="678600" cy="347040"/>
              <a:chOff x="4513680" y="3630960"/>
              <a:chExt cx="678600" cy="347040"/>
            </a:xfrm>
          </p:grpSpPr>
          <p:grpSp>
            <p:nvGrpSpPr>
              <p:cNvPr id="1660" name="Group 486"/>
              <p:cNvGrpSpPr/>
              <p:nvPr/>
            </p:nvGrpSpPr>
            <p:grpSpPr>
              <a:xfrm>
                <a:off x="4513680" y="3630960"/>
                <a:ext cx="556560" cy="347040"/>
                <a:chOff x="4513680" y="3630960"/>
                <a:chExt cx="556560" cy="347040"/>
              </a:xfrm>
            </p:grpSpPr>
            <p:sp>
              <p:nvSpPr>
                <p:cNvPr id="1661" name="AutoShape 487"/>
                <p:cNvSpPr/>
                <p:nvPr/>
              </p:nvSpPr>
              <p:spPr>
                <a:xfrm rot="16583400">
                  <a:off x="4704120" y="3605040"/>
                  <a:ext cx="295200" cy="40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2700" y="21600"/>
                      </a:lnTo>
                      <a:lnTo>
                        <a:pt x="189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2" name="Oval 488"/>
                <p:cNvSpPr/>
                <p:nvPr/>
              </p:nvSpPr>
              <p:spPr>
                <a:xfrm rot="16583400">
                  <a:off x="4508640" y="3664080"/>
                  <a:ext cx="289800" cy="24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3" name="Oval 489"/>
              <p:cNvSpPr/>
              <p:nvPr/>
            </p:nvSpPr>
            <p:spPr>
              <a:xfrm rot="16583400">
                <a:off x="4929120" y="3710880"/>
                <a:ext cx="253800" cy="24552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4" name="AutoShape 490"/>
            <p:cNvSpPr/>
            <p:nvPr/>
          </p:nvSpPr>
          <p:spPr>
            <a:xfrm rot="16583400">
              <a:off x="5004360" y="3783960"/>
              <a:ext cx="109440" cy="94680"/>
            </a:xfrm>
            <a:prstGeom prst="hexagon">
              <a:avLst>
                <a:gd name="adj" fmla="val 28897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5" name="AutoShape 491"/>
          <p:cNvSpPr/>
          <p:nvPr/>
        </p:nvSpPr>
        <p:spPr>
          <a:xfrm flipH="1" rot="16512000">
            <a:off x="4272840" y="3513240"/>
            <a:ext cx="228600" cy="686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99"/>
          <p:cNvSpPr/>
          <p:nvPr/>
        </p:nvSpPr>
        <p:spPr>
          <a:xfrm>
            <a:off x="5257800" y="3352680"/>
            <a:ext cx="1219320" cy="152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Text Box 503"/>
          <p:cNvSpPr/>
          <p:nvPr/>
        </p:nvSpPr>
        <p:spPr>
          <a:xfrm>
            <a:off x="1905120" y="5562720"/>
            <a:ext cx="64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老爸经常让我跟他喝两杯，因为他一个人喝的时候，总是会挨骂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8" name="Group 520"/>
          <p:cNvGrpSpPr/>
          <p:nvPr/>
        </p:nvGrpSpPr>
        <p:grpSpPr>
          <a:xfrm>
            <a:off x="3979440" y="2478240"/>
            <a:ext cx="974880" cy="639360"/>
            <a:chOff x="3979440" y="2478240"/>
            <a:chExt cx="974880" cy="639360"/>
          </a:xfrm>
        </p:grpSpPr>
        <p:grpSp>
          <p:nvGrpSpPr>
            <p:cNvPr id="1669" name="Group 466"/>
            <p:cNvGrpSpPr/>
            <p:nvPr/>
          </p:nvGrpSpPr>
          <p:grpSpPr>
            <a:xfrm>
              <a:off x="4317480" y="2659680"/>
              <a:ext cx="636840" cy="457920"/>
              <a:chOff x="4317480" y="2659680"/>
              <a:chExt cx="636840" cy="457920"/>
            </a:xfrm>
          </p:grpSpPr>
          <p:sp>
            <p:nvSpPr>
              <p:cNvPr id="1670" name="AutoShape 467"/>
              <p:cNvSpPr/>
              <p:nvPr/>
            </p:nvSpPr>
            <p:spPr>
              <a:xfrm rot="17767800">
                <a:off x="4605120" y="2685240"/>
                <a:ext cx="181080" cy="487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556" y="21600"/>
                    </a:lnTo>
                    <a:lnTo>
                      <a:pt x="20044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21024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AutoShape 468"/>
              <p:cNvSpPr/>
              <p:nvPr/>
            </p:nvSpPr>
            <p:spPr>
              <a:xfrm rot="1745400">
                <a:off x="4363560" y="2690640"/>
                <a:ext cx="190440" cy="239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934" y="2201"/>
                      <a:pt x="12267" y="5080"/>
                      <a:pt x="12267" y="10800"/>
                    </a:cubicBezTo>
                    <a:cubicBezTo>
                      <a:pt x="12267" y="16520"/>
                      <a:pt x="16934" y="1939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15444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AutoShape 469"/>
              <p:cNvSpPr/>
              <p:nvPr/>
            </p:nvSpPr>
            <p:spPr>
              <a:xfrm rot="17767800">
                <a:off x="4531320" y="2824200"/>
                <a:ext cx="182880" cy="121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AutoShape 470"/>
              <p:cNvSpPr/>
              <p:nvPr/>
            </p:nvSpPr>
            <p:spPr>
              <a:xfrm rot="17631000">
                <a:off x="4553640" y="2831400"/>
                <a:ext cx="117000" cy="109080"/>
              </a:xfrm>
              <a:custGeom>
                <a:avLst/>
                <a:gdLst/>
                <a:ahLst/>
                <a:rect l="l" t="t" r="r" b="b"/>
                <a:pathLst>
                  <a:path w="73" h="69">
                    <a:moveTo>
                      <a:pt x="0" y="26"/>
                    </a:moveTo>
                    <a:lnTo>
                      <a:pt x="27" y="26"/>
                    </a:lnTo>
                    <a:lnTo>
                      <a:pt x="36" y="0"/>
                    </a:lnTo>
                    <a:lnTo>
                      <a:pt x="45" y="26"/>
                    </a:lnTo>
                    <a:lnTo>
                      <a:pt x="72" y="26"/>
                    </a:lnTo>
                    <a:lnTo>
                      <a:pt x="50" y="42"/>
                    </a:lnTo>
                    <a:lnTo>
                      <a:pt x="59" y="68"/>
                    </a:lnTo>
                    <a:lnTo>
                      <a:pt x="36" y="52"/>
                    </a:lnTo>
                    <a:lnTo>
                      <a:pt x="13" y="68"/>
                    </a:lnTo>
                    <a:lnTo>
                      <a:pt x="22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4" name="Group 515"/>
            <p:cNvGrpSpPr/>
            <p:nvPr/>
          </p:nvGrpSpPr>
          <p:grpSpPr>
            <a:xfrm>
              <a:off x="3979440" y="2478240"/>
              <a:ext cx="637200" cy="458280"/>
              <a:chOff x="3979440" y="2478240"/>
              <a:chExt cx="637200" cy="458280"/>
            </a:xfrm>
          </p:grpSpPr>
          <p:sp>
            <p:nvSpPr>
              <p:cNvPr id="1675" name="AutoShape 516"/>
              <p:cNvSpPr/>
              <p:nvPr/>
            </p:nvSpPr>
            <p:spPr>
              <a:xfrm flipH="1" flipV="1" rot="17767800">
                <a:off x="4147200" y="2422800"/>
                <a:ext cx="181440" cy="487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556" y="21600"/>
                    </a:lnTo>
                    <a:lnTo>
                      <a:pt x="20044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AutoShape 517"/>
              <p:cNvSpPr/>
              <p:nvPr/>
            </p:nvSpPr>
            <p:spPr>
              <a:xfrm flipH="1" flipV="1" rot="1745400">
                <a:off x="4379760" y="2665800"/>
                <a:ext cx="190440" cy="239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934" y="2201"/>
                      <a:pt x="12267" y="5080"/>
                      <a:pt x="12267" y="10800"/>
                    </a:cubicBezTo>
                    <a:cubicBezTo>
                      <a:pt x="12267" y="16520"/>
                      <a:pt x="16934" y="1939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AutoShape 518"/>
              <p:cNvSpPr/>
              <p:nvPr/>
            </p:nvSpPr>
            <p:spPr>
              <a:xfrm flipH="1" flipV="1" rot="17767800">
                <a:off x="4219560" y="2650680"/>
                <a:ext cx="182880" cy="120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AutoShape 519"/>
              <p:cNvSpPr/>
              <p:nvPr/>
            </p:nvSpPr>
            <p:spPr>
              <a:xfrm flipH="1" flipV="1" rot="17631000">
                <a:off x="4262760" y="2655000"/>
                <a:ext cx="117000" cy="109440"/>
              </a:xfrm>
              <a:custGeom>
                <a:avLst/>
                <a:gdLst/>
                <a:ahLst/>
                <a:rect l="l" t="t" r="r" b="b"/>
                <a:pathLst>
                  <a:path w="73" h="69">
                    <a:moveTo>
                      <a:pt x="0" y="26"/>
                    </a:moveTo>
                    <a:lnTo>
                      <a:pt x="27" y="26"/>
                    </a:lnTo>
                    <a:lnTo>
                      <a:pt x="36" y="0"/>
                    </a:lnTo>
                    <a:lnTo>
                      <a:pt x="45" y="26"/>
                    </a:lnTo>
                    <a:lnTo>
                      <a:pt x="72" y="26"/>
                    </a:lnTo>
                    <a:lnTo>
                      <a:pt x="50" y="42"/>
                    </a:lnTo>
                    <a:lnTo>
                      <a:pt x="59" y="68"/>
                    </a:lnTo>
                    <a:lnTo>
                      <a:pt x="36" y="52"/>
                    </a:lnTo>
                    <a:lnTo>
                      <a:pt x="13" y="68"/>
                    </a:lnTo>
                    <a:lnTo>
                      <a:pt x="22" y="42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9" name="Group 521"/>
          <p:cNvGrpSpPr/>
          <p:nvPr/>
        </p:nvGrpSpPr>
        <p:grpSpPr>
          <a:xfrm>
            <a:off x="4213440" y="2802240"/>
            <a:ext cx="1308600" cy="353880"/>
            <a:chOff x="4213440" y="2802240"/>
            <a:chExt cx="1308600" cy="353880"/>
          </a:xfrm>
        </p:grpSpPr>
        <p:grpSp>
          <p:nvGrpSpPr>
            <p:cNvPr id="1680" name="Group 522"/>
            <p:cNvGrpSpPr/>
            <p:nvPr/>
          </p:nvGrpSpPr>
          <p:grpSpPr>
            <a:xfrm>
              <a:off x="4788360" y="2802240"/>
              <a:ext cx="733680" cy="353880"/>
              <a:chOff x="4788360" y="2802240"/>
              <a:chExt cx="733680" cy="353880"/>
            </a:xfrm>
          </p:grpSpPr>
          <p:sp>
            <p:nvSpPr>
              <p:cNvPr id="1681" name="AutoShape 523"/>
              <p:cNvSpPr/>
              <p:nvPr/>
            </p:nvSpPr>
            <p:spPr>
              <a:xfrm>
                <a:off x="5281200" y="2833560"/>
                <a:ext cx="180360" cy="13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777777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2" name="Group 524"/>
              <p:cNvGrpSpPr/>
              <p:nvPr/>
            </p:nvGrpSpPr>
            <p:grpSpPr>
              <a:xfrm>
                <a:off x="4788360" y="2802240"/>
                <a:ext cx="733680" cy="353880"/>
                <a:chOff x="4788360" y="2802240"/>
                <a:chExt cx="733680" cy="353880"/>
              </a:xfrm>
            </p:grpSpPr>
            <p:grpSp>
              <p:nvGrpSpPr>
                <p:cNvPr id="1683" name="Group 525"/>
                <p:cNvGrpSpPr/>
                <p:nvPr/>
              </p:nvGrpSpPr>
              <p:grpSpPr>
                <a:xfrm>
                  <a:off x="4788360" y="2802240"/>
                  <a:ext cx="733680" cy="353880"/>
                  <a:chOff x="4788360" y="2802240"/>
                  <a:chExt cx="733680" cy="353880"/>
                </a:xfrm>
              </p:grpSpPr>
              <p:sp>
                <p:nvSpPr>
                  <p:cNvPr id="1684" name="AutoShape 526"/>
                  <p:cNvSpPr/>
                  <p:nvPr/>
                </p:nvSpPr>
                <p:spPr>
                  <a:xfrm rot="15484800">
                    <a:off x="5000040" y="2834280"/>
                    <a:ext cx="179640" cy="36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4308" y="21600"/>
                        </a:lnTo>
                        <a:lnTo>
                          <a:pt x="17292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54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5" name="Oval 527"/>
                  <p:cNvSpPr/>
                  <p:nvPr/>
                </p:nvSpPr>
                <p:spPr>
                  <a:xfrm rot="16023600">
                    <a:off x="4794840" y="2962800"/>
                    <a:ext cx="186480" cy="190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6" name="Freeform 528"/>
                  <p:cNvSpPr/>
                  <p:nvPr/>
                </p:nvSpPr>
                <p:spPr>
                  <a:xfrm rot="3918600">
                    <a:off x="5267160" y="2797920"/>
                    <a:ext cx="174960" cy="28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02" h="2302">
                        <a:moveTo>
                          <a:pt x="361" y="1127"/>
                        </a:moveTo>
                        <a:lnTo>
                          <a:pt x="280" y="1116"/>
                        </a:lnTo>
                        <a:lnTo>
                          <a:pt x="373" y="711"/>
                        </a:lnTo>
                        <a:lnTo>
                          <a:pt x="373" y="709"/>
                        </a:lnTo>
                        <a:lnTo>
                          <a:pt x="375" y="705"/>
                        </a:lnTo>
                        <a:lnTo>
                          <a:pt x="375" y="703"/>
                        </a:lnTo>
                        <a:lnTo>
                          <a:pt x="375" y="700"/>
                        </a:lnTo>
                        <a:lnTo>
                          <a:pt x="375" y="698"/>
                        </a:lnTo>
                        <a:lnTo>
                          <a:pt x="375" y="696"/>
                        </a:lnTo>
                        <a:lnTo>
                          <a:pt x="375" y="692"/>
                        </a:lnTo>
                        <a:lnTo>
                          <a:pt x="375" y="690"/>
                        </a:lnTo>
                        <a:lnTo>
                          <a:pt x="375" y="684"/>
                        </a:lnTo>
                        <a:lnTo>
                          <a:pt x="375" y="681"/>
                        </a:lnTo>
                        <a:lnTo>
                          <a:pt x="375" y="675"/>
                        </a:lnTo>
                        <a:lnTo>
                          <a:pt x="375" y="669"/>
                        </a:lnTo>
                        <a:lnTo>
                          <a:pt x="371" y="665"/>
                        </a:lnTo>
                        <a:lnTo>
                          <a:pt x="371" y="660"/>
                        </a:lnTo>
                        <a:lnTo>
                          <a:pt x="369" y="654"/>
                        </a:lnTo>
                        <a:lnTo>
                          <a:pt x="367" y="652"/>
                        </a:lnTo>
                        <a:lnTo>
                          <a:pt x="365" y="646"/>
                        </a:lnTo>
                        <a:lnTo>
                          <a:pt x="363" y="641"/>
                        </a:lnTo>
                        <a:lnTo>
                          <a:pt x="361" y="637"/>
                        </a:lnTo>
                        <a:lnTo>
                          <a:pt x="358" y="633"/>
                        </a:lnTo>
                        <a:lnTo>
                          <a:pt x="356" y="629"/>
                        </a:lnTo>
                        <a:lnTo>
                          <a:pt x="354" y="623"/>
                        </a:lnTo>
                        <a:lnTo>
                          <a:pt x="350" y="620"/>
                        </a:lnTo>
                        <a:lnTo>
                          <a:pt x="346" y="616"/>
                        </a:lnTo>
                        <a:lnTo>
                          <a:pt x="342" y="612"/>
                        </a:lnTo>
                        <a:lnTo>
                          <a:pt x="339" y="610"/>
                        </a:lnTo>
                        <a:lnTo>
                          <a:pt x="335" y="606"/>
                        </a:lnTo>
                        <a:lnTo>
                          <a:pt x="331" y="603"/>
                        </a:lnTo>
                        <a:lnTo>
                          <a:pt x="325" y="601"/>
                        </a:lnTo>
                        <a:lnTo>
                          <a:pt x="321" y="597"/>
                        </a:lnTo>
                        <a:lnTo>
                          <a:pt x="318" y="595"/>
                        </a:lnTo>
                        <a:lnTo>
                          <a:pt x="312" y="593"/>
                        </a:lnTo>
                        <a:lnTo>
                          <a:pt x="306" y="591"/>
                        </a:lnTo>
                        <a:lnTo>
                          <a:pt x="302" y="589"/>
                        </a:lnTo>
                        <a:lnTo>
                          <a:pt x="299" y="589"/>
                        </a:lnTo>
                        <a:lnTo>
                          <a:pt x="295" y="587"/>
                        </a:lnTo>
                        <a:lnTo>
                          <a:pt x="291" y="587"/>
                        </a:lnTo>
                        <a:lnTo>
                          <a:pt x="287" y="585"/>
                        </a:lnTo>
                        <a:lnTo>
                          <a:pt x="285" y="585"/>
                        </a:lnTo>
                        <a:lnTo>
                          <a:pt x="283" y="585"/>
                        </a:lnTo>
                        <a:lnTo>
                          <a:pt x="280" y="585"/>
                        </a:lnTo>
                        <a:lnTo>
                          <a:pt x="276" y="585"/>
                        </a:lnTo>
                        <a:lnTo>
                          <a:pt x="274" y="585"/>
                        </a:lnTo>
                        <a:lnTo>
                          <a:pt x="272" y="585"/>
                        </a:lnTo>
                        <a:lnTo>
                          <a:pt x="268" y="585"/>
                        </a:lnTo>
                        <a:lnTo>
                          <a:pt x="266" y="585"/>
                        </a:lnTo>
                        <a:lnTo>
                          <a:pt x="263" y="585"/>
                        </a:lnTo>
                        <a:lnTo>
                          <a:pt x="261" y="587"/>
                        </a:lnTo>
                        <a:lnTo>
                          <a:pt x="259" y="587"/>
                        </a:lnTo>
                        <a:lnTo>
                          <a:pt x="255" y="587"/>
                        </a:lnTo>
                        <a:lnTo>
                          <a:pt x="253" y="589"/>
                        </a:lnTo>
                        <a:lnTo>
                          <a:pt x="249" y="589"/>
                        </a:lnTo>
                        <a:lnTo>
                          <a:pt x="247" y="589"/>
                        </a:lnTo>
                        <a:lnTo>
                          <a:pt x="243" y="591"/>
                        </a:lnTo>
                        <a:lnTo>
                          <a:pt x="240" y="591"/>
                        </a:lnTo>
                        <a:lnTo>
                          <a:pt x="238" y="593"/>
                        </a:lnTo>
                        <a:lnTo>
                          <a:pt x="236" y="595"/>
                        </a:lnTo>
                        <a:lnTo>
                          <a:pt x="232" y="595"/>
                        </a:lnTo>
                        <a:lnTo>
                          <a:pt x="230" y="597"/>
                        </a:lnTo>
                        <a:lnTo>
                          <a:pt x="228" y="599"/>
                        </a:lnTo>
                        <a:lnTo>
                          <a:pt x="224" y="601"/>
                        </a:lnTo>
                        <a:lnTo>
                          <a:pt x="223" y="601"/>
                        </a:lnTo>
                        <a:lnTo>
                          <a:pt x="219" y="603"/>
                        </a:lnTo>
                        <a:lnTo>
                          <a:pt x="217" y="604"/>
                        </a:lnTo>
                        <a:lnTo>
                          <a:pt x="211" y="608"/>
                        </a:lnTo>
                        <a:lnTo>
                          <a:pt x="207" y="612"/>
                        </a:lnTo>
                        <a:lnTo>
                          <a:pt x="204" y="616"/>
                        </a:lnTo>
                        <a:lnTo>
                          <a:pt x="198" y="618"/>
                        </a:lnTo>
                        <a:lnTo>
                          <a:pt x="194" y="623"/>
                        </a:lnTo>
                        <a:lnTo>
                          <a:pt x="188" y="627"/>
                        </a:lnTo>
                        <a:lnTo>
                          <a:pt x="185" y="633"/>
                        </a:lnTo>
                        <a:lnTo>
                          <a:pt x="181" y="637"/>
                        </a:lnTo>
                        <a:lnTo>
                          <a:pt x="177" y="641"/>
                        </a:lnTo>
                        <a:lnTo>
                          <a:pt x="173" y="646"/>
                        </a:lnTo>
                        <a:lnTo>
                          <a:pt x="169" y="652"/>
                        </a:lnTo>
                        <a:lnTo>
                          <a:pt x="166" y="656"/>
                        </a:lnTo>
                        <a:lnTo>
                          <a:pt x="162" y="662"/>
                        </a:lnTo>
                        <a:lnTo>
                          <a:pt x="160" y="665"/>
                        </a:lnTo>
                        <a:lnTo>
                          <a:pt x="158" y="669"/>
                        </a:lnTo>
                        <a:lnTo>
                          <a:pt x="158" y="671"/>
                        </a:lnTo>
                        <a:lnTo>
                          <a:pt x="156" y="673"/>
                        </a:lnTo>
                        <a:lnTo>
                          <a:pt x="154" y="677"/>
                        </a:lnTo>
                        <a:lnTo>
                          <a:pt x="152" y="679"/>
                        </a:lnTo>
                        <a:lnTo>
                          <a:pt x="152" y="681"/>
                        </a:lnTo>
                        <a:lnTo>
                          <a:pt x="150" y="684"/>
                        </a:lnTo>
                        <a:lnTo>
                          <a:pt x="150" y="688"/>
                        </a:lnTo>
                        <a:lnTo>
                          <a:pt x="146" y="694"/>
                        </a:lnTo>
                        <a:lnTo>
                          <a:pt x="145" y="701"/>
                        </a:lnTo>
                        <a:lnTo>
                          <a:pt x="143" y="709"/>
                        </a:lnTo>
                        <a:lnTo>
                          <a:pt x="139" y="717"/>
                        </a:lnTo>
                        <a:lnTo>
                          <a:pt x="137" y="724"/>
                        </a:lnTo>
                        <a:lnTo>
                          <a:pt x="135" y="732"/>
                        </a:lnTo>
                        <a:lnTo>
                          <a:pt x="131" y="739"/>
                        </a:lnTo>
                        <a:lnTo>
                          <a:pt x="129" y="747"/>
                        </a:lnTo>
                        <a:lnTo>
                          <a:pt x="126" y="755"/>
                        </a:lnTo>
                        <a:lnTo>
                          <a:pt x="124" y="760"/>
                        </a:lnTo>
                        <a:lnTo>
                          <a:pt x="122" y="768"/>
                        </a:lnTo>
                        <a:lnTo>
                          <a:pt x="120" y="776"/>
                        </a:lnTo>
                        <a:lnTo>
                          <a:pt x="116" y="781"/>
                        </a:lnTo>
                        <a:lnTo>
                          <a:pt x="114" y="789"/>
                        </a:lnTo>
                        <a:lnTo>
                          <a:pt x="112" y="796"/>
                        </a:lnTo>
                        <a:lnTo>
                          <a:pt x="110" y="804"/>
                        </a:lnTo>
                        <a:lnTo>
                          <a:pt x="107" y="812"/>
                        </a:lnTo>
                        <a:lnTo>
                          <a:pt x="107" y="817"/>
                        </a:lnTo>
                        <a:lnTo>
                          <a:pt x="103" y="823"/>
                        </a:lnTo>
                        <a:lnTo>
                          <a:pt x="101" y="831"/>
                        </a:lnTo>
                        <a:lnTo>
                          <a:pt x="97" y="836"/>
                        </a:lnTo>
                        <a:lnTo>
                          <a:pt x="97" y="844"/>
                        </a:lnTo>
                        <a:lnTo>
                          <a:pt x="93" y="852"/>
                        </a:lnTo>
                        <a:lnTo>
                          <a:pt x="93" y="857"/>
                        </a:lnTo>
                        <a:lnTo>
                          <a:pt x="89" y="865"/>
                        </a:lnTo>
                        <a:lnTo>
                          <a:pt x="88" y="871"/>
                        </a:lnTo>
                        <a:lnTo>
                          <a:pt x="86" y="878"/>
                        </a:lnTo>
                        <a:lnTo>
                          <a:pt x="84" y="884"/>
                        </a:lnTo>
                        <a:lnTo>
                          <a:pt x="82" y="892"/>
                        </a:lnTo>
                        <a:lnTo>
                          <a:pt x="80" y="899"/>
                        </a:lnTo>
                        <a:lnTo>
                          <a:pt x="78" y="907"/>
                        </a:lnTo>
                        <a:lnTo>
                          <a:pt x="74" y="912"/>
                        </a:lnTo>
                        <a:lnTo>
                          <a:pt x="72" y="920"/>
                        </a:lnTo>
                        <a:lnTo>
                          <a:pt x="72" y="926"/>
                        </a:lnTo>
                        <a:lnTo>
                          <a:pt x="68" y="931"/>
                        </a:lnTo>
                        <a:lnTo>
                          <a:pt x="67" y="939"/>
                        </a:lnTo>
                        <a:lnTo>
                          <a:pt x="65" y="945"/>
                        </a:lnTo>
                        <a:lnTo>
                          <a:pt x="63" y="952"/>
                        </a:lnTo>
                        <a:lnTo>
                          <a:pt x="59" y="958"/>
                        </a:lnTo>
                        <a:lnTo>
                          <a:pt x="57" y="966"/>
                        </a:lnTo>
                        <a:lnTo>
                          <a:pt x="55" y="971"/>
                        </a:lnTo>
                        <a:lnTo>
                          <a:pt x="53" y="979"/>
                        </a:lnTo>
                        <a:lnTo>
                          <a:pt x="51" y="987"/>
                        </a:lnTo>
                        <a:lnTo>
                          <a:pt x="49" y="994"/>
                        </a:lnTo>
                        <a:lnTo>
                          <a:pt x="48" y="1000"/>
                        </a:lnTo>
                        <a:lnTo>
                          <a:pt x="46" y="1007"/>
                        </a:lnTo>
                        <a:lnTo>
                          <a:pt x="44" y="1015"/>
                        </a:lnTo>
                        <a:lnTo>
                          <a:pt x="42" y="1021"/>
                        </a:lnTo>
                        <a:lnTo>
                          <a:pt x="42" y="1028"/>
                        </a:lnTo>
                        <a:lnTo>
                          <a:pt x="38" y="1036"/>
                        </a:lnTo>
                        <a:lnTo>
                          <a:pt x="36" y="1042"/>
                        </a:lnTo>
                        <a:lnTo>
                          <a:pt x="36" y="1049"/>
                        </a:lnTo>
                        <a:lnTo>
                          <a:pt x="34" y="1057"/>
                        </a:lnTo>
                        <a:lnTo>
                          <a:pt x="30" y="1063"/>
                        </a:lnTo>
                        <a:lnTo>
                          <a:pt x="30" y="1070"/>
                        </a:lnTo>
                        <a:lnTo>
                          <a:pt x="29" y="1078"/>
                        </a:lnTo>
                        <a:lnTo>
                          <a:pt x="27" y="1085"/>
                        </a:lnTo>
                        <a:lnTo>
                          <a:pt x="25" y="1093"/>
                        </a:lnTo>
                        <a:lnTo>
                          <a:pt x="23" y="1101"/>
                        </a:lnTo>
                        <a:lnTo>
                          <a:pt x="21" y="1108"/>
                        </a:lnTo>
                        <a:lnTo>
                          <a:pt x="19" y="1116"/>
                        </a:lnTo>
                        <a:lnTo>
                          <a:pt x="17" y="1123"/>
                        </a:lnTo>
                        <a:lnTo>
                          <a:pt x="17" y="1131"/>
                        </a:lnTo>
                        <a:lnTo>
                          <a:pt x="15" y="1139"/>
                        </a:lnTo>
                        <a:lnTo>
                          <a:pt x="13" y="1148"/>
                        </a:lnTo>
                        <a:lnTo>
                          <a:pt x="10" y="1158"/>
                        </a:lnTo>
                        <a:lnTo>
                          <a:pt x="10" y="1165"/>
                        </a:lnTo>
                        <a:lnTo>
                          <a:pt x="8" y="1175"/>
                        </a:lnTo>
                        <a:lnTo>
                          <a:pt x="6" y="1182"/>
                        </a:lnTo>
                        <a:lnTo>
                          <a:pt x="6" y="1192"/>
                        </a:lnTo>
                        <a:lnTo>
                          <a:pt x="4" y="1201"/>
                        </a:lnTo>
                        <a:lnTo>
                          <a:pt x="2" y="1211"/>
                        </a:lnTo>
                        <a:lnTo>
                          <a:pt x="2" y="1218"/>
                        </a:lnTo>
                        <a:lnTo>
                          <a:pt x="0" y="1230"/>
                        </a:lnTo>
                        <a:lnTo>
                          <a:pt x="0" y="1237"/>
                        </a:lnTo>
                        <a:lnTo>
                          <a:pt x="0" y="1247"/>
                        </a:lnTo>
                        <a:lnTo>
                          <a:pt x="0" y="1257"/>
                        </a:lnTo>
                        <a:lnTo>
                          <a:pt x="0" y="1268"/>
                        </a:lnTo>
                        <a:lnTo>
                          <a:pt x="0" y="1276"/>
                        </a:lnTo>
                        <a:lnTo>
                          <a:pt x="0" y="1285"/>
                        </a:lnTo>
                        <a:lnTo>
                          <a:pt x="0" y="1296"/>
                        </a:lnTo>
                        <a:lnTo>
                          <a:pt x="0" y="1304"/>
                        </a:lnTo>
                        <a:lnTo>
                          <a:pt x="0" y="1314"/>
                        </a:lnTo>
                        <a:lnTo>
                          <a:pt x="0" y="1323"/>
                        </a:lnTo>
                        <a:lnTo>
                          <a:pt x="0" y="1333"/>
                        </a:lnTo>
                        <a:lnTo>
                          <a:pt x="2" y="1342"/>
                        </a:lnTo>
                        <a:lnTo>
                          <a:pt x="2" y="1352"/>
                        </a:lnTo>
                        <a:lnTo>
                          <a:pt x="4" y="1363"/>
                        </a:lnTo>
                        <a:lnTo>
                          <a:pt x="4" y="1371"/>
                        </a:lnTo>
                        <a:lnTo>
                          <a:pt x="6" y="1382"/>
                        </a:lnTo>
                        <a:lnTo>
                          <a:pt x="8" y="1390"/>
                        </a:lnTo>
                        <a:lnTo>
                          <a:pt x="8" y="1401"/>
                        </a:lnTo>
                        <a:lnTo>
                          <a:pt x="10" y="1409"/>
                        </a:lnTo>
                        <a:lnTo>
                          <a:pt x="11" y="1420"/>
                        </a:lnTo>
                        <a:lnTo>
                          <a:pt x="13" y="1429"/>
                        </a:lnTo>
                        <a:lnTo>
                          <a:pt x="15" y="1439"/>
                        </a:lnTo>
                        <a:lnTo>
                          <a:pt x="17" y="1448"/>
                        </a:lnTo>
                        <a:lnTo>
                          <a:pt x="19" y="1458"/>
                        </a:lnTo>
                        <a:lnTo>
                          <a:pt x="21" y="1468"/>
                        </a:lnTo>
                        <a:lnTo>
                          <a:pt x="23" y="1477"/>
                        </a:lnTo>
                        <a:lnTo>
                          <a:pt x="27" y="1487"/>
                        </a:lnTo>
                        <a:lnTo>
                          <a:pt x="29" y="1496"/>
                        </a:lnTo>
                        <a:lnTo>
                          <a:pt x="30" y="1506"/>
                        </a:lnTo>
                        <a:lnTo>
                          <a:pt x="34" y="1515"/>
                        </a:lnTo>
                        <a:lnTo>
                          <a:pt x="36" y="1525"/>
                        </a:lnTo>
                        <a:lnTo>
                          <a:pt x="38" y="1534"/>
                        </a:lnTo>
                        <a:lnTo>
                          <a:pt x="42" y="1544"/>
                        </a:lnTo>
                        <a:lnTo>
                          <a:pt x="46" y="1553"/>
                        </a:lnTo>
                        <a:lnTo>
                          <a:pt x="48" y="1561"/>
                        </a:lnTo>
                        <a:lnTo>
                          <a:pt x="51" y="1572"/>
                        </a:lnTo>
                        <a:lnTo>
                          <a:pt x="55" y="1580"/>
                        </a:lnTo>
                        <a:lnTo>
                          <a:pt x="59" y="1589"/>
                        </a:lnTo>
                        <a:lnTo>
                          <a:pt x="63" y="1599"/>
                        </a:lnTo>
                        <a:lnTo>
                          <a:pt x="67" y="1608"/>
                        </a:lnTo>
                        <a:lnTo>
                          <a:pt x="68" y="1616"/>
                        </a:lnTo>
                        <a:lnTo>
                          <a:pt x="74" y="1627"/>
                        </a:lnTo>
                        <a:lnTo>
                          <a:pt x="78" y="1635"/>
                        </a:lnTo>
                        <a:lnTo>
                          <a:pt x="82" y="1644"/>
                        </a:lnTo>
                        <a:lnTo>
                          <a:pt x="86" y="1652"/>
                        </a:lnTo>
                        <a:lnTo>
                          <a:pt x="89" y="1661"/>
                        </a:lnTo>
                        <a:lnTo>
                          <a:pt x="95" y="1669"/>
                        </a:lnTo>
                        <a:lnTo>
                          <a:pt x="99" y="1679"/>
                        </a:lnTo>
                        <a:lnTo>
                          <a:pt x="103" y="1688"/>
                        </a:lnTo>
                        <a:lnTo>
                          <a:pt x="108" y="1696"/>
                        </a:lnTo>
                        <a:lnTo>
                          <a:pt x="114" y="1703"/>
                        </a:lnTo>
                        <a:lnTo>
                          <a:pt x="118" y="1713"/>
                        </a:lnTo>
                        <a:lnTo>
                          <a:pt x="124" y="1722"/>
                        </a:lnTo>
                        <a:lnTo>
                          <a:pt x="127" y="1732"/>
                        </a:lnTo>
                        <a:lnTo>
                          <a:pt x="131" y="1736"/>
                        </a:lnTo>
                        <a:lnTo>
                          <a:pt x="135" y="1739"/>
                        </a:lnTo>
                        <a:lnTo>
                          <a:pt x="135" y="1743"/>
                        </a:lnTo>
                        <a:lnTo>
                          <a:pt x="137" y="1745"/>
                        </a:lnTo>
                        <a:lnTo>
                          <a:pt x="139" y="1747"/>
                        </a:lnTo>
                        <a:lnTo>
                          <a:pt x="141" y="1751"/>
                        </a:lnTo>
                        <a:lnTo>
                          <a:pt x="143" y="1755"/>
                        </a:lnTo>
                        <a:lnTo>
                          <a:pt x="143" y="1756"/>
                        </a:lnTo>
                        <a:lnTo>
                          <a:pt x="145" y="1760"/>
                        </a:lnTo>
                        <a:lnTo>
                          <a:pt x="146" y="1762"/>
                        </a:lnTo>
                        <a:lnTo>
                          <a:pt x="148" y="1766"/>
                        </a:lnTo>
                        <a:lnTo>
                          <a:pt x="150" y="1768"/>
                        </a:lnTo>
                        <a:lnTo>
                          <a:pt x="152" y="1770"/>
                        </a:lnTo>
                        <a:lnTo>
                          <a:pt x="156" y="1774"/>
                        </a:lnTo>
                        <a:lnTo>
                          <a:pt x="158" y="1777"/>
                        </a:lnTo>
                        <a:lnTo>
                          <a:pt x="160" y="1779"/>
                        </a:lnTo>
                        <a:lnTo>
                          <a:pt x="160" y="1783"/>
                        </a:lnTo>
                        <a:lnTo>
                          <a:pt x="162" y="1787"/>
                        </a:lnTo>
                        <a:lnTo>
                          <a:pt x="166" y="1789"/>
                        </a:lnTo>
                        <a:lnTo>
                          <a:pt x="166" y="1791"/>
                        </a:lnTo>
                        <a:lnTo>
                          <a:pt x="167" y="1794"/>
                        </a:lnTo>
                        <a:lnTo>
                          <a:pt x="169" y="1796"/>
                        </a:lnTo>
                        <a:lnTo>
                          <a:pt x="171" y="1800"/>
                        </a:lnTo>
                        <a:lnTo>
                          <a:pt x="173" y="1802"/>
                        </a:lnTo>
                        <a:lnTo>
                          <a:pt x="175" y="1806"/>
                        </a:lnTo>
                        <a:lnTo>
                          <a:pt x="177" y="1808"/>
                        </a:lnTo>
                        <a:lnTo>
                          <a:pt x="179" y="1812"/>
                        </a:lnTo>
                        <a:lnTo>
                          <a:pt x="181" y="1815"/>
                        </a:lnTo>
                        <a:lnTo>
                          <a:pt x="183" y="1817"/>
                        </a:lnTo>
                        <a:lnTo>
                          <a:pt x="185" y="1821"/>
                        </a:lnTo>
                        <a:lnTo>
                          <a:pt x="188" y="1827"/>
                        </a:lnTo>
                        <a:lnTo>
                          <a:pt x="190" y="1831"/>
                        </a:lnTo>
                        <a:lnTo>
                          <a:pt x="194" y="1836"/>
                        </a:lnTo>
                        <a:lnTo>
                          <a:pt x="198" y="1842"/>
                        </a:lnTo>
                        <a:lnTo>
                          <a:pt x="200" y="1846"/>
                        </a:lnTo>
                        <a:lnTo>
                          <a:pt x="204" y="1850"/>
                        </a:lnTo>
                        <a:lnTo>
                          <a:pt x="205" y="1853"/>
                        </a:lnTo>
                        <a:lnTo>
                          <a:pt x="207" y="1859"/>
                        </a:lnTo>
                        <a:lnTo>
                          <a:pt x="209" y="1861"/>
                        </a:lnTo>
                        <a:lnTo>
                          <a:pt x="211" y="1863"/>
                        </a:lnTo>
                        <a:lnTo>
                          <a:pt x="213" y="1867"/>
                        </a:lnTo>
                        <a:lnTo>
                          <a:pt x="215" y="1869"/>
                        </a:lnTo>
                        <a:lnTo>
                          <a:pt x="217" y="1870"/>
                        </a:lnTo>
                        <a:lnTo>
                          <a:pt x="219" y="1874"/>
                        </a:lnTo>
                        <a:lnTo>
                          <a:pt x="141" y="2163"/>
                        </a:lnTo>
                        <a:lnTo>
                          <a:pt x="143" y="2165"/>
                        </a:lnTo>
                        <a:lnTo>
                          <a:pt x="146" y="2165"/>
                        </a:lnTo>
                        <a:lnTo>
                          <a:pt x="150" y="2167"/>
                        </a:lnTo>
                        <a:lnTo>
                          <a:pt x="152" y="2167"/>
                        </a:lnTo>
                        <a:lnTo>
                          <a:pt x="154" y="2167"/>
                        </a:lnTo>
                        <a:lnTo>
                          <a:pt x="158" y="2167"/>
                        </a:lnTo>
                        <a:lnTo>
                          <a:pt x="162" y="2171"/>
                        </a:lnTo>
                        <a:lnTo>
                          <a:pt x="166" y="2171"/>
                        </a:lnTo>
                        <a:lnTo>
                          <a:pt x="167" y="2173"/>
                        </a:lnTo>
                        <a:lnTo>
                          <a:pt x="171" y="2173"/>
                        </a:lnTo>
                        <a:lnTo>
                          <a:pt x="175" y="2175"/>
                        </a:lnTo>
                        <a:lnTo>
                          <a:pt x="181" y="2175"/>
                        </a:lnTo>
                        <a:lnTo>
                          <a:pt x="185" y="2175"/>
                        </a:lnTo>
                        <a:lnTo>
                          <a:pt x="188" y="2177"/>
                        </a:lnTo>
                        <a:lnTo>
                          <a:pt x="194" y="2180"/>
                        </a:lnTo>
                        <a:lnTo>
                          <a:pt x="198" y="2180"/>
                        </a:lnTo>
                        <a:lnTo>
                          <a:pt x="204" y="2182"/>
                        </a:lnTo>
                        <a:lnTo>
                          <a:pt x="209" y="2182"/>
                        </a:lnTo>
                        <a:lnTo>
                          <a:pt x="215" y="2184"/>
                        </a:lnTo>
                        <a:lnTo>
                          <a:pt x="219" y="2186"/>
                        </a:lnTo>
                        <a:lnTo>
                          <a:pt x="224" y="2188"/>
                        </a:lnTo>
                        <a:lnTo>
                          <a:pt x="232" y="2188"/>
                        </a:lnTo>
                        <a:lnTo>
                          <a:pt x="238" y="2190"/>
                        </a:lnTo>
                        <a:lnTo>
                          <a:pt x="243" y="2190"/>
                        </a:lnTo>
                        <a:lnTo>
                          <a:pt x="251" y="2192"/>
                        </a:lnTo>
                        <a:lnTo>
                          <a:pt x="257" y="2194"/>
                        </a:lnTo>
                        <a:lnTo>
                          <a:pt x="264" y="2194"/>
                        </a:lnTo>
                        <a:lnTo>
                          <a:pt x="270" y="2196"/>
                        </a:lnTo>
                        <a:lnTo>
                          <a:pt x="276" y="2196"/>
                        </a:lnTo>
                        <a:lnTo>
                          <a:pt x="283" y="2197"/>
                        </a:lnTo>
                        <a:lnTo>
                          <a:pt x="291" y="2199"/>
                        </a:lnTo>
                        <a:lnTo>
                          <a:pt x="297" y="2199"/>
                        </a:lnTo>
                        <a:lnTo>
                          <a:pt x="304" y="2199"/>
                        </a:lnTo>
                        <a:lnTo>
                          <a:pt x="312" y="2199"/>
                        </a:lnTo>
                        <a:lnTo>
                          <a:pt x="320" y="2201"/>
                        </a:lnTo>
                        <a:lnTo>
                          <a:pt x="325" y="2201"/>
                        </a:lnTo>
                        <a:lnTo>
                          <a:pt x="333" y="2201"/>
                        </a:lnTo>
                        <a:lnTo>
                          <a:pt x="341" y="2201"/>
                        </a:lnTo>
                        <a:lnTo>
                          <a:pt x="348" y="2201"/>
                        </a:lnTo>
                        <a:lnTo>
                          <a:pt x="356" y="2201"/>
                        </a:lnTo>
                        <a:lnTo>
                          <a:pt x="363" y="2201"/>
                        </a:lnTo>
                        <a:lnTo>
                          <a:pt x="371" y="2201"/>
                        </a:lnTo>
                        <a:lnTo>
                          <a:pt x="379" y="2201"/>
                        </a:lnTo>
                        <a:lnTo>
                          <a:pt x="386" y="2201"/>
                        </a:lnTo>
                        <a:lnTo>
                          <a:pt x="394" y="2201"/>
                        </a:lnTo>
                        <a:lnTo>
                          <a:pt x="401" y="2199"/>
                        </a:lnTo>
                        <a:lnTo>
                          <a:pt x="409" y="2199"/>
                        </a:lnTo>
                        <a:lnTo>
                          <a:pt x="415" y="2197"/>
                        </a:lnTo>
                        <a:lnTo>
                          <a:pt x="422" y="2196"/>
                        </a:lnTo>
                        <a:lnTo>
                          <a:pt x="432" y="2196"/>
                        </a:lnTo>
                        <a:lnTo>
                          <a:pt x="439" y="2194"/>
                        </a:lnTo>
                        <a:lnTo>
                          <a:pt x="447" y="2192"/>
                        </a:lnTo>
                        <a:lnTo>
                          <a:pt x="455" y="2190"/>
                        </a:lnTo>
                        <a:lnTo>
                          <a:pt x="462" y="2188"/>
                        </a:lnTo>
                        <a:lnTo>
                          <a:pt x="470" y="2188"/>
                        </a:lnTo>
                        <a:lnTo>
                          <a:pt x="476" y="2184"/>
                        </a:lnTo>
                        <a:lnTo>
                          <a:pt x="483" y="2182"/>
                        </a:lnTo>
                        <a:lnTo>
                          <a:pt x="491" y="2180"/>
                        </a:lnTo>
                        <a:lnTo>
                          <a:pt x="498" y="2175"/>
                        </a:lnTo>
                        <a:lnTo>
                          <a:pt x="504" y="2173"/>
                        </a:lnTo>
                        <a:lnTo>
                          <a:pt x="512" y="2169"/>
                        </a:lnTo>
                        <a:lnTo>
                          <a:pt x="517" y="2165"/>
                        </a:lnTo>
                        <a:lnTo>
                          <a:pt x="525" y="2161"/>
                        </a:lnTo>
                        <a:lnTo>
                          <a:pt x="531" y="2158"/>
                        </a:lnTo>
                        <a:lnTo>
                          <a:pt x="536" y="2154"/>
                        </a:lnTo>
                        <a:lnTo>
                          <a:pt x="542" y="2150"/>
                        </a:lnTo>
                        <a:lnTo>
                          <a:pt x="550" y="2146"/>
                        </a:lnTo>
                        <a:lnTo>
                          <a:pt x="555" y="2142"/>
                        </a:lnTo>
                        <a:lnTo>
                          <a:pt x="559" y="2137"/>
                        </a:lnTo>
                        <a:lnTo>
                          <a:pt x="565" y="2133"/>
                        </a:lnTo>
                        <a:lnTo>
                          <a:pt x="571" y="2129"/>
                        </a:lnTo>
                        <a:lnTo>
                          <a:pt x="576" y="2123"/>
                        </a:lnTo>
                        <a:lnTo>
                          <a:pt x="582" y="2120"/>
                        </a:lnTo>
                        <a:lnTo>
                          <a:pt x="588" y="2114"/>
                        </a:lnTo>
                        <a:lnTo>
                          <a:pt x="592" y="2110"/>
                        </a:lnTo>
                        <a:lnTo>
                          <a:pt x="595" y="2106"/>
                        </a:lnTo>
                        <a:lnTo>
                          <a:pt x="601" y="2101"/>
                        </a:lnTo>
                        <a:lnTo>
                          <a:pt x="605" y="2095"/>
                        </a:lnTo>
                        <a:lnTo>
                          <a:pt x="611" y="2091"/>
                        </a:lnTo>
                        <a:lnTo>
                          <a:pt x="614" y="2085"/>
                        </a:lnTo>
                        <a:lnTo>
                          <a:pt x="618" y="2080"/>
                        </a:lnTo>
                        <a:lnTo>
                          <a:pt x="624" y="2076"/>
                        </a:lnTo>
                        <a:lnTo>
                          <a:pt x="628" y="2070"/>
                        </a:lnTo>
                        <a:lnTo>
                          <a:pt x="632" y="2064"/>
                        </a:lnTo>
                        <a:lnTo>
                          <a:pt x="635" y="2059"/>
                        </a:lnTo>
                        <a:lnTo>
                          <a:pt x="637" y="2055"/>
                        </a:lnTo>
                        <a:lnTo>
                          <a:pt x="643" y="2049"/>
                        </a:lnTo>
                        <a:lnTo>
                          <a:pt x="645" y="2043"/>
                        </a:lnTo>
                        <a:lnTo>
                          <a:pt x="649" y="2040"/>
                        </a:lnTo>
                        <a:lnTo>
                          <a:pt x="652" y="2034"/>
                        </a:lnTo>
                        <a:lnTo>
                          <a:pt x="654" y="2030"/>
                        </a:lnTo>
                        <a:lnTo>
                          <a:pt x="658" y="2024"/>
                        </a:lnTo>
                        <a:lnTo>
                          <a:pt x="660" y="2021"/>
                        </a:lnTo>
                        <a:lnTo>
                          <a:pt x="664" y="2015"/>
                        </a:lnTo>
                        <a:lnTo>
                          <a:pt x="666" y="2011"/>
                        </a:lnTo>
                        <a:lnTo>
                          <a:pt x="668" y="2005"/>
                        </a:lnTo>
                        <a:lnTo>
                          <a:pt x="672" y="2002"/>
                        </a:lnTo>
                        <a:lnTo>
                          <a:pt x="673" y="1998"/>
                        </a:lnTo>
                        <a:lnTo>
                          <a:pt x="675" y="1992"/>
                        </a:lnTo>
                        <a:lnTo>
                          <a:pt x="677" y="1986"/>
                        </a:lnTo>
                        <a:lnTo>
                          <a:pt x="679" y="1983"/>
                        </a:lnTo>
                        <a:lnTo>
                          <a:pt x="681" y="1979"/>
                        </a:lnTo>
                        <a:lnTo>
                          <a:pt x="683" y="1975"/>
                        </a:lnTo>
                        <a:lnTo>
                          <a:pt x="685" y="1971"/>
                        </a:lnTo>
                        <a:lnTo>
                          <a:pt x="687" y="1969"/>
                        </a:lnTo>
                        <a:lnTo>
                          <a:pt x="689" y="1964"/>
                        </a:lnTo>
                        <a:lnTo>
                          <a:pt x="691" y="1962"/>
                        </a:lnTo>
                        <a:lnTo>
                          <a:pt x="692" y="1958"/>
                        </a:lnTo>
                        <a:lnTo>
                          <a:pt x="692" y="1954"/>
                        </a:lnTo>
                        <a:lnTo>
                          <a:pt x="692" y="1952"/>
                        </a:lnTo>
                        <a:lnTo>
                          <a:pt x="694" y="1950"/>
                        </a:lnTo>
                        <a:lnTo>
                          <a:pt x="696" y="1945"/>
                        </a:lnTo>
                        <a:lnTo>
                          <a:pt x="698" y="1941"/>
                        </a:lnTo>
                        <a:lnTo>
                          <a:pt x="700" y="1937"/>
                        </a:lnTo>
                        <a:lnTo>
                          <a:pt x="700" y="1935"/>
                        </a:lnTo>
                        <a:lnTo>
                          <a:pt x="700" y="1933"/>
                        </a:lnTo>
                        <a:lnTo>
                          <a:pt x="702" y="1933"/>
                        </a:lnTo>
                        <a:lnTo>
                          <a:pt x="740" y="1943"/>
                        </a:lnTo>
                        <a:lnTo>
                          <a:pt x="740" y="1943"/>
                        </a:lnTo>
                        <a:lnTo>
                          <a:pt x="738" y="1945"/>
                        </a:lnTo>
                        <a:lnTo>
                          <a:pt x="738" y="1947"/>
                        </a:lnTo>
                        <a:lnTo>
                          <a:pt x="738" y="1950"/>
                        </a:lnTo>
                        <a:lnTo>
                          <a:pt x="738" y="1954"/>
                        </a:lnTo>
                        <a:lnTo>
                          <a:pt x="738" y="1958"/>
                        </a:lnTo>
                        <a:lnTo>
                          <a:pt x="736" y="1962"/>
                        </a:lnTo>
                        <a:lnTo>
                          <a:pt x="736" y="1964"/>
                        </a:lnTo>
                        <a:lnTo>
                          <a:pt x="736" y="1967"/>
                        </a:lnTo>
                        <a:lnTo>
                          <a:pt x="736" y="1971"/>
                        </a:lnTo>
                        <a:lnTo>
                          <a:pt x="736" y="1975"/>
                        </a:lnTo>
                        <a:lnTo>
                          <a:pt x="736" y="1979"/>
                        </a:lnTo>
                        <a:lnTo>
                          <a:pt x="736" y="1983"/>
                        </a:lnTo>
                        <a:lnTo>
                          <a:pt x="736" y="1985"/>
                        </a:lnTo>
                        <a:lnTo>
                          <a:pt x="736" y="1990"/>
                        </a:lnTo>
                        <a:lnTo>
                          <a:pt x="736" y="1994"/>
                        </a:lnTo>
                        <a:lnTo>
                          <a:pt x="736" y="1998"/>
                        </a:lnTo>
                        <a:lnTo>
                          <a:pt x="736" y="2004"/>
                        </a:lnTo>
                        <a:lnTo>
                          <a:pt x="736" y="2007"/>
                        </a:lnTo>
                        <a:lnTo>
                          <a:pt x="736" y="2013"/>
                        </a:lnTo>
                        <a:lnTo>
                          <a:pt x="736" y="2015"/>
                        </a:lnTo>
                        <a:lnTo>
                          <a:pt x="736" y="2021"/>
                        </a:lnTo>
                        <a:lnTo>
                          <a:pt x="736" y="2026"/>
                        </a:lnTo>
                        <a:lnTo>
                          <a:pt x="736" y="2030"/>
                        </a:lnTo>
                        <a:lnTo>
                          <a:pt x="736" y="2036"/>
                        </a:lnTo>
                        <a:lnTo>
                          <a:pt x="736" y="2042"/>
                        </a:lnTo>
                        <a:lnTo>
                          <a:pt x="736" y="2047"/>
                        </a:lnTo>
                        <a:lnTo>
                          <a:pt x="738" y="2051"/>
                        </a:lnTo>
                        <a:lnTo>
                          <a:pt x="738" y="2057"/>
                        </a:lnTo>
                        <a:lnTo>
                          <a:pt x="738" y="2062"/>
                        </a:lnTo>
                        <a:lnTo>
                          <a:pt x="740" y="2066"/>
                        </a:lnTo>
                        <a:lnTo>
                          <a:pt x="740" y="2072"/>
                        </a:lnTo>
                        <a:lnTo>
                          <a:pt x="742" y="2078"/>
                        </a:lnTo>
                        <a:lnTo>
                          <a:pt x="744" y="2083"/>
                        </a:lnTo>
                        <a:lnTo>
                          <a:pt x="744" y="2091"/>
                        </a:lnTo>
                        <a:lnTo>
                          <a:pt x="746" y="2095"/>
                        </a:lnTo>
                        <a:lnTo>
                          <a:pt x="748" y="2101"/>
                        </a:lnTo>
                        <a:lnTo>
                          <a:pt x="748" y="2106"/>
                        </a:lnTo>
                        <a:lnTo>
                          <a:pt x="751" y="2110"/>
                        </a:lnTo>
                        <a:lnTo>
                          <a:pt x="753" y="2118"/>
                        </a:lnTo>
                        <a:lnTo>
                          <a:pt x="753" y="2123"/>
                        </a:lnTo>
                        <a:lnTo>
                          <a:pt x="757" y="2129"/>
                        </a:lnTo>
                        <a:lnTo>
                          <a:pt x="759" y="2135"/>
                        </a:lnTo>
                        <a:lnTo>
                          <a:pt x="761" y="2139"/>
                        </a:lnTo>
                        <a:lnTo>
                          <a:pt x="765" y="2144"/>
                        </a:lnTo>
                        <a:lnTo>
                          <a:pt x="767" y="2150"/>
                        </a:lnTo>
                        <a:lnTo>
                          <a:pt x="769" y="2156"/>
                        </a:lnTo>
                        <a:lnTo>
                          <a:pt x="772" y="2159"/>
                        </a:lnTo>
                        <a:lnTo>
                          <a:pt x="776" y="2165"/>
                        </a:lnTo>
                        <a:lnTo>
                          <a:pt x="780" y="2171"/>
                        </a:lnTo>
                        <a:lnTo>
                          <a:pt x="782" y="2175"/>
                        </a:lnTo>
                        <a:lnTo>
                          <a:pt x="786" y="2180"/>
                        </a:lnTo>
                        <a:lnTo>
                          <a:pt x="789" y="2186"/>
                        </a:lnTo>
                        <a:lnTo>
                          <a:pt x="795" y="2190"/>
                        </a:lnTo>
                        <a:lnTo>
                          <a:pt x="799" y="2196"/>
                        </a:lnTo>
                        <a:lnTo>
                          <a:pt x="805" y="2201"/>
                        </a:lnTo>
                        <a:lnTo>
                          <a:pt x="808" y="2205"/>
                        </a:lnTo>
                        <a:lnTo>
                          <a:pt x="814" y="2209"/>
                        </a:lnTo>
                        <a:lnTo>
                          <a:pt x="818" y="2213"/>
                        </a:lnTo>
                        <a:lnTo>
                          <a:pt x="824" y="2216"/>
                        </a:lnTo>
                        <a:lnTo>
                          <a:pt x="828" y="2222"/>
                        </a:lnTo>
                        <a:lnTo>
                          <a:pt x="833" y="2224"/>
                        </a:lnTo>
                        <a:lnTo>
                          <a:pt x="839" y="2228"/>
                        </a:lnTo>
                        <a:lnTo>
                          <a:pt x="845" y="2232"/>
                        </a:lnTo>
                        <a:lnTo>
                          <a:pt x="848" y="2235"/>
                        </a:lnTo>
                        <a:lnTo>
                          <a:pt x="854" y="2239"/>
                        </a:lnTo>
                        <a:lnTo>
                          <a:pt x="858" y="2243"/>
                        </a:lnTo>
                        <a:lnTo>
                          <a:pt x="864" y="2245"/>
                        </a:lnTo>
                        <a:lnTo>
                          <a:pt x="867" y="2249"/>
                        </a:lnTo>
                        <a:lnTo>
                          <a:pt x="873" y="2253"/>
                        </a:lnTo>
                        <a:lnTo>
                          <a:pt x="877" y="2256"/>
                        </a:lnTo>
                        <a:lnTo>
                          <a:pt x="883" y="2258"/>
                        </a:lnTo>
                        <a:lnTo>
                          <a:pt x="890" y="2260"/>
                        </a:lnTo>
                        <a:lnTo>
                          <a:pt x="896" y="2264"/>
                        </a:lnTo>
                        <a:lnTo>
                          <a:pt x="900" y="2266"/>
                        </a:lnTo>
                        <a:lnTo>
                          <a:pt x="904" y="2268"/>
                        </a:lnTo>
                        <a:lnTo>
                          <a:pt x="907" y="2270"/>
                        </a:lnTo>
                        <a:lnTo>
                          <a:pt x="913" y="2273"/>
                        </a:lnTo>
                        <a:lnTo>
                          <a:pt x="919" y="2275"/>
                        </a:lnTo>
                        <a:lnTo>
                          <a:pt x="925" y="2277"/>
                        </a:lnTo>
                        <a:lnTo>
                          <a:pt x="928" y="2279"/>
                        </a:lnTo>
                        <a:lnTo>
                          <a:pt x="934" y="2281"/>
                        </a:lnTo>
                        <a:lnTo>
                          <a:pt x="938" y="2283"/>
                        </a:lnTo>
                        <a:lnTo>
                          <a:pt x="942" y="2285"/>
                        </a:lnTo>
                        <a:lnTo>
                          <a:pt x="947" y="2287"/>
                        </a:lnTo>
                        <a:lnTo>
                          <a:pt x="951" y="2289"/>
                        </a:lnTo>
                        <a:lnTo>
                          <a:pt x="955" y="2289"/>
                        </a:lnTo>
                        <a:lnTo>
                          <a:pt x="961" y="2291"/>
                        </a:lnTo>
                        <a:lnTo>
                          <a:pt x="964" y="2291"/>
                        </a:lnTo>
                        <a:lnTo>
                          <a:pt x="968" y="2294"/>
                        </a:lnTo>
                        <a:lnTo>
                          <a:pt x="972" y="2294"/>
                        </a:lnTo>
                        <a:lnTo>
                          <a:pt x="978" y="2294"/>
                        </a:lnTo>
                        <a:lnTo>
                          <a:pt x="982" y="2296"/>
                        </a:lnTo>
                        <a:lnTo>
                          <a:pt x="985" y="2296"/>
                        </a:lnTo>
                        <a:lnTo>
                          <a:pt x="989" y="2296"/>
                        </a:lnTo>
                        <a:lnTo>
                          <a:pt x="993" y="2298"/>
                        </a:lnTo>
                        <a:lnTo>
                          <a:pt x="997" y="2298"/>
                        </a:lnTo>
                        <a:lnTo>
                          <a:pt x="1001" y="2298"/>
                        </a:lnTo>
                        <a:lnTo>
                          <a:pt x="1004" y="2298"/>
                        </a:lnTo>
                        <a:lnTo>
                          <a:pt x="1008" y="2300"/>
                        </a:lnTo>
                        <a:lnTo>
                          <a:pt x="1010" y="2300"/>
                        </a:lnTo>
                        <a:lnTo>
                          <a:pt x="1014" y="2300"/>
                        </a:lnTo>
                        <a:lnTo>
                          <a:pt x="1016" y="2300"/>
                        </a:lnTo>
                        <a:lnTo>
                          <a:pt x="1020" y="2300"/>
                        </a:lnTo>
                        <a:lnTo>
                          <a:pt x="1022" y="2300"/>
                        </a:lnTo>
                        <a:lnTo>
                          <a:pt x="1025" y="2302"/>
                        </a:lnTo>
                        <a:lnTo>
                          <a:pt x="1029" y="2300"/>
                        </a:lnTo>
                        <a:lnTo>
                          <a:pt x="1035" y="2300"/>
                        </a:lnTo>
                        <a:lnTo>
                          <a:pt x="1039" y="2298"/>
                        </a:lnTo>
                        <a:lnTo>
                          <a:pt x="1042" y="2298"/>
                        </a:lnTo>
                        <a:lnTo>
                          <a:pt x="1044" y="2296"/>
                        </a:lnTo>
                        <a:lnTo>
                          <a:pt x="1048" y="2296"/>
                        </a:lnTo>
                        <a:lnTo>
                          <a:pt x="1048" y="2294"/>
                        </a:lnTo>
                        <a:lnTo>
                          <a:pt x="1050" y="2294"/>
                        </a:lnTo>
                        <a:lnTo>
                          <a:pt x="1246" y="1334"/>
                        </a:lnTo>
                        <a:lnTo>
                          <a:pt x="1246" y="1333"/>
                        </a:lnTo>
                        <a:lnTo>
                          <a:pt x="1248" y="1331"/>
                        </a:lnTo>
                        <a:lnTo>
                          <a:pt x="1250" y="1327"/>
                        </a:lnTo>
                        <a:lnTo>
                          <a:pt x="1252" y="1325"/>
                        </a:lnTo>
                        <a:lnTo>
                          <a:pt x="1252" y="1323"/>
                        </a:lnTo>
                        <a:lnTo>
                          <a:pt x="1254" y="1319"/>
                        </a:lnTo>
                        <a:lnTo>
                          <a:pt x="1256" y="1315"/>
                        </a:lnTo>
                        <a:lnTo>
                          <a:pt x="1259" y="1312"/>
                        </a:lnTo>
                        <a:lnTo>
                          <a:pt x="1259" y="1306"/>
                        </a:lnTo>
                        <a:lnTo>
                          <a:pt x="1263" y="1302"/>
                        </a:lnTo>
                        <a:lnTo>
                          <a:pt x="1265" y="1296"/>
                        </a:lnTo>
                        <a:lnTo>
                          <a:pt x="1269" y="1293"/>
                        </a:lnTo>
                        <a:lnTo>
                          <a:pt x="1271" y="1285"/>
                        </a:lnTo>
                        <a:lnTo>
                          <a:pt x="1275" y="1281"/>
                        </a:lnTo>
                        <a:lnTo>
                          <a:pt x="1276" y="1274"/>
                        </a:lnTo>
                        <a:lnTo>
                          <a:pt x="1280" y="1266"/>
                        </a:lnTo>
                        <a:lnTo>
                          <a:pt x="1284" y="1258"/>
                        </a:lnTo>
                        <a:lnTo>
                          <a:pt x="1288" y="1249"/>
                        </a:lnTo>
                        <a:lnTo>
                          <a:pt x="1290" y="1241"/>
                        </a:lnTo>
                        <a:lnTo>
                          <a:pt x="1294" y="1234"/>
                        </a:lnTo>
                        <a:lnTo>
                          <a:pt x="1297" y="1224"/>
                        </a:lnTo>
                        <a:lnTo>
                          <a:pt x="1301" y="1217"/>
                        </a:lnTo>
                        <a:lnTo>
                          <a:pt x="1305" y="1207"/>
                        </a:lnTo>
                        <a:lnTo>
                          <a:pt x="1309" y="1198"/>
                        </a:lnTo>
                        <a:lnTo>
                          <a:pt x="1313" y="1188"/>
                        </a:lnTo>
                        <a:lnTo>
                          <a:pt x="1316" y="1177"/>
                        </a:lnTo>
                        <a:lnTo>
                          <a:pt x="1320" y="1165"/>
                        </a:lnTo>
                        <a:lnTo>
                          <a:pt x="1324" y="1154"/>
                        </a:lnTo>
                        <a:lnTo>
                          <a:pt x="1330" y="1144"/>
                        </a:lnTo>
                        <a:lnTo>
                          <a:pt x="1334" y="1133"/>
                        </a:lnTo>
                        <a:lnTo>
                          <a:pt x="1337" y="1122"/>
                        </a:lnTo>
                        <a:lnTo>
                          <a:pt x="1339" y="1108"/>
                        </a:lnTo>
                        <a:lnTo>
                          <a:pt x="1345" y="1097"/>
                        </a:lnTo>
                        <a:lnTo>
                          <a:pt x="1349" y="1084"/>
                        </a:lnTo>
                        <a:lnTo>
                          <a:pt x="1353" y="1070"/>
                        </a:lnTo>
                        <a:lnTo>
                          <a:pt x="1354" y="1059"/>
                        </a:lnTo>
                        <a:lnTo>
                          <a:pt x="1358" y="1044"/>
                        </a:lnTo>
                        <a:lnTo>
                          <a:pt x="1362" y="1032"/>
                        </a:lnTo>
                        <a:lnTo>
                          <a:pt x="1366" y="1017"/>
                        </a:lnTo>
                        <a:lnTo>
                          <a:pt x="1370" y="1004"/>
                        </a:lnTo>
                        <a:lnTo>
                          <a:pt x="1372" y="988"/>
                        </a:lnTo>
                        <a:lnTo>
                          <a:pt x="1375" y="975"/>
                        </a:lnTo>
                        <a:lnTo>
                          <a:pt x="1377" y="960"/>
                        </a:lnTo>
                        <a:lnTo>
                          <a:pt x="1381" y="947"/>
                        </a:lnTo>
                        <a:lnTo>
                          <a:pt x="1383" y="931"/>
                        </a:lnTo>
                        <a:lnTo>
                          <a:pt x="1387" y="916"/>
                        </a:lnTo>
                        <a:lnTo>
                          <a:pt x="1389" y="901"/>
                        </a:lnTo>
                        <a:lnTo>
                          <a:pt x="1391" y="886"/>
                        </a:lnTo>
                        <a:lnTo>
                          <a:pt x="1392" y="871"/>
                        </a:lnTo>
                        <a:lnTo>
                          <a:pt x="1394" y="855"/>
                        </a:lnTo>
                        <a:lnTo>
                          <a:pt x="1396" y="838"/>
                        </a:lnTo>
                        <a:lnTo>
                          <a:pt x="1398" y="823"/>
                        </a:lnTo>
                        <a:lnTo>
                          <a:pt x="1398" y="806"/>
                        </a:lnTo>
                        <a:lnTo>
                          <a:pt x="1400" y="791"/>
                        </a:lnTo>
                        <a:lnTo>
                          <a:pt x="1402" y="774"/>
                        </a:lnTo>
                        <a:lnTo>
                          <a:pt x="1402" y="757"/>
                        </a:lnTo>
                        <a:lnTo>
                          <a:pt x="1402" y="741"/>
                        </a:lnTo>
                        <a:lnTo>
                          <a:pt x="1402" y="724"/>
                        </a:lnTo>
                        <a:lnTo>
                          <a:pt x="1402" y="705"/>
                        </a:lnTo>
                        <a:lnTo>
                          <a:pt x="1402" y="690"/>
                        </a:lnTo>
                        <a:lnTo>
                          <a:pt x="1400" y="673"/>
                        </a:lnTo>
                        <a:lnTo>
                          <a:pt x="1400" y="656"/>
                        </a:lnTo>
                        <a:lnTo>
                          <a:pt x="1398" y="654"/>
                        </a:lnTo>
                        <a:lnTo>
                          <a:pt x="1398" y="652"/>
                        </a:lnTo>
                        <a:lnTo>
                          <a:pt x="1398" y="648"/>
                        </a:lnTo>
                        <a:lnTo>
                          <a:pt x="1398" y="644"/>
                        </a:lnTo>
                        <a:lnTo>
                          <a:pt x="1398" y="643"/>
                        </a:lnTo>
                        <a:lnTo>
                          <a:pt x="1398" y="639"/>
                        </a:lnTo>
                        <a:lnTo>
                          <a:pt x="1396" y="637"/>
                        </a:lnTo>
                        <a:lnTo>
                          <a:pt x="1396" y="633"/>
                        </a:lnTo>
                        <a:lnTo>
                          <a:pt x="1396" y="631"/>
                        </a:lnTo>
                        <a:lnTo>
                          <a:pt x="1396" y="627"/>
                        </a:lnTo>
                        <a:lnTo>
                          <a:pt x="1396" y="623"/>
                        </a:lnTo>
                        <a:lnTo>
                          <a:pt x="1394" y="620"/>
                        </a:lnTo>
                        <a:lnTo>
                          <a:pt x="1394" y="618"/>
                        </a:lnTo>
                        <a:lnTo>
                          <a:pt x="1394" y="616"/>
                        </a:lnTo>
                        <a:lnTo>
                          <a:pt x="1392" y="612"/>
                        </a:lnTo>
                        <a:lnTo>
                          <a:pt x="1392" y="610"/>
                        </a:lnTo>
                        <a:lnTo>
                          <a:pt x="1392" y="608"/>
                        </a:lnTo>
                        <a:lnTo>
                          <a:pt x="1391" y="604"/>
                        </a:lnTo>
                        <a:lnTo>
                          <a:pt x="1391" y="603"/>
                        </a:lnTo>
                        <a:lnTo>
                          <a:pt x="1391" y="599"/>
                        </a:lnTo>
                        <a:lnTo>
                          <a:pt x="1389" y="597"/>
                        </a:lnTo>
                        <a:lnTo>
                          <a:pt x="1389" y="593"/>
                        </a:lnTo>
                        <a:lnTo>
                          <a:pt x="1389" y="589"/>
                        </a:lnTo>
                        <a:lnTo>
                          <a:pt x="1389" y="587"/>
                        </a:lnTo>
                        <a:lnTo>
                          <a:pt x="1387" y="585"/>
                        </a:lnTo>
                        <a:lnTo>
                          <a:pt x="1385" y="582"/>
                        </a:lnTo>
                        <a:lnTo>
                          <a:pt x="1385" y="580"/>
                        </a:lnTo>
                        <a:lnTo>
                          <a:pt x="1383" y="578"/>
                        </a:lnTo>
                        <a:lnTo>
                          <a:pt x="1383" y="572"/>
                        </a:lnTo>
                        <a:lnTo>
                          <a:pt x="1381" y="568"/>
                        </a:lnTo>
                        <a:lnTo>
                          <a:pt x="1377" y="563"/>
                        </a:lnTo>
                        <a:lnTo>
                          <a:pt x="1375" y="557"/>
                        </a:lnTo>
                        <a:lnTo>
                          <a:pt x="1373" y="553"/>
                        </a:lnTo>
                        <a:lnTo>
                          <a:pt x="1370" y="547"/>
                        </a:lnTo>
                        <a:lnTo>
                          <a:pt x="1366" y="544"/>
                        </a:lnTo>
                        <a:lnTo>
                          <a:pt x="1364" y="540"/>
                        </a:lnTo>
                        <a:lnTo>
                          <a:pt x="1360" y="536"/>
                        </a:lnTo>
                        <a:lnTo>
                          <a:pt x="1356" y="532"/>
                        </a:lnTo>
                        <a:lnTo>
                          <a:pt x="1353" y="528"/>
                        </a:lnTo>
                        <a:lnTo>
                          <a:pt x="1349" y="525"/>
                        </a:lnTo>
                        <a:lnTo>
                          <a:pt x="1345" y="523"/>
                        </a:lnTo>
                        <a:lnTo>
                          <a:pt x="1339" y="521"/>
                        </a:lnTo>
                        <a:lnTo>
                          <a:pt x="1335" y="517"/>
                        </a:lnTo>
                        <a:lnTo>
                          <a:pt x="1332" y="515"/>
                        </a:lnTo>
                        <a:lnTo>
                          <a:pt x="1326" y="515"/>
                        </a:lnTo>
                        <a:lnTo>
                          <a:pt x="1322" y="513"/>
                        </a:lnTo>
                        <a:lnTo>
                          <a:pt x="1318" y="511"/>
                        </a:lnTo>
                        <a:lnTo>
                          <a:pt x="1316" y="511"/>
                        </a:lnTo>
                        <a:lnTo>
                          <a:pt x="1313" y="511"/>
                        </a:lnTo>
                        <a:lnTo>
                          <a:pt x="1311" y="511"/>
                        </a:lnTo>
                        <a:lnTo>
                          <a:pt x="1309" y="509"/>
                        </a:lnTo>
                        <a:lnTo>
                          <a:pt x="1305" y="509"/>
                        </a:lnTo>
                        <a:lnTo>
                          <a:pt x="1303" y="509"/>
                        </a:lnTo>
                        <a:lnTo>
                          <a:pt x="1301" y="509"/>
                        </a:lnTo>
                        <a:lnTo>
                          <a:pt x="1297" y="509"/>
                        </a:lnTo>
                        <a:lnTo>
                          <a:pt x="1295" y="509"/>
                        </a:lnTo>
                        <a:lnTo>
                          <a:pt x="1292" y="509"/>
                        </a:lnTo>
                        <a:lnTo>
                          <a:pt x="1290" y="509"/>
                        </a:lnTo>
                        <a:lnTo>
                          <a:pt x="1284" y="509"/>
                        </a:lnTo>
                        <a:lnTo>
                          <a:pt x="1280" y="509"/>
                        </a:lnTo>
                        <a:lnTo>
                          <a:pt x="1275" y="509"/>
                        </a:lnTo>
                        <a:lnTo>
                          <a:pt x="1269" y="509"/>
                        </a:lnTo>
                        <a:lnTo>
                          <a:pt x="1265" y="509"/>
                        </a:lnTo>
                        <a:lnTo>
                          <a:pt x="1259" y="509"/>
                        </a:lnTo>
                        <a:lnTo>
                          <a:pt x="1256" y="511"/>
                        </a:lnTo>
                        <a:lnTo>
                          <a:pt x="1252" y="511"/>
                        </a:lnTo>
                        <a:lnTo>
                          <a:pt x="1246" y="515"/>
                        </a:lnTo>
                        <a:lnTo>
                          <a:pt x="1242" y="515"/>
                        </a:lnTo>
                        <a:lnTo>
                          <a:pt x="1238" y="517"/>
                        </a:lnTo>
                        <a:lnTo>
                          <a:pt x="1235" y="521"/>
                        </a:lnTo>
                        <a:lnTo>
                          <a:pt x="1231" y="523"/>
                        </a:lnTo>
                        <a:lnTo>
                          <a:pt x="1229" y="525"/>
                        </a:lnTo>
                        <a:lnTo>
                          <a:pt x="1225" y="527"/>
                        </a:lnTo>
                        <a:lnTo>
                          <a:pt x="1221" y="530"/>
                        </a:lnTo>
                        <a:lnTo>
                          <a:pt x="1219" y="532"/>
                        </a:lnTo>
                        <a:lnTo>
                          <a:pt x="1216" y="538"/>
                        </a:lnTo>
                        <a:lnTo>
                          <a:pt x="1214" y="542"/>
                        </a:lnTo>
                        <a:lnTo>
                          <a:pt x="1212" y="546"/>
                        </a:lnTo>
                        <a:lnTo>
                          <a:pt x="1210" y="549"/>
                        </a:lnTo>
                        <a:lnTo>
                          <a:pt x="1208" y="555"/>
                        </a:lnTo>
                        <a:lnTo>
                          <a:pt x="1208" y="557"/>
                        </a:lnTo>
                        <a:lnTo>
                          <a:pt x="1206" y="559"/>
                        </a:lnTo>
                        <a:lnTo>
                          <a:pt x="1204" y="561"/>
                        </a:lnTo>
                        <a:lnTo>
                          <a:pt x="1204" y="565"/>
                        </a:lnTo>
                        <a:lnTo>
                          <a:pt x="1204" y="566"/>
                        </a:lnTo>
                        <a:lnTo>
                          <a:pt x="1204" y="570"/>
                        </a:lnTo>
                        <a:lnTo>
                          <a:pt x="1204" y="572"/>
                        </a:lnTo>
                        <a:lnTo>
                          <a:pt x="1204" y="576"/>
                        </a:lnTo>
                        <a:lnTo>
                          <a:pt x="1139" y="895"/>
                        </a:lnTo>
                        <a:lnTo>
                          <a:pt x="1136" y="893"/>
                        </a:lnTo>
                        <a:lnTo>
                          <a:pt x="1132" y="892"/>
                        </a:lnTo>
                        <a:lnTo>
                          <a:pt x="1126" y="888"/>
                        </a:lnTo>
                        <a:lnTo>
                          <a:pt x="1122" y="886"/>
                        </a:lnTo>
                        <a:lnTo>
                          <a:pt x="1117" y="884"/>
                        </a:lnTo>
                        <a:lnTo>
                          <a:pt x="1113" y="880"/>
                        </a:lnTo>
                        <a:lnTo>
                          <a:pt x="1107" y="878"/>
                        </a:lnTo>
                        <a:lnTo>
                          <a:pt x="1105" y="876"/>
                        </a:lnTo>
                        <a:lnTo>
                          <a:pt x="1227" y="316"/>
                        </a:lnTo>
                        <a:lnTo>
                          <a:pt x="1227" y="312"/>
                        </a:lnTo>
                        <a:lnTo>
                          <a:pt x="1227" y="308"/>
                        </a:lnTo>
                        <a:lnTo>
                          <a:pt x="1229" y="306"/>
                        </a:lnTo>
                        <a:lnTo>
                          <a:pt x="1229" y="304"/>
                        </a:lnTo>
                        <a:lnTo>
                          <a:pt x="1229" y="300"/>
                        </a:lnTo>
                        <a:lnTo>
                          <a:pt x="1229" y="298"/>
                        </a:lnTo>
                        <a:lnTo>
                          <a:pt x="1229" y="295"/>
                        </a:lnTo>
                        <a:lnTo>
                          <a:pt x="1229" y="293"/>
                        </a:lnTo>
                        <a:lnTo>
                          <a:pt x="1229" y="291"/>
                        </a:lnTo>
                        <a:lnTo>
                          <a:pt x="1229" y="287"/>
                        </a:lnTo>
                        <a:lnTo>
                          <a:pt x="1229" y="285"/>
                        </a:lnTo>
                        <a:lnTo>
                          <a:pt x="1229" y="283"/>
                        </a:lnTo>
                        <a:lnTo>
                          <a:pt x="1229" y="278"/>
                        </a:lnTo>
                        <a:lnTo>
                          <a:pt x="1227" y="272"/>
                        </a:lnTo>
                        <a:lnTo>
                          <a:pt x="1225" y="268"/>
                        </a:lnTo>
                        <a:lnTo>
                          <a:pt x="1225" y="262"/>
                        </a:lnTo>
                        <a:lnTo>
                          <a:pt x="1223" y="257"/>
                        </a:lnTo>
                        <a:lnTo>
                          <a:pt x="1221" y="253"/>
                        </a:lnTo>
                        <a:lnTo>
                          <a:pt x="1219" y="247"/>
                        </a:lnTo>
                        <a:lnTo>
                          <a:pt x="1217" y="243"/>
                        </a:lnTo>
                        <a:lnTo>
                          <a:pt x="1216" y="240"/>
                        </a:lnTo>
                        <a:lnTo>
                          <a:pt x="1214" y="236"/>
                        </a:lnTo>
                        <a:lnTo>
                          <a:pt x="1210" y="232"/>
                        </a:lnTo>
                        <a:lnTo>
                          <a:pt x="1206" y="226"/>
                        </a:lnTo>
                        <a:lnTo>
                          <a:pt x="1202" y="222"/>
                        </a:lnTo>
                        <a:lnTo>
                          <a:pt x="1200" y="219"/>
                        </a:lnTo>
                        <a:lnTo>
                          <a:pt x="1197" y="215"/>
                        </a:lnTo>
                        <a:lnTo>
                          <a:pt x="1193" y="211"/>
                        </a:lnTo>
                        <a:lnTo>
                          <a:pt x="1189" y="207"/>
                        </a:lnTo>
                        <a:lnTo>
                          <a:pt x="1185" y="205"/>
                        </a:lnTo>
                        <a:lnTo>
                          <a:pt x="1179" y="203"/>
                        </a:lnTo>
                        <a:lnTo>
                          <a:pt x="1176" y="200"/>
                        </a:lnTo>
                        <a:lnTo>
                          <a:pt x="1172" y="198"/>
                        </a:lnTo>
                        <a:lnTo>
                          <a:pt x="1166" y="194"/>
                        </a:lnTo>
                        <a:lnTo>
                          <a:pt x="1160" y="192"/>
                        </a:lnTo>
                        <a:lnTo>
                          <a:pt x="1157" y="192"/>
                        </a:lnTo>
                        <a:lnTo>
                          <a:pt x="1151" y="190"/>
                        </a:lnTo>
                        <a:lnTo>
                          <a:pt x="1147" y="190"/>
                        </a:lnTo>
                        <a:lnTo>
                          <a:pt x="1143" y="188"/>
                        </a:lnTo>
                        <a:lnTo>
                          <a:pt x="1141" y="186"/>
                        </a:lnTo>
                        <a:lnTo>
                          <a:pt x="1138" y="186"/>
                        </a:lnTo>
                        <a:lnTo>
                          <a:pt x="1136" y="186"/>
                        </a:lnTo>
                        <a:lnTo>
                          <a:pt x="1134" y="186"/>
                        </a:lnTo>
                        <a:lnTo>
                          <a:pt x="1130" y="186"/>
                        </a:lnTo>
                        <a:lnTo>
                          <a:pt x="1128" y="186"/>
                        </a:lnTo>
                        <a:lnTo>
                          <a:pt x="1124" y="186"/>
                        </a:lnTo>
                        <a:lnTo>
                          <a:pt x="1122" y="186"/>
                        </a:lnTo>
                        <a:lnTo>
                          <a:pt x="1120" y="186"/>
                        </a:lnTo>
                        <a:lnTo>
                          <a:pt x="1117" y="186"/>
                        </a:lnTo>
                        <a:lnTo>
                          <a:pt x="1115" y="186"/>
                        </a:lnTo>
                        <a:lnTo>
                          <a:pt x="1109" y="186"/>
                        </a:lnTo>
                        <a:lnTo>
                          <a:pt x="1105" y="188"/>
                        </a:lnTo>
                        <a:lnTo>
                          <a:pt x="1100" y="188"/>
                        </a:lnTo>
                        <a:lnTo>
                          <a:pt x="1094" y="190"/>
                        </a:lnTo>
                        <a:lnTo>
                          <a:pt x="1090" y="192"/>
                        </a:lnTo>
                        <a:lnTo>
                          <a:pt x="1086" y="192"/>
                        </a:lnTo>
                        <a:lnTo>
                          <a:pt x="1081" y="194"/>
                        </a:lnTo>
                        <a:lnTo>
                          <a:pt x="1077" y="198"/>
                        </a:lnTo>
                        <a:lnTo>
                          <a:pt x="1073" y="200"/>
                        </a:lnTo>
                        <a:lnTo>
                          <a:pt x="1067" y="203"/>
                        </a:lnTo>
                        <a:lnTo>
                          <a:pt x="1063" y="205"/>
                        </a:lnTo>
                        <a:lnTo>
                          <a:pt x="1058" y="207"/>
                        </a:lnTo>
                        <a:lnTo>
                          <a:pt x="1054" y="211"/>
                        </a:lnTo>
                        <a:lnTo>
                          <a:pt x="1050" y="215"/>
                        </a:lnTo>
                        <a:lnTo>
                          <a:pt x="1048" y="219"/>
                        </a:lnTo>
                        <a:lnTo>
                          <a:pt x="1044" y="222"/>
                        </a:lnTo>
                        <a:lnTo>
                          <a:pt x="1041" y="226"/>
                        </a:lnTo>
                        <a:lnTo>
                          <a:pt x="1039" y="232"/>
                        </a:lnTo>
                        <a:lnTo>
                          <a:pt x="1035" y="234"/>
                        </a:lnTo>
                        <a:lnTo>
                          <a:pt x="1033" y="240"/>
                        </a:lnTo>
                        <a:lnTo>
                          <a:pt x="1029" y="243"/>
                        </a:lnTo>
                        <a:lnTo>
                          <a:pt x="1027" y="249"/>
                        </a:lnTo>
                        <a:lnTo>
                          <a:pt x="1025" y="253"/>
                        </a:lnTo>
                        <a:lnTo>
                          <a:pt x="1023" y="259"/>
                        </a:lnTo>
                        <a:lnTo>
                          <a:pt x="1022" y="260"/>
                        </a:lnTo>
                        <a:lnTo>
                          <a:pt x="1022" y="264"/>
                        </a:lnTo>
                        <a:lnTo>
                          <a:pt x="1022" y="266"/>
                        </a:lnTo>
                        <a:lnTo>
                          <a:pt x="1022" y="270"/>
                        </a:lnTo>
                        <a:lnTo>
                          <a:pt x="919" y="730"/>
                        </a:lnTo>
                        <a:lnTo>
                          <a:pt x="915" y="728"/>
                        </a:lnTo>
                        <a:lnTo>
                          <a:pt x="913" y="726"/>
                        </a:lnTo>
                        <a:lnTo>
                          <a:pt x="907" y="724"/>
                        </a:lnTo>
                        <a:lnTo>
                          <a:pt x="905" y="720"/>
                        </a:lnTo>
                        <a:lnTo>
                          <a:pt x="904" y="719"/>
                        </a:lnTo>
                        <a:lnTo>
                          <a:pt x="900" y="717"/>
                        </a:lnTo>
                        <a:lnTo>
                          <a:pt x="896" y="713"/>
                        </a:lnTo>
                        <a:lnTo>
                          <a:pt x="892" y="713"/>
                        </a:lnTo>
                        <a:lnTo>
                          <a:pt x="1022" y="129"/>
                        </a:lnTo>
                        <a:lnTo>
                          <a:pt x="1022" y="125"/>
                        </a:lnTo>
                        <a:lnTo>
                          <a:pt x="1022" y="124"/>
                        </a:lnTo>
                        <a:lnTo>
                          <a:pt x="1022" y="120"/>
                        </a:lnTo>
                        <a:lnTo>
                          <a:pt x="1022" y="118"/>
                        </a:lnTo>
                        <a:lnTo>
                          <a:pt x="1022" y="114"/>
                        </a:lnTo>
                        <a:lnTo>
                          <a:pt x="1022" y="112"/>
                        </a:lnTo>
                        <a:lnTo>
                          <a:pt x="1022" y="110"/>
                        </a:lnTo>
                        <a:lnTo>
                          <a:pt x="1022" y="106"/>
                        </a:lnTo>
                        <a:lnTo>
                          <a:pt x="1022" y="105"/>
                        </a:lnTo>
                        <a:lnTo>
                          <a:pt x="1022" y="103"/>
                        </a:lnTo>
                        <a:lnTo>
                          <a:pt x="1022" y="99"/>
                        </a:lnTo>
                        <a:lnTo>
                          <a:pt x="1022" y="97"/>
                        </a:lnTo>
                        <a:lnTo>
                          <a:pt x="1022" y="91"/>
                        </a:lnTo>
                        <a:lnTo>
                          <a:pt x="1022" y="86"/>
                        </a:lnTo>
                        <a:lnTo>
                          <a:pt x="1020" y="82"/>
                        </a:lnTo>
                        <a:lnTo>
                          <a:pt x="1018" y="76"/>
                        </a:lnTo>
                        <a:lnTo>
                          <a:pt x="1016" y="70"/>
                        </a:lnTo>
                        <a:lnTo>
                          <a:pt x="1014" y="67"/>
                        </a:lnTo>
                        <a:lnTo>
                          <a:pt x="1012" y="61"/>
                        </a:lnTo>
                        <a:lnTo>
                          <a:pt x="1010" y="57"/>
                        </a:lnTo>
                        <a:lnTo>
                          <a:pt x="1008" y="53"/>
                        </a:lnTo>
                        <a:lnTo>
                          <a:pt x="1006" y="48"/>
                        </a:lnTo>
                        <a:lnTo>
                          <a:pt x="1004" y="44"/>
                        </a:lnTo>
                        <a:lnTo>
                          <a:pt x="1001" y="40"/>
                        </a:lnTo>
                        <a:lnTo>
                          <a:pt x="997" y="36"/>
                        </a:lnTo>
                        <a:lnTo>
                          <a:pt x="993" y="32"/>
                        </a:lnTo>
                        <a:lnTo>
                          <a:pt x="991" y="29"/>
                        </a:lnTo>
                        <a:lnTo>
                          <a:pt x="985" y="25"/>
                        </a:lnTo>
                        <a:lnTo>
                          <a:pt x="983" y="23"/>
                        </a:lnTo>
                        <a:lnTo>
                          <a:pt x="978" y="19"/>
                        </a:lnTo>
                        <a:lnTo>
                          <a:pt x="972" y="17"/>
                        </a:lnTo>
                        <a:lnTo>
                          <a:pt x="968" y="13"/>
                        </a:lnTo>
                        <a:lnTo>
                          <a:pt x="964" y="11"/>
                        </a:lnTo>
                        <a:lnTo>
                          <a:pt x="961" y="10"/>
                        </a:lnTo>
                        <a:lnTo>
                          <a:pt x="955" y="6"/>
                        </a:lnTo>
                        <a:lnTo>
                          <a:pt x="949" y="6"/>
                        </a:lnTo>
                        <a:lnTo>
                          <a:pt x="944" y="4"/>
                        </a:lnTo>
                        <a:lnTo>
                          <a:pt x="940" y="4"/>
                        </a:lnTo>
                        <a:lnTo>
                          <a:pt x="936" y="2"/>
                        </a:lnTo>
                        <a:lnTo>
                          <a:pt x="934" y="2"/>
                        </a:lnTo>
                        <a:lnTo>
                          <a:pt x="932" y="0"/>
                        </a:lnTo>
                        <a:lnTo>
                          <a:pt x="928" y="0"/>
                        </a:lnTo>
                        <a:lnTo>
                          <a:pt x="926" y="0"/>
                        </a:lnTo>
                        <a:lnTo>
                          <a:pt x="925" y="0"/>
                        </a:lnTo>
                        <a:lnTo>
                          <a:pt x="921" y="0"/>
                        </a:lnTo>
                        <a:lnTo>
                          <a:pt x="919" y="0"/>
                        </a:lnTo>
                        <a:lnTo>
                          <a:pt x="915" y="0"/>
                        </a:lnTo>
                        <a:lnTo>
                          <a:pt x="913" y="0"/>
                        </a:lnTo>
                        <a:lnTo>
                          <a:pt x="911" y="0"/>
                        </a:lnTo>
                        <a:lnTo>
                          <a:pt x="907" y="0"/>
                        </a:lnTo>
                        <a:lnTo>
                          <a:pt x="904" y="0"/>
                        </a:lnTo>
                        <a:lnTo>
                          <a:pt x="898" y="2"/>
                        </a:lnTo>
                        <a:lnTo>
                          <a:pt x="896" y="2"/>
                        </a:lnTo>
                        <a:lnTo>
                          <a:pt x="892" y="2"/>
                        </a:lnTo>
                        <a:lnTo>
                          <a:pt x="890" y="2"/>
                        </a:lnTo>
                        <a:lnTo>
                          <a:pt x="888" y="4"/>
                        </a:lnTo>
                        <a:lnTo>
                          <a:pt x="881" y="4"/>
                        </a:lnTo>
                        <a:lnTo>
                          <a:pt x="877" y="6"/>
                        </a:lnTo>
                        <a:lnTo>
                          <a:pt x="873" y="10"/>
                        </a:lnTo>
                        <a:lnTo>
                          <a:pt x="867" y="11"/>
                        </a:lnTo>
                        <a:lnTo>
                          <a:pt x="864" y="15"/>
                        </a:lnTo>
                        <a:lnTo>
                          <a:pt x="860" y="17"/>
                        </a:lnTo>
                        <a:lnTo>
                          <a:pt x="854" y="19"/>
                        </a:lnTo>
                        <a:lnTo>
                          <a:pt x="850" y="23"/>
                        </a:lnTo>
                        <a:lnTo>
                          <a:pt x="847" y="25"/>
                        </a:lnTo>
                        <a:lnTo>
                          <a:pt x="843" y="29"/>
                        </a:lnTo>
                        <a:lnTo>
                          <a:pt x="839" y="32"/>
                        </a:lnTo>
                        <a:lnTo>
                          <a:pt x="835" y="36"/>
                        </a:lnTo>
                        <a:lnTo>
                          <a:pt x="833" y="40"/>
                        </a:lnTo>
                        <a:lnTo>
                          <a:pt x="831" y="44"/>
                        </a:lnTo>
                        <a:lnTo>
                          <a:pt x="828" y="48"/>
                        </a:lnTo>
                        <a:lnTo>
                          <a:pt x="824" y="53"/>
                        </a:lnTo>
                        <a:lnTo>
                          <a:pt x="822" y="57"/>
                        </a:lnTo>
                        <a:lnTo>
                          <a:pt x="820" y="61"/>
                        </a:lnTo>
                        <a:lnTo>
                          <a:pt x="818" y="67"/>
                        </a:lnTo>
                        <a:lnTo>
                          <a:pt x="816" y="70"/>
                        </a:lnTo>
                        <a:lnTo>
                          <a:pt x="816" y="74"/>
                        </a:lnTo>
                        <a:lnTo>
                          <a:pt x="814" y="76"/>
                        </a:lnTo>
                        <a:lnTo>
                          <a:pt x="812" y="82"/>
                        </a:lnTo>
                        <a:lnTo>
                          <a:pt x="812" y="84"/>
                        </a:lnTo>
                        <a:lnTo>
                          <a:pt x="687" y="663"/>
                        </a:lnTo>
                        <a:lnTo>
                          <a:pt x="681" y="663"/>
                        </a:lnTo>
                        <a:lnTo>
                          <a:pt x="677" y="663"/>
                        </a:lnTo>
                        <a:lnTo>
                          <a:pt x="673" y="663"/>
                        </a:lnTo>
                        <a:lnTo>
                          <a:pt x="670" y="663"/>
                        </a:lnTo>
                        <a:lnTo>
                          <a:pt x="666" y="663"/>
                        </a:lnTo>
                        <a:lnTo>
                          <a:pt x="660" y="665"/>
                        </a:lnTo>
                        <a:lnTo>
                          <a:pt x="656" y="665"/>
                        </a:lnTo>
                        <a:lnTo>
                          <a:pt x="652" y="667"/>
                        </a:lnTo>
                        <a:lnTo>
                          <a:pt x="753" y="213"/>
                        </a:lnTo>
                        <a:lnTo>
                          <a:pt x="753" y="209"/>
                        </a:lnTo>
                        <a:lnTo>
                          <a:pt x="753" y="207"/>
                        </a:lnTo>
                        <a:lnTo>
                          <a:pt x="753" y="203"/>
                        </a:lnTo>
                        <a:lnTo>
                          <a:pt x="753" y="201"/>
                        </a:lnTo>
                        <a:lnTo>
                          <a:pt x="753" y="198"/>
                        </a:lnTo>
                        <a:lnTo>
                          <a:pt x="753" y="196"/>
                        </a:lnTo>
                        <a:lnTo>
                          <a:pt x="753" y="192"/>
                        </a:lnTo>
                        <a:lnTo>
                          <a:pt x="753" y="190"/>
                        </a:lnTo>
                        <a:lnTo>
                          <a:pt x="753" y="188"/>
                        </a:lnTo>
                        <a:lnTo>
                          <a:pt x="753" y="184"/>
                        </a:lnTo>
                        <a:lnTo>
                          <a:pt x="753" y="182"/>
                        </a:lnTo>
                        <a:lnTo>
                          <a:pt x="753" y="181"/>
                        </a:lnTo>
                        <a:lnTo>
                          <a:pt x="753" y="175"/>
                        </a:lnTo>
                        <a:lnTo>
                          <a:pt x="753" y="169"/>
                        </a:lnTo>
                        <a:lnTo>
                          <a:pt x="751" y="167"/>
                        </a:lnTo>
                        <a:lnTo>
                          <a:pt x="751" y="163"/>
                        </a:lnTo>
                        <a:lnTo>
                          <a:pt x="751" y="162"/>
                        </a:lnTo>
                        <a:lnTo>
                          <a:pt x="750" y="160"/>
                        </a:lnTo>
                        <a:lnTo>
                          <a:pt x="748" y="154"/>
                        </a:lnTo>
                        <a:lnTo>
                          <a:pt x="746" y="148"/>
                        </a:lnTo>
                        <a:lnTo>
                          <a:pt x="744" y="144"/>
                        </a:lnTo>
                        <a:lnTo>
                          <a:pt x="742" y="141"/>
                        </a:lnTo>
                        <a:lnTo>
                          <a:pt x="740" y="135"/>
                        </a:lnTo>
                        <a:lnTo>
                          <a:pt x="738" y="131"/>
                        </a:lnTo>
                        <a:lnTo>
                          <a:pt x="734" y="127"/>
                        </a:lnTo>
                        <a:lnTo>
                          <a:pt x="730" y="124"/>
                        </a:lnTo>
                        <a:lnTo>
                          <a:pt x="727" y="120"/>
                        </a:lnTo>
                        <a:lnTo>
                          <a:pt x="725" y="116"/>
                        </a:lnTo>
                        <a:lnTo>
                          <a:pt x="721" y="112"/>
                        </a:lnTo>
                        <a:lnTo>
                          <a:pt x="717" y="108"/>
                        </a:lnTo>
                        <a:lnTo>
                          <a:pt x="713" y="105"/>
                        </a:lnTo>
                        <a:lnTo>
                          <a:pt x="710" y="103"/>
                        </a:lnTo>
                        <a:lnTo>
                          <a:pt x="704" y="99"/>
                        </a:lnTo>
                        <a:lnTo>
                          <a:pt x="700" y="97"/>
                        </a:lnTo>
                        <a:lnTo>
                          <a:pt x="694" y="95"/>
                        </a:lnTo>
                        <a:lnTo>
                          <a:pt x="691" y="91"/>
                        </a:lnTo>
                        <a:lnTo>
                          <a:pt x="685" y="89"/>
                        </a:lnTo>
                        <a:lnTo>
                          <a:pt x="681" y="87"/>
                        </a:lnTo>
                        <a:lnTo>
                          <a:pt x="675" y="86"/>
                        </a:lnTo>
                        <a:lnTo>
                          <a:pt x="672" y="86"/>
                        </a:lnTo>
                        <a:lnTo>
                          <a:pt x="668" y="84"/>
                        </a:lnTo>
                        <a:lnTo>
                          <a:pt x="666" y="84"/>
                        </a:lnTo>
                        <a:lnTo>
                          <a:pt x="664" y="84"/>
                        </a:lnTo>
                        <a:lnTo>
                          <a:pt x="660" y="84"/>
                        </a:lnTo>
                        <a:lnTo>
                          <a:pt x="658" y="84"/>
                        </a:lnTo>
                        <a:lnTo>
                          <a:pt x="654" y="84"/>
                        </a:lnTo>
                        <a:lnTo>
                          <a:pt x="652" y="84"/>
                        </a:lnTo>
                        <a:lnTo>
                          <a:pt x="651" y="84"/>
                        </a:lnTo>
                        <a:lnTo>
                          <a:pt x="647" y="84"/>
                        </a:lnTo>
                        <a:lnTo>
                          <a:pt x="645" y="84"/>
                        </a:lnTo>
                        <a:lnTo>
                          <a:pt x="643" y="84"/>
                        </a:lnTo>
                        <a:lnTo>
                          <a:pt x="639" y="84"/>
                        </a:lnTo>
                        <a:lnTo>
                          <a:pt x="635" y="84"/>
                        </a:lnTo>
                        <a:lnTo>
                          <a:pt x="630" y="84"/>
                        </a:lnTo>
                        <a:lnTo>
                          <a:pt x="628" y="84"/>
                        </a:lnTo>
                        <a:lnTo>
                          <a:pt x="624" y="86"/>
                        </a:lnTo>
                        <a:lnTo>
                          <a:pt x="622" y="86"/>
                        </a:lnTo>
                        <a:lnTo>
                          <a:pt x="618" y="86"/>
                        </a:lnTo>
                        <a:lnTo>
                          <a:pt x="614" y="87"/>
                        </a:lnTo>
                        <a:lnTo>
                          <a:pt x="609" y="89"/>
                        </a:lnTo>
                        <a:lnTo>
                          <a:pt x="603" y="91"/>
                        </a:lnTo>
                        <a:lnTo>
                          <a:pt x="599" y="95"/>
                        </a:lnTo>
                        <a:lnTo>
                          <a:pt x="595" y="97"/>
                        </a:lnTo>
                        <a:lnTo>
                          <a:pt x="592" y="99"/>
                        </a:lnTo>
                        <a:lnTo>
                          <a:pt x="586" y="103"/>
                        </a:lnTo>
                        <a:lnTo>
                          <a:pt x="582" y="105"/>
                        </a:lnTo>
                        <a:lnTo>
                          <a:pt x="578" y="108"/>
                        </a:lnTo>
                        <a:lnTo>
                          <a:pt x="574" y="112"/>
                        </a:lnTo>
                        <a:lnTo>
                          <a:pt x="571" y="116"/>
                        </a:lnTo>
                        <a:lnTo>
                          <a:pt x="567" y="120"/>
                        </a:lnTo>
                        <a:lnTo>
                          <a:pt x="565" y="124"/>
                        </a:lnTo>
                        <a:lnTo>
                          <a:pt x="563" y="127"/>
                        </a:lnTo>
                        <a:lnTo>
                          <a:pt x="559" y="131"/>
                        </a:lnTo>
                        <a:lnTo>
                          <a:pt x="555" y="135"/>
                        </a:lnTo>
                        <a:lnTo>
                          <a:pt x="554" y="141"/>
                        </a:lnTo>
                        <a:lnTo>
                          <a:pt x="552" y="146"/>
                        </a:lnTo>
                        <a:lnTo>
                          <a:pt x="550" y="150"/>
                        </a:lnTo>
                        <a:lnTo>
                          <a:pt x="548" y="156"/>
                        </a:lnTo>
                        <a:lnTo>
                          <a:pt x="546" y="158"/>
                        </a:lnTo>
                        <a:lnTo>
                          <a:pt x="546" y="160"/>
                        </a:lnTo>
                        <a:lnTo>
                          <a:pt x="544" y="163"/>
                        </a:lnTo>
                        <a:lnTo>
                          <a:pt x="544" y="167"/>
                        </a:lnTo>
                        <a:lnTo>
                          <a:pt x="361" y="1127"/>
                        </a:lnTo>
                        <a:lnTo>
                          <a:pt x="361" y="1127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87" name="AutoShape 529"/>
                <p:cNvSpPr/>
                <p:nvPr/>
              </p:nvSpPr>
              <p:spPr>
                <a:xfrm rot="15453600">
                  <a:off x="4840200" y="3017520"/>
                  <a:ext cx="88200" cy="75960"/>
                </a:xfrm>
                <a:prstGeom prst="hexagon">
                  <a:avLst>
                    <a:gd name="adj" fmla="val 29028"/>
                    <a:gd name="vf" fmla="val 115470"/>
                  </a:avLst>
                </a:prstGeom>
                <a:solidFill>
                  <a:srgbClr val="ff000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8" name="AutoShape 530"/>
                <p:cNvSpPr/>
                <p:nvPr/>
              </p:nvSpPr>
              <p:spPr>
                <a:xfrm rot="15484800">
                  <a:off x="5145120" y="2949840"/>
                  <a:ext cx="193320" cy="5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4308" y="21600"/>
                      </a:lnTo>
                      <a:lnTo>
                        <a:pt x="17292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89" name="Group 531"/>
            <p:cNvGrpSpPr/>
            <p:nvPr/>
          </p:nvGrpSpPr>
          <p:grpSpPr>
            <a:xfrm>
              <a:off x="4213440" y="2802240"/>
              <a:ext cx="733680" cy="353880"/>
              <a:chOff x="4213440" y="2802240"/>
              <a:chExt cx="733680" cy="353880"/>
            </a:xfrm>
          </p:grpSpPr>
          <p:sp>
            <p:nvSpPr>
              <p:cNvPr id="1690" name="AutoShape 532"/>
              <p:cNvSpPr/>
              <p:nvPr/>
            </p:nvSpPr>
            <p:spPr>
              <a:xfrm flipH="1">
                <a:off x="4273560" y="2833560"/>
                <a:ext cx="180360" cy="13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1" name="Group 533"/>
              <p:cNvGrpSpPr/>
              <p:nvPr/>
            </p:nvGrpSpPr>
            <p:grpSpPr>
              <a:xfrm>
                <a:off x="4213440" y="2802240"/>
                <a:ext cx="733680" cy="353880"/>
                <a:chOff x="4213440" y="2802240"/>
                <a:chExt cx="733680" cy="353880"/>
              </a:xfrm>
            </p:grpSpPr>
            <p:grpSp>
              <p:nvGrpSpPr>
                <p:cNvPr id="1692" name="Group 534"/>
                <p:cNvGrpSpPr/>
                <p:nvPr/>
              </p:nvGrpSpPr>
              <p:grpSpPr>
                <a:xfrm>
                  <a:off x="4213440" y="2802240"/>
                  <a:ext cx="733680" cy="353880"/>
                  <a:chOff x="4213440" y="2802240"/>
                  <a:chExt cx="733680" cy="353880"/>
                </a:xfrm>
              </p:grpSpPr>
              <p:sp>
                <p:nvSpPr>
                  <p:cNvPr id="1693" name="AutoShape 535"/>
                  <p:cNvSpPr/>
                  <p:nvPr/>
                </p:nvSpPr>
                <p:spPr>
                  <a:xfrm flipH="1" rot="6115200">
                    <a:off x="4555440" y="2834280"/>
                    <a:ext cx="179640" cy="36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4308" y="21600"/>
                        </a:lnTo>
                        <a:lnTo>
                          <a:pt x="17292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4" name="Oval 536"/>
                  <p:cNvSpPr/>
                  <p:nvPr/>
                </p:nvSpPr>
                <p:spPr>
                  <a:xfrm flipH="1" rot="5576400">
                    <a:off x="4753440" y="2962800"/>
                    <a:ext cx="186480" cy="19044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5" name="Freeform 537"/>
                  <p:cNvSpPr/>
                  <p:nvPr/>
                </p:nvSpPr>
                <p:spPr>
                  <a:xfrm flipH="1" rot="17681400">
                    <a:off x="4292640" y="2797920"/>
                    <a:ext cx="174960" cy="28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02" h="2302">
                        <a:moveTo>
                          <a:pt x="361" y="1127"/>
                        </a:moveTo>
                        <a:lnTo>
                          <a:pt x="280" y="1116"/>
                        </a:lnTo>
                        <a:lnTo>
                          <a:pt x="373" y="711"/>
                        </a:lnTo>
                        <a:lnTo>
                          <a:pt x="373" y="709"/>
                        </a:lnTo>
                        <a:lnTo>
                          <a:pt x="375" y="705"/>
                        </a:lnTo>
                        <a:lnTo>
                          <a:pt x="375" y="703"/>
                        </a:lnTo>
                        <a:lnTo>
                          <a:pt x="375" y="700"/>
                        </a:lnTo>
                        <a:lnTo>
                          <a:pt x="375" y="698"/>
                        </a:lnTo>
                        <a:lnTo>
                          <a:pt x="375" y="696"/>
                        </a:lnTo>
                        <a:lnTo>
                          <a:pt x="375" y="692"/>
                        </a:lnTo>
                        <a:lnTo>
                          <a:pt x="375" y="690"/>
                        </a:lnTo>
                        <a:lnTo>
                          <a:pt x="375" y="684"/>
                        </a:lnTo>
                        <a:lnTo>
                          <a:pt x="375" y="681"/>
                        </a:lnTo>
                        <a:lnTo>
                          <a:pt x="375" y="675"/>
                        </a:lnTo>
                        <a:lnTo>
                          <a:pt x="375" y="669"/>
                        </a:lnTo>
                        <a:lnTo>
                          <a:pt x="371" y="665"/>
                        </a:lnTo>
                        <a:lnTo>
                          <a:pt x="371" y="660"/>
                        </a:lnTo>
                        <a:lnTo>
                          <a:pt x="369" y="654"/>
                        </a:lnTo>
                        <a:lnTo>
                          <a:pt x="367" y="652"/>
                        </a:lnTo>
                        <a:lnTo>
                          <a:pt x="365" y="646"/>
                        </a:lnTo>
                        <a:lnTo>
                          <a:pt x="363" y="641"/>
                        </a:lnTo>
                        <a:lnTo>
                          <a:pt x="361" y="637"/>
                        </a:lnTo>
                        <a:lnTo>
                          <a:pt x="358" y="633"/>
                        </a:lnTo>
                        <a:lnTo>
                          <a:pt x="356" y="629"/>
                        </a:lnTo>
                        <a:lnTo>
                          <a:pt x="354" y="623"/>
                        </a:lnTo>
                        <a:lnTo>
                          <a:pt x="350" y="620"/>
                        </a:lnTo>
                        <a:lnTo>
                          <a:pt x="346" y="616"/>
                        </a:lnTo>
                        <a:lnTo>
                          <a:pt x="342" y="612"/>
                        </a:lnTo>
                        <a:lnTo>
                          <a:pt x="339" y="610"/>
                        </a:lnTo>
                        <a:lnTo>
                          <a:pt x="335" y="606"/>
                        </a:lnTo>
                        <a:lnTo>
                          <a:pt x="331" y="603"/>
                        </a:lnTo>
                        <a:lnTo>
                          <a:pt x="325" y="601"/>
                        </a:lnTo>
                        <a:lnTo>
                          <a:pt x="321" y="597"/>
                        </a:lnTo>
                        <a:lnTo>
                          <a:pt x="318" y="595"/>
                        </a:lnTo>
                        <a:lnTo>
                          <a:pt x="312" y="593"/>
                        </a:lnTo>
                        <a:lnTo>
                          <a:pt x="306" y="591"/>
                        </a:lnTo>
                        <a:lnTo>
                          <a:pt x="302" y="589"/>
                        </a:lnTo>
                        <a:lnTo>
                          <a:pt x="299" y="589"/>
                        </a:lnTo>
                        <a:lnTo>
                          <a:pt x="295" y="587"/>
                        </a:lnTo>
                        <a:lnTo>
                          <a:pt x="291" y="587"/>
                        </a:lnTo>
                        <a:lnTo>
                          <a:pt x="287" y="585"/>
                        </a:lnTo>
                        <a:lnTo>
                          <a:pt x="285" y="585"/>
                        </a:lnTo>
                        <a:lnTo>
                          <a:pt x="283" y="585"/>
                        </a:lnTo>
                        <a:lnTo>
                          <a:pt x="280" y="585"/>
                        </a:lnTo>
                        <a:lnTo>
                          <a:pt x="276" y="585"/>
                        </a:lnTo>
                        <a:lnTo>
                          <a:pt x="274" y="585"/>
                        </a:lnTo>
                        <a:lnTo>
                          <a:pt x="272" y="585"/>
                        </a:lnTo>
                        <a:lnTo>
                          <a:pt x="268" y="585"/>
                        </a:lnTo>
                        <a:lnTo>
                          <a:pt x="266" y="585"/>
                        </a:lnTo>
                        <a:lnTo>
                          <a:pt x="263" y="585"/>
                        </a:lnTo>
                        <a:lnTo>
                          <a:pt x="261" y="587"/>
                        </a:lnTo>
                        <a:lnTo>
                          <a:pt x="259" y="587"/>
                        </a:lnTo>
                        <a:lnTo>
                          <a:pt x="255" y="587"/>
                        </a:lnTo>
                        <a:lnTo>
                          <a:pt x="253" y="589"/>
                        </a:lnTo>
                        <a:lnTo>
                          <a:pt x="249" y="589"/>
                        </a:lnTo>
                        <a:lnTo>
                          <a:pt x="247" y="589"/>
                        </a:lnTo>
                        <a:lnTo>
                          <a:pt x="243" y="591"/>
                        </a:lnTo>
                        <a:lnTo>
                          <a:pt x="240" y="591"/>
                        </a:lnTo>
                        <a:lnTo>
                          <a:pt x="238" y="593"/>
                        </a:lnTo>
                        <a:lnTo>
                          <a:pt x="236" y="595"/>
                        </a:lnTo>
                        <a:lnTo>
                          <a:pt x="232" y="595"/>
                        </a:lnTo>
                        <a:lnTo>
                          <a:pt x="230" y="597"/>
                        </a:lnTo>
                        <a:lnTo>
                          <a:pt x="228" y="599"/>
                        </a:lnTo>
                        <a:lnTo>
                          <a:pt x="224" y="601"/>
                        </a:lnTo>
                        <a:lnTo>
                          <a:pt x="223" y="601"/>
                        </a:lnTo>
                        <a:lnTo>
                          <a:pt x="219" y="603"/>
                        </a:lnTo>
                        <a:lnTo>
                          <a:pt x="217" y="604"/>
                        </a:lnTo>
                        <a:lnTo>
                          <a:pt x="211" y="608"/>
                        </a:lnTo>
                        <a:lnTo>
                          <a:pt x="207" y="612"/>
                        </a:lnTo>
                        <a:lnTo>
                          <a:pt x="204" y="616"/>
                        </a:lnTo>
                        <a:lnTo>
                          <a:pt x="198" y="618"/>
                        </a:lnTo>
                        <a:lnTo>
                          <a:pt x="194" y="623"/>
                        </a:lnTo>
                        <a:lnTo>
                          <a:pt x="188" y="627"/>
                        </a:lnTo>
                        <a:lnTo>
                          <a:pt x="185" y="633"/>
                        </a:lnTo>
                        <a:lnTo>
                          <a:pt x="181" y="637"/>
                        </a:lnTo>
                        <a:lnTo>
                          <a:pt x="177" y="641"/>
                        </a:lnTo>
                        <a:lnTo>
                          <a:pt x="173" y="646"/>
                        </a:lnTo>
                        <a:lnTo>
                          <a:pt x="169" y="652"/>
                        </a:lnTo>
                        <a:lnTo>
                          <a:pt x="166" y="656"/>
                        </a:lnTo>
                        <a:lnTo>
                          <a:pt x="162" y="662"/>
                        </a:lnTo>
                        <a:lnTo>
                          <a:pt x="160" y="665"/>
                        </a:lnTo>
                        <a:lnTo>
                          <a:pt x="158" y="669"/>
                        </a:lnTo>
                        <a:lnTo>
                          <a:pt x="158" y="671"/>
                        </a:lnTo>
                        <a:lnTo>
                          <a:pt x="156" y="673"/>
                        </a:lnTo>
                        <a:lnTo>
                          <a:pt x="154" y="677"/>
                        </a:lnTo>
                        <a:lnTo>
                          <a:pt x="152" y="679"/>
                        </a:lnTo>
                        <a:lnTo>
                          <a:pt x="152" y="681"/>
                        </a:lnTo>
                        <a:lnTo>
                          <a:pt x="150" y="684"/>
                        </a:lnTo>
                        <a:lnTo>
                          <a:pt x="150" y="688"/>
                        </a:lnTo>
                        <a:lnTo>
                          <a:pt x="146" y="694"/>
                        </a:lnTo>
                        <a:lnTo>
                          <a:pt x="145" y="701"/>
                        </a:lnTo>
                        <a:lnTo>
                          <a:pt x="143" y="709"/>
                        </a:lnTo>
                        <a:lnTo>
                          <a:pt x="139" y="717"/>
                        </a:lnTo>
                        <a:lnTo>
                          <a:pt x="137" y="724"/>
                        </a:lnTo>
                        <a:lnTo>
                          <a:pt x="135" y="732"/>
                        </a:lnTo>
                        <a:lnTo>
                          <a:pt x="131" y="739"/>
                        </a:lnTo>
                        <a:lnTo>
                          <a:pt x="129" y="747"/>
                        </a:lnTo>
                        <a:lnTo>
                          <a:pt x="126" y="755"/>
                        </a:lnTo>
                        <a:lnTo>
                          <a:pt x="124" y="760"/>
                        </a:lnTo>
                        <a:lnTo>
                          <a:pt x="122" y="768"/>
                        </a:lnTo>
                        <a:lnTo>
                          <a:pt x="120" y="776"/>
                        </a:lnTo>
                        <a:lnTo>
                          <a:pt x="116" y="781"/>
                        </a:lnTo>
                        <a:lnTo>
                          <a:pt x="114" y="789"/>
                        </a:lnTo>
                        <a:lnTo>
                          <a:pt x="112" y="796"/>
                        </a:lnTo>
                        <a:lnTo>
                          <a:pt x="110" y="804"/>
                        </a:lnTo>
                        <a:lnTo>
                          <a:pt x="107" y="812"/>
                        </a:lnTo>
                        <a:lnTo>
                          <a:pt x="107" y="817"/>
                        </a:lnTo>
                        <a:lnTo>
                          <a:pt x="103" y="823"/>
                        </a:lnTo>
                        <a:lnTo>
                          <a:pt x="101" y="831"/>
                        </a:lnTo>
                        <a:lnTo>
                          <a:pt x="97" y="836"/>
                        </a:lnTo>
                        <a:lnTo>
                          <a:pt x="97" y="844"/>
                        </a:lnTo>
                        <a:lnTo>
                          <a:pt x="93" y="852"/>
                        </a:lnTo>
                        <a:lnTo>
                          <a:pt x="93" y="857"/>
                        </a:lnTo>
                        <a:lnTo>
                          <a:pt x="89" y="865"/>
                        </a:lnTo>
                        <a:lnTo>
                          <a:pt x="88" y="871"/>
                        </a:lnTo>
                        <a:lnTo>
                          <a:pt x="86" y="878"/>
                        </a:lnTo>
                        <a:lnTo>
                          <a:pt x="84" y="884"/>
                        </a:lnTo>
                        <a:lnTo>
                          <a:pt x="82" y="892"/>
                        </a:lnTo>
                        <a:lnTo>
                          <a:pt x="80" y="899"/>
                        </a:lnTo>
                        <a:lnTo>
                          <a:pt x="78" y="907"/>
                        </a:lnTo>
                        <a:lnTo>
                          <a:pt x="74" y="912"/>
                        </a:lnTo>
                        <a:lnTo>
                          <a:pt x="72" y="920"/>
                        </a:lnTo>
                        <a:lnTo>
                          <a:pt x="72" y="926"/>
                        </a:lnTo>
                        <a:lnTo>
                          <a:pt x="68" y="931"/>
                        </a:lnTo>
                        <a:lnTo>
                          <a:pt x="67" y="939"/>
                        </a:lnTo>
                        <a:lnTo>
                          <a:pt x="65" y="945"/>
                        </a:lnTo>
                        <a:lnTo>
                          <a:pt x="63" y="952"/>
                        </a:lnTo>
                        <a:lnTo>
                          <a:pt x="59" y="958"/>
                        </a:lnTo>
                        <a:lnTo>
                          <a:pt x="57" y="966"/>
                        </a:lnTo>
                        <a:lnTo>
                          <a:pt x="55" y="971"/>
                        </a:lnTo>
                        <a:lnTo>
                          <a:pt x="53" y="979"/>
                        </a:lnTo>
                        <a:lnTo>
                          <a:pt x="51" y="987"/>
                        </a:lnTo>
                        <a:lnTo>
                          <a:pt x="49" y="994"/>
                        </a:lnTo>
                        <a:lnTo>
                          <a:pt x="48" y="1000"/>
                        </a:lnTo>
                        <a:lnTo>
                          <a:pt x="46" y="1007"/>
                        </a:lnTo>
                        <a:lnTo>
                          <a:pt x="44" y="1015"/>
                        </a:lnTo>
                        <a:lnTo>
                          <a:pt x="42" y="1021"/>
                        </a:lnTo>
                        <a:lnTo>
                          <a:pt x="42" y="1028"/>
                        </a:lnTo>
                        <a:lnTo>
                          <a:pt x="38" y="1036"/>
                        </a:lnTo>
                        <a:lnTo>
                          <a:pt x="36" y="1042"/>
                        </a:lnTo>
                        <a:lnTo>
                          <a:pt x="36" y="1049"/>
                        </a:lnTo>
                        <a:lnTo>
                          <a:pt x="34" y="1057"/>
                        </a:lnTo>
                        <a:lnTo>
                          <a:pt x="30" y="1063"/>
                        </a:lnTo>
                        <a:lnTo>
                          <a:pt x="30" y="1070"/>
                        </a:lnTo>
                        <a:lnTo>
                          <a:pt x="29" y="1078"/>
                        </a:lnTo>
                        <a:lnTo>
                          <a:pt x="27" y="1085"/>
                        </a:lnTo>
                        <a:lnTo>
                          <a:pt x="25" y="1093"/>
                        </a:lnTo>
                        <a:lnTo>
                          <a:pt x="23" y="1101"/>
                        </a:lnTo>
                        <a:lnTo>
                          <a:pt x="21" y="1108"/>
                        </a:lnTo>
                        <a:lnTo>
                          <a:pt x="19" y="1116"/>
                        </a:lnTo>
                        <a:lnTo>
                          <a:pt x="17" y="1123"/>
                        </a:lnTo>
                        <a:lnTo>
                          <a:pt x="17" y="1131"/>
                        </a:lnTo>
                        <a:lnTo>
                          <a:pt x="15" y="1139"/>
                        </a:lnTo>
                        <a:lnTo>
                          <a:pt x="13" y="1148"/>
                        </a:lnTo>
                        <a:lnTo>
                          <a:pt x="10" y="1158"/>
                        </a:lnTo>
                        <a:lnTo>
                          <a:pt x="10" y="1165"/>
                        </a:lnTo>
                        <a:lnTo>
                          <a:pt x="8" y="1175"/>
                        </a:lnTo>
                        <a:lnTo>
                          <a:pt x="6" y="1182"/>
                        </a:lnTo>
                        <a:lnTo>
                          <a:pt x="6" y="1192"/>
                        </a:lnTo>
                        <a:lnTo>
                          <a:pt x="4" y="1201"/>
                        </a:lnTo>
                        <a:lnTo>
                          <a:pt x="2" y="1211"/>
                        </a:lnTo>
                        <a:lnTo>
                          <a:pt x="2" y="1218"/>
                        </a:lnTo>
                        <a:lnTo>
                          <a:pt x="0" y="1230"/>
                        </a:lnTo>
                        <a:lnTo>
                          <a:pt x="0" y="1237"/>
                        </a:lnTo>
                        <a:lnTo>
                          <a:pt x="0" y="1247"/>
                        </a:lnTo>
                        <a:lnTo>
                          <a:pt x="0" y="1257"/>
                        </a:lnTo>
                        <a:lnTo>
                          <a:pt x="0" y="1268"/>
                        </a:lnTo>
                        <a:lnTo>
                          <a:pt x="0" y="1276"/>
                        </a:lnTo>
                        <a:lnTo>
                          <a:pt x="0" y="1285"/>
                        </a:lnTo>
                        <a:lnTo>
                          <a:pt x="0" y="1296"/>
                        </a:lnTo>
                        <a:lnTo>
                          <a:pt x="0" y="1304"/>
                        </a:lnTo>
                        <a:lnTo>
                          <a:pt x="0" y="1314"/>
                        </a:lnTo>
                        <a:lnTo>
                          <a:pt x="0" y="1323"/>
                        </a:lnTo>
                        <a:lnTo>
                          <a:pt x="0" y="1333"/>
                        </a:lnTo>
                        <a:lnTo>
                          <a:pt x="2" y="1342"/>
                        </a:lnTo>
                        <a:lnTo>
                          <a:pt x="2" y="1352"/>
                        </a:lnTo>
                        <a:lnTo>
                          <a:pt x="4" y="1363"/>
                        </a:lnTo>
                        <a:lnTo>
                          <a:pt x="4" y="1371"/>
                        </a:lnTo>
                        <a:lnTo>
                          <a:pt x="6" y="1382"/>
                        </a:lnTo>
                        <a:lnTo>
                          <a:pt x="8" y="1390"/>
                        </a:lnTo>
                        <a:lnTo>
                          <a:pt x="8" y="1401"/>
                        </a:lnTo>
                        <a:lnTo>
                          <a:pt x="10" y="1409"/>
                        </a:lnTo>
                        <a:lnTo>
                          <a:pt x="11" y="1420"/>
                        </a:lnTo>
                        <a:lnTo>
                          <a:pt x="13" y="1429"/>
                        </a:lnTo>
                        <a:lnTo>
                          <a:pt x="15" y="1439"/>
                        </a:lnTo>
                        <a:lnTo>
                          <a:pt x="17" y="1448"/>
                        </a:lnTo>
                        <a:lnTo>
                          <a:pt x="19" y="1458"/>
                        </a:lnTo>
                        <a:lnTo>
                          <a:pt x="21" y="1468"/>
                        </a:lnTo>
                        <a:lnTo>
                          <a:pt x="23" y="1477"/>
                        </a:lnTo>
                        <a:lnTo>
                          <a:pt x="27" y="1487"/>
                        </a:lnTo>
                        <a:lnTo>
                          <a:pt x="29" y="1496"/>
                        </a:lnTo>
                        <a:lnTo>
                          <a:pt x="30" y="1506"/>
                        </a:lnTo>
                        <a:lnTo>
                          <a:pt x="34" y="1515"/>
                        </a:lnTo>
                        <a:lnTo>
                          <a:pt x="36" y="1525"/>
                        </a:lnTo>
                        <a:lnTo>
                          <a:pt x="38" y="1534"/>
                        </a:lnTo>
                        <a:lnTo>
                          <a:pt x="42" y="1544"/>
                        </a:lnTo>
                        <a:lnTo>
                          <a:pt x="46" y="1553"/>
                        </a:lnTo>
                        <a:lnTo>
                          <a:pt x="48" y="1561"/>
                        </a:lnTo>
                        <a:lnTo>
                          <a:pt x="51" y="1572"/>
                        </a:lnTo>
                        <a:lnTo>
                          <a:pt x="55" y="1580"/>
                        </a:lnTo>
                        <a:lnTo>
                          <a:pt x="59" y="1589"/>
                        </a:lnTo>
                        <a:lnTo>
                          <a:pt x="63" y="1599"/>
                        </a:lnTo>
                        <a:lnTo>
                          <a:pt x="67" y="1608"/>
                        </a:lnTo>
                        <a:lnTo>
                          <a:pt x="68" y="1616"/>
                        </a:lnTo>
                        <a:lnTo>
                          <a:pt x="74" y="1627"/>
                        </a:lnTo>
                        <a:lnTo>
                          <a:pt x="78" y="1635"/>
                        </a:lnTo>
                        <a:lnTo>
                          <a:pt x="82" y="1644"/>
                        </a:lnTo>
                        <a:lnTo>
                          <a:pt x="86" y="1652"/>
                        </a:lnTo>
                        <a:lnTo>
                          <a:pt x="89" y="1661"/>
                        </a:lnTo>
                        <a:lnTo>
                          <a:pt x="95" y="1669"/>
                        </a:lnTo>
                        <a:lnTo>
                          <a:pt x="99" y="1679"/>
                        </a:lnTo>
                        <a:lnTo>
                          <a:pt x="103" y="1688"/>
                        </a:lnTo>
                        <a:lnTo>
                          <a:pt x="108" y="1696"/>
                        </a:lnTo>
                        <a:lnTo>
                          <a:pt x="114" y="1703"/>
                        </a:lnTo>
                        <a:lnTo>
                          <a:pt x="118" y="1713"/>
                        </a:lnTo>
                        <a:lnTo>
                          <a:pt x="124" y="1722"/>
                        </a:lnTo>
                        <a:lnTo>
                          <a:pt x="127" y="1732"/>
                        </a:lnTo>
                        <a:lnTo>
                          <a:pt x="131" y="1736"/>
                        </a:lnTo>
                        <a:lnTo>
                          <a:pt x="135" y="1739"/>
                        </a:lnTo>
                        <a:lnTo>
                          <a:pt x="135" y="1743"/>
                        </a:lnTo>
                        <a:lnTo>
                          <a:pt x="137" y="1745"/>
                        </a:lnTo>
                        <a:lnTo>
                          <a:pt x="139" y="1747"/>
                        </a:lnTo>
                        <a:lnTo>
                          <a:pt x="141" y="1751"/>
                        </a:lnTo>
                        <a:lnTo>
                          <a:pt x="143" y="1755"/>
                        </a:lnTo>
                        <a:lnTo>
                          <a:pt x="143" y="1756"/>
                        </a:lnTo>
                        <a:lnTo>
                          <a:pt x="145" y="1760"/>
                        </a:lnTo>
                        <a:lnTo>
                          <a:pt x="146" y="1762"/>
                        </a:lnTo>
                        <a:lnTo>
                          <a:pt x="148" y="1766"/>
                        </a:lnTo>
                        <a:lnTo>
                          <a:pt x="150" y="1768"/>
                        </a:lnTo>
                        <a:lnTo>
                          <a:pt x="152" y="1770"/>
                        </a:lnTo>
                        <a:lnTo>
                          <a:pt x="156" y="1774"/>
                        </a:lnTo>
                        <a:lnTo>
                          <a:pt x="158" y="1777"/>
                        </a:lnTo>
                        <a:lnTo>
                          <a:pt x="160" y="1779"/>
                        </a:lnTo>
                        <a:lnTo>
                          <a:pt x="160" y="1783"/>
                        </a:lnTo>
                        <a:lnTo>
                          <a:pt x="162" y="1787"/>
                        </a:lnTo>
                        <a:lnTo>
                          <a:pt x="166" y="1789"/>
                        </a:lnTo>
                        <a:lnTo>
                          <a:pt x="166" y="1791"/>
                        </a:lnTo>
                        <a:lnTo>
                          <a:pt x="167" y="1794"/>
                        </a:lnTo>
                        <a:lnTo>
                          <a:pt x="169" y="1796"/>
                        </a:lnTo>
                        <a:lnTo>
                          <a:pt x="171" y="1800"/>
                        </a:lnTo>
                        <a:lnTo>
                          <a:pt x="173" y="1802"/>
                        </a:lnTo>
                        <a:lnTo>
                          <a:pt x="175" y="1806"/>
                        </a:lnTo>
                        <a:lnTo>
                          <a:pt x="177" y="1808"/>
                        </a:lnTo>
                        <a:lnTo>
                          <a:pt x="179" y="1812"/>
                        </a:lnTo>
                        <a:lnTo>
                          <a:pt x="181" y="1815"/>
                        </a:lnTo>
                        <a:lnTo>
                          <a:pt x="183" y="1817"/>
                        </a:lnTo>
                        <a:lnTo>
                          <a:pt x="185" y="1821"/>
                        </a:lnTo>
                        <a:lnTo>
                          <a:pt x="188" y="1827"/>
                        </a:lnTo>
                        <a:lnTo>
                          <a:pt x="190" y="1831"/>
                        </a:lnTo>
                        <a:lnTo>
                          <a:pt x="194" y="1836"/>
                        </a:lnTo>
                        <a:lnTo>
                          <a:pt x="198" y="1842"/>
                        </a:lnTo>
                        <a:lnTo>
                          <a:pt x="200" y="1846"/>
                        </a:lnTo>
                        <a:lnTo>
                          <a:pt x="204" y="1850"/>
                        </a:lnTo>
                        <a:lnTo>
                          <a:pt x="205" y="1853"/>
                        </a:lnTo>
                        <a:lnTo>
                          <a:pt x="207" y="1859"/>
                        </a:lnTo>
                        <a:lnTo>
                          <a:pt x="209" y="1861"/>
                        </a:lnTo>
                        <a:lnTo>
                          <a:pt x="211" y="1863"/>
                        </a:lnTo>
                        <a:lnTo>
                          <a:pt x="213" y="1867"/>
                        </a:lnTo>
                        <a:lnTo>
                          <a:pt x="215" y="1869"/>
                        </a:lnTo>
                        <a:lnTo>
                          <a:pt x="217" y="1870"/>
                        </a:lnTo>
                        <a:lnTo>
                          <a:pt x="219" y="1874"/>
                        </a:lnTo>
                        <a:lnTo>
                          <a:pt x="141" y="2163"/>
                        </a:lnTo>
                        <a:lnTo>
                          <a:pt x="143" y="2165"/>
                        </a:lnTo>
                        <a:lnTo>
                          <a:pt x="146" y="2165"/>
                        </a:lnTo>
                        <a:lnTo>
                          <a:pt x="150" y="2167"/>
                        </a:lnTo>
                        <a:lnTo>
                          <a:pt x="152" y="2167"/>
                        </a:lnTo>
                        <a:lnTo>
                          <a:pt x="154" y="2167"/>
                        </a:lnTo>
                        <a:lnTo>
                          <a:pt x="158" y="2167"/>
                        </a:lnTo>
                        <a:lnTo>
                          <a:pt x="162" y="2171"/>
                        </a:lnTo>
                        <a:lnTo>
                          <a:pt x="166" y="2171"/>
                        </a:lnTo>
                        <a:lnTo>
                          <a:pt x="167" y="2173"/>
                        </a:lnTo>
                        <a:lnTo>
                          <a:pt x="171" y="2173"/>
                        </a:lnTo>
                        <a:lnTo>
                          <a:pt x="175" y="2175"/>
                        </a:lnTo>
                        <a:lnTo>
                          <a:pt x="181" y="2175"/>
                        </a:lnTo>
                        <a:lnTo>
                          <a:pt x="185" y="2175"/>
                        </a:lnTo>
                        <a:lnTo>
                          <a:pt x="188" y="2177"/>
                        </a:lnTo>
                        <a:lnTo>
                          <a:pt x="194" y="2180"/>
                        </a:lnTo>
                        <a:lnTo>
                          <a:pt x="198" y="2180"/>
                        </a:lnTo>
                        <a:lnTo>
                          <a:pt x="204" y="2182"/>
                        </a:lnTo>
                        <a:lnTo>
                          <a:pt x="209" y="2182"/>
                        </a:lnTo>
                        <a:lnTo>
                          <a:pt x="215" y="2184"/>
                        </a:lnTo>
                        <a:lnTo>
                          <a:pt x="219" y="2186"/>
                        </a:lnTo>
                        <a:lnTo>
                          <a:pt x="224" y="2188"/>
                        </a:lnTo>
                        <a:lnTo>
                          <a:pt x="232" y="2188"/>
                        </a:lnTo>
                        <a:lnTo>
                          <a:pt x="238" y="2190"/>
                        </a:lnTo>
                        <a:lnTo>
                          <a:pt x="243" y="2190"/>
                        </a:lnTo>
                        <a:lnTo>
                          <a:pt x="251" y="2192"/>
                        </a:lnTo>
                        <a:lnTo>
                          <a:pt x="257" y="2194"/>
                        </a:lnTo>
                        <a:lnTo>
                          <a:pt x="264" y="2194"/>
                        </a:lnTo>
                        <a:lnTo>
                          <a:pt x="270" y="2196"/>
                        </a:lnTo>
                        <a:lnTo>
                          <a:pt x="276" y="2196"/>
                        </a:lnTo>
                        <a:lnTo>
                          <a:pt x="283" y="2197"/>
                        </a:lnTo>
                        <a:lnTo>
                          <a:pt x="291" y="2199"/>
                        </a:lnTo>
                        <a:lnTo>
                          <a:pt x="297" y="2199"/>
                        </a:lnTo>
                        <a:lnTo>
                          <a:pt x="304" y="2199"/>
                        </a:lnTo>
                        <a:lnTo>
                          <a:pt x="312" y="2199"/>
                        </a:lnTo>
                        <a:lnTo>
                          <a:pt x="320" y="2201"/>
                        </a:lnTo>
                        <a:lnTo>
                          <a:pt x="325" y="2201"/>
                        </a:lnTo>
                        <a:lnTo>
                          <a:pt x="333" y="2201"/>
                        </a:lnTo>
                        <a:lnTo>
                          <a:pt x="341" y="2201"/>
                        </a:lnTo>
                        <a:lnTo>
                          <a:pt x="348" y="2201"/>
                        </a:lnTo>
                        <a:lnTo>
                          <a:pt x="356" y="2201"/>
                        </a:lnTo>
                        <a:lnTo>
                          <a:pt x="363" y="2201"/>
                        </a:lnTo>
                        <a:lnTo>
                          <a:pt x="371" y="2201"/>
                        </a:lnTo>
                        <a:lnTo>
                          <a:pt x="379" y="2201"/>
                        </a:lnTo>
                        <a:lnTo>
                          <a:pt x="386" y="2201"/>
                        </a:lnTo>
                        <a:lnTo>
                          <a:pt x="394" y="2201"/>
                        </a:lnTo>
                        <a:lnTo>
                          <a:pt x="401" y="2199"/>
                        </a:lnTo>
                        <a:lnTo>
                          <a:pt x="409" y="2199"/>
                        </a:lnTo>
                        <a:lnTo>
                          <a:pt x="415" y="2197"/>
                        </a:lnTo>
                        <a:lnTo>
                          <a:pt x="422" y="2196"/>
                        </a:lnTo>
                        <a:lnTo>
                          <a:pt x="432" y="2196"/>
                        </a:lnTo>
                        <a:lnTo>
                          <a:pt x="439" y="2194"/>
                        </a:lnTo>
                        <a:lnTo>
                          <a:pt x="447" y="2192"/>
                        </a:lnTo>
                        <a:lnTo>
                          <a:pt x="455" y="2190"/>
                        </a:lnTo>
                        <a:lnTo>
                          <a:pt x="462" y="2188"/>
                        </a:lnTo>
                        <a:lnTo>
                          <a:pt x="470" y="2188"/>
                        </a:lnTo>
                        <a:lnTo>
                          <a:pt x="476" y="2184"/>
                        </a:lnTo>
                        <a:lnTo>
                          <a:pt x="483" y="2182"/>
                        </a:lnTo>
                        <a:lnTo>
                          <a:pt x="491" y="2180"/>
                        </a:lnTo>
                        <a:lnTo>
                          <a:pt x="498" y="2175"/>
                        </a:lnTo>
                        <a:lnTo>
                          <a:pt x="504" y="2173"/>
                        </a:lnTo>
                        <a:lnTo>
                          <a:pt x="512" y="2169"/>
                        </a:lnTo>
                        <a:lnTo>
                          <a:pt x="517" y="2165"/>
                        </a:lnTo>
                        <a:lnTo>
                          <a:pt x="525" y="2161"/>
                        </a:lnTo>
                        <a:lnTo>
                          <a:pt x="531" y="2158"/>
                        </a:lnTo>
                        <a:lnTo>
                          <a:pt x="536" y="2154"/>
                        </a:lnTo>
                        <a:lnTo>
                          <a:pt x="542" y="2150"/>
                        </a:lnTo>
                        <a:lnTo>
                          <a:pt x="550" y="2146"/>
                        </a:lnTo>
                        <a:lnTo>
                          <a:pt x="555" y="2142"/>
                        </a:lnTo>
                        <a:lnTo>
                          <a:pt x="559" y="2137"/>
                        </a:lnTo>
                        <a:lnTo>
                          <a:pt x="565" y="2133"/>
                        </a:lnTo>
                        <a:lnTo>
                          <a:pt x="571" y="2129"/>
                        </a:lnTo>
                        <a:lnTo>
                          <a:pt x="576" y="2123"/>
                        </a:lnTo>
                        <a:lnTo>
                          <a:pt x="582" y="2120"/>
                        </a:lnTo>
                        <a:lnTo>
                          <a:pt x="588" y="2114"/>
                        </a:lnTo>
                        <a:lnTo>
                          <a:pt x="592" y="2110"/>
                        </a:lnTo>
                        <a:lnTo>
                          <a:pt x="595" y="2106"/>
                        </a:lnTo>
                        <a:lnTo>
                          <a:pt x="601" y="2101"/>
                        </a:lnTo>
                        <a:lnTo>
                          <a:pt x="605" y="2095"/>
                        </a:lnTo>
                        <a:lnTo>
                          <a:pt x="611" y="2091"/>
                        </a:lnTo>
                        <a:lnTo>
                          <a:pt x="614" y="2085"/>
                        </a:lnTo>
                        <a:lnTo>
                          <a:pt x="618" y="2080"/>
                        </a:lnTo>
                        <a:lnTo>
                          <a:pt x="624" y="2076"/>
                        </a:lnTo>
                        <a:lnTo>
                          <a:pt x="628" y="2070"/>
                        </a:lnTo>
                        <a:lnTo>
                          <a:pt x="632" y="2064"/>
                        </a:lnTo>
                        <a:lnTo>
                          <a:pt x="635" y="2059"/>
                        </a:lnTo>
                        <a:lnTo>
                          <a:pt x="637" y="2055"/>
                        </a:lnTo>
                        <a:lnTo>
                          <a:pt x="643" y="2049"/>
                        </a:lnTo>
                        <a:lnTo>
                          <a:pt x="645" y="2043"/>
                        </a:lnTo>
                        <a:lnTo>
                          <a:pt x="649" y="2040"/>
                        </a:lnTo>
                        <a:lnTo>
                          <a:pt x="652" y="2034"/>
                        </a:lnTo>
                        <a:lnTo>
                          <a:pt x="654" y="2030"/>
                        </a:lnTo>
                        <a:lnTo>
                          <a:pt x="658" y="2024"/>
                        </a:lnTo>
                        <a:lnTo>
                          <a:pt x="660" y="2021"/>
                        </a:lnTo>
                        <a:lnTo>
                          <a:pt x="664" y="2015"/>
                        </a:lnTo>
                        <a:lnTo>
                          <a:pt x="666" y="2011"/>
                        </a:lnTo>
                        <a:lnTo>
                          <a:pt x="668" y="2005"/>
                        </a:lnTo>
                        <a:lnTo>
                          <a:pt x="672" y="2002"/>
                        </a:lnTo>
                        <a:lnTo>
                          <a:pt x="673" y="1998"/>
                        </a:lnTo>
                        <a:lnTo>
                          <a:pt x="675" y="1992"/>
                        </a:lnTo>
                        <a:lnTo>
                          <a:pt x="677" y="1986"/>
                        </a:lnTo>
                        <a:lnTo>
                          <a:pt x="679" y="1983"/>
                        </a:lnTo>
                        <a:lnTo>
                          <a:pt x="681" y="1979"/>
                        </a:lnTo>
                        <a:lnTo>
                          <a:pt x="683" y="1975"/>
                        </a:lnTo>
                        <a:lnTo>
                          <a:pt x="685" y="1971"/>
                        </a:lnTo>
                        <a:lnTo>
                          <a:pt x="687" y="1969"/>
                        </a:lnTo>
                        <a:lnTo>
                          <a:pt x="689" y="1964"/>
                        </a:lnTo>
                        <a:lnTo>
                          <a:pt x="691" y="1962"/>
                        </a:lnTo>
                        <a:lnTo>
                          <a:pt x="692" y="1958"/>
                        </a:lnTo>
                        <a:lnTo>
                          <a:pt x="692" y="1954"/>
                        </a:lnTo>
                        <a:lnTo>
                          <a:pt x="692" y="1952"/>
                        </a:lnTo>
                        <a:lnTo>
                          <a:pt x="694" y="1950"/>
                        </a:lnTo>
                        <a:lnTo>
                          <a:pt x="696" y="1945"/>
                        </a:lnTo>
                        <a:lnTo>
                          <a:pt x="698" y="1941"/>
                        </a:lnTo>
                        <a:lnTo>
                          <a:pt x="700" y="1937"/>
                        </a:lnTo>
                        <a:lnTo>
                          <a:pt x="700" y="1935"/>
                        </a:lnTo>
                        <a:lnTo>
                          <a:pt x="700" y="1933"/>
                        </a:lnTo>
                        <a:lnTo>
                          <a:pt x="702" y="1933"/>
                        </a:lnTo>
                        <a:lnTo>
                          <a:pt x="740" y="1943"/>
                        </a:lnTo>
                        <a:lnTo>
                          <a:pt x="740" y="1943"/>
                        </a:lnTo>
                        <a:lnTo>
                          <a:pt x="738" y="1945"/>
                        </a:lnTo>
                        <a:lnTo>
                          <a:pt x="738" y="1947"/>
                        </a:lnTo>
                        <a:lnTo>
                          <a:pt x="738" y="1950"/>
                        </a:lnTo>
                        <a:lnTo>
                          <a:pt x="738" y="1954"/>
                        </a:lnTo>
                        <a:lnTo>
                          <a:pt x="738" y="1958"/>
                        </a:lnTo>
                        <a:lnTo>
                          <a:pt x="736" y="1962"/>
                        </a:lnTo>
                        <a:lnTo>
                          <a:pt x="736" y="1964"/>
                        </a:lnTo>
                        <a:lnTo>
                          <a:pt x="736" y="1967"/>
                        </a:lnTo>
                        <a:lnTo>
                          <a:pt x="736" y="1971"/>
                        </a:lnTo>
                        <a:lnTo>
                          <a:pt x="736" y="1975"/>
                        </a:lnTo>
                        <a:lnTo>
                          <a:pt x="736" y="1979"/>
                        </a:lnTo>
                        <a:lnTo>
                          <a:pt x="736" y="1983"/>
                        </a:lnTo>
                        <a:lnTo>
                          <a:pt x="736" y="1985"/>
                        </a:lnTo>
                        <a:lnTo>
                          <a:pt x="736" y="1990"/>
                        </a:lnTo>
                        <a:lnTo>
                          <a:pt x="736" y="1994"/>
                        </a:lnTo>
                        <a:lnTo>
                          <a:pt x="736" y="1998"/>
                        </a:lnTo>
                        <a:lnTo>
                          <a:pt x="736" y="2004"/>
                        </a:lnTo>
                        <a:lnTo>
                          <a:pt x="736" y="2007"/>
                        </a:lnTo>
                        <a:lnTo>
                          <a:pt x="736" y="2013"/>
                        </a:lnTo>
                        <a:lnTo>
                          <a:pt x="736" y="2015"/>
                        </a:lnTo>
                        <a:lnTo>
                          <a:pt x="736" y="2021"/>
                        </a:lnTo>
                        <a:lnTo>
                          <a:pt x="736" y="2026"/>
                        </a:lnTo>
                        <a:lnTo>
                          <a:pt x="736" y="2030"/>
                        </a:lnTo>
                        <a:lnTo>
                          <a:pt x="736" y="2036"/>
                        </a:lnTo>
                        <a:lnTo>
                          <a:pt x="736" y="2042"/>
                        </a:lnTo>
                        <a:lnTo>
                          <a:pt x="736" y="2047"/>
                        </a:lnTo>
                        <a:lnTo>
                          <a:pt x="738" y="2051"/>
                        </a:lnTo>
                        <a:lnTo>
                          <a:pt x="738" y="2057"/>
                        </a:lnTo>
                        <a:lnTo>
                          <a:pt x="738" y="2062"/>
                        </a:lnTo>
                        <a:lnTo>
                          <a:pt x="740" y="2066"/>
                        </a:lnTo>
                        <a:lnTo>
                          <a:pt x="740" y="2072"/>
                        </a:lnTo>
                        <a:lnTo>
                          <a:pt x="742" y="2078"/>
                        </a:lnTo>
                        <a:lnTo>
                          <a:pt x="744" y="2083"/>
                        </a:lnTo>
                        <a:lnTo>
                          <a:pt x="744" y="2091"/>
                        </a:lnTo>
                        <a:lnTo>
                          <a:pt x="746" y="2095"/>
                        </a:lnTo>
                        <a:lnTo>
                          <a:pt x="748" y="2101"/>
                        </a:lnTo>
                        <a:lnTo>
                          <a:pt x="748" y="2106"/>
                        </a:lnTo>
                        <a:lnTo>
                          <a:pt x="751" y="2110"/>
                        </a:lnTo>
                        <a:lnTo>
                          <a:pt x="753" y="2118"/>
                        </a:lnTo>
                        <a:lnTo>
                          <a:pt x="753" y="2123"/>
                        </a:lnTo>
                        <a:lnTo>
                          <a:pt x="757" y="2129"/>
                        </a:lnTo>
                        <a:lnTo>
                          <a:pt x="759" y="2135"/>
                        </a:lnTo>
                        <a:lnTo>
                          <a:pt x="761" y="2139"/>
                        </a:lnTo>
                        <a:lnTo>
                          <a:pt x="765" y="2144"/>
                        </a:lnTo>
                        <a:lnTo>
                          <a:pt x="767" y="2150"/>
                        </a:lnTo>
                        <a:lnTo>
                          <a:pt x="769" y="2156"/>
                        </a:lnTo>
                        <a:lnTo>
                          <a:pt x="772" y="2159"/>
                        </a:lnTo>
                        <a:lnTo>
                          <a:pt x="776" y="2165"/>
                        </a:lnTo>
                        <a:lnTo>
                          <a:pt x="780" y="2171"/>
                        </a:lnTo>
                        <a:lnTo>
                          <a:pt x="782" y="2175"/>
                        </a:lnTo>
                        <a:lnTo>
                          <a:pt x="786" y="2180"/>
                        </a:lnTo>
                        <a:lnTo>
                          <a:pt x="789" y="2186"/>
                        </a:lnTo>
                        <a:lnTo>
                          <a:pt x="795" y="2190"/>
                        </a:lnTo>
                        <a:lnTo>
                          <a:pt x="799" y="2196"/>
                        </a:lnTo>
                        <a:lnTo>
                          <a:pt x="805" y="2201"/>
                        </a:lnTo>
                        <a:lnTo>
                          <a:pt x="808" y="2205"/>
                        </a:lnTo>
                        <a:lnTo>
                          <a:pt x="814" y="2209"/>
                        </a:lnTo>
                        <a:lnTo>
                          <a:pt x="818" y="2213"/>
                        </a:lnTo>
                        <a:lnTo>
                          <a:pt x="824" y="2216"/>
                        </a:lnTo>
                        <a:lnTo>
                          <a:pt x="828" y="2222"/>
                        </a:lnTo>
                        <a:lnTo>
                          <a:pt x="833" y="2224"/>
                        </a:lnTo>
                        <a:lnTo>
                          <a:pt x="839" y="2228"/>
                        </a:lnTo>
                        <a:lnTo>
                          <a:pt x="845" y="2232"/>
                        </a:lnTo>
                        <a:lnTo>
                          <a:pt x="848" y="2235"/>
                        </a:lnTo>
                        <a:lnTo>
                          <a:pt x="854" y="2239"/>
                        </a:lnTo>
                        <a:lnTo>
                          <a:pt x="858" y="2243"/>
                        </a:lnTo>
                        <a:lnTo>
                          <a:pt x="864" y="2245"/>
                        </a:lnTo>
                        <a:lnTo>
                          <a:pt x="867" y="2249"/>
                        </a:lnTo>
                        <a:lnTo>
                          <a:pt x="873" y="2253"/>
                        </a:lnTo>
                        <a:lnTo>
                          <a:pt x="877" y="2256"/>
                        </a:lnTo>
                        <a:lnTo>
                          <a:pt x="883" y="2258"/>
                        </a:lnTo>
                        <a:lnTo>
                          <a:pt x="890" y="2260"/>
                        </a:lnTo>
                        <a:lnTo>
                          <a:pt x="896" y="2264"/>
                        </a:lnTo>
                        <a:lnTo>
                          <a:pt x="900" y="2266"/>
                        </a:lnTo>
                        <a:lnTo>
                          <a:pt x="904" y="2268"/>
                        </a:lnTo>
                        <a:lnTo>
                          <a:pt x="907" y="2270"/>
                        </a:lnTo>
                        <a:lnTo>
                          <a:pt x="913" y="2273"/>
                        </a:lnTo>
                        <a:lnTo>
                          <a:pt x="919" y="2275"/>
                        </a:lnTo>
                        <a:lnTo>
                          <a:pt x="925" y="2277"/>
                        </a:lnTo>
                        <a:lnTo>
                          <a:pt x="928" y="2279"/>
                        </a:lnTo>
                        <a:lnTo>
                          <a:pt x="934" y="2281"/>
                        </a:lnTo>
                        <a:lnTo>
                          <a:pt x="938" y="2283"/>
                        </a:lnTo>
                        <a:lnTo>
                          <a:pt x="942" y="2285"/>
                        </a:lnTo>
                        <a:lnTo>
                          <a:pt x="947" y="2287"/>
                        </a:lnTo>
                        <a:lnTo>
                          <a:pt x="951" y="2289"/>
                        </a:lnTo>
                        <a:lnTo>
                          <a:pt x="955" y="2289"/>
                        </a:lnTo>
                        <a:lnTo>
                          <a:pt x="961" y="2291"/>
                        </a:lnTo>
                        <a:lnTo>
                          <a:pt x="964" y="2291"/>
                        </a:lnTo>
                        <a:lnTo>
                          <a:pt x="968" y="2294"/>
                        </a:lnTo>
                        <a:lnTo>
                          <a:pt x="972" y="2294"/>
                        </a:lnTo>
                        <a:lnTo>
                          <a:pt x="978" y="2294"/>
                        </a:lnTo>
                        <a:lnTo>
                          <a:pt x="982" y="2296"/>
                        </a:lnTo>
                        <a:lnTo>
                          <a:pt x="985" y="2296"/>
                        </a:lnTo>
                        <a:lnTo>
                          <a:pt x="989" y="2296"/>
                        </a:lnTo>
                        <a:lnTo>
                          <a:pt x="993" y="2298"/>
                        </a:lnTo>
                        <a:lnTo>
                          <a:pt x="997" y="2298"/>
                        </a:lnTo>
                        <a:lnTo>
                          <a:pt x="1001" y="2298"/>
                        </a:lnTo>
                        <a:lnTo>
                          <a:pt x="1004" y="2298"/>
                        </a:lnTo>
                        <a:lnTo>
                          <a:pt x="1008" y="2300"/>
                        </a:lnTo>
                        <a:lnTo>
                          <a:pt x="1010" y="2300"/>
                        </a:lnTo>
                        <a:lnTo>
                          <a:pt x="1014" y="2300"/>
                        </a:lnTo>
                        <a:lnTo>
                          <a:pt x="1016" y="2300"/>
                        </a:lnTo>
                        <a:lnTo>
                          <a:pt x="1020" y="2300"/>
                        </a:lnTo>
                        <a:lnTo>
                          <a:pt x="1022" y="2300"/>
                        </a:lnTo>
                        <a:lnTo>
                          <a:pt x="1025" y="2302"/>
                        </a:lnTo>
                        <a:lnTo>
                          <a:pt x="1029" y="2300"/>
                        </a:lnTo>
                        <a:lnTo>
                          <a:pt x="1035" y="2300"/>
                        </a:lnTo>
                        <a:lnTo>
                          <a:pt x="1039" y="2298"/>
                        </a:lnTo>
                        <a:lnTo>
                          <a:pt x="1042" y="2298"/>
                        </a:lnTo>
                        <a:lnTo>
                          <a:pt x="1044" y="2296"/>
                        </a:lnTo>
                        <a:lnTo>
                          <a:pt x="1048" y="2296"/>
                        </a:lnTo>
                        <a:lnTo>
                          <a:pt x="1048" y="2294"/>
                        </a:lnTo>
                        <a:lnTo>
                          <a:pt x="1050" y="2294"/>
                        </a:lnTo>
                        <a:lnTo>
                          <a:pt x="1246" y="1334"/>
                        </a:lnTo>
                        <a:lnTo>
                          <a:pt x="1246" y="1333"/>
                        </a:lnTo>
                        <a:lnTo>
                          <a:pt x="1248" y="1331"/>
                        </a:lnTo>
                        <a:lnTo>
                          <a:pt x="1250" y="1327"/>
                        </a:lnTo>
                        <a:lnTo>
                          <a:pt x="1252" y="1325"/>
                        </a:lnTo>
                        <a:lnTo>
                          <a:pt x="1252" y="1323"/>
                        </a:lnTo>
                        <a:lnTo>
                          <a:pt x="1254" y="1319"/>
                        </a:lnTo>
                        <a:lnTo>
                          <a:pt x="1256" y="1315"/>
                        </a:lnTo>
                        <a:lnTo>
                          <a:pt x="1259" y="1312"/>
                        </a:lnTo>
                        <a:lnTo>
                          <a:pt x="1259" y="1306"/>
                        </a:lnTo>
                        <a:lnTo>
                          <a:pt x="1263" y="1302"/>
                        </a:lnTo>
                        <a:lnTo>
                          <a:pt x="1265" y="1296"/>
                        </a:lnTo>
                        <a:lnTo>
                          <a:pt x="1269" y="1293"/>
                        </a:lnTo>
                        <a:lnTo>
                          <a:pt x="1271" y="1285"/>
                        </a:lnTo>
                        <a:lnTo>
                          <a:pt x="1275" y="1281"/>
                        </a:lnTo>
                        <a:lnTo>
                          <a:pt x="1276" y="1274"/>
                        </a:lnTo>
                        <a:lnTo>
                          <a:pt x="1280" y="1266"/>
                        </a:lnTo>
                        <a:lnTo>
                          <a:pt x="1284" y="1258"/>
                        </a:lnTo>
                        <a:lnTo>
                          <a:pt x="1288" y="1249"/>
                        </a:lnTo>
                        <a:lnTo>
                          <a:pt x="1290" y="1241"/>
                        </a:lnTo>
                        <a:lnTo>
                          <a:pt x="1294" y="1234"/>
                        </a:lnTo>
                        <a:lnTo>
                          <a:pt x="1297" y="1224"/>
                        </a:lnTo>
                        <a:lnTo>
                          <a:pt x="1301" y="1217"/>
                        </a:lnTo>
                        <a:lnTo>
                          <a:pt x="1305" y="1207"/>
                        </a:lnTo>
                        <a:lnTo>
                          <a:pt x="1309" y="1198"/>
                        </a:lnTo>
                        <a:lnTo>
                          <a:pt x="1313" y="1188"/>
                        </a:lnTo>
                        <a:lnTo>
                          <a:pt x="1316" y="1177"/>
                        </a:lnTo>
                        <a:lnTo>
                          <a:pt x="1320" y="1165"/>
                        </a:lnTo>
                        <a:lnTo>
                          <a:pt x="1324" y="1154"/>
                        </a:lnTo>
                        <a:lnTo>
                          <a:pt x="1330" y="1144"/>
                        </a:lnTo>
                        <a:lnTo>
                          <a:pt x="1334" y="1133"/>
                        </a:lnTo>
                        <a:lnTo>
                          <a:pt x="1337" y="1122"/>
                        </a:lnTo>
                        <a:lnTo>
                          <a:pt x="1339" y="1108"/>
                        </a:lnTo>
                        <a:lnTo>
                          <a:pt x="1345" y="1097"/>
                        </a:lnTo>
                        <a:lnTo>
                          <a:pt x="1349" y="1084"/>
                        </a:lnTo>
                        <a:lnTo>
                          <a:pt x="1353" y="1070"/>
                        </a:lnTo>
                        <a:lnTo>
                          <a:pt x="1354" y="1059"/>
                        </a:lnTo>
                        <a:lnTo>
                          <a:pt x="1358" y="1044"/>
                        </a:lnTo>
                        <a:lnTo>
                          <a:pt x="1362" y="1032"/>
                        </a:lnTo>
                        <a:lnTo>
                          <a:pt x="1366" y="1017"/>
                        </a:lnTo>
                        <a:lnTo>
                          <a:pt x="1370" y="1004"/>
                        </a:lnTo>
                        <a:lnTo>
                          <a:pt x="1372" y="988"/>
                        </a:lnTo>
                        <a:lnTo>
                          <a:pt x="1375" y="975"/>
                        </a:lnTo>
                        <a:lnTo>
                          <a:pt x="1377" y="960"/>
                        </a:lnTo>
                        <a:lnTo>
                          <a:pt x="1381" y="947"/>
                        </a:lnTo>
                        <a:lnTo>
                          <a:pt x="1383" y="931"/>
                        </a:lnTo>
                        <a:lnTo>
                          <a:pt x="1387" y="916"/>
                        </a:lnTo>
                        <a:lnTo>
                          <a:pt x="1389" y="901"/>
                        </a:lnTo>
                        <a:lnTo>
                          <a:pt x="1391" y="886"/>
                        </a:lnTo>
                        <a:lnTo>
                          <a:pt x="1392" y="871"/>
                        </a:lnTo>
                        <a:lnTo>
                          <a:pt x="1394" y="855"/>
                        </a:lnTo>
                        <a:lnTo>
                          <a:pt x="1396" y="838"/>
                        </a:lnTo>
                        <a:lnTo>
                          <a:pt x="1398" y="823"/>
                        </a:lnTo>
                        <a:lnTo>
                          <a:pt x="1398" y="806"/>
                        </a:lnTo>
                        <a:lnTo>
                          <a:pt x="1400" y="791"/>
                        </a:lnTo>
                        <a:lnTo>
                          <a:pt x="1402" y="774"/>
                        </a:lnTo>
                        <a:lnTo>
                          <a:pt x="1402" y="757"/>
                        </a:lnTo>
                        <a:lnTo>
                          <a:pt x="1402" y="741"/>
                        </a:lnTo>
                        <a:lnTo>
                          <a:pt x="1402" y="724"/>
                        </a:lnTo>
                        <a:lnTo>
                          <a:pt x="1402" y="705"/>
                        </a:lnTo>
                        <a:lnTo>
                          <a:pt x="1402" y="690"/>
                        </a:lnTo>
                        <a:lnTo>
                          <a:pt x="1400" y="673"/>
                        </a:lnTo>
                        <a:lnTo>
                          <a:pt x="1400" y="656"/>
                        </a:lnTo>
                        <a:lnTo>
                          <a:pt x="1398" y="654"/>
                        </a:lnTo>
                        <a:lnTo>
                          <a:pt x="1398" y="652"/>
                        </a:lnTo>
                        <a:lnTo>
                          <a:pt x="1398" y="648"/>
                        </a:lnTo>
                        <a:lnTo>
                          <a:pt x="1398" y="644"/>
                        </a:lnTo>
                        <a:lnTo>
                          <a:pt x="1398" y="643"/>
                        </a:lnTo>
                        <a:lnTo>
                          <a:pt x="1398" y="639"/>
                        </a:lnTo>
                        <a:lnTo>
                          <a:pt x="1396" y="637"/>
                        </a:lnTo>
                        <a:lnTo>
                          <a:pt x="1396" y="633"/>
                        </a:lnTo>
                        <a:lnTo>
                          <a:pt x="1396" y="631"/>
                        </a:lnTo>
                        <a:lnTo>
                          <a:pt x="1396" y="627"/>
                        </a:lnTo>
                        <a:lnTo>
                          <a:pt x="1396" y="623"/>
                        </a:lnTo>
                        <a:lnTo>
                          <a:pt x="1394" y="620"/>
                        </a:lnTo>
                        <a:lnTo>
                          <a:pt x="1394" y="618"/>
                        </a:lnTo>
                        <a:lnTo>
                          <a:pt x="1394" y="616"/>
                        </a:lnTo>
                        <a:lnTo>
                          <a:pt x="1392" y="612"/>
                        </a:lnTo>
                        <a:lnTo>
                          <a:pt x="1392" y="610"/>
                        </a:lnTo>
                        <a:lnTo>
                          <a:pt x="1392" y="608"/>
                        </a:lnTo>
                        <a:lnTo>
                          <a:pt x="1391" y="604"/>
                        </a:lnTo>
                        <a:lnTo>
                          <a:pt x="1391" y="603"/>
                        </a:lnTo>
                        <a:lnTo>
                          <a:pt x="1391" y="599"/>
                        </a:lnTo>
                        <a:lnTo>
                          <a:pt x="1389" y="597"/>
                        </a:lnTo>
                        <a:lnTo>
                          <a:pt x="1389" y="593"/>
                        </a:lnTo>
                        <a:lnTo>
                          <a:pt x="1389" y="589"/>
                        </a:lnTo>
                        <a:lnTo>
                          <a:pt x="1389" y="587"/>
                        </a:lnTo>
                        <a:lnTo>
                          <a:pt x="1387" y="585"/>
                        </a:lnTo>
                        <a:lnTo>
                          <a:pt x="1385" y="582"/>
                        </a:lnTo>
                        <a:lnTo>
                          <a:pt x="1385" y="580"/>
                        </a:lnTo>
                        <a:lnTo>
                          <a:pt x="1383" y="578"/>
                        </a:lnTo>
                        <a:lnTo>
                          <a:pt x="1383" y="572"/>
                        </a:lnTo>
                        <a:lnTo>
                          <a:pt x="1381" y="568"/>
                        </a:lnTo>
                        <a:lnTo>
                          <a:pt x="1377" y="563"/>
                        </a:lnTo>
                        <a:lnTo>
                          <a:pt x="1375" y="557"/>
                        </a:lnTo>
                        <a:lnTo>
                          <a:pt x="1373" y="553"/>
                        </a:lnTo>
                        <a:lnTo>
                          <a:pt x="1370" y="547"/>
                        </a:lnTo>
                        <a:lnTo>
                          <a:pt x="1366" y="544"/>
                        </a:lnTo>
                        <a:lnTo>
                          <a:pt x="1364" y="540"/>
                        </a:lnTo>
                        <a:lnTo>
                          <a:pt x="1360" y="536"/>
                        </a:lnTo>
                        <a:lnTo>
                          <a:pt x="1356" y="532"/>
                        </a:lnTo>
                        <a:lnTo>
                          <a:pt x="1353" y="528"/>
                        </a:lnTo>
                        <a:lnTo>
                          <a:pt x="1349" y="525"/>
                        </a:lnTo>
                        <a:lnTo>
                          <a:pt x="1345" y="523"/>
                        </a:lnTo>
                        <a:lnTo>
                          <a:pt x="1339" y="521"/>
                        </a:lnTo>
                        <a:lnTo>
                          <a:pt x="1335" y="517"/>
                        </a:lnTo>
                        <a:lnTo>
                          <a:pt x="1332" y="515"/>
                        </a:lnTo>
                        <a:lnTo>
                          <a:pt x="1326" y="515"/>
                        </a:lnTo>
                        <a:lnTo>
                          <a:pt x="1322" y="513"/>
                        </a:lnTo>
                        <a:lnTo>
                          <a:pt x="1318" y="511"/>
                        </a:lnTo>
                        <a:lnTo>
                          <a:pt x="1316" y="511"/>
                        </a:lnTo>
                        <a:lnTo>
                          <a:pt x="1313" y="511"/>
                        </a:lnTo>
                        <a:lnTo>
                          <a:pt x="1311" y="511"/>
                        </a:lnTo>
                        <a:lnTo>
                          <a:pt x="1309" y="509"/>
                        </a:lnTo>
                        <a:lnTo>
                          <a:pt x="1305" y="509"/>
                        </a:lnTo>
                        <a:lnTo>
                          <a:pt x="1303" y="509"/>
                        </a:lnTo>
                        <a:lnTo>
                          <a:pt x="1301" y="509"/>
                        </a:lnTo>
                        <a:lnTo>
                          <a:pt x="1297" y="509"/>
                        </a:lnTo>
                        <a:lnTo>
                          <a:pt x="1295" y="509"/>
                        </a:lnTo>
                        <a:lnTo>
                          <a:pt x="1292" y="509"/>
                        </a:lnTo>
                        <a:lnTo>
                          <a:pt x="1290" y="509"/>
                        </a:lnTo>
                        <a:lnTo>
                          <a:pt x="1284" y="509"/>
                        </a:lnTo>
                        <a:lnTo>
                          <a:pt x="1280" y="509"/>
                        </a:lnTo>
                        <a:lnTo>
                          <a:pt x="1275" y="509"/>
                        </a:lnTo>
                        <a:lnTo>
                          <a:pt x="1269" y="509"/>
                        </a:lnTo>
                        <a:lnTo>
                          <a:pt x="1265" y="509"/>
                        </a:lnTo>
                        <a:lnTo>
                          <a:pt x="1259" y="509"/>
                        </a:lnTo>
                        <a:lnTo>
                          <a:pt x="1256" y="511"/>
                        </a:lnTo>
                        <a:lnTo>
                          <a:pt x="1252" y="511"/>
                        </a:lnTo>
                        <a:lnTo>
                          <a:pt x="1246" y="515"/>
                        </a:lnTo>
                        <a:lnTo>
                          <a:pt x="1242" y="515"/>
                        </a:lnTo>
                        <a:lnTo>
                          <a:pt x="1238" y="517"/>
                        </a:lnTo>
                        <a:lnTo>
                          <a:pt x="1235" y="521"/>
                        </a:lnTo>
                        <a:lnTo>
                          <a:pt x="1231" y="523"/>
                        </a:lnTo>
                        <a:lnTo>
                          <a:pt x="1229" y="525"/>
                        </a:lnTo>
                        <a:lnTo>
                          <a:pt x="1225" y="527"/>
                        </a:lnTo>
                        <a:lnTo>
                          <a:pt x="1221" y="530"/>
                        </a:lnTo>
                        <a:lnTo>
                          <a:pt x="1219" y="532"/>
                        </a:lnTo>
                        <a:lnTo>
                          <a:pt x="1216" y="538"/>
                        </a:lnTo>
                        <a:lnTo>
                          <a:pt x="1214" y="542"/>
                        </a:lnTo>
                        <a:lnTo>
                          <a:pt x="1212" y="546"/>
                        </a:lnTo>
                        <a:lnTo>
                          <a:pt x="1210" y="549"/>
                        </a:lnTo>
                        <a:lnTo>
                          <a:pt x="1208" y="555"/>
                        </a:lnTo>
                        <a:lnTo>
                          <a:pt x="1208" y="557"/>
                        </a:lnTo>
                        <a:lnTo>
                          <a:pt x="1206" y="559"/>
                        </a:lnTo>
                        <a:lnTo>
                          <a:pt x="1204" y="561"/>
                        </a:lnTo>
                        <a:lnTo>
                          <a:pt x="1204" y="565"/>
                        </a:lnTo>
                        <a:lnTo>
                          <a:pt x="1204" y="566"/>
                        </a:lnTo>
                        <a:lnTo>
                          <a:pt x="1204" y="570"/>
                        </a:lnTo>
                        <a:lnTo>
                          <a:pt x="1204" y="572"/>
                        </a:lnTo>
                        <a:lnTo>
                          <a:pt x="1204" y="576"/>
                        </a:lnTo>
                        <a:lnTo>
                          <a:pt x="1139" y="895"/>
                        </a:lnTo>
                        <a:lnTo>
                          <a:pt x="1136" y="893"/>
                        </a:lnTo>
                        <a:lnTo>
                          <a:pt x="1132" y="892"/>
                        </a:lnTo>
                        <a:lnTo>
                          <a:pt x="1126" y="888"/>
                        </a:lnTo>
                        <a:lnTo>
                          <a:pt x="1122" y="886"/>
                        </a:lnTo>
                        <a:lnTo>
                          <a:pt x="1117" y="884"/>
                        </a:lnTo>
                        <a:lnTo>
                          <a:pt x="1113" y="880"/>
                        </a:lnTo>
                        <a:lnTo>
                          <a:pt x="1107" y="878"/>
                        </a:lnTo>
                        <a:lnTo>
                          <a:pt x="1105" y="876"/>
                        </a:lnTo>
                        <a:lnTo>
                          <a:pt x="1227" y="316"/>
                        </a:lnTo>
                        <a:lnTo>
                          <a:pt x="1227" y="312"/>
                        </a:lnTo>
                        <a:lnTo>
                          <a:pt x="1227" y="308"/>
                        </a:lnTo>
                        <a:lnTo>
                          <a:pt x="1229" y="306"/>
                        </a:lnTo>
                        <a:lnTo>
                          <a:pt x="1229" y="304"/>
                        </a:lnTo>
                        <a:lnTo>
                          <a:pt x="1229" y="300"/>
                        </a:lnTo>
                        <a:lnTo>
                          <a:pt x="1229" y="298"/>
                        </a:lnTo>
                        <a:lnTo>
                          <a:pt x="1229" y="295"/>
                        </a:lnTo>
                        <a:lnTo>
                          <a:pt x="1229" y="293"/>
                        </a:lnTo>
                        <a:lnTo>
                          <a:pt x="1229" y="291"/>
                        </a:lnTo>
                        <a:lnTo>
                          <a:pt x="1229" y="287"/>
                        </a:lnTo>
                        <a:lnTo>
                          <a:pt x="1229" y="285"/>
                        </a:lnTo>
                        <a:lnTo>
                          <a:pt x="1229" y="283"/>
                        </a:lnTo>
                        <a:lnTo>
                          <a:pt x="1229" y="278"/>
                        </a:lnTo>
                        <a:lnTo>
                          <a:pt x="1227" y="272"/>
                        </a:lnTo>
                        <a:lnTo>
                          <a:pt x="1225" y="268"/>
                        </a:lnTo>
                        <a:lnTo>
                          <a:pt x="1225" y="262"/>
                        </a:lnTo>
                        <a:lnTo>
                          <a:pt x="1223" y="257"/>
                        </a:lnTo>
                        <a:lnTo>
                          <a:pt x="1221" y="253"/>
                        </a:lnTo>
                        <a:lnTo>
                          <a:pt x="1219" y="247"/>
                        </a:lnTo>
                        <a:lnTo>
                          <a:pt x="1217" y="243"/>
                        </a:lnTo>
                        <a:lnTo>
                          <a:pt x="1216" y="240"/>
                        </a:lnTo>
                        <a:lnTo>
                          <a:pt x="1214" y="236"/>
                        </a:lnTo>
                        <a:lnTo>
                          <a:pt x="1210" y="232"/>
                        </a:lnTo>
                        <a:lnTo>
                          <a:pt x="1206" y="226"/>
                        </a:lnTo>
                        <a:lnTo>
                          <a:pt x="1202" y="222"/>
                        </a:lnTo>
                        <a:lnTo>
                          <a:pt x="1200" y="219"/>
                        </a:lnTo>
                        <a:lnTo>
                          <a:pt x="1197" y="215"/>
                        </a:lnTo>
                        <a:lnTo>
                          <a:pt x="1193" y="211"/>
                        </a:lnTo>
                        <a:lnTo>
                          <a:pt x="1189" y="207"/>
                        </a:lnTo>
                        <a:lnTo>
                          <a:pt x="1185" y="205"/>
                        </a:lnTo>
                        <a:lnTo>
                          <a:pt x="1179" y="203"/>
                        </a:lnTo>
                        <a:lnTo>
                          <a:pt x="1176" y="200"/>
                        </a:lnTo>
                        <a:lnTo>
                          <a:pt x="1172" y="198"/>
                        </a:lnTo>
                        <a:lnTo>
                          <a:pt x="1166" y="194"/>
                        </a:lnTo>
                        <a:lnTo>
                          <a:pt x="1160" y="192"/>
                        </a:lnTo>
                        <a:lnTo>
                          <a:pt x="1157" y="192"/>
                        </a:lnTo>
                        <a:lnTo>
                          <a:pt x="1151" y="190"/>
                        </a:lnTo>
                        <a:lnTo>
                          <a:pt x="1147" y="190"/>
                        </a:lnTo>
                        <a:lnTo>
                          <a:pt x="1143" y="188"/>
                        </a:lnTo>
                        <a:lnTo>
                          <a:pt x="1141" y="186"/>
                        </a:lnTo>
                        <a:lnTo>
                          <a:pt x="1138" y="186"/>
                        </a:lnTo>
                        <a:lnTo>
                          <a:pt x="1136" y="186"/>
                        </a:lnTo>
                        <a:lnTo>
                          <a:pt x="1134" y="186"/>
                        </a:lnTo>
                        <a:lnTo>
                          <a:pt x="1130" y="186"/>
                        </a:lnTo>
                        <a:lnTo>
                          <a:pt x="1128" y="186"/>
                        </a:lnTo>
                        <a:lnTo>
                          <a:pt x="1124" y="186"/>
                        </a:lnTo>
                        <a:lnTo>
                          <a:pt x="1122" y="186"/>
                        </a:lnTo>
                        <a:lnTo>
                          <a:pt x="1120" y="186"/>
                        </a:lnTo>
                        <a:lnTo>
                          <a:pt x="1117" y="186"/>
                        </a:lnTo>
                        <a:lnTo>
                          <a:pt x="1115" y="186"/>
                        </a:lnTo>
                        <a:lnTo>
                          <a:pt x="1109" y="186"/>
                        </a:lnTo>
                        <a:lnTo>
                          <a:pt x="1105" y="188"/>
                        </a:lnTo>
                        <a:lnTo>
                          <a:pt x="1100" y="188"/>
                        </a:lnTo>
                        <a:lnTo>
                          <a:pt x="1094" y="190"/>
                        </a:lnTo>
                        <a:lnTo>
                          <a:pt x="1090" y="192"/>
                        </a:lnTo>
                        <a:lnTo>
                          <a:pt x="1086" y="192"/>
                        </a:lnTo>
                        <a:lnTo>
                          <a:pt x="1081" y="194"/>
                        </a:lnTo>
                        <a:lnTo>
                          <a:pt x="1077" y="198"/>
                        </a:lnTo>
                        <a:lnTo>
                          <a:pt x="1073" y="200"/>
                        </a:lnTo>
                        <a:lnTo>
                          <a:pt x="1067" y="203"/>
                        </a:lnTo>
                        <a:lnTo>
                          <a:pt x="1063" y="205"/>
                        </a:lnTo>
                        <a:lnTo>
                          <a:pt x="1058" y="207"/>
                        </a:lnTo>
                        <a:lnTo>
                          <a:pt x="1054" y="211"/>
                        </a:lnTo>
                        <a:lnTo>
                          <a:pt x="1050" y="215"/>
                        </a:lnTo>
                        <a:lnTo>
                          <a:pt x="1048" y="219"/>
                        </a:lnTo>
                        <a:lnTo>
                          <a:pt x="1044" y="222"/>
                        </a:lnTo>
                        <a:lnTo>
                          <a:pt x="1041" y="226"/>
                        </a:lnTo>
                        <a:lnTo>
                          <a:pt x="1039" y="232"/>
                        </a:lnTo>
                        <a:lnTo>
                          <a:pt x="1035" y="234"/>
                        </a:lnTo>
                        <a:lnTo>
                          <a:pt x="1033" y="240"/>
                        </a:lnTo>
                        <a:lnTo>
                          <a:pt x="1029" y="243"/>
                        </a:lnTo>
                        <a:lnTo>
                          <a:pt x="1027" y="249"/>
                        </a:lnTo>
                        <a:lnTo>
                          <a:pt x="1025" y="253"/>
                        </a:lnTo>
                        <a:lnTo>
                          <a:pt x="1023" y="259"/>
                        </a:lnTo>
                        <a:lnTo>
                          <a:pt x="1022" y="260"/>
                        </a:lnTo>
                        <a:lnTo>
                          <a:pt x="1022" y="264"/>
                        </a:lnTo>
                        <a:lnTo>
                          <a:pt x="1022" y="266"/>
                        </a:lnTo>
                        <a:lnTo>
                          <a:pt x="1022" y="270"/>
                        </a:lnTo>
                        <a:lnTo>
                          <a:pt x="919" y="730"/>
                        </a:lnTo>
                        <a:lnTo>
                          <a:pt x="915" y="728"/>
                        </a:lnTo>
                        <a:lnTo>
                          <a:pt x="913" y="726"/>
                        </a:lnTo>
                        <a:lnTo>
                          <a:pt x="907" y="724"/>
                        </a:lnTo>
                        <a:lnTo>
                          <a:pt x="905" y="720"/>
                        </a:lnTo>
                        <a:lnTo>
                          <a:pt x="904" y="719"/>
                        </a:lnTo>
                        <a:lnTo>
                          <a:pt x="900" y="717"/>
                        </a:lnTo>
                        <a:lnTo>
                          <a:pt x="896" y="713"/>
                        </a:lnTo>
                        <a:lnTo>
                          <a:pt x="892" y="713"/>
                        </a:lnTo>
                        <a:lnTo>
                          <a:pt x="1022" y="129"/>
                        </a:lnTo>
                        <a:lnTo>
                          <a:pt x="1022" y="125"/>
                        </a:lnTo>
                        <a:lnTo>
                          <a:pt x="1022" y="124"/>
                        </a:lnTo>
                        <a:lnTo>
                          <a:pt x="1022" y="120"/>
                        </a:lnTo>
                        <a:lnTo>
                          <a:pt x="1022" y="118"/>
                        </a:lnTo>
                        <a:lnTo>
                          <a:pt x="1022" y="114"/>
                        </a:lnTo>
                        <a:lnTo>
                          <a:pt x="1022" y="112"/>
                        </a:lnTo>
                        <a:lnTo>
                          <a:pt x="1022" y="110"/>
                        </a:lnTo>
                        <a:lnTo>
                          <a:pt x="1022" y="106"/>
                        </a:lnTo>
                        <a:lnTo>
                          <a:pt x="1022" y="105"/>
                        </a:lnTo>
                        <a:lnTo>
                          <a:pt x="1022" y="103"/>
                        </a:lnTo>
                        <a:lnTo>
                          <a:pt x="1022" y="99"/>
                        </a:lnTo>
                        <a:lnTo>
                          <a:pt x="1022" y="97"/>
                        </a:lnTo>
                        <a:lnTo>
                          <a:pt x="1022" y="91"/>
                        </a:lnTo>
                        <a:lnTo>
                          <a:pt x="1022" y="86"/>
                        </a:lnTo>
                        <a:lnTo>
                          <a:pt x="1020" y="82"/>
                        </a:lnTo>
                        <a:lnTo>
                          <a:pt x="1018" y="76"/>
                        </a:lnTo>
                        <a:lnTo>
                          <a:pt x="1016" y="70"/>
                        </a:lnTo>
                        <a:lnTo>
                          <a:pt x="1014" y="67"/>
                        </a:lnTo>
                        <a:lnTo>
                          <a:pt x="1012" y="61"/>
                        </a:lnTo>
                        <a:lnTo>
                          <a:pt x="1010" y="57"/>
                        </a:lnTo>
                        <a:lnTo>
                          <a:pt x="1008" y="53"/>
                        </a:lnTo>
                        <a:lnTo>
                          <a:pt x="1006" y="48"/>
                        </a:lnTo>
                        <a:lnTo>
                          <a:pt x="1004" y="44"/>
                        </a:lnTo>
                        <a:lnTo>
                          <a:pt x="1001" y="40"/>
                        </a:lnTo>
                        <a:lnTo>
                          <a:pt x="997" y="36"/>
                        </a:lnTo>
                        <a:lnTo>
                          <a:pt x="993" y="32"/>
                        </a:lnTo>
                        <a:lnTo>
                          <a:pt x="991" y="29"/>
                        </a:lnTo>
                        <a:lnTo>
                          <a:pt x="985" y="25"/>
                        </a:lnTo>
                        <a:lnTo>
                          <a:pt x="983" y="23"/>
                        </a:lnTo>
                        <a:lnTo>
                          <a:pt x="978" y="19"/>
                        </a:lnTo>
                        <a:lnTo>
                          <a:pt x="972" y="17"/>
                        </a:lnTo>
                        <a:lnTo>
                          <a:pt x="968" y="13"/>
                        </a:lnTo>
                        <a:lnTo>
                          <a:pt x="964" y="11"/>
                        </a:lnTo>
                        <a:lnTo>
                          <a:pt x="961" y="10"/>
                        </a:lnTo>
                        <a:lnTo>
                          <a:pt x="955" y="6"/>
                        </a:lnTo>
                        <a:lnTo>
                          <a:pt x="949" y="6"/>
                        </a:lnTo>
                        <a:lnTo>
                          <a:pt x="944" y="4"/>
                        </a:lnTo>
                        <a:lnTo>
                          <a:pt x="940" y="4"/>
                        </a:lnTo>
                        <a:lnTo>
                          <a:pt x="936" y="2"/>
                        </a:lnTo>
                        <a:lnTo>
                          <a:pt x="934" y="2"/>
                        </a:lnTo>
                        <a:lnTo>
                          <a:pt x="932" y="0"/>
                        </a:lnTo>
                        <a:lnTo>
                          <a:pt x="928" y="0"/>
                        </a:lnTo>
                        <a:lnTo>
                          <a:pt x="926" y="0"/>
                        </a:lnTo>
                        <a:lnTo>
                          <a:pt x="925" y="0"/>
                        </a:lnTo>
                        <a:lnTo>
                          <a:pt x="921" y="0"/>
                        </a:lnTo>
                        <a:lnTo>
                          <a:pt x="919" y="0"/>
                        </a:lnTo>
                        <a:lnTo>
                          <a:pt x="915" y="0"/>
                        </a:lnTo>
                        <a:lnTo>
                          <a:pt x="913" y="0"/>
                        </a:lnTo>
                        <a:lnTo>
                          <a:pt x="911" y="0"/>
                        </a:lnTo>
                        <a:lnTo>
                          <a:pt x="907" y="0"/>
                        </a:lnTo>
                        <a:lnTo>
                          <a:pt x="904" y="0"/>
                        </a:lnTo>
                        <a:lnTo>
                          <a:pt x="898" y="2"/>
                        </a:lnTo>
                        <a:lnTo>
                          <a:pt x="896" y="2"/>
                        </a:lnTo>
                        <a:lnTo>
                          <a:pt x="892" y="2"/>
                        </a:lnTo>
                        <a:lnTo>
                          <a:pt x="890" y="2"/>
                        </a:lnTo>
                        <a:lnTo>
                          <a:pt x="888" y="4"/>
                        </a:lnTo>
                        <a:lnTo>
                          <a:pt x="881" y="4"/>
                        </a:lnTo>
                        <a:lnTo>
                          <a:pt x="877" y="6"/>
                        </a:lnTo>
                        <a:lnTo>
                          <a:pt x="873" y="10"/>
                        </a:lnTo>
                        <a:lnTo>
                          <a:pt x="867" y="11"/>
                        </a:lnTo>
                        <a:lnTo>
                          <a:pt x="864" y="15"/>
                        </a:lnTo>
                        <a:lnTo>
                          <a:pt x="860" y="17"/>
                        </a:lnTo>
                        <a:lnTo>
                          <a:pt x="854" y="19"/>
                        </a:lnTo>
                        <a:lnTo>
                          <a:pt x="850" y="23"/>
                        </a:lnTo>
                        <a:lnTo>
                          <a:pt x="847" y="25"/>
                        </a:lnTo>
                        <a:lnTo>
                          <a:pt x="843" y="29"/>
                        </a:lnTo>
                        <a:lnTo>
                          <a:pt x="839" y="32"/>
                        </a:lnTo>
                        <a:lnTo>
                          <a:pt x="835" y="36"/>
                        </a:lnTo>
                        <a:lnTo>
                          <a:pt x="833" y="40"/>
                        </a:lnTo>
                        <a:lnTo>
                          <a:pt x="831" y="44"/>
                        </a:lnTo>
                        <a:lnTo>
                          <a:pt x="828" y="48"/>
                        </a:lnTo>
                        <a:lnTo>
                          <a:pt x="824" y="53"/>
                        </a:lnTo>
                        <a:lnTo>
                          <a:pt x="822" y="57"/>
                        </a:lnTo>
                        <a:lnTo>
                          <a:pt x="820" y="61"/>
                        </a:lnTo>
                        <a:lnTo>
                          <a:pt x="818" y="67"/>
                        </a:lnTo>
                        <a:lnTo>
                          <a:pt x="816" y="70"/>
                        </a:lnTo>
                        <a:lnTo>
                          <a:pt x="816" y="74"/>
                        </a:lnTo>
                        <a:lnTo>
                          <a:pt x="814" y="76"/>
                        </a:lnTo>
                        <a:lnTo>
                          <a:pt x="812" y="82"/>
                        </a:lnTo>
                        <a:lnTo>
                          <a:pt x="812" y="84"/>
                        </a:lnTo>
                        <a:lnTo>
                          <a:pt x="687" y="663"/>
                        </a:lnTo>
                        <a:lnTo>
                          <a:pt x="681" y="663"/>
                        </a:lnTo>
                        <a:lnTo>
                          <a:pt x="677" y="663"/>
                        </a:lnTo>
                        <a:lnTo>
                          <a:pt x="673" y="663"/>
                        </a:lnTo>
                        <a:lnTo>
                          <a:pt x="670" y="663"/>
                        </a:lnTo>
                        <a:lnTo>
                          <a:pt x="666" y="663"/>
                        </a:lnTo>
                        <a:lnTo>
                          <a:pt x="660" y="665"/>
                        </a:lnTo>
                        <a:lnTo>
                          <a:pt x="656" y="665"/>
                        </a:lnTo>
                        <a:lnTo>
                          <a:pt x="652" y="667"/>
                        </a:lnTo>
                        <a:lnTo>
                          <a:pt x="753" y="213"/>
                        </a:lnTo>
                        <a:lnTo>
                          <a:pt x="753" y="209"/>
                        </a:lnTo>
                        <a:lnTo>
                          <a:pt x="753" y="207"/>
                        </a:lnTo>
                        <a:lnTo>
                          <a:pt x="753" y="203"/>
                        </a:lnTo>
                        <a:lnTo>
                          <a:pt x="753" y="201"/>
                        </a:lnTo>
                        <a:lnTo>
                          <a:pt x="753" y="198"/>
                        </a:lnTo>
                        <a:lnTo>
                          <a:pt x="753" y="196"/>
                        </a:lnTo>
                        <a:lnTo>
                          <a:pt x="753" y="192"/>
                        </a:lnTo>
                        <a:lnTo>
                          <a:pt x="753" y="190"/>
                        </a:lnTo>
                        <a:lnTo>
                          <a:pt x="753" y="188"/>
                        </a:lnTo>
                        <a:lnTo>
                          <a:pt x="753" y="184"/>
                        </a:lnTo>
                        <a:lnTo>
                          <a:pt x="753" y="182"/>
                        </a:lnTo>
                        <a:lnTo>
                          <a:pt x="753" y="181"/>
                        </a:lnTo>
                        <a:lnTo>
                          <a:pt x="753" y="175"/>
                        </a:lnTo>
                        <a:lnTo>
                          <a:pt x="753" y="169"/>
                        </a:lnTo>
                        <a:lnTo>
                          <a:pt x="751" y="167"/>
                        </a:lnTo>
                        <a:lnTo>
                          <a:pt x="751" y="163"/>
                        </a:lnTo>
                        <a:lnTo>
                          <a:pt x="751" y="162"/>
                        </a:lnTo>
                        <a:lnTo>
                          <a:pt x="750" y="160"/>
                        </a:lnTo>
                        <a:lnTo>
                          <a:pt x="748" y="154"/>
                        </a:lnTo>
                        <a:lnTo>
                          <a:pt x="746" y="148"/>
                        </a:lnTo>
                        <a:lnTo>
                          <a:pt x="744" y="144"/>
                        </a:lnTo>
                        <a:lnTo>
                          <a:pt x="742" y="141"/>
                        </a:lnTo>
                        <a:lnTo>
                          <a:pt x="740" y="135"/>
                        </a:lnTo>
                        <a:lnTo>
                          <a:pt x="738" y="131"/>
                        </a:lnTo>
                        <a:lnTo>
                          <a:pt x="734" y="127"/>
                        </a:lnTo>
                        <a:lnTo>
                          <a:pt x="730" y="124"/>
                        </a:lnTo>
                        <a:lnTo>
                          <a:pt x="727" y="120"/>
                        </a:lnTo>
                        <a:lnTo>
                          <a:pt x="725" y="116"/>
                        </a:lnTo>
                        <a:lnTo>
                          <a:pt x="721" y="112"/>
                        </a:lnTo>
                        <a:lnTo>
                          <a:pt x="717" y="108"/>
                        </a:lnTo>
                        <a:lnTo>
                          <a:pt x="713" y="105"/>
                        </a:lnTo>
                        <a:lnTo>
                          <a:pt x="710" y="103"/>
                        </a:lnTo>
                        <a:lnTo>
                          <a:pt x="704" y="99"/>
                        </a:lnTo>
                        <a:lnTo>
                          <a:pt x="700" y="97"/>
                        </a:lnTo>
                        <a:lnTo>
                          <a:pt x="694" y="95"/>
                        </a:lnTo>
                        <a:lnTo>
                          <a:pt x="691" y="91"/>
                        </a:lnTo>
                        <a:lnTo>
                          <a:pt x="685" y="89"/>
                        </a:lnTo>
                        <a:lnTo>
                          <a:pt x="681" y="87"/>
                        </a:lnTo>
                        <a:lnTo>
                          <a:pt x="675" y="86"/>
                        </a:lnTo>
                        <a:lnTo>
                          <a:pt x="672" y="86"/>
                        </a:lnTo>
                        <a:lnTo>
                          <a:pt x="668" y="84"/>
                        </a:lnTo>
                        <a:lnTo>
                          <a:pt x="666" y="84"/>
                        </a:lnTo>
                        <a:lnTo>
                          <a:pt x="664" y="84"/>
                        </a:lnTo>
                        <a:lnTo>
                          <a:pt x="660" y="84"/>
                        </a:lnTo>
                        <a:lnTo>
                          <a:pt x="658" y="84"/>
                        </a:lnTo>
                        <a:lnTo>
                          <a:pt x="654" y="84"/>
                        </a:lnTo>
                        <a:lnTo>
                          <a:pt x="652" y="84"/>
                        </a:lnTo>
                        <a:lnTo>
                          <a:pt x="651" y="84"/>
                        </a:lnTo>
                        <a:lnTo>
                          <a:pt x="647" y="84"/>
                        </a:lnTo>
                        <a:lnTo>
                          <a:pt x="645" y="84"/>
                        </a:lnTo>
                        <a:lnTo>
                          <a:pt x="643" y="84"/>
                        </a:lnTo>
                        <a:lnTo>
                          <a:pt x="639" y="84"/>
                        </a:lnTo>
                        <a:lnTo>
                          <a:pt x="635" y="84"/>
                        </a:lnTo>
                        <a:lnTo>
                          <a:pt x="630" y="84"/>
                        </a:lnTo>
                        <a:lnTo>
                          <a:pt x="628" y="84"/>
                        </a:lnTo>
                        <a:lnTo>
                          <a:pt x="624" y="86"/>
                        </a:lnTo>
                        <a:lnTo>
                          <a:pt x="622" y="86"/>
                        </a:lnTo>
                        <a:lnTo>
                          <a:pt x="618" y="86"/>
                        </a:lnTo>
                        <a:lnTo>
                          <a:pt x="614" y="87"/>
                        </a:lnTo>
                        <a:lnTo>
                          <a:pt x="609" y="89"/>
                        </a:lnTo>
                        <a:lnTo>
                          <a:pt x="603" y="91"/>
                        </a:lnTo>
                        <a:lnTo>
                          <a:pt x="599" y="95"/>
                        </a:lnTo>
                        <a:lnTo>
                          <a:pt x="595" y="97"/>
                        </a:lnTo>
                        <a:lnTo>
                          <a:pt x="592" y="99"/>
                        </a:lnTo>
                        <a:lnTo>
                          <a:pt x="586" y="103"/>
                        </a:lnTo>
                        <a:lnTo>
                          <a:pt x="582" y="105"/>
                        </a:lnTo>
                        <a:lnTo>
                          <a:pt x="578" y="108"/>
                        </a:lnTo>
                        <a:lnTo>
                          <a:pt x="574" y="112"/>
                        </a:lnTo>
                        <a:lnTo>
                          <a:pt x="571" y="116"/>
                        </a:lnTo>
                        <a:lnTo>
                          <a:pt x="567" y="120"/>
                        </a:lnTo>
                        <a:lnTo>
                          <a:pt x="565" y="124"/>
                        </a:lnTo>
                        <a:lnTo>
                          <a:pt x="563" y="127"/>
                        </a:lnTo>
                        <a:lnTo>
                          <a:pt x="559" y="131"/>
                        </a:lnTo>
                        <a:lnTo>
                          <a:pt x="555" y="135"/>
                        </a:lnTo>
                        <a:lnTo>
                          <a:pt x="554" y="141"/>
                        </a:lnTo>
                        <a:lnTo>
                          <a:pt x="552" y="146"/>
                        </a:lnTo>
                        <a:lnTo>
                          <a:pt x="550" y="150"/>
                        </a:lnTo>
                        <a:lnTo>
                          <a:pt x="548" y="156"/>
                        </a:lnTo>
                        <a:lnTo>
                          <a:pt x="546" y="158"/>
                        </a:lnTo>
                        <a:lnTo>
                          <a:pt x="546" y="160"/>
                        </a:lnTo>
                        <a:lnTo>
                          <a:pt x="544" y="163"/>
                        </a:lnTo>
                        <a:lnTo>
                          <a:pt x="544" y="167"/>
                        </a:lnTo>
                        <a:lnTo>
                          <a:pt x="361" y="1127"/>
                        </a:lnTo>
                        <a:lnTo>
                          <a:pt x="361" y="1127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96" name="AutoShape 538"/>
                <p:cNvSpPr/>
                <p:nvPr/>
              </p:nvSpPr>
              <p:spPr>
                <a:xfrm flipH="1" rot="6146400">
                  <a:off x="4806360" y="3017520"/>
                  <a:ext cx="88200" cy="75960"/>
                </a:xfrm>
                <a:prstGeom prst="hexagon">
                  <a:avLst>
                    <a:gd name="adj" fmla="val 29028"/>
                    <a:gd name="vf" fmla="val 11547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7" name="AutoShape 539"/>
                <p:cNvSpPr/>
                <p:nvPr/>
              </p:nvSpPr>
              <p:spPr>
                <a:xfrm flipH="1" rot="6115200">
                  <a:off x="4396680" y="2949840"/>
                  <a:ext cx="193320" cy="5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4308" y="21600"/>
                      </a:lnTo>
                      <a:lnTo>
                        <a:pt x="17292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98" name="Group 540"/>
          <p:cNvGrpSpPr/>
          <p:nvPr/>
        </p:nvGrpSpPr>
        <p:grpSpPr>
          <a:xfrm>
            <a:off x="2652840" y="-14760"/>
            <a:ext cx="4281120" cy="4863960"/>
            <a:chOff x="2652840" y="-14760"/>
            <a:chExt cx="4281120" cy="4863960"/>
          </a:xfrm>
        </p:grpSpPr>
        <p:sp>
          <p:nvSpPr>
            <p:cNvPr id="1699" name="Oval 541"/>
            <p:cNvSpPr/>
            <p:nvPr/>
          </p:nvSpPr>
          <p:spPr>
            <a:xfrm rot="16200000">
              <a:off x="4121640" y="2053800"/>
              <a:ext cx="1326600" cy="426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3137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AutoShape 542"/>
            <p:cNvSpPr/>
            <p:nvPr/>
          </p:nvSpPr>
          <p:spPr>
            <a:xfrm rot="10800000">
              <a:off x="2670120" y="-14760"/>
              <a:ext cx="4263840" cy="4346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702" y="21600"/>
                  </a:lnTo>
                  <a:lnTo>
                    <a:pt x="1289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aeaea">
                    <a:alpha val="71372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1" name=""/>
          <p:cNvGrpSpPr/>
          <p:nvPr/>
        </p:nvGrpSpPr>
        <p:grpSpPr>
          <a:xfrm>
            <a:off x="-1447920" y="5486400"/>
            <a:ext cx="304920" cy="609480"/>
            <a:chOff x="-1447920" y="5486400"/>
            <a:chExt cx="304920" cy="609480"/>
          </a:xfrm>
        </p:grpSpPr>
        <p:sp>
          <p:nvSpPr>
            <p:cNvPr id="1702" name="Line 543"/>
            <p:cNvSpPr/>
            <p:nvPr/>
          </p:nvSpPr>
          <p:spPr>
            <a:xfrm>
              <a:off x="-1447920" y="5486400"/>
              <a:ext cx="304920" cy="609480"/>
            </a:xfrm>
            <a:prstGeom prst="line">
              <a:avLst/>
            </a:prstGeom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 txBox="1"/>
            <p:nvPr/>
          </p:nvSpPr>
          <p:spPr>
            <a:xfrm>
              <a:off x="-1447920" y="5486400"/>
              <a:ext cx="30492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 thruBlk="true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4800000">
                                      <p:cBhvr>
                                        <p:cTn id="250" dur="2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3" dur="2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4" name="Group 420"/>
          <p:cNvGrpSpPr/>
          <p:nvPr/>
        </p:nvGrpSpPr>
        <p:grpSpPr>
          <a:xfrm>
            <a:off x="3981960" y="1442160"/>
            <a:ext cx="1348200" cy="2131560"/>
            <a:chOff x="3981960" y="1442160"/>
            <a:chExt cx="1348200" cy="2131560"/>
          </a:xfrm>
        </p:grpSpPr>
        <p:grpSp>
          <p:nvGrpSpPr>
            <p:cNvPr id="1705" name="Group 421"/>
            <p:cNvGrpSpPr/>
            <p:nvPr/>
          </p:nvGrpSpPr>
          <p:grpSpPr>
            <a:xfrm>
              <a:off x="3981960" y="1442160"/>
              <a:ext cx="1348200" cy="2131560"/>
              <a:chOff x="3981960" y="1442160"/>
              <a:chExt cx="1348200" cy="2131560"/>
            </a:xfrm>
          </p:grpSpPr>
          <p:grpSp>
            <p:nvGrpSpPr>
              <p:cNvPr id="1706" name="Group 422"/>
              <p:cNvGrpSpPr/>
              <p:nvPr/>
            </p:nvGrpSpPr>
            <p:grpSpPr>
              <a:xfrm>
                <a:off x="3981960" y="1725480"/>
                <a:ext cx="802440" cy="1160640"/>
                <a:chOff x="3981960" y="1725480"/>
                <a:chExt cx="802440" cy="1160640"/>
              </a:xfrm>
            </p:grpSpPr>
            <p:grpSp>
              <p:nvGrpSpPr>
                <p:cNvPr id="1707" name="Group 423"/>
                <p:cNvGrpSpPr/>
                <p:nvPr/>
              </p:nvGrpSpPr>
              <p:grpSpPr>
                <a:xfrm>
                  <a:off x="4311720" y="2257200"/>
                  <a:ext cx="472680" cy="628920"/>
                  <a:chOff x="4311720" y="2257200"/>
                  <a:chExt cx="472680" cy="628920"/>
                </a:xfrm>
              </p:grpSpPr>
              <p:sp>
                <p:nvSpPr>
                  <p:cNvPr id="1708" name="AutoShape 424"/>
                  <p:cNvSpPr/>
                  <p:nvPr/>
                </p:nvSpPr>
                <p:spPr>
                  <a:xfrm rot="9043800">
                    <a:off x="4420080" y="2269800"/>
                    <a:ext cx="179640" cy="49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1556" y="21600"/>
                        </a:lnTo>
                        <a:lnTo>
                          <a:pt x="20044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9" name="AutoShape 425"/>
                  <p:cNvSpPr/>
                  <p:nvPr/>
                </p:nvSpPr>
                <p:spPr>
                  <a:xfrm rot="14622000">
                    <a:off x="4539600" y="2629440"/>
                    <a:ext cx="1918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934" y="2201"/>
                          <a:pt x="12267" y="5080"/>
                          <a:pt x="12267" y="10800"/>
                        </a:cubicBezTo>
                        <a:cubicBezTo>
                          <a:pt x="12267" y="16520"/>
                          <a:pt x="16934" y="19399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0" name="Group 426"/>
                <p:cNvGrpSpPr/>
                <p:nvPr/>
              </p:nvGrpSpPr>
              <p:grpSpPr>
                <a:xfrm>
                  <a:off x="3981960" y="1725480"/>
                  <a:ext cx="531000" cy="699840"/>
                  <a:chOff x="3981960" y="1725480"/>
                  <a:chExt cx="531000" cy="699840"/>
                </a:xfrm>
              </p:grpSpPr>
              <p:sp>
                <p:nvSpPr>
                  <p:cNvPr id="1711" name="AutoShape 427"/>
                  <p:cNvSpPr/>
                  <p:nvPr/>
                </p:nvSpPr>
                <p:spPr>
                  <a:xfrm rot="9058800">
                    <a:off x="4201560" y="1943280"/>
                    <a:ext cx="180360" cy="36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4308" y="21600"/>
                        </a:lnTo>
                        <a:lnTo>
                          <a:pt x="17292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2" name="Oval 428"/>
                  <p:cNvSpPr/>
                  <p:nvPr/>
                </p:nvSpPr>
                <p:spPr>
                  <a:xfrm rot="9597600">
                    <a:off x="4298760" y="2208600"/>
                    <a:ext cx="187200" cy="19044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3" name="Freeform 429"/>
                  <p:cNvSpPr/>
                  <p:nvPr/>
                </p:nvSpPr>
                <p:spPr>
                  <a:xfrm rot="19092600">
                    <a:off x="4055400" y="1747080"/>
                    <a:ext cx="175680" cy="28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02" h="2302">
                        <a:moveTo>
                          <a:pt x="361" y="1127"/>
                        </a:moveTo>
                        <a:lnTo>
                          <a:pt x="280" y="1116"/>
                        </a:lnTo>
                        <a:lnTo>
                          <a:pt x="373" y="711"/>
                        </a:lnTo>
                        <a:lnTo>
                          <a:pt x="373" y="709"/>
                        </a:lnTo>
                        <a:lnTo>
                          <a:pt x="375" y="705"/>
                        </a:lnTo>
                        <a:lnTo>
                          <a:pt x="375" y="703"/>
                        </a:lnTo>
                        <a:lnTo>
                          <a:pt x="375" y="700"/>
                        </a:lnTo>
                        <a:lnTo>
                          <a:pt x="375" y="698"/>
                        </a:lnTo>
                        <a:lnTo>
                          <a:pt x="375" y="696"/>
                        </a:lnTo>
                        <a:lnTo>
                          <a:pt x="375" y="692"/>
                        </a:lnTo>
                        <a:lnTo>
                          <a:pt x="375" y="690"/>
                        </a:lnTo>
                        <a:lnTo>
                          <a:pt x="375" y="684"/>
                        </a:lnTo>
                        <a:lnTo>
                          <a:pt x="375" y="681"/>
                        </a:lnTo>
                        <a:lnTo>
                          <a:pt x="375" y="675"/>
                        </a:lnTo>
                        <a:lnTo>
                          <a:pt x="375" y="669"/>
                        </a:lnTo>
                        <a:lnTo>
                          <a:pt x="371" y="665"/>
                        </a:lnTo>
                        <a:lnTo>
                          <a:pt x="371" y="660"/>
                        </a:lnTo>
                        <a:lnTo>
                          <a:pt x="369" y="654"/>
                        </a:lnTo>
                        <a:lnTo>
                          <a:pt x="367" y="652"/>
                        </a:lnTo>
                        <a:lnTo>
                          <a:pt x="365" y="646"/>
                        </a:lnTo>
                        <a:lnTo>
                          <a:pt x="363" y="641"/>
                        </a:lnTo>
                        <a:lnTo>
                          <a:pt x="361" y="637"/>
                        </a:lnTo>
                        <a:lnTo>
                          <a:pt x="358" y="633"/>
                        </a:lnTo>
                        <a:lnTo>
                          <a:pt x="356" y="629"/>
                        </a:lnTo>
                        <a:lnTo>
                          <a:pt x="354" y="623"/>
                        </a:lnTo>
                        <a:lnTo>
                          <a:pt x="350" y="620"/>
                        </a:lnTo>
                        <a:lnTo>
                          <a:pt x="346" y="616"/>
                        </a:lnTo>
                        <a:lnTo>
                          <a:pt x="342" y="612"/>
                        </a:lnTo>
                        <a:lnTo>
                          <a:pt x="339" y="610"/>
                        </a:lnTo>
                        <a:lnTo>
                          <a:pt x="335" y="606"/>
                        </a:lnTo>
                        <a:lnTo>
                          <a:pt x="331" y="603"/>
                        </a:lnTo>
                        <a:lnTo>
                          <a:pt x="325" y="601"/>
                        </a:lnTo>
                        <a:lnTo>
                          <a:pt x="321" y="597"/>
                        </a:lnTo>
                        <a:lnTo>
                          <a:pt x="318" y="595"/>
                        </a:lnTo>
                        <a:lnTo>
                          <a:pt x="312" y="593"/>
                        </a:lnTo>
                        <a:lnTo>
                          <a:pt x="306" y="591"/>
                        </a:lnTo>
                        <a:lnTo>
                          <a:pt x="302" y="589"/>
                        </a:lnTo>
                        <a:lnTo>
                          <a:pt x="299" y="589"/>
                        </a:lnTo>
                        <a:lnTo>
                          <a:pt x="295" y="587"/>
                        </a:lnTo>
                        <a:lnTo>
                          <a:pt x="291" y="587"/>
                        </a:lnTo>
                        <a:lnTo>
                          <a:pt x="287" y="585"/>
                        </a:lnTo>
                        <a:lnTo>
                          <a:pt x="285" y="585"/>
                        </a:lnTo>
                        <a:lnTo>
                          <a:pt x="283" y="585"/>
                        </a:lnTo>
                        <a:lnTo>
                          <a:pt x="280" y="585"/>
                        </a:lnTo>
                        <a:lnTo>
                          <a:pt x="276" y="585"/>
                        </a:lnTo>
                        <a:lnTo>
                          <a:pt x="274" y="585"/>
                        </a:lnTo>
                        <a:lnTo>
                          <a:pt x="272" y="585"/>
                        </a:lnTo>
                        <a:lnTo>
                          <a:pt x="268" y="585"/>
                        </a:lnTo>
                        <a:lnTo>
                          <a:pt x="266" y="585"/>
                        </a:lnTo>
                        <a:lnTo>
                          <a:pt x="263" y="585"/>
                        </a:lnTo>
                        <a:lnTo>
                          <a:pt x="261" y="587"/>
                        </a:lnTo>
                        <a:lnTo>
                          <a:pt x="259" y="587"/>
                        </a:lnTo>
                        <a:lnTo>
                          <a:pt x="255" y="587"/>
                        </a:lnTo>
                        <a:lnTo>
                          <a:pt x="253" y="589"/>
                        </a:lnTo>
                        <a:lnTo>
                          <a:pt x="249" y="589"/>
                        </a:lnTo>
                        <a:lnTo>
                          <a:pt x="247" y="589"/>
                        </a:lnTo>
                        <a:lnTo>
                          <a:pt x="243" y="591"/>
                        </a:lnTo>
                        <a:lnTo>
                          <a:pt x="240" y="591"/>
                        </a:lnTo>
                        <a:lnTo>
                          <a:pt x="238" y="593"/>
                        </a:lnTo>
                        <a:lnTo>
                          <a:pt x="236" y="595"/>
                        </a:lnTo>
                        <a:lnTo>
                          <a:pt x="232" y="595"/>
                        </a:lnTo>
                        <a:lnTo>
                          <a:pt x="230" y="597"/>
                        </a:lnTo>
                        <a:lnTo>
                          <a:pt x="228" y="599"/>
                        </a:lnTo>
                        <a:lnTo>
                          <a:pt x="224" y="601"/>
                        </a:lnTo>
                        <a:lnTo>
                          <a:pt x="223" y="601"/>
                        </a:lnTo>
                        <a:lnTo>
                          <a:pt x="219" y="603"/>
                        </a:lnTo>
                        <a:lnTo>
                          <a:pt x="217" y="604"/>
                        </a:lnTo>
                        <a:lnTo>
                          <a:pt x="211" y="608"/>
                        </a:lnTo>
                        <a:lnTo>
                          <a:pt x="207" y="612"/>
                        </a:lnTo>
                        <a:lnTo>
                          <a:pt x="204" y="616"/>
                        </a:lnTo>
                        <a:lnTo>
                          <a:pt x="198" y="618"/>
                        </a:lnTo>
                        <a:lnTo>
                          <a:pt x="194" y="623"/>
                        </a:lnTo>
                        <a:lnTo>
                          <a:pt x="188" y="627"/>
                        </a:lnTo>
                        <a:lnTo>
                          <a:pt x="185" y="633"/>
                        </a:lnTo>
                        <a:lnTo>
                          <a:pt x="181" y="637"/>
                        </a:lnTo>
                        <a:lnTo>
                          <a:pt x="177" y="641"/>
                        </a:lnTo>
                        <a:lnTo>
                          <a:pt x="173" y="646"/>
                        </a:lnTo>
                        <a:lnTo>
                          <a:pt x="169" y="652"/>
                        </a:lnTo>
                        <a:lnTo>
                          <a:pt x="166" y="656"/>
                        </a:lnTo>
                        <a:lnTo>
                          <a:pt x="162" y="662"/>
                        </a:lnTo>
                        <a:lnTo>
                          <a:pt x="160" y="665"/>
                        </a:lnTo>
                        <a:lnTo>
                          <a:pt x="158" y="669"/>
                        </a:lnTo>
                        <a:lnTo>
                          <a:pt x="158" y="671"/>
                        </a:lnTo>
                        <a:lnTo>
                          <a:pt x="156" y="673"/>
                        </a:lnTo>
                        <a:lnTo>
                          <a:pt x="154" y="677"/>
                        </a:lnTo>
                        <a:lnTo>
                          <a:pt x="152" y="679"/>
                        </a:lnTo>
                        <a:lnTo>
                          <a:pt x="152" y="681"/>
                        </a:lnTo>
                        <a:lnTo>
                          <a:pt x="150" y="684"/>
                        </a:lnTo>
                        <a:lnTo>
                          <a:pt x="150" y="688"/>
                        </a:lnTo>
                        <a:lnTo>
                          <a:pt x="146" y="694"/>
                        </a:lnTo>
                        <a:lnTo>
                          <a:pt x="145" y="701"/>
                        </a:lnTo>
                        <a:lnTo>
                          <a:pt x="143" y="709"/>
                        </a:lnTo>
                        <a:lnTo>
                          <a:pt x="139" y="717"/>
                        </a:lnTo>
                        <a:lnTo>
                          <a:pt x="137" y="724"/>
                        </a:lnTo>
                        <a:lnTo>
                          <a:pt x="135" y="732"/>
                        </a:lnTo>
                        <a:lnTo>
                          <a:pt x="131" y="739"/>
                        </a:lnTo>
                        <a:lnTo>
                          <a:pt x="129" y="747"/>
                        </a:lnTo>
                        <a:lnTo>
                          <a:pt x="126" y="755"/>
                        </a:lnTo>
                        <a:lnTo>
                          <a:pt x="124" y="760"/>
                        </a:lnTo>
                        <a:lnTo>
                          <a:pt x="122" y="768"/>
                        </a:lnTo>
                        <a:lnTo>
                          <a:pt x="120" y="776"/>
                        </a:lnTo>
                        <a:lnTo>
                          <a:pt x="116" y="781"/>
                        </a:lnTo>
                        <a:lnTo>
                          <a:pt x="114" y="789"/>
                        </a:lnTo>
                        <a:lnTo>
                          <a:pt x="112" y="796"/>
                        </a:lnTo>
                        <a:lnTo>
                          <a:pt x="110" y="804"/>
                        </a:lnTo>
                        <a:lnTo>
                          <a:pt x="107" y="812"/>
                        </a:lnTo>
                        <a:lnTo>
                          <a:pt x="107" y="817"/>
                        </a:lnTo>
                        <a:lnTo>
                          <a:pt x="103" y="823"/>
                        </a:lnTo>
                        <a:lnTo>
                          <a:pt x="101" y="831"/>
                        </a:lnTo>
                        <a:lnTo>
                          <a:pt x="97" y="836"/>
                        </a:lnTo>
                        <a:lnTo>
                          <a:pt x="97" y="844"/>
                        </a:lnTo>
                        <a:lnTo>
                          <a:pt x="93" y="852"/>
                        </a:lnTo>
                        <a:lnTo>
                          <a:pt x="93" y="857"/>
                        </a:lnTo>
                        <a:lnTo>
                          <a:pt x="89" y="865"/>
                        </a:lnTo>
                        <a:lnTo>
                          <a:pt x="88" y="871"/>
                        </a:lnTo>
                        <a:lnTo>
                          <a:pt x="86" y="878"/>
                        </a:lnTo>
                        <a:lnTo>
                          <a:pt x="84" y="884"/>
                        </a:lnTo>
                        <a:lnTo>
                          <a:pt x="82" y="892"/>
                        </a:lnTo>
                        <a:lnTo>
                          <a:pt x="80" y="899"/>
                        </a:lnTo>
                        <a:lnTo>
                          <a:pt x="78" y="907"/>
                        </a:lnTo>
                        <a:lnTo>
                          <a:pt x="74" y="912"/>
                        </a:lnTo>
                        <a:lnTo>
                          <a:pt x="72" y="920"/>
                        </a:lnTo>
                        <a:lnTo>
                          <a:pt x="72" y="926"/>
                        </a:lnTo>
                        <a:lnTo>
                          <a:pt x="68" y="931"/>
                        </a:lnTo>
                        <a:lnTo>
                          <a:pt x="67" y="939"/>
                        </a:lnTo>
                        <a:lnTo>
                          <a:pt x="65" y="945"/>
                        </a:lnTo>
                        <a:lnTo>
                          <a:pt x="63" y="952"/>
                        </a:lnTo>
                        <a:lnTo>
                          <a:pt x="59" y="958"/>
                        </a:lnTo>
                        <a:lnTo>
                          <a:pt x="57" y="966"/>
                        </a:lnTo>
                        <a:lnTo>
                          <a:pt x="55" y="971"/>
                        </a:lnTo>
                        <a:lnTo>
                          <a:pt x="53" y="979"/>
                        </a:lnTo>
                        <a:lnTo>
                          <a:pt x="51" y="987"/>
                        </a:lnTo>
                        <a:lnTo>
                          <a:pt x="49" y="994"/>
                        </a:lnTo>
                        <a:lnTo>
                          <a:pt x="48" y="1000"/>
                        </a:lnTo>
                        <a:lnTo>
                          <a:pt x="46" y="1007"/>
                        </a:lnTo>
                        <a:lnTo>
                          <a:pt x="44" y="1015"/>
                        </a:lnTo>
                        <a:lnTo>
                          <a:pt x="42" y="1021"/>
                        </a:lnTo>
                        <a:lnTo>
                          <a:pt x="42" y="1028"/>
                        </a:lnTo>
                        <a:lnTo>
                          <a:pt x="38" y="1036"/>
                        </a:lnTo>
                        <a:lnTo>
                          <a:pt x="36" y="1042"/>
                        </a:lnTo>
                        <a:lnTo>
                          <a:pt x="36" y="1049"/>
                        </a:lnTo>
                        <a:lnTo>
                          <a:pt x="34" y="1057"/>
                        </a:lnTo>
                        <a:lnTo>
                          <a:pt x="30" y="1063"/>
                        </a:lnTo>
                        <a:lnTo>
                          <a:pt x="30" y="1070"/>
                        </a:lnTo>
                        <a:lnTo>
                          <a:pt x="29" y="1078"/>
                        </a:lnTo>
                        <a:lnTo>
                          <a:pt x="27" y="1085"/>
                        </a:lnTo>
                        <a:lnTo>
                          <a:pt x="25" y="1093"/>
                        </a:lnTo>
                        <a:lnTo>
                          <a:pt x="23" y="1101"/>
                        </a:lnTo>
                        <a:lnTo>
                          <a:pt x="21" y="1108"/>
                        </a:lnTo>
                        <a:lnTo>
                          <a:pt x="19" y="1116"/>
                        </a:lnTo>
                        <a:lnTo>
                          <a:pt x="17" y="1123"/>
                        </a:lnTo>
                        <a:lnTo>
                          <a:pt x="17" y="1131"/>
                        </a:lnTo>
                        <a:lnTo>
                          <a:pt x="15" y="1139"/>
                        </a:lnTo>
                        <a:lnTo>
                          <a:pt x="13" y="1148"/>
                        </a:lnTo>
                        <a:lnTo>
                          <a:pt x="10" y="1158"/>
                        </a:lnTo>
                        <a:lnTo>
                          <a:pt x="10" y="1165"/>
                        </a:lnTo>
                        <a:lnTo>
                          <a:pt x="8" y="1175"/>
                        </a:lnTo>
                        <a:lnTo>
                          <a:pt x="6" y="1182"/>
                        </a:lnTo>
                        <a:lnTo>
                          <a:pt x="6" y="1192"/>
                        </a:lnTo>
                        <a:lnTo>
                          <a:pt x="4" y="1201"/>
                        </a:lnTo>
                        <a:lnTo>
                          <a:pt x="2" y="1211"/>
                        </a:lnTo>
                        <a:lnTo>
                          <a:pt x="2" y="1218"/>
                        </a:lnTo>
                        <a:lnTo>
                          <a:pt x="0" y="1230"/>
                        </a:lnTo>
                        <a:lnTo>
                          <a:pt x="0" y="1237"/>
                        </a:lnTo>
                        <a:lnTo>
                          <a:pt x="0" y="1247"/>
                        </a:lnTo>
                        <a:lnTo>
                          <a:pt x="0" y="1257"/>
                        </a:lnTo>
                        <a:lnTo>
                          <a:pt x="0" y="1268"/>
                        </a:lnTo>
                        <a:lnTo>
                          <a:pt x="0" y="1276"/>
                        </a:lnTo>
                        <a:lnTo>
                          <a:pt x="0" y="1285"/>
                        </a:lnTo>
                        <a:lnTo>
                          <a:pt x="0" y="1296"/>
                        </a:lnTo>
                        <a:lnTo>
                          <a:pt x="0" y="1304"/>
                        </a:lnTo>
                        <a:lnTo>
                          <a:pt x="0" y="1314"/>
                        </a:lnTo>
                        <a:lnTo>
                          <a:pt x="0" y="1323"/>
                        </a:lnTo>
                        <a:lnTo>
                          <a:pt x="0" y="1333"/>
                        </a:lnTo>
                        <a:lnTo>
                          <a:pt x="2" y="1342"/>
                        </a:lnTo>
                        <a:lnTo>
                          <a:pt x="2" y="1352"/>
                        </a:lnTo>
                        <a:lnTo>
                          <a:pt x="4" y="1363"/>
                        </a:lnTo>
                        <a:lnTo>
                          <a:pt x="4" y="1371"/>
                        </a:lnTo>
                        <a:lnTo>
                          <a:pt x="6" y="1382"/>
                        </a:lnTo>
                        <a:lnTo>
                          <a:pt x="8" y="1390"/>
                        </a:lnTo>
                        <a:lnTo>
                          <a:pt x="8" y="1401"/>
                        </a:lnTo>
                        <a:lnTo>
                          <a:pt x="10" y="1409"/>
                        </a:lnTo>
                        <a:lnTo>
                          <a:pt x="11" y="1420"/>
                        </a:lnTo>
                        <a:lnTo>
                          <a:pt x="13" y="1429"/>
                        </a:lnTo>
                        <a:lnTo>
                          <a:pt x="15" y="1439"/>
                        </a:lnTo>
                        <a:lnTo>
                          <a:pt x="17" y="1448"/>
                        </a:lnTo>
                        <a:lnTo>
                          <a:pt x="19" y="1458"/>
                        </a:lnTo>
                        <a:lnTo>
                          <a:pt x="21" y="1468"/>
                        </a:lnTo>
                        <a:lnTo>
                          <a:pt x="23" y="1477"/>
                        </a:lnTo>
                        <a:lnTo>
                          <a:pt x="27" y="1487"/>
                        </a:lnTo>
                        <a:lnTo>
                          <a:pt x="29" y="1496"/>
                        </a:lnTo>
                        <a:lnTo>
                          <a:pt x="30" y="1506"/>
                        </a:lnTo>
                        <a:lnTo>
                          <a:pt x="34" y="1515"/>
                        </a:lnTo>
                        <a:lnTo>
                          <a:pt x="36" y="1525"/>
                        </a:lnTo>
                        <a:lnTo>
                          <a:pt x="38" y="1534"/>
                        </a:lnTo>
                        <a:lnTo>
                          <a:pt x="42" y="1544"/>
                        </a:lnTo>
                        <a:lnTo>
                          <a:pt x="46" y="1553"/>
                        </a:lnTo>
                        <a:lnTo>
                          <a:pt x="48" y="1561"/>
                        </a:lnTo>
                        <a:lnTo>
                          <a:pt x="51" y="1572"/>
                        </a:lnTo>
                        <a:lnTo>
                          <a:pt x="55" y="1580"/>
                        </a:lnTo>
                        <a:lnTo>
                          <a:pt x="59" y="1589"/>
                        </a:lnTo>
                        <a:lnTo>
                          <a:pt x="63" y="1599"/>
                        </a:lnTo>
                        <a:lnTo>
                          <a:pt x="67" y="1608"/>
                        </a:lnTo>
                        <a:lnTo>
                          <a:pt x="68" y="1616"/>
                        </a:lnTo>
                        <a:lnTo>
                          <a:pt x="74" y="1627"/>
                        </a:lnTo>
                        <a:lnTo>
                          <a:pt x="78" y="1635"/>
                        </a:lnTo>
                        <a:lnTo>
                          <a:pt x="82" y="1644"/>
                        </a:lnTo>
                        <a:lnTo>
                          <a:pt x="86" y="1652"/>
                        </a:lnTo>
                        <a:lnTo>
                          <a:pt x="89" y="1661"/>
                        </a:lnTo>
                        <a:lnTo>
                          <a:pt x="95" y="1669"/>
                        </a:lnTo>
                        <a:lnTo>
                          <a:pt x="99" y="1679"/>
                        </a:lnTo>
                        <a:lnTo>
                          <a:pt x="103" y="1688"/>
                        </a:lnTo>
                        <a:lnTo>
                          <a:pt x="108" y="1696"/>
                        </a:lnTo>
                        <a:lnTo>
                          <a:pt x="114" y="1703"/>
                        </a:lnTo>
                        <a:lnTo>
                          <a:pt x="118" y="1713"/>
                        </a:lnTo>
                        <a:lnTo>
                          <a:pt x="124" y="1722"/>
                        </a:lnTo>
                        <a:lnTo>
                          <a:pt x="127" y="1732"/>
                        </a:lnTo>
                        <a:lnTo>
                          <a:pt x="131" y="1736"/>
                        </a:lnTo>
                        <a:lnTo>
                          <a:pt x="135" y="1739"/>
                        </a:lnTo>
                        <a:lnTo>
                          <a:pt x="135" y="1743"/>
                        </a:lnTo>
                        <a:lnTo>
                          <a:pt x="137" y="1745"/>
                        </a:lnTo>
                        <a:lnTo>
                          <a:pt x="139" y="1747"/>
                        </a:lnTo>
                        <a:lnTo>
                          <a:pt x="141" y="1751"/>
                        </a:lnTo>
                        <a:lnTo>
                          <a:pt x="143" y="1755"/>
                        </a:lnTo>
                        <a:lnTo>
                          <a:pt x="143" y="1756"/>
                        </a:lnTo>
                        <a:lnTo>
                          <a:pt x="145" y="1760"/>
                        </a:lnTo>
                        <a:lnTo>
                          <a:pt x="146" y="1762"/>
                        </a:lnTo>
                        <a:lnTo>
                          <a:pt x="148" y="1766"/>
                        </a:lnTo>
                        <a:lnTo>
                          <a:pt x="150" y="1768"/>
                        </a:lnTo>
                        <a:lnTo>
                          <a:pt x="152" y="1770"/>
                        </a:lnTo>
                        <a:lnTo>
                          <a:pt x="156" y="1774"/>
                        </a:lnTo>
                        <a:lnTo>
                          <a:pt x="158" y="1777"/>
                        </a:lnTo>
                        <a:lnTo>
                          <a:pt x="160" y="1779"/>
                        </a:lnTo>
                        <a:lnTo>
                          <a:pt x="160" y="1783"/>
                        </a:lnTo>
                        <a:lnTo>
                          <a:pt x="162" y="1787"/>
                        </a:lnTo>
                        <a:lnTo>
                          <a:pt x="166" y="1789"/>
                        </a:lnTo>
                        <a:lnTo>
                          <a:pt x="166" y="1791"/>
                        </a:lnTo>
                        <a:lnTo>
                          <a:pt x="167" y="1794"/>
                        </a:lnTo>
                        <a:lnTo>
                          <a:pt x="169" y="1796"/>
                        </a:lnTo>
                        <a:lnTo>
                          <a:pt x="171" y="1800"/>
                        </a:lnTo>
                        <a:lnTo>
                          <a:pt x="173" y="1802"/>
                        </a:lnTo>
                        <a:lnTo>
                          <a:pt x="175" y="1806"/>
                        </a:lnTo>
                        <a:lnTo>
                          <a:pt x="177" y="1808"/>
                        </a:lnTo>
                        <a:lnTo>
                          <a:pt x="179" y="1812"/>
                        </a:lnTo>
                        <a:lnTo>
                          <a:pt x="181" y="1815"/>
                        </a:lnTo>
                        <a:lnTo>
                          <a:pt x="183" y="1817"/>
                        </a:lnTo>
                        <a:lnTo>
                          <a:pt x="185" y="1821"/>
                        </a:lnTo>
                        <a:lnTo>
                          <a:pt x="188" y="1827"/>
                        </a:lnTo>
                        <a:lnTo>
                          <a:pt x="190" y="1831"/>
                        </a:lnTo>
                        <a:lnTo>
                          <a:pt x="194" y="1836"/>
                        </a:lnTo>
                        <a:lnTo>
                          <a:pt x="198" y="1842"/>
                        </a:lnTo>
                        <a:lnTo>
                          <a:pt x="200" y="1846"/>
                        </a:lnTo>
                        <a:lnTo>
                          <a:pt x="204" y="1850"/>
                        </a:lnTo>
                        <a:lnTo>
                          <a:pt x="205" y="1853"/>
                        </a:lnTo>
                        <a:lnTo>
                          <a:pt x="207" y="1859"/>
                        </a:lnTo>
                        <a:lnTo>
                          <a:pt x="209" y="1861"/>
                        </a:lnTo>
                        <a:lnTo>
                          <a:pt x="211" y="1863"/>
                        </a:lnTo>
                        <a:lnTo>
                          <a:pt x="213" y="1867"/>
                        </a:lnTo>
                        <a:lnTo>
                          <a:pt x="215" y="1869"/>
                        </a:lnTo>
                        <a:lnTo>
                          <a:pt x="217" y="1870"/>
                        </a:lnTo>
                        <a:lnTo>
                          <a:pt x="219" y="1874"/>
                        </a:lnTo>
                        <a:lnTo>
                          <a:pt x="141" y="2163"/>
                        </a:lnTo>
                        <a:lnTo>
                          <a:pt x="143" y="2165"/>
                        </a:lnTo>
                        <a:lnTo>
                          <a:pt x="146" y="2165"/>
                        </a:lnTo>
                        <a:lnTo>
                          <a:pt x="150" y="2167"/>
                        </a:lnTo>
                        <a:lnTo>
                          <a:pt x="152" y="2167"/>
                        </a:lnTo>
                        <a:lnTo>
                          <a:pt x="154" y="2167"/>
                        </a:lnTo>
                        <a:lnTo>
                          <a:pt x="158" y="2167"/>
                        </a:lnTo>
                        <a:lnTo>
                          <a:pt x="162" y="2171"/>
                        </a:lnTo>
                        <a:lnTo>
                          <a:pt x="166" y="2171"/>
                        </a:lnTo>
                        <a:lnTo>
                          <a:pt x="167" y="2173"/>
                        </a:lnTo>
                        <a:lnTo>
                          <a:pt x="171" y="2173"/>
                        </a:lnTo>
                        <a:lnTo>
                          <a:pt x="175" y="2175"/>
                        </a:lnTo>
                        <a:lnTo>
                          <a:pt x="181" y="2175"/>
                        </a:lnTo>
                        <a:lnTo>
                          <a:pt x="185" y="2175"/>
                        </a:lnTo>
                        <a:lnTo>
                          <a:pt x="188" y="2177"/>
                        </a:lnTo>
                        <a:lnTo>
                          <a:pt x="194" y="2180"/>
                        </a:lnTo>
                        <a:lnTo>
                          <a:pt x="198" y="2180"/>
                        </a:lnTo>
                        <a:lnTo>
                          <a:pt x="204" y="2182"/>
                        </a:lnTo>
                        <a:lnTo>
                          <a:pt x="209" y="2182"/>
                        </a:lnTo>
                        <a:lnTo>
                          <a:pt x="215" y="2184"/>
                        </a:lnTo>
                        <a:lnTo>
                          <a:pt x="219" y="2186"/>
                        </a:lnTo>
                        <a:lnTo>
                          <a:pt x="224" y="2188"/>
                        </a:lnTo>
                        <a:lnTo>
                          <a:pt x="232" y="2188"/>
                        </a:lnTo>
                        <a:lnTo>
                          <a:pt x="238" y="2190"/>
                        </a:lnTo>
                        <a:lnTo>
                          <a:pt x="243" y="2190"/>
                        </a:lnTo>
                        <a:lnTo>
                          <a:pt x="251" y="2192"/>
                        </a:lnTo>
                        <a:lnTo>
                          <a:pt x="257" y="2194"/>
                        </a:lnTo>
                        <a:lnTo>
                          <a:pt x="264" y="2194"/>
                        </a:lnTo>
                        <a:lnTo>
                          <a:pt x="270" y="2196"/>
                        </a:lnTo>
                        <a:lnTo>
                          <a:pt x="276" y="2196"/>
                        </a:lnTo>
                        <a:lnTo>
                          <a:pt x="283" y="2197"/>
                        </a:lnTo>
                        <a:lnTo>
                          <a:pt x="291" y="2199"/>
                        </a:lnTo>
                        <a:lnTo>
                          <a:pt x="297" y="2199"/>
                        </a:lnTo>
                        <a:lnTo>
                          <a:pt x="304" y="2199"/>
                        </a:lnTo>
                        <a:lnTo>
                          <a:pt x="312" y="2199"/>
                        </a:lnTo>
                        <a:lnTo>
                          <a:pt x="320" y="2201"/>
                        </a:lnTo>
                        <a:lnTo>
                          <a:pt x="325" y="2201"/>
                        </a:lnTo>
                        <a:lnTo>
                          <a:pt x="333" y="2201"/>
                        </a:lnTo>
                        <a:lnTo>
                          <a:pt x="341" y="2201"/>
                        </a:lnTo>
                        <a:lnTo>
                          <a:pt x="348" y="2201"/>
                        </a:lnTo>
                        <a:lnTo>
                          <a:pt x="356" y="2201"/>
                        </a:lnTo>
                        <a:lnTo>
                          <a:pt x="363" y="2201"/>
                        </a:lnTo>
                        <a:lnTo>
                          <a:pt x="371" y="2201"/>
                        </a:lnTo>
                        <a:lnTo>
                          <a:pt x="379" y="2201"/>
                        </a:lnTo>
                        <a:lnTo>
                          <a:pt x="386" y="2201"/>
                        </a:lnTo>
                        <a:lnTo>
                          <a:pt x="394" y="2201"/>
                        </a:lnTo>
                        <a:lnTo>
                          <a:pt x="401" y="2199"/>
                        </a:lnTo>
                        <a:lnTo>
                          <a:pt x="409" y="2199"/>
                        </a:lnTo>
                        <a:lnTo>
                          <a:pt x="415" y="2197"/>
                        </a:lnTo>
                        <a:lnTo>
                          <a:pt x="422" y="2196"/>
                        </a:lnTo>
                        <a:lnTo>
                          <a:pt x="432" y="2196"/>
                        </a:lnTo>
                        <a:lnTo>
                          <a:pt x="439" y="2194"/>
                        </a:lnTo>
                        <a:lnTo>
                          <a:pt x="447" y="2192"/>
                        </a:lnTo>
                        <a:lnTo>
                          <a:pt x="455" y="2190"/>
                        </a:lnTo>
                        <a:lnTo>
                          <a:pt x="462" y="2188"/>
                        </a:lnTo>
                        <a:lnTo>
                          <a:pt x="470" y="2188"/>
                        </a:lnTo>
                        <a:lnTo>
                          <a:pt x="476" y="2184"/>
                        </a:lnTo>
                        <a:lnTo>
                          <a:pt x="483" y="2182"/>
                        </a:lnTo>
                        <a:lnTo>
                          <a:pt x="491" y="2180"/>
                        </a:lnTo>
                        <a:lnTo>
                          <a:pt x="498" y="2175"/>
                        </a:lnTo>
                        <a:lnTo>
                          <a:pt x="504" y="2173"/>
                        </a:lnTo>
                        <a:lnTo>
                          <a:pt x="512" y="2169"/>
                        </a:lnTo>
                        <a:lnTo>
                          <a:pt x="517" y="2165"/>
                        </a:lnTo>
                        <a:lnTo>
                          <a:pt x="525" y="2161"/>
                        </a:lnTo>
                        <a:lnTo>
                          <a:pt x="531" y="2158"/>
                        </a:lnTo>
                        <a:lnTo>
                          <a:pt x="536" y="2154"/>
                        </a:lnTo>
                        <a:lnTo>
                          <a:pt x="542" y="2150"/>
                        </a:lnTo>
                        <a:lnTo>
                          <a:pt x="550" y="2146"/>
                        </a:lnTo>
                        <a:lnTo>
                          <a:pt x="555" y="2142"/>
                        </a:lnTo>
                        <a:lnTo>
                          <a:pt x="559" y="2137"/>
                        </a:lnTo>
                        <a:lnTo>
                          <a:pt x="565" y="2133"/>
                        </a:lnTo>
                        <a:lnTo>
                          <a:pt x="571" y="2129"/>
                        </a:lnTo>
                        <a:lnTo>
                          <a:pt x="576" y="2123"/>
                        </a:lnTo>
                        <a:lnTo>
                          <a:pt x="582" y="2120"/>
                        </a:lnTo>
                        <a:lnTo>
                          <a:pt x="588" y="2114"/>
                        </a:lnTo>
                        <a:lnTo>
                          <a:pt x="592" y="2110"/>
                        </a:lnTo>
                        <a:lnTo>
                          <a:pt x="595" y="2106"/>
                        </a:lnTo>
                        <a:lnTo>
                          <a:pt x="601" y="2101"/>
                        </a:lnTo>
                        <a:lnTo>
                          <a:pt x="605" y="2095"/>
                        </a:lnTo>
                        <a:lnTo>
                          <a:pt x="611" y="2091"/>
                        </a:lnTo>
                        <a:lnTo>
                          <a:pt x="614" y="2085"/>
                        </a:lnTo>
                        <a:lnTo>
                          <a:pt x="618" y="2080"/>
                        </a:lnTo>
                        <a:lnTo>
                          <a:pt x="624" y="2076"/>
                        </a:lnTo>
                        <a:lnTo>
                          <a:pt x="628" y="2070"/>
                        </a:lnTo>
                        <a:lnTo>
                          <a:pt x="632" y="2064"/>
                        </a:lnTo>
                        <a:lnTo>
                          <a:pt x="635" y="2059"/>
                        </a:lnTo>
                        <a:lnTo>
                          <a:pt x="637" y="2055"/>
                        </a:lnTo>
                        <a:lnTo>
                          <a:pt x="643" y="2049"/>
                        </a:lnTo>
                        <a:lnTo>
                          <a:pt x="645" y="2043"/>
                        </a:lnTo>
                        <a:lnTo>
                          <a:pt x="649" y="2040"/>
                        </a:lnTo>
                        <a:lnTo>
                          <a:pt x="652" y="2034"/>
                        </a:lnTo>
                        <a:lnTo>
                          <a:pt x="654" y="2030"/>
                        </a:lnTo>
                        <a:lnTo>
                          <a:pt x="658" y="2024"/>
                        </a:lnTo>
                        <a:lnTo>
                          <a:pt x="660" y="2021"/>
                        </a:lnTo>
                        <a:lnTo>
                          <a:pt x="664" y="2015"/>
                        </a:lnTo>
                        <a:lnTo>
                          <a:pt x="666" y="2011"/>
                        </a:lnTo>
                        <a:lnTo>
                          <a:pt x="668" y="2005"/>
                        </a:lnTo>
                        <a:lnTo>
                          <a:pt x="672" y="2002"/>
                        </a:lnTo>
                        <a:lnTo>
                          <a:pt x="673" y="1998"/>
                        </a:lnTo>
                        <a:lnTo>
                          <a:pt x="675" y="1992"/>
                        </a:lnTo>
                        <a:lnTo>
                          <a:pt x="677" y="1986"/>
                        </a:lnTo>
                        <a:lnTo>
                          <a:pt x="679" y="1983"/>
                        </a:lnTo>
                        <a:lnTo>
                          <a:pt x="681" y="1979"/>
                        </a:lnTo>
                        <a:lnTo>
                          <a:pt x="683" y="1975"/>
                        </a:lnTo>
                        <a:lnTo>
                          <a:pt x="685" y="1971"/>
                        </a:lnTo>
                        <a:lnTo>
                          <a:pt x="687" y="1969"/>
                        </a:lnTo>
                        <a:lnTo>
                          <a:pt x="689" y="1964"/>
                        </a:lnTo>
                        <a:lnTo>
                          <a:pt x="691" y="1962"/>
                        </a:lnTo>
                        <a:lnTo>
                          <a:pt x="692" y="1958"/>
                        </a:lnTo>
                        <a:lnTo>
                          <a:pt x="692" y="1954"/>
                        </a:lnTo>
                        <a:lnTo>
                          <a:pt x="692" y="1952"/>
                        </a:lnTo>
                        <a:lnTo>
                          <a:pt x="694" y="1950"/>
                        </a:lnTo>
                        <a:lnTo>
                          <a:pt x="696" y="1945"/>
                        </a:lnTo>
                        <a:lnTo>
                          <a:pt x="698" y="1941"/>
                        </a:lnTo>
                        <a:lnTo>
                          <a:pt x="700" y="1937"/>
                        </a:lnTo>
                        <a:lnTo>
                          <a:pt x="700" y="1935"/>
                        </a:lnTo>
                        <a:lnTo>
                          <a:pt x="700" y="1933"/>
                        </a:lnTo>
                        <a:lnTo>
                          <a:pt x="702" y="1933"/>
                        </a:lnTo>
                        <a:lnTo>
                          <a:pt x="740" y="1943"/>
                        </a:lnTo>
                        <a:lnTo>
                          <a:pt x="740" y="1943"/>
                        </a:lnTo>
                        <a:lnTo>
                          <a:pt x="738" y="1945"/>
                        </a:lnTo>
                        <a:lnTo>
                          <a:pt x="738" y="1947"/>
                        </a:lnTo>
                        <a:lnTo>
                          <a:pt x="738" y="1950"/>
                        </a:lnTo>
                        <a:lnTo>
                          <a:pt x="738" y="1954"/>
                        </a:lnTo>
                        <a:lnTo>
                          <a:pt x="738" y="1958"/>
                        </a:lnTo>
                        <a:lnTo>
                          <a:pt x="736" y="1962"/>
                        </a:lnTo>
                        <a:lnTo>
                          <a:pt x="736" y="1964"/>
                        </a:lnTo>
                        <a:lnTo>
                          <a:pt x="736" y="1967"/>
                        </a:lnTo>
                        <a:lnTo>
                          <a:pt x="736" y="1971"/>
                        </a:lnTo>
                        <a:lnTo>
                          <a:pt x="736" y="1975"/>
                        </a:lnTo>
                        <a:lnTo>
                          <a:pt x="736" y="1979"/>
                        </a:lnTo>
                        <a:lnTo>
                          <a:pt x="736" y="1983"/>
                        </a:lnTo>
                        <a:lnTo>
                          <a:pt x="736" y="1985"/>
                        </a:lnTo>
                        <a:lnTo>
                          <a:pt x="736" y="1990"/>
                        </a:lnTo>
                        <a:lnTo>
                          <a:pt x="736" y="1994"/>
                        </a:lnTo>
                        <a:lnTo>
                          <a:pt x="736" y="1998"/>
                        </a:lnTo>
                        <a:lnTo>
                          <a:pt x="736" y="2004"/>
                        </a:lnTo>
                        <a:lnTo>
                          <a:pt x="736" y="2007"/>
                        </a:lnTo>
                        <a:lnTo>
                          <a:pt x="736" y="2013"/>
                        </a:lnTo>
                        <a:lnTo>
                          <a:pt x="736" y="2015"/>
                        </a:lnTo>
                        <a:lnTo>
                          <a:pt x="736" y="2021"/>
                        </a:lnTo>
                        <a:lnTo>
                          <a:pt x="736" y="2026"/>
                        </a:lnTo>
                        <a:lnTo>
                          <a:pt x="736" y="2030"/>
                        </a:lnTo>
                        <a:lnTo>
                          <a:pt x="736" y="2036"/>
                        </a:lnTo>
                        <a:lnTo>
                          <a:pt x="736" y="2042"/>
                        </a:lnTo>
                        <a:lnTo>
                          <a:pt x="736" y="2047"/>
                        </a:lnTo>
                        <a:lnTo>
                          <a:pt x="738" y="2051"/>
                        </a:lnTo>
                        <a:lnTo>
                          <a:pt x="738" y="2057"/>
                        </a:lnTo>
                        <a:lnTo>
                          <a:pt x="738" y="2062"/>
                        </a:lnTo>
                        <a:lnTo>
                          <a:pt x="740" y="2066"/>
                        </a:lnTo>
                        <a:lnTo>
                          <a:pt x="740" y="2072"/>
                        </a:lnTo>
                        <a:lnTo>
                          <a:pt x="742" y="2078"/>
                        </a:lnTo>
                        <a:lnTo>
                          <a:pt x="744" y="2083"/>
                        </a:lnTo>
                        <a:lnTo>
                          <a:pt x="744" y="2091"/>
                        </a:lnTo>
                        <a:lnTo>
                          <a:pt x="746" y="2095"/>
                        </a:lnTo>
                        <a:lnTo>
                          <a:pt x="748" y="2101"/>
                        </a:lnTo>
                        <a:lnTo>
                          <a:pt x="748" y="2106"/>
                        </a:lnTo>
                        <a:lnTo>
                          <a:pt x="751" y="2110"/>
                        </a:lnTo>
                        <a:lnTo>
                          <a:pt x="753" y="2118"/>
                        </a:lnTo>
                        <a:lnTo>
                          <a:pt x="753" y="2123"/>
                        </a:lnTo>
                        <a:lnTo>
                          <a:pt x="757" y="2129"/>
                        </a:lnTo>
                        <a:lnTo>
                          <a:pt x="759" y="2135"/>
                        </a:lnTo>
                        <a:lnTo>
                          <a:pt x="761" y="2139"/>
                        </a:lnTo>
                        <a:lnTo>
                          <a:pt x="765" y="2144"/>
                        </a:lnTo>
                        <a:lnTo>
                          <a:pt x="767" y="2150"/>
                        </a:lnTo>
                        <a:lnTo>
                          <a:pt x="769" y="2156"/>
                        </a:lnTo>
                        <a:lnTo>
                          <a:pt x="772" y="2159"/>
                        </a:lnTo>
                        <a:lnTo>
                          <a:pt x="776" y="2165"/>
                        </a:lnTo>
                        <a:lnTo>
                          <a:pt x="780" y="2171"/>
                        </a:lnTo>
                        <a:lnTo>
                          <a:pt x="782" y="2175"/>
                        </a:lnTo>
                        <a:lnTo>
                          <a:pt x="786" y="2180"/>
                        </a:lnTo>
                        <a:lnTo>
                          <a:pt x="789" y="2186"/>
                        </a:lnTo>
                        <a:lnTo>
                          <a:pt x="795" y="2190"/>
                        </a:lnTo>
                        <a:lnTo>
                          <a:pt x="799" y="2196"/>
                        </a:lnTo>
                        <a:lnTo>
                          <a:pt x="805" y="2201"/>
                        </a:lnTo>
                        <a:lnTo>
                          <a:pt x="808" y="2205"/>
                        </a:lnTo>
                        <a:lnTo>
                          <a:pt x="814" y="2209"/>
                        </a:lnTo>
                        <a:lnTo>
                          <a:pt x="818" y="2213"/>
                        </a:lnTo>
                        <a:lnTo>
                          <a:pt x="824" y="2216"/>
                        </a:lnTo>
                        <a:lnTo>
                          <a:pt x="828" y="2222"/>
                        </a:lnTo>
                        <a:lnTo>
                          <a:pt x="833" y="2224"/>
                        </a:lnTo>
                        <a:lnTo>
                          <a:pt x="839" y="2228"/>
                        </a:lnTo>
                        <a:lnTo>
                          <a:pt x="845" y="2232"/>
                        </a:lnTo>
                        <a:lnTo>
                          <a:pt x="848" y="2235"/>
                        </a:lnTo>
                        <a:lnTo>
                          <a:pt x="854" y="2239"/>
                        </a:lnTo>
                        <a:lnTo>
                          <a:pt x="858" y="2243"/>
                        </a:lnTo>
                        <a:lnTo>
                          <a:pt x="864" y="2245"/>
                        </a:lnTo>
                        <a:lnTo>
                          <a:pt x="867" y="2249"/>
                        </a:lnTo>
                        <a:lnTo>
                          <a:pt x="873" y="2253"/>
                        </a:lnTo>
                        <a:lnTo>
                          <a:pt x="877" y="2256"/>
                        </a:lnTo>
                        <a:lnTo>
                          <a:pt x="883" y="2258"/>
                        </a:lnTo>
                        <a:lnTo>
                          <a:pt x="890" y="2260"/>
                        </a:lnTo>
                        <a:lnTo>
                          <a:pt x="896" y="2264"/>
                        </a:lnTo>
                        <a:lnTo>
                          <a:pt x="900" y="2266"/>
                        </a:lnTo>
                        <a:lnTo>
                          <a:pt x="904" y="2268"/>
                        </a:lnTo>
                        <a:lnTo>
                          <a:pt x="907" y="2270"/>
                        </a:lnTo>
                        <a:lnTo>
                          <a:pt x="913" y="2273"/>
                        </a:lnTo>
                        <a:lnTo>
                          <a:pt x="919" y="2275"/>
                        </a:lnTo>
                        <a:lnTo>
                          <a:pt x="925" y="2277"/>
                        </a:lnTo>
                        <a:lnTo>
                          <a:pt x="928" y="2279"/>
                        </a:lnTo>
                        <a:lnTo>
                          <a:pt x="934" y="2281"/>
                        </a:lnTo>
                        <a:lnTo>
                          <a:pt x="938" y="2283"/>
                        </a:lnTo>
                        <a:lnTo>
                          <a:pt x="942" y="2285"/>
                        </a:lnTo>
                        <a:lnTo>
                          <a:pt x="947" y="2287"/>
                        </a:lnTo>
                        <a:lnTo>
                          <a:pt x="951" y="2289"/>
                        </a:lnTo>
                        <a:lnTo>
                          <a:pt x="955" y="2289"/>
                        </a:lnTo>
                        <a:lnTo>
                          <a:pt x="961" y="2291"/>
                        </a:lnTo>
                        <a:lnTo>
                          <a:pt x="964" y="2291"/>
                        </a:lnTo>
                        <a:lnTo>
                          <a:pt x="968" y="2294"/>
                        </a:lnTo>
                        <a:lnTo>
                          <a:pt x="972" y="2294"/>
                        </a:lnTo>
                        <a:lnTo>
                          <a:pt x="978" y="2294"/>
                        </a:lnTo>
                        <a:lnTo>
                          <a:pt x="982" y="2296"/>
                        </a:lnTo>
                        <a:lnTo>
                          <a:pt x="985" y="2296"/>
                        </a:lnTo>
                        <a:lnTo>
                          <a:pt x="989" y="2296"/>
                        </a:lnTo>
                        <a:lnTo>
                          <a:pt x="993" y="2298"/>
                        </a:lnTo>
                        <a:lnTo>
                          <a:pt x="997" y="2298"/>
                        </a:lnTo>
                        <a:lnTo>
                          <a:pt x="1001" y="2298"/>
                        </a:lnTo>
                        <a:lnTo>
                          <a:pt x="1004" y="2298"/>
                        </a:lnTo>
                        <a:lnTo>
                          <a:pt x="1008" y="2300"/>
                        </a:lnTo>
                        <a:lnTo>
                          <a:pt x="1010" y="2300"/>
                        </a:lnTo>
                        <a:lnTo>
                          <a:pt x="1014" y="2300"/>
                        </a:lnTo>
                        <a:lnTo>
                          <a:pt x="1016" y="2300"/>
                        </a:lnTo>
                        <a:lnTo>
                          <a:pt x="1020" y="2300"/>
                        </a:lnTo>
                        <a:lnTo>
                          <a:pt x="1022" y="2300"/>
                        </a:lnTo>
                        <a:lnTo>
                          <a:pt x="1025" y="2302"/>
                        </a:lnTo>
                        <a:lnTo>
                          <a:pt x="1029" y="2300"/>
                        </a:lnTo>
                        <a:lnTo>
                          <a:pt x="1035" y="2300"/>
                        </a:lnTo>
                        <a:lnTo>
                          <a:pt x="1039" y="2298"/>
                        </a:lnTo>
                        <a:lnTo>
                          <a:pt x="1042" y="2298"/>
                        </a:lnTo>
                        <a:lnTo>
                          <a:pt x="1044" y="2296"/>
                        </a:lnTo>
                        <a:lnTo>
                          <a:pt x="1048" y="2296"/>
                        </a:lnTo>
                        <a:lnTo>
                          <a:pt x="1048" y="2294"/>
                        </a:lnTo>
                        <a:lnTo>
                          <a:pt x="1050" y="2294"/>
                        </a:lnTo>
                        <a:lnTo>
                          <a:pt x="1246" y="1334"/>
                        </a:lnTo>
                        <a:lnTo>
                          <a:pt x="1246" y="1333"/>
                        </a:lnTo>
                        <a:lnTo>
                          <a:pt x="1248" y="1331"/>
                        </a:lnTo>
                        <a:lnTo>
                          <a:pt x="1250" y="1327"/>
                        </a:lnTo>
                        <a:lnTo>
                          <a:pt x="1252" y="1325"/>
                        </a:lnTo>
                        <a:lnTo>
                          <a:pt x="1252" y="1323"/>
                        </a:lnTo>
                        <a:lnTo>
                          <a:pt x="1254" y="1319"/>
                        </a:lnTo>
                        <a:lnTo>
                          <a:pt x="1256" y="1315"/>
                        </a:lnTo>
                        <a:lnTo>
                          <a:pt x="1259" y="1312"/>
                        </a:lnTo>
                        <a:lnTo>
                          <a:pt x="1259" y="1306"/>
                        </a:lnTo>
                        <a:lnTo>
                          <a:pt x="1263" y="1302"/>
                        </a:lnTo>
                        <a:lnTo>
                          <a:pt x="1265" y="1296"/>
                        </a:lnTo>
                        <a:lnTo>
                          <a:pt x="1269" y="1293"/>
                        </a:lnTo>
                        <a:lnTo>
                          <a:pt x="1271" y="1285"/>
                        </a:lnTo>
                        <a:lnTo>
                          <a:pt x="1275" y="1281"/>
                        </a:lnTo>
                        <a:lnTo>
                          <a:pt x="1276" y="1274"/>
                        </a:lnTo>
                        <a:lnTo>
                          <a:pt x="1280" y="1266"/>
                        </a:lnTo>
                        <a:lnTo>
                          <a:pt x="1284" y="1258"/>
                        </a:lnTo>
                        <a:lnTo>
                          <a:pt x="1288" y="1249"/>
                        </a:lnTo>
                        <a:lnTo>
                          <a:pt x="1290" y="1241"/>
                        </a:lnTo>
                        <a:lnTo>
                          <a:pt x="1294" y="1234"/>
                        </a:lnTo>
                        <a:lnTo>
                          <a:pt x="1297" y="1224"/>
                        </a:lnTo>
                        <a:lnTo>
                          <a:pt x="1301" y="1217"/>
                        </a:lnTo>
                        <a:lnTo>
                          <a:pt x="1305" y="1207"/>
                        </a:lnTo>
                        <a:lnTo>
                          <a:pt x="1309" y="1198"/>
                        </a:lnTo>
                        <a:lnTo>
                          <a:pt x="1313" y="1188"/>
                        </a:lnTo>
                        <a:lnTo>
                          <a:pt x="1316" y="1177"/>
                        </a:lnTo>
                        <a:lnTo>
                          <a:pt x="1320" y="1165"/>
                        </a:lnTo>
                        <a:lnTo>
                          <a:pt x="1324" y="1154"/>
                        </a:lnTo>
                        <a:lnTo>
                          <a:pt x="1330" y="1144"/>
                        </a:lnTo>
                        <a:lnTo>
                          <a:pt x="1334" y="1133"/>
                        </a:lnTo>
                        <a:lnTo>
                          <a:pt x="1337" y="1122"/>
                        </a:lnTo>
                        <a:lnTo>
                          <a:pt x="1339" y="1108"/>
                        </a:lnTo>
                        <a:lnTo>
                          <a:pt x="1345" y="1097"/>
                        </a:lnTo>
                        <a:lnTo>
                          <a:pt x="1349" y="1084"/>
                        </a:lnTo>
                        <a:lnTo>
                          <a:pt x="1353" y="1070"/>
                        </a:lnTo>
                        <a:lnTo>
                          <a:pt x="1354" y="1059"/>
                        </a:lnTo>
                        <a:lnTo>
                          <a:pt x="1358" y="1044"/>
                        </a:lnTo>
                        <a:lnTo>
                          <a:pt x="1362" y="1032"/>
                        </a:lnTo>
                        <a:lnTo>
                          <a:pt x="1366" y="1017"/>
                        </a:lnTo>
                        <a:lnTo>
                          <a:pt x="1370" y="1004"/>
                        </a:lnTo>
                        <a:lnTo>
                          <a:pt x="1372" y="988"/>
                        </a:lnTo>
                        <a:lnTo>
                          <a:pt x="1375" y="975"/>
                        </a:lnTo>
                        <a:lnTo>
                          <a:pt x="1377" y="960"/>
                        </a:lnTo>
                        <a:lnTo>
                          <a:pt x="1381" y="947"/>
                        </a:lnTo>
                        <a:lnTo>
                          <a:pt x="1383" y="931"/>
                        </a:lnTo>
                        <a:lnTo>
                          <a:pt x="1387" y="916"/>
                        </a:lnTo>
                        <a:lnTo>
                          <a:pt x="1389" y="901"/>
                        </a:lnTo>
                        <a:lnTo>
                          <a:pt x="1391" y="886"/>
                        </a:lnTo>
                        <a:lnTo>
                          <a:pt x="1392" y="871"/>
                        </a:lnTo>
                        <a:lnTo>
                          <a:pt x="1394" y="855"/>
                        </a:lnTo>
                        <a:lnTo>
                          <a:pt x="1396" y="838"/>
                        </a:lnTo>
                        <a:lnTo>
                          <a:pt x="1398" y="823"/>
                        </a:lnTo>
                        <a:lnTo>
                          <a:pt x="1398" y="806"/>
                        </a:lnTo>
                        <a:lnTo>
                          <a:pt x="1400" y="791"/>
                        </a:lnTo>
                        <a:lnTo>
                          <a:pt x="1402" y="774"/>
                        </a:lnTo>
                        <a:lnTo>
                          <a:pt x="1402" y="757"/>
                        </a:lnTo>
                        <a:lnTo>
                          <a:pt x="1402" y="741"/>
                        </a:lnTo>
                        <a:lnTo>
                          <a:pt x="1402" y="724"/>
                        </a:lnTo>
                        <a:lnTo>
                          <a:pt x="1402" y="705"/>
                        </a:lnTo>
                        <a:lnTo>
                          <a:pt x="1402" y="690"/>
                        </a:lnTo>
                        <a:lnTo>
                          <a:pt x="1400" y="673"/>
                        </a:lnTo>
                        <a:lnTo>
                          <a:pt x="1400" y="656"/>
                        </a:lnTo>
                        <a:lnTo>
                          <a:pt x="1398" y="654"/>
                        </a:lnTo>
                        <a:lnTo>
                          <a:pt x="1398" y="652"/>
                        </a:lnTo>
                        <a:lnTo>
                          <a:pt x="1398" y="648"/>
                        </a:lnTo>
                        <a:lnTo>
                          <a:pt x="1398" y="644"/>
                        </a:lnTo>
                        <a:lnTo>
                          <a:pt x="1398" y="643"/>
                        </a:lnTo>
                        <a:lnTo>
                          <a:pt x="1398" y="639"/>
                        </a:lnTo>
                        <a:lnTo>
                          <a:pt x="1396" y="637"/>
                        </a:lnTo>
                        <a:lnTo>
                          <a:pt x="1396" y="633"/>
                        </a:lnTo>
                        <a:lnTo>
                          <a:pt x="1396" y="631"/>
                        </a:lnTo>
                        <a:lnTo>
                          <a:pt x="1396" y="627"/>
                        </a:lnTo>
                        <a:lnTo>
                          <a:pt x="1396" y="623"/>
                        </a:lnTo>
                        <a:lnTo>
                          <a:pt x="1394" y="620"/>
                        </a:lnTo>
                        <a:lnTo>
                          <a:pt x="1394" y="618"/>
                        </a:lnTo>
                        <a:lnTo>
                          <a:pt x="1394" y="616"/>
                        </a:lnTo>
                        <a:lnTo>
                          <a:pt x="1392" y="612"/>
                        </a:lnTo>
                        <a:lnTo>
                          <a:pt x="1392" y="610"/>
                        </a:lnTo>
                        <a:lnTo>
                          <a:pt x="1392" y="608"/>
                        </a:lnTo>
                        <a:lnTo>
                          <a:pt x="1391" y="604"/>
                        </a:lnTo>
                        <a:lnTo>
                          <a:pt x="1391" y="603"/>
                        </a:lnTo>
                        <a:lnTo>
                          <a:pt x="1391" y="599"/>
                        </a:lnTo>
                        <a:lnTo>
                          <a:pt x="1389" y="597"/>
                        </a:lnTo>
                        <a:lnTo>
                          <a:pt x="1389" y="593"/>
                        </a:lnTo>
                        <a:lnTo>
                          <a:pt x="1389" y="589"/>
                        </a:lnTo>
                        <a:lnTo>
                          <a:pt x="1389" y="587"/>
                        </a:lnTo>
                        <a:lnTo>
                          <a:pt x="1387" y="585"/>
                        </a:lnTo>
                        <a:lnTo>
                          <a:pt x="1385" y="582"/>
                        </a:lnTo>
                        <a:lnTo>
                          <a:pt x="1385" y="580"/>
                        </a:lnTo>
                        <a:lnTo>
                          <a:pt x="1383" y="578"/>
                        </a:lnTo>
                        <a:lnTo>
                          <a:pt x="1383" y="572"/>
                        </a:lnTo>
                        <a:lnTo>
                          <a:pt x="1381" y="568"/>
                        </a:lnTo>
                        <a:lnTo>
                          <a:pt x="1377" y="563"/>
                        </a:lnTo>
                        <a:lnTo>
                          <a:pt x="1375" y="557"/>
                        </a:lnTo>
                        <a:lnTo>
                          <a:pt x="1373" y="553"/>
                        </a:lnTo>
                        <a:lnTo>
                          <a:pt x="1370" y="547"/>
                        </a:lnTo>
                        <a:lnTo>
                          <a:pt x="1366" y="544"/>
                        </a:lnTo>
                        <a:lnTo>
                          <a:pt x="1364" y="540"/>
                        </a:lnTo>
                        <a:lnTo>
                          <a:pt x="1360" y="536"/>
                        </a:lnTo>
                        <a:lnTo>
                          <a:pt x="1356" y="532"/>
                        </a:lnTo>
                        <a:lnTo>
                          <a:pt x="1353" y="528"/>
                        </a:lnTo>
                        <a:lnTo>
                          <a:pt x="1349" y="525"/>
                        </a:lnTo>
                        <a:lnTo>
                          <a:pt x="1345" y="523"/>
                        </a:lnTo>
                        <a:lnTo>
                          <a:pt x="1339" y="521"/>
                        </a:lnTo>
                        <a:lnTo>
                          <a:pt x="1335" y="517"/>
                        </a:lnTo>
                        <a:lnTo>
                          <a:pt x="1332" y="515"/>
                        </a:lnTo>
                        <a:lnTo>
                          <a:pt x="1326" y="515"/>
                        </a:lnTo>
                        <a:lnTo>
                          <a:pt x="1322" y="513"/>
                        </a:lnTo>
                        <a:lnTo>
                          <a:pt x="1318" y="511"/>
                        </a:lnTo>
                        <a:lnTo>
                          <a:pt x="1316" y="511"/>
                        </a:lnTo>
                        <a:lnTo>
                          <a:pt x="1313" y="511"/>
                        </a:lnTo>
                        <a:lnTo>
                          <a:pt x="1311" y="511"/>
                        </a:lnTo>
                        <a:lnTo>
                          <a:pt x="1309" y="509"/>
                        </a:lnTo>
                        <a:lnTo>
                          <a:pt x="1305" y="509"/>
                        </a:lnTo>
                        <a:lnTo>
                          <a:pt x="1303" y="509"/>
                        </a:lnTo>
                        <a:lnTo>
                          <a:pt x="1301" y="509"/>
                        </a:lnTo>
                        <a:lnTo>
                          <a:pt x="1297" y="509"/>
                        </a:lnTo>
                        <a:lnTo>
                          <a:pt x="1295" y="509"/>
                        </a:lnTo>
                        <a:lnTo>
                          <a:pt x="1292" y="509"/>
                        </a:lnTo>
                        <a:lnTo>
                          <a:pt x="1290" y="509"/>
                        </a:lnTo>
                        <a:lnTo>
                          <a:pt x="1284" y="509"/>
                        </a:lnTo>
                        <a:lnTo>
                          <a:pt x="1280" y="509"/>
                        </a:lnTo>
                        <a:lnTo>
                          <a:pt x="1275" y="509"/>
                        </a:lnTo>
                        <a:lnTo>
                          <a:pt x="1269" y="509"/>
                        </a:lnTo>
                        <a:lnTo>
                          <a:pt x="1265" y="509"/>
                        </a:lnTo>
                        <a:lnTo>
                          <a:pt x="1259" y="509"/>
                        </a:lnTo>
                        <a:lnTo>
                          <a:pt x="1256" y="511"/>
                        </a:lnTo>
                        <a:lnTo>
                          <a:pt x="1252" y="511"/>
                        </a:lnTo>
                        <a:lnTo>
                          <a:pt x="1246" y="515"/>
                        </a:lnTo>
                        <a:lnTo>
                          <a:pt x="1242" y="515"/>
                        </a:lnTo>
                        <a:lnTo>
                          <a:pt x="1238" y="517"/>
                        </a:lnTo>
                        <a:lnTo>
                          <a:pt x="1235" y="521"/>
                        </a:lnTo>
                        <a:lnTo>
                          <a:pt x="1231" y="523"/>
                        </a:lnTo>
                        <a:lnTo>
                          <a:pt x="1229" y="525"/>
                        </a:lnTo>
                        <a:lnTo>
                          <a:pt x="1225" y="527"/>
                        </a:lnTo>
                        <a:lnTo>
                          <a:pt x="1221" y="530"/>
                        </a:lnTo>
                        <a:lnTo>
                          <a:pt x="1219" y="532"/>
                        </a:lnTo>
                        <a:lnTo>
                          <a:pt x="1216" y="538"/>
                        </a:lnTo>
                        <a:lnTo>
                          <a:pt x="1214" y="542"/>
                        </a:lnTo>
                        <a:lnTo>
                          <a:pt x="1212" y="546"/>
                        </a:lnTo>
                        <a:lnTo>
                          <a:pt x="1210" y="549"/>
                        </a:lnTo>
                        <a:lnTo>
                          <a:pt x="1208" y="555"/>
                        </a:lnTo>
                        <a:lnTo>
                          <a:pt x="1208" y="557"/>
                        </a:lnTo>
                        <a:lnTo>
                          <a:pt x="1206" y="559"/>
                        </a:lnTo>
                        <a:lnTo>
                          <a:pt x="1204" y="561"/>
                        </a:lnTo>
                        <a:lnTo>
                          <a:pt x="1204" y="565"/>
                        </a:lnTo>
                        <a:lnTo>
                          <a:pt x="1204" y="566"/>
                        </a:lnTo>
                        <a:lnTo>
                          <a:pt x="1204" y="570"/>
                        </a:lnTo>
                        <a:lnTo>
                          <a:pt x="1204" y="572"/>
                        </a:lnTo>
                        <a:lnTo>
                          <a:pt x="1204" y="576"/>
                        </a:lnTo>
                        <a:lnTo>
                          <a:pt x="1139" y="895"/>
                        </a:lnTo>
                        <a:lnTo>
                          <a:pt x="1136" y="893"/>
                        </a:lnTo>
                        <a:lnTo>
                          <a:pt x="1132" y="892"/>
                        </a:lnTo>
                        <a:lnTo>
                          <a:pt x="1126" y="888"/>
                        </a:lnTo>
                        <a:lnTo>
                          <a:pt x="1122" y="886"/>
                        </a:lnTo>
                        <a:lnTo>
                          <a:pt x="1117" y="884"/>
                        </a:lnTo>
                        <a:lnTo>
                          <a:pt x="1113" y="880"/>
                        </a:lnTo>
                        <a:lnTo>
                          <a:pt x="1107" y="878"/>
                        </a:lnTo>
                        <a:lnTo>
                          <a:pt x="1105" y="876"/>
                        </a:lnTo>
                        <a:lnTo>
                          <a:pt x="1227" y="316"/>
                        </a:lnTo>
                        <a:lnTo>
                          <a:pt x="1227" y="312"/>
                        </a:lnTo>
                        <a:lnTo>
                          <a:pt x="1227" y="308"/>
                        </a:lnTo>
                        <a:lnTo>
                          <a:pt x="1229" y="306"/>
                        </a:lnTo>
                        <a:lnTo>
                          <a:pt x="1229" y="304"/>
                        </a:lnTo>
                        <a:lnTo>
                          <a:pt x="1229" y="300"/>
                        </a:lnTo>
                        <a:lnTo>
                          <a:pt x="1229" y="298"/>
                        </a:lnTo>
                        <a:lnTo>
                          <a:pt x="1229" y="295"/>
                        </a:lnTo>
                        <a:lnTo>
                          <a:pt x="1229" y="293"/>
                        </a:lnTo>
                        <a:lnTo>
                          <a:pt x="1229" y="291"/>
                        </a:lnTo>
                        <a:lnTo>
                          <a:pt x="1229" y="287"/>
                        </a:lnTo>
                        <a:lnTo>
                          <a:pt x="1229" y="285"/>
                        </a:lnTo>
                        <a:lnTo>
                          <a:pt x="1229" y="283"/>
                        </a:lnTo>
                        <a:lnTo>
                          <a:pt x="1229" y="278"/>
                        </a:lnTo>
                        <a:lnTo>
                          <a:pt x="1227" y="272"/>
                        </a:lnTo>
                        <a:lnTo>
                          <a:pt x="1225" y="268"/>
                        </a:lnTo>
                        <a:lnTo>
                          <a:pt x="1225" y="262"/>
                        </a:lnTo>
                        <a:lnTo>
                          <a:pt x="1223" y="257"/>
                        </a:lnTo>
                        <a:lnTo>
                          <a:pt x="1221" y="253"/>
                        </a:lnTo>
                        <a:lnTo>
                          <a:pt x="1219" y="247"/>
                        </a:lnTo>
                        <a:lnTo>
                          <a:pt x="1217" y="243"/>
                        </a:lnTo>
                        <a:lnTo>
                          <a:pt x="1216" y="240"/>
                        </a:lnTo>
                        <a:lnTo>
                          <a:pt x="1214" y="236"/>
                        </a:lnTo>
                        <a:lnTo>
                          <a:pt x="1210" y="232"/>
                        </a:lnTo>
                        <a:lnTo>
                          <a:pt x="1206" y="226"/>
                        </a:lnTo>
                        <a:lnTo>
                          <a:pt x="1202" y="222"/>
                        </a:lnTo>
                        <a:lnTo>
                          <a:pt x="1200" y="219"/>
                        </a:lnTo>
                        <a:lnTo>
                          <a:pt x="1197" y="215"/>
                        </a:lnTo>
                        <a:lnTo>
                          <a:pt x="1193" y="211"/>
                        </a:lnTo>
                        <a:lnTo>
                          <a:pt x="1189" y="207"/>
                        </a:lnTo>
                        <a:lnTo>
                          <a:pt x="1185" y="205"/>
                        </a:lnTo>
                        <a:lnTo>
                          <a:pt x="1179" y="203"/>
                        </a:lnTo>
                        <a:lnTo>
                          <a:pt x="1176" y="200"/>
                        </a:lnTo>
                        <a:lnTo>
                          <a:pt x="1172" y="198"/>
                        </a:lnTo>
                        <a:lnTo>
                          <a:pt x="1166" y="194"/>
                        </a:lnTo>
                        <a:lnTo>
                          <a:pt x="1160" y="192"/>
                        </a:lnTo>
                        <a:lnTo>
                          <a:pt x="1157" y="192"/>
                        </a:lnTo>
                        <a:lnTo>
                          <a:pt x="1151" y="190"/>
                        </a:lnTo>
                        <a:lnTo>
                          <a:pt x="1147" y="190"/>
                        </a:lnTo>
                        <a:lnTo>
                          <a:pt x="1143" y="188"/>
                        </a:lnTo>
                        <a:lnTo>
                          <a:pt x="1141" y="186"/>
                        </a:lnTo>
                        <a:lnTo>
                          <a:pt x="1138" y="186"/>
                        </a:lnTo>
                        <a:lnTo>
                          <a:pt x="1136" y="186"/>
                        </a:lnTo>
                        <a:lnTo>
                          <a:pt x="1134" y="186"/>
                        </a:lnTo>
                        <a:lnTo>
                          <a:pt x="1130" y="186"/>
                        </a:lnTo>
                        <a:lnTo>
                          <a:pt x="1128" y="186"/>
                        </a:lnTo>
                        <a:lnTo>
                          <a:pt x="1124" y="186"/>
                        </a:lnTo>
                        <a:lnTo>
                          <a:pt x="1122" y="186"/>
                        </a:lnTo>
                        <a:lnTo>
                          <a:pt x="1120" y="186"/>
                        </a:lnTo>
                        <a:lnTo>
                          <a:pt x="1117" y="186"/>
                        </a:lnTo>
                        <a:lnTo>
                          <a:pt x="1115" y="186"/>
                        </a:lnTo>
                        <a:lnTo>
                          <a:pt x="1109" y="186"/>
                        </a:lnTo>
                        <a:lnTo>
                          <a:pt x="1105" y="188"/>
                        </a:lnTo>
                        <a:lnTo>
                          <a:pt x="1100" y="188"/>
                        </a:lnTo>
                        <a:lnTo>
                          <a:pt x="1094" y="190"/>
                        </a:lnTo>
                        <a:lnTo>
                          <a:pt x="1090" y="192"/>
                        </a:lnTo>
                        <a:lnTo>
                          <a:pt x="1086" y="192"/>
                        </a:lnTo>
                        <a:lnTo>
                          <a:pt x="1081" y="194"/>
                        </a:lnTo>
                        <a:lnTo>
                          <a:pt x="1077" y="198"/>
                        </a:lnTo>
                        <a:lnTo>
                          <a:pt x="1073" y="200"/>
                        </a:lnTo>
                        <a:lnTo>
                          <a:pt x="1067" y="203"/>
                        </a:lnTo>
                        <a:lnTo>
                          <a:pt x="1063" y="205"/>
                        </a:lnTo>
                        <a:lnTo>
                          <a:pt x="1058" y="207"/>
                        </a:lnTo>
                        <a:lnTo>
                          <a:pt x="1054" y="211"/>
                        </a:lnTo>
                        <a:lnTo>
                          <a:pt x="1050" y="215"/>
                        </a:lnTo>
                        <a:lnTo>
                          <a:pt x="1048" y="219"/>
                        </a:lnTo>
                        <a:lnTo>
                          <a:pt x="1044" y="222"/>
                        </a:lnTo>
                        <a:lnTo>
                          <a:pt x="1041" y="226"/>
                        </a:lnTo>
                        <a:lnTo>
                          <a:pt x="1039" y="232"/>
                        </a:lnTo>
                        <a:lnTo>
                          <a:pt x="1035" y="234"/>
                        </a:lnTo>
                        <a:lnTo>
                          <a:pt x="1033" y="240"/>
                        </a:lnTo>
                        <a:lnTo>
                          <a:pt x="1029" y="243"/>
                        </a:lnTo>
                        <a:lnTo>
                          <a:pt x="1027" y="249"/>
                        </a:lnTo>
                        <a:lnTo>
                          <a:pt x="1025" y="253"/>
                        </a:lnTo>
                        <a:lnTo>
                          <a:pt x="1023" y="259"/>
                        </a:lnTo>
                        <a:lnTo>
                          <a:pt x="1022" y="260"/>
                        </a:lnTo>
                        <a:lnTo>
                          <a:pt x="1022" y="264"/>
                        </a:lnTo>
                        <a:lnTo>
                          <a:pt x="1022" y="266"/>
                        </a:lnTo>
                        <a:lnTo>
                          <a:pt x="1022" y="270"/>
                        </a:lnTo>
                        <a:lnTo>
                          <a:pt x="919" y="730"/>
                        </a:lnTo>
                        <a:lnTo>
                          <a:pt x="915" y="728"/>
                        </a:lnTo>
                        <a:lnTo>
                          <a:pt x="913" y="726"/>
                        </a:lnTo>
                        <a:lnTo>
                          <a:pt x="907" y="724"/>
                        </a:lnTo>
                        <a:lnTo>
                          <a:pt x="905" y="720"/>
                        </a:lnTo>
                        <a:lnTo>
                          <a:pt x="904" y="719"/>
                        </a:lnTo>
                        <a:lnTo>
                          <a:pt x="900" y="717"/>
                        </a:lnTo>
                        <a:lnTo>
                          <a:pt x="896" y="713"/>
                        </a:lnTo>
                        <a:lnTo>
                          <a:pt x="892" y="713"/>
                        </a:lnTo>
                        <a:lnTo>
                          <a:pt x="1022" y="129"/>
                        </a:lnTo>
                        <a:lnTo>
                          <a:pt x="1022" y="125"/>
                        </a:lnTo>
                        <a:lnTo>
                          <a:pt x="1022" y="124"/>
                        </a:lnTo>
                        <a:lnTo>
                          <a:pt x="1022" y="120"/>
                        </a:lnTo>
                        <a:lnTo>
                          <a:pt x="1022" y="118"/>
                        </a:lnTo>
                        <a:lnTo>
                          <a:pt x="1022" y="114"/>
                        </a:lnTo>
                        <a:lnTo>
                          <a:pt x="1022" y="112"/>
                        </a:lnTo>
                        <a:lnTo>
                          <a:pt x="1022" y="110"/>
                        </a:lnTo>
                        <a:lnTo>
                          <a:pt x="1022" y="106"/>
                        </a:lnTo>
                        <a:lnTo>
                          <a:pt x="1022" y="105"/>
                        </a:lnTo>
                        <a:lnTo>
                          <a:pt x="1022" y="103"/>
                        </a:lnTo>
                        <a:lnTo>
                          <a:pt x="1022" y="99"/>
                        </a:lnTo>
                        <a:lnTo>
                          <a:pt x="1022" y="97"/>
                        </a:lnTo>
                        <a:lnTo>
                          <a:pt x="1022" y="91"/>
                        </a:lnTo>
                        <a:lnTo>
                          <a:pt x="1022" y="86"/>
                        </a:lnTo>
                        <a:lnTo>
                          <a:pt x="1020" y="82"/>
                        </a:lnTo>
                        <a:lnTo>
                          <a:pt x="1018" y="76"/>
                        </a:lnTo>
                        <a:lnTo>
                          <a:pt x="1016" y="70"/>
                        </a:lnTo>
                        <a:lnTo>
                          <a:pt x="1014" y="67"/>
                        </a:lnTo>
                        <a:lnTo>
                          <a:pt x="1012" y="61"/>
                        </a:lnTo>
                        <a:lnTo>
                          <a:pt x="1010" y="57"/>
                        </a:lnTo>
                        <a:lnTo>
                          <a:pt x="1008" y="53"/>
                        </a:lnTo>
                        <a:lnTo>
                          <a:pt x="1006" y="48"/>
                        </a:lnTo>
                        <a:lnTo>
                          <a:pt x="1004" y="44"/>
                        </a:lnTo>
                        <a:lnTo>
                          <a:pt x="1001" y="40"/>
                        </a:lnTo>
                        <a:lnTo>
                          <a:pt x="997" y="36"/>
                        </a:lnTo>
                        <a:lnTo>
                          <a:pt x="993" y="32"/>
                        </a:lnTo>
                        <a:lnTo>
                          <a:pt x="991" y="29"/>
                        </a:lnTo>
                        <a:lnTo>
                          <a:pt x="985" y="25"/>
                        </a:lnTo>
                        <a:lnTo>
                          <a:pt x="983" y="23"/>
                        </a:lnTo>
                        <a:lnTo>
                          <a:pt x="978" y="19"/>
                        </a:lnTo>
                        <a:lnTo>
                          <a:pt x="972" y="17"/>
                        </a:lnTo>
                        <a:lnTo>
                          <a:pt x="968" y="13"/>
                        </a:lnTo>
                        <a:lnTo>
                          <a:pt x="964" y="11"/>
                        </a:lnTo>
                        <a:lnTo>
                          <a:pt x="961" y="10"/>
                        </a:lnTo>
                        <a:lnTo>
                          <a:pt x="955" y="6"/>
                        </a:lnTo>
                        <a:lnTo>
                          <a:pt x="949" y="6"/>
                        </a:lnTo>
                        <a:lnTo>
                          <a:pt x="944" y="4"/>
                        </a:lnTo>
                        <a:lnTo>
                          <a:pt x="940" y="4"/>
                        </a:lnTo>
                        <a:lnTo>
                          <a:pt x="936" y="2"/>
                        </a:lnTo>
                        <a:lnTo>
                          <a:pt x="934" y="2"/>
                        </a:lnTo>
                        <a:lnTo>
                          <a:pt x="932" y="0"/>
                        </a:lnTo>
                        <a:lnTo>
                          <a:pt x="928" y="0"/>
                        </a:lnTo>
                        <a:lnTo>
                          <a:pt x="926" y="0"/>
                        </a:lnTo>
                        <a:lnTo>
                          <a:pt x="925" y="0"/>
                        </a:lnTo>
                        <a:lnTo>
                          <a:pt x="921" y="0"/>
                        </a:lnTo>
                        <a:lnTo>
                          <a:pt x="919" y="0"/>
                        </a:lnTo>
                        <a:lnTo>
                          <a:pt x="915" y="0"/>
                        </a:lnTo>
                        <a:lnTo>
                          <a:pt x="913" y="0"/>
                        </a:lnTo>
                        <a:lnTo>
                          <a:pt x="911" y="0"/>
                        </a:lnTo>
                        <a:lnTo>
                          <a:pt x="907" y="0"/>
                        </a:lnTo>
                        <a:lnTo>
                          <a:pt x="904" y="0"/>
                        </a:lnTo>
                        <a:lnTo>
                          <a:pt x="898" y="2"/>
                        </a:lnTo>
                        <a:lnTo>
                          <a:pt x="896" y="2"/>
                        </a:lnTo>
                        <a:lnTo>
                          <a:pt x="892" y="2"/>
                        </a:lnTo>
                        <a:lnTo>
                          <a:pt x="890" y="2"/>
                        </a:lnTo>
                        <a:lnTo>
                          <a:pt x="888" y="4"/>
                        </a:lnTo>
                        <a:lnTo>
                          <a:pt x="881" y="4"/>
                        </a:lnTo>
                        <a:lnTo>
                          <a:pt x="877" y="6"/>
                        </a:lnTo>
                        <a:lnTo>
                          <a:pt x="873" y="10"/>
                        </a:lnTo>
                        <a:lnTo>
                          <a:pt x="867" y="11"/>
                        </a:lnTo>
                        <a:lnTo>
                          <a:pt x="864" y="15"/>
                        </a:lnTo>
                        <a:lnTo>
                          <a:pt x="860" y="17"/>
                        </a:lnTo>
                        <a:lnTo>
                          <a:pt x="854" y="19"/>
                        </a:lnTo>
                        <a:lnTo>
                          <a:pt x="850" y="23"/>
                        </a:lnTo>
                        <a:lnTo>
                          <a:pt x="847" y="25"/>
                        </a:lnTo>
                        <a:lnTo>
                          <a:pt x="843" y="29"/>
                        </a:lnTo>
                        <a:lnTo>
                          <a:pt x="839" y="32"/>
                        </a:lnTo>
                        <a:lnTo>
                          <a:pt x="835" y="36"/>
                        </a:lnTo>
                        <a:lnTo>
                          <a:pt x="833" y="40"/>
                        </a:lnTo>
                        <a:lnTo>
                          <a:pt x="831" y="44"/>
                        </a:lnTo>
                        <a:lnTo>
                          <a:pt x="828" y="48"/>
                        </a:lnTo>
                        <a:lnTo>
                          <a:pt x="824" y="53"/>
                        </a:lnTo>
                        <a:lnTo>
                          <a:pt x="822" y="57"/>
                        </a:lnTo>
                        <a:lnTo>
                          <a:pt x="820" y="61"/>
                        </a:lnTo>
                        <a:lnTo>
                          <a:pt x="818" y="67"/>
                        </a:lnTo>
                        <a:lnTo>
                          <a:pt x="816" y="70"/>
                        </a:lnTo>
                        <a:lnTo>
                          <a:pt x="816" y="74"/>
                        </a:lnTo>
                        <a:lnTo>
                          <a:pt x="814" y="76"/>
                        </a:lnTo>
                        <a:lnTo>
                          <a:pt x="812" y="82"/>
                        </a:lnTo>
                        <a:lnTo>
                          <a:pt x="812" y="84"/>
                        </a:lnTo>
                        <a:lnTo>
                          <a:pt x="687" y="663"/>
                        </a:lnTo>
                        <a:lnTo>
                          <a:pt x="681" y="663"/>
                        </a:lnTo>
                        <a:lnTo>
                          <a:pt x="677" y="663"/>
                        </a:lnTo>
                        <a:lnTo>
                          <a:pt x="673" y="663"/>
                        </a:lnTo>
                        <a:lnTo>
                          <a:pt x="670" y="663"/>
                        </a:lnTo>
                        <a:lnTo>
                          <a:pt x="666" y="663"/>
                        </a:lnTo>
                        <a:lnTo>
                          <a:pt x="660" y="665"/>
                        </a:lnTo>
                        <a:lnTo>
                          <a:pt x="656" y="665"/>
                        </a:lnTo>
                        <a:lnTo>
                          <a:pt x="652" y="667"/>
                        </a:lnTo>
                        <a:lnTo>
                          <a:pt x="753" y="213"/>
                        </a:lnTo>
                        <a:lnTo>
                          <a:pt x="753" y="209"/>
                        </a:lnTo>
                        <a:lnTo>
                          <a:pt x="753" y="207"/>
                        </a:lnTo>
                        <a:lnTo>
                          <a:pt x="753" y="203"/>
                        </a:lnTo>
                        <a:lnTo>
                          <a:pt x="753" y="201"/>
                        </a:lnTo>
                        <a:lnTo>
                          <a:pt x="753" y="198"/>
                        </a:lnTo>
                        <a:lnTo>
                          <a:pt x="753" y="196"/>
                        </a:lnTo>
                        <a:lnTo>
                          <a:pt x="753" y="192"/>
                        </a:lnTo>
                        <a:lnTo>
                          <a:pt x="753" y="190"/>
                        </a:lnTo>
                        <a:lnTo>
                          <a:pt x="753" y="188"/>
                        </a:lnTo>
                        <a:lnTo>
                          <a:pt x="753" y="184"/>
                        </a:lnTo>
                        <a:lnTo>
                          <a:pt x="753" y="182"/>
                        </a:lnTo>
                        <a:lnTo>
                          <a:pt x="753" y="181"/>
                        </a:lnTo>
                        <a:lnTo>
                          <a:pt x="753" y="175"/>
                        </a:lnTo>
                        <a:lnTo>
                          <a:pt x="753" y="169"/>
                        </a:lnTo>
                        <a:lnTo>
                          <a:pt x="751" y="167"/>
                        </a:lnTo>
                        <a:lnTo>
                          <a:pt x="751" y="163"/>
                        </a:lnTo>
                        <a:lnTo>
                          <a:pt x="751" y="162"/>
                        </a:lnTo>
                        <a:lnTo>
                          <a:pt x="750" y="160"/>
                        </a:lnTo>
                        <a:lnTo>
                          <a:pt x="748" y="154"/>
                        </a:lnTo>
                        <a:lnTo>
                          <a:pt x="746" y="148"/>
                        </a:lnTo>
                        <a:lnTo>
                          <a:pt x="744" y="144"/>
                        </a:lnTo>
                        <a:lnTo>
                          <a:pt x="742" y="141"/>
                        </a:lnTo>
                        <a:lnTo>
                          <a:pt x="740" y="135"/>
                        </a:lnTo>
                        <a:lnTo>
                          <a:pt x="738" y="131"/>
                        </a:lnTo>
                        <a:lnTo>
                          <a:pt x="734" y="127"/>
                        </a:lnTo>
                        <a:lnTo>
                          <a:pt x="730" y="124"/>
                        </a:lnTo>
                        <a:lnTo>
                          <a:pt x="727" y="120"/>
                        </a:lnTo>
                        <a:lnTo>
                          <a:pt x="725" y="116"/>
                        </a:lnTo>
                        <a:lnTo>
                          <a:pt x="721" y="112"/>
                        </a:lnTo>
                        <a:lnTo>
                          <a:pt x="717" y="108"/>
                        </a:lnTo>
                        <a:lnTo>
                          <a:pt x="713" y="105"/>
                        </a:lnTo>
                        <a:lnTo>
                          <a:pt x="710" y="103"/>
                        </a:lnTo>
                        <a:lnTo>
                          <a:pt x="704" y="99"/>
                        </a:lnTo>
                        <a:lnTo>
                          <a:pt x="700" y="97"/>
                        </a:lnTo>
                        <a:lnTo>
                          <a:pt x="694" y="95"/>
                        </a:lnTo>
                        <a:lnTo>
                          <a:pt x="691" y="91"/>
                        </a:lnTo>
                        <a:lnTo>
                          <a:pt x="685" y="89"/>
                        </a:lnTo>
                        <a:lnTo>
                          <a:pt x="681" y="87"/>
                        </a:lnTo>
                        <a:lnTo>
                          <a:pt x="675" y="86"/>
                        </a:lnTo>
                        <a:lnTo>
                          <a:pt x="672" y="86"/>
                        </a:lnTo>
                        <a:lnTo>
                          <a:pt x="668" y="84"/>
                        </a:lnTo>
                        <a:lnTo>
                          <a:pt x="666" y="84"/>
                        </a:lnTo>
                        <a:lnTo>
                          <a:pt x="664" y="84"/>
                        </a:lnTo>
                        <a:lnTo>
                          <a:pt x="660" y="84"/>
                        </a:lnTo>
                        <a:lnTo>
                          <a:pt x="658" y="84"/>
                        </a:lnTo>
                        <a:lnTo>
                          <a:pt x="654" y="84"/>
                        </a:lnTo>
                        <a:lnTo>
                          <a:pt x="652" y="84"/>
                        </a:lnTo>
                        <a:lnTo>
                          <a:pt x="651" y="84"/>
                        </a:lnTo>
                        <a:lnTo>
                          <a:pt x="647" y="84"/>
                        </a:lnTo>
                        <a:lnTo>
                          <a:pt x="645" y="84"/>
                        </a:lnTo>
                        <a:lnTo>
                          <a:pt x="643" y="84"/>
                        </a:lnTo>
                        <a:lnTo>
                          <a:pt x="639" y="84"/>
                        </a:lnTo>
                        <a:lnTo>
                          <a:pt x="635" y="84"/>
                        </a:lnTo>
                        <a:lnTo>
                          <a:pt x="630" y="84"/>
                        </a:lnTo>
                        <a:lnTo>
                          <a:pt x="628" y="84"/>
                        </a:lnTo>
                        <a:lnTo>
                          <a:pt x="624" y="86"/>
                        </a:lnTo>
                        <a:lnTo>
                          <a:pt x="622" y="86"/>
                        </a:lnTo>
                        <a:lnTo>
                          <a:pt x="618" y="86"/>
                        </a:lnTo>
                        <a:lnTo>
                          <a:pt x="614" y="87"/>
                        </a:lnTo>
                        <a:lnTo>
                          <a:pt x="609" y="89"/>
                        </a:lnTo>
                        <a:lnTo>
                          <a:pt x="603" y="91"/>
                        </a:lnTo>
                        <a:lnTo>
                          <a:pt x="599" y="95"/>
                        </a:lnTo>
                        <a:lnTo>
                          <a:pt x="595" y="97"/>
                        </a:lnTo>
                        <a:lnTo>
                          <a:pt x="592" y="99"/>
                        </a:lnTo>
                        <a:lnTo>
                          <a:pt x="586" y="103"/>
                        </a:lnTo>
                        <a:lnTo>
                          <a:pt x="582" y="105"/>
                        </a:lnTo>
                        <a:lnTo>
                          <a:pt x="578" y="108"/>
                        </a:lnTo>
                        <a:lnTo>
                          <a:pt x="574" y="112"/>
                        </a:lnTo>
                        <a:lnTo>
                          <a:pt x="571" y="116"/>
                        </a:lnTo>
                        <a:lnTo>
                          <a:pt x="567" y="120"/>
                        </a:lnTo>
                        <a:lnTo>
                          <a:pt x="565" y="124"/>
                        </a:lnTo>
                        <a:lnTo>
                          <a:pt x="563" y="127"/>
                        </a:lnTo>
                        <a:lnTo>
                          <a:pt x="559" y="131"/>
                        </a:lnTo>
                        <a:lnTo>
                          <a:pt x="555" y="135"/>
                        </a:lnTo>
                        <a:lnTo>
                          <a:pt x="554" y="141"/>
                        </a:lnTo>
                        <a:lnTo>
                          <a:pt x="552" y="146"/>
                        </a:lnTo>
                        <a:lnTo>
                          <a:pt x="550" y="150"/>
                        </a:lnTo>
                        <a:lnTo>
                          <a:pt x="548" y="156"/>
                        </a:lnTo>
                        <a:lnTo>
                          <a:pt x="546" y="158"/>
                        </a:lnTo>
                        <a:lnTo>
                          <a:pt x="546" y="160"/>
                        </a:lnTo>
                        <a:lnTo>
                          <a:pt x="544" y="163"/>
                        </a:lnTo>
                        <a:lnTo>
                          <a:pt x="544" y="167"/>
                        </a:lnTo>
                        <a:lnTo>
                          <a:pt x="361" y="1127"/>
                        </a:lnTo>
                        <a:lnTo>
                          <a:pt x="361" y="1127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4" name="AutoShape 430"/>
                <p:cNvSpPr/>
                <p:nvPr/>
              </p:nvSpPr>
              <p:spPr>
                <a:xfrm rot="9027600">
                  <a:off x="4347360" y="2269800"/>
                  <a:ext cx="88560" cy="75960"/>
                </a:xfrm>
                <a:prstGeom prst="hexagon">
                  <a:avLst>
                    <a:gd name="adj" fmla="val 29147"/>
                    <a:gd name="vf" fmla="val 11547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5" name="Group 431"/>
              <p:cNvGrpSpPr/>
              <p:nvPr/>
            </p:nvGrpSpPr>
            <p:grpSpPr>
              <a:xfrm>
                <a:off x="4025520" y="1442160"/>
                <a:ext cx="1304640" cy="2131560"/>
                <a:chOff x="4025520" y="1442160"/>
                <a:chExt cx="1304640" cy="2131560"/>
              </a:xfrm>
            </p:grpSpPr>
            <p:grpSp>
              <p:nvGrpSpPr>
                <p:cNvPr id="1716" name="Group 432"/>
                <p:cNvGrpSpPr/>
                <p:nvPr/>
              </p:nvGrpSpPr>
              <p:grpSpPr>
                <a:xfrm>
                  <a:off x="4025520" y="1442160"/>
                  <a:ext cx="802440" cy="1160640"/>
                  <a:chOff x="4025520" y="1442160"/>
                  <a:chExt cx="802440" cy="1160640"/>
                </a:xfrm>
              </p:grpSpPr>
              <p:grpSp>
                <p:nvGrpSpPr>
                  <p:cNvPr id="1717" name="Group 433"/>
                  <p:cNvGrpSpPr/>
                  <p:nvPr/>
                </p:nvGrpSpPr>
                <p:grpSpPr>
                  <a:xfrm>
                    <a:off x="4355280" y="1973880"/>
                    <a:ext cx="472680" cy="628920"/>
                    <a:chOff x="4355280" y="1973880"/>
                    <a:chExt cx="472680" cy="628920"/>
                  </a:xfrm>
                </p:grpSpPr>
                <p:sp>
                  <p:nvSpPr>
                    <p:cNvPr id="1718" name="AutoShape 434"/>
                    <p:cNvSpPr/>
                    <p:nvPr/>
                  </p:nvSpPr>
                  <p:spPr>
                    <a:xfrm rot="9043800">
                      <a:off x="4463640" y="1986480"/>
                      <a:ext cx="179640" cy="49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9" name="AutoShape 435"/>
                    <p:cNvSpPr/>
                    <p:nvPr/>
                  </p:nvSpPr>
                  <p:spPr>
                    <a:xfrm rot="14622000">
                      <a:off x="4583160" y="2346120"/>
                      <a:ext cx="19188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20" name="Group 436"/>
                  <p:cNvGrpSpPr/>
                  <p:nvPr/>
                </p:nvGrpSpPr>
                <p:grpSpPr>
                  <a:xfrm>
                    <a:off x="4025520" y="1442160"/>
                    <a:ext cx="531000" cy="699840"/>
                    <a:chOff x="4025520" y="1442160"/>
                    <a:chExt cx="531000" cy="699840"/>
                  </a:xfrm>
                </p:grpSpPr>
                <p:sp>
                  <p:nvSpPr>
                    <p:cNvPr id="1721" name="AutoShape 437"/>
                    <p:cNvSpPr/>
                    <p:nvPr/>
                  </p:nvSpPr>
                  <p:spPr>
                    <a:xfrm rot="9058800">
                      <a:off x="4245120" y="1659960"/>
                      <a:ext cx="180360" cy="36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4308" y="21600"/>
                          </a:lnTo>
                          <a:lnTo>
                            <a:pt x="17292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2" name="Oval 438"/>
                    <p:cNvSpPr/>
                    <p:nvPr/>
                  </p:nvSpPr>
                  <p:spPr>
                    <a:xfrm rot="9597600">
                      <a:off x="4342320" y="1925280"/>
                      <a:ext cx="187200" cy="19044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3" name="Freeform 439"/>
                    <p:cNvSpPr/>
                    <p:nvPr/>
                  </p:nvSpPr>
                  <p:spPr>
                    <a:xfrm rot="19092600">
                      <a:off x="4098960" y="1463760"/>
                      <a:ext cx="175680" cy="28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2" h="2302">
                          <a:moveTo>
                            <a:pt x="361" y="1127"/>
                          </a:moveTo>
                          <a:lnTo>
                            <a:pt x="280" y="1116"/>
                          </a:lnTo>
                          <a:lnTo>
                            <a:pt x="373" y="711"/>
                          </a:lnTo>
                          <a:lnTo>
                            <a:pt x="373" y="709"/>
                          </a:lnTo>
                          <a:lnTo>
                            <a:pt x="375" y="705"/>
                          </a:lnTo>
                          <a:lnTo>
                            <a:pt x="375" y="703"/>
                          </a:lnTo>
                          <a:lnTo>
                            <a:pt x="375" y="700"/>
                          </a:lnTo>
                          <a:lnTo>
                            <a:pt x="375" y="698"/>
                          </a:lnTo>
                          <a:lnTo>
                            <a:pt x="375" y="696"/>
                          </a:lnTo>
                          <a:lnTo>
                            <a:pt x="375" y="692"/>
                          </a:lnTo>
                          <a:lnTo>
                            <a:pt x="375" y="690"/>
                          </a:lnTo>
                          <a:lnTo>
                            <a:pt x="375" y="684"/>
                          </a:lnTo>
                          <a:lnTo>
                            <a:pt x="375" y="681"/>
                          </a:lnTo>
                          <a:lnTo>
                            <a:pt x="375" y="675"/>
                          </a:lnTo>
                          <a:lnTo>
                            <a:pt x="375" y="669"/>
                          </a:lnTo>
                          <a:lnTo>
                            <a:pt x="371" y="665"/>
                          </a:lnTo>
                          <a:lnTo>
                            <a:pt x="371" y="660"/>
                          </a:lnTo>
                          <a:lnTo>
                            <a:pt x="369" y="654"/>
                          </a:lnTo>
                          <a:lnTo>
                            <a:pt x="367" y="652"/>
                          </a:lnTo>
                          <a:lnTo>
                            <a:pt x="365" y="646"/>
                          </a:lnTo>
                          <a:lnTo>
                            <a:pt x="363" y="641"/>
                          </a:lnTo>
                          <a:lnTo>
                            <a:pt x="361" y="637"/>
                          </a:lnTo>
                          <a:lnTo>
                            <a:pt x="358" y="633"/>
                          </a:lnTo>
                          <a:lnTo>
                            <a:pt x="356" y="629"/>
                          </a:lnTo>
                          <a:lnTo>
                            <a:pt x="354" y="623"/>
                          </a:lnTo>
                          <a:lnTo>
                            <a:pt x="350" y="620"/>
                          </a:lnTo>
                          <a:lnTo>
                            <a:pt x="346" y="616"/>
                          </a:lnTo>
                          <a:lnTo>
                            <a:pt x="342" y="612"/>
                          </a:lnTo>
                          <a:lnTo>
                            <a:pt x="339" y="610"/>
                          </a:lnTo>
                          <a:lnTo>
                            <a:pt x="335" y="606"/>
                          </a:lnTo>
                          <a:lnTo>
                            <a:pt x="331" y="603"/>
                          </a:lnTo>
                          <a:lnTo>
                            <a:pt x="325" y="601"/>
                          </a:lnTo>
                          <a:lnTo>
                            <a:pt x="321" y="597"/>
                          </a:lnTo>
                          <a:lnTo>
                            <a:pt x="318" y="595"/>
                          </a:lnTo>
                          <a:lnTo>
                            <a:pt x="312" y="593"/>
                          </a:lnTo>
                          <a:lnTo>
                            <a:pt x="306" y="591"/>
                          </a:lnTo>
                          <a:lnTo>
                            <a:pt x="302" y="589"/>
                          </a:lnTo>
                          <a:lnTo>
                            <a:pt x="299" y="589"/>
                          </a:lnTo>
                          <a:lnTo>
                            <a:pt x="295" y="587"/>
                          </a:lnTo>
                          <a:lnTo>
                            <a:pt x="291" y="587"/>
                          </a:lnTo>
                          <a:lnTo>
                            <a:pt x="287" y="585"/>
                          </a:lnTo>
                          <a:lnTo>
                            <a:pt x="285" y="585"/>
                          </a:lnTo>
                          <a:lnTo>
                            <a:pt x="283" y="585"/>
                          </a:lnTo>
                          <a:lnTo>
                            <a:pt x="280" y="585"/>
                          </a:lnTo>
                          <a:lnTo>
                            <a:pt x="276" y="585"/>
                          </a:lnTo>
                          <a:lnTo>
                            <a:pt x="274" y="585"/>
                          </a:lnTo>
                          <a:lnTo>
                            <a:pt x="272" y="585"/>
                          </a:lnTo>
                          <a:lnTo>
                            <a:pt x="268" y="585"/>
                          </a:lnTo>
                          <a:lnTo>
                            <a:pt x="266" y="585"/>
                          </a:lnTo>
                          <a:lnTo>
                            <a:pt x="263" y="585"/>
                          </a:lnTo>
                          <a:lnTo>
                            <a:pt x="261" y="587"/>
                          </a:lnTo>
                          <a:lnTo>
                            <a:pt x="259" y="587"/>
                          </a:lnTo>
                          <a:lnTo>
                            <a:pt x="255" y="587"/>
                          </a:lnTo>
                          <a:lnTo>
                            <a:pt x="253" y="589"/>
                          </a:lnTo>
                          <a:lnTo>
                            <a:pt x="249" y="589"/>
                          </a:lnTo>
                          <a:lnTo>
                            <a:pt x="247" y="589"/>
                          </a:lnTo>
                          <a:lnTo>
                            <a:pt x="243" y="591"/>
                          </a:lnTo>
                          <a:lnTo>
                            <a:pt x="240" y="591"/>
                          </a:lnTo>
                          <a:lnTo>
                            <a:pt x="238" y="593"/>
                          </a:lnTo>
                          <a:lnTo>
                            <a:pt x="236" y="595"/>
                          </a:lnTo>
                          <a:lnTo>
                            <a:pt x="232" y="595"/>
                          </a:lnTo>
                          <a:lnTo>
                            <a:pt x="230" y="597"/>
                          </a:lnTo>
                          <a:lnTo>
                            <a:pt x="228" y="599"/>
                          </a:lnTo>
                          <a:lnTo>
                            <a:pt x="224" y="601"/>
                          </a:lnTo>
                          <a:lnTo>
                            <a:pt x="223" y="601"/>
                          </a:lnTo>
                          <a:lnTo>
                            <a:pt x="219" y="603"/>
                          </a:lnTo>
                          <a:lnTo>
                            <a:pt x="217" y="604"/>
                          </a:lnTo>
                          <a:lnTo>
                            <a:pt x="211" y="608"/>
                          </a:lnTo>
                          <a:lnTo>
                            <a:pt x="207" y="612"/>
                          </a:lnTo>
                          <a:lnTo>
                            <a:pt x="204" y="616"/>
                          </a:lnTo>
                          <a:lnTo>
                            <a:pt x="198" y="618"/>
                          </a:lnTo>
                          <a:lnTo>
                            <a:pt x="194" y="623"/>
                          </a:lnTo>
                          <a:lnTo>
                            <a:pt x="188" y="627"/>
                          </a:lnTo>
                          <a:lnTo>
                            <a:pt x="185" y="633"/>
                          </a:lnTo>
                          <a:lnTo>
                            <a:pt x="181" y="637"/>
                          </a:lnTo>
                          <a:lnTo>
                            <a:pt x="177" y="641"/>
                          </a:lnTo>
                          <a:lnTo>
                            <a:pt x="173" y="646"/>
                          </a:lnTo>
                          <a:lnTo>
                            <a:pt x="169" y="652"/>
                          </a:lnTo>
                          <a:lnTo>
                            <a:pt x="166" y="656"/>
                          </a:lnTo>
                          <a:lnTo>
                            <a:pt x="162" y="662"/>
                          </a:lnTo>
                          <a:lnTo>
                            <a:pt x="160" y="665"/>
                          </a:lnTo>
                          <a:lnTo>
                            <a:pt x="158" y="669"/>
                          </a:lnTo>
                          <a:lnTo>
                            <a:pt x="158" y="671"/>
                          </a:lnTo>
                          <a:lnTo>
                            <a:pt x="156" y="673"/>
                          </a:lnTo>
                          <a:lnTo>
                            <a:pt x="154" y="677"/>
                          </a:lnTo>
                          <a:lnTo>
                            <a:pt x="152" y="679"/>
                          </a:lnTo>
                          <a:lnTo>
                            <a:pt x="152" y="681"/>
                          </a:lnTo>
                          <a:lnTo>
                            <a:pt x="150" y="684"/>
                          </a:lnTo>
                          <a:lnTo>
                            <a:pt x="150" y="688"/>
                          </a:lnTo>
                          <a:lnTo>
                            <a:pt x="146" y="694"/>
                          </a:lnTo>
                          <a:lnTo>
                            <a:pt x="145" y="701"/>
                          </a:lnTo>
                          <a:lnTo>
                            <a:pt x="143" y="709"/>
                          </a:lnTo>
                          <a:lnTo>
                            <a:pt x="139" y="717"/>
                          </a:lnTo>
                          <a:lnTo>
                            <a:pt x="137" y="724"/>
                          </a:lnTo>
                          <a:lnTo>
                            <a:pt x="135" y="732"/>
                          </a:lnTo>
                          <a:lnTo>
                            <a:pt x="131" y="739"/>
                          </a:lnTo>
                          <a:lnTo>
                            <a:pt x="129" y="747"/>
                          </a:lnTo>
                          <a:lnTo>
                            <a:pt x="126" y="755"/>
                          </a:lnTo>
                          <a:lnTo>
                            <a:pt x="124" y="760"/>
                          </a:lnTo>
                          <a:lnTo>
                            <a:pt x="122" y="768"/>
                          </a:lnTo>
                          <a:lnTo>
                            <a:pt x="120" y="776"/>
                          </a:lnTo>
                          <a:lnTo>
                            <a:pt x="116" y="781"/>
                          </a:lnTo>
                          <a:lnTo>
                            <a:pt x="114" y="789"/>
                          </a:lnTo>
                          <a:lnTo>
                            <a:pt x="112" y="796"/>
                          </a:lnTo>
                          <a:lnTo>
                            <a:pt x="110" y="804"/>
                          </a:lnTo>
                          <a:lnTo>
                            <a:pt x="107" y="812"/>
                          </a:lnTo>
                          <a:lnTo>
                            <a:pt x="107" y="817"/>
                          </a:lnTo>
                          <a:lnTo>
                            <a:pt x="103" y="823"/>
                          </a:lnTo>
                          <a:lnTo>
                            <a:pt x="101" y="831"/>
                          </a:lnTo>
                          <a:lnTo>
                            <a:pt x="97" y="836"/>
                          </a:lnTo>
                          <a:lnTo>
                            <a:pt x="97" y="844"/>
                          </a:lnTo>
                          <a:lnTo>
                            <a:pt x="93" y="852"/>
                          </a:lnTo>
                          <a:lnTo>
                            <a:pt x="93" y="857"/>
                          </a:lnTo>
                          <a:lnTo>
                            <a:pt x="89" y="865"/>
                          </a:lnTo>
                          <a:lnTo>
                            <a:pt x="88" y="871"/>
                          </a:lnTo>
                          <a:lnTo>
                            <a:pt x="86" y="878"/>
                          </a:lnTo>
                          <a:lnTo>
                            <a:pt x="84" y="884"/>
                          </a:lnTo>
                          <a:lnTo>
                            <a:pt x="82" y="892"/>
                          </a:lnTo>
                          <a:lnTo>
                            <a:pt x="80" y="899"/>
                          </a:lnTo>
                          <a:lnTo>
                            <a:pt x="78" y="907"/>
                          </a:lnTo>
                          <a:lnTo>
                            <a:pt x="74" y="912"/>
                          </a:lnTo>
                          <a:lnTo>
                            <a:pt x="72" y="920"/>
                          </a:lnTo>
                          <a:lnTo>
                            <a:pt x="72" y="926"/>
                          </a:lnTo>
                          <a:lnTo>
                            <a:pt x="68" y="931"/>
                          </a:lnTo>
                          <a:lnTo>
                            <a:pt x="67" y="939"/>
                          </a:lnTo>
                          <a:lnTo>
                            <a:pt x="65" y="945"/>
                          </a:lnTo>
                          <a:lnTo>
                            <a:pt x="63" y="952"/>
                          </a:lnTo>
                          <a:lnTo>
                            <a:pt x="59" y="958"/>
                          </a:lnTo>
                          <a:lnTo>
                            <a:pt x="57" y="966"/>
                          </a:lnTo>
                          <a:lnTo>
                            <a:pt x="55" y="971"/>
                          </a:lnTo>
                          <a:lnTo>
                            <a:pt x="53" y="979"/>
                          </a:lnTo>
                          <a:lnTo>
                            <a:pt x="51" y="987"/>
                          </a:lnTo>
                          <a:lnTo>
                            <a:pt x="49" y="994"/>
                          </a:lnTo>
                          <a:lnTo>
                            <a:pt x="48" y="1000"/>
                          </a:lnTo>
                          <a:lnTo>
                            <a:pt x="46" y="1007"/>
                          </a:lnTo>
                          <a:lnTo>
                            <a:pt x="44" y="1015"/>
                          </a:lnTo>
                          <a:lnTo>
                            <a:pt x="42" y="1021"/>
                          </a:lnTo>
                          <a:lnTo>
                            <a:pt x="42" y="1028"/>
                          </a:lnTo>
                          <a:lnTo>
                            <a:pt x="38" y="1036"/>
                          </a:lnTo>
                          <a:lnTo>
                            <a:pt x="36" y="1042"/>
                          </a:lnTo>
                          <a:lnTo>
                            <a:pt x="36" y="1049"/>
                          </a:lnTo>
                          <a:lnTo>
                            <a:pt x="34" y="1057"/>
                          </a:lnTo>
                          <a:lnTo>
                            <a:pt x="30" y="1063"/>
                          </a:lnTo>
                          <a:lnTo>
                            <a:pt x="30" y="1070"/>
                          </a:lnTo>
                          <a:lnTo>
                            <a:pt x="29" y="1078"/>
                          </a:lnTo>
                          <a:lnTo>
                            <a:pt x="27" y="1085"/>
                          </a:lnTo>
                          <a:lnTo>
                            <a:pt x="25" y="1093"/>
                          </a:lnTo>
                          <a:lnTo>
                            <a:pt x="23" y="1101"/>
                          </a:lnTo>
                          <a:lnTo>
                            <a:pt x="21" y="1108"/>
                          </a:lnTo>
                          <a:lnTo>
                            <a:pt x="19" y="1116"/>
                          </a:lnTo>
                          <a:lnTo>
                            <a:pt x="17" y="1123"/>
                          </a:lnTo>
                          <a:lnTo>
                            <a:pt x="17" y="1131"/>
                          </a:lnTo>
                          <a:lnTo>
                            <a:pt x="15" y="1139"/>
                          </a:lnTo>
                          <a:lnTo>
                            <a:pt x="13" y="1148"/>
                          </a:lnTo>
                          <a:lnTo>
                            <a:pt x="10" y="1158"/>
                          </a:lnTo>
                          <a:lnTo>
                            <a:pt x="10" y="1165"/>
                          </a:lnTo>
                          <a:lnTo>
                            <a:pt x="8" y="1175"/>
                          </a:lnTo>
                          <a:lnTo>
                            <a:pt x="6" y="1182"/>
                          </a:lnTo>
                          <a:lnTo>
                            <a:pt x="6" y="1192"/>
                          </a:lnTo>
                          <a:lnTo>
                            <a:pt x="4" y="1201"/>
                          </a:lnTo>
                          <a:lnTo>
                            <a:pt x="2" y="1211"/>
                          </a:lnTo>
                          <a:lnTo>
                            <a:pt x="2" y="1218"/>
                          </a:lnTo>
                          <a:lnTo>
                            <a:pt x="0" y="1230"/>
                          </a:lnTo>
                          <a:lnTo>
                            <a:pt x="0" y="1237"/>
                          </a:lnTo>
                          <a:lnTo>
                            <a:pt x="0" y="1247"/>
                          </a:lnTo>
                          <a:lnTo>
                            <a:pt x="0" y="1257"/>
                          </a:lnTo>
                          <a:lnTo>
                            <a:pt x="0" y="1268"/>
                          </a:lnTo>
                          <a:lnTo>
                            <a:pt x="0" y="1276"/>
                          </a:lnTo>
                          <a:lnTo>
                            <a:pt x="0" y="1285"/>
                          </a:lnTo>
                          <a:lnTo>
                            <a:pt x="0" y="1296"/>
                          </a:lnTo>
                          <a:lnTo>
                            <a:pt x="0" y="1304"/>
                          </a:lnTo>
                          <a:lnTo>
                            <a:pt x="0" y="1314"/>
                          </a:lnTo>
                          <a:lnTo>
                            <a:pt x="0" y="1323"/>
                          </a:lnTo>
                          <a:lnTo>
                            <a:pt x="0" y="1333"/>
                          </a:lnTo>
                          <a:lnTo>
                            <a:pt x="2" y="1342"/>
                          </a:lnTo>
                          <a:lnTo>
                            <a:pt x="2" y="1352"/>
                          </a:lnTo>
                          <a:lnTo>
                            <a:pt x="4" y="1363"/>
                          </a:lnTo>
                          <a:lnTo>
                            <a:pt x="4" y="1371"/>
                          </a:lnTo>
                          <a:lnTo>
                            <a:pt x="6" y="1382"/>
                          </a:lnTo>
                          <a:lnTo>
                            <a:pt x="8" y="1390"/>
                          </a:lnTo>
                          <a:lnTo>
                            <a:pt x="8" y="1401"/>
                          </a:lnTo>
                          <a:lnTo>
                            <a:pt x="10" y="1409"/>
                          </a:lnTo>
                          <a:lnTo>
                            <a:pt x="11" y="1420"/>
                          </a:lnTo>
                          <a:lnTo>
                            <a:pt x="13" y="1429"/>
                          </a:lnTo>
                          <a:lnTo>
                            <a:pt x="15" y="1439"/>
                          </a:lnTo>
                          <a:lnTo>
                            <a:pt x="17" y="1448"/>
                          </a:lnTo>
                          <a:lnTo>
                            <a:pt x="19" y="1458"/>
                          </a:lnTo>
                          <a:lnTo>
                            <a:pt x="21" y="1468"/>
                          </a:lnTo>
                          <a:lnTo>
                            <a:pt x="23" y="1477"/>
                          </a:lnTo>
                          <a:lnTo>
                            <a:pt x="27" y="1487"/>
                          </a:lnTo>
                          <a:lnTo>
                            <a:pt x="29" y="1496"/>
                          </a:lnTo>
                          <a:lnTo>
                            <a:pt x="30" y="1506"/>
                          </a:lnTo>
                          <a:lnTo>
                            <a:pt x="34" y="1515"/>
                          </a:lnTo>
                          <a:lnTo>
                            <a:pt x="36" y="1525"/>
                          </a:lnTo>
                          <a:lnTo>
                            <a:pt x="38" y="1534"/>
                          </a:lnTo>
                          <a:lnTo>
                            <a:pt x="42" y="1544"/>
                          </a:lnTo>
                          <a:lnTo>
                            <a:pt x="46" y="1553"/>
                          </a:lnTo>
                          <a:lnTo>
                            <a:pt x="48" y="1561"/>
                          </a:lnTo>
                          <a:lnTo>
                            <a:pt x="51" y="1572"/>
                          </a:lnTo>
                          <a:lnTo>
                            <a:pt x="55" y="1580"/>
                          </a:lnTo>
                          <a:lnTo>
                            <a:pt x="59" y="1589"/>
                          </a:lnTo>
                          <a:lnTo>
                            <a:pt x="63" y="1599"/>
                          </a:lnTo>
                          <a:lnTo>
                            <a:pt x="67" y="1608"/>
                          </a:lnTo>
                          <a:lnTo>
                            <a:pt x="68" y="1616"/>
                          </a:lnTo>
                          <a:lnTo>
                            <a:pt x="74" y="1627"/>
                          </a:lnTo>
                          <a:lnTo>
                            <a:pt x="78" y="1635"/>
                          </a:lnTo>
                          <a:lnTo>
                            <a:pt x="82" y="1644"/>
                          </a:lnTo>
                          <a:lnTo>
                            <a:pt x="86" y="1652"/>
                          </a:lnTo>
                          <a:lnTo>
                            <a:pt x="89" y="1661"/>
                          </a:lnTo>
                          <a:lnTo>
                            <a:pt x="95" y="1669"/>
                          </a:lnTo>
                          <a:lnTo>
                            <a:pt x="99" y="1679"/>
                          </a:lnTo>
                          <a:lnTo>
                            <a:pt x="103" y="1688"/>
                          </a:lnTo>
                          <a:lnTo>
                            <a:pt x="108" y="1696"/>
                          </a:lnTo>
                          <a:lnTo>
                            <a:pt x="114" y="1703"/>
                          </a:lnTo>
                          <a:lnTo>
                            <a:pt x="118" y="1713"/>
                          </a:lnTo>
                          <a:lnTo>
                            <a:pt x="124" y="1722"/>
                          </a:lnTo>
                          <a:lnTo>
                            <a:pt x="127" y="1732"/>
                          </a:lnTo>
                          <a:lnTo>
                            <a:pt x="131" y="1736"/>
                          </a:lnTo>
                          <a:lnTo>
                            <a:pt x="135" y="1739"/>
                          </a:lnTo>
                          <a:lnTo>
                            <a:pt x="135" y="1743"/>
                          </a:lnTo>
                          <a:lnTo>
                            <a:pt x="137" y="1745"/>
                          </a:lnTo>
                          <a:lnTo>
                            <a:pt x="139" y="1747"/>
                          </a:lnTo>
                          <a:lnTo>
                            <a:pt x="141" y="1751"/>
                          </a:lnTo>
                          <a:lnTo>
                            <a:pt x="143" y="1755"/>
                          </a:lnTo>
                          <a:lnTo>
                            <a:pt x="143" y="1756"/>
                          </a:lnTo>
                          <a:lnTo>
                            <a:pt x="145" y="1760"/>
                          </a:lnTo>
                          <a:lnTo>
                            <a:pt x="146" y="1762"/>
                          </a:lnTo>
                          <a:lnTo>
                            <a:pt x="148" y="1766"/>
                          </a:lnTo>
                          <a:lnTo>
                            <a:pt x="150" y="1768"/>
                          </a:lnTo>
                          <a:lnTo>
                            <a:pt x="152" y="1770"/>
                          </a:lnTo>
                          <a:lnTo>
                            <a:pt x="156" y="1774"/>
                          </a:lnTo>
                          <a:lnTo>
                            <a:pt x="158" y="1777"/>
                          </a:lnTo>
                          <a:lnTo>
                            <a:pt x="160" y="1779"/>
                          </a:lnTo>
                          <a:lnTo>
                            <a:pt x="160" y="1783"/>
                          </a:lnTo>
                          <a:lnTo>
                            <a:pt x="162" y="1787"/>
                          </a:lnTo>
                          <a:lnTo>
                            <a:pt x="166" y="1789"/>
                          </a:lnTo>
                          <a:lnTo>
                            <a:pt x="166" y="1791"/>
                          </a:lnTo>
                          <a:lnTo>
                            <a:pt x="167" y="1794"/>
                          </a:lnTo>
                          <a:lnTo>
                            <a:pt x="169" y="1796"/>
                          </a:lnTo>
                          <a:lnTo>
                            <a:pt x="171" y="1800"/>
                          </a:lnTo>
                          <a:lnTo>
                            <a:pt x="173" y="1802"/>
                          </a:lnTo>
                          <a:lnTo>
                            <a:pt x="175" y="1806"/>
                          </a:lnTo>
                          <a:lnTo>
                            <a:pt x="177" y="1808"/>
                          </a:lnTo>
                          <a:lnTo>
                            <a:pt x="179" y="1812"/>
                          </a:lnTo>
                          <a:lnTo>
                            <a:pt x="181" y="1815"/>
                          </a:lnTo>
                          <a:lnTo>
                            <a:pt x="183" y="1817"/>
                          </a:lnTo>
                          <a:lnTo>
                            <a:pt x="185" y="1821"/>
                          </a:lnTo>
                          <a:lnTo>
                            <a:pt x="188" y="1827"/>
                          </a:lnTo>
                          <a:lnTo>
                            <a:pt x="190" y="1831"/>
                          </a:lnTo>
                          <a:lnTo>
                            <a:pt x="194" y="1836"/>
                          </a:lnTo>
                          <a:lnTo>
                            <a:pt x="198" y="1842"/>
                          </a:lnTo>
                          <a:lnTo>
                            <a:pt x="200" y="1846"/>
                          </a:lnTo>
                          <a:lnTo>
                            <a:pt x="204" y="1850"/>
                          </a:lnTo>
                          <a:lnTo>
                            <a:pt x="205" y="1853"/>
                          </a:lnTo>
                          <a:lnTo>
                            <a:pt x="207" y="1859"/>
                          </a:lnTo>
                          <a:lnTo>
                            <a:pt x="209" y="1861"/>
                          </a:lnTo>
                          <a:lnTo>
                            <a:pt x="211" y="1863"/>
                          </a:lnTo>
                          <a:lnTo>
                            <a:pt x="213" y="1867"/>
                          </a:lnTo>
                          <a:lnTo>
                            <a:pt x="215" y="1869"/>
                          </a:lnTo>
                          <a:lnTo>
                            <a:pt x="217" y="1870"/>
                          </a:lnTo>
                          <a:lnTo>
                            <a:pt x="219" y="1874"/>
                          </a:lnTo>
                          <a:lnTo>
                            <a:pt x="141" y="2163"/>
                          </a:lnTo>
                          <a:lnTo>
                            <a:pt x="143" y="2165"/>
                          </a:lnTo>
                          <a:lnTo>
                            <a:pt x="146" y="2165"/>
                          </a:lnTo>
                          <a:lnTo>
                            <a:pt x="150" y="2167"/>
                          </a:lnTo>
                          <a:lnTo>
                            <a:pt x="152" y="2167"/>
                          </a:lnTo>
                          <a:lnTo>
                            <a:pt x="154" y="2167"/>
                          </a:lnTo>
                          <a:lnTo>
                            <a:pt x="158" y="2167"/>
                          </a:lnTo>
                          <a:lnTo>
                            <a:pt x="162" y="2171"/>
                          </a:lnTo>
                          <a:lnTo>
                            <a:pt x="166" y="2171"/>
                          </a:lnTo>
                          <a:lnTo>
                            <a:pt x="167" y="2173"/>
                          </a:lnTo>
                          <a:lnTo>
                            <a:pt x="171" y="2173"/>
                          </a:lnTo>
                          <a:lnTo>
                            <a:pt x="175" y="2175"/>
                          </a:lnTo>
                          <a:lnTo>
                            <a:pt x="181" y="2175"/>
                          </a:lnTo>
                          <a:lnTo>
                            <a:pt x="185" y="2175"/>
                          </a:lnTo>
                          <a:lnTo>
                            <a:pt x="188" y="2177"/>
                          </a:lnTo>
                          <a:lnTo>
                            <a:pt x="194" y="2180"/>
                          </a:lnTo>
                          <a:lnTo>
                            <a:pt x="198" y="2180"/>
                          </a:lnTo>
                          <a:lnTo>
                            <a:pt x="204" y="2182"/>
                          </a:lnTo>
                          <a:lnTo>
                            <a:pt x="209" y="2182"/>
                          </a:lnTo>
                          <a:lnTo>
                            <a:pt x="215" y="2184"/>
                          </a:lnTo>
                          <a:lnTo>
                            <a:pt x="219" y="2186"/>
                          </a:lnTo>
                          <a:lnTo>
                            <a:pt x="224" y="2188"/>
                          </a:lnTo>
                          <a:lnTo>
                            <a:pt x="232" y="2188"/>
                          </a:lnTo>
                          <a:lnTo>
                            <a:pt x="238" y="2190"/>
                          </a:lnTo>
                          <a:lnTo>
                            <a:pt x="243" y="2190"/>
                          </a:lnTo>
                          <a:lnTo>
                            <a:pt x="251" y="2192"/>
                          </a:lnTo>
                          <a:lnTo>
                            <a:pt x="257" y="2194"/>
                          </a:lnTo>
                          <a:lnTo>
                            <a:pt x="264" y="2194"/>
                          </a:lnTo>
                          <a:lnTo>
                            <a:pt x="270" y="2196"/>
                          </a:lnTo>
                          <a:lnTo>
                            <a:pt x="276" y="2196"/>
                          </a:lnTo>
                          <a:lnTo>
                            <a:pt x="283" y="2197"/>
                          </a:lnTo>
                          <a:lnTo>
                            <a:pt x="291" y="2199"/>
                          </a:lnTo>
                          <a:lnTo>
                            <a:pt x="297" y="2199"/>
                          </a:lnTo>
                          <a:lnTo>
                            <a:pt x="304" y="2199"/>
                          </a:lnTo>
                          <a:lnTo>
                            <a:pt x="312" y="2199"/>
                          </a:lnTo>
                          <a:lnTo>
                            <a:pt x="320" y="2201"/>
                          </a:lnTo>
                          <a:lnTo>
                            <a:pt x="325" y="2201"/>
                          </a:lnTo>
                          <a:lnTo>
                            <a:pt x="333" y="2201"/>
                          </a:lnTo>
                          <a:lnTo>
                            <a:pt x="341" y="2201"/>
                          </a:lnTo>
                          <a:lnTo>
                            <a:pt x="348" y="2201"/>
                          </a:lnTo>
                          <a:lnTo>
                            <a:pt x="356" y="2201"/>
                          </a:lnTo>
                          <a:lnTo>
                            <a:pt x="363" y="2201"/>
                          </a:lnTo>
                          <a:lnTo>
                            <a:pt x="371" y="2201"/>
                          </a:lnTo>
                          <a:lnTo>
                            <a:pt x="379" y="2201"/>
                          </a:lnTo>
                          <a:lnTo>
                            <a:pt x="386" y="2201"/>
                          </a:lnTo>
                          <a:lnTo>
                            <a:pt x="394" y="2201"/>
                          </a:lnTo>
                          <a:lnTo>
                            <a:pt x="401" y="2199"/>
                          </a:lnTo>
                          <a:lnTo>
                            <a:pt x="409" y="2199"/>
                          </a:lnTo>
                          <a:lnTo>
                            <a:pt x="415" y="2197"/>
                          </a:lnTo>
                          <a:lnTo>
                            <a:pt x="422" y="2196"/>
                          </a:lnTo>
                          <a:lnTo>
                            <a:pt x="432" y="2196"/>
                          </a:lnTo>
                          <a:lnTo>
                            <a:pt x="439" y="2194"/>
                          </a:lnTo>
                          <a:lnTo>
                            <a:pt x="447" y="2192"/>
                          </a:lnTo>
                          <a:lnTo>
                            <a:pt x="455" y="2190"/>
                          </a:lnTo>
                          <a:lnTo>
                            <a:pt x="462" y="2188"/>
                          </a:lnTo>
                          <a:lnTo>
                            <a:pt x="470" y="2188"/>
                          </a:lnTo>
                          <a:lnTo>
                            <a:pt x="476" y="2184"/>
                          </a:lnTo>
                          <a:lnTo>
                            <a:pt x="483" y="2182"/>
                          </a:lnTo>
                          <a:lnTo>
                            <a:pt x="491" y="2180"/>
                          </a:lnTo>
                          <a:lnTo>
                            <a:pt x="498" y="2175"/>
                          </a:lnTo>
                          <a:lnTo>
                            <a:pt x="504" y="2173"/>
                          </a:lnTo>
                          <a:lnTo>
                            <a:pt x="512" y="2169"/>
                          </a:lnTo>
                          <a:lnTo>
                            <a:pt x="517" y="2165"/>
                          </a:lnTo>
                          <a:lnTo>
                            <a:pt x="525" y="2161"/>
                          </a:lnTo>
                          <a:lnTo>
                            <a:pt x="531" y="2158"/>
                          </a:lnTo>
                          <a:lnTo>
                            <a:pt x="536" y="2154"/>
                          </a:lnTo>
                          <a:lnTo>
                            <a:pt x="542" y="2150"/>
                          </a:lnTo>
                          <a:lnTo>
                            <a:pt x="550" y="2146"/>
                          </a:lnTo>
                          <a:lnTo>
                            <a:pt x="555" y="2142"/>
                          </a:lnTo>
                          <a:lnTo>
                            <a:pt x="559" y="2137"/>
                          </a:lnTo>
                          <a:lnTo>
                            <a:pt x="565" y="2133"/>
                          </a:lnTo>
                          <a:lnTo>
                            <a:pt x="571" y="2129"/>
                          </a:lnTo>
                          <a:lnTo>
                            <a:pt x="576" y="2123"/>
                          </a:lnTo>
                          <a:lnTo>
                            <a:pt x="582" y="2120"/>
                          </a:lnTo>
                          <a:lnTo>
                            <a:pt x="588" y="2114"/>
                          </a:lnTo>
                          <a:lnTo>
                            <a:pt x="592" y="2110"/>
                          </a:lnTo>
                          <a:lnTo>
                            <a:pt x="595" y="2106"/>
                          </a:lnTo>
                          <a:lnTo>
                            <a:pt x="601" y="2101"/>
                          </a:lnTo>
                          <a:lnTo>
                            <a:pt x="605" y="2095"/>
                          </a:lnTo>
                          <a:lnTo>
                            <a:pt x="611" y="2091"/>
                          </a:lnTo>
                          <a:lnTo>
                            <a:pt x="614" y="2085"/>
                          </a:lnTo>
                          <a:lnTo>
                            <a:pt x="618" y="2080"/>
                          </a:lnTo>
                          <a:lnTo>
                            <a:pt x="624" y="2076"/>
                          </a:lnTo>
                          <a:lnTo>
                            <a:pt x="628" y="2070"/>
                          </a:lnTo>
                          <a:lnTo>
                            <a:pt x="632" y="2064"/>
                          </a:lnTo>
                          <a:lnTo>
                            <a:pt x="635" y="2059"/>
                          </a:lnTo>
                          <a:lnTo>
                            <a:pt x="637" y="2055"/>
                          </a:lnTo>
                          <a:lnTo>
                            <a:pt x="643" y="2049"/>
                          </a:lnTo>
                          <a:lnTo>
                            <a:pt x="645" y="2043"/>
                          </a:lnTo>
                          <a:lnTo>
                            <a:pt x="649" y="2040"/>
                          </a:lnTo>
                          <a:lnTo>
                            <a:pt x="652" y="2034"/>
                          </a:lnTo>
                          <a:lnTo>
                            <a:pt x="654" y="2030"/>
                          </a:lnTo>
                          <a:lnTo>
                            <a:pt x="658" y="2024"/>
                          </a:lnTo>
                          <a:lnTo>
                            <a:pt x="660" y="2021"/>
                          </a:lnTo>
                          <a:lnTo>
                            <a:pt x="664" y="2015"/>
                          </a:lnTo>
                          <a:lnTo>
                            <a:pt x="666" y="2011"/>
                          </a:lnTo>
                          <a:lnTo>
                            <a:pt x="668" y="2005"/>
                          </a:lnTo>
                          <a:lnTo>
                            <a:pt x="672" y="2002"/>
                          </a:lnTo>
                          <a:lnTo>
                            <a:pt x="673" y="1998"/>
                          </a:lnTo>
                          <a:lnTo>
                            <a:pt x="675" y="1992"/>
                          </a:lnTo>
                          <a:lnTo>
                            <a:pt x="677" y="1986"/>
                          </a:lnTo>
                          <a:lnTo>
                            <a:pt x="679" y="1983"/>
                          </a:lnTo>
                          <a:lnTo>
                            <a:pt x="681" y="1979"/>
                          </a:lnTo>
                          <a:lnTo>
                            <a:pt x="683" y="1975"/>
                          </a:lnTo>
                          <a:lnTo>
                            <a:pt x="685" y="1971"/>
                          </a:lnTo>
                          <a:lnTo>
                            <a:pt x="687" y="1969"/>
                          </a:lnTo>
                          <a:lnTo>
                            <a:pt x="689" y="1964"/>
                          </a:lnTo>
                          <a:lnTo>
                            <a:pt x="691" y="1962"/>
                          </a:lnTo>
                          <a:lnTo>
                            <a:pt x="692" y="1958"/>
                          </a:lnTo>
                          <a:lnTo>
                            <a:pt x="692" y="1954"/>
                          </a:lnTo>
                          <a:lnTo>
                            <a:pt x="692" y="1952"/>
                          </a:lnTo>
                          <a:lnTo>
                            <a:pt x="694" y="1950"/>
                          </a:lnTo>
                          <a:lnTo>
                            <a:pt x="696" y="1945"/>
                          </a:lnTo>
                          <a:lnTo>
                            <a:pt x="698" y="1941"/>
                          </a:lnTo>
                          <a:lnTo>
                            <a:pt x="700" y="1937"/>
                          </a:lnTo>
                          <a:lnTo>
                            <a:pt x="700" y="1935"/>
                          </a:lnTo>
                          <a:lnTo>
                            <a:pt x="700" y="1933"/>
                          </a:lnTo>
                          <a:lnTo>
                            <a:pt x="702" y="1933"/>
                          </a:lnTo>
                          <a:lnTo>
                            <a:pt x="740" y="1943"/>
                          </a:lnTo>
                          <a:lnTo>
                            <a:pt x="740" y="1943"/>
                          </a:lnTo>
                          <a:lnTo>
                            <a:pt x="738" y="1945"/>
                          </a:lnTo>
                          <a:lnTo>
                            <a:pt x="738" y="1947"/>
                          </a:lnTo>
                          <a:lnTo>
                            <a:pt x="738" y="1950"/>
                          </a:lnTo>
                          <a:lnTo>
                            <a:pt x="738" y="1954"/>
                          </a:lnTo>
                          <a:lnTo>
                            <a:pt x="738" y="1958"/>
                          </a:lnTo>
                          <a:lnTo>
                            <a:pt x="736" y="1962"/>
                          </a:lnTo>
                          <a:lnTo>
                            <a:pt x="736" y="1964"/>
                          </a:lnTo>
                          <a:lnTo>
                            <a:pt x="736" y="1967"/>
                          </a:lnTo>
                          <a:lnTo>
                            <a:pt x="736" y="1971"/>
                          </a:lnTo>
                          <a:lnTo>
                            <a:pt x="736" y="1975"/>
                          </a:lnTo>
                          <a:lnTo>
                            <a:pt x="736" y="1979"/>
                          </a:lnTo>
                          <a:lnTo>
                            <a:pt x="736" y="1983"/>
                          </a:lnTo>
                          <a:lnTo>
                            <a:pt x="736" y="1985"/>
                          </a:lnTo>
                          <a:lnTo>
                            <a:pt x="736" y="1990"/>
                          </a:lnTo>
                          <a:lnTo>
                            <a:pt x="736" y="1994"/>
                          </a:lnTo>
                          <a:lnTo>
                            <a:pt x="736" y="1998"/>
                          </a:lnTo>
                          <a:lnTo>
                            <a:pt x="736" y="2004"/>
                          </a:lnTo>
                          <a:lnTo>
                            <a:pt x="736" y="2007"/>
                          </a:lnTo>
                          <a:lnTo>
                            <a:pt x="736" y="2013"/>
                          </a:lnTo>
                          <a:lnTo>
                            <a:pt x="736" y="2015"/>
                          </a:lnTo>
                          <a:lnTo>
                            <a:pt x="736" y="2021"/>
                          </a:lnTo>
                          <a:lnTo>
                            <a:pt x="736" y="2026"/>
                          </a:lnTo>
                          <a:lnTo>
                            <a:pt x="736" y="2030"/>
                          </a:lnTo>
                          <a:lnTo>
                            <a:pt x="736" y="2036"/>
                          </a:lnTo>
                          <a:lnTo>
                            <a:pt x="736" y="2042"/>
                          </a:lnTo>
                          <a:lnTo>
                            <a:pt x="736" y="2047"/>
                          </a:lnTo>
                          <a:lnTo>
                            <a:pt x="738" y="2051"/>
                          </a:lnTo>
                          <a:lnTo>
                            <a:pt x="738" y="2057"/>
                          </a:lnTo>
                          <a:lnTo>
                            <a:pt x="738" y="2062"/>
                          </a:lnTo>
                          <a:lnTo>
                            <a:pt x="740" y="2066"/>
                          </a:lnTo>
                          <a:lnTo>
                            <a:pt x="740" y="2072"/>
                          </a:lnTo>
                          <a:lnTo>
                            <a:pt x="742" y="2078"/>
                          </a:lnTo>
                          <a:lnTo>
                            <a:pt x="744" y="2083"/>
                          </a:lnTo>
                          <a:lnTo>
                            <a:pt x="744" y="2091"/>
                          </a:lnTo>
                          <a:lnTo>
                            <a:pt x="746" y="2095"/>
                          </a:lnTo>
                          <a:lnTo>
                            <a:pt x="748" y="2101"/>
                          </a:lnTo>
                          <a:lnTo>
                            <a:pt x="748" y="2106"/>
                          </a:lnTo>
                          <a:lnTo>
                            <a:pt x="751" y="2110"/>
                          </a:lnTo>
                          <a:lnTo>
                            <a:pt x="753" y="2118"/>
                          </a:lnTo>
                          <a:lnTo>
                            <a:pt x="753" y="2123"/>
                          </a:lnTo>
                          <a:lnTo>
                            <a:pt x="757" y="2129"/>
                          </a:lnTo>
                          <a:lnTo>
                            <a:pt x="759" y="2135"/>
                          </a:lnTo>
                          <a:lnTo>
                            <a:pt x="761" y="2139"/>
                          </a:lnTo>
                          <a:lnTo>
                            <a:pt x="765" y="2144"/>
                          </a:lnTo>
                          <a:lnTo>
                            <a:pt x="767" y="2150"/>
                          </a:lnTo>
                          <a:lnTo>
                            <a:pt x="769" y="2156"/>
                          </a:lnTo>
                          <a:lnTo>
                            <a:pt x="772" y="2159"/>
                          </a:lnTo>
                          <a:lnTo>
                            <a:pt x="776" y="2165"/>
                          </a:lnTo>
                          <a:lnTo>
                            <a:pt x="780" y="2171"/>
                          </a:lnTo>
                          <a:lnTo>
                            <a:pt x="782" y="2175"/>
                          </a:lnTo>
                          <a:lnTo>
                            <a:pt x="786" y="2180"/>
                          </a:lnTo>
                          <a:lnTo>
                            <a:pt x="789" y="2186"/>
                          </a:lnTo>
                          <a:lnTo>
                            <a:pt x="795" y="2190"/>
                          </a:lnTo>
                          <a:lnTo>
                            <a:pt x="799" y="2196"/>
                          </a:lnTo>
                          <a:lnTo>
                            <a:pt x="805" y="2201"/>
                          </a:lnTo>
                          <a:lnTo>
                            <a:pt x="808" y="2205"/>
                          </a:lnTo>
                          <a:lnTo>
                            <a:pt x="814" y="2209"/>
                          </a:lnTo>
                          <a:lnTo>
                            <a:pt x="818" y="2213"/>
                          </a:lnTo>
                          <a:lnTo>
                            <a:pt x="824" y="2216"/>
                          </a:lnTo>
                          <a:lnTo>
                            <a:pt x="828" y="2222"/>
                          </a:lnTo>
                          <a:lnTo>
                            <a:pt x="833" y="2224"/>
                          </a:lnTo>
                          <a:lnTo>
                            <a:pt x="839" y="2228"/>
                          </a:lnTo>
                          <a:lnTo>
                            <a:pt x="845" y="2232"/>
                          </a:lnTo>
                          <a:lnTo>
                            <a:pt x="848" y="2235"/>
                          </a:lnTo>
                          <a:lnTo>
                            <a:pt x="854" y="2239"/>
                          </a:lnTo>
                          <a:lnTo>
                            <a:pt x="858" y="2243"/>
                          </a:lnTo>
                          <a:lnTo>
                            <a:pt x="864" y="2245"/>
                          </a:lnTo>
                          <a:lnTo>
                            <a:pt x="867" y="2249"/>
                          </a:lnTo>
                          <a:lnTo>
                            <a:pt x="873" y="2253"/>
                          </a:lnTo>
                          <a:lnTo>
                            <a:pt x="877" y="2256"/>
                          </a:lnTo>
                          <a:lnTo>
                            <a:pt x="883" y="2258"/>
                          </a:lnTo>
                          <a:lnTo>
                            <a:pt x="890" y="2260"/>
                          </a:lnTo>
                          <a:lnTo>
                            <a:pt x="896" y="2264"/>
                          </a:lnTo>
                          <a:lnTo>
                            <a:pt x="900" y="2266"/>
                          </a:lnTo>
                          <a:lnTo>
                            <a:pt x="904" y="2268"/>
                          </a:lnTo>
                          <a:lnTo>
                            <a:pt x="907" y="2270"/>
                          </a:lnTo>
                          <a:lnTo>
                            <a:pt x="913" y="2273"/>
                          </a:lnTo>
                          <a:lnTo>
                            <a:pt x="919" y="2275"/>
                          </a:lnTo>
                          <a:lnTo>
                            <a:pt x="925" y="2277"/>
                          </a:lnTo>
                          <a:lnTo>
                            <a:pt x="928" y="2279"/>
                          </a:lnTo>
                          <a:lnTo>
                            <a:pt x="934" y="2281"/>
                          </a:lnTo>
                          <a:lnTo>
                            <a:pt x="938" y="2283"/>
                          </a:lnTo>
                          <a:lnTo>
                            <a:pt x="942" y="2285"/>
                          </a:lnTo>
                          <a:lnTo>
                            <a:pt x="947" y="2287"/>
                          </a:lnTo>
                          <a:lnTo>
                            <a:pt x="951" y="2289"/>
                          </a:lnTo>
                          <a:lnTo>
                            <a:pt x="955" y="2289"/>
                          </a:lnTo>
                          <a:lnTo>
                            <a:pt x="961" y="2291"/>
                          </a:lnTo>
                          <a:lnTo>
                            <a:pt x="964" y="2291"/>
                          </a:lnTo>
                          <a:lnTo>
                            <a:pt x="968" y="2294"/>
                          </a:lnTo>
                          <a:lnTo>
                            <a:pt x="972" y="2294"/>
                          </a:lnTo>
                          <a:lnTo>
                            <a:pt x="978" y="2294"/>
                          </a:lnTo>
                          <a:lnTo>
                            <a:pt x="982" y="2296"/>
                          </a:lnTo>
                          <a:lnTo>
                            <a:pt x="985" y="2296"/>
                          </a:lnTo>
                          <a:lnTo>
                            <a:pt x="989" y="2296"/>
                          </a:lnTo>
                          <a:lnTo>
                            <a:pt x="993" y="2298"/>
                          </a:lnTo>
                          <a:lnTo>
                            <a:pt x="997" y="2298"/>
                          </a:lnTo>
                          <a:lnTo>
                            <a:pt x="1001" y="2298"/>
                          </a:lnTo>
                          <a:lnTo>
                            <a:pt x="1004" y="2298"/>
                          </a:lnTo>
                          <a:lnTo>
                            <a:pt x="1008" y="2300"/>
                          </a:lnTo>
                          <a:lnTo>
                            <a:pt x="1010" y="2300"/>
                          </a:lnTo>
                          <a:lnTo>
                            <a:pt x="1014" y="2300"/>
                          </a:lnTo>
                          <a:lnTo>
                            <a:pt x="1016" y="2300"/>
                          </a:lnTo>
                          <a:lnTo>
                            <a:pt x="1020" y="2300"/>
                          </a:lnTo>
                          <a:lnTo>
                            <a:pt x="1022" y="2300"/>
                          </a:lnTo>
                          <a:lnTo>
                            <a:pt x="1025" y="2302"/>
                          </a:lnTo>
                          <a:lnTo>
                            <a:pt x="1029" y="2300"/>
                          </a:lnTo>
                          <a:lnTo>
                            <a:pt x="1035" y="2300"/>
                          </a:lnTo>
                          <a:lnTo>
                            <a:pt x="1039" y="2298"/>
                          </a:lnTo>
                          <a:lnTo>
                            <a:pt x="1042" y="2298"/>
                          </a:lnTo>
                          <a:lnTo>
                            <a:pt x="1044" y="2296"/>
                          </a:lnTo>
                          <a:lnTo>
                            <a:pt x="1048" y="2296"/>
                          </a:lnTo>
                          <a:lnTo>
                            <a:pt x="1048" y="2294"/>
                          </a:lnTo>
                          <a:lnTo>
                            <a:pt x="1050" y="2294"/>
                          </a:lnTo>
                          <a:lnTo>
                            <a:pt x="1246" y="1334"/>
                          </a:lnTo>
                          <a:lnTo>
                            <a:pt x="1246" y="1333"/>
                          </a:lnTo>
                          <a:lnTo>
                            <a:pt x="1248" y="1331"/>
                          </a:lnTo>
                          <a:lnTo>
                            <a:pt x="1250" y="1327"/>
                          </a:lnTo>
                          <a:lnTo>
                            <a:pt x="1252" y="1325"/>
                          </a:lnTo>
                          <a:lnTo>
                            <a:pt x="1252" y="1323"/>
                          </a:lnTo>
                          <a:lnTo>
                            <a:pt x="1254" y="1319"/>
                          </a:lnTo>
                          <a:lnTo>
                            <a:pt x="1256" y="1315"/>
                          </a:lnTo>
                          <a:lnTo>
                            <a:pt x="1259" y="1312"/>
                          </a:lnTo>
                          <a:lnTo>
                            <a:pt x="1259" y="1306"/>
                          </a:lnTo>
                          <a:lnTo>
                            <a:pt x="1263" y="1302"/>
                          </a:lnTo>
                          <a:lnTo>
                            <a:pt x="1265" y="1296"/>
                          </a:lnTo>
                          <a:lnTo>
                            <a:pt x="1269" y="1293"/>
                          </a:lnTo>
                          <a:lnTo>
                            <a:pt x="1271" y="1285"/>
                          </a:lnTo>
                          <a:lnTo>
                            <a:pt x="1275" y="1281"/>
                          </a:lnTo>
                          <a:lnTo>
                            <a:pt x="1276" y="1274"/>
                          </a:lnTo>
                          <a:lnTo>
                            <a:pt x="1280" y="1266"/>
                          </a:lnTo>
                          <a:lnTo>
                            <a:pt x="1284" y="1258"/>
                          </a:lnTo>
                          <a:lnTo>
                            <a:pt x="1288" y="1249"/>
                          </a:lnTo>
                          <a:lnTo>
                            <a:pt x="1290" y="1241"/>
                          </a:lnTo>
                          <a:lnTo>
                            <a:pt x="1294" y="1234"/>
                          </a:lnTo>
                          <a:lnTo>
                            <a:pt x="1297" y="1224"/>
                          </a:lnTo>
                          <a:lnTo>
                            <a:pt x="1301" y="1217"/>
                          </a:lnTo>
                          <a:lnTo>
                            <a:pt x="1305" y="1207"/>
                          </a:lnTo>
                          <a:lnTo>
                            <a:pt x="1309" y="1198"/>
                          </a:lnTo>
                          <a:lnTo>
                            <a:pt x="1313" y="1188"/>
                          </a:lnTo>
                          <a:lnTo>
                            <a:pt x="1316" y="1177"/>
                          </a:lnTo>
                          <a:lnTo>
                            <a:pt x="1320" y="1165"/>
                          </a:lnTo>
                          <a:lnTo>
                            <a:pt x="1324" y="1154"/>
                          </a:lnTo>
                          <a:lnTo>
                            <a:pt x="1330" y="1144"/>
                          </a:lnTo>
                          <a:lnTo>
                            <a:pt x="1334" y="1133"/>
                          </a:lnTo>
                          <a:lnTo>
                            <a:pt x="1337" y="1122"/>
                          </a:lnTo>
                          <a:lnTo>
                            <a:pt x="1339" y="1108"/>
                          </a:lnTo>
                          <a:lnTo>
                            <a:pt x="1345" y="1097"/>
                          </a:lnTo>
                          <a:lnTo>
                            <a:pt x="1349" y="1084"/>
                          </a:lnTo>
                          <a:lnTo>
                            <a:pt x="1353" y="1070"/>
                          </a:lnTo>
                          <a:lnTo>
                            <a:pt x="1354" y="1059"/>
                          </a:lnTo>
                          <a:lnTo>
                            <a:pt x="1358" y="1044"/>
                          </a:lnTo>
                          <a:lnTo>
                            <a:pt x="1362" y="1032"/>
                          </a:lnTo>
                          <a:lnTo>
                            <a:pt x="1366" y="1017"/>
                          </a:lnTo>
                          <a:lnTo>
                            <a:pt x="1370" y="1004"/>
                          </a:lnTo>
                          <a:lnTo>
                            <a:pt x="1372" y="988"/>
                          </a:lnTo>
                          <a:lnTo>
                            <a:pt x="1375" y="975"/>
                          </a:lnTo>
                          <a:lnTo>
                            <a:pt x="1377" y="960"/>
                          </a:lnTo>
                          <a:lnTo>
                            <a:pt x="1381" y="947"/>
                          </a:lnTo>
                          <a:lnTo>
                            <a:pt x="1383" y="931"/>
                          </a:lnTo>
                          <a:lnTo>
                            <a:pt x="1387" y="916"/>
                          </a:lnTo>
                          <a:lnTo>
                            <a:pt x="1389" y="901"/>
                          </a:lnTo>
                          <a:lnTo>
                            <a:pt x="1391" y="886"/>
                          </a:lnTo>
                          <a:lnTo>
                            <a:pt x="1392" y="871"/>
                          </a:lnTo>
                          <a:lnTo>
                            <a:pt x="1394" y="855"/>
                          </a:lnTo>
                          <a:lnTo>
                            <a:pt x="1396" y="838"/>
                          </a:lnTo>
                          <a:lnTo>
                            <a:pt x="1398" y="823"/>
                          </a:lnTo>
                          <a:lnTo>
                            <a:pt x="1398" y="806"/>
                          </a:lnTo>
                          <a:lnTo>
                            <a:pt x="1400" y="791"/>
                          </a:lnTo>
                          <a:lnTo>
                            <a:pt x="1402" y="774"/>
                          </a:lnTo>
                          <a:lnTo>
                            <a:pt x="1402" y="757"/>
                          </a:lnTo>
                          <a:lnTo>
                            <a:pt x="1402" y="741"/>
                          </a:lnTo>
                          <a:lnTo>
                            <a:pt x="1402" y="724"/>
                          </a:lnTo>
                          <a:lnTo>
                            <a:pt x="1402" y="705"/>
                          </a:lnTo>
                          <a:lnTo>
                            <a:pt x="1402" y="690"/>
                          </a:lnTo>
                          <a:lnTo>
                            <a:pt x="1400" y="673"/>
                          </a:lnTo>
                          <a:lnTo>
                            <a:pt x="1400" y="656"/>
                          </a:lnTo>
                          <a:lnTo>
                            <a:pt x="1398" y="654"/>
                          </a:lnTo>
                          <a:lnTo>
                            <a:pt x="1398" y="652"/>
                          </a:lnTo>
                          <a:lnTo>
                            <a:pt x="1398" y="648"/>
                          </a:lnTo>
                          <a:lnTo>
                            <a:pt x="1398" y="644"/>
                          </a:lnTo>
                          <a:lnTo>
                            <a:pt x="1398" y="643"/>
                          </a:lnTo>
                          <a:lnTo>
                            <a:pt x="1398" y="639"/>
                          </a:lnTo>
                          <a:lnTo>
                            <a:pt x="1396" y="637"/>
                          </a:lnTo>
                          <a:lnTo>
                            <a:pt x="1396" y="633"/>
                          </a:lnTo>
                          <a:lnTo>
                            <a:pt x="1396" y="631"/>
                          </a:lnTo>
                          <a:lnTo>
                            <a:pt x="1396" y="627"/>
                          </a:lnTo>
                          <a:lnTo>
                            <a:pt x="1396" y="623"/>
                          </a:lnTo>
                          <a:lnTo>
                            <a:pt x="1394" y="620"/>
                          </a:lnTo>
                          <a:lnTo>
                            <a:pt x="1394" y="618"/>
                          </a:lnTo>
                          <a:lnTo>
                            <a:pt x="1394" y="616"/>
                          </a:lnTo>
                          <a:lnTo>
                            <a:pt x="1392" y="612"/>
                          </a:lnTo>
                          <a:lnTo>
                            <a:pt x="1392" y="610"/>
                          </a:lnTo>
                          <a:lnTo>
                            <a:pt x="1392" y="608"/>
                          </a:lnTo>
                          <a:lnTo>
                            <a:pt x="1391" y="604"/>
                          </a:lnTo>
                          <a:lnTo>
                            <a:pt x="1391" y="603"/>
                          </a:lnTo>
                          <a:lnTo>
                            <a:pt x="1391" y="599"/>
                          </a:lnTo>
                          <a:lnTo>
                            <a:pt x="1389" y="597"/>
                          </a:lnTo>
                          <a:lnTo>
                            <a:pt x="1389" y="593"/>
                          </a:lnTo>
                          <a:lnTo>
                            <a:pt x="1389" y="589"/>
                          </a:lnTo>
                          <a:lnTo>
                            <a:pt x="1389" y="587"/>
                          </a:lnTo>
                          <a:lnTo>
                            <a:pt x="1387" y="585"/>
                          </a:lnTo>
                          <a:lnTo>
                            <a:pt x="1385" y="582"/>
                          </a:lnTo>
                          <a:lnTo>
                            <a:pt x="1385" y="580"/>
                          </a:lnTo>
                          <a:lnTo>
                            <a:pt x="1383" y="578"/>
                          </a:lnTo>
                          <a:lnTo>
                            <a:pt x="1383" y="572"/>
                          </a:lnTo>
                          <a:lnTo>
                            <a:pt x="1381" y="568"/>
                          </a:lnTo>
                          <a:lnTo>
                            <a:pt x="1377" y="563"/>
                          </a:lnTo>
                          <a:lnTo>
                            <a:pt x="1375" y="557"/>
                          </a:lnTo>
                          <a:lnTo>
                            <a:pt x="1373" y="553"/>
                          </a:lnTo>
                          <a:lnTo>
                            <a:pt x="1370" y="547"/>
                          </a:lnTo>
                          <a:lnTo>
                            <a:pt x="1366" y="544"/>
                          </a:lnTo>
                          <a:lnTo>
                            <a:pt x="1364" y="540"/>
                          </a:lnTo>
                          <a:lnTo>
                            <a:pt x="1360" y="536"/>
                          </a:lnTo>
                          <a:lnTo>
                            <a:pt x="1356" y="532"/>
                          </a:lnTo>
                          <a:lnTo>
                            <a:pt x="1353" y="528"/>
                          </a:lnTo>
                          <a:lnTo>
                            <a:pt x="1349" y="525"/>
                          </a:lnTo>
                          <a:lnTo>
                            <a:pt x="1345" y="523"/>
                          </a:lnTo>
                          <a:lnTo>
                            <a:pt x="1339" y="521"/>
                          </a:lnTo>
                          <a:lnTo>
                            <a:pt x="1335" y="517"/>
                          </a:lnTo>
                          <a:lnTo>
                            <a:pt x="1332" y="515"/>
                          </a:lnTo>
                          <a:lnTo>
                            <a:pt x="1326" y="515"/>
                          </a:lnTo>
                          <a:lnTo>
                            <a:pt x="1322" y="513"/>
                          </a:lnTo>
                          <a:lnTo>
                            <a:pt x="1318" y="511"/>
                          </a:lnTo>
                          <a:lnTo>
                            <a:pt x="1316" y="511"/>
                          </a:lnTo>
                          <a:lnTo>
                            <a:pt x="1313" y="511"/>
                          </a:lnTo>
                          <a:lnTo>
                            <a:pt x="1311" y="511"/>
                          </a:lnTo>
                          <a:lnTo>
                            <a:pt x="1309" y="509"/>
                          </a:lnTo>
                          <a:lnTo>
                            <a:pt x="1305" y="509"/>
                          </a:lnTo>
                          <a:lnTo>
                            <a:pt x="1303" y="509"/>
                          </a:lnTo>
                          <a:lnTo>
                            <a:pt x="1301" y="509"/>
                          </a:lnTo>
                          <a:lnTo>
                            <a:pt x="1297" y="509"/>
                          </a:lnTo>
                          <a:lnTo>
                            <a:pt x="1295" y="509"/>
                          </a:lnTo>
                          <a:lnTo>
                            <a:pt x="1292" y="509"/>
                          </a:lnTo>
                          <a:lnTo>
                            <a:pt x="1290" y="509"/>
                          </a:lnTo>
                          <a:lnTo>
                            <a:pt x="1284" y="509"/>
                          </a:lnTo>
                          <a:lnTo>
                            <a:pt x="1280" y="509"/>
                          </a:lnTo>
                          <a:lnTo>
                            <a:pt x="1275" y="509"/>
                          </a:lnTo>
                          <a:lnTo>
                            <a:pt x="1269" y="509"/>
                          </a:lnTo>
                          <a:lnTo>
                            <a:pt x="1265" y="509"/>
                          </a:lnTo>
                          <a:lnTo>
                            <a:pt x="1259" y="509"/>
                          </a:lnTo>
                          <a:lnTo>
                            <a:pt x="1256" y="511"/>
                          </a:lnTo>
                          <a:lnTo>
                            <a:pt x="1252" y="511"/>
                          </a:lnTo>
                          <a:lnTo>
                            <a:pt x="1246" y="515"/>
                          </a:lnTo>
                          <a:lnTo>
                            <a:pt x="1242" y="515"/>
                          </a:lnTo>
                          <a:lnTo>
                            <a:pt x="1238" y="517"/>
                          </a:lnTo>
                          <a:lnTo>
                            <a:pt x="1235" y="521"/>
                          </a:lnTo>
                          <a:lnTo>
                            <a:pt x="1231" y="523"/>
                          </a:lnTo>
                          <a:lnTo>
                            <a:pt x="1229" y="525"/>
                          </a:lnTo>
                          <a:lnTo>
                            <a:pt x="1225" y="527"/>
                          </a:lnTo>
                          <a:lnTo>
                            <a:pt x="1221" y="530"/>
                          </a:lnTo>
                          <a:lnTo>
                            <a:pt x="1219" y="532"/>
                          </a:lnTo>
                          <a:lnTo>
                            <a:pt x="1216" y="538"/>
                          </a:lnTo>
                          <a:lnTo>
                            <a:pt x="1214" y="542"/>
                          </a:lnTo>
                          <a:lnTo>
                            <a:pt x="1212" y="546"/>
                          </a:lnTo>
                          <a:lnTo>
                            <a:pt x="1210" y="549"/>
                          </a:lnTo>
                          <a:lnTo>
                            <a:pt x="1208" y="555"/>
                          </a:lnTo>
                          <a:lnTo>
                            <a:pt x="1208" y="557"/>
                          </a:lnTo>
                          <a:lnTo>
                            <a:pt x="1206" y="559"/>
                          </a:lnTo>
                          <a:lnTo>
                            <a:pt x="1204" y="561"/>
                          </a:lnTo>
                          <a:lnTo>
                            <a:pt x="1204" y="565"/>
                          </a:lnTo>
                          <a:lnTo>
                            <a:pt x="1204" y="566"/>
                          </a:lnTo>
                          <a:lnTo>
                            <a:pt x="1204" y="570"/>
                          </a:lnTo>
                          <a:lnTo>
                            <a:pt x="1204" y="572"/>
                          </a:lnTo>
                          <a:lnTo>
                            <a:pt x="1204" y="576"/>
                          </a:lnTo>
                          <a:lnTo>
                            <a:pt x="1139" y="895"/>
                          </a:lnTo>
                          <a:lnTo>
                            <a:pt x="1136" y="893"/>
                          </a:lnTo>
                          <a:lnTo>
                            <a:pt x="1132" y="892"/>
                          </a:lnTo>
                          <a:lnTo>
                            <a:pt x="1126" y="888"/>
                          </a:lnTo>
                          <a:lnTo>
                            <a:pt x="1122" y="886"/>
                          </a:lnTo>
                          <a:lnTo>
                            <a:pt x="1117" y="884"/>
                          </a:lnTo>
                          <a:lnTo>
                            <a:pt x="1113" y="880"/>
                          </a:lnTo>
                          <a:lnTo>
                            <a:pt x="1107" y="878"/>
                          </a:lnTo>
                          <a:lnTo>
                            <a:pt x="1105" y="876"/>
                          </a:lnTo>
                          <a:lnTo>
                            <a:pt x="1227" y="316"/>
                          </a:lnTo>
                          <a:lnTo>
                            <a:pt x="1227" y="312"/>
                          </a:lnTo>
                          <a:lnTo>
                            <a:pt x="1227" y="308"/>
                          </a:lnTo>
                          <a:lnTo>
                            <a:pt x="1229" y="306"/>
                          </a:lnTo>
                          <a:lnTo>
                            <a:pt x="1229" y="304"/>
                          </a:lnTo>
                          <a:lnTo>
                            <a:pt x="1229" y="300"/>
                          </a:lnTo>
                          <a:lnTo>
                            <a:pt x="1229" y="298"/>
                          </a:lnTo>
                          <a:lnTo>
                            <a:pt x="1229" y="295"/>
                          </a:lnTo>
                          <a:lnTo>
                            <a:pt x="1229" y="293"/>
                          </a:lnTo>
                          <a:lnTo>
                            <a:pt x="1229" y="291"/>
                          </a:lnTo>
                          <a:lnTo>
                            <a:pt x="1229" y="287"/>
                          </a:lnTo>
                          <a:lnTo>
                            <a:pt x="1229" y="285"/>
                          </a:lnTo>
                          <a:lnTo>
                            <a:pt x="1229" y="283"/>
                          </a:lnTo>
                          <a:lnTo>
                            <a:pt x="1229" y="278"/>
                          </a:lnTo>
                          <a:lnTo>
                            <a:pt x="1227" y="272"/>
                          </a:lnTo>
                          <a:lnTo>
                            <a:pt x="1225" y="268"/>
                          </a:lnTo>
                          <a:lnTo>
                            <a:pt x="1225" y="262"/>
                          </a:lnTo>
                          <a:lnTo>
                            <a:pt x="1223" y="257"/>
                          </a:lnTo>
                          <a:lnTo>
                            <a:pt x="1221" y="253"/>
                          </a:lnTo>
                          <a:lnTo>
                            <a:pt x="1219" y="247"/>
                          </a:lnTo>
                          <a:lnTo>
                            <a:pt x="1217" y="243"/>
                          </a:lnTo>
                          <a:lnTo>
                            <a:pt x="1216" y="240"/>
                          </a:lnTo>
                          <a:lnTo>
                            <a:pt x="1214" y="236"/>
                          </a:lnTo>
                          <a:lnTo>
                            <a:pt x="1210" y="232"/>
                          </a:lnTo>
                          <a:lnTo>
                            <a:pt x="1206" y="226"/>
                          </a:lnTo>
                          <a:lnTo>
                            <a:pt x="1202" y="222"/>
                          </a:lnTo>
                          <a:lnTo>
                            <a:pt x="1200" y="219"/>
                          </a:lnTo>
                          <a:lnTo>
                            <a:pt x="1197" y="215"/>
                          </a:lnTo>
                          <a:lnTo>
                            <a:pt x="1193" y="211"/>
                          </a:lnTo>
                          <a:lnTo>
                            <a:pt x="1189" y="207"/>
                          </a:lnTo>
                          <a:lnTo>
                            <a:pt x="1185" y="205"/>
                          </a:lnTo>
                          <a:lnTo>
                            <a:pt x="1179" y="203"/>
                          </a:lnTo>
                          <a:lnTo>
                            <a:pt x="1176" y="200"/>
                          </a:lnTo>
                          <a:lnTo>
                            <a:pt x="1172" y="198"/>
                          </a:lnTo>
                          <a:lnTo>
                            <a:pt x="1166" y="194"/>
                          </a:lnTo>
                          <a:lnTo>
                            <a:pt x="1160" y="192"/>
                          </a:lnTo>
                          <a:lnTo>
                            <a:pt x="1157" y="192"/>
                          </a:lnTo>
                          <a:lnTo>
                            <a:pt x="1151" y="190"/>
                          </a:lnTo>
                          <a:lnTo>
                            <a:pt x="1147" y="190"/>
                          </a:lnTo>
                          <a:lnTo>
                            <a:pt x="1143" y="188"/>
                          </a:lnTo>
                          <a:lnTo>
                            <a:pt x="1141" y="186"/>
                          </a:lnTo>
                          <a:lnTo>
                            <a:pt x="1138" y="186"/>
                          </a:lnTo>
                          <a:lnTo>
                            <a:pt x="1136" y="186"/>
                          </a:lnTo>
                          <a:lnTo>
                            <a:pt x="1134" y="186"/>
                          </a:lnTo>
                          <a:lnTo>
                            <a:pt x="1130" y="186"/>
                          </a:lnTo>
                          <a:lnTo>
                            <a:pt x="1128" y="186"/>
                          </a:lnTo>
                          <a:lnTo>
                            <a:pt x="1124" y="186"/>
                          </a:lnTo>
                          <a:lnTo>
                            <a:pt x="1122" y="186"/>
                          </a:lnTo>
                          <a:lnTo>
                            <a:pt x="1120" y="186"/>
                          </a:lnTo>
                          <a:lnTo>
                            <a:pt x="1117" y="186"/>
                          </a:lnTo>
                          <a:lnTo>
                            <a:pt x="1115" y="186"/>
                          </a:lnTo>
                          <a:lnTo>
                            <a:pt x="1109" y="186"/>
                          </a:lnTo>
                          <a:lnTo>
                            <a:pt x="1105" y="188"/>
                          </a:lnTo>
                          <a:lnTo>
                            <a:pt x="1100" y="188"/>
                          </a:lnTo>
                          <a:lnTo>
                            <a:pt x="1094" y="190"/>
                          </a:lnTo>
                          <a:lnTo>
                            <a:pt x="1090" y="192"/>
                          </a:lnTo>
                          <a:lnTo>
                            <a:pt x="1086" y="192"/>
                          </a:lnTo>
                          <a:lnTo>
                            <a:pt x="1081" y="194"/>
                          </a:lnTo>
                          <a:lnTo>
                            <a:pt x="1077" y="198"/>
                          </a:lnTo>
                          <a:lnTo>
                            <a:pt x="1073" y="200"/>
                          </a:lnTo>
                          <a:lnTo>
                            <a:pt x="1067" y="203"/>
                          </a:lnTo>
                          <a:lnTo>
                            <a:pt x="1063" y="205"/>
                          </a:lnTo>
                          <a:lnTo>
                            <a:pt x="1058" y="207"/>
                          </a:lnTo>
                          <a:lnTo>
                            <a:pt x="1054" y="211"/>
                          </a:lnTo>
                          <a:lnTo>
                            <a:pt x="1050" y="215"/>
                          </a:lnTo>
                          <a:lnTo>
                            <a:pt x="1048" y="219"/>
                          </a:lnTo>
                          <a:lnTo>
                            <a:pt x="1044" y="222"/>
                          </a:lnTo>
                          <a:lnTo>
                            <a:pt x="1041" y="226"/>
                          </a:lnTo>
                          <a:lnTo>
                            <a:pt x="1039" y="232"/>
                          </a:lnTo>
                          <a:lnTo>
                            <a:pt x="1035" y="234"/>
                          </a:lnTo>
                          <a:lnTo>
                            <a:pt x="1033" y="240"/>
                          </a:lnTo>
                          <a:lnTo>
                            <a:pt x="1029" y="243"/>
                          </a:lnTo>
                          <a:lnTo>
                            <a:pt x="1027" y="249"/>
                          </a:lnTo>
                          <a:lnTo>
                            <a:pt x="1025" y="253"/>
                          </a:lnTo>
                          <a:lnTo>
                            <a:pt x="1023" y="259"/>
                          </a:lnTo>
                          <a:lnTo>
                            <a:pt x="1022" y="260"/>
                          </a:lnTo>
                          <a:lnTo>
                            <a:pt x="1022" y="264"/>
                          </a:lnTo>
                          <a:lnTo>
                            <a:pt x="1022" y="266"/>
                          </a:lnTo>
                          <a:lnTo>
                            <a:pt x="1022" y="270"/>
                          </a:lnTo>
                          <a:lnTo>
                            <a:pt x="919" y="730"/>
                          </a:lnTo>
                          <a:lnTo>
                            <a:pt x="915" y="728"/>
                          </a:lnTo>
                          <a:lnTo>
                            <a:pt x="913" y="726"/>
                          </a:lnTo>
                          <a:lnTo>
                            <a:pt x="907" y="724"/>
                          </a:lnTo>
                          <a:lnTo>
                            <a:pt x="905" y="720"/>
                          </a:lnTo>
                          <a:lnTo>
                            <a:pt x="904" y="719"/>
                          </a:lnTo>
                          <a:lnTo>
                            <a:pt x="900" y="717"/>
                          </a:lnTo>
                          <a:lnTo>
                            <a:pt x="896" y="713"/>
                          </a:lnTo>
                          <a:lnTo>
                            <a:pt x="892" y="713"/>
                          </a:lnTo>
                          <a:lnTo>
                            <a:pt x="1022" y="129"/>
                          </a:lnTo>
                          <a:lnTo>
                            <a:pt x="1022" y="125"/>
                          </a:lnTo>
                          <a:lnTo>
                            <a:pt x="1022" y="124"/>
                          </a:lnTo>
                          <a:lnTo>
                            <a:pt x="1022" y="120"/>
                          </a:lnTo>
                          <a:lnTo>
                            <a:pt x="1022" y="118"/>
                          </a:lnTo>
                          <a:lnTo>
                            <a:pt x="1022" y="114"/>
                          </a:lnTo>
                          <a:lnTo>
                            <a:pt x="1022" y="112"/>
                          </a:lnTo>
                          <a:lnTo>
                            <a:pt x="1022" y="110"/>
                          </a:lnTo>
                          <a:lnTo>
                            <a:pt x="1022" y="106"/>
                          </a:lnTo>
                          <a:lnTo>
                            <a:pt x="1022" y="105"/>
                          </a:lnTo>
                          <a:lnTo>
                            <a:pt x="1022" y="103"/>
                          </a:lnTo>
                          <a:lnTo>
                            <a:pt x="1022" y="99"/>
                          </a:lnTo>
                          <a:lnTo>
                            <a:pt x="1022" y="97"/>
                          </a:lnTo>
                          <a:lnTo>
                            <a:pt x="1022" y="91"/>
                          </a:lnTo>
                          <a:lnTo>
                            <a:pt x="1022" y="86"/>
                          </a:lnTo>
                          <a:lnTo>
                            <a:pt x="1020" y="82"/>
                          </a:lnTo>
                          <a:lnTo>
                            <a:pt x="1018" y="76"/>
                          </a:lnTo>
                          <a:lnTo>
                            <a:pt x="1016" y="70"/>
                          </a:lnTo>
                          <a:lnTo>
                            <a:pt x="1014" y="67"/>
                          </a:lnTo>
                          <a:lnTo>
                            <a:pt x="1012" y="61"/>
                          </a:lnTo>
                          <a:lnTo>
                            <a:pt x="1010" y="57"/>
                          </a:lnTo>
                          <a:lnTo>
                            <a:pt x="1008" y="53"/>
                          </a:lnTo>
                          <a:lnTo>
                            <a:pt x="1006" y="48"/>
                          </a:lnTo>
                          <a:lnTo>
                            <a:pt x="1004" y="44"/>
                          </a:lnTo>
                          <a:lnTo>
                            <a:pt x="1001" y="40"/>
                          </a:lnTo>
                          <a:lnTo>
                            <a:pt x="997" y="36"/>
                          </a:lnTo>
                          <a:lnTo>
                            <a:pt x="993" y="32"/>
                          </a:lnTo>
                          <a:lnTo>
                            <a:pt x="991" y="29"/>
                          </a:lnTo>
                          <a:lnTo>
                            <a:pt x="985" y="25"/>
                          </a:lnTo>
                          <a:lnTo>
                            <a:pt x="983" y="23"/>
                          </a:lnTo>
                          <a:lnTo>
                            <a:pt x="978" y="19"/>
                          </a:lnTo>
                          <a:lnTo>
                            <a:pt x="972" y="17"/>
                          </a:lnTo>
                          <a:lnTo>
                            <a:pt x="968" y="13"/>
                          </a:lnTo>
                          <a:lnTo>
                            <a:pt x="964" y="11"/>
                          </a:lnTo>
                          <a:lnTo>
                            <a:pt x="961" y="10"/>
                          </a:lnTo>
                          <a:lnTo>
                            <a:pt x="955" y="6"/>
                          </a:lnTo>
                          <a:lnTo>
                            <a:pt x="949" y="6"/>
                          </a:lnTo>
                          <a:lnTo>
                            <a:pt x="944" y="4"/>
                          </a:lnTo>
                          <a:lnTo>
                            <a:pt x="940" y="4"/>
                          </a:lnTo>
                          <a:lnTo>
                            <a:pt x="936" y="2"/>
                          </a:lnTo>
                          <a:lnTo>
                            <a:pt x="934" y="2"/>
                          </a:lnTo>
                          <a:lnTo>
                            <a:pt x="932" y="0"/>
                          </a:lnTo>
                          <a:lnTo>
                            <a:pt x="928" y="0"/>
                          </a:lnTo>
                          <a:lnTo>
                            <a:pt x="926" y="0"/>
                          </a:lnTo>
                          <a:lnTo>
                            <a:pt x="925" y="0"/>
                          </a:lnTo>
                          <a:lnTo>
                            <a:pt x="921" y="0"/>
                          </a:lnTo>
                          <a:lnTo>
                            <a:pt x="919" y="0"/>
                          </a:lnTo>
                          <a:lnTo>
                            <a:pt x="915" y="0"/>
                          </a:lnTo>
                          <a:lnTo>
                            <a:pt x="913" y="0"/>
                          </a:lnTo>
                          <a:lnTo>
                            <a:pt x="911" y="0"/>
                          </a:lnTo>
                          <a:lnTo>
                            <a:pt x="907" y="0"/>
                          </a:lnTo>
                          <a:lnTo>
                            <a:pt x="904" y="0"/>
                          </a:lnTo>
                          <a:lnTo>
                            <a:pt x="898" y="2"/>
                          </a:lnTo>
                          <a:lnTo>
                            <a:pt x="896" y="2"/>
                          </a:lnTo>
                          <a:lnTo>
                            <a:pt x="892" y="2"/>
                          </a:lnTo>
                          <a:lnTo>
                            <a:pt x="890" y="2"/>
                          </a:lnTo>
                          <a:lnTo>
                            <a:pt x="888" y="4"/>
                          </a:lnTo>
                          <a:lnTo>
                            <a:pt x="881" y="4"/>
                          </a:lnTo>
                          <a:lnTo>
                            <a:pt x="877" y="6"/>
                          </a:lnTo>
                          <a:lnTo>
                            <a:pt x="873" y="10"/>
                          </a:lnTo>
                          <a:lnTo>
                            <a:pt x="867" y="11"/>
                          </a:lnTo>
                          <a:lnTo>
                            <a:pt x="864" y="15"/>
                          </a:lnTo>
                          <a:lnTo>
                            <a:pt x="860" y="17"/>
                          </a:lnTo>
                          <a:lnTo>
                            <a:pt x="854" y="19"/>
                          </a:lnTo>
                          <a:lnTo>
                            <a:pt x="850" y="23"/>
                          </a:lnTo>
                          <a:lnTo>
                            <a:pt x="847" y="25"/>
                          </a:lnTo>
                          <a:lnTo>
                            <a:pt x="843" y="29"/>
                          </a:lnTo>
                          <a:lnTo>
                            <a:pt x="839" y="32"/>
                          </a:lnTo>
                          <a:lnTo>
                            <a:pt x="835" y="36"/>
                          </a:lnTo>
                          <a:lnTo>
                            <a:pt x="833" y="40"/>
                          </a:lnTo>
                          <a:lnTo>
                            <a:pt x="831" y="44"/>
                          </a:lnTo>
                          <a:lnTo>
                            <a:pt x="828" y="48"/>
                          </a:lnTo>
                          <a:lnTo>
                            <a:pt x="824" y="53"/>
                          </a:lnTo>
                          <a:lnTo>
                            <a:pt x="822" y="57"/>
                          </a:lnTo>
                          <a:lnTo>
                            <a:pt x="820" y="61"/>
                          </a:lnTo>
                          <a:lnTo>
                            <a:pt x="818" y="67"/>
                          </a:lnTo>
                          <a:lnTo>
                            <a:pt x="816" y="70"/>
                          </a:lnTo>
                          <a:lnTo>
                            <a:pt x="816" y="74"/>
                          </a:lnTo>
                          <a:lnTo>
                            <a:pt x="814" y="76"/>
                          </a:lnTo>
                          <a:lnTo>
                            <a:pt x="812" y="82"/>
                          </a:lnTo>
                          <a:lnTo>
                            <a:pt x="812" y="84"/>
                          </a:lnTo>
                          <a:lnTo>
                            <a:pt x="687" y="663"/>
                          </a:lnTo>
                          <a:lnTo>
                            <a:pt x="681" y="663"/>
                          </a:lnTo>
                          <a:lnTo>
                            <a:pt x="677" y="663"/>
                          </a:lnTo>
                          <a:lnTo>
                            <a:pt x="673" y="663"/>
                          </a:lnTo>
                          <a:lnTo>
                            <a:pt x="670" y="663"/>
                          </a:lnTo>
                          <a:lnTo>
                            <a:pt x="666" y="663"/>
                          </a:lnTo>
                          <a:lnTo>
                            <a:pt x="660" y="665"/>
                          </a:lnTo>
                          <a:lnTo>
                            <a:pt x="656" y="665"/>
                          </a:lnTo>
                          <a:lnTo>
                            <a:pt x="652" y="667"/>
                          </a:lnTo>
                          <a:lnTo>
                            <a:pt x="753" y="213"/>
                          </a:lnTo>
                          <a:lnTo>
                            <a:pt x="753" y="209"/>
                          </a:lnTo>
                          <a:lnTo>
                            <a:pt x="753" y="207"/>
                          </a:lnTo>
                          <a:lnTo>
                            <a:pt x="753" y="203"/>
                          </a:lnTo>
                          <a:lnTo>
                            <a:pt x="753" y="201"/>
                          </a:lnTo>
                          <a:lnTo>
                            <a:pt x="753" y="198"/>
                          </a:lnTo>
                          <a:lnTo>
                            <a:pt x="753" y="196"/>
                          </a:lnTo>
                          <a:lnTo>
                            <a:pt x="753" y="192"/>
                          </a:lnTo>
                          <a:lnTo>
                            <a:pt x="753" y="190"/>
                          </a:lnTo>
                          <a:lnTo>
                            <a:pt x="753" y="188"/>
                          </a:lnTo>
                          <a:lnTo>
                            <a:pt x="753" y="184"/>
                          </a:lnTo>
                          <a:lnTo>
                            <a:pt x="753" y="182"/>
                          </a:lnTo>
                          <a:lnTo>
                            <a:pt x="753" y="181"/>
                          </a:lnTo>
                          <a:lnTo>
                            <a:pt x="753" y="175"/>
                          </a:lnTo>
                          <a:lnTo>
                            <a:pt x="753" y="169"/>
                          </a:lnTo>
                          <a:lnTo>
                            <a:pt x="751" y="167"/>
                          </a:lnTo>
                          <a:lnTo>
                            <a:pt x="751" y="163"/>
                          </a:lnTo>
                          <a:lnTo>
                            <a:pt x="751" y="162"/>
                          </a:lnTo>
                          <a:lnTo>
                            <a:pt x="750" y="160"/>
                          </a:lnTo>
                          <a:lnTo>
                            <a:pt x="748" y="154"/>
                          </a:lnTo>
                          <a:lnTo>
                            <a:pt x="746" y="148"/>
                          </a:lnTo>
                          <a:lnTo>
                            <a:pt x="744" y="144"/>
                          </a:lnTo>
                          <a:lnTo>
                            <a:pt x="742" y="141"/>
                          </a:lnTo>
                          <a:lnTo>
                            <a:pt x="740" y="135"/>
                          </a:lnTo>
                          <a:lnTo>
                            <a:pt x="738" y="131"/>
                          </a:lnTo>
                          <a:lnTo>
                            <a:pt x="734" y="127"/>
                          </a:lnTo>
                          <a:lnTo>
                            <a:pt x="730" y="124"/>
                          </a:lnTo>
                          <a:lnTo>
                            <a:pt x="727" y="120"/>
                          </a:lnTo>
                          <a:lnTo>
                            <a:pt x="725" y="116"/>
                          </a:lnTo>
                          <a:lnTo>
                            <a:pt x="721" y="112"/>
                          </a:lnTo>
                          <a:lnTo>
                            <a:pt x="717" y="108"/>
                          </a:lnTo>
                          <a:lnTo>
                            <a:pt x="713" y="105"/>
                          </a:lnTo>
                          <a:lnTo>
                            <a:pt x="710" y="103"/>
                          </a:lnTo>
                          <a:lnTo>
                            <a:pt x="704" y="99"/>
                          </a:lnTo>
                          <a:lnTo>
                            <a:pt x="700" y="97"/>
                          </a:lnTo>
                          <a:lnTo>
                            <a:pt x="694" y="95"/>
                          </a:lnTo>
                          <a:lnTo>
                            <a:pt x="691" y="91"/>
                          </a:lnTo>
                          <a:lnTo>
                            <a:pt x="685" y="89"/>
                          </a:lnTo>
                          <a:lnTo>
                            <a:pt x="681" y="87"/>
                          </a:lnTo>
                          <a:lnTo>
                            <a:pt x="675" y="86"/>
                          </a:lnTo>
                          <a:lnTo>
                            <a:pt x="672" y="86"/>
                          </a:lnTo>
                          <a:lnTo>
                            <a:pt x="668" y="84"/>
                          </a:lnTo>
                          <a:lnTo>
                            <a:pt x="666" y="84"/>
                          </a:lnTo>
                          <a:lnTo>
                            <a:pt x="664" y="84"/>
                          </a:lnTo>
                          <a:lnTo>
                            <a:pt x="660" y="84"/>
                          </a:lnTo>
                          <a:lnTo>
                            <a:pt x="658" y="84"/>
                          </a:lnTo>
                          <a:lnTo>
                            <a:pt x="654" y="84"/>
                          </a:lnTo>
                          <a:lnTo>
                            <a:pt x="652" y="84"/>
                          </a:lnTo>
                          <a:lnTo>
                            <a:pt x="651" y="84"/>
                          </a:lnTo>
                          <a:lnTo>
                            <a:pt x="647" y="84"/>
                          </a:lnTo>
                          <a:lnTo>
                            <a:pt x="645" y="84"/>
                          </a:lnTo>
                          <a:lnTo>
                            <a:pt x="643" y="84"/>
                          </a:lnTo>
                          <a:lnTo>
                            <a:pt x="639" y="84"/>
                          </a:lnTo>
                          <a:lnTo>
                            <a:pt x="635" y="84"/>
                          </a:lnTo>
                          <a:lnTo>
                            <a:pt x="630" y="84"/>
                          </a:lnTo>
                          <a:lnTo>
                            <a:pt x="628" y="84"/>
                          </a:lnTo>
                          <a:lnTo>
                            <a:pt x="624" y="86"/>
                          </a:lnTo>
                          <a:lnTo>
                            <a:pt x="622" y="86"/>
                          </a:lnTo>
                          <a:lnTo>
                            <a:pt x="618" y="86"/>
                          </a:lnTo>
                          <a:lnTo>
                            <a:pt x="614" y="87"/>
                          </a:lnTo>
                          <a:lnTo>
                            <a:pt x="609" y="89"/>
                          </a:lnTo>
                          <a:lnTo>
                            <a:pt x="603" y="91"/>
                          </a:lnTo>
                          <a:lnTo>
                            <a:pt x="599" y="95"/>
                          </a:lnTo>
                          <a:lnTo>
                            <a:pt x="595" y="97"/>
                          </a:lnTo>
                          <a:lnTo>
                            <a:pt x="592" y="99"/>
                          </a:lnTo>
                          <a:lnTo>
                            <a:pt x="586" y="103"/>
                          </a:lnTo>
                          <a:lnTo>
                            <a:pt x="582" y="105"/>
                          </a:lnTo>
                          <a:lnTo>
                            <a:pt x="578" y="108"/>
                          </a:lnTo>
                          <a:lnTo>
                            <a:pt x="574" y="112"/>
                          </a:lnTo>
                          <a:lnTo>
                            <a:pt x="571" y="116"/>
                          </a:lnTo>
                          <a:lnTo>
                            <a:pt x="567" y="120"/>
                          </a:lnTo>
                          <a:lnTo>
                            <a:pt x="565" y="124"/>
                          </a:lnTo>
                          <a:lnTo>
                            <a:pt x="563" y="127"/>
                          </a:lnTo>
                          <a:lnTo>
                            <a:pt x="559" y="131"/>
                          </a:lnTo>
                          <a:lnTo>
                            <a:pt x="555" y="135"/>
                          </a:lnTo>
                          <a:lnTo>
                            <a:pt x="554" y="141"/>
                          </a:lnTo>
                          <a:lnTo>
                            <a:pt x="552" y="146"/>
                          </a:lnTo>
                          <a:lnTo>
                            <a:pt x="550" y="150"/>
                          </a:lnTo>
                          <a:lnTo>
                            <a:pt x="548" y="156"/>
                          </a:lnTo>
                          <a:lnTo>
                            <a:pt x="546" y="158"/>
                          </a:lnTo>
                          <a:lnTo>
                            <a:pt x="546" y="160"/>
                          </a:lnTo>
                          <a:lnTo>
                            <a:pt x="544" y="163"/>
                          </a:lnTo>
                          <a:lnTo>
                            <a:pt x="544" y="167"/>
                          </a:lnTo>
                          <a:lnTo>
                            <a:pt x="361" y="1127"/>
                          </a:lnTo>
                          <a:lnTo>
                            <a:pt x="361" y="1127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24" name="AutoShape 440"/>
                  <p:cNvSpPr/>
                  <p:nvPr/>
                </p:nvSpPr>
                <p:spPr>
                  <a:xfrm rot="9027600">
                    <a:off x="4390920" y="1986480"/>
                    <a:ext cx="88560" cy="75960"/>
                  </a:xfrm>
                  <a:prstGeom prst="hexagon">
                    <a:avLst>
                      <a:gd name="adj" fmla="val 29147"/>
                      <a:gd name="vf" fmla="val 115470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5" name="Group 441"/>
                <p:cNvGrpSpPr/>
                <p:nvPr/>
              </p:nvGrpSpPr>
              <p:grpSpPr>
                <a:xfrm>
                  <a:off x="4571280" y="2393280"/>
                  <a:ext cx="758880" cy="1180440"/>
                  <a:chOff x="4571280" y="2393280"/>
                  <a:chExt cx="758880" cy="1180440"/>
                </a:xfrm>
              </p:grpSpPr>
              <p:grpSp>
                <p:nvGrpSpPr>
                  <p:cNvPr id="1726" name="Group 442"/>
                  <p:cNvGrpSpPr/>
                  <p:nvPr/>
                </p:nvGrpSpPr>
                <p:grpSpPr>
                  <a:xfrm>
                    <a:off x="4571280" y="2393280"/>
                    <a:ext cx="452880" cy="632880"/>
                    <a:chOff x="4571280" y="2393280"/>
                    <a:chExt cx="452880" cy="632880"/>
                  </a:xfrm>
                </p:grpSpPr>
                <p:sp>
                  <p:nvSpPr>
                    <p:cNvPr id="1727" name="AutoShape 443"/>
                    <p:cNvSpPr/>
                    <p:nvPr/>
                  </p:nvSpPr>
                  <p:spPr>
                    <a:xfrm rot="20000400">
                      <a:off x="4743360" y="2520000"/>
                      <a:ext cx="179640" cy="49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18000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8" name="AutoShape 444"/>
                    <p:cNvSpPr/>
                    <p:nvPr/>
                  </p:nvSpPr>
                  <p:spPr>
                    <a:xfrm rot="3978600">
                      <a:off x="4622040" y="2410200"/>
                      <a:ext cx="19188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29" name="Group 445"/>
                  <p:cNvGrpSpPr/>
                  <p:nvPr/>
                </p:nvGrpSpPr>
                <p:grpSpPr>
                  <a:xfrm>
                    <a:off x="4824000" y="2864160"/>
                    <a:ext cx="506160" cy="709560"/>
                    <a:chOff x="4824000" y="2864160"/>
                    <a:chExt cx="506160" cy="709560"/>
                  </a:xfrm>
                </p:grpSpPr>
                <p:sp>
                  <p:nvSpPr>
                    <p:cNvPr id="1730" name="AutoShape 446"/>
                    <p:cNvSpPr/>
                    <p:nvPr/>
                  </p:nvSpPr>
                  <p:spPr>
                    <a:xfrm rot="20015400">
                      <a:off x="4943160" y="2986560"/>
                      <a:ext cx="180360" cy="36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4308" y="21600"/>
                          </a:lnTo>
                          <a:lnTo>
                            <a:pt x="17292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54000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1" name="Oval 447"/>
                    <p:cNvSpPr/>
                    <p:nvPr/>
                  </p:nvSpPr>
                  <p:spPr>
                    <a:xfrm rot="20554200">
                      <a:off x="4848120" y="2887560"/>
                      <a:ext cx="187200" cy="190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2" name="Freeform 448"/>
                    <p:cNvSpPr/>
                    <p:nvPr/>
                  </p:nvSpPr>
                  <p:spPr>
                    <a:xfrm rot="8449200">
                      <a:off x="5083200" y="3262680"/>
                      <a:ext cx="175680" cy="28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2" h="2302">
                          <a:moveTo>
                            <a:pt x="361" y="1127"/>
                          </a:moveTo>
                          <a:lnTo>
                            <a:pt x="280" y="1116"/>
                          </a:lnTo>
                          <a:lnTo>
                            <a:pt x="373" y="711"/>
                          </a:lnTo>
                          <a:lnTo>
                            <a:pt x="373" y="709"/>
                          </a:lnTo>
                          <a:lnTo>
                            <a:pt x="375" y="705"/>
                          </a:lnTo>
                          <a:lnTo>
                            <a:pt x="375" y="703"/>
                          </a:lnTo>
                          <a:lnTo>
                            <a:pt x="375" y="700"/>
                          </a:lnTo>
                          <a:lnTo>
                            <a:pt x="375" y="698"/>
                          </a:lnTo>
                          <a:lnTo>
                            <a:pt x="375" y="696"/>
                          </a:lnTo>
                          <a:lnTo>
                            <a:pt x="375" y="692"/>
                          </a:lnTo>
                          <a:lnTo>
                            <a:pt x="375" y="690"/>
                          </a:lnTo>
                          <a:lnTo>
                            <a:pt x="375" y="684"/>
                          </a:lnTo>
                          <a:lnTo>
                            <a:pt x="375" y="681"/>
                          </a:lnTo>
                          <a:lnTo>
                            <a:pt x="375" y="675"/>
                          </a:lnTo>
                          <a:lnTo>
                            <a:pt x="375" y="669"/>
                          </a:lnTo>
                          <a:lnTo>
                            <a:pt x="371" y="665"/>
                          </a:lnTo>
                          <a:lnTo>
                            <a:pt x="371" y="660"/>
                          </a:lnTo>
                          <a:lnTo>
                            <a:pt x="369" y="654"/>
                          </a:lnTo>
                          <a:lnTo>
                            <a:pt x="367" y="652"/>
                          </a:lnTo>
                          <a:lnTo>
                            <a:pt x="365" y="646"/>
                          </a:lnTo>
                          <a:lnTo>
                            <a:pt x="363" y="641"/>
                          </a:lnTo>
                          <a:lnTo>
                            <a:pt x="361" y="637"/>
                          </a:lnTo>
                          <a:lnTo>
                            <a:pt x="358" y="633"/>
                          </a:lnTo>
                          <a:lnTo>
                            <a:pt x="356" y="629"/>
                          </a:lnTo>
                          <a:lnTo>
                            <a:pt x="354" y="623"/>
                          </a:lnTo>
                          <a:lnTo>
                            <a:pt x="350" y="620"/>
                          </a:lnTo>
                          <a:lnTo>
                            <a:pt x="346" y="616"/>
                          </a:lnTo>
                          <a:lnTo>
                            <a:pt x="342" y="612"/>
                          </a:lnTo>
                          <a:lnTo>
                            <a:pt x="339" y="610"/>
                          </a:lnTo>
                          <a:lnTo>
                            <a:pt x="335" y="606"/>
                          </a:lnTo>
                          <a:lnTo>
                            <a:pt x="331" y="603"/>
                          </a:lnTo>
                          <a:lnTo>
                            <a:pt x="325" y="601"/>
                          </a:lnTo>
                          <a:lnTo>
                            <a:pt x="321" y="597"/>
                          </a:lnTo>
                          <a:lnTo>
                            <a:pt x="318" y="595"/>
                          </a:lnTo>
                          <a:lnTo>
                            <a:pt x="312" y="593"/>
                          </a:lnTo>
                          <a:lnTo>
                            <a:pt x="306" y="591"/>
                          </a:lnTo>
                          <a:lnTo>
                            <a:pt x="302" y="589"/>
                          </a:lnTo>
                          <a:lnTo>
                            <a:pt x="299" y="589"/>
                          </a:lnTo>
                          <a:lnTo>
                            <a:pt x="295" y="587"/>
                          </a:lnTo>
                          <a:lnTo>
                            <a:pt x="291" y="587"/>
                          </a:lnTo>
                          <a:lnTo>
                            <a:pt x="287" y="585"/>
                          </a:lnTo>
                          <a:lnTo>
                            <a:pt x="285" y="585"/>
                          </a:lnTo>
                          <a:lnTo>
                            <a:pt x="283" y="585"/>
                          </a:lnTo>
                          <a:lnTo>
                            <a:pt x="280" y="585"/>
                          </a:lnTo>
                          <a:lnTo>
                            <a:pt x="276" y="585"/>
                          </a:lnTo>
                          <a:lnTo>
                            <a:pt x="274" y="585"/>
                          </a:lnTo>
                          <a:lnTo>
                            <a:pt x="272" y="585"/>
                          </a:lnTo>
                          <a:lnTo>
                            <a:pt x="268" y="585"/>
                          </a:lnTo>
                          <a:lnTo>
                            <a:pt x="266" y="585"/>
                          </a:lnTo>
                          <a:lnTo>
                            <a:pt x="263" y="585"/>
                          </a:lnTo>
                          <a:lnTo>
                            <a:pt x="261" y="587"/>
                          </a:lnTo>
                          <a:lnTo>
                            <a:pt x="259" y="587"/>
                          </a:lnTo>
                          <a:lnTo>
                            <a:pt x="255" y="587"/>
                          </a:lnTo>
                          <a:lnTo>
                            <a:pt x="253" y="589"/>
                          </a:lnTo>
                          <a:lnTo>
                            <a:pt x="249" y="589"/>
                          </a:lnTo>
                          <a:lnTo>
                            <a:pt x="247" y="589"/>
                          </a:lnTo>
                          <a:lnTo>
                            <a:pt x="243" y="591"/>
                          </a:lnTo>
                          <a:lnTo>
                            <a:pt x="240" y="591"/>
                          </a:lnTo>
                          <a:lnTo>
                            <a:pt x="238" y="593"/>
                          </a:lnTo>
                          <a:lnTo>
                            <a:pt x="236" y="595"/>
                          </a:lnTo>
                          <a:lnTo>
                            <a:pt x="232" y="595"/>
                          </a:lnTo>
                          <a:lnTo>
                            <a:pt x="230" y="597"/>
                          </a:lnTo>
                          <a:lnTo>
                            <a:pt x="228" y="599"/>
                          </a:lnTo>
                          <a:lnTo>
                            <a:pt x="224" y="601"/>
                          </a:lnTo>
                          <a:lnTo>
                            <a:pt x="223" y="601"/>
                          </a:lnTo>
                          <a:lnTo>
                            <a:pt x="219" y="603"/>
                          </a:lnTo>
                          <a:lnTo>
                            <a:pt x="217" y="604"/>
                          </a:lnTo>
                          <a:lnTo>
                            <a:pt x="211" y="608"/>
                          </a:lnTo>
                          <a:lnTo>
                            <a:pt x="207" y="612"/>
                          </a:lnTo>
                          <a:lnTo>
                            <a:pt x="204" y="616"/>
                          </a:lnTo>
                          <a:lnTo>
                            <a:pt x="198" y="618"/>
                          </a:lnTo>
                          <a:lnTo>
                            <a:pt x="194" y="623"/>
                          </a:lnTo>
                          <a:lnTo>
                            <a:pt x="188" y="627"/>
                          </a:lnTo>
                          <a:lnTo>
                            <a:pt x="185" y="633"/>
                          </a:lnTo>
                          <a:lnTo>
                            <a:pt x="181" y="637"/>
                          </a:lnTo>
                          <a:lnTo>
                            <a:pt x="177" y="641"/>
                          </a:lnTo>
                          <a:lnTo>
                            <a:pt x="173" y="646"/>
                          </a:lnTo>
                          <a:lnTo>
                            <a:pt x="169" y="652"/>
                          </a:lnTo>
                          <a:lnTo>
                            <a:pt x="166" y="656"/>
                          </a:lnTo>
                          <a:lnTo>
                            <a:pt x="162" y="662"/>
                          </a:lnTo>
                          <a:lnTo>
                            <a:pt x="160" y="665"/>
                          </a:lnTo>
                          <a:lnTo>
                            <a:pt x="158" y="669"/>
                          </a:lnTo>
                          <a:lnTo>
                            <a:pt x="158" y="671"/>
                          </a:lnTo>
                          <a:lnTo>
                            <a:pt x="156" y="673"/>
                          </a:lnTo>
                          <a:lnTo>
                            <a:pt x="154" y="677"/>
                          </a:lnTo>
                          <a:lnTo>
                            <a:pt x="152" y="679"/>
                          </a:lnTo>
                          <a:lnTo>
                            <a:pt x="152" y="681"/>
                          </a:lnTo>
                          <a:lnTo>
                            <a:pt x="150" y="684"/>
                          </a:lnTo>
                          <a:lnTo>
                            <a:pt x="150" y="688"/>
                          </a:lnTo>
                          <a:lnTo>
                            <a:pt x="146" y="694"/>
                          </a:lnTo>
                          <a:lnTo>
                            <a:pt x="145" y="701"/>
                          </a:lnTo>
                          <a:lnTo>
                            <a:pt x="143" y="709"/>
                          </a:lnTo>
                          <a:lnTo>
                            <a:pt x="139" y="717"/>
                          </a:lnTo>
                          <a:lnTo>
                            <a:pt x="137" y="724"/>
                          </a:lnTo>
                          <a:lnTo>
                            <a:pt x="135" y="732"/>
                          </a:lnTo>
                          <a:lnTo>
                            <a:pt x="131" y="739"/>
                          </a:lnTo>
                          <a:lnTo>
                            <a:pt x="129" y="747"/>
                          </a:lnTo>
                          <a:lnTo>
                            <a:pt x="126" y="755"/>
                          </a:lnTo>
                          <a:lnTo>
                            <a:pt x="124" y="760"/>
                          </a:lnTo>
                          <a:lnTo>
                            <a:pt x="122" y="768"/>
                          </a:lnTo>
                          <a:lnTo>
                            <a:pt x="120" y="776"/>
                          </a:lnTo>
                          <a:lnTo>
                            <a:pt x="116" y="781"/>
                          </a:lnTo>
                          <a:lnTo>
                            <a:pt x="114" y="789"/>
                          </a:lnTo>
                          <a:lnTo>
                            <a:pt x="112" y="796"/>
                          </a:lnTo>
                          <a:lnTo>
                            <a:pt x="110" y="804"/>
                          </a:lnTo>
                          <a:lnTo>
                            <a:pt x="107" y="812"/>
                          </a:lnTo>
                          <a:lnTo>
                            <a:pt x="107" y="817"/>
                          </a:lnTo>
                          <a:lnTo>
                            <a:pt x="103" y="823"/>
                          </a:lnTo>
                          <a:lnTo>
                            <a:pt x="101" y="831"/>
                          </a:lnTo>
                          <a:lnTo>
                            <a:pt x="97" y="836"/>
                          </a:lnTo>
                          <a:lnTo>
                            <a:pt x="97" y="844"/>
                          </a:lnTo>
                          <a:lnTo>
                            <a:pt x="93" y="852"/>
                          </a:lnTo>
                          <a:lnTo>
                            <a:pt x="93" y="857"/>
                          </a:lnTo>
                          <a:lnTo>
                            <a:pt x="89" y="865"/>
                          </a:lnTo>
                          <a:lnTo>
                            <a:pt x="88" y="871"/>
                          </a:lnTo>
                          <a:lnTo>
                            <a:pt x="86" y="878"/>
                          </a:lnTo>
                          <a:lnTo>
                            <a:pt x="84" y="884"/>
                          </a:lnTo>
                          <a:lnTo>
                            <a:pt x="82" y="892"/>
                          </a:lnTo>
                          <a:lnTo>
                            <a:pt x="80" y="899"/>
                          </a:lnTo>
                          <a:lnTo>
                            <a:pt x="78" y="907"/>
                          </a:lnTo>
                          <a:lnTo>
                            <a:pt x="74" y="912"/>
                          </a:lnTo>
                          <a:lnTo>
                            <a:pt x="72" y="920"/>
                          </a:lnTo>
                          <a:lnTo>
                            <a:pt x="72" y="926"/>
                          </a:lnTo>
                          <a:lnTo>
                            <a:pt x="68" y="931"/>
                          </a:lnTo>
                          <a:lnTo>
                            <a:pt x="67" y="939"/>
                          </a:lnTo>
                          <a:lnTo>
                            <a:pt x="65" y="945"/>
                          </a:lnTo>
                          <a:lnTo>
                            <a:pt x="63" y="952"/>
                          </a:lnTo>
                          <a:lnTo>
                            <a:pt x="59" y="958"/>
                          </a:lnTo>
                          <a:lnTo>
                            <a:pt x="57" y="966"/>
                          </a:lnTo>
                          <a:lnTo>
                            <a:pt x="55" y="971"/>
                          </a:lnTo>
                          <a:lnTo>
                            <a:pt x="53" y="979"/>
                          </a:lnTo>
                          <a:lnTo>
                            <a:pt x="51" y="987"/>
                          </a:lnTo>
                          <a:lnTo>
                            <a:pt x="49" y="994"/>
                          </a:lnTo>
                          <a:lnTo>
                            <a:pt x="48" y="1000"/>
                          </a:lnTo>
                          <a:lnTo>
                            <a:pt x="46" y="1007"/>
                          </a:lnTo>
                          <a:lnTo>
                            <a:pt x="44" y="1015"/>
                          </a:lnTo>
                          <a:lnTo>
                            <a:pt x="42" y="1021"/>
                          </a:lnTo>
                          <a:lnTo>
                            <a:pt x="42" y="1028"/>
                          </a:lnTo>
                          <a:lnTo>
                            <a:pt x="38" y="1036"/>
                          </a:lnTo>
                          <a:lnTo>
                            <a:pt x="36" y="1042"/>
                          </a:lnTo>
                          <a:lnTo>
                            <a:pt x="36" y="1049"/>
                          </a:lnTo>
                          <a:lnTo>
                            <a:pt x="34" y="1057"/>
                          </a:lnTo>
                          <a:lnTo>
                            <a:pt x="30" y="1063"/>
                          </a:lnTo>
                          <a:lnTo>
                            <a:pt x="30" y="1070"/>
                          </a:lnTo>
                          <a:lnTo>
                            <a:pt x="29" y="1078"/>
                          </a:lnTo>
                          <a:lnTo>
                            <a:pt x="27" y="1085"/>
                          </a:lnTo>
                          <a:lnTo>
                            <a:pt x="25" y="1093"/>
                          </a:lnTo>
                          <a:lnTo>
                            <a:pt x="23" y="1101"/>
                          </a:lnTo>
                          <a:lnTo>
                            <a:pt x="21" y="1108"/>
                          </a:lnTo>
                          <a:lnTo>
                            <a:pt x="19" y="1116"/>
                          </a:lnTo>
                          <a:lnTo>
                            <a:pt x="17" y="1123"/>
                          </a:lnTo>
                          <a:lnTo>
                            <a:pt x="17" y="1131"/>
                          </a:lnTo>
                          <a:lnTo>
                            <a:pt x="15" y="1139"/>
                          </a:lnTo>
                          <a:lnTo>
                            <a:pt x="13" y="1148"/>
                          </a:lnTo>
                          <a:lnTo>
                            <a:pt x="10" y="1158"/>
                          </a:lnTo>
                          <a:lnTo>
                            <a:pt x="10" y="1165"/>
                          </a:lnTo>
                          <a:lnTo>
                            <a:pt x="8" y="1175"/>
                          </a:lnTo>
                          <a:lnTo>
                            <a:pt x="6" y="1182"/>
                          </a:lnTo>
                          <a:lnTo>
                            <a:pt x="6" y="1192"/>
                          </a:lnTo>
                          <a:lnTo>
                            <a:pt x="4" y="1201"/>
                          </a:lnTo>
                          <a:lnTo>
                            <a:pt x="2" y="1211"/>
                          </a:lnTo>
                          <a:lnTo>
                            <a:pt x="2" y="1218"/>
                          </a:lnTo>
                          <a:lnTo>
                            <a:pt x="0" y="1230"/>
                          </a:lnTo>
                          <a:lnTo>
                            <a:pt x="0" y="1237"/>
                          </a:lnTo>
                          <a:lnTo>
                            <a:pt x="0" y="1247"/>
                          </a:lnTo>
                          <a:lnTo>
                            <a:pt x="0" y="1257"/>
                          </a:lnTo>
                          <a:lnTo>
                            <a:pt x="0" y="1268"/>
                          </a:lnTo>
                          <a:lnTo>
                            <a:pt x="0" y="1276"/>
                          </a:lnTo>
                          <a:lnTo>
                            <a:pt x="0" y="1285"/>
                          </a:lnTo>
                          <a:lnTo>
                            <a:pt x="0" y="1296"/>
                          </a:lnTo>
                          <a:lnTo>
                            <a:pt x="0" y="1304"/>
                          </a:lnTo>
                          <a:lnTo>
                            <a:pt x="0" y="1314"/>
                          </a:lnTo>
                          <a:lnTo>
                            <a:pt x="0" y="1323"/>
                          </a:lnTo>
                          <a:lnTo>
                            <a:pt x="0" y="1333"/>
                          </a:lnTo>
                          <a:lnTo>
                            <a:pt x="2" y="1342"/>
                          </a:lnTo>
                          <a:lnTo>
                            <a:pt x="2" y="1352"/>
                          </a:lnTo>
                          <a:lnTo>
                            <a:pt x="4" y="1363"/>
                          </a:lnTo>
                          <a:lnTo>
                            <a:pt x="4" y="1371"/>
                          </a:lnTo>
                          <a:lnTo>
                            <a:pt x="6" y="1382"/>
                          </a:lnTo>
                          <a:lnTo>
                            <a:pt x="8" y="1390"/>
                          </a:lnTo>
                          <a:lnTo>
                            <a:pt x="8" y="1401"/>
                          </a:lnTo>
                          <a:lnTo>
                            <a:pt x="10" y="1409"/>
                          </a:lnTo>
                          <a:lnTo>
                            <a:pt x="11" y="1420"/>
                          </a:lnTo>
                          <a:lnTo>
                            <a:pt x="13" y="1429"/>
                          </a:lnTo>
                          <a:lnTo>
                            <a:pt x="15" y="1439"/>
                          </a:lnTo>
                          <a:lnTo>
                            <a:pt x="17" y="1448"/>
                          </a:lnTo>
                          <a:lnTo>
                            <a:pt x="19" y="1458"/>
                          </a:lnTo>
                          <a:lnTo>
                            <a:pt x="21" y="1468"/>
                          </a:lnTo>
                          <a:lnTo>
                            <a:pt x="23" y="1477"/>
                          </a:lnTo>
                          <a:lnTo>
                            <a:pt x="27" y="1487"/>
                          </a:lnTo>
                          <a:lnTo>
                            <a:pt x="29" y="1496"/>
                          </a:lnTo>
                          <a:lnTo>
                            <a:pt x="30" y="1506"/>
                          </a:lnTo>
                          <a:lnTo>
                            <a:pt x="34" y="1515"/>
                          </a:lnTo>
                          <a:lnTo>
                            <a:pt x="36" y="1525"/>
                          </a:lnTo>
                          <a:lnTo>
                            <a:pt x="38" y="1534"/>
                          </a:lnTo>
                          <a:lnTo>
                            <a:pt x="42" y="1544"/>
                          </a:lnTo>
                          <a:lnTo>
                            <a:pt x="46" y="1553"/>
                          </a:lnTo>
                          <a:lnTo>
                            <a:pt x="48" y="1561"/>
                          </a:lnTo>
                          <a:lnTo>
                            <a:pt x="51" y="1572"/>
                          </a:lnTo>
                          <a:lnTo>
                            <a:pt x="55" y="1580"/>
                          </a:lnTo>
                          <a:lnTo>
                            <a:pt x="59" y="1589"/>
                          </a:lnTo>
                          <a:lnTo>
                            <a:pt x="63" y="1599"/>
                          </a:lnTo>
                          <a:lnTo>
                            <a:pt x="67" y="1608"/>
                          </a:lnTo>
                          <a:lnTo>
                            <a:pt x="68" y="1616"/>
                          </a:lnTo>
                          <a:lnTo>
                            <a:pt x="74" y="1627"/>
                          </a:lnTo>
                          <a:lnTo>
                            <a:pt x="78" y="1635"/>
                          </a:lnTo>
                          <a:lnTo>
                            <a:pt x="82" y="1644"/>
                          </a:lnTo>
                          <a:lnTo>
                            <a:pt x="86" y="1652"/>
                          </a:lnTo>
                          <a:lnTo>
                            <a:pt x="89" y="1661"/>
                          </a:lnTo>
                          <a:lnTo>
                            <a:pt x="95" y="1669"/>
                          </a:lnTo>
                          <a:lnTo>
                            <a:pt x="99" y="1679"/>
                          </a:lnTo>
                          <a:lnTo>
                            <a:pt x="103" y="1688"/>
                          </a:lnTo>
                          <a:lnTo>
                            <a:pt x="108" y="1696"/>
                          </a:lnTo>
                          <a:lnTo>
                            <a:pt x="114" y="1703"/>
                          </a:lnTo>
                          <a:lnTo>
                            <a:pt x="118" y="1713"/>
                          </a:lnTo>
                          <a:lnTo>
                            <a:pt x="124" y="1722"/>
                          </a:lnTo>
                          <a:lnTo>
                            <a:pt x="127" y="1732"/>
                          </a:lnTo>
                          <a:lnTo>
                            <a:pt x="131" y="1736"/>
                          </a:lnTo>
                          <a:lnTo>
                            <a:pt x="135" y="1739"/>
                          </a:lnTo>
                          <a:lnTo>
                            <a:pt x="135" y="1743"/>
                          </a:lnTo>
                          <a:lnTo>
                            <a:pt x="137" y="1745"/>
                          </a:lnTo>
                          <a:lnTo>
                            <a:pt x="139" y="1747"/>
                          </a:lnTo>
                          <a:lnTo>
                            <a:pt x="141" y="1751"/>
                          </a:lnTo>
                          <a:lnTo>
                            <a:pt x="143" y="1755"/>
                          </a:lnTo>
                          <a:lnTo>
                            <a:pt x="143" y="1756"/>
                          </a:lnTo>
                          <a:lnTo>
                            <a:pt x="145" y="1760"/>
                          </a:lnTo>
                          <a:lnTo>
                            <a:pt x="146" y="1762"/>
                          </a:lnTo>
                          <a:lnTo>
                            <a:pt x="148" y="1766"/>
                          </a:lnTo>
                          <a:lnTo>
                            <a:pt x="150" y="1768"/>
                          </a:lnTo>
                          <a:lnTo>
                            <a:pt x="152" y="1770"/>
                          </a:lnTo>
                          <a:lnTo>
                            <a:pt x="156" y="1774"/>
                          </a:lnTo>
                          <a:lnTo>
                            <a:pt x="158" y="1777"/>
                          </a:lnTo>
                          <a:lnTo>
                            <a:pt x="160" y="1779"/>
                          </a:lnTo>
                          <a:lnTo>
                            <a:pt x="160" y="1783"/>
                          </a:lnTo>
                          <a:lnTo>
                            <a:pt x="162" y="1787"/>
                          </a:lnTo>
                          <a:lnTo>
                            <a:pt x="166" y="1789"/>
                          </a:lnTo>
                          <a:lnTo>
                            <a:pt x="166" y="1791"/>
                          </a:lnTo>
                          <a:lnTo>
                            <a:pt x="167" y="1794"/>
                          </a:lnTo>
                          <a:lnTo>
                            <a:pt x="169" y="1796"/>
                          </a:lnTo>
                          <a:lnTo>
                            <a:pt x="171" y="1800"/>
                          </a:lnTo>
                          <a:lnTo>
                            <a:pt x="173" y="1802"/>
                          </a:lnTo>
                          <a:lnTo>
                            <a:pt x="175" y="1806"/>
                          </a:lnTo>
                          <a:lnTo>
                            <a:pt x="177" y="1808"/>
                          </a:lnTo>
                          <a:lnTo>
                            <a:pt x="179" y="1812"/>
                          </a:lnTo>
                          <a:lnTo>
                            <a:pt x="181" y="1815"/>
                          </a:lnTo>
                          <a:lnTo>
                            <a:pt x="183" y="1817"/>
                          </a:lnTo>
                          <a:lnTo>
                            <a:pt x="185" y="1821"/>
                          </a:lnTo>
                          <a:lnTo>
                            <a:pt x="188" y="1827"/>
                          </a:lnTo>
                          <a:lnTo>
                            <a:pt x="190" y="1831"/>
                          </a:lnTo>
                          <a:lnTo>
                            <a:pt x="194" y="1836"/>
                          </a:lnTo>
                          <a:lnTo>
                            <a:pt x="198" y="1842"/>
                          </a:lnTo>
                          <a:lnTo>
                            <a:pt x="200" y="1846"/>
                          </a:lnTo>
                          <a:lnTo>
                            <a:pt x="204" y="1850"/>
                          </a:lnTo>
                          <a:lnTo>
                            <a:pt x="205" y="1853"/>
                          </a:lnTo>
                          <a:lnTo>
                            <a:pt x="207" y="1859"/>
                          </a:lnTo>
                          <a:lnTo>
                            <a:pt x="209" y="1861"/>
                          </a:lnTo>
                          <a:lnTo>
                            <a:pt x="211" y="1863"/>
                          </a:lnTo>
                          <a:lnTo>
                            <a:pt x="213" y="1867"/>
                          </a:lnTo>
                          <a:lnTo>
                            <a:pt x="215" y="1869"/>
                          </a:lnTo>
                          <a:lnTo>
                            <a:pt x="217" y="1870"/>
                          </a:lnTo>
                          <a:lnTo>
                            <a:pt x="219" y="1874"/>
                          </a:lnTo>
                          <a:lnTo>
                            <a:pt x="141" y="2163"/>
                          </a:lnTo>
                          <a:lnTo>
                            <a:pt x="143" y="2165"/>
                          </a:lnTo>
                          <a:lnTo>
                            <a:pt x="146" y="2165"/>
                          </a:lnTo>
                          <a:lnTo>
                            <a:pt x="150" y="2167"/>
                          </a:lnTo>
                          <a:lnTo>
                            <a:pt x="152" y="2167"/>
                          </a:lnTo>
                          <a:lnTo>
                            <a:pt x="154" y="2167"/>
                          </a:lnTo>
                          <a:lnTo>
                            <a:pt x="158" y="2167"/>
                          </a:lnTo>
                          <a:lnTo>
                            <a:pt x="162" y="2171"/>
                          </a:lnTo>
                          <a:lnTo>
                            <a:pt x="166" y="2171"/>
                          </a:lnTo>
                          <a:lnTo>
                            <a:pt x="167" y="2173"/>
                          </a:lnTo>
                          <a:lnTo>
                            <a:pt x="171" y="2173"/>
                          </a:lnTo>
                          <a:lnTo>
                            <a:pt x="175" y="2175"/>
                          </a:lnTo>
                          <a:lnTo>
                            <a:pt x="181" y="2175"/>
                          </a:lnTo>
                          <a:lnTo>
                            <a:pt x="185" y="2175"/>
                          </a:lnTo>
                          <a:lnTo>
                            <a:pt x="188" y="2177"/>
                          </a:lnTo>
                          <a:lnTo>
                            <a:pt x="194" y="2180"/>
                          </a:lnTo>
                          <a:lnTo>
                            <a:pt x="198" y="2180"/>
                          </a:lnTo>
                          <a:lnTo>
                            <a:pt x="204" y="2182"/>
                          </a:lnTo>
                          <a:lnTo>
                            <a:pt x="209" y="2182"/>
                          </a:lnTo>
                          <a:lnTo>
                            <a:pt x="215" y="2184"/>
                          </a:lnTo>
                          <a:lnTo>
                            <a:pt x="219" y="2186"/>
                          </a:lnTo>
                          <a:lnTo>
                            <a:pt x="224" y="2188"/>
                          </a:lnTo>
                          <a:lnTo>
                            <a:pt x="232" y="2188"/>
                          </a:lnTo>
                          <a:lnTo>
                            <a:pt x="238" y="2190"/>
                          </a:lnTo>
                          <a:lnTo>
                            <a:pt x="243" y="2190"/>
                          </a:lnTo>
                          <a:lnTo>
                            <a:pt x="251" y="2192"/>
                          </a:lnTo>
                          <a:lnTo>
                            <a:pt x="257" y="2194"/>
                          </a:lnTo>
                          <a:lnTo>
                            <a:pt x="264" y="2194"/>
                          </a:lnTo>
                          <a:lnTo>
                            <a:pt x="270" y="2196"/>
                          </a:lnTo>
                          <a:lnTo>
                            <a:pt x="276" y="2196"/>
                          </a:lnTo>
                          <a:lnTo>
                            <a:pt x="283" y="2197"/>
                          </a:lnTo>
                          <a:lnTo>
                            <a:pt x="291" y="2199"/>
                          </a:lnTo>
                          <a:lnTo>
                            <a:pt x="297" y="2199"/>
                          </a:lnTo>
                          <a:lnTo>
                            <a:pt x="304" y="2199"/>
                          </a:lnTo>
                          <a:lnTo>
                            <a:pt x="312" y="2199"/>
                          </a:lnTo>
                          <a:lnTo>
                            <a:pt x="320" y="2201"/>
                          </a:lnTo>
                          <a:lnTo>
                            <a:pt x="325" y="2201"/>
                          </a:lnTo>
                          <a:lnTo>
                            <a:pt x="333" y="2201"/>
                          </a:lnTo>
                          <a:lnTo>
                            <a:pt x="341" y="2201"/>
                          </a:lnTo>
                          <a:lnTo>
                            <a:pt x="348" y="2201"/>
                          </a:lnTo>
                          <a:lnTo>
                            <a:pt x="356" y="2201"/>
                          </a:lnTo>
                          <a:lnTo>
                            <a:pt x="363" y="2201"/>
                          </a:lnTo>
                          <a:lnTo>
                            <a:pt x="371" y="2201"/>
                          </a:lnTo>
                          <a:lnTo>
                            <a:pt x="379" y="2201"/>
                          </a:lnTo>
                          <a:lnTo>
                            <a:pt x="386" y="2201"/>
                          </a:lnTo>
                          <a:lnTo>
                            <a:pt x="394" y="2201"/>
                          </a:lnTo>
                          <a:lnTo>
                            <a:pt x="401" y="2199"/>
                          </a:lnTo>
                          <a:lnTo>
                            <a:pt x="409" y="2199"/>
                          </a:lnTo>
                          <a:lnTo>
                            <a:pt x="415" y="2197"/>
                          </a:lnTo>
                          <a:lnTo>
                            <a:pt x="422" y="2196"/>
                          </a:lnTo>
                          <a:lnTo>
                            <a:pt x="432" y="2196"/>
                          </a:lnTo>
                          <a:lnTo>
                            <a:pt x="439" y="2194"/>
                          </a:lnTo>
                          <a:lnTo>
                            <a:pt x="447" y="2192"/>
                          </a:lnTo>
                          <a:lnTo>
                            <a:pt x="455" y="2190"/>
                          </a:lnTo>
                          <a:lnTo>
                            <a:pt x="462" y="2188"/>
                          </a:lnTo>
                          <a:lnTo>
                            <a:pt x="470" y="2188"/>
                          </a:lnTo>
                          <a:lnTo>
                            <a:pt x="476" y="2184"/>
                          </a:lnTo>
                          <a:lnTo>
                            <a:pt x="483" y="2182"/>
                          </a:lnTo>
                          <a:lnTo>
                            <a:pt x="491" y="2180"/>
                          </a:lnTo>
                          <a:lnTo>
                            <a:pt x="498" y="2175"/>
                          </a:lnTo>
                          <a:lnTo>
                            <a:pt x="504" y="2173"/>
                          </a:lnTo>
                          <a:lnTo>
                            <a:pt x="512" y="2169"/>
                          </a:lnTo>
                          <a:lnTo>
                            <a:pt x="517" y="2165"/>
                          </a:lnTo>
                          <a:lnTo>
                            <a:pt x="525" y="2161"/>
                          </a:lnTo>
                          <a:lnTo>
                            <a:pt x="531" y="2158"/>
                          </a:lnTo>
                          <a:lnTo>
                            <a:pt x="536" y="2154"/>
                          </a:lnTo>
                          <a:lnTo>
                            <a:pt x="542" y="2150"/>
                          </a:lnTo>
                          <a:lnTo>
                            <a:pt x="550" y="2146"/>
                          </a:lnTo>
                          <a:lnTo>
                            <a:pt x="555" y="2142"/>
                          </a:lnTo>
                          <a:lnTo>
                            <a:pt x="559" y="2137"/>
                          </a:lnTo>
                          <a:lnTo>
                            <a:pt x="565" y="2133"/>
                          </a:lnTo>
                          <a:lnTo>
                            <a:pt x="571" y="2129"/>
                          </a:lnTo>
                          <a:lnTo>
                            <a:pt x="576" y="2123"/>
                          </a:lnTo>
                          <a:lnTo>
                            <a:pt x="582" y="2120"/>
                          </a:lnTo>
                          <a:lnTo>
                            <a:pt x="588" y="2114"/>
                          </a:lnTo>
                          <a:lnTo>
                            <a:pt x="592" y="2110"/>
                          </a:lnTo>
                          <a:lnTo>
                            <a:pt x="595" y="2106"/>
                          </a:lnTo>
                          <a:lnTo>
                            <a:pt x="601" y="2101"/>
                          </a:lnTo>
                          <a:lnTo>
                            <a:pt x="605" y="2095"/>
                          </a:lnTo>
                          <a:lnTo>
                            <a:pt x="611" y="2091"/>
                          </a:lnTo>
                          <a:lnTo>
                            <a:pt x="614" y="2085"/>
                          </a:lnTo>
                          <a:lnTo>
                            <a:pt x="618" y="2080"/>
                          </a:lnTo>
                          <a:lnTo>
                            <a:pt x="624" y="2076"/>
                          </a:lnTo>
                          <a:lnTo>
                            <a:pt x="628" y="2070"/>
                          </a:lnTo>
                          <a:lnTo>
                            <a:pt x="632" y="2064"/>
                          </a:lnTo>
                          <a:lnTo>
                            <a:pt x="635" y="2059"/>
                          </a:lnTo>
                          <a:lnTo>
                            <a:pt x="637" y="2055"/>
                          </a:lnTo>
                          <a:lnTo>
                            <a:pt x="643" y="2049"/>
                          </a:lnTo>
                          <a:lnTo>
                            <a:pt x="645" y="2043"/>
                          </a:lnTo>
                          <a:lnTo>
                            <a:pt x="649" y="2040"/>
                          </a:lnTo>
                          <a:lnTo>
                            <a:pt x="652" y="2034"/>
                          </a:lnTo>
                          <a:lnTo>
                            <a:pt x="654" y="2030"/>
                          </a:lnTo>
                          <a:lnTo>
                            <a:pt x="658" y="2024"/>
                          </a:lnTo>
                          <a:lnTo>
                            <a:pt x="660" y="2021"/>
                          </a:lnTo>
                          <a:lnTo>
                            <a:pt x="664" y="2015"/>
                          </a:lnTo>
                          <a:lnTo>
                            <a:pt x="666" y="2011"/>
                          </a:lnTo>
                          <a:lnTo>
                            <a:pt x="668" y="2005"/>
                          </a:lnTo>
                          <a:lnTo>
                            <a:pt x="672" y="2002"/>
                          </a:lnTo>
                          <a:lnTo>
                            <a:pt x="673" y="1998"/>
                          </a:lnTo>
                          <a:lnTo>
                            <a:pt x="675" y="1992"/>
                          </a:lnTo>
                          <a:lnTo>
                            <a:pt x="677" y="1986"/>
                          </a:lnTo>
                          <a:lnTo>
                            <a:pt x="679" y="1983"/>
                          </a:lnTo>
                          <a:lnTo>
                            <a:pt x="681" y="1979"/>
                          </a:lnTo>
                          <a:lnTo>
                            <a:pt x="683" y="1975"/>
                          </a:lnTo>
                          <a:lnTo>
                            <a:pt x="685" y="1971"/>
                          </a:lnTo>
                          <a:lnTo>
                            <a:pt x="687" y="1969"/>
                          </a:lnTo>
                          <a:lnTo>
                            <a:pt x="689" y="1964"/>
                          </a:lnTo>
                          <a:lnTo>
                            <a:pt x="691" y="1962"/>
                          </a:lnTo>
                          <a:lnTo>
                            <a:pt x="692" y="1958"/>
                          </a:lnTo>
                          <a:lnTo>
                            <a:pt x="692" y="1954"/>
                          </a:lnTo>
                          <a:lnTo>
                            <a:pt x="692" y="1952"/>
                          </a:lnTo>
                          <a:lnTo>
                            <a:pt x="694" y="1950"/>
                          </a:lnTo>
                          <a:lnTo>
                            <a:pt x="696" y="1945"/>
                          </a:lnTo>
                          <a:lnTo>
                            <a:pt x="698" y="1941"/>
                          </a:lnTo>
                          <a:lnTo>
                            <a:pt x="700" y="1937"/>
                          </a:lnTo>
                          <a:lnTo>
                            <a:pt x="700" y="1935"/>
                          </a:lnTo>
                          <a:lnTo>
                            <a:pt x="700" y="1933"/>
                          </a:lnTo>
                          <a:lnTo>
                            <a:pt x="702" y="1933"/>
                          </a:lnTo>
                          <a:lnTo>
                            <a:pt x="740" y="1943"/>
                          </a:lnTo>
                          <a:lnTo>
                            <a:pt x="740" y="1943"/>
                          </a:lnTo>
                          <a:lnTo>
                            <a:pt x="738" y="1945"/>
                          </a:lnTo>
                          <a:lnTo>
                            <a:pt x="738" y="1947"/>
                          </a:lnTo>
                          <a:lnTo>
                            <a:pt x="738" y="1950"/>
                          </a:lnTo>
                          <a:lnTo>
                            <a:pt x="738" y="1954"/>
                          </a:lnTo>
                          <a:lnTo>
                            <a:pt x="738" y="1958"/>
                          </a:lnTo>
                          <a:lnTo>
                            <a:pt x="736" y="1962"/>
                          </a:lnTo>
                          <a:lnTo>
                            <a:pt x="736" y="1964"/>
                          </a:lnTo>
                          <a:lnTo>
                            <a:pt x="736" y="1967"/>
                          </a:lnTo>
                          <a:lnTo>
                            <a:pt x="736" y="1971"/>
                          </a:lnTo>
                          <a:lnTo>
                            <a:pt x="736" y="1975"/>
                          </a:lnTo>
                          <a:lnTo>
                            <a:pt x="736" y="1979"/>
                          </a:lnTo>
                          <a:lnTo>
                            <a:pt x="736" y="1983"/>
                          </a:lnTo>
                          <a:lnTo>
                            <a:pt x="736" y="1985"/>
                          </a:lnTo>
                          <a:lnTo>
                            <a:pt x="736" y="1990"/>
                          </a:lnTo>
                          <a:lnTo>
                            <a:pt x="736" y="1994"/>
                          </a:lnTo>
                          <a:lnTo>
                            <a:pt x="736" y="1998"/>
                          </a:lnTo>
                          <a:lnTo>
                            <a:pt x="736" y="2004"/>
                          </a:lnTo>
                          <a:lnTo>
                            <a:pt x="736" y="2007"/>
                          </a:lnTo>
                          <a:lnTo>
                            <a:pt x="736" y="2013"/>
                          </a:lnTo>
                          <a:lnTo>
                            <a:pt x="736" y="2015"/>
                          </a:lnTo>
                          <a:lnTo>
                            <a:pt x="736" y="2021"/>
                          </a:lnTo>
                          <a:lnTo>
                            <a:pt x="736" y="2026"/>
                          </a:lnTo>
                          <a:lnTo>
                            <a:pt x="736" y="2030"/>
                          </a:lnTo>
                          <a:lnTo>
                            <a:pt x="736" y="2036"/>
                          </a:lnTo>
                          <a:lnTo>
                            <a:pt x="736" y="2042"/>
                          </a:lnTo>
                          <a:lnTo>
                            <a:pt x="736" y="2047"/>
                          </a:lnTo>
                          <a:lnTo>
                            <a:pt x="738" y="2051"/>
                          </a:lnTo>
                          <a:lnTo>
                            <a:pt x="738" y="2057"/>
                          </a:lnTo>
                          <a:lnTo>
                            <a:pt x="738" y="2062"/>
                          </a:lnTo>
                          <a:lnTo>
                            <a:pt x="740" y="2066"/>
                          </a:lnTo>
                          <a:lnTo>
                            <a:pt x="740" y="2072"/>
                          </a:lnTo>
                          <a:lnTo>
                            <a:pt x="742" y="2078"/>
                          </a:lnTo>
                          <a:lnTo>
                            <a:pt x="744" y="2083"/>
                          </a:lnTo>
                          <a:lnTo>
                            <a:pt x="744" y="2091"/>
                          </a:lnTo>
                          <a:lnTo>
                            <a:pt x="746" y="2095"/>
                          </a:lnTo>
                          <a:lnTo>
                            <a:pt x="748" y="2101"/>
                          </a:lnTo>
                          <a:lnTo>
                            <a:pt x="748" y="2106"/>
                          </a:lnTo>
                          <a:lnTo>
                            <a:pt x="751" y="2110"/>
                          </a:lnTo>
                          <a:lnTo>
                            <a:pt x="753" y="2118"/>
                          </a:lnTo>
                          <a:lnTo>
                            <a:pt x="753" y="2123"/>
                          </a:lnTo>
                          <a:lnTo>
                            <a:pt x="757" y="2129"/>
                          </a:lnTo>
                          <a:lnTo>
                            <a:pt x="759" y="2135"/>
                          </a:lnTo>
                          <a:lnTo>
                            <a:pt x="761" y="2139"/>
                          </a:lnTo>
                          <a:lnTo>
                            <a:pt x="765" y="2144"/>
                          </a:lnTo>
                          <a:lnTo>
                            <a:pt x="767" y="2150"/>
                          </a:lnTo>
                          <a:lnTo>
                            <a:pt x="769" y="2156"/>
                          </a:lnTo>
                          <a:lnTo>
                            <a:pt x="772" y="2159"/>
                          </a:lnTo>
                          <a:lnTo>
                            <a:pt x="776" y="2165"/>
                          </a:lnTo>
                          <a:lnTo>
                            <a:pt x="780" y="2171"/>
                          </a:lnTo>
                          <a:lnTo>
                            <a:pt x="782" y="2175"/>
                          </a:lnTo>
                          <a:lnTo>
                            <a:pt x="786" y="2180"/>
                          </a:lnTo>
                          <a:lnTo>
                            <a:pt x="789" y="2186"/>
                          </a:lnTo>
                          <a:lnTo>
                            <a:pt x="795" y="2190"/>
                          </a:lnTo>
                          <a:lnTo>
                            <a:pt x="799" y="2196"/>
                          </a:lnTo>
                          <a:lnTo>
                            <a:pt x="805" y="2201"/>
                          </a:lnTo>
                          <a:lnTo>
                            <a:pt x="808" y="2205"/>
                          </a:lnTo>
                          <a:lnTo>
                            <a:pt x="814" y="2209"/>
                          </a:lnTo>
                          <a:lnTo>
                            <a:pt x="818" y="2213"/>
                          </a:lnTo>
                          <a:lnTo>
                            <a:pt x="824" y="2216"/>
                          </a:lnTo>
                          <a:lnTo>
                            <a:pt x="828" y="2222"/>
                          </a:lnTo>
                          <a:lnTo>
                            <a:pt x="833" y="2224"/>
                          </a:lnTo>
                          <a:lnTo>
                            <a:pt x="839" y="2228"/>
                          </a:lnTo>
                          <a:lnTo>
                            <a:pt x="845" y="2232"/>
                          </a:lnTo>
                          <a:lnTo>
                            <a:pt x="848" y="2235"/>
                          </a:lnTo>
                          <a:lnTo>
                            <a:pt x="854" y="2239"/>
                          </a:lnTo>
                          <a:lnTo>
                            <a:pt x="858" y="2243"/>
                          </a:lnTo>
                          <a:lnTo>
                            <a:pt x="864" y="2245"/>
                          </a:lnTo>
                          <a:lnTo>
                            <a:pt x="867" y="2249"/>
                          </a:lnTo>
                          <a:lnTo>
                            <a:pt x="873" y="2253"/>
                          </a:lnTo>
                          <a:lnTo>
                            <a:pt x="877" y="2256"/>
                          </a:lnTo>
                          <a:lnTo>
                            <a:pt x="883" y="2258"/>
                          </a:lnTo>
                          <a:lnTo>
                            <a:pt x="890" y="2260"/>
                          </a:lnTo>
                          <a:lnTo>
                            <a:pt x="896" y="2264"/>
                          </a:lnTo>
                          <a:lnTo>
                            <a:pt x="900" y="2266"/>
                          </a:lnTo>
                          <a:lnTo>
                            <a:pt x="904" y="2268"/>
                          </a:lnTo>
                          <a:lnTo>
                            <a:pt x="907" y="2270"/>
                          </a:lnTo>
                          <a:lnTo>
                            <a:pt x="913" y="2273"/>
                          </a:lnTo>
                          <a:lnTo>
                            <a:pt x="919" y="2275"/>
                          </a:lnTo>
                          <a:lnTo>
                            <a:pt x="925" y="2277"/>
                          </a:lnTo>
                          <a:lnTo>
                            <a:pt x="928" y="2279"/>
                          </a:lnTo>
                          <a:lnTo>
                            <a:pt x="934" y="2281"/>
                          </a:lnTo>
                          <a:lnTo>
                            <a:pt x="938" y="2283"/>
                          </a:lnTo>
                          <a:lnTo>
                            <a:pt x="942" y="2285"/>
                          </a:lnTo>
                          <a:lnTo>
                            <a:pt x="947" y="2287"/>
                          </a:lnTo>
                          <a:lnTo>
                            <a:pt x="951" y="2289"/>
                          </a:lnTo>
                          <a:lnTo>
                            <a:pt x="955" y="2289"/>
                          </a:lnTo>
                          <a:lnTo>
                            <a:pt x="961" y="2291"/>
                          </a:lnTo>
                          <a:lnTo>
                            <a:pt x="964" y="2291"/>
                          </a:lnTo>
                          <a:lnTo>
                            <a:pt x="968" y="2294"/>
                          </a:lnTo>
                          <a:lnTo>
                            <a:pt x="972" y="2294"/>
                          </a:lnTo>
                          <a:lnTo>
                            <a:pt x="978" y="2294"/>
                          </a:lnTo>
                          <a:lnTo>
                            <a:pt x="982" y="2296"/>
                          </a:lnTo>
                          <a:lnTo>
                            <a:pt x="985" y="2296"/>
                          </a:lnTo>
                          <a:lnTo>
                            <a:pt x="989" y="2296"/>
                          </a:lnTo>
                          <a:lnTo>
                            <a:pt x="993" y="2298"/>
                          </a:lnTo>
                          <a:lnTo>
                            <a:pt x="997" y="2298"/>
                          </a:lnTo>
                          <a:lnTo>
                            <a:pt x="1001" y="2298"/>
                          </a:lnTo>
                          <a:lnTo>
                            <a:pt x="1004" y="2298"/>
                          </a:lnTo>
                          <a:lnTo>
                            <a:pt x="1008" y="2300"/>
                          </a:lnTo>
                          <a:lnTo>
                            <a:pt x="1010" y="2300"/>
                          </a:lnTo>
                          <a:lnTo>
                            <a:pt x="1014" y="2300"/>
                          </a:lnTo>
                          <a:lnTo>
                            <a:pt x="1016" y="2300"/>
                          </a:lnTo>
                          <a:lnTo>
                            <a:pt x="1020" y="2300"/>
                          </a:lnTo>
                          <a:lnTo>
                            <a:pt x="1022" y="2300"/>
                          </a:lnTo>
                          <a:lnTo>
                            <a:pt x="1025" y="2302"/>
                          </a:lnTo>
                          <a:lnTo>
                            <a:pt x="1029" y="2300"/>
                          </a:lnTo>
                          <a:lnTo>
                            <a:pt x="1035" y="2300"/>
                          </a:lnTo>
                          <a:lnTo>
                            <a:pt x="1039" y="2298"/>
                          </a:lnTo>
                          <a:lnTo>
                            <a:pt x="1042" y="2298"/>
                          </a:lnTo>
                          <a:lnTo>
                            <a:pt x="1044" y="2296"/>
                          </a:lnTo>
                          <a:lnTo>
                            <a:pt x="1048" y="2296"/>
                          </a:lnTo>
                          <a:lnTo>
                            <a:pt x="1048" y="2294"/>
                          </a:lnTo>
                          <a:lnTo>
                            <a:pt x="1050" y="2294"/>
                          </a:lnTo>
                          <a:lnTo>
                            <a:pt x="1246" y="1334"/>
                          </a:lnTo>
                          <a:lnTo>
                            <a:pt x="1246" y="1333"/>
                          </a:lnTo>
                          <a:lnTo>
                            <a:pt x="1248" y="1331"/>
                          </a:lnTo>
                          <a:lnTo>
                            <a:pt x="1250" y="1327"/>
                          </a:lnTo>
                          <a:lnTo>
                            <a:pt x="1252" y="1325"/>
                          </a:lnTo>
                          <a:lnTo>
                            <a:pt x="1252" y="1323"/>
                          </a:lnTo>
                          <a:lnTo>
                            <a:pt x="1254" y="1319"/>
                          </a:lnTo>
                          <a:lnTo>
                            <a:pt x="1256" y="1315"/>
                          </a:lnTo>
                          <a:lnTo>
                            <a:pt x="1259" y="1312"/>
                          </a:lnTo>
                          <a:lnTo>
                            <a:pt x="1259" y="1306"/>
                          </a:lnTo>
                          <a:lnTo>
                            <a:pt x="1263" y="1302"/>
                          </a:lnTo>
                          <a:lnTo>
                            <a:pt x="1265" y="1296"/>
                          </a:lnTo>
                          <a:lnTo>
                            <a:pt x="1269" y="1293"/>
                          </a:lnTo>
                          <a:lnTo>
                            <a:pt x="1271" y="1285"/>
                          </a:lnTo>
                          <a:lnTo>
                            <a:pt x="1275" y="1281"/>
                          </a:lnTo>
                          <a:lnTo>
                            <a:pt x="1276" y="1274"/>
                          </a:lnTo>
                          <a:lnTo>
                            <a:pt x="1280" y="1266"/>
                          </a:lnTo>
                          <a:lnTo>
                            <a:pt x="1284" y="1258"/>
                          </a:lnTo>
                          <a:lnTo>
                            <a:pt x="1288" y="1249"/>
                          </a:lnTo>
                          <a:lnTo>
                            <a:pt x="1290" y="1241"/>
                          </a:lnTo>
                          <a:lnTo>
                            <a:pt x="1294" y="1234"/>
                          </a:lnTo>
                          <a:lnTo>
                            <a:pt x="1297" y="1224"/>
                          </a:lnTo>
                          <a:lnTo>
                            <a:pt x="1301" y="1217"/>
                          </a:lnTo>
                          <a:lnTo>
                            <a:pt x="1305" y="1207"/>
                          </a:lnTo>
                          <a:lnTo>
                            <a:pt x="1309" y="1198"/>
                          </a:lnTo>
                          <a:lnTo>
                            <a:pt x="1313" y="1188"/>
                          </a:lnTo>
                          <a:lnTo>
                            <a:pt x="1316" y="1177"/>
                          </a:lnTo>
                          <a:lnTo>
                            <a:pt x="1320" y="1165"/>
                          </a:lnTo>
                          <a:lnTo>
                            <a:pt x="1324" y="1154"/>
                          </a:lnTo>
                          <a:lnTo>
                            <a:pt x="1330" y="1144"/>
                          </a:lnTo>
                          <a:lnTo>
                            <a:pt x="1334" y="1133"/>
                          </a:lnTo>
                          <a:lnTo>
                            <a:pt x="1337" y="1122"/>
                          </a:lnTo>
                          <a:lnTo>
                            <a:pt x="1339" y="1108"/>
                          </a:lnTo>
                          <a:lnTo>
                            <a:pt x="1345" y="1097"/>
                          </a:lnTo>
                          <a:lnTo>
                            <a:pt x="1349" y="1084"/>
                          </a:lnTo>
                          <a:lnTo>
                            <a:pt x="1353" y="1070"/>
                          </a:lnTo>
                          <a:lnTo>
                            <a:pt x="1354" y="1059"/>
                          </a:lnTo>
                          <a:lnTo>
                            <a:pt x="1358" y="1044"/>
                          </a:lnTo>
                          <a:lnTo>
                            <a:pt x="1362" y="1032"/>
                          </a:lnTo>
                          <a:lnTo>
                            <a:pt x="1366" y="1017"/>
                          </a:lnTo>
                          <a:lnTo>
                            <a:pt x="1370" y="1004"/>
                          </a:lnTo>
                          <a:lnTo>
                            <a:pt x="1372" y="988"/>
                          </a:lnTo>
                          <a:lnTo>
                            <a:pt x="1375" y="975"/>
                          </a:lnTo>
                          <a:lnTo>
                            <a:pt x="1377" y="960"/>
                          </a:lnTo>
                          <a:lnTo>
                            <a:pt x="1381" y="947"/>
                          </a:lnTo>
                          <a:lnTo>
                            <a:pt x="1383" y="931"/>
                          </a:lnTo>
                          <a:lnTo>
                            <a:pt x="1387" y="916"/>
                          </a:lnTo>
                          <a:lnTo>
                            <a:pt x="1389" y="901"/>
                          </a:lnTo>
                          <a:lnTo>
                            <a:pt x="1391" y="886"/>
                          </a:lnTo>
                          <a:lnTo>
                            <a:pt x="1392" y="871"/>
                          </a:lnTo>
                          <a:lnTo>
                            <a:pt x="1394" y="855"/>
                          </a:lnTo>
                          <a:lnTo>
                            <a:pt x="1396" y="838"/>
                          </a:lnTo>
                          <a:lnTo>
                            <a:pt x="1398" y="823"/>
                          </a:lnTo>
                          <a:lnTo>
                            <a:pt x="1398" y="806"/>
                          </a:lnTo>
                          <a:lnTo>
                            <a:pt x="1400" y="791"/>
                          </a:lnTo>
                          <a:lnTo>
                            <a:pt x="1402" y="774"/>
                          </a:lnTo>
                          <a:lnTo>
                            <a:pt x="1402" y="757"/>
                          </a:lnTo>
                          <a:lnTo>
                            <a:pt x="1402" y="741"/>
                          </a:lnTo>
                          <a:lnTo>
                            <a:pt x="1402" y="724"/>
                          </a:lnTo>
                          <a:lnTo>
                            <a:pt x="1402" y="705"/>
                          </a:lnTo>
                          <a:lnTo>
                            <a:pt x="1402" y="690"/>
                          </a:lnTo>
                          <a:lnTo>
                            <a:pt x="1400" y="673"/>
                          </a:lnTo>
                          <a:lnTo>
                            <a:pt x="1400" y="656"/>
                          </a:lnTo>
                          <a:lnTo>
                            <a:pt x="1398" y="654"/>
                          </a:lnTo>
                          <a:lnTo>
                            <a:pt x="1398" y="652"/>
                          </a:lnTo>
                          <a:lnTo>
                            <a:pt x="1398" y="648"/>
                          </a:lnTo>
                          <a:lnTo>
                            <a:pt x="1398" y="644"/>
                          </a:lnTo>
                          <a:lnTo>
                            <a:pt x="1398" y="643"/>
                          </a:lnTo>
                          <a:lnTo>
                            <a:pt x="1398" y="639"/>
                          </a:lnTo>
                          <a:lnTo>
                            <a:pt x="1396" y="637"/>
                          </a:lnTo>
                          <a:lnTo>
                            <a:pt x="1396" y="633"/>
                          </a:lnTo>
                          <a:lnTo>
                            <a:pt x="1396" y="631"/>
                          </a:lnTo>
                          <a:lnTo>
                            <a:pt x="1396" y="627"/>
                          </a:lnTo>
                          <a:lnTo>
                            <a:pt x="1396" y="623"/>
                          </a:lnTo>
                          <a:lnTo>
                            <a:pt x="1394" y="620"/>
                          </a:lnTo>
                          <a:lnTo>
                            <a:pt x="1394" y="618"/>
                          </a:lnTo>
                          <a:lnTo>
                            <a:pt x="1394" y="616"/>
                          </a:lnTo>
                          <a:lnTo>
                            <a:pt x="1392" y="612"/>
                          </a:lnTo>
                          <a:lnTo>
                            <a:pt x="1392" y="610"/>
                          </a:lnTo>
                          <a:lnTo>
                            <a:pt x="1392" y="608"/>
                          </a:lnTo>
                          <a:lnTo>
                            <a:pt x="1391" y="604"/>
                          </a:lnTo>
                          <a:lnTo>
                            <a:pt x="1391" y="603"/>
                          </a:lnTo>
                          <a:lnTo>
                            <a:pt x="1391" y="599"/>
                          </a:lnTo>
                          <a:lnTo>
                            <a:pt x="1389" y="597"/>
                          </a:lnTo>
                          <a:lnTo>
                            <a:pt x="1389" y="593"/>
                          </a:lnTo>
                          <a:lnTo>
                            <a:pt x="1389" y="589"/>
                          </a:lnTo>
                          <a:lnTo>
                            <a:pt x="1389" y="587"/>
                          </a:lnTo>
                          <a:lnTo>
                            <a:pt x="1387" y="585"/>
                          </a:lnTo>
                          <a:lnTo>
                            <a:pt x="1385" y="582"/>
                          </a:lnTo>
                          <a:lnTo>
                            <a:pt x="1385" y="580"/>
                          </a:lnTo>
                          <a:lnTo>
                            <a:pt x="1383" y="578"/>
                          </a:lnTo>
                          <a:lnTo>
                            <a:pt x="1383" y="572"/>
                          </a:lnTo>
                          <a:lnTo>
                            <a:pt x="1381" y="568"/>
                          </a:lnTo>
                          <a:lnTo>
                            <a:pt x="1377" y="563"/>
                          </a:lnTo>
                          <a:lnTo>
                            <a:pt x="1375" y="557"/>
                          </a:lnTo>
                          <a:lnTo>
                            <a:pt x="1373" y="553"/>
                          </a:lnTo>
                          <a:lnTo>
                            <a:pt x="1370" y="547"/>
                          </a:lnTo>
                          <a:lnTo>
                            <a:pt x="1366" y="544"/>
                          </a:lnTo>
                          <a:lnTo>
                            <a:pt x="1364" y="540"/>
                          </a:lnTo>
                          <a:lnTo>
                            <a:pt x="1360" y="536"/>
                          </a:lnTo>
                          <a:lnTo>
                            <a:pt x="1356" y="532"/>
                          </a:lnTo>
                          <a:lnTo>
                            <a:pt x="1353" y="528"/>
                          </a:lnTo>
                          <a:lnTo>
                            <a:pt x="1349" y="525"/>
                          </a:lnTo>
                          <a:lnTo>
                            <a:pt x="1345" y="523"/>
                          </a:lnTo>
                          <a:lnTo>
                            <a:pt x="1339" y="521"/>
                          </a:lnTo>
                          <a:lnTo>
                            <a:pt x="1335" y="517"/>
                          </a:lnTo>
                          <a:lnTo>
                            <a:pt x="1332" y="515"/>
                          </a:lnTo>
                          <a:lnTo>
                            <a:pt x="1326" y="515"/>
                          </a:lnTo>
                          <a:lnTo>
                            <a:pt x="1322" y="513"/>
                          </a:lnTo>
                          <a:lnTo>
                            <a:pt x="1318" y="511"/>
                          </a:lnTo>
                          <a:lnTo>
                            <a:pt x="1316" y="511"/>
                          </a:lnTo>
                          <a:lnTo>
                            <a:pt x="1313" y="511"/>
                          </a:lnTo>
                          <a:lnTo>
                            <a:pt x="1311" y="511"/>
                          </a:lnTo>
                          <a:lnTo>
                            <a:pt x="1309" y="509"/>
                          </a:lnTo>
                          <a:lnTo>
                            <a:pt x="1305" y="509"/>
                          </a:lnTo>
                          <a:lnTo>
                            <a:pt x="1303" y="509"/>
                          </a:lnTo>
                          <a:lnTo>
                            <a:pt x="1301" y="509"/>
                          </a:lnTo>
                          <a:lnTo>
                            <a:pt x="1297" y="509"/>
                          </a:lnTo>
                          <a:lnTo>
                            <a:pt x="1295" y="509"/>
                          </a:lnTo>
                          <a:lnTo>
                            <a:pt x="1292" y="509"/>
                          </a:lnTo>
                          <a:lnTo>
                            <a:pt x="1290" y="509"/>
                          </a:lnTo>
                          <a:lnTo>
                            <a:pt x="1284" y="509"/>
                          </a:lnTo>
                          <a:lnTo>
                            <a:pt x="1280" y="509"/>
                          </a:lnTo>
                          <a:lnTo>
                            <a:pt x="1275" y="509"/>
                          </a:lnTo>
                          <a:lnTo>
                            <a:pt x="1269" y="509"/>
                          </a:lnTo>
                          <a:lnTo>
                            <a:pt x="1265" y="509"/>
                          </a:lnTo>
                          <a:lnTo>
                            <a:pt x="1259" y="509"/>
                          </a:lnTo>
                          <a:lnTo>
                            <a:pt x="1256" y="511"/>
                          </a:lnTo>
                          <a:lnTo>
                            <a:pt x="1252" y="511"/>
                          </a:lnTo>
                          <a:lnTo>
                            <a:pt x="1246" y="515"/>
                          </a:lnTo>
                          <a:lnTo>
                            <a:pt x="1242" y="515"/>
                          </a:lnTo>
                          <a:lnTo>
                            <a:pt x="1238" y="517"/>
                          </a:lnTo>
                          <a:lnTo>
                            <a:pt x="1235" y="521"/>
                          </a:lnTo>
                          <a:lnTo>
                            <a:pt x="1231" y="523"/>
                          </a:lnTo>
                          <a:lnTo>
                            <a:pt x="1229" y="525"/>
                          </a:lnTo>
                          <a:lnTo>
                            <a:pt x="1225" y="527"/>
                          </a:lnTo>
                          <a:lnTo>
                            <a:pt x="1221" y="530"/>
                          </a:lnTo>
                          <a:lnTo>
                            <a:pt x="1219" y="532"/>
                          </a:lnTo>
                          <a:lnTo>
                            <a:pt x="1216" y="538"/>
                          </a:lnTo>
                          <a:lnTo>
                            <a:pt x="1214" y="542"/>
                          </a:lnTo>
                          <a:lnTo>
                            <a:pt x="1212" y="546"/>
                          </a:lnTo>
                          <a:lnTo>
                            <a:pt x="1210" y="549"/>
                          </a:lnTo>
                          <a:lnTo>
                            <a:pt x="1208" y="555"/>
                          </a:lnTo>
                          <a:lnTo>
                            <a:pt x="1208" y="557"/>
                          </a:lnTo>
                          <a:lnTo>
                            <a:pt x="1206" y="559"/>
                          </a:lnTo>
                          <a:lnTo>
                            <a:pt x="1204" y="561"/>
                          </a:lnTo>
                          <a:lnTo>
                            <a:pt x="1204" y="565"/>
                          </a:lnTo>
                          <a:lnTo>
                            <a:pt x="1204" y="566"/>
                          </a:lnTo>
                          <a:lnTo>
                            <a:pt x="1204" y="570"/>
                          </a:lnTo>
                          <a:lnTo>
                            <a:pt x="1204" y="572"/>
                          </a:lnTo>
                          <a:lnTo>
                            <a:pt x="1204" y="576"/>
                          </a:lnTo>
                          <a:lnTo>
                            <a:pt x="1139" y="895"/>
                          </a:lnTo>
                          <a:lnTo>
                            <a:pt x="1136" y="893"/>
                          </a:lnTo>
                          <a:lnTo>
                            <a:pt x="1132" y="892"/>
                          </a:lnTo>
                          <a:lnTo>
                            <a:pt x="1126" y="888"/>
                          </a:lnTo>
                          <a:lnTo>
                            <a:pt x="1122" y="886"/>
                          </a:lnTo>
                          <a:lnTo>
                            <a:pt x="1117" y="884"/>
                          </a:lnTo>
                          <a:lnTo>
                            <a:pt x="1113" y="880"/>
                          </a:lnTo>
                          <a:lnTo>
                            <a:pt x="1107" y="878"/>
                          </a:lnTo>
                          <a:lnTo>
                            <a:pt x="1105" y="876"/>
                          </a:lnTo>
                          <a:lnTo>
                            <a:pt x="1227" y="316"/>
                          </a:lnTo>
                          <a:lnTo>
                            <a:pt x="1227" y="312"/>
                          </a:lnTo>
                          <a:lnTo>
                            <a:pt x="1227" y="308"/>
                          </a:lnTo>
                          <a:lnTo>
                            <a:pt x="1229" y="306"/>
                          </a:lnTo>
                          <a:lnTo>
                            <a:pt x="1229" y="304"/>
                          </a:lnTo>
                          <a:lnTo>
                            <a:pt x="1229" y="300"/>
                          </a:lnTo>
                          <a:lnTo>
                            <a:pt x="1229" y="298"/>
                          </a:lnTo>
                          <a:lnTo>
                            <a:pt x="1229" y="295"/>
                          </a:lnTo>
                          <a:lnTo>
                            <a:pt x="1229" y="293"/>
                          </a:lnTo>
                          <a:lnTo>
                            <a:pt x="1229" y="291"/>
                          </a:lnTo>
                          <a:lnTo>
                            <a:pt x="1229" y="287"/>
                          </a:lnTo>
                          <a:lnTo>
                            <a:pt x="1229" y="285"/>
                          </a:lnTo>
                          <a:lnTo>
                            <a:pt x="1229" y="283"/>
                          </a:lnTo>
                          <a:lnTo>
                            <a:pt x="1229" y="278"/>
                          </a:lnTo>
                          <a:lnTo>
                            <a:pt x="1227" y="272"/>
                          </a:lnTo>
                          <a:lnTo>
                            <a:pt x="1225" y="268"/>
                          </a:lnTo>
                          <a:lnTo>
                            <a:pt x="1225" y="262"/>
                          </a:lnTo>
                          <a:lnTo>
                            <a:pt x="1223" y="257"/>
                          </a:lnTo>
                          <a:lnTo>
                            <a:pt x="1221" y="253"/>
                          </a:lnTo>
                          <a:lnTo>
                            <a:pt x="1219" y="247"/>
                          </a:lnTo>
                          <a:lnTo>
                            <a:pt x="1217" y="243"/>
                          </a:lnTo>
                          <a:lnTo>
                            <a:pt x="1216" y="240"/>
                          </a:lnTo>
                          <a:lnTo>
                            <a:pt x="1214" y="236"/>
                          </a:lnTo>
                          <a:lnTo>
                            <a:pt x="1210" y="232"/>
                          </a:lnTo>
                          <a:lnTo>
                            <a:pt x="1206" y="226"/>
                          </a:lnTo>
                          <a:lnTo>
                            <a:pt x="1202" y="222"/>
                          </a:lnTo>
                          <a:lnTo>
                            <a:pt x="1200" y="219"/>
                          </a:lnTo>
                          <a:lnTo>
                            <a:pt x="1197" y="215"/>
                          </a:lnTo>
                          <a:lnTo>
                            <a:pt x="1193" y="211"/>
                          </a:lnTo>
                          <a:lnTo>
                            <a:pt x="1189" y="207"/>
                          </a:lnTo>
                          <a:lnTo>
                            <a:pt x="1185" y="205"/>
                          </a:lnTo>
                          <a:lnTo>
                            <a:pt x="1179" y="203"/>
                          </a:lnTo>
                          <a:lnTo>
                            <a:pt x="1176" y="200"/>
                          </a:lnTo>
                          <a:lnTo>
                            <a:pt x="1172" y="198"/>
                          </a:lnTo>
                          <a:lnTo>
                            <a:pt x="1166" y="194"/>
                          </a:lnTo>
                          <a:lnTo>
                            <a:pt x="1160" y="192"/>
                          </a:lnTo>
                          <a:lnTo>
                            <a:pt x="1157" y="192"/>
                          </a:lnTo>
                          <a:lnTo>
                            <a:pt x="1151" y="190"/>
                          </a:lnTo>
                          <a:lnTo>
                            <a:pt x="1147" y="190"/>
                          </a:lnTo>
                          <a:lnTo>
                            <a:pt x="1143" y="188"/>
                          </a:lnTo>
                          <a:lnTo>
                            <a:pt x="1141" y="186"/>
                          </a:lnTo>
                          <a:lnTo>
                            <a:pt x="1138" y="186"/>
                          </a:lnTo>
                          <a:lnTo>
                            <a:pt x="1136" y="186"/>
                          </a:lnTo>
                          <a:lnTo>
                            <a:pt x="1134" y="186"/>
                          </a:lnTo>
                          <a:lnTo>
                            <a:pt x="1130" y="186"/>
                          </a:lnTo>
                          <a:lnTo>
                            <a:pt x="1128" y="186"/>
                          </a:lnTo>
                          <a:lnTo>
                            <a:pt x="1124" y="186"/>
                          </a:lnTo>
                          <a:lnTo>
                            <a:pt x="1122" y="186"/>
                          </a:lnTo>
                          <a:lnTo>
                            <a:pt x="1120" y="186"/>
                          </a:lnTo>
                          <a:lnTo>
                            <a:pt x="1117" y="186"/>
                          </a:lnTo>
                          <a:lnTo>
                            <a:pt x="1115" y="186"/>
                          </a:lnTo>
                          <a:lnTo>
                            <a:pt x="1109" y="186"/>
                          </a:lnTo>
                          <a:lnTo>
                            <a:pt x="1105" y="188"/>
                          </a:lnTo>
                          <a:lnTo>
                            <a:pt x="1100" y="188"/>
                          </a:lnTo>
                          <a:lnTo>
                            <a:pt x="1094" y="190"/>
                          </a:lnTo>
                          <a:lnTo>
                            <a:pt x="1090" y="192"/>
                          </a:lnTo>
                          <a:lnTo>
                            <a:pt x="1086" y="192"/>
                          </a:lnTo>
                          <a:lnTo>
                            <a:pt x="1081" y="194"/>
                          </a:lnTo>
                          <a:lnTo>
                            <a:pt x="1077" y="198"/>
                          </a:lnTo>
                          <a:lnTo>
                            <a:pt x="1073" y="200"/>
                          </a:lnTo>
                          <a:lnTo>
                            <a:pt x="1067" y="203"/>
                          </a:lnTo>
                          <a:lnTo>
                            <a:pt x="1063" y="205"/>
                          </a:lnTo>
                          <a:lnTo>
                            <a:pt x="1058" y="207"/>
                          </a:lnTo>
                          <a:lnTo>
                            <a:pt x="1054" y="211"/>
                          </a:lnTo>
                          <a:lnTo>
                            <a:pt x="1050" y="215"/>
                          </a:lnTo>
                          <a:lnTo>
                            <a:pt x="1048" y="219"/>
                          </a:lnTo>
                          <a:lnTo>
                            <a:pt x="1044" y="222"/>
                          </a:lnTo>
                          <a:lnTo>
                            <a:pt x="1041" y="226"/>
                          </a:lnTo>
                          <a:lnTo>
                            <a:pt x="1039" y="232"/>
                          </a:lnTo>
                          <a:lnTo>
                            <a:pt x="1035" y="234"/>
                          </a:lnTo>
                          <a:lnTo>
                            <a:pt x="1033" y="240"/>
                          </a:lnTo>
                          <a:lnTo>
                            <a:pt x="1029" y="243"/>
                          </a:lnTo>
                          <a:lnTo>
                            <a:pt x="1027" y="249"/>
                          </a:lnTo>
                          <a:lnTo>
                            <a:pt x="1025" y="253"/>
                          </a:lnTo>
                          <a:lnTo>
                            <a:pt x="1023" y="259"/>
                          </a:lnTo>
                          <a:lnTo>
                            <a:pt x="1022" y="260"/>
                          </a:lnTo>
                          <a:lnTo>
                            <a:pt x="1022" y="264"/>
                          </a:lnTo>
                          <a:lnTo>
                            <a:pt x="1022" y="266"/>
                          </a:lnTo>
                          <a:lnTo>
                            <a:pt x="1022" y="270"/>
                          </a:lnTo>
                          <a:lnTo>
                            <a:pt x="919" y="730"/>
                          </a:lnTo>
                          <a:lnTo>
                            <a:pt x="915" y="728"/>
                          </a:lnTo>
                          <a:lnTo>
                            <a:pt x="913" y="726"/>
                          </a:lnTo>
                          <a:lnTo>
                            <a:pt x="907" y="724"/>
                          </a:lnTo>
                          <a:lnTo>
                            <a:pt x="905" y="720"/>
                          </a:lnTo>
                          <a:lnTo>
                            <a:pt x="904" y="719"/>
                          </a:lnTo>
                          <a:lnTo>
                            <a:pt x="900" y="717"/>
                          </a:lnTo>
                          <a:lnTo>
                            <a:pt x="896" y="713"/>
                          </a:lnTo>
                          <a:lnTo>
                            <a:pt x="892" y="713"/>
                          </a:lnTo>
                          <a:lnTo>
                            <a:pt x="1022" y="129"/>
                          </a:lnTo>
                          <a:lnTo>
                            <a:pt x="1022" y="125"/>
                          </a:lnTo>
                          <a:lnTo>
                            <a:pt x="1022" y="124"/>
                          </a:lnTo>
                          <a:lnTo>
                            <a:pt x="1022" y="120"/>
                          </a:lnTo>
                          <a:lnTo>
                            <a:pt x="1022" y="118"/>
                          </a:lnTo>
                          <a:lnTo>
                            <a:pt x="1022" y="114"/>
                          </a:lnTo>
                          <a:lnTo>
                            <a:pt x="1022" y="112"/>
                          </a:lnTo>
                          <a:lnTo>
                            <a:pt x="1022" y="110"/>
                          </a:lnTo>
                          <a:lnTo>
                            <a:pt x="1022" y="106"/>
                          </a:lnTo>
                          <a:lnTo>
                            <a:pt x="1022" y="105"/>
                          </a:lnTo>
                          <a:lnTo>
                            <a:pt x="1022" y="103"/>
                          </a:lnTo>
                          <a:lnTo>
                            <a:pt x="1022" y="99"/>
                          </a:lnTo>
                          <a:lnTo>
                            <a:pt x="1022" y="97"/>
                          </a:lnTo>
                          <a:lnTo>
                            <a:pt x="1022" y="91"/>
                          </a:lnTo>
                          <a:lnTo>
                            <a:pt x="1022" y="86"/>
                          </a:lnTo>
                          <a:lnTo>
                            <a:pt x="1020" y="82"/>
                          </a:lnTo>
                          <a:lnTo>
                            <a:pt x="1018" y="76"/>
                          </a:lnTo>
                          <a:lnTo>
                            <a:pt x="1016" y="70"/>
                          </a:lnTo>
                          <a:lnTo>
                            <a:pt x="1014" y="67"/>
                          </a:lnTo>
                          <a:lnTo>
                            <a:pt x="1012" y="61"/>
                          </a:lnTo>
                          <a:lnTo>
                            <a:pt x="1010" y="57"/>
                          </a:lnTo>
                          <a:lnTo>
                            <a:pt x="1008" y="53"/>
                          </a:lnTo>
                          <a:lnTo>
                            <a:pt x="1006" y="48"/>
                          </a:lnTo>
                          <a:lnTo>
                            <a:pt x="1004" y="44"/>
                          </a:lnTo>
                          <a:lnTo>
                            <a:pt x="1001" y="40"/>
                          </a:lnTo>
                          <a:lnTo>
                            <a:pt x="997" y="36"/>
                          </a:lnTo>
                          <a:lnTo>
                            <a:pt x="993" y="32"/>
                          </a:lnTo>
                          <a:lnTo>
                            <a:pt x="991" y="29"/>
                          </a:lnTo>
                          <a:lnTo>
                            <a:pt x="985" y="25"/>
                          </a:lnTo>
                          <a:lnTo>
                            <a:pt x="983" y="23"/>
                          </a:lnTo>
                          <a:lnTo>
                            <a:pt x="978" y="19"/>
                          </a:lnTo>
                          <a:lnTo>
                            <a:pt x="972" y="17"/>
                          </a:lnTo>
                          <a:lnTo>
                            <a:pt x="968" y="13"/>
                          </a:lnTo>
                          <a:lnTo>
                            <a:pt x="964" y="11"/>
                          </a:lnTo>
                          <a:lnTo>
                            <a:pt x="961" y="10"/>
                          </a:lnTo>
                          <a:lnTo>
                            <a:pt x="955" y="6"/>
                          </a:lnTo>
                          <a:lnTo>
                            <a:pt x="949" y="6"/>
                          </a:lnTo>
                          <a:lnTo>
                            <a:pt x="944" y="4"/>
                          </a:lnTo>
                          <a:lnTo>
                            <a:pt x="940" y="4"/>
                          </a:lnTo>
                          <a:lnTo>
                            <a:pt x="936" y="2"/>
                          </a:lnTo>
                          <a:lnTo>
                            <a:pt x="934" y="2"/>
                          </a:lnTo>
                          <a:lnTo>
                            <a:pt x="932" y="0"/>
                          </a:lnTo>
                          <a:lnTo>
                            <a:pt x="928" y="0"/>
                          </a:lnTo>
                          <a:lnTo>
                            <a:pt x="926" y="0"/>
                          </a:lnTo>
                          <a:lnTo>
                            <a:pt x="925" y="0"/>
                          </a:lnTo>
                          <a:lnTo>
                            <a:pt x="921" y="0"/>
                          </a:lnTo>
                          <a:lnTo>
                            <a:pt x="919" y="0"/>
                          </a:lnTo>
                          <a:lnTo>
                            <a:pt x="915" y="0"/>
                          </a:lnTo>
                          <a:lnTo>
                            <a:pt x="913" y="0"/>
                          </a:lnTo>
                          <a:lnTo>
                            <a:pt x="911" y="0"/>
                          </a:lnTo>
                          <a:lnTo>
                            <a:pt x="907" y="0"/>
                          </a:lnTo>
                          <a:lnTo>
                            <a:pt x="904" y="0"/>
                          </a:lnTo>
                          <a:lnTo>
                            <a:pt x="898" y="2"/>
                          </a:lnTo>
                          <a:lnTo>
                            <a:pt x="896" y="2"/>
                          </a:lnTo>
                          <a:lnTo>
                            <a:pt x="892" y="2"/>
                          </a:lnTo>
                          <a:lnTo>
                            <a:pt x="890" y="2"/>
                          </a:lnTo>
                          <a:lnTo>
                            <a:pt x="888" y="4"/>
                          </a:lnTo>
                          <a:lnTo>
                            <a:pt x="881" y="4"/>
                          </a:lnTo>
                          <a:lnTo>
                            <a:pt x="877" y="6"/>
                          </a:lnTo>
                          <a:lnTo>
                            <a:pt x="873" y="10"/>
                          </a:lnTo>
                          <a:lnTo>
                            <a:pt x="867" y="11"/>
                          </a:lnTo>
                          <a:lnTo>
                            <a:pt x="864" y="15"/>
                          </a:lnTo>
                          <a:lnTo>
                            <a:pt x="860" y="17"/>
                          </a:lnTo>
                          <a:lnTo>
                            <a:pt x="854" y="19"/>
                          </a:lnTo>
                          <a:lnTo>
                            <a:pt x="850" y="23"/>
                          </a:lnTo>
                          <a:lnTo>
                            <a:pt x="847" y="25"/>
                          </a:lnTo>
                          <a:lnTo>
                            <a:pt x="843" y="29"/>
                          </a:lnTo>
                          <a:lnTo>
                            <a:pt x="839" y="32"/>
                          </a:lnTo>
                          <a:lnTo>
                            <a:pt x="835" y="36"/>
                          </a:lnTo>
                          <a:lnTo>
                            <a:pt x="833" y="40"/>
                          </a:lnTo>
                          <a:lnTo>
                            <a:pt x="831" y="44"/>
                          </a:lnTo>
                          <a:lnTo>
                            <a:pt x="828" y="48"/>
                          </a:lnTo>
                          <a:lnTo>
                            <a:pt x="824" y="53"/>
                          </a:lnTo>
                          <a:lnTo>
                            <a:pt x="822" y="57"/>
                          </a:lnTo>
                          <a:lnTo>
                            <a:pt x="820" y="61"/>
                          </a:lnTo>
                          <a:lnTo>
                            <a:pt x="818" y="67"/>
                          </a:lnTo>
                          <a:lnTo>
                            <a:pt x="816" y="70"/>
                          </a:lnTo>
                          <a:lnTo>
                            <a:pt x="816" y="74"/>
                          </a:lnTo>
                          <a:lnTo>
                            <a:pt x="814" y="76"/>
                          </a:lnTo>
                          <a:lnTo>
                            <a:pt x="812" y="82"/>
                          </a:lnTo>
                          <a:lnTo>
                            <a:pt x="812" y="84"/>
                          </a:lnTo>
                          <a:lnTo>
                            <a:pt x="687" y="663"/>
                          </a:lnTo>
                          <a:lnTo>
                            <a:pt x="681" y="663"/>
                          </a:lnTo>
                          <a:lnTo>
                            <a:pt x="677" y="663"/>
                          </a:lnTo>
                          <a:lnTo>
                            <a:pt x="673" y="663"/>
                          </a:lnTo>
                          <a:lnTo>
                            <a:pt x="670" y="663"/>
                          </a:lnTo>
                          <a:lnTo>
                            <a:pt x="666" y="663"/>
                          </a:lnTo>
                          <a:lnTo>
                            <a:pt x="660" y="665"/>
                          </a:lnTo>
                          <a:lnTo>
                            <a:pt x="656" y="665"/>
                          </a:lnTo>
                          <a:lnTo>
                            <a:pt x="652" y="667"/>
                          </a:lnTo>
                          <a:lnTo>
                            <a:pt x="753" y="213"/>
                          </a:lnTo>
                          <a:lnTo>
                            <a:pt x="753" y="209"/>
                          </a:lnTo>
                          <a:lnTo>
                            <a:pt x="753" y="207"/>
                          </a:lnTo>
                          <a:lnTo>
                            <a:pt x="753" y="203"/>
                          </a:lnTo>
                          <a:lnTo>
                            <a:pt x="753" y="201"/>
                          </a:lnTo>
                          <a:lnTo>
                            <a:pt x="753" y="198"/>
                          </a:lnTo>
                          <a:lnTo>
                            <a:pt x="753" y="196"/>
                          </a:lnTo>
                          <a:lnTo>
                            <a:pt x="753" y="192"/>
                          </a:lnTo>
                          <a:lnTo>
                            <a:pt x="753" y="190"/>
                          </a:lnTo>
                          <a:lnTo>
                            <a:pt x="753" y="188"/>
                          </a:lnTo>
                          <a:lnTo>
                            <a:pt x="753" y="184"/>
                          </a:lnTo>
                          <a:lnTo>
                            <a:pt x="753" y="182"/>
                          </a:lnTo>
                          <a:lnTo>
                            <a:pt x="753" y="181"/>
                          </a:lnTo>
                          <a:lnTo>
                            <a:pt x="753" y="175"/>
                          </a:lnTo>
                          <a:lnTo>
                            <a:pt x="753" y="169"/>
                          </a:lnTo>
                          <a:lnTo>
                            <a:pt x="751" y="167"/>
                          </a:lnTo>
                          <a:lnTo>
                            <a:pt x="751" y="163"/>
                          </a:lnTo>
                          <a:lnTo>
                            <a:pt x="751" y="162"/>
                          </a:lnTo>
                          <a:lnTo>
                            <a:pt x="750" y="160"/>
                          </a:lnTo>
                          <a:lnTo>
                            <a:pt x="748" y="154"/>
                          </a:lnTo>
                          <a:lnTo>
                            <a:pt x="746" y="148"/>
                          </a:lnTo>
                          <a:lnTo>
                            <a:pt x="744" y="144"/>
                          </a:lnTo>
                          <a:lnTo>
                            <a:pt x="742" y="141"/>
                          </a:lnTo>
                          <a:lnTo>
                            <a:pt x="740" y="135"/>
                          </a:lnTo>
                          <a:lnTo>
                            <a:pt x="738" y="131"/>
                          </a:lnTo>
                          <a:lnTo>
                            <a:pt x="734" y="127"/>
                          </a:lnTo>
                          <a:lnTo>
                            <a:pt x="730" y="124"/>
                          </a:lnTo>
                          <a:lnTo>
                            <a:pt x="727" y="120"/>
                          </a:lnTo>
                          <a:lnTo>
                            <a:pt x="725" y="116"/>
                          </a:lnTo>
                          <a:lnTo>
                            <a:pt x="721" y="112"/>
                          </a:lnTo>
                          <a:lnTo>
                            <a:pt x="717" y="108"/>
                          </a:lnTo>
                          <a:lnTo>
                            <a:pt x="713" y="105"/>
                          </a:lnTo>
                          <a:lnTo>
                            <a:pt x="710" y="103"/>
                          </a:lnTo>
                          <a:lnTo>
                            <a:pt x="704" y="99"/>
                          </a:lnTo>
                          <a:lnTo>
                            <a:pt x="700" y="97"/>
                          </a:lnTo>
                          <a:lnTo>
                            <a:pt x="694" y="95"/>
                          </a:lnTo>
                          <a:lnTo>
                            <a:pt x="691" y="91"/>
                          </a:lnTo>
                          <a:lnTo>
                            <a:pt x="685" y="89"/>
                          </a:lnTo>
                          <a:lnTo>
                            <a:pt x="681" y="87"/>
                          </a:lnTo>
                          <a:lnTo>
                            <a:pt x="675" y="86"/>
                          </a:lnTo>
                          <a:lnTo>
                            <a:pt x="672" y="86"/>
                          </a:lnTo>
                          <a:lnTo>
                            <a:pt x="668" y="84"/>
                          </a:lnTo>
                          <a:lnTo>
                            <a:pt x="666" y="84"/>
                          </a:lnTo>
                          <a:lnTo>
                            <a:pt x="664" y="84"/>
                          </a:lnTo>
                          <a:lnTo>
                            <a:pt x="660" y="84"/>
                          </a:lnTo>
                          <a:lnTo>
                            <a:pt x="658" y="84"/>
                          </a:lnTo>
                          <a:lnTo>
                            <a:pt x="654" y="84"/>
                          </a:lnTo>
                          <a:lnTo>
                            <a:pt x="652" y="84"/>
                          </a:lnTo>
                          <a:lnTo>
                            <a:pt x="651" y="84"/>
                          </a:lnTo>
                          <a:lnTo>
                            <a:pt x="647" y="84"/>
                          </a:lnTo>
                          <a:lnTo>
                            <a:pt x="645" y="84"/>
                          </a:lnTo>
                          <a:lnTo>
                            <a:pt x="643" y="84"/>
                          </a:lnTo>
                          <a:lnTo>
                            <a:pt x="639" y="84"/>
                          </a:lnTo>
                          <a:lnTo>
                            <a:pt x="635" y="84"/>
                          </a:lnTo>
                          <a:lnTo>
                            <a:pt x="630" y="84"/>
                          </a:lnTo>
                          <a:lnTo>
                            <a:pt x="628" y="84"/>
                          </a:lnTo>
                          <a:lnTo>
                            <a:pt x="624" y="86"/>
                          </a:lnTo>
                          <a:lnTo>
                            <a:pt x="622" y="86"/>
                          </a:lnTo>
                          <a:lnTo>
                            <a:pt x="618" y="86"/>
                          </a:lnTo>
                          <a:lnTo>
                            <a:pt x="614" y="87"/>
                          </a:lnTo>
                          <a:lnTo>
                            <a:pt x="609" y="89"/>
                          </a:lnTo>
                          <a:lnTo>
                            <a:pt x="603" y="91"/>
                          </a:lnTo>
                          <a:lnTo>
                            <a:pt x="599" y="95"/>
                          </a:lnTo>
                          <a:lnTo>
                            <a:pt x="595" y="97"/>
                          </a:lnTo>
                          <a:lnTo>
                            <a:pt x="592" y="99"/>
                          </a:lnTo>
                          <a:lnTo>
                            <a:pt x="586" y="103"/>
                          </a:lnTo>
                          <a:lnTo>
                            <a:pt x="582" y="105"/>
                          </a:lnTo>
                          <a:lnTo>
                            <a:pt x="578" y="108"/>
                          </a:lnTo>
                          <a:lnTo>
                            <a:pt x="574" y="112"/>
                          </a:lnTo>
                          <a:lnTo>
                            <a:pt x="571" y="116"/>
                          </a:lnTo>
                          <a:lnTo>
                            <a:pt x="567" y="120"/>
                          </a:lnTo>
                          <a:lnTo>
                            <a:pt x="565" y="124"/>
                          </a:lnTo>
                          <a:lnTo>
                            <a:pt x="563" y="127"/>
                          </a:lnTo>
                          <a:lnTo>
                            <a:pt x="559" y="131"/>
                          </a:lnTo>
                          <a:lnTo>
                            <a:pt x="555" y="135"/>
                          </a:lnTo>
                          <a:lnTo>
                            <a:pt x="554" y="141"/>
                          </a:lnTo>
                          <a:lnTo>
                            <a:pt x="552" y="146"/>
                          </a:lnTo>
                          <a:lnTo>
                            <a:pt x="550" y="150"/>
                          </a:lnTo>
                          <a:lnTo>
                            <a:pt x="548" y="156"/>
                          </a:lnTo>
                          <a:lnTo>
                            <a:pt x="546" y="158"/>
                          </a:lnTo>
                          <a:lnTo>
                            <a:pt x="546" y="160"/>
                          </a:lnTo>
                          <a:lnTo>
                            <a:pt x="544" y="163"/>
                          </a:lnTo>
                          <a:lnTo>
                            <a:pt x="544" y="167"/>
                          </a:lnTo>
                          <a:lnTo>
                            <a:pt x="361" y="1127"/>
                          </a:lnTo>
                          <a:lnTo>
                            <a:pt x="361" y="1127"/>
                          </a:lnTo>
                          <a:close/>
                        </a:path>
                      </a:pathLst>
                    </a:custGeom>
                    <a:solidFill>
                      <a:srgbClr val="eaeaea"/>
                    </a:soli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33" name="AutoShape 449"/>
                  <p:cNvSpPr/>
                  <p:nvPr/>
                </p:nvSpPr>
                <p:spPr>
                  <a:xfrm rot="19984200">
                    <a:off x="4897440" y="2940840"/>
                    <a:ext cx="88560" cy="75960"/>
                  </a:xfrm>
                  <a:prstGeom prst="hexagon">
                    <a:avLst>
                      <a:gd name="adj" fmla="val 29147"/>
                      <a:gd name="vf" fmla="val 115470"/>
                    </a:avLst>
                  </a:prstGeom>
                  <a:solidFill>
                    <a:srgbClr val="ff0000"/>
                  </a:solidFill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34" name="AutoShape 450"/>
              <p:cNvSpPr/>
              <p:nvPr/>
            </p:nvSpPr>
            <p:spPr>
              <a:xfrm rot="20001600">
                <a:off x="4705920" y="2633760"/>
                <a:ext cx="180000" cy="121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210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5" name="AutoShape 451"/>
            <p:cNvSpPr/>
            <p:nvPr/>
          </p:nvSpPr>
          <p:spPr>
            <a:xfrm rot="20016000">
              <a:off x="5008680" y="3286800"/>
              <a:ext cx="192600" cy="5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308" y="21600"/>
                  </a:lnTo>
                  <a:lnTo>
                    <a:pt x="1729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ffffff"/>
                </a:gs>
              </a:gsLst>
              <a:lin ang="2100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6" name="Group 452"/>
          <p:cNvGrpSpPr/>
          <p:nvPr/>
        </p:nvGrpSpPr>
        <p:grpSpPr>
          <a:xfrm>
            <a:off x="5105520" y="3400200"/>
            <a:ext cx="1143000" cy="120240"/>
            <a:chOff x="5105520" y="3400200"/>
            <a:chExt cx="1143000" cy="120240"/>
          </a:xfrm>
        </p:grpSpPr>
        <p:grpSp>
          <p:nvGrpSpPr>
            <p:cNvPr id="1737" name="Group 453"/>
            <p:cNvGrpSpPr/>
            <p:nvPr/>
          </p:nvGrpSpPr>
          <p:grpSpPr>
            <a:xfrm>
              <a:off x="5503320" y="3400200"/>
              <a:ext cx="745200" cy="120240"/>
              <a:chOff x="5503320" y="3400200"/>
              <a:chExt cx="745200" cy="120240"/>
            </a:xfrm>
          </p:grpSpPr>
          <p:sp>
            <p:nvSpPr>
              <p:cNvPr id="1738" name="Oval 454"/>
              <p:cNvSpPr/>
              <p:nvPr/>
            </p:nvSpPr>
            <p:spPr>
              <a:xfrm flipV="1">
                <a:off x="5561640" y="3485880"/>
                <a:ext cx="633960" cy="3420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39" name="Group 455"/>
              <p:cNvGrpSpPr/>
              <p:nvPr/>
            </p:nvGrpSpPr>
            <p:grpSpPr>
              <a:xfrm>
                <a:off x="5503320" y="3400200"/>
                <a:ext cx="745200" cy="103320"/>
                <a:chOff x="5503320" y="3400200"/>
                <a:chExt cx="745200" cy="103320"/>
              </a:xfrm>
            </p:grpSpPr>
            <p:sp>
              <p:nvSpPr>
                <p:cNvPr id="1740" name="AutoShape 456"/>
                <p:cNvSpPr/>
                <p:nvPr/>
              </p:nvSpPr>
              <p:spPr>
                <a:xfrm>
                  <a:off x="5504040" y="3434760"/>
                  <a:ext cx="744120" cy="68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1570" y="21600"/>
                      </a:lnTo>
                      <a:lnTo>
                        <a:pt x="2003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77777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1" name="Oval 457"/>
                <p:cNvSpPr/>
                <p:nvPr/>
              </p:nvSpPr>
              <p:spPr>
                <a:xfrm flipV="1">
                  <a:off x="5503320" y="3399840"/>
                  <a:ext cx="745200" cy="6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777777"/>
                    </a:gs>
                  </a:gsLst>
                  <a:lin ang="5400000"/>
                </a:gra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42" name="Rectangle 458"/>
            <p:cNvSpPr/>
            <p:nvPr/>
          </p:nvSpPr>
          <p:spPr>
            <a:xfrm>
              <a:off x="5105520" y="3427200"/>
              <a:ext cx="415080" cy="417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777777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3" name="Group 476"/>
          <p:cNvGrpSpPr/>
          <p:nvPr/>
        </p:nvGrpSpPr>
        <p:grpSpPr>
          <a:xfrm>
            <a:off x="4343040" y="2514960"/>
            <a:ext cx="629280" cy="2036880"/>
            <a:chOff x="4343040" y="2514960"/>
            <a:chExt cx="629280" cy="2036880"/>
          </a:xfrm>
        </p:grpSpPr>
        <p:grpSp>
          <p:nvGrpSpPr>
            <p:cNvPr id="1744" name="Group 477"/>
            <p:cNvGrpSpPr/>
            <p:nvPr/>
          </p:nvGrpSpPr>
          <p:grpSpPr>
            <a:xfrm>
              <a:off x="4343040" y="3506040"/>
              <a:ext cx="628920" cy="1045800"/>
              <a:chOff x="4343040" y="3506040"/>
              <a:chExt cx="628920" cy="1045800"/>
            </a:xfrm>
          </p:grpSpPr>
          <p:grpSp>
            <p:nvGrpSpPr>
              <p:cNvPr id="1745" name="Group 478"/>
              <p:cNvGrpSpPr/>
              <p:nvPr/>
            </p:nvGrpSpPr>
            <p:grpSpPr>
              <a:xfrm>
                <a:off x="4343040" y="3525840"/>
                <a:ext cx="628920" cy="1026000"/>
                <a:chOff x="4343040" y="3525840"/>
                <a:chExt cx="628920" cy="1026000"/>
              </a:xfrm>
            </p:grpSpPr>
            <p:grpSp>
              <p:nvGrpSpPr>
                <p:cNvPr id="1746" name="Group 479"/>
                <p:cNvGrpSpPr/>
                <p:nvPr/>
              </p:nvGrpSpPr>
              <p:grpSpPr>
                <a:xfrm>
                  <a:off x="4531680" y="4036320"/>
                  <a:ext cx="440280" cy="515520"/>
                  <a:chOff x="4531680" y="4036320"/>
                  <a:chExt cx="440280" cy="515520"/>
                </a:xfrm>
              </p:grpSpPr>
              <p:sp>
                <p:nvSpPr>
                  <p:cNvPr id="1747" name="AutoShape 480"/>
                  <p:cNvSpPr/>
                  <p:nvPr/>
                </p:nvSpPr>
                <p:spPr>
                  <a:xfrm rot="10800000">
                    <a:off x="4538160" y="4036320"/>
                    <a:ext cx="2444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48" name="Group 481"/>
                  <p:cNvGrpSpPr/>
                  <p:nvPr/>
                </p:nvGrpSpPr>
                <p:grpSpPr>
                  <a:xfrm>
                    <a:off x="4531680" y="4331520"/>
                    <a:ext cx="440280" cy="220320"/>
                    <a:chOff x="4531680" y="4331520"/>
                    <a:chExt cx="440280" cy="220320"/>
                  </a:xfrm>
                </p:grpSpPr>
                <p:grpSp>
                  <p:nvGrpSpPr>
                    <p:cNvPr id="1749" name="Group 482"/>
                    <p:cNvGrpSpPr/>
                    <p:nvPr/>
                  </p:nvGrpSpPr>
                  <p:grpSpPr>
                    <a:xfrm>
                      <a:off x="4531680" y="4426560"/>
                      <a:ext cx="440280" cy="125280"/>
                      <a:chOff x="4531680" y="4426560"/>
                      <a:chExt cx="440280" cy="125280"/>
                    </a:xfrm>
                  </p:grpSpPr>
                  <p:grpSp>
                    <p:nvGrpSpPr>
                      <p:cNvPr id="1750" name="Group 483"/>
                      <p:cNvGrpSpPr/>
                      <p:nvPr/>
                    </p:nvGrpSpPr>
                    <p:grpSpPr>
                      <a:xfrm>
                        <a:off x="4531680" y="4426560"/>
                        <a:ext cx="433080" cy="125280"/>
                        <a:chOff x="4531680" y="4426560"/>
                        <a:chExt cx="433080" cy="125280"/>
                      </a:xfrm>
                    </p:grpSpPr>
                    <p:sp>
                      <p:nvSpPr>
                        <p:cNvPr id="1751" name="Rectangle 484"/>
                        <p:cNvSpPr/>
                        <p:nvPr/>
                      </p:nvSpPr>
                      <p:spPr>
                        <a:xfrm>
                          <a:off x="4531680" y="4427640"/>
                          <a:ext cx="288720" cy="12420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2" name="Freeform 485"/>
                        <p:cNvSpPr/>
                        <p:nvPr/>
                      </p:nvSpPr>
                      <p:spPr>
                        <a:xfrm>
                          <a:off x="4820400" y="442656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753" name=""/>
                      <p:cNvGrpSpPr/>
                      <p:nvPr/>
                    </p:nvGrpSpPr>
                    <p:grpSpPr>
                      <a:xfrm>
                        <a:off x="4531680" y="4524480"/>
                        <a:ext cx="440280" cy="360"/>
                        <a:chOff x="4531680" y="4524480"/>
                        <a:chExt cx="440280" cy="360"/>
                      </a:xfrm>
                    </p:grpSpPr>
                    <p:sp>
                      <p:nvSpPr>
                        <p:cNvPr id="1754" name="Line 486"/>
                        <p:cNvSpPr/>
                        <p:nvPr/>
                      </p:nvSpPr>
                      <p:spPr>
                        <a:xfrm>
                          <a:off x="4531680" y="4524480"/>
                          <a:ext cx="440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5" name=""/>
                        <p:cNvSpPr txBox="1"/>
                        <p:nvPr/>
                      </p:nvSpPr>
                      <p:spPr>
                        <a:xfrm>
                          <a:off x="4531680" y="452448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756" name="Oval 487"/>
                    <p:cNvSpPr/>
                    <p:nvPr/>
                  </p:nvSpPr>
                  <p:spPr>
                    <a:xfrm>
                      <a:off x="4609080" y="4392000"/>
                      <a:ext cx="87840" cy="97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7" name="Freeform 488"/>
                    <p:cNvSpPr/>
                    <p:nvPr/>
                  </p:nvSpPr>
                  <p:spPr>
                    <a:xfrm rot="11352000">
                      <a:off x="4744440" y="433980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10248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758" name="Group 489"/>
                <p:cNvGrpSpPr/>
                <p:nvPr/>
              </p:nvGrpSpPr>
              <p:grpSpPr>
                <a:xfrm>
                  <a:off x="4343040" y="3525840"/>
                  <a:ext cx="440280" cy="515520"/>
                  <a:chOff x="4343040" y="3525840"/>
                  <a:chExt cx="440280" cy="515520"/>
                </a:xfrm>
              </p:grpSpPr>
              <p:sp>
                <p:nvSpPr>
                  <p:cNvPr id="1759" name="AutoShape 490"/>
                  <p:cNvSpPr/>
                  <p:nvPr/>
                </p:nvSpPr>
                <p:spPr>
                  <a:xfrm>
                    <a:off x="4532400" y="3650040"/>
                    <a:ext cx="24444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60" name="Group 491"/>
                  <p:cNvGrpSpPr/>
                  <p:nvPr/>
                </p:nvGrpSpPr>
                <p:grpSpPr>
                  <a:xfrm>
                    <a:off x="4343040" y="3525840"/>
                    <a:ext cx="440280" cy="220320"/>
                    <a:chOff x="4343040" y="3525840"/>
                    <a:chExt cx="440280" cy="220320"/>
                  </a:xfrm>
                </p:grpSpPr>
                <p:grpSp>
                  <p:nvGrpSpPr>
                    <p:cNvPr id="1761" name="Group 492"/>
                    <p:cNvGrpSpPr/>
                    <p:nvPr/>
                  </p:nvGrpSpPr>
                  <p:grpSpPr>
                    <a:xfrm>
                      <a:off x="4343040" y="3525840"/>
                      <a:ext cx="440280" cy="125280"/>
                      <a:chOff x="4343040" y="3525840"/>
                      <a:chExt cx="440280" cy="125280"/>
                    </a:xfrm>
                  </p:grpSpPr>
                  <p:grpSp>
                    <p:nvGrpSpPr>
                      <p:cNvPr id="1762" name="Group 493"/>
                      <p:cNvGrpSpPr/>
                      <p:nvPr/>
                    </p:nvGrpSpPr>
                    <p:grpSpPr>
                      <a:xfrm>
                        <a:off x="4350240" y="3525840"/>
                        <a:ext cx="433080" cy="125280"/>
                        <a:chOff x="4350240" y="3525840"/>
                        <a:chExt cx="433080" cy="125280"/>
                      </a:xfrm>
                    </p:grpSpPr>
                    <p:sp>
                      <p:nvSpPr>
                        <p:cNvPr id="1763" name="Rectangle 494"/>
                        <p:cNvSpPr/>
                        <p:nvPr/>
                      </p:nvSpPr>
                      <p:spPr>
                        <a:xfrm rot="10800000">
                          <a:off x="4494600" y="352584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4" name="Freeform 495"/>
                        <p:cNvSpPr/>
                        <p:nvPr/>
                      </p:nvSpPr>
                      <p:spPr>
                        <a:xfrm rot="10800000">
                          <a:off x="4350240" y="352764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765" name=""/>
                      <p:cNvGrpSpPr/>
                      <p:nvPr/>
                    </p:nvGrpSpPr>
                    <p:grpSpPr>
                      <a:xfrm>
                        <a:off x="4343040" y="3552840"/>
                        <a:ext cx="440280" cy="360"/>
                        <a:chOff x="4343040" y="3552840"/>
                        <a:chExt cx="440280" cy="360"/>
                      </a:xfrm>
                    </p:grpSpPr>
                    <p:sp>
                      <p:nvSpPr>
                        <p:cNvPr id="1766" name="Line 496"/>
                        <p:cNvSpPr/>
                        <p:nvPr/>
                      </p:nvSpPr>
                      <p:spPr>
                        <a:xfrm flipH="1">
                          <a:off x="4343040" y="3553200"/>
                          <a:ext cx="44028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7" name=""/>
                        <p:cNvSpPr txBox="1"/>
                        <p:nvPr/>
                      </p:nvSpPr>
                      <p:spPr>
                        <a:xfrm rot="10800000">
                          <a:off x="4343040" y="355284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768" name="Oval 497"/>
                    <p:cNvSpPr/>
                    <p:nvPr/>
                  </p:nvSpPr>
                  <p:spPr>
                    <a:xfrm rot="10800000">
                      <a:off x="4618080" y="358776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9" name="Freeform 498"/>
                    <p:cNvSpPr/>
                    <p:nvPr/>
                  </p:nvSpPr>
                  <p:spPr>
                    <a:xfrm rot="552000">
                      <a:off x="4452120" y="359100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770" name="Group 499"/>
              <p:cNvGrpSpPr/>
              <p:nvPr/>
            </p:nvGrpSpPr>
            <p:grpSpPr>
              <a:xfrm>
                <a:off x="4517280" y="3506040"/>
                <a:ext cx="284400" cy="627480"/>
                <a:chOff x="4517280" y="3506040"/>
                <a:chExt cx="284400" cy="627480"/>
              </a:xfrm>
            </p:grpSpPr>
            <p:grpSp>
              <p:nvGrpSpPr>
                <p:cNvPr id="1771" name="Group 500"/>
                <p:cNvGrpSpPr/>
                <p:nvPr/>
              </p:nvGrpSpPr>
              <p:grpSpPr>
                <a:xfrm>
                  <a:off x="4517280" y="3506040"/>
                  <a:ext cx="284400" cy="506880"/>
                  <a:chOff x="4517280" y="3506040"/>
                  <a:chExt cx="284400" cy="506880"/>
                </a:xfrm>
              </p:grpSpPr>
              <p:sp>
                <p:nvSpPr>
                  <p:cNvPr id="1772" name="AutoShape 501"/>
                  <p:cNvSpPr/>
                  <p:nvPr/>
                </p:nvSpPr>
                <p:spPr>
                  <a:xfrm>
                    <a:off x="4517280" y="3621600"/>
                    <a:ext cx="28440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3" name="Oval 502"/>
                  <p:cNvSpPr/>
                  <p:nvPr/>
                </p:nvSpPr>
                <p:spPr>
                  <a:xfrm>
                    <a:off x="4517280" y="3506040"/>
                    <a:ext cx="279360" cy="24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4" name="Oval 503"/>
                <p:cNvSpPr/>
                <p:nvPr/>
              </p:nvSpPr>
              <p:spPr>
                <a:xfrm>
                  <a:off x="4534920" y="3897360"/>
                  <a:ext cx="244440" cy="23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ddddd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5" name="AutoShape 504"/>
              <p:cNvSpPr/>
              <p:nvPr/>
            </p:nvSpPr>
            <p:spPr>
              <a:xfrm>
                <a:off x="4605480" y="3974040"/>
                <a:ext cx="104760" cy="90720"/>
              </a:xfrm>
              <a:prstGeom prst="hexagon">
                <a:avLst>
                  <a:gd name="adj" fmla="val 28869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6" name="Group 505"/>
            <p:cNvGrpSpPr/>
            <p:nvPr/>
          </p:nvGrpSpPr>
          <p:grpSpPr>
            <a:xfrm>
              <a:off x="4343400" y="2514960"/>
              <a:ext cx="628920" cy="1045800"/>
              <a:chOff x="4343400" y="2514960"/>
              <a:chExt cx="628920" cy="1045800"/>
            </a:xfrm>
          </p:grpSpPr>
          <p:grpSp>
            <p:nvGrpSpPr>
              <p:cNvPr id="1777" name="Group 506"/>
              <p:cNvGrpSpPr/>
              <p:nvPr/>
            </p:nvGrpSpPr>
            <p:grpSpPr>
              <a:xfrm>
                <a:off x="4343400" y="2514960"/>
                <a:ext cx="628920" cy="1026000"/>
                <a:chOff x="4343400" y="2514960"/>
                <a:chExt cx="628920" cy="1026000"/>
              </a:xfrm>
            </p:grpSpPr>
            <p:grpSp>
              <p:nvGrpSpPr>
                <p:cNvPr id="1778" name="Group 507"/>
                <p:cNvGrpSpPr/>
                <p:nvPr/>
              </p:nvGrpSpPr>
              <p:grpSpPr>
                <a:xfrm>
                  <a:off x="4343400" y="2514960"/>
                  <a:ext cx="440280" cy="515520"/>
                  <a:chOff x="4343400" y="2514960"/>
                  <a:chExt cx="440280" cy="515520"/>
                </a:xfrm>
              </p:grpSpPr>
              <p:sp>
                <p:nvSpPr>
                  <p:cNvPr id="1779" name="AutoShape 508"/>
                  <p:cNvSpPr/>
                  <p:nvPr/>
                </p:nvSpPr>
                <p:spPr>
                  <a:xfrm>
                    <a:off x="4532760" y="2638800"/>
                    <a:ext cx="2444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80" name="Group 509"/>
                  <p:cNvGrpSpPr/>
                  <p:nvPr/>
                </p:nvGrpSpPr>
                <p:grpSpPr>
                  <a:xfrm>
                    <a:off x="4343400" y="2514960"/>
                    <a:ext cx="440280" cy="220320"/>
                    <a:chOff x="4343400" y="2514960"/>
                    <a:chExt cx="440280" cy="220320"/>
                  </a:xfrm>
                </p:grpSpPr>
                <p:grpSp>
                  <p:nvGrpSpPr>
                    <p:cNvPr id="1781" name="Group 510"/>
                    <p:cNvGrpSpPr/>
                    <p:nvPr/>
                  </p:nvGrpSpPr>
                  <p:grpSpPr>
                    <a:xfrm>
                      <a:off x="4343400" y="2514960"/>
                      <a:ext cx="440280" cy="125280"/>
                      <a:chOff x="4343400" y="2514960"/>
                      <a:chExt cx="440280" cy="125280"/>
                    </a:xfrm>
                  </p:grpSpPr>
                  <p:grpSp>
                    <p:nvGrpSpPr>
                      <p:cNvPr id="1782" name="Group 511"/>
                      <p:cNvGrpSpPr/>
                      <p:nvPr/>
                    </p:nvGrpSpPr>
                    <p:grpSpPr>
                      <a:xfrm>
                        <a:off x="4350600" y="2514960"/>
                        <a:ext cx="433080" cy="125280"/>
                        <a:chOff x="4350600" y="2514960"/>
                        <a:chExt cx="433080" cy="125280"/>
                      </a:xfrm>
                    </p:grpSpPr>
                    <p:sp>
                      <p:nvSpPr>
                        <p:cNvPr id="1783" name="Rectangle 512"/>
                        <p:cNvSpPr/>
                        <p:nvPr/>
                      </p:nvSpPr>
                      <p:spPr>
                        <a:xfrm rot="10800000">
                          <a:off x="4494960" y="251496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4" name="Freeform 513"/>
                        <p:cNvSpPr/>
                        <p:nvPr/>
                      </p:nvSpPr>
                      <p:spPr>
                        <a:xfrm rot="10800000">
                          <a:off x="4350600" y="251676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785" name=""/>
                      <p:cNvGrpSpPr/>
                      <p:nvPr/>
                    </p:nvGrpSpPr>
                    <p:grpSpPr>
                      <a:xfrm>
                        <a:off x="4343400" y="2541960"/>
                        <a:ext cx="440280" cy="360"/>
                        <a:chOff x="4343400" y="2541960"/>
                        <a:chExt cx="440280" cy="360"/>
                      </a:xfrm>
                    </p:grpSpPr>
                    <p:sp>
                      <p:nvSpPr>
                        <p:cNvPr id="1786" name="Line 514"/>
                        <p:cNvSpPr/>
                        <p:nvPr/>
                      </p:nvSpPr>
                      <p:spPr>
                        <a:xfrm flipH="1">
                          <a:off x="4343400" y="2542320"/>
                          <a:ext cx="44028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7" name=""/>
                        <p:cNvSpPr txBox="1"/>
                        <p:nvPr/>
                      </p:nvSpPr>
                      <p:spPr>
                        <a:xfrm rot="10800000">
                          <a:off x="4343400" y="254196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788" name="Oval 515"/>
                    <p:cNvSpPr/>
                    <p:nvPr/>
                  </p:nvSpPr>
                  <p:spPr>
                    <a:xfrm rot="10800000">
                      <a:off x="4618440" y="257688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9" name="Freeform 516"/>
                    <p:cNvSpPr/>
                    <p:nvPr/>
                  </p:nvSpPr>
                  <p:spPr>
                    <a:xfrm rot="552000">
                      <a:off x="4452480" y="258012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790" name="Group 517"/>
                <p:cNvGrpSpPr/>
                <p:nvPr/>
              </p:nvGrpSpPr>
              <p:grpSpPr>
                <a:xfrm>
                  <a:off x="4532040" y="3025440"/>
                  <a:ext cx="440280" cy="515520"/>
                  <a:chOff x="4532040" y="3025440"/>
                  <a:chExt cx="440280" cy="515520"/>
                </a:xfrm>
              </p:grpSpPr>
              <p:sp>
                <p:nvSpPr>
                  <p:cNvPr id="1791" name="AutoShape 518"/>
                  <p:cNvSpPr/>
                  <p:nvPr/>
                </p:nvSpPr>
                <p:spPr>
                  <a:xfrm rot="10800000">
                    <a:off x="4538520" y="3025440"/>
                    <a:ext cx="24444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92" name="Group 519"/>
                  <p:cNvGrpSpPr/>
                  <p:nvPr/>
                </p:nvGrpSpPr>
                <p:grpSpPr>
                  <a:xfrm>
                    <a:off x="4532040" y="3320640"/>
                    <a:ext cx="440280" cy="220320"/>
                    <a:chOff x="4532040" y="3320640"/>
                    <a:chExt cx="440280" cy="220320"/>
                  </a:xfrm>
                </p:grpSpPr>
                <p:grpSp>
                  <p:nvGrpSpPr>
                    <p:cNvPr id="1793" name="Group 520"/>
                    <p:cNvGrpSpPr/>
                    <p:nvPr/>
                  </p:nvGrpSpPr>
                  <p:grpSpPr>
                    <a:xfrm>
                      <a:off x="4532040" y="3415680"/>
                      <a:ext cx="440280" cy="125280"/>
                      <a:chOff x="4532040" y="3415680"/>
                      <a:chExt cx="440280" cy="125280"/>
                    </a:xfrm>
                  </p:grpSpPr>
                  <p:grpSp>
                    <p:nvGrpSpPr>
                      <p:cNvPr id="1794" name="Group 521"/>
                      <p:cNvGrpSpPr/>
                      <p:nvPr/>
                    </p:nvGrpSpPr>
                    <p:grpSpPr>
                      <a:xfrm>
                        <a:off x="4532040" y="3415680"/>
                        <a:ext cx="433080" cy="125280"/>
                        <a:chOff x="4532040" y="3415680"/>
                        <a:chExt cx="433080" cy="125280"/>
                      </a:xfrm>
                    </p:grpSpPr>
                    <p:sp>
                      <p:nvSpPr>
                        <p:cNvPr id="1795" name="Rectangle 522"/>
                        <p:cNvSpPr/>
                        <p:nvPr/>
                      </p:nvSpPr>
                      <p:spPr>
                        <a:xfrm>
                          <a:off x="4532040" y="341676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6" name="Freeform 523"/>
                        <p:cNvSpPr/>
                        <p:nvPr/>
                      </p:nvSpPr>
                      <p:spPr>
                        <a:xfrm>
                          <a:off x="4820760" y="341568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797" name=""/>
                      <p:cNvGrpSpPr/>
                      <p:nvPr/>
                    </p:nvGrpSpPr>
                    <p:grpSpPr>
                      <a:xfrm>
                        <a:off x="4532040" y="3513600"/>
                        <a:ext cx="440280" cy="360"/>
                        <a:chOff x="4532040" y="3513600"/>
                        <a:chExt cx="440280" cy="360"/>
                      </a:xfrm>
                    </p:grpSpPr>
                    <p:sp>
                      <p:nvSpPr>
                        <p:cNvPr id="1798" name="Line 524"/>
                        <p:cNvSpPr/>
                        <p:nvPr/>
                      </p:nvSpPr>
                      <p:spPr>
                        <a:xfrm>
                          <a:off x="4532040" y="3513600"/>
                          <a:ext cx="44028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9" name=""/>
                        <p:cNvSpPr txBox="1"/>
                        <p:nvPr/>
                      </p:nvSpPr>
                      <p:spPr>
                        <a:xfrm>
                          <a:off x="4532040" y="351360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800" name="Oval 525"/>
                    <p:cNvSpPr/>
                    <p:nvPr/>
                  </p:nvSpPr>
                  <p:spPr>
                    <a:xfrm>
                      <a:off x="4609440" y="338112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1" name="Freeform 526"/>
                    <p:cNvSpPr/>
                    <p:nvPr/>
                  </p:nvSpPr>
                  <p:spPr>
                    <a:xfrm rot="11352600">
                      <a:off x="4744800" y="332892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802" name="Group 527"/>
              <p:cNvGrpSpPr/>
              <p:nvPr/>
            </p:nvGrpSpPr>
            <p:grpSpPr>
              <a:xfrm>
                <a:off x="4513680" y="2933280"/>
                <a:ext cx="284400" cy="627480"/>
                <a:chOff x="4513680" y="2933280"/>
                <a:chExt cx="284400" cy="627480"/>
              </a:xfrm>
            </p:grpSpPr>
            <p:grpSp>
              <p:nvGrpSpPr>
                <p:cNvPr id="1803" name="Group 528"/>
                <p:cNvGrpSpPr/>
                <p:nvPr/>
              </p:nvGrpSpPr>
              <p:grpSpPr>
                <a:xfrm>
                  <a:off x="4513680" y="3053880"/>
                  <a:ext cx="284400" cy="506880"/>
                  <a:chOff x="4513680" y="3053880"/>
                  <a:chExt cx="284400" cy="506880"/>
                </a:xfrm>
              </p:grpSpPr>
              <p:sp>
                <p:nvSpPr>
                  <p:cNvPr id="1804" name="AutoShape 529"/>
                  <p:cNvSpPr/>
                  <p:nvPr/>
                </p:nvSpPr>
                <p:spPr>
                  <a:xfrm rot="10800000">
                    <a:off x="4513680" y="3053880"/>
                    <a:ext cx="28440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5" name="Oval 530"/>
                  <p:cNvSpPr/>
                  <p:nvPr/>
                </p:nvSpPr>
                <p:spPr>
                  <a:xfrm rot="10800000">
                    <a:off x="4518720" y="3320640"/>
                    <a:ext cx="279360" cy="2401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06" name="Oval 531"/>
                <p:cNvSpPr/>
                <p:nvPr/>
              </p:nvSpPr>
              <p:spPr>
                <a:xfrm rot="10800000">
                  <a:off x="4536000" y="2933280"/>
                  <a:ext cx="244440" cy="236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7" name="AutoShape 532"/>
              <p:cNvSpPr/>
              <p:nvPr/>
            </p:nvSpPr>
            <p:spPr>
              <a:xfrm rot="10800000">
                <a:off x="4605120" y="3002040"/>
                <a:ext cx="104760" cy="90720"/>
              </a:xfrm>
              <a:prstGeom prst="hexagon">
                <a:avLst>
                  <a:gd name="adj" fmla="val 28869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08" name="AutoShape 533"/>
          <p:cNvSpPr/>
          <p:nvPr/>
        </p:nvSpPr>
        <p:spPr>
          <a:xfrm rot="471600">
            <a:off x="4190760" y="2466720"/>
            <a:ext cx="152280" cy="533160"/>
          </a:xfrm>
          <a:custGeom>
            <a:avLst/>
            <a:gdLst>
              <a:gd name="textAreaLeft" fmla="*/ 44640 w 152280"/>
              <a:gd name="textAreaRight" fmla="*/ 152640 w 152280"/>
              <a:gd name="textAreaTop" fmla="*/ 21960 h 533160"/>
              <a:gd name="textAreaBottom" fmla="*/ 51120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9" name="Group 534"/>
          <p:cNvGrpSpPr/>
          <p:nvPr/>
        </p:nvGrpSpPr>
        <p:grpSpPr>
          <a:xfrm>
            <a:off x="4314600" y="2081520"/>
            <a:ext cx="707040" cy="1566720"/>
            <a:chOff x="4314600" y="2081520"/>
            <a:chExt cx="707040" cy="1566720"/>
          </a:xfrm>
        </p:grpSpPr>
        <p:sp>
          <p:nvSpPr>
            <p:cNvPr id="1810" name="Oval 535"/>
            <p:cNvSpPr/>
            <p:nvPr/>
          </p:nvSpPr>
          <p:spPr>
            <a:xfrm rot="385800">
              <a:off x="4343400" y="3071160"/>
              <a:ext cx="569520" cy="5464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21216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Oval 536"/>
            <p:cNvSpPr/>
            <p:nvPr/>
          </p:nvSpPr>
          <p:spPr>
            <a:xfrm rot="385800">
              <a:off x="4984560" y="2577960"/>
              <a:ext cx="32760" cy="49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Oval 537"/>
            <p:cNvSpPr/>
            <p:nvPr/>
          </p:nvSpPr>
          <p:spPr>
            <a:xfrm rot="385800">
              <a:off x="4956120" y="2875320"/>
              <a:ext cx="32760" cy="4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Oval 538"/>
            <p:cNvSpPr/>
            <p:nvPr/>
          </p:nvSpPr>
          <p:spPr>
            <a:xfrm rot="385800">
              <a:off x="4923000" y="3170880"/>
              <a:ext cx="32760" cy="49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AutoShape 539"/>
            <p:cNvSpPr/>
            <p:nvPr/>
          </p:nvSpPr>
          <p:spPr>
            <a:xfrm rot="385800">
              <a:off x="4374000" y="2415960"/>
              <a:ext cx="591840" cy="1021320"/>
            </a:xfrm>
            <a:prstGeom prst="can">
              <a:avLst>
                <a:gd name="adj" fmla="val 2652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21216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Rectangle 540"/>
            <p:cNvSpPr/>
            <p:nvPr/>
          </p:nvSpPr>
          <p:spPr>
            <a:xfrm rot="385800">
              <a:off x="4662360" y="2335680"/>
              <a:ext cx="149040" cy="986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21216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6" name="Group 541"/>
            <p:cNvGrpSpPr/>
            <p:nvPr/>
          </p:nvGrpSpPr>
          <p:grpSpPr>
            <a:xfrm>
              <a:off x="4564800" y="2081520"/>
              <a:ext cx="285480" cy="690480"/>
              <a:chOff x="4564800" y="2081520"/>
              <a:chExt cx="285480" cy="690480"/>
            </a:xfrm>
          </p:grpSpPr>
          <p:sp>
            <p:nvSpPr>
              <p:cNvPr id="1817" name="AutoShape 542"/>
              <p:cNvSpPr/>
              <p:nvPr/>
            </p:nvSpPr>
            <p:spPr>
              <a:xfrm rot="11007600">
                <a:off x="4629600" y="2086920"/>
                <a:ext cx="199800" cy="545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556" y="21600"/>
                    </a:lnTo>
                    <a:lnTo>
                      <a:pt x="20044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AutoShape 543"/>
              <p:cNvSpPr/>
              <p:nvPr/>
            </p:nvSpPr>
            <p:spPr>
              <a:xfrm rot="16585800">
                <a:off x="4600800" y="2519640"/>
                <a:ext cx="213120" cy="263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934" y="2201"/>
                      <a:pt x="12267" y="5080"/>
                      <a:pt x="12267" y="10800"/>
                    </a:cubicBezTo>
                    <a:cubicBezTo>
                      <a:pt x="12267" y="16520"/>
                      <a:pt x="16934" y="1939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19" name="AutoShape 544"/>
          <p:cNvSpPr/>
          <p:nvPr/>
        </p:nvSpPr>
        <p:spPr>
          <a:xfrm rot="447600">
            <a:off x="4267080" y="2438280"/>
            <a:ext cx="162000" cy="527040"/>
          </a:xfrm>
          <a:custGeom>
            <a:avLst/>
            <a:gdLst>
              <a:gd name="textAreaLeft" fmla="*/ 7920 w 162000"/>
              <a:gd name="textAreaRight" fmla="*/ 154080 w 162000"/>
              <a:gd name="textAreaTop" fmla="*/ 7920 h 527040"/>
              <a:gd name="textAreaBottom" fmla="*/ 519120 h 527040"/>
            </a:gdLst>
            <a:ahLst/>
            <a:rect l="textAreaLeft" t="textAreaTop" r="textAreaRight" b="textAreaBottom"/>
            <a:pathLst>
              <a:path w="21600" h="70164">
                <a:moveTo>
                  <a:pt x="3600" y="0"/>
                </a:moveTo>
                <a:arcTo wR="3600" hR="3600" stAng="16200000" swAng="-5400000"/>
                <a:lnTo>
                  <a:pt x="0" y="66564"/>
                </a:lnTo>
                <a:arcTo wR="3600" hR="3600" stAng="10800000" swAng="-5400000"/>
                <a:lnTo>
                  <a:pt x="18000" y="701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2115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0" name="Group 545"/>
          <p:cNvGrpSpPr/>
          <p:nvPr/>
        </p:nvGrpSpPr>
        <p:grpSpPr>
          <a:xfrm>
            <a:off x="4267080" y="2454480"/>
            <a:ext cx="653760" cy="2116800"/>
            <a:chOff x="4267080" y="2454480"/>
            <a:chExt cx="653760" cy="2116800"/>
          </a:xfrm>
        </p:grpSpPr>
        <p:grpSp>
          <p:nvGrpSpPr>
            <p:cNvPr id="1821" name="Group 546"/>
            <p:cNvGrpSpPr/>
            <p:nvPr/>
          </p:nvGrpSpPr>
          <p:grpSpPr>
            <a:xfrm>
              <a:off x="4267080" y="3484440"/>
              <a:ext cx="653760" cy="1086840"/>
              <a:chOff x="4267080" y="3484440"/>
              <a:chExt cx="653760" cy="1086840"/>
            </a:xfrm>
          </p:grpSpPr>
          <p:grpSp>
            <p:nvGrpSpPr>
              <p:cNvPr id="1822" name="Group 547"/>
              <p:cNvGrpSpPr/>
              <p:nvPr/>
            </p:nvGrpSpPr>
            <p:grpSpPr>
              <a:xfrm>
                <a:off x="4267080" y="3504600"/>
                <a:ext cx="653760" cy="1066680"/>
                <a:chOff x="4267080" y="3504600"/>
                <a:chExt cx="653760" cy="1066680"/>
              </a:xfrm>
            </p:grpSpPr>
            <p:grpSp>
              <p:nvGrpSpPr>
                <p:cNvPr id="1823" name="Group 548"/>
                <p:cNvGrpSpPr/>
                <p:nvPr/>
              </p:nvGrpSpPr>
              <p:grpSpPr>
                <a:xfrm>
                  <a:off x="4462920" y="4034880"/>
                  <a:ext cx="457920" cy="536400"/>
                  <a:chOff x="4462920" y="4034880"/>
                  <a:chExt cx="457920" cy="536400"/>
                </a:xfrm>
              </p:grpSpPr>
              <p:sp>
                <p:nvSpPr>
                  <p:cNvPr id="1824" name="AutoShape 549"/>
                  <p:cNvSpPr/>
                  <p:nvPr/>
                </p:nvSpPr>
                <p:spPr>
                  <a:xfrm rot="10800000">
                    <a:off x="4470120" y="4034880"/>
                    <a:ext cx="254160" cy="40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25" name="Group 550"/>
                  <p:cNvGrpSpPr/>
                  <p:nvPr/>
                </p:nvGrpSpPr>
                <p:grpSpPr>
                  <a:xfrm>
                    <a:off x="4462920" y="4341600"/>
                    <a:ext cx="457920" cy="229680"/>
                    <a:chOff x="4462920" y="4341600"/>
                    <a:chExt cx="457920" cy="229680"/>
                  </a:xfrm>
                </p:grpSpPr>
                <p:grpSp>
                  <p:nvGrpSpPr>
                    <p:cNvPr id="1826" name="Group 551"/>
                    <p:cNvGrpSpPr/>
                    <p:nvPr/>
                  </p:nvGrpSpPr>
                  <p:grpSpPr>
                    <a:xfrm>
                      <a:off x="4462920" y="4440960"/>
                      <a:ext cx="457920" cy="130320"/>
                      <a:chOff x="4462920" y="4440960"/>
                      <a:chExt cx="457920" cy="130320"/>
                    </a:xfrm>
                  </p:grpSpPr>
                  <p:grpSp>
                    <p:nvGrpSpPr>
                      <p:cNvPr id="1827" name="Group 552"/>
                      <p:cNvGrpSpPr/>
                      <p:nvPr/>
                    </p:nvGrpSpPr>
                    <p:grpSpPr>
                      <a:xfrm>
                        <a:off x="4462920" y="4440960"/>
                        <a:ext cx="450360" cy="130320"/>
                        <a:chOff x="4462920" y="4440960"/>
                        <a:chExt cx="450360" cy="130320"/>
                      </a:xfrm>
                    </p:grpSpPr>
                    <p:sp>
                      <p:nvSpPr>
                        <p:cNvPr id="1828" name="Rectangle 553"/>
                        <p:cNvSpPr/>
                        <p:nvPr/>
                      </p:nvSpPr>
                      <p:spPr>
                        <a:xfrm>
                          <a:off x="4462920" y="4442040"/>
                          <a:ext cx="300240" cy="1292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9" name="Freeform 554"/>
                        <p:cNvSpPr/>
                        <p:nvPr/>
                      </p:nvSpPr>
                      <p:spPr>
                        <a:xfrm>
                          <a:off x="4763160" y="444096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830" name=""/>
                      <p:cNvGrpSpPr/>
                      <p:nvPr/>
                    </p:nvGrpSpPr>
                    <p:grpSpPr>
                      <a:xfrm>
                        <a:off x="4462920" y="4542480"/>
                        <a:ext cx="457920" cy="360"/>
                        <a:chOff x="4462920" y="4542480"/>
                        <a:chExt cx="457920" cy="360"/>
                      </a:xfrm>
                    </p:grpSpPr>
                    <p:sp>
                      <p:nvSpPr>
                        <p:cNvPr id="1831" name="Line 555"/>
                        <p:cNvSpPr/>
                        <p:nvPr/>
                      </p:nvSpPr>
                      <p:spPr>
                        <a:xfrm>
                          <a:off x="4462920" y="4542480"/>
                          <a:ext cx="4579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2" name=""/>
                        <p:cNvSpPr txBox="1"/>
                        <p:nvPr/>
                      </p:nvSpPr>
                      <p:spPr>
                        <a:xfrm>
                          <a:off x="4462920" y="454248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833" name="Oval 556"/>
                    <p:cNvSpPr/>
                    <p:nvPr/>
                  </p:nvSpPr>
                  <p:spPr>
                    <a:xfrm>
                      <a:off x="4543200" y="4404960"/>
                      <a:ext cx="91080" cy="101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4" name="Freeform 557"/>
                    <p:cNvSpPr/>
                    <p:nvPr/>
                  </p:nvSpPr>
                  <p:spPr>
                    <a:xfrm rot="11352000">
                      <a:off x="4683960" y="435024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aeaea"/>
                        </a:gs>
                      </a:gsLst>
                      <a:lin ang="10248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5" name="Group 558"/>
                <p:cNvGrpSpPr/>
                <p:nvPr/>
              </p:nvGrpSpPr>
              <p:grpSpPr>
                <a:xfrm>
                  <a:off x="4267080" y="3504600"/>
                  <a:ext cx="457920" cy="535680"/>
                  <a:chOff x="4267080" y="3504600"/>
                  <a:chExt cx="457920" cy="535680"/>
                </a:xfrm>
              </p:grpSpPr>
              <p:sp>
                <p:nvSpPr>
                  <p:cNvPr id="1836" name="AutoShape 559"/>
                  <p:cNvSpPr/>
                  <p:nvPr/>
                </p:nvSpPr>
                <p:spPr>
                  <a:xfrm>
                    <a:off x="4463640" y="363348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37" name="Group 560"/>
                  <p:cNvGrpSpPr/>
                  <p:nvPr/>
                </p:nvGrpSpPr>
                <p:grpSpPr>
                  <a:xfrm>
                    <a:off x="4267080" y="3504600"/>
                    <a:ext cx="457920" cy="229680"/>
                    <a:chOff x="4267080" y="3504600"/>
                    <a:chExt cx="457920" cy="229680"/>
                  </a:xfrm>
                </p:grpSpPr>
                <p:grpSp>
                  <p:nvGrpSpPr>
                    <p:cNvPr id="1838" name="Group 561"/>
                    <p:cNvGrpSpPr/>
                    <p:nvPr/>
                  </p:nvGrpSpPr>
                  <p:grpSpPr>
                    <a:xfrm>
                      <a:off x="4267080" y="3504600"/>
                      <a:ext cx="457920" cy="130320"/>
                      <a:chOff x="4267080" y="3504600"/>
                      <a:chExt cx="457920" cy="130320"/>
                    </a:xfrm>
                  </p:grpSpPr>
                  <p:grpSp>
                    <p:nvGrpSpPr>
                      <p:cNvPr id="1839" name="Group 562"/>
                      <p:cNvGrpSpPr/>
                      <p:nvPr/>
                    </p:nvGrpSpPr>
                    <p:grpSpPr>
                      <a:xfrm>
                        <a:off x="4274640" y="3504600"/>
                        <a:ext cx="450360" cy="130320"/>
                        <a:chOff x="4274640" y="3504600"/>
                        <a:chExt cx="450360" cy="130320"/>
                      </a:xfrm>
                    </p:grpSpPr>
                    <p:sp>
                      <p:nvSpPr>
                        <p:cNvPr id="1840" name="Rectangle 563"/>
                        <p:cNvSpPr/>
                        <p:nvPr/>
                      </p:nvSpPr>
                      <p:spPr>
                        <a:xfrm rot="10800000">
                          <a:off x="4424760" y="350460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1" name="Freeform 564"/>
                        <p:cNvSpPr/>
                        <p:nvPr/>
                      </p:nvSpPr>
                      <p:spPr>
                        <a:xfrm rot="10800000">
                          <a:off x="4274640" y="350640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842" name=""/>
                      <p:cNvGrpSpPr/>
                      <p:nvPr/>
                    </p:nvGrpSpPr>
                    <p:grpSpPr>
                      <a:xfrm>
                        <a:off x="4267080" y="3533040"/>
                        <a:ext cx="457920" cy="360"/>
                        <a:chOff x="4267080" y="3533040"/>
                        <a:chExt cx="457920" cy="360"/>
                      </a:xfrm>
                    </p:grpSpPr>
                    <p:sp>
                      <p:nvSpPr>
                        <p:cNvPr id="1843" name="Line 565"/>
                        <p:cNvSpPr/>
                        <p:nvPr/>
                      </p:nvSpPr>
                      <p:spPr>
                        <a:xfrm flipH="1">
                          <a:off x="4267080" y="3533400"/>
                          <a:ext cx="45792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4" name=""/>
                        <p:cNvSpPr txBox="1"/>
                        <p:nvPr/>
                      </p:nvSpPr>
                      <p:spPr>
                        <a:xfrm rot="10800000">
                          <a:off x="4267080" y="353304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845" name="Oval 566"/>
                    <p:cNvSpPr/>
                    <p:nvPr/>
                  </p:nvSpPr>
                  <p:spPr>
                    <a:xfrm rot="10800000">
                      <a:off x="4553640" y="356940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6" name="Freeform 567"/>
                    <p:cNvSpPr/>
                    <p:nvPr/>
                  </p:nvSpPr>
                  <p:spPr>
                    <a:xfrm rot="552000">
                      <a:off x="4380840" y="357300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847" name="Group 568"/>
              <p:cNvGrpSpPr/>
              <p:nvPr/>
            </p:nvGrpSpPr>
            <p:grpSpPr>
              <a:xfrm>
                <a:off x="4447800" y="3484440"/>
                <a:ext cx="295920" cy="652320"/>
                <a:chOff x="4447800" y="3484440"/>
                <a:chExt cx="295920" cy="652320"/>
              </a:xfrm>
            </p:grpSpPr>
            <p:grpSp>
              <p:nvGrpSpPr>
                <p:cNvPr id="1848" name="Group 569"/>
                <p:cNvGrpSpPr/>
                <p:nvPr/>
              </p:nvGrpSpPr>
              <p:grpSpPr>
                <a:xfrm>
                  <a:off x="4447800" y="3484440"/>
                  <a:ext cx="295920" cy="527040"/>
                  <a:chOff x="4447800" y="3484440"/>
                  <a:chExt cx="295920" cy="527040"/>
                </a:xfrm>
              </p:grpSpPr>
              <p:sp>
                <p:nvSpPr>
                  <p:cNvPr id="1849" name="AutoShape 570"/>
                  <p:cNvSpPr/>
                  <p:nvPr/>
                </p:nvSpPr>
                <p:spPr>
                  <a:xfrm>
                    <a:off x="4447800" y="3604680"/>
                    <a:ext cx="29592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0" name="Oval 571"/>
                  <p:cNvSpPr/>
                  <p:nvPr/>
                </p:nvSpPr>
                <p:spPr>
                  <a:xfrm>
                    <a:off x="4447800" y="3484440"/>
                    <a:ext cx="290520" cy="249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1" name="Oval 572"/>
                <p:cNvSpPr/>
                <p:nvPr/>
              </p:nvSpPr>
              <p:spPr>
                <a:xfrm>
                  <a:off x="4466160" y="3891240"/>
                  <a:ext cx="254160" cy="24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2" name="AutoShape 573"/>
              <p:cNvSpPr/>
              <p:nvPr/>
            </p:nvSpPr>
            <p:spPr>
              <a:xfrm>
                <a:off x="4539960" y="3970800"/>
                <a:ext cx="109080" cy="94320"/>
              </a:xfrm>
              <a:prstGeom prst="hexagon">
                <a:avLst>
                  <a:gd name="adj" fmla="val 28912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3" name="Group 574"/>
            <p:cNvGrpSpPr/>
            <p:nvPr/>
          </p:nvGrpSpPr>
          <p:grpSpPr>
            <a:xfrm>
              <a:off x="4267080" y="2454480"/>
              <a:ext cx="653760" cy="1086840"/>
              <a:chOff x="4267080" y="2454480"/>
              <a:chExt cx="653760" cy="1086840"/>
            </a:xfrm>
          </p:grpSpPr>
          <p:grpSp>
            <p:nvGrpSpPr>
              <p:cNvPr id="1854" name="Group 575"/>
              <p:cNvGrpSpPr/>
              <p:nvPr/>
            </p:nvGrpSpPr>
            <p:grpSpPr>
              <a:xfrm>
                <a:off x="4267080" y="2454480"/>
                <a:ext cx="653760" cy="1066680"/>
                <a:chOff x="4267080" y="2454480"/>
                <a:chExt cx="653760" cy="1066680"/>
              </a:xfrm>
            </p:grpSpPr>
            <p:grpSp>
              <p:nvGrpSpPr>
                <p:cNvPr id="1855" name="Group 576"/>
                <p:cNvGrpSpPr/>
                <p:nvPr/>
              </p:nvGrpSpPr>
              <p:grpSpPr>
                <a:xfrm>
                  <a:off x="4267080" y="2454480"/>
                  <a:ext cx="457920" cy="536400"/>
                  <a:chOff x="4267080" y="2454480"/>
                  <a:chExt cx="457920" cy="536400"/>
                </a:xfrm>
              </p:grpSpPr>
              <p:sp>
                <p:nvSpPr>
                  <p:cNvPr id="1856" name="AutoShape 577"/>
                  <p:cNvSpPr/>
                  <p:nvPr/>
                </p:nvSpPr>
                <p:spPr>
                  <a:xfrm>
                    <a:off x="4463640" y="2583720"/>
                    <a:ext cx="254160" cy="40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57" name="Group 578"/>
                  <p:cNvGrpSpPr/>
                  <p:nvPr/>
                </p:nvGrpSpPr>
                <p:grpSpPr>
                  <a:xfrm>
                    <a:off x="4267080" y="2454480"/>
                    <a:ext cx="457920" cy="229680"/>
                    <a:chOff x="4267080" y="2454480"/>
                    <a:chExt cx="457920" cy="229680"/>
                  </a:xfrm>
                </p:grpSpPr>
                <p:grpSp>
                  <p:nvGrpSpPr>
                    <p:cNvPr id="1858" name="Group 579"/>
                    <p:cNvGrpSpPr/>
                    <p:nvPr/>
                  </p:nvGrpSpPr>
                  <p:grpSpPr>
                    <a:xfrm>
                      <a:off x="4267080" y="2454480"/>
                      <a:ext cx="457920" cy="130320"/>
                      <a:chOff x="4267080" y="2454480"/>
                      <a:chExt cx="457920" cy="130320"/>
                    </a:xfrm>
                  </p:grpSpPr>
                  <p:grpSp>
                    <p:nvGrpSpPr>
                      <p:cNvPr id="1859" name="Group 580"/>
                      <p:cNvGrpSpPr/>
                      <p:nvPr/>
                    </p:nvGrpSpPr>
                    <p:grpSpPr>
                      <a:xfrm>
                        <a:off x="4274640" y="2454480"/>
                        <a:ext cx="450360" cy="130320"/>
                        <a:chOff x="4274640" y="2454480"/>
                        <a:chExt cx="450360" cy="130320"/>
                      </a:xfrm>
                    </p:grpSpPr>
                    <p:sp>
                      <p:nvSpPr>
                        <p:cNvPr id="1860" name="Rectangle 581"/>
                        <p:cNvSpPr/>
                        <p:nvPr/>
                      </p:nvSpPr>
                      <p:spPr>
                        <a:xfrm rot="10800000">
                          <a:off x="4424760" y="245448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1" name="Freeform 582"/>
                        <p:cNvSpPr/>
                        <p:nvPr/>
                      </p:nvSpPr>
                      <p:spPr>
                        <a:xfrm rot="10800000">
                          <a:off x="4274640" y="245628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862" name=""/>
                      <p:cNvGrpSpPr/>
                      <p:nvPr/>
                    </p:nvGrpSpPr>
                    <p:grpSpPr>
                      <a:xfrm>
                        <a:off x="4267080" y="2482920"/>
                        <a:ext cx="457920" cy="360"/>
                        <a:chOff x="4267080" y="2482920"/>
                        <a:chExt cx="457920" cy="360"/>
                      </a:xfrm>
                    </p:grpSpPr>
                    <p:sp>
                      <p:nvSpPr>
                        <p:cNvPr id="1863" name="Line 583"/>
                        <p:cNvSpPr/>
                        <p:nvPr/>
                      </p:nvSpPr>
                      <p:spPr>
                        <a:xfrm flipH="1">
                          <a:off x="4267080" y="2483280"/>
                          <a:ext cx="45792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4" name=""/>
                        <p:cNvSpPr txBox="1"/>
                        <p:nvPr/>
                      </p:nvSpPr>
                      <p:spPr>
                        <a:xfrm rot="10800000">
                          <a:off x="4267080" y="248292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865" name="Oval 584"/>
                    <p:cNvSpPr/>
                    <p:nvPr/>
                  </p:nvSpPr>
                  <p:spPr>
                    <a:xfrm rot="10800000">
                      <a:off x="4553640" y="251928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6" name="Freeform 585"/>
                    <p:cNvSpPr/>
                    <p:nvPr/>
                  </p:nvSpPr>
                  <p:spPr>
                    <a:xfrm rot="552000">
                      <a:off x="4380840" y="252288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67" name="Group 586"/>
                <p:cNvGrpSpPr/>
                <p:nvPr/>
              </p:nvGrpSpPr>
              <p:grpSpPr>
                <a:xfrm>
                  <a:off x="4462920" y="2985480"/>
                  <a:ext cx="457920" cy="535680"/>
                  <a:chOff x="4462920" y="2985480"/>
                  <a:chExt cx="457920" cy="535680"/>
                </a:xfrm>
              </p:grpSpPr>
              <p:sp>
                <p:nvSpPr>
                  <p:cNvPr id="1868" name="AutoShape 587"/>
                  <p:cNvSpPr/>
                  <p:nvPr/>
                </p:nvSpPr>
                <p:spPr>
                  <a:xfrm rot="10800000">
                    <a:off x="4470120" y="298548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69" name="Group 588"/>
                  <p:cNvGrpSpPr/>
                  <p:nvPr/>
                </p:nvGrpSpPr>
                <p:grpSpPr>
                  <a:xfrm>
                    <a:off x="4462920" y="3291480"/>
                    <a:ext cx="457920" cy="229680"/>
                    <a:chOff x="4462920" y="3291480"/>
                    <a:chExt cx="457920" cy="229680"/>
                  </a:xfrm>
                </p:grpSpPr>
                <p:grpSp>
                  <p:nvGrpSpPr>
                    <p:cNvPr id="1870" name="Group 589"/>
                    <p:cNvGrpSpPr/>
                    <p:nvPr/>
                  </p:nvGrpSpPr>
                  <p:grpSpPr>
                    <a:xfrm>
                      <a:off x="4462920" y="3390840"/>
                      <a:ext cx="457920" cy="130320"/>
                      <a:chOff x="4462920" y="3390840"/>
                      <a:chExt cx="457920" cy="130320"/>
                    </a:xfrm>
                  </p:grpSpPr>
                  <p:grpSp>
                    <p:nvGrpSpPr>
                      <p:cNvPr id="1871" name="Group 590"/>
                      <p:cNvGrpSpPr/>
                      <p:nvPr/>
                    </p:nvGrpSpPr>
                    <p:grpSpPr>
                      <a:xfrm>
                        <a:off x="4462920" y="3390840"/>
                        <a:ext cx="450360" cy="130320"/>
                        <a:chOff x="4462920" y="3390840"/>
                        <a:chExt cx="450360" cy="130320"/>
                      </a:xfrm>
                    </p:grpSpPr>
                    <p:sp>
                      <p:nvSpPr>
                        <p:cNvPr id="1872" name="Rectangle 591"/>
                        <p:cNvSpPr/>
                        <p:nvPr/>
                      </p:nvSpPr>
                      <p:spPr>
                        <a:xfrm>
                          <a:off x="4462920" y="339192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3" name="Freeform 592"/>
                        <p:cNvSpPr/>
                        <p:nvPr/>
                      </p:nvSpPr>
                      <p:spPr>
                        <a:xfrm>
                          <a:off x="4763160" y="339084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874" name=""/>
                      <p:cNvGrpSpPr/>
                      <p:nvPr/>
                    </p:nvGrpSpPr>
                    <p:grpSpPr>
                      <a:xfrm>
                        <a:off x="4462920" y="3492360"/>
                        <a:ext cx="457920" cy="360"/>
                        <a:chOff x="4462920" y="3492360"/>
                        <a:chExt cx="457920" cy="360"/>
                      </a:xfrm>
                    </p:grpSpPr>
                    <p:sp>
                      <p:nvSpPr>
                        <p:cNvPr id="1875" name="Line 593"/>
                        <p:cNvSpPr/>
                        <p:nvPr/>
                      </p:nvSpPr>
                      <p:spPr>
                        <a:xfrm>
                          <a:off x="4462920" y="3492360"/>
                          <a:ext cx="45792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6" name=""/>
                        <p:cNvSpPr txBox="1"/>
                        <p:nvPr/>
                      </p:nvSpPr>
                      <p:spPr>
                        <a:xfrm>
                          <a:off x="4462920" y="349236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877" name="Oval 594"/>
                    <p:cNvSpPr/>
                    <p:nvPr/>
                  </p:nvSpPr>
                  <p:spPr>
                    <a:xfrm>
                      <a:off x="4543200" y="335484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8" name="Freeform 595"/>
                    <p:cNvSpPr/>
                    <p:nvPr/>
                  </p:nvSpPr>
                  <p:spPr>
                    <a:xfrm rot="11352600">
                      <a:off x="4683960" y="330012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879" name="Group 596"/>
              <p:cNvGrpSpPr/>
              <p:nvPr/>
            </p:nvGrpSpPr>
            <p:grpSpPr>
              <a:xfrm>
                <a:off x="4444200" y="2889000"/>
                <a:ext cx="295920" cy="652320"/>
                <a:chOff x="4444200" y="2889000"/>
                <a:chExt cx="295920" cy="652320"/>
              </a:xfrm>
            </p:grpSpPr>
            <p:grpSp>
              <p:nvGrpSpPr>
                <p:cNvPr id="1880" name="Group 597"/>
                <p:cNvGrpSpPr/>
                <p:nvPr/>
              </p:nvGrpSpPr>
              <p:grpSpPr>
                <a:xfrm>
                  <a:off x="4444200" y="3014280"/>
                  <a:ext cx="295920" cy="527040"/>
                  <a:chOff x="4444200" y="3014280"/>
                  <a:chExt cx="295920" cy="527040"/>
                </a:xfrm>
              </p:grpSpPr>
              <p:sp>
                <p:nvSpPr>
                  <p:cNvPr id="1881" name="AutoShape 598"/>
                  <p:cNvSpPr/>
                  <p:nvPr/>
                </p:nvSpPr>
                <p:spPr>
                  <a:xfrm rot="10800000">
                    <a:off x="4444200" y="3014280"/>
                    <a:ext cx="29592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2" name="Oval 599"/>
                  <p:cNvSpPr/>
                  <p:nvPr/>
                </p:nvSpPr>
                <p:spPr>
                  <a:xfrm rot="10800000">
                    <a:off x="4449600" y="3291840"/>
                    <a:ext cx="290520" cy="24948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83" name="Oval 600"/>
                <p:cNvSpPr/>
                <p:nvPr/>
              </p:nvSpPr>
              <p:spPr>
                <a:xfrm rot="10800000">
                  <a:off x="4467600" y="2889000"/>
                  <a:ext cx="254160" cy="2455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4" name="AutoShape 601"/>
              <p:cNvSpPr/>
              <p:nvPr/>
            </p:nvSpPr>
            <p:spPr>
              <a:xfrm rot="10800000">
                <a:off x="4538880" y="2960640"/>
                <a:ext cx="109080" cy="94320"/>
              </a:xfrm>
              <a:prstGeom prst="hexagon">
                <a:avLst>
                  <a:gd name="adj" fmla="val 28912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5" name="Group 602"/>
          <p:cNvGrpSpPr/>
          <p:nvPr/>
        </p:nvGrpSpPr>
        <p:grpSpPr>
          <a:xfrm>
            <a:off x="4281840" y="1384560"/>
            <a:ext cx="983520" cy="1946880"/>
            <a:chOff x="4281840" y="1384560"/>
            <a:chExt cx="983520" cy="1946880"/>
          </a:xfrm>
        </p:grpSpPr>
        <p:grpSp>
          <p:nvGrpSpPr>
            <p:cNvPr id="1886" name="Group 603"/>
            <p:cNvGrpSpPr/>
            <p:nvPr/>
          </p:nvGrpSpPr>
          <p:grpSpPr>
            <a:xfrm>
              <a:off x="4362480" y="1384560"/>
              <a:ext cx="902880" cy="1008000"/>
              <a:chOff x="4362480" y="1384560"/>
              <a:chExt cx="902880" cy="1008000"/>
            </a:xfrm>
          </p:grpSpPr>
          <p:grpSp>
            <p:nvGrpSpPr>
              <p:cNvPr id="1887" name=""/>
              <p:cNvGrpSpPr/>
              <p:nvPr/>
            </p:nvGrpSpPr>
            <p:grpSpPr>
              <a:xfrm>
                <a:off x="4646160" y="1625760"/>
                <a:ext cx="283680" cy="155520"/>
                <a:chOff x="4646160" y="1625760"/>
                <a:chExt cx="283680" cy="155520"/>
              </a:xfrm>
            </p:grpSpPr>
            <p:sp>
              <p:nvSpPr>
                <p:cNvPr id="1888" name="Line 604"/>
                <p:cNvSpPr/>
                <p:nvPr/>
              </p:nvSpPr>
              <p:spPr>
                <a:xfrm>
                  <a:off x="4646160" y="1625760"/>
                  <a:ext cx="283680" cy="155520"/>
                </a:xfrm>
                <a:prstGeom prst="line">
                  <a:avLst/>
                </a:prstGeom>
                <a:ln w="64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9" name=""/>
                <p:cNvSpPr txBox="1"/>
                <p:nvPr/>
              </p:nvSpPr>
              <p:spPr>
                <a:xfrm>
                  <a:off x="4646160" y="1625760"/>
                  <a:ext cx="283680" cy="15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0" name="Group 605"/>
              <p:cNvGrpSpPr/>
              <p:nvPr/>
            </p:nvGrpSpPr>
            <p:grpSpPr>
              <a:xfrm>
                <a:off x="4371120" y="1519200"/>
                <a:ext cx="894240" cy="873360"/>
                <a:chOff x="4371120" y="1519200"/>
                <a:chExt cx="894240" cy="873360"/>
              </a:xfrm>
            </p:grpSpPr>
            <p:sp>
              <p:nvSpPr>
                <p:cNvPr id="1891" name="AutoShape 606"/>
                <p:cNvSpPr/>
                <p:nvPr/>
              </p:nvSpPr>
              <p:spPr>
                <a:xfrm rot="21102000">
                  <a:off x="4824720" y="1802880"/>
                  <a:ext cx="405360" cy="516600"/>
                </a:xfrm>
                <a:custGeom>
                  <a:avLst/>
                  <a:gdLst>
                    <a:gd name="textAreaLeft" fmla="*/ 0 w 405360"/>
                    <a:gd name="textAreaRight" fmla="*/ 146160 w 405360"/>
                    <a:gd name="textAreaTop" fmla="*/ 13320 h 516600"/>
                    <a:gd name="textAreaBottom" fmla="*/ 503280 h 516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1260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2" name="AutoShape 607"/>
                <p:cNvSpPr/>
                <p:nvPr/>
              </p:nvSpPr>
              <p:spPr>
                <a:xfrm rot="21225600">
                  <a:off x="4540680" y="1843200"/>
                  <a:ext cx="446040" cy="526680"/>
                </a:xfrm>
                <a:custGeom>
                  <a:avLst/>
                  <a:gdLst>
                    <a:gd name="textAreaLeft" fmla="*/ 21600 w 446040"/>
                    <a:gd name="textAreaRight" fmla="*/ 424440 w 446040"/>
                    <a:gd name="textAreaTop" fmla="*/ 21600 h 526680"/>
                    <a:gd name="textAreaBottom" fmla="*/ 505080 h 526680"/>
                  </a:gdLst>
                  <a:ahLst/>
                  <a:rect l="textAreaLeft" t="textAreaTop" r="textAreaRight" b="textAreaBottom"/>
                  <a:pathLst>
                    <a:path w="21600" h="25502">
                      <a:moveTo>
                        <a:pt x="3600" y="0"/>
                      </a:moveTo>
                      <a:arcTo wR="3600" hR="3600" stAng="16200000" swAng="-5400000"/>
                      <a:lnTo>
                        <a:pt x="0" y="21902"/>
                      </a:lnTo>
                      <a:arcTo wR="3600" hR="3600" stAng="10800000" swAng="-5400000"/>
                      <a:lnTo>
                        <a:pt x="18000" y="2550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37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3" name="AutoShape 608"/>
                <p:cNvSpPr/>
                <p:nvPr/>
              </p:nvSpPr>
              <p:spPr>
                <a:xfrm rot="20050800">
                  <a:off x="4419360" y="1600200"/>
                  <a:ext cx="446040" cy="3243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20448000"/>
                </a:gra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4" name="AutoShape 609"/>
                <p:cNvSpPr/>
                <p:nvPr/>
              </p:nvSpPr>
              <p:spPr>
                <a:xfrm rot="21417600">
                  <a:off x="4725000" y="2023920"/>
                  <a:ext cx="99720" cy="143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9725" y="3202"/>
                        <a:pt x="17850" y="5080"/>
                        <a:pt x="17850" y="10800"/>
                      </a:cubicBezTo>
                      <a:cubicBezTo>
                        <a:pt x="17850" y="16520"/>
                        <a:pt x="19725" y="1839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18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5" name="AutoShape 610"/>
              <p:cNvSpPr/>
              <p:nvPr/>
            </p:nvSpPr>
            <p:spPr>
              <a:xfrm rot="19131600">
                <a:off x="4450680" y="1371240"/>
                <a:ext cx="70920" cy="295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21366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6" name="Group 611"/>
            <p:cNvGrpSpPr/>
            <p:nvPr/>
          </p:nvGrpSpPr>
          <p:grpSpPr>
            <a:xfrm>
              <a:off x="4281840" y="2287800"/>
              <a:ext cx="798840" cy="1043640"/>
              <a:chOff x="4281840" y="2287800"/>
              <a:chExt cx="798840" cy="1043640"/>
            </a:xfrm>
          </p:grpSpPr>
          <p:grpSp>
            <p:nvGrpSpPr>
              <p:cNvPr id="1897" name=""/>
              <p:cNvGrpSpPr/>
              <p:nvPr/>
            </p:nvGrpSpPr>
            <p:grpSpPr>
              <a:xfrm>
                <a:off x="4514760" y="2856600"/>
                <a:ext cx="305280" cy="199440"/>
                <a:chOff x="4514760" y="2856600"/>
                <a:chExt cx="305280" cy="199440"/>
              </a:xfrm>
            </p:grpSpPr>
            <p:sp>
              <p:nvSpPr>
                <p:cNvPr id="1898" name="Line 612"/>
                <p:cNvSpPr/>
                <p:nvPr/>
              </p:nvSpPr>
              <p:spPr>
                <a:xfrm flipH="1" flipV="1">
                  <a:off x="4540320" y="2856600"/>
                  <a:ext cx="254520" cy="199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9" name=""/>
                <p:cNvSpPr txBox="1"/>
                <p:nvPr/>
              </p:nvSpPr>
              <p:spPr>
                <a:xfrm rot="11358600">
                  <a:off x="4525560" y="2878560"/>
                  <a:ext cx="283680" cy="15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0" name="Group 613"/>
              <p:cNvGrpSpPr/>
              <p:nvPr/>
            </p:nvGrpSpPr>
            <p:grpSpPr>
              <a:xfrm>
                <a:off x="4281840" y="2287800"/>
                <a:ext cx="798840" cy="852840"/>
                <a:chOff x="4281840" y="2287800"/>
                <a:chExt cx="798840" cy="852840"/>
              </a:xfrm>
            </p:grpSpPr>
            <p:sp>
              <p:nvSpPr>
                <p:cNvPr id="1901" name="AutoShape 614"/>
                <p:cNvSpPr/>
                <p:nvPr/>
              </p:nvSpPr>
              <p:spPr>
                <a:xfrm rot="10860600">
                  <a:off x="4286160" y="2306160"/>
                  <a:ext cx="405360" cy="516600"/>
                </a:xfrm>
                <a:custGeom>
                  <a:avLst/>
                  <a:gdLst>
                    <a:gd name="textAreaLeft" fmla="*/ 0 w 405360"/>
                    <a:gd name="textAreaRight" fmla="*/ 146160 w 405360"/>
                    <a:gd name="textAreaTop" fmla="*/ 13320 h 516600"/>
                    <a:gd name="textAreaBottom" fmla="*/ 503280 h 516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2" name="AutoShape 615"/>
                <p:cNvSpPr/>
                <p:nvPr/>
              </p:nvSpPr>
              <p:spPr>
                <a:xfrm rot="10984200">
                  <a:off x="4533480" y="2298960"/>
                  <a:ext cx="446040" cy="526680"/>
                </a:xfrm>
                <a:custGeom>
                  <a:avLst/>
                  <a:gdLst>
                    <a:gd name="textAreaLeft" fmla="*/ 21600 w 446040"/>
                    <a:gd name="textAreaRight" fmla="*/ 424440 w 446040"/>
                    <a:gd name="textAreaTop" fmla="*/ 21600 h 526680"/>
                    <a:gd name="textAreaBottom" fmla="*/ 505080 h 526680"/>
                  </a:gdLst>
                  <a:ahLst/>
                  <a:rect l="textAreaLeft" t="textAreaTop" r="textAreaRight" b="textAreaBottom"/>
                  <a:pathLst>
                    <a:path w="21600" h="25502">
                      <a:moveTo>
                        <a:pt x="3600" y="0"/>
                      </a:moveTo>
                      <a:arcTo wR="3600" hR="3600" stAng="16200000" swAng="-5400000"/>
                      <a:lnTo>
                        <a:pt x="0" y="21902"/>
                      </a:lnTo>
                      <a:arcTo wR="3600" hR="3600" stAng="10800000" swAng="-5400000"/>
                      <a:lnTo>
                        <a:pt x="18000" y="2550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3" name="AutoShape 616"/>
                <p:cNvSpPr/>
                <p:nvPr/>
              </p:nvSpPr>
              <p:spPr>
                <a:xfrm rot="9809400">
                  <a:off x="4597560" y="2759400"/>
                  <a:ext cx="446040" cy="324360"/>
                </a:xfrm>
                <a:prstGeom prst="triangle">
                  <a:avLst>
                    <a:gd name="adj" fmla="val 5000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4" name="AutoShape 617"/>
                <p:cNvSpPr/>
                <p:nvPr/>
              </p:nvSpPr>
              <p:spPr>
                <a:xfrm rot="11176200">
                  <a:off x="4693680" y="2499840"/>
                  <a:ext cx="99720" cy="143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9725" y="3202"/>
                        <a:pt x="17850" y="5080"/>
                        <a:pt x="17850" y="10800"/>
                      </a:cubicBezTo>
                      <a:cubicBezTo>
                        <a:pt x="17850" y="16520"/>
                        <a:pt x="19725" y="1839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5" name="AutoShape 618"/>
              <p:cNvSpPr/>
              <p:nvPr/>
            </p:nvSpPr>
            <p:spPr>
              <a:xfrm rot="8890200">
                <a:off x="4899960" y="3039480"/>
                <a:ext cx="70920" cy="295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6" name="Group 619"/>
          <p:cNvGrpSpPr/>
          <p:nvPr/>
        </p:nvGrpSpPr>
        <p:grpSpPr>
          <a:xfrm>
            <a:off x="4418280" y="2494440"/>
            <a:ext cx="1025640" cy="966600"/>
            <a:chOff x="4418280" y="2494440"/>
            <a:chExt cx="1025640" cy="966600"/>
          </a:xfrm>
        </p:grpSpPr>
        <p:grpSp>
          <p:nvGrpSpPr>
            <p:cNvPr id="1907" name="Group 620"/>
            <p:cNvGrpSpPr/>
            <p:nvPr/>
          </p:nvGrpSpPr>
          <p:grpSpPr>
            <a:xfrm>
              <a:off x="4928040" y="2718360"/>
              <a:ext cx="515880" cy="742680"/>
              <a:chOff x="4928040" y="2718360"/>
              <a:chExt cx="515880" cy="742680"/>
            </a:xfrm>
          </p:grpSpPr>
          <p:sp>
            <p:nvSpPr>
              <p:cNvPr id="1908" name="Rectangle 621"/>
              <p:cNvSpPr/>
              <p:nvPr/>
            </p:nvSpPr>
            <p:spPr>
              <a:xfrm rot="18037200">
                <a:off x="4798080" y="3155400"/>
                <a:ext cx="619560" cy="5148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50000">
                    <a:srgbClr val="777777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AutoShape 622"/>
              <p:cNvSpPr/>
              <p:nvPr/>
            </p:nvSpPr>
            <p:spPr>
              <a:xfrm rot="1837200">
                <a:off x="5199840" y="2756160"/>
                <a:ext cx="2055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50000">
                    <a:srgbClr val="dddddd"/>
                  </a:gs>
                  <a:gs pos="100000">
                    <a:srgbClr val="77777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0" name="Group 623"/>
            <p:cNvGrpSpPr/>
            <p:nvPr/>
          </p:nvGrpSpPr>
          <p:grpSpPr>
            <a:xfrm>
              <a:off x="4418280" y="2494440"/>
              <a:ext cx="741240" cy="841680"/>
              <a:chOff x="4418280" y="2494440"/>
              <a:chExt cx="741240" cy="841680"/>
            </a:xfrm>
          </p:grpSpPr>
          <p:grpSp>
            <p:nvGrpSpPr>
              <p:cNvPr id="1911" name="Group 624"/>
              <p:cNvGrpSpPr/>
              <p:nvPr/>
            </p:nvGrpSpPr>
            <p:grpSpPr>
              <a:xfrm>
                <a:off x="4446720" y="2494440"/>
                <a:ext cx="338760" cy="640440"/>
                <a:chOff x="4446720" y="2494440"/>
                <a:chExt cx="338760" cy="640440"/>
              </a:xfrm>
            </p:grpSpPr>
            <p:sp>
              <p:nvSpPr>
                <p:cNvPr id="1912" name="AutoShape 625"/>
                <p:cNvSpPr/>
                <p:nvPr/>
              </p:nvSpPr>
              <p:spPr>
                <a:xfrm rot="726600">
                  <a:off x="4496040" y="2628720"/>
                  <a:ext cx="180000" cy="492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1556" y="21600"/>
                      </a:lnTo>
                      <a:lnTo>
                        <a:pt x="20044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18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3" name="AutoShape 626"/>
                <p:cNvSpPr/>
                <p:nvPr/>
              </p:nvSpPr>
              <p:spPr>
                <a:xfrm rot="6304800">
                  <a:off x="4549680" y="2499480"/>
                  <a:ext cx="192240" cy="236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934" y="2201"/>
                        <a:pt x="12267" y="5080"/>
                        <a:pt x="12267" y="10800"/>
                      </a:cubicBezTo>
                      <a:cubicBezTo>
                        <a:pt x="12267" y="16520"/>
                        <a:pt x="16934" y="1939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62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4" name="AutoShape 627"/>
              <p:cNvSpPr/>
              <p:nvPr/>
            </p:nvSpPr>
            <p:spPr>
              <a:xfrm rot="727200">
                <a:off x="4511520" y="2732400"/>
                <a:ext cx="181440" cy="122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15" name="Group 628"/>
              <p:cNvGrpSpPr/>
              <p:nvPr/>
            </p:nvGrpSpPr>
            <p:grpSpPr>
              <a:xfrm>
                <a:off x="4418280" y="3023640"/>
                <a:ext cx="741240" cy="312480"/>
                <a:chOff x="4418280" y="3023640"/>
                <a:chExt cx="741240" cy="312480"/>
              </a:xfrm>
            </p:grpSpPr>
            <p:grpSp>
              <p:nvGrpSpPr>
                <p:cNvPr id="1916" name="Group 629"/>
                <p:cNvGrpSpPr/>
                <p:nvPr/>
              </p:nvGrpSpPr>
              <p:grpSpPr>
                <a:xfrm>
                  <a:off x="4418280" y="3023640"/>
                  <a:ext cx="741240" cy="312480"/>
                  <a:chOff x="4418280" y="3023640"/>
                  <a:chExt cx="741240" cy="312480"/>
                </a:xfrm>
              </p:grpSpPr>
              <p:sp>
                <p:nvSpPr>
                  <p:cNvPr id="1917" name="AutoShape 630"/>
                  <p:cNvSpPr/>
                  <p:nvPr/>
                </p:nvSpPr>
                <p:spPr>
                  <a:xfrm rot="17030400">
                    <a:off x="4652640" y="3015000"/>
                    <a:ext cx="180000" cy="36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4308" y="21600"/>
                        </a:lnTo>
                        <a:lnTo>
                          <a:pt x="17292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54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8" name="Oval 631"/>
                  <p:cNvSpPr/>
                  <p:nvPr/>
                </p:nvSpPr>
                <p:spPr>
                  <a:xfrm rot="17569200">
                    <a:off x="4448880" y="3051360"/>
                    <a:ext cx="187200" cy="190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9" name="Freeform 632"/>
                  <p:cNvSpPr/>
                  <p:nvPr/>
                </p:nvSpPr>
                <p:spPr>
                  <a:xfrm rot="5464200">
                    <a:off x="4925880" y="3101400"/>
                    <a:ext cx="175320" cy="28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02" h="2302">
                        <a:moveTo>
                          <a:pt x="361" y="1127"/>
                        </a:moveTo>
                        <a:lnTo>
                          <a:pt x="280" y="1116"/>
                        </a:lnTo>
                        <a:lnTo>
                          <a:pt x="373" y="711"/>
                        </a:lnTo>
                        <a:lnTo>
                          <a:pt x="373" y="709"/>
                        </a:lnTo>
                        <a:lnTo>
                          <a:pt x="375" y="705"/>
                        </a:lnTo>
                        <a:lnTo>
                          <a:pt x="375" y="703"/>
                        </a:lnTo>
                        <a:lnTo>
                          <a:pt x="375" y="700"/>
                        </a:lnTo>
                        <a:lnTo>
                          <a:pt x="375" y="698"/>
                        </a:lnTo>
                        <a:lnTo>
                          <a:pt x="375" y="696"/>
                        </a:lnTo>
                        <a:lnTo>
                          <a:pt x="375" y="692"/>
                        </a:lnTo>
                        <a:lnTo>
                          <a:pt x="375" y="690"/>
                        </a:lnTo>
                        <a:lnTo>
                          <a:pt x="375" y="684"/>
                        </a:lnTo>
                        <a:lnTo>
                          <a:pt x="375" y="681"/>
                        </a:lnTo>
                        <a:lnTo>
                          <a:pt x="375" y="675"/>
                        </a:lnTo>
                        <a:lnTo>
                          <a:pt x="375" y="669"/>
                        </a:lnTo>
                        <a:lnTo>
                          <a:pt x="371" y="665"/>
                        </a:lnTo>
                        <a:lnTo>
                          <a:pt x="371" y="660"/>
                        </a:lnTo>
                        <a:lnTo>
                          <a:pt x="369" y="654"/>
                        </a:lnTo>
                        <a:lnTo>
                          <a:pt x="367" y="652"/>
                        </a:lnTo>
                        <a:lnTo>
                          <a:pt x="365" y="646"/>
                        </a:lnTo>
                        <a:lnTo>
                          <a:pt x="363" y="641"/>
                        </a:lnTo>
                        <a:lnTo>
                          <a:pt x="361" y="637"/>
                        </a:lnTo>
                        <a:lnTo>
                          <a:pt x="358" y="633"/>
                        </a:lnTo>
                        <a:lnTo>
                          <a:pt x="356" y="629"/>
                        </a:lnTo>
                        <a:lnTo>
                          <a:pt x="354" y="623"/>
                        </a:lnTo>
                        <a:lnTo>
                          <a:pt x="350" y="620"/>
                        </a:lnTo>
                        <a:lnTo>
                          <a:pt x="346" y="616"/>
                        </a:lnTo>
                        <a:lnTo>
                          <a:pt x="342" y="612"/>
                        </a:lnTo>
                        <a:lnTo>
                          <a:pt x="339" y="610"/>
                        </a:lnTo>
                        <a:lnTo>
                          <a:pt x="335" y="606"/>
                        </a:lnTo>
                        <a:lnTo>
                          <a:pt x="331" y="603"/>
                        </a:lnTo>
                        <a:lnTo>
                          <a:pt x="325" y="601"/>
                        </a:lnTo>
                        <a:lnTo>
                          <a:pt x="321" y="597"/>
                        </a:lnTo>
                        <a:lnTo>
                          <a:pt x="318" y="595"/>
                        </a:lnTo>
                        <a:lnTo>
                          <a:pt x="312" y="593"/>
                        </a:lnTo>
                        <a:lnTo>
                          <a:pt x="306" y="591"/>
                        </a:lnTo>
                        <a:lnTo>
                          <a:pt x="302" y="589"/>
                        </a:lnTo>
                        <a:lnTo>
                          <a:pt x="299" y="589"/>
                        </a:lnTo>
                        <a:lnTo>
                          <a:pt x="295" y="587"/>
                        </a:lnTo>
                        <a:lnTo>
                          <a:pt x="291" y="587"/>
                        </a:lnTo>
                        <a:lnTo>
                          <a:pt x="287" y="585"/>
                        </a:lnTo>
                        <a:lnTo>
                          <a:pt x="285" y="585"/>
                        </a:lnTo>
                        <a:lnTo>
                          <a:pt x="283" y="585"/>
                        </a:lnTo>
                        <a:lnTo>
                          <a:pt x="280" y="585"/>
                        </a:lnTo>
                        <a:lnTo>
                          <a:pt x="276" y="585"/>
                        </a:lnTo>
                        <a:lnTo>
                          <a:pt x="274" y="585"/>
                        </a:lnTo>
                        <a:lnTo>
                          <a:pt x="272" y="585"/>
                        </a:lnTo>
                        <a:lnTo>
                          <a:pt x="268" y="585"/>
                        </a:lnTo>
                        <a:lnTo>
                          <a:pt x="266" y="585"/>
                        </a:lnTo>
                        <a:lnTo>
                          <a:pt x="263" y="585"/>
                        </a:lnTo>
                        <a:lnTo>
                          <a:pt x="261" y="587"/>
                        </a:lnTo>
                        <a:lnTo>
                          <a:pt x="259" y="587"/>
                        </a:lnTo>
                        <a:lnTo>
                          <a:pt x="255" y="587"/>
                        </a:lnTo>
                        <a:lnTo>
                          <a:pt x="253" y="589"/>
                        </a:lnTo>
                        <a:lnTo>
                          <a:pt x="249" y="589"/>
                        </a:lnTo>
                        <a:lnTo>
                          <a:pt x="247" y="589"/>
                        </a:lnTo>
                        <a:lnTo>
                          <a:pt x="243" y="591"/>
                        </a:lnTo>
                        <a:lnTo>
                          <a:pt x="240" y="591"/>
                        </a:lnTo>
                        <a:lnTo>
                          <a:pt x="238" y="593"/>
                        </a:lnTo>
                        <a:lnTo>
                          <a:pt x="236" y="595"/>
                        </a:lnTo>
                        <a:lnTo>
                          <a:pt x="232" y="595"/>
                        </a:lnTo>
                        <a:lnTo>
                          <a:pt x="230" y="597"/>
                        </a:lnTo>
                        <a:lnTo>
                          <a:pt x="228" y="599"/>
                        </a:lnTo>
                        <a:lnTo>
                          <a:pt x="224" y="601"/>
                        </a:lnTo>
                        <a:lnTo>
                          <a:pt x="223" y="601"/>
                        </a:lnTo>
                        <a:lnTo>
                          <a:pt x="219" y="603"/>
                        </a:lnTo>
                        <a:lnTo>
                          <a:pt x="217" y="604"/>
                        </a:lnTo>
                        <a:lnTo>
                          <a:pt x="211" y="608"/>
                        </a:lnTo>
                        <a:lnTo>
                          <a:pt x="207" y="612"/>
                        </a:lnTo>
                        <a:lnTo>
                          <a:pt x="204" y="616"/>
                        </a:lnTo>
                        <a:lnTo>
                          <a:pt x="198" y="618"/>
                        </a:lnTo>
                        <a:lnTo>
                          <a:pt x="194" y="623"/>
                        </a:lnTo>
                        <a:lnTo>
                          <a:pt x="188" y="627"/>
                        </a:lnTo>
                        <a:lnTo>
                          <a:pt x="185" y="633"/>
                        </a:lnTo>
                        <a:lnTo>
                          <a:pt x="181" y="637"/>
                        </a:lnTo>
                        <a:lnTo>
                          <a:pt x="177" y="641"/>
                        </a:lnTo>
                        <a:lnTo>
                          <a:pt x="173" y="646"/>
                        </a:lnTo>
                        <a:lnTo>
                          <a:pt x="169" y="652"/>
                        </a:lnTo>
                        <a:lnTo>
                          <a:pt x="166" y="656"/>
                        </a:lnTo>
                        <a:lnTo>
                          <a:pt x="162" y="662"/>
                        </a:lnTo>
                        <a:lnTo>
                          <a:pt x="160" y="665"/>
                        </a:lnTo>
                        <a:lnTo>
                          <a:pt x="158" y="669"/>
                        </a:lnTo>
                        <a:lnTo>
                          <a:pt x="158" y="671"/>
                        </a:lnTo>
                        <a:lnTo>
                          <a:pt x="156" y="673"/>
                        </a:lnTo>
                        <a:lnTo>
                          <a:pt x="154" y="677"/>
                        </a:lnTo>
                        <a:lnTo>
                          <a:pt x="152" y="679"/>
                        </a:lnTo>
                        <a:lnTo>
                          <a:pt x="152" y="681"/>
                        </a:lnTo>
                        <a:lnTo>
                          <a:pt x="150" y="684"/>
                        </a:lnTo>
                        <a:lnTo>
                          <a:pt x="150" y="688"/>
                        </a:lnTo>
                        <a:lnTo>
                          <a:pt x="146" y="694"/>
                        </a:lnTo>
                        <a:lnTo>
                          <a:pt x="145" y="701"/>
                        </a:lnTo>
                        <a:lnTo>
                          <a:pt x="143" y="709"/>
                        </a:lnTo>
                        <a:lnTo>
                          <a:pt x="139" y="717"/>
                        </a:lnTo>
                        <a:lnTo>
                          <a:pt x="137" y="724"/>
                        </a:lnTo>
                        <a:lnTo>
                          <a:pt x="135" y="732"/>
                        </a:lnTo>
                        <a:lnTo>
                          <a:pt x="131" y="739"/>
                        </a:lnTo>
                        <a:lnTo>
                          <a:pt x="129" y="747"/>
                        </a:lnTo>
                        <a:lnTo>
                          <a:pt x="126" y="755"/>
                        </a:lnTo>
                        <a:lnTo>
                          <a:pt x="124" y="760"/>
                        </a:lnTo>
                        <a:lnTo>
                          <a:pt x="122" y="768"/>
                        </a:lnTo>
                        <a:lnTo>
                          <a:pt x="120" y="776"/>
                        </a:lnTo>
                        <a:lnTo>
                          <a:pt x="116" y="781"/>
                        </a:lnTo>
                        <a:lnTo>
                          <a:pt x="114" y="789"/>
                        </a:lnTo>
                        <a:lnTo>
                          <a:pt x="112" y="796"/>
                        </a:lnTo>
                        <a:lnTo>
                          <a:pt x="110" y="804"/>
                        </a:lnTo>
                        <a:lnTo>
                          <a:pt x="107" y="812"/>
                        </a:lnTo>
                        <a:lnTo>
                          <a:pt x="107" y="817"/>
                        </a:lnTo>
                        <a:lnTo>
                          <a:pt x="103" y="823"/>
                        </a:lnTo>
                        <a:lnTo>
                          <a:pt x="101" y="831"/>
                        </a:lnTo>
                        <a:lnTo>
                          <a:pt x="97" y="836"/>
                        </a:lnTo>
                        <a:lnTo>
                          <a:pt x="97" y="844"/>
                        </a:lnTo>
                        <a:lnTo>
                          <a:pt x="93" y="852"/>
                        </a:lnTo>
                        <a:lnTo>
                          <a:pt x="93" y="857"/>
                        </a:lnTo>
                        <a:lnTo>
                          <a:pt x="89" y="865"/>
                        </a:lnTo>
                        <a:lnTo>
                          <a:pt x="88" y="871"/>
                        </a:lnTo>
                        <a:lnTo>
                          <a:pt x="86" y="878"/>
                        </a:lnTo>
                        <a:lnTo>
                          <a:pt x="84" y="884"/>
                        </a:lnTo>
                        <a:lnTo>
                          <a:pt x="82" y="892"/>
                        </a:lnTo>
                        <a:lnTo>
                          <a:pt x="80" y="899"/>
                        </a:lnTo>
                        <a:lnTo>
                          <a:pt x="78" y="907"/>
                        </a:lnTo>
                        <a:lnTo>
                          <a:pt x="74" y="912"/>
                        </a:lnTo>
                        <a:lnTo>
                          <a:pt x="72" y="920"/>
                        </a:lnTo>
                        <a:lnTo>
                          <a:pt x="72" y="926"/>
                        </a:lnTo>
                        <a:lnTo>
                          <a:pt x="68" y="931"/>
                        </a:lnTo>
                        <a:lnTo>
                          <a:pt x="67" y="939"/>
                        </a:lnTo>
                        <a:lnTo>
                          <a:pt x="65" y="945"/>
                        </a:lnTo>
                        <a:lnTo>
                          <a:pt x="63" y="952"/>
                        </a:lnTo>
                        <a:lnTo>
                          <a:pt x="59" y="958"/>
                        </a:lnTo>
                        <a:lnTo>
                          <a:pt x="57" y="966"/>
                        </a:lnTo>
                        <a:lnTo>
                          <a:pt x="55" y="971"/>
                        </a:lnTo>
                        <a:lnTo>
                          <a:pt x="53" y="979"/>
                        </a:lnTo>
                        <a:lnTo>
                          <a:pt x="51" y="987"/>
                        </a:lnTo>
                        <a:lnTo>
                          <a:pt x="49" y="994"/>
                        </a:lnTo>
                        <a:lnTo>
                          <a:pt x="48" y="1000"/>
                        </a:lnTo>
                        <a:lnTo>
                          <a:pt x="46" y="1007"/>
                        </a:lnTo>
                        <a:lnTo>
                          <a:pt x="44" y="1015"/>
                        </a:lnTo>
                        <a:lnTo>
                          <a:pt x="42" y="1021"/>
                        </a:lnTo>
                        <a:lnTo>
                          <a:pt x="42" y="1028"/>
                        </a:lnTo>
                        <a:lnTo>
                          <a:pt x="38" y="1036"/>
                        </a:lnTo>
                        <a:lnTo>
                          <a:pt x="36" y="1042"/>
                        </a:lnTo>
                        <a:lnTo>
                          <a:pt x="36" y="1049"/>
                        </a:lnTo>
                        <a:lnTo>
                          <a:pt x="34" y="1057"/>
                        </a:lnTo>
                        <a:lnTo>
                          <a:pt x="30" y="1063"/>
                        </a:lnTo>
                        <a:lnTo>
                          <a:pt x="30" y="1070"/>
                        </a:lnTo>
                        <a:lnTo>
                          <a:pt x="29" y="1078"/>
                        </a:lnTo>
                        <a:lnTo>
                          <a:pt x="27" y="1085"/>
                        </a:lnTo>
                        <a:lnTo>
                          <a:pt x="25" y="1093"/>
                        </a:lnTo>
                        <a:lnTo>
                          <a:pt x="23" y="1101"/>
                        </a:lnTo>
                        <a:lnTo>
                          <a:pt x="21" y="1108"/>
                        </a:lnTo>
                        <a:lnTo>
                          <a:pt x="19" y="1116"/>
                        </a:lnTo>
                        <a:lnTo>
                          <a:pt x="17" y="1123"/>
                        </a:lnTo>
                        <a:lnTo>
                          <a:pt x="17" y="1131"/>
                        </a:lnTo>
                        <a:lnTo>
                          <a:pt x="15" y="1139"/>
                        </a:lnTo>
                        <a:lnTo>
                          <a:pt x="13" y="1148"/>
                        </a:lnTo>
                        <a:lnTo>
                          <a:pt x="10" y="1158"/>
                        </a:lnTo>
                        <a:lnTo>
                          <a:pt x="10" y="1165"/>
                        </a:lnTo>
                        <a:lnTo>
                          <a:pt x="8" y="1175"/>
                        </a:lnTo>
                        <a:lnTo>
                          <a:pt x="6" y="1182"/>
                        </a:lnTo>
                        <a:lnTo>
                          <a:pt x="6" y="1192"/>
                        </a:lnTo>
                        <a:lnTo>
                          <a:pt x="4" y="1201"/>
                        </a:lnTo>
                        <a:lnTo>
                          <a:pt x="2" y="1211"/>
                        </a:lnTo>
                        <a:lnTo>
                          <a:pt x="2" y="1218"/>
                        </a:lnTo>
                        <a:lnTo>
                          <a:pt x="0" y="1230"/>
                        </a:lnTo>
                        <a:lnTo>
                          <a:pt x="0" y="1237"/>
                        </a:lnTo>
                        <a:lnTo>
                          <a:pt x="0" y="1247"/>
                        </a:lnTo>
                        <a:lnTo>
                          <a:pt x="0" y="1257"/>
                        </a:lnTo>
                        <a:lnTo>
                          <a:pt x="0" y="1268"/>
                        </a:lnTo>
                        <a:lnTo>
                          <a:pt x="0" y="1276"/>
                        </a:lnTo>
                        <a:lnTo>
                          <a:pt x="0" y="1285"/>
                        </a:lnTo>
                        <a:lnTo>
                          <a:pt x="0" y="1296"/>
                        </a:lnTo>
                        <a:lnTo>
                          <a:pt x="0" y="1304"/>
                        </a:lnTo>
                        <a:lnTo>
                          <a:pt x="0" y="1314"/>
                        </a:lnTo>
                        <a:lnTo>
                          <a:pt x="0" y="1323"/>
                        </a:lnTo>
                        <a:lnTo>
                          <a:pt x="0" y="1333"/>
                        </a:lnTo>
                        <a:lnTo>
                          <a:pt x="2" y="1342"/>
                        </a:lnTo>
                        <a:lnTo>
                          <a:pt x="2" y="1352"/>
                        </a:lnTo>
                        <a:lnTo>
                          <a:pt x="4" y="1363"/>
                        </a:lnTo>
                        <a:lnTo>
                          <a:pt x="4" y="1371"/>
                        </a:lnTo>
                        <a:lnTo>
                          <a:pt x="6" y="1382"/>
                        </a:lnTo>
                        <a:lnTo>
                          <a:pt x="8" y="1390"/>
                        </a:lnTo>
                        <a:lnTo>
                          <a:pt x="8" y="1401"/>
                        </a:lnTo>
                        <a:lnTo>
                          <a:pt x="10" y="1409"/>
                        </a:lnTo>
                        <a:lnTo>
                          <a:pt x="11" y="1420"/>
                        </a:lnTo>
                        <a:lnTo>
                          <a:pt x="13" y="1429"/>
                        </a:lnTo>
                        <a:lnTo>
                          <a:pt x="15" y="1439"/>
                        </a:lnTo>
                        <a:lnTo>
                          <a:pt x="17" y="1448"/>
                        </a:lnTo>
                        <a:lnTo>
                          <a:pt x="19" y="1458"/>
                        </a:lnTo>
                        <a:lnTo>
                          <a:pt x="21" y="1468"/>
                        </a:lnTo>
                        <a:lnTo>
                          <a:pt x="23" y="1477"/>
                        </a:lnTo>
                        <a:lnTo>
                          <a:pt x="27" y="1487"/>
                        </a:lnTo>
                        <a:lnTo>
                          <a:pt x="29" y="1496"/>
                        </a:lnTo>
                        <a:lnTo>
                          <a:pt x="30" y="1506"/>
                        </a:lnTo>
                        <a:lnTo>
                          <a:pt x="34" y="1515"/>
                        </a:lnTo>
                        <a:lnTo>
                          <a:pt x="36" y="1525"/>
                        </a:lnTo>
                        <a:lnTo>
                          <a:pt x="38" y="1534"/>
                        </a:lnTo>
                        <a:lnTo>
                          <a:pt x="42" y="1544"/>
                        </a:lnTo>
                        <a:lnTo>
                          <a:pt x="46" y="1553"/>
                        </a:lnTo>
                        <a:lnTo>
                          <a:pt x="48" y="1561"/>
                        </a:lnTo>
                        <a:lnTo>
                          <a:pt x="51" y="1572"/>
                        </a:lnTo>
                        <a:lnTo>
                          <a:pt x="55" y="1580"/>
                        </a:lnTo>
                        <a:lnTo>
                          <a:pt x="59" y="1589"/>
                        </a:lnTo>
                        <a:lnTo>
                          <a:pt x="63" y="1599"/>
                        </a:lnTo>
                        <a:lnTo>
                          <a:pt x="67" y="1608"/>
                        </a:lnTo>
                        <a:lnTo>
                          <a:pt x="68" y="1616"/>
                        </a:lnTo>
                        <a:lnTo>
                          <a:pt x="74" y="1627"/>
                        </a:lnTo>
                        <a:lnTo>
                          <a:pt x="78" y="1635"/>
                        </a:lnTo>
                        <a:lnTo>
                          <a:pt x="82" y="1644"/>
                        </a:lnTo>
                        <a:lnTo>
                          <a:pt x="86" y="1652"/>
                        </a:lnTo>
                        <a:lnTo>
                          <a:pt x="89" y="1661"/>
                        </a:lnTo>
                        <a:lnTo>
                          <a:pt x="95" y="1669"/>
                        </a:lnTo>
                        <a:lnTo>
                          <a:pt x="99" y="1679"/>
                        </a:lnTo>
                        <a:lnTo>
                          <a:pt x="103" y="1688"/>
                        </a:lnTo>
                        <a:lnTo>
                          <a:pt x="108" y="1696"/>
                        </a:lnTo>
                        <a:lnTo>
                          <a:pt x="114" y="1703"/>
                        </a:lnTo>
                        <a:lnTo>
                          <a:pt x="118" y="1713"/>
                        </a:lnTo>
                        <a:lnTo>
                          <a:pt x="124" y="1722"/>
                        </a:lnTo>
                        <a:lnTo>
                          <a:pt x="127" y="1732"/>
                        </a:lnTo>
                        <a:lnTo>
                          <a:pt x="131" y="1736"/>
                        </a:lnTo>
                        <a:lnTo>
                          <a:pt x="135" y="1739"/>
                        </a:lnTo>
                        <a:lnTo>
                          <a:pt x="135" y="1743"/>
                        </a:lnTo>
                        <a:lnTo>
                          <a:pt x="137" y="1745"/>
                        </a:lnTo>
                        <a:lnTo>
                          <a:pt x="139" y="1747"/>
                        </a:lnTo>
                        <a:lnTo>
                          <a:pt x="141" y="1751"/>
                        </a:lnTo>
                        <a:lnTo>
                          <a:pt x="143" y="1755"/>
                        </a:lnTo>
                        <a:lnTo>
                          <a:pt x="143" y="1756"/>
                        </a:lnTo>
                        <a:lnTo>
                          <a:pt x="145" y="1760"/>
                        </a:lnTo>
                        <a:lnTo>
                          <a:pt x="146" y="1762"/>
                        </a:lnTo>
                        <a:lnTo>
                          <a:pt x="148" y="1766"/>
                        </a:lnTo>
                        <a:lnTo>
                          <a:pt x="150" y="1768"/>
                        </a:lnTo>
                        <a:lnTo>
                          <a:pt x="152" y="1770"/>
                        </a:lnTo>
                        <a:lnTo>
                          <a:pt x="156" y="1774"/>
                        </a:lnTo>
                        <a:lnTo>
                          <a:pt x="158" y="1777"/>
                        </a:lnTo>
                        <a:lnTo>
                          <a:pt x="160" y="1779"/>
                        </a:lnTo>
                        <a:lnTo>
                          <a:pt x="160" y="1783"/>
                        </a:lnTo>
                        <a:lnTo>
                          <a:pt x="162" y="1787"/>
                        </a:lnTo>
                        <a:lnTo>
                          <a:pt x="166" y="1789"/>
                        </a:lnTo>
                        <a:lnTo>
                          <a:pt x="166" y="1791"/>
                        </a:lnTo>
                        <a:lnTo>
                          <a:pt x="167" y="1794"/>
                        </a:lnTo>
                        <a:lnTo>
                          <a:pt x="169" y="1796"/>
                        </a:lnTo>
                        <a:lnTo>
                          <a:pt x="171" y="1800"/>
                        </a:lnTo>
                        <a:lnTo>
                          <a:pt x="173" y="1802"/>
                        </a:lnTo>
                        <a:lnTo>
                          <a:pt x="175" y="1806"/>
                        </a:lnTo>
                        <a:lnTo>
                          <a:pt x="177" y="1808"/>
                        </a:lnTo>
                        <a:lnTo>
                          <a:pt x="179" y="1812"/>
                        </a:lnTo>
                        <a:lnTo>
                          <a:pt x="181" y="1815"/>
                        </a:lnTo>
                        <a:lnTo>
                          <a:pt x="183" y="1817"/>
                        </a:lnTo>
                        <a:lnTo>
                          <a:pt x="185" y="1821"/>
                        </a:lnTo>
                        <a:lnTo>
                          <a:pt x="188" y="1827"/>
                        </a:lnTo>
                        <a:lnTo>
                          <a:pt x="190" y="1831"/>
                        </a:lnTo>
                        <a:lnTo>
                          <a:pt x="194" y="1836"/>
                        </a:lnTo>
                        <a:lnTo>
                          <a:pt x="198" y="1842"/>
                        </a:lnTo>
                        <a:lnTo>
                          <a:pt x="200" y="1846"/>
                        </a:lnTo>
                        <a:lnTo>
                          <a:pt x="204" y="1850"/>
                        </a:lnTo>
                        <a:lnTo>
                          <a:pt x="205" y="1853"/>
                        </a:lnTo>
                        <a:lnTo>
                          <a:pt x="207" y="1859"/>
                        </a:lnTo>
                        <a:lnTo>
                          <a:pt x="209" y="1861"/>
                        </a:lnTo>
                        <a:lnTo>
                          <a:pt x="211" y="1863"/>
                        </a:lnTo>
                        <a:lnTo>
                          <a:pt x="213" y="1867"/>
                        </a:lnTo>
                        <a:lnTo>
                          <a:pt x="215" y="1869"/>
                        </a:lnTo>
                        <a:lnTo>
                          <a:pt x="217" y="1870"/>
                        </a:lnTo>
                        <a:lnTo>
                          <a:pt x="219" y="1874"/>
                        </a:lnTo>
                        <a:lnTo>
                          <a:pt x="141" y="2163"/>
                        </a:lnTo>
                        <a:lnTo>
                          <a:pt x="143" y="2165"/>
                        </a:lnTo>
                        <a:lnTo>
                          <a:pt x="146" y="2165"/>
                        </a:lnTo>
                        <a:lnTo>
                          <a:pt x="150" y="2167"/>
                        </a:lnTo>
                        <a:lnTo>
                          <a:pt x="152" y="2167"/>
                        </a:lnTo>
                        <a:lnTo>
                          <a:pt x="154" y="2167"/>
                        </a:lnTo>
                        <a:lnTo>
                          <a:pt x="158" y="2167"/>
                        </a:lnTo>
                        <a:lnTo>
                          <a:pt x="162" y="2171"/>
                        </a:lnTo>
                        <a:lnTo>
                          <a:pt x="166" y="2171"/>
                        </a:lnTo>
                        <a:lnTo>
                          <a:pt x="167" y="2173"/>
                        </a:lnTo>
                        <a:lnTo>
                          <a:pt x="171" y="2173"/>
                        </a:lnTo>
                        <a:lnTo>
                          <a:pt x="175" y="2175"/>
                        </a:lnTo>
                        <a:lnTo>
                          <a:pt x="181" y="2175"/>
                        </a:lnTo>
                        <a:lnTo>
                          <a:pt x="185" y="2175"/>
                        </a:lnTo>
                        <a:lnTo>
                          <a:pt x="188" y="2177"/>
                        </a:lnTo>
                        <a:lnTo>
                          <a:pt x="194" y="2180"/>
                        </a:lnTo>
                        <a:lnTo>
                          <a:pt x="198" y="2180"/>
                        </a:lnTo>
                        <a:lnTo>
                          <a:pt x="204" y="2182"/>
                        </a:lnTo>
                        <a:lnTo>
                          <a:pt x="209" y="2182"/>
                        </a:lnTo>
                        <a:lnTo>
                          <a:pt x="215" y="2184"/>
                        </a:lnTo>
                        <a:lnTo>
                          <a:pt x="219" y="2186"/>
                        </a:lnTo>
                        <a:lnTo>
                          <a:pt x="224" y="2188"/>
                        </a:lnTo>
                        <a:lnTo>
                          <a:pt x="232" y="2188"/>
                        </a:lnTo>
                        <a:lnTo>
                          <a:pt x="238" y="2190"/>
                        </a:lnTo>
                        <a:lnTo>
                          <a:pt x="243" y="2190"/>
                        </a:lnTo>
                        <a:lnTo>
                          <a:pt x="251" y="2192"/>
                        </a:lnTo>
                        <a:lnTo>
                          <a:pt x="257" y="2194"/>
                        </a:lnTo>
                        <a:lnTo>
                          <a:pt x="264" y="2194"/>
                        </a:lnTo>
                        <a:lnTo>
                          <a:pt x="270" y="2196"/>
                        </a:lnTo>
                        <a:lnTo>
                          <a:pt x="276" y="2196"/>
                        </a:lnTo>
                        <a:lnTo>
                          <a:pt x="283" y="2197"/>
                        </a:lnTo>
                        <a:lnTo>
                          <a:pt x="291" y="2199"/>
                        </a:lnTo>
                        <a:lnTo>
                          <a:pt x="297" y="2199"/>
                        </a:lnTo>
                        <a:lnTo>
                          <a:pt x="304" y="2199"/>
                        </a:lnTo>
                        <a:lnTo>
                          <a:pt x="312" y="2199"/>
                        </a:lnTo>
                        <a:lnTo>
                          <a:pt x="320" y="2201"/>
                        </a:lnTo>
                        <a:lnTo>
                          <a:pt x="325" y="2201"/>
                        </a:lnTo>
                        <a:lnTo>
                          <a:pt x="333" y="2201"/>
                        </a:lnTo>
                        <a:lnTo>
                          <a:pt x="341" y="2201"/>
                        </a:lnTo>
                        <a:lnTo>
                          <a:pt x="348" y="2201"/>
                        </a:lnTo>
                        <a:lnTo>
                          <a:pt x="356" y="2201"/>
                        </a:lnTo>
                        <a:lnTo>
                          <a:pt x="363" y="2201"/>
                        </a:lnTo>
                        <a:lnTo>
                          <a:pt x="371" y="2201"/>
                        </a:lnTo>
                        <a:lnTo>
                          <a:pt x="379" y="2201"/>
                        </a:lnTo>
                        <a:lnTo>
                          <a:pt x="386" y="2201"/>
                        </a:lnTo>
                        <a:lnTo>
                          <a:pt x="394" y="2201"/>
                        </a:lnTo>
                        <a:lnTo>
                          <a:pt x="401" y="2199"/>
                        </a:lnTo>
                        <a:lnTo>
                          <a:pt x="409" y="2199"/>
                        </a:lnTo>
                        <a:lnTo>
                          <a:pt x="415" y="2197"/>
                        </a:lnTo>
                        <a:lnTo>
                          <a:pt x="422" y="2196"/>
                        </a:lnTo>
                        <a:lnTo>
                          <a:pt x="432" y="2196"/>
                        </a:lnTo>
                        <a:lnTo>
                          <a:pt x="439" y="2194"/>
                        </a:lnTo>
                        <a:lnTo>
                          <a:pt x="447" y="2192"/>
                        </a:lnTo>
                        <a:lnTo>
                          <a:pt x="455" y="2190"/>
                        </a:lnTo>
                        <a:lnTo>
                          <a:pt x="462" y="2188"/>
                        </a:lnTo>
                        <a:lnTo>
                          <a:pt x="470" y="2188"/>
                        </a:lnTo>
                        <a:lnTo>
                          <a:pt x="476" y="2184"/>
                        </a:lnTo>
                        <a:lnTo>
                          <a:pt x="483" y="2182"/>
                        </a:lnTo>
                        <a:lnTo>
                          <a:pt x="491" y="2180"/>
                        </a:lnTo>
                        <a:lnTo>
                          <a:pt x="498" y="2175"/>
                        </a:lnTo>
                        <a:lnTo>
                          <a:pt x="504" y="2173"/>
                        </a:lnTo>
                        <a:lnTo>
                          <a:pt x="512" y="2169"/>
                        </a:lnTo>
                        <a:lnTo>
                          <a:pt x="517" y="2165"/>
                        </a:lnTo>
                        <a:lnTo>
                          <a:pt x="525" y="2161"/>
                        </a:lnTo>
                        <a:lnTo>
                          <a:pt x="531" y="2158"/>
                        </a:lnTo>
                        <a:lnTo>
                          <a:pt x="536" y="2154"/>
                        </a:lnTo>
                        <a:lnTo>
                          <a:pt x="542" y="2150"/>
                        </a:lnTo>
                        <a:lnTo>
                          <a:pt x="550" y="2146"/>
                        </a:lnTo>
                        <a:lnTo>
                          <a:pt x="555" y="2142"/>
                        </a:lnTo>
                        <a:lnTo>
                          <a:pt x="559" y="2137"/>
                        </a:lnTo>
                        <a:lnTo>
                          <a:pt x="565" y="2133"/>
                        </a:lnTo>
                        <a:lnTo>
                          <a:pt x="571" y="2129"/>
                        </a:lnTo>
                        <a:lnTo>
                          <a:pt x="576" y="2123"/>
                        </a:lnTo>
                        <a:lnTo>
                          <a:pt x="582" y="2120"/>
                        </a:lnTo>
                        <a:lnTo>
                          <a:pt x="588" y="2114"/>
                        </a:lnTo>
                        <a:lnTo>
                          <a:pt x="592" y="2110"/>
                        </a:lnTo>
                        <a:lnTo>
                          <a:pt x="595" y="2106"/>
                        </a:lnTo>
                        <a:lnTo>
                          <a:pt x="601" y="2101"/>
                        </a:lnTo>
                        <a:lnTo>
                          <a:pt x="605" y="2095"/>
                        </a:lnTo>
                        <a:lnTo>
                          <a:pt x="611" y="2091"/>
                        </a:lnTo>
                        <a:lnTo>
                          <a:pt x="614" y="2085"/>
                        </a:lnTo>
                        <a:lnTo>
                          <a:pt x="618" y="2080"/>
                        </a:lnTo>
                        <a:lnTo>
                          <a:pt x="624" y="2076"/>
                        </a:lnTo>
                        <a:lnTo>
                          <a:pt x="628" y="2070"/>
                        </a:lnTo>
                        <a:lnTo>
                          <a:pt x="632" y="2064"/>
                        </a:lnTo>
                        <a:lnTo>
                          <a:pt x="635" y="2059"/>
                        </a:lnTo>
                        <a:lnTo>
                          <a:pt x="637" y="2055"/>
                        </a:lnTo>
                        <a:lnTo>
                          <a:pt x="643" y="2049"/>
                        </a:lnTo>
                        <a:lnTo>
                          <a:pt x="645" y="2043"/>
                        </a:lnTo>
                        <a:lnTo>
                          <a:pt x="649" y="2040"/>
                        </a:lnTo>
                        <a:lnTo>
                          <a:pt x="652" y="2034"/>
                        </a:lnTo>
                        <a:lnTo>
                          <a:pt x="654" y="2030"/>
                        </a:lnTo>
                        <a:lnTo>
                          <a:pt x="658" y="2024"/>
                        </a:lnTo>
                        <a:lnTo>
                          <a:pt x="660" y="2021"/>
                        </a:lnTo>
                        <a:lnTo>
                          <a:pt x="664" y="2015"/>
                        </a:lnTo>
                        <a:lnTo>
                          <a:pt x="666" y="2011"/>
                        </a:lnTo>
                        <a:lnTo>
                          <a:pt x="668" y="2005"/>
                        </a:lnTo>
                        <a:lnTo>
                          <a:pt x="672" y="2002"/>
                        </a:lnTo>
                        <a:lnTo>
                          <a:pt x="673" y="1998"/>
                        </a:lnTo>
                        <a:lnTo>
                          <a:pt x="675" y="1992"/>
                        </a:lnTo>
                        <a:lnTo>
                          <a:pt x="677" y="1986"/>
                        </a:lnTo>
                        <a:lnTo>
                          <a:pt x="679" y="1983"/>
                        </a:lnTo>
                        <a:lnTo>
                          <a:pt x="681" y="1979"/>
                        </a:lnTo>
                        <a:lnTo>
                          <a:pt x="683" y="1975"/>
                        </a:lnTo>
                        <a:lnTo>
                          <a:pt x="685" y="1971"/>
                        </a:lnTo>
                        <a:lnTo>
                          <a:pt x="687" y="1969"/>
                        </a:lnTo>
                        <a:lnTo>
                          <a:pt x="689" y="1964"/>
                        </a:lnTo>
                        <a:lnTo>
                          <a:pt x="691" y="1962"/>
                        </a:lnTo>
                        <a:lnTo>
                          <a:pt x="692" y="1958"/>
                        </a:lnTo>
                        <a:lnTo>
                          <a:pt x="692" y="1954"/>
                        </a:lnTo>
                        <a:lnTo>
                          <a:pt x="692" y="1952"/>
                        </a:lnTo>
                        <a:lnTo>
                          <a:pt x="694" y="1950"/>
                        </a:lnTo>
                        <a:lnTo>
                          <a:pt x="696" y="1945"/>
                        </a:lnTo>
                        <a:lnTo>
                          <a:pt x="698" y="1941"/>
                        </a:lnTo>
                        <a:lnTo>
                          <a:pt x="700" y="1937"/>
                        </a:lnTo>
                        <a:lnTo>
                          <a:pt x="700" y="1935"/>
                        </a:lnTo>
                        <a:lnTo>
                          <a:pt x="700" y="1933"/>
                        </a:lnTo>
                        <a:lnTo>
                          <a:pt x="702" y="1933"/>
                        </a:lnTo>
                        <a:lnTo>
                          <a:pt x="740" y="1943"/>
                        </a:lnTo>
                        <a:lnTo>
                          <a:pt x="740" y="1943"/>
                        </a:lnTo>
                        <a:lnTo>
                          <a:pt x="738" y="1945"/>
                        </a:lnTo>
                        <a:lnTo>
                          <a:pt x="738" y="1947"/>
                        </a:lnTo>
                        <a:lnTo>
                          <a:pt x="738" y="1950"/>
                        </a:lnTo>
                        <a:lnTo>
                          <a:pt x="738" y="1954"/>
                        </a:lnTo>
                        <a:lnTo>
                          <a:pt x="738" y="1958"/>
                        </a:lnTo>
                        <a:lnTo>
                          <a:pt x="736" y="1962"/>
                        </a:lnTo>
                        <a:lnTo>
                          <a:pt x="736" y="1964"/>
                        </a:lnTo>
                        <a:lnTo>
                          <a:pt x="736" y="1967"/>
                        </a:lnTo>
                        <a:lnTo>
                          <a:pt x="736" y="1971"/>
                        </a:lnTo>
                        <a:lnTo>
                          <a:pt x="736" y="1975"/>
                        </a:lnTo>
                        <a:lnTo>
                          <a:pt x="736" y="1979"/>
                        </a:lnTo>
                        <a:lnTo>
                          <a:pt x="736" y="1983"/>
                        </a:lnTo>
                        <a:lnTo>
                          <a:pt x="736" y="1985"/>
                        </a:lnTo>
                        <a:lnTo>
                          <a:pt x="736" y="1990"/>
                        </a:lnTo>
                        <a:lnTo>
                          <a:pt x="736" y="1994"/>
                        </a:lnTo>
                        <a:lnTo>
                          <a:pt x="736" y="1998"/>
                        </a:lnTo>
                        <a:lnTo>
                          <a:pt x="736" y="2004"/>
                        </a:lnTo>
                        <a:lnTo>
                          <a:pt x="736" y="2007"/>
                        </a:lnTo>
                        <a:lnTo>
                          <a:pt x="736" y="2013"/>
                        </a:lnTo>
                        <a:lnTo>
                          <a:pt x="736" y="2015"/>
                        </a:lnTo>
                        <a:lnTo>
                          <a:pt x="736" y="2021"/>
                        </a:lnTo>
                        <a:lnTo>
                          <a:pt x="736" y="2026"/>
                        </a:lnTo>
                        <a:lnTo>
                          <a:pt x="736" y="2030"/>
                        </a:lnTo>
                        <a:lnTo>
                          <a:pt x="736" y="2036"/>
                        </a:lnTo>
                        <a:lnTo>
                          <a:pt x="736" y="2042"/>
                        </a:lnTo>
                        <a:lnTo>
                          <a:pt x="736" y="2047"/>
                        </a:lnTo>
                        <a:lnTo>
                          <a:pt x="738" y="2051"/>
                        </a:lnTo>
                        <a:lnTo>
                          <a:pt x="738" y="2057"/>
                        </a:lnTo>
                        <a:lnTo>
                          <a:pt x="738" y="2062"/>
                        </a:lnTo>
                        <a:lnTo>
                          <a:pt x="740" y="2066"/>
                        </a:lnTo>
                        <a:lnTo>
                          <a:pt x="740" y="2072"/>
                        </a:lnTo>
                        <a:lnTo>
                          <a:pt x="742" y="2078"/>
                        </a:lnTo>
                        <a:lnTo>
                          <a:pt x="744" y="2083"/>
                        </a:lnTo>
                        <a:lnTo>
                          <a:pt x="744" y="2091"/>
                        </a:lnTo>
                        <a:lnTo>
                          <a:pt x="746" y="2095"/>
                        </a:lnTo>
                        <a:lnTo>
                          <a:pt x="748" y="2101"/>
                        </a:lnTo>
                        <a:lnTo>
                          <a:pt x="748" y="2106"/>
                        </a:lnTo>
                        <a:lnTo>
                          <a:pt x="751" y="2110"/>
                        </a:lnTo>
                        <a:lnTo>
                          <a:pt x="753" y="2118"/>
                        </a:lnTo>
                        <a:lnTo>
                          <a:pt x="753" y="2123"/>
                        </a:lnTo>
                        <a:lnTo>
                          <a:pt x="757" y="2129"/>
                        </a:lnTo>
                        <a:lnTo>
                          <a:pt x="759" y="2135"/>
                        </a:lnTo>
                        <a:lnTo>
                          <a:pt x="761" y="2139"/>
                        </a:lnTo>
                        <a:lnTo>
                          <a:pt x="765" y="2144"/>
                        </a:lnTo>
                        <a:lnTo>
                          <a:pt x="767" y="2150"/>
                        </a:lnTo>
                        <a:lnTo>
                          <a:pt x="769" y="2156"/>
                        </a:lnTo>
                        <a:lnTo>
                          <a:pt x="772" y="2159"/>
                        </a:lnTo>
                        <a:lnTo>
                          <a:pt x="776" y="2165"/>
                        </a:lnTo>
                        <a:lnTo>
                          <a:pt x="780" y="2171"/>
                        </a:lnTo>
                        <a:lnTo>
                          <a:pt x="782" y="2175"/>
                        </a:lnTo>
                        <a:lnTo>
                          <a:pt x="786" y="2180"/>
                        </a:lnTo>
                        <a:lnTo>
                          <a:pt x="789" y="2186"/>
                        </a:lnTo>
                        <a:lnTo>
                          <a:pt x="795" y="2190"/>
                        </a:lnTo>
                        <a:lnTo>
                          <a:pt x="799" y="2196"/>
                        </a:lnTo>
                        <a:lnTo>
                          <a:pt x="805" y="2201"/>
                        </a:lnTo>
                        <a:lnTo>
                          <a:pt x="808" y="2205"/>
                        </a:lnTo>
                        <a:lnTo>
                          <a:pt x="814" y="2209"/>
                        </a:lnTo>
                        <a:lnTo>
                          <a:pt x="818" y="2213"/>
                        </a:lnTo>
                        <a:lnTo>
                          <a:pt x="824" y="2216"/>
                        </a:lnTo>
                        <a:lnTo>
                          <a:pt x="828" y="2222"/>
                        </a:lnTo>
                        <a:lnTo>
                          <a:pt x="833" y="2224"/>
                        </a:lnTo>
                        <a:lnTo>
                          <a:pt x="839" y="2228"/>
                        </a:lnTo>
                        <a:lnTo>
                          <a:pt x="845" y="2232"/>
                        </a:lnTo>
                        <a:lnTo>
                          <a:pt x="848" y="2235"/>
                        </a:lnTo>
                        <a:lnTo>
                          <a:pt x="854" y="2239"/>
                        </a:lnTo>
                        <a:lnTo>
                          <a:pt x="858" y="2243"/>
                        </a:lnTo>
                        <a:lnTo>
                          <a:pt x="864" y="2245"/>
                        </a:lnTo>
                        <a:lnTo>
                          <a:pt x="867" y="2249"/>
                        </a:lnTo>
                        <a:lnTo>
                          <a:pt x="873" y="2253"/>
                        </a:lnTo>
                        <a:lnTo>
                          <a:pt x="877" y="2256"/>
                        </a:lnTo>
                        <a:lnTo>
                          <a:pt x="883" y="2258"/>
                        </a:lnTo>
                        <a:lnTo>
                          <a:pt x="890" y="2260"/>
                        </a:lnTo>
                        <a:lnTo>
                          <a:pt x="896" y="2264"/>
                        </a:lnTo>
                        <a:lnTo>
                          <a:pt x="900" y="2266"/>
                        </a:lnTo>
                        <a:lnTo>
                          <a:pt x="904" y="2268"/>
                        </a:lnTo>
                        <a:lnTo>
                          <a:pt x="907" y="2270"/>
                        </a:lnTo>
                        <a:lnTo>
                          <a:pt x="913" y="2273"/>
                        </a:lnTo>
                        <a:lnTo>
                          <a:pt x="919" y="2275"/>
                        </a:lnTo>
                        <a:lnTo>
                          <a:pt x="925" y="2277"/>
                        </a:lnTo>
                        <a:lnTo>
                          <a:pt x="928" y="2279"/>
                        </a:lnTo>
                        <a:lnTo>
                          <a:pt x="934" y="2281"/>
                        </a:lnTo>
                        <a:lnTo>
                          <a:pt x="938" y="2283"/>
                        </a:lnTo>
                        <a:lnTo>
                          <a:pt x="942" y="2285"/>
                        </a:lnTo>
                        <a:lnTo>
                          <a:pt x="947" y="2287"/>
                        </a:lnTo>
                        <a:lnTo>
                          <a:pt x="951" y="2289"/>
                        </a:lnTo>
                        <a:lnTo>
                          <a:pt x="955" y="2289"/>
                        </a:lnTo>
                        <a:lnTo>
                          <a:pt x="961" y="2291"/>
                        </a:lnTo>
                        <a:lnTo>
                          <a:pt x="964" y="2291"/>
                        </a:lnTo>
                        <a:lnTo>
                          <a:pt x="968" y="2294"/>
                        </a:lnTo>
                        <a:lnTo>
                          <a:pt x="972" y="2294"/>
                        </a:lnTo>
                        <a:lnTo>
                          <a:pt x="978" y="2294"/>
                        </a:lnTo>
                        <a:lnTo>
                          <a:pt x="982" y="2296"/>
                        </a:lnTo>
                        <a:lnTo>
                          <a:pt x="985" y="2296"/>
                        </a:lnTo>
                        <a:lnTo>
                          <a:pt x="989" y="2296"/>
                        </a:lnTo>
                        <a:lnTo>
                          <a:pt x="993" y="2298"/>
                        </a:lnTo>
                        <a:lnTo>
                          <a:pt x="997" y="2298"/>
                        </a:lnTo>
                        <a:lnTo>
                          <a:pt x="1001" y="2298"/>
                        </a:lnTo>
                        <a:lnTo>
                          <a:pt x="1004" y="2298"/>
                        </a:lnTo>
                        <a:lnTo>
                          <a:pt x="1008" y="2300"/>
                        </a:lnTo>
                        <a:lnTo>
                          <a:pt x="1010" y="2300"/>
                        </a:lnTo>
                        <a:lnTo>
                          <a:pt x="1014" y="2300"/>
                        </a:lnTo>
                        <a:lnTo>
                          <a:pt x="1016" y="2300"/>
                        </a:lnTo>
                        <a:lnTo>
                          <a:pt x="1020" y="2300"/>
                        </a:lnTo>
                        <a:lnTo>
                          <a:pt x="1022" y="2300"/>
                        </a:lnTo>
                        <a:lnTo>
                          <a:pt x="1025" y="2302"/>
                        </a:lnTo>
                        <a:lnTo>
                          <a:pt x="1029" y="2300"/>
                        </a:lnTo>
                        <a:lnTo>
                          <a:pt x="1035" y="2300"/>
                        </a:lnTo>
                        <a:lnTo>
                          <a:pt x="1039" y="2298"/>
                        </a:lnTo>
                        <a:lnTo>
                          <a:pt x="1042" y="2298"/>
                        </a:lnTo>
                        <a:lnTo>
                          <a:pt x="1044" y="2296"/>
                        </a:lnTo>
                        <a:lnTo>
                          <a:pt x="1048" y="2296"/>
                        </a:lnTo>
                        <a:lnTo>
                          <a:pt x="1048" y="2294"/>
                        </a:lnTo>
                        <a:lnTo>
                          <a:pt x="1050" y="2294"/>
                        </a:lnTo>
                        <a:lnTo>
                          <a:pt x="1246" y="1334"/>
                        </a:lnTo>
                        <a:lnTo>
                          <a:pt x="1246" y="1333"/>
                        </a:lnTo>
                        <a:lnTo>
                          <a:pt x="1248" y="1331"/>
                        </a:lnTo>
                        <a:lnTo>
                          <a:pt x="1250" y="1327"/>
                        </a:lnTo>
                        <a:lnTo>
                          <a:pt x="1252" y="1325"/>
                        </a:lnTo>
                        <a:lnTo>
                          <a:pt x="1252" y="1323"/>
                        </a:lnTo>
                        <a:lnTo>
                          <a:pt x="1254" y="1319"/>
                        </a:lnTo>
                        <a:lnTo>
                          <a:pt x="1256" y="1315"/>
                        </a:lnTo>
                        <a:lnTo>
                          <a:pt x="1259" y="1312"/>
                        </a:lnTo>
                        <a:lnTo>
                          <a:pt x="1259" y="1306"/>
                        </a:lnTo>
                        <a:lnTo>
                          <a:pt x="1263" y="1302"/>
                        </a:lnTo>
                        <a:lnTo>
                          <a:pt x="1265" y="1296"/>
                        </a:lnTo>
                        <a:lnTo>
                          <a:pt x="1269" y="1293"/>
                        </a:lnTo>
                        <a:lnTo>
                          <a:pt x="1271" y="1285"/>
                        </a:lnTo>
                        <a:lnTo>
                          <a:pt x="1275" y="1281"/>
                        </a:lnTo>
                        <a:lnTo>
                          <a:pt x="1276" y="1274"/>
                        </a:lnTo>
                        <a:lnTo>
                          <a:pt x="1280" y="1266"/>
                        </a:lnTo>
                        <a:lnTo>
                          <a:pt x="1284" y="1258"/>
                        </a:lnTo>
                        <a:lnTo>
                          <a:pt x="1288" y="1249"/>
                        </a:lnTo>
                        <a:lnTo>
                          <a:pt x="1290" y="1241"/>
                        </a:lnTo>
                        <a:lnTo>
                          <a:pt x="1294" y="1234"/>
                        </a:lnTo>
                        <a:lnTo>
                          <a:pt x="1297" y="1224"/>
                        </a:lnTo>
                        <a:lnTo>
                          <a:pt x="1301" y="1217"/>
                        </a:lnTo>
                        <a:lnTo>
                          <a:pt x="1305" y="1207"/>
                        </a:lnTo>
                        <a:lnTo>
                          <a:pt x="1309" y="1198"/>
                        </a:lnTo>
                        <a:lnTo>
                          <a:pt x="1313" y="1188"/>
                        </a:lnTo>
                        <a:lnTo>
                          <a:pt x="1316" y="1177"/>
                        </a:lnTo>
                        <a:lnTo>
                          <a:pt x="1320" y="1165"/>
                        </a:lnTo>
                        <a:lnTo>
                          <a:pt x="1324" y="1154"/>
                        </a:lnTo>
                        <a:lnTo>
                          <a:pt x="1330" y="1144"/>
                        </a:lnTo>
                        <a:lnTo>
                          <a:pt x="1334" y="1133"/>
                        </a:lnTo>
                        <a:lnTo>
                          <a:pt x="1337" y="1122"/>
                        </a:lnTo>
                        <a:lnTo>
                          <a:pt x="1339" y="1108"/>
                        </a:lnTo>
                        <a:lnTo>
                          <a:pt x="1345" y="1097"/>
                        </a:lnTo>
                        <a:lnTo>
                          <a:pt x="1349" y="1084"/>
                        </a:lnTo>
                        <a:lnTo>
                          <a:pt x="1353" y="1070"/>
                        </a:lnTo>
                        <a:lnTo>
                          <a:pt x="1354" y="1059"/>
                        </a:lnTo>
                        <a:lnTo>
                          <a:pt x="1358" y="1044"/>
                        </a:lnTo>
                        <a:lnTo>
                          <a:pt x="1362" y="1032"/>
                        </a:lnTo>
                        <a:lnTo>
                          <a:pt x="1366" y="1017"/>
                        </a:lnTo>
                        <a:lnTo>
                          <a:pt x="1370" y="1004"/>
                        </a:lnTo>
                        <a:lnTo>
                          <a:pt x="1372" y="988"/>
                        </a:lnTo>
                        <a:lnTo>
                          <a:pt x="1375" y="975"/>
                        </a:lnTo>
                        <a:lnTo>
                          <a:pt x="1377" y="960"/>
                        </a:lnTo>
                        <a:lnTo>
                          <a:pt x="1381" y="947"/>
                        </a:lnTo>
                        <a:lnTo>
                          <a:pt x="1383" y="931"/>
                        </a:lnTo>
                        <a:lnTo>
                          <a:pt x="1387" y="916"/>
                        </a:lnTo>
                        <a:lnTo>
                          <a:pt x="1389" y="901"/>
                        </a:lnTo>
                        <a:lnTo>
                          <a:pt x="1391" y="886"/>
                        </a:lnTo>
                        <a:lnTo>
                          <a:pt x="1392" y="871"/>
                        </a:lnTo>
                        <a:lnTo>
                          <a:pt x="1394" y="855"/>
                        </a:lnTo>
                        <a:lnTo>
                          <a:pt x="1396" y="838"/>
                        </a:lnTo>
                        <a:lnTo>
                          <a:pt x="1398" y="823"/>
                        </a:lnTo>
                        <a:lnTo>
                          <a:pt x="1398" y="806"/>
                        </a:lnTo>
                        <a:lnTo>
                          <a:pt x="1400" y="791"/>
                        </a:lnTo>
                        <a:lnTo>
                          <a:pt x="1402" y="774"/>
                        </a:lnTo>
                        <a:lnTo>
                          <a:pt x="1402" y="757"/>
                        </a:lnTo>
                        <a:lnTo>
                          <a:pt x="1402" y="741"/>
                        </a:lnTo>
                        <a:lnTo>
                          <a:pt x="1402" y="724"/>
                        </a:lnTo>
                        <a:lnTo>
                          <a:pt x="1402" y="705"/>
                        </a:lnTo>
                        <a:lnTo>
                          <a:pt x="1402" y="690"/>
                        </a:lnTo>
                        <a:lnTo>
                          <a:pt x="1400" y="673"/>
                        </a:lnTo>
                        <a:lnTo>
                          <a:pt x="1400" y="656"/>
                        </a:lnTo>
                        <a:lnTo>
                          <a:pt x="1398" y="654"/>
                        </a:lnTo>
                        <a:lnTo>
                          <a:pt x="1398" y="652"/>
                        </a:lnTo>
                        <a:lnTo>
                          <a:pt x="1398" y="648"/>
                        </a:lnTo>
                        <a:lnTo>
                          <a:pt x="1398" y="644"/>
                        </a:lnTo>
                        <a:lnTo>
                          <a:pt x="1398" y="643"/>
                        </a:lnTo>
                        <a:lnTo>
                          <a:pt x="1398" y="639"/>
                        </a:lnTo>
                        <a:lnTo>
                          <a:pt x="1396" y="637"/>
                        </a:lnTo>
                        <a:lnTo>
                          <a:pt x="1396" y="633"/>
                        </a:lnTo>
                        <a:lnTo>
                          <a:pt x="1396" y="631"/>
                        </a:lnTo>
                        <a:lnTo>
                          <a:pt x="1396" y="627"/>
                        </a:lnTo>
                        <a:lnTo>
                          <a:pt x="1396" y="623"/>
                        </a:lnTo>
                        <a:lnTo>
                          <a:pt x="1394" y="620"/>
                        </a:lnTo>
                        <a:lnTo>
                          <a:pt x="1394" y="618"/>
                        </a:lnTo>
                        <a:lnTo>
                          <a:pt x="1394" y="616"/>
                        </a:lnTo>
                        <a:lnTo>
                          <a:pt x="1392" y="612"/>
                        </a:lnTo>
                        <a:lnTo>
                          <a:pt x="1392" y="610"/>
                        </a:lnTo>
                        <a:lnTo>
                          <a:pt x="1392" y="608"/>
                        </a:lnTo>
                        <a:lnTo>
                          <a:pt x="1391" y="604"/>
                        </a:lnTo>
                        <a:lnTo>
                          <a:pt x="1391" y="603"/>
                        </a:lnTo>
                        <a:lnTo>
                          <a:pt x="1391" y="599"/>
                        </a:lnTo>
                        <a:lnTo>
                          <a:pt x="1389" y="597"/>
                        </a:lnTo>
                        <a:lnTo>
                          <a:pt x="1389" y="593"/>
                        </a:lnTo>
                        <a:lnTo>
                          <a:pt x="1389" y="589"/>
                        </a:lnTo>
                        <a:lnTo>
                          <a:pt x="1389" y="587"/>
                        </a:lnTo>
                        <a:lnTo>
                          <a:pt x="1387" y="585"/>
                        </a:lnTo>
                        <a:lnTo>
                          <a:pt x="1385" y="582"/>
                        </a:lnTo>
                        <a:lnTo>
                          <a:pt x="1385" y="580"/>
                        </a:lnTo>
                        <a:lnTo>
                          <a:pt x="1383" y="578"/>
                        </a:lnTo>
                        <a:lnTo>
                          <a:pt x="1383" y="572"/>
                        </a:lnTo>
                        <a:lnTo>
                          <a:pt x="1381" y="568"/>
                        </a:lnTo>
                        <a:lnTo>
                          <a:pt x="1377" y="563"/>
                        </a:lnTo>
                        <a:lnTo>
                          <a:pt x="1375" y="557"/>
                        </a:lnTo>
                        <a:lnTo>
                          <a:pt x="1373" y="553"/>
                        </a:lnTo>
                        <a:lnTo>
                          <a:pt x="1370" y="547"/>
                        </a:lnTo>
                        <a:lnTo>
                          <a:pt x="1366" y="544"/>
                        </a:lnTo>
                        <a:lnTo>
                          <a:pt x="1364" y="540"/>
                        </a:lnTo>
                        <a:lnTo>
                          <a:pt x="1360" y="536"/>
                        </a:lnTo>
                        <a:lnTo>
                          <a:pt x="1356" y="532"/>
                        </a:lnTo>
                        <a:lnTo>
                          <a:pt x="1353" y="528"/>
                        </a:lnTo>
                        <a:lnTo>
                          <a:pt x="1349" y="525"/>
                        </a:lnTo>
                        <a:lnTo>
                          <a:pt x="1345" y="523"/>
                        </a:lnTo>
                        <a:lnTo>
                          <a:pt x="1339" y="521"/>
                        </a:lnTo>
                        <a:lnTo>
                          <a:pt x="1335" y="517"/>
                        </a:lnTo>
                        <a:lnTo>
                          <a:pt x="1332" y="515"/>
                        </a:lnTo>
                        <a:lnTo>
                          <a:pt x="1326" y="515"/>
                        </a:lnTo>
                        <a:lnTo>
                          <a:pt x="1322" y="513"/>
                        </a:lnTo>
                        <a:lnTo>
                          <a:pt x="1318" y="511"/>
                        </a:lnTo>
                        <a:lnTo>
                          <a:pt x="1316" y="511"/>
                        </a:lnTo>
                        <a:lnTo>
                          <a:pt x="1313" y="511"/>
                        </a:lnTo>
                        <a:lnTo>
                          <a:pt x="1311" y="511"/>
                        </a:lnTo>
                        <a:lnTo>
                          <a:pt x="1309" y="509"/>
                        </a:lnTo>
                        <a:lnTo>
                          <a:pt x="1305" y="509"/>
                        </a:lnTo>
                        <a:lnTo>
                          <a:pt x="1303" y="509"/>
                        </a:lnTo>
                        <a:lnTo>
                          <a:pt x="1301" y="509"/>
                        </a:lnTo>
                        <a:lnTo>
                          <a:pt x="1297" y="509"/>
                        </a:lnTo>
                        <a:lnTo>
                          <a:pt x="1295" y="509"/>
                        </a:lnTo>
                        <a:lnTo>
                          <a:pt x="1292" y="509"/>
                        </a:lnTo>
                        <a:lnTo>
                          <a:pt x="1290" y="509"/>
                        </a:lnTo>
                        <a:lnTo>
                          <a:pt x="1284" y="509"/>
                        </a:lnTo>
                        <a:lnTo>
                          <a:pt x="1280" y="509"/>
                        </a:lnTo>
                        <a:lnTo>
                          <a:pt x="1275" y="509"/>
                        </a:lnTo>
                        <a:lnTo>
                          <a:pt x="1269" y="509"/>
                        </a:lnTo>
                        <a:lnTo>
                          <a:pt x="1265" y="509"/>
                        </a:lnTo>
                        <a:lnTo>
                          <a:pt x="1259" y="509"/>
                        </a:lnTo>
                        <a:lnTo>
                          <a:pt x="1256" y="511"/>
                        </a:lnTo>
                        <a:lnTo>
                          <a:pt x="1252" y="511"/>
                        </a:lnTo>
                        <a:lnTo>
                          <a:pt x="1246" y="515"/>
                        </a:lnTo>
                        <a:lnTo>
                          <a:pt x="1242" y="515"/>
                        </a:lnTo>
                        <a:lnTo>
                          <a:pt x="1238" y="517"/>
                        </a:lnTo>
                        <a:lnTo>
                          <a:pt x="1235" y="521"/>
                        </a:lnTo>
                        <a:lnTo>
                          <a:pt x="1231" y="523"/>
                        </a:lnTo>
                        <a:lnTo>
                          <a:pt x="1229" y="525"/>
                        </a:lnTo>
                        <a:lnTo>
                          <a:pt x="1225" y="527"/>
                        </a:lnTo>
                        <a:lnTo>
                          <a:pt x="1221" y="530"/>
                        </a:lnTo>
                        <a:lnTo>
                          <a:pt x="1219" y="532"/>
                        </a:lnTo>
                        <a:lnTo>
                          <a:pt x="1216" y="538"/>
                        </a:lnTo>
                        <a:lnTo>
                          <a:pt x="1214" y="542"/>
                        </a:lnTo>
                        <a:lnTo>
                          <a:pt x="1212" y="546"/>
                        </a:lnTo>
                        <a:lnTo>
                          <a:pt x="1210" y="549"/>
                        </a:lnTo>
                        <a:lnTo>
                          <a:pt x="1208" y="555"/>
                        </a:lnTo>
                        <a:lnTo>
                          <a:pt x="1208" y="557"/>
                        </a:lnTo>
                        <a:lnTo>
                          <a:pt x="1206" y="559"/>
                        </a:lnTo>
                        <a:lnTo>
                          <a:pt x="1204" y="561"/>
                        </a:lnTo>
                        <a:lnTo>
                          <a:pt x="1204" y="565"/>
                        </a:lnTo>
                        <a:lnTo>
                          <a:pt x="1204" y="566"/>
                        </a:lnTo>
                        <a:lnTo>
                          <a:pt x="1204" y="570"/>
                        </a:lnTo>
                        <a:lnTo>
                          <a:pt x="1204" y="572"/>
                        </a:lnTo>
                        <a:lnTo>
                          <a:pt x="1204" y="576"/>
                        </a:lnTo>
                        <a:lnTo>
                          <a:pt x="1139" y="895"/>
                        </a:lnTo>
                        <a:lnTo>
                          <a:pt x="1136" y="893"/>
                        </a:lnTo>
                        <a:lnTo>
                          <a:pt x="1132" y="892"/>
                        </a:lnTo>
                        <a:lnTo>
                          <a:pt x="1126" y="888"/>
                        </a:lnTo>
                        <a:lnTo>
                          <a:pt x="1122" y="886"/>
                        </a:lnTo>
                        <a:lnTo>
                          <a:pt x="1117" y="884"/>
                        </a:lnTo>
                        <a:lnTo>
                          <a:pt x="1113" y="880"/>
                        </a:lnTo>
                        <a:lnTo>
                          <a:pt x="1107" y="878"/>
                        </a:lnTo>
                        <a:lnTo>
                          <a:pt x="1105" y="876"/>
                        </a:lnTo>
                        <a:lnTo>
                          <a:pt x="1227" y="316"/>
                        </a:lnTo>
                        <a:lnTo>
                          <a:pt x="1227" y="312"/>
                        </a:lnTo>
                        <a:lnTo>
                          <a:pt x="1227" y="308"/>
                        </a:lnTo>
                        <a:lnTo>
                          <a:pt x="1229" y="306"/>
                        </a:lnTo>
                        <a:lnTo>
                          <a:pt x="1229" y="304"/>
                        </a:lnTo>
                        <a:lnTo>
                          <a:pt x="1229" y="300"/>
                        </a:lnTo>
                        <a:lnTo>
                          <a:pt x="1229" y="298"/>
                        </a:lnTo>
                        <a:lnTo>
                          <a:pt x="1229" y="295"/>
                        </a:lnTo>
                        <a:lnTo>
                          <a:pt x="1229" y="293"/>
                        </a:lnTo>
                        <a:lnTo>
                          <a:pt x="1229" y="291"/>
                        </a:lnTo>
                        <a:lnTo>
                          <a:pt x="1229" y="287"/>
                        </a:lnTo>
                        <a:lnTo>
                          <a:pt x="1229" y="285"/>
                        </a:lnTo>
                        <a:lnTo>
                          <a:pt x="1229" y="283"/>
                        </a:lnTo>
                        <a:lnTo>
                          <a:pt x="1229" y="278"/>
                        </a:lnTo>
                        <a:lnTo>
                          <a:pt x="1227" y="272"/>
                        </a:lnTo>
                        <a:lnTo>
                          <a:pt x="1225" y="268"/>
                        </a:lnTo>
                        <a:lnTo>
                          <a:pt x="1225" y="262"/>
                        </a:lnTo>
                        <a:lnTo>
                          <a:pt x="1223" y="257"/>
                        </a:lnTo>
                        <a:lnTo>
                          <a:pt x="1221" y="253"/>
                        </a:lnTo>
                        <a:lnTo>
                          <a:pt x="1219" y="247"/>
                        </a:lnTo>
                        <a:lnTo>
                          <a:pt x="1217" y="243"/>
                        </a:lnTo>
                        <a:lnTo>
                          <a:pt x="1216" y="240"/>
                        </a:lnTo>
                        <a:lnTo>
                          <a:pt x="1214" y="236"/>
                        </a:lnTo>
                        <a:lnTo>
                          <a:pt x="1210" y="232"/>
                        </a:lnTo>
                        <a:lnTo>
                          <a:pt x="1206" y="226"/>
                        </a:lnTo>
                        <a:lnTo>
                          <a:pt x="1202" y="222"/>
                        </a:lnTo>
                        <a:lnTo>
                          <a:pt x="1200" y="219"/>
                        </a:lnTo>
                        <a:lnTo>
                          <a:pt x="1197" y="215"/>
                        </a:lnTo>
                        <a:lnTo>
                          <a:pt x="1193" y="211"/>
                        </a:lnTo>
                        <a:lnTo>
                          <a:pt x="1189" y="207"/>
                        </a:lnTo>
                        <a:lnTo>
                          <a:pt x="1185" y="205"/>
                        </a:lnTo>
                        <a:lnTo>
                          <a:pt x="1179" y="203"/>
                        </a:lnTo>
                        <a:lnTo>
                          <a:pt x="1176" y="200"/>
                        </a:lnTo>
                        <a:lnTo>
                          <a:pt x="1172" y="198"/>
                        </a:lnTo>
                        <a:lnTo>
                          <a:pt x="1166" y="194"/>
                        </a:lnTo>
                        <a:lnTo>
                          <a:pt x="1160" y="192"/>
                        </a:lnTo>
                        <a:lnTo>
                          <a:pt x="1157" y="192"/>
                        </a:lnTo>
                        <a:lnTo>
                          <a:pt x="1151" y="190"/>
                        </a:lnTo>
                        <a:lnTo>
                          <a:pt x="1147" y="190"/>
                        </a:lnTo>
                        <a:lnTo>
                          <a:pt x="1143" y="188"/>
                        </a:lnTo>
                        <a:lnTo>
                          <a:pt x="1141" y="186"/>
                        </a:lnTo>
                        <a:lnTo>
                          <a:pt x="1138" y="186"/>
                        </a:lnTo>
                        <a:lnTo>
                          <a:pt x="1136" y="186"/>
                        </a:lnTo>
                        <a:lnTo>
                          <a:pt x="1134" y="186"/>
                        </a:lnTo>
                        <a:lnTo>
                          <a:pt x="1130" y="186"/>
                        </a:lnTo>
                        <a:lnTo>
                          <a:pt x="1128" y="186"/>
                        </a:lnTo>
                        <a:lnTo>
                          <a:pt x="1124" y="186"/>
                        </a:lnTo>
                        <a:lnTo>
                          <a:pt x="1122" y="186"/>
                        </a:lnTo>
                        <a:lnTo>
                          <a:pt x="1120" y="186"/>
                        </a:lnTo>
                        <a:lnTo>
                          <a:pt x="1117" y="186"/>
                        </a:lnTo>
                        <a:lnTo>
                          <a:pt x="1115" y="186"/>
                        </a:lnTo>
                        <a:lnTo>
                          <a:pt x="1109" y="186"/>
                        </a:lnTo>
                        <a:lnTo>
                          <a:pt x="1105" y="188"/>
                        </a:lnTo>
                        <a:lnTo>
                          <a:pt x="1100" y="188"/>
                        </a:lnTo>
                        <a:lnTo>
                          <a:pt x="1094" y="190"/>
                        </a:lnTo>
                        <a:lnTo>
                          <a:pt x="1090" y="192"/>
                        </a:lnTo>
                        <a:lnTo>
                          <a:pt x="1086" y="192"/>
                        </a:lnTo>
                        <a:lnTo>
                          <a:pt x="1081" y="194"/>
                        </a:lnTo>
                        <a:lnTo>
                          <a:pt x="1077" y="198"/>
                        </a:lnTo>
                        <a:lnTo>
                          <a:pt x="1073" y="200"/>
                        </a:lnTo>
                        <a:lnTo>
                          <a:pt x="1067" y="203"/>
                        </a:lnTo>
                        <a:lnTo>
                          <a:pt x="1063" y="205"/>
                        </a:lnTo>
                        <a:lnTo>
                          <a:pt x="1058" y="207"/>
                        </a:lnTo>
                        <a:lnTo>
                          <a:pt x="1054" y="211"/>
                        </a:lnTo>
                        <a:lnTo>
                          <a:pt x="1050" y="215"/>
                        </a:lnTo>
                        <a:lnTo>
                          <a:pt x="1048" y="219"/>
                        </a:lnTo>
                        <a:lnTo>
                          <a:pt x="1044" y="222"/>
                        </a:lnTo>
                        <a:lnTo>
                          <a:pt x="1041" y="226"/>
                        </a:lnTo>
                        <a:lnTo>
                          <a:pt x="1039" y="232"/>
                        </a:lnTo>
                        <a:lnTo>
                          <a:pt x="1035" y="234"/>
                        </a:lnTo>
                        <a:lnTo>
                          <a:pt x="1033" y="240"/>
                        </a:lnTo>
                        <a:lnTo>
                          <a:pt x="1029" y="243"/>
                        </a:lnTo>
                        <a:lnTo>
                          <a:pt x="1027" y="249"/>
                        </a:lnTo>
                        <a:lnTo>
                          <a:pt x="1025" y="253"/>
                        </a:lnTo>
                        <a:lnTo>
                          <a:pt x="1023" y="259"/>
                        </a:lnTo>
                        <a:lnTo>
                          <a:pt x="1022" y="260"/>
                        </a:lnTo>
                        <a:lnTo>
                          <a:pt x="1022" y="264"/>
                        </a:lnTo>
                        <a:lnTo>
                          <a:pt x="1022" y="266"/>
                        </a:lnTo>
                        <a:lnTo>
                          <a:pt x="1022" y="270"/>
                        </a:lnTo>
                        <a:lnTo>
                          <a:pt x="919" y="730"/>
                        </a:lnTo>
                        <a:lnTo>
                          <a:pt x="915" y="728"/>
                        </a:lnTo>
                        <a:lnTo>
                          <a:pt x="913" y="726"/>
                        </a:lnTo>
                        <a:lnTo>
                          <a:pt x="907" y="724"/>
                        </a:lnTo>
                        <a:lnTo>
                          <a:pt x="905" y="720"/>
                        </a:lnTo>
                        <a:lnTo>
                          <a:pt x="904" y="719"/>
                        </a:lnTo>
                        <a:lnTo>
                          <a:pt x="900" y="717"/>
                        </a:lnTo>
                        <a:lnTo>
                          <a:pt x="896" y="713"/>
                        </a:lnTo>
                        <a:lnTo>
                          <a:pt x="892" y="713"/>
                        </a:lnTo>
                        <a:lnTo>
                          <a:pt x="1022" y="129"/>
                        </a:lnTo>
                        <a:lnTo>
                          <a:pt x="1022" y="125"/>
                        </a:lnTo>
                        <a:lnTo>
                          <a:pt x="1022" y="124"/>
                        </a:lnTo>
                        <a:lnTo>
                          <a:pt x="1022" y="120"/>
                        </a:lnTo>
                        <a:lnTo>
                          <a:pt x="1022" y="118"/>
                        </a:lnTo>
                        <a:lnTo>
                          <a:pt x="1022" y="114"/>
                        </a:lnTo>
                        <a:lnTo>
                          <a:pt x="1022" y="112"/>
                        </a:lnTo>
                        <a:lnTo>
                          <a:pt x="1022" y="110"/>
                        </a:lnTo>
                        <a:lnTo>
                          <a:pt x="1022" y="106"/>
                        </a:lnTo>
                        <a:lnTo>
                          <a:pt x="1022" y="105"/>
                        </a:lnTo>
                        <a:lnTo>
                          <a:pt x="1022" y="103"/>
                        </a:lnTo>
                        <a:lnTo>
                          <a:pt x="1022" y="99"/>
                        </a:lnTo>
                        <a:lnTo>
                          <a:pt x="1022" y="97"/>
                        </a:lnTo>
                        <a:lnTo>
                          <a:pt x="1022" y="91"/>
                        </a:lnTo>
                        <a:lnTo>
                          <a:pt x="1022" y="86"/>
                        </a:lnTo>
                        <a:lnTo>
                          <a:pt x="1020" y="82"/>
                        </a:lnTo>
                        <a:lnTo>
                          <a:pt x="1018" y="76"/>
                        </a:lnTo>
                        <a:lnTo>
                          <a:pt x="1016" y="70"/>
                        </a:lnTo>
                        <a:lnTo>
                          <a:pt x="1014" y="67"/>
                        </a:lnTo>
                        <a:lnTo>
                          <a:pt x="1012" y="61"/>
                        </a:lnTo>
                        <a:lnTo>
                          <a:pt x="1010" y="57"/>
                        </a:lnTo>
                        <a:lnTo>
                          <a:pt x="1008" y="53"/>
                        </a:lnTo>
                        <a:lnTo>
                          <a:pt x="1006" y="48"/>
                        </a:lnTo>
                        <a:lnTo>
                          <a:pt x="1004" y="44"/>
                        </a:lnTo>
                        <a:lnTo>
                          <a:pt x="1001" y="40"/>
                        </a:lnTo>
                        <a:lnTo>
                          <a:pt x="997" y="36"/>
                        </a:lnTo>
                        <a:lnTo>
                          <a:pt x="993" y="32"/>
                        </a:lnTo>
                        <a:lnTo>
                          <a:pt x="991" y="29"/>
                        </a:lnTo>
                        <a:lnTo>
                          <a:pt x="985" y="25"/>
                        </a:lnTo>
                        <a:lnTo>
                          <a:pt x="983" y="23"/>
                        </a:lnTo>
                        <a:lnTo>
                          <a:pt x="978" y="19"/>
                        </a:lnTo>
                        <a:lnTo>
                          <a:pt x="972" y="17"/>
                        </a:lnTo>
                        <a:lnTo>
                          <a:pt x="968" y="13"/>
                        </a:lnTo>
                        <a:lnTo>
                          <a:pt x="964" y="11"/>
                        </a:lnTo>
                        <a:lnTo>
                          <a:pt x="961" y="10"/>
                        </a:lnTo>
                        <a:lnTo>
                          <a:pt x="955" y="6"/>
                        </a:lnTo>
                        <a:lnTo>
                          <a:pt x="949" y="6"/>
                        </a:lnTo>
                        <a:lnTo>
                          <a:pt x="944" y="4"/>
                        </a:lnTo>
                        <a:lnTo>
                          <a:pt x="940" y="4"/>
                        </a:lnTo>
                        <a:lnTo>
                          <a:pt x="936" y="2"/>
                        </a:lnTo>
                        <a:lnTo>
                          <a:pt x="934" y="2"/>
                        </a:lnTo>
                        <a:lnTo>
                          <a:pt x="932" y="0"/>
                        </a:lnTo>
                        <a:lnTo>
                          <a:pt x="928" y="0"/>
                        </a:lnTo>
                        <a:lnTo>
                          <a:pt x="926" y="0"/>
                        </a:lnTo>
                        <a:lnTo>
                          <a:pt x="925" y="0"/>
                        </a:lnTo>
                        <a:lnTo>
                          <a:pt x="921" y="0"/>
                        </a:lnTo>
                        <a:lnTo>
                          <a:pt x="919" y="0"/>
                        </a:lnTo>
                        <a:lnTo>
                          <a:pt x="915" y="0"/>
                        </a:lnTo>
                        <a:lnTo>
                          <a:pt x="913" y="0"/>
                        </a:lnTo>
                        <a:lnTo>
                          <a:pt x="911" y="0"/>
                        </a:lnTo>
                        <a:lnTo>
                          <a:pt x="907" y="0"/>
                        </a:lnTo>
                        <a:lnTo>
                          <a:pt x="904" y="0"/>
                        </a:lnTo>
                        <a:lnTo>
                          <a:pt x="898" y="2"/>
                        </a:lnTo>
                        <a:lnTo>
                          <a:pt x="896" y="2"/>
                        </a:lnTo>
                        <a:lnTo>
                          <a:pt x="892" y="2"/>
                        </a:lnTo>
                        <a:lnTo>
                          <a:pt x="890" y="2"/>
                        </a:lnTo>
                        <a:lnTo>
                          <a:pt x="888" y="4"/>
                        </a:lnTo>
                        <a:lnTo>
                          <a:pt x="881" y="4"/>
                        </a:lnTo>
                        <a:lnTo>
                          <a:pt x="877" y="6"/>
                        </a:lnTo>
                        <a:lnTo>
                          <a:pt x="873" y="10"/>
                        </a:lnTo>
                        <a:lnTo>
                          <a:pt x="867" y="11"/>
                        </a:lnTo>
                        <a:lnTo>
                          <a:pt x="864" y="15"/>
                        </a:lnTo>
                        <a:lnTo>
                          <a:pt x="860" y="17"/>
                        </a:lnTo>
                        <a:lnTo>
                          <a:pt x="854" y="19"/>
                        </a:lnTo>
                        <a:lnTo>
                          <a:pt x="850" y="23"/>
                        </a:lnTo>
                        <a:lnTo>
                          <a:pt x="847" y="25"/>
                        </a:lnTo>
                        <a:lnTo>
                          <a:pt x="843" y="29"/>
                        </a:lnTo>
                        <a:lnTo>
                          <a:pt x="839" y="32"/>
                        </a:lnTo>
                        <a:lnTo>
                          <a:pt x="835" y="36"/>
                        </a:lnTo>
                        <a:lnTo>
                          <a:pt x="833" y="40"/>
                        </a:lnTo>
                        <a:lnTo>
                          <a:pt x="831" y="44"/>
                        </a:lnTo>
                        <a:lnTo>
                          <a:pt x="828" y="48"/>
                        </a:lnTo>
                        <a:lnTo>
                          <a:pt x="824" y="53"/>
                        </a:lnTo>
                        <a:lnTo>
                          <a:pt x="822" y="57"/>
                        </a:lnTo>
                        <a:lnTo>
                          <a:pt x="820" y="61"/>
                        </a:lnTo>
                        <a:lnTo>
                          <a:pt x="818" y="67"/>
                        </a:lnTo>
                        <a:lnTo>
                          <a:pt x="816" y="70"/>
                        </a:lnTo>
                        <a:lnTo>
                          <a:pt x="816" y="74"/>
                        </a:lnTo>
                        <a:lnTo>
                          <a:pt x="814" y="76"/>
                        </a:lnTo>
                        <a:lnTo>
                          <a:pt x="812" y="82"/>
                        </a:lnTo>
                        <a:lnTo>
                          <a:pt x="812" y="84"/>
                        </a:lnTo>
                        <a:lnTo>
                          <a:pt x="687" y="663"/>
                        </a:lnTo>
                        <a:lnTo>
                          <a:pt x="681" y="663"/>
                        </a:lnTo>
                        <a:lnTo>
                          <a:pt x="677" y="663"/>
                        </a:lnTo>
                        <a:lnTo>
                          <a:pt x="673" y="663"/>
                        </a:lnTo>
                        <a:lnTo>
                          <a:pt x="670" y="663"/>
                        </a:lnTo>
                        <a:lnTo>
                          <a:pt x="666" y="663"/>
                        </a:lnTo>
                        <a:lnTo>
                          <a:pt x="660" y="665"/>
                        </a:lnTo>
                        <a:lnTo>
                          <a:pt x="656" y="665"/>
                        </a:lnTo>
                        <a:lnTo>
                          <a:pt x="652" y="667"/>
                        </a:lnTo>
                        <a:lnTo>
                          <a:pt x="753" y="213"/>
                        </a:lnTo>
                        <a:lnTo>
                          <a:pt x="753" y="209"/>
                        </a:lnTo>
                        <a:lnTo>
                          <a:pt x="753" y="207"/>
                        </a:lnTo>
                        <a:lnTo>
                          <a:pt x="753" y="203"/>
                        </a:lnTo>
                        <a:lnTo>
                          <a:pt x="753" y="201"/>
                        </a:lnTo>
                        <a:lnTo>
                          <a:pt x="753" y="198"/>
                        </a:lnTo>
                        <a:lnTo>
                          <a:pt x="753" y="196"/>
                        </a:lnTo>
                        <a:lnTo>
                          <a:pt x="753" y="192"/>
                        </a:lnTo>
                        <a:lnTo>
                          <a:pt x="753" y="190"/>
                        </a:lnTo>
                        <a:lnTo>
                          <a:pt x="753" y="188"/>
                        </a:lnTo>
                        <a:lnTo>
                          <a:pt x="753" y="184"/>
                        </a:lnTo>
                        <a:lnTo>
                          <a:pt x="753" y="182"/>
                        </a:lnTo>
                        <a:lnTo>
                          <a:pt x="753" y="181"/>
                        </a:lnTo>
                        <a:lnTo>
                          <a:pt x="753" y="175"/>
                        </a:lnTo>
                        <a:lnTo>
                          <a:pt x="753" y="169"/>
                        </a:lnTo>
                        <a:lnTo>
                          <a:pt x="751" y="167"/>
                        </a:lnTo>
                        <a:lnTo>
                          <a:pt x="751" y="163"/>
                        </a:lnTo>
                        <a:lnTo>
                          <a:pt x="751" y="162"/>
                        </a:lnTo>
                        <a:lnTo>
                          <a:pt x="750" y="160"/>
                        </a:lnTo>
                        <a:lnTo>
                          <a:pt x="748" y="154"/>
                        </a:lnTo>
                        <a:lnTo>
                          <a:pt x="746" y="148"/>
                        </a:lnTo>
                        <a:lnTo>
                          <a:pt x="744" y="144"/>
                        </a:lnTo>
                        <a:lnTo>
                          <a:pt x="742" y="141"/>
                        </a:lnTo>
                        <a:lnTo>
                          <a:pt x="740" y="135"/>
                        </a:lnTo>
                        <a:lnTo>
                          <a:pt x="738" y="131"/>
                        </a:lnTo>
                        <a:lnTo>
                          <a:pt x="734" y="127"/>
                        </a:lnTo>
                        <a:lnTo>
                          <a:pt x="730" y="124"/>
                        </a:lnTo>
                        <a:lnTo>
                          <a:pt x="727" y="120"/>
                        </a:lnTo>
                        <a:lnTo>
                          <a:pt x="725" y="116"/>
                        </a:lnTo>
                        <a:lnTo>
                          <a:pt x="721" y="112"/>
                        </a:lnTo>
                        <a:lnTo>
                          <a:pt x="717" y="108"/>
                        </a:lnTo>
                        <a:lnTo>
                          <a:pt x="713" y="105"/>
                        </a:lnTo>
                        <a:lnTo>
                          <a:pt x="710" y="103"/>
                        </a:lnTo>
                        <a:lnTo>
                          <a:pt x="704" y="99"/>
                        </a:lnTo>
                        <a:lnTo>
                          <a:pt x="700" y="97"/>
                        </a:lnTo>
                        <a:lnTo>
                          <a:pt x="694" y="95"/>
                        </a:lnTo>
                        <a:lnTo>
                          <a:pt x="691" y="91"/>
                        </a:lnTo>
                        <a:lnTo>
                          <a:pt x="685" y="89"/>
                        </a:lnTo>
                        <a:lnTo>
                          <a:pt x="681" y="87"/>
                        </a:lnTo>
                        <a:lnTo>
                          <a:pt x="675" y="86"/>
                        </a:lnTo>
                        <a:lnTo>
                          <a:pt x="672" y="86"/>
                        </a:lnTo>
                        <a:lnTo>
                          <a:pt x="668" y="84"/>
                        </a:lnTo>
                        <a:lnTo>
                          <a:pt x="666" y="84"/>
                        </a:lnTo>
                        <a:lnTo>
                          <a:pt x="664" y="84"/>
                        </a:lnTo>
                        <a:lnTo>
                          <a:pt x="660" y="84"/>
                        </a:lnTo>
                        <a:lnTo>
                          <a:pt x="658" y="84"/>
                        </a:lnTo>
                        <a:lnTo>
                          <a:pt x="654" y="84"/>
                        </a:lnTo>
                        <a:lnTo>
                          <a:pt x="652" y="84"/>
                        </a:lnTo>
                        <a:lnTo>
                          <a:pt x="651" y="84"/>
                        </a:lnTo>
                        <a:lnTo>
                          <a:pt x="647" y="84"/>
                        </a:lnTo>
                        <a:lnTo>
                          <a:pt x="645" y="84"/>
                        </a:lnTo>
                        <a:lnTo>
                          <a:pt x="643" y="84"/>
                        </a:lnTo>
                        <a:lnTo>
                          <a:pt x="639" y="84"/>
                        </a:lnTo>
                        <a:lnTo>
                          <a:pt x="635" y="84"/>
                        </a:lnTo>
                        <a:lnTo>
                          <a:pt x="630" y="84"/>
                        </a:lnTo>
                        <a:lnTo>
                          <a:pt x="628" y="84"/>
                        </a:lnTo>
                        <a:lnTo>
                          <a:pt x="624" y="86"/>
                        </a:lnTo>
                        <a:lnTo>
                          <a:pt x="622" y="86"/>
                        </a:lnTo>
                        <a:lnTo>
                          <a:pt x="618" y="86"/>
                        </a:lnTo>
                        <a:lnTo>
                          <a:pt x="614" y="87"/>
                        </a:lnTo>
                        <a:lnTo>
                          <a:pt x="609" y="89"/>
                        </a:lnTo>
                        <a:lnTo>
                          <a:pt x="603" y="91"/>
                        </a:lnTo>
                        <a:lnTo>
                          <a:pt x="599" y="95"/>
                        </a:lnTo>
                        <a:lnTo>
                          <a:pt x="595" y="97"/>
                        </a:lnTo>
                        <a:lnTo>
                          <a:pt x="592" y="99"/>
                        </a:lnTo>
                        <a:lnTo>
                          <a:pt x="586" y="103"/>
                        </a:lnTo>
                        <a:lnTo>
                          <a:pt x="582" y="105"/>
                        </a:lnTo>
                        <a:lnTo>
                          <a:pt x="578" y="108"/>
                        </a:lnTo>
                        <a:lnTo>
                          <a:pt x="574" y="112"/>
                        </a:lnTo>
                        <a:lnTo>
                          <a:pt x="571" y="116"/>
                        </a:lnTo>
                        <a:lnTo>
                          <a:pt x="567" y="120"/>
                        </a:lnTo>
                        <a:lnTo>
                          <a:pt x="565" y="124"/>
                        </a:lnTo>
                        <a:lnTo>
                          <a:pt x="563" y="127"/>
                        </a:lnTo>
                        <a:lnTo>
                          <a:pt x="559" y="131"/>
                        </a:lnTo>
                        <a:lnTo>
                          <a:pt x="555" y="135"/>
                        </a:lnTo>
                        <a:lnTo>
                          <a:pt x="554" y="141"/>
                        </a:lnTo>
                        <a:lnTo>
                          <a:pt x="552" y="146"/>
                        </a:lnTo>
                        <a:lnTo>
                          <a:pt x="550" y="150"/>
                        </a:lnTo>
                        <a:lnTo>
                          <a:pt x="548" y="156"/>
                        </a:lnTo>
                        <a:lnTo>
                          <a:pt x="546" y="158"/>
                        </a:lnTo>
                        <a:lnTo>
                          <a:pt x="546" y="160"/>
                        </a:lnTo>
                        <a:lnTo>
                          <a:pt x="544" y="163"/>
                        </a:lnTo>
                        <a:lnTo>
                          <a:pt x="544" y="167"/>
                        </a:lnTo>
                        <a:lnTo>
                          <a:pt x="361" y="1127"/>
                        </a:lnTo>
                        <a:lnTo>
                          <a:pt x="361" y="1127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20" name="AutoShape 633"/>
                <p:cNvSpPr/>
                <p:nvPr/>
              </p:nvSpPr>
              <p:spPr>
                <a:xfrm rot="16999200">
                  <a:off x="4494240" y="3103560"/>
                  <a:ext cx="88920" cy="75960"/>
                </a:xfrm>
                <a:prstGeom prst="hexagon">
                  <a:avLst>
                    <a:gd name="adj" fmla="val 29265"/>
                    <a:gd name="vf" fmla="val 115470"/>
                  </a:avLst>
                </a:prstGeom>
                <a:solidFill>
                  <a:srgbClr val="ff000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1" name="AutoShape 634"/>
                <p:cNvSpPr/>
                <p:nvPr/>
              </p:nvSpPr>
              <p:spPr>
                <a:xfrm rot="17030400">
                  <a:off x="4797720" y="3202560"/>
                  <a:ext cx="194040" cy="5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4308" y="21600"/>
                      </a:lnTo>
                      <a:lnTo>
                        <a:pt x="17292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2" name="AutoShape 635"/>
              <p:cNvSpPr/>
              <p:nvPr/>
            </p:nvSpPr>
            <p:spPr>
              <a:xfrm rot="589800">
                <a:off x="4541760" y="2729160"/>
                <a:ext cx="115920" cy="109440"/>
              </a:xfrm>
              <a:custGeom>
                <a:avLst/>
                <a:gdLst/>
                <a:ahLst/>
                <a:rect l="l" t="t" r="r" b="b"/>
                <a:pathLst>
                  <a:path w="73" h="69">
                    <a:moveTo>
                      <a:pt x="0" y="26"/>
                    </a:moveTo>
                    <a:lnTo>
                      <a:pt x="27" y="26"/>
                    </a:lnTo>
                    <a:lnTo>
                      <a:pt x="36" y="0"/>
                    </a:lnTo>
                    <a:lnTo>
                      <a:pt x="45" y="26"/>
                    </a:lnTo>
                    <a:lnTo>
                      <a:pt x="72" y="26"/>
                    </a:lnTo>
                    <a:lnTo>
                      <a:pt x="50" y="42"/>
                    </a:lnTo>
                    <a:lnTo>
                      <a:pt x="59" y="68"/>
                    </a:lnTo>
                    <a:lnTo>
                      <a:pt x="36" y="52"/>
                    </a:lnTo>
                    <a:lnTo>
                      <a:pt x="13" y="68"/>
                    </a:lnTo>
                    <a:lnTo>
                      <a:pt x="22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23" name="Group 636"/>
          <p:cNvGrpSpPr/>
          <p:nvPr/>
        </p:nvGrpSpPr>
        <p:grpSpPr>
          <a:xfrm>
            <a:off x="2652840" y="-14760"/>
            <a:ext cx="4281120" cy="4863960"/>
            <a:chOff x="2652840" y="-14760"/>
            <a:chExt cx="4281120" cy="4863960"/>
          </a:xfrm>
        </p:grpSpPr>
        <p:sp>
          <p:nvSpPr>
            <p:cNvPr id="1924" name="Oval 637"/>
            <p:cNvSpPr/>
            <p:nvPr/>
          </p:nvSpPr>
          <p:spPr>
            <a:xfrm rot="16200000">
              <a:off x="4121640" y="2053800"/>
              <a:ext cx="1326600" cy="426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3137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AutoShape 638"/>
            <p:cNvSpPr/>
            <p:nvPr/>
          </p:nvSpPr>
          <p:spPr>
            <a:xfrm rot="10800000">
              <a:off x="2670120" y="-14760"/>
              <a:ext cx="4263840" cy="4346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702" y="21600"/>
                  </a:lnTo>
                  <a:lnTo>
                    <a:pt x="1289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aeaea">
                    <a:alpha val="71372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6" name="Text Box 639"/>
          <p:cNvSpPr/>
          <p:nvPr/>
        </p:nvSpPr>
        <p:spPr>
          <a:xfrm>
            <a:off x="1143000" y="556272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我会做饭，不过做的不怎么好吃。希望等你到来的那天，我已经做的不错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7" name=""/>
          <p:cNvGrpSpPr/>
          <p:nvPr/>
        </p:nvGrpSpPr>
        <p:grpSpPr>
          <a:xfrm>
            <a:off x="-1447920" y="5486400"/>
            <a:ext cx="304920" cy="609480"/>
            <a:chOff x="-1447920" y="5486400"/>
            <a:chExt cx="304920" cy="609480"/>
          </a:xfrm>
        </p:grpSpPr>
        <p:sp>
          <p:nvSpPr>
            <p:cNvPr id="1928" name="Line 640"/>
            <p:cNvSpPr/>
            <p:nvPr/>
          </p:nvSpPr>
          <p:spPr>
            <a:xfrm>
              <a:off x="-1447920" y="5486400"/>
              <a:ext cx="304920" cy="609480"/>
            </a:xfrm>
            <a:prstGeom prst="line">
              <a:avLst/>
            </a:prstGeom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 txBox="1"/>
            <p:nvPr/>
          </p:nvSpPr>
          <p:spPr>
            <a:xfrm>
              <a:off x="-1447920" y="5486400"/>
              <a:ext cx="30492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 thruBlk="true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259" dur="2000" fill="hold"/>
                                        <p:tgtEl>
                                          <p:spTgt spid="18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2" dur="10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AutoShape 987"/>
          <p:cNvSpPr/>
          <p:nvPr/>
        </p:nvSpPr>
        <p:spPr>
          <a:xfrm flipH="1" rot="10800000">
            <a:off x="6234120" y="3919680"/>
            <a:ext cx="30240" cy="349200"/>
          </a:xfrm>
          <a:custGeom>
            <a:avLst/>
            <a:gdLst>
              <a:gd name="textAreaLeft" fmla="*/ 360 w 30240"/>
              <a:gd name="textAreaRight" fmla="*/ 21600 w 30240"/>
              <a:gd name="textAreaTop" fmla="*/ 14400 h 349200"/>
              <a:gd name="textAreaBottom" fmla="*/ 33480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1" name="Group 988"/>
          <p:cNvGrpSpPr/>
          <p:nvPr/>
        </p:nvGrpSpPr>
        <p:grpSpPr>
          <a:xfrm>
            <a:off x="5930280" y="3751920"/>
            <a:ext cx="510480" cy="433800"/>
            <a:chOff x="5930280" y="3751920"/>
            <a:chExt cx="510480" cy="433800"/>
          </a:xfrm>
        </p:grpSpPr>
        <p:sp>
          <p:nvSpPr>
            <p:cNvPr id="1932" name="AutoShape 989"/>
            <p:cNvSpPr/>
            <p:nvPr/>
          </p:nvSpPr>
          <p:spPr>
            <a:xfrm flipH="1" rot="7450800">
              <a:off x="6252120" y="3930480"/>
              <a:ext cx="94680" cy="276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0494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AutoShape 990"/>
            <p:cNvSpPr/>
            <p:nvPr/>
          </p:nvSpPr>
          <p:spPr>
            <a:xfrm flipH="1" rot="7450800">
              <a:off x="6023520" y="3730320"/>
              <a:ext cx="94680" cy="276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4" name="Group 991"/>
          <p:cNvGrpSpPr/>
          <p:nvPr/>
        </p:nvGrpSpPr>
        <p:grpSpPr>
          <a:xfrm>
            <a:off x="5514120" y="3838320"/>
            <a:ext cx="277560" cy="601200"/>
            <a:chOff x="5514120" y="3838320"/>
            <a:chExt cx="277560" cy="601200"/>
          </a:xfrm>
        </p:grpSpPr>
        <p:grpSp>
          <p:nvGrpSpPr>
            <p:cNvPr id="1935" name="Group 992"/>
            <p:cNvGrpSpPr/>
            <p:nvPr/>
          </p:nvGrpSpPr>
          <p:grpSpPr>
            <a:xfrm>
              <a:off x="5613480" y="4122000"/>
              <a:ext cx="178200" cy="317520"/>
              <a:chOff x="5613480" y="4122000"/>
              <a:chExt cx="178200" cy="317520"/>
            </a:xfrm>
          </p:grpSpPr>
          <p:sp>
            <p:nvSpPr>
              <p:cNvPr id="1936" name="AutoShape 993"/>
              <p:cNvSpPr/>
              <p:nvPr/>
            </p:nvSpPr>
            <p:spPr>
              <a:xfrm flipH="1" rot="10029600">
                <a:off x="5644080" y="4131360"/>
                <a:ext cx="116280" cy="2908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6200000"/>
              </a:gra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AutoShape 994"/>
              <p:cNvSpPr/>
              <p:nvPr/>
            </p:nvSpPr>
            <p:spPr>
              <a:xfrm flipH="1" rot="15429600">
                <a:off x="5667840" y="4364640"/>
                <a:ext cx="43560" cy="87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89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8" name="Group 995"/>
            <p:cNvGrpSpPr/>
            <p:nvPr/>
          </p:nvGrpSpPr>
          <p:grpSpPr>
            <a:xfrm>
              <a:off x="5514120" y="3838320"/>
              <a:ext cx="208440" cy="324720"/>
              <a:chOff x="5514120" y="3838320"/>
              <a:chExt cx="208440" cy="324720"/>
            </a:xfrm>
          </p:grpSpPr>
          <p:sp>
            <p:nvSpPr>
              <p:cNvPr id="1939" name="AutoShape 996"/>
              <p:cNvSpPr/>
              <p:nvPr/>
            </p:nvSpPr>
            <p:spPr>
              <a:xfrm flipH="1" rot="20402400">
                <a:off x="5559480" y="3860280"/>
                <a:ext cx="116280" cy="291240"/>
              </a:xfrm>
              <a:prstGeom prst="triangle">
                <a:avLst>
                  <a:gd name="adj" fmla="val 50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AutoShape 997"/>
              <p:cNvSpPr/>
              <p:nvPr/>
            </p:nvSpPr>
            <p:spPr>
              <a:xfrm flipH="1" rot="4201800">
                <a:off x="5592960" y="3829680"/>
                <a:ext cx="43560" cy="87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41" name="Group 998"/>
          <p:cNvGrpSpPr/>
          <p:nvPr/>
        </p:nvGrpSpPr>
        <p:grpSpPr>
          <a:xfrm>
            <a:off x="5958000" y="3850560"/>
            <a:ext cx="259560" cy="584280"/>
            <a:chOff x="5958000" y="3850560"/>
            <a:chExt cx="259560" cy="584280"/>
          </a:xfrm>
        </p:grpSpPr>
        <p:grpSp>
          <p:nvGrpSpPr>
            <p:cNvPr id="1942" name="Group 999"/>
            <p:cNvGrpSpPr/>
            <p:nvPr/>
          </p:nvGrpSpPr>
          <p:grpSpPr>
            <a:xfrm>
              <a:off x="5958000" y="4125960"/>
              <a:ext cx="205200" cy="308880"/>
              <a:chOff x="5958000" y="4125960"/>
              <a:chExt cx="205200" cy="308880"/>
            </a:xfrm>
          </p:grpSpPr>
          <p:sp>
            <p:nvSpPr>
              <p:cNvPr id="1943" name="AutoShape 1000"/>
              <p:cNvSpPr/>
              <p:nvPr/>
            </p:nvSpPr>
            <p:spPr>
              <a:xfrm flipH="1" rot="11587800">
                <a:off x="6016320" y="4135320"/>
                <a:ext cx="115200" cy="2901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6200000"/>
              </a:gra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AutoShape 1001"/>
              <p:cNvSpPr/>
              <p:nvPr/>
            </p:nvSpPr>
            <p:spPr>
              <a:xfrm flipH="1" rot="16987800">
                <a:off x="5982840" y="4349520"/>
                <a:ext cx="43560" cy="8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89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5" name="Group 1002"/>
            <p:cNvGrpSpPr/>
            <p:nvPr/>
          </p:nvGrpSpPr>
          <p:grpSpPr>
            <a:xfrm>
              <a:off x="6045120" y="3850560"/>
              <a:ext cx="172440" cy="300600"/>
              <a:chOff x="6045120" y="3850560"/>
              <a:chExt cx="172440" cy="300600"/>
            </a:xfrm>
          </p:grpSpPr>
          <p:sp>
            <p:nvSpPr>
              <p:cNvPr id="1946" name="AutoShape 1003"/>
              <p:cNvSpPr/>
              <p:nvPr/>
            </p:nvSpPr>
            <p:spPr>
              <a:xfrm flipH="1" rot="360000">
                <a:off x="6059880" y="3855600"/>
                <a:ext cx="115200" cy="290160"/>
              </a:xfrm>
              <a:prstGeom prst="triangle">
                <a:avLst>
                  <a:gd name="adj" fmla="val 50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AutoShape 1004"/>
              <p:cNvSpPr/>
              <p:nvPr/>
            </p:nvSpPr>
            <p:spPr>
              <a:xfrm flipH="1" rot="5760000">
                <a:off x="6150240" y="3837600"/>
                <a:ext cx="43560" cy="8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48" name="Group 1005"/>
          <p:cNvGrpSpPr/>
          <p:nvPr/>
        </p:nvGrpSpPr>
        <p:grpSpPr>
          <a:xfrm>
            <a:off x="5486040" y="3886200"/>
            <a:ext cx="757080" cy="399960"/>
            <a:chOff x="5486040" y="3886200"/>
            <a:chExt cx="757080" cy="399960"/>
          </a:xfrm>
        </p:grpSpPr>
        <p:sp>
          <p:nvSpPr>
            <p:cNvPr id="1949" name="AutoShape 1006"/>
            <p:cNvSpPr/>
            <p:nvPr/>
          </p:nvSpPr>
          <p:spPr>
            <a:xfrm flipH="1">
              <a:off x="5486040" y="3909600"/>
              <a:ext cx="727920" cy="376560"/>
            </a:xfrm>
            <a:prstGeom prst="roundRect">
              <a:avLst>
                <a:gd name="adj" fmla="val 22116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Oval 1007"/>
            <p:cNvSpPr/>
            <p:nvPr/>
          </p:nvSpPr>
          <p:spPr>
            <a:xfrm flipH="1">
              <a:off x="5747760" y="3886200"/>
              <a:ext cx="495000" cy="115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1" name="Group 1008"/>
          <p:cNvGrpSpPr/>
          <p:nvPr/>
        </p:nvGrpSpPr>
        <p:grpSpPr>
          <a:xfrm>
            <a:off x="5512680" y="3881880"/>
            <a:ext cx="286920" cy="584640"/>
            <a:chOff x="5512680" y="3881880"/>
            <a:chExt cx="286920" cy="584640"/>
          </a:xfrm>
        </p:grpSpPr>
        <p:grpSp>
          <p:nvGrpSpPr>
            <p:cNvPr id="1952" name="Group 1009"/>
            <p:cNvGrpSpPr/>
            <p:nvPr/>
          </p:nvGrpSpPr>
          <p:grpSpPr>
            <a:xfrm>
              <a:off x="5512680" y="3881880"/>
              <a:ext cx="286920" cy="584640"/>
              <a:chOff x="5512680" y="3881880"/>
              <a:chExt cx="286920" cy="584640"/>
            </a:xfrm>
          </p:grpSpPr>
          <p:grpSp>
            <p:nvGrpSpPr>
              <p:cNvPr id="1953" name="Group 1010"/>
              <p:cNvGrpSpPr/>
              <p:nvPr/>
            </p:nvGrpSpPr>
            <p:grpSpPr>
              <a:xfrm>
                <a:off x="5512680" y="4155840"/>
                <a:ext cx="217800" cy="310680"/>
                <a:chOff x="5512680" y="4155840"/>
                <a:chExt cx="217800" cy="310680"/>
              </a:xfrm>
            </p:grpSpPr>
            <p:sp>
              <p:nvSpPr>
                <p:cNvPr id="1954" name="AutoShape 1011"/>
                <p:cNvSpPr/>
                <p:nvPr/>
              </p:nvSpPr>
              <p:spPr>
                <a:xfrm flipH="1" rot="11762400">
                  <a:off x="5576400" y="4166280"/>
                  <a:ext cx="116280" cy="2898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10800000"/>
                </a:gra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5" name="AutoShape 1012"/>
                <p:cNvSpPr/>
                <p:nvPr/>
              </p:nvSpPr>
              <p:spPr>
                <a:xfrm flipH="1" rot="17162400">
                  <a:off x="5538240" y="4376160"/>
                  <a:ext cx="43560" cy="86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20250" y="3391"/>
                        <a:pt x="18900" y="5080"/>
                        <a:pt x="18900" y="10800"/>
                      </a:cubicBezTo>
                      <a:cubicBezTo>
                        <a:pt x="18900" y="16520"/>
                        <a:pt x="20250" y="1820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189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6" name="Group 1013"/>
              <p:cNvGrpSpPr/>
              <p:nvPr/>
            </p:nvGrpSpPr>
            <p:grpSpPr>
              <a:xfrm>
                <a:off x="5612400" y="3881880"/>
                <a:ext cx="187200" cy="304560"/>
                <a:chOff x="5612400" y="3881880"/>
                <a:chExt cx="187200" cy="304560"/>
              </a:xfrm>
            </p:grpSpPr>
            <p:sp>
              <p:nvSpPr>
                <p:cNvPr id="1957" name="AutoShape 1014"/>
                <p:cNvSpPr/>
                <p:nvPr/>
              </p:nvSpPr>
              <p:spPr>
                <a:xfrm flipH="1" rot="534600">
                  <a:off x="5634000" y="3889080"/>
                  <a:ext cx="116280" cy="290160"/>
                </a:xfrm>
                <a:prstGeom prst="triangle">
                  <a:avLst>
                    <a:gd name="adj" fmla="val 5000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8" name="AutoShape 1015"/>
                <p:cNvSpPr/>
                <p:nvPr/>
              </p:nvSpPr>
              <p:spPr>
                <a:xfrm flipH="1" rot="5934600">
                  <a:off x="5731200" y="3873240"/>
                  <a:ext cx="43560" cy="87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20250" y="3391"/>
                        <a:pt x="18900" y="5080"/>
                        <a:pt x="18900" y="10800"/>
                      </a:cubicBezTo>
                      <a:cubicBezTo>
                        <a:pt x="18900" y="16520"/>
                        <a:pt x="20250" y="1820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59" name="AutoShape 1016"/>
            <p:cNvSpPr/>
            <p:nvPr/>
          </p:nvSpPr>
          <p:spPr>
            <a:xfrm flipH="1" rot="17613600">
              <a:off x="5608440" y="4102200"/>
              <a:ext cx="151200" cy="150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934" y="2201"/>
                    <a:pt x="12267" y="5080"/>
                    <a:pt x="12267" y="10800"/>
                  </a:cubicBezTo>
                  <a:cubicBezTo>
                    <a:pt x="12267" y="16520"/>
                    <a:pt x="16934" y="1939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20748000"/>
            </a:gra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0" name="Group 1017"/>
          <p:cNvGrpSpPr/>
          <p:nvPr/>
        </p:nvGrpSpPr>
        <p:grpSpPr>
          <a:xfrm>
            <a:off x="5915520" y="3851640"/>
            <a:ext cx="322200" cy="598680"/>
            <a:chOff x="5915520" y="3851640"/>
            <a:chExt cx="322200" cy="598680"/>
          </a:xfrm>
        </p:grpSpPr>
        <p:grpSp>
          <p:nvGrpSpPr>
            <p:cNvPr id="1961" name="Group 1018"/>
            <p:cNvGrpSpPr/>
            <p:nvPr/>
          </p:nvGrpSpPr>
          <p:grpSpPr>
            <a:xfrm>
              <a:off x="5915520" y="3851640"/>
              <a:ext cx="322200" cy="598680"/>
              <a:chOff x="5915520" y="3851640"/>
              <a:chExt cx="322200" cy="598680"/>
            </a:xfrm>
          </p:grpSpPr>
          <p:grpSp>
            <p:nvGrpSpPr>
              <p:cNvPr id="1962" name="Group 1019"/>
              <p:cNvGrpSpPr/>
              <p:nvPr/>
            </p:nvGrpSpPr>
            <p:grpSpPr>
              <a:xfrm>
                <a:off x="6037920" y="4127760"/>
                <a:ext cx="199800" cy="322560"/>
                <a:chOff x="6037920" y="4127760"/>
                <a:chExt cx="199800" cy="322560"/>
              </a:xfrm>
            </p:grpSpPr>
            <p:sp>
              <p:nvSpPr>
                <p:cNvPr id="1963" name="AutoShape 1020"/>
                <p:cNvSpPr/>
                <p:nvPr/>
              </p:nvSpPr>
              <p:spPr>
                <a:xfrm flipH="1" rot="9732000">
                  <a:off x="6079320" y="4138200"/>
                  <a:ext cx="116640" cy="29124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10800000"/>
                </a:gra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4" name="AutoShape 1021"/>
                <p:cNvSpPr/>
                <p:nvPr/>
              </p:nvSpPr>
              <p:spPr>
                <a:xfrm flipH="1" rot="15132000">
                  <a:off x="6113520" y="4372200"/>
                  <a:ext cx="43560" cy="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20250" y="3391"/>
                        <a:pt x="18900" y="5080"/>
                        <a:pt x="18900" y="10800"/>
                      </a:cubicBezTo>
                      <a:cubicBezTo>
                        <a:pt x="18900" y="16520"/>
                        <a:pt x="20250" y="1820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189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5" name="Group 1022"/>
              <p:cNvGrpSpPr/>
              <p:nvPr/>
            </p:nvGrpSpPr>
            <p:grpSpPr>
              <a:xfrm>
                <a:off x="5915520" y="3851640"/>
                <a:ext cx="228600" cy="326520"/>
                <a:chOff x="5915520" y="3851640"/>
                <a:chExt cx="228600" cy="326520"/>
              </a:xfrm>
            </p:grpSpPr>
            <p:sp>
              <p:nvSpPr>
                <p:cNvPr id="1966" name="AutoShape 1023"/>
                <p:cNvSpPr/>
                <p:nvPr/>
              </p:nvSpPr>
              <p:spPr>
                <a:xfrm flipH="1" rot="20104200">
                  <a:off x="5970600" y="3875760"/>
                  <a:ext cx="117000" cy="290880"/>
                </a:xfrm>
                <a:prstGeom prst="triangle">
                  <a:avLst>
                    <a:gd name="adj" fmla="val 5000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7" name="AutoShape 1024"/>
                <p:cNvSpPr/>
                <p:nvPr/>
              </p:nvSpPr>
              <p:spPr>
                <a:xfrm flipH="1" rot="3904200">
                  <a:off x="5993640" y="3845880"/>
                  <a:ext cx="43560" cy="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20250" y="3391"/>
                        <a:pt x="18900" y="5080"/>
                        <a:pt x="18900" y="10800"/>
                      </a:cubicBezTo>
                      <a:cubicBezTo>
                        <a:pt x="18900" y="16520"/>
                        <a:pt x="20250" y="1820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68" name="AutoShape 1025"/>
            <p:cNvSpPr/>
            <p:nvPr/>
          </p:nvSpPr>
          <p:spPr>
            <a:xfrm flipH="1" rot="15031200">
              <a:off x="6011640" y="4062240"/>
              <a:ext cx="151560" cy="151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934" y="2201"/>
                    <a:pt x="12267" y="5080"/>
                    <a:pt x="12267" y="10800"/>
                  </a:cubicBezTo>
                  <a:cubicBezTo>
                    <a:pt x="12267" y="16520"/>
                    <a:pt x="16934" y="1939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20196000"/>
            </a:gra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9" name="Group 1193"/>
          <p:cNvGrpSpPr/>
          <p:nvPr/>
        </p:nvGrpSpPr>
        <p:grpSpPr>
          <a:xfrm>
            <a:off x="4953240" y="3183480"/>
            <a:ext cx="1215000" cy="1405440"/>
            <a:chOff x="4953240" y="3183480"/>
            <a:chExt cx="1215000" cy="1405440"/>
          </a:xfrm>
        </p:grpSpPr>
        <p:grpSp>
          <p:nvGrpSpPr>
            <p:cNvPr id="1970" name="Group 1179"/>
            <p:cNvGrpSpPr/>
            <p:nvPr/>
          </p:nvGrpSpPr>
          <p:grpSpPr>
            <a:xfrm>
              <a:off x="4953240" y="3183480"/>
              <a:ext cx="682560" cy="1001880"/>
              <a:chOff x="4953240" y="3183480"/>
              <a:chExt cx="682560" cy="1001880"/>
            </a:xfrm>
          </p:grpSpPr>
          <p:grpSp>
            <p:nvGrpSpPr>
              <p:cNvPr id="1971" name="Group 1026"/>
              <p:cNvGrpSpPr/>
              <p:nvPr/>
            </p:nvGrpSpPr>
            <p:grpSpPr>
              <a:xfrm>
                <a:off x="4953240" y="3468600"/>
                <a:ext cx="682560" cy="716760"/>
                <a:chOff x="4953240" y="3468600"/>
                <a:chExt cx="682560" cy="716760"/>
              </a:xfrm>
            </p:grpSpPr>
            <p:grpSp>
              <p:nvGrpSpPr>
                <p:cNvPr id="1972" name="Group 1027"/>
                <p:cNvGrpSpPr/>
                <p:nvPr/>
              </p:nvGrpSpPr>
              <p:grpSpPr>
                <a:xfrm>
                  <a:off x="4953240" y="3558240"/>
                  <a:ext cx="682560" cy="627120"/>
                  <a:chOff x="4953240" y="3558240"/>
                  <a:chExt cx="682560" cy="627120"/>
                </a:xfrm>
              </p:grpSpPr>
              <p:sp>
                <p:nvSpPr>
                  <p:cNvPr id="1973" name="AutoShape 1028"/>
                  <p:cNvSpPr/>
                  <p:nvPr/>
                </p:nvSpPr>
                <p:spPr>
                  <a:xfrm flipH="1" rot="3577200">
                    <a:off x="5093280" y="3624480"/>
                    <a:ext cx="437400" cy="49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3363" y="21600"/>
                        </a:lnTo>
                        <a:lnTo>
                          <a:pt x="18237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50000">
                        <a:srgbClr val="ffffff"/>
                      </a:gs>
                      <a:gs pos="100000">
                        <a:srgbClr val="c0c0c0"/>
                      </a:gs>
                    </a:gsLst>
                    <a:lin ang="3576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74" name="Group 1029"/>
                  <p:cNvGrpSpPr/>
                  <p:nvPr/>
                </p:nvGrpSpPr>
                <p:grpSpPr>
                  <a:xfrm>
                    <a:off x="4953240" y="3769920"/>
                    <a:ext cx="115920" cy="116640"/>
                    <a:chOff x="4953240" y="3769920"/>
                    <a:chExt cx="115920" cy="116640"/>
                  </a:xfrm>
                </p:grpSpPr>
                <p:sp>
                  <p:nvSpPr>
                    <p:cNvPr id="1975" name="Oval 1030"/>
                    <p:cNvSpPr/>
                    <p:nvPr/>
                  </p:nvSpPr>
                  <p:spPr>
                    <a:xfrm flipH="1">
                      <a:off x="4953240" y="3769920"/>
                      <a:ext cx="115920" cy="11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6" name="Oval 1031"/>
                    <p:cNvSpPr/>
                    <p:nvPr/>
                  </p:nvSpPr>
                  <p:spPr>
                    <a:xfrm flipH="1">
                      <a:off x="4982400" y="3799080"/>
                      <a:ext cx="28800" cy="28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920" bIns="-25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77" name=""/>
                  <p:cNvGrpSpPr/>
                  <p:nvPr/>
                </p:nvGrpSpPr>
                <p:grpSpPr>
                  <a:xfrm>
                    <a:off x="5119920" y="3974040"/>
                    <a:ext cx="174240" cy="28800"/>
                    <a:chOff x="5119920" y="3974040"/>
                    <a:chExt cx="174240" cy="28800"/>
                  </a:xfrm>
                </p:grpSpPr>
                <p:sp>
                  <p:nvSpPr>
                    <p:cNvPr id="1978" name="Line 1032"/>
                    <p:cNvSpPr/>
                    <p:nvPr/>
                  </p:nvSpPr>
                  <p:spPr>
                    <a:xfrm flipV="1">
                      <a:off x="5119920" y="3974040"/>
                      <a:ext cx="174240" cy="28800"/>
                    </a:xfrm>
                    <a:prstGeom prst="line">
                      <a:avLst/>
                    </a:prstGeom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9" name=""/>
                    <p:cNvSpPr txBox="1"/>
                    <p:nvPr/>
                  </p:nvSpPr>
                  <p:spPr>
                    <a:xfrm rot="10800000">
                      <a:off x="5119920" y="3974040"/>
                      <a:ext cx="174240" cy="28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8000" bIns="-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80" name="Oval 1033"/>
                  <p:cNvSpPr/>
                  <p:nvPr/>
                </p:nvSpPr>
                <p:spPr>
                  <a:xfrm flipH="1" rot="19644600">
                    <a:off x="4980240" y="3700440"/>
                    <a:ext cx="493560" cy="87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>
                          <a:alpha val="70196"/>
                        </a:srgbClr>
                      </a:gs>
                      <a:gs pos="100000">
                        <a:srgbClr val="767676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1" name="Oval 1034"/>
                <p:cNvSpPr/>
                <p:nvPr/>
              </p:nvSpPr>
              <p:spPr>
                <a:xfrm flipH="1">
                  <a:off x="5213880" y="3468600"/>
                  <a:ext cx="318240" cy="8748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2" name="Group 1035"/>
              <p:cNvGrpSpPr/>
              <p:nvPr/>
            </p:nvGrpSpPr>
            <p:grpSpPr>
              <a:xfrm>
                <a:off x="5174280" y="3183480"/>
                <a:ext cx="429480" cy="821520"/>
                <a:chOff x="5174280" y="3183480"/>
                <a:chExt cx="429480" cy="821520"/>
              </a:xfrm>
            </p:grpSpPr>
            <p:sp>
              <p:nvSpPr>
                <p:cNvPr id="1983" name="AutoShape 1036"/>
                <p:cNvSpPr/>
                <p:nvPr/>
              </p:nvSpPr>
              <p:spPr>
                <a:xfrm flipH="1" rot="9015600">
                  <a:off x="5331600" y="3600360"/>
                  <a:ext cx="189000" cy="382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20250" y="3391"/>
                        <a:pt x="18900" y="5080"/>
                        <a:pt x="18900" y="10800"/>
                      </a:cubicBezTo>
                      <a:cubicBezTo>
                        <a:pt x="18900" y="16520"/>
                        <a:pt x="20250" y="1820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ffffff"/>
                    </a:gs>
                  </a:gsLst>
                  <a:lin ang="14772000"/>
                </a:gradFill>
                <a:ln w="9360">
                  <a:solidFill>
                    <a:srgbClr val="f8f8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4" name="AutoShape 1037"/>
                <p:cNvSpPr/>
                <p:nvPr/>
              </p:nvSpPr>
              <p:spPr>
                <a:xfrm flipH="1" rot="19482000">
                  <a:off x="5267160" y="3202560"/>
                  <a:ext cx="188640" cy="382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20250" y="3391"/>
                        <a:pt x="18900" y="5080"/>
                        <a:pt x="18900" y="10800"/>
                      </a:cubicBezTo>
                      <a:cubicBezTo>
                        <a:pt x="18900" y="16520"/>
                        <a:pt x="20250" y="1820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85" name="Group 1180"/>
            <p:cNvGrpSpPr/>
            <p:nvPr/>
          </p:nvGrpSpPr>
          <p:grpSpPr>
            <a:xfrm>
              <a:off x="5486040" y="3587400"/>
              <a:ext cx="682200" cy="1001520"/>
              <a:chOff x="5486040" y="3587400"/>
              <a:chExt cx="682200" cy="1001520"/>
            </a:xfrm>
          </p:grpSpPr>
          <p:grpSp>
            <p:nvGrpSpPr>
              <p:cNvPr id="1986" name="Group 1181"/>
              <p:cNvGrpSpPr/>
              <p:nvPr/>
            </p:nvGrpSpPr>
            <p:grpSpPr>
              <a:xfrm>
                <a:off x="5486040" y="3587400"/>
                <a:ext cx="682200" cy="716400"/>
                <a:chOff x="5486040" y="3587400"/>
                <a:chExt cx="682200" cy="716400"/>
              </a:xfrm>
            </p:grpSpPr>
            <p:grpSp>
              <p:nvGrpSpPr>
                <p:cNvPr id="1987" name="Group 1182"/>
                <p:cNvGrpSpPr/>
                <p:nvPr/>
              </p:nvGrpSpPr>
              <p:grpSpPr>
                <a:xfrm>
                  <a:off x="5486040" y="3587400"/>
                  <a:ext cx="682200" cy="626760"/>
                  <a:chOff x="5486040" y="3587400"/>
                  <a:chExt cx="682200" cy="626760"/>
                </a:xfrm>
              </p:grpSpPr>
              <p:sp>
                <p:nvSpPr>
                  <p:cNvPr id="1988" name="AutoShape 1183"/>
                  <p:cNvSpPr/>
                  <p:nvPr/>
                </p:nvSpPr>
                <p:spPr>
                  <a:xfrm flipV="1" rot="3577200">
                    <a:off x="5590800" y="3653280"/>
                    <a:ext cx="437400" cy="49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3363" y="21600"/>
                        </a:lnTo>
                        <a:lnTo>
                          <a:pt x="18237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89" name="Group 1184"/>
                  <p:cNvGrpSpPr/>
                  <p:nvPr/>
                </p:nvGrpSpPr>
                <p:grpSpPr>
                  <a:xfrm>
                    <a:off x="6052320" y="3885840"/>
                    <a:ext cx="115920" cy="116640"/>
                    <a:chOff x="6052320" y="3885840"/>
                    <a:chExt cx="115920" cy="116640"/>
                  </a:xfrm>
                </p:grpSpPr>
                <p:sp>
                  <p:nvSpPr>
                    <p:cNvPr id="1990" name="Oval 1185"/>
                    <p:cNvSpPr/>
                    <p:nvPr/>
                  </p:nvSpPr>
                  <p:spPr>
                    <a:xfrm flipV="1">
                      <a:off x="6052320" y="3885840"/>
                      <a:ext cx="115920" cy="11664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1" name="Oval 1186"/>
                    <p:cNvSpPr/>
                    <p:nvPr/>
                  </p:nvSpPr>
                  <p:spPr>
                    <a:xfrm flipV="1">
                      <a:off x="6110280" y="3944520"/>
                      <a:ext cx="28800" cy="2880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920" bIns="-25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92" name=""/>
                  <p:cNvGrpSpPr/>
                  <p:nvPr/>
                </p:nvGrpSpPr>
                <p:grpSpPr>
                  <a:xfrm>
                    <a:off x="5827320" y="3769560"/>
                    <a:ext cx="173880" cy="28800"/>
                    <a:chOff x="5827320" y="3769560"/>
                    <a:chExt cx="173880" cy="28800"/>
                  </a:xfrm>
                </p:grpSpPr>
                <p:sp>
                  <p:nvSpPr>
                    <p:cNvPr id="1993" name="Line 1187"/>
                    <p:cNvSpPr/>
                    <p:nvPr/>
                  </p:nvSpPr>
                  <p:spPr>
                    <a:xfrm flipH="1">
                      <a:off x="5827320" y="3769560"/>
                      <a:ext cx="173880" cy="288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4" name=""/>
                    <p:cNvSpPr txBox="1"/>
                    <p:nvPr/>
                  </p:nvSpPr>
                  <p:spPr>
                    <a:xfrm>
                      <a:off x="5827320" y="3769560"/>
                      <a:ext cx="173880" cy="28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8000" bIns="-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95" name="Oval 1188"/>
                  <p:cNvSpPr/>
                  <p:nvPr/>
                </p:nvSpPr>
                <p:spPr>
                  <a:xfrm flipV="1" rot="19644600">
                    <a:off x="5647320" y="3983760"/>
                    <a:ext cx="493200" cy="8748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6" name="Oval 1189"/>
                <p:cNvSpPr/>
                <p:nvPr/>
              </p:nvSpPr>
              <p:spPr>
                <a:xfrm flipV="1">
                  <a:off x="5589720" y="4215960"/>
                  <a:ext cx="318240" cy="87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7" name="Group 1190"/>
              <p:cNvGrpSpPr/>
              <p:nvPr/>
            </p:nvGrpSpPr>
            <p:grpSpPr>
              <a:xfrm>
                <a:off x="5518800" y="3767400"/>
                <a:ext cx="429120" cy="821520"/>
                <a:chOff x="5518800" y="3767400"/>
                <a:chExt cx="429120" cy="821520"/>
              </a:xfrm>
            </p:grpSpPr>
            <p:sp>
              <p:nvSpPr>
                <p:cNvPr id="1998" name="AutoShape 1191"/>
                <p:cNvSpPr/>
                <p:nvPr/>
              </p:nvSpPr>
              <p:spPr>
                <a:xfrm flipV="1" rot="9015600">
                  <a:off x="5601240" y="3788640"/>
                  <a:ext cx="188640" cy="382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20250" y="3391"/>
                        <a:pt x="18900" y="5080"/>
                        <a:pt x="18900" y="10800"/>
                      </a:cubicBezTo>
                      <a:cubicBezTo>
                        <a:pt x="18900" y="16520"/>
                        <a:pt x="20250" y="1820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9" name="AutoShape 1192"/>
                <p:cNvSpPr/>
                <p:nvPr/>
              </p:nvSpPr>
              <p:spPr>
                <a:xfrm flipV="1" rot="19482000">
                  <a:off x="5665680" y="4186080"/>
                  <a:ext cx="188640" cy="382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20250" y="3391"/>
                        <a:pt x="18900" y="5080"/>
                        <a:pt x="18900" y="10800"/>
                      </a:cubicBezTo>
                      <a:cubicBezTo>
                        <a:pt x="18900" y="16520"/>
                        <a:pt x="20250" y="1820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00" name="Group 1194"/>
          <p:cNvGrpSpPr/>
          <p:nvPr/>
        </p:nvGrpSpPr>
        <p:grpSpPr>
          <a:xfrm>
            <a:off x="4281480" y="3989160"/>
            <a:ext cx="439920" cy="515520"/>
            <a:chOff x="4281480" y="3989160"/>
            <a:chExt cx="439920" cy="515520"/>
          </a:xfrm>
        </p:grpSpPr>
        <p:sp>
          <p:nvSpPr>
            <p:cNvPr id="2001" name="AutoShape 1195"/>
            <p:cNvSpPr/>
            <p:nvPr/>
          </p:nvSpPr>
          <p:spPr>
            <a:xfrm rot="10800000">
              <a:off x="4288320" y="3989160"/>
              <a:ext cx="244080" cy="391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700" y="21600"/>
                  </a:lnTo>
                  <a:lnTo>
                    <a:pt x="189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08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2" name="Group 1196"/>
            <p:cNvGrpSpPr/>
            <p:nvPr/>
          </p:nvGrpSpPr>
          <p:grpSpPr>
            <a:xfrm>
              <a:off x="4281480" y="4284000"/>
              <a:ext cx="439920" cy="220680"/>
              <a:chOff x="4281480" y="4284000"/>
              <a:chExt cx="439920" cy="220680"/>
            </a:xfrm>
          </p:grpSpPr>
          <p:grpSp>
            <p:nvGrpSpPr>
              <p:cNvPr id="2003" name="Group 1197"/>
              <p:cNvGrpSpPr/>
              <p:nvPr/>
            </p:nvGrpSpPr>
            <p:grpSpPr>
              <a:xfrm>
                <a:off x="4281480" y="4379400"/>
                <a:ext cx="439920" cy="125280"/>
                <a:chOff x="4281480" y="4379400"/>
                <a:chExt cx="439920" cy="125280"/>
              </a:xfrm>
            </p:grpSpPr>
            <p:grpSp>
              <p:nvGrpSpPr>
                <p:cNvPr id="2004" name="Group 1198"/>
                <p:cNvGrpSpPr/>
                <p:nvPr/>
              </p:nvGrpSpPr>
              <p:grpSpPr>
                <a:xfrm>
                  <a:off x="4281480" y="4379400"/>
                  <a:ext cx="432360" cy="125280"/>
                  <a:chOff x="4281480" y="4379400"/>
                  <a:chExt cx="432360" cy="125280"/>
                </a:xfrm>
              </p:grpSpPr>
              <p:sp>
                <p:nvSpPr>
                  <p:cNvPr id="2005" name="Rectangle 1199"/>
                  <p:cNvSpPr/>
                  <p:nvPr/>
                </p:nvSpPr>
                <p:spPr>
                  <a:xfrm>
                    <a:off x="4281480" y="4380480"/>
                    <a:ext cx="288360" cy="124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dddddd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6" name="Freeform 1200"/>
                  <p:cNvSpPr/>
                  <p:nvPr/>
                </p:nvSpPr>
                <p:spPr>
                  <a:xfrm>
                    <a:off x="4569840" y="4379400"/>
                    <a:ext cx="14400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2" h="672">
                        <a:moveTo>
                          <a:pt x="0" y="0"/>
                        </a:moveTo>
                        <a:lnTo>
                          <a:pt x="672" y="528"/>
                        </a:lnTo>
                        <a:lnTo>
                          <a:pt x="672" y="672"/>
                        </a:lnTo>
                        <a:lnTo>
                          <a:pt x="0" y="6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dddddd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7" name=""/>
                <p:cNvGrpSpPr/>
                <p:nvPr/>
              </p:nvGrpSpPr>
              <p:grpSpPr>
                <a:xfrm>
                  <a:off x="4281480" y="4477320"/>
                  <a:ext cx="439920" cy="360"/>
                  <a:chOff x="4281480" y="4477320"/>
                  <a:chExt cx="439920" cy="360"/>
                </a:xfrm>
              </p:grpSpPr>
              <p:sp>
                <p:nvSpPr>
                  <p:cNvPr id="2008" name="Line 1201"/>
                  <p:cNvSpPr/>
                  <p:nvPr/>
                </p:nvSpPr>
                <p:spPr>
                  <a:xfrm>
                    <a:off x="4281480" y="4477320"/>
                    <a:ext cx="43992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9" name=""/>
                  <p:cNvSpPr txBox="1"/>
                  <p:nvPr/>
                </p:nvSpPr>
                <p:spPr>
                  <a:xfrm>
                    <a:off x="4281480" y="4477320"/>
                    <a:ext cx="4399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10" name="Oval 1202"/>
              <p:cNvSpPr/>
              <p:nvPr/>
            </p:nvSpPr>
            <p:spPr>
              <a:xfrm>
                <a:off x="4358520" y="4344840"/>
                <a:ext cx="87480" cy="9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dddddd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Freeform 1203"/>
              <p:cNvSpPr/>
              <p:nvPr/>
            </p:nvSpPr>
            <p:spPr>
              <a:xfrm rot="11352000">
                <a:off x="4493520" y="4292280"/>
                <a:ext cx="117720" cy="146520"/>
              </a:xfrm>
              <a:custGeom>
                <a:avLst/>
                <a:gdLst/>
                <a:ahLst/>
                <a:rect l="l" t="t" r="r" b="b"/>
                <a:pathLst>
                  <a:path w="400" h="656">
                    <a:moveTo>
                      <a:pt x="360" y="64"/>
                    </a:moveTo>
                    <a:cubicBezTo>
                      <a:pt x="400" y="128"/>
                      <a:pt x="376" y="448"/>
                      <a:pt x="360" y="544"/>
                    </a:cubicBezTo>
                    <a:cubicBezTo>
                      <a:pt x="344" y="640"/>
                      <a:pt x="320" y="656"/>
                      <a:pt x="264" y="640"/>
                    </a:cubicBezTo>
                    <a:cubicBezTo>
                      <a:pt x="208" y="624"/>
                      <a:pt x="48" y="528"/>
                      <a:pt x="24" y="448"/>
                    </a:cubicBezTo>
                    <a:cubicBezTo>
                      <a:pt x="0" y="368"/>
                      <a:pt x="64" y="224"/>
                      <a:pt x="120" y="160"/>
                    </a:cubicBezTo>
                    <a:cubicBezTo>
                      <a:pt x="176" y="96"/>
                      <a:pt x="320" y="0"/>
                      <a:pt x="360" y="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10248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12" name="Group 1204"/>
          <p:cNvGrpSpPr/>
          <p:nvPr/>
        </p:nvGrpSpPr>
        <p:grpSpPr>
          <a:xfrm>
            <a:off x="4267080" y="3414600"/>
            <a:ext cx="284040" cy="1089000"/>
            <a:chOff x="4267080" y="3414600"/>
            <a:chExt cx="284040" cy="1089000"/>
          </a:xfrm>
        </p:grpSpPr>
        <p:grpSp>
          <p:nvGrpSpPr>
            <p:cNvPr id="2013" name="Group 1205"/>
            <p:cNvGrpSpPr/>
            <p:nvPr/>
          </p:nvGrpSpPr>
          <p:grpSpPr>
            <a:xfrm>
              <a:off x="4267080" y="3414600"/>
              <a:ext cx="284040" cy="660600"/>
              <a:chOff x="4267080" y="3414600"/>
              <a:chExt cx="284040" cy="660600"/>
            </a:xfrm>
          </p:grpSpPr>
          <p:grpSp>
            <p:nvGrpSpPr>
              <p:cNvPr id="2014" name="Group 1206"/>
              <p:cNvGrpSpPr/>
              <p:nvPr/>
            </p:nvGrpSpPr>
            <p:grpSpPr>
              <a:xfrm>
                <a:off x="4267080" y="3414600"/>
                <a:ext cx="284040" cy="506520"/>
                <a:chOff x="4267080" y="3414600"/>
                <a:chExt cx="284040" cy="506520"/>
              </a:xfrm>
            </p:grpSpPr>
            <p:sp>
              <p:nvSpPr>
                <p:cNvPr id="2015" name="AutoShape 1207"/>
                <p:cNvSpPr/>
                <p:nvPr/>
              </p:nvSpPr>
              <p:spPr>
                <a:xfrm>
                  <a:off x="4267080" y="3530160"/>
                  <a:ext cx="284040" cy="390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2700" y="21600"/>
                      </a:lnTo>
                      <a:lnTo>
                        <a:pt x="18900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6" name="Oval 1208"/>
                <p:cNvSpPr/>
                <p:nvPr/>
              </p:nvSpPr>
              <p:spPr>
                <a:xfrm>
                  <a:off x="4267080" y="3414600"/>
                  <a:ext cx="279000" cy="239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7" name="Oval 1209"/>
              <p:cNvSpPr/>
              <p:nvPr/>
            </p:nvSpPr>
            <p:spPr>
              <a:xfrm>
                <a:off x="4294080" y="3838680"/>
                <a:ext cx="244440" cy="23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AutoShape 1210"/>
              <p:cNvSpPr/>
              <p:nvPr/>
            </p:nvSpPr>
            <p:spPr>
              <a:xfrm>
                <a:off x="4363920" y="3916440"/>
                <a:ext cx="104760" cy="90360"/>
              </a:xfrm>
              <a:prstGeom prst="hexagon">
                <a:avLst>
                  <a:gd name="adj" fmla="val 28984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9" name="Group 1211"/>
            <p:cNvGrpSpPr/>
            <p:nvPr/>
          </p:nvGrpSpPr>
          <p:grpSpPr>
            <a:xfrm>
              <a:off x="4267080" y="3843720"/>
              <a:ext cx="284040" cy="659880"/>
              <a:chOff x="4267080" y="3843720"/>
              <a:chExt cx="284040" cy="659880"/>
            </a:xfrm>
          </p:grpSpPr>
          <p:grpSp>
            <p:nvGrpSpPr>
              <p:cNvPr id="2020" name="Group 1212"/>
              <p:cNvGrpSpPr/>
              <p:nvPr/>
            </p:nvGrpSpPr>
            <p:grpSpPr>
              <a:xfrm>
                <a:off x="4267080" y="3997800"/>
                <a:ext cx="284040" cy="505800"/>
                <a:chOff x="4267080" y="3997800"/>
                <a:chExt cx="284040" cy="505800"/>
              </a:xfrm>
            </p:grpSpPr>
            <p:sp>
              <p:nvSpPr>
                <p:cNvPr id="2021" name="AutoShape 1213"/>
                <p:cNvSpPr/>
                <p:nvPr/>
              </p:nvSpPr>
              <p:spPr>
                <a:xfrm flipV="1">
                  <a:off x="4267080" y="3997440"/>
                  <a:ext cx="284040" cy="390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2700" y="21600"/>
                      </a:lnTo>
                      <a:lnTo>
                        <a:pt x="18900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2" name="Oval 1214"/>
                <p:cNvSpPr/>
                <p:nvPr/>
              </p:nvSpPr>
              <p:spPr>
                <a:xfrm flipV="1">
                  <a:off x="4267080" y="4263840"/>
                  <a:ext cx="279000" cy="2397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3" name="Oval 1215"/>
              <p:cNvSpPr/>
              <p:nvPr/>
            </p:nvSpPr>
            <p:spPr>
              <a:xfrm flipV="1">
                <a:off x="4294080" y="3843720"/>
                <a:ext cx="244440" cy="2361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AutoShape 1216"/>
              <p:cNvSpPr/>
              <p:nvPr/>
            </p:nvSpPr>
            <p:spPr>
              <a:xfrm flipV="1">
                <a:off x="4363920" y="3912120"/>
                <a:ext cx="104760" cy="90000"/>
              </a:xfrm>
              <a:prstGeom prst="hexagon">
                <a:avLst>
                  <a:gd name="adj" fmla="val 29100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5" name="Group 1217"/>
          <p:cNvGrpSpPr/>
          <p:nvPr/>
        </p:nvGrpSpPr>
        <p:grpSpPr>
          <a:xfrm>
            <a:off x="3850200" y="1384200"/>
            <a:ext cx="1110600" cy="3934800"/>
            <a:chOff x="3850200" y="1384200"/>
            <a:chExt cx="1110600" cy="3934800"/>
          </a:xfrm>
        </p:grpSpPr>
        <p:grpSp>
          <p:nvGrpSpPr>
            <p:cNvPr id="2026" name="Group 1218"/>
            <p:cNvGrpSpPr/>
            <p:nvPr/>
          </p:nvGrpSpPr>
          <p:grpSpPr>
            <a:xfrm>
              <a:off x="3850560" y="1384200"/>
              <a:ext cx="1109880" cy="2262960"/>
              <a:chOff x="3850560" y="1384200"/>
              <a:chExt cx="1109880" cy="2262960"/>
            </a:xfrm>
          </p:grpSpPr>
          <p:sp>
            <p:nvSpPr>
              <p:cNvPr id="2027" name="AutoShape 1219"/>
              <p:cNvSpPr/>
              <p:nvPr/>
            </p:nvSpPr>
            <p:spPr>
              <a:xfrm rot="471600">
                <a:off x="3885840" y="2466360"/>
                <a:ext cx="152280" cy="532800"/>
              </a:xfrm>
              <a:custGeom>
                <a:avLst/>
                <a:gdLst>
                  <a:gd name="textAreaLeft" fmla="*/ 44640 w 152280"/>
                  <a:gd name="textAreaRight" fmla="*/ 152640 w 152280"/>
                  <a:gd name="textAreaTop" fmla="*/ 21960 h 532800"/>
                  <a:gd name="textAreaBottom" fmla="*/ 510840 h 53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28" name="Group 1220"/>
              <p:cNvGrpSpPr/>
              <p:nvPr/>
            </p:nvGrpSpPr>
            <p:grpSpPr>
              <a:xfrm>
                <a:off x="4009680" y="2081160"/>
                <a:ext cx="707040" cy="1566000"/>
                <a:chOff x="4009680" y="2081160"/>
                <a:chExt cx="707040" cy="1566000"/>
              </a:xfrm>
            </p:grpSpPr>
            <p:sp>
              <p:nvSpPr>
                <p:cNvPr id="2029" name="Oval 1221"/>
                <p:cNvSpPr/>
                <p:nvPr/>
              </p:nvSpPr>
              <p:spPr>
                <a:xfrm rot="385800">
                  <a:off x="4038480" y="3070440"/>
                  <a:ext cx="569520" cy="546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21216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0" name="Oval 1222"/>
                <p:cNvSpPr/>
                <p:nvPr/>
              </p:nvSpPr>
              <p:spPr>
                <a:xfrm rot="385800">
                  <a:off x="4679640" y="2577240"/>
                  <a:ext cx="32760" cy="496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1" name="Oval 1223"/>
                <p:cNvSpPr/>
                <p:nvPr/>
              </p:nvSpPr>
              <p:spPr>
                <a:xfrm rot="385800">
                  <a:off x="4651200" y="2874600"/>
                  <a:ext cx="32760" cy="489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2" name="Oval 1224"/>
                <p:cNvSpPr/>
                <p:nvPr/>
              </p:nvSpPr>
              <p:spPr>
                <a:xfrm rot="385800">
                  <a:off x="4618080" y="3170160"/>
                  <a:ext cx="32760" cy="496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3" name="AutoShape 1225"/>
                <p:cNvSpPr/>
                <p:nvPr/>
              </p:nvSpPr>
              <p:spPr>
                <a:xfrm rot="385800">
                  <a:off x="4069440" y="2415600"/>
                  <a:ext cx="591840" cy="1020960"/>
                </a:xfrm>
                <a:prstGeom prst="can">
                  <a:avLst>
                    <a:gd name="adj" fmla="val 2652"/>
                  </a:avLst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21216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4" name="Rectangle 1226"/>
                <p:cNvSpPr/>
                <p:nvPr/>
              </p:nvSpPr>
              <p:spPr>
                <a:xfrm rot="385800">
                  <a:off x="4357440" y="2335320"/>
                  <a:ext cx="149040" cy="98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21216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35" name="Group 1227"/>
                <p:cNvGrpSpPr/>
                <p:nvPr/>
              </p:nvGrpSpPr>
              <p:grpSpPr>
                <a:xfrm>
                  <a:off x="4259880" y="2081160"/>
                  <a:ext cx="285480" cy="690480"/>
                  <a:chOff x="4259880" y="2081160"/>
                  <a:chExt cx="285480" cy="690480"/>
                </a:xfrm>
              </p:grpSpPr>
              <p:sp>
                <p:nvSpPr>
                  <p:cNvPr id="2036" name="AutoShape 1228"/>
                  <p:cNvSpPr/>
                  <p:nvPr/>
                </p:nvSpPr>
                <p:spPr>
                  <a:xfrm rot="11007600">
                    <a:off x="4324680" y="2086560"/>
                    <a:ext cx="199800" cy="54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1556" y="21600"/>
                        </a:lnTo>
                        <a:lnTo>
                          <a:pt x="20044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7" name="AutoShape 1229"/>
                  <p:cNvSpPr/>
                  <p:nvPr/>
                </p:nvSpPr>
                <p:spPr>
                  <a:xfrm rot="16585800">
                    <a:off x="4295880" y="2519280"/>
                    <a:ext cx="213120" cy="26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934" y="2201"/>
                          <a:pt x="12267" y="5080"/>
                          <a:pt x="12267" y="10800"/>
                        </a:cubicBezTo>
                        <a:cubicBezTo>
                          <a:pt x="12267" y="16520"/>
                          <a:pt x="16934" y="19399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38" name="AutoShape 1230"/>
              <p:cNvSpPr/>
              <p:nvPr/>
            </p:nvSpPr>
            <p:spPr>
              <a:xfrm rot="447600">
                <a:off x="3962520" y="2437560"/>
                <a:ext cx="161640" cy="526680"/>
              </a:xfrm>
              <a:custGeom>
                <a:avLst/>
                <a:gdLst>
                  <a:gd name="textAreaLeft" fmla="*/ 7560 w 161640"/>
                  <a:gd name="textAreaRight" fmla="*/ 154080 w 161640"/>
                  <a:gd name="textAreaTop" fmla="*/ 7560 h 526680"/>
                  <a:gd name="textAreaBottom" fmla="*/ 519120 h 526680"/>
                </a:gdLst>
                <a:ahLst/>
                <a:rect l="textAreaLeft" t="textAreaTop" r="textAreaRight" b="textAreaBottom"/>
                <a:pathLst>
                  <a:path w="21600" h="70272">
                    <a:moveTo>
                      <a:pt x="3600" y="0"/>
                    </a:moveTo>
                    <a:arcTo wR="3600" hR="3600" stAng="16200000" swAng="-5400000"/>
                    <a:lnTo>
                      <a:pt x="0" y="66672"/>
                    </a:lnTo>
                    <a:arcTo wR="3600" hR="3600" stAng="10800000" swAng="-5400000"/>
                    <a:lnTo>
                      <a:pt x="18000" y="702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21150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39" name="Group 1231"/>
              <p:cNvGrpSpPr/>
              <p:nvPr/>
            </p:nvGrpSpPr>
            <p:grpSpPr>
              <a:xfrm>
                <a:off x="3976920" y="1384200"/>
                <a:ext cx="983520" cy="1946160"/>
                <a:chOff x="3976920" y="1384200"/>
                <a:chExt cx="983520" cy="1946160"/>
              </a:xfrm>
            </p:grpSpPr>
            <p:grpSp>
              <p:nvGrpSpPr>
                <p:cNvPr id="2040" name="Group 1232"/>
                <p:cNvGrpSpPr/>
                <p:nvPr/>
              </p:nvGrpSpPr>
              <p:grpSpPr>
                <a:xfrm>
                  <a:off x="4057920" y="1384200"/>
                  <a:ext cx="902520" cy="1008000"/>
                  <a:chOff x="4057920" y="1384200"/>
                  <a:chExt cx="902520" cy="1008000"/>
                </a:xfrm>
              </p:grpSpPr>
              <p:grpSp>
                <p:nvGrpSpPr>
                  <p:cNvPr id="2041" name=""/>
                  <p:cNvGrpSpPr/>
                  <p:nvPr/>
                </p:nvGrpSpPr>
                <p:grpSpPr>
                  <a:xfrm>
                    <a:off x="4341240" y="1625400"/>
                    <a:ext cx="283680" cy="155160"/>
                    <a:chOff x="4341240" y="1625400"/>
                    <a:chExt cx="283680" cy="155160"/>
                  </a:xfrm>
                </p:grpSpPr>
                <p:sp>
                  <p:nvSpPr>
                    <p:cNvPr id="2042" name="Line 1233"/>
                    <p:cNvSpPr/>
                    <p:nvPr/>
                  </p:nvSpPr>
                  <p:spPr>
                    <a:xfrm>
                      <a:off x="4341240" y="1625400"/>
                      <a:ext cx="283680" cy="155160"/>
                    </a:xfrm>
                    <a:prstGeom prst="line">
                      <a:avLst/>
                    </a:prstGeom>
                    <a:ln w="64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3" name=""/>
                    <p:cNvSpPr txBox="1"/>
                    <p:nvPr/>
                  </p:nvSpPr>
                  <p:spPr>
                    <a:xfrm>
                      <a:off x="4341240" y="1625400"/>
                      <a:ext cx="283680" cy="155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4" name="Group 1234"/>
                  <p:cNvGrpSpPr/>
                  <p:nvPr/>
                </p:nvGrpSpPr>
                <p:grpSpPr>
                  <a:xfrm>
                    <a:off x="4066200" y="1518840"/>
                    <a:ext cx="894240" cy="873360"/>
                    <a:chOff x="4066200" y="1518840"/>
                    <a:chExt cx="894240" cy="873360"/>
                  </a:xfrm>
                </p:grpSpPr>
                <p:sp>
                  <p:nvSpPr>
                    <p:cNvPr id="2045" name="AutoShape 1235"/>
                    <p:cNvSpPr/>
                    <p:nvPr/>
                  </p:nvSpPr>
                  <p:spPr>
                    <a:xfrm rot="21102000">
                      <a:off x="4519800" y="1802520"/>
                      <a:ext cx="405360" cy="516240"/>
                    </a:xfrm>
                    <a:custGeom>
                      <a:avLst/>
                      <a:gdLst>
                        <a:gd name="textAreaLeft" fmla="*/ 0 w 405360"/>
                        <a:gd name="textAreaRight" fmla="*/ 146160 w 405360"/>
                        <a:gd name="textAreaTop" fmla="*/ 13320 h 516240"/>
                        <a:gd name="textAreaBottom" fmla="*/ 502920 h 5162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cubicBezTo>
                            <a:pt x="5400" y="0"/>
                            <a:pt x="10800" y="900"/>
                            <a:pt x="10800" y="1800"/>
                          </a:cubicBezTo>
                          <a:lnTo>
                            <a:pt x="10800" y="9000"/>
                          </a:lnTo>
                          <a:cubicBezTo>
                            <a:pt x="10800" y="9900"/>
                            <a:pt x="16200" y="10800"/>
                            <a:pt x="21600" y="10800"/>
                          </a:cubicBezTo>
                          <a:cubicBezTo>
                            <a:pt x="16200" y="10800"/>
                            <a:pt x="10800" y="11700"/>
                            <a:pt x="10800" y="12600"/>
                          </a:cubicBezTo>
                          <a:lnTo>
                            <a:pt x="10800" y="19800"/>
                          </a:lnTo>
                          <a:cubicBezTo>
                            <a:pt x="10800" y="20700"/>
                            <a:pt x="5400" y="21600"/>
                            <a:pt x="0" y="21600"/>
                          </a:cubicBezTo>
                        </a:path>
                      </a:pathLst>
                    </a:custGeom>
                    <a:noFill/>
                    <a:ln w="12600">
                      <a:solidFill>
                        <a:srgbClr val="dddddd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6" name="AutoShape 1236"/>
                    <p:cNvSpPr/>
                    <p:nvPr/>
                  </p:nvSpPr>
                  <p:spPr>
                    <a:xfrm rot="21225600">
                      <a:off x="4235760" y="1842840"/>
                      <a:ext cx="446040" cy="526680"/>
                    </a:xfrm>
                    <a:custGeom>
                      <a:avLst/>
                      <a:gdLst>
                        <a:gd name="textAreaLeft" fmla="*/ 21600 w 446040"/>
                        <a:gd name="textAreaRight" fmla="*/ 424440 w 446040"/>
                        <a:gd name="textAreaTop" fmla="*/ 21600 h 526680"/>
                        <a:gd name="textAreaBottom" fmla="*/ 505080 h 526680"/>
                      </a:gdLst>
                      <a:ahLst/>
                      <a:rect l="textAreaLeft" t="textAreaTop" r="textAreaRight" b="textAreaBottom"/>
                      <a:pathLst>
                        <a:path w="21600" h="25502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21902"/>
                          </a:lnTo>
                          <a:arcTo wR="3600" hR="3600" stAng="10800000" swAng="-5400000"/>
                          <a:lnTo>
                            <a:pt x="18000" y="25502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ffffff"/>
                        </a:gs>
                      </a:gsLst>
                      <a:lin ang="372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7" name="AutoShape 1237"/>
                    <p:cNvSpPr/>
                    <p:nvPr/>
                  </p:nvSpPr>
                  <p:spPr>
                    <a:xfrm rot="20050800">
                      <a:off x="4114440" y="1599840"/>
                      <a:ext cx="446040" cy="324000"/>
                    </a:xfrm>
                    <a:prstGeom prst="triangle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ffffff"/>
                        </a:gs>
                      </a:gsLst>
                      <a:lin ang="20448000"/>
                    </a:gradFill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8" name="AutoShape 1238"/>
                    <p:cNvSpPr/>
                    <p:nvPr/>
                  </p:nvSpPr>
                  <p:spPr>
                    <a:xfrm rot="21417600">
                      <a:off x="4420080" y="2023560"/>
                      <a:ext cx="99720" cy="14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9725" y="3202"/>
                            <a:pt x="17850" y="5080"/>
                            <a:pt x="17850" y="10800"/>
                          </a:cubicBezTo>
                          <a:cubicBezTo>
                            <a:pt x="17850" y="16520"/>
                            <a:pt x="19725" y="18398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18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49" name="AutoShape 1239"/>
                  <p:cNvSpPr/>
                  <p:nvPr/>
                </p:nvSpPr>
                <p:spPr>
                  <a:xfrm rot="19131600">
                    <a:off x="4146120" y="1371240"/>
                    <a:ext cx="7092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5400" y="21600"/>
                        </a:lnTo>
                        <a:lnTo>
                          <a:pt x="162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/>
                      </a:gs>
                    </a:gsLst>
                    <a:lin ang="2136600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0" name="Group 1240"/>
                <p:cNvGrpSpPr/>
                <p:nvPr/>
              </p:nvGrpSpPr>
              <p:grpSpPr>
                <a:xfrm>
                  <a:off x="3976920" y="2287080"/>
                  <a:ext cx="798840" cy="1043280"/>
                  <a:chOff x="3976920" y="2287080"/>
                  <a:chExt cx="798840" cy="1043280"/>
                </a:xfrm>
              </p:grpSpPr>
              <p:grpSp>
                <p:nvGrpSpPr>
                  <p:cNvPr id="2051" name=""/>
                  <p:cNvGrpSpPr/>
                  <p:nvPr/>
                </p:nvGrpSpPr>
                <p:grpSpPr>
                  <a:xfrm>
                    <a:off x="4209840" y="2856240"/>
                    <a:ext cx="305280" cy="199080"/>
                    <a:chOff x="4209840" y="2856240"/>
                    <a:chExt cx="305280" cy="199080"/>
                  </a:xfrm>
                </p:grpSpPr>
                <p:sp>
                  <p:nvSpPr>
                    <p:cNvPr id="2052" name="Line 1241"/>
                    <p:cNvSpPr/>
                    <p:nvPr/>
                  </p:nvSpPr>
                  <p:spPr>
                    <a:xfrm flipH="1" flipV="1">
                      <a:off x="4235040" y="2856240"/>
                      <a:ext cx="254880" cy="19908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3" name=""/>
                    <p:cNvSpPr txBox="1"/>
                    <p:nvPr/>
                  </p:nvSpPr>
                  <p:spPr>
                    <a:xfrm rot="11358600">
                      <a:off x="4220640" y="2878200"/>
                      <a:ext cx="283680" cy="155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54" name="Group 1242"/>
                  <p:cNvGrpSpPr/>
                  <p:nvPr/>
                </p:nvGrpSpPr>
                <p:grpSpPr>
                  <a:xfrm>
                    <a:off x="3976920" y="2287080"/>
                    <a:ext cx="798840" cy="852840"/>
                    <a:chOff x="3976920" y="2287080"/>
                    <a:chExt cx="798840" cy="852840"/>
                  </a:xfrm>
                </p:grpSpPr>
                <p:sp>
                  <p:nvSpPr>
                    <p:cNvPr id="2055" name="AutoShape 1243"/>
                    <p:cNvSpPr/>
                    <p:nvPr/>
                  </p:nvSpPr>
                  <p:spPr>
                    <a:xfrm rot="10860600">
                      <a:off x="3981240" y="2305800"/>
                      <a:ext cx="405360" cy="516240"/>
                    </a:xfrm>
                    <a:custGeom>
                      <a:avLst/>
                      <a:gdLst>
                        <a:gd name="textAreaLeft" fmla="*/ 0 w 405360"/>
                        <a:gd name="textAreaRight" fmla="*/ 146160 w 405360"/>
                        <a:gd name="textAreaTop" fmla="*/ 13320 h 516240"/>
                        <a:gd name="textAreaBottom" fmla="*/ 502920 h 5162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cubicBezTo>
                            <a:pt x="5400" y="0"/>
                            <a:pt x="10800" y="900"/>
                            <a:pt x="10800" y="1800"/>
                          </a:cubicBezTo>
                          <a:lnTo>
                            <a:pt x="10800" y="9000"/>
                          </a:lnTo>
                          <a:cubicBezTo>
                            <a:pt x="10800" y="9900"/>
                            <a:pt x="16200" y="10800"/>
                            <a:pt x="21600" y="10800"/>
                          </a:cubicBezTo>
                          <a:cubicBezTo>
                            <a:pt x="16200" y="10800"/>
                            <a:pt x="10800" y="11700"/>
                            <a:pt x="10800" y="12600"/>
                          </a:cubicBezTo>
                          <a:lnTo>
                            <a:pt x="10800" y="19800"/>
                          </a:lnTo>
                          <a:cubicBezTo>
                            <a:pt x="10800" y="20700"/>
                            <a:pt x="5400" y="21600"/>
                            <a:pt x="0" y="21600"/>
                          </a:cubicBez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6" name="AutoShape 1244"/>
                    <p:cNvSpPr/>
                    <p:nvPr/>
                  </p:nvSpPr>
                  <p:spPr>
                    <a:xfrm rot="10984200">
                      <a:off x="4228560" y="2298240"/>
                      <a:ext cx="446040" cy="526680"/>
                    </a:xfrm>
                    <a:custGeom>
                      <a:avLst/>
                      <a:gdLst>
                        <a:gd name="textAreaLeft" fmla="*/ 21600 w 446040"/>
                        <a:gd name="textAreaRight" fmla="*/ 424440 w 446040"/>
                        <a:gd name="textAreaTop" fmla="*/ 21600 h 526680"/>
                        <a:gd name="textAreaBottom" fmla="*/ 505080 h 526680"/>
                      </a:gdLst>
                      <a:ahLst/>
                      <a:rect l="textAreaLeft" t="textAreaTop" r="textAreaRight" b="textAreaBottom"/>
                      <a:pathLst>
                        <a:path w="21600" h="25502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21902"/>
                          </a:lnTo>
                          <a:arcTo wR="3600" hR="3600" stAng="10800000" swAng="-5400000"/>
                          <a:lnTo>
                            <a:pt x="18000" y="25502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7" name="AutoShape 1245"/>
                    <p:cNvSpPr/>
                    <p:nvPr/>
                  </p:nvSpPr>
                  <p:spPr>
                    <a:xfrm rot="9809400">
                      <a:off x="4292640" y="2759040"/>
                      <a:ext cx="446040" cy="324000"/>
                    </a:xfrm>
                    <a:prstGeom prst="triangle">
                      <a:avLst>
                        <a:gd name="adj" fmla="val 50000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8" name="AutoShape 1246"/>
                    <p:cNvSpPr/>
                    <p:nvPr/>
                  </p:nvSpPr>
                  <p:spPr>
                    <a:xfrm rot="11176200">
                      <a:off x="4388760" y="2499120"/>
                      <a:ext cx="99720" cy="14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9725" y="3202"/>
                            <a:pt x="17850" y="5080"/>
                            <a:pt x="17850" y="10800"/>
                          </a:cubicBezTo>
                          <a:cubicBezTo>
                            <a:pt x="17850" y="16520"/>
                            <a:pt x="19725" y="18398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59" name="AutoShape 1247"/>
                  <p:cNvSpPr/>
                  <p:nvPr/>
                </p:nvSpPr>
                <p:spPr>
                  <a:xfrm rot="8890200">
                    <a:off x="4594680" y="3038760"/>
                    <a:ext cx="7092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5400" y="21600"/>
                        </a:lnTo>
                        <a:lnTo>
                          <a:pt x="162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60" name="Group 1248"/>
            <p:cNvGrpSpPr/>
            <p:nvPr/>
          </p:nvGrpSpPr>
          <p:grpSpPr>
            <a:xfrm>
              <a:off x="3850200" y="3056040"/>
              <a:ext cx="1110600" cy="2262960"/>
              <a:chOff x="3850200" y="3056040"/>
              <a:chExt cx="1110600" cy="2262960"/>
            </a:xfrm>
          </p:grpSpPr>
          <p:sp>
            <p:nvSpPr>
              <p:cNvPr id="2061" name="AutoShape 1249"/>
              <p:cNvSpPr/>
              <p:nvPr/>
            </p:nvSpPr>
            <p:spPr>
              <a:xfrm flipV="1" rot="21128400">
                <a:off x="3885840" y="3703680"/>
                <a:ext cx="152280" cy="532800"/>
              </a:xfrm>
              <a:custGeom>
                <a:avLst/>
                <a:gdLst>
                  <a:gd name="textAreaLeft" fmla="*/ 44640 w 152280"/>
                  <a:gd name="textAreaRight" fmla="*/ 152640 w 152280"/>
                  <a:gd name="textAreaTop" fmla="*/ 21960 h 532800"/>
                  <a:gd name="textAreaBottom" fmla="*/ 510840 h 53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2" name="Group 1250"/>
              <p:cNvGrpSpPr/>
              <p:nvPr/>
            </p:nvGrpSpPr>
            <p:grpSpPr>
              <a:xfrm>
                <a:off x="4009680" y="3056040"/>
                <a:ext cx="707040" cy="1566000"/>
                <a:chOff x="4009680" y="3056040"/>
                <a:chExt cx="707040" cy="1566000"/>
              </a:xfrm>
            </p:grpSpPr>
            <p:sp>
              <p:nvSpPr>
                <p:cNvPr id="2063" name="Oval 1251"/>
                <p:cNvSpPr/>
                <p:nvPr/>
              </p:nvSpPr>
              <p:spPr>
                <a:xfrm flipV="1" rot="21214200">
                  <a:off x="4038480" y="3085560"/>
                  <a:ext cx="569520" cy="546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4" name="Oval 1252"/>
                <p:cNvSpPr/>
                <p:nvPr/>
              </p:nvSpPr>
              <p:spPr>
                <a:xfrm flipV="1" rot="21214200">
                  <a:off x="4680000" y="4075560"/>
                  <a:ext cx="32760" cy="496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5" name="Oval 1253"/>
                <p:cNvSpPr/>
                <p:nvPr/>
              </p:nvSpPr>
              <p:spPr>
                <a:xfrm flipV="1" rot="21214200">
                  <a:off x="4651200" y="3778920"/>
                  <a:ext cx="32760" cy="48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6" name="Oval 1254"/>
                <p:cNvSpPr/>
                <p:nvPr/>
              </p:nvSpPr>
              <p:spPr>
                <a:xfrm flipV="1" rot="21214200">
                  <a:off x="4618440" y="3482640"/>
                  <a:ext cx="32760" cy="496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7" name="AutoShape 1255"/>
                <p:cNvSpPr/>
                <p:nvPr/>
              </p:nvSpPr>
              <p:spPr>
                <a:xfrm flipV="1" rot="21214200">
                  <a:off x="4069440" y="3266640"/>
                  <a:ext cx="591840" cy="1020960"/>
                </a:xfrm>
                <a:prstGeom prst="can">
                  <a:avLst>
                    <a:gd name="adj" fmla="val 265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8" name="Rectangle 1256"/>
                <p:cNvSpPr/>
                <p:nvPr/>
              </p:nvSpPr>
              <p:spPr>
                <a:xfrm flipV="1" rot="21214200">
                  <a:off x="4357440" y="4268520"/>
                  <a:ext cx="149040" cy="9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69" name="Group 1257"/>
                <p:cNvGrpSpPr/>
                <p:nvPr/>
              </p:nvGrpSpPr>
              <p:grpSpPr>
                <a:xfrm>
                  <a:off x="4259880" y="3931560"/>
                  <a:ext cx="285480" cy="690480"/>
                  <a:chOff x="4259880" y="3931560"/>
                  <a:chExt cx="285480" cy="690480"/>
                </a:xfrm>
              </p:grpSpPr>
              <p:sp>
                <p:nvSpPr>
                  <p:cNvPr id="2070" name="AutoShape 1258"/>
                  <p:cNvSpPr/>
                  <p:nvPr/>
                </p:nvSpPr>
                <p:spPr>
                  <a:xfrm flipV="1" rot="10592400">
                    <a:off x="4324320" y="4069800"/>
                    <a:ext cx="199800" cy="54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1556" y="21600"/>
                        </a:lnTo>
                        <a:lnTo>
                          <a:pt x="20044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1" name="AutoShape 1259"/>
                  <p:cNvSpPr/>
                  <p:nvPr/>
                </p:nvSpPr>
                <p:spPr>
                  <a:xfrm flipV="1" rot="5014200">
                    <a:off x="4295880" y="3920040"/>
                    <a:ext cx="21312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934" y="2201"/>
                          <a:pt x="12267" y="5080"/>
                          <a:pt x="12267" y="10800"/>
                        </a:cubicBezTo>
                        <a:cubicBezTo>
                          <a:pt x="12267" y="16520"/>
                          <a:pt x="16934" y="19399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72" name="AutoShape 1260"/>
              <p:cNvSpPr/>
              <p:nvPr/>
            </p:nvSpPr>
            <p:spPr>
              <a:xfrm flipV="1" rot="21152400">
                <a:off x="3962520" y="3737880"/>
                <a:ext cx="161640" cy="526680"/>
              </a:xfrm>
              <a:custGeom>
                <a:avLst/>
                <a:gdLst>
                  <a:gd name="textAreaLeft" fmla="*/ 7560 w 161640"/>
                  <a:gd name="textAreaRight" fmla="*/ 154080 w 161640"/>
                  <a:gd name="textAreaTop" fmla="*/ 7560 h 526680"/>
                  <a:gd name="textAreaBottom" fmla="*/ 519120 h 526680"/>
                </a:gdLst>
                <a:ahLst/>
                <a:rect l="textAreaLeft" t="textAreaTop" r="textAreaRight" b="textAreaBottom"/>
                <a:pathLst>
                  <a:path w="21600" h="70272">
                    <a:moveTo>
                      <a:pt x="3600" y="0"/>
                    </a:moveTo>
                    <a:arcTo wR="3600" hR="3600" stAng="16200000" swAng="-5400000"/>
                    <a:lnTo>
                      <a:pt x="0" y="66672"/>
                    </a:lnTo>
                    <a:arcTo wR="3600" hR="3600" stAng="10800000" swAng="-5400000"/>
                    <a:lnTo>
                      <a:pt x="18000" y="702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3" name="Group 1261"/>
              <p:cNvGrpSpPr/>
              <p:nvPr/>
            </p:nvGrpSpPr>
            <p:grpSpPr>
              <a:xfrm>
                <a:off x="3976920" y="3372840"/>
                <a:ext cx="983880" cy="1946160"/>
                <a:chOff x="3976920" y="3372840"/>
                <a:chExt cx="983880" cy="1946160"/>
              </a:xfrm>
            </p:grpSpPr>
            <p:grpSp>
              <p:nvGrpSpPr>
                <p:cNvPr id="2074" name="Group 1262"/>
                <p:cNvGrpSpPr/>
                <p:nvPr/>
              </p:nvGrpSpPr>
              <p:grpSpPr>
                <a:xfrm>
                  <a:off x="4057920" y="4310640"/>
                  <a:ext cx="902880" cy="1008360"/>
                  <a:chOff x="4057920" y="4310640"/>
                  <a:chExt cx="902880" cy="1008360"/>
                </a:xfrm>
              </p:grpSpPr>
              <p:grpSp>
                <p:nvGrpSpPr>
                  <p:cNvPr id="2075" name=""/>
                  <p:cNvGrpSpPr/>
                  <p:nvPr/>
                </p:nvGrpSpPr>
                <p:grpSpPr>
                  <a:xfrm>
                    <a:off x="4341240" y="4922640"/>
                    <a:ext cx="283680" cy="155160"/>
                    <a:chOff x="4341240" y="4922640"/>
                    <a:chExt cx="283680" cy="155160"/>
                  </a:xfrm>
                </p:grpSpPr>
                <p:sp>
                  <p:nvSpPr>
                    <p:cNvPr id="2076" name="Line 1263"/>
                    <p:cNvSpPr/>
                    <p:nvPr/>
                  </p:nvSpPr>
                  <p:spPr>
                    <a:xfrm flipV="1">
                      <a:off x="4341240" y="4922640"/>
                      <a:ext cx="283680" cy="15516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7" name=""/>
                    <p:cNvSpPr txBox="1"/>
                    <p:nvPr/>
                  </p:nvSpPr>
                  <p:spPr>
                    <a:xfrm rot="10800000">
                      <a:off x="4341240" y="4922640"/>
                      <a:ext cx="283680" cy="155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8" name="Group 1264"/>
                  <p:cNvGrpSpPr/>
                  <p:nvPr/>
                </p:nvGrpSpPr>
                <p:grpSpPr>
                  <a:xfrm>
                    <a:off x="4066200" y="4310640"/>
                    <a:ext cx="894600" cy="873720"/>
                    <a:chOff x="4066200" y="4310640"/>
                    <a:chExt cx="894600" cy="873720"/>
                  </a:xfrm>
                </p:grpSpPr>
                <p:sp>
                  <p:nvSpPr>
                    <p:cNvPr id="2079" name="AutoShape 1265"/>
                    <p:cNvSpPr/>
                    <p:nvPr/>
                  </p:nvSpPr>
                  <p:spPr>
                    <a:xfrm flipV="1" rot="498000">
                      <a:off x="4519800" y="4384080"/>
                      <a:ext cx="405360" cy="516240"/>
                    </a:xfrm>
                    <a:custGeom>
                      <a:avLst/>
                      <a:gdLst>
                        <a:gd name="textAreaLeft" fmla="*/ 0 w 405360"/>
                        <a:gd name="textAreaRight" fmla="*/ 146160 w 405360"/>
                        <a:gd name="textAreaTop" fmla="*/ 13320 h 516240"/>
                        <a:gd name="textAreaBottom" fmla="*/ 502920 h 5162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cubicBezTo>
                            <a:pt x="5400" y="0"/>
                            <a:pt x="10800" y="900"/>
                            <a:pt x="10800" y="1800"/>
                          </a:cubicBezTo>
                          <a:lnTo>
                            <a:pt x="10800" y="9000"/>
                          </a:lnTo>
                          <a:cubicBezTo>
                            <a:pt x="10800" y="9900"/>
                            <a:pt x="16200" y="10800"/>
                            <a:pt x="21600" y="10800"/>
                          </a:cubicBezTo>
                          <a:cubicBezTo>
                            <a:pt x="16200" y="10800"/>
                            <a:pt x="10800" y="11700"/>
                            <a:pt x="10800" y="12600"/>
                          </a:cubicBezTo>
                          <a:lnTo>
                            <a:pt x="10800" y="19800"/>
                          </a:lnTo>
                          <a:cubicBezTo>
                            <a:pt x="10800" y="20700"/>
                            <a:pt x="5400" y="21600"/>
                            <a:pt x="0" y="21600"/>
                          </a:cubicBez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0" name="AutoShape 1266"/>
                    <p:cNvSpPr/>
                    <p:nvPr/>
                  </p:nvSpPr>
                  <p:spPr>
                    <a:xfrm flipV="1" rot="374400">
                      <a:off x="4236120" y="4333320"/>
                      <a:ext cx="446040" cy="527040"/>
                    </a:xfrm>
                    <a:custGeom>
                      <a:avLst/>
                      <a:gdLst>
                        <a:gd name="textAreaLeft" fmla="*/ 21600 w 446040"/>
                        <a:gd name="textAreaRight" fmla="*/ 424440 w 446040"/>
                        <a:gd name="textAreaTop" fmla="*/ 21600 h 527040"/>
                        <a:gd name="textAreaBottom" fmla="*/ 505440 h 527040"/>
                      </a:gdLst>
                      <a:ahLst/>
                      <a:rect l="textAreaLeft" t="textAreaTop" r="textAreaRight" b="textAreaBottom"/>
                      <a:pathLst>
                        <a:path w="21600" h="25519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21919"/>
                          </a:lnTo>
                          <a:arcTo wR="3600" hR="3600" stAng="10800000" swAng="-5400000"/>
                          <a:lnTo>
                            <a:pt x="18000" y="25519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1" name="AutoShape 1267"/>
                    <p:cNvSpPr/>
                    <p:nvPr/>
                  </p:nvSpPr>
                  <p:spPr>
                    <a:xfrm flipV="1" rot="1549200">
                      <a:off x="4114440" y="4778280"/>
                      <a:ext cx="446040" cy="324360"/>
                    </a:xfrm>
                    <a:prstGeom prst="triangle">
                      <a:avLst>
                        <a:gd name="adj" fmla="val 50000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2" name="AutoShape 1268"/>
                    <p:cNvSpPr/>
                    <p:nvPr/>
                  </p:nvSpPr>
                  <p:spPr>
                    <a:xfrm flipV="1" rot="182400">
                      <a:off x="4420080" y="4535640"/>
                      <a:ext cx="99720" cy="14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9725" y="3202"/>
                            <a:pt x="17850" y="5080"/>
                            <a:pt x="17850" y="10800"/>
                          </a:cubicBezTo>
                          <a:cubicBezTo>
                            <a:pt x="17850" y="16520"/>
                            <a:pt x="19725" y="18398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83" name="AutoShape 1269"/>
                  <p:cNvSpPr/>
                  <p:nvPr/>
                </p:nvSpPr>
                <p:spPr>
                  <a:xfrm flipV="1" rot="2468400">
                    <a:off x="4146120" y="5037120"/>
                    <a:ext cx="7092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5400" y="21600"/>
                        </a:lnTo>
                        <a:lnTo>
                          <a:pt x="162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4" name="Group 1270"/>
                <p:cNvGrpSpPr/>
                <p:nvPr/>
              </p:nvGrpSpPr>
              <p:grpSpPr>
                <a:xfrm>
                  <a:off x="3976920" y="3372840"/>
                  <a:ext cx="798840" cy="1043280"/>
                  <a:chOff x="3976920" y="3372840"/>
                  <a:chExt cx="798840" cy="1043280"/>
                </a:xfrm>
              </p:grpSpPr>
              <p:grpSp>
                <p:nvGrpSpPr>
                  <p:cNvPr id="2085" name=""/>
                  <p:cNvGrpSpPr/>
                  <p:nvPr/>
                </p:nvGrpSpPr>
                <p:grpSpPr>
                  <a:xfrm>
                    <a:off x="4209840" y="3647880"/>
                    <a:ext cx="304920" cy="199080"/>
                    <a:chOff x="4209840" y="3647880"/>
                    <a:chExt cx="304920" cy="199080"/>
                  </a:xfrm>
                </p:grpSpPr>
                <p:sp>
                  <p:nvSpPr>
                    <p:cNvPr id="2086" name="Line 1271"/>
                    <p:cNvSpPr/>
                    <p:nvPr/>
                  </p:nvSpPr>
                  <p:spPr>
                    <a:xfrm flipH="1">
                      <a:off x="4235040" y="3647880"/>
                      <a:ext cx="254880" cy="19908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7" name=""/>
                    <p:cNvSpPr txBox="1"/>
                    <p:nvPr/>
                  </p:nvSpPr>
                  <p:spPr>
                    <a:xfrm rot="21043800">
                      <a:off x="4220280" y="3669480"/>
                      <a:ext cx="283680" cy="155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88" name="Group 1272"/>
                  <p:cNvGrpSpPr/>
                  <p:nvPr/>
                </p:nvGrpSpPr>
                <p:grpSpPr>
                  <a:xfrm>
                    <a:off x="3976920" y="3563280"/>
                    <a:ext cx="798840" cy="852840"/>
                    <a:chOff x="3976920" y="3563280"/>
                    <a:chExt cx="798840" cy="852840"/>
                  </a:xfrm>
                </p:grpSpPr>
                <p:sp>
                  <p:nvSpPr>
                    <p:cNvPr id="2089" name="AutoShape 1273"/>
                    <p:cNvSpPr/>
                    <p:nvPr/>
                  </p:nvSpPr>
                  <p:spPr>
                    <a:xfrm flipV="1" rot="10739400">
                      <a:off x="3981240" y="3881160"/>
                      <a:ext cx="405360" cy="516240"/>
                    </a:xfrm>
                    <a:custGeom>
                      <a:avLst/>
                      <a:gdLst>
                        <a:gd name="textAreaLeft" fmla="*/ 0 w 405360"/>
                        <a:gd name="textAreaRight" fmla="*/ 146160 w 405360"/>
                        <a:gd name="textAreaTop" fmla="*/ 13320 h 516240"/>
                        <a:gd name="textAreaBottom" fmla="*/ 502920 h 5162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cubicBezTo>
                            <a:pt x="5400" y="0"/>
                            <a:pt x="10800" y="900"/>
                            <a:pt x="10800" y="1800"/>
                          </a:cubicBezTo>
                          <a:lnTo>
                            <a:pt x="10800" y="9000"/>
                          </a:lnTo>
                          <a:cubicBezTo>
                            <a:pt x="10800" y="9900"/>
                            <a:pt x="16200" y="10800"/>
                            <a:pt x="21600" y="10800"/>
                          </a:cubicBezTo>
                          <a:cubicBezTo>
                            <a:pt x="16200" y="10800"/>
                            <a:pt x="10800" y="11700"/>
                            <a:pt x="10800" y="12600"/>
                          </a:cubicBezTo>
                          <a:lnTo>
                            <a:pt x="10800" y="19800"/>
                          </a:lnTo>
                          <a:cubicBezTo>
                            <a:pt x="10800" y="20700"/>
                            <a:pt x="5400" y="21600"/>
                            <a:pt x="0" y="21600"/>
                          </a:cubicBez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0" name="AutoShape 1274"/>
                    <p:cNvSpPr/>
                    <p:nvPr/>
                  </p:nvSpPr>
                  <p:spPr>
                    <a:xfrm flipV="1" rot="10615800">
                      <a:off x="4228200" y="3877560"/>
                      <a:ext cx="446040" cy="526680"/>
                    </a:xfrm>
                    <a:custGeom>
                      <a:avLst/>
                      <a:gdLst>
                        <a:gd name="textAreaLeft" fmla="*/ 21600 w 446040"/>
                        <a:gd name="textAreaRight" fmla="*/ 424440 w 446040"/>
                        <a:gd name="textAreaTop" fmla="*/ 21600 h 526680"/>
                        <a:gd name="textAreaBottom" fmla="*/ 505080 h 526680"/>
                      </a:gdLst>
                      <a:ahLst/>
                      <a:rect l="textAreaLeft" t="textAreaTop" r="textAreaRight" b="textAreaBottom"/>
                      <a:pathLst>
                        <a:path w="21600" h="25502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21902"/>
                          </a:lnTo>
                          <a:arcTo wR="3600" hR="3600" stAng="10800000" swAng="-5400000"/>
                          <a:lnTo>
                            <a:pt x="18000" y="25502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1" name="AutoShape 1275"/>
                    <p:cNvSpPr/>
                    <p:nvPr/>
                  </p:nvSpPr>
                  <p:spPr>
                    <a:xfrm flipV="1" rot="11790600">
                      <a:off x="4292640" y="3619440"/>
                      <a:ext cx="446040" cy="324000"/>
                    </a:xfrm>
                    <a:prstGeom prst="triangle">
                      <a:avLst>
                        <a:gd name="adj" fmla="val 50000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2" name="AutoShape 1276"/>
                    <p:cNvSpPr/>
                    <p:nvPr/>
                  </p:nvSpPr>
                  <p:spPr>
                    <a:xfrm flipV="1" rot="10423800">
                      <a:off x="4388760" y="4060800"/>
                      <a:ext cx="99720" cy="14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9725" y="3202"/>
                            <a:pt x="17850" y="5080"/>
                            <a:pt x="17850" y="10800"/>
                          </a:cubicBezTo>
                          <a:cubicBezTo>
                            <a:pt x="17850" y="16520"/>
                            <a:pt x="19725" y="18398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93" name="AutoShape 1277"/>
                  <p:cNvSpPr/>
                  <p:nvPr/>
                </p:nvSpPr>
                <p:spPr>
                  <a:xfrm flipV="1" rot="12709800">
                    <a:off x="4594680" y="3368520"/>
                    <a:ext cx="7092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5400" y="21600"/>
                        </a:lnTo>
                        <a:lnTo>
                          <a:pt x="162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094" name="Group 1278"/>
          <p:cNvGrpSpPr/>
          <p:nvPr/>
        </p:nvGrpSpPr>
        <p:grpSpPr>
          <a:xfrm>
            <a:off x="4191120" y="4036680"/>
            <a:ext cx="439560" cy="515520"/>
            <a:chOff x="4191120" y="4036680"/>
            <a:chExt cx="439560" cy="515520"/>
          </a:xfrm>
        </p:grpSpPr>
        <p:sp>
          <p:nvSpPr>
            <p:cNvPr id="2095" name="AutoShape 1279"/>
            <p:cNvSpPr/>
            <p:nvPr/>
          </p:nvSpPr>
          <p:spPr>
            <a:xfrm rot="10800000">
              <a:off x="4197960" y="4036680"/>
              <a:ext cx="244080" cy="391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700" y="21600"/>
                  </a:lnTo>
                  <a:lnTo>
                    <a:pt x="189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08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6" name="Group 1280"/>
            <p:cNvGrpSpPr/>
            <p:nvPr/>
          </p:nvGrpSpPr>
          <p:grpSpPr>
            <a:xfrm>
              <a:off x="4191120" y="4331520"/>
              <a:ext cx="439560" cy="220680"/>
              <a:chOff x="4191120" y="4331520"/>
              <a:chExt cx="439560" cy="220680"/>
            </a:xfrm>
          </p:grpSpPr>
          <p:grpSp>
            <p:nvGrpSpPr>
              <p:cNvPr id="2097" name="Group 1281"/>
              <p:cNvGrpSpPr/>
              <p:nvPr/>
            </p:nvGrpSpPr>
            <p:grpSpPr>
              <a:xfrm>
                <a:off x="4191120" y="4426920"/>
                <a:ext cx="439560" cy="125280"/>
                <a:chOff x="4191120" y="4426920"/>
                <a:chExt cx="439560" cy="125280"/>
              </a:xfrm>
            </p:grpSpPr>
            <p:grpSp>
              <p:nvGrpSpPr>
                <p:cNvPr id="2098" name="Group 1282"/>
                <p:cNvGrpSpPr/>
                <p:nvPr/>
              </p:nvGrpSpPr>
              <p:grpSpPr>
                <a:xfrm>
                  <a:off x="4191120" y="4426920"/>
                  <a:ext cx="432360" cy="125280"/>
                  <a:chOff x="4191120" y="4426920"/>
                  <a:chExt cx="432360" cy="125280"/>
                </a:xfrm>
              </p:grpSpPr>
              <p:sp>
                <p:nvSpPr>
                  <p:cNvPr id="2099" name="Rectangle 1283"/>
                  <p:cNvSpPr/>
                  <p:nvPr/>
                </p:nvSpPr>
                <p:spPr>
                  <a:xfrm>
                    <a:off x="4191120" y="4428000"/>
                    <a:ext cx="288360" cy="124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dddddd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0" name="Freeform 1284"/>
                  <p:cNvSpPr/>
                  <p:nvPr/>
                </p:nvSpPr>
                <p:spPr>
                  <a:xfrm>
                    <a:off x="4479480" y="4426920"/>
                    <a:ext cx="14400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2" h="672">
                        <a:moveTo>
                          <a:pt x="0" y="0"/>
                        </a:moveTo>
                        <a:lnTo>
                          <a:pt x="672" y="528"/>
                        </a:lnTo>
                        <a:lnTo>
                          <a:pt x="672" y="672"/>
                        </a:lnTo>
                        <a:lnTo>
                          <a:pt x="0" y="6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dddddd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1" name=""/>
                <p:cNvGrpSpPr/>
                <p:nvPr/>
              </p:nvGrpSpPr>
              <p:grpSpPr>
                <a:xfrm>
                  <a:off x="4191120" y="4524840"/>
                  <a:ext cx="439560" cy="360"/>
                  <a:chOff x="4191120" y="4524840"/>
                  <a:chExt cx="439560" cy="360"/>
                </a:xfrm>
              </p:grpSpPr>
              <p:sp>
                <p:nvSpPr>
                  <p:cNvPr id="2102" name="Line 1285"/>
                  <p:cNvSpPr/>
                  <p:nvPr/>
                </p:nvSpPr>
                <p:spPr>
                  <a:xfrm>
                    <a:off x="4191120" y="4524840"/>
                    <a:ext cx="43956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3" name=""/>
                  <p:cNvSpPr txBox="1"/>
                  <p:nvPr/>
                </p:nvSpPr>
                <p:spPr>
                  <a:xfrm>
                    <a:off x="4191120" y="4524840"/>
                    <a:ext cx="4395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04" name="Oval 1286"/>
              <p:cNvSpPr/>
              <p:nvPr/>
            </p:nvSpPr>
            <p:spPr>
              <a:xfrm>
                <a:off x="4268160" y="4392360"/>
                <a:ext cx="87480" cy="9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dddddd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Freeform 1287"/>
              <p:cNvSpPr/>
              <p:nvPr/>
            </p:nvSpPr>
            <p:spPr>
              <a:xfrm rot="11352000">
                <a:off x="4403160" y="4339800"/>
                <a:ext cx="117720" cy="146520"/>
              </a:xfrm>
              <a:custGeom>
                <a:avLst/>
                <a:gdLst/>
                <a:ahLst/>
                <a:rect l="l" t="t" r="r" b="b"/>
                <a:pathLst>
                  <a:path w="400" h="656">
                    <a:moveTo>
                      <a:pt x="360" y="64"/>
                    </a:moveTo>
                    <a:cubicBezTo>
                      <a:pt x="400" y="128"/>
                      <a:pt x="376" y="448"/>
                      <a:pt x="360" y="544"/>
                    </a:cubicBezTo>
                    <a:cubicBezTo>
                      <a:pt x="344" y="640"/>
                      <a:pt x="320" y="656"/>
                      <a:pt x="264" y="640"/>
                    </a:cubicBezTo>
                    <a:cubicBezTo>
                      <a:pt x="208" y="624"/>
                      <a:pt x="48" y="528"/>
                      <a:pt x="24" y="448"/>
                    </a:cubicBezTo>
                    <a:cubicBezTo>
                      <a:pt x="0" y="368"/>
                      <a:pt x="64" y="224"/>
                      <a:pt x="120" y="160"/>
                    </a:cubicBezTo>
                    <a:cubicBezTo>
                      <a:pt x="176" y="96"/>
                      <a:pt x="320" y="0"/>
                      <a:pt x="360" y="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10248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6" name="Group 1288"/>
          <p:cNvGrpSpPr/>
          <p:nvPr/>
        </p:nvGrpSpPr>
        <p:grpSpPr>
          <a:xfrm>
            <a:off x="4176720" y="3462480"/>
            <a:ext cx="284040" cy="1089000"/>
            <a:chOff x="4176720" y="3462480"/>
            <a:chExt cx="284040" cy="1089000"/>
          </a:xfrm>
        </p:grpSpPr>
        <p:grpSp>
          <p:nvGrpSpPr>
            <p:cNvPr id="2107" name="Group 1289"/>
            <p:cNvGrpSpPr/>
            <p:nvPr/>
          </p:nvGrpSpPr>
          <p:grpSpPr>
            <a:xfrm>
              <a:off x="4176720" y="3462480"/>
              <a:ext cx="284040" cy="660600"/>
              <a:chOff x="4176720" y="3462480"/>
              <a:chExt cx="284040" cy="660600"/>
            </a:xfrm>
          </p:grpSpPr>
          <p:grpSp>
            <p:nvGrpSpPr>
              <p:cNvPr id="2108" name="Group 1290"/>
              <p:cNvGrpSpPr/>
              <p:nvPr/>
            </p:nvGrpSpPr>
            <p:grpSpPr>
              <a:xfrm>
                <a:off x="4176720" y="3462480"/>
                <a:ext cx="284040" cy="506520"/>
                <a:chOff x="4176720" y="3462480"/>
                <a:chExt cx="284040" cy="506520"/>
              </a:xfrm>
            </p:grpSpPr>
            <p:sp>
              <p:nvSpPr>
                <p:cNvPr id="2109" name="AutoShape 1291"/>
                <p:cNvSpPr/>
                <p:nvPr/>
              </p:nvSpPr>
              <p:spPr>
                <a:xfrm>
                  <a:off x="4176720" y="3578040"/>
                  <a:ext cx="284040" cy="390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2700" y="21600"/>
                      </a:lnTo>
                      <a:lnTo>
                        <a:pt x="18900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0" name="Oval 1292"/>
                <p:cNvSpPr/>
                <p:nvPr/>
              </p:nvSpPr>
              <p:spPr>
                <a:xfrm>
                  <a:off x="4176720" y="3462480"/>
                  <a:ext cx="279000" cy="239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1" name="Oval 1293"/>
              <p:cNvSpPr/>
              <p:nvPr/>
            </p:nvSpPr>
            <p:spPr>
              <a:xfrm>
                <a:off x="4203720" y="3886560"/>
                <a:ext cx="244440" cy="23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AutoShape 1294"/>
              <p:cNvSpPr/>
              <p:nvPr/>
            </p:nvSpPr>
            <p:spPr>
              <a:xfrm>
                <a:off x="4273560" y="3964320"/>
                <a:ext cx="104760" cy="90360"/>
              </a:xfrm>
              <a:prstGeom prst="hexagon">
                <a:avLst>
                  <a:gd name="adj" fmla="val 28984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3" name="Group 1295"/>
            <p:cNvGrpSpPr/>
            <p:nvPr/>
          </p:nvGrpSpPr>
          <p:grpSpPr>
            <a:xfrm>
              <a:off x="4176720" y="3891600"/>
              <a:ext cx="284040" cy="659880"/>
              <a:chOff x="4176720" y="3891600"/>
              <a:chExt cx="284040" cy="659880"/>
            </a:xfrm>
          </p:grpSpPr>
          <p:grpSp>
            <p:nvGrpSpPr>
              <p:cNvPr id="2114" name="Group 1296"/>
              <p:cNvGrpSpPr/>
              <p:nvPr/>
            </p:nvGrpSpPr>
            <p:grpSpPr>
              <a:xfrm>
                <a:off x="4176720" y="4045680"/>
                <a:ext cx="284040" cy="505800"/>
                <a:chOff x="4176720" y="4045680"/>
                <a:chExt cx="284040" cy="505800"/>
              </a:xfrm>
            </p:grpSpPr>
            <p:sp>
              <p:nvSpPr>
                <p:cNvPr id="2115" name="AutoShape 1297"/>
                <p:cNvSpPr/>
                <p:nvPr/>
              </p:nvSpPr>
              <p:spPr>
                <a:xfrm flipV="1">
                  <a:off x="4176720" y="4045320"/>
                  <a:ext cx="284040" cy="390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2700" y="21600"/>
                      </a:lnTo>
                      <a:lnTo>
                        <a:pt x="18900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6" name="Oval 1298"/>
                <p:cNvSpPr/>
                <p:nvPr/>
              </p:nvSpPr>
              <p:spPr>
                <a:xfrm flipV="1">
                  <a:off x="4176720" y="4311720"/>
                  <a:ext cx="279000" cy="2397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7" name="Oval 1299"/>
              <p:cNvSpPr/>
              <p:nvPr/>
            </p:nvSpPr>
            <p:spPr>
              <a:xfrm flipV="1">
                <a:off x="4203720" y="3891600"/>
                <a:ext cx="244440" cy="2361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AutoShape 1300"/>
              <p:cNvSpPr/>
              <p:nvPr/>
            </p:nvSpPr>
            <p:spPr>
              <a:xfrm flipV="1">
                <a:off x="4273560" y="3960000"/>
                <a:ext cx="104760" cy="90000"/>
              </a:xfrm>
              <a:prstGeom prst="hexagon">
                <a:avLst>
                  <a:gd name="adj" fmla="val 29100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19" name="Group 1301"/>
          <p:cNvGrpSpPr/>
          <p:nvPr/>
        </p:nvGrpSpPr>
        <p:grpSpPr>
          <a:xfrm>
            <a:off x="3992400" y="1400760"/>
            <a:ext cx="456840" cy="2366280"/>
            <a:chOff x="3992400" y="1400760"/>
            <a:chExt cx="456840" cy="2366280"/>
          </a:xfrm>
        </p:grpSpPr>
        <p:grpSp>
          <p:nvGrpSpPr>
            <p:cNvPr id="2120" name="Group 1302"/>
            <p:cNvGrpSpPr/>
            <p:nvPr/>
          </p:nvGrpSpPr>
          <p:grpSpPr>
            <a:xfrm>
              <a:off x="3992400" y="1400760"/>
              <a:ext cx="456840" cy="2366280"/>
              <a:chOff x="3992400" y="1400760"/>
              <a:chExt cx="456840" cy="2366280"/>
            </a:xfrm>
          </p:grpSpPr>
          <p:grpSp>
            <p:nvGrpSpPr>
              <p:cNvPr id="2121" name="Group 1303"/>
              <p:cNvGrpSpPr/>
              <p:nvPr/>
            </p:nvGrpSpPr>
            <p:grpSpPr>
              <a:xfrm>
                <a:off x="3992400" y="1400760"/>
                <a:ext cx="456840" cy="2366280"/>
                <a:chOff x="3992400" y="1400760"/>
                <a:chExt cx="456840" cy="2366280"/>
              </a:xfrm>
            </p:grpSpPr>
            <p:grpSp>
              <p:nvGrpSpPr>
                <p:cNvPr id="2122" name="Group 1304"/>
                <p:cNvGrpSpPr/>
                <p:nvPr/>
              </p:nvGrpSpPr>
              <p:grpSpPr>
                <a:xfrm>
                  <a:off x="3992400" y="1631160"/>
                  <a:ext cx="278280" cy="1245240"/>
                  <a:chOff x="3992400" y="1631160"/>
                  <a:chExt cx="278280" cy="1245240"/>
                </a:xfrm>
              </p:grpSpPr>
              <p:grpSp>
                <p:nvGrpSpPr>
                  <p:cNvPr id="2123" name="Group 1305"/>
                  <p:cNvGrpSpPr/>
                  <p:nvPr/>
                </p:nvGrpSpPr>
                <p:grpSpPr>
                  <a:xfrm>
                    <a:off x="4029480" y="2265840"/>
                    <a:ext cx="241200" cy="610560"/>
                    <a:chOff x="4029480" y="2265840"/>
                    <a:chExt cx="241200" cy="610560"/>
                  </a:xfrm>
                </p:grpSpPr>
                <p:sp>
                  <p:nvSpPr>
                    <p:cNvPr id="2124" name="AutoShape 1306"/>
                    <p:cNvSpPr/>
                    <p:nvPr/>
                  </p:nvSpPr>
                  <p:spPr>
                    <a:xfrm rot="10707000">
                      <a:off x="4056840" y="2268000"/>
                      <a:ext cx="179640" cy="49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5" name="AutoShape 1307"/>
                    <p:cNvSpPr/>
                    <p:nvPr/>
                  </p:nvSpPr>
                  <p:spPr>
                    <a:xfrm rot="16285200">
                      <a:off x="4053960" y="2659320"/>
                      <a:ext cx="19152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26" name="Group 1308"/>
                  <p:cNvGrpSpPr/>
                  <p:nvPr/>
                </p:nvGrpSpPr>
                <p:grpSpPr>
                  <a:xfrm>
                    <a:off x="3992400" y="1631160"/>
                    <a:ext cx="253440" cy="747720"/>
                    <a:chOff x="3992400" y="1631160"/>
                    <a:chExt cx="253440" cy="747720"/>
                  </a:xfrm>
                </p:grpSpPr>
                <p:sp>
                  <p:nvSpPr>
                    <p:cNvPr id="2127" name="AutoShape 1309"/>
                    <p:cNvSpPr/>
                    <p:nvPr/>
                  </p:nvSpPr>
                  <p:spPr>
                    <a:xfrm rot="10722000">
                      <a:off x="4045320" y="1885680"/>
                      <a:ext cx="180360" cy="36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4308" y="21600"/>
                          </a:lnTo>
                          <a:lnTo>
                            <a:pt x="17292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8" name="Oval 1310"/>
                    <p:cNvSpPr/>
                    <p:nvPr/>
                  </p:nvSpPr>
                  <p:spPr>
                    <a:xfrm rot="11260800">
                      <a:off x="4046400" y="2176560"/>
                      <a:ext cx="187200" cy="19044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9" name="Freeform 1311"/>
                    <p:cNvSpPr/>
                    <p:nvPr/>
                  </p:nvSpPr>
                  <p:spPr>
                    <a:xfrm rot="20755800">
                      <a:off x="4024440" y="1648080"/>
                      <a:ext cx="175680" cy="28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2" h="2302">
                          <a:moveTo>
                            <a:pt x="361" y="1127"/>
                          </a:moveTo>
                          <a:lnTo>
                            <a:pt x="280" y="1116"/>
                          </a:lnTo>
                          <a:lnTo>
                            <a:pt x="373" y="711"/>
                          </a:lnTo>
                          <a:lnTo>
                            <a:pt x="373" y="709"/>
                          </a:lnTo>
                          <a:lnTo>
                            <a:pt x="375" y="705"/>
                          </a:lnTo>
                          <a:lnTo>
                            <a:pt x="375" y="703"/>
                          </a:lnTo>
                          <a:lnTo>
                            <a:pt x="375" y="700"/>
                          </a:lnTo>
                          <a:lnTo>
                            <a:pt x="375" y="698"/>
                          </a:lnTo>
                          <a:lnTo>
                            <a:pt x="375" y="696"/>
                          </a:lnTo>
                          <a:lnTo>
                            <a:pt x="375" y="692"/>
                          </a:lnTo>
                          <a:lnTo>
                            <a:pt x="375" y="690"/>
                          </a:lnTo>
                          <a:lnTo>
                            <a:pt x="375" y="684"/>
                          </a:lnTo>
                          <a:lnTo>
                            <a:pt x="375" y="681"/>
                          </a:lnTo>
                          <a:lnTo>
                            <a:pt x="375" y="675"/>
                          </a:lnTo>
                          <a:lnTo>
                            <a:pt x="375" y="669"/>
                          </a:lnTo>
                          <a:lnTo>
                            <a:pt x="371" y="665"/>
                          </a:lnTo>
                          <a:lnTo>
                            <a:pt x="371" y="660"/>
                          </a:lnTo>
                          <a:lnTo>
                            <a:pt x="369" y="654"/>
                          </a:lnTo>
                          <a:lnTo>
                            <a:pt x="367" y="652"/>
                          </a:lnTo>
                          <a:lnTo>
                            <a:pt x="365" y="646"/>
                          </a:lnTo>
                          <a:lnTo>
                            <a:pt x="363" y="641"/>
                          </a:lnTo>
                          <a:lnTo>
                            <a:pt x="361" y="637"/>
                          </a:lnTo>
                          <a:lnTo>
                            <a:pt x="358" y="633"/>
                          </a:lnTo>
                          <a:lnTo>
                            <a:pt x="356" y="629"/>
                          </a:lnTo>
                          <a:lnTo>
                            <a:pt x="354" y="623"/>
                          </a:lnTo>
                          <a:lnTo>
                            <a:pt x="350" y="620"/>
                          </a:lnTo>
                          <a:lnTo>
                            <a:pt x="346" y="616"/>
                          </a:lnTo>
                          <a:lnTo>
                            <a:pt x="342" y="612"/>
                          </a:lnTo>
                          <a:lnTo>
                            <a:pt x="339" y="610"/>
                          </a:lnTo>
                          <a:lnTo>
                            <a:pt x="335" y="606"/>
                          </a:lnTo>
                          <a:lnTo>
                            <a:pt x="331" y="603"/>
                          </a:lnTo>
                          <a:lnTo>
                            <a:pt x="325" y="601"/>
                          </a:lnTo>
                          <a:lnTo>
                            <a:pt x="321" y="597"/>
                          </a:lnTo>
                          <a:lnTo>
                            <a:pt x="318" y="595"/>
                          </a:lnTo>
                          <a:lnTo>
                            <a:pt x="312" y="593"/>
                          </a:lnTo>
                          <a:lnTo>
                            <a:pt x="306" y="591"/>
                          </a:lnTo>
                          <a:lnTo>
                            <a:pt x="302" y="589"/>
                          </a:lnTo>
                          <a:lnTo>
                            <a:pt x="299" y="589"/>
                          </a:lnTo>
                          <a:lnTo>
                            <a:pt x="295" y="587"/>
                          </a:lnTo>
                          <a:lnTo>
                            <a:pt x="291" y="587"/>
                          </a:lnTo>
                          <a:lnTo>
                            <a:pt x="287" y="585"/>
                          </a:lnTo>
                          <a:lnTo>
                            <a:pt x="285" y="585"/>
                          </a:lnTo>
                          <a:lnTo>
                            <a:pt x="283" y="585"/>
                          </a:lnTo>
                          <a:lnTo>
                            <a:pt x="280" y="585"/>
                          </a:lnTo>
                          <a:lnTo>
                            <a:pt x="276" y="585"/>
                          </a:lnTo>
                          <a:lnTo>
                            <a:pt x="274" y="585"/>
                          </a:lnTo>
                          <a:lnTo>
                            <a:pt x="272" y="585"/>
                          </a:lnTo>
                          <a:lnTo>
                            <a:pt x="268" y="585"/>
                          </a:lnTo>
                          <a:lnTo>
                            <a:pt x="266" y="585"/>
                          </a:lnTo>
                          <a:lnTo>
                            <a:pt x="263" y="585"/>
                          </a:lnTo>
                          <a:lnTo>
                            <a:pt x="261" y="587"/>
                          </a:lnTo>
                          <a:lnTo>
                            <a:pt x="259" y="587"/>
                          </a:lnTo>
                          <a:lnTo>
                            <a:pt x="255" y="587"/>
                          </a:lnTo>
                          <a:lnTo>
                            <a:pt x="253" y="589"/>
                          </a:lnTo>
                          <a:lnTo>
                            <a:pt x="249" y="589"/>
                          </a:lnTo>
                          <a:lnTo>
                            <a:pt x="247" y="589"/>
                          </a:lnTo>
                          <a:lnTo>
                            <a:pt x="243" y="591"/>
                          </a:lnTo>
                          <a:lnTo>
                            <a:pt x="240" y="591"/>
                          </a:lnTo>
                          <a:lnTo>
                            <a:pt x="238" y="593"/>
                          </a:lnTo>
                          <a:lnTo>
                            <a:pt x="236" y="595"/>
                          </a:lnTo>
                          <a:lnTo>
                            <a:pt x="232" y="595"/>
                          </a:lnTo>
                          <a:lnTo>
                            <a:pt x="230" y="597"/>
                          </a:lnTo>
                          <a:lnTo>
                            <a:pt x="228" y="599"/>
                          </a:lnTo>
                          <a:lnTo>
                            <a:pt x="224" y="601"/>
                          </a:lnTo>
                          <a:lnTo>
                            <a:pt x="223" y="601"/>
                          </a:lnTo>
                          <a:lnTo>
                            <a:pt x="219" y="603"/>
                          </a:lnTo>
                          <a:lnTo>
                            <a:pt x="217" y="604"/>
                          </a:lnTo>
                          <a:lnTo>
                            <a:pt x="211" y="608"/>
                          </a:lnTo>
                          <a:lnTo>
                            <a:pt x="207" y="612"/>
                          </a:lnTo>
                          <a:lnTo>
                            <a:pt x="204" y="616"/>
                          </a:lnTo>
                          <a:lnTo>
                            <a:pt x="198" y="618"/>
                          </a:lnTo>
                          <a:lnTo>
                            <a:pt x="194" y="623"/>
                          </a:lnTo>
                          <a:lnTo>
                            <a:pt x="188" y="627"/>
                          </a:lnTo>
                          <a:lnTo>
                            <a:pt x="185" y="633"/>
                          </a:lnTo>
                          <a:lnTo>
                            <a:pt x="181" y="637"/>
                          </a:lnTo>
                          <a:lnTo>
                            <a:pt x="177" y="641"/>
                          </a:lnTo>
                          <a:lnTo>
                            <a:pt x="173" y="646"/>
                          </a:lnTo>
                          <a:lnTo>
                            <a:pt x="169" y="652"/>
                          </a:lnTo>
                          <a:lnTo>
                            <a:pt x="166" y="656"/>
                          </a:lnTo>
                          <a:lnTo>
                            <a:pt x="162" y="662"/>
                          </a:lnTo>
                          <a:lnTo>
                            <a:pt x="160" y="665"/>
                          </a:lnTo>
                          <a:lnTo>
                            <a:pt x="158" y="669"/>
                          </a:lnTo>
                          <a:lnTo>
                            <a:pt x="158" y="671"/>
                          </a:lnTo>
                          <a:lnTo>
                            <a:pt x="156" y="673"/>
                          </a:lnTo>
                          <a:lnTo>
                            <a:pt x="154" y="677"/>
                          </a:lnTo>
                          <a:lnTo>
                            <a:pt x="152" y="679"/>
                          </a:lnTo>
                          <a:lnTo>
                            <a:pt x="152" y="681"/>
                          </a:lnTo>
                          <a:lnTo>
                            <a:pt x="150" y="684"/>
                          </a:lnTo>
                          <a:lnTo>
                            <a:pt x="150" y="688"/>
                          </a:lnTo>
                          <a:lnTo>
                            <a:pt x="146" y="694"/>
                          </a:lnTo>
                          <a:lnTo>
                            <a:pt x="145" y="701"/>
                          </a:lnTo>
                          <a:lnTo>
                            <a:pt x="143" y="709"/>
                          </a:lnTo>
                          <a:lnTo>
                            <a:pt x="139" y="717"/>
                          </a:lnTo>
                          <a:lnTo>
                            <a:pt x="137" y="724"/>
                          </a:lnTo>
                          <a:lnTo>
                            <a:pt x="135" y="732"/>
                          </a:lnTo>
                          <a:lnTo>
                            <a:pt x="131" y="739"/>
                          </a:lnTo>
                          <a:lnTo>
                            <a:pt x="129" y="747"/>
                          </a:lnTo>
                          <a:lnTo>
                            <a:pt x="126" y="755"/>
                          </a:lnTo>
                          <a:lnTo>
                            <a:pt x="124" y="760"/>
                          </a:lnTo>
                          <a:lnTo>
                            <a:pt x="122" y="768"/>
                          </a:lnTo>
                          <a:lnTo>
                            <a:pt x="120" y="776"/>
                          </a:lnTo>
                          <a:lnTo>
                            <a:pt x="116" y="781"/>
                          </a:lnTo>
                          <a:lnTo>
                            <a:pt x="114" y="789"/>
                          </a:lnTo>
                          <a:lnTo>
                            <a:pt x="112" y="796"/>
                          </a:lnTo>
                          <a:lnTo>
                            <a:pt x="110" y="804"/>
                          </a:lnTo>
                          <a:lnTo>
                            <a:pt x="107" y="812"/>
                          </a:lnTo>
                          <a:lnTo>
                            <a:pt x="107" y="817"/>
                          </a:lnTo>
                          <a:lnTo>
                            <a:pt x="103" y="823"/>
                          </a:lnTo>
                          <a:lnTo>
                            <a:pt x="101" y="831"/>
                          </a:lnTo>
                          <a:lnTo>
                            <a:pt x="97" y="836"/>
                          </a:lnTo>
                          <a:lnTo>
                            <a:pt x="97" y="844"/>
                          </a:lnTo>
                          <a:lnTo>
                            <a:pt x="93" y="852"/>
                          </a:lnTo>
                          <a:lnTo>
                            <a:pt x="93" y="857"/>
                          </a:lnTo>
                          <a:lnTo>
                            <a:pt x="89" y="865"/>
                          </a:lnTo>
                          <a:lnTo>
                            <a:pt x="88" y="871"/>
                          </a:lnTo>
                          <a:lnTo>
                            <a:pt x="86" y="878"/>
                          </a:lnTo>
                          <a:lnTo>
                            <a:pt x="84" y="884"/>
                          </a:lnTo>
                          <a:lnTo>
                            <a:pt x="82" y="892"/>
                          </a:lnTo>
                          <a:lnTo>
                            <a:pt x="80" y="899"/>
                          </a:lnTo>
                          <a:lnTo>
                            <a:pt x="78" y="907"/>
                          </a:lnTo>
                          <a:lnTo>
                            <a:pt x="74" y="912"/>
                          </a:lnTo>
                          <a:lnTo>
                            <a:pt x="72" y="920"/>
                          </a:lnTo>
                          <a:lnTo>
                            <a:pt x="72" y="926"/>
                          </a:lnTo>
                          <a:lnTo>
                            <a:pt x="68" y="931"/>
                          </a:lnTo>
                          <a:lnTo>
                            <a:pt x="67" y="939"/>
                          </a:lnTo>
                          <a:lnTo>
                            <a:pt x="65" y="945"/>
                          </a:lnTo>
                          <a:lnTo>
                            <a:pt x="63" y="952"/>
                          </a:lnTo>
                          <a:lnTo>
                            <a:pt x="59" y="958"/>
                          </a:lnTo>
                          <a:lnTo>
                            <a:pt x="57" y="966"/>
                          </a:lnTo>
                          <a:lnTo>
                            <a:pt x="55" y="971"/>
                          </a:lnTo>
                          <a:lnTo>
                            <a:pt x="53" y="979"/>
                          </a:lnTo>
                          <a:lnTo>
                            <a:pt x="51" y="987"/>
                          </a:lnTo>
                          <a:lnTo>
                            <a:pt x="49" y="994"/>
                          </a:lnTo>
                          <a:lnTo>
                            <a:pt x="48" y="1000"/>
                          </a:lnTo>
                          <a:lnTo>
                            <a:pt x="46" y="1007"/>
                          </a:lnTo>
                          <a:lnTo>
                            <a:pt x="44" y="1015"/>
                          </a:lnTo>
                          <a:lnTo>
                            <a:pt x="42" y="1021"/>
                          </a:lnTo>
                          <a:lnTo>
                            <a:pt x="42" y="1028"/>
                          </a:lnTo>
                          <a:lnTo>
                            <a:pt x="38" y="1036"/>
                          </a:lnTo>
                          <a:lnTo>
                            <a:pt x="36" y="1042"/>
                          </a:lnTo>
                          <a:lnTo>
                            <a:pt x="36" y="1049"/>
                          </a:lnTo>
                          <a:lnTo>
                            <a:pt x="34" y="1057"/>
                          </a:lnTo>
                          <a:lnTo>
                            <a:pt x="30" y="1063"/>
                          </a:lnTo>
                          <a:lnTo>
                            <a:pt x="30" y="1070"/>
                          </a:lnTo>
                          <a:lnTo>
                            <a:pt x="29" y="1078"/>
                          </a:lnTo>
                          <a:lnTo>
                            <a:pt x="27" y="1085"/>
                          </a:lnTo>
                          <a:lnTo>
                            <a:pt x="25" y="1093"/>
                          </a:lnTo>
                          <a:lnTo>
                            <a:pt x="23" y="1101"/>
                          </a:lnTo>
                          <a:lnTo>
                            <a:pt x="21" y="1108"/>
                          </a:lnTo>
                          <a:lnTo>
                            <a:pt x="19" y="1116"/>
                          </a:lnTo>
                          <a:lnTo>
                            <a:pt x="17" y="1123"/>
                          </a:lnTo>
                          <a:lnTo>
                            <a:pt x="17" y="1131"/>
                          </a:lnTo>
                          <a:lnTo>
                            <a:pt x="15" y="1139"/>
                          </a:lnTo>
                          <a:lnTo>
                            <a:pt x="13" y="1148"/>
                          </a:lnTo>
                          <a:lnTo>
                            <a:pt x="10" y="1158"/>
                          </a:lnTo>
                          <a:lnTo>
                            <a:pt x="10" y="1165"/>
                          </a:lnTo>
                          <a:lnTo>
                            <a:pt x="8" y="1175"/>
                          </a:lnTo>
                          <a:lnTo>
                            <a:pt x="6" y="1182"/>
                          </a:lnTo>
                          <a:lnTo>
                            <a:pt x="6" y="1192"/>
                          </a:lnTo>
                          <a:lnTo>
                            <a:pt x="4" y="1201"/>
                          </a:lnTo>
                          <a:lnTo>
                            <a:pt x="2" y="1211"/>
                          </a:lnTo>
                          <a:lnTo>
                            <a:pt x="2" y="1218"/>
                          </a:lnTo>
                          <a:lnTo>
                            <a:pt x="0" y="1230"/>
                          </a:lnTo>
                          <a:lnTo>
                            <a:pt x="0" y="1237"/>
                          </a:lnTo>
                          <a:lnTo>
                            <a:pt x="0" y="1247"/>
                          </a:lnTo>
                          <a:lnTo>
                            <a:pt x="0" y="1257"/>
                          </a:lnTo>
                          <a:lnTo>
                            <a:pt x="0" y="1268"/>
                          </a:lnTo>
                          <a:lnTo>
                            <a:pt x="0" y="1276"/>
                          </a:lnTo>
                          <a:lnTo>
                            <a:pt x="0" y="1285"/>
                          </a:lnTo>
                          <a:lnTo>
                            <a:pt x="0" y="1296"/>
                          </a:lnTo>
                          <a:lnTo>
                            <a:pt x="0" y="1304"/>
                          </a:lnTo>
                          <a:lnTo>
                            <a:pt x="0" y="1314"/>
                          </a:lnTo>
                          <a:lnTo>
                            <a:pt x="0" y="1323"/>
                          </a:lnTo>
                          <a:lnTo>
                            <a:pt x="0" y="1333"/>
                          </a:lnTo>
                          <a:lnTo>
                            <a:pt x="2" y="1342"/>
                          </a:lnTo>
                          <a:lnTo>
                            <a:pt x="2" y="1352"/>
                          </a:lnTo>
                          <a:lnTo>
                            <a:pt x="4" y="1363"/>
                          </a:lnTo>
                          <a:lnTo>
                            <a:pt x="4" y="1371"/>
                          </a:lnTo>
                          <a:lnTo>
                            <a:pt x="6" y="1382"/>
                          </a:lnTo>
                          <a:lnTo>
                            <a:pt x="8" y="1390"/>
                          </a:lnTo>
                          <a:lnTo>
                            <a:pt x="8" y="1401"/>
                          </a:lnTo>
                          <a:lnTo>
                            <a:pt x="10" y="1409"/>
                          </a:lnTo>
                          <a:lnTo>
                            <a:pt x="11" y="1420"/>
                          </a:lnTo>
                          <a:lnTo>
                            <a:pt x="13" y="1429"/>
                          </a:lnTo>
                          <a:lnTo>
                            <a:pt x="15" y="1439"/>
                          </a:lnTo>
                          <a:lnTo>
                            <a:pt x="17" y="1448"/>
                          </a:lnTo>
                          <a:lnTo>
                            <a:pt x="19" y="1458"/>
                          </a:lnTo>
                          <a:lnTo>
                            <a:pt x="21" y="1468"/>
                          </a:lnTo>
                          <a:lnTo>
                            <a:pt x="23" y="1477"/>
                          </a:lnTo>
                          <a:lnTo>
                            <a:pt x="27" y="1487"/>
                          </a:lnTo>
                          <a:lnTo>
                            <a:pt x="29" y="1496"/>
                          </a:lnTo>
                          <a:lnTo>
                            <a:pt x="30" y="1506"/>
                          </a:lnTo>
                          <a:lnTo>
                            <a:pt x="34" y="1515"/>
                          </a:lnTo>
                          <a:lnTo>
                            <a:pt x="36" y="1525"/>
                          </a:lnTo>
                          <a:lnTo>
                            <a:pt x="38" y="1534"/>
                          </a:lnTo>
                          <a:lnTo>
                            <a:pt x="42" y="1544"/>
                          </a:lnTo>
                          <a:lnTo>
                            <a:pt x="46" y="1553"/>
                          </a:lnTo>
                          <a:lnTo>
                            <a:pt x="48" y="1561"/>
                          </a:lnTo>
                          <a:lnTo>
                            <a:pt x="51" y="1572"/>
                          </a:lnTo>
                          <a:lnTo>
                            <a:pt x="55" y="1580"/>
                          </a:lnTo>
                          <a:lnTo>
                            <a:pt x="59" y="1589"/>
                          </a:lnTo>
                          <a:lnTo>
                            <a:pt x="63" y="1599"/>
                          </a:lnTo>
                          <a:lnTo>
                            <a:pt x="67" y="1608"/>
                          </a:lnTo>
                          <a:lnTo>
                            <a:pt x="68" y="1616"/>
                          </a:lnTo>
                          <a:lnTo>
                            <a:pt x="74" y="1627"/>
                          </a:lnTo>
                          <a:lnTo>
                            <a:pt x="78" y="1635"/>
                          </a:lnTo>
                          <a:lnTo>
                            <a:pt x="82" y="1644"/>
                          </a:lnTo>
                          <a:lnTo>
                            <a:pt x="86" y="1652"/>
                          </a:lnTo>
                          <a:lnTo>
                            <a:pt x="89" y="1661"/>
                          </a:lnTo>
                          <a:lnTo>
                            <a:pt x="95" y="1669"/>
                          </a:lnTo>
                          <a:lnTo>
                            <a:pt x="99" y="1679"/>
                          </a:lnTo>
                          <a:lnTo>
                            <a:pt x="103" y="1688"/>
                          </a:lnTo>
                          <a:lnTo>
                            <a:pt x="108" y="1696"/>
                          </a:lnTo>
                          <a:lnTo>
                            <a:pt x="114" y="1703"/>
                          </a:lnTo>
                          <a:lnTo>
                            <a:pt x="118" y="1713"/>
                          </a:lnTo>
                          <a:lnTo>
                            <a:pt x="124" y="1722"/>
                          </a:lnTo>
                          <a:lnTo>
                            <a:pt x="127" y="1732"/>
                          </a:lnTo>
                          <a:lnTo>
                            <a:pt x="131" y="1736"/>
                          </a:lnTo>
                          <a:lnTo>
                            <a:pt x="135" y="1739"/>
                          </a:lnTo>
                          <a:lnTo>
                            <a:pt x="135" y="1743"/>
                          </a:lnTo>
                          <a:lnTo>
                            <a:pt x="137" y="1745"/>
                          </a:lnTo>
                          <a:lnTo>
                            <a:pt x="139" y="1747"/>
                          </a:lnTo>
                          <a:lnTo>
                            <a:pt x="141" y="1751"/>
                          </a:lnTo>
                          <a:lnTo>
                            <a:pt x="143" y="1755"/>
                          </a:lnTo>
                          <a:lnTo>
                            <a:pt x="143" y="1756"/>
                          </a:lnTo>
                          <a:lnTo>
                            <a:pt x="145" y="1760"/>
                          </a:lnTo>
                          <a:lnTo>
                            <a:pt x="146" y="1762"/>
                          </a:lnTo>
                          <a:lnTo>
                            <a:pt x="148" y="1766"/>
                          </a:lnTo>
                          <a:lnTo>
                            <a:pt x="150" y="1768"/>
                          </a:lnTo>
                          <a:lnTo>
                            <a:pt x="152" y="1770"/>
                          </a:lnTo>
                          <a:lnTo>
                            <a:pt x="156" y="1774"/>
                          </a:lnTo>
                          <a:lnTo>
                            <a:pt x="158" y="1777"/>
                          </a:lnTo>
                          <a:lnTo>
                            <a:pt x="160" y="1779"/>
                          </a:lnTo>
                          <a:lnTo>
                            <a:pt x="160" y="1783"/>
                          </a:lnTo>
                          <a:lnTo>
                            <a:pt x="162" y="1787"/>
                          </a:lnTo>
                          <a:lnTo>
                            <a:pt x="166" y="1789"/>
                          </a:lnTo>
                          <a:lnTo>
                            <a:pt x="166" y="1791"/>
                          </a:lnTo>
                          <a:lnTo>
                            <a:pt x="167" y="1794"/>
                          </a:lnTo>
                          <a:lnTo>
                            <a:pt x="169" y="1796"/>
                          </a:lnTo>
                          <a:lnTo>
                            <a:pt x="171" y="1800"/>
                          </a:lnTo>
                          <a:lnTo>
                            <a:pt x="173" y="1802"/>
                          </a:lnTo>
                          <a:lnTo>
                            <a:pt x="175" y="1806"/>
                          </a:lnTo>
                          <a:lnTo>
                            <a:pt x="177" y="1808"/>
                          </a:lnTo>
                          <a:lnTo>
                            <a:pt x="179" y="1812"/>
                          </a:lnTo>
                          <a:lnTo>
                            <a:pt x="181" y="1815"/>
                          </a:lnTo>
                          <a:lnTo>
                            <a:pt x="183" y="1817"/>
                          </a:lnTo>
                          <a:lnTo>
                            <a:pt x="185" y="1821"/>
                          </a:lnTo>
                          <a:lnTo>
                            <a:pt x="188" y="1827"/>
                          </a:lnTo>
                          <a:lnTo>
                            <a:pt x="190" y="1831"/>
                          </a:lnTo>
                          <a:lnTo>
                            <a:pt x="194" y="1836"/>
                          </a:lnTo>
                          <a:lnTo>
                            <a:pt x="198" y="1842"/>
                          </a:lnTo>
                          <a:lnTo>
                            <a:pt x="200" y="1846"/>
                          </a:lnTo>
                          <a:lnTo>
                            <a:pt x="204" y="1850"/>
                          </a:lnTo>
                          <a:lnTo>
                            <a:pt x="205" y="1853"/>
                          </a:lnTo>
                          <a:lnTo>
                            <a:pt x="207" y="1859"/>
                          </a:lnTo>
                          <a:lnTo>
                            <a:pt x="209" y="1861"/>
                          </a:lnTo>
                          <a:lnTo>
                            <a:pt x="211" y="1863"/>
                          </a:lnTo>
                          <a:lnTo>
                            <a:pt x="213" y="1867"/>
                          </a:lnTo>
                          <a:lnTo>
                            <a:pt x="215" y="1869"/>
                          </a:lnTo>
                          <a:lnTo>
                            <a:pt x="217" y="1870"/>
                          </a:lnTo>
                          <a:lnTo>
                            <a:pt x="219" y="1874"/>
                          </a:lnTo>
                          <a:lnTo>
                            <a:pt x="141" y="2163"/>
                          </a:lnTo>
                          <a:lnTo>
                            <a:pt x="143" y="2165"/>
                          </a:lnTo>
                          <a:lnTo>
                            <a:pt x="146" y="2165"/>
                          </a:lnTo>
                          <a:lnTo>
                            <a:pt x="150" y="2167"/>
                          </a:lnTo>
                          <a:lnTo>
                            <a:pt x="152" y="2167"/>
                          </a:lnTo>
                          <a:lnTo>
                            <a:pt x="154" y="2167"/>
                          </a:lnTo>
                          <a:lnTo>
                            <a:pt x="158" y="2167"/>
                          </a:lnTo>
                          <a:lnTo>
                            <a:pt x="162" y="2171"/>
                          </a:lnTo>
                          <a:lnTo>
                            <a:pt x="166" y="2171"/>
                          </a:lnTo>
                          <a:lnTo>
                            <a:pt x="167" y="2173"/>
                          </a:lnTo>
                          <a:lnTo>
                            <a:pt x="171" y="2173"/>
                          </a:lnTo>
                          <a:lnTo>
                            <a:pt x="175" y="2175"/>
                          </a:lnTo>
                          <a:lnTo>
                            <a:pt x="181" y="2175"/>
                          </a:lnTo>
                          <a:lnTo>
                            <a:pt x="185" y="2175"/>
                          </a:lnTo>
                          <a:lnTo>
                            <a:pt x="188" y="2177"/>
                          </a:lnTo>
                          <a:lnTo>
                            <a:pt x="194" y="2180"/>
                          </a:lnTo>
                          <a:lnTo>
                            <a:pt x="198" y="2180"/>
                          </a:lnTo>
                          <a:lnTo>
                            <a:pt x="204" y="2182"/>
                          </a:lnTo>
                          <a:lnTo>
                            <a:pt x="209" y="2182"/>
                          </a:lnTo>
                          <a:lnTo>
                            <a:pt x="215" y="2184"/>
                          </a:lnTo>
                          <a:lnTo>
                            <a:pt x="219" y="2186"/>
                          </a:lnTo>
                          <a:lnTo>
                            <a:pt x="224" y="2188"/>
                          </a:lnTo>
                          <a:lnTo>
                            <a:pt x="232" y="2188"/>
                          </a:lnTo>
                          <a:lnTo>
                            <a:pt x="238" y="2190"/>
                          </a:lnTo>
                          <a:lnTo>
                            <a:pt x="243" y="2190"/>
                          </a:lnTo>
                          <a:lnTo>
                            <a:pt x="251" y="2192"/>
                          </a:lnTo>
                          <a:lnTo>
                            <a:pt x="257" y="2194"/>
                          </a:lnTo>
                          <a:lnTo>
                            <a:pt x="264" y="2194"/>
                          </a:lnTo>
                          <a:lnTo>
                            <a:pt x="270" y="2196"/>
                          </a:lnTo>
                          <a:lnTo>
                            <a:pt x="276" y="2196"/>
                          </a:lnTo>
                          <a:lnTo>
                            <a:pt x="283" y="2197"/>
                          </a:lnTo>
                          <a:lnTo>
                            <a:pt x="291" y="2199"/>
                          </a:lnTo>
                          <a:lnTo>
                            <a:pt x="297" y="2199"/>
                          </a:lnTo>
                          <a:lnTo>
                            <a:pt x="304" y="2199"/>
                          </a:lnTo>
                          <a:lnTo>
                            <a:pt x="312" y="2199"/>
                          </a:lnTo>
                          <a:lnTo>
                            <a:pt x="320" y="2201"/>
                          </a:lnTo>
                          <a:lnTo>
                            <a:pt x="325" y="2201"/>
                          </a:lnTo>
                          <a:lnTo>
                            <a:pt x="333" y="2201"/>
                          </a:lnTo>
                          <a:lnTo>
                            <a:pt x="341" y="2201"/>
                          </a:lnTo>
                          <a:lnTo>
                            <a:pt x="348" y="2201"/>
                          </a:lnTo>
                          <a:lnTo>
                            <a:pt x="356" y="2201"/>
                          </a:lnTo>
                          <a:lnTo>
                            <a:pt x="363" y="2201"/>
                          </a:lnTo>
                          <a:lnTo>
                            <a:pt x="371" y="2201"/>
                          </a:lnTo>
                          <a:lnTo>
                            <a:pt x="379" y="2201"/>
                          </a:lnTo>
                          <a:lnTo>
                            <a:pt x="386" y="2201"/>
                          </a:lnTo>
                          <a:lnTo>
                            <a:pt x="394" y="2201"/>
                          </a:lnTo>
                          <a:lnTo>
                            <a:pt x="401" y="2199"/>
                          </a:lnTo>
                          <a:lnTo>
                            <a:pt x="409" y="2199"/>
                          </a:lnTo>
                          <a:lnTo>
                            <a:pt x="415" y="2197"/>
                          </a:lnTo>
                          <a:lnTo>
                            <a:pt x="422" y="2196"/>
                          </a:lnTo>
                          <a:lnTo>
                            <a:pt x="432" y="2196"/>
                          </a:lnTo>
                          <a:lnTo>
                            <a:pt x="439" y="2194"/>
                          </a:lnTo>
                          <a:lnTo>
                            <a:pt x="447" y="2192"/>
                          </a:lnTo>
                          <a:lnTo>
                            <a:pt x="455" y="2190"/>
                          </a:lnTo>
                          <a:lnTo>
                            <a:pt x="462" y="2188"/>
                          </a:lnTo>
                          <a:lnTo>
                            <a:pt x="470" y="2188"/>
                          </a:lnTo>
                          <a:lnTo>
                            <a:pt x="476" y="2184"/>
                          </a:lnTo>
                          <a:lnTo>
                            <a:pt x="483" y="2182"/>
                          </a:lnTo>
                          <a:lnTo>
                            <a:pt x="491" y="2180"/>
                          </a:lnTo>
                          <a:lnTo>
                            <a:pt x="498" y="2175"/>
                          </a:lnTo>
                          <a:lnTo>
                            <a:pt x="504" y="2173"/>
                          </a:lnTo>
                          <a:lnTo>
                            <a:pt x="512" y="2169"/>
                          </a:lnTo>
                          <a:lnTo>
                            <a:pt x="517" y="2165"/>
                          </a:lnTo>
                          <a:lnTo>
                            <a:pt x="525" y="2161"/>
                          </a:lnTo>
                          <a:lnTo>
                            <a:pt x="531" y="2158"/>
                          </a:lnTo>
                          <a:lnTo>
                            <a:pt x="536" y="2154"/>
                          </a:lnTo>
                          <a:lnTo>
                            <a:pt x="542" y="2150"/>
                          </a:lnTo>
                          <a:lnTo>
                            <a:pt x="550" y="2146"/>
                          </a:lnTo>
                          <a:lnTo>
                            <a:pt x="555" y="2142"/>
                          </a:lnTo>
                          <a:lnTo>
                            <a:pt x="559" y="2137"/>
                          </a:lnTo>
                          <a:lnTo>
                            <a:pt x="565" y="2133"/>
                          </a:lnTo>
                          <a:lnTo>
                            <a:pt x="571" y="2129"/>
                          </a:lnTo>
                          <a:lnTo>
                            <a:pt x="576" y="2123"/>
                          </a:lnTo>
                          <a:lnTo>
                            <a:pt x="582" y="2120"/>
                          </a:lnTo>
                          <a:lnTo>
                            <a:pt x="588" y="2114"/>
                          </a:lnTo>
                          <a:lnTo>
                            <a:pt x="592" y="2110"/>
                          </a:lnTo>
                          <a:lnTo>
                            <a:pt x="595" y="2106"/>
                          </a:lnTo>
                          <a:lnTo>
                            <a:pt x="601" y="2101"/>
                          </a:lnTo>
                          <a:lnTo>
                            <a:pt x="605" y="2095"/>
                          </a:lnTo>
                          <a:lnTo>
                            <a:pt x="611" y="2091"/>
                          </a:lnTo>
                          <a:lnTo>
                            <a:pt x="614" y="2085"/>
                          </a:lnTo>
                          <a:lnTo>
                            <a:pt x="618" y="2080"/>
                          </a:lnTo>
                          <a:lnTo>
                            <a:pt x="624" y="2076"/>
                          </a:lnTo>
                          <a:lnTo>
                            <a:pt x="628" y="2070"/>
                          </a:lnTo>
                          <a:lnTo>
                            <a:pt x="632" y="2064"/>
                          </a:lnTo>
                          <a:lnTo>
                            <a:pt x="635" y="2059"/>
                          </a:lnTo>
                          <a:lnTo>
                            <a:pt x="637" y="2055"/>
                          </a:lnTo>
                          <a:lnTo>
                            <a:pt x="643" y="2049"/>
                          </a:lnTo>
                          <a:lnTo>
                            <a:pt x="645" y="2043"/>
                          </a:lnTo>
                          <a:lnTo>
                            <a:pt x="649" y="2040"/>
                          </a:lnTo>
                          <a:lnTo>
                            <a:pt x="652" y="2034"/>
                          </a:lnTo>
                          <a:lnTo>
                            <a:pt x="654" y="2030"/>
                          </a:lnTo>
                          <a:lnTo>
                            <a:pt x="658" y="2024"/>
                          </a:lnTo>
                          <a:lnTo>
                            <a:pt x="660" y="2021"/>
                          </a:lnTo>
                          <a:lnTo>
                            <a:pt x="664" y="2015"/>
                          </a:lnTo>
                          <a:lnTo>
                            <a:pt x="666" y="2011"/>
                          </a:lnTo>
                          <a:lnTo>
                            <a:pt x="668" y="2005"/>
                          </a:lnTo>
                          <a:lnTo>
                            <a:pt x="672" y="2002"/>
                          </a:lnTo>
                          <a:lnTo>
                            <a:pt x="673" y="1998"/>
                          </a:lnTo>
                          <a:lnTo>
                            <a:pt x="675" y="1992"/>
                          </a:lnTo>
                          <a:lnTo>
                            <a:pt x="677" y="1986"/>
                          </a:lnTo>
                          <a:lnTo>
                            <a:pt x="679" y="1983"/>
                          </a:lnTo>
                          <a:lnTo>
                            <a:pt x="681" y="1979"/>
                          </a:lnTo>
                          <a:lnTo>
                            <a:pt x="683" y="1975"/>
                          </a:lnTo>
                          <a:lnTo>
                            <a:pt x="685" y="1971"/>
                          </a:lnTo>
                          <a:lnTo>
                            <a:pt x="687" y="1969"/>
                          </a:lnTo>
                          <a:lnTo>
                            <a:pt x="689" y="1964"/>
                          </a:lnTo>
                          <a:lnTo>
                            <a:pt x="691" y="1962"/>
                          </a:lnTo>
                          <a:lnTo>
                            <a:pt x="692" y="1958"/>
                          </a:lnTo>
                          <a:lnTo>
                            <a:pt x="692" y="1954"/>
                          </a:lnTo>
                          <a:lnTo>
                            <a:pt x="692" y="1952"/>
                          </a:lnTo>
                          <a:lnTo>
                            <a:pt x="694" y="1950"/>
                          </a:lnTo>
                          <a:lnTo>
                            <a:pt x="696" y="1945"/>
                          </a:lnTo>
                          <a:lnTo>
                            <a:pt x="698" y="1941"/>
                          </a:lnTo>
                          <a:lnTo>
                            <a:pt x="700" y="1937"/>
                          </a:lnTo>
                          <a:lnTo>
                            <a:pt x="700" y="1935"/>
                          </a:lnTo>
                          <a:lnTo>
                            <a:pt x="700" y="1933"/>
                          </a:lnTo>
                          <a:lnTo>
                            <a:pt x="702" y="1933"/>
                          </a:lnTo>
                          <a:lnTo>
                            <a:pt x="740" y="1943"/>
                          </a:lnTo>
                          <a:lnTo>
                            <a:pt x="740" y="1943"/>
                          </a:lnTo>
                          <a:lnTo>
                            <a:pt x="738" y="1945"/>
                          </a:lnTo>
                          <a:lnTo>
                            <a:pt x="738" y="1947"/>
                          </a:lnTo>
                          <a:lnTo>
                            <a:pt x="738" y="1950"/>
                          </a:lnTo>
                          <a:lnTo>
                            <a:pt x="738" y="1954"/>
                          </a:lnTo>
                          <a:lnTo>
                            <a:pt x="738" y="1958"/>
                          </a:lnTo>
                          <a:lnTo>
                            <a:pt x="736" y="1962"/>
                          </a:lnTo>
                          <a:lnTo>
                            <a:pt x="736" y="1964"/>
                          </a:lnTo>
                          <a:lnTo>
                            <a:pt x="736" y="1967"/>
                          </a:lnTo>
                          <a:lnTo>
                            <a:pt x="736" y="1971"/>
                          </a:lnTo>
                          <a:lnTo>
                            <a:pt x="736" y="1975"/>
                          </a:lnTo>
                          <a:lnTo>
                            <a:pt x="736" y="1979"/>
                          </a:lnTo>
                          <a:lnTo>
                            <a:pt x="736" y="1983"/>
                          </a:lnTo>
                          <a:lnTo>
                            <a:pt x="736" y="1985"/>
                          </a:lnTo>
                          <a:lnTo>
                            <a:pt x="736" y="1990"/>
                          </a:lnTo>
                          <a:lnTo>
                            <a:pt x="736" y="1994"/>
                          </a:lnTo>
                          <a:lnTo>
                            <a:pt x="736" y="1998"/>
                          </a:lnTo>
                          <a:lnTo>
                            <a:pt x="736" y="2004"/>
                          </a:lnTo>
                          <a:lnTo>
                            <a:pt x="736" y="2007"/>
                          </a:lnTo>
                          <a:lnTo>
                            <a:pt x="736" y="2013"/>
                          </a:lnTo>
                          <a:lnTo>
                            <a:pt x="736" y="2015"/>
                          </a:lnTo>
                          <a:lnTo>
                            <a:pt x="736" y="2021"/>
                          </a:lnTo>
                          <a:lnTo>
                            <a:pt x="736" y="2026"/>
                          </a:lnTo>
                          <a:lnTo>
                            <a:pt x="736" y="2030"/>
                          </a:lnTo>
                          <a:lnTo>
                            <a:pt x="736" y="2036"/>
                          </a:lnTo>
                          <a:lnTo>
                            <a:pt x="736" y="2042"/>
                          </a:lnTo>
                          <a:lnTo>
                            <a:pt x="736" y="2047"/>
                          </a:lnTo>
                          <a:lnTo>
                            <a:pt x="738" y="2051"/>
                          </a:lnTo>
                          <a:lnTo>
                            <a:pt x="738" y="2057"/>
                          </a:lnTo>
                          <a:lnTo>
                            <a:pt x="738" y="2062"/>
                          </a:lnTo>
                          <a:lnTo>
                            <a:pt x="740" y="2066"/>
                          </a:lnTo>
                          <a:lnTo>
                            <a:pt x="740" y="2072"/>
                          </a:lnTo>
                          <a:lnTo>
                            <a:pt x="742" y="2078"/>
                          </a:lnTo>
                          <a:lnTo>
                            <a:pt x="744" y="2083"/>
                          </a:lnTo>
                          <a:lnTo>
                            <a:pt x="744" y="2091"/>
                          </a:lnTo>
                          <a:lnTo>
                            <a:pt x="746" y="2095"/>
                          </a:lnTo>
                          <a:lnTo>
                            <a:pt x="748" y="2101"/>
                          </a:lnTo>
                          <a:lnTo>
                            <a:pt x="748" y="2106"/>
                          </a:lnTo>
                          <a:lnTo>
                            <a:pt x="751" y="2110"/>
                          </a:lnTo>
                          <a:lnTo>
                            <a:pt x="753" y="2118"/>
                          </a:lnTo>
                          <a:lnTo>
                            <a:pt x="753" y="2123"/>
                          </a:lnTo>
                          <a:lnTo>
                            <a:pt x="757" y="2129"/>
                          </a:lnTo>
                          <a:lnTo>
                            <a:pt x="759" y="2135"/>
                          </a:lnTo>
                          <a:lnTo>
                            <a:pt x="761" y="2139"/>
                          </a:lnTo>
                          <a:lnTo>
                            <a:pt x="765" y="2144"/>
                          </a:lnTo>
                          <a:lnTo>
                            <a:pt x="767" y="2150"/>
                          </a:lnTo>
                          <a:lnTo>
                            <a:pt x="769" y="2156"/>
                          </a:lnTo>
                          <a:lnTo>
                            <a:pt x="772" y="2159"/>
                          </a:lnTo>
                          <a:lnTo>
                            <a:pt x="776" y="2165"/>
                          </a:lnTo>
                          <a:lnTo>
                            <a:pt x="780" y="2171"/>
                          </a:lnTo>
                          <a:lnTo>
                            <a:pt x="782" y="2175"/>
                          </a:lnTo>
                          <a:lnTo>
                            <a:pt x="786" y="2180"/>
                          </a:lnTo>
                          <a:lnTo>
                            <a:pt x="789" y="2186"/>
                          </a:lnTo>
                          <a:lnTo>
                            <a:pt x="795" y="2190"/>
                          </a:lnTo>
                          <a:lnTo>
                            <a:pt x="799" y="2196"/>
                          </a:lnTo>
                          <a:lnTo>
                            <a:pt x="805" y="2201"/>
                          </a:lnTo>
                          <a:lnTo>
                            <a:pt x="808" y="2205"/>
                          </a:lnTo>
                          <a:lnTo>
                            <a:pt x="814" y="2209"/>
                          </a:lnTo>
                          <a:lnTo>
                            <a:pt x="818" y="2213"/>
                          </a:lnTo>
                          <a:lnTo>
                            <a:pt x="824" y="2216"/>
                          </a:lnTo>
                          <a:lnTo>
                            <a:pt x="828" y="2222"/>
                          </a:lnTo>
                          <a:lnTo>
                            <a:pt x="833" y="2224"/>
                          </a:lnTo>
                          <a:lnTo>
                            <a:pt x="839" y="2228"/>
                          </a:lnTo>
                          <a:lnTo>
                            <a:pt x="845" y="2232"/>
                          </a:lnTo>
                          <a:lnTo>
                            <a:pt x="848" y="2235"/>
                          </a:lnTo>
                          <a:lnTo>
                            <a:pt x="854" y="2239"/>
                          </a:lnTo>
                          <a:lnTo>
                            <a:pt x="858" y="2243"/>
                          </a:lnTo>
                          <a:lnTo>
                            <a:pt x="864" y="2245"/>
                          </a:lnTo>
                          <a:lnTo>
                            <a:pt x="867" y="2249"/>
                          </a:lnTo>
                          <a:lnTo>
                            <a:pt x="873" y="2253"/>
                          </a:lnTo>
                          <a:lnTo>
                            <a:pt x="877" y="2256"/>
                          </a:lnTo>
                          <a:lnTo>
                            <a:pt x="883" y="2258"/>
                          </a:lnTo>
                          <a:lnTo>
                            <a:pt x="890" y="2260"/>
                          </a:lnTo>
                          <a:lnTo>
                            <a:pt x="896" y="2264"/>
                          </a:lnTo>
                          <a:lnTo>
                            <a:pt x="900" y="2266"/>
                          </a:lnTo>
                          <a:lnTo>
                            <a:pt x="904" y="2268"/>
                          </a:lnTo>
                          <a:lnTo>
                            <a:pt x="907" y="2270"/>
                          </a:lnTo>
                          <a:lnTo>
                            <a:pt x="913" y="2273"/>
                          </a:lnTo>
                          <a:lnTo>
                            <a:pt x="919" y="2275"/>
                          </a:lnTo>
                          <a:lnTo>
                            <a:pt x="925" y="2277"/>
                          </a:lnTo>
                          <a:lnTo>
                            <a:pt x="928" y="2279"/>
                          </a:lnTo>
                          <a:lnTo>
                            <a:pt x="934" y="2281"/>
                          </a:lnTo>
                          <a:lnTo>
                            <a:pt x="938" y="2283"/>
                          </a:lnTo>
                          <a:lnTo>
                            <a:pt x="942" y="2285"/>
                          </a:lnTo>
                          <a:lnTo>
                            <a:pt x="947" y="2287"/>
                          </a:lnTo>
                          <a:lnTo>
                            <a:pt x="951" y="2289"/>
                          </a:lnTo>
                          <a:lnTo>
                            <a:pt x="955" y="2289"/>
                          </a:lnTo>
                          <a:lnTo>
                            <a:pt x="961" y="2291"/>
                          </a:lnTo>
                          <a:lnTo>
                            <a:pt x="964" y="2291"/>
                          </a:lnTo>
                          <a:lnTo>
                            <a:pt x="968" y="2294"/>
                          </a:lnTo>
                          <a:lnTo>
                            <a:pt x="972" y="2294"/>
                          </a:lnTo>
                          <a:lnTo>
                            <a:pt x="978" y="2294"/>
                          </a:lnTo>
                          <a:lnTo>
                            <a:pt x="982" y="2296"/>
                          </a:lnTo>
                          <a:lnTo>
                            <a:pt x="985" y="2296"/>
                          </a:lnTo>
                          <a:lnTo>
                            <a:pt x="989" y="2296"/>
                          </a:lnTo>
                          <a:lnTo>
                            <a:pt x="993" y="2298"/>
                          </a:lnTo>
                          <a:lnTo>
                            <a:pt x="997" y="2298"/>
                          </a:lnTo>
                          <a:lnTo>
                            <a:pt x="1001" y="2298"/>
                          </a:lnTo>
                          <a:lnTo>
                            <a:pt x="1004" y="2298"/>
                          </a:lnTo>
                          <a:lnTo>
                            <a:pt x="1008" y="2300"/>
                          </a:lnTo>
                          <a:lnTo>
                            <a:pt x="1010" y="2300"/>
                          </a:lnTo>
                          <a:lnTo>
                            <a:pt x="1014" y="2300"/>
                          </a:lnTo>
                          <a:lnTo>
                            <a:pt x="1016" y="2300"/>
                          </a:lnTo>
                          <a:lnTo>
                            <a:pt x="1020" y="2300"/>
                          </a:lnTo>
                          <a:lnTo>
                            <a:pt x="1022" y="2300"/>
                          </a:lnTo>
                          <a:lnTo>
                            <a:pt x="1025" y="2302"/>
                          </a:lnTo>
                          <a:lnTo>
                            <a:pt x="1029" y="2300"/>
                          </a:lnTo>
                          <a:lnTo>
                            <a:pt x="1035" y="2300"/>
                          </a:lnTo>
                          <a:lnTo>
                            <a:pt x="1039" y="2298"/>
                          </a:lnTo>
                          <a:lnTo>
                            <a:pt x="1042" y="2298"/>
                          </a:lnTo>
                          <a:lnTo>
                            <a:pt x="1044" y="2296"/>
                          </a:lnTo>
                          <a:lnTo>
                            <a:pt x="1048" y="2296"/>
                          </a:lnTo>
                          <a:lnTo>
                            <a:pt x="1048" y="2294"/>
                          </a:lnTo>
                          <a:lnTo>
                            <a:pt x="1050" y="2294"/>
                          </a:lnTo>
                          <a:lnTo>
                            <a:pt x="1246" y="1334"/>
                          </a:lnTo>
                          <a:lnTo>
                            <a:pt x="1246" y="1333"/>
                          </a:lnTo>
                          <a:lnTo>
                            <a:pt x="1248" y="1331"/>
                          </a:lnTo>
                          <a:lnTo>
                            <a:pt x="1250" y="1327"/>
                          </a:lnTo>
                          <a:lnTo>
                            <a:pt x="1252" y="1325"/>
                          </a:lnTo>
                          <a:lnTo>
                            <a:pt x="1252" y="1323"/>
                          </a:lnTo>
                          <a:lnTo>
                            <a:pt x="1254" y="1319"/>
                          </a:lnTo>
                          <a:lnTo>
                            <a:pt x="1256" y="1315"/>
                          </a:lnTo>
                          <a:lnTo>
                            <a:pt x="1259" y="1312"/>
                          </a:lnTo>
                          <a:lnTo>
                            <a:pt x="1259" y="1306"/>
                          </a:lnTo>
                          <a:lnTo>
                            <a:pt x="1263" y="1302"/>
                          </a:lnTo>
                          <a:lnTo>
                            <a:pt x="1265" y="1296"/>
                          </a:lnTo>
                          <a:lnTo>
                            <a:pt x="1269" y="1293"/>
                          </a:lnTo>
                          <a:lnTo>
                            <a:pt x="1271" y="1285"/>
                          </a:lnTo>
                          <a:lnTo>
                            <a:pt x="1275" y="1281"/>
                          </a:lnTo>
                          <a:lnTo>
                            <a:pt x="1276" y="1274"/>
                          </a:lnTo>
                          <a:lnTo>
                            <a:pt x="1280" y="1266"/>
                          </a:lnTo>
                          <a:lnTo>
                            <a:pt x="1284" y="1258"/>
                          </a:lnTo>
                          <a:lnTo>
                            <a:pt x="1288" y="1249"/>
                          </a:lnTo>
                          <a:lnTo>
                            <a:pt x="1290" y="1241"/>
                          </a:lnTo>
                          <a:lnTo>
                            <a:pt x="1294" y="1234"/>
                          </a:lnTo>
                          <a:lnTo>
                            <a:pt x="1297" y="1224"/>
                          </a:lnTo>
                          <a:lnTo>
                            <a:pt x="1301" y="1217"/>
                          </a:lnTo>
                          <a:lnTo>
                            <a:pt x="1305" y="1207"/>
                          </a:lnTo>
                          <a:lnTo>
                            <a:pt x="1309" y="1198"/>
                          </a:lnTo>
                          <a:lnTo>
                            <a:pt x="1313" y="1188"/>
                          </a:lnTo>
                          <a:lnTo>
                            <a:pt x="1316" y="1177"/>
                          </a:lnTo>
                          <a:lnTo>
                            <a:pt x="1320" y="1165"/>
                          </a:lnTo>
                          <a:lnTo>
                            <a:pt x="1324" y="1154"/>
                          </a:lnTo>
                          <a:lnTo>
                            <a:pt x="1330" y="1144"/>
                          </a:lnTo>
                          <a:lnTo>
                            <a:pt x="1334" y="1133"/>
                          </a:lnTo>
                          <a:lnTo>
                            <a:pt x="1337" y="1122"/>
                          </a:lnTo>
                          <a:lnTo>
                            <a:pt x="1339" y="1108"/>
                          </a:lnTo>
                          <a:lnTo>
                            <a:pt x="1345" y="1097"/>
                          </a:lnTo>
                          <a:lnTo>
                            <a:pt x="1349" y="1084"/>
                          </a:lnTo>
                          <a:lnTo>
                            <a:pt x="1353" y="1070"/>
                          </a:lnTo>
                          <a:lnTo>
                            <a:pt x="1354" y="1059"/>
                          </a:lnTo>
                          <a:lnTo>
                            <a:pt x="1358" y="1044"/>
                          </a:lnTo>
                          <a:lnTo>
                            <a:pt x="1362" y="1032"/>
                          </a:lnTo>
                          <a:lnTo>
                            <a:pt x="1366" y="1017"/>
                          </a:lnTo>
                          <a:lnTo>
                            <a:pt x="1370" y="1004"/>
                          </a:lnTo>
                          <a:lnTo>
                            <a:pt x="1372" y="988"/>
                          </a:lnTo>
                          <a:lnTo>
                            <a:pt x="1375" y="975"/>
                          </a:lnTo>
                          <a:lnTo>
                            <a:pt x="1377" y="960"/>
                          </a:lnTo>
                          <a:lnTo>
                            <a:pt x="1381" y="947"/>
                          </a:lnTo>
                          <a:lnTo>
                            <a:pt x="1383" y="931"/>
                          </a:lnTo>
                          <a:lnTo>
                            <a:pt x="1387" y="916"/>
                          </a:lnTo>
                          <a:lnTo>
                            <a:pt x="1389" y="901"/>
                          </a:lnTo>
                          <a:lnTo>
                            <a:pt x="1391" y="886"/>
                          </a:lnTo>
                          <a:lnTo>
                            <a:pt x="1392" y="871"/>
                          </a:lnTo>
                          <a:lnTo>
                            <a:pt x="1394" y="855"/>
                          </a:lnTo>
                          <a:lnTo>
                            <a:pt x="1396" y="838"/>
                          </a:lnTo>
                          <a:lnTo>
                            <a:pt x="1398" y="823"/>
                          </a:lnTo>
                          <a:lnTo>
                            <a:pt x="1398" y="806"/>
                          </a:lnTo>
                          <a:lnTo>
                            <a:pt x="1400" y="791"/>
                          </a:lnTo>
                          <a:lnTo>
                            <a:pt x="1402" y="774"/>
                          </a:lnTo>
                          <a:lnTo>
                            <a:pt x="1402" y="757"/>
                          </a:lnTo>
                          <a:lnTo>
                            <a:pt x="1402" y="741"/>
                          </a:lnTo>
                          <a:lnTo>
                            <a:pt x="1402" y="724"/>
                          </a:lnTo>
                          <a:lnTo>
                            <a:pt x="1402" y="705"/>
                          </a:lnTo>
                          <a:lnTo>
                            <a:pt x="1402" y="690"/>
                          </a:lnTo>
                          <a:lnTo>
                            <a:pt x="1400" y="673"/>
                          </a:lnTo>
                          <a:lnTo>
                            <a:pt x="1400" y="656"/>
                          </a:lnTo>
                          <a:lnTo>
                            <a:pt x="1398" y="654"/>
                          </a:lnTo>
                          <a:lnTo>
                            <a:pt x="1398" y="652"/>
                          </a:lnTo>
                          <a:lnTo>
                            <a:pt x="1398" y="648"/>
                          </a:lnTo>
                          <a:lnTo>
                            <a:pt x="1398" y="644"/>
                          </a:lnTo>
                          <a:lnTo>
                            <a:pt x="1398" y="643"/>
                          </a:lnTo>
                          <a:lnTo>
                            <a:pt x="1398" y="639"/>
                          </a:lnTo>
                          <a:lnTo>
                            <a:pt x="1396" y="637"/>
                          </a:lnTo>
                          <a:lnTo>
                            <a:pt x="1396" y="633"/>
                          </a:lnTo>
                          <a:lnTo>
                            <a:pt x="1396" y="631"/>
                          </a:lnTo>
                          <a:lnTo>
                            <a:pt x="1396" y="627"/>
                          </a:lnTo>
                          <a:lnTo>
                            <a:pt x="1396" y="623"/>
                          </a:lnTo>
                          <a:lnTo>
                            <a:pt x="1394" y="620"/>
                          </a:lnTo>
                          <a:lnTo>
                            <a:pt x="1394" y="618"/>
                          </a:lnTo>
                          <a:lnTo>
                            <a:pt x="1394" y="616"/>
                          </a:lnTo>
                          <a:lnTo>
                            <a:pt x="1392" y="612"/>
                          </a:lnTo>
                          <a:lnTo>
                            <a:pt x="1392" y="610"/>
                          </a:lnTo>
                          <a:lnTo>
                            <a:pt x="1392" y="608"/>
                          </a:lnTo>
                          <a:lnTo>
                            <a:pt x="1391" y="604"/>
                          </a:lnTo>
                          <a:lnTo>
                            <a:pt x="1391" y="603"/>
                          </a:lnTo>
                          <a:lnTo>
                            <a:pt x="1391" y="599"/>
                          </a:lnTo>
                          <a:lnTo>
                            <a:pt x="1389" y="597"/>
                          </a:lnTo>
                          <a:lnTo>
                            <a:pt x="1389" y="593"/>
                          </a:lnTo>
                          <a:lnTo>
                            <a:pt x="1389" y="589"/>
                          </a:lnTo>
                          <a:lnTo>
                            <a:pt x="1389" y="587"/>
                          </a:lnTo>
                          <a:lnTo>
                            <a:pt x="1387" y="585"/>
                          </a:lnTo>
                          <a:lnTo>
                            <a:pt x="1385" y="582"/>
                          </a:lnTo>
                          <a:lnTo>
                            <a:pt x="1385" y="580"/>
                          </a:lnTo>
                          <a:lnTo>
                            <a:pt x="1383" y="578"/>
                          </a:lnTo>
                          <a:lnTo>
                            <a:pt x="1383" y="572"/>
                          </a:lnTo>
                          <a:lnTo>
                            <a:pt x="1381" y="568"/>
                          </a:lnTo>
                          <a:lnTo>
                            <a:pt x="1377" y="563"/>
                          </a:lnTo>
                          <a:lnTo>
                            <a:pt x="1375" y="557"/>
                          </a:lnTo>
                          <a:lnTo>
                            <a:pt x="1373" y="553"/>
                          </a:lnTo>
                          <a:lnTo>
                            <a:pt x="1370" y="547"/>
                          </a:lnTo>
                          <a:lnTo>
                            <a:pt x="1366" y="544"/>
                          </a:lnTo>
                          <a:lnTo>
                            <a:pt x="1364" y="540"/>
                          </a:lnTo>
                          <a:lnTo>
                            <a:pt x="1360" y="536"/>
                          </a:lnTo>
                          <a:lnTo>
                            <a:pt x="1356" y="532"/>
                          </a:lnTo>
                          <a:lnTo>
                            <a:pt x="1353" y="528"/>
                          </a:lnTo>
                          <a:lnTo>
                            <a:pt x="1349" y="525"/>
                          </a:lnTo>
                          <a:lnTo>
                            <a:pt x="1345" y="523"/>
                          </a:lnTo>
                          <a:lnTo>
                            <a:pt x="1339" y="521"/>
                          </a:lnTo>
                          <a:lnTo>
                            <a:pt x="1335" y="517"/>
                          </a:lnTo>
                          <a:lnTo>
                            <a:pt x="1332" y="515"/>
                          </a:lnTo>
                          <a:lnTo>
                            <a:pt x="1326" y="515"/>
                          </a:lnTo>
                          <a:lnTo>
                            <a:pt x="1322" y="513"/>
                          </a:lnTo>
                          <a:lnTo>
                            <a:pt x="1318" y="511"/>
                          </a:lnTo>
                          <a:lnTo>
                            <a:pt x="1316" y="511"/>
                          </a:lnTo>
                          <a:lnTo>
                            <a:pt x="1313" y="511"/>
                          </a:lnTo>
                          <a:lnTo>
                            <a:pt x="1311" y="511"/>
                          </a:lnTo>
                          <a:lnTo>
                            <a:pt x="1309" y="509"/>
                          </a:lnTo>
                          <a:lnTo>
                            <a:pt x="1305" y="509"/>
                          </a:lnTo>
                          <a:lnTo>
                            <a:pt x="1303" y="509"/>
                          </a:lnTo>
                          <a:lnTo>
                            <a:pt x="1301" y="509"/>
                          </a:lnTo>
                          <a:lnTo>
                            <a:pt x="1297" y="509"/>
                          </a:lnTo>
                          <a:lnTo>
                            <a:pt x="1295" y="509"/>
                          </a:lnTo>
                          <a:lnTo>
                            <a:pt x="1292" y="509"/>
                          </a:lnTo>
                          <a:lnTo>
                            <a:pt x="1290" y="509"/>
                          </a:lnTo>
                          <a:lnTo>
                            <a:pt x="1284" y="509"/>
                          </a:lnTo>
                          <a:lnTo>
                            <a:pt x="1280" y="509"/>
                          </a:lnTo>
                          <a:lnTo>
                            <a:pt x="1275" y="509"/>
                          </a:lnTo>
                          <a:lnTo>
                            <a:pt x="1269" y="509"/>
                          </a:lnTo>
                          <a:lnTo>
                            <a:pt x="1265" y="509"/>
                          </a:lnTo>
                          <a:lnTo>
                            <a:pt x="1259" y="509"/>
                          </a:lnTo>
                          <a:lnTo>
                            <a:pt x="1256" y="511"/>
                          </a:lnTo>
                          <a:lnTo>
                            <a:pt x="1252" y="511"/>
                          </a:lnTo>
                          <a:lnTo>
                            <a:pt x="1246" y="515"/>
                          </a:lnTo>
                          <a:lnTo>
                            <a:pt x="1242" y="515"/>
                          </a:lnTo>
                          <a:lnTo>
                            <a:pt x="1238" y="517"/>
                          </a:lnTo>
                          <a:lnTo>
                            <a:pt x="1235" y="521"/>
                          </a:lnTo>
                          <a:lnTo>
                            <a:pt x="1231" y="523"/>
                          </a:lnTo>
                          <a:lnTo>
                            <a:pt x="1229" y="525"/>
                          </a:lnTo>
                          <a:lnTo>
                            <a:pt x="1225" y="527"/>
                          </a:lnTo>
                          <a:lnTo>
                            <a:pt x="1221" y="530"/>
                          </a:lnTo>
                          <a:lnTo>
                            <a:pt x="1219" y="532"/>
                          </a:lnTo>
                          <a:lnTo>
                            <a:pt x="1216" y="538"/>
                          </a:lnTo>
                          <a:lnTo>
                            <a:pt x="1214" y="542"/>
                          </a:lnTo>
                          <a:lnTo>
                            <a:pt x="1212" y="546"/>
                          </a:lnTo>
                          <a:lnTo>
                            <a:pt x="1210" y="549"/>
                          </a:lnTo>
                          <a:lnTo>
                            <a:pt x="1208" y="555"/>
                          </a:lnTo>
                          <a:lnTo>
                            <a:pt x="1208" y="557"/>
                          </a:lnTo>
                          <a:lnTo>
                            <a:pt x="1206" y="559"/>
                          </a:lnTo>
                          <a:lnTo>
                            <a:pt x="1204" y="561"/>
                          </a:lnTo>
                          <a:lnTo>
                            <a:pt x="1204" y="565"/>
                          </a:lnTo>
                          <a:lnTo>
                            <a:pt x="1204" y="566"/>
                          </a:lnTo>
                          <a:lnTo>
                            <a:pt x="1204" y="570"/>
                          </a:lnTo>
                          <a:lnTo>
                            <a:pt x="1204" y="572"/>
                          </a:lnTo>
                          <a:lnTo>
                            <a:pt x="1204" y="576"/>
                          </a:lnTo>
                          <a:lnTo>
                            <a:pt x="1139" y="895"/>
                          </a:lnTo>
                          <a:lnTo>
                            <a:pt x="1136" y="893"/>
                          </a:lnTo>
                          <a:lnTo>
                            <a:pt x="1132" y="892"/>
                          </a:lnTo>
                          <a:lnTo>
                            <a:pt x="1126" y="888"/>
                          </a:lnTo>
                          <a:lnTo>
                            <a:pt x="1122" y="886"/>
                          </a:lnTo>
                          <a:lnTo>
                            <a:pt x="1117" y="884"/>
                          </a:lnTo>
                          <a:lnTo>
                            <a:pt x="1113" y="880"/>
                          </a:lnTo>
                          <a:lnTo>
                            <a:pt x="1107" y="878"/>
                          </a:lnTo>
                          <a:lnTo>
                            <a:pt x="1105" y="876"/>
                          </a:lnTo>
                          <a:lnTo>
                            <a:pt x="1227" y="316"/>
                          </a:lnTo>
                          <a:lnTo>
                            <a:pt x="1227" y="312"/>
                          </a:lnTo>
                          <a:lnTo>
                            <a:pt x="1227" y="308"/>
                          </a:lnTo>
                          <a:lnTo>
                            <a:pt x="1229" y="306"/>
                          </a:lnTo>
                          <a:lnTo>
                            <a:pt x="1229" y="304"/>
                          </a:lnTo>
                          <a:lnTo>
                            <a:pt x="1229" y="300"/>
                          </a:lnTo>
                          <a:lnTo>
                            <a:pt x="1229" y="298"/>
                          </a:lnTo>
                          <a:lnTo>
                            <a:pt x="1229" y="295"/>
                          </a:lnTo>
                          <a:lnTo>
                            <a:pt x="1229" y="293"/>
                          </a:lnTo>
                          <a:lnTo>
                            <a:pt x="1229" y="291"/>
                          </a:lnTo>
                          <a:lnTo>
                            <a:pt x="1229" y="287"/>
                          </a:lnTo>
                          <a:lnTo>
                            <a:pt x="1229" y="285"/>
                          </a:lnTo>
                          <a:lnTo>
                            <a:pt x="1229" y="283"/>
                          </a:lnTo>
                          <a:lnTo>
                            <a:pt x="1229" y="278"/>
                          </a:lnTo>
                          <a:lnTo>
                            <a:pt x="1227" y="272"/>
                          </a:lnTo>
                          <a:lnTo>
                            <a:pt x="1225" y="268"/>
                          </a:lnTo>
                          <a:lnTo>
                            <a:pt x="1225" y="262"/>
                          </a:lnTo>
                          <a:lnTo>
                            <a:pt x="1223" y="257"/>
                          </a:lnTo>
                          <a:lnTo>
                            <a:pt x="1221" y="253"/>
                          </a:lnTo>
                          <a:lnTo>
                            <a:pt x="1219" y="247"/>
                          </a:lnTo>
                          <a:lnTo>
                            <a:pt x="1217" y="243"/>
                          </a:lnTo>
                          <a:lnTo>
                            <a:pt x="1216" y="240"/>
                          </a:lnTo>
                          <a:lnTo>
                            <a:pt x="1214" y="236"/>
                          </a:lnTo>
                          <a:lnTo>
                            <a:pt x="1210" y="232"/>
                          </a:lnTo>
                          <a:lnTo>
                            <a:pt x="1206" y="226"/>
                          </a:lnTo>
                          <a:lnTo>
                            <a:pt x="1202" y="222"/>
                          </a:lnTo>
                          <a:lnTo>
                            <a:pt x="1200" y="219"/>
                          </a:lnTo>
                          <a:lnTo>
                            <a:pt x="1197" y="215"/>
                          </a:lnTo>
                          <a:lnTo>
                            <a:pt x="1193" y="211"/>
                          </a:lnTo>
                          <a:lnTo>
                            <a:pt x="1189" y="207"/>
                          </a:lnTo>
                          <a:lnTo>
                            <a:pt x="1185" y="205"/>
                          </a:lnTo>
                          <a:lnTo>
                            <a:pt x="1179" y="203"/>
                          </a:lnTo>
                          <a:lnTo>
                            <a:pt x="1176" y="200"/>
                          </a:lnTo>
                          <a:lnTo>
                            <a:pt x="1172" y="198"/>
                          </a:lnTo>
                          <a:lnTo>
                            <a:pt x="1166" y="194"/>
                          </a:lnTo>
                          <a:lnTo>
                            <a:pt x="1160" y="192"/>
                          </a:lnTo>
                          <a:lnTo>
                            <a:pt x="1157" y="192"/>
                          </a:lnTo>
                          <a:lnTo>
                            <a:pt x="1151" y="190"/>
                          </a:lnTo>
                          <a:lnTo>
                            <a:pt x="1147" y="190"/>
                          </a:lnTo>
                          <a:lnTo>
                            <a:pt x="1143" y="188"/>
                          </a:lnTo>
                          <a:lnTo>
                            <a:pt x="1141" y="186"/>
                          </a:lnTo>
                          <a:lnTo>
                            <a:pt x="1138" y="186"/>
                          </a:lnTo>
                          <a:lnTo>
                            <a:pt x="1136" y="186"/>
                          </a:lnTo>
                          <a:lnTo>
                            <a:pt x="1134" y="186"/>
                          </a:lnTo>
                          <a:lnTo>
                            <a:pt x="1130" y="186"/>
                          </a:lnTo>
                          <a:lnTo>
                            <a:pt x="1128" y="186"/>
                          </a:lnTo>
                          <a:lnTo>
                            <a:pt x="1124" y="186"/>
                          </a:lnTo>
                          <a:lnTo>
                            <a:pt x="1122" y="186"/>
                          </a:lnTo>
                          <a:lnTo>
                            <a:pt x="1120" y="186"/>
                          </a:lnTo>
                          <a:lnTo>
                            <a:pt x="1117" y="186"/>
                          </a:lnTo>
                          <a:lnTo>
                            <a:pt x="1115" y="186"/>
                          </a:lnTo>
                          <a:lnTo>
                            <a:pt x="1109" y="186"/>
                          </a:lnTo>
                          <a:lnTo>
                            <a:pt x="1105" y="188"/>
                          </a:lnTo>
                          <a:lnTo>
                            <a:pt x="1100" y="188"/>
                          </a:lnTo>
                          <a:lnTo>
                            <a:pt x="1094" y="190"/>
                          </a:lnTo>
                          <a:lnTo>
                            <a:pt x="1090" y="192"/>
                          </a:lnTo>
                          <a:lnTo>
                            <a:pt x="1086" y="192"/>
                          </a:lnTo>
                          <a:lnTo>
                            <a:pt x="1081" y="194"/>
                          </a:lnTo>
                          <a:lnTo>
                            <a:pt x="1077" y="198"/>
                          </a:lnTo>
                          <a:lnTo>
                            <a:pt x="1073" y="200"/>
                          </a:lnTo>
                          <a:lnTo>
                            <a:pt x="1067" y="203"/>
                          </a:lnTo>
                          <a:lnTo>
                            <a:pt x="1063" y="205"/>
                          </a:lnTo>
                          <a:lnTo>
                            <a:pt x="1058" y="207"/>
                          </a:lnTo>
                          <a:lnTo>
                            <a:pt x="1054" y="211"/>
                          </a:lnTo>
                          <a:lnTo>
                            <a:pt x="1050" y="215"/>
                          </a:lnTo>
                          <a:lnTo>
                            <a:pt x="1048" y="219"/>
                          </a:lnTo>
                          <a:lnTo>
                            <a:pt x="1044" y="222"/>
                          </a:lnTo>
                          <a:lnTo>
                            <a:pt x="1041" y="226"/>
                          </a:lnTo>
                          <a:lnTo>
                            <a:pt x="1039" y="232"/>
                          </a:lnTo>
                          <a:lnTo>
                            <a:pt x="1035" y="234"/>
                          </a:lnTo>
                          <a:lnTo>
                            <a:pt x="1033" y="240"/>
                          </a:lnTo>
                          <a:lnTo>
                            <a:pt x="1029" y="243"/>
                          </a:lnTo>
                          <a:lnTo>
                            <a:pt x="1027" y="249"/>
                          </a:lnTo>
                          <a:lnTo>
                            <a:pt x="1025" y="253"/>
                          </a:lnTo>
                          <a:lnTo>
                            <a:pt x="1023" y="259"/>
                          </a:lnTo>
                          <a:lnTo>
                            <a:pt x="1022" y="260"/>
                          </a:lnTo>
                          <a:lnTo>
                            <a:pt x="1022" y="264"/>
                          </a:lnTo>
                          <a:lnTo>
                            <a:pt x="1022" y="266"/>
                          </a:lnTo>
                          <a:lnTo>
                            <a:pt x="1022" y="270"/>
                          </a:lnTo>
                          <a:lnTo>
                            <a:pt x="919" y="730"/>
                          </a:lnTo>
                          <a:lnTo>
                            <a:pt x="915" y="728"/>
                          </a:lnTo>
                          <a:lnTo>
                            <a:pt x="913" y="726"/>
                          </a:lnTo>
                          <a:lnTo>
                            <a:pt x="907" y="724"/>
                          </a:lnTo>
                          <a:lnTo>
                            <a:pt x="905" y="720"/>
                          </a:lnTo>
                          <a:lnTo>
                            <a:pt x="904" y="719"/>
                          </a:lnTo>
                          <a:lnTo>
                            <a:pt x="900" y="717"/>
                          </a:lnTo>
                          <a:lnTo>
                            <a:pt x="896" y="713"/>
                          </a:lnTo>
                          <a:lnTo>
                            <a:pt x="892" y="713"/>
                          </a:lnTo>
                          <a:lnTo>
                            <a:pt x="1022" y="129"/>
                          </a:lnTo>
                          <a:lnTo>
                            <a:pt x="1022" y="125"/>
                          </a:lnTo>
                          <a:lnTo>
                            <a:pt x="1022" y="124"/>
                          </a:lnTo>
                          <a:lnTo>
                            <a:pt x="1022" y="120"/>
                          </a:lnTo>
                          <a:lnTo>
                            <a:pt x="1022" y="118"/>
                          </a:lnTo>
                          <a:lnTo>
                            <a:pt x="1022" y="114"/>
                          </a:lnTo>
                          <a:lnTo>
                            <a:pt x="1022" y="112"/>
                          </a:lnTo>
                          <a:lnTo>
                            <a:pt x="1022" y="110"/>
                          </a:lnTo>
                          <a:lnTo>
                            <a:pt x="1022" y="106"/>
                          </a:lnTo>
                          <a:lnTo>
                            <a:pt x="1022" y="105"/>
                          </a:lnTo>
                          <a:lnTo>
                            <a:pt x="1022" y="103"/>
                          </a:lnTo>
                          <a:lnTo>
                            <a:pt x="1022" y="99"/>
                          </a:lnTo>
                          <a:lnTo>
                            <a:pt x="1022" y="97"/>
                          </a:lnTo>
                          <a:lnTo>
                            <a:pt x="1022" y="91"/>
                          </a:lnTo>
                          <a:lnTo>
                            <a:pt x="1022" y="86"/>
                          </a:lnTo>
                          <a:lnTo>
                            <a:pt x="1020" y="82"/>
                          </a:lnTo>
                          <a:lnTo>
                            <a:pt x="1018" y="76"/>
                          </a:lnTo>
                          <a:lnTo>
                            <a:pt x="1016" y="70"/>
                          </a:lnTo>
                          <a:lnTo>
                            <a:pt x="1014" y="67"/>
                          </a:lnTo>
                          <a:lnTo>
                            <a:pt x="1012" y="61"/>
                          </a:lnTo>
                          <a:lnTo>
                            <a:pt x="1010" y="57"/>
                          </a:lnTo>
                          <a:lnTo>
                            <a:pt x="1008" y="53"/>
                          </a:lnTo>
                          <a:lnTo>
                            <a:pt x="1006" y="48"/>
                          </a:lnTo>
                          <a:lnTo>
                            <a:pt x="1004" y="44"/>
                          </a:lnTo>
                          <a:lnTo>
                            <a:pt x="1001" y="40"/>
                          </a:lnTo>
                          <a:lnTo>
                            <a:pt x="997" y="36"/>
                          </a:lnTo>
                          <a:lnTo>
                            <a:pt x="993" y="32"/>
                          </a:lnTo>
                          <a:lnTo>
                            <a:pt x="991" y="29"/>
                          </a:lnTo>
                          <a:lnTo>
                            <a:pt x="985" y="25"/>
                          </a:lnTo>
                          <a:lnTo>
                            <a:pt x="983" y="23"/>
                          </a:lnTo>
                          <a:lnTo>
                            <a:pt x="978" y="19"/>
                          </a:lnTo>
                          <a:lnTo>
                            <a:pt x="972" y="17"/>
                          </a:lnTo>
                          <a:lnTo>
                            <a:pt x="968" y="13"/>
                          </a:lnTo>
                          <a:lnTo>
                            <a:pt x="964" y="11"/>
                          </a:lnTo>
                          <a:lnTo>
                            <a:pt x="961" y="10"/>
                          </a:lnTo>
                          <a:lnTo>
                            <a:pt x="955" y="6"/>
                          </a:lnTo>
                          <a:lnTo>
                            <a:pt x="949" y="6"/>
                          </a:lnTo>
                          <a:lnTo>
                            <a:pt x="944" y="4"/>
                          </a:lnTo>
                          <a:lnTo>
                            <a:pt x="940" y="4"/>
                          </a:lnTo>
                          <a:lnTo>
                            <a:pt x="936" y="2"/>
                          </a:lnTo>
                          <a:lnTo>
                            <a:pt x="934" y="2"/>
                          </a:lnTo>
                          <a:lnTo>
                            <a:pt x="932" y="0"/>
                          </a:lnTo>
                          <a:lnTo>
                            <a:pt x="928" y="0"/>
                          </a:lnTo>
                          <a:lnTo>
                            <a:pt x="926" y="0"/>
                          </a:lnTo>
                          <a:lnTo>
                            <a:pt x="925" y="0"/>
                          </a:lnTo>
                          <a:lnTo>
                            <a:pt x="921" y="0"/>
                          </a:lnTo>
                          <a:lnTo>
                            <a:pt x="919" y="0"/>
                          </a:lnTo>
                          <a:lnTo>
                            <a:pt x="915" y="0"/>
                          </a:lnTo>
                          <a:lnTo>
                            <a:pt x="913" y="0"/>
                          </a:lnTo>
                          <a:lnTo>
                            <a:pt x="911" y="0"/>
                          </a:lnTo>
                          <a:lnTo>
                            <a:pt x="907" y="0"/>
                          </a:lnTo>
                          <a:lnTo>
                            <a:pt x="904" y="0"/>
                          </a:lnTo>
                          <a:lnTo>
                            <a:pt x="898" y="2"/>
                          </a:lnTo>
                          <a:lnTo>
                            <a:pt x="896" y="2"/>
                          </a:lnTo>
                          <a:lnTo>
                            <a:pt x="892" y="2"/>
                          </a:lnTo>
                          <a:lnTo>
                            <a:pt x="890" y="2"/>
                          </a:lnTo>
                          <a:lnTo>
                            <a:pt x="888" y="4"/>
                          </a:lnTo>
                          <a:lnTo>
                            <a:pt x="881" y="4"/>
                          </a:lnTo>
                          <a:lnTo>
                            <a:pt x="877" y="6"/>
                          </a:lnTo>
                          <a:lnTo>
                            <a:pt x="873" y="10"/>
                          </a:lnTo>
                          <a:lnTo>
                            <a:pt x="867" y="11"/>
                          </a:lnTo>
                          <a:lnTo>
                            <a:pt x="864" y="15"/>
                          </a:lnTo>
                          <a:lnTo>
                            <a:pt x="860" y="17"/>
                          </a:lnTo>
                          <a:lnTo>
                            <a:pt x="854" y="19"/>
                          </a:lnTo>
                          <a:lnTo>
                            <a:pt x="850" y="23"/>
                          </a:lnTo>
                          <a:lnTo>
                            <a:pt x="847" y="25"/>
                          </a:lnTo>
                          <a:lnTo>
                            <a:pt x="843" y="29"/>
                          </a:lnTo>
                          <a:lnTo>
                            <a:pt x="839" y="32"/>
                          </a:lnTo>
                          <a:lnTo>
                            <a:pt x="835" y="36"/>
                          </a:lnTo>
                          <a:lnTo>
                            <a:pt x="833" y="40"/>
                          </a:lnTo>
                          <a:lnTo>
                            <a:pt x="831" y="44"/>
                          </a:lnTo>
                          <a:lnTo>
                            <a:pt x="828" y="48"/>
                          </a:lnTo>
                          <a:lnTo>
                            <a:pt x="824" y="53"/>
                          </a:lnTo>
                          <a:lnTo>
                            <a:pt x="822" y="57"/>
                          </a:lnTo>
                          <a:lnTo>
                            <a:pt x="820" y="61"/>
                          </a:lnTo>
                          <a:lnTo>
                            <a:pt x="818" y="67"/>
                          </a:lnTo>
                          <a:lnTo>
                            <a:pt x="816" y="70"/>
                          </a:lnTo>
                          <a:lnTo>
                            <a:pt x="816" y="74"/>
                          </a:lnTo>
                          <a:lnTo>
                            <a:pt x="814" y="76"/>
                          </a:lnTo>
                          <a:lnTo>
                            <a:pt x="812" y="82"/>
                          </a:lnTo>
                          <a:lnTo>
                            <a:pt x="812" y="84"/>
                          </a:lnTo>
                          <a:lnTo>
                            <a:pt x="687" y="663"/>
                          </a:lnTo>
                          <a:lnTo>
                            <a:pt x="681" y="663"/>
                          </a:lnTo>
                          <a:lnTo>
                            <a:pt x="677" y="663"/>
                          </a:lnTo>
                          <a:lnTo>
                            <a:pt x="673" y="663"/>
                          </a:lnTo>
                          <a:lnTo>
                            <a:pt x="670" y="663"/>
                          </a:lnTo>
                          <a:lnTo>
                            <a:pt x="666" y="663"/>
                          </a:lnTo>
                          <a:lnTo>
                            <a:pt x="660" y="665"/>
                          </a:lnTo>
                          <a:lnTo>
                            <a:pt x="656" y="665"/>
                          </a:lnTo>
                          <a:lnTo>
                            <a:pt x="652" y="667"/>
                          </a:lnTo>
                          <a:lnTo>
                            <a:pt x="753" y="213"/>
                          </a:lnTo>
                          <a:lnTo>
                            <a:pt x="753" y="209"/>
                          </a:lnTo>
                          <a:lnTo>
                            <a:pt x="753" y="207"/>
                          </a:lnTo>
                          <a:lnTo>
                            <a:pt x="753" y="203"/>
                          </a:lnTo>
                          <a:lnTo>
                            <a:pt x="753" y="201"/>
                          </a:lnTo>
                          <a:lnTo>
                            <a:pt x="753" y="198"/>
                          </a:lnTo>
                          <a:lnTo>
                            <a:pt x="753" y="196"/>
                          </a:lnTo>
                          <a:lnTo>
                            <a:pt x="753" y="192"/>
                          </a:lnTo>
                          <a:lnTo>
                            <a:pt x="753" y="190"/>
                          </a:lnTo>
                          <a:lnTo>
                            <a:pt x="753" y="188"/>
                          </a:lnTo>
                          <a:lnTo>
                            <a:pt x="753" y="184"/>
                          </a:lnTo>
                          <a:lnTo>
                            <a:pt x="753" y="182"/>
                          </a:lnTo>
                          <a:lnTo>
                            <a:pt x="753" y="181"/>
                          </a:lnTo>
                          <a:lnTo>
                            <a:pt x="753" y="175"/>
                          </a:lnTo>
                          <a:lnTo>
                            <a:pt x="753" y="169"/>
                          </a:lnTo>
                          <a:lnTo>
                            <a:pt x="751" y="167"/>
                          </a:lnTo>
                          <a:lnTo>
                            <a:pt x="751" y="163"/>
                          </a:lnTo>
                          <a:lnTo>
                            <a:pt x="751" y="162"/>
                          </a:lnTo>
                          <a:lnTo>
                            <a:pt x="750" y="160"/>
                          </a:lnTo>
                          <a:lnTo>
                            <a:pt x="748" y="154"/>
                          </a:lnTo>
                          <a:lnTo>
                            <a:pt x="746" y="148"/>
                          </a:lnTo>
                          <a:lnTo>
                            <a:pt x="744" y="144"/>
                          </a:lnTo>
                          <a:lnTo>
                            <a:pt x="742" y="141"/>
                          </a:lnTo>
                          <a:lnTo>
                            <a:pt x="740" y="135"/>
                          </a:lnTo>
                          <a:lnTo>
                            <a:pt x="738" y="131"/>
                          </a:lnTo>
                          <a:lnTo>
                            <a:pt x="734" y="127"/>
                          </a:lnTo>
                          <a:lnTo>
                            <a:pt x="730" y="124"/>
                          </a:lnTo>
                          <a:lnTo>
                            <a:pt x="727" y="120"/>
                          </a:lnTo>
                          <a:lnTo>
                            <a:pt x="725" y="116"/>
                          </a:lnTo>
                          <a:lnTo>
                            <a:pt x="721" y="112"/>
                          </a:lnTo>
                          <a:lnTo>
                            <a:pt x="717" y="108"/>
                          </a:lnTo>
                          <a:lnTo>
                            <a:pt x="713" y="105"/>
                          </a:lnTo>
                          <a:lnTo>
                            <a:pt x="710" y="103"/>
                          </a:lnTo>
                          <a:lnTo>
                            <a:pt x="704" y="99"/>
                          </a:lnTo>
                          <a:lnTo>
                            <a:pt x="700" y="97"/>
                          </a:lnTo>
                          <a:lnTo>
                            <a:pt x="694" y="95"/>
                          </a:lnTo>
                          <a:lnTo>
                            <a:pt x="691" y="91"/>
                          </a:lnTo>
                          <a:lnTo>
                            <a:pt x="685" y="89"/>
                          </a:lnTo>
                          <a:lnTo>
                            <a:pt x="681" y="87"/>
                          </a:lnTo>
                          <a:lnTo>
                            <a:pt x="675" y="86"/>
                          </a:lnTo>
                          <a:lnTo>
                            <a:pt x="672" y="86"/>
                          </a:lnTo>
                          <a:lnTo>
                            <a:pt x="668" y="84"/>
                          </a:lnTo>
                          <a:lnTo>
                            <a:pt x="666" y="84"/>
                          </a:lnTo>
                          <a:lnTo>
                            <a:pt x="664" y="84"/>
                          </a:lnTo>
                          <a:lnTo>
                            <a:pt x="660" y="84"/>
                          </a:lnTo>
                          <a:lnTo>
                            <a:pt x="658" y="84"/>
                          </a:lnTo>
                          <a:lnTo>
                            <a:pt x="654" y="84"/>
                          </a:lnTo>
                          <a:lnTo>
                            <a:pt x="652" y="84"/>
                          </a:lnTo>
                          <a:lnTo>
                            <a:pt x="651" y="84"/>
                          </a:lnTo>
                          <a:lnTo>
                            <a:pt x="647" y="84"/>
                          </a:lnTo>
                          <a:lnTo>
                            <a:pt x="645" y="84"/>
                          </a:lnTo>
                          <a:lnTo>
                            <a:pt x="643" y="84"/>
                          </a:lnTo>
                          <a:lnTo>
                            <a:pt x="639" y="84"/>
                          </a:lnTo>
                          <a:lnTo>
                            <a:pt x="635" y="84"/>
                          </a:lnTo>
                          <a:lnTo>
                            <a:pt x="630" y="84"/>
                          </a:lnTo>
                          <a:lnTo>
                            <a:pt x="628" y="84"/>
                          </a:lnTo>
                          <a:lnTo>
                            <a:pt x="624" y="86"/>
                          </a:lnTo>
                          <a:lnTo>
                            <a:pt x="622" y="86"/>
                          </a:lnTo>
                          <a:lnTo>
                            <a:pt x="618" y="86"/>
                          </a:lnTo>
                          <a:lnTo>
                            <a:pt x="614" y="87"/>
                          </a:lnTo>
                          <a:lnTo>
                            <a:pt x="609" y="89"/>
                          </a:lnTo>
                          <a:lnTo>
                            <a:pt x="603" y="91"/>
                          </a:lnTo>
                          <a:lnTo>
                            <a:pt x="599" y="95"/>
                          </a:lnTo>
                          <a:lnTo>
                            <a:pt x="595" y="97"/>
                          </a:lnTo>
                          <a:lnTo>
                            <a:pt x="592" y="99"/>
                          </a:lnTo>
                          <a:lnTo>
                            <a:pt x="586" y="103"/>
                          </a:lnTo>
                          <a:lnTo>
                            <a:pt x="582" y="105"/>
                          </a:lnTo>
                          <a:lnTo>
                            <a:pt x="578" y="108"/>
                          </a:lnTo>
                          <a:lnTo>
                            <a:pt x="574" y="112"/>
                          </a:lnTo>
                          <a:lnTo>
                            <a:pt x="571" y="116"/>
                          </a:lnTo>
                          <a:lnTo>
                            <a:pt x="567" y="120"/>
                          </a:lnTo>
                          <a:lnTo>
                            <a:pt x="565" y="124"/>
                          </a:lnTo>
                          <a:lnTo>
                            <a:pt x="563" y="127"/>
                          </a:lnTo>
                          <a:lnTo>
                            <a:pt x="559" y="131"/>
                          </a:lnTo>
                          <a:lnTo>
                            <a:pt x="555" y="135"/>
                          </a:lnTo>
                          <a:lnTo>
                            <a:pt x="554" y="141"/>
                          </a:lnTo>
                          <a:lnTo>
                            <a:pt x="552" y="146"/>
                          </a:lnTo>
                          <a:lnTo>
                            <a:pt x="550" y="150"/>
                          </a:lnTo>
                          <a:lnTo>
                            <a:pt x="548" y="156"/>
                          </a:lnTo>
                          <a:lnTo>
                            <a:pt x="546" y="158"/>
                          </a:lnTo>
                          <a:lnTo>
                            <a:pt x="546" y="160"/>
                          </a:lnTo>
                          <a:lnTo>
                            <a:pt x="544" y="163"/>
                          </a:lnTo>
                          <a:lnTo>
                            <a:pt x="544" y="167"/>
                          </a:lnTo>
                          <a:lnTo>
                            <a:pt x="361" y="1127"/>
                          </a:lnTo>
                          <a:lnTo>
                            <a:pt x="361" y="1127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30" name="AutoShape 1312"/>
                  <p:cNvSpPr/>
                  <p:nvPr/>
                </p:nvSpPr>
                <p:spPr>
                  <a:xfrm rot="10690800">
                    <a:off x="4093920" y="2237040"/>
                    <a:ext cx="88560" cy="75960"/>
                  </a:xfrm>
                  <a:prstGeom prst="hexagon">
                    <a:avLst>
                      <a:gd name="adj" fmla="val 29147"/>
                      <a:gd name="vf" fmla="val 115470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1" name="Group 1313"/>
                <p:cNvGrpSpPr/>
                <p:nvPr/>
              </p:nvGrpSpPr>
              <p:grpSpPr>
                <a:xfrm>
                  <a:off x="4162320" y="1400760"/>
                  <a:ext cx="286920" cy="2366280"/>
                  <a:chOff x="4162320" y="1400760"/>
                  <a:chExt cx="286920" cy="2366280"/>
                </a:xfrm>
              </p:grpSpPr>
              <p:grpSp>
                <p:nvGrpSpPr>
                  <p:cNvPr id="2132" name="Group 1314"/>
                  <p:cNvGrpSpPr/>
                  <p:nvPr/>
                </p:nvGrpSpPr>
                <p:grpSpPr>
                  <a:xfrm>
                    <a:off x="4162320" y="1400760"/>
                    <a:ext cx="278640" cy="1244880"/>
                    <a:chOff x="4162320" y="1400760"/>
                    <a:chExt cx="278640" cy="1244880"/>
                  </a:xfrm>
                </p:grpSpPr>
                <p:grpSp>
                  <p:nvGrpSpPr>
                    <p:cNvPr id="2133" name="Group 1315"/>
                    <p:cNvGrpSpPr/>
                    <p:nvPr/>
                  </p:nvGrpSpPr>
                  <p:grpSpPr>
                    <a:xfrm>
                      <a:off x="4199760" y="2035080"/>
                      <a:ext cx="241200" cy="610560"/>
                      <a:chOff x="4199760" y="2035080"/>
                      <a:chExt cx="241200" cy="610560"/>
                    </a:xfrm>
                  </p:grpSpPr>
                  <p:sp>
                    <p:nvSpPr>
                      <p:cNvPr id="2134" name="AutoShape 1316"/>
                      <p:cNvSpPr/>
                      <p:nvPr/>
                    </p:nvSpPr>
                    <p:spPr>
                      <a:xfrm rot="10707000">
                        <a:off x="4226760" y="2037240"/>
                        <a:ext cx="179640" cy="49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1556" y="21600"/>
                            </a:lnTo>
                            <a:lnTo>
                              <a:pt x="20044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35" name="AutoShape 1317"/>
                      <p:cNvSpPr/>
                      <p:nvPr/>
                    </p:nvSpPr>
                    <p:spPr>
                      <a:xfrm rot="16285200">
                        <a:off x="4224240" y="2428560"/>
                        <a:ext cx="191520" cy="23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934" y="2201"/>
                              <a:pt x="12267" y="5080"/>
                              <a:pt x="12267" y="10800"/>
                            </a:cubicBezTo>
                            <a:cubicBezTo>
                              <a:pt x="12267" y="16520"/>
                              <a:pt x="16934" y="19399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36" name="Group 1318"/>
                    <p:cNvGrpSpPr/>
                    <p:nvPr/>
                  </p:nvGrpSpPr>
                  <p:grpSpPr>
                    <a:xfrm>
                      <a:off x="4162320" y="1400760"/>
                      <a:ext cx="253800" cy="747360"/>
                      <a:chOff x="4162320" y="1400760"/>
                      <a:chExt cx="253800" cy="747360"/>
                    </a:xfrm>
                  </p:grpSpPr>
                  <p:sp>
                    <p:nvSpPr>
                      <p:cNvPr id="2137" name="AutoShape 1319"/>
                      <p:cNvSpPr/>
                      <p:nvPr/>
                    </p:nvSpPr>
                    <p:spPr>
                      <a:xfrm rot="10722000">
                        <a:off x="4215600" y="1654920"/>
                        <a:ext cx="180360" cy="360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4308" y="21600"/>
                            </a:lnTo>
                            <a:lnTo>
                              <a:pt x="17292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38" name="Oval 1320"/>
                      <p:cNvSpPr/>
                      <p:nvPr/>
                    </p:nvSpPr>
                    <p:spPr>
                      <a:xfrm rot="11260800">
                        <a:off x="4216680" y="1945800"/>
                        <a:ext cx="187200" cy="190440"/>
                      </a:xfrm>
                      <a:prstGeom prst="ellipse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39" name="Freeform 1321"/>
                      <p:cNvSpPr/>
                      <p:nvPr/>
                    </p:nvSpPr>
                    <p:spPr>
                      <a:xfrm rot="20755800">
                        <a:off x="4194360" y="1417680"/>
                        <a:ext cx="175680" cy="28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02" h="2302">
                            <a:moveTo>
                              <a:pt x="361" y="1127"/>
                            </a:moveTo>
                            <a:lnTo>
                              <a:pt x="280" y="1116"/>
                            </a:lnTo>
                            <a:lnTo>
                              <a:pt x="373" y="711"/>
                            </a:lnTo>
                            <a:lnTo>
                              <a:pt x="373" y="709"/>
                            </a:lnTo>
                            <a:lnTo>
                              <a:pt x="375" y="705"/>
                            </a:lnTo>
                            <a:lnTo>
                              <a:pt x="375" y="703"/>
                            </a:lnTo>
                            <a:lnTo>
                              <a:pt x="375" y="700"/>
                            </a:lnTo>
                            <a:lnTo>
                              <a:pt x="375" y="698"/>
                            </a:lnTo>
                            <a:lnTo>
                              <a:pt x="375" y="696"/>
                            </a:lnTo>
                            <a:lnTo>
                              <a:pt x="375" y="692"/>
                            </a:lnTo>
                            <a:lnTo>
                              <a:pt x="375" y="690"/>
                            </a:lnTo>
                            <a:lnTo>
                              <a:pt x="375" y="684"/>
                            </a:lnTo>
                            <a:lnTo>
                              <a:pt x="375" y="681"/>
                            </a:lnTo>
                            <a:lnTo>
                              <a:pt x="375" y="675"/>
                            </a:lnTo>
                            <a:lnTo>
                              <a:pt x="375" y="669"/>
                            </a:lnTo>
                            <a:lnTo>
                              <a:pt x="371" y="665"/>
                            </a:lnTo>
                            <a:lnTo>
                              <a:pt x="371" y="660"/>
                            </a:lnTo>
                            <a:lnTo>
                              <a:pt x="369" y="654"/>
                            </a:lnTo>
                            <a:lnTo>
                              <a:pt x="367" y="652"/>
                            </a:lnTo>
                            <a:lnTo>
                              <a:pt x="365" y="646"/>
                            </a:lnTo>
                            <a:lnTo>
                              <a:pt x="363" y="641"/>
                            </a:lnTo>
                            <a:lnTo>
                              <a:pt x="361" y="637"/>
                            </a:lnTo>
                            <a:lnTo>
                              <a:pt x="358" y="633"/>
                            </a:lnTo>
                            <a:lnTo>
                              <a:pt x="356" y="629"/>
                            </a:lnTo>
                            <a:lnTo>
                              <a:pt x="354" y="623"/>
                            </a:lnTo>
                            <a:lnTo>
                              <a:pt x="350" y="620"/>
                            </a:lnTo>
                            <a:lnTo>
                              <a:pt x="346" y="616"/>
                            </a:lnTo>
                            <a:lnTo>
                              <a:pt x="342" y="612"/>
                            </a:lnTo>
                            <a:lnTo>
                              <a:pt x="339" y="610"/>
                            </a:lnTo>
                            <a:lnTo>
                              <a:pt x="335" y="606"/>
                            </a:lnTo>
                            <a:lnTo>
                              <a:pt x="331" y="603"/>
                            </a:lnTo>
                            <a:lnTo>
                              <a:pt x="325" y="601"/>
                            </a:lnTo>
                            <a:lnTo>
                              <a:pt x="321" y="597"/>
                            </a:lnTo>
                            <a:lnTo>
                              <a:pt x="318" y="595"/>
                            </a:lnTo>
                            <a:lnTo>
                              <a:pt x="312" y="593"/>
                            </a:lnTo>
                            <a:lnTo>
                              <a:pt x="306" y="591"/>
                            </a:lnTo>
                            <a:lnTo>
                              <a:pt x="302" y="589"/>
                            </a:lnTo>
                            <a:lnTo>
                              <a:pt x="299" y="589"/>
                            </a:lnTo>
                            <a:lnTo>
                              <a:pt x="295" y="587"/>
                            </a:lnTo>
                            <a:lnTo>
                              <a:pt x="291" y="587"/>
                            </a:lnTo>
                            <a:lnTo>
                              <a:pt x="287" y="585"/>
                            </a:lnTo>
                            <a:lnTo>
                              <a:pt x="285" y="585"/>
                            </a:lnTo>
                            <a:lnTo>
                              <a:pt x="283" y="585"/>
                            </a:lnTo>
                            <a:lnTo>
                              <a:pt x="280" y="585"/>
                            </a:lnTo>
                            <a:lnTo>
                              <a:pt x="276" y="585"/>
                            </a:lnTo>
                            <a:lnTo>
                              <a:pt x="274" y="585"/>
                            </a:lnTo>
                            <a:lnTo>
                              <a:pt x="272" y="585"/>
                            </a:lnTo>
                            <a:lnTo>
                              <a:pt x="268" y="585"/>
                            </a:lnTo>
                            <a:lnTo>
                              <a:pt x="266" y="585"/>
                            </a:lnTo>
                            <a:lnTo>
                              <a:pt x="263" y="585"/>
                            </a:lnTo>
                            <a:lnTo>
                              <a:pt x="261" y="587"/>
                            </a:lnTo>
                            <a:lnTo>
                              <a:pt x="259" y="587"/>
                            </a:lnTo>
                            <a:lnTo>
                              <a:pt x="255" y="587"/>
                            </a:lnTo>
                            <a:lnTo>
                              <a:pt x="253" y="589"/>
                            </a:lnTo>
                            <a:lnTo>
                              <a:pt x="249" y="589"/>
                            </a:lnTo>
                            <a:lnTo>
                              <a:pt x="247" y="589"/>
                            </a:lnTo>
                            <a:lnTo>
                              <a:pt x="243" y="591"/>
                            </a:lnTo>
                            <a:lnTo>
                              <a:pt x="240" y="591"/>
                            </a:lnTo>
                            <a:lnTo>
                              <a:pt x="238" y="593"/>
                            </a:lnTo>
                            <a:lnTo>
                              <a:pt x="236" y="595"/>
                            </a:lnTo>
                            <a:lnTo>
                              <a:pt x="232" y="595"/>
                            </a:lnTo>
                            <a:lnTo>
                              <a:pt x="230" y="597"/>
                            </a:lnTo>
                            <a:lnTo>
                              <a:pt x="228" y="599"/>
                            </a:lnTo>
                            <a:lnTo>
                              <a:pt x="224" y="601"/>
                            </a:lnTo>
                            <a:lnTo>
                              <a:pt x="223" y="601"/>
                            </a:lnTo>
                            <a:lnTo>
                              <a:pt x="219" y="603"/>
                            </a:lnTo>
                            <a:lnTo>
                              <a:pt x="217" y="604"/>
                            </a:lnTo>
                            <a:lnTo>
                              <a:pt x="211" y="608"/>
                            </a:lnTo>
                            <a:lnTo>
                              <a:pt x="207" y="612"/>
                            </a:lnTo>
                            <a:lnTo>
                              <a:pt x="204" y="616"/>
                            </a:lnTo>
                            <a:lnTo>
                              <a:pt x="198" y="618"/>
                            </a:lnTo>
                            <a:lnTo>
                              <a:pt x="194" y="623"/>
                            </a:lnTo>
                            <a:lnTo>
                              <a:pt x="188" y="627"/>
                            </a:lnTo>
                            <a:lnTo>
                              <a:pt x="185" y="633"/>
                            </a:lnTo>
                            <a:lnTo>
                              <a:pt x="181" y="637"/>
                            </a:lnTo>
                            <a:lnTo>
                              <a:pt x="177" y="641"/>
                            </a:lnTo>
                            <a:lnTo>
                              <a:pt x="173" y="646"/>
                            </a:lnTo>
                            <a:lnTo>
                              <a:pt x="169" y="652"/>
                            </a:lnTo>
                            <a:lnTo>
                              <a:pt x="166" y="656"/>
                            </a:lnTo>
                            <a:lnTo>
                              <a:pt x="162" y="662"/>
                            </a:lnTo>
                            <a:lnTo>
                              <a:pt x="160" y="665"/>
                            </a:lnTo>
                            <a:lnTo>
                              <a:pt x="158" y="669"/>
                            </a:lnTo>
                            <a:lnTo>
                              <a:pt x="158" y="671"/>
                            </a:lnTo>
                            <a:lnTo>
                              <a:pt x="156" y="673"/>
                            </a:lnTo>
                            <a:lnTo>
                              <a:pt x="154" y="677"/>
                            </a:lnTo>
                            <a:lnTo>
                              <a:pt x="152" y="679"/>
                            </a:lnTo>
                            <a:lnTo>
                              <a:pt x="152" y="681"/>
                            </a:lnTo>
                            <a:lnTo>
                              <a:pt x="150" y="684"/>
                            </a:lnTo>
                            <a:lnTo>
                              <a:pt x="150" y="688"/>
                            </a:lnTo>
                            <a:lnTo>
                              <a:pt x="146" y="694"/>
                            </a:lnTo>
                            <a:lnTo>
                              <a:pt x="145" y="701"/>
                            </a:lnTo>
                            <a:lnTo>
                              <a:pt x="143" y="709"/>
                            </a:lnTo>
                            <a:lnTo>
                              <a:pt x="139" y="717"/>
                            </a:lnTo>
                            <a:lnTo>
                              <a:pt x="137" y="724"/>
                            </a:lnTo>
                            <a:lnTo>
                              <a:pt x="135" y="732"/>
                            </a:lnTo>
                            <a:lnTo>
                              <a:pt x="131" y="739"/>
                            </a:lnTo>
                            <a:lnTo>
                              <a:pt x="129" y="747"/>
                            </a:lnTo>
                            <a:lnTo>
                              <a:pt x="126" y="755"/>
                            </a:lnTo>
                            <a:lnTo>
                              <a:pt x="124" y="760"/>
                            </a:lnTo>
                            <a:lnTo>
                              <a:pt x="122" y="768"/>
                            </a:lnTo>
                            <a:lnTo>
                              <a:pt x="120" y="776"/>
                            </a:lnTo>
                            <a:lnTo>
                              <a:pt x="116" y="781"/>
                            </a:lnTo>
                            <a:lnTo>
                              <a:pt x="114" y="789"/>
                            </a:lnTo>
                            <a:lnTo>
                              <a:pt x="112" y="796"/>
                            </a:lnTo>
                            <a:lnTo>
                              <a:pt x="110" y="804"/>
                            </a:lnTo>
                            <a:lnTo>
                              <a:pt x="107" y="812"/>
                            </a:lnTo>
                            <a:lnTo>
                              <a:pt x="107" y="817"/>
                            </a:lnTo>
                            <a:lnTo>
                              <a:pt x="103" y="823"/>
                            </a:lnTo>
                            <a:lnTo>
                              <a:pt x="101" y="831"/>
                            </a:lnTo>
                            <a:lnTo>
                              <a:pt x="97" y="836"/>
                            </a:lnTo>
                            <a:lnTo>
                              <a:pt x="97" y="844"/>
                            </a:lnTo>
                            <a:lnTo>
                              <a:pt x="93" y="852"/>
                            </a:lnTo>
                            <a:lnTo>
                              <a:pt x="93" y="857"/>
                            </a:lnTo>
                            <a:lnTo>
                              <a:pt x="89" y="865"/>
                            </a:lnTo>
                            <a:lnTo>
                              <a:pt x="88" y="871"/>
                            </a:lnTo>
                            <a:lnTo>
                              <a:pt x="86" y="878"/>
                            </a:lnTo>
                            <a:lnTo>
                              <a:pt x="84" y="884"/>
                            </a:lnTo>
                            <a:lnTo>
                              <a:pt x="82" y="892"/>
                            </a:lnTo>
                            <a:lnTo>
                              <a:pt x="80" y="899"/>
                            </a:lnTo>
                            <a:lnTo>
                              <a:pt x="78" y="907"/>
                            </a:lnTo>
                            <a:lnTo>
                              <a:pt x="74" y="912"/>
                            </a:lnTo>
                            <a:lnTo>
                              <a:pt x="72" y="920"/>
                            </a:lnTo>
                            <a:lnTo>
                              <a:pt x="72" y="926"/>
                            </a:lnTo>
                            <a:lnTo>
                              <a:pt x="68" y="931"/>
                            </a:lnTo>
                            <a:lnTo>
                              <a:pt x="67" y="939"/>
                            </a:lnTo>
                            <a:lnTo>
                              <a:pt x="65" y="945"/>
                            </a:lnTo>
                            <a:lnTo>
                              <a:pt x="63" y="952"/>
                            </a:lnTo>
                            <a:lnTo>
                              <a:pt x="59" y="958"/>
                            </a:lnTo>
                            <a:lnTo>
                              <a:pt x="57" y="966"/>
                            </a:lnTo>
                            <a:lnTo>
                              <a:pt x="55" y="971"/>
                            </a:lnTo>
                            <a:lnTo>
                              <a:pt x="53" y="979"/>
                            </a:lnTo>
                            <a:lnTo>
                              <a:pt x="51" y="987"/>
                            </a:lnTo>
                            <a:lnTo>
                              <a:pt x="49" y="994"/>
                            </a:lnTo>
                            <a:lnTo>
                              <a:pt x="48" y="1000"/>
                            </a:lnTo>
                            <a:lnTo>
                              <a:pt x="46" y="1007"/>
                            </a:lnTo>
                            <a:lnTo>
                              <a:pt x="44" y="1015"/>
                            </a:lnTo>
                            <a:lnTo>
                              <a:pt x="42" y="1021"/>
                            </a:lnTo>
                            <a:lnTo>
                              <a:pt x="42" y="1028"/>
                            </a:lnTo>
                            <a:lnTo>
                              <a:pt x="38" y="1036"/>
                            </a:lnTo>
                            <a:lnTo>
                              <a:pt x="36" y="1042"/>
                            </a:lnTo>
                            <a:lnTo>
                              <a:pt x="36" y="1049"/>
                            </a:lnTo>
                            <a:lnTo>
                              <a:pt x="34" y="1057"/>
                            </a:lnTo>
                            <a:lnTo>
                              <a:pt x="30" y="1063"/>
                            </a:lnTo>
                            <a:lnTo>
                              <a:pt x="30" y="1070"/>
                            </a:lnTo>
                            <a:lnTo>
                              <a:pt x="29" y="1078"/>
                            </a:lnTo>
                            <a:lnTo>
                              <a:pt x="27" y="1085"/>
                            </a:lnTo>
                            <a:lnTo>
                              <a:pt x="25" y="1093"/>
                            </a:lnTo>
                            <a:lnTo>
                              <a:pt x="23" y="1101"/>
                            </a:lnTo>
                            <a:lnTo>
                              <a:pt x="21" y="1108"/>
                            </a:lnTo>
                            <a:lnTo>
                              <a:pt x="19" y="1116"/>
                            </a:lnTo>
                            <a:lnTo>
                              <a:pt x="17" y="1123"/>
                            </a:lnTo>
                            <a:lnTo>
                              <a:pt x="17" y="1131"/>
                            </a:lnTo>
                            <a:lnTo>
                              <a:pt x="15" y="1139"/>
                            </a:lnTo>
                            <a:lnTo>
                              <a:pt x="13" y="1148"/>
                            </a:lnTo>
                            <a:lnTo>
                              <a:pt x="10" y="1158"/>
                            </a:lnTo>
                            <a:lnTo>
                              <a:pt x="10" y="1165"/>
                            </a:lnTo>
                            <a:lnTo>
                              <a:pt x="8" y="1175"/>
                            </a:lnTo>
                            <a:lnTo>
                              <a:pt x="6" y="1182"/>
                            </a:lnTo>
                            <a:lnTo>
                              <a:pt x="6" y="1192"/>
                            </a:lnTo>
                            <a:lnTo>
                              <a:pt x="4" y="1201"/>
                            </a:lnTo>
                            <a:lnTo>
                              <a:pt x="2" y="1211"/>
                            </a:lnTo>
                            <a:lnTo>
                              <a:pt x="2" y="1218"/>
                            </a:lnTo>
                            <a:lnTo>
                              <a:pt x="0" y="1230"/>
                            </a:lnTo>
                            <a:lnTo>
                              <a:pt x="0" y="1237"/>
                            </a:lnTo>
                            <a:lnTo>
                              <a:pt x="0" y="1247"/>
                            </a:lnTo>
                            <a:lnTo>
                              <a:pt x="0" y="1257"/>
                            </a:lnTo>
                            <a:lnTo>
                              <a:pt x="0" y="1268"/>
                            </a:lnTo>
                            <a:lnTo>
                              <a:pt x="0" y="1276"/>
                            </a:lnTo>
                            <a:lnTo>
                              <a:pt x="0" y="1285"/>
                            </a:lnTo>
                            <a:lnTo>
                              <a:pt x="0" y="1296"/>
                            </a:lnTo>
                            <a:lnTo>
                              <a:pt x="0" y="1304"/>
                            </a:lnTo>
                            <a:lnTo>
                              <a:pt x="0" y="1314"/>
                            </a:lnTo>
                            <a:lnTo>
                              <a:pt x="0" y="1323"/>
                            </a:lnTo>
                            <a:lnTo>
                              <a:pt x="0" y="1333"/>
                            </a:lnTo>
                            <a:lnTo>
                              <a:pt x="2" y="1342"/>
                            </a:lnTo>
                            <a:lnTo>
                              <a:pt x="2" y="1352"/>
                            </a:lnTo>
                            <a:lnTo>
                              <a:pt x="4" y="1363"/>
                            </a:lnTo>
                            <a:lnTo>
                              <a:pt x="4" y="1371"/>
                            </a:lnTo>
                            <a:lnTo>
                              <a:pt x="6" y="1382"/>
                            </a:lnTo>
                            <a:lnTo>
                              <a:pt x="8" y="1390"/>
                            </a:lnTo>
                            <a:lnTo>
                              <a:pt x="8" y="1401"/>
                            </a:lnTo>
                            <a:lnTo>
                              <a:pt x="10" y="1409"/>
                            </a:lnTo>
                            <a:lnTo>
                              <a:pt x="11" y="1420"/>
                            </a:lnTo>
                            <a:lnTo>
                              <a:pt x="13" y="1429"/>
                            </a:lnTo>
                            <a:lnTo>
                              <a:pt x="15" y="1439"/>
                            </a:lnTo>
                            <a:lnTo>
                              <a:pt x="17" y="1448"/>
                            </a:lnTo>
                            <a:lnTo>
                              <a:pt x="19" y="1458"/>
                            </a:lnTo>
                            <a:lnTo>
                              <a:pt x="21" y="1468"/>
                            </a:lnTo>
                            <a:lnTo>
                              <a:pt x="23" y="1477"/>
                            </a:lnTo>
                            <a:lnTo>
                              <a:pt x="27" y="1487"/>
                            </a:lnTo>
                            <a:lnTo>
                              <a:pt x="29" y="1496"/>
                            </a:lnTo>
                            <a:lnTo>
                              <a:pt x="30" y="1506"/>
                            </a:lnTo>
                            <a:lnTo>
                              <a:pt x="34" y="1515"/>
                            </a:lnTo>
                            <a:lnTo>
                              <a:pt x="36" y="1525"/>
                            </a:lnTo>
                            <a:lnTo>
                              <a:pt x="38" y="1534"/>
                            </a:lnTo>
                            <a:lnTo>
                              <a:pt x="42" y="1544"/>
                            </a:lnTo>
                            <a:lnTo>
                              <a:pt x="46" y="1553"/>
                            </a:lnTo>
                            <a:lnTo>
                              <a:pt x="48" y="1561"/>
                            </a:lnTo>
                            <a:lnTo>
                              <a:pt x="51" y="1572"/>
                            </a:lnTo>
                            <a:lnTo>
                              <a:pt x="55" y="1580"/>
                            </a:lnTo>
                            <a:lnTo>
                              <a:pt x="59" y="1589"/>
                            </a:lnTo>
                            <a:lnTo>
                              <a:pt x="63" y="1599"/>
                            </a:lnTo>
                            <a:lnTo>
                              <a:pt x="67" y="1608"/>
                            </a:lnTo>
                            <a:lnTo>
                              <a:pt x="68" y="1616"/>
                            </a:lnTo>
                            <a:lnTo>
                              <a:pt x="74" y="1627"/>
                            </a:lnTo>
                            <a:lnTo>
                              <a:pt x="78" y="1635"/>
                            </a:lnTo>
                            <a:lnTo>
                              <a:pt x="82" y="1644"/>
                            </a:lnTo>
                            <a:lnTo>
                              <a:pt x="86" y="1652"/>
                            </a:lnTo>
                            <a:lnTo>
                              <a:pt x="89" y="1661"/>
                            </a:lnTo>
                            <a:lnTo>
                              <a:pt x="95" y="1669"/>
                            </a:lnTo>
                            <a:lnTo>
                              <a:pt x="99" y="1679"/>
                            </a:lnTo>
                            <a:lnTo>
                              <a:pt x="103" y="1688"/>
                            </a:lnTo>
                            <a:lnTo>
                              <a:pt x="108" y="1696"/>
                            </a:lnTo>
                            <a:lnTo>
                              <a:pt x="114" y="1703"/>
                            </a:lnTo>
                            <a:lnTo>
                              <a:pt x="118" y="1713"/>
                            </a:lnTo>
                            <a:lnTo>
                              <a:pt x="124" y="1722"/>
                            </a:lnTo>
                            <a:lnTo>
                              <a:pt x="127" y="1732"/>
                            </a:lnTo>
                            <a:lnTo>
                              <a:pt x="131" y="1736"/>
                            </a:lnTo>
                            <a:lnTo>
                              <a:pt x="135" y="1739"/>
                            </a:lnTo>
                            <a:lnTo>
                              <a:pt x="135" y="1743"/>
                            </a:lnTo>
                            <a:lnTo>
                              <a:pt x="137" y="1745"/>
                            </a:lnTo>
                            <a:lnTo>
                              <a:pt x="139" y="1747"/>
                            </a:lnTo>
                            <a:lnTo>
                              <a:pt x="141" y="1751"/>
                            </a:lnTo>
                            <a:lnTo>
                              <a:pt x="143" y="1755"/>
                            </a:lnTo>
                            <a:lnTo>
                              <a:pt x="143" y="1756"/>
                            </a:lnTo>
                            <a:lnTo>
                              <a:pt x="145" y="1760"/>
                            </a:lnTo>
                            <a:lnTo>
                              <a:pt x="146" y="1762"/>
                            </a:lnTo>
                            <a:lnTo>
                              <a:pt x="148" y="1766"/>
                            </a:lnTo>
                            <a:lnTo>
                              <a:pt x="150" y="1768"/>
                            </a:lnTo>
                            <a:lnTo>
                              <a:pt x="152" y="1770"/>
                            </a:lnTo>
                            <a:lnTo>
                              <a:pt x="156" y="1774"/>
                            </a:lnTo>
                            <a:lnTo>
                              <a:pt x="158" y="1777"/>
                            </a:lnTo>
                            <a:lnTo>
                              <a:pt x="160" y="1779"/>
                            </a:lnTo>
                            <a:lnTo>
                              <a:pt x="160" y="1783"/>
                            </a:lnTo>
                            <a:lnTo>
                              <a:pt x="162" y="1787"/>
                            </a:lnTo>
                            <a:lnTo>
                              <a:pt x="166" y="1789"/>
                            </a:lnTo>
                            <a:lnTo>
                              <a:pt x="166" y="1791"/>
                            </a:lnTo>
                            <a:lnTo>
                              <a:pt x="167" y="1794"/>
                            </a:lnTo>
                            <a:lnTo>
                              <a:pt x="169" y="1796"/>
                            </a:lnTo>
                            <a:lnTo>
                              <a:pt x="171" y="1800"/>
                            </a:lnTo>
                            <a:lnTo>
                              <a:pt x="173" y="1802"/>
                            </a:lnTo>
                            <a:lnTo>
                              <a:pt x="175" y="1806"/>
                            </a:lnTo>
                            <a:lnTo>
                              <a:pt x="177" y="1808"/>
                            </a:lnTo>
                            <a:lnTo>
                              <a:pt x="179" y="1812"/>
                            </a:lnTo>
                            <a:lnTo>
                              <a:pt x="181" y="1815"/>
                            </a:lnTo>
                            <a:lnTo>
                              <a:pt x="183" y="1817"/>
                            </a:lnTo>
                            <a:lnTo>
                              <a:pt x="185" y="1821"/>
                            </a:lnTo>
                            <a:lnTo>
                              <a:pt x="188" y="1827"/>
                            </a:lnTo>
                            <a:lnTo>
                              <a:pt x="190" y="1831"/>
                            </a:lnTo>
                            <a:lnTo>
                              <a:pt x="194" y="1836"/>
                            </a:lnTo>
                            <a:lnTo>
                              <a:pt x="198" y="1842"/>
                            </a:lnTo>
                            <a:lnTo>
                              <a:pt x="200" y="1846"/>
                            </a:lnTo>
                            <a:lnTo>
                              <a:pt x="204" y="1850"/>
                            </a:lnTo>
                            <a:lnTo>
                              <a:pt x="205" y="1853"/>
                            </a:lnTo>
                            <a:lnTo>
                              <a:pt x="207" y="1859"/>
                            </a:lnTo>
                            <a:lnTo>
                              <a:pt x="209" y="1861"/>
                            </a:lnTo>
                            <a:lnTo>
                              <a:pt x="211" y="1863"/>
                            </a:lnTo>
                            <a:lnTo>
                              <a:pt x="213" y="1867"/>
                            </a:lnTo>
                            <a:lnTo>
                              <a:pt x="215" y="1869"/>
                            </a:lnTo>
                            <a:lnTo>
                              <a:pt x="217" y="1870"/>
                            </a:lnTo>
                            <a:lnTo>
                              <a:pt x="219" y="1874"/>
                            </a:lnTo>
                            <a:lnTo>
                              <a:pt x="141" y="2163"/>
                            </a:lnTo>
                            <a:lnTo>
                              <a:pt x="143" y="2165"/>
                            </a:lnTo>
                            <a:lnTo>
                              <a:pt x="146" y="2165"/>
                            </a:lnTo>
                            <a:lnTo>
                              <a:pt x="150" y="2167"/>
                            </a:lnTo>
                            <a:lnTo>
                              <a:pt x="152" y="2167"/>
                            </a:lnTo>
                            <a:lnTo>
                              <a:pt x="154" y="2167"/>
                            </a:lnTo>
                            <a:lnTo>
                              <a:pt x="158" y="2167"/>
                            </a:lnTo>
                            <a:lnTo>
                              <a:pt x="162" y="2171"/>
                            </a:lnTo>
                            <a:lnTo>
                              <a:pt x="166" y="2171"/>
                            </a:lnTo>
                            <a:lnTo>
                              <a:pt x="167" y="2173"/>
                            </a:lnTo>
                            <a:lnTo>
                              <a:pt x="171" y="2173"/>
                            </a:lnTo>
                            <a:lnTo>
                              <a:pt x="175" y="2175"/>
                            </a:lnTo>
                            <a:lnTo>
                              <a:pt x="181" y="2175"/>
                            </a:lnTo>
                            <a:lnTo>
                              <a:pt x="185" y="2175"/>
                            </a:lnTo>
                            <a:lnTo>
                              <a:pt x="188" y="2177"/>
                            </a:lnTo>
                            <a:lnTo>
                              <a:pt x="194" y="2180"/>
                            </a:lnTo>
                            <a:lnTo>
                              <a:pt x="198" y="2180"/>
                            </a:lnTo>
                            <a:lnTo>
                              <a:pt x="204" y="2182"/>
                            </a:lnTo>
                            <a:lnTo>
                              <a:pt x="209" y="2182"/>
                            </a:lnTo>
                            <a:lnTo>
                              <a:pt x="215" y="2184"/>
                            </a:lnTo>
                            <a:lnTo>
                              <a:pt x="219" y="2186"/>
                            </a:lnTo>
                            <a:lnTo>
                              <a:pt x="224" y="2188"/>
                            </a:lnTo>
                            <a:lnTo>
                              <a:pt x="232" y="2188"/>
                            </a:lnTo>
                            <a:lnTo>
                              <a:pt x="238" y="2190"/>
                            </a:lnTo>
                            <a:lnTo>
                              <a:pt x="243" y="2190"/>
                            </a:lnTo>
                            <a:lnTo>
                              <a:pt x="251" y="2192"/>
                            </a:lnTo>
                            <a:lnTo>
                              <a:pt x="257" y="2194"/>
                            </a:lnTo>
                            <a:lnTo>
                              <a:pt x="264" y="2194"/>
                            </a:lnTo>
                            <a:lnTo>
                              <a:pt x="270" y="2196"/>
                            </a:lnTo>
                            <a:lnTo>
                              <a:pt x="276" y="2196"/>
                            </a:lnTo>
                            <a:lnTo>
                              <a:pt x="283" y="2197"/>
                            </a:lnTo>
                            <a:lnTo>
                              <a:pt x="291" y="2199"/>
                            </a:lnTo>
                            <a:lnTo>
                              <a:pt x="297" y="2199"/>
                            </a:lnTo>
                            <a:lnTo>
                              <a:pt x="304" y="2199"/>
                            </a:lnTo>
                            <a:lnTo>
                              <a:pt x="312" y="2199"/>
                            </a:lnTo>
                            <a:lnTo>
                              <a:pt x="320" y="2201"/>
                            </a:lnTo>
                            <a:lnTo>
                              <a:pt x="325" y="2201"/>
                            </a:lnTo>
                            <a:lnTo>
                              <a:pt x="333" y="2201"/>
                            </a:lnTo>
                            <a:lnTo>
                              <a:pt x="341" y="2201"/>
                            </a:lnTo>
                            <a:lnTo>
                              <a:pt x="348" y="2201"/>
                            </a:lnTo>
                            <a:lnTo>
                              <a:pt x="356" y="2201"/>
                            </a:lnTo>
                            <a:lnTo>
                              <a:pt x="363" y="2201"/>
                            </a:lnTo>
                            <a:lnTo>
                              <a:pt x="371" y="2201"/>
                            </a:lnTo>
                            <a:lnTo>
                              <a:pt x="379" y="2201"/>
                            </a:lnTo>
                            <a:lnTo>
                              <a:pt x="386" y="2201"/>
                            </a:lnTo>
                            <a:lnTo>
                              <a:pt x="394" y="2201"/>
                            </a:lnTo>
                            <a:lnTo>
                              <a:pt x="401" y="2199"/>
                            </a:lnTo>
                            <a:lnTo>
                              <a:pt x="409" y="2199"/>
                            </a:lnTo>
                            <a:lnTo>
                              <a:pt x="415" y="2197"/>
                            </a:lnTo>
                            <a:lnTo>
                              <a:pt x="422" y="2196"/>
                            </a:lnTo>
                            <a:lnTo>
                              <a:pt x="432" y="2196"/>
                            </a:lnTo>
                            <a:lnTo>
                              <a:pt x="439" y="2194"/>
                            </a:lnTo>
                            <a:lnTo>
                              <a:pt x="447" y="2192"/>
                            </a:lnTo>
                            <a:lnTo>
                              <a:pt x="455" y="2190"/>
                            </a:lnTo>
                            <a:lnTo>
                              <a:pt x="462" y="2188"/>
                            </a:lnTo>
                            <a:lnTo>
                              <a:pt x="470" y="2188"/>
                            </a:lnTo>
                            <a:lnTo>
                              <a:pt x="476" y="2184"/>
                            </a:lnTo>
                            <a:lnTo>
                              <a:pt x="483" y="2182"/>
                            </a:lnTo>
                            <a:lnTo>
                              <a:pt x="491" y="2180"/>
                            </a:lnTo>
                            <a:lnTo>
                              <a:pt x="498" y="2175"/>
                            </a:lnTo>
                            <a:lnTo>
                              <a:pt x="504" y="2173"/>
                            </a:lnTo>
                            <a:lnTo>
                              <a:pt x="512" y="2169"/>
                            </a:lnTo>
                            <a:lnTo>
                              <a:pt x="517" y="2165"/>
                            </a:lnTo>
                            <a:lnTo>
                              <a:pt x="525" y="2161"/>
                            </a:lnTo>
                            <a:lnTo>
                              <a:pt x="531" y="2158"/>
                            </a:lnTo>
                            <a:lnTo>
                              <a:pt x="536" y="2154"/>
                            </a:lnTo>
                            <a:lnTo>
                              <a:pt x="542" y="2150"/>
                            </a:lnTo>
                            <a:lnTo>
                              <a:pt x="550" y="2146"/>
                            </a:lnTo>
                            <a:lnTo>
                              <a:pt x="555" y="2142"/>
                            </a:lnTo>
                            <a:lnTo>
                              <a:pt x="559" y="2137"/>
                            </a:lnTo>
                            <a:lnTo>
                              <a:pt x="565" y="2133"/>
                            </a:lnTo>
                            <a:lnTo>
                              <a:pt x="571" y="2129"/>
                            </a:lnTo>
                            <a:lnTo>
                              <a:pt x="576" y="2123"/>
                            </a:lnTo>
                            <a:lnTo>
                              <a:pt x="582" y="2120"/>
                            </a:lnTo>
                            <a:lnTo>
                              <a:pt x="588" y="2114"/>
                            </a:lnTo>
                            <a:lnTo>
                              <a:pt x="592" y="2110"/>
                            </a:lnTo>
                            <a:lnTo>
                              <a:pt x="595" y="2106"/>
                            </a:lnTo>
                            <a:lnTo>
                              <a:pt x="601" y="2101"/>
                            </a:lnTo>
                            <a:lnTo>
                              <a:pt x="605" y="2095"/>
                            </a:lnTo>
                            <a:lnTo>
                              <a:pt x="611" y="2091"/>
                            </a:lnTo>
                            <a:lnTo>
                              <a:pt x="614" y="2085"/>
                            </a:lnTo>
                            <a:lnTo>
                              <a:pt x="618" y="2080"/>
                            </a:lnTo>
                            <a:lnTo>
                              <a:pt x="624" y="2076"/>
                            </a:lnTo>
                            <a:lnTo>
                              <a:pt x="628" y="2070"/>
                            </a:lnTo>
                            <a:lnTo>
                              <a:pt x="632" y="2064"/>
                            </a:lnTo>
                            <a:lnTo>
                              <a:pt x="635" y="2059"/>
                            </a:lnTo>
                            <a:lnTo>
                              <a:pt x="637" y="2055"/>
                            </a:lnTo>
                            <a:lnTo>
                              <a:pt x="643" y="2049"/>
                            </a:lnTo>
                            <a:lnTo>
                              <a:pt x="645" y="2043"/>
                            </a:lnTo>
                            <a:lnTo>
                              <a:pt x="649" y="2040"/>
                            </a:lnTo>
                            <a:lnTo>
                              <a:pt x="652" y="2034"/>
                            </a:lnTo>
                            <a:lnTo>
                              <a:pt x="654" y="2030"/>
                            </a:lnTo>
                            <a:lnTo>
                              <a:pt x="658" y="2024"/>
                            </a:lnTo>
                            <a:lnTo>
                              <a:pt x="660" y="2021"/>
                            </a:lnTo>
                            <a:lnTo>
                              <a:pt x="664" y="2015"/>
                            </a:lnTo>
                            <a:lnTo>
                              <a:pt x="666" y="2011"/>
                            </a:lnTo>
                            <a:lnTo>
                              <a:pt x="668" y="2005"/>
                            </a:lnTo>
                            <a:lnTo>
                              <a:pt x="672" y="2002"/>
                            </a:lnTo>
                            <a:lnTo>
                              <a:pt x="673" y="1998"/>
                            </a:lnTo>
                            <a:lnTo>
                              <a:pt x="675" y="1992"/>
                            </a:lnTo>
                            <a:lnTo>
                              <a:pt x="677" y="1986"/>
                            </a:lnTo>
                            <a:lnTo>
                              <a:pt x="679" y="1983"/>
                            </a:lnTo>
                            <a:lnTo>
                              <a:pt x="681" y="1979"/>
                            </a:lnTo>
                            <a:lnTo>
                              <a:pt x="683" y="1975"/>
                            </a:lnTo>
                            <a:lnTo>
                              <a:pt x="685" y="1971"/>
                            </a:lnTo>
                            <a:lnTo>
                              <a:pt x="687" y="1969"/>
                            </a:lnTo>
                            <a:lnTo>
                              <a:pt x="689" y="1964"/>
                            </a:lnTo>
                            <a:lnTo>
                              <a:pt x="691" y="1962"/>
                            </a:lnTo>
                            <a:lnTo>
                              <a:pt x="692" y="1958"/>
                            </a:lnTo>
                            <a:lnTo>
                              <a:pt x="692" y="1954"/>
                            </a:lnTo>
                            <a:lnTo>
                              <a:pt x="692" y="1952"/>
                            </a:lnTo>
                            <a:lnTo>
                              <a:pt x="694" y="1950"/>
                            </a:lnTo>
                            <a:lnTo>
                              <a:pt x="696" y="1945"/>
                            </a:lnTo>
                            <a:lnTo>
                              <a:pt x="698" y="1941"/>
                            </a:lnTo>
                            <a:lnTo>
                              <a:pt x="700" y="1937"/>
                            </a:lnTo>
                            <a:lnTo>
                              <a:pt x="700" y="1935"/>
                            </a:lnTo>
                            <a:lnTo>
                              <a:pt x="700" y="1933"/>
                            </a:lnTo>
                            <a:lnTo>
                              <a:pt x="702" y="1933"/>
                            </a:lnTo>
                            <a:lnTo>
                              <a:pt x="740" y="1943"/>
                            </a:lnTo>
                            <a:lnTo>
                              <a:pt x="740" y="1943"/>
                            </a:lnTo>
                            <a:lnTo>
                              <a:pt x="738" y="1945"/>
                            </a:lnTo>
                            <a:lnTo>
                              <a:pt x="738" y="1947"/>
                            </a:lnTo>
                            <a:lnTo>
                              <a:pt x="738" y="1950"/>
                            </a:lnTo>
                            <a:lnTo>
                              <a:pt x="738" y="1954"/>
                            </a:lnTo>
                            <a:lnTo>
                              <a:pt x="738" y="1958"/>
                            </a:lnTo>
                            <a:lnTo>
                              <a:pt x="736" y="1962"/>
                            </a:lnTo>
                            <a:lnTo>
                              <a:pt x="736" y="1964"/>
                            </a:lnTo>
                            <a:lnTo>
                              <a:pt x="736" y="1967"/>
                            </a:lnTo>
                            <a:lnTo>
                              <a:pt x="736" y="1971"/>
                            </a:lnTo>
                            <a:lnTo>
                              <a:pt x="736" y="1975"/>
                            </a:lnTo>
                            <a:lnTo>
                              <a:pt x="736" y="1979"/>
                            </a:lnTo>
                            <a:lnTo>
                              <a:pt x="736" y="1983"/>
                            </a:lnTo>
                            <a:lnTo>
                              <a:pt x="736" y="1985"/>
                            </a:lnTo>
                            <a:lnTo>
                              <a:pt x="736" y="1990"/>
                            </a:lnTo>
                            <a:lnTo>
                              <a:pt x="736" y="1994"/>
                            </a:lnTo>
                            <a:lnTo>
                              <a:pt x="736" y="1998"/>
                            </a:lnTo>
                            <a:lnTo>
                              <a:pt x="736" y="2004"/>
                            </a:lnTo>
                            <a:lnTo>
                              <a:pt x="736" y="2007"/>
                            </a:lnTo>
                            <a:lnTo>
                              <a:pt x="736" y="2013"/>
                            </a:lnTo>
                            <a:lnTo>
                              <a:pt x="736" y="2015"/>
                            </a:lnTo>
                            <a:lnTo>
                              <a:pt x="736" y="2021"/>
                            </a:lnTo>
                            <a:lnTo>
                              <a:pt x="736" y="2026"/>
                            </a:lnTo>
                            <a:lnTo>
                              <a:pt x="736" y="2030"/>
                            </a:lnTo>
                            <a:lnTo>
                              <a:pt x="736" y="2036"/>
                            </a:lnTo>
                            <a:lnTo>
                              <a:pt x="736" y="2042"/>
                            </a:lnTo>
                            <a:lnTo>
                              <a:pt x="736" y="2047"/>
                            </a:lnTo>
                            <a:lnTo>
                              <a:pt x="738" y="2051"/>
                            </a:lnTo>
                            <a:lnTo>
                              <a:pt x="738" y="2057"/>
                            </a:lnTo>
                            <a:lnTo>
                              <a:pt x="738" y="2062"/>
                            </a:lnTo>
                            <a:lnTo>
                              <a:pt x="740" y="2066"/>
                            </a:lnTo>
                            <a:lnTo>
                              <a:pt x="740" y="2072"/>
                            </a:lnTo>
                            <a:lnTo>
                              <a:pt x="742" y="2078"/>
                            </a:lnTo>
                            <a:lnTo>
                              <a:pt x="744" y="2083"/>
                            </a:lnTo>
                            <a:lnTo>
                              <a:pt x="744" y="2091"/>
                            </a:lnTo>
                            <a:lnTo>
                              <a:pt x="746" y="2095"/>
                            </a:lnTo>
                            <a:lnTo>
                              <a:pt x="748" y="2101"/>
                            </a:lnTo>
                            <a:lnTo>
                              <a:pt x="748" y="2106"/>
                            </a:lnTo>
                            <a:lnTo>
                              <a:pt x="751" y="2110"/>
                            </a:lnTo>
                            <a:lnTo>
                              <a:pt x="753" y="2118"/>
                            </a:lnTo>
                            <a:lnTo>
                              <a:pt x="753" y="2123"/>
                            </a:lnTo>
                            <a:lnTo>
                              <a:pt x="757" y="2129"/>
                            </a:lnTo>
                            <a:lnTo>
                              <a:pt x="759" y="2135"/>
                            </a:lnTo>
                            <a:lnTo>
                              <a:pt x="761" y="2139"/>
                            </a:lnTo>
                            <a:lnTo>
                              <a:pt x="765" y="2144"/>
                            </a:lnTo>
                            <a:lnTo>
                              <a:pt x="767" y="2150"/>
                            </a:lnTo>
                            <a:lnTo>
                              <a:pt x="769" y="2156"/>
                            </a:lnTo>
                            <a:lnTo>
                              <a:pt x="772" y="2159"/>
                            </a:lnTo>
                            <a:lnTo>
                              <a:pt x="776" y="2165"/>
                            </a:lnTo>
                            <a:lnTo>
                              <a:pt x="780" y="2171"/>
                            </a:lnTo>
                            <a:lnTo>
                              <a:pt x="782" y="2175"/>
                            </a:lnTo>
                            <a:lnTo>
                              <a:pt x="786" y="2180"/>
                            </a:lnTo>
                            <a:lnTo>
                              <a:pt x="789" y="2186"/>
                            </a:lnTo>
                            <a:lnTo>
                              <a:pt x="795" y="2190"/>
                            </a:lnTo>
                            <a:lnTo>
                              <a:pt x="799" y="2196"/>
                            </a:lnTo>
                            <a:lnTo>
                              <a:pt x="805" y="2201"/>
                            </a:lnTo>
                            <a:lnTo>
                              <a:pt x="808" y="2205"/>
                            </a:lnTo>
                            <a:lnTo>
                              <a:pt x="814" y="2209"/>
                            </a:lnTo>
                            <a:lnTo>
                              <a:pt x="818" y="2213"/>
                            </a:lnTo>
                            <a:lnTo>
                              <a:pt x="824" y="2216"/>
                            </a:lnTo>
                            <a:lnTo>
                              <a:pt x="828" y="2222"/>
                            </a:lnTo>
                            <a:lnTo>
                              <a:pt x="833" y="2224"/>
                            </a:lnTo>
                            <a:lnTo>
                              <a:pt x="839" y="2228"/>
                            </a:lnTo>
                            <a:lnTo>
                              <a:pt x="845" y="2232"/>
                            </a:lnTo>
                            <a:lnTo>
                              <a:pt x="848" y="2235"/>
                            </a:lnTo>
                            <a:lnTo>
                              <a:pt x="854" y="2239"/>
                            </a:lnTo>
                            <a:lnTo>
                              <a:pt x="858" y="2243"/>
                            </a:lnTo>
                            <a:lnTo>
                              <a:pt x="864" y="2245"/>
                            </a:lnTo>
                            <a:lnTo>
                              <a:pt x="867" y="2249"/>
                            </a:lnTo>
                            <a:lnTo>
                              <a:pt x="873" y="2253"/>
                            </a:lnTo>
                            <a:lnTo>
                              <a:pt x="877" y="2256"/>
                            </a:lnTo>
                            <a:lnTo>
                              <a:pt x="883" y="2258"/>
                            </a:lnTo>
                            <a:lnTo>
                              <a:pt x="890" y="2260"/>
                            </a:lnTo>
                            <a:lnTo>
                              <a:pt x="896" y="2264"/>
                            </a:lnTo>
                            <a:lnTo>
                              <a:pt x="900" y="2266"/>
                            </a:lnTo>
                            <a:lnTo>
                              <a:pt x="904" y="2268"/>
                            </a:lnTo>
                            <a:lnTo>
                              <a:pt x="907" y="2270"/>
                            </a:lnTo>
                            <a:lnTo>
                              <a:pt x="913" y="2273"/>
                            </a:lnTo>
                            <a:lnTo>
                              <a:pt x="919" y="2275"/>
                            </a:lnTo>
                            <a:lnTo>
                              <a:pt x="925" y="2277"/>
                            </a:lnTo>
                            <a:lnTo>
                              <a:pt x="928" y="2279"/>
                            </a:lnTo>
                            <a:lnTo>
                              <a:pt x="934" y="2281"/>
                            </a:lnTo>
                            <a:lnTo>
                              <a:pt x="938" y="2283"/>
                            </a:lnTo>
                            <a:lnTo>
                              <a:pt x="942" y="2285"/>
                            </a:lnTo>
                            <a:lnTo>
                              <a:pt x="947" y="2287"/>
                            </a:lnTo>
                            <a:lnTo>
                              <a:pt x="951" y="2289"/>
                            </a:lnTo>
                            <a:lnTo>
                              <a:pt x="955" y="2289"/>
                            </a:lnTo>
                            <a:lnTo>
                              <a:pt x="961" y="2291"/>
                            </a:lnTo>
                            <a:lnTo>
                              <a:pt x="964" y="2291"/>
                            </a:lnTo>
                            <a:lnTo>
                              <a:pt x="968" y="2294"/>
                            </a:lnTo>
                            <a:lnTo>
                              <a:pt x="972" y="2294"/>
                            </a:lnTo>
                            <a:lnTo>
                              <a:pt x="978" y="2294"/>
                            </a:lnTo>
                            <a:lnTo>
                              <a:pt x="982" y="2296"/>
                            </a:lnTo>
                            <a:lnTo>
                              <a:pt x="985" y="2296"/>
                            </a:lnTo>
                            <a:lnTo>
                              <a:pt x="989" y="2296"/>
                            </a:lnTo>
                            <a:lnTo>
                              <a:pt x="993" y="2298"/>
                            </a:lnTo>
                            <a:lnTo>
                              <a:pt x="997" y="2298"/>
                            </a:lnTo>
                            <a:lnTo>
                              <a:pt x="1001" y="2298"/>
                            </a:lnTo>
                            <a:lnTo>
                              <a:pt x="1004" y="2298"/>
                            </a:lnTo>
                            <a:lnTo>
                              <a:pt x="1008" y="2300"/>
                            </a:lnTo>
                            <a:lnTo>
                              <a:pt x="1010" y="2300"/>
                            </a:lnTo>
                            <a:lnTo>
                              <a:pt x="1014" y="2300"/>
                            </a:lnTo>
                            <a:lnTo>
                              <a:pt x="1016" y="2300"/>
                            </a:lnTo>
                            <a:lnTo>
                              <a:pt x="1020" y="2300"/>
                            </a:lnTo>
                            <a:lnTo>
                              <a:pt x="1022" y="2300"/>
                            </a:lnTo>
                            <a:lnTo>
                              <a:pt x="1025" y="2302"/>
                            </a:lnTo>
                            <a:lnTo>
                              <a:pt x="1029" y="2300"/>
                            </a:lnTo>
                            <a:lnTo>
                              <a:pt x="1035" y="2300"/>
                            </a:lnTo>
                            <a:lnTo>
                              <a:pt x="1039" y="2298"/>
                            </a:lnTo>
                            <a:lnTo>
                              <a:pt x="1042" y="2298"/>
                            </a:lnTo>
                            <a:lnTo>
                              <a:pt x="1044" y="2296"/>
                            </a:lnTo>
                            <a:lnTo>
                              <a:pt x="1048" y="2296"/>
                            </a:lnTo>
                            <a:lnTo>
                              <a:pt x="1048" y="2294"/>
                            </a:lnTo>
                            <a:lnTo>
                              <a:pt x="1050" y="2294"/>
                            </a:lnTo>
                            <a:lnTo>
                              <a:pt x="1246" y="1334"/>
                            </a:lnTo>
                            <a:lnTo>
                              <a:pt x="1246" y="1333"/>
                            </a:lnTo>
                            <a:lnTo>
                              <a:pt x="1248" y="1331"/>
                            </a:lnTo>
                            <a:lnTo>
                              <a:pt x="1250" y="1327"/>
                            </a:lnTo>
                            <a:lnTo>
                              <a:pt x="1252" y="1325"/>
                            </a:lnTo>
                            <a:lnTo>
                              <a:pt x="1252" y="1323"/>
                            </a:lnTo>
                            <a:lnTo>
                              <a:pt x="1254" y="1319"/>
                            </a:lnTo>
                            <a:lnTo>
                              <a:pt x="1256" y="1315"/>
                            </a:lnTo>
                            <a:lnTo>
                              <a:pt x="1259" y="1312"/>
                            </a:lnTo>
                            <a:lnTo>
                              <a:pt x="1259" y="1306"/>
                            </a:lnTo>
                            <a:lnTo>
                              <a:pt x="1263" y="1302"/>
                            </a:lnTo>
                            <a:lnTo>
                              <a:pt x="1265" y="1296"/>
                            </a:lnTo>
                            <a:lnTo>
                              <a:pt x="1269" y="1293"/>
                            </a:lnTo>
                            <a:lnTo>
                              <a:pt x="1271" y="1285"/>
                            </a:lnTo>
                            <a:lnTo>
                              <a:pt x="1275" y="1281"/>
                            </a:lnTo>
                            <a:lnTo>
                              <a:pt x="1276" y="1274"/>
                            </a:lnTo>
                            <a:lnTo>
                              <a:pt x="1280" y="1266"/>
                            </a:lnTo>
                            <a:lnTo>
                              <a:pt x="1284" y="1258"/>
                            </a:lnTo>
                            <a:lnTo>
                              <a:pt x="1288" y="1249"/>
                            </a:lnTo>
                            <a:lnTo>
                              <a:pt x="1290" y="1241"/>
                            </a:lnTo>
                            <a:lnTo>
                              <a:pt x="1294" y="1234"/>
                            </a:lnTo>
                            <a:lnTo>
                              <a:pt x="1297" y="1224"/>
                            </a:lnTo>
                            <a:lnTo>
                              <a:pt x="1301" y="1217"/>
                            </a:lnTo>
                            <a:lnTo>
                              <a:pt x="1305" y="1207"/>
                            </a:lnTo>
                            <a:lnTo>
                              <a:pt x="1309" y="1198"/>
                            </a:lnTo>
                            <a:lnTo>
                              <a:pt x="1313" y="1188"/>
                            </a:lnTo>
                            <a:lnTo>
                              <a:pt x="1316" y="1177"/>
                            </a:lnTo>
                            <a:lnTo>
                              <a:pt x="1320" y="1165"/>
                            </a:lnTo>
                            <a:lnTo>
                              <a:pt x="1324" y="1154"/>
                            </a:lnTo>
                            <a:lnTo>
                              <a:pt x="1330" y="1144"/>
                            </a:lnTo>
                            <a:lnTo>
                              <a:pt x="1334" y="1133"/>
                            </a:lnTo>
                            <a:lnTo>
                              <a:pt x="1337" y="1122"/>
                            </a:lnTo>
                            <a:lnTo>
                              <a:pt x="1339" y="1108"/>
                            </a:lnTo>
                            <a:lnTo>
                              <a:pt x="1345" y="1097"/>
                            </a:lnTo>
                            <a:lnTo>
                              <a:pt x="1349" y="1084"/>
                            </a:lnTo>
                            <a:lnTo>
                              <a:pt x="1353" y="1070"/>
                            </a:lnTo>
                            <a:lnTo>
                              <a:pt x="1354" y="1059"/>
                            </a:lnTo>
                            <a:lnTo>
                              <a:pt x="1358" y="1044"/>
                            </a:lnTo>
                            <a:lnTo>
                              <a:pt x="1362" y="1032"/>
                            </a:lnTo>
                            <a:lnTo>
                              <a:pt x="1366" y="1017"/>
                            </a:lnTo>
                            <a:lnTo>
                              <a:pt x="1370" y="1004"/>
                            </a:lnTo>
                            <a:lnTo>
                              <a:pt x="1372" y="988"/>
                            </a:lnTo>
                            <a:lnTo>
                              <a:pt x="1375" y="975"/>
                            </a:lnTo>
                            <a:lnTo>
                              <a:pt x="1377" y="960"/>
                            </a:lnTo>
                            <a:lnTo>
                              <a:pt x="1381" y="947"/>
                            </a:lnTo>
                            <a:lnTo>
                              <a:pt x="1383" y="931"/>
                            </a:lnTo>
                            <a:lnTo>
                              <a:pt x="1387" y="916"/>
                            </a:lnTo>
                            <a:lnTo>
                              <a:pt x="1389" y="901"/>
                            </a:lnTo>
                            <a:lnTo>
                              <a:pt x="1391" y="886"/>
                            </a:lnTo>
                            <a:lnTo>
                              <a:pt x="1392" y="871"/>
                            </a:lnTo>
                            <a:lnTo>
                              <a:pt x="1394" y="855"/>
                            </a:lnTo>
                            <a:lnTo>
                              <a:pt x="1396" y="838"/>
                            </a:lnTo>
                            <a:lnTo>
                              <a:pt x="1398" y="823"/>
                            </a:lnTo>
                            <a:lnTo>
                              <a:pt x="1398" y="806"/>
                            </a:lnTo>
                            <a:lnTo>
                              <a:pt x="1400" y="791"/>
                            </a:lnTo>
                            <a:lnTo>
                              <a:pt x="1402" y="774"/>
                            </a:lnTo>
                            <a:lnTo>
                              <a:pt x="1402" y="757"/>
                            </a:lnTo>
                            <a:lnTo>
                              <a:pt x="1402" y="741"/>
                            </a:lnTo>
                            <a:lnTo>
                              <a:pt x="1402" y="724"/>
                            </a:lnTo>
                            <a:lnTo>
                              <a:pt x="1402" y="705"/>
                            </a:lnTo>
                            <a:lnTo>
                              <a:pt x="1402" y="690"/>
                            </a:lnTo>
                            <a:lnTo>
                              <a:pt x="1400" y="673"/>
                            </a:lnTo>
                            <a:lnTo>
                              <a:pt x="1400" y="656"/>
                            </a:lnTo>
                            <a:lnTo>
                              <a:pt x="1398" y="654"/>
                            </a:lnTo>
                            <a:lnTo>
                              <a:pt x="1398" y="652"/>
                            </a:lnTo>
                            <a:lnTo>
                              <a:pt x="1398" y="648"/>
                            </a:lnTo>
                            <a:lnTo>
                              <a:pt x="1398" y="644"/>
                            </a:lnTo>
                            <a:lnTo>
                              <a:pt x="1398" y="643"/>
                            </a:lnTo>
                            <a:lnTo>
                              <a:pt x="1398" y="639"/>
                            </a:lnTo>
                            <a:lnTo>
                              <a:pt x="1396" y="637"/>
                            </a:lnTo>
                            <a:lnTo>
                              <a:pt x="1396" y="633"/>
                            </a:lnTo>
                            <a:lnTo>
                              <a:pt x="1396" y="631"/>
                            </a:lnTo>
                            <a:lnTo>
                              <a:pt x="1396" y="627"/>
                            </a:lnTo>
                            <a:lnTo>
                              <a:pt x="1396" y="623"/>
                            </a:lnTo>
                            <a:lnTo>
                              <a:pt x="1394" y="620"/>
                            </a:lnTo>
                            <a:lnTo>
                              <a:pt x="1394" y="618"/>
                            </a:lnTo>
                            <a:lnTo>
                              <a:pt x="1394" y="616"/>
                            </a:lnTo>
                            <a:lnTo>
                              <a:pt x="1392" y="612"/>
                            </a:lnTo>
                            <a:lnTo>
                              <a:pt x="1392" y="610"/>
                            </a:lnTo>
                            <a:lnTo>
                              <a:pt x="1392" y="608"/>
                            </a:lnTo>
                            <a:lnTo>
                              <a:pt x="1391" y="604"/>
                            </a:lnTo>
                            <a:lnTo>
                              <a:pt x="1391" y="603"/>
                            </a:lnTo>
                            <a:lnTo>
                              <a:pt x="1391" y="599"/>
                            </a:lnTo>
                            <a:lnTo>
                              <a:pt x="1389" y="597"/>
                            </a:lnTo>
                            <a:lnTo>
                              <a:pt x="1389" y="593"/>
                            </a:lnTo>
                            <a:lnTo>
                              <a:pt x="1389" y="589"/>
                            </a:lnTo>
                            <a:lnTo>
                              <a:pt x="1389" y="587"/>
                            </a:lnTo>
                            <a:lnTo>
                              <a:pt x="1387" y="585"/>
                            </a:lnTo>
                            <a:lnTo>
                              <a:pt x="1385" y="582"/>
                            </a:lnTo>
                            <a:lnTo>
                              <a:pt x="1385" y="580"/>
                            </a:lnTo>
                            <a:lnTo>
                              <a:pt x="1383" y="578"/>
                            </a:lnTo>
                            <a:lnTo>
                              <a:pt x="1383" y="572"/>
                            </a:lnTo>
                            <a:lnTo>
                              <a:pt x="1381" y="568"/>
                            </a:lnTo>
                            <a:lnTo>
                              <a:pt x="1377" y="563"/>
                            </a:lnTo>
                            <a:lnTo>
                              <a:pt x="1375" y="557"/>
                            </a:lnTo>
                            <a:lnTo>
                              <a:pt x="1373" y="553"/>
                            </a:lnTo>
                            <a:lnTo>
                              <a:pt x="1370" y="547"/>
                            </a:lnTo>
                            <a:lnTo>
                              <a:pt x="1366" y="544"/>
                            </a:lnTo>
                            <a:lnTo>
                              <a:pt x="1364" y="540"/>
                            </a:lnTo>
                            <a:lnTo>
                              <a:pt x="1360" y="536"/>
                            </a:lnTo>
                            <a:lnTo>
                              <a:pt x="1356" y="532"/>
                            </a:lnTo>
                            <a:lnTo>
                              <a:pt x="1353" y="528"/>
                            </a:lnTo>
                            <a:lnTo>
                              <a:pt x="1349" y="525"/>
                            </a:lnTo>
                            <a:lnTo>
                              <a:pt x="1345" y="523"/>
                            </a:lnTo>
                            <a:lnTo>
                              <a:pt x="1339" y="521"/>
                            </a:lnTo>
                            <a:lnTo>
                              <a:pt x="1335" y="517"/>
                            </a:lnTo>
                            <a:lnTo>
                              <a:pt x="1332" y="515"/>
                            </a:lnTo>
                            <a:lnTo>
                              <a:pt x="1326" y="515"/>
                            </a:lnTo>
                            <a:lnTo>
                              <a:pt x="1322" y="513"/>
                            </a:lnTo>
                            <a:lnTo>
                              <a:pt x="1318" y="511"/>
                            </a:lnTo>
                            <a:lnTo>
                              <a:pt x="1316" y="511"/>
                            </a:lnTo>
                            <a:lnTo>
                              <a:pt x="1313" y="511"/>
                            </a:lnTo>
                            <a:lnTo>
                              <a:pt x="1311" y="511"/>
                            </a:lnTo>
                            <a:lnTo>
                              <a:pt x="1309" y="509"/>
                            </a:lnTo>
                            <a:lnTo>
                              <a:pt x="1305" y="509"/>
                            </a:lnTo>
                            <a:lnTo>
                              <a:pt x="1303" y="509"/>
                            </a:lnTo>
                            <a:lnTo>
                              <a:pt x="1301" y="509"/>
                            </a:lnTo>
                            <a:lnTo>
                              <a:pt x="1297" y="509"/>
                            </a:lnTo>
                            <a:lnTo>
                              <a:pt x="1295" y="509"/>
                            </a:lnTo>
                            <a:lnTo>
                              <a:pt x="1292" y="509"/>
                            </a:lnTo>
                            <a:lnTo>
                              <a:pt x="1290" y="509"/>
                            </a:lnTo>
                            <a:lnTo>
                              <a:pt x="1284" y="509"/>
                            </a:lnTo>
                            <a:lnTo>
                              <a:pt x="1280" y="509"/>
                            </a:lnTo>
                            <a:lnTo>
                              <a:pt x="1275" y="509"/>
                            </a:lnTo>
                            <a:lnTo>
                              <a:pt x="1269" y="509"/>
                            </a:lnTo>
                            <a:lnTo>
                              <a:pt x="1265" y="509"/>
                            </a:lnTo>
                            <a:lnTo>
                              <a:pt x="1259" y="509"/>
                            </a:lnTo>
                            <a:lnTo>
                              <a:pt x="1256" y="511"/>
                            </a:lnTo>
                            <a:lnTo>
                              <a:pt x="1252" y="511"/>
                            </a:lnTo>
                            <a:lnTo>
                              <a:pt x="1246" y="515"/>
                            </a:lnTo>
                            <a:lnTo>
                              <a:pt x="1242" y="515"/>
                            </a:lnTo>
                            <a:lnTo>
                              <a:pt x="1238" y="517"/>
                            </a:lnTo>
                            <a:lnTo>
                              <a:pt x="1235" y="521"/>
                            </a:lnTo>
                            <a:lnTo>
                              <a:pt x="1231" y="523"/>
                            </a:lnTo>
                            <a:lnTo>
                              <a:pt x="1229" y="525"/>
                            </a:lnTo>
                            <a:lnTo>
                              <a:pt x="1225" y="527"/>
                            </a:lnTo>
                            <a:lnTo>
                              <a:pt x="1221" y="530"/>
                            </a:lnTo>
                            <a:lnTo>
                              <a:pt x="1219" y="532"/>
                            </a:lnTo>
                            <a:lnTo>
                              <a:pt x="1216" y="538"/>
                            </a:lnTo>
                            <a:lnTo>
                              <a:pt x="1214" y="542"/>
                            </a:lnTo>
                            <a:lnTo>
                              <a:pt x="1212" y="546"/>
                            </a:lnTo>
                            <a:lnTo>
                              <a:pt x="1210" y="549"/>
                            </a:lnTo>
                            <a:lnTo>
                              <a:pt x="1208" y="555"/>
                            </a:lnTo>
                            <a:lnTo>
                              <a:pt x="1208" y="557"/>
                            </a:lnTo>
                            <a:lnTo>
                              <a:pt x="1206" y="559"/>
                            </a:lnTo>
                            <a:lnTo>
                              <a:pt x="1204" y="561"/>
                            </a:lnTo>
                            <a:lnTo>
                              <a:pt x="1204" y="565"/>
                            </a:lnTo>
                            <a:lnTo>
                              <a:pt x="1204" y="566"/>
                            </a:lnTo>
                            <a:lnTo>
                              <a:pt x="1204" y="570"/>
                            </a:lnTo>
                            <a:lnTo>
                              <a:pt x="1204" y="572"/>
                            </a:lnTo>
                            <a:lnTo>
                              <a:pt x="1204" y="576"/>
                            </a:lnTo>
                            <a:lnTo>
                              <a:pt x="1139" y="895"/>
                            </a:lnTo>
                            <a:lnTo>
                              <a:pt x="1136" y="893"/>
                            </a:lnTo>
                            <a:lnTo>
                              <a:pt x="1132" y="892"/>
                            </a:lnTo>
                            <a:lnTo>
                              <a:pt x="1126" y="888"/>
                            </a:lnTo>
                            <a:lnTo>
                              <a:pt x="1122" y="886"/>
                            </a:lnTo>
                            <a:lnTo>
                              <a:pt x="1117" y="884"/>
                            </a:lnTo>
                            <a:lnTo>
                              <a:pt x="1113" y="880"/>
                            </a:lnTo>
                            <a:lnTo>
                              <a:pt x="1107" y="878"/>
                            </a:lnTo>
                            <a:lnTo>
                              <a:pt x="1105" y="876"/>
                            </a:lnTo>
                            <a:lnTo>
                              <a:pt x="1227" y="316"/>
                            </a:lnTo>
                            <a:lnTo>
                              <a:pt x="1227" y="312"/>
                            </a:lnTo>
                            <a:lnTo>
                              <a:pt x="1227" y="308"/>
                            </a:lnTo>
                            <a:lnTo>
                              <a:pt x="1229" y="306"/>
                            </a:lnTo>
                            <a:lnTo>
                              <a:pt x="1229" y="304"/>
                            </a:lnTo>
                            <a:lnTo>
                              <a:pt x="1229" y="300"/>
                            </a:lnTo>
                            <a:lnTo>
                              <a:pt x="1229" y="298"/>
                            </a:lnTo>
                            <a:lnTo>
                              <a:pt x="1229" y="295"/>
                            </a:lnTo>
                            <a:lnTo>
                              <a:pt x="1229" y="293"/>
                            </a:lnTo>
                            <a:lnTo>
                              <a:pt x="1229" y="291"/>
                            </a:lnTo>
                            <a:lnTo>
                              <a:pt x="1229" y="287"/>
                            </a:lnTo>
                            <a:lnTo>
                              <a:pt x="1229" y="285"/>
                            </a:lnTo>
                            <a:lnTo>
                              <a:pt x="1229" y="283"/>
                            </a:lnTo>
                            <a:lnTo>
                              <a:pt x="1229" y="278"/>
                            </a:lnTo>
                            <a:lnTo>
                              <a:pt x="1227" y="272"/>
                            </a:lnTo>
                            <a:lnTo>
                              <a:pt x="1225" y="268"/>
                            </a:lnTo>
                            <a:lnTo>
                              <a:pt x="1225" y="262"/>
                            </a:lnTo>
                            <a:lnTo>
                              <a:pt x="1223" y="257"/>
                            </a:lnTo>
                            <a:lnTo>
                              <a:pt x="1221" y="253"/>
                            </a:lnTo>
                            <a:lnTo>
                              <a:pt x="1219" y="247"/>
                            </a:lnTo>
                            <a:lnTo>
                              <a:pt x="1217" y="243"/>
                            </a:lnTo>
                            <a:lnTo>
                              <a:pt x="1216" y="240"/>
                            </a:lnTo>
                            <a:lnTo>
                              <a:pt x="1214" y="236"/>
                            </a:lnTo>
                            <a:lnTo>
                              <a:pt x="1210" y="232"/>
                            </a:lnTo>
                            <a:lnTo>
                              <a:pt x="1206" y="226"/>
                            </a:lnTo>
                            <a:lnTo>
                              <a:pt x="1202" y="222"/>
                            </a:lnTo>
                            <a:lnTo>
                              <a:pt x="1200" y="219"/>
                            </a:lnTo>
                            <a:lnTo>
                              <a:pt x="1197" y="215"/>
                            </a:lnTo>
                            <a:lnTo>
                              <a:pt x="1193" y="211"/>
                            </a:lnTo>
                            <a:lnTo>
                              <a:pt x="1189" y="207"/>
                            </a:lnTo>
                            <a:lnTo>
                              <a:pt x="1185" y="205"/>
                            </a:lnTo>
                            <a:lnTo>
                              <a:pt x="1179" y="203"/>
                            </a:lnTo>
                            <a:lnTo>
                              <a:pt x="1176" y="200"/>
                            </a:lnTo>
                            <a:lnTo>
                              <a:pt x="1172" y="198"/>
                            </a:lnTo>
                            <a:lnTo>
                              <a:pt x="1166" y="194"/>
                            </a:lnTo>
                            <a:lnTo>
                              <a:pt x="1160" y="192"/>
                            </a:lnTo>
                            <a:lnTo>
                              <a:pt x="1157" y="192"/>
                            </a:lnTo>
                            <a:lnTo>
                              <a:pt x="1151" y="190"/>
                            </a:lnTo>
                            <a:lnTo>
                              <a:pt x="1147" y="190"/>
                            </a:lnTo>
                            <a:lnTo>
                              <a:pt x="1143" y="188"/>
                            </a:lnTo>
                            <a:lnTo>
                              <a:pt x="1141" y="186"/>
                            </a:lnTo>
                            <a:lnTo>
                              <a:pt x="1138" y="186"/>
                            </a:lnTo>
                            <a:lnTo>
                              <a:pt x="1136" y="186"/>
                            </a:lnTo>
                            <a:lnTo>
                              <a:pt x="1134" y="186"/>
                            </a:lnTo>
                            <a:lnTo>
                              <a:pt x="1130" y="186"/>
                            </a:lnTo>
                            <a:lnTo>
                              <a:pt x="1128" y="186"/>
                            </a:lnTo>
                            <a:lnTo>
                              <a:pt x="1124" y="186"/>
                            </a:lnTo>
                            <a:lnTo>
                              <a:pt x="1122" y="186"/>
                            </a:lnTo>
                            <a:lnTo>
                              <a:pt x="1120" y="186"/>
                            </a:lnTo>
                            <a:lnTo>
                              <a:pt x="1117" y="186"/>
                            </a:lnTo>
                            <a:lnTo>
                              <a:pt x="1115" y="186"/>
                            </a:lnTo>
                            <a:lnTo>
                              <a:pt x="1109" y="186"/>
                            </a:lnTo>
                            <a:lnTo>
                              <a:pt x="1105" y="188"/>
                            </a:lnTo>
                            <a:lnTo>
                              <a:pt x="1100" y="188"/>
                            </a:lnTo>
                            <a:lnTo>
                              <a:pt x="1094" y="190"/>
                            </a:lnTo>
                            <a:lnTo>
                              <a:pt x="1090" y="192"/>
                            </a:lnTo>
                            <a:lnTo>
                              <a:pt x="1086" y="192"/>
                            </a:lnTo>
                            <a:lnTo>
                              <a:pt x="1081" y="194"/>
                            </a:lnTo>
                            <a:lnTo>
                              <a:pt x="1077" y="198"/>
                            </a:lnTo>
                            <a:lnTo>
                              <a:pt x="1073" y="200"/>
                            </a:lnTo>
                            <a:lnTo>
                              <a:pt x="1067" y="203"/>
                            </a:lnTo>
                            <a:lnTo>
                              <a:pt x="1063" y="205"/>
                            </a:lnTo>
                            <a:lnTo>
                              <a:pt x="1058" y="207"/>
                            </a:lnTo>
                            <a:lnTo>
                              <a:pt x="1054" y="211"/>
                            </a:lnTo>
                            <a:lnTo>
                              <a:pt x="1050" y="215"/>
                            </a:lnTo>
                            <a:lnTo>
                              <a:pt x="1048" y="219"/>
                            </a:lnTo>
                            <a:lnTo>
                              <a:pt x="1044" y="222"/>
                            </a:lnTo>
                            <a:lnTo>
                              <a:pt x="1041" y="226"/>
                            </a:lnTo>
                            <a:lnTo>
                              <a:pt x="1039" y="232"/>
                            </a:lnTo>
                            <a:lnTo>
                              <a:pt x="1035" y="234"/>
                            </a:lnTo>
                            <a:lnTo>
                              <a:pt x="1033" y="240"/>
                            </a:lnTo>
                            <a:lnTo>
                              <a:pt x="1029" y="243"/>
                            </a:lnTo>
                            <a:lnTo>
                              <a:pt x="1027" y="249"/>
                            </a:lnTo>
                            <a:lnTo>
                              <a:pt x="1025" y="253"/>
                            </a:lnTo>
                            <a:lnTo>
                              <a:pt x="1023" y="259"/>
                            </a:lnTo>
                            <a:lnTo>
                              <a:pt x="1022" y="260"/>
                            </a:lnTo>
                            <a:lnTo>
                              <a:pt x="1022" y="264"/>
                            </a:lnTo>
                            <a:lnTo>
                              <a:pt x="1022" y="266"/>
                            </a:lnTo>
                            <a:lnTo>
                              <a:pt x="1022" y="270"/>
                            </a:lnTo>
                            <a:lnTo>
                              <a:pt x="919" y="730"/>
                            </a:lnTo>
                            <a:lnTo>
                              <a:pt x="915" y="728"/>
                            </a:lnTo>
                            <a:lnTo>
                              <a:pt x="913" y="726"/>
                            </a:lnTo>
                            <a:lnTo>
                              <a:pt x="907" y="724"/>
                            </a:lnTo>
                            <a:lnTo>
                              <a:pt x="905" y="720"/>
                            </a:lnTo>
                            <a:lnTo>
                              <a:pt x="904" y="719"/>
                            </a:lnTo>
                            <a:lnTo>
                              <a:pt x="900" y="717"/>
                            </a:lnTo>
                            <a:lnTo>
                              <a:pt x="896" y="713"/>
                            </a:lnTo>
                            <a:lnTo>
                              <a:pt x="892" y="713"/>
                            </a:lnTo>
                            <a:lnTo>
                              <a:pt x="1022" y="129"/>
                            </a:lnTo>
                            <a:lnTo>
                              <a:pt x="1022" y="125"/>
                            </a:lnTo>
                            <a:lnTo>
                              <a:pt x="1022" y="124"/>
                            </a:lnTo>
                            <a:lnTo>
                              <a:pt x="1022" y="120"/>
                            </a:lnTo>
                            <a:lnTo>
                              <a:pt x="1022" y="118"/>
                            </a:lnTo>
                            <a:lnTo>
                              <a:pt x="1022" y="114"/>
                            </a:lnTo>
                            <a:lnTo>
                              <a:pt x="1022" y="112"/>
                            </a:lnTo>
                            <a:lnTo>
                              <a:pt x="1022" y="110"/>
                            </a:lnTo>
                            <a:lnTo>
                              <a:pt x="1022" y="106"/>
                            </a:lnTo>
                            <a:lnTo>
                              <a:pt x="1022" y="105"/>
                            </a:lnTo>
                            <a:lnTo>
                              <a:pt x="1022" y="103"/>
                            </a:lnTo>
                            <a:lnTo>
                              <a:pt x="1022" y="99"/>
                            </a:lnTo>
                            <a:lnTo>
                              <a:pt x="1022" y="97"/>
                            </a:lnTo>
                            <a:lnTo>
                              <a:pt x="1022" y="91"/>
                            </a:lnTo>
                            <a:lnTo>
                              <a:pt x="1022" y="86"/>
                            </a:lnTo>
                            <a:lnTo>
                              <a:pt x="1020" y="82"/>
                            </a:lnTo>
                            <a:lnTo>
                              <a:pt x="1018" y="76"/>
                            </a:lnTo>
                            <a:lnTo>
                              <a:pt x="1016" y="70"/>
                            </a:lnTo>
                            <a:lnTo>
                              <a:pt x="1014" y="67"/>
                            </a:lnTo>
                            <a:lnTo>
                              <a:pt x="1012" y="61"/>
                            </a:lnTo>
                            <a:lnTo>
                              <a:pt x="1010" y="57"/>
                            </a:lnTo>
                            <a:lnTo>
                              <a:pt x="1008" y="53"/>
                            </a:lnTo>
                            <a:lnTo>
                              <a:pt x="1006" y="48"/>
                            </a:lnTo>
                            <a:lnTo>
                              <a:pt x="1004" y="44"/>
                            </a:lnTo>
                            <a:lnTo>
                              <a:pt x="1001" y="40"/>
                            </a:lnTo>
                            <a:lnTo>
                              <a:pt x="997" y="36"/>
                            </a:lnTo>
                            <a:lnTo>
                              <a:pt x="993" y="32"/>
                            </a:lnTo>
                            <a:lnTo>
                              <a:pt x="991" y="29"/>
                            </a:lnTo>
                            <a:lnTo>
                              <a:pt x="985" y="25"/>
                            </a:lnTo>
                            <a:lnTo>
                              <a:pt x="983" y="23"/>
                            </a:lnTo>
                            <a:lnTo>
                              <a:pt x="978" y="19"/>
                            </a:lnTo>
                            <a:lnTo>
                              <a:pt x="972" y="17"/>
                            </a:lnTo>
                            <a:lnTo>
                              <a:pt x="968" y="13"/>
                            </a:lnTo>
                            <a:lnTo>
                              <a:pt x="964" y="11"/>
                            </a:lnTo>
                            <a:lnTo>
                              <a:pt x="961" y="10"/>
                            </a:lnTo>
                            <a:lnTo>
                              <a:pt x="955" y="6"/>
                            </a:lnTo>
                            <a:lnTo>
                              <a:pt x="949" y="6"/>
                            </a:lnTo>
                            <a:lnTo>
                              <a:pt x="944" y="4"/>
                            </a:lnTo>
                            <a:lnTo>
                              <a:pt x="940" y="4"/>
                            </a:lnTo>
                            <a:lnTo>
                              <a:pt x="936" y="2"/>
                            </a:lnTo>
                            <a:lnTo>
                              <a:pt x="934" y="2"/>
                            </a:lnTo>
                            <a:lnTo>
                              <a:pt x="932" y="0"/>
                            </a:lnTo>
                            <a:lnTo>
                              <a:pt x="928" y="0"/>
                            </a:lnTo>
                            <a:lnTo>
                              <a:pt x="926" y="0"/>
                            </a:lnTo>
                            <a:lnTo>
                              <a:pt x="925" y="0"/>
                            </a:lnTo>
                            <a:lnTo>
                              <a:pt x="921" y="0"/>
                            </a:lnTo>
                            <a:lnTo>
                              <a:pt x="919" y="0"/>
                            </a:lnTo>
                            <a:lnTo>
                              <a:pt x="915" y="0"/>
                            </a:lnTo>
                            <a:lnTo>
                              <a:pt x="913" y="0"/>
                            </a:lnTo>
                            <a:lnTo>
                              <a:pt x="911" y="0"/>
                            </a:lnTo>
                            <a:lnTo>
                              <a:pt x="907" y="0"/>
                            </a:lnTo>
                            <a:lnTo>
                              <a:pt x="904" y="0"/>
                            </a:lnTo>
                            <a:lnTo>
                              <a:pt x="898" y="2"/>
                            </a:lnTo>
                            <a:lnTo>
                              <a:pt x="896" y="2"/>
                            </a:lnTo>
                            <a:lnTo>
                              <a:pt x="892" y="2"/>
                            </a:lnTo>
                            <a:lnTo>
                              <a:pt x="890" y="2"/>
                            </a:lnTo>
                            <a:lnTo>
                              <a:pt x="888" y="4"/>
                            </a:lnTo>
                            <a:lnTo>
                              <a:pt x="881" y="4"/>
                            </a:lnTo>
                            <a:lnTo>
                              <a:pt x="877" y="6"/>
                            </a:lnTo>
                            <a:lnTo>
                              <a:pt x="873" y="10"/>
                            </a:lnTo>
                            <a:lnTo>
                              <a:pt x="867" y="11"/>
                            </a:lnTo>
                            <a:lnTo>
                              <a:pt x="864" y="15"/>
                            </a:lnTo>
                            <a:lnTo>
                              <a:pt x="860" y="17"/>
                            </a:lnTo>
                            <a:lnTo>
                              <a:pt x="854" y="19"/>
                            </a:lnTo>
                            <a:lnTo>
                              <a:pt x="850" y="23"/>
                            </a:lnTo>
                            <a:lnTo>
                              <a:pt x="847" y="25"/>
                            </a:lnTo>
                            <a:lnTo>
                              <a:pt x="843" y="29"/>
                            </a:lnTo>
                            <a:lnTo>
                              <a:pt x="839" y="32"/>
                            </a:lnTo>
                            <a:lnTo>
                              <a:pt x="835" y="36"/>
                            </a:lnTo>
                            <a:lnTo>
                              <a:pt x="833" y="40"/>
                            </a:lnTo>
                            <a:lnTo>
                              <a:pt x="831" y="44"/>
                            </a:lnTo>
                            <a:lnTo>
                              <a:pt x="828" y="48"/>
                            </a:lnTo>
                            <a:lnTo>
                              <a:pt x="824" y="53"/>
                            </a:lnTo>
                            <a:lnTo>
                              <a:pt x="822" y="57"/>
                            </a:lnTo>
                            <a:lnTo>
                              <a:pt x="820" y="61"/>
                            </a:lnTo>
                            <a:lnTo>
                              <a:pt x="818" y="67"/>
                            </a:lnTo>
                            <a:lnTo>
                              <a:pt x="816" y="70"/>
                            </a:lnTo>
                            <a:lnTo>
                              <a:pt x="816" y="74"/>
                            </a:lnTo>
                            <a:lnTo>
                              <a:pt x="814" y="76"/>
                            </a:lnTo>
                            <a:lnTo>
                              <a:pt x="812" y="82"/>
                            </a:lnTo>
                            <a:lnTo>
                              <a:pt x="812" y="84"/>
                            </a:lnTo>
                            <a:lnTo>
                              <a:pt x="687" y="663"/>
                            </a:lnTo>
                            <a:lnTo>
                              <a:pt x="681" y="663"/>
                            </a:lnTo>
                            <a:lnTo>
                              <a:pt x="677" y="663"/>
                            </a:lnTo>
                            <a:lnTo>
                              <a:pt x="673" y="663"/>
                            </a:lnTo>
                            <a:lnTo>
                              <a:pt x="670" y="663"/>
                            </a:lnTo>
                            <a:lnTo>
                              <a:pt x="666" y="663"/>
                            </a:lnTo>
                            <a:lnTo>
                              <a:pt x="660" y="665"/>
                            </a:lnTo>
                            <a:lnTo>
                              <a:pt x="656" y="665"/>
                            </a:lnTo>
                            <a:lnTo>
                              <a:pt x="652" y="667"/>
                            </a:lnTo>
                            <a:lnTo>
                              <a:pt x="753" y="213"/>
                            </a:lnTo>
                            <a:lnTo>
                              <a:pt x="753" y="209"/>
                            </a:lnTo>
                            <a:lnTo>
                              <a:pt x="753" y="207"/>
                            </a:lnTo>
                            <a:lnTo>
                              <a:pt x="753" y="203"/>
                            </a:lnTo>
                            <a:lnTo>
                              <a:pt x="753" y="201"/>
                            </a:lnTo>
                            <a:lnTo>
                              <a:pt x="753" y="198"/>
                            </a:lnTo>
                            <a:lnTo>
                              <a:pt x="753" y="196"/>
                            </a:lnTo>
                            <a:lnTo>
                              <a:pt x="753" y="192"/>
                            </a:lnTo>
                            <a:lnTo>
                              <a:pt x="753" y="190"/>
                            </a:lnTo>
                            <a:lnTo>
                              <a:pt x="753" y="188"/>
                            </a:lnTo>
                            <a:lnTo>
                              <a:pt x="753" y="184"/>
                            </a:lnTo>
                            <a:lnTo>
                              <a:pt x="753" y="182"/>
                            </a:lnTo>
                            <a:lnTo>
                              <a:pt x="753" y="181"/>
                            </a:lnTo>
                            <a:lnTo>
                              <a:pt x="753" y="175"/>
                            </a:lnTo>
                            <a:lnTo>
                              <a:pt x="753" y="169"/>
                            </a:lnTo>
                            <a:lnTo>
                              <a:pt x="751" y="167"/>
                            </a:lnTo>
                            <a:lnTo>
                              <a:pt x="751" y="163"/>
                            </a:lnTo>
                            <a:lnTo>
                              <a:pt x="751" y="162"/>
                            </a:lnTo>
                            <a:lnTo>
                              <a:pt x="750" y="160"/>
                            </a:lnTo>
                            <a:lnTo>
                              <a:pt x="748" y="154"/>
                            </a:lnTo>
                            <a:lnTo>
                              <a:pt x="746" y="148"/>
                            </a:lnTo>
                            <a:lnTo>
                              <a:pt x="744" y="144"/>
                            </a:lnTo>
                            <a:lnTo>
                              <a:pt x="742" y="141"/>
                            </a:lnTo>
                            <a:lnTo>
                              <a:pt x="740" y="135"/>
                            </a:lnTo>
                            <a:lnTo>
                              <a:pt x="738" y="131"/>
                            </a:lnTo>
                            <a:lnTo>
                              <a:pt x="734" y="127"/>
                            </a:lnTo>
                            <a:lnTo>
                              <a:pt x="730" y="124"/>
                            </a:lnTo>
                            <a:lnTo>
                              <a:pt x="727" y="120"/>
                            </a:lnTo>
                            <a:lnTo>
                              <a:pt x="725" y="116"/>
                            </a:lnTo>
                            <a:lnTo>
                              <a:pt x="721" y="112"/>
                            </a:lnTo>
                            <a:lnTo>
                              <a:pt x="717" y="108"/>
                            </a:lnTo>
                            <a:lnTo>
                              <a:pt x="713" y="105"/>
                            </a:lnTo>
                            <a:lnTo>
                              <a:pt x="710" y="103"/>
                            </a:lnTo>
                            <a:lnTo>
                              <a:pt x="704" y="99"/>
                            </a:lnTo>
                            <a:lnTo>
                              <a:pt x="700" y="97"/>
                            </a:lnTo>
                            <a:lnTo>
                              <a:pt x="694" y="95"/>
                            </a:lnTo>
                            <a:lnTo>
                              <a:pt x="691" y="91"/>
                            </a:lnTo>
                            <a:lnTo>
                              <a:pt x="685" y="89"/>
                            </a:lnTo>
                            <a:lnTo>
                              <a:pt x="681" y="87"/>
                            </a:lnTo>
                            <a:lnTo>
                              <a:pt x="675" y="86"/>
                            </a:lnTo>
                            <a:lnTo>
                              <a:pt x="672" y="86"/>
                            </a:lnTo>
                            <a:lnTo>
                              <a:pt x="668" y="84"/>
                            </a:lnTo>
                            <a:lnTo>
                              <a:pt x="666" y="84"/>
                            </a:lnTo>
                            <a:lnTo>
                              <a:pt x="664" y="84"/>
                            </a:lnTo>
                            <a:lnTo>
                              <a:pt x="660" y="84"/>
                            </a:lnTo>
                            <a:lnTo>
                              <a:pt x="658" y="84"/>
                            </a:lnTo>
                            <a:lnTo>
                              <a:pt x="654" y="84"/>
                            </a:lnTo>
                            <a:lnTo>
                              <a:pt x="652" y="84"/>
                            </a:lnTo>
                            <a:lnTo>
                              <a:pt x="651" y="84"/>
                            </a:lnTo>
                            <a:lnTo>
                              <a:pt x="647" y="84"/>
                            </a:lnTo>
                            <a:lnTo>
                              <a:pt x="645" y="84"/>
                            </a:lnTo>
                            <a:lnTo>
                              <a:pt x="643" y="84"/>
                            </a:lnTo>
                            <a:lnTo>
                              <a:pt x="639" y="84"/>
                            </a:lnTo>
                            <a:lnTo>
                              <a:pt x="635" y="84"/>
                            </a:lnTo>
                            <a:lnTo>
                              <a:pt x="630" y="84"/>
                            </a:lnTo>
                            <a:lnTo>
                              <a:pt x="628" y="84"/>
                            </a:lnTo>
                            <a:lnTo>
                              <a:pt x="624" y="86"/>
                            </a:lnTo>
                            <a:lnTo>
                              <a:pt x="622" y="86"/>
                            </a:lnTo>
                            <a:lnTo>
                              <a:pt x="618" y="86"/>
                            </a:lnTo>
                            <a:lnTo>
                              <a:pt x="614" y="87"/>
                            </a:lnTo>
                            <a:lnTo>
                              <a:pt x="609" y="89"/>
                            </a:lnTo>
                            <a:lnTo>
                              <a:pt x="603" y="91"/>
                            </a:lnTo>
                            <a:lnTo>
                              <a:pt x="599" y="95"/>
                            </a:lnTo>
                            <a:lnTo>
                              <a:pt x="595" y="97"/>
                            </a:lnTo>
                            <a:lnTo>
                              <a:pt x="592" y="99"/>
                            </a:lnTo>
                            <a:lnTo>
                              <a:pt x="586" y="103"/>
                            </a:lnTo>
                            <a:lnTo>
                              <a:pt x="582" y="105"/>
                            </a:lnTo>
                            <a:lnTo>
                              <a:pt x="578" y="108"/>
                            </a:lnTo>
                            <a:lnTo>
                              <a:pt x="574" y="112"/>
                            </a:lnTo>
                            <a:lnTo>
                              <a:pt x="571" y="116"/>
                            </a:lnTo>
                            <a:lnTo>
                              <a:pt x="567" y="120"/>
                            </a:lnTo>
                            <a:lnTo>
                              <a:pt x="565" y="124"/>
                            </a:lnTo>
                            <a:lnTo>
                              <a:pt x="563" y="127"/>
                            </a:lnTo>
                            <a:lnTo>
                              <a:pt x="559" y="131"/>
                            </a:lnTo>
                            <a:lnTo>
                              <a:pt x="555" y="135"/>
                            </a:lnTo>
                            <a:lnTo>
                              <a:pt x="554" y="141"/>
                            </a:lnTo>
                            <a:lnTo>
                              <a:pt x="552" y="146"/>
                            </a:lnTo>
                            <a:lnTo>
                              <a:pt x="550" y="150"/>
                            </a:lnTo>
                            <a:lnTo>
                              <a:pt x="548" y="156"/>
                            </a:lnTo>
                            <a:lnTo>
                              <a:pt x="546" y="158"/>
                            </a:lnTo>
                            <a:lnTo>
                              <a:pt x="546" y="160"/>
                            </a:lnTo>
                            <a:lnTo>
                              <a:pt x="544" y="163"/>
                            </a:lnTo>
                            <a:lnTo>
                              <a:pt x="544" y="167"/>
                            </a:lnTo>
                            <a:lnTo>
                              <a:pt x="361" y="1127"/>
                            </a:lnTo>
                            <a:lnTo>
                              <a:pt x="361" y="1127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140" name="AutoShape 1322"/>
                    <p:cNvSpPr/>
                    <p:nvPr/>
                  </p:nvSpPr>
                  <p:spPr>
                    <a:xfrm rot="10690800">
                      <a:off x="4264200" y="2006280"/>
                      <a:ext cx="88560" cy="75960"/>
                    </a:xfrm>
                    <a:prstGeom prst="hexagon">
                      <a:avLst>
                        <a:gd name="adj" fmla="val 29147"/>
                        <a:gd name="vf" fmla="val 115470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80" bIns="1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41" name="Group 1323"/>
                  <p:cNvGrpSpPr/>
                  <p:nvPr/>
                </p:nvGrpSpPr>
                <p:grpSpPr>
                  <a:xfrm>
                    <a:off x="4199760" y="2518920"/>
                    <a:ext cx="249480" cy="1248120"/>
                    <a:chOff x="4199760" y="2518920"/>
                    <a:chExt cx="249480" cy="1248120"/>
                  </a:xfrm>
                </p:grpSpPr>
                <p:grpSp>
                  <p:nvGrpSpPr>
                    <p:cNvPr id="2142" name="Group 1324"/>
                    <p:cNvGrpSpPr/>
                    <p:nvPr/>
                  </p:nvGrpSpPr>
                  <p:grpSpPr>
                    <a:xfrm>
                      <a:off x="4199760" y="2518920"/>
                      <a:ext cx="249480" cy="614520"/>
                      <a:chOff x="4199760" y="2518920"/>
                      <a:chExt cx="249480" cy="614520"/>
                    </a:xfrm>
                  </p:grpSpPr>
                  <p:sp>
                    <p:nvSpPr>
                      <p:cNvPr id="2143" name="AutoShape 1325"/>
                      <p:cNvSpPr/>
                      <p:nvPr/>
                    </p:nvSpPr>
                    <p:spPr>
                      <a:xfrm rot="63600">
                        <a:off x="4225680" y="2640240"/>
                        <a:ext cx="179640" cy="49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1556" y="21600"/>
                            </a:lnTo>
                            <a:lnTo>
                              <a:pt x="20044" y="21600"/>
                            </a:lnTo>
                            <a:lnTo>
                              <a:pt x="2160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0c0c0"/>
                          </a:gs>
                          <a:gs pos="100000">
                            <a:srgbClr val="ffffff"/>
                          </a:gs>
                        </a:gsLst>
                        <a:lin ang="180000"/>
                      </a:gradFill>
                      <a:ln w="93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44" name="AutoShape 1326"/>
                      <p:cNvSpPr/>
                      <p:nvPr/>
                    </p:nvSpPr>
                    <p:spPr>
                      <a:xfrm rot="5641800">
                        <a:off x="4228560" y="2504160"/>
                        <a:ext cx="191520" cy="23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934" y="2201"/>
                              <a:pt x="12267" y="5080"/>
                              <a:pt x="12267" y="10800"/>
                            </a:cubicBezTo>
                            <a:cubicBezTo>
                              <a:pt x="12267" y="16520"/>
                              <a:pt x="16934" y="19399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dddddd"/>
                          </a:gs>
                        </a:gsLst>
                        <a:lin ang="16200000"/>
                      </a:gradFill>
                      <a:ln w="93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45" name="Group 1327"/>
                    <p:cNvGrpSpPr/>
                    <p:nvPr/>
                  </p:nvGrpSpPr>
                  <p:grpSpPr>
                    <a:xfrm>
                      <a:off x="4201920" y="3017880"/>
                      <a:ext cx="230040" cy="749160"/>
                      <a:chOff x="4201920" y="3017880"/>
                      <a:chExt cx="230040" cy="749160"/>
                    </a:xfrm>
                  </p:grpSpPr>
                  <p:sp>
                    <p:nvSpPr>
                      <p:cNvPr id="2146" name="AutoShape 1328"/>
                      <p:cNvSpPr/>
                      <p:nvPr/>
                    </p:nvSpPr>
                    <p:spPr>
                      <a:xfrm rot="78600">
                        <a:off x="4215960" y="3153600"/>
                        <a:ext cx="180360" cy="360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4308" y="21600"/>
                            </a:lnTo>
                            <a:lnTo>
                              <a:pt x="17292" y="21600"/>
                            </a:lnTo>
                            <a:lnTo>
                              <a:pt x="2160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0c0c0"/>
                          </a:gs>
                          <a:gs pos="100000">
                            <a:srgbClr val="ffffff"/>
                          </a:gs>
                        </a:gsLst>
                        <a:lin ang="540000"/>
                      </a:gradFill>
                      <a:ln w="93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47" name="Oval 1329"/>
                      <p:cNvSpPr/>
                      <p:nvPr/>
                    </p:nvSpPr>
                    <p:spPr>
                      <a:xfrm rot="617400">
                        <a:off x="4217040" y="3033000"/>
                        <a:ext cx="187200" cy="1904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dddddd"/>
                          </a:gs>
                          <a:gs pos="100000">
                            <a:srgbClr val="ffffff"/>
                          </a:gs>
                        </a:gsLst>
                        <a:lin ang="0"/>
                      </a:gradFill>
                      <a:ln w="9360">
                        <a:solidFill>
                          <a:srgbClr val="c0c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48" name="Freeform 1330"/>
                      <p:cNvSpPr/>
                      <p:nvPr/>
                    </p:nvSpPr>
                    <p:spPr>
                      <a:xfrm rot="10112400">
                        <a:off x="4229280" y="3464640"/>
                        <a:ext cx="175680" cy="28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02" h="2302">
                            <a:moveTo>
                              <a:pt x="361" y="1127"/>
                            </a:moveTo>
                            <a:lnTo>
                              <a:pt x="280" y="1116"/>
                            </a:lnTo>
                            <a:lnTo>
                              <a:pt x="373" y="711"/>
                            </a:lnTo>
                            <a:lnTo>
                              <a:pt x="373" y="709"/>
                            </a:lnTo>
                            <a:lnTo>
                              <a:pt x="375" y="705"/>
                            </a:lnTo>
                            <a:lnTo>
                              <a:pt x="375" y="703"/>
                            </a:lnTo>
                            <a:lnTo>
                              <a:pt x="375" y="700"/>
                            </a:lnTo>
                            <a:lnTo>
                              <a:pt x="375" y="698"/>
                            </a:lnTo>
                            <a:lnTo>
                              <a:pt x="375" y="696"/>
                            </a:lnTo>
                            <a:lnTo>
                              <a:pt x="375" y="692"/>
                            </a:lnTo>
                            <a:lnTo>
                              <a:pt x="375" y="690"/>
                            </a:lnTo>
                            <a:lnTo>
                              <a:pt x="375" y="684"/>
                            </a:lnTo>
                            <a:lnTo>
                              <a:pt x="375" y="681"/>
                            </a:lnTo>
                            <a:lnTo>
                              <a:pt x="375" y="675"/>
                            </a:lnTo>
                            <a:lnTo>
                              <a:pt x="375" y="669"/>
                            </a:lnTo>
                            <a:lnTo>
                              <a:pt x="371" y="665"/>
                            </a:lnTo>
                            <a:lnTo>
                              <a:pt x="371" y="660"/>
                            </a:lnTo>
                            <a:lnTo>
                              <a:pt x="369" y="654"/>
                            </a:lnTo>
                            <a:lnTo>
                              <a:pt x="367" y="652"/>
                            </a:lnTo>
                            <a:lnTo>
                              <a:pt x="365" y="646"/>
                            </a:lnTo>
                            <a:lnTo>
                              <a:pt x="363" y="641"/>
                            </a:lnTo>
                            <a:lnTo>
                              <a:pt x="361" y="637"/>
                            </a:lnTo>
                            <a:lnTo>
                              <a:pt x="358" y="633"/>
                            </a:lnTo>
                            <a:lnTo>
                              <a:pt x="356" y="629"/>
                            </a:lnTo>
                            <a:lnTo>
                              <a:pt x="354" y="623"/>
                            </a:lnTo>
                            <a:lnTo>
                              <a:pt x="350" y="620"/>
                            </a:lnTo>
                            <a:lnTo>
                              <a:pt x="346" y="616"/>
                            </a:lnTo>
                            <a:lnTo>
                              <a:pt x="342" y="612"/>
                            </a:lnTo>
                            <a:lnTo>
                              <a:pt x="339" y="610"/>
                            </a:lnTo>
                            <a:lnTo>
                              <a:pt x="335" y="606"/>
                            </a:lnTo>
                            <a:lnTo>
                              <a:pt x="331" y="603"/>
                            </a:lnTo>
                            <a:lnTo>
                              <a:pt x="325" y="601"/>
                            </a:lnTo>
                            <a:lnTo>
                              <a:pt x="321" y="597"/>
                            </a:lnTo>
                            <a:lnTo>
                              <a:pt x="318" y="595"/>
                            </a:lnTo>
                            <a:lnTo>
                              <a:pt x="312" y="593"/>
                            </a:lnTo>
                            <a:lnTo>
                              <a:pt x="306" y="591"/>
                            </a:lnTo>
                            <a:lnTo>
                              <a:pt x="302" y="589"/>
                            </a:lnTo>
                            <a:lnTo>
                              <a:pt x="299" y="589"/>
                            </a:lnTo>
                            <a:lnTo>
                              <a:pt x="295" y="587"/>
                            </a:lnTo>
                            <a:lnTo>
                              <a:pt x="291" y="587"/>
                            </a:lnTo>
                            <a:lnTo>
                              <a:pt x="287" y="585"/>
                            </a:lnTo>
                            <a:lnTo>
                              <a:pt x="285" y="585"/>
                            </a:lnTo>
                            <a:lnTo>
                              <a:pt x="283" y="585"/>
                            </a:lnTo>
                            <a:lnTo>
                              <a:pt x="280" y="585"/>
                            </a:lnTo>
                            <a:lnTo>
                              <a:pt x="276" y="585"/>
                            </a:lnTo>
                            <a:lnTo>
                              <a:pt x="274" y="585"/>
                            </a:lnTo>
                            <a:lnTo>
                              <a:pt x="272" y="585"/>
                            </a:lnTo>
                            <a:lnTo>
                              <a:pt x="268" y="585"/>
                            </a:lnTo>
                            <a:lnTo>
                              <a:pt x="266" y="585"/>
                            </a:lnTo>
                            <a:lnTo>
                              <a:pt x="263" y="585"/>
                            </a:lnTo>
                            <a:lnTo>
                              <a:pt x="261" y="587"/>
                            </a:lnTo>
                            <a:lnTo>
                              <a:pt x="259" y="587"/>
                            </a:lnTo>
                            <a:lnTo>
                              <a:pt x="255" y="587"/>
                            </a:lnTo>
                            <a:lnTo>
                              <a:pt x="253" y="589"/>
                            </a:lnTo>
                            <a:lnTo>
                              <a:pt x="249" y="589"/>
                            </a:lnTo>
                            <a:lnTo>
                              <a:pt x="247" y="589"/>
                            </a:lnTo>
                            <a:lnTo>
                              <a:pt x="243" y="591"/>
                            </a:lnTo>
                            <a:lnTo>
                              <a:pt x="240" y="591"/>
                            </a:lnTo>
                            <a:lnTo>
                              <a:pt x="238" y="593"/>
                            </a:lnTo>
                            <a:lnTo>
                              <a:pt x="236" y="595"/>
                            </a:lnTo>
                            <a:lnTo>
                              <a:pt x="232" y="595"/>
                            </a:lnTo>
                            <a:lnTo>
                              <a:pt x="230" y="597"/>
                            </a:lnTo>
                            <a:lnTo>
                              <a:pt x="228" y="599"/>
                            </a:lnTo>
                            <a:lnTo>
                              <a:pt x="224" y="601"/>
                            </a:lnTo>
                            <a:lnTo>
                              <a:pt x="223" y="601"/>
                            </a:lnTo>
                            <a:lnTo>
                              <a:pt x="219" y="603"/>
                            </a:lnTo>
                            <a:lnTo>
                              <a:pt x="217" y="604"/>
                            </a:lnTo>
                            <a:lnTo>
                              <a:pt x="211" y="608"/>
                            </a:lnTo>
                            <a:lnTo>
                              <a:pt x="207" y="612"/>
                            </a:lnTo>
                            <a:lnTo>
                              <a:pt x="204" y="616"/>
                            </a:lnTo>
                            <a:lnTo>
                              <a:pt x="198" y="618"/>
                            </a:lnTo>
                            <a:lnTo>
                              <a:pt x="194" y="623"/>
                            </a:lnTo>
                            <a:lnTo>
                              <a:pt x="188" y="627"/>
                            </a:lnTo>
                            <a:lnTo>
                              <a:pt x="185" y="633"/>
                            </a:lnTo>
                            <a:lnTo>
                              <a:pt x="181" y="637"/>
                            </a:lnTo>
                            <a:lnTo>
                              <a:pt x="177" y="641"/>
                            </a:lnTo>
                            <a:lnTo>
                              <a:pt x="173" y="646"/>
                            </a:lnTo>
                            <a:lnTo>
                              <a:pt x="169" y="652"/>
                            </a:lnTo>
                            <a:lnTo>
                              <a:pt x="166" y="656"/>
                            </a:lnTo>
                            <a:lnTo>
                              <a:pt x="162" y="662"/>
                            </a:lnTo>
                            <a:lnTo>
                              <a:pt x="160" y="665"/>
                            </a:lnTo>
                            <a:lnTo>
                              <a:pt x="158" y="669"/>
                            </a:lnTo>
                            <a:lnTo>
                              <a:pt x="158" y="671"/>
                            </a:lnTo>
                            <a:lnTo>
                              <a:pt x="156" y="673"/>
                            </a:lnTo>
                            <a:lnTo>
                              <a:pt x="154" y="677"/>
                            </a:lnTo>
                            <a:lnTo>
                              <a:pt x="152" y="679"/>
                            </a:lnTo>
                            <a:lnTo>
                              <a:pt x="152" y="681"/>
                            </a:lnTo>
                            <a:lnTo>
                              <a:pt x="150" y="684"/>
                            </a:lnTo>
                            <a:lnTo>
                              <a:pt x="150" y="688"/>
                            </a:lnTo>
                            <a:lnTo>
                              <a:pt x="146" y="694"/>
                            </a:lnTo>
                            <a:lnTo>
                              <a:pt x="145" y="701"/>
                            </a:lnTo>
                            <a:lnTo>
                              <a:pt x="143" y="709"/>
                            </a:lnTo>
                            <a:lnTo>
                              <a:pt x="139" y="717"/>
                            </a:lnTo>
                            <a:lnTo>
                              <a:pt x="137" y="724"/>
                            </a:lnTo>
                            <a:lnTo>
                              <a:pt x="135" y="732"/>
                            </a:lnTo>
                            <a:lnTo>
                              <a:pt x="131" y="739"/>
                            </a:lnTo>
                            <a:lnTo>
                              <a:pt x="129" y="747"/>
                            </a:lnTo>
                            <a:lnTo>
                              <a:pt x="126" y="755"/>
                            </a:lnTo>
                            <a:lnTo>
                              <a:pt x="124" y="760"/>
                            </a:lnTo>
                            <a:lnTo>
                              <a:pt x="122" y="768"/>
                            </a:lnTo>
                            <a:lnTo>
                              <a:pt x="120" y="776"/>
                            </a:lnTo>
                            <a:lnTo>
                              <a:pt x="116" y="781"/>
                            </a:lnTo>
                            <a:lnTo>
                              <a:pt x="114" y="789"/>
                            </a:lnTo>
                            <a:lnTo>
                              <a:pt x="112" y="796"/>
                            </a:lnTo>
                            <a:lnTo>
                              <a:pt x="110" y="804"/>
                            </a:lnTo>
                            <a:lnTo>
                              <a:pt x="107" y="812"/>
                            </a:lnTo>
                            <a:lnTo>
                              <a:pt x="107" y="817"/>
                            </a:lnTo>
                            <a:lnTo>
                              <a:pt x="103" y="823"/>
                            </a:lnTo>
                            <a:lnTo>
                              <a:pt x="101" y="831"/>
                            </a:lnTo>
                            <a:lnTo>
                              <a:pt x="97" y="836"/>
                            </a:lnTo>
                            <a:lnTo>
                              <a:pt x="97" y="844"/>
                            </a:lnTo>
                            <a:lnTo>
                              <a:pt x="93" y="852"/>
                            </a:lnTo>
                            <a:lnTo>
                              <a:pt x="93" y="857"/>
                            </a:lnTo>
                            <a:lnTo>
                              <a:pt x="89" y="865"/>
                            </a:lnTo>
                            <a:lnTo>
                              <a:pt x="88" y="871"/>
                            </a:lnTo>
                            <a:lnTo>
                              <a:pt x="86" y="878"/>
                            </a:lnTo>
                            <a:lnTo>
                              <a:pt x="84" y="884"/>
                            </a:lnTo>
                            <a:lnTo>
                              <a:pt x="82" y="892"/>
                            </a:lnTo>
                            <a:lnTo>
                              <a:pt x="80" y="899"/>
                            </a:lnTo>
                            <a:lnTo>
                              <a:pt x="78" y="907"/>
                            </a:lnTo>
                            <a:lnTo>
                              <a:pt x="74" y="912"/>
                            </a:lnTo>
                            <a:lnTo>
                              <a:pt x="72" y="920"/>
                            </a:lnTo>
                            <a:lnTo>
                              <a:pt x="72" y="926"/>
                            </a:lnTo>
                            <a:lnTo>
                              <a:pt x="68" y="931"/>
                            </a:lnTo>
                            <a:lnTo>
                              <a:pt x="67" y="939"/>
                            </a:lnTo>
                            <a:lnTo>
                              <a:pt x="65" y="945"/>
                            </a:lnTo>
                            <a:lnTo>
                              <a:pt x="63" y="952"/>
                            </a:lnTo>
                            <a:lnTo>
                              <a:pt x="59" y="958"/>
                            </a:lnTo>
                            <a:lnTo>
                              <a:pt x="57" y="966"/>
                            </a:lnTo>
                            <a:lnTo>
                              <a:pt x="55" y="971"/>
                            </a:lnTo>
                            <a:lnTo>
                              <a:pt x="53" y="979"/>
                            </a:lnTo>
                            <a:lnTo>
                              <a:pt x="51" y="987"/>
                            </a:lnTo>
                            <a:lnTo>
                              <a:pt x="49" y="994"/>
                            </a:lnTo>
                            <a:lnTo>
                              <a:pt x="48" y="1000"/>
                            </a:lnTo>
                            <a:lnTo>
                              <a:pt x="46" y="1007"/>
                            </a:lnTo>
                            <a:lnTo>
                              <a:pt x="44" y="1015"/>
                            </a:lnTo>
                            <a:lnTo>
                              <a:pt x="42" y="1021"/>
                            </a:lnTo>
                            <a:lnTo>
                              <a:pt x="42" y="1028"/>
                            </a:lnTo>
                            <a:lnTo>
                              <a:pt x="38" y="1036"/>
                            </a:lnTo>
                            <a:lnTo>
                              <a:pt x="36" y="1042"/>
                            </a:lnTo>
                            <a:lnTo>
                              <a:pt x="36" y="1049"/>
                            </a:lnTo>
                            <a:lnTo>
                              <a:pt x="34" y="1057"/>
                            </a:lnTo>
                            <a:lnTo>
                              <a:pt x="30" y="1063"/>
                            </a:lnTo>
                            <a:lnTo>
                              <a:pt x="30" y="1070"/>
                            </a:lnTo>
                            <a:lnTo>
                              <a:pt x="29" y="1078"/>
                            </a:lnTo>
                            <a:lnTo>
                              <a:pt x="27" y="1085"/>
                            </a:lnTo>
                            <a:lnTo>
                              <a:pt x="25" y="1093"/>
                            </a:lnTo>
                            <a:lnTo>
                              <a:pt x="23" y="1101"/>
                            </a:lnTo>
                            <a:lnTo>
                              <a:pt x="21" y="1108"/>
                            </a:lnTo>
                            <a:lnTo>
                              <a:pt x="19" y="1116"/>
                            </a:lnTo>
                            <a:lnTo>
                              <a:pt x="17" y="1123"/>
                            </a:lnTo>
                            <a:lnTo>
                              <a:pt x="17" y="1131"/>
                            </a:lnTo>
                            <a:lnTo>
                              <a:pt x="15" y="1139"/>
                            </a:lnTo>
                            <a:lnTo>
                              <a:pt x="13" y="1148"/>
                            </a:lnTo>
                            <a:lnTo>
                              <a:pt x="10" y="1158"/>
                            </a:lnTo>
                            <a:lnTo>
                              <a:pt x="10" y="1165"/>
                            </a:lnTo>
                            <a:lnTo>
                              <a:pt x="8" y="1175"/>
                            </a:lnTo>
                            <a:lnTo>
                              <a:pt x="6" y="1182"/>
                            </a:lnTo>
                            <a:lnTo>
                              <a:pt x="6" y="1192"/>
                            </a:lnTo>
                            <a:lnTo>
                              <a:pt x="4" y="1201"/>
                            </a:lnTo>
                            <a:lnTo>
                              <a:pt x="2" y="1211"/>
                            </a:lnTo>
                            <a:lnTo>
                              <a:pt x="2" y="1218"/>
                            </a:lnTo>
                            <a:lnTo>
                              <a:pt x="0" y="1230"/>
                            </a:lnTo>
                            <a:lnTo>
                              <a:pt x="0" y="1237"/>
                            </a:lnTo>
                            <a:lnTo>
                              <a:pt x="0" y="1247"/>
                            </a:lnTo>
                            <a:lnTo>
                              <a:pt x="0" y="1257"/>
                            </a:lnTo>
                            <a:lnTo>
                              <a:pt x="0" y="1268"/>
                            </a:lnTo>
                            <a:lnTo>
                              <a:pt x="0" y="1276"/>
                            </a:lnTo>
                            <a:lnTo>
                              <a:pt x="0" y="1285"/>
                            </a:lnTo>
                            <a:lnTo>
                              <a:pt x="0" y="1296"/>
                            </a:lnTo>
                            <a:lnTo>
                              <a:pt x="0" y="1304"/>
                            </a:lnTo>
                            <a:lnTo>
                              <a:pt x="0" y="1314"/>
                            </a:lnTo>
                            <a:lnTo>
                              <a:pt x="0" y="1323"/>
                            </a:lnTo>
                            <a:lnTo>
                              <a:pt x="0" y="1333"/>
                            </a:lnTo>
                            <a:lnTo>
                              <a:pt x="2" y="1342"/>
                            </a:lnTo>
                            <a:lnTo>
                              <a:pt x="2" y="1352"/>
                            </a:lnTo>
                            <a:lnTo>
                              <a:pt x="4" y="1363"/>
                            </a:lnTo>
                            <a:lnTo>
                              <a:pt x="4" y="1371"/>
                            </a:lnTo>
                            <a:lnTo>
                              <a:pt x="6" y="1382"/>
                            </a:lnTo>
                            <a:lnTo>
                              <a:pt x="8" y="1390"/>
                            </a:lnTo>
                            <a:lnTo>
                              <a:pt x="8" y="1401"/>
                            </a:lnTo>
                            <a:lnTo>
                              <a:pt x="10" y="1409"/>
                            </a:lnTo>
                            <a:lnTo>
                              <a:pt x="11" y="1420"/>
                            </a:lnTo>
                            <a:lnTo>
                              <a:pt x="13" y="1429"/>
                            </a:lnTo>
                            <a:lnTo>
                              <a:pt x="15" y="1439"/>
                            </a:lnTo>
                            <a:lnTo>
                              <a:pt x="17" y="1448"/>
                            </a:lnTo>
                            <a:lnTo>
                              <a:pt x="19" y="1458"/>
                            </a:lnTo>
                            <a:lnTo>
                              <a:pt x="21" y="1468"/>
                            </a:lnTo>
                            <a:lnTo>
                              <a:pt x="23" y="1477"/>
                            </a:lnTo>
                            <a:lnTo>
                              <a:pt x="27" y="1487"/>
                            </a:lnTo>
                            <a:lnTo>
                              <a:pt x="29" y="1496"/>
                            </a:lnTo>
                            <a:lnTo>
                              <a:pt x="30" y="1506"/>
                            </a:lnTo>
                            <a:lnTo>
                              <a:pt x="34" y="1515"/>
                            </a:lnTo>
                            <a:lnTo>
                              <a:pt x="36" y="1525"/>
                            </a:lnTo>
                            <a:lnTo>
                              <a:pt x="38" y="1534"/>
                            </a:lnTo>
                            <a:lnTo>
                              <a:pt x="42" y="1544"/>
                            </a:lnTo>
                            <a:lnTo>
                              <a:pt x="46" y="1553"/>
                            </a:lnTo>
                            <a:lnTo>
                              <a:pt x="48" y="1561"/>
                            </a:lnTo>
                            <a:lnTo>
                              <a:pt x="51" y="1572"/>
                            </a:lnTo>
                            <a:lnTo>
                              <a:pt x="55" y="1580"/>
                            </a:lnTo>
                            <a:lnTo>
                              <a:pt x="59" y="1589"/>
                            </a:lnTo>
                            <a:lnTo>
                              <a:pt x="63" y="1599"/>
                            </a:lnTo>
                            <a:lnTo>
                              <a:pt x="67" y="1608"/>
                            </a:lnTo>
                            <a:lnTo>
                              <a:pt x="68" y="1616"/>
                            </a:lnTo>
                            <a:lnTo>
                              <a:pt x="74" y="1627"/>
                            </a:lnTo>
                            <a:lnTo>
                              <a:pt x="78" y="1635"/>
                            </a:lnTo>
                            <a:lnTo>
                              <a:pt x="82" y="1644"/>
                            </a:lnTo>
                            <a:lnTo>
                              <a:pt x="86" y="1652"/>
                            </a:lnTo>
                            <a:lnTo>
                              <a:pt x="89" y="1661"/>
                            </a:lnTo>
                            <a:lnTo>
                              <a:pt x="95" y="1669"/>
                            </a:lnTo>
                            <a:lnTo>
                              <a:pt x="99" y="1679"/>
                            </a:lnTo>
                            <a:lnTo>
                              <a:pt x="103" y="1688"/>
                            </a:lnTo>
                            <a:lnTo>
                              <a:pt x="108" y="1696"/>
                            </a:lnTo>
                            <a:lnTo>
                              <a:pt x="114" y="1703"/>
                            </a:lnTo>
                            <a:lnTo>
                              <a:pt x="118" y="1713"/>
                            </a:lnTo>
                            <a:lnTo>
                              <a:pt x="124" y="1722"/>
                            </a:lnTo>
                            <a:lnTo>
                              <a:pt x="127" y="1732"/>
                            </a:lnTo>
                            <a:lnTo>
                              <a:pt x="131" y="1736"/>
                            </a:lnTo>
                            <a:lnTo>
                              <a:pt x="135" y="1739"/>
                            </a:lnTo>
                            <a:lnTo>
                              <a:pt x="135" y="1743"/>
                            </a:lnTo>
                            <a:lnTo>
                              <a:pt x="137" y="1745"/>
                            </a:lnTo>
                            <a:lnTo>
                              <a:pt x="139" y="1747"/>
                            </a:lnTo>
                            <a:lnTo>
                              <a:pt x="141" y="1751"/>
                            </a:lnTo>
                            <a:lnTo>
                              <a:pt x="143" y="1755"/>
                            </a:lnTo>
                            <a:lnTo>
                              <a:pt x="143" y="1756"/>
                            </a:lnTo>
                            <a:lnTo>
                              <a:pt x="145" y="1760"/>
                            </a:lnTo>
                            <a:lnTo>
                              <a:pt x="146" y="1762"/>
                            </a:lnTo>
                            <a:lnTo>
                              <a:pt x="148" y="1766"/>
                            </a:lnTo>
                            <a:lnTo>
                              <a:pt x="150" y="1768"/>
                            </a:lnTo>
                            <a:lnTo>
                              <a:pt x="152" y="1770"/>
                            </a:lnTo>
                            <a:lnTo>
                              <a:pt x="156" y="1774"/>
                            </a:lnTo>
                            <a:lnTo>
                              <a:pt x="158" y="1777"/>
                            </a:lnTo>
                            <a:lnTo>
                              <a:pt x="160" y="1779"/>
                            </a:lnTo>
                            <a:lnTo>
                              <a:pt x="160" y="1783"/>
                            </a:lnTo>
                            <a:lnTo>
                              <a:pt x="162" y="1787"/>
                            </a:lnTo>
                            <a:lnTo>
                              <a:pt x="166" y="1789"/>
                            </a:lnTo>
                            <a:lnTo>
                              <a:pt x="166" y="1791"/>
                            </a:lnTo>
                            <a:lnTo>
                              <a:pt x="167" y="1794"/>
                            </a:lnTo>
                            <a:lnTo>
                              <a:pt x="169" y="1796"/>
                            </a:lnTo>
                            <a:lnTo>
                              <a:pt x="171" y="1800"/>
                            </a:lnTo>
                            <a:lnTo>
                              <a:pt x="173" y="1802"/>
                            </a:lnTo>
                            <a:lnTo>
                              <a:pt x="175" y="1806"/>
                            </a:lnTo>
                            <a:lnTo>
                              <a:pt x="177" y="1808"/>
                            </a:lnTo>
                            <a:lnTo>
                              <a:pt x="179" y="1812"/>
                            </a:lnTo>
                            <a:lnTo>
                              <a:pt x="181" y="1815"/>
                            </a:lnTo>
                            <a:lnTo>
                              <a:pt x="183" y="1817"/>
                            </a:lnTo>
                            <a:lnTo>
                              <a:pt x="185" y="1821"/>
                            </a:lnTo>
                            <a:lnTo>
                              <a:pt x="188" y="1827"/>
                            </a:lnTo>
                            <a:lnTo>
                              <a:pt x="190" y="1831"/>
                            </a:lnTo>
                            <a:lnTo>
                              <a:pt x="194" y="1836"/>
                            </a:lnTo>
                            <a:lnTo>
                              <a:pt x="198" y="1842"/>
                            </a:lnTo>
                            <a:lnTo>
                              <a:pt x="200" y="1846"/>
                            </a:lnTo>
                            <a:lnTo>
                              <a:pt x="204" y="1850"/>
                            </a:lnTo>
                            <a:lnTo>
                              <a:pt x="205" y="1853"/>
                            </a:lnTo>
                            <a:lnTo>
                              <a:pt x="207" y="1859"/>
                            </a:lnTo>
                            <a:lnTo>
                              <a:pt x="209" y="1861"/>
                            </a:lnTo>
                            <a:lnTo>
                              <a:pt x="211" y="1863"/>
                            </a:lnTo>
                            <a:lnTo>
                              <a:pt x="213" y="1867"/>
                            </a:lnTo>
                            <a:lnTo>
                              <a:pt x="215" y="1869"/>
                            </a:lnTo>
                            <a:lnTo>
                              <a:pt x="217" y="1870"/>
                            </a:lnTo>
                            <a:lnTo>
                              <a:pt x="219" y="1874"/>
                            </a:lnTo>
                            <a:lnTo>
                              <a:pt x="141" y="2163"/>
                            </a:lnTo>
                            <a:lnTo>
                              <a:pt x="143" y="2165"/>
                            </a:lnTo>
                            <a:lnTo>
                              <a:pt x="146" y="2165"/>
                            </a:lnTo>
                            <a:lnTo>
                              <a:pt x="150" y="2167"/>
                            </a:lnTo>
                            <a:lnTo>
                              <a:pt x="152" y="2167"/>
                            </a:lnTo>
                            <a:lnTo>
                              <a:pt x="154" y="2167"/>
                            </a:lnTo>
                            <a:lnTo>
                              <a:pt x="158" y="2167"/>
                            </a:lnTo>
                            <a:lnTo>
                              <a:pt x="162" y="2171"/>
                            </a:lnTo>
                            <a:lnTo>
                              <a:pt x="166" y="2171"/>
                            </a:lnTo>
                            <a:lnTo>
                              <a:pt x="167" y="2173"/>
                            </a:lnTo>
                            <a:lnTo>
                              <a:pt x="171" y="2173"/>
                            </a:lnTo>
                            <a:lnTo>
                              <a:pt x="175" y="2175"/>
                            </a:lnTo>
                            <a:lnTo>
                              <a:pt x="181" y="2175"/>
                            </a:lnTo>
                            <a:lnTo>
                              <a:pt x="185" y="2175"/>
                            </a:lnTo>
                            <a:lnTo>
                              <a:pt x="188" y="2177"/>
                            </a:lnTo>
                            <a:lnTo>
                              <a:pt x="194" y="2180"/>
                            </a:lnTo>
                            <a:lnTo>
                              <a:pt x="198" y="2180"/>
                            </a:lnTo>
                            <a:lnTo>
                              <a:pt x="204" y="2182"/>
                            </a:lnTo>
                            <a:lnTo>
                              <a:pt x="209" y="2182"/>
                            </a:lnTo>
                            <a:lnTo>
                              <a:pt x="215" y="2184"/>
                            </a:lnTo>
                            <a:lnTo>
                              <a:pt x="219" y="2186"/>
                            </a:lnTo>
                            <a:lnTo>
                              <a:pt x="224" y="2188"/>
                            </a:lnTo>
                            <a:lnTo>
                              <a:pt x="232" y="2188"/>
                            </a:lnTo>
                            <a:lnTo>
                              <a:pt x="238" y="2190"/>
                            </a:lnTo>
                            <a:lnTo>
                              <a:pt x="243" y="2190"/>
                            </a:lnTo>
                            <a:lnTo>
                              <a:pt x="251" y="2192"/>
                            </a:lnTo>
                            <a:lnTo>
                              <a:pt x="257" y="2194"/>
                            </a:lnTo>
                            <a:lnTo>
                              <a:pt x="264" y="2194"/>
                            </a:lnTo>
                            <a:lnTo>
                              <a:pt x="270" y="2196"/>
                            </a:lnTo>
                            <a:lnTo>
                              <a:pt x="276" y="2196"/>
                            </a:lnTo>
                            <a:lnTo>
                              <a:pt x="283" y="2197"/>
                            </a:lnTo>
                            <a:lnTo>
                              <a:pt x="291" y="2199"/>
                            </a:lnTo>
                            <a:lnTo>
                              <a:pt x="297" y="2199"/>
                            </a:lnTo>
                            <a:lnTo>
                              <a:pt x="304" y="2199"/>
                            </a:lnTo>
                            <a:lnTo>
                              <a:pt x="312" y="2199"/>
                            </a:lnTo>
                            <a:lnTo>
                              <a:pt x="320" y="2201"/>
                            </a:lnTo>
                            <a:lnTo>
                              <a:pt x="325" y="2201"/>
                            </a:lnTo>
                            <a:lnTo>
                              <a:pt x="333" y="2201"/>
                            </a:lnTo>
                            <a:lnTo>
                              <a:pt x="341" y="2201"/>
                            </a:lnTo>
                            <a:lnTo>
                              <a:pt x="348" y="2201"/>
                            </a:lnTo>
                            <a:lnTo>
                              <a:pt x="356" y="2201"/>
                            </a:lnTo>
                            <a:lnTo>
                              <a:pt x="363" y="2201"/>
                            </a:lnTo>
                            <a:lnTo>
                              <a:pt x="371" y="2201"/>
                            </a:lnTo>
                            <a:lnTo>
                              <a:pt x="379" y="2201"/>
                            </a:lnTo>
                            <a:lnTo>
                              <a:pt x="386" y="2201"/>
                            </a:lnTo>
                            <a:lnTo>
                              <a:pt x="394" y="2201"/>
                            </a:lnTo>
                            <a:lnTo>
                              <a:pt x="401" y="2199"/>
                            </a:lnTo>
                            <a:lnTo>
                              <a:pt x="409" y="2199"/>
                            </a:lnTo>
                            <a:lnTo>
                              <a:pt x="415" y="2197"/>
                            </a:lnTo>
                            <a:lnTo>
                              <a:pt x="422" y="2196"/>
                            </a:lnTo>
                            <a:lnTo>
                              <a:pt x="432" y="2196"/>
                            </a:lnTo>
                            <a:lnTo>
                              <a:pt x="439" y="2194"/>
                            </a:lnTo>
                            <a:lnTo>
                              <a:pt x="447" y="2192"/>
                            </a:lnTo>
                            <a:lnTo>
                              <a:pt x="455" y="2190"/>
                            </a:lnTo>
                            <a:lnTo>
                              <a:pt x="462" y="2188"/>
                            </a:lnTo>
                            <a:lnTo>
                              <a:pt x="470" y="2188"/>
                            </a:lnTo>
                            <a:lnTo>
                              <a:pt x="476" y="2184"/>
                            </a:lnTo>
                            <a:lnTo>
                              <a:pt x="483" y="2182"/>
                            </a:lnTo>
                            <a:lnTo>
                              <a:pt x="491" y="2180"/>
                            </a:lnTo>
                            <a:lnTo>
                              <a:pt x="498" y="2175"/>
                            </a:lnTo>
                            <a:lnTo>
                              <a:pt x="504" y="2173"/>
                            </a:lnTo>
                            <a:lnTo>
                              <a:pt x="512" y="2169"/>
                            </a:lnTo>
                            <a:lnTo>
                              <a:pt x="517" y="2165"/>
                            </a:lnTo>
                            <a:lnTo>
                              <a:pt x="525" y="2161"/>
                            </a:lnTo>
                            <a:lnTo>
                              <a:pt x="531" y="2158"/>
                            </a:lnTo>
                            <a:lnTo>
                              <a:pt x="536" y="2154"/>
                            </a:lnTo>
                            <a:lnTo>
                              <a:pt x="542" y="2150"/>
                            </a:lnTo>
                            <a:lnTo>
                              <a:pt x="550" y="2146"/>
                            </a:lnTo>
                            <a:lnTo>
                              <a:pt x="555" y="2142"/>
                            </a:lnTo>
                            <a:lnTo>
                              <a:pt x="559" y="2137"/>
                            </a:lnTo>
                            <a:lnTo>
                              <a:pt x="565" y="2133"/>
                            </a:lnTo>
                            <a:lnTo>
                              <a:pt x="571" y="2129"/>
                            </a:lnTo>
                            <a:lnTo>
                              <a:pt x="576" y="2123"/>
                            </a:lnTo>
                            <a:lnTo>
                              <a:pt x="582" y="2120"/>
                            </a:lnTo>
                            <a:lnTo>
                              <a:pt x="588" y="2114"/>
                            </a:lnTo>
                            <a:lnTo>
                              <a:pt x="592" y="2110"/>
                            </a:lnTo>
                            <a:lnTo>
                              <a:pt x="595" y="2106"/>
                            </a:lnTo>
                            <a:lnTo>
                              <a:pt x="601" y="2101"/>
                            </a:lnTo>
                            <a:lnTo>
                              <a:pt x="605" y="2095"/>
                            </a:lnTo>
                            <a:lnTo>
                              <a:pt x="611" y="2091"/>
                            </a:lnTo>
                            <a:lnTo>
                              <a:pt x="614" y="2085"/>
                            </a:lnTo>
                            <a:lnTo>
                              <a:pt x="618" y="2080"/>
                            </a:lnTo>
                            <a:lnTo>
                              <a:pt x="624" y="2076"/>
                            </a:lnTo>
                            <a:lnTo>
                              <a:pt x="628" y="2070"/>
                            </a:lnTo>
                            <a:lnTo>
                              <a:pt x="632" y="2064"/>
                            </a:lnTo>
                            <a:lnTo>
                              <a:pt x="635" y="2059"/>
                            </a:lnTo>
                            <a:lnTo>
                              <a:pt x="637" y="2055"/>
                            </a:lnTo>
                            <a:lnTo>
                              <a:pt x="643" y="2049"/>
                            </a:lnTo>
                            <a:lnTo>
                              <a:pt x="645" y="2043"/>
                            </a:lnTo>
                            <a:lnTo>
                              <a:pt x="649" y="2040"/>
                            </a:lnTo>
                            <a:lnTo>
                              <a:pt x="652" y="2034"/>
                            </a:lnTo>
                            <a:lnTo>
                              <a:pt x="654" y="2030"/>
                            </a:lnTo>
                            <a:lnTo>
                              <a:pt x="658" y="2024"/>
                            </a:lnTo>
                            <a:lnTo>
                              <a:pt x="660" y="2021"/>
                            </a:lnTo>
                            <a:lnTo>
                              <a:pt x="664" y="2015"/>
                            </a:lnTo>
                            <a:lnTo>
                              <a:pt x="666" y="2011"/>
                            </a:lnTo>
                            <a:lnTo>
                              <a:pt x="668" y="2005"/>
                            </a:lnTo>
                            <a:lnTo>
                              <a:pt x="672" y="2002"/>
                            </a:lnTo>
                            <a:lnTo>
                              <a:pt x="673" y="1998"/>
                            </a:lnTo>
                            <a:lnTo>
                              <a:pt x="675" y="1992"/>
                            </a:lnTo>
                            <a:lnTo>
                              <a:pt x="677" y="1986"/>
                            </a:lnTo>
                            <a:lnTo>
                              <a:pt x="679" y="1983"/>
                            </a:lnTo>
                            <a:lnTo>
                              <a:pt x="681" y="1979"/>
                            </a:lnTo>
                            <a:lnTo>
                              <a:pt x="683" y="1975"/>
                            </a:lnTo>
                            <a:lnTo>
                              <a:pt x="685" y="1971"/>
                            </a:lnTo>
                            <a:lnTo>
                              <a:pt x="687" y="1969"/>
                            </a:lnTo>
                            <a:lnTo>
                              <a:pt x="689" y="1964"/>
                            </a:lnTo>
                            <a:lnTo>
                              <a:pt x="691" y="1962"/>
                            </a:lnTo>
                            <a:lnTo>
                              <a:pt x="692" y="1958"/>
                            </a:lnTo>
                            <a:lnTo>
                              <a:pt x="692" y="1954"/>
                            </a:lnTo>
                            <a:lnTo>
                              <a:pt x="692" y="1952"/>
                            </a:lnTo>
                            <a:lnTo>
                              <a:pt x="694" y="1950"/>
                            </a:lnTo>
                            <a:lnTo>
                              <a:pt x="696" y="1945"/>
                            </a:lnTo>
                            <a:lnTo>
                              <a:pt x="698" y="1941"/>
                            </a:lnTo>
                            <a:lnTo>
                              <a:pt x="700" y="1937"/>
                            </a:lnTo>
                            <a:lnTo>
                              <a:pt x="700" y="1935"/>
                            </a:lnTo>
                            <a:lnTo>
                              <a:pt x="700" y="1933"/>
                            </a:lnTo>
                            <a:lnTo>
                              <a:pt x="702" y="1933"/>
                            </a:lnTo>
                            <a:lnTo>
                              <a:pt x="740" y="1943"/>
                            </a:lnTo>
                            <a:lnTo>
                              <a:pt x="740" y="1943"/>
                            </a:lnTo>
                            <a:lnTo>
                              <a:pt x="738" y="1945"/>
                            </a:lnTo>
                            <a:lnTo>
                              <a:pt x="738" y="1947"/>
                            </a:lnTo>
                            <a:lnTo>
                              <a:pt x="738" y="1950"/>
                            </a:lnTo>
                            <a:lnTo>
                              <a:pt x="738" y="1954"/>
                            </a:lnTo>
                            <a:lnTo>
                              <a:pt x="738" y="1958"/>
                            </a:lnTo>
                            <a:lnTo>
                              <a:pt x="736" y="1962"/>
                            </a:lnTo>
                            <a:lnTo>
                              <a:pt x="736" y="1964"/>
                            </a:lnTo>
                            <a:lnTo>
                              <a:pt x="736" y="1967"/>
                            </a:lnTo>
                            <a:lnTo>
                              <a:pt x="736" y="1971"/>
                            </a:lnTo>
                            <a:lnTo>
                              <a:pt x="736" y="1975"/>
                            </a:lnTo>
                            <a:lnTo>
                              <a:pt x="736" y="1979"/>
                            </a:lnTo>
                            <a:lnTo>
                              <a:pt x="736" y="1983"/>
                            </a:lnTo>
                            <a:lnTo>
                              <a:pt x="736" y="1985"/>
                            </a:lnTo>
                            <a:lnTo>
                              <a:pt x="736" y="1990"/>
                            </a:lnTo>
                            <a:lnTo>
                              <a:pt x="736" y="1994"/>
                            </a:lnTo>
                            <a:lnTo>
                              <a:pt x="736" y="1998"/>
                            </a:lnTo>
                            <a:lnTo>
                              <a:pt x="736" y="2004"/>
                            </a:lnTo>
                            <a:lnTo>
                              <a:pt x="736" y="2007"/>
                            </a:lnTo>
                            <a:lnTo>
                              <a:pt x="736" y="2013"/>
                            </a:lnTo>
                            <a:lnTo>
                              <a:pt x="736" y="2015"/>
                            </a:lnTo>
                            <a:lnTo>
                              <a:pt x="736" y="2021"/>
                            </a:lnTo>
                            <a:lnTo>
                              <a:pt x="736" y="2026"/>
                            </a:lnTo>
                            <a:lnTo>
                              <a:pt x="736" y="2030"/>
                            </a:lnTo>
                            <a:lnTo>
                              <a:pt x="736" y="2036"/>
                            </a:lnTo>
                            <a:lnTo>
                              <a:pt x="736" y="2042"/>
                            </a:lnTo>
                            <a:lnTo>
                              <a:pt x="736" y="2047"/>
                            </a:lnTo>
                            <a:lnTo>
                              <a:pt x="738" y="2051"/>
                            </a:lnTo>
                            <a:lnTo>
                              <a:pt x="738" y="2057"/>
                            </a:lnTo>
                            <a:lnTo>
                              <a:pt x="738" y="2062"/>
                            </a:lnTo>
                            <a:lnTo>
                              <a:pt x="740" y="2066"/>
                            </a:lnTo>
                            <a:lnTo>
                              <a:pt x="740" y="2072"/>
                            </a:lnTo>
                            <a:lnTo>
                              <a:pt x="742" y="2078"/>
                            </a:lnTo>
                            <a:lnTo>
                              <a:pt x="744" y="2083"/>
                            </a:lnTo>
                            <a:lnTo>
                              <a:pt x="744" y="2091"/>
                            </a:lnTo>
                            <a:lnTo>
                              <a:pt x="746" y="2095"/>
                            </a:lnTo>
                            <a:lnTo>
                              <a:pt x="748" y="2101"/>
                            </a:lnTo>
                            <a:lnTo>
                              <a:pt x="748" y="2106"/>
                            </a:lnTo>
                            <a:lnTo>
                              <a:pt x="751" y="2110"/>
                            </a:lnTo>
                            <a:lnTo>
                              <a:pt x="753" y="2118"/>
                            </a:lnTo>
                            <a:lnTo>
                              <a:pt x="753" y="2123"/>
                            </a:lnTo>
                            <a:lnTo>
                              <a:pt x="757" y="2129"/>
                            </a:lnTo>
                            <a:lnTo>
                              <a:pt x="759" y="2135"/>
                            </a:lnTo>
                            <a:lnTo>
                              <a:pt x="761" y="2139"/>
                            </a:lnTo>
                            <a:lnTo>
                              <a:pt x="765" y="2144"/>
                            </a:lnTo>
                            <a:lnTo>
                              <a:pt x="767" y="2150"/>
                            </a:lnTo>
                            <a:lnTo>
                              <a:pt x="769" y="2156"/>
                            </a:lnTo>
                            <a:lnTo>
                              <a:pt x="772" y="2159"/>
                            </a:lnTo>
                            <a:lnTo>
                              <a:pt x="776" y="2165"/>
                            </a:lnTo>
                            <a:lnTo>
                              <a:pt x="780" y="2171"/>
                            </a:lnTo>
                            <a:lnTo>
                              <a:pt x="782" y="2175"/>
                            </a:lnTo>
                            <a:lnTo>
                              <a:pt x="786" y="2180"/>
                            </a:lnTo>
                            <a:lnTo>
                              <a:pt x="789" y="2186"/>
                            </a:lnTo>
                            <a:lnTo>
                              <a:pt x="795" y="2190"/>
                            </a:lnTo>
                            <a:lnTo>
                              <a:pt x="799" y="2196"/>
                            </a:lnTo>
                            <a:lnTo>
                              <a:pt x="805" y="2201"/>
                            </a:lnTo>
                            <a:lnTo>
                              <a:pt x="808" y="2205"/>
                            </a:lnTo>
                            <a:lnTo>
                              <a:pt x="814" y="2209"/>
                            </a:lnTo>
                            <a:lnTo>
                              <a:pt x="818" y="2213"/>
                            </a:lnTo>
                            <a:lnTo>
                              <a:pt x="824" y="2216"/>
                            </a:lnTo>
                            <a:lnTo>
                              <a:pt x="828" y="2222"/>
                            </a:lnTo>
                            <a:lnTo>
                              <a:pt x="833" y="2224"/>
                            </a:lnTo>
                            <a:lnTo>
                              <a:pt x="839" y="2228"/>
                            </a:lnTo>
                            <a:lnTo>
                              <a:pt x="845" y="2232"/>
                            </a:lnTo>
                            <a:lnTo>
                              <a:pt x="848" y="2235"/>
                            </a:lnTo>
                            <a:lnTo>
                              <a:pt x="854" y="2239"/>
                            </a:lnTo>
                            <a:lnTo>
                              <a:pt x="858" y="2243"/>
                            </a:lnTo>
                            <a:lnTo>
                              <a:pt x="864" y="2245"/>
                            </a:lnTo>
                            <a:lnTo>
                              <a:pt x="867" y="2249"/>
                            </a:lnTo>
                            <a:lnTo>
                              <a:pt x="873" y="2253"/>
                            </a:lnTo>
                            <a:lnTo>
                              <a:pt x="877" y="2256"/>
                            </a:lnTo>
                            <a:lnTo>
                              <a:pt x="883" y="2258"/>
                            </a:lnTo>
                            <a:lnTo>
                              <a:pt x="890" y="2260"/>
                            </a:lnTo>
                            <a:lnTo>
                              <a:pt x="896" y="2264"/>
                            </a:lnTo>
                            <a:lnTo>
                              <a:pt x="900" y="2266"/>
                            </a:lnTo>
                            <a:lnTo>
                              <a:pt x="904" y="2268"/>
                            </a:lnTo>
                            <a:lnTo>
                              <a:pt x="907" y="2270"/>
                            </a:lnTo>
                            <a:lnTo>
                              <a:pt x="913" y="2273"/>
                            </a:lnTo>
                            <a:lnTo>
                              <a:pt x="919" y="2275"/>
                            </a:lnTo>
                            <a:lnTo>
                              <a:pt x="925" y="2277"/>
                            </a:lnTo>
                            <a:lnTo>
                              <a:pt x="928" y="2279"/>
                            </a:lnTo>
                            <a:lnTo>
                              <a:pt x="934" y="2281"/>
                            </a:lnTo>
                            <a:lnTo>
                              <a:pt x="938" y="2283"/>
                            </a:lnTo>
                            <a:lnTo>
                              <a:pt x="942" y="2285"/>
                            </a:lnTo>
                            <a:lnTo>
                              <a:pt x="947" y="2287"/>
                            </a:lnTo>
                            <a:lnTo>
                              <a:pt x="951" y="2289"/>
                            </a:lnTo>
                            <a:lnTo>
                              <a:pt x="955" y="2289"/>
                            </a:lnTo>
                            <a:lnTo>
                              <a:pt x="961" y="2291"/>
                            </a:lnTo>
                            <a:lnTo>
                              <a:pt x="964" y="2291"/>
                            </a:lnTo>
                            <a:lnTo>
                              <a:pt x="968" y="2294"/>
                            </a:lnTo>
                            <a:lnTo>
                              <a:pt x="972" y="2294"/>
                            </a:lnTo>
                            <a:lnTo>
                              <a:pt x="978" y="2294"/>
                            </a:lnTo>
                            <a:lnTo>
                              <a:pt x="982" y="2296"/>
                            </a:lnTo>
                            <a:lnTo>
                              <a:pt x="985" y="2296"/>
                            </a:lnTo>
                            <a:lnTo>
                              <a:pt x="989" y="2296"/>
                            </a:lnTo>
                            <a:lnTo>
                              <a:pt x="993" y="2298"/>
                            </a:lnTo>
                            <a:lnTo>
                              <a:pt x="997" y="2298"/>
                            </a:lnTo>
                            <a:lnTo>
                              <a:pt x="1001" y="2298"/>
                            </a:lnTo>
                            <a:lnTo>
                              <a:pt x="1004" y="2298"/>
                            </a:lnTo>
                            <a:lnTo>
                              <a:pt x="1008" y="2300"/>
                            </a:lnTo>
                            <a:lnTo>
                              <a:pt x="1010" y="2300"/>
                            </a:lnTo>
                            <a:lnTo>
                              <a:pt x="1014" y="2300"/>
                            </a:lnTo>
                            <a:lnTo>
                              <a:pt x="1016" y="2300"/>
                            </a:lnTo>
                            <a:lnTo>
                              <a:pt x="1020" y="2300"/>
                            </a:lnTo>
                            <a:lnTo>
                              <a:pt x="1022" y="2300"/>
                            </a:lnTo>
                            <a:lnTo>
                              <a:pt x="1025" y="2302"/>
                            </a:lnTo>
                            <a:lnTo>
                              <a:pt x="1029" y="2300"/>
                            </a:lnTo>
                            <a:lnTo>
                              <a:pt x="1035" y="2300"/>
                            </a:lnTo>
                            <a:lnTo>
                              <a:pt x="1039" y="2298"/>
                            </a:lnTo>
                            <a:lnTo>
                              <a:pt x="1042" y="2298"/>
                            </a:lnTo>
                            <a:lnTo>
                              <a:pt x="1044" y="2296"/>
                            </a:lnTo>
                            <a:lnTo>
                              <a:pt x="1048" y="2296"/>
                            </a:lnTo>
                            <a:lnTo>
                              <a:pt x="1048" y="2294"/>
                            </a:lnTo>
                            <a:lnTo>
                              <a:pt x="1050" y="2294"/>
                            </a:lnTo>
                            <a:lnTo>
                              <a:pt x="1246" y="1334"/>
                            </a:lnTo>
                            <a:lnTo>
                              <a:pt x="1246" y="1333"/>
                            </a:lnTo>
                            <a:lnTo>
                              <a:pt x="1248" y="1331"/>
                            </a:lnTo>
                            <a:lnTo>
                              <a:pt x="1250" y="1327"/>
                            </a:lnTo>
                            <a:lnTo>
                              <a:pt x="1252" y="1325"/>
                            </a:lnTo>
                            <a:lnTo>
                              <a:pt x="1252" y="1323"/>
                            </a:lnTo>
                            <a:lnTo>
                              <a:pt x="1254" y="1319"/>
                            </a:lnTo>
                            <a:lnTo>
                              <a:pt x="1256" y="1315"/>
                            </a:lnTo>
                            <a:lnTo>
                              <a:pt x="1259" y="1312"/>
                            </a:lnTo>
                            <a:lnTo>
                              <a:pt x="1259" y="1306"/>
                            </a:lnTo>
                            <a:lnTo>
                              <a:pt x="1263" y="1302"/>
                            </a:lnTo>
                            <a:lnTo>
                              <a:pt x="1265" y="1296"/>
                            </a:lnTo>
                            <a:lnTo>
                              <a:pt x="1269" y="1293"/>
                            </a:lnTo>
                            <a:lnTo>
                              <a:pt x="1271" y="1285"/>
                            </a:lnTo>
                            <a:lnTo>
                              <a:pt x="1275" y="1281"/>
                            </a:lnTo>
                            <a:lnTo>
                              <a:pt x="1276" y="1274"/>
                            </a:lnTo>
                            <a:lnTo>
                              <a:pt x="1280" y="1266"/>
                            </a:lnTo>
                            <a:lnTo>
                              <a:pt x="1284" y="1258"/>
                            </a:lnTo>
                            <a:lnTo>
                              <a:pt x="1288" y="1249"/>
                            </a:lnTo>
                            <a:lnTo>
                              <a:pt x="1290" y="1241"/>
                            </a:lnTo>
                            <a:lnTo>
                              <a:pt x="1294" y="1234"/>
                            </a:lnTo>
                            <a:lnTo>
                              <a:pt x="1297" y="1224"/>
                            </a:lnTo>
                            <a:lnTo>
                              <a:pt x="1301" y="1217"/>
                            </a:lnTo>
                            <a:lnTo>
                              <a:pt x="1305" y="1207"/>
                            </a:lnTo>
                            <a:lnTo>
                              <a:pt x="1309" y="1198"/>
                            </a:lnTo>
                            <a:lnTo>
                              <a:pt x="1313" y="1188"/>
                            </a:lnTo>
                            <a:lnTo>
                              <a:pt x="1316" y="1177"/>
                            </a:lnTo>
                            <a:lnTo>
                              <a:pt x="1320" y="1165"/>
                            </a:lnTo>
                            <a:lnTo>
                              <a:pt x="1324" y="1154"/>
                            </a:lnTo>
                            <a:lnTo>
                              <a:pt x="1330" y="1144"/>
                            </a:lnTo>
                            <a:lnTo>
                              <a:pt x="1334" y="1133"/>
                            </a:lnTo>
                            <a:lnTo>
                              <a:pt x="1337" y="1122"/>
                            </a:lnTo>
                            <a:lnTo>
                              <a:pt x="1339" y="1108"/>
                            </a:lnTo>
                            <a:lnTo>
                              <a:pt x="1345" y="1097"/>
                            </a:lnTo>
                            <a:lnTo>
                              <a:pt x="1349" y="1084"/>
                            </a:lnTo>
                            <a:lnTo>
                              <a:pt x="1353" y="1070"/>
                            </a:lnTo>
                            <a:lnTo>
                              <a:pt x="1354" y="1059"/>
                            </a:lnTo>
                            <a:lnTo>
                              <a:pt x="1358" y="1044"/>
                            </a:lnTo>
                            <a:lnTo>
                              <a:pt x="1362" y="1032"/>
                            </a:lnTo>
                            <a:lnTo>
                              <a:pt x="1366" y="1017"/>
                            </a:lnTo>
                            <a:lnTo>
                              <a:pt x="1370" y="1004"/>
                            </a:lnTo>
                            <a:lnTo>
                              <a:pt x="1372" y="988"/>
                            </a:lnTo>
                            <a:lnTo>
                              <a:pt x="1375" y="975"/>
                            </a:lnTo>
                            <a:lnTo>
                              <a:pt x="1377" y="960"/>
                            </a:lnTo>
                            <a:lnTo>
                              <a:pt x="1381" y="947"/>
                            </a:lnTo>
                            <a:lnTo>
                              <a:pt x="1383" y="931"/>
                            </a:lnTo>
                            <a:lnTo>
                              <a:pt x="1387" y="916"/>
                            </a:lnTo>
                            <a:lnTo>
                              <a:pt x="1389" y="901"/>
                            </a:lnTo>
                            <a:lnTo>
                              <a:pt x="1391" y="886"/>
                            </a:lnTo>
                            <a:lnTo>
                              <a:pt x="1392" y="871"/>
                            </a:lnTo>
                            <a:lnTo>
                              <a:pt x="1394" y="855"/>
                            </a:lnTo>
                            <a:lnTo>
                              <a:pt x="1396" y="838"/>
                            </a:lnTo>
                            <a:lnTo>
                              <a:pt x="1398" y="823"/>
                            </a:lnTo>
                            <a:lnTo>
                              <a:pt x="1398" y="806"/>
                            </a:lnTo>
                            <a:lnTo>
                              <a:pt x="1400" y="791"/>
                            </a:lnTo>
                            <a:lnTo>
                              <a:pt x="1402" y="774"/>
                            </a:lnTo>
                            <a:lnTo>
                              <a:pt x="1402" y="757"/>
                            </a:lnTo>
                            <a:lnTo>
                              <a:pt x="1402" y="741"/>
                            </a:lnTo>
                            <a:lnTo>
                              <a:pt x="1402" y="724"/>
                            </a:lnTo>
                            <a:lnTo>
                              <a:pt x="1402" y="705"/>
                            </a:lnTo>
                            <a:lnTo>
                              <a:pt x="1402" y="690"/>
                            </a:lnTo>
                            <a:lnTo>
                              <a:pt x="1400" y="673"/>
                            </a:lnTo>
                            <a:lnTo>
                              <a:pt x="1400" y="656"/>
                            </a:lnTo>
                            <a:lnTo>
                              <a:pt x="1398" y="654"/>
                            </a:lnTo>
                            <a:lnTo>
                              <a:pt x="1398" y="652"/>
                            </a:lnTo>
                            <a:lnTo>
                              <a:pt x="1398" y="648"/>
                            </a:lnTo>
                            <a:lnTo>
                              <a:pt x="1398" y="644"/>
                            </a:lnTo>
                            <a:lnTo>
                              <a:pt x="1398" y="643"/>
                            </a:lnTo>
                            <a:lnTo>
                              <a:pt x="1398" y="639"/>
                            </a:lnTo>
                            <a:lnTo>
                              <a:pt x="1396" y="637"/>
                            </a:lnTo>
                            <a:lnTo>
                              <a:pt x="1396" y="633"/>
                            </a:lnTo>
                            <a:lnTo>
                              <a:pt x="1396" y="631"/>
                            </a:lnTo>
                            <a:lnTo>
                              <a:pt x="1396" y="627"/>
                            </a:lnTo>
                            <a:lnTo>
                              <a:pt x="1396" y="623"/>
                            </a:lnTo>
                            <a:lnTo>
                              <a:pt x="1394" y="620"/>
                            </a:lnTo>
                            <a:lnTo>
                              <a:pt x="1394" y="618"/>
                            </a:lnTo>
                            <a:lnTo>
                              <a:pt x="1394" y="616"/>
                            </a:lnTo>
                            <a:lnTo>
                              <a:pt x="1392" y="612"/>
                            </a:lnTo>
                            <a:lnTo>
                              <a:pt x="1392" y="610"/>
                            </a:lnTo>
                            <a:lnTo>
                              <a:pt x="1392" y="608"/>
                            </a:lnTo>
                            <a:lnTo>
                              <a:pt x="1391" y="604"/>
                            </a:lnTo>
                            <a:lnTo>
                              <a:pt x="1391" y="603"/>
                            </a:lnTo>
                            <a:lnTo>
                              <a:pt x="1391" y="599"/>
                            </a:lnTo>
                            <a:lnTo>
                              <a:pt x="1389" y="597"/>
                            </a:lnTo>
                            <a:lnTo>
                              <a:pt x="1389" y="593"/>
                            </a:lnTo>
                            <a:lnTo>
                              <a:pt x="1389" y="589"/>
                            </a:lnTo>
                            <a:lnTo>
                              <a:pt x="1389" y="587"/>
                            </a:lnTo>
                            <a:lnTo>
                              <a:pt x="1387" y="585"/>
                            </a:lnTo>
                            <a:lnTo>
                              <a:pt x="1385" y="582"/>
                            </a:lnTo>
                            <a:lnTo>
                              <a:pt x="1385" y="580"/>
                            </a:lnTo>
                            <a:lnTo>
                              <a:pt x="1383" y="578"/>
                            </a:lnTo>
                            <a:lnTo>
                              <a:pt x="1383" y="572"/>
                            </a:lnTo>
                            <a:lnTo>
                              <a:pt x="1381" y="568"/>
                            </a:lnTo>
                            <a:lnTo>
                              <a:pt x="1377" y="563"/>
                            </a:lnTo>
                            <a:lnTo>
                              <a:pt x="1375" y="557"/>
                            </a:lnTo>
                            <a:lnTo>
                              <a:pt x="1373" y="553"/>
                            </a:lnTo>
                            <a:lnTo>
                              <a:pt x="1370" y="547"/>
                            </a:lnTo>
                            <a:lnTo>
                              <a:pt x="1366" y="544"/>
                            </a:lnTo>
                            <a:lnTo>
                              <a:pt x="1364" y="540"/>
                            </a:lnTo>
                            <a:lnTo>
                              <a:pt x="1360" y="536"/>
                            </a:lnTo>
                            <a:lnTo>
                              <a:pt x="1356" y="532"/>
                            </a:lnTo>
                            <a:lnTo>
                              <a:pt x="1353" y="528"/>
                            </a:lnTo>
                            <a:lnTo>
                              <a:pt x="1349" y="525"/>
                            </a:lnTo>
                            <a:lnTo>
                              <a:pt x="1345" y="523"/>
                            </a:lnTo>
                            <a:lnTo>
                              <a:pt x="1339" y="521"/>
                            </a:lnTo>
                            <a:lnTo>
                              <a:pt x="1335" y="517"/>
                            </a:lnTo>
                            <a:lnTo>
                              <a:pt x="1332" y="515"/>
                            </a:lnTo>
                            <a:lnTo>
                              <a:pt x="1326" y="515"/>
                            </a:lnTo>
                            <a:lnTo>
                              <a:pt x="1322" y="513"/>
                            </a:lnTo>
                            <a:lnTo>
                              <a:pt x="1318" y="511"/>
                            </a:lnTo>
                            <a:lnTo>
                              <a:pt x="1316" y="511"/>
                            </a:lnTo>
                            <a:lnTo>
                              <a:pt x="1313" y="511"/>
                            </a:lnTo>
                            <a:lnTo>
                              <a:pt x="1311" y="511"/>
                            </a:lnTo>
                            <a:lnTo>
                              <a:pt x="1309" y="509"/>
                            </a:lnTo>
                            <a:lnTo>
                              <a:pt x="1305" y="509"/>
                            </a:lnTo>
                            <a:lnTo>
                              <a:pt x="1303" y="509"/>
                            </a:lnTo>
                            <a:lnTo>
                              <a:pt x="1301" y="509"/>
                            </a:lnTo>
                            <a:lnTo>
                              <a:pt x="1297" y="509"/>
                            </a:lnTo>
                            <a:lnTo>
                              <a:pt x="1295" y="509"/>
                            </a:lnTo>
                            <a:lnTo>
                              <a:pt x="1292" y="509"/>
                            </a:lnTo>
                            <a:lnTo>
                              <a:pt x="1290" y="509"/>
                            </a:lnTo>
                            <a:lnTo>
                              <a:pt x="1284" y="509"/>
                            </a:lnTo>
                            <a:lnTo>
                              <a:pt x="1280" y="509"/>
                            </a:lnTo>
                            <a:lnTo>
                              <a:pt x="1275" y="509"/>
                            </a:lnTo>
                            <a:lnTo>
                              <a:pt x="1269" y="509"/>
                            </a:lnTo>
                            <a:lnTo>
                              <a:pt x="1265" y="509"/>
                            </a:lnTo>
                            <a:lnTo>
                              <a:pt x="1259" y="509"/>
                            </a:lnTo>
                            <a:lnTo>
                              <a:pt x="1256" y="511"/>
                            </a:lnTo>
                            <a:lnTo>
                              <a:pt x="1252" y="511"/>
                            </a:lnTo>
                            <a:lnTo>
                              <a:pt x="1246" y="515"/>
                            </a:lnTo>
                            <a:lnTo>
                              <a:pt x="1242" y="515"/>
                            </a:lnTo>
                            <a:lnTo>
                              <a:pt x="1238" y="517"/>
                            </a:lnTo>
                            <a:lnTo>
                              <a:pt x="1235" y="521"/>
                            </a:lnTo>
                            <a:lnTo>
                              <a:pt x="1231" y="523"/>
                            </a:lnTo>
                            <a:lnTo>
                              <a:pt x="1229" y="525"/>
                            </a:lnTo>
                            <a:lnTo>
                              <a:pt x="1225" y="527"/>
                            </a:lnTo>
                            <a:lnTo>
                              <a:pt x="1221" y="530"/>
                            </a:lnTo>
                            <a:lnTo>
                              <a:pt x="1219" y="532"/>
                            </a:lnTo>
                            <a:lnTo>
                              <a:pt x="1216" y="538"/>
                            </a:lnTo>
                            <a:lnTo>
                              <a:pt x="1214" y="542"/>
                            </a:lnTo>
                            <a:lnTo>
                              <a:pt x="1212" y="546"/>
                            </a:lnTo>
                            <a:lnTo>
                              <a:pt x="1210" y="549"/>
                            </a:lnTo>
                            <a:lnTo>
                              <a:pt x="1208" y="555"/>
                            </a:lnTo>
                            <a:lnTo>
                              <a:pt x="1208" y="557"/>
                            </a:lnTo>
                            <a:lnTo>
                              <a:pt x="1206" y="559"/>
                            </a:lnTo>
                            <a:lnTo>
                              <a:pt x="1204" y="561"/>
                            </a:lnTo>
                            <a:lnTo>
                              <a:pt x="1204" y="565"/>
                            </a:lnTo>
                            <a:lnTo>
                              <a:pt x="1204" y="566"/>
                            </a:lnTo>
                            <a:lnTo>
                              <a:pt x="1204" y="570"/>
                            </a:lnTo>
                            <a:lnTo>
                              <a:pt x="1204" y="572"/>
                            </a:lnTo>
                            <a:lnTo>
                              <a:pt x="1204" y="576"/>
                            </a:lnTo>
                            <a:lnTo>
                              <a:pt x="1139" y="895"/>
                            </a:lnTo>
                            <a:lnTo>
                              <a:pt x="1136" y="893"/>
                            </a:lnTo>
                            <a:lnTo>
                              <a:pt x="1132" y="892"/>
                            </a:lnTo>
                            <a:lnTo>
                              <a:pt x="1126" y="888"/>
                            </a:lnTo>
                            <a:lnTo>
                              <a:pt x="1122" y="886"/>
                            </a:lnTo>
                            <a:lnTo>
                              <a:pt x="1117" y="884"/>
                            </a:lnTo>
                            <a:lnTo>
                              <a:pt x="1113" y="880"/>
                            </a:lnTo>
                            <a:lnTo>
                              <a:pt x="1107" y="878"/>
                            </a:lnTo>
                            <a:lnTo>
                              <a:pt x="1105" y="876"/>
                            </a:lnTo>
                            <a:lnTo>
                              <a:pt x="1227" y="316"/>
                            </a:lnTo>
                            <a:lnTo>
                              <a:pt x="1227" y="312"/>
                            </a:lnTo>
                            <a:lnTo>
                              <a:pt x="1227" y="308"/>
                            </a:lnTo>
                            <a:lnTo>
                              <a:pt x="1229" y="306"/>
                            </a:lnTo>
                            <a:lnTo>
                              <a:pt x="1229" y="304"/>
                            </a:lnTo>
                            <a:lnTo>
                              <a:pt x="1229" y="300"/>
                            </a:lnTo>
                            <a:lnTo>
                              <a:pt x="1229" y="298"/>
                            </a:lnTo>
                            <a:lnTo>
                              <a:pt x="1229" y="295"/>
                            </a:lnTo>
                            <a:lnTo>
                              <a:pt x="1229" y="293"/>
                            </a:lnTo>
                            <a:lnTo>
                              <a:pt x="1229" y="291"/>
                            </a:lnTo>
                            <a:lnTo>
                              <a:pt x="1229" y="287"/>
                            </a:lnTo>
                            <a:lnTo>
                              <a:pt x="1229" y="285"/>
                            </a:lnTo>
                            <a:lnTo>
                              <a:pt x="1229" y="283"/>
                            </a:lnTo>
                            <a:lnTo>
                              <a:pt x="1229" y="278"/>
                            </a:lnTo>
                            <a:lnTo>
                              <a:pt x="1227" y="272"/>
                            </a:lnTo>
                            <a:lnTo>
                              <a:pt x="1225" y="268"/>
                            </a:lnTo>
                            <a:lnTo>
                              <a:pt x="1225" y="262"/>
                            </a:lnTo>
                            <a:lnTo>
                              <a:pt x="1223" y="257"/>
                            </a:lnTo>
                            <a:lnTo>
                              <a:pt x="1221" y="253"/>
                            </a:lnTo>
                            <a:lnTo>
                              <a:pt x="1219" y="247"/>
                            </a:lnTo>
                            <a:lnTo>
                              <a:pt x="1217" y="243"/>
                            </a:lnTo>
                            <a:lnTo>
                              <a:pt x="1216" y="240"/>
                            </a:lnTo>
                            <a:lnTo>
                              <a:pt x="1214" y="236"/>
                            </a:lnTo>
                            <a:lnTo>
                              <a:pt x="1210" y="232"/>
                            </a:lnTo>
                            <a:lnTo>
                              <a:pt x="1206" y="226"/>
                            </a:lnTo>
                            <a:lnTo>
                              <a:pt x="1202" y="222"/>
                            </a:lnTo>
                            <a:lnTo>
                              <a:pt x="1200" y="219"/>
                            </a:lnTo>
                            <a:lnTo>
                              <a:pt x="1197" y="215"/>
                            </a:lnTo>
                            <a:lnTo>
                              <a:pt x="1193" y="211"/>
                            </a:lnTo>
                            <a:lnTo>
                              <a:pt x="1189" y="207"/>
                            </a:lnTo>
                            <a:lnTo>
                              <a:pt x="1185" y="205"/>
                            </a:lnTo>
                            <a:lnTo>
                              <a:pt x="1179" y="203"/>
                            </a:lnTo>
                            <a:lnTo>
                              <a:pt x="1176" y="200"/>
                            </a:lnTo>
                            <a:lnTo>
                              <a:pt x="1172" y="198"/>
                            </a:lnTo>
                            <a:lnTo>
                              <a:pt x="1166" y="194"/>
                            </a:lnTo>
                            <a:lnTo>
                              <a:pt x="1160" y="192"/>
                            </a:lnTo>
                            <a:lnTo>
                              <a:pt x="1157" y="192"/>
                            </a:lnTo>
                            <a:lnTo>
                              <a:pt x="1151" y="190"/>
                            </a:lnTo>
                            <a:lnTo>
                              <a:pt x="1147" y="190"/>
                            </a:lnTo>
                            <a:lnTo>
                              <a:pt x="1143" y="188"/>
                            </a:lnTo>
                            <a:lnTo>
                              <a:pt x="1141" y="186"/>
                            </a:lnTo>
                            <a:lnTo>
                              <a:pt x="1138" y="186"/>
                            </a:lnTo>
                            <a:lnTo>
                              <a:pt x="1136" y="186"/>
                            </a:lnTo>
                            <a:lnTo>
                              <a:pt x="1134" y="186"/>
                            </a:lnTo>
                            <a:lnTo>
                              <a:pt x="1130" y="186"/>
                            </a:lnTo>
                            <a:lnTo>
                              <a:pt x="1128" y="186"/>
                            </a:lnTo>
                            <a:lnTo>
                              <a:pt x="1124" y="186"/>
                            </a:lnTo>
                            <a:lnTo>
                              <a:pt x="1122" y="186"/>
                            </a:lnTo>
                            <a:lnTo>
                              <a:pt x="1120" y="186"/>
                            </a:lnTo>
                            <a:lnTo>
                              <a:pt x="1117" y="186"/>
                            </a:lnTo>
                            <a:lnTo>
                              <a:pt x="1115" y="186"/>
                            </a:lnTo>
                            <a:lnTo>
                              <a:pt x="1109" y="186"/>
                            </a:lnTo>
                            <a:lnTo>
                              <a:pt x="1105" y="188"/>
                            </a:lnTo>
                            <a:lnTo>
                              <a:pt x="1100" y="188"/>
                            </a:lnTo>
                            <a:lnTo>
                              <a:pt x="1094" y="190"/>
                            </a:lnTo>
                            <a:lnTo>
                              <a:pt x="1090" y="192"/>
                            </a:lnTo>
                            <a:lnTo>
                              <a:pt x="1086" y="192"/>
                            </a:lnTo>
                            <a:lnTo>
                              <a:pt x="1081" y="194"/>
                            </a:lnTo>
                            <a:lnTo>
                              <a:pt x="1077" y="198"/>
                            </a:lnTo>
                            <a:lnTo>
                              <a:pt x="1073" y="200"/>
                            </a:lnTo>
                            <a:lnTo>
                              <a:pt x="1067" y="203"/>
                            </a:lnTo>
                            <a:lnTo>
                              <a:pt x="1063" y="205"/>
                            </a:lnTo>
                            <a:lnTo>
                              <a:pt x="1058" y="207"/>
                            </a:lnTo>
                            <a:lnTo>
                              <a:pt x="1054" y="211"/>
                            </a:lnTo>
                            <a:lnTo>
                              <a:pt x="1050" y="215"/>
                            </a:lnTo>
                            <a:lnTo>
                              <a:pt x="1048" y="219"/>
                            </a:lnTo>
                            <a:lnTo>
                              <a:pt x="1044" y="222"/>
                            </a:lnTo>
                            <a:lnTo>
                              <a:pt x="1041" y="226"/>
                            </a:lnTo>
                            <a:lnTo>
                              <a:pt x="1039" y="232"/>
                            </a:lnTo>
                            <a:lnTo>
                              <a:pt x="1035" y="234"/>
                            </a:lnTo>
                            <a:lnTo>
                              <a:pt x="1033" y="240"/>
                            </a:lnTo>
                            <a:lnTo>
                              <a:pt x="1029" y="243"/>
                            </a:lnTo>
                            <a:lnTo>
                              <a:pt x="1027" y="249"/>
                            </a:lnTo>
                            <a:lnTo>
                              <a:pt x="1025" y="253"/>
                            </a:lnTo>
                            <a:lnTo>
                              <a:pt x="1023" y="259"/>
                            </a:lnTo>
                            <a:lnTo>
                              <a:pt x="1022" y="260"/>
                            </a:lnTo>
                            <a:lnTo>
                              <a:pt x="1022" y="264"/>
                            </a:lnTo>
                            <a:lnTo>
                              <a:pt x="1022" y="266"/>
                            </a:lnTo>
                            <a:lnTo>
                              <a:pt x="1022" y="270"/>
                            </a:lnTo>
                            <a:lnTo>
                              <a:pt x="919" y="730"/>
                            </a:lnTo>
                            <a:lnTo>
                              <a:pt x="915" y="728"/>
                            </a:lnTo>
                            <a:lnTo>
                              <a:pt x="913" y="726"/>
                            </a:lnTo>
                            <a:lnTo>
                              <a:pt x="907" y="724"/>
                            </a:lnTo>
                            <a:lnTo>
                              <a:pt x="905" y="720"/>
                            </a:lnTo>
                            <a:lnTo>
                              <a:pt x="904" y="719"/>
                            </a:lnTo>
                            <a:lnTo>
                              <a:pt x="900" y="717"/>
                            </a:lnTo>
                            <a:lnTo>
                              <a:pt x="896" y="713"/>
                            </a:lnTo>
                            <a:lnTo>
                              <a:pt x="892" y="713"/>
                            </a:lnTo>
                            <a:lnTo>
                              <a:pt x="1022" y="129"/>
                            </a:lnTo>
                            <a:lnTo>
                              <a:pt x="1022" y="125"/>
                            </a:lnTo>
                            <a:lnTo>
                              <a:pt x="1022" y="124"/>
                            </a:lnTo>
                            <a:lnTo>
                              <a:pt x="1022" y="120"/>
                            </a:lnTo>
                            <a:lnTo>
                              <a:pt x="1022" y="118"/>
                            </a:lnTo>
                            <a:lnTo>
                              <a:pt x="1022" y="114"/>
                            </a:lnTo>
                            <a:lnTo>
                              <a:pt x="1022" y="112"/>
                            </a:lnTo>
                            <a:lnTo>
                              <a:pt x="1022" y="110"/>
                            </a:lnTo>
                            <a:lnTo>
                              <a:pt x="1022" y="106"/>
                            </a:lnTo>
                            <a:lnTo>
                              <a:pt x="1022" y="105"/>
                            </a:lnTo>
                            <a:lnTo>
                              <a:pt x="1022" y="103"/>
                            </a:lnTo>
                            <a:lnTo>
                              <a:pt x="1022" y="99"/>
                            </a:lnTo>
                            <a:lnTo>
                              <a:pt x="1022" y="97"/>
                            </a:lnTo>
                            <a:lnTo>
                              <a:pt x="1022" y="91"/>
                            </a:lnTo>
                            <a:lnTo>
                              <a:pt x="1022" y="86"/>
                            </a:lnTo>
                            <a:lnTo>
                              <a:pt x="1020" y="82"/>
                            </a:lnTo>
                            <a:lnTo>
                              <a:pt x="1018" y="76"/>
                            </a:lnTo>
                            <a:lnTo>
                              <a:pt x="1016" y="70"/>
                            </a:lnTo>
                            <a:lnTo>
                              <a:pt x="1014" y="67"/>
                            </a:lnTo>
                            <a:lnTo>
                              <a:pt x="1012" y="61"/>
                            </a:lnTo>
                            <a:lnTo>
                              <a:pt x="1010" y="57"/>
                            </a:lnTo>
                            <a:lnTo>
                              <a:pt x="1008" y="53"/>
                            </a:lnTo>
                            <a:lnTo>
                              <a:pt x="1006" y="48"/>
                            </a:lnTo>
                            <a:lnTo>
                              <a:pt x="1004" y="44"/>
                            </a:lnTo>
                            <a:lnTo>
                              <a:pt x="1001" y="40"/>
                            </a:lnTo>
                            <a:lnTo>
                              <a:pt x="997" y="36"/>
                            </a:lnTo>
                            <a:lnTo>
                              <a:pt x="993" y="32"/>
                            </a:lnTo>
                            <a:lnTo>
                              <a:pt x="991" y="29"/>
                            </a:lnTo>
                            <a:lnTo>
                              <a:pt x="985" y="25"/>
                            </a:lnTo>
                            <a:lnTo>
                              <a:pt x="983" y="23"/>
                            </a:lnTo>
                            <a:lnTo>
                              <a:pt x="978" y="19"/>
                            </a:lnTo>
                            <a:lnTo>
                              <a:pt x="972" y="17"/>
                            </a:lnTo>
                            <a:lnTo>
                              <a:pt x="968" y="13"/>
                            </a:lnTo>
                            <a:lnTo>
                              <a:pt x="964" y="11"/>
                            </a:lnTo>
                            <a:lnTo>
                              <a:pt x="961" y="10"/>
                            </a:lnTo>
                            <a:lnTo>
                              <a:pt x="955" y="6"/>
                            </a:lnTo>
                            <a:lnTo>
                              <a:pt x="949" y="6"/>
                            </a:lnTo>
                            <a:lnTo>
                              <a:pt x="944" y="4"/>
                            </a:lnTo>
                            <a:lnTo>
                              <a:pt x="940" y="4"/>
                            </a:lnTo>
                            <a:lnTo>
                              <a:pt x="936" y="2"/>
                            </a:lnTo>
                            <a:lnTo>
                              <a:pt x="934" y="2"/>
                            </a:lnTo>
                            <a:lnTo>
                              <a:pt x="932" y="0"/>
                            </a:lnTo>
                            <a:lnTo>
                              <a:pt x="928" y="0"/>
                            </a:lnTo>
                            <a:lnTo>
                              <a:pt x="926" y="0"/>
                            </a:lnTo>
                            <a:lnTo>
                              <a:pt x="925" y="0"/>
                            </a:lnTo>
                            <a:lnTo>
                              <a:pt x="921" y="0"/>
                            </a:lnTo>
                            <a:lnTo>
                              <a:pt x="919" y="0"/>
                            </a:lnTo>
                            <a:lnTo>
                              <a:pt x="915" y="0"/>
                            </a:lnTo>
                            <a:lnTo>
                              <a:pt x="913" y="0"/>
                            </a:lnTo>
                            <a:lnTo>
                              <a:pt x="911" y="0"/>
                            </a:lnTo>
                            <a:lnTo>
                              <a:pt x="907" y="0"/>
                            </a:lnTo>
                            <a:lnTo>
                              <a:pt x="904" y="0"/>
                            </a:lnTo>
                            <a:lnTo>
                              <a:pt x="898" y="2"/>
                            </a:lnTo>
                            <a:lnTo>
                              <a:pt x="896" y="2"/>
                            </a:lnTo>
                            <a:lnTo>
                              <a:pt x="892" y="2"/>
                            </a:lnTo>
                            <a:lnTo>
                              <a:pt x="890" y="2"/>
                            </a:lnTo>
                            <a:lnTo>
                              <a:pt x="888" y="4"/>
                            </a:lnTo>
                            <a:lnTo>
                              <a:pt x="881" y="4"/>
                            </a:lnTo>
                            <a:lnTo>
                              <a:pt x="877" y="6"/>
                            </a:lnTo>
                            <a:lnTo>
                              <a:pt x="873" y="10"/>
                            </a:lnTo>
                            <a:lnTo>
                              <a:pt x="867" y="11"/>
                            </a:lnTo>
                            <a:lnTo>
                              <a:pt x="864" y="15"/>
                            </a:lnTo>
                            <a:lnTo>
                              <a:pt x="860" y="17"/>
                            </a:lnTo>
                            <a:lnTo>
                              <a:pt x="854" y="19"/>
                            </a:lnTo>
                            <a:lnTo>
                              <a:pt x="850" y="23"/>
                            </a:lnTo>
                            <a:lnTo>
                              <a:pt x="847" y="25"/>
                            </a:lnTo>
                            <a:lnTo>
                              <a:pt x="843" y="29"/>
                            </a:lnTo>
                            <a:lnTo>
                              <a:pt x="839" y="32"/>
                            </a:lnTo>
                            <a:lnTo>
                              <a:pt x="835" y="36"/>
                            </a:lnTo>
                            <a:lnTo>
                              <a:pt x="833" y="40"/>
                            </a:lnTo>
                            <a:lnTo>
                              <a:pt x="831" y="44"/>
                            </a:lnTo>
                            <a:lnTo>
                              <a:pt x="828" y="48"/>
                            </a:lnTo>
                            <a:lnTo>
                              <a:pt x="824" y="53"/>
                            </a:lnTo>
                            <a:lnTo>
                              <a:pt x="822" y="57"/>
                            </a:lnTo>
                            <a:lnTo>
                              <a:pt x="820" y="61"/>
                            </a:lnTo>
                            <a:lnTo>
                              <a:pt x="818" y="67"/>
                            </a:lnTo>
                            <a:lnTo>
                              <a:pt x="816" y="70"/>
                            </a:lnTo>
                            <a:lnTo>
                              <a:pt x="816" y="74"/>
                            </a:lnTo>
                            <a:lnTo>
                              <a:pt x="814" y="76"/>
                            </a:lnTo>
                            <a:lnTo>
                              <a:pt x="812" y="82"/>
                            </a:lnTo>
                            <a:lnTo>
                              <a:pt x="812" y="84"/>
                            </a:lnTo>
                            <a:lnTo>
                              <a:pt x="687" y="663"/>
                            </a:lnTo>
                            <a:lnTo>
                              <a:pt x="681" y="663"/>
                            </a:lnTo>
                            <a:lnTo>
                              <a:pt x="677" y="663"/>
                            </a:lnTo>
                            <a:lnTo>
                              <a:pt x="673" y="663"/>
                            </a:lnTo>
                            <a:lnTo>
                              <a:pt x="670" y="663"/>
                            </a:lnTo>
                            <a:lnTo>
                              <a:pt x="666" y="663"/>
                            </a:lnTo>
                            <a:lnTo>
                              <a:pt x="660" y="665"/>
                            </a:lnTo>
                            <a:lnTo>
                              <a:pt x="656" y="665"/>
                            </a:lnTo>
                            <a:lnTo>
                              <a:pt x="652" y="667"/>
                            </a:lnTo>
                            <a:lnTo>
                              <a:pt x="753" y="213"/>
                            </a:lnTo>
                            <a:lnTo>
                              <a:pt x="753" y="209"/>
                            </a:lnTo>
                            <a:lnTo>
                              <a:pt x="753" y="207"/>
                            </a:lnTo>
                            <a:lnTo>
                              <a:pt x="753" y="203"/>
                            </a:lnTo>
                            <a:lnTo>
                              <a:pt x="753" y="201"/>
                            </a:lnTo>
                            <a:lnTo>
                              <a:pt x="753" y="198"/>
                            </a:lnTo>
                            <a:lnTo>
                              <a:pt x="753" y="196"/>
                            </a:lnTo>
                            <a:lnTo>
                              <a:pt x="753" y="192"/>
                            </a:lnTo>
                            <a:lnTo>
                              <a:pt x="753" y="190"/>
                            </a:lnTo>
                            <a:lnTo>
                              <a:pt x="753" y="188"/>
                            </a:lnTo>
                            <a:lnTo>
                              <a:pt x="753" y="184"/>
                            </a:lnTo>
                            <a:lnTo>
                              <a:pt x="753" y="182"/>
                            </a:lnTo>
                            <a:lnTo>
                              <a:pt x="753" y="181"/>
                            </a:lnTo>
                            <a:lnTo>
                              <a:pt x="753" y="175"/>
                            </a:lnTo>
                            <a:lnTo>
                              <a:pt x="753" y="169"/>
                            </a:lnTo>
                            <a:lnTo>
                              <a:pt x="751" y="167"/>
                            </a:lnTo>
                            <a:lnTo>
                              <a:pt x="751" y="163"/>
                            </a:lnTo>
                            <a:lnTo>
                              <a:pt x="751" y="162"/>
                            </a:lnTo>
                            <a:lnTo>
                              <a:pt x="750" y="160"/>
                            </a:lnTo>
                            <a:lnTo>
                              <a:pt x="748" y="154"/>
                            </a:lnTo>
                            <a:lnTo>
                              <a:pt x="746" y="148"/>
                            </a:lnTo>
                            <a:lnTo>
                              <a:pt x="744" y="144"/>
                            </a:lnTo>
                            <a:lnTo>
                              <a:pt x="742" y="141"/>
                            </a:lnTo>
                            <a:lnTo>
                              <a:pt x="740" y="135"/>
                            </a:lnTo>
                            <a:lnTo>
                              <a:pt x="738" y="131"/>
                            </a:lnTo>
                            <a:lnTo>
                              <a:pt x="734" y="127"/>
                            </a:lnTo>
                            <a:lnTo>
                              <a:pt x="730" y="124"/>
                            </a:lnTo>
                            <a:lnTo>
                              <a:pt x="727" y="120"/>
                            </a:lnTo>
                            <a:lnTo>
                              <a:pt x="725" y="116"/>
                            </a:lnTo>
                            <a:lnTo>
                              <a:pt x="721" y="112"/>
                            </a:lnTo>
                            <a:lnTo>
                              <a:pt x="717" y="108"/>
                            </a:lnTo>
                            <a:lnTo>
                              <a:pt x="713" y="105"/>
                            </a:lnTo>
                            <a:lnTo>
                              <a:pt x="710" y="103"/>
                            </a:lnTo>
                            <a:lnTo>
                              <a:pt x="704" y="99"/>
                            </a:lnTo>
                            <a:lnTo>
                              <a:pt x="700" y="97"/>
                            </a:lnTo>
                            <a:lnTo>
                              <a:pt x="694" y="95"/>
                            </a:lnTo>
                            <a:lnTo>
                              <a:pt x="691" y="91"/>
                            </a:lnTo>
                            <a:lnTo>
                              <a:pt x="685" y="89"/>
                            </a:lnTo>
                            <a:lnTo>
                              <a:pt x="681" y="87"/>
                            </a:lnTo>
                            <a:lnTo>
                              <a:pt x="675" y="86"/>
                            </a:lnTo>
                            <a:lnTo>
                              <a:pt x="672" y="86"/>
                            </a:lnTo>
                            <a:lnTo>
                              <a:pt x="668" y="84"/>
                            </a:lnTo>
                            <a:lnTo>
                              <a:pt x="666" y="84"/>
                            </a:lnTo>
                            <a:lnTo>
                              <a:pt x="664" y="84"/>
                            </a:lnTo>
                            <a:lnTo>
                              <a:pt x="660" y="84"/>
                            </a:lnTo>
                            <a:lnTo>
                              <a:pt x="658" y="84"/>
                            </a:lnTo>
                            <a:lnTo>
                              <a:pt x="654" y="84"/>
                            </a:lnTo>
                            <a:lnTo>
                              <a:pt x="652" y="84"/>
                            </a:lnTo>
                            <a:lnTo>
                              <a:pt x="651" y="84"/>
                            </a:lnTo>
                            <a:lnTo>
                              <a:pt x="647" y="84"/>
                            </a:lnTo>
                            <a:lnTo>
                              <a:pt x="645" y="84"/>
                            </a:lnTo>
                            <a:lnTo>
                              <a:pt x="643" y="84"/>
                            </a:lnTo>
                            <a:lnTo>
                              <a:pt x="639" y="84"/>
                            </a:lnTo>
                            <a:lnTo>
                              <a:pt x="635" y="84"/>
                            </a:lnTo>
                            <a:lnTo>
                              <a:pt x="630" y="84"/>
                            </a:lnTo>
                            <a:lnTo>
                              <a:pt x="628" y="84"/>
                            </a:lnTo>
                            <a:lnTo>
                              <a:pt x="624" y="86"/>
                            </a:lnTo>
                            <a:lnTo>
                              <a:pt x="622" y="86"/>
                            </a:lnTo>
                            <a:lnTo>
                              <a:pt x="618" y="86"/>
                            </a:lnTo>
                            <a:lnTo>
                              <a:pt x="614" y="87"/>
                            </a:lnTo>
                            <a:lnTo>
                              <a:pt x="609" y="89"/>
                            </a:lnTo>
                            <a:lnTo>
                              <a:pt x="603" y="91"/>
                            </a:lnTo>
                            <a:lnTo>
                              <a:pt x="599" y="95"/>
                            </a:lnTo>
                            <a:lnTo>
                              <a:pt x="595" y="97"/>
                            </a:lnTo>
                            <a:lnTo>
                              <a:pt x="592" y="99"/>
                            </a:lnTo>
                            <a:lnTo>
                              <a:pt x="586" y="103"/>
                            </a:lnTo>
                            <a:lnTo>
                              <a:pt x="582" y="105"/>
                            </a:lnTo>
                            <a:lnTo>
                              <a:pt x="578" y="108"/>
                            </a:lnTo>
                            <a:lnTo>
                              <a:pt x="574" y="112"/>
                            </a:lnTo>
                            <a:lnTo>
                              <a:pt x="571" y="116"/>
                            </a:lnTo>
                            <a:lnTo>
                              <a:pt x="567" y="120"/>
                            </a:lnTo>
                            <a:lnTo>
                              <a:pt x="565" y="124"/>
                            </a:lnTo>
                            <a:lnTo>
                              <a:pt x="563" y="127"/>
                            </a:lnTo>
                            <a:lnTo>
                              <a:pt x="559" y="131"/>
                            </a:lnTo>
                            <a:lnTo>
                              <a:pt x="555" y="135"/>
                            </a:lnTo>
                            <a:lnTo>
                              <a:pt x="554" y="141"/>
                            </a:lnTo>
                            <a:lnTo>
                              <a:pt x="552" y="146"/>
                            </a:lnTo>
                            <a:lnTo>
                              <a:pt x="550" y="150"/>
                            </a:lnTo>
                            <a:lnTo>
                              <a:pt x="548" y="156"/>
                            </a:lnTo>
                            <a:lnTo>
                              <a:pt x="546" y="158"/>
                            </a:lnTo>
                            <a:lnTo>
                              <a:pt x="546" y="160"/>
                            </a:lnTo>
                            <a:lnTo>
                              <a:pt x="544" y="163"/>
                            </a:lnTo>
                            <a:lnTo>
                              <a:pt x="544" y="167"/>
                            </a:lnTo>
                            <a:lnTo>
                              <a:pt x="361" y="1127"/>
                            </a:lnTo>
                            <a:lnTo>
                              <a:pt x="361" y="1127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9360">
                        <a:solidFill>
                          <a:srgbClr val="c0c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149" name="AutoShape 1331"/>
                    <p:cNvSpPr/>
                    <p:nvPr/>
                  </p:nvSpPr>
                  <p:spPr>
                    <a:xfrm rot="47400">
                      <a:off x="4268520" y="3086640"/>
                      <a:ext cx="88560" cy="75960"/>
                    </a:xfrm>
                    <a:prstGeom prst="hexagon">
                      <a:avLst>
                        <a:gd name="adj" fmla="val 29147"/>
                        <a:gd name="vf" fmla="val 115470"/>
                      </a:avLst>
                    </a:prstGeom>
                    <a:solidFill>
                      <a:srgbClr val="ff0000"/>
                    </a:solidFill>
                    <a:ln w="9360">
                      <a:solidFill>
                        <a:srgbClr val="b2b2b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80" bIns="1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50" name="AutoShape 1332"/>
                <p:cNvSpPr/>
                <p:nvPr/>
              </p:nvSpPr>
              <p:spPr>
                <a:xfrm rot="64800">
                  <a:off x="4225680" y="2744640"/>
                  <a:ext cx="180000" cy="12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0" y="21600"/>
                      </a:lnTo>
                      <a:lnTo>
                        <a:pt x="216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1" name="AutoShape 1333"/>
              <p:cNvSpPr/>
              <p:nvPr/>
            </p:nvSpPr>
            <p:spPr>
              <a:xfrm rot="79200">
                <a:off x="4204800" y="3470040"/>
                <a:ext cx="192600" cy="5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308" y="21600"/>
                    </a:lnTo>
                    <a:lnTo>
                      <a:pt x="1729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2" name="AutoShape 1334"/>
            <p:cNvSpPr/>
            <p:nvPr/>
          </p:nvSpPr>
          <p:spPr>
            <a:xfrm rot="21528000">
              <a:off x="4253760" y="2743200"/>
              <a:ext cx="115560" cy="109800"/>
            </a:xfrm>
            <a:custGeom>
              <a:avLst/>
              <a:gdLst/>
              <a:ahLst/>
              <a:rect l="l" t="t" r="r" b="b"/>
              <a:pathLst>
                <a:path w="137" h="130">
                  <a:moveTo>
                    <a:pt x="0" y="49"/>
                  </a:moveTo>
                  <a:lnTo>
                    <a:pt x="52" y="49"/>
                  </a:lnTo>
                  <a:lnTo>
                    <a:pt x="68" y="0"/>
                  </a:lnTo>
                  <a:lnTo>
                    <a:pt x="84" y="49"/>
                  </a:lnTo>
                  <a:lnTo>
                    <a:pt x="136" y="49"/>
                  </a:lnTo>
                  <a:lnTo>
                    <a:pt x="94" y="80"/>
                  </a:lnTo>
                  <a:lnTo>
                    <a:pt x="110" y="129"/>
                  </a:lnTo>
                  <a:lnTo>
                    <a:pt x="68" y="99"/>
                  </a:lnTo>
                  <a:lnTo>
                    <a:pt x="26" y="129"/>
                  </a:lnTo>
                  <a:lnTo>
                    <a:pt x="42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3" name="Group 1335"/>
          <p:cNvGrpSpPr/>
          <p:nvPr/>
        </p:nvGrpSpPr>
        <p:grpSpPr>
          <a:xfrm>
            <a:off x="2652840" y="-14760"/>
            <a:ext cx="4281120" cy="4863960"/>
            <a:chOff x="2652840" y="-14760"/>
            <a:chExt cx="4281120" cy="4863960"/>
          </a:xfrm>
        </p:grpSpPr>
        <p:sp>
          <p:nvSpPr>
            <p:cNvPr id="2154" name="Oval 1336"/>
            <p:cNvSpPr/>
            <p:nvPr/>
          </p:nvSpPr>
          <p:spPr>
            <a:xfrm rot="16200000">
              <a:off x="4121640" y="2053800"/>
              <a:ext cx="1326600" cy="426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3137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AutoShape 1337"/>
            <p:cNvSpPr/>
            <p:nvPr/>
          </p:nvSpPr>
          <p:spPr>
            <a:xfrm rot="10800000">
              <a:off x="2670120" y="-14760"/>
              <a:ext cx="4263840" cy="4346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702" y="21600"/>
                  </a:lnTo>
                  <a:lnTo>
                    <a:pt x="1289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aeaea">
                    <a:alpha val="71372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6" name="Text Box 1338"/>
          <p:cNvSpPr/>
          <p:nvPr/>
        </p:nvSpPr>
        <p:spPr>
          <a:xfrm>
            <a:off x="2362320" y="5562720"/>
            <a:ext cx="5638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有个女孩子对我说：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你是个内心温柔的人。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我开心了很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7" name=""/>
          <p:cNvGrpSpPr/>
          <p:nvPr/>
        </p:nvGrpSpPr>
        <p:grpSpPr>
          <a:xfrm>
            <a:off x="-1447920" y="5486400"/>
            <a:ext cx="304920" cy="609480"/>
            <a:chOff x="-1447920" y="5486400"/>
            <a:chExt cx="304920" cy="609480"/>
          </a:xfrm>
        </p:grpSpPr>
        <p:sp>
          <p:nvSpPr>
            <p:cNvPr id="2158" name="Line 1339"/>
            <p:cNvSpPr/>
            <p:nvPr/>
          </p:nvSpPr>
          <p:spPr>
            <a:xfrm>
              <a:off x="-1447920" y="5486400"/>
              <a:ext cx="304920" cy="609480"/>
            </a:xfrm>
            <a:prstGeom prst="line">
              <a:avLst/>
            </a:prstGeom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 txBox="1"/>
            <p:nvPr/>
          </p:nvSpPr>
          <p:spPr>
            <a:xfrm>
              <a:off x="-1447920" y="5486400"/>
              <a:ext cx="30492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 thruBlk="true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400000">
                                      <p:cBhvr>
                                        <p:cTn id="268" dur="20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400000">
                                      <p:cBhvr>
                                        <p:cTn id="270" dur="2000" fill="hold"/>
                                        <p:tgtEl>
                                          <p:spTgt spid="2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840000">
                                      <p:cBhvr>
                                        <p:cTn id="272" dur="20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7037E-006 L -0.04062 0.12106 E">
                                      <p:cBhvr>
                                        <p:cTn id="274" dur="2000" fill="hold"/>
                                        <p:tgtEl>
                                          <p:spTgt spid="20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200000">
                                      <p:cBhvr>
                                        <p:cTn id="276" dur="2000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85185E-006 L -0.01667 0.12222 E">
                                      <p:cBhvr>
                                        <p:cTn id="278" dur="2000" fill="hold"/>
                                        <p:tgtEl>
                                          <p:spTgt spid="2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280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dur="indefinite" autoRev="1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283" dur="1000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4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285" dur="1000" fill="hold"/>
                                        <p:tgtEl>
                                          <p:spTgt spid="19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" dur="5000" fill="hold"/>
                                        <p:tgtEl>
                                          <p:spTgt spid="2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0" name="Group 4"/>
          <p:cNvGrpSpPr/>
          <p:nvPr/>
        </p:nvGrpSpPr>
        <p:grpSpPr>
          <a:xfrm>
            <a:off x="3566880" y="1188360"/>
            <a:ext cx="1167480" cy="2229840"/>
            <a:chOff x="3566880" y="1188360"/>
            <a:chExt cx="1167480" cy="2229840"/>
          </a:xfrm>
        </p:grpSpPr>
        <p:grpSp>
          <p:nvGrpSpPr>
            <p:cNvPr id="2161" name="Group 5"/>
            <p:cNvGrpSpPr/>
            <p:nvPr/>
          </p:nvGrpSpPr>
          <p:grpSpPr>
            <a:xfrm>
              <a:off x="3566880" y="1188360"/>
              <a:ext cx="1167480" cy="2229840"/>
              <a:chOff x="3566880" y="1188360"/>
              <a:chExt cx="1167480" cy="2229840"/>
            </a:xfrm>
          </p:grpSpPr>
          <p:grpSp>
            <p:nvGrpSpPr>
              <p:cNvPr id="2162" name="Group 6"/>
              <p:cNvGrpSpPr/>
              <p:nvPr/>
            </p:nvGrpSpPr>
            <p:grpSpPr>
              <a:xfrm>
                <a:off x="3566880" y="1465560"/>
                <a:ext cx="697680" cy="1202760"/>
                <a:chOff x="3566880" y="1465560"/>
                <a:chExt cx="697680" cy="1202760"/>
              </a:xfrm>
            </p:grpSpPr>
            <p:grpSp>
              <p:nvGrpSpPr>
                <p:cNvPr id="2163" name="Group 7"/>
                <p:cNvGrpSpPr/>
                <p:nvPr/>
              </p:nvGrpSpPr>
              <p:grpSpPr>
                <a:xfrm>
                  <a:off x="3840840" y="2031840"/>
                  <a:ext cx="423720" cy="636480"/>
                  <a:chOff x="3840840" y="2031840"/>
                  <a:chExt cx="423720" cy="636480"/>
                </a:xfrm>
              </p:grpSpPr>
              <p:sp>
                <p:nvSpPr>
                  <p:cNvPr id="2164" name="AutoShape 8"/>
                  <p:cNvSpPr/>
                  <p:nvPr/>
                </p:nvSpPr>
                <p:spPr>
                  <a:xfrm rot="9411600">
                    <a:off x="3930120" y="2046960"/>
                    <a:ext cx="179640" cy="49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1556" y="21600"/>
                        </a:lnTo>
                        <a:lnTo>
                          <a:pt x="20044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5" name="AutoShape 9"/>
                  <p:cNvSpPr/>
                  <p:nvPr/>
                </p:nvSpPr>
                <p:spPr>
                  <a:xfrm rot="14989800">
                    <a:off x="4024080" y="2419200"/>
                    <a:ext cx="1918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934" y="2201"/>
                          <a:pt x="12267" y="5080"/>
                          <a:pt x="12267" y="10800"/>
                        </a:cubicBezTo>
                        <a:cubicBezTo>
                          <a:pt x="12267" y="16520"/>
                          <a:pt x="16934" y="19399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6" name="Group 10"/>
                <p:cNvGrpSpPr/>
                <p:nvPr/>
              </p:nvGrpSpPr>
              <p:grpSpPr>
                <a:xfrm>
                  <a:off x="3566880" y="1465560"/>
                  <a:ext cx="472320" cy="719280"/>
                  <a:chOff x="3566880" y="1465560"/>
                  <a:chExt cx="472320" cy="719280"/>
                </a:xfrm>
              </p:grpSpPr>
              <p:sp>
                <p:nvSpPr>
                  <p:cNvPr id="2167" name="AutoShape 11"/>
                  <p:cNvSpPr/>
                  <p:nvPr/>
                </p:nvSpPr>
                <p:spPr>
                  <a:xfrm rot="9426600">
                    <a:off x="3754440" y="1699920"/>
                    <a:ext cx="180360" cy="36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4308" y="21600"/>
                        </a:lnTo>
                        <a:lnTo>
                          <a:pt x="17292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8" name="Oval 12"/>
                  <p:cNvSpPr/>
                  <p:nvPr/>
                </p:nvSpPr>
                <p:spPr>
                  <a:xfrm rot="9965400">
                    <a:off x="3831840" y="1974600"/>
                    <a:ext cx="187200" cy="19044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9" name="Freeform 13"/>
                  <p:cNvSpPr/>
                  <p:nvPr/>
                </p:nvSpPr>
                <p:spPr>
                  <a:xfrm rot="19460400">
                    <a:off x="3634200" y="1489320"/>
                    <a:ext cx="175680" cy="28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02" h="2302">
                        <a:moveTo>
                          <a:pt x="361" y="1127"/>
                        </a:moveTo>
                        <a:lnTo>
                          <a:pt x="280" y="1116"/>
                        </a:lnTo>
                        <a:lnTo>
                          <a:pt x="373" y="711"/>
                        </a:lnTo>
                        <a:lnTo>
                          <a:pt x="373" y="709"/>
                        </a:lnTo>
                        <a:lnTo>
                          <a:pt x="375" y="705"/>
                        </a:lnTo>
                        <a:lnTo>
                          <a:pt x="375" y="703"/>
                        </a:lnTo>
                        <a:lnTo>
                          <a:pt x="375" y="700"/>
                        </a:lnTo>
                        <a:lnTo>
                          <a:pt x="375" y="698"/>
                        </a:lnTo>
                        <a:lnTo>
                          <a:pt x="375" y="696"/>
                        </a:lnTo>
                        <a:lnTo>
                          <a:pt x="375" y="692"/>
                        </a:lnTo>
                        <a:lnTo>
                          <a:pt x="375" y="690"/>
                        </a:lnTo>
                        <a:lnTo>
                          <a:pt x="375" y="684"/>
                        </a:lnTo>
                        <a:lnTo>
                          <a:pt x="375" y="681"/>
                        </a:lnTo>
                        <a:lnTo>
                          <a:pt x="375" y="675"/>
                        </a:lnTo>
                        <a:lnTo>
                          <a:pt x="375" y="669"/>
                        </a:lnTo>
                        <a:lnTo>
                          <a:pt x="371" y="665"/>
                        </a:lnTo>
                        <a:lnTo>
                          <a:pt x="371" y="660"/>
                        </a:lnTo>
                        <a:lnTo>
                          <a:pt x="369" y="654"/>
                        </a:lnTo>
                        <a:lnTo>
                          <a:pt x="367" y="652"/>
                        </a:lnTo>
                        <a:lnTo>
                          <a:pt x="365" y="646"/>
                        </a:lnTo>
                        <a:lnTo>
                          <a:pt x="363" y="641"/>
                        </a:lnTo>
                        <a:lnTo>
                          <a:pt x="361" y="637"/>
                        </a:lnTo>
                        <a:lnTo>
                          <a:pt x="358" y="633"/>
                        </a:lnTo>
                        <a:lnTo>
                          <a:pt x="356" y="629"/>
                        </a:lnTo>
                        <a:lnTo>
                          <a:pt x="354" y="623"/>
                        </a:lnTo>
                        <a:lnTo>
                          <a:pt x="350" y="620"/>
                        </a:lnTo>
                        <a:lnTo>
                          <a:pt x="346" y="616"/>
                        </a:lnTo>
                        <a:lnTo>
                          <a:pt x="342" y="612"/>
                        </a:lnTo>
                        <a:lnTo>
                          <a:pt x="339" y="610"/>
                        </a:lnTo>
                        <a:lnTo>
                          <a:pt x="335" y="606"/>
                        </a:lnTo>
                        <a:lnTo>
                          <a:pt x="331" y="603"/>
                        </a:lnTo>
                        <a:lnTo>
                          <a:pt x="325" y="601"/>
                        </a:lnTo>
                        <a:lnTo>
                          <a:pt x="321" y="597"/>
                        </a:lnTo>
                        <a:lnTo>
                          <a:pt x="318" y="595"/>
                        </a:lnTo>
                        <a:lnTo>
                          <a:pt x="312" y="593"/>
                        </a:lnTo>
                        <a:lnTo>
                          <a:pt x="306" y="591"/>
                        </a:lnTo>
                        <a:lnTo>
                          <a:pt x="302" y="589"/>
                        </a:lnTo>
                        <a:lnTo>
                          <a:pt x="299" y="589"/>
                        </a:lnTo>
                        <a:lnTo>
                          <a:pt x="295" y="587"/>
                        </a:lnTo>
                        <a:lnTo>
                          <a:pt x="291" y="587"/>
                        </a:lnTo>
                        <a:lnTo>
                          <a:pt x="287" y="585"/>
                        </a:lnTo>
                        <a:lnTo>
                          <a:pt x="285" y="585"/>
                        </a:lnTo>
                        <a:lnTo>
                          <a:pt x="283" y="585"/>
                        </a:lnTo>
                        <a:lnTo>
                          <a:pt x="280" y="585"/>
                        </a:lnTo>
                        <a:lnTo>
                          <a:pt x="276" y="585"/>
                        </a:lnTo>
                        <a:lnTo>
                          <a:pt x="274" y="585"/>
                        </a:lnTo>
                        <a:lnTo>
                          <a:pt x="272" y="585"/>
                        </a:lnTo>
                        <a:lnTo>
                          <a:pt x="268" y="585"/>
                        </a:lnTo>
                        <a:lnTo>
                          <a:pt x="266" y="585"/>
                        </a:lnTo>
                        <a:lnTo>
                          <a:pt x="263" y="585"/>
                        </a:lnTo>
                        <a:lnTo>
                          <a:pt x="261" y="587"/>
                        </a:lnTo>
                        <a:lnTo>
                          <a:pt x="259" y="587"/>
                        </a:lnTo>
                        <a:lnTo>
                          <a:pt x="255" y="587"/>
                        </a:lnTo>
                        <a:lnTo>
                          <a:pt x="253" y="589"/>
                        </a:lnTo>
                        <a:lnTo>
                          <a:pt x="249" y="589"/>
                        </a:lnTo>
                        <a:lnTo>
                          <a:pt x="247" y="589"/>
                        </a:lnTo>
                        <a:lnTo>
                          <a:pt x="243" y="591"/>
                        </a:lnTo>
                        <a:lnTo>
                          <a:pt x="240" y="591"/>
                        </a:lnTo>
                        <a:lnTo>
                          <a:pt x="238" y="593"/>
                        </a:lnTo>
                        <a:lnTo>
                          <a:pt x="236" y="595"/>
                        </a:lnTo>
                        <a:lnTo>
                          <a:pt x="232" y="595"/>
                        </a:lnTo>
                        <a:lnTo>
                          <a:pt x="230" y="597"/>
                        </a:lnTo>
                        <a:lnTo>
                          <a:pt x="228" y="599"/>
                        </a:lnTo>
                        <a:lnTo>
                          <a:pt x="224" y="601"/>
                        </a:lnTo>
                        <a:lnTo>
                          <a:pt x="223" y="601"/>
                        </a:lnTo>
                        <a:lnTo>
                          <a:pt x="219" y="603"/>
                        </a:lnTo>
                        <a:lnTo>
                          <a:pt x="217" y="604"/>
                        </a:lnTo>
                        <a:lnTo>
                          <a:pt x="211" y="608"/>
                        </a:lnTo>
                        <a:lnTo>
                          <a:pt x="207" y="612"/>
                        </a:lnTo>
                        <a:lnTo>
                          <a:pt x="204" y="616"/>
                        </a:lnTo>
                        <a:lnTo>
                          <a:pt x="198" y="618"/>
                        </a:lnTo>
                        <a:lnTo>
                          <a:pt x="194" y="623"/>
                        </a:lnTo>
                        <a:lnTo>
                          <a:pt x="188" y="627"/>
                        </a:lnTo>
                        <a:lnTo>
                          <a:pt x="185" y="633"/>
                        </a:lnTo>
                        <a:lnTo>
                          <a:pt x="181" y="637"/>
                        </a:lnTo>
                        <a:lnTo>
                          <a:pt x="177" y="641"/>
                        </a:lnTo>
                        <a:lnTo>
                          <a:pt x="173" y="646"/>
                        </a:lnTo>
                        <a:lnTo>
                          <a:pt x="169" y="652"/>
                        </a:lnTo>
                        <a:lnTo>
                          <a:pt x="166" y="656"/>
                        </a:lnTo>
                        <a:lnTo>
                          <a:pt x="162" y="662"/>
                        </a:lnTo>
                        <a:lnTo>
                          <a:pt x="160" y="665"/>
                        </a:lnTo>
                        <a:lnTo>
                          <a:pt x="158" y="669"/>
                        </a:lnTo>
                        <a:lnTo>
                          <a:pt x="158" y="671"/>
                        </a:lnTo>
                        <a:lnTo>
                          <a:pt x="156" y="673"/>
                        </a:lnTo>
                        <a:lnTo>
                          <a:pt x="154" y="677"/>
                        </a:lnTo>
                        <a:lnTo>
                          <a:pt x="152" y="679"/>
                        </a:lnTo>
                        <a:lnTo>
                          <a:pt x="152" y="681"/>
                        </a:lnTo>
                        <a:lnTo>
                          <a:pt x="150" y="684"/>
                        </a:lnTo>
                        <a:lnTo>
                          <a:pt x="150" y="688"/>
                        </a:lnTo>
                        <a:lnTo>
                          <a:pt x="146" y="694"/>
                        </a:lnTo>
                        <a:lnTo>
                          <a:pt x="145" y="701"/>
                        </a:lnTo>
                        <a:lnTo>
                          <a:pt x="143" y="709"/>
                        </a:lnTo>
                        <a:lnTo>
                          <a:pt x="139" y="717"/>
                        </a:lnTo>
                        <a:lnTo>
                          <a:pt x="137" y="724"/>
                        </a:lnTo>
                        <a:lnTo>
                          <a:pt x="135" y="732"/>
                        </a:lnTo>
                        <a:lnTo>
                          <a:pt x="131" y="739"/>
                        </a:lnTo>
                        <a:lnTo>
                          <a:pt x="129" y="747"/>
                        </a:lnTo>
                        <a:lnTo>
                          <a:pt x="126" y="755"/>
                        </a:lnTo>
                        <a:lnTo>
                          <a:pt x="124" y="760"/>
                        </a:lnTo>
                        <a:lnTo>
                          <a:pt x="122" y="768"/>
                        </a:lnTo>
                        <a:lnTo>
                          <a:pt x="120" y="776"/>
                        </a:lnTo>
                        <a:lnTo>
                          <a:pt x="116" y="781"/>
                        </a:lnTo>
                        <a:lnTo>
                          <a:pt x="114" y="789"/>
                        </a:lnTo>
                        <a:lnTo>
                          <a:pt x="112" y="796"/>
                        </a:lnTo>
                        <a:lnTo>
                          <a:pt x="110" y="804"/>
                        </a:lnTo>
                        <a:lnTo>
                          <a:pt x="107" y="812"/>
                        </a:lnTo>
                        <a:lnTo>
                          <a:pt x="107" y="817"/>
                        </a:lnTo>
                        <a:lnTo>
                          <a:pt x="103" y="823"/>
                        </a:lnTo>
                        <a:lnTo>
                          <a:pt x="101" y="831"/>
                        </a:lnTo>
                        <a:lnTo>
                          <a:pt x="97" y="836"/>
                        </a:lnTo>
                        <a:lnTo>
                          <a:pt x="97" y="844"/>
                        </a:lnTo>
                        <a:lnTo>
                          <a:pt x="93" y="852"/>
                        </a:lnTo>
                        <a:lnTo>
                          <a:pt x="93" y="857"/>
                        </a:lnTo>
                        <a:lnTo>
                          <a:pt x="89" y="865"/>
                        </a:lnTo>
                        <a:lnTo>
                          <a:pt x="88" y="871"/>
                        </a:lnTo>
                        <a:lnTo>
                          <a:pt x="86" y="878"/>
                        </a:lnTo>
                        <a:lnTo>
                          <a:pt x="84" y="884"/>
                        </a:lnTo>
                        <a:lnTo>
                          <a:pt x="82" y="892"/>
                        </a:lnTo>
                        <a:lnTo>
                          <a:pt x="80" y="899"/>
                        </a:lnTo>
                        <a:lnTo>
                          <a:pt x="78" y="907"/>
                        </a:lnTo>
                        <a:lnTo>
                          <a:pt x="74" y="912"/>
                        </a:lnTo>
                        <a:lnTo>
                          <a:pt x="72" y="920"/>
                        </a:lnTo>
                        <a:lnTo>
                          <a:pt x="72" y="926"/>
                        </a:lnTo>
                        <a:lnTo>
                          <a:pt x="68" y="931"/>
                        </a:lnTo>
                        <a:lnTo>
                          <a:pt x="67" y="939"/>
                        </a:lnTo>
                        <a:lnTo>
                          <a:pt x="65" y="945"/>
                        </a:lnTo>
                        <a:lnTo>
                          <a:pt x="63" y="952"/>
                        </a:lnTo>
                        <a:lnTo>
                          <a:pt x="59" y="958"/>
                        </a:lnTo>
                        <a:lnTo>
                          <a:pt x="57" y="966"/>
                        </a:lnTo>
                        <a:lnTo>
                          <a:pt x="55" y="971"/>
                        </a:lnTo>
                        <a:lnTo>
                          <a:pt x="53" y="979"/>
                        </a:lnTo>
                        <a:lnTo>
                          <a:pt x="51" y="987"/>
                        </a:lnTo>
                        <a:lnTo>
                          <a:pt x="49" y="994"/>
                        </a:lnTo>
                        <a:lnTo>
                          <a:pt x="48" y="1000"/>
                        </a:lnTo>
                        <a:lnTo>
                          <a:pt x="46" y="1007"/>
                        </a:lnTo>
                        <a:lnTo>
                          <a:pt x="44" y="1015"/>
                        </a:lnTo>
                        <a:lnTo>
                          <a:pt x="42" y="1021"/>
                        </a:lnTo>
                        <a:lnTo>
                          <a:pt x="42" y="1028"/>
                        </a:lnTo>
                        <a:lnTo>
                          <a:pt x="38" y="1036"/>
                        </a:lnTo>
                        <a:lnTo>
                          <a:pt x="36" y="1042"/>
                        </a:lnTo>
                        <a:lnTo>
                          <a:pt x="36" y="1049"/>
                        </a:lnTo>
                        <a:lnTo>
                          <a:pt x="34" y="1057"/>
                        </a:lnTo>
                        <a:lnTo>
                          <a:pt x="30" y="1063"/>
                        </a:lnTo>
                        <a:lnTo>
                          <a:pt x="30" y="1070"/>
                        </a:lnTo>
                        <a:lnTo>
                          <a:pt x="29" y="1078"/>
                        </a:lnTo>
                        <a:lnTo>
                          <a:pt x="27" y="1085"/>
                        </a:lnTo>
                        <a:lnTo>
                          <a:pt x="25" y="1093"/>
                        </a:lnTo>
                        <a:lnTo>
                          <a:pt x="23" y="1101"/>
                        </a:lnTo>
                        <a:lnTo>
                          <a:pt x="21" y="1108"/>
                        </a:lnTo>
                        <a:lnTo>
                          <a:pt x="19" y="1116"/>
                        </a:lnTo>
                        <a:lnTo>
                          <a:pt x="17" y="1123"/>
                        </a:lnTo>
                        <a:lnTo>
                          <a:pt x="17" y="1131"/>
                        </a:lnTo>
                        <a:lnTo>
                          <a:pt x="15" y="1139"/>
                        </a:lnTo>
                        <a:lnTo>
                          <a:pt x="13" y="1148"/>
                        </a:lnTo>
                        <a:lnTo>
                          <a:pt x="10" y="1158"/>
                        </a:lnTo>
                        <a:lnTo>
                          <a:pt x="10" y="1165"/>
                        </a:lnTo>
                        <a:lnTo>
                          <a:pt x="8" y="1175"/>
                        </a:lnTo>
                        <a:lnTo>
                          <a:pt x="6" y="1182"/>
                        </a:lnTo>
                        <a:lnTo>
                          <a:pt x="6" y="1192"/>
                        </a:lnTo>
                        <a:lnTo>
                          <a:pt x="4" y="1201"/>
                        </a:lnTo>
                        <a:lnTo>
                          <a:pt x="2" y="1211"/>
                        </a:lnTo>
                        <a:lnTo>
                          <a:pt x="2" y="1218"/>
                        </a:lnTo>
                        <a:lnTo>
                          <a:pt x="0" y="1230"/>
                        </a:lnTo>
                        <a:lnTo>
                          <a:pt x="0" y="1237"/>
                        </a:lnTo>
                        <a:lnTo>
                          <a:pt x="0" y="1247"/>
                        </a:lnTo>
                        <a:lnTo>
                          <a:pt x="0" y="1257"/>
                        </a:lnTo>
                        <a:lnTo>
                          <a:pt x="0" y="1268"/>
                        </a:lnTo>
                        <a:lnTo>
                          <a:pt x="0" y="1276"/>
                        </a:lnTo>
                        <a:lnTo>
                          <a:pt x="0" y="1285"/>
                        </a:lnTo>
                        <a:lnTo>
                          <a:pt x="0" y="1296"/>
                        </a:lnTo>
                        <a:lnTo>
                          <a:pt x="0" y="1304"/>
                        </a:lnTo>
                        <a:lnTo>
                          <a:pt x="0" y="1314"/>
                        </a:lnTo>
                        <a:lnTo>
                          <a:pt x="0" y="1323"/>
                        </a:lnTo>
                        <a:lnTo>
                          <a:pt x="0" y="1333"/>
                        </a:lnTo>
                        <a:lnTo>
                          <a:pt x="2" y="1342"/>
                        </a:lnTo>
                        <a:lnTo>
                          <a:pt x="2" y="1352"/>
                        </a:lnTo>
                        <a:lnTo>
                          <a:pt x="4" y="1363"/>
                        </a:lnTo>
                        <a:lnTo>
                          <a:pt x="4" y="1371"/>
                        </a:lnTo>
                        <a:lnTo>
                          <a:pt x="6" y="1382"/>
                        </a:lnTo>
                        <a:lnTo>
                          <a:pt x="8" y="1390"/>
                        </a:lnTo>
                        <a:lnTo>
                          <a:pt x="8" y="1401"/>
                        </a:lnTo>
                        <a:lnTo>
                          <a:pt x="10" y="1409"/>
                        </a:lnTo>
                        <a:lnTo>
                          <a:pt x="11" y="1420"/>
                        </a:lnTo>
                        <a:lnTo>
                          <a:pt x="13" y="1429"/>
                        </a:lnTo>
                        <a:lnTo>
                          <a:pt x="15" y="1439"/>
                        </a:lnTo>
                        <a:lnTo>
                          <a:pt x="17" y="1448"/>
                        </a:lnTo>
                        <a:lnTo>
                          <a:pt x="19" y="1458"/>
                        </a:lnTo>
                        <a:lnTo>
                          <a:pt x="21" y="1468"/>
                        </a:lnTo>
                        <a:lnTo>
                          <a:pt x="23" y="1477"/>
                        </a:lnTo>
                        <a:lnTo>
                          <a:pt x="27" y="1487"/>
                        </a:lnTo>
                        <a:lnTo>
                          <a:pt x="29" y="1496"/>
                        </a:lnTo>
                        <a:lnTo>
                          <a:pt x="30" y="1506"/>
                        </a:lnTo>
                        <a:lnTo>
                          <a:pt x="34" y="1515"/>
                        </a:lnTo>
                        <a:lnTo>
                          <a:pt x="36" y="1525"/>
                        </a:lnTo>
                        <a:lnTo>
                          <a:pt x="38" y="1534"/>
                        </a:lnTo>
                        <a:lnTo>
                          <a:pt x="42" y="1544"/>
                        </a:lnTo>
                        <a:lnTo>
                          <a:pt x="46" y="1553"/>
                        </a:lnTo>
                        <a:lnTo>
                          <a:pt x="48" y="1561"/>
                        </a:lnTo>
                        <a:lnTo>
                          <a:pt x="51" y="1572"/>
                        </a:lnTo>
                        <a:lnTo>
                          <a:pt x="55" y="1580"/>
                        </a:lnTo>
                        <a:lnTo>
                          <a:pt x="59" y="1589"/>
                        </a:lnTo>
                        <a:lnTo>
                          <a:pt x="63" y="1599"/>
                        </a:lnTo>
                        <a:lnTo>
                          <a:pt x="67" y="1608"/>
                        </a:lnTo>
                        <a:lnTo>
                          <a:pt x="68" y="1616"/>
                        </a:lnTo>
                        <a:lnTo>
                          <a:pt x="74" y="1627"/>
                        </a:lnTo>
                        <a:lnTo>
                          <a:pt x="78" y="1635"/>
                        </a:lnTo>
                        <a:lnTo>
                          <a:pt x="82" y="1644"/>
                        </a:lnTo>
                        <a:lnTo>
                          <a:pt x="86" y="1652"/>
                        </a:lnTo>
                        <a:lnTo>
                          <a:pt x="89" y="1661"/>
                        </a:lnTo>
                        <a:lnTo>
                          <a:pt x="95" y="1669"/>
                        </a:lnTo>
                        <a:lnTo>
                          <a:pt x="99" y="1679"/>
                        </a:lnTo>
                        <a:lnTo>
                          <a:pt x="103" y="1688"/>
                        </a:lnTo>
                        <a:lnTo>
                          <a:pt x="108" y="1696"/>
                        </a:lnTo>
                        <a:lnTo>
                          <a:pt x="114" y="1703"/>
                        </a:lnTo>
                        <a:lnTo>
                          <a:pt x="118" y="1713"/>
                        </a:lnTo>
                        <a:lnTo>
                          <a:pt x="124" y="1722"/>
                        </a:lnTo>
                        <a:lnTo>
                          <a:pt x="127" y="1732"/>
                        </a:lnTo>
                        <a:lnTo>
                          <a:pt x="131" y="1736"/>
                        </a:lnTo>
                        <a:lnTo>
                          <a:pt x="135" y="1739"/>
                        </a:lnTo>
                        <a:lnTo>
                          <a:pt x="135" y="1743"/>
                        </a:lnTo>
                        <a:lnTo>
                          <a:pt x="137" y="1745"/>
                        </a:lnTo>
                        <a:lnTo>
                          <a:pt x="139" y="1747"/>
                        </a:lnTo>
                        <a:lnTo>
                          <a:pt x="141" y="1751"/>
                        </a:lnTo>
                        <a:lnTo>
                          <a:pt x="143" y="1755"/>
                        </a:lnTo>
                        <a:lnTo>
                          <a:pt x="143" y="1756"/>
                        </a:lnTo>
                        <a:lnTo>
                          <a:pt x="145" y="1760"/>
                        </a:lnTo>
                        <a:lnTo>
                          <a:pt x="146" y="1762"/>
                        </a:lnTo>
                        <a:lnTo>
                          <a:pt x="148" y="1766"/>
                        </a:lnTo>
                        <a:lnTo>
                          <a:pt x="150" y="1768"/>
                        </a:lnTo>
                        <a:lnTo>
                          <a:pt x="152" y="1770"/>
                        </a:lnTo>
                        <a:lnTo>
                          <a:pt x="156" y="1774"/>
                        </a:lnTo>
                        <a:lnTo>
                          <a:pt x="158" y="1777"/>
                        </a:lnTo>
                        <a:lnTo>
                          <a:pt x="160" y="1779"/>
                        </a:lnTo>
                        <a:lnTo>
                          <a:pt x="160" y="1783"/>
                        </a:lnTo>
                        <a:lnTo>
                          <a:pt x="162" y="1787"/>
                        </a:lnTo>
                        <a:lnTo>
                          <a:pt x="166" y="1789"/>
                        </a:lnTo>
                        <a:lnTo>
                          <a:pt x="166" y="1791"/>
                        </a:lnTo>
                        <a:lnTo>
                          <a:pt x="167" y="1794"/>
                        </a:lnTo>
                        <a:lnTo>
                          <a:pt x="169" y="1796"/>
                        </a:lnTo>
                        <a:lnTo>
                          <a:pt x="171" y="1800"/>
                        </a:lnTo>
                        <a:lnTo>
                          <a:pt x="173" y="1802"/>
                        </a:lnTo>
                        <a:lnTo>
                          <a:pt x="175" y="1806"/>
                        </a:lnTo>
                        <a:lnTo>
                          <a:pt x="177" y="1808"/>
                        </a:lnTo>
                        <a:lnTo>
                          <a:pt x="179" y="1812"/>
                        </a:lnTo>
                        <a:lnTo>
                          <a:pt x="181" y="1815"/>
                        </a:lnTo>
                        <a:lnTo>
                          <a:pt x="183" y="1817"/>
                        </a:lnTo>
                        <a:lnTo>
                          <a:pt x="185" y="1821"/>
                        </a:lnTo>
                        <a:lnTo>
                          <a:pt x="188" y="1827"/>
                        </a:lnTo>
                        <a:lnTo>
                          <a:pt x="190" y="1831"/>
                        </a:lnTo>
                        <a:lnTo>
                          <a:pt x="194" y="1836"/>
                        </a:lnTo>
                        <a:lnTo>
                          <a:pt x="198" y="1842"/>
                        </a:lnTo>
                        <a:lnTo>
                          <a:pt x="200" y="1846"/>
                        </a:lnTo>
                        <a:lnTo>
                          <a:pt x="204" y="1850"/>
                        </a:lnTo>
                        <a:lnTo>
                          <a:pt x="205" y="1853"/>
                        </a:lnTo>
                        <a:lnTo>
                          <a:pt x="207" y="1859"/>
                        </a:lnTo>
                        <a:lnTo>
                          <a:pt x="209" y="1861"/>
                        </a:lnTo>
                        <a:lnTo>
                          <a:pt x="211" y="1863"/>
                        </a:lnTo>
                        <a:lnTo>
                          <a:pt x="213" y="1867"/>
                        </a:lnTo>
                        <a:lnTo>
                          <a:pt x="215" y="1869"/>
                        </a:lnTo>
                        <a:lnTo>
                          <a:pt x="217" y="1870"/>
                        </a:lnTo>
                        <a:lnTo>
                          <a:pt x="219" y="1874"/>
                        </a:lnTo>
                        <a:lnTo>
                          <a:pt x="141" y="2163"/>
                        </a:lnTo>
                        <a:lnTo>
                          <a:pt x="143" y="2165"/>
                        </a:lnTo>
                        <a:lnTo>
                          <a:pt x="146" y="2165"/>
                        </a:lnTo>
                        <a:lnTo>
                          <a:pt x="150" y="2167"/>
                        </a:lnTo>
                        <a:lnTo>
                          <a:pt x="152" y="2167"/>
                        </a:lnTo>
                        <a:lnTo>
                          <a:pt x="154" y="2167"/>
                        </a:lnTo>
                        <a:lnTo>
                          <a:pt x="158" y="2167"/>
                        </a:lnTo>
                        <a:lnTo>
                          <a:pt x="162" y="2171"/>
                        </a:lnTo>
                        <a:lnTo>
                          <a:pt x="166" y="2171"/>
                        </a:lnTo>
                        <a:lnTo>
                          <a:pt x="167" y="2173"/>
                        </a:lnTo>
                        <a:lnTo>
                          <a:pt x="171" y="2173"/>
                        </a:lnTo>
                        <a:lnTo>
                          <a:pt x="175" y="2175"/>
                        </a:lnTo>
                        <a:lnTo>
                          <a:pt x="181" y="2175"/>
                        </a:lnTo>
                        <a:lnTo>
                          <a:pt x="185" y="2175"/>
                        </a:lnTo>
                        <a:lnTo>
                          <a:pt x="188" y="2177"/>
                        </a:lnTo>
                        <a:lnTo>
                          <a:pt x="194" y="2180"/>
                        </a:lnTo>
                        <a:lnTo>
                          <a:pt x="198" y="2180"/>
                        </a:lnTo>
                        <a:lnTo>
                          <a:pt x="204" y="2182"/>
                        </a:lnTo>
                        <a:lnTo>
                          <a:pt x="209" y="2182"/>
                        </a:lnTo>
                        <a:lnTo>
                          <a:pt x="215" y="2184"/>
                        </a:lnTo>
                        <a:lnTo>
                          <a:pt x="219" y="2186"/>
                        </a:lnTo>
                        <a:lnTo>
                          <a:pt x="224" y="2188"/>
                        </a:lnTo>
                        <a:lnTo>
                          <a:pt x="232" y="2188"/>
                        </a:lnTo>
                        <a:lnTo>
                          <a:pt x="238" y="2190"/>
                        </a:lnTo>
                        <a:lnTo>
                          <a:pt x="243" y="2190"/>
                        </a:lnTo>
                        <a:lnTo>
                          <a:pt x="251" y="2192"/>
                        </a:lnTo>
                        <a:lnTo>
                          <a:pt x="257" y="2194"/>
                        </a:lnTo>
                        <a:lnTo>
                          <a:pt x="264" y="2194"/>
                        </a:lnTo>
                        <a:lnTo>
                          <a:pt x="270" y="2196"/>
                        </a:lnTo>
                        <a:lnTo>
                          <a:pt x="276" y="2196"/>
                        </a:lnTo>
                        <a:lnTo>
                          <a:pt x="283" y="2197"/>
                        </a:lnTo>
                        <a:lnTo>
                          <a:pt x="291" y="2199"/>
                        </a:lnTo>
                        <a:lnTo>
                          <a:pt x="297" y="2199"/>
                        </a:lnTo>
                        <a:lnTo>
                          <a:pt x="304" y="2199"/>
                        </a:lnTo>
                        <a:lnTo>
                          <a:pt x="312" y="2199"/>
                        </a:lnTo>
                        <a:lnTo>
                          <a:pt x="320" y="2201"/>
                        </a:lnTo>
                        <a:lnTo>
                          <a:pt x="325" y="2201"/>
                        </a:lnTo>
                        <a:lnTo>
                          <a:pt x="333" y="2201"/>
                        </a:lnTo>
                        <a:lnTo>
                          <a:pt x="341" y="2201"/>
                        </a:lnTo>
                        <a:lnTo>
                          <a:pt x="348" y="2201"/>
                        </a:lnTo>
                        <a:lnTo>
                          <a:pt x="356" y="2201"/>
                        </a:lnTo>
                        <a:lnTo>
                          <a:pt x="363" y="2201"/>
                        </a:lnTo>
                        <a:lnTo>
                          <a:pt x="371" y="2201"/>
                        </a:lnTo>
                        <a:lnTo>
                          <a:pt x="379" y="2201"/>
                        </a:lnTo>
                        <a:lnTo>
                          <a:pt x="386" y="2201"/>
                        </a:lnTo>
                        <a:lnTo>
                          <a:pt x="394" y="2201"/>
                        </a:lnTo>
                        <a:lnTo>
                          <a:pt x="401" y="2199"/>
                        </a:lnTo>
                        <a:lnTo>
                          <a:pt x="409" y="2199"/>
                        </a:lnTo>
                        <a:lnTo>
                          <a:pt x="415" y="2197"/>
                        </a:lnTo>
                        <a:lnTo>
                          <a:pt x="422" y="2196"/>
                        </a:lnTo>
                        <a:lnTo>
                          <a:pt x="432" y="2196"/>
                        </a:lnTo>
                        <a:lnTo>
                          <a:pt x="439" y="2194"/>
                        </a:lnTo>
                        <a:lnTo>
                          <a:pt x="447" y="2192"/>
                        </a:lnTo>
                        <a:lnTo>
                          <a:pt x="455" y="2190"/>
                        </a:lnTo>
                        <a:lnTo>
                          <a:pt x="462" y="2188"/>
                        </a:lnTo>
                        <a:lnTo>
                          <a:pt x="470" y="2188"/>
                        </a:lnTo>
                        <a:lnTo>
                          <a:pt x="476" y="2184"/>
                        </a:lnTo>
                        <a:lnTo>
                          <a:pt x="483" y="2182"/>
                        </a:lnTo>
                        <a:lnTo>
                          <a:pt x="491" y="2180"/>
                        </a:lnTo>
                        <a:lnTo>
                          <a:pt x="498" y="2175"/>
                        </a:lnTo>
                        <a:lnTo>
                          <a:pt x="504" y="2173"/>
                        </a:lnTo>
                        <a:lnTo>
                          <a:pt x="512" y="2169"/>
                        </a:lnTo>
                        <a:lnTo>
                          <a:pt x="517" y="2165"/>
                        </a:lnTo>
                        <a:lnTo>
                          <a:pt x="525" y="2161"/>
                        </a:lnTo>
                        <a:lnTo>
                          <a:pt x="531" y="2158"/>
                        </a:lnTo>
                        <a:lnTo>
                          <a:pt x="536" y="2154"/>
                        </a:lnTo>
                        <a:lnTo>
                          <a:pt x="542" y="2150"/>
                        </a:lnTo>
                        <a:lnTo>
                          <a:pt x="550" y="2146"/>
                        </a:lnTo>
                        <a:lnTo>
                          <a:pt x="555" y="2142"/>
                        </a:lnTo>
                        <a:lnTo>
                          <a:pt x="559" y="2137"/>
                        </a:lnTo>
                        <a:lnTo>
                          <a:pt x="565" y="2133"/>
                        </a:lnTo>
                        <a:lnTo>
                          <a:pt x="571" y="2129"/>
                        </a:lnTo>
                        <a:lnTo>
                          <a:pt x="576" y="2123"/>
                        </a:lnTo>
                        <a:lnTo>
                          <a:pt x="582" y="2120"/>
                        </a:lnTo>
                        <a:lnTo>
                          <a:pt x="588" y="2114"/>
                        </a:lnTo>
                        <a:lnTo>
                          <a:pt x="592" y="2110"/>
                        </a:lnTo>
                        <a:lnTo>
                          <a:pt x="595" y="2106"/>
                        </a:lnTo>
                        <a:lnTo>
                          <a:pt x="601" y="2101"/>
                        </a:lnTo>
                        <a:lnTo>
                          <a:pt x="605" y="2095"/>
                        </a:lnTo>
                        <a:lnTo>
                          <a:pt x="611" y="2091"/>
                        </a:lnTo>
                        <a:lnTo>
                          <a:pt x="614" y="2085"/>
                        </a:lnTo>
                        <a:lnTo>
                          <a:pt x="618" y="2080"/>
                        </a:lnTo>
                        <a:lnTo>
                          <a:pt x="624" y="2076"/>
                        </a:lnTo>
                        <a:lnTo>
                          <a:pt x="628" y="2070"/>
                        </a:lnTo>
                        <a:lnTo>
                          <a:pt x="632" y="2064"/>
                        </a:lnTo>
                        <a:lnTo>
                          <a:pt x="635" y="2059"/>
                        </a:lnTo>
                        <a:lnTo>
                          <a:pt x="637" y="2055"/>
                        </a:lnTo>
                        <a:lnTo>
                          <a:pt x="643" y="2049"/>
                        </a:lnTo>
                        <a:lnTo>
                          <a:pt x="645" y="2043"/>
                        </a:lnTo>
                        <a:lnTo>
                          <a:pt x="649" y="2040"/>
                        </a:lnTo>
                        <a:lnTo>
                          <a:pt x="652" y="2034"/>
                        </a:lnTo>
                        <a:lnTo>
                          <a:pt x="654" y="2030"/>
                        </a:lnTo>
                        <a:lnTo>
                          <a:pt x="658" y="2024"/>
                        </a:lnTo>
                        <a:lnTo>
                          <a:pt x="660" y="2021"/>
                        </a:lnTo>
                        <a:lnTo>
                          <a:pt x="664" y="2015"/>
                        </a:lnTo>
                        <a:lnTo>
                          <a:pt x="666" y="2011"/>
                        </a:lnTo>
                        <a:lnTo>
                          <a:pt x="668" y="2005"/>
                        </a:lnTo>
                        <a:lnTo>
                          <a:pt x="672" y="2002"/>
                        </a:lnTo>
                        <a:lnTo>
                          <a:pt x="673" y="1998"/>
                        </a:lnTo>
                        <a:lnTo>
                          <a:pt x="675" y="1992"/>
                        </a:lnTo>
                        <a:lnTo>
                          <a:pt x="677" y="1986"/>
                        </a:lnTo>
                        <a:lnTo>
                          <a:pt x="679" y="1983"/>
                        </a:lnTo>
                        <a:lnTo>
                          <a:pt x="681" y="1979"/>
                        </a:lnTo>
                        <a:lnTo>
                          <a:pt x="683" y="1975"/>
                        </a:lnTo>
                        <a:lnTo>
                          <a:pt x="685" y="1971"/>
                        </a:lnTo>
                        <a:lnTo>
                          <a:pt x="687" y="1969"/>
                        </a:lnTo>
                        <a:lnTo>
                          <a:pt x="689" y="1964"/>
                        </a:lnTo>
                        <a:lnTo>
                          <a:pt x="691" y="1962"/>
                        </a:lnTo>
                        <a:lnTo>
                          <a:pt x="692" y="1958"/>
                        </a:lnTo>
                        <a:lnTo>
                          <a:pt x="692" y="1954"/>
                        </a:lnTo>
                        <a:lnTo>
                          <a:pt x="692" y="1952"/>
                        </a:lnTo>
                        <a:lnTo>
                          <a:pt x="694" y="1950"/>
                        </a:lnTo>
                        <a:lnTo>
                          <a:pt x="696" y="1945"/>
                        </a:lnTo>
                        <a:lnTo>
                          <a:pt x="698" y="1941"/>
                        </a:lnTo>
                        <a:lnTo>
                          <a:pt x="700" y="1937"/>
                        </a:lnTo>
                        <a:lnTo>
                          <a:pt x="700" y="1935"/>
                        </a:lnTo>
                        <a:lnTo>
                          <a:pt x="700" y="1933"/>
                        </a:lnTo>
                        <a:lnTo>
                          <a:pt x="702" y="1933"/>
                        </a:lnTo>
                        <a:lnTo>
                          <a:pt x="740" y="1943"/>
                        </a:lnTo>
                        <a:lnTo>
                          <a:pt x="740" y="1943"/>
                        </a:lnTo>
                        <a:lnTo>
                          <a:pt x="738" y="1945"/>
                        </a:lnTo>
                        <a:lnTo>
                          <a:pt x="738" y="1947"/>
                        </a:lnTo>
                        <a:lnTo>
                          <a:pt x="738" y="1950"/>
                        </a:lnTo>
                        <a:lnTo>
                          <a:pt x="738" y="1954"/>
                        </a:lnTo>
                        <a:lnTo>
                          <a:pt x="738" y="1958"/>
                        </a:lnTo>
                        <a:lnTo>
                          <a:pt x="736" y="1962"/>
                        </a:lnTo>
                        <a:lnTo>
                          <a:pt x="736" y="1964"/>
                        </a:lnTo>
                        <a:lnTo>
                          <a:pt x="736" y="1967"/>
                        </a:lnTo>
                        <a:lnTo>
                          <a:pt x="736" y="1971"/>
                        </a:lnTo>
                        <a:lnTo>
                          <a:pt x="736" y="1975"/>
                        </a:lnTo>
                        <a:lnTo>
                          <a:pt x="736" y="1979"/>
                        </a:lnTo>
                        <a:lnTo>
                          <a:pt x="736" y="1983"/>
                        </a:lnTo>
                        <a:lnTo>
                          <a:pt x="736" y="1985"/>
                        </a:lnTo>
                        <a:lnTo>
                          <a:pt x="736" y="1990"/>
                        </a:lnTo>
                        <a:lnTo>
                          <a:pt x="736" y="1994"/>
                        </a:lnTo>
                        <a:lnTo>
                          <a:pt x="736" y="1998"/>
                        </a:lnTo>
                        <a:lnTo>
                          <a:pt x="736" y="2004"/>
                        </a:lnTo>
                        <a:lnTo>
                          <a:pt x="736" y="2007"/>
                        </a:lnTo>
                        <a:lnTo>
                          <a:pt x="736" y="2013"/>
                        </a:lnTo>
                        <a:lnTo>
                          <a:pt x="736" y="2015"/>
                        </a:lnTo>
                        <a:lnTo>
                          <a:pt x="736" y="2021"/>
                        </a:lnTo>
                        <a:lnTo>
                          <a:pt x="736" y="2026"/>
                        </a:lnTo>
                        <a:lnTo>
                          <a:pt x="736" y="2030"/>
                        </a:lnTo>
                        <a:lnTo>
                          <a:pt x="736" y="2036"/>
                        </a:lnTo>
                        <a:lnTo>
                          <a:pt x="736" y="2042"/>
                        </a:lnTo>
                        <a:lnTo>
                          <a:pt x="736" y="2047"/>
                        </a:lnTo>
                        <a:lnTo>
                          <a:pt x="738" y="2051"/>
                        </a:lnTo>
                        <a:lnTo>
                          <a:pt x="738" y="2057"/>
                        </a:lnTo>
                        <a:lnTo>
                          <a:pt x="738" y="2062"/>
                        </a:lnTo>
                        <a:lnTo>
                          <a:pt x="740" y="2066"/>
                        </a:lnTo>
                        <a:lnTo>
                          <a:pt x="740" y="2072"/>
                        </a:lnTo>
                        <a:lnTo>
                          <a:pt x="742" y="2078"/>
                        </a:lnTo>
                        <a:lnTo>
                          <a:pt x="744" y="2083"/>
                        </a:lnTo>
                        <a:lnTo>
                          <a:pt x="744" y="2091"/>
                        </a:lnTo>
                        <a:lnTo>
                          <a:pt x="746" y="2095"/>
                        </a:lnTo>
                        <a:lnTo>
                          <a:pt x="748" y="2101"/>
                        </a:lnTo>
                        <a:lnTo>
                          <a:pt x="748" y="2106"/>
                        </a:lnTo>
                        <a:lnTo>
                          <a:pt x="751" y="2110"/>
                        </a:lnTo>
                        <a:lnTo>
                          <a:pt x="753" y="2118"/>
                        </a:lnTo>
                        <a:lnTo>
                          <a:pt x="753" y="2123"/>
                        </a:lnTo>
                        <a:lnTo>
                          <a:pt x="757" y="2129"/>
                        </a:lnTo>
                        <a:lnTo>
                          <a:pt x="759" y="2135"/>
                        </a:lnTo>
                        <a:lnTo>
                          <a:pt x="761" y="2139"/>
                        </a:lnTo>
                        <a:lnTo>
                          <a:pt x="765" y="2144"/>
                        </a:lnTo>
                        <a:lnTo>
                          <a:pt x="767" y="2150"/>
                        </a:lnTo>
                        <a:lnTo>
                          <a:pt x="769" y="2156"/>
                        </a:lnTo>
                        <a:lnTo>
                          <a:pt x="772" y="2159"/>
                        </a:lnTo>
                        <a:lnTo>
                          <a:pt x="776" y="2165"/>
                        </a:lnTo>
                        <a:lnTo>
                          <a:pt x="780" y="2171"/>
                        </a:lnTo>
                        <a:lnTo>
                          <a:pt x="782" y="2175"/>
                        </a:lnTo>
                        <a:lnTo>
                          <a:pt x="786" y="2180"/>
                        </a:lnTo>
                        <a:lnTo>
                          <a:pt x="789" y="2186"/>
                        </a:lnTo>
                        <a:lnTo>
                          <a:pt x="795" y="2190"/>
                        </a:lnTo>
                        <a:lnTo>
                          <a:pt x="799" y="2196"/>
                        </a:lnTo>
                        <a:lnTo>
                          <a:pt x="805" y="2201"/>
                        </a:lnTo>
                        <a:lnTo>
                          <a:pt x="808" y="2205"/>
                        </a:lnTo>
                        <a:lnTo>
                          <a:pt x="814" y="2209"/>
                        </a:lnTo>
                        <a:lnTo>
                          <a:pt x="818" y="2213"/>
                        </a:lnTo>
                        <a:lnTo>
                          <a:pt x="824" y="2216"/>
                        </a:lnTo>
                        <a:lnTo>
                          <a:pt x="828" y="2222"/>
                        </a:lnTo>
                        <a:lnTo>
                          <a:pt x="833" y="2224"/>
                        </a:lnTo>
                        <a:lnTo>
                          <a:pt x="839" y="2228"/>
                        </a:lnTo>
                        <a:lnTo>
                          <a:pt x="845" y="2232"/>
                        </a:lnTo>
                        <a:lnTo>
                          <a:pt x="848" y="2235"/>
                        </a:lnTo>
                        <a:lnTo>
                          <a:pt x="854" y="2239"/>
                        </a:lnTo>
                        <a:lnTo>
                          <a:pt x="858" y="2243"/>
                        </a:lnTo>
                        <a:lnTo>
                          <a:pt x="864" y="2245"/>
                        </a:lnTo>
                        <a:lnTo>
                          <a:pt x="867" y="2249"/>
                        </a:lnTo>
                        <a:lnTo>
                          <a:pt x="873" y="2253"/>
                        </a:lnTo>
                        <a:lnTo>
                          <a:pt x="877" y="2256"/>
                        </a:lnTo>
                        <a:lnTo>
                          <a:pt x="883" y="2258"/>
                        </a:lnTo>
                        <a:lnTo>
                          <a:pt x="890" y="2260"/>
                        </a:lnTo>
                        <a:lnTo>
                          <a:pt x="896" y="2264"/>
                        </a:lnTo>
                        <a:lnTo>
                          <a:pt x="900" y="2266"/>
                        </a:lnTo>
                        <a:lnTo>
                          <a:pt x="904" y="2268"/>
                        </a:lnTo>
                        <a:lnTo>
                          <a:pt x="907" y="2270"/>
                        </a:lnTo>
                        <a:lnTo>
                          <a:pt x="913" y="2273"/>
                        </a:lnTo>
                        <a:lnTo>
                          <a:pt x="919" y="2275"/>
                        </a:lnTo>
                        <a:lnTo>
                          <a:pt x="925" y="2277"/>
                        </a:lnTo>
                        <a:lnTo>
                          <a:pt x="928" y="2279"/>
                        </a:lnTo>
                        <a:lnTo>
                          <a:pt x="934" y="2281"/>
                        </a:lnTo>
                        <a:lnTo>
                          <a:pt x="938" y="2283"/>
                        </a:lnTo>
                        <a:lnTo>
                          <a:pt x="942" y="2285"/>
                        </a:lnTo>
                        <a:lnTo>
                          <a:pt x="947" y="2287"/>
                        </a:lnTo>
                        <a:lnTo>
                          <a:pt x="951" y="2289"/>
                        </a:lnTo>
                        <a:lnTo>
                          <a:pt x="955" y="2289"/>
                        </a:lnTo>
                        <a:lnTo>
                          <a:pt x="961" y="2291"/>
                        </a:lnTo>
                        <a:lnTo>
                          <a:pt x="964" y="2291"/>
                        </a:lnTo>
                        <a:lnTo>
                          <a:pt x="968" y="2294"/>
                        </a:lnTo>
                        <a:lnTo>
                          <a:pt x="972" y="2294"/>
                        </a:lnTo>
                        <a:lnTo>
                          <a:pt x="978" y="2294"/>
                        </a:lnTo>
                        <a:lnTo>
                          <a:pt x="982" y="2296"/>
                        </a:lnTo>
                        <a:lnTo>
                          <a:pt x="985" y="2296"/>
                        </a:lnTo>
                        <a:lnTo>
                          <a:pt x="989" y="2296"/>
                        </a:lnTo>
                        <a:lnTo>
                          <a:pt x="993" y="2298"/>
                        </a:lnTo>
                        <a:lnTo>
                          <a:pt x="997" y="2298"/>
                        </a:lnTo>
                        <a:lnTo>
                          <a:pt x="1001" y="2298"/>
                        </a:lnTo>
                        <a:lnTo>
                          <a:pt x="1004" y="2298"/>
                        </a:lnTo>
                        <a:lnTo>
                          <a:pt x="1008" y="2300"/>
                        </a:lnTo>
                        <a:lnTo>
                          <a:pt x="1010" y="2300"/>
                        </a:lnTo>
                        <a:lnTo>
                          <a:pt x="1014" y="2300"/>
                        </a:lnTo>
                        <a:lnTo>
                          <a:pt x="1016" y="2300"/>
                        </a:lnTo>
                        <a:lnTo>
                          <a:pt x="1020" y="2300"/>
                        </a:lnTo>
                        <a:lnTo>
                          <a:pt x="1022" y="2300"/>
                        </a:lnTo>
                        <a:lnTo>
                          <a:pt x="1025" y="2302"/>
                        </a:lnTo>
                        <a:lnTo>
                          <a:pt x="1029" y="2300"/>
                        </a:lnTo>
                        <a:lnTo>
                          <a:pt x="1035" y="2300"/>
                        </a:lnTo>
                        <a:lnTo>
                          <a:pt x="1039" y="2298"/>
                        </a:lnTo>
                        <a:lnTo>
                          <a:pt x="1042" y="2298"/>
                        </a:lnTo>
                        <a:lnTo>
                          <a:pt x="1044" y="2296"/>
                        </a:lnTo>
                        <a:lnTo>
                          <a:pt x="1048" y="2296"/>
                        </a:lnTo>
                        <a:lnTo>
                          <a:pt x="1048" y="2294"/>
                        </a:lnTo>
                        <a:lnTo>
                          <a:pt x="1050" y="2294"/>
                        </a:lnTo>
                        <a:lnTo>
                          <a:pt x="1246" y="1334"/>
                        </a:lnTo>
                        <a:lnTo>
                          <a:pt x="1246" y="1333"/>
                        </a:lnTo>
                        <a:lnTo>
                          <a:pt x="1248" y="1331"/>
                        </a:lnTo>
                        <a:lnTo>
                          <a:pt x="1250" y="1327"/>
                        </a:lnTo>
                        <a:lnTo>
                          <a:pt x="1252" y="1325"/>
                        </a:lnTo>
                        <a:lnTo>
                          <a:pt x="1252" y="1323"/>
                        </a:lnTo>
                        <a:lnTo>
                          <a:pt x="1254" y="1319"/>
                        </a:lnTo>
                        <a:lnTo>
                          <a:pt x="1256" y="1315"/>
                        </a:lnTo>
                        <a:lnTo>
                          <a:pt x="1259" y="1312"/>
                        </a:lnTo>
                        <a:lnTo>
                          <a:pt x="1259" y="1306"/>
                        </a:lnTo>
                        <a:lnTo>
                          <a:pt x="1263" y="1302"/>
                        </a:lnTo>
                        <a:lnTo>
                          <a:pt x="1265" y="1296"/>
                        </a:lnTo>
                        <a:lnTo>
                          <a:pt x="1269" y="1293"/>
                        </a:lnTo>
                        <a:lnTo>
                          <a:pt x="1271" y="1285"/>
                        </a:lnTo>
                        <a:lnTo>
                          <a:pt x="1275" y="1281"/>
                        </a:lnTo>
                        <a:lnTo>
                          <a:pt x="1276" y="1274"/>
                        </a:lnTo>
                        <a:lnTo>
                          <a:pt x="1280" y="1266"/>
                        </a:lnTo>
                        <a:lnTo>
                          <a:pt x="1284" y="1258"/>
                        </a:lnTo>
                        <a:lnTo>
                          <a:pt x="1288" y="1249"/>
                        </a:lnTo>
                        <a:lnTo>
                          <a:pt x="1290" y="1241"/>
                        </a:lnTo>
                        <a:lnTo>
                          <a:pt x="1294" y="1234"/>
                        </a:lnTo>
                        <a:lnTo>
                          <a:pt x="1297" y="1224"/>
                        </a:lnTo>
                        <a:lnTo>
                          <a:pt x="1301" y="1217"/>
                        </a:lnTo>
                        <a:lnTo>
                          <a:pt x="1305" y="1207"/>
                        </a:lnTo>
                        <a:lnTo>
                          <a:pt x="1309" y="1198"/>
                        </a:lnTo>
                        <a:lnTo>
                          <a:pt x="1313" y="1188"/>
                        </a:lnTo>
                        <a:lnTo>
                          <a:pt x="1316" y="1177"/>
                        </a:lnTo>
                        <a:lnTo>
                          <a:pt x="1320" y="1165"/>
                        </a:lnTo>
                        <a:lnTo>
                          <a:pt x="1324" y="1154"/>
                        </a:lnTo>
                        <a:lnTo>
                          <a:pt x="1330" y="1144"/>
                        </a:lnTo>
                        <a:lnTo>
                          <a:pt x="1334" y="1133"/>
                        </a:lnTo>
                        <a:lnTo>
                          <a:pt x="1337" y="1122"/>
                        </a:lnTo>
                        <a:lnTo>
                          <a:pt x="1339" y="1108"/>
                        </a:lnTo>
                        <a:lnTo>
                          <a:pt x="1345" y="1097"/>
                        </a:lnTo>
                        <a:lnTo>
                          <a:pt x="1349" y="1084"/>
                        </a:lnTo>
                        <a:lnTo>
                          <a:pt x="1353" y="1070"/>
                        </a:lnTo>
                        <a:lnTo>
                          <a:pt x="1354" y="1059"/>
                        </a:lnTo>
                        <a:lnTo>
                          <a:pt x="1358" y="1044"/>
                        </a:lnTo>
                        <a:lnTo>
                          <a:pt x="1362" y="1032"/>
                        </a:lnTo>
                        <a:lnTo>
                          <a:pt x="1366" y="1017"/>
                        </a:lnTo>
                        <a:lnTo>
                          <a:pt x="1370" y="1004"/>
                        </a:lnTo>
                        <a:lnTo>
                          <a:pt x="1372" y="988"/>
                        </a:lnTo>
                        <a:lnTo>
                          <a:pt x="1375" y="975"/>
                        </a:lnTo>
                        <a:lnTo>
                          <a:pt x="1377" y="960"/>
                        </a:lnTo>
                        <a:lnTo>
                          <a:pt x="1381" y="947"/>
                        </a:lnTo>
                        <a:lnTo>
                          <a:pt x="1383" y="931"/>
                        </a:lnTo>
                        <a:lnTo>
                          <a:pt x="1387" y="916"/>
                        </a:lnTo>
                        <a:lnTo>
                          <a:pt x="1389" y="901"/>
                        </a:lnTo>
                        <a:lnTo>
                          <a:pt x="1391" y="886"/>
                        </a:lnTo>
                        <a:lnTo>
                          <a:pt x="1392" y="871"/>
                        </a:lnTo>
                        <a:lnTo>
                          <a:pt x="1394" y="855"/>
                        </a:lnTo>
                        <a:lnTo>
                          <a:pt x="1396" y="838"/>
                        </a:lnTo>
                        <a:lnTo>
                          <a:pt x="1398" y="823"/>
                        </a:lnTo>
                        <a:lnTo>
                          <a:pt x="1398" y="806"/>
                        </a:lnTo>
                        <a:lnTo>
                          <a:pt x="1400" y="791"/>
                        </a:lnTo>
                        <a:lnTo>
                          <a:pt x="1402" y="774"/>
                        </a:lnTo>
                        <a:lnTo>
                          <a:pt x="1402" y="757"/>
                        </a:lnTo>
                        <a:lnTo>
                          <a:pt x="1402" y="741"/>
                        </a:lnTo>
                        <a:lnTo>
                          <a:pt x="1402" y="724"/>
                        </a:lnTo>
                        <a:lnTo>
                          <a:pt x="1402" y="705"/>
                        </a:lnTo>
                        <a:lnTo>
                          <a:pt x="1402" y="690"/>
                        </a:lnTo>
                        <a:lnTo>
                          <a:pt x="1400" y="673"/>
                        </a:lnTo>
                        <a:lnTo>
                          <a:pt x="1400" y="656"/>
                        </a:lnTo>
                        <a:lnTo>
                          <a:pt x="1398" y="654"/>
                        </a:lnTo>
                        <a:lnTo>
                          <a:pt x="1398" y="652"/>
                        </a:lnTo>
                        <a:lnTo>
                          <a:pt x="1398" y="648"/>
                        </a:lnTo>
                        <a:lnTo>
                          <a:pt x="1398" y="644"/>
                        </a:lnTo>
                        <a:lnTo>
                          <a:pt x="1398" y="643"/>
                        </a:lnTo>
                        <a:lnTo>
                          <a:pt x="1398" y="639"/>
                        </a:lnTo>
                        <a:lnTo>
                          <a:pt x="1396" y="637"/>
                        </a:lnTo>
                        <a:lnTo>
                          <a:pt x="1396" y="633"/>
                        </a:lnTo>
                        <a:lnTo>
                          <a:pt x="1396" y="631"/>
                        </a:lnTo>
                        <a:lnTo>
                          <a:pt x="1396" y="627"/>
                        </a:lnTo>
                        <a:lnTo>
                          <a:pt x="1396" y="623"/>
                        </a:lnTo>
                        <a:lnTo>
                          <a:pt x="1394" y="620"/>
                        </a:lnTo>
                        <a:lnTo>
                          <a:pt x="1394" y="618"/>
                        </a:lnTo>
                        <a:lnTo>
                          <a:pt x="1394" y="616"/>
                        </a:lnTo>
                        <a:lnTo>
                          <a:pt x="1392" y="612"/>
                        </a:lnTo>
                        <a:lnTo>
                          <a:pt x="1392" y="610"/>
                        </a:lnTo>
                        <a:lnTo>
                          <a:pt x="1392" y="608"/>
                        </a:lnTo>
                        <a:lnTo>
                          <a:pt x="1391" y="604"/>
                        </a:lnTo>
                        <a:lnTo>
                          <a:pt x="1391" y="603"/>
                        </a:lnTo>
                        <a:lnTo>
                          <a:pt x="1391" y="599"/>
                        </a:lnTo>
                        <a:lnTo>
                          <a:pt x="1389" y="597"/>
                        </a:lnTo>
                        <a:lnTo>
                          <a:pt x="1389" y="593"/>
                        </a:lnTo>
                        <a:lnTo>
                          <a:pt x="1389" y="589"/>
                        </a:lnTo>
                        <a:lnTo>
                          <a:pt x="1389" y="587"/>
                        </a:lnTo>
                        <a:lnTo>
                          <a:pt x="1387" y="585"/>
                        </a:lnTo>
                        <a:lnTo>
                          <a:pt x="1385" y="582"/>
                        </a:lnTo>
                        <a:lnTo>
                          <a:pt x="1385" y="580"/>
                        </a:lnTo>
                        <a:lnTo>
                          <a:pt x="1383" y="578"/>
                        </a:lnTo>
                        <a:lnTo>
                          <a:pt x="1383" y="572"/>
                        </a:lnTo>
                        <a:lnTo>
                          <a:pt x="1381" y="568"/>
                        </a:lnTo>
                        <a:lnTo>
                          <a:pt x="1377" y="563"/>
                        </a:lnTo>
                        <a:lnTo>
                          <a:pt x="1375" y="557"/>
                        </a:lnTo>
                        <a:lnTo>
                          <a:pt x="1373" y="553"/>
                        </a:lnTo>
                        <a:lnTo>
                          <a:pt x="1370" y="547"/>
                        </a:lnTo>
                        <a:lnTo>
                          <a:pt x="1366" y="544"/>
                        </a:lnTo>
                        <a:lnTo>
                          <a:pt x="1364" y="540"/>
                        </a:lnTo>
                        <a:lnTo>
                          <a:pt x="1360" y="536"/>
                        </a:lnTo>
                        <a:lnTo>
                          <a:pt x="1356" y="532"/>
                        </a:lnTo>
                        <a:lnTo>
                          <a:pt x="1353" y="528"/>
                        </a:lnTo>
                        <a:lnTo>
                          <a:pt x="1349" y="525"/>
                        </a:lnTo>
                        <a:lnTo>
                          <a:pt x="1345" y="523"/>
                        </a:lnTo>
                        <a:lnTo>
                          <a:pt x="1339" y="521"/>
                        </a:lnTo>
                        <a:lnTo>
                          <a:pt x="1335" y="517"/>
                        </a:lnTo>
                        <a:lnTo>
                          <a:pt x="1332" y="515"/>
                        </a:lnTo>
                        <a:lnTo>
                          <a:pt x="1326" y="515"/>
                        </a:lnTo>
                        <a:lnTo>
                          <a:pt x="1322" y="513"/>
                        </a:lnTo>
                        <a:lnTo>
                          <a:pt x="1318" y="511"/>
                        </a:lnTo>
                        <a:lnTo>
                          <a:pt x="1316" y="511"/>
                        </a:lnTo>
                        <a:lnTo>
                          <a:pt x="1313" y="511"/>
                        </a:lnTo>
                        <a:lnTo>
                          <a:pt x="1311" y="511"/>
                        </a:lnTo>
                        <a:lnTo>
                          <a:pt x="1309" y="509"/>
                        </a:lnTo>
                        <a:lnTo>
                          <a:pt x="1305" y="509"/>
                        </a:lnTo>
                        <a:lnTo>
                          <a:pt x="1303" y="509"/>
                        </a:lnTo>
                        <a:lnTo>
                          <a:pt x="1301" y="509"/>
                        </a:lnTo>
                        <a:lnTo>
                          <a:pt x="1297" y="509"/>
                        </a:lnTo>
                        <a:lnTo>
                          <a:pt x="1295" y="509"/>
                        </a:lnTo>
                        <a:lnTo>
                          <a:pt x="1292" y="509"/>
                        </a:lnTo>
                        <a:lnTo>
                          <a:pt x="1290" y="509"/>
                        </a:lnTo>
                        <a:lnTo>
                          <a:pt x="1284" y="509"/>
                        </a:lnTo>
                        <a:lnTo>
                          <a:pt x="1280" y="509"/>
                        </a:lnTo>
                        <a:lnTo>
                          <a:pt x="1275" y="509"/>
                        </a:lnTo>
                        <a:lnTo>
                          <a:pt x="1269" y="509"/>
                        </a:lnTo>
                        <a:lnTo>
                          <a:pt x="1265" y="509"/>
                        </a:lnTo>
                        <a:lnTo>
                          <a:pt x="1259" y="509"/>
                        </a:lnTo>
                        <a:lnTo>
                          <a:pt x="1256" y="511"/>
                        </a:lnTo>
                        <a:lnTo>
                          <a:pt x="1252" y="511"/>
                        </a:lnTo>
                        <a:lnTo>
                          <a:pt x="1246" y="515"/>
                        </a:lnTo>
                        <a:lnTo>
                          <a:pt x="1242" y="515"/>
                        </a:lnTo>
                        <a:lnTo>
                          <a:pt x="1238" y="517"/>
                        </a:lnTo>
                        <a:lnTo>
                          <a:pt x="1235" y="521"/>
                        </a:lnTo>
                        <a:lnTo>
                          <a:pt x="1231" y="523"/>
                        </a:lnTo>
                        <a:lnTo>
                          <a:pt x="1229" y="525"/>
                        </a:lnTo>
                        <a:lnTo>
                          <a:pt x="1225" y="527"/>
                        </a:lnTo>
                        <a:lnTo>
                          <a:pt x="1221" y="530"/>
                        </a:lnTo>
                        <a:lnTo>
                          <a:pt x="1219" y="532"/>
                        </a:lnTo>
                        <a:lnTo>
                          <a:pt x="1216" y="538"/>
                        </a:lnTo>
                        <a:lnTo>
                          <a:pt x="1214" y="542"/>
                        </a:lnTo>
                        <a:lnTo>
                          <a:pt x="1212" y="546"/>
                        </a:lnTo>
                        <a:lnTo>
                          <a:pt x="1210" y="549"/>
                        </a:lnTo>
                        <a:lnTo>
                          <a:pt x="1208" y="555"/>
                        </a:lnTo>
                        <a:lnTo>
                          <a:pt x="1208" y="557"/>
                        </a:lnTo>
                        <a:lnTo>
                          <a:pt x="1206" y="559"/>
                        </a:lnTo>
                        <a:lnTo>
                          <a:pt x="1204" y="561"/>
                        </a:lnTo>
                        <a:lnTo>
                          <a:pt x="1204" y="565"/>
                        </a:lnTo>
                        <a:lnTo>
                          <a:pt x="1204" y="566"/>
                        </a:lnTo>
                        <a:lnTo>
                          <a:pt x="1204" y="570"/>
                        </a:lnTo>
                        <a:lnTo>
                          <a:pt x="1204" y="572"/>
                        </a:lnTo>
                        <a:lnTo>
                          <a:pt x="1204" y="576"/>
                        </a:lnTo>
                        <a:lnTo>
                          <a:pt x="1139" y="895"/>
                        </a:lnTo>
                        <a:lnTo>
                          <a:pt x="1136" y="893"/>
                        </a:lnTo>
                        <a:lnTo>
                          <a:pt x="1132" y="892"/>
                        </a:lnTo>
                        <a:lnTo>
                          <a:pt x="1126" y="888"/>
                        </a:lnTo>
                        <a:lnTo>
                          <a:pt x="1122" y="886"/>
                        </a:lnTo>
                        <a:lnTo>
                          <a:pt x="1117" y="884"/>
                        </a:lnTo>
                        <a:lnTo>
                          <a:pt x="1113" y="880"/>
                        </a:lnTo>
                        <a:lnTo>
                          <a:pt x="1107" y="878"/>
                        </a:lnTo>
                        <a:lnTo>
                          <a:pt x="1105" y="876"/>
                        </a:lnTo>
                        <a:lnTo>
                          <a:pt x="1227" y="316"/>
                        </a:lnTo>
                        <a:lnTo>
                          <a:pt x="1227" y="312"/>
                        </a:lnTo>
                        <a:lnTo>
                          <a:pt x="1227" y="308"/>
                        </a:lnTo>
                        <a:lnTo>
                          <a:pt x="1229" y="306"/>
                        </a:lnTo>
                        <a:lnTo>
                          <a:pt x="1229" y="304"/>
                        </a:lnTo>
                        <a:lnTo>
                          <a:pt x="1229" y="300"/>
                        </a:lnTo>
                        <a:lnTo>
                          <a:pt x="1229" y="298"/>
                        </a:lnTo>
                        <a:lnTo>
                          <a:pt x="1229" y="295"/>
                        </a:lnTo>
                        <a:lnTo>
                          <a:pt x="1229" y="293"/>
                        </a:lnTo>
                        <a:lnTo>
                          <a:pt x="1229" y="291"/>
                        </a:lnTo>
                        <a:lnTo>
                          <a:pt x="1229" y="287"/>
                        </a:lnTo>
                        <a:lnTo>
                          <a:pt x="1229" y="285"/>
                        </a:lnTo>
                        <a:lnTo>
                          <a:pt x="1229" y="283"/>
                        </a:lnTo>
                        <a:lnTo>
                          <a:pt x="1229" y="278"/>
                        </a:lnTo>
                        <a:lnTo>
                          <a:pt x="1227" y="272"/>
                        </a:lnTo>
                        <a:lnTo>
                          <a:pt x="1225" y="268"/>
                        </a:lnTo>
                        <a:lnTo>
                          <a:pt x="1225" y="262"/>
                        </a:lnTo>
                        <a:lnTo>
                          <a:pt x="1223" y="257"/>
                        </a:lnTo>
                        <a:lnTo>
                          <a:pt x="1221" y="253"/>
                        </a:lnTo>
                        <a:lnTo>
                          <a:pt x="1219" y="247"/>
                        </a:lnTo>
                        <a:lnTo>
                          <a:pt x="1217" y="243"/>
                        </a:lnTo>
                        <a:lnTo>
                          <a:pt x="1216" y="240"/>
                        </a:lnTo>
                        <a:lnTo>
                          <a:pt x="1214" y="236"/>
                        </a:lnTo>
                        <a:lnTo>
                          <a:pt x="1210" y="232"/>
                        </a:lnTo>
                        <a:lnTo>
                          <a:pt x="1206" y="226"/>
                        </a:lnTo>
                        <a:lnTo>
                          <a:pt x="1202" y="222"/>
                        </a:lnTo>
                        <a:lnTo>
                          <a:pt x="1200" y="219"/>
                        </a:lnTo>
                        <a:lnTo>
                          <a:pt x="1197" y="215"/>
                        </a:lnTo>
                        <a:lnTo>
                          <a:pt x="1193" y="211"/>
                        </a:lnTo>
                        <a:lnTo>
                          <a:pt x="1189" y="207"/>
                        </a:lnTo>
                        <a:lnTo>
                          <a:pt x="1185" y="205"/>
                        </a:lnTo>
                        <a:lnTo>
                          <a:pt x="1179" y="203"/>
                        </a:lnTo>
                        <a:lnTo>
                          <a:pt x="1176" y="200"/>
                        </a:lnTo>
                        <a:lnTo>
                          <a:pt x="1172" y="198"/>
                        </a:lnTo>
                        <a:lnTo>
                          <a:pt x="1166" y="194"/>
                        </a:lnTo>
                        <a:lnTo>
                          <a:pt x="1160" y="192"/>
                        </a:lnTo>
                        <a:lnTo>
                          <a:pt x="1157" y="192"/>
                        </a:lnTo>
                        <a:lnTo>
                          <a:pt x="1151" y="190"/>
                        </a:lnTo>
                        <a:lnTo>
                          <a:pt x="1147" y="190"/>
                        </a:lnTo>
                        <a:lnTo>
                          <a:pt x="1143" y="188"/>
                        </a:lnTo>
                        <a:lnTo>
                          <a:pt x="1141" y="186"/>
                        </a:lnTo>
                        <a:lnTo>
                          <a:pt x="1138" y="186"/>
                        </a:lnTo>
                        <a:lnTo>
                          <a:pt x="1136" y="186"/>
                        </a:lnTo>
                        <a:lnTo>
                          <a:pt x="1134" y="186"/>
                        </a:lnTo>
                        <a:lnTo>
                          <a:pt x="1130" y="186"/>
                        </a:lnTo>
                        <a:lnTo>
                          <a:pt x="1128" y="186"/>
                        </a:lnTo>
                        <a:lnTo>
                          <a:pt x="1124" y="186"/>
                        </a:lnTo>
                        <a:lnTo>
                          <a:pt x="1122" y="186"/>
                        </a:lnTo>
                        <a:lnTo>
                          <a:pt x="1120" y="186"/>
                        </a:lnTo>
                        <a:lnTo>
                          <a:pt x="1117" y="186"/>
                        </a:lnTo>
                        <a:lnTo>
                          <a:pt x="1115" y="186"/>
                        </a:lnTo>
                        <a:lnTo>
                          <a:pt x="1109" y="186"/>
                        </a:lnTo>
                        <a:lnTo>
                          <a:pt x="1105" y="188"/>
                        </a:lnTo>
                        <a:lnTo>
                          <a:pt x="1100" y="188"/>
                        </a:lnTo>
                        <a:lnTo>
                          <a:pt x="1094" y="190"/>
                        </a:lnTo>
                        <a:lnTo>
                          <a:pt x="1090" y="192"/>
                        </a:lnTo>
                        <a:lnTo>
                          <a:pt x="1086" y="192"/>
                        </a:lnTo>
                        <a:lnTo>
                          <a:pt x="1081" y="194"/>
                        </a:lnTo>
                        <a:lnTo>
                          <a:pt x="1077" y="198"/>
                        </a:lnTo>
                        <a:lnTo>
                          <a:pt x="1073" y="200"/>
                        </a:lnTo>
                        <a:lnTo>
                          <a:pt x="1067" y="203"/>
                        </a:lnTo>
                        <a:lnTo>
                          <a:pt x="1063" y="205"/>
                        </a:lnTo>
                        <a:lnTo>
                          <a:pt x="1058" y="207"/>
                        </a:lnTo>
                        <a:lnTo>
                          <a:pt x="1054" y="211"/>
                        </a:lnTo>
                        <a:lnTo>
                          <a:pt x="1050" y="215"/>
                        </a:lnTo>
                        <a:lnTo>
                          <a:pt x="1048" y="219"/>
                        </a:lnTo>
                        <a:lnTo>
                          <a:pt x="1044" y="222"/>
                        </a:lnTo>
                        <a:lnTo>
                          <a:pt x="1041" y="226"/>
                        </a:lnTo>
                        <a:lnTo>
                          <a:pt x="1039" y="232"/>
                        </a:lnTo>
                        <a:lnTo>
                          <a:pt x="1035" y="234"/>
                        </a:lnTo>
                        <a:lnTo>
                          <a:pt x="1033" y="240"/>
                        </a:lnTo>
                        <a:lnTo>
                          <a:pt x="1029" y="243"/>
                        </a:lnTo>
                        <a:lnTo>
                          <a:pt x="1027" y="249"/>
                        </a:lnTo>
                        <a:lnTo>
                          <a:pt x="1025" y="253"/>
                        </a:lnTo>
                        <a:lnTo>
                          <a:pt x="1023" y="259"/>
                        </a:lnTo>
                        <a:lnTo>
                          <a:pt x="1022" y="260"/>
                        </a:lnTo>
                        <a:lnTo>
                          <a:pt x="1022" y="264"/>
                        </a:lnTo>
                        <a:lnTo>
                          <a:pt x="1022" y="266"/>
                        </a:lnTo>
                        <a:lnTo>
                          <a:pt x="1022" y="270"/>
                        </a:lnTo>
                        <a:lnTo>
                          <a:pt x="919" y="730"/>
                        </a:lnTo>
                        <a:lnTo>
                          <a:pt x="915" y="728"/>
                        </a:lnTo>
                        <a:lnTo>
                          <a:pt x="913" y="726"/>
                        </a:lnTo>
                        <a:lnTo>
                          <a:pt x="907" y="724"/>
                        </a:lnTo>
                        <a:lnTo>
                          <a:pt x="905" y="720"/>
                        </a:lnTo>
                        <a:lnTo>
                          <a:pt x="904" y="719"/>
                        </a:lnTo>
                        <a:lnTo>
                          <a:pt x="900" y="717"/>
                        </a:lnTo>
                        <a:lnTo>
                          <a:pt x="896" y="713"/>
                        </a:lnTo>
                        <a:lnTo>
                          <a:pt x="892" y="713"/>
                        </a:lnTo>
                        <a:lnTo>
                          <a:pt x="1022" y="129"/>
                        </a:lnTo>
                        <a:lnTo>
                          <a:pt x="1022" y="125"/>
                        </a:lnTo>
                        <a:lnTo>
                          <a:pt x="1022" y="124"/>
                        </a:lnTo>
                        <a:lnTo>
                          <a:pt x="1022" y="120"/>
                        </a:lnTo>
                        <a:lnTo>
                          <a:pt x="1022" y="118"/>
                        </a:lnTo>
                        <a:lnTo>
                          <a:pt x="1022" y="114"/>
                        </a:lnTo>
                        <a:lnTo>
                          <a:pt x="1022" y="112"/>
                        </a:lnTo>
                        <a:lnTo>
                          <a:pt x="1022" y="110"/>
                        </a:lnTo>
                        <a:lnTo>
                          <a:pt x="1022" y="106"/>
                        </a:lnTo>
                        <a:lnTo>
                          <a:pt x="1022" y="105"/>
                        </a:lnTo>
                        <a:lnTo>
                          <a:pt x="1022" y="103"/>
                        </a:lnTo>
                        <a:lnTo>
                          <a:pt x="1022" y="99"/>
                        </a:lnTo>
                        <a:lnTo>
                          <a:pt x="1022" y="97"/>
                        </a:lnTo>
                        <a:lnTo>
                          <a:pt x="1022" y="91"/>
                        </a:lnTo>
                        <a:lnTo>
                          <a:pt x="1022" y="86"/>
                        </a:lnTo>
                        <a:lnTo>
                          <a:pt x="1020" y="82"/>
                        </a:lnTo>
                        <a:lnTo>
                          <a:pt x="1018" y="76"/>
                        </a:lnTo>
                        <a:lnTo>
                          <a:pt x="1016" y="70"/>
                        </a:lnTo>
                        <a:lnTo>
                          <a:pt x="1014" y="67"/>
                        </a:lnTo>
                        <a:lnTo>
                          <a:pt x="1012" y="61"/>
                        </a:lnTo>
                        <a:lnTo>
                          <a:pt x="1010" y="57"/>
                        </a:lnTo>
                        <a:lnTo>
                          <a:pt x="1008" y="53"/>
                        </a:lnTo>
                        <a:lnTo>
                          <a:pt x="1006" y="48"/>
                        </a:lnTo>
                        <a:lnTo>
                          <a:pt x="1004" y="44"/>
                        </a:lnTo>
                        <a:lnTo>
                          <a:pt x="1001" y="40"/>
                        </a:lnTo>
                        <a:lnTo>
                          <a:pt x="997" y="36"/>
                        </a:lnTo>
                        <a:lnTo>
                          <a:pt x="993" y="32"/>
                        </a:lnTo>
                        <a:lnTo>
                          <a:pt x="991" y="29"/>
                        </a:lnTo>
                        <a:lnTo>
                          <a:pt x="985" y="25"/>
                        </a:lnTo>
                        <a:lnTo>
                          <a:pt x="983" y="23"/>
                        </a:lnTo>
                        <a:lnTo>
                          <a:pt x="978" y="19"/>
                        </a:lnTo>
                        <a:lnTo>
                          <a:pt x="972" y="17"/>
                        </a:lnTo>
                        <a:lnTo>
                          <a:pt x="968" y="13"/>
                        </a:lnTo>
                        <a:lnTo>
                          <a:pt x="964" y="11"/>
                        </a:lnTo>
                        <a:lnTo>
                          <a:pt x="961" y="10"/>
                        </a:lnTo>
                        <a:lnTo>
                          <a:pt x="955" y="6"/>
                        </a:lnTo>
                        <a:lnTo>
                          <a:pt x="949" y="6"/>
                        </a:lnTo>
                        <a:lnTo>
                          <a:pt x="944" y="4"/>
                        </a:lnTo>
                        <a:lnTo>
                          <a:pt x="940" y="4"/>
                        </a:lnTo>
                        <a:lnTo>
                          <a:pt x="936" y="2"/>
                        </a:lnTo>
                        <a:lnTo>
                          <a:pt x="934" y="2"/>
                        </a:lnTo>
                        <a:lnTo>
                          <a:pt x="932" y="0"/>
                        </a:lnTo>
                        <a:lnTo>
                          <a:pt x="928" y="0"/>
                        </a:lnTo>
                        <a:lnTo>
                          <a:pt x="926" y="0"/>
                        </a:lnTo>
                        <a:lnTo>
                          <a:pt x="925" y="0"/>
                        </a:lnTo>
                        <a:lnTo>
                          <a:pt x="921" y="0"/>
                        </a:lnTo>
                        <a:lnTo>
                          <a:pt x="919" y="0"/>
                        </a:lnTo>
                        <a:lnTo>
                          <a:pt x="915" y="0"/>
                        </a:lnTo>
                        <a:lnTo>
                          <a:pt x="913" y="0"/>
                        </a:lnTo>
                        <a:lnTo>
                          <a:pt x="911" y="0"/>
                        </a:lnTo>
                        <a:lnTo>
                          <a:pt x="907" y="0"/>
                        </a:lnTo>
                        <a:lnTo>
                          <a:pt x="904" y="0"/>
                        </a:lnTo>
                        <a:lnTo>
                          <a:pt x="898" y="2"/>
                        </a:lnTo>
                        <a:lnTo>
                          <a:pt x="896" y="2"/>
                        </a:lnTo>
                        <a:lnTo>
                          <a:pt x="892" y="2"/>
                        </a:lnTo>
                        <a:lnTo>
                          <a:pt x="890" y="2"/>
                        </a:lnTo>
                        <a:lnTo>
                          <a:pt x="888" y="4"/>
                        </a:lnTo>
                        <a:lnTo>
                          <a:pt x="881" y="4"/>
                        </a:lnTo>
                        <a:lnTo>
                          <a:pt x="877" y="6"/>
                        </a:lnTo>
                        <a:lnTo>
                          <a:pt x="873" y="10"/>
                        </a:lnTo>
                        <a:lnTo>
                          <a:pt x="867" y="11"/>
                        </a:lnTo>
                        <a:lnTo>
                          <a:pt x="864" y="15"/>
                        </a:lnTo>
                        <a:lnTo>
                          <a:pt x="860" y="17"/>
                        </a:lnTo>
                        <a:lnTo>
                          <a:pt x="854" y="19"/>
                        </a:lnTo>
                        <a:lnTo>
                          <a:pt x="850" y="23"/>
                        </a:lnTo>
                        <a:lnTo>
                          <a:pt x="847" y="25"/>
                        </a:lnTo>
                        <a:lnTo>
                          <a:pt x="843" y="29"/>
                        </a:lnTo>
                        <a:lnTo>
                          <a:pt x="839" y="32"/>
                        </a:lnTo>
                        <a:lnTo>
                          <a:pt x="835" y="36"/>
                        </a:lnTo>
                        <a:lnTo>
                          <a:pt x="833" y="40"/>
                        </a:lnTo>
                        <a:lnTo>
                          <a:pt x="831" y="44"/>
                        </a:lnTo>
                        <a:lnTo>
                          <a:pt x="828" y="48"/>
                        </a:lnTo>
                        <a:lnTo>
                          <a:pt x="824" y="53"/>
                        </a:lnTo>
                        <a:lnTo>
                          <a:pt x="822" y="57"/>
                        </a:lnTo>
                        <a:lnTo>
                          <a:pt x="820" y="61"/>
                        </a:lnTo>
                        <a:lnTo>
                          <a:pt x="818" y="67"/>
                        </a:lnTo>
                        <a:lnTo>
                          <a:pt x="816" y="70"/>
                        </a:lnTo>
                        <a:lnTo>
                          <a:pt x="816" y="74"/>
                        </a:lnTo>
                        <a:lnTo>
                          <a:pt x="814" y="76"/>
                        </a:lnTo>
                        <a:lnTo>
                          <a:pt x="812" y="82"/>
                        </a:lnTo>
                        <a:lnTo>
                          <a:pt x="812" y="84"/>
                        </a:lnTo>
                        <a:lnTo>
                          <a:pt x="687" y="663"/>
                        </a:lnTo>
                        <a:lnTo>
                          <a:pt x="681" y="663"/>
                        </a:lnTo>
                        <a:lnTo>
                          <a:pt x="677" y="663"/>
                        </a:lnTo>
                        <a:lnTo>
                          <a:pt x="673" y="663"/>
                        </a:lnTo>
                        <a:lnTo>
                          <a:pt x="670" y="663"/>
                        </a:lnTo>
                        <a:lnTo>
                          <a:pt x="666" y="663"/>
                        </a:lnTo>
                        <a:lnTo>
                          <a:pt x="660" y="665"/>
                        </a:lnTo>
                        <a:lnTo>
                          <a:pt x="656" y="665"/>
                        </a:lnTo>
                        <a:lnTo>
                          <a:pt x="652" y="667"/>
                        </a:lnTo>
                        <a:lnTo>
                          <a:pt x="753" y="213"/>
                        </a:lnTo>
                        <a:lnTo>
                          <a:pt x="753" y="209"/>
                        </a:lnTo>
                        <a:lnTo>
                          <a:pt x="753" y="207"/>
                        </a:lnTo>
                        <a:lnTo>
                          <a:pt x="753" y="203"/>
                        </a:lnTo>
                        <a:lnTo>
                          <a:pt x="753" y="201"/>
                        </a:lnTo>
                        <a:lnTo>
                          <a:pt x="753" y="198"/>
                        </a:lnTo>
                        <a:lnTo>
                          <a:pt x="753" y="196"/>
                        </a:lnTo>
                        <a:lnTo>
                          <a:pt x="753" y="192"/>
                        </a:lnTo>
                        <a:lnTo>
                          <a:pt x="753" y="190"/>
                        </a:lnTo>
                        <a:lnTo>
                          <a:pt x="753" y="188"/>
                        </a:lnTo>
                        <a:lnTo>
                          <a:pt x="753" y="184"/>
                        </a:lnTo>
                        <a:lnTo>
                          <a:pt x="753" y="182"/>
                        </a:lnTo>
                        <a:lnTo>
                          <a:pt x="753" y="181"/>
                        </a:lnTo>
                        <a:lnTo>
                          <a:pt x="753" y="175"/>
                        </a:lnTo>
                        <a:lnTo>
                          <a:pt x="753" y="169"/>
                        </a:lnTo>
                        <a:lnTo>
                          <a:pt x="751" y="167"/>
                        </a:lnTo>
                        <a:lnTo>
                          <a:pt x="751" y="163"/>
                        </a:lnTo>
                        <a:lnTo>
                          <a:pt x="751" y="162"/>
                        </a:lnTo>
                        <a:lnTo>
                          <a:pt x="750" y="160"/>
                        </a:lnTo>
                        <a:lnTo>
                          <a:pt x="748" y="154"/>
                        </a:lnTo>
                        <a:lnTo>
                          <a:pt x="746" y="148"/>
                        </a:lnTo>
                        <a:lnTo>
                          <a:pt x="744" y="144"/>
                        </a:lnTo>
                        <a:lnTo>
                          <a:pt x="742" y="141"/>
                        </a:lnTo>
                        <a:lnTo>
                          <a:pt x="740" y="135"/>
                        </a:lnTo>
                        <a:lnTo>
                          <a:pt x="738" y="131"/>
                        </a:lnTo>
                        <a:lnTo>
                          <a:pt x="734" y="127"/>
                        </a:lnTo>
                        <a:lnTo>
                          <a:pt x="730" y="124"/>
                        </a:lnTo>
                        <a:lnTo>
                          <a:pt x="727" y="120"/>
                        </a:lnTo>
                        <a:lnTo>
                          <a:pt x="725" y="116"/>
                        </a:lnTo>
                        <a:lnTo>
                          <a:pt x="721" y="112"/>
                        </a:lnTo>
                        <a:lnTo>
                          <a:pt x="717" y="108"/>
                        </a:lnTo>
                        <a:lnTo>
                          <a:pt x="713" y="105"/>
                        </a:lnTo>
                        <a:lnTo>
                          <a:pt x="710" y="103"/>
                        </a:lnTo>
                        <a:lnTo>
                          <a:pt x="704" y="99"/>
                        </a:lnTo>
                        <a:lnTo>
                          <a:pt x="700" y="97"/>
                        </a:lnTo>
                        <a:lnTo>
                          <a:pt x="694" y="95"/>
                        </a:lnTo>
                        <a:lnTo>
                          <a:pt x="691" y="91"/>
                        </a:lnTo>
                        <a:lnTo>
                          <a:pt x="685" y="89"/>
                        </a:lnTo>
                        <a:lnTo>
                          <a:pt x="681" y="87"/>
                        </a:lnTo>
                        <a:lnTo>
                          <a:pt x="675" y="86"/>
                        </a:lnTo>
                        <a:lnTo>
                          <a:pt x="672" y="86"/>
                        </a:lnTo>
                        <a:lnTo>
                          <a:pt x="668" y="84"/>
                        </a:lnTo>
                        <a:lnTo>
                          <a:pt x="666" y="84"/>
                        </a:lnTo>
                        <a:lnTo>
                          <a:pt x="664" y="84"/>
                        </a:lnTo>
                        <a:lnTo>
                          <a:pt x="660" y="84"/>
                        </a:lnTo>
                        <a:lnTo>
                          <a:pt x="658" y="84"/>
                        </a:lnTo>
                        <a:lnTo>
                          <a:pt x="654" y="84"/>
                        </a:lnTo>
                        <a:lnTo>
                          <a:pt x="652" y="84"/>
                        </a:lnTo>
                        <a:lnTo>
                          <a:pt x="651" y="84"/>
                        </a:lnTo>
                        <a:lnTo>
                          <a:pt x="647" y="84"/>
                        </a:lnTo>
                        <a:lnTo>
                          <a:pt x="645" y="84"/>
                        </a:lnTo>
                        <a:lnTo>
                          <a:pt x="643" y="84"/>
                        </a:lnTo>
                        <a:lnTo>
                          <a:pt x="639" y="84"/>
                        </a:lnTo>
                        <a:lnTo>
                          <a:pt x="635" y="84"/>
                        </a:lnTo>
                        <a:lnTo>
                          <a:pt x="630" y="84"/>
                        </a:lnTo>
                        <a:lnTo>
                          <a:pt x="628" y="84"/>
                        </a:lnTo>
                        <a:lnTo>
                          <a:pt x="624" y="86"/>
                        </a:lnTo>
                        <a:lnTo>
                          <a:pt x="622" y="86"/>
                        </a:lnTo>
                        <a:lnTo>
                          <a:pt x="618" y="86"/>
                        </a:lnTo>
                        <a:lnTo>
                          <a:pt x="614" y="87"/>
                        </a:lnTo>
                        <a:lnTo>
                          <a:pt x="609" y="89"/>
                        </a:lnTo>
                        <a:lnTo>
                          <a:pt x="603" y="91"/>
                        </a:lnTo>
                        <a:lnTo>
                          <a:pt x="599" y="95"/>
                        </a:lnTo>
                        <a:lnTo>
                          <a:pt x="595" y="97"/>
                        </a:lnTo>
                        <a:lnTo>
                          <a:pt x="592" y="99"/>
                        </a:lnTo>
                        <a:lnTo>
                          <a:pt x="586" y="103"/>
                        </a:lnTo>
                        <a:lnTo>
                          <a:pt x="582" y="105"/>
                        </a:lnTo>
                        <a:lnTo>
                          <a:pt x="578" y="108"/>
                        </a:lnTo>
                        <a:lnTo>
                          <a:pt x="574" y="112"/>
                        </a:lnTo>
                        <a:lnTo>
                          <a:pt x="571" y="116"/>
                        </a:lnTo>
                        <a:lnTo>
                          <a:pt x="567" y="120"/>
                        </a:lnTo>
                        <a:lnTo>
                          <a:pt x="565" y="124"/>
                        </a:lnTo>
                        <a:lnTo>
                          <a:pt x="563" y="127"/>
                        </a:lnTo>
                        <a:lnTo>
                          <a:pt x="559" y="131"/>
                        </a:lnTo>
                        <a:lnTo>
                          <a:pt x="555" y="135"/>
                        </a:lnTo>
                        <a:lnTo>
                          <a:pt x="554" y="141"/>
                        </a:lnTo>
                        <a:lnTo>
                          <a:pt x="552" y="146"/>
                        </a:lnTo>
                        <a:lnTo>
                          <a:pt x="550" y="150"/>
                        </a:lnTo>
                        <a:lnTo>
                          <a:pt x="548" y="156"/>
                        </a:lnTo>
                        <a:lnTo>
                          <a:pt x="546" y="158"/>
                        </a:lnTo>
                        <a:lnTo>
                          <a:pt x="546" y="160"/>
                        </a:lnTo>
                        <a:lnTo>
                          <a:pt x="544" y="163"/>
                        </a:lnTo>
                        <a:lnTo>
                          <a:pt x="544" y="167"/>
                        </a:lnTo>
                        <a:lnTo>
                          <a:pt x="361" y="1127"/>
                        </a:lnTo>
                        <a:lnTo>
                          <a:pt x="361" y="1127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0" name="AutoShape 14"/>
                <p:cNvSpPr/>
                <p:nvPr/>
              </p:nvSpPr>
              <p:spPr>
                <a:xfrm rot="9395400">
                  <a:off x="3880440" y="2035800"/>
                  <a:ext cx="88560" cy="75960"/>
                </a:xfrm>
                <a:prstGeom prst="hexagon">
                  <a:avLst>
                    <a:gd name="adj" fmla="val 29147"/>
                    <a:gd name="vf" fmla="val 11547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1" name="Group 15"/>
              <p:cNvGrpSpPr/>
              <p:nvPr/>
            </p:nvGrpSpPr>
            <p:grpSpPr>
              <a:xfrm>
                <a:off x="3640320" y="1188360"/>
                <a:ext cx="1094040" cy="2229840"/>
                <a:chOff x="3640320" y="1188360"/>
                <a:chExt cx="1094040" cy="2229840"/>
              </a:xfrm>
            </p:grpSpPr>
            <p:grpSp>
              <p:nvGrpSpPr>
                <p:cNvPr id="2172" name="Group 16"/>
                <p:cNvGrpSpPr/>
                <p:nvPr/>
              </p:nvGrpSpPr>
              <p:grpSpPr>
                <a:xfrm>
                  <a:off x="3640320" y="1188360"/>
                  <a:ext cx="697680" cy="1202760"/>
                  <a:chOff x="3640320" y="1188360"/>
                  <a:chExt cx="697680" cy="1202760"/>
                </a:xfrm>
              </p:grpSpPr>
              <p:grpSp>
                <p:nvGrpSpPr>
                  <p:cNvPr id="2173" name="Group 17"/>
                  <p:cNvGrpSpPr/>
                  <p:nvPr/>
                </p:nvGrpSpPr>
                <p:grpSpPr>
                  <a:xfrm>
                    <a:off x="3914280" y="1755000"/>
                    <a:ext cx="423720" cy="636120"/>
                    <a:chOff x="3914280" y="1755000"/>
                    <a:chExt cx="423720" cy="636120"/>
                  </a:xfrm>
                </p:grpSpPr>
                <p:sp>
                  <p:nvSpPr>
                    <p:cNvPr id="2174" name="AutoShape 18"/>
                    <p:cNvSpPr/>
                    <p:nvPr/>
                  </p:nvSpPr>
                  <p:spPr>
                    <a:xfrm rot="9411600">
                      <a:off x="4003560" y="1770120"/>
                      <a:ext cx="179640" cy="49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5" name="AutoShape 19"/>
                    <p:cNvSpPr/>
                    <p:nvPr/>
                  </p:nvSpPr>
                  <p:spPr>
                    <a:xfrm rot="14989800">
                      <a:off x="4097520" y="2142000"/>
                      <a:ext cx="19188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76" name="Group 20"/>
                  <p:cNvGrpSpPr/>
                  <p:nvPr/>
                </p:nvGrpSpPr>
                <p:grpSpPr>
                  <a:xfrm>
                    <a:off x="3640320" y="1188360"/>
                    <a:ext cx="472320" cy="719640"/>
                    <a:chOff x="3640320" y="1188360"/>
                    <a:chExt cx="472320" cy="719640"/>
                  </a:xfrm>
                </p:grpSpPr>
                <p:sp>
                  <p:nvSpPr>
                    <p:cNvPr id="2177" name="AutoShape 21"/>
                    <p:cNvSpPr/>
                    <p:nvPr/>
                  </p:nvSpPr>
                  <p:spPr>
                    <a:xfrm rot="9426600">
                      <a:off x="3827880" y="1422720"/>
                      <a:ext cx="180360" cy="36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4308" y="21600"/>
                          </a:lnTo>
                          <a:lnTo>
                            <a:pt x="17292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8" name="Oval 22"/>
                    <p:cNvSpPr/>
                    <p:nvPr/>
                  </p:nvSpPr>
                  <p:spPr>
                    <a:xfrm rot="9965400">
                      <a:off x="3905280" y="1697760"/>
                      <a:ext cx="187200" cy="19044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9" name="Freeform 23"/>
                    <p:cNvSpPr/>
                    <p:nvPr/>
                  </p:nvSpPr>
                  <p:spPr>
                    <a:xfrm rot="19460400">
                      <a:off x="3707640" y="1212120"/>
                      <a:ext cx="175680" cy="28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2" h="2302">
                          <a:moveTo>
                            <a:pt x="361" y="1127"/>
                          </a:moveTo>
                          <a:lnTo>
                            <a:pt x="280" y="1116"/>
                          </a:lnTo>
                          <a:lnTo>
                            <a:pt x="373" y="711"/>
                          </a:lnTo>
                          <a:lnTo>
                            <a:pt x="373" y="709"/>
                          </a:lnTo>
                          <a:lnTo>
                            <a:pt x="375" y="705"/>
                          </a:lnTo>
                          <a:lnTo>
                            <a:pt x="375" y="703"/>
                          </a:lnTo>
                          <a:lnTo>
                            <a:pt x="375" y="700"/>
                          </a:lnTo>
                          <a:lnTo>
                            <a:pt x="375" y="698"/>
                          </a:lnTo>
                          <a:lnTo>
                            <a:pt x="375" y="696"/>
                          </a:lnTo>
                          <a:lnTo>
                            <a:pt x="375" y="692"/>
                          </a:lnTo>
                          <a:lnTo>
                            <a:pt x="375" y="690"/>
                          </a:lnTo>
                          <a:lnTo>
                            <a:pt x="375" y="684"/>
                          </a:lnTo>
                          <a:lnTo>
                            <a:pt x="375" y="681"/>
                          </a:lnTo>
                          <a:lnTo>
                            <a:pt x="375" y="675"/>
                          </a:lnTo>
                          <a:lnTo>
                            <a:pt x="375" y="669"/>
                          </a:lnTo>
                          <a:lnTo>
                            <a:pt x="371" y="665"/>
                          </a:lnTo>
                          <a:lnTo>
                            <a:pt x="371" y="660"/>
                          </a:lnTo>
                          <a:lnTo>
                            <a:pt x="369" y="654"/>
                          </a:lnTo>
                          <a:lnTo>
                            <a:pt x="367" y="652"/>
                          </a:lnTo>
                          <a:lnTo>
                            <a:pt x="365" y="646"/>
                          </a:lnTo>
                          <a:lnTo>
                            <a:pt x="363" y="641"/>
                          </a:lnTo>
                          <a:lnTo>
                            <a:pt x="361" y="637"/>
                          </a:lnTo>
                          <a:lnTo>
                            <a:pt x="358" y="633"/>
                          </a:lnTo>
                          <a:lnTo>
                            <a:pt x="356" y="629"/>
                          </a:lnTo>
                          <a:lnTo>
                            <a:pt x="354" y="623"/>
                          </a:lnTo>
                          <a:lnTo>
                            <a:pt x="350" y="620"/>
                          </a:lnTo>
                          <a:lnTo>
                            <a:pt x="346" y="616"/>
                          </a:lnTo>
                          <a:lnTo>
                            <a:pt x="342" y="612"/>
                          </a:lnTo>
                          <a:lnTo>
                            <a:pt x="339" y="610"/>
                          </a:lnTo>
                          <a:lnTo>
                            <a:pt x="335" y="606"/>
                          </a:lnTo>
                          <a:lnTo>
                            <a:pt x="331" y="603"/>
                          </a:lnTo>
                          <a:lnTo>
                            <a:pt x="325" y="601"/>
                          </a:lnTo>
                          <a:lnTo>
                            <a:pt x="321" y="597"/>
                          </a:lnTo>
                          <a:lnTo>
                            <a:pt x="318" y="595"/>
                          </a:lnTo>
                          <a:lnTo>
                            <a:pt x="312" y="593"/>
                          </a:lnTo>
                          <a:lnTo>
                            <a:pt x="306" y="591"/>
                          </a:lnTo>
                          <a:lnTo>
                            <a:pt x="302" y="589"/>
                          </a:lnTo>
                          <a:lnTo>
                            <a:pt x="299" y="589"/>
                          </a:lnTo>
                          <a:lnTo>
                            <a:pt x="295" y="587"/>
                          </a:lnTo>
                          <a:lnTo>
                            <a:pt x="291" y="587"/>
                          </a:lnTo>
                          <a:lnTo>
                            <a:pt x="287" y="585"/>
                          </a:lnTo>
                          <a:lnTo>
                            <a:pt x="285" y="585"/>
                          </a:lnTo>
                          <a:lnTo>
                            <a:pt x="283" y="585"/>
                          </a:lnTo>
                          <a:lnTo>
                            <a:pt x="280" y="585"/>
                          </a:lnTo>
                          <a:lnTo>
                            <a:pt x="276" y="585"/>
                          </a:lnTo>
                          <a:lnTo>
                            <a:pt x="274" y="585"/>
                          </a:lnTo>
                          <a:lnTo>
                            <a:pt x="272" y="585"/>
                          </a:lnTo>
                          <a:lnTo>
                            <a:pt x="268" y="585"/>
                          </a:lnTo>
                          <a:lnTo>
                            <a:pt x="266" y="585"/>
                          </a:lnTo>
                          <a:lnTo>
                            <a:pt x="263" y="585"/>
                          </a:lnTo>
                          <a:lnTo>
                            <a:pt x="261" y="587"/>
                          </a:lnTo>
                          <a:lnTo>
                            <a:pt x="259" y="587"/>
                          </a:lnTo>
                          <a:lnTo>
                            <a:pt x="255" y="587"/>
                          </a:lnTo>
                          <a:lnTo>
                            <a:pt x="253" y="589"/>
                          </a:lnTo>
                          <a:lnTo>
                            <a:pt x="249" y="589"/>
                          </a:lnTo>
                          <a:lnTo>
                            <a:pt x="247" y="589"/>
                          </a:lnTo>
                          <a:lnTo>
                            <a:pt x="243" y="591"/>
                          </a:lnTo>
                          <a:lnTo>
                            <a:pt x="240" y="591"/>
                          </a:lnTo>
                          <a:lnTo>
                            <a:pt x="238" y="593"/>
                          </a:lnTo>
                          <a:lnTo>
                            <a:pt x="236" y="595"/>
                          </a:lnTo>
                          <a:lnTo>
                            <a:pt x="232" y="595"/>
                          </a:lnTo>
                          <a:lnTo>
                            <a:pt x="230" y="597"/>
                          </a:lnTo>
                          <a:lnTo>
                            <a:pt x="228" y="599"/>
                          </a:lnTo>
                          <a:lnTo>
                            <a:pt x="224" y="601"/>
                          </a:lnTo>
                          <a:lnTo>
                            <a:pt x="223" y="601"/>
                          </a:lnTo>
                          <a:lnTo>
                            <a:pt x="219" y="603"/>
                          </a:lnTo>
                          <a:lnTo>
                            <a:pt x="217" y="604"/>
                          </a:lnTo>
                          <a:lnTo>
                            <a:pt x="211" y="608"/>
                          </a:lnTo>
                          <a:lnTo>
                            <a:pt x="207" y="612"/>
                          </a:lnTo>
                          <a:lnTo>
                            <a:pt x="204" y="616"/>
                          </a:lnTo>
                          <a:lnTo>
                            <a:pt x="198" y="618"/>
                          </a:lnTo>
                          <a:lnTo>
                            <a:pt x="194" y="623"/>
                          </a:lnTo>
                          <a:lnTo>
                            <a:pt x="188" y="627"/>
                          </a:lnTo>
                          <a:lnTo>
                            <a:pt x="185" y="633"/>
                          </a:lnTo>
                          <a:lnTo>
                            <a:pt x="181" y="637"/>
                          </a:lnTo>
                          <a:lnTo>
                            <a:pt x="177" y="641"/>
                          </a:lnTo>
                          <a:lnTo>
                            <a:pt x="173" y="646"/>
                          </a:lnTo>
                          <a:lnTo>
                            <a:pt x="169" y="652"/>
                          </a:lnTo>
                          <a:lnTo>
                            <a:pt x="166" y="656"/>
                          </a:lnTo>
                          <a:lnTo>
                            <a:pt x="162" y="662"/>
                          </a:lnTo>
                          <a:lnTo>
                            <a:pt x="160" y="665"/>
                          </a:lnTo>
                          <a:lnTo>
                            <a:pt x="158" y="669"/>
                          </a:lnTo>
                          <a:lnTo>
                            <a:pt x="158" y="671"/>
                          </a:lnTo>
                          <a:lnTo>
                            <a:pt x="156" y="673"/>
                          </a:lnTo>
                          <a:lnTo>
                            <a:pt x="154" y="677"/>
                          </a:lnTo>
                          <a:lnTo>
                            <a:pt x="152" y="679"/>
                          </a:lnTo>
                          <a:lnTo>
                            <a:pt x="152" y="681"/>
                          </a:lnTo>
                          <a:lnTo>
                            <a:pt x="150" y="684"/>
                          </a:lnTo>
                          <a:lnTo>
                            <a:pt x="150" y="688"/>
                          </a:lnTo>
                          <a:lnTo>
                            <a:pt x="146" y="694"/>
                          </a:lnTo>
                          <a:lnTo>
                            <a:pt x="145" y="701"/>
                          </a:lnTo>
                          <a:lnTo>
                            <a:pt x="143" y="709"/>
                          </a:lnTo>
                          <a:lnTo>
                            <a:pt x="139" y="717"/>
                          </a:lnTo>
                          <a:lnTo>
                            <a:pt x="137" y="724"/>
                          </a:lnTo>
                          <a:lnTo>
                            <a:pt x="135" y="732"/>
                          </a:lnTo>
                          <a:lnTo>
                            <a:pt x="131" y="739"/>
                          </a:lnTo>
                          <a:lnTo>
                            <a:pt x="129" y="747"/>
                          </a:lnTo>
                          <a:lnTo>
                            <a:pt x="126" y="755"/>
                          </a:lnTo>
                          <a:lnTo>
                            <a:pt x="124" y="760"/>
                          </a:lnTo>
                          <a:lnTo>
                            <a:pt x="122" y="768"/>
                          </a:lnTo>
                          <a:lnTo>
                            <a:pt x="120" y="776"/>
                          </a:lnTo>
                          <a:lnTo>
                            <a:pt x="116" y="781"/>
                          </a:lnTo>
                          <a:lnTo>
                            <a:pt x="114" y="789"/>
                          </a:lnTo>
                          <a:lnTo>
                            <a:pt x="112" y="796"/>
                          </a:lnTo>
                          <a:lnTo>
                            <a:pt x="110" y="804"/>
                          </a:lnTo>
                          <a:lnTo>
                            <a:pt x="107" y="812"/>
                          </a:lnTo>
                          <a:lnTo>
                            <a:pt x="107" y="817"/>
                          </a:lnTo>
                          <a:lnTo>
                            <a:pt x="103" y="823"/>
                          </a:lnTo>
                          <a:lnTo>
                            <a:pt x="101" y="831"/>
                          </a:lnTo>
                          <a:lnTo>
                            <a:pt x="97" y="836"/>
                          </a:lnTo>
                          <a:lnTo>
                            <a:pt x="97" y="844"/>
                          </a:lnTo>
                          <a:lnTo>
                            <a:pt x="93" y="852"/>
                          </a:lnTo>
                          <a:lnTo>
                            <a:pt x="93" y="857"/>
                          </a:lnTo>
                          <a:lnTo>
                            <a:pt x="89" y="865"/>
                          </a:lnTo>
                          <a:lnTo>
                            <a:pt x="88" y="871"/>
                          </a:lnTo>
                          <a:lnTo>
                            <a:pt x="86" y="878"/>
                          </a:lnTo>
                          <a:lnTo>
                            <a:pt x="84" y="884"/>
                          </a:lnTo>
                          <a:lnTo>
                            <a:pt x="82" y="892"/>
                          </a:lnTo>
                          <a:lnTo>
                            <a:pt x="80" y="899"/>
                          </a:lnTo>
                          <a:lnTo>
                            <a:pt x="78" y="907"/>
                          </a:lnTo>
                          <a:lnTo>
                            <a:pt x="74" y="912"/>
                          </a:lnTo>
                          <a:lnTo>
                            <a:pt x="72" y="920"/>
                          </a:lnTo>
                          <a:lnTo>
                            <a:pt x="72" y="926"/>
                          </a:lnTo>
                          <a:lnTo>
                            <a:pt x="68" y="931"/>
                          </a:lnTo>
                          <a:lnTo>
                            <a:pt x="67" y="939"/>
                          </a:lnTo>
                          <a:lnTo>
                            <a:pt x="65" y="945"/>
                          </a:lnTo>
                          <a:lnTo>
                            <a:pt x="63" y="952"/>
                          </a:lnTo>
                          <a:lnTo>
                            <a:pt x="59" y="958"/>
                          </a:lnTo>
                          <a:lnTo>
                            <a:pt x="57" y="966"/>
                          </a:lnTo>
                          <a:lnTo>
                            <a:pt x="55" y="971"/>
                          </a:lnTo>
                          <a:lnTo>
                            <a:pt x="53" y="979"/>
                          </a:lnTo>
                          <a:lnTo>
                            <a:pt x="51" y="987"/>
                          </a:lnTo>
                          <a:lnTo>
                            <a:pt x="49" y="994"/>
                          </a:lnTo>
                          <a:lnTo>
                            <a:pt x="48" y="1000"/>
                          </a:lnTo>
                          <a:lnTo>
                            <a:pt x="46" y="1007"/>
                          </a:lnTo>
                          <a:lnTo>
                            <a:pt x="44" y="1015"/>
                          </a:lnTo>
                          <a:lnTo>
                            <a:pt x="42" y="1021"/>
                          </a:lnTo>
                          <a:lnTo>
                            <a:pt x="42" y="1028"/>
                          </a:lnTo>
                          <a:lnTo>
                            <a:pt x="38" y="1036"/>
                          </a:lnTo>
                          <a:lnTo>
                            <a:pt x="36" y="1042"/>
                          </a:lnTo>
                          <a:lnTo>
                            <a:pt x="36" y="1049"/>
                          </a:lnTo>
                          <a:lnTo>
                            <a:pt x="34" y="1057"/>
                          </a:lnTo>
                          <a:lnTo>
                            <a:pt x="30" y="1063"/>
                          </a:lnTo>
                          <a:lnTo>
                            <a:pt x="30" y="1070"/>
                          </a:lnTo>
                          <a:lnTo>
                            <a:pt x="29" y="1078"/>
                          </a:lnTo>
                          <a:lnTo>
                            <a:pt x="27" y="1085"/>
                          </a:lnTo>
                          <a:lnTo>
                            <a:pt x="25" y="1093"/>
                          </a:lnTo>
                          <a:lnTo>
                            <a:pt x="23" y="1101"/>
                          </a:lnTo>
                          <a:lnTo>
                            <a:pt x="21" y="1108"/>
                          </a:lnTo>
                          <a:lnTo>
                            <a:pt x="19" y="1116"/>
                          </a:lnTo>
                          <a:lnTo>
                            <a:pt x="17" y="1123"/>
                          </a:lnTo>
                          <a:lnTo>
                            <a:pt x="17" y="1131"/>
                          </a:lnTo>
                          <a:lnTo>
                            <a:pt x="15" y="1139"/>
                          </a:lnTo>
                          <a:lnTo>
                            <a:pt x="13" y="1148"/>
                          </a:lnTo>
                          <a:lnTo>
                            <a:pt x="10" y="1158"/>
                          </a:lnTo>
                          <a:lnTo>
                            <a:pt x="10" y="1165"/>
                          </a:lnTo>
                          <a:lnTo>
                            <a:pt x="8" y="1175"/>
                          </a:lnTo>
                          <a:lnTo>
                            <a:pt x="6" y="1182"/>
                          </a:lnTo>
                          <a:lnTo>
                            <a:pt x="6" y="1192"/>
                          </a:lnTo>
                          <a:lnTo>
                            <a:pt x="4" y="1201"/>
                          </a:lnTo>
                          <a:lnTo>
                            <a:pt x="2" y="1211"/>
                          </a:lnTo>
                          <a:lnTo>
                            <a:pt x="2" y="1218"/>
                          </a:lnTo>
                          <a:lnTo>
                            <a:pt x="0" y="1230"/>
                          </a:lnTo>
                          <a:lnTo>
                            <a:pt x="0" y="1237"/>
                          </a:lnTo>
                          <a:lnTo>
                            <a:pt x="0" y="1247"/>
                          </a:lnTo>
                          <a:lnTo>
                            <a:pt x="0" y="1257"/>
                          </a:lnTo>
                          <a:lnTo>
                            <a:pt x="0" y="1268"/>
                          </a:lnTo>
                          <a:lnTo>
                            <a:pt x="0" y="1276"/>
                          </a:lnTo>
                          <a:lnTo>
                            <a:pt x="0" y="1285"/>
                          </a:lnTo>
                          <a:lnTo>
                            <a:pt x="0" y="1296"/>
                          </a:lnTo>
                          <a:lnTo>
                            <a:pt x="0" y="1304"/>
                          </a:lnTo>
                          <a:lnTo>
                            <a:pt x="0" y="1314"/>
                          </a:lnTo>
                          <a:lnTo>
                            <a:pt x="0" y="1323"/>
                          </a:lnTo>
                          <a:lnTo>
                            <a:pt x="0" y="1333"/>
                          </a:lnTo>
                          <a:lnTo>
                            <a:pt x="2" y="1342"/>
                          </a:lnTo>
                          <a:lnTo>
                            <a:pt x="2" y="1352"/>
                          </a:lnTo>
                          <a:lnTo>
                            <a:pt x="4" y="1363"/>
                          </a:lnTo>
                          <a:lnTo>
                            <a:pt x="4" y="1371"/>
                          </a:lnTo>
                          <a:lnTo>
                            <a:pt x="6" y="1382"/>
                          </a:lnTo>
                          <a:lnTo>
                            <a:pt x="8" y="1390"/>
                          </a:lnTo>
                          <a:lnTo>
                            <a:pt x="8" y="1401"/>
                          </a:lnTo>
                          <a:lnTo>
                            <a:pt x="10" y="1409"/>
                          </a:lnTo>
                          <a:lnTo>
                            <a:pt x="11" y="1420"/>
                          </a:lnTo>
                          <a:lnTo>
                            <a:pt x="13" y="1429"/>
                          </a:lnTo>
                          <a:lnTo>
                            <a:pt x="15" y="1439"/>
                          </a:lnTo>
                          <a:lnTo>
                            <a:pt x="17" y="1448"/>
                          </a:lnTo>
                          <a:lnTo>
                            <a:pt x="19" y="1458"/>
                          </a:lnTo>
                          <a:lnTo>
                            <a:pt x="21" y="1468"/>
                          </a:lnTo>
                          <a:lnTo>
                            <a:pt x="23" y="1477"/>
                          </a:lnTo>
                          <a:lnTo>
                            <a:pt x="27" y="1487"/>
                          </a:lnTo>
                          <a:lnTo>
                            <a:pt x="29" y="1496"/>
                          </a:lnTo>
                          <a:lnTo>
                            <a:pt x="30" y="1506"/>
                          </a:lnTo>
                          <a:lnTo>
                            <a:pt x="34" y="1515"/>
                          </a:lnTo>
                          <a:lnTo>
                            <a:pt x="36" y="1525"/>
                          </a:lnTo>
                          <a:lnTo>
                            <a:pt x="38" y="1534"/>
                          </a:lnTo>
                          <a:lnTo>
                            <a:pt x="42" y="1544"/>
                          </a:lnTo>
                          <a:lnTo>
                            <a:pt x="46" y="1553"/>
                          </a:lnTo>
                          <a:lnTo>
                            <a:pt x="48" y="1561"/>
                          </a:lnTo>
                          <a:lnTo>
                            <a:pt x="51" y="1572"/>
                          </a:lnTo>
                          <a:lnTo>
                            <a:pt x="55" y="1580"/>
                          </a:lnTo>
                          <a:lnTo>
                            <a:pt x="59" y="1589"/>
                          </a:lnTo>
                          <a:lnTo>
                            <a:pt x="63" y="1599"/>
                          </a:lnTo>
                          <a:lnTo>
                            <a:pt x="67" y="1608"/>
                          </a:lnTo>
                          <a:lnTo>
                            <a:pt x="68" y="1616"/>
                          </a:lnTo>
                          <a:lnTo>
                            <a:pt x="74" y="1627"/>
                          </a:lnTo>
                          <a:lnTo>
                            <a:pt x="78" y="1635"/>
                          </a:lnTo>
                          <a:lnTo>
                            <a:pt x="82" y="1644"/>
                          </a:lnTo>
                          <a:lnTo>
                            <a:pt x="86" y="1652"/>
                          </a:lnTo>
                          <a:lnTo>
                            <a:pt x="89" y="1661"/>
                          </a:lnTo>
                          <a:lnTo>
                            <a:pt x="95" y="1669"/>
                          </a:lnTo>
                          <a:lnTo>
                            <a:pt x="99" y="1679"/>
                          </a:lnTo>
                          <a:lnTo>
                            <a:pt x="103" y="1688"/>
                          </a:lnTo>
                          <a:lnTo>
                            <a:pt x="108" y="1696"/>
                          </a:lnTo>
                          <a:lnTo>
                            <a:pt x="114" y="1703"/>
                          </a:lnTo>
                          <a:lnTo>
                            <a:pt x="118" y="1713"/>
                          </a:lnTo>
                          <a:lnTo>
                            <a:pt x="124" y="1722"/>
                          </a:lnTo>
                          <a:lnTo>
                            <a:pt x="127" y="1732"/>
                          </a:lnTo>
                          <a:lnTo>
                            <a:pt x="131" y="1736"/>
                          </a:lnTo>
                          <a:lnTo>
                            <a:pt x="135" y="1739"/>
                          </a:lnTo>
                          <a:lnTo>
                            <a:pt x="135" y="1743"/>
                          </a:lnTo>
                          <a:lnTo>
                            <a:pt x="137" y="1745"/>
                          </a:lnTo>
                          <a:lnTo>
                            <a:pt x="139" y="1747"/>
                          </a:lnTo>
                          <a:lnTo>
                            <a:pt x="141" y="1751"/>
                          </a:lnTo>
                          <a:lnTo>
                            <a:pt x="143" y="1755"/>
                          </a:lnTo>
                          <a:lnTo>
                            <a:pt x="143" y="1756"/>
                          </a:lnTo>
                          <a:lnTo>
                            <a:pt x="145" y="1760"/>
                          </a:lnTo>
                          <a:lnTo>
                            <a:pt x="146" y="1762"/>
                          </a:lnTo>
                          <a:lnTo>
                            <a:pt x="148" y="1766"/>
                          </a:lnTo>
                          <a:lnTo>
                            <a:pt x="150" y="1768"/>
                          </a:lnTo>
                          <a:lnTo>
                            <a:pt x="152" y="1770"/>
                          </a:lnTo>
                          <a:lnTo>
                            <a:pt x="156" y="1774"/>
                          </a:lnTo>
                          <a:lnTo>
                            <a:pt x="158" y="1777"/>
                          </a:lnTo>
                          <a:lnTo>
                            <a:pt x="160" y="1779"/>
                          </a:lnTo>
                          <a:lnTo>
                            <a:pt x="160" y="1783"/>
                          </a:lnTo>
                          <a:lnTo>
                            <a:pt x="162" y="1787"/>
                          </a:lnTo>
                          <a:lnTo>
                            <a:pt x="166" y="1789"/>
                          </a:lnTo>
                          <a:lnTo>
                            <a:pt x="166" y="1791"/>
                          </a:lnTo>
                          <a:lnTo>
                            <a:pt x="167" y="1794"/>
                          </a:lnTo>
                          <a:lnTo>
                            <a:pt x="169" y="1796"/>
                          </a:lnTo>
                          <a:lnTo>
                            <a:pt x="171" y="1800"/>
                          </a:lnTo>
                          <a:lnTo>
                            <a:pt x="173" y="1802"/>
                          </a:lnTo>
                          <a:lnTo>
                            <a:pt x="175" y="1806"/>
                          </a:lnTo>
                          <a:lnTo>
                            <a:pt x="177" y="1808"/>
                          </a:lnTo>
                          <a:lnTo>
                            <a:pt x="179" y="1812"/>
                          </a:lnTo>
                          <a:lnTo>
                            <a:pt x="181" y="1815"/>
                          </a:lnTo>
                          <a:lnTo>
                            <a:pt x="183" y="1817"/>
                          </a:lnTo>
                          <a:lnTo>
                            <a:pt x="185" y="1821"/>
                          </a:lnTo>
                          <a:lnTo>
                            <a:pt x="188" y="1827"/>
                          </a:lnTo>
                          <a:lnTo>
                            <a:pt x="190" y="1831"/>
                          </a:lnTo>
                          <a:lnTo>
                            <a:pt x="194" y="1836"/>
                          </a:lnTo>
                          <a:lnTo>
                            <a:pt x="198" y="1842"/>
                          </a:lnTo>
                          <a:lnTo>
                            <a:pt x="200" y="1846"/>
                          </a:lnTo>
                          <a:lnTo>
                            <a:pt x="204" y="1850"/>
                          </a:lnTo>
                          <a:lnTo>
                            <a:pt x="205" y="1853"/>
                          </a:lnTo>
                          <a:lnTo>
                            <a:pt x="207" y="1859"/>
                          </a:lnTo>
                          <a:lnTo>
                            <a:pt x="209" y="1861"/>
                          </a:lnTo>
                          <a:lnTo>
                            <a:pt x="211" y="1863"/>
                          </a:lnTo>
                          <a:lnTo>
                            <a:pt x="213" y="1867"/>
                          </a:lnTo>
                          <a:lnTo>
                            <a:pt x="215" y="1869"/>
                          </a:lnTo>
                          <a:lnTo>
                            <a:pt x="217" y="1870"/>
                          </a:lnTo>
                          <a:lnTo>
                            <a:pt x="219" y="1874"/>
                          </a:lnTo>
                          <a:lnTo>
                            <a:pt x="141" y="2163"/>
                          </a:lnTo>
                          <a:lnTo>
                            <a:pt x="143" y="2165"/>
                          </a:lnTo>
                          <a:lnTo>
                            <a:pt x="146" y="2165"/>
                          </a:lnTo>
                          <a:lnTo>
                            <a:pt x="150" y="2167"/>
                          </a:lnTo>
                          <a:lnTo>
                            <a:pt x="152" y="2167"/>
                          </a:lnTo>
                          <a:lnTo>
                            <a:pt x="154" y="2167"/>
                          </a:lnTo>
                          <a:lnTo>
                            <a:pt x="158" y="2167"/>
                          </a:lnTo>
                          <a:lnTo>
                            <a:pt x="162" y="2171"/>
                          </a:lnTo>
                          <a:lnTo>
                            <a:pt x="166" y="2171"/>
                          </a:lnTo>
                          <a:lnTo>
                            <a:pt x="167" y="2173"/>
                          </a:lnTo>
                          <a:lnTo>
                            <a:pt x="171" y="2173"/>
                          </a:lnTo>
                          <a:lnTo>
                            <a:pt x="175" y="2175"/>
                          </a:lnTo>
                          <a:lnTo>
                            <a:pt x="181" y="2175"/>
                          </a:lnTo>
                          <a:lnTo>
                            <a:pt x="185" y="2175"/>
                          </a:lnTo>
                          <a:lnTo>
                            <a:pt x="188" y="2177"/>
                          </a:lnTo>
                          <a:lnTo>
                            <a:pt x="194" y="2180"/>
                          </a:lnTo>
                          <a:lnTo>
                            <a:pt x="198" y="2180"/>
                          </a:lnTo>
                          <a:lnTo>
                            <a:pt x="204" y="2182"/>
                          </a:lnTo>
                          <a:lnTo>
                            <a:pt x="209" y="2182"/>
                          </a:lnTo>
                          <a:lnTo>
                            <a:pt x="215" y="2184"/>
                          </a:lnTo>
                          <a:lnTo>
                            <a:pt x="219" y="2186"/>
                          </a:lnTo>
                          <a:lnTo>
                            <a:pt x="224" y="2188"/>
                          </a:lnTo>
                          <a:lnTo>
                            <a:pt x="232" y="2188"/>
                          </a:lnTo>
                          <a:lnTo>
                            <a:pt x="238" y="2190"/>
                          </a:lnTo>
                          <a:lnTo>
                            <a:pt x="243" y="2190"/>
                          </a:lnTo>
                          <a:lnTo>
                            <a:pt x="251" y="2192"/>
                          </a:lnTo>
                          <a:lnTo>
                            <a:pt x="257" y="2194"/>
                          </a:lnTo>
                          <a:lnTo>
                            <a:pt x="264" y="2194"/>
                          </a:lnTo>
                          <a:lnTo>
                            <a:pt x="270" y="2196"/>
                          </a:lnTo>
                          <a:lnTo>
                            <a:pt x="276" y="2196"/>
                          </a:lnTo>
                          <a:lnTo>
                            <a:pt x="283" y="2197"/>
                          </a:lnTo>
                          <a:lnTo>
                            <a:pt x="291" y="2199"/>
                          </a:lnTo>
                          <a:lnTo>
                            <a:pt x="297" y="2199"/>
                          </a:lnTo>
                          <a:lnTo>
                            <a:pt x="304" y="2199"/>
                          </a:lnTo>
                          <a:lnTo>
                            <a:pt x="312" y="2199"/>
                          </a:lnTo>
                          <a:lnTo>
                            <a:pt x="320" y="2201"/>
                          </a:lnTo>
                          <a:lnTo>
                            <a:pt x="325" y="2201"/>
                          </a:lnTo>
                          <a:lnTo>
                            <a:pt x="333" y="2201"/>
                          </a:lnTo>
                          <a:lnTo>
                            <a:pt x="341" y="2201"/>
                          </a:lnTo>
                          <a:lnTo>
                            <a:pt x="348" y="2201"/>
                          </a:lnTo>
                          <a:lnTo>
                            <a:pt x="356" y="2201"/>
                          </a:lnTo>
                          <a:lnTo>
                            <a:pt x="363" y="2201"/>
                          </a:lnTo>
                          <a:lnTo>
                            <a:pt x="371" y="2201"/>
                          </a:lnTo>
                          <a:lnTo>
                            <a:pt x="379" y="2201"/>
                          </a:lnTo>
                          <a:lnTo>
                            <a:pt x="386" y="2201"/>
                          </a:lnTo>
                          <a:lnTo>
                            <a:pt x="394" y="2201"/>
                          </a:lnTo>
                          <a:lnTo>
                            <a:pt x="401" y="2199"/>
                          </a:lnTo>
                          <a:lnTo>
                            <a:pt x="409" y="2199"/>
                          </a:lnTo>
                          <a:lnTo>
                            <a:pt x="415" y="2197"/>
                          </a:lnTo>
                          <a:lnTo>
                            <a:pt x="422" y="2196"/>
                          </a:lnTo>
                          <a:lnTo>
                            <a:pt x="432" y="2196"/>
                          </a:lnTo>
                          <a:lnTo>
                            <a:pt x="439" y="2194"/>
                          </a:lnTo>
                          <a:lnTo>
                            <a:pt x="447" y="2192"/>
                          </a:lnTo>
                          <a:lnTo>
                            <a:pt x="455" y="2190"/>
                          </a:lnTo>
                          <a:lnTo>
                            <a:pt x="462" y="2188"/>
                          </a:lnTo>
                          <a:lnTo>
                            <a:pt x="470" y="2188"/>
                          </a:lnTo>
                          <a:lnTo>
                            <a:pt x="476" y="2184"/>
                          </a:lnTo>
                          <a:lnTo>
                            <a:pt x="483" y="2182"/>
                          </a:lnTo>
                          <a:lnTo>
                            <a:pt x="491" y="2180"/>
                          </a:lnTo>
                          <a:lnTo>
                            <a:pt x="498" y="2175"/>
                          </a:lnTo>
                          <a:lnTo>
                            <a:pt x="504" y="2173"/>
                          </a:lnTo>
                          <a:lnTo>
                            <a:pt x="512" y="2169"/>
                          </a:lnTo>
                          <a:lnTo>
                            <a:pt x="517" y="2165"/>
                          </a:lnTo>
                          <a:lnTo>
                            <a:pt x="525" y="2161"/>
                          </a:lnTo>
                          <a:lnTo>
                            <a:pt x="531" y="2158"/>
                          </a:lnTo>
                          <a:lnTo>
                            <a:pt x="536" y="2154"/>
                          </a:lnTo>
                          <a:lnTo>
                            <a:pt x="542" y="2150"/>
                          </a:lnTo>
                          <a:lnTo>
                            <a:pt x="550" y="2146"/>
                          </a:lnTo>
                          <a:lnTo>
                            <a:pt x="555" y="2142"/>
                          </a:lnTo>
                          <a:lnTo>
                            <a:pt x="559" y="2137"/>
                          </a:lnTo>
                          <a:lnTo>
                            <a:pt x="565" y="2133"/>
                          </a:lnTo>
                          <a:lnTo>
                            <a:pt x="571" y="2129"/>
                          </a:lnTo>
                          <a:lnTo>
                            <a:pt x="576" y="2123"/>
                          </a:lnTo>
                          <a:lnTo>
                            <a:pt x="582" y="2120"/>
                          </a:lnTo>
                          <a:lnTo>
                            <a:pt x="588" y="2114"/>
                          </a:lnTo>
                          <a:lnTo>
                            <a:pt x="592" y="2110"/>
                          </a:lnTo>
                          <a:lnTo>
                            <a:pt x="595" y="2106"/>
                          </a:lnTo>
                          <a:lnTo>
                            <a:pt x="601" y="2101"/>
                          </a:lnTo>
                          <a:lnTo>
                            <a:pt x="605" y="2095"/>
                          </a:lnTo>
                          <a:lnTo>
                            <a:pt x="611" y="2091"/>
                          </a:lnTo>
                          <a:lnTo>
                            <a:pt x="614" y="2085"/>
                          </a:lnTo>
                          <a:lnTo>
                            <a:pt x="618" y="2080"/>
                          </a:lnTo>
                          <a:lnTo>
                            <a:pt x="624" y="2076"/>
                          </a:lnTo>
                          <a:lnTo>
                            <a:pt x="628" y="2070"/>
                          </a:lnTo>
                          <a:lnTo>
                            <a:pt x="632" y="2064"/>
                          </a:lnTo>
                          <a:lnTo>
                            <a:pt x="635" y="2059"/>
                          </a:lnTo>
                          <a:lnTo>
                            <a:pt x="637" y="2055"/>
                          </a:lnTo>
                          <a:lnTo>
                            <a:pt x="643" y="2049"/>
                          </a:lnTo>
                          <a:lnTo>
                            <a:pt x="645" y="2043"/>
                          </a:lnTo>
                          <a:lnTo>
                            <a:pt x="649" y="2040"/>
                          </a:lnTo>
                          <a:lnTo>
                            <a:pt x="652" y="2034"/>
                          </a:lnTo>
                          <a:lnTo>
                            <a:pt x="654" y="2030"/>
                          </a:lnTo>
                          <a:lnTo>
                            <a:pt x="658" y="2024"/>
                          </a:lnTo>
                          <a:lnTo>
                            <a:pt x="660" y="2021"/>
                          </a:lnTo>
                          <a:lnTo>
                            <a:pt x="664" y="2015"/>
                          </a:lnTo>
                          <a:lnTo>
                            <a:pt x="666" y="2011"/>
                          </a:lnTo>
                          <a:lnTo>
                            <a:pt x="668" y="2005"/>
                          </a:lnTo>
                          <a:lnTo>
                            <a:pt x="672" y="2002"/>
                          </a:lnTo>
                          <a:lnTo>
                            <a:pt x="673" y="1998"/>
                          </a:lnTo>
                          <a:lnTo>
                            <a:pt x="675" y="1992"/>
                          </a:lnTo>
                          <a:lnTo>
                            <a:pt x="677" y="1986"/>
                          </a:lnTo>
                          <a:lnTo>
                            <a:pt x="679" y="1983"/>
                          </a:lnTo>
                          <a:lnTo>
                            <a:pt x="681" y="1979"/>
                          </a:lnTo>
                          <a:lnTo>
                            <a:pt x="683" y="1975"/>
                          </a:lnTo>
                          <a:lnTo>
                            <a:pt x="685" y="1971"/>
                          </a:lnTo>
                          <a:lnTo>
                            <a:pt x="687" y="1969"/>
                          </a:lnTo>
                          <a:lnTo>
                            <a:pt x="689" y="1964"/>
                          </a:lnTo>
                          <a:lnTo>
                            <a:pt x="691" y="1962"/>
                          </a:lnTo>
                          <a:lnTo>
                            <a:pt x="692" y="1958"/>
                          </a:lnTo>
                          <a:lnTo>
                            <a:pt x="692" y="1954"/>
                          </a:lnTo>
                          <a:lnTo>
                            <a:pt x="692" y="1952"/>
                          </a:lnTo>
                          <a:lnTo>
                            <a:pt x="694" y="1950"/>
                          </a:lnTo>
                          <a:lnTo>
                            <a:pt x="696" y="1945"/>
                          </a:lnTo>
                          <a:lnTo>
                            <a:pt x="698" y="1941"/>
                          </a:lnTo>
                          <a:lnTo>
                            <a:pt x="700" y="1937"/>
                          </a:lnTo>
                          <a:lnTo>
                            <a:pt x="700" y="1935"/>
                          </a:lnTo>
                          <a:lnTo>
                            <a:pt x="700" y="1933"/>
                          </a:lnTo>
                          <a:lnTo>
                            <a:pt x="702" y="1933"/>
                          </a:lnTo>
                          <a:lnTo>
                            <a:pt x="740" y="1943"/>
                          </a:lnTo>
                          <a:lnTo>
                            <a:pt x="740" y="1943"/>
                          </a:lnTo>
                          <a:lnTo>
                            <a:pt x="738" y="1945"/>
                          </a:lnTo>
                          <a:lnTo>
                            <a:pt x="738" y="1947"/>
                          </a:lnTo>
                          <a:lnTo>
                            <a:pt x="738" y="1950"/>
                          </a:lnTo>
                          <a:lnTo>
                            <a:pt x="738" y="1954"/>
                          </a:lnTo>
                          <a:lnTo>
                            <a:pt x="738" y="1958"/>
                          </a:lnTo>
                          <a:lnTo>
                            <a:pt x="736" y="1962"/>
                          </a:lnTo>
                          <a:lnTo>
                            <a:pt x="736" y="1964"/>
                          </a:lnTo>
                          <a:lnTo>
                            <a:pt x="736" y="1967"/>
                          </a:lnTo>
                          <a:lnTo>
                            <a:pt x="736" y="1971"/>
                          </a:lnTo>
                          <a:lnTo>
                            <a:pt x="736" y="1975"/>
                          </a:lnTo>
                          <a:lnTo>
                            <a:pt x="736" y="1979"/>
                          </a:lnTo>
                          <a:lnTo>
                            <a:pt x="736" y="1983"/>
                          </a:lnTo>
                          <a:lnTo>
                            <a:pt x="736" y="1985"/>
                          </a:lnTo>
                          <a:lnTo>
                            <a:pt x="736" y="1990"/>
                          </a:lnTo>
                          <a:lnTo>
                            <a:pt x="736" y="1994"/>
                          </a:lnTo>
                          <a:lnTo>
                            <a:pt x="736" y="1998"/>
                          </a:lnTo>
                          <a:lnTo>
                            <a:pt x="736" y="2004"/>
                          </a:lnTo>
                          <a:lnTo>
                            <a:pt x="736" y="2007"/>
                          </a:lnTo>
                          <a:lnTo>
                            <a:pt x="736" y="2013"/>
                          </a:lnTo>
                          <a:lnTo>
                            <a:pt x="736" y="2015"/>
                          </a:lnTo>
                          <a:lnTo>
                            <a:pt x="736" y="2021"/>
                          </a:lnTo>
                          <a:lnTo>
                            <a:pt x="736" y="2026"/>
                          </a:lnTo>
                          <a:lnTo>
                            <a:pt x="736" y="2030"/>
                          </a:lnTo>
                          <a:lnTo>
                            <a:pt x="736" y="2036"/>
                          </a:lnTo>
                          <a:lnTo>
                            <a:pt x="736" y="2042"/>
                          </a:lnTo>
                          <a:lnTo>
                            <a:pt x="736" y="2047"/>
                          </a:lnTo>
                          <a:lnTo>
                            <a:pt x="738" y="2051"/>
                          </a:lnTo>
                          <a:lnTo>
                            <a:pt x="738" y="2057"/>
                          </a:lnTo>
                          <a:lnTo>
                            <a:pt x="738" y="2062"/>
                          </a:lnTo>
                          <a:lnTo>
                            <a:pt x="740" y="2066"/>
                          </a:lnTo>
                          <a:lnTo>
                            <a:pt x="740" y="2072"/>
                          </a:lnTo>
                          <a:lnTo>
                            <a:pt x="742" y="2078"/>
                          </a:lnTo>
                          <a:lnTo>
                            <a:pt x="744" y="2083"/>
                          </a:lnTo>
                          <a:lnTo>
                            <a:pt x="744" y="2091"/>
                          </a:lnTo>
                          <a:lnTo>
                            <a:pt x="746" y="2095"/>
                          </a:lnTo>
                          <a:lnTo>
                            <a:pt x="748" y="2101"/>
                          </a:lnTo>
                          <a:lnTo>
                            <a:pt x="748" y="2106"/>
                          </a:lnTo>
                          <a:lnTo>
                            <a:pt x="751" y="2110"/>
                          </a:lnTo>
                          <a:lnTo>
                            <a:pt x="753" y="2118"/>
                          </a:lnTo>
                          <a:lnTo>
                            <a:pt x="753" y="2123"/>
                          </a:lnTo>
                          <a:lnTo>
                            <a:pt x="757" y="2129"/>
                          </a:lnTo>
                          <a:lnTo>
                            <a:pt x="759" y="2135"/>
                          </a:lnTo>
                          <a:lnTo>
                            <a:pt x="761" y="2139"/>
                          </a:lnTo>
                          <a:lnTo>
                            <a:pt x="765" y="2144"/>
                          </a:lnTo>
                          <a:lnTo>
                            <a:pt x="767" y="2150"/>
                          </a:lnTo>
                          <a:lnTo>
                            <a:pt x="769" y="2156"/>
                          </a:lnTo>
                          <a:lnTo>
                            <a:pt x="772" y="2159"/>
                          </a:lnTo>
                          <a:lnTo>
                            <a:pt x="776" y="2165"/>
                          </a:lnTo>
                          <a:lnTo>
                            <a:pt x="780" y="2171"/>
                          </a:lnTo>
                          <a:lnTo>
                            <a:pt x="782" y="2175"/>
                          </a:lnTo>
                          <a:lnTo>
                            <a:pt x="786" y="2180"/>
                          </a:lnTo>
                          <a:lnTo>
                            <a:pt x="789" y="2186"/>
                          </a:lnTo>
                          <a:lnTo>
                            <a:pt x="795" y="2190"/>
                          </a:lnTo>
                          <a:lnTo>
                            <a:pt x="799" y="2196"/>
                          </a:lnTo>
                          <a:lnTo>
                            <a:pt x="805" y="2201"/>
                          </a:lnTo>
                          <a:lnTo>
                            <a:pt x="808" y="2205"/>
                          </a:lnTo>
                          <a:lnTo>
                            <a:pt x="814" y="2209"/>
                          </a:lnTo>
                          <a:lnTo>
                            <a:pt x="818" y="2213"/>
                          </a:lnTo>
                          <a:lnTo>
                            <a:pt x="824" y="2216"/>
                          </a:lnTo>
                          <a:lnTo>
                            <a:pt x="828" y="2222"/>
                          </a:lnTo>
                          <a:lnTo>
                            <a:pt x="833" y="2224"/>
                          </a:lnTo>
                          <a:lnTo>
                            <a:pt x="839" y="2228"/>
                          </a:lnTo>
                          <a:lnTo>
                            <a:pt x="845" y="2232"/>
                          </a:lnTo>
                          <a:lnTo>
                            <a:pt x="848" y="2235"/>
                          </a:lnTo>
                          <a:lnTo>
                            <a:pt x="854" y="2239"/>
                          </a:lnTo>
                          <a:lnTo>
                            <a:pt x="858" y="2243"/>
                          </a:lnTo>
                          <a:lnTo>
                            <a:pt x="864" y="2245"/>
                          </a:lnTo>
                          <a:lnTo>
                            <a:pt x="867" y="2249"/>
                          </a:lnTo>
                          <a:lnTo>
                            <a:pt x="873" y="2253"/>
                          </a:lnTo>
                          <a:lnTo>
                            <a:pt x="877" y="2256"/>
                          </a:lnTo>
                          <a:lnTo>
                            <a:pt x="883" y="2258"/>
                          </a:lnTo>
                          <a:lnTo>
                            <a:pt x="890" y="2260"/>
                          </a:lnTo>
                          <a:lnTo>
                            <a:pt x="896" y="2264"/>
                          </a:lnTo>
                          <a:lnTo>
                            <a:pt x="900" y="2266"/>
                          </a:lnTo>
                          <a:lnTo>
                            <a:pt x="904" y="2268"/>
                          </a:lnTo>
                          <a:lnTo>
                            <a:pt x="907" y="2270"/>
                          </a:lnTo>
                          <a:lnTo>
                            <a:pt x="913" y="2273"/>
                          </a:lnTo>
                          <a:lnTo>
                            <a:pt x="919" y="2275"/>
                          </a:lnTo>
                          <a:lnTo>
                            <a:pt x="925" y="2277"/>
                          </a:lnTo>
                          <a:lnTo>
                            <a:pt x="928" y="2279"/>
                          </a:lnTo>
                          <a:lnTo>
                            <a:pt x="934" y="2281"/>
                          </a:lnTo>
                          <a:lnTo>
                            <a:pt x="938" y="2283"/>
                          </a:lnTo>
                          <a:lnTo>
                            <a:pt x="942" y="2285"/>
                          </a:lnTo>
                          <a:lnTo>
                            <a:pt x="947" y="2287"/>
                          </a:lnTo>
                          <a:lnTo>
                            <a:pt x="951" y="2289"/>
                          </a:lnTo>
                          <a:lnTo>
                            <a:pt x="955" y="2289"/>
                          </a:lnTo>
                          <a:lnTo>
                            <a:pt x="961" y="2291"/>
                          </a:lnTo>
                          <a:lnTo>
                            <a:pt x="964" y="2291"/>
                          </a:lnTo>
                          <a:lnTo>
                            <a:pt x="968" y="2294"/>
                          </a:lnTo>
                          <a:lnTo>
                            <a:pt x="972" y="2294"/>
                          </a:lnTo>
                          <a:lnTo>
                            <a:pt x="978" y="2294"/>
                          </a:lnTo>
                          <a:lnTo>
                            <a:pt x="982" y="2296"/>
                          </a:lnTo>
                          <a:lnTo>
                            <a:pt x="985" y="2296"/>
                          </a:lnTo>
                          <a:lnTo>
                            <a:pt x="989" y="2296"/>
                          </a:lnTo>
                          <a:lnTo>
                            <a:pt x="993" y="2298"/>
                          </a:lnTo>
                          <a:lnTo>
                            <a:pt x="997" y="2298"/>
                          </a:lnTo>
                          <a:lnTo>
                            <a:pt x="1001" y="2298"/>
                          </a:lnTo>
                          <a:lnTo>
                            <a:pt x="1004" y="2298"/>
                          </a:lnTo>
                          <a:lnTo>
                            <a:pt x="1008" y="2300"/>
                          </a:lnTo>
                          <a:lnTo>
                            <a:pt x="1010" y="2300"/>
                          </a:lnTo>
                          <a:lnTo>
                            <a:pt x="1014" y="2300"/>
                          </a:lnTo>
                          <a:lnTo>
                            <a:pt x="1016" y="2300"/>
                          </a:lnTo>
                          <a:lnTo>
                            <a:pt x="1020" y="2300"/>
                          </a:lnTo>
                          <a:lnTo>
                            <a:pt x="1022" y="2300"/>
                          </a:lnTo>
                          <a:lnTo>
                            <a:pt x="1025" y="2302"/>
                          </a:lnTo>
                          <a:lnTo>
                            <a:pt x="1029" y="2300"/>
                          </a:lnTo>
                          <a:lnTo>
                            <a:pt x="1035" y="2300"/>
                          </a:lnTo>
                          <a:lnTo>
                            <a:pt x="1039" y="2298"/>
                          </a:lnTo>
                          <a:lnTo>
                            <a:pt x="1042" y="2298"/>
                          </a:lnTo>
                          <a:lnTo>
                            <a:pt x="1044" y="2296"/>
                          </a:lnTo>
                          <a:lnTo>
                            <a:pt x="1048" y="2296"/>
                          </a:lnTo>
                          <a:lnTo>
                            <a:pt x="1048" y="2294"/>
                          </a:lnTo>
                          <a:lnTo>
                            <a:pt x="1050" y="2294"/>
                          </a:lnTo>
                          <a:lnTo>
                            <a:pt x="1246" y="1334"/>
                          </a:lnTo>
                          <a:lnTo>
                            <a:pt x="1246" y="1333"/>
                          </a:lnTo>
                          <a:lnTo>
                            <a:pt x="1248" y="1331"/>
                          </a:lnTo>
                          <a:lnTo>
                            <a:pt x="1250" y="1327"/>
                          </a:lnTo>
                          <a:lnTo>
                            <a:pt x="1252" y="1325"/>
                          </a:lnTo>
                          <a:lnTo>
                            <a:pt x="1252" y="1323"/>
                          </a:lnTo>
                          <a:lnTo>
                            <a:pt x="1254" y="1319"/>
                          </a:lnTo>
                          <a:lnTo>
                            <a:pt x="1256" y="1315"/>
                          </a:lnTo>
                          <a:lnTo>
                            <a:pt x="1259" y="1312"/>
                          </a:lnTo>
                          <a:lnTo>
                            <a:pt x="1259" y="1306"/>
                          </a:lnTo>
                          <a:lnTo>
                            <a:pt x="1263" y="1302"/>
                          </a:lnTo>
                          <a:lnTo>
                            <a:pt x="1265" y="1296"/>
                          </a:lnTo>
                          <a:lnTo>
                            <a:pt x="1269" y="1293"/>
                          </a:lnTo>
                          <a:lnTo>
                            <a:pt x="1271" y="1285"/>
                          </a:lnTo>
                          <a:lnTo>
                            <a:pt x="1275" y="1281"/>
                          </a:lnTo>
                          <a:lnTo>
                            <a:pt x="1276" y="1274"/>
                          </a:lnTo>
                          <a:lnTo>
                            <a:pt x="1280" y="1266"/>
                          </a:lnTo>
                          <a:lnTo>
                            <a:pt x="1284" y="1258"/>
                          </a:lnTo>
                          <a:lnTo>
                            <a:pt x="1288" y="1249"/>
                          </a:lnTo>
                          <a:lnTo>
                            <a:pt x="1290" y="1241"/>
                          </a:lnTo>
                          <a:lnTo>
                            <a:pt x="1294" y="1234"/>
                          </a:lnTo>
                          <a:lnTo>
                            <a:pt x="1297" y="1224"/>
                          </a:lnTo>
                          <a:lnTo>
                            <a:pt x="1301" y="1217"/>
                          </a:lnTo>
                          <a:lnTo>
                            <a:pt x="1305" y="1207"/>
                          </a:lnTo>
                          <a:lnTo>
                            <a:pt x="1309" y="1198"/>
                          </a:lnTo>
                          <a:lnTo>
                            <a:pt x="1313" y="1188"/>
                          </a:lnTo>
                          <a:lnTo>
                            <a:pt x="1316" y="1177"/>
                          </a:lnTo>
                          <a:lnTo>
                            <a:pt x="1320" y="1165"/>
                          </a:lnTo>
                          <a:lnTo>
                            <a:pt x="1324" y="1154"/>
                          </a:lnTo>
                          <a:lnTo>
                            <a:pt x="1330" y="1144"/>
                          </a:lnTo>
                          <a:lnTo>
                            <a:pt x="1334" y="1133"/>
                          </a:lnTo>
                          <a:lnTo>
                            <a:pt x="1337" y="1122"/>
                          </a:lnTo>
                          <a:lnTo>
                            <a:pt x="1339" y="1108"/>
                          </a:lnTo>
                          <a:lnTo>
                            <a:pt x="1345" y="1097"/>
                          </a:lnTo>
                          <a:lnTo>
                            <a:pt x="1349" y="1084"/>
                          </a:lnTo>
                          <a:lnTo>
                            <a:pt x="1353" y="1070"/>
                          </a:lnTo>
                          <a:lnTo>
                            <a:pt x="1354" y="1059"/>
                          </a:lnTo>
                          <a:lnTo>
                            <a:pt x="1358" y="1044"/>
                          </a:lnTo>
                          <a:lnTo>
                            <a:pt x="1362" y="1032"/>
                          </a:lnTo>
                          <a:lnTo>
                            <a:pt x="1366" y="1017"/>
                          </a:lnTo>
                          <a:lnTo>
                            <a:pt x="1370" y="1004"/>
                          </a:lnTo>
                          <a:lnTo>
                            <a:pt x="1372" y="988"/>
                          </a:lnTo>
                          <a:lnTo>
                            <a:pt x="1375" y="975"/>
                          </a:lnTo>
                          <a:lnTo>
                            <a:pt x="1377" y="960"/>
                          </a:lnTo>
                          <a:lnTo>
                            <a:pt x="1381" y="947"/>
                          </a:lnTo>
                          <a:lnTo>
                            <a:pt x="1383" y="931"/>
                          </a:lnTo>
                          <a:lnTo>
                            <a:pt x="1387" y="916"/>
                          </a:lnTo>
                          <a:lnTo>
                            <a:pt x="1389" y="901"/>
                          </a:lnTo>
                          <a:lnTo>
                            <a:pt x="1391" y="886"/>
                          </a:lnTo>
                          <a:lnTo>
                            <a:pt x="1392" y="871"/>
                          </a:lnTo>
                          <a:lnTo>
                            <a:pt x="1394" y="855"/>
                          </a:lnTo>
                          <a:lnTo>
                            <a:pt x="1396" y="838"/>
                          </a:lnTo>
                          <a:lnTo>
                            <a:pt x="1398" y="823"/>
                          </a:lnTo>
                          <a:lnTo>
                            <a:pt x="1398" y="806"/>
                          </a:lnTo>
                          <a:lnTo>
                            <a:pt x="1400" y="791"/>
                          </a:lnTo>
                          <a:lnTo>
                            <a:pt x="1402" y="774"/>
                          </a:lnTo>
                          <a:lnTo>
                            <a:pt x="1402" y="757"/>
                          </a:lnTo>
                          <a:lnTo>
                            <a:pt x="1402" y="741"/>
                          </a:lnTo>
                          <a:lnTo>
                            <a:pt x="1402" y="724"/>
                          </a:lnTo>
                          <a:lnTo>
                            <a:pt x="1402" y="705"/>
                          </a:lnTo>
                          <a:lnTo>
                            <a:pt x="1402" y="690"/>
                          </a:lnTo>
                          <a:lnTo>
                            <a:pt x="1400" y="673"/>
                          </a:lnTo>
                          <a:lnTo>
                            <a:pt x="1400" y="656"/>
                          </a:lnTo>
                          <a:lnTo>
                            <a:pt x="1398" y="654"/>
                          </a:lnTo>
                          <a:lnTo>
                            <a:pt x="1398" y="652"/>
                          </a:lnTo>
                          <a:lnTo>
                            <a:pt x="1398" y="648"/>
                          </a:lnTo>
                          <a:lnTo>
                            <a:pt x="1398" y="644"/>
                          </a:lnTo>
                          <a:lnTo>
                            <a:pt x="1398" y="643"/>
                          </a:lnTo>
                          <a:lnTo>
                            <a:pt x="1398" y="639"/>
                          </a:lnTo>
                          <a:lnTo>
                            <a:pt x="1396" y="637"/>
                          </a:lnTo>
                          <a:lnTo>
                            <a:pt x="1396" y="633"/>
                          </a:lnTo>
                          <a:lnTo>
                            <a:pt x="1396" y="631"/>
                          </a:lnTo>
                          <a:lnTo>
                            <a:pt x="1396" y="627"/>
                          </a:lnTo>
                          <a:lnTo>
                            <a:pt x="1396" y="623"/>
                          </a:lnTo>
                          <a:lnTo>
                            <a:pt x="1394" y="620"/>
                          </a:lnTo>
                          <a:lnTo>
                            <a:pt x="1394" y="618"/>
                          </a:lnTo>
                          <a:lnTo>
                            <a:pt x="1394" y="616"/>
                          </a:lnTo>
                          <a:lnTo>
                            <a:pt x="1392" y="612"/>
                          </a:lnTo>
                          <a:lnTo>
                            <a:pt x="1392" y="610"/>
                          </a:lnTo>
                          <a:lnTo>
                            <a:pt x="1392" y="608"/>
                          </a:lnTo>
                          <a:lnTo>
                            <a:pt x="1391" y="604"/>
                          </a:lnTo>
                          <a:lnTo>
                            <a:pt x="1391" y="603"/>
                          </a:lnTo>
                          <a:lnTo>
                            <a:pt x="1391" y="599"/>
                          </a:lnTo>
                          <a:lnTo>
                            <a:pt x="1389" y="597"/>
                          </a:lnTo>
                          <a:lnTo>
                            <a:pt x="1389" y="593"/>
                          </a:lnTo>
                          <a:lnTo>
                            <a:pt x="1389" y="589"/>
                          </a:lnTo>
                          <a:lnTo>
                            <a:pt x="1389" y="587"/>
                          </a:lnTo>
                          <a:lnTo>
                            <a:pt x="1387" y="585"/>
                          </a:lnTo>
                          <a:lnTo>
                            <a:pt x="1385" y="582"/>
                          </a:lnTo>
                          <a:lnTo>
                            <a:pt x="1385" y="580"/>
                          </a:lnTo>
                          <a:lnTo>
                            <a:pt x="1383" y="578"/>
                          </a:lnTo>
                          <a:lnTo>
                            <a:pt x="1383" y="572"/>
                          </a:lnTo>
                          <a:lnTo>
                            <a:pt x="1381" y="568"/>
                          </a:lnTo>
                          <a:lnTo>
                            <a:pt x="1377" y="563"/>
                          </a:lnTo>
                          <a:lnTo>
                            <a:pt x="1375" y="557"/>
                          </a:lnTo>
                          <a:lnTo>
                            <a:pt x="1373" y="553"/>
                          </a:lnTo>
                          <a:lnTo>
                            <a:pt x="1370" y="547"/>
                          </a:lnTo>
                          <a:lnTo>
                            <a:pt x="1366" y="544"/>
                          </a:lnTo>
                          <a:lnTo>
                            <a:pt x="1364" y="540"/>
                          </a:lnTo>
                          <a:lnTo>
                            <a:pt x="1360" y="536"/>
                          </a:lnTo>
                          <a:lnTo>
                            <a:pt x="1356" y="532"/>
                          </a:lnTo>
                          <a:lnTo>
                            <a:pt x="1353" y="528"/>
                          </a:lnTo>
                          <a:lnTo>
                            <a:pt x="1349" y="525"/>
                          </a:lnTo>
                          <a:lnTo>
                            <a:pt x="1345" y="523"/>
                          </a:lnTo>
                          <a:lnTo>
                            <a:pt x="1339" y="521"/>
                          </a:lnTo>
                          <a:lnTo>
                            <a:pt x="1335" y="517"/>
                          </a:lnTo>
                          <a:lnTo>
                            <a:pt x="1332" y="515"/>
                          </a:lnTo>
                          <a:lnTo>
                            <a:pt x="1326" y="515"/>
                          </a:lnTo>
                          <a:lnTo>
                            <a:pt x="1322" y="513"/>
                          </a:lnTo>
                          <a:lnTo>
                            <a:pt x="1318" y="511"/>
                          </a:lnTo>
                          <a:lnTo>
                            <a:pt x="1316" y="511"/>
                          </a:lnTo>
                          <a:lnTo>
                            <a:pt x="1313" y="511"/>
                          </a:lnTo>
                          <a:lnTo>
                            <a:pt x="1311" y="511"/>
                          </a:lnTo>
                          <a:lnTo>
                            <a:pt x="1309" y="509"/>
                          </a:lnTo>
                          <a:lnTo>
                            <a:pt x="1305" y="509"/>
                          </a:lnTo>
                          <a:lnTo>
                            <a:pt x="1303" y="509"/>
                          </a:lnTo>
                          <a:lnTo>
                            <a:pt x="1301" y="509"/>
                          </a:lnTo>
                          <a:lnTo>
                            <a:pt x="1297" y="509"/>
                          </a:lnTo>
                          <a:lnTo>
                            <a:pt x="1295" y="509"/>
                          </a:lnTo>
                          <a:lnTo>
                            <a:pt x="1292" y="509"/>
                          </a:lnTo>
                          <a:lnTo>
                            <a:pt x="1290" y="509"/>
                          </a:lnTo>
                          <a:lnTo>
                            <a:pt x="1284" y="509"/>
                          </a:lnTo>
                          <a:lnTo>
                            <a:pt x="1280" y="509"/>
                          </a:lnTo>
                          <a:lnTo>
                            <a:pt x="1275" y="509"/>
                          </a:lnTo>
                          <a:lnTo>
                            <a:pt x="1269" y="509"/>
                          </a:lnTo>
                          <a:lnTo>
                            <a:pt x="1265" y="509"/>
                          </a:lnTo>
                          <a:lnTo>
                            <a:pt x="1259" y="509"/>
                          </a:lnTo>
                          <a:lnTo>
                            <a:pt x="1256" y="511"/>
                          </a:lnTo>
                          <a:lnTo>
                            <a:pt x="1252" y="511"/>
                          </a:lnTo>
                          <a:lnTo>
                            <a:pt x="1246" y="515"/>
                          </a:lnTo>
                          <a:lnTo>
                            <a:pt x="1242" y="515"/>
                          </a:lnTo>
                          <a:lnTo>
                            <a:pt x="1238" y="517"/>
                          </a:lnTo>
                          <a:lnTo>
                            <a:pt x="1235" y="521"/>
                          </a:lnTo>
                          <a:lnTo>
                            <a:pt x="1231" y="523"/>
                          </a:lnTo>
                          <a:lnTo>
                            <a:pt x="1229" y="525"/>
                          </a:lnTo>
                          <a:lnTo>
                            <a:pt x="1225" y="527"/>
                          </a:lnTo>
                          <a:lnTo>
                            <a:pt x="1221" y="530"/>
                          </a:lnTo>
                          <a:lnTo>
                            <a:pt x="1219" y="532"/>
                          </a:lnTo>
                          <a:lnTo>
                            <a:pt x="1216" y="538"/>
                          </a:lnTo>
                          <a:lnTo>
                            <a:pt x="1214" y="542"/>
                          </a:lnTo>
                          <a:lnTo>
                            <a:pt x="1212" y="546"/>
                          </a:lnTo>
                          <a:lnTo>
                            <a:pt x="1210" y="549"/>
                          </a:lnTo>
                          <a:lnTo>
                            <a:pt x="1208" y="555"/>
                          </a:lnTo>
                          <a:lnTo>
                            <a:pt x="1208" y="557"/>
                          </a:lnTo>
                          <a:lnTo>
                            <a:pt x="1206" y="559"/>
                          </a:lnTo>
                          <a:lnTo>
                            <a:pt x="1204" y="561"/>
                          </a:lnTo>
                          <a:lnTo>
                            <a:pt x="1204" y="565"/>
                          </a:lnTo>
                          <a:lnTo>
                            <a:pt x="1204" y="566"/>
                          </a:lnTo>
                          <a:lnTo>
                            <a:pt x="1204" y="570"/>
                          </a:lnTo>
                          <a:lnTo>
                            <a:pt x="1204" y="572"/>
                          </a:lnTo>
                          <a:lnTo>
                            <a:pt x="1204" y="576"/>
                          </a:lnTo>
                          <a:lnTo>
                            <a:pt x="1139" y="895"/>
                          </a:lnTo>
                          <a:lnTo>
                            <a:pt x="1136" y="893"/>
                          </a:lnTo>
                          <a:lnTo>
                            <a:pt x="1132" y="892"/>
                          </a:lnTo>
                          <a:lnTo>
                            <a:pt x="1126" y="888"/>
                          </a:lnTo>
                          <a:lnTo>
                            <a:pt x="1122" y="886"/>
                          </a:lnTo>
                          <a:lnTo>
                            <a:pt x="1117" y="884"/>
                          </a:lnTo>
                          <a:lnTo>
                            <a:pt x="1113" y="880"/>
                          </a:lnTo>
                          <a:lnTo>
                            <a:pt x="1107" y="878"/>
                          </a:lnTo>
                          <a:lnTo>
                            <a:pt x="1105" y="876"/>
                          </a:lnTo>
                          <a:lnTo>
                            <a:pt x="1227" y="316"/>
                          </a:lnTo>
                          <a:lnTo>
                            <a:pt x="1227" y="312"/>
                          </a:lnTo>
                          <a:lnTo>
                            <a:pt x="1227" y="308"/>
                          </a:lnTo>
                          <a:lnTo>
                            <a:pt x="1229" y="306"/>
                          </a:lnTo>
                          <a:lnTo>
                            <a:pt x="1229" y="304"/>
                          </a:lnTo>
                          <a:lnTo>
                            <a:pt x="1229" y="300"/>
                          </a:lnTo>
                          <a:lnTo>
                            <a:pt x="1229" y="298"/>
                          </a:lnTo>
                          <a:lnTo>
                            <a:pt x="1229" y="295"/>
                          </a:lnTo>
                          <a:lnTo>
                            <a:pt x="1229" y="293"/>
                          </a:lnTo>
                          <a:lnTo>
                            <a:pt x="1229" y="291"/>
                          </a:lnTo>
                          <a:lnTo>
                            <a:pt x="1229" y="287"/>
                          </a:lnTo>
                          <a:lnTo>
                            <a:pt x="1229" y="285"/>
                          </a:lnTo>
                          <a:lnTo>
                            <a:pt x="1229" y="283"/>
                          </a:lnTo>
                          <a:lnTo>
                            <a:pt x="1229" y="278"/>
                          </a:lnTo>
                          <a:lnTo>
                            <a:pt x="1227" y="272"/>
                          </a:lnTo>
                          <a:lnTo>
                            <a:pt x="1225" y="268"/>
                          </a:lnTo>
                          <a:lnTo>
                            <a:pt x="1225" y="262"/>
                          </a:lnTo>
                          <a:lnTo>
                            <a:pt x="1223" y="257"/>
                          </a:lnTo>
                          <a:lnTo>
                            <a:pt x="1221" y="253"/>
                          </a:lnTo>
                          <a:lnTo>
                            <a:pt x="1219" y="247"/>
                          </a:lnTo>
                          <a:lnTo>
                            <a:pt x="1217" y="243"/>
                          </a:lnTo>
                          <a:lnTo>
                            <a:pt x="1216" y="240"/>
                          </a:lnTo>
                          <a:lnTo>
                            <a:pt x="1214" y="236"/>
                          </a:lnTo>
                          <a:lnTo>
                            <a:pt x="1210" y="232"/>
                          </a:lnTo>
                          <a:lnTo>
                            <a:pt x="1206" y="226"/>
                          </a:lnTo>
                          <a:lnTo>
                            <a:pt x="1202" y="222"/>
                          </a:lnTo>
                          <a:lnTo>
                            <a:pt x="1200" y="219"/>
                          </a:lnTo>
                          <a:lnTo>
                            <a:pt x="1197" y="215"/>
                          </a:lnTo>
                          <a:lnTo>
                            <a:pt x="1193" y="211"/>
                          </a:lnTo>
                          <a:lnTo>
                            <a:pt x="1189" y="207"/>
                          </a:lnTo>
                          <a:lnTo>
                            <a:pt x="1185" y="205"/>
                          </a:lnTo>
                          <a:lnTo>
                            <a:pt x="1179" y="203"/>
                          </a:lnTo>
                          <a:lnTo>
                            <a:pt x="1176" y="200"/>
                          </a:lnTo>
                          <a:lnTo>
                            <a:pt x="1172" y="198"/>
                          </a:lnTo>
                          <a:lnTo>
                            <a:pt x="1166" y="194"/>
                          </a:lnTo>
                          <a:lnTo>
                            <a:pt x="1160" y="192"/>
                          </a:lnTo>
                          <a:lnTo>
                            <a:pt x="1157" y="192"/>
                          </a:lnTo>
                          <a:lnTo>
                            <a:pt x="1151" y="190"/>
                          </a:lnTo>
                          <a:lnTo>
                            <a:pt x="1147" y="190"/>
                          </a:lnTo>
                          <a:lnTo>
                            <a:pt x="1143" y="188"/>
                          </a:lnTo>
                          <a:lnTo>
                            <a:pt x="1141" y="186"/>
                          </a:lnTo>
                          <a:lnTo>
                            <a:pt x="1138" y="186"/>
                          </a:lnTo>
                          <a:lnTo>
                            <a:pt x="1136" y="186"/>
                          </a:lnTo>
                          <a:lnTo>
                            <a:pt x="1134" y="186"/>
                          </a:lnTo>
                          <a:lnTo>
                            <a:pt x="1130" y="186"/>
                          </a:lnTo>
                          <a:lnTo>
                            <a:pt x="1128" y="186"/>
                          </a:lnTo>
                          <a:lnTo>
                            <a:pt x="1124" y="186"/>
                          </a:lnTo>
                          <a:lnTo>
                            <a:pt x="1122" y="186"/>
                          </a:lnTo>
                          <a:lnTo>
                            <a:pt x="1120" y="186"/>
                          </a:lnTo>
                          <a:lnTo>
                            <a:pt x="1117" y="186"/>
                          </a:lnTo>
                          <a:lnTo>
                            <a:pt x="1115" y="186"/>
                          </a:lnTo>
                          <a:lnTo>
                            <a:pt x="1109" y="186"/>
                          </a:lnTo>
                          <a:lnTo>
                            <a:pt x="1105" y="188"/>
                          </a:lnTo>
                          <a:lnTo>
                            <a:pt x="1100" y="188"/>
                          </a:lnTo>
                          <a:lnTo>
                            <a:pt x="1094" y="190"/>
                          </a:lnTo>
                          <a:lnTo>
                            <a:pt x="1090" y="192"/>
                          </a:lnTo>
                          <a:lnTo>
                            <a:pt x="1086" y="192"/>
                          </a:lnTo>
                          <a:lnTo>
                            <a:pt x="1081" y="194"/>
                          </a:lnTo>
                          <a:lnTo>
                            <a:pt x="1077" y="198"/>
                          </a:lnTo>
                          <a:lnTo>
                            <a:pt x="1073" y="200"/>
                          </a:lnTo>
                          <a:lnTo>
                            <a:pt x="1067" y="203"/>
                          </a:lnTo>
                          <a:lnTo>
                            <a:pt x="1063" y="205"/>
                          </a:lnTo>
                          <a:lnTo>
                            <a:pt x="1058" y="207"/>
                          </a:lnTo>
                          <a:lnTo>
                            <a:pt x="1054" y="211"/>
                          </a:lnTo>
                          <a:lnTo>
                            <a:pt x="1050" y="215"/>
                          </a:lnTo>
                          <a:lnTo>
                            <a:pt x="1048" y="219"/>
                          </a:lnTo>
                          <a:lnTo>
                            <a:pt x="1044" y="222"/>
                          </a:lnTo>
                          <a:lnTo>
                            <a:pt x="1041" y="226"/>
                          </a:lnTo>
                          <a:lnTo>
                            <a:pt x="1039" y="232"/>
                          </a:lnTo>
                          <a:lnTo>
                            <a:pt x="1035" y="234"/>
                          </a:lnTo>
                          <a:lnTo>
                            <a:pt x="1033" y="240"/>
                          </a:lnTo>
                          <a:lnTo>
                            <a:pt x="1029" y="243"/>
                          </a:lnTo>
                          <a:lnTo>
                            <a:pt x="1027" y="249"/>
                          </a:lnTo>
                          <a:lnTo>
                            <a:pt x="1025" y="253"/>
                          </a:lnTo>
                          <a:lnTo>
                            <a:pt x="1023" y="259"/>
                          </a:lnTo>
                          <a:lnTo>
                            <a:pt x="1022" y="260"/>
                          </a:lnTo>
                          <a:lnTo>
                            <a:pt x="1022" y="264"/>
                          </a:lnTo>
                          <a:lnTo>
                            <a:pt x="1022" y="266"/>
                          </a:lnTo>
                          <a:lnTo>
                            <a:pt x="1022" y="270"/>
                          </a:lnTo>
                          <a:lnTo>
                            <a:pt x="919" y="730"/>
                          </a:lnTo>
                          <a:lnTo>
                            <a:pt x="915" y="728"/>
                          </a:lnTo>
                          <a:lnTo>
                            <a:pt x="913" y="726"/>
                          </a:lnTo>
                          <a:lnTo>
                            <a:pt x="907" y="724"/>
                          </a:lnTo>
                          <a:lnTo>
                            <a:pt x="905" y="720"/>
                          </a:lnTo>
                          <a:lnTo>
                            <a:pt x="904" y="719"/>
                          </a:lnTo>
                          <a:lnTo>
                            <a:pt x="900" y="717"/>
                          </a:lnTo>
                          <a:lnTo>
                            <a:pt x="896" y="713"/>
                          </a:lnTo>
                          <a:lnTo>
                            <a:pt x="892" y="713"/>
                          </a:lnTo>
                          <a:lnTo>
                            <a:pt x="1022" y="129"/>
                          </a:lnTo>
                          <a:lnTo>
                            <a:pt x="1022" y="125"/>
                          </a:lnTo>
                          <a:lnTo>
                            <a:pt x="1022" y="124"/>
                          </a:lnTo>
                          <a:lnTo>
                            <a:pt x="1022" y="120"/>
                          </a:lnTo>
                          <a:lnTo>
                            <a:pt x="1022" y="118"/>
                          </a:lnTo>
                          <a:lnTo>
                            <a:pt x="1022" y="114"/>
                          </a:lnTo>
                          <a:lnTo>
                            <a:pt x="1022" y="112"/>
                          </a:lnTo>
                          <a:lnTo>
                            <a:pt x="1022" y="110"/>
                          </a:lnTo>
                          <a:lnTo>
                            <a:pt x="1022" y="106"/>
                          </a:lnTo>
                          <a:lnTo>
                            <a:pt x="1022" y="105"/>
                          </a:lnTo>
                          <a:lnTo>
                            <a:pt x="1022" y="103"/>
                          </a:lnTo>
                          <a:lnTo>
                            <a:pt x="1022" y="99"/>
                          </a:lnTo>
                          <a:lnTo>
                            <a:pt x="1022" y="97"/>
                          </a:lnTo>
                          <a:lnTo>
                            <a:pt x="1022" y="91"/>
                          </a:lnTo>
                          <a:lnTo>
                            <a:pt x="1022" y="86"/>
                          </a:lnTo>
                          <a:lnTo>
                            <a:pt x="1020" y="82"/>
                          </a:lnTo>
                          <a:lnTo>
                            <a:pt x="1018" y="76"/>
                          </a:lnTo>
                          <a:lnTo>
                            <a:pt x="1016" y="70"/>
                          </a:lnTo>
                          <a:lnTo>
                            <a:pt x="1014" y="67"/>
                          </a:lnTo>
                          <a:lnTo>
                            <a:pt x="1012" y="61"/>
                          </a:lnTo>
                          <a:lnTo>
                            <a:pt x="1010" y="57"/>
                          </a:lnTo>
                          <a:lnTo>
                            <a:pt x="1008" y="53"/>
                          </a:lnTo>
                          <a:lnTo>
                            <a:pt x="1006" y="48"/>
                          </a:lnTo>
                          <a:lnTo>
                            <a:pt x="1004" y="44"/>
                          </a:lnTo>
                          <a:lnTo>
                            <a:pt x="1001" y="40"/>
                          </a:lnTo>
                          <a:lnTo>
                            <a:pt x="997" y="36"/>
                          </a:lnTo>
                          <a:lnTo>
                            <a:pt x="993" y="32"/>
                          </a:lnTo>
                          <a:lnTo>
                            <a:pt x="991" y="29"/>
                          </a:lnTo>
                          <a:lnTo>
                            <a:pt x="985" y="25"/>
                          </a:lnTo>
                          <a:lnTo>
                            <a:pt x="983" y="23"/>
                          </a:lnTo>
                          <a:lnTo>
                            <a:pt x="978" y="19"/>
                          </a:lnTo>
                          <a:lnTo>
                            <a:pt x="972" y="17"/>
                          </a:lnTo>
                          <a:lnTo>
                            <a:pt x="968" y="13"/>
                          </a:lnTo>
                          <a:lnTo>
                            <a:pt x="964" y="11"/>
                          </a:lnTo>
                          <a:lnTo>
                            <a:pt x="961" y="10"/>
                          </a:lnTo>
                          <a:lnTo>
                            <a:pt x="955" y="6"/>
                          </a:lnTo>
                          <a:lnTo>
                            <a:pt x="949" y="6"/>
                          </a:lnTo>
                          <a:lnTo>
                            <a:pt x="944" y="4"/>
                          </a:lnTo>
                          <a:lnTo>
                            <a:pt x="940" y="4"/>
                          </a:lnTo>
                          <a:lnTo>
                            <a:pt x="936" y="2"/>
                          </a:lnTo>
                          <a:lnTo>
                            <a:pt x="934" y="2"/>
                          </a:lnTo>
                          <a:lnTo>
                            <a:pt x="932" y="0"/>
                          </a:lnTo>
                          <a:lnTo>
                            <a:pt x="928" y="0"/>
                          </a:lnTo>
                          <a:lnTo>
                            <a:pt x="926" y="0"/>
                          </a:lnTo>
                          <a:lnTo>
                            <a:pt x="925" y="0"/>
                          </a:lnTo>
                          <a:lnTo>
                            <a:pt x="921" y="0"/>
                          </a:lnTo>
                          <a:lnTo>
                            <a:pt x="919" y="0"/>
                          </a:lnTo>
                          <a:lnTo>
                            <a:pt x="915" y="0"/>
                          </a:lnTo>
                          <a:lnTo>
                            <a:pt x="913" y="0"/>
                          </a:lnTo>
                          <a:lnTo>
                            <a:pt x="911" y="0"/>
                          </a:lnTo>
                          <a:lnTo>
                            <a:pt x="907" y="0"/>
                          </a:lnTo>
                          <a:lnTo>
                            <a:pt x="904" y="0"/>
                          </a:lnTo>
                          <a:lnTo>
                            <a:pt x="898" y="2"/>
                          </a:lnTo>
                          <a:lnTo>
                            <a:pt x="896" y="2"/>
                          </a:lnTo>
                          <a:lnTo>
                            <a:pt x="892" y="2"/>
                          </a:lnTo>
                          <a:lnTo>
                            <a:pt x="890" y="2"/>
                          </a:lnTo>
                          <a:lnTo>
                            <a:pt x="888" y="4"/>
                          </a:lnTo>
                          <a:lnTo>
                            <a:pt x="881" y="4"/>
                          </a:lnTo>
                          <a:lnTo>
                            <a:pt x="877" y="6"/>
                          </a:lnTo>
                          <a:lnTo>
                            <a:pt x="873" y="10"/>
                          </a:lnTo>
                          <a:lnTo>
                            <a:pt x="867" y="11"/>
                          </a:lnTo>
                          <a:lnTo>
                            <a:pt x="864" y="15"/>
                          </a:lnTo>
                          <a:lnTo>
                            <a:pt x="860" y="17"/>
                          </a:lnTo>
                          <a:lnTo>
                            <a:pt x="854" y="19"/>
                          </a:lnTo>
                          <a:lnTo>
                            <a:pt x="850" y="23"/>
                          </a:lnTo>
                          <a:lnTo>
                            <a:pt x="847" y="25"/>
                          </a:lnTo>
                          <a:lnTo>
                            <a:pt x="843" y="29"/>
                          </a:lnTo>
                          <a:lnTo>
                            <a:pt x="839" y="32"/>
                          </a:lnTo>
                          <a:lnTo>
                            <a:pt x="835" y="36"/>
                          </a:lnTo>
                          <a:lnTo>
                            <a:pt x="833" y="40"/>
                          </a:lnTo>
                          <a:lnTo>
                            <a:pt x="831" y="44"/>
                          </a:lnTo>
                          <a:lnTo>
                            <a:pt x="828" y="48"/>
                          </a:lnTo>
                          <a:lnTo>
                            <a:pt x="824" y="53"/>
                          </a:lnTo>
                          <a:lnTo>
                            <a:pt x="822" y="57"/>
                          </a:lnTo>
                          <a:lnTo>
                            <a:pt x="820" y="61"/>
                          </a:lnTo>
                          <a:lnTo>
                            <a:pt x="818" y="67"/>
                          </a:lnTo>
                          <a:lnTo>
                            <a:pt x="816" y="70"/>
                          </a:lnTo>
                          <a:lnTo>
                            <a:pt x="816" y="74"/>
                          </a:lnTo>
                          <a:lnTo>
                            <a:pt x="814" y="76"/>
                          </a:lnTo>
                          <a:lnTo>
                            <a:pt x="812" y="82"/>
                          </a:lnTo>
                          <a:lnTo>
                            <a:pt x="812" y="84"/>
                          </a:lnTo>
                          <a:lnTo>
                            <a:pt x="687" y="663"/>
                          </a:lnTo>
                          <a:lnTo>
                            <a:pt x="681" y="663"/>
                          </a:lnTo>
                          <a:lnTo>
                            <a:pt x="677" y="663"/>
                          </a:lnTo>
                          <a:lnTo>
                            <a:pt x="673" y="663"/>
                          </a:lnTo>
                          <a:lnTo>
                            <a:pt x="670" y="663"/>
                          </a:lnTo>
                          <a:lnTo>
                            <a:pt x="666" y="663"/>
                          </a:lnTo>
                          <a:lnTo>
                            <a:pt x="660" y="665"/>
                          </a:lnTo>
                          <a:lnTo>
                            <a:pt x="656" y="665"/>
                          </a:lnTo>
                          <a:lnTo>
                            <a:pt x="652" y="667"/>
                          </a:lnTo>
                          <a:lnTo>
                            <a:pt x="753" y="213"/>
                          </a:lnTo>
                          <a:lnTo>
                            <a:pt x="753" y="209"/>
                          </a:lnTo>
                          <a:lnTo>
                            <a:pt x="753" y="207"/>
                          </a:lnTo>
                          <a:lnTo>
                            <a:pt x="753" y="203"/>
                          </a:lnTo>
                          <a:lnTo>
                            <a:pt x="753" y="201"/>
                          </a:lnTo>
                          <a:lnTo>
                            <a:pt x="753" y="198"/>
                          </a:lnTo>
                          <a:lnTo>
                            <a:pt x="753" y="196"/>
                          </a:lnTo>
                          <a:lnTo>
                            <a:pt x="753" y="192"/>
                          </a:lnTo>
                          <a:lnTo>
                            <a:pt x="753" y="190"/>
                          </a:lnTo>
                          <a:lnTo>
                            <a:pt x="753" y="188"/>
                          </a:lnTo>
                          <a:lnTo>
                            <a:pt x="753" y="184"/>
                          </a:lnTo>
                          <a:lnTo>
                            <a:pt x="753" y="182"/>
                          </a:lnTo>
                          <a:lnTo>
                            <a:pt x="753" y="181"/>
                          </a:lnTo>
                          <a:lnTo>
                            <a:pt x="753" y="175"/>
                          </a:lnTo>
                          <a:lnTo>
                            <a:pt x="753" y="169"/>
                          </a:lnTo>
                          <a:lnTo>
                            <a:pt x="751" y="167"/>
                          </a:lnTo>
                          <a:lnTo>
                            <a:pt x="751" y="163"/>
                          </a:lnTo>
                          <a:lnTo>
                            <a:pt x="751" y="162"/>
                          </a:lnTo>
                          <a:lnTo>
                            <a:pt x="750" y="160"/>
                          </a:lnTo>
                          <a:lnTo>
                            <a:pt x="748" y="154"/>
                          </a:lnTo>
                          <a:lnTo>
                            <a:pt x="746" y="148"/>
                          </a:lnTo>
                          <a:lnTo>
                            <a:pt x="744" y="144"/>
                          </a:lnTo>
                          <a:lnTo>
                            <a:pt x="742" y="141"/>
                          </a:lnTo>
                          <a:lnTo>
                            <a:pt x="740" y="135"/>
                          </a:lnTo>
                          <a:lnTo>
                            <a:pt x="738" y="131"/>
                          </a:lnTo>
                          <a:lnTo>
                            <a:pt x="734" y="127"/>
                          </a:lnTo>
                          <a:lnTo>
                            <a:pt x="730" y="124"/>
                          </a:lnTo>
                          <a:lnTo>
                            <a:pt x="727" y="120"/>
                          </a:lnTo>
                          <a:lnTo>
                            <a:pt x="725" y="116"/>
                          </a:lnTo>
                          <a:lnTo>
                            <a:pt x="721" y="112"/>
                          </a:lnTo>
                          <a:lnTo>
                            <a:pt x="717" y="108"/>
                          </a:lnTo>
                          <a:lnTo>
                            <a:pt x="713" y="105"/>
                          </a:lnTo>
                          <a:lnTo>
                            <a:pt x="710" y="103"/>
                          </a:lnTo>
                          <a:lnTo>
                            <a:pt x="704" y="99"/>
                          </a:lnTo>
                          <a:lnTo>
                            <a:pt x="700" y="97"/>
                          </a:lnTo>
                          <a:lnTo>
                            <a:pt x="694" y="95"/>
                          </a:lnTo>
                          <a:lnTo>
                            <a:pt x="691" y="91"/>
                          </a:lnTo>
                          <a:lnTo>
                            <a:pt x="685" y="89"/>
                          </a:lnTo>
                          <a:lnTo>
                            <a:pt x="681" y="87"/>
                          </a:lnTo>
                          <a:lnTo>
                            <a:pt x="675" y="86"/>
                          </a:lnTo>
                          <a:lnTo>
                            <a:pt x="672" y="86"/>
                          </a:lnTo>
                          <a:lnTo>
                            <a:pt x="668" y="84"/>
                          </a:lnTo>
                          <a:lnTo>
                            <a:pt x="666" y="84"/>
                          </a:lnTo>
                          <a:lnTo>
                            <a:pt x="664" y="84"/>
                          </a:lnTo>
                          <a:lnTo>
                            <a:pt x="660" y="84"/>
                          </a:lnTo>
                          <a:lnTo>
                            <a:pt x="658" y="84"/>
                          </a:lnTo>
                          <a:lnTo>
                            <a:pt x="654" y="84"/>
                          </a:lnTo>
                          <a:lnTo>
                            <a:pt x="652" y="84"/>
                          </a:lnTo>
                          <a:lnTo>
                            <a:pt x="651" y="84"/>
                          </a:lnTo>
                          <a:lnTo>
                            <a:pt x="647" y="84"/>
                          </a:lnTo>
                          <a:lnTo>
                            <a:pt x="645" y="84"/>
                          </a:lnTo>
                          <a:lnTo>
                            <a:pt x="643" y="84"/>
                          </a:lnTo>
                          <a:lnTo>
                            <a:pt x="639" y="84"/>
                          </a:lnTo>
                          <a:lnTo>
                            <a:pt x="635" y="84"/>
                          </a:lnTo>
                          <a:lnTo>
                            <a:pt x="630" y="84"/>
                          </a:lnTo>
                          <a:lnTo>
                            <a:pt x="628" y="84"/>
                          </a:lnTo>
                          <a:lnTo>
                            <a:pt x="624" y="86"/>
                          </a:lnTo>
                          <a:lnTo>
                            <a:pt x="622" y="86"/>
                          </a:lnTo>
                          <a:lnTo>
                            <a:pt x="618" y="86"/>
                          </a:lnTo>
                          <a:lnTo>
                            <a:pt x="614" y="87"/>
                          </a:lnTo>
                          <a:lnTo>
                            <a:pt x="609" y="89"/>
                          </a:lnTo>
                          <a:lnTo>
                            <a:pt x="603" y="91"/>
                          </a:lnTo>
                          <a:lnTo>
                            <a:pt x="599" y="95"/>
                          </a:lnTo>
                          <a:lnTo>
                            <a:pt x="595" y="97"/>
                          </a:lnTo>
                          <a:lnTo>
                            <a:pt x="592" y="99"/>
                          </a:lnTo>
                          <a:lnTo>
                            <a:pt x="586" y="103"/>
                          </a:lnTo>
                          <a:lnTo>
                            <a:pt x="582" y="105"/>
                          </a:lnTo>
                          <a:lnTo>
                            <a:pt x="578" y="108"/>
                          </a:lnTo>
                          <a:lnTo>
                            <a:pt x="574" y="112"/>
                          </a:lnTo>
                          <a:lnTo>
                            <a:pt x="571" y="116"/>
                          </a:lnTo>
                          <a:lnTo>
                            <a:pt x="567" y="120"/>
                          </a:lnTo>
                          <a:lnTo>
                            <a:pt x="565" y="124"/>
                          </a:lnTo>
                          <a:lnTo>
                            <a:pt x="563" y="127"/>
                          </a:lnTo>
                          <a:lnTo>
                            <a:pt x="559" y="131"/>
                          </a:lnTo>
                          <a:lnTo>
                            <a:pt x="555" y="135"/>
                          </a:lnTo>
                          <a:lnTo>
                            <a:pt x="554" y="141"/>
                          </a:lnTo>
                          <a:lnTo>
                            <a:pt x="552" y="146"/>
                          </a:lnTo>
                          <a:lnTo>
                            <a:pt x="550" y="150"/>
                          </a:lnTo>
                          <a:lnTo>
                            <a:pt x="548" y="156"/>
                          </a:lnTo>
                          <a:lnTo>
                            <a:pt x="546" y="158"/>
                          </a:lnTo>
                          <a:lnTo>
                            <a:pt x="546" y="160"/>
                          </a:lnTo>
                          <a:lnTo>
                            <a:pt x="544" y="163"/>
                          </a:lnTo>
                          <a:lnTo>
                            <a:pt x="544" y="167"/>
                          </a:lnTo>
                          <a:lnTo>
                            <a:pt x="361" y="1127"/>
                          </a:lnTo>
                          <a:lnTo>
                            <a:pt x="361" y="1127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80" name="AutoShape 24"/>
                  <p:cNvSpPr/>
                  <p:nvPr/>
                </p:nvSpPr>
                <p:spPr>
                  <a:xfrm rot="9395400">
                    <a:off x="3953880" y="1758600"/>
                    <a:ext cx="88560" cy="75960"/>
                  </a:xfrm>
                  <a:prstGeom prst="hexagon">
                    <a:avLst>
                      <a:gd name="adj" fmla="val 29147"/>
                      <a:gd name="vf" fmla="val 115470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1" name="Group 25"/>
                <p:cNvGrpSpPr/>
                <p:nvPr/>
              </p:nvGrpSpPr>
              <p:grpSpPr>
                <a:xfrm>
                  <a:off x="4083840" y="2201400"/>
                  <a:ext cx="650520" cy="1216800"/>
                  <a:chOff x="4083840" y="2201400"/>
                  <a:chExt cx="650520" cy="1216800"/>
                </a:xfrm>
              </p:grpSpPr>
              <p:grpSp>
                <p:nvGrpSpPr>
                  <p:cNvPr id="2182" name="Group 26"/>
                  <p:cNvGrpSpPr/>
                  <p:nvPr/>
                </p:nvGrpSpPr>
                <p:grpSpPr>
                  <a:xfrm>
                    <a:off x="4083840" y="2201400"/>
                    <a:ext cx="401040" cy="636840"/>
                    <a:chOff x="4083840" y="2201400"/>
                    <a:chExt cx="401040" cy="636840"/>
                  </a:xfrm>
                </p:grpSpPr>
                <p:sp>
                  <p:nvSpPr>
                    <p:cNvPr id="2183" name="AutoShape 27"/>
                    <p:cNvSpPr/>
                    <p:nvPr/>
                  </p:nvSpPr>
                  <p:spPr>
                    <a:xfrm rot="20368200">
                      <a:off x="4224600" y="2330640"/>
                      <a:ext cx="179640" cy="49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18000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4" name="AutoShape 28"/>
                    <p:cNvSpPr/>
                    <p:nvPr/>
                  </p:nvSpPr>
                  <p:spPr>
                    <a:xfrm rot="4346400">
                      <a:off x="4129200" y="2210040"/>
                      <a:ext cx="19188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85" name="Group 29"/>
                  <p:cNvGrpSpPr/>
                  <p:nvPr/>
                </p:nvGrpSpPr>
                <p:grpSpPr>
                  <a:xfrm>
                    <a:off x="4288680" y="2692440"/>
                    <a:ext cx="445680" cy="725760"/>
                    <a:chOff x="4288680" y="2692440"/>
                    <a:chExt cx="445680" cy="725760"/>
                  </a:xfrm>
                </p:grpSpPr>
                <p:sp>
                  <p:nvSpPr>
                    <p:cNvPr id="2186" name="AutoShape 30"/>
                    <p:cNvSpPr/>
                    <p:nvPr/>
                  </p:nvSpPr>
                  <p:spPr>
                    <a:xfrm rot="20383200">
                      <a:off x="4380840" y="2816640"/>
                      <a:ext cx="180360" cy="36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4308" y="21600"/>
                          </a:lnTo>
                          <a:lnTo>
                            <a:pt x="17292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54000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7" name="Oval 31"/>
                    <p:cNvSpPr/>
                    <p:nvPr/>
                  </p:nvSpPr>
                  <p:spPr>
                    <a:xfrm rot="20922000">
                      <a:off x="4305240" y="2708640"/>
                      <a:ext cx="187200" cy="190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8" name="Freeform 32"/>
                    <p:cNvSpPr/>
                    <p:nvPr/>
                  </p:nvSpPr>
                  <p:spPr>
                    <a:xfrm rot="8817000">
                      <a:off x="4494240" y="3105360"/>
                      <a:ext cx="175680" cy="28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2" h="2302">
                          <a:moveTo>
                            <a:pt x="361" y="1127"/>
                          </a:moveTo>
                          <a:lnTo>
                            <a:pt x="280" y="1116"/>
                          </a:lnTo>
                          <a:lnTo>
                            <a:pt x="373" y="711"/>
                          </a:lnTo>
                          <a:lnTo>
                            <a:pt x="373" y="709"/>
                          </a:lnTo>
                          <a:lnTo>
                            <a:pt x="375" y="705"/>
                          </a:lnTo>
                          <a:lnTo>
                            <a:pt x="375" y="703"/>
                          </a:lnTo>
                          <a:lnTo>
                            <a:pt x="375" y="700"/>
                          </a:lnTo>
                          <a:lnTo>
                            <a:pt x="375" y="698"/>
                          </a:lnTo>
                          <a:lnTo>
                            <a:pt x="375" y="696"/>
                          </a:lnTo>
                          <a:lnTo>
                            <a:pt x="375" y="692"/>
                          </a:lnTo>
                          <a:lnTo>
                            <a:pt x="375" y="690"/>
                          </a:lnTo>
                          <a:lnTo>
                            <a:pt x="375" y="684"/>
                          </a:lnTo>
                          <a:lnTo>
                            <a:pt x="375" y="681"/>
                          </a:lnTo>
                          <a:lnTo>
                            <a:pt x="375" y="675"/>
                          </a:lnTo>
                          <a:lnTo>
                            <a:pt x="375" y="669"/>
                          </a:lnTo>
                          <a:lnTo>
                            <a:pt x="371" y="665"/>
                          </a:lnTo>
                          <a:lnTo>
                            <a:pt x="371" y="660"/>
                          </a:lnTo>
                          <a:lnTo>
                            <a:pt x="369" y="654"/>
                          </a:lnTo>
                          <a:lnTo>
                            <a:pt x="367" y="652"/>
                          </a:lnTo>
                          <a:lnTo>
                            <a:pt x="365" y="646"/>
                          </a:lnTo>
                          <a:lnTo>
                            <a:pt x="363" y="641"/>
                          </a:lnTo>
                          <a:lnTo>
                            <a:pt x="361" y="637"/>
                          </a:lnTo>
                          <a:lnTo>
                            <a:pt x="358" y="633"/>
                          </a:lnTo>
                          <a:lnTo>
                            <a:pt x="356" y="629"/>
                          </a:lnTo>
                          <a:lnTo>
                            <a:pt x="354" y="623"/>
                          </a:lnTo>
                          <a:lnTo>
                            <a:pt x="350" y="620"/>
                          </a:lnTo>
                          <a:lnTo>
                            <a:pt x="346" y="616"/>
                          </a:lnTo>
                          <a:lnTo>
                            <a:pt x="342" y="612"/>
                          </a:lnTo>
                          <a:lnTo>
                            <a:pt x="339" y="610"/>
                          </a:lnTo>
                          <a:lnTo>
                            <a:pt x="335" y="606"/>
                          </a:lnTo>
                          <a:lnTo>
                            <a:pt x="331" y="603"/>
                          </a:lnTo>
                          <a:lnTo>
                            <a:pt x="325" y="601"/>
                          </a:lnTo>
                          <a:lnTo>
                            <a:pt x="321" y="597"/>
                          </a:lnTo>
                          <a:lnTo>
                            <a:pt x="318" y="595"/>
                          </a:lnTo>
                          <a:lnTo>
                            <a:pt x="312" y="593"/>
                          </a:lnTo>
                          <a:lnTo>
                            <a:pt x="306" y="591"/>
                          </a:lnTo>
                          <a:lnTo>
                            <a:pt x="302" y="589"/>
                          </a:lnTo>
                          <a:lnTo>
                            <a:pt x="299" y="589"/>
                          </a:lnTo>
                          <a:lnTo>
                            <a:pt x="295" y="587"/>
                          </a:lnTo>
                          <a:lnTo>
                            <a:pt x="291" y="587"/>
                          </a:lnTo>
                          <a:lnTo>
                            <a:pt x="287" y="585"/>
                          </a:lnTo>
                          <a:lnTo>
                            <a:pt x="285" y="585"/>
                          </a:lnTo>
                          <a:lnTo>
                            <a:pt x="283" y="585"/>
                          </a:lnTo>
                          <a:lnTo>
                            <a:pt x="280" y="585"/>
                          </a:lnTo>
                          <a:lnTo>
                            <a:pt x="276" y="585"/>
                          </a:lnTo>
                          <a:lnTo>
                            <a:pt x="274" y="585"/>
                          </a:lnTo>
                          <a:lnTo>
                            <a:pt x="272" y="585"/>
                          </a:lnTo>
                          <a:lnTo>
                            <a:pt x="268" y="585"/>
                          </a:lnTo>
                          <a:lnTo>
                            <a:pt x="266" y="585"/>
                          </a:lnTo>
                          <a:lnTo>
                            <a:pt x="263" y="585"/>
                          </a:lnTo>
                          <a:lnTo>
                            <a:pt x="261" y="587"/>
                          </a:lnTo>
                          <a:lnTo>
                            <a:pt x="259" y="587"/>
                          </a:lnTo>
                          <a:lnTo>
                            <a:pt x="255" y="587"/>
                          </a:lnTo>
                          <a:lnTo>
                            <a:pt x="253" y="589"/>
                          </a:lnTo>
                          <a:lnTo>
                            <a:pt x="249" y="589"/>
                          </a:lnTo>
                          <a:lnTo>
                            <a:pt x="247" y="589"/>
                          </a:lnTo>
                          <a:lnTo>
                            <a:pt x="243" y="591"/>
                          </a:lnTo>
                          <a:lnTo>
                            <a:pt x="240" y="591"/>
                          </a:lnTo>
                          <a:lnTo>
                            <a:pt x="238" y="593"/>
                          </a:lnTo>
                          <a:lnTo>
                            <a:pt x="236" y="595"/>
                          </a:lnTo>
                          <a:lnTo>
                            <a:pt x="232" y="595"/>
                          </a:lnTo>
                          <a:lnTo>
                            <a:pt x="230" y="597"/>
                          </a:lnTo>
                          <a:lnTo>
                            <a:pt x="228" y="599"/>
                          </a:lnTo>
                          <a:lnTo>
                            <a:pt x="224" y="601"/>
                          </a:lnTo>
                          <a:lnTo>
                            <a:pt x="223" y="601"/>
                          </a:lnTo>
                          <a:lnTo>
                            <a:pt x="219" y="603"/>
                          </a:lnTo>
                          <a:lnTo>
                            <a:pt x="217" y="604"/>
                          </a:lnTo>
                          <a:lnTo>
                            <a:pt x="211" y="608"/>
                          </a:lnTo>
                          <a:lnTo>
                            <a:pt x="207" y="612"/>
                          </a:lnTo>
                          <a:lnTo>
                            <a:pt x="204" y="616"/>
                          </a:lnTo>
                          <a:lnTo>
                            <a:pt x="198" y="618"/>
                          </a:lnTo>
                          <a:lnTo>
                            <a:pt x="194" y="623"/>
                          </a:lnTo>
                          <a:lnTo>
                            <a:pt x="188" y="627"/>
                          </a:lnTo>
                          <a:lnTo>
                            <a:pt x="185" y="633"/>
                          </a:lnTo>
                          <a:lnTo>
                            <a:pt x="181" y="637"/>
                          </a:lnTo>
                          <a:lnTo>
                            <a:pt x="177" y="641"/>
                          </a:lnTo>
                          <a:lnTo>
                            <a:pt x="173" y="646"/>
                          </a:lnTo>
                          <a:lnTo>
                            <a:pt x="169" y="652"/>
                          </a:lnTo>
                          <a:lnTo>
                            <a:pt x="166" y="656"/>
                          </a:lnTo>
                          <a:lnTo>
                            <a:pt x="162" y="662"/>
                          </a:lnTo>
                          <a:lnTo>
                            <a:pt x="160" y="665"/>
                          </a:lnTo>
                          <a:lnTo>
                            <a:pt x="158" y="669"/>
                          </a:lnTo>
                          <a:lnTo>
                            <a:pt x="158" y="671"/>
                          </a:lnTo>
                          <a:lnTo>
                            <a:pt x="156" y="673"/>
                          </a:lnTo>
                          <a:lnTo>
                            <a:pt x="154" y="677"/>
                          </a:lnTo>
                          <a:lnTo>
                            <a:pt x="152" y="679"/>
                          </a:lnTo>
                          <a:lnTo>
                            <a:pt x="152" y="681"/>
                          </a:lnTo>
                          <a:lnTo>
                            <a:pt x="150" y="684"/>
                          </a:lnTo>
                          <a:lnTo>
                            <a:pt x="150" y="688"/>
                          </a:lnTo>
                          <a:lnTo>
                            <a:pt x="146" y="694"/>
                          </a:lnTo>
                          <a:lnTo>
                            <a:pt x="145" y="701"/>
                          </a:lnTo>
                          <a:lnTo>
                            <a:pt x="143" y="709"/>
                          </a:lnTo>
                          <a:lnTo>
                            <a:pt x="139" y="717"/>
                          </a:lnTo>
                          <a:lnTo>
                            <a:pt x="137" y="724"/>
                          </a:lnTo>
                          <a:lnTo>
                            <a:pt x="135" y="732"/>
                          </a:lnTo>
                          <a:lnTo>
                            <a:pt x="131" y="739"/>
                          </a:lnTo>
                          <a:lnTo>
                            <a:pt x="129" y="747"/>
                          </a:lnTo>
                          <a:lnTo>
                            <a:pt x="126" y="755"/>
                          </a:lnTo>
                          <a:lnTo>
                            <a:pt x="124" y="760"/>
                          </a:lnTo>
                          <a:lnTo>
                            <a:pt x="122" y="768"/>
                          </a:lnTo>
                          <a:lnTo>
                            <a:pt x="120" y="776"/>
                          </a:lnTo>
                          <a:lnTo>
                            <a:pt x="116" y="781"/>
                          </a:lnTo>
                          <a:lnTo>
                            <a:pt x="114" y="789"/>
                          </a:lnTo>
                          <a:lnTo>
                            <a:pt x="112" y="796"/>
                          </a:lnTo>
                          <a:lnTo>
                            <a:pt x="110" y="804"/>
                          </a:lnTo>
                          <a:lnTo>
                            <a:pt x="107" y="812"/>
                          </a:lnTo>
                          <a:lnTo>
                            <a:pt x="107" y="817"/>
                          </a:lnTo>
                          <a:lnTo>
                            <a:pt x="103" y="823"/>
                          </a:lnTo>
                          <a:lnTo>
                            <a:pt x="101" y="831"/>
                          </a:lnTo>
                          <a:lnTo>
                            <a:pt x="97" y="836"/>
                          </a:lnTo>
                          <a:lnTo>
                            <a:pt x="97" y="844"/>
                          </a:lnTo>
                          <a:lnTo>
                            <a:pt x="93" y="852"/>
                          </a:lnTo>
                          <a:lnTo>
                            <a:pt x="93" y="857"/>
                          </a:lnTo>
                          <a:lnTo>
                            <a:pt x="89" y="865"/>
                          </a:lnTo>
                          <a:lnTo>
                            <a:pt x="88" y="871"/>
                          </a:lnTo>
                          <a:lnTo>
                            <a:pt x="86" y="878"/>
                          </a:lnTo>
                          <a:lnTo>
                            <a:pt x="84" y="884"/>
                          </a:lnTo>
                          <a:lnTo>
                            <a:pt x="82" y="892"/>
                          </a:lnTo>
                          <a:lnTo>
                            <a:pt x="80" y="899"/>
                          </a:lnTo>
                          <a:lnTo>
                            <a:pt x="78" y="907"/>
                          </a:lnTo>
                          <a:lnTo>
                            <a:pt x="74" y="912"/>
                          </a:lnTo>
                          <a:lnTo>
                            <a:pt x="72" y="920"/>
                          </a:lnTo>
                          <a:lnTo>
                            <a:pt x="72" y="926"/>
                          </a:lnTo>
                          <a:lnTo>
                            <a:pt x="68" y="931"/>
                          </a:lnTo>
                          <a:lnTo>
                            <a:pt x="67" y="939"/>
                          </a:lnTo>
                          <a:lnTo>
                            <a:pt x="65" y="945"/>
                          </a:lnTo>
                          <a:lnTo>
                            <a:pt x="63" y="952"/>
                          </a:lnTo>
                          <a:lnTo>
                            <a:pt x="59" y="958"/>
                          </a:lnTo>
                          <a:lnTo>
                            <a:pt x="57" y="966"/>
                          </a:lnTo>
                          <a:lnTo>
                            <a:pt x="55" y="971"/>
                          </a:lnTo>
                          <a:lnTo>
                            <a:pt x="53" y="979"/>
                          </a:lnTo>
                          <a:lnTo>
                            <a:pt x="51" y="987"/>
                          </a:lnTo>
                          <a:lnTo>
                            <a:pt x="49" y="994"/>
                          </a:lnTo>
                          <a:lnTo>
                            <a:pt x="48" y="1000"/>
                          </a:lnTo>
                          <a:lnTo>
                            <a:pt x="46" y="1007"/>
                          </a:lnTo>
                          <a:lnTo>
                            <a:pt x="44" y="1015"/>
                          </a:lnTo>
                          <a:lnTo>
                            <a:pt x="42" y="1021"/>
                          </a:lnTo>
                          <a:lnTo>
                            <a:pt x="42" y="1028"/>
                          </a:lnTo>
                          <a:lnTo>
                            <a:pt x="38" y="1036"/>
                          </a:lnTo>
                          <a:lnTo>
                            <a:pt x="36" y="1042"/>
                          </a:lnTo>
                          <a:lnTo>
                            <a:pt x="36" y="1049"/>
                          </a:lnTo>
                          <a:lnTo>
                            <a:pt x="34" y="1057"/>
                          </a:lnTo>
                          <a:lnTo>
                            <a:pt x="30" y="1063"/>
                          </a:lnTo>
                          <a:lnTo>
                            <a:pt x="30" y="1070"/>
                          </a:lnTo>
                          <a:lnTo>
                            <a:pt x="29" y="1078"/>
                          </a:lnTo>
                          <a:lnTo>
                            <a:pt x="27" y="1085"/>
                          </a:lnTo>
                          <a:lnTo>
                            <a:pt x="25" y="1093"/>
                          </a:lnTo>
                          <a:lnTo>
                            <a:pt x="23" y="1101"/>
                          </a:lnTo>
                          <a:lnTo>
                            <a:pt x="21" y="1108"/>
                          </a:lnTo>
                          <a:lnTo>
                            <a:pt x="19" y="1116"/>
                          </a:lnTo>
                          <a:lnTo>
                            <a:pt x="17" y="1123"/>
                          </a:lnTo>
                          <a:lnTo>
                            <a:pt x="17" y="1131"/>
                          </a:lnTo>
                          <a:lnTo>
                            <a:pt x="15" y="1139"/>
                          </a:lnTo>
                          <a:lnTo>
                            <a:pt x="13" y="1148"/>
                          </a:lnTo>
                          <a:lnTo>
                            <a:pt x="10" y="1158"/>
                          </a:lnTo>
                          <a:lnTo>
                            <a:pt x="10" y="1165"/>
                          </a:lnTo>
                          <a:lnTo>
                            <a:pt x="8" y="1175"/>
                          </a:lnTo>
                          <a:lnTo>
                            <a:pt x="6" y="1182"/>
                          </a:lnTo>
                          <a:lnTo>
                            <a:pt x="6" y="1192"/>
                          </a:lnTo>
                          <a:lnTo>
                            <a:pt x="4" y="1201"/>
                          </a:lnTo>
                          <a:lnTo>
                            <a:pt x="2" y="1211"/>
                          </a:lnTo>
                          <a:lnTo>
                            <a:pt x="2" y="1218"/>
                          </a:lnTo>
                          <a:lnTo>
                            <a:pt x="0" y="1230"/>
                          </a:lnTo>
                          <a:lnTo>
                            <a:pt x="0" y="1237"/>
                          </a:lnTo>
                          <a:lnTo>
                            <a:pt x="0" y="1247"/>
                          </a:lnTo>
                          <a:lnTo>
                            <a:pt x="0" y="1257"/>
                          </a:lnTo>
                          <a:lnTo>
                            <a:pt x="0" y="1268"/>
                          </a:lnTo>
                          <a:lnTo>
                            <a:pt x="0" y="1276"/>
                          </a:lnTo>
                          <a:lnTo>
                            <a:pt x="0" y="1285"/>
                          </a:lnTo>
                          <a:lnTo>
                            <a:pt x="0" y="1296"/>
                          </a:lnTo>
                          <a:lnTo>
                            <a:pt x="0" y="1304"/>
                          </a:lnTo>
                          <a:lnTo>
                            <a:pt x="0" y="1314"/>
                          </a:lnTo>
                          <a:lnTo>
                            <a:pt x="0" y="1323"/>
                          </a:lnTo>
                          <a:lnTo>
                            <a:pt x="0" y="1333"/>
                          </a:lnTo>
                          <a:lnTo>
                            <a:pt x="2" y="1342"/>
                          </a:lnTo>
                          <a:lnTo>
                            <a:pt x="2" y="1352"/>
                          </a:lnTo>
                          <a:lnTo>
                            <a:pt x="4" y="1363"/>
                          </a:lnTo>
                          <a:lnTo>
                            <a:pt x="4" y="1371"/>
                          </a:lnTo>
                          <a:lnTo>
                            <a:pt x="6" y="1382"/>
                          </a:lnTo>
                          <a:lnTo>
                            <a:pt x="8" y="1390"/>
                          </a:lnTo>
                          <a:lnTo>
                            <a:pt x="8" y="1401"/>
                          </a:lnTo>
                          <a:lnTo>
                            <a:pt x="10" y="1409"/>
                          </a:lnTo>
                          <a:lnTo>
                            <a:pt x="11" y="1420"/>
                          </a:lnTo>
                          <a:lnTo>
                            <a:pt x="13" y="1429"/>
                          </a:lnTo>
                          <a:lnTo>
                            <a:pt x="15" y="1439"/>
                          </a:lnTo>
                          <a:lnTo>
                            <a:pt x="17" y="1448"/>
                          </a:lnTo>
                          <a:lnTo>
                            <a:pt x="19" y="1458"/>
                          </a:lnTo>
                          <a:lnTo>
                            <a:pt x="21" y="1468"/>
                          </a:lnTo>
                          <a:lnTo>
                            <a:pt x="23" y="1477"/>
                          </a:lnTo>
                          <a:lnTo>
                            <a:pt x="27" y="1487"/>
                          </a:lnTo>
                          <a:lnTo>
                            <a:pt x="29" y="1496"/>
                          </a:lnTo>
                          <a:lnTo>
                            <a:pt x="30" y="1506"/>
                          </a:lnTo>
                          <a:lnTo>
                            <a:pt x="34" y="1515"/>
                          </a:lnTo>
                          <a:lnTo>
                            <a:pt x="36" y="1525"/>
                          </a:lnTo>
                          <a:lnTo>
                            <a:pt x="38" y="1534"/>
                          </a:lnTo>
                          <a:lnTo>
                            <a:pt x="42" y="1544"/>
                          </a:lnTo>
                          <a:lnTo>
                            <a:pt x="46" y="1553"/>
                          </a:lnTo>
                          <a:lnTo>
                            <a:pt x="48" y="1561"/>
                          </a:lnTo>
                          <a:lnTo>
                            <a:pt x="51" y="1572"/>
                          </a:lnTo>
                          <a:lnTo>
                            <a:pt x="55" y="1580"/>
                          </a:lnTo>
                          <a:lnTo>
                            <a:pt x="59" y="1589"/>
                          </a:lnTo>
                          <a:lnTo>
                            <a:pt x="63" y="1599"/>
                          </a:lnTo>
                          <a:lnTo>
                            <a:pt x="67" y="1608"/>
                          </a:lnTo>
                          <a:lnTo>
                            <a:pt x="68" y="1616"/>
                          </a:lnTo>
                          <a:lnTo>
                            <a:pt x="74" y="1627"/>
                          </a:lnTo>
                          <a:lnTo>
                            <a:pt x="78" y="1635"/>
                          </a:lnTo>
                          <a:lnTo>
                            <a:pt x="82" y="1644"/>
                          </a:lnTo>
                          <a:lnTo>
                            <a:pt x="86" y="1652"/>
                          </a:lnTo>
                          <a:lnTo>
                            <a:pt x="89" y="1661"/>
                          </a:lnTo>
                          <a:lnTo>
                            <a:pt x="95" y="1669"/>
                          </a:lnTo>
                          <a:lnTo>
                            <a:pt x="99" y="1679"/>
                          </a:lnTo>
                          <a:lnTo>
                            <a:pt x="103" y="1688"/>
                          </a:lnTo>
                          <a:lnTo>
                            <a:pt x="108" y="1696"/>
                          </a:lnTo>
                          <a:lnTo>
                            <a:pt x="114" y="1703"/>
                          </a:lnTo>
                          <a:lnTo>
                            <a:pt x="118" y="1713"/>
                          </a:lnTo>
                          <a:lnTo>
                            <a:pt x="124" y="1722"/>
                          </a:lnTo>
                          <a:lnTo>
                            <a:pt x="127" y="1732"/>
                          </a:lnTo>
                          <a:lnTo>
                            <a:pt x="131" y="1736"/>
                          </a:lnTo>
                          <a:lnTo>
                            <a:pt x="135" y="1739"/>
                          </a:lnTo>
                          <a:lnTo>
                            <a:pt x="135" y="1743"/>
                          </a:lnTo>
                          <a:lnTo>
                            <a:pt x="137" y="1745"/>
                          </a:lnTo>
                          <a:lnTo>
                            <a:pt x="139" y="1747"/>
                          </a:lnTo>
                          <a:lnTo>
                            <a:pt x="141" y="1751"/>
                          </a:lnTo>
                          <a:lnTo>
                            <a:pt x="143" y="1755"/>
                          </a:lnTo>
                          <a:lnTo>
                            <a:pt x="143" y="1756"/>
                          </a:lnTo>
                          <a:lnTo>
                            <a:pt x="145" y="1760"/>
                          </a:lnTo>
                          <a:lnTo>
                            <a:pt x="146" y="1762"/>
                          </a:lnTo>
                          <a:lnTo>
                            <a:pt x="148" y="1766"/>
                          </a:lnTo>
                          <a:lnTo>
                            <a:pt x="150" y="1768"/>
                          </a:lnTo>
                          <a:lnTo>
                            <a:pt x="152" y="1770"/>
                          </a:lnTo>
                          <a:lnTo>
                            <a:pt x="156" y="1774"/>
                          </a:lnTo>
                          <a:lnTo>
                            <a:pt x="158" y="1777"/>
                          </a:lnTo>
                          <a:lnTo>
                            <a:pt x="160" y="1779"/>
                          </a:lnTo>
                          <a:lnTo>
                            <a:pt x="160" y="1783"/>
                          </a:lnTo>
                          <a:lnTo>
                            <a:pt x="162" y="1787"/>
                          </a:lnTo>
                          <a:lnTo>
                            <a:pt x="166" y="1789"/>
                          </a:lnTo>
                          <a:lnTo>
                            <a:pt x="166" y="1791"/>
                          </a:lnTo>
                          <a:lnTo>
                            <a:pt x="167" y="1794"/>
                          </a:lnTo>
                          <a:lnTo>
                            <a:pt x="169" y="1796"/>
                          </a:lnTo>
                          <a:lnTo>
                            <a:pt x="171" y="1800"/>
                          </a:lnTo>
                          <a:lnTo>
                            <a:pt x="173" y="1802"/>
                          </a:lnTo>
                          <a:lnTo>
                            <a:pt x="175" y="1806"/>
                          </a:lnTo>
                          <a:lnTo>
                            <a:pt x="177" y="1808"/>
                          </a:lnTo>
                          <a:lnTo>
                            <a:pt x="179" y="1812"/>
                          </a:lnTo>
                          <a:lnTo>
                            <a:pt x="181" y="1815"/>
                          </a:lnTo>
                          <a:lnTo>
                            <a:pt x="183" y="1817"/>
                          </a:lnTo>
                          <a:lnTo>
                            <a:pt x="185" y="1821"/>
                          </a:lnTo>
                          <a:lnTo>
                            <a:pt x="188" y="1827"/>
                          </a:lnTo>
                          <a:lnTo>
                            <a:pt x="190" y="1831"/>
                          </a:lnTo>
                          <a:lnTo>
                            <a:pt x="194" y="1836"/>
                          </a:lnTo>
                          <a:lnTo>
                            <a:pt x="198" y="1842"/>
                          </a:lnTo>
                          <a:lnTo>
                            <a:pt x="200" y="1846"/>
                          </a:lnTo>
                          <a:lnTo>
                            <a:pt x="204" y="1850"/>
                          </a:lnTo>
                          <a:lnTo>
                            <a:pt x="205" y="1853"/>
                          </a:lnTo>
                          <a:lnTo>
                            <a:pt x="207" y="1859"/>
                          </a:lnTo>
                          <a:lnTo>
                            <a:pt x="209" y="1861"/>
                          </a:lnTo>
                          <a:lnTo>
                            <a:pt x="211" y="1863"/>
                          </a:lnTo>
                          <a:lnTo>
                            <a:pt x="213" y="1867"/>
                          </a:lnTo>
                          <a:lnTo>
                            <a:pt x="215" y="1869"/>
                          </a:lnTo>
                          <a:lnTo>
                            <a:pt x="217" y="1870"/>
                          </a:lnTo>
                          <a:lnTo>
                            <a:pt x="219" y="1874"/>
                          </a:lnTo>
                          <a:lnTo>
                            <a:pt x="141" y="2163"/>
                          </a:lnTo>
                          <a:lnTo>
                            <a:pt x="143" y="2165"/>
                          </a:lnTo>
                          <a:lnTo>
                            <a:pt x="146" y="2165"/>
                          </a:lnTo>
                          <a:lnTo>
                            <a:pt x="150" y="2167"/>
                          </a:lnTo>
                          <a:lnTo>
                            <a:pt x="152" y="2167"/>
                          </a:lnTo>
                          <a:lnTo>
                            <a:pt x="154" y="2167"/>
                          </a:lnTo>
                          <a:lnTo>
                            <a:pt x="158" y="2167"/>
                          </a:lnTo>
                          <a:lnTo>
                            <a:pt x="162" y="2171"/>
                          </a:lnTo>
                          <a:lnTo>
                            <a:pt x="166" y="2171"/>
                          </a:lnTo>
                          <a:lnTo>
                            <a:pt x="167" y="2173"/>
                          </a:lnTo>
                          <a:lnTo>
                            <a:pt x="171" y="2173"/>
                          </a:lnTo>
                          <a:lnTo>
                            <a:pt x="175" y="2175"/>
                          </a:lnTo>
                          <a:lnTo>
                            <a:pt x="181" y="2175"/>
                          </a:lnTo>
                          <a:lnTo>
                            <a:pt x="185" y="2175"/>
                          </a:lnTo>
                          <a:lnTo>
                            <a:pt x="188" y="2177"/>
                          </a:lnTo>
                          <a:lnTo>
                            <a:pt x="194" y="2180"/>
                          </a:lnTo>
                          <a:lnTo>
                            <a:pt x="198" y="2180"/>
                          </a:lnTo>
                          <a:lnTo>
                            <a:pt x="204" y="2182"/>
                          </a:lnTo>
                          <a:lnTo>
                            <a:pt x="209" y="2182"/>
                          </a:lnTo>
                          <a:lnTo>
                            <a:pt x="215" y="2184"/>
                          </a:lnTo>
                          <a:lnTo>
                            <a:pt x="219" y="2186"/>
                          </a:lnTo>
                          <a:lnTo>
                            <a:pt x="224" y="2188"/>
                          </a:lnTo>
                          <a:lnTo>
                            <a:pt x="232" y="2188"/>
                          </a:lnTo>
                          <a:lnTo>
                            <a:pt x="238" y="2190"/>
                          </a:lnTo>
                          <a:lnTo>
                            <a:pt x="243" y="2190"/>
                          </a:lnTo>
                          <a:lnTo>
                            <a:pt x="251" y="2192"/>
                          </a:lnTo>
                          <a:lnTo>
                            <a:pt x="257" y="2194"/>
                          </a:lnTo>
                          <a:lnTo>
                            <a:pt x="264" y="2194"/>
                          </a:lnTo>
                          <a:lnTo>
                            <a:pt x="270" y="2196"/>
                          </a:lnTo>
                          <a:lnTo>
                            <a:pt x="276" y="2196"/>
                          </a:lnTo>
                          <a:lnTo>
                            <a:pt x="283" y="2197"/>
                          </a:lnTo>
                          <a:lnTo>
                            <a:pt x="291" y="2199"/>
                          </a:lnTo>
                          <a:lnTo>
                            <a:pt x="297" y="2199"/>
                          </a:lnTo>
                          <a:lnTo>
                            <a:pt x="304" y="2199"/>
                          </a:lnTo>
                          <a:lnTo>
                            <a:pt x="312" y="2199"/>
                          </a:lnTo>
                          <a:lnTo>
                            <a:pt x="320" y="2201"/>
                          </a:lnTo>
                          <a:lnTo>
                            <a:pt x="325" y="2201"/>
                          </a:lnTo>
                          <a:lnTo>
                            <a:pt x="333" y="2201"/>
                          </a:lnTo>
                          <a:lnTo>
                            <a:pt x="341" y="2201"/>
                          </a:lnTo>
                          <a:lnTo>
                            <a:pt x="348" y="2201"/>
                          </a:lnTo>
                          <a:lnTo>
                            <a:pt x="356" y="2201"/>
                          </a:lnTo>
                          <a:lnTo>
                            <a:pt x="363" y="2201"/>
                          </a:lnTo>
                          <a:lnTo>
                            <a:pt x="371" y="2201"/>
                          </a:lnTo>
                          <a:lnTo>
                            <a:pt x="379" y="2201"/>
                          </a:lnTo>
                          <a:lnTo>
                            <a:pt x="386" y="2201"/>
                          </a:lnTo>
                          <a:lnTo>
                            <a:pt x="394" y="2201"/>
                          </a:lnTo>
                          <a:lnTo>
                            <a:pt x="401" y="2199"/>
                          </a:lnTo>
                          <a:lnTo>
                            <a:pt x="409" y="2199"/>
                          </a:lnTo>
                          <a:lnTo>
                            <a:pt x="415" y="2197"/>
                          </a:lnTo>
                          <a:lnTo>
                            <a:pt x="422" y="2196"/>
                          </a:lnTo>
                          <a:lnTo>
                            <a:pt x="432" y="2196"/>
                          </a:lnTo>
                          <a:lnTo>
                            <a:pt x="439" y="2194"/>
                          </a:lnTo>
                          <a:lnTo>
                            <a:pt x="447" y="2192"/>
                          </a:lnTo>
                          <a:lnTo>
                            <a:pt x="455" y="2190"/>
                          </a:lnTo>
                          <a:lnTo>
                            <a:pt x="462" y="2188"/>
                          </a:lnTo>
                          <a:lnTo>
                            <a:pt x="470" y="2188"/>
                          </a:lnTo>
                          <a:lnTo>
                            <a:pt x="476" y="2184"/>
                          </a:lnTo>
                          <a:lnTo>
                            <a:pt x="483" y="2182"/>
                          </a:lnTo>
                          <a:lnTo>
                            <a:pt x="491" y="2180"/>
                          </a:lnTo>
                          <a:lnTo>
                            <a:pt x="498" y="2175"/>
                          </a:lnTo>
                          <a:lnTo>
                            <a:pt x="504" y="2173"/>
                          </a:lnTo>
                          <a:lnTo>
                            <a:pt x="512" y="2169"/>
                          </a:lnTo>
                          <a:lnTo>
                            <a:pt x="517" y="2165"/>
                          </a:lnTo>
                          <a:lnTo>
                            <a:pt x="525" y="2161"/>
                          </a:lnTo>
                          <a:lnTo>
                            <a:pt x="531" y="2158"/>
                          </a:lnTo>
                          <a:lnTo>
                            <a:pt x="536" y="2154"/>
                          </a:lnTo>
                          <a:lnTo>
                            <a:pt x="542" y="2150"/>
                          </a:lnTo>
                          <a:lnTo>
                            <a:pt x="550" y="2146"/>
                          </a:lnTo>
                          <a:lnTo>
                            <a:pt x="555" y="2142"/>
                          </a:lnTo>
                          <a:lnTo>
                            <a:pt x="559" y="2137"/>
                          </a:lnTo>
                          <a:lnTo>
                            <a:pt x="565" y="2133"/>
                          </a:lnTo>
                          <a:lnTo>
                            <a:pt x="571" y="2129"/>
                          </a:lnTo>
                          <a:lnTo>
                            <a:pt x="576" y="2123"/>
                          </a:lnTo>
                          <a:lnTo>
                            <a:pt x="582" y="2120"/>
                          </a:lnTo>
                          <a:lnTo>
                            <a:pt x="588" y="2114"/>
                          </a:lnTo>
                          <a:lnTo>
                            <a:pt x="592" y="2110"/>
                          </a:lnTo>
                          <a:lnTo>
                            <a:pt x="595" y="2106"/>
                          </a:lnTo>
                          <a:lnTo>
                            <a:pt x="601" y="2101"/>
                          </a:lnTo>
                          <a:lnTo>
                            <a:pt x="605" y="2095"/>
                          </a:lnTo>
                          <a:lnTo>
                            <a:pt x="611" y="2091"/>
                          </a:lnTo>
                          <a:lnTo>
                            <a:pt x="614" y="2085"/>
                          </a:lnTo>
                          <a:lnTo>
                            <a:pt x="618" y="2080"/>
                          </a:lnTo>
                          <a:lnTo>
                            <a:pt x="624" y="2076"/>
                          </a:lnTo>
                          <a:lnTo>
                            <a:pt x="628" y="2070"/>
                          </a:lnTo>
                          <a:lnTo>
                            <a:pt x="632" y="2064"/>
                          </a:lnTo>
                          <a:lnTo>
                            <a:pt x="635" y="2059"/>
                          </a:lnTo>
                          <a:lnTo>
                            <a:pt x="637" y="2055"/>
                          </a:lnTo>
                          <a:lnTo>
                            <a:pt x="643" y="2049"/>
                          </a:lnTo>
                          <a:lnTo>
                            <a:pt x="645" y="2043"/>
                          </a:lnTo>
                          <a:lnTo>
                            <a:pt x="649" y="2040"/>
                          </a:lnTo>
                          <a:lnTo>
                            <a:pt x="652" y="2034"/>
                          </a:lnTo>
                          <a:lnTo>
                            <a:pt x="654" y="2030"/>
                          </a:lnTo>
                          <a:lnTo>
                            <a:pt x="658" y="2024"/>
                          </a:lnTo>
                          <a:lnTo>
                            <a:pt x="660" y="2021"/>
                          </a:lnTo>
                          <a:lnTo>
                            <a:pt x="664" y="2015"/>
                          </a:lnTo>
                          <a:lnTo>
                            <a:pt x="666" y="2011"/>
                          </a:lnTo>
                          <a:lnTo>
                            <a:pt x="668" y="2005"/>
                          </a:lnTo>
                          <a:lnTo>
                            <a:pt x="672" y="2002"/>
                          </a:lnTo>
                          <a:lnTo>
                            <a:pt x="673" y="1998"/>
                          </a:lnTo>
                          <a:lnTo>
                            <a:pt x="675" y="1992"/>
                          </a:lnTo>
                          <a:lnTo>
                            <a:pt x="677" y="1986"/>
                          </a:lnTo>
                          <a:lnTo>
                            <a:pt x="679" y="1983"/>
                          </a:lnTo>
                          <a:lnTo>
                            <a:pt x="681" y="1979"/>
                          </a:lnTo>
                          <a:lnTo>
                            <a:pt x="683" y="1975"/>
                          </a:lnTo>
                          <a:lnTo>
                            <a:pt x="685" y="1971"/>
                          </a:lnTo>
                          <a:lnTo>
                            <a:pt x="687" y="1969"/>
                          </a:lnTo>
                          <a:lnTo>
                            <a:pt x="689" y="1964"/>
                          </a:lnTo>
                          <a:lnTo>
                            <a:pt x="691" y="1962"/>
                          </a:lnTo>
                          <a:lnTo>
                            <a:pt x="692" y="1958"/>
                          </a:lnTo>
                          <a:lnTo>
                            <a:pt x="692" y="1954"/>
                          </a:lnTo>
                          <a:lnTo>
                            <a:pt x="692" y="1952"/>
                          </a:lnTo>
                          <a:lnTo>
                            <a:pt x="694" y="1950"/>
                          </a:lnTo>
                          <a:lnTo>
                            <a:pt x="696" y="1945"/>
                          </a:lnTo>
                          <a:lnTo>
                            <a:pt x="698" y="1941"/>
                          </a:lnTo>
                          <a:lnTo>
                            <a:pt x="700" y="1937"/>
                          </a:lnTo>
                          <a:lnTo>
                            <a:pt x="700" y="1935"/>
                          </a:lnTo>
                          <a:lnTo>
                            <a:pt x="700" y="1933"/>
                          </a:lnTo>
                          <a:lnTo>
                            <a:pt x="702" y="1933"/>
                          </a:lnTo>
                          <a:lnTo>
                            <a:pt x="740" y="1943"/>
                          </a:lnTo>
                          <a:lnTo>
                            <a:pt x="740" y="1943"/>
                          </a:lnTo>
                          <a:lnTo>
                            <a:pt x="738" y="1945"/>
                          </a:lnTo>
                          <a:lnTo>
                            <a:pt x="738" y="1947"/>
                          </a:lnTo>
                          <a:lnTo>
                            <a:pt x="738" y="1950"/>
                          </a:lnTo>
                          <a:lnTo>
                            <a:pt x="738" y="1954"/>
                          </a:lnTo>
                          <a:lnTo>
                            <a:pt x="738" y="1958"/>
                          </a:lnTo>
                          <a:lnTo>
                            <a:pt x="736" y="1962"/>
                          </a:lnTo>
                          <a:lnTo>
                            <a:pt x="736" y="1964"/>
                          </a:lnTo>
                          <a:lnTo>
                            <a:pt x="736" y="1967"/>
                          </a:lnTo>
                          <a:lnTo>
                            <a:pt x="736" y="1971"/>
                          </a:lnTo>
                          <a:lnTo>
                            <a:pt x="736" y="1975"/>
                          </a:lnTo>
                          <a:lnTo>
                            <a:pt x="736" y="1979"/>
                          </a:lnTo>
                          <a:lnTo>
                            <a:pt x="736" y="1983"/>
                          </a:lnTo>
                          <a:lnTo>
                            <a:pt x="736" y="1985"/>
                          </a:lnTo>
                          <a:lnTo>
                            <a:pt x="736" y="1990"/>
                          </a:lnTo>
                          <a:lnTo>
                            <a:pt x="736" y="1994"/>
                          </a:lnTo>
                          <a:lnTo>
                            <a:pt x="736" y="1998"/>
                          </a:lnTo>
                          <a:lnTo>
                            <a:pt x="736" y="2004"/>
                          </a:lnTo>
                          <a:lnTo>
                            <a:pt x="736" y="2007"/>
                          </a:lnTo>
                          <a:lnTo>
                            <a:pt x="736" y="2013"/>
                          </a:lnTo>
                          <a:lnTo>
                            <a:pt x="736" y="2015"/>
                          </a:lnTo>
                          <a:lnTo>
                            <a:pt x="736" y="2021"/>
                          </a:lnTo>
                          <a:lnTo>
                            <a:pt x="736" y="2026"/>
                          </a:lnTo>
                          <a:lnTo>
                            <a:pt x="736" y="2030"/>
                          </a:lnTo>
                          <a:lnTo>
                            <a:pt x="736" y="2036"/>
                          </a:lnTo>
                          <a:lnTo>
                            <a:pt x="736" y="2042"/>
                          </a:lnTo>
                          <a:lnTo>
                            <a:pt x="736" y="2047"/>
                          </a:lnTo>
                          <a:lnTo>
                            <a:pt x="738" y="2051"/>
                          </a:lnTo>
                          <a:lnTo>
                            <a:pt x="738" y="2057"/>
                          </a:lnTo>
                          <a:lnTo>
                            <a:pt x="738" y="2062"/>
                          </a:lnTo>
                          <a:lnTo>
                            <a:pt x="740" y="2066"/>
                          </a:lnTo>
                          <a:lnTo>
                            <a:pt x="740" y="2072"/>
                          </a:lnTo>
                          <a:lnTo>
                            <a:pt x="742" y="2078"/>
                          </a:lnTo>
                          <a:lnTo>
                            <a:pt x="744" y="2083"/>
                          </a:lnTo>
                          <a:lnTo>
                            <a:pt x="744" y="2091"/>
                          </a:lnTo>
                          <a:lnTo>
                            <a:pt x="746" y="2095"/>
                          </a:lnTo>
                          <a:lnTo>
                            <a:pt x="748" y="2101"/>
                          </a:lnTo>
                          <a:lnTo>
                            <a:pt x="748" y="2106"/>
                          </a:lnTo>
                          <a:lnTo>
                            <a:pt x="751" y="2110"/>
                          </a:lnTo>
                          <a:lnTo>
                            <a:pt x="753" y="2118"/>
                          </a:lnTo>
                          <a:lnTo>
                            <a:pt x="753" y="2123"/>
                          </a:lnTo>
                          <a:lnTo>
                            <a:pt x="757" y="2129"/>
                          </a:lnTo>
                          <a:lnTo>
                            <a:pt x="759" y="2135"/>
                          </a:lnTo>
                          <a:lnTo>
                            <a:pt x="761" y="2139"/>
                          </a:lnTo>
                          <a:lnTo>
                            <a:pt x="765" y="2144"/>
                          </a:lnTo>
                          <a:lnTo>
                            <a:pt x="767" y="2150"/>
                          </a:lnTo>
                          <a:lnTo>
                            <a:pt x="769" y="2156"/>
                          </a:lnTo>
                          <a:lnTo>
                            <a:pt x="772" y="2159"/>
                          </a:lnTo>
                          <a:lnTo>
                            <a:pt x="776" y="2165"/>
                          </a:lnTo>
                          <a:lnTo>
                            <a:pt x="780" y="2171"/>
                          </a:lnTo>
                          <a:lnTo>
                            <a:pt x="782" y="2175"/>
                          </a:lnTo>
                          <a:lnTo>
                            <a:pt x="786" y="2180"/>
                          </a:lnTo>
                          <a:lnTo>
                            <a:pt x="789" y="2186"/>
                          </a:lnTo>
                          <a:lnTo>
                            <a:pt x="795" y="2190"/>
                          </a:lnTo>
                          <a:lnTo>
                            <a:pt x="799" y="2196"/>
                          </a:lnTo>
                          <a:lnTo>
                            <a:pt x="805" y="2201"/>
                          </a:lnTo>
                          <a:lnTo>
                            <a:pt x="808" y="2205"/>
                          </a:lnTo>
                          <a:lnTo>
                            <a:pt x="814" y="2209"/>
                          </a:lnTo>
                          <a:lnTo>
                            <a:pt x="818" y="2213"/>
                          </a:lnTo>
                          <a:lnTo>
                            <a:pt x="824" y="2216"/>
                          </a:lnTo>
                          <a:lnTo>
                            <a:pt x="828" y="2222"/>
                          </a:lnTo>
                          <a:lnTo>
                            <a:pt x="833" y="2224"/>
                          </a:lnTo>
                          <a:lnTo>
                            <a:pt x="839" y="2228"/>
                          </a:lnTo>
                          <a:lnTo>
                            <a:pt x="845" y="2232"/>
                          </a:lnTo>
                          <a:lnTo>
                            <a:pt x="848" y="2235"/>
                          </a:lnTo>
                          <a:lnTo>
                            <a:pt x="854" y="2239"/>
                          </a:lnTo>
                          <a:lnTo>
                            <a:pt x="858" y="2243"/>
                          </a:lnTo>
                          <a:lnTo>
                            <a:pt x="864" y="2245"/>
                          </a:lnTo>
                          <a:lnTo>
                            <a:pt x="867" y="2249"/>
                          </a:lnTo>
                          <a:lnTo>
                            <a:pt x="873" y="2253"/>
                          </a:lnTo>
                          <a:lnTo>
                            <a:pt x="877" y="2256"/>
                          </a:lnTo>
                          <a:lnTo>
                            <a:pt x="883" y="2258"/>
                          </a:lnTo>
                          <a:lnTo>
                            <a:pt x="890" y="2260"/>
                          </a:lnTo>
                          <a:lnTo>
                            <a:pt x="896" y="2264"/>
                          </a:lnTo>
                          <a:lnTo>
                            <a:pt x="900" y="2266"/>
                          </a:lnTo>
                          <a:lnTo>
                            <a:pt x="904" y="2268"/>
                          </a:lnTo>
                          <a:lnTo>
                            <a:pt x="907" y="2270"/>
                          </a:lnTo>
                          <a:lnTo>
                            <a:pt x="913" y="2273"/>
                          </a:lnTo>
                          <a:lnTo>
                            <a:pt x="919" y="2275"/>
                          </a:lnTo>
                          <a:lnTo>
                            <a:pt x="925" y="2277"/>
                          </a:lnTo>
                          <a:lnTo>
                            <a:pt x="928" y="2279"/>
                          </a:lnTo>
                          <a:lnTo>
                            <a:pt x="934" y="2281"/>
                          </a:lnTo>
                          <a:lnTo>
                            <a:pt x="938" y="2283"/>
                          </a:lnTo>
                          <a:lnTo>
                            <a:pt x="942" y="2285"/>
                          </a:lnTo>
                          <a:lnTo>
                            <a:pt x="947" y="2287"/>
                          </a:lnTo>
                          <a:lnTo>
                            <a:pt x="951" y="2289"/>
                          </a:lnTo>
                          <a:lnTo>
                            <a:pt x="955" y="2289"/>
                          </a:lnTo>
                          <a:lnTo>
                            <a:pt x="961" y="2291"/>
                          </a:lnTo>
                          <a:lnTo>
                            <a:pt x="964" y="2291"/>
                          </a:lnTo>
                          <a:lnTo>
                            <a:pt x="968" y="2294"/>
                          </a:lnTo>
                          <a:lnTo>
                            <a:pt x="972" y="2294"/>
                          </a:lnTo>
                          <a:lnTo>
                            <a:pt x="978" y="2294"/>
                          </a:lnTo>
                          <a:lnTo>
                            <a:pt x="982" y="2296"/>
                          </a:lnTo>
                          <a:lnTo>
                            <a:pt x="985" y="2296"/>
                          </a:lnTo>
                          <a:lnTo>
                            <a:pt x="989" y="2296"/>
                          </a:lnTo>
                          <a:lnTo>
                            <a:pt x="993" y="2298"/>
                          </a:lnTo>
                          <a:lnTo>
                            <a:pt x="997" y="2298"/>
                          </a:lnTo>
                          <a:lnTo>
                            <a:pt x="1001" y="2298"/>
                          </a:lnTo>
                          <a:lnTo>
                            <a:pt x="1004" y="2298"/>
                          </a:lnTo>
                          <a:lnTo>
                            <a:pt x="1008" y="2300"/>
                          </a:lnTo>
                          <a:lnTo>
                            <a:pt x="1010" y="2300"/>
                          </a:lnTo>
                          <a:lnTo>
                            <a:pt x="1014" y="2300"/>
                          </a:lnTo>
                          <a:lnTo>
                            <a:pt x="1016" y="2300"/>
                          </a:lnTo>
                          <a:lnTo>
                            <a:pt x="1020" y="2300"/>
                          </a:lnTo>
                          <a:lnTo>
                            <a:pt x="1022" y="2300"/>
                          </a:lnTo>
                          <a:lnTo>
                            <a:pt x="1025" y="2302"/>
                          </a:lnTo>
                          <a:lnTo>
                            <a:pt x="1029" y="2300"/>
                          </a:lnTo>
                          <a:lnTo>
                            <a:pt x="1035" y="2300"/>
                          </a:lnTo>
                          <a:lnTo>
                            <a:pt x="1039" y="2298"/>
                          </a:lnTo>
                          <a:lnTo>
                            <a:pt x="1042" y="2298"/>
                          </a:lnTo>
                          <a:lnTo>
                            <a:pt x="1044" y="2296"/>
                          </a:lnTo>
                          <a:lnTo>
                            <a:pt x="1048" y="2296"/>
                          </a:lnTo>
                          <a:lnTo>
                            <a:pt x="1048" y="2294"/>
                          </a:lnTo>
                          <a:lnTo>
                            <a:pt x="1050" y="2294"/>
                          </a:lnTo>
                          <a:lnTo>
                            <a:pt x="1246" y="1334"/>
                          </a:lnTo>
                          <a:lnTo>
                            <a:pt x="1246" y="1333"/>
                          </a:lnTo>
                          <a:lnTo>
                            <a:pt x="1248" y="1331"/>
                          </a:lnTo>
                          <a:lnTo>
                            <a:pt x="1250" y="1327"/>
                          </a:lnTo>
                          <a:lnTo>
                            <a:pt x="1252" y="1325"/>
                          </a:lnTo>
                          <a:lnTo>
                            <a:pt x="1252" y="1323"/>
                          </a:lnTo>
                          <a:lnTo>
                            <a:pt x="1254" y="1319"/>
                          </a:lnTo>
                          <a:lnTo>
                            <a:pt x="1256" y="1315"/>
                          </a:lnTo>
                          <a:lnTo>
                            <a:pt x="1259" y="1312"/>
                          </a:lnTo>
                          <a:lnTo>
                            <a:pt x="1259" y="1306"/>
                          </a:lnTo>
                          <a:lnTo>
                            <a:pt x="1263" y="1302"/>
                          </a:lnTo>
                          <a:lnTo>
                            <a:pt x="1265" y="1296"/>
                          </a:lnTo>
                          <a:lnTo>
                            <a:pt x="1269" y="1293"/>
                          </a:lnTo>
                          <a:lnTo>
                            <a:pt x="1271" y="1285"/>
                          </a:lnTo>
                          <a:lnTo>
                            <a:pt x="1275" y="1281"/>
                          </a:lnTo>
                          <a:lnTo>
                            <a:pt x="1276" y="1274"/>
                          </a:lnTo>
                          <a:lnTo>
                            <a:pt x="1280" y="1266"/>
                          </a:lnTo>
                          <a:lnTo>
                            <a:pt x="1284" y="1258"/>
                          </a:lnTo>
                          <a:lnTo>
                            <a:pt x="1288" y="1249"/>
                          </a:lnTo>
                          <a:lnTo>
                            <a:pt x="1290" y="1241"/>
                          </a:lnTo>
                          <a:lnTo>
                            <a:pt x="1294" y="1234"/>
                          </a:lnTo>
                          <a:lnTo>
                            <a:pt x="1297" y="1224"/>
                          </a:lnTo>
                          <a:lnTo>
                            <a:pt x="1301" y="1217"/>
                          </a:lnTo>
                          <a:lnTo>
                            <a:pt x="1305" y="1207"/>
                          </a:lnTo>
                          <a:lnTo>
                            <a:pt x="1309" y="1198"/>
                          </a:lnTo>
                          <a:lnTo>
                            <a:pt x="1313" y="1188"/>
                          </a:lnTo>
                          <a:lnTo>
                            <a:pt x="1316" y="1177"/>
                          </a:lnTo>
                          <a:lnTo>
                            <a:pt x="1320" y="1165"/>
                          </a:lnTo>
                          <a:lnTo>
                            <a:pt x="1324" y="1154"/>
                          </a:lnTo>
                          <a:lnTo>
                            <a:pt x="1330" y="1144"/>
                          </a:lnTo>
                          <a:lnTo>
                            <a:pt x="1334" y="1133"/>
                          </a:lnTo>
                          <a:lnTo>
                            <a:pt x="1337" y="1122"/>
                          </a:lnTo>
                          <a:lnTo>
                            <a:pt x="1339" y="1108"/>
                          </a:lnTo>
                          <a:lnTo>
                            <a:pt x="1345" y="1097"/>
                          </a:lnTo>
                          <a:lnTo>
                            <a:pt x="1349" y="1084"/>
                          </a:lnTo>
                          <a:lnTo>
                            <a:pt x="1353" y="1070"/>
                          </a:lnTo>
                          <a:lnTo>
                            <a:pt x="1354" y="1059"/>
                          </a:lnTo>
                          <a:lnTo>
                            <a:pt x="1358" y="1044"/>
                          </a:lnTo>
                          <a:lnTo>
                            <a:pt x="1362" y="1032"/>
                          </a:lnTo>
                          <a:lnTo>
                            <a:pt x="1366" y="1017"/>
                          </a:lnTo>
                          <a:lnTo>
                            <a:pt x="1370" y="1004"/>
                          </a:lnTo>
                          <a:lnTo>
                            <a:pt x="1372" y="988"/>
                          </a:lnTo>
                          <a:lnTo>
                            <a:pt x="1375" y="975"/>
                          </a:lnTo>
                          <a:lnTo>
                            <a:pt x="1377" y="960"/>
                          </a:lnTo>
                          <a:lnTo>
                            <a:pt x="1381" y="947"/>
                          </a:lnTo>
                          <a:lnTo>
                            <a:pt x="1383" y="931"/>
                          </a:lnTo>
                          <a:lnTo>
                            <a:pt x="1387" y="916"/>
                          </a:lnTo>
                          <a:lnTo>
                            <a:pt x="1389" y="901"/>
                          </a:lnTo>
                          <a:lnTo>
                            <a:pt x="1391" y="886"/>
                          </a:lnTo>
                          <a:lnTo>
                            <a:pt x="1392" y="871"/>
                          </a:lnTo>
                          <a:lnTo>
                            <a:pt x="1394" y="855"/>
                          </a:lnTo>
                          <a:lnTo>
                            <a:pt x="1396" y="838"/>
                          </a:lnTo>
                          <a:lnTo>
                            <a:pt x="1398" y="823"/>
                          </a:lnTo>
                          <a:lnTo>
                            <a:pt x="1398" y="806"/>
                          </a:lnTo>
                          <a:lnTo>
                            <a:pt x="1400" y="791"/>
                          </a:lnTo>
                          <a:lnTo>
                            <a:pt x="1402" y="774"/>
                          </a:lnTo>
                          <a:lnTo>
                            <a:pt x="1402" y="757"/>
                          </a:lnTo>
                          <a:lnTo>
                            <a:pt x="1402" y="741"/>
                          </a:lnTo>
                          <a:lnTo>
                            <a:pt x="1402" y="724"/>
                          </a:lnTo>
                          <a:lnTo>
                            <a:pt x="1402" y="705"/>
                          </a:lnTo>
                          <a:lnTo>
                            <a:pt x="1402" y="690"/>
                          </a:lnTo>
                          <a:lnTo>
                            <a:pt x="1400" y="673"/>
                          </a:lnTo>
                          <a:lnTo>
                            <a:pt x="1400" y="656"/>
                          </a:lnTo>
                          <a:lnTo>
                            <a:pt x="1398" y="654"/>
                          </a:lnTo>
                          <a:lnTo>
                            <a:pt x="1398" y="652"/>
                          </a:lnTo>
                          <a:lnTo>
                            <a:pt x="1398" y="648"/>
                          </a:lnTo>
                          <a:lnTo>
                            <a:pt x="1398" y="644"/>
                          </a:lnTo>
                          <a:lnTo>
                            <a:pt x="1398" y="643"/>
                          </a:lnTo>
                          <a:lnTo>
                            <a:pt x="1398" y="639"/>
                          </a:lnTo>
                          <a:lnTo>
                            <a:pt x="1396" y="637"/>
                          </a:lnTo>
                          <a:lnTo>
                            <a:pt x="1396" y="633"/>
                          </a:lnTo>
                          <a:lnTo>
                            <a:pt x="1396" y="631"/>
                          </a:lnTo>
                          <a:lnTo>
                            <a:pt x="1396" y="627"/>
                          </a:lnTo>
                          <a:lnTo>
                            <a:pt x="1396" y="623"/>
                          </a:lnTo>
                          <a:lnTo>
                            <a:pt x="1394" y="620"/>
                          </a:lnTo>
                          <a:lnTo>
                            <a:pt x="1394" y="618"/>
                          </a:lnTo>
                          <a:lnTo>
                            <a:pt x="1394" y="616"/>
                          </a:lnTo>
                          <a:lnTo>
                            <a:pt x="1392" y="612"/>
                          </a:lnTo>
                          <a:lnTo>
                            <a:pt x="1392" y="610"/>
                          </a:lnTo>
                          <a:lnTo>
                            <a:pt x="1392" y="608"/>
                          </a:lnTo>
                          <a:lnTo>
                            <a:pt x="1391" y="604"/>
                          </a:lnTo>
                          <a:lnTo>
                            <a:pt x="1391" y="603"/>
                          </a:lnTo>
                          <a:lnTo>
                            <a:pt x="1391" y="599"/>
                          </a:lnTo>
                          <a:lnTo>
                            <a:pt x="1389" y="597"/>
                          </a:lnTo>
                          <a:lnTo>
                            <a:pt x="1389" y="593"/>
                          </a:lnTo>
                          <a:lnTo>
                            <a:pt x="1389" y="589"/>
                          </a:lnTo>
                          <a:lnTo>
                            <a:pt x="1389" y="587"/>
                          </a:lnTo>
                          <a:lnTo>
                            <a:pt x="1387" y="585"/>
                          </a:lnTo>
                          <a:lnTo>
                            <a:pt x="1385" y="582"/>
                          </a:lnTo>
                          <a:lnTo>
                            <a:pt x="1385" y="580"/>
                          </a:lnTo>
                          <a:lnTo>
                            <a:pt x="1383" y="578"/>
                          </a:lnTo>
                          <a:lnTo>
                            <a:pt x="1383" y="572"/>
                          </a:lnTo>
                          <a:lnTo>
                            <a:pt x="1381" y="568"/>
                          </a:lnTo>
                          <a:lnTo>
                            <a:pt x="1377" y="563"/>
                          </a:lnTo>
                          <a:lnTo>
                            <a:pt x="1375" y="557"/>
                          </a:lnTo>
                          <a:lnTo>
                            <a:pt x="1373" y="553"/>
                          </a:lnTo>
                          <a:lnTo>
                            <a:pt x="1370" y="547"/>
                          </a:lnTo>
                          <a:lnTo>
                            <a:pt x="1366" y="544"/>
                          </a:lnTo>
                          <a:lnTo>
                            <a:pt x="1364" y="540"/>
                          </a:lnTo>
                          <a:lnTo>
                            <a:pt x="1360" y="536"/>
                          </a:lnTo>
                          <a:lnTo>
                            <a:pt x="1356" y="532"/>
                          </a:lnTo>
                          <a:lnTo>
                            <a:pt x="1353" y="528"/>
                          </a:lnTo>
                          <a:lnTo>
                            <a:pt x="1349" y="525"/>
                          </a:lnTo>
                          <a:lnTo>
                            <a:pt x="1345" y="523"/>
                          </a:lnTo>
                          <a:lnTo>
                            <a:pt x="1339" y="521"/>
                          </a:lnTo>
                          <a:lnTo>
                            <a:pt x="1335" y="517"/>
                          </a:lnTo>
                          <a:lnTo>
                            <a:pt x="1332" y="515"/>
                          </a:lnTo>
                          <a:lnTo>
                            <a:pt x="1326" y="515"/>
                          </a:lnTo>
                          <a:lnTo>
                            <a:pt x="1322" y="513"/>
                          </a:lnTo>
                          <a:lnTo>
                            <a:pt x="1318" y="511"/>
                          </a:lnTo>
                          <a:lnTo>
                            <a:pt x="1316" y="511"/>
                          </a:lnTo>
                          <a:lnTo>
                            <a:pt x="1313" y="511"/>
                          </a:lnTo>
                          <a:lnTo>
                            <a:pt x="1311" y="511"/>
                          </a:lnTo>
                          <a:lnTo>
                            <a:pt x="1309" y="509"/>
                          </a:lnTo>
                          <a:lnTo>
                            <a:pt x="1305" y="509"/>
                          </a:lnTo>
                          <a:lnTo>
                            <a:pt x="1303" y="509"/>
                          </a:lnTo>
                          <a:lnTo>
                            <a:pt x="1301" y="509"/>
                          </a:lnTo>
                          <a:lnTo>
                            <a:pt x="1297" y="509"/>
                          </a:lnTo>
                          <a:lnTo>
                            <a:pt x="1295" y="509"/>
                          </a:lnTo>
                          <a:lnTo>
                            <a:pt x="1292" y="509"/>
                          </a:lnTo>
                          <a:lnTo>
                            <a:pt x="1290" y="509"/>
                          </a:lnTo>
                          <a:lnTo>
                            <a:pt x="1284" y="509"/>
                          </a:lnTo>
                          <a:lnTo>
                            <a:pt x="1280" y="509"/>
                          </a:lnTo>
                          <a:lnTo>
                            <a:pt x="1275" y="509"/>
                          </a:lnTo>
                          <a:lnTo>
                            <a:pt x="1269" y="509"/>
                          </a:lnTo>
                          <a:lnTo>
                            <a:pt x="1265" y="509"/>
                          </a:lnTo>
                          <a:lnTo>
                            <a:pt x="1259" y="509"/>
                          </a:lnTo>
                          <a:lnTo>
                            <a:pt x="1256" y="511"/>
                          </a:lnTo>
                          <a:lnTo>
                            <a:pt x="1252" y="511"/>
                          </a:lnTo>
                          <a:lnTo>
                            <a:pt x="1246" y="515"/>
                          </a:lnTo>
                          <a:lnTo>
                            <a:pt x="1242" y="515"/>
                          </a:lnTo>
                          <a:lnTo>
                            <a:pt x="1238" y="517"/>
                          </a:lnTo>
                          <a:lnTo>
                            <a:pt x="1235" y="521"/>
                          </a:lnTo>
                          <a:lnTo>
                            <a:pt x="1231" y="523"/>
                          </a:lnTo>
                          <a:lnTo>
                            <a:pt x="1229" y="525"/>
                          </a:lnTo>
                          <a:lnTo>
                            <a:pt x="1225" y="527"/>
                          </a:lnTo>
                          <a:lnTo>
                            <a:pt x="1221" y="530"/>
                          </a:lnTo>
                          <a:lnTo>
                            <a:pt x="1219" y="532"/>
                          </a:lnTo>
                          <a:lnTo>
                            <a:pt x="1216" y="538"/>
                          </a:lnTo>
                          <a:lnTo>
                            <a:pt x="1214" y="542"/>
                          </a:lnTo>
                          <a:lnTo>
                            <a:pt x="1212" y="546"/>
                          </a:lnTo>
                          <a:lnTo>
                            <a:pt x="1210" y="549"/>
                          </a:lnTo>
                          <a:lnTo>
                            <a:pt x="1208" y="555"/>
                          </a:lnTo>
                          <a:lnTo>
                            <a:pt x="1208" y="557"/>
                          </a:lnTo>
                          <a:lnTo>
                            <a:pt x="1206" y="559"/>
                          </a:lnTo>
                          <a:lnTo>
                            <a:pt x="1204" y="561"/>
                          </a:lnTo>
                          <a:lnTo>
                            <a:pt x="1204" y="565"/>
                          </a:lnTo>
                          <a:lnTo>
                            <a:pt x="1204" y="566"/>
                          </a:lnTo>
                          <a:lnTo>
                            <a:pt x="1204" y="570"/>
                          </a:lnTo>
                          <a:lnTo>
                            <a:pt x="1204" y="572"/>
                          </a:lnTo>
                          <a:lnTo>
                            <a:pt x="1204" y="576"/>
                          </a:lnTo>
                          <a:lnTo>
                            <a:pt x="1139" y="895"/>
                          </a:lnTo>
                          <a:lnTo>
                            <a:pt x="1136" y="893"/>
                          </a:lnTo>
                          <a:lnTo>
                            <a:pt x="1132" y="892"/>
                          </a:lnTo>
                          <a:lnTo>
                            <a:pt x="1126" y="888"/>
                          </a:lnTo>
                          <a:lnTo>
                            <a:pt x="1122" y="886"/>
                          </a:lnTo>
                          <a:lnTo>
                            <a:pt x="1117" y="884"/>
                          </a:lnTo>
                          <a:lnTo>
                            <a:pt x="1113" y="880"/>
                          </a:lnTo>
                          <a:lnTo>
                            <a:pt x="1107" y="878"/>
                          </a:lnTo>
                          <a:lnTo>
                            <a:pt x="1105" y="876"/>
                          </a:lnTo>
                          <a:lnTo>
                            <a:pt x="1227" y="316"/>
                          </a:lnTo>
                          <a:lnTo>
                            <a:pt x="1227" y="312"/>
                          </a:lnTo>
                          <a:lnTo>
                            <a:pt x="1227" y="308"/>
                          </a:lnTo>
                          <a:lnTo>
                            <a:pt x="1229" y="306"/>
                          </a:lnTo>
                          <a:lnTo>
                            <a:pt x="1229" y="304"/>
                          </a:lnTo>
                          <a:lnTo>
                            <a:pt x="1229" y="300"/>
                          </a:lnTo>
                          <a:lnTo>
                            <a:pt x="1229" y="298"/>
                          </a:lnTo>
                          <a:lnTo>
                            <a:pt x="1229" y="295"/>
                          </a:lnTo>
                          <a:lnTo>
                            <a:pt x="1229" y="293"/>
                          </a:lnTo>
                          <a:lnTo>
                            <a:pt x="1229" y="291"/>
                          </a:lnTo>
                          <a:lnTo>
                            <a:pt x="1229" y="287"/>
                          </a:lnTo>
                          <a:lnTo>
                            <a:pt x="1229" y="285"/>
                          </a:lnTo>
                          <a:lnTo>
                            <a:pt x="1229" y="283"/>
                          </a:lnTo>
                          <a:lnTo>
                            <a:pt x="1229" y="278"/>
                          </a:lnTo>
                          <a:lnTo>
                            <a:pt x="1227" y="272"/>
                          </a:lnTo>
                          <a:lnTo>
                            <a:pt x="1225" y="268"/>
                          </a:lnTo>
                          <a:lnTo>
                            <a:pt x="1225" y="262"/>
                          </a:lnTo>
                          <a:lnTo>
                            <a:pt x="1223" y="257"/>
                          </a:lnTo>
                          <a:lnTo>
                            <a:pt x="1221" y="253"/>
                          </a:lnTo>
                          <a:lnTo>
                            <a:pt x="1219" y="247"/>
                          </a:lnTo>
                          <a:lnTo>
                            <a:pt x="1217" y="243"/>
                          </a:lnTo>
                          <a:lnTo>
                            <a:pt x="1216" y="240"/>
                          </a:lnTo>
                          <a:lnTo>
                            <a:pt x="1214" y="236"/>
                          </a:lnTo>
                          <a:lnTo>
                            <a:pt x="1210" y="232"/>
                          </a:lnTo>
                          <a:lnTo>
                            <a:pt x="1206" y="226"/>
                          </a:lnTo>
                          <a:lnTo>
                            <a:pt x="1202" y="222"/>
                          </a:lnTo>
                          <a:lnTo>
                            <a:pt x="1200" y="219"/>
                          </a:lnTo>
                          <a:lnTo>
                            <a:pt x="1197" y="215"/>
                          </a:lnTo>
                          <a:lnTo>
                            <a:pt x="1193" y="211"/>
                          </a:lnTo>
                          <a:lnTo>
                            <a:pt x="1189" y="207"/>
                          </a:lnTo>
                          <a:lnTo>
                            <a:pt x="1185" y="205"/>
                          </a:lnTo>
                          <a:lnTo>
                            <a:pt x="1179" y="203"/>
                          </a:lnTo>
                          <a:lnTo>
                            <a:pt x="1176" y="200"/>
                          </a:lnTo>
                          <a:lnTo>
                            <a:pt x="1172" y="198"/>
                          </a:lnTo>
                          <a:lnTo>
                            <a:pt x="1166" y="194"/>
                          </a:lnTo>
                          <a:lnTo>
                            <a:pt x="1160" y="192"/>
                          </a:lnTo>
                          <a:lnTo>
                            <a:pt x="1157" y="192"/>
                          </a:lnTo>
                          <a:lnTo>
                            <a:pt x="1151" y="190"/>
                          </a:lnTo>
                          <a:lnTo>
                            <a:pt x="1147" y="190"/>
                          </a:lnTo>
                          <a:lnTo>
                            <a:pt x="1143" y="188"/>
                          </a:lnTo>
                          <a:lnTo>
                            <a:pt x="1141" y="186"/>
                          </a:lnTo>
                          <a:lnTo>
                            <a:pt x="1138" y="186"/>
                          </a:lnTo>
                          <a:lnTo>
                            <a:pt x="1136" y="186"/>
                          </a:lnTo>
                          <a:lnTo>
                            <a:pt x="1134" y="186"/>
                          </a:lnTo>
                          <a:lnTo>
                            <a:pt x="1130" y="186"/>
                          </a:lnTo>
                          <a:lnTo>
                            <a:pt x="1128" y="186"/>
                          </a:lnTo>
                          <a:lnTo>
                            <a:pt x="1124" y="186"/>
                          </a:lnTo>
                          <a:lnTo>
                            <a:pt x="1122" y="186"/>
                          </a:lnTo>
                          <a:lnTo>
                            <a:pt x="1120" y="186"/>
                          </a:lnTo>
                          <a:lnTo>
                            <a:pt x="1117" y="186"/>
                          </a:lnTo>
                          <a:lnTo>
                            <a:pt x="1115" y="186"/>
                          </a:lnTo>
                          <a:lnTo>
                            <a:pt x="1109" y="186"/>
                          </a:lnTo>
                          <a:lnTo>
                            <a:pt x="1105" y="188"/>
                          </a:lnTo>
                          <a:lnTo>
                            <a:pt x="1100" y="188"/>
                          </a:lnTo>
                          <a:lnTo>
                            <a:pt x="1094" y="190"/>
                          </a:lnTo>
                          <a:lnTo>
                            <a:pt x="1090" y="192"/>
                          </a:lnTo>
                          <a:lnTo>
                            <a:pt x="1086" y="192"/>
                          </a:lnTo>
                          <a:lnTo>
                            <a:pt x="1081" y="194"/>
                          </a:lnTo>
                          <a:lnTo>
                            <a:pt x="1077" y="198"/>
                          </a:lnTo>
                          <a:lnTo>
                            <a:pt x="1073" y="200"/>
                          </a:lnTo>
                          <a:lnTo>
                            <a:pt x="1067" y="203"/>
                          </a:lnTo>
                          <a:lnTo>
                            <a:pt x="1063" y="205"/>
                          </a:lnTo>
                          <a:lnTo>
                            <a:pt x="1058" y="207"/>
                          </a:lnTo>
                          <a:lnTo>
                            <a:pt x="1054" y="211"/>
                          </a:lnTo>
                          <a:lnTo>
                            <a:pt x="1050" y="215"/>
                          </a:lnTo>
                          <a:lnTo>
                            <a:pt x="1048" y="219"/>
                          </a:lnTo>
                          <a:lnTo>
                            <a:pt x="1044" y="222"/>
                          </a:lnTo>
                          <a:lnTo>
                            <a:pt x="1041" y="226"/>
                          </a:lnTo>
                          <a:lnTo>
                            <a:pt x="1039" y="232"/>
                          </a:lnTo>
                          <a:lnTo>
                            <a:pt x="1035" y="234"/>
                          </a:lnTo>
                          <a:lnTo>
                            <a:pt x="1033" y="240"/>
                          </a:lnTo>
                          <a:lnTo>
                            <a:pt x="1029" y="243"/>
                          </a:lnTo>
                          <a:lnTo>
                            <a:pt x="1027" y="249"/>
                          </a:lnTo>
                          <a:lnTo>
                            <a:pt x="1025" y="253"/>
                          </a:lnTo>
                          <a:lnTo>
                            <a:pt x="1023" y="259"/>
                          </a:lnTo>
                          <a:lnTo>
                            <a:pt x="1022" y="260"/>
                          </a:lnTo>
                          <a:lnTo>
                            <a:pt x="1022" y="264"/>
                          </a:lnTo>
                          <a:lnTo>
                            <a:pt x="1022" y="266"/>
                          </a:lnTo>
                          <a:lnTo>
                            <a:pt x="1022" y="270"/>
                          </a:lnTo>
                          <a:lnTo>
                            <a:pt x="919" y="730"/>
                          </a:lnTo>
                          <a:lnTo>
                            <a:pt x="915" y="728"/>
                          </a:lnTo>
                          <a:lnTo>
                            <a:pt x="913" y="726"/>
                          </a:lnTo>
                          <a:lnTo>
                            <a:pt x="907" y="724"/>
                          </a:lnTo>
                          <a:lnTo>
                            <a:pt x="905" y="720"/>
                          </a:lnTo>
                          <a:lnTo>
                            <a:pt x="904" y="719"/>
                          </a:lnTo>
                          <a:lnTo>
                            <a:pt x="900" y="717"/>
                          </a:lnTo>
                          <a:lnTo>
                            <a:pt x="896" y="713"/>
                          </a:lnTo>
                          <a:lnTo>
                            <a:pt x="892" y="713"/>
                          </a:lnTo>
                          <a:lnTo>
                            <a:pt x="1022" y="129"/>
                          </a:lnTo>
                          <a:lnTo>
                            <a:pt x="1022" y="125"/>
                          </a:lnTo>
                          <a:lnTo>
                            <a:pt x="1022" y="124"/>
                          </a:lnTo>
                          <a:lnTo>
                            <a:pt x="1022" y="120"/>
                          </a:lnTo>
                          <a:lnTo>
                            <a:pt x="1022" y="118"/>
                          </a:lnTo>
                          <a:lnTo>
                            <a:pt x="1022" y="114"/>
                          </a:lnTo>
                          <a:lnTo>
                            <a:pt x="1022" y="112"/>
                          </a:lnTo>
                          <a:lnTo>
                            <a:pt x="1022" y="110"/>
                          </a:lnTo>
                          <a:lnTo>
                            <a:pt x="1022" y="106"/>
                          </a:lnTo>
                          <a:lnTo>
                            <a:pt x="1022" y="105"/>
                          </a:lnTo>
                          <a:lnTo>
                            <a:pt x="1022" y="103"/>
                          </a:lnTo>
                          <a:lnTo>
                            <a:pt x="1022" y="99"/>
                          </a:lnTo>
                          <a:lnTo>
                            <a:pt x="1022" y="97"/>
                          </a:lnTo>
                          <a:lnTo>
                            <a:pt x="1022" y="91"/>
                          </a:lnTo>
                          <a:lnTo>
                            <a:pt x="1022" y="86"/>
                          </a:lnTo>
                          <a:lnTo>
                            <a:pt x="1020" y="82"/>
                          </a:lnTo>
                          <a:lnTo>
                            <a:pt x="1018" y="76"/>
                          </a:lnTo>
                          <a:lnTo>
                            <a:pt x="1016" y="70"/>
                          </a:lnTo>
                          <a:lnTo>
                            <a:pt x="1014" y="67"/>
                          </a:lnTo>
                          <a:lnTo>
                            <a:pt x="1012" y="61"/>
                          </a:lnTo>
                          <a:lnTo>
                            <a:pt x="1010" y="57"/>
                          </a:lnTo>
                          <a:lnTo>
                            <a:pt x="1008" y="53"/>
                          </a:lnTo>
                          <a:lnTo>
                            <a:pt x="1006" y="48"/>
                          </a:lnTo>
                          <a:lnTo>
                            <a:pt x="1004" y="44"/>
                          </a:lnTo>
                          <a:lnTo>
                            <a:pt x="1001" y="40"/>
                          </a:lnTo>
                          <a:lnTo>
                            <a:pt x="997" y="36"/>
                          </a:lnTo>
                          <a:lnTo>
                            <a:pt x="993" y="32"/>
                          </a:lnTo>
                          <a:lnTo>
                            <a:pt x="991" y="29"/>
                          </a:lnTo>
                          <a:lnTo>
                            <a:pt x="985" y="25"/>
                          </a:lnTo>
                          <a:lnTo>
                            <a:pt x="983" y="23"/>
                          </a:lnTo>
                          <a:lnTo>
                            <a:pt x="978" y="19"/>
                          </a:lnTo>
                          <a:lnTo>
                            <a:pt x="972" y="17"/>
                          </a:lnTo>
                          <a:lnTo>
                            <a:pt x="968" y="13"/>
                          </a:lnTo>
                          <a:lnTo>
                            <a:pt x="964" y="11"/>
                          </a:lnTo>
                          <a:lnTo>
                            <a:pt x="961" y="10"/>
                          </a:lnTo>
                          <a:lnTo>
                            <a:pt x="955" y="6"/>
                          </a:lnTo>
                          <a:lnTo>
                            <a:pt x="949" y="6"/>
                          </a:lnTo>
                          <a:lnTo>
                            <a:pt x="944" y="4"/>
                          </a:lnTo>
                          <a:lnTo>
                            <a:pt x="940" y="4"/>
                          </a:lnTo>
                          <a:lnTo>
                            <a:pt x="936" y="2"/>
                          </a:lnTo>
                          <a:lnTo>
                            <a:pt x="934" y="2"/>
                          </a:lnTo>
                          <a:lnTo>
                            <a:pt x="932" y="0"/>
                          </a:lnTo>
                          <a:lnTo>
                            <a:pt x="928" y="0"/>
                          </a:lnTo>
                          <a:lnTo>
                            <a:pt x="926" y="0"/>
                          </a:lnTo>
                          <a:lnTo>
                            <a:pt x="925" y="0"/>
                          </a:lnTo>
                          <a:lnTo>
                            <a:pt x="921" y="0"/>
                          </a:lnTo>
                          <a:lnTo>
                            <a:pt x="919" y="0"/>
                          </a:lnTo>
                          <a:lnTo>
                            <a:pt x="915" y="0"/>
                          </a:lnTo>
                          <a:lnTo>
                            <a:pt x="913" y="0"/>
                          </a:lnTo>
                          <a:lnTo>
                            <a:pt x="911" y="0"/>
                          </a:lnTo>
                          <a:lnTo>
                            <a:pt x="907" y="0"/>
                          </a:lnTo>
                          <a:lnTo>
                            <a:pt x="904" y="0"/>
                          </a:lnTo>
                          <a:lnTo>
                            <a:pt x="898" y="2"/>
                          </a:lnTo>
                          <a:lnTo>
                            <a:pt x="896" y="2"/>
                          </a:lnTo>
                          <a:lnTo>
                            <a:pt x="892" y="2"/>
                          </a:lnTo>
                          <a:lnTo>
                            <a:pt x="890" y="2"/>
                          </a:lnTo>
                          <a:lnTo>
                            <a:pt x="888" y="4"/>
                          </a:lnTo>
                          <a:lnTo>
                            <a:pt x="881" y="4"/>
                          </a:lnTo>
                          <a:lnTo>
                            <a:pt x="877" y="6"/>
                          </a:lnTo>
                          <a:lnTo>
                            <a:pt x="873" y="10"/>
                          </a:lnTo>
                          <a:lnTo>
                            <a:pt x="867" y="11"/>
                          </a:lnTo>
                          <a:lnTo>
                            <a:pt x="864" y="15"/>
                          </a:lnTo>
                          <a:lnTo>
                            <a:pt x="860" y="17"/>
                          </a:lnTo>
                          <a:lnTo>
                            <a:pt x="854" y="19"/>
                          </a:lnTo>
                          <a:lnTo>
                            <a:pt x="850" y="23"/>
                          </a:lnTo>
                          <a:lnTo>
                            <a:pt x="847" y="25"/>
                          </a:lnTo>
                          <a:lnTo>
                            <a:pt x="843" y="29"/>
                          </a:lnTo>
                          <a:lnTo>
                            <a:pt x="839" y="32"/>
                          </a:lnTo>
                          <a:lnTo>
                            <a:pt x="835" y="36"/>
                          </a:lnTo>
                          <a:lnTo>
                            <a:pt x="833" y="40"/>
                          </a:lnTo>
                          <a:lnTo>
                            <a:pt x="831" y="44"/>
                          </a:lnTo>
                          <a:lnTo>
                            <a:pt x="828" y="48"/>
                          </a:lnTo>
                          <a:lnTo>
                            <a:pt x="824" y="53"/>
                          </a:lnTo>
                          <a:lnTo>
                            <a:pt x="822" y="57"/>
                          </a:lnTo>
                          <a:lnTo>
                            <a:pt x="820" y="61"/>
                          </a:lnTo>
                          <a:lnTo>
                            <a:pt x="818" y="67"/>
                          </a:lnTo>
                          <a:lnTo>
                            <a:pt x="816" y="70"/>
                          </a:lnTo>
                          <a:lnTo>
                            <a:pt x="816" y="74"/>
                          </a:lnTo>
                          <a:lnTo>
                            <a:pt x="814" y="76"/>
                          </a:lnTo>
                          <a:lnTo>
                            <a:pt x="812" y="82"/>
                          </a:lnTo>
                          <a:lnTo>
                            <a:pt x="812" y="84"/>
                          </a:lnTo>
                          <a:lnTo>
                            <a:pt x="687" y="663"/>
                          </a:lnTo>
                          <a:lnTo>
                            <a:pt x="681" y="663"/>
                          </a:lnTo>
                          <a:lnTo>
                            <a:pt x="677" y="663"/>
                          </a:lnTo>
                          <a:lnTo>
                            <a:pt x="673" y="663"/>
                          </a:lnTo>
                          <a:lnTo>
                            <a:pt x="670" y="663"/>
                          </a:lnTo>
                          <a:lnTo>
                            <a:pt x="666" y="663"/>
                          </a:lnTo>
                          <a:lnTo>
                            <a:pt x="660" y="665"/>
                          </a:lnTo>
                          <a:lnTo>
                            <a:pt x="656" y="665"/>
                          </a:lnTo>
                          <a:lnTo>
                            <a:pt x="652" y="667"/>
                          </a:lnTo>
                          <a:lnTo>
                            <a:pt x="753" y="213"/>
                          </a:lnTo>
                          <a:lnTo>
                            <a:pt x="753" y="209"/>
                          </a:lnTo>
                          <a:lnTo>
                            <a:pt x="753" y="207"/>
                          </a:lnTo>
                          <a:lnTo>
                            <a:pt x="753" y="203"/>
                          </a:lnTo>
                          <a:lnTo>
                            <a:pt x="753" y="201"/>
                          </a:lnTo>
                          <a:lnTo>
                            <a:pt x="753" y="198"/>
                          </a:lnTo>
                          <a:lnTo>
                            <a:pt x="753" y="196"/>
                          </a:lnTo>
                          <a:lnTo>
                            <a:pt x="753" y="192"/>
                          </a:lnTo>
                          <a:lnTo>
                            <a:pt x="753" y="190"/>
                          </a:lnTo>
                          <a:lnTo>
                            <a:pt x="753" y="188"/>
                          </a:lnTo>
                          <a:lnTo>
                            <a:pt x="753" y="184"/>
                          </a:lnTo>
                          <a:lnTo>
                            <a:pt x="753" y="182"/>
                          </a:lnTo>
                          <a:lnTo>
                            <a:pt x="753" y="181"/>
                          </a:lnTo>
                          <a:lnTo>
                            <a:pt x="753" y="175"/>
                          </a:lnTo>
                          <a:lnTo>
                            <a:pt x="753" y="169"/>
                          </a:lnTo>
                          <a:lnTo>
                            <a:pt x="751" y="167"/>
                          </a:lnTo>
                          <a:lnTo>
                            <a:pt x="751" y="163"/>
                          </a:lnTo>
                          <a:lnTo>
                            <a:pt x="751" y="162"/>
                          </a:lnTo>
                          <a:lnTo>
                            <a:pt x="750" y="160"/>
                          </a:lnTo>
                          <a:lnTo>
                            <a:pt x="748" y="154"/>
                          </a:lnTo>
                          <a:lnTo>
                            <a:pt x="746" y="148"/>
                          </a:lnTo>
                          <a:lnTo>
                            <a:pt x="744" y="144"/>
                          </a:lnTo>
                          <a:lnTo>
                            <a:pt x="742" y="141"/>
                          </a:lnTo>
                          <a:lnTo>
                            <a:pt x="740" y="135"/>
                          </a:lnTo>
                          <a:lnTo>
                            <a:pt x="738" y="131"/>
                          </a:lnTo>
                          <a:lnTo>
                            <a:pt x="734" y="127"/>
                          </a:lnTo>
                          <a:lnTo>
                            <a:pt x="730" y="124"/>
                          </a:lnTo>
                          <a:lnTo>
                            <a:pt x="727" y="120"/>
                          </a:lnTo>
                          <a:lnTo>
                            <a:pt x="725" y="116"/>
                          </a:lnTo>
                          <a:lnTo>
                            <a:pt x="721" y="112"/>
                          </a:lnTo>
                          <a:lnTo>
                            <a:pt x="717" y="108"/>
                          </a:lnTo>
                          <a:lnTo>
                            <a:pt x="713" y="105"/>
                          </a:lnTo>
                          <a:lnTo>
                            <a:pt x="710" y="103"/>
                          </a:lnTo>
                          <a:lnTo>
                            <a:pt x="704" y="99"/>
                          </a:lnTo>
                          <a:lnTo>
                            <a:pt x="700" y="97"/>
                          </a:lnTo>
                          <a:lnTo>
                            <a:pt x="694" y="95"/>
                          </a:lnTo>
                          <a:lnTo>
                            <a:pt x="691" y="91"/>
                          </a:lnTo>
                          <a:lnTo>
                            <a:pt x="685" y="89"/>
                          </a:lnTo>
                          <a:lnTo>
                            <a:pt x="681" y="87"/>
                          </a:lnTo>
                          <a:lnTo>
                            <a:pt x="675" y="86"/>
                          </a:lnTo>
                          <a:lnTo>
                            <a:pt x="672" y="86"/>
                          </a:lnTo>
                          <a:lnTo>
                            <a:pt x="668" y="84"/>
                          </a:lnTo>
                          <a:lnTo>
                            <a:pt x="666" y="84"/>
                          </a:lnTo>
                          <a:lnTo>
                            <a:pt x="664" y="84"/>
                          </a:lnTo>
                          <a:lnTo>
                            <a:pt x="660" y="84"/>
                          </a:lnTo>
                          <a:lnTo>
                            <a:pt x="658" y="84"/>
                          </a:lnTo>
                          <a:lnTo>
                            <a:pt x="654" y="84"/>
                          </a:lnTo>
                          <a:lnTo>
                            <a:pt x="652" y="84"/>
                          </a:lnTo>
                          <a:lnTo>
                            <a:pt x="651" y="84"/>
                          </a:lnTo>
                          <a:lnTo>
                            <a:pt x="647" y="84"/>
                          </a:lnTo>
                          <a:lnTo>
                            <a:pt x="645" y="84"/>
                          </a:lnTo>
                          <a:lnTo>
                            <a:pt x="643" y="84"/>
                          </a:lnTo>
                          <a:lnTo>
                            <a:pt x="639" y="84"/>
                          </a:lnTo>
                          <a:lnTo>
                            <a:pt x="635" y="84"/>
                          </a:lnTo>
                          <a:lnTo>
                            <a:pt x="630" y="84"/>
                          </a:lnTo>
                          <a:lnTo>
                            <a:pt x="628" y="84"/>
                          </a:lnTo>
                          <a:lnTo>
                            <a:pt x="624" y="86"/>
                          </a:lnTo>
                          <a:lnTo>
                            <a:pt x="622" y="86"/>
                          </a:lnTo>
                          <a:lnTo>
                            <a:pt x="618" y="86"/>
                          </a:lnTo>
                          <a:lnTo>
                            <a:pt x="614" y="87"/>
                          </a:lnTo>
                          <a:lnTo>
                            <a:pt x="609" y="89"/>
                          </a:lnTo>
                          <a:lnTo>
                            <a:pt x="603" y="91"/>
                          </a:lnTo>
                          <a:lnTo>
                            <a:pt x="599" y="95"/>
                          </a:lnTo>
                          <a:lnTo>
                            <a:pt x="595" y="97"/>
                          </a:lnTo>
                          <a:lnTo>
                            <a:pt x="592" y="99"/>
                          </a:lnTo>
                          <a:lnTo>
                            <a:pt x="586" y="103"/>
                          </a:lnTo>
                          <a:lnTo>
                            <a:pt x="582" y="105"/>
                          </a:lnTo>
                          <a:lnTo>
                            <a:pt x="578" y="108"/>
                          </a:lnTo>
                          <a:lnTo>
                            <a:pt x="574" y="112"/>
                          </a:lnTo>
                          <a:lnTo>
                            <a:pt x="571" y="116"/>
                          </a:lnTo>
                          <a:lnTo>
                            <a:pt x="567" y="120"/>
                          </a:lnTo>
                          <a:lnTo>
                            <a:pt x="565" y="124"/>
                          </a:lnTo>
                          <a:lnTo>
                            <a:pt x="563" y="127"/>
                          </a:lnTo>
                          <a:lnTo>
                            <a:pt x="559" y="131"/>
                          </a:lnTo>
                          <a:lnTo>
                            <a:pt x="555" y="135"/>
                          </a:lnTo>
                          <a:lnTo>
                            <a:pt x="554" y="141"/>
                          </a:lnTo>
                          <a:lnTo>
                            <a:pt x="552" y="146"/>
                          </a:lnTo>
                          <a:lnTo>
                            <a:pt x="550" y="150"/>
                          </a:lnTo>
                          <a:lnTo>
                            <a:pt x="548" y="156"/>
                          </a:lnTo>
                          <a:lnTo>
                            <a:pt x="546" y="158"/>
                          </a:lnTo>
                          <a:lnTo>
                            <a:pt x="546" y="160"/>
                          </a:lnTo>
                          <a:lnTo>
                            <a:pt x="544" y="163"/>
                          </a:lnTo>
                          <a:lnTo>
                            <a:pt x="544" y="167"/>
                          </a:lnTo>
                          <a:lnTo>
                            <a:pt x="361" y="1127"/>
                          </a:lnTo>
                          <a:lnTo>
                            <a:pt x="361" y="1127"/>
                          </a:lnTo>
                          <a:close/>
                        </a:path>
                      </a:pathLst>
                    </a:custGeom>
                    <a:solidFill>
                      <a:srgbClr val="eaeaea"/>
                    </a:soli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89" name="AutoShape 33"/>
                  <p:cNvSpPr/>
                  <p:nvPr/>
                </p:nvSpPr>
                <p:spPr>
                  <a:xfrm rot="20352000">
                    <a:off x="4355280" y="2762280"/>
                    <a:ext cx="88560" cy="75960"/>
                  </a:xfrm>
                  <a:prstGeom prst="hexagon">
                    <a:avLst>
                      <a:gd name="adj" fmla="val 29147"/>
                      <a:gd name="vf" fmla="val 115470"/>
                    </a:avLst>
                  </a:prstGeom>
                  <a:solidFill>
                    <a:srgbClr val="ff0000"/>
                  </a:solidFill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90" name="AutoShape 34"/>
              <p:cNvSpPr/>
              <p:nvPr/>
            </p:nvSpPr>
            <p:spPr>
              <a:xfrm rot="20369400">
                <a:off x="4195080" y="2440800"/>
                <a:ext cx="180000" cy="121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210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1" name="AutoShape 35"/>
            <p:cNvSpPr/>
            <p:nvPr/>
          </p:nvSpPr>
          <p:spPr>
            <a:xfrm rot="20383800">
              <a:off x="4429800" y="3123720"/>
              <a:ext cx="192600" cy="5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308" y="21600"/>
                  </a:lnTo>
                  <a:lnTo>
                    <a:pt x="1729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ffffff"/>
                </a:gs>
              </a:gsLst>
              <a:lin ang="2100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2" name="Group 36"/>
          <p:cNvGrpSpPr/>
          <p:nvPr/>
        </p:nvGrpSpPr>
        <p:grpSpPr>
          <a:xfrm>
            <a:off x="3916080" y="2238120"/>
            <a:ext cx="807480" cy="2124000"/>
            <a:chOff x="3916080" y="2238120"/>
            <a:chExt cx="807480" cy="2124000"/>
          </a:xfrm>
        </p:grpSpPr>
        <p:grpSp>
          <p:nvGrpSpPr>
            <p:cNvPr id="2193" name="Group 37"/>
            <p:cNvGrpSpPr/>
            <p:nvPr/>
          </p:nvGrpSpPr>
          <p:grpSpPr>
            <a:xfrm>
              <a:off x="3916080" y="3209040"/>
              <a:ext cx="545040" cy="1153080"/>
              <a:chOff x="3916080" y="3209040"/>
              <a:chExt cx="545040" cy="1153080"/>
            </a:xfrm>
          </p:grpSpPr>
          <p:grpSp>
            <p:nvGrpSpPr>
              <p:cNvPr id="2194" name="Group 38"/>
              <p:cNvGrpSpPr/>
              <p:nvPr/>
            </p:nvGrpSpPr>
            <p:grpSpPr>
              <a:xfrm>
                <a:off x="3916080" y="3209040"/>
                <a:ext cx="526680" cy="1153080"/>
                <a:chOff x="3916080" y="3209040"/>
                <a:chExt cx="526680" cy="1153080"/>
              </a:xfrm>
            </p:grpSpPr>
            <p:grpSp>
              <p:nvGrpSpPr>
                <p:cNvPr id="2195" name="Group 39"/>
                <p:cNvGrpSpPr/>
                <p:nvPr/>
              </p:nvGrpSpPr>
              <p:grpSpPr>
                <a:xfrm>
                  <a:off x="3916080" y="3750120"/>
                  <a:ext cx="450720" cy="612000"/>
                  <a:chOff x="3916080" y="3750120"/>
                  <a:chExt cx="450720" cy="612000"/>
                </a:xfrm>
              </p:grpSpPr>
              <p:sp>
                <p:nvSpPr>
                  <p:cNvPr id="2196" name="AutoShape 40"/>
                  <p:cNvSpPr/>
                  <p:nvPr/>
                </p:nvSpPr>
                <p:spPr>
                  <a:xfrm rot="11766600">
                    <a:off x="4006080" y="3776400"/>
                    <a:ext cx="2444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197" name="Group 41"/>
                  <p:cNvGrpSpPr/>
                  <p:nvPr/>
                </p:nvGrpSpPr>
                <p:grpSpPr>
                  <a:xfrm>
                    <a:off x="3916080" y="4094640"/>
                    <a:ext cx="450720" cy="267480"/>
                    <a:chOff x="3916080" y="4094640"/>
                    <a:chExt cx="450720" cy="267480"/>
                  </a:xfrm>
                </p:grpSpPr>
                <p:grpSp>
                  <p:nvGrpSpPr>
                    <p:cNvPr id="2198" name="Group 42"/>
                    <p:cNvGrpSpPr/>
                    <p:nvPr/>
                  </p:nvGrpSpPr>
                  <p:grpSpPr>
                    <a:xfrm>
                      <a:off x="3916080" y="4124160"/>
                      <a:ext cx="450720" cy="237960"/>
                      <a:chOff x="3916080" y="4124160"/>
                      <a:chExt cx="450720" cy="237960"/>
                    </a:xfrm>
                  </p:grpSpPr>
                  <p:grpSp>
                    <p:nvGrpSpPr>
                      <p:cNvPr id="2199" name="Group 43"/>
                      <p:cNvGrpSpPr/>
                      <p:nvPr/>
                    </p:nvGrpSpPr>
                    <p:grpSpPr>
                      <a:xfrm>
                        <a:off x="3916080" y="4124160"/>
                        <a:ext cx="450720" cy="237960"/>
                        <a:chOff x="3916080" y="4124160"/>
                        <a:chExt cx="450720" cy="237960"/>
                      </a:xfrm>
                    </p:grpSpPr>
                    <p:sp>
                      <p:nvSpPr>
                        <p:cNvPr id="2200" name="Rectangle 44"/>
                        <p:cNvSpPr/>
                        <p:nvPr/>
                      </p:nvSpPr>
                      <p:spPr>
                        <a:xfrm rot="966600">
                          <a:off x="3927600" y="4161600"/>
                          <a:ext cx="288720" cy="12420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01" name="Freeform 45"/>
                        <p:cNvSpPr/>
                        <p:nvPr/>
                      </p:nvSpPr>
                      <p:spPr>
                        <a:xfrm rot="966600">
                          <a:off x="4208040" y="422064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202" name=""/>
                      <p:cNvGrpSpPr/>
                      <p:nvPr/>
                    </p:nvGrpSpPr>
                    <p:grpSpPr>
                      <a:xfrm>
                        <a:off x="3923640" y="4217400"/>
                        <a:ext cx="423000" cy="122400"/>
                        <a:chOff x="3923640" y="4217400"/>
                        <a:chExt cx="423000" cy="122400"/>
                      </a:xfrm>
                    </p:grpSpPr>
                    <p:sp>
                      <p:nvSpPr>
                        <p:cNvPr id="2203" name="Line 46"/>
                        <p:cNvSpPr/>
                        <p:nvPr/>
                      </p:nvSpPr>
                      <p:spPr>
                        <a:xfrm>
                          <a:off x="3923640" y="4217400"/>
                          <a:ext cx="423000" cy="1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04" name=""/>
                        <p:cNvSpPr txBox="1"/>
                        <p:nvPr/>
                      </p:nvSpPr>
                      <p:spPr>
                        <a:xfrm rot="966600">
                          <a:off x="3914640" y="427824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205" name="Oval 47"/>
                    <p:cNvSpPr/>
                    <p:nvPr/>
                  </p:nvSpPr>
                  <p:spPr>
                    <a:xfrm rot="966600">
                      <a:off x="4019400" y="4121640"/>
                      <a:ext cx="87840" cy="97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6" name="Freeform 48"/>
                    <p:cNvSpPr/>
                    <p:nvPr/>
                  </p:nvSpPr>
                  <p:spPr>
                    <a:xfrm rot="12318600">
                      <a:off x="4156560" y="411264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10248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7" name="Group 49"/>
                <p:cNvGrpSpPr/>
                <p:nvPr/>
              </p:nvGrpSpPr>
              <p:grpSpPr>
                <a:xfrm>
                  <a:off x="3991680" y="3209040"/>
                  <a:ext cx="451080" cy="612360"/>
                  <a:chOff x="3991680" y="3209040"/>
                  <a:chExt cx="451080" cy="612360"/>
                </a:xfrm>
              </p:grpSpPr>
              <p:sp>
                <p:nvSpPr>
                  <p:cNvPr id="2208" name="AutoShape 50"/>
                  <p:cNvSpPr/>
                  <p:nvPr/>
                </p:nvSpPr>
                <p:spPr>
                  <a:xfrm rot="966600">
                    <a:off x="4107600" y="3403440"/>
                    <a:ext cx="24444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09" name="Group 51"/>
                  <p:cNvGrpSpPr/>
                  <p:nvPr/>
                </p:nvGrpSpPr>
                <p:grpSpPr>
                  <a:xfrm>
                    <a:off x="3991680" y="3209040"/>
                    <a:ext cx="451080" cy="267840"/>
                    <a:chOff x="3991680" y="3209040"/>
                    <a:chExt cx="451080" cy="267840"/>
                  </a:xfrm>
                </p:grpSpPr>
                <p:grpSp>
                  <p:nvGrpSpPr>
                    <p:cNvPr id="2210" name="Group 52"/>
                    <p:cNvGrpSpPr/>
                    <p:nvPr/>
                  </p:nvGrpSpPr>
                  <p:grpSpPr>
                    <a:xfrm>
                      <a:off x="3991680" y="3209040"/>
                      <a:ext cx="451080" cy="237960"/>
                      <a:chOff x="3991680" y="3209040"/>
                      <a:chExt cx="451080" cy="237960"/>
                    </a:xfrm>
                  </p:grpSpPr>
                  <p:grpSp>
                    <p:nvGrpSpPr>
                      <p:cNvPr id="2211" name="Group 53"/>
                      <p:cNvGrpSpPr/>
                      <p:nvPr/>
                    </p:nvGrpSpPr>
                    <p:grpSpPr>
                      <a:xfrm>
                        <a:off x="3991680" y="3209040"/>
                        <a:ext cx="451080" cy="237960"/>
                        <a:chOff x="3991680" y="3209040"/>
                        <a:chExt cx="451080" cy="237960"/>
                      </a:xfrm>
                    </p:grpSpPr>
                    <p:sp>
                      <p:nvSpPr>
                        <p:cNvPr id="2212" name="Rectangle 54"/>
                        <p:cNvSpPr/>
                        <p:nvPr/>
                      </p:nvSpPr>
                      <p:spPr>
                        <a:xfrm rot="11766600">
                          <a:off x="4142160" y="328500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13" name="Freeform 55"/>
                        <p:cNvSpPr/>
                        <p:nvPr/>
                      </p:nvSpPr>
                      <p:spPr>
                        <a:xfrm rot="11766600">
                          <a:off x="4005720" y="322668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214" name=""/>
                      <p:cNvGrpSpPr/>
                      <p:nvPr/>
                    </p:nvGrpSpPr>
                    <p:grpSpPr>
                      <a:xfrm>
                        <a:off x="4011840" y="3231720"/>
                        <a:ext cx="423000" cy="122400"/>
                        <a:chOff x="4011840" y="3231720"/>
                        <a:chExt cx="423000" cy="122400"/>
                      </a:xfrm>
                    </p:grpSpPr>
                    <p:sp>
                      <p:nvSpPr>
                        <p:cNvPr id="2215" name="Line 56"/>
                        <p:cNvSpPr/>
                        <p:nvPr/>
                      </p:nvSpPr>
                      <p:spPr>
                        <a:xfrm flipH="1" flipV="1">
                          <a:off x="4011840" y="3231720"/>
                          <a:ext cx="423000" cy="12240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16" name=""/>
                        <p:cNvSpPr txBox="1"/>
                        <p:nvPr/>
                      </p:nvSpPr>
                      <p:spPr>
                        <a:xfrm rot="11766600">
                          <a:off x="4003200" y="329256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217" name="Oval 57"/>
                    <p:cNvSpPr/>
                    <p:nvPr/>
                  </p:nvSpPr>
                  <p:spPr>
                    <a:xfrm rot="11766600">
                      <a:off x="4251240" y="335160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8" name="Freeform 58"/>
                    <p:cNvSpPr/>
                    <p:nvPr/>
                  </p:nvSpPr>
                  <p:spPr>
                    <a:xfrm rot="1518600">
                      <a:off x="4083480" y="331200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219" name="Group 59"/>
              <p:cNvGrpSpPr/>
              <p:nvPr/>
            </p:nvGrpSpPr>
            <p:grpSpPr>
              <a:xfrm>
                <a:off x="4035240" y="3234960"/>
                <a:ext cx="425880" cy="675720"/>
                <a:chOff x="4035240" y="3234960"/>
                <a:chExt cx="425880" cy="675720"/>
              </a:xfrm>
            </p:grpSpPr>
            <p:grpSp>
              <p:nvGrpSpPr>
                <p:cNvPr id="2220" name="Group 60"/>
                <p:cNvGrpSpPr/>
                <p:nvPr/>
              </p:nvGrpSpPr>
              <p:grpSpPr>
                <a:xfrm>
                  <a:off x="4051800" y="3234960"/>
                  <a:ext cx="409320" cy="565920"/>
                  <a:chOff x="4051800" y="3234960"/>
                  <a:chExt cx="409320" cy="565920"/>
                </a:xfrm>
              </p:grpSpPr>
              <p:sp>
                <p:nvSpPr>
                  <p:cNvPr id="2221" name="AutoShape 61"/>
                  <p:cNvSpPr/>
                  <p:nvPr/>
                </p:nvSpPr>
                <p:spPr>
                  <a:xfrm rot="966600">
                    <a:off x="4100400" y="3377520"/>
                    <a:ext cx="28440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2" name="Oval 62"/>
                  <p:cNvSpPr/>
                  <p:nvPr/>
                </p:nvSpPr>
                <p:spPr>
                  <a:xfrm rot="966600">
                    <a:off x="4153680" y="3268800"/>
                    <a:ext cx="279360" cy="24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3" name="Oval 63"/>
                <p:cNvSpPr/>
                <p:nvPr/>
              </p:nvSpPr>
              <p:spPr>
                <a:xfrm rot="966600">
                  <a:off x="4062960" y="3645000"/>
                  <a:ext cx="244440" cy="23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ddddd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4" name="AutoShape 64"/>
              <p:cNvSpPr/>
              <p:nvPr/>
            </p:nvSpPr>
            <p:spPr>
              <a:xfrm rot="966600">
                <a:off x="4132440" y="3721680"/>
                <a:ext cx="104760" cy="90720"/>
              </a:xfrm>
              <a:prstGeom prst="hexagon">
                <a:avLst>
                  <a:gd name="adj" fmla="val 28869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5" name="Group 65"/>
            <p:cNvGrpSpPr/>
            <p:nvPr/>
          </p:nvGrpSpPr>
          <p:grpSpPr>
            <a:xfrm>
              <a:off x="4178520" y="2238120"/>
              <a:ext cx="545040" cy="1153080"/>
              <a:chOff x="4178520" y="2238120"/>
              <a:chExt cx="545040" cy="1153080"/>
            </a:xfrm>
          </p:grpSpPr>
          <p:grpSp>
            <p:nvGrpSpPr>
              <p:cNvPr id="2226" name="Group 66"/>
              <p:cNvGrpSpPr/>
              <p:nvPr/>
            </p:nvGrpSpPr>
            <p:grpSpPr>
              <a:xfrm>
                <a:off x="4196880" y="2238120"/>
                <a:ext cx="526680" cy="1153080"/>
                <a:chOff x="4196880" y="2238120"/>
                <a:chExt cx="526680" cy="1153080"/>
              </a:xfrm>
            </p:grpSpPr>
            <p:grpSp>
              <p:nvGrpSpPr>
                <p:cNvPr id="2227" name="Group 67"/>
                <p:cNvGrpSpPr/>
                <p:nvPr/>
              </p:nvGrpSpPr>
              <p:grpSpPr>
                <a:xfrm>
                  <a:off x="4272480" y="2238120"/>
                  <a:ext cx="451080" cy="612000"/>
                  <a:chOff x="4272480" y="2238120"/>
                  <a:chExt cx="451080" cy="612000"/>
                </a:xfrm>
              </p:grpSpPr>
              <p:sp>
                <p:nvSpPr>
                  <p:cNvPr id="2228" name="AutoShape 68"/>
                  <p:cNvSpPr/>
                  <p:nvPr/>
                </p:nvSpPr>
                <p:spPr>
                  <a:xfrm rot="966600">
                    <a:off x="4388400" y="2431800"/>
                    <a:ext cx="2444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29" name="Group 69"/>
                  <p:cNvGrpSpPr/>
                  <p:nvPr/>
                </p:nvGrpSpPr>
                <p:grpSpPr>
                  <a:xfrm>
                    <a:off x="4272480" y="2238120"/>
                    <a:ext cx="451080" cy="267480"/>
                    <a:chOff x="4272480" y="2238120"/>
                    <a:chExt cx="451080" cy="267480"/>
                  </a:xfrm>
                </p:grpSpPr>
                <p:grpSp>
                  <p:nvGrpSpPr>
                    <p:cNvPr id="2230" name="Group 70"/>
                    <p:cNvGrpSpPr/>
                    <p:nvPr/>
                  </p:nvGrpSpPr>
                  <p:grpSpPr>
                    <a:xfrm>
                      <a:off x="4272480" y="2238120"/>
                      <a:ext cx="451080" cy="237960"/>
                      <a:chOff x="4272480" y="2238120"/>
                      <a:chExt cx="451080" cy="237960"/>
                    </a:xfrm>
                  </p:grpSpPr>
                  <p:grpSp>
                    <p:nvGrpSpPr>
                      <p:cNvPr id="2231" name="Group 71"/>
                      <p:cNvGrpSpPr/>
                      <p:nvPr/>
                    </p:nvGrpSpPr>
                    <p:grpSpPr>
                      <a:xfrm>
                        <a:off x="4272480" y="2238120"/>
                        <a:ext cx="451080" cy="237960"/>
                        <a:chOff x="4272480" y="2238120"/>
                        <a:chExt cx="451080" cy="237960"/>
                      </a:xfrm>
                    </p:grpSpPr>
                    <p:sp>
                      <p:nvSpPr>
                        <p:cNvPr id="2232" name="Rectangle 72"/>
                        <p:cNvSpPr/>
                        <p:nvPr/>
                      </p:nvSpPr>
                      <p:spPr>
                        <a:xfrm rot="11766600">
                          <a:off x="4422960" y="231408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33" name="Freeform 73"/>
                        <p:cNvSpPr/>
                        <p:nvPr/>
                      </p:nvSpPr>
                      <p:spPr>
                        <a:xfrm rot="11766600">
                          <a:off x="4286520" y="225576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234" name=""/>
                      <p:cNvGrpSpPr/>
                      <p:nvPr/>
                    </p:nvGrpSpPr>
                    <p:grpSpPr>
                      <a:xfrm>
                        <a:off x="4292640" y="2260440"/>
                        <a:ext cx="423000" cy="122400"/>
                        <a:chOff x="4292640" y="2260440"/>
                        <a:chExt cx="423000" cy="122400"/>
                      </a:xfrm>
                    </p:grpSpPr>
                    <p:sp>
                      <p:nvSpPr>
                        <p:cNvPr id="2235" name="Line 74"/>
                        <p:cNvSpPr/>
                        <p:nvPr/>
                      </p:nvSpPr>
                      <p:spPr>
                        <a:xfrm flipH="1" flipV="1">
                          <a:off x="4292640" y="2260800"/>
                          <a:ext cx="423000" cy="12204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36" name=""/>
                        <p:cNvSpPr txBox="1"/>
                        <p:nvPr/>
                      </p:nvSpPr>
                      <p:spPr>
                        <a:xfrm rot="11766600">
                          <a:off x="4284000" y="232128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237" name="Oval 75"/>
                    <p:cNvSpPr/>
                    <p:nvPr/>
                  </p:nvSpPr>
                  <p:spPr>
                    <a:xfrm rot="11766600">
                      <a:off x="4532040" y="238032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8" name="Freeform 76"/>
                    <p:cNvSpPr/>
                    <p:nvPr/>
                  </p:nvSpPr>
                  <p:spPr>
                    <a:xfrm rot="1518600">
                      <a:off x="4364280" y="234072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39" name="Group 77"/>
                <p:cNvGrpSpPr/>
                <p:nvPr/>
              </p:nvGrpSpPr>
              <p:grpSpPr>
                <a:xfrm>
                  <a:off x="4196880" y="2778840"/>
                  <a:ext cx="450720" cy="612360"/>
                  <a:chOff x="4196880" y="2778840"/>
                  <a:chExt cx="450720" cy="612360"/>
                </a:xfrm>
              </p:grpSpPr>
              <p:sp>
                <p:nvSpPr>
                  <p:cNvPr id="2240" name="AutoShape 78"/>
                  <p:cNvSpPr/>
                  <p:nvPr/>
                </p:nvSpPr>
                <p:spPr>
                  <a:xfrm rot="11766600">
                    <a:off x="4287240" y="2805120"/>
                    <a:ext cx="24444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41" name="Group 79"/>
                  <p:cNvGrpSpPr/>
                  <p:nvPr/>
                </p:nvGrpSpPr>
                <p:grpSpPr>
                  <a:xfrm>
                    <a:off x="4196880" y="3123360"/>
                    <a:ext cx="450720" cy="267840"/>
                    <a:chOff x="4196880" y="3123360"/>
                    <a:chExt cx="450720" cy="267840"/>
                  </a:xfrm>
                </p:grpSpPr>
                <p:grpSp>
                  <p:nvGrpSpPr>
                    <p:cNvPr id="2242" name="Group 80"/>
                    <p:cNvGrpSpPr/>
                    <p:nvPr/>
                  </p:nvGrpSpPr>
                  <p:grpSpPr>
                    <a:xfrm>
                      <a:off x="4196880" y="3153240"/>
                      <a:ext cx="450720" cy="237960"/>
                      <a:chOff x="4196880" y="3153240"/>
                      <a:chExt cx="450720" cy="237960"/>
                    </a:xfrm>
                  </p:grpSpPr>
                  <p:grpSp>
                    <p:nvGrpSpPr>
                      <p:cNvPr id="2243" name="Group 81"/>
                      <p:cNvGrpSpPr/>
                      <p:nvPr/>
                    </p:nvGrpSpPr>
                    <p:grpSpPr>
                      <a:xfrm>
                        <a:off x="4196880" y="3153240"/>
                        <a:ext cx="450720" cy="237960"/>
                        <a:chOff x="4196880" y="3153240"/>
                        <a:chExt cx="450720" cy="237960"/>
                      </a:xfrm>
                    </p:grpSpPr>
                    <p:sp>
                      <p:nvSpPr>
                        <p:cNvPr id="2244" name="Rectangle 82"/>
                        <p:cNvSpPr/>
                        <p:nvPr/>
                      </p:nvSpPr>
                      <p:spPr>
                        <a:xfrm rot="966600">
                          <a:off x="4208400" y="319068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5" name="Freeform 83"/>
                        <p:cNvSpPr/>
                        <p:nvPr/>
                      </p:nvSpPr>
                      <p:spPr>
                        <a:xfrm rot="966600">
                          <a:off x="4488840" y="324972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246" name=""/>
                      <p:cNvGrpSpPr/>
                      <p:nvPr/>
                    </p:nvGrpSpPr>
                    <p:grpSpPr>
                      <a:xfrm>
                        <a:off x="4204440" y="3246120"/>
                        <a:ext cx="423000" cy="122400"/>
                        <a:chOff x="4204440" y="3246120"/>
                        <a:chExt cx="423000" cy="122400"/>
                      </a:xfrm>
                    </p:grpSpPr>
                    <p:sp>
                      <p:nvSpPr>
                        <p:cNvPr id="2247" name="Line 84"/>
                        <p:cNvSpPr/>
                        <p:nvPr/>
                      </p:nvSpPr>
                      <p:spPr>
                        <a:xfrm>
                          <a:off x="4204440" y="3246120"/>
                          <a:ext cx="423000" cy="12240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8" name=""/>
                        <p:cNvSpPr txBox="1"/>
                        <p:nvPr/>
                      </p:nvSpPr>
                      <p:spPr>
                        <a:xfrm rot="966600">
                          <a:off x="4195440" y="330696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249" name="Oval 85"/>
                    <p:cNvSpPr/>
                    <p:nvPr/>
                  </p:nvSpPr>
                  <p:spPr>
                    <a:xfrm rot="966600">
                      <a:off x="4300200" y="315036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0" name="Freeform 86"/>
                    <p:cNvSpPr/>
                    <p:nvPr/>
                  </p:nvSpPr>
                  <p:spPr>
                    <a:xfrm rot="12319200">
                      <a:off x="4437360" y="314136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251" name="Group 87"/>
              <p:cNvGrpSpPr/>
              <p:nvPr/>
            </p:nvGrpSpPr>
            <p:grpSpPr>
              <a:xfrm>
                <a:off x="4178520" y="2689560"/>
                <a:ext cx="425520" cy="675720"/>
                <a:chOff x="4178520" y="2689560"/>
                <a:chExt cx="425520" cy="675720"/>
              </a:xfrm>
            </p:grpSpPr>
            <p:grpSp>
              <p:nvGrpSpPr>
                <p:cNvPr id="2252" name="Group 88"/>
                <p:cNvGrpSpPr/>
                <p:nvPr/>
              </p:nvGrpSpPr>
              <p:grpSpPr>
                <a:xfrm>
                  <a:off x="4178520" y="2799360"/>
                  <a:ext cx="409320" cy="565920"/>
                  <a:chOff x="4178520" y="2799360"/>
                  <a:chExt cx="409320" cy="565920"/>
                </a:xfrm>
              </p:grpSpPr>
              <p:sp>
                <p:nvSpPr>
                  <p:cNvPr id="2253" name="AutoShape 89"/>
                  <p:cNvSpPr/>
                  <p:nvPr/>
                </p:nvSpPr>
                <p:spPr>
                  <a:xfrm rot="11766600">
                    <a:off x="4254480" y="2831040"/>
                    <a:ext cx="28440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4" name="Oval 90"/>
                  <p:cNvSpPr/>
                  <p:nvPr/>
                </p:nvSpPr>
                <p:spPr>
                  <a:xfrm rot="11766600">
                    <a:off x="4206240" y="3090960"/>
                    <a:ext cx="279360" cy="2401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55" name="Oval 91"/>
                <p:cNvSpPr/>
                <p:nvPr/>
              </p:nvSpPr>
              <p:spPr>
                <a:xfrm rot="11766600">
                  <a:off x="4331520" y="2718720"/>
                  <a:ext cx="244440" cy="236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6" name="AutoShape 92"/>
              <p:cNvSpPr/>
              <p:nvPr/>
            </p:nvSpPr>
            <p:spPr>
              <a:xfrm rot="11766600">
                <a:off x="4401720" y="2787480"/>
                <a:ext cx="104760" cy="90720"/>
              </a:xfrm>
              <a:prstGeom prst="hexagon">
                <a:avLst>
                  <a:gd name="adj" fmla="val 28869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57" name="Group 93"/>
          <p:cNvGrpSpPr/>
          <p:nvPr/>
        </p:nvGrpSpPr>
        <p:grpSpPr>
          <a:xfrm>
            <a:off x="3773880" y="1179360"/>
            <a:ext cx="1080000" cy="2245680"/>
            <a:chOff x="3773880" y="1179360"/>
            <a:chExt cx="1080000" cy="2245680"/>
          </a:xfrm>
        </p:grpSpPr>
        <p:grpSp>
          <p:nvGrpSpPr>
            <p:cNvPr id="2258" name=""/>
            <p:cNvGrpSpPr/>
            <p:nvPr/>
          </p:nvGrpSpPr>
          <p:grpSpPr>
            <a:xfrm>
              <a:off x="4230360" y="1420920"/>
              <a:ext cx="284400" cy="155520"/>
              <a:chOff x="4230360" y="1420920"/>
              <a:chExt cx="284400" cy="155520"/>
            </a:xfrm>
          </p:grpSpPr>
          <p:sp>
            <p:nvSpPr>
              <p:cNvPr id="2259" name="Line 94"/>
              <p:cNvSpPr/>
              <p:nvPr/>
            </p:nvSpPr>
            <p:spPr>
              <a:xfrm>
                <a:off x="4230360" y="1420920"/>
                <a:ext cx="284400" cy="155520"/>
              </a:xfrm>
              <a:prstGeom prst="line">
                <a:avLst/>
              </a:prstGeom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 txBox="1"/>
              <p:nvPr/>
            </p:nvSpPr>
            <p:spPr>
              <a:xfrm>
                <a:off x="4230360" y="1420920"/>
                <a:ext cx="284400" cy="15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1" name="AutoShape 95"/>
            <p:cNvSpPr/>
            <p:nvPr/>
          </p:nvSpPr>
          <p:spPr>
            <a:xfrm rot="471600">
              <a:off x="3809520" y="2261880"/>
              <a:ext cx="152280" cy="53316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21960 h 533160"/>
                <a:gd name="textAreaBottom" fmla="*/ 51120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2" name="Group 96"/>
            <p:cNvGrpSpPr/>
            <p:nvPr/>
          </p:nvGrpSpPr>
          <p:grpSpPr>
            <a:xfrm>
              <a:off x="3938040" y="1179360"/>
              <a:ext cx="915840" cy="2245680"/>
              <a:chOff x="3938040" y="1179360"/>
              <a:chExt cx="915840" cy="2245680"/>
            </a:xfrm>
          </p:grpSpPr>
          <p:grpSp>
            <p:nvGrpSpPr>
              <p:cNvPr id="2263" name="Group 97"/>
              <p:cNvGrpSpPr/>
              <p:nvPr/>
            </p:nvGrpSpPr>
            <p:grpSpPr>
              <a:xfrm>
                <a:off x="3938040" y="1296000"/>
                <a:ext cx="915840" cy="2129040"/>
                <a:chOff x="3938040" y="1296000"/>
                <a:chExt cx="915840" cy="2129040"/>
              </a:xfrm>
            </p:grpSpPr>
            <p:grpSp>
              <p:nvGrpSpPr>
                <p:cNvPr id="2264" name="Group 98"/>
                <p:cNvGrpSpPr/>
                <p:nvPr/>
              </p:nvGrpSpPr>
              <p:grpSpPr>
                <a:xfrm>
                  <a:off x="3938040" y="1857960"/>
                  <a:ext cx="706320" cy="1567080"/>
                  <a:chOff x="3938040" y="1857960"/>
                  <a:chExt cx="706320" cy="1567080"/>
                </a:xfrm>
              </p:grpSpPr>
              <p:sp>
                <p:nvSpPr>
                  <p:cNvPr id="2265" name="Oval 99"/>
                  <p:cNvSpPr/>
                  <p:nvPr/>
                </p:nvSpPr>
                <p:spPr>
                  <a:xfrm rot="385800">
                    <a:off x="3966480" y="2847960"/>
                    <a:ext cx="569160" cy="546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2121600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6" name="Oval 100"/>
                  <p:cNvSpPr/>
                  <p:nvPr/>
                </p:nvSpPr>
                <p:spPr>
                  <a:xfrm rot="385800">
                    <a:off x="4607280" y="2354400"/>
                    <a:ext cx="32760" cy="49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7" name="Oval 101"/>
                  <p:cNvSpPr/>
                  <p:nvPr/>
                </p:nvSpPr>
                <p:spPr>
                  <a:xfrm rot="385800">
                    <a:off x="4578840" y="2651760"/>
                    <a:ext cx="32760" cy="48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8" name="Oval 102"/>
                  <p:cNvSpPr/>
                  <p:nvPr/>
                </p:nvSpPr>
                <p:spPr>
                  <a:xfrm rot="385800">
                    <a:off x="4545720" y="2947680"/>
                    <a:ext cx="32760" cy="49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9" name="AutoShape 103"/>
                  <p:cNvSpPr/>
                  <p:nvPr/>
                </p:nvSpPr>
                <p:spPr>
                  <a:xfrm rot="385800">
                    <a:off x="3997440" y="2192400"/>
                    <a:ext cx="591120" cy="1022040"/>
                  </a:xfrm>
                  <a:prstGeom prst="can">
                    <a:avLst>
                      <a:gd name="adj" fmla="val 2652"/>
                    </a:avLst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2121600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0" name="Rectangle 104"/>
                  <p:cNvSpPr/>
                  <p:nvPr/>
                </p:nvSpPr>
                <p:spPr>
                  <a:xfrm rot="385800">
                    <a:off x="4285440" y="2112120"/>
                    <a:ext cx="148680" cy="9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21216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71" name="Group 105"/>
                  <p:cNvGrpSpPr/>
                  <p:nvPr/>
                </p:nvGrpSpPr>
                <p:grpSpPr>
                  <a:xfrm>
                    <a:off x="4187880" y="1857960"/>
                    <a:ext cx="285120" cy="690840"/>
                    <a:chOff x="4187880" y="1857960"/>
                    <a:chExt cx="285120" cy="690840"/>
                  </a:xfrm>
                </p:grpSpPr>
                <p:sp>
                  <p:nvSpPr>
                    <p:cNvPr id="2272" name="AutoShape 106"/>
                    <p:cNvSpPr/>
                    <p:nvPr/>
                  </p:nvSpPr>
                  <p:spPr>
                    <a:xfrm rot="11007600">
                      <a:off x="4252680" y="1863360"/>
                      <a:ext cx="199440" cy="54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3" name="AutoShape 107"/>
                    <p:cNvSpPr/>
                    <p:nvPr/>
                  </p:nvSpPr>
                  <p:spPr>
                    <a:xfrm rot="16585800">
                      <a:off x="4223520" y="2296440"/>
                      <a:ext cx="213120" cy="26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74" name="Group 108"/>
                <p:cNvGrpSpPr/>
                <p:nvPr/>
              </p:nvGrpSpPr>
              <p:grpSpPr>
                <a:xfrm>
                  <a:off x="3958920" y="1296000"/>
                  <a:ext cx="894960" cy="874440"/>
                  <a:chOff x="3958920" y="1296000"/>
                  <a:chExt cx="894960" cy="874440"/>
                </a:xfrm>
              </p:grpSpPr>
              <p:sp>
                <p:nvSpPr>
                  <p:cNvPr id="2275" name="AutoShape 109"/>
                  <p:cNvSpPr/>
                  <p:nvPr/>
                </p:nvSpPr>
                <p:spPr>
                  <a:xfrm rot="21102000">
                    <a:off x="4412880" y="1579680"/>
                    <a:ext cx="405720" cy="516960"/>
                  </a:xfrm>
                  <a:custGeom>
                    <a:avLst/>
                    <a:gdLst>
                      <a:gd name="textAreaLeft" fmla="*/ 0 w 405720"/>
                      <a:gd name="textAreaRight" fmla="*/ 146520 w 405720"/>
                      <a:gd name="textAreaTop" fmla="*/ 13320 h 516960"/>
                      <a:gd name="textAreaBottom" fmla="*/ 503640 h 516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5400" y="0"/>
                          <a:pt x="10800" y="900"/>
                          <a:pt x="10800" y="1800"/>
                        </a:cubicBezTo>
                        <a:lnTo>
                          <a:pt x="10800" y="9000"/>
                        </a:lnTo>
                        <a:cubicBezTo>
                          <a:pt x="10800" y="9900"/>
                          <a:pt x="16200" y="10800"/>
                          <a:pt x="21600" y="10800"/>
                        </a:cubicBezTo>
                        <a:cubicBezTo>
                          <a:pt x="16200" y="10800"/>
                          <a:pt x="10800" y="11700"/>
                          <a:pt x="10800" y="12600"/>
                        </a:cubicBezTo>
                        <a:lnTo>
                          <a:pt x="10800" y="19800"/>
                        </a:lnTo>
                        <a:cubicBezTo>
                          <a:pt x="10800" y="20700"/>
                          <a:pt x="5400" y="21600"/>
                          <a:pt x="0" y="21600"/>
                        </a:cubicBezTo>
                      </a:path>
                    </a:pathLst>
                  </a:custGeom>
                  <a:noFill/>
                  <a:ln w="12600">
                    <a:solidFill>
                      <a:srgbClr val="dddd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6" name="AutoShape 110"/>
                  <p:cNvSpPr/>
                  <p:nvPr/>
                </p:nvSpPr>
                <p:spPr>
                  <a:xfrm rot="21225600">
                    <a:off x="4128480" y="1620360"/>
                    <a:ext cx="446400" cy="527400"/>
                  </a:xfrm>
                  <a:custGeom>
                    <a:avLst/>
                    <a:gdLst>
                      <a:gd name="textAreaLeft" fmla="*/ 21600 w 446400"/>
                      <a:gd name="textAreaRight" fmla="*/ 424800 w 446400"/>
                      <a:gd name="textAreaTop" fmla="*/ 21600 h 527400"/>
                      <a:gd name="textAreaBottom" fmla="*/ 505800 h 527400"/>
                    </a:gdLst>
                    <a:ahLst/>
                    <a:rect l="textAreaLeft" t="textAreaTop" r="textAreaRight" b="textAreaBottom"/>
                    <a:pathLst>
                      <a:path w="21600" h="25516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1916"/>
                        </a:lnTo>
                        <a:arcTo wR="3600" hR="3600" stAng="10800000" swAng="-5400000"/>
                        <a:lnTo>
                          <a:pt x="18000" y="25516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372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7" name="AutoShape 111"/>
                  <p:cNvSpPr/>
                  <p:nvPr/>
                </p:nvSpPr>
                <p:spPr>
                  <a:xfrm rot="20050800">
                    <a:off x="4007160" y="1376640"/>
                    <a:ext cx="446400" cy="324360"/>
                  </a:xfrm>
                  <a:prstGeom prst="triangle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2044800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8" name="AutoShape 112"/>
                  <p:cNvSpPr/>
                  <p:nvPr/>
                </p:nvSpPr>
                <p:spPr>
                  <a:xfrm rot="21417600">
                    <a:off x="4313160" y="1801080"/>
                    <a:ext cx="9972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9725" y="3202"/>
                          <a:pt x="17850" y="5080"/>
                          <a:pt x="17850" y="10800"/>
                        </a:cubicBezTo>
                        <a:cubicBezTo>
                          <a:pt x="17850" y="16520"/>
                          <a:pt x="19725" y="1839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ffffff"/>
                      </a:gs>
                    </a:gsLst>
                    <a:lin ang="18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79" name="AutoShape 113"/>
              <p:cNvSpPr/>
              <p:nvPr/>
            </p:nvSpPr>
            <p:spPr>
              <a:xfrm rot="19131600">
                <a:off x="4040280" y="1166400"/>
                <a:ext cx="70920" cy="294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21366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0" name="AutoShape 114"/>
            <p:cNvSpPr/>
            <p:nvPr/>
          </p:nvSpPr>
          <p:spPr>
            <a:xfrm rot="447600">
              <a:off x="3857400" y="2262240"/>
              <a:ext cx="162000" cy="527040"/>
            </a:xfrm>
            <a:custGeom>
              <a:avLst/>
              <a:gdLst>
                <a:gd name="textAreaLeft" fmla="*/ 7920 w 162000"/>
                <a:gd name="textAreaRight" fmla="*/ 154080 w 162000"/>
                <a:gd name="textAreaTop" fmla="*/ 7920 h 527040"/>
                <a:gd name="textAreaBottom" fmla="*/ 519120 h 527040"/>
              </a:gdLst>
              <a:ahLst/>
              <a:rect l="textAreaLeft" t="textAreaTop" r="textAreaRight" b="textAreaBottom"/>
              <a:pathLst>
                <a:path w="21600" h="70164">
                  <a:moveTo>
                    <a:pt x="3600" y="0"/>
                  </a:moveTo>
                  <a:arcTo wR="3600" hR="3600" stAng="16200000" swAng="-5400000"/>
                  <a:lnTo>
                    <a:pt x="0" y="66564"/>
                  </a:lnTo>
                  <a:arcTo wR="3600" hR="3600" stAng="10800000" swAng="-5400000"/>
                  <a:lnTo>
                    <a:pt x="18000" y="701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115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1" name="Group 115"/>
          <p:cNvGrpSpPr/>
          <p:nvPr/>
        </p:nvGrpSpPr>
        <p:grpSpPr>
          <a:xfrm>
            <a:off x="3643920" y="2237040"/>
            <a:ext cx="1176480" cy="2110320"/>
            <a:chOff x="3643920" y="2237040"/>
            <a:chExt cx="1176480" cy="2110320"/>
          </a:xfrm>
        </p:grpSpPr>
        <p:grpSp>
          <p:nvGrpSpPr>
            <p:cNvPr id="2282" name="Group 116"/>
            <p:cNvGrpSpPr/>
            <p:nvPr/>
          </p:nvGrpSpPr>
          <p:grpSpPr>
            <a:xfrm>
              <a:off x="3922200" y="3226320"/>
              <a:ext cx="898200" cy="1121040"/>
              <a:chOff x="3922200" y="3226320"/>
              <a:chExt cx="898200" cy="1121040"/>
            </a:xfrm>
          </p:grpSpPr>
          <p:grpSp>
            <p:nvGrpSpPr>
              <p:cNvPr id="2283" name="Group 117"/>
              <p:cNvGrpSpPr/>
              <p:nvPr/>
            </p:nvGrpSpPr>
            <p:grpSpPr>
              <a:xfrm>
                <a:off x="3922200" y="3249720"/>
                <a:ext cx="898200" cy="1097640"/>
                <a:chOff x="3922200" y="3249720"/>
                <a:chExt cx="898200" cy="1097640"/>
              </a:xfrm>
            </p:grpSpPr>
            <p:grpSp>
              <p:nvGrpSpPr>
                <p:cNvPr id="2284" name="Group 118"/>
                <p:cNvGrpSpPr/>
                <p:nvPr/>
              </p:nvGrpSpPr>
              <p:grpSpPr>
                <a:xfrm>
                  <a:off x="4251240" y="3760920"/>
                  <a:ext cx="569160" cy="586440"/>
                  <a:chOff x="4251240" y="3760920"/>
                  <a:chExt cx="569160" cy="586440"/>
                </a:xfrm>
              </p:grpSpPr>
              <p:sp>
                <p:nvSpPr>
                  <p:cNvPr id="2285" name="AutoShape 119"/>
                  <p:cNvSpPr/>
                  <p:nvPr/>
                </p:nvSpPr>
                <p:spPr>
                  <a:xfrm rot="9878400">
                    <a:off x="4300200" y="3787200"/>
                    <a:ext cx="254160" cy="40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86" name="Group 120"/>
                  <p:cNvGrpSpPr/>
                  <p:nvPr/>
                </p:nvGrpSpPr>
                <p:grpSpPr>
                  <a:xfrm>
                    <a:off x="4352040" y="4050720"/>
                    <a:ext cx="468360" cy="296640"/>
                    <a:chOff x="4352040" y="4050720"/>
                    <a:chExt cx="468360" cy="296640"/>
                  </a:xfrm>
                </p:grpSpPr>
                <p:grpSp>
                  <p:nvGrpSpPr>
                    <p:cNvPr id="2287" name="Group 121"/>
                    <p:cNvGrpSpPr/>
                    <p:nvPr/>
                  </p:nvGrpSpPr>
                  <p:grpSpPr>
                    <a:xfrm>
                      <a:off x="4352040" y="4102560"/>
                      <a:ext cx="468360" cy="244800"/>
                      <a:chOff x="4352040" y="4102560"/>
                      <a:chExt cx="468360" cy="244800"/>
                    </a:xfrm>
                  </p:grpSpPr>
                  <p:grpSp>
                    <p:nvGrpSpPr>
                      <p:cNvPr id="2288" name="Group 122"/>
                      <p:cNvGrpSpPr/>
                      <p:nvPr/>
                    </p:nvGrpSpPr>
                    <p:grpSpPr>
                      <a:xfrm>
                        <a:off x="4352040" y="4102560"/>
                        <a:ext cx="468000" cy="244800"/>
                        <a:chOff x="4352040" y="4102560"/>
                        <a:chExt cx="468000" cy="244800"/>
                      </a:xfrm>
                    </p:grpSpPr>
                    <p:sp>
                      <p:nvSpPr>
                        <p:cNvPr id="2289" name="Rectangle 123"/>
                        <p:cNvSpPr/>
                        <p:nvPr/>
                      </p:nvSpPr>
                      <p:spPr>
                        <a:xfrm rot="20678400">
                          <a:off x="4363560" y="4180680"/>
                          <a:ext cx="300240" cy="1292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0" name="Freeform 124"/>
                        <p:cNvSpPr/>
                        <p:nvPr/>
                      </p:nvSpPr>
                      <p:spPr>
                        <a:xfrm rot="20678400">
                          <a:off x="4655160" y="411984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291" name=""/>
                      <p:cNvGrpSpPr/>
                      <p:nvPr/>
                    </p:nvGrpSpPr>
                    <p:grpSpPr>
                      <a:xfrm>
                        <a:off x="4378680" y="4198320"/>
                        <a:ext cx="441720" cy="121680"/>
                        <a:chOff x="4378680" y="4198320"/>
                        <a:chExt cx="441720" cy="121680"/>
                      </a:xfrm>
                    </p:grpSpPr>
                    <p:sp>
                      <p:nvSpPr>
                        <p:cNvPr id="2292" name="Line 125"/>
                        <p:cNvSpPr/>
                        <p:nvPr/>
                      </p:nvSpPr>
                      <p:spPr>
                        <a:xfrm flipV="1">
                          <a:off x="4378680" y="4198320"/>
                          <a:ext cx="441360" cy="12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3" name=""/>
                        <p:cNvSpPr txBox="1"/>
                        <p:nvPr/>
                      </p:nvSpPr>
                      <p:spPr>
                        <a:xfrm rot="20678400">
                          <a:off x="4370400" y="425880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294" name="Oval 126"/>
                    <p:cNvSpPr/>
                    <p:nvPr/>
                  </p:nvSpPr>
                  <p:spPr>
                    <a:xfrm rot="20678400">
                      <a:off x="4430880" y="4151880"/>
                      <a:ext cx="91080" cy="101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5" name="Freeform 127"/>
                    <p:cNvSpPr/>
                    <p:nvPr/>
                  </p:nvSpPr>
                  <p:spPr>
                    <a:xfrm rot="10430400">
                      <a:off x="4558680" y="405684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aeaea"/>
                        </a:gs>
                      </a:gsLst>
                      <a:lin ang="10248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96" name="Group 128"/>
                <p:cNvGrpSpPr/>
                <p:nvPr/>
              </p:nvGrpSpPr>
              <p:grpSpPr>
                <a:xfrm>
                  <a:off x="3922200" y="3249720"/>
                  <a:ext cx="569160" cy="585720"/>
                  <a:chOff x="3922200" y="3249720"/>
                  <a:chExt cx="569160" cy="585720"/>
                </a:xfrm>
              </p:grpSpPr>
              <p:sp>
                <p:nvSpPr>
                  <p:cNvPr id="2297" name="AutoShape 129"/>
                  <p:cNvSpPr/>
                  <p:nvPr/>
                </p:nvSpPr>
                <p:spPr>
                  <a:xfrm rot="20678400">
                    <a:off x="4187880" y="340200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98" name="Group 130"/>
                  <p:cNvGrpSpPr/>
                  <p:nvPr/>
                </p:nvGrpSpPr>
                <p:grpSpPr>
                  <a:xfrm>
                    <a:off x="3922200" y="3249720"/>
                    <a:ext cx="468360" cy="296640"/>
                    <a:chOff x="3922200" y="3249720"/>
                    <a:chExt cx="468360" cy="296640"/>
                  </a:xfrm>
                </p:grpSpPr>
                <p:grpSp>
                  <p:nvGrpSpPr>
                    <p:cNvPr id="2299" name="Group 131"/>
                    <p:cNvGrpSpPr/>
                    <p:nvPr/>
                  </p:nvGrpSpPr>
                  <p:grpSpPr>
                    <a:xfrm>
                      <a:off x="3922200" y="3249720"/>
                      <a:ext cx="468360" cy="244440"/>
                      <a:chOff x="3922200" y="3249720"/>
                      <a:chExt cx="468360" cy="244440"/>
                    </a:xfrm>
                  </p:grpSpPr>
                  <p:grpSp>
                    <p:nvGrpSpPr>
                      <p:cNvPr id="2300" name="Group 132"/>
                      <p:cNvGrpSpPr/>
                      <p:nvPr/>
                    </p:nvGrpSpPr>
                    <p:grpSpPr>
                      <a:xfrm>
                        <a:off x="3922560" y="3249720"/>
                        <a:ext cx="468000" cy="244440"/>
                        <a:chOff x="3922560" y="3249720"/>
                        <a:chExt cx="468000" cy="244440"/>
                      </a:xfrm>
                    </p:grpSpPr>
                    <p:sp>
                      <p:nvSpPr>
                        <p:cNvPr id="2301" name="Rectangle 133"/>
                        <p:cNvSpPr/>
                        <p:nvPr/>
                      </p:nvSpPr>
                      <p:spPr>
                        <a:xfrm rot="9878400">
                          <a:off x="4078440" y="328680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2" name="Freeform 134"/>
                        <p:cNvSpPr/>
                        <p:nvPr/>
                      </p:nvSpPr>
                      <p:spPr>
                        <a:xfrm rot="9878400">
                          <a:off x="3936960" y="334800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303" name=""/>
                      <p:cNvGrpSpPr/>
                      <p:nvPr/>
                    </p:nvGrpSpPr>
                    <p:grpSpPr>
                      <a:xfrm>
                        <a:off x="3922200" y="3277080"/>
                        <a:ext cx="441720" cy="121680"/>
                        <a:chOff x="3922200" y="3277080"/>
                        <a:chExt cx="441720" cy="121680"/>
                      </a:xfrm>
                    </p:grpSpPr>
                    <p:sp>
                      <p:nvSpPr>
                        <p:cNvPr id="2304" name="Line 135"/>
                        <p:cNvSpPr/>
                        <p:nvPr/>
                      </p:nvSpPr>
                      <p:spPr>
                        <a:xfrm flipH="1">
                          <a:off x="3922560" y="3277440"/>
                          <a:ext cx="441360" cy="12096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5" name=""/>
                        <p:cNvSpPr txBox="1"/>
                        <p:nvPr/>
                      </p:nvSpPr>
                      <p:spPr>
                        <a:xfrm rot="9878400">
                          <a:off x="3913920" y="333756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306" name="Oval 136"/>
                    <p:cNvSpPr/>
                    <p:nvPr/>
                  </p:nvSpPr>
                  <p:spPr>
                    <a:xfrm rot="9878400">
                      <a:off x="4219920" y="334332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7" name="Freeform 137"/>
                    <p:cNvSpPr/>
                    <p:nvPr/>
                  </p:nvSpPr>
                  <p:spPr>
                    <a:xfrm rot="21230400">
                      <a:off x="4060800" y="338760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308" name="Group 138"/>
              <p:cNvGrpSpPr/>
              <p:nvPr/>
            </p:nvGrpSpPr>
            <p:grpSpPr>
              <a:xfrm>
                <a:off x="4083840" y="3226320"/>
                <a:ext cx="435240" cy="701280"/>
                <a:chOff x="4083840" y="3226320"/>
                <a:chExt cx="435240" cy="701280"/>
              </a:xfrm>
            </p:grpSpPr>
            <p:grpSp>
              <p:nvGrpSpPr>
                <p:cNvPr id="2309" name="Group 139"/>
                <p:cNvGrpSpPr/>
                <p:nvPr/>
              </p:nvGrpSpPr>
              <p:grpSpPr>
                <a:xfrm>
                  <a:off x="4083840" y="3226320"/>
                  <a:ext cx="424800" cy="585360"/>
                  <a:chOff x="4083840" y="3226320"/>
                  <a:chExt cx="424800" cy="585360"/>
                </a:xfrm>
              </p:grpSpPr>
              <p:sp>
                <p:nvSpPr>
                  <p:cNvPr id="2310" name="AutoShape 140"/>
                  <p:cNvSpPr/>
                  <p:nvPr/>
                </p:nvSpPr>
                <p:spPr>
                  <a:xfrm rot="20678400">
                    <a:off x="4163760" y="3372480"/>
                    <a:ext cx="29592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1" name="Oval 141"/>
                  <p:cNvSpPr/>
                  <p:nvPr/>
                </p:nvSpPr>
                <p:spPr>
                  <a:xfrm rot="20678400">
                    <a:off x="4111560" y="3260160"/>
                    <a:ext cx="290520" cy="249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12" name="Oval 142"/>
                <p:cNvSpPr/>
                <p:nvPr/>
              </p:nvSpPr>
              <p:spPr>
                <a:xfrm rot="20678400">
                  <a:off x="4236840" y="3652560"/>
                  <a:ext cx="254160" cy="24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3" name="AutoShape 143"/>
              <p:cNvSpPr/>
              <p:nvPr/>
            </p:nvSpPr>
            <p:spPr>
              <a:xfrm rot="20678400">
                <a:off x="4311720" y="3731760"/>
                <a:ext cx="109080" cy="94320"/>
              </a:xfrm>
              <a:prstGeom prst="hexagon">
                <a:avLst>
                  <a:gd name="adj" fmla="val 28912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4" name="Group 144"/>
            <p:cNvGrpSpPr/>
            <p:nvPr/>
          </p:nvGrpSpPr>
          <p:grpSpPr>
            <a:xfrm>
              <a:off x="3643920" y="2237040"/>
              <a:ext cx="898200" cy="1121040"/>
              <a:chOff x="3643920" y="2237040"/>
              <a:chExt cx="898200" cy="1121040"/>
            </a:xfrm>
          </p:grpSpPr>
          <p:grpSp>
            <p:nvGrpSpPr>
              <p:cNvPr id="2315" name="Group 145"/>
              <p:cNvGrpSpPr/>
              <p:nvPr/>
            </p:nvGrpSpPr>
            <p:grpSpPr>
              <a:xfrm>
                <a:off x="3643920" y="2237040"/>
                <a:ext cx="898200" cy="1097640"/>
                <a:chOff x="3643920" y="2237040"/>
                <a:chExt cx="898200" cy="1097640"/>
              </a:xfrm>
            </p:grpSpPr>
            <p:grpSp>
              <p:nvGrpSpPr>
                <p:cNvPr id="2316" name="Group 146"/>
                <p:cNvGrpSpPr/>
                <p:nvPr/>
              </p:nvGrpSpPr>
              <p:grpSpPr>
                <a:xfrm>
                  <a:off x="3643920" y="2237040"/>
                  <a:ext cx="569160" cy="586440"/>
                  <a:chOff x="3643920" y="2237040"/>
                  <a:chExt cx="569160" cy="586440"/>
                </a:xfrm>
              </p:grpSpPr>
              <p:sp>
                <p:nvSpPr>
                  <p:cNvPr id="2317" name="AutoShape 147"/>
                  <p:cNvSpPr/>
                  <p:nvPr/>
                </p:nvSpPr>
                <p:spPr>
                  <a:xfrm rot="20678400">
                    <a:off x="3909600" y="2389680"/>
                    <a:ext cx="254160" cy="40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18" name="Group 148"/>
                  <p:cNvGrpSpPr/>
                  <p:nvPr/>
                </p:nvGrpSpPr>
                <p:grpSpPr>
                  <a:xfrm>
                    <a:off x="3643920" y="2237040"/>
                    <a:ext cx="468360" cy="296640"/>
                    <a:chOff x="3643920" y="2237040"/>
                    <a:chExt cx="468360" cy="296640"/>
                  </a:xfrm>
                </p:grpSpPr>
                <p:grpSp>
                  <p:nvGrpSpPr>
                    <p:cNvPr id="2319" name="Group 149"/>
                    <p:cNvGrpSpPr/>
                    <p:nvPr/>
                  </p:nvGrpSpPr>
                  <p:grpSpPr>
                    <a:xfrm>
                      <a:off x="3643920" y="2237040"/>
                      <a:ext cx="468360" cy="244800"/>
                      <a:chOff x="3643920" y="2237040"/>
                      <a:chExt cx="468360" cy="244800"/>
                    </a:xfrm>
                  </p:grpSpPr>
                  <p:grpSp>
                    <p:nvGrpSpPr>
                      <p:cNvPr id="2320" name="Group 150"/>
                      <p:cNvGrpSpPr/>
                      <p:nvPr/>
                    </p:nvGrpSpPr>
                    <p:grpSpPr>
                      <a:xfrm>
                        <a:off x="3644280" y="2237040"/>
                        <a:ext cx="468000" cy="244800"/>
                        <a:chOff x="3644280" y="2237040"/>
                        <a:chExt cx="468000" cy="244800"/>
                      </a:xfrm>
                    </p:grpSpPr>
                    <p:sp>
                      <p:nvSpPr>
                        <p:cNvPr id="2321" name="Rectangle 151"/>
                        <p:cNvSpPr/>
                        <p:nvPr/>
                      </p:nvSpPr>
                      <p:spPr>
                        <a:xfrm rot="9878400">
                          <a:off x="3800160" y="227412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2" name="Freeform 152"/>
                        <p:cNvSpPr/>
                        <p:nvPr/>
                      </p:nvSpPr>
                      <p:spPr>
                        <a:xfrm rot="9878400">
                          <a:off x="3658680" y="233568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323" name=""/>
                      <p:cNvGrpSpPr/>
                      <p:nvPr/>
                    </p:nvGrpSpPr>
                    <p:grpSpPr>
                      <a:xfrm>
                        <a:off x="3643920" y="2264400"/>
                        <a:ext cx="441720" cy="121680"/>
                        <a:chOff x="3643920" y="2264400"/>
                        <a:chExt cx="441720" cy="121680"/>
                      </a:xfrm>
                    </p:grpSpPr>
                    <p:sp>
                      <p:nvSpPr>
                        <p:cNvPr id="2324" name="Line 153"/>
                        <p:cNvSpPr/>
                        <p:nvPr/>
                      </p:nvSpPr>
                      <p:spPr>
                        <a:xfrm flipH="1">
                          <a:off x="3644280" y="2264760"/>
                          <a:ext cx="441360" cy="12132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5" name=""/>
                        <p:cNvSpPr txBox="1"/>
                        <p:nvPr/>
                      </p:nvSpPr>
                      <p:spPr>
                        <a:xfrm rot="9878400">
                          <a:off x="3635640" y="232488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326" name="Oval 154"/>
                    <p:cNvSpPr/>
                    <p:nvPr/>
                  </p:nvSpPr>
                  <p:spPr>
                    <a:xfrm rot="9878400">
                      <a:off x="3942000" y="233064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7" name="Freeform 155"/>
                    <p:cNvSpPr/>
                    <p:nvPr/>
                  </p:nvSpPr>
                  <p:spPr>
                    <a:xfrm rot="21230400">
                      <a:off x="3782520" y="237492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328" name="Group 156"/>
                <p:cNvGrpSpPr/>
                <p:nvPr/>
              </p:nvGrpSpPr>
              <p:grpSpPr>
                <a:xfrm>
                  <a:off x="3972960" y="2748960"/>
                  <a:ext cx="569160" cy="585720"/>
                  <a:chOff x="3972960" y="2748960"/>
                  <a:chExt cx="569160" cy="585720"/>
                </a:xfrm>
              </p:grpSpPr>
              <p:sp>
                <p:nvSpPr>
                  <p:cNvPr id="2329" name="AutoShape 157"/>
                  <p:cNvSpPr/>
                  <p:nvPr/>
                </p:nvSpPr>
                <p:spPr>
                  <a:xfrm rot="9878400">
                    <a:off x="4021920" y="277524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30" name="Group 158"/>
                  <p:cNvGrpSpPr/>
                  <p:nvPr/>
                </p:nvGrpSpPr>
                <p:grpSpPr>
                  <a:xfrm>
                    <a:off x="4073760" y="3038040"/>
                    <a:ext cx="468360" cy="296640"/>
                    <a:chOff x="4073760" y="3038040"/>
                    <a:chExt cx="468360" cy="296640"/>
                  </a:xfrm>
                </p:grpSpPr>
                <p:grpSp>
                  <p:nvGrpSpPr>
                    <p:cNvPr id="2331" name="Group 159"/>
                    <p:cNvGrpSpPr/>
                    <p:nvPr/>
                  </p:nvGrpSpPr>
                  <p:grpSpPr>
                    <a:xfrm>
                      <a:off x="4073760" y="3090240"/>
                      <a:ext cx="468360" cy="244440"/>
                      <a:chOff x="4073760" y="3090240"/>
                      <a:chExt cx="468360" cy="244440"/>
                    </a:xfrm>
                  </p:grpSpPr>
                  <p:grpSp>
                    <p:nvGrpSpPr>
                      <p:cNvPr id="2332" name="Group 160"/>
                      <p:cNvGrpSpPr/>
                      <p:nvPr/>
                    </p:nvGrpSpPr>
                    <p:grpSpPr>
                      <a:xfrm>
                        <a:off x="4073760" y="3090240"/>
                        <a:ext cx="468000" cy="244440"/>
                        <a:chOff x="4073760" y="3090240"/>
                        <a:chExt cx="468000" cy="244440"/>
                      </a:xfrm>
                    </p:grpSpPr>
                    <p:sp>
                      <p:nvSpPr>
                        <p:cNvPr id="2333" name="Rectangle 161"/>
                        <p:cNvSpPr/>
                        <p:nvPr/>
                      </p:nvSpPr>
                      <p:spPr>
                        <a:xfrm rot="20678400">
                          <a:off x="4085280" y="316800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4" name="Freeform 162"/>
                        <p:cNvSpPr/>
                        <p:nvPr/>
                      </p:nvSpPr>
                      <p:spPr>
                        <a:xfrm rot="20678400">
                          <a:off x="4376880" y="310752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335" name=""/>
                      <p:cNvGrpSpPr/>
                      <p:nvPr/>
                    </p:nvGrpSpPr>
                    <p:grpSpPr>
                      <a:xfrm>
                        <a:off x="4100400" y="3185640"/>
                        <a:ext cx="441720" cy="121680"/>
                        <a:chOff x="4100400" y="3185640"/>
                        <a:chExt cx="441720" cy="121680"/>
                      </a:xfrm>
                    </p:grpSpPr>
                    <p:sp>
                      <p:nvSpPr>
                        <p:cNvPr id="2336" name="Line 163"/>
                        <p:cNvSpPr/>
                        <p:nvPr/>
                      </p:nvSpPr>
                      <p:spPr>
                        <a:xfrm flipV="1">
                          <a:off x="4100400" y="3186000"/>
                          <a:ext cx="441360" cy="12096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7" name=""/>
                        <p:cNvSpPr txBox="1"/>
                        <p:nvPr/>
                      </p:nvSpPr>
                      <p:spPr>
                        <a:xfrm rot="20678400">
                          <a:off x="4092120" y="324612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338" name="Oval 164"/>
                    <p:cNvSpPr/>
                    <p:nvPr/>
                  </p:nvSpPr>
                  <p:spPr>
                    <a:xfrm rot="20678400">
                      <a:off x="4152960" y="313920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9" name="Freeform 165"/>
                    <p:cNvSpPr/>
                    <p:nvPr/>
                  </p:nvSpPr>
                  <p:spPr>
                    <a:xfrm rot="10431000">
                      <a:off x="4280400" y="304416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340" name="Group 166"/>
              <p:cNvGrpSpPr/>
              <p:nvPr/>
            </p:nvGrpSpPr>
            <p:grpSpPr>
              <a:xfrm>
                <a:off x="3945240" y="2656800"/>
                <a:ext cx="435240" cy="701280"/>
                <a:chOff x="3945240" y="2656800"/>
                <a:chExt cx="435240" cy="701280"/>
              </a:xfrm>
            </p:grpSpPr>
            <p:grpSp>
              <p:nvGrpSpPr>
                <p:cNvPr id="2341" name="Group 167"/>
                <p:cNvGrpSpPr/>
                <p:nvPr/>
              </p:nvGrpSpPr>
              <p:grpSpPr>
                <a:xfrm>
                  <a:off x="3955680" y="2772720"/>
                  <a:ext cx="424800" cy="585360"/>
                  <a:chOff x="3955680" y="2772720"/>
                  <a:chExt cx="424800" cy="585360"/>
                </a:xfrm>
              </p:grpSpPr>
              <p:sp>
                <p:nvSpPr>
                  <p:cNvPr id="2342" name="AutoShape 168"/>
                  <p:cNvSpPr/>
                  <p:nvPr/>
                </p:nvSpPr>
                <p:spPr>
                  <a:xfrm rot="9878400">
                    <a:off x="4004280" y="2804760"/>
                    <a:ext cx="29592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3" name="Oval 169"/>
                  <p:cNvSpPr/>
                  <p:nvPr/>
                </p:nvSpPr>
                <p:spPr>
                  <a:xfrm rot="9878400">
                    <a:off x="4061880" y="3074400"/>
                    <a:ext cx="290520" cy="24948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4" name="Oval 170"/>
                <p:cNvSpPr/>
                <p:nvPr/>
              </p:nvSpPr>
              <p:spPr>
                <a:xfrm rot="9878400">
                  <a:off x="3972960" y="2685960"/>
                  <a:ext cx="254160" cy="2455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45" name="AutoShape 171"/>
              <p:cNvSpPr/>
              <p:nvPr/>
            </p:nvSpPr>
            <p:spPr>
              <a:xfrm rot="9878400">
                <a:off x="4043160" y="2757960"/>
                <a:ext cx="109080" cy="94320"/>
              </a:xfrm>
              <a:prstGeom prst="hexagon">
                <a:avLst>
                  <a:gd name="adj" fmla="val 28912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46" name="Group 172"/>
          <p:cNvGrpSpPr/>
          <p:nvPr/>
        </p:nvGrpSpPr>
        <p:grpSpPr>
          <a:xfrm>
            <a:off x="3933000" y="1215000"/>
            <a:ext cx="546480" cy="2329200"/>
            <a:chOff x="3933000" y="1215000"/>
            <a:chExt cx="546480" cy="2329200"/>
          </a:xfrm>
        </p:grpSpPr>
        <p:grpSp>
          <p:nvGrpSpPr>
            <p:cNvPr id="2347" name="Group 173"/>
            <p:cNvGrpSpPr/>
            <p:nvPr/>
          </p:nvGrpSpPr>
          <p:grpSpPr>
            <a:xfrm>
              <a:off x="3933000" y="1215000"/>
              <a:ext cx="546480" cy="2329200"/>
              <a:chOff x="3933000" y="1215000"/>
              <a:chExt cx="546480" cy="2329200"/>
            </a:xfrm>
          </p:grpSpPr>
          <p:grpSp>
            <p:nvGrpSpPr>
              <p:cNvPr id="2348" name="Group 174"/>
              <p:cNvGrpSpPr/>
              <p:nvPr/>
            </p:nvGrpSpPr>
            <p:grpSpPr>
              <a:xfrm>
                <a:off x="3933000" y="1215000"/>
                <a:ext cx="546480" cy="2329200"/>
                <a:chOff x="3933000" y="1215000"/>
                <a:chExt cx="546480" cy="2329200"/>
              </a:xfrm>
            </p:grpSpPr>
            <p:grpSp>
              <p:nvGrpSpPr>
                <p:cNvPr id="2349" name="Group 175"/>
                <p:cNvGrpSpPr/>
                <p:nvPr/>
              </p:nvGrpSpPr>
              <p:grpSpPr>
                <a:xfrm>
                  <a:off x="3933000" y="1417680"/>
                  <a:ext cx="343800" cy="1246680"/>
                  <a:chOff x="3933000" y="1417680"/>
                  <a:chExt cx="343800" cy="1246680"/>
                </a:xfrm>
              </p:grpSpPr>
              <p:grpSp>
                <p:nvGrpSpPr>
                  <p:cNvPr id="2350" name="Group 176"/>
                  <p:cNvGrpSpPr/>
                  <p:nvPr/>
                </p:nvGrpSpPr>
                <p:grpSpPr>
                  <a:xfrm>
                    <a:off x="3933000" y="2033280"/>
                    <a:ext cx="288360" cy="631080"/>
                    <a:chOff x="3933000" y="2033280"/>
                    <a:chExt cx="288360" cy="631080"/>
                  </a:xfrm>
                </p:grpSpPr>
                <p:sp>
                  <p:nvSpPr>
                    <p:cNvPr id="2351" name="AutoShape 177"/>
                    <p:cNvSpPr/>
                    <p:nvPr/>
                  </p:nvSpPr>
                  <p:spPr>
                    <a:xfrm rot="11221200">
                      <a:off x="4012200" y="2042280"/>
                      <a:ext cx="179640" cy="49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2" name="AutoShape 178"/>
                    <p:cNvSpPr/>
                    <p:nvPr/>
                  </p:nvSpPr>
                  <p:spPr>
                    <a:xfrm rot="16799400">
                      <a:off x="3970080" y="2431080"/>
                      <a:ext cx="19152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53" name="Group 179"/>
                  <p:cNvGrpSpPr/>
                  <p:nvPr/>
                </p:nvGrpSpPr>
                <p:grpSpPr>
                  <a:xfrm>
                    <a:off x="4015440" y="1417680"/>
                    <a:ext cx="261360" cy="747720"/>
                    <a:chOff x="4015440" y="1417680"/>
                    <a:chExt cx="261360" cy="747720"/>
                  </a:xfrm>
                </p:grpSpPr>
                <p:sp>
                  <p:nvSpPr>
                    <p:cNvPr id="2354" name="AutoShape 180"/>
                    <p:cNvSpPr/>
                    <p:nvPr/>
                  </p:nvSpPr>
                  <p:spPr>
                    <a:xfrm rot="11236200">
                      <a:off x="4067640" y="1663200"/>
                      <a:ext cx="180360" cy="36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4308" y="21600"/>
                          </a:lnTo>
                          <a:lnTo>
                            <a:pt x="17292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5" name="Oval 181"/>
                    <p:cNvSpPr/>
                    <p:nvPr/>
                  </p:nvSpPr>
                  <p:spPr>
                    <a:xfrm rot="11775000">
                      <a:off x="4038120" y="1952280"/>
                      <a:ext cx="187200" cy="19044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6" name="Freeform 182"/>
                    <p:cNvSpPr/>
                    <p:nvPr/>
                  </p:nvSpPr>
                  <p:spPr>
                    <a:xfrm rot="21270000">
                      <a:off x="4087800" y="1425240"/>
                      <a:ext cx="175680" cy="28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2" h="2302">
                          <a:moveTo>
                            <a:pt x="361" y="1127"/>
                          </a:moveTo>
                          <a:lnTo>
                            <a:pt x="280" y="1116"/>
                          </a:lnTo>
                          <a:lnTo>
                            <a:pt x="373" y="711"/>
                          </a:lnTo>
                          <a:lnTo>
                            <a:pt x="373" y="709"/>
                          </a:lnTo>
                          <a:lnTo>
                            <a:pt x="375" y="705"/>
                          </a:lnTo>
                          <a:lnTo>
                            <a:pt x="375" y="703"/>
                          </a:lnTo>
                          <a:lnTo>
                            <a:pt x="375" y="700"/>
                          </a:lnTo>
                          <a:lnTo>
                            <a:pt x="375" y="698"/>
                          </a:lnTo>
                          <a:lnTo>
                            <a:pt x="375" y="696"/>
                          </a:lnTo>
                          <a:lnTo>
                            <a:pt x="375" y="692"/>
                          </a:lnTo>
                          <a:lnTo>
                            <a:pt x="375" y="690"/>
                          </a:lnTo>
                          <a:lnTo>
                            <a:pt x="375" y="684"/>
                          </a:lnTo>
                          <a:lnTo>
                            <a:pt x="375" y="681"/>
                          </a:lnTo>
                          <a:lnTo>
                            <a:pt x="375" y="675"/>
                          </a:lnTo>
                          <a:lnTo>
                            <a:pt x="375" y="669"/>
                          </a:lnTo>
                          <a:lnTo>
                            <a:pt x="371" y="665"/>
                          </a:lnTo>
                          <a:lnTo>
                            <a:pt x="371" y="660"/>
                          </a:lnTo>
                          <a:lnTo>
                            <a:pt x="369" y="654"/>
                          </a:lnTo>
                          <a:lnTo>
                            <a:pt x="367" y="652"/>
                          </a:lnTo>
                          <a:lnTo>
                            <a:pt x="365" y="646"/>
                          </a:lnTo>
                          <a:lnTo>
                            <a:pt x="363" y="641"/>
                          </a:lnTo>
                          <a:lnTo>
                            <a:pt x="361" y="637"/>
                          </a:lnTo>
                          <a:lnTo>
                            <a:pt x="358" y="633"/>
                          </a:lnTo>
                          <a:lnTo>
                            <a:pt x="356" y="629"/>
                          </a:lnTo>
                          <a:lnTo>
                            <a:pt x="354" y="623"/>
                          </a:lnTo>
                          <a:lnTo>
                            <a:pt x="350" y="620"/>
                          </a:lnTo>
                          <a:lnTo>
                            <a:pt x="346" y="616"/>
                          </a:lnTo>
                          <a:lnTo>
                            <a:pt x="342" y="612"/>
                          </a:lnTo>
                          <a:lnTo>
                            <a:pt x="339" y="610"/>
                          </a:lnTo>
                          <a:lnTo>
                            <a:pt x="335" y="606"/>
                          </a:lnTo>
                          <a:lnTo>
                            <a:pt x="331" y="603"/>
                          </a:lnTo>
                          <a:lnTo>
                            <a:pt x="325" y="601"/>
                          </a:lnTo>
                          <a:lnTo>
                            <a:pt x="321" y="597"/>
                          </a:lnTo>
                          <a:lnTo>
                            <a:pt x="318" y="595"/>
                          </a:lnTo>
                          <a:lnTo>
                            <a:pt x="312" y="593"/>
                          </a:lnTo>
                          <a:lnTo>
                            <a:pt x="306" y="591"/>
                          </a:lnTo>
                          <a:lnTo>
                            <a:pt x="302" y="589"/>
                          </a:lnTo>
                          <a:lnTo>
                            <a:pt x="299" y="589"/>
                          </a:lnTo>
                          <a:lnTo>
                            <a:pt x="295" y="587"/>
                          </a:lnTo>
                          <a:lnTo>
                            <a:pt x="291" y="587"/>
                          </a:lnTo>
                          <a:lnTo>
                            <a:pt x="287" y="585"/>
                          </a:lnTo>
                          <a:lnTo>
                            <a:pt x="285" y="585"/>
                          </a:lnTo>
                          <a:lnTo>
                            <a:pt x="283" y="585"/>
                          </a:lnTo>
                          <a:lnTo>
                            <a:pt x="280" y="585"/>
                          </a:lnTo>
                          <a:lnTo>
                            <a:pt x="276" y="585"/>
                          </a:lnTo>
                          <a:lnTo>
                            <a:pt x="274" y="585"/>
                          </a:lnTo>
                          <a:lnTo>
                            <a:pt x="272" y="585"/>
                          </a:lnTo>
                          <a:lnTo>
                            <a:pt x="268" y="585"/>
                          </a:lnTo>
                          <a:lnTo>
                            <a:pt x="266" y="585"/>
                          </a:lnTo>
                          <a:lnTo>
                            <a:pt x="263" y="585"/>
                          </a:lnTo>
                          <a:lnTo>
                            <a:pt x="261" y="587"/>
                          </a:lnTo>
                          <a:lnTo>
                            <a:pt x="259" y="587"/>
                          </a:lnTo>
                          <a:lnTo>
                            <a:pt x="255" y="587"/>
                          </a:lnTo>
                          <a:lnTo>
                            <a:pt x="253" y="589"/>
                          </a:lnTo>
                          <a:lnTo>
                            <a:pt x="249" y="589"/>
                          </a:lnTo>
                          <a:lnTo>
                            <a:pt x="247" y="589"/>
                          </a:lnTo>
                          <a:lnTo>
                            <a:pt x="243" y="591"/>
                          </a:lnTo>
                          <a:lnTo>
                            <a:pt x="240" y="591"/>
                          </a:lnTo>
                          <a:lnTo>
                            <a:pt x="238" y="593"/>
                          </a:lnTo>
                          <a:lnTo>
                            <a:pt x="236" y="595"/>
                          </a:lnTo>
                          <a:lnTo>
                            <a:pt x="232" y="595"/>
                          </a:lnTo>
                          <a:lnTo>
                            <a:pt x="230" y="597"/>
                          </a:lnTo>
                          <a:lnTo>
                            <a:pt x="228" y="599"/>
                          </a:lnTo>
                          <a:lnTo>
                            <a:pt x="224" y="601"/>
                          </a:lnTo>
                          <a:lnTo>
                            <a:pt x="223" y="601"/>
                          </a:lnTo>
                          <a:lnTo>
                            <a:pt x="219" y="603"/>
                          </a:lnTo>
                          <a:lnTo>
                            <a:pt x="217" y="604"/>
                          </a:lnTo>
                          <a:lnTo>
                            <a:pt x="211" y="608"/>
                          </a:lnTo>
                          <a:lnTo>
                            <a:pt x="207" y="612"/>
                          </a:lnTo>
                          <a:lnTo>
                            <a:pt x="204" y="616"/>
                          </a:lnTo>
                          <a:lnTo>
                            <a:pt x="198" y="618"/>
                          </a:lnTo>
                          <a:lnTo>
                            <a:pt x="194" y="623"/>
                          </a:lnTo>
                          <a:lnTo>
                            <a:pt x="188" y="627"/>
                          </a:lnTo>
                          <a:lnTo>
                            <a:pt x="185" y="633"/>
                          </a:lnTo>
                          <a:lnTo>
                            <a:pt x="181" y="637"/>
                          </a:lnTo>
                          <a:lnTo>
                            <a:pt x="177" y="641"/>
                          </a:lnTo>
                          <a:lnTo>
                            <a:pt x="173" y="646"/>
                          </a:lnTo>
                          <a:lnTo>
                            <a:pt x="169" y="652"/>
                          </a:lnTo>
                          <a:lnTo>
                            <a:pt x="166" y="656"/>
                          </a:lnTo>
                          <a:lnTo>
                            <a:pt x="162" y="662"/>
                          </a:lnTo>
                          <a:lnTo>
                            <a:pt x="160" y="665"/>
                          </a:lnTo>
                          <a:lnTo>
                            <a:pt x="158" y="669"/>
                          </a:lnTo>
                          <a:lnTo>
                            <a:pt x="158" y="671"/>
                          </a:lnTo>
                          <a:lnTo>
                            <a:pt x="156" y="673"/>
                          </a:lnTo>
                          <a:lnTo>
                            <a:pt x="154" y="677"/>
                          </a:lnTo>
                          <a:lnTo>
                            <a:pt x="152" y="679"/>
                          </a:lnTo>
                          <a:lnTo>
                            <a:pt x="152" y="681"/>
                          </a:lnTo>
                          <a:lnTo>
                            <a:pt x="150" y="684"/>
                          </a:lnTo>
                          <a:lnTo>
                            <a:pt x="150" y="688"/>
                          </a:lnTo>
                          <a:lnTo>
                            <a:pt x="146" y="694"/>
                          </a:lnTo>
                          <a:lnTo>
                            <a:pt x="145" y="701"/>
                          </a:lnTo>
                          <a:lnTo>
                            <a:pt x="143" y="709"/>
                          </a:lnTo>
                          <a:lnTo>
                            <a:pt x="139" y="717"/>
                          </a:lnTo>
                          <a:lnTo>
                            <a:pt x="137" y="724"/>
                          </a:lnTo>
                          <a:lnTo>
                            <a:pt x="135" y="732"/>
                          </a:lnTo>
                          <a:lnTo>
                            <a:pt x="131" y="739"/>
                          </a:lnTo>
                          <a:lnTo>
                            <a:pt x="129" y="747"/>
                          </a:lnTo>
                          <a:lnTo>
                            <a:pt x="126" y="755"/>
                          </a:lnTo>
                          <a:lnTo>
                            <a:pt x="124" y="760"/>
                          </a:lnTo>
                          <a:lnTo>
                            <a:pt x="122" y="768"/>
                          </a:lnTo>
                          <a:lnTo>
                            <a:pt x="120" y="776"/>
                          </a:lnTo>
                          <a:lnTo>
                            <a:pt x="116" y="781"/>
                          </a:lnTo>
                          <a:lnTo>
                            <a:pt x="114" y="789"/>
                          </a:lnTo>
                          <a:lnTo>
                            <a:pt x="112" y="796"/>
                          </a:lnTo>
                          <a:lnTo>
                            <a:pt x="110" y="804"/>
                          </a:lnTo>
                          <a:lnTo>
                            <a:pt x="107" y="812"/>
                          </a:lnTo>
                          <a:lnTo>
                            <a:pt x="107" y="817"/>
                          </a:lnTo>
                          <a:lnTo>
                            <a:pt x="103" y="823"/>
                          </a:lnTo>
                          <a:lnTo>
                            <a:pt x="101" y="831"/>
                          </a:lnTo>
                          <a:lnTo>
                            <a:pt x="97" y="836"/>
                          </a:lnTo>
                          <a:lnTo>
                            <a:pt x="97" y="844"/>
                          </a:lnTo>
                          <a:lnTo>
                            <a:pt x="93" y="852"/>
                          </a:lnTo>
                          <a:lnTo>
                            <a:pt x="93" y="857"/>
                          </a:lnTo>
                          <a:lnTo>
                            <a:pt x="89" y="865"/>
                          </a:lnTo>
                          <a:lnTo>
                            <a:pt x="88" y="871"/>
                          </a:lnTo>
                          <a:lnTo>
                            <a:pt x="86" y="878"/>
                          </a:lnTo>
                          <a:lnTo>
                            <a:pt x="84" y="884"/>
                          </a:lnTo>
                          <a:lnTo>
                            <a:pt x="82" y="892"/>
                          </a:lnTo>
                          <a:lnTo>
                            <a:pt x="80" y="899"/>
                          </a:lnTo>
                          <a:lnTo>
                            <a:pt x="78" y="907"/>
                          </a:lnTo>
                          <a:lnTo>
                            <a:pt x="74" y="912"/>
                          </a:lnTo>
                          <a:lnTo>
                            <a:pt x="72" y="920"/>
                          </a:lnTo>
                          <a:lnTo>
                            <a:pt x="72" y="926"/>
                          </a:lnTo>
                          <a:lnTo>
                            <a:pt x="68" y="931"/>
                          </a:lnTo>
                          <a:lnTo>
                            <a:pt x="67" y="939"/>
                          </a:lnTo>
                          <a:lnTo>
                            <a:pt x="65" y="945"/>
                          </a:lnTo>
                          <a:lnTo>
                            <a:pt x="63" y="952"/>
                          </a:lnTo>
                          <a:lnTo>
                            <a:pt x="59" y="958"/>
                          </a:lnTo>
                          <a:lnTo>
                            <a:pt x="57" y="966"/>
                          </a:lnTo>
                          <a:lnTo>
                            <a:pt x="55" y="971"/>
                          </a:lnTo>
                          <a:lnTo>
                            <a:pt x="53" y="979"/>
                          </a:lnTo>
                          <a:lnTo>
                            <a:pt x="51" y="987"/>
                          </a:lnTo>
                          <a:lnTo>
                            <a:pt x="49" y="994"/>
                          </a:lnTo>
                          <a:lnTo>
                            <a:pt x="48" y="1000"/>
                          </a:lnTo>
                          <a:lnTo>
                            <a:pt x="46" y="1007"/>
                          </a:lnTo>
                          <a:lnTo>
                            <a:pt x="44" y="1015"/>
                          </a:lnTo>
                          <a:lnTo>
                            <a:pt x="42" y="1021"/>
                          </a:lnTo>
                          <a:lnTo>
                            <a:pt x="42" y="1028"/>
                          </a:lnTo>
                          <a:lnTo>
                            <a:pt x="38" y="1036"/>
                          </a:lnTo>
                          <a:lnTo>
                            <a:pt x="36" y="1042"/>
                          </a:lnTo>
                          <a:lnTo>
                            <a:pt x="36" y="1049"/>
                          </a:lnTo>
                          <a:lnTo>
                            <a:pt x="34" y="1057"/>
                          </a:lnTo>
                          <a:lnTo>
                            <a:pt x="30" y="1063"/>
                          </a:lnTo>
                          <a:lnTo>
                            <a:pt x="30" y="1070"/>
                          </a:lnTo>
                          <a:lnTo>
                            <a:pt x="29" y="1078"/>
                          </a:lnTo>
                          <a:lnTo>
                            <a:pt x="27" y="1085"/>
                          </a:lnTo>
                          <a:lnTo>
                            <a:pt x="25" y="1093"/>
                          </a:lnTo>
                          <a:lnTo>
                            <a:pt x="23" y="1101"/>
                          </a:lnTo>
                          <a:lnTo>
                            <a:pt x="21" y="1108"/>
                          </a:lnTo>
                          <a:lnTo>
                            <a:pt x="19" y="1116"/>
                          </a:lnTo>
                          <a:lnTo>
                            <a:pt x="17" y="1123"/>
                          </a:lnTo>
                          <a:lnTo>
                            <a:pt x="17" y="1131"/>
                          </a:lnTo>
                          <a:lnTo>
                            <a:pt x="15" y="1139"/>
                          </a:lnTo>
                          <a:lnTo>
                            <a:pt x="13" y="1148"/>
                          </a:lnTo>
                          <a:lnTo>
                            <a:pt x="10" y="1158"/>
                          </a:lnTo>
                          <a:lnTo>
                            <a:pt x="10" y="1165"/>
                          </a:lnTo>
                          <a:lnTo>
                            <a:pt x="8" y="1175"/>
                          </a:lnTo>
                          <a:lnTo>
                            <a:pt x="6" y="1182"/>
                          </a:lnTo>
                          <a:lnTo>
                            <a:pt x="6" y="1192"/>
                          </a:lnTo>
                          <a:lnTo>
                            <a:pt x="4" y="1201"/>
                          </a:lnTo>
                          <a:lnTo>
                            <a:pt x="2" y="1211"/>
                          </a:lnTo>
                          <a:lnTo>
                            <a:pt x="2" y="1218"/>
                          </a:lnTo>
                          <a:lnTo>
                            <a:pt x="0" y="1230"/>
                          </a:lnTo>
                          <a:lnTo>
                            <a:pt x="0" y="1237"/>
                          </a:lnTo>
                          <a:lnTo>
                            <a:pt x="0" y="1247"/>
                          </a:lnTo>
                          <a:lnTo>
                            <a:pt x="0" y="1257"/>
                          </a:lnTo>
                          <a:lnTo>
                            <a:pt x="0" y="1268"/>
                          </a:lnTo>
                          <a:lnTo>
                            <a:pt x="0" y="1276"/>
                          </a:lnTo>
                          <a:lnTo>
                            <a:pt x="0" y="1285"/>
                          </a:lnTo>
                          <a:lnTo>
                            <a:pt x="0" y="1296"/>
                          </a:lnTo>
                          <a:lnTo>
                            <a:pt x="0" y="1304"/>
                          </a:lnTo>
                          <a:lnTo>
                            <a:pt x="0" y="1314"/>
                          </a:lnTo>
                          <a:lnTo>
                            <a:pt x="0" y="1323"/>
                          </a:lnTo>
                          <a:lnTo>
                            <a:pt x="0" y="1333"/>
                          </a:lnTo>
                          <a:lnTo>
                            <a:pt x="2" y="1342"/>
                          </a:lnTo>
                          <a:lnTo>
                            <a:pt x="2" y="1352"/>
                          </a:lnTo>
                          <a:lnTo>
                            <a:pt x="4" y="1363"/>
                          </a:lnTo>
                          <a:lnTo>
                            <a:pt x="4" y="1371"/>
                          </a:lnTo>
                          <a:lnTo>
                            <a:pt x="6" y="1382"/>
                          </a:lnTo>
                          <a:lnTo>
                            <a:pt x="8" y="1390"/>
                          </a:lnTo>
                          <a:lnTo>
                            <a:pt x="8" y="1401"/>
                          </a:lnTo>
                          <a:lnTo>
                            <a:pt x="10" y="1409"/>
                          </a:lnTo>
                          <a:lnTo>
                            <a:pt x="11" y="1420"/>
                          </a:lnTo>
                          <a:lnTo>
                            <a:pt x="13" y="1429"/>
                          </a:lnTo>
                          <a:lnTo>
                            <a:pt x="15" y="1439"/>
                          </a:lnTo>
                          <a:lnTo>
                            <a:pt x="17" y="1448"/>
                          </a:lnTo>
                          <a:lnTo>
                            <a:pt x="19" y="1458"/>
                          </a:lnTo>
                          <a:lnTo>
                            <a:pt x="21" y="1468"/>
                          </a:lnTo>
                          <a:lnTo>
                            <a:pt x="23" y="1477"/>
                          </a:lnTo>
                          <a:lnTo>
                            <a:pt x="27" y="1487"/>
                          </a:lnTo>
                          <a:lnTo>
                            <a:pt x="29" y="1496"/>
                          </a:lnTo>
                          <a:lnTo>
                            <a:pt x="30" y="1506"/>
                          </a:lnTo>
                          <a:lnTo>
                            <a:pt x="34" y="1515"/>
                          </a:lnTo>
                          <a:lnTo>
                            <a:pt x="36" y="1525"/>
                          </a:lnTo>
                          <a:lnTo>
                            <a:pt x="38" y="1534"/>
                          </a:lnTo>
                          <a:lnTo>
                            <a:pt x="42" y="1544"/>
                          </a:lnTo>
                          <a:lnTo>
                            <a:pt x="46" y="1553"/>
                          </a:lnTo>
                          <a:lnTo>
                            <a:pt x="48" y="1561"/>
                          </a:lnTo>
                          <a:lnTo>
                            <a:pt x="51" y="1572"/>
                          </a:lnTo>
                          <a:lnTo>
                            <a:pt x="55" y="1580"/>
                          </a:lnTo>
                          <a:lnTo>
                            <a:pt x="59" y="1589"/>
                          </a:lnTo>
                          <a:lnTo>
                            <a:pt x="63" y="1599"/>
                          </a:lnTo>
                          <a:lnTo>
                            <a:pt x="67" y="1608"/>
                          </a:lnTo>
                          <a:lnTo>
                            <a:pt x="68" y="1616"/>
                          </a:lnTo>
                          <a:lnTo>
                            <a:pt x="74" y="1627"/>
                          </a:lnTo>
                          <a:lnTo>
                            <a:pt x="78" y="1635"/>
                          </a:lnTo>
                          <a:lnTo>
                            <a:pt x="82" y="1644"/>
                          </a:lnTo>
                          <a:lnTo>
                            <a:pt x="86" y="1652"/>
                          </a:lnTo>
                          <a:lnTo>
                            <a:pt x="89" y="1661"/>
                          </a:lnTo>
                          <a:lnTo>
                            <a:pt x="95" y="1669"/>
                          </a:lnTo>
                          <a:lnTo>
                            <a:pt x="99" y="1679"/>
                          </a:lnTo>
                          <a:lnTo>
                            <a:pt x="103" y="1688"/>
                          </a:lnTo>
                          <a:lnTo>
                            <a:pt x="108" y="1696"/>
                          </a:lnTo>
                          <a:lnTo>
                            <a:pt x="114" y="1703"/>
                          </a:lnTo>
                          <a:lnTo>
                            <a:pt x="118" y="1713"/>
                          </a:lnTo>
                          <a:lnTo>
                            <a:pt x="124" y="1722"/>
                          </a:lnTo>
                          <a:lnTo>
                            <a:pt x="127" y="1732"/>
                          </a:lnTo>
                          <a:lnTo>
                            <a:pt x="131" y="1736"/>
                          </a:lnTo>
                          <a:lnTo>
                            <a:pt x="135" y="1739"/>
                          </a:lnTo>
                          <a:lnTo>
                            <a:pt x="135" y="1743"/>
                          </a:lnTo>
                          <a:lnTo>
                            <a:pt x="137" y="1745"/>
                          </a:lnTo>
                          <a:lnTo>
                            <a:pt x="139" y="1747"/>
                          </a:lnTo>
                          <a:lnTo>
                            <a:pt x="141" y="1751"/>
                          </a:lnTo>
                          <a:lnTo>
                            <a:pt x="143" y="1755"/>
                          </a:lnTo>
                          <a:lnTo>
                            <a:pt x="143" y="1756"/>
                          </a:lnTo>
                          <a:lnTo>
                            <a:pt x="145" y="1760"/>
                          </a:lnTo>
                          <a:lnTo>
                            <a:pt x="146" y="1762"/>
                          </a:lnTo>
                          <a:lnTo>
                            <a:pt x="148" y="1766"/>
                          </a:lnTo>
                          <a:lnTo>
                            <a:pt x="150" y="1768"/>
                          </a:lnTo>
                          <a:lnTo>
                            <a:pt x="152" y="1770"/>
                          </a:lnTo>
                          <a:lnTo>
                            <a:pt x="156" y="1774"/>
                          </a:lnTo>
                          <a:lnTo>
                            <a:pt x="158" y="1777"/>
                          </a:lnTo>
                          <a:lnTo>
                            <a:pt x="160" y="1779"/>
                          </a:lnTo>
                          <a:lnTo>
                            <a:pt x="160" y="1783"/>
                          </a:lnTo>
                          <a:lnTo>
                            <a:pt x="162" y="1787"/>
                          </a:lnTo>
                          <a:lnTo>
                            <a:pt x="166" y="1789"/>
                          </a:lnTo>
                          <a:lnTo>
                            <a:pt x="166" y="1791"/>
                          </a:lnTo>
                          <a:lnTo>
                            <a:pt x="167" y="1794"/>
                          </a:lnTo>
                          <a:lnTo>
                            <a:pt x="169" y="1796"/>
                          </a:lnTo>
                          <a:lnTo>
                            <a:pt x="171" y="1800"/>
                          </a:lnTo>
                          <a:lnTo>
                            <a:pt x="173" y="1802"/>
                          </a:lnTo>
                          <a:lnTo>
                            <a:pt x="175" y="1806"/>
                          </a:lnTo>
                          <a:lnTo>
                            <a:pt x="177" y="1808"/>
                          </a:lnTo>
                          <a:lnTo>
                            <a:pt x="179" y="1812"/>
                          </a:lnTo>
                          <a:lnTo>
                            <a:pt x="181" y="1815"/>
                          </a:lnTo>
                          <a:lnTo>
                            <a:pt x="183" y="1817"/>
                          </a:lnTo>
                          <a:lnTo>
                            <a:pt x="185" y="1821"/>
                          </a:lnTo>
                          <a:lnTo>
                            <a:pt x="188" y="1827"/>
                          </a:lnTo>
                          <a:lnTo>
                            <a:pt x="190" y="1831"/>
                          </a:lnTo>
                          <a:lnTo>
                            <a:pt x="194" y="1836"/>
                          </a:lnTo>
                          <a:lnTo>
                            <a:pt x="198" y="1842"/>
                          </a:lnTo>
                          <a:lnTo>
                            <a:pt x="200" y="1846"/>
                          </a:lnTo>
                          <a:lnTo>
                            <a:pt x="204" y="1850"/>
                          </a:lnTo>
                          <a:lnTo>
                            <a:pt x="205" y="1853"/>
                          </a:lnTo>
                          <a:lnTo>
                            <a:pt x="207" y="1859"/>
                          </a:lnTo>
                          <a:lnTo>
                            <a:pt x="209" y="1861"/>
                          </a:lnTo>
                          <a:lnTo>
                            <a:pt x="211" y="1863"/>
                          </a:lnTo>
                          <a:lnTo>
                            <a:pt x="213" y="1867"/>
                          </a:lnTo>
                          <a:lnTo>
                            <a:pt x="215" y="1869"/>
                          </a:lnTo>
                          <a:lnTo>
                            <a:pt x="217" y="1870"/>
                          </a:lnTo>
                          <a:lnTo>
                            <a:pt x="219" y="1874"/>
                          </a:lnTo>
                          <a:lnTo>
                            <a:pt x="141" y="2163"/>
                          </a:lnTo>
                          <a:lnTo>
                            <a:pt x="143" y="2165"/>
                          </a:lnTo>
                          <a:lnTo>
                            <a:pt x="146" y="2165"/>
                          </a:lnTo>
                          <a:lnTo>
                            <a:pt x="150" y="2167"/>
                          </a:lnTo>
                          <a:lnTo>
                            <a:pt x="152" y="2167"/>
                          </a:lnTo>
                          <a:lnTo>
                            <a:pt x="154" y="2167"/>
                          </a:lnTo>
                          <a:lnTo>
                            <a:pt x="158" y="2167"/>
                          </a:lnTo>
                          <a:lnTo>
                            <a:pt x="162" y="2171"/>
                          </a:lnTo>
                          <a:lnTo>
                            <a:pt x="166" y="2171"/>
                          </a:lnTo>
                          <a:lnTo>
                            <a:pt x="167" y="2173"/>
                          </a:lnTo>
                          <a:lnTo>
                            <a:pt x="171" y="2173"/>
                          </a:lnTo>
                          <a:lnTo>
                            <a:pt x="175" y="2175"/>
                          </a:lnTo>
                          <a:lnTo>
                            <a:pt x="181" y="2175"/>
                          </a:lnTo>
                          <a:lnTo>
                            <a:pt x="185" y="2175"/>
                          </a:lnTo>
                          <a:lnTo>
                            <a:pt x="188" y="2177"/>
                          </a:lnTo>
                          <a:lnTo>
                            <a:pt x="194" y="2180"/>
                          </a:lnTo>
                          <a:lnTo>
                            <a:pt x="198" y="2180"/>
                          </a:lnTo>
                          <a:lnTo>
                            <a:pt x="204" y="2182"/>
                          </a:lnTo>
                          <a:lnTo>
                            <a:pt x="209" y="2182"/>
                          </a:lnTo>
                          <a:lnTo>
                            <a:pt x="215" y="2184"/>
                          </a:lnTo>
                          <a:lnTo>
                            <a:pt x="219" y="2186"/>
                          </a:lnTo>
                          <a:lnTo>
                            <a:pt x="224" y="2188"/>
                          </a:lnTo>
                          <a:lnTo>
                            <a:pt x="232" y="2188"/>
                          </a:lnTo>
                          <a:lnTo>
                            <a:pt x="238" y="2190"/>
                          </a:lnTo>
                          <a:lnTo>
                            <a:pt x="243" y="2190"/>
                          </a:lnTo>
                          <a:lnTo>
                            <a:pt x="251" y="2192"/>
                          </a:lnTo>
                          <a:lnTo>
                            <a:pt x="257" y="2194"/>
                          </a:lnTo>
                          <a:lnTo>
                            <a:pt x="264" y="2194"/>
                          </a:lnTo>
                          <a:lnTo>
                            <a:pt x="270" y="2196"/>
                          </a:lnTo>
                          <a:lnTo>
                            <a:pt x="276" y="2196"/>
                          </a:lnTo>
                          <a:lnTo>
                            <a:pt x="283" y="2197"/>
                          </a:lnTo>
                          <a:lnTo>
                            <a:pt x="291" y="2199"/>
                          </a:lnTo>
                          <a:lnTo>
                            <a:pt x="297" y="2199"/>
                          </a:lnTo>
                          <a:lnTo>
                            <a:pt x="304" y="2199"/>
                          </a:lnTo>
                          <a:lnTo>
                            <a:pt x="312" y="2199"/>
                          </a:lnTo>
                          <a:lnTo>
                            <a:pt x="320" y="2201"/>
                          </a:lnTo>
                          <a:lnTo>
                            <a:pt x="325" y="2201"/>
                          </a:lnTo>
                          <a:lnTo>
                            <a:pt x="333" y="2201"/>
                          </a:lnTo>
                          <a:lnTo>
                            <a:pt x="341" y="2201"/>
                          </a:lnTo>
                          <a:lnTo>
                            <a:pt x="348" y="2201"/>
                          </a:lnTo>
                          <a:lnTo>
                            <a:pt x="356" y="2201"/>
                          </a:lnTo>
                          <a:lnTo>
                            <a:pt x="363" y="2201"/>
                          </a:lnTo>
                          <a:lnTo>
                            <a:pt x="371" y="2201"/>
                          </a:lnTo>
                          <a:lnTo>
                            <a:pt x="379" y="2201"/>
                          </a:lnTo>
                          <a:lnTo>
                            <a:pt x="386" y="2201"/>
                          </a:lnTo>
                          <a:lnTo>
                            <a:pt x="394" y="2201"/>
                          </a:lnTo>
                          <a:lnTo>
                            <a:pt x="401" y="2199"/>
                          </a:lnTo>
                          <a:lnTo>
                            <a:pt x="409" y="2199"/>
                          </a:lnTo>
                          <a:lnTo>
                            <a:pt x="415" y="2197"/>
                          </a:lnTo>
                          <a:lnTo>
                            <a:pt x="422" y="2196"/>
                          </a:lnTo>
                          <a:lnTo>
                            <a:pt x="432" y="2196"/>
                          </a:lnTo>
                          <a:lnTo>
                            <a:pt x="439" y="2194"/>
                          </a:lnTo>
                          <a:lnTo>
                            <a:pt x="447" y="2192"/>
                          </a:lnTo>
                          <a:lnTo>
                            <a:pt x="455" y="2190"/>
                          </a:lnTo>
                          <a:lnTo>
                            <a:pt x="462" y="2188"/>
                          </a:lnTo>
                          <a:lnTo>
                            <a:pt x="470" y="2188"/>
                          </a:lnTo>
                          <a:lnTo>
                            <a:pt x="476" y="2184"/>
                          </a:lnTo>
                          <a:lnTo>
                            <a:pt x="483" y="2182"/>
                          </a:lnTo>
                          <a:lnTo>
                            <a:pt x="491" y="2180"/>
                          </a:lnTo>
                          <a:lnTo>
                            <a:pt x="498" y="2175"/>
                          </a:lnTo>
                          <a:lnTo>
                            <a:pt x="504" y="2173"/>
                          </a:lnTo>
                          <a:lnTo>
                            <a:pt x="512" y="2169"/>
                          </a:lnTo>
                          <a:lnTo>
                            <a:pt x="517" y="2165"/>
                          </a:lnTo>
                          <a:lnTo>
                            <a:pt x="525" y="2161"/>
                          </a:lnTo>
                          <a:lnTo>
                            <a:pt x="531" y="2158"/>
                          </a:lnTo>
                          <a:lnTo>
                            <a:pt x="536" y="2154"/>
                          </a:lnTo>
                          <a:lnTo>
                            <a:pt x="542" y="2150"/>
                          </a:lnTo>
                          <a:lnTo>
                            <a:pt x="550" y="2146"/>
                          </a:lnTo>
                          <a:lnTo>
                            <a:pt x="555" y="2142"/>
                          </a:lnTo>
                          <a:lnTo>
                            <a:pt x="559" y="2137"/>
                          </a:lnTo>
                          <a:lnTo>
                            <a:pt x="565" y="2133"/>
                          </a:lnTo>
                          <a:lnTo>
                            <a:pt x="571" y="2129"/>
                          </a:lnTo>
                          <a:lnTo>
                            <a:pt x="576" y="2123"/>
                          </a:lnTo>
                          <a:lnTo>
                            <a:pt x="582" y="2120"/>
                          </a:lnTo>
                          <a:lnTo>
                            <a:pt x="588" y="2114"/>
                          </a:lnTo>
                          <a:lnTo>
                            <a:pt x="592" y="2110"/>
                          </a:lnTo>
                          <a:lnTo>
                            <a:pt x="595" y="2106"/>
                          </a:lnTo>
                          <a:lnTo>
                            <a:pt x="601" y="2101"/>
                          </a:lnTo>
                          <a:lnTo>
                            <a:pt x="605" y="2095"/>
                          </a:lnTo>
                          <a:lnTo>
                            <a:pt x="611" y="2091"/>
                          </a:lnTo>
                          <a:lnTo>
                            <a:pt x="614" y="2085"/>
                          </a:lnTo>
                          <a:lnTo>
                            <a:pt x="618" y="2080"/>
                          </a:lnTo>
                          <a:lnTo>
                            <a:pt x="624" y="2076"/>
                          </a:lnTo>
                          <a:lnTo>
                            <a:pt x="628" y="2070"/>
                          </a:lnTo>
                          <a:lnTo>
                            <a:pt x="632" y="2064"/>
                          </a:lnTo>
                          <a:lnTo>
                            <a:pt x="635" y="2059"/>
                          </a:lnTo>
                          <a:lnTo>
                            <a:pt x="637" y="2055"/>
                          </a:lnTo>
                          <a:lnTo>
                            <a:pt x="643" y="2049"/>
                          </a:lnTo>
                          <a:lnTo>
                            <a:pt x="645" y="2043"/>
                          </a:lnTo>
                          <a:lnTo>
                            <a:pt x="649" y="2040"/>
                          </a:lnTo>
                          <a:lnTo>
                            <a:pt x="652" y="2034"/>
                          </a:lnTo>
                          <a:lnTo>
                            <a:pt x="654" y="2030"/>
                          </a:lnTo>
                          <a:lnTo>
                            <a:pt x="658" y="2024"/>
                          </a:lnTo>
                          <a:lnTo>
                            <a:pt x="660" y="2021"/>
                          </a:lnTo>
                          <a:lnTo>
                            <a:pt x="664" y="2015"/>
                          </a:lnTo>
                          <a:lnTo>
                            <a:pt x="666" y="2011"/>
                          </a:lnTo>
                          <a:lnTo>
                            <a:pt x="668" y="2005"/>
                          </a:lnTo>
                          <a:lnTo>
                            <a:pt x="672" y="2002"/>
                          </a:lnTo>
                          <a:lnTo>
                            <a:pt x="673" y="1998"/>
                          </a:lnTo>
                          <a:lnTo>
                            <a:pt x="675" y="1992"/>
                          </a:lnTo>
                          <a:lnTo>
                            <a:pt x="677" y="1986"/>
                          </a:lnTo>
                          <a:lnTo>
                            <a:pt x="679" y="1983"/>
                          </a:lnTo>
                          <a:lnTo>
                            <a:pt x="681" y="1979"/>
                          </a:lnTo>
                          <a:lnTo>
                            <a:pt x="683" y="1975"/>
                          </a:lnTo>
                          <a:lnTo>
                            <a:pt x="685" y="1971"/>
                          </a:lnTo>
                          <a:lnTo>
                            <a:pt x="687" y="1969"/>
                          </a:lnTo>
                          <a:lnTo>
                            <a:pt x="689" y="1964"/>
                          </a:lnTo>
                          <a:lnTo>
                            <a:pt x="691" y="1962"/>
                          </a:lnTo>
                          <a:lnTo>
                            <a:pt x="692" y="1958"/>
                          </a:lnTo>
                          <a:lnTo>
                            <a:pt x="692" y="1954"/>
                          </a:lnTo>
                          <a:lnTo>
                            <a:pt x="692" y="1952"/>
                          </a:lnTo>
                          <a:lnTo>
                            <a:pt x="694" y="1950"/>
                          </a:lnTo>
                          <a:lnTo>
                            <a:pt x="696" y="1945"/>
                          </a:lnTo>
                          <a:lnTo>
                            <a:pt x="698" y="1941"/>
                          </a:lnTo>
                          <a:lnTo>
                            <a:pt x="700" y="1937"/>
                          </a:lnTo>
                          <a:lnTo>
                            <a:pt x="700" y="1935"/>
                          </a:lnTo>
                          <a:lnTo>
                            <a:pt x="700" y="1933"/>
                          </a:lnTo>
                          <a:lnTo>
                            <a:pt x="702" y="1933"/>
                          </a:lnTo>
                          <a:lnTo>
                            <a:pt x="740" y="1943"/>
                          </a:lnTo>
                          <a:lnTo>
                            <a:pt x="740" y="1943"/>
                          </a:lnTo>
                          <a:lnTo>
                            <a:pt x="738" y="1945"/>
                          </a:lnTo>
                          <a:lnTo>
                            <a:pt x="738" y="1947"/>
                          </a:lnTo>
                          <a:lnTo>
                            <a:pt x="738" y="1950"/>
                          </a:lnTo>
                          <a:lnTo>
                            <a:pt x="738" y="1954"/>
                          </a:lnTo>
                          <a:lnTo>
                            <a:pt x="738" y="1958"/>
                          </a:lnTo>
                          <a:lnTo>
                            <a:pt x="736" y="1962"/>
                          </a:lnTo>
                          <a:lnTo>
                            <a:pt x="736" y="1964"/>
                          </a:lnTo>
                          <a:lnTo>
                            <a:pt x="736" y="1967"/>
                          </a:lnTo>
                          <a:lnTo>
                            <a:pt x="736" y="1971"/>
                          </a:lnTo>
                          <a:lnTo>
                            <a:pt x="736" y="1975"/>
                          </a:lnTo>
                          <a:lnTo>
                            <a:pt x="736" y="1979"/>
                          </a:lnTo>
                          <a:lnTo>
                            <a:pt x="736" y="1983"/>
                          </a:lnTo>
                          <a:lnTo>
                            <a:pt x="736" y="1985"/>
                          </a:lnTo>
                          <a:lnTo>
                            <a:pt x="736" y="1990"/>
                          </a:lnTo>
                          <a:lnTo>
                            <a:pt x="736" y="1994"/>
                          </a:lnTo>
                          <a:lnTo>
                            <a:pt x="736" y="1998"/>
                          </a:lnTo>
                          <a:lnTo>
                            <a:pt x="736" y="2004"/>
                          </a:lnTo>
                          <a:lnTo>
                            <a:pt x="736" y="2007"/>
                          </a:lnTo>
                          <a:lnTo>
                            <a:pt x="736" y="2013"/>
                          </a:lnTo>
                          <a:lnTo>
                            <a:pt x="736" y="2015"/>
                          </a:lnTo>
                          <a:lnTo>
                            <a:pt x="736" y="2021"/>
                          </a:lnTo>
                          <a:lnTo>
                            <a:pt x="736" y="2026"/>
                          </a:lnTo>
                          <a:lnTo>
                            <a:pt x="736" y="2030"/>
                          </a:lnTo>
                          <a:lnTo>
                            <a:pt x="736" y="2036"/>
                          </a:lnTo>
                          <a:lnTo>
                            <a:pt x="736" y="2042"/>
                          </a:lnTo>
                          <a:lnTo>
                            <a:pt x="736" y="2047"/>
                          </a:lnTo>
                          <a:lnTo>
                            <a:pt x="738" y="2051"/>
                          </a:lnTo>
                          <a:lnTo>
                            <a:pt x="738" y="2057"/>
                          </a:lnTo>
                          <a:lnTo>
                            <a:pt x="738" y="2062"/>
                          </a:lnTo>
                          <a:lnTo>
                            <a:pt x="740" y="2066"/>
                          </a:lnTo>
                          <a:lnTo>
                            <a:pt x="740" y="2072"/>
                          </a:lnTo>
                          <a:lnTo>
                            <a:pt x="742" y="2078"/>
                          </a:lnTo>
                          <a:lnTo>
                            <a:pt x="744" y="2083"/>
                          </a:lnTo>
                          <a:lnTo>
                            <a:pt x="744" y="2091"/>
                          </a:lnTo>
                          <a:lnTo>
                            <a:pt x="746" y="2095"/>
                          </a:lnTo>
                          <a:lnTo>
                            <a:pt x="748" y="2101"/>
                          </a:lnTo>
                          <a:lnTo>
                            <a:pt x="748" y="2106"/>
                          </a:lnTo>
                          <a:lnTo>
                            <a:pt x="751" y="2110"/>
                          </a:lnTo>
                          <a:lnTo>
                            <a:pt x="753" y="2118"/>
                          </a:lnTo>
                          <a:lnTo>
                            <a:pt x="753" y="2123"/>
                          </a:lnTo>
                          <a:lnTo>
                            <a:pt x="757" y="2129"/>
                          </a:lnTo>
                          <a:lnTo>
                            <a:pt x="759" y="2135"/>
                          </a:lnTo>
                          <a:lnTo>
                            <a:pt x="761" y="2139"/>
                          </a:lnTo>
                          <a:lnTo>
                            <a:pt x="765" y="2144"/>
                          </a:lnTo>
                          <a:lnTo>
                            <a:pt x="767" y="2150"/>
                          </a:lnTo>
                          <a:lnTo>
                            <a:pt x="769" y="2156"/>
                          </a:lnTo>
                          <a:lnTo>
                            <a:pt x="772" y="2159"/>
                          </a:lnTo>
                          <a:lnTo>
                            <a:pt x="776" y="2165"/>
                          </a:lnTo>
                          <a:lnTo>
                            <a:pt x="780" y="2171"/>
                          </a:lnTo>
                          <a:lnTo>
                            <a:pt x="782" y="2175"/>
                          </a:lnTo>
                          <a:lnTo>
                            <a:pt x="786" y="2180"/>
                          </a:lnTo>
                          <a:lnTo>
                            <a:pt x="789" y="2186"/>
                          </a:lnTo>
                          <a:lnTo>
                            <a:pt x="795" y="2190"/>
                          </a:lnTo>
                          <a:lnTo>
                            <a:pt x="799" y="2196"/>
                          </a:lnTo>
                          <a:lnTo>
                            <a:pt x="805" y="2201"/>
                          </a:lnTo>
                          <a:lnTo>
                            <a:pt x="808" y="2205"/>
                          </a:lnTo>
                          <a:lnTo>
                            <a:pt x="814" y="2209"/>
                          </a:lnTo>
                          <a:lnTo>
                            <a:pt x="818" y="2213"/>
                          </a:lnTo>
                          <a:lnTo>
                            <a:pt x="824" y="2216"/>
                          </a:lnTo>
                          <a:lnTo>
                            <a:pt x="828" y="2222"/>
                          </a:lnTo>
                          <a:lnTo>
                            <a:pt x="833" y="2224"/>
                          </a:lnTo>
                          <a:lnTo>
                            <a:pt x="839" y="2228"/>
                          </a:lnTo>
                          <a:lnTo>
                            <a:pt x="845" y="2232"/>
                          </a:lnTo>
                          <a:lnTo>
                            <a:pt x="848" y="2235"/>
                          </a:lnTo>
                          <a:lnTo>
                            <a:pt x="854" y="2239"/>
                          </a:lnTo>
                          <a:lnTo>
                            <a:pt x="858" y="2243"/>
                          </a:lnTo>
                          <a:lnTo>
                            <a:pt x="864" y="2245"/>
                          </a:lnTo>
                          <a:lnTo>
                            <a:pt x="867" y="2249"/>
                          </a:lnTo>
                          <a:lnTo>
                            <a:pt x="873" y="2253"/>
                          </a:lnTo>
                          <a:lnTo>
                            <a:pt x="877" y="2256"/>
                          </a:lnTo>
                          <a:lnTo>
                            <a:pt x="883" y="2258"/>
                          </a:lnTo>
                          <a:lnTo>
                            <a:pt x="890" y="2260"/>
                          </a:lnTo>
                          <a:lnTo>
                            <a:pt x="896" y="2264"/>
                          </a:lnTo>
                          <a:lnTo>
                            <a:pt x="900" y="2266"/>
                          </a:lnTo>
                          <a:lnTo>
                            <a:pt x="904" y="2268"/>
                          </a:lnTo>
                          <a:lnTo>
                            <a:pt x="907" y="2270"/>
                          </a:lnTo>
                          <a:lnTo>
                            <a:pt x="913" y="2273"/>
                          </a:lnTo>
                          <a:lnTo>
                            <a:pt x="919" y="2275"/>
                          </a:lnTo>
                          <a:lnTo>
                            <a:pt x="925" y="2277"/>
                          </a:lnTo>
                          <a:lnTo>
                            <a:pt x="928" y="2279"/>
                          </a:lnTo>
                          <a:lnTo>
                            <a:pt x="934" y="2281"/>
                          </a:lnTo>
                          <a:lnTo>
                            <a:pt x="938" y="2283"/>
                          </a:lnTo>
                          <a:lnTo>
                            <a:pt x="942" y="2285"/>
                          </a:lnTo>
                          <a:lnTo>
                            <a:pt x="947" y="2287"/>
                          </a:lnTo>
                          <a:lnTo>
                            <a:pt x="951" y="2289"/>
                          </a:lnTo>
                          <a:lnTo>
                            <a:pt x="955" y="2289"/>
                          </a:lnTo>
                          <a:lnTo>
                            <a:pt x="961" y="2291"/>
                          </a:lnTo>
                          <a:lnTo>
                            <a:pt x="964" y="2291"/>
                          </a:lnTo>
                          <a:lnTo>
                            <a:pt x="968" y="2294"/>
                          </a:lnTo>
                          <a:lnTo>
                            <a:pt x="972" y="2294"/>
                          </a:lnTo>
                          <a:lnTo>
                            <a:pt x="978" y="2294"/>
                          </a:lnTo>
                          <a:lnTo>
                            <a:pt x="982" y="2296"/>
                          </a:lnTo>
                          <a:lnTo>
                            <a:pt x="985" y="2296"/>
                          </a:lnTo>
                          <a:lnTo>
                            <a:pt x="989" y="2296"/>
                          </a:lnTo>
                          <a:lnTo>
                            <a:pt x="993" y="2298"/>
                          </a:lnTo>
                          <a:lnTo>
                            <a:pt x="997" y="2298"/>
                          </a:lnTo>
                          <a:lnTo>
                            <a:pt x="1001" y="2298"/>
                          </a:lnTo>
                          <a:lnTo>
                            <a:pt x="1004" y="2298"/>
                          </a:lnTo>
                          <a:lnTo>
                            <a:pt x="1008" y="2300"/>
                          </a:lnTo>
                          <a:lnTo>
                            <a:pt x="1010" y="2300"/>
                          </a:lnTo>
                          <a:lnTo>
                            <a:pt x="1014" y="2300"/>
                          </a:lnTo>
                          <a:lnTo>
                            <a:pt x="1016" y="2300"/>
                          </a:lnTo>
                          <a:lnTo>
                            <a:pt x="1020" y="2300"/>
                          </a:lnTo>
                          <a:lnTo>
                            <a:pt x="1022" y="2300"/>
                          </a:lnTo>
                          <a:lnTo>
                            <a:pt x="1025" y="2302"/>
                          </a:lnTo>
                          <a:lnTo>
                            <a:pt x="1029" y="2300"/>
                          </a:lnTo>
                          <a:lnTo>
                            <a:pt x="1035" y="2300"/>
                          </a:lnTo>
                          <a:lnTo>
                            <a:pt x="1039" y="2298"/>
                          </a:lnTo>
                          <a:lnTo>
                            <a:pt x="1042" y="2298"/>
                          </a:lnTo>
                          <a:lnTo>
                            <a:pt x="1044" y="2296"/>
                          </a:lnTo>
                          <a:lnTo>
                            <a:pt x="1048" y="2296"/>
                          </a:lnTo>
                          <a:lnTo>
                            <a:pt x="1048" y="2294"/>
                          </a:lnTo>
                          <a:lnTo>
                            <a:pt x="1050" y="2294"/>
                          </a:lnTo>
                          <a:lnTo>
                            <a:pt x="1246" y="1334"/>
                          </a:lnTo>
                          <a:lnTo>
                            <a:pt x="1246" y="1333"/>
                          </a:lnTo>
                          <a:lnTo>
                            <a:pt x="1248" y="1331"/>
                          </a:lnTo>
                          <a:lnTo>
                            <a:pt x="1250" y="1327"/>
                          </a:lnTo>
                          <a:lnTo>
                            <a:pt x="1252" y="1325"/>
                          </a:lnTo>
                          <a:lnTo>
                            <a:pt x="1252" y="1323"/>
                          </a:lnTo>
                          <a:lnTo>
                            <a:pt x="1254" y="1319"/>
                          </a:lnTo>
                          <a:lnTo>
                            <a:pt x="1256" y="1315"/>
                          </a:lnTo>
                          <a:lnTo>
                            <a:pt x="1259" y="1312"/>
                          </a:lnTo>
                          <a:lnTo>
                            <a:pt x="1259" y="1306"/>
                          </a:lnTo>
                          <a:lnTo>
                            <a:pt x="1263" y="1302"/>
                          </a:lnTo>
                          <a:lnTo>
                            <a:pt x="1265" y="1296"/>
                          </a:lnTo>
                          <a:lnTo>
                            <a:pt x="1269" y="1293"/>
                          </a:lnTo>
                          <a:lnTo>
                            <a:pt x="1271" y="1285"/>
                          </a:lnTo>
                          <a:lnTo>
                            <a:pt x="1275" y="1281"/>
                          </a:lnTo>
                          <a:lnTo>
                            <a:pt x="1276" y="1274"/>
                          </a:lnTo>
                          <a:lnTo>
                            <a:pt x="1280" y="1266"/>
                          </a:lnTo>
                          <a:lnTo>
                            <a:pt x="1284" y="1258"/>
                          </a:lnTo>
                          <a:lnTo>
                            <a:pt x="1288" y="1249"/>
                          </a:lnTo>
                          <a:lnTo>
                            <a:pt x="1290" y="1241"/>
                          </a:lnTo>
                          <a:lnTo>
                            <a:pt x="1294" y="1234"/>
                          </a:lnTo>
                          <a:lnTo>
                            <a:pt x="1297" y="1224"/>
                          </a:lnTo>
                          <a:lnTo>
                            <a:pt x="1301" y="1217"/>
                          </a:lnTo>
                          <a:lnTo>
                            <a:pt x="1305" y="1207"/>
                          </a:lnTo>
                          <a:lnTo>
                            <a:pt x="1309" y="1198"/>
                          </a:lnTo>
                          <a:lnTo>
                            <a:pt x="1313" y="1188"/>
                          </a:lnTo>
                          <a:lnTo>
                            <a:pt x="1316" y="1177"/>
                          </a:lnTo>
                          <a:lnTo>
                            <a:pt x="1320" y="1165"/>
                          </a:lnTo>
                          <a:lnTo>
                            <a:pt x="1324" y="1154"/>
                          </a:lnTo>
                          <a:lnTo>
                            <a:pt x="1330" y="1144"/>
                          </a:lnTo>
                          <a:lnTo>
                            <a:pt x="1334" y="1133"/>
                          </a:lnTo>
                          <a:lnTo>
                            <a:pt x="1337" y="1122"/>
                          </a:lnTo>
                          <a:lnTo>
                            <a:pt x="1339" y="1108"/>
                          </a:lnTo>
                          <a:lnTo>
                            <a:pt x="1345" y="1097"/>
                          </a:lnTo>
                          <a:lnTo>
                            <a:pt x="1349" y="1084"/>
                          </a:lnTo>
                          <a:lnTo>
                            <a:pt x="1353" y="1070"/>
                          </a:lnTo>
                          <a:lnTo>
                            <a:pt x="1354" y="1059"/>
                          </a:lnTo>
                          <a:lnTo>
                            <a:pt x="1358" y="1044"/>
                          </a:lnTo>
                          <a:lnTo>
                            <a:pt x="1362" y="1032"/>
                          </a:lnTo>
                          <a:lnTo>
                            <a:pt x="1366" y="1017"/>
                          </a:lnTo>
                          <a:lnTo>
                            <a:pt x="1370" y="1004"/>
                          </a:lnTo>
                          <a:lnTo>
                            <a:pt x="1372" y="988"/>
                          </a:lnTo>
                          <a:lnTo>
                            <a:pt x="1375" y="975"/>
                          </a:lnTo>
                          <a:lnTo>
                            <a:pt x="1377" y="960"/>
                          </a:lnTo>
                          <a:lnTo>
                            <a:pt x="1381" y="947"/>
                          </a:lnTo>
                          <a:lnTo>
                            <a:pt x="1383" y="931"/>
                          </a:lnTo>
                          <a:lnTo>
                            <a:pt x="1387" y="916"/>
                          </a:lnTo>
                          <a:lnTo>
                            <a:pt x="1389" y="901"/>
                          </a:lnTo>
                          <a:lnTo>
                            <a:pt x="1391" y="886"/>
                          </a:lnTo>
                          <a:lnTo>
                            <a:pt x="1392" y="871"/>
                          </a:lnTo>
                          <a:lnTo>
                            <a:pt x="1394" y="855"/>
                          </a:lnTo>
                          <a:lnTo>
                            <a:pt x="1396" y="838"/>
                          </a:lnTo>
                          <a:lnTo>
                            <a:pt x="1398" y="823"/>
                          </a:lnTo>
                          <a:lnTo>
                            <a:pt x="1398" y="806"/>
                          </a:lnTo>
                          <a:lnTo>
                            <a:pt x="1400" y="791"/>
                          </a:lnTo>
                          <a:lnTo>
                            <a:pt x="1402" y="774"/>
                          </a:lnTo>
                          <a:lnTo>
                            <a:pt x="1402" y="757"/>
                          </a:lnTo>
                          <a:lnTo>
                            <a:pt x="1402" y="741"/>
                          </a:lnTo>
                          <a:lnTo>
                            <a:pt x="1402" y="724"/>
                          </a:lnTo>
                          <a:lnTo>
                            <a:pt x="1402" y="705"/>
                          </a:lnTo>
                          <a:lnTo>
                            <a:pt x="1402" y="690"/>
                          </a:lnTo>
                          <a:lnTo>
                            <a:pt x="1400" y="673"/>
                          </a:lnTo>
                          <a:lnTo>
                            <a:pt x="1400" y="656"/>
                          </a:lnTo>
                          <a:lnTo>
                            <a:pt x="1398" y="654"/>
                          </a:lnTo>
                          <a:lnTo>
                            <a:pt x="1398" y="652"/>
                          </a:lnTo>
                          <a:lnTo>
                            <a:pt x="1398" y="648"/>
                          </a:lnTo>
                          <a:lnTo>
                            <a:pt x="1398" y="644"/>
                          </a:lnTo>
                          <a:lnTo>
                            <a:pt x="1398" y="643"/>
                          </a:lnTo>
                          <a:lnTo>
                            <a:pt x="1398" y="639"/>
                          </a:lnTo>
                          <a:lnTo>
                            <a:pt x="1396" y="637"/>
                          </a:lnTo>
                          <a:lnTo>
                            <a:pt x="1396" y="633"/>
                          </a:lnTo>
                          <a:lnTo>
                            <a:pt x="1396" y="631"/>
                          </a:lnTo>
                          <a:lnTo>
                            <a:pt x="1396" y="627"/>
                          </a:lnTo>
                          <a:lnTo>
                            <a:pt x="1396" y="623"/>
                          </a:lnTo>
                          <a:lnTo>
                            <a:pt x="1394" y="620"/>
                          </a:lnTo>
                          <a:lnTo>
                            <a:pt x="1394" y="618"/>
                          </a:lnTo>
                          <a:lnTo>
                            <a:pt x="1394" y="616"/>
                          </a:lnTo>
                          <a:lnTo>
                            <a:pt x="1392" y="612"/>
                          </a:lnTo>
                          <a:lnTo>
                            <a:pt x="1392" y="610"/>
                          </a:lnTo>
                          <a:lnTo>
                            <a:pt x="1392" y="608"/>
                          </a:lnTo>
                          <a:lnTo>
                            <a:pt x="1391" y="604"/>
                          </a:lnTo>
                          <a:lnTo>
                            <a:pt x="1391" y="603"/>
                          </a:lnTo>
                          <a:lnTo>
                            <a:pt x="1391" y="599"/>
                          </a:lnTo>
                          <a:lnTo>
                            <a:pt x="1389" y="597"/>
                          </a:lnTo>
                          <a:lnTo>
                            <a:pt x="1389" y="593"/>
                          </a:lnTo>
                          <a:lnTo>
                            <a:pt x="1389" y="589"/>
                          </a:lnTo>
                          <a:lnTo>
                            <a:pt x="1389" y="587"/>
                          </a:lnTo>
                          <a:lnTo>
                            <a:pt x="1387" y="585"/>
                          </a:lnTo>
                          <a:lnTo>
                            <a:pt x="1385" y="582"/>
                          </a:lnTo>
                          <a:lnTo>
                            <a:pt x="1385" y="580"/>
                          </a:lnTo>
                          <a:lnTo>
                            <a:pt x="1383" y="578"/>
                          </a:lnTo>
                          <a:lnTo>
                            <a:pt x="1383" y="572"/>
                          </a:lnTo>
                          <a:lnTo>
                            <a:pt x="1381" y="568"/>
                          </a:lnTo>
                          <a:lnTo>
                            <a:pt x="1377" y="563"/>
                          </a:lnTo>
                          <a:lnTo>
                            <a:pt x="1375" y="557"/>
                          </a:lnTo>
                          <a:lnTo>
                            <a:pt x="1373" y="553"/>
                          </a:lnTo>
                          <a:lnTo>
                            <a:pt x="1370" y="547"/>
                          </a:lnTo>
                          <a:lnTo>
                            <a:pt x="1366" y="544"/>
                          </a:lnTo>
                          <a:lnTo>
                            <a:pt x="1364" y="540"/>
                          </a:lnTo>
                          <a:lnTo>
                            <a:pt x="1360" y="536"/>
                          </a:lnTo>
                          <a:lnTo>
                            <a:pt x="1356" y="532"/>
                          </a:lnTo>
                          <a:lnTo>
                            <a:pt x="1353" y="528"/>
                          </a:lnTo>
                          <a:lnTo>
                            <a:pt x="1349" y="525"/>
                          </a:lnTo>
                          <a:lnTo>
                            <a:pt x="1345" y="523"/>
                          </a:lnTo>
                          <a:lnTo>
                            <a:pt x="1339" y="521"/>
                          </a:lnTo>
                          <a:lnTo>
                            <a:pt x="1335" y="517"/>
                          </a:lnTo>
                          <a:lnTo>
                            <a:pt x="1332" y="515"/>
                          </a:lnTo>
                          <a:lnTo>
                            <a:pt x="1326" y="515"/>
                          </a:lnTo>
                          <a:lnTo>
                            <a:pt x="1322" y="513"/>
                          </a:lnTo>
                          <a:lnTo>
                            <a:pt x="1318" y="511"/>
                          </a:lnTo>
                          <a:lnTo>
                            <a:pt x="1316" y="511"/>
                          </a:lnTo>
                          <a:lnTo>
                            <a:pt x="1313" y="511"/>
                          </a:lnTo>
                          <a:lnTo>
                            <a:pt x="1311" y="511"/>
                          </a:lnTo>
                          <a:lnTo>
                            <a:pt x="1309" y="509"/>
                          </a:lnTo>
                          <a:lnTo>
                            <a:pt x="1305" y="509"/>
                          </a:lnTo>
                          <a:lnTo>
                            <a:pt x="1303" y="509"/>
                          </a:lnTo>
                          <a:lnTo>
                            <a:pt x="1301" y="509"/>
                          </a:lnTo>
                          <a:lnTo>
                            <a:pt x="1297" y="509"/>
                          </a:lnTo>
                          <a:lnTo>
                            <a:pt x="1295" y="509"/>
                          </a:lnTo>
                          <a:lnTo>
                            <a:pt x="1292" y="509"/>
                          </a:lnTo>
                          <a:lnTo>
                            <a:pt x="1290" y="509"/>
                          </a:lnTo>
                          <a:lnTo>
                            <a:pt x="1284" y="509"/>
                          </a:lnTo>
                          <a:lnTo>
                            <a:pt x="1280" y="509"/>
                          </a:lnTo>
                          <a:lnTo>
                            <a:pt x="1275" y="509"/>
                          </a:lnTo>
                          <a:lnTo>
                            <a:pt x="1269" y="509"/>
                          </a:lnTo>
                          <a:lnTo>
                            <a:pt x="1265" y="509"/>
                          </a:lnTo>
                          <a:lnTo>
                            <a:pt x="1259" y="509"/>
                          </a:lnTo>
                          <a:lnTo>
                            <a:pt x="1256" y="511"/>
                          </a:lnTo>
                          <a:lnTo>
                            <a:pt x="1252" y="511"/>
                          </a:lnTo>
                          <a:lnTo>
                            <a:pt x="1246" y="515"/>
                          </a:lnTo>
                          <a:lnTo>
                            <a:pt x="1242" y="515"/>
                          </a:lnTo>
                          <a:lnTo>
                            <a:pt x="1238" y="517"/>
                          </a:lnTo>
                          <a:lnTo>
                            <a:pt x="1235" y="521"/>
                          </a:lnTo>
                          <a:lnTo>
                            <a:pt x="1231" y="523"/>
                          </a:lnTo>
                          <a:lnTo>
                            <a:pt x="1229" y="525"/>
                          </a:lnTo>
                          <a:lnTo>
                            <a:pt x="1225" y="527"/>
                          </a:lnTo>
                          <a:lnTo>
                            <a:pt x="1221" y="530"/>
                          </a:lnTo>
                          <a:lnTo>
                            <a:pt x="1219" y="532"/>
                          </a:lnTo>
                          <a:lnTo>
                            <a:pt x="1216" y="538"/>
                          </a:lnTo>
                          <a:lnTo>
                            <a:pt x="1214" y="542"/>
                          </a:lnTo>
                          <a:lnTo>
                            <a:pt x="1212" y="546"/>
                          </a:lnTo>
                          <a:lnTo>
                            <a:pt x="1210" y="549"/>
                          </a:lnTo>
                          <a:lnTo>
                            <a:pt x="1208" y="555"/>
                          </a:lnTo>
                          <a:lnTo>
                            <a:pt x="1208" y="557"/>
                          </a:lnTo>
                          <a:lnTo>
                            <a:pt x="1206" y="559"/>
                          </a:lnTo>
                          <a:lnTo>
                            <a:pt x="1204" y="561"/>
                          </a:lnTo>
                          <a:lnTo>
                            <a:pt x="1204" y="565"/>
                          </a:lnTo>
                          <a:lnTo>
                            <a:pt x="1204" y="566"/>
                          </a:lnTo>
                          <a:lnTo>
                            <a:pt x="1204" y="570"/>
                          </a:lnTo>
                          <a:lnTo>
                            <a:pt x="1204" y="572"/>
                          </a:lnTo>
                          <a:lnTo>
                            <a:pt x="1204" y="576"/>
                          </a:lnTo>
                          <a:lnTo>
                            <a:pt x="1139" y="895"/>
                          </a:lnTo>
                          <a:lnTo>
                            <a:pt x="1136" y="893"/>
                          </a:lnTo>
                          <a:lnTo>
                            <a:pt x="1132" y="892"/>
                          </a:lnTo>
                          <a:lnTo>
                            <a:pt x="1126" y="888"/>
                          </a:lnTo>
                          <a:lnTo>
                            <a:pt x="1122" y="886"/>
                          </a:lnTo>
                          <a:lnTo>
                            <a:pt x="1117" y="884"/>
                          </a:lnTo>
                          <a:lnTo>
                            <a:pt x="1113" y="880"/>
                          </a:lnTo>
                          <a:lnTo>
                            <a:pt x="1107" y="878"/>
                          </a:lnTo>
                          <a:lnTo>
                            <a:pt x="1105" y="876"/>
                          </a:lnTo>
                          <a:lnTo>
                            <a:pt x="1227" y="316"/>
                          </a:lnTo>
                          <a:lnTo>
                            <a:pt x="1227" y="312"/>
                          </a:lnTo>
                          <a:lnTo>
                            <a:pt x="1227" y="308"/>
                          </a:lnTo>
                          <a:lnTo>
                            <a:pt x="1229" y="306"/>
                          </a:lnTo>
                          <a:lnTo>
                            <a:pt x="1229" y="304"/>
                          </a:lnTo>
                          <a:lnTo>
                            <a:pt x="1229" y="300"/>
                          </a:lnTo>
                          <a:lnTo>
                            <a:pt x="1229" y="298"/>
                          </a:lnTo>
                          <a:lnTo>
                            <a:pt x="1229" y="295"/>
                          </a:lnTo>
                          <a:lnTo>
                            <a:pt x="1229" y="293"/>
                          </a:lnTo>
                          <a:lnTo>
                            <a:pt x="1229" y="291"/>
                          </a:lnTo>
                          <a:lnTo>
                            <a:pt x="1229" y="287"/>
                          </a:lnTo>
                          <a:lnTo>
                            <a:pt x="1229" y="285"/>
                          </a:lnTo>
                          <a:lnTo>
                            <a:pt x="1229" y="283"/>
                          </a:lnTo>
                          <a:lnTo>
                            <a:pt x="1229" y="278"/>
                          </a:lnTo>
                          <a:lnTo>
                            <a:pt x="1227" y="272"/>
                          </a:lnTo>
                          <a:lnTo>
                            <a:pt x="1225" y="268"/>
                          </a:lnTo>
                          <a:lnTo>
                            <a:pt x="1225" y="262"/>
                          </a:lnTo>
                          <a:lnTo>
                            <a:pt x="1223" y="257"/>
                          </a:lnTo>
                          <a:lnTo>
                            <a:pt x="1221" y="253"/>
                          </a:lnTo>
                          <a:lnTo>
                            <a:pt x="1219" y="247"/>
                          </a:lnTo>
                          <a:lnTo>
                            <a:pt x="1217" y="243"/>
                          </a:lnTo>
                          <a:lnTo>
                            <a:pt x="1216" y="240"/>
                          </a:lnTo>
                          <a:lnTo>
                            <a:pt x="1214" y="236"/>
                          </a:lnTo>
                          <a:lnTo>
                            <a:pt x="1210" y="232"/>
                          </a:lnTo>
                          <a:lnTo>
                            <a:pt x="1206" y="226"/>
                          </a:lnTo>
                          <a:lnTo>
                            <a:pt x="1202" y="222"/>
                          </a:lnTo>
                          <a:lnTo>
                            <a:pt x="1200" y="219"/>
                          </a:lnTo>
                          <a:lnTo>
                            <a:pt x="1197" y="215"/>
                          </a:lnTo>
                          <a:lnTo>
                            <a:pt x="1193" y="211"/>
                          </a:lnTo>
                          <a:lnTo>
                            <a:pt x="1189" y="207"/>
                          </a:lnTo>
                          <a:lnTo>
                            <a:pt x="1185" y="205"/>
                          </a:lnTo>
                          <a:lnTo>
                            <a:pt x="1179" y="203"/>
                          </a:lnTo>
                          <a:lnTo>
                            <a:pt x="1176" y="200"/>
                          </a:lnTo>
                          <a:lnTo>
                            <a:pt x="1172" y="198"/>
                          </a:lnTo>
                          <a:lnTo>
                            <a:pt x="1166" y="194"/>
                          </a:lnTo>
                          <a:lnTo>
                            <a:pt x="1160" y="192"/>
                          </a:lnTo>
                          <a:lnTo>
                            <a:pt x="1157" y="192"/>
                          </a:lnTo>
                          <a:lnTo>
                            <a:pt x="1151" y="190"/>
                          </a:lnTo>
                          <a:lnTo>
                            <a:pt x="1147" y="190"/>
                          </a:lnTo>
                          <a:lnTo>
                            <a:pt x="1143" y="188"/>
                          </a:lnTo>
                          <a:lnTo>
                            <a:pt x="1141" y="186"/>
                          </a:lnTo>
                          <a:lnTo>
                            <a:pt x="1138" y="186"/>
                          </a:lnTo>
                          <a:lnTo>
                            <a:pt x="1136" y="186"/>
                          </a:lnTo>
                          <a:lnTo>
                            <a:pt x="1134" y="186"/>
                          </a:lnTo>
                          <a:lnTo>
                            <a:pt x="1130" y="186"/>
                          </a:lnTo>
                          <a:lnTo>
                            <a:pt x="1128" y="186"/>
                          </a:lnTo>
                          <a:lnTo>
                            <a:pt x="1124" y="186"/>
                          </a:lnTo>
                          <a:lnTo>
                            <a:pt x="1122" y="186"/>
                          </a:lnTo>
                          <a:lnTo>
                            <a:pt x="1120" y="186"/>
                          </a:lnTo>
                          <a:lnTo>
                            <a:pt x="1117" y="186"/>
                          </a:lnTo>
                          <a:lnTo>
                            <a:pt x="1115" y="186"/>
                          </a:lnTo>
                          <a:lnTo>
                            <a:pt x="1109" y="186"/>
                          </a:lnTo>
                          <a:lnTo>
                            <a:pt x="1105" y="188"/>
                          </a:lnTo>
                          <a:lnTo>
                            <a:pt x="1100" y="188"/>
                          </a:lnTo>
                          <a:lnTo>
                            <a:pt x="1094" y="190"/>
                          </a:lnTo>
                          <a:lnTo>
                            <a:pt x="1090" y="192"/>
                          </a:lnTo>
                          <a:lnTo>
                            <a:pt x="1086" y="192"/>
                          </a:lnTo>
                          <a:lnTo>
                            <a:pt x="1081" y="194"/>
                          </a:lnTo>
                          <a:lnTo>
                            <a:pt x="1077" y="198"/>
                          </a:lnTo>
                          <a:lnTo>
                            <a:pt x="1073" y="200"/>
                          </a:lnTo>
                          <a:lnTo>
                            <a:pt x="1067" y="203"/>
                          </a:lnTo>
                          <a:lnTo>
                            <a:pt x="1063" y="205"/>
                          </a:lnTo>
                          <a:lnTo>
                            <a:pt x="1058" y="207"/>
                          </a:lnTo>
                          <a:lnTo>
                            <a:pt x="1054" y="211"/>
                          </a:lnTo>
                          <a:lnTo>
                            <a:pt x="1050" y="215"/>
                          </a:lnTo>
                          <a:lnTo>
                            <a:pt x="1048" y="219"/>
                          </a:lnTo>
                          <a:lnTo>
                            <a:pt x="1044" y="222"/>
                          </a:lnTo>
                          <a:lnTo>
                            <a:pt x="1041" y="226"/>
                          </a:lnTo>
                          <a:lnTo>
                            <a:pt x="1039" y="232"/>
                          </a:lnTo>
                          <a:lnTo>
                            <a:pt x="1035" y="234"/>
                          </a:lnTo>
                          <a:lnTo>
                            <a:pt x="1033" y="240"/>
                          </a:lnTo>
                          <a:lnTo>
                            <a:pt x="1029" y="243"/>
                          </a:lnTo>
                          <a:lnTo>
                            <a:pt x="1027" y="249"/>
                          </a:lnTo>
                          <a:lnTo>
                            <a:pt x="1025" y="253"/>
                          </a:lnTo>
                          <a:lnTo>
                            <a:pt x="1023" y="259"/>
                          </a:lnTo>
                          <a:lnTo>
                            <a:pt x="1022" y="260"/>
                          </a:lnTo>
                          <a:lnTo>
                            <a:pt x="1022" y="264"/>
                          </a:lnTo>
                          <a:lnTo>
                            <a:pt x="1022" y="266"/>
                          </a:lnTo>
                          <a:lnTo>
                            <a:pt x="1022" y="270"/>
                          </a:lnTo>
                          <a:lnTo>
                            <a:pt x="919" y="730"/>
                          </a:lnTo>
                          <a:lnTo>
                            <a:pt x="915" y="728"/>
                          </a:lnTo>
                          <a:lnTo>
                            <a:pt x="913" y="726"/>
                          </a:lnTo>
                          <a:lnTo>
                            <a:pt x="907" y="724"/>
                          </a:lnTo>
                          <a:lnTo>
                            <a:pt x="905" y="720"/>
                          </a:lnTo>
                          <a:lnTo>
                            <a:pt x="904" y="719"/>
                          </a:lnTo>
                          <a:lnTo>
                            <a:pt x="900" y="717"/>
                          </a:lnTo>
                          <a:lnTo>
                            <a:pt x="896" y="713"/>
                          </a:lnTo>
                          <a:lnTo>
                            <a:pt x="892" y="713"/>
                          </a:lnTo>
                          <a:lnTo>
                            <a:pt x="1022" y="129"/>
                          </a:lnTo>
                          <a:lnTo>
                            <a:pt x="1022" y="125"/>
                          </a:lnTo>
                          <a:lnTo>
                            <a:pt x="1022" y="124"/>
                          </a:lnTo>
                          <a:lnTo>
                            <a:pt x="1022" y="120"/>
                          </a:lnTo>
                          <a:lnTo>
                            <a:pt x="1022" y="118"/>
                          </a:lnTo>
                          <a:lnTo>
                            <a:pt x="1022" y="114"/>
                          </a:lnTo>
                          <a:lnTo>
                            <a:pt x="1022" y="112"/>
                          </a:lnTo>
                          <a:lnTo>
                            <a:pt x="1022" y="110"/>
                          </a:lnTo>
                          <a:lnTo>
                            <a:pt x="1022" y="106"/>
                          </a:lnTo>
                          <a:lnTo>
                            <a:pt x="1022" y="105"/>
                          </a:lnTo>
                          <a:lnTo>
                            <a:pt x="1022" y="103"/>
                          </a:lnTo>
                          <a:lnTo>
                            <a:pt x="1022" y="99"/>
                          </a:lnTo>
                          <a:lnTo>
                            <a:pt x="1022" y="97"/>
                          </a:lnTo>
                          <a:lnTo>
                            <a:pt x="1022" y="91"/>
                          </a:lnTo>
                          <a:lnTo>
                            <a:pt x="1022" y="86"/>
                          </a:lnTo>
                          <a:lnTo>
                            <a:pt x="1020" y="82"/>
                          </a:lnTo>
                          <a:lnTo>
                            <a:pt x="1018" y="76"/>
                          </a:lnTo>
                          <a:lnTo>
                            <a:pt x="1016" y="70"/>
                          </a:lnTo>
                          <a:lnTo>
                            <a:pt x="1014" y="67"/>
                          </a:lnTo>
                          <a:lnTo>
                            <a:pt x="1012" y="61"/>
                          </a:lnTo>
                          <a:lnTo>
                            <a:pt x="1010" y="57"/>
                          </a:lnTo>
                          <a:lnTo>
                            <a:pt x="1008" y="53"/>
                          </a:lnTo>
                          <a:lnTo>
                            <a:pt x="1006" y="48"/>
                          </a:lnTo>
                          <a:lnTo>
                            <a:pt x="1004" y="44"/>
                          </a:lnTo>
                          <a:lnTo>
                            <a:pt x="1001" y="40"/>
                          </a:lnTo>
                          <a:lnTo>
                            <a:pt x="997" y="36"/>
                          </a:lnTo>
                          <a:lnTo>
                            <a:pt x="993" y="32"/>
                          </a:lnTo>
                          <a:lnTo>
                            <a:pt x="991" y="29"/>
                          </a:lnTo>
                          <a:lnTo>
                            <a:pt x="985" y="25"/>
                          </a:lnTo>
                          <a:lnTo>
                            <a:pt x="983" y="23"/>
                          </a:lnTo>
                          <a:lnTo>
                            <a:pt x="978" y="19"/>
                          </a:lnTo>
                          <a:lnTo>
                            <a:pt x="972" y="17"/>
                          </a:lnTo>
                          <a:lnTo>
                            <a:pt x="968" y="13"/>
                          </a:lnTo>
                          <a:lnTo>
                            <a:pt x="964" y="11"/>
                          </a:lnTo>
                          <a:lnTo>
                            <a:pt x="961" y="10"/>
                          </a:lnTo>
                          <a:lnTo>
                            <a:pt x="955" y="6"/>
                          </a:lnTo>
                          <a:lnTo>
                            <a:pt x="949" y="6"/>
                          </a:lnTo>
                          <a:lnTo>
                            <a:pt x="944" y="4"/>
                          </a:lnTo>
                          <a:lnTo>
                            <a:pt x="940" y="4"/>
                          </a:lnTo>
                          <a:lnTo>
                            <a:pt x="936" y="2"/>
                          </a:lnTo>
                          <a:lnTo>
                            <a:pt x="934" y="2"/>
                          </a:lnTo>
                          <a:lnTo>
                            <a:pt x="932" y="0"/>
                          </a:lnTo>
                          <a:lnTo>
                            <a:pt x="928" y="0"/>
                          </a:lnTo>
                          <a:lnTo>
                            <a:pt x="926" y="0"/>
                          </a:lnTo>
                          <a:lnTo>
                            <a:pt x="925" y="0"/>
                          </a:lnTo>
                          <a:lnTo>
                            <a:pt x="921" y="0"/>
                          </a:lnTo>
                          <a:lnTo>
                            <a:pt x="919" y="0"/>
                          </a:lnTo>
                          <a:lnTo>
                            <a:pt x="915" y="0"/>
                          </a:lnTo>
                          <a:lnTo>
                            <a:pt x="913" y="0"/>
                          </a:lnTo>
                          <a:lnTo>
                            <a:pt x="911" y="0"/>
                          </a:lnTo>
                          <a:lnTo>
                            <a:pt x="907" y="0"/>
                          </a:lnTo>
                          <a:lnTo>
                            <a:pt x="904" y="0"/>
                          </a:lnTo>
                          <a:lnTo>
                            <a:pt x="898" y="2"/>
                          </a:lnTo>
                          <a:lnTo>
                            <a:pt x="896" y="2"/>
                          </a:lnTo>
                          <a:lnTo>
                            <a:pt x="892" y="2"/>
                          </a:lnTo>
                          <a:lnTo>
                            <a:pt x="890" y="2"/>
                          </a:lnTo>
                          <a:lnTo>
                            <a:pt x="888" y="4"/>
                          </a:lnTo>
                          <a:lnTo>
                            <a:pt x="881" y="4"/>
                          </a:lnTo>
                          <a:lnTo>
                            <a:pt x="877" y="6"/>
                          </a:lnTo>
                          <a:lnTo>
                            <a:pt x="873" y="10"/>
                          </a:lnTo>
                          <a:lnTo>
                            <a:pt x="867" y="11"/>
                          </a:lnTo>
                          <a:lnTo>
                            <a:pt x="864" y="15"/>
                          </a:lnTo>
                          <a:lnTo>
                            <a:pt x="860" y="17"/>
                          </a:lnTo>
                          <a:lnTo>
                            <a:pt x="854" y="19"/>
                          </a:lnTo>
                          <a:lnTo>
                            <a:pt x="850" y="23"/>
                          </a:lnTo>
                          <a:lnTo>
                            <a:pt x="847" y="25"/>
                          </a:lnTo>
                          <a:lnTo>
                            <a:pt x="843" y="29"/>
                          </a:lnTo>
                          <a:lnTo>
                            <a:pt x="839" y="32"/>
                          </a:lnTo>
                          <a:lnTo>
                            <a:pt x="835" y="36"/>
                          </a:lnTo>
                          <a:lnTo>
                            <a:pt x="833" y="40"/>
                          </a:lnTo>
                          <a:lnTo>
                            <a:pt x="831" y="44"/>
                          </a:lnTo>
                          <a:lnTo>
                            <a:pt x="828" y="48"/>
                          </a:lnTo>
                          <a:lnTo>
                            <a:pt x="824" y="53"/>
                          </a:lnTo>
                          <a:lnTo>
                            <a:pt x="822" y="57"/>
                          </a:lnTo>
                          <a:lnTo>
                            <a:pt x="820" y="61"/>
                          </a:lnTo>
                          <a:lnTo>
                            <a:pt x="818" y="67"/>
                          </a:lnTo>
                          <a:lnTo>
                            <a:pt x="816" y="70"/>
                          </a:lnTo>
                          <a:lnTo>
                            <a:pt x="816" y="74"/>
                          </a:lnTo>
                          <a:lnTo>
                            <a:pt x="814" y="76"/>
                          </a:lnTo>
                          <a:lnTo>
                            <a:pt x="812" y="82"/>
                          </a:lnTo>
                          <a:lnTo>
                            <a:pt x="812" y="84"/>
                          </a:lnTo>
                          <a:lnTo>
                            <a:pt x="687" y="663"/>
                          </a:lnTo>
                          <a:lnTo>
                            <a:pt x="681" y="663"/>
                          </a:lnTo>
                          <a:lnTo>
                            <a:pt x="677" y="663"/>
                          </a:lnTo>
                          <a:lnTo>
                            <a:pt x="673" y="663"/>
                          </a:lnTo>
                          <a:lnTo>
                            <a:pt x="670" y="663"/>
                          </a:lnTo>
                          <a:lnTo>
                            <a:pt x="666" y="663"/>
                          </a:lnTo>
                          <a:lnTo>
                            <a:pt x="660" y="665"/>
                          </a:lnTo>
                          <a:lnTo>
                            <a:pt x="656" y="665"/>
                          </a:lnTo>
                          <a:lnTo>
                            <a:pt x="652" y="667"/>
                          </a:lnTo>
                          <a:lnTo>
                            <a:pt x="753" y="213"/>
                          </a:lnTo>
                          <a:lnTo>
                            <a:pt x="753" y="209"/>
                          </a:lnTo>
                          <a:lnTo>
                            <a:pt x="753" y="207"/>
                          </a:lnTo>
                          <a:lnTo>
                            <a:pt x="753" y="203"/>
                          </a:lnTo>
                          <a:lnTo>
                            <a:pt x="753" y="201"/>
                          </a:lnTo>
                          <a:lnTo>
                            <a:pt x="753" y="198"/>
                          </a:lnTo>
                          <a:lnTo>
                            <a:pt x="753" y="196"/>
                          </a:lnTo>
                          <a:lnTo>
                            <a:pt x="753" y="192"/>
                          </a:lnTo>
                          <a:lnTo>
                            <a:pt x="753" y="190"/>
                          </a:lnTo>
                          <a:lnTo>
                            <a:pt x="753" y="188"/>
                          </a:lnTo>
                          <a:lnTo>
                            <a:pt x="753" y="184"/>
                          </a:lnTo>
                          <a:lnTo>
                            <a:pt x="753" y="182"/>
                          </a:lnTo>
                          <a:lnTo>
                            <a:pt x="753" y="181"/>
                          </a:lnTo>
                          <a:lnTo>
                            <a:pt x="753" y="175"/>
                          </a:lnTo>
                          <a:lnTo>
                            <a:pt x="753" y="169"/>
                          </a:lnTo>
                          <a:lnTo>
                            <a:pt x="751" y="167"/>
                          </a:lnTo>
                          <a:lnTo>
                            <a:pt x="751" y="163"/>
                          </a:lnTo>
                          <a:lnTo>
                            <a:pt x="751" y="162"/>
                          </a:lnTo>
                          <a:lnTo>
                            <a:pt x="750" y="160"/>
                          </a:lnTo>
                          <a:lnTo>
                            <a:pt x="748" y="154"/>
                          </a:lnTo>
                          <a:lnTo>
                            <a:pt x="746" y="148"/>
                          </a:lnTo>
                          <a:lnTo>
                            <a:pt x="744" y="144"/>
                          </a:lnTo>
                          <a:lnTo>
                            <a:pt x="742" y="141"/>
                          </a:lnTo>
                          <a:lnTo>
                            <a:pt x="740" y="135"/>
                          </a:lnTo>
                          <a:lnTo>
                            <a:pt x="738" y="131"/>
                          </a:lnTo>
                          <a:lnTo>
                            <a:pt x="734" y="127"/>
                          </a:lnTo>
                          <a:lnTo>
                            <a:pt x="730" y="124"/>
                          </a:lnTo>
                          <a:lnTo>
                            <a:pt x="727" y="120"/>
                          </a:lnTo>
                          <a:lnTo>
                            <a:pt x="725" y="116"/>
                          </a:lnTo>
                          <a:lnTo>
                            <a:pt x="721" y="112"/>
                          </a:lnTo>
                          <a:lnTo>
                            <a:pt x="717" y="108"/>
                          </a:lnTo>
                          <a:lnTo>
                            <a:pt x="713" y="105"/>
                          </a:lnTo>
                          <a:lnTo>
                            <a:pt x="710" y="103"/>
                          </a:lnTo>
                          <a:lnTo>
                            <a:pt x="704" y="99"/>
                          </a:lnTo>
                          <a:lnTo>
                            <a:pt x="700" y="97"/>
                          </a:lnTo>
                          <a:lnTo>
                            <a:pt x="694" y="95"/>
                          </a:lnTo>
                          <a:lnTo>
                            <a:pt x="691" y="91"/>
                          </a:lnTo>
                          <a:lnTo>
                            <a:pt x="685" y="89"/>
                          </a:lnTo>
                          <a:lnTo>
                            <a:pt x="681" y="87"/>
                          </a:lnTo>
                          <a:lnTo>
                            <a:pt x="675" y="86"/>
                          </a:lnTo>
                          <a:lnTo>
                            <a:pt x="672" y="86"/>
                          </a:lnTo>
                          <a:lnTo>
                            <a:pt x="668" y="84"/>
                          </a:lnTo>
                          <a:lnTo>
                            <a:pt x="666" y="84"/>
                          </a:lnTo>
                          <a:lnTo>
                            <a:pt x="664" y="84"/>
                          </a:lnTo>
                          <a:lnTo>
                            <a:pt x="660" y="84"/>
                          </a:lnTo>
                          <a:lnTo>
                            <a:pt x="658" y="84"/>
                          </a:lnTo>
                          <a:lnTo>
                            <a:pt x="654" y="84"/>
                          </a:lnTo>
                          <a:lnTo>
                            <a:pt x="652" y="84"/>
                          </a:lnTo>
                          <a:lnTo>
                            <a:pt x="651" y="84"/>
                          </a:lnTo>
                          <a:lnTo>
                            <a:pt x="647" y="84"/>
                          </a:lnTo>
                          <a:lnTo>
                            <a:pt x="645" y="84"/>
                          </a:lnTo>
                          <a:lnTo>
                            <a:pt x="643" y="84"/>
                          </a:lnTo>
                          <a:lnTo>
                            <a:pt x="639" y="84"/>
                          </a:lnTo>
                          <a:lnTo>
                            <a:pt x="635" y="84"/>
                          </a:lnTo>
                          <a:lnTo>
                            <a:pt x="630" y="84"/>
                          </a:lnTo>
                          <a:lnTo>
                            <a:pt x="628" y="84"/>
                          </a:lnTo>
                          <a:lnTo>
                            <a:pt x="624" y="86"/>
                          </a:lnTo>
                          <a:lnTo>
                            <a:pt x="622" y="86"/>
                          </a:lnTo>
                          <a:lnTo>
                            <a:pt x="618" y="86"/>
                          </a:lnTo>
                          <a:lnTo>
                            <a:pt x="614" y="87"/>
                          </a:lnTo>
                          <a:lnTo>
                            <a:pt x="609" y="89"/>
                          </a:lnTo>
                          <a:lnTo>
                            <a:pt x="603" y="91"/>
                          </a:lnTo>
                          <a:lnTo>
                            <a:pt x="599" y="95"/>
                          </a:lnTo>
                          <a:lnTo>
                            <a:pt x="595" y="97"/>
                          </a:lnTo>
                          <a:lnTo>
                            <a:pt x="592" y="99"/>
                          </a:lnTo>
                          <a:lnTo>
                            <a:pt x="586" y="103"/>
                          </a:lnTo>
                          <a:lnTo>
                            <a:pt x="582" y="105"/>
                          </a:lnTo>
                          <a:lnTo>
                            <a:pt x="578" y="108"/>
                          </a:lnTo>
                          <a:lnTo>
                            <a:pt x="574" y="112"/>
                          </a:lnTo>
                          <a:lnTo>
                            <a:pt x="571" y="116"/>
                          </a:lnTo>
                          <a:lnTo>
                            <a:pt x="567" y="120"/>
                          </a:lnTo>
                          <a:lnTo>
                            <a:pt x="565" y="124"/>
                          </a:lnTo>
                          <a:lnTo>
                            <a:pt x="563" y="127"/>
                          </a:lnTo>
                          <a:lnTo>
                            <a:pt x="559" y="131"/>
                          </a:lnTo>
                          <a:lnTo>
                            <a:pt x="555" y="135"/>
                          </a:lnTo>
                          <a:lnTo>
                            <a:pt x="554" y="141"/>
                          </a:lnTo>
                          <a:lnTo>
                            <a:pt x="552" y="146"/>
                          </a:lnTo>
                          <a:lnTo>
                            <a:pt x="550" y="150"/>
                          </a:lnTo>
                          <a:lnTo>
                            <a:pt x="548" y="156"/>
                          </a:lnTo>
                          <a:lnTo>
                            <a:pt x="546" y="158"/>
                          </a:lnTo>
                          <a:lnTo>
                            <a:pt x="546" y="160"/>
                          </a:lnTo>
                          <a:lnTo>
                            <a:pt x="544" y="163"/>
                          </a:lnTo>
                          <a:lnTo>
                            <a:pt x="544" y="167"/>
                          </a:lnTo>
                          <a:lnTo>
                            <a:pt x="361" y="1127"/>
                          </a:lnTo>
                          <a:lnTo>
                            <a:pt x="361" y="1127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57" name="AutoShape 183"/>
                  <p:cNvSpPr/>
                  <p:nvPr/>
                </p:nvSpPr>
                <p:spPr>
                  <a:xfrm rot="11205000">
                    <a:off x="4085280" y="2012760"/>
                    <a:ext cx="88560" cy="75960"/>
                  </a:xfrm>
                  <a:prstGeom prst="hexagon">
                    <a:avLst>
                      <a:gd name="adj" fmla="val 29147"/>
                      <a:gd name="vf" fmla="val 115470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8" name="Group 184"/>
                <p:cNvGrpSpPr/>
                <p:nvPr/>
              </p:nvGrpSpPr>
              <p:grpSpPr>
                <a:xfrm>
                  <a:off x="4012560" y="1215000"/>
                  <a:ext cx="466920" cy="2329200"/>
                  <a:chOff x="4012560" y="1215000"/>
                  <a:chExt cx="466920" cy="2329200"/>
                </a:xfrm>
              </p:grpSpPr>
              <p:grpSp>
                <p:nvGrpSpPr>
                  <p:cNvPr id="2359" name="Group 185"/>
                  <p:cNvGrpSpPr/>
                  <p:nvPr/>
                </p:nvGrpSpPr>
                <p:grpSpPr>
                  <a:xfrm>
                    <a:off x="4135680" y="1215000"/>
                    <a:ext cx="343800" cy="1246680"/>
                    <a:chOff x="4135680" y="1215000"/>
                    <a:chExt cx="343800" cy="1246680"/>
                  </a:xfrm>
                </p:grpSpPr>
                <p:grpSp>
                  <p:nvGrpSpPr>
                    <p:cNvPr id="2360" name="Group 186"/>
                    <p:cNvGrpSpPr/>
                    <p:nvPr/>
                  </p:nvGrpSpPr>
                  <p:grpSpPr>
                    <a:xfrm>
                      <a:off x="4135680" y="1830600"/>
                      <a:ext cx="288360" cy="631080"/>
                      <a:chOff x="4135680" y="1830600"/>
                      <a:chExt cx="288360" cy="631080"/>
                    </a:xfrm>
                  </p:grpSpPr>
                  <p:sp>
                    <p:nvSpPr>
                      <p:cNvPr id="2361" name="AutoShape 187"/>
                      <p:cNvSpPr/>
                      <p:nvPr/>
                    </p:nvSpPr>
                    <p:spPr>
                      <a:xfrm rot="11221200">
                        <a:off x="4214880" y="1839600"/>
                        <a:ext cx="179640" cy="49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1556" y="21600"/>
                            </a:lnTo>
                            <a:lnTo>
                              <a:pt x="20044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62" name="AutoShape 188"/>
                      <p:cNvSpPr/>
                      <p:nvPr/>
                    </p:nvSpPr>
                    <p:spPr>
                      <a:xfrm rot="16799400">
                        <a:off x="4172760" y="2228400"/>
                        <a:ext cx="191520" cy="23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934" y="2201"/>
                              <a:pt x="12267" y="5080"/>
                              <a:pt x="12267" y="10800"/>
                            </a:cubicBezTo>
                            <a:cubicBezTo>
                              <a:pt x="12267" y="16520"/>
                              <a:pt x="16934" y="19399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363" name="Group 189"/>
                    <p:cNvGrpSpPr/>
                    <p:nvPr/>
                  </p:nvGrpSpPr>
                  <p:grpSpPr>
                    <a:xfrm>
                      <a:off x="4218120" y="1215000"/>
                      <a:ext cx="261360" cy="747720"/>
                      <a:chOff x="4218120" y="1215000"/>
                      <a:chExt cx="261360" cy="747720"/>
                    </a:xfrm>
                  </p:grpSpPr>
                  <p:sp>
                    <p:nvSpPr>
                      <p:cNvPr id="2364" name="AutoShape 190"/>
                      <p:cNvSpPr/>
                      <p:nvPr/>
                    </p:nvSpPr>
                    <p:spPr>
                      <a:xfrm rot="11236200">
                        <a:off x="4270320" y="1460520"/>
                        <a:ext cx="180360" cy="360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4308" y="21600"/>
                            </a:lnTo>
                            <a:lnTo>
                              <a:pt x="17292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65" name="Oval 191"/>
                      <p:cNvSpPr/>
                      <p:nvPr/>
                    </p:nvSpPr>
                    <p:spPr>
                      <a:xfrm rot="11775000">
                        <a:off x="4240800" y="1749600"/>
                        <a:ext cx="187200" cy="190440"/>
                      </a:xfrm>
                      <a:prstGeom prst="ellipse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66" name="Freeform 192"/>
                      <p:cNvSpPr/>
                      <p:nvPr/>
                    </p:nvSpPr>
                    <p:spPr>
                      <a:xfrm rot="21270000">
                        <a:off x="4290480" y="1222560"/>
                        <a:ext cx="175680" cy="28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02" h="2302">
                            <a:moveTo>
                              <a:pt x="361" y="1127"/>
                            </a:moveTo>
                            <a:lnTo>
                              <a:pt x="280" y="1116"/>
                            </a:lnTo>
                            <a:lnTo>
                              <a:pt x="373" y="711"/>
                            </a:lnTo>
                            <a:lnTo>
                              <a:pt x="373" y="709"/>
                            </a:lnTo>
                            <a:lnTo>
                              <a:pt x="375" y="705"/>
                            </a:lnTo>
                            <a:lnTo>
                              <a:pt x="375" y="703"/>
                            </a:lnTo>
                            <a:lnTo>
                              <a:pt x="375" y="700"/>
                            </a:lnTo>
                            <a:lnTo>
                              <a:pt x="375" y="698"/>
                            </a:lnTo>
                            <a:lnTo>
                              <a:pt x="375" y="696"/>
                            </a:lnTo>
                            <a:lnTo>
                              <a:pt x="375" y="692"/>
                            </a:lnTo>
                            <a:lnTo>
                              <a:pt x="375" y="690"/>
                            </a:lnTo>
                            <a:lnTo>
                              <a:pt x="375" y="684"/>
                            </a:lnTo>
                            <a:lnTo>
                              <a:pt x="375" y="681"/>
                            </a:lnTo>
                            <a:lnTo>
                              <a:pt x="375" y="675"/>
                            </a:lnTo>
                            <a:lnTo>
                              <a:pt x="375" y="669"/>
                            </a:lnTo>
                            <a:lnTo>
                              <a:pt x="371" y="665"/>
                            </a:lnTo>
                            <a:lnTo>
                              <a:pt x="371" y="660"/>
                            </a:lnTo>
                            <a:lnTo>
                              <a:pt x="369" y="654"/>
                            </a:lnTo>
                            <a:lnTo>
                              <a:pt x="367" y="652"/>
                            </a:lnTo>
                            <a:lnTo>
                              <a:pt x="365" y="646"/>
                            </a:lnTo>
                            <a:lnTo>
                              <a:pt x="363" y="641"/>
                            </a:lnTo>
                            <a:lnTo>
                              <a:pt x="361" y="637"/>
                            </a:lnTo>
                            <a:lnTo>
                              <a:pt x="358" y="633"/>
                            </a:lnTo>
                            <a:lnTo>
                              <a:pt x="356" y="629"/>
                            </a:lnTo>
                            <a:lnTo>
                              <a:pt x="354" y="623"/>
                            </a:lnTo>
                            <a:lnTo>
                              <a:pt x="350" y="620"/>
                            </a:lnTo>
                            <a:lnTo>
                              <a:pt x="346" y="616"/>
                            </a:lnTo>
                            <a:lnTo>
                              <a:pt x="342" y="612"/>
                            </a:lnTo>
                            <a:lnTo>
                              <a:pt x="339" y="610"/>
                            </a:lnTo>
                            <a:lnTo>
                              <a:pt x="335" y="606"/>
                            </a:lnTo>
                            <a:lnTo>
                              <a:pt x="331" y="603"/>
                            </a:lnTo>
                            <a:lnTo>
                              <a:pt x="325" y="601"/>
                            </a:lnTo>
                            <a:lnTo>
                              <a:pt x="321" y="597"/>
                            </a:lnTo>
                            <a:lnTo>
                              <a:pt x="318" y="595"/>
                            </a:lnTo>
                            <a:lnTo>
                              <a:pt x="312" y="593"/>
                            </a:lnTo>
                            <a:lnTo>
                              <a:pt x="306" y="591"/>
                            </a:lnTo>
                            <a:lnTo>
                              <a:pt x="302" y="589"/>
                            </a:lnTo>
                            <a:lnTo>
                              <a:pt x="299" y="589"/>
                            </a:lnTo>
                            <a:lnTo>
                              <a:pt x="295" y="587"/>
                            </a:lnTo>
                            <a:lnTo>
                              <a:pt x="291" y="587"/>
                            </a:lnTo>
                            <a:lnTo>
                              <a:pt x="287" y="585"/>
                            </a:lnTo>
                            <a:lnTo>
                              <a:pt x="285" y="585"/>
                            </a:lnTo>
                            <a:lnTo>
                              <a:pt x="283" y="585"/>
                            </a:lnTo>
                            <a:lnTo>
                              <a:pt x="280" y="585"/>
                            </a:lnTo>
                            <a:lnTo>
                              <a:pt x="276" y="585"/>
                            </a:lnTo>
                            <a:lnTo>
                              <a:pt x="274" y="585"/>
                            </a:lnTo>
                            <a:lnTo>
                              <a:pt x="272" y="585"/>
                            </a:lnTo>
                            <a:lnTo>
                              <a:pt x="268" y="585"/>
                            </a:lnTo>
                            <a:lnTo>
                              <a:pt x="266" y="585"/>
                            </a:lnTo>
                            <a:lnTo>
                              <a:pt x="263" y="585"/>
                            </a:lnTo>
                            <a:lnTo>
                              <a:pt x="261" y="587"/>
                            </a:lnTo>
                            <a:lnTo>
                              <a:pt x="259" y="587"/>
                            </a:lnTo>
                            <a:lnTo>
                              <a:pt x="255" y="587"/>
                            </a:lnTo>
                            <a:lnTo>
                              <a:pt x="253" y="589"/>
                            </a:lnTo>
                            <a:lnTo>
                              <a:pt x="249" y="589"/>
                            </a:lnTo>
                            <a:lnTo>
                              <a:pt x="247" y="589"/>
                            </a:lnTo>
                            <a:lnTo>
                              <a:pt x="243" y="591"/>
                            </a:lnTo>
                            <a:lnTo>
                              <a:pt x="240" y="591"/>
                            </a:lnTo>
                            <a:lnTo>
                              <a:pt x="238" y="593"/>
                            </a:lnTo>
                            <a:lnTo>
                              <a:pt x="236" y="595"/>
                            </a:lnTo>
                            <a:lnTo>
                              <a:pt x="232" y="595"/>
                            </a:lnTo>
                            <a:lnTo>
                              <a:pt x="230" y="597"/>
                            </a:lnTo>
                            <a:lnTo>
                              <a:pt x="228" y="599"/>
                            </a:lnTo>
                            <a:lnTo>
                              <a:pt x="224" y="601"/>
                            </a:lnTo>
                            <a:lnTo>
                              <a:pt x="223" y="601"/>
                            </a:lnTo>
                            <a:lnTo>
                              <a:pt x="219" y="603"/>
                            </a:lnTo>
                            <a:lnTo>
                              <a:pt x="217" y="604"/>
                            </a:lnTo>
                            <a:lnTo>
                              <a:pt x="211" y="608"/>
                            </a:lnTo>
                            <a:lnTo>
                              <a:pt x="207" y="612"/>
                            </a:lnTo>
                            <a:lnTo>
                              <a:pt x="204" y="616"/>
                            </a:lnTo>
                            <a:lnTo>
                              <a:pt x="198" y="618"/>
                            </a:lnTo>
                            <a:lnTo>
                              <a:pt x="194" y="623"/>
                            </a:lnTo>
                            <a:lnTo>
                              <a:pt x="188" y="627"/>
                            </a:lnTo>
                            <a:lnTo>
                              <a:pt x="185" y="633"/>
                            </a:lnTo>
                            <a:lnTo>
                              <a:pt x="181" y="637"/>
                            </a:lnTo>
                            <a:lnTo>
                              <a:pt x="177" y="641"/>
                            </a:lnTo>
                            <a:lnTo>
                              <a:pt x="173" y="646"/>
                            </a:lnTo>
                            <a:lnTo>
                              <a:pt x="169" y="652"/>
                            </a:lnTo>
                            <a:lnTo>
                              <a:pt x="166" y="656"/>
                            </a:lnTo>
                            <a:lnTo>
                              <a:pt x="162" y="662"/>
                            </a:lnTo>
                            <a:lnTo>
                              <a:pt x="160" y="665"/>
                            </a:lnTo>
                            <a:lnTo>
                              <a:pt x="158" y="669"/>
                            </a:lnTo>
                            <a:lnTo>
                              <a:pt x="158" y="671"/>
                            </a:lnTo>
                            <a:lnTo>
                              <a:pt x="156" y="673"/>
                            </a:lnTo>
                            <a:lnTo>
                              <a:pt x="154" y="677"/>
                            </a:lnTo>
                            <a:lnTo>
                              <a:pt x="152" y="679"/>
                            </a:lnTo>
                            <a:lnTo>
                              <a:pt x="152" y="681"/>
                            </a:lnTo>
                            <a:lnTo>
                              <a:pt x="150" y="684"/>
                            </a:lnTo>
                            <a:lnTo>
                              <a:pt x="150" y="688"/>
                            </a:lnTo>
                            <a:lnTo>
                              <a:pt x="146" y="694"/>
                            </a:lnTo>
                            <a:lnTo>
                              <a:pt x="145" y="701"/>
                            </a:lnTo>
                            <a:lnTo>
                              <a:pt x="143" y="709"/>
                            </a:lnTo>
                            <a:lnTo>
                              <a:pt x="139" y="717"/>
                            </a:lnTo>
                            <a:lnTo>
                              <a:pt x="137" y="724"/>
                            </a:lnTo>
                            <a:lnTo>
                              <a:pt x="135" y="732"/>
                            </a:lnTo>
                            <a:lnTo>
                              <a:pt x="131" y="739"/>
                            </a:lnTo>
                            <a:lnTo>
                              <a:pt x="129" y="747"/>
                            </a:lnTo>
                            <a:lnTo>
                              <a:pt x="126" y="755"/>
                            </a:lnTo>
                            <a:lnTo>
                              <a:pt x="124" y="760"/>
                            </a:lnTo>
                            <a:lnTo>
                              <a:pt x="122" y="768"/>
                            </a:lnTo>
                            <a:lnTo>
                              <a:pt x="120" y="776"/>
                            </a:lnTo>
                            <a:lnTo>
                              <a:pt x="116" y="781"/>
                            </a:lnTo>
                            <a:lnTo>
                              <a:pt x="114" y="789"/>
                            </a:lnTo>
                            <a:lnTo>
                              <a:pt x="112" y="796"/>
                            </a:lnTo>
                            <a:lnTo>
                              <a:pt x="110" y="804"/>
                            </a:lnTo>
                            <a:lnTo>
                              <a:pt x="107" y="812"/>
                            </a:lnTo>
                            <a:lnTo>
                              <a:pt x="107" y="817"/>
                            </a:lnTo>
                            <a:lnTo>
                              <a:pt x="103" y="823"/>
                            </a:lnTo>
                            <a:lnTo>
                              <a:pt x="101" y="831"/>
                            </a:lnTo>
                            <a:lnTo>
                              <a:pt x="97" y="836"/>
                            </a:lnTo>
                            <a:lnTo>
                              <a:pt x="97" y="844"/>
                            </a:lnTo>
                            <a:lnTo>
                              <a:pt x="93" y="852"/>
                            </a:lnTo>
                            <a:lnTo>
                              <a:pt x="93" y="857"/>
                            </a:lnTo>
                            <a:lnTo>
                              <a:pt x="89" y="865"/>
                            </a:lnTo>
                            <a:lnTo>
                              <a:pt x="88" y="871"/>
                            </a:lnTo>
                            <a:lnTo>
                              <a:pt x="86" y="878"/>
                            </a:lnTo>
                            <a:lnTo>
                              <a:pt x="84" y="884"/>
                            </a:lnTo>
                            <a:lnTo>
                              <a:pt x="82" y="892"/>
                            </a:lnTo>
                            <a:lnTo>
                              <a:pt x="80" y="899"/>
                            </a:lnTo>
                            <a:lnTo>
                              <a:pt x="78" y="907"/>
                            </a:lnTo>
                            <a:lnTo>
                              <a:pt x="74" y="912"/>
                            </a:lnTo>
                            <a:lnTo>
                              <a:pt x="72" y="920"/>
                            </a:lnTo>
                            <a:lnTo>
                              <a:pt x="72" y="926"/>
                            </a:lnTo>
                            <a:lnTo>
                              <a:pt x="68" y="931"/>
                            </a:lnTo>
                            <a:lnTo>
                              <a:pt x="67" y="939"/>
                            </a:lnTo>
                            <a:lnTo>
                              <a:pt x="65" y="945"/>
                            </a:lnTo>
                            <a:lnTo>
                              <a:pt x="63" y="952"/>
                            </a:lnTo>
                            <a:lnTo>
                              <a:pt x="59" y="958"/>
                            </a:lnTo>
                            <a:lnTo>
                              <a:pt x="57" y="966"/>
                            </a:lnTo>
                            <a:lnTo>
                              <a:pt x="55" y="971"/>
                            </a:lnTo>
                            <a:lnTo>
                              <a:pt x="53" y="979"/>
                            </a:lnTo>
                            <a:lnTo>
                              <a:pt x="51" y="987"/>
                            </a:lnTo>
                            <a:lnTo>
                              <a:pt x="49" y="994"/>
                            </a:lnTo>
                            <a:lnTo>
                              <a:pt x="48" y="1000"/>
                            </a:lnTo>
                            <a:lnTo>
                              <a:pt x="46" y="1007"/>
                            </a:lnTo>
                            <a:lnTo>
                              <a:pt x="44" y="1015"/>
                            </a:lnTo>
                            <a:lnTo>
                              <a:pt x="42" y="1021"/>
                            </a:lnTo>
                            <a:lnTo>
                              <a:pt x="42" y="1028"/>
                            </a:lnTo>
                            <a:lnTo>
                              <a:pt x="38" y="1036"/>
                            </a:lnTo>
                            <a:lnTo>
                              <a:pt x="36" y="1042"/>
                            </a:lnTo>
                            <a:lnTo>
                              <a:pt x="36" y="1049"/>
                            </a:lnTo>
                            <a:lnTo>
                              <a:pt x="34" y="1057"/>
                            </a:lnTo>
                            <a:lnTo>
                              <a:pt x="30" y="1063"/>
                            </a:lnTo>
                            <a:lnTo>
                              <a:pt x="30" y="1070"/>
                            </a:lnTo>
                            <a:lnTo>
                              <a:pt x="29" y="1078"/>
                            </a:lnTo>
                            <a:lnTo>
                              <a:pt x="27" y="1085"/>
                            </a:lnTo>
                            <a:lnTo>
                              <a:pt x="25" y="1093"/>
                            </a:lnTo>
                            <a:lnTo>
                              <a:pt x="23" y="1101"/>
                            </a:lnTo>
                            <a:lnTo>
                              <a:pt x="21" y="1108"/>
                            </a:lnTo>
                            <a:lnTo>
                              <a:pt x="19" y="1116"/>
                            </a:lnTo>
                            <a:lnTo>
                              <a:pt x="17" y="1123"/>
                            </a:lnTo>
                            <a:lnTo>
                              <a:pt x="17" y="1131"/>
                            </a:lnTo>
                            <a:lnTo>
                              <a:pt x="15" y="1139"/>
                            </a:lnTo>
                            <a:lnTo>
                              <a:pt x="13" y="1148"/>
                            </a:lnTo>
                            <a:lnTo>
                              <a:pt x="10" y="1158"/>
                            </a:lnTo>
                            <a:lnTo>
                              <a:pt x="10" y="1165"/>
                            </a:lnTo>
                            <a:lnTo>
                              <a:pt x="8" y="1175"/>
                            </a:lnTo>
                            <a:lnTo>
                              <a:pt x="6" y="1182"/>
                            </a:lnTo>
                            <a:lnTo>
                              <a:pt x="6" y="1192"/>
                            </a:lnTo>
                            <a:lnTo>
                              <a:pt x="4" y="1201"/>
                            </a:lnTo>
                            <a:lnTo>
                              <a:pt x="2" y="1211"/>
                            </a:lnTo>
                            <a:lnTo>
                              <a:pt x="2" y="1218"/>
                            </a:lnTo>
                            <a:lnTo>
                              <a:pt x="0" y="1230"/>
                            </a:lnTo>
                            <a:lnTo>
                              <a:pt x="0" y="1237"/>
                            </a:lnTo>
                            <a:lnTo>
                              <a:pt x="0" y="1247"/>
                            </a:lnTo>
                            <a:lnTo>
                              <a:pt x="0" y="1257"/>
                            </a:lnTo>
                            <a:lnTo>
                              <a:pt x="0" y="1268"/>
                            </a:lnTo>
                            <a:lnTo>
                              <a:pt x="0" y="1276"/>
                            </a:lnTo>
                            <a:lnTo>
                              <a:pt x="0" y="1285"/>
                            </a:lnTo>
                            <a:lnTo>
                              <a:pt x="0" y="1296"/>
                            </a:lnTo>
                            <a:lnTo>
                              <a:pt x="0" y="1304"/>
                            </a:lnTo>
                            <a:lnTo>
                              <a:pt x="0" y="1314"/>
                            </a:lnTo>
                            <a:lnTo>
                              <a:pt x="0" y="1323"/>
                            </a:lnTo>
                            <a:lnTo>
                              <a:pt x="0" y="1333"/>
                            </a:lnTo>
                            <a:lnTo>
                              <a:pt x="2" y="1342"/>
                            </a:lnTo>
                            <a:lnTo>
                              <a:pt x="2" y="1352"/>
                            </a:lnTo>
                            <a:lnTo>
                              <a:pt x="4" y="1363"/>
                            </a:lnTo>
                            <a:lnTo>
                              <a:pt x="4" y="1371"/>
                            </a:lnTo>
                            <a:lnTo>
                              <a:pt x="6" y="1382"/>
                            </a:lnTo>
                            <a:lnTo>
                              <a:pt x="8" y="1390"/>
                            </a:lnTo>
                            <a:lnTo>
                              <a:pt x="8" y="1401"/>
                            </a:lnTo>
                            <a:lnTo>
                              <a:pt x="10" y="1409"/>
                            </a:lnTo>
                            <a:lnTo>
                              <a:pt x="11" y="1420"/>
                            </a:lnTo>
                            <a:lnTo>
                              <a:pt x="13" y="1429"/>
                            </a:lnTo>
                            <a:lnTo>
                              <a:pt x="15" y="1439"/>
                            </a:lnTo>
                            <a:lnTo>
                              <a:pt x="17" y="1448"/>
                            </a:lnTo>
                            <a:lnTo>
                              <a:pt x="19" y="1458"/>
                            </a:lnTo>
                            <a:lnTo>
                              <a:pt x="21" y="1468"/>
                            </a:lnTo>
                            <a:lnTo>
                              <a:pt x="23" y="1477"/>
                            </a:lnTo>
                            <a:lnTo>
                              <a:pt x="27" y="1487"/>
                            </a:lnTo>
                            <a:lnTo>
                              <a:pt x="29" y="1496"/>
                            </a:lnTo>
                            <a:lnTo>
                              <a:pt x="30" y="1506"/>
                            </a:lnTo>
                            <a:lnTo>
                              <a:pt x="34" y="1515"/>
                            </a:lnTo>
                            <a:lnTo>
                              <a:pt x="36" y="1525"/>
                            </a:lnTo>
                            <a:lnTo>
                              <a:pt x="38" y="1534"/>
                            </a:lnTo>
                            <a:lnTo>
                              <a:pt x="42" y="1544"/>
                            </a:lnTo>
                            <a:lnTo>
                              <a:pt x="46" y="1553"/>
                            </a:lnTo>
                            <a:lnTo>
                              <a:pt x="48" y="1561"/>
                            </a:lnTo>
                            <a:lnTo>
                              <a:pt x="51" y="1572"/>
                            </a:lnTo>
                            <a:lnTo>
                              <a:pt x="55" y="1580"/>
                            </a:lnTo>
                            <a:lnTo>
                              <a:pt x="59" y="1589"/>
                            </a:lnTo>
                            <a:lnTo>
                              <a:pt x="63" y="1599"/>
                            </a:lnTo>
                            <a:lnTo>
                              <a:pt x="67" y="1608"/>
                            </a:lnTo>
                            <a:lnTo>
                              <a:pt x="68" y="1616"/>
                            </a:lnTo>
                            <a:lnTo>
                              <a:pt x="74" y="1627"/>
                            </a:lnTo>
                            <a:lnTo>
                              <a:pt x="78" y="1635"/>
                            </a:lnTo>
                            <a:lnTo>
                              <a:pt x="82" y="1644"/>
                            </a:lnTo>
                            <a:lnTo>
                              <a:pt x="86" y="1652"/>
                            </a:lnTo>
                            <a:lnTo>
                              <a:pt x="89" y="1661"/>
                            </a:lnTo>
                            <a:lnTo>
                              <a:pt x="95" y="1669"/>
                            </a:lnTo>
                            <a:lnTo>
                              <a:pt x="99" y="1679"/>
                            </a:lnTo>
                            <a:lnTo>
                              <a:pt x="103" y="1688"/>
                            </a:lnTo>
                            <a:lnTo>
                              <a:pt x="108" y="1696"/>
                            </a:lnTo>
                            <a:lnTo>
                              <a:pt x="114" y="1703"/>
                            </a:lnTo>
                            <a:lnTo>
                              <a:pt x="118" y="1713"/>
                            </a:lnTo>
                            <a:lnTo>
                              <a:pt x="124" y="1722"/>
                            </a:lnTo>
                            <a:lnTo>
                              <a:pt x="127" y="1732"/>
                            </a:lnTo>
                            <a:lnTo>
                              <a:pt x="131" y="1736"/>
                            </a:lnTo>
                            <a:lnTo>
                              <a:pt x="135" y="1739"/>
                            </a:lnTo>
                            <a:lnTo>
                              <a:pt x="135" y="1743"/>
                            </a:lnTo>
                            <a:lnTo>
                              <a:pt x="137" y="1745"/>
                            </a:lnTo>
                            <a:lnTo>
                              <a:pt x="139" y="1747"/>
                            </a:lnTo>
                            <a:lnTo>
                              <a:pt x="141" y="1751"/>
                            </a:lnTo>
                            <a:lnTo>
                              <a:pt x="143" y="1755"/>
                            </a:lnTo>
                            <a:lnTo>
                              <a:pt x="143" y="1756"/>
                            </a:lnTo>
                            <a:lnTo>
                              <a:pt x="145" y="1760"/>
                            </a:lnTo>
                            <a:lnTo>
                              <a:pt x="146" y="1762"/>
                            </a:lnTo>
                            <a:lnTo>
                              <a:pt x="148" y="1766"/>
                            </a:lnTo>
                            <a:lnTo>
                              <a:pt x="150" y="1768"/>
                            </a:lnTo>
                            <a:lnTo>
                              <a:pt x="152" y="1770"/>
                            </a:lnTo>
                            <a:lnTo>
                              <a:pt x="156" y="1774"/>
                            </a:lnTo>
                            <a:lnTo>
                              <a:pt x="158" y="1777"/>
                            </a:lnTo>
                            <a:lnTo>
                              <a:pt x="160" y="1779"/>
                            </a:lnTo>
                            <a:lnTo>
                              <a:pt x="160" y="1783"/>
                            </a:lnTo>
                            <a:lnTo>
                              <a:pt x="162" y="1787"/>
                            </a:lnTo>
                            <a:lnTo>
                              <a:pt x="166" y="1789"/>
                            </a:lnTo>
                            <a:lnTo>
                              <a:pt x="166" y="1791"/>
                            </a:lnTo>
                            <a:lnTo>
                              <a:pt x="167" y="1794"/>
                            </a:lnTo>
                            <a:lnTo>
                              <a:pt x="169" y="1796"/>
                            </a:lnTo>
                            <a:lnTo>
                              <a:pt x="171" y="1800"/>
                            </a:lnTo>
                            <a:lnTo>
                              <a:pt x="173" y="1802"/>
                            </a:lnTo>
                            <a:lnTo>
                              <a:pt x="175" y="1806"/>
                            </a:lnTo>
                            <a:lnTo>
                              <a:pt x="177" y="1808"/>
                            </a:lnTo>
                            <a:lnTo>
                              <a:pt x="179" y="1812"/>
                            </a:lnTo>
                            <a:lnTo>
                              <a:pt x="181" y="1815"/>
                            </a:lnTo>
                            <a:lnTo>
                              <a:pt x="183" y="1817"/>
                            </a:lnTo>
                            <a:lnTo>
                              <a:pt x="185" y="1821"/>
                            </a:lnTo>
                            <a:lnTo>
                              <a:pt x="188" y="1827"/>
                            </a:lnTo>
                            <a:lnTo>
                              <a:pt x="190" y="1831"/>
                            </a:lnTo>
                            <a:lnTo>
                              <a:pt x="194" y="1836"/>
                            </a:lnTo>
                            <a:lnTo>
                              <a:pt x="198" y="1842"/>
                            </a:lnTo>
                            <a:lnTo>
                              <a:pt x="200" y="1846"/>
                            </a:lnTo>
                            <a:lnTo>
                              <a:pt x="204" y="1850"/>
                            </a:lnTo>
                            <a:lnTo>
                              <a:pt x="205" y="1853"/>
                            </a:lnTo>
                            <a:lnTo>
                              <a:pt x="207" y="1859"/>
                            </a:lnTo>
                            <a:lnTo>
                              <a:pt x="209" y="1861"/>
                            </a:lnTo>
                            <a:lnTo>
                              <a:pt x="211" y="1863"/>
                            </a:lnTo>
                            <a:lnTo>
                              <a:pt x="213" y="1867"/>
                            </a:lnTo>
                            <a:lnTo>
                              <a:pt x="215" y="1869"/>
                            </a:lnTo>
                            <a:lnTo>
                              <a:pt x="217" y="1870"/>
                            </a:lnTo>
                            <a:lnTo>
                              <a:pt x="219" y="1874"/>
                            </a:lnTo>
                            <a:lnTo>
                              <a:pt x="141" y="2163"/>
                            </a:lnTo>
                            <a:lnTo>
                              <a:pt x="143" y="2165"/>
                            </a:lnTo>
                            <a:lnTo>
                              <a:pt x="146" y="2165"/>
                            </a:lnTo>
                            <a:lnTo>
                              <a:pt x="150" y="2167"/>
                            </a:lnTo>
                            <a:lnTo>
                              <a:pt x="152" y="2167"/>
                            </a:lnTo>
                            <a:lnTo>
                              <a:pt x="154" y="2167"/>
                            </a:lnTo>
                            <a:lnTo>
                              <a:pt x="158" y="2167"/>
                            </a:lnTo>
                            <a:lnTo>
                              <a:pt x="162" y="2171"/>
                            </a:lnTo>
                            <a:lnTo>
                              <a:pt x="166" y="2171"/>
                            </a:lnTo>
                            <a:lnTo>
                              <a:pt x="167" y="2173"/>
                            </a:lnTo>
                            <a:lnTo>
                              <a:pt x="171" y="2173"/>
                            </a:lnTo>
                            <a:lnTo>
                              <a:pt x="175" y="2175"/>
                            </a:lnTo>
                            <a:lnTo>
                              <a:pt x="181" y="2175"/>
                            </a:lnTo>
                            <a:lnTo>
                              <a:pt x="185" y="2175"/>
                            </a:lnTo>
                            <a:lnTo>
                              <a:pt x="188" y="2177"/>
                            </a:lnTo>
                            <a:lnTo>
                              <a:pt x="194" y="2180"/>
                            </a:lnTo>
                            <a:lnTo>
                              <a:pt x="198" y="2180"/>
                            </a:lnTo>
                            <a:lnTo>
                              <a:pt x="204" y="2182"/>
                            </a:lnTo>
                            <a:lnTo>
                              <a:pt x="209" y="2182"/>
                            </a:lnTo>
                            <a:lnTo>
                              <a:pt x="215" y="2184"/>
                            </a:lnTo>
                            <a:lnTo>
                              <a:pt x="219" y="2186"/>
                            </a:lnTo>
                            <a:lnTo>
                              <a:pt x="224" y="2188"/>
                            </a:lnTo>
                            <a:lnTo>
                              <a:pt x="232" y="2188"/>
                            </a:lnTo>
                            <a:lnTo>
                              <a:pt x="238" y="2190"/>
                            </a:lnTo>
                            <a:lnTo>
                              <a:pt x="243" y="2190"/>
                            </a:lnTo>
                            <a:lnTo>
                              <a:pt x="251" y="2192"/>
                            </a:lnTo>
                            <a:lnTo>
                              <a:pt x="257" y="2194"/>
                            </a:lnTo>
                            <a:lnTo>
                              <a:pt x="264" y="2194"/>
                            </a:lnTo>
                            <a:lnTo>
                              <a:pt x="270" y="2196"/>
                            </a:lnTo>
                            <a:lnTo>
                              <a:pt x="276" y="2196"/>
                            </a:lnTo>
                            <a:lnTo>
                              <a:pt x="283" y="2197"/>
                            </a:lnTo>
                            <a:lnTo>
                              <a:pt x="291" y="2199"/>
                            </a:lnTo>
                            <a:lnTo>
                              <a:pt x="297" y="2199"/>
                            </a:lnTo>
                            <a:lnTo>
                              <a:pt x="304" y="2199"/>
                            </a:lnTo>
                            <a:lnTo>
                              <a:pt x="312" y="2199"/>
                            </a:lnTo>
                            <a:lnTo>
                              <a:pt x="320" y="2201"/>
                            </a:lnTo>
                            <a:lnTo>
                              <a:pt x="325" y="2201"/>
                            </a:lnTo>
                            <a:lnTo>
                              <a:pt x="333" y="2201"/>
                            </a:lnTo>
                            <a:lnTo>
                              <a:pt x="341" y="2201"/>
                            </a:lnTo>
                            <a:lnTo>
                              <a:pt x="348" y="2201"/>
                            </a:lnTo>
                            <a:lnTo>
                              <a:pt x="356" y="2201"/>
                            </a:lnTo>
                            <a:lnTo>
                              <a:pt x="363" y="2201"/>
                            </a:lnTo>
                            <a:lnTo>
                              <a:pt x="371" y="2201"/>
                            </a:lnTo>
                            <a:lnTo>
                              <a:pt x="379" y="2201"/>
                            </a:lnTo>
                            <a:lnTo>
                              <a:pt x="386" y="2201"/>
                            </a:lnTo>
                            <a:lnTo>
                              <a:pt x="394" y="2201"/>
                            </a:lnTo>
                            <a:lnTo>
                              <a:pt x="401" y="2199"/>
                            </a:lnTo>
                            <a:lnTo>
                              <a:pt x="409" y="2199"/>
                            </a:lnTo>
                            <a:lnTo>
                              <a:pt x="415" y="2197"/>
                            </a:lnTo>
                            <a:lnTo>
                              <a:pt x="422" y="2196"/>
                            </a:lnTo>
                            <a:lnTo>
                              <a:pt x="432" y="2196"/>
                            </a:lnTo>
                            <a:lnTo>
                              <a:pt x="439" y="2194"/>
                            </a:lnTo>
                            <a:lnTo>
                              <a:pt x="447" y="2192"/>
                            </a:lnTo>
                            <a:lnTo>
                              <a:pt x="455" y="2190"/>
                            </a:lnTo>
                            <a:lnTo>
                              <a:pt x="462" y="2188"/>
                            </a:lnTo>
                            <a:lnTo>
                              <a:pt x="470" y="2188"/>
                            </a:lnTo>
                            <a:lnTo>
                              <a:pt x="476" y="2184"/>
                            </a:lnTo>
                            <a:lnTo>
                              <a:pt x="483" y="2182"/>
                            </a:lnTo>
                            <a:lnTo>
                              <a:pt x="491" y="2180"/>
                            </a:lnTo>
                            <a:lnTo>
                              <a:pt x="498" y="2175"/>
                            </a:lnTo>
                            <a:lnTo>
                              <a:pt x="504" y="2173"/>
                            </a:lnTo>
                            <a:lnTo>
                              <a:pt x="512" y="2169"/>
                            </a:lnTo>
                            <a:lnTo>
                              <a:pt x="517" y="2165"/>
                            </a:lnTo>
                            <a:lnTo>
                              <a:pt x="525" y="2161"/>
                            </a:lnTo>
                            <a:lnTo>
                              <a:pt x="531" y="2158"/>
                            </a:lnTo>
                            <a:lnTo>
                              <a:pt x="536" y="2154"/>
                            </a:lnTo>
                            <a:lnTo>
                              <a:pt x="542" y="2150"/>
                            </a:lnTo>
                            <a:lnTo>
                              <a:pt x="550" y="2146"/>
                            </a:lnTo>
                            <a:lnTo>
                              <a:pt x="555" y="2142"/>
                            </a:lnTo>
                            <a:lnTo>
                              <a:pt x="559" y="2137"/>
                            </a:lnTo>
                            <a:lnTo>
                              <a:pt x="565" y="2133"/>
                            </a:lnTo>
                            <a:lnTo>
                              <a:pt x="571" y="2129"/>
                            </a:lnTo>
                            <a:lnTo>
                              <a:pt x="576" y="2123"/>
                            </a:lnTo>
                            <a:lnTo>
                              <a:pt x="582" y="2120"/>
                            </a:lnTo>
                            <a:lnTo>
                              <a:pt x="588" y="2114"/>
                            </a:lnTo>
                            <a:lnTo>
                              <a:pt x="592" y="2110"/>
                            </a:lnTo>
                            <a:lnTo>
                              <a:pt x="595" y="2106"/>
                            </a:lnTo>
                            <a:lnTo>
                              <a:pt x="601" y="2101"/>
                            </a:lnTo>
                            <a:lnTo>
                              <a:pt x="605" y="2095"/>
                            </a:lnTo>
                            <a:lnTo>
                              <a:pt x="611" y="2091"/>
                            </a:lnTo>
                            <a:lnTo>
                              <a:pt x="614" y="2085"/>
                            </a:lnTo>
                            <a:lnTo>
                              <a:pt x="618" y="2080"/>
                            </a:lnTo>
                            <a:lnTo>
                              <a:pt x="624" y="2076"/>
                            </a:lnTo>
                            <a:lnTo>
                              <a:pt x="628" y="2070"/>
                            </a:lnTo>
                            <a:lnTo>
                              <a:pt x="632" y="2064"/>
                            </a:lnTo>
                            <a:lnTo>
                              <a:pt x="635" y="2059"/>
                            </a:lnTo>
                            <a:lnTo>
                              <a:pt x="637" y="2055"/>
                            </a:lnTo>
                            <a:lnTo>
                              <a:pt x="643" y="2049"/>
                            </a:lnTo>
                            <a:lnTo>
                              <a:pt x="645" y="2043"/>
                            </a:lnTo>
                            <a:lnTo>
                              <a:pt x="649" y="2040"/>
                            </a:lnTo>
                            <a:lnTo>
                              <a:pt x="652" y="2034"/>
                            </a:lnTo>
                            <a:lnTo>
                              <a:pt x="654" y="2030"/>
                            </a:lnTo>
                            <a:lnTo>
                              <a:pt x="658" y="2024"/>
                            </a:lnTo>
                            <a:lnTo>
                              <a:pt x="660" y="2021"/>
                            </a:lnTo>
                            <a:lnTo>
                              <a:pt x="664" y="2015"/>
                            </a:lnTo>
                            <a:lnTo>
                              <a:pt x="666" y="2011"/>
                            </a:lnTo>
                            <a:lnTo>
                              <a:pt x="668" y="2005"/>
                            </a:lnTo>
                            <a:lnTo>
                              <a:pt x="672" y="2002"/>
                            </a:lnTo>
                            <a:lnTo>
                              <a:pt x="673" y="1998"/>
                            </a:lnTo>
                            <a:lnTo>
                              <a:pt x="675" y="1992"/>
                            </a:lnTo>
                            <a:lnTo>
                              <a:pt x="677" y="1986"/>
                            </a:lnTo>
                            <a:lnTo>
                              <a:pt x="679" y="1983"/>
                            </a:lnTo>
                            <a:lnTo>
                              <a:pt x="681" y="1979"/>
                            </a:lnTo>
                            <a:lnTo>
                              <a:pt x="683" y="1975"/>
                            </a:lnTo>
                            <a:lnTo>
                              <a:pt x="685" y="1971"/>
                            </a:lnTo>
                            <a:lnTo>
                              <a:pt x="687" y="1969"/>
                            </a:lnTo>
                            <a:lnTo>
                              <a:pt x="689" y="1964"/>
                            </a:lnTo>
                            <a:lnTo>
                              <a:pt x="691" y="1962"/>
                            </a:lnTo>
                            <a:lnTo>
                              <a:pt x="692" y="1958"/>
                            </a:lnTo>
                            <a:lnTo>
                              <a:pt x="692" y="1954"/>
                            </a:lnTo>
                            <a:lnTo>
                              <a:pt x="692" y="1952"/>
                            </a:lnTo>
                            <a:lnTo>
                              <a:pt x="694" y="1950"/>
                            </a:lnTo>
                            <a:lnTo>
                              <a:pt x="696" y="1945"/>
                            </a:lnTo>
                            <a:lnTo>
                              <a:pt x="698" y="1941"/>
                            </a:lnTo>
                            <a:lnTo>
                              <a:pt x="700" y="1937"/>
                            </a:lnTo>
                            <a:lnTo>
                              <a:pt x="700" y="1935"/>
                            </a:lnTo>
                            <a:lnTo>
                              <a:pt x="700" y="1933"/>
                            </a:lnTo>
                            <a:lnTo>
                              <a:pt x="702" y="1933"/>
                            </a:lnTo>
                            <a:lnTo>
                              <a:pt x="740" y="1943"/>
                            </a:lnTo>
                            <a:lnTo>
                              <a:pt x="740" y="1943"/>
                            </a:lnTo>
                            <a:lnTo>
                              <a:pt x="738" y="1945"/>
                            </a:lnTo>
                            <a:lnTo>
                              <a:pt x="738" y="1947"/>
                            </a:lnTo>
                            <a:lnTo>
                              <a:pt x="738" y="1950"/>
                            </a:lnTo>
                            <a:lnTo>
                              <a:pt x="738" y="1954"/>
                            </a:lnTo>
                            <a:lnTo>
                              <a:pt x="738" y="1958"/>
                            </a:lnTo>
                            <a:lnTo>
                              <a:pt x="736" y="1962"/>
                            </a:lnTo>
                            <a:lnTo>
                              <a:pt x="736" y="1964"/>
                            </a:lnTo>
                            <a:lnTo>
                              <a:pt x="736" y="1967"/>
                            </a:lnTo>
                            <a:lnTo>
                              <a:pt x="736" y="1971"/>
                            </a:lnTo>
                            <a:lnTo>
                              <a:pt x="736" y="1975"/>
                            </a:lnTo>
                            <a:lnTo>
                              <a:pt x="736" y="1979"/>
                            </a:lnTo>
                            <a:lnTo>
                              <a:pt x="736" y="1983"/>
                            </a:lnTo>
                            <a:lnTo>
                              <a:pt x="736" y="1985"/>
                            </a:lnTo>
                            <a:lnTo>
                              <a:pt x="736" y="1990"/>
                            </a:lnTo>
                            <a:lnTo>
                              <a:pt x="736" y="1994"/>
                            </a:lnTo>
                            <a:lnTo>
                              <a:pt x="736" y="1998"/>
                            </a:lnTo>
                            <a:lnTo>
                              <a:pt x="736" y="2004"/>
                            </a:lnTo>
                            <a:lnTo>
                              <a:pt x="736" y="2007"/>
                            </a:lnTo>
                            <a:lnTo>
                              <a:pt x="736" y="2013"/>
                            </a:lnTo>
                            <a:lnTo>
                              <a:pt x="736" y="2015"/>
                            </a:lnTo>
                            <a:lnTo>
                              <a:pt x="736" y="2021"/>
                            </a:lnTo>
                            <a:lnTo>
                              <a:pt x="736" y="2026"/>
                            </a:lnTo>
                            <a:lnTo>
                              <a:pt x="736" y="2030"/>
                            </a:lnTo>
                            <a:lnTo>
                              <a:pt x="736" y="2036"/>
                            </a:lnTo>
                            <a:lnTo>
                              <a:pt x="736" y="2042"/>
                            </a:lnTo>
                            <a:lnTo>
                              <a:pt x="736" y="2047"/>
                            </a:lnTo>
                            <a:lnTo>
                              <a:pt x="738" y="2051"/>
                            </a:lnTo>
                            <a:lnTo>
                              <a:pt x="738" y="2057"/>
                            </a:lnTo>
                            <a:lnTo>
                              <a:pt x="738" y="2062"/>
                            </a:lnTo>
                            <a:lnTo>
                              <a:pt x="740" y="2066"/>
                            </a:lnTo>
                            <a:lnTo>
                              <a:pt x="740" y="2072"/>
                            </a:lnTo>
                            <a:lnTo>
                              <a:pt x="742" y="2078"/>
                            </a:lnTo>
                            <a:lnTo>
                              <a:pt x="744" y="2083"/>
                            </a:lnTo>
                            <a:lnTo>
                              <a:pt x="744" y="2091"/>
                            </a:lnTo>
                            <a:lnTo>
                              <a:pt x="746" y="2095"/>
                            </a:lnTo>
                            <a:lnTo>
                              <a:pt x="748" y="2101"/>
                            </a:lnTo>
                            <a:lnTo>
                              <a:pt x="748" y="2106"/>
                            </a:lnTo>
                            <a:lnTo>
                              <a:pt x="751" y="2110"/>
                            </a:lnTo>
                            <a:lnTo>
                              <a:pt x="753" y="2118"/>
                            </a:lnTo>
                            <a:lnTo>
                              <a:pt x="753" y="2123"/>
                            </a:lnTo>
                            <a:lnTo>
                              <a:pt x="757" y="2129"/>
                            </a:lnTo>
                            <a:lnTo>
                              <a:pt x="759" y="2135"/>
                            </a:lnTo>
                            <a:lnTo>
                              <a:pt x="761" y="2139"/>
                            </a:lnTo>
                            <a:lnTo>
                              <a:pt x="765" y="2144"/>
                            </a:lnTo>
                            <a:lnTo>
                              <a:pt x="767" y="2150"/>
                            </a:lnTo>
                            <a:lnTo>
                              <a:pt x="769" y="2156"/>
                            </a:lnTo>
                            <a:lnTo>
                              <a:pt x="772" y="2159"/>
                            </a:lnTo>
                            <a:lnTo>
                              <a:pt x="776" y="2165"/>
                            </a:lnTo>
                            <a:lnTo>
                              <a:pt x="780" y="2171"/>
                            </a:lnTo>
                            <a:lnTo>
                              <a:pt x="782" y="2175"/>
                            </a:lnTo>
                            <a:lnTo>
                              <a:pt x="786" y="2180"/>
                            </a:lnTo>
                            <a:lnTo>
                              <a:pt x="789" y="2186"/>
                            </a:lnTo>
                            <a:lnTo>
                              <a:pt x="795" y="2190"/>
                            </a:lnTo>
                            <a:lnTo>
                              <a:pt x="799" y="2196"/>
                            </a:lnTo>
                            <a:lnTo>
                              <a:pt x="805" y="2201"/>
                            </a:lnTo>
                            <a:lnTo>
                              <a:pt x="808" y="2205"/>
                            </a:lnTo>
                            <a:lnTo>
                              <a:pt x="814" y="2209"/>
                            </a:lnTo>
                            <a:lnTo>
                              <a:pt x="818" y="2213"/>
                            </a:lnTo>
                            <a:lnTo>
                              <a:pt x="824" y="2216"/>
                            </a:lnTo>
                            <a:lnTo>
                              <a:pt x="828" y="2222"/>
                            </a:lnTo>
                            <a:lnTo>
                              <a:pt x="833" y="2224"/>
                            </a:lnTo>
                            <a:lnTo>
                              <a:pt x="839" y="2228"/>
                            </a:lnTo>
                            <a:lnTo>
                              <a:pt x="845" y="2232"/>
                            </a:lnTo>
                            <a:lnTo>
                              <a:pt x="848" y="2235"/>
                            </a:lnTo>
                            <a:lnTo>
                              <a:pt x="854" y="2239"/>
                            </a:lnTo>
                            <a:lnTo>
                              <a:pt x="858" y="2243"/>
                            </a:lnTo>
                            <a:lnTo>
                              <a:pt x="864" y="2245"/>
                            </a:lnTo>
                            <a:lnTo>
                              <a:pt x="867" y="2249"/>
                            </a:lnTo>
                            <a:lnTo>
                              <a:pt x="873" y="2253"/>
                            </a:lnTo>
                            <a:lnTo>
                              <a:pt x="877" y="2256"/>
                            </a:lnTo>
                            <a:lnTo>
                              <a:pt x="883" y="2258"/>
                            </a:lnTo>
                            <a:lnTo>
                              <a:pt x="890" y="2260"/>
                            </a:lnTo>
                            <a:lnTo>
                              <a:pt x="896" y="2264"/>
                            </a:lnTo>
                            <a:lnTo>
                              <a:pt x="900" y="2266"/>
                            </a:lnTo>
                            <a:lnTo>
                              <a:pt x="904" y="2268"/>
                            </a:lnTo>
                            <a:lnTo>
                              <a:pt x="907" y="2270"/>
                            </a:lnTo>
                            <a:lnTo>
                              <a:pt x="913" y="2273"/>
                            </a:lnTo>
                            <a:lnTo>
                              <a:pt x="919" y="2275"/>
                            </a:lnTo>
                            <a:lnTo>
                              <a:pt x="925" y="2277"/>
                            </a:lnTo>
                            <a:lnTo>
                              <a:pt x="928" y="2279"/>
                            </a:lnTo>
                            <a:lnTo>
                              <a:pt x="934" y="2281"/>
                            </a:lnTo>
                            <a:lnTo>
                              <a:pt x="938" y="2283"/>
                            </a:lnTo>
                            <a:lnTo>
                              <a:pt x="942" y="2285"/>
                            </a:lnTo>
                            <a:lnTo>
                              <a:pt x="947" y="2287"/>
                            </a:lnTo>
                            <a:lnTo>
                              <a:pt x="951" y="2289"/>
                            </a:lnTo>
                            <a:lnTo>
                              <a:pt x="955" y="2289"/>
                            </a:lnTo>
                            <a:lnTo>
                              <a:pt x="961" y="2291"/>
                            </a:lnTo>
                            <a:lnTo>
                              <a:pt x="964" y="2291"/>
                            </a:lnTo>
                            <a:lnTo>
                              <a:pt x="968" y="2294"/>
                            </a:lnTo>
                            <a:lnTo>
                              <a:pt x="972" y="2294"/>
                            </a:lnTo>
                            <a:lnTo>
                              <a:pt x="978" y="2294"/>
                            </a:lnTo>
                            <a:lnTo>
                              <a:pt x="982" y="2296"/>
                            </a:lnTo>
                            <a:lnTo>
                              <a:pt x="985" y="2296"/>
                            </a:lnTo>
                            <a:lnTo>
                              <a:pt x="989" y="2296"/>
                            </a:lnTo>
                            <a:lnTo>
                              <a:pt x="993" y="2298"/>
                            </a:lnTo>
                            <a:lnTo>
                              <a:pt x="997" y="2298"/>
                            </a:lnTo>
                            <a:lnTo>
                              <a:pt x="1001" y="2298"/>
                            </a:lnTo>
                            <a:lnTo>
                              <a:pt x="1004" y="2298"/>
                            </a:lnTo>
                            <a:lnTo>
                              <a:pt x="1008" y="2300"/>
                            </a:lnTo>
                            <a:lnTo>
                              <a:pt x="1010" y="2300"/>
                            </a:lnTo>
                            <a:lnTo>
                              <a:pt x="1014" y="2300"/>
                            </a:lnTo>
                            <a:lnTo>
                              <a:pt x="1016" y="2300"/>
                            </a:lnTo>
                            <a:lnTo>
                              <a:pt x="1020" y="2300"/>
                            </a:lnTo>
                            <a:lnTo>
                              <a:pt x="1022" y="2300"/>
                            </a:lnTo>
                            <a:lnTo>
                              <a:pt x="1025" y="2302"/>
                            </a:lnTo>
                            <a:lnTo>
                              <a:pt x="1029" y="2300"/>
                            </a:lnTo>
                            <a:lnTo>
                              <a:pt x="1035" y="2300"/>
                            </a:lnTo>
                            <a:lnTo>
                              <a:pt x="1039" y="2298"/>
                            </a:lnTo>
                            <a:lnTo>
                              <a:pt x="1042" y="2298"/>
                            </a:lnTo>
                            <a:lnTo>
                              <a:pt x="1044" y="2296"/>
                            </a:lnTo>
                            <a:lnTo>
                              <a:pt x="1048" y="2296"/>
                            </a:lnTo>
                            <a:lnTo>
                              <a:pt x="1048" y="2294"/>
                            </a:lnTo>
                            <a:lnTo>
                              <a:pt x="1050" y="2294"/>
                            </a:lnTo>
                            <a:lnTo>
                              <a:pt x="1246" y="1334"/>
                            </a:lnTo>
                            <a:lnTo>
                              <a:pt x="1246" y="1333"/>
                            </a:lnTo>
                            <a:lnTo>
                              <a:pt x="1248" y="1331"/>
                            </a:lnTo>
                            <a:lnTo>
                              <a:pt x="1250" y="1327"/>
                            </a:lnTo>
                            <a:lnTo>
                              <a:pt x="1252" y="1325"/>
                            </a:lnTo>
                            <a:lnTo>
                              <a:pt x="1252" y="1323"/>
                            </a:lnTo>
                            <a:lnTo>
                              <a:pt x="1254" y="1319"/>
                            </a:lnTo>
                            <a:lnTo>
                              <a:pt x="1256" y="1315"/>
                            </a:lnTo>
                            <a:lnTo>
                              <a:pt x="1259" y="1312"/>
                            </a:lnTo>
                            <a:lnTo>
                              <a:pt x="1259" y="1306"/>
                            </a:lnTo>
                            <a:lnTo>
                              <a:pt x="1263" y="1302"/>
                            </a:lnTo>
                            <a:lnTo>
                              <a:pt x="1265" y="1296"/>
                            </a:lnTo>
                            <a:lnTo>
                              <a:pt x="1269" y="1293"/>
                            </a:lnTo>
                            <a:lnTo>
                              <a:pt x="1271" y="1285"/>
                            </a:lnTo>
                            <a:lnTo>
                              <a:pt x="1275" y="1281"/>
                            </a:lnTo>
                            <a:lnTo>
                              <a:pt x="1276" y="1274"/>
                            </a:lnTo>
                            <a:lnTo>
                              <a:pt x="1280" y="1266"/>
                            </a:lnTo>
                            <a:lnTo>
                              <a:pt x="1284" y="1258"/>
                            </a:lnTo>
                            <a:lnTo>
                              <a:pt x="1288" y="1249"/>
                            </a:lnTo>
                            <a:lnTo>
                              <a:pt x="1290" y="1241"/>
                            </a:lnTo>
                            <a:lnTo>
                              <a:pt x="1294" y="1234"/>
                            </a:lnTo>
                            <a:lnTo>
                              <a:pt x="1297" y="1224"/>
                            </a:lnTo>
                            <a:lnTo>
                              <a:pt x="1301" y="1217"/>
                            </a:lnTo>
                            <a:lnTo>
                              <a:pt x="1305" y="1207"/>
                            </a:lnTo>
                            <a:lnTo>
                              <a:pt x="1309" y="1198"/>
                            </a:lnTo>
                            <a:lnTo>
                              <a:pt x="1313" y="1188"/>
                            </a:lnTo>
                            <a:lnTo>
                              <a:pt x="1316" y="1177"/>
                            </a:lnTo>
                            <a:lnTo>
                              <a:pt x="1320" y="1165"/>
                            </a:lnTo>
                            <a:lnTo>
                              <a:pt x="1324" y="1154"/>
                            </a:lnTo>
                            <a:lnTo>
                              <a:pt x="1330" y="1144"/>
                            </a:lnTo>
                            <a:lnTo>
                              <a:pt x="1334" y="1133"/>
                            </a:lnTo>
                            <a:lnTo>
                              <a:pt x="1337" y="1122"/>
                            </a:lnTo>
                            <a:lnTo>
                              <a:pt x="1339" y="1108"/>
                            </a:lnTo>
                            <a:lnTo>
                              <a:pt x="1345" y="1097"/>
                            </a:lnTo>
                            <a:lnTo>
                              <a:pt x="1349" y="1084"/>
                            </a:lnTo>
                            <a:lnTo>
                              <a:pt x="1353" y="1070"/>
                            </a:lnTo>
                            <a:lnTo>
                              <a:pt x="1354" y="1059"/>
                            </a:lnTo>
                            <a:lnTo>
                              <a:pt x="1358" y="1044"/>
                            </a:lnTo>
                            <a:lnTo>
                              <a:pt x="1362" y="1032"/>
                            </a:lnTo>
                            <a:lnTo>
                              <a:pt x="1366" y="1017"/>
                            </a:lnTo>
                            <a:lnTo>
                              <a:pt x="1370" y="1004"/>
                            </a:lnTo>
                            <a:lnTo>
                              <a:pt x="1372" y="988"/>
                            </a:lnTo>
                            <a:lnTo>
                              <a:pt x="1375" y="975"/>
                            </a:lnTo>
                            <a:lnTo>
                              <a:pt x="1377" y="960"/>
                            </a:lnTo>
                            <a:lnTo>
                              <a:pt x="1381" y="947"/>
                            </a:lnTo>
                            <a:lnTo>
                              <a:pt x="1383" y="931"/>
                            </a:lnTo>
                            <a:lnTo>
                              <a:pt x="1387" y="916"/>
                            </a:lnTo>
                            <a:lnTo>
                              <a:pt x="1389" y="901"/>
                            </a:lnTo>
                            <a:lnTo>
                              <a:pt x="1391" y="886"/>
                            </a:lnTo>
                            <a:lnTo>
                              <a:pt x="1392" y="871"/>
                            </a:lnTo>
                            <a:lnTo>
                              <a:pt x="1394" y="855"/>
                            </a:lnTo>
                            <a:lnTo>
                              <a:pt x="1396" y="838"/>
                            </a:lnTo>
                            <a:lnTo>
                              <a:pt x="1398" y="823"/>
                            </a:lnTo>
                            <a:lnTo>
                              <a:pt x="1398" y="806"/>
                            </a:lnTo>
                            <a:lnTo>
                              <a:pt x="1400" y="791"/>
                            </a:lnTo>
                            <a:lnTo>
                              <a:pt x="1402" y="774"/>
                            </a:lnTo>
                            <a:lnTo>
                              <a:pt x="1402" y="757"/>
                            </a:lnTo>
                            <a:lnTo>
                              <a:pt x="1402" y="741"/>
                            </a:lnTo>
                            <a:lnTo>
                              <a:pt x="1402" y="724"/>
                            </a:lnTo>
                            <a:lnTo>
                              <a:pt x="1402" y="705"/>
                            </a:lnTo>
                            <a:lnTo>
                              <a:pt x="1402" y="690"/>
                            </a:lnTo>
                            <a:lnTo>
                              <a:pt x="1400" y="673"/>
                            </a:lnTo>
                            <a:lnTo>
                              <a:pt x="1400" y="656"/>
                            </a:lnTo>
                            <a:lnTo>
                              <a:pt x="1398" y="654"/>
                            </a:lnTo>
                            <a:lnTo>
                              <a:pt x="1398" y="652"/>
                            </a:lnTo>
                            <a:lnTo>
                              <a:pt x="1398" y="648"/>
                            </a:lnTo>
                            <a:lnTo>
                              <a:pt x="1398" y="644"/>
                            </a:lnTo>
                            <a:lnTo>
                              <a:pt x="1398" y="643"/>
                            </a:lnTo>
                            <a:lnTo>
                              <a:pt x="1398" y="639"/>
                            </a:lnTo>
                            <a:lnTo>
                              <a:pt x="1396" y="637"/>
                            </a:lnTo>
                            <a:lnTo>
                              <a:pt x="1396" y="633"/>
                            </a:lnTo>
                            <a:lnTo>
                              <a:pt x="1396" y="631"/>
                            </a:lnTo>
                            <a:lnTo>
                              <a:pt x="1396" y="627"/>
                            </a:lnTo>
                            <a:lnTo>
                              <a:pt x="1396" y="623"/>
                            </a:lnTo>
                            <a:lnTo>
                              <a:pt x="1394" y="620"/>
                            </a:lnTo>
                            <a:lnTo>
                              <a:pt x="1394" y="618"/>
                            </a:lnTo>
                            <a:lnTo>
                              <a:pt x="1394" y="616"/>
                            </a:lnTo>
                            <a:lnTo>
                              <a:pt x="1392" y="612"/>
                            </a:lnTo>
                            <a:lnTo>
                              <a:pt x="1392" y="610"/>
                            </a:lnTo>
                            <a:lnTo>
                              <a:pt x="1392" y="608"/>
                            </a:lnTo>
                            <a:lnTo>
                              <a:pt x="1391" y="604"/>
                            </a:lnTo>
                            <a:lnTo>
                              <a:pt x="1391" y="603"/>
                            </a:lnTo>
                            <a:lnTo>
                              <a:pt x="1391" y="599"/>
                            </a:lnTo>
                            <a:lnTo>
                              <a:pt x="1389" y="597"/>
                            </a:lnTo>
                            <a:lnTo>
                              <a:pt x="1389" y="593"/>
                            </a:lnTo>
                            <a:lnTo>
                              <a:pt x="1389" y="589"/>
                            </a:lnTo>
                            <a:lnTo>
                              <a:pt x="1389" y="587"/>
                            </a:lnTo>
                            <a:lnTo>
                              <a:pt x="1387" y="585"/>
                            </a:lnTo>
                            <a:lnTo>
                              <a:pt x="1385" y="582"/>
                            </a:lnTo>
                            <a:lnTo>
                              <a:pt x="1385" y="580"/>
                            </a:lnTo>
                            <a:lnTo>
                              <a:pt x="1383" y="578"/>
                            </a:lnTo>
                            <a:lnTo>
                              <a:pt x="1383" y="572"/>
                            </a:lnTo>
                            <a:lnTo>
                              <a:pt x="1381" y="568"/>
                            </a:lnTo>
                            <a:lnTo>
                              <a:pt x="1377" y="563"/>
                            </a:lnTo>
                            <a:lnTo>
                              <a:pt x="1375" y="557"/>
                            </a:lnTo>
                            <a:lnTo>
                              <a:pt x="1373" y="553"/>
                            </a:lnTo>
                            <a:lnTo>
                              <a:pt x="1370" y="547"/>
                            </a:lnTo>
                            <a:lnTo>
                              <a:pt x="1366" y="544"/>
                            </a:lnTo>
                            <a:lnTo>
                              <a:pt x="1364" y="540"/>
                            </a:lnTo>
                            <a:lnTo>
                              <a:pt x="1360" y="536"/>
                            </a:lnTo>
                            <a:lnTo>
                              <a:pt x="1356" y="532"/>
                            </a:lnTo>
                            <a:lnTo>
                              <a:pt x="1353" y="528"/>
                            </a:lnTo>
                            <a:lnTo>
                              <a:pt x="1349" y="525"/>
                            </a:lnTo>
                            <a:lnTo>
                              <a:pt x="1345" y="523"/>
                            </a:lnTo>
                            <a:lnTo>
                              <a:pt x="1339" y="521"/>
                            </a:lnTo>
                            <a:lnTo>
                              <a:pt x="1335" y="517"/>
                            </a:lnTo>
                            <a:lnTo>
                              <a:pt x="1332" y="515"/>
                            </a:lnTo>
                            <a:lnTo>
                              <a:pt x="1326" y="515"/>
                            </a:lnTo>
                            <a:lnTo>
                              <a:pt x="1322" y="513"/>
                            </a:lnTo>
                            <a:lnTo>
                              <a:pt x="1318" y="511"/>
                            </a:lnTo>
                            <a:lnTo>
                              <a:pt x="1316" y="511"/>
                            </a:lnTo>
                            <a:lnTo>
                              <a:pt x="1313" y="511"/>
                            </a:lnTo>
                            <a:lnTo>
                              <a:pt x="1311" y="511"/>
                            </a:lnTo>
                            <a:lnTo>
                              <a:pt x="1309" y="509"/>
                            </a:lnTo>
                            <a:lnTo>
                              <a:pt x="1305" y="509"/>
                            </a:lnTo>
                            <a:lnTo>
                              <a:pt x="1303" y="509"/>
                            </a:lnTo>
                            <a:lnTo>
                              <a:pt x="1301" y="509"/>
                            </a:lnTo>
                            <a:lnTo>
                              <a:pt x="1297" y="509"/>
                            </a:lnTo>
                            <a:lnTo>
                              <a:pt x="1295" y="509"/>
                            </a:lnTo>
                            <a:lnTo>
                              <a:pt x="1292" y="509"/>
                            </a:lnTo>
                            <a:lnTo>
                              <a:pt x="1290" y="509"/>
                            </a:lnTo>
                            <a:lnTo>
                              <a:pt x="1284" y="509"/>
                            </a:lnTo>
                            <a:lnTo>
                              <a:pt x="1280" y="509"/>
                            </a:lnTo>
                            <a:lnTo>
                              <a:pt x="1275" y="509"/>
                            </a:lnTo>
                            <a:lnTo>
                              <a:pt x="1269" y="509"/>
                            </a:lnTo>
                            <a:lnTo>
                              <a:pt x="1265" y="509"/>
                            </a:lnTo>
                            <a:lnTo>
                              <a:pt x="1259" y="509"/>
                            </a:lnTo>
                            <a:lnTo>
                              <a:pt x="1256" y="511"/>
                            </a:lnTo>
                            <a:lnTo>
                              <a:pt x="1252" y="511"/>
                            </a:lnTo>
                            <a:lnTo>
                              <a:pt x="1246" y="515"/>
                            </a:lnTo>
                            <a:lnTo>
                              <a:pt x="1242" y="515"/>
                            </a:lnTo>
                            <a:lnTo>
                              <a:pt x="1238" y="517"/>
                            </a:lnTo>
                            <a:lnTo>
                              <a:pt x="1235" y="521"/>
                            </a:lnTo>
                            <a:lnTo>
                              <a:pt x="1231" y="523"/>
                            </a:lnTo>
                            <a:lnTo>
                              <a:pt x="1229" y="525"/>
                            </a:lnTo>
                            <a:lnTo>
                              <a:pt x="1225" y="527"/>
                            </a:lnTo>
                            <a:lnTo>
                              <a:pt x="1221" y="530"/>
                            </a:lnTo>
                            <a:lnTo>
                              <a:pt x="1219" y="532"/>
                            </a:lnTo>
                            <a:lnTo>
                              <a:pt x="1216" y="538"/>
                            </a:lnTo>
                            <a:lnTo>
                              <a:pt x="1214" y="542"/>
                            </a:lnTo>
                            <a:lnTo>
                              <a:pt x="1212" y="546"/>
                            </a:lnTo>
                            <a:lnTo>
                              <a:pt x="1210" y="549"/>
                            </a:lnTo>
                            <a:lnTo>
                              <a:pt x="1208" y="555"/>
                            </a:lnTo>
                            <a:lnTo>
                              <a:pt x="1208" y="557"/>
                            </a:lnTo>
                            <a:lnTo>
                              <a:pt x="1206" y="559"/>
                            </a:lnTo>
                            <a:lnTo>
                              <a:pt x="1204" y="561"/>
                            </a:lnTo>
                            <a:lnTo>
                              <a:pt x="1204" y="565"/>
                            </a:lnTo>
                            <a:lnTo>
                              <a:pt x="1204" y="566"/>
                            </a:lnTo>
                            <a:lnTo>
                              <a:pt x="1204" y="570"/>
                            </a:lnTo>
                            <a:lnTo>
                              <a:pt x="1204" y="572"/>
                            </a:lnTo>
                            <a:lnTo>
                              <a:pt x="1204" y="576"/>
                            </a:lnTo>
                            <a:lnTo>
                              <a:pt x="1139" y="895"/>
                            </a:lnTo>
                            <a:lnTo>
                              <a:pt x="1136" y="893"/>
                            </a:lnTo>
                            <a:lnTo>
                              <a:pt x="1132" y="892"/>
                            </a:lnTo>
                            <a:lnTo>
                              <a:pt x="1126" y="888"/>
                            </a:lnTo>
                            <a:lnTo>
                              <a:pt x="1122" y="886"/>
                            </a:lnTo>
                            <a:lnTo>
                              <a:pt x="1117" y="884"/>
                            </a:lnTo>
                            <a:lnTo>
                              <a:pt x="1113" y="880"/>
                            </a:lnTo>
                            <a:lnTo>
                              <a:pt x="1107" y="878"/>
                            </a:lnTo>
                            <a:lnTo>
                              <a:pt x="1105" y="876"/>
                            </a:lnTo>
                            <a:lnTo>
                              <a:pt x="1227" y="316"/>
                            </a:lnTo>
                            <a:lnTo>
                              <a:pt x="1227" y="312"/>
                            </a:lnTo>
                            <a:lnTo>
                              <a:pt x="1227" y="308"/>
                            </a:lnTo>
                            <a:lnTo>
                              <a:pt x="1229" y="306"/>
                            </a:lnTo>
                            <a:lnTo>
                              <a:pt x="1229" y="304"/>
                            </a:lnTo>
                            <a:lnTo>
                              <a:pt x="1229" y="300"/>
                            </a:lnTo>
                            <a:lnTo>
                              <a:pt x="1229" y="298"/>
                            </a:lnTo>
                            <a:lnTo>
                              <a:pt x="1229" y="295"/>
                            </a:lnTo>
                            <a:lnTo>
                              <a:pt x="1229" y="293"/>
                            </a:lnTo>
                            <a:lnTo>
                              <a:pt x="1229" y="291"/>
                            </a:lnTo>
                            <a:lnTo>
                              <a:pt x="1229" y="287"/>
                            </a:lnTo>
                            <a:lnTo>
                              <a:pt x="1229" y="285"/>
                            </a:lnTo>
                            <a:lnTo>
                              <a:pt x="1229" y="283"/>
                            </a:lnTo>
                            <a:lnTo>
                              <a:pt x="1229" y="278"/>
                            </a:lnTo>
                            <a:lnTo>
                              <a:pt x="1227" y="272"/>
                            </a:lnTo>
                            <a:lnTo>
                              <a:pt x="1225" y="268"/>
                            </a:lnTo>
                            <a:lnTo>
                              <a:pt x="1225" y="262"/>
                            </a:lnTo>
                            <a:lnTo>
                              <a:pt x="1223" y="257"/>
                            </a:lnTo>
                            <a:lnTo>
                              <a:pt x="1221" y="253"/>
                            </a:lnTo>
                            <a:lnTo>
                              <a:pt x="1219" y="247"/>
                            </a:lnTo>
                            <a:lnTo>
                              <a:pt x="1217" y="243"/>
                            </a:lnTo>
                            <a:lnTo>
                              <a:pt x="1216" y="240"/>
                            </a:lnTo>
                            <a:lnTo>
                              <a:pt x="1214" y="236"/>
                            </a:lnTo>
                            <a:lnTo>
                              <a:pt x="1210" y="232"/>
                            </a:lnTo>
                            <a:lnTo>
                              <a:pt x="1206" y="226"/>
                            </a:lnTo>
                            <a:lnTo>
                              <a:pt x="1202" y="222"/>
                            </a:lnTo>
                            <a:lnTo>
                              <a:pt x="1200" y="219"/>
                            </a:lnTo>
                            <a:lnTo>
                              <a:pt x="1197" y="215"/>
                            </a:lnTo>
                            <a:lnTo>
                              <a:pt x="1193" y="211"/>
                            </a:lnTo>
                            <a:lnTo>
                              <a:pt x="1189" y="207"/>
                            </a:lnTo>
                            <a:lnTo>
                              <a:pt x="1185" y="205"/>
                            </a:lnTo>
                            <a:lnTo>
                              <a:pt x="1179" y="203"/>
                            </a:lnTo>
                            <a:lnTo>
                              <a:pt x="1176" y="200"/>
                            </a:lnTo>
                            <a:lnTo>
                              <a:pt x="1172" y="198"/>
                            </a:lnTo>
                            <a:lnTo>
                              <a:pt x="1166" y="194"/>
                            </a:lnTo>
                            <a:lnTo>
                              <a:pt x="1160" y="192"/>
                            </a:lnTo>
                            <a:lnTo>
                              <a:pt x="1157" y="192"/>
                            </a:lnTo>
                            <a:lnTo>
                              <a:pt x="1151" y="190"/>
                            </a:lnTo>
                            <a:lnTo>
                              <a:pt x="1147" y="190"/>
                            </a:lnTo>
                            <a:lnTo>
                              <a:pt x="1143" y="188"/>
                            </a:lnTo>
                            <a:lnTo>
                              <a:pt x="1141" y="186"/>
                            </a:lnTo>
                            <a:lnTo>
                              <a:pt x="1138" y="186"/>
                            </a:lnTo>
                            <a:lnTo>
                              <a:pt x="1136" y="186"/>
                            </a:lnTo>
                            <a:lnTo>
                              <a:pt x="1134" y="186"/>
                            </a:lnTo>
                            <a:lnTo>
                              <a:pt x="1130" y="186"/>
                            </a:lnTo>
                            <a:lnTo>
                              <a:pt x="1128" y="186"/>
                            </a:lnTo>
                            <a:lnTo>
                              <a:pt x="1124" y="186"/>
                            </a:lnTo>
                            <a:lnTo>
                              <a:pt x="1122" y="186"/>
                            </a:lnTo>
                            <a:lnTo>
                              <a:pt x="1120" y="186"/>
                            </a:lnTo>
                            <a:lnTo>
                              <a:pt x="1117" y="186"/>
                            </a:lnTo>
                            <a:lnTo>
                              <a:pt x="1115" y="186"/>
                            </a:lnTo>
                            <a:lnTo>
                              <a:pt x="1109" y="186"/>
                            </a:lnTo>
                            <a:lnTo>
                              <a:pt x="1105" y="188"/>
                            </a:lnTo>
                            <a:lnTo>
                              <a:pt x="1100" y="188"/>
                            </a:lnTo>
                            <a:lnTo>
                              <a:pt x="1094" y="190"/>
                            </a:lnTo>
                            <a:lnTo>
                              <a:pt x="1090" y="192"/>
                            </a:lnTo>
                            <a:lnTo>
                              <a:pt x="1086" y="192"/>
                            </a:lnTo>
                            <a:lnTo>
                              <a:pt x="1081" y="194"/>
                            </a:lnTo>
                            <a:lnTo>
                              <a:pt x="1077" y="198"/>
                            </a:lnTo>
                            <a:lnTo>
                              <a:pt x="1073" y="200"/>
                            </a:lnTo>
                            <a:lnTo>
                              <a:pt x="1067" y="203"/>
                            </a:lnTo>
                            <a:lnTo>
                              <a:pt x="1063" y="205"/>
                            </a:lnTo>
                            <a:lnTo>
                              <a:pt x="1058" y="207"/>
                            </a:lnTo>
                            <a:lnTo>
                              <a:pt x="1054" y="211"/>
                            </a:lnTo>
                            <a:lnTo>
                              <a:pt x="1050" y="215"/>
                            </a:lnTo>
                            <a:lnTo>
                              <a:pt x="1048" y="219"/>
                            </a:lnTo>
                            <a:lnTo>
                              <a:pt x="1044" y="222"/>
                            </a:lnTo>
                            <a:lnTo>
                              <a:pt x="1041" y="226"/>
                            </a:lnTo>
                            <a:lnTo>
                              <a:pt x="1039" y="232"/>
                            </a:lnTo>
                            <a:lnTo>
                              <a:pt x="1035" y="234"/>
                            </a:lnTo>
                            <a:lnTo>
                              <a:pt x="1033" y="240"/>
                            </a:lnTo>
                            <a:lnTo>
                              <a:pt x="1029" y="243"/>
                            </a:lnTo>
                            <a:lnTo>
                              <a:pt x="1027" y="249"/>
                            </a:lnTo>
                            <a:lnTo>
                              <a:pt x="1025" y="253"/>
                            </a:lnTo>
                            <a:lnTo>
                              <a:pt x="1023" y="259"/>
                            </a:lnTo>
                            <a:lnTo>
                              <a:pt x="1022" y="260"/>
                            </a:lnTo>
                            <a:lnTo>
                              <a:pt x="1022" y="264"/>
                            </a:lnTo>
                            <a:lnTo>
                              <a:pt x="1022" y="266"/>
                            </a:lnTo>
                            <a:lnTo>
                              <a:pt x="1022" y="270"/>
                            </a:lnTo>
                            <a:lnTo>
                              <a:pt x="919" y="730"/>
                            </a:lnTo>
                            <a:lnTo>
                              <a:pt x="915" y="728"/>
                            </a:lnTo>
                            <a:lnTo>
                              <a:pt x="913" y="726"/>
                            </a:lnTo>
                            <a:lnTo>
                              <a:pt x="907" y="724"/>
                            </a:lnTo>
                            <a:lnTo>
                              <a:pt x="905" y="720"/>
                            </a:lnTo>
                            <a:lnTo>
                              <a:pt x="904" y="719"/>
                            </a:lnTo>
                            <a:lnTo>
                              <a:pt x="900" y="717"/>
                            </a:lnTo>
                            <a:lnTo>
                              <a:pt x="896" y="713"/>
                            </a:lnTo>
                            <a:lnTo>
                              <a:pt x="892" y="713"/>
                            </a:lnTo>
                            <a:lnTo>
                              <a:pt x="1022" y="129"/>
                            </a:lnTo>
                            <a:lnTo>
                              <a:pt x="1022" y="125"/>
                            </a:lnTo>
                            <a:lnTo>
                              <a:pt x="1022" y="124"/>
                            </a:lnTo>
                            <a:lnTo>
                              <a:pt x="1022" y="120"/>
                            </a:lnTo>
                            <a:lnTo>
                              <a:pt x="1022" y="118"/>
                            </a:lnTo>
                            <a:lnTo>
                              <a:pt x="1022" y="114"/>
                            </a:lnTo>
                            <a:lnTo>
                              <a:pt x="1022" y="112"/>
                            </a:lnTo>
                            <a:lnTo>
                              <a:pt x="1022" y="110"/>
                            </a:lnTo>
                            <a:lnTo>
                              <a:pt x="1022" y="106"/>
                            </a:lnTo>
                            <a:lnTo>
                              <a:pt x="1022" y="105"/>
                            </a:lnTo>
                            <a:lnTo>
                              <a:pt x="1022" y="103"/>
                            </a:lnTo>
                            <a:lnTo>
                              <a:pt x="1022" y="99"/>
                            </a:lnTo>
                            <a:lnTo>
                              <a:pt x="1022" y="97"/>
                            </a:lnTo>
                            <a:lnTo>
                              <a:pt x="1022" y="91"/>
                            </a:lnTo>
                            <a:lnTo>
                              <a:pt x="1022" y="86"/>
                            </a:lnTo>
                            <a:lnTo>
                              <a:pt x="1020" y="82"/>
                            </a:lnTo>
                            <a:lnTo>
                              <a:pt x="1018" y="76"/>
                            </a:lnTo>
                            <a:lnTo>
                              <a:pt x="1016" y="70"/>
                            </a:lnTo>
                            <a:lnTo>
                              <a:pt x="1014" y="67"/>
                            </a:lnTo>
                            <a:lnTo>
                              <a:pt x="1012" y="61"/>
                            </a:lnTo>
                            <a:lnTo>
                              <a:pt x="1010" y="57"/>
                            </a:lnTo>
                            <a:lnTo>
                              <a:pt x="1008" y="53"/>
                            </a:lnTo>
                            <a:lnTo>
                              <a:pt x="1006" y="48"/>
                            </a:lnTo>
                            <a:lnTo>
                              <a:pt x="1004" y="44"/>
                            </a:lnTo>
                            <a:lnTo>
                              <a:pt x="1001" y="40"/>
                            </a:lnTo>
                            <a:lnTo>
                              <a:pt x="997" y="36"/>
                            </a:lnTo>
                            <a:lnTo>
                              <a:pt x="993" y="32"/>
                            </a:lnTo>
                            <a:lnTo>
                              <a:pt x="991" y="29"/>
                            </a:lnTo>
                            <a:lnTo>
                              <a:pt x="985" y="25"/>
                            </a:lnTo>
                            <a:lnTo>
                              <a:pt x="983" y="23"/>
                            </a:lnTo>
                            <a:lnTo>
                              <a:pt x="978" y="19"/>
                            </a:lnTo>
                            <a:lnTo>
                              <a:pt x="972" y="17"/>
                            </a:lnTo>
                            <a:lnTo>
                              <a:pt x="968" y="13"/>
                            </a:lnTo>
                            <a:lnTo>
                              <a:pt x="964" y="11"/>
                            </a:lnTo>
                            <a:lnTo>
                              <a:pt x="961" y="10"/>
                            </a:lnTo>
                            <a:lnTo>
                              <a:pt x="955" y="6"/>
                            </a:lnTo>
                            <a:lnTo>
                              <a:pt x="949" y="6"/>
                            </a:lnTo>
                            <a:lnTo>
                              <a:pt x="944" y="4"/>
                            </a:lnTo>
                            <a:lnTo>
                              <a:pt x="940" y="4"/>
                            </a:lnTo>
                            <a:lnTo>
                              <a:pt x="936" y="2"/>
                            </a:lnTo>
                            <a:lnTo>
                              <a:pt x="934" y="2"/>
                            </a:lnTo>
                            <a:lnTo>
                              <a:pt x="932" y="0"/>
                            </a:lnTo>
                            <a:lnTo>
                              <a:pt x="928" y="0"/>
                            </a:lnTo>
                            <a:lnTo>
                              <a:pt x="926" y="0"/>
                            </a:lnTo>
                            <a:lnTo>
                              <a:pt x="925" y="0"/>
                            </a:lnTo>
                            <a:lnTo>
                              <a:pt x="921" y="0"/>
                            </a:lnTo>
                            <a:lnTo>
                              <a:pt x="919" y="0"/>
                            </a:lnTo>
                            <a:lnTo>
                              <a:pt x="915" y="0"/>
                            </a:lnTo>
                            <a:lnTo>
                              <a:pt x="913" y="0"/>
                            </a:lnTo>
                            <a:lnTo>
                              <a:pt x="911" y="0"/>
                            </a:lnTo>
                            <a:lnTo>
                              <a:pt x="907" y="0"/>
                            </a:lnTo>
                            <a:lnTo>
                              <a:pt x="904" y="0"/>
                            </a:lnTo>
                            <a:lnTo>
                              <a:pt x="898" y="2"/>
                            </a:lnTo>
                            <a:lnTo>
                              <a:pt x="896" y="2"/>
                            </a:lnTo>
                            <a:lnTo>
                              <a:pt x="892" y="2"/>
                            </a:lnTo>
                            <a:lnTo>
                              <a:pt x="890" y="2"/>
                            </a:lnTo>
                            <a:lnTo>
                              <a:pt x="888" y="4"/>
                            </a:lnTo>
                            <a:lnTo>
                              <a:pt x="881" y="4"/>
                            </a:lnTo>
                            <a:lnTo>
                              <a:pt x="877" y="6"/>
                            </a:lnTo>
                            <a:lnTo>
                              <a:pt x="873" y="10"/>
                            </a:lnTo>
                            <a:lnTo>
                              <a:pt x="867" y="11"/>
                            </a:lnTo>
                            <a:lnTo>
                              <a:pt x="864" y="15"/>
                            </a:lnTo>
                            <a:lnTo>
                              <a:pt x="860" y="17"/>
                            </a:lnTo>
                            <a:lnTo>
                              <a:pt x="854" y="19"/>
                            </a:lnTo>
                            <a:lnTo>
                              <a:pt x="850" y="23"/>
                            </a:lnTo>
                            <a:lnTo>
                              <a:pt x="847" y="25"/>
                            </a:lnTo>
                            <a:lnTo>
                              <a:pt x="843" y="29"/>
                            </a:lnTo>
                            <a:lnTo>
                              <a:pt x="839" y="32"/>
                            </a:lnTo>
                            <a:lnTo>
                              <a:pt x="835" y="36"/>
                            </a:lnTo>
                            <a:lnTo>
                              <a:pt x="833" y="40"/>
                            </a:lnTo>
                            <a:lnTo>
                              <a:pt x="831" y="44"/>
                            </a:lnTo>
                            <a:lnTo>
                              <a:pt x="828" y="48"/>
                            </a:lnTo>
                            <a:lnTo>
                              <a:pt x="824" y="53"/>
                            </a:lnTo>
                            <a:lnTo>
                              <a:pt x="822" y="57"/>
                            </a:lnTo>
                            <a:lnTo>
                              <a:pt x="820" y="61"/>
                            </a:lnTo>
                            <a:lnTo>
                              <a:pt x="818" y="67"/>
                            </a:lnTo>
                            <a:lnTo>
                              <a:pt x="816" y="70"/>
                            </a:lnTo>
                            <a:lnTo>
                              <a:pt x="816" y="74"/>
                            </a:lnTo>
                            <a:lnTo>
                              <a:pt x="814" y="76"/>
                            </a:lnTo>
                            <a:lnTo>
                              <a:pt x="812" y="82"/>
                            </a:lnTo>
                            <a:lnTo>
                              <a:pt x="812" y="84"/>
                            </a:lnTo>
                            <a:lnTo>
                              <a:pt x="687" y="663"/>
                            </a:lnTo>
                            <a:lnTo>
                              <a:pt x="681" y="663"/>
                            </a:lnTo>
                            <a:lnTo>
                              <a:pt x="677" y="663"/>
                            </a:lnTo>
                            <a:lnTo>
                              <a:pt x="673" y="663"/>
                            </a:lnTo>
                            <a:lnTo>
                              <a:pt x="670" y="663"/>
                            </a:lnTo>
                            <a:lnTo>
                              <a:pt x="666" y="663"/>
                            </a:lnTo>
                            <a:lnTo>
                              <a:pt x="660" y="665"/>
                            </a:lnTo>
                            <a:lnTo>
                              <a:pt x="656" y="665"/>
                            </a:lnTo>
                            <a:lnTo>
                              <a:pt x="652" y="667"/>
                            </a:lnTo>
                            <a:lnTo>
                              <a:pt x="753" y="213"/>
                            </a:lnTo>
                            <a:lnTo>
                              <a:pt x="753" y="209"/>
                            </a:lnTo>
                            <a:lnTo>
                              <a:pt x="753" y="207"/>
                            </a:lnTo>
                            <a:lnTo>
                              <a:pt x="753" y="203"/>
                            </a:lnTo>
                            <a:lnTo>
                              <a:pt x="753" y="201"/>
                            </a:lnTo>
                            <a:lnTo>
                              <a:pt x="753" y="198"/>
                            </a:lnTo>
                            <a:lnTo>
                              <a:pt x="753" y="196"/>
                            </a:lnTo>
                            <a:lnTo>
                              <a:pt x="753" y="192"/>
                            </a:lnTo>
                            <a:lnTo>
                              <a:pt x="753" y="190"/>
                            </a:lnTo>
                            <a:lnTo>
                              <a:pt x="753" y="188"/>
                            </a:lnTo>
                            <a:lnTo>
                              <a:pt x="753" y="184"/>
                            </a:lnTo>
                            <a:lnTo>
                              <a:pt x="753" y="182"/>
                            </a:lnTo>
                            <a:lnTo>
                              <a:pt x="753" y="181"/>
                            </a:lnTo>
                            <a:lnTo>
                              <a:pt x="753" y="175"/>
                            </a:lnTo>
                            <a:lnTo>
                              <a:pt x="753" y="169"/>
                            </a:lnTo>
                            <a:lnTo>
                              <a:pt x="751" y="167"/>
                            </a:lnTo>
                            <a:lnTo>
                              <a:pt x="751" y="163"/>
                            </a:lnTo>
                            <a:lnTo>
                              <a:pt x="751" y="162"/>
                            </a:lnTo>
                            <a:lnTo>
                              <a:pt x="750" y="160"/>
                            </a:lnTo>
                            <a:lnTo>
                              <a:pt x="748" y="154"/>
                            </a:lnTo>
                            <a:lnTo>
                              <a:pt x="746" y="148"/>
                            </a:lnTo>
                            <a:lnTo>
                              <a:pt x="744" y="144"/>
                            </a:lnTo>
                            <a:lnTo>
                              <a:pt x="742" y="141"/>
                            </a:lnTo>
                            <a:lnTo>
                              <a:pt x="740" y="135"/>
                            </a:lnTo>
                            <a:lnTo>
                              <a:pt x="738" y="131"/>
                            </a:lnTo>
                            <a:lnTo>
                              <a:pt x="734" y="127"/>
                            </a:lnTo>
                            <a:lnTo>
                              <a:pt x="730" y="124"/>
                            </a:lnTo>
                            <a:lnTo>
                              <a:pt x="727" y="120"/>
                            </a:lnTo>
                            <a:lnTo>
                              <a:pt x="725" y="116"/>
                            </a:lnTo>
                            <a:lnTo>
                              <a:pt x="721" y="112"/>
                            </a:lnTo>
                            <a:lnTo>
                              <a:pt x="717" y="108"/>
                            </a:lnTo>
                            <a:lnTo>
                              <a:pt x="713" y="105"/>
                            </a:lnTo>
                            <a:lnTo>
                              <a:pt x="710" y="103"/>
                            </a:lnTo>
                            <a:lnTo>
                              <a:pt x="704" y="99"/>
                            </a:lnTo>
                            <a:lnTo>
                              <a:pt x="700" y="97"/>
                            </a:lnTo>
                            <a:lnTo>
                              <a:pt x="694" y="95"/>
                            </a:lnTo>
                            <a:lnTo>
                              <a:pt x="691" y="91"/>
                            </a:lnTo>
                            <a:lnTo>
                              <a:pt x="685" y="89"/>
                            </a:lnTo>
                            <a:lnTo>
                              <a:pt x="681" y="87"/>
                            </a:lnTo>
                            <a:lnTo>
                              <a:pt x="675" y="86"/>
                            </a:lnTo>
                            <a:lnTo>
                              <a:pt x="672" y="86"/>
                            </a:lnTo>
                            <a:lnTo>
                              <a:pt x="668" y="84"/>
                            </a:lnTo>
                            <a:lnTo>
                              <a:pt x="666" y="84"/>
                            </a:lnTo>
                            <a:lnTo>
                              <a:pt x="664" y="84"/>
                            </a:lnTo>
                            <a:lnTo>
                              <a:pt x="660" y="84"/>
                            </a:lnTo>
                            <a:lnTo>
                              <a:pt x="658" y="84"/>
                            </a:lnTo>
                            <a:lnTo>
                              <a:pt x="654" y="84"/>
                            </a:lnTo>
                            <a:lnTo>
                              <a:pt x="652" y="84"/>
                            </a:lnTo>
                            <a:lnTo>
                              <a:pt x="651" y="84"/>
                            </a:lnTo>
                            <a:lnTo>
                              <a:pt x="647" y="84"/>
                            </a:lnTo>
                            <a:lnTo>
                              <a:pt x="645" y="84"/>
                            </a:lnTo>
                            <a:lnTo>
                              <a:pt x="643" y="84"/>
                            </a:lnTo>
                            <a:lnTo>
                              <a:pt x="639" y="84"/>
                            </a:lnTo>
                            <a:lnTo>
                              <a:pt x="635" y="84"/>
                            </a:lnTo>
                            <a:lnTo>
                              <a:pt x="630" y="84"/>
                            </a:lnTo>
                            <a:lnTo>
                              <a:pt x="628" y="84"/>
                            </a:lnTo>
                            <a:lnTo>
                              <a:pt x="624" y="86"/>
                            </a:lnTo>
                            <a:lnTo>
                              <a:pt x="622" y="86"/>
                            </a:lnTo>
                            <a:lnTo>
                              <a:pt x="618" y="86"/>
                            </a:lnTo>
                            <a:lnTo>
                              <a:pt x="614" y="87"/>
                            </a:lnTo>
                            <a:lnTo>
                              <a:pt x="609" y="89"/>
                            </a:lnTo>
                            <a:lnTo>
                              <a:pt x="603" y="91"/>
                            </a:lnTo>
                            <a:lnTo>
                              <a:pt x="599" y="95"/>
                            </a:lnTo>
                            <a:lnTo>
                              <a:pt x="595" y="97"/>
                            </a:lnTo>
                            <a:lnTo>
                              <a:pt x="592" y="99"/>
                            </a:lnTo>
                            <a:lnTo>
                              <a:pt x="586" y="103"/>
                            </a:lnTo>
                            <a:lnTo>
                              <a:pt x="582" y="105"/>
                            </a:lnTo>
                            <a:lnTo>
                              <a:pt x="578" y="108"/>
                            </a:lnTo>
                            <a:lnTo>
                              <a:pt x="574" y="112"/>
                            </a:lnTo>
                            <a:lnTo>
                              <a:pt x="571" y="116"/>
                            </a:lnTo>
                            <a:lnTo>
                              <a:pt x="567" y="120"/>
                            </a:lnTo>
                            <a:lnTo>
                              <a:pt x="565" y="124"/>
                            </a:lnTo>
                            <a:lnTo>
                              <a:pt x="563" y="127"/>
                            </a:lnTo>
                            <a:lnTo>
                              <a:pt x="559" y="131"/>
                            </a:lnTo>
                            <a:lnTo>
                              <a:pt x="555" y="135"/>
                            </a:lnTo>
                            <a:lnTo>
                              <a:pt x="554" y="141"/>
                            </a:lnTo>
                            <a:lnTo>
                              <a:pt x="552" y="146"/>
                            </a:lnTo>
                            <a:lnTo>
                              <a:pt x="550" y="150"/>
                            </a:lnTo>
                            <a:lnTo>
                              <a:pt x="548" y="156"/>
                            </a:lnTo>
                            <a:lnTo>
                              <a:pt x="546" y="158"/>
                            </a:lnTo>
                            <a:lnTo>
                              <a:pt x="546" y="160"/>
                            </a:lnTo>
                            <a:lnTo>
                              <a:pt x="544" y="163"/>
                            </a:lnTo>
                            <a:lnTo>
                              <a:pt x="544" y="167"/>
                            </a:lnTo>
                            <a:lnTo>
                              <a:pt x="361" y="1127"/>
                            </a:lnTo>
                            <a:lnTo>
                              <a:pt x="361" y="1127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367" name="AutoShape 193"/>
                    <p:cNvSpPr/>
                    <p:nvPr/>
                  </p:nvSpPr>
                  <p:spPr>
                    <a:xfrm rot="11205000">
                      <a:off x="4287960" y="1810080"/>
                      <a:ext cx="88560" cy="75960"/>
                    </a:xfrm>
                    <a:prstGeom prst="hexagon">
                      <a:avLst>
                        <a:gd name="adj" fmla="val 29147"/>
                        <a:gd name="vf" fmla="val 115470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80" bIns="1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8" name="Group 194"/>
                  <p:cNvGrpSpPr/>
                  <p:nvPr/>
                </p:nvGrpSpPr>
                <p:grpSpPr>
                  <a:xfrm>
                    <a:off x="4012560" y="2302920"/>
                    <a:ext cx="385560" cy="1241280"/>
                    <a:chOff x="4012560" y="2302920"/>
                    <a:chExt cx="385560" cy="1241280"/>
                  </a:xfrm>
                </p:grpSpPr>
                <p:grpSp>
                  <p:nvGrpSpPr>
                    <p:cNvPr id="2369" name="Group 195"/>
                    <p:cNvGrpSpPr/>
                    <p:nvPr/>
                  </p:nvGrpSpPr>
                  <p:grpSpPr>
                    <a:xfrm>
                      <a:off x="4084200" y="2302920"/>
                      <a:ext cx="313920" cy="635400"/>
                      <a:chOff x="4084200" y="2302920"/>
                      <a:chExt cx="313920" cy="635400"/>
                    </a:xfrm>
                  </p:grpSpPr>
                  <p:sp>
                    <p:nvSpPr>
                      <p:cNvPr id="2370" name="AutoShape 196"/>
                      <p:cNvSpPr/>
                      <p:nvPr/>
                    </p:nvSpPr>
                    <p:spPr>
                      <a:xfrm rot="577800">
                        <a:off x="4123800" y="2435400"/>
                        <a:ext cx="179640" cy="49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1556" y="21600"/>
                            </a:lnTo>
                            <a:lnTo>
                              <a:pt x="20044" y="21600"/>
                            </a:lnTo>
                            <a:lnTo>
                              <a:pt x="2160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0c0c0"/>
                          </a:gs>
                          <a:gs pos="100000">
                            <a:srgbClr val="ffffff"/>
                          </a:gs>
                        </a:gsLst>
                        <a:lin ang="180000"/>
                      </a:gradFill>
                      <a:ln w="93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71" name="AutoShape 197"/>
                      <p:cNvSpPr/>
                      <p:nvPr/>
                    </p:nvSpPr>
                    <p:spPr>
                      <a:xfrm rot="6156000">
                        <a:off x="4165920" y="2303640"/>
                        <a:ext cx="191520" cy="23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934" y="2201"/>
                              <a:pt x="12267" y="5080"/>
                              <a:pt x="12267" y="10800"/>
                            </a:cubicBezTo>
                            <a:cubicBezTo>
                              <a:pt x="12267" y="16520"/>
                              <a:pt x="16934" y="19399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dddddd"/>
                          </a:gs>
                        </a:gsLst>
                        <a:lin ang="16200000"/>
                      </a:gradFill>
                      <a:ln w="93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372" name="Group 198"/>
                    <p:cNvGrpSpPr/>
                    <p:nvPr/>
                  </p:nvGrpSpPr>
                  <p:grpSpPr>
                    <a:xfrm>
                      <a:off x="4012560" y="2799720"/>
                      <a:ext cx="279720" cy="744480"/>
                      <a:chOff x="4012560" y="2799720"/>
                      <a:chExt cx="279720" cy="744480"/>
                    </a:xfrm>
                  </p:grpSpPr>
                  <p:sp>
                    <p:nvSpPr>
                      <p:cNvPr id="2373" name="AutoShape 199"/>
                      <p:cNvSpPr/>
                      <p:nvPr/>
                    </p:nvSpPr>
                    <p:spPr>
                      <a:xfrm rot="592800">
                        <a:off x="4047480" y="2942280"/>
                        <a:ext cx="180360" cy="360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4308" y="21600"/>
                            </a:lnTo>
                            <a:lnTo>
                              <a:pt x="17292" y="21600"/>
                            </a:lnTo>
                            <a:lnTo>
                              <a:pt x="2160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0c0c0"/>
                          </a:gs>
                          <a:gs pos="100000">
                            <a:srgbClr val="ffffff"/>
                          </a:gs>
                        </a:gsLst>
                        <a:lin ang="540000"/>
                      </a:gradFill>
                      <a:ln w="93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74" name="Oval 200"/>
                      <p:cNvSpPr/>
                      <p:nvPr/>
                    </p:nvSpPr>
                    <p:spPr>
                      <a:xfrm rot="1131600">
                        <a:off x="4079160" y="2824560"/>
                        <a:ext cx="187200" cy="1904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dddddd"/>
                          </a:gs>
                          <a:gs pos="100000">
                            <a:srgbClr val="ffffff"/>
                          </a:gs>
                        </a:gsLst>
                        <a:lin ang="0"/>
                      </a:gradFill>
                      <a:ln w="9360">
                        <a:solidFill>
                          <a:srgbClr val="c0c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75" name="Freeform 201"/>
                      <p:cNvSpPr/>
                      <p:nvPr/>
                    </p:nvSpPr>
                    <p:spPr>
                      <a:xfrm rot="10626600">
                        <a:off x="4019760" y="3251880"/>
                        <a:ext cx="175680" cy="28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02" h="2302">
                            <a:moveTo>
                              <a:pt x="361" y="1127"/>
                            </a:moveTo>
                            <a:lnTo>
                              <a:pt x="280" y="1116"/>
                            </a:lnTo>
                            <a:lnTo>
                              <a:pt x="373" y="711"/>
                            </a:lnTo>
                            <a:lnTo>
                              <a:pt x="373" y="709"/>
                            </a:lnTo>
                            <a:lnTo>
                              <a:pt x="375" y="705"/>
                            </a:lnTo>
                            <a:lnTo>
                              <a:pt x="375" y="703"/>
                            </a:lnTo>
                            <a:lnTo>
                              <a:pt x="375" y="700"/>
                            </a:lnTo>
                            <a:lnTo>
                              <a:pt x="375" y="698"/>
                            </a:lnTo>
                            <a:lnTo>
                              <a:pt x="375" y="696"/>
                            </a:lnTo>
                            <a:lnTo>
                              <a:pt x="375" y="692"/>
                            </a:lnTo>
                            <a:lnTo>
                              <a:pt x="375" y="690"/>
                            </a:lnTo>
                            <a:lnTo>
                              <a:pt x="375" y="684"/>
                            </a:lnTo>
                            <a:lnTo>
                              <a:pt x="375" y="681"/>
                            </a:lnTo>
                            <a:lnTo>
                              <a:pt x="375" y="675"/>
                            </a:lnTo>
                            <a:lnTo>
                              <a:pt x="375" y="669"/>
                            </a:lnTo>
                            <a:lnTo>
                              <a:pt x="371" y="665"/>
                            </a:lnTo>
                            <a:lnTo>
                              <a:pt x="371" y="660"/>
                            </a:lnTo>
                            <a:lnTo>
                              <a:pt x="369" y="654"/>
                            </a:lnTo>
                            <a:lnTo>
                              <a:pt x="367" y="652"/>
                            </a:lnTo>
                            <a:lnTo>
                              <a:pt x="365" y="646"/>
                            </a:lnTo>
                            <a:lnTo>
                              <a:pt x="363" y="641"/>
                            </a:lnTo>
                            <a:lnTo>
                              <a:pt x="361" y="637"/>
                            </a:lnTo>
                            <a:lnTo>
                              <a:pt x="358" y="633"/>
                            </a:lnTo>
                            <a:lnTo>
                              <a:pt x="356" y="629"/>
                            </a:lnTo>
                            <a:lnTo>
                              <a:pt x="354" y="623"/>
                            </a:lnTo>
                            <a:lnTo>
                              <a:pt x="350" y="620"/>
                            </a:lnTo>
                            <a:lnTo>
                              <a:pt x="346" y="616"/>
                            </a:lnTo>
                            <a:lnTo>
                              <a:pt x="342" y="612"/>
                            </a:lnTo>
                            <a:lnTo>
                              <a:pt x="339" y="610"/>
                            </a:lnTo>
                            <a:lnTo>
                              <a:pt x="335" y="606"/>
                            </a:lnTo>
                            <a:lnTo>
                              <a:pt x="331" y="603"/>
                            </a:lnTo>
                            <a:lnTo>
                              <a:pt x="325" y="601"/>
                            </a:lnTo>
                            <a:lnTo>
                              <a:pt x="321" y="597"/>
                            </a:lnTo>
                            <a:lnTo>
                              <a:pt x="318" y="595"/>
                            </a:lnTo>
                            <a:lnTo>
                              <a:pt x="312" y="593"/>
                            </a:lnTo>
                            <a:lnTo>
                              <a:pt x="306" y="591"/>
                            </a:lnTo>
                            <a:lnTo>
                              <a:pt x="302" y="589"/>
                            </a:lnTo>
                            <a:lnTo>
                              <a:pt x="299" y="589"/>
                            </a:lnTo>
                            <a:lnTo>
                              <a:pt x="295" y="587"/>
                            </a:lnTo>
                            <a:lnTo>
                              <a:pt x="291" y="587"/>
                            </a:lnTo>
                            <a:lnTo>
                              <a:pt x="287" y="585"/>
                            </a:lnTo>
                            <a:lnTo>
                              <a:pt x="285" y="585"/>
                            </a:lnTo>
                            <a:lnTo>
                              <a:pt x="283" y="585"/>
                            </a:lnTo>
                            <a:lnTo>
                              <a:pt x="280" y="585"/>
                            </a:lnTo>
                            <a:lnTo>
                              <a:pt x="276" y="585"/>
                            </a:lnTo>
                            <a:lnTo>
                              <a:pt x="274" y="585"/>
                            </a:lnTo>
                            <a:lnTo>
                              <a:pt x="272" y="585"/>
                            </a:lnTo>
                            <a:lnTo>
                              <a:pt x="268" y="585"/>
                            </a:lnTo>
                            <a:lnTo>
                              <a:pt x="266" y="585"/>
                            </a:lnTo>
                            <a:lnTo>
                              <a:pt x="263" y="585"/>
                            </a:lnTo>
                            <a:lnTo>
                              <a:pt x="261" y="587"/>
                            </a:lnTo>
                            <a:lnTo>
                              <a:pt x="259" y="587"/>
                            </a:lnTo>
                            <a:lnTo>
                              <a:pt x="255" y="587"/>
                            </a:lnTo>
                            <a:lnTo>
                              <a:pt x="253" y="589"/>
                            </a:lnTo>
                            <a:lnTo>
                              <a:pt x="249" y="589"/>
                            </a:lnTo>
                            <a:lnTo>
                              <a:pt x="247" y="589"/>
                            </a:lnTo>
                            <a:lnTo>
                              <a:pt x="243" y="591"/>
                            </a:lnTo>
                            <a:lnTo>
                              <a:pt x="240" y="591"/>
                            </a:lnTo>
                            <a:lnTo>
                              <a:pt x="238" y="593"/>
                            </a:lnTo>
                            <a:lnTo>
                              <a:pt x="236" y="595"/>
                            </a:lnTo>
                            <a:lnTo>
                              <a:pt x="232" y="595"/>
                            </a:lnTo>
                            <a:lnTo>
                              <a:pt x="230" y="597"/>
                            </a:lnTo>
                            <a:lnTo>
                              <a:pt x="228" y="599"/>
                            </a:lnTo>
                            <a:lnTo>
                              <a:pt x="224" y="601"/>
                            </a:lnTo>
                            <a:lnTo>
                              <a:pt x="223" y="601"/>
                            </a:lnTo>
                            <a:lnTo>
                              <a:pt x="219" y="603"/>
                            </a:lnTo>
                            <a:lnTo>
                              <a:pt x="217" y="604"/>
                            </a:lnTo>
                            <a:lnTo>
                              <a:pt x="211" y="608"/>
                            </a:lnTo>
                            <a:lnTo>
                              <a:pt x="207" y="612"/>
                            </a:lnTo>
                            <a:lnTo>
                              <a:pt x="204" y="616"/>
                            </a:lnTo>
                            <a:lnTo>
                              <a:pt x="198" y="618"/>
                            </a:lnTo>
                            <a:lnTo>
                              <a:pt x="194" y="623"/>
                            </a:lnTo>
                            <a:lnTo>
                              <a:pt x="188" y="627"/>
                            </a:lnTo>
                            <a:lnTo>
                              <a:pt x="185" y="633"/>
                            </a:lnTo>
                            <a:lnTo>
                              <a:pt x="181" y="637"/>
                            </a:lnTo>
                            <a:lnTo>
                              <a:pt x="177" y="641"/>
                            </a:lnTo>
                            <a:lnTo>
                              <a:pt x="173" y="646"/>
                            </a:lnTo>
                            <a:lnTo>
                              <a:pt x="169" y="652"/>
                            </a:lnTo>
                            <a:lnTo>
                              <a:pt x="166" y="656"/>
                            </a:lnTo>
                            <a:lnTo>
                              <a:pt x="162" y="662"/>
                            </a:lnTo>
                            <a:lnTo>
                              <a:pt x="160" y="665"/>
                            </a:lnTo>
                            <a:lnTo>
                              <a:pt x="158" y="669"/>
                            </a:lnTo>
                            <a:lnTo>
                              <a:pt x="158" y="671"/>
                            </a:lnTo>
                            <a:lnTo>
                              <a:pt x="156" y="673"/>
                            </a:lnTo>
                            <a:lnTo>
                              <a:pt x="154" y="677"/>
                            </a:lnTo>
                            <a:lnTo>
                              <a:pt x="152" y="679"/>
                            </a:lnTo>
                            <a:lnTo>
                              <a:pt x="152" y="681"/>
                            </a:lnTo>
                            <a:lnTo>
                              <a:pt x="150" y="684"/>
                            </a:lnTo>
                            <a:lnTo>
                              <a:pt x="150" y="688"/>
                            </a:lnTo>
                            <a:lnTo>
                              <a:pt x="146" y="694"/>
                            </a:lnTo>
                            <a:lnTo>
                              <a:pt x="145" y="701"/>
                            </a:lnTo>
                            <a:lnTo>
                              <a:pt x="143" y="709"/>
                            </a:lnTo>
                            <a:lnTo>
                              <a:pt x="139" y="717"/>
                            </a:lnTo>
                            <a:lnTo>
                              <a:pt x="137" y="724"/>
                            </a:lnTo>
                            <a:lnTo>
                              <a:pt x="135" y="732"/>
                            </a:lnTo>
                            <a:lnTo>
                              <a:pt x="131" y="739"/>
                            </a:lnTo>
                            <a:lnTo>
                              <a:pt x="129" y="747"/>
                            </a:lnTo>
                            <a:lnTo>
                              <a:pt x="126" y="755"/>
                            </a:lnTo>
                            <a:lnTo>
                              <a:pt x="124" y="760"/>
                            </a:lnTo>
                            <a:lnTo>
                              <a:pt x="122" y="768"/>
                            </a:lnTo>
                            <a:lnTo>
                              <a:pt x="120" y="776"/>
                            </a:lnTo>
                            <a:lnTo>
                              <a:pt x="116" y="781"/>
                            </a:lnTo>
                            <a:lnTo>
                              <a:pt x="114" y="789"/>
                            </a:lnTo>
                            <a:lnTo>
                              <a:pt x="112" y="796"/>
                            </a:lnTo>
                            <a:lnTo>
                              <a:pt x="110" y="804"/>
                            </a:lnTo>
                            <a:lnTo>
                              <a:pt x="107" y="812"/>
                            </a:lnTo>
                            <a:lnTo>
                              <a:pt x="107" y="817"/>
                            </a:lnTo>
                            <a:lnTo>
                              <a:pt x="103" y="823"/>
                            </a:lnTo>
                            <a:lnTo>
                              <a:pt x="101" y="831"/>
                            </a:lnTo>
                            <a:lnTo>
                              <a:pt x="97" y="836"/>
                            </a:lnTo>
                            <a:lnTo>
                              <a:pt x="97" y="844"/>
                            </a:lnTo>
                            <a:lnTo>
                              <a:pt x="93" y="852"/>
                            </a:lnTo>
                            <a:lnTo>
                              <a:pt x="93" y="857"/>
                            </a:lnTo>
                            <a:lnTo>
                              <a:pt x="89" y="865"/>
                            </a:lnTo>
                            <a:lnTo>
                              <a:pt x="88" y="871"/>
                            </a:lnTo>
                            <a:lnTo>
                              <a:pt x="86" y="878"/>
                            </a:lnTo>
                            <a:lnTo>
                              <a:pt x="84" y="884"/>
                            </a:lnTo>
                            <a:lnTo>
                              <a:pt x="82" y="892"/>
                            </a:lnTo>
                            <a:lnTo>
                              <a:pt x="80" y="899"/>
                            </a:lnTo>
                            <a:lnTo>
                              <a:pt x="78" y="907"/>
                            </a:lnTo>
                            <a:lnTo>
                              <a:pt x="74" y="912"/>
                            </a:lnTo>
                            <a:lnTo>
                              <a:pt x="72" y="920"/>
                            </a:lnTo>
                            <a:lnTo>
                              <a:pt x="72" y="926"/>
                            </a:lnTo>
                            <a:lnTo>
                              <a:pt x="68" y="931"/>
                            </a:lnTo>
                            <a:lnTo>
                              <a:pt x="67" y="939"/>
                            </a:lnTo>
                            <a:lnTo>
                              <a:pt x="65" y="945"/>
                            </a:lnTo>
                            <a:lnTo>
                              <a:pt x="63" y="952"/>
                            </a:lnTo>
                            <a:lnTo>
                              <a:pt x="59" y="958"/>
                            </a:lnTo>
                            <a:lnTo>
                              <a:pt x="57" y="966"/>
                            </a:lnTo>
                            <a:lnTo>
                              <a:pt x="55" y="971"/>
                            </a:lnTo>
                            <a:lnTo>
                              <a:pt x="53" y="979"/>
                            </a:lnTo>
                            <a:lnTo>
                              <a:pt x="51" y="987"/>
                            </a:lnTo>
                            <a:lnTo>
                              <a:pt x="49" y="994"/>
                            </a:lnTo>
                            <a:lnTo>
                              <a:pt x="48" y="1000"/>
                            </a:lnTo>
                            <a:lnTo>
                              <a:pt x="46" y="1007"/>
                            </a:lnTo>
                            <a:lnTo>
                              <a:pt x="44" y="1015"/>
                            </a:lnTo>
                            <a:lnTo>
                              <a:pt x="42" y="1021"/>
                            </a:lnTo>
                            <a:lnTo>
                              <a:pt x="42" y="1028"/>
                            </a:lnTo>
                            <a:lnTo>
                              <a:pt x="38" y="1036"/>
                            </a:lnTo>
                            <a:lnTo>
                              <a:pt x="36" y="1042"/>
                            </a:lnTo>
                            <a:lnTo>
                              <a:pt x="36" y="1049"/>
                            </a:lnTo>
                            <a:lnTo>
                              <a:pt x="34" y="1057"/>
                            </a:lnTo>
                            <a:lnTo>
                              <a:pt x="30" y="1063"/>
                            </a:lnTo>
                            <a:lnTo>
                              <a:pt x="30" y="1070"/>
                            </a:lnTo>
                            <a:lnTo>
                              <a:pt x="29" y="1078"/>
                            </a:lnTo>
                            <a:lnTo>
                              <a:pt x="27" y="1085"/>
                            </a:lnTo>
                            <a:lnTo>
                              <a:pt x="25" y="1093"/>
                            </a:lnTo>
                            <a:lnTo>
                              <a:pt x="23" y="1101"/>
                            </a:lnTo>
                            <a:lnTo>
                              <a:pt x="21" y="1108"/>
                            </a:lnTo>
                            <a:lnTo>
                              <a:pt x="19" y="1116"/>
                            </a:lnTo>
                            <a:lnTo>
                              <a:pt x="17" y="1123"/>
                            </a:lnTo>
                            <a:lnTo>
                              <a:pt x="17" y="1131"/>
                            </a:lnTo>
                            <a:lnTo>
                              <a:pt x="15" y="1139"/>
                            </a:lnTo>
                            <a:lnTo>
                              <a:pt x="13" y="1148"/>
                            </a:lnTo>
                            <a:lnTo>
                              <a:pt x="10" y="1158"/>
                            </a:lnTo>
                            <a:lnTo>
                              <a:pt x="10" y="1165"/>
                            </a:lnTo>
                            <a:lnTo>
                              <a:pt x="8" y="1175"/>
                            </a:lnTo>
                            <a:lnTo>
                              <a:pt x="6" y="1182"/>
                            </a:lnTo>
                            <a:lnTo>
                              <a:pt x="6" y="1192"/>
                            </a:lnTo>
                            <a:lnTo>
                              <a:pt x="4" y="1201"/>
                            </a:lnTo>
                            <a:lnTo>
                              <a:pt x="2" y="1211"/>
                            </a:lnTo>
                            <a:lnTo>
                              <a:pt x="2" y="1218"/>
                            </a:lnTo>
                            <a:lnTo>
                              <a:pt x="0" y="1230"/>
                            </a:lnTo>
                            <a:lnTo>
                              <a:pt x="0" y="1237"/>
                            </a:lnTo>
                            <a:lnTo>
                              <a:pt x="0" y="1247"/>
                            </a:lnTo>
                            <a:lnTo>
                              <a:pt x="0" y="1257"/>
                            </a:lnTo>
                            <a:lnTo>
                              <a:pt x="0" y="1268"/>
                            </a:lnTo>
                            <a:lnTo>
                              <a:pt x="0" y="1276"/>
                            </a:lnTo>
                            <a:lnTo>
                              <a:pt x="0" y="1285"/>
                            </a:lnTo>
                            <a:lnTo>
                              <a:pt x="0" y="1296"/>
                            </a:lnTo>
                            <a:lnTo>
                              <a:pt x="0" y="1304"/>
                            </a:lnTo>
                            <a:lnTo>
                              <a:pt x="0" y="1314"/>
                            </a:lnTo>
                            <a:lnTo>
                              <a:pt x="0" y="1323"/>
                            </a:lnTo>
                            <a:lnTo>
                              <a:pt x="0" y="1333"/>
                            </a:lnTo>
                            <a:lnTo>
                              <a:pt x="2" y="1342"/>
                            </a:lnTo>
                            <a:lnTo>
                              <a:pt x="2" y="1352"/>
                            </a:lnTo>
                            <a:lnTo>
                              <a:pt x="4" y="1363"/>
                            </a:lnTo>
                            <a:lnTo>
                              <a:pt x="4" y="1371"/>
                            </a:lnTo>
                            <a:lnTo>
                              <a:pt x="6" y="1382"/>
                            </a:lnTo>
                            <a:lnTo>
                              <a:pt x="8" y="1390"/>
                            </a:lnTo>
                            <a:lnTo>
                              <a:pt x="8" y="1401"/>
                            </a:lnTo>
                            <a:lnTo>
                              <a:pt x="10" y="1409"/>
                            </a:lnTo>
                            <a:lnTo>
                              <a:pt x="11" y="1420"/>
                            </a:lnTo>
                            <a:lnTo>
                              <a:pt x="13" y="1429"/>
                            </a:lnTo>
                            <a:lnTo>
                              <a:pt x="15" y="1439"/>
                            </a:lnTo>
                            <a:lnTo>
                              <a:pt x="17" y="1448"/>
                            </a:lnTo>
                            <a:lnTo>
                              <a:pt x="19" y="1458"/>
                            </a:lnTo>
                            <a:lnTo>
                              <a:pt x="21" y="1468"/>
                            </a:lnTo>
                            <a:lnTo>
                              <a:pt x="23" y="1477"/>
                            </a:lnTo>
                            <a:lnTo>
                              <a:pt x="27" y="1487"/>
                            </a:lnTo>
                            <a:lnTo>
                              <a:pt x="29" y="1496"/>
                            </a:lnTo>
                            <a:lnTo>
                              <a:pt x="30" y="1506"/>
                            </a:lnTo>
                            <a:lnTo>
                              <a:pt x="34" y="1515"/>
                            </a:lnTo>
                            <a:lnTo>
                              <a:pt x="36" y="1525"/>
                            </a:lnTo>
                            <a:lnTo>
                              <a:pt x="38" y="1534"/>
                            </a:lnTo>
                            <a:lnTo>
                              <a:pt x="42" y="1544"/>
                            </a:lnTo>
                            <a:lnTo>
                              <a:pt x="46" y="1553"/>
                            </a:lnTo>
                            <a:lnTo>
                              <a:pt x="48" y="1561"/>
                            </a:lnTo>
                            <a:lnTo>
                              <a:pt x="51" y="1572"/>
                            </a:lnTo>
                            <a:lnTo>
                              <a:pt x="55" y="1580"/>
                            </a:lnTo>
                            <a:lnTo>
                              <a:pt x="59" y="1589"/>
                            </a:lnTo>
                            <a:lnTo>
                              <a:pt x="63" y="1599"/>
                            </a:lnTo>
                            <a:lnTo>
                              <a:pt x="67" y="1608"/>
                            </a:lnTo>
                            <a:lnTo>
                              <a:pt x="68" y="1616"/>
                            </a:lnTo>
                            <a:lnTo>
                              <a:pt x="74" y="1627"/>
                            </a:lnTo>
                            <a:lnTo>
                              <a:pt x="78" y="1635"/>
                            </a:lnTo>
                            <a:lnTo>
                              <a:pt x="82" y="1644"/>
                            </a:lnTo>
                            <a:lnTo>
                              <a:pt x="86" y="1652"/>
                            </a:lnTo>
                            <a:lnTo>
                              <a:pt x="89" y="1661"/>
                            </a:lnTo>
                            <a:lnTo>
                              <a:pt x="95" y="1669"/>
                            </a:lnTo>
                            <a:lnTo>
                              <a:pt x="99" y="1679"/>
                            </a:lnTo>
                            <a:lnTo>
                              <a:pt x="103" y="1688"/>
                            </a:lnTo>
                            <a:lnTo>
                              <a:pt x="108" y="1696"/>
                            </a:lnTo>
                            <a:lnTo>
                              <a:pt x="114" y="1703"/>
                            </a:lnTo>
                            <a:lnTo>
                              <a:pt x="118" y="1713"/>
                            </a:lnTo>
                            <a:lnTo>
                              <a:pt x="124" y="1722"/>
                            </a:lnTo>
                            <a:lnTo>
                              <a:pt x="127" y="1732"/>
                            </a:lnTo>
                            <a:lnTo>
                              <a:pt x="131" y="1736"/>
                            </a:lnTo>
                            <a:lnTo>
                              <a:pt x="135" y="1739"/>
                            </a:lnTo>
                            <a:lnTo>
                              <a:pt x="135" y="1743"/>
                            </a:lnTo>
                            <a:lnTo>
                              <a:pt x="137" y="1745"/>
                            </a:lnTo>
                            <a:lnTo>
                              <a:pt x="139" y="1747"/>
                            </a:lnTo>
                            <a:lnTo>
                              <a:pt x="141" y="1751"/>
                            </a:lnTo>
                            <a:lnTo>
                              <a:pt x="143" y="1755"/>
                            </a:lnTo>
                            <a:lnTo>
                              <a:pt x="143" y="1756"/>
                            </a:lnTo>
                            <a:lnTo>
                              <a:pt x="145" y="1760"/>
                            </a:lnTo>
                            <a:lnTo>
                              <a:pt x="146" y="1762"/>
                            </a:lnTo>
                            <a:lnTo>
                              <a:pt x="148" y="1766"/>
                            </a:lnTo>
                            <a:lnTo>
                              <a:pt x="150" y="1768"/>
                            </a:lnTo>
                            <a:lnTo>
                              <a:pt x="152" y="1770"/>
                            </a:lnTo>
                            <a:lnTo>
                              <a:pt x="156" y="1774"/>
                            </a:lnTo>
                            <a:lnTo>
                              <a:pt x="158" y="1777"/>
                            </a:lnTo>
                            <a:lnTo>
                              <a:pt x="160" y="1779"/>
                            </a:lnTo>
                            <a:lnTo>
                              <a:pt x="160" y="1783"/>
                            </a:lnTo>
                            <a:lnTo>
                              <a:pt x="162" y="1787"/>
                            </a:lnTo>
                            <a:lnTo>
                              <a:pt x="166" y="1789"/>
                            </a:lnTo>
                            <a:lnTo>
                              <a:pt x="166" y="1791"/>
                            </a:lnTo>
                            <a:lnTo>
                              <a:pt x="167" y="1794"/>
                            </a:lnTo>
                            <a:lnTo>
                              <a:pt x="169" y="1796"/>
                            </a:lnTo>
                            <a:lnTo>
                              <a:pt x="171" y="1800"/>
                            </a:lnTo>
                            <a:lnTo>
                              <a:pt x="173" y="1802"/>
                            </a:lnTo>
                            <a:lnTo>
                              <a:pt x="175" y="1806"/>
                            </a:lnTo>
                            <a:lnTo>
                              <a:pt x="177" y="1808"/>
                            </a:lnTo>
                            <a:lnTo>
                              <a:pt x="179" y="1812"/>
                            </a:lnTo>
                            <a:lnTo>
                              <a:pt x="181" y="1815"/>
                            </a:lnTo>
                            <a:lnTo>
                              <a:pt x="183" y="1817"/>
                            </a:lnTo>
                            <a:lnTo>
                              <a:pt x="185" y="1821"/>
                            </a:lnTo>
                            <a:lnTo>
                              <a:pt x="188" y="1827"/>
                            </a:lnTo>
                            <a:lnTo>
                              <a:pt x="190" y="1831"/>
                            </a:lnTo>
                            <a:lnTo>
                              <a:pt x="194" y="1836"/>
                            </a:lnTo>
                            <a:lnTo>
                              <a:pt x="198" y="1842"/>
                            </a:lnTo>
                            <a:lnTo>
                              <a:pt x="200" y="1846"/>
                            </a:lnTo>
                            <a:lnTo>
                              <a:pt x="204" y="1850"/>
                            </a:lnTo>
                            <a:lnTo>
                              <a:pt x="205" y="1853"/>
                            </a:lnTo>
                            <a:lnTo>
                              <a:pt x="207" y="1859"/>
                            </a:lnTo>
                            <a:lnTo>
                              <a:pt x="209" y="1861"/>
                            </a:lnTo>
                            <a:lnTo>
                              <a:pt x="211" y="1863"/>
                            </a:lnTo>
                            <a:lnTo>
                              <a:pt x="213" y="1867"/>
                            </a:lnTo>
                            <a:lnTo>
                              <a:pt x="215" y="1869"/>
                            </a:lnTo>
                            <a:lnTo>
                              <a:pt x="217" y="1870"/>
                            </a:lnTo>
                            <a:lnTo>
                              <a:pt x="219" y="1874"/>
                            </a:lnTo>
                            <a:lnTo>
                              <a:pt x="141" y="2163"/>
                            </a:lnTo>
                            <a:lnTo>
                              <a:pt x="143" y="2165"/>
                            </a:lnTo>
                            <a:lnTo>
                              <a:pt x="146" y="2165"/>
                            </a:lnTo>
                            <a:lnTo>
                              <a:pt x="150" y="2167"/>
                            </a:lnTo>
                            <a:lnTo>
                              <a:pt x="152" y="2167"/>
                            </a:lnTo>
                            <a:lnTo>
                              <a:pt x="154" y="2167"/>
                            </a:lnTo>
                            <a:lnTo>
                              <a:pt x="158" y="2167"/>
                            </a:lnTo>
                            <a:lnTo>
                              <a:pt x="162" y="2171"/>
                            </a:lnTo>
                            <a:lnTo>
                              <a:pt x="166" y="2171"/>
                            </a:lnTo>
                            <a:lnTo>
                              <a:pt x="167" y="2173"/>
                            </a:lnTo>
                            <a:lnTo>
                              <a:pt x="171" y="2173"/>
                            </a:lnTo>
                            <a:lnTo>
                              <a:pt x="175" y="2175"/>
                            </a:lnTo>
                            <a:lnTo>
                              <a:pt x="181" y="2175"/>
                            </a:lnTo>
                            <a:lnTo>
                              <a:pt x="185" y="2175"/>
                            </a:lnTo>
                            <a:lnTo>
                              <a:pt x="188" y="2177"/>
                            </a:lnTo>
                            <a:lnTo>
                              <a:pt x="194" y="2180"/>
                            </a:lnTo>
                            <a:lnTo>
                              <a:pt x="198" y="2180"/>
                            </a:lnTo>
                            <a:lnTo>
                              <a:pt x="204" y="2182"/>
                            </a:lnTo>
                            <a:lnTo>
                              <a:pt x="209" y="2182"/>
                            </a:lnTo>
                            <a:lnTo>
                              <a:pt x="215" y="2184"/>
                            </a:lnTo>
                            <a:lnTo>
                              <a:pt x="219" y="2186"/>
                            </a:lnTo>
                            <a:lnTo>
                              <a:pt x="224" y="2188"/>
                            </a:lnTo>
                            <a:lnTo>
                              <a:pt x="232" y="2188"/>
                            </a:lnTo>
                            <a:lnTo>
                              <a:pt x="238" y="2190"/>
                            </a:lnTo>
                            <a:lnTo>
                              <a:pt x="243" y="2190"/>
                            </a:lnTo>
                            <a:lnTo>
                              <a:pt x="251" y="2192"/>
                            </a:lnTo>
                            <a:lnTo>
                              <a:pt x="257" y="2194"/>
                            </a:lnTo>
                            <a:lnTo>
                              <a:pt x="264" y="2194"/>
                            </a:lnTo>
                            <a:lnTo>
                              <a:pt x="270" y="2196"/>
                            </a:lnTo>
                            <a:lnTo>
                              <a:pt x="276" y="2196"/>
                            </a:lnTo>
                            <a:lnTo>
                              <a:pt x="283" y="2197"/>
                            </a:lnTo>
                            <a:lnTo>
                              <a:pt x="291" y="2199"/>
                            </a:lnTo>
                            <a:lnTo>
                              <a:pt x="297" y="2199"/>
                            </a:lnTo>
                            <a:lnTo>
                              <a:pt x="304" y="2199"/>
                            </a:lnTo>
                            <a:lnTo>
                              <a:pt x="312" y="2199"/>
                            </a:lnTo>
                            <a:lnTo>
                              <a:pt x="320" y="2201"/>
                            </a:lnTo>
                            <a:lnTo>
                              <a:pt x="325" y="2201"/>
                            </a:lnTo>
                            <a:lnTo>
                              <a:pt x="333" y="2201"/>
                            </a:lnTo>
                            <a:lnTo>
                              <a:pt x="341" y="2201"/>
                            </a:lnTo>
                            <a:lnTo>
                              <a:pt x="348" y="2201"/>
                            </a:lnTo>
                            <a:lnTo>
                              <a:pt x="356" y="2201"/>
                            </a:lnTo>
                            <a:lnTo>
                              <a:pt x="363" y="2201"/>
                            </a:lnTo>
                            <a:lnTo>
                              <a:pt x="371" y="2201"/>
                            </a:lnTo>
                            <a:lnTo>
                              <a:pt x="379" y="2201"/>
                            </a:lnTo>
                            <a:lnTo>
                              <a:pt x="386" y="2201"/>
                            </a:lnTo>
                            <a:lnTo>
                              <a:pt x="394" y="2201"/>
                            </a:lnTo>
                            <a:lnTo>
                              <a:pt x="401" y="2199"/>
                            </a:lnTo>
                            <a:lnTo>
                              <a:pt x="409" y="2199"/>
                            </a:lnTo>
                            <a:lnTo>
                              <a:pt x="415" y="2197"/>
                            </a:lnTo>
                            <a:lnTo>
                              <a:pt x="422" y="2196"/>
                            </a:lnTo>
                            <a:lnTo>
                              <a:pt x="432" y="2196"/>
                            </a:lnTo>
                            <a:lnTo>
                              <a:pt x="439" y="2194"/>
                            </a:lnTo>
                            <a:lnTo>
                              <a:pt x="447" y="2192"/>
                            </a:lnTo>
                            <a:lnTo>
                              <a:pt x="455" y="2190"/>
                            </a:lnTo>
                            <a:lnTo>
                              <a:pt x="462" y="2188"/>
                            </a:lnTo>
                            <a:lnTo>
                              <a:pt x="470" y="2188"/>
                            </a:lnTo>
                            <a:lnTo>
                              <a:pt x="476" y="2184"/>
                            </a:lnTo>
                            <a:lnTo>
                              <a:pt x="483" y="2182"/>
                            </a:lnTo>
                            <a:lnTo>
                              <a:pt x="491" y="2180"/>
                            </a:lnTo>
                            <a:lnTo>
                              <a:pt x="498" y="2175"/>
                            </a:lnTo>
                            <a:lnTo>
                              <a:pt x="504" y="2173"/>
                            </a:lnTo>
                            <a:lnTo>
                              <a:pt x="512" y="2169"/>
                            </a:lnTo>
                            <a:lnTo>
                              <a:pt x="517" y="2165"/>
                            </a:lnTo>
                            <a:lnTo>
                              <a:pt x="525" y="2161"/>
                            </a:lnTo>
                            <a:lnTo>
                              <a:pt x="531" y="2158"/>
                            </a:lnTo>
                            <a:lnTo>
                              <a:pt x="536" y="2154"/>
                            </a:lnTo>
                            <a:lnTo>
                              <a:pt x="542" y="2150"/>
                            </a:lnTo>
                            <a:lnTo>
                              <a:pt x="550" y="2146"/>
                            </a:lnTo>
                            <a:lnTo>
                              <a:pt x="555" y="2142"/>
                            </a:lnTo>
                            <a:lnTo>
                              <a:pt x="559" y="2137"/>
                            </a:lnTo>
                            <a:lnTo>
                              <a:pt x="565" y="2133"/>
                            </a:lnTo>
                            <a:lnTo>
                              <a:pt x="571" y="2129"/>
                            </a:lnTo>
                            <a:lnTo>
                              <a:pt x="576" y="2123"/>
                            </a:lnTo>
                            <a:lnTo>
                              <a:pt x="582" y="2120"/>
                            </a:lnTo>
                            <a:lnTo>
                              <a:pt x="588" y="2114"/>
                            </a:lnTo>
                            <a:lnTo>
                              <a:pt x="592" y="2110"/>
                            </a:lnTo>
                            <a:lnTo>
                              <a:pt x="595" y="2106"/>
                            </a:lnTo>
                            <a:lnTo>
                              <a:pt x="601" y="2101"/>
                            </a:lnTo>
                            <a:lnTo>
                              <a:pt x="605" y="2095"/>
                            </a:lnTo>
                            <a:lnTo>
                              <a:pt x="611" y="2091"/>
                            </a:lnTo>
                            <a:lnTo>
                              <a:pt x="614" y="2085"/>
                            </a:lnTo>
                            <a:lnTo>
                              <a:pt x="618" y="2080"/>
                            </a:lnTo>
                            <a:lnTo>
                              <a:pt x="624" y="2076"/>
                            </a:lnTo>
                            <a:lnTo>
                              <a:pt x="628" y="2070"/>
                            </a:lnTo>
                            <a:lnTo>
                              <a:pt x="632" y="2064"/>
                            </a:lnTo>
                            <a:lnTo>
                              <a:pt x="635" y="2059"/>
                            </a:lnTo>
                            <a:lnTo>
                              <a:pt x="637" y="2055"/>
                            </a:lnTo>
                            <a:lnTo>
                              <a:pt x="643" y="2049"/>
                            </a:lnTo>
                            <a:lnTo>
                              <a:pt x="645" y="2043"/>
                            </a:lnTo>
                            <a:lnTo>
                              <a:pt x="649" y="2040"/>
                            </a:lnTo>
                            <a:lnTo>
                              <a:pt x="652" y="2034"/>
                            </a:lnTo>
                            <a:lnTo>
                              <a:pt x="654" y="2030"/>
                            </a:lnTo>
                            <a:lnTo>
                              <a:pt x="658" y="2024"/>
                            </a:lnTo>
                            <a:lnTo>
                              <a:pt x="660" y="2021"/>
                            </a:lnTo>
                            <a:lnTo>
                              <a:pt x="664" y="2015"/>
                            </a:lnTo>
                            <a:lnTo>
                              <a:pt x="666" y="2011"/>
                            </a:lnTo>
                            <a:lnTo>
                              <a:pt x="668" y="2005"/>
                            </a:lnTo>
                            <a:lnTo>
                              <a:pt x="672" y="2002"/>
                            </a:lnTo>
                            <a:lnTo>
                              <a:pt x="673" y="1998"/>
                            </a:lnTo>
                            <a:lnTo>
                              <a:pt x="675" y="1992"/>
                            </a:lnTo>
                            <a:lnTo>
                              <a:pt x="677" y="1986"/>
                            </a:lnTo>
                            <a:lnTo>
                              <a:pt x="679" y="1983"/>
                            </a:lnTo>
                            <a:lnTo>
                              <a:pt x="681" y="1979"/>
                            </a:lnTo>
                            <a:lnTo>
                              <a:pt x="683" y="1975"/>
                            </a:lnTo>
                            <a:lnTo>
                              <a:pt x="685" y="1971"/>
                            </a:lnTo>
                            <a:lnTo>
                              <a:pt x="687" y="1969"/>
                            </a:lnTo>
                            <a:lnTo>
                              <a:pt x="689" y="1964"/>
                            </a:lnTo>
                            <a:lnTo>
                              <a:pt x="691" y="1962"/>
                            </a:lnTo>
                            <a:lnTo>
                              <a:pt x="692" y="1958"/>
                            </a:lnTo>
                            <a:lnTo>
                              <a:pt x="692" y="1954"/>
                            </a:lnTo>
                            <a:lnTo>
                              <a:pt x="692" y="1952"/>
                            </a:lnTo>
                            <a:lnTo>
                              <a:pt x="694" y="1950"/>
                            </a:lnTo>
                            <a:lnTo>
                              <a:pt x="696" y="1945"/>
                            </a:lnTo>
                            <a:lnTo>
                              <a:pt x="698" y="1941"/>
                            </a:lnTo>
                            <a:lnTo>
                              <a:pt x="700" y="1937"/>
                            </a:lnTo>
                            <a:lnTo>
                              <a:pt x="700" y="1935"/>
                            </a:lnTo>
                            <a:lnTo>
                              <a:pt x="700" y="1933"/>
                            </a:lnTo>
                            <a:lnTo>
                              <a:pt x="702" y="1933"/>
                            </a:lnTo>
                            <a:lnTo>
                              <a:pt x="740" y="1943"/>
                            </a:lnTo>
                            <a:lnTo>
                              <a:pt x="740" y="1943"/>
                            </a:lnTo>
                            <a:lnTo>
                              <a:pt x="738" y="1945"/>
                            </a:lnTo>
                            <a:lnTo>
                              <a:pt x="738" y="1947"/>
                            </a:lnTo>
                            <a:lnTo>
                              <a:pt x="738" y="1950"/>
                            </a:lnTo>
                            <a:lnTo>
                              <a:pt x="738" y="1954"/>
                            </a:lnTo>
                            <a:lnTo>
                              <a:pt x="738" y="1958"/>
                            </a:lnTo>
                            <a:lnTo>
                              <a:pt x="736" y="1962"/>
                            </a:lnTo>
                            <a:lnTo>
                              <a:pt x="736" y="1964"/>
                            </a:lnTo>
                            <a:lnTo>
                              <a:pt x="736" y="1967"/>
                            </a:lnTo>
                            <a:lnTo>
                              <a:pt x="736" y="1971"/>
                            </a:lnTo>
                            <a:lnTo>
                              <a:pt x="736" y="1975"/>
                            </a:lnTo>
                            <a:lnTo>
                              <a:pt x="736" y="1979"/>
                            </a:lnTo>
                            <a:lnTo>
                              <a:pt x="736" y="1983"/>
                            </a:lnTo>
                            <a:lnTo>
                              <a:pt x="736" y="1985"/>
                            </a:lnTo>
                            <a:lnTo>
                              <a:pt x="736" y="1990"/>
                            </a:lnTo>
                            <a:lnTo>
                              <a:pt x="736" y="1994"/>
                            </a:lnTo>
                            <a:lnTo>
                              <a:pt x="736" y="1998"/>
                            </a:lnTo>
                            <a:lnTo>
                              <a:pt x="736" y="2004"/>
                            </a:lnTo>
                            <a:lnTo>
                              <a:pt x="736" y="2007"/>
                            </a:lnTo>
                            <a:lnTo>
                              <a:pt x="736" y="2013"/>
                            </a:lnTo>
                            <a:lnTo>
                              <a:pt x="736" y="2015"/>
                            </a:lnTo>
                            <a:lnTo>
                              <a:pt x="736" y="2021"/>
                            </a:lnTo>
                            <a:lnTo>
                              <a:pt x="736" y="2026"/>
                            </a:lnTo>
                            <a:lnTo>
                              <a:pt x="736" y="2030"/>
                            </a:lnTo>
                            <a:lnTo>
                              <a:pt x="736" y="2036"/>
                            </a:lnTo>
                            <a:lnTo>
                              <a:pt x="736" y="2042"/>
                            </a:lnTo>
                            <a:lnTo>
                              <a:pt x="736" y="2047"/>
                            </a:lnTo>
                            <a:lnTo>
                              <a:pt x="738" y="2051"/>
                            </a:lnTo>
                            <a:lnTo>
                              <a:pt x="738" y="2057"/>
                            </a:lnTo>
                            <a:lnTo>
                              <a:pt x="738" y="2062"/>
                            </a:lnTo>
                            <a:lnTo>
                              <a:pt x="740" y="2066"/>
                            </a:lnTo>
                            <a:lnTo>
                              <a:pt x="740" y="2072"/>
                            </a:lnTo>
                            <a:lnTo>
                              <a:pt x="742" y="2078"/>
                            </a:lnTo>
                            <a:lnTo>
                              <a:pt x="744" y="2083"/>
                            </a:lnTo>
                            <a:lnTo>
                              <a:pt x="744" y="2091"/>
                            </a:lnTo>
                            <a:lnTo>
                              <a:pt x="746" y="2095"/>
                            </a:lnTo>
                            <a:lnTo>
                              <a:pt x="748" y="2101"/>
                            </a:lnTo>
                            <a:lnTo>
                              <a:pt x="748" y="2106"/>
                            </a:lnTo>
                            <a:lnTo>
                              <a:pt x="751" y="2110"/>
                            </a:lnTo>
                            <a:lnTo>
                              <a:pt x="753" y="2118"/>
                            </a:lnTo>
                            <a:lnTo>
                              <a:pt x="753" y="2123"/>
                            </a:lnTo>
                            <a:lnTo>
                              <a:pt x="757" y="2129"/>
                            </a:lnTo>
                            <a:lnTo>
                              <a:pt x="759" y="2135"/>
                            </a:lnTo>
                            <a:lnTo>
                              <a:pt x="761" y="2139"/>
                            </a:lnTo>
                            <a:lnTo>
                              <a:pt x="765" y="2144"/>
                            </a:lnTo>
                            <a:lnTo>
                              <a:pt x="767" y="2150"/>
                            </a:lnTo>
                            <a:lnTo>
                              <a:pt x="769" y="2156"/>
                            </a:lnTo>
                            <a:lnTo>
                              <a:pt x="772" y="2159"/>
                            </a:lnTo>
                            <a:lnTo>
                              <a:pt x="776" y="2165"/>
                            </a:lnTo>
                            <a:lnTo>
                              <a:pt x="780" y="2171"/>
                            </a:lnTo>
                            <a:lnTo>
                              <a:pt x="782" y="2175"/>
                            </a:lnTo>
                            <a:lnTo>
                              <a:pt x="786" y="2180"/>
                            </a:lnTo>
                            <a:lnTo>
                              <a:pt x="789" y="2186"/>
                            </a:lnTo>
                            <a:lnTo>
                              <a:pt x="795" y="2190"/>
                            </a:lnTo>
                            <a:lnTo>
                              <a:pt x="799" y="2196"/>
                            </a:lnTo>
                            <a:lnTo>
                              <a:pt x="805" y="2201"/>
                            </a:lnTo>
                            <a:lnTo>
                              <a:pt x="808" y="2205"/>
                            </a:lnTo>
                            <a:lnTo>
                              <a:pt x="814" y="2209"/>
                            </a:lnTo>
                            <a:lnTo>
                              <a:pt x="818" y="2213"/>
                            </a:lnTo>
                            <a:lnTo>
                              <a:pt x="824" y="2216"/>
                            </a:lnTo>
                            <a:lnTo>
                              <a:pt x="828" y="2222"/>
                            </a:lnTo>
                            <a:lnTo>
                              <a:pt x="833" y="2224"/>
                            </a:lnTo>
                            <a:lnTo>
                              <a:pt x="839" y="2228"/>
                            </a:lnTo>
                            <a:lnTo>
                              <a:pt x="845" y="2232"/>
                            </a:lnTo>
                            <a:lnTo>
                              <a:pt x="848" y="2235"/>
                            </a:lnTo>
                            <a:lnTo>
                              <a:pt x="854" y="2239"/>
                            </a:lnTo>
                            <a:lnTo>
                              <a:pt x="858" y="2243"/>
                            </a:lnTo>
                            <a:lnTo>
                              <a:pt x="864" y="2245"/>
                            </a:lnTo>
                            <a:lnTo>
                              <a:pt x="867" y="2249"/>
                            </a:lnTo>
                            <a:lnTo>
                              <a:pt x="873" y="2253"/>
                            </a:lnTo>
                            <a:lnTo>
                              <a:pt x="877" y="2256"/>
                            </a:lnTo>
                            <a:lnTo>
                              <a:pt x="883" y="2258"/>
                            </a:lnTo>
                            <a:lnTo>
                              <a:pt x="890" y="2260"/>
                            </a:lnTo>
                            <a:lnTo>
                              <a:pt x="896" y="2264"/>
                            </a:lnTo>
                            <a:lnTo>
                              <a:pt x="900" y="2266"/>
                            </a:lnTo>
                            <a:lnTo>
                              <a:pt x="904" y="2268"/>
                            </a:lnTo>
                            <a:lnTo>
                              <a:pt x="907" y="2270"/>
                            </a:lnTo>
                            <a:lnTo>
                              <a:pt x="913" y="2273"/>
                            </a:lnTo>
                            <a:lnTo>
                              <a:pt x="919" y="2275"/>
                            </a:lnTo>
                            <a:lnTo>
                              <a:pt x="925" y="2277"/>
                            </a:lnTo>
                            <a:lnTo>
                              <a:pt x="928" y="2279"/>
                            </a:lnTo>
                            <a:lnTo>
                              <a:pt x="934" y="2281"/>
                            </a:lnTo>
                            <a:lnTo>
                              <a:pt x="938" y="2283"/>
                            </a:lnTo>
                            <a:lnTo>
                              <a:pt x="942" y="2285"/>
                            </a:lnTo>
                            <a:lnTo>
                              <a:pt x="947" y="2287"/>
                            </a:lnTo>
                            <a:lnTo>
                              <a:pt x="951" y="2289"/>
                            </a:lnTo>
                            <a:lnTo>
                              <a:pt x="955" y="2289"/>
                            </a:lnTo>
                            <a:lnTo>
                              <a:pt x="961" y="2291"/>
                            </a:lnTo>
                            <a:lnTo>
                              <a:pt x="964" y="2291"/>
                            </a:lnTo>
                            <a:lnTo>
                              <a:pt x="968" y="2294"/>
                            </a:lnTo>
                            <a:lnTo>
                              <a:pt x="972" y="2294"/>
                            </a:lnTo>
                            <a:lnTo>
                              <a:pt x="978" y="2294"/>
                            </a:lnTo>
                            <a:lnTo>
                              <a:pt x="982" y="2296"/>
                            </a:lnTo>
                            <a:lnTo>
                              <a:pt x="985" y="2296"/>
                            </a:lnTo>
                            <a:lnTo>
                              <a:pt x="989" y="2296"/>
                            </a:lnTo>
                            <a:lnTo>
                              <a:pt x="993" y="2298"/>
                            </a:lnTo>
                            <a:lnTo>
                              <a:pt x="997" y="2298"/>
                            </a:lnTo>
                            <a:lnTo>
                              <a:pt x="1001" y="2298"/>
                            </a:lnTo>
                            <a:lnTo>
                              <a:pt x="1004" y="2298"/>
                            </a:lnTo>
                            <a:lnTo>
                              <a:pt x="1008" y="2300"/>
                            </a:lnTo>
                            <a:lnTo>
                              <a:pt x="1010" y="2300"/>
                            </a:lnTo>
                            <a:lnTo>
                              <a:pt x="1014" y="2300"/>
                            </a:lnTo>
                            <a:lnTo>
                              <a:pt x="1016" y="2300"/>
                            </a:lnTo>
                            <a:lnTo>
                              <a:pt x="1020" y="2300"/>
                            </a:lnTo>
                            <a:lnTo>
                              <a:pt x="1022" y="2300"/>
                            </a:lnTo>
                            <a:lnTo>
                              <a:pt x="1025" y="2302"/>
                            </a:lnTo>
                            <a:lnTo>
                              <a:pt x="1029" y="2300"/>
                            </a:lnTo>
                            <a:lnTo>
                              <a:pt x="1035" y="2300"/>
                            </a:lnTo>
                            <a:lnTo>
                              <a:pt x="1039" y="2298"/>
                            </a:lnTo>
                            <a:lnTo>
                              <a:pt x="1042" y="2298"/>
                            </a:lnTo>
                            <a:lnTo>
                              <a:pt x="1044" y="2296"/>
                            </a:lnTo>
                            <a:lnTo>
                              <a:pt x="1048" y="2296"/>
                            </a:lnTo>
                            <a:lnTo>
                              <a:pt x="1048" y="2294"/>
                            </a:lnTo>
                            <a:lnTo>
                              <a:pt x="1050" y="2294"/>
                            </a:lnTo>
                            <a:lnTo>
                              <a:pt x="1246" y="1334"/>
                            </a:lnTo>
                            <a:lnTo>
                              <a:pt x="1246" y="1333"/>
                            </a:lnTo>
                            <a:lnTo>
                              <a:pt x="1248" y="1331"/>
                            </a:lnTo>
                            <a:lnTo>
                              <a:pt x="1250" y="1327"/>
                            </a:lnTo>
                            <a:lnTo>
                              <a:pt x="1252" y="1325"/>
                            </a:lnTo>
                            <a:lnTo>
                              <a:pt x="1252" y="1323"/>
                            </a:lnTo>
                            <a:lnTo>
                              <a:pt x="1254" y="1319"/>
                            </a:lnTo>
                            <a:lnTo>
                              <a:pt x="1256" y="1315"/>
                            </a:lnTo>
                            <a:lnTo>
                              <a:pt x="1259" y="1312"/>
                            </a:lnTo>
                            <a:lnTo>
                              <a:pt x="1259" y="1306"/>
                            </a:lnTo>
                            <a:lnTo>
                              <a:pt x="1263" y="1302"/>
                            </a:lnTo>
                            <a:lnTo>
                              <a:pt x="1265" y="1296"/>
                            </a:lnTo>
                            <a:lnTo>
                              <a:pt x="1269" y="1293"/>
                            </a:lnTo>
                            <a:lnTo>
                              <a:pt x="1271" y="1285"/>
                            </a:lnTo>
                            <a:lnTo>
                              <a:pt x="1275" y="1281"/>
                            </a:lnTo>
                            <a:lnTo>
                              <a:pt x="1276" y="1274"/>
                            </a:lnTo>
                            <a:lnTo>
                              <a:pt x="1280" y="1266"/>
                            </a:lnTo>
                            <a:lnTo>
                              <a:pt x="1284" y="1258"/>
                            </a:lnTo>
                            <a:lnTo>
                              <a:pt x="1288" y="1249"/>
                            </a:lnTo>
                            <a:lnTo>
                              <a:pt x="1290" y="1241"/>
                            </a:lnTo>
                            <a:lnTo>
                              <a:pt x="1294" y="1234"/>
                            </a:lnTo>
                            <a:lnTo>
                              <a:pt x="1297" y="1224"/>
                            </a:lnTo>
                            <a:lnTo>
                              <a:pt x="1301" y="1217"/>
                            </a:lnTo>
                            <a:lnTo>
                              <a:pt x="1305" y="1207"/>
                            </a:lnTo>
                            <a:lnTo>
                              <a:pt x="1309" y="1198"/>
                            </a:lnTo>
                            <a:lnTo>
                              <a:pt x="1313" y="1188"/>
                            </a:lnTo>
                            <a:lnTo>
                              <a:pt x="1316" y="1177"/>
                            </a:lnTo>
                            <a:lnTo>
                              <a:pt x="1320" y="1165"/>
                            </a:lnTo>
                            <a:lnTo>
                              <a:pt x="1324" y="1154"/>
                            </a:lnTo>
                            <a:lnTo>
                              <a:pt x="1330" y="1144"/>
                            </a:lnTo>
                            <a:lnTo>
                              <a:pt x="1334" y="1133"/>
                            </a:lnTo>
                            <a:lnTo>
                              <a:pt x="1337" y="1122"/>
                            </a:lnTo>
                            <a:lnTo>
                              <a:pt x="1339" y="1108"/>
                            </a:lnTo>
                            <a:lnTo>
                              <a:pt x="1345" y="1097"/>
                            </a:lnTo>
                            <a:lnTo>
                              <a:pt x="1349" y="1084"/>
                            </a:lnTo>
                            <a:lnTo>
                              <a:pt x="1353" y="1070"/>
                            </a:lnTo>
                            <a:lnTo>
                              <a:pt x="1354" y="1059"/>
                            </a:lnTo>
                            <a:lnTo>
                              <a:pt x="1358" y="1044"/>
                            </a:lnTo>
                            <a:lnTo>
                              <a:pt x="1362" y="1032"/>
                            </a:lnTo>
                            <a:lnTo>
                              <a:pt x="1366" y="1017"/>
                            </a:lnTo>
                            <a:lnTo>
                              <a:pt x="1370" y="1004"/>
                            </a:lnTo>
                            <a:lnTo>
                              <a:pt x="1372" y="988"/>
                            </a:lnTo>
                            <a:lnTo>
                              <a:pt x="1375" y="975"/>
                            </a:lnTo>
                            <a:lnTo>
                              <a:pt x="1377" y="960"/>
                            </a:lnTo>
                            <a:lnTo>
                              <a:pt x="1381" y="947"/>
                            </a:lnTo>
                            <a:lnTo>
                              <a:pt x="1383" y="931"/>
                            </a:lnTo>
                            <a:lnTo>
                              <a:pt x="1387" y="916"/>
                            </a:lnTo>
                            <a:lnTo>
                              <a:pt x="1389" y="901"/>
                            </a:lnTo>
                            <a:lnTo>
                              <a:pt x="1391" y="886"/>
                            </a:lnTo>
                            <a:lnTo>
                              <a:pt x="1392" y="871"/>
                            </a:lnTo>
                            <a:lnTo>
                              <a:pt x="1394" y="855"/>
                            </a:lnTo>
                            <a:lnTo>
                              <a:pt x="1396" y="838"/>
                            </a:lnTo>
                            <a:lnTo>
                              <a:pt x="1398" y="823"/>
                            </a:lnTo>
                            <a:lnTo>
                              <a:pt x="1398" y="806"/>
                            </a:lnTo>
                            <a:lnTo>
                              <a:pt x="1400" y="791"/>
                            </a:lnTo>
                            <a:lnTo>
                              <a:pt x="1402" y="774"/>
                            </a:lnTo>
                            <a:lnTo>
                              <a:pt x="1402" y="757"/>
                            </a:lnTo>
                            <a:lnTo>
                              <a:pt x="1402" y="741"/>
                            </a:lnTo>
                            <a:lnTo>
                              <a:pt x="1402" y="724"/>
                            </a:lnTo>
                            <a:lnTo>
                              <a:pt x="1402" y="705"/>
                            </a:lnTo>
                            <a:lnTo>
                              <a:pt x="1402" y="690"/>
                            </a:lnTo>
                            <a:lnTo>
                              <a:pt x="1400" y="673"/>
                            </a:lnTo>
                            <a:lnTo>
                              <a:pt x="1400" y="656"/>
                            </a:lnTo>
                            <a:lnTo>
                              <a:pt x="1398" y="654"/>
                            </a:lnTo>
                            <a:lnTo>
                              <a:pt x="1398" y="652"/>
                            </a:lnTo>
                            <a:lnTo>
                              <a:pt x="1398" y="648"/>
                            </a:lnTo>
                            <a:lnTo>
                              <a:pt x="1398" y="644"/>
                            </a:lnTo>
                            <a:lnTo>
                              <a:pt x="1398" y="643"/>
                            </a:lnTo>
                            <a:lnTo>
                              <a:pt x="1398" y="639"/>
                            </a:lnTo>
                            <a:lnTo>
                              <a:pt x="1396" y="637"/>
                            </a:lnTo>
                            <a:lnTo>
                              <a:pt x="1396" y="633"/>
                            </a:lnTo>
                            <a:lnTo>
                              <a:pt x="1396" y="631"/>
                            </a:lnTo>
                            <a:lnTo>
                              <a:pt x="1396" y="627"/>
                            </a:lnTo>
                            <a:lnTo>
                              <a:pt x="1396" y="623"/>
                            </a:lnTo>
                            <a:lnTo>
                              <a:pt x="1394" y="620"/>
                            </a:lnTo>
                            <a:lnTo>
                              <a:pt x="1394" y="618"/>
                            </a:lnTo>
                            <a:lnTo>
                              <a:pt x="1394" y="616"/>
                            </a:lnTo>
                            <a:lnTo>
                              <a:pt x="1392" y="612"/>
                            </a:lnTo>
                            <a:lnTo>
                              <a:pt x="1392" y="610"/>
                            </a:lnTo>
                            <a:lnTo>
                              <a:pt x="1392" y="608"/>
                            </a:lnTo>
                            <a:lnTo>
                              <a:pt x="1391" y="604"/>
                            </a:lnTo>
                            <a:lnTo>
                              <a:pt x="1391" y="603"/>
                            </a:lnTo>
                            <a:lnTo>
                              <a:pt x="1391" y="599"/>
                            </a:lnTo>
                            <a:lnTo>
                              <a:pt x="1389" y="597"/>
                            </a:lnTo>
                            <a:lnTo>
                              <a:pt x="1389" y="593"/>
                            </a:lnTo>
                            <a:lnTo>
                              <a:pt x="1389" y="589"/>
                            </a:lnTo>
                            <a:lnTo>
                              <a:pt x="1389" y="587"/>
                            </a:lnTo>
                            <a:lnTo>
                              <a:pt x="1387" y="585"/>
                            </a:lnTo>
                            <a:lnTo>
                              <a:pt x="1385" y="582"/>
                            </a:lnTo>
                            <a:lnTo>
                              <a:pt x="1385" y="580"/>
                            </a:lnTo>
                            <a:lnTo>
                              <a:pt x="1383" y="578"/>
                            </a:lnTo>
                            <a:lnTo>
                              <a:pt x="1383" y="572"/>
                            </a:lnTo>
                            <a:lnTo>
                              <a:pt x="1381" y="568"/>
                            </a:lnTo>
                            <a:lnTo>
                              <a:pt x="1377" y="563"/>
                            </a:lnTo>
                            <a:lnTo>
                              <a:pt x="1375" y="557"/>
                            </a:lnTo>
                            <a:lnTo>
                              <a:pt x="1373" y="553"/>
                            </a:lnTo>
                            <a:lnTo>
                              <a:pt x="1370" y="547"/>
                            </a:lnTo>
                            <a:lnTo>
                              <a:pt x="1366" y="544"/>
                            </a:lnTo>
                            <a:lnTo>
                              <a:pt x="1364" y="540"/>
                            </a:lnTo>
                            <a:lnTo>
                              <a:pt x="1360" y="536"/>
                            </a:lnTo>
                            <a:lnTo>
                              <a:pt x="1356" y="532"/>
                            </a:lnTo>
                            <a:lnTo>
                              <a:pt x="1353" y="528"/>
                            </a:lnTo>
                            <a:lnTo>
                              <a:pt x="1349" y="525"/>
                            </a:lnTo>
                            <a:lnTo>
                              <a:pt x="1345" y="523"/>
                            </a:lnTo>
                            <a:lnTo>
                              <a:pt x="1339" y="521"/>
                            </a:lnTo>
                            <a:lnTo>
                              <a:pt x="1335" y="517"/>
                            </a:lnTo>
                            <a:lnTo>
                              <a:pt x="1332" y="515"/>
                            </a:lnTo>
                            <a:lnTo>
                              <a:pt x="1326" y="515"/>
                            </a:lnTo>
                            <a:lnTo>
                              <a:pt x="1322" y="513"/>
                            </a:lnTo>
                            <a:lnTo>
                              <a:pt x="1318" y="511"/>
                            </a:lnTo>
                            <a:lnTo>
                              <a:pt x="1316" y="511"/>
                            </a:lnTo>
                            <a:lnTo>
                              <a:pt x="1313" y="511"/>
                            </a:lnTo>
                            <a:lnTo>
                              <a:pt x="1311" y="511"/>
                            </a:lnTo>
                            <a:lnTo>
                              <a:pt x="1309" y="509"/>
                            </a:lnTo>
                            <a:lnTo>
                              <a:pt x="1305" y="509"/>
                            </a:lnTo>
                            <a:lnTo>
                              <a:pt x="1303" y="509"/>
                            </a:lnTo>
                            <a:lnTo>
                              <a:pt x="1301" y="509"/>
                            </a:lnTo>
                            <a:lnTo>
                              <a:pt x="1297" y="509"/>
                            </a:lnTo>
                            <a:lnTo>
                              <a:pt x="1295" y="509"/>
                            </a:lnTo>
                            <a:lnTo>
                              <a:pt x="1292" y="509"/>
                            </a:lnTo>
                            <a:lnTo>
                              <a:pt x="1290" y="509"/>
                            </a:lnTo>
                            <a:lnTo>
                              <a:pt x="1284" y="509"/>
                            </a:lnTo>
                            <a:lnTo>
                              <a:pt x="1280" y="509"/>
                            </a:lnTo>
                            <a:lnTo>
                              <a:pt x="1275" y="509"/>
                            </a:lnTo>
                            <a:lnTo>
                              <a:pt x="1269" y="509"/>
                            </a:lnTo>
                            <a:lnTo>
                              <a:pt x="1265" y="509"/>
                            </a:lnTo>
                            <a:lnTo>
                              <a:pt x="1259" y="509"/>
                            </a:lnTo>
                            <a:lnTo>
                              <a:pt x="1256" y="511"/>
                            </a:lnTo>
                            <a:lnTo>
                              <a:pt x="1252" y="511"/>
                            </a:lnTo>
                            <a:lnTo>
                              <a:pt x="1246" y="515"/>
                            </a:lnTo>
                            <a:lnTo>
                              <a:pt x="1242" y="515"/>
                            </a:lnTo>
                            <a:lnTo>
                              <a:pt x="1238" y="517"/>
                            </a:lnTo>
                            <a:lnTo>
                              <a:pt x="1235" y="521"/>
                            </a:lnTo>
                            <a:lnTo>
                              <a:pt x="1231" y="523"/>
                            </a:lnTo>
                            <a:lnTo>
                              <a:pt x="1229" y="525"/>
                            </a:lnTo>
                            <a:lnTo>
                              <a:pt x="1225" y="527"/>
                            </a:lnTo>
                            <a:lnTo>
                              <a:pt x="1221" y="530"/>
                            </a:lnTo>
                            <a:lnTo>
                              <a:pt x="1219" y="532"/>
                            </a:lnTo>
                            <a:lnTo>
                              <a:pt x="1216" y="538"/>
                            </a:lnTo>
                            <a:lnTo>
                              <a:pt x="1214" y="542"/>
                            </a:lnTo>
                            <a:lnTo>
                              <a:pt x="1212" y="546"/>
                            </a:lnTo>
                            <a:lnTo>
                              <a:pt x="1210" y="549"/>
                            </a:lnTo>
                            <a:lnTo>
                              <a:pt x="1208" y="555"/>
                            </a:lnTo>
                            <a:lnTo>
                              <a:pt x="1208" y="557"/>
                            </a:lnTo>
                            <a:lnTo>
                              <a:pt x="1206" y="559"/>
                            </a:lnTo>
                            <a:lnTo>
                              <a:pt x="1204" y="561"/>
                            </a:lnTo>
                            <a:lnTo>
                              <a:pt x="1204" y="565"/>
                            </a:lnTo>
                            <a:lnTo>
                              <a:pt x="1204" y="566"/>
                            </a:lnTo>
                            <a:lnTo>
                              <a:pt x="1204" y="570"/>
                            </a:lnTo>
                            <a:lnTo>
                              <a:pt x="1204" y="572"/>
                            </a:lnTo>
                            <a:lnTo>
                              <a:pt x="1204" y="576"/>
                            </a:lnTo>
                            <a:lnTo>
                              <a:pt x="1139" y="895"/>
                            </a:lnTo>
                            <a:lnTo>
                              <a:pt x="1136" y="893"/>
                            </a:lnTo>
                            <a:lnTo>
                              <a:pt x="1132" y="892"/>
                            </a:lnTo>
                            <a:lnTo>
                              <a:pt x="1126" y="888"/>
                            </a:lnTo>
                            <a:lnTo>
                              <a:pt x="1122" y="886"/>
                            </a:lnTo>
                            <a:lnTo>
                              <a:pt x="1117" y="884"/>
                            </a:lnTo>
                            <a:lnTo>
                              <a:pt x="1113" y="880"/>
                            </a:lnTo>
                            <a:lnTo>
                              <a:pt x="1107" y="878"/>
                            </a:lnTo>
                            <a:lnTo>
                              <a:pt x="1105" y="876"/>
                            </a:lnTo>
                            <a:lnTo>
                              <a:pt x="1227" y="316"/>
                            </a:lnTo>
                            <a:lnTo>
                              <a:pt x="1227" y="312"/>
                            </a:lnTo>
                            <a:lnTo>
                              <a:pt x="1227" y="308"/>
                            </a:lnTo>
                            <a:lnTo>
                              <a:pt x="1229" y="306"/>
                            </a:lnTo>
                            <a:lnTo>
                              <a:pt x="1229" y="304"/>
                            </a:lnTo>
                            <a:lnTo>
                              <a:pt x="1229" y="300"/>
                            </a:lnTo>
                            <a:lnTo>
                              <a:pt x="1229" y="298"/>
                            </a:lnTo>
                            <a:lnTo>
                              <a:pt x="1229" y="295"/>
                            </a:lnTo>
                            <a:lnTo>
                              <a:pt x="1229" y="293"/>
                            </a:lnTo>
                            <a:lnTo>
                              <a:pt x="1229" y="291"/>
                            </a:lnTo>
                            <a:lnTo>
                              <a:pt x="1229" y="287"/>
                            </a:lnTo>
                            <a:lnTo>
                              <a:pt x="1229" y="285"/>
                            </a:lnTo>
                            <a:lnTo>
                              <a:pt x="1229" y="283"/>
                            </a:lnTo>
                            <a:lnTo>
                              <a:pt x="1229" y="278"/>
                            </a:lnTo>
                            <a:lnTo>
                              <a:pt x="1227" y="272"/>
                            </a:lnTo>
                            <a:lnTo>
                              <a:pt x="1225" y="268"/>
                            </a:lnTo>
                            <a:lnTo>
                              <a:pt x="1225" y="262"/>
                            </a:lnTo>
                            <a:lnTo>
                              <a:pt x="1223" y="257"/>
                            </a:lnTo>
                            <a:lnTo>
                              <a:pt x="1221" y="253"/>
                            </a:lnTo>
                            <a:lnTo>
                              <a:pt x="1219" y="247"/>
                            </a:lnTo>
                            <a:lnTo>
                              <a:pt x="1217" y="243"/>
                            </a:lnTo>
                            <a:lnTo>
                              <a:pt x="1216" y="240"/>
                            </a:lnTo>
                            <a:lnTo>
                              <a:pt x="1214" y="236"/>
                            </a:lnTo>
                            <a:lnTo>
                              <a:pt x="1210" y="232"/>
                            </a:lnTo>
                            <a:lnTo>
                              <a:pt x="1206" y="226"/>
                            </a:lnTo>
                            <a:lnTo>
                              <a:pt x="1202" y="222"/>
                            </a:lnTo>
                            <a:lnTo>
                              <a:pt x="1200" y="219"/>
                            </a:lnTo>
                            <a:lnTo>
                              <a:pt x="1197" y="215"/>
                            </a:lnTo>
                            <a:lnTo>
                              <a:pt x="1193" y="211"/>
                            </a:lnTo>
                            <a:lnTo>
                              <a:pt x="1189" y="207"/>
                            </a:lnTo>
                            <a:lnTo>
                              <a:pt x="1185" y="205"/>
                            </a:lnTo>
                            <a:lnTo>
                              <a:pt x="1179" y="203"/>
                            </a:lnTo>
                            <a:lnTo>
                              <a:pt x="1176" y="200"/>
                            </a:lnTo>
                            <a:lnTo>
                              <a:pt x="1172" y="198"/>
                            </a:lnTo>
                            <a:lnTo>
                              <a:pt x="1166" y="194"/>
                            </a:lnTo>
                            <a:lnTo>
                              <a:pt x="1160" y="192"/>
                            </a:lnTo>
                            <a:lnTo>
                              <a:pt x="1157" y="192"/>
                            </a:lnTo>
                            <a:lnTo>
                              <a:pt x="1151" y="190"/>
                            </a:lnTo>
                            <a:lnTo>
                              <a:pt x="1147" y="190"/>
                            </a:lnTo>
                            <a:lnTo>
                              <a:pt x="1143" y="188"/>
                            </a:lnTo>
                            <a:lnTo>
                              <a:pt x="1141" y="186"/>
                            </a:lnTo>
                            <a:lnTo>
                              <a:pt x="1138" y="186"/>
                            </a:lnTo>
                            <a:lnTo>
                              <a:pt x="1136" y="186"/>
                            </a:lnTo>
                            <a:lnTo>
                              <a:pt x="1134" y="186"/>
                            </a:lnTo>
                            <a:lnTo>
                              <a:pt x="1130" y="186"/>
                            </a:lnTo>
                            <a:lnTo>
                              <a:pt x="1128" y="186"/>
                            </a:lnTo>
                            <a:lnTo>
                              <a:pt x="1124" y="186"/>
                            </a:lnTo>
                            <a:lnTo>
                              <a:pt x="1122" y="186"/>
                            </a:lnTo>
                            <a:lnTo>
                              <a:pt x="1120" y="186"/>
                            </a:lnTo>
                            <a:lnTo>
                              <a:pt x="1117" y="186"/>
                            </a:lnTo>
                            <a:lnTo>
                              <a:pt x="1115" y="186"/>
                            </a:lnTo>
                            <a:lnTo>
                              <a:pt x="1109" y="186"/>
                            </a:lnTo>
                            <a:lnTo>
                              <a:pt x="1105" y="188"/>
                            </a:lnTo>
                            <a:lnTo>
                              <a:pt x="1100" y="188"/>
                            </a:lnTo>
                            <a:lnTo>
                              <a:pt x="1094" y="190"/>
                            </a:lnTo>
                            <a:lnTo>
                              <a:pt x="1090" y="192"/>
                            </a:lnTo>
                            <a:lnTo>
                              <a:pt x="1086" y="192"/>
                            </a:lnTo>
                            <a:lnTo>
                              <a:pt x="1081" y="194"/>
                            </a:lnTo>
                            <a:lnTo>
                              <a:pt x="1077" y="198"/>
                            </a:lnTo>
                            <a:lnTo>
                              <a:pt x="1073" y="200"/>
                            </a:lnTo>
                            <a:lnTo>
                              <a:pt x="1067" y="203"/>
                            </a:lnTo>
                            <a:lnTo>
                              <a:pt x="1063" y="205"/>
                            </a:lnTo>
                            <a:lnTo>
                              <a:pt x="1058" y="207"/>
                            </a:lnTo>
                            <a:lnTo>
                              <a:pt x="1054" y="211"/>
                            </a:lnTo>
                            <a:lnTo>
                              <a:pt x="1050" y="215"/>
                            </a:lnTo>
                            <a:lnTo>
                              <a:pt x="1048" y="219"/>
                            </a:lnTo>
                            <a:lnTo>
                              <a:pt x="1044" y="222"/>
                            </a:lnTo>
                            <a:lnTo>
                              <a:pt x="1041" y="226"/>
                            </a:lnTo>
                            <a:lnTo>
                              <a:pt x="1039" y="232"/>
                            </a:lnTo>
                            <a:lnTo>
                              <a:pt x="1035" y="234"/>
                            </a:lnTo>
                            <a:lnTo>
                              <a:pt x="1033" y="240"/>
                            </a:lnTo>
                            <a:lnTo>
                              <a:pt x="1029" y="243"/>
                            </a:lnTo>
                            <a:lnTo>
                              <a:pt x="1027" y="249"/>
                            </a:lnTo>
                            <a:lnTo>
                              <a:pt x="1025" y="253"/>
                            </a:lnTo>
                            <a:lnTo>
                              <a:pt x="1023" y="259"/>
                            </a:lnTo>
                            <a:lnTo>
                              <a:pt x="1022" y="260"/>
                            </a:lnTo>
                            <a:lnTo>
                              <a:pt x="1022" y="264"/>
                            </a:lnTo>
                            <a:lnTo>
                              <a:pt x="1022" y="266"/>
                            </a:lnTo>
                            <a:lnTo>
                              <a:pt x="1022" y="270"/>
                            </a:lnTo>
                            <a:lnTo>
                              <a:pt x="919" y="730"/>
                            </a:lnTo>
                            <a:lnTo>
                              <a:pt x="915" y="728"/>
                            </a:lnTo>
                            <a:lnTo>
                              <a:pt x="913" y="726"/>
                            </a:lnTo>
                            <a:lnTo>
                              <a:pt x="907" y="724"/>
                            </a:lnTo>
                            <a:lnTo>
                              <a:pt x="905" y="720"/>
                            </a:lnTo>
                            <a:lnTo>
                              <a:pt x="904" y="719"/>
                            </a:lnTo>
                            <a:lnTo>
                              <a:pt x="900" y="717"/>
                            </a:lnTo>
                            <a:lnTo>
                              <a:pt x="896" y="713"/>
                            </a:lnTo>
                            <a:lnTo>
                              <a:pt x="892" y="713"/>
                            </a:lnTo>
                            <a:lnTo>
                              <a:pt x="1022" y="129"/>
                            </a:lnTo>
                            <a:lnTo>
                              <a:pt x="1022" y="125"/>
                            </a:lnTo>
                            <a:lnTo>
                              <a:pt x="1022" y="124"/>
                            </a:lnTo>
                            <a:lnTo>
                              <a:pt x="1022" y="120"/>
                            </a:lnTo>
                            <a:lnTo>
                              <a:pt x="1022" y="118"/>
                            </a:lnTo>
                            <a:lnTo>
                              <a:pt x="1022" y="114"/>
                            </a:lnTo>
                            <a:lnTo>
                              <a:pt x="1022" y="112"/>
                            </a:lnTo>
                            <a:lnTo>
                              <a:pt x="1022" y="110"/>
                            </a:lnTo>
                            <a:lnTo>
                              <a:pt x="1022" y="106"/>
                            </a:lnTo>
                            <a:lnTo>
                              <a:pt x="1022" y="105"/>
                            </a:lnTo>
                            <a:lnTo>
                              <a:pt x="1022" y="103"/>
                            </a:lnTo>
                            <a:lnTo>
                              <a:pt x="1022" y="99"/>
                            </a:lnTo>
                            <a:lnTo>
                              <a:pt x="1022" y="97"/>
                            </a:lnTo>
                            <a:lnTo>
                              <a:pt x="1022" y="91"/>
                            </a:lnTo>
                            <a:lnTo>
                              <a:pt x="1022" y="86"/>
                            </a:lnTo>
                            <a:lnTo>
                              <a:pt x="1020" y="82"/>
                            </a:lnTo>
                            <a:lnTo>
                              <a:pt x="1018" y="76"/>
                            </a:lnTo>
                            <a:lnTo>
                              <a:pt x="1016" y="70"/>
                            </a:lnTo>
                            <a:lnTo>
                              <a:pt x="1014" y="67"/>
                            </a:lnTo>
                            <a:lnTo>
                              <a:pt x="1012" y="61"/>
                            </a:lnTo>
                            <a:lnTo>
                              <a:pt x="1010" y="57"/>
                            </a:lnTo>
                            <a:lnTo>
                              <a:pt x="1008" y="53"/>
                            </a:lnTo>
                            <a:lnTo>
                              <a:pt x="1006" y="48"/>
                            </a:lnTo>
                            <a:lnTo>
                              <a:pt x="1004" y="44"/>
                            </a:lnTo>
                            <a:lnTo>
                              <a:pt x="1001" y="40"/>
                            </a:lnTo>
                            <a:lnTo>
                              <a:pt x="997" y="36"/>
                            </a:lnTo>
                            <a:lnTo>
                              <a:pt x="993" y="32"/>
                            </a:lnTo>
                            <a:lnTo>
                              <a:pt x="991" y="29"/>
                            </a:lnTo>
                            <a:lnTo>
                              <a:pt x="985" y="25"/>
                            </a:lnTo>
                            <a:lnTo>
                              <a:pt x="983" y="23"/>
                            </a:lnTo>
                            <a:lnTo>
                              <a:pt x="978" y="19"/>
                            </a:lnTo>
                            <a:lnTo>
                              <a:pt x="972" y="17"/>
                            </a:lnTo>
                            <a:lnTo>
                              <a:pt x="968" y="13"/>
                            </a:lnTo>
                            <a:lnTo>
                              <a:pt x="964" y="11"/>
                            </a:lnTo>
                            <a:lnTo>
                              <a:pt x="961" y="10"/>
                            </a:lnTo>
                            <a:lnTo>
                              <a:pt x="955" y="6"/>
                            </a:lnTo>
                            <a:lnTo>
                              <a:pt x="949" y="6"/>
                            </a:lnTo>
                            <a:lnTo>
                              <a:pt x="944" y="4"/>
                            </a:lnTo>
                            <a:lnTo>
                              <a:pt x="940" y="4"/>
                            </a:lnTo>
                            <a:lnTo>
                              <a:pt x="936" y="2"/>
                            </a:lnTo>
                            <a:lnTo>
                              <a:pt x="934" y="2"/>
                            </a:lnTo>
                            <a:lnTo>
                              <a:pt x="932" y="0"/>
                            </a:lnTo>
                            <a:lnTo>
                              <a:pt x="928" y="0"/>
                            </a:lnTo>
                            <a:lnTo>
                              <a:pt x="926" y="0"/>
                            </a:lnTo>
                            <a:lnTo>
                              <a:pt x="925" y="0"/>
                            </a:lnTo>
                            <a:lnTo>
                              <a:pt x="921" y="0"/>
                            </a:lnTo>
                            <a:lnTo>
                              <a:pt x="919" y="0"/>
                            </a:lnTo>
                            <a:lnTo>
                              <a:pt x="915" y="0"/>
                            </a:lnTo>
                            <a:lnTo>
                              <a:pt x="913" y="0"/>
                            </a:lnTo>
                            <a:lnTo>
                              <a:pt x="911" y="0"/>
                            </a:lnTo>
                            <a:lnTo>
                              <a:pt x="907" y="0"/>
                            </a:lnTo>
                            <a:lnTo>
                              <a:pt x="904" y="0"/>
                            </a:lnTo>
                            <a:lnTo>
                              <a:pt x="898" y="2"/>
                            </a:lnTo>
                            <a:lnTo>
                              <a:pt x="896" y="2"/>
                            </a:lnTo>
                            <a:lnTo>
                              <a:pt x="892" y="2"/>
                            </a:lnTo>
                            <a:lnTo>
                              <a:pt x="890" y="2"/>
                            </a:lnTo>
                            <a:lnTo>
                              <a:pt x="888" y="4"/>
                            </a:lnTo>
                            <a:lnTo>
                              <a:pt x="881" y="4"/>
                            </a:lnTo>
                            <a:lnTo>
                              <a:pt x="877" y="6"/>
                            </a:lnTo>
                            <a:lnTo>
                              <a:pt x="873" y="10"/>
                            </a:lnTo>
                            <a:lnTo>
                              <a:pt x="867" y="11"/>
                            </a:lnTo>
                            <a:lnTo>
                              <a:pt x="864" y="15"/>
                            </a:lnTo>
                            <a:lnTo>
                              <a:pt x="860" y="17"/>
                            </a:lnTo>
                            <a:lnTo>
                              <a:pt x="854" y="19"/>
                            </a:lnTo>
                            <a:lnTo>
                              <a:pt x="850" y="23"/>
                            </a:lnTo>
                            <a:lnTo>
                              <a:pt x="847" y="25"/>
                            </a:lnTo>
                            <a:lnTo>
                              <a:pt x="843" y="29"/>
                            </a:lnTo>
                            <a:lnTo>
                              <a:pt x="839" y="32"/>
                            </a:lnTo>
                            <a:lnTo>
                              <a:pt x="835" y="36"/>
                            </a:lnTo>
                            <a:lnTo>
                              <a:pt x="833" y="40"/>
                            </a:lnTo>
                            <a:lnTo>
                              <a:pt x="831" y="44"/>
                            </a:lnTo>
                            <a:lnTo>
                              <a:pt x="828" y="48"/>
                            </a:lnTo>
                            <a:lnTo>
                              <a:pt x="824" y="53"/>
                            </a:lnTo>
                            <a:lnTo>
                              <a:pt x="822" y="57"/>
                            </a:lnTo>
                            <a:lnTo>
                              <a:pt x="820" y="61"/>
                            </a:lnTo>
                            <a:lnTo>
                              <a:pt x="818" y="67"/>
                            </a:lnTo>
                            <a:lnTo>
                              <a:pt x="816" y="70"/>
                            </a:lnTo>
                            <a:lnTo>
                              <a:pt x="816" y="74"/>
                            </a:lnTo>
                            <a:lnTo>
                              <a:pt x="814" y="76"/>
                            </a:lnTo>
                            <a:lnTo>
                              <a:pt x="812" y="82"/>
                            </a:lnTo>
                            <a:lnTo>
                              <a:pt x="812" y="84"/>
                            </a:lnTo>
                            <a:lnTo>
                              <a:pt x="687" y="663"/>
                            </a:lnTo>
                            <a:lnTo>
                              <a:pt x="681" y="663"/>
                            </a:lnTo>
                            <a:lnTo>
                              <a:pt x="677" y="663"/>
                            </a:lnTo>
                            <a:lnTo>
                              <a:pt x="673" y="663"/>
                            </a:lnTo>
                            <a:lnTo>
                              <a:pt x="670" y="663"/>
                            </a:lnTo>
                            <a:lnTo>
                              <a:pt x="666" y="663"/>
                            </a:lnTo>
                            <a:lnTo>
                              <a:pt x="660" y="665"/>
                            </a:lnTo>
                            <a:lnTo>
                              <a:pt x="656" y="665"/>
                            </a:lnTo>
                            <a:lnTo>
                              <a:pt x="652" y="667"/>
                            </a:lnTo>
                            <a:lnTo>
                              <a:pt x="753" y="213"/>
                            </a:lnTo>
                            <a:lnTo>
                              <a:pt x="753" y="209"/>
                            </a:lnTo>
                            <a:lnTo>
                              <a:pt x="753" y="207"/>
                            </a:lnTo>
                            <a:lnTo>
                              <a:pt x="753" y="203"/>
                            </a:lnTo>
                            <a:lnTo>
                              <a:pt x="753" y="201"/>
                            </a:lnTo>
                            <a:lnTo>
                              <a:pt x="753" y="198"/>
                            </a:lnTo>
                            <a:lnTo>
                              <a:pt x="753" y="196"/>
                            </a:lnTo>
                            <a:lnTo>
                              <a:pt x="753" y="192"/>
                            </a:lnTo>
                            <a:lnTo>
                              <a:pt x="753" y="190"/>
                            </a:lnTo>
                            <a:lnTo>
                              <a:pt x="753" y="188"/>
                            </a:lnTo>
                            <a:lnTo>
                              <a:pt x="753" y="184"/>
                            </a:lnTo>
                            <a:lnTo>
                              <a:pt x="753" y="182"/>
                            </a:lnTo>
                            <a:lnTo>
                              <a:pt x="753" y="181"/>
                            </a:lnTo>
                            <a:lnTo>
                              <a:pt x="753" y="175"/>
                            </a:lnTo>
                            <a:lnTo>
                              <a:pt x="753" y="169"/>
                            </a:lnTo>
                            <a:lnTo>
                              <a:pt x="751" y="167"/>
                            </a:lnTo>
                            <a:lnTo>
                              <a:pt x="751" y="163"/>
                            </a:lnTo>
                            <a:lnTo>
                              <a:pt x="751" y="162"/>
                            </a:lnTo>
                            <a:lnTo>
                              <a:pt x="750" y="160"/>
                            </a:lnTo>
                            <a:lnTo>
                              <a:pt x="748" y="154"/>
                            </a:lnTo>
                            <a:lnTo>
                              <a:pt x="746" y="148"/>
                            </a:lnTo>
                            <a:lnTo>
                              <a:pt x="744" y="144"/>
                            </a:lnTo>
                            <a:lnTo>
                              <a:pt x="742" y="141"/>
                            </a:lnTo>
                            <a:lnTo>
                              <a:pt x="740" y="135"/>
                            </a:lnTo>
                            <a:lnTo>
                              <a:pt x="738" y="131"/>
                            </a:lnTo>
                            <a:lnTo>
                              <a:pt x="734" y="127"/>
                            </a:lnTo>
                            <a:lnTo>
                              <a:pt x="730" y="124"/>
                            </a:lnTo>
                            <a:lnTo>
                              <a:pt x="727" y="120"/>
                            </a:lnTo>
                            <a:lnTo>
                              <a:pt x="725" y="116"/>
                            </a:lnTo>
                            <a:lnTo>
                              <a:pt x="721" y="112"/>
                            </a:lnTo>
                            <a:lnTo>
                              <a:pt x="717" y="108"/>
                            </a:lnTo>
                            <a:lnTo>
                              <a:pt x="713" y="105"/>
                            </a:lnTo>
                            <a:lnTo>
                              <a:pt x="710" y="103"/>
                            </a:lnTo>
                            <a:lnTo>
                              <a:pt x="704" y="99"/>
                            </a:lnTo>
                            <a:lnTo>
                              <a:pt x="700" y="97"/>
                            </a:lnTo>
                            <a:lnTo>
                              <a:pt x="694" y="95"/>
                            </a:lnTo>
                            <a:lnTo>
                              <a:pt x="691" y="91"/>
                            </a:lnTo>
                            <a:lnTo>
                              <a:pt x="685" y="89"/>
                            </a:lnTo>
                            <a:lnTo>
                              <a:pt x="681" y="87"/>
                            </a:lnTo>
                            <a:lnTo>
                              <a:pt x="675" y="86"/>
                            </a:lnTo>
                            <a:lnTo>
                              <a:pt x="672" y="86"/>
                            </a:lnTo>
                            <a:lnTo>
                              <a:pt x="668" y="84"/>
                            </a:lnTo>
                            <a:lnTo>
                              <a:pt x="666" y="84"/>
                            </a:lnTo>
                            <a:lnTo>
                              <a:pt x="664" y="84"/>
                            </a:lnTo>
                            <a:lnTo>
                              <a:pt x="660" y="84"/>
                            </a:lnTo>
                            <a:lnTo>
                              <a:pt x="658" y="84"/>
                            </a:lnTo>
                            <a:lnTo>
                              <a:pt x="654" y="84"/>
                            </a:lnTo>
                            <a:lnTo>
                              <a:pt x="652" y="84"/>
                            </a:lnTo>
                            <a:lnTo>
                              <a:pt x="651" y="84"/>
                            </a:lnTo>
                            <a:lnTo>
                              <a:pt x="647" y="84"/>
                            </a:lnTo>
                            <a:lnTo>
                              <a:pt x="645" y="84"/>
                            </a:lnTo>
                            <a:lnTo>
                              <a:pt x="643" y="84"/>
                            </a:lnTo>
                            <a:lnTo>
                              <a:pt x="639" y="84"/>
                            </a:lnTo>
                            <a:lnTo>
                              <a:pt x="635" y="84"/>
                            </a:lnTo>
                            <a:lnTo>
                              <a:pt x="630" y="84"/>
                            </a:lnTo>
                            <a:lnTo>
                              <a:pt x="628" y="84"/>
                            </a:lnTo>
                            <a:lnTo>
                              <a:pt x="624" y="86"/>
                            </a:lnTo>
                            <a:lnTo>
                              <a:pt x="622" y="86"/>
                            </a:lnTo>
                            <a:lnTo>
                              <a:pt x="618" y="86"/>
                            </a:lnTo>
                            <a:lnTo>
                              <a:pt x="614" y="87"/>
                            </a:lnTo>
                            <a:lnTo>
                              <a:pt x="609" y="89"/>
                            </a:lnTo>
                            <a:lnTo>
                              <a:pt x="603" y="91"/>
                            </a:lnTo>
                            <a:lnTo>
                              <a:pt x="599" y="95"/>
                            </a:lnTo>
                            <a:lnTo>
                              <a:pt x="595" y="97"/>
                            </a:lnTo>
                            <a:lnTo>
                              <a:pt x="592" y="99"/>
                            </a:lnTo>
                            <a:lnTo>
                              <a:pt x="586" y="103"/>
                            </a:lnTo>
                            <a:lnTo>
                              <a:pt x="582" y="105"/>
                            </a:lnTo>
                            <a:lnTo>
                              <a:pt x="578" y="108"/>
                            </a:lnTo>
                            <a:lnTo>
                              <a:pt x="574" y="112"/>
                            </a:lnTo>
                            <a:lnTo>
                              <a:pt x="571" y="116"/>
                            </a:lnTo>
                            <a:lnTo>
                              <a:pt x="567" y="120"/>
                            </a:lnTo>
                            <a:lnTo>
                              <a:pt x="565" y="124"/>
                            </a:lnTo>
                            <a:lnTo>
                              <a:pt x="563" y="127"/>
                            </a:lnTo>
                            <a:lnTo>
                              <a:pt x="559" y="131"/>
                            </a:lnTo>
                            <a:lnTo>
                              <a:pt x="555" y="135"/>
                            </a:lnTo>
                            <a:lnTo>
                              <a:pt x="554" y="141"/>
                            </a:lnTo>
                            <a:lnTo>
                              <a:pt x="552" y="146"/>
                            </a:lnTo>
                            <a:lnTo>
                              <a:pt x="550" y="150"/>
                            </a:lnTo>
                            <a:lnTo>
                              <a:pt x="548" y="156"/>
                            </a:lnTo>
                            <a:lnTo>
                              <a:pt x="546" y="158"/>
                            </a:lnTo>
                            <a:lnTo>
                              <a:pt x="546" y="160"/>
                            </a:lnTo>
                            <a:lnTo>
                              <a:pt x="544" y="163"/>
                            </a:lnTo>
                            <a:lnTo>
                              <a:pt x="544" y="167"/>
                            </a:lnTo>
                            <a:lnTo>
                              <a:pt x="361" y="1127"/>
                            </a:lnTo>
                            <a:lnTo>
                              <a:pt x="361" y="1127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9360">
                        <a:solidFill>
                          <a:srgbClr val="c0c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376" name="AutoShape 202"/>
                    <p:cNvSpPr/>
                    <p:nvPr/>
                  </p:nvSpPr>
                  <p:spPr>
                    <a:xfrm rot="561600">
                      <a:off x="4131000" y="2878920"/>
                      <a:ext cx="88560" cy="75960"/>
                    </a:xfrm>
                    <a:prstGeom prst="hexagon">
                      <a:avLst>
                        <a:gd name="adj" fmla="val 29147"/>
                        <a:gd name="vf" fmla="val 115470"/>
                      </a:avLst>
                    </a:prstGeom>
                    <a:solidFill>
                      <a:srgbClr val="ff0000"/>
                    </a:solidFill>
                    <a:ln w="9360">
                      <a:solidFill>
                        <a:srgbClr val="b2b2b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80" bIns="1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377" name="AutoShape 203"/>
                <p:cNvSpPr/>
                <p:nvPr/>
              </p:nvSpPr>
              <p:spPr>
                <a:xfrm rot="579000">
                  <a:off x="4136040" y="2540880"/>
                  <a:ext cx="180000" cy="12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0" y="21600"/>
                      </a:lnTo>
                      <a:lnTo>
                        <a:pt x="216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8" name="AutoShape 204"/>
              <p:cNvSpPr/>
              <p:nvPr/>
            </p:nvSpPr>
            <p:spPr>
              <a:xfrm rot="593400">
                <a:off x="4011480" y="3255840"/>
                <a:ext cx="192600" cy="5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308" y="21600"/>
                    </a:lnTo>
                    <a:lnTo>
                      <a:pt x="1729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9" name="AutoShape 205"/>
            <p:cNvSpPr/>
            <p:nvPr/>
          </p:nvSpPr>
          <p:spPr>
            <a:xfrm rot="441600">
              <a:off x="4164840" y="2538720"/>
              <a:ext cx="115560" cy="109800"/>
            </a:xfrm>
            <a:custGeom>
              <a:avLst/>
              <a:gdLst/>
              <a:ahLst/>
              <a:rect l="l" t="t" r="r" b="b"/>
              <a:pathLst>
                <a:path w="137" h="130">
                  <a:moveTo>
                    <a:pt x="0" y="49"/>
                  </a:moveTo>
                  <a:lnTo>
                    <a:pt x="52" y="49"/>
                  </a:lnTo>
                  <a:lnTo>
                    <a:pt x="68" y="0"/>
                  </a:lnTo>
                  <a:lnTo>
                    <a:pt x="84" y="49"/>
                  </a:lnTo>
                  <a:lnTo>
                    <a:pt x="136" y="49"/>
                  </a:lnTo>
                  <a:lnTo>
                    <a:pt x="94" y="80"/>
                  </a:lnTo>
                  <a:lnTo>
                    <a:pt x="110" y="129"/>
                  </a:lnTo>
                  <a:lnTo>
                    <a:pt x="68" y="99"/>
                  </a:lnTo>
                  <a:lnTo>
                    <a:pt x="26" y="129"/>
                  </a:lnTo>
                  <a:lnTo>
                    <a:pt x="42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0" name="AutoShape 207"/>
          <p:cNvSpPr/>
          <p:nvPr/>
        </p:nvSpPr>
        <p:spPr>
          <a:xfrm rot="10800000">
            <a:off x="5095800" y="3854520"/>
            <a:ext cx="30240" cy="349200"/>
          </a:xfrm>
          <a:custGeom>
            <a:avLst/>
            <a:gdLst>
              <a:gd name="textAreaLeft" fmla="*/ 0 w 30240"/>
              <a:gd name="textAreaRight" fmla="*/ 21240 w 30240"/>
              <a:gd name="textAreaTop" fmla="*/ 14400 h 349200"/>
              <a:gd name="textAreaBottom" fmla="*/ 33480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1" name="Group 208"/>
          <p:cNvGrpSpPr/>
          <p:nvPr/>
        </p:nvGrpSpPr>
        <p:grpSpPr>
          <a:xfrm>
            <a:off x="4939560" y="3643560"/>
            <a:ext cx="510480" cy="434160"/>
            <a:chOff x="4939560" y="3643560"/>
            <a:chExt cx="510480" cy="434160"/>
          </a:xfrm>
        </p:grpSpPr>
        <p:sp>
          <p:nvSpPr>
            <p:cNvPr id="2382" name="AutoShape 209"/>
            <p:cNvSpPr/>
            <p:nvPr/>
          </p:nvSpPr>
          <p:spPr>
            <a:xfrm rot="14149200">
              <a:off x="5032800" y="3822480"/>
              <a:ext cx="95040" cy="276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0494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AutoShape 210"/>
            <p:cNvSpPr/>
            <p:nvPr/>
          </p:nvSpPr>
          <p:spPr>
            <a:xfrm rot="14149200">
              <a:off x="5261400" y="3622320"/>
              <a:ext cx="95040" cy="276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4" name="Group 211"/>
          <p:cNvGrpSpPr/>
          <p:nvPr/>
        </p:nvGrpSpPr>
        <p:grpSpPr>
          <a:xfrm>
            <a:off x="5148000" y="3747600"/>
            <a:ext cx="277560" cy="601200"/>
            <a:chOff x="5148000" y="3747600"/>
            <a:chExt cx="277560" cy="601200"/>
          </a:xfrm>
        </p:grpSpPr>
        <p:grpSp>
          <p:nvGrpSpPr>
            <p:cNvPr id="2385" name="Group 212"/>
            <p:cNvGrpSpPr/>
            <p:nvPr/>
          </p:nvGrpSpPr>
          <p:grpSpPr>
            <a:xfrm>
              <a:off x="5148000" y="4031280"/>
              <a:ext cx="178200" cy="317520"/>
              <a:chOff x="5148000" y="4031280"/>
              <a:chExt cx="178200" cy="317520"/>
            </a:xfrm>
          </p:grpSpPr>
          <p:sp>
            <p:nvSpPr>
              <p:cNvPr id="2386" name="AutoShape 213"/>
              <p:cNvSpPr/>
              <p:nvPr/>
            </p:nvSpPr>
            <p:spPr>
              <a:xfrm rot="11570400">
                <a:off x="5178600" y="4040640"/>
                <a:ext cx="116280" cy="2908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6200000"/>
              </a:gra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AutoShape 214"/>
              <p:cNvSpPr/>
              <p:nvPr/>
            </p:nvSpPr>
            <p:spPr>
              <a:xfrm rot="6170400">
                <a:off x="5227920" y="4274280"/>
                <a:ext cx="43560" cy="87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89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8" name="Group 215"/>
            <p:cNvGrpSpPr/>
            <p:nvPr/>
          </p:nvGrpSpPr>
          <p:grpSpPr>
            <a:xfrm>
              <a:off x="5216760" y="3747600"/>
              <a:ext cx="208800" cy="324360"/>
              <a:chOff x="5216760" y="3747600"/>
              <a:chExt cx="208800" cy="324360"/>
            </a:xfrm>
          </p:grpSpPr>
          <p:sp>
            <p:nvSpPr>
              <p:cNvPr id="2389" name="AutoShape 216"/>
              <p:cNvSpPr/>
              <p:nvPr/>
            </p:nvSpPr>
            <p:spPr>
              <a:xfrm rot="1197600">
                <a:off x="5262840" y="3769560"/>
                <a:ext cx="116280" cy="290880"/>
              </a:xfrm>
              <a:prstGeom prst="triangle">
                <a:avLst>
                  <a:gd name="adj" fmla="val 50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AutoShape 217"/>
              <p:cNvSpPr/>
              <p:nvPr/>
            </p:nvSpPr>
            <p:spPr>
              <a:xfrm rot="17398200">
                <a:off x="5302440" y="3739320"/>
                <a:ext cx="43560" cy="87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91" name="Group 218"/>
          <p:cNvGrpSpPr/>
          <p:nvPr/>
        </p:nvGrpSpPr>
        <p:grpSpPr>
          <a:xfrm>
            <a:off x="5592960" y="3760200"/>
            <a:ext cx="259560" cy="584280"/>
            <a:chOff x="5592960" y="3760200"/>
            <a:chExt cx="259560" cy="584280"/>
          </a:xfrm>
        </p:grpSpPr>
        <p:grpSp>
          <p:nvGrpSpPr>
            <p:cNvPr id="2392" name="Group 219"/>
            <p:cNvGrpSpPr/>
            <p:nvPr/>
          </p:nvGrpSpPr>
          <p:grpSpPr>
            <a:xfrm>
              <a:off x="5647680" y="4035600"/>
              <a:ext cx="204840" cy="308880"/>
              <a:chOff x="5647680" y="4035600"/>
              <a:chExt cx="204840" cy="308880"/>
            </a:xfrm>
          </p:grpSpPr>
          <p:sp>
            <p:nvSpPr>
              <p:cNvPr id="2393" name="AutoShape 220"/>
              <p:cNvSpPr/>
              <p:nvPr/>
            </p:nvSpPr>
            <p:spPr>
              <a:xfrm rot="10012200">
                <a:off x="5679000" y="4044600"/>
                <a:ext cx="115200" cy="2901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6200000"/>
              </a:gra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AutoShape 221"/>
              <p:cNvSpPr/>
              <p:nvPr/>
            </p:nvSpPr>
            <p:spPr>
              <a:xfrm rot="4612200">
                <a:off x="5783760" y="4259160"/>
                <a:ext cx="43560" cy="8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89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5" name="Group 222"/>
            <p:cNvGrpSpPr/>
            <p:nvPr/>
          </p:nvGrpSpPr>
          <p:grpSpPr>
            <a:xfrm>
              <a:off x="5592960" y="3760200"/>
              <a:ext cx="172080" cy="300960"/>
              <a:chOff x="5592960" y="3760200"/>
              <a:chExt cx="172080" cy="300960"/>
            </a:xfrm>
          </p:grpSpPr>
          <p:sp>
            <p:nvSpPr>
              <p:cNvPr id="2396" name="AutoShape 223"/>
              <p:cNvSpPr/>
              <p:nvPr/>
            </p:nvSpPr>
            <p:spPr>
              <a:xfrm rot="21240000">
                <a:off x="5634720" y="3765600"/>
                <a:ext cx="115200" cy="290160"/>
              </a:xfrm>
              <a:prstGeom prst="triangle">
                <a:avLst>
                  <a:gd name="adj" fmla="val 50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AutoShape 224"/>
              <p:cNvSpPr/>
              <p:nvPr/>
            </p:nvSpPr>
            <p:spPr>
              <a:xfrm rot="15840000">
                <a:off x="5616360" y="3747240"/>
                <a:ext cx="43560" cy="8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98" name="Group 225"/>
          <p:cNvGrpSpPr/>
          <p:nvPr/>
        </p:nvGrpSpPr>
        <p:grpSpPr>
          <a:xfrm>
            <a:off x="5092560" y="3808440"/>
            <a:ext cx="757440" cy="399960"/>
            <a:chOff x="5092560" y="3808440"/>
            <a:chExt cx="757440" cy="399960"/>
          </a:xfrm>
        </p:grpSpPr>
        <p:sp>
          <p:nvSpPr>
            <p:cNvPr id="2399" name="AutoShape 226"/>
            <p:cNvSpPr/>
            <p:nvPr/>
          </p:nvSpPr>
          <p:spPr>
            <a:xfrm>
              <a:off x="5121720" y="3831840"/>
              <a:ext cx="728280" cy="376560"/>
            </a:xfrm>
            <a:prstGeom prst="roundRect">
              <a:avLst>
                <a:gd name="adj" fmla="val 22116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Oval 227"/>
            <p:cNvSpPr/>
            <p:nvPr/>
          </p:nvSpPr>
          <p:spPr>
            <a:xfrm>
              <a:off x="5092560" y="3808440"/>
              <a:ext cx="495360" cy="115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1" name="Group 228"/>
          <p:cNvGrpSpPr/>
          <p:nvPr/>
        </p:nvGrpSpPr>
        <p:grpSpPr>
          <a:xfrm>
            <a:off x="5143680" y="3791160"/>
            <a:ext cx="286920" cy="585000"/>
            <a:chOff x="5143680" y="3791160"/>
            <a:chExt cx="286920" cy="585000"/>
          </a:xfrm>
        </p:grpSpPr>
        <p:grpSp>
          <p:nvGrpSpPr>
            <p:cNvPr id="2402" name="Group 229"/>
            <p:cNvGrpSpPr/>
            <p:nvPr/>
          </p:nvGrpSpPr>
          <p:grpSpPr>
            <a:xfrm>
              <a:off x="5143680" y="3791160"/>
              <a:ext cx="286920" cy="585000"/>
              <a:chOff x="5143680" y="3791160"/>
              <a:chExt cx="286920" cy="585000"/>
            </a:xfrm>
          </p:grpSpPr>
          <p:grpSp>
            <p:nvGrpSpPr>
              <p:cNvPr id="2403" name="Group 230"/>
              <p:cNvGrpSpPr/>
              <p:nvPr/>
            </p:nvGrpSpPr>
            <p:grpSpPr>
              <a:xfrm>
                <a:off x="5211720" y="4065120"/>
                <a:ext cx="218880" cy="311040"/>
                <a:chOff x="5211720" y="4065120"/>
                <a:chExt cx="218880" cy="311040"/>
              </a:xfrm>
            </p:grpSpPr>
            <p:sp>
              <p:nvSpPr>
                <p:cNvPr id="2404" name="AutoShape 231"/>
                <p:cNvSpPr/>
                <p:nvPr/>
              </p:nvSpPr>
              <p:spPr>
                <a:xfrm rot="9837600">
                  <a:off x="5249160" y="4075560"/>
                  <a:ext cx="116280" cy="2901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10800000"/>
                </a:gra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5" name="AutoShape 232"/>
                <p:cNvSpPr/>
                <p:nvPr/>
              </p:nvSpPr>
              <p:spPr>
                <a:xfrm rot="4437600">
                  <a:off x="5360760" y="4285440"/>
                  <a:ext cx="43560" cy="87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20250" y="3391"/>
                        <a:pt x="18900" y="5080"/>
                        <a:pt x="18900" y="10800"/>
                      </a:cubicBezTo>
                      <a:cubicBezTo>
                        <a:pt x="18900" y="16520"/>
                        <a:pt x="20250" y="1820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189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6" name="Group 233"/>
              <p:cNvGrpSpPr/>
              <p:nvPr/>
            </p:nvGrpSpPr>
            <p:grpSpPr>
              <a:xfrm>
                <a:off x="5143680" y="3791160"/>
                <a:ext cx="186840" cy="304560"/>
                <a:chOff x="5143680" y="3791160"/>
                <a:chExt cx="186840" cy="304560"/>
              </a:xfrm>
            </p:grpSpPr>
            <p:sp>
              <p:nvSpPr>
                <p:cNvPr id="2407" name="AutoShape 234"/>
                <p:cNvSpPr/>
                <p:nvPr/>
              </p:nvSpPr>
              <p:spPr>
                <a:xfrm rot="21065400">
                  <a:off x="5192280" y="3798360"/>
                  <a:ext cx="116280" cy="290160"/>
                </a:xfrm>
                <a:prstGeom prst="triangle">
                  <a:avLst>
                    <a:gd name="adj" fmla="val 5000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8" name="AutoShape 235"/>
                <p:cNvSpPr/>
                <p:nvPr/>
              </p:nvSpPr>
              <p:spPr>
                <a:xfrm rot="15665400">
                  <a:off x="5168160" y="3782880"/>
                  <a:ext cx="43560" cy="87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20250" y="3391"/>
                        <a:pt x="18900" y="5080"/>
                        <a:pt x="18900" y="10800"/>
                      </a:cubicBezTo>
                      <a:cubicBezTo>
                        <a:pt x="18900" y="16520"/>
                        <a:pt x="20250" y="1820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09" name="AutoShape 236"/>
            <p:cNvSpPr/>
            <p:nvPr/>
          </p:nvSpPr>
          <p:spPr>
            <a:xfrm rot="3986400">
              <a:off x="5182920" y="4011840"/>
              <a:ext cx="151200" cy="150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934" y="2201"/>
                    <a:pt x="12267" y="5080"/>
                    <a:pt x="12267" y="10800"/>
                  </a:cubicBezTo>
                  <a:cubicBezTo>
                    <a:pt x="12267" y="16520"/>
                    <a:pt x="16934" y="1939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20748000"/>
            </a:gra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0" name="Group 237"/>
          <p:cNvGrpSpPr/>
          <p:nvPr/>
        </p:nvGrpSpPr>
        <p:grpSpPr>
          <a:xfrm>
            <a:off x="5547960" y="3760920"/>
            <a:ext cx="322200" cy="598680"/>
            <a:chOff x="5547960" y="3760920"/>
            <a:chExt cx="322200" cy="598680"/>
          </a:xfrm>
        </p:grpSpPr>
        <p:grpSp>
          <p:nvGrpSpPr>
            <p:cNvPr id="2411" name="Group 238"/>
            <p:cNvGrpSpPr/>
            <p:nvPr/>
          </p:nvGrpSpPr>
          <p:grpSpPr>
            <a:xfrm>
              <a:off x="5547960" y="3760920"/>
              <a:ext cx="322200" cy="598680"/>
              <a:chOff x="5547960" y="3760920"/>
              <a:chExt cx="322200" cy="598680"/>
            </a:xfrm>
          </p:grpSpPr>
          <p:grpSp>
            <p:nvGrpSpPr>
              <p:cNvPr id="2412" name="Group 239"/>
              <p:cNvGrpSpPr/>
              <p:nvPr/>
            </p:nvGrpSpPr>
            <p:grpSpPr>
              <a:xfrm>
                <a:off x="5547960" y="4037040"/>
                <a:ext cx="200160" cy="322560"/>
                <a:chOff x="5547960" y="4037040"/>
                <a:chExt cx="200160" cy="322560"/>
              </a:xfrm>
            </p:grpSpPr>
            <p:sp>
              <p:nvSpPr>
                <p:cNvPr id="2413" name="AutoShape 240"/>
                <p:cNvSpPr/>
                <p:nvPr/>
              </p:nvSpPr>
              <p:spPr>
                <a:xfrm rot="11868000">
                  <a:off x="5589360" y="4047840"/>
                  <a:ext cx="117000" cy="29088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10800000"/>
                </a:gra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4" name="AutoShape 241"/>
                <p:cNvSpPr/>
                <p:nvPr/>
              </p:nvSpPr>
              <p:spPr>
                <a:xfrm rot="6468000">
                  <a:off x="5627520" y="4281480"/>
                  <a:ext cx="43560" cy="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20250" y="3391"/>
                        <a:pt x="18900" y="5080"/>
                        <a:pt x="18900" y="10800"/>
                      </a:cubicBezTo>
                      <a:cubicBezTo>
                        <a:pt x="18900" y="16520"/>
                        <a:pt x="20250" y="1820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189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5" name="Group 242"/>
              <p:cNvGrpSpPr/>
              <p:nvPr/>
            </p:nvGrpSpPr>
            <p:grpSpPr>
              <a:xfrm>
                <a:off x="5641200" y="3760920"/>
                <a:ext cx="228960" cy="326520"/>
                <a:chOff x="5641200" y="3760920"/>
                <a:chExt cx="228960" cy="326520"/>
              </a:xfrm>
            </p:grpSpPr>
            <p:sp>
              <p:nvSpPr>
                <p:cNvPr id="2416" name="AutoShape 243"/>
                <p:cNvSpPr/>
                <p:nvPr/>
              </p:nvSpPr>
              <p:spPr>
                <a:xfrm rot="1495800">
                  <a:off x="5697000" y="3785040"/>
                  <a:ext cx="117000" cy="290880"/>
                </a:xfrm>
                <a:prstGeom prst="triangle">
                  <a:avLst>
                    <a:gd name="adj" fmla="val 5000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7" name="AutoShape 244"/>
                <p:cNvSpPr/>
                <p:nvPr/>
              </p:nvSpPr>
              <p:spPr>
                <a:xfrm rot="17695800">
                  <a:off x="5748120" y="3755160"/>
                  <a:ext cx="43560" cy="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20250" y="3391"/>
                        <a:pt x="18900" y="5080"/>
                        <a:pt x="18900" y="10800"/>
                      </a:cubicBezTo>
                      <a:cubicBezTo>
                        <a:pt x="18900" y="16520"/>
                        <a:pt x="20250" y="1820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18" name="AutoShape 245"/>
            <p:cNvSpPr/>
            <p:nvPr/>
          </p:nvSpPr>
          <p:spPr>
            <a:xfrm rot="6568800">
              <a:off x="5622120" y="3971520"/>
              <a:ext cx="151560" cy="151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934" y="2201"/>
                    <a:pt x="12267" y="5080"/>
                    <a:pt x="12267" y="10800"/>
                  </a:cubicBezTo>
                  <a:cubicBezTo>
                    <a:pt x="12267" y="16520"/>
                    <a:pt x="16934" y="1939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20196000"/>
            </a:gra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9" name="Group 246"/>
          <p:cNvGrpSpPr/>
          <p:nvPr/>
        </p:nvGrpSpPr>
        <p:grpSpPr>
          <a:xfrm>
            <a:off x="5565240" y="3378240"/>
            <a:ext cx="682560" cy="716760"/>
            <a:chOff x="5565240" y="3378240"/>
            <a:chExt cx="682560" cy="716760"/>
          </a:xfrm>
        </p:grpSpPr>
        <p:grpSp>
          <p:nvGrpSpPr>
            <p:cNvPr id="2420" name="Group 247"/>
            <p:cNvGrpSpPr/>
            <p:nvPr/>
          </p:nvGrpSpPr>
          <p:grpSpPr>
            <a:xfrm>
              <a:off x="5565240" y="3467880"/>
              <a:ext cx="682560" cy="627120"/>
              <a:chOff x="5565240" y="3467880"/>
              <a:chExt cx="682560" cy="627120"/>
            </a:xfrm>
          </p:grpSpPr>
          <p:sp>
            <p:nvSpPr>
              <p:cNvPr id="2421" name="AutoShape 248"/>
              <p:cNvSpPr/>
              <p:nvPr/>
            </p:nvSpPr>
            <p:spPr>
              <a:xfrm rot="18022800">
                <a:off x="5670000" y="3534120"/>
                <a:ext cx="437400" cy="493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3363" y="21600"/>
                    </a:lnTo>
                    <a:lnTo>
                      <a:pt x="18237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ffffff"/>
                  </a:gs>
                  <a:gs pos="100000">
                    <a:srgbClr val="c0c0c0"/>
                  </a:gs>
                </a:gsLst>
                <a:lin ang="3576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22" name="Group 249"/>
              <p:cNvGrpSpPr/>
              <p:nvPr/>
            </p:nvGrpSpPr>
            <p:grpSpPr>
              <a:xfrm>
                <a:off x="6131880" y="3679560"/>
                <a:ext cx="115920" cy="116640"/>
                <a:chOff x="6131880" y="3679560"/>
                <a:chExt cx="115920" cy="116640"/>
              </a:xfrm>
            </p:grpSpPr>
            <p:sp>
              <p:nvSpPr>
                <p:cNvPr id="2423" name="Oval 250"/>
                <p:cNvSpPr/>
                <p:nvPr/>
              </p:nvSpPr>
              <p:spPr>
                <a:xfrm>
                  <a:off x="6131880" y="3679560"/>
                  <a:ext cx="115920" cy="11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4" name="Oval 251"/>
                <p:cNvSpPr/>
                <p:nvPr/>
              </p:nvSpPr>
              <p:spPr>
                <a:xfrm>
                  <a:off x="6189840" y="3708720"/>
                  <a:ext cx="28800" cy="28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5" name=""/>
              <p:cNvGrpSpPr/>
              <p:nvPr/>
            </p:nvGrpSpPr>
            <p:grpSpPr>
              <a:xfrm>
                <a:off x="5906880" y="3883680"/>
                <a:ext cx="174240" cy="28800"/>
                <a:chOff x="5906880" y="3883680"/>
                <a:chExt cx="174240" cy="28800"/>
              </a:xfrm>
            </p:grpSpPr>
            <p:sp>
              <p:nvSpPr>
                <p:cNvPr id="2426" name="Line 252"/>
                <p:cNvSpPr/>
                <p:nvPr/>
              </p:nvSpPr>
              <p:spPr>
                <a:xfrm flipH="1" flipV="1">
                  <a:off x="5906880" y="3883680"/>
                  <a:ext cx="174240" cy="2880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7" name=""/>
                <p:cNvSpPr txBox="1"/>
                <p:nvPr/>
              </p:nvSpPr>
              <p:spPr>
                <a:xfrm rot="10800000">
                  <a:off x="5906880" y="3883680"/>
                  <a:ext cx="174240" cy="2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8000" bIns="-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28" name="Oval 253"/>
              <p:cNvSpPr/>
              <p:nvPr/>
            </p:nvSpPr>
            <p:spPr>
              <a:xfrm rot="1955400">
                <a:off x="5726880" y="3610080"/>
                <a:ext cx="493560" cy="874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9" name="Oval 254"/>
            <p:cNvSpPr/>
            <p:nvPr/>
          </p:nvSpPr>
          <p:spPr>
            <a:xfrm>
              <a:off x="5668920" y="3378240"/>
              <a:ext cx="318240" cy="87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0" name="Group 255"/>
          <p:cNvGrpSpPr/>
          <p:nvPr/>
        </p:nvGrpSpPr>
        <p:grpSpPr>
          <a:xfrm>
            <a:off x="5599080" y="3093120"/>
            <a:ext cx="429480" cy="821520"/>
            <a:chOff x="5599080" y="3093120"/>
            <a:chExt cx="429480" cy="821520"/>
          </a:xfrm>
        </p:grpSpPr>
        <p:sp>
          <p:nvSpPr>
            <p:cNvPr id="2431" name="AutoShape 256"/>
            <p:cNvSpPr/>
            <p:nvPr/>
          </p:nvSpPr>
          <p:spPr>
            <a:xfrm rot="12584400">
              <a:off x="5681520" y="3510000"/>
              <a:ext cx="189000" cy="382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4772000"/>
            </a:gra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AutoShape 257"/>
            <p:cNvSpPr/>
            <p:nvPr/>
          </p:nvSpPr>
          <p:spPr>
            <a:xfrm rot="2118000">
              <a:off x="5746320" y="3112200"/>
              <a:ext cx="189000" cy="382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3" name="Group 258"/>
          <p:cNvGrpSpPr/>
          <p:nvPr/>
        </p:nvGrpSpPr>
        <p:grpSpPr>
          <a:xfrm>
            <a:off x="2652840" y="-14760"/>
            <a:ext cx="4281120" cy="4863960"/>
            <a:chOff x="2652840" y="-14760"/>
            <a:chExt cx="4281120" cy="4863960"/>
          </a:xfrm>
        </p:grpSpPr>
        <p:sp>
          <p:nvSpPr>
            <p:cNvPr id="2434" name="Oval 259"/>
            <p:cNvSpPr/>
            <p:nvPr/>
          </p:nvSpPr>
          <p:spPr>
            <a:xfrm rot="16200000">
              <a:off x="4121640" y="2053800"/>
              <a:ext cx="1326600" cy="426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3137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AutoShape 260"/>
            <p:cNvSpPr/>
            <p:nvPr/>
          </p:nvSpPr>
          <p:spPr>
            <a:xfrm rot="10800000">
              <a:off x="2670120" y="-14760"/>
              <a:ext cx="4263840" cy="4346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702" y="21600"/>
                  </a:lnTo>
                  <a:lnTo>
                    <a:pt x="1289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aeaea">
                    <a:alpha val="71372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6" name="Text Box 261"/>
          <p:cNvSpPr/>
          <p:nvPr/>
        </p:nvSpPr>
        <p:spPr>
          <a:xfrm>
            <a:off x="2362320" y="556272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我经常会带肉肉散步，因为他不会把我的秘密告诉别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7" name=""/>
          <p:cNvGrpSpPr/>
          <p:nvPr/>
        </p:nvGrpSpPr>
        <p:grpSpPr>
          <a:xfrm>
            <a:off x="-1447920" y="5486400"/>
            <a:ext cx="304920" cy="609480"/>
            <a:chOff x="-1447920" y="5486400"/>
            <a:chExt cx="304920" cy="609480"/>
          </a:xfrm>
        </p:grpSpPr>
        <p:sp>
          <p:nvSpPr>
            <p:cNvPr id="2438" name="Line 262"/>
            <p:cNvSpPr/>
            <p:nvPr/>
          </p:nvSpPr>
          <p:spPr>
            <a:xfrm>
              <a:off x="-1447920" y="5486400"/>
              <a:ext cx="304920" cy="609480"/>
            </a:xfrm>
            <a:prstGeom prst="line">
              <a:avLst/>
            </a:prstGeom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 txBox="1"/>
            <p:nvPr/>
          </p:nvSpPr>
          <p:spPr>
            <a:xfrm>
              <a:off x="-1447920" y="5486400"/>
              <a:ext cx="30492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0" name="文本框 8200"/>
          <p:cNvSpPr/>
          <p:nvPr/>
        </p:nvSpPr>
        <p:spPr>
          <a:xfrm>
            <a:off x="1752480" y="43434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 thruBlk="true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294" dur="1000" fill="hold"/>
                                        <p:tgtEl>
                                          <p:spTgt spid="2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5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96" dur="1000" fill="hold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7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98" dur="1000" fill="hold"/>
                                        <p:tgtEl>
                                          <p:spTgt spid="2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9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300" dur="1000" fill="hold"/>
                                        <p:tgtEl>
                                          <p:spTgt spid="2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1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302" dur="500" fill="hold"/>
                                        <p:tgtEl>
                                          <p:spTgt spid="2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3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304" dur="500" fill="hold"/>
                                        <p:tgtEl>
                                          <p:spTgt spid="2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5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306" dur="500" fill="hold"/>
                                        <p:tgtEl>
                                          <p:spTgt spid="2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7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308" dur="500" fill="hold"/>
                                        <p:tgtEl>
                                          <p:spTgt spid="2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9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310" dur="200" fill="hold"/>
                                        <p:tgtEl>
                                          <p:spTgt spid="2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3" dur="3000" fill="hold"/>
                                        <p:tgtEl>
                                          <p:spTgt spid="2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Oval 4"/>
          <p:cNvSpPr/>
          <p:nvPr/>
        </p:nvSpPr>
        <p:spPr>
          <a:xfrm>
            <a:off x="3862440" y="1365120"/>
            <a:ext cx="1384200" cy="1276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Oval 5"/>
          <p:cNvSpPr/>
          <p:nvPr/>
        </p:nvSpPr>
        <p:spPr>
          <a:xfrm>
            <a:off x="3797280" y="1665360"/>
            <a:ext cx="1384200" cy="1120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Oval 6"/>
          <p:cNvSpPr/>
          <p:nvPr/>
        </p:nvSpPr>
        <p:spPr>
          <a:xfrm>
            <a:off x="4245120" y="1832040"/>
            <a:ext cx="1180800" cy="996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Oval 7"/>
          <p:cNvSpPr/>
          <p:nvPr/>
        </p:nvSpPr>
        <p:spPr>
          <a:xfrm>
            <a:off x="4448160" y="1855800"/>
            <a:ext cx="103824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Oval 8"/>
          <p:cNvSpPr/>
          <p:nvPr/>
        </p:nvSpPr>
        <p:spPr>
          <a:xfrm>
            <a:off x="4149720" y="1295280"/>
            <a:ext cx="966960" cy="1030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6" name="Group 397"/>
          <p:cNvGrpSpPr/>
          <p:nvPr/>
        </p:nvGrpSpPr>
        <p:grpSpPr>
          <a:xfrm>
            <a:off x="3809880" y="3265560"/>
            <a:ext cx="2607840" cy="785520"/>
            <a:chOff x="3809880" y="3265560"/>
            <a:chExt cx="2607840" cy="785520"/>
          </a:xfrm>
        </p:grpSpPr>
        <p:sp>
          <p:nvSpPr>
            <p:cNvPr id="2447" name="Rectangle 362"/>
            <p:cNvSpPr/>
            <p:nvPr/>
          </p:nvSpPr>
          <p:spPr>
            <a:xfrm>
              <a:off x="3809880" y="3647880"/>
              <a:ext cx="457200" cy="22752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8" name="Group 383"/>
            <p:cNvGrpSpPr/>
            <p:nvPr/>
          </p:nvGrpSpPr>
          <p:grpSpPr>
            <a:xfrm>
              <a:off x="5880960" y="3572280"/>
              <a:ext cx="536760" cy="455040"/>
              <a:chOff x="5880960" y="3572280"/>
              <a:chExt cx="536760" cy="455040"/>
            </a:xfrm>
          </p:grpSpPr>
          <p:sp>
            <p:nvSpPr>
              <p:cNvPr id="2449" name="AutoShape 384"/>
              <p:cNvSpPr/>
              <p:nvPr/>
            </p:nvSpPr>
            <p:spPr>
              <a:xfrm rot="5400000">
                <a:off x="5958720" y="3688920"/>
                <a:ext cx="252360" cy="40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700" y="21600"/>
                    </a:lnTo>
                    <a:lnTo>
                      <a:pt x="189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0" name="Group 385"/>
              <p:cNvGrpSpPr/>
              <p:nvPr/>
            </p:nvGrpSpPr>
            <p:grpSpPr>
              <a:xfrm>
                <a:off x="6188400" y="3572280"/>
                <a:ext cx="229320" cy="455040"/>
                <a:chOff x="6188400" y="3572280"/>
                <a:chExt cx="229320" cy="455040"/>
              </a:xfrm>
            </p:grpSpPr>
            <p:grpSp>
              <p:nvGrpSpPr>
                <p:cNvPr id="2451" name="Group 386"/>
                <p:cNvGrpSpPr/>
                <p:nvPr/>
              </p:nvGrpSpPr>
              <p:grpSpPr>
                <a:xfrm>
                  <a:off x="6287400" y="3572280"/>
                  <a:ext cx="130320" cy="455040"/>
                  <a:chOff x="6287400" y="3572280"/>
                  <a:chExt cx="130320" cy="455040"/>
                </a:xfrm>
              </p:grpSpPr>
              <p:grpSp>
                <p:nvGrpSpPr>
                  <p:cNvPr id="2452" name="Group 387"/>
                  <p:cNvGrpSpPr/>
                  <p:nvPr/>
                </p:nvGrpSpPr>
                <p:grpSpPr>
                  <a:xfrm>
                    <a:off x="6287400" y="3579840"/>
                    <a:ext cx="130320" cy="447480"/>
                    <a:chOff x="6287400" y="3579840"/>
                    <a:chExt cx="130320" cy="447480"/>
                  </a:xfrm>
                </p:grpSpPr>
                <p:sp>
                  <p:nvSpPr>
                    <p:cNvPr id="2453" name="Rectangle 388"/>
                    <p:cNvSpPr/>
                    <p:nvPr/>
                  </p:nvSpPr>
                  <p:spPr>
                    <a:xfrm rot="16200000">
                      <a:off x="6203880" y="3813480"/>
                      <a:ext cx="298440" cy="129240"/>
                    </a:xfrm>
                    <a:prstGeom prst="rect">
                      <a:avLst/>
                    </a:prstGeom>
                    <a:solidFill>
                      <a:srgbClr val="99663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4" name="Freeform 389"/>
                    <p:cNvSpPr/>
                    <p:nvPr/>
                  </p:nvSpPr>
                  <p:spPr>
                    <a:xfrm rot="16200000">
                      <a:off x="6276960" y="3589920"/>
                      <a:ext cx="149040" cy="12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2" h="672">
                          <a:moveTo>
                            <a:pt x="0" y="0"/>
                          </a:moveTo>
                          <a:lnTo>
                            <a:pt x="672" y="528"/>
                          </a:lnTo>
                          <a:lnTo>
                            <a:pt x="672" y="672"/>
                          </a:lnTo>
                          <a:lnTo>
                            <a:pt x="0" y="67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5" name=""/>
                  <p:cNvGrpSpPr/>
                  <p:nvPr/>
                </p:nvGrpSpPr>
                <p:grpSpPr>
                  <a:xfrm>
                    <a:off x="6388920" y="3572280"/>
                    <a:ext cx="360" cy="455040"/>
                    <a:chOff x="6388920" y="3572280"/>
                    <a:chExt cx="360" cy="455040"/>
                  </a:xfrm>
                </p:grpSpPr>
                <p:sp>
                  <p:nvSpPr>
                    <p:cNvPr id="2456" name="Line 390"/>
                    <p:cNvSpPr/>
                    <p:nvPr/>
                  </p:nvSpPr>
                  <p:spPr>
                    <a:xfrm flipV="1">
                      <a:off x="6388920" y="3572280"/>
                      <a:ext cx="0" cy="45504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7" name=""/>
                    <p:cNvSpPr txBox="1"/>
                    <p:nvPr/>
                  </p:nvSpPr>
                  <p:spPr>
                    <a:xfrm rot="16200000">
                      <a:off x="6161400" y="3799440"/>
                      <a:ext cx="4550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458" name="Oval 391"/>
                <p:cNvSpPr/>
                <p:nvPr/>
              </p:nvSpPr>
              <p:spPr>
                <a:xfrm rot="16200000">
                  <a:off x="6256800" y="3850920"/>
                  <a:ext cx="90720" cy="101880"/>
                </a:xfrm>
                <a:prstGeom prst="ellipse">
                  <a:avLst/>
                </a:prstGeom>
                <a:solidFill>
                  <a:srgbClr val="99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9" name="Freeform 392"/>
                <p:cNvSpPr/>
                <p:nvPr/>
              </p:nvSpPr>
              <p:spPr>
                <a:xfrm rot="5952000">
                  <a:off x="6212520" y="3670200"/>
                  <a:ext cx="122040" cy="152640"/>
                </a:xfrm>
                <a:custGeom>
                  <a:avLst/>
                  <a:gdLst/>
                  <a:ahLst/>
                  <a:rect l="l" t="t" r="r" b="b"/>
                  <a:pathLst>
                    <a:path w="400" h="656">
                      <a:moveTo>
                        <a:pt x="360" y="64"/>
                      </a:moveTo>
                      <a:cubicBezTo>
                        <a:pt x="400" y="128"/>
                        <a:pt x="376" y="448"/>
                        <a:pt x="360" y="544"/>
                      </a:cubicBezTo>
                      <a:cubicBezTo>
                        <a:pt x="344" y="640"/>
                        <a:pt x="320" y="656"/>
                        <a:pt x="264" y="640"/>
                      </a:cubicBezTo>
                      <a:cubicBezTo>
                        <a:pt x="208" y="624"/>
                        <a:pt x="48" y="528"/>
                        <a:pt x="24" y="448"/>
                      </a:cubicBezTo>
                      <a:cubicBezTo>
                        <a:pt x="0" y="368"/>
                        <a:pt x="64" y="224"/>
                        <a:pt x="120" y="160"/>
                      </a:cubicBezTo>
                      <a:cubicBezTo>
                        <a:pt x="176" y="96"/>
                        <a:pt x="320" y="0"/>
                        <a:pt x="360" y="64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60" name="AutoShape 393"/>
            <p:cNvSpPr/>
            <p:nvPr/>
          </p:nvSpPr>
          <p:spPr>
            <a:xfrm rot="5400000">
              <a:off x="4749840" y="2336040"/>
              <a:ext cx="655920" cy="2514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Rectangle 394"/>
            <p:cNvSpPr/>
            <p:nvPr/>
          </p:nvSpPr>
          <p:spPr>
            <a:xfrm>
              <a:off x="3809880" y="3823560"/>
              <a:ext cx="2604960" cy="22752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2" name="Group 398"/>
          <p:cNvGrpSpPr/>
          <p:nvPr/>
        </p:nvGrpSpPr>
        <p:grpSpPr>
          <a:xfrm>
            <a:off x="3006360" y="3195000"/>
            <a:ext cx="2027520" cy="1157760"/>
            <a:chOff x="3006360" y="3195000"/>
            <a:chExt cx="2027520" cy="1157760"/>
          </a:xfrm>
        </p:grpSpPr>
        <p:grpSp>
          <p:nvGrpSpPr>
            <p:cNvPr id="2463" name="Group 399"/>
            <p:cNvGrpSpPr/>
            <p:nvPr/>
          </p:nvGrpSpPr>
          <p:grpSpPr>
            <a:xfrm>
              <a:off x="3006360" y="3195000"/>
              <a:ext cx="1099800" cy="771480"/>
              <a:chOff x="3006360" y="3195000"/>
              <a:chExt cx="1099800" cy="771480"/>
            </a:xfrm>
          </p:grpSpPr>
          <p:grpSp>
            <p:nvGrpSpPr>
              <p:cNvPr id="2464" name=""/>
              <p:cNvGrpSpPr/>
              <p:nvPr/>
            </p:nvGrpSpPr>
            <p:grpSpPr>
              <a:xfrm>
                <a:off x="3300840" y="3405240"/>
                <a:ext cx="226800" cy="315000"/>
                <a:chOff x="3300840" y="3405240"/>
                <a:chExt cx="226800" cy="315000"/>
              </a:xfrm>
            </p:grpSpPr>
            <p:sp>
              <p:nvSpPr>
                <p:cNvPr id="2465" name="Line 400"/>
                <p:cNvSpPr/>
                <p:nvPr/>
              </p:nvSpPr>
              <p:spPr>
                <a:xfrm flipV="1">
                  <a:off x="3300840" y="3447360"/>
                  <a:ext cx="226800" cy="230760"/>
                </a:xfrm>
                <a:prstGeom prst="line">
                  <a:avLst/>
                </a:prstGeom>
                <a:ln w="64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6" name=""/>
                <p:cNvSpPr txBox="1"/>
                <p:nvPr/>
              </p:nvSpPr>
              <p:spPr>
                <a:xfrm rot="17146200">
                  <a:off x="3272040" y="3484800"/>
                  <a:ext cx="283680" cy="15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7" name="Group 401"/>
              <p:cNvGrpSpPr/>
              <p:nvPr/>
            </p:nvGrpSpPr>
            <p:grpSpPr>
              <a:xfrm>
                <a:off x="3232800" y="3195000"/>
                <a:ext cx="873360" cy="771480"/>
                <a:chOff x="3232800" y="3195000"/>
                <a:chExt cx="873360" cy="771480"/>
              </a:xfrm>
            </p:grpSpPr>
            <p:sp>
              <p:nvSpPr>
                <p:cNvPr id="2468" name="AutoShape 402"/>
                <p:cNvSpPr/>
                <p:nvPr/>
              </p:nvSpPr>
              <p:spPr>
                <a:xfrm rot="16648200">
                  <a:off x="3620880" y="3170880"/>
                  <a:ext cx="405360" cy="516600"/>
                </a:xfrm>
                <a:custGeom>
                  <a:avLst/>
                  <a:gdLst>
                    <a:gd name="textAreaLeft" fmla="*/ 0 w 405360"/>
                    <a:gd name="textAreaRight" fmla="*/ 146160 w 405360"/>
                    <a:gd name="textAreaTop" fmla="*/ 13320 h 516600"/>
                    <a:gd name="textAreaBottom" fmla="*/ 503280 h 516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1260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9" name="AutoShape 403"/>
                <p:cNvSpPr/>
                <p:nvPr/>
              </p:nvSpPr>
              <p:spPr>
                <a:xfrm rot="16771800">
                  <a:off x="3572640" y="3431880"/>
                  <a:ext cx="446040" cy="526680"/>
                </a:xfrm>
                <a:custGeom>
                  <a:avLst/>
                  <a:gdLst>
                    <a:gd name="textAreaLeft" fmla="*/ 21600 w 446040"/>
                    <a:gd name="textAreaRight" fmla="*/ 424440 w 446040"/>
                    <a:gd name="textAreaTop" fmla="*/ 21600 h 526680"/>
                    <a:gd name="textAreaBottom" fmla="*/ 505080 h 526680"/>
                  </a:gdLst>
                  <a:ahLst/>
                  <a:rect l="textAreaLeft" t="textAreaTop" r="textAreaRight" b="textAreaBottom"/>
                  <a:pathLst>
                    <a:path w="21600" h="25502">
                      <a:moveTo>
                        <a:pt x="3600" y="0"/>
                      </a:moveTo>
                      <a:arcTo wR="3600" hR="3600" stAng="16200000" swAng="-5400000"/>
                      <a:lnTo>
                        <a:pt x="0" y="21902"/>
                      </a:lnTo>
                      <a:arcTo wR="3600" hR="3600" stAng="10800000" swAng="-5400000"/>
                      <a:lnTo>
                        <a:pt x="18000" y="2550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37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0" name="AutoShape 404"/>
                <p:cNvSpPr/>
                <p:nvPr/>
              </p:nvSpPr>
              <p:spPr>
                <a:xfrm rot="15597000">
                  <a:off x="3207960" y="3556080"/>
                  <a:ext cx="446040" cy="3243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20448000"/>
                </a:gra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1" name="AutoShape 405"/>
                <p:cNvSpPr/>
                <p:nvPr/>
              </p:nvSpPr>
              <p:spPr>
                <a:xfrm rot="16963800">
                  <a:off x="3738240" y="3609720"/>
                  <a:ext cx="99720" cy="143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9725" y="3202"/>
                        <a:pt x="17850" y="5080"/>
                        <a:pt x="17850" y="10800"/>
                      </a:cubicBezTo>
                      <a:cubicBezTo>
                        <a:pt x="17850" y="16520"/>
                        <a:pt x="19725" y="1839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18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2" name="AutoShape 406"/>
              <p:cNvSpPr/>
              <p:nvPr/>
            </p:nvSpPr>
            <p:spPr>
              <a:xfrm rot="14677800">
                <a:off x="3119040" y="3655080"/>
                <a:ext cx="70920" cy="295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21366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3" name="Group 407"/>
            <p:cNvGrpSpPr/>
            <p:nvPr/>
          </p:nvGrpSpPr>
          <p:grpSpPr>
            <a:xfrm>
              <a:off x="3855960" y="3530520"/>
              <a:ext cx="1177920" cy="822240"/>
              <a:chOff x="3855960" y="3530520"/>
              <a:chExt cx="1177920" cy="822240"/>
            </a:xfrm>
          </p:grpSpPr>
          <p:grpSp>
            <p:nvGrpSpPr>
              <p:cNvPr id="2474" name=""/>
              <p:cNvGrpSpPr/>
              <p:nvPr/>
            </p:nvGrpSpPr>
            <p:grpSpPr>
              <a:xfrm>
                <a:off x="4456800" y="3857760"/>
                <a:ext cx="261000" cy="322920"/>
                <a:chOff x="4456800" y="3857760"/>
                <a:chExt cx="261000" cy="322920"/>
              </a:xfrm>
            </p:grpSpPr>
            <p:sp>
              <p:nvSpPr>
                <p:cNvPr id="2475" name="Line 408"/>
                <p:cNvSpPr/>
                <p:nvPr/>
              </p:nvSpPr>
              <p:spPr>
                <a:xfrm flipH="1">
                  <a:off x="4456800" y="3923640"/>
                  <a:ext cx="261000" cy="190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6" name=""/>
                <p:cNvSpPr txBox="1"/>
                <p:nvPr/>
              </p:nvSpPr>
              <p:spPr>
                <a:xfrm rot="6904800">
                  <a:off x="4445280" y="3941280"/>
                  <a:ext cx="283680" cy="15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7" name="Group 409"/>
              <p:cNvGrpSpPr/>
              <p:nvPr/>
            </p:nvGrpSpPr>
            <p:grpSpPr>
              <a:xfrm>
                <a:off x="3855960" y="3530520"/>
                <a:ext cx="904680" cy="822240"/>
                <a:chOff x="3855960" y="3530520"/>
                <a:chExt cx="904680" cy="822240"/>
              </a:xfrm>
            </p:grpSpPr>
            <p:sp>
              <p:nvSpPr>
                <p:cNvPr id="2478" name="AutoShape 410"/>
                <p:cNvSpPr/>
                <p:nvPr/>
              </p:nvSpPr>
              <p:spPr>
                <a:xfrm rot="6406800">
                  <a:off x="3958920" y="3825720"/>
                  <a:ext cx="405360" cy="516600"/>
                </a:xfrm>
                <a:custGeom>
                  <a:avLst/>
                  <a:gdLst>
                    <a:gd name="textAreaLeft" fmla="*/ 0 w 405360"/>
                    <a:gd name="textAreaRight" fmla="*/ 146160 w 405360"/>
                    <a:gd name="textAreaTop" fmla="*/ 13320 h 516600"/>
                    <a:gd name="textAreaBottom" fmla="*/ 503280 h 516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9" name="AutoShape 411"/>
                <p:cNvSpPr/>
                <p:nvPr/>
              </p:nvSpPr>
              <p:spPr>
                <a:xfrm rot="6530400">
                  <a:off x="4009320" y="3562920"/>
                  <a:ext cx="446040" cy="526680"/>
                </a:xfrm>
                <a:custGeom>
                  <a:avLst/>
                  <a:gdLst>
                    <a:gd name="textAreaLeft" fmla="*/ 21600 w 446040"/>
                    <a:gd name="textAreaRight" fmla="*/ 424440 w 446040"/>
                    <a:gd name="textAreaTop" fmla="*/ 21600 h 526680"/>
                    <a:gd name="textAreaBottom" fmla="*/ 505080 h 526680"/>
                  </a:gdLst>
                  <a:ahLst/>
                  <a:rect l="textAreaLeft" t="textAreaTop" r="textAreaRight" b="textAreaBottom"/>
                  <a:pathLst>
                    <a:path w="21600" h="25502">
                      <a:moveTo>
                        <a:pt x="3600" y="0"/>
                      </a:moveTo>
                      <a:arcTo wR="3600" hR="3600" stAng="16200000" swAng="-5400000"/>
                      <a:lnTo>
                        <a:pt x="0" y="21902"/>
                      </a:lnTo>
                      <a:arcTo wR="3600" hR="3600" stAng="10800000" swAng="-5400000"/>
                      <a:lnTo>
                        <a:pt x="18000" y="2550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0" name="AutoShape 412"/>
                <p:cNvSpPr/>
                <p:nvPr/>
              </p:nvSpPr>
              <p:spPr>
                <a:xfrm rot="5355600">
                  <a:off x="4372560" y="3699720"/>
                  <a:ext cx="446040" cy="324360"/>
                </a:xfrm>
                <a:prstGeom prst="triangle">
                  <a:avLst>
                    <a:gd name="adj" fmla="val 5000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1" name="AutoShape 413"/>
                <p:cNvSpPr/>
                <p:nvPr/>
              </p:nvSpPr>
              <p:spPr>
                <a:xfrm rot="6723000">
                  <a:off x="4187520" y="3769200"/>
                  <a:ext cx="99720" cy="143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9725" y="3202"/>
                        <a:pt x="17850" y="5080"/>
                        <a:pt x="17850" y="10800"/>
                      </a:cubicBezTo>
                      <a:cubicBezTo>
                        <a:pt x="17850" y="16520"/>
                        <a:pt x="19725" y="1839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2" name="AutoShape 414"/>
              <p:cNvSpPr/>
              <p:nvPr/>
            </p:nvSpPr>
            <p:spPr>
              <a:xfrm rot="4436400">
                <a:off x="4846680" y="3676320"/>
                <a:ext cx="70920" cy="295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83" name="Oval 415"/>
          <p:cNvSpPr/>
          <p:nvPr/>
        </p:nvSpPr>
        <p:spPr>
          <a:xfrm>
            <a:off x="3505320" y="3808440"/>
            <a:ext cx="533160" cy="30492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Rectangle 416"/>
          <p:cNvSpPr/>
          <p:nvPr/>
        </p:nvSpPr>
        <p:spPr>
          <a:xfrm>
            <a:off x="3276720" y="3965400"/>
            <a:ext cx="3200400" cy="1526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5" name="Picture 421" descr="7bafa0438e5a38cbe6989676391da9e8副本"/>
          <p:cNvPicPr/>
          <p:nvPr/>
        </p:nvPicPr>
        <p:blipFill>
          <a:blip r:embed="rId1"/>
          <a:stretch/>
        </p:blipFill>
        <p:spPr>
          <a:xfrm>
            <a:off x="3962520" y="1662120"/>
            <a:ext cx="1143000" cy="1004760"/>
          </a:xfrm>
          <a:prstGeom prst="rect">
            <a:avLst/>
          </a:prstGeom>
          <a:ln w="0">
            <a:noFill/>
          </a:ln>
        </p:spPr>
      </p:pic>
      <p:grpSp>
        <p:nvGrpSpPr>
          <p:cNvPr id="2486" name="Group 422"/>
          <p:cNvGrpSpPr/>
          <p:nvPr/>
        </p:nvGrpSpPr>
        <p:grpSpPr>
          <a:xfrm>
            <a:off x="2652840" y="-14760"/>
            <a:ext cx="4281120" cy="4863960"/>
            <a:chOff x="2652840" y="-14760"/>
            <a:chExt cx="4281120" cy="4863960"/>
          </a:xfrm>
        </p:grpSpPr>
        <p:sp>
          <p:nvSpPr>
            <p:cNvPr id="2487" name="Oval 423"/>
            <p:cNvSpPr/>
            <p:nvPr/>
          </p:nvSpPr>
          <p:spPr>
            <a:xfrm rot="16200000">
              <a:off x="4121640" y="2053800"/>
              <a:ext cx="1326600" cy="426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3137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AutoShape 424"/>
            <p:cNvSpPr/>
            <p:nvPr/>
          </p:nvSpPr>
          <p:spPr>
            <a:xfrm rot="10800000">
              <a:off x="2670120" y="-14760"/>
              <a:ext cx="4263840" cy="4346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702" y="21600"/>
                  </a:lnTo>
                  <a:lnTo>
                    <a:pt x="1289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aeaea">
                    <a:alpha val="71372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9" name="Text Box 425"/>
          <p:cNvSpPr/>
          <p:nvPr/>
        </p:nvSpPr>
        <p:spPr>
          <a:xfrm>
            <a:off x="1447920" y="5468760"/>
            <a:ext cx="73911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经常会做奇怪的梦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梦到我跟一个小女孩、一头狮子、一个稻草人还有一只小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起去一个叫奥兹国的地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0" name=""/>
          <p:cNvGrpSpPr/>
          <p:nvPr/>
        </p:nvGrpSpPr>
        <p:grpSpPr>
          <a:xfrm>
            <a:off x="-1447920" y="5486400"/>
            <a:ext cx="304920" cy="609480"/>
            <a:chOff x="-1447920" y="5486400"/>
            <a:chExt cx="304920" cy="609480"/>
          </a:xfrm>
        </p:grpSpPr>
        <p:sp>
          <p:nvSpPr>
            <p:cNvPr id="2491" name="Line 426"/>
            <p:cNvSpPr/>
            <p:nvPr/>
          </p:nvSpPr>
          <p:spPr>
            <a:xfrm>
              <a:off x="-1447920" y="5486400"/>
              <a:ext cx="304920" cy="609480"/>
            </a:xfrm>
            <a:prstGeom prst="line">
              <a:avLst/>
            </a:prstGeom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 txBox="1"/>
            <p:nvPr/>
          </p:nvSpPr>
          <p:spPr>
            <a:xfrm>
              <a:off x="-1447920" y="5486400"/>
              <a:ext cx="30492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 thruBlk="true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9" dur="3000" fill="hold"/>
                                        <p:tgtEl>
                                          <p:spTgt spid="2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21" dur="3500" fill="hold"/>
                                        <p:tgtEl>
                                          <p:spTgt spid="2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3" dur="3800" fill="hold"/>
                                        <p:tgtEl>
                                          <p:spTgt spid="2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25" dur="4000" fill="hold"/>
                                        <p:tgtEl>
                                          <p:spTgt spid="2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" dur="3500" fill="hold"/>
                                        <p:tgtEl>
                                          <p:spTgt spid="2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4000"/>
                            </p:stCondLst>
                            <p:childTnLst>
                              <p:par>
                                <p:cTn id="329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0" dur="3000" fill="hold"/>
                                        <p:tgtEl>
                                          <p:spTgt spid="2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3" name="Group 96"/>
          <p:cNvGrpSpPr/>
          <p:nvPr/>
        </p:nvGrpSpPr>
        <p:grpSpPr>
          <a:xfrm>
            <a:off x="4183560" y="1332360"/>
            <a:ext cx="1149840" cy="1632240"/>
            <a:chOff x="4183560" y="1332360"/>
            <a:chExt cx="1149840" cy="1632240"/>
          </a:xfrm>
        </p:grpSpPr>
        <p:grpSp>
          <p:nvGrpSpPr>
            <p:cNvPr id="2494" name="Group 86"/>
            <p:cNvGrpSpPr/>
            <p:nvPr/>
          </p:nvGrpSpPr>
          <p:grpSpPr>
            <a:xfrm>
              <a:off x="4183560" y="2065320"/>
              <a:ext cx="669960" cy="899280"/>
              <a:chOff x="4183560" y="2065320"/>
              <a:chExt cx="669960" cy="899280"/>
            </a:xfrm>
          </p:grpSpPr>
          <p:sp>
            <p:nvSpPr>
              <p:cNvPr id="2495" name="AutoShape 54"/>
              <p:cNvSpPr/>
              <p:nvPr/>
            </p:nvSpPr>
            <p:spPr>
              <a:xfrm rot="3788400">
                <a:off x="4517280" y="2579400"/>
                <a:ext cx="77760" cy="361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lin ang="1781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Freeform 58"/>
              <p:cNvSpPr/>
              <p:nvPr/>
            </p:nvSpPr>
            <p:spPr>
              <a:xfrm flipH="1" rot="14932800">
                <a:off x="4263840" y="2759760"/>
                <a:ext cx="93960" cy="236880"/>
              </a:xfrm>
              <a:custGeom>
                <a:avLst/>
                <a:gdLst/>
                <a:ahLst/>
                <a:rect l="l" t="t" r="r" b="b"/>
                <a:pathLst>
                  <a:path w="1402" h="2302">
                    <a:moveTo>
                      <a:pt x="361" y="1127"/>
                    </a:moveTo>
                    <a:lnTo>
                      <a:pt x="280" y="1116"/>
                    </a:lnTo>
                    <a:lnTo>
                      <a:pt x="373" y="711"/>
                    </a:lnTo>
                    <a:lnTo>
                      <a:pt x="373" y="709"/>
                    </a:lnTo>
                    <a:lnTo>
                      <a:pt x="375" y="705"/>
                    </a:lnTo>
                    <a:lnTo>
                      <a:pt x="375" y="703"/>
                    </a:lnTo>
                    <a:lnTo>
                      <a:pt x="375" y="700"/>
                    </a:lnTo>
                    <a:lnTo>
                      <a:pt x="375" y="698"/>
                    </a:lnTo>
                    <a:lnTo>
                      <a:pt x="375" y="696"/>
                    </a:lnTo>
                    <a:lnTo>
                      <a:pt x="375" y="692"/>
                    </a:lnTo>
                    <a:lnTo>
                      <a:pt x="375" y="690"/>
                    </a:lnTo>
                    <a:lnTo>
                      <a:pt x="375" y="684"/>
                    </a:lnTo>
                    <a:lnTo>
                      <a:pt x="375" y="681"/>
                    </a:lnTo>
                    <a:lnTo>
                      <a:pt x="375" y="675"/>
                    </a:lnTo>
                    <a:lnTo>
                      <a:pt x="375" y="669"/>
                    </a:lnTo>
                    <a:lnTo>
                      <a:pt x="371" y="665"/>
                    </a:lnTo>
                    <a:lnTo>
                      <a:pt x="371" y="660"/>
                    </a:lnTo>
                    <a:lnTo>
                      <a:pt x="369" y="654"/>
                    </a:lnTo>
                    <a:lnTo>
                      <a:pt x="367" y="652"/>
                    </a:lnTo>
                    <a:lnTo>
                      <a:pt x="365" y="646"/>
                    </a:lnTo>
                    <a:lnTo>
                      <a:pt x="363" y="641"/>
                    </a:lnTo>
                    <a:lnTo>
                      <a:pt x="361" y="637"/>
                    </a:lnTo>
                    <a:lnTo>
                      <a:pt x="358" y="633"/>
                    </a:lnTo>
                    <a:lnTo>
                      <a:pt x="356" y="629"/>
                    </a:lnTo>
                    <a:lnTo>
                      <a:pt x="354" y="623"/>
                    </a:lnTo>
                    <a:lnTo>
                      <a:pt x="350" y="620"/>
                    </a:lnTo>
                    <a:lnTo>
                      <a:pt x="346" y="616"/>
                    </a:lnTo>
                    <a:lnTo>
                      <a:pt x="342" y="612"/>
                    </a:lnTo>
                    <a:lnTo>
                      <a:pt x="339" y="610"/>
                    </a:lnTo>
                    <a:lnTo>
                      <a:pt x="335" y="606"/>
                    </a:lnTo>
                    <a:lnTo>
                      <a:pt x="331" y="603"/>
                    </a:lnTo>
                    <a:lnTo>
                      <a:pt x="325" y="601"/>
                    </a:lnTo>
                    <a:lnTo>
                      <a:pt x="321" y="597"/>
                    </a:lnTo>
                    <a:lnTo>
                      <a:pt x="318" y="595"/>
                    </a:lnTo>
                    <a:lnTo>
                      <a:pt x="312" y="593"/>
                    </a:lnTo>
                    <a:lnTo>
                      <a:pt x="306" y="591"/>
                    </a:lnTo>
                    <a:lnTo>
                      <a:pt x="302" y="589"/>
                    </a:lnTo>
                    <a:lnTo>
                      <a:pt x="299" y="589"/>
                    </a:lnTo>
                    <a:lnTo>
                      <a:pt x="295" y="587"/>
                    </a:lnTo>
                    <a:lnTo>
                      <a:pt x="291" y="587"/>
                    </a:lnTo>
                    <a:lnTo>
                      <a:pt x="287" y="585"/>
                    </a:lnTo>
                    <a:lnTo>
                      <a:pt x="285" y="585"/>
                    </a:lnTo>
                    <a:lnTo>
                      <a:pt x="283" y="585"/>
                    </a:lnTo>
                    <a:lnTo>
                      <a:pt x="280" y="585"/>
                    </a:lnTo>
                    <a:lnTo>
                      <a:pt x="276" y="585"/>
                    </a:lnTo>
                    <a:lnTo>
                      <a:pt x="274" y="585"/>
                    </a:lnTo>
                    <a:lnTo>
                      <a:pt x="272" y="585"/>
                    </a:lnTo>
                    <a:lnTo>
                      <a:pt x="268" y="585"/>
                    </a:lnTo>
                    <a:lnTo>
                      <a:pt x="266" y="585"/>
                    </a:lnTo>
                    <a:lnTo>
                      <a:pt x="263" y="585"/>
                    </a:lnTo>
                    <a:lnTo>
                      <a:pt x="261" y="587"/>
                    </a:lnTo>
                    <a:lnTo>
                      <a:pt x="259" y="587"/>
                    </a:lnTo>
                    <a:lnTo>
                      <a:pt x="255" y="587"/>
                    </a:lnTo>
                    <a:lnTo>
                      <a:pt x="253" y="589"/>
                    </a:lnTo>
                    <a:lnTo>
                      <a:pt x="249" y="589"/>
                    </a:lnTo>
                    <a:lnTo>
                      <a:pt x="247" y="589"/>
                    </a:lnTo>
                    <a:lnTo>
                      <a:pt x="243" y="591"/>
                    </a:lnTo>
                    <a:lnTo>
                      <a:pt x="240" y="591"/>
                    </a:lnTo>
                    <a:lnTo>
                      <a:pt x="238" y="593"/>
                    </a:lnTo>
                    <a:lnTo>
                      <a:pt x="236" y="595"/>
                    </a:lnTo>
                    <a:lnTo>
                      <a:pt x="232" y="595"/>
                    </a:lnTo>
                    <a:lnTo>
                      <a:pt x="230" y="597"/>
                    </a:lnTo>
                    <a:lnTo>
                      <a:pt x="228" y="599"/>
                    </a:lnTo>
                    <a:lnTo>
                      <a:pt x="224" y="601"/>
                    </a:lnTo>
                    <a:lnTo>
                      <a:pt x="223" y="601"/>
                    </a:lnTo>
                    <a:lnTo>
                      <a:pt x="219" y="603"/>
                    </a:lnTo>
                    <a:lnTo>
                      <a:pt x="217" y="604"/>
                    </a:lnTo>
                    <a:lnTo>
                      <a:pt x="211" y="608"/>
                    </a:lnTo>
                    <a:lnTo>
                      <a:pt x="207" y="612"/>
                    </a:lnTo>
                    <a:lnTo>
                      <a:pt x="204" y="616"/>
                    </a:lnTo>
                    <a:lnTo>
                      <a:pt x="198" y="618"/>
                    </a:lnTo>
                    <a:lnTo>
                      <a:pt x="194" y="623"/>
                    </a:lnTo>
                    <a:lnTo>
                      <a:pt x="188" y="627"/>
                    </a:lnTo>
                    <a:lnTo>
                      <a:pt x="185" y="633"/>
                    </a:lnTo>
                    <a:lnTo>
                      <a:pt x="181" y="637"/>
                    </a:lnTo>
                    <a:lnTo>
                      <a:pt x="177" y="641"/>
                    </a:lnTo>
                    <a:lnTo>
                      <a:pt x="173" y="646"/>
                    </a:lnTo>
                    <a:lnTo>
                      <a:pt x="169" y="652"/>
                    </a:lnTo>
                    <a:lnTo>
                      <a:pt x="166" y="656"/>
                    </a:lnTo>
                    <a:lnTo>
                      <a:pt x="162" y="662"/>
                    </a:lnTo>
                    <a:lnTo>
                      <a:pt x="160" y="665"/>
                    </a:lnTo>
                    <a:lnTo>
                      <a:pt x="158" y="669"/>
                    </a:lnTo>
                    <a:lnTo>
                      <a:pt x="158" y="671"/>
                    </a:lnTo>
                    <a:lnTo>
                      <a:pt x="156" y="673"/>
                    </a:lnTo>
                    <a:lnTo>
                      <a:pt x="154" y="677"/>
                    </a:lnTo>
                    <a:lnTo>
                      <a:pt x="152" y="679"/>
                    </a:lnTo>
                    <a:lnTo>
                      <a:pt x="152" y="681"/>
                    </a:lnTo>
                    <a:lnTo>
                      <a:pt x="150" y="684"/>
                    </a:lnTo>
                    <a:lnTo>
                      <a:pt x="150" y="688"/>
                    </a:lnTo>
                    <a:lnTo>
                      <a:pt x="146" y="694"/>
                    </a:lnTo>
                    <a:lnTo>
                      <a:pt x="145" y="701"/>
                    </a:lnTo>
                    <a:lnTo>
                      <a:pt x="143" y="709"/>
                    </a:lnTo>
                    <a:lnTo>
                      <a:pt x="139" y="717"/>
                    </a:lnTo>
                    <a:lnTo>
                      <a:pt x="137" y="724"/>
                    </a:lnTo>
                    <a:lnTo>
                      <a:pt x="135" y="732"/>
                    </a:lnTo>
                    <a:lnTo>
                      <a:pt x="131" y="739"/>
                    </a:lnTo>
                    <a:lnTo>
                      <a:pt x="129" y="747"/>
                    </a:lnTo>
                    <a:lnTo>
                      <a:pt x="126" y="755"/>
                    </a:lnTo>
                    <a:lnTo>
                      <a:pt x="124" y="760"/>
                    </a:lnTo>
                    <a:lnTo>
                      <a:pt x="122" y="768"/>
                    </a:lnTo>
                    <a:lnTo>
                      <a:pt x="120" y="776"/>
                    </a:lnTo>
                    <a:lnTo>
                      <a:pt x="116" y="781"/>
                    </a:lnTo>
                    <a:lnTo>
                      <a:pt x="114" y="789"/>
                    </a:lnTo>
                    <a:lnTo>
                      <a:pt x="112" y="796"/>
                    </a:lnTo>
                    <a:lnTo>
                      <a:pt x="110" y="804"/>
                    </a:lnTo>
                    <a:lnTo>
                      <a:pt x="107" y="812"/>
                    </a:lnTo>
                    <a:lnTo>
                      <a:pt x="107" y="817"/>
                    </a:lnTo>
                    <a:lnTo>
                      <a:pt x="103" y="823"/>
                    </a:lnTo>
                    <a:lnTo>
                      <a:pt x="101" y="831"/>
                    </a:lnTo>
                    <a:lnTo>
                      <a:pt x="97" y="836"/>
                    </a:lnTo>
                    <a:lnTo>
                      <a:pt x="97" y="844"/>
                    </a:lnTo>
                    <a:lnTo>
                      <a:pt x="93" y="852"/>
                    </a:lnTo>
                    <a:lnTo>
                      <a:pt x="93" y="857"/>
                    </a:lnTo>
                    <a:lnTo>
                      <a:pt x="89" y="865"/>
                    </a:lnTo>
                    <a:lnTo>
                      <a:pt x="88" y="871"/>
                    </a:lnTo>
                    <a:lnTo>
                      <a:pt x="86" y="878"/>
                    </a:lnTo>
                    <a:lnTo>
                      <a:pt x="84" y="884"/>
                    </a:lnTo>
                    <a:lnTo>
                      <a:pt x="82" y="892"/>
                    </a:lnTo>
                    <a:lnTo>
                      <a:pt x="80" y="899"/>
                    </a:lnTo>
                    <a:lnTo>
                      <a:pt x="78" y="907"/>
                    </a:lnTo>
                    <a:lnTo>
                      <a:pt x="74" y="912"/>
                    </a:lnTo>
                    <a:lnTo>
                      <a:pt x="72" y="920"/>
                    </a:lnTo>
                    <a:lnTo>
                      <a:pt x="72" y="926"/>
                    </a:lnTo>
                    <a:lnTo>
                      <a:pt x="68" y="931"/>
                    </a:lnTo>
                    <a:lnTo>
                      <a:pt x="67" y="939"/>
                    </a:lnTo>
                    <a:lnTo>
                      <a:pt x="65" y="945"/>
                    </a:lnTo>
                    <a:lnTo>
                      <a:pt x="63" y="952"/>
                    </a:lnTo>
                    <a:lnTo>
                      <a:pt x="59" y="958"/>
                    </a:lnTo>
                    <a:lnTo>
                      <a:pt x="57" y="966"/>
                    </a:lnTo>
                    <a:lnTo>
                      <a:pt x="55" y="971"/>
                    </a:lnTo>
                    <a:lnTo>
                      <a:pt x="53" y="979"/>
                    </a:lnTo>
                    <a:lnTo>
                      <a:pt x="51" y="987"/>
                    </a:lnTo>
                    <a:lnTo>
                      <a:pt x="49" y="994"/>
                    </a:lnTo>
                    <a:lnTo>
                      <a:pt x="48" y="1000"/>
                    </a:lnTo>
                    <a:lnTo>
                      <a:pt x="46" y="1007"/>
                    </a:lnTo>
                    <a:lnTo>
                      <a:pt x="44" y="1015"/>
                    </a:lnTo>
                    <a:lnTo>
                      <a:pt x="42" y="1021"/>
                    </a:lnTo>
                    <a:lnTo>
                      <a:pt x="42" y="1028"/>
                    </a:lnTo>
                    <a:lnTo>
                      <a:pt x="38" y="1036"/>
                    </a:lnTo>
                    <a:lnTo>
                      <a:pt x="36" y="1042"/>
                    </a:lnTo>
                    <a:lnTo>
                      <a:pt x="36" y="1049"/>
                    </a:lnTo>
                    <a:lnTo>
                      <a:pt x="34" y="1057"/>
                    </a:lnTo>
                    <a:lnTo>
                      <a:pt x="30" y="1063"/>
                    </a:lnTo>
                    <a:lnTo>
                      <a:pt x="30" y="1070"/>
                    </a:lnTo>
                    <a:lnTo>
                      <a:pt x="29" y="1078"/>
                    </a:lnTo>
                    <a:lnTo>
                      <a:pt x="27" y="1085"/>
                    </a:lnTo>
                    <a:lnTo>
                      <a:pt x="25" y="1093"/>
                    </a:lnTo>
                    <a:lnTo>
                      <a:pt x="23" y="1101"/>
                    </a:lnTo>
                    <a:lnTo>
                      <a:pt x="21" y="1108"/>
                    </a:lnTo>
                    <a:lnTo>
                      <a:pt x="19" y="1116"/>
                    </a:lnTo>
                    <a:lnTo>
                      <a:pt x="17" y="1123"/>
                    </a:lnTo>
                    <a:lnTo>
                      <a:pt x="17" y="1131"/>
                    </a:lnTo>
                    <a:lnTo>
                      <a:pt x="15" y="1139"/>
                    </a:lnTo>
                    <a:lnTo>
                      <a:pt x="13" y="1148"/>
                    </a:lnTo>
                    <a:lnTo>
                      <a:pt x="10" y="1158"/>
                    </a:lnTo>
                    <a:lnTo>
                      <a:pt x="10" y="1165"/>
                    </a:lnTo>
                    <a:lnTo>
                      <a:pt x="8" y="1175"/>
                    </a:lnTo>
                    <a:lnTo>
                      <a:pt x="6" y="1182"/>
                    </a:lnTo>
                    <a:lnTo>
                      <a:pt x="6" y="1192"/>
                    </a:lnTo>
                    <a:lnTo>
                      <a:pt x="4" y="1201"/>
                    </a:lnTo>
                    <a:lnTo>
                      <a:pt x="2" y="1211"/>
                    </a:lnTo>
                    <a:lnTo>
                      <a:pt x="2" y="1218"/>
                    </a:lnTo>
                    <a:lnTo>
                      <a:pt x="0" y="1230"/>
                    </a:lnTo>
                    <a:lnTo>
                      <a:pt x="0" y="1237"/>
                    </a:lnTo>
                    <a:lnTo>
                      <a:pt x="0" y="1247"/>
                    </a:lnTo>
                    <a:lnTo>
                      <a:pt x="0" y="1257"/>
                    </a:lnTo>
                    <a:lnTo>
                      <a:pt x="0" y="1268"/>
                    </a:lnTo>
                    <a:lnTo>
                      <a:pt x="0" y="1276"/>
                    </a:lnTo>
                    <a:lnTo>
                      <a:pt x="0" y="1285"/>
                    </a:lnTo>
                    <a:lnTo>
                      <a:pt x="0" y="1296"/>
                    </a:lnTo>
                    <a:lnTo>
                      <a:pt x="0" y="1304"/>
                    </a:lnTo>
                    <a:lnTo>
                      <a:pt x="0" y="1314"/>
                    </a:lnTo>
                    <a:lnTo>
                      <a:pt x="0" y="1323"/>
                    </a:lnTo>
                    <a:lnTo>
                      <a:pt x="0" y="1333"/>
                    </a:lnTo>
                    <a:lnTo>
                      <a:pt x="2" y="1342"/>
                    </a:lnTo>
                    <a:lnTo>
                      <a:pt x="2" y="1352"/>
                    </a:lnTo>
                    <a:lnTo>
                      <a:pt x="4" y="1363"/>
                    </a:lnTo>
                    <a:lnTo>
                      <a:pt x="4" y="1371"/>
                    </a:lnTo>
                    <a:lnTo>
                      <a:pt x="6" y="1382"/>
                    </a:lnTo>
                    <a:lnTo>
                      <a:pt x="8" y="1390"/>
                    </a:lnTo>
                    <a:lnTo>
                      <a:pt x="8" y="1401"/>
                    </a:lnTo>
                    <a:lnTo>
                      <a:pt x="10" y="1409"/>
                    </a:lnTo>
                    <a:lnTo>
                      <a:pt x="11" y="1420"/>
                    </a:lnTo>
                    <a:lnTo>
                      <a:pt x="13" y="1429"/>
                    </a:lnTo>
                    <a:lnTo>
                      <a:pt x="15" y="1439"/>
                    </a:lnTo>
                    <a:lnTo>
                      <a:pt x="17" y="1448"/>
                    </a:lnTo>
                    <a:lnTo>
                      <a:pt x="19" y="1458"/>
                    </a:lnTo>
                    <a:lnTo>
                      <a:pt x="21" y="1468"/>
                    </a:lnTo>
                    <a:lnTo>
                      <a:pt x="23" y="1477"/>
                    </a:lnTo>
                    <a:lnTo>
                      <a:pt x="27" y="1487"/>
                    </a:lnTo>
                    <a:lnTo>
                      <a:pt x="29" y="1496"/>
                    </a:lnTo>
                    <a:lnTo>
                      <a:pt x="30" y="1506"/>
                    </a:lnTo>
                    <a:lnTo>
                      <a:pt x="34" y="1515"/>
                    </a:lnTo>
                    <a:lnTo>
                      <a:pt x="36" y="1525"/>
                    </a:lnTo>
                    <a:lnTo>
                      <a:pt x="38" y="1534"/>
                    </a:lnTo>
                    <a:lnTo>
                      <a:pt x="42" y="1544"/>
                    </a:lnTo>
                    <a:lnTo>
                      <a:pt x="46" y="1553"/>
                    </a:lnTo>
                    <a:lnTo>
                      <a:pt x="48" y="1561"/>
                    </a:lnTo>
                    <a:lnTo>
                      <a:pt x="51" y="1572"/>
                    </a:lnTo>
                    <a:lnTo>
                      <a:pt x="55" y="1580"/>
                    </a:lnTo>
                    <a:lnTo>
                      <a:pt x="59" y="1589"/>
                    </a:lnTo>
                    <a:lnTo>
                      <a:pt x="63" y="1599"/>
                    </a:lnTo>
                    <a:lnTo>
                      <a:pt x="67" y="1608"/>
                    </a:lnTo>
                    <a:lnTo>
                      <a:pt x="68" y="1616"/>
                    </a:lnTo>
                    <a:lnTo>
                      <a:pt x="74" y="1627"/>
                    </a:lnTo>
                    <a:lnTo>
                      <a:pt x="78" y="1635"/>
                    </a:lnTo>
                    <a:lnTo>
                      <a:pt x="82" y="1644"/>
                    </a:lnTo>
                    <a:lnTo>
                      <a:pt x="86" y="1652"/>
                    </a:lnTo>
                    <a:lnTo>
                      <a:pt x="89" y="1661"/>
                    </a:lnTo>
                    <a:lnTo>
                      <a:pt x="95" y="1669"/>
                    </a:lnTo>
                    <a:lnTo>
                      <a:pt x="99" y="1679"/>
                    </a:lnTo>
                    <a:lnTo>
                      <a:pt x="103" y="1688"/>
                    </a:lnTo>
                    <a:lnTo>
                      <a:pt x="108" y="1696"/>
                    </a:lnTo>
                    <a:lnTo>
                      <a:pt x="114" y="1703"/>
                    </a:lnTo>
                    <a:lnTo>
                      <a:pt x="118" y="1713"/>
                    </a:lnTo>
                    <a:lnTo>
                      <a:pt x="124" y="1722"/>
                    </a:lnTo>
                    <a:lnTo>
                      <a:pt x="127" y="1732"/>
                    </a:lnTo>
                    <a:lnTo>
                      <a:pt x="131" y="1736"/>
                    </a:lnTo>
                    <a:lnTo>
                      <a:pt x="135" y="1739"/>
                    </a:lnTo>
                    <a:lnTo>
                      <a:pt x="135" y="1743"/>
                    </a:lnTo>
                    <a:lnTo>
                      <a:pt x="137" y="1745"/>
                    </a:lnTo>
                    <a:lnTo>
                      <a:pt x="139" y="1747"/>
                    </a:lnTo>
                    <a:lnTo>
                      <a:pt x="141" y="1751"/>
                    </a:lnTo>
                    <a:lnTo>
                      <a:pt x="143" y="1755"/>
                    </a:lnTo>
                    <a:lnTo>
                      <a:pt x="143" y="1756"/>
                    </a:lnTo>
                    <a:lnTo>
                      <a:pt x="145" y="1760"/>
                    </a:lnTo>
                    <a:lnTo>
                      <a:pt x="146" y="1762"/>
                    </a:lnTo>
                    <a:lnTo>
                      <a:pt x="148" y="1766"/>
                    </a:lnTo>
                    <a:lnTo>
                      <a:pt x="150" y="1768"/>
                    </a:lnTo>
                    <a:lnTo>
                      <a:pt x="152" y="1770"/>
                    </a:lnTo>
                    <a:lnTo>
                      <a:pt x="156" y="1774"/>
                    </a:lnTo>
                    <a:lnTo>
                      <a:pt x="158" y="1777"/>
                    </a:lnTo>
                    <a:lnTo>
                      <a:pt x="160" y="1779"/>
                    </a:lnTo>
                    <a:lnTo>
                      <a:pt x="160" y="1783"/>
                    </a:lnTo>
                    <a:lnTo>
                      <a:pt x="162" y="1787"/>
                    </a:lnTo>
                    <a:lnTo>
                      <a:pt x="166" y="1789"/>
                    </a:lnTo>
                    <a:lnTo>
                      <a:pt x="166" y="1791"/>
                    </a:lnTo>
                    <a:lnTo>
                      <a:pt x="167" y="1794"/>
                    </a:lnTo>
                    <a:lnTo>
                      <a:pt x="169" y="1796"/>
                    </a:lnTo>
                    <a:lnTo>
                      <a:pt x="171" y="1800"/>
                    </a:lnTo>
                    <a:lnTo>
                      <a:pt x="173" y="1802"/>
                    </a:lnTo>
                    <a:lnTo>
                      <a:pt x="175" y="1806"/>
                    </a:lnTo>
                    <a:lnTo>
                      <a:pt x="177" y="1808"/>
                    </a:lnTo>
                    <a:lnTo>
                      <a:pt x="179" y="1812"/>
                    </a:lnTo>
                    <a:lnTo>
                      <a:pt x="181" y="1815"/>
                    </a:lnTo>
                    <a:lnTo>
                      <a:pt x="183" y="1817"/>
                    </a:lnTo>
                    <a:lnTo>
                      <a:pt x="185" y="1821"/>
                    </a:lnTo>
                    <a:lnTo>
                      <a:pt x="188" y="1827"/>
                    </a:lnTo>
                    <a:lnTo>
                      <a:pt x="190" y="1831"/>
                    </a:lnTo>
                    <a:lnTo>
                      <a:pt x="194" y="1836"/>
                    </a:lnTo>
                    <a:lnTo>
                      <a:pt x="198" y="1842"/>
                    </a:lnTo>
                    <a:lnTo>
                      <a:pt x="200" y="1846"/>
                    </a:lnTo>
                    <a:lnTo>
                      <a:pt x="204" y="1850"/>
                    </a:lnTo>
                    <a:lnTo>
                      <a:pt x="205" y="1853"/>
                    </a:lnTo>
                    <a:lnTo>
                      <a:pt x="207" y="1859"/>
                    </a:lnTo>
                    <a:lnTo>
                      <a:pt x="209" y="1861"/>
                    </a:lnTo>
                    <a:lnTo>
                      <a:pt x="211" y="1863"/>
                    </a:lnTo>
                    <a:lnTo>
                      <a:pt x="213" y="1867"/>
                    </a:lnTo>
                    <a:lnTo>
                      <a:pt x="215" y="1869"/>
                    </a:lnTo>
                    <a:lnTo>
                      <a:pt x="217" y="1870"/>
                    </a:lnTo>
                    <a:lnTo>
                      <a:pt x="219" y="1874"/>
                    </a:lnTo>
                    <a:lnTo>
                      <a:pt x="141" y="2163"/>
                    </a:lnTo>
                    <a:lnTo>
                      <a:pt x="143" y="2165"/>
                    </a:lnTo>
                    <a:lnTo>
                      <a:pt x="146" y="2165"/>
                    </a:lnTo>
                    <a:lnTo>
                      <a:pt x="150" y="2167"/>
                    </a:lnTo>
                    <a:lnTo>
                      <a:pt x="152" y="2167"/>
                    </a:lnTo>
                    <a:lnTo>
                      <a:pt x="154" y="2167"/>
                    </a:lnTo>
                    <a:lnTo>
                      <a:pt x="158" y="2167"/>
                    </a:lnTo>
                    <a:lnTo>
                      <a:pt x="162" y="2171"/>
                    </a:lnTo>
                    <a:lnTo>
                      <a:pt x="166" y="2171"/>
                    </a:lnTo>
                    <a:lnTo>
                      <a:pt x="167" y="2173"/>
                    </a:lnTo>
                    <a:lnTo>
                      <a:pt x="171" y="2173"/>
                    </a:lnTo>
                    <a:lnTo>
                      <a:pt x="175" y="2175"/>
                    </a:lnTo>
                    <a:lnTo>
                      <a:pt x="181" y="2175"/>
                    </a:lnTo>
                    <a:lnTo>
                      <a:pt x="185" y="2175"/>
                    </a:lnTo>
                    <a:lnTo>
                      <a:pt x="188" y="2177"/>
                    </a:lnTo>
                    <a:lnTo>
                      <a:pt x="194" y="2180"/>
                    </a:lnTo>
                    <a:lnTo>
                      <a:pt x="198" y="2180"/>
                    </a:lnTo>
                    <a:lnTo>
                      <a:pt x="204" y="2182"/>
                    </a:lnTo>
                    <a:lnTo>
                      <a:pt x="209" y="2182"/>
                    </a:lnTo>
                    <a:lnTo>
                      <a:pt x="215" y="2184"/>
                    </a:lnTo>
                    <a:lnTo>
                      <a:pt x="219" y="2186"/>
                    </a:lnTo>
                    <a:lnTo>
                      <a:pt x="224" y="2188"/>
                    </a:lnTo>
                    <a:lnTo>
                      <a:pt x="232" y="2188"/>
                    </a:lnTo>
                    <a:lnTo>
                      <a:pt x="238" y="2190"/>
                    </a:lnTo>
                    <a:lnTo>
                      <a:pt x="243" y="2190"/>
                    </a:lnTo>
                    <a:lnTo>
                      <a:pt x="251" y="2192"/>
                    </a:lnTo>
                    <a:lnTo>
                      <a:pt x="257" y="2194"/>
                    </a:lnTo>
                    <a:lnTo>
                      <a:pt x="264" y="2194"/>
                    </a:lnTo>
                    <a:lnTo>
                      <a:pt x="270" y="2196"/>
                    </a:lnTo>
                    <a:lnTo>
                      <a:pt x="276" y="2196"/>
                    </a:lnTo>
                    <a:lnTo>
                      <a:pt x="283" y="2197"/>
                    </a:lnTo>
                    <a:lnTo>
                      <a:pt x="291" y="2199"/>
                    </a:lnTo>
                    <a:lnTo>
                      <a:pt x="297" y="2199"/>
                    </a:lnTo>
                    <a:lnTo>
                      <a:pt x="304" y="2199"/>
                    </a:lnTo>
                    <a:lnTo>
                      <a:pt x="312" y="2199"/>
                    </a:lnTo>
                    <a:lnTo>
                      <a:pt x="320" y="2201"/>
                    </a:lnTo>
                    <a:lnTo>
                      <a:pt x="325" y="2201"/>
                    </a:lnTo>
                    <a:lnTo>
                      <a:pt x="333" y="2201"/>
                    </a:lnTo>
                    <a:lnTo>
                      <a:pt x="341" y="2201"/>
                    </a:lnTo>
                    <a:lnTo>
                      <a:pt x="348" y="2201"/>
                    </a:lnTo>
                    <a:lnTo>
                      <a:pt x="356" y="2201"/>
                    </a:lnTo>
                    <a:lnTo>
                      <a:pt x="363" y="2201"/>
                    </a:lnTo>
                    <a:lnTo>
                      <a:pt x="371" y="2201"/>
                    </a:lnTo>
                    <a:lnTo>
                      <a:pt x="379" y="2201"/>
                    </a:lnTo>
                    <a:lnTo>
                      <a:pt x="386" y="2201"/>
                    </a:lnTo>
                    <a:lnTo>
                      <a:pt x="394" y="2201"/>
                    </a:lnTo>
                    <a:lnTo>
                      <a:pt x="401" y="2199"/>
                    </a:lnTo>
                    <a:lnTo>
                      <a:pt x="409" y="2199"/>
                    </a:lnTo>
                    <a:lnTo>
                      <a:pt x="415" y="2197"/>
                    </a:lnTo>
                    <a:lnTo>
                      <a:pt x="422" y="2196"/>
                    </a:lnTo>
                    <a:lnTo>
                      <a:pt x="432" y="2196"/>
                    </a:lnTo>
                    <a:lnTo>
                      <a:pt x="439" y="2194"/>
                    </a:lnTo>
                    <a:lnTo>
                      <a:pt x="447" y="2192"/>
                    </a:lnTo>
                    <a:lnTo>
                      <a:pt x="455" y="2190"/>
                    </a:lnTo>
                    <a:lnTo>
                      <a:pt x="462" y="2188"/>
                    </a:lnTo>
                    <a:lnTo>
                      <a:pt x="470" y="2188"/>
                    </a:lnTo>
                    <a:lnTo>
                      <a:pt x="476" y="2184"/>
                    </a:lnTo>
                    <a:lnTo>
                      <a:pt x="483" y="2182"/>
                    </a:lnTo>
                    <a:lnTo>
                      <a:pt x="491" y="2180"/>
                    </a:lnTo>
                    <a:lnTo>
                      <a:pt x="498" y="2175"/>
                    </a:lnTo>
                    <a:lnTo>
                      <a:pt x="504" y="2173"/>
                    </a:lnTo>
                    <a:lnTo>
                      <a:pt x="512" y="2169"/>
                    </a:lnTo>
                    <a:lnTo>
                      <a:pt x="517" y="2165"/>
                    </a:lnTo>
                    <a:lnTo>
                      <a:pt x="525" y="2161"/>
                    </a:lnTo>
                    <a:lnTo>
                      <a:pt x="531" y="2158"/>
                    </a:lnTo>
                    <a:lnTo>
                      <a:pt x="536" y="2154"/>
                    </a:lnTo>
                    <a:lnTo>
                      <a:pt x="542" y="2150"/>
                    </a:lnTo>
                    <a:lnTo>
                      <a:pt x="550" y="2146"/>
                    </a:lnTo>
                    <a:lnTo>
                      <a:pt x="555" y="2142"/>
                    </a:lnTo>
                    <a:lnTo>
                      <a:pt x="559" y="2137"/>
                    </a:lnTo>
                    <a:lnTo>
                      <a:pt x="565" y="2133"/>
                    </a:lnTo>
                    <a:lnTo>
                      <a:pt x="571" y="2129"/>
                    </a:lnTo>
                    <a:lnTo>
                      <a:pt x="576" y="2123"/>
                    </a:lnTo>
                    <a:lnTo>
                      <a:pt x="582" y="2120"/>
                    </a:lnTo>
                    <a:lnTo>
                      <a:pt x="588" y="2114"/>
                    </a:lnTo>
                    <a:lnTo>
                      <a:pt x="592" y="2110"/>
                    </a:lnTo>
                    <a:lnTo>
                      <a:pt x="595" y="2106"/>
                    </a:lnTo>
                    <a:lnTo>
                      <a:pt x="601" y="2101"/>
                    </a:lnTo>
                    <a:lnTo>
                      <a:pt x="605" y="2095"/>
                    </a:lnTo>
                    <a:lnTo>
                      <a:pt x="611" y="2091"/>
                    </a:lnTo>
                    <a:lnTo>
                      <a:pt x="614" y="2085"/>
                    </a:lnTo>
                    <a:lnTo>
                      <a:pt x="618" y="2080"/>
                    </a:lnTo>
                    <a:lnTo>
                      <a:pt x="624" y="2076"/>
                    </a:lnTo>
                    <a:lnTo>
                      <a:pt x="628" y="2070"/>
                    </a:lnTo>
                    <a:lnTo>
                      <a:pt x="632" y="2064"/>
                    </a:lnTo>
                    <a:lnTo>
                      <a:pt x="635" y="2059"/>
                    </a:lnTo>
                    <a:lnTo>
                      <a:pt x="637" y="2055"/>
                    </a:lnTo>
                    <a:lnTo>
                      <a:pt x="643" y="2049"/>
                    </a:lnTo>
                    <a:lnTo>
                      <a:pt x="645" y="2043"/>
                    </a:lnTo>
                    <a:lnTo>
                      <a:pt x="649" y="2040"/>
                    </a:lnTo>
                    <a:lnTo>
                      <a:pt x="652" y="2034"/>
                    </a:lnTo>
                    <a:lnTo>
                      <a:pt x="654" y="2030"/>
                    </a:lnTo>
                    <a:lnTo>
                      <a:pt x="658" y="2024"/>
                    </a:lnTo>
                    <a:lnTo>
                      <a:pt x="660" y="2021"/>
                    </a:lnTo>
                    <a:lnTo>
                      <a:pt x="664" y="2015"/>
                    </a:lnTo>
                    <a:lnTo>
                      <a:pt x="666" y="2011"/>
                    </a:lnTo>
                    <a:lnTo>
                      <a:pt x="668" y="2005"/>
                    </a:lnTo>
                    <a:lnTo>
                      <a:pt x="672" y="2002"/>
                    </a:lnTo>
                    <a:lnTo>
                      <a:pt x="673" y="1998"/>
                    </a:lnTo>
                    <a:lnTo>
                      <a:pt x="675" y="1992"/>
                    </a:lnTo>
                    <a:lnTo>
                      <a:pt x="677" y="1986"/>
                    </a:lnTo>
                    <a:lnTo>
                      <a:pt x="679" y="1983"/>
                    </a:lnTo>
                    <a:lnTo>
                      <a:pt x="681" y="1979"/>
                    </a:lnTo>
                    <a:lnTo>
                      <a:pt x="683" y="1975"/>
                    </a:lnTo>
                    <a:lnTo>
                      <a:pt x="685" y="1971"/>
                    </a:lnTo>
                    <a:lnTo>
                      <a:pt x="687" y="1969"/>
                    </a:lnTo>
                    <a:lnTo>
                      <a:pt x="689" y="1964"/>
                    </a:lnTo>
                    <a:lnTo>
                      <a:pt x="691" y="1962"/>
                    </a:lnTo>
                    <a:lnTo>
                      <a:pt x="692" y="1958"/>
                    </a:lnTo>
                    <a:lnTo>
                      <a:pt x="692" y="1954"/>
                    </a:lnTo>
                    <a:lnTo>
                      <a:pt x="692" y="1952"/>
                    </a:lnTo>
                    <a:lnTo>
                      <a:pt x="694" y="1950"/>
                    </a:lnTo>
                    <a:lnTo>
                      <a:pt x="696" y="1945"/>
                    </a:lnTo>
                    <a:lnTo>
                      <a:pt x="698" y="1941"/>
                    </a:lnTo>
                    <a:lnTo>
                      <a:pt x="700" y="1937"/>
                    </a:lnTo>
                    <a:lnTo>
                      <a:pt x="700" y="1935"/>
                    </a:lnTo>
                    <a:lnTo>
                      <a:pt x="700" y="1933"/>
                    </a:lnTo>
                    <a:lnTo>
                      <a:pt x="702" y="1933"/>
                    </a:lnTo>
                    <a:lnTo>
                      <a:pt x="740" y="1943"/>
                    </a:lnTo>
                    <a:lnTo>
                      <a:pt x="740" y="1943"/>
                    </a:lnTo>
                    <a:lnTo>
                      <a:pt x="738" y="1945"/>
                    </a:lnTo>
                    <a:lnTo>
                      <a:pt x="738" y="1947"/>
                    </a:lnTo>
                    <a:lnTo>
                      <a:pt x="738" y="1950"/>
                    </a:lnTo>
                    <a:lnTo>
                      <a:pt x="738" y="1954"/>
                    </a:lnTo>
                    <a:lnTo>
                      <a:pt x="738" y="1958"/>
                    </a:lnTo>
                    <a:lnTo>
                      <a:pt x="736" y="1962"/>
                    </a:lnTo>
                    <a:lnTo>
                      <a:pt x="736" y="1964"/>
                    </a:lnTo>
                    <a:lnTo>
                      <a:pt x="736" y="1967"/>
                    </a:lnTo>
                    <a:lnTo>
                      <a:pt x="736" y="1971"/>
                    </a:lnTo>
                    <a:lnTo>
                      <a:pt x="736" y="1975"/>
                    </a:lnTo>
                    <a:lnTo>
                      <a:pt x="736" y="1979"/>
                    </a:lnTo>
                    <a:lnTo>
                      <a:pt x="736" y="1983"/>
                    </a:lnTo>
                    <a:lnTo>
                      <a:pt x="736" y="1985"/>
                    </a:lnTo>
                    <a:lnTo>
                      <a:pt x="736" y="1990"/>
                    </a:lnTo>
                    <a:lnTo>
                      <a:pt x="736" y="1994"/>
                    </a:lnTo>
                    <a:lnTo>
                      <a:pt x="736" y="1998"/>
                    </a:lnTo>
                    <a:lnTo>
                      <a:pt x="736" y="2004"/>
                    </a:lnTo>
                    <a:lnTo>
                      <a:pt x="736" y="2007"/>
                    </a:lnTo>
                    <a:lnTo>
                      <a:pt x="736" y="2013"/>
                    </a:lnTo>
                    <a:lnTo>
                      <a:pt x="736" y="2015"/>
                    </a:lnTo>
                    <a:lnTo>
                      <a:pt x="736" y="2021"/>
                    </a:lnTo>
                    <a:lnTo>
                      <a:pt x="736" y="2026"/>
                    </a:lnTo>
                    <a:lnTo>
                      <a:pt x="736" y="2030"/>
                    </a:lnTo>
                    <a:lnTo>
                      <a:pt x="736" y="2036"/>
                    </a:lnTo>
                    <a:lnTo>
                      <a:pt x="736" y="2042"/>
                    </a:lnTo>
                    <a:lnTo>
                      <a:pt x="736" y="2047"/>
                    </a:lnTo>
                    <a:lnTo>
                      <a:pt x="738" y="2051"/>
                    </a:lnTo>
                    <a:lnTo>
                      <a:pt x="738" y="2057"/>
                    </a:lnTo>
                    <a:lnTo>
                      <a:pt x="738" y="2062"/>
                    </a:lnTo>
                    <a:lnTo>
                      <a:pt x="740" y="2066"/>
                    </a:lnTo>
                    <a:lnTo>
                      <a:pt x="740" y="2072"/>
                    </a:lnTo>
                    <a:lnTo>
                      <a:pt x="742" y="2078"/>
                    </a:lnTo>
                    <a:lnTo>
                      <a:pt x="744" y="2083"/>
                    </a:lnTo>
                    <a:lnTo>
                      <a:pt x="744" y="2091"/>
                    </a:lnTo>
                    <a:lnTo>
                      <a:pt x="746" y="2095"/>
                    </a:lnTo>
                    <a:lnTo>
                      <a:pt x="748" y="2101"/>
                    </a:lnTo>
                    <a:lnTo>
                      <a:pt x="748" y="2106"/>
                    </a:lnTo>
                    <a:lnTo>
                      <a:pt x="751" y="2110"/>
                    </a:lnTo>
                    <a:lnTo>
                      <a:pt x="753" y="2118"/>
                    </a:lnTo>
                    <a:lnTo>
                      <a:pt x="753" y="2123"/>
                    </a:lnTo>
                    <a:lnTo>
                      <a:pt x="757" y="2129"/>
                    </a:lnTo>
                    <a:lnTo>
                      <a:pt x="759" y="2135"/>
                    </a:lnTo>
                    <a:lnTo>
                      <a:pt x="761" y="2139"/>
                    </a:lnTo>
                    <a:lnTo>
                      <a:pt x="765" y="2144"/>
                    </a:lnTo>
                    <a:lnTo>
                      <a:pt x="767" y="2150"/>
                    </a:lnTo>
                    <a:lnTo>
                      <a:pt x="769" y="2156"/>
                    </a:lnTo>
                    <a:lnTo>
                      <a:pt x="772" y="2159"/>
                    </a:lnTo>
                    <a:lnTo>
                      <a:pt x="776" y="2165"/>
                    </a:lnTo>
                    <a:lnTo>
                      <a:pt x="780" y="2171"/>
                    </a:lnTo>
                    <a:lnTo>
                      <a:pt x="782" y="2175"/>
                    </a:lnTo>
                    <a:lnTo>
                      <a:pt x="786" y="2180"/>
                    </a:lnTo>
                    <a:lnTo>
                      <a:pt x="789" y="2186"/>
                    </a:lnTo>
                    <a:lnTo>
                      <a:pt x="795" y="2190"/>
                    </a:lnTo>
                    <a:lnTo>
                      <a:pt x="799" y="2196"/>
                    </a:lnTo>
                    <a:lnTo>
                      <a:pt x="805" y="2201"/>
                    </a:lnTo>
                    <a:lnTo>
                      <a:pt x="808" y="2205"/>
                    </a:lnTo>
                    <a:lnTo>
                      <a:pt x="814" y="2209"/>
                    </a:lnTo>
                    <a:lnTo>
                      <a:pt x="818" y="2213"/>
                    </a:lnTo>
                    <a:lnTo>
                      <a:pt x="824" y="2216"/>
                    </a:lnTo>
                    <a:lnTo>
                      <a:pt x="828" y="2222"/>
                    </a:lnTo>
                    <a:lnTo>
                      <a:pt x="833" y="2224"/>
                    </a:lnTo>
                    <a:lnTo>
                      <a:pt x="839" y="2228"/>
                    </a:lnTo>
                    <a:lnTo>
                      <a:pt x="845" y="2232"/>
                    </a:lnTo>
                    <a:lnTo>
                      <a:pt x="848" y="2235"/>
                    </a:lnTo>
                    <a:lnTo>
                      <a:pt x="854" y="2239"/>
                    </a:lnTo>
                    <a:lnTo>
                      <a:pt x="858" y="2243"/>
                    </a:lnTo>
                    <a:lnTo>
                      <a:pt x="864" y="2245"/>
                    </a:lnTo>
                    <a:lnTo>
                      <a:pt x="867" y="2249"/>
                    </a:lnTo>
                    <a:lnTo>
                      <a:pt x="873" y="2253"/>
                    </a:lnTo>
                    <a:lnTo>
                      <a:pt x="877" y="2256"/>
                    </a:lnTo>
                    <a:lnTo>
                      <a:pt x="883" y="2258"/>
                    </a:lnTo>
                    <a:lnTo>
                      <a:pt x="890" y="2260"/>
                    </a:lnTo>
                    <a:lnTo>
                      <a:pt x="896" y="2264"/>
                    </a:lnTo>
                    <a:lnTo>
                      <a:pt x="900" y="2266"/>
                    </a:lnTo>
                    <a:lnTo>
                      <a:pt x="904" y="2268"/>
                    </a:lnTo>
                    <a:lnTo>
                      <a:pt x="907" y="2270"/>
                    </a:lnTo>
                    <a:lnTo>
                      <a:pt x="913" y="2273"/>
                    </a:lnTo>
                    <a:lnTo>
                      <a:pt x="919" y="2275"/>
                    </a:lnTo>
                    <a:lnTo>
                      <a:pt x="925" y="2277"/>
                    </a:lnTo>
                    <a:lnTo>
                      <a:pt x="928" y="2279"/>
                    </a:lnTo>
                    <a:lnTo>
                      <a:pt x="934" y="2281"/>
                    </a:lnTo>
                    <a:lnTo>
                      <a:pt x="938" y="2283"/>
                    </a:lnTo>
                    <a:lnTo>
                      <a:pt x="942" y="2285"/>
                    </a:lnTo>
                    <a:lnTo>
                      <a:pt x="947" y="2287"/>
                    </a:lnTo>
                    <a:lnTo>
                      <a:pt x="951" y="2289"/>
                    </a:lnTo>
                    <a:lnTo>
                      <a:pt x="955" y="2289"/>
                    </a:lnTo>
                    <a:lnTo>
                      <a:pt x="961" y="2291"/>
                    </a:lnTo>
                    <a:lnTo>
                      <a:pt x="964" y="2291"/>
                    </a:lnTo>
                    <a:lnTo>
                      <a:pt x="968" y="2294"/>
                    </a:lnTo>
                    <a:lnTo>
                      <a:pt x="972" y="2294"/>
                    </a:lnTo>
                    <a:lnTo>
                      <a:pt x="978" y="2294"/>
                    </a:lnTo>
                    <a:lnTo>
                      <a:pt x="982" y="2296"/>
                    </a:lnTo>
                    <a:lnTo>
                      <a:pt x="985" y="2296"/>
                    </a:lnTo>
                    <a:lnTo>
                      <a:pt x="989" y="2296"/>
                    </a:lnTo>
                    <a:lnTo>
                      <a:pt x="993" y="2298"/>
                    </a:lnTo>
                    <a:lnTo>
                      <a:pt x="997" y="2298"/>
                    </a:lnTo>
                    <a:lnTo>
                      <a:pt x="1001" y="2298"/>
                    </a:lnTo>
                    <a:lnTo>
                      <a:pt x="1004" y="2298"/>
                    </a:lnTo>
                    <a:lnTo>
                      <a:pt x="1008" y="2300"/>
                    </a:lnTo>
                    <a:lnTo>
                      <a:pt x="1010" y="2300"/>
                    </a:lnTo>
                    <a:lnTo>
                      <a:pt x="1014" y="2300"/>
                    </a:lnTo>
                    <a:lnTo>
                      <a:pt x="1016" y="2300"/>
                    </a:lnTo>
                    <a:lnTo>
                      <a:pt x="1020" y="2300"/>
                    </a:lnTo>
                    <a:lnTo>
                      <a:pt x="1022" y="2300"/>
                    </a:lnTo>
                    <a:lnTo>
                      <a:pt x="1025" y="2302"/>
                    </a:lnTo>
                    <a:lnTo>
                      <a:pt x="1029" y="2300"/>
                    </a:lnTo>
                    <a:lnTo>
                      <a:pt x="1035" y="2300"/>
                    </a:lnTo>
                    <a:lnTo>
                      <a:pt x="1039" y="2298"/>
                    </a:lnTo>
                    <a:lnTo>
                      <a:pt x="1042" y="2298"/>
                    </a:lnTo>
                    <a:lnTo>
                      <a:pt x="1044" y="2296"/>
                    </a:lnTo>
                    <a:lnTo>
                      <a:pt x="1048" y="2296"/>
                    </a:lnTo>
                    <a:lnTo>
                      <a:pt x="1048" y="2294"/>
                    </a:lnTo>
                    <a:lnTo>
                      <a:pt x="1050" y="2294"/>
                    </a:lnTo>
                    <a:lnTo>
                      <a:pt x="1246" y="1334"/>
                    </a:lnTo>
                    <a:lnTo>
                      <a:pt x="1246" y="1333"/>
                    </a:lnTo>
                    <a:lnTo>
                      <a:pt x="1248" y="1331"/>
                    </a:lnTo>
                    <a:lnTo>
                      <a:pt x="1250" y="1327"/>
                    </a:lnTo>
                    <a:lnTo>
                      <a:pt x="1252" y="1325"/>
                    </a:lnTo>
                    <a:lnTo>
                      <a:pt x="1252" y="1323"/>
                    </a:lnTo>
                    <a:lnTo>
                      <a:pt x="1254" y="1319"/>
                    </a:lnTo>
                    <a:lnTo>
                      <a:pt x="1256" y="1315"/>
                    </a:lnTo>
                    <a:lnTo>
                      <a:pt x="1259" y="1312"/>
                    </a:lnTo>
                    <a:lnTo>
                      <a:pt x="1259" y="1306"/>
                    </a:lnTo>
                    <a:lnTo>
                      <a:pt x="1263" y="1302"/>
                    </a:lnTo>
                    <a:lnTo>
                      <a:pt x="1265" y="1296"/>
                    </a:lnTo>
                    <a:lnTo>
                      <a:pt x="1269" y="1293"/>
                    </a:lnTo>
                    <a:lnTo>
                      <a:pt x="1271" y="1285"/>
                    </a:lnTo>
                    <a:lnTo>
                      <a:pt x="1275" y="1281"/>
                    </a:lnTo>
                    <a:lnTo>
                      <a:pt x="1276" y="1274"/>
                    </a:lnTo>
                    <a:lnTo>
                      <a:pt x="1280" y="1266"/>
                    </a:lnTo>
                    <a:lnTo>
                      <a:pt x="1284" y="1258"/>
                    </a:lnTo>
                    <a:lnTo>
                      <a:pt x="1288" y="1249"/>
                    </a:lnTo>
                    <a:lnTo>
                      <a:pt x="1290" y="1241"/>
                    </a:lnTo>
                    <a:lnTo>
                      <a:pt x="1294" y="1234"/>
                    </a:lnTo>
                    <a:lnTo>
                      <a:pt x="1297" y="1224"/>
                    </a:lnTo>
                    <a:lnTo>
                      <a:pt x="1301" y="1217"/>
                    </a:lnTo>
                    <a:lnTo>
                      <a:pt x="1305" y="1207"/>
                    </a:lnTo>
                    <a:lnTo>
                      <a:pt x="1309" y="1198"/>
                    </a:lnTo>
                    <a:lnTo>
                      <a:pt x="1313" y="1188"/>
                    </a:lnTo>
                    <a:lnTo>
                      <a:pt x="1316" y="1177"/>
                    </a:lnTo>
                    <a:lnTo>
                      <a:pt x="1320" y="1165"/>
                    </a:lnTo>
                    <a:lnTo>
                      <a:pt x="1324" y="1154"/>
                    </a:lnTo>
                    <a:lnTo>
                      <a:pt x="1330" y="1144"/>
                    </a:lnTo>
                    <a:lnTo>
                      <a:pt x="1334" y="1133"/>
                    </a:lnTo>
                    <a:lnTo>
                      <a:pt x="1337" y="1122"/>
                    </a:lnTo>
                    <a:lnTo>
                      <a:pt x="1339" y="1108"/>
                    </a:lnTo>
                    <a:lnTo>
                      <a:pt x="1345" y="1097"/>
                    </a:lnTo>
                    <a:lnTo>
                      <a:pt x="1349" y="1084"/>
                    </a:lnTo>
                    <a:lnTo>
                      <a:pt x="1353" y="1070"/>
                    </a:lnTo>
                    <a:lnTo>
                      <a:pt x="1354" y="1059"/>
                    </a:lnTo>
                    <a:lnTo>
                      <a:pt x="1358" y="1044"/>
                    </a:lnTo>
                    <a:lnTo>
                      <a:pt x="1362" y="1032"/>
                    </a:lnTo>
                    <a:lnTo>
                      <a:pt x="1366" y="1017"/>
                    </a:lnTo>
                    <a:lnTo>
                      <a:pt x="1370" y="1004"/>
                    </a:lnTo>
                    <a:lnTo>
                      <a:pt x="1372" y="988"/>
                    </a:lnTo>
                    <a:lnTo>
                      <a:pt x="1375" y="975"/>
                    </a:lnTo>
                    <a:lnTo>
                      <a:pt x="1377" y="960"/>
                    </a:lnTo>
                    <a:lnTo>
                      <a:pt x="1381" y="947"/>
                    </a:lnTo>
                    <a:lnTo>
                      <a:pt x="1383" y="931"/>
                    </a:lnTo>
                    <a:lnTo>
                      <a:pt x="1387" y="916"/>
                    </a:lnTo>
                    <a:lnTo>
                      <a:pt x="1389" y="901"/>
                    </a:lnTo>
                    <a:lnTo>
                      <a:pt x="1391" y="886"/>
                    </a:lnTo>
                    <a:lnTo>
                      <a:pt x="1392" y="871"/>
                    </a:lnTo>
                    <a:lnTo>
                      <a:pt x="1394" y="855"/>
                    </a:lnTo>
                    <a:lnTo>
                      <a:pt x="1396" y="838"/>
                    </a:lnTo>
                    <a:lnTo>
                      <a:pt x="1398" y="823"/>
                    </a:lnTo>
                    <a:lnTo>
                      <a:pt x="1398" y="806"/>
                    </a:lnTo>
                    <a:lnTo>
                      <a:pt x="1400" y="791"/>
                    </a:lnTo>
                    <a:lnTo>
                      <a:pt x="1402" y="774"/>
                    </a:lnTo>
                    <a:lnTo>
                      <a:pt x="1402" y="757"/>
                    </a:lnTo>
                    <a:lnTo>
                      <a:pt x="1402" y="741"/>
                    </a:lnTo>
                    <a:lnTo>
                      <a:pt x="1402" y="724"/>
                    </a:lnTo>
                    <a:lnTo>
                      <a:pt x="1402" y="705"/>
                    </a:lnTo>
                    <a:lnTo>
                      <a:pt x="1402" y="690"/>
                    </a:lnTo>
                    <a:lnTo>
                      <a:pt x="1400" y="673"/>
                    </a:lnTo>
                    <a:lnTo>
                      <a:pt x="1400" y="656"/>
                    </a:lnTo>
                    <a:lnTo>
                      <a:pt x="1398" y="654"/>
                    </a:lnTo>
                    <a:lnTo>
                      <a:pt x="1398" y="652"/>
                    </a:lnTo>
                    <a:lnTo>
                      <a:pt x="1398" y="648"/>
                    </a:lnTo>
                    <a:lnTo>
                      <a:pt x="1398" y="644"/>
                    </a:lnTo>
                    <a:lnTo>
                      <a:pt x="1398" y="643"/>
                    </a:lnTo>
                    <a:lnTo>
                      <a:pt x="1398" y="639"/>
                    </a:lnTo>
                    <a:lnTo>
                      <a:pt x="1396" y="637"/>
                    </a:lnTo>
                    <a:lnTo>
                      <a:pt x="1396" y="633"/>
                    </a:lnTo>
                    <a:lnTo>
                      <a:pt x="1396" y="631"/>
                    </a:lnTo>
                    <a:lnTo>
                      <a:pt x="1396" y="627"/>
                    </a:lnTo>
                    <a:lnTo>
                      <a:pt x="1396" y="623"/>
                    </a:lnTo>
                    <a:lnTo>
                      <a:pt x="1394" y="620"/>
                    </a:lnTo>
                    <a:lnTo>
                      <a:pt x="1394" y="618"/>
                    </a:lnTo>
                    <a:lnTo>
                      <a:pt x="1394" y="616"/>
                    </a:lnTo>
                    <a:lnTo>
                      <a:pt x="1392" y="612"/>
                    </a:lnTo>
                    <a:lnTo>
                      <a:pt x="1392" y="610"/>
                    </a:lnTo>
                    <a:lnTo>
                      <a:pt x="1392" y="608"/>
                    </a:lnTo>
                    <a:lnTo>
                      <a:pt x="1391" y="604"/>
                    </a:lnTo>
                    <a:lnTo>
                      <a:pt x="1391" y="603"/>
                    </a:lnTo>
                    <a:lnTo>
                      <a:pt x="1391" y="599"/>
                    </a:lnTo>
                    <a:lnTo>
                      <a:pt x="1389" y="597"/>
                    </a:lnTo>
                    <a:lnTo>
                      <a:pt x="1389" y="593"/>
                    </a:lnTo>
                    <a:lnTo>
                      <a:pt x="1389" y="589"/>
                    </a:lnTo>
                    <a:lnTo>
                      <a:pt x="1389" y="587"/>
                    </a:lnTo>
                    <a:lnTo>
                      <a:pt x="1387" y="585"/>
                    </a:lnTo>
                    <a:lnTo>
                      <a:pt x="1385" y="582"/>
                    </a:lnTo>
                    <a:lnTo>
                      <a:pt x="1385" y="580"/>
                    </a:lnTo>
                    <a:lnTo>
                      <a:pt x="1383" y="578"/>
                    </a:lnTo>
                    <a:lnTo>
                      <a:pt x="1383" y="572"/>
                    </a:lnTo>
                    <a:lnTo>
                      <a:pt x="1381" y="568"/>
                    </a:lnTo>
                    <a:lnTo>
                      <a:pt x="1377" y="563"/>
                    </a:lnTo>
                    <a:lnTo>
                      <a:pt x="1375" y="557"/>
                    </a:lnTo>
                    <a:lnTo>
                      <a:pt x="1373" y="553"/>
                    </a:lnTo>
                    <a:lnTo>
                      <a:pt x="1370" y="547"/>
                    </a:lnTo>
                    <a:lnTo>
                      <a:pt x="1366" y="544"/>
                    </a:lnTo>
                    <a:lnTo>
                      <a:pt x="1364" y="540"/>
                    </a:lnTo>
                    <a:lnTo>
                      <a:pt x="1360" y="536"/>
                    </a:lnTo>
                    <a:lnTo>
                      <a:pt x="1356" y="532"/>
                    </a:lnTo>
                    <a:lnTo>
                      <a:pt x="1353" y="528"/>
                    </a:lnTo>
                    <a:lnTo>
                      <a:pt x="1349" y="525"/>
                    </a:lnTo>
                    <a:lnTo>
                      <a:pt x="1345" y="523"/>
                    </a:lnTo>
                    <a:lnTo>
                      <a:pt x="1339" y="521"/>
                    </a:lnTo>
                    <a:lnTo>
                      <a:pt x="1335" y="517"/>
                    </a:lnTo>
                    <a:lnTo>
                      <a:pt x="1332" y="515"/>
                    </a:lnTo>
                    <a:lnTo>
                      <a:pt x="1326" y="515"/>
                    </a:lnTo>
                    <a:lnTo>
                      <a:pt x="1322" y="513"/>
                    </a:lnTo>
                    <a:lnTo>
                      <a:pt x="1318" y="511"/>
                    </a:lnTo>
                    <a:lnTo>
                      <a:pt x="1316" y="511"/>
                    </a:lnTo>
                    <a:lnTo>
                      <a:pt x="1313" y="511"/>
                    </a:lnTo>
                    <a:lnTo>
                      <a:pt x="1311" y="511"/>
                    </a:lnTo>
                    <a:lnTo>
                      <a:pt x="1309" y="509"/>
                    </a:lnTo>
                    <a:lnTo>
                      <a:pt x="1305" y="509"/>
                    </a:lnTo>
                    <a:lnTo>
                      <a:pt x="1303" y="509"/>
                    </a:lnTo>
                    <a:lnTo>
                      <a:pt x="1301" y="509"/>
                    </a:lnTo>
                    <a:lnTo>
                      <a:pt x="1297" y="509"/>
                    </a:lnTo>
                    <a:lnTo>
                      <a:pt x="1295" y="509"/>
                    </a:lnTo>
                    <a:lnTo>
                      <a:pt x="1292" y="509"/>
                    </a:lnTo>
                    <a:lnTo>
                      <a:pt x="1290" y="509"/>
                    </a:lnTo>
                    <a:lnTo>
                      <a:pt x="1284" y="509"/>
                    </a:lnTo>
                    <a:lnTo>
                      <a:pt x="1280" y="509"/>
                    </a:lnTo>
                    <a:lnTo>
                      <a:pt x="1275" y="509"/>
                    </a:lnTo>
                    <a:lnTo>
                      <a:pt x="1269" y="509"/>
                    </a:lnTo>
                    <a:lnTo>
                      <a:pt x="1265" y="509"/>
                    </a:lnTo>
                    <a:lnTo>
                      <a:pt x="1259" y="509"/>
                    </a:lnTo>
                    <a:lnTo>
                      <a:pt x="1256" y="511"/>
                    </a:lnTo>
                    <a:lnTo>
                      <a:pt x="1252" y="511"/>
                    </a:lnTo>
                    <a:lnTo>
                      <a:pt x="1246" y="515"/>
                    </a:lnTo>
                    <a:lnTo>
                      <a:pt x="1242" y="515"/>
                    </a:lnTo>
                    <a:lnTo>
                      <a:pt x="1238" y="517"/>
                    </a:lnTo>
                    <a:lnTo>
                      <a:pt x="1235" y="521"/>
                    </a:lnTo>
                    <a:lnTo>
                      <a:pt x="1231" y="523"/>
                    </a:lnTo>
                    <a:lnTo>
                      <a:pt x="1229" y="525"/>
                    </a:lnTo>
                    <a:lnTo>
                      <a:pt x="1225" y="527"/>
                    </a:lnTo>
                    <a:lnTo>
                      <a:pt x="1221" y="530"/>
                    </a:lnTo>
                    <a:lnTo>
                      <a:pt x="1219" y="532"/>
                    </a:lnTo>
                    <a:lnTo>
                      <a:pt x="1216" y="538"/>
                    </a:lnTo>
                    <a:lnTo>
                      <a:pt x="1214" y="542"/>
                    </a:lnTo>
                    <a:lnTo>
                      <a:pt x="1212" y="546"/>
                    </a:lnTo>
                    <a:lnTo>
                      <a:pt x="1210" y="549"/>
                    </a:lnTo>
                    <a:lnTo>
                      <a:pt x="1208" y="555"/>
                    </a:lnTo>
                    <a:lnTo>
                      <a:pt x="1208" y="557"/>
                    </a:lnTo>
                    <a:lnTo>
                      <a:pt x="1206" y="559"/>
                    </a:lnTo>
                    <a:lnTo>
                      <a:pt x="1204" y="561"/>
                    </a:lnTo>
                    <a:lnTo>
                      <a:pt x="1204" y="565"/>
                    </a:lnTo>
                    <a:lnTo>
                      <a:pt x="1204" y="566"/>
                    </a:lnTo>
                    <a:lnTo>
                      <a:pt x="1204" y="570"/>
                    </a:lnTo>
                    <a:lnTo>
                      <a:pt x="1204" y="572"/>
                    </a:lnTo>
                    <a:lnTo>
                      <a:pt x="1204" y="576"/>
                    </a:lnTo>
                    <a:lnTo>
                      <a:pt x="1139" y="895"/>
                    </a:lnTo>
                    <a:lnTo>
                      <a:pt x="1136" y="893"/>
                    </a:lnTo>
                    <a:lnTo>
                      <a:pt x="1132" y="892"/>
                    </a:lnTo>
                    <a:lnTo>
                      <a:pt x="1126" y="888"/>
                    </a:lnTo>
                    <a:lnTo>
                      <a:pt x="1122" y="886"/>
                    </a:lnTo>
                    <a:lnTo>
                      <a:pt x="1117" y="884"/>
                    </a:lnTo>
                    <a:lnTo>
                      <a:pt x="1113" y="880"/>
                    </a:lnTo>
                    <a:lnTo>
                      <a:pt x="1107" y="878"/>
                    </a:lnTo>
                    <a:lnTo>
                      <a:pt x="1105" y="876"/>
                    </a:lnTo>
                    <a:lnTo>
                      <a:pt x="1227" y="316"/>
                    </a:lnTo>
                    <a:lnTo>
                      <a:pt x="1227" y="312"/>
                    </a:lnTo>
                    <a:lnTo>
                      <a:pt x="1227" y="308"/>
                    </a:lnTo>
                    <a:lnTo>
                      <a:pt x="1229" y="306"/>
                    </a:lnTo>
                    <a:lnTo>
                      <a:pt x="1229" y="304"/>
                    </a:lnTo>
                    <a:lnTo>
                      <a:pt x="1229" y="300"/>
                    </a:lnTo>
                    <a:lnTo>
                      <a:pt x="1229" y="298"/>
                    </a:lnTo>
                    <a:lnTo>
                      <a:pt x="1229" y="295"/>
                    </a:lnTo>
                    <a:lnTo>
                      <a:pt x="1229" y="293"/>
                    </a:lnTo>
                    <a:lnTo>
                      <a:pt x="1229" y="291"/>
                    </a:lnTo>
                    <a:lnTo>
                      <a:pt x="1229" y="287"/>
                    </a:lnTo>
                    <a:lnTo>
                      <a:pt x="1229" y="285"/>
                    </a:lnTo>
                    <a:lnTo>
                      <a:pt x="1229" y="283"/>
                    </a:lnTo>
                    <a:lnTo>
                      <a:pt x="1229" y="278"/>
                    </a:lnTo>
                    <a:lnTo>
                      <a:pt x="1227" y="272"/>
                    </a:lnTo>
                    <a:lnTo>
                      <a:pt x="1225" y="268"/>
                    </a:lnTo>
                    <a:lnTo>
                      <a:pt x="1225" y="262"/>
                    </a:lnTo>
                    <a:lnTo>
                      <a:pt x="1223" y="257"/>
                    </a:lnTo>
                    <a:lnTo>
                      <a:pt x="1221" y="253"/>
                    </a:lnTo>
                    <a:lnTo>
                      <a:pt x="1219" y="247"/>
                    </a:lnTo>
                    <a:lnTo>
                      <a:pt x="1217" y="243"/>
                    </a:lnTo>
                    <a:lnTo>
                      <a:pt x="1216" y="240"/>
                    </a:lnTo>
                    <a:lnTo>
                      <a:pt x="1214" y="236"/>
                    </a:lnTo>
                    <a:lnTo>
                      <a:pt x="1210" y="232"/>
                    </a:lnTo>
                    <a:lnTo>
                      <a:pt x="1206" y="226"/>
                    </a:lnTo>
                    <a:lnTo>
                      <a:pt x="1202" y="222"/>
                    </a:lnTo>
                    <a:lnTo>
                      <a:pt x="1200" y="219"/>
                    </a:lnTo>
                    <a:lnTo>
                      <a:pt x="1197" y="215"/>
                    </a:lnTo>
                    <a:lnTo>
                      <a:pt x="1193" y="211"/>
                    </a:lnTo>
                    <a:lnTo>
                      <a:pt x="1189" y="207"/>
                    </a:lnTo>
                    <a:lnTo>
                      <a:pt x="1185" y="205"/>
                    </a:lnTo>
                    <a:lnTo>
                      <a:pt x="1179" y="203"/>
                    </a:lnTo>
                    <a:lnTo>
                      <a:pt x="1176" y="200"/>
                    </a:lnTo>
                    <a:lnTo>
                      <a:pt x="1172" y="198"/>
                    </a:lnTo>
                    <a:lnTo>
                      <a:pt x="1166" y="194"/>
                    </a:lnTo>
                    <a:lnTo>
                      <a:pt x="1160" y="192"/>
                    </a:lnTo>
                    <a:lnTo>
                      <a:pt x="1157" y="192"/>
                    </a:lnTo>
                    <a:lnTo>
                      <a:pt x="1151" y="190"/>
                    </a:lnTo>
                    <a:lnTo>
                      <a:pt x="1147" y="190"/>
                    </a:lnTo>
                    <a:lnTo>
                      <a:pt x="1143" y="188"/>
                    </a:lnTo>
                    <a:lnTo>
                      <a:pt x="1141" y="186"/>
                    </a:lnTo>
                    <a:lnTo>
                      <a:pt x="1138" y="186"/>
                    </a:lnTo>
                    <a:lnTo>
                      <a:pt x="1136" y="186"/>
                    </a:lnTo>
                    <a:lnTo>
                      <a:pt x="1134" y="186"/>
                    </a:lnTo>
                    <a:lnTo>
                      <a:pt x="1130" y="186"/>
                    </a:lnTo>
                    <a:lnTo>
                      <a:pt x="1128" y="186"/>
                    </a:lnTo>
                    <a:lnTo>
                      <a:pt x="1124" y="186"/>
                    </a:lnTo>
                    <a:lnTo>
                      <a:pt x="1122" y="186"/>
                    </a:lnTo>
                    <a:lnTo>
                      <a:pt x="1120" y="186"/>
                    </a:lnTo>
                    <a:lnTo>
                      <a:pt x="1117" y="186"/>
                    </a:lnTo>
                    <a:lnTo>
                      <a:pt x="1115" y="186"/>
                    </a:lnTo>
                    <a:lnTo>
                      <a:pt x="1109" y="186"/>
                    </a:lnTo>
                    <a:lnTo>
                      <a:pt x="1105" y="188"/>
                    </a:lnTo>
                    <a:lnTo>
                      <a:pt x="1100" y="188"/>
                    </a:lnTo>
                    <a:lnTo>
                      <a:pt x="1094" y="190"/>
                    </a:lnTo>
                    <a:lnTo>
                      <a:pt x="1090" y="192"/>
                    </a:lnTo>
                    <a:lnTo>
                      <a:pt x="1086" y="192"/>
                    </a:lnTo>
                    <a:lnTo>
                      <a:pt x="1081" y="194"/>
                    </a:lnTo>
                    <a:lnTo>
                      <a:pt x="1077" y="198"/>
                    </a:lnTo>
                    <a:lnTo>
                      <a:pt x="1073" y="200"/>
                    </a:lnTo>
                    <a:lnTo>
                      <a:pt x="1067" y="203"/>
                    </a:lnTo>
                    <a:lnTo>
                      <a:pt x="1063" y="205"/>
                    </a:lnTo>
                    <a:lnTo>
                      <a:pt x="1058" y="207"/>
                    </a:lnTo>
                    <a:lnTo>
                      <a:pt x="1054" y="211"/>
                    </a:lnTo>
                    <a:lnTo>
                      <a:pt x="1050" y="215"/>
                    </a:lnTo>
                    <a:lnTo>
                      <a:pt x="1048" y="219"/>
                    </a:lnTo>
                    <a:lnTo>
                      <a:pt x="1044" y="222"/>
                    </a:lnTo>
                    <a:lnTo>
                      <a:pt x="1041" y="226"/>
                    </a:lnTo>
                    <a:lnTo>
                      <a:pt x="1039" y="232"/>
                    </a:lnTo>
                    <a:lnTo>
                      <a:pt x="1035" y="234"/>
                    </a:lnTo>
                    <a:lnTo>
                      <a:pt x="1033" y="240"/>
                    </a:lnTo>
                    <a:lnTo>
                      <a:pt x="1029" y="243"/>
                    </a:lnTo>
                    <a:lnTo>
                      <a:pt x="1027" y="249"/>
                    </a:lnTo>
                    <a:lnTo>
                      <a:pt x="1025" y="253"/>
                    </a:lnTo>
                    <a:lnTo>
                      <a:pt x="1023" y="259"/>
                    </a:lnTo>
                    <a:lnTo>
                      <a:pt x="1022" y="260"/>
                    </a:lnTo>
                    <a:lnTo>
                      <a:pt x="1022" y="264"/>
                    </a:lnTo>
                    <a:lnTo>
                      <a:pt x="1022" y="266"/>
                    </a:lnTo>
                    <a:lnTo>
                      <a:pt x="1022" y="270"/>
                    </a:lnTo>
                    <a:lnTo>
                      <a:pt x="919" y="730"/>
                    </a:lnTo>
                    <a:lnTo>
                      <a:pt x="915" y="728"/>
                    </a:lnTo>
                    <a:lnTo>
                      <a:pt x="913" y="726"/>
                    </a:lnTo>
                    <a:lnTo>
                      <a:pt x="907" y="724"/>
                    </a:lnTo>
                    <a:lnTo>
                      <a:pt x="905" y="720"/>
                    </a:lnTo>
                    <a:lnTo>
                      <a:pt x="904" y="719"/>
                    </a:lnTo>
                    <a:lnTo>
                      <a:pt x="900" y="717"/>
                    </a:lnTo>
                    <a:lnTo>
                      <a:pt x="896" y="713"/>
                    </a:lnTo>
                    <a:lnTo>
                      <a:pt x="892" y="713"/>
                    </a:lnTo>
                    <a:lnTo>
                      <a:pt x="1022" y="129"/>
                    </a:lnTo>
                    <a:lnTo>
                      <a:pt x="1022" y="125"/>
                    </a:lnTo>
                    <a:lnTo>
                      <a:pt x="1022" y="124"/>
                    </a:lnTo>
                    <a:lnTo>
                      <a:pt x="1022" y="120"/>
                    </a:lnTo>
                    <a:lnTo>
                      <a:pt x="1022" y="118"/>
                    </a:lnTo>
                    <a:lnTo>
                      <a:pt x="1022" y="114"/>
                    </a:lnTo>
                    <a:lnTo>
                      <a:pt x="1022" y="112"/>
                    </a:lnTo>
                    <a:lnTo>
                      <a:pt x="1022" y="110"/>
                    </a:lnTo>
                    <a:lnTo>
                      <a:pt x="1022" y="106"/>
                    </a:lnTo>
                    <a:lnTo>
                      <a:pt x="1022" y="105"/>
                    </a:lnTo>
                    <a:lnTo>
                      <a:pt x="1022" y="103"/>
                    </a:lnTo>
                    <a:lnTo>
                      <a:pt x="1022" y="99"/>
                    </a:lnTo>
                    <a:lnTo>
                      <a:pt x="1022" y="97"/>
                    </a:lnTo>
                    <a:lnTo>
                      <a:pt x="1022" y="91"/>
                    </a:lnTo>
                    <a:lnTo>
                      <a:pt x="1022" y="86"/>
                    </a:lnTo>
                    <a:lnTo>
                      <a:pt x="1020" y="82"/>
                    </a:lnTo>
                    <a:lnTo>
                      <a:pt x="1018" y="76"/>
                    </a:lnTo>
                    <a:lnTo>
                      <a:pt x="1016" y="70"/>
                    </a:lnTo>
                    <a:lnTo>
                      <a:pt x="1014" y="67"/>
                    </a:lnTo>
                    <a:lnTo>
                      <a:pt x="1012" y="61"/>
                    </a:lnTo>
                    <a:lnTo>
                      <a:pt x="1010" y="57"/>
                    </a:lnTo>
                    <a:lnTo>
                      <a:pt x="1008" y="53"/>
                    </a:lnTo>
                    <a:lnTo>
                      <a:pt x="1006" y="48"/>
                    </a:lnTo>
                    <a:lnTo>
                      <a:pt x="1004" y="44"/>
                    </a:lnTo>
                    <a:lnTo>
                      <a:pt x="1001" y="40"/>
                    </a:lnTo>
                    <a:lnTo>
                      <a:pt x="997" y="36"/>
                    </a:lnTo>
                    <a:lnTo>
                      <a:pt x="993" y="32"/>
                    </a:lnTo>
                    <a:lnTo>
                      <a:pt x="991" y="29"/>
                    </a:lnTo>
                    <a:lnTo>
                      <a:pt x="985" y="25"/>
                    </a:lnTo>
                    <a:lnTo>
                      <a:pt x="983" y="23"/>
                    </a:lnTo>
                    <a:lnTo>
                      <a:pt x="978" y="19"/>
                    </a:lnTo>
                    <a:lnTo>
                      <a:pt x="972" y="17"/>
                    </a:lnTo>
                    <a:lnTo>
                      <a:pt x="968" y="13"/>
                    </a:lnTo>
                    <a:lnTo>
                      <a:pt x="964" y="11"/>
                    </a:lnTo>
                    <a:lnTo>
                      <a:pt x="961" y="10"/>
                    </a:lnTo>
                    <a:lnTo>
                      <a:pt x="955" y="6"/>
                    </a:lnTo>
                    <a:lnTo>
                      <a:pt x="949" y="6"/>
                    </a:lnTo>
                    <a:lnTo>
                      <a:pt x="944" y="4"/>
                    </a:lnTo>
                    <a:lnTo>
                      <a:pt x="940" y="4"/>
                    </a:lnTo>
                    <a:lnTo>
                      <a:pt x="936" y="2"/>
                    </a:lnTo>
                    <a:lnTo>
                      <a:pt x="934" y="2"/>
                    </a:lnTo>
                    <a:lnTo>
                      <a:pt x="932" y="0"/>
                    </a:lnTo>
                    <a:lnTo>
                      <a:pt x="928" y="0"/>
                    </a:lnTo>
                    <a:lnTo>
                      <a:pt x="926" y="0"/>
                    </a:lnTo>
                    <a:lnTo>
                      <a:pt x="925" y="0"/>
                    </a:lnTo>
                    <a:lnTo>
                      <a:pt x="921" y="0"/>
                    </a:lnTo>
                    <a:lnTo>
                      <a:pt x="919" y="0"/>
                    </a:lnTo>
                    <a:lnTo>
                      <a:pt x="915" y="0"/>
                    </a:lnTo>
                    <a:lnTo>
                      <a:pt x="913" y="0"/>
                    </a:lnTo>
                    <a:lnTo>
                      <a:pt x="911" y="0"/>
                    </a:lnTo>
                    <a:lnTo>
                      <a:pt x="907" y="0"/>
                    </a:lnTo>
                    <a:lnTo>
                      <a:pt x="904" y="0"/>
                    </a:lnTo>
                    <a:lnTo>
                      <a:pt x="898" y="2"/>
                    </a:lnTo>
                    <a:lnTo>
                      <a:pt x="896" y="2"/>
                    </a:lnTo>
                    <a:lnTo>
                      <a:pt x="892" y="2"/>
                    </a:lnTo>
                    <a:lnTo>
                      <a:pt x="890" y="2"/>
                    </a:lnTo>
                    <a:lnTo>
                      <a:pt x="888" y="4"/>
                    </a:lnTo>
                    <a:lnTo>
                      <a:pt x="881" y="4"/>
                    </a:lnTo>
                    <a:lnTo>
                      <a:pt x="877" y="6"/>
                    </a:lnTo>
                    <a:lnTo>
                      <a:pt x="873" y="10"/>
                    </a:lnTo>
                    <a:lnTo>
                      <a:pt x="867" y="11"/>
                    </a:lnTo>
                    <a:lnTo>
                      <a:pt x="864" y="15"/>
                    </a:lnTo>
                    <a:lnTo>
                      <a:pt x="860" y="17"/>
                    </a:lnTo>
                    <a:lnTo>
                      <a:pt x="854" y="19"/>
                    </a:lnTo>
                    <a:lnTo>
                      <a:pt x="850" y="23"/>
                    </a:lnTo>
                    <a:lnTo>
                      <a:pt x="847" y="25"/>
                    </a:lnTo>
                    <a:lnTo>
                      <a:pt x="843" y="29"/>
                    </a:lnTo>
                    <a:lnTo>
                      <a:pt x="839" y="32"/>
                    </a:lnTo>
                    <a:lnTo>
                      <a:pt x="835" y="36"/>
                    </a:lnTo>
                    <a:lnTo>
                      <a:pt x="833" y="40"/>
                    </a:lnTo>
                    <a:lnTo>
                      <a:pt x="831" y="44"/>
                    </a:lnTo>
                    <a:lnTo>
                      <a:pt x="828" y="48"/>
                    </a:lnTo>
                    <a:lnTo>
                      <a:pt x="824" y="53"/>
                    </a:lnTo>
                    <a:lnTo>
                      <a:pt x="822" y="57"/>
                    </a:lnTo>
                    <a:lnTo>
                      <a:pt x="820" y="61"/>
                    </a:lnTo>
                    <a:lnTo>
                      <a:pt x="818" y="67"/>
                    </a:lnTo>
                    <a:lnTo>
                      <a:pt x="816" y="70"/>
                    </a:lnTo>
                    <a:lnTo>
                      <a:pt x="816" y="74"/>
                    </a:lnTo>
                    <a:lnTo>
                      <a:pt x="814" y="76"/>
                    </a:lnTo>
                    <a:lnTo>
                      <a:pt x="812" y="82"/>
                    </a:lnTo>
                    <a:lnTo>
                      <a:pt x="812" y="84"/>
                    </a:lnTo>
                    <a:lnTo>
                      <a:pt x="687" y="663"/>
                    </a:lnTo>
                    <a:lnTo>
                      <a:pt x="681" y="663"/>
                    </a:lnTo>
                    <a:lnTo>
                      <a:pt x="677" y="663"/>
                    </a:lnTo>
                    <a:lnTo>
                      <a:pt x="673" y="663"/>
                    </a:lnTo>
                    <a:lnTo>
                      <a:pt x="670" y="663"/>
                    </a:lnTo>
                    <a:lnTo>
                      <a:pt x="666" y="663"/>
                    </a:lnTo>
                    <a:lnTo>
                      <a:pt x="660" y="665"/>
                    </a:lnTo>
                    <a:lnTo>
                      <a:pt x="656" y="665"/>
                    </a:lnTo>
                    <a:lnTo>
                      <a:pt x="652" y="667"/>
                    </a:lnTo>
                    <a:lnTo>
                      <a:pt x="753" y="213"/>
                    </a:lnTo>
                    <a:lnTo>
                      <a:pt x="753" y="209"/>
                    </a:lnTo>
                    <a:lnTo>
                      <a:pt x="753" y="207"/>
                    </a:lnTo>
                    <a:lnTo>
                      <a:pt x="753" y="203"/>
                    </a:lnTo>
                    <a:lnTo>
                      <a:pt x="753" y="201"/>
                    </a:lnTo>
                    <a:lnTo>
                      <a:pt x="753" y="198"/>
                    </a:lnTo>
                    <a:lnTo>
                      <a:pt x="753" y="196"/>
                    </a:lnTo>
                    <a:lnTo>
                      <a:pt x="753" y="192"/>
                    </a:lnTo>
                    <a:lnTo>
                      <a:pt x="753" y="190"/>
                    </a:lnTo>
                    <a:lnTo>
                      <a:pt x="753" y="188"/>
                    </a:lnTo>
                    <a:lnTo>
                      <a:pt x="753" y="184"/>
                    </a:lnTo>
                    <a:lnTo>
                      <a:pt x="753" y="182"/>
                    </a:lnTo>
                    <a:lnTo>
                      <a:pt x="753" y="181"/>
                    </a:lnTo>
                    <a:lnTo>
                      <a:pt x="753" y="175"/>
                    </a:lnTo>
                    <a:lnTo>
                      <a:pt x="753" y="169"/>
                    </a:lnTo>
                    <a:lnTo>
                      <a:pt x="751" y="167"/>
                    </a:lnTo>
                    <a:lnTo>
                      <a:pt x="751" y="163"/>
                    </a:lnTo>
                    <a:lnTo>
                      <a:pt x="751" y="162"/>
                    </a:lnTo>
                    <a:lnTo>
                      <a:pt x="750" y="160"/>
                    </a:lnTo>
                    <a:lnTo>
                      <a:pt x="748" y="154"/>
                    </a:lnTo>
                    <a:lnTo>
                      <a:pt x="746" y="148"/>
                    </a:lnTo>
                    <a:lnTo>
                      <a:pt x="744" y="144"/>
                    </a:lnTo>
                    <a:lnTo>
                      <a:pt x="742" y="141"/>
                    </a:lnTo>
                    <a:lnTo>
                      <a:pt x="740" y="135"/>
                    </a:lnTo>
                    <a:lnTo>
                      <a:pt x="738" y="131"/>
                    </a:lnTo>
                    <a:lnTo>
                      <a:pt x="734" y="127"/>
                    </a:lnTo>
                    <a:lnTo>
                      <a:pt x="730" y="124"/>
                    </a:lnTo>
                    <a:lnTo>
                      <a:pt x="727" y="120"/>
                    </a:lnTo>
                    <a:lnTo>
                      <a:pt x="725" y="116"/>
                    </a:lnTo>
                    <a:lnTo>
                      <a:pt x="721" y="112"/>
                    </a:lnTo>
                    <a:lnTo>
                      <a:pt x="717" y="108"/>
                    </a:lnTo>
                    <a:lnTo>
                      <a:pt x="713" y="105"/>
                    </a:lnTo>
                    <a:lnTo>
                      <a:pt x="710" y="103"/>
                    </a:lnTo>
                    <a:lnTo>
                      <a:pt x="704" y="99"/>
                    </a:lnTo>
                    <a:lnTo>
                      <a:pt x="700" y="97"/>
                    </a:lnTo>
                    <a:lnTo>
                      <a:pt x="694" y="95"/>
                    </a:lnTo>
                    <a:lnTo>
                      <a:pt x="691" y="91"/>
                    </a:lnTo>
                    <a:lnTo>
                      <a:pt x="685" y="89"/>
                    </a:lnTo>
                    <a:lnTo>
                      <a:pt x="681" y="87"/>
                    </a:lnTo>
                    <a:lnTo>
                      <a:pt x="675" y="86"/>
                    </a:lnTo>
                    <a:lnTo>
                      <a:pt x="672" y="86"/>
                    </a:lnTo>
                    <a:lnTo>
                      <a:pt x="668" y="84"/>
                    </a:lnTo>
                    <a:lnTo>
                      <a:pt x="666" y="84"/>
                    </a:lnTo>
                    <a:lnTo>
                      <a:pt x="664" y="84"/>
                    </a:lnTo>
                    <a:lnTo>
                      <a:pt x="660" y="84"/>
                    </a:lnTo>
                    <a:lnTo>
                      <a:pt x="658" y="84"/>
                    </a:lnTo>
                    <a:lnTo>
                      <a:pt x="654" y="84"/>
                    </a:lnTo>
                    <a:lnTo>
                      <a:pt x="652" y="84"/>
                    </a:lnTo>
                    <a:lnTo>
                      <a:pt x="651" y="84"/>
                    </a:lnTo>
                    <a:lnTo>
                      <a:pt x="647" y="84"/>
                    </a:lnTo>
                    <a:lnTo>
                      <a:pt x="645" y="84"/>
                    </a:lnTo>
                    <a:lnTo>
                      <a:pt x="643" y="84"/>
                    </a:lnTo>
                    <a:lnTo>
                      <a:pt x="639" y="84"/>
                    </a:lnTo>
                    <a:lnTo>
                      <a:pt x="635" y="84"/>
                    </a:lnTo>
                    <a:lnTo>
                      <a:pt x="630" y="84"/>
                    </a:lnTo>
                    <a:lnTo>
                      <a:pt x="628" y="84"/>
                    </a:lnTo>
                    <a:lnTo>
                      <a:pt x="624" y="86"/>
                    </a:lnTo>
                    <a:lnTo>
                      <a:pt x="622" y="86"/>
                    </a:lnTo>
                    <a:lnTo>
                      <a:pt x="618" y="86"/>
                    </a:lnTo>
                    <a:lnTo>
                      <a:pt x="614" y="87"/>
                    </a:lnTo>
                    <a:lnTo>
                      <a:pt x="609" y="89"/>
                    </a:lnTo>
                    <a:lnTo>
                      <a:pt x="603" y="91"/>
                    </a:lnTo>
                    <a:lnTo>
                      <a:pt x="599" y="95"/>
                    </a:lnTo>
                    <a:lnTo>
                      <a:pt x="595" y="97"/>
                    </a:lnTo>
                    <a:lnTo>
                      <a:pt x="592" y="99"/>
                    </a:lnTo>
                    <a:lnTo>
                      <a:pt x="586" y="103"/>
                    </a:lnTo>
                    <a:lnTo>
                      <a:pt x="582" y="105"/>
                    </a:lnTo>
                    <a:lnTo>
                      <a:pt x="578" y="108"/>
                    </a:lnTo>
                    <a:lnTo>
                      <a:pt x="574" y="112"/>
                    </a:lnTo>
                    <a:lnTo>
                      <a:pt x="571" y="116"/>
                    </a:lnTo>
                    <a:lnTo>
                      <a:pt x="567" y="120"/>
                    </a:lnTo>
                    <a:lnTo>
                      <a:pt x="565" y="124"/>
                    </a:lnTo>
                    <a:lnTo>
                      <a:pt x="563" y="127"/>
                    </a:lnTo>
                    <a:lnTo>
                      <a:pt x="559" y="131"/>
                    </a:lnTo>
                    <a:lnTo>
                      <a:pt x="555" y="135"/>
                    </a:lnTo>
                    <a:lnTo>
                      <a:pt x="554" y="141"/>
                    </a:lnTo>
                    <a:lnTo>
                      <a:pt x="552" y="146"/>
                    </a:lnTo>
                    <a:lnTo>
                      <a:pt x="550" y="150"/>
                    </a:lnTo>
                    <a:lnTo>
                      <a:pt x="548" y="156"/>
                    </a:lnTo>
                    <a:lnTo>
                      <a:pt x="546" y="158"/>
                    </a:lnTo>
                    <a:lnTo>
                      <a:pt x="546" y="160"/>
                    </a:lnTo>
                    <a:lnTo>
                      <a:pt x="544" y="163"/>
                    </a:lnTo>
                    <a:lnTo>
                      <a:pt x="544" y="167"/>
                    </a:lnTo>
                    <a:lnTo>
                      <a:pt x="361" y="1127"/>
                    </a:lnTo>
                    <a:lnTo>
                      <a:pt x="361" y="1127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Rectangle 59"/>
              <p:cNvSpPr/>
              <p:nvPr/>
            </p:nvSpPr>
            <p:spPr>
              <a:xfrm flipV="1" rot="3744000">
                <a:off x="4378680" y="2811960"/>
                <a:ext cx="85680" cy="442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374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98" name="Group 81"/>
              <p:cNvGrpSpPr/>
              <p:nvPr/>
            </p:nvGrpSpPr>
            <p:grpSpPr>
              <a:xfrm>
                <a:off x="4660560" y="2065320"/>
                <a:ext cx="192960" cy="651240"/>
                <a:chOff x="4660560" y="2065320"/>
                <a:chExt cx="192960" cy="651240"/>
              </a:xfrm>
            </p:grpSpPr>
            <p:sp>
              <p:nvSpPr>
                <p:cNvPr id="2499" name="AutoShape 82"/>
                <p:cNvSpPr/>
                <p:nvPr/>
              </p:nvSpPr>
              <p:spPr>
                <a:xfrm rot="82800">
                  <a:off x="4676760" y="2139480"/>
                  <a:ext cx="148320" cy="484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ffffff"/>
                    </a:gs>
                  </a:gsLst>
                  <a:lin ang="2151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0" name="Oval 83"/>
                <p:cNvSpPr/>
                <p:nvPr/>
              </p:nvSpPr>
              <p:spPr>
                <a:xfrm rot="82800">
                  <a:off x="4672080" y="2581920"/>
                  <a:ext cx="130680" cy="132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1" name="AutoShape 84"/>
                <p:cNvSpPr/>
                <p:nvPr/>
              </p:nvSpPr>
              <p:spPr>
                <a:xfrm flipV="1" rot="83400">
                  <a:off x="4699440" y="2622960"/>
                  <a:ext cx="70920" cy="61560"/>
                </a:xfrm>
                <a:prstGeom prst="hexagon">
                  <a:avLst>
                    <a:gd name="adj" fmla="val 28801"/>
                    <a:gd name="vf" fmla="val 115470"/>
                  </a:avLst>
                </a:prstGeom>
                <a:solidFill>
                  <a:srgbClr val="ff000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2" name="AutoShape 85"/>
                <p:cNvSpPr/>
                <p:nvPr/>
              </p:nvSpPr>
              <p:spPr>
                <a:xfrm rot="5862000">
                  <a:off x="4684680" y="2060640"/>
                  <a:ext cx="144360" cy="175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934" y="2201"/>
                        <a:pt x="12267" y="5080"/>
                        <a:pt x="12267" y="10800"/>
                      </a:cubicBezTo>
                      <a:cubicBezTo>
                        <a:pt x="12267" y="16520"/>
                        <a:pt x="16934" y="1939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2b2b2"/>
                    </a:gs>
                  </a:gsLst>
                  <a:lin ang="21138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03" name="Group 87"/>
            <p:cNvGrpSpPr/>
            <p:nvPr/>
          </p:nvGrpSpPr>
          <p:grpSpPr>
            <a:xfrm>
              <a:off x="4663800" y="1332360"/>
              <a:ext cx="669600" cy="899640"/>
              <a:chOff x="4663800" y="1332360"/>
              <a:chExt cx="669600" cy="899640"/>
            </a:xfrm>
          </p:grpSpPr>
          <p:sp>
            <p:nvSpPr>
              <p:cNvPr id="2504" name="AutoShape 88"/>
              <p:cNvSpPr/>
              <p:nvPr/>
            </p:nvSpPr>
            <p:spPr>
              <a:xfrm flipH="1" flipV="1" rot="3788400">
                <a:off x="4920840" y="1355040"/>
                <a:ext cx="77760" cy="361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Freeform 89"/>
              <p:cNvSpPr/>
              <p:nvPr/>
            </p:nvSpPr>
            <p:spPr>
              <a:xfrm flipV="1" rot="14932800">
                <a:off x="5158800" y="1299960"/>
                <a:ext cx="93960" cy="237240"/>
              </a:xfrm>
              <a:custGeom>
                <a:avLst/>
                <a:gdLst/>
                <a:ahLst/>
                <a:rect l="l" t="t" r="r" b="b"/>
                <a:pathLst>
                  <a:path w="1402" h="2302">
                    <a:moveTo>
                      <a:pt x="361" y="1127"/>
                    </a:moveTo>
                    <a:lnTo>
                      <a:pt x="280" y="1116"/>
                    </a:lnTo>
                    <a:lnTo>
                      <a:pt x="373" y="711"/>
                    </a:lnTo>
                    <a:lnTo>
                      <a:pt x="373" y="709"/>
                    </a:lnTo>
                    <a:lnTo>
                      <a:pt x="375" y="705"/>
                    </a:lnTo>
                    <a:lnTo>
                      <a:pt x="375" y="703"/>
                    </a:lnTo>
                    <a:lnTo>
                      <a:pt x="375" y="700"/>
                    </a:lnTo>
                    <a:lnTo>
                      <a:pt x="375" y="698"/>
                    </a:lnTo>
                    <a:lnTo>
                      <a:pt x="375" y="696"/>
                    </a:lnTo>
                    <a:lnTo>
                      <a:pt x="375" y="692"/>
                    </a:lnTo>
                    <a:lnTo>
                      <a:pt x="375" y="690"/>
                    </a:lnTo>
                    <a:lnTo>
                      <a:pt x="375" y="684"/>
                    </a:lnTo>
                    <a:lnTo>
                      <a:pt x="375" y="681"/>
                    </a:lnTo>
                    <a:lnTo>
                      <a:pt x="375" y="675"/>
                    </a:lnTo>
                    <a:lnTo>
                      <a:pt x="375" y="669"/>
                    </a:lnTo>
                    <a:lnTo>
                      <a:pt x="371" y="665"/>
                    </a:lnTo>
                    <a:lnTo>
                      <a:pt x="371" y="660"/>
                    </a:lnTo>
                    <a:lnTo>
                      <a:pt x="369" y="654"/>
                    </a:lnTo>
                    <a:lnTo>
                      <a:pt x="367" y="652"/>
                    </a:lnTo>
                    <a:lnTo>
                      <a:pt x="365" y="646"/>
                    </a:lnTo>
                    <a:lnTo>
                      <a:pt x="363" y="641"/>
                    </a:lnTo>
                    <a:lnTo>
                      <a:pt x="361" y="637"/>
                    </a:lnTo>
                    <a:lnTo>
                      <a:pt x="358" y="633"/>
                    </a:lnTo>
                    <a:lnTo>
                      <a:pt x="356" y="629"/>
                    </a:lnTo>
                    <a:lnTo>
                      <a:pt x="354" y="623"/>
                    </a:lnTo>
                    <a:lnTo>
                      <a:pt x="350" y="620"/>
                    </a:lnTo>
                    <a:lnTo>
                      <a:pt x="346" y="616"/>
                    </a:lnTo>
                    <a:lnTo>
                      <a:pt x="342" y="612"/>
                    </a:lnTo>
                    <a:lnTo>
                      <a:pt x="339" y="610"/>
                    </a:lnTo>
                    <a:lnTo>
                      <a:pt x="335" y="606"/>
                    </a:lnTo>
                    <a:lnTo>
                      <a:pt x="331" y="603"/>
                    </a:lnTo>
                    <a:lnTo>
                      <a:pt x="325" y="601"/>
                    </a:lnTo>
                    <a:lnTo>
                      <a:pt x="321" y="597"/>
                    </a:lnTo>
                    <a:lnTo>
                      <a:pt x="318" y="595"/>
                    </a:lnTo>
                    <a:lnTo>
                      <a:pt x="312" y="593"/>
                    </a:lnTo>
                    <a:lnTo>
                      <a:pt x="306" y="591"/>
                    </a:lnTo>
                    <a:lnTo>
                      <a:pt x="302" y="589"/>
                    </a:lnTo>
                    <a:lnTo>
                      <a:pt x="299" y="589"/>
                    </a:lnTo>
                    <a:lnTo>
                      <a:pt x="295" y="587"/>
                    </a:lnTo>
                    <a:lnTo>
                      <a:pt x="291" y="587"/>
                    </a:lnTo>
                    <a:lnTo>
                      <a:pt x="287" y="585"/>
                    </a:lnTo>
                    <a:lnTo>
                      <a:pt x="285" y="585"/>
                    </a:lnTo>
                    <a:lnTo>
                      <a:pt x="283" y="585"/>
                    </a:lnTo>
                    <a:lnTo>
                      <a:pt x="280" y="585"/>
                    </a:lnTo>
                    <a:lnTo>
                      <a:pt x="276" y="585"/>
                    </a:lnTo>
                    <a:lnTo>
                      <a:pt x="274" y="585"/>
                    </a:lnTo>
                    <a:lnTo>
                      <a:pt x="272" y="585"/>
                    </a:lnTo>
                    <a:lnTo>
                      <a:pt x="268" y="585"/>
                    </a:lnTo>
                    <a:lnTo>
                      <a:pt x="266" y="585"/>
                    </a:lnTo>
                    <a:lnTo>
                      <a:pt x="263" y="585"/>
                    </a:lnTo>
                    <a:lnTo>
                      <a:pt x="261" y="587"/>
                    </a:lnTo>
                    <a:lnTo>
                      <a:pt x="259" y="587"/>
                    </a:lnTo>
                    <a:lnTo>
                      <a:pt x="255" y="587"/>
                    </a:lnTo>
                    <a:lnTo>
                      <a:pt x="253" y="589"/>
                    </a:lnTo>
                    <a:lnTo>
                      <a:pt x="249" y="589"/>
                    </a:lnTo>
                    <a:lnTo>
                      <a:pt x="247" y="589"/>
                    </a:lnTo>
                    <a:lnTo>
                      <a:pt x="243" y="591"/>
                    </a:lnTo>
                    <a:lnTo>
                      <a:pt x="240" y="591"/>
                    </a:lnTo>
                    <a:lnTo>
                      <a:pt x="238" y="593"/>
                    </a:lnTo>
                    <a:lnTo>
                      <a:pt x="236" y="595"/>
                    </a:lnTo>
                    <a:lnTo>
                      <a:pt x="232" y="595"/>
                    </a:lnTo>
                    <a:lnTo>
                      <a:pt x="230" y="597"/>
                    </a:lnTo>
                    <a:lnTo>
                      <a:pt x="228" y="599"/>
                    </a:lnTo>
                    <a:lnTo>
                      <a:pt x="224" y="601"/>
                    </a:lnTo>
                    <a:lnTo>
                      <a:pt x="223" y="601"/>
                    </a:lnTo>
                    <a:lnTo>
                      <a:pt x="219" y="603"/>
                    </a:lnTo>
                    <a:lnTo>
                      <a:pt x="217" y="604"/>
                    </a:lnTo>
                    <a:lnTo>
                      <a:pt x="211" y="608"/>
                    </a:lnTo>
                    <a:lnTo>
                      <a:pt x="207" y="612"/>
                    </a:lnTo>
                    <a:lnTo>
                      <a:pt x="204" y="616"/>
                    </a:lnTo>
                    <a:lnTo>
                      <a:pt x="198" y="618"/>
                    </a:lnTo>
                    <a:lnTo>
                      <a:pt x="194" y="623"/>
                    </a:lnTo>
                    <a:lnTo>
                      <a:pt x="188" y="627"/>
                    </a:lnTo>
                    <a:lnTo>
                      <a:pt x="185" y="633"/>
                    </a:lnTo>
                    <a:lnTo>
                      <a:pt x="181" y="637"/>
                    </a:lnTo>
                    <a:lnTo>
                      <a:pt x="177" y="641"/>
                    </a:lnTo>
                    <a:lnTo>
                      <a:pt x="173" y="646"/>
                    </a:lnTo>
                    <a:lnTo>
                      <a:pt x="169" y="652"/>
                    </a:lnTo>
                    <a:lnTo>
                      <a:pt x="166" y="656"/>
                    </a:lnTo>
                    <a:lnTo>
                      <a:pt x="162" y="662"/>
                    </a:lnTo>
                    <a:lnTo>
                      <a:pt x="160" y="665"/>
                    </a:lnTo>
                    <a:lnTo>
                      <a:pt x="158" y="669"/>
                    </a:lnTo>
                    <a:lnTo>
                      <a:pt x="158" y="671"/>
                    </a:lnTo>
                    <a:lnTo>
                      <a:pt x="156" y="673"/>
                    </a:lnTo>
                    <a:lnTo>
                      <a:pt x="154" y="677"/>
                    </a:lnTo>
                    <a:lnTo>
                      <a:pt x="152" y="679"/>
                    </a:lnTo>
                    <a:lnTo>
                      <a:pt x="152" y="681"/>
                    </a:lnTo>
                    <a:lnTo>
                      <a:pt x="150" y="684"/>
                    </a:lnTo>
                    <a:lnTo>
                      <a:pt x="150" y="688"/>
                    </a:lnTo>
                    <a:lnTo>
                      <a:pt x="146" y="694"/>
                    </a:lnTo>
                    <a:lnTo>
                      <a:pt x="145" y="701"/>
                    </a:lnTo>
                    <a:lnTo>
                      <a:pt x="143" y="709"/>
                    </a:lnTo>
                    <a:lnTo>
                      <a:pt x="139" y="717"/>
                    </a:lnTo>
                    <a:lnTo>
                      <a:pt x="137" y="724"/>
                    </a:lnTo>
                    <a:lnTo>
                      <a:pt x="135" y="732"/>
                    </a:lnTo>
                    <a:lnTo>
                      <a:pt x="131" y="739"/>
                    </a:lnTo>
                    <a:lnTo>
                      <a:pt x="129" y="747"/>
                    </a:lnTo>
                    <a:lnTo>
                      <a:pt x="126" y="755"/>
                    </a:lnTo>
                    <a:lnTo>
                      <a:pt x="124" y="760"/>
                    </a:lnTo>
                    <a:lnTo>
                      <a:pt x="122" y="768"/>
                    </a:lnTo>
                    <a:lnTo>
                      <a:pt x="120" y="776"/>
                    </a:lnTo>
                    <a:lnTo>
                      <a:pt x="116" y="781"/>
                    </a:lnTo>
                    <a:lnTo>
                      <a:pt x="114" y="789"/>
                    </a:lnTo>
                    <a:lnTo>
                      <a:pt x="112" y="796"/>
                    </a:lnTo>
                    <a:lnTo>
                      <a:pt x="110" y="804"/>
                    </a:lnTo>
                    <a:lnTo>
                      <a:pt x="107" y="812"/>
                    </a:lnTo>
                    <a:lnTo>
                      <a:pt x="107" y="817"/>
                    </a:lnTo>
                    <a:lnTo>
                      <a:pt x="103" y="823"/>
                    </a:lnTo>
                    <a:lnTo>
                      <a:pt x="101" y="831"/>
                    </a:lnTo>
                    <a:lnTo>
                      <a:pt x="97" y="836"/>
                    </a:lnTo>
                    <a:lnTo>
                      <a:pt x="97" y="844"/>
                    </a:lnTo>
                    <a:lnTo>
                      <a:pt x="93" y="852"/>
                    </a:lnTo>
                    <a:lnTo>
                      <a:pt x="93" y="857"/>
                    </a:lnTo>
                    <a:lnTo>
                      <a:pt x="89" y="865"/>
                    </a:lnTo>
                    <a:lnTo>
                      <a:pt x="88" y="871"/>
                    </a:lnTo>
                    <a:lnTo>
                      <a:pt x="86" y="878"/>
                    </a:lnTo>
                    <a:lnTo>
                      <a:pt x="84" y="884"/>
                    </a:lnTo>
                    <a:lnTo>
                      <a:pt x="82" y="892"/>
                    </a:lnTo>
                    <a:lnTo>
                      <a:pt x="80" y="899"/>
                    </a:lnTo>
                    <a:lnTo>
                      <a:pt x="78" y="907"/>
                    </a:lnTo>
                    <a:lnTo>
                      <a:pt x="74" y="912"/>
                    </a:lnTo>
                    <a:lnTo>
                      <a:pt x="72" y="920"/>
                    </a:lnTo>
                    <a:lnTo>
                      <a:pt x="72" y="926"/>
                    </a:lnTo>
                    <a:lnTo>
                      <a:pt x="68" y="931"/>
                    </a:lnTo>
                    <a:lnTo>
                      <a:pt x="67" y="939"/>
                    </a:lnTo>
                    <a:lnTo>
                      <a:pt x="65" y="945"/>
                    </a:lnTo>
                    <a:lnTo>
                      <a:pt x="63" y="952"/>
                    </a:lnTo>
                    <a:lnTo>
                      <a:pt x="59" y="958"/>
                    </a:lnTo>
                    <a:lnTo>
                      <a:pt x="57" y="966"/>
                    </a:lnTo>
                    <a:lnTo>
                      <a:pt x="55" y="971"/>
                    </a:lnTo>
                    <a:lnTo>
                      <a:pt x="53" y="979"/>
                    </a:lnTo>
                    <a:lnTo>
                      <a:pt x="51" y="987"/>
                    </a:lnTo>
                    <a:lnTo>
                      <a:pt x="49" y="994"/>
                    </a:lnTo>
                    <a:lnTo>
                      <a:pt x="48" y="1000"/>
                    </a:lnTo>
                    <a:lnTo>
                      <a:pt x="46" y="1007"/>
                    </a:lnTo>
                    <a:lnTo>
                      <a:pt x="44" y="1015"/>
                    </a:lnTo>
                    <a:lnTo>
                      <a:pt x="42" y="1021"/>
                    </a:lnTo>
                    <a:lnTo>
                      <a:pt x="42" y="1028"/>
                    </a:lnTo>
                    <a:lnTo>
                      <a:pt x="38" y="1036"/>
                    </a:lnTo>
                    <a:lnTo>
                      <a:pt x="36" y="1042"/>
                    </a:lnTo>
                    <a:lnTo>
                      <a:pt x="36" y="1049"/>
                    </a:lnTo>
                    <a:lnTo>
                      <a:pt x="34" y="1057"/>
                    </a:lnTo>
                    <a:lnTo>
                      <a:pt x="30" y="1063"/>
                    </a:lnTo>
                    <a:lnTo>
                      <a:pt x="30" y="1070"/>
                    </a:lnTo>
                    <a:lnTo>
                      <a:pt x="29" y="1078"/>
                    </a:lnTo>
                    <a:lnTo>
                      <a:pt x="27" y="1085"/>
                    </a:lnTo>
                    <a:lnTo>
                      <a:pt x="25" y="1093"/>
                    </a:lnTo>
                    <a:lnTo>
                      <a:pt x="23" y="1101"/>
                    </a:lnTo>
                    <a:lnTo>
                      <a:pt x="21" y="1108"/>
                    </a:lnTo>
                    <a:lnTo>
                      <a:pt x="19" y="1116"/>
                    </a:lnTo>
                    <a:lnTo>
                      <a:pt x="17" y="1123"/>
                    </a:lnTo>
                    <a:lnTo>
                      <a:pt x="17" y="1131"/>
                    </a:lnTo>
                    <a:lnTo>
                      <a:pt x="15" y="1139"/>
                    </a:lnTo>
                    <a:lnTo>
                      <a:pt x="13" y="1148"/>
                    </a:lnTo>
                    <a:lnTo>
                      <a:pt x="10" y="1158"/>
                    </a:lnTo>
                    <a:lnTo>
                      <a:pt x="10" y="1165"/>
                    </a:lnTo>
                    <a:lnTo>
                      <a:pt x="8" y="1175"/>
                    </a:lnTo>
                    <a:lnTo>
                      <a:pt x="6" y="1182"/>
                    </a:lnTo>
                    <a:lnTo>
                      <a:pt x="6" y="1192"/>
                    </a:lnTo>
                    <a:lnTo>
                      <a:pt x="4" y="1201"/>
                    </a:lnTo>
                    <a:lnTo>
                      <a:pt x="2" y="1211"/>
                    </a:lnTo>
                    <a:lnTo>
                      <a:pt x="2" y="1218"/>
                    </a:lnTo>
                    <a:lnTo>
                      <a:pt x="0" y="1230"/>
                    </a:lnTo>
                    <a:lnTo>
                      <a:pt x="0" y="1237"/>
                    </a:lnTo>
                    <a:lnTo>
                      <a:pt x="0" y="1247"/>
                    </a:lnTo>
                    <a:lnTo>
                      <a:pt x="0" y="1257"/>
                    </a:lnTo>
                    <a:lnTo>
                      <a:pt x="0" y="1268"/>
                    </a:lnTo>
                    <a:lnTo>
                      <a:pt x="0" y="1276"/>
                    </a:lnTo>
                    <a:lnTo>
                      <a:pt x="0" y="1285"/>
                    </a:lnTo>
                    <a:lnTo>
                      <a:pt x="0" y="1296"/>
                    </a:lnTo>
                    <a:lnTo>
                      <a:pt x="0" y="1304"/>
                    </a:lnTo>
                    <a:lnTo>
                      <a:pt x="0" y="1314"/>
                    </a:lnTo>
                    <a:lnTo>
                      <a:pt x="0" y="1323"/>
                    </a:lnTo>
                    <a:lnTo>
                      <a:pt x="0" y="1333"/>
                    </a:lnTo>
                    <a:lnTo>
                      <a:pt x="2" y="1342"/>
                    </a:lnTo>
                    <a:lnTo>
                      <a:pt x="2" y="1352"/>
                    </a:lnTo>
                    <a:lnTo>
                      <a:pt x="4" y="1363"/>
                    </a:lnTo>
                    <a:lnTo>
                      <a:pt x="4" y="1371"/>
                    </a:lnTo>
                    <a:lnTo>
                      <a:pt x="6" y="1382"/>
                    </a:lnTo>
                    <a:lnTo>
                      <a:pt x="8" y="1390"/>
                    </a:lnTo>
                    <a:lnTo>
                      <a:pt x="8" y="1401"/>
                    </a:lnTo>
                    <a:lnTo>
                      <a:pt x="10" y="1409"/>
                    </a:lnTo>
                    <a:lnTo>
                      <a:pt x="11" y="1420"/>
                    </a:lnTo>
                    <a:lnTo>
                      <a:pt x="13" y="1429"/>
                    </a:lnTo>
                    <a:lnTo>
                      <a:pt x="15" y="1439"/>
                    </a:lnTo>
                    <a:lnTo>
                      <a:pt x="17" y="1448"/>
                    </a:lnTo>
                    <a:lnTo>
                      <a:pt x="19" y="1458"/>
                    </a:lnTo>
                    <a:lnTo>
                      <a:pt x="21" y="1468"/>
                    </a:lnTo>
                    <a:lnTo>
                      <a:pt x="23" y="1477"/>
                    </a:lnTo>
                    <a:lnTo>
                      <a:pt x="27" y="1487"/>
                    </a:lnTo>
                    <a:lnTo>
                      <a:pt x="29" y="1496"/>
                    </a:lnTo>
                    <a:lnTo>
                      <a:pt x="30" y="1506"/>
                    </a:lnTo>
                    <a:lnTo>
                      <a:pt x="34" y="1515"/>
                    </a:lnTo>
                    <a:lnTo>
                      <a:pt x="36" y="1525"/>
                    </a:lnTo>
                    <a:lnTo>
                      <a:pt x="38" y="1534"/>
                    </a:lnTo>
                    <a:lnTo>
                      <a:pt x="42" y="1544"/>
                    </a:lnTo>
                    <a:lnTo>
                      <a:pt x="46" y="1553"/>
                    </a:lnTo>
                    <a:lnTo>
                      <a:pt x="48" y="1561"/>
                    </a:lnTo>
                    <a:lnTo>
                      <a:pt x="51" y="1572"/>
                    </a:lnTo>
                    <a:lnTo>
                      <a:pt x="55" y="1580"/>
                    </a:lnTo>
                    <a:lnTo>
                      <a:pt x="59" y="1589"/>
                    </a:lnTo>
                    <a:lnTo>
                      <a:pt x="63" y="1599"/>
                    </a:lnTo>
                    <a:lnTo>
                      <a:pt x="67" y="1608"/>
                    </a:lnTo>
                    <a:lnTo>
                      <a:pt x="68" y="1616"/>
                    </a:lnTo>
                    <a:lnTo>
                      <a:pt x="74" y="1627"/>
                    </a:lnTo>
                    <a:lnTo>
                      <a:pt x="78" y="1635"/>
                    </a:lnTo>
                    <a:lnTo>
                      <a:pt x="82" y="1644"/>
                    </a:lnTo>
                    <a:lnTo>
                      <a:pt x="86" y="1652"/>
                    </a:lnTo>
                    <a:lnTo>
                      <a:pt x="89" y="1661"/>
                    </a:lnTo>
                    <a:lnTo>
                      <a:pt x="95" y="1669"/>
                    </a:lnTo>
                    <a:lnTo>
                      <a:pt x="99" y="1679"/>
                    </a:lnTo>
                    <a:lnTo>
                      <a:pt x="103" y="1688"/>
                    </a:lnTo>
                    <a:lnTo>
                      <a:pt x="108" y="1696"/>
                    </a:lnTo>
                    <a:lnTo>
                      <a:pt x="114" y="1703"/>
                    </a:lnTo>
                    <a:lnTo>
                      <a:pt x="118" y="1713"/>
                    </a:lnTo>
                    <a:lnTo>
                      <a:pt x="124" y="1722"/>
                    </a:lnTo>
                    <a:lnTo>
                      <a:pt x="127" y="1732"/>
                    </a:lnTo>
                    <a:lnTo>
                      <a:pt x="131" y="1736"/>
                    </a:lnTo>
                    <a:lnTo>
                      <a:pt x="135" y="1739"/>
                    </a:lnTo>
                    <a:lnTo>
                      <a:pt x="135" y="1743"/>
                    </a:lnTo>
                    <a:lnTo>
                      <a:pt x="137" y="1745"/>
                    </a:lnTo>
                    <a:lnTo>
                      <a:pt x="139" y="1747"/>
                    </a:lnTo>
                    <a:lnTo>
                      <a:pt x="141" y="1751"/>
                    </a:lnTo>
                    <a:lnTo>
                      <a:pt x="143" y="1755"/>
                    </a:lnTo>
                    <a:lnTo>
                      <a:pt x="143" y="1756"/>
                    </a:lnTo>
                    <a:lnTo>
                      <a:pt x="145" y="1760"/>
                    </a:lnTo>
                    <a:lnTo>
                      <a:pt x="146" y="1762"/>
                    </a:lnTo>
                    <a:lnTo>
                      <a:pt x="148" y="1766"/>
                    </a:lnTo>
                    <a:lnTo>
                      <a:pt x="150" y="1768"/>
                    </a:lnTo>
                    <a:lnTo>
                      <a:pt x="152" y="1770"/>
                    </a:lnTo>
                    <a:lnTo>
                      <a:pt x="156" y="1774"/>
                    </a:lnTo>
                    <a:lnTo>
                      <a:pt x="158" y="1777"/>
                    </a:lnTo>
                    <a:lnTo>
                      <a:pt x="160" y="1779"/>
                    </a:lnTo>
                    <a:lnTo>
                      <a:pt x="160" y="1783"/>
                    </a:lnTo>
                    <a:lnTo>
                      <a:pt x="162" y="1787"/>
                    </a:lnTo>
                    <a:lnTo>
                      <a:pt x="166" y="1789"/>
                    </a:lnTo>
                    <a:lnTo>
                      <a:pt x="166" y="1791"/>
                    </a:lnTo>
                    <a:lnTo>
                      <a:pt x="167" y="1794"/>
                    </a:lnTo>
                    <a:lnTo>
                      <a:pt x="169" y="1796"/>
                    </a:lnTo>
                    <a:lnTo>
                      <a:pt x="171" y="1800"/>
                    </a:lnTo>
                    <a:lnTo>
                      <a:pt x="173" y="1802"/>
                    </a:lnTo>
                    <a:lnTo>
                      <a:pt x="175" y="1806"/>
                    </a:lnTo>
                    <a:lnTo>
                      <a:pt x="177" y="1808"/>
                    </a:lnTo>
                    <a:lnTo>
                      <a:pt x="179" y="1812"/>
                    </a:lnTo>
                    <a:lnTo>
                      <a:pt x="181" y="1815"/>
                    </a:lnTo>
                    <a:lnTo>
                      <a:pt x="183" y="1817"/>
                    </a:lnTo>
                    <a:lnTo>
                      <a:pt x="185" y="1821"/>
                    </a:lnTo>
                    <a:lnTo>
                      <a:pt x="188" y="1827"/>
                    </a:lnTo>
                    <a:lnTo>
                      <a:pt x="190" y="1831"/>
                    </a:lnTo>
                    <a:lnTo>
                      <a:pt x="194" y="1836"/>
                    </a:lnTo>
                    <a:lnTo>
                      <a:pt x="198" y="1842"/>
                    </a:lnTo>
                    <a:lnTo>
                      <a:pt x="200" y="1846"/>
                    </a:lnTo>
                    <a:lnTo>
                      <a:pt x="204" y="1850"/>
                    </a:lnTo>
                    <a:lnTo>
                      <a:pt x="205" y="1853"/>
                    </a:lnTo>
                    <a:lnTo>
                      <a:pt x="207" y="1859"/>
                    </a:lnTo>
                    <a:lnTo>
                      <a:pt x="209" y="1861"/>
                    </a:lnTo>
                    <a:lnTo>
                      <a:pt x="211" y="1863"/>
                    </a:lnTo>
                    <a:lnTo>
                      <a:pt x="213" y="1867"/>
                    </a:lnTo>
                    <a:lnTo>
                      <a:pt x="215" y="1869"/>
                    </a:lnTo>
                    <a:lnTo>
                      <a:pt x="217" y="1870"/>
                    </a:lnTo>
                    <a:lnTo>
                      <a:pt x="219" y="1874"/>
                    </a:lnTo>
                    <a:lnTo>
                      <a:pt x="141" y="2163"/>
                    </a:lnTo>
                    <a:lnTo>
                      <a:pt x="143" y="2165"/>
                    </a:lnTo>
                    <a:lnTo>
                      <a:pt x="146" y="2165"/>
                    </a:lnTo>
                    <a:lnTo>
                      <a:pt x="150" y="2167"/>
                    </a:lnTo>
                    <a:lnTo>
                      <a:pt x="152" y="2167"/>
                    </a:lnTo>
                    <a:lnTo>
                      <a:pt x="154" y="2167"/>
                    </a:lnTo>
                    <a:lnTo>
                      <a:pt x="158" y="2167"/>
                    </a:lnTo>
                    <a:lnTo>
                      <a:pt x="162" y="2171"/>
                    </a:lnTo>
                    <a:lnTo>
                      <a:pt x="166" y="2171"/>
                    </a:lnTo>
                    <a:lnTo>
                      <a:pt x="167" y="2173"/>
                    </a:lnTo>
                    <a:lnTo>
                      <a:pt x="171" y="2173"/>
                    </a:lnTo>
                    <a:lnTo>
                      <a:pt x="175" y="2175"/>
                    </a:lnTo>
                    <a:lnTo>
                      <a:pt x="181" y="2175"/>
                    </a:lnTo>
                    <a:lnTo>
                      <a:pt x="185" y="2175"/>
                    </a:lnTo>
                    <a:lnTo>
                      <a:pt x="188" y="2177"/>
                    </a:lnTo>
                    <a:lnTo>
                      <a:pt x="194" y="2180"/>
                    </a:lnTo>
                    <a:lnTo>
                      <a:pt x="198" y="2180"/>
                    </a:lnTo>
                    <a:lnTo>
                      <a:pt x="204" y="2182"/>
                    </a:lnTo>
                    <a:lnTo>
                      <a:pt x="209" y="2182"/>
                    </a:lnTo>
                    <a:lnTo>
                      <a:pt x="215" y="2184"/>
                    </a:lnTo>
                    <a:lnTo>
                      <a:pt x="219" y="2186"/>
                    </a:lnTo>
                    <a:lnTo>
                      <a:pt x="224" y="2188"/>
                    </a:lnTo>
                    <a:lnTo>
                      <a:pt x="232" y="2188"/>
                    </a:lnTo>
                    <a:lnTo>
                      <a:pt x="238" y="2190"/>
                    </a:lnTo>
                    <a:lnTo>
                      <a:pt x="243" y="2190"/>
                    </a:lnTo>
                    <a:lnTo>
                      <a:pt x="251" y="2192"/>
                    </a:lnTo>
                    <a:lnTo>
                      <a:pt x="257" y="2194"/>
                    </a:lnTo>
                    <a:lnTo>
                      <a:pt x="264" y="2194"/>
                    </a:lnTo>
                    <a:lnTo>
                      <a:pt x="270" y="2196"/>
                    </a:lnTo>
                    <a:lnTo>
                      <a:pt x="276" y="2196"/>
                    </a:lnTo>
                    <a:lnTo>
                      <a:pt x="283" y="2197"/>
                    </a:lnTo>
                    <a:lnTo>
                      <a:pt x="291" y="2199"/>
                    </a:lnTo>
                    <a:lnTo>
                      <a:pt x="297" y="2199"/>
                    </a:lnTo>
                    <a:lnTo>
                      <a:pt x="304" y="2199"/>
                    </a:lnTo>
                    <a:lnTo>
                      <a:pt x="312" y="2199"/>
                    </a:lnTo>
                    <a:lnTo>
                      <a:pt x="320" y="2201"/>
                    </a:lnTo>
                    <a:lnTo>
                      <a:pt x="325" y="2201"/>
                    </a:lnTo>
                    <a:lnTo>
                      <a:pt x="333" y="2201"/>
                    </a:lnTo>
                    <a:lnTo>
                      <a:pt x="341" y="2201"/>
                    </a:lnTo>
                    <a:lnTo>
                      <a:pt x="348" y="2201"/>
                    </a:lnTo>
                    <a:lnTo>
                      <a:pt x="356" y="2201"/>
                    </a:lnTo>
                    <a:lnTo>
                      <a:pt x="363" y="2201"/>
                    </a:lnTo>
                    <a:lnTo>
                      <a:pt x="371" y="2201"/>
                    </a:lnTo>
                    <a:lnTo>
                      <a:pt x="379" y="2201"/>
                    </a:lnTo>
                    <a:lnTo>
                      <a:pt x="386" y="2201"/>
                    </a:lnTo>
                    <a:lnTo>
                      <a:pt x="394" y="2201"/>
                    </a:lnTo>
                    <a:lnTo>
                      <a:pt x="401" y="2199"/>
                    </a:lnTo>
                    <a:lnTo>
                      <a:pt x="409" y="2199"/>
                    </a:lnTo>
                    <a:lnTo>
                      <a:pt x="415" y="2197"/>
                    </a:lnTo>
                    <a:lnTo>
                      <a:pt x="422" y="2196"/>
                    </a:lnTo>
                    <a:lnTo>
                      <a:pt x="432" y="2196"/>
                    </a:lnTo>
                    <a:lnTo>
                      <a:pt x="439" y="2194"/>
                    </a:lnTo>
                    <a:lnTo>
                      <a:pt x="447" y="2192"/>
                    </a:lnTo>
                    <a:lnTo>
                      <a:pt x="455" y="2190"/>
                    </a:lnTo>
                    <a:lnTo>
                      <a:pt x="462" y="2188"/>
                    </a:lnTo>
                    <a:lnTo>
                      <a:pt x="470" y="2188"/>
                    </a:lnTo>
                    <a:lnTo>
                      <a:pt x="476" y="2184"/>
                    </a:lnTo>
                    <a:lnTo>
                      <a:pt x="483" y="2182"/>
                    </a:lnTo>
                    <a:lnTo>
                      <a:pt x="491" y="2180"/>
                    </a:lnTo>
                    <a:lnTo>
                      <a:pt x="498" y="2175"/>
                    </a:lnTo>
                    <a:lnTo>
                      <a:pt x="504" y="2173"/>
                    </a:lnTo>
                    <a:lnTo>
                      <a:pt x="512" y="2169"/>
                    </a:lnTo>
                    <a:lnTo>
                      <a:pt x="517" y="2165"/>
                    </a:lnTo>
                    <a:lnTo>
                      <a:pt x="525" y="2161"/>
                    </a:lnTo>
                    <a:lnTo>
                      <a:pt x="531" y="2158"/>
                    </a:lnTo>
                    <a:lnTo>
                      <a:pt x="536" y="2154"/>
                    </a:lnTo>
                    <a:lnTo>
                      <a:pt x="542" y="2150"/>
                    </a:lnTo>
                    <a:lnTo>
                      <a:pt x="550" y="2146"/>
                    </a:lnTo>
                    <a:lnTo>
                      <a:pt x="555" y="2142"/>
                    </a:lnTo>
                    <a:lnTo>
                      <a:pt x="559" y="2137"/>
                    </a:lnTo>
                    <a:lnTo>
                      <a:pt x="565" y="2133"/>
                    </a:lnTo>
                    <a:lnTo>
                      <a:pt x="571" y="2129"/>
                    </a:lnTo>
                    <a:lnTo>
                      <a:pt x="576" y="2123"/>
                    </a:lnTo>
                    <a:lnTo>
                      <a:pt x="582" y="2120"/>
                    </a:lnTo>
                    <a:lnTo>
                      <a:pt x="588" y="2114"/>
                    </a:lnTo>
                    <a:lnTo>
                      <a:pt x="592" y="2110"/>
                    </a:lnTo>
                    <a:lnTo>
                      <a:pt x="595" y="2106"/>
                    </a:lnTo>
                    <a:lnTo>
                      <a:pt x="601" y="2101"/>
                    </a:lnTo>
                    <a:lnTo>
                      <a:pt x="605" y="2095"/>
                    </a:lnTo>
                    <a:lnTo>
                      <a:pt x="611" y="2091"/>
                    </a:lnTo>
                    <a:lnTo>
                      <a:pt x="614" y="2085"/>
                    </a:lnTo>
                    <a:lnTo>
                      <a:pt x="618" y="2080"/>
                    </a:lnTo>
                    <a:lnTo>
                      <a:pt x="624" y="2076"/>
                    </a:lnTo>
                    <a:lnTo>
                      <a:pt x="628" y="2070"/>
                    </a:lnTo>
                    <a:lnTo>
                      <a:pt x="632" y="2064"/>
                    </a:lnTo>
                    <a:lnTo>
                      <a:pt x="635" y="2059"/>
                    </a:lnTo>
                    <a:lnTo>
                      <a:pt x="637" y="2055"/>
                    </a:lnTo>
                    <a:lnTo>
                      <a:pt x="643" y="2049"/>
                    </a:lnTo>
                    <a:lnTo>
                      <a:pt x="645" y="2043"/>
                    </a:lnTo>
                    <a:lnTo>
                      <a:pt x="649" y="2040"/>
                    </a:lnTo>
                    <a:lnTo>
                      <a:pt x="652" y="2034"/>
                    </a:lnTo>
                    <a:lnTo>
                      <a:pt x="654" y="2030"/>
                    </a:lnTo>
                    <a:lnTo>
                      <a:pt x="658" y="2024"/>
                    </a:lnTo>
                    <a:lnTo>
                      <a:pt x="660" y="2021"/>
                    </a:lnTo>
                    <a:lnTo>
                      <a:pt x="664" y="2015"/>
                    </a:lnTo>
                    <a:lnTo>
                      <a:pt x="666" y="2011"/>
                    </a:lnTo>
                    <a:lnTo>
                      <a:pt x="668" y="2005"/>
                    </a:lnTo>
                    <a:lnTo>
                      <a:pt x="672" y="2002"/>
                    </a:lnTo>
                    <a:lnTo>
                      <a:pt x="673" y="1998"/>
                    </a:lnTo>
                    <a:lnTo>
                      <a:pt x="675" y="1992"/>
                    </a:lnTo>
                    <a:lnTo>
                      <a:pt x="677" y="1986"/>
                    </a:lnTo>
                    <a:lnTo>
                      <a:pt x="679" y="1983"/>
                    </a:lnTo>
                    <a:lnTo>
                      <a:pt x="681" y="1979"/>
                    </a:lnTo>
                    <a:lnTo>
                      <a:pt x="683" y="1975"/>
                    </a:lnTo>
                    <a:lnTo>
                      <a:pt x="685" y="1971"/>
                    </a:lnTo>
                    <a:lnTo>
                      <a:pt x="687" y="1969"/>
                    </a:lnTo>
                    <a:lnTo>
                      <a:pt x="689" y="1964"/>
                    </a:lnTo>
                    <a:lnTo>
                      <a:pt x="691" y="1962"/>
                    </a:lnTo>
                    <a:lnTo>
                      <a:pt x="692" y="1958"/>
                    </a:lnTo>
                    <a:lnTo>
                      <a:pt x="692" y="1954"/>
                    </a:lnTo>
                    <a:lnTo>
                      <a:pt x="692" y="1952"/>
                    </a:lnTo>
                    <a:lnTo>
                      <a:pt x="694" y="1950"/>
                    </a:lnTo>
                    <a:lnTo>
                      <a:pt x="696" y="1945"/>
                    </a:lnTo>
                    <a:lnTo>
                      <a:pt x="698" y="1941"/>
                    </a:lnTo>
                    <a:lnTo>
                      <a:pt x="700" y="1937"/>
                    </a:lnTo>
                    <a:lnTo>
                      <a:pt x="700" y="1935"/>
                    </a:lnTo>
                    <a:lnTo>
                      <a:pt x="700" y="1933"/>
                    </a:lnTo>
                    <a:lnTo>
                      <a:pt x="702" y="1933"/>
                    </a:lnTo>
                    <a:lnTo>
                      <a:pt x="740" y="1943"/>
                    </a:lnTo>
                    <a:lnTo>
                      <a:pt x="740" y="1943"/>
                    </a:lnTo>
                    <a:lnTo>
                      <a:pt x="738" y="1945"/>
                    </a:lnTo>
                    <a:lnTo>
                      <a:pt x="738" y="1947"/>
                    </a:lnTo>
                    <a:lnTo>
                      <a:pt x="738" y="1950"/>
                    </a:lnTo>
                    <a:lnTo>
                      <a:pt x="738" y="1954"/>
                    </a:lnTo>
                    <a:lnTo>
                      <a:pt x="738" y="1958"/>
                    </a:lnTo>
                    <a:lnTo>
                      <a:pt x="736" y="1962"/>
                    </a:lnTo>
                    <a:lnTo>
                      <a:pt x="736" y="1964"/>
                    </a:lnTo>
                    <a:lnTo>
                      <a:pt x="736" y="1967"/>
                    </a:lnTo>
                    <a:lnTo>
                      <a:pt x="736" y="1971"/>
                    </a:lnTo>
                    <a:lnTo>
                      <a:pt x="736" y="1975"/>
                    </a:lnTo>
                    <a:lnTo>
                      <a:pt x="736" y="1979"/>
                    </a:lnTo>
                    <a:lnTo>
                      <a:pt x="736" y="1983"/>
                    </a:lnTo>
                    <a:lnTo>
                      <a:pt x="736" y="1985"/>
                    </a:lnTo>
                    <a:lnTo>
                      <a:pt x="736" y="1990"/>
                    </a:lnTo>
                    <a:lnTo>
                      <a:pt x="736" y="1994"/>
                    </a:lnTo>
                    <a:lnTo>
                      <a:pt x="736" y="1998"/>
                    </a:lnTo>
                    <a:lnTo>
                      <a:pt x="736" y="2004"/>
                    </a:lnTo>
                    <a:lnTo>
                      <a:pt x="736" y="2007"/>
                    </a:lnTo>
                    <a:lnTo>
                      <a:pt x="736" y="2013"/>
                    </a:lnTo>
                    <a:lnTo>
                      <a:pt x="736" y="2015"/>
                    </a:lnTo>
                    <a:lnTo>
                      <a:pt x="736" y="2021"/>
                    </a:lnTo>
                    <a:lnTo>
                      <a:pt x="736" y="2026"/>
                    </a:lnTo>
                    <a:lnTo>
                      <a:pt x="736" y="2030"/>
                    </a:lnTo>
                    <a:lnTo>
                      <a:pt x="736" y="2036"/>
                    </a:lnTo>
                    <a:lnTo>
                      <a:pt x="736" y="2042"/>
                    </a:lnTo>
                    <a:lnTo>
                      <a:pt x="736" y="2047"/>
                    </a:lnTo>
                    <a:lnTo>
                      <a:pt x="738" y="2051"/>
                    </a:lnTo>
                    <a:lnTo>
                      <a:pt x="738" y="2057"/>
                    </a:lnTo>
                    <a:lnTo>
                      <a:pt x="738" y="2062"/>
                    </a:lnTo>
                    <a:lnTo>
                      <a:pt x="740" y="2066"/>
                    </a:lnTo>
                    <a:lnTo>
                      <a:pt x="740" y="2072"/>
                    </a:lnTo>
                    <a:lnTo>
                      <a:pt x="742" y="2078"/>
                    </a:lnTo>
                    <a:lnTo>
                      <a:pt x="744" y="2083"/>
                    </a:lnTo>
                    <a:lnTo>
                      <a:pt x="744" y="2091"/>
                    </a:lnTo>
                    <a:lnTo>
                      <a:pt x="746" y="2095"/>
                    </a:lnTo>
                    <a:lnTo>
                      <a:pt x="748" y="2101"/>
                    </a:lnTo>
                    <a:lnTo>
                      <a:pt x="748" y="2106"/>
                    </a:lnTo>
                    <a:lnTo>
                      <a:pt x="751" y="2110"/>
                    </a:lnTo>
                    <a:lnTo>
                      <a:pt x="753" y="2118"/>
                    </a:lnTo>
                    <a:lnTo>
                      <a:pt x="753" y="2123"/>
                    </a:lnTo>
                    <a:lnTo>
                      <a:pt x="757" y="2129"/>
                    </a:lnTo>
                    <a:lnTo>
                      <a:pt x="759" y="2135"/>
                    </a:lnTo>
                    <a:lnTo>
                      <a:pt x="761" y="2139"/>
                    </a:lnTo>
                    <a:lnTo>
                      <a:pt x="765" y="2144"/>
                    </a:lnTo>
                    <a:lnTo>
                      <a:pt x="767" y="2150"/>
                    </a:lnTo>
                    <a:lnTo>
                      <a:pt x="769" y="2156"/>
                    </a:lnTo>
                    <a:lnTo>
                      <a:pt x="772" y="2159"/>
                    </a:lnTo>
                    <a:lnTo>
                      <a:pt x="776" y="2165"/>
                    </a:lnTo>
                    <a:lnTo>
                      <a:pt x="780" y="2171"/>
                    </a:lnTo>
                    <a:lnTo>
                      <a:pt x="782" y="2175"/>
                    </a:lnTo>
                    <a:lnTo>
                      <a:pt x="786" y="2180"/>
                    </a:lnTo>
                    <a:lnTo>
                      <a:pt x="789" y="2186"/>
                    </a:lnTo>
                    <a:lnTo>
                      <a:pt x="795" y="2190"/>
                    </a:lnTo>
                    <a:lnTo>
                      <a:pt x="799" y="2196"/>
                    </a:lnTo>
                    <a:lnTo>
                      <a:pt x="805" y="2201"/>
                    </a:lnTo>
                    <a:lnTo>
                      <a:pt x="808" y="2205"/>
                    </a:lnTo>
                    <a:lnTo>
                      <a:pt x="814" y="2209"/>
                    </a:lnTo>
                    <a:lnTo>
                      <a:pt x="818" y="2213"/>
                    </a:lnTo>
                    <a:lnTo>
                      <a:pt x="824" y="2216"/>
                    </a:lnTo>
                    <a:lnTo>
                      <a:pt x="828" y="2222"/>
                    </a:lnTo>
                    <a:lnTo>
                      <a:pt x="833" y="2224"/>
                    </a:lnTo>
                    <a:lnTo>
                      <a:pt x="839" y="2228"/>
                    </a:lnTo>
                    <a:lnTo>
                      <a:pt x="845" y="2232"/>
                    </a:lnTo>
                    <a:lnTo>
                      <a:pt x="848" y="2235"/>
                    </a:lnTo>
                    <a:lnTo>
                      <a:pt x="854" y="2239"/>
                    </a:lnTo>
                    <a:lnTo>
                      <a:pt x="858" y="2243"/>
                    </a:lnTo>
                    <a:lnTo>
                      <a:pt x="864" y="2245"/>
                    </a:lnTo>
                    <a:lnTo>
                      <a:pt x="867" y="2249"/>
                    </a:lnTo>
                    <a:lnTo>
                      <a:pt x="873" y="2253"/>
                    </a:lnTo>
                    <a:lnTo>
                      <a:pt x="877" y="2256"/>
                    </a:lnTo>
                    <a:lnTo>
                      <a:pt x="883" y="2258"/>
                    </a:lnTo>
                    <a:lnTo>
                      <a:pt x="890" y="2260"/>
                    </a:lnTo>
                    <a:lnTo>
                      <a:pt x="896" y="2264"/>
                    </a:lnTo>
                    <a:lnTo>
                      <a:pt x="900" y="2266"/>
                    </a:lnTo>
                    <a:lnTo>
                      <a:pt x="904" y="2268"/>
                    </a:lnTo>
                    <a:lnTo>
                      <a:pt x="907" y="2270"/>
                    </a:lnTo>
                    <a:lnTo>
                      <a:pt x="913" y="2273"/>
                    </a:lnTo>
                    <a:lnTo>
                      <a:pt x="919" y="2275"/>
                    </a:lnTo>
                    <a:lnTo>
                      <a:pt x="925" y="2277"/>
                    </a:lnTo>
                    <a:lnTo>
                      <a:pt x="928" y="2279"/>
                    </a:lnTo>
                    <a:lnTo>
                      <a:pt x="934" y="2281"/>
                    </a:lnTo>
                    <a:lnTo>
                      <a:pt x="938" y="2283"/>
                    </a:lnTo>
                    <a:lnTo>
                      <a:pt x="942" y="2285"/>
                    </a:lnTo>
                    <a:lnTo>
                      <a:pt x="947" y="2287"/>
                    </a:lnTo>
                    <a:lnTo>
                      <a:pt x="951" y="2289"/>
                    </a:lnTo>
                    <a:lnTo>
                      <a:pt x="955" y="2289"/>
                    </a:lnTo>
                    <a:lnTo>
                      <a:pt x="961" y="2291"/>
                    </a:lnTo>
                    <a:lnTo>
                      <a:pt x="964" y="2291"/>
                    </a:lnTo>
                    <a:lnTo>
                      <a:pt x="968" y="2294"/>
                    </a:lnTo>
                    <a:lnTo>
                      <a:pt x="972" y="2294"/>
                    </a:lnTo>
                    <a:lnTo>
                      <a:pt x="978" y="2294"/>
                    </a:lnTo>
                    <a:lnTo>
                      <a:pt x="982" y="2296"/>
                    </a:lnTo>
                    <a:lnTo>
                      <a:pt x="985" y="2296"/>
                    </a:lnTo>
                    <a:lnTo>
                      <a:pt x="989" y="2296"/>
                    </a:lnTo>
                    <a:lnTo>
                      <a:pt x="993" y="2298"/>
                    </a:lnTo>
                    <a:lnTo>
                      <a:pt x="997" y="2298"/>
                    </a:lnTo>
                    <a:lnTo>
                      <a:pt x="1001" y="2298"/>
                    </a:lnTo>
                    <a:lnTo>
                      <a:pt x="1004" y="2298"/>
                    </a:lnTo>
                    <a:lnTo>
                      <a:pt x="1008" y="2300"/>
                    </a:lnTo>
                    <a:lnTo>
                      <a:pt x="1010" y="2300"/>
                    </a:lnTo>
                    <a:lnTo>
                      <a:pt x="1014" y="2300"/>
                    </a:lnTo>
                    <a:lnTo>
                      <a:pt x="1016" y="2300"/>
                    </a:lnTo>
                    <a:lnTo>
                      <a:pt x="1020" y="2300"/>
                    </a:lnTo>
                    <a:lnTo>
                      <a:pt x="1022" y="2300"/>
                    </a:lnTo>
                    <a:lnTo>
                      <a:pt x="1025" y="2302"/>
                    </a:lnTo>
                    <a:lnTo>
                      <a:pt x="1029" y="2300"/>
                    </a:lnTo>
                    <a:lnTo>
                      <a:pt x="1035" y="2300"/>
                    </a:lnTo>
                    <a:lnTo>
                      <a:pt x="1039" y="2298"/>
                    </a:lnTo>
                    <a:lnTo>
                      <a:pt x="1042" y="2298"/>
                    </a:lnTo>
                    <a:lnTo>
                      <a:pt x="1044" y="2296"/>
                    </a:lnTo>
                    <a:lnTo>
                      <a:pt x="1048" y="2296"/>
                    </a:lnTo>
                    <a:lnTo>
                      <a:pt x="1048" y="2294"/>
                    </a:lnTo>
                    <a:lnTo>
                      <a:pt x="1050" y="2294"/>
                    </a:lnTo>
                    <a:lnTo>
                      <a:pt x="1246" y="1334"/>
                    </a:lnTo>
                    <a:lnTo>
                      <a:pt x="1246" y="1333"/>
                    </a:lnTo>
                    <a:lnTo>
                      <a:pt x="1248" y="1331"/>
                    </a:lnTo>
                    <a:lnTo>
                      <a:pt x="1250" y="1327"/>
                    </a:lnTo>
                    <a:lnTo>
                      <a:pt x="1252" y="1325"/>
                    </a:lnTo>
                    <a:lnTo>
                      <a:pt x="1252" y="1323"/>
                    </a:lnTo>
                    <a:lnTo>
                      <a:pt x="1254" y="1319"/>
                    </a:lnTo>
                    <a:lnTo>
                      <a:pt x="1256" y="1315"/>
                    </a:lnTo>
                    <a:lnTo>
                      <a:pt x="1259" y="1312"/>
                    </a:lnTo>
                    <a:lnTo>
                      <a:pt x="1259" y="1306"/>
                    </a:lnTo>
                    <a:lnTo>
                      <a:pt x="1263" y="1302"/>
                    </a:lnTo>
                    <a:lnTo>
                      <a:pt x="1265" y="1296"/>
                    </a:lnTo>
                    <a:lnTo>
                      <a:pt x="1269" y="1293"/>
                    </a:lnTo>
                    <a:lnTo>
                      <a:pt x="1271" y="1285"/>
                    </a:lnTo>
                    <a:lnTo>
                      <a:pt x="1275" y="1281"/>
                    </a:lnTo>
                    <a:lnTo>
                      <a:pt x="1276" y="1274"/>
                    </a:lnTo>
                    <a:lnTo>
                      <a:pt x="1280" y="1266"/>
                    </a:lnTo>
                    <a:lnTo>
                      <a:pt x="1284" y="1258"/>
                    </a:lnTo>
                    <a:lnTo>
                      <a:pt x="1288" y="1249"/>
                    </a:lnTo>
                    <a:lnTo>
                      <a:pt x="1290" y="1241"/>
                    </a:lnTo>
                    <a:lnTo>
                      <a:pt x="1294" y="1234"/>
                    </a:lnTo>
                    <a:lnTo>
                      <a:pt x="1297" y="1224"/>
                    </a:lnTo>
                    <a:lnTo>
                      <a:pt x="1301" y="1217"/>
                    </a:lnTo>
                    <a:lnTo>
                      <a:pt x="1305" y="1207"/>
                    </a:lnTo>
                    <a:lnTo>
                      <a:pt x="1309" y="1198"/>
                    </a:lnTo>
                    <a:lnTo>
                      <a:pt x="1313" y="1188"/>
                    </a:lnTo>
                    <a:lnTo>
                      <a:pt x="1316" y="1177"/>
                    </a:lnTo>
                    <a:lnTo>
                      <a:pt x="1320" y="1165"/>
                    </a:lnTo>
                    <a:lnTo>
                      <a:pt x="1324" y="1154"/>
                    </a:lnTo>
                    <a:lnTo>
                      <a:pt x="1330" y="1144"/>
                    </a:lnTo>
                    <a:lnTo>
                      <a:pt x="1334" y="1133"/>
                    </a:lnTo>
                    <a:lnTo>
                      <a:pt x="1337" y="1122"/>
                    </a:lnTo>
                    <a:lnTo>
                      <a:pt x="1339" y="1108"/>
                    </a:lnTo>
                    <a:lnTo>
                      <a:pt x="1345" y="1097"/>
                    </a:lnTo>
                    <a:lnTo>
                      <a:pt x="1349" y="1084"/>
                    </a:lnTo>
                    <a:lnTo>
                      <a:pt x="1353" y="1070"/>
                    </a:lnTo>
                    <a:lnTo>
                      <a:pt x="1354" y="1059"/>
                    </a:lnTo>
                    <a:lnTo>
                      <a:pt x="1358" y="1044"/>
                    </a:lnTo>
                    <a:lnTo>
                      <a:pt x="1362" y="1032"/>
                    </a:lnTo>
                    <a:lnTo>
                      <a:pt x="1366" y="1017"/>
                    </a:lnTo>
                    <a:lnTo>
                      <a:pt x="1370" y="1004"/>
                    </a:lnTo>
                    <a:lnTo>
                      <a:pt x="1372" y="988"/>
                    </a:lnTo>
                    <a:lnTo>
                      <a:pt x="1375" y="975"/>
                    </a:lnTo>
                    <a:lnTo>
                      <a:pt x="1377" y="960"/>
                    </a:lnTo>
                    <a:lnTo>
                      <a:pt x="1381" y="947"/>
                    </a:lnTo>
                    <a:lnTo>
                      <a:pt x="1383" y="931"/>
                    </a:lnTo>
                    <a:lnTo>
                      <a:pt x="1387" y="916"/>
                    </a:lnTo>
                    <a:lnTo>
                      <a:pt x="1389" y="901"/>
                    </a:lnTo>
                    <a:lnTo>
                      <a:pt x="1391" y="886"/>
                    </a:lnTo>
                    <a:lnTo>
                      <a:pt x="1392" y="871"/>
                    </a:lnTo>
                    <a:lnTo>
                      <a:pt x="1394" y="855"/>
                    </a:lnTo>
                    <a:lnTo>
                      <a:pt x="1396" y="838"/>
                    </a:lnTo>
                    <a:lnTo>
                      <a:pt x="1398" y="823"/>
                    </a:lnTo>
                    <a:lnTo>
                      <a:pt x="1398" y="806"/>
                    </a:lnTo>
                    <a:lnTo>
                      <a:pt x="1400" y="791"/>
                    </a:lnTo>
                    <a:lnTo>
                      <a:pt x="1402" y="774"/>
                    </a:lnTo>
                    <a:lnTo>
                      <a:pt x="1402" y="757"/>
                    </a:lnTo>
                    <a:lnTo>
                      <a:pt x="1402" y="741"/>
                    </a:lnTo>
                    <a:lnTo>
                      <a:pt x="1402" y="724"/>
                    </a:lnTo>
                    <a:lnTo>
                      <a:pt x="1402" y="705"/>
                    </a:lnTo>
                    <a:lnTo>
                      <a:pt x="1402" y="690"/>
                    </a:lnTo>
                    <a:lnTo>
                      <a:pt x="1400" y="673"/>
                    </a:lnTo>
                    <a:lnTo>
                      <a:pt x="1400" y="656"/>
                    </a:lnTo>
                    <a:lnTo>
                      <a:pt x="1398" y="654"/>
                    </a:lnTo>
                    <a:lnTo>
                      <a:pt x="1398" y="652"/>
                    </a:lnTo>
                    <a:lnTo>
                      <a:pt x="1398" y="648"/>
                    </a:lnTo>
                    <a:lnTo>
                      <a:pt x="1398" y="644"/>
                    </a:lnTo>
                    <a:lnTo>
                      <a:pt x="1398" y="643"/>
                    </a:lnTo>
                    <a:lnTo>
                      <a:pt x="1398" y="639"/>
                    </a:lnTo>
                    <a:lnTo>
                      <a:pt x="1396" y="637"/>
                    </a:lnTo>
                    <a:lnTo>
                      <a:pt x="1396" y="633"/>
                    </a:lnTo>
                    <a:lnTo>
                      <a:pt x="1396" y="631"/>
                    </a:lnTo>
                    <a:lnTo>
                      <a:pt x="1396" y="627"/>
                    </a:lnTo>
                    <a:lnTo>
                      <a:pt x="1396" y="623"/>
                    </a:lnTo>
                    <a:lnTo>
                      <a:pt x="1394" y="620"/>
                    </a:lnTo>
                    <a:lnTo>
                      <a:pt x="1394" y="618"/>
                    </a:lnTo>
                    <a:lnTo>
                      <a:pt x="1394" y="616"/>
                    </a:lnTo>
                    <a:lnTo>
                      <a:pt x="1392" y="612"/>
                    </a:lnTo>
                    <a:lnTo>
                      <a:pt x="1392" y="610"/>
                    </a:lnTo>
                    <a:lnTo>
                      <a:pt x="1392" y="608"/>
                    </a:lnTo>
                    <a:lnTo>
                      <a:pt x="1391" y="604"/>
                    </a:lnTo>
                    <a:lnTo>
                      <a:pt x="1391" y="603"/>
                    </a:lnTo>
                    <a:lnTo>
                      <a:pt x="1391" y="599"/>
                    </a:lnTo>
                    <a:lnTo>
                      <a:pt x="1389" y="597"/>
                    </a:lnTo>
                    <a:lnTo>
                      <a:pt x="1389" y="593"/>
                    </a:lnTo>
                    <a:lnTo>
                      <a:pt x="1389" y="589"/>
                    </a:lnTo>
                    <a:lnTo>
                      <a:pt x="1389" y="587"/>
                    </a:lnTo>
                    <a:lnTo>
                      <a:pt x="1387" y="585"/>
                    </a:lnTo>
                    <a:lnTo>
                      <a:pt x="1385" y="582"/>
                    </a:lnTo>
                    <a:lnTo>
                      <a:pt x="1385" y="580"/>
                    </a:lnTo>
                    <a:lnTo>
                      <a:pt x="1383" y="578"/>
                    </a:lnTo>
                    <a:lnTo>
                      <a:pt x="1383" y="572"/>
                    </a:lnTo>
                    <a:lnTo>
                      <a:pt x="1381" y="568"/>
                    </a:lnTo>
                    <a:lnTo>
                      <a:pt x="1377" y="563"/>
                    </a:lnTo>
                    <a:lnTo>
                      <a:pt x="1375" y="557"/>
                    </a:lnTo>
                    <a:lnTo>
                      <a:pt x="1373" y="553"/>
                    </a:lnTo>
                    <a:lnTo>
                      <a:pt x="1370" y="547"/>
                    </a:lnTo>
                    <a:lnTo>
                      <a:pt x="1366" y="544"/>
                    </a:lnTo>
                    <a:lnTo>
                      <a:pt x="1364" y="540"/>
                    </a:lnTo>
                    <a:lnTo>
                      <a:pt x="1360" y="536"/>
                    </a:lnTo>
                    <a:lnTo>
                      <a:pt x="1356" y="532"/>
                    </a:lnTo>
                    <a:lnTo>
                      <a:pt x="1353" y="528"/>
                    </a:lnTo>
                    <a:lnTo>
                      <a:pt x="1349" y="525"/>
                    </a:lnTo>
                    <a:lnTo>
                      <a:pt x="1345" y="523"/>
                    </a:lnTo>
                    <a:lnTo>
                      <a:pt x="1339" y="521"/>
                    </a:lnTo>
                    <a:lnTo>
                      <a:pt x="1335" y="517"/>
                    </a:lnTo>
                    <a:lnTo>
                      <a:pt x="1332" y="515"/>
                    </a:lnTo>
                    <a:lnTo>
                      <a:pt x="1326" y="515"/>
                    </a:lnTo>
                    <a:lnTo>
                      <a:pt x="1322" y="513"/>
                    </a:lnTo>
                    <a:lnTo>
                      <a:pt x="1318" y="511"/>
                    </a:lnTo>
                    <a:lnTo>
                      <a:pt x="1316" y="511"/>
                    </a:lnTo>
                    <a:lnTo>
                      <a:pt x="1313" y="511"/>
                    </a:lnTo>
                    <a:lnTo>
                      <a:pt x="1311" y="511"/>
                    </a:lnTo>
                    <a:lnTo>
                      <a:pt x="1309" y="509"/>
                    </a:lnTo>
                    <a:lnTo>
                      <a:pt x="1305" y="509"/>
                    </a:lnTo>
                    <a:lnTo>
                      <a:pt x="1303" y="509"/>
                    </a:lnTo>
                    <a:lnTo>
                      <a:pt x="1301" y="509"/>
                    </a:lnTo>
                    <a:lnTo>
                      <a:pt x="1297" y="509"/>
                    </a:lnTo>
                    <a:lnTo>
                      <a:pt x="1295" y="509"/>
                    </a:lnTo>
                    <a:lnTo>
                      <a:pt x="1292" y="509"/>
                    </a:lnTo>
                    <a:lnTo>
                      <a:pt x="1290" y="509"/>
                    </a:lnTo>
                    <a:lnTo>
                      <a:pt x="1284" y="509"/>
                    </a:lnTo>
                    <a:lnTo>
                      <a:pt x="1280" y="509"/>
                    </a:lnTo>
                    <a:lnTo>
                      <a:pt x="1275" y="509"/>
                    </a:lnTo>
                    <a:lnTo>
                      <a:pt x="1269" y="509"/>
                    </a:lnTo>
                    <a:lnTo>
                      <a:pt x="1265" y="509"/>
                    </a:lnTo>
                    <a:lnTo>
                      <a:pt x="1259" y="509"/>
                    </a:lnTo>
                    <a:lnTo>
                      <a:pt x="1256" y="511"/>
                    </a:lnTo>
                    <a:lnTo>
                      <a:pt x="1252" y="511"/>
                    </a:lnTo>
                    <a:lnTo>
                      <a:pt x="1246" y="515"/>
                    </a:lnTo>
                    <a:lnTo>
                      <a:pt x="1242" y="515"/>
                    </a:lnTo>
                    <a:lnTo>
                      <a:pt x="1238" y="517"/>
                    </a:lnTo>
                    <a:lnTo>
                      <a:pt x="1235" y="521"/>
                    </a:lnTo>
                    <a:lnTo>
                      <a:pt x="1231" y="523"/>
                    </a:lnTo>
                    <a:lnTo>
                      <a:pt x="1229" y="525"/>
                    </a:lnTo>
                    <a:lnTo>
                      <a:pt x="1225" y="527"/>
                    </a:lnTo>
                    <a:lnTo>
                      <a:pt x="1221" y="530"/>
                    </a:lnTo>
                    <a:lnTo>
                      <a:pt x="1219" y="532"/>
                    </a:lnTo>
                    <a:lnTo>
                      <a:pt x="1216" y="538"/>
                    </a:lnTo>
                    <a:lnTo>
                      <a:pt x="1214" y="542"/>
                    </a:lnTo>
                    <a:lnTo>
                      <a:pt x="1212" y="546"/>
                    </a:lnTo>
                    <a:lnTo>
                      <a:pt x="1210" y="549"/>
                    </a:lnTo>
                    <a:lnTo>
                      <a:pt x="1208" y="555"/>
                    </a:lnTo>
                    <a:lnTo>
                      <a:pt x="1208" y="557"/>
                    </a:lnTo>
                    <a:lnTo>
                      <a:pt x="1206" y="559"/>
                    </a:lnTo>
                    <a:lnTo>
                      <a:pt x="1204" y="561"/>
                    </a:lnTo>
                    <a:lnTo>
                      <a:pt x="1204" y="565"/>
                    </a:lnTo>
                    <a:lnTo>
                      <a:pt x="1204" y="566"/>
                    </a:lnTo>
                    <a:lnTo>
                      <a:pt x="1204" y="570"/>
                    </a:lnTo>
                    <a:lnTo>
                      <a:pt x="1204" y="572"/>
                    </a:lnTo>
                    <a:lnTo>
                      <a:pt x="1204" y="576"/>
                    </a:lnTo>
                    <a:lnTo>
                      <a:pt x="1139" y="895"/>
                    </a:lnTo>
                    <a:lnTo>
                      <a:pt x="1136" y="893"/>
                    </a:lnTo>
                    <a:lnTo>
                      <a:pt x="1132" y="892"/>
                    </a:lnTo>
                    <a:lnTo>
                      <a:pt x="1126" y="888"/>
                    </a:lnTo>
                    <a:lnTo>
                      <a:pt x="1122" y="886"/>
                    </a:lnTo>
                    <a:lnTo>
                      <a:pt x="1117" y="884"/>
                    </a:lnTo>
                    <a:lnTo>
                      <a:pt x="1113" y="880"/>
                    </a:lnTo>
                    <a:lnTo>
                      <a:pt x="1107" y="878"/>
                    </a:lnTo>
                    <a:lnTo>
                      <a:pt x="1105" y="876"/>
                    </a:lnTo>
                    <a:lnTo>
                      <a:pt x="1227" y="316"/>
                    </a:lnTo>
                    <a:lnTo>
                      <a:pt x="1227" y="312"/>
                    </a:lnTo>
                    <a:lnTo>
                      <a:pt x="1227" y="308"/>
                    </a:lnTo>
                    <a:lnTo>
                      <a:pt x="1229" y="306"/>
                    </a:lnTo>
                    <a:lnTo>
                      <a:pt x="1229" y="304"/>
                    </a:lnTo>
                    <a:lnTo>
                      <a:pt x="1229" y="300"/>
                    </a:lnTo>
                    <a:lnTo>
                      <a:pt x="1229" y="298"/>
                    </a:lnTo>
                    <a:lnTo>
                      <a:pt x="1229" y="295"/>
                    </a:lnTo>
                    <a:lnTo>
                      <a:pt x="1229" y="293"/>
                    </a:lnTo>
                    <a:lnTo>
                      <a:pt x="1229" y="291"/>
                    </a:lnTo>
                    <a:lnTo>
                      <a:pt x="1229" y="287"/>
                    </a:lnTo>
                    <a:lnTo>
                      <a:pt x="1229" y="285"/>
                    </a:lnTo>
                    <a:lnTo>
                      <a:pt x="1229" y="283"/>
                    </a:lnTo>
                    <a:lnTo>
                      <a:pt x="1229" y="278"/>
                    </a:lnTo>
                    <a:lnTo>
                      <a:pt x="1227" y="272"/>
                    </a:lnTo>
                    <a:lnTo>
                      <a:pt x="1225" y="268"/>
                    </a:lnTo>
                    <a:lnTo>
                      <a:pt x="1225" y="262"/>
                    </a:lnTo>
                    <a:lnTo>
                      <a:pt x="1223" y="257"/>
                    </a:lnTo>
                    <a:lnTo>
                      <a:pt x="1221" y="253"/>
                    </a:lnTo>
                    <a:lnTo>
                      <a:pt x="1219" y="247"/>
                    </a:lnTo>
                    <a:lnTo>
                      <a:pt x="1217" y="243"/>
                    </a:lnTo>
                    <a:lnTo>
                      <a:pt x="1216" y="240"/>
                    </a:lnTo>
                    <a:lnTo>
                      <a:pt x="1214" y="236"/>
                    </a:lnTo>
                    <a:lnTo>
                      <a:pt x="1210" y="232"/>
                    </a:lnTo>
                    <a:lnTo>
                      <a:pt x="1206" y="226"/>
                    </a:lnTo>
                    <a:lnTo>
                      <a:pt x="1202" y="222"/>
                    </a:lnTo>
                    <a:lnTo>
                      <a:pt x="1200" y="219"/>
                    </a:lnTo>
                    <a:lnTo>
                      <a:pt x="1197" y="215"/>
                    </a:lnTo>
                    <a:lnTo>
                      <a:pt x="1193" y="211"/>
                    </a:lnTo>
                    <a:lnTo>
                      <a:pt x="1189" y="207"/>
                    </a:lnTo>
                    <a:lnTo>
                      <a:pt x="1185" y="205"/>
                    </a:lnTo>
                    <a:lnTo>
                      <a:pt x="1179" y="203"/>
                    </a:lnTo>
                    <a:lnTo>
                      <a:pt x="1176" y="200"/>
                    </a:lnTo>
                    <a:lnTo>
                      <a:pt x="1172" y="198"/>
                    </a:lnTo>
                    <a:lnTo>
                      <a:pt x="1166" y="194"/>
                    </a:lnTo>
                    <a:lnTo>
                      <a:pt x="1160" y="192"/>
                    </a:lnTo>
                    <a:lnTo>
                      <a:pt x="1157" y="192"/>
                    </a:lnTo>
                    <a:lnTo>
                      <a:pt x="1151" y="190"/>
                    </a:lnTo>
                    <a:lnTo>
                      <a:pt x="1147" y="190"/>
                    </a:lnTo>
                    <a:lnTo>
                      <a:pt x="1143" y="188"/>
                    </a:lnTo>
                    <a:lnTo>
                      <a:pt x="1141" y="186"/>
                    </a:lnTo>
                    <a:lnTo>
                      <a:pt x="1138" y="186"/>
                    </a:lnTo>
                    <a:lnTo>
                      <a:pt x="1136" y="186"/>
                    </a:lnTo>
                    <a:lnTo>
                      <a:pt x="1134" y="186"/>
                    </a:lnTo>
                    <a:lnTo>
                      <a:pt x="1130" y="186"/>
                    </a:lnTo>
                    <a:lnTo>
                      <a:pt x="1128" y="186"/>
                    </a:lnTo>
                    <a:lnTo>
                      <a:pt x="1124" y="186"/>
                    </a:lnTo>
                    <a:lnTo>
                      <a:pt x="1122" y="186"/>
                    </a:lnTo>
                    <a:lnTo>
                      <a:pt x="1120" y="186"/>
                    </a:lnTo>
                    <a:lnTo>
                      <a:pt x="1117" y="186"/>
                    </a:lnTo>
                    <a:lnTo>
                      <a:pt x="1115" y="186"/>
                    </a:lnTo>
                    <a:lnTo>
                      <a:pt x="1109" y="186"/>
                    </a:lnTo>
                    <a:lnTo>
                      <a:pt x="1105" y="188"/>
                    </a:lnTo>
                    <a:lnTo>
                      <a:pt x="1100" y="188"/>
                    </a:lnTo>
                    <a:lnTo>
                      <a:pt x="1094" y="190"/>
                    </a:lnTo>
                    <a:lnTo>
                      <a:pt x="1090" y="192"/>
                    </a:lnTo>
                    <a:lnTo>
                      <a:pt x="1086" y="192"/>
                    </a:lnTo>
                    <a:lnTo>
                      <a:pt x="1081" y="194"/>
                    </a:lnTo>
                    <a:lnTo>
                      <a:pt x="1077" y="198"/>
                    </a:lnTo>
                    <a:lnTo>
                      <a:pt x="1073" y="200"/>
                    </a:lnTo>
                    <a:lnTo>
                      <a:pt x="1067" y="203"/>
                    </a:lnTo>
                    <a:lnTo>
                      <a:pt x="1063" y="205"/>
                    </a:lnTo>
                    <a:lnTo>
                      <a:pt x="1058" y="207"/>
                    </a:lnTo>
                    <a:lnTo>
                      <a:pt x="1054" y="211"/>
                    </a:lnTo>
                    <a:lnTo>
                      <a:pt x="1050" y="215"/>
                    </a:lnTo>
                    <a:lnTo>
                      <a:pt x="1048" y="219"/>
                    </a:lnTo>
                    <a:lnTo>
                      <a:pt x="1044" y="222"/>
                    </a:lnTo>
                    <a:lnTo>
                      <a:pt x="1041" y="226"/>
                    </a:lnTo>
                    <a:lnTo>
                      <a:pt x="1039" y="232"/>
                    </a:lnTo>
                    <a:lnTo>
                      <a:pt x="1035" y="234"/>
                    </a:lnTo>
                    <a:lnTo>
                      <a:pt x="1033" y="240"/>
                    </a:lnTo>
                    <a:lnTo>
                      <a:pt x="1029" y="243"/>
                    </a:lnTo>
                    <a:lnTo>
                      <a:pt x="1027" y="249"/>
                    </a:lnTo>
                    <a:lnTo>
                      <a:pt x="1025" y="253"/>
                    </a:lnTo>
                    <a:lnTo>
                      <a:pt x="1023" y="259"/>
                    </a:lnTo>
                    <a:lnTo>
                      <a:pt x="1022" y="260"/>
                    </a:lnTo>
                    <a:lnTo>
                      <a:pt x="1022" y="264"/>
                    </a:lnTo>
                    <a:lnTo>
                      <a:pt x="1022" y="266"/>
                    </a:lnTo>
                    <a:lnTo>
                      <a:pt x="1022" y="270"/>
                    </a:lnTo>
                    <a:lnTo>
                      <a:pt x="919" y="730"/>
                    </a:lnTo>
                    <a:lnTo>
                      <a:pt x="915" y="728"/>
                    </a:lnTo>
                    <a:lnTo>
                      <a:pt x="913" y="726"/>
                    </a:lnTo>
                    <a:lnTo>
                      <a:pt x="907" y="724"/>
                    </a:lnTo>
                    <a:lnTo>
                      <a:pt x="905" y="720"/>
                    </a:lnTo>
                    <a:lnTo>
                      <a:pt x="904" y="719"/>
                    </a:lnTo>
                    <a:lnTo>
                      <a:pt x="900" y="717"/>
                    </a:lnTo>
                    <a:lnTo>
                      <a:pt x="896" y="713"/>
                    </a:lnTo>
                    <a:lnTo>
                      <a:pt x="892" y="713"/>
                    </a:lnTo>
                    <a:lnTo>
                      <a:pt x="1022" y="129"/>
                    </a:lnTo>
                    <a:lnTo>
                      <a:pt x="1022" y="125"/>
                    </a:lnTo>
                    <a:lnTo>
                      <a:pt x="1022" y="124"/>
                    </a:lnTo>
                    <a:lnTo>
                      <a:pt x="1022" y="120"/>
                    </a:lnTo>
                    <a:lnTo>
                      <a:pt x="1022" y="118"/>
                    </a:lnTo>
                    <a:lnTo>
                      <a:pt x="1022" y="114"/>
                    </a:lnTo>
                    <a:lnTo>
                      <a:pt x="1022" y="112"/>
                    </a:lnTo>
                    <a:lnTo>
                      <a:pt x="1022" y="110"/>
                    </a:lnTo>
                    <a:lnTo>
                      <a:pt x="1022" y="106"/>
                    </a:lnTo>
                    <a:lnTo>
                      <a:pt x="1022" y="105"/>
                    </a:lnTo>
                    <a:lnTo>
                      <a:pt x="1022" y="103"/>
                    </a:lnTo>
                    <a:lnTo>
                      <a:pt x="1022" y="99"/>
                    </a:lnTo>
                    <a:lnTo>
                      <a:pt x="1022" y="97"/>
                    </a:lnTo>
                    <a:lnTo>
                      <a:pt x="1022" y="91"/>
                    </a:lnTo>
                    <a:lnTo>
                      <a:pt x="1022" y="86"/>
                    </a:lnTo>
                    <a:lnTo>
                      <a:pt x="1020" y="82"/>
                    </a:lnTo>
                    <a:lnTo>
                      <a:pt x="1018" y="76"/>
                    </a:lnTo>
                    <a:lnTo>
                      <a:pt x="1016" y="70"/>
                    </a:lnTo>
                    <a:lnTo>
                      <a:pt x="1014" y="67"/>
                    </a:lnTo>
                    <a:lnTo>
                      <a:pt x="1012" y="61"/>
                    </a:lnTo>
                    <a:lnTo>
                      <a:pt x="1010" y="57"/>
                    </a:lnTo>
                    <a:lnTo>
                      <a:pt x="1008" y="53"/>
                    </a:lnTo>
                    <a:lnTo>
                      <a:pt x="1006" y="48"/>
                    </a:lnTo>
                    <a:lnTo>
                      <a:pt x="1004" y="44"/>
                    </a:lnTo>
                    <a:lnTo>
                      <a:pt x="1001" y="40"/>
                    </a:lnTo>
                    <a:lnTo>
                      <a:pt x="997" y="36"/>
                    </a:lnTo>
                    <a:lnTo>
                      <a:pt x="993" y="32"/>
                    </a:lnTo>
                    <a:lnTo>
                      <a:pt x="991" y="29"/>
                    </a:lnTo>
                    <a:lnTo>
                      <a:pt x="985" y="25"/>
                    </a:lnTo>
                    <a:lnTo>
                      <a:pt x="983" y="23"/>
                    </a:lnTo>
                    <a:lnTo>
                      <a:pt x="978" y="19"/>
                    </a:lnTo>
                    <a:lnTo>
                      <a:pt x="972" y="17"/>
                    </a:lnTo>
                    <a:lnTo>
                      <a:pt x="968" y="13"/>
                    </a:lnTo>
                    <a:lnTo>
                      <a:pt x="964" y="11"/>
                    </a:lnTo>
                    <a:lnTo>
                      <a:pt x="961" y="10"/>
                    </a:lnTo>
                    <a:lnTo>
                      <a:pt x="955" y="6"/>
                    </a:lnTo>
                    <a:lnTo>
                      <a:pt x="949" y="6"/>
                    </a:lnTo>
                    <a:lnTo>
                      <a:pt x="944" y="4"/>
                    </a:lnTo>
                    <a:lnTo>
                      <a:pt x="940" y="4"/>
                    </a:lnTo>
                    <a:lnTo>
                      <a:pt x="936" y="2"/>
                    </a:lnTo>
                    <a:lnTo>
                      <a:pt x="934" y="2"/>
                    </a:lnTo>
                    <a:lnTo>
                      <a:pt x="932" y="0"/>
                    </a:lnTo>
                    <a:lnTo>
                      <a:pt x="928" y="0"/>
                    </a:lnTo>
                    <a:lnTo>
                      <a:pt x="926" y="0"/>
                    </a:lnTo>
                    <a:lnTo>
                      <a:pt x="925" y="0"/>
                    </a:lnTo>
                    <a:lnTo>
                      <a:pt x="921" y="0"/>
                    </a:lnTo>
                    <a:lnTo>
                      <a:pt x="919" y="0"/>
                    </a:lnTo>
                    <a:lnTo>
                      <a:pt x="915" y="0"/>
                    </a:lnTo>
                    <a:lnTo>
                      <a:pt x="913" y="0"/>
                    </a:lnTo>
                    <a:lnTo>
                      <a:pt x="911" y="0"/>
                    </a:lnTo>
                    <a:lnTo>
                      <a:pt x="907" y="0"/>
                    </a:lnTo>
                    <a:lnTo>
                      <a:pt x="904" y="0"/>
                    </a:lnTo>
                    <a:lnTo>
                      <a:pt x="898" y="2"/>
                    </a:lnTo>
                    <a:lnTo>
                      <a:pt x="896" y="2"/>
                    </a:lnTo>
                    <a:lnTo>
                      <a:pt x="892" y="2"/>
                    </a:lnTo>
                    <a:lnTo>
                      <a:pt x="890" y="2"/>
                    </a:lnTo>
                    <a:lnTo>
                      <a:pt x="888" y="4"/>
                    </a:lnTo>
                    <a:lnTo>
                      <a:pt x="881" y="4"/>
                    </a:lnTo>
                    <a:lnTo>
                      <a:pt x="877" y="6"/>
                    </a:lnTo>
                    <a:lnTo>
                      <a:pt x="873" y="10"/>
                    </a:lnTo>
                    <a:lnTo>
                      <a:pt x="867" y="11"/>
                    </a:lnTo>
                    <a:lnTo>
                      <a:pt x="864" y="15"/>
                    </a:lnTo>
                    <a:lnTo>
                      <a:pt x="860" y="17"/>
                    </a:lnTo>
                    <a:lnTo>
                      <a:pt x="854" y="19"/>
                    </a:lnTo>
                    <a:lnTo>
                      <a:pt x="850" y="23"/>
                    </a:lnTo>
                    <a:lnTo>
                      <a:pt x="847" y="25"/>
                    </a:lnTo>
                    <a:lnTo>
                      <a:pt x="843" y="29"/>
                    </a:lnTo>
                    <a:lnTo>
                      <a:pt x="839" y="32"/>
                    </a:lnTo>
                    <a:lnTo>
                      <a:pt x="835" y="36"/>
                    </a:lnTo>
                    <a:lnTo>
                      <a:pt x="833" y="40"/>
                    </a:lnTo>
                    <a:lnTo>
                      <a:pt x="831" y="44"/>
                    </a:lnTo>
                    <a:lnTo>
                      <a:pt x="828" y="48"/>
                    </a:lnTo>
                    <a:lnTo>
                      <a:pt x="824" y="53"/>
                    </a:lnTo>
                    <a:lnTo>
                      <a:pt x="822" y="57"/>
                    </a:lnTo>
                    <a:lnTo>
                      <a:pt x="820" y="61"/>
                    </a:lnTo>
                    <a:lnTo>
                      <a:pt x="818" y="67"/>
                    </a:lnTo>
                    <a:lnTo>
                      <a:pt x="816" y="70"/>
                    </a:lnTo>
                    <a:lnTo>
                      <a:pt x="816" y="74"/>
                    </a:lnTo>
                    <a:lnTo>
                      <a:pt x="814" y="76"/>
                    </a:lnTo>
                    <a:lnTo>
                      <a:pt x="812" y="82"/>
                    </a:lnTo>
                    <a:lnTo>
                      <a:pt x="812" y="84"/>
                    </a:lnTo>
                    <a:lnTo>
                      <a:pt x="687" y="663"/>
                    </a:lnTo>
                    <a:lnTo>
                      <a:pt x="681" y="663"/>
                    </a:lnTo>
                    <a:lnTo>
                      <a:pt x="677" y="663"/>
                    </a:lnTo>
                    <a:lnTo>
                      <a:pt x="673" y="663"/>
                    </a:lnTo>
                    <a:lnTo>
                      <a:pt x="670" y="663"/>
                    </a:lnTo>
                    <a:lnTo>
                      <a:pt x="666" y="663"/>
                    </a:lnTo>
                    <a:lnTo>
                      <a:pt x="660" y="665"/>
                    </a:lnTo>
                    <a:lnTo>
                      <a:pt x="656" y="665"/>
                    </a:lnTo>
                    <a:lnTo>
                      <a:pt x="652" y="667"/>
                    </a:lnTo>
                    <a:lnTo>
                      <a:pt x="753" y="213"/>
                    </a:lnTo>
                    <a:lnTo>
                      <a:pt x="753" y="209"/>
                    </a:lnTo>
                    <a:lnTo>
                      <a:pt x="753" y="207"/>
                    </a:lnTo>
                    <a:lnTo>
                      <a:pt x="753" y="203"/>
                    </a:lnTo>
                    <a:lnTo>
                      <a:pt x="753" y="201"/>
                    </a:lnTo>
                    <a:lnTo>
                      <a:pt x="753" y="198"/>
                    </a:lnTo>
                    <a:lnTo>
                      <a:pt x="753" y="196"/>
                    </a:lnTo>
                    <a:lnTo>
                      <a:pt x="753" y="192"/>
                    </a:lnTo>
                    <a:lnTo>
                      <a:pt x="753" y="190"/>
                    </a:lnTo>
                    <a:lnTo>
                      <a:pt x="753" y="188"/>
                    </a:lnTo>
                    <a:lnTo>
                      <a:pt x="753" y="184"/>
                    </a:lnTo>
                    <a:lnTo>
                      <a:pt x="753" y="182"/>
                    </a:lnTo>
                    <a:lnTo>
                      <a:pt x="753" y="181"/>
                    </a:lnTo>
                    <a:lnTo>
                      <a:pt x="753" y="175"/>
                    </a:lnTo>
                    <a:lnTo>
                      <a:pt x="753" y="169"/>
                    </a:lnTo>
                    <a:lnTo>
                      <a:pt x="751" y="167"/>
                    </a:lnTo>
                    <a:lnTo>
                      <a:pt x="751" y="163"/>
                    </a:lnTo>
                    <a:lnTo>
                      <a:pt x="751" y="162"/>
                    </a:lnTo>
                    <a:lnTo>
                      <a:pt x="750" y="160"/>
                    </a:lnTo>
                    <a:lnTo>
                      <a:pt x="748" y="154"/>
                    </a:lnTo>
                    <a:lnTo>
                      <a:pt x="746" y="148"/>
                    </a:lnTo>
                    <a:lnTo>
                      <a:pt x="744" y="144"/>
                    </a:lnTo>
                    <a:lnTo>
                      <a:pt x="742" y="141"/>
                    </a:lnTo>
                    <a:lnTo>
                      <a:pt x="740" y="135"/>
                    </a:lnTo>
                    <a:lnTo>
                      <a:pt x="738" y="131"/>
                    </a:lnTo>
                    <a:lnTo>
                      <a:pt x="734" y="127"/>
                    </a:lnTo>
                    <a:lnTo>
                      <a:pt x="730" y="124"/>
                    </a:lnTo>
                    <a:lnTo>
                      <a:pt x="727" y="120"/>
                    </a:lnTo>
                    <a:lnTo>
                      <a:pt x="725" y="116"/>
                    </a:lnTo>
                    <a:lnTo>
                      <a:pt x="721" y="112"/>
                    </a:lnTo>
                    <a:lnTo>
                      <a:pt x="717" y="108"/>
                    </a:lnTo>
                    <a:lnTo>
                      <a:pt x="713" y="105"/>
                    </a:lnTo>
                    <a:lnTo>
                      <a:pt x="710" y="103"/>
                    </a:lnTo>
                    <a:lnTo>
                      <a:pt x="704" y="99"/>
                    </a:lnTo>
                    <a:lnTo>
                      <a:pt x="700" y="97"/>
                    </a:lnTo>
                    <a:lnTo>
                      <a:pt x="694" y="95"/>
                    </a:lnTo>
                    <a:lnTo>
                      <a:pt x="691" y="91"/>
                    </a:lnTo>
                    <a:lnTo>
                      <a:pt x="685" y="89"/>
                    </a:lnTo>
                    <a:lnTo>
                      <a:pt x="681" y="87"/>
                    </a:lnTo>
                    <a:lnTo>
                      <a:pt x="675" y="86"/>
                    </a:lnTo>
                    <a:lnTo>
                      <a:pt x="672" y="86"/>
                    </a:lnTo>
                    <a:lnTo>
                      <a:pt x="668" y="84"/>
                    </a:lnTo>
                    <a:lnTo>
                      <a:pt x="666" y="84"/>
                    </a:lnTo>
                    <a:lnTo>
                      <a:pt x="664" y="84"/>
                    </a:lnTo>
                    <a:lnTo>
                      <a:pt x="660" y="84"/>
                    </a:lnTo>
                    <a:lnTo>
                      <a:pt x="658" y="84"/>
                    </a:lnTo>
                    <a:lnTo>
                      <a:pt x="654" y="84"/>
                    </a:lnTo>
                    <a:lnTo>
                      <a:pt x="652" y="84"/>
                    </a:lnTo>
                    <a:lnTo>
                      <a:pt x="651" y="84"/>
                    </a:lnTo>
                    <a:lnTo>
                      <a:pt x="647" y="84"/>
                    </a:lnTo>
                    <a:lnTo>
                      <a:pt x="645" y="84"/>
                    </a:lnTo>
                    <a:lnTo>
                      <a:pt x="643" y="84"/>
                    </a:lnTo>
                    <a:lnTo>
                      <a:pt x="639" y="84"/>
                    </a:lnTo>
                    <a:lnTo>
                      <a:pt x="635" y="84"/>
                    </a:lnTo>
                    <a:lnTo>
                      <a:pt x="630" y="84"/>
                    </a:lnTo>
                    <a:lnTo>
                      <a:pt x="628" y="84"/>
                    </a:lnTo>
                    <a:lnTo>
                      <a:pt x="624" y="86"/>
                    </a:lnTo>
                    <a:lnTo>
                      <a:pt x="622" y="86"/>
                    </a:lnTo>
                    <a:lnTo>
                      <a:pt x="618" y="86"/>
                    </a:lnTo>
                    <a:lnTo>
                      <a:pt x="614" y="87"/>
                    </a:lnTo>
                    <a:lnTo>
                      <a:pt x="609" y="89"/>
                    </a:lnTo>
                    <a:lnTo>
                      <a:pt x="603" y="91"/>
                    </a:lnTo>
                    <a:lnTo>
                      <a:pt x="599" y="95"/>
                    </a:lnTo>
                    <a:lnTo>
                      <a:pt x="595" y="97"/>
                    </a:lnTo>
                    <a:lnTo>
                      <a:pt x="592" y="99"/>
                    </a:lnTo>
                    <a:lnTo>
                      <a:pt x="586" y="103"/>
                    </a:lnTo>
                    <a:lnTo>
                      <a:pt x="582" y="105"/>
                    </a:lnTo>
                    <a:lnTo>
                      <a:pt x="578" y="108"/>
                    </a:lnTo>
                    <a:lnTo>
                      <a:pt x="574" y="112"/>
                    </a:lnTo>
                    <a:lnTo>
                      <a:pt x="571" y="116"/>
                    </a:lnTo>
                    <a:lnTo>
                      <a:pt x="567" y="120"/>
                    </a:lnTo>
                    <a:lnTo>
                      <a:pt x="565" y="124"/>
                    </a:lnTo>
                    <a:lnTo>
                      <a:pt x="563" y="127"/>
                    </a:lnTo>
                    <a:lnTo>
                      <a:pt x="559" y="131"/>
                    </a:lnTo>
                    <a:lnTo>
                      <a:pt x="555" y="135"/>
                    </a:lnTo>
                    <a:lnTo>
                      <a:pt x="554" y="141"/>
                    </a:lnTo>
                    <a:lnTo>
                      <a:pt x="552" y="146"/>
                    </a:lnTo>
                    <a:lnTo>
                      <a:pt x="550" y="150"/>
                    </a:lnTo>
                    <a:lnTo>
                      <a:pt x="548" y="156"/>
                    </a:lnTo>
                    <a:lnTo>
                      <a:pt x="546" y="158"/>
                    </a:lnTo>
                    <a:lnTo>
                      <a:pt x="546" y="160"/>
                    </a:lnTo>
                    <a:lnTo>
                      <a:pt x="544" y="163"/>
                    </a:lnTo>
                    <a:lnTo>
                      <a:pt x="544" y="167"/>
                    </a:lnTo>
                    <a:lnTo>
                      <a:pt x="361" y="1127"/>
                    </a:lnTo>
                    <a:lnTo>
                      <a:pt x="361" y="112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Rectangle 90"/>
              <p:cNvSpPr/>
              <p:nvPr/>
            </p:nvSpPr>
            <p:spPr>
              <a:xfrm flipH="1" rot="3744000">
                <a:off x="5052240" y="1440360"/>
                <a:ext cx="8568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7" name="Group 91"/>
              <p:cNvGrpSpPr/>
              <p:nvPr/>
            </p:nvGrpSpPr>
            <p:grpSpPr>
              <a:xfrm>
                <a:off x="4663800" y="1580400"/>
                <a:ext cx="192960" cy="651600"/>
                <a:chOff x="4663800" y="1580400"/>
                <a:chExt cx="192960" cy="651600"/>
              </a:xfrm>
            </p:grpSpPr>
            <p:sp>
              <p:nvSpPr>
                <p:cNvPr id="2508" name="AutoShape 92"/>
                <p:cNvSpPr/>
                <p:nvPr/>
              </p:nvSpPr>
              <p:spPr>
                <a:xfrm flipH="1" flipV="1" rot="82800">
                  <a:off x="4691520" y="1672200"/>
                  <a:ext cx="148320" cy="484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9" name="Oval 93"/>
                <p:cNvSpPr/>
                <p:nvPr/>
              </p:nvSpPr>
              <p:spPr>
                <a:xfrm flipH="1" flipV="1" rot="82800">
                  <a:off x="4714200" y="1581840"/>
                  <a:ext cx="130680" cy="1328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0" name="AutoShape 94"/>
                <p:cNvSpPr/>
                <p:nvPr/>
              </p:nvSpPr>
              <p:spPr>
                <a:xfrm flipH="1" rot="83400">
                  <a:off x="4746600" y="1612080"/>
                  <a:ext cx="70920" cy="61560"/>
                </a:xfrm>
                <a:prstGeom prst="hexagon">
                  <a:avLst>
                    <a:gd name="adj" fmla="val 28801"/>
                    <a:gd name="vf" fmla="val 11547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1" name="AutoShape 95"/>
                <p:cNvSpPr/>
                <p:nvPr/>
              </p:nvSpPr>
              <p:spPr>
                <a:xfrm flipH="1" flipV="1" rot="5862000">
                  <a:off x="4687920" y="2060640"/>
                  <a:ext cx="144360" cy="174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934" y="2201"/>
                        <a:pt x="12267" y="5080"/>
                        <a:pt x="12267" y="10800"/>
                      </a:cubicBezTo>
                      <a:cubicBezTo>
                        <a:pt x="12267" y="16520"/>
                        <a:pt x="16934" y="1939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12" name="Group 97"/>
          <p:cNvGrpSpPr/>
          <p:nvPr/>
        </p:nvGrpSpPr>
        <p:grpSpPr>
          <a:xfrm>
            <a:off x="4573440" y="2224800"/>
            <a:ext cx="409680" cy="1962360"/>
            <a:chOff x="4573440" y="2224800"/>
            <a:chExt cx="409680" cy="1962360"/>
          </a:xfrm>
        </p:grpSpPr>
        <p:grpSp>
          <p:nvGrpSpPr>
            <p:cNvPr id="2513" name="Group 98"/>
            <p:cNvGrpSpPr/>
            <p:nvPr/>
          </p:nvGrpSpPr>
          <p:grpSpPr>
            <a:xfrm>
              <a:off x="4573440" y="3166200"/>
              <a:ext cx="349560" cy="1020960"/>
              <a:chOff x="4573440" y="3166200"/>
              <a:chExt cx="349560" cy="1020960"/>
            </a:xfrm>
          </p:grpSpPr>
          <p:sp>
            <p:nvSpPr>
              <p:cNvPr id="2514" name="AutoShape 99"/>
              <p:cNvSpPr/>
              <p:nvPr/>
            </p:nvSpPr>
            <p:spPr>
              <a:xfrm rot="15249000">
                <a:off x="4685400" y="3940920"/>
                <a:ext cx="101520" cy="3099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606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AutoShape 100"/>
              <p:cNvSpPr/>
              <p:nvPr/>
            </p:nvSpPr>
            <p:spPr>
              <a:xfrm rot="21310800">
                <a:off x="4683240" y="3174480"/>
                <a:ext cx="221400" cy="443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AutoShape 101"/>
              <p:cNvSpPr/>
              <p:nvPr/>
            </p:nvSpPr>
            <p:spPr>
              <a:xfrm rot="21310800">
                <a:off x="4764960" y="3616920"/>
                <a:ext cx="132840" cy="443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Oval 102"/>
              <p:cNvSpPr/>
              <p:nvPr/>
            </p:nvSpPr>
            <p:spPr>
              <a:xfrm rot="21310800">
                <a:off x="4744800" y="3567960"/>
                <a:ext cx="132840" cy="133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AutoShape 103"/>
              <p:cNvSpPr/>
              <p:nvPr/>
            </p:nvSpPr>
            <p:spPr>
              <a:xfrm flipV="1" rot="21310800">
                <a:off x="4773240" y="3610080"/>
                <a:ext cx="72000" cy="61920"/>
              </a:xfrm>
              <a:prstGeom prst="hexagon">
                <a:avLst>
                  <a:gd name="adj" fmla="val 2907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9" name="Group 104"/>
            <p:cNvGrpSpPr/>
            <p:nvPr/>
          </p:nvGrpSpPr>
          <p:grpSpPr>
            <a:xfrm>
              <a:off x="4633560" y="2224800"/>
              <a:ext cx="349560" cy="1020960"/>
              <a:chOff x="4633560" y="2224800"/>
              <a:chExt cx="349560" cy="1020960"/>
            </a:xfrm>
          </p:grpSpPr>
          <p:sp>
            <p:nvSpPr>
              <p:cNvPr id="2520" name="AutoShape 105"/>
              <p:cNvSpPr/>
              <p:nvPr/>
            </p:nvSpPr>
            <p:spPr>
              <a:xfrm rot="4449600">
                <a:off x="4768920" y="2160720"/>
                <a:ext cx="101520" cy="310320"/>
              </a:xfrm>
              <a:prstGeom prst="triangle">
                <a:avLst>
                  <a:gd name="adj" fmla="val 50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AutoShape 106"/>
              <p:cNvSpPr/>
              <p:nvPr/>
            </p:nvSpPr>
            <p:spPr>
              <a:xfrm rot="10510800">
                <a:off x="4651560" y="2793240"/>
                <a:ext cx="221400" cy="443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AutoShape 107"/>
              <p:cNvSpPr/>
              <p:nvPr/>
            </p:nvSpPr>
            <p:spPr>
              <a:xfrm rot="10510800">
                <a:off x="4658400" y="2350800"/>
                <a:ext cx="132840" cy="443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Oval 108"/>
              <p:cNvSpPr/>
              <p:nvPr/>
            </p:nvSpPr>
            <p:spPr>
              <a:xfrm rot="10510800">
                <a:off x="4678920" y="2710440"/>
                <a:ext cx="132840" cy="1332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AutoShape 109"/>
              <p:cNvSpPr/>
              <p:nvPr/>
            </p:nvSpPr>
            <p:spPr>
              <a:xfrm flipV="1" rot="10510800">
                <a:off x="4710600" y="2739600"/>
                <a:ext cx="72000" cy="61920"/>
              </a:xfrm>
              <a:prstGeom prst="hexagon">
                <a:avLst>
                  <a:gd name="adj" fmla="val 29070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25" name="Group 110"/>
          <p:cNvGrpSpPr/>
          <p:nvPr/>
        </p:nvGrpSpPr>
        <p:grpSpPr>
          <a:xfrm>
            <a:off x="4500000" y="2319480"/>
            <a:ext cx="556560" cy="1924920"/>
            <a:chOff x="4500000" y="2319480"/>
            <a:chExt cx="556560" cy="1924920"/>
          </a:xfrm>
        </p:grpSpPr>
        <p:grpSp>
          <p:nvGrpSpPr>
            <p:cNvPr id="2526" name="Group 111"/>
            <p:cNvGrpSpPr/>
            <p:nvPr/>
          </p:nvGrpSpPr>
          <p:grpSpPr>
            <a:xfrm>
              <a:off x="4500000" y="3251520"/>
              <a:ext cx="388800" cy="992880"/>
              <a:chOff x="4500000" y="3251520"/>
              <a:chExt cx="388800" cy="992880"/>
            </a:xfrm>
          </p:grpSpPr>
          <p:sp>
            <p:nvSpPr>
              <p:cNvPr id="2527" name="AutoShape 112"/>
              <p:cNvSpPr/>
              <p:nvPr/>
            </p:nvSpPr>
            <p:spPr>
              <a:xfrm rot="15538200">
                <a:off x="4610880" y="4009680"/>
                <a:ext cx="101520" cy="3099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606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AutoShape 113"/>
              <p:cNvSpPr/>
              <p:nvPr/>
            </p:nvSpPr>
            <p:spPr>
              <a:xfrm>
                <a:off x="4667400" y="3251520"/>
                <a:ext cx="221400" cy="443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AutoShape 114"/>
              <p:cNvSpPr/>
              <p:nvPr/>
            </p:nvSpPr>
            <p:spPr>
              <a:xfrm>
                <a:off x="4711680" y="3695400"/>
                <a:ext cx="132840" cy="443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Oval 115"/>
              <p:cNvSpPr/>
              <p:nvPr/>
            </p:nvSpPr>
            <p:spPr>
              <a:xfrm>
                <a:off x="4708800" y="3645360"/>
                <a:ext cx="132840" cy="132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AutoShape 116"/>
              <p:cNvSpPr/>
              <p:nvPr/>
            </p:nvSpPr>
            <p:spPr>
              <a:xfrm flipV="1">
                <a:off x="4736520" y="3686760"/>
                <a:ext cx="72000" cy="61920"/>
              </a:xfrm>
              <a:prstGeom prst="hexagon">
                <a:avLst>
                  <a:gd name="adj" fmla="val 2907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2" name="Group 117"/>
            <p:cNvGrpSpPr/>
            <p:nvPr/>
          </p:nvGrpSpPr>
          <p:grpSpPr>
            <a:xfrm>
              <a:off x="4667760" y="2319480"/>
              <a:ext cx="388800" cy="993240"/>
              <a:chOff x="4667760" y="2319480"/>
              <a:chExt cx="388800" cy="993240"/>
            </a:xfrm>
          </p:grpSpPr>
          <p:sp>
            <p:nvSpPr>
              <p:cNvPr id="2533" name="AutoShape 118"/>
              <p:cNvSpPr/>
              <p:nvPr/>
            </p:nvSpPr>
            <p:spPr>
              <a:xfrm rot="4738800">
                <a:off x="4843440" y="2243520"/>
                <a:ext cx="101520" cy="310320"/>
              </a:xfrm>
              <a:prstGeom prst="triangle">
                <a:avLst>
                  <a:gd name="adj" fmla="val 50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AutoShape 119"/>
              <p:cNvSpPr/>
              <p:nvPr/>
            </p:nvSpPr>
            <p:spPr>
              <a:xfrm rot="10800000">
                <a:off x="4667760" y="2868840"/>
                <a:ext cx="221400" cy="443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AutoShape 120"/>
              <p:cNvSpPr/>
              <p:nvPr/>
            </p:nvSpPr>
            <p:spPr>
              <a:xfrm rot="10800000">
                <a:off x="4712040" y="2424960"/>
                <a:ext cx="132840" cy="443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Oval 121"/>
              <p:cNvSpPr/>
              <p:nvPr/>
            </p:nvSpPr>
            <p:spPr>
              <a:xfrm rot="10800000">
                <a:off x="4714920" y="2785680"/>
                <a:ext cx="132840" cy="1332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AutoShape 122"/>
              <p:cNvSpPr/>
              <p:nvPr/>
            </p:nvSpPr>
            <p:spPr>
              <a:xfrm flipV="1" rot="10800000">
                <a:off x="4747680" y="2815200"/>
                <a:ext cx="72000" cy="61920"/>
              </a:xfrm>
              <a:prstGeom prst="hexagon">
                <a:avLst>
                  <a:gd name="adj" fmla="val 29070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8" name="Group 123"/>
          <p:cNvGrpSpPr/>
          <p:nvPr/>
        </p:nvGrpSpPr>
        <p:grpSpPr>
          <a:xfrm>
            <a:off x="4506840" y="1890720"/>
            <a:ext cx="678600" cy="1409040"/>
            <a:chOff x="4506840" y="1890720"/>
            <a:chExt cx="678600" cy="1409040"/>
          </a:xfrm>
        </p:grpSpPr>
        <p:grpSp>
          <p:nvGrpSpPr>
            <p:cNvPr id="2539" name="Group 124"/>
            <p:cNvGrpSpPr/>
            <p:nvPr/>
          </p:nvGrpSpPr>
          <p:grpSpPr>
            <a:xfrm>
              <a:off x="4506840" y="1890720"/>
              <a:ext cx="678600" cy="1409040"/>
              <a:chOff x="4506840" y="1890720"/>
              <a:chExt cx="678600" cy="1409040"/>
            </a:xfrm>
          </p:grpSpPr>
          <p:sp>
            <p:nvSpPr>
              <p:cNvPr id="2540" name="Arc 125"/>
              <p:cNvSpPr/>
              <p:nvPr/>
            </p:nvSpPr>
            <p:spPr>
              <a:xfrm rot="2809200">
                <a:off x="4638240" y="2605680"/>
                <a:ext cx="532800" cy="26964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Arc 126"/>
              <p:cNvSpPr/>
              <p:nvPr/>
            </p:nvSpPr>
            <p:spPr>
              <a:xfrm rot="2809200">
                <a:off x="4605120" y="2294640"/>
                <a:ext cx="532800" cy="26964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AutoShape 127"/>
              <p:cNvSpPr/>
              <p:nvPr/>
            </p:nvSpPr>
            <p:spPr>
              <a:xfrm rot="10800000">
                <a:off x="4515120" y="2100960"/>
                <a:ext cx="298080" cy="310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0800" y="21600"/>
                    </a:lnTo>
                    <a:lnTo>
                      <a:pt x="108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AutoShape 128"/>
              <p:cNvSpPr/>
              <p:nvPr/>
            </p:nvSpPr>
            <p:spPr>
              <a:xfrm>
                <a:off x="4515120" y="2404080"/>
                <a:ext cx="298080" cy="613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0800" y="21600"/>
                    </a:lnTo>
                    <a:lnTo>
                      <a:pt x="108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Rectangle 129"/>
              <p:cNvSpPr/>
              <p:nvPr/>
            </p:nvSpPr>
            <p:spPr>
              <a:xfrm>
                <a:off x="4665960" y="2109960"/>
                <a:ext cx="246600" cy="7462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AutoShape 130"/>
              <p:cNvSpPr/>
              <p:nvPr/>
            </p:nvSpPr>
            <p:spPr>
              <a:xfrm rot="10800000">
                <a:off x="4506840" y="2855880"/>
                <a:ext cx="529920" cy="443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287" y="21600"/>
                    </a:lnTo>
                    <a:lnTo>
                      <a:pt x="16313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Oval 131"/>
              <p:cNvSpPr/>
              <p:nvPr/>
            </p:nvSpPr>
            <p:spPr>
              <a:xfrm>
                <a:off x="4659840" y="2081880"/>
                <a:ext cx="252720" cy="47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Rectangle 132"/>
              <p:cNvSpPr/>
              <p:nvPr/>
            </p:nvSpPr>
            <p:spPr>
              <a:xfrm>
                <a:off x="4744800" y="1890720"/>
                <a:ext cx="101160" cy="2134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8" name="Rectangle 133"/>
            <p:cNvSpPr/>
            <p:nvPr/>
          </p:nvSpPr>
          <p:spPr>
            <a:xfrm>
              <a:off x="4620240" y="2853720"/>
              <a:ext cx="303480" cy="47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9" name="Group 134"/>
          <p:cNvGrpSpPr/>
          <p:nvPr/>
        </p:nvGrpSpPr>
        <p:grpSpPr>
          <a:xfrm>
            <a:off x="4382280" y="1403640"/>
            <a:ext cx="774360" cy="1048680"/>
            <a:chOff x="4382280" y="1403640"/>
            <a:chExt cx="774360" cy="1048680"/>
          </a:xfrm>
        </p:grpSpPr>
        <p:grpSp>
          <p:nvGrpSpPr>
            <p:cNvPr id="2550" name="Group 135"/>
            <p:cNvGrpSpPr/>
            <p:nvPr/>
          </p:nvGrpSpPr>
          <p:grpSpPr>
            <a:xfrm>
              <a:off x="4435200" y="1403640"/>
              <a:ext cx="713880" cy="655200"/>
              <a:chOff x="4435200" y="1403640"/>
              <a:chExt cx="713880" cy="655200"/>
            </a:xfrm>
          </p:grpSpPr>
          <p:sp>
            <p:nvSpPr>
              <p:cNvPr id="2551" name="AutoShape 136"/>
              <p:cNvSpPr/>
              <p:nvPr/>
            </p:nvSpPr>
            <p:spPr>
              <a:xfrm rot="1125600">
                <a:off x="4506480" y="1433160"/>
                <a:ext cx="266040" cy="487800"/>
              </a:xfrm>
              <a:custGeom>
                <a:avLst/>
                <a:gdLst>
                  <a:gd name="textAreaLeft" fmla="*/ 169920 w 266040"/>
                  <a:gd name="textAreaRight" fmla="*/ 266400 w 266040"/>
                  <a:gd name="textAreaTop" fmla="*/ 12600 h 487800"/>
                  <a:gd name="textAreaBottom" fmla="*/ 475200 h 48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899"/>
                      <a:pt x="10800" y="1798"/>
                    </a:cubicBezTo>
                    <a:lnTo>
                      <a:pt x="10800" y="9002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699"/>
                      <a:pt x="10800" y="12598"/>
                    </a:cubicBezTo>
                    <a:lnTo>
                      <a:pt x="10800" y="19802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52" name="Group 137"/>
              <p:cNvGrpSpPr/>
              <p:nvPr/>
            </p:nvGrpSpPr>
            <p:grpSpPr>
              <a:xfrm>
                <a:off x="4784040" y="1641960"/>
                <a:ext cx="365040" cy="416880"/>
                <a:chOff x="4784040" y="1641960"/>
                <a:chExt cx="365040" cy="416880"/>
              </a:xfrm>
            </p:grpSpPr>
            <p:sp>
              <p:nvSpPr>
                <p:cNvPr id="2553" name="AutoShape 138"/>
                <p:cNvSpPr/>
                <p:nvPr/>
              </p:nvSpPr>
              <p:spPr>
                <a:xfrm flipH="1" rot="7923000">
                  <a:off x="4814640" y="1716120"/>
                  <a:ext cx="295560" cy="21492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6948000"/>
                </a:gra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4" name="AutoShape 139"/>
                <p:cNvSpPr/>
                <p:nvPr/>
              </p:nvSpPr>
              <p:spPr>
                <a:xfrm flipH="1" rot="8842200">
                  <a:off x="5052960" y="1866240"/>
                  <a:ext cx="46800" cy="195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21366000"/>
                </a:gra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55" name="Oval 140"/>
              <p:cNvSpPr/>
              <p:nvPr/>
            </p:nvSpPr>
            <p:spPr>
              <a:xfrm rot="1507800">
                <a:off x="4655520" y="1477440"/>
                <a:ext cx="326880" cy="53208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ffffff"/>
                  </a:gs>
                </a:gsLst>
                <a:lin ang="2009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AutoShape 141"/>
              <p:cNvSpPr/>
              <p:nvPr/>
            </p:nvSpPr>
            <p:spPr>
              <a:xfrm flipH="1" rot="705000">
                <a:off x="4813920" y="1641960"/>
                <a:ext cx="65520" cy="133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725" y="3202"/>
                      <a:pt x="17850" y="5080"/>
                      <a:pt x="17850" y="10800"/>
                    </a:cubicBezTo>
                    <a:cubicBezTo>
                      <a:pt x="17850" y="16520"/>
                      <a:pt x="19725" y="1839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70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AutoShape 142"/>
              <p:cNvSpPr/>
              <p:nvPr/>
            </p:nvSpPr>
            <p:spPr>
              <a:xfrm rot="12700800">
                <a:off x="4764240" y="1499760"/>
                <a:ext cx="310320" cy="134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015" y="21600"/>
                    </a:lnTo>
                    <a:lnTo>
                      <a:pt x="17585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lin ang="889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Oval 143"/>
              <p:cNvSpPr/>
              <p:nvPr/>
            </p:nvSpPr>
            <p:spPr>
              <a:xfrm rot="1413600">
                <a:off x="4683600" y="1521720"/>
                <a:ext cx="354960" cy="885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2018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9" name="Group 144"/>
            <p:cNvGrpSpPr/>
            <p:nvPr/>
          </p:nvGrpSpPr>
          <p:grpSpPr>
            <a:xfrm>
              <a:off x="4382280" y="1891080"/>
              <a:ext cx="774360" cy="561240"/>
              <a:chOff x="4382280" y="1891080"/>
              <a:chExt cx="774360" cy="561240"/>
            </a:xfrm>
          </p:grpSpPr>
          <p:sp>
            <p:nvSpPr>
              <p:cNvPr id="2560" name="AutoShape 145"/>
              <p:cNvSpPr/>
              <p:nvPr/>
            </p:nvSpPr>
            <p:spPr>
              <a:xfrm rot="10393200">
                <a:off x="4862880" y="1904760"/>
                <a:ext cx="265680" cy="487800"/>
              </a:xfrm>
              <a:custGeom>
                <a:avLst/>
                <a:gdLst>
                  <a:gd name="textAreaLeft" fmla="*/ 169920 w 265680"/>
                  <a:gd name="textAreaRight" fmla="*/ 266040 w 265680"/>
                  <a:gd name="textAreaTop" fmla="*/ 12600 h 487800"/>
                  <a:gd name="textAreaBottom" fmla="*/ 475200 h 48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899"/>
                      <a:pt x="10800" y="1798"/>
                    </a:cubicBezTo>
                    <a:lnTo>
                      <a:pt x="10800" y="9002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699"/>
                      <a:pt x="10800" y="12598"/>
                    </a:cubicBezTo>
                    <a:lnTo>
                      <a:pt x="10800" y="19802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1" name="Group 146"/>
              <p:cNvGrpSpPr/>
              <p:nvPr/>
            </p:nvGrpSpPr>
            <p:grpSpPr>
              <a:xfrm>
                <a:off x="4382280" y="1983960"/>
                <a:ext cx="403920" cy="344520"/>
                <a:chOff x="4382280" y="1983960"/>
                <a:chExt cx="403920" cy="344520"/>
              </a:xfrm>
            </p:grpSpPr>
            <p:sp>
              <p:nvSpPr>
                <p:cNvPr id="2562" name="AutoShape 147"/>
                <p:cNvSpPr/>
                <p:nvPr/>
              </p:nvSpPr>
              <p:spPr>
                <a:xfrm flipH="1" rot="17190000">
                  <a:off x="4493160" y="2048400"/>
                  <a:ext cx="295560" cy="214920"/>
                </a:xfrm>
                <a:prstGeom prst="triangle">
                  <a:avLst>
                    <a:gd name="adj" fmla="val 5000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3" name="AutoShape 148"/>
                <p:cNvSpPr/>
                <p:nvPr/>
              </p:nvSpPr>
              <p:spPr>
                <a:xfrm flipH="1" rot="18109200">
                  <a:off x="4453560" y="1981080"/>
                  <a:ext cx="46800" cy="195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4" name="Oval 149"/>
              <p:cNvSpPr/>
              <p:nvPr/>
            </p:nvSpPr>
            <p:spPr>
              <a:xfrm rot="10774800">
                <a:off x="4641480" y="1900080"/>
                <a:ext cx="326880" cy="532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AutoShape 150"/>
              <p:cNvSpPr/>
              <p:nvPr/>
            </p:nvSpPr>
            <p:spPr>
              <a:xfrm flipH="1" rot="9972000">
                <a:off x="4761720" y="2142360"/>
                <a:ext cx="65520" cy="133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725" y="3202"/>
                      <a:pt x="17850" y="5080"/>
                      <a:pt x="17850" y="10800"/>
                    </a:cubicBezTo>
                    <a:cubicBezTo>
                      <a:pt x="17850" y="16520"/>
                      <a:pt x="19725" y="1839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AutoShape 151"/>
              <p:cNvSpPr/>
              <p:nvPr/>
            </p:nvSpPr>
            <p:spPr>
              <a:xfrm rot="367800">
                <a:off x="4635360" y="2301120"/>
                <a:ext cx="310320" cy="134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015" y="21600"/>
                    </a:lnTo>
                    <a:lnTo>
                      <a:pt x="17585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Oval 152"/>
              <p:cNvSpPr/>
              <p:nvPr/>
            </p:nvSpPr>
            <p:spPr>
              <a:xfrm rot="10680600">
                <a:off x="4666320" y="2299680"/>
                <a:ext cx="354600" cy="885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68" name="Group 153"/>
          <p:cNvGrpSpPr/>
          <p:nvPr/>
        </p:nvGrpSpPr>
        <p:grpSpPr>
          <a:xfrm>
            <a:off x="4277160" y="1339560"/>
            <a:ext cx="982080" cy="1741680"/>
            <a:chOff x="4277160" y="1339560"/>
            <a:chExt cx="982080" cy="1741680"/>
          </a:xfrm>
        </p:grpSpPr>
        <p:grpSp>
          <p:nvGrpSpPr>
            <p:cNvPr id="2569" name="Group 154"/>
            <p:cNvGrpSpPr/>
            <p:nvPr/>
          </p:nvGrpSpPr>
          <p:grpSpPr>
            <a:xfrm>
              <a:off x="4277160" y="2136240"/>
              <a:ext cx="604440" cy="945000"/>
              <a:chOff x="4277160" y="2136240"/>
              <a:chExt cx="604440" cy="945000"/>
            </a:xfrm>
          </p:grpSpPr>
          <p:sp>
            <p:nvSpPr>
              <p:cNvPr id="2570" name="AutoShape 155"/>
              <p:cNvSpPr/>
              <p:nvPr/>
            </p:nvSpPr>
            <p:spPr>
              <a:xfrm rot="3408600">
                <a:off x="4595760" y="2659680"/>
                <a:ext cx="77760" cy="361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lin ang="1781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Freeform 156"/>
              <p:cNvSpPr/>
              <p:nvPr/>
            </p:nvSpPr>
            <p:spPr>
              <a:xfrm flipH="1" rot="14553000">
                <a:off x="4356720" y="2866320"/>
                <a:ext cx="93960" cy="236880"/>
              </a:xfrm>
              <a:custGeom>
                <a:avLst/>
                <a:gdLst/>
                <a:ahLst/>
                <a:rect l="l" t="t" r="r" b="b"/>
                <a:pathLst>
                  <a:path w="1402" h="2302">
                    <a:moveTo>
                      <a:pt x="361" y="1127"/>
                    </a:moveTo>
                    <a:lnTo>
                      <a:pt x="280" y="1116"/>
                    </a:lnTo>
                    <a:lnTo>
                      <a:pt x="373" y="711"/>
                    </a:lnTo>
                    <a:lnTo>
                      <a:pt x="373" y="709"/>
                    </a:lnTo>
                    <a:lnTo>
                      <a:pt x="375" y="705"/>
                    </a:lnTo>
                    <a:lnTo>
                      <a:pt x="375" y="703"/>
                    </a:lnTo>
                    <a:lnTo>
                      <a:pt x="375" y="700"/>
                    </a:lnTo>
                    <a:lnTo>
                      <a:pt x="375" y="698"/>
                    </a:lnTo>
                    <a:lnTo>
                      <a:pt x="375" y="696"/>
                    </a:lnTo>
                    <a:lnTo>
                      <a:pt x="375" y="692"/>
                    </a:lnTo>
                    <a:lnTo>
                      <a:pt x="375" y="690"/>
                    </a:lnTo>
                    <a:lnTo>
                      <a:pt x="375" y="684"/>
                    </a:lnTo>
                    <a:lnTo>
                      <a:pt x="375" y="681"/>
                    </a:lnTo>
                    <a:lnTo>
                      <a:pt x="375" y="675"/>
                    </a:lnTo>
                    <a:lnTo>
                      <a:pt x="375" y="669"/>
                    </a:lnTo>
                    <a:lnTo>
                      <a:pt x="371" y="665"/>
                    </a:lnTo>
                    <a:lnTo>
                      <a:pt x="371" y="660"/>
                    </a:lnTo>
                    <a:lnTo>
                      <a:pt x="369" y="654"/>
                    </a:lnTo>
                    <a:lnTo>
                      <a:pt x="367" y="652"/>
                    </a:lnTo>
                    <a:lnTo>
                      <a:pt x="365" y="646"/>
                    </a:lnTo>
                    <a:lnTo>
                      <a:pt x="363" y="641"/>
                    </a:lnTo>
                    <a:lnTo>
                      <a:pt x="361" y="637"/>
                    </a:lnTo>
                    <a:lnTo>
                      <a:pt x="358" y="633"/>
                    </a:lnTo>
                    <a:lnTo>
                      <a:pt x="356" y="629"/>
                    </a:lnTo>
                    <a:lnTo>
                      <a:pt x="354" y="623"/>
                    </a:lnTo>
                    <a:lnTo>
                      <a:pt x="350" y="620"/>
                    </a:lnTo>
                    <a:lnTo>
                      <a:pt x="346" y="616"/>
                    </a:lnTo>
                    <a:lnTo>
                      <a:pt x="342" y="612"/>
                    </a:lnTo>
                    <a:lnTo>
                      <a:pt x="339" y="610"/>
                    </a:lnTo>
                    <a:lnTo>
                      <a:pt x="335" y="606"/>
                    </a:lnTo>
                    <a:lnTo>
                      <a:pt x="331" y="603"/>
                    </a:lnTo>
                    <a:lnTo>
                      <a:pt x="325" y="601"/>
                    </a:lnTo>
                    <a:lnTo>
                      <a:pt x="321" y="597"/>
                    </a:lnTo>
                    <a:lnTo>
                      <a:pt x="318" y="595"/>
                    </a:lnTo>
                    <a:lnTo>
                      <a:pt x="312" y="593"/>
                    </a:lnTo>
                    <a:lnTo>
                      <a:pt x="306" y="591"/>
                    </a:lnTo>
                    <a:lnTo>
                      <a:pt x="302" y="589"/>
                    </a:lnTo>
                    <a:lnTo>
                      <a:pt x="299" y="589"/>
                    </a:lnTo>
                    <a:lnTo>
                      <a:pt x="295" y="587"/>
                    </a:lnTo>
                    <a:lnTo>
                      <a:pt x="291" y="587"/>
                    </a:lnTo>
                    <a:lnTo>
                      <a:pt x="287" y="585"/>
                    </a:lnTo>
                    <a:lnTo>
                      <a:pt x="285" y="585"/>
                    </a:lnTo>
                    <a:lnTo>
                      <a:pt x="283" y="585"/>
                    </a:lnTo>
                    <a:lnTo>
                      <a:pt x="280" y="585"/>
                    </a:lnTo>
                    <a:lnTo>
                      <a:pt x="276" y="585"/>
                    </a:lnTo>
                    <a:lnTo>
                      <a:pt x="274" y="585"/>
                    </a:lnTo>
                    <a:lnTo>
                      <a:pt x="272" y="585"/>
                    </a:lnTo>
                    <a:lnTo>
                      <a:pt x="268" y="585"/>
                    </a:lnTo>
                    <a:lnTo>
                      <a:pt x="266" y="585"/>
                    </a:lnTo>
                    <a:lnTo>
                      <a:pt x="263" y="585"/>
                    </a:lnTo>
                    <a:lnTo>
                      <a:pt x="261" y="587"/>
                    </a:lnTo>
                    <a:lnTo>
                      <a:pt x="259" y="587"/>
                    </a:lnTo>
                    <a:lnTo>
                      <a:pt x="255" y="587"/>
                    </a:lnTo>
                    <a:lnTo>
                      <a:pt x="253" y="589"/>
                    </a:lnTo>
                    <a:lnTo>
                      <a:pt x="249" y="589"/>
                    </a:lnTo>
                    <a:lnTo>
                      <a:pt x="247" y="589"/>
                    </a:lnTo>
                    <a:lnTo>
                      <a:pt x="243" y="591"/>
                    </a:lnTo>
                    <a:lnTo>
                      <a:pt x="240" y="591"/>
                    </a:lnTo>
                    <a:lnTo>
                      <a:pt x="238" y="593"/>
                    </a:lnTo>
                    <a:lnTo>
                      <a:pt x="236" y="595"/>
                    </a:lnTo>
                    <a:lnTo>
                      <a:pt x="232" y="595"/>
                    </a:lnTo>
                    <a:lnTo>
                      <a:pt x="230" y="597"/>
                    </a:lnTo>
                    <a:lnTo>
                      <a:pt x="228" y="599"/>
                    </a:lnTo>
                    <a:lnTo>
                      <a:pt x="224" y="601"/>
                    </a:lnTo>
                    <a:lnTo>
                      <a:pt x="223" y="601"/>
                    </a:lnTo>
                    <a:lnTo>
                      <a:pt x="219" y="603"/>
                    </a:lnTo>
                    <a:lnTo>
                      <a:pt x="217" y="604"/>
                    </a:lnTo>
                    <a:lnTo>
                      <a:pt x="211" y="608"/>
                    </a:lnTo>
                    <a:lnTo>
                      <a:pt x="207" y="612"/>
                    </a:lnTo>
                    <a:lnTo>
                      <a:pt x="204" y="616"/>
                    </a:lnTo>
                    <a:lnTo>
                      <a:pt x="198" y="618"/>
                    </a:lnTo>
                    <a:lnTo>
                      <a:pt x="194" y="623"/>
                    </a:lnTo>
                    <a:lnTo>
                      <a:pt x="188" y="627"/>
                    </a:lnTo>
                    <a:lnTo>
                      <a:pt x="185" y="633"/>
                    </a:lnTo>
                    <a:lnTo>
                      <a:pt x="181" y="637"/>
                    </a:lnTo>
                    <a:lnTo>
                      <a:pt x="177" y="641"/>
                    </a:lnTo>
                    <a:lnTo>
                      <a:pt x="173" y="646"/>
                    </a:lnTo>
                    <a:lnTo>
                      <a:pt x="169" y="652"/>
                    </a:lnTo>
                    <a:lnTo>
                      <a:pt x="166" y="656"/>
                    </a:lnTo>
                    <a:lnTo>
                      <a:pt x="162" y="662"/>
                    </a:lnTo>
                    <a:lnTo>
                      <a:pt x="160" y="665"/>
                    </a:lnTo>
                    <a:lnTo>
                      <a:pt x="158" y="669"/>
                    </a:lnTo>
                    <a:lnTo>
                      <a:pt x="158" y="671"/>
                    </a:lnTo>
                    <a:lnTo>
                      <a:pt x="156" y="673"/>
                    </a:lnTo>
                    <a:lnTo>
                      <a:pt x="154" y="677"/>
                    </a:lnTo>
                    <a:lnTo>
                      <a:pt x="152" y="679"/>
                    </a:lnTo>
                    <a:lnTo>
                      <a:pt x="152" y="681"/>
                    </a:lnTo>
                    <a:lnTo>
                      <a:pt x="150" y="684"/>
                    </a:lnTo>
                    <a:lnTo>
                      <a:pt x="150" y="688"/>
                    </a:lnTo>
                    <a:lnTo>
                      <a:pt x="146" y="694"/>
                    </a:lnTo>
                    <a:lnTo>
                      <a:pt x="145" y="701"/>
                    </a:lnTo>
                    <a:lnTo>
                      <a:pt x="143" y="709"/>
                    </a:lnTo>
                    <a:lnTo>
                      <a:pt x="139" y="717"/>
                    </a:lnTo>
                    <a:lnTo>
                      <a:pt x="137" y="724"/>
                    </a:lnTo>
                    <a:lnTo>
                      <a:pt x="135" y="732"/>
                    </a:lnTo>
                    <a:lnTo>
                      <a:pt x="131" y="739"/>
                    </a:lnTo>
                    <a:lnTo>
                      <a:pt x="129" y="747"/>
                    </a:lnTo>
                    <a:lnTo>
                      <a:pt x="126" y="755"/>
                    </a:lnTo>
                    <a:lnTo>
                      <a:pt x="124" y="760"/>
                    </a:lnTo>
                    <a:lnTo>
                      <a:pt x="122" y="768"/>
                    </a:lnTo>
                    <a:lnTo>
                      <a:pt x="120" y="776"/>
                    </a:lnTo>
                    <a:lnTo>
                      <a:pt x="116" y="781"/>
                    </a:lnTo>
                    <a:lnTo>
                      <a:pt x="114" y="789"/>
                    </a:lnTo>
                    <a:lnTo>
                      <a:pt x="112" y="796"/>
                    </a:lnTo>
                    <a:lnTo>
                      <a:pt x="110" y="804"/>
                    </a:lnTo>
                    <a:lnTo>
                      <a:pt x="107" y="812"/>
                    </a:lnTo>
                    <a:lnTo>
                      <a:pt x="107" y="817"/>
                    </a:lnTo>
                    <a:lnTo>
                      <a:pt x="103" y="823"/>
                    </a:lnTo>
                    <a:lnTo>
                      <a:pt x="101" y="831"/>
                    </a:lnTo>
                    <a:lnTo>
                      <a:pt x="97" y="836"/>
                    </a:lnTo>
                    <a:lnTo>
                      <a:pt x="97" y="844"/>
                    </a:lnTo>
                    <a:lnTo>
                      <a:pt x="93" y="852"/>
                    </a:lnTo>
                    <a:lnTo>
                      <a:pt x="93" y="857"/>
                    </a:lnTo>
                    <a:lnTo>
                      <a:pt x="89" y="865"/>
                    </a:lnTo>
                    <a:lnTo>
                      <a:pt x="88" y="871"/>
                    </a:lnTo>
                    <a:lnTo>
                      <a:pt x="86" y="878"/>
                    </a:lnTo>
                    <a:lnTo>
                      <a:pt x="84" y="884"/>
                    </a:lnTo>
                    <a:lnTo>
                      <a:pt x="82" y="892"/>
                    </a:lnTo>
                    <a:lnTo>
                      <a:pt x="80" y="899"/>
                    </a:lnTo>
                    <a:lnTo>
                      <a:pt x="78" y="907"/>
                    </a:lnTo>
                    <a:lnTo>
                      <a:pt x="74" y="912"/>
                    </a:lnTo>
                    <a:lnTo>
                      <a:pt x="72" y="920"/>
                    </a:lnTo>
                    <a:lnTo>
                      <a:pt x="72" y="926"/>
                    </a:lnTo>
                    <a:lnTo>
                      <a:pt x="68" y="931"/>
                    </a:lnTo>
                    <a:lnTo>
                      <a:pt x="67" y="939"/>
                    </a:lnTo>
                    <a:lnTo>
                      <a:pt x="65" y="945"/>
                    </a:lnTo>
                    <a:lnTo>
                      <a:pt x="63" y="952"/>
                    </a:lnTo>
                    <a:lnTo>
                      <a:pt x="59" y="958"/>
                    </a:lnTo>
                    <a:lnTo>
                      <a:pt x="57" y="966"/>
                    </a:lnTo>
                    <a:lnTo>
                      <a:pt x="55" y="971"/>
                    </a:lnTo>
                    <a:lnTo>
                      <a:pt x="53" y="979"/>
                    </a:lnTo>
                    <a:lnTo>
                      <a:pt x="51" y="987"/>
                    </a:lnTo>
                    <a:lnTo>
                      <a:pt x="49" y="994"/>
                    </a:lnTo>
                    <a:lnTo>
                      <a:pt x="48" y="1000"/>
                    </a:lnTo>
                    <a:lnTo>
                      <a:pt x="46" y="1007"/>
                    </a:lnTo>
                    <a:lnTo>
                      <a:pt x="44" y="1015"/>
                    </a:lnTo>
                    <a:lnTo>
                      <a:pt x="42" y="1021"/>
                    </a:lnTo>
                    <a:lnTo>
                      <a:pt x="42" y="1028"/>
                    </a:lnTo>
                    <a:lnTo>
                      <a:pt x="38" y="1036"/>
                    </a:lnTo>
                    <a:lnTo>
                      <a:pt x="36" y="1042"/>
                    </a:lnTo>
                    <a:lnTo>
                      <a:pt x="36" y="1049"/>
                    </a:lnTo>
                    <a:lnTo>
                      <a:pt x="34" y="1057"/>
                    </a:lnTo>
                    <a:lnTo>
                      <a:pt x="30" y="1063"/>
                    </a:lnTo>
                    <a:lnTo>
                      <a:pt x="30" y="1070"/>
                    </a:lnTo>
                    <a:lnTo>
                      <a:pt x="29" y="1078"/>
                    </a:lnTo>
                    <a:lnTo>
                      <a:pt x="27" y="1085"/>
                    </a:lnTo>
                    <a:lnTo>
                      <a:pt x="25" y="1093"/>
                    </a:lnTo>
                    <a:lnTo>
                      <a:pt x="23" y="1101"/>
                    </a:lnTo>
                    <a:lnTo>
                      <a:pt x="21" y="1108"/>
                    </a:lnTo>
                    <a:lnTo>
                      <a:pt x="19" y="1116"/>
                    </a:lnTo>
                    <a:lnTo>
                      <a:pt x="17" y="1123"/>
                    </a:lnTo>
                    <a:lnTo>
                      <a:pt x="17" y="1131"/>
                    </a:lnTo>
                    <a:lnTo>
                      <a:pt x="15" y="1139"/>
                    </a:lnTo>
                    <a:lnTo>
                      <a:pt x="13" y="1148"/>
                    </a:lnTo>
                    <a:lnTo>
                      <a:pt x="10" y="1158"/>
                    </a:lnTo>
                    <a:lnTo>
                      <a:pt x="10" y="1165"/>
                    </a:lnTo>
                    <a:lnTo>
                      <a:pt x="8" y="1175"/>
                    </a:lnTo>
                    <a:lnTo>
                      <a:pt x="6" y="1182"/>
                    </a:lnTo>
                    <a:lnTo>
                      <a:pt x="6" y="1192"/>
                    </a:lnTo>
                    <a:lnTo>
                      <a:pt x="4" y="1201"/>
                    </a:lnTo>
                    <a:lnTo>
                      <a:pt x="2" y="1211"/>
                    </a:lnTo>
                    <a:lnTo>
                      <a:pt x="2" y="1218"/>
                    </a:lnTo>
                    <a:lnTo>
                      <a:pt x="0" y="1230"/>
                    </a:lnTo>
                    <a:lnTo>
                      <a:pt x="0" y="1237"/>
                    </a:lnTo>
                    <a:lnTo>
                      <a:pt x="0" y="1247"/>
                    </a:lnTo>
                    <a:lnTo>
                      <a:pt x="0" y="1257"/>
                    </a:lnTo>
                    <a:lnTo>
                      <a:pt x="0" y="1268"/>
                    </a:lnTo>
                    <a:lnTo>
                      <a:pt x="0" y="1276"/>
                    </a:lnTo>
                    <a:lnTo>
                      <a:pt x="0" y="1285"/>
                    </a:lnTo>
                    <a:lnTo>
                      <a:pt x="0" y="1296"/>
                    </a:lnTo>
                    <a:lnTo>
                      <a:pt x="0" y="1304"/>
                    </a:lnTo>
                    <a:lnTo>
                      <a:pt x="0" y="1314"/>
                    </a:lnTo>
                    <a:lnTo>
                      <a:pt x="0" y="1323"/>
                    </a:lnTo>
                    <a:lnTo>
                      <a:pt x="0" y="1333"/>
                    </a:lnTo>
                    <a:lnTo>
                      <a:pt x="2" y="1342"/>
                    </a:lnTo>
                    <a:lnTo>
                      <a:pt x="2" y="1352"/>
                    </a:lnTo>
                    <a:lnTo>
                      <a:pt x="4" y="1363"/>
                    </a:lnTo>
                    <a:lnTo>
                      <a:pt x="4" y="1371"/>
                    </a:lnTo>
                    <a:lnTo>
                      <a:pt x="6" y="1382"/>
                    </a:lnTo>
                    <a:lnTo>
                      <a:pt x="8" y="1390"/>
                    </a:lnTo>
                    <a:lnTo>
                      <a:pt x="8" y="1401"/>
                    </a:lnTo>
                    <a:lnTo>
                      <a:pt x="10" y="1409"/>
                    </a:lnTo>
                    <a:lnTo>
                      <a:pt x="11" y="1420"/>
                    </a:lnTo>
                    <a:lnTo>
                      <a:pt x="13" y="1429"/>
                    </a:lnTo>
                    <a:lnTo>
                      <a:pt x="15" y="1439"/>
                    </a:lnTo>
                    <a:lnTo>
                      <a:pt x="17" y="1448"/>
                    </a:lnTo>
                    <a:lnTo>
                      <a:pt x="19" y="1458"/>
                    </a:lnTo>
                    <a:lnTo>
                      <a:pt x="21" y="1468"/>
                    </a:lnTo>
                    <a:lnTo>
                      <a:pt x="23" y="1477"/>
                    </a:lnTo>
                    <a:lnTo>
                      <a:pt x="27" y="1487"/>
                    </a:lnTo>
                    <a:lnTo>
                      <a:pt x="29" y="1496"/>
                    </a:lnTo>
                    <a:lnTo>
                      <a:pt x="30" y="1506"/>
                    </a:lnTo>
                    <a:lnTo>
                      <a:pt x="34" y="1515"/>
                    </a:lnTo>
                    <a:lnTo>
                      <a:pt x="36" y="1525"/>
                    </a:lnTo>
                    <a:lnTo>
                      <a:pt x="38" y="1534"/>
                    </a:lnTo>
                    <a:lnTo>
                      <a:pt x="42" y="1544"/>
                    </a:lnTo>
                    <a:lnTo>
                      <a:pt x="46" y="1553"/>
                    </a:lnTo>
                    <a:lnTo>
                      <a:pt x="48" y="1561"/>
                    </a:lnTo>
                    <a:lnTo>
                      <a:pt x="51" y="1572"/>
                    </a:lnTo>
                    <a:lnTo>
                      <a:pt x="55" y="1580"/>
                    </a:lnTo>
                    <a:lnTo>
                      <a:pt x="59" y="1589"/>
                    </a:lnTo>
                    <a:lnTo>
                      <a:pt x="63" y="1599"/>
                    </a:lnTo>
                    <a:lnTo>
                      <a:pt x="67" y="1608"/>
                    </a:lnTo>
                    <a:lnTo>
                      <a:pt x="68" y="1616"/>
                    </a:lnTo>
                    <a:lnTo>
                      <a:pt x="74" y="1627"/>
                    </a:lnTo>
                    <a:lnTo>
                      <a:pt x="78" y="1635"/>
                    </a:lnTo>
                    <a:lnTo>
                      <a:pt x="82" y="1644"/>
                    </a:lnTo>
                    <a:lnTo>
                      <a:pt x="86" y="1652"/>
                    </a:lnTo>
                    <a:lnTo>
                      <a:pt x="89" y="1661"/>
                    </a:lnTo>
                    <a:lnTo>
                      <a:pt x="95" y="1669"/>
                    </a:lnTo>
                    <a:lnTo>
                      <a:pt x="99" y="1679"/>
                    </a:lnTo>
                    <a:lnTo>
                      <a:pt x="103" y="1688"/>
                    </a:lnTo>
                    <a:lnTo>
                      <a:pt x="108" y="1696"/>
                    </a:lnTo>
                    <a:lnTo>
                      <a:pt x="114" y="1703"/>
                    </a:lnTo>
                    <a:lnTo>
                      <a:pt x="118" y="1713"/>
                    </a:lnTo>
                    <a:lnTo>
                      <a:pt x="124" y="1722"/>
                    </a:lnTo>
                    <a:lnTo>
                      <a:pt x="127" y="1732"/>
                    </a:lnTo>
                    <a:lnTo>
                      <a:pt x="131" y="1736"/>
                    </a:lnTo>
                    <a:lnTo>
                      <a:pt x="135" y="1739"/>
                    </a:lnTo>
                    <a:lnTo>
                      <a:pt x="135" y="1743"/>
                    </a:lnTo>
                    <a:lnTo>
                      <a:pt x="137" y="1745"/>
                    </a:lnTo>
                    <a:lnTo>
                      <a:pt x="139" y="1747"/>
                    </a:lnTo>
                    <a:lnTo>
                      <a:pt x="141" y="1751"/>
                    </a:lnTo>
                    <a:lnTo>
                      <a:pt x="143" y="1755"/>
                    </a:lnTo>
                    <a:lnTo>
                      <a:pt x="143" y="1756"/>
                    </a:lnTo>
                    <a:lnTo>
                      <a:pt x="145" y="1760"/>
                    </a:lnTo>
                    <a:lnTo>
                      <a:pt x="146" y="1762"/>
                    </a:lnTo>
                    <a:lnTo>
                      <a:pt x="148" y="1766"/>
                    </a:lnTo>
                    <a:lnTo>
                      <a:pt x="150" y="1768"/>
                    </a:lnTo>
                    <a:lnTo>
                      <a:pt x="152" y="1770"/>
                    </a:lnTo>
                    <a:lnTo>
                      <a:pt x="156" y="1774"/>
                    </a:lnTo>
                    <a:lnTo>
                      <a:pt x="158" y="1777"/>
                    </a:lnTo>
                    <a:lnTo>
                      <a:pt x="160" y="1779"/>
                    </a:lnTo>
                    <a:lnTo>
                      <a:pt x="160" y="1783"/>
                    </a:lnTo>
                    <a:lnTo>
                      <a:pt x="162" y="1787"/>
                    </a:lnTo>
                    <a:lnTo>
                      <a:pt x="166" y="1789"/>
                    </a:lnTo>
                    <a:lnTo>
                      <a:pt x="166" y="1791"/>
                    </a:lnTo>
                    <a:lnTo>
                      <a:pt x="167" y="1794"/>
                    </a:lnTo>
                    <a:lnTo>
                      <a:pt x="169" y="1796"/>
                    </a:lnTo>
                    <a:lnTo>
                      <a:pt x="171" y="1800"/>
                    </a:lnTo>
                    <a:lnTo>
                      <a:pt x="173" y="1802"/>
                    </a:lnTo>
                    <a:lnTo>
                      <a:pt x="175" y="1806"/>
                    </a:lnTo>
                    <a:lnTo>
                      <a:pt x="177" y="1808"/>
                    </a:lnTo>
                    <a:lnTo>
                      <a:pt x="179" y="1812"/>
                    </a:lnTo>
                    <a:lnTo>
                      <a:pt x="181" y="1815"/>
                    </a:lnTo>
                    <a:lnTo>
                      <a:pt x="183" y="1817"/>
                    </a:lnTo>
                    <a:lnTo>
                      <a:pt x="185" y="1821"/>
                    </a:lnTo>
                    <a:lnTo>
                      <a:pt x="188" y="1827"/>
                    </a:lnTo>
                    <a:lnTo>
                      <a:pt x="190" y="1831"/>
                    </a:lnTo>
                    <a:lnTo>
                      <a:pt x="194" y="1836"/>
                    </a:lnTo>
                    <a:lnTo>
                      <a:pt x="198" y="1842"/>
                    </a:lnTo>
                    <a:lnTo>
                      <a:pt x="200" y="1846"/>
                    </a:lnTo>
                    <a:lnTo>
                      <a:pt x="204" y="1850"/>
                    </a:lnTo>
                    <a:lnTo>
                      <a:pt x="205" y="1853"/>
                    </a:lnTo>
                    <a:lnTo>
                      <a:pt x="207" y="1859"/>
                    </a:lnTo>
                    <a:lnTo>
                      <a:pt x="209" y="1861"/>
                    </a:lnTo>
                    <a:lnTo>
                      <a:pt x="211" y="1863"/>
                    </a:lnTo>
                    <a:lnTo>
                      <a:pt x="213" y="1867"/>
                    </a:lnTo>
                    <a:lnTo>
                      <a:pt x="215" y="1869"/>
                    </a:lnTo>
                    <a:lnTo>
                      <a:pt x="217" y="1870"/>
                    </a:lnTo>
                    <a:lnTo>
                      <a:pt x="219" y="1874"/>
                    </a:lnTo>
                    <a:lnTo>
                      <a:pt x="141" y="2163"/>
                    </a:lnTo>
                    <a:lnTo>
                      <a:pt x="143" y="2165"/>
                    </a:lnTo>
                    <a:lnTo>
                      <a:pt x="146" y="2165"/>
                    </a:lnTo>
                    <a:lnTo>
                      <a:pt x="150" y="2167"/>
                    </a:lnTo>
                    <a:lnTo>
                      <a:pt x="152" y="2167"/>
                    </a:lnTo>
                    <a:lnTo>
                      <a:pt x="154" y="2167"/>
                    </a:lnTo>
                    <a:lnTo>
                      <a:pt x="158" y="2167"/>
                    </a:lnTo>
                    <a:lnTo>
                      <a:pt x="162" y="2171"/>
                    </a:lnTo>
                    <a:lnTo>
                      <a:pt x="166" y="2171"/>
                    </a:lnTo>
                    <a:lnTo>
                      <a:pt x="167" y="2173"/>
                    </a:lnTo>
                    <a:lnTo>
                      <a:pt x="171" y="2173"/>
                    </a:lnTo>
                    <a:lnTo>
                      <a:pt x="175" y="2175"/>
                    </a:lnTo>
                    <a:lnTo>
                      <a:pt x="181" y="2175"/>
                    </a:lnTo>
                    <a:lnTo>
                      <a:pt x="185" y="2175"/>
                    </a:lnTo>
                    <a:lnTo>
                      <a:pt x="188" y="2177"/>
                    </a:lnTo>
                    <a:lnTo>
                      <a:pt x="194" y="2180"/>
                    </a:lnTo>
                    <a:lnTo>
                      <a:pt x="198" y="2180"/>
                    </a:lnTo>
                    <a:lnTo>
                      <a:pt x="204" y="2182"/>
                    </a:lnTo>
                    <a:lnTo>
                      <a:pt x="209" y="2182"/>
                    </a:lnTo>
                    <a:lnTo>
                      <a:pt x="215" y="2184"/>
                    </a:lnTo>
                    <a:lnTo>
                      <a:pt x="219" y="2186"/>
                    </a:lnTo>
                    <a:lnTo>
                      <a:pt x="224" y="2188"/>
                    </a:lnTo>
                    <a:lnTo>
                      <a:pt x="232" y="2188"/>
                    </a:lnTo>
                    <a:lnTo>
                      <a:pt x="238" y="2190"/>
                    </a:lnTo>
                    <a:lnTo>
                      <a:pt x="243" y="2190"/>
                    </a:lnTo>
                    <a:lnTo>
                      <a:pt x="251" y="2192"/>
                    </a:lnTo>
                    <a:lnTo>
                      <a:pt x="257" y="2194"/>
                    </a:lnTo>
                    <a:lnTo>
                      <a:pt x="264" y="2194"/>
                    </a:lnTo>
                    <a:lnTo>
                      <a:pt x="270" y="2196"/>
                    </a:lnTo>
                    <a:lnTo>
                      <a:pt x="276" y="2196"/>
                    </a:lnTo>
                    <a:lnTo>
                      <a:pt x="283" y="2197"/>
                    </a:lnTo>
                    <a:lnTo>
                      <a:pt x="291" y="2199"/>
                    </a:lnTo>
                    <a:lnTo>
                      <a:pt x="297" y="2199"/>
                    </a:lnTo>
                    <a:lnTo>
                      <a:pt x="304" y="2199"/>
                    </a:lnTo>
                    <a:lnTo>
                      <a:pt x="312" y="2199"/>
                    </a:lnTo>
                    <a:lnTo>
                      <a:pt x="320" y="2201"/>
                    </a:lnTo>
                    <a:lnTo>
                      <a:pt x="325" y="2201"/>
                    </a:lnTo>
                    <a:lnTo>
                      <a:pt x="333" y="2201"/>
                    </a:lnTo>
                    <a:lnTo>
                      <a:pt x="341" y="2201"/>
                    </a:lnTo>
                    <a:lnTo>
                      <a:pt x="348" y="2201"/>
                    </a:lnTo>
                    <a:lnTo>
                      <a:pt x="356" y="2201"/>
                    </a:lnTo>
                    <a:lnTo>
                      <a:pt x="363" y="2201"/>
                    </a:lnTo>
                    <a:lnTo>
                      <a:pt x="371" y="2201"/>
                    </a:lnTo>
                    <a:lnTo>
                      <a:pt x="379" y="2201"/>
                    </a:lnTo>
                    <a:lnTo>
                      <a:pt x="386" y="2201"/>
                    </a:lnTo>
                    <a:lnTo>
                      <a:pt x="394" y="2201"/>
                    </a:lnTo>
                    <a:lnTo>
                      <a:pt x="401" y="2199"/>
                    </a:lnTo>
                    <a:lnTo>
                      <a:pt x="409" y="2199"/>
                    </a:lnTo>
                    <a:lnTo>
                      <a:pt x="415" y="2197"/>
                    </a:lnTo>
                    <a:lnTo>
                      <a:pt x="422" y="2196"/>
                    </a:lnTo>
                    <a:lnTo>
                      <a:pt x="432" y="2196"/>
                    </a:lnTo>
                    <a:lnTo>
                      <a:pt x="439" y="2194"/>
                    </a:lnTo>
                    <a:lnTo>
                      <a:pt x="447" y="2192"/>
                    </a:lnTo>
                    <a:lnTo>
                      <a:pt x="455" y="2190"/>
                    </a:lnTo>
                    <a:lnTo>
                      <a:pt x="462" y="2188"/>
                    </a:lnTo>
                    <a:lnTo>
                      <a:pt x="470" y="2188"/>
                    </a:lnTo>
                    <a:lnTo>
                      <a:pt x="476" y="2184"/>
                    </a:lnTo>
                    <a:lnTo>
                      <a:pt x="483" y="2182"/>
                    </a:lnTo>
                    <a:lnTo>
                      <a:pt x="491" y="2180"/>
                    </a:lnTo>
                    <a:lnTo>
                      <a:pt x="498" y="2175"/>
                    </a:lnTo>
                    <a:lnTo>
                      <a:pt x="504" y="2173"/>
                    </a:lnTo>
                    <a:lnTo>
                      <a:pt x="512" y="2169"/>
                    </a:lnTo>
                    <a:lnTo>
                      <a:pt x="517" y="2165"/>
                    </a:lnTo>
                    <a:lnTo>
                      <a:pt x="525" y="2161"/>
                    </a:lnTo>
                    <a:lnTo>
                      <a:pt x="531" y="2158"/>
                    </a:lnTo>
                    <a:lnTo>
                      <a:pt x="536" y="2154"/>
                    </a:lnTo>
                    <a:lnTo>
                      <a:pt x="542" y="2150"/>
                    </a:lnTo>
                    <a:lnTo>
                      <a:pt x="550" y="2146"/>
                    </a:lnTo>
                    <a:lnTo>
                      <a:pt x="555" y="2142"/>
                    </a:lnTo>
                    <a:lnTo>
                      <a:pt x="559" y="2137"/>
                    </a:lnTo>
                    <a:lnTo>
                      <a:pt x="565" y="2133"/>
                    </a:lnTo>
                    <a:lnTo>
                      <a:pt x="571" y="2129"/>
                    </a:lnTo>
                    <a:lnTo>
                      <a:pt x="576" y="2123"/>
                    </a:lnTo>
                    <a:lnTo>
                      <a:pt x="582" y="2120"/>
                    </a:lnTo>
                    <a:lnTo>
                      <a:pt x="588" y="2114"/>
                    </a:lnTo>
                    <a:lnTo>
                      <a:pt x="592" y="2110"/>
                    </a:lnTo>
                    <a:lnTo>
                      <a:pt x="595" y="2106"/>
                    </a:lnTo>
                    <a:lnTo>
                      <a:pt x="601" y="2101"/>
                    </a:lnTo>
                    <a:lnTo>
                      <a:pt x="605" y="2095"/>
                    </a:lnTo>
                    <a:lnTo>
                      <a:pt x="611" y="2091"/>
                    </a:lnTo>
                    <a:lnTo>
                      <a:pt x="614" y="2085"/>
                    </a:lnTo>
                    <a:lnTo>
                      <a:pt x="618" y="2080"/>
                    </a:lnTo>
                    <a:lnTo>
                      <a:pt x="624" y="2076"/>
                    </a:lnTo>
                    <a:lnTo>
                      <a:pt x="628" y="2070"/>
                    </a:lnTo>
                    <a:lnTo>
                      <a:pt x="632" y="2064"/>
                    </a:lnTo>
                    <a:lnTo>
                      <a:pt x="635" y="2059"/>
                    </a:lnTo>
                    <a:lnTo>
                      <a:pt x="637" y="2055"/>
                    </a:lnTo>
                    <a:lnTo>
                      <a:pt x="643" y="2049"/>
                    </a:lnTo>
                    <a:lnTo>
                      <a:pt x="645" y="2043"/>
                    </a:lnTo>
                    <a:lnTo>
                      <a:pt x="649" y="2040"/>
                    </a:lnTo>
                    <a:lnTo>
                      <a:pt x="652" y="2034"/>
                    </a:lnTo>
                    <a:lnTo>
                      <a:pt x="654" y="2030"/>
                    </a:lnTo>
                    <a:lnTo>
                      <a:pt x="658" y="2024"/>
                    </a:lnTo>
                    <a:lnTo>
                      <a:pt x="660" y="2021"/>
                    </a:lnTo>
                    <a:lnTo>
                      <a:pt x="664" y="2015"/>
                    </a:lnTo>
                    <a:lnTo>
                      <a:pt x="666" y="2011"/>
                    </a:lnTo>
                    <a:lnTo>
                      <a:pt x="668" y="2005"/>
                    </a:lnTo>
                    <a:lnTo>
                      <a:pt x="672" y="2002"/>
                    </a:lnTo>
                    <a:lnTo>
                      <a:pt x="673" y="1998"/>
                    </a:lnTo>
                    <a:lnTo>
                      <a:pt x="675" y="1992"/>
                    </a:lnTo>
                    <a:lnTo>
                      <a:pt x="677" y="1986"/>
                    </a:lnTo>
                    <a:lnTo>
                      <a:pt x="679" y="1983"/>
                    </a:lnTo>
                    <a:lnTo>
                      <a:pt x="681" y="1979"/>
                    </a:lnTo>
                    <a:lnTo>
                      <a:pt x="683" y="1975"/>
                    </a:lnTo>
                    <a:lnTo>
                      <a:pt x="685" y="1971"/>
                    </a:lnTo>
                    <a:lnTo>
                      <a:pt x="687" y="1969"/>
                    </a:lnTo>
                    <a:lnTo>
                      <a:pt x="689" y="1964"/>
                    </a:lnTo>
                    <a:lnTo>
                      <a:pt x="691" y="1962"/>
                    </a:lnTo>
                    <a:lnTo>
                      <a:pt x="692" y="1958"/>
                    </a:lnTo>
                    <a:lnTo>
                      <a:pt x="692" y="1954"/>
                    </a:lnTo>
                    <a:lnTo>
                      <a:pt x="692" y="1952"/>
                    </a:lnTo>
                    <a:lnTo>
                      <a:pt x="694" y="1950"/>
                    </a:lnTo>
                    <a:lnTo>
                      <a:pt x="696" y="1945"/>
                    </a:lnTo>
                    <a:lnTo>
                      <a:pt x="698" y="1941"/>
                    </a:lnTo>
                    <a:lnTo>
                      <a:pt x="700" y="1937"/>
                    </a:lnTo>
                    <a:lnTo>
                      <a:pt x="700" y="1935"/>
                    </a:lnTo>
                    <a:lnTo>
                      <a:pt x="700" y="1933"/>
                    </a:lnTo>
                    <a:lnTo>
                      <a:pt x="702" y="1933"/>
                    </a:lnTo>
                    <a:lnTo>
                      <a:pt x="740" y="1943"/>
                    </a:lnTo>
                    <a:lnTo>
                      <a:pt x="740" y="1943"/>
                    </a:lnTo>
                    <a:lnTo>
                      <a:pt x="738" y="1945"/>
                    </a:lnTo>
                    <a:lnTo>
                      <a:pt x="738" y="1947"/>
                    </a:lnTo>
                    <a:lnTo>
                      <a:pt x="738" y="1950"/>
                    </a:lnTo>
                    <a:lnTo>
                      <a:pt x="738" y="1954"/>
                    </a:lnTo>
                    <a:lnTo>
                      <a:pt x="738" y="1958"/>
                    </a:lnTo>
                    <a:lnTo>
                      <a:pt x="736" y="1962"/>
                    </a:lnTo>
                    <a:lnTo>
                      <a:pt x="736" y="1964"/>
                    </a:lnTo>
                    <a:lnTo>
                      <a:pt x="736" y="1967"/>
                    </a:lnTo>
                    <a:lnTo>
                      <a:pt x="736" y="1971"/>
                    </a:lnTo>
                    <a:lnTo>
                      <a:pt x="736" y="1975"/>
                    </a:lnTo>
                    <a:lnTo>
                      <a:pt x="736" y="1979"/>
                    </a:lnTo>
                    <a:lnTo>
                      <a:pt x="736" y="1983"/>
                    </a:lnTo>
                    <a:lnTo>
                      <a:pt x="736" y="1985"/>
                    </a:lnTo>
                    <a:lnTo>
                      <a:pt x="736" y="1990"/>
                    </a:lnTo>
                    <a:lnTo>
                      <a:pt x="736" y="1994"/>
                    </a:lnTo>
                    <a:lnTo>
                      <a:pt x="736" y="1998"/>
                    </a:lnTo>
                    <a:lnTo>
                      <a:pt x="736" y="2004"/>
                    </a:lnTo>
                    <a:lnTo>
                      <a:pt x="736" y="2007"/>
                    </a:lnTo>
                    <a:lnTo>
                      <a:pt x="736" y="2013"/>
                    </a:lnTo>
                    <a:lnTo>
                      <a:pt x="736" y="2015"/>
                    </a:lnTo>
                    <a:lnTo>
                      <a:pt x="736" y="2021"/>
                    </a:lnTo>
                    <a:lnTo>
                      <a:pt x="736" y="2026"/>
                    </a:lnTo>
                    <a:lnTo>
                      <a:pt x="736" y="2030"/>
                    </a:lnTo>
                    <a:lnTo>
                      <a:pt x="736" y="2036"/>
                    </a:lnTo>
                    <a:lnTo>
                      <a:pt x="736" y="2042"/>
                    </a:lnTo>
                    <a:lnTo>
                      <a:pt x="736" y="2047"/>
                    </a:lnTo>
                    <a:lnTo>
                      <a:pt x="738" y="2051"/>
                    </a:lnTo>
                    <a:lnTo>
                      <a:pt x="738" y="2057"/>
                    </a:lnTo>
                    <a:lnTo>
                      <a:pt x="738" y="2062"/>
                    </a:lnTo>
                    <a:lnTo>
                      <a:pt x="740" y="2066"/>
                    </a:lnTo>
                    <a:lnTo>
                      <a:pt x="740" y="2072"/>
                    </a:lnTo>
                    <a:lnTo>
                      <a:pt x="742" y="2078"/>
                    </a:lnTo>
                    <a:lnTo>
                      <a:pt x="744" y="2083"/>
                    </a:lnTo>
                    <a:lnTo>
                      <a:pt x="744" y="2091"/>
                    </a:lnTo>
                    <a:lnTo>
                      <a:pt x="746" y="2095"/>
                    </a:lnTo>
                    <a:lnTo>
                      <a:pt x="748" y="2101"/>
                    </a:lnTo>
                    <a:lnTo>
                      <a:pt x="748" y="2106"/>
                    </a:lnTo>
                    <a:lnTo>
                      <a:pt x="751" y="2110"/>
                    </a:lnTo>
                    <a:lnTo>
                      <a:pt x="753" y="2118"/>
                    </a:lnTo>
                    <a:lnTo>
                      <a:pt x="753" y="2123"/>
                    </a:lnTo>
                    <a:lnTo>
                      <a:pt x="757" y="2129"/>
                    </a:lnTo>
                    <a:lnTo>
                      <a:pt x="759" y="2135"/>
                    </a:lnTo>
                    <a:lnTo>
                      <a:pt x="761" y="2139"/>
                    </a:lnTo>
                    <a:lnTo>
                      <a:pt x="765" y="2144"/>
                    </a:lnTo>
                    <a:lnTo>
                      <a:pt x="767" y="2150"/>
                    </a:lnTo>
                    <a:lnTo>
                      <a:pt x="769" y="2156"/>
                    </a:lnTo>
                    <a:lnTo>
                      <a:pt x="772" y="2159"/>
                    </a:lnTo>
                    <a:lnTo>
                      <a:pt x="776" y="2165"/>
                    </a:lnTo>
                    <a:lnTo>
                      <a:pt x="780" y="2171"/>
                    </a:lnTo>
                    <a:lnTo>
                      <a:pt x="782" y="2175"/>
                    </a:lnTo>
                    <a:lnTo>
                      <a:pt x="786" y="2180"/>
                    </a:lnTo>
                    <a:lnTo>
                      <a:pt x="789" y="2186"/>
                    </a:lnTo>
                    <a:lnTo>
                      <a:pt x="795" y="2190"/>
                    </a:lnTo>
                    <a:lnTo>
                      <a:pt x="799" y="2196"/>
                    </a:lnTo>
                    <a:lnTo>
                      <a:pt x="805" y="2201"/>
                    </a:lnTo>
                    <a:lnTo>
                      <a:pt x="808" y="2205"/>
                    </a:lnTo>
                    <a:lnTo>
                      <a:pt x="814" y="2209"/>
                    </a:lnTo>
                    <a:lnTo>
                      <a:pt x="818" y="2213"/>
                    </a:lnTo>
                    <a:lnTo>
                      <a:pt x="824" y="2216"/>
                    </a:lnTo>
                    <a:lnTo>
                      <a:pt x="828" y="2222"/>
                    </a:lnTo>
                    <a:lnTo>
                      <a:pt x="833" y="2224"/>
                    </a:lnTo>
                    <a:lnTo>
                      <a:pt x="839" y="2228"/>
                    </a:lnTo>
                    <a:lnTo>
                      <a:pt x="845" y="2232"/>
                    </a:lnTo>
                    <a:lnTo>
                      <a:pt x="848" y="2235"/>
                    </a:lnTo>
                    <a:lnTo>
                      <a:pt x="854" y="2239"/>
                    </a:lnTo>
                    <a:lnTo>
                      <a:pt x="858" y="2243"/>
                    </a:lnTo>
                    <a:lnTo>
                      <a:pt x="864" y="2245"/>
                    </a:lnTo>
                    <a:lnTo>
                      <a:pt x="867" y="2249"/>
                    </a:lnTo>
                    <a:lnTo>
                      <a:pt x="873" y="2253"/>
                    </a:lnTo>
                    <a:lnTo>
                      <a:pt x="877" y="2256"/>
                    </a:lnTo>
                    <a:lnTo>
                      <a:pt x="883" y="2258"/>
                    </a:lnTo>
                    <a:lnTo>
                      <a:pt x="890" y="2260"/>
                    </a:lnTo>
                    <a:lnTo>
                      <a:pt x="896" y="2264"/>
                    </a:lnTo>
                    <a:lnTo>
                      <a:pt x="900" y="2266"/>
                    </a:lnTo>
                    <a:lnTo>
                      <a:pt x="904" y="2268"/>
                    </a:lnTo>
                    <a:lnTo>
                      <a:pt x="907" y="2270"/>
                    </a:lnTo>
                    <a:lnTo>
                      <a:pt x="913" y="2273"/>
                    </a:lnTo>
                    <a:lnTo>
                      <a:pt x="919" y="2275"/>
                    </a:lnTo>
                    <a:lnTo>
                      <a:pt x="925" y="2277"/>
                    </a:lnTo>
                    <a:lnTo>
                      <a:pt x="928" y="2279"/>
                    </a:lnTo>
                    <a:lnTo>
                      <a:pt x="934" y="2281"/>
                    </a:lnTo>
                    <a:lnTo>
                      <a:pt x="938" y="2283"/>
                    </a:lnTo>
                    <a:lnTo>
                      <a:pt x="942" y="2285"/>
                    </a:lnTo>
                    <a:lnTo>
                      <a:pt x="947" y="2287"/>
                    </a:lnTo>
                    <a:lnTo>
                      <a:pt x="951" y="2289"/>
                    </a:lnTo>
                    <a:lnTo>
                      <a:pt x="955" y="2289"/>
                    </a:lnTo>
                    <a:lnTo>
                      <a:pt x="961" y="2291"/>
                    </a:lnTo>
                    <a:lnTo>
                      <a:pt x="964" y="2291"/>
                    </a:lnTo>
                    <a:lnTo>
                      <a:pt x="968" y="2294"/>
                    </a:lnTo>
                    <a:lnTo>
                      <a:pt x="972" y="2294"/>
                    </a:lnTo>
                    <a:lnTo>
                      <a:pt x="978" y="2294"/>
                    </a:lnTo>
                    <a:lnTo>
                      <a:pt x="982" y="2296"/>
                    </a:lnTo>
                    <a:lnTo>
                      <a:pt x="985" y="2296"/>
                    </a:lnTo>
                    <a:lnTo>
                      <a:pt x="989" y="2296"/>
                    </a:lnTo>
                    <a:lnTo>
                      <a:pt x="993" y="2298"/>
                    </a:lnTo>
                    <a:lnTo>
                      <a:pt x="997" y="2298"/>
                    </a:lnTo>
                    <a:lnTo>
                      <a:pt x="1001" y="2298"/>
                    </a:lnTo>
                    <a:lnTo>
                      <a:pt x="1004" y="2298"/>
                    </a:lnTo>
                    <a:lnTo>
                      <a:pt x="1008" y="2300"/>
                    </a:lnTo>
                    <a:lnTo>
                      <a:pt x="1010" y="2300"/>
                    </a:lnTo>
                    <a:lnTo>
                      <a:pt x="1014" y="2300"/>
                    </a:lnTo>
                    <a:lnTo>
                      <a:pt x="1016" y="2300"/>
                    </a:lnTo>
                    <a:lnTo>
                      <a:pt x="1020" y="2300"/>
                    </a:lnTo>
                    <a:lnTo>
                      <a:pt x="1022" y="2300"/>
                    </a:lnTo>
                    <a:lnTo>
                      <a:pt x="1025" y="2302"/>
                    </a:lnTo>
                    <a:lnTo>
                      <a:pt x="1029" y="2300"/>
                    </a:lnTo>
                    <a:lnTo>
                      <a:pt x="1035" y="2300"/>
                    </a:lnTo>
                    <a:lnTo>
                      <a:pt x="1039" y="2298"/>
                    </a:lnTo>
                    <a:lnTo>
                      <a:pt x="1042" y="2298"/>
                    </a:lnTo>
                    <a:lnTo>
                      <a:pt x="1044" y="2296"/>
                    </a:lnTo>
                    <a:lnTo>
                      <a:pt x="1048" y="2296"/>
                    </a:lnTo>
                    <a:lnTo>
                      <a:pt x="1048" y="2294"/>
                    </a:lnTo>
                    <a:lnTo>
                      <a:pt x="1050" y="2294"/>
                    </a:lnTo>
                    <a:lnTo>
                      <a:pt x="1246" y="1334"/>
                    </a:lnTo>
                    <a:lnTo>
                      <a:pt x="1246" y="1333"/>
                    </a:lnTo>
                    <a:lnTo>
                      <a:pt x="1248" y="1331"/>
                    </a:lnTo>
                    <a:lnTo>
                      <a:pt x="1250" y="1327"/>
                    </a:lnTo>
                    <a:lnTo>
                      <a:pt x="1252" y="1325"/>
                    </a:lnTo>
                    <a:lnTo>
                      <a:pt x="1252" y="1323"/>
                    </a:lnTo>
                    <a:lnTo>
                      <a:pt x="1254" y="1319"/>
                    </a:lnTo>
                    <a:lnTo>
                      <a:pt x="1256" y="1315"/>
                    </a:lnTo>
                    <a:lnTo>
                      <a:pt x="1259" y="1312"/>
                    </a:lnTo>
                    <a:lnTo>
                      <a:pt x="1259" y="1306"/>
                    </a:lnTo>
                    <a:lnTo>
                      <a:pt x="1263" y="1302"/>
                    </a:lnTo>
                    <a:lnTo>
                      <a:pt x="1265" y="1296"/>
                    </a:lnTo>
                    <a:lnTo>
                      <a:pt x="1269" y="1293"/>
                    </a:lnTo>
                    <a:lnTo>
                      <a:pt x="1271" y="1285"/>
                    </a:lnTo>
                    <a:lnTo>
                      <a:pt x="1275" y="1281"/>
                    </a:lnTo>
                    <a:lnTo>
                      <a:pt x="1276" y="1274"/>
                    </a:lnTo>
                    <a:lnTo>
                      <a:pt x="1280" y="1266"/>
                    </a:lnTo>
                    <a:lnTo>
                      <a:pt x="1284" y="1258"/>
                    </a:lnTo>
                    <a:lnTo>
                      <a:pt x="1288" y="1249"/>
                    </a:lnTo>
                    <a:lnTo>
                      <a:pt x="1290" y="1241"/>
                    </a:lnTo>
                    <a:lnTo>
                      <a:pt x="1294" y="1234"/>
                    </a:lnTo>
                    <a:lnTo>
                      <a:pt x="1297" y="1224"/>
                    </a:lnTo>
                    <a:lnTo>
                      <a:pt x="1301" y="1217"/>
                    </a:lnTo>
                    <a:lnTo>
                      <a:pt x="1305" y="1207"/>
                    </a:lnTo>
                    <a:lnTo>
                      <a:pt x="1309" y="1198"/>
                    </a:lnTo>
                    <a:lnTo>
                      <a:pt x="1313" y="1188"/>
                    </a:lnTo>
                    <a:lnTo>
                      <a:pt x="1316" y="1177"/>
                    </a:lnTo>
                    <a:lnTo>
                      <a:pt x="1320" y="1165"/>
                    </a:lnTo>
                    <a:lnTo>
                      <a:pt x="1324" y="1154"/>
                    </a:lnTo>
                    <a:lnTo>
                      <a:pt x="1330" y="1144"/>
                    </a:lnTo>
                    <a:lnTo>
                      <a:pt x="1334" y="1133"/>
                    </a:lnTo>
                    <a:lnTo>
                      <a:pt x="1337" y="1122"/>
                    </a:lnTo>
                    <a:lnTo>
                      <a:pt x="1339" y="1108"/>
                    </a:lnTo>
                    <a:lnTo>
                      <a:pt x="1345" y="1097"/>
                    </a:lnTo>
                    <a:lnTo>
                      <a:pt x="1349" y="1084"/>
                    </a:lnTo>
                    <a:lnTo>
                      <a:pt x="1353" y="1070"/>
                    </a:lnTo>
                    <a:lnTo>
                      <a:pt x="1354" y="1059"/>
                    </a:lnTo>
                    <a:lnTo>
                      <a:pt x="1358" y="1044"/>
                    </a:lnTo>
                    <a:lnTo>
                      <a:pt x="1362" y="1032"/>
                    </a:lnTo>
                    <a:lnTo>
                      <a:pt x="1366" y="1017"/>
                    </a:lnTo>
                    <a:lnTo>
                      <a:pt x="1370" y="1004"/>
                    </a:lnTo>
                    <a:lnTo>
                      <a:pt x="1372" y="988"/>
                    </a:lnTo>
                    <a:lnTo>
                      <a:pt x="1375" y="975"/>
                    </a:lnTo>
                    <a:lnTo>
                      <a:pt x="1377" y="960"/>
                    </a:lnTo>
                    <a:lnTo>
                      <a:pt x="1381" y="947"/>
                    </a:lnTo>
                    <a:lnTo>
                      <a:pt x="1383" y="931"/>
                    </a:lnTo>
                    <a:lnTo>
                      <a:pt x="1387" y="916"/>
                    </a:lnTo>
                    <a:lnTo>
                      <a:pt x="1389" y="901"/>
                    </a:lnTo>
                    <a:lnTo>
                      <a:pt x="1391" y="886"/>
                    </a:lnTo>
                    <a:lnTo>
                      <a:pt x="1392" y="871"/>
                    </a:lnTo>
                    <a:lnTo>
                      <a:pt x="1394" y="855"/>
                    </a:lnTo>
                    <a:lnTo>
                      <a:pt x="1396" y="838"/>
                    </a:lnTo>
                    <a:lnTo>
                      <a:pt x="1398" y="823"/>
                    </a:lnTo>
                    <a:lnTo>
                      <a:pt x="1398" y="806"/>
                    </a:lnTo>
                    <a:lnTo>
                      <a:pt x="1400" y="791"/>
                    </a:lnTo>
                    <a:lnTo>
                      <a:pt x="1402" y="774"/>
                    </a:lnTo>
                    <a:lnTo>
                      <a:pt x="1402" y="757"/>
                    </a:lnTo>
                    <a:lnTo>
                      <a:pt x="1402" y="741"/>
                    </a:lnTo>
                    <a:lnTo>
                      <a:pt x="1402" y="724"/>
                    </a:lnTo>
                    <a:lnTo>
                      <a:pt x="1402" y="705"/>
                    </a:lnTo>
                    <a:lnTo>
                      <a:pt x="1402" y="690"/>
                    </a:lnTo>
                    <a:lnTo>
                      <a:pt x="1400" y="673"/>
                    </a:lnTo>
                    <a:lnTo>
                      <a:pt x="1400" y="656"/>
                    </a:lnTo>
                    <a:lnTo>
                      <a:pt x="1398" y="654"/>
                    </a:lnTo>
                    <a:lnTo>
                      <a:pt x="1398" y="652"/>
                    </a:lnTo>
                    <a:lnTo>
                      <a:pt x="1398" y="648"/>
                    </a:lnTo>
                    <a:lnTo>
                      <a:pt x="1398" y="644"/>
                    </a:lnTo>
                    <a:lnTo>
                      <a:pt x="1398" y="643"/>
                    </a:lnTo>
                    <a:lnTo>
                      <a:pt x="1398" y="639"/>
                    </a:lnTo>
                    <a:lnTo>
                      <a:pt x="1396" y="637"/>
                    </a:lnTo>
                    <a:lnTo>
                      <a:pt x="1396" y="633"/>
                    </a:lnTo>
                    <a:lnTo>
                      <a:pt x="1396" y="631"/>
                    </a:lnTo>
                    <a:lnTo>
                      <a:pt x="1396" y="627"/>
                    </a:lnTo>
                    <a:lnTo>
                      <a:pt x="1396" y="623"/>
                    </a:lnTo>
                    <a:lnTo>
                      <a:pt x="1394" y="620"/>
                    </a:lnTo>
                    <a:lnTo>
                      <a:pt x="1394" y="618"/>
                    </a:lnTo>
                    <a:lnTo>
                      <a:pt x="1394" y="616"/>
                    </a:lnTo>
                    <a:lnTo>
                      <a:pt x="1392" y="612"/>
                    </a:lnTo>
                    <a:lnTo>
                      <a:pt x="1392" y="610"/>
                    </a:lnTo>
                    <a:lnTo>
                      <a:pt x="1392" y="608"/>
                    </a:lnTo>
                    <a:lnTo>
                      <a:pt x="1391" y="604"/>
                    </a:lnTo>
                    <a:lnTo>
                      <a:pt x="1391" y="603"/>
                    </a:lnTo>
                    <a:lnTo>
                      <a:pt x="1391" y="599"/>
                    </a:lnTo>
                    <a:lnTo>
                      <a:pt x="1389" y="597"/>
                    </a:lnTo>
                    <a:lnTo>
                      <a:pt x="1389" y="593"/>
                    </a:lnTo>
                    <a:lnTo>
                      <a:pt x="1389" y="589"/>
                    </a:lnTo>
                    <a:lnTo>
                      <a:pt x="1389" y="587"/>
                    </a:lnTo>
                    <a:lnTo>
                      <a:pt x="1387" y="585"/>
                    </a:lnTo>
                    <a:lnTo>
                      <a:pt x="1385" y="582"/>
                    </a:lnTo>
                    <a:lnTo>
                      <a:pt x="1385" y="580"/>
                    </a:lnTo>
                    <a:lnTo>
                      <a:pt x="1383" y="578"/>
                    </a:lnTo>
                    <a:lnTo>
                      <a:pt x="1383" y="572"/>
                    </a:lnTo>
                    <a:lnTo>
                      <a:pt x="1381" y="568"/>
                    </a:lnTo>
                    <a:lnTo>
                      <a:pt x="1377" y="563"/>
                    </a:lnTo>
                    <a:lnTo>
                      <a:pt x="1375" y="557"/>
                    </a:lnTo>
                    <a:lnTo>
                      <a:pt x="1373" y="553"/>
                    </a:lnTo>
                    <a:lnTo>
                      <a:pt x="1370" y="547"/>
                    </a:lnTo>
                    <a:lnTo>
                      <a:pt x="1366" y="544"/>
                    </a:lnTo>
                    <a:lnTo>
                      <a:pt x="1364" y="540"/>
                    </a:lnTo>
                    <a:lnTo>
                      <a:pt x="1360" y="536"/>
                    </a:lnTo>
                    <a:lnTo>
                      <a:pt x="1356" y="532"/>
                    </a:lnTo>
                    <a:lnTo>
                      <a:pt x="1353" y="528"/>
                    </a:lnTo>
                    <a:lnTo>
                      <a:pt x="1349" y="525"/>
                    </a:lnTo>
                    <a:lnTo>
                      <a:pt x="1345" y="523"/>
                    </a:lnTo>
                    <a:lnTo>
                      <a:pt x="1339" y="521"/>
                    </a:lnTo>
                    <a:lnTo>
                      <a:pt x="1335" y="517"/>
                    </a:lnTo>
                    <a:lnTo>
                      <a:pt x="1332" y="515"/>
                    </a:lnTo>
                    <a:lnTo>
                      <a:pt x="1326" y="515"/>
                    </a:lnTo>
                    <a:lnTo>
                      <a:pt x="1322" y="513"/>
                    </a:lnTo>
                    <a:lnTo>
                      <a:pt x="1318" y="511"/>
                    </a:lnTo>
                    <a:lnTo>
                      <a:pt x="1316" y="511"/>
                    </a:lnTo>
                    <a:lnTo>
                      <a:pt x="1313" y="511"/>
                    </a:lnTo>
                    <a:lnTo>
                      <a:pt x="1311" y="511"/>
                    </a:lnTo>
                    <a:lnTo>
                      <a:pt x="1309" y="509"/>
                    </a:lnTo>
                    <a:lnTo>
                      <a:pt x="1305" y="509"/>
                    </a:lnTo>
                    <a:lnTo>
                      <a:pt x="1303" y="509"/>
                    </a:lnTo>
                    <a:lnTo>
                      <a:pt x="1301" y="509"/>
                    </a:lnTo>
                    <a:lnTo>
                      <a:pt x="1297" y="509"/>
                    </a:lnTo>
                    <a:lnTo>
                      <a:pt x="1295" y="509"/>
                    </a:lnTo>
                    <a:lnTo>
                      <a:pt x="1292" y="509"/>
                    </a:lnTo>
                    <a:lnTo>
                      <a:pt x="1290" y="509"/>
                    </a:lnTo>
                    <a:lnTo>
                      <a:pt x="1284" y="509"/>
                    </a:lnTo>
                    <a:lnTo>
                      <a:pt x="1280" y="509"/>
                    </a:lnTo>
                    <a:lnTo>
                      <a:pt x="1275" y="509"/>
                    </a:lnTo>
                    <a:lnTo>
                      <a:pt x="1269" y="509"/>
                    </a:lnTo>
                    <a:lnTo>
                      <a:pt x="1265" y="509"/>
                    </a:lnTo>
                    <a:lnTo>
                      <a:pt x="1259" y="509"/>
                    </a:lnTo>
                    <a:lnTo>
                      <a:pt x="1256" y="511"/>
                    </a:lnTo>
                    <a:lnTo>
                      <a:pt x="1252" y="511"/>
                    </a:lnTo>
                    <a:lnTo>
                      <a:pt x="1246" y="515"/>
                    </a:lnTo>
                    <a:lnTo>
                      <a:pt x="1242" y="515"/>
                    </a:lnTo>
                    <a:lnTo>
                      <a:pt x="1238" y="517"/>
                    </a:lnTo>
                    <a:lnTo>
                      <a:pt x="1235" y="521"/>
                    </a:lnTo>
                    <a:lnTo>
                      <a:pt x="1231" y="523"/>
                    </a:lnTo>
                    <a:lnTo>
                      <a:pt x="1229" y="525"/>
                    </a:lnTo>
                    <a:lnTo>
                      <a:pt x="1225" y="527"/>
                    </a:lnTo>
                    <a:lnTo>
                      <a:pt x="1221" y="530"/>
                    </a:lnTo>
                    <a:lnTo>
                      <a:pt x="1219" y="532"/>
                    </a:lnTo>
                    <a:lnTo>
                      <a:pt x="1216" y="538"/>
                    </a:lnTo>
                    <a:lnTo>
                      <a:pt x="1214" y="542"/>
                    </a:lnTo>
                    <a:lnTo>
                      <a:pt x="1212" y="546"/>
                    </a:lnTo>
                    <a:lnTo>
                      <a:pt x="1210" y="549"/>
                    </a:lnTo>
                    <a:lnTo>
                      <a:pt x="1208" y="555"/>
                    </a:lnTo>
                    <a:lnTo>
                      <a:pt x="1208" y="557"/>
                    </a:lnTo>
                    <a:lnTo>
                      <a:pt x="1206" y="559"/>
                    </a:lnTo>
                    <a:lnTo>
                      <a:pt x="1204" y="561"/>
                    </a:lnTo>
                    <a:lnTo>
                      <a:pt x="1204" y="565"/>
                    </a:lnTo>
                    <a:lnTo>
                      <a:pt x="1204" y="566"/>
                    </a:lnTo>
                    <a:lnTo>
                      <a:pt x="1204" y="570"/>
                    </a:lnTo>
                    <a:lnTo>
                      <a:pt x="1204" y="572"/>
                    </a:lnTo>
                    <a:lnTo>
                      <a:pt x="1204" y="576"/>
                    </a:lnTo>
                    <a:lnTo>
                      <a:pt x="1139" y="895"/>
                    </a:lnTo>
                    <a:lnTo>
                      <a:pt x="1136" y="893"/>
                    </a:lnTo>
                    <a:lnTo>
                      <a:pt x="1132" y="892"/>
                    </a:lnTo>
                    <a:lnTo>
                      <a:pt x="1126" y="888"/>
                    </a:lnTo>
                    <a:lnTo>
                      <a:pt x="1122" y="886"/>
                    </a:lnTo>
                    <a:lnTo>
                      <a:pt x="1117" y="884"/>
                    </a:lnTo>
                    <a:lnTo>
                      <a:pt x="1113" y="880"/>
                    </a:lnTo>
                    <a:lnTo>
                      <a:pt x="1107" y="878"/>
                    </a:lnTo>
                    <a:lnTo>
                      <a:pt x="1105" y="876"/>
                    </a:lnTo>
                    <a:lnTo>
                      <a:pt x="1227" y="316"/>
                    </a:lnTo>
                    <a:lnTo>
                      <a:pt x="1227" y="312"/>
                    </a:lnTo>
                    <a:lnTo>
                      <a:pt x="1227" y="308"/>
                    </a:lnTo>
                    <a:lnTo>
                      <a:pt x="1229" y="306"/>
                    </a:lnTo>
                    <a:lnTo>
                      <a:pt x="1229" y="304"/>
                    </a:lnTo>
                    <a:lnTo>
                      <a:pt x="1229" y="300"/>
                    </a:lnTo>
                    <a:lnTo>
                      <a:pt x="1229" y="298"/>
                    </a:lnTo>
                    <a:lnTo>
                      <a:pt x="1229" y="295"/>
                    </a:lnTo>
                    <a:lnTo>
                      <a:pt x="1229" y="293"/>
                    </a:lnTo>
                    <a:lnTo>
                      <a:pt x="1229" y="291"/>
                    </a:lnTo>
                    <a:lnTo>
                      <a:pt x="1229" y="287"/>
                    </a:lnTo>
                    <a:lnTo>
                      <a:pt x="1229" y="285"/>
                    </a:lnTo>
                    <a:lnTo>
                      <a:pt x="1229" y="283"/>
                    </a:lnTo>
                    <a:lnTo>
                      <a:pt x="1229" y="278"/>
                    </a:lnTo>
                    <a:lnTo>
                      <a:pt x="1227" y="272"/>
                    </a:lnTo>
                    <a:lnTo>
                      <a:pt x="1225" y="268"/>
                    </a:lnTo>
                    <a:lnTo>
                      <a:pt x="1225" y="262"/>
                    </a:lnTo>
                    <a:lnTo>
                      <a:pt x="1223" y="257"/>
                    </a:lnTo>
                    <a:lnTo>
                      <a:pt x="1221" y="253"/>
                    </a:lnTo>
                    <a:lnTo>
                      <a:pt x="1219" y="247"/>
                    </a:lnTo>
                    <a:lnTo>
                      <a:pt x="1217" y="243"/>
                    </a:lnTo>
                    <a:lnTo>
                      <a:pt x="1216" y="240"/>
                    </a:lnTo>
                    <a:lnTo>
                      <a:pt x="1214" y="236"/>
                    </a:lnTo>
                    <a:lnTo>
                      <a:pt x="1210" y="232"/>
                    </a:lnTo>
                    <a:lnTo>
                      <a:pt x="1206" y="226"/>
                    </a:lnTo>
                    <a:lnTo>
                      <a:pt x="1202" y="222"/>
                    </a:lnTo>
                    <a:lnTo>
                      <a:pt x="1200" y="219"/>
                    </a:lnTo>
                    <a:lnTo>
                      <a:pt x="1197" y="215"/>
                    </a:lnTo>
                    <a:lnTo>
                      <a:pt x="1193" y="211"/>
                    </a:lnTo>
                    <a:lnTo>
                      <a:pt x="1189" y="207"/>
                    </a:lnTo>
                    <a:lnTo>
                      <a:pt x="1185" y="205"/>
                    </a:lnTo>
                    <a:lnTo>
                      <a:pt x="1179" y="203"/>
                    </a:lnTo>
                    <a:lnTo>
                      <a:pt x="1176" y="200"/>
                    </a:lnTo>
                    <a:lnTo>
                      <a:pt x="1172" y="198"/>
                    </a:lnTo>
                    <a:lnTo>
                      <a:pt x="1166" y="194"/>
                    </a:lnTo>
                    <a:lnTo>
                      <a:pt x="1160" y="192"/>
                    </a:lnTo>
                    <a:lnTo>
                      <a:pt x="1157" y="192"/>
                    </a:lnTo>
                    <a:lnTo>
                      <a:pt x="1151" y="190"/>
                    </a:lnTo>
                    <a:lnTo>
                      <a:pt x="1147" y="190"/>
                    </a:lnTo>
                    <a:lnTo>
                      <a:pt x="1143" y="188"/>
                    </a:lnTo>
                    <a:lnTo>
                      <a:pt x="1141" y="186"/>
                    </a:lnTo>
                    <a:lnTo>
                      <a:pt x="1138" y="186"/>
                    </a:lnTo>
                    <a:lnTo>
                      <a:pt x="1136" y="186"/>
                    </a:lnTo>
                    <a:lnTo>
                      <a:pt x="1134" y="186"/>
                    </a:lnTo>
                    <a:lnTo>
                      <a:pt x="1130" y="186"/>
                    </a:lnTo>
                    <a:lnTo>
                      <a:pt x="1128" y="186"/>
                    </a:lnTo>
                    <a:lnTo>
                      <a:pt x="1124" y="186"/>
                    </a:lnTo>
                    <a:lnTo>
                      <a:pt x="1122" y="186"/>
                    </a:lnTo>
                    <a:lnTo>
                      <a:pt x="1120" y="186"/>
                    </a:lnTo>
                    <a:lnTo>
                      <a:pt x="1117" y="186"/>
                    </a:lnTo>
                    <a:lnTo>
                      <a:pt x="1115" y="186"/>
                    </a:lnTo>
                    <a:lnTo>
                      <a:pt x="1109" y="186"/>
                    </a:lnTo>
                    <a:lnTo>
                      <a:pt x="1105" y="188"/>
                    </a:lnTo>
                    <a:lnTo>
                      <a:pt x="1100" y="188"/>
                    </a:lnTo>
                    <a:lnTo>
                      <a:pt x="1094" y="190"/>
                    </a:lnTo>
                    <a:lnTo>
                      <a:pt x="1090" y="192"/>
                    </a:lnTo>
                    <a:lnTo>
                      <a:pt x="1086" y="192"/>
                    </a:lnTo>
                    <a:lnTo>
                      <a:pt x="1081" y="194"/>
                    </a:lnTo>
                    <a:lnTo>
                      <a:pt x="1077" y="198"/>
                    </a:lnTo>
                    <a:lnTo>
                      <a:pt x="1073" y="200"/>
                    </a:lnTo>
                    <a:lnTo>
                      <a:pt x="1067" y="203"/>
                    </a:lnTo>
                    <a:lnTo>
                      <a:pt x="1063" y="205"/>
                    </a:lnTo>
                    <a:lnTo>
                      <a:pt x="1058" y="207"/>
                    </a:lnTo>
                    <a:lnTo>
                      <a:pt x="1054" y="211"/>
                    </a:lnTo>
                    <a:lnTo>
                      <a:pt x="1050" y="215"/>
                    </a:lnTo>
                    <a:lnTo>
                      <a:pt x="1048" y="219"/>
                    </a:lnTo>
                    <a:lnTo>
                      <a:pt x="1044" y="222"/>
                    </a:lnTo>
                    <a:lnTo>
                      <a:pt x="1041" y="226"/>
                    </a:lnTo>
                    <a:lnTo>
                      <a:pt x="1039" y="232"/>
                    </a:lnTo>
                    <a:lnTo>
                      <a:pt x="1035" y="234"/>
                    </a:lnTo>
                    <a:lnTo>
                      <a:pt x="1033" y="240"/>
                    </a:lnTo>
                    <a:lnTo>
                      <a:pt x="1029" y="243"/>
                    </a:lnTo>
                    <a:lnTo>
                      <a:pt x="1027" y="249"/>
                    </a:lnTo>
                    <a:lnTo>
                      <a:pt x="1025" y="253"/>
                    </a:lnTo>
                    <a:lnTo>
                      <a:pt x="1023" y="259"/>
                    </a:lnTo>
                    <a:lnTo>
                      <a:pt x="1022" y="260"/>
                    </a:lnTo>
                    <a:lnTo>
                      <a:pt x="1022" y="264"/>
                    </a:lnTo>
                    <a:lnTo>
                      <a:pt x="1022" y="266"/>
                    </a:lnTo>
                    <a:lnTo>
                      <a:pt x="1022" y="270"/>
                    </a:lnTo>
                    <a:lnTo>
                      <a:pt x="919" y="730"/>
                    </a:lnTo>
                    <a:lnTo>
                      <a:pt x="915" y="728"/>
                    </a:lnTo>
                    <a:lnTo>
                      <a:pt x="913" y="726"/>
                    </a:lnTo>
                    <a:lnTo>
                      <a:pt x="907" y="724"/>
                    </a:lnTo>
                    <a:lnTo>
                      <a:pt x="905" y="720"/>
                    </a:lnTo>
                    <a:lnTo>
                      <a:pt x="904" y="719"/>
                    </a:lnTo>
                    <a:lnTo>
                      <a:pt x="900" y="717"/>
                    </a:lnTo>
                    <a:lnTo>
                      <a:pt x="896" y="713"/>
                    </a:lnTo>
                    <a:lnTo>
                      <a:pt x="892" y="713"/>
                    </a:lnTo>
                    <a:lnTo>
                      <a:pt x="1022" y="129"/>
                    </a:lnTo>
                    <a:lnTo>
                      <a:pt x="1022" y="125"/>
                    </a:lnTo>
                    <a:lnTo>
                      <a:pt x="1022" y="124"/>
                    </a:lnTo>
                    <a:lnTo>
                      <a:pt x="1022" y="120"/>
                    </a:lnTo>
                    <a:lnTo>
                      <a:pt x="1022" y="118"/>
                    </a:lnTo>
                    <a:lnTo>
                      <a:pt x="1022" y="114"/>
                    </a:lnTo>
                    <a:lnTo>
                      <a:pt x="1022" y="112"/>
                    </a:lnTo>
                    <a:lnTo>
                      <a:pt x="1022" y="110"/>
                    </a:lnTo>
                    <a:lnTo>
                      <a:pt x="1022" y="106"/>
                    </a:lnTo>
                    <a:lnTo>
                      <a:pt x="1022" y="105"/>
                    </a:lnTo>
                    <a:lnTo>
                      <a:pt x="1022" y="103"/>
                    </a:lnTo>
                    <a:lnTo>
                      <a:pt x="1022" y="99"/>
                    </a:lnTo>
                    <a:lnTo>
                      <a:pt x="1022" y="97"/>
                    </a:lnTo>
                    <a:lnTo>
                      <a:pt x="1022" y="91"/>
                    </a:lnTo>
                    <a:lnTo>
                      <a:pt x="1022" y="86"/>
                    </a:lnTo>
                    <a:lnTo>
                      <a:pt x="1020" y="82"/>
                    </a:lnTo>
                    <a:lnTo>
                      <a:pt x="1018" y="76"/>
                    </a:lnTo>
                    <a:lnTo>
                      <a:pt x="1016" y="70"/>
                    </a:lnTo>
                    <a:lnTo>
                      <a:pt x="1014" y="67"/>
                    </a:lnTo>
                    <a:lnTo>
                      <a:pt x="1012" y="61"/>
                    </a:lnTo>
                    <a:lnTo>
                      <a:pt x="1010" y="57"/>
                    </a:lnTo>
                    <a:lnTo>
                      <a:pt x="1008" y="53"/>
                    </a:lnTo>
                    <a:lnTo>
                      <a:pt x="1006" y="48"/>
                    </a:lnTo>
                    <a:lnTo>
                      <a:pt x="1004" y="44"/>
                    </a:lnTo>
                    <a:lnTo>
                      <a:pt x="1001" y="40"/>
                    </a:lnTo>
                    <a:lnTo>
                      <a:pt x="997" y="36"/>
                    </a:lnTo>
                    <a:lnTo>
                      <a:pt x="993" y="32"/>
                    </a:lnTo>
                    <a:lnTo>
                      <a:pt x="991" y="29"/>
                    </a:lnTo>
                    <a:lnTo>
                      <a:pt x="985" y="25"/>
                    </a:lnTo>
                    <a:lnTo>
                      <a:pt x="983" y="23"/>
                    </a:lnTo>
                    <a:lnTo>
                      <a:pt x="978" y="19"/>
                    </a:lnTo>
                    <a:lnTo>
                      <a:pt x="972" y="17"/>
                    </a:lnTo>
                    <a:lnTo>
                      <a:pt x="968" y="13"/>
                    </a:lnTo>
                    <a:lnTo>
                      <a:pt x="964" y="11"/>
                    </a:lnTo>
                    <a:lnTo>
                      <a:pt x="961" y="10"/>
                    </a:lnTo>
                    <a:lnTo>
                      <a:pt x="955" y="6"/>
                    </a:lnTo>
                    <a:lnTo>
                      <a:pt x="949" y="6"/>
                    </a:lnTo>
                    <a:lnTo>
                      <a:pt x="944" y="4"/>
                    </a:lnTo>
                    <a:lnTo>
                      <a:pt x="940" y="4"/>
                    </a:lnTo>
                    <a:lnTo>
                      <a:pt x="936" y="2"/>
                    </a:lnTo>
                    <a:lnTo>
                      <a:pt x="934" y="2"/>
                    </a:lnTo>
                    <a:lnTo>
                      <a:pt x="932" y="0"/>
                    </a:lnTo>
                    <a:lnTo>
                      <a:pt x="928" y="0"/>
                    </a:lnTo>
                    <a:lnTo>
                      <a:pt x="926" y="0"/>
                    </a:lnTo>
                    <a:lnTo>
                      <a:pt x="925" y="0"/>
                    </a:lnTo>
                    <a:lnTo>
                      <a:pt x="921" y="0"/>
                    </a:lnTo>
                    <a:lnTo>
                      <a:pt x="919" y="0"/>
                    </a:lnTo>
                    <a:lnTo>
                      <a:pt x="915" y="0"/>
                    </a:lnTo>
                    <a:lnTo>
                      <a:pt x="913" y="0"/>
                    </a:lnTo>
                    <a:lnTo>
                      <a:pt x="911" y="0"/>
                    </a:lnTo>
                    <a:lnTo>
                      <a:pt x="907" y="0"/>
                    </a:lnTo>
                    <a:lnTo>
                      <a:pt x="904" y="0"/>
                    </a:lnTo>
                    <a:lnTo>
                      <a:pt x="898" y="2"/>
                    </a:lnTo>
                    <a:lnTo>
                      <a:pt x="896" y="2"/>
                    </a:lnTo>
                    <a:lnTo>
                      <a:pt x="892" y="2"/>
                    </a:lnTo>
                    <a:lnTo>
                      <a:pt x="890" y="2"/>
                    </a:lnTo>
                    <a:lnTo>
                      <a:pt x="888" y="4"/>
                    </a:lnTo>
                    <a:lnTo>
                      <a:pt x="881" y="4"/>
                    </a:lnTo>
                    <a:lnTo>
                      <a:pt x="877" y="6"/>
                    </a:lnTo>
                    <a:lnTo>
                      <a:pt x="873" y="10"/>
                    </a:lnTo>
                    <a:lnTo>
                      <a:pt x="867" y="11"/>
                    </a:lnTo>
                    <a:lnTo>
                      <a:pt x="864" y="15"/>
                    </a:lnTo>
                    <a:lnTo>
                      <a:pt x="860" y="17"/>
                    </a:lnTo>
                    <a:lnTo>
                      <a:pt x="854" y="19"/>
                    </a:lnTo>
                    <a:lnTo>
                      <a:pt x="850" y="23"/>
                    </a:lnTo>
                    <a:lnTo>
                      <a:pt x="847" y="25"/>
                    </a:lnTo>
                    <a:lnTo>
                      <a:pt x="843" y="29"/>
                    </a:lnTo>
                    <a:lnTo>
                      <a:pt x="839" y="32"/>
                    </a:lnTo>
                    <a:lnTo>
                      <a:pt x="835" y="36"/>
                    </a:lnTo>
                    <a:lnTo>
                      <a:pt x="833" y="40"/>
                    </a:lnTo>
                    <a:lnTo>
                      <a:pt x="831" y="44"/>
                    </a:lnTo>
                    <a:lnTo>
                      <a:pt x="828" y="48"/>
                    </a:lnTo>
                    <a:lnTo>
                      <a:pt x="824" y="53"/>
                    </a:lnTo>
                    <a:lnTo>
                      <a:pt x="822" y="57"/>
                    </a:lnTo>
                    <a:lnTo>
                      <a:pt x="820" y="61"/>
                    </a:lnTo>
                    <a:lnTo>
                      <a:pt x="818" y="67"/>
                    </a:lnTo>
                    <a:lnTo>
                      <a:pt x="816" y="70"/>
                    </a:lnTo>
                    <a:lnTo>
                      <a:pt x="816" y="74"/>
                    </a:lnTo>
                    <a:lnTo>
                      <a:pt x="814" y="76"/>
                    </a:lnTo>
                    <a:lnTo>
                      <a:pt x="812" y="82"/>
                    </a:lnTo>
                    <a:lnTo>
                      <a:pt x="812" y="84"/>
                    </a:lnTo>
                    <a:lnTo>
                      <a:pt x="687" y="663"/>
                    </a:lnTo>
                    <a:lnTo>
                      <a:pt x="681" y="663"/>
                    </a:lnTo>
                    <a:lnTo>
                      <a:pt x="677" y="663"/>
                    </a:lnTo>
                    <a:lnTo>
                      <a:pt x="673" y="663"/>
                    </a:lnTo>
                    <a:lnTo>
                      <a:pt x="670" y="663"/>
                    </a:lnTo>
                    <a:lnTo>
                      <a:pt x="666" y="663"/>
                    </a:lnTo>
                    <a:lnTo>
                      <a:pt x="660" y="665"/>
                    </a:lnTo>
                    <a:lnTo>
                      <a:pt x="656" y="665"/>
                    </a:lnTo>
                    <a:lnTo>
                      <a:pt x="652" y="667"/>
                    </a:lnTo>
                    <a:lnTo>
                      <a:pt x="753" y="213"/>
                    </a:lnTo>
                    <a:lnTo>
                      <a:pt x="753" y="209"/>
                    </a:lnTo>
                    <a:lnTo>
                      <a:pt x="753" y="207"/>
                    </a:lnTo>
                    <a:lnTo>
                      <a:pt x="753" y="203"/>
                    </a:lnTo>
                    <a:lnTo>
                      <a:pt x="753" y="201"/>
                    </a:lnTo>
                    <a:lnTo>
                      <a:pt x="753" y="198"/>
                    </a:lnTo>
                    <a:lnTo>
                      <a:pt x="753" y="196"/>
                    </a:lnTo>
                    <a:lnTo>
                      <a:pt x="753" y="192"/>
                    </a:lnTo>
                    <a:lnTo>
                      <a:pt x="753" y="190"/>
                    </a:lnTo>
                    <a:lnTo>
                      <a:pt x="753" y="188"/>
                    </a:lnTo>
                    <a:lnTo>
                      <a:pt x="753" y="184"/>
                    </a:lnTo>
                    <a:lnTo>
                      <a:pt x="753" y="182"/>
                    </a:lnTo>
                    <a:lnTo>
                      <a:pt x="753" y="181"/>
                    </a:lnTo>
                    <a:lnTo>
                      <a:pt x="753" y="175"/>
                    </a:lnTo>
                    <a:lnTo>
                      <a:pt x="753" y="169"/>
                    </a:lnTo>
                    <a:lnTo>
                      <a:pt x="751" y="167"/>
                    </a:lnTo>
                    <a:lnTo>
                      <a:pt x="751" y="163"/>
                    </a:lnTo>
                    <a:lnTo>
                      <a:pt x="751" y="162"/>
                    </a:lnTo>
                    <a:lnTo>
                      <a:pt x="750" y="160"/>
                    </a:lnTo>
                    <a:lnTo>
                      <a:pt x="748" y="154"/>
                    </a:lnTo>
                    <a:lnTo>
                      <a:pt x="746" y="148"/>
                    </a:lnTo>
                    <a:lnTo>
                      <a:pt x="744" y="144"/>
                    </a:lnTo>
                    <a:lnTo>
                      <a:pt x="742" y="141"/>
                    </a:lnTo>
                    <a:lnTo>
                      <a:pt x="740" y="135"/>
                    </a:lnTo>
                    <a:lnTo>
                      <a:pt x="738" y="131"/>
                    </a:lnTo>
                    <a:lnTo>
                      <a:pt x="734" y="127"/>
                    </a:lnTo>
                    <a:lnTo>
                      <a:pt x="730" y="124"/>
                    </a:lnTo>
                    <a:lnTo>
                      <a:pt x="727" y="120"/>
                    </a:lnTo>
                    <a:lnTo>
                      <a:pt x="725" y="116"/>
                    </a:lnTo>
                    <a:lnTo>
                      <a:pt x="721" y="112"/>
                    </a:lnTo>
                    <a:lnTo>
                      <a:pt x="717" y="108"/>
                    </a:lnTo>
                    <a:lnTo>
                      <a:pt x="713" y="105"/>
                    </a:lnTo>
                    <a:lnTo>
                      <a:pt x="710" y="103"/>
                    </a:lnTo>
                    <a:lnTo>
                      <a:pt x="704" y="99"/>
                    </a:lnTo>
                    <a:lnTo>
                      <a:pt x="700" y="97"/>
                    </a:lnTo>
                    <a:lnTo>
                      <a:pt x="694" y="95"/>
                    </a:lnTo>
                    <a:lnTo>
                      <a:pt x="691" y="91"/>
                    </a:lnTo>
                    <a:lnTo>
                      <a:pt x="685" y="89"/>
                    </a:lnTo>
                    <a:lnTo>
                      <a:pt x="681" y="87"/>
                    </a:lnTo>
                    <a:lnTo>
                      <a:pt x="675" y="86"/>
                    </a:lnTo>
                    <a:lnTo>
                      <a:pt x="672" y="86"/>
                    </a:lnTo>
                    <a:lnTo>
                      <a:pt x="668" y="84"/>
                    </a:lnTo>
                    <a:lnTo>
                      <a:pt x="666" y="84"/>
                    </a:lnTo>
                    <a:lnTo>
                      <a:pt x="664" y="84"/>
                    </a:lnTo>
                    <a:lnTo>
                      <a:pt x="660" y="84"/>
                    </a:lnTo>
                    <a:lnTo>
                      <a:pt x="658" y="84"/>
                    </a:lnTo>
                    <a:lnTo>
                      <a:pt x="654" y="84"/>
                    </a:lnTo>
                    <a:lnTo>
                      <a:pt x="652" y="84"/>
                    </a:lnTo>
                    <a:lnTo>
                      <a:pt x="651" y="84"/>
                    </a:lnTo>
                    <a:lnTo>
                      <a:pt x="647" y="84"/>
                    </a:lnTo>
                    <a:lnTo>
                      <a:pt x="645" y="84"/>
                    </a:lnTo>
                    <a:lnTo>
                      <a:pt x="643" y="84"/>
                    </a:lnTo>
                    <a:lnTo>
                      <a:pt x="639" y="84"/>
                    </a:lnTo>
                    <a:lnTo>
                      <a:pt x="635" y="84"/>
                    </a:lnTo>
                    <a:lnTo>
                      <a:pt x="630" y="84"/>
                    </a:lnTo>
                    <a:lnTo>
                      <a:pt x="628" y="84"/>
                    </a:lnTo>
                    <a:lnTo>
                      <a:pt x="624" y="86"/>
                    </a:lnTo>
                    <a:lnTo>
                      <a:pt x="622" y="86"/>
                    </a:lnTo>
                    <a:lnTo>
                      <a:pt x="618" y="86"/>
                    </a:lnTo>
                    <a:lnTo>
                      <a:pt x="614" y="87"/>
                    </a:lnTo>
                    <a:lnTo>
                      <a:pt x="609" y="89"/>
                    </a:lnTo>
                    <a:lnTo>
                      <a:pt x="603" y="91"/>
                    </a:lnTo>
                    <a:lnTo>
                      <a:pt x="599" y="95"/>
                    </a:lnTo>
                    <a:lnTo>
                      <a:pt x="595" y="97"/>
                    </a:lnTo>
                    <a:lnTo>
                      <a:pt x="592" y="99"/>
                    </a:lnTo>
                    <a:lnTo>
                      <a:pt x="586" y="103"/>
                    </a:lnTo>
                    <a:lnTo>
                      <a:pt x="582" y="105"/>
                    </a:lnTo>
                    <a:lnTo>
                      <a:pt x="578" y="108"/>
                    </a:lnTo>
                    <a:lnTo>
                      <a:pt x="574" y="112"/>
                    </a:lnTo>
                    <a:lnTo>
                      <a:pt x="571" y="116"/>
                    </a:lnTo>
                    <a:lnTo>
                      <a:pt x="567" y="120"/>
                    </a:lnTo>
                    <a:lnTo>
                      <a:pt x="565" y="124"/>
                    </a:lnTo>
                    <a:lnTo>
                      <a:pt x="563" y="127"/>
                    </a:lnTo>
                    <a:lnTo>
                      <a:pt x="559" y="131"/>
                    </a:lnTo>
                    <a:lnTo>
                      <a:pt x="555" y="135"/>
                    </a:lnTo>
                    <a:lnTo>
                      <a:pt x="554" y="141"/>
                    </a:lnTo>
                    <a:lnTo>
                      <a:pt x="552" y="146"/>
                    </a:lnTo>
                    <a:lnTo>
                      <a:pt x="550" y="150"/>
                    </a:lnTo>
                    <a:lnTo>
                      <a:pt x="548" y="156"/>
                    </a:lnTo>
                    <a:lnTo>
                      <a:pt x="546" y="158"/>
                    </a:lnTo>
                    <a:lnTo>
                      <a:pt x="546" y="160"/>
                    </a:lnTo>
                    <a:lnTo>
                      <a:pt x="544" y="163"/>
                    </a:lnTo>
                    <a:lnTo>
                      <a:pt x="544" y="167"/>
                    </a:lnTo>
                    <a:lnTo>
                      <a:pt x="361" y="1127"/>
                    </a:lnTo>
                    <a:lnTo>
                      <a:pt x="361" y="1127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Rectangle 157"/>
              <p:cNvSpPr/>
              <p:nvPr/>
            </p:nvSpPr>
            <p:spPr>
              <a:xfrm flipV="1" rot="3364200">
                <a:off x="4466160" y="2907000"/>
                <a:ext cx="85680" cy="442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374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73" name="Group 158"/>
              <p:cNvGrpSpPr/>
              <p:nvPr/>
            </p:nvGrpSpPr>
            <p:grpSpPr>
              <a:xfrm>
                <a:off x="4677480" y="2136240"/>
                <a:ext cx="204120" cy="645480"/>
                <a:chOff x="4677480" y="2136240"/>
                <a:chExt cx="204120" cy="645480"/>
              </a:xfrm>
            </p:grpSpPr>
            <p:sp>
              <p:nvSpPr>
                <p:cNvPr id="2574" name="AutoShape 159"/>
                <p:cNvSpPr/>
                <p:nvPr/>
              </p:nvSpPr>
              <p:spPr>
                <a:xfrm rot="21303600">
                  <a:off x="4712400" y="2200680"/>
                  <a:ext cx="148320" cy="484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ffffff"/>
                    </a:gs>
                  </a:gsLst>
                  <a:lin ang="2151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5" name="Oval 160"/>
                <p:cNvSpPr/>
                <p:nvPr/>
              </p:nvSpPr>
              <p:spPr>
                <a:xfrm rot="21303600">
                  <a:off x="4737240" y="2643120"/>
                  <a:ext cx="130680" cy="132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6" name="AutoShape 161"/>
                <p:cNvSpPr/>
                <p:nvPr/>
              </p:nvSpPr>
              <p:spPr>
                <a:xfrm flipV="1" rot="21303600">
                  <a:off x="4764960" y="2684160"/>
                  <a:ext cx="70920" cy="61560"/>
                </a:xfrm>
                <a:prstGeom prst="hexagon">
                  <a:avLst>
                    <a:gd name="adj" fmla="val 28801"/>
                    <a:gd name="vf" fmla="val 115470"/>
                  </a:avLst>
                </a:prstGeom>
                <a:solidFill>
                  <a:srgbClr val="ff000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7" name="AutoShape 162"/>
                <p:cNvSpPr/>
                <p:nvPr/>
              </p:nvSpPr>
              <p:spPr>
                <a:xfrm rot="5482200">
                  <a:off x="4694400" y="2122920"/>
                  <a:ext cx="144360" cy="175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934" y="2201"/>
                        <a:pt x="12267" y="5080"/>
                        <a:pt x="12267" y="10800"/>
                      </a:cubicBezTo>
                      <a:cubicBezTo>
                        <a:pt x="12267" y="16520"/>
                        <a:pt x="16934" y="1939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2b2b2"/>
                    </a:gs>
                  </a:gsLst>
                  <a:lin ang="21138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8" name="Group 163"/>
            <p:cNvGrpSpPr/>
            <p:nvPr/>
          </p:nvGrpSpPr>
          <p:grpSpPr>
            <a:xfrm>
              <a:off x="4655160" y="1339560"/>
              <a:ext cx="604080" cy="945000"/>
              <a:chOff x="4655160" y="1339560"/>
              <a:chExt cx="604080" cy="945000"/>
            </a:xfrm>
          </p:grpSpPr>
          <p:sp>
            <p:nvSpPr>
              <p:cNvPr id="2579" name="AutoShape 164"/>
              <p:cNvSpPr/>
              <p:nvPr/>
            </p:nvSpPr>
            <p:spPr>
              <a:xfrm flipH="1" flipV="1" rot="3408600">
                <a:off x="4862520" y="1399320"/>
                <a:ext cx="77760" cy="361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Freeform 165"/>
              <p:cNvSpPr/>
              <p:nvPr/>
            </p:nvSpPr>
            <p:spPr>
              <a:xfrm flipV="1" rot="14553000">
                <a:off x="5085000" y="1316520"/>
                <a:ext cx="93960" cy="237240"/>
              </a:xfrm>
              <a:custGeom>
                <a:avLst/>
                <a:gdLst/>
                <a:ahLst/>
                <a:rect l="l" t="t" r="r" b="b"/>
                <a:pathLst>
                  <a:path w="1402" h="2302">
                    <a:moveTo>
                      <a:pt x="361" y="1127"/>
                    </a:moveTo>
                    <a:lnTo>
                      <a:pt x="280" y="1116"/>
                    </a:lnTo>
                    <a:lnTo>
                      <a:pt x="373" y="711"/>
                    </a:lnTo>
                    <a:lnTo>
                      <a:pt x="373" y="709"/>
                    </a:lnTo>
                    <a:lnTo>
                      <a:pt x="375" y="705"/>
                    </a:lnTo>
                    <a:lnTo>
                      <a:pt x="375" y="703"/>
                    </a:lnTo>
                    <a:lnTo>
                      <a:pt x="375" y="700"/>
                    </a:lnTo>
                    <a:lnTo>
                      <a:pt x="375" y="698"/>
                    </a:lnTo>
                    <a:lnTo>
                      <a:pt x="375" y="696"/>
                    </a:lnTo>
                    <a:lnTo>
                      <a:pt x="375" y="692"/>
                    </a:lnTo>
                    <a:lnTo>
                      <a:pt x="375" y="690"/>
                    </a:lnTo>
                    <a:lnTo>
                      <a:pt x="375" y="684"/>
                    </a:lnTo>
                    <a:lnTo>
                      <a:pt x="375" y="681"/>
                    </a:lnTo>
                    <a:lnTo>
                      <a:pt x="375" y="675"/>
                    </a:lnTo>
                    <a:lnTo>
                      <a:pt x="375" y="669"/>
                    </a:lnTo>
                    <a:lnTo>
                      <a:pt x="371" y="665"/>
                    </a:lnTo>
                    <a:lnTo>
                      <a:pt x="371" y="660"/>
                    </a:lnTo>
                    <a:lnTo>
                      <a:pt x="369" y="654"/>
                    </a:lnTo>
                    <a:lnTo>
                      <a:pt x="367" y="652"/>
                    </a:lnTo>
                    <a:lnTo>
                      <a:pt x="365" y="646"/>
                    </a:lnTo>
                    <a:lnTo>
                      <a:pt x="363" y="641"/>
                    </a:lnTo>
                    <a:lnTo>
                      <a:pt x="361" y="637"/>
                    </a:lnTo>
                    <a:lnTo>
                      <a:pt x="358" y="633"/>
                    </a:lnTo>
                    <a:lnTo>
                      <a:pt x="356" y="629"/>
                    </a:lnTo>
                    <a:lnTo>
                      <a:pt x="354" y="623"/>
                    </a:lnTo>
                    <a:lnTo>
                      <a:pt x="350" y="620"/>
                    </a:lnTo>
                    <a:lnTo>
                      <a:pt x="346" y="616"/>
                    </a:lnTo>
                    <a:lnTo>
                      <a:pt x="342" y="612"/>
                    </a:lnTo>
                    <a:lnTo>
                      <a:pt x="339" y="610"/>
                    </a:lnTo>
                    <a:lnTo>
                      <a:pt x="335" y="606"/>
                    </a:lnTo>
                    <a:lnTo>
                      <a:pt x="331" y="603"/>
                    </a:lnTo>
                    <a:lnTo>
                      <a:pt x="325" y="601"/>
                    </a:lnTo>
                    <a:lnTo>
                      <a:pt x="321" y="597"/>
                    </a:lnTo>
                    <a:lnTo>
                      <a:pt x="318" y="595"/>
                    </a:lnTo>
                    <a:lnTo>
                      <a:pt x="312" y="593"/>
                    </a:lnTo>
                    <a:lnTo>
                      <a:pt x="306" y="591"/>
                    </a:lnTo>
                    <a:lnTo>
                      <a:pt x="302" y="589"/>
                    </a:lnTo>
                    <a:lnTo>
                      <a:pt x="299" y="589"/>
                    </a:lnTo>
                    <a:lnTo>
                      <a:pt x="295" y="587"/>
                    </a:lnTo>
                    <a:lnTo>
                      <a:pt x="291" y="587"/>
                    </a:lnTo>
                    <a:lnTo>
                      <a:pt x="287" y="585"/>
                    </a:lnTo>
                    <a:lnTo>
                      <a:pt x="285" y="585"/>
                    </a:lnTo>
                    <a:lnTo>
                      <a:pt x="283" y="585"/>
                    </a:lnTo>
                    <a:lnTo>
                      <a:pt x="280" y="585"/>
                    </a:lnTo>
                    <a:lnTo>
                      <a:pt x="276" y="585"/>
                    </a:lnTo>
                    <a:lnTo>
                      <a:pt x="274" y="585"/>
                    </a:lnTo>
                    <a:lnTo>
                      <a:pt x="272" y="585"/>
                    </a:lnTo>
                    <a:lnTo>
                      <a:pt x="268" y="585"/>
                    </a:lnTo>
                    <a:lnTo>
                      <a:pt x="266" y="585"/>
                    </a:lnTo>
                    <a:lnTo>
                      <a:pt x="263" y="585"/>
                    </a:lnTo>
                    <a:lnTo>
                      <a:pt x="261" y="587"/>
                    </a:lnTo>
                    <a:lnTo>
                      <a:pt x="259" y="587"/>
                    </a:lnTo>
                    <a:lnTo>
                      <a:pt x="255" y="587"/>
                    </a:lnTo>
                    <a:lnTo>
                      <a:pt x="253" y="589"/>
                    </a:lnTo>
                    <a:lnTo>
                      <a:pt x="249" y="589"/>
                    </a:lnTo>
                    <a:lnTo>
                      <a:pt x="247" y="589"/>
                    </a:lnTo>
                    <a:lnTo>
                      <a:pt x="243" y="591"/>
                    </a:lnTo>
                    <a:lnTo>
                      <a:pt x="240" y="591"/>
                    </a:lnTo>
                    <a:lnTo>
                      <a:pt x="238" y="593"/>
                    </a:lnTo>
                    <a:lnTo>
                      <a:pt x="236" y="595"/>
                    </a:lnTo>
                    <a:lnTo>
                      <a:pt x="232" y="595"/>
                    </a:lnTo>
                    <a:lnTo>
                      <a:pt x="230" y="597"/>
                    </a:lnTo>
                    <a:lnTo>
                      <a:pt x="228" y="599"/>
                    </a:lnTo>
                    <a:lnTo>
                      <a:pt x="224" y="601"/>
                    </a:lnTo>
                    <a:lnTo>
                      <a:pt x="223" y="601"/>
                    </a:lnTo>
                    <a:lnTo>
                      <a:pt x="219" y="603"/>
                    </a:lnTo>
                    <a:lnTo>
                      <a:pt x="217" y="604"/>
                    </a:lnTo>
                    <a:lnTo>
                      <a:pt x="211" y="608"/>
                    </a:lnTo>
                    <a:lnTo>
                      <a:pt x="207" y="612"/>
                    </a:lnTo>
                    <a:lnTo>
                      <a:pt x="204" y="616"/>
                    </a:lnTo>
                    <a:lnTo>
                      <a:pt x="198" y="618"/>
                    </a:lnTo>
                    <a:lnTo>
                      <a:pt x="194" y="623"/>
                    </a:lnTo>
                    <a:lnTo>
                      <a:pt x="188" y="627"/>
                    </a:lnTo>
                    <a:lnTo>
                      <a:pt x="185" y="633"/>
                    </a:lnTo>
                    <a:lnTo>
                      <a:pt x="181" y="637"/>
                    </a:lnTo>
                    <a:lnTo>
                      <a:pt x="177" y="641"/>
                    </a:lnTo>
                    <a:lnTo>
                      <a:pt x="173" y="646"/>
                    </a:lnTo>
                    <a:lnTo>
                      <a:pt x="169" y="652"/>
                    </a:lnTo>
                    <a:lnTo>
                      <a:pt x="166" y="656"/>
                    </a:lnTo>
                    <a:lnTo>
                      <a:pt x="162" y="662"/>
                    </a:lnTo>
                    <a:lnTo>
                      <a:pt x="160" y="665"/>
                    </a:lnTo>
                    <a:lnTo>
                      <a:pt x="158" y="669"/>
                    </a:lnTo>
                    <a:lnTo>
                      <a:pt x="158" y="671"/>
                    </a:lnTo>
                    <a:lnTo>
                      <a:pt x="156" y="673"/>
                    </a:lnTo>
                    <a:lnTo>
                      <a:pt x="154" y="677"/>
                    </a:lnTo>
                    <a:lnTo>
                      <a:pt x="152" y="679"/>
                    </a:lnTo>
                    <a:lnTo>
                      <a:pt x="152" y="681"/>
                    </a:lnTo>
                    <a:lnTo>
                      <a:pt x="150" y="684"/>
                    </a:lnTo>
                    <a:lnTo>
                      <a:pt x="150" y="688"/>
                    </a:lnTo>
                    <a:lnTo>
                      <a:pt x="146" y="694"/>
                    </a:lnTo>
                    <a:lnTo>
                      <a:pt x="145" y="701"/>
                    </a:lnTo>
                    <a:lnTo>
                      <a:pt x="143" y="709"/>
                    </a:lnTo>
                    <a:lnTo>
                      <a:pt x="139" y="717"/>
                    </a:lnTo>
                    <a:lnTo>
                      <a:pt x="137" y="724"/>
                    </a:lnTo>
                    <a:lnTo>
                      <a:pt x="135" y="732"/>
                    </a:lnTo>
                    <a:lnTo>
                      <a:pt x="131" y="739"/>
                    </a:lnTo>
                    <a:lnTo>
                      <a:pt x="129" y="747"/>
                    </a:lnTo>
                    <a:lnTo>
                      <a:pt x="126" y="755"/>
                    </a:lnTo>
                    <a:lnTo>
                      <a:pt x="124" y="760"/>
                    </a:lnTo>
                    <a:lnTo>
                      <a:pt x="122" y="768"/>
                    </a:lnTo>
                    <a:lnTo>
                      <a:pt x="120" y="776"/>
                    </a:lnTo>
                    <a:lnTo>
                      <a:pt x="116" y="781"/>
                    </a:lnTo>
                    <a:lnTo>
                      <a:pt x="114" y="789"/>
                    </a:lnTo>
                    <a:lnTo>
                      <a:pt x="112" y="796"/>
                    </a:lnTo>
                    <a:lnTo>
                      <a:pt x="110" y="804"/>
                    </a:lnTo>
                    <a:lnTo>
                      <a:pt x="107" y="812"/>
                    </a:lnTo>
                    <a:lnTo>
                      <a:pt x="107" y="817"/>
                    </a:lnTo>
                    <a:lnTo>
                      <a:pt x="103" y="823"/>
                    </a:lnTo>
                    <a:lnTo>
                      <a:pt x="101" y="831"/>
                    </a:lnTo>
                    <a:lnTo>
                      <a:pt x="97" y="836"/>
                    </a:lnTo>
                    <a:lnTo>
                      <a:pt x="97" y="844"/>
                    </a:lnTo>
                    <a:lnTo>
                      <a:pt x="93" y="852"/>
                    </a:lnTo>
                    <a:lnTo>
                      <a:pt x="93" y="857"/>
                    </a:lnTo>
                    <a:lnTo>
                      <a:pt x="89" y="865"/>
                    </a:lnTo>
                    <a:lnTo>
                      <a:pt x="88" y="871"/>
                    </a:lnTo>
                    <a:lnTo>
                      <a:pt x="86" y="878"/>
                    </a:lnTo>
                    <a:lnTo>
                      <a:pt x="84" y="884"/>
                    </a:lnTo>
                    <a:lnTo>
                      <a:pt x="82" y="892"/>
                    </a:lnTo>
                    <a:lnTo>
                      <a:pt x="80" y="899"/>
                    </a:lnTo>
                    <a:lnTo>
                      <a:pt x="78" y="907"/>
                    </a:lnTo>
                    <a:lnTo>
                      <a:pt x="74" y="912"/>
                    </a:lnTo>
                    <a:lnTo>
                      <a:pt x="72" y="920"/>
                    </a:lnTo>
                    <a:lnTo>
                      <a:pt x="72" y="926"/>
                    </a:lnTo>
                    <a:lnTo>
                      <a:pt x="68" y="931"/>
                    </a:lnTo>
                    <a:lnTo>
                      <a:pt x="67" y="939"/>
                    </a:lnTo>
                    <a:lnTo>
                      <a:pt x="65" y="945"/>
                    </a:lnTo>
                    <a:lnTo>
                      <a:pt x="63" y="952"/>
                    </a:lnTo>
                    <a:lnTo>
                      <a:pt x="59" y="958"/>
                    </a:lnTo>
                    <a:lnTo>
                      <a:pt x="57" y="966"/>
                    </a:lnTo>
                    <a:lnTo>
                      <a:pt x="55" y="971"/>
                    </a:lnTo>
                    <a:lnTo>
                      <a:pt x="53" y="979"/>
                    </a:lnTo>
                    <a:lnTo>
                      <a:pt x="51" y="987"/>
                    </a:lnTo>
                    <a:lnTo>
                      <a:pt x="49" y="994"/>
                    </a:lnTo>
                    <a:lnTo>
                      <a:pt x="48" y="1000"/>
                    </a:lnTo>
                    <a:lnTo>
                      <a:pt x="46" y="1007"/>
                    </a:lnTo>
                    <a:lnTo>
                      <a:pt x="44" y="1015"/>
                    </a:lnTo>
                    <a:lnTo>
                      <a:pt x="42" y="1021"/>
                    </a:lnTo>
                    <a:lnTo>
                      <a:pt x="42" y="1028"/>
                    </a:lnTo>
                    <a:lnTo>
                      <a:pt x="38" y="1036"/>
                    </a:lnTo>
                    <a:lnTo>
                      <a:pt x="36" y="1042"/>
                    </a:lnTo>
                    <a:lnTo>
                      <a:pt x="36" y="1049"/>
                    </a:lnTo>
                    <a:lnTo>
                      <a:pt x="34" y="1057"/>
                    </a:lnTo>
                    <a:lnTo>
                      <a:pt x="30" y="1063"/>
                    </a:lnTo>
                    <a:lnTo>
                      <a:pt x="30" y="1070"/>
                    </a:lnTo>
                    <a:lnTo>
                      <a:pt x="29" y="1078"/>
                    </a:lnTo>
                    <a:lnTo>
                      <a:pt x="27" y="1085"/>
                    </a:lnTo>
                    <a:lnTo>
                      <a:pt x="25" y="1093"/>
                    </a:lnTo>
                    <a:lnTo>
                      <a:pt x="23" y="1101"/>
                    </a:lnTo>
                    <a:lnTo>
                      <a:pt x="21" y="1108"/>
                    </a:lnTo>
                    <a:lnTo>
                      <a:pt x="19" y="1116"/>
                    </a:lnTo>
                    <a:lnTo>
                      <a:pt x="17" y="1123"/>
                    </a:lnTo>
                    <a:lnTo>
                      <a:pt x="17" y="1131"/>
                    </a:lnTo>
                    <a:lnTo>
                      <a:pt x="15" y="1139"/>
                    </a:lnTo>
                    <a:lnTo>
                      <a:pt x="13" y="1148"/>
                    </a:lnTo>
                    <a:lnTo>
                      <a:pt x="10" y="1158"/>
                    </a:lnTo>
                    <a:lnTo>
                      <a:pt x="10" y="1165"/>
                    </a:lnTo>
                    <a:lnTo>
                      <a:pt x="8" y="1175"/>
                    </a:lnTo>
                    <a:lnTo>
                      <a:pt x="6" y="1182"/>
                    </a:lnTo>
                    <a:lnTo>
                      <a:pt x="6" y="1192"/>
                    </a:lnTo>
                    <a:lnTo>
                      <a:pt x="4" y="1201"/>
                    </a:lnTo>
                    <a:lnTo>
                      <a:pt x="2" y="1211"/>
                    </a:lnTo>
                    <a:lnTo>
                      <a:pt x="2" y="1218"/>
                    </a:lnTo>
                    <a:lnTo>
                      <a:pt x="0" y="1230"/>
                    </a:lnTo>
                    <a:lnTo>
                      <a:pt x="0" y="1237"/>
                    </a:lnTo>
                    <a:lnTo>
                      <a:pt x="0" y="1247"/>
                    </a:lnTo>
                    <a:lnTo>
                      <a:pt x="0" y="1257"/>
                    </a:lnTo>
                    <a:lnTo>
                      <a:pt x="0" y="1268"/>
                    </a:lnTo>
                    <a:lnTo>
                      <a:pt x="0" y="1276"/>
                    </a:lnTo>
                    <a:lnTo>
                      <a:pt x="0" y="1285"/>
                    </a:lnTo>
                    <a:lnTo>
                      <a:pt x="0" y="1296"/>
                    </a:lnTo>
                    <a:lnTo>
                      <a:pt x="0" y="1304"/>
                    </a:lnTo>
                    <a:lnTo>
                      <a:pt x="0" y="1314"/>
                    </a:lnTo>
                    <a:lnTo>
                      <a:pt x="0" y="1323"/>
                    </a:lnTo>
                    <a:lnTo>
                      <a:pt x="0" y="1333"/>
                    </a:lnTo>
                    <a:lnTo>
                      <a:pt x="2" y="1342"/>
                    </a:lnTo>
                    <a:lnTo>
                      <a:pt x="2" y="1352"/>
                    </a:lnTo>
                    <a:lnTo>
                      <a:pt x="4" y="1363"/>
                    </a:lnTo>
                    <a:lnTo>
                      <a:pt x="4" y="1371"/>
                    </a:lnTo>
                    <a:lnTo>
                      <a:pt x="6" y="1382"/>
                    </a:lnTo>
                    <a:lnTo>
                      <a:pt x="8" y="1390"/>
                    </a:lnTo>
                    <a:lnTo>
                      <a:pt x="8" y="1401"/>
                    </a:lnTo>
                    <a:lnTo>
                      <a:pt x="10" y="1409"/>
                    </a:lnTo>
                    <a:lnTo>
                      <a:pt x="11" y="1420"/>
                    </a:lnTo>
                    <a:lnTo>
                      <a:pt x="13" y="1429"/>
                    </a:lnTo>
                    <a:lnTo>
                      <a:pt x="15" y="1439"/>
                    </a:lnTo>
                    <a:lnTo>
                      <a:pt x="17" y="1448"/>
                    </a:lnTo>
                    <a:lnTo>
                      <a:pt x="19" y="1458"/>
                    </a:lnTo>
                    <a:lnTo>
                      <a:pt x="21" y="1468"/>
                    </a:lnTo>
                    <a:lnTo>
                      <a:pt x="23" y="1477"/>
                    </a:lnTo>
                    <a:lnTo>
                      <a:pt x="27" y="1487"/>
                    </a:lnTo>
                    <a:lnTo>
                      <a:pt x="29" y="1496"/>
                    </a:lnTo>
                    <a:lnTo>
                      <a:pt x="30" y="1506"/>
                    </a:lnTo>
                    <a:lnTo>
                      <a:pt x="34" y="1515"/>
                    </a:lnTo>
                    <a:lnTo>
                      <a:pt x="36" y="1525"/>
                    </a:lnTo>
                    <a:lnTo>
                      <a:pt x="38" y="1534"/>
                    </a:lnTo>
                    <a:lnTo>
                      <a:pt x="42" y="1544"/>
                    </a:lnTo>
                    <a:lnTo>
                      <a:pt x="46" y="1553"/>
                    </a:lnTo>
                    <a:lnTo>
                      <a:pt x="48" y="1561"/>
                    </a:lnTo>
                    <a:lnTo>
                      <a:pt x="51" y="1572"/>
                    </a:lnTo>
                    <a:lnTo>
                      <a:pt x="55" y="1580"/>
                    </a:lnTo>
                    <a:lnTo>
                      <a:pt x="59" y="1589"/>
                    </a:lnTo>
                    <a:lnTo>
                      <a:pt x="63" y="1599"/>
                    </a:lnTo>
                    <a:lnTo>
                      <a:pt x="67" y="1608"/>
                    </a:lnTo>
                    <a:lnTo>
                      <a:pt x="68" y="1616"/>
                    </a:lnTo>
                    <a:lnTo>
                      <a:pt x="74" y="1627"/>
                    </a:lnTo>
                    <a:lnTo>
                      <a:pt x="78" y="1635"/>
                    </a:lnTo>
                    <a:lnTo>
                      <a:pt x="82" y="1644"/>
                    </a:lnTo>
                    <a:lnTo>
                      <a:pt x="86" y="1652"/>
                    </a:lnTo>
                    <a:lnTo>
                      <a:pt x="89" y="1661"/>
                    </a:lnTo>
                    <a:lnTo>
                      <a:pt x="95" y="1669"/>
                    </a:lnTo>
                    <a:lnTo>
                      <a:pt x="99" y="1679"/>
                    </a:lnTo>
                    <a:lnTo>
                      <a:pt x="103" y="1688"/>
                    </a:lnTo>
                    <a:lnTo>
                      <a:pt x="108" y="1696"/>
                    </a:lnTo>
                    <a:lnTo>
                      <a:pt x="114" y="1703"/>
                    </a:lnTo>
                    <a:lnTo>
                      <a:pt x="118" y="1713"/>
                    </a:lnTo>
                    <a:lnTo>
                      <a:pt x="124" y="1722"/>
                    </a:lnTo>
                    <a:lnTo>
                      <a:pt x="127" y="1732"/>
                    </a:lnTo>
                    <a:lnTo>
                      <a:pt x="131" y="1736"/>
                    </a:lnTo>
                    <a:lnTo>
                      <a:pt x="135" y="1739"/>
                    </a:lnTo>
                    <a:lnTo>
                      <a:pt x="135" y="1743"/>
                    </a:lnTo>
                    <a:lnTo>
                      <a:pt x="137" y="1745"/>
                    </a:lnTo>
                    <a:lnTo>
                      <a:pt x="139" y="1747"/>
                    </a:lnTo>
                    <a:lnTo>
                      <a:pt x="141" y="1751"/>
                    </a:lnTo>
                    <a:lnTo>
                      <a:pt x="143" y="1755"/>
                    </a:lnTo>
                    <a:lnTo>
                      <a:pt x="143" y="1756"/>
                    </a:lnTo>
                    <a:lnTo>
                      <a:pt x="145" y="1760"/>
                    </a:lnTo>
                    <a:lnTo>
                      <a:pt x="146" y="1762"/>
                    </a:lnTo>
                    <a:lnTo>
                      <a:pt x="148" y="1766"/>
                    </a:lnTo>
                    <a:lnTo>
                      <a:pt x="150" y="1768"/>
                    </a:lnTo>
                    <a:lnTo>
                      <a:pt x="152" y="1770"/>
                    </a:lnTo>
                    <a:lnTo>
                      <a:pt x="156" y="1774"/>
                    </a:lnTo>
                    <a:lnTo>
                      <a:pt x="158" y="1777"/>
                    </a:lnTo>
                    <a:lnTo>
                      <a:pt x="160" y="1779"/>
                    </a:lnTo>
                    <a:lnTo>
                      <a:pt x="160" y="1783"/>
                    </a:lnTo>
                    <a:lnTo>
                      <a:pt x="162" y="1787"/>
                    </a:lnTo>
                    <a:lnTo>
                      <a:pt x="166" y="1789"/>
                    </a:lnTo>
                    <a:lnTo>
                      <a:pt x="166" y="1791"/>
                    </a:lnTo>
                    <a:lnTo>
                      <a:pt x="167" y="1794"/>
                    </a:lnTo>
                    <a:lnTo>
                      <a:pt x="169" y="1796"/>
                    </a:lnTo>
                    <a:lnTo>
                      <a:pt x="171" y="1800"/>
                    </a:lnTo>
                    <a:lnTo>
                      <a:pt x="173" y="1802"/>
                    </a:lnTo>
                    <a:lnTo>
                      <a:pt x="175" y="1806"/>
                    </a:lnTo>
                    <a:lnTo>
                      <a:pt x="177" y="1808"/>
                    </a:lnTo>
                    <a:lnTo>
                      <a:pt x="179" y="1812"/>
                    </a:lnTo>
                    <a:lnTo>
                      <a:pt x="181" y="1815"/>
                    </a:lnTo>
                    <a:lnTo>
                      <a:pt x="183" y="1817"/>
                    </a:lnTo>
                    <a:lnTo>
                      <a:pt x="185" y="1821"/>
                    </a:lnTo>
                    <a:lnTo>
                      <a:pt x="188" y="1827"/>
                    </a:lnTo>
                    <a:lnTo>
                      <a:pt x="190" y="1831"/>
                    </a:lnTo>
                    <a:lnTo>
                      <a:pt x="194" y="1836"/>
                    </a:lnTo>
                    <a:lnTo>
                      <a:pt x="198" y="1842"/>
                    </a:lnTo>
                    <a:lnTo>
                      <a:pt x="200" y="1846"/>
                    </a:lnTo>
                    <a:lnTo>
                      <a:pt x="204" y="1850"/>
                    </a:lnTo>
                    <a:lnTo>
                      <a:pt x="205" y="1853"/>
                    </a:lnTo>
                    <a:lnTo>
                      <a:pt x="207" y="1859"/>
                    </a:lnTo>
                    <a:lnTo>
                      <a:pt x="209" y="1861"/>
                    </a:lnTo>
                    <a:lnTo>
                      <a:pt x="211" y="1863"/>
                    </a:lnTo>
                    <a:lnTo>
                      <a:pt x="213" y="1867"/>
                    </a:lnTo>
                    <a:lnTo>
                      <a:pt x="215" y="1869"/>
                    </a:lnTo>
                    <a:lnTo>
                      <a:pt x="217" y="1870"/>
                    </a:lnTo>
                    <a:lnTo>
                      <a:pt x="219" y="1874"/>
                    </a:lnTo>
                    <a:lnTo>
                      <a:pt x="141" y="2163"/>
                    </a:lnTo>
                    <a:lnTo>
                      <a:pt x="143" y="2165"/>
                    </a:lnTo>
                    <a:lnTo>
                      <a:pt x="146" y="2165"/>
                    </a:lnTo>
                    <a:lnTo>
                      <a:pt x="150" y="2167"/>
                    </a:lnTo>
                    <a:lnTo>
                      <a:pt x="152" y="2167"/>
                    </a:lnTo>
                    <a:lnTo>
                      <a:pt x="154" y="2167"/>
                    </a:lnTo>
                    <a:lnTo>
                      <a:pt x="158" y="2167"/>
                    </a:lnTo>
                    <a:lnTo>
                      <a:pt x="162" y="2171"/>
                    </a:lnTo>
                    <a:lnTo>
                      <a:pt x="166" y="2171"/>
                    </a:lnTo>
                    <a:lnTo>
                      <a:pt x="167" y="2173"/>
                    </a:lnTo>
                    <a:lnTo>
                      <a:pt x="171" y="2173"/>
                    </a:lnTo>
                    <a:lnTo>
                      <a:pt x="175" y="2175"/>
                    </a:lnTo>
                    <a:lnTo>
                      <a:pt x="181" y="2175"/>
                    </a:lnTo>
                    <a:lnTo>
                      <a:pt x="185" y="2175"/>
                    </a:lnTo>
                    <a:lnTo>
                      <a:pt x="188" y="2177"/>
                    </a:lnTo>
                    <a:lnTo>
                      <a:pt x="194" y="2180"/>
                    </a:lnTo>
                    <a:lnTo>
                      <a:pt x="198" y="2180"/>
                    </a:lnTo>
                    <a:lnTo>
                      <a:pt x="204" y="2182"/>
                    </a:lnTo>
                    <a:lnTo>
                      <a:pt x="209" y="2182"/>
                    </a:lnTo>
                    <a:lnTo>
                      <a:pt x="215" y="2184"/>
                    </a:lnTo>
                    <a:lnTo>
                      <a:pt x="219" y="2186"/>
                    </a:lnTo>
                    <a:lnTo>
                      <a:pt x="224" y="2188"/>
                    </a:lnTo>
                    <a:lnTo>
                      <a:pt x="232" y="2188"/>
                    </a:lnTo>
                    <a:lnTo>
                      <a:pt x="238" y="2190"/>
                    </a:lnTo>
                    <a:lnTo>
                      <a:pt x="243" y="2190"/>
                    </a:lnTo>
                    <a:lnTo>
                      <a:pt x="251" y="2192"/>
                    </a:lnTo>
                    <a:lnTo>
                      <a:pt x="257" y="2194"/>
                    </a:lnTo>
                    <a:lnTo>
                      <a:pt x="264" y="2194"/>
                    </a:lnTo>
                    <a:lnTo>
                      <a:pt x="270" y="2196"/>
                    </a:lnTo>
                    <a:lnTo>
                      <a:pt x="276" y="2196"/>
                    </a:lnTo>
                    <a:lnTo>
                      <a:pt x="283" y="2197"/>
                    </a:lnTo>
                    <a:lnTo>
                      <a:pt x="291" y="2199"/>
                    </a:lnTo>
                    <a:lnTo>
                      <a:pt x="297" y="2199"/>
                    </a:lnTo>
                    <a:lnTo>
                      <a:pt x="304" y="2199"/>
                    </a:lnTo>
                    <a:lnTo>
                      <a:pt x="312" y="2199"/>
                    </a:lnTo>
                    <a:lnTo>
                      <a:pt x="320" y="2201"/>
                    </a:lnTo>
                    <a:lnTo>
                      <a:pt x="325" y="2201"/>
                    </a:lnTo>
                    <a:lnTo>
                      <a:pt x="333" y="2201"/>
                    </a:lnTo>
                    <a:lnTo>
                      <a:pt x="341" y="2201"/>
                    </a:lnTo>
                    <a:lnTo>
                      <a:pt x="348" y="2201"/>
                    </a:lnTo>
                    <a:lnTo>
                      <a:pt x="356" y="2201"/>
                    </a:lnTo>
                    <a:lnTo>
                      <a:pt x="363" y="2201"/>
                    </a:lnTo>
                    <a:lnTo>
                      <a:pt x="371" y="2201"/>
                    </a:lnTo>
                    <a:lnTo>
                      <a:pt x="379" y="2201"/>
                    </a:lnTo>
                    <a:lnTo>
                      <a:pt x="386" y="2201"/>
                    </a:lnTo>
                    <a:lnTo>
                      <a:pt x="394" y="2201"/>
                    </a:lnTo>
                    <a:lnTo>
                      <a:pt x="401" y="2199"/>
                    </a:lnTo>
                    <a:lnTo>
                      <a:pt x="409" y="2199"/>
                    </a:lnTo>
                    <a:lnTo>
                      <a:pt x="415" y="2197"/>
                    </a:lnTo>
                    <a:lnTo>
                      <a:pt x="422" y="2196"/>
                    </a:lnTo>
                    <a:lnTo>
                      <a:pt x="432" y="2196"/>
                    </a:lnTo>
                    <a:lnTo>
                      <a:pt x="439" y="2194"/>
                    </a:lnTo>
                    <a:lnTo>
                      <a:pt x="447" y="2192"/>
                    </a:lnTo>
                    <a:lnTo>
                      <a:pt x="455" y="2190"/>
                    </a:lnTo>
                    <a:lnTo>
                      <a:pt x="462" y="2188"/>
                    </a:lnTo>
                    <a:lnTo>
                      <a:pt x="470" y="2188"/>
                    </a:lnTo>
                    <a:lnTo>
                      <a:pt x="476" y="2184"/>
                    </a:lnTo>
                    <a:lnTo>
                      <a:pt x="483" y="2182"/>
                    </a:lnTo>
                    <a:lnTo>
                      <a:pt x="491" y="2180"/>
                    </a:lnTo>
                    <a:lnTo>
                      <a:pt x="498" y="2175"/>
                    </a:lnTo>
                    <a:lnTo>
                      <a:pt x="504" y="2173"/>
                    </a:lnTo>
                    <a:lnTo>
                      <a:pt x="512" y="2169"/>
                    </a:lnTo>
                    <a:lnTo>
                      <a:pt x="517" y="2165"/>
                    </a:lnTo>
                    <a:lnTo>
                      <a:pt x="525" y="2161"/>
                    </a:lnTo>
                    <a:lnTo>
                      <a:pt x="531" y="2158"/>
                    </a:lnTo>
                    <a:lnTo>
                      <a:pt x="536" y="2154"/>
                    </a:lnTo>
                    <a:lnTo>
                      <a:pt x="542" y="2150"/>
                    </a:lnTo>
                    <a:lnTo>
                      <a:pt x="550" y="2146"/>
                    </a:lnTo>
                    <a:lnTo>
                      <a:pt x="555" y="2142"/>
                    </a:lnTo>
                    <a:lnTo>
                      <a:pt x="559" y="2137"/>
                    </a:lnTo>
                    <a:lnTo>
                      <a:pt x="565" y="2133"/>
                    </a:lnTo>
                    <a:lnTo>
                      <a:pt x="571" y="2129"/>
                    </a:lnTo>
                    <a:lnTo>
                      <a:pt x="576" y="2123"/>
                    </a:lnTo>
                    <a:lnTo>
                      <a:pt x="582" y="2120"/>
                    </a:lnTo>
                    <a:lnTo>
                      <a:pt x="588" y="2114"/>
                    </a:lnTo>
                    <a:lnTo>
                      <a:pt x="592" y="2110"/>
                    </a:lnTo>
                    <a:lnTo>
                      <a:pt x="595" y="2106"/>
                    </a:lnTo>
                    <a:lnTo>
                      <a:pt x="601" y="2101"/>
                    </a:lnTo>
                    <a:lnTo>
                      <a:pt x="605" y="2095"/>
                    </a:lnTo>
                    <a:lnTo>
                      <a:pt x="611" y="2091"/>
                    </a:lnTo>
                    <a:lnTo>
                      <a:pt x="614" y="2085"/>
                    </a:lnTo>
                    <a:lnTo>
                      <a:pt x="618" y="2080"/>
                    </a:lnTo>
                    <a:lnTo>
                      <a:pt x="624" y="2076"/>
                    </a:lnTo>
                    <a:lnTo>
                      <a:pt x="628" y="2070"/>
                    </a:lnTo>
                    <a:lnTo>
                      <a:pt x="632" y="2064"/>
                    </a:lnTo>
                    <a:lnTo>
                      <a:pt x="635" y="2059"/>
                    </a:lnTo>
                    <a:lnTo>
                      <a:pt x="637" y="2055"/>
                    </a:lnTo>
                    <a:lnTo>
                      <a:pt x="643" y="2049"/>
                    </a:lnTo>
                    <a:lnTo>
                      <a:pt x="645" y="2043"/>
                    </a:lnTo>
                    <a:lnTo>
                      <a:pt x="649" y="2040"/>
                    </a:lnTo>
                    <a:lnTo>
                      <a:pt x="652" y="2034"/>
                    </a:lnTo>
                    <a:lnTo>
                      <a:pt x="654" y="2030"/>
                    </a:lnTo>
                    <a:lnTo>
                      <a:pt x="658" y="2024"/>
                    </a:lnTo>
                    <a:lnTo>
                      <a:pt x="660" y="2021"/>
                    </a:lnTo>
                    <a:lnTo>
                      <a:pt x="664" y="2015"/>
                    </a:lnTo>
                    <a:lnTo>
                      <a:pt x="666" y="2011"/>
                    </a:lnTo>
                    <a:lnTo>
                      <a:pt x="668" y="2005"/>
                    </a:lnTo>
                    <a:lnTo>
                      <a:pt x="672" y="2002"/>
                    </a:lnTo>
                    <a:lnTo>
                      <a:pt x="673" y="1998"/>
                    </a:lnTo>
                    <a:lnTo>
                      <a:pt x="675" y="1992"/>
                    </a:lnTo>
                    <a:lnTo>
                      <a:pt x="677" y="1986"/>
                    </a:lnTo>
                    <a:lnTo>
                      <a:pt x="679" y="1983"/>
                    </a:lnTo>
                    <a:lnTo>
                      <a:pt x="681" y="1979"/>
                    </a:lnTo>
                    <a:lnTo>
                      <a:pt x="683" y="1975"/>
                    </a:lnTo>
                    <a:lnTo>
                      <a:pt x="685" y="1971"/>
                    </a:lnTo>
                    <a:lnTo>
                      <a:pt x="687" y="1969"/>
                    </a:lnTo>
                    <a:lnTo>
                      <a:pt x="689" y="1964"/>
                    </a:lnTo>
                    <a:lnTo>
                      <a:pt x="691" y="1962"/>
                    </a:lnTo>
                    <a:lnTo>
                      <a:pt x="692" y="1958"/>
                    </a:lnTo>
                    <a:lnTo>
                      <a:pt x="692" y="1954"/>
                    </a:lnTo>
                    <a:lnTo>
                      <a:pt x="692" y="1952"/>
                    </a:lnTo>
                    <a:lnTo>
                      <a:pt x="694" y="1950"/>
                    </a:lnTo>
                    <a:lnTo>
                      <a:pt x="696" y="1945"/>
                    </a:lnTo>
                    <a:lnTo>
                      <a:pt x="698" y="1941"/>
                    </a:lnTo>
                    <a:lnTo>
                      <a:pt x="700" y="1937"/>
                    </a:lnTo>
                    <a:lnTo>
                      <a:pt x="700" y="1935"/>
                    </a:lnTo>
                    <a:lnTo>
                      <a:pt x="700" y="1933"/>
                    </a:lnTo>
                    <a:lnTo>
                      <a:pt x="702" y="1933"/>
                    </a:lnTo>
                    <a:lnTo>
                      <a:pt x="740" y="1943"/>
                    </a:lnTo>
                    <a:lnTo>
                      <a:pt x="740" y="1943"/>
                    </a:lnTo>
                    <a:lnTo>
                      <a:pt x="738" y="1945"/>
                    </a:lnTo>
                    <a:lnTo>
                      <a:pt x="738" y="1947"/>
                    </a:lnTo>
                    <a:lnTo>
                      <a:pt x="738" y="1950"/>
                    </a:lnTo>
                    <a:lnTo>
                      <a:pt x="738" y="1954"/>
                    </a:lnTo>
                    <a:lnTo>
                      <a:pt x="738" y="1958"/>
                    </a:lnTo>
                    <a:lnTo>
                      <a:pt x="736" y="1962"/>
                    </a:lnTo>
                    <a:lnTo>
                      <a:pt x="736" y="1964"/>
                    </a:lnTo>
                    <a:lnTo>
                      <a:pt x="736" y="1967"/>
                    </a:lnTo>
                    <a:lnTo>
                      <a:pt x="736" y="1971"/>
                    </a:lnTo>
                    <a:lnTo>
                      <a:pt x="736" y="1975"/>
                    </a:lnTo>
                    <a:lnTo>
                      <a:pt x="736" y="1979"/>
                    </a:lnTo>
                    <a:lnTo>
                      <a:pt x="736" y="1983"/>
                    </a:lnTo>
                    <a:lnTo>
                      <a:pt x="736" y="1985"/>
                    </a:lnTo>
                    <a:lnTo>
                      <a:pt x="736" y="1990"/>
                    </a:lnTo>
                    <a:lnTo>
                      <a:pt x="736" y="1994"/>
                    </a:lnTo>
                    <a:lnTo>
                      <a:pt x="736" y="1998"/>
                    </a:lnTo>
                    <a:lnTo>
                      <a:pt x="736" y="2004"/>
                    </a:lnTo>
                    <a:lnTo>
                      <a:pt x="736" y="2007"/>
                    </a:lnTo>
                    <a:lnTo>
                      <a:pt x="736" y="2013"/>
                    </a:lnTo>
                    <a:lnTo>
                      <a:pt x="736" y="2015"/>
                    </a:lnTo>
                    <a:lnTo>
                      <a:pt x="736" y="2021"/>
                    </a:lnTo>
                    <a:lnTo>
                      <a:pt x="736" y="2026"/>
                    </a:lnTo>
                    <a:lnTo>
                      <a:pt x="736" y="2030"/>
                    </a:lnTo>
                    <a:lnTo>
                      <a:pt x="736" y="2036"/>
                    </a:lnTo>
                    <a:lnTo>
                      <a:pt x="736" y="2042"/>
                    </a:lnTo>
                    <a:lnTo>
                      <a:pt x="736" y="2047"/>
                    </a:lnTo>
                    <a:lnTo>
                      <a:pt x="738" y="2051"/>
                    </a:lnTo>
                    <a:lnTo>
                      <a:pt x="738" y="2057"/>
                    </a:lnTo>
                    <a:lnTo>
                      <a:pt x="738" y="2062"/>
                    </a:lnTo>
                    <a:lnTo>
                      <a:pt x="740" y="2066"/>
                    </a:lnTo>
                    <a:lnTo>
                      <a:pt x="740" y="2072"/>
                    </a:lnTo>
                    <a:lnTo>
                      <a:pt x="742" y="2078"/>
                    </a:lnTo>
                    <a:lnTo>
                      <a:pt x="744" y="2083"/>
                    </a:lnTo>
                    <a:lnTo>
                      <a:pt x="744" y="2091"/>
                    </a:lnTo>
                    <a:lnTo>
                      <a:pt x="746" y="2095"/>
                    </a:lnTo>
                    <a:lnTo>
                      <a:pt x="748" y="2101"/>
                    </a:lnTo>
                    <a:lnTo>
                      <a:pt x="748" y="2106"/>
                    </a:lnTo>
                    <a:lnTo>
                      <a:pt x="751" y="2110"/>
                    </a:lnTo>
                    <a:lnTo>
                      <a:pt x="753" y="2118"/>
                    </a:lnTo>
                    <a:lnTo>
                      <a:pt x="753" y="2123"/>
                    </a:lnTo>
                    <a:lnTo>
                      <a:pt x="757" y="2129"/>
                    </a:lnTo>
                    <a:lnTo>
                      <a:pt x="759" y="2135"/>
                    </a:lnTo>
                    <a:lnTo>
                      <a:pt x="761" y="2139"/>
                    </a:lnTo>
                    <a:lnTo>
                      <a:pt x="765" y="2144"/>
                    </a:lnTo>
                    <a:lnTo>
                      <a:pt x="767" y="2150"/>
                    </a:lnTo>
                    <a:lnTo>
                      <a:pt x="769" y="2156"/>
                    </a:lnTo>
                    <a:lnTo>
                      <a:pt x="772" y="2159"/>
                    </a:lnTo>
                    <a:lnTo>
                      <a:pt x="776" y="2165"/>
                    </a:lnTo>
                    <a:lnTo>
                      <a:pt x="780" y="2171"/>
                    </a:lnTo>
                    <a:lnTo>
                      <a:pt x="782" y="2175"/>
                    </a:lnTo>
                    <a:lnTo>
                      <a:pt x="786" y="2180"/>
                    </a:lnTo>
                    <a:lnTo>
                      <a:pt x="789" y="2186"/>
                    </a:lnTo>
                    <a:lnTo>
                      <a:pt x="795" y="2190"/>
                    </a:lnTo>
                    <a:lnTo>
                      <a:pt x="799" y="2196"/>
                    </a:lnTo>
                    <a:lnTo>
                      <a:pt x="805" y="2201"/>
                    </a:lnTo>
                    <a:lnTo>
                      <a:pt x="808" y="2205"/>
                    </a:lnTo>
                    <a:lnTo>
                      <a:pt x="814" y="2209"/>
                    </a:lnTo>
                    <a:lnTo>
                      <a:pt x="818" y="2213"/>
                    </a:lnTo>
                    <a:lnTo>
                      <a:pt x="824" y="2216"/>
                    </a:lnTo>
                    <a:lnTo>
                      <a:pt x="828" y="2222"/>
                    </a:lnTo>
                    <a:lnTo>
                      <a:pt x="833" y="2224"/>
                    </a:lnTo>
                    <a:lnTo>
                      <a:pt x="839" y="2228"/>
                    </a:lnTo>
                    <a:lnTo>
                      <a:pt x="845" y="2232"/>
                    </a:lnTo>
                    <a:lnTo>
                      <a:pt x="848" y="2235"/>
                    </a:lnTo>
                    <a:lnTo>
                      <a:pt x="854" y="2239"/>
                    </a:lnTo>
                    <a:lnTo>
                      <a:pt x="858" y="2243"/>
                    </a:lnTo>
                    <a:lnTo>
                      <a:pt x="864" y="2245"/>
                    </a:lnTo>
                    <a:lnTo>
                      <a:pt x="867" y="2249"/>
                    </a:lnTo>
                    <a:lnTo>
                      <a:pt x="873" y="2253"/>
                    </a:lnTo>
                    <a:lnTo>
                      <a:pt x="877" y="2256"/>
                    </a:lnTo>
                    <a:lnTo>
                      <a:pt x="883" y="2258"/>
                    </a:lnTo>
                    <a:lnTo>
                      <a:pt x="890" y="2260"/>
                    </a:lnTo>
                    <a:lnTo>
                      <a:pt x="896" y="2264"/>
                    </a:lnTo>
                    <a:lnTo>
                      <a:pt x="900" y="2266"/>
                    </a:lnTo>
                    <a:lnTo>
                      <a:pt x="904" y="2268"/>
                    </a:lnTo>
                    <a:lnTo>
                      <a:pt x="907" y="2270"/>
                    </a:lnTo>
                    <a:lnTo>
                      <a:pt x="913" y="2273"/>
                    </a:lnTo>
                    <a:lnTo>
                      <a:pt x="919" y="2275"/>
                    </a:lnTo>
                    <a:lnTo>
                      <a:pt x="925" y="2277"/>
                    </a:lnTo>
                    <a:lnTo>
                      <a:pt x="928" y="2279"/>
                    </a:lnTo>
                    <a:lnTo>
                      <a:pt x="934" y="2281"/>
                    </a:lnTo>
                    <a:lnTo>
                      <a:pt x="938" y="2283"/>
                    </a:lnTo>
                    <a:lnTo>
                      <a:pt x="942" y="2285"/>
                    </a:lnTo>
                    <a:lnTo>
                      <a:pt x="947" y="2287"/>
                    </a:lnTo>
                    <a:lnTo>
                      <a:pt x="951" y="2289"/>
                    </a:lnTo>
                    <a:lnTo>
                      <a:pt x="955" y="2289"/>
                    </a:lnTo>
                    <a:lnTo>
                      <a:pt x="961" y="2291"/>
                    </a:lnTo>
                    <a:lnTo>
                      <a:pt x="964" y="2291"/>
                    </a:lnTo>
                    <a:lnTo>
                      <a:pt x="968" y="2294"/>
                    </a:lnTo>
                    <a:lnTo>
                      <a:pt x="972" y="2294"/>
                    </a:lnTo>
                    <a:lnTo>
                      <a:pt x="978" y="2294"/>
                    </a:lnTo>
                    <a:lnTo>
                      <a:pt x="982" y="2296"/>
                    </a:lnTo>
                    <a:lnTo>
                      <a:pt x="985" y="2296"/>
                    </a:lnTo>
                    <a:lnTo>
                      <a:pt x="989" y="2296"/>
                    </a:lnTo>
                    <a:lnTo>
                      <a:pt x="993" y="2298"/>
                    </a:lnTo>
                    <a:lnTo>
                      <a:pt x="997" y="2298"/>
                    </a:lnTo>
                    <a:lnTo>
                      <a:pt x="1001" y="2298"/>
                    </a:lnTo>
                    <a:lnTo>
                      <a:pt x="1004" y="2298"/>
                    </a:lnTo>
                    <a:lnTo>
                      <a:pt x="1008" y="2300"/>
                    </a:lnTo>
                    <a:lnTo>
                      <a:pt x="1010" y="2300"/>
                    </a:lnTo>
                    <a:lnTo>
                      <a:pt x="1014" y="2300"/>
                    </a:lnTo>
                    <a:lnTo>
                      <a:pt x="1016" y="2300"/>
                    </a:lnTo>
                    <a:lnTo>
                      <a:pt x="1020" y="2300"/>
                    </a:lnTo>
                    <a:lnTo>
                      <a:pt x="1022" y="2300"/>
                    </a:lnTo>
                    <a:lnTo>
                      <a:pt x="1025" y="2302"/>
                    </a:lnTo>
                    <a:lnTo>
                      <a:pt x="1029" y="2300"/>
                    </a:lnTo>
                    <a:lnTo>
                      <a:pt x="1035" y="2300"/>
                    </a:lnTo>
                    <a:lnTo>
                      <a:pt x="1039" y="2298"/>
                    </a:lnTo>
                    <a:lnTo>
                      <a:pt x="1042" y="2298"/>
                    </a:lnTo>
                    <a:lnTo>
                      <a:pt x="1044" y="2296"/>
                    </a:lnTo>
                    <a:lnTo>
                      <a:pt x="1048" y="2296"/>
                    </a:lnTo>
                    <a:lnTo>
                      <a:pt x="1048" y="2294"/>
                    </a:lnTo>
                    <a:lnTo>
                      <a:pt x="1050" y="2294"/>
                    </a:lnTo>
                    <a:lnTo>
                      <a:pt x="1246" y="1334"/>
                    </a:lnTo>
                    <a:lnTo>
                      <a:pt x="1246" y="1333"/>
                    </a:lnTo>
                    <a:lnTo>
                      <a:pt x="1248" y="1331"/>
                    </a:lnTo>
                    <a:lnTo>
                      <a:pt x="1250" y="1327"/>
                    </a:lnTo>
                    <a:lnTo>
                      <a:pt x="1252" y="1325"/>
                    </a:lnTo>
                    <a:lnTo>
                      <a:pt x="1252" y="1323"/>
                    </a:lnTo>
                    <a:lnTo>
                      <a:pt x="1254" y="1319"/>
                    </a:lnTo>
                    <a:lnTo>
                      <a:pt x="1256" y="1315"/>
                    </a:lnTo>
                    <a:lnTo>
                      <a:pt x="1259" y="1312"/>
                    </a:lnTo>
                    <a:lnTo>
                      <a:pt x="1259" y="1306"/>
                    </a:lnTo>
                    <a:lnTo>
                      <a:pt x="1263" y="1302"/>
                    </a:lnTo>
                    <a:lnTo>
                      <a:pt x="1265" y="1296"/>
                    </a:lnTo>
                    <a:lnTo>
                      <a:pt x="1269" y="1293"/>
                    </a:lnTo>
                    <a:lnTo>
                      <a:pt x="1271" y="1285"/>
                    </a:lnTo>
                    <a:lnTo>
                      <a:pt x="1275" y="1281"/>
                    </a:lnTo>
                    <a:lnTo>
                      <a:pt x="1276" y="1274"/>
                    </a:lnTo>
                    <a:lnTo>
                      <a:pt x="1280" y="1266"/>
                    </a:lnTo>
                    <a:lnTo>
                      <a:pt x="1284" y="1258"/>
                    </a:lnTo>
                    <a:lnTo>
                      <a:pt x="1288" y="1249"/>
                    </a:lnTo>
                    <a:lnTo>
                      <a:pt x="1290" y="1241"/>
                    </a:lnTo>
                    <a:lnTo>
                      <a:pt x="1294" y="1234"/>
                    </a:lnTo>
                    <a:lnTo>
                      <a:pt x="1297" y="1224"/>
                    </a:lnTo>
                    <a:lnTo>
                      <a:pt x="1301" y="1217"/>
                    </a:lnTo>
                    <a:lnTo>
                      <a:pt x="1305" y="1207"/>
                    </a:lnTo>
                    <a:lnTo>
                      <a:pt x="1309" y="1198"/>
                    </a:lnTo>
                    <a:lnTo>
                      <a:pt x="1313" y="1188"/>
                    </a:lnTo>
                    <a:lnTo>
                      <a:pt x="1316" y="1177"/>
                    </a:lnTo>
                    <a:lnTo>
                      <a:pt x="1320" y="1165"/>
                    </a:lnTo>
                    <a:lnTo>
                      <a:pt x="1324" y="1154"/>
                    </a:lnTo>
                    <a:lnTo>
                      <a:pt x="1330" y="1144"/>
                    </a:lnTo>
                    <a:lnTo>
                      <a:pt x="1334" y="1133"/>
                    </a:lnTo>
                    <a:lnTo>
                      <a:pt x="1337" y="1122"/>
                    </a:lnTo>
                    <a:lnTo>
                      <a:pt x="1339" y="1108"/>
                    </a:lnTo>
                    <a:lnTo>
                      <a:pt x="1345" y="1097"/>
                    </a:lnTo>
                    <a:lnTo>
                      <a:pt x="1349" y="1084"/>
                    </a:lnTo>
                    <a:lnTo>
                      <a:pt x="1353" y="1070"/>
                    </a:lnTo>
                    <a:lnTo>
                      <a:pt x="1354" y="1059"/>
                    </a:lnTo>
                    <a:lnTo>
                      <a:pt x="1358" y="1044"/>
                    </a:lnTo>
                    <a:lnTo>
                      <a:pt x="1362" y="1032"/>
                    </a:lnTo>
                    <a:lnTo>
                      <a:pt x="1366" y="1017"/>
                    </a:lnTo>
                    <a:lnTo>
                      <a:pt x="1370" y="1004"/>
                    </a:lnTo>
                    <a:lnTo>
                      <a:pt x="1372" y="988"/>
                    </a:lnTo>
                    <a:lnTo>
                      <a:pt x="1375" y="975"/>
                    </a:lnTo>
                    <a:lnTo>
                      <a:pt x="1377" y="960"/>
                    </a:lnTo>
                    <a:lnTo>
                      <a:pt x="1381" y="947"/>
                    </a:lnTo>
                    <a:lnTo>
                      <a:pt x="1383" y="931"/>
                    </a:lnTo>
                    <a:lnTo>
                      <a:pt x="1387" y="916"/>
                    </a:lnTo>
                    <a:lnTo>
                      <a:pt x="1389" y="901"/>
                    </a:lnTo>
                    <a:lnTo>
                      <a:pt x="1391" y="886"/>
                    </a:lnTo>
                    <a:lnTo>
                      <a:pt x="1392" y="871"/>
                    </a:lnTo>
                    <a:lnTo>
                      <a:pt x="1394" y="855"/>
                    </a:lnTo>
                    <a:lnTo>
                      <a:pt x="1396" y="838"/>
                    </a:lnTo>
                    <a:lnTo>
                      <a:pt x="1398" y="823"/>
                    </a:lnTo>
                    <a:lnTo>
                      <a:pt x="1398" y="806"/>
                    </a:lnTo>
                    <a:lnTo>
                      <a:pt x="1400" y="791"/>
                    </a:lnTo>
                    <a:lnTo>
                      <a:pt x="1402" y="774"/>
                    </a:lnTo>
                    <a:lnTo>
                      <a:pt x="1402" y="757"/>
                    </a:lnTo>
                    <a:lnTo>
                      <a:pt x="1402" y="741"/>
                    </a:lnTo>
                    <a:lnTo>
                      <a:pt x="1402" y="724"/>
                    </a:lnTo>
                    <a:lnTo>
                      <a:pt x="1402" y="705"/>
                    </a:lnTo>
                    <a:lnTo>
                      <a:pt x="1402" y="690"/>
                    </a:lnTo>
                    <a:lnTo>
                      <a:pt x="1400" y="673"/>
                    </a:lnTo>
                    <a:lnTo>
                      <a:pt x="1400" y="656"/>
                    </a:lnTo>
                    <a:lnTo>
                      <a:pt x="1398" y="654"/>
                    </a:lnTo>
                    <a:lnTo>
                      <a:pt x="1398" y="652"/>
                    </a:lnTo>
                    <a:lnTo>
                      <a:pt x="1398" y="648"/>
                    </a:lnTo>
                    <a:lnTo>
                      <a:pt x="1398" y="644"/>
                    </a:lnTo>
                    <a:lnTo>
                      <a:pt x="1398" y="643"/>
                    </a:lnTo>
                    <a:lnTo>
                      <a:pt x="1398" y="639"/>
                    </a:lnTo>
                    <a:lnTo>
                      <a:pt x="1396" y="637"/>
                    </a:lnTo>
                    <a:lnTo>
                      <a:pt x="1396" y="633"/>
                    </a:lnTo>
                    <a:lnTo>
                      <a:pt x="1396" y="631"/>
                    </a:lnTo>
                    <a:lnTo>
                      <a:pt x="1396" y="627"/>
                    </a:lnTo>
                    <a:lnTo>
                      <a:pt x="1396" y="623"/>
                    </a:lnTo>
                    <a:lnTo>
                      <a:pt x="1394" y="620"/>
                    </a:lnTo>
                    <a:lnTo>
                      <a:pt x="1394" y="618"/>
                    </a:lnTo>
                    <a:lnTo>
                      <a:pt x="1394" y="616"/>
                    </a:lnTo>
                    <a:lnTo>
                      <a:pt x="1392" y="612"/>
                    </a:lnTo>
                    <a:lnTo>
                      <a:pt x="1392" y="610"/>
                    </a:lnTo>
                    <a:lnTo>
                      <a:pt x="1392" y="608"/>
                    </a:lnTo>
                    <a:lnTo>
                      <a:pt x="1391" y="604"/>
                    </a:lnTo>
                    <a:lnTo>
                      <a:pt x="1391" y="603"/>
                    </a:lnTo>
                    <a:lnTo>
                      <a:pt x="1391" y="599"/>
                    </a:lnTo>
                    <a:lnTo>
                      <a:pt x="1389" y="597"/>
                    </a:lnTo>
                    <a:lnTo>
                      <a:pt x="1389" y="593"/>
                    </a:lnTo>
                    <a:lnTo>
                      <a:pt x="1389" y="589"/>
                    </a:lnTo>
                    <a:lnTo>
                      <a:pt x="1389" y="587"/>
                    </a:lnTo>
                    <a:lnTo>
                      <a:pt x="1387" y="585"/>
                    </a:lnTo>
                    <a:lnTo>
                      <a:pt x="1385" y="582"/>
                    </a:lnTo>
                    <a:lnTo>
                      <a:pt x="1385" y="580"/>
                    </a:lnTo>
                    <a:lnTo>
                      <a:pt x="1383" y="578"/>
                    </a:lnTo>
                    <a:lnTo>
                      <a:pt x="1383" y="572"/>
                    </a:lnTo>
                    <a:lnTo>
                      <a:pt x="1381" y="568"/>
                    </a:lnTo>
                    <a:lnTo>
                      <a:pt x="1377" y="563"/>
                    </a:lnTo>
                    <a:lnTo>
                      <a:pt x="1375" y="557"/>
                    </a:lnTo>
                    <a:lnTo>
                      <a:pt x="1373" y="553"/>
                    </a:lnTo>
                    <a:lnTo>
                      <a:pt x="1370" y="547"/>
                    </a:lnTo>
                    <a:lnTo>
                      <a:pt x="1366" y="544"/>
                    </a:lnTo>
                    <a:lnTo>
                      <a:pt x="1364" y="540"/>
                    </a:lnTo>
                    <a:lnTo>
                      <a:pt x="1360" y="536"/>
                    </a:lnTo>
                    <a:lnTo>
                      <a:pt x="1356" y="532"/>
                    </a:lnTo>
                    <a:lnTo>
                      <a:pt x="1353" y="528"/>
                    </a:lnTo>
                    <a:lnTo>
                      <a:pt x="1349" y="525"/>
                    </a:lnTo>
                    <a:lnTo>
                      <a:pt x="1345" y="523"/>
                    </a:lnTo>
                    <a:lnTo>
                      <a:pt x="1339" y="521"/>
                    </a:lnTo>
                    <a:lnTo>
                      <a:pt x="1335" y="517"/>
                    </a:lnTo>
                    <a:lnTo>
                      <a:pt x="1332" y="515"/>
                    </a:lnTo>
                    <a:lnTo>
                      <a:pt x="1326" y="515"/>
                    </a:lnTo>
                    <a:lnTo>
                      <a:pt x="1322" y="513"/>
                    </a:lnTo>
                    <a:lnTo>
                      <a:pt x="1318" y="511"/>
                    </a:lnTo>
                    <a:lnTo>
                      <a:pt x="1316" y="511"/>
                    </a:lnTo>
                    <a:lnTo>
                      <a:pt x="1313" y="511"/>
                    </a:lnTo>
                    <a:lnTo>
                      <a:pt x="1311" y="511"/>
                    </a:lnTo>
                    <a:lnTo>
                      <a:pt x="1309" y="509"/>
                    </a:lnTo>
                    <a:lnTo>
                      <a:pt x="1305" y="509"/>
                    </a:lnTo>
                    <a:lnTo>
                      <a:pt x="1303" y="509"/>
                    </a:lnTo>
                    <a:lnTo>
                      <a:pt x="1301" y="509"/>
                    </a:lnTo>
                    <a:lnTo>
                      <a:pt x="1297" y="509"/>
                    </a:lnTo>
                    <a:lnTo>
                      <a:pt x="1295" y="509"/>
                    </a:lnTo>
                    <a:lnTo>
                      <a:pt x="1292" y="509"/>
                    </a:lnTo>
                    <a:lnTo>
                      <a:pt x="1290" y="509"/>
                    </a:lnTo>
                    <a:lnTo>
                      <a:pt x="1284" y="509"/>
                    </a:lnTo>
                    <a:lnTo>
                      <a:pt x="1280" y="509"/>
                    </a:lnTo>
                    <a:lnTo>
                      <a:pt x="1275" y="509"/>
                    </a:lnTo>
                    <a:lnTo>
                      <a:pt x="1269" y="509"/>
                    </a:lnTo>
                    <a:lnTo>
                      <a:pt x="1265" y="509"/>
                    </a:lnTo>
                    <a:lnTo>
                      <a:pt x="1259" y="509"/>
                    </a:lnTo>
                    <a:lnTo>
                      <a:pt x="1256" y="511"/>
                    </a:lnTo>
                    <a:lnTo>
                      <a:pt x="1252" y="511"/>
                    </a:lnTo>
                    <a:lnTo>
                      <a:pt x="1246" y="515"/>
                    </a:lnTo>
                    <a:lnTo>
                      <a:pt x="1242" y="515"/>
                    </a:lnTo>
                    <a:lnTo>
                      <a:pt x="1238" y="517"/>
                    </a:lnTo>
                    <a:lnTo>
                      <a:pt x="1235" y="521"/>
                    </a:lnTo>
                    <a:lnTo>
                      <a:pt x="1231" y="523"/>
                    </a:lnTo>
                    <a:lnTo>
                      <a:pt x="1229" y="525"/>
                    </a:lnTo>
                    <a:lnTo>
                      <a:pt x="1225" y="527"/>
                    </a:lnTo>
                    <a:lnTo>
                      <a:pt x="1221" y="530"/>
                    </a:lnTo>
                    <a:lnTo>
                      <a:pt x="1219" y="532"/>
                    </a:lnTo>
                    <a:lnTo>
                      <a:pt x="1216" y="538"/>
                    </a:lnTo>
                    <a:lnTo>
                      <a:pt x="1214" y="542"/>
                    </a:lnTo>
                    <a:lnTo>
                      <a:pt x="1212" y="546"/>
                    </a:lnTo>
                    <a:lnTo>
                      <a:pt x="1210" y="549"/>
                    </a:lnTo>
                    <a:lnTo>
                      <a:pt x="1208" y="555"/>
                    </a:lnTo>
                    <a:lnTo>
                      <a:pt x="1208" y="557"/>
                    </a:lnTo>
                    <a:lnTo>
                      <a:pt x="1206" y="559"/>
                    </a:lnTo>
                    <a:lnTo>
                      <a:pt x="1204" y="561"/>
                    </a:lnTo>
                    <a:lnTo>
                      <a:pt x="1204" y="565"/>
                    </a:lnTo>
                    <a:lnTo>
                      <a:pt x="1204" y="566"/>
                    </a:lnTo>
                    <a:lnTo>
                      <a:pt x="1204" y="570"/>
                    </a:lnTo>
                    <a:lnTo>
                      <a:pt x="1204" y="572"/>
                    </a:lnTo>
                    <a:lnTo>
                      <a:pt x="1204" y="576"/>
                    </a:lnTo>
                    <a:lnTo>
                      <a:pt x="1139" y="895"/>
                    </a:lnTo>
                    <a:lnTo>
                      <a:pt x="1136" y="893"/>
                    </a:lnTo>
                    <a:lnTo>
                      <a:pt x="1132" y="892"/>
                    </a:lnTo>
                    <a:lnTo>
                      <a:pt x="1126" y="888"/>
                    </a:lnTo>
                    <a:lnTo>
                      <a:pt x="1122" y="886"/>
                    </a:lnTo>
                    <a:lnTo>
                      <a:pt x="1117" y="884"/>
                    </a:lnTo>
                    <a:lnTo>
                      <a:pt x="1113" y="880"/>
                    </a:lnTo>
                    <a:lnTo>
                      <a:pt x="1107" y="878"/>
                    </a:lnTo>
                    <a:lnTo>
                      <a:pt x="1105" y="876"/>
                    </a:lnTo>
                    <a:lnTo>
                      <a:pt x="1227" y="316"/>
                    </a:lnTo>
                    <a:lnTo>
                      <a:pt x="1227" y="312"/>
                    </a:lnTo>
                    <a:lnTo>
                      <a:pt x="1227" y="308"/>
                    </a:lnTo>
                    <a:lnTo>
                      <a:pt x="1229" y="306"/>
                    </a:lnTo>
                    <a:lnTo>
                      <a:pt x="1229" y="304"/>
                    </a:lnTo>
                    <a:lnTo>
                      <a:pt x="1229" y="300"/>
                    </a:lnTo>
                    <a:lnTo>
                      <a:pt x="1229" y="298"/>
                    </a:lnTo>
                    <a:lnTo>
                      <a:pt x="1229" y="295"/>
                    </a:lnTo>
                    <a:lnTo>
                      <a:pt x="1229" y="293"/>
                    </a:lnTo>
                    <a:lnTo>
                      <a:pt x="1229" y="291"/>
                    </a:lnTo>
                    <a:lnTo>
                      <a:pt x="1229" y="287"/>
                    </a:lnTo>
                    <a:lnTo>
                      <a:pt x="1229" y="285"/>
                    </a:lnTo>
                    <a:lnTo>
                      <a:pt x="1229" y="283"/>
                    </a:lnTo>
                    <a:lnTo>
                      <a:pt x="1229" y="278"/>
                    </a:lnTo>
                    <a:lnTo>
                      <a:pt x="1227" y="272"/>
                    </a:lnTo>
                    <a:lnTo>
                      <a:pt x="1225" y="268"/>
                    </a:lnTo>
                    <a:lnTo>
                      <a:pt x="1225" y="262"/>
                    </a:lnTo>
                    <a:lnTo>
                      <a:pt x="1223" y="257"/>
                    </a:lnTo>
                    <a:lnTo>
                      <a:pt x="1221" y="253"/>
                    </a:lnTo>
                    <a:lnTo>
                      <a:pt x="1219" y="247"/>
                    </a:lnTo>
                    <a:lnTo>
                      <a:pt x="1217" y="243"/>
                    </a:lnTo>
                    <a:lnTo>
                      <a:pt x="1216" y="240"/>
                    </a:lnTo>
                    <a:lnTo>
                      <a:pt x="1214" y="236"/>
                    </a:lnTo>
                    <a:lnTo>
                      <a:pt x="1210" y="232"/>
                    </a:lnTo>
                    <a:lnTo>
                      <a:pt x="1206" y="226"/>
                    </a:lnTo>
                    <a:lnTo>
                      <a:pt x="1202" y="222"/>
                    </a:lnTo>
                    <a:lnTo>
                      <a:pt x="1200" y="219"/>
                    </a:lnTo>
                    <a:lnTo>
                      <a:pt x="1197" y="215"/>
                    </a:lnTo>
                    <a:lnTo>
                      <a:pt x="1193" y="211"/>
                    </a:lnTo>
                    <a:lnTo>
                      <a:pt x="1189" y="207"/>
                    </a:lnTo>
                    <a:lnTo>
                      <a:pt x="1185" y="205"/>
                    </a:lnTo>
                    <a:lnTo>
                      <a:pt x="1179" y="203"/>
                    </a:lnTo>
                    <a:lnTo>
                      <a:pt x="1176" y="200"/>
                    </a:lnTo>
                    <a:lnTo>
                      <a:pt x="1172" y="198"/>
                    </a:lnTo>
                    <a:lnTo>
                      <a:pt x="1166" y="194"/>
                    </a:lnTo>
                    <a:lnTo>
                      <a:pt x="1160" y="192"/>
                    </a:lnTo>
                    <a:lnTo>
                      <a:pt x="1157" y="192"/>
                    </a:lnTo>
                    <a:lnTo>
                      <a:pt x="1151" y="190"/>
                    </a:lnTo>
                    <a:lnTo>
                      <a:pt x="1147" y="190"/>
                    </a:lnTo>
                    <a:lnTo>
                      <a:pt x="1143" y="188"/>
                    </a:lnTo>
                    <a:lnTo>
                      <a:pt x="1141" y="186"/>
                    </a:lnTo>
                    <a:lnTo>
                      <a:pt x="1138" y="186"/>
                    </a:lnTo>
                    <a:lnTo>
                      <a:pt x="1136" y="186"/>
                    </a:lnTo>
                    <a:lnTo>
                      <a:pt x="1134" y="186"/>
                    </a:lnTo>
                    <a:lnTo>
                      <a:pt x="1130" y="186"/>
                    </a:lnTo>
                    <a:lnTo>
                      <a:pt x="1128" y="186"/>
                    </a:lnTo>
                    <a:lnTo>
                      <a:pt x="1124" y="186"/>
                    </a:lnTo>
                    <a:lnTo>
                      <a:pt x="1122" y="186"/>
                    </a:lnTo>
                    <a:lnTo>
                      <a:pt x="1120" y="186"/>
                    </a:lnTo>
                    <a:lnTo>
                      <a:pt x="1117" y="186"/>
                    </a:lnTo>
                    <a:lnTo>
                      <a:pt x="1115" y="186"/>
                    </a:lnTo>
                    <a:lnTo>
                      <a:pt x="1109" y="186"/>
                    </a:lnTo>
                    <a:lnTo>
                      <a:pt x="1105" y="188"/>
                    </a:lnTo>
                    <a:lnTo>
                      <a:pt x="1100" y="188"/>
                    </a:lnTo>
                    <a:lnTo>
                      <a:pt x="1094" y="190"/>
                    </a:lnTo>
                    <a:lnTo>
                      <a:pt x="1090" y="192"/>
                    </a:lnTo>
                    <a:lnTo>
                      <a:pt x="1086" y="192"/>
                    </a:lnTo>
                    <a:lnTo>
                      <a:pt x="1081" y="194"/>
                    </a:lnTo>
                    <a:lnTo>
                      <a:pt x="1077" y="198"/>
                    </a:lnTo>
                    <a:lnTo>
                      <a:pt x="1073" y="200"/>
                    </a:lnTo>
                    <a:lnTo>
                      <a:pt x="1067" y="203"/>
                    </a:lnTo>
                    <a:lnTo>
                      <a:pt x="1063" y="205"/>
                    </a:lnTo>
                    <a:lnTo>
                      <a:pt x="1058" y="207"/>
                    </a:lnTo>
                    <a:lnTo>
                      <a:pt x="1054" y="211"/>
                    </a:lnTo>
                    <a:lnTo>
                      <a:pt x="1050" y="215"/>
                    </a:lnTo>
                    <a:lnTo>
                      <a:pt x="1048" y="219"/>
                    </a:lnTo>
                    <a:lnTo>
                      <a:pt x="1044" y="222"/>
                    </a:lnTo>
                    <a:lnTo>
                      <a:pt x="1041" y="226"/>
                    </a:lnTo>
                    <a:lnTo>
                      <a:pt x="1039" y="232"/>
                    </a:lnTo>
                    <a:lnTo>
                      <a:pt x="1035" y="234"/>
                    </a:lnTo>
                    <a:lnTo>
                      <a:pt x="1033" y="240"/>
                    </a:lnTo>
                    <a:lnTo>
                      <a:pt x="1029" y="243"/>
                    </a:lnTo>
                    <a:lnTo>
                      <a:pt x="1027" y="249"/>
                    </a:lnTo>
                    <a:lnTo>
                      <a:pt x="1025" y="253"/>
                    </a:lnTo>
                    <a:lnTo>
                      <a:pt x="1023" y="259"/>
                    </a:lnTo>
                    <a:lnTo>
                      <a:pt x="1022" y="260"/>
                    </a:lnTo>
                    <a:lnTo>
                      <a:pt x="1022" y="264"/>
                    </a:lnTo>
                    <a:lnTo>
                      <a:pt x="1022" y="266"/>
                    </a:lnTo>
                    <a:lnTo>
                      <a:pt x="1022" y="270"/>
                    </a:lnTo>
                    <a:lnTo>
                      <a:pt x="919" y="730"/>
                    </a:lnTo>
                    <a:lnTo>
                      <a:pt x="915" y="728"/>
                    </a:lnTo>
                    <a:lnTo>
                      <a:pt x="913" y="726"/>
                    </a:lnTo>
                    <a:lnTo>
                      <a:pt x="907" y="724"/>
                    </a:lnTo>
                    <a:lnTo>
                      <a:pt x="905" y="720"/>
                    </a:lnTo>
                    <a:lnTo>
                      <a:pt x="904" y="719"/>
                    </a:lnTo>
                    <a:lnTo>
                      <a:pt x="900" y="717"/>
                    </a:lnTo>
                    <a:lnTo>
                      <a:pt x="896" y="713"/>
                    </a:lnTo>
                    <a:lnTo>
                      <a:pt x="892" y="713"/>
                    </a:lnTo>
                    <a:lnTo>
                      <a:pt x="1022" y="129"/>
                    </a:lnTo>
                    <a:lnTo>
                      <a:pt x="1022" y="125"/>
                    </a:lnTo>
                    <a:lnTo>
                      <a:pt x="1022" y="124"/>
                    </a:lnTo>
                    <a:lnTo>
                      <a:pt x="1022" y="120"/>
                    </a:lnTo>
                    <a:lnTo>
                      <a:pt x="1022" y="118"/>
                    </a:lnTo>
                    <a:lnTo>
                      <a:pt x="1022" y="114"/>
                    </a:lnTo>
                    <a:lnTo>
                      <a:pt x="1022" y="112"/>
                    </a:lnTo>
                    <a:lnTo>
                      <a:pt x="1022" y="110"/>
                    </a:lnTo>
                    <a:lnTo>
                      <a:pt x="1022" y="106"/>
                    </a:lnTo>
                    <a:lnTo>
                      <a:pt x="1022" y="105"/>
                    </a:lnTo>
                    <a:lnTo>
                      <a:pt x="1022" y="103"/>
                    </a:lnTo>
                    <a:lnTo>
                      <a:pt x="1022" y="99"/>
                    </a:lnTo>
                    <a:lnTo>
                      <a:pt x="1022" y="97"/>
                    </a:lnTo>
                    <a:lnTo>
                      <a:pt x="1022" y="91"/>
                    </a:lnTo>
                    <a:lnTo>
                      <a:pt x="1022" y="86"/>
                    </a:lnTo>
                    <a:lnTo>
                      <a:pt x="1020" y="82"/>
                    </a:lnTo>
                    <a:lnTo>
                      <a:pt x="1018" y="76"/>
                    </a:lnTo>
                    <a:lnTo>
                      <a:pt x="1016" y="70"/>
                    </a:lnTo>
                    <a:lnTo>
                      <a:pt x="1014" y="67"/>
                    </a:lnTo>
                    <a:lnTo>
                      <a:pt x="1012" y="61"/>
                    </a:lnTo>
                    <a:lnTo>
                      <a:pt x="1010" y="57"/>
                    </a:lnTo>
                    <a:lnTo>
                      <a:pt x="1008" y="53"/>
                    </a:lnTo>
                    <a:lnTo>
                      <a:pt x="1006" y="48"/>
                    </a:lnTo>
                    <a:lnTo>
                      <a:pt x="1004" y="44"/>
                    </a:lnTo>
                    <a:lnTo>
                      <a:pt x="1001" y="40"/>
                    </a:lnTo>
                    <a:lnTo>
                      <a:pt x="997" y="36"/>
                    </a:lnTo>
                    <a:lnTo>
                      <a:pt x="993" y="32"/>
                    </a:lnTo>
                    <a:lnTo>
                      <a:pt x="991" y="29"/>
                    </a:lnTo>
                    <a:lnTo>
                      <a:pt x="985" y="25"/>
                    </a:lnTo>
                    <a:lnTo>
                      <a:pt x="983" y="23"/>
                    </a:lnTo>
                    <a:lnTo>
                      <a:pt x="978" y="19"/>
                    </a:lnTo>
                    <a:lnTo>
                      <a:pt x="972" y="17"/>
                    </a:lnTo>
                    <a:lnTo>
                      <a:pt x="968" y="13"/>
                    </a:lnTo>
                    <a:lnTo>
                      <a:pt x="964" y="11"/>
                    </a:lnTo>
                    <a:lnTo>
                      <a:pt x="961" y="10"/>
                    </a:lnTo>
                    <a:lnTo>
                      <a:pt x="955" y="6"/>
                    </a:lnTo>
                    <a:lnTo>
                      <a:pt x="949" y="6"/>
                    </a:lnTo>
                    <a:lnTo>
                      <a:pt x="944" y="4"/>
                    </a:lnTo>
                    <a:lnTo>
                      <a:pt x="940" y="4"/>
                    </a:lnTo>
                    <a:lnTo>
                      <a:pt x="936" y="2"/>
                    </a:lnTo>
                    <a:lnTo>
                      <a:pt x="934" y="2"/>
                    </a:lnTo>
                    <a:lnTo>
                      <a:pt x="932" y="0"/>
                    </a:lnTo>
                    <a:lnTo>
                      <a:pt x="928" y="0"/>
                    </a:lnTo>
                    <a:lnTo>
                      <a:pt x="926" y="0"/>
                    </a:lnTo>
                    <a:lnTo>
                      <a:pt x="925" y="0"/>
                    </a:lnTo>
                    <a:lnTo>
                      <a:pt x="921" y="0"/>
                    </a:lnTo>
                    <a:lnTo>
                      <a:pt x="919" y="0"/>
                    </a:lnTo>
                    <a:lnTo>
                      <a:pt x="915" y="0"/>
                    </a:lnTo>
                    <a:lnTo>
                      <a:pt x="913" y="0"/>
                    </a:lnTo>
                    <a:lnTo>
                      <a:pt x="911" y="0"/>
                    </a:lnTo>
                    <a:lnTo>
                      <a:pt x="907" y="0"/>
                    </a:lnTo>
                    <a:lnTo>
                      <a:pt x="904" y="0"/>
                    </a:lnTo>
                    <a:lnTo>
                      <a:pt x="898" y="2"/>
                    </a:lnTo>
                    <a:lnTo>
                      <a:pt x="896" y="2"/>
                    </a:lnTo>
                    <a:lnTo>
                      <a:pt x="892" y="2"/>
                    </a:lnTo>
                    <a:lnTo>
                      <a:pt x="890" y="2"/>
                    </a:lnTo>
                    <a:lnTo>
                      <a:pt x="888" y="4"/>
                    </a:lnTo>
                    <a:lnTo>
                      <a:pt x="881" y="4"/>
                    </a:lnTo>
                    <a:lnTo>
                      <a:pt x="877" y="6"/>
                    </a:lnTo>
                    <a:lnTo>
                      <a:pt x="873" y="10"/>
                    </a:lnTo>
                    <a:lnTo>
                      <a:pt x="867" y="11"/>
                    </a:lnTo>
                    <a:lnTo>
                      <a:pt x="864" y="15"/>
                    </a:lnTo>
                    <a:lnTo>
                      <a:pt x="860" y="17"/>
                    </a:lnTo>
                    <a:lnTo>
                      <a:pt x="854" y="19"/>
                    </a:lnTo>
                    <a:lnTo>
                      <a:pt x="850" y="23"/>
                    </a:lnTo>
                    <a:lnTo>
                      <a:pt x="847" y="25"/>
                    </a:lnTo>
                    <a:lnTo>
                      <a:pt x="843" y="29"/>
                    </a:lnTo>
                    <a:lnTo>
                      <a:pt x="839" y="32"/>
                    </a:lnTo>
                    <a:lnTo>
                      <a:pt x="835" y="36"/>
                    </a:lnTo>
                    <a:lnTo>
                      <a:pt x="833" y="40"/>
                    </a:lnTo>
                    <a:lnTo>
                      <a:pt x="831" y="44"/>
                    </a:lnTo>
                    <a:lnTo>
                      <a:pt x="828" y="48"/>
                    </a:lnTo>
                    <a:lnTo>
                      <a:pt x="824" y="53"/>
                    </a:lnTo>
                    <a:lnTo>
                      <a:pt x="822" y="57"/>
                    </a:lnTo>
                    <a:lnTo>
                      <a:pt x="820" y="61"/>
                    </a:lnTo>
                    <a:lnTo>
                      <a:pt x="818" y="67"/>
                    </a:lnTo>
                    <a:lnTo>
                      <a:pt x="816" y="70"/>
                    </a:lnTo>
                    <a:lnTo>
                      <a:pt x="816" y="74"/>
                    </a:lnTo>
                    <a:lnTo>
                      <a:pt x="814" y="76"/>
                    </a:lnTo>
                    <a:lnTo>
                      <a:pt x="812" y="82"/>
                    </a:lnTo>
                    <a:lnTo>
                      <a:pt x="812" y="84"/>
                    </a:lnTo>
                    <a:lnTo>
                      <a:pt x="687" y="663"/>
                    </a:lnTo>
                    <a:lnTo>
                      <a:pt x="681" y="663"/>
                    </a:lnTo>
                    <a:lnTo>
                      <a:pt x="677" y="663"/>
                    </a:lnTo>
                    <a:lnTo>
                      <a:pt x="673" y="663"/>
                    </a:lnTo>
                    <a:lnTo>
                      <a:pt x="670" y="663"/>
                    </a:lnTo>
                    <a:lnTo>
                      <a:pt x="666" y="663"/>
                    </a:lnTo>
                    <a:lnTo>
                      <a:pt x="660" y="665"/>
                    </a:lnTo>
                    <a:lnTo>
                      <a:pt x="656" y="665"/>
                    </a:lnTo>
                    <a:lnTo>
                      <a:pt x="652" y="667"/>
                    </a:lnTo>
                    <a:lnTo>
                      <a:pt x="753" y="213"/>
                    </a:lnTo>
                    <a:lnTo>
                      <a:pt x="753" y="209"/>
                    </a:lnTo>
                    <a:lnTo>
                      <a:pt x="753" y="207"/>
                    </a:lnTo>
                    <a:lnTo>
                      <a:pt x="753" y="203"/>
                    </a:lnTo>
                    <a:lnTo>
                      <a:pt x="753" y="201"/>
                    </a:lnTo>
                    <a:lnTo>
                      <a:pt x="753" y="198"/>
                    </a:lnTo>
                    <a:lnTo>
                      <a:pt x="753" y="196"/>
                    </a:lnTo>
                    <a:lnTo>
                      <a:pt x="753" y="192"/>
                    </a:lnTo>
                    <a:lnTo>
                      <a:pt x="753" y="190"/>
                    </a:lnTo>
                    <a:lnTo>
                      <a:pt x="753" y="188"/>
                    </a:lnTo>
                    <a:lnTo>
                      <a:pt x="753" y="184"/>
                    </a:lnTo>
                    <a:lnTo>
                      <a:pt x="753" y="182"/>
                    </a:lnTo>
                    <a:lnTo>
                      <a:pt x="753" y="181"/>
                    </a:lnTo>
                    <a:lnTo>
                      <a:pt x="753" y="175"/>
                    </a:lnTo>
                    <a:lnTo>
                      <a:pt x="753" y="169"/>
                    </a:lnTo>
                    <a:lnTo>
                      <a:pt x="751" y="167"/>
                    </a:lnTo>
                    <a:lnTo>
                      <a:pt x="751" y="163"/>
                    </a:lnTo>
                    <a:lnTo>
                      <a:pt x="751" y="162"/>
                    </a:lnTo>
                    <a:lnTo>
                      <a:pt x="750" y="160"/>
                    </a:lnTo>
                    <a:lnTo>
                      <a:pt x="748" y="154"/>
                    </a:lnTo>
                    <a:lnTo>
                      <a:pt x="746" y="148"/>
                    </a:lnTo>
                    <a:lnTo>
                      <a:pt x="744" y="144"/>
                    </a:lnTo>
                    <a:lnTo>
                      <a:pt x="742" y="141"/>
                    </a:lnTo>
                    <a:lnTo>
                      <a:pt x="740" y="135"/>
                    </a:lnTo>
                    <a:lnTo>
                      <a:pt x="738" y="131"/>
                    </a:lnTo>
                    <a:lnTo>
                      <a:pt x="734" y="127"/>
                    </a:lnTo>
                    <a:lnTo>
                      <a:pt x="730" y="124"/>
                    </a:lnTo>
                    <a:lnTo>
                      <a:pt x="727" y="120"/>
                    </a:lnTo>
                    <a:lnTo>
                      <a:pt x="725" y="116"/>
                    </a:lnTo>
                    <a:lnTo>
                      <a:pt x="721" y="112"/>
                    </a:lnTo>
                    <a:lnTo>
                      <a:pt x="717" y="108"/>
                    </a:lnTo>
                    <a:lnTo>
                      <a:pt x="713" y="105"/>
                    </a:lnTo>
                    <a:lnTo>
                      <a:pt x="710" y="103"/>
                    </a:lnTo>
                    <a:lnTo>
                      <a:pt x="704" y="99"/>
                    </a:lnTo>
                    <a:lnTo>
                      <a:pt x="700" y="97"/>
                    </a:lnTo>
                    <a:lnTo>
                      <a:pt x="694" y="95"/>
                    </a:lnTo>
                    <a:lnTo>
                      <a:pt x="691" y="91"/>
                    </a:lnTo>
                    <a:lnTo>
                      <a:pt x="685" y="89"/>
                    </a:lnTo>
                    <a:lnTo>
                      <a:pt x="681" y="87"/>
                    </a:lnTo>
                    <a:lnTo>
                      <a:pt x="675" y="86"/>
                    </a:lnTo>
                    <a:lnTo>
                      <a:pt x="672" y="86"/>
                    </a:lnTo>
                    <a:lnTo>
                      <a:pt x="668" y="84"/>
                    </a:lnTo>
                    <a:lnTo>
                      <a:pt x="666" y="84"/>
                    </a:lnTo>
                    <a:lnTo>
                      <a:pt x="664" y="84"/>
                    </a:lnTo>
                    <a:lnTo>
                      <a:pt x="660" y="84"/>
                    </a:lnTo>
                    <a:lnTo>
                      <a:pt x="658" y="84"/>
                    </a:lnTo>
                    <a:lnTo>
                      <a:pt x="654" y="84"/>
                    </a:lnTo>
                    <a:lnTo>
                      <a:pt x="652" y="84"/>
                    </a:lnTo>
                    <a:lnTo>
                      <a:pt x="651" y="84"/>
                    </a:lnTo>
                    <a:lnTo>
                      <a:pt x="647" y="84"/>
                    </a:lnTo>
                    <a:lnTo>
                      <a:pt x="645" y="84"/>
                    </a:lnTo>
                    <a:lnTo>
                      <a:pt x="643" y="84"/>
                    </a:lnTo>
                    <a:lnTo>
                      <a:pt x="639" y="84"/>
                    </a:lnTo>
                    <a:lnTo>
                      <a:pt x="635" y="84"/>
                    </a:lnTo>
                    <a:lnTo>
                      <a:pt x="630" y="84"/>
                    </a:lnTo>
                    <a:lnTo>
                      <a:pt x="628" y="84"/>
                    </a:lnTo>
                    <a:lnTo>
                      <a:pt x="624" y="86"/>
                    </a:lnTo>
                    <a:lnTo>
                      <a:pt x="622" y="86"/>
                    </a:lnTo>
                    <a:lnTo>
                      <a:pt x="618" y="86"/>
                    </a:lnTo>
                    <a:lnTo>
                      <a:pt x="614" y="87"/>
                    </a:lnTo>
                    <a:lnTo>
                      <a:pt x="609" y="89"/>
                    </a:lnTo>
                    <a:lnTo>
                      <a:pt x="603" y="91"/>
                    </a:lnTo>
                    <a:lnTo>
                      <a:pt x="599" y="95"/>
                    </a:lnTo>
                    <a:lnTo>
                      <a:pt x="595" y="97"/>
                    </a:lnTo>
                    <a:lnTo>
                      <a:pt x="592" y="99"/>
                    </a:lnTo>
                    <a:lnTo>
                      <a:pt x="586" y="103"/>
                    </a:lnTo>
                    <a:lnTo>
                      <a:pt x="582" y="105"/>
                    </a:lnTo>
                    <a:lnTo>
                      <a:pt x="578" y="108"/>
                    </a:lnTo>
                    <a:lnTo>
                      <a:pt x="574" y="112"/>
                    </a:lnTo>
                    <a:lnTo>
                      <a:pt x="571" y="116"/>
                    </a:lnTo>
                    <a:lnTo>
                      <a:pt x="567" y="120"/>
                    </a:lnTo>
                    <a:lnTo>
                      <a:pt x="565" y="124"/>
                    </a:lnTo>
                    <a:lnTo>
                      <a:pt x="563" y="127"/>
                    </a:lnTo>
                    <a:lnTo>
                      <a:pt x="559" y="131"/>
                    </a:lnTo>
                    <a:lnTo>
                      <a:pt x="555" y="135"/>
                    </a:lnTo>
                    <a:lnTo>
                      <a:pt x="554" y="141"/>
                    </a:lnTo>
                    <a:lnTo>
                      <a:pt x="552" y="146"/>
                    </a:lnTo>
                    <a:lnTo>
                      <a:pt x="550" y="150"/>
                    </a:lnTo>
                    <a:lnTo>
                      <a:pt x="548" y="156"/>
                    </a:lnTo>
                    <a:lnTo>
                      <a:pt x="546" y="158"/>
                    </a:lnTo>
                    <a:lnTo>
                      <a:pt x="546" y="160"/>
                    </a:lnTo>
                    <a:lnTo>
                      <a:pt x="544" y="163"/>
                    </a:lnTo>
                    <a:lnTo>
                      <a:pt x="544" y="167"/>
                    </a:lnTo>
                    <a:lnTo>
                      <a:pt x="361" y="1127"/>
                    </a:lnTo>
                    <a:lnTo>
                      <a:pt x="361" y="112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Rectangle 166"/>
              <p:cNvSpPr/>
              <p:nvPr/>
            </p:nvSpPr>
            <p:spPr>
              <a:xfrm flipH="1" rot="3364200">
                <a:off x="4984200" y="1469160"/>
                <a:ext cx="8568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2" name="Group 167"/>
              <p:cNvGrpSpPr/>
              <p:nvPr/>
            </p:nvGrpSpPr>
            <p:grpSpPr>
              <a:xfrm>
                <a:off x="4655160" y="1639080"/>
                <a:ext cx="203760" cy="645480"/>
                <a:chOff x="4655160" y="1639080"/>
                <a:chExt cx="203760" cy="645480"/>
              </a:xfrm>
            </p:grpSpPr>
            <p:sp>
              <p:nvSpPr>
                <p:cNvPr id="2583" name="AutoShape 168"/>
                <p:cNvSpPr/>
                <p:nvPr/>
              </p:nvSpPr>
              <p:spPr>
                <a:xfrm flipH="1" flipV="1" rot="21303600">
                  <a:off x="4675320" y="1734840"/>
                  <a:ext cx="148320" cy="484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4" name="Oval 169"/>
                <p:cNvSpPr/>
                <p:nvPr/>
              </p:nvSpPr>
              <p:spPr>
                <a:xfrm flipH="1" flipV="1" rot="21303600">
                  <a:off x="4668480" y="1644480"/>
                  <a:ext cx="130680" cy="1328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5" name="AutoShape 170"/>
                <p:cNvSpPr/>
                <p:nvPr/>
              </p:nvSpPr>
              <p:spPr>
                <a:xfrm flipH="1" rot="21303600">
                  <a:off x="4700520" y="1674360"/>
                  <a:ext cx="70920" cy="61560"/>
                </a:xfrm>
                <a:prstGeom prst="hexagon">
                  <a:avLst>
                    <a:gd name="adj" fmla="val 28801"/>
                    <a:gd name="vf" fmla="val 11547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6" name="AutoShape 171"/>
                <p:cNvSpPr/>
                <p:nvPr/>
              </p:nvSpPr>
              <p:spPr>
                <a:xfrm flipH="1" flipV="1" rot="5482200">
                  <a:off x="4696920" y="2122200"/>
                  <a:ext cx="144360" cy="174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934" y="2201"/>
                        <a:pt x="12267" y="5080"/>
                        <a:pt x="12267" y="10800"/>
                      </a:cubicBezTo>
                      <a:cubicBezTo>
                        <a:pt x="12267" y="16520"/>
                        <a:pt x="16934" y="1939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87" name="Group 172"/>
          <p:cNvGrpSpPr/>
          <p:nvPr/>
        </p:nvGrpSpPr>
        <p:grpSpPr>
          <a:xfrm>
            <a:off x="2652840" y="-14760"/>
            <a:ext cx="4281120" cy="4863960"/>
            <a:chOff x="2652840" y="-14760"/>
            <a:chExt cx="4281120" cy="4863960"/>
          </a:xfrm>
        </p:grpSpPr>
        <p:sp>
          <p:nvSpPr>
            <p:cNvPr id="2588" name="Oval 173"/>
            <p:cNvSpPr/>
            <p:nvPr/>
          </p:nvSpPr>
          <p:spPr>
            <a:xfrm rot="16200000">
              <a:off x="4121640" y="2053800"/>
              <a:ext cx="1326600" cy="426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3137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AutoShape 174"/>
            <p:cNvSpPr/>
            <p:nvPr/>
          </p:nvSpPr>
          <p:spPr>
            <a:xfrm rot="10800000">
              <a:off x="2670120" y="-14760"/>
              <a:ext cx="4263840" cy="4346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702" y="21600"/>
                  </a:lnTo>
                  <a:lnTo>
                    <a:pt x="1289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aeaea">
                    <a:alpha val="71372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0" name="Text Box 175"/>
          <p:cNvSpPr/>
          <p:nvPr/>
        </p:nvSpPr>
        <p:spPr>
          <a:xfrm>
            <a:off x="1676520" y="5562720"/>
            <a:ext cx="6781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扎马尾的女孩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希望你出现在我面前的时候，会给我一个大大的拥抱。我一直在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1" name=""/>
          <p:cNvGrpSpPr/>
          <p:nvPr/>
        </p:nvGrpSpPr>
        <p:grpSpPr>
          <a:xfrm>
            <a:off x="-1447920" y="5486400"/>
            <a:ext cx="304920" cy="609480"/>
            <a:chOff x="-1447920" y="5486400"/>
            <a:chExt cx="304920" cy="609480"/>
          </a:xfrm>
        </p:grpSpPr>
        <p:sp>
          <p:nvSpPr>
            <p:cNvPr id="2592" name="Line 176"/>
            <p:cNvSpPr/>
            <p:nvPr/>
          </p:nvSpPr>
          <p:spPr>
            <a:xfrm>
              <a:off x="-1447920" y="5486400"/>
              <a:ext cx="304920" cy="609480"/>
            </a:xfrm>
            <a:prstGeom prst="line">
              <a:avLst/>
            </a:prstGeom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 txBox="1"/>
            <p:nvPr/>
          </p:nvSpPr>
          <p:spPr>
            <a:xfrm>
              <a:off x="-1447920" y="5486400"/>
              <a:ext cx="30492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 thruBlk="true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336" dur="3000" fill="hold"/>
                                        <p:tgtEl>
                                          <p:spTgt spid="2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338" dur="2000" fill="hold"/>
                                        <p:tgtEl>
                                          <p:spTgt spid="2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340" dur="2000" fill="hold"/>
                                        <p:tgtEl>
                                          <p:spTgt spid="2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3" dur="3000" fill="hold"/>
                                        <p:tgtEl>
                                          <p:spTgt spid="2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4" name="Group 2"/>
          <p:cNvGrpSpPr/>
          <p:nvPr/>
        </p:nvGrpSpPr>
        <p:grpSpPr>
          <a:xfrm>
            <a:off x="4024080" y="1409040"/>
            <a:ext cx="1167480" cy="2229840"/>
            <a:chOff x="4024080" y="1409040"/>
            <a:chExt cx="1167480" cy="2229840"/>
          </a:xfrm>
        </p:grpSpPr>
        <p:grpSp>
          <p:nvGrpSpPr>
            <p:cNvPr id="2595" name="Group 3"/>
            <p:cNvGrpSpPr/>
            <p:nvPr/>
          </p:nvGrpSpPr>
          <p:grpSpPr>
            <a:xfrm>
              <a:off x="4024080" y="1409040"/>
              <a:ext cx="1167480" cy="2229840"/>
              <a:chOff x="4024080" y="1409040"/>
              <a:chExt cx="1167480" cy="2229840"/>
            </a:xfrm>
          </p:grpSpPr>
          <p:grpSp>
            <p:nvGrpSpPr>
              <p:cNvPr id="2596" name="Group 4"/>
              <p:cNvGrpSpPr/>
              <p:nvPr/>
            </p:nvGrpSpPr>
            <p:grpSpPr>
              <a:xfrm>
                <a:off x="4024080" y="1686240"/>
                <a:ext cx="697680" cy="1202760"/>
                <a:chOff x="4024080" y="1686240"/>
                <a:chExt cx="697680" cy="1202760"/>
              </a:xfrm>
            </p:grpSpPr>
            <p:grpSp>
              <p:nvGrpSpPr>
                <p:cNvPr id="2597" name="Group 5"/>
                <p:cNvGrpSpPr/>
                <p:nvPr/>
              </p:nvGrpSpPr>
              <p:grpSpPr>
                <a:xfrm>
                  <a:off x="4298040" y="2252520"/>
                  <a:ext cx="423720" cy="636480"/>
                  <a:chOff x="4298040" y="2252520"/>
                  <a:chExt cx="423720" cy="636480"/>
                </a:xfrm>
              </p:grpSpPr>
              <p:sp>
                <p:nvSpPr>
                  <p:cNvPr id="2598" name="AutoShape 6"/>
                  <p:cNvSpPr/>
                  <p:nvPr/>
                </p:nvSpPr>
                <p:spPr>
                  <a:xfrm rot="9411600">
                    <a:off x="4387320" y="2267640"/>
                    <a:ext cx="179640" cy="49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1556" y="21600"/>
                        </a:lnTo>
                        <a:lnTo>
                          <a:pt x="20044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9" name="AutoShape 7"/>
                  <p:cNvSpPr/>
                  <p:nvPr/>
                </p:nvSpPr>
                <p:spPr>
                  <a:xfrm rot="14989800">
                    <a:off x="4481280" y="2639880"/>
                    <a:ext cx="1918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934" y="2201"/>
                          <a:pt x="12267" y="5080"/>
                          <a:pt x="12267" y="10800"/>
                        </a:cubicBezTo>
                        <a:cubicBezTo>
                          <a:pt x="12267" y="16520"/>
                          <a:pt x="16934" y="19399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0" name="Group 8"/>
                <p:cNvGrpSpPr/>
                <p:nvPr/>
              </p:nvGrpSpPr>
              <p:grpSpPr>
                <a:xfrm>
                  <a:off x="4024080" y="1686240"/>
                  <a:ext cx="472320" cy="719280"/>
                  <a:chOff x="4024080" y="1686240"/>
                  <a:chExt cx="472320" cy="719280"/>
                </a:xfrm>
              </p:grpSpPr>
              <p:sp>
                <p:nvSpPr>
                  <p:cNvPr id="2601" name="AutoShape 9"/>
                  <p:cNvSpPr/>
                  <p:nvPr/>
                </p:nvSpPr>
                <p:spPr>
                  <a:xfrm rot="9426600">
                    <a:off x="4211640" y="1920600"/>
                    <a:ext cx="180360" cy="36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4308" y="21600"/>
                        </a:lnTo>
                        <a:lnTo>
                          <a:pt x="17292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2" name="Oval 10"/>
                  <p:cNvSpPr/>
                  <p:nvPr/>
                </p:nvSpPr>
                <p:spPr>
                  <a:xfrm rot="9965400">
                    <a:off x="4289040" y="2195280"/>
                    <a:ext cx="187200" cy="19044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3" name="Freeform 11"/>
                  <p:cNvSpPr/>
                  <p:nvPr/>
                </p:nvSpPr>
                <p:spPr>
                  <a:xfrm rot="19460400">
                    <a:off x="4091400" y="1710000"/>
                    <a:ext cx="175680" cy="28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02" h="2302">
                        <a:moveTo>
                          <a:pt x="361" y="1127"/>
                        </a:moveTo>
                        <a:lnTo>
                          <a:pt x="280" y="1116"/>
                        </a:lnTo>
                        <a:lnTo>
                          <a:pt x="373" y="711"/>
                        </a:lnTo>
                        <a:lnTo>
                          <a:pt x="373" y="709"/>
                        </a:lnTo>
                        <a:lnTo>
                          <a:pt x="375" y="705"/>
                        </a:lnTo>
                        <a:lnTo>
                          <a:pt x="375" y="703"/>
                        </a:lnTo>
                        <a:lnTo>
                          <a:pt x="375" y="700"/>
                        </a:lnTo>
                        <a:lnTo>
                          <a:pt x="375" y="698"/>
                        </a:lnTo>
                        <a:lnTo>
                          <a:pt x="375" y="696"/>
                        </a:lnTo>
                        <a:lnTo>
                          <a:pt x="375" y="692"/>
                        </a:lnTo>
                        <a:lnTo>
                          <a:pt x="375" y="690"/>
                        </a:lnTo>
                        <a:lnTo>
                          <a:pt x="375" y="684"/>
                        </a:lnTo>
                        <a:lnTo>
                          <a:pt x="375" y="681"/>
                        </a:lnTo>
                        <a:lnTo>
                          <a:pt x="375" y="675"/>
                        </a:lnTo>
                        <a:lnTo>
                          <a:pt x="375" y="669"/>
                        </a:lnTo>
                        <a:lnTo>
                          <a:pt x="371" y="665"/>
                        </a:lnTo>
                        <a:lnTo>
                          <a:pt x="371" y="660"/>
                        </a:lnTo>
                        <a:lnTo>
                          <a:pt x="369" y="654"/>
                        </a:lnTo>
                        <a:lnTo>
                          <a:pt x="367" y="652"/>
                        </a:lnTo>
                        <a:lnTo>
                          <a:pt x="365" y="646"/>
                        </a:lnTo>
                        <a:lnTo>
                          <a:pt x="363" y="641"/>
                        </a:lnTo>
                        <a:lnTo>
                          <a:pt x="361" y="637"/>
                        </a:lnTo>
                        <a:lnTo>
                          <a:pt x="358" y="633"/>
                        </a:lnTo>
                        <a:lnTo>
                          <a:pt x="356" y="629"/>
                        </a:lnTo>
                        <a:lnTo>
                          <a:pt x="354" y="623"/>
                        </a:lnTo>
                        <a:lnTo>
                          <a:pt x="350" y="620"/>
                        </a:lnTo>
                        <a:lnTo>
                          <a:pt x="346" y="616"/>
                        </a:lnTo>
                        <a:lnTo>
                          <a:pt x="342" y="612"/>
                        </a:lnTo>
                        <a:lnTo>
                          <a:pt x="339" y="610"/>
                        </a:lnTo>
                        <a:lnTo>
                          <a:pt x="335" y="606"/>
                        </a:lnTo>
                        <a:lnTo>
                          <a:pt x="331" y="603"/>
                        </a:lnTo>
                        <a:lnTo>
                          <a:pt x="325" y="601"/>
                        </a:lnTo>
                        <a:lnTo>
                          <a:pt x="321" y="597"/>
                        </a:lnTo>
                        <a:lnTo>
                          <a:pt x="318" y="595"/>
                        </a:lnTo>
                        <a:lnTo>
                          <a:pt x="312" y="593"/>
                        </a:lnTo>
                        <a:lnTo>
                          <a:pt x="306" y="591"/>
                        </a:lnTo>
                        <a:lnTo>
                          <a:pt x="302" y="589"/>
                        </a:lnTo>
                        <a:lnTo>
                          <a:pt x="299" y="589"/>
                        </a:lnTo>
                        <a:lnTo>
                          <a:pt x="295" y="587"/>
                        </a:lnTo>
                        <a:lnTo>
                          <a:pt x="291" y="587"/>
                        </a:lnTo>
                        <a:lnTo>
                          <a:pt x="287" y="585"/>
                        </a:lnTo>
                        <a:lnTo>
                          <a:pt x="285" y="585"/>
                        </a:lnTo>
                        <a:lnTo>
                          <a:pt x="283" y="585"/>
                        </a:lnTo>
                        <a:lnTo>
                          <a:pt x="280" y="585"/>
                        </a:lnTo>
                        <a:lnTo>
                          <a:pt x="276" y="585"/>
                        </a:lnTo>
                        <a:lnTo>
                          <a:pt x="274" y="585"/>
                        </a:lnTo>
                        <a:lnTo>
                          <a:pt x="272" y="585"/>
                        </a:lnTo>
                        <a:lnTo>
                          <a:pt x="268" y="585"/>
                        </a:lnTo>
                        <a:lnTo>
                          <a:pt x="266" y="585"/>
                        </a:lnTo>
                        <a:lnTo>
                          <a:pt x="263" y="585"/>
                        </a:lnTo>
                        <a:lnTo>
                          <a:pt x="261" y="587"/>
                        </a:lnTo>
                        <a:lnTo>
                          <a:pt x="259" y="587"/>
                        </a:lnTo>
                        <a:lnTo>
                          <a:pt x="255" y="587"/>
                        </a:lnTo>
                        <a:lnTo>
                          <a:pt x="253" y="589"/>
                        </a:lnTo>
                        <a:lnTo>
                          <a:pt x="249" y="589"/>
                        </a:lnTo>
                        <a:lnTo>
                          <a:pt x="247" y="589"/>
                        </a:lnTo>
                        <a:lnTo>
                          <a:pt x="243" y="591"/>
                        </a:lnTo>
                        <a:lnTo>
                          <a:pt x="240" y="591"/>
                        </a:lnTo>
                        <a:lnTo>
                          <a:pt x="238" y="593"/>
                        </a:lnTo>
                        <a:lnTo>
                          <a:pt x="236" y="595"/>
                        </a:lnTo>
                        <a:lnTo>
                          <a:pt x="232" y="595"/>
                        </a:lnTo>
                        <a:lnTo>
                          <a:pt x="230" y="597"/>
                        </a:lnTo>
                        <a:lnTo>
                          <a:pt x="228" y="599"/>
                        </a:lnTo>
                        <a:lnTo>
                          <a:pt x="224" y="601"/>
                        </a:lnTo>
                        <a:lnTo>
                          <a:pt x="223" y="601"/>
                        </a:lnTo>
                        <a:lnTo>
                          <a:pt x="219" y="603"/>
                        </a:lnTo>
                        <a:lnTo>
                          <a:pt x="217" y="604"/>
                        </a:lnTo>
                        <a:lnTo>
                          <a:pt x="211" y="608"/>
                        </a:lnTo>
                        <a:lnTo>
                          <a:pt x="207" y="612"/>
                        </a:lnTo>
                        <a:lnTo>
                          <a:pt x="204" y="616"/>
                        </a:lnTo>
                        <a:lnTo>
                          <a:pt x="198" y="618"/>
                        </a:lnTo>
                        <a:lnTo>
                          <a:pt x="194" y="623"/>
                        </a:lnTo>
                        <a:lnTo>
                          <a:pt x="188" y="627"/>
                        </a:lnTo>
                        <a:lnTo>
                          <a:pt x="185" y="633"/>
                        </a:lnTo>
                        <a:lnTo>
                          <a:pt x="181" y="637"/>
                        </a:lnTo>
                        <a:lnTo>
                          <a:pt x="177" y="641"/>
                        </a:lnTo>
                        <a:lnTo>
                          <a:pt x="173" y="646"/>
                        </a:lnTo>
                        <a:lnTo>
                          <a:pt x="169" y="652"/>
                        </a:lnTo>
                        <a:lnTo>
                          <a:pt x="166" y="656"/>
                        </a:lnTo>
                        <a:lnTo>
                          <a:pt x="162" y="662"/>
                        </a:lnTo>
                        <a:lnTo>
                          <a:pt x="160" y="665"/>
                        </a:lnTo>
                        <a:lnTo>
                          <a:pt x="158" y="669"/>
                        </a:lnTo>
                        <a:lnTo>
                          <a:pt x="158" y="671"/>
                        </a:lnTo>
                        <a:lnTo>
                          <a:pt x="156" y="673"/>
                        </a:lnTo>
                        <a:lnTo>
                          <a:pt x="154" y="677"/>
                        </a:lnTo>
                        <a:lnTo>
                          <a:pt x="152" y="679"/>
                        </a:lnTo>
                        <a:lnTo>
                          <a:pt x="152" y="681"/>
                        </a:lnTo>
                        <a:lnTo>
                          <a:pt x="150" y="684"/>
                        </a:lnTo>
                        <a:lnTo>
                          <a:pt x="150" y="688"/>
                        </a:lnTo>
                        <a:lnTo>
                          <a:pt x="146" y="694"/>
                        </a:lnTo>
                        <a:lnTo>
                          <a:pt x="145" y="701"/>
                        </a:lnTo>
                        <a:lnTo>
                          <a:pt x="143" y="709"/>
                        </a:lnTo>
                        <a:lnTo>
                          <a:pt x="139" y="717"/>
                        </a:lnTo>
                        <a:lnTo>
                          <a:pt x="137" y="724"/>
                        </a:lnTo>
                        <a:lnTo>
                          <a:pt x="135" y="732"/>
                        </a:lnTo>
                        <a:lnTo>
                          <a:pt x="131" y="739"/>
                        </a:lnTo>
                        <a:lnTo>
                          <a:pt x="129" y="747"/>
                        </a:lnTo>
                        <a:lnTo>
                          <a:pt x="126" y="755"/>
                        </a:lnTo>
                        <a:lnTo>
                          <a:pt x="124" y="760"/>
                        </a:lnTo>
                        <a:lnTo>
                          <a:pt x="122" y="768"/>
                        </a:lnTo>
                        <a:lnTo>
                          <a:pt x="120" y="776"/>
                        </a:lnTo>
                        <a:lnTo>
                          <a:pt x="116" y="781"/>
                        </a:lnTo>
                        <a:lnTo>
                          <a:pt x="114" y="789"/>
                        </a:lnTo>
                        <a:lnTo>
                          <a:pt x="112" y="796"/>
                        </a:lnTo>
                        <a:lnTo>
                          <a:pt x="110" y="804"/>
                        </a:lnTo>
                        <a:lnTo>
                          <a:pt x="107" y="812"/>
                        </a:lnTo>
                        <a:lnTo>
                          <a:pt x="107" y="817"/>
                        </a:lnTo>
                        <a:lnTo>
                          <a:pt x="103" y="823"/>
                        </a:lnTo>
                        <a:lnTo>
                          <a:pt x="101" y="831"/>
                        </a:lnTo>
                        <a:lnTo>
                          <a:pt x="97" y="836"/>
                        </a:lnTo>
                        <a:lnTo>
                          <a:pt x="97" y="844"/>
                        </a:lnTo>
                        <a:lnTo>
                          <a:pt x="93" y="852"/>
                        </a:lnTo>
                        <a:lnTo>
                          <a:pt x="93" y="857"/>
                        </a:lnTo>
                        <a:lnTo>
                          <a:pt x="89" y="865"/>
                        </a:lnTo>
                        <a:lnTo>
                          <a:pt x="88" y="871"/>
                        </a:lnTo>
                        <a:lnTo>
                          <a:pt x="86" y="878"/>
                        </a:lnTo>
                        <a:lnTo>
                          <a:pt x="84" y="884"/>
                        </a:lnTo>
                        <a:lnTo>
                          <a:pt x="82" y="892"/>
                        </a:lnTo>
                        <a:lnTo>
                          <a:pt x="80" y="899"/>
                        </a:lnTo>
                        <a:lnTo>
                          <a:pt x="78" y="907"/>
                        </a:lnTo>
                        <a:lnTo>
                          <a:pt x="74" y="912"/>
                        </a:lnTo>
                        <a:lnTo>
                          <a:pt x="72" y="920"/>
                        </a:lnTo>
                        <a:lnTo>
                          <a:pt x="72" y="926"/>
                        </a:lnTo>
                        <a:lnTo>
                          <a:pt x="68" y="931"/>
                        </a:lnTo>
                        <a:lnTo>
                          <a:pt x="67" y="939"/>
                        </a:lnTo>
                        <a:lnTo>
                          <a:pt x="65" y="945"/>
                        </a:lnTo>
                        <a:lnTo>
                          <a:pt x="63" y="952"/>
                        </a:lnTo>
                        <a:lnTo>
                          <a:pt x="59" y="958"/>
                        </a:lnTo>
                        <a:lnTo>
                          <a:pt x="57" y="966"/>
                        </a:lnTo>
                        <a:lnTo>
                          <a:pt x="55" y="971"/>
                        </a:lnTo>
                        <a:lnTo>
                          <a:pt x="53" y="979"/>
                        </a:lnTo>
                        <a:lnTo>
                          <a:pt x="51" y="987"/>
                        </a:lnTo>
                        <a:lnTo>
                          <a:pt x="49" y="994"/>
                        </a:lnTo>
                        <a:lnTo>
                          <a:pt x="48" y="1000"/>
                        </a:lnTo>
                        <a:lnTo>
                          <a:pt x="46" y="1007"/>
                        </a:lnTo>
                        <a:lnTo>
                          <a:pt x="44" y="1015"/>
                        </a:lnTo>
                        <a:lnTo>
                          <a:pt x="42" y="1021"/>
                        </a:lnTo>
                        <a:lnTo>
                          <a:pt x="42" y="1028"/>
                        </a:lnTo>
                        <a:lnTo>
                          <a:pt x="38" y="1036"/>
                        </a:lnTo>
                        <a:lnTo>
                          <a:pt x="36" y="1042"/>
                        </a:lnTo>
                        <a:lnTo>
                          <a:pt x="36" y="1049"/>
                        </a:lnTo>
                        <a:lnTo>
                          <a:pt x="34" y="1057"/>
                        </a:lnTo>
                        <a:lnTo>
                          <a:pt x="30" y="1063"/>
                        </a:lnTo>
                        <a:lnTo>
                          <a:pt x="30" y="1070"/>
                        </a:lnTo>
                        <a:lnTo>
                          <a:pt x="29" y="1078"/>
                        </a:lnTo>
                        <a:lnTo>
                          <a:pt x="27" y="1085"/>
                        </a:lnTo>
                        <a:lnTo>
                          <a:pt x="25" y="1093"/>
                        </a:lnTo>
                        <a:lnTo>
                          <a:pt x="23" y="1101"/>
                        </a:lnTo>
                        <a:lnTo>
                          <a:pt x="21" y="1108"/>
                        </a:lnTo>
                        <a:lnTo>
                          <a:pt x="19" y="1116"/>
                        </a:lnTo>
                        <a:lnTo>
                          <a:pt x="17" y="1123"/>
                        </a:lnTo>
                        <a:lnTo>
                          <a:pt x="17" y="1131"/>
                        </a:lnTo>
                        <a:lnTo>
                          <a:pt x="15" y="1139"/>
                        </a:lnTo>
                        <a:lnTo>
                          <a:pt x="13" y="1148"/>
                        </a:lnTo>
                        <a:lnTo>
                          <a:pt x="10" y="1158"/>
                        </a:lnTo>
                        <a:lnTo>
                          <a:pt x="10" y="1165"/>
                        </a:lnTo>
                        <a:lnTo>
                          <a:pt x="8" y="1175"/>
                        </a:lnTo>
                        <a:lnTo>
                          <a:pt x="6" y="1182"/>
                        </a:lnTo>
                        <a:lnTo>
                          <a:pt x="6" y="1192"/>
                        </a:lnTo>
                        <a:lnTo>
                          <a:pt x="4" y="1201"/>
                        </a:lnTo>
                        <a:lnTo>
                          <a:pt x="2" y="1211"/>
                        </a:lnTo>
                        <a:lnTo>
                          <a:pt x="2" y="1218"/>
                        </a:lnTo>
                        <a:lnTo>
                          <a:pt x="0" y="1230"/>
                        </a:lnTo>
                        <a:lnTo>
                          <a:pt x="0" y="1237"/>
                        </a:lnTo>
                        <a:lnTo>
                          <a:pt x="0" y="1247"/>
                        </a:lnTo>
                        <a:lnTo>
                          <a:pt x="0" y="1257"/>
                        </a:lnTo>
                        <a:lnTo>
                          <a:pt x="0" y="1268"/>
                        </a:lnTo>
                        <a:lnTo>
                          <a:pt x="0" y="1276"/>
                        </a:lnTo>
                        <a:lnTo>
                          <a:pt x="0" y="1285"/>
                        </a:lnTo>
                        <a:lnTo>
                          <a:pt x="0" y="1296"/>
                        </a:lnTo>
                        <a:lnTo>
                          <a:pt x="0" y="1304"/>
                        </a:lnTo>
                        <a:lnTo>
                          <a:pt x="0" y="1314"/>
                        </a:lnTo>
                        <a:lnTo>
                          <a:pt x="0" y="1323"/>
                        </a:lnTo>
                        <a:lnTo>
                          <a:pt x="0" y="1333"/>
                        </a:lnTo>
                        <a:lnTo>
                          <a:pt x="2" y="1342"/>
                        </a:lnTo>
                        <a:lnTo>
                          <a:pt x="2" y="1352"/>
                        </a:lnTo>
                        <a:lnTo>
                          <a:pt x="4" y="1363"/>
                        </a:lnTo>
                        <a:lnTo>
                          <a:pt x="4" y="1371"/>
                        </a:lnTo>
                        <a:lnTo>
                          <a:pt x="6" y="1382"/>
                        </a:lnTo>
                        <a:lnTo>
                          <a:pt x="8" y="1390"/>
                        </a:lnTo>
                        <a:lnTo>
                          <a:pt x="8" y="1401"/>
                        </a:lnTo>
                        <a:lnTo>
                          <a:pt x="10" y="1409"/>
                        </a:lnTo>
                        <a:lnTo>
                          <a:pt x="11" y="1420"/>
                        </a:lnTo>
                        <a:lnTo>
                          <a:pt x="13" y="1429"/>
                        </a:lnTo>
                        <a:lnTo>
                          <a:pt x="15" y="1439"/>
                        </a:lnTo>
                        <a:lnTo>
                          <a:pt x="17" y="1448"/>
                        </a:lnTo>
                        <a:lnTo>
                          <a:pt x="19" y="1458"/>
                        </a:lnTo>
                        <a:lnTo>
                          <a:pt x="21" y="1468"/>
                        </a:lnTo>
                        <a:lnTo>
                          <a:pt x="23" y="1477"/>
                        </a:lnTo>
                        <a:lnTo>
                          <a:pt x="27" y="1487"/>
                        </a:lnTo>
                        <a:lnTo>
                          <a:pt x="29" y="1496"/>
                        </a:lnTo>
                        <a:lnTo>
                          <a:pt x="30" y="1506"/>
                        </a:lnTo>
                        <a:lnTo>
                          <a:pt x="34" y="1515"/>
                        </a:lnTo>
                        <a:lnTo>
                          <a:pt x="36" y="1525"/>
                        </a:lnTo>
                        <a:lnTo>
                          <a:pt x="38" y="1534"/>
                        </a:lnTo>
                        <a:lnTo>
                          <a:pt x="42" y="1544"/>
                        </a:lnTo>
                        <a:lnTo>
                          <a:pt x="46" y="1553"/>
                        </a:lnTo>
                        <a:lnTo>
                          <a:pt x="48" y="1561"/>
                        </a:lnTo>
                        <a:lnTo>
                          <a:pt x="51" y="1572"/>
                        </a:lnTo>
                        <a:lnTo>
                          <a:pt x="55" y="1580"/>
                        </a:lnTo>
                        <a:lnTo>
                          <a:pt x="59" y="1589"/>
                        </a:lnTo>
                        <a:lnTo>
                          <a:pt x="63" y="1599"/>
                        </a:lnTo>
                        <a:lnTo>
                          <a:pt x="67" y="1608"/>
                        </a:lnTo>
                        <a:lnTo>
                          <a:pt x="68" y="1616"/>
                        </a:lnTo>
                        <a:lnTo>
                          <a:pt x="74" y="1627"/>
                        </a:lnTo>
                        <a:lnTo>
                          <a:pt x="78" y="1635"/>
                        </a:lnTo>
                        <a:lnTo>
                          <a:pt x="82" y="1644"/>
                        </a:lnTo>
                        <a:lnTo>
                          <a:pt x="86" y="1652"/>
                        </a:lnTo>
                        <a:lnTo>
                          <a:pt x="89" y="1661"/>
                        </a:lnTo>
                        <a:lnTo>
                          <a:pt x="95" y="1669"/>
                        </a:lnTo>
                        <a:lnTo>
                          <a:pt x="99" y="1679"/>
                        </a:lnTo>
                        <a:lnTo>
                          <a:pt x="103" y="1688"/>
                        </a:lnTo>
                        <a:lnTo>
                          <a:pt x="108" y="1696"/>
                        </a:lnTo>
                        <a:lnTo>
                          <a:pt x="114" y="1703"/>
                        </a:lnTo>
                        <a:lnTo>
                          <a:pt x="118" y="1713"/>
                        </a:lnTo>
                        <a:lnTo>
                          <a:pt x="124" y="1722"/>
                        </a:lnTo>
                        <a:lnTo>
                          <a:pt x="127" y="1732"/>
                        </a:lnTo>
                        <a:lnTo>
                          <a:pt x="131" y="1736"/>
                        </a:lnTo>
                        <a:lnTo>
                          <a:pt x="135" y="1739"/>
                        </a:lnTo>
                        <a:lnTo>
                          <a:pt x="135" y="1743"/>
                        </a:lnTo>
                        <a:lnTo>
                          <a:pt x="137" y="1745"/>
                        </a:lnTo>
                        <a:lnTo>
                          <a:pt x="139" y="1747"/>
                        </a:lnTo>
                        <a:lnTo>
                          <a:pt x="141" y="1751"/>
                        </a:lnTo>
                        <a:lnTo>
                          <a:pt x="143" y="1755"/>
                        </a:lnTo>
                        <a:lnTo>
                          <a:pt x="143" y="1756"/>
                        </a:lnTo>
                        <a:lnTo>
                          <a:pt x="145" y="1760"/>
                        </a:lnTo>
                        <a:lnTo>
                          <a:pt x="146" y="1762"/>
                        </a:lnTo>
                        <a:lnTo>
                          <a:pt x="148" y="1766"/>
                        </a:lnTo>
                        <a:lnTo>
                          <a:pt x="150" y="1768"/>
                        </a:lnTo>
                        <a:lnTo>
                          <a:pt x="152" y="1770"/>
                        </a:lnTo>
                        <a:lnTo>
                          <a:pt x="156" y="1774"/>
                        </a:lnTo>
                        <a:lnTo>
                          <a:pt x="158" y="1777"/>
                        </a:lnTo>
                        <a:lnTo>
                          <a:pt x="160" y="1779"/>
                        </a:lnTo>
                        <a:lnTo>
                          <a:pt x="160" y="1783"/>
                        </a:lnTo>
                        <a:lnTo>
                          <a:pt x="162" y="1787"/>
                        </a:lnTo>
                        <a:lnTo>
                          <a:pt x="166" y="1789"/>
                        </a:lnTo>
                        <a:lnTo>
                          <a:pt x="166" y="1791"/>
                        </a:lnTo>
                        <a:lnTo>
                          <a:pt x="167" y="1794"/>
                        </a:lnTo>
                        <a:lnTo>
                          <a:pt x="169" y="1796"/>
                        </a:lnTo>
                        <a:lnTo>
                          <a:pt x="171" y="1800"/>
                        </a:lnTo>
                        <a:lnTo>
                          <a:pt x="173" y="1802"/>
                        </a:lnTo>
                        <a:lnTo>
                          <a:pt x="175" y="1806"/>
                        </a:lnTo>
                        <a:lnTo>
                          <a:pt x="177" y="1808"/>
                        </a:lnTo>
                        <a:lnTo>
                          <a:pt x="179" y="1812"/>
                        </a:lnTo>
                        <a:lnTo>
                          <a:pt x="181" y="1815"/>
                        </a:lnTo>
                        <a:lnTo>
                          <a:pt x="183" y="1817"/>
                        </a:lnTo>
                        <a:lnTo>
                          <a:pt x="185" y="1821"/>
                        </a:lnTo>
                        <a:lnTo>
                          <a:pt x="188" y="1827"/>
                        </a:lnTo>
                        <a:lnTo>
                          <a:pt x="190" y="1831"/>
                        </a:lnTo>
                        <a:lnTo>
                          <a:pt x="194" y="1836"/>
                        </a:lnTo>
                        <a:lnTo>
                          <a:pt x="198" y="1842"/>
                        </a:lnTo>
                        <a:lnTo>
                          <a:pt x="200" y="1846"/>
                        </a:lnTo>
                        <a:lnTo>
                          <a:pt x="204" y="1850"/>
                        </a:lnTo>
                        <a:lnTo>
                          <a:pt x="205" y="1853"/>
                        </a:lnTo>
                        <a:lnTo>
                          <a:pt x="207" y="1859"/>
                        </a:lnTo>
                        <a:lnTo>
                          <a:pt x="209" y="1861"/>
                        </a:lnTo>
                        <a:lnTo>
                          <a:pt x="211" y="1863"/>
                        </a:lnTo>
                        <a:lnTo>
                          <a:pt x="213" y="1867"/>
                        </a:lnTo>
                        <a:lnTo>
                          <a:pt x="215" y="1869"/>
                        </a:lnTo>
                        <a:lnTo>
                          <a:pt x="217" y="1870"/>
                        </a:lnTo>
                        <a:lnTo>
                          <a:pt x="219" y="1874"/>
                        </a:lnTo>
                        <a:lnTo>
                          <a:pt x="141" y="2163"/>
                        </a:lnTo>
                        <a:lnTo>
                          <a:pt x="143" y="2165"/>
                        </a:lnTo>
                        <a:lnTo>
                          <a:pt x="146" y="2165"/>
                        </a:lnTo>
                        <a:lnTo>
                          <a:pt x="150" y="2167"/>
                        </a:lnTo>
                        <a:lnTo>
                          <a:pt x="152" y="2167"/>
                        </a:lnTo>
                        <a:lnTo>
                          <a:pt x="154" y="2167"/>
                        </a:lnTo>
                        <a:lnTo>
                          <a:pt x="158" y="2167"/>
                        </a:lnTo>
                        <a:lnTo>
                          <a:pt x="162" y="2171"/>
                        </a:lnTo>
                        <a:lnTo>
                          <a:pt x="166" y="2171"/>
                        </a:lnTo>
                        <a:lnTo>
                          <a:pt x="167" y="2173"/>
                        </a:lnTo>
                        <a:lnTo>
                          <a:pt x="171" y="2173"/>
                        </a:lnTo>
                        <a:lnTo>
                          <a:pt x="175" y="2175"/>
                        </a:lnTo>
                        <a:lnTo>
                          <a:pt x="181" y="2175"/>
                        </a:lnTo>
                        <a:lnTo>
                          <a:pt x="185" y="2175"/>
                        </a:lnTo>
                        <a:lnTo>
                          <a:pt x="188" y="2177"/>
                        </a:lnTo>
                        <a:lnTo>
                          <a:pt x="194" y="2180"/>
                        </a:lnTo>
                        <a:lnTo>
                          <a:pt x="198" y="2180"/>
                        </a:lnTo>
                        <a:lnTo>
                          <a:pt x="204" y="2182"/>
                        </a:lnTo>
                        <a:lnTo>
                          <a:pt x="209" y="2182"/>
                        </a:lnTo>
                        <a:lnTo>
                          <a:pt x="215" y="2184"/>
                        </a:lnTo>
                        <a:lnTo>
                          <a:pt x="219" y="2186"/>
                        </a:lnTo>
                        <a:lnTo>
                          <a:pt x="224" y="2188"/>
                        </a:lnTo>
                        <a:lnTo>
                          <a:pt x="232" y="2188"/>
                        </a:lnTo>
                        <a:lnTo>
                          <a:pt x="238" y="2190"/>
                        </a:lnTo>
                        <a:lnTo>
                          <a:pt x="243" y="2190"/>
                        </a:lnTo>
                        <a:lnTo>
                          <a:pt x="251" y="2192"/>
                        </a:lnTo>
                        <a:lnTo>
                          <a:pt x="257" y="2194"/>
                        </a:lnTo>
                        <a:lnTo>
                          <a:pt x="264" y="2194"/>
                        </a:lnTo>
                        <a:lnTo>
                          <a:pt x="270" y="2196"/>
                        </a:lnTo>
                        <a:lnTo>
                          <a:pt x="276" y="2196"/>
                        </a:lnTo>
                        <a:lnTo>
                          <a:pt x="283" y="2197"/>
                        </a:lnTo>
                        <a:lnTo>
                          <a:pt x="291" y="2199"/>
                        </a:lnTo>
                        <a:lnTo>
                          <a:pt x="297" y="2199"/>
                        </a:lnTo>
                        <a:lnTo>
                          <a:pt x="304" y="2199"/>
                        </a:lnTo>
                        <a:lnTo>
                          <a:pt x="312" y="2199"/>
                        </a:lnTo>
                        <a:lnTo>
                          <a:pt x="320" y="2201"/>
                        </a:lnTo>
                        <a:lnTo>
                          <a:pt x="325" y="2201"/>
                        </a:lnTo>
                        <a:lnTo>
                          <a:pt x="333" y="2201"/>
                        </a:lnTo>
                        <a:lnTo>
                          <a:pt x="341" y="2201"/>
                        </a:lnTo>
                        <a:lnTo>
                          <a:pt x="348" y="2201"/>
                        </a:lnTo>
                        <a:lnTo>
                          <a:pt x="356" y="2201"/>
                        </a:lnTo>
                        <a:lnTo>
                          <a:pt x="363" y="2201"/>
                        </a:lnTo>
                        <a:lnTo>
                          <a:pt x="371" y="2201"/>
                        </a:lnTo>
                        <a:lnTo>
                          <a:pt x="379" y="2201"/>
                        </a:lnTo>
                        <a:lnTo>
                          <a:pt x="386" y="2201"/>
                        </a:lnTo>
                        <a:lnTo>
                          <a:pt x="394" y="2201"/>
                        </a:lnTo>
                        <a:lnTo>
                          <a:pt x="401" y="2199"/>
                        </a:lnTo>
                        <a:lnTo>
                          <a:pt x="409" y="2199"/>
                        </a:lnTo>
                        <a:lnTo>
                          <a:pt x="415" y="2197"/>
                        </a:lnTo>
                        <a:lnTo>
                          <a:pt x="422" y="2196"/>
                        </a:lnTo>
                        <a:lnTo>
                          <a:pt x="432" y="2196"/>
                        </a:lnTo>
                        <a:lnTo>
                          <a:pt x="439" y="2194"/>
                        </a:lnTo>
                        <a:lnTo>
                          <a:pt x="447" y="2192"/>
                        </a:lnTo>
                        <a:lnTo>
                          <a:pt x="455" y="2190"/>
                        </a:lnTo>
                        <a:lnTo>
                          <a:pt x="462" y="2188"/>
                        </a:lnTo>
                        <a:lnTo>
                          <a:pt x="470" y="2188"/>
                        </a:lnTo>
                        <a:lnTo>
                          <a:pt x="476" y="2184"/>
                        </a:lnTo>
                        <a:lnTo>
                          <a:pt x="483" y="2182"/>
                        </a:lnTo>
                        <a:lnTo>
                          <a:pt x="491" y="2180"/>
                        </a:lnTo>
                        <a:lnTo>
                          <a:pt x="498" y="2175"/>
                        </a:lnTo>
                        <a:lnTo>
                          <a:pt x="504" y="2173"/>
                        </a:lnTo>
                        <a:lnTo>
                          <a:pt x="512" y="2169"/>
                        </a:lnTo>
                        <a:lnTo>
                          <a:pt x="517" y="2165"/>
                        </a:lnTo>
                        <a:lnTo>
                          <a:pt x="525" y="2161"/>
                        </a:lnTo>
                        <a:lnTo>
                          <a:pt x="531" y="2158"/>
                        </a:lnTo>
                        <a:lnTo>
                          <a:pt x="536" y="2154"/>
                        </a:lnTo>
                        <a:lnTo>
                          <a:pt x="542" y="2150"/>
                        </a:lnTo>
                        <a:lnTo>
                          <a:pt x="550" y="2146"/>
                        </a:lnTo>
                        <a:lnTo>
                          <a:pt x="555" y="2142"/>
                        </a:lnTo>
                        <a:lnTo>
                          <a:pt x="559" y="2137"/>
                        </a:lnTo>
                        <a:lnTo>
                          <a:pt x="565" y="2133"/>
                        </a:lnTo>
                        <a:lnTo>
                          <a:pt x="571" y="2129"/>
                        </a:lnTo>
                        <a:lnTo>
                          <a:pt x="576" y="2123"/>
                        </a:lnTo>
                        <a:lnTo>
                          <a:pt x="582" y="2120"/>
                        </a:lnTo>
                        <a:lnTo>
                          <a:pt x="588" y="2114"/>
                        </a:lnTo>
                        <a:lnTo>
                          <a:pt x="592" y="2110"/>
                        </a:lnTo>
                        <a:lnTo>
                          <a:pt x="595" y="2106"/>
                        </a:lnTo>
                        <a:lnTo>
                          <a:pt x="601" y="2101"/>
                        </a:lnTo>
                        <a:lnTo>
                          <a:pt x="605" y="2095"/>
                        </a:lnTo>
                        <a:lnTo>
                          <a:pt x="611" y="2091"/>
                        </a:lnTo>
                        <a:lnTo>
                          <a:pt x="614" y="2085"/>
                        </a:lnTo>
                        <a:lnTo>
                          <a:pt x="618" y="2080"/>
                        </a:lnTo>
                        <a:lnTo>
                          <a:pt x="624" y="2076"/>
                        </a:lnTo>
                        <a:lnTo>
                          <a:pt x="628" y="2070"/>
                        </a:lnTo>
                        <a:lnTo>
                          <a:pt x="632" y="2064"/>
                        </a:lnTo>
                        <a:lnTo>
                          <a:pt x="635" y="2059"/>
                        </a:lnTo>
                        <a:lnTo>
                          <a:pt x="637" y="2055"/>
                        </a:lnTo>
                        <a:lnTo>
                          <a:pt x="643" y="2049"/>
                        </a:lnTo>
                        <a:lnTo>
                          <a:pt x="645" y="2043"/>
                        </a:lnTo>
                        <a:lnTo>
                          <a:pt x="649" y="2040"/>
                        </a:lnTo>
                        <a:lnTo>
                          <a:pt x="652" y="2034"/>
                        </a:lnTo>
                        <a:lnTo>
                          <a:pt x="654" y="2030"/>
                        </a:lnTo>
                        <a:lnTo>
                          <a:pt x="658" y="2024"/>
                        </a:lnTo>
                        <a:lnTo>
                          <a:pt x="660" y="2021"/>
                        </a:lnTo>
                        <a:lnTo>
                          <a:pt x="664" y="2015"/>
                        </a:lnTo>
                        <a:lnTo>
                          <a:pt x="666" y="2011"/>
                        </a:lnTo>
                        <a:lnTo>
                          <a:pt x="668" y="2005"/>
                        </a:lnTo>
                        <a:lnTo>
                          <a:pt x="672" y="2002"/>
                        </a:lnTo>
                        <a:lnTo>
                          <a:pt x="673" y="1998"/>
                        </a:lnTo>
                        <a:lnTo>
                          <a:pt x="675" y="1992"/>
                        </a:lnTo>
                        <a:lnTo>
                          <a:pt x="677" y="1986"/>
                        </a:lnTo>
                        <a:lnTo>
                          <a:pt x="679" y="1983"/>
                        </a:lnTo>
                        <a:lnTo>
                          <a:pt x="681" y="1979"/>
                        </a:lnTo>
                        <a:lnTo>
                          <a:pt x="683" y="1975"/>
                        </a:lnTo>
                        <a:lnTo>
                          <a:pt x="685" y="1971"/>
                        </a:lnTo>
                        <a:lnTo>
                          <a:pt x="687" y="1969"/>
                        </a:lnTo>
                        <a:lnTo>
                          <a:pt x="689" y="1964"/>
                        </a:lnTo>
                        <a:lnTo>
                          <a:pt x="691" y="1962"/>
                        </a:lnTo>
                        <a:lnTo>
                          <a:pt x="692" y="1958"/>
                        </a:lnTo>
                        <a:lnTo>
                          <a:pt x="692" y="1954"/>
                        </a:lnTo>
                        <a:lnTo>
                          <a:pt x="692" y="1952"/>
                        </a:lnTo>
                        <a:lnTo>
                          <a:pt x="694" y="1950"/>
                        </a:lnTo>
                        <a:lnTo>
                          <a:pt x="696" y="1945"/>
                        </a:lnTo>
                        <a:lnTo>
                          <a:pt x="698" y="1941"/>
                        </a:lnTo>
                        <a:lnTo>
                          <a:pt x="700" y="1937"/>
                        </a:lnTo>
                        <a:lnTo>
                          <a:pt x="700" y="1935"/>
                        </a:lnTo>
                        <a:lnTo>
                          <a:pt x="700" y="1933"/>
                        </a:lnTo>
                        <a:lnTo>
                          <a:pt x="702" y="1933"/>
                        </a:lnTo>
                        <a:lnTo>
                          <a:pt x="740" y="1943"/>
                        </a:lnTo>
                        <a:lnTo>
                          <a:pt x="740" y="1943"/>
                        </a:lnTo>
                        <a:lnTo>
                          <a:pt x="738" y="1945"/>
                        </a:lnTo>
                        <a:lnTo>
                          <a:pt x="738" y="1947"/>
                        </a:lnTo>
                        <a:lnTo>
                          <a:pt x="738" y="1950"/>
                        </a:lnTo>
                        <a:lnTo>
                          <a:pt x="738" y="1954"/>
                        </a:lnTo>
                        <a:lnTo>
                          <a:pt x="738" y="1958"/>
                        </a:lnTo>
                        <a:lnTo>
                          <a:pt x="736" y="1962"/>
                        </a:lnTo>
                        <a:lnTo>
                          <a:pt x="736" y="1964"/>
                        </a:lnTo>
                        <a:lnTo>
                          <a:pt x="736" y="1967"/>
                        </a:lnTo>
                        <a:lnTo>
                          <a:pt x="736" y="1971"/>
                        </a:lnTo>
                        <a:lnTo>
                          <a:pt x="736" y="1975"/>
                        </a:lnTo>
                        <a:lnTo>
                          <a:pt x="736" y="1979"/>
                        </a:lnTo>
                        <a:lnTo>
                          <a:pt x="736" y="1983"/>
                        </a:lnTo>
                        <a:lnTo>
                          <a:pt x="736" y="1985"/>
                        </a:lnTo>
                        <a:lnTo>
                          <a:pt x="736" y="1990"/>
                        </a:lnTo>
                        <a:lnTo>
                          <a:pt x="736" y="1994"/>
                        </a:lnTo>
                        <a:lnTo>
                          <a:pt x="736" y="1998"/>
                        </a:lnTo>
                        <a:lnTo>
                          <a:pt x="736" y="2004"/>
                        </a:lnTo>
                        <a:lnTo>
                          <a:pt x="736" y="2007"/>
                        </a:lnTo>
                        <a:lnTo>
                          <a:pt x="736" y="2013"/>
                        </a:lnTo>
                        <a:lnTo>
                          <a:pt x="736" y="2015"/>
                        </a:lnTo>
                        <a:lnTo>
                          <a:pt x="736" y="2021"/>
                        </a:lnTo>
                        <a:lnTo>
                          <a:pt x="736" y="2026"/>
                        </a:lnTo>
                        <a:lnTo>
                          <a:pt x="736" y="2030"/>
                        </a:lnTo>
                        <a:lnTo>
                          <a:pt x="736" y="2036"/>
                        </a:lnTo>
                        <a:lnTo>
                          <a:pt x="736" y="2042"/>
                        </a:lnTo>
                        <a:lnTo>
                          <a:pt x="736" y="2047"/>
                        </a:lnTo>
                        <a:lnTo>
                          <a:pt x="738" y="2051"/>
                        </a:lnTo>
                        <a:lnTo>
                          <a:pt x="738" y="2057"/>
                        </a:lnTo>
                        <a:lnTo>
                          <a:pt x="738" y="2062"/>
                        </a:lnTo>
                        <a:lnTo>
                          <a:pt x="740" y="2066"/>
                        </a:lnTo>
                        <a:lnTo>
                          <a:pt x="740" y="2072"/>
                        </a:lnTo>
                        <a:lnTo>
                          <a:pt x="742" y="2078"/>
                        </a:lnTo>
                        <a:lnTo>
                          <a:pt x="744" y="2083"/>
                        </a:lnTo>
                        <a:lnTo>
                          <a:pt x="744" y="2091"/>
                        </a:lnTo>
                        <a:lnTo>
                          <a:pt x="746" y="2095"/>
                        </a:lnTo>
                        <a:lnTo>
                          <a:pt x="748" y="2101"/>
                        </a:lnTo>
                        <a:lnTo>
                          <a:pt x="748" y="2106"/>
                        </a:lnTo>
                        <a:lnTo>
                          <a:pt x="751" y="2110"/>
                        </a:lnTo>
                        <a:lnTo>
                          <a:pt x="753" y="2118"/>
                        </a:lnTo>
                        <a:lnTo>
                          <a:pt x="753" y="2123"/>
                        </a:lnTo>
                        <a:lnTo>
                          <a:pt x="757" y="2129"/>
                        </a:lnTo>
                        <a:lnTo>
                          <a:pt x="759" y="2135"/>
                        </a:lnTo>
                        <a:lnTo>
                          <a:pt x="761" y="2139"/>
                        </a:lnTo>
                        <a:lnTo>
                          <a:pt x="765" y="2144"/>
                        </a:lnTo>
                        <a:lnTo>
                          <a:pt x="767" y="2150"/>
                        </a:lnTo>
                        <a:lnTo>
                          <a:pt x="769" y="2156"/>
                        </a:lnTo>
                        <a:lnTo>
                          <a:pt x="772" y="2159"/>
                        </a:lnTo>
                        <a:lnTo>
                          <a:pt x="776" y="2165"/>
                        </a:lnTo>
                        <a:lnTo>
                          <a:pt x="780" y="2171"/>
                        </a:lnTo>
                        <a:lnTo>
                          <a:pt x="782" y="2175"/>
                        </a:lnTo>
                        <a:lnTo>
                          <a:pt x="786" y="2180"/>
                        </a:lnTo>
                        <a:lnTo>
                          <a:pt x="789" y="2186"/>
                        </a:lnTo>
                        <a:lnTo>
                          <a:pt x="795" y="2190"/>
                        </a:lnTo>
                        <a:lnTo>
                          <a:pt x="799" y="2196"/>
                        </a:lnTo>
                        <a:lnTo>
                          <a:pt x="805" y="2201"/>
                        </a:lnTo>
                        <a:lnTo>
                          <a:pt x="808" y="2205"/>
                        </a:lnTo>
                        <a:lnTo>
                          <a:pt x="814" y="2209"/>
                        </a:lnTo>
                        <a:lnTo>
                          <a:pt x="818" y="2213"/>
                        </a:lnTo>
                        <a:lnTo>
                          <a:pt x="824" y="2216"/>
                        </a:lnTo>
                        <a:lnTo>
                          <a:pt x="828" y="2222"/>
                        </a:lnTo>
                        <a:lnTo>
                          <a:pt x="833" y="2224"/>
                        </a:lnTo>
                        <a:lnTo>
                          <a:pt x="839" y="2228"/>
                        </a:lnTo>
                        <a:lnTo>
                          <a:pt x="845" y="2232"/>
                        </a:lnTo>
                        <a:lnTo>
                          <a:pt x="848" y="2235"/>
                        </a:lnTo>
                        <a:lnTo>
                          <a:pt x="854" y="2239"/>
                        </a:lnTo>
                        <a:lnTo>
                          <a:pt x="858" y="2243"/>
                        </a:lnTo>
                        <a:lnTo>
                          <a:pt x="864" y="2245"/>
                        </a:lnTo>
                        <a:lnTo>
                          <a:pt x="867" y="2249"/>
                        </a:lnTo>
                        <a:lnTo>
                          <a:pt x="873" y="2253"/>
                        </a:lnTo>
                        <a:lnTo>
                          <a:pt x="877" y="2256"/>
                        </a:lnTo>
                        <a:lnTo>
                          <a:pt x="883" y="2258"/>
                        </a:lnTo>
                        <a:lnTo>
                          <a:pt x="890" y="2260"/>
                        </a:lnTo>
                        <a:lnTo>
                          <a:pt x="896" y="2264"/>
                        </a:lnTo>
                        <a:lnTo>
                          <a:pt x="900" y="2266"/>
                        </a:lnTo>
                        <a:lnTo>
                          <a:pt x="904" y="2268"/>
                        </a:lnTo>
                        <a:lnTo>
                          <a:pt x="907" y="2270"/>
                        </a:lnTo>
                        <a:lnTo>
                          <a:pt x="913" y="2273"/>
                        </a:lnTo>
                        <a:lnTo>
                          <a:pt x="919" y="2275"/>
                        </a:lnTo>
                        <a:lnTo>
                          <a:pt x="925" y="2277"/>
                        </a:lnTo>
                        <a:lnTo>
                          <a:pt x="928" y="2279"/>
                        </a:lnTo>
                        <a:lnTo>
                          <a:pt x="934" y="2281"/>
                        </a:lnTo>
                        <a:lnTo>
                          <a:pt x="938" y="2283"/>
                        </a:lnTo>
                        <a:lnTo>
                          <a:pt x="942" y="2285"/>
                        </a:lnTo>
                        <a:lnTo>
                          <a:pt x="947" y="2287"/>
                        </a:lnTo>
                        <a:lnTo>
                          <a:pt x="951" y="2289"/>
                        </a:lnTo>
                        <a:lnTo>
                          <a:pt x="955" y="2289"/>
                        </a:lnTo>
                        <a:lnTo>
                          <a:pt x="961" y="2291"/>
                        </a:lnTo>
                        <a:lnTo>
                          <a:pt x="964" y="2291"/>
                        </a:lnTo>
                        <a:lnTo>
                          <a:pt x="968" y="2294"/>
                        </a:lnTo>
                        <a:lnTo>
                          <a:pt x="972" y="2294"/>
                        </a:lnTo>
                        <a:lnTo>
                          <a:pt x="978" y="2294"/>
                        </a:lnTo>
                        <a:lnTo>
                          <a:pt x="982" y="2296"/>
                        </a:lnTo>
                        <a:lnTo>
                          <a:pt x="985" y="2296"/>
                        </a:lnTo>
                        <a:lnTo>
                          <a:pt x="989" y="2296"/>
                        </a:lnTo>
                        <a:lnTo>
                          <a:pt x="993" y="2298"/>
                        </a:lnTo>
                        <a:lnTo>
                          <a:pt x="997" y="2298"/>
                        </a:lnTo>
                        <a:lnTo>
                          <a:pt x="1001" y="2298"/>
                        </a:lnTo>
                        <a:lnTo>
                          <a:pt x="1004" y="2298"/>
                        </a:lnTo>
                        <a:lnTo>
                          <a:pt x="1008" y="2300"/>
                        </a:lnTo>
                        <a:lnTo>
                          <a:pt x="1010" y="2300"/>
                        </a:lnTo>
                        <a:lnTo>
                          <a:pt x="1014" y="2300"/>
                        </a:lnTo>
                        <a:lnTo>
                          <a:pt x="1016" y="2300"/>
                        </a:lnTo>
                        <a:lnTo>
                          <a:pt x="1020" y="2300"/>
                        </a:lnTo>
                        <a:lnTo>
                          <a:pt x="1022" y="2300"/>
                        </a:lnTo>
                        <a:lnTo>
                          <a:pt x="1025" y="2302"/>
                        </a:lnTo>
                        <a:lnTo>
                          <a:pt x="1029" y="2300"/>
                        </a:lnTo>
                        <a:lnTo>
                          <a:pt x="1035" y="2300"/>
                        </a:lnTo>
                        <a:lnTo>
                          <a:pt x="1039" y="2298"/>
                        </a:lnTo>
                        <a:lnTo>
                          <a:pt x="1042" y="2298"/>
                        </a:lnTo>
                        <a:lnTo>
                          <a:pt x="1044" y="2296"/>
                        </a:lnTo>
                        <a:lnTo>
                          <a:pt x="1048" y="2296"/>
                        </a:lnTo>
                        <a:lnTo>
                          <a:pt x="1048" y="2294"/>
                        </a:lnTo>
                        <a:lnTo>
                          <a:pt x="1050" y="2294"/>
                        </a:lnTo>
                        <a:lnTo>
                          <a:pt x="1246" y="1334"/>
                        </a:lnTo>
                        <a:lnTo>
                          <a:pt x="1246" y="1333"/>
                        </a:lnTo>
                        <a:lnTo>
                          <a:pt x="1248" y="1331"/>
                        </a:lnTo>
                        <a:lnTo>
                          <a:pt x="1250" y="1327"/>
                        </a:lnTo>
                        <a:lnTo>
                          <a:pt x="1252" y="1325"/>
                        </a:lnTo>
                        <a:lnTo>
                          <a:pt x="1252" y="1323"/>
                        </a:lnTo>
                        <a:lnTo>
                          <a:pt x="1254" y="1319"/>
                        </a:lnTo>
                        <a:lnTo>
                          <a:pt x="1256" y="1315"/>
                        </a:lnTo>
                        <a:lnTo>
                          <a:pt x="1259" y="1312"/>
                        </a:lnTo>
                        <a:lnTo>
                          <a:pt x="1259" y="1306"/>
                        </a:lnTo>
                        <a:lnTo>
                          <a:pt x="1263" y="1302"/>
                        </a:lnTo>
                        <a:lnTo>
                          <a:pt x="1265" y="1296"/>
                        </a:lnTo>
                        <a:lnTo>
                          <a:pt x="1269" y="1293"/>
                        </a:lnTo>
                        <a:lnTo>
                          <a:pt x="1271" y="1285"/>
                        </a:lnTo>
                        <a:lnTo>
                          <a:pt x="1275" y="1281"/>
                        </a:lnTo>
                        <a:lnTo>
                          <a:pt x="1276" y="1274"/>
                        </a:lnTo>
                        <a:lnTo>
                          <a:pt x="1280" y="1266"/>
                        </a:lnTo>
                        <a:lnTo>
                          <a:pt x="1284" y="1258"/>
                        </a:lnTo>
                        <a:lnTo>
                          <a:pt x="1288" y="1249"/>
                        </a:lnTo>
                        <a:lnTo>
                          <a:pt x="1290" y="1241"/>
                        </a:lnTo>
                        <a:lnTo>
                          <a:pt x="1294" y="1234"/>
                        </a:lnTo>
                        <a:lnTo>
                          <a:pt x="1297" y="1224"/>
                        </a:lnTo>
                        <a:lnTo>
                          <a:pt x="1301" y="1217"/>
                        </a:lnTo>
                        <a:lnTo>
                          <a:pt x="1305" y="1207"/>
                        </a:lnTo>
                        <a:lnTo>
                          <a:pt x="1309" y="1198"/>
                        </a:lnTo>
                        <a:lnTo>
                          <a:pt x="1313" y="1188"/>
                        </a:lnTo>
                        <a:lnTo>
                          <a:pt x="1316" y="1177"/>
                        </a:lnTo>
                        <a:lnTo>
                          <a:pt x="1320" y="1165"/>
                        </a:lnTo>
                        <a:lnTo>
                          <a:pt x="1324" y="1154"/>
                        </a:lnTo>
                        <a:lnTo>
                          <a:pt x="1330" y="1144"/>
                        </a:lnTo>
                        <a:lnTo>
                          <a:pt x="1334" y="1133"/>
                        </a:lnTo>
                        <a:lnTo>
                          <a:pt x="1337" y="1122"/>
                        </a:lnTo>
                        <a:lnTo>
                          <a:pt x="1339" y="1108"/>
                        </a:lnTo>
                        <a:lnTo>
                          <a:pt x="1345" y="1097"/>
                        </a:lnTo>
                        <a:lnTo>
                          <a:pt x="1349" y="1084"/>
                        </a:lnTo>
                        <a:lnTo>
                          <a:pt x="1353" y="1070"/>
                        </a:lnTo>
                        <a:lnTo>
                          <a:pt x="1354" y="1059"/>
                        </a:lnTo>
                        <a:lnTo>
                          <a:pt x="1358" y="1044"/>
                        </a:lnTo>
                        <a:lnTo>
                          <a:pt x="1362" y="1032"/>
                        </a:lnTo>
                        <a:lnTo>
                          <a:pt x="1366" y="1017"/>
                        </a:lnTo>
                        <a:lnTo>
                          <a:pt x="1370" y="1004"/>
                        </a:lnTo>
                        <a:lnTo>
                          <a:pt x="1372" y="988"/>
                        </a:lnTo>
                        <a:lnTo>
                          <a:pt x="1375" y="975"/>
                        </a:lnTo>
                        <a:lnTo>
                          <a:pt x="1377" y="960"/>
                        </a:lnTo>
                        <a:lnTo>
                          <a:pt x="1381" y="947"/>
                        </a:lnTo>
                        <a:lnTo>
                          <a:pt x="1383" y="931"/>
                        </a:lnTo>
                        <a:lnTo>
                          <a:pt x="1387" y="916"/>
                        </a:lnTo>
                        <a:lnTo>
                          <a:pt x="1389" y="901"/>
                        </a:lnTo>
                        <a:lnTo>
                          <a:pt x="1391" y="886"/>
                        </a:lnTo>
                        <a:lnTo>
                          <a:pt x="1392" y="871"/>
                        </a:lnTo>
                        <a:lnTo>
                          <a:pt x="1394" y="855"/>
                        </a:lnTo>
                        <a:lnTo>
                          <a:pt x="1396" y="838"/>
                        </a:lnTo>
                        <a:lnTo>
                          <a:pt x="1398" y="823"/>
                        </a:lnTo>
                        <a:lnTo>
                          <a:pt x="1398" y="806"/>
                        </a:lnTo>
                        <a:lnTo>
                          <a:pt x="1400" y="791"/>
                        </a:lnTo>
                        <a:lnTo>
                          <a:pt x="1402" y="774"/>
                        </a:lnTo>
                        <a:lnTo>
                          <a:pt x="1402" y="757"/>
                        </a:lnTo>
                        <a:lnTo>
                          <a:pt x="1402" y="741"/>
                        </a:lnTo>
                        <a:lnTo>
                          <a:pt x="1402" y="724"/>
                        </a:lnTo>
                        <a:lnTo>
                          <a:pt x="1402" y="705"/>
                        </a:lnTo>
                        <a:lnTo>
                          <a:pt x="1402" y="690"/>
                        </a:lnTo>
                        <a:lnTo>
                          <a:pt x="1400" y="673"/>
                        </a:lnTo>
                        <a:lnTo>
                          <a:pt x="1400" y="656"/>
                        </a:lnTo>
                        <a:lnTo>
                          <a:pt x="1398" y="654"/>
                        </a:lnTo>
                        <a:lnTo>
                          <a:pt x="1398" y="652"/>
                        </a:lnTo>
                        <a:lnTo>
                          <a:pt x="1398" y="648"/>
                        </a:lnTo>
                        <a:lnTo>
                          <a:pt x="1398" y="644"/>
                        </a:lnTo>
                        <a:lnTo>
                          <a:pt x="1398" y="643"/>
                        </a:lnTo>
                        <a:lnTo>
                          <a:pt x="1398" y="639"/>
                        </a:lnTo>
                        <a:lnTo>
                          <a:pt x="1396" y="637"/>
                        </a:lnTo>
                        <a:lnTo>
                          <a:pt x="1396" y="633"/>
                        </a:lnTo>
                        <a:lnTo>
                          <a:pt x="1396" y="631"/>
                        </a:lnTo>
                        <a:lnTo>
                          <a:pt x="1396" y="627"/>
                        </a:lnTo>
                        <a:lnTo>
                          <a:pt x="1396" y="623"/>
                        </a:lnTo>
                        <a:lnTo>
                          <a:pt x="1394" y="620"/>
                        </a:lnTo>
                        <a:lnTo>
                          <a:pt x="1394" y="618"/>
                        </a:lnTo>
                        <a:lnTo>
                          <a:pt x="1394" y="616"/>
                        </a:lnTo>
                        <a:lnTo>
                          <a:pt x="1392" y="612"/>
                        </a:lnTo>
                        <a:lnTo>
                          <a:pt x="1392" y="610"/>
                        </a:lnTo>
                        <a:lnTo>
                          <a:pt x="1392" y="608"/>
                        </a:lnTo>
                        <a:lnTo>
                          <a:pt x="1391" y="604"/>
                        </a:lnTo>
                        <a:lnTo>
                          <a:pt x="1391" y="603"/>
                        </a:lnTo>
                        <a:lnTo>
                          <a:pt x="1391" y="599"/>
                        </a:lnTo>
                        <a:lnTo>
                          <a:pt x="1389" y="597"/>
                        </a:lnTo>
                        <a:lnTo>
                          <a:pt x="1389" y="593"/>
                        </a:lnTo>
                        <a:lnTo>
                          <a:pt x="1389" y="589"/>
                        </a:lnTo>
                        <a:lnTo>
                          <a:pt x="1389" y="587"/>
                        </a:lnTo>
                        <a:lnTo>
                          <a:pt x="1387" y="585"/>
                        </a:lnTo>
                        <a:lnTo>
                          <a:pt x="1385" y="582"/>
                        </a:lnTo>
                        <a:lnTo>
                          <a:pt x="1385" y="580"/>
                        </a:lnTo>
                        <a:lnTo>
                          <a:pt x="1383" y="578"/>
                        </a:lnTo>
                        <a:lnTo>
                          <a:pt x="1383" y="572"/>
                        </a:lnTo>
                        <a:lnTo>
                          <a:pt x="1381" y="568"/>
                        </a:lnTo>
                        <a:lnTo>
                          <a:pt x="1377" y="563"/>
                        </a:lnTo>
                        <a:lnTo>
                          <a:pt x="1375" y="557"/>
                        </a:lnTo>
                        <a:lnTo>
                          <a:pt x="1373" y="553"/>
                        </a:lnTo>
                        <a:lnTo>
                          <a:pt x="1370" y="547"/>
                        </a:lnTo>
                        <a:lnTo>
                          <a:pt x="1366" y="544"/>
                        </a:lnTo>
                        <a:lnTo>
                          <a:pt x="1364" y="540"/>
                        </a:lnTo>
                        <a:lnTo>
                          <a:pt x="1360" y="536"/>
                        </a:lnTo>
                        <a:lnTo>
                          <a:pt x="1356" y="532"/>
                        </a:lnTo>
                        <a:lnTo>
                          <a:pt x="1353" y="528"/>
                        </a:lnTo>
                        <a:lnTo>
                          <a:pt x="1349" y="525"/>
                        </a:lnTo>
                        <a:lnTo>
                          <a:pt x="1345" y="523"/>
                        </a:lnTo>
                        <a:lnTo>
                          <a:pt x="1339" y="521"/>
                        </a:lnTo>
                        <a:lnTo>
                          <a:pt x="1335" y="517"/>
                        </a:lnTo>
                        <a:lnTo>
                          <a:pt x="1332" y="515"/>
                        </a:lnTo>
                        <a:lnTo>
                          <a:pt x="1326" y="515"/>
                        </a:lnTo>
                        <a:lnTo>
                          <a:pt x="1322" y="513"/>
                        </a:lnTo>
                        <a:lnTo>
                          <a:pt x="1318" y="511"/>
                        </a:lnTo>
                        <a:lnTo>
                          <a:pt x="1316" y="511"/>
                        </a:lnTo>
                        <a:lnTo>
                          <a:pt x="1313" y="511"/>
                        </a:lnTo>
                        <a:lnTo>
                          <a:pt x="1311" y="511"/>
                        </a:lnTo>
                        <a:lnTo>
                          <a:pt x="1309" y="509"/>
                        </a:lnTo>
                        <a:lnTo>
                          <a:pt x="1305" y="509"/>
                        </a:lnTo>
                        <a:lnTo>
                          <a:pt x="1303" y="509"/>
                        </a:lnTo>
                        <a:lnTo>
                          <a:pt x="1301" y="509"/>
                        </a:lnTo>
                        <a:lnTo>
                          <a:pt x="1297" y="509"/>
                        </a:lnTo>
                        <a:lnTo>
                          <a:pt x="1295" y="509"/>
                        </a:lnTo>
                        <a:lnTo>
                          <a:pt x="1292" y="509"/>
                        </a:lnTo>
                        <a:lnTo>
                          <a:pt x="1290" y="509"/>
                        </a:lnTo>
                        <a:lnTo>
                          <a:pt x="1284" y="509"/>
                        </a:lnTo>
                        <a:lnTo>
                          <a:pt x="1280" y="509"/>
                        </a:lnTo>
                        <a:lnTo>
                          <a:pt x="1275" y="509"/>
                        </a:lnTo>
                        <a:lnTo>
                          <a:pt x="1269" y="509"/>
                        </a:lnTo>
                        <a:lnTo>
                          <a:pt x="1265" y="509"/>
                        </a:lnTo>
                        <a:lnTo>
                          <a:pt x="1259" y="509"/>
                        </a:lnTo>
                        <a:lnTo>
                          <a:pt x="1256" y="511"/>
                        </a:lnTo>
                        <a:lnTo>
                          <a:pt x="1252" y="511"/>
                        </a:lnTo>
                        <a:lnTo>
                          <a:pt x="1246" y="515"/>
                        </a:lnTo>
                        <a:lnTo>
                          <a:pt x="1242" y="515"/>
                        </a:lnTo>
                        <a:lnTo>
                          <a:pt x="1238" y="517"/>
                        </a:lnTo>
                        <a:lnTo>
                          <a:pt x="1235" y="521"/>
                        </a:lnTo>
                        <a:lnTo>
                          <a:pt x="1231" y="523"/>
                        </a:lnTo>
                        <a:lnTo>
                          <a:pt x="1229" y="525"/>
                        </a:lnTo>
                        <a:lnTo>
                          <a:pt x="1225" y="527"/>
                        </a:lnTo>
                        <a:lnTo>
                          <a:pt x="1221" y="530"/>
                        </a:lnTo>
                        <a:lnTo>
                          <a:pt x="1219" y="532"/>
                        </a:lnTo>
                        <a:lnTo>
                          <a:pt x="1216" y="538"/>
                        </a:lnTo>
                        <a:lnTo>
                          <a:pt x="1214" y="542"/>
                        </a:lnTo>
                        <a:lnTo>
                          <a:pt x="1212" y="546"/>
                        </a:lnTo>
                        <a:lnTo>
                          <a:pt x="1210" y="549"/>
                        </a:lnTo>
                        <a:lnTo>
                          <a:pt x="1208" y="555"/>
                        </a:lnTo>
                        <a:lnTo>
                          <a:pt x="1208" y="557"/>
                        </a:lnTo>
                        <a:lnTo>
                          <a:pt x="1206" y="559"/>
                        </a:lnTo>
                        <a:lnTo>
                          <a:pt x="1204" y="561"/>
                        </a:lnTo>
                        <a:lnTo>
                          <a:pt x="1204" y="565"/>
                        </a:lnTo>
                        <a:lnTo>
                          <a:pt x="1204" y="566"/>
                        </a:lnTo>
                        <a:lnTo>
                          <a:pt x="1204" y="570"/>
                        </a:lnTo>
                        <a:lnTo>
                          <a:pt x="1204" y="572"/>
                        </a:lnTo>
                        <a:lnTo>
                          <a:pt x="1204" y="576"/>
                        </a:lnTo>
                        <a:lnTo>
                          <a:pt x="1139" y="895"/>
                        </a:lnTo>
                        <a:lnTo>
                          <a:pt x="1136" y="893"/>
                        </a:lnTo>
                        <a:lnTo>
                          <a:pt x="1132" y="892"/>
                        </a:lnTo>
                        <a:lnTo>
                          <a:pt x="1126" y="888"/>
                        </a:lnTo>
                        <a:lnTo>
                          <a:pt x="1122" y="886"/>
                        </a:lnTo>
                        <a:lnTo>
                          <a:pt x="1117" y="884"/>
                        </a:lnTo>
                        <a:lnTo>
                          <a:pt x="1113" y="880"/>
                        </a:lnTo>
                        <a:lnTo>
                          <a:pt x="1107" y="878"/>
                        </a:lnTo>
                        <a:lnTo>
                          <a:pt x="1105" y="876"/>
                        </a:lnTo>
                        <a:lnTo>
                          <a:pt x="1227" y="316"/>
                        </a:lnTo>
                        <a:lnTo>
                          <a:pt x="1227" y="312"/>
                        </a:lnTo>
                        <a:lnTo>
                          <a:pt x="1227" y="308"/>
                        </a:lnTo>
                        <a:lnTo>
                          <a:pt x="1229" y="306"/>
                        </a:lnTo>
                        <a:lnTo>
                          <a:pt x="1229" y="304"/>
                        </a:lnTo>
                        <a:lnTo>
                          <a:pt x="1229" y="300"/>
                        </a:lnTo>
                        <a:lnTo>
                          <a:pt x="1229" y="298"/>
                        </a:lnTo>
                        <a:lnTo>
                          <a:pt x="1229" y="295"/>
                        </a:lnTo>
                        <a:lnTo>
                          <a:pt x="1229" y="293"/>
                        </a:lnTo>
                        <a:lnTo>
                          <a:pt x="1229" y="291"/>
                        </a:lnTo>
                        <a:lnTo>
                          <a:pt x="1229" y="287"/>
                        </a:lnTo>
                        <a:lnTo>
                          <a:pt x="1229" y="285"/>
                        </a:lnTo>
                        <a:lnTo>
                          <a:pt x="1229" y="283"/>
                        </a:lnTo>
                        <a:lnTo>
                          <a:pt x="1229" y="278"/>
                        </a:lnTo>
                        <a:lnTo>
                          <a:pt x="1227" y="272"/>
                        </a:lnTo>
                        <a:lnTo>
                          <a:pt x="1225" y="268"/>
                        </a:lnTo>
                        <a:lnTo>
                          <a:pt x="1225" y="262"/>
                        </a:lnTo>
                        <a:lnTo>
                          <a:pt x="1223" y="257"/>
                        </a:lnTo>
                        <a:lnTo>
                          <a:pt x="1221" y="253"/>
                        </a:lnTo>
                        <a:lnTo>
                          <a:pt x="1219" y="247"/>
                        </a:lnTo>
                        <a:lnTo>
                          <a:pt x="1217" y="243"/>
                        </a:lnTo>
                        <a:lnTo>
                          <a:pt x="1216" y="240"/>
                        </a:lnTo>
                        <a:lnTo>
                          <a:pt x="1214" y="236"/>
                        </a:lnTo>
                        <a:lnTo>
                          <a:pt x="1210" y="232"/>
                        </a:lnTo>
                        <a:lnTo>
                          <a:pt x="1206" y="226"/>
                        </a:lnTo>
                        <a:lnTo>
                          <a:pt x="1202" y="222"/>
                        </a:lnTo>
                        <a:lnTo>
                          <a:pt x="1200" y="219"/>
                        </a:lnTo>
                        <a:lnTo>
                          <a:pt x="1197" y="215"/>
                        </a:lnTo>
                        <a:lnTo>
                          <a:pt x="1193" y="211"/>
                        </a:lnTo>
                        <a:lnTo>
                          <a:pt x="1189" y="207"/>
                        </a:lnTo>
                        <a:lnTo>
                          <a:pt x="1185" y="205"/>
                        </a:lnTo>
                        <a:lnTo>
                          <a:pt x="1179" y="203"/>
                        </a:lnTo>
                        <a:lnTo>
                          <a:pt x="1176" y="200"/>
                        </a:lnTo>
                        <a:lnTo>
                          <a:pt x="1172" y="198"/>
                        </a:lnTo>
                        <a:lnTo>
                          <a:pt x="1166" y="194"/>
                        </a:lnTo>
                        <a:lnTo>
                          <a:pt x="1160" y="192"/>
                        </a:lnTo>
                        <a:lnTo>
                          <a:pt x="1157" y="192"/>
                        </a:lnTo>
                        <a:lnTo>
                          <a:pt x="1151" y="190"/>
                        </a:lnTo>
                        <a:lnTo>
                          <a:pt x="1147" y="190"/>
                        </a:lnTo>
                        <a:lnTo>
                          <a:pt x="1143" y="188"/>
                        </a:lnTo>
                        <a:lnTo>
                          <a:pt x="1141" y="186"/>
                        </a:lnTo>
                        <a:lnTo>
                          <a:pt x="1138" y="186"/>
                        </a:lnTo>
                        <a:lnTo>
                          <a:pt x="1136" y="186"/>
                        </a:lnTo>
                        <a:lnTo>
                          <a:pt x="1134" y="186"/>
                        </a:lnTo>
                        <a:lnTo>
                          <a:pt x="1130" y="186"/>
                        </a:lnTo>
                        <a:lnTo>
                          <a:pt x="1128" y="186"/>
                        </a:lnTo>
                        <a:lnTo>
                          <a:pt x="1124" y="186"/>
                        </a:lnTo>
                        <a:lnTo>
                          <a:pt x="1122" y="186"/>
                        </a:lnTo>
                        <a:lnTo>
                          <a:pt x="1120" y="186"/>
                        </a:lnTo>
                        <a:lnTo>
                          <a:pt x="1117" y="186"/>
                        </a:lnTo>
                        <a:lnTo>
                          <a:pt x="1115" y="186"/>
                        </a:lnTo>
                        <a:lnTo>
                          <a:pt x="1109" y="186"/>
                        </a:lnTo>
                        <a:lnTo>
                          <a:pt x="1105" y="188"/>
                        </a:lnTo>
                        <a:lnTo>
                          <a:pt x="1100" y="188"/>
                        </a:lnTo>
                        <a:lnTo>
                          <a:pt x="1094" y="190"/>
                        </a:lnTo>
                        <a:lnTo>
                          <a:pt x="1090" y="192"/>
                        </a:lnTo>
                        <a:lnTo>
                          <a:pt x="1086" y="192"/>
                        </a:lnTo>
                        <a:lnTo>
                          <a:pt x="1081" y="194"/>
                        </a:lnTo>
                        <a:lnTo>
                          <a:pt x="1077" y="198"/>
                        </a:lnTo>
                        <a:lnTo>
                          <a:pt x="1073" y="200"/>
                        </a:lnTo>
                        <a:lnTo>
                          <a:pt x="1067" y="203"/>
                        </a:lnTo>
                        <a:lnTo>
                          <a:pt x="1063" y="205"/>
                        </a:lnTo>
                        <a:lnTo>
                          <a:pt x="1058" y="207"/>
                        </a:lnTo>
                        <a:lnTo>
                          <a:pt x="1054" y="211"/>
                        </a:lnTo>
                        <a:lnTo>
                          <a:pt x="1050" y="215"/>
                        </a:lnTo>
                        <a:lnTo>
                          <a:pt x="1048" y="219"/>
                        </a:lnTo>
                        <a:lnTo>
                          <a:pt x="1044" y="222"/>
                        </a:lnTo>
                        <a:lnTo>
                          <a:pt x="1041" y="226"/>
                        </a:lnTo>
                        <a:lnTo>
                          <a:pt x="1039" y="232"/>
                        </a:lnTo>
                        <a:lnTo>
                          <a:pt x="1035" y="234"/>
                        </a:lnTo>
                        <a:lnTo>
                          <a:pt x="1033" y="240"/>
                        </a:lnTo>
                        <a:lnTo>
                          <a:pt x="1029" y="243"/>
                        </a:lnTo>
                        <a:lnTo>
                          <a:pt x="1027" y="249"/>
                        </a:lnTo>
                        <a:lnTo>
                          <a:pt x="1025" y="253"/>
                        </a:lnTo>
                        <a:lnTo>
                          <a:pt x="1023" y="259"/>
                        </a:lnTo>
                        <a:lnTo>
                          <a:pt x="1022" y="260"/>
                        </a:lnTo>
                        <a:lnTo>
                          <a:pt x="1022" y="264"/>
                        </a:lnTo>
                        <a:lnTo>
                          <a:pt x="1022" y="266"/>
                        </a:lnTo>
                        <a:lnTo>
                          <a:pt x="1022" y="270"/>
                        </a:lnTo>
                        <a:lnTo>
                          <a:pt x="919" y="730"/>
                        </a:lnTo>
                        <a:lnTo>
                          <a:pt x="915" y="728"/>
                        </a:lnTo>
                        <a:lnTo>
                          <a:pt x="913" y="726"/>
                        </a:lnTo>
                        <a:lnTo>
                          <a:pt x="907" y="724"/>
                        </a:lnTo>
                        <a:lnTo>
                          <a:pt x="905" y="720"/>
                        </a:lnTo>
                        <a:lnTo>
                          <a:pt x="904" y="719"/>
                        </a:lnTo>
                        <a:lnTo>
                          <a:pt x="900" y="717"/>
                        </a:lnTo>
                        <a:lnTo>
                          <a:pt x="896" y="713"/>
                        </a:lnTo>
                        <a:lnTo>
                          <a:pt x="892" y="713"/>
                        </a:lnTo>
                        <a:lnTo>
                          <a:pt x="1022" y="129"/>
                        </a:lnTo>
                        <a:lnTo>
                          <a:pt x="1022" y="125"/>
                        </a:lnTo>
                        <a:lnTo>
                          <a:pt x="1022" y="124"/>
                        </a:lnTo>
                        <a:lnTo>
                          <a:pt x="1022" y="120"/>
                        </a:lnTo>
                        <a:lnTo>
                          <a:pt x="1022" y="118"/>
                        </a:lnTo>
                        <a:lnTo>
                          <a:pt x="1022" y="114"/>
                        </a:lnTo>
                        <a:lnTo>
                          <a:pt x="1022" y="112"/>
                        </a:lnTo>
                        <a:lnTo>
                          <a:pt x="1022" y="110"/>
                        </a:lnTo>
                        <a:lnTo>
                          <a:pt x="1022" y="106"/>
                        </a:lnTo>
                        <a:lnTo>
                          <a:pt x="1022" y="105"/>
                        </a:lnTo>
                        <a:lnTo>
                          <a:pt x="1022" y="103"/>
                        </a:lnTo>
                        <a:lnTo>
                          <a:pt x="1022" y="99"/>
                        </a:lnTo>
                        <a:lnTo>
                          <a:pt x="1022" y="97"/>
                        </a:lnTo>
                        <a:lnTo>
                          <a:pt x="1022" y="91"/>
                        </a:lnTo>
                        <a:lnTo>
                          <a:pt x="1022" y="86"/>
                        </a:lnTo>
                        <a:lnTo>
                          <a:pt x="1020" y="82"/>
                        </a:lnTo>
                        <a:lnTo>
                          <a:pt x="1018" y="76"/>
                        </a:lnTo>
                        <a:lnTo>
                          <a:pt x="1016" y="70"/>
                        </a:lnTo>
                        <a:lnTo>
                          <a:pt x="1014" y="67"/>
                        </a:lnTo>
                        <a:lnTo>
                          <a:pt x="1012" y="61"/>
                        </a:lnTo>
                        <a:lnTo>
                          <a:pt x="1010" y="57"/>
                        </a:lnTo>
                        <a:lnTo>
                          <a:pt x="1008" y="53"/>
                        </a:lnTo>
                        <a:lnTo>
                          <a:pt x="1006" y="48"/>
                        </a:lnTo>
                        <a:lnTo>
                          <a:pt x="1004" y="44"/>
                        </a:lnTo>
                        <a:lnTo>
                          <a:pt x="1001" y="40"/>
                        </a:lnTo>
                        <a:lnTo>
                          <a:pt x="997" y="36"/>
                        </a:lnTo>
                        <a:lnTo>
                          <a:pt x="993" y="32"/>
                        </a:lnTo>
                        <a:lnTo>
                          <a:pt x="991" y="29"/>
                        </a:lnTo>
                        <a:lnTo>
                          <a:pt x="985" y="25"/>
                        </a:lnTo>
                        <a:lnTo>
                          <a:pt x="983" y="23"/>
                        </a:lnTo>
                        <a:lnTo>
                          <a:pt x="978" y="19"/>
                        </a:lnTo>
                        <a:lnTo>
                          <a:pt x="972" y="17"/>
                        </a:lnTo>
                        <a:lnTo>
                          <a:pt x="968" y="13"/>
                        </a:lnTo>
                        <a:lnTo>
                          <a:pt x="964" y="11"/>
                        </a:lnTo>
                        <a:lnTo>
                          <a:pt x="961" y="10"/>
                        </a:lnTo>
                        <a:lnTo>
                          <a:pt x="955" y="6"/>
                        </a:lnTo>
                        <a:lnTo>
                          <a:pt x="949" y="6"/>
                        </a:lnTo>
                        <a:lnTo>
                          <a:pt x="944" y="4"/>
                        </a:lnTo>
                        <a:lnTo>
                          <a:pt x="940" y="4"/>
                        </a:lnTo>
                        <a:lnTo>
                          <a:pt x="936" y="2"/>
                        </a:lnTo>
                        <a:lnTo>
                          <a:pt x="934" y="2"/>
                        </a:lnTo>
                        <a:lnTo>
                          <a:pt x="932" y="0"/>
                        </a:lnTo>
                        <a:lnTo>
                          <a:pt x="928" y="0"/>
                        </a:lnTo>
                        <a:lnTo>
                          <a:pt x="926" y="0"/>
                        </a:lnTo>
                        <a:lnTo>
                          <a:pt x="925" y="0"/>
                        </a:lnTo>
                        <a:lnTo>
                          <a:pt x="921" y="0"/>
                        </a:lnTo>
                        <a:lnTo>
                          <a:pt x="919" y="0"/>
                        </a:lnTo>
                        <a:lnTo>
                          <a:pt x="915" y="0"/>
                        </a:lnTo>
                        <a:lnTo>
                          <a:pt x="913" y="0"/>
                        </a:lnTo>
                        <a:lnTo>
                          <a:pt x="911" y="0"/>
                        </a:lnTo>
                        <a:lnTo>
                          <a:pt x="907" y="0"/>
                        </a:lnTo>
                        <a:lnTo>
                          <a:pt x="904" y="0"/>
                        </a:lnTo>
                        <a:lnTo>
                          <a:pt x="898" y="2"/>
                        </a:lnTo>
                        <a:lnTo>
                          <a:pt x="896" y="2"/>
                        </a:lnTo>
                        <a:lnTo>
                          <a:pt x="892" y="2"/>
                        </a:lnTo>
                        <a:lnTo>
                          <a:pt x="890" y="2"/>
                        </a:lnTo>
                        <a:lnTo>
                          <a:pt x="888" y="4"/>
                        </a:lnTo>
                        <a:lnTo>
                          <a:pt x="881" y="4"/>
                        </a:lnTo>
                        <a:lnTo>
                          <a:pt x="877" y="6"/>
                        </a:lnTo>
                        <a:lnTo>
                          <a:pt x="873" y="10"/>
                        </a:lnTo>
                        <a:lnTo>
                          <a:pt x="867" y="11"/>
                        </a:lnTo>
                        <a:lnTo>
                          <a:pt x="864" y="15"/>
                        </a:lnTo>
                        <a:lnTo>
                          <a:pt x="860" y="17"/>
                        </a:lnTo>
                        <a:lnTo>
                          <a:pt x="854" y="19"/>
                        </a:lnTo>
                        <a:lnTo>
                          <a:pt x="850" y="23"/>
                        </a:lnTo>
                        <a:lnTo>
                          <a:pt x="847" y="25"/>
                        </a:lnTo>
                        <a:lnTo>
                          <a:pt x="843" y="29"/>
                        </a:lnTo>
                        <a:lnTo>
                          <a:pt x="839" y="32"/>
                        </a:lnTo>
                        <a:lnTo>
                          <a:pt x="835" y="36"/>
                        </a:lnTo>
                        <a:lnTo>
                          <a:pt x="833" y="40"/>
                        </a:lnTo>
                        <a:lnTo>
                          <a:pt x="831" y="44"/>
                        </a:lnTo>
                        <a:lnTo>
                          <a:pt x="828" y="48"/>
                        </a:lnTo>
                        <a:lnTo>
                          <a:pt x="824" y="53"/>
                        </a:lnTo>
                        <a:lnTo>
                          <a:pt x="822" y="57"/>
                        </a:lnTo>
                        <a:lnTo>
                          <a:pt x="820" y="61"/>
                        </a:lnTo>
                        <a:lnTo>
                          <a:pt x="818" y="67"/>
                        </a:lnTo>
                        <a:lnTo>
                          <a:pt x="816" y="70"/>
                        </a:lnTo>
                        <a:lnTo>
                          <a:pt x="816" y="74"/>
                        </a:lnTo>
                        <a:lnTo>
                          <a:pt x="814" y="76"/>
                        </a:lnTo>
                        <a:lnTo>
                          <a:pt x="812" y="82"/>
                        </a:lnTo>
                        <a:lnTo>
                          <a:pt x="812" y="84"/>
                        </a:lnTo>
                        <a:lnTo>
                          <a:pt x="687" y="663"/>
                        </a:lnTo>
                        <a:lnTo>
                          <a:pt x="681" y="663"/>
                        </a:lnTo>
                        <a:lnTo>
                          <a:pt x="677" y="663"/>
                        </a:lnTo>
                        <a:lnTo>
                          <a:pt x="673" y="663"/>
                        </a:lnTo>
                        <a:lnTo>
                          <a:pt x="670" y="663"/>
                        </a:lnTo>
                        <a:lnTo>
                          <a:pt x="666" y="663"/>
                        </a:lnTo>
                        <a:lnTo>
                          <a:pt x="660" y="665"/>
                        </a:lnTo>
                        <a:lnTo>
                          <a:pt x="656" y="665"/>
                        </a:lnTo>
                        <a:lnTo>
                          <a:pt x="652" y="667"/>
                        </a:lnTo>
                        <a:lnTo>
                          <a:pt x="753" y="213"/>
                        </a:lnTo>
                        <a:lnTo>
                          <a:pt x="753" y="209"/>
                        </a:lnTo>
                        <a:lnTo>
                          <a:pt x="753" y="207"/>
                        </a:lnTo>
                        <a:lnTo>
                          <a:pt x="753" y="203"/>
                        </a:lnTo>
                        <a:lnTo>
                          <a:pt x="753" y="201"/>
                        </a:lnTo>
                        <a:lnTo>
                          <a:pt x="753" y="198"/>
                        </a:lnTo>
                        <a:lnTo>
                          <a:pt x="753" y="196"/>
                        </a:lnTo>
                        <a:lnTo>
                          <a:pt x="753" y="192"/>
                        </a:lnTo>
                        <a:lnTo>
                          <a:pt x="753" y="190"/>
                        </a:lnTo>
                        <a:lnTo>
                          <a:pt x="753" y="188"/>
                        </a:lnTo>
                        <a:lnTo>
                          <a:pt x="753" y="184"/>
                        </a:lnTo>
                        <a:lnTo>
                          <a:pt x="753" y="182"/>
                        </a:lnTo>
                        <a:lnTo>
                          <a:pt x="753" y="181"/>
                        </a:lnTo>
                        <a:lnTo>
                          <a:pt x="753" y="175"/>
                        </a:lnTo>
                        <a:lnTo>
                          <a:pt x="753" y="169"/>
                        </a:lnTo>
                        <a:lnTo>
                          <a:pt x="751" y="167"/>
                        </a:lnTo>
                        <a:lnTo>
                          <a:pt x="751" y="163"/>
                        </a:lnTo>
                        <a:lnTo>
                          <a:pt x="751" y="162"/>
                        </a:lnTo>
                        <a:lnTo>
                          <a:pt x="750" y="160"/>
                        </a:lnTo>
                        <a:lnTo>
                          <a:pt x="748" y="154"/>
                        </a:lnTo>
                        <a:lnTo>
                          <a:pt x="746" y="148"/>
                        </a:lnTo>
                        <a:lnTo>
                          <a:pt x="744" y="144"/>
                        </a:lnTo>
                        <a:lnTo>
                          <a:pt x="742" y="141"/>
                        </a:lnTo>
                        <a:lnTo>
                          <a:pt x="740" y="135"/>
                        </a:lnTo>
                        <a:lnTo>
                          <a:pt x="738" y="131"/>
                        </a:lnTo>
                        <a:lnTo>
                          <a:pt x="734" y="127"/>
                        </a:lnTo>
                        <a:lnTo>
                          <a:pt x="730" y="124"/>
                        </a:lnTo>
                        <a:lnTo>
                          <a:pt x="727" y="120"/>
                        </a:lnTo>
                        <a:lnTo>
                          <a:pt x="725" y="116"/>
                        </a:lnTo>
                        <a:lnTo>
                          <a:pt x="721" y="112"/>
                        </a:lnTo>
                        <a:lnTo>
                          <a:pt x="717" y="108"/>
                        </a:lnTo>
                        <a:lnTo>
                          <a:pt x="713" y="105"/>
                        </a:lnTo>
                        <a:lnTo>
                          <a:pt x="710" y="103"/>
                        </a:lnTo>
                        <a:lnTo>
                          <a:pt x="704" y="99"/>
                        </a:lnTo>
                        <a:lnTo>
                          <a:pt x="700" y="97"/>
                        </a:lnTo>
                        <a:lnTo>
                          <a:pt x="694" y="95"/>
                        </a:lnTo>
                        <a:lnTo>
                          <a:pt x="691" y="91"/>
                        </a:lnTo>
                        <a:lnTo>
                          <a:pt x="685" y="89"/>
                        </a:lnTo>
                        <a:lnTo>
                          <a:pt x="681" y="87"/>
                        </a:lnTo>
                        <a:lnTo>
                          <a:pt x="675" y="86"/>
                        </a:lnTo>
                        <a:lnTo>
                          <a:pt x="672" y="86"/>
                        </a:lnTo>
                        <a:lnTo>
                          <a:pt x="668" y="84"/>
                        </a:lnTo>
                        <a:lnTo>
                          <a:pt x="666" y="84"/>
                        </a:lnTo>
                        <a:lnTo>
                          <a:pt x="664" y="84"/>
                        </a:lnTo>
                        <a:lnTo>
                          <a:pt x="660" y="84"/>
                        </a:lnTo>
                        <a:lnTo>
                          <a:pt x="658" y="84"/>
                        </a:lnTo>
                        <a:lnTo>
                          <a:pt x="654" y="84"/>
                        </a:lnTo>
                        <a:lnTo>
                          <a:pt x="652" y="84"/>
                        </a:lnTo>
                        <a:lnTo>
                          <a:pt x="651" y="84"/>
                        </a:lnTo>
                        <a:lnTo>
                          <a:pt x="647" y="84"/>
                        </a:lnTo>
                        <a:lnTo>
                          <a:pt x="645" y="84"/>
                        </a:lnTo>
                        <a:lnTo>
                          <a:pt x="643" y="84"/>
                        </a:lnTo>
                        <a:lnTo>
                          <a:pt x="639" y="84"/>
                        </a:lnTo>
                        <a:lnTo>
                          <a:pt x="635" y="84"/>
                        </a:lnTo>
                        <a:lnTo>
                          <a:pt x="630" y="84"/>
                        </a:lnTo>
                        <a:lnTo>
                          <a:pt x="628" y="84"/>
                        </a:lnTo>
                        <a:lnTo>
                          <a:pt x="624" y="86"/>
                        </a:lnTo>
                        <a:lnTo>
                          <a:pt x="622" y="86"/>
                        </a:lnTo>
                        <a:lnTo>
                          <a:pt x="618" y="86"/>
                        </a:lnTo>
                        <a:lnTo>
                          <a:pt x="614" y="87"/>
                        </a:lnTo>
                        <a:lnTo>
                          <a:pt x="609" y="89"/>
                        </a:lnTo>
                        <a:lnTo>
                          <a:pt x="603" y="91"/>
                        </a:lnTo>
                        <a:lnTo>
                          <a:pt x="599" y="95"/>
                        </a:lnTo>
                        <a:lnTo>
                          <a:pt x="595" y="97"/>
                        </a:lnTo>
                        <a:lnTo>
                          <a:pt x="592" y="99"/>
                        </a:lnTo>
                        <a:lnTo>
                          <a:pt x="586" y="103"/>
                        </a:lnTo>
                        <a:lnTo>
                          <a:pt x="582" y="105"/>
                        </a:lnTo>
                        <a:lnTo>
                          <a:pt x="578" y="108"/>
                        </a:lnTo>
                        <a:lnTo>
                          <a:pt x="574" y="112"/>
                        </a:lnTo>
                        <a:lnTo>
                          <a:pt x="571" y="116"/>
                        </a:lnTo>
                        <a:lnTo>
                          <a:pt x="567" y="120"/>
                        </a:lnTo>
                        <a:lnTo>
                          <a:pt x="565" y="124"/>
                        </a:lnTo>
                        <a:lnTo>
                          <a:pt x="563" y="127"/>
                        </a:lnTo>
                        <a:lnTo>
                          <a:pt x="559" y="131"/>
                        </a:lnTo>
                        <a:lnTo>
                          <a:pt x="555" y="135"/>
                        </a:lnTo>
                        <a:lnTo>
                          <a:pt x="554" y="141"/>
                        </a:lnTo>
                        <a:lnTo>
                          <a:pt x="552" y="146"/>
                        </a:lnTo>
                        <a:lnTo>
                          <a:pt x="550" y="150"/>
                        </a:lnTo>
                        <a:lnTo>
                          <a:pt x="548" y="156"/>
                        </a:lnTo>
                        <a:lnTo>
                          <a:pt x="546" y="158"/>
                        </a:lnTo>
                        <a:lnTo>
                          <a:pt x="546" y="160"/>
                        </a:lnTo>
                        <a:lnTo>
                          <a:pt x="544" y="163"/>
                        </a:lnTo>
                        <a:lnTo>
                          <a:pt x="544" y="167"/>
                        </a:lnTo>
                        <a:lnTo>
                          <a:pt x="361" y="1127"/>
                        </a:lnTo>
                        <a:lnTo>
                          <a:pt x="361" y="1127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4" name="AutoShape 12"/>
                <p:cNvSpPr/>
                <p:nvPr/>
              </p:nvSpPr>
              <p:spPr>
                <a:xfrm rot="9395400">
                  <a:off x="4337640" y="2256480"/>
                  <a:ext cx="88560" cy="75960"/>
                </a:xfrm>
                <a:prstGeom prst="hexagon">
                  <a:avLst>
                    <a:gd name="adj" fmla="val 29147"/>
                    <a:gd name="vf" fmla="val 11547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5" name="Group 13"/>
              <p:cNvGrpSpPr/>
              <p:nvPr/>
            </p:nvGrpSpPr>
            <p:grpSpPr>
              <a:xfrm>
                <a:off x="4097520" y="1409040"/>
                <a:ext cx="1094040" cy="2229840"/>
                <a:chOff x="4097520" y="1409040"/>
                <a:chExt cx="1094040" cy="2229840"/>
              </a:xfrm>
            </p:grpSpPr>
            <p:grpSp>
              <p:nvGrpSpPr>
                <p:cNvPr id="2606" name="Group 14"/>
                <p:cNvGrpSpPr/>
                <p:nvPr/>
              </p:nvGrpSpPr>
              <p:grpSpPr>
                <a:xfrm>
                  <a:off x="4097520" y="1409040"/>
                  <a:ext cx="697680" cy="1202760"/>
                  <a:chOff x="4097520" y="1409040"/>
                  <a:chExt cx="697680" cy="1202760"/>
                </a:xfrm>
              </p:grpSpPr>
              <p:grpSp>
                <p:nvGrpSpPr>
                  <p:cNvPr id="2607" name="Group 15"/>
                  <p:cNvGrpSpPr/>
                  <p:nvPr/>
                </p:nvGrpSpPr>
                <p:grpSpPr>
                  <a:xfrm>
                    <a:off x="4371480" y="1975680"/>
                    <a:ext cx="423720" cy="636120"/>
                    <a:chOff x="4371480" y="1975680"/>
                    <a:chExt cx="423720" cy="636120"/>
                  </a:xfrm>
                </p:grpSpPr>
                <p:sp>
                  <p:nvSpPr>
                    <p:cNvPr id="2608" name="AutoShape 16"/>
                    <p:cNvSpPr/>
                    <p:nvPr/>
                  </p:nvSpPr>
                  <p:spPr>
                    <a:xfrm rot="9411600">
                      <a:off x="4460760" y="1990800"/>
                      <a:ext cx="179640" cy="49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9" name="AutoShape 17"/>
                    <p:cNvSpPr/>
                    <p:nvPr/>
                  </p:nvSpPr>
                  <p:spPr>
                    <a:xfrm rot="14989800">
                      <a:off x="4554720" y="2362680"/>
                      <a:ext cx="19188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0" name="Group 18"/>
                  <p:cNvGrpSpPr/>
                  <p:nvPr/>
                </p:nvGrpSpPr>
                <p:grpSpPr>
                  <a:xfrm>
                    <a:off x="4097520" y="1409040"/>
                    <a:ext cx="472320" cy="719640"/>
                    <a:chOff x="4097520" y="1409040"/>
                    <a:chExt cx="472320" cy="719640"/>
                  </a:xfrm>
                </p:grpSpPr>
                <p:sp>
                  <p:nvSpPr>
                    <p:cNvPr id="2611" name="AutoShape 19"/>
                    <p:cNvSpPr/>
                    <p:nvPr/>
                  </p:nvSpPr>
                  <p:spPr>
                    <a:xfrm rot="9426600">
                      <a:off x="4285080" y="1643400"/>
                      <a:ext cx="180360" cy="36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4308" y="21600"/>
                          </a:lnTo>
                          <a:lnTo>
                            <a:pt x="17292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2" name="Oval 20"/>
                    <p:cNvSpPr/>
                    <p:nvPr/>
                  </p:nvSpPr>
                  <p:spPr>
                    <a:xfrm rot="9965400">
                      <a:off x="4362480" y="1918440"/>
                      <a:ext cx="187200" cy="19044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3" name="Freeform 21"/>
                    <p:cNvSpPr/>
                    <p:nvPr/>
                  </p:nvSpPr>
                  <p:spPr>
                    <a:xfrm rot="19460400">
                      <a:off x="4164840" y="1432800"/>
                      <a:ext cx="175680" cy="28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2" h="2302">
                          <a:moveTo>
                            <a:pt x="361" y="1127"/>
                          </a:moveTo>
                          <a:lnTo>
                            <a:pt x="280" y="1116"/>
                          </a:lnTo>
                          <a:lnTo>
                            <a:pt x="373" y="711"/>
                          </a:lnTo>
                          <a:lnTo>
                            <a:pt x="373" y="709"/>
                          </a:lnTo>
                          <a:lnTo>
                            <a:pt x="375" y="705"/>
                          </a:lnTo>
                          <a:lnTo>
                            <a:pt x="375" y="703"/>
                          </a:lnTo>
                          <a:lnTo>
                            <a:pt x="375" y="700"/>
                          </a:lnTo>
                          <a:lnTo>
                            <a:pt x="375" y="698"/>
                          </a:lnTo>
                          <a:lnTo>
                            <a:pt x="375" y="696"/>
                          </a:lnTo>
                          <a:lnTo>
                            <a:pt x="375" y="692"/>
                          </a:lnTo>
                          <a:lnTo>
                            <a:pt x="375" y="690"/>
                          </a:lnTo>
                          <a:lnTo>
                            <a:pt x="375" y="684"/>
                          </a:lnTo>
                          <a:lnTo>
                            <a:pt x="375" y="681"/>
                          </a:lnTo>
                          <a:lnTo>
                            <a:pt x="375" y="675"/>
                          </a:lnTo>
                          <a:lnTo>
                            <a:pt x="375" y="669"/>
                          </a:lnTo>
                          <a:lnTo>
                            <a:pt x="371" y="665"/>
                          </a:lnTo>
                          <a:lnTo>
                            <a:pt x="371" y="660"/>
                          </a:lnTo>
                          <a:lnTo>
                            <a:pt x="369" y="654"/>
                          </a:lnTo>
                          <a:lnTo>
                            <a:pt x="367" y="652"/>
                          </a:lnTo>
                          <a:lnTo>
                            <a:pt x="365" y="646"/>
                          </a:lnTo>
                          <a:lnTo>
                            <a:pt x="363" y="641"/>
                          </a:lnTo>
                          <a:lnTo>
                            <a:pt x="361" y="637"/>
                          </a:lnTo>
                          <a:lnTo>
                            <a:pt x="358" y="633"/>
                          </a:lnTo>
                          <a:lnTo>
                            <a:pt x="356" y="629"/>
                          </a:lnTo>
                          <a:lnTo>
                            <a:pt x="354" y="623"/>
                          </a:lnTo>
                          <a:lnTo>
                            <a:pt x="350" y="620"/>
                          </a:lnTo>
                          <a:lnTo>
                            <a:pt x="346" y="616"/>
                          </a:lnTo>
                          <a:lnTo>
                            <a:pt x="342" y="612"/>
                          </a:lnTo>
                          <a:lnTo>
                            <a:pt x="339" y="610"/>
                          </a:lnTo>
                          <a:lnTo>
                            <a:pt x="335" y="606"/>
                          </a:lnTo>
                          <a:lnTo>
                            <a:pt x="331" y="603"/>
                          </a:lnTo>
                          <a:lnTo>
                            <a:pt x="325" y="601"/>
                          </a:lnTo>
                          <a:lnTo>
                            <a:pt x="321" y="597"/>
                          </a:lnTo>
                          <a:lnTo>
                            <a:pt x="318" y="595"/>
                          </a:lnTo>
                          <a:lnTo>
                            <a:pt x="312" y="593"/>
                          </a:lnTo>
                          <a:lnTo>
                            <a:pt x="306" y="591"/>
                          </a:lnTo>
                          <a:lnTo>
                            <a:pt x="302" y="589"/>
                          </a:lnTo>
                          <a:lnTo>
                            <a:pt x="299" y="589"/>
                          </a:lnTo>
                          <a:lnTo>
                            <a:pt x="295" y="587"/>
                          </a:lnTo>
                          <a:lnTo>
                            <a:pt x="291" y="587"/>
                          </a:lnTo>
                          <a:lnTo>
                            <a:pt x="287" y="585"/>
                          </a:lnTo>
                          <a:lnTo>
                            <a:pt x="285" y="585"/>
                          </a:lnTo>
                          <a:lnTo>
                            <a:pt x="283" y="585"/>
                          </a:lnTo>
                          <a:lnTo>
                            <a:pt x="280" y="585"/>
                          </a:lnTo>
                          <a:lnTo>
                            <a:pt x="276" y="585"/>
                          </a:lnTo>
                          <a:lnTo>
                            <a:pt x="274" y="585"/>
                          </a:lnTo>
                          <a:lnTo>
                            <a:pt x="272" y="585"/>
                          </a:lnTo>
                          <a:lnTo>
                            <a:pt x="268" y="585"/>
                          </a:lnTo>
                          <a:lnTo>
                            <a:pt x="266" y="585"/>
                          </a:lnTo>
                          <a:lnTo>
                            <a:pt x="263" y="585"/>
                          </a:lnTo>
                          <a:lnTo>
                            <a:pt x="261" y="587"/>
                          </a:lnTo>
                          <a:lnTo>
                            <a:pt x="259" y="587"/>
                          </a:lnTo>
                          <a:lnTo>
                            <a:pt x="255" y="587"/>
                          </a:lnTo>
                          <a:lnTo>
                            <a:pt x="253" y="589"/>
                          </a:lnTo>
                          <a:lnTo>
                            <a:pt x="249" y="589"/>
                          </a:lnTo>
                          <a:lnTo>
                            <a:pt x="247" y="589"/>
                          </a:lnTo>
                          <a:lnTo>
                            <a:pt x="243" y="591"/>
                          </a:lnTo>
                          <a:lnTo>
                            <a:pt x="240" y="591"/>
                          </a:lnTo>
                          <a:lnTo>
                            <a:pt x="238" y="593"/>
                          </a:lnTo>
                          <a:lnTo>
                            <a:pt x="236" y="595"/>
                          </a:lnTo>
                          <a:lnTo>
                            <a:pt x="232" y="595"/>
                          </a:lnTo>
                          <a:lnTo>
                            <a:pt x="230" y="597"/>
                          </a:lnTo>
                          <a:lnTo>
                            <a:pt x="228" y="599"/>
                          </a:lnTo>
                          <a:lnTo>
                            <a:pt x="224" y="601"/>
                          </a:lnTo>
                          <a:lnTo>
                            <a:pt x="223" y="601"/>
                          </a:lnTo>
                          <a:lnTo>
                            <a:pt x="219" y="603"/>
                          </a:lnTo>
                          <a:lnTo>
                            <a:pt x="217" y="604"/>
                          </a:lnTo>
                          <a:lnTo>
                            <a:pt x="211" y="608"/>
                          </a:lnTo>
                          <a:lnTo>
                            <a:pt x="207" y="612"/>
                          </a:lnTo>
                          <a:lnTo>
                            <a:pt x="204" y="616"/>
                          </a:lnTo>
                          <a:lnTo>
                            <a:pt x="198" y="618"/>
                          </a:lnTo>
                          <a:lnTo>
                            <a:pt x="194" y="623"/>
                          </a:lnTo>
                          <a:lnTo>
                            <a:pt x="188" y="627"/>
                          </a:lnTo>
                          <a:lnTo>
                            <a:pt x="185" y="633"/>
                          </a:lnTo>
                          <a:lnTo>
                            <a:pt x="181" y="637"/>
                          </a:lnTo>
                          <a:lnTo>
                            <a:pt x="177" y="641"/>
                          </a:lnTo>
                          <a:lnTo>
                            <a:pt x="173" y="646"/>
                          </a:lnTo>
                          <a:lnTo>
                            <a:pt x="169" y="652"/>
                          </a:lnTo>
                          <a:lnTo>
                            <a:pt x="166" y="656"/>
                          </a:lnTo>
                          <a:lnTo>
                            <a:pt x="162" y="662"/>
                          </a:lnTo>
                          <a:lnTo>
                            <a:pt x="160" y="665"/>
                          </a:lnTo>
                          <a:lnTo>
                            <a:pt x="158" y="669"/>
                          </a:lnTo>
                          <a:lnTo>
                            <a:pt x="158" y="671"/>
                          </a:lnTo>
                          <a:lnTo>
                            <a:pt x="156" y="673"/>
                          </a:lnTo>
                          <a:lnTo>
                            <a:pt x="154" y="677"/>
                          </a:lnTo>
                          <a:lnTo>
                            <a:pt x="152" y="679"/>
                          </a:lnTo>
                          <a:lnTo>
                            <a:pt x="152" y="681"/>
                          </a:lnTo>
                          <a:lnTo>
                            <a:pt x="150" y="684"/>
                          </a:lnTo>
                          <a:lnTo>
                            <a:pt x="150" y="688"/>
                          </a:lnTo>
                          <a:lnTo>
                            <a:pt x="146" y="694"/>
                          </a:lnTo>
                          <a:lnTo>
                            <a:pt x="145" y="701"/>
                          </a:lnTo>
                          <a:lnTo>
                            <a:pt x="143" y="709"/>
                          </a:lnTo>
                          <a:lnTo>
                            <a:pt x="139" y="717"/>
                          </a:lnTo>
                          <a:lnTo>
                            <a:pt x="137" y="724"/>
                          </a:lnTo>
                          <a:lnTo>
                            <a:pt x="135" y="732"/>
                          </a:lnTo>
                          <a:lnTo>
                            <a:pt x="131" y="739"/>
                          </a:lnTo>
                          <a:lnTo>
                            <a:pt x="129" y="747"/>
                          </a:lnTo>
                          <a:lnTo>
                            <a:pt x="126" y="755"/>
                          </a:lnTo>
                          <a:lnTo>
                            <a:pt x="124" y="760"/>
                          </a:lnTo>
                          <a:lnTo>
                            <a:pt x="122" y="768"/>
                          </a:lnTo>
                          <a:lnTo>
                            <a:pt x="120" y="776"/>
                          </a:lnTo>
                          <a:lnTo>
                            <a:pt x="116" y="781"/>
                          </a:lnTo>
                          <a:lnTo>
                            <a:pt x="114" y="789"/>
                          </a:lnTo>
                          <a:lnTo>
                            <a:pt x="112" y="796"/>
                          </a:lnTo>
                          <a:lnTo>
                            <a:pt x="110" y="804"/>
                          </a:lnTo>
                          <a:lnTo>
                            <a:pt x="107" y="812"/>
                          </a:lnTo>
                          <a:lnTo>
                            <a:pt x="107" y="817"/>
                          </a:lnTo>
                          <a:lnTo>
                            <a:pt x="103" y="823"/>
                          </a:lnTo>
                          <a:lnTo>
                            <a:pt x="101" y="831"/>
                          </a:lnTo>
                          <a:lnTo>
                            <a:pt x="97" y="836"/>
                          </a:lnTo>
                          <a:lnTo>
                            <a:pt x="97" y="844"/>
                          </a:lnTo>
                          <a:lnTo>
                            <a:pt x="93" y="852"/>
                          </a:lnTo>
                          <a:lnTo>
                            <a:pt x="93" y="857"/>
                          </a:lnTo>
                          <a:lnTo>
                            <a:pt x="89" y="865"/>
                          </a:lnTo>
                          <a:lnTo>
                            <a:pt x="88" y="871"/>
                          </a:lnTo>
                          <a:lnTo>
                            <a:pt x="86" y="878"/>
                          </a:lnTo>
                          <a:lnTo>
                            <a:pt x="84" y="884"/>
                          </a:lnTo>
                          <a:lnTo>
                            <a:pt x="82" y="892"/>
                          </a:lnTo>
                          <a:lnTo>
                            <a:pt x="80" y="899"/>
                          </a:lnTo>
                          <a:lnTo>
                            <a:pt x="78" y="907"/>
                          </a:lnTo>
                          <a:lnTo>
                            <a:pt x="74" y="912"/>
                          </a:lnTo>
                          <a:lnTo>
                            <a:pt x="72" y="920"/>
                          </a:lnTo>
                          <a:lnTo>
                            <a:pt x="72" y="926"/>
                          </a:lnTo>
                          <a:lnTo>
                            <a:pt x="68" y="931"/>
                          </a:lnTo>
                          <a:lnTo>
                            <a:pt x="67" y="939"/>
                          </a:lnTo>
                          <a:lnTo>
                            <a:pt x="65" y="945"/>
                          </a:lnTo>
                          <a:lnTo>
                            <a:pt x="63" y="952"/>
                          </a:lnTo>
                          <a:lnTo>
                            <a:pt x="59" y="958"/>
                          </a:lnTo>
                          <a:lnTo>
                            <a:pt x="57" y="966"/>
                          </a:lnTo>
                          <a:lnTo>
                            <a:pt x="55" y="971"/>
                          </a:lnTo>
                          <a:lnTo>
                            <a:pt x="53" y="979"/>
                          </a:lnTo>
                          <a:lnTo>
                            <a:pt x="51" y="987"/>
                          </a:lnTo>
                          <a:lnTo>
                            <a:pt x="49" y="994"/>
                          </a:lnTo>
                          <a:lnTo>
                            <a:pt x="48" y="1000"/>
                          </a:lnTo>
                          <a:lnTo>
                            <a:pt x="46" y="1007"/>
                          </a:lnTo>
                          <a:lnTo>
                            <a:pt x="44" y="1015"/>
                          </a:lnTo>
                          <a:lnTo>
                            <a:pt x="42" y="1021"/>
                          </a:lnTo>
                          <a:lnTo>
                            <a:pt x="42" y="1028"/>
                          </a:lnTo>
                          <a:lnTo>
                            <a:pt x="38" y="1036"/>
                          </a:lnTo>
                          <a:lnTo>
                            <a:pt x="36" y="1042"/>
                          </a:lnTo>
                          <a:lnTo>
                            <a:pt x="36" y="1049"/>
                          </a:lnTo>
                          <a:lnTo>
                            <a:pt x="34" y="1057"/>
                          </a:lnTo>
                          <a:lnTo>
                            <a:pt x="30" y="1063"/>
                          </a:lnTo>
                          <a:lnTo>
                            <a:pt x="30" y="1070"/>
                          </a:lnTo>
                          <a:lnTo>
                            <a:pt x="29" y="1078"/>
                          </a:lnTo>
                          <a:lnTo>
                            <a:pt x="27" y="1085"/>
                          </a:lnTo>
                          <a:lnTo>
                            <a:pt x="25" y="1093"/>
                          </a:lnTo>
                          <a:lnTo>
                            <a:pt x="23" y="1101"/>
                          </a:lnTo>
                          <a:lnTo>
                            <a:pt x="21" y="1108"/>
                          </a:lnTo>
                          <a:lnTo>
                            <a:pt x="19" y="1116"/>
                          </a:lnTo>
                          <a:lnTo>
                            <a:pt x="17" y="1123"/>
                          </a:lnTo>
                          <a:lnTo>
                            <a:pt x="17" y="1131"/>
                          </a:lnTo>
                          <a:lnTo>
                            <a:pt x="15" y="1139"/>
                          </a:lnTo>
                          <a:lnTo>
                            <a:pt x="13" y="1148"/>
                          </a:lnTo>
                          <a:lnTo>
                            <a:pt x="10" y="1158"/>
                          </a:lnTo>
                          <a:lnTo>
                            <a:pt x="10" y="1165"/>
                          </a:lnTo>
                          <a:lnTo>
                            <a:pt x="8" y="1175"/>
                          </a:lnTo>
                          <a:lnTo>
                            <a:pt x="6" y="1182"/>
                          </a:lnTo>
                          <a:lnTo>
                            <a:pt x="6" y="1192"/>
                          </a:lnTo>
                          <a:lnTo>
                            <a:pt x="4" y="1201"/>
                          </a:lnTo>
                          <a:lnTo>
                            <a:pt x="2" y="1211"/>
                          </a:lnTo>
                          <a:lnTo>
                            <a:pt x="2" y="1218"/>
                          </a:lnTo>
                          <a:lnTo>
                            <a:pt x="0" y="1230"/>
                          </a:lnTo>
                          <a:lnTo>
                            <a:pt x="0" y="1237"/>
                          </a:lnTo>
                          <a:lnTo>
                            <a:pt x="0" y="1247"/>
                          </a:lnTo>
                          <a:lnTo>
                            <a:pt x="0" y="1257"/>
                          </a:lnTo>
                          <a:lnTo>
                            <a:pt x="0" y="1268"/>
                          </a:lnTo>
                          <a:lnTo>
                            <a:pt x="0" y="1276"/>
                          </a:lnTo>
                          <a:lnTo>
                            <a:pt x="0" y="1285"/>
                          </a:lnTo>
                          <a:lnTo>
                            <a:pt x="0" y="1296"/>
                          </a:lnTo>
                          <a:lnTo>
                            <a:pt x="0" y="1304"/>
                          </a:lnTo>
                          <a:lnTo>
                            <a:pt x="0" y="1314"/>
                          </a:lnTo>
                          <a:lnTo>
                            <a:pt x="0" y="1323"/>
                          </a:lnTo>
                          <a:lnTo>
                            <a:pt x="0" y="1333"/>
                          </a:lnTo>
                          <a:lnTo>
                            <a:pt x="2" y="1342"/>
                          </a:lnTo>
                          <a:lnTo>
                            <a:pt x="2" y="1352"/>
                          </a:lnTo>
                          <a:lnTo>
                            <a:pt x="4" y="1363"/>
                          </a:lnTo>
                          <a:lnTo>
                            <a:pt x="4" y="1371"/>
                          </a:lnTo>
                          <a:lnTo>
                            <a:pt x="6" y="1382"/>
                          </a:lnTo>
                          <a:lnTo>
                            <a:pt x="8" y="1390"/>
                          </a:lnTo>
                          <a:lnTo>
                            <a:pt x="8" y="1401"/>
                          </a:lnTo>
                          <a:lnTo>
                            <a:pt x="10" y="1409"/>
                          </a:lnTo>
                          <a:lnTo>
                            <a:pt x="11" y="1420"/>
                          </a:lnTo>
                          <a:lnTo>
                            <a:pt x="13" y="1429"/>
                          </a:lnTo>
                          <a:lnTo>
                            <a:pt x="15" y="1439"/>
                          </a:lnTo>
                          <a:lnTo>
                            <a:pt x="17" y="1448"/>
                          </a:lnTo>
                          <a:lnTo>
                            <a:pt x="19" y="1458"/>
                          </a:lnTo>
                          <a:lnTo>
                            <a:pt x="21" y="1468"/>
                          </a:lnTo>
                          <a:lnTo>
                            <a:pt x="23" y="1477"/>
                          </a:lnTo>
                          <a:lnTo>
                            <a:pt x="27" y="1487"/>
                          </a:lnTo>
                          <a:lnTo>
                            <a:pt x="29" y="1496"/>
                          </a:lnTo>
                          <a:lnTo>
                            <a:pt x="30" y="1506"/>
                          </a:lnTo>
                          <a:lnTo>
                            <a:pt x="34" y="1515"/>
                          </a:lnTo>
                          <a:lnTo>
                            <a:pt x="36" y="1525"/>
                          </a:lnTo>
                          <a:lnTo>
                            <a:pt x="38" y="1534"/>
                          </a:lnTo>
                          <a:lnTo>
                            <a:pt x="42" y="1544"/>
                          </a:lnTo>
                          <a:lnTo>
                            <a:pt x="46" y="1553"/>
                          </a:lnTo>
                          <a:lnTo>
                            <a:pt x="48" y="1561"/>
                          </a:lnTo>
                          <a:lnTo>
                            <a:pt x="51" y="1572"/>
                          </a:lnTo>
                          <a:lnTo>
                            <a:pt x="55" y="1580"/>
                          </a:lnTo>
                          <a:lnTo>
                            <a:pt x="59" y="1589"/>
                          </a:lnTo>
                          <a:lnTo>
                            <a:pt x="63" y="1599"/>
                          </a:lnTo>
                          <a:lnTo>
                            <a:pt x="67" y="1608"/>
                          </a:lnTo>
                          <a:lnTo>
                            <a:pt x="68" y="1616"/>
                          </a:lnTo>
                          <a:lnTo>
                            <a:pt x="74" y="1627"/>
                          </a:lnTo>
                          <a:lnTo>
                            <a:pt x="78" y="1635"/>
                          </a:lnTo>
                          <a:lnTo>
                            <a:pt x="82" y="1644"/>
                          </a:lnTo>
                          <a:lnTo>
                            <a:pt x="86" y="1652"/>
                          </a:lnTo>
                          <a:lnTo>
                            <a:pt x="89" y="1661"/>
                          </a:lnTo>
                          <a:lnTo>
                            <a:pt x="95" y="1669"/>
                          </a:lnTo>
                          <a:lnTo>
                            <a:pt x="99" y="1679"/>
                          </a:lnTo>
                          <a:lnTo>
                            <a:pt x="103" y="1688"/>
                          </a:lnTo>
                          <a:lnTo>
                            <a:pt x="108" y="1696"/>
                          </a:lnTo>
                          <a:lnTo>
                            <a:pt x="114" y="1703"/>
                          </a:lnTo>
                          <a:lnTo>
                            <a:pt x="118" y="1713"/>
                          </a:lnTo>
                          <a:lnTo>
                            <a:pt x="124" y="1722"/>
                          </a:lnTo>
                          <a:lnTo>
                            <a:pt x="127" y="1732"/>
                          </a:lnTo>
                          <a:lnTo>
                            <a:pt x="131" y="1736"/>
                          </a:lnTo>
                          <a:lnTo>
                            <a:pt x="135" y="1739"/>
                          </a:lnTo>
                          <a:lnTo>
                            <a:pt x="135" y="1743"/>
                          </a:lnTo>
                          <a:lnTo>
                            <a:pt x="137" y="1745"/>
                          </a:lnTo>
                          <a:lnTo>
                            <a:pt x="139" y="1747"/>
                          </a:lnTo>
                          <a:lnTo>
                            <a:pt x="141" y="1751"/>
                          </a:lnTo>
                          <a:lnTo>
                            <a:pt x="143" y="1755"/>
                          </a:lnTo>
                          <a:lnTo>
                            <a:pt x="143" y="1756"/>
                          </a:lnTo>
                          <a:lnTo>
                            <a:pt x="145" y="1760"/>
                          </a:lnTo>
                          <a:lnTo>
                            <a:pt x="146" y="1762"/>
                          </a:lnTo>
                          <a:lnTo>
                            <a:pt x="148" y="1766"/>
                          </a:lnTo>
                          <a:lnTo>
                            <a:pt x="150" y="1768"/>
                          </a:lnTo>
                          <a:lnTo>
                            <a:pt x="152" y="1770"/>
                          </a:lnTo>
                          <a:lnTo>
                            <a:pt x="156" y="1774"/>
                          </a:lnTo>
                          <a:lnTo>
                            <a:pt x="158" y="1777"/>
                          </a:lnTo>
                          <a:lnTo>
                            <a:pt x="160" y="1779"/>
                          </a:lnTo>
                          <a:lnTo>
                            <a:pt x="160" y="1783"/>
                          </a:lnTo>
                          <a:lnTo>
                            <a:pt x="162" y="1787"/>
                          </a:lnTo>
                          <a:lnTo>
                            <a:pt x="166" y="1789"/>
                          </a:lnTo>
                          <a:lnTo>
                            <a:pt x="166" y="1791"/>
                          </a:lnTo>
                          <a:lnTo>
                            <a:pt x="167" y="1794"/>
                          </a:lnTo>
                          <a:lnTo>
                            <a:pt x="169" y="1796"/>
                          </a:lnTo>
                          <a:lnTo>
                            <a:pt x="171" y="1800"/>
                          </a:lnTo>
                          <a:lnTo>
                            <a:pt x="173" y="1802"/>
                          </a:lnTo>
                          <a:lnTo>
                            <a:pt x="175" y="1806"/>
                          </a:lnTo>
                          <a:lnTo>
                            <a:pt x="177" y="1808"/>
                          </a:lnTo>
                          <a:lnTo>
                            <a:pt x="179" y="1812"/>
                          </a:lnTo>
                          <a:lnTo>
                            <a:pt x="181" y="1815"/>
                          </a:lnTo>
                          <a:lnTo>
                            <a:pt x="183" y="1817"/>
                          </a:lnTo>
                          <a:lnTo>
                            <a:pt x="185" y="1821"/>
                          </a:lnTo>
                          <a:lnTo>
                            <a:pt x="188" y="1827"/>
                          </a:lnTo>
                          <a:lnTo>
                            <a:pt x="190" y="1831"/>
                          </a:lnTo>
                          <a:lnTo>
                            <a:pt x="194" y="1836"/>
                          </a:lnTo>
                          <a:lnTo>
                            <a:pt x="198" y="1842"/>
                          </a:lnTo>
                          <a:lnTo>
                            <a:pt x="200" y="1846"/>
                          </a:lnTo>
                          <a:lnTo>
                            <a:pt x="204" y="1850"/>
                          </a:lnTo>
                          <a:lnTo>
                            <a:pt x="205" y="1853"/>
                          </a:lnTo>
                          <a:lnTo>
                            <a:pt x="207" y="1859"/>
                          </a:lnTo>
                          <a:lnTo>
                            <a:pt x="209" y="1861"/>
                          </a:lnTo>
                          <a:lnTo>
                            <a:pt x="211" y="1863"/>
                          </a:lnTo>
                          <a:lnTo>
                            <a:pt x="213" y="1867"/>
                          </a:lnTo>
                          <a:lnTo>
                            <a:pt x="215" y="1869"/>
                          </a:lnTo>
                          <a:lnTo>
                            <a:pt x="217" y="1870"/>
                          </a:lnTo>
                          <a:lnTo>
                            <a:pt x="219" y="1874"/>
                          </a:lnTo>
                          <a:lnTo>
                            <a:pt x="141" y="2163"/>
                          </a:lnTo>
                          <a:lnTo>
                            <a:pt x="143" y="2165"/>
                          </a:lnTo>
                          <a:lnTo>
                            <a:pt x="146" y="2165"/>
                          </a:lnTo>
                          <a:lnTo>
                            <a:pt x="150" y="2167"/>
                          </a:lnTo>
                          <a:lnTo>
                            <a:pt x="152" y="2167"/>
                          </a:lnTo>
                          <a:lnTo>
                            <a:pt x="154" y="2167"/>
                          </a:lnTo>
                          <a:lnTo>
                            <a:pt x="158" y="2167"/>
                          </a:lnTo>
                          <a:lnTo>
                            <a:pt x="162" y="2171"/>
                          </a:lnTo>
                          <a:lnTo>
                            <a:pt x="166" y="2171"/>
                          </a:lnTo>
                          <a:lnTo>
                            <a:pt x="167" y="2173"/>
                          </a:lnTo>
                          <a:lnTo>
                            <a:pt x="171" y="2173"/>
                          </a:lnTo>
                          <a:lnTo>
                            <a:pt x="175" y="2175"/>
                          </a:lnTo>
                          <a:lnTo>
                            <a:pt x="181" y="2175"/>
                          </a:lnTo>
                          <a:lnTo>
                            <a:pt x="185" y="2175"/>
                          </a:lnTo>
                          <a:lnTo>
                            <a:pt x="188" y="2177"/>
                          </a:lnTo>
                          <a:lnTo>
                            <a:pt x="194" y="2180"/>
                          </a:lnTo>
                          <a:lnTo>
                            <a:pt x="198" y="2180"/>
                          </a:lnTo>
                          <a:lnTo>
                            <a:pt x="204" y="2182"/>
                          </a:lnTo>
                          <a:lnTo>
                            <a:pt x="209" y="2182"/>
                          </a:lnTo>
                          <a:lnTo>
                            <a:pt x="215" y="2184"/>
                          </a:lnTo>
                          <a:lnTo>
                            <a:pt x="219" y="2186"/>
                          </a:lnTo>
                          <a:lnTo>
                            <a:pt x="224" y="2188"/>
                          </a:lnTo>
                          <a:lnTo>
                            <a:pt x="232" y="2188"/>
                          </a:lnTo>
                          <a:lnTo>
                            <a:pt x="238" y="2190"/>
                          </a:lnTo>
                          <a:lnTo>
                            <a:pt x="243" y="2190"/>
                          </a:lnTo>
                          <a:lnTo>
                            <a:pt x="251" y="2192"/>
                          </a:lnTo>
                          <a:lnTo>
                            <a:pt x="257" y="2194"/>
                          </a:lnTo>
                          <a:lnTo>
                            <a:pt x="264" y="2194"/>
                          </a:lnTo>
                          <a:lnTo>
                            <a:pt x="270" y="2196"/>
                          </a:lnTo>
                          <a:lnTo>
                            <a:pt x="276" y="2196"/>
                          </a:lnTo>
                          <a:lnTo>
                            <a:pt x="283" y="2197"/>
                          </a:lnTo>
                          <a:lnTo>
                            <a:pt x="291" y="2199"/>
                          </a:lnTo>
                          <a:lnTo>
                            <a:pt x="297" y="2199"/>
                          </a:lnTo>
                          <a:lnTo>
                            <a:pt x="304" y="2199"/>
                          </a:lnTo>
                          <a:lnTo>
                            <a:pt x="312" y="2199"/>
                          </a:lnTo>
                          <a:lnTo>
                            <a:pt x="320" y="2201"/>
                          </a:lnTo>
                          <a:lnTo>
                            <a:pt x="325" y="2201"/>
                          </a:lnTo>
                          <a:lnTo>
                            <a:pt x="333" y="2201"/>
                          </a:lnTo>
                          <a:lnTo>
                            <a:pt x="341" y="2201"/>
                          </a:lnTo>
                          <a:lnTo>
                            <a:pt x="348" y="2201"/>
                          </a:lnTo>
                          <a:lnTo>
                            <a:pt x="356" y="2201"/>
                          </a:lnTo>
                          <a:lnTo>
                            <a:pt x="363" y="2201"/>
                          </a:lnTo>
                          <a:lnTo>
                            <a:pt x="371" y="2201"/>
                          </a:lnTo>
                          <a:lnTo>
                            <a:pt x="379" y="2201"/>
                          </a:lnTo>
                          <a:lnTo>
                            <a:pt x="386" y="2201"/>
                          </a:lnTo>
                          <a:lnTo>
                            <a:pt x="394" y="2201"/>
                          </a:lnTo>
                          <a:lnTo>
                            <a:pt x="401" y="2199"/>
                          </a:lnTo>
                          <a:lnTo>
                            <a:pt x="409" y="2199"/>
                          </a:lnTo>
                          <a:lnTo>
                            <a:pt x="415" y="2197"/>
                          </a:lnTo>
                          <a:lnTo>
                            <a:pt x="422" y="2196"/>
                          </a:lnTo>
                          <a:lnTo>
                            <a:pt x="432" y="2196"/>
                          </a:lnTo>
                          <a:lnTo>
                            <a:pt x="439" y="2194"/>
                          </a:lnTo>
                          <a:lnTo>
                            <a:pt x="447" y="2192"/>
                          </a:lnTo>
                          <a:lnTo>
                            <a:pt x="455" y="2190"/>
                          </a:lnTo>
                          <a:lnTo>
                            <a:pt x="462" y="2188"/>
                          </a:lnTo>
                          <a:lnTo>
                            <a:pt x="470" y="2188"/>
                          </a:lnTo>
                          <a:lnTo>
                            <a:pt x="476" y="2184"/>
                          </a:lnTo>
                          <a:lnTo>
                            <a:pt x="483" y="2182"/>
                          </a:lnTo>
                          <a:lnTo>
                            <a:pt x="491" y="2180"/>
                          </a:lnTo>
                          <a:lnTo>
                            <a:pt x="498" y="2175"/>
                          </a:lnTo>
                          <a:lnTo>
                            <a:pt x="504" y="2173"/>
                          </a:lnTo>
                          <a:lnTo>
                            <a:pt x="512" y="2169"/>
                          </a:lnTo>
                          <a:lnTo>
                            <a:pt x="517" y="2165"/>
                          </a:lnTo>
                          <a:lnTo>
                            <a:pt x="525" y="2161"/>
                          </a:lnTo>
                          <a:lnTo>
                            <a:pt x="531" y="2158"/>
                          </a:lnTo>
                          <a:lnTo>
                            <a:pt x="536" y="2154"/>
                          </a:lnTo>
                          <a:lnTo>
                            <a:pt x="542" y="2150"/>
                          </a:lnTo>
                          <a:lnTo>
                            <a:pt x="550" y="2146"/>
                          </a:lnTo>
                          <a:lnTo>
                            <a:pt x="555" y="2142"/>
                          </a:lnTo>
                          <a:lnTo>
                            <a:pt x="559" y="2137"/>
                          </a:lnTo>
                          <a:lnTo>
                            <a:pt x="565" y="2133"/>
                          </a:lnTo>
                          <a:lnTo>
                            <a:pt x="571" y="2129"/>
                          </a:lnTo>
                          <a:lnTo>
                            <a:pt x="576" y="2123"/>
                          </a:lnTo>
                          <a:lnTo>
                            <a:pt x="582" y="2120"/>
                          </a:lnTo>
                          <a:lnTo>
                            <a:pt x="588" y="2114"/>
                          </a:lnTo>
                          <a:lnTo>
                            <a:pt x="592" y="2110"/>
                          </a:lnTo>
                          <a:lnTo>
                            <a:pt x="595" y="2106"/>
                          </a:lnTo>
                          <a:lnTo>
                            <a:pt x="601" y="2101"/>
                          </a:lnTo>
                          <a:lnTo>
                            <a:pt x="605" y="2095"/>
                          </a:lnTo>
                          <a:lnTo>
                            <a:pt x="611" y="2091"/>
                          </a:lnTo>
                          <a:lnTo>
                            <a:pt x="614" y="2085"/>
                          </a:lnTo>
                          <a:lnTo>
                            <a:pt x="618" y="2080"/>
                          </a:lnTo>
                          <a:lnTo>
                            <a:pt x="624" y="2076"/>
                          </a:lnTo>
                          <a:lnTo>
                            <a:pt x="628" y="2070"/>
                          </a:lnTo>
                          <a:lnTo>
                            <a:pt x="632" y="2064"/>
                          </a:lnTo>
                          <a:lnTo>
                            <a:pt x="635" y="2059"/>
                          </a:lnTo>
                          <a:lnTo>
                            <a:pt x="637" y="2055"/>
                          </a:lnTo>
                          <a:lnTo>
                            <a:pt x="643" y="2049"/>
                          </a:lnTo>
                          <a:lnTo>
                            <a:pt x="645" y="2043"/>
                          </a:lnTo>
                          <a:lnTo>
                            <a:pt x="649" y="2040"/>
                          </a:lnTo>
                          <a:lnTo>
                            <a:pt x="652" y="2034"/>
                          </a:lnTo>
                          <a:lnTo>
                            <a:pt x="654" y="2030"/>
                          </a:lnTo>
                          <a:lnTo>
                            <a:pt x="658" y="2024"/>
                          </a:lnTo>
                          <a:lnTo>
                            <a:pt x="660" y="2021"/>
                          </a:lnTo>
                          <a:lnTo>
                            <a:pt x="664" y="2015"/>
                          </a:lnTo>
                          <a:lnTo>
                            <a:pt x="666" y="2011"/>
                          </a:lnTo>
                          <a:lnTo>
                            <a:pt x="668" y="2005"/>
                          </a:lnTo>
                          <a:lnTo>
                            <a:pt x="672" y="2002"/>
                          </a:lnTo>
                          <a:lnTo>
                            <a:pt x="673" y="1998"/>
                          </a:lnTo>
                          <a:lnTo>
                            <a:pt x="675" y="1992"/>
                          </a:lnTo>
                          <a:lnTo>
                            <a:pt x="677" y="1986"/>
                          </a:lnTo>
                          <a:lnTo>
                            <a:pt x="679" y="1983"/>
                          </a:lnTo>
                          <a:lnTo>
                            <a:pt x="681" y="1979"/>
                          </a:lnTo>
                          <a:lnTo>
                            <a:pt x="683" y="1975"/>
                          </a:lnTo>
                          <a:lnTo>
                            <a:pt x="685" y="1971"/>
                          </a:lnTo>
                          <a:lnTo>
                            <a:pt x="687" y="1969"/>
                          </a:lnTo>
                          <a:lnTo>
                            <a:pt x="689" y="1964"/>
                          </a:lnTo>
                          <a:lnTo>
                            <a:pt x="691" y="1962"/>
                          </a:lnTo>
                          <a:lnTo>
                            <a:pt x="692" y="1958"/>
                          </a:lnTo>
                          <a:lnTo>
                            <a:pt x="692" y="1954"/>
                          </a:lnTo>
                          <a:lnTo>
                            <a:pt x="692" y="1952"/>
                          </a:lnTo>
                          <a:lnTo>
                            <a:pt x="694" y="1950"/>
                          </a:lnTo>
                          <a:lnTo>
                            <a:pt x="696" y="1945"/>
                          </a:lnTo>
                          <a:lnTo>
                            <a:pt x="698" y="1941"/>
                          </a:lnTo>
                          <a:lnTo>
                            <a:pt x="700" y="1937"/>
                          </a:lnTo>
                          <a:lnTo>
                            <a:pt x="700" y="1935"/>
                          </a:lnTo>
                          <a:lnTo>
                            <a:pt x="700" y="1933"/>
                          </a:lnTo>
                          <a:lnTo>
                            <a:pt x="702" y="1933"/>
                          </a:lnTo>
                          <a:lnTo>
                            <a:pt x="740" y="1943"/>
                          </a:lnTo>
                          <a:lnTo>
                            <a:pt x="740" y="1943"/>
                          </a:lnTo>
                          <a:lnTo>
                            <a:pt x="738" y="1945"/>
                          </a:lnTo>
                          <a:lnTo>
                            <a:pt x="738" y="1947"/>
                          </a:lnTo>
                          <a:lnTo>
                            <a:pt x="738" y="1950"/>
                          </a:lnTo>
                          <a:lnTo>
                            <a:pt x="738" y="1954"/>
                          </a:lnTo>
                          <a:lnTo>
                            <a:pt x="738" y="1958"/>
                          </a:lnTo>
                          <a:lnTo>
                            <a:pt x="736" y="1962"/>
                          </a:lnTo>
                          <a:lnTo>
                            <a:pt x="736" y="1964"/>
                          </a:lnTo>
                          <a:lnTo>
                            <a:pt x="736" y="1967"/>
                          </a:lnTo>
                          <a:lnTo>
                            <a:pt x="736" y="1971"/>
                          </a:lnTo>
                          <a:lnTo>
                            <a:pt x="736" y="1975"/>
                          </a:lnTo>
                          <a:lnTo>
                            <a:pt x="736" y="1979"/>
                          </a:lnTo>
                          <a:lnTo>
                            <a:pt x="736" y="1983"/>
                          </a:lnTo>
                          <a:lnTo>
                            <a:pt x="736" y="1985"/>
                          </a:lnTo>
                          <a:lnTo>
                            <a:pt x="736" y="1990"/>
                          </a:lnTo>
                          <a:lnTo>
                            <a:pt x="736" y="1994"/>
                          </a:lnTo>
                          <a:lnTo>
                            <a:pt x="736" y="1998"/>
                          </a:lnTo>
                          <a:lnTo>
                            <a:pt x="736" y="2004"/>
                          </a:lnTo>
                          <a:lnTo>
                            <a:pt x="736" y="2007"/>
                          </a:lnTo>
                          <a:lnTo>
                            <a:pt x="736" y="2013"/>
                          </a:lnTo>
                          <a:lnTo>
                            <a:pt x="736" y="2015"/>
                          </a:lnTo>
                          <a:lnTo>
                            <a:pt x="736" y="2021"/>
                          </a:lnTo>
                          <a:lnTo>
                            <a:pt x="736" y="2026"/>
                          </a:lnTo>
                          <a:lnTo>
                            <a:pt x="736" y="2030"/>
                          </a:lnTo>
                          <a:lnTo>
                            <a:pt x="736" y="2036"/>
                          </a:lnTo>
                          <a:lnTo>
                            <a:pt x="736" y="2042"/>
                          </a:lnTo>
                          <a:lnTo>
                            <a:pt x="736" y="2047"/>
                          </a:lnTo>
                          <a:lnTo>
                            <a:pt x="738" y="2051"/>
                          </a:lnTo>
                          <a:lnTo>
                            <a:pt x="738" y="2057"/>
                          </a:lnTo>
                          <a:lnTo>
                            <a:pt x="738" y="2062"/>
                          </a:lnTo>
                          <a:lnTo>
                            <a:pt x="740" y="2066"/>
                          </a:lnTo>
                          <a:lnTo>
                            <a:pt x="740" y="2072"/>
                          </a:lnTo>
                          <a:lnTo>
                            <a:pt x="742" y="2078"/>
                          </a:lnTo>
                          <a:lnTo>
                            <a:pt x="744" y="2083"/>
                          </a:lnTo>
                          <a:lnTo>
                            <a:pt x="744" y="2091"/>
                          </a:lnTo>
                          <a:lnTo>
                            <a:pt x="746" y="2095"/>
                          </a:lnTo>
                          <a:lnTo>
                            <a:pt x="748" y="2101"/>
                          </a:lnTo>
                          <a:lnTo>
                            <a:pt x="748" y="2106"/>
                          </a:lnTo>
                          <a:lnTo>
                            <a:pt x="751" y="2110"/>
                          </a:lnTo>
                          <a:lnTo>
                            <a:pt x="753" y="2118"/>
                          </a:lnTo>
                          <a:lnTo>
                            <a:pt x="753" y="2123"/>
                          </a:lnTo>
                          <a:lnTo>
                            <a:pt x="757" y="2129"/>
                          </a:lnTo>
                          <a:lnTo>
                            <a:pt x="759" y="2135"/>
                          </a:lnTo>
                          <a:lnTo>
                            <a:pt x="761" y="2139"/>
                          </a:lnTo>
                          <a:lnTo>
                            <a:pt x="765" y="2144"/>
                          </a:lnTo>
                          <a:lnTo>
                            <a:pt x="767" y="2150"/>
                          </a:lnTo>
                          <a:lnTo>
                            <a:pt x="769" y="2156"/>
                          </a:lnTo>
                          <a:lnTo>
                            <a:pt x="772" y="2159"/>
                          </a:lnTo>
                          <a:lnTo>
                            <a:pt x="776" y="2165"/>
                          </a:lnTo>
                          <a:lnTo>
                            <a:pt x="780" y="2171"/>
                          </a:lnTo>
                          <a:lnTo>
                            <a:pt x="782" y="2175"/>
                          </a:lnTo>
                          <a:lnTo>
                            <a:pt x="786" y="2180"/>
                          </a:lnTo>
                          <a:lnTo>
                            <a:pt x="789" y="2186"/>
                          </a:lnTo>
                          <a:lnTo>
                            <a:pt x="795" y="2190"/>
                          </a:lnTo>
                          <a:lnTo>
                            <a:pt x="799" y="2196"/>
                          </a:lnTo>
                          <a:lnTo>
                            <a:pt x="805" y="2201"/>
                          </a:lnTo>
                          <a:lnTo>
                            <a:pt x="808" y="2205"/>
                          </a:lnTo>
                          <a:lnTo>
                            <a:pt x="814" y="2209"/>
                          </a:lnTo>
                          <a:lnTo>
                            <a:pt x="818" y="2213"/>
                          </a:lnTo>
                          <a:lnTo>
                            <a:pt x="824" y="2216"/>
                          </a:lnTo>
                          <a:lnTo>
                            <a:pt x="828" y="2222"/>
                          </a:lnTo>
                          <a:lnTo>
                            <a:pt x="833" y="2224"/>
                          </a:lnTo>
                          <a:lnTo>
                            <a:pt x="839" y="2228"/>
                          </a:lnTo>
                          <a:lnTo>
                            <a:pt x="845" y="2232"/>
                          </a:lnTo>
                          <a:lnTo>
                            <a:pt x="848" y="2235"/>
                          </a:lnTo>
                          <a:lnTo>
                            <a:pt x="854" y="2239"/>
                          </a:lnTo>
                          <a:lnTo>
                            <a:pt x="858" y="2243"/>
                          </a:lnTo>
                          <a:lnTo>
                            <a:pt x="864" y="2245"/>
                          </a:lnTo>
                          <a:lnTo>
                            <a:pt x="867" y="2249"/>
                          </a:lnTo>
                          <a:lnTo>
                            <a:pt x="873" y="2253"/>
                          </a:lnTo>
                          <a:lnTo>
                            <a:pt x="877" y="2256"/>
                          </a:lnTo>
                          <a:lnTo>
                            <a:pt x="883" y="2258"/>
                          </a:lnTo>
                          <a:lnTo>
                            <a:pt x="890" y="2260"/>
                          </a:lnTo>
                          <a:lnTo>
                            <a:pt x="896" y="2264"/>
                          </a:lnTo>
                          <a:lnTo>
                            <a:pt x="900" y="2266"/>
                          </a:lnTo>
                          <a:lnTo>
                            <a:pt x="904" y="2268"/>
                          </a:lnTo>
                          <a:lnTo>
                            <a:pt x="907" y="2270"/>
                          </a:lnTo>
                          <a:lnTo>
                            <a:pt x="913" y="2273"/>
                          </a:lnTo>
                          <a:lnTo>
                            <a:pt x="919" y="2275"/>
                          </a:lnTo>
                          <a:lnTo>
                            <a:pt x="925" y="2277"/>
                          </a:lnTo>
                          <a:lnTo>
                            <a:pt x="928" y="2279"/>
                          </a:lnTo>
                          <a:lnTo>
                            <a:pt x="934" y="2281"/>
                          </a:lnTo>
                          <a:lnTo>
                            <a:pt x="938" y="2283"/>
                          </a:lnTo>
                          <a:lnTo>
                            <a:pt x="942" y="2285"/>
                          </a:lnTo>
                          <a:lnTo>
                            <a:pt x="947" y="2287"/>
                          </a:lnTo>
                          <a:lnTo>
                            <a:pt x="951" y="2289"/>
                          </a:lnTo>
                          <a:lnTo>
                            <a:pt x="955" y="2289"/>
                          </a:lnTo>
                          <a:lnTo>
                            <a:pt x="961" y="2291"/>
                          </a:lnTo>
                          <a:lnTo>
                            <a:pt x="964" y="2291"/>
                          </a:lnTo>
                          <a:lnTo>
                            <a:pt x="968" y="2294"/>
                          </a:lnTo>
                          <a:lnTo>
                            <a:pt x="972" y="2294"/>
                          </a:lnTo>
                          <a:lnTo>
                            <a:pt x="978" y="2294"/>
                          </a:lnTo>
                          <a:lnTo>
                            <a:pt x="982" y="2296"/>
                          </a:lnTo>
                          <a:lnTo>
                            <a:pt x="985" y="2296"/>
                          </a:lnTo>
                          <a:lnTo>
                            <a:pt x="989" y="2296"/>
                          </a:lnTo>
                          <a:lnTo>
                            <a:pt x="993" y="2298"/>
                          </a:lnTo>
                          <a:lnTo>
                            <a:pt x="997" y="2298"/>
                          </a:lnTo>
                          <a:lnTo>
                            <a:pt x="1001" y="2298"/>
                          </a:lnTo>
                          <a:lnTo>
                            <a:pt x="1004" y="2298"/>
                          </a:lnTo>
                          <a:lnTo>
                            <a:pt x="1008" y="2300"/>
                          </a:lnTo>
                          <a:lnTo>
                            <a:pt x="1010" y="2300"/>
                          </a:lnTo>
                          <a:lnTo>
                            <a:pt x="1014" y="2300"/>
                          </a:lnTo>
                          <a:lnTo>
                            <a:pt x="1016" y="2300"/>
                          </a:lnTo>
                          <a:lnTo>
                            <a:pt x="1020" y="2300"/>
                          </a:lnTo>
                          <a:lnTo>
                            <a:pt x="1022" y="2300"/>
                          </a:lnTo>
                          <a:lnTo>
                            <a:pt x="1025" y="2302"/>
                          </a:lnTo>
                          <a:lnTo>
                            <a:pt x="1029" y="2300"/>
                          </a:lnTo>
                          <a:lnTo>
                            <a:pt x="1035" y="2300"/>
                          </a:lnTo>
                          <a:lnTo>
                            <a:pt x="1039" y="2298"/>
                          </a:lnTo>
                          <a:lnTo>
                            <a:pt x="1042" y="2298"/>
                          </a:lnTo>
                          <a:lnTo>
                            <a:pt x="1044" y="2296"/>
                          </a:lnTo>
                          <a:lnTo>
                            <a:pt x="1048" y="2296"/>
                          </a:lnTo>
                          <a:lnTo>
                            <a:pt x="1048" y="2294"/>
                          </a:lnTo>
                          <a:lnTo>
                            <a:pt x="1050" y="2294"/>
                          </a:lnTo>
                          <a:lnTo>
                            <a:pt x="1246" y="1334"/>
                          </a:lnTo>
                          <a:lnTo>
                            <a:pt x="1246" y="1333"/>
                          </a:lnTo>
                          <a:lnTo>
                            <a:pt x="1248" y="1331"/>
                          </a:lnTo>
                          <a:lnTo>
                            <a:pt x="1250" y="1327"/>
                          </a:lnTo>
                          <a:lnTo>
                            <a:pt x="1252" y="1325"/>
                          </a:lnTo>
                          <a:lnTo>
                            <a:pt x="1252" y="1323"/>
                          </a:lnTo>
                          <a:lnTo>
                            <a:pt x="1254" y="1319"/>
                          </a:lnTo>
                          <a:lnTo>
                            <a:pt x="1256" y="1315"/>
                          </a:lnTo>
                          <a:lnTo>
                            <a:pt x="1259" y="1312"/>
                          </a:lnTo>
                          <a:lnTo>
                            <a:pt x="1259" y="1306"/>
                          </a:lnTo>
                          <a:lnTo>
                            <a:pt x="1263" y="1302"/>
                          </a:lnTo>
                          <a:lnTo>
                            <a:pt x="1265" y="1296"/>
                          </a:lnTo>
                          <a:lnTo>
                            <a:pt x="1269" y="1293"/>
                          </a:lnTo>
                          <a:lnTo>
                            <a:pt x="1271" y="1285"/>
                          </a:lnTo>
                          <a:lnTo>
                            <a:pt x="1275" y="1281"/>
                          </a:lnTo>
                          <a:lnTo>
                            <a:pt x="1276" y="1274"/>
                          </a:lnTo>
                          <a:lnTo>
                            <a:pt x="1280" y="1266"/>
                          </a:lnTo>
                          <a:lnTo>
                            <a:pt x="1284" y="1258"/>
                          </a:lnTo>
                          <a:lnTo>
                            <a:pt x="1288" y="1249"/>
                          </a:lnTo>
                          <a:lnTo>
                            <a:pt x="1290" y="1241"/>
                          </a:lnTo>
                          <a:lnTo>
                            <a:pt x="1294" y="1234"/>
                          </a:lnTo>
                          <a:lnTo>
                            <a:pt x="1297" y="1224"/>
                          </a:lnTo>
                          <a:lnTo>
                            <a:pt x="1301" y="1217"/>
                          </a:lnTo>
                          <a:lnTo>
                            <a:pt x="1305" y="1207"/>
                          </a:lnTo>
                          <a:lnTo>
                            <a:pt x="1309" y="1198"/>
                          </a:lnTo>
                          <a:lnTo>
                            <a:pt x="1313" y="1188"/>
                          </a:lnTo>
                          <a:lnTo>
                            <a:pt x="1316" y="1177"/>
                          </a:lnTo>
                          <a:lnTo>
                            <a:pt x="1320" y="1165"/>
                          </a:lnTo>
                          <a:lnTo>
                            <a:pt x="1324" y="1154"/>
                          </a:lnTo>
                          <a:lnTo>
                            <a:pt x="1330" y="1144"/>
                          </a:lnTo>
                          <a:lnTo>
                            <a:pt x="1334" y="1133"/>
                          </a:lnTo>
                          <a:lnTo>
                            <a:pt x="1337" y="1122"/>
                          </a:lnTo>
                          <a:lnTo>
                            <a:pt x="1339" y="1108"/>
                          </a:lnTo>
                          <a:lnTo>
                            <a:pt x="1345" y="1097"/>
                          </a:lnTo>
                          <a:lnTo>
                            <a:pt x="1349" y="1084"/>
                          </a:lnTo>
                          <a:lnTo>
                            <a:pt x="1353" y="1070"/>
                          </a:lnTo>
                          <a:lnTo>
                            <a:pt x="1354" y="1059"/>
                          </a:lnTo>
                          <a:lnTo>
                            <a:pt x="1358" y="1044"/>
                          </a:lnTo>
                          <a:lnTo>
                            <a:pt x="1362" y="1032"/>
                          </a:lnTo>
                          <a:lnTo>
                            <a:pt x="1366" y="1017"/>
                          </a:lnTo>
                          <a:lnTo>
                            <a:pt x="1370" y="1004"/>
                          </a:lnTo>
                          <a:lnTo>
                            <a:pt x="1372" y="988"/>
                          </a:lnTo>
                          <a:lnTo>
                            <a:pt x="1375" y="975"/>
                          </a:lnTo>
                          <a:lnTo>
                            <a:pt x="1377" y="960"/>
                          </a:lnTo>
                          <a:lnTo>
                            <a:pt x="1381" y="947"/>
                          </a:lnTo>
                          <a:lnTo>
                            <a:pt x="1383" y="931"/>
                          </a:lnTo>
                          <a:lnTo>
                            <a:pt x="1387" y="916"/>
                          </a:lnTo>
                          <a:lnTo>
                            <a:pt x="1389" y="901"/>
                          </a:lnTo>
                          <a:lnTo>
                            <a:pt x="1391" y="886"/>
                          </a:lnTo>
                          <a:lnTo>
                            <a:pt x="1392" y="871"/>
                          </a:lnTo>
                          <a:lnTo>
                            <a:pt x="1394" y="855"/>
                          </a:lnTo>
                          <a:lnTo>
                            <a:pt x="1396" y="838"/>
                          </a:lnTo>
                          <a:lnTo>
                            <a:pt x="1398" y="823"/>
                          </a:lnTo>
                          <a:lnTo>
                            <a:pt x="1398" y="806"/>
                          </a:lnTo>
                          <a:lnTo>
                            <a:pt x="1400" y="791"/>
                          </a:lnTo>
                          <a:lnTo>
                            <a:pt x="1402" y="774"/>
                          </a:lnTo>
                          <a:lnTo>
                            <a:pt x="1402" y="757"/>
                          </a:lnTo>
                          <a:lnTo>
                            <a:pt x="1402" y="741"/>
                          </a:lnTo>
                          <a:lnTo>
                            <a:pt x="1402" y="724"/>
                          </a:lnTo>
                          <a:lnTo>
                            <a:pt x="1402" y="705"/>
                          </a:lnTo>
                          <a:lnTo>
                            <a:pt x="1402" y="690"/>
                          </a:lnTo>
                          <a:lnTo>
                            <a:pt x="1400" y="673"/>
                          </a:lnTo>
                          <a:lnTo>
                            <a:pt x="1400" y="656"/>
                          </a:lnTo>
                          <a:lnTo>
                            <a:pt x="1398" y="654"/>
                          </a:lnTo>
                          <a:lnTo>
                            <a:pt x="1398" y="652"/>
                          </a:lnTo>
                          <a:lnTo>
                            <a:pt x="1398" y="648"/>
                          </a:lnTo>
                          <a:lnTo>
                            <a:pt x="1398" y="644"/>
                          </a:lnTo>
                          <a:lnTo>
                            <a:pt x="1398" y="643"/>
                          </a:lnTo>
                          <a:lnTo>
                            <a:pt x="1398" y="639"/>
                          </a:lnTo>
                          <a:lnTo>
                            <a:pt x="1396" y="637"/>
                          </a:lnTo>
                          <a:lnTo>
                            <a:pt x="1396" y="633"/>
                          </a:lnTo>
                          <a:lnTo>
                            <a:pt x="1396" y="631"/>
                          </a:lnTo>
                          <a:lnTo>
                            <a:pt x="1396" y="627"/>
                          </a:lnTo>
                          <a:lnTo>
                            <a:pt x="1396" y="623"/>
                          </a:lnTo>
                          <a:lnTo>
                            <a:pt x="1394" y="620"/>
                          </a:lnTo>
                          <a:lnTo>
                            <a:pt x="1394" y="618"/>
                          </a:lnTo>
                          <a:lnTo>
                            <a:pt x="1394" y="616"/>
                          </a:lnTo>
                          <a:lnTo>
                            <a:pt x="1392" y="612"/>
                          </a:lnTo>
                          <a:lnTo>
                            <a:pt x="1392" y="610"/>
                          </a:lnTo>
                          <a:lnTo>
                            <a:pt x="1392" y="608"/>
                          </a:lnTo>
                          <a:lnTo>
                            <a:pt x="1391" y="604"/>
                          </a:lnTo>
                          <a:lnTo>
                            <a:pt x="1391" y="603"/>
                          </a:lnTo>
                          <a:lnTo>
                            <a:pt x="1391" y="599"/>
                          </a:lnTo>
                          <a:lnTo>
                            <a:pt x="1389" y="597"/>
                          </a:lnTo>
                          <a:lnTo>
                            <a:pt x="1389" y="593"/>
                          </a:lnTo>
                          <a:lnTo>
                            <a:pt x="1389" y="589"/>
                          </a:lnTo>
                          <a:lnTo>
                            <a:pt x="1389" y="587"/>
                          </a:lnTo>
                          <a:lnTo>
                            <a:pt x="1387" y="585"/>
                          </a:lnTo>
                          <a:lnTo>
                            <a:pt x="1385" y="582"/>
                          </a:lnTo>
                          <a:lnTo>
                            <a:pt x="1385" y="580"/>
                          </a:lnTo>
                          <a:lnTo>
                            <a:pt x="1383" y="578"/>
                          </a:lnTo>
                          <a:lnTo>
                            <a:pt x="1383" y="572"/>
                          </a:lnTo>
                          <a:lnTo>
                            <a:pt x="1381" y="568"/>
                          </a:lnTo>
                          <a:lnTo>
                            <a:pt x="1377" y="563"/>
                          </a:lnTo>
                          <a:lnTo>
                            <a:pt x="1375" y="557"/>
                          </a:lnTo>
                          <a:lnTo>
                            <a:pt x="1373" y="553"/>
                          </a:lnTo>
                          <a:lnTo>
                            <a:pt x="1370" y="547"/>
                          </a:lnTo>
                          <a:lnTo>
                            <a:pt x="1366" y="544"/>
                          </a:lnTo>
                          <a:lnTo>
                            <a:pt x="1364" y="540"/>
                          </a:lnTo>
                          <a:lnTo>
                            <a:pt x="1360" y="536"/>
                          </a:lnTo>
                          <a:lnTo>
                            <a:pt x="1356" y="532"/>
                          </a:lnTo>
                          <a:lnTo>
                            <a:pt x="1353" y="528"/>
                          </a:lnTo>
                          <a:lnTo>
                            <a:pt x="1349" y="525"/>
                          </a:lnTo>
                          <a:lnTo>
                            <a:pt x="1345" y="523"/>
                          </a:lnTo>
                          <a:lnTo>
                            <a:pt x="1339" y="521"/>
                          </a:lnTo>
                          <a:lnTo>
                            <a:pt x="1335" y="517"/>
                          </a:lnTo>
                          <a:lnTo>
                            <a:pt x="1332" y="515"/>
                          </a:lnTo>
                          <a:lnTo>
                            <a:pt x="1326" y="515"/>
                          </a:lnTo>
                          <a:lnTo>
                            <a:pt x="1322" y="513"/>
                          </a:lnTo>
                          <a:lnTo>
                            <a:pt x="1318" y="511"/>
                          </a:lnTo>
                          <a:lnTo>
                            <a:pt x="1316" y="511"/>
                          </a:lnTo>
                          <a:lnTo>
                            <a:pt x="1313" y="511"/>
                          </a:lnTo>
                          <a:lnTo>
                            <a:pt x="1311" y="511"/>
                          </a:lnTo>
                          <a:lnTo>
                            <a:pt x="1309" y="509"/>
                          </a:lnTo>
                          <a:lnTo>
                            <a:pt x="1305" y="509"/>
                          </a:lnTo>
                          <a:lnTo>
                            <a:pt x="1303" y="509"/>
                          </a:lnTo>
                          <a:lnTo>
                            <a:pt x="1301" y="509"/>
                          </a:lnTo>
                          <a:lnTo>
                            <a:pt x="1297" y="509"/>
                          </a:lnTo>
                          <a:lnTo>
                            <a:pt x="1295" y="509"/>
                          </a:lnTo>
                          <a:lnTo>
                            <a:pt x="1292" y="509"/>
                          </a:lnTo>
                          <a:lnTo>
                            <a:pt x="1290" y="509"/>
                          </a:lnTo>
                          <a:lnTo>
                            <a:pt x="1284" y="509"/>
                          </a:lnTo>
                          <a:lnTo>
                            <a:pt x="1280" y="509"/>
                          </a:lnTo>
                          <a:lnTo>
                            <a:pt x="1275" y="509"/>
                          </a:lnTo>
                          <a:lnTo>
                            <a:pt x="1269" y="509"/>
                          </a:lnTo>
                          <a:lnTo>
                            <a:pt x="1265" y="509"/>
                          </a:lnTo>
                          <a:lnTo>
                            <a:pt x="1259" y="509"/>
                          </a:lnTo>
                          <a:lnTo>
                            <a:pt x="1256" y="511"/>
                          </a:lnTo>
                          <a:lnTo>
                            <a:pt x="1252" y="511"/>
                          </a:lnTo>
                          <a:lnTo>
                            <a:pt x="1246" y="515"/>
                          </a:lnTo>
                          <a:lnTo>
                            <a:pt x="1242" y="515"/>
                          </a:lnTo>
                          <a:lnTo>
                            <a:pt x="1238" y="517"/>
                          </a:lnTo>
                          <a:lnTo>
                            <a:pt x="1235" y="521"/>
                          </a:lnTo>
                          <a:lnTo>
                            <a:pt x="1231" y="523"/>
                          </a:lnTo>
                          <a:lnTo>
                            <a:pt x="1229" y="525"/>
                          </a:lnTo>
                          <a:lnTo>
                            <a:pt x="1225" y="527"/>
                          </a:lnTo>
                          <a:lnTo>
                            <a:pt x="1221" y="530"/>
                          </a:lnTo>
                          <a:lnTo>
                            <a:pt x="1219" y="532"/>
                          </a:lnTo>
                          <a:lnTo>
                            <a:pt x="1216" y="538"/>
                          </a:lnTo>
                          <a:lnTo>
                            <a:pt x="1214" y="542"/>
                          </a:lnTo>
                          <a:lnTo>
                            <a:pt x="1212" y="546"/>
                          </a:lnTo>
                          <a:lnTo>
                            <a:pt x="1210" y="549"/>
                          </a:lnTo>
                          <a:lnTo>
                            <a:pt x="1208" y="555"/>
                          </a:lnTo>
                          <a:lnTo>
                            <a:pt x="1208" y="557"/>
                          </a:lnTo>
                          <a:lnTo>
                            <a:pt x="1206" y="559"/>
                          </a:lnTo>
                          <a:lnTo>
                            <a:pt x="1204" y="561"/>
                          </a:lnTo>
                          <a:lnTo>
                            <a:pt x="1204" y="565"/>
                          </a:lnTo>
                          <a:lnTo>
                            <a:pt x="1204" y="566"/>
                          </a:lnTo>
                          <a:lnTo>
                            <a:pt x="1204" y="570"/>
                          </a:lnTo>
                          <a:lnTo>
                            <a:pt x="1204" y="572"/>
                          </a:lnTo>
                          <a:lnTo>
                            <a:pt x="1204" y="576"/>
                          </a:lnTo>
                          <a:lnTo>
                            <a:pt x="1139" y="895"/>
                          </a:lnTo>
                          <a:lnTo>
                            <a:pt x="1136" y="893"/>
                          </a:lnTo>
                          <a:lnTo>
                            <a:pt x="1132" y="892"/>
                          </a:lnTo>
                          <a:lnTo>
                            <a:pt x="1126" y="888"/>
                          </a:lnTo>
                          <a:lnTo>
                            <a:pt x="1122" y="886"/>
                          </a:lnTo>
                          <a:lnTo>
                            <a:pt x="1117" y="884"/>
                          </a:lnTo>
                          <a:lnTo>
                            <a:pt x="1113" y="880"/>
                          </a:lnTo>
                          <a:lnTo>
                            <a:pt x="1107" y="878"/>
                          </a:lnTo>
                          <a:lnTo>
                            <a:pt x="1105" y="876"/>
                          </a:lnTo>
                          <a:lnTo>
                            <a:pt x="1227" y="316"/>
                          </a:lnTo>
                          <a:lnTo>
                            <a:pt x="1227" y="312"/>
                          </a:lnTo>
                          <a:lnTo>
                            <a:pt x="1227" y="308"/>
                          </a:lnTo>
                          <a:lnTo>
                            <a:pt x="1229" y="306"/>
                          </a:lnTo>
                          <a:lnTo>
                            <a:pt x="1229" y="304"/>
                          </a:lnTo>
                          <a:lnTo>
                            <a:pt x="1229" y="300"/>
                          </a:lnTo>
                          <a:lnTo>
                            <a:pt x="1229" y="298"/>
                          </a:lnTo>
                          <a:lnTo>
                            <a:pt x="1229" y="295"/>
                          </a:lnTo>
                          <a:lnTo>
                            <a:pt x="1229" y="293"/>
                          </a:lnTo>
                          <a:lnTo>
                            <a:pt x="1229" y="291"/>
                          </a:lnTo>
                          <a:lnTo>
                            <a:pt x="1229" y="287"/>
                          </a:lnTo>
                          <a:lnTo>
                            <a:pt x="1229" y="285"/>
                          </a:lnTo>
                          <a:lnTo>
                            <a:pt x="1229" y="283"/>
                          </a:lnTo>
                          <a:lnTo>
                            <a:pt x="1229" y="278"/>
                          </a:lnTo>
                          <a:lnTo>
                            <a:pt x="1227" y="272"/>
                          </a:lnTo>
                          <a:lnTo>
                            <a:pt x="1225" y="268"/>
                          </a:lnTo>
                          <a:lnTo>
                            <a:pt x="1225" y="262"/>
                          </a:lnTo>
                          <a:lnTo>
                            <a:pt x="1223" y="257"/>
                          </a:lnTo>
                          <a:lnTo>
                            <a:pt x="1221" y="253"/>
                          </a:lnTo>
                          <a:lnTo>
                            <a:pt x="1219" y="247"/>
                          </a:lnTo>
                          <a:lnTo>
                            <a:pt x="1217" y="243"/>
                          </a:lnTo>
                          <a:lnTo>
                            <a:pt x="1216" y="240"/>
                          </a:lnTo>
                          <a:lnTo>
                            <a:pt x="1214" y="236"/>
                          </a:lnTo>
                          <a:lnTo>
                            <a:pt x="1210" y="232"/>
                          </a:lnTo>
                          <a:lnTo>
                            <a:pt x="1206" y="226"/>
                          </a:lnTo>
                          <a:lnTo>
                            <a:pt x="1202" y="222"/>
                          </a:lnTo>
                          <a:lnTo>
                            <a:pt x="1200" y="219"/>
                          </a:lnTo>
                          <a:lnTo>
                            <a:pt x="1197" y="215"/>
                          </a:lnTo>
                          <a:lnTo>
                            <a:pt x="1193" y="211"/>
                          </a:lnTo>
                          <a:lnTo>
                            <a:pt x="1189" y="207"/>
                          </a:lnTo>
                          <a:lnTo>
                            <a:pt x="1185" y="205"/>
                          </a:lnTo>
                          <a:lnTo>
                            <a:pt x="1179" y="203"/>
                          </a:lnTo>
                          <a:lnTo>
                            <a:pt x="1176" y="200"/>
                          </a:lnTo>
                          <a:lnTo>
                            <a:pt x="1172" y="198"/>
                          </a:lnTo>
                          <a:lnTo>
                            <a:pt x="1166" y="194"/>
                          </a:lnTo>
                          <a:lnTo>
                            <a:pt x="1160" y="192"/>
                          </a:lnTo>
                          <a:lnTo>
                            <a:pt x="1157" y="192"/>
                          </a:lnTo>
                          <a:lnTo>
                            <a:pt x="1151" y="190"/>
                          </a:lnTo>
                          <a:lnTo>
                            <a:pt x="1147" y="190"/>
                          </a:lnTo>
                          <a:lnTo>
                            <a:pt x="1143" y="188"/>
                          </a:lnTo>
                          <a:lnTo>
                            <a:pt x="1141" y="186"/>
                          </a:lnTo>
                          <a:lnTo>
                            <a:pt x="1138" y="186"/>
                          </a:lnTo>
                          <a:lnTo>
                            <a:pt x="1136" y="186"/>
                          </a:lnTo>
                          <a:lnTo>
                            <a:pt x="1134" y="186"/>
                          </a:lnTo>
                          <a:lnTo>
                            <a:pt x="1130" y="186"/>
                          </a:lnTo>
                          <a:lnTo>
                            <a:pt x="1128" y="186"/>
                          </a:lnTo>
                          <a:lnTo>
                            <a:pt x="1124" y="186"/>
                          </a:lnTo>
                          <a:lnTo>
                            <a:pt x="1122" y="186"/>
                          </a:lnTo>
                          <a:lnTo>
                            <a:pt x="1120" y="186"/>
                          </a:lnTo>
                          <a:lnTo>
                            <a:pt x="1117" y="186"/>
                          </a:lnTo>
                          <a:lnTo>
                            <a:pt x="1115" y="186"/>
                          </a:lnTo>
                          <a:lnTo>
                            <a:pt x="1109" y="186"/>
                          </a:lnTo>
                          <a:lnTo>
                            <a:pt x="1105" y="188"/>
                          </a:lnTo>
                          <a:lnTo>
                            <a:pt x="1100" y="188"/>
                          </a:lnTo>
                          <a:lnTo>
                            <a:pt x="1094" y="190"/>
                          </a:lnTo>
                          <a:lnTo>
                            <a:pt x="1090" y="192"/>
                          </a:lnTo>
                          <a:lnTo>
                            <a:pt x="1086" y="192"/>
                          </a:lnTo>
                          <a:lnTo>
                            <a:pt x="1081" y="194"/>
                          </a:lnTo>
                          <a:lnTo>
                            <a:pt x="1077" y="198"/>
                          </a:lnTo>
                          <a:lnTo>
                            <a:pt x="1073" y="200"/>
                          </a:lnTo>
                          <a:lnTo>
                            <a:pt x="1067" y="203"/>
                          </a:lnTo>
                          <a:lnTo>
                            <a:pt x="1063" y="205"/>
                          </a:lnTo>
                          <a:lnTo>
                            <a:pt x="1058" y="207"/>
                          </a:lnTo>
                          <a:lnTo>
                            <a:pt x="1054" y="211"/>
                          </a:lnTo>
                          <a:lnTo>
                            <a:pt x="1050" y="215"/>
                          </a:lnTo>
                          <a:lnTo>
                            <a:pt x="1048" y="219"/>
                          </a:lnTo>
                          <a:lnTo>
                            <a:pt x="1044" y="222"/>
                          </a:lnTo>
                          <a:lnTo>
                            <a:pt x="1041" y="226"/>
                          </a:lnTo>
                          <a:lnTo>
                            <a:pt x="1039" y="232"/>
                          </a:lnTo>
                          <a:lnTo>
                            <a:pt x="1035" y="234"/>
                          </a:lnTo>
                          <a:lnTo>
                            <a:pt x="1033" y="240"/>
                          </a:lnTo>
                          <a:lnTo>
                            <a:pt x="1029" y="243"/>
                          </a:lnTo>
                          <a:lnTo>
                            <a:pt x="1027" y="249"/>
                          </a:lnTo>
                          <a:lnTo>
                            <a:pt x="1025" y="253"/>
                          </a:lnTo>
                          <a:lnTo>
                            <a:pt x="1023" y="259"/>
                          </a:lnTo>
                          <a:lnTo>
                            <a:pt x="1022" y="260"/>
                          </a:lnTo>
                          <a:lnTo>
                            <a:pt x="1022" y="264"/>
                          </a:lnTo>
                          <a:lnTo>
                            <a:pt x="1022" y="266"/>
                          </a:lnTo>
                          <a:lnTo>
                            <a:pt x="1022" y="270"/>
                          </a:lnTo>
                          <a:lnTo>
                            <a:pt x="919" y="730"/>
                          </a:lnTo>
                          <a:lnTo>
                            <a:pt x="915" y="728"/>
                          </a:lnTo>
                          <a:lnTo>
                            <a:pt x="913" y="726"/>
                          </a:lnTo>
                          <a:lnTo>
                            <a:pt x="907" y="724"/>
                          </a:lnTo>
                          <a:lnTo>
                            <a:pt x="905" y="720"/>
                          </a:lnTo>
                          <a:lnTo>
                            <a:pt x="904" y="719"/>
                          </a:lnTo>
                          <a:lnTo>
                            <a:pt x="900" y="717"/>
                          </a:lnTo>
                          <a:lnTo>
                            <a:pt x="896" y="713"/>
                          </a:lnTo>
                          <a:lnTo>
                            <a:pt x="892" y="713"/>
                          </a:lnTo>
                          <a:lnTo>
                            <a:pt x="1022" y="129"/>
                          </a:lnTo>
                          <a:lnTo>
                            <a:pt x="1022" y="125"/>
                          </a:lnTo>
                          <a:lnTo>
                            <a:pt x="1022" y="124"/>
                          </a:lnTo>
                          <a:lnTo>
                            <a:pt x="1022" y="120"/>
                          </a:lnTo>
                          <a:lnTo>
                            <a:pt x="1022" y="118"/>
                          </a:lnTo>
                          <a:lnTo>
                            <a:pt x="1022" y="114"/>
                          </a:lnTo>
                          <a:lnTo>
                            <a:pt x="1022" y="112"/>
                          </a:lnTo>
                          <a:lnTo>
                            <a:pt x="1022" y="110"/>
                          </a:lnTo>
                          <a:lnTo>
                            <a:pt x="1022" y="106"/>
                          </a:lnTo>
                          <a:lnTo>
                            <a:pt x="1022" y="105"/>
                          </a:lnTo>
                          <a:lnTo>
                            <a:pt x="1022" y="103"/>
                          </a:lnTo>
                          <a:lnTo>
                            <a:pt x="1022" y="99"/>
                          </a:lnTo>
                          <a:lnTo>
                            <a:pt x="1022" y="97"/>
                          </a:lnTo>
                          <a:lnTo>
                            <a:pt x="1022" y="91"/>
                          </a:lnTo>
                          <a:lnTo>
                            <a:pt x="1022" y="86"/>
                          </a:lnTo>
                          <a:lnTo>
                            <a:pt x="1020" y="82"/>
                          </a:lnTo>
                          <a:lnTo>
                            <a:pt x="1018" y="76"/>
                          </a:lnTo>
                          <a:lnTo>
                            <a:pt x="1016" y="70"/>
                          </a:lnTo>
                          <a:lnTo>
                            <a:pt x="1014" y="67"/>
                          </a:lnTo>
                          <a:lnTo>
                            <a:pt x="1012" y="61"/>
                          </a:lnTo>
                          <a:lnTo>
                            <a:pt x="1010" y="57"/>
                          </a:lnTo>
                          <a:lnTo>
                            <a:pt x="1008" y="53"/>
                          </a:lnTo>
                          <a:lnTo>
                            <a:pt x="1006" y="48"/>
                          </a:lnTo>
                          <a:lnTo>
                            <a:pt x="1004" y="44"/>
                          </a:lnTo>
                          <a:lnTo>
                            <a:pt x="1001" y="40"/>
                          </a:lnTo>
                          <a:lnTo>
                            <a:pt x="997" y="36"/>
                          </a:lnTo>
                          <a:lnTo>
                            <a:pt x="993" y="32"/>
                          </a:lnTo>
                          <a:lnTo>
                            <a:pt x="991" y="29"/>
                          </a:lnTo>
                          <a:lnTo>
                            <a:pt x="985" y="25"/>
                          </a:lnTo>
                          <a:lnTo>
                            <a:pt x="983" y="23"/>
                          </a:lnTo>
                          <a:lnTo>
                            <a:pt x="978" y="19"/>
                          </a:lnTo>
                          <a:lnTo>
                            <a:pt x="972" y="17"/>
                          </a:lnTo>
                          <a:lnTo>
                            <a:pt x="968" y="13"/>
                          </a:lnTo>
                          <a:lnTo>
                            <a:pt x="964" y="11"/>
                          </a:lnTo>
                          <a:lnTo>
                            <a:pt x="961" y="10"/>
                          </a:lnTo>
                          <a:lnTo>
                            <a:pt x="955" y="6"/>
                          </a:lnTo>
                          <a:lnTo>
                            <a:pt x="949" y="6"/>
                          </a:lnTo>
                          <a:lnTo>
                            <a:pt x="944" y="4"/>
                          </a:lnTo>
                          <a:lnTo>
                            <a:pt x="940" y="4"/>
                          </a:lnTo>
                          <a:lnTo>
                            <a:pt x="936" y="2"/>
                          </a:lnTo>
                          <a:lnTo>
                            <a:pt x="934" y="2"/>
                          </a:lnTo>
                          <a:lnTo>
                            <a:pt x="932" y="0"/>
                          </a:lnTo>
                          <a:lnTo>
                            <a:pt x="928" y="0"/>
                          </a:lnTo>
                          <a:lnTo>
                            <a:pt x="926" y="0"/>
                          </a:lnTo>
                          <a:lnTo>
                            <a:pt x="925" y="0"/>
                          </a:lnTo>
                          <a:lnTo>
                            <a:pt x="921" y="0"/>
                          </a:lnTo>
                          <a:lnTo>
                            <a:pt x="919" y="0"/>
                          </a:lnTo>
                          <a:lnTo>
                            <a:pt x="915" y="0"/>
                          </a:lnTo>
                          <a:lnTo>
                            <a:pt x="913" y="0"/>
                          </a:lnTo>
                          <a:lnTo>
                            <a:pt x="911" y="0"/>
                          </a:lnTo>
                          <a:lnTo>
                            <a:pt x="907" y="0"/>
                          </a:lnTo>
                          <a:lnTo>
                            <a:pt x="904" y="0"/>
                          </a:lnTo>
                          <a:lnTo>
                            <a:pt x="898" y="2"/>
                          </a:lnTo>
                          <a:lnTo>
                            <a:pt x="896" y="2"/>
                          </a:lnTo>
                          <a:lnTo>
                            <a:pt x="892" y="2"/>
                          </a:lnTo>
                          <a:lnTo>
                            <a:pt x="890" y="2"/>
                          </a:lnTo>
                          <a:lnTo>
                            <a:pt x="888" y="4"/>
                          </a:lnTo>
                          <a:lnTo>
                            <a:pt x="881" y="4"/>
                          </a:lnTo>
                          <a:lnTo>
                            <a:pt x="877" y="6"/>
                          </a:lnTo>
                          <a:lnTo>
                            <a:pt x="873" y="10"/>
                          </a:lnTo>
                          <a:lnTo>
                            <a:pt x="867" y="11"/>
                          </a:lnTo>
                          <a:lnTo>
                            <a:pt x="864" y="15"/>
                          </a:lnTo>
                          <a:lnTo>
                            <a:pt x="860" y="17"/>
                          </a:lnTo>
                          <a:lnTo>
                            <a:pt x="854" y="19"/>
                          </a:lnTo>
                          <a:lnTo>
                            <a:pt x="850" y="23"/>
                          </a:lnTo>
                          <a:lnTo>
                            <a:pt x="847" y="25"/>
                          </a:lnTo>
                          <a:lnTo>
                            <a:pt x="843" y="29"/>
                          </a:lnTo>
                          <a:lnTo>
                            <a:pt x="839" y="32"/>
                          </a:lnTo>
                          <a:lnTo>
                            <a:pt x="835" y="36"/>
                          </a:lnTo>
                          <a:lnTo>
                            <a:pt x="833" y="40"/>
                          </a:lnTo>
                          <a:lnTo>
                            <a:pt x="831" y="44"/>
                          </a:lnTo>
                          <a:lnTo>
                            <a:pt x="828" y="48"/>
                          </a:lnTo>
                          <a:lnTo>
                            <a:pt x="824" y="53"/>
                          </a:lnTo>
                          <a:lnTo>
                            <a:pt x="822" y="57"/>
                          </a:lnTo>
                          <a:lnTo>
                            <a:pt x="820" y="61"/>
                          </a:lnTo>
                          <a:lnTo>
                            <a:pt x="818" y="67"/>
                          </a:lnTo>
                          <a:lnTo>
                            <a:pt x="816" y="70"/>
                          </a:lnTo>
                          <a:lnTo>
                            <a:pt x="816" y="74"/>
                          </a:lnTo>
                          <a:lnTo>
                            <a:pt x="814" y="76"/>
                          </a:lnTo>
                          <a:lnTo>
                            <a:pt x="812" y="82"/>
                          </a:lnTo>
                          <a:lnTo>
                            <a:pt x="812" y="84"/>
                          </a:lnTo>
                          <a:lnTo>
                            <a:pt x="687" y="663"/>
                          </a:lnTo>
                          <a:lnTo>
                            <a:pt x="681" y="663"/>
                          </a:lnTo>
                          <a:lnTo>
                            <a:pt x="677" y="663"/>
                          </a:lnTo>
                          <a:lnTo>
                            <a:pt x="673" y="663"/>
                          </a:lnTo>
                          <a:lnTo>
                            <a:pt x="670" y="663"/>
                          </a:lnTo>
                          <a:lnTo>
                            <a:pt x="666" y="663"/>
                          </a:lnTo>
                          <a:lnTo>
                            <a:pt x="660" y="665"/>
                          </a:lnTo>
                          <a:lnTo>
                            <a:pt x="656" y="665"/>
                          </a:lnTo>
                          <a:lnTo>
                            <a:pt x="652" y="667"/>
                          </a:lnTo>
                          <a:lnTo>
                            <a:pt x="753" y="213"/>
                          </a:lnTo>
                          <a:lnTo>
                            <a:pt x="753" y="209"/>
                          </a:lnTo>
                          <a:lnTo>
                            <a:pt x="753" y="207"/>
                          </a:lnTo>
                          <a:lnTo>
                            <a:pt x="753" y="203"/>
                          </a:lnTo>
                          <a:lnTo>
                            <a:pt x="753" y="201"/>
                          </a:lnTo>
                          <a:lnTo>
                            <a:pt x="753" y="198"/>
                          </a:lnTo>
                          <a:lnTo>
                            <a:pt x="753" y="196"/>
                          </a:lnTo>
                          <a:lnTo>
                            <a:pt x="753" y="192"/>
                          </a:lnTo>
                          <a:lnTo>
                            <a:pt x="753" y="190"/>
                          </a:lnTo>
                          <a:lnTo>
                            <a:pt x="753" y="188"/>
                          </a:lnTo>
                          <a:lnTo>
                            <a:pt x="753" y="184"/>
                          </a:lnTo>
                          <a:lnTo>
                            <a:pt x="753" y="182"/>
                          </a:lnTo>
                          <a:lnTo>
                            <a:pt x="753" y="181"/>
                          </a:lnTo>
                          <a:lnTo>
                            <a:pt x="753" y="175"/>
                          </a:lnTo>
                          <a:lnTo>
                            <a:pt x="753" y="169"/>
                          </a:lnTo>
                          <a:lnTo>
                            <a:pt x="751" y="167"/>
                          </a:lnTo>
                          <a:lnTo>
                            <a:pt x="751" y="163"/>
                          </a:lnTo>
                          <a:lnTo>
                            <a:pt x="751" y="162"/>
                          </a:lnTo>
                          <a:lnTo>
                            <a:pt x="750" y="160"/>
                          </a:lnTo>
                          <a:lnTo>
                            <a:pt x="748" y="154"/>
                          </a:lnTo>
                          <a:lnTo>
                            <a:pt x="746" y="148"/>
                          </a:lnTo>
                          <a:lnTo>
                            <a:pt x="744" y="144"/>
                          </a:lnTo>
                          <a:lnTo>
                            <a:pt x="742" y="141"/>
                          </a:lnTo>
                          <a:lnTo>
                            <a:pt x="740" y="135"/>
                          </a:lnTo>
                          <a:lnTo>
                            <a:pt x="738" y="131"/>
                          </a:lnTo>
                          <a:lnTo>
                            <a:pt x="734" y="127"/>
                          </a:lnTo>
                          <a:lnTo>
                            <a:pt x="730" y="124"/>
                          </a:lnTo>
                          <a:lnTo>
                            <a:pt x="727" y="120"/>
                          </a:lnTo>
                          <a:lnTo>
                            <a:pt x="725" y="116"/>
                          </a:lnTo>
                          <a:lnTo>
                            <a:pt x="721" y="112"/>
                          </a:lnTo>
                          <a:lnTo>
                            <a:pt x="717" y="108"/>
                          </a:lnTo>
                          <a:lnTo>
                            <a:pt x="713" y="105"/>
                          </a:lnTo>
                          <a:lnTo>
                            <a:pt x="710" y="103"/>
                          </a:lnTo>
                          <a:lnTo>
                            <a:pt x="704" y="99"/>
                          </a:lnTo>
                          <a:lnTo>
                            <a:pt x="700" y="97"/>
                          </a:lnTo>
                          <a:lnTo>
                            <a:pt x="694" y="95"/>
                          </a:lnTo>
                          <a:lnTo>
                            <a:pt x="691" y="91"/>
                          </a:lnTo>
                          <a:lnTo>
                            <a:pt x="685" y="89"/>
                          </a:lnTo>
                          <a:lnTo>
                            <a:pt x="681" y="87"/>
                          </a:lnTo>
                          <a:lnTo>
                            <a:pt x="675" y="86"/>
                          </a:lnTo>
                          <a:lnTo>
                            <a:pt x="672" y="86"/>
                          </a:lnTo>
                          <a:lnTo>
                            <a:pt x="668" y="84"/>
                          </a:lnTo>
                          <a:lnTo>
                            <a:pt x="666" y="84"/>
                          </a:lnTo>
                          <a:lnTo>
                            <a:pt x="664" y="84"/>
                          </a:lnTo>
                          <a:lnTo>
                            <a:pt x="660" y="84"/>
                          </a:lnTo>
                          <a:lnTo>
                            <a:pt x="658" y="84"/>
                          </a:lnTo>
                          <a:lnTo>
                            <a:pt x="654" y="84"/>
                          </a:lnTo>
                          <a:lnTo>
                            <a:pt x="652" y="84"/>
                          </a:lnTo>
                          <a:lnTo>
                            <a:pt x="651" y="84"/>
                          </a:lnTo>
                          <a:lnTo>
                            <a:pt x="647" y="84"/>
                          </a:lnTo>
                          <a:lnTo>
                            <a:pt x="645" y="84"/>
                          </a:lnTo>
                          <a:lnTo>
                            <a:pt x="643" y="84"/>
                          </a:lnTo>
                          <a:lnTo>
                            <a:pt x="639" y="84"/>
                          </a:lnTo>
                          <a:lnTo>
                            <a:pt x="635" y="84"/>
                          </a:lnTo>
                          <a:lnTo>
                            <a:pt x="630" y="84"/>
                          </a:lnTo>
                          <a:lnTo>
                            <a:pt x="628" y="84"/>
                          </a:lnTo>
                          <a:lnTo>
                            <a:pt x="624" y="86"/>
                          </a:lnTo>
                          <a:lnTo>
                            <a:pt x="622" y="86"/>
                          </a:lnTo>
                          <a:lnTo>
                            <a:pt x="618" y="86"/>
                          </a:lnTo>
                          <a:lnTo>
                            <a:pt x="614" y="87"/>
                          </a:lnTo>
                          <a:lnTo>
                            <a:pt x="609" y="89"/>
                          </a:lnTo>
                          <a:lnTo>
                            <a:pt x="603" y="91"/>
                          </a:lnTo>
                          <a:lnTo>
                            <a:pt x="599" y="95"/>
                          </a:lnTo>
                          <a:lnTo>
                            <a:pt x="595" y="97"/>
                          </a:lnTo>
                          <a:lnTo>
                            <a:pt x="592" y="99"/>
                          </a:lnTo>
                          <a:lnTo>
                            <a:pt x="586" y="103"/>
                          </a:lnTo>
                          <a:lnTo>
                            <a:pt x="582" y="105"/>
                          </a:lnTo>
                          <a:lnTo>
                            <a:pt x="578" y="108"/>
                          </a:lnTo>
                          <a:lnTo>
                            <a:pt x="574" y="112"/>
                          </a:lnTo>
                          <a:lnTo>
                            <a:pt x="571" y="116"/>
                          </a:lnTo>
                          <a:lnTo>
                            <a:pt x="567" y="120"/>
                          </a:lnTo>
                          <a:lnTo>
                            <a:pt x="565" y="124"/>
                          </a:lnTo>
                          <a:lnTo>
                            <a:pt x="563" y="127"/>
                          </a:lnTo>
                          <a:lnTo>
                            <a:pt x="559" y="131"/>
                          </a:lnTo>
                          <a:lnTo>
                            <a:pt x="555" y="135"/>
                          </a:lnTo>
                          <a:lnTo>
                            <a:pt x="554" y="141"/>
                          </a:lnTo>
                          <a:lnTo>
                            <a:pt x="552" y="146"/>
                          </a:lnTo>
                          <a:lnTo>
                            <a:pt x="550" y="150"/>
                          </a:lnTo>
                          <a:lnTo>
                            <a:pt x="548" y="156"/>
                          </a:lnTo>
                          <a:lnTo>
                            <a:pt x="546" y="158"/>
                          </a:lnTo>
                          <a:lnTo>
                            <a:pt x="546" y="160"/>
                          </a:lnTo>
                          <a:lnTo>
                            <a:pt x="544" y="163"/>
                          </a:lnTo>
                          <a:lnTo>
                            <a:pt x="544" y="167"/>
                          </a:lnTo>
                          <a:lnTo>
                            <a:pt x="361" y="1127"/>
                          </a:lnTo>
                          <a:lnTo>
                            <a:pt x="361" y="1127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14" name="AutoShape 22"/>
                  <p:cNvSpPr/>
                  <p:nvPr/>
                </p:nvSpPr>
                <p:spPr>
                  <a:xfrm rot="9395400">
                    <a:off x="4411080" y="1979280"/>
                    <a:ext cx="88560" cy="75960"/>
                  </a:xfrm>
                  <a:prstGeom prst="hexagon">
                    <a:avLst>
                      <a:gd name="adj" fmla="val 29147"/>
                      <a:gd name="vf" fmla="val 115470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15" name="Group 23"/>
                <p:cNvGrpSpPr/>
                <p:nvPr/>
              </p:nvGrpSpPr>
              <p:grpSpPr>
                <a:xfrm>
                  <a:off x="4541040" y="2422080"/>
                  <a:ext cx="650520" cy="1216800"/>
                  <a:chOff x="4541040" y="2422080"/>
                  <a:chExt cx="650520" cy="1216800"/>
                </a:xfrm>
              </p:grpSpPr>
              <p:grpSp>
                <p:nvGrpSpPr>
                  <p:cNvPr id="2616" name="Group 24"/>
                  <p:cNvGrpSpPr/>
                  <p:nvPr/>
                </p:nvGrpSpPr>
                <p:grpSpPr>
                  <a:xfrm>
                    <a:off x="4541040" y="2422080"/>
                    <a:ext cx="401040" cy="636840"/>
                    <a:chOff x="4541040" y="2422080"/>
                    <a:chExt cx="401040" cy="636840"/>
                  </a:xfrm>
                </p:grpSpPr>
                <p:sp>
                  <p:nvSpPr>
                    <p:cNvPr id="2617" name="AutoShape 25"/>
                    <p:cNvSpPr/>
                    <p:nvPr/>
                  </p:nvSpPr>
                  <p:spPr>
                    <a:xfrm rot="20368200">
                      <a:off x="4681800" y="2551320"/>
                      <a:ext cx="179640" cy="49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18000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8" name="AutoShape 26"/>
                    <p:cNvSpPr/>
                    <p:nvPr/>
                  </p:nvSpPr>
                  <p:spPr>
                    <a:xfrm rot="4346400">
                      <a:off x="4586400" y="2430720"/>
                      <a:ext cx="19188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9" name="Group 27"/>
                  <p:cNvGrpSpPr/>
                  <p:nvPr/>
                </p:nvGrpSpPr>
                <p:grpSpPr>
                  <a:xfrm>
                    <a:off x="4745880" y="2913120"/>
                    <a:ext cx="445680" cy="725760"/>
                    <a:chOff x="4745880" y="2913120"/>
                    <a:chExt cx="445680" cy="725760"/>
                  </a:xfrm>
                </p:grpSpPr>
                <p:sp>
                  <p:nvSpPr>
                    <p:cNvPr id="2620" name="AutoShape 28"/>
                    <p:cNvSpPr/>
                    <p:nvPr/>
                  </p:nvSpPr>
                  <p:spPr>
                    <a:xfrm rot="20383200">
                      <a:off x="4838040" y="3037320"/>
                      <a:ext cx="180360" cy="36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4308" y="21600"/>
                          </a:lnTo>
                          <a:lnTo>
                            <a:pt x="17292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54000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1" name="Oval 29"/>
                    <p:cNvSpPr/>
                    <p:nvPr/>
                  </p:nvSpPr>
                  <p:spPr>
                    <a:xfrm rot="20922000">
                      <a:off x="4762440" y="2929320"/>
                      <a:ext cx="187200" cy="190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2" name="Freeform 30"/>
                    <p:cNvSpPr/>
                    <p:nvPr/>
                  </p:nvSpPr>
                  <p:spPr>
                    <a:xfrm rot="8817000">
                      <a:off x="4951440" y="3326040"/>
                      <a:ext cx="175680" cy="28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2" h="2302">
                          <a:moveTo>
                            <a:pt x="361" y="1127"/>
                          </a:moveTo>
                          <a:lnTo>
                            <a:pt x="280" y="1116"/>
                          </a:lnTo>
                          <a:lnTo>
                            <a:pt x="373" y="711"/>
                          </a:lnTo>
                          <a:lnTo>
                            <a:pt x="373" y="709"/>
                          </a:lnTo>
                          <a:lnTo>
                            <a:pt x="375" y="705"/>
                          </a:lnTo>
                          <a:lnTo>
                            <a:pt x="375" y="703"/>
                          </a:lnTo>
                          <a:lnTo>
                            <a:pt x="375" y="700"/>
                          </a:lnTo>
                          <a:lnTo>
                            <a:pt x="375" y="698"/>
                          </a:lnTo>
                          <a:lnTo>
                            <a:pt x="375" y="696"/>
                          </a:lnTo>
                          <a:lnTo>
                            <a:pt x="375" y="692"/>
                          </a:lnTo>
                          <a:lnTo>
                            <a:pt x="375" y="690"/>
                          </a:lnTo>
                          <a:lnTo>
                            <a:pt x="375" y="684"/>
                          </a:lnTo>
                          <a:lnTo>
                            <a:pt x="375" y="681"/>
                          </a:lnTo>
                          <a:lnTo>
                            <a:pt x="375" y="675"/>
                          </a:lnTo>
                          <a:lnTo>
                            <a:pt x="375" y="669"/>
                          </a:lnTo>
                          <a:lnTo>
                            <a:pt x="371" y="665"/>
                          </a:lnTo>
                          <a:lnTo>
                            <a:pt x="371" y="660"/>
                          </a:lnTo>
                          <a:lnTo>
                            <a:pt x="369" y="654"/>
                          </a:lnTo>
                          <a:lnTo>
                            <a:pt x="367" y="652"/>
                          </a:lnTo>
                          <a:lnTo>
                            <a:pt x="365" y="646"/>
                          </a:lnTo>
                          <a:lnTo>
                            <a:pt x="363" y="641"/>
                          </a:lnTo>
                          <a:lnTo>
                            <a:pt x="361" y="637"/>
                          </a:lnTo>
                          <a:lnTo>
                            <a:pt x="358" y="633"/>
                          </a:lnTo>
                          <a:lnTo>
                            <a:pt x="356" y="629"/>
                          </a:lnTo>
                          <a:lnTo>
                            <a:pt x="354" y="623"/>
                          </a:lnTo>
                          <a:lnTo>
                            <a:pt x="350" y="620"/>
                          </a:lnTo>
                          <a:lnTo>
                            <a:pt x="346" y="616"/>
                          </a:lnTo>
                          <a:lnTo>
                            <a:pt x="342" y="612"/>
                          </a:lnTo>
                          <a:lnTo>
                            <a:pt x="339" y="610"/>
                          </a:lnTo>
                          <a:lnTo>
                            <a:pt x="335" y="606"/>
                          </a:lnTo>
                          <a:lnTo>
                            <a:pt x="331" y="603"/>
                          </a:lnTo>
                          <a:lnTo>
                            <a:pt x="325" y="601"/>
                          </a:lnTo>
                          <a:lnTo>
                            <a:pt x="321" y="597"/>
                          </a:lnTo>
                          <a:lnTo>
                            <a:pt x="318" y="595"/>
                          </a:lnTo>
                          <a:lnTo>
                            <a:pt x="312" y="593"/>
                          </a:lnTo>
                          <a:lnTo>
                            <a:pt x="306" y="591"/>
                          </a:lnTo>
                          <a:lnTo>
                            <a:pt x="302" y="589"/>
                          </a:lnTo>
                          <a:lnTo>
                            <a:pt x="299" y="589"/>
                          </a:lnTo>
                          <a:lnTo>
                            <a:pt x="295" y="587"/>
                          </a:lnTo>
                          <a:lnTo>
                            <a:pt x="291" y="587"/>
                          </a:lnTo>
                          <a:lnTo>
                            <a:pt x="287" y="585"/>
                          </a:lnTo>
                          <a:lnTo>
                            <a:pt x="285" y="585"/>
                          </a:lnTo>
                          <a:lnTo>
                            <a:pt x="283" y="585"/>
                          </a:lnTo>
                          <a:lnTo>
                            <a:pt x="280" y="585"/>
                          </a:lnTo>
                          <a:lnTo>
                            <a:pt x="276" y="585"/>
                          </a:lnTo>
                          <a:lnTo>
                            <a:pt x="274" y="585"/>
                          </a:lnTo>
                          <a:lnTo>
                            <a:pt x="272" y="585"/>
                          </a:lnTo>
                          <a:lnTo>
                            <a:pt x="268" y="585"/>
                          </a:lnTo>
                          <a:lnTo>
                            <a:pt x="266" y="585"/>
                          </a:lnTo>
                          <a:lnTo>
                            <a:pt x="263" y="585"/>
                          </a:lnTo>
                          <a:lnTo>
                            <a:pt x="261" y="587"/>
                          </a:lnTo>
                          <a:lnTo>
                            <a:pt x="259" y="587"/>
                          </a:lnTo>
                          <a:lnTo>
                            <a:pt x="255" y="587"/>
                          </a:lnTo>
                          <a:lnTo>
                            <a:pt x="253" y="589"/>
                          </a:lnTo>
                          <a:lnTo>
                            <a:pt x="249" y="589"/>
                          </a:lnTo>
                          <a:lnTo>
                            <a:pt x="247" y="589"/>
                          </a:lnTo>
                          <a:lnTo>
                            <a:pt x="243" y="591"/>
                          </a:lnTo>
                          <a:lnTo>
                            <a:pt x="240" y="591"/>
                          </a:lnTo>
                          <a:lnTo>
                            <a:pt x="238" y="593"/>
                          </a:lnTo>
                          <a:lnTo>
                            <a:pt x="236" y="595"/>
                          </a:lnTo>
                          <a:lnTo>
                            <a:pt x="232" y="595"/>
                          </a:lnTo>
                          <a:lnTo>
                            <a:pt x="230" y="597"/>
                          </a:lnTo>
                          <a:lnTo>
                            <a:pt x="228" y="599"/>
                          </a:lnTo>
                          <a:lnTo>
                            <a:pt x="224" y="601"/>
                          </a:lnTo>
                          <a:lnTo>
                            <a:pt x="223" y="601"/>
                          </a:lnTo>
                          <a:lnTo>
                            <a:pt x="219" y="603"/>
                          </a:lnTo>
                          <a:lnTo>
                            <a:pt x="217" y="604"/>
                          </a:lnTo>
                          <a:lnTo>
                            <a:pt x="211" y="608"/>
                          </a:lnTo>
                          <a:lnTo>
                            <a:pt x="207" y="612"/>
                          </a:lnTo>
                          <a:lnTo>
                            <a:pt x="204" y="616"/>
                          </a:lnTo>
                          <a:lnTo>
                            <a:pt x="198" y="618"/>
                          </a:lnTo>
                          <a:lnTo>
                            <a:pt x="194" y="623"/>
                          </a:lnTo>
                          <a:lnTo>
                            <a:pt x="188" y="627"/>
                          </a:lnTo>
                          <a:lnTo>
                            <a:pt x="185" y="633"/>
                          </a:lnTo>
                          <a:lnTo>
                            <a:pt x="181" y="637"/>
                          </a:lnTo>
                          <a:lnTo>
                            <a:pt x="177" y="641"/>
                          </a:lnTo>
                          <a:lnTo>
                            <a:pt x="173" y="646"/>
                          </a:lnTo>
                          <a:lnTo>
                            <a:pt x="169" y="652"/>
                          </a:lnTo>
                          <a:lnTo>
                            <a:pt x="166" y="656"/>
                          </a:lnTo>
                          <a:lnTo>
                            <a:pt x="162" y="662"/>
                          </a:lnTo>
                          <a:lnTo>
                            <a:pt x="160" y="665"/>
                          </a:lnTo>
                          <a:lnTo>
                            <a:pt x="158" y="669"/>
                          </a:lnTo>
                          <a:lnTo>
                            <a:pt x="158" y="671"/>
                          </a:lnTo>
                          <a:lnTo>
                            <a:pt x="156" y="673"/>
                          </a:lnTo>
                          <a:lnTo>
                            <a:pt x="154" y="677"/>
                          </a:lnTo>
                          <a:lnTo>
                            <a:pt x="152" y="679"/>
                          </a:lnTo>
                          <a:lnTo>
                            <a:pt x="152" y="681"/>
                          </a:lnTo>
                          <a:lnTo>
                            <a:pt x="150" y="684"/>
                          </a:lnTo>
                          <a:lnTo>
                            <a:pt x="150" y="688"/>
                          </a:lnTo>
                          <a:lnTo>
                            <a:pt x="146" y="694"/>
                          </a:lnTo>
                          <a:lnTo>
                            <a:pt x="145" y="701"/>
                          </a:lnTo>
                          <a:lnTo>
                            <a:pt x="143" y="709"/>
                          </a:lnTo>
                          <a:lnTo>
                            <a:pt x="139" y="717"/>
                          </a:lnTo>
                          <a:lnTo>
                            <a:pt x="137" y="724"/>
                          </a:lnTo>
                          <a:lnTo>
                            <a:pt x="135" y="732"/>
                          </a:lnTo>
                          <a:lnTo>
                            <a:pt x="131" y="739"/>
                          </a:lnTo>
                          <a:lnTo>
                            <a:pt x="129" y="747"/>
                          </a:lnTo>
                          <a:lnTo>
                            <a:pt x="126" y="755"/>
                          </a:lnTo>
                          <a:lnTo>
                            <a:pt x="124" y="760"/>
                          </a:lnTo>
                          <a:lnTo>
                            <a:pt x="122" y="768"/>
                          </a:lnTo>
                          <a:lnTo>
                            <a:pt x="120" y="776"/>
                          </a:lnTo>
                          <a:lnTo>
                            <a:pt x="116" y="781"/>
                          </a:lnTo>
                          <a:lnTo>
                            <a:pt x="114" y="789"/>
                          </a:lnTo>
                          <a:lnTo>
                            <a:pt x="112" y="796"/>
                          </a:lnTo>
                          <a:lnTo>
                            <a:pt x="110" y="804"/>
                          </a:lnTo>
                          <a:lnTo>
                            <a:pt x="107" y="812"/>
                          </a:lnTo>
                          <a:lnTo>
                            <a:pt x="107" y="817"/>
                          </a:lnTo>
                          <a:lnTo>
                            <a:pt x="103" y="823"/>
                          </a:lnTo>
                          <a:lnTo>
                            <a:pt x="101" y="831"/>
                          </a:lnTo>
                          <a:lnTo>
                            <a:pt x="97" y="836"/>
                          </a:lnTo>
                          <a:lnTo>
                            <a:pt x="97" y="844"/>
                          </a:lnTo>
                          <a:lnTo>
                            <a:pt x="93" y="852"/>
                          </a:lnTo>
                          <a:lnTo>
                            <a:pt x="93" y="857"/>
                          </a:lnTo>
                          <a:lnTo>
                            <a:pt x="89" y="865"/>
                          </a:lnTo>
                          <a:lnTo>
                            <a:pt x="88" y="871"/>
                          </a:lnTo>
                          <a:lnTo>
                            <a:pt x="86" y="878"/>
                          </a:lnTo>
                          <a:lnTo>
                            <a:pt x="84" y="884"/>
                          </a:lnTo>
                          <a:lnTo>
                            <a:pt x="82" y="892"/>
                          </a:lnTo>
                          <a:lnTo>
                            <a:pt x="80" y="899"/>
                          </a:lnTo>
                          <a:lnTo>
                            <a:pt x="78" y="907"/>
                          </a:lnTo>
                          <a:lnTo>
                            <a:pt x="74" y="912"/>
                          </a:lnTo>
                          <a:lnTo>
                            <a:pt x="72" y="920"/>
                          </a:lnTo>
                          <a:lnTo>
                            <a:pt x="72" y="926"/>
                          </a:lnTo>
                          <a:lnTo>
                            <a:pt x="68" y="931"/>
                          </a:lnTo>
                          <a:lnTo>
                            <a:pt x="67" y="939"/>
                          </a:lnTo>
                          <a:lnTo>
                            <a:pt x="65" y="945"/>
                          </a:lnTo>
                          <a:lnTo>
                            <a:pt x="63" y="952"/>
                          </a:lnTo>
                          <a:lnTo>
                            <a:pt x="59" y="958"/>
                          </a:lnTo>
                          <a:lnTo>
                            <a:pt x="57" y="966"/>
                          </a:lnTo>
                          <a:lnTo>
                            <a:pt x="55" y="971"/>
                          </a:lnTo>
                          <a:lnTo>
                            <a:pt x="53" y="979"/>
                          </a:lnTo>
                          <a:lnTo>
                            <a:pt x="51" y="987"/>
                          </a:lnTo>
                          <a:lnTo>
                            <a:pt x="49" y="994"/>
                          </a:lnTo>
                          <a:lnTo>
                            <a:pt x="48" y="1000"/>
                          </a:lnTo>
                          <a:lnTo>
                            <a:pt x="46" y="1007"/>
                          </a:lnTo>
                          <a:lnTo>
                            <a:pt x="44" y="1015"/>
                          </a:lnTo>
                          <a:lnTo>
                            <a:pt x="42" y="1021"/>
                          </a:lnTo>
                          <a:lnTo>
                            <a:pt x="42" y="1028"/>
                          </a:lnTo>
                          <a:lnTo>
                            <a:pt x="38" y="1036"/>
                          </a:lnTo>
                          <a:lnTo>
                            <a:pt x="36" y="1042"/>
                          </a:lnTo>
                          <a:lnTo>
                            <a:pt x="36" y="1049"/>
                          </a:lnTo>
                          <a:lnTo>
                            <a:pt x="34" y="1057"/>
                          </a:lnTo>
                          <a:lnTo>
                            <a:pt x="30" y="1063"/>
                          </a:lnTo>
                          <a:lnTo>
                            <a:pt x="30" y="1070"/>
                          </a:lnTo>
                          <a:lnTo>
                            <a:pt x="29" y="1078"/>
                          </a:lnTo>
                          <a:lnTo>
                            <a:pt x="27" y="1085"/>
                          </a:lnTo>
                          <a:lnTo>
                            <a:pt x="25" y="1093"/>
                          </a:lnTo>
                          <a:lnTo>
                            <a:pt x="23" y="1101"/>
                          </a:lnTo>
                          <a:lnTo>
                            <a:pt x="21" y="1108"/>
                          </a:lnTo>
                          <a:lnTo>
                            <a:pt x="19" y="1116"/>
                          </a:lnTo>
                          <a:lnTo>
                            <a:pt x="17" y="1123"/>
                          </a:lnTo>
                          <a:lnTo>
                            <a:pt x="17" y="1131"/>
                          </a:lnTo>
                          <a:lnTo>
                            <a:pt x="15" y="1139"/>
                          </a:lnTo>
                          <a:lnTo>
                            <a:pt x="13" y="1148"/>
                          </a:lnTo>
                          <a:lnTo>
                            <a:pt x="10" y="1158"/>
                          </a:lnTo>
                          <a:lnTo>
                            <a:pt x="10" y="1165"/>
                          </a:lnTo>
                          <a:lnTo>
                            <a:pt x="8" y="1175"/>
                          </a:lnTo>
                          <a:lnTo>
                            <a:pt x="6" y="1182"/>
                          </a:lnTo>
                          <a:lnTo>
                            <a:pt x="6" y="1192"/>
                          </a:lnTo>
                          <a:lnTo>
                            <a:pt x="4" y="1201"/>
                          </a:lnTo>
                          <a:lnTo>
                            <a:pt x="2" y="1211"/>
                          </a:lnTo>
                          <a:lnTo>
                            <a:pt x="2" y="1218"/>
                          </a:lnTo>
                          <a:lnTo>
                            <a:pt x="0" y="1230"/>
                          </a:lnTo>
                          <a:lnTo>
                            <a:pt x="0" y="1237"/>
                          </a:lnTo>
                          <a:lnTo>
                            <a:pt x="0" y="1247"/>
                          </a:lnTo>
                          <a:lnTo>
                            <a:pt x="0" y="1257"/>
                          </a:lnTo>
                          <a:lnTo>
                            <a:pt x="0" y="1268"/>
                          </a:lnTo>
                          <a:lnTo>
                            <a:pt x="0" y="1276"/>
                          </a:lnTo>
                          <a:lnTo>
                            <a:pt x="0" y="1285"/>
                          </a:lnTo>
                          <a:lnTo>
                            <a:pt x="0" y="1296"/>
                          </a:lnTo>
                          <a:lnTo>
                            <a:pt x="0" y="1304"/>
                          </a:lnTo>
                          <a:lnTo>
                            <a:pt x="0" y="1314"/>
                          </a:lnTo>
                          <a:lnTo>
                            <a:pt x="0" y="1323"/>
                          </a:lnTo>
                          <a:lnTo>
                            <a:pt x="0" y="1333"/>
                          </a:lnTo>
                          <a:lnTo>
                            <a:pt x="2" y="1342"/>
                          </a:lnTo>
                          <a:lnTo>
                            <a:pt x="2" y="1352"/>
                          </a:lnTo>
                          <a:lnTo>
                            <a:pt x="4" y="1363"/>
                          </a:lnTo>
                          <a:lnTo>
                            <a:pt x="4" y="1371"/>
                          </a:lnTo>
                          <a:lnTo>
                            <a:pt x="6" y="1382"/>
                          </a:lnTo>
                          <a:lnTo>
                            <a:pt x="8" y="1390"/>
                          </a:lnTo>
                          <a:lnTo>
                            <a:pt x="8" y="1401"/>
                          </a:lnTo>
                          <a:lnTo>
                            <a:pt x="10" y="1409"/>
                          </a:lnTo>
                          <a:lnTo>
                            <a:pt x="11" y="1420"/>
                          </a:lnTo>
                          <a:lnTo>
                            <a:pt x="13" y="1429"/>
                          </a:lnTo>
                          <a:lnTo>
                            <a:pt x="15" y="1439"/>
                          </a:lnTo>
                          <a:lnTo>
                            <a:pt x="17" y="1448"/>
                          </a:lnTo>
                          <a:lnTo>
                            <a:pt x="19" y="1458"/>
                          </a:lnTo>
                          <a:lnTo>
                            <a:pt x="21" y="1468"/>
                          </a:lnTo>
                          <a:lnTo>
                            <a:pt x="23" y="1477"/>
                          </a:lnTo>
                          <a:lnTo>
                            <a:pt x="27" y="1487"/>
                          </a:lnTo>
                          <a:lnTo>
                            <a:pt x="29" y="1496"/>
                          </a:lnTo>
                          <a:lnTo>
                            <a:pt x="30" y="1506"/>
                          </a:lnTo>
                          <a:lnTo>
                            <a:pt x="34" y="1515"/>
                          </a:lnTo>
                          <a:lnTo>
                            <a:pt x="36" y="1525"/>
                          </a:lnTo>
                          <a:lnTo>
                            <a:pt x="38" y="1534"/>
                          </a:lnTo>
                          <a:lnTo>
                            <a:pt x="42" y="1544"/>
                          </a:lnTo>
                          <a:lnTo>
                            <a:pt x="46" y="1553"/>
                          </a:lnTo>
                          <a:lnTo>
                            <a:pt x="48" y="1561"/>
                          </a:lnTo>
                          <a:lnTo>
                            <a:pt x="51" y="1572"/>
                          </a:lnTo>
                          <a:lnTo>
                            <a:pt x="55" y="1580"/>
                          </a:lnTo>
                          <a:lnTo>
                            <a:pt x="59" y="1589"/>
                          </a:lnTo>
                          <a:lnTo>
                            <a:pt x="63" y="1599"/>
                          </a:lnTo>
                          <a:lnTo>
                            <a:pt x="67" y="1608"/>
                          </a:lnTo>
                          <a:lnTo>
                            <a:pt x="68" y="1616"/>
                          </a:lnTo>
                          <a:lnTo>
                            <a:pt x="74" y="1627"/>
                          </a:lnTo>
                          <a:lnTo>
                            <a:pt x="78" y="1635"/>
                          </a:lnTo>
                          <a:lnTo>
                            <a:pt x="82" y="1644"/>
                          </a:lnTo>
                          <a:lnTo>
                            <a:pt x="86" y="1652"/>
                          </a:lnTo>
                          <a:lnTo>
                            <a:pt x="89" y="1661"/>
                          </a:lnTo>
                          <a:lnTo>
                            <a:pt x="95" y="1669"/>
                          </a:lnTo>
                          <a:lnTo>
                            <a:pt x="99" y="1679"/>
                          </a:lnTo>
                          <a:lnTo>
                            <a:pt x="103" y="1688"/>
                          </a:lnTo>
                          <a:lnTo>
                            <a:pt x="108" y="1696"/>
                          </a:lnTo>
                          <a:lnTo>
                            <a:pt x="114" y="1703"/>
                          </a:lnTo>
                          <a:lnTo>
                            <a:pt x="118" y="1713"/>
                          </a:lnTo>
                          <a:lnTo>
                            <a:pt x="124" y="1722"/>
                          </a:lnTo>
                          <a:lnTo>
                            <a:pt x="127" y="1732"/>
                          </a:lnTo>
                          <a:lnTo>
                            <a:pt x="131" y="1736"/>
                          </a:lnTo>
                          <a:lnTo>
                            <a:pt x="135" y="1739"/>
                          </a:lnTo>
                          <a:lnTo>
                            <a:pt x="135" y="1743"/>
                          </a:lnTo>
                          <a:lnTo>
                            <a:pt x="137" y="1745"/>
                          </a:lnTo>
                          <a:lnTo>
                            <a:pt x="139" y="1747"/>
                          </a:lnTo>
                          <a:lnTo>
                            <a:pt x="141" y="1751"/>
                          </a:lnTo>
                          <a:lnTo>
                            <a:pt x="143" y="1755"/>
                          </a:lnTo>
                          <a:lnTo>
                            <a:pt x="143" y="1756"/>
                          </a:lnTo>
                          <a:lnTo>
                            <a:pt x="145" y="1760"/>
                          </a:lnTo>
                          <a:lnTo>
                            <a:pt x="146" y="1762"/>
                          </a:lnTo>
                          <a:lnTo>
                            <a:pt x="148" y="1766"/>
                          </a:lnTo>
                          <a:lnTo>
                            <a:pt x="150" y="1768"/>
                          </a:lnTo>
                          <a:lnTo>
                            <a:pt x="152" y="1770"/>
                          </a:lnTo>
                          <a:lnTo>
                            <a:pt x="156" y="1774"/>
                          </a:lnTo>
                          <a:lnTo>
                            <a:pt x="158" y="1777"/>
                          </a:lnTo>
                          <a:lnTo>
                            <a:pt x="160" y="1779"/>
                          </a:lnTo>
                          <a:lnTo>
                            <a:pt x="160" y="1783"/>
                          </a:lnTo>
                          <a:lnTo>
                            <a:pt x="162" y="1787"/>
                          </a:lnTo>
                          <a:lnTo>
                            <a:pt x="166" y="1789"/>
                          </a:lnTo>
                          <a:lnTo>
                            <a:pt x="166" y="1791"/>
                          </a:lnTo>
                          <a:lnTo>
                            <a:pt x="167" y="1794"/>
                          </a:lnTo>
                          <a:lnTo>
                            <a:pt x="169" y="1796"/>
                          </a:lnTo>
                          <a:lnTo>
                            <a:pt x="171" y="1800"/>
                          </a:lnTo>
                          <a:lnTo>
                            <a:pt x="173" y="1802"/>
                          </a:lnTo>
                          <a:lnTo>
                            <a:pt x="175" y="1806"/>
                          </a:lnTo>
                          <a:lnTo>
                            <a:pt x="177" y="1808"/>
                          </a:lnTo>
                          <a:lnTo>
                            <a:pt x="179" y="1812"/>
                          </a:lnTo>
                          <a:lnTo>
                            <a:pt x="181" y="1815"/>
                          </a:lnTo>
                          <a:lnTo>
                            <a:pt x="183" y="1817"/>
                          </a:lnTo>
                          <a:lnTo>
                            <a:pt x="185" y="1821"/>
                          </a:lnTo>
                          <a:lnTo>
                            <a:pt x="188" y="1827"/>
                          </a:lnTo>
                          <a:lnTo>
                            <a:pt x="190" y="1831"/>
                          </a:lnTo>
                          <a:lnTo>
                            <a:pt x="194" y="1836"/>
                          </a:lnTo>
                          <a:lnTo>
                            <a:pt x="198" y="1842"/>
                          </a:lnTo>
                          <a:lnTo>
                            <a:pt x="200" y="1846"/>
                          </a:lnTo>
                          <a:lnTo>
                            <a:pt x="204" y="1850"/>
                          </a:lnTo>
                          <a:lnTo>
                            <a:pt x="205" y="1853"/>
                          </a:lnTo>
                          <a:lnTo>
                            <a:pt x="207" y="1859"/>
                          </a:lnTo>
                          <a:lnTo>
                            <a:pt x="209" y="1861"/>
                          </a:lnTo>
                          <a:lnTo>
                            <a:pt x="211" y="1863"/>
                          </a:lnTo>
                          <a:lnTo>
                            <a:pt x="213" y="1867"/>
                          </a:lnTo>
                          <a:lnTo>
                            <a:pt x="215" y="1869"/>
                          </a:lnTo>
                          <a:lnTo>
                            <a:pt x="217" y="1870"/>
                          </a:lnTo>
                          <a:lnTo>
                            <a:pt x="219" y="1874"/>
                          </a:lnTo>
                          <a:lnTo>
                            <a:pt x="141" y="2163"/>
                          </a:lnTo>
                          <a:lnTo>
                            <a:pt x="143" y="2165"/>
                          </a:lnTo>
                          <a:lnTo>
                            <a:pt x="146" y="2165"/>
                          </a:lnTo>
                          <a:lnTo>
                            <a:pt x="150" y="2167"/>
                          </a:lnTo>
                          <a:lnTo>
                            <a:pt x="152" y="2167"/>
                          </a:lnTo>
                          <a:lnTo>
                            <a:pt x="154" y="2167"/>
                          </a:lnTo>
                          <a:lnTo>
                            <a:pt x="158" y="2167"/>
                          </a:lnTo>
                          <a:lnTo>
                            <a:pt x="162" y="2171"/>
                          </a:lnTo>
                          <a:lnTo>
                            <a:pt x="166" y="2171"/>
                          </a:lnTo>
                          <a:lnTo>
                            <a:pt x="167" y="2173"/>
                          </a:lnTo>
                          <a:lnTo>
                            <a:pt x="171" y="2173"/>
                          </a:lnTo>
                          <a:lnTo>
                            <a:pt x="175" y="2175"/>
                          </a:lnTo>
                          <a:lnTo>
                            <a:pt x="181" y="2175"/>
                          </a:lnTo>
                          <a:lnTo>
                            <a:pt x="185" y="2175"/>
                          </a:lnTo>
                          <a:lnTo>
                            <a:pt x="188" y="2177"/>
                          </a:lnTo>
                          <a:lnTo>
                            <a:pt x="194" y="2180"/>
                          </a:lnTo>
                          <a:lnTo>
                            <a:pt x="198" y="2180"/>
                          </a:lnTo>
                          <a:lnTo>
                            <a:pt x="204" y="2182"/>
                          </a:lnTo>
                          <a:lnTo>
                            <a:pt x="209" y="2182"/>
                          </a:lnTo>
                          <a:lnTo>
                            <a:pt x="215" y="2184"/>
                          </a:lnTo>
                          <a:lnTo>
                            <a:pt x="219" y="2186"/>
                          </a:lnTo>
                          <a:lnTo>
                            <a:pt x="224" y="2188"/>
                          </a:lnTo>
                          <a:lnTo>
                            <a:pt x="232" y="2188"/>
                          </a:lnTo>
                          <a:lnTo>
                            <a:pt x="238" y="2190"/>
                          </a:lnTo>
                          <a:lnTo>
                            <a:pt x="243" y="2190"/>
                          </a:lnTo>
                          <a:lnTo>
                            <a:pt x="251" y="2192"/>
                          </a:lnTo>
                          <a:lnTo>
                            <a:pt x="257" y="2194"/>
                          </a:lnTo>
                          <a:lnTo>
                            <a:pt x="264" y="2194"/>
                          </a:lnTo>
                          <a:lnTo>
                            <a:pt x="270" y="2196"/>
                          </a:lnTo>
                          <a:lnTo>
                            <a:pt x="276" y="2196"/>
                          </a:lnTo>
                          <a:lnTo>
                            <a:pt x="283" y="2197"/>
                          </a:lnTo>
                          <a:lnTo>
                            <a:pt x="291" y="2199"/>
                          </a:lnTo>
                          <a:lnTo>
                            <a:pt x="297" y="2199"/>
                          </a:lnTo>
                          <a:lnTo>
                            <a:pt x="304" y="2199"/>
                          </a:lnTo>
                          <a:lnTo>
                            <a:pt x="312" y="2199"/>
                          </a:lnTo>
                          <a:lnTo>
                            <a:pt x="320" y="2201"/>
                          </a:lnTo>
                          <a:lnTo>
                            <a:pt x="325" y="2201"/>
                          </a:lnTo>
                          <a:lnTo>
                            <a:pt x="333" y="2201"/>
                          </a:lnTo>
                          <a:lnTo>
                            <a:pt x="341" y="2201"/>
                          </a:lnTo>
                          <a:lnTo>
                            <a:pt x="348" y="2201"/>
                          </a:lnTo>
                          <a:lnTo>
                            <a:pt x="356" y="2201"/>
                          </a:lnTo>
                          <a:lnTo>
                            <a:pt x="363" y="2201"/>
                          </a:lnTo>
                          <a:lnTo>
                            <a:pt x="371" y="2201"/>
                          </a:lnTo>
                          <a:lnTo>
                            <a:pt x="379" y="2201"/>
                          </a:lnTo>
                          <a:lnTo>
                            <a:pt x="386" y="2201"/>
                          </a:lnTo>
                          <a:lnTo>
                            <a:pt x="394" y="2201"/>
                          </a:lnTo>
                          <a:lnTo>
                            <a:pt x="401" y="2199"/>
                          </a:lnTo>
                          <a:lnTo>
                            <a:pt x="409" y="2199"/>
                          </a:lnTo>
                          <a:lnTo>
                            <a:pt x="415" y="2197"/>
                          </a:lnTo>
                          <a:lnTo>
                            <a:pt x="422" y="2196"/>
                          </a:lnTo>
                          <a:lnTo>
                            <a:pt x="432" y="2196"/>
                          </a:lnTo>
                          <a:lnTo>
                            <a:pt x="439" y="2194"/>
                          </a:lnTo>
                          <a:lnTo>
                            <a:pt x="447" y="2192"/>
                          </a:lnTo>
                          <a:lnTo>
                            <a:pt x="455" y="2190"/>
                          </a:lnTo>
                          <a:lnTo>
                            <a:pt x="462" y="2188"/>
                          </a:lnTo>
                          <a:lnTo>
                            <a:pt x="470" y="2188"/>
                          </a:lnTo>
                          <a:lnTo>
                            <a:pt x="476" y="2184"/>
                          </a:lnTo>
                          <a:lnTo>
                            <a:pt x="483" y="2182"/>
                          </a:lnTo>
                          <a:lnTo>
                            <a:pt x="491" y="2180"/>
                          </a:lnTo>
                          <a:lnTo>
                            <a:pt x="498" y="2175"/>
                          </a:lnTo>
                          <a:lnTo>
                            <a:pt x="504" y="2173"/>
                          </a:lnTo>
                          <a:lnTo>
                            <a:pt x="512" y="2169"/>
                          </a:lnTo>
                          <a:lnTo>
                            <a:pt x="517" y="2165"/>
                          </a:lnTo>
                          <a:lnTo>
                            <a:pt x="525" y="2161"/>
                          </a:lnTo>
                          <a:lnTo>
                            <a:pt x="531" y="2158"/>
                          </a:lnTo>
                          <a:lnTo>
                            <a:pt x="536" y="2154"/>
                          </a:lnTo>
                          <a:lnTo>
                            <a:pt x="542" y="2150"/>
                          </a:lnTo>
                          <a:lnTo>
                            <a:pt x="550" y="2146"/>
                          </a:lnTo>
                          <a:lnTo>
                            <a:pt x="555" y="2142"/>
                          </a:lnTo>
                          <a:lnTo>
                            <a:pt x="559" y="2137"/>
                          </a:lnTo>
                          <a:lnTo>
                            <a:pt x="565" y="2133"/>
                          </a:lnTo>
                          <a:lnTo>
                            <a:pt x="571" y="2129"/>
                          </a:lnTo>
                          <a:lnTo>
                            <a:pt x="576" y="2123"/>
                          </a:lnTo>
                          <a:lnTo>
                            <a:pt x="582" y="2120"/>
                          </a:lnTo>
                          <a:lnTo>
                            <a:pt x="588" y="2114"/>
                          </a:lnTo>
                          <a:lnTo>
                            <a:pt x="592" y="2110"/>
                          </a:lnTo>
                          <a:lnTo>
                            <a:pt x="595" y="2106"/>
                          </a:lnTo>
                          <a:lnTo>
                            <a:pt x="601" y="2101"/>
                          </a:lnTo>
                          <a:lnTo>
                            <a:pt x="605" y="2095"/>
                          </a:lnTo>
                          <a:lnTo>
                            <a:pt x="611" y="2091"/>
                          </a:lnTo>
                          <a:lnTo>
                            <a:pt x="614" y="2085"/>
                          </a:lnTo>
                          <a:lnTo>
                            <a:pt x="618" y="2080"/>
                          </a:lnTo>
                          <a:lnTo>
                            <a:pt x="624" y="2076"/>
                          </a:lnTo>
                          <a:lnTo>
                            <a:pt x="628" y="2070"/>
                          </a:lnTo>
                          <a:lnTo>
                            <a:pt x="632" y="2064"/>
                          </a:lnTo>
                          <a:lnTo>
                            <a:pt x="635" y="2059"/>
                          </a:lnTo>
                          <a:lnTo>
                            <a:pt x="637" y="2055"/>
                          </a:lnTo>
                          <a:lnTo>
                            <a:pt x="643" y="2049"/>
                          </a:lnTo>
                          <a:lnTo>
                            <a:pt x="645" y="2043"/>
                          </a:lnTo>
                          <a:lnTo>
                            <a:pt x="649" y="2040"/>
                          </a:lnTo>
                          <a:lnTo>
                            <a:pt x="652" y="2034"/>
                          </a:lnTo>
                          <a:lnTo>
                            <a:pt x="654" y="2030"/>
                          </a:lnTo>
                          <a:lnTo>
                            <a:pt x="658" y="2024"/>
                          </a:lnTo>
                          <a:lnTo>
                            <a:pt x="660" y="2021"/>
                          </a:lnTo>
                          <a:lnTo>
                            <a:pt x="664" y="2015"/>
                          </a:lnTo>
                          <a:lnTo>
                            <a:pt x="666" y="2011"/>
                          </a:lnTo>
                          <a:lnTo>
                            <a:pt x="668" y="2005"/>
                          </a:lnTo>
                          <a:lnTo>
                            <a:pt x="672" y="2002"/>
                          </a:lnTo>
                          <a:lnTo>
                            <a:pt x="673" y="1998"/>
                          </a:lnTo>
                          <a:lnTo>
                            <a:pt x="675" y="1992"/>
                          </a:lnTo>
                          <a:lnTo>
                            <a:pt x="677" y="1986"/>
                          </a:lnTo>
                          <a:lnTo>
                            <a:pt x="679" y="1983"/>
                          </a:lnTo>
                          <a:lnTo>
                            <a:pt x="681" y="1979"/>
                          </a:lnTo>
                          <a:lnTo>
                            <a:pt x="683" y="1975"/>
                          </a:lnTo>
                          <a:lnTo>
                            <a:pt x="685" y="1971"/>
                          </a:lnTo>
                          <a:lnTo>
                            <a:pt x="687" y="1969"/>
                          </a:lnTo>
                          <a:lnTo>
                            <a:pt x="689" y="1964"/>
                          </a:lnTo>
                          <a:lnTo>
                            <a:pt x="691" y="1962"/>
                          </a:lnTo>
                          <a:lnTo>
                            <a:pt x="692" y="1958"/>
                          </a:lnTo>
                          <a:lnTo>
                            <a:pt x="692" y="1954"/>
                          </a:lnTo>
                          <a:lnTo>
                            <a:pt x="692" y="1952"/>
                          </a:lnTo>
                          <a:lnTo>
                            <a:pt x="694" y="1950"/>
                          </a:lnTo>
                          <a:lnTo>
                            <a:pt x="696" y="1945"/>
                          </a:lnTo>
                          <a:lnTo>
                            <a:pt x="698" y="1941"/>
                          </a:lnTo>
                          <a:lnTo>
                            <a:pt x="700" y="1937"/>
                          </a:lnTo>
                          <a:lnTo>
                            <a:pt x="700" y="1935"/>
                          </a:lnTo>
                          <a:lnTo>
                            <a:pt x="700" y="1933"/>
                          </a:lnTo>
                          <a:lnTo>
                            <a:pt x="702" y="1933"/>
                          </a:lnTo>
                          <a:lnTo>
                            <a:pt x="740" y="1943"/>
                          </a:lnTo>
                          <a:lnTo>
                            <a:pt x="740" y="1943"/>
                          </a:lnTo>
                          <a:lnTo>
                            <a:pt x="738" y="1945"/>
                          </a:lnTo>
                          <a:lnTo>
                            <a:pt x="738" y="1947"/>
                          </a:lnTo>
                          <a:lnTo>
                            <a:pt x="738" y="1950"/>
                          </a:lnTo>
                          <a:lnTo>
                            <a:pt x="738" y="1954"/>
                          </a:lnTo>
                          <a:lnTo>
                            <a:pt x="738" y="1958"/>
                          </a:lnTo>
                          <a:lnTo>
                            <a:pt x="736" y="1962"/>
                          </a:lnTo>
                          <a:lnTo>
                            <a:pt x="736" y="1964"/>
                          </a:lnTo>
                          <a:lnTo>
                            <a:pt x="736" y="1967"/>
                          </a:lnTo>
                          <a:lnTo>
                            <a:pt x="736" y="1971"/>
                          </a:lnTo>
                          <a:lnTo>
                            <a:pt x="736" y="1975"/>
                          </a:lnTo>
                          <a:lnTo>
                            <a:pt x="736" y="1979"/>
                          </a:lnTo>
                          <a:lnTo>
                            <a:pt x="736" y="1983"/>
                          </a:lnTo>
                          <a:lnTo>
                            <a:pt x="736" y="1985"/>
                          </a:lnTo>
                          <a:lnTo>
                            <a:pt x="736" y="1990"/>
                          </a:lnTo>
                          <a:lnTo>
                            <a:pt x="736" y="1994"/>
                          </a:lnTo>
                          <a:lnTo>
                            <a:pt x="736" y="1998"/>
                          </a:lnTo>
                          <a:lnTo>
                            <a:pt x="736" y="2004"/>
                          </a:lnTo>
                          <a:lnTo>
                            <a:pt x="736" y="2007"/>
                          </a:lnTo>
                          <a:lnTo>
                            <a:pt x="736" y="2013"/>
                          </a:lnTo>
                          <a:lnTo>
                            <a:pt x="736" y="2015"/>
                          </a:lnTo>
                          <a:lnTo>
                            <a:pt x="736" y="2021"/>
                          </a:lnTo>
                          <a:lnTo>
                            <a:pt x="736" y="2026"/>
                          </a:lnTo>
                          <a:lnTo>
                            <a:pt x="736" y="2030"/>
                          </a:lnTo>
                          <a:lnTo>
                            <a:pt x="736" y="2036"/>
                          </a:lnTo>
                          <a:lnTo>
                            <a:pt x="736" y="2042"/>
                          </a:lnTo>
                          <a:lnTo>
                            <a:pt x="736" y="2047"/>
                          </a:lnTo>
                          <a:lnTo>
                            <a:pt x="738" y="2051"/>
                          </a:lnTo>
                          <a:lnTo>
                            <a:pt x="738" y="2057"/>
                          </a:lnTo>
                          <a:lnTo>
                            <a:pt x="738" y="2062"/>
                          </a:lnTo>
                          <a:lnTo>
                            <a:pt x="740" y="2066"/>
                          </a:lnTo>
                          <a:lnTo>
                            <a:pt x="740" y="2072"/>
                          </a:lnTo>
                          <a:lnTo>
                            <a:pt x="742" y="2078"/>
                          </a:lnTo>
                          <a:lnTo>
                            <a:pt x="744" y="2083"/>
                          </a:lnTo>
                          <a:lnTo>
                            <a:pt x="744" y="2091"/>
                          </a:lnTo>
                          <a:lnTo>
                            <a:pt x="746" y="2095"/>
                          </a:lnTo>
                          <a:lnTo>
                            <a:pt x="748" y="2101"/>
                          </a:lnTo>
                          <a:lnTo>
                            <a:pt x="748" y="2106"/>
                          </a:lnTo>
                          <a:lnTo>
                            <a:pt x="751" y="2110"/>
                          </a:lnTo>
                          <a:lnTo>
                            <a:pt x="753" y="2118"/>
                          </a:lnTo>
                          <a:lnTo>
                            <a:pt x="753" y="2123"/>
                          </a:lnTo>
                          <a:lnTo>
                            <a:pt x="757" y="2129"/>
                          </a:lnTo>
                          <a:lnTo>
                            <a:pt x="759" y="2135"/>
                          </a:lnTo>
                          <a:lnTo>
                            <a:pt x="761" y="2139"/>
                          </a:lnTo>
                          <a:lnTo>
                            <a:pt x="765" y="2144"/>
                          </a:lnTo>
                          <a:lnTo>
                            <a:pt x="767" y="2150"/>
                          </a:lnTo>
                          <a:lnTo>
                            <a:pt x="769" y="2156"/>
                          </a:lnTo>
                          <a:lnTo>
                            <a:pt x="772" y="2159"/>
                          </a:lnTo>
                          <a:lnTo>
                            <a:pt x="776" y="2165"/>
                          </a:lnTo>
                          <a:lnTo>
                            <a:pt x="780" y="2171"/>
                          </a:lnTo>
                          <a:lnTo>
                            <a:pt x="782" y="2175"/>
                          </a:lnTo>
                          <a:lnTo>
                            <a:pt x="786" y="2180"/>
                          </a:lnTo>
                          <a:lnTo>
                            <a:pt x="789" y="2186"/>
                          </a:lnTo>
                          <a:lnTo>
                            <a:pt x="795" y="2190"/>
                          </a:lnTo>
                          <a:lnTo>
                            <a:pt x="799" y="2196"/>
                          </a:lnTo>
                          <a:lnTo>
                            <a:pt x="805" y="2201"/>
                          </a:lnTo>
                          <a:lnTo>
                            <a:pt x="808" y="2205"/>
                          </a:lnTo>
                          <a:lnTo>
                            <a:pt x="814" y="2209"/>
                          </a:lnTo>
                          <a:lnTo>
                            <a:pt x="818" y="2213"/>
                          </a:lnTo>
                          <a:lnTo>
                            <a:pt x="824" y="2216"/>
                          </a:lnTo>
                          <a:lnTo>
                            <a:pt x="828" y="2222"/>
                          </a:lnTo>
                          <a:lnTo>
                            <a:pt x="833" y="2224"/>
                          </a:lnTo>
                          <a:lnTo>
                            <a:pt x="839" y="2228"/>
                          </a:lnTo>
                          <a:lnTo>
                            <a:pt x="845" y="2232"/>
                          </a:lnTo>
                          <a:lnTo>
                            <a:pt x="848" y="2235"/>
                          </a:lnTo>
                          <a:lnTo>
                            <a:pt x="854" y="2239"/>
                          </a:lnTo>
                          <a:lnTo>
                            <a:pt x="858" y="2243"/>
                          </a:lnTo>
                          <a:lnTo>
                            <a:pt x="864" y="2245"/>
                          </a:lnTo>
                          <a:lnTo>
                            <a:pt x="867" y="2249"/>
                          </a:lnTo>
                          <a:lnTo>
                            <a:pt x="873" y="2253"/>
                          </a:lnTo>
                          <a:lnTo>
                            <a:pt x="877" y="2256"/>
                          </a:lnTo>
                          <a:lnTo>
                            <a:pt x="883" y="2258"/>
                          </a:lnTo>
                          <a:lnTo>
                            <a:pt x="890" y="2260"/>
                          </a:lnTo>
                          <a:lnTo>
                            <a:pt x="896" y="2264"/>
                          </a:lnTo>
                          <a:lnTo>
                            <a:pt x="900" y="2266"/>
                          </a:lnTo>
                          <a:lnTo>
                            <a:pt x="904" y="2268"/>
                          </a:lnTo>
                          <a:lnTo>
                            <a:pt x="907" y="2270"/>
                          </a:lnTo>
                          <a:lnTo>
                            <a:pt x="913" y="2273"/>
                          </a:lnTo>
                          <a:lnTo>
                            <a:pt x="919" y="2275"/>
                          </a:lnTo>
                          <a:lnTo>
                            <a:pt x="925" y="2277"/>
                          </a:lnTo>
                          <a:lnTo>
                            <a:pt x="928" y="2279"/>
                          </a:lnTo>
                          <a:lnTo>
                            <a:pt x="934" y="2281"/>
                          </a:lnTo>
                          <a:lnTo>
                            <a:pt x="938" y="2283"/>
                          </a:lnTo>
                          <a:lnTo>
                            <a:pt x="942" y="2285"/>
                          </a:lnTo>
                          <a:lnTo>
                            <a:pt x="947" y="2287"/>
                          </a:lnTo>
                          <a:lnTo>
                            <a:pt x="951" y="2289"/>
                          </a:lnTo>
                          <a:lnTo>
                            <a:pt x="955" y="2289"/>
                          </a:lnTo>
                          <a:lnTo>
                            <a:pt x="961" y="2291"/>
                          </a:lnTo>
                          <a:lnTo>
                            <a:pt x="964" y="2291"/>
                          </a:lnTo>
                          <a:lnTo>
                            <a:pt x="968" y="2294"/>
                          </a:lnTo>
                          <a:lnTo>
                            <a:pt x="972" y="2294"/>
                          </a:lnTo>
                          <a:lnTo>
                            <a:pt x="978" y="2294"/>
                          </a:lnTo>
                          <a:lnTo>
                            <a:pt x="982" y="2296"/>
                          </a:lnTo>
                          <a:lnTo>
                            <a:pt x="985" y="2296"/>
                          </a:lnTo>
                          <a:lnTo>
                            <a:pt x="989" y="2296"/>
                          </a:lnTo>
                          <a:lnTo>
                            <a:pt x="993" y="2298"/>
                          </a:lnTo>
                          <a:lnTo>
                            <a:pt x="997" y="2298"/>
                          </a:lnTo>
                          <a:lnTo>
                            <a:pt x="1001" y="2298"/>
                          </a:lnTo>
                          <a:lnTo>
                            <a:pt x="1004" y="2298"/>
                          </a:lnTo>
                          <a:lnTo>
                            <a:pt x="1008" y="2300"/>
                          </a:lnTo>
                          <a:lnTo>
                            <a:pt x="1010" y="2300"/>
                          </a:lnTo>
                          <a:lnTo>
                            <a:pt x="1014" y="2300"/>
                          </a:lnTo>
                          <a:lnTo>
                            <a:pt x="1016" y="2300"/>
                          </a:lnTo>
                          <a:lnTo>
                            <a:pt x="1020" y="2300"/>
                          </a:lnTo>
                          <a:lnTo>
                            <a:pt x="1022" y="2300"/>
                          </a:lnTo>
                          <a:lnTo>
                            <a:pt x="1025" y="2302"/>
                          </a:lnTo>
                          <a:lnTo>
                            <a:pt x="1029" y="2300"/>
                          </a:lnTo>
                          <a:lnTo>
                            <a:pt x="1035" y="2300"/>
                          </a:lnTo>
                          <a:lnTo>
                            <a:pt x="1039" y="2298"/>
                          </a:lnTo>
                          <a:lnTo>
                            <a:pt x="1042" y="2298"/>
                          </a:lnTo>
                          <a:lnTo>
                            <a:pt x="1044" y="2296"/>
                          </a:lnTo>
                          <a:lnTo>
                            <a:pt x="1048" y="2296"/>
                          </a:lnTo>
                          <a:lnTo>
                            <a:pt x="1048" y="2294"/>
                          </a:lnTo>
                          <a:lnTo>
                            <a:pt x="1050" y="2294"/>
                          </a:lnTo>
                          <a:lnTo>
                            <a:pt x="1246" y="1334"/>
                          </a:lnTo>
                          <a:lnTo>
                            <a:pt x="1246" y="1333"/>
                          </a:lnTo>
                          <a:lnTo>
                            <a:pt x="1248" y="1331"/>
                          </a:lnTo>
                          <a:lnTo>
                            <a:pt x="1250" y="1327"/>
                          </a:lnTo>
                          <a:lnTo>
                            <a:pt x="1252" y="1325"/>
                          </a:lnTo>
                          <a:lnTo>
                            <a:pt x="1252" y="1323"/>
                          </a:lnTo>
                          <a:lnTo>
                            <a:pt x="1254" y="1319"/>
                          </a:lnTo>
                          <a:lnTo>
                            <a:pt x="1256" y="1315"/>
                          </a:lnTo>
                          <a:lnTo>
                            <a:pt x="1259" y="1312"/>
                          </a:lnTo>
                          <a:lnTo>
                            <a:pt x="1259" y="1306"/>
                          </a:lnTo>
                          <a:lnTo>
                            <a:pt x="1263" y="1302"/>
                          </a:lnTo>
                          <a:lnTo>
                            <a:pt x="1265" y="1296"/>
                          </a:lnTo>
                          <a:lnTo>
                            <a:pt x="1269" y="1293"/>
                          </a:lnTo>
                          <a:lnTo>
                            <a:pt x="1271" y="1285"/>
                          </a:lnTo>
                          <a:lnTo>
                            <a:pt x="1275" y="1281"/>
                          </a:lnTo>
                          <a:lnTo>
                            <a:pt x="1276" y="1274"/>
                          </a:lnTo>
                          <a:lnTo>
                            <a:pt x="1280" y="1266"/>
                          </a:lnTo>
                          <a:lnTo>
                            <a:pt x="1284" y="1258"/>
                          </a:lnTo>
                          <a:lnTo>
                            <a:pt x="1288" y="1249"/>
                          </a:lnTo>
                          <a:lnTo>
                            <a:pt x="1290" y="1241"/>
                          </a:lnTo>
                          <a:lnTo>
                            <a:pt x="1294" y="1234"/>
                          </a:lnTo>
                          <a:lnTo>
                            <a:pt x="1297" y="1224"/>
                          </a:lnTo>
                          <a:lnTo>
                            <a:pt x="1301" y="1217"/>
                          </a:lnTo>
                          <a:lnTo>
                            <a:pt x="1305" y="1207"/>
                          </a:lnTo>
                          <a:lnTo>
                            <a:pt x="1309" y="1198"/>
                          </a:lnTo>
                          <a:lnTo>
                            <a:pt x="1313" y="1188"/>
                          </a:lnTo>
                          <a:lnTo>
                            <a:pt x="1316" y="1177"/>
                          </a:lnTo>
                          <a:lnTo>
                            <a:pt x="1320" y="1165"/>
                          </a:lnTo>
                          <a:lnTo>
                            <a:pt x="1324" y="1154"/>
                          </a:lnTo>
                          <a:lnTo>
                            <a:pt x="1330" y="1144"/>
                          </a:lnTo>
                          <a:lnTo>
                            <a:pt x="1334" y="1133"/>
                          </a:lnTo>
                          <a:lnTo>
                            <a:pt x="1337" y="1122"/>
                          </a:lnTo>
                          <a:lnTo>
                            <a:pt x="1339" y="1108"/>
                          </a:lnTo>
                          <a:lnTo>
                            <a:pt x="1345" y="1097"/>
                          </a:lnTo>
                          <a:lnTo>
                            <a:pt x="1349" y="1084"/>
                          </a:lnTo>
                          <a:lnTo>
                            <a:pt x="1353" y="1070"/>
                          </a:lnTo>
                          <a:lnTo>
                            <a:pt x="1354" y="1059"/>
                          </a:lnTo>
                          <a:lnTo>
                            <a:pt x="1358" y="1044"/>
                          </a:lnTo>
                          <a:lnTo>
                            <a:pt x="1362" y="1032"/>
                          </a:lnTo>
                          <a:lnTo>
                            <a:pt x="1366" y="1017"/>
                          </a:lnTo>
                          <a:lnTo>
                            <a:pt x="1370" y="1004"/>
                          </a:lnTo>
                          <a:lnTo>
                            <a:pt x="1372" y="988"/>
                          </a:lnTo>
                          <a:lnTo>
                            <a:pt x="1375" y="975"/>
                          </a:lnTo>
                          <a:lnTo>
                            <a:pt x="1377" y="960"/>
                          </a:lnTo>
                          <a:lnTo>
                            <a:pt x="1381" y="947"/>
                          </a:lnTo>
                          <a:lnTo>
                            <a:pt x="1383" y="931"/>
                          </a:lnTo>
                          <a:lnTo>
                            <a:pt x="1387" y="916"/>
                          </a:lnTo>
                          <a:lnTo>
                            <a:pt x="1389" y="901"/>
                          </a:lnTo>
                          <a:lnTo>
                            <a:pt x="1391" y="886"/>
                          </a:lnTo>
                          <a:lnTo>
                            <a:pt x="1392" y="871"/>
                          </a:lnTo>
                          <a:lnTo>
                            <a:pt x="1394" y="855"/>
                          </a:lnTo>
                          <a:lnTo>
                            <a:pt x="1396" y="838"/>
                          </a:lnTo>
                          <a:lnTo>
                            <a:pt x="1398" y="823"/>
                          </a:lnTo>
                          <a:lnTo>
                            <a:pt x="1398" y="806"/>
                          </a:lnTo>
                          <a:lnTo>
                            <a:pt x="1400" y="791"/>
                          </a:lnTo>
                          <a:lnTo>
                            <a:pt x="1402" y="774"/>
                          </a:lnTo>
                          <a:lnTo>
                            <a:pt x="1402" y="757"/>
                          </a:lnTo>
                          <a:lnTo>
                            <a:pt x="1402" y="741"/>
                          </a:lnTo>
                          <a:lnTo>
                            <a:pt x="1402" y="724"/>
                          </a:lnTo>
                          <a:lnTo>
                            <a:pt x="1402" y="705"/>
                          </a:lnTo>
                          <a:lnTo>
                            <a:pt x="1402" y="690"/>
                          </a:lnTo>
                          <a:lnTo>
                            <a:pt x="1400" y="673"/>
                          </a:lnTo>
                          <a:lnTo>
                            <a:pt x="1400" y="656"/>
                          </a:lnTo>
                          <a:lnTo>
                            <a:pt x="1398" y="654"/>
                          </a:lnTo>
                          <a:lnTo>
                            <a:pt x="1398" y="652"/>
                          </a:lnTo>
                          <a:lnTo>
                            <a:pt x="1398" y="648"/>
                          </a:lnTo>
                          <a:lnTo>
                            <a:pt x="1398" y="644"/>
                          </a:lnTo>
                          <a:lnTo>
                            <a:pt x="1398" y="643"/>
                          </a:lnTo>
                          <a:lnTo>
                            <a:pt x="1398" y="639"/>
                          </a:lnTo>
                          <a:lnTo>
                            <a:pt x="1396" y="637"/>
                          </a:lnTo>
                          <a:lnTo>
                            <a:pt x="1396" y="633"/>
                          </a:lnTo>
                          <a:lnTo>
                            <a:pt x="1396" y="631"/>
                          </a:lnTo>
                          <a:lnTo>
                            <a:pt x="1396" y="627"/>
                          </a:lnTo>
                          <a:lnTo>
                            <a:pt x="1396" y="623"/>
                          </a:lnTo>
                          <a:lnTo>
                            <a:pt x="1394" y="620"/>
                          </a:lnTo>
                          <a:lnTo>
                            <a:pt x="1394" y="618"/>
                          </a:lnTo>
                          <a:lnTo>
                            <a:pt x="1394" y="616"/>
                          </a:lnTo>
                          <a:lnTo>
                            <a:pt x="1392" y="612"/>
                          </a:lnTo>
                          <a:lnTo>
                            <a:pt x="1392" y="610"/>
                          </a:lnTo>
                          <a:lnTo>
                            <a:pt x="1392" y="608"/>
                          </a:lnTo>
                          <a:lnTo>
                            <a:pt x="1391" y="604"/>
                          </a:lnTo>
                          <a:lnTo>
                            <a:pt x="1391" y="603"/>
                          </a:lnTo>
                          <a:lnTo>
                            <a:pt x="1391" y="599"/>
                          </a:lnTo>
                          <a:lnTo>
                            <a:pt x="1389" y="597"/>
                          </a:lnTo>
                          <a:lnTo>
                            <a:pt x="1389" y="593"/>
                          </a:lnTo>
                          <a:lnTo>
                            <a:pt x="1389" y="589"/>
                          </a:lnTo>
                          <a:lnTo>
                            <a:pt x="1389" y="587"/>
                          </a:lnTo>
                          <a:lnTo>
                            <a:pt x="1387" y="585"/>
                          </a:lnTo>
                          <a:lnTo>
                            <a:pt x="1385" y="582"/>
                          </a:lnTo>
                          <a:lnTo>
                            <a:pt x="1385" y="580"/>
                          </a:lnTo>
                          <a:lnTo>
                            <a:pt x="1383" y="578"/>
                          </a:lnTo>
                          <a:lnTo>
                            <a:pt x="1383" y="572"/>
                          </a:lnTo>
                          <a:lnTo>
                            <a:pt x="1381" y="568"/>
                          </a:lnTo>
                          <a:lnTo>
                            <a:pt x="1377" y="563"/>
                          </a:lnTo>
                          <a:lnTo>
                            <a:pt x="1375" y="557"/>
                          </a:lnTo>
                          <a:lnTo>
                            <a:pt x="1373" y="553"/>
                          </a:lnTo>
                          <a:lnTo>
                            <a:pt x="1370" y="547"/>
                          </a:lnTo>
                          <a:lnTo>
                            <a:pt x="1366" y="544"/>
                          </a:lnTo>
                          <a:lnTo>
                            <a:pt x="1364" y="540"/>
                          </a:lnTo>
                          <a:lnTo>
                            <a:pt x="1360" y="536"/>
                          </a:lnTo>
                          <a:lnTo>
                            <a:pt x="1356" y="532"/>
                          </a:lnTo>
                          <a:lnTo>
                            <a:pt x="1353" y="528"/>
                          </a:lnTo>
                          <a:lnTo>
                            <a:pt x="1349" y="525"/>
                          </a:lnTo>
                          <a:lnTo>
                            <a:pt x="1345" y="523"/>
                          </a:lnTo>
                          <a:lnTo>
                            <a:pt x="1339" y="521"/>
                          </a:lnTo>
                          <a:lnTo>
                            <a:pt x="1335" y="517"/>
                          </a:lnTo>
                          <a:lnTo>
                            <a:pt x="1332" y="515"/>
                          </a:lnTo>
                          <a:lnTo>
                            <a:pt x="1326" y="515"/>
                          </a:lnTo>
                          <a:lnTo>
                            <a:pt x="1322" y="513"/>
                          </a:lnTo>
                          <a:lnTo>
                            <a:pt x="1318" y="511"/>
                          </a:lnTo>
                          <a:lnTo>
                            <a:pt x="1316" y="511"/>
                          </a:lnTo>
                          <a:lnTo>
                            <a:pt x="1313" y="511"/>
                          </a:lnTo>
                          <a:lnTo>
                            <a:pt x="1311" y="511"/>
                          </a:lnTo>
                          <a:lnTo>
                            <a:pt x="1309" y="509"/>
                          </a:lnTo>
                          <a:lnTo>
                            <a:pt x="1305" y="509"/>
                          </a:lnTo>
                          <a:lnTo>
                            <a:pt x="1303" y="509"/>
                          </a:lnTo>
                          <a:lnTo>
                            <a:pt x="1301" y="509"/>
                          </a:lnTo>
                          <a:lnTo>
                            <a:pt x="1297" y="509"/>
                          </a:lnTo>
                          <a:lnTo>
                            <a:pt x="1295" y="509"/>
                          </a:lnTo>
                          <a:lnTo>
                            <a:pt x="1292" y="509"/>
                          </a:lnTo>
                          <a:lnTo>
                            <a:pt x="1290" y="509"/>
                          </a:lnTo>
                          <a:lnTo>
                            <a:pt x="1284" y="509"/>
                          </a:lnTo>
                          <a:lnTo>
                            <a:pt x="1280" y="509"/>
                          </a:lnTo>
                          <a:lnTo>
                            <a:pt x="1275" y="509"/>
                          </a:lnTo>
                          <a:lnTo>
                            <a:pt x="1269" y="509"/>
                          </a:lnTo>
                          <a:lnTo>
                            <a:pt x="1265" y="509"/>
                          </a:lnTo>
                          <a:lnTo>
                            <a:pt x="1259" y="509"/>
                          </a:lnTo>
                          <a:lnTo>
                            <a:pt x="1256" y="511"/>
                          </a:lnTo>
                          <a:lnTo>
                            <a:pt x="1252" y="511"/>
                          </a:lnTo>
                          <a:lnTo>
                            <a:pt x="1246" y="515"/>
                          </a:lnTo>
                          <a:lnTo>
                            <a:pt x="1242" y="515"/>
                          </a:lnTo>
                          <a:lnTo>
                            <a:pt x="1238" y="517"/>
                          </a:lnTo>
                          <a:lnTo>
                            <a:pt x="1235" y="521"/>
                          </a:lnTo>
                          <a:lnTo>
                            <a:pt x="1231" y="523"/>
                          </a:lnTo>
                          <a:lnTo>
                            <a:pt x="1229" y="525"/>
                          </a:lnTo>
                          <a:lnTo>
                            <a:pt x="1225" y="527"/>
                          </a:lnTo>
                          <a:lnTo>
                            <a:pt x="1221" y="530"/>
                          </a:lnTo>
                          <a:lnTo>
                            <a:pt x="1219" y="532"/>
                          </a:lnTo>
                          <a:lnTo>
                            <a:pt x="1216" y="538"/>
                          </a:lnTo>
                          <a:lnTo>
                            <a:pt x="1214" y="542"/>
                          </a:lnTo>
                          <a:lnTo>
                            <a:pt x="1212" y="546"/>
                          </a:lnTo>
                          <a:lnTo>
                            <a:pt x="1210" y="549"/>
                          </a:lnTo>
                          <a:lnTo>
                            <a:pt x="1208" y="555"/>
                          </a:lnTo>
                          <a:lnTo>
                            <a:pt x="1208" y="557"/>
                          </a:lnTo>
                          <a:lnTo>
                            <a:pt x="1206" y="559"/>
                          </a:lnTo>
                          <a:lnTo>
                            <a:pt x="1204" y="561"/>
                          </a:lnTo>
                          <a:lnTo>
                            <a:pt x="1204" y="565"/>
                          </a:lnTo>
                          <a:lnTo>
                            <a:pt x="1204" y="566"/>
                          </a:lnTo>
                          <a:lnTo>
                            <a:pt x="1204" y="570"/>
                          </a:lnTo>
                          <a:lnTo>
                            <a:pt x="1204" y="572"/>
                          </a:lnTo>
                          <a:lnTo>
                            <a:pt x="1204" y="576"/>
                          </a:lnTo>
                          <a:lnTo>
                            <a:pt x="1139" y="895"/>
                          </a:lnTo>
                          <a:lnTo>
                            <a:pt x="1136" y="893"/>
                          </a:lnTo>
                          <a:lnTo>
                            <a:pt x="1132" y="892"/>
                          </a:lnTo>
                          <a:lnTo>
                            <a:pt x="1126" y="888"/>
                          </a:lnTo>
                          <a:lnTo>
                            <a:pt x="1122" y="886"/>
                          </a:lnTo>
                          <a:lnTo>
                            <a:pt x="1117" y="884"/>
                          </a:lnTo>
                          <a:lnTo>
                            <a:pt x="1113" y="880"/>
                          </a:lnTo>
                          <a:lnTo>
                            <a:pt x="1107" y="878"/>
                          </a:lnTo>
                          <a:lnTo>
                            <a:pt x="1105" y="876"/>
                          </a:lnTo>
                          <a:lnTo>
                            <a:pt x="1227" y="316"/>
                          </a:lnTo>
                          <a:lnTo>
                            <a:pt x="1227" y="312"/>
                          </a:lnTo>
                          <a:lnTo>
                            <a:pt x="1227" y="308"/>
                          </a:lnTo>
                          <a:lnTo>
                            <a:pt x="1229" y="306"/>
                          </a:lnTo>
                          <a:lnTo>
                            <a:pt x="1229" y="304"/>
                          </a:lnTo>
                          <a:lnTo>
                            <a:pt x="1229" y="300"/>
                          </a:lnTo>
                          <a:lnTo>
                            <a:pt x="1229" y="298"/>
                          </a:lnTo>
                          <a:lnTo>
                            <a:pt x="1229" y="295"/>
                          </a:lnTo>
                          <a:lnTo>
                            <a:pt x="1229" y="293"/>
                          </a:lnTo>
                          <a:lnTo>
                            <a:pt x="1229" y="291"/>
                          </a:lnTo>
                          <a:lnTo>
                            <a:pt x="1229" y="287"/>
                          </a:lnTo>
                          <a:lnTo>
                            <a:pt x="1229" y="285"/>
                          </a:lnTo>
                          <a:lnTo>
                            <a:pt x="1229" y="283"/>
                          </a:lnTo>
                          <a:lnTo>
                            <a:pt x="1229" y="278"/>
                          </a:lnTo>
                          <a:lnTo>
                            <a:pt x="1227" y="272"/>
                          </a:lnTo>
                          <a:lnTo>
                            <a:pt x="1225" y="268"/>
                          </a:lnTo>
                          <a:lnTo>
                            <a:pt x="1225" y="262"/>
                          </a:lnTo>
                          <a:lnTo>
                            <a:pt x="1223" y="257"/>
                          </a:lnTo>
                          <a:lnTo>
                            <a:pt x="1221" y="253"/>
                          </a:lnTo>
                          <a:lnTo>
                            <a:pt x="1219" y="247"/>
                          </a:lnTo>
                          <a:lnTo>
                            <a:pt x="1217" y="243"/>
                          </a:lnTo>
                          <a:lnTo>
                            <a:pt x="1216" y="240"/>
                          </a:lnTo>
                          <a:lnTo>
                            <a:pt x="1214" y="236"/>
                          </a:lnTo>
                          <a:lnTo>
                            <a:pt x="1210" y="232"/>
                          </a:lnTo>
                          <a:lnTo>
                            <a:pt x="1206" y="226"/>
                          </a:lnTo>
                          <a:lnTo>
                            <a:pt x="1202" y="222"/>
                          </a:lnTo>
                          <a:lnTo>
                            <a:pt x="1200" y="219"/>
                          </a:lnTo>
                          <a:lnTo>
                            <a:pt x="1197" y="215"/>
                          </a:lnTo>
                          <a:lnTo>
                            <a:pt x="1193" y="211"/>
                          </a:lnTo>
                          <a:lnTo>
                            <a:pt x="1189" y="207"/>
                          </a:lnTo>
                          <a:lnTo>
                            <a:pt x="1185" y="205"/>
                          </a:lnTo>
                          <a:lnTo>
                            <a:pt x="1179" y="203"/>
                          </a:lnTo>
                          <a:lnTo>
                            <a:pt x="1176" y="200"/>
                          </a:lnTo>
                          <a:lnTo>
                            <a:pt x="1172" y="198"/>
                          </a:lnTo>
                          <a:lnTo>
                            <a:pt x="1166" y="194"/>
                          </a:lnTo>
                          <a:lnTo>
                            <a:pt x="1160" y="192"/>
                          </a:lnTo>
                          <a:lnTo>
                            <a:pt x="1157" y="192"/>
                          </a:lnTo>
                          <a:lnTo>
                            <a:pt x="1151" y="190"/>
                          </a:lnTo>
                          <a:lnTo>
                            <a:pt x="1147" y="190"/>
                          </a:lnTo>
                          <a:lnTo>
                            <a:pt x="1143" y="188"/>
                          </a:lnTo>
                          <a:lnTo>
                            <a:pt x="1141" y="186"/>
                          </a:lnTo>
                          <a:lnTo>
                            <a:pt x="1138" y="186"/>
                          </a:lnTo>
                          <a:lnTo>
                            <a:pt x="1136" y="186"/>
                          </a:lnTo>
                          <a:lnTo>
                            <a:pt x="1134" y="186"/>
                          </a:lnTo>
                          <a:lnTo>
                            <a:pt x="1130" y="186"/>
                          </a:lnTo>
                          <a:lnTo>
                            <a:pt x="1128" y="186"/>
                          </a:lnTo>
                          <a:lnTo>
                            <a:pt x="1124" y="186"/>
                          </a:lnTo>
                          <a:lnTo>
                            <a:pt x="1122" y="186"/>
                          </a:lnTo>
                          <a:lnTo>
                            <a:pt x="1120" y="186"/>
                          </a:lnTo>
                          <a:lnTo>
                            <a:pt x="1117" y="186"/>
                          </a:lnTo>
                          <a:lnTo>
                            <a:pt x="1115" y="186"/>
                          </a:lnTo>
                          <a:lnTo>
                            <a:pt x="1109" y="186"/>
                          </a:lnTo>
                          <a:lnTo>
                            <a:pt x="1105" y="188"/>
                          </a:lnTo>
                          <a:lnTo>
                            <a:pt x="1100" y="188"/>
                          </a:lnTo>
                          <a:lnTo>
                            <a:pt x="1094" y="190"/>
                          </a:lnTo>
                          <a:lnTo>
                            <a:pt x="1090" y="192"/>
                          </a:lnTo>
                          <a:lnTo>
                            <a:pt x="1086" y="192"/>
                          </a:lnTo>
                          <a:lnTo>
                            <a:pt x="1081" y="194"/>
                          </a:lnTo>
                          <a:lnTo>
                            <a:pt x="1077" y="198"/>
                          </a:lnTo>
                          <a:lnTo>
                            <a:pt x="1073" y="200"/>
                          </a:lnTo>
                          <a:lnTo>
                            <a:pt x="1067" y="203"/>
                          </a:lnTo>
                          <a:lnTo>
                            <a:pt x="1063" y="205"/>
                          </a:lnTo>
                          <a:lnTo>
                            <a:pt x="1058" y="207"/>
                          </a:lnTo>
                          <a:lnTo>
                            <a:pt x="1054" y="211"/>
                          </a:lnTo>
                          <a:lnTo>
                            <a:pt x="1050" y="215"/>
                          </a:lnTo>
                          <a:lnTo>
                            <a:pt x="1048" y="219"/>
                          </a:lnTo>
                          <a:lnTo>
                            <a:pt x="1044" y="222"/>
                          </a:lnTo>
                          <a:lnTo>
                            <a:pt x="1041" y="226"/>
                          </a:lnTo>
                          <a:lnTo>
                            <a:pt x="1039" y="232"/>
                          </a:lnTo>
                          <a:lnTo>
                            <a:pt x="1035" y="234"/>
                          </a:lnTo>
                          <a:lnTo>
                            <a:pt x="1033" y="240"/>
                          </a:lnTo>
                          <a:lnTo>
                            <a:pt x="1029" y="243"/>
                          </a:lnTo>
                          <a:lnTo>
                            <a:pt x="1027" y="249"/>
                          </a:lnTo>
                          <a:lnTo>
                            <a:pt x="1025" y="253"/>
                          </a:lnTo>
                          <a:lnTo>
                            <a:pt x="1023" y="259"/>
                          </a:lnTo>
                          <a:lnTo>
                            <a:pt x="1022" y="260"/>
                          </a:lnTo>
                          <a:lnTo>
                            <a:pt x="1022" y="264"/>
                          </a:lnTo>
                          <a:lnTo>
                            <a:pt x="1022" y="266"/>
                          </a:lnTo>
                          <a:lnTo>
                            <a:pt x="1022" y="270"/>
                          </a:lnTo>
                          <a:lnTo>
                            <a:pt x="919" y="730"/>
                          </a:lnTo>
                          <a:lnTo>
                            <a:pt x="915" y="728"/>
                          </a:lnTo>
                          <a:lnTo>
                            <a:pt x="913" y="726"/>
                          </a:lnTo>
                          <a:lnTo>
                            <a:pt x="907" y="724"/>
                          </a:lnTo>
                          <a:lnTo>
                            <a:pt x="905" y="720"/>
                          </a:lnTo>
                          <a:lnTo>
                            <a:pt x="904" y="719"/>
                          </a:lnTo>
                          <a:lnTo>
                            <a:pt x="900" y="717"/>
                          </a:lnTo>
                          <a:lnTo>
                            <a:pt x="896" y="713"/>
                          </a:lnTo>
                          <a:lnTo>
                            <a:pt x="892" y="713"/>
                          </a:lnTo>
                          <a:lnTo>
                            <a:pt x="1022" y="129"/>
                          </a:lnTo>
                          <a:lnTo>
                            <a:pt x="1022" y="125"/>
                          </a:lnTo>
                          <a:lnTo>
                            <a:pt x="1022" y="124"/>
                          </a:lnTo>
                          <a:lnTo>
                            <a:pt x="1022" y="120"/>
                          </a:lnTo>
                          <a:lnTo>
                            <a:pt x="1022" y="118"/>
                          </a:lnTo>
                          <a:lnTo>
                            <a:pt x="1022" y="114"/>
                          </a:lnTo>
                          <a:lnTo>
                            <a:pt x="1022" y="112"/>
                          </a:lnTo>
                          <a:lnTo>
                            <a:pt x="1022" y="110"/>
                          </a:lnTo>
                          <a:lnTo>
                            <a:pt x="1022" y="106"/>
                          </a:lnTo>
                          <a:lnTo>
                            <a:pt x="1022" y="105"/>
                          </a:lnTo>
                          <a:lnTo>
                            <a:pt x="1022" y="103"/>
                          </a:lnTo>
                          <a:lnTo>
                            <a:pt x="1022" y="99"/>
                          </a:lnTo>
                          <a:lnTo>
                            <a:pt x="1022" y="97"/>
                          </a:lnTo>
                          <a:lnTo>
                            <a:pt x="1022" y="91"/>
                          </a:lnTo>
                          <a:lnTo>
                            <a:pt x="1022" y="86"/>
                          </a:lnTo>
                          <a:lnTo>
                            <a:pt x="1020" y="82"/>
                          </a:lnTo>
                          <a:lnTo>
                            <a:pt x="1018" y="76"/>
                          </a:lnTo>
                          <a:lnTo>
                            <a:pt x="1016" y="70"/>
                          </a:lnTo>
                          <a:lnTo>
                            <a:pt x="1014" y="67"/>
                          </a:lnTo>
                          <a:lnTo>
                            <a:pt x="1012" y="61"/>
                          </a:lnTo>
                          <a:lnTo>
                            <a:pt x="1010" y="57"/>
                          </a:lnTo>
                          <a:lnTo>
                            <a:pt x="1008" y="53"/>
                          </a:lnTo>
                          <a:lnTo>
                            <a:pt x="1006" y="48"/>
                          </a:lnTo>
                          <a:lnTo>
                            <a:pt x="1004" y="44"/>
                          </a:lnTo>
                          <a:lnTo>
                            <a:pt x="1001" y="40"/>
                          </a:lnTo>
                          <a:lnTo>
                            <a:pt x="997" y="36"/>
                          </a:lnTo>
                          <a:lnTo>
                            <a:pt x="993" y="32"/>
                          </a:lnTo>
                          <a:lnTo>
                            <a:pt x="991" y="29"/>
                          </a:lnTo>
                          <a:lnTo>
                            <a:pt x="985" y="25"/>
                          </a:lnTo>
                          <a:lnTo>
                            <a:pt x="983" y="23"/>
                          </a:lnTo>
                          <a:lnTo>
                            <a:pt x="978" y="19"/>
                          </a:lnTo>
                          <a:lnTo>
                            <a:pt x="972" y="17"/>
                          </a:lnTo>
                          <a:lnTo>
                            <a:pt x="968" y="13"/>
                          </a:lnTo>
                          <a:lnTo>
                            <a:pt x="964" y="11"/>
                          </a:lnTo>
                          <a:lnTo>
                            <a:pt x="961" y="10"/>
                          </a:lnTo>
                          <a:lnTo>
                            <a:pt x="955" y="6"/>
                          </a:lnTo>
                          <a:lnTo>
                            <a:pt x="949" y="6"/>
                          </a:lnTo>
                          <a:lnTo>
                            <a:pt x="944" y="4"/>
                          </a:lnTo>
                          <a:lnTo>
                            <a:pt x="940" y="4"/>
                          </a:lnTo>
                          <a:lnTo>
                            <a:pt x="936" y="2"/>
                          </a:lnTo>
                          <a:lnTo>
                            <a:pt x="934" y="2"/>
                          </a:lnTo>
                          <a:lnTo>
                            <a:pt x="932" y="0"/>
                          </a:lnTo>
                          <a:lnTo>
                            <a:pt x="928" y="0"/>
                          </a:lnTo>
                          <a:lnTo>
                            <a:pt x="926" y="0"/>
                          </a:lnTo>
                          <a:lnTo>
                            <a:pt x="925" y="0"/>
                          </a:lnTo>
                          <a:lnTo>
                            <a:pt x="921" y="0"/>
                          </a:lnTo>
                          <a:lnTo>
                            <a:pt x="919" y="0"/>
                          </a:lnTo>
                          <a:lnTo>
                            <a:pt x="915" y="0"/>
                          </a:lnTo>
                          <a:lnTo>
                            <a:pt x="913" y="0"/>
                          </a:lnTo>
                          <a:lnTo>
                            <a:pt x="911" y="0"/>
                          </a:lnTo>
                          <a:lnTo>
                            <a:pt x="907" y="0"/>
                          </a:lnTo>
                          <a:lnTo>
                            <a:pt x="904" y="0"/>
                          </a:lnTo>
                          <a:lnTo>
                            <a:pt x="898" y="2"/>
                          </a:lnTo>
                          <a:lnTo>
                            <a:pt x="896" y="2"/>
                          </a:lnTo>
                          <a:lnTo>
                            <a:pt x="892" y="2"/>
                          </a:lnTo>
                          <a:lnTo>
                            <a:pt x="890" y="2"/>
                          </a:lnTo>
                          <a:lnTo>
                            <a:pt x="888" y="4"/>
                          </a:lnTo>
                          <a:lnTo>
                            <a:pt x="881" y="4"/>
                          </a:lnTo>
                          <a:lnTo>
                            <a:pt x="877" y="6"/>
                          </a:lnTo>
                          <a:lnTo>
                            <a:pt x="873" y="10"/>
                          </a:lnTo>
                          <a:lnTo>
                            <a:pt x="867" y="11"/>
                          </a:lnTo>
                          <a:lnTo>
                            <a:pt x="864" y="15"/>
                          </a:lnTo>
                          <a:lnTo>
                            <a:pt x="860" y="17"/>
                          </a:lnTo>
                          <a:lnTo>
                            <a:pt x="854" y="19"/>
                          </a:lnTo>
                          <a:lnTo>
                            <a:pt x="850" y="23"/>
                          </a:lnTo>
                          <a:lnTo>
                            <a:pt x="847" y="25"/>
                          </a:lnTo>
                          <a:lnTo>
                            <a:pt x="843" y="29"/>
                          </a:lnTo>
                          <a:lnTo>
                            <a:pt x="839" y="32"/>
                          </a:lnTo>
                          <a:lnTo>
                            <a:pt x="835" y="36"/>
                          </a:lnTo>
                          <a:lnTo>
                            <a:pt x="833" y="40"/>
                          </a:lnTo>
                          <a:lnTo>
                            <a:pt x="831" y="44"/>
                          </a:lnTo>
                          <a:lnTo>
                            <a:pt x="828" y="48"/>
                          </a:lnTo>
                          <a:lnTo>
                            <a:pt x="824" y="53"/>
                          </a:lnTo>
                          <a:lnTo>
                            <a:pt x="822" y="57"/>
                          </a:lnTo>
                          <a:lnTo>
                            <a:pt x="820" y="61"/>
                          </a:lnTo>
                          <a:lnTo>
                            <a:pt x="818" y="67"/>
                          </a:lnTo>
                          <a:lnTo>
                            <a:pt x="816" y="70"/>
                          </a:lnTo>
                          <a:lnTo>
                            <a:pt x="816" y="74"/>
                          </a:lnTo>
                          <a:lnTo>
                            <a:pt x="814" y="76"/>
                          </a:lnTo>
                          <a:lnTo>
                            <a:pt x="812" y="82"/>
                          </a:lnTo>
                          <a:lnTo>
                            <a:pt x="812" y="84"/>
                          </a:lnTo>
                          <a:lnTo>
                            <a:pt x="687" y="663"/>
                          </a:lnTo>
                          <a:lnTo>
                            <a:pt x="681" y="663"/>
                          </a:lnTo>
                          <a:lnTo>
                            <a:pt x="677" y="663"/>
                          </a:lnTo>
                          <a:lnTo>
                            <a:pt x="673" y="663"/>
                          </a:lnTo>
                          <a:lnTo>
                            <a:pt x="670" y="663"/>
                          </a:lnTo>
                          <a:lnTo>
                            <a:pt x="666" y="663"/>
                          </a:lnTo>
                          <a:lnTo>
                            <a:pt x="660" y="665"/>
                          </a:lnTo>
                          <a:lnTo>
                            <a:pt x="656" y="665"/>
                          </a:lnTo>
                          <a:lnTo>
                            <a:pt x="652" y="667"/>
                          </a:lnTo>
                          <a:lnTo>
                            <a:pt x="753" y="213"/>
                          </a:lnTo>
                          <a:lnTo>
                            <a:pt x="753" y="209"/>
                          </a:lnTo>
                          <a:lnTo>
                            <a:pt x="753" y="207"/>
                          </a:lnTo>
                          <a:lnTo>
                            <a:pt x="753" y="203"/>
                          </a:lnTo>
                          <a:lnTo>
                            <a:pt x="753" y="201"/>
                          </a:lnTo>
                          <a:lnTo>
                            <a:pt x="753" y="198"/>
                          </a:lnTo>
                          <a:lnTo>
                            <a:pt x="753" y="196"/>
                          </a:lnTo>
                          <a:lnTo>
                            <a:pt x="753" y="192"/>
                          </a:lnTo>
                          <a:lnTo>
                            <a:pt x="753" y="190"/>
                          </a:lnTo>
                          <a:lnTo>
                            <a:pt x="753" y="188"/>
                          </a:lnTo>
                          <a:lnTo>
                            <a:pt x="753" y="184"/>
                          </a:lnTo>
                          <a:lnTo>
                            <a:pt x="753" y="182"/>
                          </a:lnTo>
                          <a:lnTo>
                            <a:pt x="753" y="181"/>
                          </a:lnTo>
                          <a:lnTo>
                            <a:pt x="753" y="175"/>
                          </a:lnTo>
                          <a:lnTo>
                            <a:pt x="753" y="169"/>
                          </a:lnTo>
                          <a:lnTo>
                            <a:pt x="751" y="167"/>
                          </a:lnTo>
                          <a:lnTo>
                            <a:pt x="751" y="163"/>
                          </a:lnTo>
                          <a:lnTo>
                            <a:pt x="751" y="162"/>
                          </a:lnTo>
                          <a:lnTo>
                            <a:pt x="750" y="160"/>
                          </a:lnTo>
                          <a:lnTo>
                            <a:pt x="748" y="154"/>
                          </a:lnTo>
                          <a:lnTo>
                            <a:pt x="746" y="148"/>
                          </a:lnTo>
                          <a:lnTo>
                            <a:pt x="744" y="144"/>
                          </a:lnTo>
                          <a:lnTo>
                            <a:pt x="742" y="141"/>
                          </a:lnTo>
                          <a:lnTo>
                            <a:pt x="740" y="135"/>
                          </a:lnTo>
                          <a:lnTo>
                            <a:pt x="738" y="131"/>
                          </a:lnTo>
                          <a:lnTo>
                            <a:pt x="734" y="127"/>
                          </a:lnTo>
                          <a:lnTo>
                            <a:pt x="730" y="124"/>
                          </a:lnTo>
                          <a:lnTo>
                            <a:pt x="727" y="120"/>
                          </a:lnTo>
                          <a:lnTo>
                            <a:pt x="725" y="116"/>
                          </a:lnTo>
                          <a:lnTo>
                            <a:pt x="721" y="112"/>
                          </a:lnTo>
                          <a:lnTo>
                            <a:pt x="717" y="108"/>
                          </a:lnTo>
                          <a:lnTo>
                            <a:pt x="713" y="105"/>
                          </a:lnTo>
                          <a:lnTo>
                            <a:pt x="710" y="103"/>
                          </a:lnTo>
                          <a:lnTo>
                            <a:pt x="704" y="99"/>
                          </a:lnTo>
                          <a:lnTo>
                            <a:pt x="700" y="97"/>
                          </a:lnTo>
                          <a:lnTo>
                            <a:pt x="694" y="95"/>
                          </a:lnTo>
                          <a:lnTo>
                            <a:pt x="691" y="91"/>
                          </a:lnTo>
                          <a:lnTo>
                            <a:pt x="685" y="89"/>
                          </a:lnTo>
                          <a:lnTo>
                            <a:pt x="681" y="87"/>
                          </a:lnTo>
                          <a:lnTo>
                            <a:pt x="675" y="86"/>
                          </a:lnTo>
                          <a:lnTo>
                            <a:pt x="672" y="86"/>
                          </a:lnTo>
                          <a:lnTo>
                            <a:pt x="668" y="84"/>
                          </a:lnTo>
                          <a:lnTo>
                            <a:pt x="666" y="84"/>
                          </a:lnTo>
                          <a:lnTo>
                            <a:pt x="664" y="84"/>
                          </a:lnTo>
                          <a:lnTo>
                            <a:pt x="660" y="84"/>
                          </a:lnTo>
                          <a:lnTo>
                            <a:pt x="658" y="84"/>
                          </a:lnTo>
                          <a:lnTo>
                            <a:pt x="654" y="84"/>
                          </a:lnTo>
                          <a:lnTo>
                            <a:pt x="652" y="84"/>
                          </a:lnTo>
                          <a:lnTo>
                            <a:pt x="651" y="84"/>
                          </a:lnTo>
                          <a:lnTo>
                            <a:pt x="647" y="84"/>
                          </a:lnTo>
                          <a:lnTo>
                            <a:pt x="645" y="84"/>
                          </a:lnTo>
                          <a:lnTo>
                            <a:pt x="643" y="84"/>
                          </a:lnTo>
                          <a:lnTo>
                            <a:pt x="639" y="84"/>
                          </a:lnTo>
                          <a:lnTo>
                            <a:pt x="635" y="84"/>
                          </a:lnTo>
                          <a:lnTo>
                            <a:pt x="630" y="84"/>
                          </a:lnTo>
                          <a:lnTo>
                            <a:pt x="628" y="84"/>
                          </a:lnTo>
                          <a:lnTo>
                            <a:pt x="624" y="86"/>
                          </a:lnTo>
                          <a:lnTo>
                            <a:pt x="622" y="86"/>
                          </a:lnTo>
                          <a:lnTo>
                            <a:pt x="618" y="86"/>
                          </a:lnTo>
                          <a:lnTo>
                            <a:pt x="614" y="87"/>
                          </a:lnTo>
                          <a:lnTo>
                            <a:pt x="609" y="89"/>
                          </a:lnTo>
                          <a:lnTo>
                            <a:pt x="603" y="91"/>
                          </a:lnTo>
                          <a:lnTo>
                            <a:pt x="599" y="95"/>
                          </a:lnTo>
                          <a:lnTo>
                            <a:pt x="595" y="97"/>
                          </a:lnTo>
                          <a:lnTo>
                            <a:pt x="592" y="99"/>
                          </a:lnTo>
                          <a:lnTo>
                            <a:pt x="586" y="103"/>
                          </a:lnTo>
                          <a:lnTo>
                            <a:pt x="582" y="105"/>
                          </a:lnTo>
                          <a:lnTo>
                            <a:pt x="578" y="108"/>
                          </a:lnTo>
                          <a:lnTo>
                            <a:pt x="574" y="112"/>
                          </a:lnTo>
                          <a:lnTo>
                            <a:pt x="571" y="116"/>
                          </a:lnTo>
                          <a:lnTo>
                            <a:pt x="567" y="120"/>
                          </a:lnTo>
                          <a:lnTo>
                            <a:pt x="565" y="124"/>
                          </a:lnTo>
                          <a:lnTo>
                            <a:pt x="563" y="127"/>
                          </a:lnTo>
                          <a:lnTo>
                            <a:pt x="559" y="131"/>
                          </a:lnTo>
                          <a:lnTo>
                            <a:pt x="555" y="135"/>
                          </a:lnTo>
                          <a:lnTo>
                            <a:pt x="554" y="141"/>
                          </a:lnTo>
                          <a:lnTo>
                            <a:pt x="552" y="146"/>
                          </a:lnTo>
                          <a:lnTo>
                            <a:pt x="550" y="150"/>
                          </a:lnTo>
                          <a:lnTo>
                            <a:pt x="548" y="156"/>
                          </a:lnTo>
                          <a:lnTo>
                            <a:pt x="546" y="158"/>
                          </a:lnTo>
                          <a:lnTo>
                            <a:pt x="546" y="160"/>
                          </a:lnTo>
                          <a:lnTo>
                            <a:pt x="544" y="163"/>
                          </a:lnTo>
                          <a:lnTo>
                            <a:pt x="544" y="167"/>
                          </a:lnTo>
                          <a:lnTo>
                            <a:pt x="361" y="1127"/>
                          </a:lnTo>
                          <a:lnTo>
                            <a:pt x="361" y="1127"/>
                          </a:lnTo>
                          <a:close/>
                        </a:path>
                      </a:pathLst>
                    </a:custGeom>
                    <a:solidFill>
                      <a:srgbClr val="eaeaea"/>
                    </a:soli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23" name="AutoShape 31"/>
                  <p:cNvSpPr/>
                  <p:nvPr/>
                </p:nvSpPr>
                <p:spPr>
                  <a:xfrm rot="20352000">
                    <a:off x="4812480" y="2982960"/>
                    <a:ext cx="88560" cy="75960"/>
                  </a:xfrm>
                  <a:prstGeom prst="hexagon">
                    <a:avLst>
                      <a:gd name="adj" fmla="val 29147"/>
                      <a:gd name="vf" fmla="val 115470"/>
                    </a:avLst>
                  </a:prstGeom>
                  <a:solidFill>
                    <a:srgbClr val="ff0000"/>
                  </a:solidFill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24" name="AutoShape 32"/>
              <p:cNvSpPr/>
              <p:nvPr/>
            </p:nvSpPr>
            <p:spPr>
              <a:xfrm rot="20369400">
                <a:off x="4652280" y="2661480"/>
                <a:ext cx="180000" cy="121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210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5" name="AutoShape 33"/>
            <p:cNvSpPr/>
            <p:nvPr/>
          </p:nvSpPr>
          <p:spPr>
            <a:xfrm rot="20383800">
              <a:off x="4887000" y="3344400"/>
              <a:ext cx="192600" cy="5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308" y="21600"/>
                  </a:lnTo>
                  <a:lnTo>
                    <a:pt x="1729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ffffff"/>
                </a:gs>
              </a:gsLst>
              <a:lin ang="2100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6" name="Group 34"/>
          <p:cNvGrpSpPr/>
          <p:nvPr/>
        </p:nvGrpSpPr>
        <p:grpSpPr>
          <a:xfrm>
            <a:off x="4373280" y="2458800"/>
            <a:ext cx="807480" cy="2124000"/>
            <a:chOff x="4373280" y="2458800"/>
            <a:chExt cx="807480" cy="2124000"/>
          </a:xfrm>
        </p:grpSpPr>
        <p:grpSp>
          <p:nvGrpSpPr>
            <p:cNvPr id="2627" name="Group 35"/>
            <p:cNvGrpSpPr/>
            <p:nvPr/>
          </p:nvGrpSpPr>
          <p:grpSpPr>
            <a:xfrm>
              <a:off x="4373280" y="3429720"/>
              <a:ext cx="545040" cy="1153080"/>
              <a:chOff x="4373280" y="3429720"/>
              <a:chExt cx="545040" cy="1153080"/>
            </a:xfrm>
          </p:grpSpPr>
          <p:grpSp>
            <p:nvGrpSpPr>
              <p:cNvPr id="2628" name="Group 36"/>
              <p:cNvGrpSpPr/>
              <p:nvPr/>
            </p:nvGrpSpPr>
            <p:grpSpPr>
              <a:xfrm>
                <a:off x="4373280" y="3429720"/>
                <a:ext cx="526680" cy="1153080"/>
                <a:chOff x="4373280" y="3429720"/>
                <a:chExt cx="526680" cy="1153080"/>
              </a:xfrm>
            </p:grpSpPr>
            <p:grpSp>
              <p:nvGrpSpPr>
                <p:cNvPr id="2629" name="Group 37"/>
                <p:cNvGrpSpPr/>
                <p:nvPr/>
              </p:nvGrpSpPr>
              <p:grpSpPr>
                <a:xfrm>
                  <a:off x="4373280" y="3970800"/>
                  <a:ext cx="450720" cy="612000"/>
                  <a:chOff x="4373280" y="3970800"/>
                  <a:chExt cx="450720" cy="612000"/>
                </a:xfrm>
              </p:grpSpPr>
              <p:sp>
                <p:nvSpPr>
                  <p:cNvPr id="2630" name="AutoShape 38"/>
                  <p:cNvSpPr/>
                  <p:nvPr/>
                </p:nvSpPr>
                <p:spPr>
                  <a:xfrm rot="11766600">
                    <a:off x="4463280" y="3997080"/>
                    <a:ext cx="2444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31" name="Group 39"/>
                  <p:cNvGrpSpPr/>
                  <p:nvPr/>
                </p:nvGrpSpPr>
                <p:grpSpPr>
                  <a:xfrm>
                    <a:off x="4373280" y="4315320"/>
                    <a:ext cx="450720" cy="267480"/>
                    <a:chOff x="4373280" y="4315320"/>
                    <a:chExt cx="450720" cy="267480"/>
                  </a:xfrm>
                </p:grpSpPr>
                <p:grpSp>
                  <p:nvGrpSpPr>
                    <p:cNvPr id="2632" name="Group 40"/>
                    <p:cNvGrpSpPr/>
                    <p:nvPr/>
                  </p:nvGrpSpPr>
                  <p:grpSpPr>
                    <a:xfrm>
                      <a:off x="4373280" y="4344840"/>
                      <a:ext cx="450720" cy="237960"/>
                      <a:chOff x="4373280" y="4344840"/>
                      <a:chExt cx="450720" cy="237960"/>
                    </a:xfrm>
                  </p:grpSpPr>
                  <p:grpSp>
                    <p:nvGrpSpPr>
                      <p:cNvPr id="2633" name="Group 41"/>
                      <p:cNvGrpSpPr/>
                      <p:nvPr/>
                    </p:nvGrpSpPr>
                    <p:grpSpPr>
                      <a:xfrm>
                        <a:off x="4373280" y="4344840"/>
                        <a:ext cx="450720" cy="237960"/>
                        <a:chOff x="4373280" y="4344840"/>
                        <a:chExt cx="450720" cy="237960"/>
                      </a:xfrm>
                    </p:grpSpPr>
                    <p:sp>
                      <p:nvSpPr>
                        <p:cNvPr id="2634" name="Rectangle 42"/>
                        <p:cNvSpPr/>
                        <p:nvPr/>
                      </p:nvSpPr>
                      <p:spPr>
                        <a:xfrm rot="966600">
                          <a:off x="4384800" y="4382280"/>
                          <a:ext cx="288720" cy="12420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35" name="Freeform 43"/>
                        <p:cNvSpPr/>
                        <p:nvPr/>
                      </p:nvSpPr>
                      <p:spPr>
                        <a:xfrm rot="966600">
                          <a:off x="4665240" y="444132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636" name=""/>
                      <p:cNvGrpSpPr/>
                      <p:nvPr/>
                    </p:nvGrpSpPr>
                    <p:grpSpPr>
                      <a:xfrm>
                        <a:off x="4380840" y="4438080"/>
                        <a:ext cx="423000" cy="122400"/>
                        <a:chOff x="4380840" y="4438080"/>
                        <a:chExt cx="423000" cy="122400"/>
                      </a:xfrm>
                    </p:grpSpPr>
                    <p:sp>
                      <p:nvSpPr>
                        <p:cNvPr id="2637" name="Line 44"/>
                        <p:cNvSpPr/>
                        <p:nvPr/>
                      </p:nvSpPr>
                      <p:spPr>
                        <a:xfrm>
                          <a:off x="4380840" y="4438080"/>
                          <a:ext cx="423000" cy="1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38" name=""/>
                        <p:cNvSpPr txBox="1"/>
                        <p:nvPr/>
                      </p:nvSpPr>
                      <p:spPr>
                        <a:xfrm rot="966600">
                          <a:off x="4371840" y="449892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639" name="Oval 45"/>
                    <p:cNvSpPr/>
                    <p:nvPr/>
                  </p:nvSpPr>
                  <p:spPr>
                    <a:xfrm rot="966600">
                      <a:off x="4476600" y="4342320"/>
                      <a:ext cx="87840" cy="97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0" name="Freeform 46"/>
                    <p:cNvSpPr/>
                    <p:nvPr/>
                  </p:nvSpPr>
                  <p:spPr>
                    <a:xfrm rot="12318600">
                      <a:off x="4613760" y="433332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10248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41" name="Group 47"/>
                <p:cNvGrpSpPr/>
                <p:nvPr/>
              </p:nvGrpSpPr>
              <p:grpSpPr>
                <a:xfrm>
                  <a:off x="4448880" y="3429720"/>
                  <a:ext cx="451080" cy="612360"/>
                  <a:chOff x="4448880" y="3429720"/>
                  <a:chExt cx="451080" cy="612360"/>
                </a:xfrm>
              </p:grpSpPr>
              <p:sp>
                <p:nvSpPr>
                  <p:cNvPr id="2642" name="AutoShape 48"/>
                  <p:cNvSpPr/>
                  <p:nvPr/>
                </p:nvSpPr>
                <p:spPr>
                  <a:xfrm rot="966600">
                    <a:off x="4564800" y="3624120"/>
                    <a:ext cx="24444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43" name="Group 49"/>
                  <p:cNvGrpSpPr/>
                  <p:nvPr/>
                </p:nvGrpSpPr>
                <p:grpSpPr>
                  <a:xfrm>
                    <a:off x="4448880" y="3429720"/>
                    <a:ext cx="451080" cy="267840"/>
                    <a:chOff x="4448880" y="3429720"/>
                    <a:chExt cx="451080" cy="267840"/>
                  </a:xfrm>
                </p:grpSpPr>
                <p:grpSp>
                  <p:nvGrpSpPr>
                    <p:cNvPr id="2644" name="Group 50"/>
                    <p:cNvGrpSpPr/>
                    <p:nvPr/>
                  </p:nvGrpSpPr>
                  <p:grpSpPr>
                    <a:xfrm>
                      <a:off x="4448880" y="3429720"/>
                      <a:ext cx="451080" cy="237960"/>
                      <a:chOff x="4448880" y="3429720"/>
                      <a:chExt cx="451080" cy="237960"/>
                    </a:xfrm>
                  </p:grpSpPr>
                  <p:grpSp>
                    <p:nvGrpSpPr>
                      <p:cNvPr id="2645" name="Group 51"/>
                      <p:cNvGrpSpPr/>
                      <p:nvPr/>
                    </p:nvGrpSpPr>
                    <p:grpSpPr>
                      <a:xfrm>
                        <a:off x="4448880" y="3429720"/>
                        <a:ext cx="451080" cy="237960"/>
                        <a:chOff x="4448880" y="3429720"/>
                        <a:chExt cx="451080" cy="237960"/>
                      </a:xfrm>
                    </p:grpSpPr>
                    <p:sp>
                      <p:nvSpPr>
                        <p:cNvPr id="2646" name="Rectangle 52"/>
                        <p:cNvSpPr/>
                        <p:nvPr/>
                      </p:nvSpPr>
                      <p:spPr>
                        <a:xfrm rot="11766600">
                          <a:off x="4599360" y="350568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47" name="Freeform 53"/>
                        <p:cNvSpPr/>
                        <p:nvPr/>
                      </p:nvSpPr>
                      <p:spPr>
                        <a:xfrm rot="11766600">
                          <a:off x="4462920" y="344736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648" name=""/>
                      <p:cNvGrpSpPr/>
                      <p:nvPr/>
                    </p:nvGrpSpPr>
                    <p:grpSpPr>
                      <a:xfrm>
                        <a:off x="4469040" y="3452400"/>
                        <a:ext cx="423000" cy="122400"/>
                        <a:chOff x="4469040" y="3452400"/>
                        <a:chExt cx="423000" cy="122400"/>
                      </a:xfrm>
                    </p:grpSpPr>
                    <p:sp>
                      <p:nvSpPr>
                        <p:cNvPr id="2649" name="Line 54"/>
                        <p:cNvSpPr/>
                        <p:nvPr/>
                      </p:nvSpPr>
                      <p:spPr>
                        <a:xfrm flipH="1" flipV="1">
                          <a:off x="4469040" y="3452400"/>
                          <a:ext cx="423000" cy="12240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50" name=""/>
                        <p:cNvSpPr txBox="1"/>
                        <p:nvPr/>
                      </p:nvSpPr>
                      <p:spPr>
                        <a:xfrm rot="11766600">
                          <a:off x="4460400" y="351324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651" name="Oval 55"/>
                    <p:cNvSpPr/>
                    <p:nvPr/>
                  </p:nvSpPr>
                  <p:spPr>
                    <a:xfrm rot="11766600">
                      <a:off x="4708440" y="357228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2" name="Freeform 56"/>
                    <p:cNvSpPr/>
                    <p:nvPr/>
                  </p:nvSpPr>
                  <p:spPr>
                    <a:xfrm rot="1518600">
                      <a:off x="4540680" y="353268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653" name="Group 57"/>
              <p:cNvGrpSpPr/>
              <p:nvPr/>
            </p:nvGrpSpPr>
            <p:grpSpPr>
              <a:xfrm>
                <a:off x="4492440" y="3455640"/>
                <a:ext cx="425880" cy="675720"/>
                <a:chOff x="4492440" y="3455640"/>
                <a:chExt cx="425880" cy="675720"/>
              </a:xfrm>
            </p:grpSpPr>
            <p:grpSp>
              <p:nvGrpSpPr>
                <p:cNvPr id="2654" name="Group 58"/>
                <p:cNvGrpSpPr/>
                <p:nvPr/>
              </p:nvGrpSpPr>
              <p:grpSpPr>
                <a:xfrm>
                  <a:off x="4509000" y="3455640"/>
                  <a:ext cx="409320" cy="565920"/>
                  <a:chOff x="4509000" y="3455640"/>
                  <a:chExt cx="409320" cy="565920"/>
                </a:xfrm>
              </p:grpSpPr>
              <p:sp>
                <p:nvSpPr>
                  <p:cNvPr id="2655" name="AutoShape 59"/>
                  <p:cNvSpPr/>
                  <p:nvPr/>
                </p:nvSpPr>
                <p:spPr>
                  <a:xfrm rot="966600">
                    <a:off x="4557600" y="3598200"/>
                    <a:ext cx="28440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6" name="Oval 60"/>
                  <p:cNvSpPr/>
                  <p:nvPr/>
                </p:nvSpPr>
                <p:spPr>
                  <a:xfrm rot="966600">
                    <a:off x="4610880" y="3489480"/>
                    <a:ext cx="279360" cy="24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57" name="Oval 61"/>
                <p:cNvSpPr/>
                <p:nvPr/>
              </p:nvSpPr>
              <p:spPr>
                <a:xfrm rot="966600">
                  <a:off x="4520160" y="3865680"/>
                  <a:ext cx="244440" cy="23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ddddd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8" name="AutoShape 62"/>
              <p:cNvSpPr/>
              <p:nvPr/>
            </p:nvSpPr>
            <p:spPr>
              <a:xfrm rot="966600">
                <a:off x="4589640" y="3942360"/>
                <a:ext cx="104760" cy="90720"/>
              </a:xfrm>
              <a:prstGeom prst="hexagon">
                <a:avLst>
                  <a:gd name="adj" fmla="val 28869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9" name="Group 63"/>
            <p:cNvGrpSpPr/>
            <p:nvPr/>
          </p:nvGrpSpPr>
          <p:grpSpPr>
            <a:xfrm>
              <a:off x="4635720" y="2458800"/>
              <a:ext cx="545040" cy="1153080"/>
              <a:chOff x="4635720" y="2458800"/>
              <a:chExt cx="545040" cy="1153080"/>
            </a:xfrm>
          </p:grpSpPr>
          <p:grpSp>
            <p:nvGrpSpPr>
              <p:cNvPr id="2660" name="Group 64"/>
              <p:cNvGrpSpPr/>
              <p:nvPr/>
            </p:nvGrpSpPr>
            <p:grpSpPr>
              <a:xfrm>
                <a:off x="4654080" y="2458800"/>
                <a:ext cx="526680" cy="1153080"/>
                <a:chOff x="4654080" y="2458800"/>
                <a:chExt cx="526680" cy="1153080"/>
              </a:xfrm>
            </p:grpSpPr>
            <p:grpSp>
              <p:nvGrpSpPr>
                <p:cNvPr id="2661" name="Group 65"/>
                <p:cNvGrpSpPr/>
                <p:nvPr/>
              </p:nvGrpSpPr>
              <p:grpSpPr>
                <a:xfrm>
                  <a:off x="4729680" y="2458800"/>
                  <a:ext cx="451080" cy="612000"/>
                  <a:chOff x="4729680" y="2458800"/>
                  <a:chExt cx="451080" cy="612000"/>
                </a:xfrm>
              </p:grpSpPr>
              <p:sp>
                <p:nvSpPr>
                  <p:cNvPr id="2662" name="AutoShape 66"/>
                  <p:cNvSpPr/>
                  <p:nvPr/>
                </p:nvSpPr>
                <p:spPr>
                  <a:xfrm rot="966600">
                    <a:off x="4845600" y="2652480"/>
                    <a:ext cx="2444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63" name="Group 67"/>
                  <p:cNvGrpSpPr/>
                  <p:nvPr/>
                </p:nvGrpSpPr>
                <p:grpSpPr>
                  <a:xfrm>
                    <a:off x="4729680" y="2458800"/>
                    <a:ext cx="451080" cy="267480"/>
                    <a:chOff x="4729680" y="2458800"/>
                    <a:chExt cx="451080" cy="267480"/>
                  </a:xfrm>
                </p:grpSpPr>
                <p:grpSp>
                  <p:nvGrpSpPr>
                    <p:cNvPr id="2664" name="Group 68"/>
                    <p:cNvGrpSpPr/>
                    <p:nvPr/>
                  </p:nvGrpSpPr>
                  <p:grpSpPr>
                    <a:xfrm>
                      <a:off x="4729680" y="2458800"/>
                      <a:ext cx="451080" cy="237960"/>
                      <a:chOff x="4729680" y="2458800"/>
                      <a:chExt cx="451080" cy="237960"/>
                    </a:xfrm>
                  </p:grpSpPr>
                  <p:grpSp>
                    <p:nvGrpSpPr>
                      <p:cNvPr id="2665" name="Group 69"/>
                      <p:cNvGrpSpPr/>
                      <p:nvPr/>
                    </p:nvGrpSpPr>
                    <p:grpSpPr>
                      <a:xfrm>
                        <a:off x="4729680" y="2458800"/>
                        <a:ext cx="451080" cy="237960"/>
                        <a:chOff x="4729680" y="2458800"/>
                        <a:chExt cx="451080" cy="237960"/>
                      </a:xfrm>
                    </p:grpSpPr>
                    <p:sp>
                      <p:nvSpPr>
                        <p:cNvPr id="2666" name="Rectangle 70"/>
                        <p:cNvSpPr/>
                        <p:nvPr/>
                      </p:nvSpPr>
                      <p:spPr>
                        <a:xfrm rot="11766600">
                          <a:off x="4880160" y="253476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67" name="Freeform 71"/>
                        <p:cNvSpPr/>
                        <p:nvPr/>
                      </p:nvSpPr>
                      <p:spPr>
                        <a:xfrm rot="11766600">
                          <a:off x="4743720" y="247644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668" name=""/>
                      <p:cNvGrpSpPr/>
                      <p:nvPr/>
                    </p:nvGrpSpPr>
                    <p:grpSpPr>
                      <a:xfrm>
                        <a:off x="4749840" y="2481120"/>
                        <a:ext cx="423000" cy="122400"/>
                        <a:chOff x="4749840" y="2481120"/>
                        <a:chExt cx="423000" cy="122400"/>
                      </a:xfrm>
                    </p:grpSpPr>
                    <p:sp>
                      <p:nvSpPr>
                        <p:cNvPr id="2669" name="Line 72"/>
                        <p:cNvSpPr/>
                        <p:nvPr/>
                      </p:nvSpPr>
                      <p:spPr>
                        <a:xfrm flipH="1" flipV="1">
                          <a:off x="4749840" y="2481480"/>
                          <a:ext cx="423000" cy="12204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70" name=""/>
                        <p:cNvSpPr txBox="1"/>
                        <p:nvPr/>
                      </p:nvSpPr>
                      <p:spPr>
                        <a:xfrm rot="11766600">
                          <a:off x="4741200" y="254196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671" name="Oval 73"/>
                    <p:cNvSpPr/>
                    <p:nvPr/>
                  </p:nvSpPr>
                  <p:spPr>
                    <a:xfrm rot="11766600">
                      <a:off x="4989240" y="260100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2" name="Freeform 74"/>
                    <p:cNvSpPr/>
                    <p:nvPr/>
                  </p:nvSpPr>
                  <p:spPr>
                    <a:xfrm rot="1518600">
                      <a:off x="4821480" y="256140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73" name="Group 75"/>
                <p:cNvGrpSpPr/>
                <p:nvPr/>
              </p:nvGrpSpPr>
              <p:grpSpPr>
                <a:xfrm>
                  <a:off x="4654080" y="2999520"/>
                  <a:ext cx="450720" cy="612360"/>
                  <a:chOff x="4654080" y="2999520"/>
                  <a:chExt cx="450720" cy="612360"/>
                </a:xfrm>
              </p:grpSpPr>
              <p:sp>
                <p:nvSpPr>
                  <p:cNvPr id="2674" name="AutoShape 76"/>
                  <p:cNvSpPr/>
                  <p:nvPr/>
                </p:nvSpPr>
                <p:spPr>
                  <a:xfrm rot="11766600">
                    <a:off x="4744440" y="3025800"/>
                    <a:ext cx="24444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75" name="Group 77"/>
                  <p:cNvGrpSpPr/>
                  <p:nvPr/>
                </p:nvGrpSpPr>
                <p:grpSpPr>
                  <a:xfrm>
                    <a:off x="4654080" y="3344040"/>
                    <a:ext cx="450720" cy="267840"/>
                    <a:chOff x="4654080" y="3344040"/>
                    <a:chExt cx="450720" cy="267840"/>
                  </a:xfrm>
                </p:grpSpPr>
                <p:grpSp>
                  <p:nvGrpSpPr>
                    <p:cNvPr id="2676" name="Group 78"/>
                    <p:cNvGrpSpPr/>
                    <p:nvPr/>
                  </p:nvGrpSpPr>
                  <p:grpSpPr>
                    <a:xfrm>
                      <a:off x="4654080" y="3373920"/>
                      <a:ext cx="450720" cy="237960"/>
                      <a:chOff x="4654080" y="3373920"/>
                      <a:chExt cx="450720" cy="237960"/>
                    </a:xfrm>
                  </p:grpSpPr>
                  <p:grpSp>
                    <p:nvGrpSpPr>
                      <p:cNvPr id="2677" name="Group 79"/>
                      <p:cNvGrpSpPr/>
                      <p:nvPr/>
                    </p:nvGrpSpPr>
                    <p:grpSpPr>
                      <a:xfrm>
                        <a:off x="4654080" y="3373920"/>
                        <a:ext cx="450720" cy="237960"/>
                        <a:chOff x="4654080" y="3373920"/>
                        <a:chExt cx="450720" cy="237960"/>
                      </a:xfrm>
                    </p:grpSpPr>
                    <p:sp>
                      <p:nvSpPr>
                        <p:cNvPr id="2678" name="Rectangle 80"/>
                        <p:cNvSpPr/>
                        <p:nvPr/>
                      </p:nvSpPr>
                      <p:spPr>
                        <a:xfrm rot="966600">
                          <a:off x="4665600" y="341136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79" name="Freeform 81"/>
                        <p:cNvSpPr/>
                        <p:nvPr/>
                      </p:nvSpPr>
                      <p:spPr>
                        <a:xfrm rot="966600">
                          <a:off x="4946040" y="347040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680" name=""/>
                      <p:cNvGrpSpPr/>
                      <p:nvPr/>
                    </p:nvGrpSpPr>
                    <p:grpSpPr>
                      <a:xfrm>
                        <a:off x="4661640" y="3466800"/>
                        <a:ext cx="423000" cy="122400"/>
                        <a:chOff x="4661640" y="3466800"/>
                        <a:chExt cx="423000" cy="122400"/>
                      </a:xfrm>
                    </p:grpSpPr>
                    <p:sp>
                      <p:nvSpPr>
                        <p:cNvPr id="2681" name="Line 82"/>
                        <p:cNvSpPr/>
                        <p:nvPr/>
                      </p:nvSpPr>
                      <p:spPr>
                        <a:xfrm>
                          <a:off x="4661640" y="3466800"/>
                          <a:ext cx="423000" cy="12240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82" name=""/>
                        <p:cNvSpPr txBox="1"/>
                        <p:nvPr/>
                      </p:nvSpPr>
                      <p:spPr>
                        <a:xfrm rot="966600">
                          <a:off x="4652640" y="352764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683" name="Oval 83"/>
                    <p:cNvSpPr/>
                    <p:nvPr/>
                  </p:nvSpPr>
                  <p:spPr>
                    <a:xfrm rot="966600">
                      <a:off x="4757400" y="337104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4" name="Freeform 84"/>
                    <p:cNvSpPr/>
                    <p:nvPr/>
                  </p:nvSpPr>
                  <p:spPr>
                    <a:xfrm rot="12319200">
                      <a:off x="4894560" y="336204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685" name="Group 85"/>
              <p:cNvGrpSpPr/>
              <p:nvPr/>
            </p:nvGrpSpPr>
            <p:grpSpPr>
              <a:xfrm>
                <a:off x="4635720" y="2910240"/>
                <a:ext cx="425520" cy="675720"/>
                <a:chOff x="4635720" y="2910240"/>
                <a:chExt cx="425520" cy="675720"/>
              </a:xfrm>
            </p:grpSpPr>
            <p:grpSp>
              <p:nvGrpSpPr>
                <p:cNvPr id="2686" name="Group 86"/>
                <p:cNvGrpSpPr/>
                <p:nvPr/>
              </p:nvGrpSpPr>
              <p:grpSpPr>
                <a:xfrm>
                  <a:off x="4635720" y="3020040"/>
                  <a:ext cx="409320" cy="565920"/>
                  <a:chOff x="4635720" y="3020040"/>
                  <a:chExt cx="409320" cy="565920"/>
                </a:xfrm>
              </p:grpSpPr>
              <p:sp>
                <p:nvSpPr>
                  <p:cNvPr id="2687" name="AutoShape 87"/>
                  <p:cNvSpPr/>
                  <p:nvPr/>
                </p:nvSpPr>
                <p:spPr>
                  <a:xfrm rot="11766600">
                    <a:off x="4711680" y="3051720"/>
                    <a:ext cx="28440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8" name="Oval 88"/>
                  <p:cNvSpPr/>
                  <p:nvPr/>
                </p:nvSpPr>
                <p:spPr>
                  <a:xfrm rot="11766600">
                    <a:off x="4663440" y="3311640"/>
                    <a:ext cx="279360" cy="2401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89" name="Oval 89"/>
                <p:cNvSpPr/>
                <p:nvPr/>
              </p:nvSpPr>
              <p:spPr>
                <a:xfrm rot="11766600">
                  <a:off x="4788720" y="2939400"/>
                  <a:ext cx="244440" cy="236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90" name="AutoShape 90"/>
              <p:cNvSpPr/>
              <p:nvPr/>
            </p:nvSpPr>
            <p:spPr>
              <a:xfrm rot="11766600">
                <a:off x="4858920" y="3008160"/>
                <a:ext cx="104760" cy="90720"/>
              </a:xfrm>
              <a:prstGeom prst="hexagon">
                <a:avLst>
                  <a:gd name="adj" fmla="val 28869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91" name="Group 91"/>
          <p:cNvGrpSpPr/>
          <p:nvPr/>
        </p:nvGrpSpPr>
        <p:grpSpPr>
          <a:xfrm>
            <a:off x="4231080" y="1400040"/>
            <a:ext cx="1080000" cy="2245680"/>
            <a:chOff x="4231080" y="1400040"/>
            <a:chExt cx="1080000" cy="2245680"/>
          </a:xfrm>
        </p:grpSpPr>
        <p:grpSp>
          <p:nvGrpSpPr>
            <p:cNvPr id="2692" name=""/>
            <p:cNvGrpSpPr/>
            <p:nvPr/>
          </p:nvGrpSpPr>
          <p:grpSpPr>
            <a:xfrm>
              <a:off x="4687560" y="1641600"/>
              <a:ext cx="284400" cy="155520"/>
              <a:chOff x="4687560" y="1641600"/>
              <a:chExt cx="284400" cy="155520"/>
            </a:xfrm>
          </p:grpSpPr>
          <p:sp>
            <p:nvSpPr>
              <p:cNvPr id="2693" name="Line 92"/>
              <p:cNvSpPr/>
              <p:nvPr/>
            </p:nvSpPr>
            <p:spPr>
              <a:xfrm>
                <a:off x="4687560" y="1641600"/>
                <a:ext cx="284400" cy="155520"/>
              </a:xfrm>
              <a:prstGeom prst="line">
                <a:avLst/>
              </a:prstGeom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 txBox="1"/>
              <p:nvPr/>
            </p:nvSpPr>
            <p:spPr>
              <a:xfrm>
                <a:off x="4687560" y="1641600"/>
                <a:ext cx="284400" cy="15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5" name="AutoShape 93"/>
            <p:cNvSpPr/>
            <p:nvPr/>
          </p:nvSpPr>
          <p:spPr>
            <a:xfrm rot="471600">
              <a:off x="4266720" y="2482560"/>
              <a:ext cx="152280" cy="53316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21960 h 533160"/>
                <a:gd name="textAreaBottom" fmla="*/ 51120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6" name="Group 94"/>
            <p:cNvGrpSpPr/>
            <p:nvPr/>
          </p:nvGrpSpPr>
          <p:grpSpPr>
            <a:xfrm>
              <a:off x="4395240" y="1400040"/>
              <a:ext cx="915840" cy="2245680"/>
              <a:chOff x="4395240" y="1400040"/>
              <a:chExt cx="915840" cy="2245680"/>
            </a:xfrm>
          </p:grpSpPr>
          <p:grpSp>
            <p:nvGrpSpPr>
              <p:cNvPr id="2697" name="Group 95"/>
              <p:cNvGrpSpPr/>
              <p:nvPr/>
            </p:nvGrpSpPr>
            <p:grpSpPr>
              <a:xfrm>
                <a:off x="4395240" y="1516680"/>
                <a:ext cx="915840" cy="2129040"/>
                <a:chOff x="4395240" y="1516680"/>
                <a:chExt cx="915840" cy="2129040"/>
              </a:xfrm>
            </p:grpSpPr>
            <p:grpSp>
              <p:nvGrpSpPr>
                <p:cNvPr id="2698" name="Group 96"/>
                <p:cNvGrpSpPr/>
                <p:nvPr/>
              </p:nvGrpSpPr>
              <p:grpSpPr>
                <a:xfrm>
                  <a:off x="4395240" y="2078640"/>
                  <a:ext cx="706320" cy="1567080"/>
                  <a:chOff x="4395240" y="2078640"/>
                  <a:chExt cx="706320" cy="1567080"/>
                </a:xfrm>
              </p:grpSpPr>
              <p:sp>
                <p:nvSpPr>
                  <p:cNvPr id="2699" name="Oval 97"/>
                  <p:cNvSpPr/>
                  <p:nvPr/>
                </p:nvSpPr>
                <p:spPr>
                  <a:xfrm rot="385800">
                    <a:off x="4423680" y="3068640"/>
                    <a:ext cx="569160" cy="546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2121600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0" name="Oval 98"/>
                  <p:cNvSpPr/>
                  <p:nvPr/>
                </p:nvSpPr>
                <p:spPr>
                  <a:xfrm rot="385800">
                    <a:off x="5064480" y="2575080"/>
                    <a:ext cx="32760" cy="49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1" name="Oval 99"/>
                  <p:cNvSpPr/>
                  <p:nvPr/>
                </p:nvSpPr>
                <p:spPr>
                  <a:xfrm rot="385800">
                    <a:off x="5036040" y="2872440"/>
                    <a:ext cx="32760" cy="48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2" name="Oval 100"/>
                  <p:cNvSpPr/>
                  <p:nvPr/>
                </p:nvSpPr>
                <p:spPr>
                  <a:xfrm rot="385800">
                    <a:off x="5002920" y="3168360"/>
                    <a:ext cx="32760" cy="49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3" name="AutoShape 101"/>
                  <p:cNvSpPr/>
                  <p:nvPr/>
                </p:nvSpPr>
                <p:spPr>
                  <a:xfrm rot="385800">
                    <a:off x="4454640" y="2413080"/>
                    <a:ext cx="591120" cy="1022040"/>
                  </a:xfrm>
                  <a:prstGeom prst="can">
                    <a:avLst>
                      <a:gd name="adj" fmla="val 2652"/>
                    </a:avLst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2121600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4" name="Rectangle 102"/>
                  <p:cNvSpPr/>
                  <p:nvPr/>
                </p:nvSpPr>
                <p:spPr>
                  <a:xfrm rot="385800">
                    <a:off x="4742640" y="2332800"/>
                    <a:ext cx="148680" cy="9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21216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05" name="Group 103"/>
                  <p:cNvGrpSpPr/>
                  <p:nvPr/>
                </p:nvGrpSpPr>
                <p:grpSpPr>
                  <a:xfrm>
                    <a:off x="4645080" y="2078640"/>
                    <a:ext cx="285120" cy="690840"/>
                    <a:chOff x="4645080" y="2078640"/>
                    <a:chExt cx="285120" cy="690840"/>
                  </a:xfrm>
                </p:grpSpPr>
                <p:sp>
                  <p:nvSpPr>
                    <p:cNvPr id="2706" name="AutoShape 104"/>
                    <p:cNvSpPr/>
                    <p:nvPr/>
                  </p:nvSpPr>
                  <p:spPr>
                    <a:xfrm rot="11007600">
                      <a:off x="4709880" y="2084040"/>
                      <a:ext cx="199440" cy="54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7" name="AutoShape 105"/>
                    <p:cNvSpPr/>
                    <p:nvPr/>
                  </p:nvSpPr>
                  <p:spPr>
                    <a:xfrm rot="16585800">
                      <a:off x="4680720" y="2517120"/>
                      <a:ext cx="213120" cy="26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708" name="Group 106"/>
                <p:cNvGrpSpPr/>
                <p:nvPr/>
              </p:nvGrpSpPr>
              <p:grpSpPr>
                <a:xfrm>
                  <a:off x="4416120" y="1516680"/>
                  <a:ext cx="894960" cy="874440"/>
                  <a:chOff x="4416120" y="1516680"/>
                  <a:chExt cx="894960" cy="874440"/>
                </a:xfrm>
              </p:grpSpPr>
              <p:sp>
                <p:nvSpPr>
                  <p:cNvPr id="2709" name="AutoShape 107"/>
                  <p:cNvSpPr/>
                  <p:nvPr/>
                </p:nvSpPr>
                <p:spPr>
                  <a:xfrm rot="21102000">
                    <a:off x="4870080" y="1800360"/>
                    <a:ext cx="405720" cy="516960"/>
                  </a:xfrm>
                  <a:custGeom>
                    <a:avLst/>
                    <a:gdLst>
                      <a:gd name="textAreaLeft" fmla="*/ 0 w 405720"/>
                      <a:gd name="textAreaRight" fmla="*/ 146520 w 405720"/>
                      <a:gd name="textAreaTop" fmla="*/ 13320 h 516960"/>
                      <a:gd name="textAreaBottom" fmla="*/ 503640 h 516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5400" y="0"/>
                          <a:pt x="10800" y="900"/>
                          <a:pt x="10800" y="1800"/>
                        </a:cubicBezTo>
                        <a:lnTo>
                          <a:pt x="10800" y="9000"/>
                        </a:lnTo>
                        <a:cubicBezTo>
                          <a:pt x="10800" y="9900"/>
                          <a:pt x="16200" y="10800"/>
                          <a:pt x="21600" y="10800"/>
                        </a:cubicBezTo>
                        <a:cubicBezTo>
                          <a:pt x="16200" y="10800"/>
                          <a:pt x="10800" y="11700"/>
                          <a:pt x="10800" y="12600"/>
                        </a:cubicBezTo>
                        <a:lnTo>
                          <a:pt x="10800" y="19800"/>
                        </a:lnTo>
                        <a:cubicBezTo>
                          <a:pt x="10800" y="20700"/>
                          <a:pt x="5400" y="21600"/>
                          <a:pt x="0" y="21600"/>
                        </a:cubicBezTo>
                      </a:path>
                    </a:pathLst>
                  </a:custGeom>
                  <a:noFill/>
                  <a:ln w="12600">
                    <a:solidFill>
                      <a:srgbClr val="dddd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0" name="AutoShape 108"/>
                  <p:cNvSpPr/>
                  <p:nvPr/>
                </p:nvSpPr>
                <p:spPr>
                  <a:xfrm rot="21225600">
                    <a:off x="4585680" y="1841040"/>
                    <a:ext cx="446400" cy="527400"/>
                  </a:xfrm>
                  <a:custGeom>
                    <a:avLst/>
                    <a:gdLst>
                      <a:gd name="textAreaLeft" fmla="*/ 21600 w 446400"/>
                      <a:gd name="textAreaRight" fmla="*/ 424800 w 446400"/>
                      <a:gd name="textAreaTop" fmla="*/ 21600 h 527400"/>
                      <a:gd name="textAreaBottom" fmla="*/ 505800 h 527400"/>
                    </a:gdLst>
                    <a:ahLst/>
                    <a:rect l="textAreaLeft" t="textAreaTop" r="textAreaRight" b="textAreaBottom"/>
                    <a:pathLst>
                      <a:path w="21600" h="25516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1916"/>
                        </a:lnTo>
                        <a:arcTo wR="3600" hR="3600" stAng="10800000" swAng="-5400000"/>
                        <a:lnTo>
                          <a:pt x="18000" y="25516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372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1" name="AutoShape 109"/>
                  <p:cNvSpPr/>
                  <p:nvPr/>
                </p:nvSpPr>
                <p:spPr>
                  <a:xfrm rot="20050800">
                    <a:off x="4464360" y="1597320"/>
                    <a:ext cx="446400" cy="324360"/>
                  </a:xfrm>
                  <a:prstGeom prst="triangle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2044800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2" name="AutoShape 110"/>
                  <p:cNvSpPr/>
                  <p:nvPr/>
                </p:nvSpPr>
                <p:spPr>
                  <a:xfrm rot="21417600">
                    <a:off x="4770360" y="2021760"/>
                    <a:ext cx="9972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9725" y="3202"/>
                          <a:pt x="17850" y="5080"/>
                          <a:pt x="17850" y="10800"/>
                        </a:cubicBezTo>
                        <a:cubicBezTo>
                          <a:pt x="17850" y="16520"/>
                          <a:pt x="19725" y="1839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ffffff"/>
                      </a:gs>
                    </a:gsLst>
                    <a:lin ang="18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13" name="AutoShape 111"/>
              <p:cNvSpPr/>
              <p:nvPr/>
            </p:nvSpPr>
            <p:spPr>
              <a:xfrm rot="19131600">
                <a:off x="4497480" y="1387080"/>
                <a:ext cx="70920" cy="294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21366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4" name="AutoShape 112"/>
            <p:cNvSpPr/>
            <p:nvPr/>
          </p:nvSpPr>
          <p:spPr>
            <a:xfrm rot="447600">
              <a:off x="4314600" y="2482920"/>
              <a:ext cx="162000" cy="527040"/>
            </a:xfrm>
            <a:custGeom>
              <a:avLst/>
              <a:gdLst>
                <a:gd name="textAreaLeft" fmla="*/ 7920 w 162000"/>
                <a:gd name="textAreaRight" fmla="*/ 154080 w 162000"/>
                <a:gd name="textAreaTop" fmla="*/ 7920 h 527040"/>
                <a:gd name="textAreaBottom" fmla="*/ 519120 h 527040"/>
              </a:gdLst>
              <a:ahLst/>
              <a:rect l="textAreaLeft" t="textAreaTop" r="textAreaRight" b="textAreaBottom"/>
              <a:pathLst>
                <a:path w="21600" h="70164">
                  <a:moveTo>
                    <a:pt x="3600" y="0"/>
                  </a:moveTo>
                  <a:arcTo wR="3600" hR="3600" stAng="16200000" swAng="-5400000"/>
                  <a:lnTo>
                    <a:pt x="0" y="66564"/>
                  </a:lnTo>
                  <a:arcTo wR="3600" hR="3600" stAng="10800000" swAng="-5400000"/>
                  <a:lnTo>
                    <a:pt x="18000" y="701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115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5" name="Group 113"/>
          <p:cNvGrpSpPr/>
          <p:nvPr/>
        </p:nvGrpSpPr>
        <p:grpSpPr>
          <a:xfrm>
            <a:off x="4101120" y="2457720"/>
            <a:ext cx="1176480" cy="2110320"/>
            <a:chOff x="4101120" y="2457720"/>
            <a:chExt cx="1176480" cy="2110320"/>
          </a:xfrm>
        </p:grpSpPr>
        <p:grpSp>
          <p:nvGrpSpPr>
            <p:cNvPr id="2716" name="Group 114"/>
            <p:cNvGrpSpPr/>
            <p:nvPr/>
          </p:nvGrpSpPr>
          <p:grpSpPr>
            <a:xfrm>
              <a:off x="4379400" y="3447000"/>
              <a:ext cx="898200" cy="1121040"/>
              <a:chOff x="4379400" y="3447000"/>
              <a:chExt cx="898200" cy="1121040"/>
            </a:xfrm>
          </p:grpSpPr>
          <p:grpSp>
            <p:nvGrpSpPr>
              <p:cNvPr id="2717" name="Group 115"/>
              <p:cNvGrpSpPr/>
              <p:nvPr/>
            </p:nvGrpSpPr>
            <p:grpSpPr>
              <a:xfrm>
                <a:off x="4379400" y="3470400"/>
                <a:ext cx="898200" cy="1097640"/>
                <a:chOff x="4379400" y="3470400"/>
                <a:chExt cx="898200" cy="1097640"/>
              </a:xfrm>
            </p:grpSpPr>
            <p:grpSp>
              <p:nvGrpSpPr>
                <p:cNvPr id="2718" name="Group 116"/>
                <p:cNvGrpSpPr/>
                <p:nvPr/>
              </p:nvGrpSpPr>
              <p:grpSpPr>
                <a:xfrm>
                  <a:off x="4708440" y="3981600"/>
                  <a:ext cx="569160" cy="586440"/>
                  <a:chOff x="4708440" y="3981600"/>
                  <a:chExt cx="569160" cy="586440"/>
                </a:xfrm>
              </p:grpSpPr>
              <p:sp>
                <p:nvSpPr>
                  <p:cNvPr id="2719" name="AutoShape 117"/>
                  <p:cNvSpPr/>
                  <p:nvPr/>
                </p:nvSpPr>
                <p:spPr>
                  <a:xfrm rot="9878400">
                    <a:off x="4757400" y="4007880"/>
                    <a:ext cx="254160" cy="40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20" name="Group 118"/>
                  <p:cNvGrpSpPr/>
                  <p:nvPr/>
                </p:nvGrpSpPr>
                <p:grpSpPr>
                  <a:xfrm>
                    <a:off x="4809240" y="4271400"/>
                    <a:ext cx="468360" cy="296640"/>
                    <a:chOff x="4809240" y="4271400"/>
                    <a:chExt cx="468360" cy="296640"/>
                  </a:xfrm>
                </p:grpSpPr>
                <p:grpSp>
                  <p:nvGrpSpPr>
                    <p:cNvPr id="2721" name="Group 119"/>
                    <p:cNvGrpSpPr/>
                    <p:nvPr/>
                  </p:nvGrpSpPr>
                  <p:grpSpPr>
                    <a:xfrm>
                      <a:off x="4809240" y="4323240"/>
                      <a:ext cx="468360" cy="244800"/>
                      <a:chOff x="4809240" y="4323240"/>
                      <a:chExt cx="468360" cy="244800"/>
                    </a:xfrm>
                  </p:grpSpPr>
                  <p:grpSp>
                    <p:nvGrpSpPr>
                      <p:cNvPr id="2722" name="Group 120"/>
                      <p:cNvGrpSpPr/>
                      <p:nvPr/>
                    </p:nvGrpSpPr>
                    <p:grpSpPr>
                      <a:xfrm>
                        <a:off x="4809240" y="4323240"/>
                        <a:ext cx="468000" cy="244800"/>
                        <a:chOff x="4809240" y="4323240"/>
                        <a:chExt cx="468000" cy="244800"/>
                      </a:xfrm>
                    </p:grpSpPr>
                    <p:sp>
                      <p:nvSpPr>
                        <p:cNvPr id="2723" name="Rectangle 121"/>
                        <p:cNvSpPr/>
                        <p:nvPr/>
                      </p:nvSpPr>
                      <p:spPr>
                        <a:xfrm rot="20678400">
                          <a:off x="4820760" y="4401360"/>
                          <a:ext cx="300240" cy="1292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4" name="Freeform 122"/>
                        <p:cNvSpPr/>
                        <p:nvPr/>
                      </p:nvSpPr>
                      <p:spPr>
                        <a:xfrm rot="20678400">
                          <a:off x="5112360" y="434052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25" name=""/>
                      <p:cNvGrpSpPr/>
                      <p:nvPr/>
                    </p:nvGrpSpPr>
                    <p:grpSpPr>
                      <a:xfrm>
                        <a:off x="4835880" y="4419000"/>
                        <a:ext cx="441720" cy="121680"/>
                        <a:chOff x="4835880" y="4419000"/>
                        <a:chExt cx="441720" cy="121680"/>
                      </a:xfrm>
                    </p:grpSpPr>
                    <p:sp>
                      <p:nvSpPr>
                        <p:cNvPr id="2726" name="Line 123"/>
                        <p:cNvSpPr/>
                        <p:nvPr/>
                      </p:nvSpPr>
                      <p:spPr>
                        <a:xfrm flipV="1">
                          <a:off x="4835880" y="4419000"/>
                          <a:ext cx="441360" cy="12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7" name=""/>
                        <p:cNvSpPr txBox="1"/>
                        <p:nvPr/>
                      </p:nvSpPr>
                      <p:spPr>
                        <a:xfrm rot="20678400">
                          <a:off x="4827600" y="447948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728" name="Oval 124"/>
                    <p:cNvSpPr/>
                    <p:nvPr/>
                  </p:nvSpPr>
                  <p:spPr>
                    <a:xfrm rot="20678400">
                      <a:off x="4888080" y="4372560"/>
                      <a:ext cx="91080" cy="101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9" name="Freeform 125"/>
                    <p:cNvSpPr/>
                    <p:nvPr/>
                  </p:nvSpPr>
                  <p:spPr>
                    <a:xfrm rot="10430400">
                      <a:off x="5015880" y="427752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aeaea"/>
                        </a:gs>
                      </a:gsLst>
                      <a:lin ang="10248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730" name="Group 126"/>
                <p:cNvGrpSpPr/>
                <p:nvPr/>
              </p:nvGrpSpPr>
              <p:grpSpPr>
                <a:xfrm>
                  <a:off x="4379400" y="3470400"/>
                  <a:ext cx="569160" cy="585720"/>
                  <a:chOff x="4379400" y="3470400"/>
                  <a:chExt cx="569160" cy="585720"/>
                </a:xfrm>
              </p:grpSpPr>
              <p:sp>
                <p:nvSpPr>
                  <p:cNvPr id="2731" name="AutoShape 127"/>
                  <p:cNvSpPr/>
                  <p:nvPr/>
                </p:nvSpPr>
                <p:spPr>
                  <a:xfrm rot="20678400">
                    <a:off x="4645080" y="362268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32" name="Group 128"/>
                  <p:cNvGrpSpPr/>
                  <p:nvPr/>
                </p:nvGrpSpPr>
                <p:grpSpPr>
                  <a:xfrm>
                    <a:off x="4379400" y="3470400"/>
                    <a:ext cx="468360" cy="296640"/>
                    <a:chOff x="4379400" y="3470400"/>
                    <a:chExt cx="468360" cy="296640"/>
                  </a:xfrm>
                </p:grpSpPr>
                <p:grpSp>
                  <p:nvGrpSpPr>
                    <p:cNvPr id="2733" name="Group 129"/>
                    <p:cNvGrpSpPr/>
                    <p:nvPr/>
                  </p:nvGrpSpPr>
                  <p:grpSpPr>
                    <a:xfrm>
                      <a:off x="4379400" y="3470400"/>
                      <a:ext cx="468360" cy="244440"/>
                      <a:chOff x="4379400" y="3470400"/>
                      <a:chExt cx="468360" cy="244440"/>
                    </a:xfrm>
                  </p:grpSpPr>
                  <p:grpSp>
                    <p:nvGrpSpPr>
                      <p:cNvPr id="2734" name="Group 130"/>
                      <p:cNvGrpSpPr/>
                      <p:nvPr/>
                    </p:nvGrpSpPr>
                    <p:grpSpPr>
                      <a:xfrm>
                        <a:off x="4379760" y="3470400"/>
                        <a:ext cx="468000" cy="244440"/>
                        <a:chOff x="4379760" y="3470400"/>
                        <a:chExt cx="468000" cy="244440"/>
                      </a:xfrm>
                    </p:grpSpPr>
                    <p:sp>
                      <p:nvSpPr>
                        <p:cNvPr id="2735" name="Rectangle 131"/>
                        <p:cNvSpPr/>
                        <p:nvPr/>
                      </p:nvSpPr>
                      <p:spPr>
                        <a:xfrm rot="9878400">
                          <a:off x="4535640" y="350748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6" name="Freeform 132"/>
                        <p:cNvSpPr/>
                        <p:nvPr/>
                      </p:nvSpPr>
                      <p:spPr>
                        <a:xfrm rot="9878400">
                          <a:off x="4394160" y="356868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37" name=""/>
                      <p:cNvGrpSpPr/>
                      <p:nvPr/>
                    </p:nvGrpSpPr>
                    <p:grpSpPr>
                      <a:xfrm>
                        <a:off x="4379400" y="3497760"/>
                        <a:ext cx="441720" cy="121680"/>
                        <a:chOff x="4379400" y="3497760"/>
                        <a:chExt cx="441720" cy="121680"/>
                      </a:xfrm>
                    </p:grpSpPr>
                    <p:sp>
                      <p:nvSpPr>
                        <p:cNvPr id="2738" name="Line 133"/>
                        <p:cNvSpPr/>
                        <p:nvPr/>
                      </p:nvSpPr>
                      <p:spPr>
                        <a:xfrm flipH="1">
                          <a:off x="4379760" y="3498120"/>
                          <a:ext cx="441360" cy="12096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9" name=""/>
                        <p:cNvSpPr txBox="1"/>
                        <p:nvPr/>
                      </p:nvSpPr>
                      <p:spPr>
                        <a:xfrm rot="9878400">
                          <a:off x="4371120" y="355824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740" name="Oval 134"/>
                    <p:cNvSpPr/>
                    <p:nvPr/>
                  </p:nvSpPr>
                  <p:spPr>
                    <a:xfrm rot="9878400">
                      <a:off x="4677120" y="356400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1" name="Freeform 135"/>
                    <p:cNvSpPr/>
                    <p:nvPr/>
                  </p:nvSpPr>
                  <p:spPr>
                    <a:xfrm rot="21230400">
                      <a:off x="4518000" y="360828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742" name="Group 136"/>
              <p:cNvGrpSpPr/>
              <p:nvPr/>
            </p:nvGrpSpPr>
            <p:grpSpPr>
              <a:xfrm>
                <a:off x="4541040" y="3447000"/>
                <a:ext cx="435240" cy="701280"/>
                <a:chOff x="4541040" y="3447000"/>
                <a:chExt cx="435240" cy="701280"/>
              </a:xfrm>
            </p:grpSpPr>
            <p:grpSp>
              <p:nvGrpSpPr>
                <p:cNvPr id="2743" name="Group 137"/>
                <p:cNvGrpSpPr/>
                <p:nvPr/>
              </p:nvGrpSpPr>
              <p:grpSpPr>
                <a:xfrm>
                  <a:off x="4541040" y="3447000"/>
                  <a:ext cx="424800" cy="585360"/>
                  <a:chOff x="4541040" y="3447000"/>
                  <a:chExt cx="424800" cy="585360"/>
                </a:xfrm>
              </p:grpSpPr>
              <p:sp>
                <p:nvSpPr>
                  <p:cNvPr id="2744" name="AutoShape 138"/>
                  <p:cNvSpPr/>
                  <p:nvPr/>
                </p:nvSpPr>
                <p:spPr>
                  <a:xfrm rot="20678400">
                    <a:off x="4620960" y="3593160"/>
                    <a:ext cx="29592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5" name="Oval 139"/>
                  <p:cNvSpPr/>
                  <p:nvPr/>
                </p:nvSpPr>
                <p:spPr>
                  <a:xfrm rot="20678400">
                    <a:off x="4568760" y="3480840"/>
                    <a:ext cx="290520" cy="249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46" name="Oval 140"/>
                <p:cNvSpPr/>
                <p:nvPr/>
              </p:nvSpPr>
              <p:spPr>
                <a:xfrm rot="20678400">
                  <a:off x="4694040" y="3873240"/>
                  <a:ext cx="254160" cy="24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7" name="AutoShape 141"/>
              <p:cNvSpPr/>
              <p:nvPr/>
            </p:nvSpPr>
            <p:spPr>
              <a:xfrm rot="20678400">
                <a:off x="4768920" y="3952440"/>
                <a:ext cx="109080" cy="94320"/>
              </a:xfrm>
              <a:prstGeom prst="hexagon">
                <a:avLst>
                  <a:gd name="adj" fmla="val 28912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8" name="Group 142"/>
            <p:cNvGrpSpPr/>
            <p:nvPr/>
          </p:nvGrpSpPr>
          <p:grpSpPr>
            <a:xfrm>
              <a:off x="4101120" y="2457720"/>
              <a:ext cx="898200" cy="1121040"/>
              <a:chOff x="4101120" y="2457720"/>
              <a:chExt cx="898200" cy="1121040"/>
            </a:xfrm>
          </p:grpSpPr>
          <p:grpSp>
            <p:nvGrpSpPr>
              <p:cNvPr id="2749" name="Group 143"/>
              <p:cNvGrpSpPr/>
              <p:nvPr/>
            </p:nvGrpSpPr>
            <p:grpSpPr>
              <a:xfrm>
                <a:off x="4101120" y="2457720"/>
                <a:ext cx="898200" cy="1097640"/>
                <a:chOff x="4101120" y="2457720"/>
                <a:chExt cx="898200" cy="1097640"/>
              </a:xfrm>
            </p:grpSpPr>
            <p:grpSp>
              <p:nvGrpSpPr>
                <p:cNvPr id="2750" name="Group 144"/>
                <p:cNvGrpSpPr/>
                <p:nvPr/>
              </p:nvGrpSpPr>
              <p:grpSpPr>
                <a:xfrm>
                  <a:off x="4101120" y="2457720"/>
                  <a:ext cx="569160" cy="586440"/>
                  <a:chOff x="4101120" y="2457720"/>
                  <a:chExt cx="569160" cy="586440"/>
                </a:xfrm>
              </p:grpSpPr>
              <p:sp>
                <p:nvSpPr>
                  <p:cNvPr id="2751" name="AutoShape 145"/>
                  <p:cNvSpPr/>
                  <p:nvPr/>
                </p:nvSpPr>
                <p:spPr>
                  <a:xfrm rot="20678400">
                    <a:off x="4366800" y="2610360"/>
                    <a:ext cx="254160" cy="40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52" name="Group 146"/>
                  <p:cNvGrpSpPr/>
                  <p:nvPr/>
                </p:nvGrpSpPr>
                <p:grpSpPr>
                  <a:xfrm>
                    <a:off x="4101120" y="2457720"/>
                    <a:ext cx="468360" cy="296640"/>
                    <a:chOff x="4101120" y="2457720"/>
                    <a:chExt cx="468360" cy="296640"/>
                  </a:xfrm>
                </p:grpSpPr>
                <p:grpSp>
                  <p:nvGrpSpPr>
                    <p:cNvPr id="2753" name="Group 147"/>
                    <p:cNvGrpSpPr/>
                    <p:nvPr/>
                  </p:nvGrpSpPr>
                  <p:grpSpPr>
                    <a:xfrm>
                      <a:off x="4101120" y="2457720"/>
                      <a:ext cx="468360" cy="244800"/>
                      <a:chOff x="4101120" y="2457720"/>
                      <a:chExt cx="468360" cy="244800"/>
                    </a:xfrm>
                  </p:grpSpPr>
                  <p:grpSp>
                    <p:nvGrpSpPr>
                      <p:cNvPr id="2754" name="Group 148"/>
                      <p:cNvGrpSpPr/>
                      <p:nvPr/>
                    </p:nvGrpSpPr>
                    <p:grpSpPr>
                      <a:xfrm>
                        <a:off x="4101480" y="2457720"/>
                        <a:ext cx="468000" cy="244800"/>
                        <a:chOff x="4101480" y="2457720"/>
                        <a:chExt cx="468000" cy="244800"/>
                      </a:xfrm>
                    </p:grpSpPr>
                    <p:sp>
                      <p:nvSpPr>
                        <p:cNvPr id="2755" name="Rectangle 149"/>
                        <p:cNvSpPr/>
                        <p:nvPr/>
                      </p:nvSpPr>
                      <p:spPr>
                        <a:xfrm rot="9878400">
                          <a:off x="4257360" y="249480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56" name="Freeform 150"/>
                        <p:cNvSpPr/>
                        <p:nvPr/>
                      </p:nvSpPr>
                      <p:spPr>
                        <a:xfrm rot="9878400">
                          <a:off x="4115880" y="255636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57" name=""/>
                      <p:cNvGrpSpPr/>
                      <p:nvPr/>
                    </p:nvGrpSpPr>
                    <p:grpSpPr>
                      <a:xfrm>
                        <a:off x="4101120" y="2485080"/>
                        <a:ext cx="441720" cy="121680"/>
                        <a:chOff x="4101120" y="2485080"/>
                        <a:chExt cx="441720" cy="121680"/>
                      </a:xfrm>
                    </p:grpSpPr>
                    <p:sp>
                      <p:nvSpPr>
                        <p:cNvPr id="2758" name="Line 151"/>
                        <p:cNvSpPr/>
                        <p:nvPr/>
                      </p:nvSpPr>
                      <p:spPr>
                        <a:xfrm flipH="1">
                          <a:off x="4101480" y="2485440"/>
                          <a:ext cx="441360" cy="12132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59" name=""/>
                        <p:cNvSpPr txBox="1"/>
                        <p:nvPr/>
                      </p:nvSpPr>
                      <p:spPr>
                        <a:xfrm rot="9878400">
                          <a:off x="4092840" y="254556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760" name="Oval 152"/>
                    <p:cNvSpPr/>
                    <p:nvPr/>
                  </p:nvSpPr>
                  <p:spPr>
                    <a:xfrm rot="9878400">
                      <a:off x="4399200" y="255132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1" name="Freeform 153"/>
                    <p:cNvSpPr/>
                    <p:nvPr/>
                  </p:nvSpPr>
                  <p:spPr>
                    <a:xfrm rot="21230400">
                      <a:off x="4239720" y="259560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762" name="Group 154"/>
                <p:cNvGrpSpPr/>
                <p:nvPr/>
              </p:nvGrpSpPr>
              <p:grpSpPr>
                <a:xfrm>
                  <a:off x="4430160" y="2969640"/>
                  <a:ext cx="569160" cy="585720"/>
                  <a:chOff x="4430160" y="2969640"/>
                  <a:chExt cx="569160" cy="585720"/>
                </a:xfrm>
              </p:grpSpPr>
              <p:sp>
                <p:nvSpPr>
                  <p:cNvPr id="2763" name="AutoShape 155"/>
                  <p:cNvSpPr/>
                  <p:nvPr/>
                </p:nvSpPr>
                <p:spPr>
                  <a:xfrm rot="9878400">
                    <a:off x="4479120" y="299592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64" name="Group 156"/>
                  <p:cNvGrpSpPr/>
                  <p:nvPr/>
                </p:nvGrpSpPr>
                <p:grpSpPr>
                  <a:xfrm>
                    <a:off x="4530960" y="3258720"/>
                    <a:ext cx="468360" cy="296640"/>
                    <a:chOff x="4530960" y="3258720"/>
                    <a:chExt cx="468360" cy="296640"/>
                  </a:xfrm>
                </p:grpSpPr>
                <p:grpSp>
                  <p:nvGrpSpPr>
                    <p:cNvPr id="2765" name="Group 157"/>
                    <p:cNvGrpSpPr/>
                    <p:nvPr/>
                  </p:nvGrpSpPr>
                  <p:grpSpPr>
                    <a:xfrm>
                      <a:off x="4530960" y="3310920"/>
                      <a:ext cx="468360" cy="244440"/>
                      <a:chOff x="4530960" y="3310920"/>
                      <a:chExt cx="468360" cy="244440"/>
                    </a:xfrm>
                  </p:grpSpPr>
                  <p:grpSp>
                    <p:nvGrpSpPr>
                      <p:cNvPr id="2766" name="Group 158"/>
                      <p:cNvGrpSpPr/>
                      <p:nvPr/>
                    </p:nvGrpSpPr>
                    <p:grpSpPr>
                      <a:xfrm>
                        <a:off x="4530960" y="3310920"/>
                        <a:ext cx="468000" cy="244440"/>
                        <a:chOff x="4530960" y="3310920"/>
                        <a:chExt cx="468000" cy="244440"/>
                      </a:xfrm>
                    </p:grpSpPr>
                    <p:sp>
                      <p:nvSpPr>
                        <p:cNvPr id="2767" name="Rectangle 159"/>
                        <p:cNvSpPr/>
                        <p:nvPr/>
                      </p:nvSpPr>
                      <p:spPr>
                        <a:xfrm rot="20678400">
                          <a:off x="4542480" y="338868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68" name="Freeform 160"/>
                        <p:cNvSpPr/>
                        <p:nvPr/>
                      </p:nvSpPr>
                      <p:spPr>
                        <a:xfrm rot="20678400">
                          <a:off x="4834080" y="332820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69" name=""/>
                      <p:cNvGrpSpPr/>
                      <p:nvPr/>
                    </p:nvGrpSpPr>
                    <p:grpSpPr>
                      <a:xfrm>
                        <a:off x="4557600" y="3406320"/>
                        <a:ext cx="441720" cy="121680"/>
                        <a:chOff x="4557600" y="3406320"/>
                        <a:chExt cx="441720" cy="121680"/>
                      </a:xfrm>
                    </p:grpSpPr>
                    <p:sp>
                      <p:nvSpPr>
                        <p:cNvPr id="2770" name="Line 161"/>
                        <p:cNvSpPr/>
                        <p:nvPr/>
                      </p:nvSpPr>
                      <p:spPr>
                        <a:xfrm flipV="1">
                          <a:off x="4557600" y="3406680"/>
                          <a:ext cx="441360" cy="12096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71" name=""/>
                        <p:cNvSpPr txBox="1"/>
                        <p:nvPr/>
                      </p:nvSpPr>
                      <p:spPr>
                        <a:xfrm rot="20678400">
                          <a:off x="4549320" y="346680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772" name="Oval 162"/>
                    <p:cNvSpPr/>
                    <p:nvPr/>
                  </p:nvSpPr>
                  <p:spPr>
                    <a:xfrm rot="20678400">
                      <a:off x="4610160" y="335988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3" name="Freeform 163"/>
                    <p:cNvSpPr/>
                    <p:nvPr/>
                  </p:nvSpPr>
                  <p:spPr>
                    <a:xfrm rot="10431000">
                      <a:off x="4737600" y="326484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774" name="Group 164"/>
              <p:cNvGrpSpPr/>
              <p:nvPr/>
            </p:nvGrpSpPr>
            <p:grpSpPr>
              <a:xfrm>
                <a:off x="4402440" y="2877480"/>
                <a:ext cx="435240" cy="701280"/>
                <a:chOff x="4402440" y="2877480"/>
                <a:chExt cx="435240" cy="701280"/>
              </a:xfrm>
            </p:grpSpPr>
            <p:grpSp>
              <p:nvGrpSpPr>
                <p:cNvPr id="2775" name="Group 165"/>
                <p:cNvGrpSpPr/>
                <p:nvPr/>
              </p:nvGrpSpPr>
              <p:grpSpPr>
                <a:xfrm>
                  <a:off x="4412880" y="2993400"/>
                  <a:ext cx="424800" cy="585360"/>
                  <a:chOff x="4412880" y="2993400"/>
                  <a:chExt cx="424800" cy="585360"/>
                </a:xfrm>
              </p:grpSpPr>
              <p:sp>
                <p:nvSpPr>
                  <p:cNvPr id="2776" name="AutoShape 166"/>
                  <p:cNvSpPr/>
                  <p:nvPr/>
                </p:nvSpPr>
                <p:spPr>
                  <a:xfrm rot="9878400">
                    <a:off x="4461480" y="3025440"/>
                    <a:ext cx="29592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7" name="Oval 167"/>
                  <p:cNvSpPr/>
                  <p:nvPr/>
                </p:nvSpPr>
                <p:spPr>
                  <a:xfrm rot="9878400">
                    <a:off x="4519080" y="3295080"/>
                    <a:ext cx="290520" cy="24948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8" name="Oval 168"/>
                <p:cNvSpPr/>
                <p:nvPr/>
              </p:nvSpPr>
              <p:spPr>
                <a:xfrm rot="9878400">
                  <a:off x="4430160" y="2906640"/>
                  <a:ext cx="254160" cy="2455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9" name="AutoShape 169"/>
              <p:cNvSpPr/>
              <p:nvPr/>
            </p:nvSpPr>
            <p:spPr>
              <a:xfrm rot="9878400">
                <a:off x="4500360" y="2978640"/>
                <a:ext cx="109080" cy="94320"/>
              </a:xfrm>
              <a:prstGeom prst="hexagon">
                <a:avLst>
                  <a:gd name="adj" fmla="val 28912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80" name="Group 209"/>
          <p:cNvGrpSpPr/>
          <p:nvPr/>
        </p:nvGrpSpPr>
        <p:grpSpPr>
          <a:xfrm>
            <a:off x="4585320" y="2428920"/>
            <a:ext cx="547920" cy="596160"/>
            <a:chOff x="4585320" y="2428920"/>
            <a:chExt cx="547920" cy="596160"/>
          </a:xfrm>
        </p:grpSpPr>
        <p:sp>
          <p:nvSpPr>
            <p:cNvPr id="2781" name="AutoShape 210"/>
            <p:cNvSpPr/>
            <p:nvPr/>
          </p:nvSpPr>
          <p:spPr>
            <a:xfrm rot="19170600">
              <a:off x="4815360" y="2534040"/>
              <a:ext cx="179640" cy="491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556" y="21600"/>
                  </a:lnTo>
                  <a:lnTo>
                    <a:pt x="2004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8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AutoShape 211"/>
            <p:cNvSpPr/>
            <p:nvPr/>
          </p:nvSpPr>
          <p:spPr>
            <a:xfrm rot="3148800">
              <a:off x="4641480" y="2458440"/>
              <a:ext cx="191520" cy="236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934" y="2201"/>
                    <a:pt x="12267" y="5080"/>
                    <a:pt x="12267" y="10800"/>
                  </a:cubicBezTo>
                  <a:cubicBezTo>
                    <a:pt x="12267" y="16520"/>
                    <a:pt x="16934" y="1939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62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3" name="Group 212"/>
          <p:cNvGrpSpPr/>
          <p:nvPr/>
        </p:nvGrpSpPr>
        <p:grpSpPr>
          <a:xfrm>
            <a:off x="4760280" y="2639520"/>
            <a:ext cx="216360" cy="211320"/>
            <a:chOff x="4760280" y="2639520"/>
            <a:chExt cx="216360" cy="211320"/>
          </a:xfrm>
        </p:grpSpPr>
        <p:sp>
          <p:nvSpPr>
            <p:cNvPr id="2784" name="AutoShape 213"/>
            <p:cNvSpPr/>
            <p:nvPr/>
          </p:nvSpPr>
          <p:spPr>
            <a:xfrm rot="19106400">
              <a:off x="4777920" y="2683800"/>
              <a:ext cx="180720" cy="12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AutoShape 214"/>
            <p:cNvSpPr/>
            <p:nvPr/>
          </p:nvSpPr>
          <p:spPr>
            <a:xfrm rot="18968400">
              <a:off x="4799520" y="2687040"/>
              <a:ext cx="115560" cy="109440"/>
            </a:xfrm>
            <a:custGeom>
              <a:avLst/>
              <a:gdLst/>
              <a:ahLst/>
              <a:rect l="l" t="t" r="r" b="b"/>
              <a:pathLst>
                <a:path w="73" h="69">
                  <a:moveTo>
                    <a:pt x="0" y="26"/>
                  </a:moveTo>
                  <a:lnTo>
                    <a:pt x="27" y="26"/>
                  </a:lnTo>
                  <a:lnTo>
                    <a:pt x="36" y="0"/>
                  </a:lnTo>
                  <a:lnTo>
                    <a:pt x="45" y="26"/>
                  </a:lnTo>
                  <a:lnTo>
                    <a:pt x="72" y="26"/>
                  </a:lnTo>
                  <a:lnTo>
                    <a:pt x="50" y="42"/>
                  </a:lnTo>
                  <a:lnTo>
                    <a:pt x="59" y="68"/>
                  </a:lnTo>
                  <a:lnTo>
                    <a:pt x="36" y="52"/>
                  </a:lnTo>
                  <a:lnTo>
                    <a:pt x="13" y="68"/>
                  </a:lnTo>
                  <a:lnTo>
                    <a:pt x="22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6" name="Group 215"/>
          <p:cNvGrpSpPr/>
          <p:nvPr/>
        </p:nvGrpSpPr>
        <p:grpSpPr>
          <a:xfrm>
            <a:off x="4565880" y="2542680"/>
            <a:ext cx="1056960" cy="905760"/>
            <a:chOff x="4565880" y="2542680"/>
            <a:chExt cx="1056960" cy="905760"/>
          </a:xfrm>
        </p:grpSpPr>
        <p:grpSp>
          <p:nvGrpSpPr>
            <p:cNvPr id="2787" name="Group 216"/>
            <p:cNvGrpSpPr/>
            <p:nvPr/>
          </p:nvGrpSpPr>
          <p:grpSpPr>
            <a:xfrm>
              <a:off x="4953600" y="2860560"/>
              <a:ext cx="669240" cy="587880"/>
              <a:chOff x="4953600" y="2860560"/>
              <a:chExt cx="669240" cy="587880"/>
            </a:xfrm>
          </p:grpSpPr>
          <p:grpSp>
            <p:nvGrpSpPr>
              <p:cNvPr id="2788" name="Group 217"/>
              <p:cNvGrpSpPr/>
              <p:nvPr/>
            </p:nvGrpSpPr>
            <p:grpSpPr>
              <a:xfrm>
                <a:off x="4953600" y="2860560"/>
                <a:ext cx="669240" cy="587880"/>
                <a:chOff x="4953600" y="2860560"/>
                <a:chExt cx="669240" cy="587880"/>
              </a:xfrm>
            </p:grpSpPr>
            <p:sp>
              <p:nvSpPr>
                <p:cNvPr id="2789" name="AutoShape 218"/>
                <p:cNvSpPr/>
                <p:nvPr/>
              </p:nvSpPr>
              <p:spPr>
                <a:xfrm rot="18719400">
                  <a:off x="5148720" y="2950560"/>
                  <a:ext cx="179640" cy="36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4308" y="21600"/>
                      </a:lnTo>
                      <a:lnTo>
                        <a:pt x="17292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54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0" name="Oval 219"/>
                <p:cNvSpPr/>
                <p:nvPr/>
              </p:nvSpPr>
              <p:spPr>
                <a:xfrm rot="19258200">
                  <a:off x="4992480" y="2898000"/>
                  <a:ext cx="186840" cy="19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1" name="Freeform 220"/>
                <p:cNvSpPr/>
                <p:nvPr/>
              </p:nvSpPr>
              <p:spPr>
                <a:xfrm rot="7153200">
                  <a:off x="5366520" y="3157560"/>
                  <a:ext cx="175320" cy="287640"/>
                </a:xfrm>
                <a:custGeom>
                  <a:avLst/>
                  <a:gdLst/>
                  <a:ahLst/>
                  <a:rect l="l" t="t" r="r" b="b"/>
                  <a:pathLst>
                    <a:path w="1402" h="2302">
                      <a:moveTo>
                        <a:pt x="361" y="1127"/>
                      </a:moveTo>
                      <a:lnTo>
                        <a:pt x="280" y="1116"/>
                      </a:lnTo>
                      <a:lnTo>
                        <a:pt x="373" y="711"/>
                      </a:lnTo>
                      <a:lnTo>
                        <a:pt x="373" y="709"/>
                      </a:lnTo>
                      <a:lnTo>
                        <a:pt x="375" y="705"/>
                      </a:lnTo>
                      <a:lnTo>
                        <a:pt x="375" y="703"/>
                      </a:lnTo>
                      <a:lnTo>
                        <a:pt x="375" y="700"/>
                      </a:lnTo>
                      <a:lnTo>
                        <a:pt x="375" y="698"/>
                      </a:lnTo>
                      <a:lnTo>
                        <a:pt x="375" y="696"/>
                      </a:lnTo>
                      <a:lnTo>
                        <a:pt x="375" y="692"/>
                      </a:lnTo>
                      <a:lnTo>
                        <a:pt x="375" y="690"/>
                      </a:lnTo>
                      <a:lnTo>
                        <a:pt x="375" y="684"/>
                      </a:lnTo>
                      <a:lnTo>
                        <a:pt x="375" y="681"/>
                      </a:lnTo>
                      <a:lnTo>
                        <a:pt x="375" y="675"/>
                      </a:lnTo>
                      <a:lnTo>
                        <a:pt x="375" y="669"/>
                      </a:lnTo>
                      <a:lnTo>
                        <a:pt x="371" y="665"/>
                      </a:lnTo>
                      <a:lnTo>
                        <a:pt x="371" y="660"/>
                      </a:lnTo>
                      <a:lnTo>
                        <a:pt x="369" y="654"/>
                      </a:lnTo>
                      <a:lnTo>
                        <a:pt x="367" y="652"/>
                      </a:lnTo>
                      <a:lnTo>
                        <a:pt x="365" y="646"/>
                      </a:lnTo>
                      <a:lnTo>
                        <a:pt x="363" y="641"/>
                      </a:lnTo>
                      <a:lnTo>
                        <a:pt x="361" y="637"/>
                      </a:lnTo>
                      <a:lnTo>
                        <a:pt x="358" y="633"/>
                      </a:lnTo>
                      <a:lnTo>
                        <a:pt x="356" y="629"/>
                      </a:lnTo>
                      <a:lnTo>
                        <a:pt x="354" y="623"/>
                      </a:lnTo>
                      <a:lnTo>
                        <a:pt x="350" y="620"/>
                      </a:lnTo>
                      <a:lnTo>
                        <a:pt x="346" y="616"/>
                      </a:lnTo>
                      <a:lnTo>
                        <a:pt x="342" y="612"/>
                      </a:lnTo>
                      <a:lnTo>
                        <a:pt x="339" y="610"/>
                      </a:lnTo>
                      <a:lnTo>
                        <a:pt x="335" y="606"/>
                      </a:lnTo>
                      <a:lnTo>
                        <a:pt x="331" y="603"/>
                      </a:lnTo>
                      <a:lnTo>
                        <a:pt x="325" y="601"/>
                      </a:lnTo>
                      <a:lnTo>
                        <a:pt x="321" y="597"/>
                      </a:lnTo>
                      <a:lnTo>
                        <a:pt x="318" y="595"/>
                      </a:lnTo>
                      <a:lnTo>
                        <a:pt x="312" y="593"/>
                      </a:lnTo>
                      <a:lnTo>
                        <a:pt x="306" y="591"/>
                      </a:lnTo>
                      <a:lnTo>
                        <a:pt x="302" y="589"/>
                      </a:lnTo>
                      <a:lnTo>
                        <a:pt x="299" y="589"/>
                      </a:lnTo>
                      <a:lnTo>
                        <a:pt x="295" y="587"/>
                      </a:lnTo>
                      <a:lnTo>
                        <a:pt x="291" y="587"/>
                      </a:lnTo>
                      <a:lnTo>
                        <a:pt x="287" y="585"/>
                      </a:lnTo>
                      <a:lnTo>
                        <a:pt x="285" y="585"/>
                      </a:lnTo>
                      <a:lnTo>
                        <a:pt x="283" y="585"/>
                      </a:lnTo>
                      <a:lnTo>
                        <a:pt x="280" y="585"/>
                      </a:lnTo>
                      <a:lnTo>
                        <a:pt x="276" y="585"/>
                      </a:lnTo>
                      <a:lnTo>
                        <a:pt x="274" y="585"/>
                      </a:lnTo>
                      <a:lnTo>
                        <a:pt x="272" y="585"/>
                      </a:lnTo>
                      <a:lnTo>
                        <a:pt x="268" y="585"/>
                      </a:lnTo>
                      <a:lnTo>
                        <a:pt x="266" y="585"/>
                      </a:lnTo>
                      <a:lnTo>
                        <a:pt x="263" y="585"/>
                      </a:lnTo>
                      <a:lnTo>
                        <a:pt x="261" y="587"/>
                      </a:lnTo>
                      <a:lnTo>
                        <a:pt x="259" y="587"/>
                      </a:lnTo>
                      <a:lnTo>
                        <a:pt x="255" y="587"/>
                      </a:lnTo>
                      <a:lnTo>
                        <a:pt x="253" y="589"/>
                      </a:lnTo>
                      <a:lnTo>
                        <a:pt x="249" y="589"/>
                      </a:lnTo>
                      <a:lnTo>
                        <a:pt x="247" y="589"/>
                      </a:lnTo>
                      <a:lnTo>
                        <a:pt x="243" y="591"/>
                      </a:lnTo>
                      <a:lnTo>
                        <a:pt x="240" y="591"/>
                      </a:lnTo>
                      <a:lnTo>
                        <a:pt x="238" y="593"/>
                      </a:lnTo>
                      <a:lnTo>
                        <a:pt x="236" y="595"/>
                      </a:lnTo>
                      <a:lnTo>
                        <a:pt x="232" y="595"/>
                      </a:lnTo>
                      <a:lnTo>
                        <a:pt x="230" y="597"/>
                      </a:lnTo>
                      <a:lnTo>
                        <a:pt x="228" y="599"/>
                      </a:lnTo>
                      <a:lnTo>
                        <a:pt x="224" y="601"/>
                      </a:lnTo>
                      <a:lnTo>
                        <a:pt x="223" y="601"/>
                      </a:lnTo>
                      <a:lnTo>
                        <a:pt x="219" y="603"/>
                      </a:lnTo>
                      <a:lnTo>
                        <a:pt x="217" y="604"/>
                      </a:lnTo>
                      <a:lnTo>
                        <a:pt x="211" y="608"/>
                      </a:lnTo>
                      <a:lnTo>
                        <a:pt x="207" y="612"/>
                      </a:lnTo>
                      <a:lnTo>
                        <a:pt x="204" y="616"/>
                      </a:lnTo>
                      <a:lnTo>
                        <a:pt x="198" y="618"/>
                      </a:lnTo>
                      <a:lnTo>
                        <a:pt x="194" y="623"/>
                      </a:lnTo>
                      <a:lnTo>
                        <a:pt x="188" y="627"/>
                      </a:lnTo>
                      <a:lnTo>
                        <a:pt x="185" y="633"/>
                      </a:lnTo>
                      <a:lnTo>
                        <a:pt x="181" y="637"/>
                      </a:lnTo>
                      <a:lnTo>
                        <a:pt x="177" y="641"/>
                      </a:lnTo>
                      <a:lnTo>
                        <a:pt x="173" y="646"/>
                      </a:lnTo>
                      <a:lnTo>
                        <a:pt x="169" y="652"/>
                      </a:lnTo>
                      <a:lnTo>
                        <a:pt x="166" y="656"/>
                      </a:lnTo>
                      <a:lnTo>
                        <a:pt x="162" y="662"/>
                      </a:lnTo>
                      <a:lnTo>
                        <a:pt x="160" y="665"/>
                      </a:lnTo>
                      <a:lnTo>
                        <a:pt x="158" y="669"/>
                      </a:lnTo>
                      <a:lnTo>
                        <a:pt x="158" y="671"/>
                      </a:lnTo>
                      <a:lnTo>
                        <a:pt x="156" y="673"/>
                      </a:lnTo>
                      <a:lnTo>
                        <a:pt x="154" y="677"/>
                      </a:lnTo>
                      <a:lnTo>
                        <a:pt x="152" y="679"/>
                      </a:lnTo>
                      <a:lnTo>
                        <a:pt x="152" y="681"/>
                      </a:lnTo>
                      <a:lnTo>
                        <a:pt x="150" y="684"/>
                      </a:lnTo>
                      <a:lnTo>
                        <a:pt x="150" y="688"/>
                      </a:lnTo>
                      <a:lnTo>
                        <a:pt x="146" y="694"/>
                      </a:lnTo>
                      <a:lnTo>
                        <a:pt x="145" y="701"/>
                      </a:lnTo>
                      <a:lnTo>
                        <a:pt x="143" y="709"/>
                      </a:lnTo>
                      <a:lnTo>
                        <a:pt x="139" y="717"/>
                      </a:lnTo>
                      <a:lnTo>
                        <a:pt x="137" y="724"/>
                      </a:lnTo>
                      <a:lnTo>
                        <a:pt x="135" y="732"/>
                      </a:lnTo>
                      <a:lnTo>
                        <a:pt x="131" y="739"/>
                      </a:lnTo>
                      <a:lnTo>
                        <a:pt x="129" y="747"/>
                      </a:lnTo>
                      <a:lnTo>
                        <a:pt x="126" y="755"/>
                      </a:lnTo>
                      <a:lnTo>
                        <a:pt x="124" y="760"/>
                      </a:lnTo>
                      <a:lnTo>
                        <a:pt x="122" y="768"/>
                      </a:lnTo>
                      <a:lnTo>
                        <a:pt x="120" y="776"/>
                      </a:lnTo>
                      <a:lnTo>
                        <a:pt x="116" y="781"/>
                      </a:lnTo>
                      <a:lnTo>
                        <a:pt x="114" y="789"/>
                      </a:lnTo>
                      <a:lnTo>
                        <a:pt x="112" y="796"/>
                      </a:lnTo>
                      <a:lnTo>
                        <a:pt x="110" y="804"/>
                      </a:lnTo>
                      <a:lnTo>
                        <a:pt x="107" y="812"/>
                      </a:lnTo>
                      <a:lnTo>
                        <a:pt x="107" y="817"/>
                      </a:lnTo>
                      <a:lnTo>
                        <a:pt x="103" y="823"/>
                      </a:lnTo>
                      <a:lnTo>
                        <a:pt x="101" y="831"/>
                      </a:lnTo>
                      <a:lnTo>
                        <a:pt x="97" y="836"/>
                      </a:lnTo>
                      <a:lnTo>
                        <a:pt x="97" y="844"/>
                      </a:lnTo>
                      <a:lnTo>
                        <a:pt x="93" y="852"/>
                      </a:lnTo>
                      <a:lnTo>
                        <a:pt x="93" y="857"/>
                      </a:lnTo>
                      <a:lnTo>
                        <a:pt x="89" y="865"/>
                      </a:lnTo>
                      <a:lnTo>
                        <a:pt x="88" y="871"/>
                      </a:lnTo>
                      <a:lnTo>
                        <a:pt x="86" y="878"/>
                      </a:lnTo>
                      <a:lnTo>
                        <a:pt x="84" y="884"/>
                      </a:lnTo>
                      <a:lnTo>
                        <a:pt x="82" y="892"/>
                      </a:lnTo>
                      <a:lnTo>
                        <a:pt x="80" y="899"/>
                      </a:lnTo>
                      <a:lnTo>
                        <a:pt x="78" y="907"/>
                      </a:lnTo>
                      <a:lnTo>
                        <a:pt x="74" y="912"/>
                      </a:lnTo>
                      <a:lnTo>
                        <a:pt x="72" y="920"/>
                      </a:lnTo>
                      <a:lnTo>
                        <a:pt x="72" y="926"/>
                      </a:lnTo>
                      <a:lnTo>
                        <a:pt x="68" y="931"/>
                      </a:lnTo>
                      <a:lnTo>
                        <a:pt x="67" y="939"/>
                      </a:lnTo>
                      <a:lnTo>
                        <a:pt x="65" y="945"/>
                      </a:lnTo>
                      <a:lnTo>
                        <a:pt x="63" y="952"/>
                      </a:lnTo>
                      <a:lnTo>
                        <a:pt x="59" y="958"/>
                      </a:lnTo>
                      <a:lnTo>
                        <a:pt x="57" y="966"/>
                      </a:lnTo>
                      <a:lnTo>
                        <a:pt x="55" y="971"/>
                      </a:lnTo>
                      <a:lnTo>
                        <a:pt x="53" y="979"/>
                      </a:lnTo>
                      <a:lnTo>
                        <a:pt x="51" y="987"/>
                      </a:lnTo>
                      <a:lnTo>
                        <a:pt x="49" y="994"/>
                      </a:lnTo>
                      <a:lnTo>
                        <a:pt x="48" y="1000"/>
                      </a:lnTo>
                      <a:lnTo>
                        <a:pt x="46" y="1007"/>
                      </a:lnTo>
                      <a:lnTo>
                        <a:pt x="44" y="1015"/>
                      </a:lnTo>
                      <a:lnTo>
                        <a:pt x="42" y="1021"/>
                      </a:lnTo>
                      <a:lnTo>
                        <a:pt x="42" y="1028"/>
                      </a:lnTo>
                      <a:lnTo>
                        <a:pt x="38" y="1036"/>
                      </a:lnTo>
                      <a:lnTo>
                        <a:pt x="36" y="1042"/>
                      </a:lnTo>
                      <a:lnTo>
                        <a:pt x="36" y="1049"/>
                      </a:lnTo>
                      <a:lnTo>
                        <a:pt x="34" y="1057"/>
                      </a:lnTo>
                      <a:lnTo>
                        <a:pt x="30" y="1063"/>
                      </a:lnTo>
                      <a:lnTo>
                        <a:pt x="30" y="1070"/>
                      </a:lnTo>
                      <a:lnTo>
                        <a:pt x="29" y="1078"/>
                      </a:lnTo>
                      <a:lnTo>
                        <a:pt x="27" y="1085"/>
                      </a:lnTo>
                      <a:lnTo>
                        <a:pt x="25" y="1093"/>
                      </a:lnTo>
                      <a:lnTo>
                        <a:pt x="23" y="1101"/>
                      </a:lnTo>
                      <a:lnTo>
                        <a:pt x="21" y="1108"/>
                      </a:lnTo>
                      <a:lnTo>
                        <a:pt x="19" y="1116"/>
                      </a:lnTo>
                      <a:lnTo>
                        <a:pt x="17" y="1123"/>
                      </a:lnTo>
                      <a:lnTo>
                        <a:pt x="17" y="1131"/>
                      </a:lnTo>
                      <a:lnTo>
                        <a:pt x="15" y="1139"/>
                      </a:lnTo>
                      <a:lnTo>
                        <a:pt x="13" y="1148"/>
                      </a:lnTo>
                      <a:lnTo>
                        <a:pt x="10" y="1158"/>
                      </a:lnTo>
                      <a:lnTo>
                        <a:pt x="10" y="1165"/>
                      </a:lnTo>
                      <a:lnTo>
                        <a:pt x="8" y="1175"/>
                      </a:lnTo>
                      <a:lnTo>
                        <a:pt x="6" y="1182"/>
                      </a:lnTo>
                      <a:lnTo>
                        <a:pt x="6" y="1192"/>
                      </a:lnTo>
                      <a:lnTo>
                        <a:pt x="4" y="1201"/>
                      </a:lnTo>
                      <a:lnTo>
                        <a:pt x="2" y="1211"/>
                      </a:lnTo>
                      <a:lnTo>
                        <a:pt x="2" y="1218"/>
                      </a:lnTo>
                      <a:lnTo>
                        <a:pt x="0" y="1230"/>
                      </a:lnTo>
                      <a:lnTo>
                        <a:pt x="0" y="1237"/>
                      </a:lnTo>
                      <a:lnTo>
                        <a:pt x="0" y="1247"/>
                      </a:lnTo>
                      <a:lnTo>
                        <a:pt x="0" y="1257"/>
                      </a:lnTo>
                      <a:lnTo>
                        <a:pt x="0" y="1268"/>
                      </a:lnTo>
                      <a:lnTo>
                        <a:pt x="0" y="1276"/>
                      </a:lnTo>
                      <a:lnTo>
                        <a:pt x="0" y="1285"/>
                      </a:lnTo>
                      <a:lnTo>
                        <a:pt x="0" y="1296"/>
                      </a:lnTo>
                      <a:lnTo>
                        <a:pt x="0" y="1304"/>
                      </a:lnTo>
                      <a:lnTo>
                        <a:pt x="0" y="1314"/>
                      </a:lnTo>
                      <a:lnTo>
                        <a:pt x="0" y="1323"/>
                      </a:lnTo>
                      <a:lnTo>
                        <a:pt x="0" y="1333"/>
                      </a:lnTo>
                      <a:lnTo>
                        <a:pt x="2" y="1342"/>
                      </a:lnTo>
                      <a:lnTo>
                        <a:pt x="2" y="1352"/>
                      </a:lnTo>
                      <a:lnTo>
                        <a:pt x="4" y="1363"/>
                      </a:lnTo>
                      <a:lnTo>
                        <a:pt x="4" y="1371"/>
                      </a:lnTo>
                      <a:lnTo>
                        <a:pt x="6" y="1382"/>
                      </a:lnTo>
                      <a:lnTo>
                        <a:pt x="8" y="1390"/>
                      </a:lnTo>
                      <a:lnTo>
                        <a:pt x="8" y="1401"/>
                      </a:lnTo>
                      <a:lnTo>
                        <a:pt x="10" y="1409"/>
                      </a:lnTo>
                      <a:lnTo>
                        <a:pt x="11" y="1420"/>
                      </a:lnTo>
                      <a:lnTo>
                        <a:pt x="13" y="1429"/>
                      </a:lnTo>
                      <a:lnTo>
                        <a:pt x="15" y="1439"/>
                      </a:lnTo>
                      <a:lnTo>
                        <a:pt x="17" y="1448"/>
                      </a:lnTo>
                      <a:lnTo>
                        <a:pt x="19" y="1458"/>
                      </a:lnTo>
                      <a:lnTo>
                        <a:pt x="21" y="1468"/>
                      </a:lnTo>
                      <a:lnTo>
                        <a:pt x="23" y="1477"/>
                      </a:lnTo>
                      <a:lnTo>
                        <a:pt x="27" y="1487"/>
                      </a:lnTo>
                      <a:lnTo>
                        <a:pt x="29" y="1496"/>
                      </a:lnTo>
                      <a:lnTo>
                        <a:pt x="30" y="1506"/>
                      </a:lnTo>
                      <a:lnTo>
                        <a:pt x="34" y="1515"/>
                      </a:lnTo>
                      <a:lnTo>
                        <a:pt x="36" y="1525"/>
                      </a:lnTo>
                      <a:lnTo>
                        <a:pt x="38" y="1534"/>
                      </a:lnTo>
                      <a:lnTo>
                        <a:pt x="42" y="1544"/>
                      </a:lnTo>
                      <a:lnTo>
                        <a:pt x="46" y="1553"/>
                      </a:lnTo>
                      <a:lnTo>
                        <a:pt x="48" y="1561"/>
                      </a:lnTo>
                      <a:lnTo>
                        <a:pt x="51" y="1572"/>
                      </a:lnTo>
                      <a:lnTo>
                        <a:pt x="55" y="1580"/>
                      </a:lnTo>
                      <a:lnTo>
                        <a:pt x="59" y="1589"/>
                      </a:lnTo>
                      <a:lnTo>
                        <a:pt x="63" y="1599"/>
                      </a:lnTo>
                      <a:lnTo>
                        <a:pt x="67" y="1608"/>
                      </a:lnTo>
                      <a:lnTo>
                        <a:pt x="68" y="1616"/>
                      </a:lnTo>
                      <a:lnTo>
                        <a:pt x="74" y="1627"/>
                      </a:lnTo>
                      <a:lnTo>
                        <a:pt x="78" y="1635"/>
                      </a:lnTo>
                      <a:lnTo>
                        <a:pt x="82" y="1644"/>
                      </a:lnTo>
                      <a:lnTo>
                        <a:pt x="86" y="1652"/>
                      </a:lnTo>
                      <a:lnTo>
                        <a:pt x="89" y="1661"/>
                      </a:lnTo>
                      <a:lnTo>
                        <a:pt x="95" y="1669"/>
                      </a:lnTo>
                      <a:lnTo>
                        <a:pt x="99" y="1679"/>
                      </a:lnTo>
                      <a:lnTo>
                        <a:pt x="103" y="1688"/>
                      </a:lnTo>
                      <a:lnTo>
                        <a:pt x="108" y="1696"/>
                      </a:lnTo>
                      <a:lnTo>
                        <a:pt x="114" y="1703"/>
                      </a:lnTo>
                      <a:lnTo>
                        <a:pt x="118" y="1713"/>
                      </a:lnTo>
                      <a:lnTo>
                        <a:pt x="124" y="1722"/>
                      </a:lnTo>
                      <a:lnTo>
                        <a:pt x="127" y="1732"/>
                      </a:lnTo>
                      <a:lnTo>
                        <a:pt x="131" y="1736"/>
                      </a:lnTo>
                      <a:lnTo>
                        <a:pt x="135" y="1739"/>
                      </a:lnTo>
                      <a:lnTo>
                        <a:pt x="135" y="1743"/>
                      </a:lnTo>
                      <a:lnTo>
                        <a:pt x="137" y="1745"/>
                      </a:lnTo>
                      <a:lnTo>
                        <a:pt x="139" y="1747"/>
                      </a:lnTo>
                      <a:lnTo>
                        <a:pt x="141" y="1751"/>
                      </a:lnTo>
                      <a:lnTo>
                        <a:pt x="143" y="1755"/>
                      </a:lnTo>
                      <a:lnTo>
                        <a:pt x="143" y="1756"/>
                      </a:lnTo>
                      <a:lnTo>
                        <a:pt x="145" y="1760"/>
                      </a:lnTo>
                      <a:lnTo>
                        <a:pt x="146" y="1762"/>
                      </a:lnTo>
                      <a:lnTo>
                        <a:pt x="148" y="1766"/>
                      </a:lnTo>
                      <a:lnTo>
                        <a:pt x="150" y="1768"/>
                      </a:lnTo>
                      <a:lnTo>
                        <a:pt x="152" y="1770"/>
                      </a:lnTo>
                      <a:lnTo>
                        <a:pt x="156" y="1774"/>
                      </a:lnTo>
                      <a:lnTo>
                        <a:pt x="158" y="1777"/>
                      </a:lnTo>
                      <a:lnTo>
                        <a:pt x="160" y="1779"/>
                      </a:lnTo>
                      <a:lnTo>
                        <a:pt x="160" y="1783"/>
                      </a:lnTo>
                      <a:lnTo>
                        <a:pt x="162" y="1787"/>
                      </a:lnTo>
                      <a:lnTo>
                        <a:pt x="166" y="1789"/>
                      </a:lnTo>
                      <a:lnTo>
                        <a:pt x="166" y="1791"/>
                      </a:lnTo>
                      <a:lnTo>
                        <a:pt x="167" y="1794"/>
                      </a:lnTo>
                      <a:lnTo>
                        <a:pt x="169" y="1796"/>
                      </a:lnTo>
                      <a:lnTo>
                        <a:pt x="171" y="1800"/>
                      </a:lnTo>
                      <a:lnTo>
                        <a:pt x="173" y="1802"/>
                      </a:lnTo>
                      <a:lnTo>
                        <a:pt x="175" y="1806"/>
                      </a:lnTo>
                      <a:lnTo>
                        <a:pt x="177" y="1808"/>
                      </a:lnTo>
                      <a:lnTo>
                        <a:pt x="179" y="1812"/>
                      </a:lnTo>
                      <a:lnTo>
                        <a:pt x="181" y="1815"/>
                      </a:lnTo>
                      <a:lnTo>
                        <a:pt x="183" y="1817"/>
                      </a:lnTo>
                      <a:lnTo>
                        <a:pt x="185" y="1821"/>
                      </a:lnTo>
                      <a:lnTo>
                        <a:pt x="188" y="1827"/>
                      </a:lnTo>
                      <a:lnTo>
                        <a:pt x="190" y="1831"/>
                      </a:lnTo>
                      <a:lnTo>
                        <a:pt x="194" y="1836"/>
                      </a:lnTo>
                      <a:lnTo>
                        <a:pt x="198" y="1842"/>
                      </a:lnTo>
                      <a:lnTo>
                        <a:pt x="200" y="1846"/>
                      </a:lnTo>
                      <a:lnTo>
                        <a:pt x="204" y="1850"/>
                      </a:lnTo>
                      <a:lnTo>
                        <a:pt x="205" y="1853"/>
                      </a:lnTo>
                      <a:lnTo>
                        <a:pt x="207" y="1859"/>
                      </a:lnTo>
                      <a:lnTo>
                        <a:pt x="209" y="1861"/>
                      </a:lnTo>
                      <a:lnTo>
                        <a:pt x="211" y="1863"/>
                      </a:lnTo>
                      <a:lnTo>
                        <a:pt x="213" y="1867"/>
                      </a:lnTo>
                      <a:lnTo>
                        <a:pt x="215" y="1869"/>
                      </a:lnTo>
                      <a:lnTo>
                        <a:pt x="217" y="1870"/>
                      </a:lnTo>
                      <a:lnTo>
                        <a:pt x="219" y="1874"/>
                      </a:lnTo>
                      <a:lnTo>
                        <a:pt x="141" y="2163"/>
                      </a:lnTo>
                      <a:lnTo>
                        <a:pt x="143" y="2165"/>
                      </a:lnTo>
                      <a:lnTo>
                        <a:pt x="146" y="2165"/>
                      </a:lnTo>
                      <a:lnTo>
                        <a:pt x="150" y="2167"/>
                      </a:lnTo>
                      <a:lnTo>
                        <a:pt x="152" y="2167"/>
                      </a:lnTo>
                      <a:lnTo>
                        <a:pt x="154" y="2167"/>
                      </a:lnTo>
                      <a:lnTo>
                        <a:pt x="158" y="2167"/>
                      </a:lnTo>
                      <a:lnTo>
                        <a:pt x="162" y="2171"/>
                      </a:lnTo>
                      <a:lnTo>
                        <a:pt x="166" y="2171"/>
                      </a:lnTo>
                      <a:lnTo>
                        <a:pt x="167" y="2173"/>
                      </a:lnTo>
                      <a:lnTo>
                        <a:pt x="171" y="2173"/>
                      </a:lnTo>
                      <a:lnTo>
                        <a:pt x="175" y="2175"/>
                      </a:lnTo>
                      <a:lnTo>
                        <a:pt x="181" y="2175"/>
                      </a:lnTo>
                      <a:lnTo>
                        <a:pt x="185" y="2175"/>
                      </a:lnTo>
                      <a:lnTo>
                        <a:pt x="188" y="2177"/>
                      </a:lnTo>
                      <a:lnTo>
                        <a:pt x="194" y="2180"/>
                      </a:lnTo>
                      <a:lnTo>
                        <a:pt x="198" y="2180"/>
                      </a:lnTo>
                      <a:lnTo>
                        <a:pt x="204" y="2182"/>
                      </a:lnTo>
                      <a:lnTo>
                        <a:pt x="209" y="2182"/>
                      </a:lnTo>
                      <a:lnTo>
                        <a:pt x="215" y="2184"/>
                      </a:lnTo>
                      <a:lnTo>
                        <a:pt x="219" y="2186"/>
                      </a:lnTo>
                      <a:lnTo>
                        <a:pt x="224" y="2188"/>
                      </a:lnTo>
                      <a:lnTo>
                        <a:pt x="232" y="2188"/>
                      </a:lnTo>
                      <a:lnTo>
                        <a:pt x="238" y="2190"/>
                      </a:lnTo>
                      <a:lnTo>
                        <a:pt x="243" y="2190"/>
                      </a:lnTo>
                      <a:lnTo>
                        <a:pt x="251" y="2192"/>
                      </a:lnTo>
                      <a:lnTo>
                        <a:pt x="257" y="2194"/>
                      </a:lnTo>
                      <a:lnTo>
                        <a:pt x="264" y="2194"/>
                      </a:lnTo>
                      <a:lnTo>
                        <a:pt x="270" y="2196"/>
                      </a:lnTo>
                      <a:lnTo>
                        <a:pt x="276" y="2196"/>
                      </a:lnTo>
                      <a:lnTo>
                        <a:pt x="283" y="2197"/>
                      </a:lnTo>
                      <a:lnTo>
                        <a:pt x="291" y="2199"/>
                      </a:lnTo>
                      <a:lnTo>
                        <a:pt x="297" y="2199"/>
                      </a:lnTo>
                      <a:lnTo>
                        <a:pt x="304" y="2199"/>
                      </a:lnTo>
                      <a:lnTo>
                        <a:pt x="312" y="2199"/>
                      </a:lnTo>
                      <a:lnTo>
                        <a:pt x="320" y="2201"/>
                      </a:lnTo>
                      <a:lnTo>
                        <a:pt x="325" y="2201"/>
                      </a:lnTo>
                      <a:lnTo>
                        <a:pt x="333" y="2201"/>
                      </a:lnTo>
                      <a:lnTo>
                        <a:pt x="341" y="2201"/>
                      </a:lnTo>
                      <a:lnTo>
                        <a:pt x="348" y="2201"/>
                      </a:lnTo>
                      <a:lnTo>
                        <a:pt x="356" y="2201"/>
                      </a:lnTo>
                      <a:lnTo>
                        <a:pt x="363" y="2201"/>
                      </a:lnTo>
                      <a:lnTo>
                        <a:pt x="371" y="2201"/>
                      </a:lnTo>
                      <a:lnTo>
                        <a:pt x="379" y="2201"/>
                      </a:lnTo>
                      <a:lnTo>
                        <a:pt x="386" y="2201"/>
                      </a:lnTo>
                      <a:lnTo>
                        <a:pt x="394" y="2201"/>
                      </a:lnTo>
                      <a:lnTo>
                        <a:pt x="401" y="2199"/>
                      </a:lnTo>
                      <a:lnTo>
                        <a:pt x="409" y="2199"/>
                      </a:lnTo>
                      <a:lnTo>
                        <a:pt x="415" y="2197"/>
                      </a:lnTo>
                      <a:lnTo>
                        <a:pt x="422" y="2196"/>
                      </a:lnTo>
                      <a:lnTo>
                        <a:pt x="432" y="2196"/>
                      </a:lnTo>
                      <a:lnTo>
                        <a:pt x="439" y="2194"/>
                      </a:lnTo>
                      <a:lnTo>
                        <a:pt x="447" y="2192"/>
                      </a:lnTo>
                      <a:lnTo>
                        <a:pt x="455" y="2190"/>
                      </a:lnTo>
                      <a:lnTo>
                        <a:pt x="462" y="2188"/>
                      </a:lnTo>
                      <a:lnTo>
                        <a:pt x="470" y="2188"/>
                      </a:lnTo>
                      <a:lnTo>
                        <a:pt x="476" y="2184"/>
                      </a:lnTo>
                      <a:lnTo>
                        <a:pt x="483" y="2182"/>
                      </a:lnTo>
                      <a:lnTo>
                        <a:pt x="491" y="2180"/>
                      </a:lnTo>
                      <a:lnTo>
                        <a:pt x="498" y="2175"/>
                      </a:lnTo>
                      <a:lnTo>
                        <a:pt x="504" y="2173"/>
                      </a:lnTo>
                      <a:lnTo>
                        <a:pt x="512" y="2169"/>
                      </a:lnTo>
                      <a:lnTo>
                        <a:pt x="517" y="2165"/>
                      </a:lnTo>
                      <a:lnTo>
                        <a:pt x="525" y="2161"/>
                      </a:lnTo>
                      <a:lnTo>
                        <a:pt x="531" y="2158"/>
                      </a:lnTo>
                      <a:lnTo>
                        <a:pt x="536" y="2154"/>
                      </a:lnTo>
                      <a:lnTo>
                        <a:pt x="542" y="2150"/>
                      </a:lnTo>
                      <a:lnTo>
                        <a:pt x="550" y="2146"/>
                      </a:lnTo>
                      <a:lnTo>
                        <a:pt x="555" y="2142"/>
                      </a:lnTo>
                      <a:lnTo>
                        <a:pt x="559" y="2137"/>
                      </a:lnTo>
                      <a:lnTo>
                        <a:pt x="565" y="2133"/>
                      </a:lnTo>
                      <a:lnTo>
                        <a:pt x="571" y="2129"/>
                      </a:lnTo>
                      <a:lnTo>
                        <a:pt x="576" y="2123"/>
                      </a:lnTo>
                      <a:lnTo>
                        <a:pt x="582" y="2120"/>
                      </a:lnTo>
                      <a:lnTo>
                        <a:pt x="588" y="2114"/>
                      </a:lnTo>
                      <a:lnTo>
                        <a:pt x="592" y="2110"/>
                      </a:lnTo>
                      <a:lnTo>
                        <a:pt x="595" y="2106"/>
                      </a:lnTo>
                      <a:lnTo>
                        <a:pt x="601" y="2101"/>
                      </a:lnTo>
                      <a:lnTo>
                        <a:pt x="605" y="2095"/>
                      </a:lnTo>
                      <a:lnTo>
                        <a:pt x="611" y="2091"/>
                      </a:lnTo>
                      <a:lnTo>
                        <a:pt x="614" y="2085"/>
                      </a:lnTo>
                      <a:lnTo>
                        <a:pt x="618" y="2080"/>
                      </a:lnTo>
                      <a:lnTo>
                        <a:pt x="624" y="2076"/>
                      </a:lnTo>
                      <a:lnTo>
                        <a:pt x="628" y="2070"/>
                      </a:lnTo>
                      <a:lnTo>
                        <a:pt x="632" y="2064"/>
                      </a:lnTo>
                      <a:lnTo>
                        <a:pt x="635" y="2059"/>
                      </a:lnTo>
                      <a:lnTo>
                        <a:pt x="637" y="2055"/>
                      </a:lnTo>
                      <a:lnTo>
                        <a:pt x="643" y="2049"/>
                      </a:lnTo>
                      <a:lnTo>
                        <a:pt x="645" y="2043"/>
                      </a:lnTo>
                      <a:lnTo>
                        <a:pt x="649" y="2040"/>
                      </a:lnTo>
                      <a:lnTo>
                        <a:pt x="652" y="2034"/>
                      </a:lnTo>
                      <a:lnTo>
                        <a:pt x="654" y="2030"/>
                      </a:lnTo>
                      <a:lnTo>
                        <a:pt x="658" y="2024"/>
                      </a:lnTo>
                      <a:lnTo>
                        <a:pt x="660" y="2021"/>
                      </a:lnTo>
                      <a:lnTo>
                        <a:pt x="664" y="2015"/>
                      </a:lnTo>
                      <a:lnTo>
                        <a:pt x="666" y="2011"/>
                      </a:lnTo>
                      <a:lnTo>
                        <a:pt x="668" y="2005"/>
                      </a:lnTo>
                      <a:lnTo>
                        <a:pt x="672" y="2002"/>
                      </a:lnTo>
                      <a:lnTo>
                        <a:pt x="673" y="1998"/>
                      </a:lnTo>
                      <a:lnTo>
                        <a:pt x="675" y="1992"/>
                      </a:lnTo>
                      <a:lnTo>
                        <a:pt x="677" y="1986"/>
                      </a:lnTo>
                      <a:lnTo>
                        <a:pt x="679" y="1983"/>
                      </a:lnTo>
                      <a:lnTo>
                        <a:pt x="681" y="1979"/>
                      </a:lnTo>
                      <a:lnTo>
                        <a:pt x="683" y="1975"/>
                      </a:lnTo>
                      <a:lnTo>
                        <a:pt x="685" y="1971"/>
                      </a:lnTo>
                      <a:lnTo>
                        <a:pt x="687" y="1969"/>
                      </a:lnTo>
                      <a:lnTo>
                        <a:pt x="689" y="1964"/>
                      </a:lnTo>
                      <a:lnTo>
                        <a:pt x="691" y="1962"/>
                      </a:lnTo>
                      <a:lnTo>
                        <a:pt x="692" y="1958"/>
                      </a:lnTo>
                      <a:lnTo>
                        <a:pt x="692" y="1954"/>
                      </a:lnTo>
                      <a:lnTo>
                        <a:pt x="692" y="1952"/>
                      </a:lnTo>
                      <a:lnTo>
                        <a:pt x="694" y="1950"/>
                      </a:lnTo>
                      <a:lnTo>
                        <a:pt x="696" y="1945"/>
                      </a:lnTo>
                      <a:lnTo>
                        <a:pt x="698" y="1941"/>
                      </a:lnTo>
                      <a:lnTo>
                        <a:pt x="700" y="1937"/>
                      </a:lnTo>
                      <a:lnTo>
                        <a:pt x="700" y="1935"/>
                      </a:lnTo>
                      <a:lnTo>
                        <a:pt x="700" y="1933"/>
                      </a:lnTo>
                      <a:lnTo>
                        <a:pt x="702" y="1933"/>
                      </a:lnTo>
                      <a:lnTo>
                        <a:pt x="740" y="1943"/>
                      </a:lnTo>
                      <a:lnTo>
                        <a:pt x="740" y="1943"/>
                      </a:lnTo>
                      <a:lnTo>
                        <a:pt x="738" y="1945"/>
                      </a:lnTo>
                      <a:lnTo>
                        <a:pt x="738" y="1947"/>
                      </a:lnTo>
                      <a:lnTo>
                        <a:pt x="738" y="1950"/>
                      </a:lnTo>
                      <a:lnTo>
                        <a:pt x="738" y="1954"/>
                      </a:lnTo>
                      <a:lnTo>
                        <a:pt x="738" y="1958"/>
                      </a:lnTo>
                      <a:lnTo>
                        <a:pt x="736" y="1962"/>
                      </a:lnTo>
                      <a:lnTo>
                        <a:pt x="736" y="1964"/>
                      </a:lnTo>
                      <a:lnTo>
                        <a:pt x="736" y="1967"/>
                      </a:lnTo>
                      <a:lnTo>
                        <a:pt x="736" y="1971"/>
                      </a:lnTo>
                      <a:lnTo>
                        <a:pt x="736" y="1975"/>
                      </a:lnTo>
                      <a:lnTo>
                        <a:pt x="736" y="1979"/>
                      </a:lnTo>
                      <a:lnTo>
                        <a:pt x="736" y="1983"/>
                      </a:lnTo>
                      <a:lnTo>
                        <a:pt x="736" y="1985"/>
                      </a:lnTo>
                      <a:lnTo>
                        <a:pt x="736" y="1990"/>
                      </a:lnTo>
                      <a:lnTo>
                        <a:pt x="736" y="1994"/>
                      </a:lnTo>
                      <a:lnTo>
                        <a:pt x="736" y="1998"/>
                      </a:lnTo>
                      <a:lnTo>
                        <a:pt x="736" y="2004"/>
                      </a:lnTo>
                      <a:lnTo>
                        <a:pt x="736" y="2007"/>
                      </a:lnTo>
                      <a:lnTo>
                        <a:pt x="736" y="2013"/>
                      </a:lnTo>
                      <a:lnTo>
                        <a:pt x="736" y="2015"/>
                      </a:lnTo>
                      <a:lnTo>
                        <a:pt x="736" y="2021"/>
                      </a:lnTo>
                      <a:lnTo>
                        <a:pt x="736" y="2026"/>
                      </a:lnTo>
                      <a:lnTo>
                        <a:pt x="736" y="2030"/>
                      </a:lnTo>
                      <a:lnTo>
                        <a:pt x="736" y="2036"/>
                      </a:lnTo>
                      <a:lnTo>
                        <a:pt x="736" y="2042"/>
                      </a:lnTo>
                      <a:lnTo>
                        <a:pt x="736" y="2047"/>
                      </a:lnTo>
                      <a:lnTo>
                        <a:pt x="738" y="2051"/>
                      </a:lnTo>
                      <a:lnTo>
                        <a:pt x="738" y="2057"/>
                      </a:lnTo>
                      <a:lnTo>
                        <a:pt x="738" y="2062"/>
                      </a:lnTo>
                      <a:lnTo>
                        <a:pt x="740" y="2066"/>
                      </a:lnTo>
                      <a:lnTo>
                        <a:pt x="740" y="2072"/>
                      </a:lnTo>
                      <a:lnTo>
                        <a:pt x="742" y="2078"/>
                      </a:lnTo>
                      <a:lnTo>
                        <a:pt x="744" y="2083"/>
                      </a:lnTo>
                      <a:lnTo>
                        <a:pt x="744" y="2091"/>
                      </a:lnTo>
                      <a:lnTo>
                        <a:pt x="746" y="2095"/>
                      </a:lnTo>
                      <a:lnTo>
                        <a:pt x="748" y="2101"/>
                      </a:lnTo>
                      <a:lnTo>
                        <a:pt x="748" y="2106"/>
                      </a:lnTo>
                      <a:lnTo>
                        <a:pt x="751" y="2110"/>
                      </a:lnTo>
                      <a:lnTo>
                        <a:pt x="753" y="2118"/>
                      </a:lnTo>
                      <a:lnTo>
                        <a:pt x="753" y="2123"/>
                      </a:lnTo>
                      <a:lnTo>
                        <a:pt x="757" y="2129"/>
                      </a:lnTo>
                      <a:lnTo>
                        <a:pt x="759" y="2135"/>
                      </a:lnTo>
                      <a:lnTo>
                        <a:pt x="761" y="2139"/>
                      </a:lnTo>
                      <a:lnTo>
                        <a:pt x="765" y="2144"/>
                      </a:lnTo>
                      <a:lnTo>
                        <a:pt x="767" y="2150"/>
                      </a:lnTo>
                      <a:lnTo>
                        <a:pt x="769" y="2156"/>
                      </a:lnTo>
                      <a:lnTo>
                        <a:pt x="772" y="2159"/>
                      </a:lnTo>
                      <a:lnTo>
                        <a:pt x="776" y="2165"/>
                      </a:lnTo>
                      <a:lnTo>
                        <a:pt x="780" y="2171"/>
                      </a:lnTo>
                      <a:lnTo>
                        <a:pt x="782" y="2175"/>
                      </a:lnTo>
                      <a:lnTo>
                        <a:pt x="786" y="2180"/>
                      </a:lnTo>
                      <a:lnTo>
                        <a:pt x="789" y="2186"/>
                      </a:lnTo>
                      <a:lnTo>
                        <a:pt x="795" y="2190"/>
                      </a:lnTo>
                      <a:lnTo>
                        <a:pt x="799" y="2196"/>
                      </a:lnTo>
                      <a:lnTo>
                        <a:pt x="805" y="2201"/>
                      </a:lnTo>
                      <a:lnTo>
                        <a:pt x="808" y="2205"/>
                      </a:lnTo>
                      <a:lnTo>
                        <a:pt x="814" y="2209"/>
                      </a:lnTo>
                      <a:lnTo>
                        <a:pt x="818" y="2213"/>
                      </a:lnTo>
                      <a:lnTo>
                        <a:pt x="824" y="2216"/>
                      </a:lnTo>
                      <a:lnTo>
                        <a:pt x="828" y="2222"/>
                      </a:lnTo>
                      <a:lnTo>
                        <a:pt x="833" y="2224"/>
                      </a:lnTo>
                      <a:lnTo>
                        <a:pt x="839" y="2228"/>
                      </a:lnTo>
                      <a:lnTo>
                        <a:pt x="845" y="2232"/>
                      </a:lnTo>
                      <a:lnTo>
                        <a:pt x="848" y="2235"/>
                      </a:lnTo>
                      <a:lnTo>
                        <a:pt x="854" y="2239"/>
                      </a:lnTo>
                      <a:lnTo>
                        <a:pt x="858" y="2243"/>
                      </a:lnTo>
                      <a:lnTo>
                        <a:pt x="864" y="2245"/>
                      </a:lnTo>
                      <a:lnTo>
                        <a:pt x="867" y="2249"/>
                      </a:lnTo>
                      <a:lnTo>
                        <a:pt x="873" y="2253"/>
                      </a:lnTo>
                      <a:lnTo>
                        <a:pt x="877" y="2256"/>
                      </a:lnTo>
                      <a:lnTo>
                        <a:pt x="883" y="2258"/>
                      </a:lnTo>
                      <a:lnTo>
                        <a:pt x="890" y="2260"/>
                      </a:lnTo>
                      <a:lnTo>
                        <a:pt x="896" y="2264"/>
                      </a:lnTo>
                      <a:lnTo>
                        <a:pt x="900" y="2266"/>
                      </a:lnTo>
                      <a:lnTo>
                        <a:pt x="904" y="2268"/>
                      </a:lnTo>
                      <a:lnTo>
                        <a:pt x="907" y="2270"/>
                      </a:lnTo>
                      <a:lnTo>
                        <a:pt x="913" y="2273"/>
                      </a:lnTo>
                      <a:lnTo>
                        <a:pt x="919" y="2275"/>
                      </a:lnTo>
                      <a:lnTo>
                        <a:pt x="925" y="2277"/>
                      </a:lnTo>
                      <a:lnTo>
                        <a:pt x="928" y="2279"/>
                      </a:lnTo>
                      <a:lnTo>
                        <a:pt x="934" y="2281"/>
                      </a:lnTo>
                      <a:lnTo>
                        <a:pt x="938" y="2283"/>
                      </a:lnTo>
                      <a:lnTo>
                        <a:pt x="942" y="2285"/>
                      </a:lnTo>
                      <a:lnTo>
                        <a:pt x="947" y="2287"/>
                      </a:lnTo>
                      <a:lnTo>
                        <a:pt x="951" y="2289"/>
                      </a:lnTo>
                      <a:lnTo>
                        <a:pt x="955" y="2289"/>
                      </a:lnTo>
                      <a:lnTo>
                        <a:pt x="961" y="2291"/>
                      </a:lnTo>
                      <a:lnTo>
                        <a:pt x="964" y="2291"/>
                      </a:lnTo>
                      <a:lnTo>
                        <a:pt x="968" y="2294"/>
                      </a:lnTo>
                      <a:lnTo>
                        <a:pt x="972" y="2294"/>
                      </a:lnTo>
                      <a:lnTo>
                        <a:pt x="978" y="2294"/>
                      </a:lnTo>
                      <a:lnTo>
                        <a:pt x="982" y="2296"/>
                      </a:lnTo>
                      <a:lnTo>
                        <a:pt x="985" y="2296"/>
                      </a:lnTo>
                      <a:lnTo>
                        <a:pt x="989" y="2296"/>
                      </a:lnTo>
                      <a:lnTo>
                        <a:pt x="993" y="2298"/>
                      </a:lnTo>
                      <a:lnTo>
                        <a:pt x="997" y="2298"/>
                      </a:lnTo>
                      <a:lnTo>
                        <a:pt x="1001" y="2298"/>
                      </a:lnTo>
                      <a:lnTo>
                        <a:pt x="1004" y="2298"/>
                      </a:lnTo>
                      <a:lnTo>
                        <a:pt x="1008" y="2300"/>
                      </a:lnTo>
                      <a:lnTo>
                        <a:pt x="1010" y="2300"/>
                      </a:lnTo>
                      <a:lnTo>
                        <a:pt x="1014" y="2300"/>
                      </a:lnTo>
                      <a:lnTo>
                        <a:pt x="1016" y="2300"/>
                      </a:lnTo>
                      <a:lnTo>
                        <a:pt x="1020" y="2300"/>
                      </a:lnTo>
                      <a:lnTo>
                        <a:pt x="1022" y="2300"/>
                      </a:lnTo>
                      <a:lnTo>
                        <a:pt x="1025" y="2302"/>
                      </a:lnTo>
                      <a:lnTo>
                        <a:pt x="1029" y="2300"/>
                      </a:lnTo>
                      <a:lnTo>
                        <a:pt x="1035" y="2300"/>
                      </a:lnTo>
                      <a:lnTo>
                        <a:pt x="1039" y="2298"/>
                      </a:lnTo>
                      <a:lnTo>
                        <a:pt x="1042" y="2298"/>
                      </a:lnTo>
                      <a:lnTo>
                        <a:pt x="1044" y="2296"/>
                      </a:lnTo>
                      <a:lnTo>
                        <a:pt x="1048" y="2296"/>
                      </a:lnTo>
                      <a:lnTo>
                        <a:pt x="1048" y="2294"/>
                      </a:lnTo>
                      <a:lnTo>
                        <a:pt x="1050" y="2294"/>
                      </a:lnTo>
                      <a:lnTo>
                        <a:pt x="1246" y="1334"/>
                      </a:lnTo>
                      <a:lnTo>
                        <a:pt x="1246" y="1333"/>
                      </a:lnTo>
                      <a:lnTo>
                        <a:pt x="1248" y="1331"/>
                      </a:lnTo>
                      <a:lnTo>
                        <a:pt x="1250" y="1327"/>
                      </a:lnTo>
                      <a:lnTo>
                        <a:pt x="1252" y="1325"/>
                      </a:lnTo>
                      <a:lnTo>
                        <a:pt x="1252" y="1323"/>
                      </a:lnTo>
                      <a:lnTo>
                        <a:pt x="1254" y="1319"/>
                      </a:lnTo>
                      <a:lnTo>
                        <a:pt x="1256" y="1315"/>
                      </a:lnTo>
                      <a:lnTo>
                        <a:pt x="1259" y="1312"/>
                      </a:lnTo>
                      <a:lnTo>
                        <a:pt x="1259" y="1306"/>
                      </a:lnTo>
                      <a:lnTo>
                        <a:pt x="1263" y="1302"/>
                      </a:lnTo>
                      <a:lnTo>
                        <a:pt x="1265" y="1296"/>
                      </a:lnTo>
                      <a:lnTo>
                        <a:pt x="1269" y="1293"/>
                      </a:lnTo>
                      <a:lnTo>
                        <a:pt x="1271" y="1285"/>
                      </a:lnTo>
                      <a:lnTo>
                        <a:pt x="1275" y="1281"/>
                      </a:lnTo>
                      <a:lnTo>
                        <a:pt x="1276" y="1274"/>
                      </a:lnTo>
                      <a:lnTo>
                        <a:pt x="1280" y="1266"/>
                      </a:lnTo>
                      <a:lnTo>
                        <a:pt x="1284" y="1258"/>
                      </a:lnTo>
                      <a:lnTo>
                        <a:pt x="1288" y="1249"/>
                      </a:lnTo>
                      <a:lnTo>
                        <a:pt x="1290" y="1241"/>
                      </a:lnTo>
                      <a:lnTo>
                        <a:pt x="1294" y="1234"/>
                      </a:lnTo>
                      <a:lnTo>
                        <a:pt x="1297" y="1224"/>
                      </a:lnTo>
                      <a:lnTo>
                        <a:pt x="1301" y="1217"/>
                      </a:lnTo>
                      <a:lnTo>
                        <a:pt x="1305" y="1207"/>
                      </a:lnTo>
                      <a:lnTo>
                        <a:pt x="1309" y="1198"/>
                      </a:lnTo>
                      <a:lnTo>
                        <a:pt x="1313" y="1188"/>
                      </a:lnTo>
                      <a:lnTo>
                        <a:pt x="1316" y="1177"/>
                      </a:lnTo>
                      <a:lnTo>
                        <a:pt x="1320" y="1165"/>
                      </a:lnTo>
                      <a:lnTo>
                        <a:pt x="1324" y="1154"/>
                      </a:lnTo>
                      <a:lnTo>
                        <a:pt x="1330" y="1144"/>
                      </a:lnTo>
                      <a:lnTo>
                        <a:pt x="1334" y="1133"/>
                      </a:lnTo>
                      <a:lnTo>
                        <a:pt x="1337" y="1122"/>
                      </a:lnTo>
                      <a:lnTo>
                        <a:pt x="1339" y="1108"/>
                      </a:lnTo>
                      <a:lnTo>
                        <a:pt x="1345" y="1097"/>
                      </a:lnTo>
                      <a:lnTo>
                        <a:pt x="1349" y="1084"/>
                      </a:lnTo>
                      <a:lnTo>
                        <a:pt x="1353" y="1070"/>
                      </a:lnTo>
                      <a:lnTo>
                        <a:pt x="1354" y="1059"/>
                      </a:lnTo>
                      <a:lnTo>
                        <a:pt x="1358" y="1044"/>
                      </a:lnTo>
                      <a:lnTo>
                        <a:pt x="1362" y="1032"/>
                      </a:lnTo>
                      <a:lnTo>
                        <a:pt x="1366" y="1017"/>
                      </a:lnTo>
                      <a:lnTo>
                        <a:pt x="1370" y="1004"/>
                      </a:lnTo>
                      <a:lnTo>
                        <a:pt x="1372" y="988"/>
                      </a:lnTo>
                      <a:lnTo>
                        <a:pt x="1375" y="975"/>
                      </a:lnTo>
                      <a:lnTo>
                        <a:pt x="1377" y="960"/>
                      </a:lnTo>
                      <a:lnTo>
                        <a:pt x="1381" y="947"/>
                      </a:lnTo>
                      <a:lnTo>
                        <a:pt x="1383" y="931"/>
                      </a:lnTo>
                      <a:lnTo>
                        <a:pt x="1387" y="916"/>
                      </a:lnTo>
                      <a:lnTo>
                        <a:pt x="1389" y="901"/>
                      </a:lnTo>
                      <a:lnTo>
                        <a:pt x="1391" y="886"/>
                      </a:lnTo>
                      <a:lnTo>
                        <a:pt x="1392" y="871"/>
                      </a:lnTo>
                      <a:lnTo>
                        <a:pt x="1394" y="855"/>
                      </a:lnTo>
                      <a:lnTo>
                        <a:pt x="1396" y="838"/>
                      </a:lnTo>
                      <a:lnTo>
                        <a:pt x="1398" y="823"/>
                      </a:lnTo>
                      <a:lnTo>
                        <a:pt x="1398" y="806"/>
                      </a:lnTo>
                      <a:lnTo>
                        <a:pt x="1400" y="791"/>
                      </a:lnTo>
                      <a:lnTo>
                        <a:pt x="1402" y="774"/>
                      </a:lnTo>
                      <a:lnTo>
                        <a:pt x="1402" y="757"/>
                      </a:lnTo>
                      <a:lnTo>
                        <a:pt x="1402" y="741"/>
                      </a:lnTo>
                      <a:lnTo>
                        <a:pt x="1402" y="724"/>
                      </a:lnTo>
                      <a:lnTo>
                        <a:pt x="1402" y="705"/>
                      </a:lnTo>
                      <a:lnTo>
                        <a:pt x="1402" y="690"/>
                      </a:lnTo>
                      <a:lnTo>
                        <a:pt x="1400" y="673"/>
                      </a:lnTo>
                      <a:lnTo>
                        <a:pt x="1400" y="656"/>
                      </a:lnTo>
                      <a:lnTo>
                        <a:pt x="1398" y="654"/>
                      </a:lnTo>
                      <a:lnTo>
                        <a:pt x="1398" y="652"/>
                      </a:lnTo>
                      <a:lnTo>
                        <a:pt x="1398" y="648"/>
                      </a:lnTo>
                      <a:lnTo>
                        <a:pt x="1398" y="644"/>
                      </a:lnTo>
                      <a:lnTo>
                        <a:pt x="1398" y="643"/>
                      </a:lnTo>
                      <a:lnTo>
                        <a:pt x="1398" y="639"/>
                      </a:lnTo>
                      <a:lnTo>
                        <a:pt x="1396" y="637"/>
                      </a:lnTo>
                      <a:lnTo>
                        <a:pt x="1396" y="633"/>
                      </a:lnTo>
                      <a:lnTo>
                        <a:pt x="1396" y="631"/>
                      </a:lnTo>
                      <a:lnTo>
                        <a:pt x="1396" y="627"/>
                      </a:lnTo>
                      <a:lnTo>
                        <a:pt x="1396" y="623"/>
                      </a:lnTo>
                      <a:lnTo>
                        <a:pt x="1394" y="620"/>
                      </a:lnTo>
                      <a:lnTo>
                        <a:pt x="1394" y="618"/>
                      </a:lnTo>
                      <a:lnTo>
                        <a:pt x="1394" y="616"/>
                      </a:lnTo>
                      <a:lnTo>
                        <a:pt x="1392" y="612"/>
                      </a:lnTo>
                      <a:lnTo>
                        <a:pt x="1392" y="610"/>
                      </a:lnTo>
                      <a:lnTo>
                        <a:pt x="1392" y="608"/>
                      </a:lnTo>
                      <a:lnTo>
                        <a:pt x="1391" y="604"/>
                      </a:lnTo>
                      <a:lnTo>
                        <a:pt x="1391" y="603"/>
                      </a:lnTo>
                      <a:lnTo>
                        <a:pt x="1391" y="599"/>
                      </a:lnTo>
                      <a:lnTo>
                        <a:pt x="1389" y="597"/>
                      </a:lnTo>
                      <a:lnTo>
                        <a:pt x="1389" y="593"/>
                      </a:lnTo>
                      <a:lnTo>
                        <a:pt x="1389" y="589"/>
                      </a:lnTo>
                      <a:lnTo>
                        <a:pt x="1389" y="587"/>
                      </a:lnTo>
                      <a:lnTo>
                        <a:pt x="1387" y="585"/>
                      </a:lnTo>
                      <a:lnTo>
                        <a:pt x="1385" y="582"/>
                      </a:lnTo>
                      <a:lnTo>
                        <a:pt x="1385" y="580"/>
                      </a:lnTo>
                      <a:lnTo>
                        <a:pt x="1383" y="578"/>
                      </a:lnTo>
                      <a:lnTo>
                        <a:pt x="1383" y="572"/>
                      </a:lnTo>
                      <a:lnTo>
                        <a:pt x="1381" y="568"/>
                      </a:lnTo>
                      <a:lnTo>
                        <a:pt x="1377" y="563"/>
                      </a:lnTo>
                      <a:lnTo>
                        <a:pt x="1375" y="557"/>
                      </a:lnTo>
                      <a:lnTo>
                        <a:pt x="1373" y="553"/>
                      </a:lnTo>
                      <a:lnTo>
                        <a:pt x="1370" y="547"/>
                      </a:lnTo>
                      <a:lnTo>
                        <a:pt x="1366" y="544"/>
                      </a:lnTo>
                      <a:lnTo>
                        <a:pt x="1364" y="540"/>
                      </a:lnTo>
                      <a:lnTo>
                        <a:pt x="1360" y="536"/>
                      </a:lnTo>
                      <a:lnTo>
                        <a:pt x="1356" y="532"/>
                      </a:lnTo>
                      <a:lnTo>
                        <a:pt x="1353" y="528"/>
                      </a:lnTo>
                      <a:lnTo>
                        <a:pt x="1349" y="525"/>
                      </a:lnTo>
                      <a:lnTo>
                        <a:pt x="1345" y="523"/>
                      </a:lnTo>
                      <a:lnTo>
                        <a:pt x="1339" y="521"/>
                      </a:lnTo>
                      <a:lnTo>
                        <a:pt x="1335" y="517"/>
                      </a:lnTo>
                      <a:lnTo>
                        <a:pt x="1332" y="515"/>
                      </a:lnTo>
                      <a:lnTo>
                        <a:pt x="1326" y="515"/>
                      </a:lnTo>
                      <a:lnTo>
                        <a:pt x="1322" y="513"/>
                      </a:lnTo>
                      <a:lnTo>
                        <a:pt x="1318" y="511"/>
                      </a:lnTo>
                      <a:lnTo>
                        <a:pt x="1316" y="511"/>
                      </a:lnTo>
                      <a:lnTo>
                        <a:pt x="1313" y="511"/>
                      </a:lnTo>
                      <a:lnTo>
                        <a:pt x="1311" y="511"/>
                      </a:lnTo>
                      <a:lnTo>
                        <a:pt x="1309" y="509"/>
                      </a:lnTo>
                      <a:lnTo>
                        <a:pt x="1305" y="509"/>
                      </a:lnTo>
                      <a:lnTo>
                        <a:pt x="1303" y="509"/>
                      </a:lnTo>
                      <a:lnTo>
                        <a:pt x="1301" y="509"/>
                      </a:lnTo>
                      <a:lnTo>
                        <a:pt x="1297" y="509"/>
                      </a:lnTo>
                      <a:lnTo>
                        <a:pt x="1295" y="509"/>
                      </a:lnTo>
                      <a:lnTo>
                        <a:pt x="1292" y="509"/>
                      </a:lnTo>
                      <a:lnTo>
                        <a:pt x="1290" y="509"/>
                      </a:lnTo>
                      <a:lnTo>
                        <a:pt x="1284" y="509"/>
                      </a:lnTo>
                      <a:lnTo>
                        <a:pt x="1280" y="509"/>
                      </a:lnTo>
                      <a:lnTo>
                        <a:pt x="1275" y="509"/>
                      </a:lnTo>
                      <a:lnTo>
                        <a:pt x="1269" y="509"/>
                      </a:lnTo>
                      <a:lnTo>
                        <a:pt x="1265" y="509"/>
                      </a:lnTo>
                      <a:lnTo>
                        <a:pt x="1259" y="509"/>
                      </a:lnTo>
                      <a:lnTo>
                        <a:pt x="1256" y="511"/>
                      </a:lnTo>
                      <a:lnTo>
                        <a:pt x="1252" y="511"/>
                      </a:lnTo>
                      <a:lnTo>
                        <a:pt x="1246" y="515"/>
                      </a:lnTo>
                      <a:lnTo>
                        <a:pt x="1242" y="515"/>
                      </a:lnTo>
                      <a:lnTo>
                        <a:pt x="1238" y="517"/>
                      </a:lnTo>
                      <a:lnTo>
                        <a:pt x="1235" y="521"/>
                      </a:lnTo>
                      <a:lnTo>
                        <a:pt x="1231" y="523"/>
                      </a:lnTo>
                      <a:lnTo>
                        <a:pt x="1229" y="525"/>
                      </a:lnTo>
                      <a:lnTo>
                        <a:pt x="1225" y="527"/>
                      </a:lnTo>
                      <a:lnTo>
                        <a:pt x="1221" y="530"/>
                      </a:lnTo>
                      <a:lnTo>
                        <a:pt x="1219" y="532"/>
                      </a:lnTo>
                      <a:lnTo>
                        <a:pt x="1216" y="538"/>
                      </a:lnTo>
                      <a:lnTo>
                        <a:pt x="1214" y="542"/>
                      </a:lnTo>
                      <a:lnTo>
                        <a:pt x="1212" y="546"/>
                      </a:lnTo>
                      <a:lnTo>
                        <a:pt x="1210" y="549"/>
                      </a:lnTo>
                      <a:lnTo>
                        <a:pt x="1208" y="555"/>
                      </a:lnTo>
                      <a:lnTo>
                        <a:pt x="1208" y="557"/>
                      </a:lnTo>
                      <a:lnTo>
                        <a:pt x="1206" y="559"/>
                      </a:lnTo>
                      <a:lnTo>
                        <a:pt x="1204" y="561"/>
                      </a:lnTo>
                      <a:lnTo>
                        <a:pt x="1204" y="565"/>
                      </a:lnTo>
                      <a:lnTo>
                        <a:pt x="1204" y="566"/>
                      </a:lnTo>
                      <a:lnTo>
                        <a:pt x="1204" y="570"/>
                      </a:lnTo>
                      <a:lnTo>
                        <a:pt x="1204" y="572"/>
                      </a:lnTo>
                      <a:lnTo>
                        <a:pt x="1204" y="576"/>
                      </a:lnTo>
                      <a:lnTo>
                        <a:pt x="1139" y="895"/>
                      </a:lnTo>
                      <a:lnTo>
                        <a:pt x="1136" y="893"/>
                      </a:lnTo>
                      <a:lnTo>
                        <a:pt x="1132" y="892"/>
                      </a:lnTo>
                      <a:lnTo>
                        <a:pt x="1126" y="888"/>
                      </a:lnTo>
                      <a:lnTo>
                        <a:pt x="1122" y="886"/>
                      </a:lnTo>
                      <a:lnTo>
                        <a:pt x="1117" y="884"/>
                      </a:lnTo>
                      <a:lnTo>
                        <a:pt x="1113" y="880"/>
                      </a:lnTo>
                      <a:lnTo>
                        <a:pt x="1107" y="878"/>
                      </a:lnTo>
                      <a:lnTo>
                        <a:pt x="1105" y="876"/>
                      </a:lnTo>
                      <a:lnTo>
                        <a:pt x="1227" y="316"/>
                      </a:lnTo>
                      <a:lnTo>
                        <a:pt x="1227" y="312"/>
                      </a:lnTo>
                      <a:lnTo>
                        <a:pt x="1227" y="308"/>
                      </a:lnTo>
                      <a:lnTo>
                        <a:pt x="1229" y="306"/>
                      </a:lnTo>
                      <a:lnTo>
                        <a:pt x="1229" y="304"/>
                      </a:lnTo>
                      <a:lnTo>
                        <a:pt x="1229" y="300"/>
                      </a:lnTo>
                      <a:lnTo>
                        <a:pt x="1229" y="298"/>
                      </a:lnTo>
                      <a:lnTo>
                        <a:pt x="1229" y="295"/>
                      </a:lnTo>
                      <a:lnTo>
                        <a:pt x="1229" y="293"/>
                      </a:lnTo>
                      <a:lnTo>
                        <a:pt x="1229" y="291"/>
                      </a:lnTo>
                      <a:lnTo>
                        <a:pt x="1229" y="287"/>
                      </a:lnTo>
                      <a:lnTo>
                        <a:pt x="1229" y="285"/>
                      </a:lnTo>
                      <a:lnTo>
                        <a:pt x="1229" y="283"/>
                      </a:lnTo>
                      <a:lnTo>
                        <a:pt x="1229" y="278"/>
                      </a:lnTo>
                      <a:lnTo>
                        <a:pt x="1227" y="272"/>
                      </a:lnTo>
                      <a:lnTo>
                        <a:pt x="1225" y="268"/>
                      </a:lnTo>
                      <a:lnTo>
                        <a:pt x="1225" y="262"/>
                      </a:lnTo>
                      <a:lnTo>
                        <a:pt x="1223" y="257"/>
                      </a:lnTo>
                      <a:lnTo>
                        <a:pt x="1221" y="253"/>
                      </a:lnTo>
                      <a:lnTo>
                        <a:pt x="1219" y="247"/>
                      </a:lnTo>
                      <a:lnTo>
                        <a:pt x="1217" y="243"/>
                      </a:lnTo>
                      <a:lnTo>
                        <a:pt x="1216" y="240"/>
                      </a:lnTo>
                      <a:lnTo>
                        <a:pt x="1214" y="236"/>
                      </a:lnTo>
                      <a:lnTo>
                        <a:pt x="1210" y="232"/>
                      </a:lnTo>
                      <a:lnTo>
                        <a:pt x="1206" y="226"/>
                      </a:lnTo>
                      <a:lnTo>
                        <a:pt x="1202" y="222"/>
                      </a:lnTo>
                      <a:lnTo>
                        <a:pt x="1200" y="219"/>
                      </a:lnTo>
                      <a:lnTo>
                        <a:pt x="1197" y="215"/>
                      </a:lnTo>
                      <a:lnTo>
                        <a:pt x="1193" y="211"/>
                      </a:lnTo>
                      <a:lnTo>
                        <a:pt x="1189" y="207"/>
                      </a:lnTo>
                      <a:lnTo>
                        <a:pt x="1185" y="205"/>
                      </a:lnTo>
                      <a:lnTo>
                        <a:pt x="1179" y="203"/>
                      </a:lnTo>
                      <a:lnTo>
                        <a:pt x="1176" y="200"/>
                      </a:lnTo>
                      <a:lnTo>
                        <a:pt x="1172" y="198"/>
                      </a:lnTo>
                      <a:lnTo>
                        <a:pt x="1166" y="194"/>
                      </a:lnTo>
                      <a:lnTo>
                        <a:pt x="1160" y="192"/>
                      </a:lnTo>
                      <a:lnTo>
                        <a:pt x="1157" y="192"/>
                      </a:lnTo>
                      <a:lnTo>
                        <a:pt x="1151" y="190"/>
                      </a:lnTo>
                      <a:lnTo>
                        <a:pt x="1147" y="190"/>
                      </a:lnTo>
                      <a:lnTo>
                        <a:pt x="1143" y="188"/>
                      </a:lnTo>
                      <a:lnTo>
                        <a:pt x="1141" y="186"/>
                      </a:lnTo>
                      <a:lnTo>
                        <a:pt x="1138" y="186"/>
                      </a:lnTo>
                      <a:lnTo>
                        <a:pt x="1136" y="186"/>
                      </a:lnTo>
                      <a:lnTo>
                        <a:pt x="1134" y="186"/>
                      </a:lnTo>
                      <a:lnTo>
                        <a:pt x="1130" y="186"/>
                      </a:lnTo>
                      <a:lnTo>
                        <a:pt x="1128" y="186"/>
                      </a:lnTo>
                      <a:lnTo>
                        <a:pt x="1124" y="186"/>
                      </a:lnTo>
                      <a:lnTo>
                        <a:pt x="1122" y="186"/>
                      </a:lnTo>
                      <a:lnTo>
                        <a:pt x="1120" y="186"/>
                      </a:lnTo>
                      <a:lnTo>
                        <a:pt x="1117" y="186"/>
                      </a:lnTo>
                      <a:lnTo>
                        <a:pt x="1115" y="186"/>
                      </a:lnTo>
                      <a:lnTo>
                        <a:pt x="1109" y="186"/>
                      </a:lnTo>
                      <a:lnTo>
                        <a:pt x="1105" y="188"/>
                      </a:lnTo>
                      <a:lnTo>
                        <a:pt x="1100" y="188"/>
                      </a:lnTo>
                      <a:lnTo>
                        <a:pt x="1094" y="190"/>
                      </a:lnTo>
                      <a:lnTo>
                        <a:pt x="1090" y="192"/>
                      </a:lnTo>
                      <a:lnTo>
                        <a:pt x="1086" y="192"/>
                      </a:lnTo>
                      <a:lnTo>
                        <a:pt x="1081" y="194"/>
                      </a:lnTo>
                      <a:lnTo>
                        <a:pt x="1077" y="198"/>
                      </a:lnTo>
                      <a:lnTo>
                        <a:pt x="1073" y="200"/>
                      </a:lnTo>
                      <a:lnTo>
                        <a:pt x="1067" y="203"/>
                      </a:lnTo>
                      <a:lnTo>
                        <a:pt x="1063" y="205"/>
                      </a:lnTo>
                      <a:lnTo>
                        <a:pt x="1058" y="207"/>
                      </a:lnTo>
                      <a:lnTo>
                        <a:pt x="1054" y="211"/>
                      </a:lnTo>
                      <a:lnTo>
                        <a:pt x="1050" y="215"/>
                      </a:lnTo>
                      <a:lnTo>
                        <a:pt x="1048" y="219"/>
                      </a:lnTo>
                      <a:lnTo>
                        <a:pt x="1044" y="222"/>
                      </a:lnTo>
                      <a:lnTo>
                        <a:pt x="1041" y="226"/>
                      </a:lnTo>
                      <a:lnTo>
                        <a:pt x="1039" y="232"/>
                      </a:lnTo>
                      <a:lnTo>
                        <a:pt x="1035" y="234"/>
                      </a:lnTo>
                      <a:lnTo>
                        <a:pt x="1033" y="240"/>
                      </a:lnTo>
                      <a:lnTo>
                        <a:pt x="1029" y="243"/>
                      </a:lnTo>
                      <a:lnTo>
                        <a:pt x="1027" y="249"/>
                      </a:lnTo>
                      <a:lnTo>
                        <a:pt x="1025" y="253"/>
                      </a:lnTo>
                      <a:lnTo>
                        <a:pt x="1023" y="259"/>
                      </a:lnTo>
                      <a:lnTo>
                        <a:pt x="1022" y="260"/>
                      </a:lnTo>
                      <a:lnTo>
                        <a:pt x="1022" y="264"/>
                      </a:lnTo>
                      <a:lnTo>
                        <a:pt x="1022" y="266"/>
                      </a:lnTo>
                      <a:lnTo>
                        <a:pt x="1022" y="270"/>
                      </a:lnTo>
                      <a:lnTo>
                        <a:pt x="919" y="730"/>
                      </a:lnTo>
                      <a:lnTo>
                        <a:pt x="915" y="728"/>
                      </a:lnTo>
                      <a:lnTo>
                        <a:pt x="913" y="726"/>
                      </a:lnTo>
                      <a:lnTo>
                        <a:pt x="907" y="724"/>
                      </a:lnTo>
                      <a:lnTo>
                        <a:pt x="905" y="720"/>
                      </a:lnTo>
                      <a:lnTo>
                        <a:pt x="904" y="719"/>
                      </a:lnTo>
                      <a:lnTo>
                        <a:pt x="900" y="717"/>
                      </a:lnTo>
                      <a:lnTo>
                        <a:pt x="896" y="713"/>
                      </a:lnTo>
                      <a:lnTo>
                        <a:pt x="892" y="713"/>
                      </a:lnTo>
                      <a:lnTo>
                        <a:pt x="1022" y="129"/>
                      </a:lnTo>
                      <a:lnTo>
                        <a:pt x="1022" y="125"/>
                      </a:lnTo>
                      <a:lnTo>
                        <a:pt x="1022" y="124"/>
                      </a:lnTo>
                      <a:lnTo>
                        <a:pt x="1022" y="120"/>
                      </a:lnTo>
                      <a:lnTo>
                        <a:pt x="1022" y="118"/>
                      </a:lnTo>
                      <a:lnTo>
                        <a:pt x="1022" y="114"/>
                      </a:lnTo>
                      <a:lnTo>
                        <a:pt x="1022" y="112"/>
                      </a:lnTo>
                      <a:lnTo>
                        <a:pt x="1022" y="110"/>
                      </a:lnTo>
                      <a:lnTo>
                        <a:pt x="1022" y="106"/>
                      </a:lnTo>
                      <a:lnTo>
                        <a:pt x="1022" y="105"/>
                      </a:lnTo>
                      <a:lnTo>
                        <a:pt x="1022" y="103"/>
                      </a:lnTo>
                      <a:lnTo>
                        <a:pt x="1022" y="99"/>
                      </a:lnTo>
                      <a:lnTo>
                        <a:pt x="1022" y="97"/>
                      </a:lnTo>
                      <a:lnTo>
                        <a:pt x="1022" y="91"/>
                      </a:lnTo>
                      <a:lnTo>
                        <a:pt x="1022" y="86"/>
                      </a:lnTo>
                      <a:lnTo>
                        <a:pt x="1020" y="82"/>
                      </a:lnTo>
                      <a:lnTo>
                        <a:pt x="1018" y="76"/>
                      </a:lnTo>
                      <a:lnTo>
                        <a:pt x="1016" y="70"/>
                      </a:lnTo>
                      <a:lnTo>
                        <a:pt x="1014" y="67"/>
                      </a:lnTo>
                      <a:lnTo>
                        <a:pt x="1012" y="61"/>
                      </a:lnTo>
                      <a:lnTo>
                        <a:pt x="1010" y="57"/>
                      </a:lnTo>
                      <a:lnTo>
                        <a:pt x="1008" y="53"/>
                      </a:lnTo>
                      <a:lnTo>
                        <a:pt x="1006" y="48"/>
                      </a:lnTo>
                      <a:lnTo>
                        <a:pt x="1004" y="44"/>
                      </a:lnTo>
                      <a:lnTo>
                        <a:pt x="1001" y="40"/>
                      </a:lnTo>
                      <a:lnTo>
                        <a:pt x="997" y="36"/>
                      </a:lnTo>
                      <a:lnTo>
                        <a:pt x="993" y="32"/>
                      </a:lnTo>
                      <a:lnTo>
                        <a:pt x="991" y="29"/>
                      </a:lnTo>
                      <a:lnTo>
                        <a:pt x="985" y="25"/>
                      </a:lnTo>
                      <a:lnTo>
                        <a:pt x="983" y="23"/>
                      </a:lnTo>
                      <a:lnTo>
                        <a:pt x="978" y="19"/>
                      </a:lnTo>
                      <a:lnTo>
                        <a:pt x="972" y="17"/>
                      </a:lnTo>
                      <a:lnTo>
                        <a:pt x="968" y="13"/>
                      </a:lnTo>
                      <a:lnTo>
                        <a:pt x="964" y="11"/>
                      </a:lnTo>
                      <a:lnTo>
                        <a:pt x="961" y="10"/>
                      </a:lnTo>
                      <a:lnTo>
                        <a:pt x="955" y="6"/>
                      </a:lnTo>
                      <a:lnTo>
                        <a:pt x="949" y="6"/>
                      </a:lnTo>
                      <a:lnTo>
                        <a:pt x="944" y="4"/>
                      </a:lnTo>
                      <a:lnTo>
                        <a:pt x="940" y="4"/>
                      </a:lnTo>
                      <a:lnTo>
                        <a:pt x="936" y="2"/>
                      </a:lnTo>
                      <a:lnTo>
                        <a:pt x="934" y="2"/>
                      </a:lnTo>
                      <a:lnTo>
                        <a:pt x="932" y="0"/>
                      </a:lnTo>
                      <a:lnTo>
                        <a:pt x="928" y="0"/>
                      </a:lnTo>
                      <a:lnTo>
                        <a:pt x="926" y="0"/>
                      </a:lnTo>
                      <a:lnTo>
                        <a:pt x="925" y="0"/>
                      </a:lnTo>
                      <a:lnTo>
                        <a:pt x="921" y="0"/>
                      </a:lnTo>
                      <a:lnTo>
                        <a:pt x="919" y="0"/>
                      </a:lnTo>
                      <a:lnTo>
                        <a:pt x="915" y="0"/>
                      </a:lnTo>
                      <a:lnTo>
                        <a:pt x="913" y="0"/>
                      </a:lnTo>
                      <a:lnTo>
                        <a:pt x="911" y="0"/>
                      </a:lnTo>
                      <a:lnTo>
                        <a:pt x="907" y="0"/>
                      </a:lnTo>
                      <a:lnTo>
                        <a:pt x="904" y="0"/>
                      </a:lnTo>
                      <a:lnTo>
                        <a:pt x="898" y="2"/>
                      </a:lnTo>
                      <a:lnTo>
                        <a:pt x="896" y="2"/>
                      </a:lnTo>
                      <a:lnTo>
                        <a:pt x="892" y="2"/>
                      </a:lnTo>
                      <a:lnTo>
                        <a:pt x="890" y="2"/>
                      </a:lnTo>
                      <a:lnTo>
                        <a:pt x="888" y="4"/>
                      </a:lnTo>
                      <a:lnTo>
                        <a:pt x="881" y="4"/>
                      </a:lnTo>
                      <a:lnTo>
                        <a:pt x="877" y="6"/>
                      </a:lnTo>
                      <a:lnTo>
                        <a:pt x="873" y="10"/>
                      </a:lnTo>
                      <a:lnTo>
                        <a:pt x="867" y="11"/>
                      </a:lnTo>
                      <a:lnTo>
                        <a:pt x="864" y="15"/>
                      </a:lnTo>
                      <a:lnTo>
                        <a:pt x="860" y="17"/>
                      </a:lnTo>
                      <a:lnTo>
                        <a:pt x="854" y="19"/>
                      </a:lnTo>
                      <a:lnTo>
                        <a:pt x="850" y="23"/>
                      </a:lnTo>
                      <a:lnTo>
                        <a:pt x="847" y="25"/>
                      </a:lnTo>
                      <a:lnTo>
                        <a:pt x="843" y="29"/>
                      </a:lnTo>
                      <a:lnTo>
                        <a:pt x="839" y="32"/>
                      </a:lnTo>
                      <a:lnTo>
                        <a:pt x="835" y="36"/>
                      </a:lnTo>
                      <a:lnTo>
                        <a:pt x="833" y="40"/>
                      </a:lnTo>
                      <a:lnTo>
                        <a:pt x="831" y="44"/>
                      </a:lnTo>
                      <a:lnTo>
                        <a:pt x="828" y="48"/>
                      </a:lnTo>
                      <a:lnTo>
                        <a:pt x="824" y="53"/>
                      </a:lnTo>
                      <a:lnTo>
                        <a:pt x="822" y="57"/>
                      </a:lnTo>
                      <a:lnTo>
                        <a:pt x="820" y="61"/>
                      </a:lnTo>
                      <a:lnTo>
                        <a:pt x="818" y="67"/>
                      </a:lnTo>
                      <a:lnTo>
                        <a:pt x="816" y="70"/>
                      </a:lnTo>
                      <a:lnTo>
                        <a:pt x="816" y="74"/>
                      </a:lnTo>
                      <a:lnTo>
                        <a:pt x="814" y="76"/>
                      </a:lnTo>
                      <a:lnTo>
                        <a:pt x="812" y="82"/>
                      </a:lnTo>
                      <a:lnTo>
                        <a:pt x="812" y="84"/>
                      </a:lnTo>
                      <a:lnTo>
                        <a:pt x="687" y="663"/>
                      </a:lnTo>
                      <a:lnTo>
                        <a:pt x="681" y="663"/>
                      </a:lnTo>
                      <a:lnTo>
                        <a:pt x="677" y="663"/>
                      </a:lnTo>
                      <a:lnTo>
                        <a:pt x="673" y="663"/>
                      </a:lnTo>
                      <a:lnTo>
                        <a:pt x="670" y="663"/>
                      </a:lnTo>
                      <a:lnTo>
                        <a:pt x="666" y="663"/>
                      </a:lnTo>
                      <a:lnTo>
                        <a:pt x="660" y="665"/>
                      </a:lnTo>
                      <a:lnTo>
                        <a:pt x="656" y="665"/>
                      </a:lnTo>
                      <a:lnTo>
                        <a:pt x="652" y="667"/>
                      </a:lnTo>
                      <a:lnTo>
                        <a:pt x="753" y="213"/>
                      </a:lnTo>
                      <a:lnTo>
                        <a:pt x="753" y="209"/>
                      </a:lnTo>
                      <a:lnTo>
                        <a:pt x="753" y="207"/>
                      </a:lnTo>
                      <a:lnTo>
                        <a:pt x="753" y="203"/>
                      </a:lnTo>
                      <a:lnTo>
                        <a:pt x="753" y="201"/>
                      </a:lnTo>
                      <a:lnTo>
                        <a:pt x="753" y="198"/>
                      </a:lnTo>
                      <a:lnTo>
                        <a:pt x="753" y="196"/>
                      </a:lnTo>
                      <a:lnTo>
                        <a:pt x="753" y="192"/>
                      </a:lnTo>
                      <a:lnTo>
                        <a:pt x="753" y="190"/>
                      </a:lnTo>
                      <a:lnTo>
                        <a:pt x="753" y="188"/>
                      </a:lnTo>
                      <a:lnTo>
                        <a:pt x="753" y="184"/>
                      </a:lnTo>
                      <a:lnTo>
                        <a:pt x="753" y="182"/>
                      </a:lnTo>
                      <a:lnTo>
                        <a:pt x="753" y="181"/>
                      </a:lnTo>
                      <a:lnTo>
                        <a:pt x="753" y="175"/>
                      </a:lnTo>
                      <a:lnTo>
                        <a:pt x="753" y="169"/>
                      </a:lnTo>
                      <a:lnTo>
                        <a:pt x="751" y="167"/>
                      </a:lnTo>
                      <a:lnTo>
                        <a:pt x="751" y="163"/>
                      </a:lnTo>
                      <a:lnTo>
                        <a:pt x="751" y="162"/>
                      </a:lnTo>
                      <a:lnTo>
                        <a:pt x="750" y="160"/>
                      </a:lnTo>
                      <a:lnTo>
                        <a:pt x="748" y="154"/>
                      </a:lnTo>
                      <a:lnTo>
                        <a:pt x="746" y="148"/>
                      </a:lnTo>
                      <a:lnTo>
                        <a:pt x="744" y="144"/>
                      </a:lnTo>
                      <a:lnTo>
                        <a:pt x="742" y="141"/>
                      </a:lnTo>
                      <a:lnTo>
                        <a:pt x="740" y="135"/>
                      </a:lnTo>
                      <a:lnTo>
                        <a:pt x="738" y="131"/>
                      </a:lnTo>
                      <a:lnTo>
                        <a:pt x="734" y="127"/>
                      </a:lnTo>
                      <a:lnTo>
                        <a:pt x="730" y="124"/>
                      </a:lnTo>
                      <a:lnTo>
                        <a:pt x="727" y="120"/>
                      </a:lnTo>
                      <a:lnTo>
                        <a:pt x="725" y="116"/>
                      </a:lnTo>
                      <a:lnTo>
                        <a:pt x="721" y="112"/>
                      </a:lnTo>
                      <a:lnTo>
                        <a:pt x="717" y="108"/>
                      </a:lnTo>
                      <a:lnTo>
                        <a:pt x="713" y="105"/>
                      </a:lnTo>
                      <a:lnTo>
                        <a:pt x="710" y="103"/>
                      </a:lnTo>
                      <a:lnTo>
                        <a:pt x="704" y="99"/>
                      </a:lnTo>
                      <a:lnTo>
                        <a:pt x="700" y="97"/>
                      </a:lnTo>
                      <a:lnTo>
                        <a:pt x="694" y="95"/>
                      </a:lnTo>
                      <a:lnTo>
                        <a:pt x="691" y="91"/>
                      </a:lnTo>
                      <a:lnTo>
                        <a:pt x="685" y="89"/>
                      </a:lnTo>
                      <a:lnTo>
                        <a:pt x="681" y="87"/>
                      </a:lnTo>
                      <a:lnTo>
                        <a:pt x="675" y="86"/>
                      </a:lnTo>
                      <a:lnTo>
                        <a:pt x="672" y="86"/>
                      </a:lnTo>
                      <a:lnTo>
                        <a:pt x="668" y="84"/>
                      </a:lnTo>
                      <a:lnTo>
                        <a:pt x="666" y="84"/>
                      </a:lnTo>
                      <a:lnTo>
                        <a:pt x="664" y="84"/>
                      </a:lnTo>
                      <a:lnTo>
                        <a:pt x="660" y="84"/>
                      </a:lnTo>
                      <a:lnTo>
                        <a:pt x="658" y="84"/>
                      </a:lnTo>
                      <a:lnTo>
                        <a:pt x="654" y="84"/>
                      </a:lnTo>
                      <a:lnTo>
                        <a:pt x="652" y="84"/>
                      </a:lnTo>
                      <a:lnTo>
                        <a:pt x="651" y="84"/>
                      </a:lnTo>
                      <a:lnTo>
                        <a:pt x="647" y="84"/>
                      </a:lnTo>
                      <a:lnTo>
                        <a:pt x="645" y="84"/>
                      </a:lnTo>
                      <a:lnTo>
                        <a:pt x="643" y="84"/>
                      </a:lnTo>
                      <a:lnTo>
                        <a:pt x="639" y="84"/>
                      </a:lnTo>
                      <a:lnTo>
                        <a:pt x="635" y="84"/>
                      </a:lnTo>
                      <a:lnTo>
                        <a:pt x="630" y="84"/>
                      </a:lnTo>
                      <a:lnTo>
                        <a:pt x="628" y="84"/>
                      </a:lnTo>
                      <a:lnTo>
                        <a:pt x="624" y="86"/>
                      </a:lnTo>
                      <a:lnTo>
                        <a:pt x="622" y="86"/>
                      </a:lnTo>
                      <a:lnTo>
                        <a:pt x="618" y="86"/>
                      </a:lnTo>
                      <a:lnTo>
                        <a:pt x="614" y="87"/>
                      </a:lnTo>
                      <a:lnTo>
                        <a:pt x="609" y="89"/>
                      </a:lnTo>
                      <a:lnTo>
                        <a:pt x="603" y="91"/>
                      </a:lnTo>
                      <a:lnTo>
                        <a:pt x="599" y="95"/>
                      </a:lnTo>
                      <a:lnTo>
                        <a:pt x="595" y="97"/>
                      </a:lnTo>
                      <a:lnTo>
                        <a:pt x="592" y="99"/>
                      </a:lnTo>
                      <a:lnTo>
                        <a:pt x="586" y="103"/>
                      </a:lnTo>
                      <a:lnTo>
                        <a:pt x="582" y="105"/>
                      </a:lnTo>
                      <a:lnTo>
                        <a:pt x="578" y="108"/>
                      </a:lnTo>
                      <a:lnTo>
                        <a:pt x="574" y="112"/>
                      </a:lnTo>
                      <a:lnTo>
                        <a:pt x="571" y="116"/>
                      </a:lnTo>
                      <a:lnTo>
                        <a:pt x="567" y="120"/>
                      </a:lnTo>
                      <a:lnTo>
                        <a:pt x="565" y="124"/>
                      </a:lnTo>
                      <a:lnTo>
                        <a:pt x="563" y="127"/>
                      </a:lnTo>
                      <a:lnTo>
                        <a:pt x="559" y="131"/>
                      </a:lnTo>
                      <a:lnTo>
                        <a:pt x="555" y="135"/>
                      </a:lnTo>
                      <a:lnTo>
                        <a:pt x="554" y="141"/>
                      </a:lnTo>
                      <a:lnTo>
                        <a:pt x="552" y="146"/>
                      </a:lnTo>
                      <a:lnTo>
                        <a:pt x="550" y="150"/>
                      </a:lnTo>
                      <a:lnTo>
                        <a:pt x="548" y="156"/>
                      </a:lnTo>
                      <a:lnTo>
                        <a:pt x="546" y="158"/>
                      </a:lnTo>
                      <a:lnTo>
                        <a:pt x="546" y="160"/>
                      </a:lnTo>
                      <a:lnTo>
                        <a:pt x="544" y="163"/>
                      </a:lnTo>
                      <a:lnTo>
                        <a:pt x="544" y="167"/>
                      </a:lnTo>
                      <a:lnTo>
                        <a:pt x="361" y="1127"/>
                      </a:lnTo>
                      <a:lnTo>
                        <a:pt x="361" y="1127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2" name="AutoShape 221"/>
              <p:cNvSpPr/>
              <p:nvPr/>
            </p:nvSpPr>
            <p:spPr>
              <a:xfrm rot="18688200">
                <a:off x="5039640" y="2949480"/>
                <a:ext cx="88920" cy="76320"/>
              </a:xfrm>
              <a:prstGeom prst="hexagon">
                <a:avLst>
                  <a:gd name="adj" fmla="val 29127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AutoShape 222"/>
              <p:cNvSpPr/>
              <p:nvPr/>
            </p:nvSpPr>
            <p:spPr>
              <a:xfrm rot="18719400">
                <a:off x="5266440" y="3206520"/>
                <a:ext cx="193680" cy="5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308" y="21600"/>
                    </a:lnTo>
                    <a:lnTo>
                      <a:pt x="1729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4" name="Group 223"/>
            <p:cNvGrpSpPr/>
            <p:nvPr/>
          </p:nvGrpSpPr>
          <p:grpSpPr>
            <a:xfrm>
              <a:off x="4565880" y="2542680"/>
              <a:ext cx="669240" cy="587520"/>
              <a:chOff x="4565880" y="2542680"/>
              <a:chExt cx="669240" cy="587520"/>
            </a:xfrm>
          </p:grpSpPr>
          <p:grpSp>
            <p:nvGrpSpPr>
              <p:cNvPr id="2795" name="Group 224"/>
              <p:cNvGrpSpPr/>
              <p:nvPr/>
            </p:nvGrpSpPr>
            <p:grpSpPr>
              <a:xfrm>
                <a:off x="4565880" y="2542680"/>
                <a:ext cx="669240" cy="587520"/>
                <a:chOff x="4565880" y="2542680"/>
                <a:chExt cx="669240" cy="587520"/>
              </a:xfrm>
            </p:grpSpPr>
            <p:sp>
              <p:nvSpPr>
                <p:cNvPr id="2796" name="AutoShape 225"/>
                <p:cNvSpPr/>
                <p:nvPr/>
              </p:nvSpPr>
              <p:spPr>
                <a:xfrm flipH="1" flipV="1" rot="18719400">
                  <a:off x="4859280" y="2679120"/>
                  <a:ext cx="179640" cy="36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4308" y="21600"/>
                      </a:lnTo>
                      <a:lnTo>
                        <a:pt x="17292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7" name="Oval 226"/>
                <p:cNvSpPr/>
                <p:nvPr/>
              </p:nvSpPr>
              <p:spPr>
                <a:xfrm flipH="1" flipV="1" rot="19258200">
                  <a:off x="5009040" y="2902320"/>
                  <a:ext cx="186480" cy="1900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8" name="Freeform 227"/>
                <p:cNvSpPr/>
                <p:nvPr/>
              </p:nvSpPr>
              <p:spPr>
                <a:xfrm flipH="1" flipV="1" rot="7153200">
                  <a:off x="4646160" y="2544840"/>
                  <a:ext cx="174960" cy="288000"/>
                </a:xfrm>
                <a:custGeom>
                  <a:avLst/>
                  <a:gdLst/>
                  <a:ahLst/>
                  <a:rect l="l" t="t" r="r" b="b"/>
                  <a:pathLst>
                    <a:path w="1402" h="2302">
                      <a:moveTo>
                        <a:pt x="361" y="1127"/>
                      </a:moveTo>
                      <a:lnTo>
                        <a:pt x="280" y="1116"/>
                      </a:lnTo>
                      <a:lnTo>
                        <a:pt x="373" y="711"/>
                      </a:lnTo>
                      <a:lnTo>
                        <a:pt x="373" y="709"/>
                      </a:lnTo>
                      <a:lnTo>
                        <a:pt x="375" y="705"/>
                      </a:lnTo>
                      <a:lnTo>
                        <a:pt x="375" y="703"/>
                      </a:lnTo>
                      <a:lnTo>
                        <a:pt x="375" y="700"/>
                      </a:lnTo>
                      <a:lnTo>
                        <a:pt x="375" y="698"/>
                      </a:lnTo>
                      <a:lnTo>
                        <a:pt x="375" y="696"/>
                      </a:lnTo>
                      <a:lnTo>
                        <a:pt x="375" y="692"/>
                      </a:lnTo>
                      <a:lnTo>
                        <a:pt x="375" y="690"/>
                      </a:lnTo>
                      <a:lnTo>
                        <a:pt x="375" y="684"/>
                      </a:lnTo>
                      <a:lnTo>
                        <a:pt x="375" y="681"/>
                      </a:lnTo>
                      <a:lnTo>
                        <a:pt x="375" y="675"/>
                      </a:lnTo>
                      <a:lnTo>
                        <a:pt x="375" y="669"/>
                      </a:lnTo>
                      <a:lnTo>
                        <a:pt x="371" y="665"/>
                      </a:lnTo>
                      <a:lnTo>
                        <a:pt x="371" y="660"/>
                      </a:lnTo>
                      <a:lnTo>
                        <a:pt x="369" y="654"/>
                      </a:lnTo>
                      <a:lnTo>
                        <a:pt x="367" y="652"/>
                      </a:lnTo>
                      <a:lnTo>
                        <a:pt x="365" y="646"/>
                      </a:lnTo>
                      <a:lnTo>
                        <a:pt x="363" y="641"/>
                      </a:lnTo>
                      <a:lnTo>
                        <a:pt x="361" y="637"/>
                      </a:lnTo>
                      <a:lnTo>
                        <a:pt x="358" y="633"/>
                      </a:lnTo>
                      <a:lnTo>
                        <a:pt x="356" y="629"/>
                      </a:lnTo>
                      <a:lnTo>
                        <a:pt x="354" y="623"/>
                      </a:lnTo>
                      <a:lnTo>
                        <a:pt x="350" y="620"/>
                      </a:lnTo>
                      <a:lnTo>
                        <a:pt x="346" y="616"/>
                      </a:lnTo>
                      <a:lnTo>
                        <a:pt x="342" y="612"/>
                      </a:lnTo>
                      <a:lnTo>
                        <a:pt x="339" y="610"/>
                      </a:lnTo>
                      <a:lnTo>
                        <a:pt x="335" y="606"/>
                      </a:lnTo>
                      <a:lnTo>
                        <a:pt x="331" y="603"/>
                      </a:lnTo>
                      <a:lnTo>
                        <a:pt x="325" y="601"/>
                      </a:lnTo>
                      <a:lnTo>
                        <a:pt x="321" y="597"/>
                      </a:lnTo>
                      <a:lnTo>
                        <a:pt x="318" y="595"/>
                      </a:lnTo>
                      <a:lnTo>
                        <a:pt x="312" y="593"/>
                      </a:lnTo>
                      <a:lnTo>
                        <a:pt x="306" y="591"/>
                      </a:lnTo>
                      <a:lnTo>
                        <a:pt x="302" y="589"/>
                      </a:lnTo>
                      <a:lnTo>
                        <a:pt x="299" y="589"/>
                      </a:lnTo>
                      <a:lnTo>
                        <a:pt x="295" y="587"/>
                      </a:lnTo>
                      <a:lnTo>
                        <a:pt x="291" y="587"/>
                      </a:lnTo>
                      <a:lnTo>
                        <a:pt x="287" y="585"/>
                      </a:lnTo>
                      <a:lnTo>
                        <a:pt x="285" y="585"/>
                      </a:lnTo>
                      <a:lnTo>
                        <a:pt x="283" y="585"/>
                      </a:lnTo>
                      <a:lnTo>
                        <a:pt x="280" y="585"/>
                      </a:lnTo>
                      <a:lnTo>
                        <a:pt x="276" y="585"/>
                      </a:lnTo>
                      <a:lnTo>
                        <a:pt x="274" y="585"/>
                      </a:lnTo>
                      <a:lnTo>
                        <a:pt x="272" y="585"/>
                      </a:lnTo>
                      <a:lnTo>
                        <a:pt x="268" y="585"/>
                      </a:lnTo>
                      <a:lnTo>
                        <a:pt x="266" y="585"/>
                      </a:lnTo>
                      <a:lnTo>
                        <a:pt x="263" y="585"/>
                      </a:lnTo>
                      <a:lnTo>
                        <a:pt x="261" y="587"/>
                      </a:lnTo>
                      <a:lnTo>
                        <a:pt x="259" y="587"/>
                      </a:lnTo>
                      <a:lnTo>
                        <a:pt x="255" y="587"/>
                      </a:lnTo>
                      <a:lnTo>
                        <a:pt x="253" y="589"/>
                      </a:lnTo>
                      <a:lnTo>
                        <a:pt x="249" y="589"/>
                      </a:lnTo>
                      <a:lnTo>
                        <a:pt x="247" y="589"/>
                      </a:lnTo>
                      <a:lnTo>
                        <a:pt x="243" y="591"/>
                      </a:lnTo>
                      <a:lnTo>
                        <a:pt x="240" y="591"/>
                      </a:lnTo>
                      <a:lnTo>
                        <a:pt x="238" y="593"/>
                      </a:lnTo>
                      <a:lnTo>
                        <a:pt x="236" y="595"/>
                      </a:lnTo>
                      <a:lnTo>
                        <a:pt x="232" y="595"/>
                      </a:lnTo>
                      <a:lnTo>
                        <a:pt x="230" y="597"/>
                      </a:lnTo>
                      <a:lnTo>
                        <a:pt x="228" y="599"/>
                      </a:lnTo>
                      <a:lnTo>
                        <a:pt x="224" y="601"/>
                      </a:lnTo>
                      <a:lnTo>
                        <a:pt x="223" y="601"/>
                      </a:lnTo>
                      <a:lnTo>
                        <a:pt x="219" y="603"/>
                      </a:lnTo>
                      <a:lnTo>
                        <a:pt x="217" y="604"/>
                      </a:lnTo>
                      <a:lnTo>
                        <a:pt x="211" y="608"/>
                      </a:lnTo>
                      <a:lnTo>
                        <a:pt x="207" y="612"/>
                      </a:lnTo>
                      <a:lnTo>
                        <a:pt x="204" y="616"/>
                      </a:lnTo>
                      <a:lnTo>
                        <a:pt x="198" y="618"/>
                      </a:lnTo>
                      <a:lnTo>
                        <a:pt x="194" y="623"/>
                      </a:lnTo>
                      <a:lnTo>
                        <a:pt x="188" y="627"/>
                      </a:lnTo>
                      <a:lnTo>
                        <a:pt x="185" y="633"/>
                      </a:lnTo>
                      <a:lnTo>
                        <a:pt x="181" y="637"/>
                      </a:lnTo>
                      <a:lnTo>
                        <a:pt x="177" y="641"/>
                      </a:lnTo>
                      <a:lnTo>
                        <a:pt x="173" y="646"/>
                      </a:lnTo>
                      <a:lnTo>
                        <a:pt x="169" y="652"/>
                      </a:lnTo>
                      <a:lnTo>
                        <a:pt x="166" y="656"/>
                      </a:lnTo>
                      <a:lnTo>
                        <a:pt x="162" y="662"/>
                      </a:lnTo>
                      <a:lnTo>
                        <a:pt x="160" y="665"/>
                      </a:lnTo>
                      <a:lnTo>
                        <a:pt x="158" y="669"/>
                      </a:lnTo>
                      <a:lnTo>
                        <a:pt x="158" y="671"/>
                      </a:lnTo>
                      <a:lnTo>
                        <a:pt x="156" y="673"/>
                      </a:lnTo>
                      <a:lnTo>
                        <a:pt x="154" y="677"/>
                      </a:lnTo>
                      <a:lnTo>
                        <a:pt x="152" y="679"/>
                      </a:lnTo>
                      <a:lnTo>
                        <a:pt x="152" y="681"/>
                      </a:lnTo>
                      <a:lnTo>
                        <a:pt x="150" y="684"/>
                      </a:lnTo>
                      <a:lnTo>
                        <a:pt x="150" y="688"/>
                      </a:lnTo>
                      <a:lnTo>
                        <a:pt x="146" y="694"/>
                      </a:lnTo>
                      <a:lnTo>
                        <a:pt x="145" y="701"/>
                      </a:lnTo>
                      <a:lnTo>
                        <a:pt x="143" y="709"/>
                      </a:lnTo>
                      <a:lnTo>
                        <a:pt x="139" y="717"/>
                      </a:lnTo>
                      <a:lnTo>
                        <a:pt x="137" y="724"/>
                      </a:lnTo>
                      <a:lnTo>
                        <a:pt x="135" y="732"/>
                      </a:lnTo>
                      <a:lnTo>
                        <a:pt x="131" y="739"/>
                      </a:lnTo>
                      <a:lnTo>
                        <a:pt x="129" y="747"/>
                      </a:lnTo>
                      <a:lnTo>
                        <a:pt x="126" y="755"/>
                      </a:lnTo>
                      <a:lnTo>
                        <a:pt x="124" y="760"/>
                      </a:lnTo>
                      <a:lnTo>
                        <a:pt x="122" y="768"/>
                      </a:lnTo>
                      <a:lnTo>
                        <a:pt x="120" y="776"/>
                      </a:lnTo>
                      <a:lnTo>
                        <a:pt x="116" y="781"/>
                      </a:lnTo>
                      <a:lnTo>
                        <a:pt x="114" y="789"/>
                      </a:lnTo>
                      <a:lnTo>
                        <a:pt x="112" y="796"/>
                      </a:lnTo>
                      <a:lnTo>
                        <a:pt x="110" y="804"/>
                      </a:lnTo>
                      <a:lnTo>
                        <a:pt x="107" y="812"/>
                      </a:lnTo>
                      <a:lnTo>
                        <a:pt x="107" y="817"/>
                      </a:lnTo>
                      <a:lnTo>
                        <a:pt x="103" y="823"/>
                      </a:lnTo>
                      <a:lnTo>
                        <a:pt x="101" y="831"/>
                      </a:lnTo>
                      <a:lnTo>
                        <a:pt x="97" y="836"/>
                      </a:lnTo>
                      <a:lnTo>
                        <a:pt x="97" y="844"/>
                      </a:lnTo>
                      <a:lnTo>
                        <a:pt x="93" y="852"/>
                      </a:lnTo>
                      <a:lnTo>
                        <a:pt x="93" y="857"/>
                      </a:lnTo>
                      <a:lnTo>
                        <a:pt x="89" y="865"/>
                      </a:lnTo>
                      <a:lnTo>
                        <a:pt x="88" y="871"/>
                      </a:lnTo>
                      <a:lnTo>
                        <a:pt x="86" y="878"/>
                      </a:lnTo>
                      <a:lnTo>
                        <a:pt x="84" y="884"/>
                      </a:lnTo>
                      <a:lnTo>
                        <a:pt x="82" y="892"/>
                      </a:lnTo>
                      <a:lnTo>
                        <a:pt x="80" y="899"/>
                      </a:lnTo>
                      <a:lnTo>
                        <a:pt x="78" y="907"/>
                      </a:lnTo>
                      <a:lnTo>
                        <a:pt x="74" y="912"/>
                      </a:lnTo>
                      <a:lnTo>
                        <a:pt x="72" y="920"/>
                      </a:lnTo>
                      <a:lnTo>
                        <a:pt x="72" y="926"/>
                      </a:lnTo>
                      <a:lnTo>
                        <a:pt x="68" y="931"/>
                      </a:lnTo>
                      <a:lnTo>
                        <a:pt x="67" y="939"/>
                      </a:lnTo>
                      <a:lnTo>
                        <a:pt x="65" y="945"/>
                      </a:lnTo>
                      <a:lnTo>
                        <a:pt x="63" y="952"/>
                      </a:lnTo>
                      <a:lnTo>
                        <a:pt x="59" y="958"/>
                      </a:lnTo>
                      <a:lnTo>
                        <a:pt x="57" y="966"/>
                      </a:lnTo>
                      <a:lnTo>
                        <a:pt x="55" y="971"/>
                      </a:lnTo>
                      <a:lnTo>
                        <a:pt x="53" y="979"/>
                      </a:lnTo>
                      <a:lnTo>
                        <a:pt x="51" y="987"/>
                      </a:lnTo>
                      <a:lnTo>
                        <a:pt x="49" y="994"/>
                      </a:lnTo>
                      <a:lnTo>
                        <a:pt x="48" y="1000"/>
                      </a:lnTo>
                      <a:lnTo>
                        <a:pt x="46" y="1007"/>
                      </a:lnTo>
                      <a:lnTo>
                        <a:pt x="44" y="1015"/>
                      </a:lnTo>
                      <a:lnTo>
                        <a:pt x="42" y="1021"/>
                      </a:lnTo>
                      <a:lnTo>
                        <a:pt x="42" y="1028"/>
                      </a:lnTo>
                      <a:lnTo>
                        <a:pt x="38" y="1036"/>
                      </a:lnTo>
                      <a:lnTo>
                        <a:pt x="36" y="1042"/>
                      </a:lnTo>
                      <a:lnTo>
                        <a:pt x="36" y="1049"/>
                      </a:lnTo>
                      <a:lnTo>
                        <a:pt x="34" y="1057"/>
                      </a:lnTo>
                      <a:lnTo>
                        <a:pt x="30" y="1063"/>
                      </a:lnTo>
                      <a:lnTo>
                        <a:pt x="30" y="1070"/>
                      </a:lnTo>
                      <a:lnTo>
                        <a:pt x="29" y="1078"/>
                      </a:lnTo>
                      <a:lnTo>
                        <a:pt x="27" y="1085"/>
                      </a:lnTo>
                      <a:lnTo>
                        <a:pt x="25" y="1093"/>
                      </a:lnTo>
                      <a:lnTo>
                        <a:pt x="23" y="1101"/>
                      </a:lnTo>
                      <a:lnTo>
                        <a:pt x="21" y="1108"/>
                      </a:lnTo>
                      <a:lnTo>
                        <a:pt x="19" y="1116"/>
                      </a:lnTo>
                      <a:lnTo>
                        <a:pt x="17" y="1123"/>
                      </a:lnTo>
                      <a:lnTo>
                        <a:pt x="17" y="1131"/>
                      </a:lnTo>
                      <a:lnTo>
                        <a:pt x="15" y="1139"/>
                      </a:lnTo>
                      <a:lnTo>
                        <a:pt x="13" y="1148"/>
                      </a:lnTo>
                      <a:lnTo>
                        <a:pt x="10" y="1158"/>
                      </a:lnTo>
                      <a:lnTo>
                        <a:pt x="10" y="1165"/>
                      </a:lnTo>
                      <a:lnTo>
                        <a:pt x="8" y="1175"/>
                      </a:lnTo>
                      <a:lnTo>
                        <a:pt x="6" y="1182"/>
                      </a:lnTo>
                      <a:lnTo>
                        <a:pt x="6" y="1192"/>
                      </a:lnTo>
                      <a:lnTo>
                        <a:pt x="4" y="1201"/>
                      </a:lnTo>
                      <a:lnTo>
                        <a:pt x="2" y="1211"/>
                      </a:lnTo>
                      <a:lnTo>
                        <a:pt x="2" y="1218"/>
                      </a:lnTo>
                      <a:lnTo>
                        <a:pt x="0" y="1230"/>
                      </a:lnTo>
                      <a:lnTo>
                        <a:pt x="0" y="1237"/>
                      </a:lnTo>
                      <a:lnTo>
                        <a:pt x="0" y="1247"/>
                      </a:lnTo>
                      <a:lnTo>
                        <a:pt x="0" y="1257"/>
                      </a:lnTo>
                      <a:lnTo>
                        <a:pt x="0" y="1268"/>
                      </a:lnTo>
                      <a:lnTo>
                        <a:pt x="0" y="1276"/>
                      </a:lnTo>
                      <a:lnTo>
                        <a:pt x="0" y="1285"/>
                      </a:lnTo>
                      <a:lnTo>
                        <a:pt x="0" y="1296"/>
                      </a:lnTo>
                      <a:lnTo>
                        <a:pt x="0" y="1304"/>
                      </a:lnTo>
                      <a:lnTo>
                        <a:pt x="0" y="1314"/>
                      </a:lnTo>
                      <a:lnTo>
                        <a:pt x="0" y="1323"/>
                      </a:lnTo>
                      <a:lnTo>
                        <a:pt x="0" y="1333"/>
                      </a:lnTo>
                      <a:lnTo>
                        <a:pt x="2" y="1342"/>
                      </a:lnTo>
                      <a:lnTo>
                        <a:pt x="2" y="1352"/>
                      </a:lnTo>
                      <a:lnTo>
                        <a:pt x="4" y="1363"/>
                      </a:lnTo>
                      <a:lnTo>
                        <a:pt x="4" y="1371"/>
                      </a:lnTo>
                      <a:lnTo>
                        <a:pt x="6" y="1382"/>
                      </a:lnTo>
                      <a:lnTo>
                        <a:pt x="8" y="1390"/>
                      </a:lnTo>
                      <a:lnTo>
                        <a:pt x="8" y="1401"/>
                      </a:lnTo>
                      <a:lnTo>
                        <a:pt x="10" y="1409"/>
                      </a:lnTo>
                      <a:lnTo>
                        <a:pt x="11" y="1420"/>
                      </a:lnTo>
                      <a:lnTo>
                        <a:pt x="13" y="1429"/>
                      </a:lnTo>
                      <a:lnTo>
                        <a:pt x="15" y="1439"/>
                      </a:lnTo>
                      <a:lnTo>
                        <a:pt x="17" y="1448"/>
                      </a:lnTo>
                      <a:lnTo>
                        <a:pt x="19" y="1458"/>
                      </a:lnTo>
                      <a:lnTo>
                        <a:pt x="21" y="1468"/>
                      </a:lnTo>
                      <a:lnTo>
                        <a:pt x="23" y="1477"/>
                      </a:lnTo>
                      <a:lnTo>
                        <a:pt x="27" y="1487"/>
                      </a:lnTo>
                      <a:lnTo>
                        <a:pt x="29" y="1496"/>
                      </a:lnTo>
                      <a:lnTo>
                        <a:pt x="30" y="1506"/>
                      </a:lnTo>
                      <a:lnTo>
                        <a:pt x="34" y="1515"/>
                      </a:lnTo>
                      <a:lnTo>
                        <a:pt x="36" y="1525"/>
                      </a:lnTo>
                      <a:lnTo>
                        <a:pt x="38" y="1534"/>
                      </a:lnTo>
                      <a:lnTo>
                        <a:pt x="42" y="1544"/>
                      </a:lnTo>
                      <a:lnTo>
                        <a:pt x="46" y="1553"/>
                      </a:lnTo>
                      <a:lnTo>
                        <a:pt x="48" y="1561"/>
                      </a:lnTo>
                      <a:lnTo>
                        <a:pt x="51" y="1572"/>
                      </a:lnTo>
                      <a:lnTo>
                        <a:pt x="55" y="1580"/>
                      </a:lnTo>
                      <a:lnTo>
                        <a:pt x="59" y="1589"/>
                      </a:lnTo>
                      <a:lnTo>
                        <a:pt x="63" y="1599"/>
                      </a:lnTo>
                      <a:lnTo>
                        <a:pt x="67" y="1608"/>
                      </a:lnTo>
                      <a:lnTo>
                        <a:pt x="68" y="1616"/>
                      </a:lnTo>
                      <a:lnTo>
                        <a:pt x="74" y="1627"/>
                      </a:lnTo>
                      <a:lnTo>
                        <a:pt x="78" y="1635"/>
                      </a:lnTo>
                      <a:lnTo>
                        <a:pt x="82" y="1644"/>
                      </a:lnTo>
                      <a:lnTo>
                        <a:pt x="86" y="1652"/>
                      </a:lnTo>
                      <a:lnTo>
                        <a:pt x="89" y="1661"/>
                      </a:lnTo>
                      <a:lnTo>
                        <a:pt x="95" y="1669"/>
                      </a:lnTo>
                      <a:lnTo>
                        <a:pt x="99" y="1679"/>
                      </a:lnTo>
                      <a:lnTo>
                        <a:pt x="103" y="1688"/>
                      </a:lnTo>
                      <a:lnTo>
                        <a:pt x="108" y="1696"/>
                      </a:lnTo>
                      <a:lnTo>
                        <a:pt x="114" y="1703"/>
                      </a:lnTo>
                      <a:lnTo>
                        <a:pt x="118" y="1713"/>
                      </a:lnTo>
                      <a:lnTo>
                        <a:pt x="124" y="1722"/>
                      </a:lnTo>
                      <a:lnTo>
                        <a:pt x="127" y="1732"/>
                      </a:lnTo>
                      <a:lnTo>
                        <a:pt x="131" y="1736"/>
                      </a:lnTo>
                      <a:lnTo>
                        <a:pt x="135" y="1739"/>
                      </a:lnTo>
                      <a:lnTo>
                        <a:pt x="135" y="1743"/>
                      </a:lnTo>
                      <a:lnTo>
                        <a:pt x="137" y="1745"/>
                      </a:lnTo>
                      <a:lnTo>
                        <a:pt x="139" y="1747"/>
                      </a:lnTo>
                      <a:lnTo>
                        <a:pt x="141" y="1751"/>
                      </a:lnTo>
                      <a:lnTo>
                        <a:pt x="143" y="1755"/>
                      </a:lnTo>
                      <a:lnTo>
                        <a:pt x="143" y="1756"/>
                      </a:lnTo>
                      <a:lnTo>
                        <a:pt x="145" y="1760"/>
                      </a:lnTo>
                      <a:lnTo>
                        <a:pt x="146" y="1762"/>
                      </a:lnTo>
                      <a:lnTo>
                        <a:pt x="148" y="1766"/>
                      </a:lnTo>
                      <a:lnTo>
                        <a:pt x="150" y="1768"/>
                      </a:lnTo>
                      <a:lnTo>
                        <a:pt x="152" y="1770"/>
                      </a:lnTo>
                      <a:lnTo>
                        <a:pt x="156" y="1774"/>
                      </a:lnTo>
                      <a:lnTo>
                        <a:pt x="158" y="1777"/>
                      </a:lnTo>
                      <a:lnTo>
                        <a:pt x="160" y="1779"/>
                      </a:lnTo>
                      <a:lnTo>
                        <a:pt x="160" y="1783"/>
                      </a:lnTo>
                      <a:lnTo>
                        <a:pt x="162" y="1787"/>
                      </a:lnTo>
                      <a:lnTo>
                        <a:pt x="166" y="1789"/>
                      </a:lnTo>
                      <a:lnTo>
                        <a:pt x="166" y="1791"/>
                      </a:lnTo>
                      <a:lnTo>
                        <a:pt x="167" y="1794"/>
                      </a:lnTo>
                      <a:lnTo>
                        <a:pt x="169" y="1796"/>
                      </a:lnTo>
                      <a:lnTo>
                        <a:pt x="171" y="1800"/>
                      </a:lnTo>
                      <a:lnTo>
                        <a:pt x="173" y="1802"/>
                      </a:lnTo>
                      <a:lnTo>
                        <a:pt x="175" y="1806"/>
                      </a:lnTo>
                      <a:lnTo>
                        <a:pt x="177" y="1808"/>
                      </a:lnTo>
                      <a:lnTo>
                        <a:pt x="179" y="1812"/>
                      </a:lnTo>
                      <a:lnTo>
                        <a:pt x="181" y="1815"/>
                      </a:lnTo>
                      <a:lnTo>
                        <a:pt x="183" y="1817"/>
                      </a:lnTo>
                      <a:lnTo>
                        <a:pt x="185" y="1821"/>
                      </a:lnTo>
                      <a:lnTo>
                        <a:pt x="188" y="1827"/>
                      </a:lnTo>
                      <a:lnTo>
                        <a:pt x="190" y="1831"/>
                      </a:lnTo>
                      <a:lnTo>
                        <a:pt x="194" y="1836"/>
                      </a:lnTo>
                      <a:lnTo>
                        <a:pt x="198" y="1842"/>
                      </a:lnTo>
                      <a:lnTo>
                        <a:pt x="200" y="1846"/>
                      </a:lnTo>
                      <a:lnTo>
                        <a:pt x="204" y="1850"/>
                      </a:lnTo>
                      <a:lnTo>
                        <a:pt x="205" y="1853"/>
                      </a:lnTo>
                      <a:lnTo>
                        <a:pt x="207" y="1859"/>
                      </a:lnTo>
                      <a:lnTo>
                        <a:pt x="209" y="1861"/>
                      </a:lnTo>
                      <a:lnTo>
                        <a:pt x="211" y="1863"/>
                      </a:lnTo>
                      <a:lnTo>
                        <a:pt x="213" y="1867"/>
                      </a:lnTo>
                      <a:lnTo>
                        <a:pt x="215" y="1869"/>
                      </a:lnTo>
                      <a:lnTo>
                        <a:pt x="217" y="1870"/>
                      </a:lnTo>
                      <a:lnTo>
                        <a:pt x="219" y="1874"/>
                      </a:lnTo>
                      <a:lnTo>
                        <a:pt x="141" y="2163"/>
                      </a:lnTo>
                      <a:lnTo>
                        <a:pt x="143" y="2165"/>
                      </a:lnTo>
                      <a:lnTo>
                        <a:pt x="146" y="2165"/>
                      </a:lnTo>
                      <a:lnTo>
                        <a:pt x="150" y="2167"/>
                      </a:lnTo>
                      <a:lnTo>
                        <a:pt x="152" y="2167"/>
                      </a:lnTo>
                      <a:lnTo>
                        <a:pt x="154" y="2167"/>
                      </a:lnTo>
                      <a:lnTo>
                        <a:pt x="158" y="2167"/>
                      </a:lnTo>
                      <a:lnTo>
                        <a:pt x="162" y="2171"/>
                      </a:lnTo>
                      <a:lnTo>
                        <a:pt x="166" y="2171"/>
                      </a:lnTo>
                      <a:lnTo>
                        <a:pt x="167" y="2173"/>
                      </a:lnTo>
                      <a:lnTo>
                        <a:pt x="171" y="2173"/>
                      </a:lnTo>
                      <a:lnTo>
                        <a:pt x="175" y="2175"/>
                      </a:lnTo>
                      <a:lnTo>
                        <a:pt x="181" y="2175"/>
                      </a:lnTo>
                      <a:lnTo>
                        <a:pt x="185" y="2175"/>
                      </a:lnTo>
                      <a:lnTo>
                        <a:pt x="188" y="2177"/>
                      </a:lnTo>
                      <a:lnTo>
                        <a:pt x="194" y="2180"/>
                      </a:lnTo>
                      <a:lnTo>
                        <a:pt x="198" y="2180"/>
                      </a:lnTo>
                      <a:lnTo>
                        <a:pt x="204" y="2182"/>
                      </a:lnTo>
                      <a:lnTo>
                        <a:pt x="209" y="2182"/>
                      </a:lnTo>
                      <a:lnTo>
                        <a:pt x="215" y="2184"/>
                      </a:lnTo>
                      <a:lnTo>
                        <a:pt x="219" y="2186"/>
                      </a:lnTo>
                      <a:lnTo>
                        <a:pt x="224" y="2188"/>
                      </a:lnTo>
                      <a:lnTo>
                        <a:pt x="232" y="2188"/>
                      </a:lnTo>
                      <a:lnTo>
                        <a:pt x="238" y="2190"/>
                      </a:lnTo>
                      <a:lnTo>
                        <a:pt x="243" y="2190"/>
                      </a:lnTo>
                      <a:lnTo>
                        <a:pt x="251" y="2192"/>
                      </a:lnTo>
                      <a:lnTo>
                        <a:pt x="257" y="2194"/>
                      </a:lnTo>
                      <a:lnTo>
                        <a:pt x="264" y="2194"/>
                      </a:lnTo>
                      <a:lnTo>
                        <a:pt x="270" y="2196"/>
                      </a:lnTo>
                      <a:lnTo>
                        <a:pt x="276" y="2196"/>
                      </a:lnTo>
                      <a:lnTo>
                        <a:pt x="283" y="2197"/>
                      </a:lnTo>
                      <a:lnTo>
                        <a:pt x="291" y="2199"/>
                      </a:lnTo>
                      <a:lnTo>
                        <a:pt x="297" y="2199"/>
                      </a:lnTo>
                      <a:lnTo>
                        <a:pt x="304" y="2199"/>
                      </a:lnTo>
                      <a:lnTo>
                        <a:pt x="312" y="2199"/>
                      </a:lnTo>
                      <a:lnTo>
                        <a:pt x="320" y="2201"/>
                      </a:lnTo>
                      <a:lnTo>
                        <a:pt x="325" y="2201"/>
                      </a:lnTo>
                      <a:lnTo>
                        <a:pt x="333" y="2201"/>
                      </a:lnTo>
                      <a:lnTo>
                        <a:pt x="341" y="2201"/>
                      </a:lnTo>
                      <a:lnTo>
                        <a:pt x="348" y="2201"/>
                      </a:lnTo>
                      <a:lnTo>
                        <a:pt x="356" y="2201"/>
                      </a:lnTo>
                      <a:lnTo>
                        <a:pt x="363" y="2201"/>
                      </a:lnTo>
                      <a:lnTo>
                        <a:pt x="371" y="2201"/>
                      </a:lnTo>
                      <a:lnTo>
                        <a:pt x="379" y="2201"/>
                      </a:lnTo>
                      <a:lnTo>
                        <a:pt x="386" y="2201"/>
                      </a:lnTo>
                      <a:lnTo>
                        <a:pt x="394" y="2201"/>
                      </a:lnTo>
                      <a:lnTo>
                        <a:pt x="401" y="2199"/>
                      </a:lnTo>
                      <a:lnTo>
                        <a:pt x="409" y="2199"/>
                      </a:lnTo>
                      <a:lnTo>
                        <a:pt x="415" y="2197"/>
                      </a:lnTo>
                      <a:lnTo>
                        <a:pt x="422" y="2196"/>
                      </a:lnTo>
                      <a:lnTo>
                        <a:pt x="432" y="2196"/>
                      </a:lnTo>
                      <a:lnTo>
                        <a:pt x="439" y="2194"/>
                      </a:lnTo>
                      <a:lnTo>
                        <a:pt x="447" y="2192"/>
                      </a:lnTo>
                      <a:lnTo>
                        <a:pt x="455" y="2190"/>
                      </a:lnTo>
                      <a:lnTo>
                        <a:pt x="462" y="2188"/>
                      </a:lnTo>
                      <a:lnTo>
                        <a:pt x="470" y="2188"/>
                      </a:lnTo>
                      <a:lnTo>
                        <a:pt x="476" y="2184"/>
                      </a:lnTo>
                      <a:lnTo>
                        <a:pt x="483" y="2182"/>
                      </a:lnTo>
                      <a:lnTo>
                        <a:pt x="491" y="2180"/>
                      </a:lnTo>
                      <a:lnTo>
                        <a:pt x="498" y="2175"/>
                      </a:lnTo>
                      <a:lnTo>
                        <a:pt x="504" y="2173"/>
                      </a:lnTo>
                      <a:lnTo>
                        <a:pt x="512" y="2169"/>
                      </a:lnTo>
                      <a:lnTo>
                        <a:pt x="517" y="2165"/>
                      </a:lnTo>
                      <a:lnTo>
                        <a:pt x="525" y="2161"/>
                      </a:lnTo>
                      <a:lnTo>
                        <a:pt x="531" y="2158"/>
                      </a:lnTo>
                      <a:lnTo>
                        <a:pt x="536" y="2154"/>
                      </a:lnTo>
                      <a:lnTo>
                        <a:pt x="542" y="2150"/>
                      </a:lnTo>
                      <a:lnTo>
                        <a:pt x="550" y="2146"/>
                      </a:lnTo>
                      <a:lnTo>
                        <a:pt x="555" y="2142"/>
                      </a:lnTo>
                      <a:lnTo>
                        <a:pt x="559" y="2137"/>
                      </a:lnTo>
                      <a:lnTo>
                        <a:pt x="565" y="2133"/>
                      </a:lnTo>
                      <a:lnTo>
                        <a:pt x="571" y="2129"/>
                      </a:lnTo>
                      <a:lnTo>
                        <a:pt x="576" y="2123"/>
                      </a:lnTo>
                      <a:lnTo>
                        <a:pt x="582" y="2120"/>
                      </a:lnTo>
                      <a:lnTo>
                        <a:pt x="588" y="2114"/>
                      </a:lnTo>
                      <a:lnTo>
                        <a:pt x="592" y="2110"/>
                      </a:lnTo>
                      <a:lnTo>
                        <a:pt x="595" y="2106"/>
                      </a:lnTo>
                      <a:lnTo>
                        <a:pt x="601" y="2101"/>
                      </a:lnTo>
                      <a:lnTo>
                        <a:pt x="605" y="2095"/>
                      </a:lnTo>
                      <a:lnTo>
                        <a:pt x="611" y="2091"/>
                      </a:lnTo>
                      <a:lnTo>
                        <a:pt x="614" y="2085"/>
                      </a:lnTo>
                      <a:lnTo>
                        <a:pt x="618" y="2080"/>
                      </a:lnTo>
                      <a:lnTo>
                        <a:pt x="624" y="2076"/>
                      </a:lnTo>
                      <a:lnTo>
                        <a:pt x="628" y="2070"/>
                      </a:lnTo>
                      <a:lnTo>
                        <a:pt x="632" y="2064"/>
                      </a:lnTo>
                      <a:lnTo>
                        <a:pt x="635" y="2059"/>
                      </a:lnTo>
                      <a:lnTo>
                        <a:pt x="637" y="2055"/>
                      </a:lnTo>
                      <a:lnTo>
                        <a:pt x="643" y="2049"/>
                      </a:lnTo>
                      <a:lnTo>
                        <a:pt x="645" y="2043"/>
                      </a:lnTo>
                      <a:lnTo>
                        <a:pt x="649" y="2040"/>
                      </a:lnTo>
                      <a:lnTo>
                        <a:pt x="652" y="2034"/>
                      </a:lnTo>
                      <a:lnTo>
                        <a:pt x="654" y="2030"/>
                      </a:lnTo>
                      <a:lnTo>
                        <a:pt x="658" y="2024"/>
                      </a:lnTo>
                      <a:lnTo>
                        <a:pt x="660" y="2021"/>
                      </a:lnTo>
                      <a:lnTo>
                        <a:pt x="664" y="2015"/>
                      </a:lnTo>
                      <a:lnTo>
                        <a:pt x="666" y="2011"/>
                      </a:lnTo>
                      <a:lnTo>
                        <a:pt x="668" y="2005"/>
                      </a:lnTo>
                      <a:lnTo>
                        <a:pt x="672" y="2002"/>
                      </a:lnTo>
                      <a:lnTo>
                        <a:pt x="673" y="1998"/>
                      </a:lnTo>
                      <a:lnTo>
                        <a:pt x="675" y="1992"/>
                      </a:lnTo>
                      <a:lnTo>
                        <a:pt x="677" y="1986"/>
                      </a:lnTo>
                      <a:lnTo>
                        <a:pt x="679" y="1983"/>
                      </a:lnTo>
                      <a:lnTo>
                        <a:pt x="681" y="1979"/>
                      </a:lnTo>
                      <a:lnTo>
                        <a:pt x="683" y="1975"/>
                      </a:lnTo>
                      <a:lnTo>
                        <a:pt x="685" y="1971"/>
                      </a:lnTo>
                      <a:lnTo>
                        <a:pt x="687" y="1969"/>
                      </a:lnTo>
                      <a:lnTo>
                        <a:pt x="689" y="1964"/>
                      </a:lnTo>
                      <a:lnTo>
                        <a:pt x="691" y="1962"/>
                      </a:lnTo>
                      <a:lnTo>
                        <a:pt x="692" y="1958"/>
                      </a:lnTo>
                      <a:lnTo>
                        <a:pt x="692" y="1954"/>
                      </a:lnTo>
                      <a:lnTo>
                        <a:pt x="692" y="1952"/>
                      </a:lnTo>
                      <a:lnTo>
                        <a:pt x="694" y="1950"/>
                      </a:lnTo>
                      <a:lnTo>
                        <a:pt x="696" y="1945"/>
                      </a:lnTo>
                      <a:lnTo>
                        <a:pt x="698" y="1941"/>
                      </a:lnTo>
                      <a:lnTo>
                        <a:pt x="700" y="1937"/>
                      </a:lnTo>
                      <a:lnTo>
                        <a:pt x="700" y="1935"/>
                      </a:lnTo>
                      <a:lnTo>
                        <a:pt x="700" y="1933"/>
                      </a:lnTo>
                      <a:lnTo>
                        <a:pt x="702" y="1933"/>
                      </a:lnTo>
                      <a:lnTo>
                        <a:pt x="740" y="1943"/>
                      </a:lnTo>
                      <a:lnTo>
                        <a:pt x="740" y="1943"/>
                      </a:lnTo>
                      <a:lnTo>
                        <a:pt x="738" y="1945"/>
                      </a:lnTo>
                      <a:lnTo>
                        <a:pt x="738" y="1947"/>
                      </a:lnTo>
                      <a:lnTo>
                        <a:pt x="738" y="1950"/>
                      </a:lnTo>
                      <a:lnTo>
                        <a:pt x="738" y="1954"/>
                      </a:lnTo>
                      <a:lnTo>
                        <a:pt x="738" y="1958"/>
                      </a:lnTo>
                      <a:lnTo>
                        <a:pt x="736" y="1962"/>
                      </a:lnTo>
                      <a:lnTo>
                        <a:pt x="736" y="1964"/>
                      </a:lnTo>
                      <a:lnTo>
                        <a:pt x="736" y="1967"/>
                      </a:lnTo>
                      <a:lnTo>
                        <a:pt x="736" y="1971"/>
                      </a:lnTo>
                      <a:lnTo>
                        <a:pt x="736" y="1975"/>
                      </a:lnTo>
                      <a:lnTo>
                        <a:pt x="736" y="1979"/>
                      </a:lnTo>
                      <a:lnTo>
                        <a:pt x="736" y="1983"/>
                      </a:lnTo>
                      <a:lnTo>
                        <a:pt x="736" y="1985"/>
                      </a:lnTo>
                      <a:lnTo>
                        <a:pt x="736" y="1990"/>
                      </a:lnTo>
                      <a:lnTo>
                        <a:pt x="736" y="1994"/>
                      </a:lnTo>
                      <a:lnTo>
                        <a:pt x="736" y="1998"/>
                      </a:lnTo>
                      <a:lnTo>
                        <a:pt x="736" y="2004"/>
                      </a:lnTo>
                      <a:lnTo>
                        <a:pt x="736" y="2007"/>
                      </a:lnTo>
                      <a:lnTo>
                        <a:pt x="736" y="2013"/>
                      </a:lnTo>
                      <a:lnTo>
                        <a:pt x="736" y="2015"/>
                      </a:lnTo>
                      <a:lnTo>
                        <a:pt x="736" y="2021"/>
                      </a:lnTo>
                      <a:lnTo>
                        <a:pt x="736" y="2026"/>
                      </a:lnTo>
                      <a:lnTo>
                        <a:pt x="736" y="2030"/>
                      </a:lnTo>
                      <a:lnTo>
                        <a:pt x="736" y="2036"/>
                      </a:lnTo>
                      <a:lnTo>
                        <a:pt x="736" y="2042"/>
                      </a:lnTo>
                      <a:lnTo>
                        <a:pt x="736" y="2047"/>
                      </a:lnTo>
                      <a:lnTo>
                        <a:pt x="738" y="2051"/>
                      </a:lnTo>
                      <a:lnTo>
                        <a:pt x="738" y="2057"/>
                      </a:lnTo>
                      <a:lnTo>
                        <a:pt x="738" y="2062"/>
                      </a:lnTo>
                      <a:lnTo>
                        <a:pt x="740" y="2066"/>
                      </a:lnTo>
                      <a:lnTo>
                        <a:pt x="740" y="2072"/>
                      </a:lnTo>
                      <a:lnTo>
                        <a:pt x="742" y="2078"/>
                      </a:lnTo>
                      <a:lnTo>
                        <a:pt x="744" y="2083"/>
                      </a:lnTo>
                      <a:lnTo>
                        <a:pt x="744" y="2091"/>
                      </a:lnTo>
                      <a:lnTo>
                        <a:pt x="746" y="2095"/>
                      </a:lnTo>
                      <a:lnTo>
                        <a:pt x="748" y="2101"/>
                      </a:lnTo>
                      <a:lnTo>
                        <a:pt x="748" y="2106"/>
                      </a:lnTo>
                      <a:lnTo>
                        <a:pt x="751" y="2110"/>
                      </a:lnTo>
                      <a:lnTo>
                        <a:pt x="753" y="2118"/>
                      </a:lnTo>
                      <a:lnTo>
                        <a:pt x="753" y="2123"/>
                      </a:lnTo>
                      <a:lnTo>
                        <a:pt x="757" y="2129"/>
                      </a:lnTo>
                      <a:lnTo>
                        <a:pt x="759" y="2135"/>
                      </a:lnTo>
                      <a:lnTo>
                        <a:pt x="761" y="2139"/>
                      </a:lnTo>
                      <a:lnTo>
                        <a:pt x="765" y="2144"/>
                      </a:lnTo>
                      <a:lnTo>
                        <a:pt x="767" y="2150"/>
                      </a:lnTo>
                      <a:lnTo>
                        <a:pt x="769" y="2156"/>
                      </a:lnTo>
                      <a:lnTo>
                        <a:pt x="772" y="2159"/>
                      </a:lnTo>
                      <a:lnTo>
                        <a:pt x="776" y="2165"/>
                      </a:lnTo>
                      <a:lnTo>
                        <a:pt x="780" y="2171"/>
                      </a:lnTo>
                      <a:lnTo>
                        <a:pt x="782" y="2175"/>
                      </a:lnTo>
                      <a:lnTo>
                        <a:pt x="786" y="2180"/>
                      </a:lnTo>
                      <a:lnTo>
                        <a:pt x="789" y="2186"/>
                      </a:lnTo>
                      <a:lnTo>
                        <a:pt x="795" y="2190"/>
                      </a:lnTo>
                      <a:lnTo>
                        <a:pt x="799" y="2196"/>
                      </a:lnTo>
                      <a:lnTo>
                        <a:pt x="805" y="2201"/>
                      </a:lnTo>
                      <a:lnTo>
                        <a:pt x="808" y="2205"/>
                      </a:lnTo>
                      <a:lnTo>
                        <a:pt x="814" y="2209"/>
                      </a:lnTo>
                      <a:lnTo>
                        <a:pt x="818" y="2213"/>
                      </a:lnTo>
                      <a:lnTo>
                        <a:pt x="824" y="2216"/>
                      </a:lnTo>
                      <a:lnTo>
                        <a:pt x="828" y="2222"/>
                      </a:lnTo>
                      <a:lnTo>
                        <a:pt x="833" y="2224"/>
                      </a:lnTo>
                      <a:lnTo>
                        <a:pt x="839" y="2228"/>
                      </a:lnTo>
                      <a:lnTo>
                        <a:pt x="845" y="2232"/>
                      </a:lnTo>
                      <a:lnTo>
                        <a:pt x="848" y="2235"/>
                      </a:lnTo>
                      <a:lnTo>
                        <a:pt x="854" y="2239"/>
                      </a:lnTo>
                      <a:lnTo>
                        <a:pt x="858" y="2243"/>
                      </a:lnTo>
                      <a:lnTo>
                        <a:pt x="864" y="2245"/>
                      </a:lnTo>
                      <a:lnTo>
                        <a:pt x="867" y="2249"/>
                      </a:lnTo>
                      <a:lnTo>
                        <a:pt x="873" y="2253"/>
                      </a:lnTo>
                      <a:lnTo>
                        <a:pt x="877" y="2256"/>
                      </a:lnTo>
                      <a:lnTo>
                        <a:pt x="883" y="2258"/>
                      </a:lnTo>
                      <a:lnTo>
                        <a:pt x="890" y="2260"/>
                      </a:lnTo>
                      <a:lnTo>
                        <a:pt x="896" y="2264"/>
                      </a:lnTo>
                      <a:lnTo>
                        <a:pt x="900" y="2266"/>
                      </a:lnTo>
                      <a:lnTo>
                        <a:pt x="904" y="2268"/>
                      </a:lnTo>
                      <a:lnTo>
                        <a:pt x="907" y="2270"/>
                      </a:lnTo>
                      <a:lnTo>
                        <a:pt x="913" y="2273"/>
                      </a:lnTo>
                      <a:lnTo>
                        <a:pt x="919" y="2275"/>
                      </a:lnTo>
                      <a:lnTo>
                        <a:pt x="925" y="2277"/>
                      </a:lnTo>
                      <a:lnTo>
                        <a:pt x="928" y="2279"/>
                      </a:lnTo>
                      <a:lnTo>
                        <a:pt x="934" y="2281"/>
                      </a:lnTo>
                      <a:lnTo>
                        <a:pt x="938" y="2283"/>
                      </a:lnTo>
                      <a:lnTo>
                        <a:pt x="942" y="2285"/>
                      </a:lnTo>
                      <a:lnTo>
                        <a:pt x="947" y="2287"/>
                      </a:lnTo>
                      <a:lnTo>
                        <a:pt x="951" y="2289"/>
                      </a:lnTo>
                      <a:lnTo>
                        <a:pt x="955" y="2289"/>
                      </a:lnTo>
                      <a:lnTo>
                        <a:pt x="961" y="2291"/>
                      </a:lnTo>
                      <a:lnTo>
                        <a:pt x="964" y="2291"/>
                      </a:lnTo>
                      <a:lnTo>
                        <a:pt x="968" y="2294"/>
                      </a:lnTo>
                      <a:lnTo>
                        <a:pt x="972" y="2294"/>
                      </a:lnTo>
                      <a:lnTo>
                        <a:pt x="978" y="2294"/>
                      </a:lnTo>
                      <a:lnTo>
                        <a:pt x="982" y="2296"/>
                      </a:lnTo>
                      <a:lnTo>
                        <a:pt x="985" y="2296"/>
                      </a:lnTo>
                      <a:lnTo>
                        <a:pt x="989" y="2296"/>
                      </a:lnTo>
                      <a:lnTo>
                        <a:pt x="993" y="2298"/>
                      </a:lnTo>
                      <a:lnTo>
                        <a:pt x="997" y="2298"/>
                      </a:lnTo>
                      <a:lnTo>
                        <a:pt x="1001" y="2298"/>
                      </a:lnTo>
                      <a:lnTo>
                        <a:pt x="1004" y="2298"/>
                      </a:lnTo>
                      <a:lnTo>
                        <a:pt x="1008" y="2300"/>
                      </a:lnTo>
                      <a:lnTo>
                        <a:pt x="1010" y="2300"/>
                      </a:lnTo>
                      <a:lnTo>
                        <a:pt x="1014" y="2300"/>
                      </a:lnTo>
                      <a:lnTo>
                        <a:pt x="1016" y="2300"/>
                      </a:lnTo>
                      <a:lnTo>
                        <a:pt x="1020" y="2300"/>
                      </a:lnTo>
                      <a:lnTo>
                        <a:pt x="1022" y="2300"/>
                      </a:lnTo>
                      <a:lnTo>
                        <a:pt x="1025" y="2302"/>
                      </a:lnTo>
                      <a:lnTo>
                        <a:pt x="1029" y="2300"/>
                      </a:lnTo>
                      <a:lnTo>
                        <a:pt x="1035" y="2300"/>
                      </a:lnTo>
                      <a:lnTo>
                        <a:pt x="1039" y="2298"/>
                      </a:lnTo>
                      <a:lnTo>
                        <a:pt x="1042" y="2298"/>
                      </a:lnTo>
                      <a:lnTo>
                        <a:pt x="1044" y="2296"/>
                      </a:lnTo>
                      <a:lnTo>
                        <a:pt x="1048" y="2296"/>
                      </a:lnTo>
                      <a:lnTo>
                        <a:pt x="1048" y="2294"/>
                      </a:lnTo>
                      <a:lnTo>
                        <a:pt x="1050" y="2294"/>
                      </a:lnTo>
                      <a:lnTo>
                        <a:pt x="1246" y="1334"/>
                      </a:lnTo>
                      <a:lnTo>
                        <a:pt x="1246" y="1333"/>
                      </a:lnTo>
                      <a:lnTo>
                        <a:pt x="1248" y="1331"/>
                      </a:lnTo>
                      <a:lnTo>
                        <a:pt x="1250" y="1327"/>
                      </a:lnTo>
                      <a:lnTo>
                        <a:pt x="1252" y="1325"/>
                      </a:lnTo>
                      <a:lnTo>
                        <a:pt x="1252" y="1323"/>
                      </a:lnTo>
                      <a:lnTo>
                        <a:pt x="1254" y="1319"/>
                      </a:lnTo>
                      <a:lnTo>
                        <a:pt x="1256" y="1315"/>
                      </a:lnTo>
                      <a:lnTo>
                        <a:pt x="1259" y="1312"/>
                      </a:lnTo>
                      <a:lnTo>
                        <a:pt x="1259" y="1306"/>
                      </a:lnTo>
                      <a:lnTo>
                        <a:pt x="1263" y="1302"/>
                      </a:lnTo>
                      <a:lnTo>
                        <a:pt x="1265" y="1296"/>
                      </a:lnTo>
                      <a:lnTo>
                        <a:pt x="1269" y="1293"/>
                      </a:lnTo>
                      <a:lnTo>
                        <a:pt x="1271" y="1285"/>
                      </a:lnTo>
                      <a:lnTo>
                        <a:pt x="1275" y="1281"/>
                      </a:lnTo>
                      <a:lnTo>
                        <a:pt x="1276" y="1274"/>
                      </a:lnTo>
                      <a:lnTo>
                        <a:pt x="1280" y="1266"/>
                      </a:lnTo>
                      <a:lnTo>
                        <a:pt x="1284" y="1258"/>
                      </a:lnTo>
                      <a:lnTo>
                        <a:pt x="1288" y="1249"/>
                      </a:lnTo>
                      <a:lnTo>
                        <a:pt x="1290" y="1241"/>
                      </a:lnTo>
                      <a:lnTo>
                        <a:pt x="1294" y="1234"/>
                      </a:lnTo>
                      <a:lnTo>
                        <a:pt x="1297" y="1224"/>
                      </a:lnTo>
                      <a:lnTo>
                        <a:pt x="1301" y="1217"/>
                      </a:lnTo>
                      <a:lnTo>
                        <a:pt x="1305" y="1207"/>
                      </a:lnTo>
                      <a:lnTo>
                        <a:pt x="1309" y="1198"/>
                      </a:lnTo>
                      <a:lnTo>
                        <a:pt x="1313" y="1188"/>
                      </a:lnTo>
                      <a:lnTo>
                        <a:pt x="1316" y="1177"/>
                      </a:lnTo>
                      <a:lnTo>
                        <a:pt x="1320" y="1165"/>
                      </a:lnTo>
                      <a:lnTo>
                        <a:pt x="1324" y="1154"/>
                      </a:lnTo>
                      <a:lnTo>
                        <a:pt x="1330" y="1144"/>
                      </a:lnTo>
                      <a:lnTo>
                        <a:pt x="1334" y="1133"/>
                      </a:lnTo>
                      <a:lnTo>
                        <a:pt x="1337" y="1122"/>
                      </a:lnTo>
                      <a:lnTo>
                        <a:pt x="1339" y="1108"/>
                      </a:lnTo>
                      <a:lnTo>
                        <a:pt x="1345" y="1097"/>
                      </a:lnTo>
                      <a:lnTo>
                        <a:pt x="1349" y="1084"/>
                      </a:lnTo>
                      <a:lnTo>
                        <a:pt x="1353" y="1070"/>
                      </a:lnTo>
                      <a:lnTo>
                        <a:pt x="1354" y="1059"/>
                      </a:lnTo>
                      <a:lnTo>
                        <a:pt x="1358" y="1044"/>
                      </a:lnTo>
                      <a:lnTo>
                        <a:pt x="1362" y="1032"/>
                      </a:lnTo>
                      <a:lnTo>
                        <a:pt x="1366" y="1017"/>
                      </a:lnTo>
                      <a:lnTo>
                        <a:pt x="1370" y="1004"/>
                      </a:lnTo>
                      <a:lnTo>
                        <a:pt x="1372" y="988"/>
                      </a:lnTo>
                      <a:lnTo>
                        <a:pt x="1375" y="975"/>
                      </a:lnTo>
                      <a:lnTo>
                        <a:pt x="1377" y="960"/>
                      </a:lnTo>
                      <a:lnTo>
                        <a:pt x="1381" y="947"/>
                      </a:lnTo>
                      <a:lnTo>
                        <a:pt x="1383" y="931"/>
                      </a:lnTo>
                      <a:lnTo>
                        <a:pt x="1387" y="916"/>
                      </a:lnTo>
                      <a:lnTo>
                        <a:pt x="1389" y="901"/>
                      </a:lnTo>
                      <a:lnTo>
                        <a:pt x="1391" y="886"/>
                      </a:lnTo>
                      <a:lnTo>
                        <a:pt x="1392" y="871"/>
                      </a:lnTo>
                      <a:lnTo>
                        <a:pt x="1394" y="855"/>
                      </a:lnTo>
                      <a:lnTo>
                        <a:pt x="1396" y="838"/>
                      </a:lnTo>
                      <a:lnTo>
                        <a:pt x="1398" y="823"/>
                      </a:lnTo>
                      <a:lnTo>
                        <a:pt x="1398" y="806"/>
                      </a:lnTo>
                      <a:lnTo>
                        <a:pt x="1400" y="791"/>
                      </a:lnTo>
                      <a:lnTo>
                        <a:pt x="1402" y="774"/>
                      </a:lnTo>
                      <a:lnTo>
                        <a:pt x="1402" y="757"/>
                      </a:lnTo>
                      <a:lnTo>
                        <a:pt x="1402" y="741"/>
                      </a:lnTo>
                      <a:lnTo>
                        <a:pt x="1402" y="724"/>
                      </a:lnTo>
                      <a:lnTo>
                        <a:pt x="1402" y="705"/>
                      </a:lnTo>
                      <a:lnTo>
                        <a:pt x="1402" y="690"/>
                      </a:lnTo>
                      <a:lnTo>
                        <a:pt x="1400" y="673"/>
                      </a:lnTo>
                      <a:lnTo>
                        <a:pt x="1400" y="656"/>
                      </a:lnTo>
                      <a:lnTo>
                        <a:pt x="1398" y="654"/>
                      </a:lnTo>
                      <a:lnTo>
                        <a:pt x="1398" y="652"/>
                      </a:lnTo>
                      <a:lnTo>
                        <a:pt x="1398" y="648"/>
                      </a:lnTo>
                      <a:lnTo>
                        <a:pt x="1398" y="644"/>
                      </a:lnTo>
                      <a:lnTo>
                        <a:pt x="1398" y="643"/>
                      </a:lnTo>
                      <a:lnTo>
                        <a:pt x="1398" y="639"/>
                      </a:lnTo>
                      <a:lnTo>
                        <a:pt x="1396" y="637"/>
                      </a:lnTo>
                      <a:lnTo>
                        <a:pt x="1396" y="633"/>
                      </a:lnTo>
                      <a:lnTo>
                        <a:pt x="1396" y="631"/>
                      </a:lnTo>
                      <a:lnTo>
                        <a:pt x="1396" y="627"/>
                      </a:lnTo>
                      <a:lnTo>
                        <a:pt x="1396" y="623"/>
                      </a:lnTo>
                      <a:lnTo>
                        <a:pt x="1394" y="620"/>
                      </a:lnTo>
                      <a:lnTo>
                        <a:pt x="1394" y="618"/>
                      </a:lnTo>
                      <a:lnTo>
                        <a:pt x="1394" y="616"/>
                      </a:lnTo>
                      <a:lnTo>
                        <a:pt x="1392" y="612"/>
                      </a:lnTo>
                      <a:lnTo>
                        <a:pt x="1392" y="610"/>
                      </a:lnTo>
                      <a:lnTo>
                        <a:pt x="1392" y="608"/>
                      </a:lnTo>
                      <a:lnTo>
                        <a:pt x="1391" y="604"/>
                      </a:lnTo>
                      <a:lnTo>
                        <a:pt x="1391" y="603"/>
                      </a:lnTo>
                      <a:lnTo>
                        <a:pt x="1391" y="599"/>
                      </a:lnTo>
                      <a:lnTo>
                        <a:pt x="1389" y="597"/>
                      </a:lnTo>
                      <a:lnTo>
                        <a:pt x="1389" y="593"/>
                      </a:lnTo>
                      <a:lnTo>
                        <a:pt x="1389" y="589"/>
                      </a:lnTo>
                      <a:lnTo>
                        <a:pt x="1389" y="587"/>
                      </a:lnTo>
                      <a:lnTo>
                        <a:pt x="1387" y="585"/>
                      </a:lnTo>
                      <a:lnTo>
                        <a:pt x="1385" y="582"/>
                      </a:lnTo>
                      <a:lnTo>
                        <a:pt x="1385" y="580"/>
                      </a:lnTo>
                      <a:lnTo>
                        <a:pt x="1383" y="578"/>
                      </a:lnTo>
                      <a:lnTo>
                        <a:pt x="1383" y="572"/>
                      </a:lnTo>
                      <a:lnTo>
                        <a:pt x="1381" y="568"/>
                      </a:lnTo>
                      <a:lnTo>
                        <a:pt x="1377" y="563"/>
                      </a:lnTo>
                      <a:lnTo>
                        <a:pt x="1375" y="557"/>
                      </a:lnTo>
                      <a:lnTo>
                        <a:pt x="1373" y="553"/>
                      </a:lnTo>
                      <a:lnTo>
                        <a:pt x="1370" y="547"/>
                      </a:lnTo>
                      <a:lnTo>
                        <a:pt x="1366" y="544"/>
                      </a:lnTo>
                      <a:lnTo>
                        <a:pt x="1364" y="540"/>
                      </a:lnTo>
                      <a:lnTo>
                        <a:pt x="1360" y="536"/>
                      </a:lnTo>
                      <a:lnTo>
                        <a:pt x="1356" y="532"/>
                      </a:lnTo>
                      <a:lnTo>
                        <a:pt x="1353" y="528"/>
                      </a:lnTo>
                      <a:lnTo>
                        <a:pt x="1349" y="525"/>
                      </a:lnTo>
                      <a:lnTo>
                        <a:pt x="1345" y="523"/>
                      </a:lnTo>
                      <a:lnTo>
                        <a:pt x="1339" y="521"/>
                      </a:lnTo>
                      <a:lnTo>
                        <a:pt x="1335" y="517"/>
                      </a:lnTo>
                      <a:lnTo>
                        <a:pt x="1332" y="515"/>
                      </a:lnTo>
                      <a:lnTo>
                        <a:pt x="1326" y="515"/>
                      </a:lnTo>
                      <a:lnTo>
                        <a:pt x="1322" y="513"/>
                      </a:lnTo>
                      <a:lnTo>
                        <a:pt x="1318" y="511"/>
                      </a:lnTo>
                      <a:lnTo>
                        <a:pt x="1316" y="511"/>
                      </a:lnTo>
                      <a:lnTo>
                        <a:pt x="1313" y="511"/>
                      </a:lnTo>
                      <a:lnTo>
                        <a:pt x="1311" y="511"/>
                      </a:lnTo>
                      <a:lnTo>
                        <a:pt x="1309" y="509"/>
                      </a:lnTo>
                      <a:lnTo>
                        <a:pt x="1305" y="509"/>
                      </a:lnTo>
                      <a:lnTo>
                        <a:pt x="1303" y="509"/>
                      </a:lnTo>
                      <a:lnTo>
                        <a:pt x="1301" y="509"/>
                      </a:lnTo>
                      <a:lnTo>
                        <a:pt x="1297" y="509"/>
                      </a:lnTo>
                      <a:lnTo>
                        <a:pt x="1295" y="509"/>
                      </a:lnTo>
                      <a:lnTo>
                        <a:pt x="1292" y="509"/>
                      </a:lnTo>
                      <a:lnTo>
                        <a:pt x="1290" y="509"/>
                      </a:lnTo>
                      <a:lnTo>
                        <a:pt x="1284" y="509"/>
                      </a:lnTo>
                      <a:lnTo>
                        <a:pt x="1280" y="509"/>
                      </a:lnTo>
                      <a:lnTo>
                        <a:pt x="1275" y="509"/>
                      </a:lnTo>
                      <a:lnTo>
                        <a:pt x="1269" y="509"/>
                      </a:lnTo>
                      <a:lnTo>
                        <a:pt x="1265" y="509"/>
                      </a:lnTo>
                      <a:lnTo>
                        <a:pt x="1259" y="509"/>
                      </a:lnTo>
                      <a:lnTo>
                        <a:pt x="1256" y="511"/>
                      </a:lnTo>
                      <a:lnTo>
                        <a:pt x="1252" y="511"/>
                      </a:lnTo>
                      <a:lnTo>
                        <a:pt x="1246" y="515"/>
                      </a:lnTo>
                      <a:lnTo>
                        <a:pt x="1242" y="515"/>
                      </a:lnTo>
                      <a:lnTo>
                        <a:pt x="1238" y="517"/>
                      </a:lnTo>
                      <a:lnTo>
                        <a:pt x="1235" y="521"/>
                      </a:lnTo>
                      <a:lnTo>
                        <a:pt x="1231" y="523"/>
                      </a:lnTo>
                      <a:lnTo>
                        <a:pt x="1229" y="525"/>
                      </a:lnTo>
                      <a:lnTo>
                        <a:pt x="1225" y="527"/>
                      </a:lnTo>
                      <a:lnTo>
                        <a:pt x="1221" y="530"/>
                      </a:lnTo>
                      <a:lnTo>
                        <a:pt x="1219" y="532"/>
                      </a:lnTo>
                      <a:lnTo>
                        <a:pt x="1216" y="538"/>
                      </a:lnTo>
                      <a:lnTo>
                        <a:pt x="1214" y="542"/>
                      </a:lnTo>
                      <a:lnTo>
                        <a:pt x="1212" y="546"/>
                      </a:lnTo>
                      <a:lnTo>
                        <a:pt x="1210" y="549"/>
                      </a:lnTo>
                      <a:lnTo>
                        <a:pt x="1208" y="555"/>
                      </a:lnTo>
                      <a:lnTo>
                        <a:pt x="1208" y="557"/>
                      </a:lnTo>
                      <a:lnTo>
                        <a:pt x="1206" y="559"/>
                      </a:lnTo>
                      <a:lnTo>
                        <a:pt x="1204" y="561"/>
                      </a:lnTo>
                      <a:lnTo>
                        <a:pt x="1204" y="565"/>
                      </a:lnTo>
                      <a:lnTo>
                        <a:pt x="1204" y="566"/>
                      </a:lnTo>
                      <a:lnTo>
                        <a:pt x="1204" y="570"/>
                      </a:lnTo>
                      <a:lnTo>
                        <a:pt x="1204" y="572"/>
                      </a:lnTo>
                      <a:lnTo>
                        <a:pt x="1204" y="576"/>
                      </a:lnTo>
                      <a:lnTo>
                        <a:pt x="1139" y="895"/>
                      </a:lnTo>
                      <a:lnTo>
                        <a:pt x="1136" y="893"/>
                      </a:lnTo>
                      <a:lnTo>
                        <a:pt x="1132" y="892"/>
                      </a:lnTo>
                      <a:lnTo>
                        <a:pt x="1126" y="888"/>
                      </a:lnTo>
                      <a:lnTo>
                        <a:pt x="1122" y="886"/>
                      </a:lnTo>
                      <a:lnTo>
                        <a:pt x="1117" y="884"/>
                      </a:lnTo>
                      <a:lnTo>
                        <a:pt x="1113" y="880"/>
                      </a:lnTo>
                      <a:lnTo>
                        <a:pt x="1107" y="878"/>
                      </a:lnTo>
                      <a:lnTo>
                        <a:pt x="1105" y="876"/>
                      </a:lnTo>
                      <a:lnTo>
                        <a:pt x="1227" y="316"/>
                      </a:lnTo>
                      <a:lnTo>
                        <a:pt x="1227" y="312"/>
                      </a:lnTo>
                      <a:lnTo>
                        <a:pt x="1227" y="308"/>
                      </a:lnTo>
                      <a:lnTo>
                        <a:pt x="1229" y="306"/>
                      </a:lnTo>
                      <a:lnTo>
                        <a:pt x="1229" y="304"/>
                      </a:lnTo>
                      <a:lnTo>
                        <a:pt x="1229" y="300"/>
                      </a:lnTo>
                      <a:lnTo>
                        <a:pt x="1229" y="298"/>
                      </a:lnTo>
                      <a:lnTo>
                        <a:pt x="1229" y="295"/>
                      </a:lnTo>
                      <a:lnTo>
                        <a:pt x="1229" y="293"/>
                      </a:lnTo>
                      <a:lnTo>
                        <a:pt x="1229" y="291"/>
                      </a:lnTo>
                      <a:lnTo>
                        <a:pt x="1229" y="287"/>
                      </a:lnTo>
                      <a:lnTo>
                        <a:pt x="1229" y="285"/>
                      </a:lnTo>
                      <a:lnTo>
                        <a:pt x="1229" y="283"/>
                      </a:lnTo>
                      <a:lnTo>
                        <a:pt x="1229" y="278"/>
                      </a:lnTo>
                      <a:lnTo>
                        <a:pt x="1227" y="272"/>
                      </a:lnTo>
                      <a:lnTo>
                        <a:pt x="1225" y="268"/>
                      </a:lnTo>
                      <a:lnTo>
                        <a:pt x="1225" y="262"/>
                      </a:lnTo>
                      <a:lnTo>
                        <a:pt x="1223" y="257"/>
                      </a:lnTo>
                      <a:lnTo>
                        <a:pt x="1221" y="253"/>
                      </a:lnTo>
                      <a:lnTo>
                        <a:pt x="1219" y="247"/>
                      </a:lnTo>
                      <a:lnTo>
                        <a:pt x="1217" y="243"/>
                      </a:lnTo>
                      <a:lnTo>
                        <a:pt x="1216" y="240"/>
                      </a:lnTo>
                      <a:lnTo>
                        <a:pt x="1214" y="236"/>
                      </a:lnTo>
                      <a:lnTo>
                        <a:pt x="1210" y="232"/>
                      </a:lnTo>
                      <a:lnTo>
                        <a:pt x="1206" y="226"/>
                      </a:lnTo>
                      <a:lnTo>
                        <a:pt x="1202" y="222"/>
                      </a:lnTo>
                      <a:lnTo>
                        <a:pt x="1200" y="219"/>
                      </a:lnTo>
                      <a:lnTo>
                        <a:pt x="1197" y="215"/>
                      </a:lnTo>
                      <a:lnTo>
                        <a:pt x="1193" y="211"/>
                      </a:lnTo>
                      <a:lnTo>
                        <a:pt x="1189" y="207"/>
                      </a:lnTo>
                      <a:lnTo>
                        <a:pt x="1185" y="205"/>
                      </a:lnTo>
                      <a:lnTo>
                        <a:pt x="1179" y="203"/>
                      </a:lnTo>
                      <a:lnTo>
                        <a:pt x="1176" y="200"/>
                      </a:lnTo>
                      <a:lnTo>
                        <a:pt x="1172" y="198"/>
                      </a:lnTo>
                      <a:lnTo>
                        <a:pt x="1166" y="194"/>
                      </a:lnTo>
                      <a:lnTo>
                        <a:pt x="1160" y="192"/>
                      </a:lnTo>
                      <a:lnTo>
                        <a:pt x="1157" y="192"/>
                      </a:lnTo>
                      <a:lnTo>
                        <a:pt x="1151" y="190"/>
                      </a:lnTo>
                      <a:lnTo>
                        <a:pt x="1147" y="190"/>
                      </a:lnTo>
                      <a:lnTo>
                        <a:pt x="1143" y="188"/>
                      </a:lnTo>
                      <a:lnTo>
                        <a:pt x="1141" y="186"/>
                      </a:lnTo>
                      <a:lnTo>
                        <a:pt x="1138" y="186"/>
                      </a:lnTo>
                      <a:lnTo>
                        <a:pt x="1136" y="186"/>
                      </a:lnTo>
                      <a:lnTo>
                        <a:pt x="1134" y="186"/>
                      </a:lnTo>
                      <a:lnTo>
                        <a:pt x="1130" y="186"/>
                      </a:lnTo>
                      <a:lnTo>
                        <a:pt x="1128" y="186"/>
                      </a:lnTo>
                      <a:lnTo>
                        <a:pt x="1124" y="186"/>
                      </a:lnTo>
                      <a:lnTo>
                        <a:pt x="1122" y="186"/>
                      </a:lnTo>
                      <a:lnTo>
                        <a:pt x="1120" y="186"/>
                      </a:lnTo>
                      <a:lnTo>
                        <a:pt x="1117" y="186"/>
                      </a:lnTo>
                      <a:lnTo>
                        <a:pt x="1115" y="186"/>
                      </a:lnTo>
                      <a:lnTo>
                        <a:pt x="1109" y="186"/>
                      </a:lnTo>
                      <a:lnTo>
                        <a:pt x="1105" y="188"/>
                      </a:lnTo>
                      <a:lnTo>
                        <a:pt x="1100" y="188"/>
                      </a:lnTo>
                      <a:lnTo>
                        <a:pt x="1094" y="190"/>
                      </a:lnTo>
                      <a:lnTo>
                        <a:pt x="1090" y="192"/>
                      </a:lnTo>
                      <a:lnTo>
                        <a:pt x="1086" y="192"/>
                      </a:lnTo>
                      <a:lnTo>
                        <a:pt x="1081" y="194"/>
                      </a:lnTo>
                      <a:lnTo>
                        <a:pt x="1077" y="198"/>
                      </a:lnTo>
                      <a:lnTo>
                        <a:pt x="1073" y="200"/>
                      </a:lnTo>
                      <a:lnTo>
                        <a:pt x="1067" y="203"/>
                      </a:lnTo>
                      <a:lnTo>
                        <a:pt x="1063" y="205"/>
                      </a:lnTo>
                      <a:lnTo>
                        <a:pt x="1058" y="207"/>
                      </a:lnTo>
                      <a:lnTo>
                        <a:pt x="1054" y="211"/>
                      </a:lnTo>
                      <a:lnTo>
                        <a:pt x="1050" y="215"/>
                      </a:lnTo>
                      <a:lnTo>
                        <a:pt x="1048" y="219"/>
                      </a:lnTo>
                      <a:lnTo>
                        <a:pt x="1044" y="222"/>
                      </a:lnTo>
                      <a:lnTo>
                        <a:pt x="1041" y="226"/>
                      </a:lnTo>
                      <a:lnTo>
                        <a:pt x="1039" y="232"/>
                      </a:lnTo>
                      <a:lnTo>
                        <a:pt x="1035" y="234"/>
                      </a:lnTo>
                      <a:lnTo>
                        <a:pt x="1033" y="240"/>
                      </a:lnTo>
                      <a:lnTo>
                        <a:pt x="1029" y="243"/>
                      </a:lnTo>
                      <a:lnTo>
                        <a:pt x="1027" y="249"/>
                      </a:lnTo>
                      <a:lnTo>
                        <a:pt x="1025" y="253"/>
                      </a:lnTo>
                      <a:lnTo>
                        <a:pt x="1023" y="259"/>
                      </a:lnTo>
                      <a:lnTo>
                        <a:pt x="1022" y="260"/>
                      </a:lnTo>
                      <a:lnTo>
                        <a:pt x="1022" y="264"/>
                      </a:lnTo>
                      <a:lnTo>
                        <a:pt x="1022" y="266"/>
                      </a:lnTo>
                      <a:lnTo>
                        <a:pt x="1022" y="270"/>
                      </a:lnTo>
                      <a:lnTo>
                        <a:pt x="919" y="730"/>
                      </a:lnTo>
                      <a:lnTo>
                        <a:pt x="915" y="728"/>
                      </a:lnTo>
                      <a:lnTo>
                        <a:pt x="913" y="726"/>
                      </a:lnTo>
                      <a:lnTo>
                        <a:pt x="907" y="724"/>
                      </a:lnTo>
                      <a:lnTo>
                        <a:pt x="905" y="720"/>
                      </a:lnTo>
                      <a:lnTo>
                        <a:pt x="904" y="719"/>
                      </a:lnTo>
                      <a:lnTo>
                        <a:pt x="900" y="717"/>
                      </a:lnTo>
                      <a:lnTo>
                        <a:pt x="896" y="713"/>
                      </a:lnTo>
                      <a:lnTo>
                        <a:pt x="892" y="713"/>
                      </a:lnTo>
                      <a:lnTo>
                        <a:pt x="1022" y="129"/>
                      </a:lnTo>
                      <a:lnTo>
                        <a:pt x="1022" y="125"/>
                      </a:lnTo>
                      <a:lnTo>
                        <a:pt x="1022" y="124"/>
                      </a:lnTo>
                      <a:lnTo>
                        <a:pt x="1022" y="120"/>
                      </a:lnTo>
                      <a:lnTo>
                        <a:pt x="1022" y="118"/>
                      </a:lnTo>
                      <a:lnTo>
                        <a:pt x="1022" y="114"/>
                      </a:lnTo>
                      <a:lnTo>
                        <a:pt x="1022" y="112"/>
                      </a:lnTo>
                      <a:lnTo>
                        <a:pt x="1022" y="110"/>
                      </a:lnTo>
                      <a:lnTo>
                        <a:pt x="1022" y="106"/>
                      </a:lnTo>
                      <a:lnTo>
                        <a:pt x="1022" y="105"/>
                      </a:lnTo>
                      <a:lnTo>
                        <a:pt x="1022" y="103"/>
                      </a:lnTo>
                      <a:lnTo>
                        <a:pt x="1022" y="99"/>
                      </a:lnTo>
                      <a:lnTo>
                        <a:pt x="1022" y="97"/>
                      </a:lnTo>
                      <a:lnTo>
                        <a:pt x="1022" y="91"/>
                      </a:lnTo>
                      <a:lnTo>
                        <a:pt x="1022" y="86"/>
                      </a:lnTo>
                      <a:lnTo>
                        <a:pt x="1020" y="82"/>
                      </a:lnTo>
                      <a:lnTo>
                        <a:pt x="1018" y="76"/>
                      </a:lnTo>
                      <a:lnTo>
                        <a:pt x="1016" y="70"/>
                      </a:lnTo>
                      <a:lnTo>
                        <a:pt x="1014" y="67"/>
                      </a:lnTo>
                      <a:lnTo>
                        <a:pt x="1012" y="61"/>
                      </a:lnTo>
                      <a:lnTo>
                        <a:pt x="1010" y="57"/>
                      </a:lnTo>
                      <a:lnTo>
                        <a:pt x="1008" y="53"/>
                      </a:lnTo>
                      <a:lnTo>
                        <a:pt x="1006" y="48"/>
                      </a:lnTo>
                      <a:lnTo>
                        <a:pt x="1004" y="44"/>
                      </a:lnTo>
                      <a:lnTo>
                        <a:pt x="1001" y="40"/>
                      </a:lnTo>
                      <a:lnTo>
                        <a:pt x="997" y="36"/>
                      </a:lnTo>
                      <a:lnTo>
                        <a:pt x="993" y="32"/>
                      </a:lnTo>
                      <a:lnTo>
                        <a:pt x="991" y="29"/>
                      </a:lnTo>
                      <a:lnTo>
                        <a:pt x="985" y="25"/>
                      </a:lnTo>
                      <a:lnTo>
                        <a:pt x="983" y="23"/>
                      </a:lnTo>
                      <a:lnTo>
                        <a:pt x="978" y="19"/>
                      </a:lnTo>
                      <a:lnTo>
                        <a:pt x="972" y="17"/>
                      </a:lnTo>
                      <a:lnTo>
                        <a:pt x="968" y="13"/>
                      </a:lnTo>
                      <a:lnTo>
                        <a:pt x="964" y="11"/>
                      </a:lnTo>
                      <a:lnTo>
                        <a:pt x="961" y="10"/>
                      </a:lnTo>
                      <a:lnTo>
                        <a:pt x="955" y="6"/>
                      </a:lnTo>
                      <a:lnTo>
                        <a:pt x="949" y="6"/>
                      </a:lnTo>
                      <a:lnTo>
                        <a:pt x="944" y="4"/>
                      </a:lnTo>
                      <a:lnTo>
                        <a:pt x="940" y="4"/>
                      </a:lnTo>
                      <a:lnTo>
                        <a:pt x="936" y="2"/>
                      </a:lnTo>
                      <a:lnTo>
                        <a:pt x="934" y="2"/>
                      </a:lnTo>
                      <a:lnTo>
                        <a:pt x="932" y="0"/>
                      </a:lnTo>
                      <a:lnTo>
                        <a:pt x="928" y="0"/>
                      </a:lnTo>
                      <a:lnTo>
                        <a:pt x="926" y="0"/>
                      </a:lnTo>
                      <a:lnTo>
                        <a:pt x="925" y="0"/>
                      </a:lnTo>
                      <a:lnTo>
                        <a:pt x="921" y="0"/>
                      </a:lnTo>
                      <a:lnTo>
                        <a:pt x="919" y="0"/>
                      </a:lnTo>
                      <a:lnTo>
                        <a:pt x="915" y="0"/>
                      </a:lnTo>
                      <a:lnTo>
                        <a:pt x="913" y="0"/>
                      </a:lnTo>
                      <a:lnTo>
                        <a:pt x="911" y="0"/>
                      </a:lnTo>
                      <a:lnTo>
                        <a:pt x="907" y="0"/>
                      </a:lnTo>
                      <a:lnTo>
                        <a:pt x="904" y="0"/>
                      </a:lnTo>
                      <a:lnTo>
                        <a:pt x="898" y="2"/>
                      </a:lnTo>
                      <a:lnTo>
                        <a:pt x="896" y="2"/>
                      </a:lnTo>
                      <a:lnTo>
                        <a:pt x="892" y="2"/>
                      </a:lnTo>
                      <a:lnTo>
                        <a:pt x="890" y="2"/>
                      </a:lnTo>
                      <a:lnTo>
                        <a:pt x="888" y="4"/>
                      </a:lnTo>
                      <a:lnTo>
                        <a:pt x="881" y="4"/>
                      </a:lnTo>
                      <a:lnTo>
                        <a:pt x="877" y="6"/>
                      </a:lnTo>
                      <a:lnTo>
                        <a:pt x="873" y="10"/>
                      </a:lnTo>
                      <a:lnTo>
                        <a:pt x="867" y="11"/>
                      </a:lnTo>
                      <a:lnTo>
                        <a:pt x="864" y="15"/>
                      </a:lnTo>
                      <a:lnTo>
                        <a:pt x="860" y="17"/>
                      </a:lnTo>
                      <a:lnTo>
                        <a:pt x="854" y="19"/>
                      </a:lnTo>
                      <a:lnTo>
                        <a:pt x="850" y="23"/>
                      </a:lnTo>
                      <a:lnTo>
                        <a:pt x="847" y="25"/>
                      </a:lnTo>
                      <a:lnTo>
                        <a:pt x="843" y="29"/>
                      </a:lnTo>
                      <a:lnTo>
                        <a:pt x="839" y="32"/>
                      </a:lnTo>
                      <a:lnTo>
                        <a:pt x="835" y="36"/>
                      </a:lnTo>
                      <a:lnTo>
                        <a:pt x="833" y="40"/>
                      </a:lnTo>
                      <a:lnTo>
                        <a:pt x="831" y="44"/>
                      </a:lnTo>
                      <a:lnTo>
                        <a:pt x="828" y="48"/>
                      </a:lnTo>
                      <a:lnTo>
                        <a:pt x="824" y="53"/>
                      </a:lnTo>
                      <a:lnTo>
                        <a:pt x="822" y="57"/>
                      </a:lnTo>
                      <a:lnTo>
                        <a:pt x="820" y="61"/>
                      </a:lnTo>
                      <a:lnTo>
                        <a:pt x="818" y="67"/>
                      </a:lnTo>
                      <a:lnTo>
                        <a:pt x="816" y="70"/>
                      </a:lnTo>
                      <a:lnTo>
                        <a:pt x="816" y="74"/>
                      </a:lnTo>
                      <a:lnTo>
                        <a:pt x="814" y="76"/>
                      </a:lnTo>
                      <a:lnTo>
                        <a:pt x="812" y="82"/>
                      </a:lnTo>
                      <a:lnTo>
                        <a:pt x="812" y="84"/>
                      </a:lnTo>
                      <a:lnTo>
                        <a:pt x="687" y="663"/>
                      </a:lnTo>
                      <a:lnTo>
                        <a:pt x="681" y="663"/>
                      </a:lnTo>
                      <a:lnTo>
                        <a:pt x="677" y="663"/>
                      </a:lnTo>
                      <a:lnTo>
                        <a:pt x="673" y="663"/>
                      </a:lnTo>
                      <a:lnTo>
                        <a:pt x="670" y="663"/>
                      </a:lnTo>
                      <a:lnTo>
                        <a:pt x="666" y="663"/>
                      </a:lnTo>
                      <a:lnTo>
                        <a:pt x="660" y="665"/>
                      </a:lnTo>
                      <a:lnTo>
                        <a:pt x="656" y="665"/>
                      </a:lnTo>
                      <a:lnTo>
                        <a:pt x="652" y="667"/>
                      </a:lnTo>
                      <a:lnTo>
                        <a:pt x="753" y="213"/>
                      </a:lnTo>
                      <a:lnTo>
                        <a:pt x="753" y="209"/>
                      </a:lnTo>
                      <a:lnTo>
                        <a:pt x="753" y="207"/>
                      </a:lnTo>
                      <a:lnTo>
                        <a:pt x="753" y="203"/>
                      </a:lnTo>
                      <a:lnTo>
                        <a:pt x="753" y="201"/>
                      </a:lnTo>
                      <a:lnTo>
                        <a:pt x="753" y="198"/>
                      </a:lnTo>
                      <a:lnTo>
                        <a:pt x="753" y="196"/>
                      </a:lnTo>
                      <a:lnTo>
                        <a:pt x="753" y="192"/>
                      </a:lnTo>
                      <a:lnTo>
                        <a:pt x="753" y="190"/>
                      </a:lnTo>
                      <a:lnTo>
                        <a:pt x="753" y="188"/>
                      </a:lnTo>
                      <a:lnTo>
                        <a:pt x="753" y="184"/>
                      </a:lnTo>
                      <a:lnTo>
                        <a:pt x="753" y="182"/>
                      </a:lnTo>
                      <a:lnTo>
                        <a:pt x="753" y="181"/>
                      </a:lnTo>
                      <a:lnTo>
                        <a:pt x="753" y="175"/>
                      </a:lnTo>
                      <a:lnTo>
                        <a:pt x="753" y="169"/>
                      </a:lnTo>
                      <a:lnTo>
                        <a:pt x="751" y="167"/>
                      </a:lnTo>
                      <a:lnTo>
                        <a:pt x="751" y="163"/>
                      </a:lnTo>
                      <a:lnTo>
                        <a:pt x="751" y="162"/>
                      </a:lnTo>
                      <a:lnTo>
                        <a:pt x="750" y="160"/>
                      </a:lnTo>
                      <a:lnTo>
                        <a:pt x="748" y="154"/>
                      </a:lnTo>
                      <a:lnTo>
                        <a:pt x="746" y="148"/>
                      </a:lnTo>
                      <a:lnTo>
                        <a:pt x="744" y="144"/>
                      </a:lnTo>
                      <a:lnTo>
                        <a:pt x="742" y="141"/>
                      </a:lnTo>
                      <a:lnTo>
                        <a:pt x="740" y="135"/>
                      </a:lnTo>
                      <a:lnTo>
                        <a:pt x="738" y="131"/>
                      </a:lnTo>
                      <a:lnTo>
                        <a:pt x="734" y="127"/>
                      </a:lnTo>
                      <a:lnTo>
                        <a:pt x="730" y="124"/>
                      </a:lnTo>
                      <a:lnTo>
                        <a:pt x="727" y="120"/>
                      </a:lnTo>
                      <a:lnTo>
                        <a:pt x="725" y="116"/>
                      </a:lnTo>
                      <a:lnTo>
                        <a:pt x="721" y="112"/>
                      </a:lnTo>
                      <a:lnTo>
                        <a:pt x="717" y="108"/>
                      </a:lnTo>
                      <a:lnTo>
                        <a:pt x="713" y="105"/>
                      </a:lnTo>
                      <a:lnTo>
                        <a:pt x="710" y="103"/>
                      </a:lnTo>
                      <a:lnTo>
                        <a:pt x="704" y="99"/>
                      </a:lnTo>
                      <a:lnTo>
                        <a:pt x="700" y="97"/>
                      </a:lnTo>
                      <a:lnTo>
                        <a:pt x="694" y="95"/>
                      </a:lnTo>
                      <a:lnTo>
                        <a:pt x="691" y="91"/>
                      </a:lnTo>
                      <a:lnTo>
                        <a:pt x="685" y="89"/>
                      </a:lnTo>
                      <a:lnTo>
                        <a:pt x="681" y="87"/>
                      </a:lnTo>
                      <a:lnTo>
                        <a:pt x="675" y="86"/>
                      </a:lnTo>
                      <a:lnTo>
                        <a:pt x="672" y="86"/>
                      </a:lnTo>
                      <a:lnTo>
                        <a:pt x="668" y="84"/>
                      </a:lnTo>
                      <a:lnTo>
                        <a:pt x="666" y="84"/>
                      </a:lnTo>
                      <a:lnTo>
                        <a:pt x="664" y="84"/>
                      </a:lnTo>
                      <a:lnTo>
                        <a:pt x="660" y="84"/>
                      </a:lnTo>
                      <a:lnTo>
                        <a:pt x="658" y="84"/>
                      </a:lnTo>
                      <a:lnTo>
                        <a:pt x="654" y="84"/>
                      </a:lnTo>
                      <a:lnTo>
                        <a:pt x="652" y="84"/>
                      </a:lnTo>
                      <a:lnTo>
                        <a:pt x="651" y="84"/>
                      </a:lnTo>
                      <a:lnTo>
                        <a:pt x="647" y="84"/>
                      </a:lnTo>
                      <a:lnTo>
                        <a:pt x="645" y="84"/>
                      </a:lnTo>
                      <a:lnTo>
                        <a:pt x="643" y="84"/>
                      </a:lnTo>
                      <a:lnTo>
                        <a:pt x="639" y="84"/>
                      </a:lnTo>
                      <a:lnTo>
                        <a:pt x="635" y="84"/>
                      </a:lnTo>
                      <a:lnTo>
                        <a:pt x="630" y="84"/>
                      </a:lnTo>
                      <a:lnTo>
                        <a:pt x="628" y="84"/>
                      </a:lnTo>
                      <a:lnTo>
                        <a:pt x="624" y="86"/>
                      </a:lnTo>
                      <a:lnTo>
                        <a:pt x="622" y="86"/>
                      </a:lnTo>
                      <a:lnTo>
                        <a:pt x="618" y="86"/>
                      </a:lnTo>
                      <a:lnTo>
                        <a:pt x="614" y="87"/>
                      </a:lnTo>
                      <a:lnTo>
                        <a:pt x="609" y="89"/>
                      </a:lnTo>
                      <a:lnTo>
                        <a:pt x="603" y="91"/>
                      </a:lnTo>
                      <a:lnTo>
                        <a:pt x="599" y="95"/>
                      </a:lnTo>
                      <a:lnTo>
                        <a:pt x="595" y="97"/>
                      </a:lnTo>
                      <a:lnTo>
                        <a:pt x="592" y="99"/>
                      </a:lnTo>
                      <a:lnTo>
                        <a:pt x="586" y="103"/>
                      </a:lnTo>
                      <a:lnTo>
                        <a:pt x="582" y="105"/>
                      </a:lnTo>
                      <a:lnTo>
                        <a:pt x="578" y="108"/>
                      </a:lnTo>
                      <a:lnTo>
                        <a:pt x="574" y="112"/>
                      </a:lnTo>
                      <a:lnTo>
                        <a:pt x="571" y="116"/>
                      </a:lnTo>
                      <a:lnTo>
                        <a:pt x="567" y="120"/>
                      </a:lnTo>
                      <a:lnTo>
                        <a:pt x="565" y="124"/>
                      </a:lnTo>
                      <a:lnTo>
                        <a:pt x="563" y="127"/>
                      </a:lnTo>
                      <a:lnTo>
                        <a:pt x="559" y="131"/>
                      </a:lnTo>
                      <a:lnTo>
                        <a:pt x="555" y="135"/>
                      </a:lnTo>
                      <a:lnTo>
                        <a:pt x="554" y="141"/>
                      </a:lnTo>
                      <a:lnTo>
                        <a:pt x="552" y="146"/>
                      </a:lnTo>
                      <a:lnTo>
                        <a:pt x="550" y="150"/>
                      </a:lnTo>
                      <a:lnTo>
                        <a:pt x="548" y="156"/>
                      </a:lnTo>
                      <a:lnTo>
                        <a:pt x="546" y="158"/>
                      </a:lnTo>
                      <a:lnTo>
                        <a:pt x="546" y="160"/>
                      </a:lnTo>
                      <a:lnTo>
                        <a:pt x="544" y="163"/>
                      </a:lnTo>
                      <a:lnTo>
                        <a:pt x="544" y="167"/>
                      </a:lnTo>
                      <a:lnTo>
                        <a:pt x="361" y="1127"/>
                      </a:lnTo>
                      <a:lnTo>
                        <a:pt x="361" y="112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9" name="AutoShape 228"/>
              <p:cNvSpPr/>
              <p:nvPr/>
            </p:nvSpPr>
            <p:spPr>
              <a:xfrm flipH="1" flipV="1" rot="18688200">
                <a:off x="5059440" y="2963520"/>
                <a:ext cx="88560" cy="76680"/>
              </a:xfrm>
              <a:prstGeom prst="hexagon">
                <a:avLst>
                  <a:gd name="adj" fmla="val 28873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AutoShape 229"/>
              <p:cNvSpPr/>
              <p:nvPr/>
            </p:nvSpPr>
            <p:spPr>
              <a:xfrm flipH="1" flipV="1" rot="18719400">
                <a:off x="4728960" y="2728080"/>
                <a:ext cx="193320" cy="5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308" y="21600"/>
                    </a:lnTo>
                    <a:lnTo>
                      <a:pt x="1729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01" name="Group 230"/>
          <p:cNvGrpSpPr/>
          <p:nvPr/>
        </p:nvGrpSpPr>
        <p:grpSpPr>
          <a:xfrm>
            <a:off x="6818040" y="2394360"/>
            <a:ext cx="629280" cy="2036880"/>
            <a:chOff x="6818040" y="2394360"/>
            <a:chExt cx="629280" cy="2036880"/>
          </a:xfrm>
        </p:grpSpPr>
        <p:grpSp>
          <p:nvGrpSpPr>
            <p:cNvPr id="2802" name="Group 231"/>
            <p:cNvGrpSpPr/>
            <p:nvPr/>
          </p:nvGrpSpPr>
          <p:grpSpPr>
            <a:xfrm>
              <a:off x="6818400" y="3385440"/>
              <a:ext cx="628920" cy="1045800"/>
              <a:chOff x="6818400" y="3385440"/>
              <a:chExt cx="628920" cy="1045800"/>
            </a:xfrm>
          </p:grpSpPr>
          <p:grpSp>
            <p:nvGrpSpPr>
              <p:cNvPr id="2803" name="Group 232"/>
              <p:cNvGrpSpPr/>
              <p:nvPr/>
            </p:nvGrpSpPr>
            <p:grpSpPr>
              <a:xfrm>
                <a:off x="6818400" y="3405240"/>
                <a:ext cx="628920" cy="1026000"/>
                <a:chOff x="6818400" y="3405240"/>
                <a:chExt cx="628920" cy="1026000"/>
              </a:xfrm>
            </p:grpSpPr>
            <p:grpSp>
              <p:nvGrpSpPr>
                <p:cNvPr id="2804" name="Group 233"/>
                <p:cNvGrpSpPr/>
                <p:nvPr/>
              </p:nvGrpSpPr>
              <p:grpSpPr>
                <a:xfrm>
                  <a:off x="6818400" y="3915720"/>
                  <a:ext cx="440280" cy="515520"/>
                  <a:chOff x="6818400" y="3915720"/>
                  <a:chExt cx="440280" cy="515520"/>
                </a:xfrm>
              </p:grpSpPr>
              <p:sp>
                <p:nvSpPr>
                  <p:cNvPr id="2805" name="AutoShape 234"/>
                  <p:cNvSpPr/>
                  <p:nvPr/>
                </p:nvSpPr>
                <p:spPr>
                  <a:xfrm flipH="1" rot="10800000">
                    <a:off x="7007400" y="3915720"/>
                    <a:ext cx="2444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06" name="Group 235"/>
                  <p:cNvGrpSpPr/>
                  <p:nvPr/>
                </p:nvGrpSpPr>
                <p:grpSpPr>
                  <a:xfrm>
                    <a:off x="6818400" y="4210920"/>
                    <a:ext cx="440280" cy="220320"/>
                    <a:chOff x="6818400" y="4210920"/>
                    <a:chExt cx="440280" cy="220320"/>
                  </a:xfrm>
                </p:grpSpPr>
                <p:grpSp>
                  <p:nvGrpSpPr>
                    <p:cNvPr id="2807" name="Group 236"/>
                    <p:cNvGrpSpPr/>
                    <p:nvPr/>
                  </p:nvGrpSpPr>
                  <p:grpSpPr>
                    <a:xfrm>
                      <a:off x="6818400" y="4305960"/>
                      <a:ext cx="440280" cy="125280"/>
                      <a:chOff x="6818400" y="4305960"/>
                      <a:chExt cx="440280" cy="125280"/>
                    </a:xfrm>
                  </p:grpSpPr>
                  <p:grpSp>
                    <p:nvGrpSpPr>
                      <p:cNvPr id="2808" name="Group 237"/>
                      <p:cNvGrpSpPr/>
                      <p:nvPr/>
                    </p:nvGrpSpPr>
                    <p:grpSpPr>
                      <a:xfrm>
                        <a:off x="6825600" y="4305960"/>
                        <a:ext cx="433080" cy="125280"/>
                        <a:chOff x="6825600" y="4305960"/>
                        <a:chExt cx="433080" cy="125280"/>
                      </a:xfrm>
                    </p:grpSpPr>
                    <p:sp>
                      <p:nvSpPr>
                        <p:cNvPr id="2809" name="Rectangle 238"/>
                        <p:cNvSpPr/>
                        <p:nvPr/>
                      </p:nvSpPr>
                      <p:spPr>
                        <a:xfrm flipH="1">
                          <a:off x="6969960" y="4307040"/>
                          <a:ext cx="288720" cy="12420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0" name="Freeform 239"/>
                        <p:cNvSpPr/>
                        <p:nvPr/>
                      </p:nvSpPr>
                      <p:spPr>
                        <a:xfrm flipH="1">
                          <a:off x="6825240" y="430596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11" name=""/>
                      <p:cNvGrpSpPr/>
                      <p:nvPr/>
                    </p:nvGrpSpPr>
                    <p:grpSpPr>
                      <a:xfrm>
                        <a:off x="6818400" y="4403880"/>
                        <a:ext cx="440280" cy="360"/>
                        <a:chOff x="6818400" y="4403880"/>
                        <a:chExt cx="440280" cy="360"/>
                      </a:xfrm>
                    </p:grpSpPr>
                    <p:sp>
                      <p:nvSpPr>
                        <p:cNvPr id="2812" name="Line 240"/>
                        <p:cNvSpPr/>
                        <p:nvPr/>
                      </p:nvSpPr>
                      <p:spPr>
                        <a:xfrm flipH="1">
                          <a:off x="6818400" y="4403880"/>
                          <a:ext cx="440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3" name=""/>
                        <p:cNvSpPr txBox="1"/>
                        <p:nvPr/>
                      </p:nvSpPr>
                      <p:spPr>
                        <a:xfrm>
                          <a:off x="6818400" y="440388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14" name="Oval 241"/>
                    <p:cNvSpPr/>
                    <p:nvPr/>
                  </p:nvSpPr>
                  <p:spPr>
                    <a:xfrm flipH="1">
                      <a:off x="7093440" y="4271400"/>
                      <a:ext cx="87840" cy="97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5" name="Freeform 242"/>
                    <p:cNvSpPr/>
                    <p:nvPr/>
                  </p:nvSpPr>
                  <p:spPr>
                    <a:xfrm flipH="1" rot="10248000">
                      <a:off x="6927840" y="421920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10248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816" name="Group 243"/>
                <p:cNvGrpSpPr/>
                <p:nvPr/>
              </p:nvGrpSpPr>
              <p:grpSpPr>
                <a:xfrm>
                  <a:off x="7007040" y="3405240"/>
                  <a:ext cx="440280" cy="515520"/>
                  <a:chOff x="7007040" y="3405240"/>
                  <a:chExt cx="440280" cy="515520"/>
                </a:xfrm>
              </p:grpSpPr>
              <p:sp>
                <p:nvSpPr>
                  <p:cNvPr id="2817" name="AutoShape 244"/>
                  <p:cNvSpPr/>
                  <p:nvPr/>
                </p:nvSpPr>
                <p:spPr>
                  <a:xfrm flipH="1">
                    <a:off x="7013160" y="3529440"/>
                    <a:ext cx="24444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18" name="Group 245"/>
                  <p:cNvGrpSpPr/>
                  <p:nvPr/>
                </p:nvGrpSpPr>
                <p:grpSpPr>
                  <a:xfrm>
                    <a:off x="7007040" y="3405240"/>
                    <a:ext cx="440280" cy="220320"/>
                    <a:chOff x="7007040" y="3405240"/>
                    <a:chExt cx="440280" cy="220320"/>
                  </a:xfrm>
                </p:grpSpPr>
                <p:grpSp>
                  <p:nvGrpSpPr>
                    <p:cNvPr id="2819" name="Group 246"/>
                    <p:cNvGrpSpPr/>
                    <p:nvPr/>
                  </p:nvGrpSpPr>
                  <p:grpSpPr>
                    <a:xfrm>
                      <a:off x="7007040" y="3405240"/>
                      <a:ext cx="440280" cy="125280"/>
                      <a:chOff x="7007040" y="3405240"/>
                      <a:chExt cx="440280" cy="125280"/>
                    </a:xfrm>
                  </p:grpSpPr>
                  <p:grpSp>
                    <p:nvGrpSpPr>
                      <p:cNvPr id="2820" name="Group 247"/>
                      <p:cNvGrpSpPr/>
                      <p:nvPr/>
                    </p:nvGrpSpPr>
                    <p:grpSpPr>
                      <a:xfrm>
                        <a:off x="7007040" y="3405240"/>
                        <a:ext cx="433080" cy="125280"/>
                        <a:chOff x="7007040" y="3405240"/>
                        <a:chExt cx="433080" cy="125280"/>
                      </a:xfrm>
                    </p:grpSpPr>
                    <p:sp>
                      <p:nvSpPr>
                        <p:cNvPr id="2821" name="Rectangle 248"/>
                        <p:cNvSpPr/>
                        <p:nvPr/>
                      </p:nvSpPr>
                      <p:spPr>
                        <a:xfrm flipH="1" rot="10800000">
                          <a:off x="7007040" y="340524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2" name="Freeform 249"/>
                        <p:cNvSpPr/>
                        <p:nvPr/>
                      </p:nvSpPr>
                      <p:spPr>
                        <a:xfrm flipH="1" rot="10800000">
                          <a:off x="7295400" y="340704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23" name=""/>
                      <p:cNvGrpSpPr/>
                      <p:nvPr/>
                    </p:nvGrpSpPr>
                    <p:grpSpPr>
                      <a:xfrm>
                        <a:off x="7007040" y="3432240"/>
                        <a:ext cx="440280" cy="360"/>
                        <a:chOff x="7007040" y="3432240"/>
                        <a:chExt cx="440280" cy="360"/>
                      </a:xfrm>
                    </p:grpSpPr>
                    <p:sp>
                      <p:nvSpPr>
                        <p:cNvPr id="2824" name="Line 250"/>
                        <p:cNvSpPr/>
                        <p:nvPr/>
                      </p:nvSpPr>
                      <p:spPr>
                        <a:xfrm>
                          <a:off x="7007040" y="3432600"/>
                          <a:ext cx="44028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5" name=""/>
                        <p:cNvSpPr txBox="1"/>
                        <p:nvPr/>
                      </p:nvSpPr>
                      <p:spPr>
                        <a:xfrm rot="10800000">
                          <a:off x="7007040" y="343224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26" name="Oval 251"/>
                    <p:cNvSpPr/>
                    <p:nvPr/>
                  </p:nvSpPr>
                  <p:spPr>
                    <a:xfrm flipH="1" rot="10800000">
                      <a:off x="7084440" y="346716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7" name="Freeform 252"/>
                    <p:cNvSpPr/>
                    <p:nvPr/>
                  </p:nvSpPr>
                  <p:spPr>
                    <a:xfrm flipH="1" rot="21048000">
                      <a:off x="7219440" y="347040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28" name="Group 253"/>
              <p:cNvGrpSpPr/>
              <p:nvPr/>
            </p:nvGrpSpPr>
            <p:grpSpPr>
              <a:xfrm>
                <a:off x="6988680" y="3385440"/>
                <a:ext cx="284400" cy="627480"/>
                <a:chOff x="6988680" y="3385440"/>
                <a:chExt cx="284400" cy="627480"/>
              </a:xfrm>
            </p:grpSpPr>
            <p:grpSp>
              <p:nvGrpSpPr>
                <p:cNvPr id="2829" name="Group 254"/>
                <p:cNvGrpSpPr/>
                <p:nvPr/>
              </p:nvGrpSpPr>
              <p:grpSpPr>
                <a:xfrm>
                  <a:off x="6988680" y="3385440"/>
                  <a:ext cx="284400" cy="506880"/>
                  <a:chOff x="6988680" y="3385440"/>
                  <a:chExt cx="284400" cy="506880"/>
                </a:xfrm>
              </p:grpSpPr>
              <p:sp>
                <p:nvSpPr>
                  <p:cNvPr id="2830" name="AutoShape 255"/>
                  <p:cNvSpPr/>
                  <p:nvPr/>
                </p:nvSpPr>
                <p:spPr>
                  <a:xfrm flipH="1">
                    <a:off x="6988680" y="3501000"/>
                    <a:ext cx="28440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1" name="Oval 256"/>
                  <p:cNvSpPr/>
                  <p:nvPr/>
                </p:nvSpPr>
                <p:spPr>
                  <a:xfrm flipH="1">
                    <a:off x="6993720" y="3385440"/>
                    <a:ext cx="279360" cy="24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32" name="Oval 257"/>
                <p:cNvSpPr/>
                <p:nvPr/>
              </p:nvSpPr>
              <p:spPr>
                <a:xfrm flipH="1">
                  <a:off x="7010640" y="3776760"/>
                  <a:ext cx="244440" cy="23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ddddd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33" name="AutoShape 258"/>
              <p:cNvSpPr/>
              <p:nvPr/>
            </p:nvSpPr>
            <p:spPr>
              <a:xfrm flipH="1">
                <a:off x="7079760" y="3853440"/>
                <a:ext cx="104760" cy="90720"/>
              </a:xfrm>
              <a:prstGeom prst="hexagon">
                <a:avLst>
                  <a:gd name="adj" fmla="val 28869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4" name="Group 259"/>
            <p:cNvGrpSpPr/>
            <p:nvPr/>
          </p:nvGrpSpPr>
          <p:grpSpPr>
            <a:xfrm>
              <a:off x="6818040" y="2394360"/>
              <a:ext cx="628920" cy="1045800"/>
              <a:chOff x="6818040" y="2394360"/>
              <a:chExt cx="628920" cy="1045800"/>
            </a:xfrm>
          </p:grpSpPr>
          <p:grpSp>
            <p:nvGrpSpPr>
              <p:cNvPr id="2835" name="Group 260"/>
              <p:cNvGrpSpPr/>
              <p:nvPr/>
            </p:nvGrpSpPr>
            <p:grpSpPr>
              <a:xfrm>
                <a:off x="6818040" y="2394360"/>
                <a:ext cx="628920" cy="1026000"/>
                <a:chOff x="6818040" y="2394360"/>
                <a:chExt cx="628920" cy="1026000"/>
              </a:xfrm>
            </p:grpSpPr>
            <p:grpSp>
              <p:nvGrpSpPr>
                <p:cNvPr id="2836" name="Group 261"/>
                <p:cNvGrpSpPr/>
                <p:nvPr/>
              </p:nvGrpSpPr>
              <p:grpSpPr>
                <a:xfrm>
                  <a:off x="7006680" y="2394360"/>
                  <a:ext cx="440280" cy="515520"/>
                  <a:chOff x="7006680" y="2394360"/>
                  <a:chExt cx="440280" cy="515520"/>
                </a:xfrm>
              </p:grpSpPr>
              <p:sp>
                <p:nvSpPr>
                  <p:cNvPr id="2837" name="AutoShape 262"/>
                  <p:cNvSpPr/>
                  <p:nvPr/>
                </p:nvSpPr>
                <p:spPr>
                  <a:xfrm flipH="1">
                    <a:off x="7012800" y="2518200"/>
                    <a:ext cx="2444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38" name="Group 263"/>
                  <p:cNvGrpSpPr/>
                  <p:nvPr/>
                </p:nvGrpSpPr>
                <p:grpSpPr>
                  <a:xfrm>
                    <a:off x="7006680" y="2394360"/>
                    <a:ext cx="440280" cy="220320"/>
                    <a:chOff x="7006680" y="2394360"/>
                    <a:chExt cx="440280" cy="220320"/>
                  </a:xfrm>
                </p:grpSpPr>
                <p:grpSp>
                  <p:nvGrpSpPr>
                    <p:cNvPr id="2839" name="Group 264"/>
                    <p:cNvGrpSpPr/>
                    <p:nvPr/>
                  </p:nvGrpSpPr>
                  <p:grpSpPr>
                    <a:xfrm>
                      <a:off x="7006680" y="2394360"/>
                      <a:ext cx="440280" cy="125280"/>
                      <a:chOff x="7006680" y="2394360"/>
                      <a:chExt cx="440280" cy="125280"/>
                    </a:xfrm>
                  </p:grpSpPr>
                  <p:grpSp>
                    <p:nvGrpSpPr>
                      <p:cNvPr id="2840" name="Group 265"/>
                      <p:cNvGrpSpPr/>
                      <p:nvPr/>
                    </p:nvGrpSpPr>
                    <p:grpSpPr>
                      <a:xfrm>
                        <a:off x="7006680" y="2394360"/>
                        <a:ext cx="433080" cy="125280"/>
                        <a:chOff x="7006680" y="2394360"/>
                        <a:chExt cx="433080" cy="125280"/>
                      </a:xfrm>
                    </p:grpSpPr>
                    <p:sp>
                      <p:nvSpPr>
                        <p:cNvPr id="2841" name="Rectangle 266"/>
                        <p:cNvSpPr/>
                        <p:nvPr/>
                      </p:nvSpPr>
                      <p:spPr>
                        <a:xfrm flipH="1" rot="10800000">
                          <a:off x="7006680" y="239436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42" name="Freeform 267"/>
                        <p:cNvSpPr/>
                        <p:nvPr/>
                      </p:nvSpPr>
                      <p:spPr>
                        <a:xfrm flipH="1" rot="10800000">
                          <a:off x="7295040" y="239616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43" name=""/>
                      <p:cNvGrpSpPr/>
                      <p:nvPr/>
                    </p:nvGrpSpPr>
                    <p:grpSpPr>
                      <a:xfrm>
                        <a:off x="7006680" y="2421360"/>
                        <a:ext cx="440280" cy="360"/>
                        <a:chOff x="7006680" y="2421360"/>
                        <a:chExt cx="440280" cy="360"/>
                      </a:xfrm>
                    </p:grpSpPr>
                    <p:sp>
                      <p:nvSpPr>
                        <p:cNvPr id="2844" name="Line 268"/>
                        <p:cNvSpPr/>
                        <p:nvPr/>
                      </p:nvSpPr>
                      <p:spPr>
                        <a:xfrm>
                          <a:off x="7006680" y="2421720"/>
                          <a:ext cx="44028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45" name=""/>
                        <p:cNvSpPr txBox="1"/>
                        <p:nvPr/>
                      </p:nvSpPr>
                      <p:spPr>
                        <a:xfrm rot="10800000">
                          <a:off x="7006680" y="242136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46" name="Oval 269"/>
                    <p:cNvSpPr/>
                    <p:nvPr/>
                  </p:nvSpPr>
                  <p:spPr>
                    <a:xfrm flipH="1" rot="10800000">
                      <a:off x="7084080" y="245628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7" name="Freeform 270"/>
                    <p:cNvSpPr/>
                    <p:nvPr/>
                  </p:nvSpPr>
                  <p:spPr>
                    <a:xfrm flipH="1" rot="21048000">
                      <a:off x="7219080" y="245952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848" name="Group 271"/>
                <p:cNvGrpSpPr/>
                <p:nvPr/>
              </p:nvGrpSpPr>
              <p:grpSpPr>
                <a:xfrm>
                  <a:off x="6818040" y="2904840"/>
                  <a:ext cx="440280" cy="515520"/>
                  <a:chOff x="6818040" y="2904840"/>
                  <a:chExt cx="440280" cy="515520"/>
                </a:xfrm>
              </p:grpSpPr>
              <p:sp>
                <p:nvSpPr>
                  <p:cNvPr id="2849" name="AutoShape 272"/>
                  <p:cNvSpPr/>
                  <p:nvPr/>
                </p:nvSpPr>
                <p:spPr>
                  <a:xfrm flipH="1" rot="10800000">
                    <a:off x="7007040" y="2904840"/>
                    <a:ext cx="24444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50" name="Group 273"/>
                  <p:cNvGrpSpPr/>
                  <p:nvPr/>
                </p:nvGrpSpPr>
                <p:grpSpPr>
                  <a:xfrm>
                    <a:off x="6818040" y="3200040"/>
                    <a:ext cx="440280" cy="220320"/>
                    <a:chOff x="6818040" y="3200040"/>
                    <a:chExt cx="440280" cy="220320"/>
                  </a:xfrm>
                </p:grpSpPr>
                <p:grpSp>
                  <p:nvGrpSpPr>
                    <p:cNvPr id="2851" name="Group 274"/>
                    <p:cNvGrpSpPr/>
                    <p:nvPr/>
                  </p:nvGrpSpPr>
                  <p:grpSpPr>
                    <a:xfrm>
                      <a:off x="6818040" y="3295080"/>
                      <a:ext cx="440280" cy="125280"/>
                      <a:chOff x="6818040" y="3295080"/>
                      <a:chExt cx="440280" cy="125280"/>
                    </a:xfrm>
                  </p:grpSpPr>
                  <p:grpSp>
                    <p:nvGrpSpPr>
                      <p:cNvPr id="2852" name="Group 275"/>
                      <p:cNvGrpSpPr/>
                      <p:nvPr/>
                    </p:nvGrpSpPr>
                    <p:grpSpPr>
                      <a:xfrm>
                        <a:off x="6825240" y="3295080"/>
                        <a:ext cx="433080" cy="125280"/>
                        <a:chOff x="6825240" y="3295080"/>
                        <a:chExt cx="433080" cy="125280"/>
                      </a:xfrm>
                    </p:grpSpPr>
                    <p:sp>
                      <p:nvSpPr>
                        <p:cNvPr id="2853" name="Rectangle 276"/>
                        <p:cNvSpPr/>
                        <p:nvPr/>
                      </p:nvSpPr>
                      <p:spPr>
                        <a:xfrm flipH="1">
                          <a:off x="6969600" y="329616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54" name="Freeform 277"/>
                        <p:cNvSpPr/>
                        <p:nvPr/>
                      </p:nvSpPr>
                      <p:spPr>
                        <a:xfrm flipH="1">
                          <a:off x="6824880" y="329508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55" name=""/>
                      <p:cNvGrpSpPr/>
                      <p:nvPr/>
                    </p:nvGrpSpPr>
                    <p:grpSpPr>
                      <a:xfrm>
                        <a:off x="6818040" y="3393000"/>
                        <a:ext cx="440280" cy="360"/>
                        <a:chOff x="6818040" y="3393000"/>
                        <a:chExt cx="440280" cy="360"/>
                      </a:xfrm>
                    </p:grpSpPr>
                    <p:sp>
                      <p:nvSpPr>
                        <p:cNvPr id="2856" name="Line 278"/>
                        <p:cNvSpPr/>
                        <p:nvPr/>
                      </p:nvSpPr>
                      <p:spPr>
                        <a:xfrm flipH="1">
                          <a:off x="6818040" y="3393000"/>
                          <a:ext cx="44028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57" name=""/>
                        <p:cNvSpPr txBox="1"/>
                        <p:nvPr/>
                      </p:nvSpPr>
                      <p:spPr>
                        <a:xfrm>
                          <a:off x="6818040" y="339300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58" name="Oval 279"/>
                    <p:cNvSpPr/>
                    <p:nvPr/>
                  </p:nvSpPr>
                  <p:spPr>
                    <a:xfrm flipH="1">
                      <a:off x="7093080" y="326052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9" name="Freeform 280"/>
                    <p:cNvSpPr/>
                    <p:nvPr/>
                  </p:nvSpPr>
                  <p:spPr>
                    <a:xfrm flipH="1" rot="10247400">
                      <a:off x="6927480" y="320832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60" name="Group 281"/>
              <p:cNvGrpSpPr/>
              <p:nvPr/>
            </p:nvGrpSpPr>
            <p:grpSpPr>
              <a:xfrm>
                <a:off x="6992280" y="2812680"/>
                <a:ext cx="284400" cy="627480"/>
                <a:chOff x="6992280" y="2812680"/>
                <a:chExt cx="284400" cy="627480"/>
              </a:xfrm>
            </p:grpSpPr>
            <p:grpSp>
              <p:nvGrpSpPr>
                <p:cNvPr id="2861" name="Group 282"/>
                <p:cNvGrpSpPr/>
                <p:nvPr/>
              </p:nvGrpSpPr>
              <p:grpSpPr>
                <a:xfrm>
                  <a:off x="6992280" y="2933280"/>
                  <a:ext cx="284400" cy="506880"/>
                  <a:chOff x="6992280" y="2933280"/>
                  <a:chExt cx="284400" cy="506880"/>
                </a:xfrm>
              </p:grpSpPr>
              <p:sp>
                <p:nvSpPr>
                  <p:cNvPr id="2862" name="AutoShape 283"/>
                  <p:cNvSpPr/>
                  <p:nvPr/>
                </p:nvSpPr>
                <p:spPr>
                  <a:xfrm flipH="1" rot="10800000">
                    <a:off x="6992280" y="2933280"/>
                    <a:ext cx="28440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3" name="Oval 284"/>
                  <p:cNvSpPr/>
                  <p:nvPr/>
                </p:nvSpPr>
                <p:spPr>
                  <a:xfrm flipH="1" rot="10800000">
                    <a:off x="6992280" y="3200040"/>
                    <a:ext cx="279360" cy="2401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4" name="Oval 285"/>
                <p:cNvSpPr/>
                <p:nvPr/>
              </p:nvSpPr>
              <p:spPr>
                <a:xfrm flipH="1" rot="10800000">
                  <a:off x="7009560" y="2812680"/>
                  <a:ext cx="244440" cy="236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65" name="AutoShape 286"/>
              <p:cNvSpPr/>
              <p:nvPr/>
            </p:nvSpPr>
            <p:spPr>
              <a:xfrm flipH="1" rot="10800000">
                <a:off x="7080120" y="2881440"/>
                <a:ext cx="104760" cy="90720"/>
              </a:xfrm>
              <a:prstGeom prst="hexagon">
                <a:avLst>
                  <a:gd name="adj" fmla="val 28869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66" name="Group 287"/>
          <p:cNvGrpSpPr/>
          <p:nvPr/>
        </p:nvGrpSpPr>
        <p:grpSpPr>
          <a:xfrm>
            <a:off x="6700320" y="2001960"/>
            <a:ext cx="707040" cy="1566720"/>
            <a:chOff x="6700320" y="2001960"/>
            <a:chExt cx="707040" cy="1566720"/>
          </a:xfrm>
        </p:grpSpPr>
        <p:sp>
          <p:nvSpPr>
            <p:cNvPr id="2867" name="Oval 288"/>
            <p:cNvSpPr/>
            <p:nvPr/>
          </p:nvSpPr>
          <p:spPr>
            <a:xfrm flipH="1" rot="21214200">
              <a:off x="6809040" y="2991600"/>
              <a:ext cx="569520" cy="5468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21216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Oval 289"/>
            <p:cNvSpPr/>
            <p:nvPr/>
          </p:nvSpPr>
          <p:spPr>
            <a:xfrm flipH="1" rot="21214200">
              <a:off x="6704640" y="2498400"/>
              <a:ext cx="32760" cy="49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Oval 290"/>
            <p:cNvSpPr/>
            <p:nvPr/>
          </p:nvSpPr>
          <p:spPr>
            <a:xfrm flipH="1" rot="21214200">
              <a:off x="6732720" y="2795760"/>
              <a:ext cx="32760" cy="4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Oval 291"/>
            <p:cNvSpPr/>
            <p:nvPr/>
          </p:nvSpPr>
          <p:spPr>
            <a:xfrm flipH="1" rot="21214200">
              <a:off x="6766200" y="3091320"/>
              <a:ext cx="32760" cy="49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AutoShape 292"/>
            <p:cNvSpPr/>
            <p:nvPr/>
          </p:nvSpPr>
          <p:spPr>
            <a:xfrm flipH="1" rot="21214200">
              <a:off x="6755040" y="2336400"/>
              <a:ext cx="591840" cy="1021320"/>
            </a:xfrm>
            <a:prstGeom prst="can">
              <a:avLst>
                <a:gd name="adj" fmla="val 265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lin ang="21216000"/>
            </a:gra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Rectangle 293"/>
            <p:cNvSpPr/>
            <p:nvPr/>
          </p:nvSpPr>
          <p:spPr>
            <a:xfrm flipH="1" rot="21214200">
              <a:off x="6910560" y="2256120"/>
              <a:ext cx="149040" cy="99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21216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3" name="Group 294"/>
            <p:cNvGrpSpPr/>
            <p:nvPr/>
          </p:nvGrpSpPr>
          <p:grpSpPr>
            <a:xfrm>
              <a:off x="6871680" y="2001960"/>
              <a:ext cx="285480" cy="690480"/>
              <a:chOff x="6871680" y="2001960"/>
              <a:chExt cx="285480" cy="690480"/>
            </a:xfrm>
          </p:grpSpPr>
          <p:sp>
            <p:nvSpPr>
              <p:cNvPr id="2874" name="AutoShape 295"/>
              <p:cNvSpPr/>
              <p:nvPr/>
            </p:nvSpPr>
            <p:spPr>
              <a:xfrm flipH="1" rot="10592400">
                <a:off x="6892560" y="2007000"/>
                <a:ext cx="199800" cy="54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556" y="21600"/>
                    </a:lnTo>
                    <a:lnTo>
                      <a:pt x="20044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AutoShape 296"/>
              <p:cNvSpPr/>
              <p:nvPr/>
            </p:nvSpPr>
            <p:spPr>
              <a:xfrm flipH="1" rot="5014200">
                <a:off x="6907320" y="2439720"/>
                <a:ext cx="213120" cy="263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934" y="2201"/>
                      <a:pt x="12267" y="5080"/>
                      <a:pt x="12267" y="10800"/>
                    </a:cubicBezTo>
                    <a:cubicBezTo>
                      <a:pt x="12267" y="16520"/>
                      <a:pt x="16934" y="1939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76" name="Group 297"/>
          <p:cNvGrpSpPr/>
          <p:nvPr/>
        </p:nvGrpSpPr>
        <p:grpSpPr>
          <a:xfrm>
            <a:off x="6761160" y="2347200"/>
            <a:ext cx="653760" cy="2115720"/>
            <a:chOff x="6761160" y="2347200"/>
            <a:chExt cx="653760" cy="2115720"/>
          </a:xfrm>
        </p:grpSpPr>
        <p:grpSp>
          <p:nvGrpSpPr>
            <p:cNvPr id="2877" name="Group 298"/>
            <p:cNvGrpSpPr/>
            <p:nvPr/>
          </p:nvGrpSpPr>
          <p:grpSpPr>
            <a:xfrm>
              <a:off x="6761160" y="3376440"/>
              <a:ext cx="653760" cy="1086480"/>
              <a:chOff x="6761160" y="3376440"/>
              <a:chExt cx="653760" cy="1086480"/>
            </a:xfrm>
          </p:grpSpPr>
          <p:grpSp>
            <p:nvGrpSpPr>
              <p:cNvPr id="2878" name="Group 299"/>
              <p:cNvGrpSpPr/>
              <p:nvPr/>
            </p:nvGrpSpPr>
            <p:grpSpPr>
              <a:xfrm>
                <a:off x="6761160" y="3396600"/>
                <a:ext cx="653760" cy="1066320"/>
                <a:chOff x="6761160" y="3396600"/>
                <a:chExt cx="653760" cy="1066320"/>
              </a:xfrm>
            </p:grpSpPr>
            <p:grpSp>
              <p:nvGrpSpPr>
                <p:cNvPr id="2879" name="Group 300"/>
                <p:cNvGrpSpPr/>
                <p:nvPr/>
              </p:nvGrpSpPr>
              <p:grpSpPr>
                <a:xfrm>
                  <a:off x="6761160" y="3927240"/>
                  <a:ext cx="457920" cy="535680"/>
                  <a:chOff x="6761160" y="3927240"/>
                  <a:chExt cx="457920" cy="535680"/>
                </a:xfrm>
              </p:grpSpPr>
              <p:sp>
                <p:nvSpPr>
                  <p:cNvPr id="2880" name="AutoShape 301"/>
                  <p:cNvSpPr/>
                  <p:nvPr/>
                </p:nvSpPr>
                <p:spPr>
                  <a:xfrm flipH="1" rot="10800000">
                    <a:off x="6957720" y="392724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81" name="Group 302"/>
                  <p:cNvGrpSpPr/>
                  <p:nvPr/>
                </p:nvGrpSpPr>
                <p:grpSpPr>
                  <a:xfrm>
                    <a:off x="6761160" y="4233240"/>
                    <a:ext cx="457920" cy="229680"/>
                    <a:chOff x="6761160" y="4233240"/>
                    <a:chExt cx="457920" cy="229680"/>
                  </a:xfrm>
                </p:grpSpPr>
                <p:grpSp>
                  <p:nvGrpSpPr>
                    <p:cNvPr id="2882" name="Group 303"/>
                    <p:cNvGrpSpPr/>
                    <p:nvPr/>
                  </p:nvGrpSpPr>
                  <p:grpSpPr>
                    <a:xfrm>
                      <a:off x="6761160" y="4332600"/>
                      <a:ext cx="457920" cy="130320"/>
                      <a:chOff x="6761160" y="4332600"/>
                      <a:chExt cx="457920" cy="130320"/>
                    </a:xfrm>
                  </p:grpSpPr>
                  <p:grpSp>
                    <p:nvGrpSpPr>
                      <p:cNvPr id="2883" name="Group 304"/>
                      <p:cNvGrpSpPr/>
                      <p:nvPr/>
                    </p:nvGrpSpPr>
                    <p:grpSpPr>
                      <a:xfrm>
                        <a:off x="6768720" y="4332600"/>
                        <a:ext cx="450360" cy="130320"/>
                        <a:chOff x="6768720" y="4332600"/>
                        <a:chExt cx="450360" cy="130320"/>
                      </a:xfrm>
                    </p:grpSpPr>
                    <p:sp>
                      <p:nvSpPr>
                        <p:cNvPr id="2884" name="Rectangle 305"/>
                        <p:cNvSpPr/>
                        <p:nvPr/>
                      </p:nvSpPr>
                      <p:spPr>
                        <a:xfrm flipH="1">
                          <a:off x="6918840" y="4333680"/>
                          <a:ext cx="300240" cy="1292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5" name="Freeform 306"/>
                        <p:cNvSpPr/>
                        <p:nvPr/>
                      </p:nvSpPr>
                      <p:spPr>
                        <a:xfrm flipH="1">
                          <a:off x="6768360" y="433260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86" name=""/>
                      <p:cNvGrpSpPr/>
                      <p:nvPr/>
                    </p:nvGrpSpPr>
                    <p:grpSpPr>
                      <a:xfrm>
                        <a:off x="6761160" y="4434120"/>
                        <a:ext cx="457920" cy="360"/>
                        <a:chOff x="6761160" y="4434120"/>
                        <a:chExt cx="457920" cy="360"/>
                      </a:xfrm>
                    </p:grpSpPr>
                    <p:sp>
                      <p:nvSpPr>
                        <p:cNvPr id="2887" name="Line 307"/>
                        <p:cNvSpPr/>
                        <p:nvPr/>
                      </p:nvSpPr>
                      <p:spPr>
                        <a:xfrm flipH="1">
                          <a:off x="6761160" y="4434120"/>
                          <a:ext cx="4579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8" name=""/>
                        <p:cNvSpPr txBox="1"/>
                        <p:nvPr/>
                      </p:nvSpPr>
                      <p:spPr>
                        <a:xfrm>
                          <a:off x="6761160" y="443412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89" name="Oval 308"/>
                    <p:cNvSpPr/>
                    <p:nvPr/>
                  </p:nvSpPr>
                  <p:spPr>
                    <a:xfrm flipH="1">
                      <a:off x="7047360" y="4296600"/>
                      <a:ext cx="91080" cy="101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0" name="Freeform 309"/>
                    <p:cNvSpPr/>
                    <p:nvPr/>
                  </p:nvSpPr>
                  <p:spPr>
                    <a:xfrm flipH="1" rot="10248000">
                      <a:off x="6874920" y="424188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aeaea"/>
                        </a:gs>
                      </a:gsLst>
                      <a:lin ang="10248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891" name="Group 310"/>
                <p:cNvGrpSpPr/>
                <p:nvPr/>
              </p:nvGrpSpPr>
              <p:grpSpPr>
                <a:xfrm>
                  <a:off x="6957000" y="3396600"/>
                  <a:ext cx="457920" cy="535680"/>
                  <a:chOff x="6957000" y="3396600"/>
                  <a:chExt cx="457920" cy="535680"/>
                </a:xfrm>
              </p:grpSpPr>
              <p:sp>
                <p:nvSpPr>
                  <p:cNvPr id="2892" name="AutoShape 311"/>
                  <p:cNvSpPr/>
                  <p:nvPr/>
                </p:nvSpPr>
                <p:spPr>
                  <a:xfrm flipH="1">
                    <a:off x="6964200" y="352548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93" name="Group 312"/>
                  <p:cNvGrpSpPr/>
                  <p:nvPr/>
                </p:nvGrpSpPr>
                <p:grpSpPr>
                  <a:xfrm>
                    <a:off x="6957000" y="3396600"/>
                    <a:ext cx="457920" cy="229680"/>
                    <a:chOff x="6957000" y="3396600"/>
                    <a:chExt cx="457920" cy="229680"/>
                  </a:xfrm>
                </p:grpSpPr>
                <p:grpSp>
                  <p:nvGrpSpPr>
                    <p:cNvPr id="2894" name="Group 313"/>
                    <p:cNvGrpSpPr/>
                    <p:nvPr/>
                  </p:nvGrpSpPr>
                  <p:grpSpPr>
                    <a:xfrm>
                      <a:off x="6957000" y="3396600"/>
                      <a:ext cx="457920" cy="130320"/>
                      <a:chOff x="6957000" y="3396600"/>
                      <a:chExt cx="457920" cy="130320"/>
                    </a:xfrm>
                  </p:grpSpPr>
                  <p:grpSp>
                    <p:nvGrpSpPr>
                      <p:cNvPr id="2895" name="Group 314"/>
                      <p:cNvGrpSpPr/>
                      <p:nvPr/>
                    </p:nvGrpSpPr>
                    <p:grpSpPr>
                      <a:xfrm>
                        <a:off x="6957000" y="3396600"/>
                        <a:ext cx="450360" cy="130320"/>
                        <a:chOff x="6957000" y="3396600"/>
                        <a:chExt cx="450360" cy="130320"/>
                      </a:xfrm>
                    </p:grpSpPr>
                    <p:sp>
                      <p:nvSpPr>
                        <p:cNvPr id="2896" name="Rectangle 315"/>
                        <p:cNvSpPr/>
                        <p:nvPr/>
                      </p:nvSpPr>
                      <p:spPr>
                        <a:xfrm flipH="1" rot="10800000">
                          <a:off x="6957000" y="339660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7" name="Freeform 316"/>
                        <p:cNvSpPr/>
                        <p:nvPr/>
                      </p:nvSpPr>
                      <p:spPr>
                        <a:xfrm flipH="1" rot="10800000">
                          <a:off x="7256880" y="339840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98" name=""/>
                      <p:cNvGrpSpPr/>
                      <p:nvPr/>
                    </p:nvGrpSpPr>
                    <p:grpSpPr>
                      <a:xfrm>
                        <a:off x="6957000" y="3425040"/>
                        <a:ext cx="457920" cy="360"/>
                        <a:chOff x="6957000" y="3425040"/>
                        <a:chExt cx="457920" cy="360"/>
                      </a:xfrm>
                    </p:grpSpPr>
                    <p:sp>
                      <p:nvSpPr>
                        <p:cNvPr id="2899" name="Line 317"/>
                        <p:cNvSpPr/>
                        <p:nvPr/>
                      </p:nvSpPr>
                      <p:spPr>
                        <a:xfrm>
                          <a:off x="6957000" y="3425400"/>
                          <a:ext cx="45792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00" name=""/>
                        <p:cNvSpPr txBox="1"/>
                        <p:nvPr/>
                      </p:nvSpPr>
                      <p:spPr>
                        <a:xfrm rot="10800000">
                          <a:off x="6957000" y="342504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901" name="Oval 318"/>
                    <p:cNvSpPr/>
                    <p:nvPr/>
                  </p:nvSpPr>
                  <p:spPr>
                    <a:xfrm flipH="1" rot="10800000">
                      <a:off x="7036920" y="346140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2" name="Freeform 319"/>
                    <p:cNvSpPr/>
                    <p:nvPr/>
                  </p:nvSpPr>
                  <p:spPr>
                    <a:xfrm flipH="1" rot="21048000">
                      <a:off x="7177320" y="346500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03" name="Group 320"/>
              <p:cNvGrpSpPr/>
              <p:nvPr/>
            </p:nvGrpSpPr>
            <p:grpSpPr>
              <a:xfrm>
                <a:off x="6938280" y="3376440"/>
                <a:ext cx="295920" cy="651600"/>
                <a:chOff x="6938280" y="3376440"/>
                <a:chExt cx="295920" cy="651600"/>
              </a:xfrm>
            </p:grpSpPr>
            <p:grpSp>
              <p:nvGrpSpPr>
                <p:cNvPr id="2904" name="Group 321"/>
                <p:cNvGrpSpPr/>
                <p:nvPr/>
              </p:nvGrpSpPr>
              <p:grpSpPr>
                <a:xfrm>
                  <a:off x="6938280" y="3376440"/>
                  <a:ext cx="295920" cy="526320"/>
                  <a:chOff x="6938280" y="3376440"/>
                  <a:chExt cx="295920" cy="526320"/>
                </a:xfrm>
              </p:grpSpPr>
              <p:sp>
                <p:nvSpPr>
                  <p:cNvPr id="2905" name="AutoShape 322"/>
                  <p:cNvSpPr/>
                  <p:nvPr/>
                </p:nvSpPr>
                <p:spPr>
                  <a:xfrm flipH="1">
                    <a:off x="6938280" y="3496320"/>
                    <a:ext cx="29592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6" name="Oval 323"/>
                  <p:cNvSpPr/>
                  <p:nvPr/>
                </p:nvSpPr>
                <p:spPr>
                  <a:xfrm flipH="1">
                    <a:off x="6943320" y="3376440"/>
                    <a:ext cx="290520" cy="249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07" name="Oval 324"/>
                <p:cNvSpPr/>
                <p:nvPr/>
              </p:nvSpPr>
              <p:spPr>
                <a:xfrm flipH="1">
                  <a:off x="6961680" y="3782880"/>
                  <a:ext cx="254160" cy="245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8" name="AutoShape 325"/>
              <p:cNvSpPr/>
              <p:nvPr/>
            </p:nvSpPr>
            <p:spPr>
              <a:xfrm flipH="1">
                <a:off x="7032600" y="3862440"/>
                <a:ext cx="109080" cy="94320"/>
              </a:xfrm>
              <a:prstGeom prst="hexagon">
                <a:avLst>
                  <a:gd name="adj" fmla="val 28912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9" name="Group 326"/>
            <p:cNvGrpSpPr/>
            <p:nvPr/>
          </p:nvGrpSpPr>
          <p:grpSpPr>
            <a:xfrm>
              <a:off x="6761160" y="2347200"/>
              <a:ext cx="653760" cy="1086480"/>
              <a:chOff x="6761160" y="2347200"/>
              <a:chExt cx="653760" cy="1086480"/>
            </a:xfrm>
          </p:grpSpPr>
          <p:grpSp>
            <p:nvGrpSpPr>
              <p:cNvPr id="2910" name="Group 327"/>
              <p:cNvGrpSpPr/>
              <p:nvPr/>
            </p:nvGrpSpPr>
            <p:grpSpPr>
              <a:xfrm>
                <a:off x="6761160" y="2347200"/>
                <a:ext cx="653760" cy="1066320"/>
                <a:chOff x="6761160" y="2347200"/>
                <a:chExt cx="653760" cy="1066320"/>
              </a:xfrm>
            </p:grpSpPr>
            <p:grpSp>
              <p:nvGrpSpPr>
                <p:cNvPr id="2911" name="Group 328"/>
                <p:cNvGrpSpPr/>
                <p:nvPr/>
              </p:nvGrpSpPr>
              <p:grpSpPr>
                <a:xfrm>
                  <a:off x="6957000" y="2347200"/>
                  <a:ext cx="457920" cy="535680"/>
                  <a:chOff x="6957000" y="2347200"/>
                  <a:chExt cx="457920" cy="535680"/>
                </a:xfrm>
              </p:grpSpPr>
              <p:sp>
                <p:nvSpPr>
                  <p:cNvPr id="2912" name="AutoShape 329"/>
                  <p:cNvSpPr/>
                  <p:nvPr/>
                </p:nvSpPr>
                <p:spPr>
                  <a:xfrm flipH="1">
                    <a:off x="6964200" y="247608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13" name="Group 330"/>
                  <p:cNvGrpSpPr/>
                  <p:nvPr/>
                </p:nvGrpSpPr>
                <p:grpSpPr>
                  <a:xfrm>
                    <a:off x="6957000" y="2347200"/>
                    <a:ext cx="457920" cy="229680"/>
                    <a:chOff x="6957000" y="2347200"/>
                    <a:chExt cx="457920" cy="229680"/>
                  </a:xfrm>
                </p:grpSpPr>
                <p:grpSp>
                  <p:nvGrpSpPr>
                    <p:cNvPr id="2914" name="Group 331"/>
                    <p:cNvGrpSpPr/>
                    <p:nvPr/>
                  </p:nvGrpSpPr>
                  <p:grpSpPr>
                    <a:xfrm>
                      <a:off x="6957000" y="2347200"/>
                      <a:ext cx="457920" cy="130320"/>
                      <a:chOff x="6957000" y="2347200"/>
                      <a:chExt cx="457920" cy="130320"/>
                    </a:xfrm>
                  </p:grpSpPr>
                  <p:grpSp>
                    <p:nvGrpSpPr>
                      <p:cNvPr id="2915" name="Group 332"/>
                      <p:cNvGrpSpPr/>
                      <p:nvPr/>
                    </p:nvGrpSpPr>
                    <p:grpSpPr>
                      <a:xfrm>
                        <a:off x="6957000" y="2347200"/>
                        <a:ext cx="450360" cy="130320"/>
                        <a:chOff x="6957000" y="2347200"/>
                        <a:chExt cx="450360" cy="130320"/>
                      </a:xfrm>
                    </p:grpSpPr>
                    <p:sp>
                      <p:nvSpPr>
                        <p:cNvPr id="2916" name="Rectangle 333"/>
                        <p:cNvSpPr/>
                        <p:nvPr/>
                      </p:nvSpPr>
                      <p:spPr>
                        <a:xfrm flipH="1" rot="10800000">
                          <a:off x="6957000" y="234720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17" name="Freeform 334"/>
                        <p:cNvSpPr/>
                        <p:nvPr/>
                      </p:nvSpPr>
                      <p:spPr>
                        <a:xfrm flipH="1" rot="10800000">
                          <a:off x="7256880" y="234900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18" name=""/>
                      <p:cNvGrpSpPr/>
                      <p:nvPr/>
                    </p:nvGrpSpPr>
                    <p:grpSpPr>
                      <a:xfrm>
                        <a:off x="6957000" y="2375640"/>
                        <a:ext cx="457920" cy="360"/>
                        <a:chOff x="6957000" y="2375640"/>
                        <a:chExt cx="457920" cy="360"/>
                      </a:xfrm>
                    </p:grpSpPr>
                    <p:sp>
                      <p:nvSpPr>
                        <p:cNvPr id="2919" name="Line 335"/>
                        <p:cNvSpPr/>
                        <p:nvPr/>
                      </p:nvSpPr>
                      <p:spPr>
                        <a:xfrm>
                          <a:off x="6957000" y="2376000"/>
                          <a:ext cx="45792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20" name=""/>
                        <p:cNvSpPr txBox="1"/>
                        <p:nvPr/>
                      </p:nvSpPr>
                      <p:spPr>
                        <a:xfrm rot="10800000">
                          <a:off x="6957000" y="237564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921" name="Oval 336"/>
                    <p:cNvSpPr/>
                    <p:nvPr/>
                  </p:nvSpPr>
                  <p:spPr>
                    <a:xfrm flipH="1" rot="10800000">
                      <a:off x="7036920" y="241200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2" name="Freeform 337"/>
                    <p:cNvSpPr/>
                    <p:nvPr/>
                  </p:nvSpPr>
                  <p:spPr>
                    <a:xfrm flipH="1" rot="21048000">
                      <a:off x="7177320" y="241560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923" name="Group 338"/>
                <p:cNvGrpSpPr/>
                <p:nvPr/>
              </p:nvGrpSpPr>
              <p:grpSpPr>
                <a:xfrm>
                  <a:off x="6761160" y="2877840"/>
                  <a:ext cx="457920" cy="535680"/>
                  <a:chOff x="6761160" y="2877840"/>
                  <a:chExt cx="457920" cy="535680"/>
                </a:xfrm>
              </p:grpSpPr>
              <p:sp>
                <p:nvSpPr>
                  <p:cNvPr id="2924" name="AutoShape 339"/>
                  <p:cNvSpPr/>
                  <p:nvPr/>
                </p:nvSpPr>
                <p:spPr>
                  <a:xfrm flipH="1" rot="10800000">
                    <a:off x="6957720" y="287784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5" name="Group 340"/>
                  <p:cNvGrpSpPr/>
                  <p:nvPr/>
                </p:nvGrpSpPr>
                <p:grpSpPr>
                  <a:xfrm>
                    <a:off x="6761160" y="3183840"/>
                    <a:ext cx="457920" cy="229680"/>
                    <a:chOff x="6761160" y="3183840"/>
                    <a:chExt cx="457920" cy="229680"/>
                  </a:xfrm>
                </p:grpSpPr>
                <p:grpSp>
                  <p:nvGrpSpPr>
                    <p:cNvPr id="2926" name="Group 341"/>
                    <p:cNvGrpSpPr/>
                    <p:nvPr/>
                  </p:nvGrpSpPr>
                  <p:grpSpPr>
                    <a:xfrm>
                      <a:off x="6761160" y="3283200"/>
                      <a:ext cx="457920" cy="130320"/>
                      <a:chOff x="6761160" y="3283200"/>
                      <a:chExt cx="457920" cy="130320"/>
                    </a:xfrm>
                  </p:grpSpPr>
                  <p:grpSp>
                    <p:nvGrpSpPr>
                      <p:cNvPr id="2927" name="Group 342"/>
                      <p:cNvGrpSpPr/>
                      <p:nvPr/>
                    </p:nvGrpSpPr>
                    <p:grpSpPr>
                      <a:xfrm>
                        <a:off x="6768720" y="3283200"/>
                        <a:ext cx="450360" cy="130320"/>
                        <a:chOff x="6768720" y="3283200"/>
                        <a:chExt cx="450360" cy="130320"/>
                      </a:xfrm>
                    </p:grpSpPr>
                    <p:sp>
                      <p:nvSpPr>
                        <p:cNvPr id="2928" name="Rectangle 343"/>
                        <p:cNvSpPr/>
                        <p:nvPr/>
                      </p:nvSpPr>
                      <p:spPr>
                        <a:xfrm flipH="1">
                          <a:off x="6918840" y="328428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29" name="Freeform 344"/>
                        <p:cNvSpPr/>
                        <p:nvPr/>
                      </p:nvSpPr>
                      <p:spPr>
                        <a:xfrm flipH="1">
                          <a:off x="6768360" y="328320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30" name=""/>
                      <p:cNvGrpSpPr/>
                      <p:nvPr/>
                    </p:nvGrpSpPr>
                    <p:grpSpPr>
                      <a:xfrm>
                        <a:off x="6761160" y="3384720"/>
                        <a:ext cx="457920" cy="360"/>
                        <a:chOff x="6761160" y="3384720"/>
                        <a:chExt cx="457920" cy="360"/>
                      </a:xfrm>
                    </p:grpSpPr>
                    <p:sp>
                      <p:nvSpPr>
                        <p:cNvPr id="2931" name="Line 345"/>
                        <p:cNvSpPr/>
                        <p:nvPr/>
                      </p:nvSpPr>
                      <p:spPr>
                        <a:xfrm flipH="1">
                          <a:off x="6761160" y="3384720"/>
                          <a:ext cx="45792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32" name=""/>
                        <p:cNvSpPr txBox="1"/>
                        <p:nvPr/>
                      </p:nvSpPr>
                      <p:spPr>
                        <a:xfrm>
                          <a:off x="6761160" y="338472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933" name="Oval 346"/>
                    <p:cNvSpPr/>
                    <p:nvPr/>
                  </p:nvSpPr>
                  <p:spPr>
                    <a:xfrm flipH="1">
                      <a:off x="7047360" y="324720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4" name="Freeform 347"/>
                    <p:cNvSpPr/>
                    <p:nvPr/>
                  </p:nvSpPr>
                  <p:spPr>
                    <a:xfrm flipH="1" rot="10247400">
                      <a:off x="6874920" y="319248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35" name="Group 348"/>
              <p:cNvGrpSpPr/>
              <p:nvPr/>
            </p:nvGrpSpPr>
            <p:grpSpPr>
              <a:xfrm>
                <a:off x="6941880" y="2782080"/>
                <a:ext cx="295920" cy="651600"/>
                <a:chOff x="6941880" y="2782080"/>
                <a:chExt cx="295920" cy="651600"/>
              </a:xfrm>
            </p:grpSpPr>
            <p:grpSp>
              <p:nvGrpSpPr>
                <p:cNvPr id="2936" name="Group 349"/>
                <p:cNvGrpSpPr/>
                <p:nvPr/>
              </p:nvGrpSpPr>
              <p:grpSpPr>
                <a:xfrm>
                  <a:off x="6941880" y="2907360"/>
                  <a:ext cx="295920" cy="526320"/>
                  <a:chOff x="6941880" y="2907360"/>
                  <a:chExt cx="295920" cy="526320"/>
                </a:xfrm>
              </p:grpSpPr>
              <p:sp>
                <p:nvSpPr>
                  <p:cNvPr id="2937" name="AutoShape 350"/>
                  <p:cNvSpPr/>
                  <p:nvPr/>
                </p:nvSpPr>
                <p:spPr>
                  <a:xfrm flipH="1" rot="10800000">
                    <a:off x="6941880" y="2907360"/>
                    <a:ext cx="29592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8" name="Oval 351"/>
                  <p:cNvSpPr/>
                  <p:nvPr/>
                </p:nvSpPr>
                <p:spPr>
                  <a:xfrm flipH="1" rot="10800000">
                    <a:off x="6941520" y="3184200"/>
                    <a:ext cx="290520" cy="24948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9" name="Oval 352"/>
                <p:cNvSpPr/>
                <p:nvPr/>
              </p:nvSpPr>
              <p:spPr>
                <a:xfrm flipH="1" rot="10800000">
                  <a:off x="6960240" y="2782080"/>
                  <a:ext cx="254160" cy="245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0" name="AutoShape 353"/>
              <p:cNvSpPr/>
              <p:nvPr/>
            </p:nvSpPr>
            <p:spPr>
              <a:xfrm flipH="1" rot="10800000">
                <a:off x="7033680" y="2853360"/>
                <a:ext cx="109080" cy="94320"/>
              </a:xfrm>
              <a:prstGeom prst="hexagon">
                <a:avLst>
                  <a:gd name="adj" fmla="val 28912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41" name="Group 354"/>
          <p:cNvGrpSpPr/>
          <p:nvPr/>
        </p:nvGrpSpPr>
        <p:grpSpPr>
          <a:xfrm>
            <a:off x="6867720" y="1379520"/>
            <a:ext cx="277920" cy="1245600"/>
            <a:chOff x="6867720" y="1379520"/>
            <a:chExt cx="277920" cy="1245600"/>
          </a:xfrm>
        </p:grpSpPr>
        <p:grpSp>
          <p:nvGrpSpPr>
            <p:cNvPr id="2942" name="Group 355"/>
            <p:cNvGrpSpPr/>
            <p:nvPr/>
          </p:nvGrpSpPr>
          <p:grpSpPr>
            <a:xfrm>
              <a:off x="6867720" y="2014560"/>
              <a:ext cx="241200" cy="610560"/>
              <a:chOff x="6867720" y="2014560"/>
              <a:chExt cx="241200" cy="610560"/>
            </a:xfrm>
          </p:grpSpPr>
          <p:sp>
            <p:nvSpPr>
              <p:cNvPr id="2943" name="AutoShape 356"/>
              <p:cNvSpPr/>
              <p:nvPr/>
            </p:nvSpPr>
            <p:spPr>
              <a:xfrm flipH="1" rot="10893000">
                <a:off x="6901200" y="2016720"/>
                <a:ext cx="179640" cy="491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556" y="21600"/>
                    </a:lnTo>
                    <a:lnTo>
                      <a:pt x="20044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AutoShape 357"/>
              <p:cNvSpPr/>
              <p:nvPr/>
            </p:nvSpPr>
            <p:spPr>
              <a:xfrm flipH="1" rot="5314800">
                <a:off x="6892200" y="2408040"/>
                <a:ext cx="191880" cy="236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934" y="2201"/>
                      <a:pt x="12267" y="5080"/>
                      <a:pt x="12267" y="10800"/>
                    </a:cubicBezTo>
                    <a:cubicBezTo>
                      <a:pt x="12267" y="16520"/>
                      <a:pt x="16934" y="1939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5" name="Group 358"/>
            <p:cNvGrpSpPr/>
            <p:nvPr/>
          </p:nvGrpSpPr>
          <p:grpSpPr>
            <a:xfrm>
              <a:off x="6892200" y="1379520"/>
              <a:ext cx="253440" cy="748080"/>
              <a:chOff x="6892200" y="1379520"/>
              <a:chExt cx="253440" cy="748080"/>
            </a:xfrm>
          </p:grpSpPr>
          <p:sp>
            <p:nvSpPr>
              <p:cNvPr id="2946" name="AutoShape 359"/>
              <p:cNvSpPr/>
              <p:nvPr/>
            </p:nvSpPr>
            <p:spPr>
              <a:xfrm flipH="1" rot="10878000">
                <a:off x="6912360" y="1634400"/>
                <a:ext cx="180000" cy="360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308" y="21600"/>
                    </a:lnTo>
                    <a:lnTo>
                      <a:pt x="17292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Oval 360"/>
              <p:cNvSpPr/>
              <p:nvPr/>
            </p:nvSpPr>
            <p:spPr>
              <a:xfrm flipH="1" rot="10339200">
                <a:off x="6903720" y="1924920"/>
                <a:ext cx="187200" cy="1908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Freeform 361"/>
              <p:cNvSpPr/>
              <p:nvPr/>
            </p:nvSpPr>
            <p:spPr>
              <a:xfrm flipH="1" rot="844200">
                <a:off x="6937920" y="1396080"/>
                <a:ext cx="175320" cy="288000"/>
              </a:xfrm>
              <a:custGeom>
                <a:avLst/>
                <a:gdLst/>
                <a:ahLst/>
                <a:rect l="l" t="t" r="r" b="b"/>
                <a:pathLst>
                  <a:path w="1402" h="2302">
                    <a:moveTo>
                      <a:pt x="361" y="1127"/>
                    </a:moveTo>
                    <a:lnTo>
                      <a:pt x="280" y="1116"/>
                    </a:lnTo>
                    <a:lnTo>
                      <a:pt x="373" y="711"/>
                    </a:lnTo>
                    <a:lnTo>
                      <a:pt x="373" y="709"/>
                    </a:lnTo>
                    <a:lnTo>
                      <a:pt x="375" y="705"/>
                    </a:lnTo>
                    <a:lnTo>
                      <a:pt x="375" y="703"/>
                    </a:lnTo>
                    <a:lnTo>
                      <a:pt x="375" y="700"/>
                    </a:lnTo>
                    <a:lnTo>
                      <a:pt x="375" y="698"/>
                    </a:lnTo>
                    <a:lnTo>
                      <a:pt x="375" y="696"/>
                    </a:lnTo>
                    <a:lnTo>
                      <a:pt x="375" y="692"/>
                    </a:lnTo>
                    <a:lnTo>
                      <a:pt x="375" y="690"/>
                    </a:lnTo>
                    <a:lnTo>
                      <a:pt x="375" y="684"/>
                    </a:lnTo>
                    <a:lnTo>
                      <a:pt x="375" y="681"/>
                    </a:lnTo>
                    <a:lnTo>
                      <a:pt x="375" y="675"/>
                    </a:lnTo>
                    <a:lnTo>
                      <a:pt x="375" y="669"/>
                    </a:lnTo>
                    <a:lnTo>
                      <a:pt x="371" y="665"/>
                    </a:lnTo>
                    <a:lnTo>
                      <a:pt x="371" y="660"/>
                    </a:lnTo>
                    <a:lnTo>
                      <a:pt x="369" y="654"/>
                    </a:lnTo>
                    <a:lnTo>
                      <a:pt x="367" y="652"/>
                    </a:lnTo>
                    <a:lnTo>
                      <a:pt x="365" y="646"/>
                    </a:lnTo>
                    <a:lnTo>
                      <a:pt x="363" y="641"/>
                    </a:lnTo>
                    <a:lnTo>
                      <a:pt x="361" y="637"/>
                    </a:lnTo>
                    <a:lnTo>
                      <a:pt x="358" y="633"/>
                    </a:lnTo>
                    <a:lnTo>
                      <a:pt x="356" y="629"/>
                    </a:lnTo>
                    <a:lnTo>
                      <a:pt x="354" y="623"/>
                    </a:lnTo>
                    <a:lnTo>
                      <a:pt x="350" y="620"/>
                    </a:lnTo>
                    <a:lnTo>
                      <a:pt x="346" y="616"/>
                    </a:lnTo>
                    <a:lnTo>
                      <a:pt x="342" y="612"/>
                    </a:lnTo>
                    <a:lnTo>
                      <a:pt x="339" y="610"/>
                    </a:lnTo>
                    <a:lnTo>
                      <a:pt x="335" y="606"/>
                    </a:lnTo>
                    <a:lnTo>
                      <a:pt x="331" y="603"/>
                    </a:lnTo>
                    <a:lnTo>
                      <a:pt x="325" y="601"/>
                    </a:lnTo>
                    <a:lnTo>
                      <a:pt x="321" y="597"/>
                    </a:lnTo>
                    <a:lnTo>
                      <a:pt x="318" y="595"/>
                    </a:lnTo>
                    <a:lnTo>
                      <a:pt x="312" y="593"/>
                    </a:lnTo>
                    <a:lnTo>
                      <a:pt x="306" y="591"/>
                    </a:lnTo>
                    <a:lnTo>
                      <a:pt x="302" y="589"/>
                    </a:lnTo>
                    <a:lnTo>
                      <a:pt x="299" y="589"/>
                    </a:lnTo>
                    <a:lnTo>
                      <a:pt x="295" y="587"/>
                    </a:lnTo>
                    <a:lnTo>
                      <a:pt x="291" y="587"/>
                    </a:lnTo>
                    <a:lnTo>
                      <a:pt x="287" y="585"/>
                    </a:lnTo>
                    <a:lnTo>
                      <a:pt x="285" y="585"/>
                    </a:lnTo>
                    <a:lnTo>
                      <a:pt x="283" y="585"/>
                    </a:lnTo>
                    <a:lnTo>
                      <a:pt x="280" y="585"/>
                    </a:lnTo>
                    <a:lnTo>
                      <a:pt x="276" y="585"/>
                    </a:lnTo>
                    <a:lnTo>
                      <a:pt x="274" y="585"/>
                    </a:lnTo>
                    <a:lnTo>
                      <a:pt x="272" y="585"/>
                    </a:lnTo>
                    <a:lnTo>
                      <a:pt x="268" y="585"/>
                    </a:lnTo>
                    <a:lnTo>
                      <a:pt x="266" y="585"/>
                    </a:lnTo>
                    <a:lnTo>
                      <a:pt x="263" y="585"/>
                    </a:lnTo>
                    <a:lnTo>
                      <a:pt x="261" y="587"/>
                    </a:lnTo>
                    <a:lnTo>
                      <a:pt x="259" y="587"/>
                    </a:lnTo>
                    <a:lnTo>
                      <a:pt x="255" y="587"/>
                    </a:lnTo>
                    <a:lnTo>
                      <a:pt x="253" y="589"/>
                    </a:lnTo>
                    <a:lnTo>
                      <a:pt x="249" y="589"/>
                    </a:lnTo>
                    <a:lnTo>
                      <a:pt x="247" y="589"/>
                    </a:lnTo>
                    <a:lnTo>
                      <a:pt x="243" y="591"/>
                    </a:lnTo>
                    <a:lnTo>
                      <a:pt x="240" y="591"/>
                    </a:lnTo>
                    <a:lnTo>
                      <a:pt x="238" y="593"/>
                    </a:lnTo>
                    <a:lnTo>
                      <a:pt x="236" y="595"/>
                    </a:lnTo>
                    <a:lnTo>
                      <a:pt x="232" y="595"/>
                    </a:lnTo>
                    <a:lnTo>
                      <a:pt x="230" y="597"/>
                    </a:lnTo>
                    <a:lnTo>
                      <a:pt x="228" y="599"/>
                    </a:lnTo>
                    <a:lnTo>
                      <a:pt x="224" y="601"/>
                    </a:lnTo>
                    <a:lnTo>
                      <a:pt x="223" y="601"/>
                    </a:lnTo>
                    <a:lnTo>
                      <a:pt x="219" y="603"/>
                    </a:lnTo>
                    <a:lnTo>
                      <a:pt x="217" y="604"/>
                    </a:lnTo>
                    <a:lnTo>
                      <a:pt x="211" y="608"/>
                    </a:lnTo>
                    <a:lnTo>
                      <a:pt x="207" y="612"/>
                    </a:lnTo>
                    <a:lnTo>
                      <a:pt x="204" y="616"/>
                    </a:lnTo>
                    <a:lnTo>
                      <a:pt x="198" y="618"/>
                    </a:lnTo>
                    <a:lnTo>
                      <a:pt x="194" y="623"/>
                    </a:lnTo>
                    <a:lnTo>
                      <a:pt x="188" y="627"/>
                    </a:lnTo>
                    <a:lnTo>
                      <a:pt x="185" y="633"/>
                    </a:lnTo>
                    <a:lnTo>
                      <a:pt x="181" y="637"/>
                    </a:lnTo>
                    <a:lnTo>
                      <a:pt x="177" y="641"/>
                    </a:lnTo>
                    <a:lnTo>
                      <a:pt x="173" y="646"/>
                    </a:lnTo>
                    <a:lnTo>
                      <a:pt x="169" y="652"/>
                    </a:lnTo>
                    <a:lnTo>
                      <a:pt x="166" y="656"/>
                    </a:lnTo>
                    <a:lnTo>
                      <a:pt x="162" y="662"/>
                    </a:lnTo>
                    <a:lnTo>
                      <a:pt x="160" y="665"/>
                    </a:lnTo>
                    <a:lnTo>
                      <a:pt x="158" y="669"/>
                    </a:lnTo>
                    <a:lnTo>
                      <a:pt x="158" y="671"/>
                    </a:lnTo>
                    <a:lnTo>
                      <a:pt x="156" y="673"/>
                    </a:lnTo>
                    <a:lnTo>
                      <a:pt x="154" y="677"/>
                    </a:lnTo>
                    <a:lnTo>
                      <a:pt x="152" y="679"/>
                    </a:lnTo>
                    <a:lnTo>
                      <a:pt x="152" y="681"/>
                    </a:lnTo>
                    <a:lnTo>
                      <a:pt x="150" y="684"/>
                    </a:lnTo>
                    <a:lnTo>
                      <a:pt x="150" y="688"/>
                    </a:lnTo>
                    <a:lnTo>
                      <a:pt x="146" y="694"/>
                    </a:lnTo>
                    <a:lnTo>
                      <a:pt x="145" y="701"/>
                    </a:lnTo>
                    <a:lnTo>
                      <a:pt x="143" y="709"/>
                    </a:lnTo>
                    <a:lnTo>
                      <a:pt x="139" y="717"/>
                    </a:lnTo>
                    <a:lnTo>
                      <a:pt x="137" y="724"/>
                    </a:lnTo>
                    <a:lnTo>
                      <a:pt x="135" y="732"/>
                    </a:lnTo>
                    <a:lnTo>
                      <a:pt x="131" y="739"/>
                    </a:lnTo>
                    <a:lnTo>
                      <a:pt x="129" y="747"/>
                    </a:lnTo>
                    <a:lnTo>
                      <a:pt x="126" y="755"/>
                    </a:lnTo>
                    <a:lnTo>
                      <a:pt x="124" y="760"/>
                    </a:lnTo>
                    <a:lnTo>
                      <a:pt x="122" y="768"/>
                    </a:lnTo>
                    <a:lnTo>
                      <a:pt x="120" y="776"/>
                    </a:lnTo>
                    <a:lnTo>
                      <a:pt x="116" y="781"/>
                    </a:lnTo>
                    <a:lnTo>
                      <a:pt x="114" y="789"/>
                    </a:lnTo>
                    <a:lnTo>
                      <a:pt x="112" y="796"/>
                    </a:lnTo>
                    <a:lnTo>
                      <a:pt x="110" y="804"/>
                    </a:lnTo>
                    <a:lnTo>
                      <a:pt x="107" y="812"/>
                    </a:lnTo>
                    <a:lnTo>
                      <a:pt x="107" y="817"/>
                    </a:lnTo>
                    <a:lnTo>
                      <a:pt x="103" y="823"/>
                    </a:lnTo>
                    <a:lnTo>
                      <a:pt x="101" y="831"/>
                    </a:lnTo>
                    <a:lnTo>
                      <a:pt x="97" y="836"/>
                    </a:lnTo>
                    <a:lnTo>
                      <a:pt x="97" y="844"/>
                    </a:lnTo>
                    <a:lnTo>
                      <a:pt x="93" y="852"/>
                    </a:lnTo>
                    <a:lnTo>
                      <a:pt x="93" y="857"/>
                    </a:lnTo>
                    <a:lnTo>
                      <a:pt x="89" y="865"/>
                    </a:lnTo>
                    <a:lnTo>
                      <a:pt x="88" y="871"/>
                    </a:lnTo>
                    <a:lnTo>
                      <a:pt x="86" y="878"/>
                    </a:lnTo>
                    <a:lnTo>
                      <a:pt x="84" y="884"/>
                    </a:lnTo>
                    <a:lnTo>
                      <a:pt x="82" y="892"/>
                    </a:lnTo>
                    <a:lnTo>
                      <a:pt x="80" y="899"/>
                    </a:lnTo>
                    <a:lnTo>
                      <a:pt x="78" y="907"/>
                    </a:lnTo>
                    <a:lnTo>
                      <a:pt x="74" y="912"/>
                    </a:lnTo>
                    <a:lnTo>
                      <a:pt x="72" y="920"/>
                    </a:lnTo>
                    <a:lnTo>
                      <a:pt x="72" y="926"/>
                    </a:lnTo>
                    <a:lnTo>
                      <a:pt x="68" y="931"/>
                    </a:lnTo>
                    <a:lnTo>
                      <a:pt x="67" y="939"/>
                    </a:lnTo>
                    <a:lnTo>
                      <a:pt x="65" y="945"/>
                    </a:lnTo>
                    <a:lnTo>
                      <a:pt x="63" y="952"/>
                    </a:lnTo>
                    <a:lnTo>
                      <a:pt x="59" y="958"/>
                    </a:lnTo>
                    <a:lnTo>
                      <a:pt x="57" y="966"/>
                    </a:lnTo>
                    <a:lnTo>
                      <a:pt x="55" y="971"/>
                    </a:lnTo>
                    <a:lnTo>
                      <a:pt x="53" y="979"/>
                    </a:lnTo>
                    <a:lnTo>
                      <a:pt x="51" y="987"/>
                    </a:lnTo>
                    <a:lnTo>
                      <a:pt x="49" y="994"/>
                    </a:lnTo>
                    <a:lnTo>
                      <a:pt x="48" y="1000"/>
                    </a:lnTo>
                    <a:lnTo>
                      <a:pt x="46" y="1007"/>
                    </a:lnTo>
                    <a:lnTo>
                      <a:pt x="44" y="1015"/>
                    </a:lnTo>
                    <a:lnTo>
                      <a:pt x="42" y="1021"/>
                    </a:lnTo>
                    <a:lnTo>
                      <a:pt x="42" y="1028"/>
                    </a:lnTo>
                    <a:lnTo>
                      <a:pt x="38" y="1036"/>
                    </a:lnTo>
                    <a:lnTo>
                      <a:pt x="36" y="1042"/>
                    </a:lnTo>
                    <a:lnTo>
                      <a:pt x="36" y="1049"/>
                    </a:lnTo>
                    <a:lnTo>
                      <a:pt x="34" y="1057"/>
                    </a:lnTo>
                    <a:lnTo>
                      <a:pt x="30" y="1063"/>
                    </a:lnTo>
                    <a:lnTo>
                      <a:pt x="30" y="1070"/>
                    </a:lnTo>
                    <a:lnTo>
                      <a:pt x="29" y="1078"/>
                    </a:lnTo>
                    <a:lnTo>
                      <a:pt x="27" y="1085"/>
                    </a:lnTo>
                    <a:lnTo>
                      <a:pt x="25" y="1093"/>
                    </a:lnTo>
                    <a:lnTo>
                      <a:pt x="23" y="1101"/>
                    </a:lnTo>
                    <a:lnTo>
                      <a:pt x="21" y="1108"/>
                    </a:lnTo>
                    <a:lnTo>
                      <a:pt x="19" y="1116"/>
                    </a:lnTo>
                    <a:lnTo>
                      <a:pt x="17" y="1123"/>
                    </a:lnTo>
                    <a:lnTo>
                      <a:pt x="17" y="1131"/>
                    </a:lnTo>
                    <a:lnTo>
                      <a:pt x="15" y="1139"/>
                    </a:lnTo>
                    <a:lnTo>
                      <a:pt x="13" y="1148"/>
                    </a:lnTo>
                    <a:lnTo>
                      <a:pt x="10" y="1158"/>
                    </a:lnTo>
                    <a:lnTo>
                      <a:pt x="10" y="1165"/>
                    </a:lnTo>
                    <a:lnTo>
                      <a:pt x="8" y="1175"/>
                    </a:lnTo>
                    <a:lnTo>
                      <a:pt x="6" y="1182"/>
                    </a:lnTo>
                    <a:lnTo>
                      <a:pt x="6" y="1192"/>
                    </a:lnTo>
                    <a:lnTo>
                      <a:pt x="4" y="1201"/>
                    </a:lnTo>
                    <a:lnTo>
                      <a:pt x="2" y="1211"/>
                    </a:lnTo>
                    <a:lnTo>
                      <a:pt x="2" y="1218"/>
                    </a:lnTo>
                    <a:lnTo>
                      <a:pt x="0" y="1230"/>
                    </a:lnTo>
                    <a:lnTo>
                      <a:pt x="0" y="1237"/>
                    </a:lnTo>
                    <a:lnTo>
                      <a:pt x="0" y="1247"/>
                    </a:lnTo>
                    <a:lnTo>
                      <a:pt x="0" y="1257"/>
                    </a:lnTo>
                    <a:lnTo>
                      <a:pt x="0" y="1268"/>
                    </a:lnTo>
                    <a:lnTo>
                      <a:pt x="0" y="1276"/>
                    </a:lnTo>
                    <a:lnTo>
                      <a:pt x="0" y="1285"/>
                    </a:lnTo>
                    <a:lnTo>
                      <a:pt x="0" y="1296"/>
                    </a:lnTo>
                    <a:lnTo>
                      <a:pt x="0" y="1304"/>
                    </a:lnTo>
                    <a:lnTo>
                      <a:pt x="0" y="1314"/>
                    </a:lnTo>
                    <a:lnTo>
                      <a:pt x="0" y="1323"/>
                    </a:lnTo>
                    <a:lnTo>
                      <a:pt x="0" y="1333"/>
                    </a:lnTo>
                    <a:lnTo>
                      <a:pt x="2" y="1342"/>
                    </a:lnTo>
                    <a:lnTo>
                      <a:pt x="2" y="1352"/>
                    </a:lnTo>
                    <a:lnTo>
                      <a:pt x="4" y="1363"/>
                    </a:lnTo>
                    <a:lnTo>
                      <a:pt x="4" y="1371"/>
                    </a:lnTo>
                    <a:lnTo>
                      <a:pt x="6" y="1382"/>
                    </a:lnTo>
                    <a:lnTo>
                      <a:pt x="8" y="1390"/>
                    </a:lnTo>
                    <a:lnTo>
                      <a:pt x="8" y="1401"/>
                    </a:lnTo>
                    <a:lnTo>
                      <a:pt x="10" y="1409"/>
                    </a:lnTo>
                    <a:lnTo>
                      <a:pt x="11" y="1420"/>
                    </a:lnTo>
                    <a:lnTo>
                      <a:pt x="13" y="1429"/>
                    </a:lnTo>
                    <a:lnTo>
                      <a:pt x="15" y="1439"/>
                    </a:lnTo>
                    <a:lnTo>
                      <a:pt x="17" y="1448"/>
                    </a:lnTo>
                    <a:lnTo>
                      <a:pt x="19" y="1458"/>
                    </a:lnTo>
                    <a:lnTo>
                      <a:pt x="21" y="1468"/>
                    </a:lnTo>
                    <a:lnTo>
                      <a:pt x="23" y="1477"/>
                    </a:lnTo>
                    <a:lnTo>
                      <a:pt x="27" y="1487"/>
                    </a:lnTo>
                    <a:lnTo>
                      <a:pt x="29" y="1496"/>
                    </a:lnTo>
                    <a:lnTo>
                      <a:pt x="30" y="1506"/>
                    </a:lnTo>
                    <a:lnTo>
                      <a:pt x="34" y="1515"/>
                    </a:lnTo>
                    <a:lnTo>
                      <a:pt x="36" y="1525"/>
                    </a:lnTo>
                    <a:lnTo>
                      <a:pt x="38" y="1534"/>
                    </a:lnTo>
                    <a:lnTo>
                      <a:pt x="42" y="1544"/>
                    </a:lnTo>
                    <a:lnTo>
                      <a:pt x="46" y="1553"/>
                    </a:lnTo>
                    <a:lnTo>
                      <a:pt x="48" y="1561"/>
                    </a:lnTo>
                    <a:lnTo>
                      <a:pt x="51" y="1572"/>
                    </a:lnTo>
                    <a:lnTo>
                      <a:pt x="55" y="1580"/>
                    </a:lnTo>
                    <a:lnTo>
                      <a:pt x="59" y="1589"/>
                    </a:lnTo>
                    <a:lnTo>
                      <a:pt x="63" y="1599"/>
                    </a:lnTo>
                    <a:lnTo>
                      <a:pt x="67" y="1608"/>
                    </a:lnTo>
                    <a:lnTo>
                      <a:pt x="68" y="1616"/>
                    </a:lnTo>
                    <a:lnTo>
                      <a:pt x="74" y="1627"/>
                    </a:lnTo>
                    <a:lnTo>
                      <a:pt x="78" y="1635"/>
                    </a:lnTo>
                    <a:lnTo>
                      <a:pt x="82" y="1644"/>
                    </a:lnTo>
                    <a:lnTo>
                      <a:pt x="86" y="1652"/>
                    </a:lnTo>
                    <a:lnTo>
                      <a:pt x="89" y="1661"/>
                    </a:lnTo>
                    <a:lnTo>
                      <a:pt x="95" y="1669"/>
                    </a:lnTo>
                    <a:lnTo>
                      <a:pt x="99" y="1679"/>
                    </a:lnTo>
                    <a:lnTo>
                      <a:pt x="103" y="1688"/>
                    </a:lnTo>
                    <a:lnTo>
                      <a:pt x="108" y="1696"/>
                    </a:lnTo>
                    <a:lnTo>
                      <a:pt x="114" y="1703"/>
                    </a:lnTo>
                    <a:lnTo>
                      <a:pt x="118" y="1713"/>
                    </a:lnTo>
                    <a:lnTo>
                      <a:pt x="124" y="1722"/>
                    </a:lnTo>
                    <a:lnTo>
                      <a:pt x="127" y="1732"/>
                    </a:lnTo>
                    <a:lnTo>
                      <a:pt x="131" y="1736"/>
                    </a:lnTo>
                    <a:lnTo>
                      <a:pt x="135" y="1739"/>
                    </a:lnTo>
                    <a:lnTo>
                      <a:pt x="135" y="1743"/>
                    </a:lnTo>
                    <a:lnTo>
                      <a:pt x="137" y="1745"/>
                    </a:lnTo>
                    <a:lnTo>
                      <a:pt x="139" y="1747"/>
                    </a:lnTo>
                    <a:lnTo>
                      <a:pt x="141" y="1751"/>
                    </a:lnTo>
                    <a:lnTo>
                      <a:pt x="143" y="1755"/>
                    </a:lnTo>
                    <a:lnTo>
                      <a:pt x="143" y="1756"/>
                    </a:lnTo>
                    <a:lnTo>
                      <a:pt x="145" y="1760"/>
                    </a:lnTo>
                    <a:lnTo>
                      <a:pt x="146" y="1762"/>
                    </a:lnTo>
                    <a:lnTo>
                      <a:pt x="148" y="1766"/>
                    </a:lnTo>
                    <a:lnTo>
                      <a:pt x="150" y="1768"/>
                    </a:lnTo>
                    <a:lnTo>
                      <a:pt x="152" y="1770"/>
                    </a:lnTo>
                    <a:lnTo>
                      <a:pt x="156" y="1774"/>
                    </a:lnTo>
                    <a:lnTo>
                      <a:pt x="158" y="1777"/>
                    </a:lnTo>
                    <a:lnTo>
                      <a:pt x="160" y="1779"/>
                    </a:lnTo>
                    <a:lnTo>
                      <a:pt x="160" y="1783"/>
                    </a:lnTo>
                    <a:lnTo>
                      <a:pt x="162" y="1787"/>
                    </a:lnTo>
                    <a:lnTo>
                      <a:pt x="166" y="1789"/>
                    </a:lnTo>
                    <a:lnTo>
                      <a:pt x="166" y="1791"/>
                    </a:lnTo>
                    <a:lnTo>
                      <a:pt x="167" y="1794"/>
                    </a:lnTo>
                    <a:lnTo>
                      <a:pt x="169" y="1796"/>
                    </a:lnTo>
                    <a:lnTo>
                      <a:pt x="171" y="1800"/>
                    </a:lnTo>
                    <a:lnTo>
                      <a:pt x="173" y="1802"/>
                    </a:lnTo>
                    <a:lnTo>
                      <a:pt x="175" y="1806"/>
                    </a:lnTo>
                    <a:lnTo>
                      <a:pt x="177" y="1808"/>
                    </a:lnTo>
                    <a:lnTo>
                      <a:pt x="179" y="1812"/>
                    </a:lnTo>
                    <a:lnTo>
                      <a:pt x="181" y="1815"/>
                    </a:lnTo>
                    <a:lnTo>
                      <a:pt x="183" y="1817"/>
                    </a:lnTo>
                    <a:lnTo>
                      <a:pt x="185" y="1821"/>
                    </a:lnTo>
                    <a:lnTo>
                      <a:pt x="188" y="1827"/>
                    </a:lnTo>
                    <a:lnTo>
                      <a:pt x="190" y="1831"/>
                    </a:lnTo>
                    <a:lnTo>
                      <a:pt x="194" y="1836"/>
                    </a:lnTo>
                    <a:lnTo>
                      <a:pt x="198" y="1842"/>
                    </a:lnTo>
                    <a:lnTo>
                      <a:pt x="200" y="1846"/>
                    </a:lnTo>
                    <a:lnTo>
                      <a:pt x="204" y="1850"/>
                    </a:lnTo>
                    <a:lnTo>
                      <a:pt x="205" y="1853"/>
                    </a:lnTo>
                    <a:lnTo>
                      <a:pt x="207" y="1859"/>
                    </a:lnTo>
                    <a:lnTo>
                      <a:pt x="209" y="1861"/>
                    </a:lnTo>
                    <a:lnTo>
                      <a:pt x="211" y="1863"/>
                    </a:lnTo>
                    <a:lnTo>
                      <a:pt x="213" y="1867"/>
                    </a:lnTo>
                    <a:lnTo>
                      <a:pt x="215" y="1869"/>
                    </a:lnTo>
                    <a:lnTo>
                      <a:pt x="217" y="1870"/>
                    </a:lnTo>
                    <a:lnTo>
                      <a:pt x="219" y="1874"/>
                    </a:lnTo>
                    <a:lnTo>
                      <a:pt x="141" y="2163"/>
                    </a:lnTo>
                    <a:lnTo>
                      <a:pt x="143" y="2165"/>
                    </a:lnTo>
                    <a:lnTo>
                      <a:pt x="146" y="2165"/>
                    </a:lnTo>
                    <a:lnTo>
                      <a:pt x="150" y="2167"/>
                    </a:lnTo>
                    <a:lnTo>
                      <a:pt x="152" y="2167"/>
                    </a:lnTo>
                    <a:lnTo>
                      <a:pt x="154" y="2167"/>
                    </a:lnTo>
                    <a:lnTo>
                      <a:pt x="158" y="2167"/>
                    </a:lnTo>
                    <a:lnTo>
                      <a:pt x="162" y="2171"/>
                    </a:lnTo>
                    <a:lnTo>
                      <a:pt x="166" y="2171"/>
                    </a:lnTo>
                    <a:lnTo>
                      <a:pt x="167" y="2173"/>
                    </a:lnTo>
                    <a:lnTo>
                      <a:pt x="171" y="2173"/>
                    </a:lnTo>
                    <a:lnTo>
                      <a:pt x="175" y="2175"/>
                    </a:lnTo>
                    <a:lnTo>
                      <a:pt x="181" y="2175"/>
                    </a:lnTo>
                    <a:lnTo>
                      <a:pt x="185" y="2175"/>
                    </a:lnTo>
                    <a:lnTo>
                      <a:pt x="188" y="2177"/>
                    </a:lnTo>
                    <a:lnTo>
                      <a:pt x="194" y="2180"/>
                    </a:lnTo>
                    <a:lnTo>
                      <a:pt x="198" y="2180"/>
                    </a:lnTo>
                    <a:lnTo>
                      <a:pt x="204" y="2182"/>
                    </a:lnTo>
                    <a:lnTo>
                      <a:pt x="209" y="2182"/>
                    </a:lnTo>
                    <a:lnTo>
                      <a:pt x="215" y="2184"/>
                    </a:lnTo>
                    <a:lnTo>
                      <a:pt x="219" y="2186"/>
                    </a:lnTo>
                    <a:lnTo>
                      <a:pt x="224" y="2188"/>
                    </a:lnTo>
                    <a:lnTo>
                      <a:pt x="232" y="2188"/>
                    </a:lnTo>
                    <a:lnTo>
                      <a:pt x="238" y="2190"/>
                    </a:lnTo>
                    <a:lnTo>
                      <a:pt x="243" y="2190"/>
                    </a:lnTo>
                    <a:lnTo>
                      <a:pt x="251" y="2192"/>
                    </a:lnTo>
                    <a:lnTo>
                      <a:pt x="257" y="2194"/>
                    </a:lnTo>
                    <a:lnTo>
                      <a:pt x="264" y="2194"/>
                    </a:lnTo>
                    <a:lnTo>
                      <a:pt x="270" y="2196"/>
                    </a:lnTo>
                    <a:lnTo>
                      <a:pt x="276" y="2196"/>
                    </a:lnTo>
                    <a:lnTo>
                      <a:pt x="283" y="2197"/>
                    </a:lnTo>
                    <a:lnTo>
                      <a:pt x="291" y="2199"/>
                    </a:lnTo>
                    <a:lnTo>
                      <a:pt x="297" y="2199"/>
                    </a:lnTo>
                    <a:lnTo>
                      <a:pt x="304" y="2199"/>
                    </a:lnTo>
                    <a:lnTo>
                      <a:pt x="312" y="2199"/>
                    </a:lnTo>
                    <a:lnTo>
                      <a:pt x="320" y="2201"/>
                    </a:lnTo>
                    <a:lnTo>
                      <a:pt x="325" y="2201"/>
                    </a:lnTo>
                    <a:lnTo>
                      <a:pt x="333" y="2201"/>
                    </a:lnTo>
                    <a:lnTo>
                      <a:pt x="341" y="2201"/>
                    </a:lnTo>
                    <a:lnTo>
                      <a:pt x="348" y="2201"/>
                    </a:lnTo>
                    <a:lnTo>
                      <a:pt x="356" y="2201"/>
                    </a:lnTo>
                    <a:lnTo>
                      <a:pt x="363" y="2201"/>
                    </a:lnTo>
                    <a:lnTo>
                      <a:pt x="371" y="2201"/>
                    </a:lnTo>
                    <a:lnTo>
                      <a:pt x="379" y="2201"/>
                    </a:lnTo>
                    <a:lnTo>
                      <a:pt x="386" y="2201"/>
                    </a:lnTo>
                    <a:lnTo>
                      <a:pt x="394" y="2201"/>
                    </a:lnTo>
                    <a:lnTo>
                      <a:pt x="401" y="2199"/>
                    </a:lnTo>
                    <a:lnTo>
                      <a:pt x="409" y="2199"/>
                    </a:lnTo>
                    <a:lnTo>
                      <a:pt x="415" y="2197"/>
                    </a:lnTo>
                    <a:lnTo>
                      <a:pt x="422" y="2196"/>
                    </a:lnTo>
                    <a:lnTo>
                      <a:pt x="432" y="2196"/>
                    </a:lnTo>
                    <a:lnTo>
                      <a:pt x="439" y="2194"/>
                    </a:lnTo>
                    <a:lnTo>
                      <a:pt x="447" y="2192"/>
                    </a:lnTo>
                    <a:lnTo>
                      <a:pt x="455" y="2190"/>
                    </a:lnTo>
                    <a:lnTo>
                      <a:pt x="462" y="2188"/>
                    </a:lnTo>
                    <a:lnTo>
                      <a:pt x="470" y="2188"/>
                    </a:lnTo>
                    <a:lnTo>
                      <a:pt x="476" y="2184"/>
                    </a:lnTo>
                    <a:lnTo>
                      <a:pt x="483" y="2182"/>
                    </a:lnTo>
                    <a:lnTo>
                      <a:pt x="491" y="2180"/>
                    </a:lnTo>
                    <a:lnTo>
                      <a:pt x="498" y="2175"/>
                    </a:lnTo>
                    <a:lnTo>
                      <a:pt x="504" y="2173"/>
                    </a:lnTo>
                    <a:lnTo>
                      <a:pt x="512" y="2169"/>
                    </a:lnTo>
                    <a:lnTo>
                      <a:pt x="517" y="2165"/>
                    </a:lnTo>
                    <a:lnTo>
                      <a:pt x="525" y="2161"/>
                    </a:lnTo>
                    <a:lnTo>
                      <a:pt x="531" y="2158"/>
                    </a:lnTo>
                    <a:lnTo>
                      <a:pt x="536" y="2154"/>
                    </a:lnTo>
                    <a:lnTo>
                      <a:pt x="542" y="2150"/>
                    </a:lnTo>
                    <a:lnTo>
                      <a:pt x="550" y="2146"/>
                    </a:lnTo>
                    <a:lnTo>
                      <a:pt x="555" y="2142"/>
                    </a:lnTo>
                    <a:lnTo>
                      <a:pt x="559" y="2137"/>
                    </a:lnTo>
                    <a:lnTo>
                      <a:pt x="565" y="2133"/>
                    </a:lnTo>
                    <a:lnTo>
                      <a:pt x="571" y="2129"/>
                    </a:lnTo>
                    <a:lnTo>
                      <a:pt x="576" y="2123"/>
                    </a:lnTo>
                    <a:lnTo>
                      <a:pt x="582" y="2120"/>
                    </a:lnTo>
                    <a:lnTo>
                      <a:pt x="588" y="2114"/>
                    </a:lnTo>
                    <a:lnTo>
                      <a:pt x="592" y="2110"/>
                    </a:lnTo>
                    <a:lnTo>
                      <a:pt x="595" y="2106"/>
                    </a:lnTo>
                    <a:lnTo>
                      <a:pt x="601" y="2101"/>
                    </a:lnTo>
                    <a:lnTo>
                      <a:pt x="605" y="2095"/>
                    </a:lnTo>
                    <a:lnTo>
                      <a:pt x="611" y="2091"/>
                    </a:lnTo>
                    <a:lnTo>
                      <a:pt x="614" y="2085"/>
                    </a:lnTo>
                    <a:lnTo>
                      <a:pt x="618" y="2080"/>
                    </a:lnTo>
                    <a:lnTo>
                      <a:pt x="624" y="2076"/>
                    </a:lnTo>
                    <a:lnTo>
                      <a:pt x="628" y="2070"/>
                    </a:lnTo>
                    <a:lnTo>
                      <a:pt x="632" y="2064"/>
                    </a:lnTo>
                    <a:lnTo>
                      <a:pt x="635" y="2059"/>
                    </a:lnTo>
                    <a:lnTo>
                      <a:pt x="637" y="2055"/>
                    </a:lnTo>
                    <a:lnTo>
                      <a:pt x="643" y="2049"/>
                    </a:lnTo>
                    <a:lnTo>
                      <a:pt x="645" y="2043"/>
                    </a:lnTo>
                    <a:lnTo>
                      <a:pt x="649" y="2040"/>
                    </a:lnTo>
                    <a:lnTo>
                      <a:pt x="652" y="2034"/>
                    </a:lnTo>
                    <a:lnTo>
                      <a:pt x="654" y="2030"/>
                    </a:lnTo>
                    <a:lnTo>
                      <a:pt x="658" y="2024"/>
                    </a:lnTo>
                    <a:lnTo>
                      <a:pt x="660" y="2021"/>
                    </a:lnTo>
                    <a:lnTo>
                      <a:pt x="664" y="2015"/>
                    </a:lnTo>
                    <a:lnTo>
                      <a:pt x="666" y="2011"/>
                    </a:lnTo>
                    <a:lnTo>
                      <a:pt x="668" y="2005"/>
                    </a:lnTo>
                    <a:lnTo>
                      <a:pt x="672" y="2002"/>
                    </a:lnTo>
                    <a:lnTo>
                      <a:pt x="673" y="1998"/>
                    </a:lnTo>
                    <a:lnTo>
                      <a:pt x="675" y="1992"/>
                    </a:lnTo>
                    <a:lnTo>
                      <a:pt x="677" y="1986"/>
                    </a:lnTo>
                    <a:lnTo>
                      <a:pt x="679" y="1983"/>
                    </a:lnTo>
                    <a:lnTo>
                      <a:pt x="681" y="1979"/>
                    </a:lnTo>
                    <a:lnTo>
                      <a:pt x="683" y="1975"/>
                    </a:lnTo>
                    <a:lnTo>
                      <a:pt x="685" y="1971"/>
                    </a:lnTo>
                    <a:lnTo>
                      <a:pt x="687" y="1969"/>
                    </a:lnTo>
                    <a:lnTo>
                      <a:pt x="689" y="1964"/>
                    </a:lnTo>
                    <a:lnTo>
                      <a:pt x="691" y="1962"/>
                    </a:lnTo>
                    <a:lnTo>
                      <a:pt x="692" y="1958"/>
                    </a:lnTo>
                    <a:lnTo>
                      <a:pt x="692" y="1954"/>
                    </a:lnTo>
                    <a:lnTo>
                      <a:pt x="692" y="1952"/>
                    </a:lnTo>
                    <a:lnTo>
                      <a:pt x="694" y="1950"/>
                    </a:lnTo>
                    <a:lnTo>
                      <a:pt x="696" y="1945"/>
                    </a:lnTo>
                    <a:lnTo>
                      <a:pt x="698" y="1941"/>
                    </a:lnTo>
                    <a:lnTo>
                      <a:pt x="700" y="1937"/>
                    </a:lnTo>
                    <a:lnTo>
                      <a:pt x="700" y="1935"/>
                    </a:lnTo>
                    <a:lnTo>
                      <a:pt x="700" y="1933"/>
                    </a:lnTo>
                    <a:lnTo>
                      <a:pt x="702" y="1933"/>
                    </a:lnTo>
                    <a:lnTo>
                      <a:pt x="740" y="1943"/>
                    </a:lnTo>
                    <a:lnTo>
                      <a:pt x="740" y="1943"/>
                    </a:lnTo>
                    <a:lnTo>
                      <a:pt x="738" y="1945"/>
                    </a:lnTo>
                    <a:lnTo>
                      <a:pt x="738" y="1947"/>
                    </a:lnTo>
                    <a:lnTo>
                      <a:pt x="738" y="1950"/>
                    </a:lnTo>
                    <a:lnTo>
                      <a:pt x="738" y="1954"/>
                    </a:lnTo>
                    <a:lnTo>
                      <a:pt x="738" y="1958"/>
                    </a:lnTo>
                    <a:lnTo>
                      <a:pt x="736" y="1962"/>
                    </a:lnTo>
                    <a:lnTo>
                      <a:pt x="736" y="1964"/>
                    </a:lnTo>
                    <a:lnTo>
                      <a:pt x="736" y="1967"/>
                    </a:lnTo>
                    <a:lnTo>
                      <a:pt x="736" y="1971"/>
                    </a:lnTo>
                    <a:lnTo>
                      <a:pt x="736" y="1975"/>
                    </a:lnTo>
                    <a:lnTo>
                      <a:pt x="736" y="1979"/>
                    </a:lnTo>
                    <a:lnTo>
                      <a:pt x="736" y="1983"/>
                    </a:lnTo>
                    <a:lnTo>
                      <a:pt x="736" y="1985"/>
                    </a:lnTo>
                    <a:lnTo>
                      <a:pt x="736" y="1990"/>
                    </a:lnTo>
                    <a:lnTo>
                      <a:pt x="736" y="1994"/>
                    </a:lnTo>
                    <a:lnTo>
                      <a:pt x="736" y="1998"/>
                    </a:lnTo>
                    <a:lnTo>
                      <a:pt x="736" y="2004"/>
                    </a:lnTo>
                    <a:lnTo>
                      <a:pt x="736" y="2007"/>
                    </a:lnTo>
                    <a:lnTo>
                      <a:pt x="736" y="2013"/>
                    </a:lnTo>
                    <a:lnTo>
                      <a:pt x="736" y="2015"/>
                    </a:lnTo>
                    <a:lnTo>
                      <a:pt x="736" y="2021"/>
                    </a:lnTo>
                    <a:lnTo>
                      <a:pt x="736" y="2026"/>
                    </a:lnTo>
                    <a:lnTo>
                      <a:pt x="736" y="2030"/>
                    </a:lnTo>
                    <a:lnTo>
                      <a:pt x="736" y="2036"/>
                    </a:lnTo>
                    <a:lnTo>
                      <a:pt x="736" y="2042"/>
                    </a:lnTo>
                    <a:lnTo>
                      <a:pt x="736" y="2047"/>
                    </a:lnTo>
                    <a:lnTo>
                      <a:pt x="738" y="2051"/>
                    </a:lnTo>
                    <a:lnTo>
                      <a:pt x="738" y="2057"/>
                    </a:lnTo>
                    <a:lnTo>
                      <a:pt x="738" y="2062"/>
                    </a:lnTo>
                    <a:lnTo>
                      <a:pt x="740" y="2066"/>
                    </a:lnTo>
                    <a:lnTo>
                      <a:pt x="740" y="2072"/>
                    </a:lnTo>
                    <a:lnTo>
                      <a:pt x="742" y="2078"/>
                    </a:lnTo>
                    <a:lnTo>
                      <a:pt x="744" y="2083"/>
                    </a:lnTo>
                    <a:lnTo>
                      <a:pt x="744" y="2091"/>
                    </a:lnTo>
                    <a:lnTo>
                      <a:pt x="746" y="2095"/>
                    </a:lnTo>
                    <a:lnTo>
                      <a:pt x="748" y="2101"/>
                    </a:lnTo>
                    <a:lnTo>
                      <a:pt x="748" y="2106"/>
                    </a:lnTo>
                    <a:lnTo>
                      <a:pt x="751" y="2110"/>
                    </a:lnTo>
                    <a:lnTo>
                      <a:pt x="753" y="2118"/>
                    </a:lnTo>
                    <a:lnTo>
                      <a:pt x="753" y="2123"/>
                    </a:lnTo>
                    <a:lnTo>
                      <a:pt x="757" y="2129"/>
                    </a:lnTo>
                    <a:lnTo>
                      <a:pt x="759" y="2135"/>
                    </a:lnTo>
                    <a:lnTo>
                      <a:pt x="761" y="2139"/>
                    </a:lnTo>
                    <a:lnTo>
                      <a:pt x="765" y="2144"/>
                    </a:lnTo>
                    <a:lnTo>
                      <a:pt x="767" y="2150"/>
                    </a:lnTo>
                    <a:lnTo>
                      <a:pt x="769" y="2156"/>
                    </a:lnTo>
                    <a:lnTo>
                      <a:pt x="772" y="2159"/>
                    </a:lnTo>
                    <a:lnTo>
                      <a:pt x="776" y="2165"/>
                    </a:lnTo>
                    <a:lnTo>
                      <a:pt x="780" y="2171"/>
                    </a:lnTo>
                    <a:lnTo>
                      <a:pt x="782" y="2175"/>
                    </a:lnTo>
                    <a:lnTo>
                      <a:pt x="786" y="2180"/>
                    </a:lnTo>
                    <a:lnTo>
                      <a:pt x="789" y="2186"/>
                    </a:lnTo>
                    <a:lnTo>
                      <a:pt x="795" y="2190"/>
                    </a:lnTo>
                    <a:lnTo>
                      <a:pt x="799" y="2196"/>
                    </a:lnTo>
                    <a:lnTo>
                      <a:pt x="805" y="2201"/>
                    </a:lnTo>
                    <a:lnTo>
                      <a:pt x="808" y="2205"/>
                    </a:lnTo>
                    <a:lnTo>
                      <a:pt x="814" y="2209"/>
                    </a:lnTo>
                    <a:lnTo>
                      <a:pt x="818" y="2213"/>
                    </a:lnTo>
                    <a:lnTo>
                      <a:pt x="824" y="2216"/>
                    </a:lnTo>
                    <a:lnTo>
                      <a:pt x="828" y="2222"/>
                    </a:lnTo>
                    <a:lnTo>
                      <a:pt x="833" y="2224"/>
                    </a:lnTo>
                    <a:lnTo>
                      <a:pt x="839" y="2228"/>
                    </a:lnTo>
                    <a:lnTo>
                      <a:pt x="845" y="2232"/>
                    </a:lnTo>
                    <a:lnTo>
                      <a:pt x="848" y="2235"/>
                    </a:lnTo>
                    <a:lnTo>
                      <a:pt x="854" y="2239"/>
                    </a:lnTo>
                    <a:lnTo>
                      <a:pt x="858" y="2243"/>
                    </a:lnTo>
                    <a:lnTo>
                      <a:pt x="864" y="2245"/>
                    </a:lnTo>
                    <a:lnTo>
                      <a:pt x="867" y="2249"/>
                    </a:lnTo>
                    <a:lnTo>
                      <a:pt x="873" y="2253"/>
                    </a:lnTo>
                    <a:lnTo>
                      <a:pt x="877" y="2256"/>
                    </a:lnTo>
                    <a:lnTo>
                      <a:pt x="883" y="2258"/>
                    </a:lnTo>
                    <a:lnTo>
                      <a:pt x="890" y="2260"/>
                    </a:lnTo>
                    <a:lnTo>
                      <a:pt x="896" y="2264"/>
                    </a:lnTo>
                    <a:lnTo>
                      <a:pt x="900" y="2266"/>
                    </a:lnTo>
                    <a:lnTo>
                      <a:pt x="904" y="2268"/>
                    </a:lnTo>
                    <a:lnTo>
                      <a:pt x="907" y="2270"/>
                    </a:lnTo>
                    <a:lnTo>
                      <a:pt x="913" y="2273"/>
                    </a:lnTo>
                    <a:lnTo>
                      <a:pt x="919" y="2275"/>
                    </a:lnTo>
                    <a:lnTo>
                      <a:pt x="925" y="2277"/>
                    </a:lnTo>
                    <a:lnTo>
                      <a:pt x="928" y="2279"/>
                    </a:lnTo>
                    <a:lnTo>
                      <a:pt x="934" y="2281"/>
                    </a:lnTo>
                    <a:lnTo>
                      <a:pt x="938" y="2283"/>
                    </a:lnTo>
                    <a:lnTo>
                      <a:pt x="942" y="2285"/>
                    </a:lnTo>
                    <a:lnTo>
                      <a:pt x="947" y="2287"/>
                    </a:lnTo>
                    <a:lnTo>
                      <a:pt x="951" y="2289"/>
                    </a:lnTo>
                    <a:lnTo>
                      <a:pt x="955" y="2289"/>
                    </a:lnTo>
                    <a:lnTo>
                      <a:pt x="961" y="2291"/>
                    </a:lnTo>
                    <a:lnTo>
                      <a:pt x="964" y="2291"/>
                    </a:lnTo>
                    <a:lnTo>
                      <a:pt x="968" y="2294"/>
                    </a:lnTo>
                    <a:lnTo>
                      <a:pt x="972" y="2294"/>
                    </a:lnTo>
                    <a:lnTo>
                      <a:pt x="978" y="2294"/>
                    </a:lnTo>
                    <a:lnTo>
                      <a:pt x="982" y="2296"/>
                    </a:lnTo>
                    <a:lnTo>
                      <a:pt x="985" y="2296"/>
                    </a:lnTo>
                    <a:lnTo>
                      <a:pt x="989" y="2296"/>
                    </a:lnTo>
                    <a:lnTo>
                      <a:pt x="993" y="2298"/>
                    </a:lnTo>
                    <a:lnTo>
                      <a:pt x="997" y="2298"/>
                    </a:lnTo>
                    <a:lnTo>
                      <a:pt x="1001" y="2298"/>
                    </a:lnTo>
                    <a:lnTo>
                      <a:pt x="1004" y="2298"/>
                    </a:lnTo>
                    <a:lnTo>
                      <a:pt x="1008" y="2300"/>
                    </a:lnTo>
                    <a:lnTo>
                      <a:pt x="1010" y="2300"/>
                    </a:lnTo>
                    <a:lnTo>
                      <a:pt x="1014" y="2300"/>
                    </a:lnTo>
                    <a:lnTo>
                      <a:pt x="1016" y="2300"/>
                    </a:lnTo>
                    <a:lnTo>
                      <a:pt x="1020" y="2300"/>
                    </a:lnTo>
                    <a:lnTo>
                      <a:pt x="1022" y="2300"/>
                    </a:lnTo>
                    <a:lnTo>
                      <a:pt x="1025" y="2302"/>
                    </a:lnTo>
                    <a:lnTo>
                      <a:pt x="1029" y="2300"/>
                    </a:lnTo>
                    <a:lnTo>
                      <a:pt x="1035" y="2300"/>
                    </a:lnTo>
                    <a:lnTo>
                      <a:pt x="1039" y="2298"/>
                    </a:lnTo>
                    <a:lnTo>
                      <a:pt x="1042" y="2298"/>
                    </a:lnTo>
                    <a:lnTo>
                      <a:pt x="1044" y="2296"/>
                    </a:lnTo>
                    <a:lnTo>
                      <a:pt x="1048" y="2296"/>
                    </a:lnTo>
                    <a:lnTo>
                      <a:pt x="1048" y="2294"/>
                    </a:lnTo>
                    <a:lnTo>
                      <a:pt x="1050" y="2294"/>
                    </a:lnTo>
                    <a:lnTo>
                      <a:pt x="1246" y="1334"/>
                    </a:lnTo>
                    <a:lnTo>
                      <a:pt x="1246" y="1333"/>
                    </a:lnTo>
                    <a:lnTo>
                      <a:pt x="1248" y="1331"/>
                    </a:lnTo>
                    <a:lnTo>
                      <a:pt x="1250" y="1327"/>
                    </a:lnTo>
                    <a:lnTo>
                      <a:pt x="1252" y="1325"/>
                    </a:lnTo>
                    <a:lnTo>
                      <a:pt x="1252" y="1323"/>
                    </a:lnTo>
                    <a:lnTo>
                      <a:pt x="1254" y="1319"/>
                    </a:lnTo>
                    <a:lnTo>
                      <a:pt x="1256" y="1315"/>
                    </a:lnTo>
                    <a:lnTo>
                      <a:pt x="1259" y="1312"/>
                    </a:lnTo>
                    <a:lnTo>
                      <a:pt x="1259" y="1306"/>
                    </a:lnTo>
                    <a:lnTo>
                      <a:pt x="1263" y="1302"/>
                    </a:lnTo>
                    <a:lnTo>
                      <a:pt x="1265" y="1296"/>
                    </a:lnTo>
                    <a:lnTo>
                      <a:pt x="1269" y="1293"/>
                    </a:lnTo>
                    <a:lnTo>
                      <a:pt x="1271" y="1285"/>
                    </a:lnTo>
                    <a:lnTo>
                      <a:pt x="1275" y="1281"/>
                    </a:lnTo>
                    <a:lnTo>
                      <a:pt x="1276" y="1274"/>
                    </a:lnTo>
                    <a:lnTo>
                      <a:pt x="1280" y="1266"/>
                    </a:lnTo>
                    <a:lnTo>
                      <a:pt x="1284" y="1258"/>
                    </a:lnTo>
                    <a:lnTo>
                      <a:pt x="1288" y="1249"/>
                    </a:lnTo>
                    <a:lnTo>
                      <a:pt x="1290" y="1241"/>
                    </a:lnTo>
                    <a:lnTo>
                      <a:pt x="1294" y="1234"/>
                    </a:lnTo>
                    <a:lnTo>
                      <a:pt x="1297" y="1224"/>
                    </a:lnTo>
                    <a:lnTo>
                      <a:pt x="1301" y="1217"/>
                    </a:lnTo>
                    <a:lnTo>
                      <a:pt x="1305" y="1207"/>
                    </a:lnTo>
                    <a:lnTo>
                      <a:pt x="1309" y="1198"/>
                    </a:lnTo>
                    <a:lnTo>
                      <a:pt x="1313" y="1188"/>
                    </a:lnTo>
                    <a:lnTo>
                      <a:pt x="1316" y="1177"/>
                    </a:lnTo>
                    <a:lnTo>
                      <a:pt x="1320" y="1165"/>
                    </a:lnTo>
                    <a:lnTo>
                      <a:pt x="1324" y="1154"/>
                    </a:lnTo>
                    <a:lnTo>
                      <a:pt x="1330" y="1144"/>
                    </a:lnTo>
                    <a:lnTo>
                      <a:pt x="1334" y="1133"/>
                    </a:lnTo>
                    <a:lnTo>
                      <a:pt x="1337" y="1122"/>
                    </a:lnTo>
                    <a:lnTo>
                      <a:pt x="1339" y="1108"/>
                    </a:lnTo>
                    <a:lnTo>
                      <a:pt x="1345" y="1097"/>
                    </a:lnTo>
                    <a:lnTo>
                      <a:pt x="1349" y="1084"/>
                    </a:lnTo>
                    <a:lnTo>
                      <a:pt x="1353" y="1070"/>
                    </a:lnTo>
                    <a:lnTo>
                      <a:pt x="1354" y="1059"/>
                    </a:lnTo>
                    <a:lnTo>
                      <a:pt x="1358" y="1044"/>
                    </a:lnTo>
                    <a:lnTo>
                      <a:pt x="1362" y="1032"/>
                    </a:lnTo>
                    <a:lnTo>
                      <a:pt x="1366" y="1017"/>
                    </a:lnTo>
                    <a:lnTo>
                      <a:pt x="1370" y="1004"/>
                    </a:lnTo>
                    <a:lnTo>
                      <a:pt x="1372" y="988"/>
                    </a:lnTo>
                    <a:lnTo>
                      <a:pt x="1375" y="975"/>
                    </a:lnTo>
                    <a:lnTo>
                      <a:pt x="1377" y="960"/>
                    </a:lnTo>
                    <a:lnTo>
                      <a:pt x="1381" y="947"/>
                    </a:lnTo>
                    <a:lnTo>
                      <a:pt x="1383" y="931"/>
                    </a:lnTo>
                    <a:lnTo>
                      <a:pt x="1387" y="916"/>
                    </a:lnTo>
                    <a:lnTo>
                      <a:pt x="1389" y="901"/>
                    </a:lnTo>
                    <a:lnTo>
                      <a:pt x="1391" y="886"/>
                    </a:lnTo>
                    <a:lnTo>
                      <a:pt x="1392" y="871"/>
                    </a:lnTo>
                    <a:lnTo>
                      <a:pt x="1394" y="855"/>
                    </a:lnTo>
                    <a:lnTo>
                      <a:pt x="1396" y="838"/>
                    </a:lnTo>
                    <a:lnTo>
                      <a:pt x="1398" y="823"/>
                    </a:lnTo>
                    <a:lnTo>
                      <a:pt x="1398" y="806"/>
                    </a:lnTo>
                    <a:lnTo>
                      <a:pt x="1400" y="791"/>
                    </a:lnTo>
                    <a:lnTo>
                      <a:pt x="1402" y="774"/>
                    </a:lnTo>
                    <a:lnTo>
                      <a:pt x="1402" y="757"/>
                    </a:lnTo>
                    <a:lnTo>
                      <a:pt x="1402" y="741"/>
                    </a:lnTo>
                    <a:lnTo>
                      <a:pt x="1402" y="724"/>
                    </a:lnTo>
                    <a:lnTo>
                      <a:pt x="1402" y="705"/>
                    </a:lnTo>
                    <a:lnTo>
                      <a:pt x="1402" y="690"/>
                    </a:lnTo>
                    <a:lnTo>
                      <a:pt x="1400" y="673"/>
                    </a:lnTo>
                    <a:lnTo>
                      <a:pt x="1400" y="656"/>
                    </a:lnTo>
                    <a:lnTo>
                      <a:pt x="1398" y="654"/>
                    </a:lnTo>
                    <a:lnTo>
                      <a:pt x="1398" y="652"/>
                    </a:lnTo>
                    <a:lnTo>
                      <a:pt x="1398" y="648"/>
                    </a:lnTo>
                    <a:lnTo>
                      <a:pt x="1398" y="644"/>
                    </a:lnTo>
                    <a:lnTo>
                      <a:pt x="1398" y="643"/>
                    </a:lnTo>
                    <a:lnTo>
                      <a:pt x="1398" y="639"/>
                    </a:lnTo>
                    <a:lnTo>
                      <a:pt x="1396" y="637"/>
                    </a:lnTo>
                    <a:lnTo>
                      <a:pt x="1396" y="633"/>
                    </a:lnTo>
                    <a:lnTo>
                      <a:pt x="1396" y="631"/>
                    </a:lnTo>
                    <a:lnTo>
                      <a:pt x="1396" y="627"/>
                    </a:lnTo>
                    <a:lnTo>
                      <a:pt x="1396" y="623"/>
                    </a:lnTo>
                    <a:lnTo>
                      <a:pt x="1394" y="620"/>
                    </a:lnTo>
                    <a:lnTo>
                      <a:pt x="1394" y="618"/>
                    </a:lnTo>
                    <a:lnTo>
                      <a:pt x="1394" y="616"/>
                    </a:lnTo>
                    <a:lnTo>
                      <a:pt x="1392" y="612"/>
                    </a:lnTo>
                    <a:lnTo>
                      <a:pt x="1392" y="610"/>
                    </a:lnTo>
                    <a:lnTo>
                      <a:pt x="1392" y="608"/>
                    </a:lnTo>
                    <a:lnTo>
                      <a:pt x="1391" y="604"/>
                    </a:lnTo>
                    <a:lnTo>
                      <a:pt x="1391" y="603"/>
                    </a:lnTo>
                    <a:lnTo>
                      <a:pt x="1391" y="599"/>
                    </a:lnTo>
                    <a:lnTo>
                      <a:pt x="1389" y="597"/>
                    </a:lnTo>
                    <a:lnTo>
                      <a:pt x="1389" y="593"/>
                    </a:lnTo>
                    <a:lnTo>
                      <a:pt x="1389" y="589"/>
                    </a:lnTo>
                    <a:lnTo>
                      <a:pt x="1389" y="587"/>
                    </a:lnTo>
                    <a:lnTo>
                      <a:pt x="1387" y="585"/>
                    </a:lnTo>
                    <a:lnTo>
                      <a:pt x="1385" y="582"/>
                    </a:lnTo>
                    <a:lnTo>
                      <a:pt x="1385" y="580"/>
                    </a:lnTo>
                    <a:lnTo>
                      <a:pt x="1383" y="578"/>
                    </a:lnTo>
                    <a:lnTo>
                      <a:pt x="1383" y="572"/>
                    </a:lnTo>
                    <a:lnTo>
                      <a:pt x="1381" y="568"/>
                    </a:lnTo>
                    <a:lnTo>
                      <a:pt x="1377" y="563"/>
                    </a:lnTo>
                    <a:lnTo>
                      <a:pt x="1375" y="557"/>
                    </a:lnTo>
                    <a:lnTo>
                      <a:pt x="1373" y="553"/>
                    </a:lnTo>
                    <a:lnTo>
                      <a:pt x="1370" y="547"/>
                    </a:lnTo>
                    <a:lnTo>
                      <a:pt x="1366" y="544"/>
                    </a:lnTo>
                    <a:lnTo>
                      <a:pt x="1364" y="540"/>
                    </a:lnTo>
                    <a:lnTo>
                      <a:pt x="1360" y="536"/>
                    </a:lnTo>
                    <a:lnTo>
                      <a:pt x="1356" y="532"/>
                    </a:lnTo>
                    <a:lnTo>
                      <a:pt x="1353" y="528"/>
                    </a:lnTo>
                    <a:lnTo>
                      <a:pt x="1349" y="525"/>
                    </a:lnTo>
                    <a:lnTo>
                      <a:pt x="1345" y="523"/>
                    </a:lnTo>
                    <a:lnTo>
                      <a:pt x="1339" y="521"/>
                    </a:lnTo>
                    <a:lnTo>
                      <a:pt x="1335" y="517"/>
                    </a:lnTo>
                    <a:lnTo>
                      <a:pt x="1332" y="515"/>
                    </a:lnTo>
                    <a:lnTo>
                      <a:pt x="1326" y="515"/>
                    </a:lnTo>
                    <a:lnTo>
                      <a:pt x="1322" y="513"/>
                    </a:lnTo>
                    <a:lnTo>
                      <a:pt x="1318" y="511"/>
                    </a:lnTo>
                    <a:lnTo>
                      <a:pt x="1316" y="511"/>
                    </a:lnTo>
                    <a:lnTo>
                      <a:pt x="1313" y="511"/>
                    </a:lnTo>
                    <a:lnTo>
                      <a:pt x="1311" y="511"/>
                    </a:lnTo>
                    <a:lnTo>
                      <a:pt x="1309" y="509"/>
                    </a:lnTo>
                    <a:lnTo>
                      <a:pt x="1305" y="509"/>
                    </a:lnTo>
                    <a:lnTo>
                      <a:pt x="1303" y="509"/>
                    </a:lnTo>
                    <a:lnTo>
                      <a:pt x="1301" y="509"/>
                    </a:lnTo>
                    <a:lnTo>
                      <a:pt x="1297" y="509"/>
                    </a:lnTo>
                    <a:lnTo>
                      <a:pt x="1295" y="509"/>
                    </a:lnTo>
                    <a:lnTo>
                      <a:pt x="1292" y="509"/>
                    </a:lnTo>
                    <a:lnTo>
                      <a:pt x="1290" y="509"/>
                    </a:lnTo>
                    <a:lnTo>
                      <a:pt x="1284" y="509"/>
                    </a:lnTo>
                    <a:lnTo>
                      <a:pt x="1280" y="509"/>
                    </a:lnTo>
                    <a:lnTo>
                      <a:pt x="1275" y="509"/>
                    </a:lnTo>
                    <a:lnTo>
                      <a:pt x="1269" y="509"/>
                    </a:lnTo>
                    <a:lnTo>
                      <a:pt x="1265" y="509"/>
                    </a:lnTo>
                    <a:lnTo>
                      <a:pt x="1259" y="509"/>
                    </a:lnTo>
                    <a:lnTo>
                      <a:pt x="1256" y="511"/>
                    </a:lnTo>
                    <a:lnTo>
                      <a:pt x="1252" y="511"/>
                    </a:lnTo>
                    <a:lnTo>
                      <a:pt x="1246" y="515"/>
                    </a:lnTo>
                    <a:lnTo>
                      <a:pt x="1242" y="515"/>
                    </a:lnTo>
                    <a:lnTo>
                      <a:pt x="1238" y="517"/>
                    </a:lnTo>
                    <a:lnTo>
                      <a:pt x="1235" y="521"/>
                    </a:lnTo>
                    <a:lnTo>
                      <a:pt x="1231" y="523"/>
                    </a:lnTo>
                    <a:lnTo>
                      <a:pt x="1229" y="525"/>
                    </a:lnTo>
                    <a:lnTo>
                      <a:pt x="1225" y="527"/>
                    </a:lnTo>
                    <a:lnTo>
                      <a:pt x="1221" y="530"/>
                    </a:lnTo>
                    <a:lnTo>
                      <a:pt x="1219" y="532"/>
                    </a:lnTo>
                    <a:lnTo>
                      <a:pt x="1216" y="538"/>
                    </a:lnTo>
                    <a:lnTo>
                      <a:pt x="1214" y="542"/>
                    </a:lnTo>
                    <a:lnTo>
                      <a:pt x="1212" y="546"/>
                    </a:lnTo>
                    <a:lnTo>
                      <a:pt x="1210" y="549"/>
                    </a:lnTo>
                    <a:lnTo>
                      <a:pt x="1208" y="555"/>
                    </a:lnTo>
                    <a:lnTo>
                      <a:pt x="1208" y="557"/>
                    </a:lnTo>
                    <a:lnTo>
                      <a:pt x="1206" y="559"/>
                    </a:lnTo>
                    <a:lnTo>
                      <a:pt x="1204" y="561"/>
                    </a:lnTo>
                    <a:lnTo>
                      <a:pt x="1204" y="565"/>
                    </a:lnTo>
                    <a:lnTo>
                      <a:pt x="1204" y="566"/>
                    </a:lnTo>
                    <a:lnTo>
                      <a:pt x="1204" y="570"/>
                    </a:lnTo>
                    <a:lnTo>
                      <a:pt x="1204" y="572"/>
                    </a:lnTo>
                    <a:lnTo>
                      <a:pt x="1204" y="576"/>
                    </a:lnTo>
                    <a:lnTo>
                      <a:pt x="1139" y="895"/>
                    </a:lnTo>
                    <a:lnTo>
                      <a:pt x="1136" y="893"/>
                    </a:lnTo>
                    <a:lnTo>
                      <a:pt x="1132" y="892"/>
                    </a:lnTo>
                    <a:lnTo>
                      <a:pt x="1126" y="888"/>
                    </a:lnTo>
                    <a:lnTo>
                      <a:pt x="1122" y="886"/>
                    </a:lnTo>
                    <a:lnTo>
                      <a:pt x="1117" y="884"/>
                    </a:lnTo>
                    <a:lnTo>
                      <a:pt x="1113" y="880"/>
                    </a:lnTo>
                    <a:lnTo>
                      <a:pt x="1107" y="878"/>
                    </a:lnTo>
                    <a:lnTo>
                      <a:pt x="1105" y="876"/>
                    </a:lnTo>
                    <a:lnTo>
                      <a:pt x="1227" y="316"/>
                    </a:lnTo>
                    <a:lnTo>
                      <a:pt x="1227" y="312"/>
                    </a:lnTo>
                    <a:lnTo>
                      <a:pt x="1227" y="308"/>
                    </a:lnTo>
                    <a:lnTo>
                      <a:pt x="1229" y="306"/>
                    </a:lnTo>
                    <a:lnTo>
                      <a:pt x="1229" y="304"/>
                    </a:lnTo>
                    <a:lnTo>
                      <a:pt x="1229" y="300"/>
                    </a:lnTo>
                    <a:lnTo>
                      <a:pt x="1229" y="298"/>
                    </a:lnTo>
                    <a:lnTo>
                      <a:pt x="1229" y="295"/>
                    </a:lnTo>
                    <a:lnTo>
                      <a:pt x="1229" y="293"/>
                    </a:lnTo>
                    <a:lnTo>
                      <a:pt x="1229" y="291"/>
                    </a:lnTo>
                    <a:lnTo>
                      <a:pt x="1229" y="287"/>
                    </a:lnTo>
                    <a:lnTo>
                      <a:pt x="1229" y="285"/>
                    </a:lnTo>
                    <a:lnTo>
                      <a:pt x="1229" y="283"/>
                    </a:lnTo>
                    <a:lnTo>
                      <a:pt x="1229" y="278"/>
                    </a:lnTo>
                    <a:lnTo>
                      <a:pt x="1227" y="272"/>
                    </a:lnTo>
                    <a:lnTo>
                      <a:pt x="1225" y="268"/>
                    </a:lnTo>
                    <a:lnTo>
                      <a:pt x="1225" y="262"/>
                    </a:lnTo>
                    <a:lnTo>
                      <a:pt x="1223" y="257"/>
                    </a:lnTo>
                    <a:lnTo>
                      <a:pt x="1221" y="253"/>
                    </a:lnTo>
                    <a:lnTo>
                      <a:pt x="1219" y="247"/>
                    </a:lnTo>
                    <a:lnTo>
                      <a:pt x="1217" y="243"/>
                    </a:lnTo>
                    <a:lnTo>
                      <a:pt x="1216" y="240"/>
                    </a:lnTo>
                    <a:lnTo>
                      <a:pt x="1214" y="236"/>
                    </a:lnTo>
                    <a:lnTo>
                      <a:pt x="1210" y="232"/>
                    </a:lnTo>
                    <a:lnTo>
                      <a:pt x="1206" y="226"/>
                    </a:lnTo>
                    <a:lnTo>
                      <a:pt x="1202" y="222"/>
                    </a:lnTo>
                    <a:lnTo>
                      <a:pt x="1200" y="219"/>
                    </a:lnTo>
                    <a:lnTo>
                      <a:pt x="1197" y="215"/>
                    </a:lnTo>
                    <a:lnTo>
                      <a:pt x="1193" y="211"/>
                    </a:lnTo>
                    <a:lnTo>
                      <a:pt x="1189" y="207"/>
                    </a:lnTo>
                    <a:lnTo>
                      <a:pt x="1185" y="205"/>
                    </a:lnTo>
                    <a:lnTo>
                      <a:pt x="1179" y="203"/>
                    </a:lnTo>
                    <a:lnTo>
                      <a:pt x="1176" y="200"/>
                    </a:lnTo>
                    <a:lnTo>
                      <a:pt x="1172" y="198"/>
                    </a:lnTo>
                    <a:lnTo>
                      <a:pt x="1166" y="194"/>
                    </a:lnTo>
                    <a:lnTo>
                      <a:pt x="1160" y="192"/>
                    </a:lnTo>
                    <a:lnTo>
                      <a:pt x="1157" y="192"/>
                    </a:lnTo>
                    <a:lnTo>
                      <a:pt x="1151" y="190"/>
                    </a:lnTo>
                    <a:lnTo>
                      <a:pt x="1147" y="190"/>
                    </a:lnTo>
                    <a:lnTo>
                      <a:pt x="1143" y="188"/>
                    </a:lnTo>
                    <a:lnTo>
                      <a:pt x="1141" y="186"/>
                    </a:lnTo>
                    <a:lnTo>
                      <a:pt x="1138" y="186"/>
                    </a:lnTo>
                    <a:lnTo>
                      <a:pt x="1136" y="186"/>
                    </a:lnTo>
                    <a:lnTo>
                      <a:pt x="1134" y="186"/>
                    </a:lnTo>
                    <a:lnTo>
                      <a:pt x="1130" y="186"/>
                    </a:lnTo>
                    <a:lnTo>
                      <a:pt x="1128" y="186"/>
                    </a:lnTo>
                    <a:lnTo>
                      <a:pt x="1124" y="186"/>
                    </a:lnTo>
                    <a:lnTo>
                      <a:pt x="1122" y="186"/>
                    </a:lnTo>
                    <a:lnTo>
                      <a:pt x="1120" y="186"/>
                    </a:lnTo>
                    <a:lnTo>
                      <a:pt x="1117" y="186"/>
                    </a:lnTo>
                    <a:lnTo>
                      <a:pt x="1115" y="186"/>
                    </a:lnTo>
                    <a:lnTo>
                      <a:pt x="1109" y="186"/>
                    </a:lnTo>
                    <a:lnTo>
                      <a:pt x="1105" y="188"/>
                    </a:lnTo>
                    <a:lnTo>
                      <a:pt x="1100" y="188"/>
                    </a:lnTo>
                    <a:lnTo>
                      <a:pt x="1094" y="190"/>
                    </a:lnTo>
                    <a:lnTo>
                      <a:pt x="1090" y="192"/>
                    </a:lnTo>
                    <a:lnTo>
                      <a:pt x="1086" y="192"/>
                    </a:lnTo>
                    <a:lnTo>
                      <a:pt x="1081" y="194"/>
                    </a:lnTo>
                    <a:lnTo>
                      <a:pt x="1077" y="198"/>
                    </a:lnTo>
                    <a:lnTo>
                      <a:pt x="1073" y="200"/>
                    </a:lnTo>
                    <a:lnTo>
                      <a:pt x="1067" y="203"/>
                    </a:lnTo>
                    <a:lnTo>
                      <a:pt x="1063" y="205"/>
                    </a:lnTo>
                    <a:lnTo>
                      <a:pt x="1058" y="207"/>
                    </a:lnTo>
                    <a:lnTo>
                      <a:pt x="1054" y="211"/>
                    </a:lnTo>
                    <a:lnTo>
                      <a:pt x="1050" y="215"/>
                    </a:lnTo>
                    <a:lnTo>
                      <a:pt x="1048" y="219"/>
                    </a:lnTo>
                    <a:lnTo>
                      <a:pt x="1044" y="222"/>
                    </a:lnTo>
                    <a:lnTo>
                      <a:pt x="1041" y="226"/>
                    </a:lnTo>
                    <a:lnTo>
                      <a:pt x="1039" y="232"/>
                    </a:lnTo>
                    <a:lnTo>
                      <a:pt x="1035" y="234"/>
                    </a:lnTo>
                    <a:lnTo>
                      <a:pt x="1033" y="240"/>
                    </a:lnTo>
                    <a:lnTo>
                      <a:pt x="1029" y="243"/>
                    </a:lnTo>
                    <a:lnTo>
                      <a:pt x="1027" y="249"/>
                    </a:lnTo>
                    <a:lnTo>
                      <a:pt x="1025" y="253"/>
                    </a:lnTo>
                    <a:lnTo>
                      <a:pt x="1023" y="259"/>
                    </a:lnTo>
                    <a:lnTo>
                      <a:pt x="1022" y="260"/>
                    </a:lnTo>
                    <a:lnTo>
                      <a:pt x="1022" y="264"/>
                    </a:lnTo>
                    <a:lnTo>
                      <a:pt x="1022" y="266"/>
                    </a:lnTo>
                    <a:lnTo>
                      <a:pt x="1022" y="270"/>
                    </a:lnTo>
                    <a:lnTo>
                      <a:pt x="919" y="730"/>
                    </a:lnTo>
                    <a:lnTo>
                      <a:pt x="915" y="728"/>
                    </a:lnTo>
                    <a:lnTo>
                      <a:pt x="913" y="726"/>
                    </a:lnTo>
                    <a:lnTo>
                      <a:pt x="907" y="724"/>
                    </a:lnTo>
                    <a:lnTo>
                      <a:pt x="905" y="720"/>
                    </a:lnTo>
                    <a:lnTo>
                      <a:pt x="904" y="719"/>
                    </a:lnTo>
                    <a:lnTo>
                      <a:pt x="900" y="717"/>
                    </a:lnTo>
                    <a:lnTo>
                      <a:pt x="896" y="713"/>
                    </a:lnTo>
                    <a:lnTo>
                      <a:pt x="892" y="713"/>
                    </a:lnTo>
                    <a:lnTo>
                      <a:pt x="1022" y="129"/>
                    </a:lnTo>
                    <a:lnTo>
                      <a:pt x="1022" y="125"/>
                    </a:lnTo>
                    <a:lnTo>
                      <a:pt x="1022" y="124"/>
                    </a:lnTo>
                    <a:lnTo>
                      <a:pt x="1022" y="120"/>
                    </a:lnTo>
                    <a:lnTo>
                      <a:pt x="1022" y="118"/>
                    </a:lnTo>
                    <a:lnTo>
                      <a:pt x="1022" y="114"/>
                    </a:lnTo>
                    <a:lnTo>
                      <a:pt x="1022" y="112"/>
                    </a:lnTo>
                    <a:lnTo>
                      <a:pt x="1022" y="110"/>
                    </a:lnTo>
                    <a:lnTo>
                      <a:pt x="1022" y="106"/>
                    </a:lnTo>
                    <a:lnTo>
                      <a:pt x="1022" y="105"/>
                    </a:lnTo>
                    <a:lnTo>
                      <a:pt x="1022" y="103"/>
                    </a:lnTo>
                    <a:lnTo>
                      <a:pt x="1022" y="99"/>
                    </a:lnTo>
                    <a:lnTo>
                      <a:pt x="1022" y="97"/>
                    </a:lnTo>
                    <a:lnTo>
                      <a:pt x="1022" y="91"/>
                    </a:lnTo>
                    <a:lnTo>
                      <a:pt x="1022" y="86"/>
                    </a:lnTo>
                    <a:lnTo>
                      <a:pt x="1020" y="82"/>
                    </a:lnTo>
                    <a:lnTo>
                      <a:pt x="1018" y="76"/>
                    </a:lnTo>
                    <a:lnTo>
                      <a:pt x="1016" y="70"/>
                    </a:lnTo>
                    <a:lnTo>
                      <a:pt x="1014" y="67"/>
                    </a:lnTo>
                    <a:lnTo>
                      <a:pt x="1012" y="61"/>
                    </a:lnTo>
                    <a:lnTo>
                      <a:pt x="1010" y="57"/>
                    </a:lnTo>
                    <a:lnTo>
                      <a:pt x="1008" y="53"/>
                    </a:lnTo>
                    <a:lnTo>
                      <a:pt x="1006" y="48"/>
                    </a:lnTo>
                    <a:lnTo>
                      <a:pt x="1004" y="44"/>
                    </a:lnTo>
                    <a:lnTo>
                      <a:pt x="1001" y="40"/>
                    </a:lnTo>
                    <a:lnTo>
                      <a:pt x="997" y="36"/>
                    </a:lnTo>
                    <a:lnTo>
                      <a:pt x="993" y="32"/>
                    </a:lnTo>
                    <a:lnTo>
                      <a:pt x="991" y="29"/>
                    </a:lnTo>
                    <a:lnTo>
                      <a:pt x="985" y="25"/>
                    </a:lnTo>
                    <a:lnTo>
                      <a:pt x="983" y="23"/>
                    </a:lnTo>
                    <a:lnTo>
                      <a:pt x="978" y="19"/>
                    </a:lnTo>
                    <a:lnTo>
                      <a:pt x="972" y="17"/>
                    </a:lnTo>
                    <a:lnTo>
                      <a:pt x="968" y="13"/>
                    </a:lnTo>
                    <a:lnTo>
                      <a:pt x="964" y="11"/>
                    </a:lnTo>
                    <a:lnTo>
                      <a:pt x="961" y="10"/>
                    </a:lnTo>
                    <a:lnTo>
                      <a:pt x="955" y="6"/>
                    </a:lnTo>
                    <a:lnTo>
                      <a:pt x="949" y="6"/>
                    </a:lnTo>
                    <a:lnTo>
                      <a:pt x="944" y="4"/>
                    </a:lnTo>
                    <a:lnTo>
                      <a:pt x="940" y="4"/>
                    </a:lnTo>
                    <a:lnTo>
                      <a:pt x="936" y="2"/>
                    </a:lnTo>
                    <a:lnTo>
                      <a:pt x="934" y="2"/>
                    </a:lnTo>
                    <a:lnTo>
                      <a:pt x="932" y="0"/>
                    </a:lnTo>
                    <a:lnTo>
                      <a:pt x="928" y="0"/>
                    </a:lnTo>
                    <a:lnTo>
                      <a:pt x="926" y="0"/>
                    </a:lnTo>
                    <a:lnTo>
                      <a:pt x="925" y="0"/>
                    </a:lnTo>
                    <a:lnTo>
                      <a:pt x="921" y="0"/>
                    </a:lnTo>
                    <a:lnTo>
                      <a:pt x="919" y="0"/>
                    </a:lnTo>
                    <a:lnTo>
                      <a:pt x="915" y="0"/>
                    </a:lnTo>
                    <a:lnTo>
                      <a:pt x="913" y="0"/>
                    </a:lnTo>
                    <a:lnTo>
                      <a:pt x="911" y="0"/>
                    </a:lnTo>
                    <a:lnTo>
                      <a:pt x="907" y="0"/>
                    </a:lnTo>
                    <a:lnTo>
                      <a:pt x="904" y="0"/>
                    </a:lnTo>
                    <a:lnTo>
                      <a:pt x="898" y="2"/>
                    </a:lnTo>
                    <a:lnTo>
                      <a:pt x="896" y="2"/>
                    </a:lnTo>
                    <a:lnTo>
                      <a:pt x="892" y="2"/>
                    </a:lnTo>
                    <a:lnTo>
                      <a:pt x="890" y="2"/>
                    </a:lnTo>
                    <a:lnTo>
                      <a:pt x="888" y="4"/>
                    </a:lnTo>
                    <a:lnTo>
                      <a:pt x="881" y="4"/>
                    </a:lnTo>
                    <a:lnTo>
                      <a:pt x="877" y="6"/>
                    </a:lnTo>
                    <a:lnTo>
                      <a:pt x="873" y="10"/>
                    </a:lnTo>
                    <a:lnTo>
                      <a:pt x="867" y="11"/>
                    </a:lnTo>
                    <a:lnTo>
                      <a:pt x="864" y="15"/>
                    </a:lnTo>
                    <a:lnTo>
                      <a:pt x="860" y="17"/>
                    </a:lnTo>
                    <a:lnTo>
                      <a:pt x="854" y="19"/>
                    </a:lnTo>
                    <a:lnTo>
                      <a:pt x="850" y="23"/>
                    </a:lnTo>
                    <a:lnTo>
                      <a:pt x="847" y="25"/>
                    </a:lnTo>
                    <a:lnTo>
                      <a:pt x="843" y="29"/>
                    </a:lnTo>
                    <a:lnTo>
                      <a:pt x="839" y="32"/>
                    </a:lnTo>
                    <a:lnTo>
                      <a:pt x="835" y="36"/>
                    </a:lnTo>
                    <a:lnTo>
                      <a:pt x="833" y="40"/>
                    </a:lnTo>
                    <a:lnTo>
                      <a:pt x="831" y="44"/>
                    </a:lnTo>
                    <a:lnTo>
                      <a:pt x="828" y="48"/>
                    </a:lnTo>
                    <a:lnTo>
                      <a:pt x="824" y="53"/>
                    </a:lnTo>
                    <a:lnTo>
                      <a:pt x="822" y="57"/>
                    </a:lnTo>
                    <a:lnTo>
                      <a:pt x="820" y="61"/>
                    </a:lnTo>
                    <a:lnTo>
                      <a:pt x="818" y="67"/>
                    </a:lnTo>
                    <a:lnTo>
                      <a:pt x="816" y="70"/>
                    </a:lnTo>
                    <a:lnTo>
                      <a:pt x="816" y="74"/>
                    </a:lnTo>
                    <a:lnTo>
                      <a:pt x="814" y="76"/>
                    </a:lnTo>
                    <a:lnTo>
                      <a:pt x="812" y="82"/>
                    </a:lnTo>
                    <a:lnTo>
                      <a:pt x="812" y="84"/>
                    </a:lnTo>
                    <a:lnTo>
                      <a:pt x="687" y="663"/>
                    </a:lnTo>
                    <a:lnTo>
                      <a:pt x="681" y="663"/>
                    </a:lnTo>
                    <a:lnTo>
                      <a:pt x="677" y="663"/>
                    </a:lnTo>
                    <a:lnTo>
                      <a:pt x="673" y="663"/>
                    </a:lnTo>
                    <a:lnTo>
                      <a:pt x="670" y="663"/>
                    </a:lnTo>
                    <a:lnTo>
                      <a:pt x="666" y="663"/>
                    </a:lnTo>
                    <a:lnTo>
                      <a:pt x="660" y="665"/>
                    </a:lnTo>
                    <a:lnTo>
                      <a:pt x="656" y="665"/>
                    </a:lnTo>
                    <a:lnTo>
                      <a:pt x="652" y="667"/>
                    </a:lnTo>
                    <a:lnTo>
                      <a:pt x="753" y="213"/>
                    </a:lnTo>
                    <a:lnTo>
                      <a:pt x="753" y="209"/>
                    </a:lnTo>
                    <a:lnTo>
                      <a:pt x="753" y="207"/>
                    </a:lnTo>
                    <a:lnTo>
                      <a:pt x="753" y="203"/>
                    </a:lnTo>
                    <a:lnTo>
                      <a:pt x="753" y="201"/>
                    </a:lnTo>
                    <a:lnTo>
                      <a:pt x="753" y="198"/>
                    </a:lnTo>
                    <a:lnTo>
                      <a:pt x="753" y="196"/>
                    </a:lnTo>
                    <a:lnTo>
                      <a:pt x="753" y="192"/>
                    </a:lnTo>
                    <a:lnTo>
                      <a:pt x="753" y="190"/>
                    </a:lnTo>
                    <a:lnTo>
                      <a:pt x="753" y="188"/>
                    </a:lnTo>
                    <a:lnTo>
                      <a:pt x="753" y="184"/>
                    </a:lnTo>
                    <a:lnTo>
                      <a:pt x="753" y="182"/>
                    </a:lnTo>
                    <a:lnTo>
                      <a:pt x="753" y="181"/>
                    </a:lnTo>
                    <a:lnTo>
                      <a:pt x="753" y="175"/>
                    </a:lnTo>
                    <a:lnTo>
                      <a:pt x="753" y="169"/>
                    </a:lnTo>
                    <a:lnTo>
                      <a:pt x="751" y="167"/>
                    </a:lnTo>
                    <a:lnTo>
                      <a:pt x="751" y="163"/>
                    </a:lnTo>
                    <a:lnTo>
                      <a:pt x="751" y="162"/>
                    </a:lnTo>
                    <a:lnTo>
                      <a:pt x="750" y="160"/>
                    </a:lnTo>
                    <a:lnTo>
                      <a:pt x="748" y="154"/>
                    </a:lnTo>
                    <a:lnTo>
                      <a:pt x="746" y="148"/>
                    </a:lnTo>
                    <a:lnTo>
                      <a:pt x="744" y="144"/>
                    </a:lnTo>
                    <a:lnTo>
                      <a:pt x="742" y="141"/>
                    </a:lnTo>
                    <a:lnTo>
                      <a:pt x="740" y="135"/>
                    </a:lnTo>
                    <a:lnTo>
                      <a:pt x="738" y="131"/>
                    </a:lnTo>
                    <a:lnTo>
                      <a:pt x="734" y="127"/>
                    </a:lnTo>
                    <a:lnTo>
                      <a:pt x="730" y="124"/>
                    </a:lnTo>
                    <a:lnTo>
                      <a:pt x="727" y="120"/>
                    </a:lnTo>
                    <a:lnTo>
                      <a:pt x="725" y="116"/>
                    </a:lnTo>
                    <a:lnTo>
                      <a:pt x="721" y="112"/>
                    </a:lnTo>
                    <a:lnTo>
                      <a:pt x="717" y="108"/>
                    </a:lnTo>
                    <a:lnTo>
                      <a:pt x="713" y="105"/>
                    </a:lnTo>
                    <a:lnTo>
                      <a:pt x="710" y="103"/>
                    </a:lnTo>
                    <a:lnTo>
                      <a:pt x="704" y="99"/>
                    </a:lnTo>
                    <a:lnTo>
                      <a:pt x="700" y="97"/>
                    </a:lnTo>
                    <a:lnTo>
                      <a:pt x="694" y="95"/>
                    </a:lnTo>
                    <a:lnTo>
                      <a:pt x="691" y="91"/>
                    </a:lnTo>
                    <a:lnTo>
                      <a:pt x="685" y="89"/>
                    </a:lnTo>
                    <a:lnTo>
                      <a:pt x="681" y="87"/>
                    </a:lnTo>
                    <a:lnTo>
                      <a:pt x="675" y="86"/>
                    </a:lnTo>
                    <a:lnTo>
                      <a:pt x="672" y="86"/>
                    </a:lnTo>
                    <a:lnTo>
                      <a:pt x="668" y="84"/>
                    </a:lnTo>
                    <a:lnTo>
                      <a:pt x="666" y="84"/>
                    </a:lnTo>
                    <a:lnTo>
                      <a:pt x="664" y="84"/>
                    </a:lnTo>
                    <a:lnTo>
                      <a:pt x="660" y="84"/>
                    </a:lnTo>
                    <a:lnTo>
                      <a:pt x="658" y="84"/>
                    </a:lnTo>
                    <a:lnTo>
                      <a:pt x="654" y="84"/>
                    </a:lnTo>
                    <a:lnTo>
                      <a:pt x="652" y="84"/>
                    </a:lnTo>
                    <a:lnTo>
                      <a:pt x="651" y="84"/>
                    </a:lnTo>
                    <a:lnTo>
                      <a:pt x="647" y="84"/>
                    </a:lnTo>
                    <a:lnTo>
                      <a:pt x="645" y="84"/>
                    </a:lnTo>
                    <a:lnTo>
                      <a:pt x="643" y="84"/>
                    </a:lnTo>
                    <a:lnTo>
                      <a:pt x="639" y="84"/>
                    </a:lnTo>
                    <a:lnTo>
                      <a:pt x="635" y="84"/>
                    </a:lnTo>
                    <a:lnTo>
                      <a:pt x="630" y="84"/>
                    </a:lnTo>
                    <a:lnTo>
                      <a:pt x="628" y="84"/>
                    </a:lnTo>
                    <a:lnTo>
                      <a:pt x="624" y="86"/>
                    </a:lnTo>
                    <a:lnTo>
                      <a:pt x="622" y="86"/>
                    </a:lnTo>
                    <a:lnTo>
                      <a:pt x="618" y="86"/>
                    </a:lnTo>
                    <a:lnTo>
                      <a:pt x="614" y="87"/>
                    </a:lnTo>
                    <a:lnTo>
                      <a:pt x="609" y="89"/>
                    </a:lnTo>
                    <a:lnTo>
                      <a:pt x="603" y="91"/>
                    </a:lnTo>
                    <a:lnTo>
                      <a:pt x="599" y="95"/>
                    </a:lnTo>
                    <a:lnTo>
                      <a:pt x="595" y="97"/>
                    </a:lnTo>
                    <a:lnTo>
                      <a:pt x="592" y="99"/>
                    </a:lnTo>
                    <a:lnTo>
                      <a:pt x="586" y="103"/>
                    </a:lnTo>
                    <a:lnTo>
                      <a:pt x="582" y="105"/>
                    </a:lnTo>
                    <a:lnTo>
                      <a:pt x="578" y="108"/>
                    </a:lnTo>
                    <a:lnTo>
                      <a:pt x="574" y="112"/>
                    </a:lnTo>
                    <a:lnTo>
                      <a:pt x="571" y="116"/>
                    </a:lnTo>
                    <a:lnTo>
                      <a:pt x="567" y="120"/>
                    </a:lnTo>
                    <a:lnTo>
                      <a:pt x="565" y="124"/>
                    </a:lnTo>
                    <a:lnTo>
                      <a:pt x="563" y="127"/>
                    </a:lnTo>
                    <a:lnTo>
                      <a:pt x="559" y="131"/>
                    </a:lnTo>
                    <a:lnTo>
                      <a:pt x="555" y="135"/>
                    </a:lnTo>
                    <a:lnTo>
                      <a:pt x="554" y="141"/>
                    </a:lnTo>
                    <a:lnTo>
                      <a:pt x="552" y="146"/>
                    </a:lnTo>
                    <a:lnTo>
                      <a:pt x="550" y="150"/>
                    </a:lnTo>
                    <a:lnTo>
                      <a:pt x="548" y="156"/>
                    </a:lnTo>
                    <a:lnTo>
                      <a:pt x="546" y="158"/>
                    </a:lnTo>
                    <a:lnTo>
                      <a:pt x="546" y="160"/>
                    </a:lnTo>
                    <a:lnTo>
                      <a:pt x="544" y="163"/>
                    </a:lnTo>
                    <a:lnTo>
                      <a:pt x="544" y="167"/>
                    </a:lnTo>
                    <a:lnTo>
                      <a:pt x="361" y="1127"/>
                    </a:lnTo>
                    <a:lnTo>
                      <a:pt x="361" y="112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9" name="AutoShape 362"/>
            <p:cNvSpPr/>
            <p:nvPr/>
          </p:nvSpPr>
          <p:spPr>
            <a:xfrm flipH="1" rot="10909200">
              <a:off x="6954840" y="1985760"/>
              <a:ext cx="88560" cy="75960"/>
            </a:xfrm>
            <a:prstGeom prst="hexagon">
              <a:avLst>
                <a:gd name="adj" fmla="val 29147"/>
                <a:gd name="vf" fmla="val 1154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0" name="Group 363"/>
          <p:cNvGrpSpPr/>
          <p:nvPr/>
        </p:nvGrpSpPr>
        <p:grpSpPr>
          <a:xfrm>
            <a:off x="6639480" y="2238480"/>
            <a:ext cx="798840" cy="1043640"/>
            <a:chOff x="6639480" y="2238480"/>
            <a:chExt cx="798840" cy="1043640"/>
          </a:xfrm>
        </p:grpSpPr>
        <p:grpSp>
          <p:nvGrpSpPr>
            <p:cNvPr id="2951" name=""/>
            <p:cNvGrpSpPr/>
            <p:nvPr/>
          </p:nvGrpSpPr>
          <p:grpSpPr>
            <a:xfrm>
              <a:off x="6900480" y="2807280"/>
              <a:ext cx="304920" cy="199440"/>
              <a:chOff x="6900480" y="2807280"/>
              <a:chExt cx="304920" cy="199440"/>
            </a:xfrm>
          </p:grpSpPr>
          <p:sp>
            <p:nvSpPr>
              <p:cNvPr id="2952" name="Line 364"/>
              <p:cNvSpPr/>
              <p:nvPr/>
            </p:nvSpPr>
            <p:spPr>
              <a:xfrm flipV="1">
                <a:off x="6925320" y="2807280"/>
                <a:ext cx="254520" cy="199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 txBox="1"/>
              <p:nvPr/>
            </p:nvSpPr>
            <p:spPr>
              <a:xfrm rot="10243800">
                <a:off x="6910920" y="2828880"/>
                <a:ext cx="283680" cy="155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4" name="Group 365"/>
            <p:cNvGrpSpPr/>
            <p:nvPr/>
          </p:nvGrpSpPr>
          <p:grpSpPr>
            <a:xfrm>
              <a:off x="6639480" y="2238480"/>
              <a:ext cx="798840" cy="852840"/>
              <a:chOff x="6639480" y="2238480"/>
              <a:chExt cx="798840" cy="852840"/>
            </a:xfrm>
          </p:grpSpPr>
          <p:sp>
            <p:nvSpPr>
              <p:cNvPr id="2955" name="AutoShape 366"/>
              <p:cNvSpPr/>
              <p:nvPr/>
            </p:nvSpPr>
            <p:spPr>
              <a:xfrm flipH="1" rot="10739400">
                <a:off x="7027920" y="2256840"/>
                <a:ext cx="405360" cy="516600"/>
              </a:xfrm>
              <a:custGeom>
                <a:avLst/>
                <a:gdLst>
                  <a:gd name="textAreaLeft" fmla="*/ 0 w 405360"/>
                  <a:gd name="textAreaRight" fmla="*/ 146160 w 405360"/>
                  <a:gd name="textAreaTop" fmla="*/ 13320 h 516600"/>
                  <a:gd name="textAreaBottom" fmla="*/ 503280 h 51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AutoShape 367"/>
              <p:cNvSpPr/>
              <p:nvPr/>
            </p:nvSpPr>
            <p:spPr>
              <a:xfrm flipH="1" rot="10615800">
                <a:off x="6739920" y="2250000"/>
                <a:ext cx="446040" cy="526680"/>
              </a:xfrm>
              <a:custGeom>
                <a:avLst/>
                <a:gdLst>
                  <a:gd name="textAreaLeft" fmla="*/ 21600 w 446040"/>
                  <a:gd name="textAreaRight" fmla="*/ 424440 w 446040"/>
                  <a:gd name="textAreaTop" fmla="*/ 21600 h 526680"/>
                  <a:gd name="textAreaBottom" fmla="*/ 505080 h 526680"/>
                </a:gdLst>
                <a:ahLst/>
                <a:rect l="textAreaLeft" t="textAreaTop" r="textAreaRight" b="textAreaBottom"/>
                <a:pathLst>
                  <a:path w="21600" h="25502">
                    <a:moveTo>
                      <a:pt x="3600" y="0"/>
                    </a:moveTo>
                    <a:arcTo wR="3600" hR="3600" stAng="16200000" swAng="-5400000"/>
                    <a:lnTo>
                      <a:pt x="0" y="21902"/>
                    </a:lnTo>
                    <a:arcTo wR="3600" hR="3600" stAng="10800000" swAng="-5400000"/>
                    <a:lnTo>
                      <a:pt x="18000" y="2550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AutoShape 368"/>
              <p:cNvSpPr/>
              <p:nvPr/>
            </p:nvSpPr>
            <p:spPr>
              <a:xfrm flipH="1" rot="11790600">
                <a:off x="6676200" y="2710080"/>
                <a:ext cx="446040" cy="324360"/>
              </a:xfrm>
              <a:prstGeom prst="triangle">
                <a:avLst>
                  <a:gd name="adj" fmla="val 50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AutoShape 369"/>
              <p:cNvSpPr/>
              <p:nvPr/>
            </p:nvSpPr>
            <p:spPr>
              <a:xfrm flipH="1" rot="10423800">
                <a:off x="6925680" y="2450520"/>
                <a:ext cx="99720" cy="143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725" y="3202"/>
                      <a:pt x="17850" y="5080"/>
                      <a:pt x="17850" y="10800"/>
                    </a:cubicBezTo>
                    <a:cubicBezTo>
                      <a:pt x="17850" y="16520"/>
                      <a:pt x="19725" y="1839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9" name="AutoShape 370"/>
            <p:cNvSpPr/>
            <p:nvPr/>
          </p:nvSpPr>
          <p:spPr>
            <a:xfrm flipH="1" rot="12709800">
              <a:off x="6748560" y="2990160"/>
              <a:ext cx="70920" cy="295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0" name="Group 371"/>
          <p:cNvGrpSpPr/>
          <p:nvPr/>
        </p:nvGrpSpPr>
        <p:grpSpPr>
          <a:xfrm>
            <a:off x="6516720" y="1308240"/>
            <a:ext cx="930960" cy="1872720"/>
            <a:chOff x="6516720" y="1308240"/>
            <a:chExt cx="930960" cy="1872720"/>
          </a:xfrm>
        </p:grpSpPr>
        <p:grpSp>
          <p:nvGrpSpPr>
            <p:cNvPr id="2961" name="Group 372"/>
            <p:cNvGrpSpPr/>
            <p:nvPr/>
          </p:nvGrpSpPr>
          <p:grpSpPr>
            <a:xfrm>
              <a:off x="6516720" y="1308240"/>
              <a:ext cx="902520" cy="1008360"/>
              <a:chOff x="6516720" y="1308240"/>
              <a:chExt cx="902520" cy="1008360"/>
            </a:xfrm>
          </p:grpSpPr>
          <p:grpSp>
            <p:nvGrpSpPr>
              <p:cNvPr id="2962" name=""/>
              <p:cNvGrpSpPr/>
              <p:nvPr/>
            </p:nvGrpSpPr>
            <p:grpSpPr>
              <a:xfrm>
                <a:off x="6851880" y="1549440"/>
                <a:ext cx="284040" cy="155520"/>
                <a:chOff x="6851880" y="1549440"/>
                <a:chExt cx="284040" cy="155520"/>
              </a:xfrm>
            </p:grpSpPr>
            <p:sp>
              <p:nvSpPr>
                <p:cNvPr id="2963" name="Line 373"/>
                <p:cNvSpPr/>
                <p:nvPr/>
              </p:nvSpPr>
              <p:spPr>
                <a:xfrm flipH="1">
                  <a:off x="6851880" y="1549440"/>
                  <a:ext cx="284040" cy="155520"/>
                </a:xfrm>
                <a:prstGeom prst="line">
                  <a:avLst/>
                </a:prstGeom>
                <a:ln w="64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4" name=""/>
                <p:cNvSpPr txBox="1"/>
                <p:nvPr/>
              </p:nvSpPr>
              <p:spPr>
                <a:xfrm>
                  <a:off x="6851880" y="1549440"/>
                  <a:ext cx="284040" cy="15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5" name="Group 374"/>
              <p:cNvGrpSpPr/>
              <p:nvPr/>
            </p:nvGrpSpPr>
            <p:grpSpPr>
              <a:xfrm>
                <a:off x="6516720" y="1442880"/>
                <a:ext cx="894600" cy="873720"/>
                <a:chOff x="6516720" y="1442880"/>
                <a:chExt cx="894600" cy="873720"/>
              </a:xfrm>
            </p:grpSpPr>
            <p:sp>
              <p:nvSpPr>
                <p:cNvPr id="2966" name="AutoShape 375"/>
                <p:cNvSpPr/>
                <p:nvPr/>
              </p:nvSpPr>
              <p:spPr>
                <a:xfrm flipH="1" rot="498000">
                  <a:off x="6551640" y="1726200"/>
                  <a:ext cx="405360" cy="516600"/>
                </a:xfrm>
                <a:custGeom>
                  <a:avLst/>
                  <a:gdLst>
                    <a:gd name="textAreaLeft" fmla="*/ 0 w 405360"/>
                    <a:gd name="textAreaRight" fmla="*/ 146160 w 405360"/>
                    <a:gd name="textAreaTop" fmla="*/ 13320 h 516600"/>
                    <a:gd name="textAreaBottom" fmla="*/ 503280 h 516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1260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7" name="AutoShape 376"/>
                <p:cNvSpPr/>
                <p:nvPr/>
              </p:nvSpPr>
              <p:spPr>
                <a:xfrm flipH="1" rot="374400">
                  <a:off x="6795000" y="1766880"/>
                  <a:ext cx="446040" cy="527040"/>
                </a:xfrm>
                <a:custGeom>
                  <a:avLst/>
                  <a:gdLst>
                    <a:gd name="textAreaLeft" fmla="*/ 21600 w 446040"/>
                    <a:gd name="textAreaRight" fmla="*/ 424440 w 446040"/>
                    <a:gd name="textAreaTop" fmla="*/ 21600 h 527040"/>
                    <a:gd name="textAreaBottom" fmla="*/ 505440 h 527040"/>
                  </a:gdLst>
                  <a:ahLst/>
                  <a:rect l="textAreaLeft" t="textAreaTop" r="textAreaRight" b="textAreaBottom"/>
                  <a:pathLst>
                    <a:path w="21600" h="25519">
                      <a:moveTo>
                        <a:pt x="3600" y="0"/>
                      </a:moveTo>
                      <a:arcTo wR="3600" hR="3600" stAng="16200000" swAng="-5400000"/>
                      <a:lnTo>
                        <a:pt x="0" y="21919"/>
                      </a:lnTo>
                      <a:arcTo wR="3600" hR="3600" stAng="10800000" swAng="-5400000"/>
                      <a:lnTo>
                        <a:pt x="18000" y="2551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37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8" name="AutoShape 377"/>
                <p:cNvSpPr/>
                <p:nvPr/>
              </p:nvSpPr>
              <p:spPr>
                <a:xfrm flipH="1" rot="1549200">
                  <a:off x="6916680" y="1523520"/>
                  <a:ext cx="446040" cy="3243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20448000"/>
                </a:gra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9" name="AutoShape 378"/>
                <p:cNvSpPr/>
                <p:nvPr/>
              </p:nvSpPr>
              <p:spPr>
                <a:xfrm flipH="1" rot="182400">
                  <a:off x="6956280" y="1947600"/>
                  <a:ext cx="99720" cy="143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9725" y="3202"/>
                        <a:pt x="17850" y="5080"/>
                        <a:pt x="17850" y="10800"/>
                      </a:cubicBezTo>
                      <a:cubicBezTo>
                        <a:pt x="17850" y="16520"/>
                        <a:pt x="19725" y="1839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18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0" name="AutoShape 379"/>
              <p:cNvSpPr/>
              <p:nvPr/>
            </p:nvSpPr>
            <p:spPr>
              <a:xfrm flipH="1" rot="2468400">
                <a:off x="7259760" y="1294920"/>
                <a:ext cx="71280" cy="295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21366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1" name="Group 380"/>
            <p:cNvGrpSpPr/>
            <p:nvPr/>
          </p:nvGrpSpPr>
          <p:grpSpPr>
            <a:xfrm>
              <a:off x="6544440" y="2172600"/>
              <a:ext cx="903240" cy="1008360"/>
              <a:chOff x="6544440" y="2172600"/>
              <a:chExt cx="903240" cy="1008360"/>
            </a:xfrm>
          </p:grpSpPr>
          <p:grpSp>
            <p:nvGrpSpPr>
              <p:cNvPr id="2972" name=""/>
              <p:cNvGrpSpPr/>
              <p:nvPr/>
            </p:nvGrpSpPr>
            <p:grpSpPr>
              <a:xfrm>
                <a:off x="6828120" y="2784240"/>
                <a:ext cx="283680" cy="155520"/>
                <a:chOff x="6828120" y="2784240"/>
                <a:chExt cx="283680" cy="155520"/>
              </a:xfrm>
            </p:grpSpPr>
            <p:sp>
              <p:nvSpPr>
                <p:cNvPr id="2973" name="Line 381"/>
                <p:cNvSpPr/>
                <p:nvPr/>
              </p:nvSpPr>
              <p:spPr>
                <a:xfrm flipV="1">
                  <a:off x="6828120" y="2784240"/>
                  <a:ext cx="283680" cy="155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4" name=""/>
                <p:cNvSpPr txBox="1"/>
                <p:nvPr/>
              </p:nvSpPr>
              <p:spPr>
                <a:xfrm rot="10800000">
                  <a:off x="6828120" y="2784240"/>
                  <a:ext cx="283680" cy="15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5" name="Group 382"/>
              <p:cNvGrpSpPr/>
              <p:nvPr/>
            </p:nvGrpSpPr>
            <p:grpSpPr>
              <a:xfrm>
                <a:off x="6553080" y="2172600"/>
                <a:ext cx="894600" cy="873720"/>
                <a:chOff x="6553080" y="2172600"/>
                <a:chExt cx="894600" cy="873720"/>
              </a:xfrm>
            </p:grpSpPr>
            <p:sp>
              <p:nvSpPr>
                <p:cNvPr id="2976" name="AutoShape 383"/>
                <p:cNvSpPr/>
                <p:nvPr/>
              </p:nvSpPr>
              <p:spPr>
                <a:xfrm flipV="1" rot="498000">
                  <a:off x="7006680" y="2245320"/>
                  <a:ext cx="405360" cy="516600"/>
                </a:xfrm>
                <a:custGeom>
                  <a:avLst/>
                  <a:gdLst>
                    <a:gd name="textAreaLeft" fmla="*/ 0 w 405360"/>
                    <a:gd name="textAreaRight" fmla="*/ 146160 w 405360"/>
                    <a:gd name="textAreaTop" fmla="*/ 13320 h 516600"/>
                    <a:gd name="textAreaBottom" fmla="*/ 503280 h 516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7" name="AutoShape 384"/>
                <p:cNvSpPr/>
                <p:nvPr/>
              </p:nvSpPr>
              <p:spPr>
                <a:xfrm flipV="1" rot="374400">
                  <a:off x="6723000" y="2195280"/>
                  <a:ext cx="446040" cy="527040"/>
                </a:xfrm>
                <a:custGeom>
                  <a:avLst/>
                  <a:gdLst>
                    <a:gd name="textAreaLeft" fmla="*/ 21600 w 446040"/>
                    <a:gd name="textAreaRight" fmla="*/ 424440 w 446040"/>
                    <a:gd name="textAreaTop" fmla="*/ 21600 h 527040"/>
                    <a:gd name="textAreaBottom" fmla="*/ 505440 h 527040"/>
                  </a:gdLst>
                  <a:ahLst/>
                  <a:rect l="textAreaLeft" t="textAreaTop" r="textAreaRight" b="textAreaBottom"/>
                  <a:pathLst>
                    <a:path w="21600" h="25519">
                      <a:moveTo>
                        <a:pt x="3600" y="0"/>
                      </a:moveTo>
                      <a:arcTo wR="3600" hR="3600" stAng="16200000" swAng="-5400000"/>
                      <a:lnTo>
                        <a:pt x="0" y="21919"/>
                      </a:lnTo>
                      <a:arcTo wR="3600" hR="3600" stAng="10800000" swAng="-5400000"/>
                      <a:lnTo>
                        <a:pt x="18000" y="2551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8" name="AutoShape 385"/>
                <p:cNvSpPr/>
                <p:nvPr/>
              </p:nvSpPr>
              <p:spPr>
                <a:xfrm flipV="1" rot="1549200">
                  <a:off x="6601320" y="2640240"/>
                  <a:ext cx="446040" cy="324360"/>
                </a:xfrm>
                <a:prstGeom prst="triangle">
                  <a:avLst>
                    <a:gd name="adj" fmla="val 5000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9" name="AutoShape 386"/>
                <p:cNvSpPr/>
                <p:nvPr/>
              </p:nvSpPr>
              <p:spPr>
                <a:xfrm flipV="1" rot="182400">
                  <a:off x="6906960" y="2397600"/>
                  <a:ext cx="99720" cy="143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9725" y="3202"/>
                        <a:pt x="17850" y="5080"/>
                        <a:pt x="17850" y="10800"/>
                      </a:cubicBezTo>
                      <a:cubicBezTo>
                        <a:pt x="17850" y="16520"/>
                        <a:pt x="19725" y="1839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80" name="AutoShape 387"/>
              <p:cNvSpPr/>
              <p:nvPr/>
            </p:nvSpPr>
            <p:spPr>
              <a:xfrm flipV="1" rot="2468400">
                <a:off x="6633000" y="2898000"/>
                <a:ext cx="70920" cy="295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1" name="Group 388"/>
          <p:cNvGrpSpPr/>
          <p:nvPr/>
        </p:nvGrpSpPr>
        <p:grpSpPr>
          <a:xfrm>
            <a:off x="6805800" y="1919880"/>
            <a:ext cx="348120" cy="1099800"/>
            <a:chOff x="6805800" y="1919880"/>
            <a:chExt cx="348120" cy="1099800"/>
          </a:xfrm>
        </p:grpSpPr>
        <p:grpSp>
          <p:nvGrpSpPr>
            <p:cNvPr id="2982" name="Group 389"/>
            <p:cNvGrpSpPr/>
            <p:nvPr/>
          </p:nvGrpSpPr>
          <p:grpSpPr>
            <a:xfrm>
              <a:off x="6805800" y="2385720"/>
              <a:ext cx="348120" cy="633960"/>
              <a:chOff x="6805800" y="2385720"/>
              <a:chExt cx="348120" cy="633960"/>
            </a:xfrm>
          </p:grpSpPr>
          <p:sp>
            <p:nvSpPr>
              <p:cNvPr id="2983" name="AutoShape 390"/>
              <p:cNvSpPr/>
              <p:nvPr/>
            </p:nvSpPr>
            <p:spPr>
              <a:xfrm flipH="1" rot="886800">
                <a:off x="6865200" y="2513880"/>
                <a:ext cx="179280" cy="491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556" y="21600"/>
                    </a:lnTo>
                    <a:lnTo>
                      <a:pt x="20044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8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AutoShape 391"/>
              <p:cNvSpPr/>
              <p:nvPr/>
            </p:nvSpPr>
            <p:spPr>
              <a:xfrm flipH="1" rot="16908600">
                <a:off x="6922440" y="2385360"/>
                <a:ext cx="191520" cy="236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934" y="2201"/>
                      <a:pt x="12267" y="5080"/>
                      <a:pt x="12267" y="10800"/>
                    </a:cubicBezTo>
                    <a:cubicBezTo>
                      <a:pt x="12267" y="16520"/>
                      <a:pt x="16934" y="1939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162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5" name="Group 392"/>
            <p:cNvGrpSpPr/>
            <p:nvPr/>
          </p:nvGrpSpPr>
          <p:grpSpPr>
            <a:xfrm>
              <a:off x="6806160" y="1919880"/>
              <a:ext cx="347760" cy="633960"/>
              <a:chOff x="6806160" y="1919880"/>
              <a:chExt cx="347760" cy="633960"/>
            </a:xfrm>
          </p:grpSpPr>
          <p:grpSp>
            <p:nvGrpSpPr>
              <p:cNvPr id="2986" name="Group 393"/>
              <p:cNvGrpSpPr/>
              <p:nvPr/>
            </p:nvGrpSpPr>
            <p:grpSpPr>
              <a:xfrm>
                <a:off x="6806160" y="1919880"/>
                <a:ext cx="347760" cy="633960"/>
                <a:chOff x="6806160" y="1919880"/>
                <a:chExt cx="347760" cy="633960"/>
              </a:xfrm>
            </p:grpSpPr>
            <p:sp>
              <p:nvSpPr>
                <p:cNvPr id="2987" name="AutoShape 394"/>
                <p:cNvSpPr/>
                <p:nvPr/>
              </p:nvSpPr>
              <p:spPr>
                <a:xfrm flipH="1" flipV="1" rot="20713200">
                  <a:off x="6865200" y="1934640"/>
                  <a:ext cx="179280" cy="491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1556" y="21600"/>
                      </a:lnTo>
                      <a:lnTo>
                        <a:pt x="20044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8" name="AutoShape 395"/>
                <p:cNvSpPr/>
                <p:nvPr/>
              </p:nvSpPr>
              <p:spPr>
                <a:xfrm flipH="1" flipV="1" rot="4691400">
                  <a:off x="6922440" y="2317320"/>
                  <a:ext cx="191520" cy="23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934" y="2201"/>
                        <a:pt x="12267" y="5080"/>
                        <a:pt x="12267" y="10800"/>
                      </a:cubicBezTo>
                      <a:cubicBezTo>
                        <a:pt x="12267" y="16520"/>
                        <a:pt x="16934" y="1939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89" name="AutoShape 396"/>
              <p:cNvSpPr/>
              <p:nvPr/>
            </p:nvSpPr>
            <p:spPr>
              <a:xfrm flipH="1" flipV="1" rot="64800">
                <a:off x="6879600" y="2184480"/>
                <a:ext cx="180720" cy="122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AutoShape 397"/>
              <p:cNvSpPr/>
              <p:nvPr/>
            </p:nvSpPr>
            <p:spPr>
              <a:xfrm flipH="1" flipV="1" rot="21527400">
                <a:off x="6917760" y="2200320"/>
                <a:ext cx="115560" cy="109080"/>
              </a:xfrm>
              <a:custGeom>
                <a:avLst/>
                <a:gdLst/>
                <a:ahLst/>
                <a:rect l="l" t="t" r="r" b="b"/>
                <a:pathLst>
                  <a:path w="73" h="69">
                    <a:moveTo>
                      <a:pt x="0" y="26"/>
                    </a:moveTo>
                    <a:lnTo>
                      <a:pt x="27" y="26"/>
                    </a:lnTo>
                    <a:lnTo>
                      <a:pt x="36" y="0"/>
                    </a:lnTo>
                    <a:lnTo>
                      <a:pt x="45" y="26"/>
                    </a:lnTo>
                    <a:lnTo>
                      <a:pt x="72" y="26"/>
                    </a:lnTo>
                    <a:lnTo>
                      <a:pt x="50" y="42"/>
                    </a:lnTo>
                    <a:lnTo>
                      <a:pt x="59" y="68"/>
                    </a:lnTo>
                    <a:lnTo>
                      <a:pt x="36" y="52"/>
                    </a:lnTo>
                    <a:lnTo>
                      <a:pt x="13" y="68"/>
                    </a:lnTo>
                    <a:lnTo>
                      <a:pt x="22" y="42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91" name="Group 398"/>
          <p:cNvGrpSpPr/>
          <p:nvPr/>
        </p:nvGrpSpPr>
        <p:grpSpPr>
          <a:xfrm>
            <a:off x="6872400" y="2606040"/>
            <a:ext cx="212040" cy="177120"/>
            <a:chOff x="6872400" y="2606040"/>
            <a:chExt cx="212040" cy="177120"/>
          </a:xfrm>
        </p:grpSpPr>
        <p:sp>
          <p:nvSpPr>
            <p:cNvPr id="2992" name="AutoShape 399"/>
            <p:cNvSpPr/>
            <p:nvPr/>
          </p:nvSpPr>
          <p:spPr>
            <a:xfrm flipH="1" rot="1215000">
              <a:off x="6887520" y="2633400"/>
              <a:ext cx="180720" cy="12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AutoShape 400"/>
            <p:cNvSpPr/>
            <p:nvPr/>
          </p:nvSpPr>
          <p:spPr>
            <a:xfrm flipH="1" rot="1177800">
              <a:off x="6912000" y="2634840"/>
              <a:ext cx="132840" cy="115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4" name="Group 401"/>
          <p:cNvGrpSpPr/>
          <p:nvPr/>
        </p:nvGrpSpPr>
        <p:grpSpPr>
          <a:xfrm>
            <a:off x="6370920" y="2481480"/>
            <a:ext cx="1053360" cy="983520"/>
            <a:chOff x="6370920" y="2481480"/>
            <a:chExt cx="1053360" cy="983520"/>
          </a:xfrm>
        </p:grpSpPr>
        <p:grpSp>
          <p:nvGrpSpPr>
            <p:cNvPr id="2995" name="Group 402"/>
            <p:cNvGrpSpPr/>
            <p:nvPr/>
          </p:nvGrpSpPr>
          <p:grpSpPr>
            <a:xfrm>
              <a:off x="6370920" y="2845080"/>
              <a:ext cx="642600" cy="619920"/>
              <a:chOff x="6370920" y="2845080"/>
              <a:chExt cx="642600" cy="619920"/>
            </a:xfrm>
          </p:grpSpPr>
          <p:grpSp>
            <p:nvGrpSpPr>
              <p:cNvPr id="2996" name="Group 403"/>
              <p:cNvGrpSpPr/>
              <p:nvPr/>
            </p:nvGrpSpPr>
            <p:grpSpPr>
              <a:xfrm>
                <a:off x="6370920" y="2845080"/>
                <a:ext cx="642600" cy="619920"/>
                <a:chOff x="6370920" y="2845080"/>
                <a:chExt cx="642600" cy="619920"/>
              </a:xfrm>
            </p:grpSpPr>
            <p:sp>
              <p:nvSpPr>
                <p:cNvPr id="2997" name="AutoShape 404"/>
                <p:cNvSpPr/>
                <p:nvPr/>
              </p:nvSpPr>
              <p:spPr>
                <a:xfrm flipH="1" rot="2617200">
                  <a:off x="6650640" y="2945160"/>
                  <a:ext cx="179640" cy="36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4308" y="21600"/>
                      </a:lnTo>
                      <a:lnTo>
                        <a:pt x="17292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54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8" name="Oval 405"/>
                <p:cNvSpPr/>
                <p:nvPr/>
              </p:nvSpPr>
              <p:spPr>
                <a:xfrm flipH="1" rot="2077800">
                  <a:off x="6789600" y="2881080"/>
                  <a:ext cx="186480" cy="19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9" name="Freeform 406"/>
                <p:cNvSpPr/>
                <p:nvPr/>
              </p:nvSpPr>
              <p:spPr>
                <a:xfrm flipH="1" rot="14183400">
                  <a:off x="6451200" y="3168360"/>
                  <a:ext cx="174960" cy="287640"/>
                </a:xfrm>
                <a:custGeom>
                  <a:avLst/>
                  <a:gdLst/>
                  <a:ahLst/>
                  <a:rect l="l" t="t" r="r" b="b"/>
                  <a:pathLst>
                    <a:path w="1402" h="2302">
                      <a:moveTo>
                        <a:pt x="361" y="1127"/>
                      </a:moveTo>
                      <a:lnTo>
                        <a:pt x="280" y="1116"/>
                      </a:lnTo>
                      <a:lnTo>
                        <a:pt x="373" y="711"/>
                      </a:lnTo>
                      <a:lnTo>
                        <a:pt x="373" y="709"/>
                      </a:lnTo>
                      <a:lnTo>
                        <a:pt x="375" y="705"/>
                      </a:lnTo>
                      <a:lnTo>
                        <a:pt x="375" y="703"/>
                      </a:lnTo>
                      <a:lnTo>
                        <a:pt x="375" y="700"/>
                      </a:lnTo>
                      <a:lnTo>
                        <a:pt x="375" y="698"/>
                      </a:lnTo>
                      <a:lnTo>
                        <a:pt x="375" y="696"/>
                      </a:lnTo>
                      <a:lnTo>
                        <a:pt x="375" y="692"/>
                      </a:lnTo>
                      <a:lnTo>
                        <a:pt x="375" y="690"/>
                      </a:lnTo>
                      <a:lnTo>
                        <a:pt x="375" y="684"/>
                      </a:lnTo>
                      <a:lnTo>
                        <a:pt x="375" y="681"/>
                      </a:lnTo>
                      <a:lnTo>
                        <a:pt x="375" y="675"/>
                      </a:lnTo>
                      <a:lnTo>
                        <a:pt x="375" y="669"/>
                      </a:lnTo>
                      <a:lnTo>
                        <a:pt x="371" y="665"/>
                      </a:lnTo>
                      <a:lnTo>
                        <a:pt x="371" y="660"/>
                      </a:lnTo>
                      <a:lnTo>
                        <a:pt x="369" y="654"/>
                      </a:lnTo>
                      <a:lnTo>
                        <a:pt x="367" y="652"/>
                      </a:lnTo>
                      <a:lnTo>
                        <a:pt x="365" y="646"/>
                      </a:lnTo>
                      <a:lnTo>
                        <a:pt x="363" y="641"/>
                      </a:lnTo>
                      <a:lnTo>
                        <a:pt x="361" y="637"/>
                      </a:lnTo>
                      <a:lnTo>
                        <a:pt x="358" y="633"/>
                      </a:lnTo>
                      <a:lnTo>
                        <a:pt x="356" y="629"/>
                      </a:lnTo>
                      <a:lnTo>
                        <a:pt x="354" y="623"/>
                      </a:lnTo>
                      <a:lnTo>
                        <a:pt x="350" y="620"/>
                      </a:lnTo>
                      <a:lnTo>
                        <a:pt x="346" y="616"/>
                      </a:lnTo>
                      <a:lnTo>
                        <a:pt x="342" y="612"/>
                      </a:lnTo>
                      <a:lnTo>
                        <a:pt x="339" y="610"/>
                      </a:lnTo>
                      <a:lnTo>
                        <a:pt x="335" y="606"/>
                      </a:lnTo>
                      <a:lnTo>
                        <a:pt x="331" y="603"/>
                      </a:lnTo>
                      <a:lnTo>
                        <a:pt x="325" y="601"/>
                      </a:lnTo>
                      <a:lnTo>
                        <a:pt x="321" y="597"/>
                      </a:lnTo>
                      <a:lnTo>
                        <a:pt x="318" y="595"/>
                      </a:lnTo>
                      <a:lnTo>
                        <a:pt x="312" y="593"/>
                      </a:lnTo>
                      <a:lnTo>
                        <a:pt x="306" y="591"/>
                      </a:lnTo>
                      <a:lnTo>
                        <a:pt x="302" y="589"/>
                      </a:lnTo>
                      <a:lnTo>
                        <a:pt x="299" y="589"/>
                      </a:lnTo>
                      <a:lnTo>
                        <a:pt x="295" y="587"/>
                      </a:lnTo>
                      <a:lnTo>
                        <a:pt x="291" y="587"/>
                      </a:lnTo>
                      <a:lnTo>
                        <a:pt x="287" y="585"/>
                      </a:lnTo>
                      <a:lnTo>
                        <a:pt x="285" y="585"/>
                      </a:lnTo>
                      <a:lnTo>
                        <a:pt x="283" y="585"/>
                      </a:lnTo>
                      <a:lnTo>
                        <a:pt x="280" y="585"/>
                      </a:lnTo>
                      <a:lnTo>
                        <a:pt x="276" y="585"/>
                      </a:lnTo>
                      <a:lnTo>
                        <a:pt x="274" y="585"/>
                      </a:lnTo>
                      <a:lnTo>
                        <a:pt x="272" y="585"/>
                      </a:lnTo>
                      <a:lnTo>
                        <a:pt x="268" y="585"/>
                      </a:lnTo>
                      <a:lnTo>
                        <a:pt x="266" y="585"/>
                      </a:lnTo>
                      <a:lnTo>
                        <a:pt x="263" y="585"/>
                      </a:lnTo>
                      <a:lnTo>
                        <a:pt x="261" y="587"/>
                      </a:lnTo>
                      <a:lnTo>
                        <a:pt x="259" y="587"/>
                      </a:lnTo>
                      <a:lnTo>
                        <a:pt x="255" y="587"/>
                      </a:lnTo>
                      <a:lnTo>
                        <a:pt x="253" y="589"/>
                      </a:lnTo>
                      <a:lnTo>
                        <a:pt x="249" y="589"/>
                      </a:lnTo>
                      <a:lnTo>
                        <a:pt x="247" y="589"/>
                      </a:lnTo>
                      <a:lnTo>
                        <a:pt x="243" y="591"/>
                      </a:lnTo>
                      <a:lnTo>
                        <a:pt x="240" y="591"/>
                      </a:lnTo>
                      <a:lnTo>
                        <a:pt x="238" y="593"/>
                      </a:lnTo>
                      <a:lnTo>
                        <a:pt x="236" y="595"/>
                      </a:lnTo>
                      <a:lnTo>
                        <a:pt x="232" y="595"/>
                      </a:lnTo>
                      <a:lnTo>
                        <a:pt x="230" y="597"/>
                      </a:lnTo>
                      <a:lnTo>
                        <a:pt x="228" y="599"/>
                      </a:lnTo>
                      <a:lnTo>
                        <a:pt x="224" y="601"/>
                      </a:lnTo>
                      <a:lnTo>
                        <a:pt x="223" y="601"/>
                      </a:lnTo>
                      <a:lnTo>
                        <a:pt x="219" y="603"/>
                      </a:lnTo>
                      <a:lnTo>
                        <a:pt x="217" y="604"/>
                      </a:lnTo>
                      <a:lnTo>
                        <a:pt x="211" y="608"/>
                      </a:lnTo>
                      <a:lnTo>
                        <a:pt x="207" y="612"/>
                      </a:lnTo>
                      <a:lnTo>
                        <a:pt x="204" y="616"/>
                      </a:lnTo>
                      <a:lnTo>
                        <a:pt x="198" y="618"/>
                      </a:lnTo>
                      <a:lnTo>
                        <a:pt x="194" y="623"/>
                      </a:lnTo>
                      <a:lnTo>
                        <a:pt x="188" y="627"/>
                      </a:lnTo>
                      <a:lnTo>
                        <a:pt x="185" y="633"/>
                      </a:lnTo>
                      <a:lnTo>
                        <a:pt x="181" y="637"/>
                      </a:lnTo>
                      <a:lnTo>
                        <a:pt x="177" y="641"/>
                      </a:lnTo>
                      <a:lnTo>
                        <a:pt x="173" y="646"/>
                      </a:lnTo>
                      <a:lnTo>
                        <a:pt x="169" y="652"/>
                      </a:lnTo>
                      <a:lnTo>
                        <a:pt x="166" y="656"/>
                      </a:lnTo>
                      <a:lnTo>
                        <a:pt x="162" y="662"/>
                      </a:lnTo>
                      <a:lnTo>
                        <a:pt x="160" y="665"/>
                      </a:lnTo>
                      <a:lnTo>
                        <a:pt x="158" y="669"/>
                      </a:lnTo>
                      <a:lnTo>
                        <a:pt x="158" y="671"/>
                      </a:lnTo>
                      <a:lnTo>
                        <a:pt x="156" y="673"/>
                      </a:lnTo>
                      <a:lnTo>
                        <a:pt x="154" y="677"/>
                      </a:lnTo>
                      <a:lnTo>
                        <a:pt x="152" y="679"/>
                      </a:lnTo>
                      <a:lnTo>
                        <a:pt x="152" y="681"/>
                      </a:lnTo>
                      <a:lnTo>
                        <a:pt x="150" y="684"/>
                      </a:lnTo>
                      <a:lnTo>
                        <a:pt x="150" y="688"/>
                      </a:lnTo>
                      <a:lnTo>
                        <a:pt x="146" y="694"/>
                      </a:lnTo>
                      <a:lnTo>
                        <a:pt x="145" y="701"/>
                      </a:lnTo>
                      <a:lnTo>
                        <a:pt x="143" y="709"/>
                      </a:lnTo>
                      <a:lnTo>
                        <a:pt x="139" y="717"/>
                      </a:lnTo>
                      <a:lnTo>
                        <a:pt x="137" y="724"/>
                      </a:lnTo>
                      <a:lnTo>
                        <a:pt x="135" y="732"/>
                      </a:lnTo>
                      <a:lnTo>
                        <a:pt x="131" y="739"/>
                      </a:lnTo>
                      <a:lnTo>
                        <a:pt x="129" y="747"/>
                      </a:lnTo>
                      <a:lnTo>
                        <a:pt x="126" y="755"/>
                      </a:lnTo>
                      <a:lnTo>
                        <a:pt x="124" y="760"/>
                      </a:lnTo>
                      <a:lnTo>
                        <a:pt x="122" y="768"/>
                      </a:lnTo>
                      <a:lnTo>
                        <a:pt x="120" y="776"/>
                      </a:lnTo>
                      <a:lnTo>
                        <a:pt x="116" y="781"/>
                      </a:lnTo>
                      <a:lnTo>
                        <a:pt x="114" y="789"/>
                      </a:lnTo>
                      <a:lnTo>
                        <a:pt x="112" y="796"/>
                      </a:lnTo>
                      <a:lnTo>
                        <a:pt x="110" y="804"/>
                      </a:lnTo>
                      <a:lnTo>
                        <a:pt x="107" y="812"/>
                      </a:lnTo>
                      <a:lnTo>
                        <a:pt x="107" y="817"/>
                      </a:lnTo>
                      <a:lnTo>
                        <a:pt x="103" y="823"/>
                      </a:lnTo>
                      <a:lnTo>
                        <a:pt x="101" y="831"/>
                      </a:lnTo>
                      <a:lnTo>
                        <a:pt x="97" y="836"/>
                      </a:lnTo>
                      <a:lnTo>
                        <a:pt x="97" y="844"/>
                      </a:lnTo>
                      <a:lnTo>
                        <a:pt x="93" y="852"/>
                      </a:lnTo>
                      <a:lnTo>
                        <a:pt x="93" y="857"/>
                      </a:lnTo>
                      <a:lnTo>
                        <a:pt x="89" y="865"/>
                      </a:lnTo>
                      <a:lnTo>
                        <a:pt x="88" y="871"/>
                      </a:lnTo>
                      <a:lnTo>
                        <a:pt x="86" y="878"/>
                      </a:lnTo>
                      <a:lnTo>
                        <a:pt x="84" y="884"/>
                      </a:lnTo>
                      <a:lnTo>
                        <a:pt x="82" y="892"/>
                      </a:lnTo>
                      <a:lnTo>
                        <a:pt x="80" y="899"/>
                      </a:lnTo>
                      <a:lnTo>
                        <a:pt x="78" y="907"/>
                      </a:lnTo>
                      <a:lnTo>
                        <a:pt x="74" y="912"/>
                      </a:lnTo>
                      <a:lnTo>
                        <a:pt x="72" y="920"/>
                      </a:lnTo>
                      <a:lnTo>
                        <a:pt x="72" y="926"/>
                      </a:lnTo>
                      <a:lnTo>
                        <a:pt x="68" y="931"/>
                      </a:lnTo>
                      <a:lnTo>
                        <a:pt x="67" y="939"/>
                      </a:lnTo>
                      <a:lnTo>
                        <a:pt x="65" y="945"/>
                      </a:lnTo>
                      <a:lnTo>
                        <a:pt x="63" y="952"/>
                      </a:lnTo>
                      <a:lnTo>
                        <a:pt x="59" y="958"/>
                      </a:lnTo>
                      <a:lnTo>
                        <a:pt x="57" y="966"/>
                      </a:lnTo>
                      <a:lnTo>
                        <a:pt x="55" y="971"/>
                      </a:lnTo>
                      <a:lnTo>
                        <a:pt x="53" y="979"/>
                      </a:lnTo>
                      <a:lnTo>
                        <a:pt x="51" y="987"/>
                      </a:lnTo>
                      <a:lnTo>
                        <a:pt x="49" y="994"/>
                      </a:lnTo>
                      <a:lnTo>
                        <a:pt x="48" y="1000"/>
                      </a:lnTo>
                      <a:lnTo>
                        <a:pt x="46" y="1007"/>
                      </a:lnTo>
                      <a:lnTo>
                        <a:pt x="44" y="1015"/>
                      </a:lnTo>
                      <a:lnTo>
                        <a:pt x="42" y="1021"/>
                      </a:lnTo>
                      <a:lnTo>
                        <a:pt x="42" y="1028"/>
                      </a:lnTo>
                      <a:lnTo>
                        <a:pt x="38" y="1036"/>
                      </a:lnTo>
                      <a:lnTo>
                        <a:pt x="36" y="1042"/>
                      </a:lnTo>
                      <a:lnTo>
                        <a:pt x="36" y="1049"/>
                      </a:lnTo>
                      <a:lnTo>
                        <a:pt x="34" y="1057"/>
                      </a:lnTo>
                      <a:lnTo>
                        <a:pt x="30" y="1063"/>
                      </a:lnTo>
                      <a:lnTo>
                        <a:pt x="30" y="1070"/>
                      </a:lnTo>
                      <a:lnTo>
                        <a:pt x="29" y="1078"/>
                      </a:lnTo>
                      <a:lnTo>
                        <a:pt x="27" y="1085"/>
                      </a:lnTo>
                      <a:lnTo>
                        <a:pt x="25" y="1093"/>
                      </a:lnTo>
                      <a:lnTo>
                        <a:pt x="23" y="1101"/>
                      </a:lnTo>
                      <a:lnTo>
                        <a:pt x="21" y="1108"/>
                      </a:lnTo>
                      <a:lnTo>
                        <a:pt x="19" y="1116"/>
                      </a:lnTo>
                      <a:lnTo>
                        <a:pt x="17" y="1123"/>
                      </a:lnTo>
                      <a:lnTo>
                        <a:pt x="17" y="1131"/>
                      </a:lnTo>
                      <a:lnTo>
                        <a:pt x="15" y="1139"/>
                      </a:lnTo>
                      <a:lnTo>
                        <a:pt x="13" y="1148"/>
                      </a:lnTo>
                      <a:lnTo>
                        <a:pt x="10" y="1158"/>
                      </a:lnTo>
                      <a:lnTo>
                        <a:pt x="10" y="1165"/>
                      </a:lnTo>
                      <a:lnTo>
                        <a:pt x="8" y="1175"/>
                      </a:lnTo>
                      <a:lnTo>
                        <a:pt x="6" y="1182"/>
                      </a:lnTo>
                      <a:lnTo>
                        <a:pt x="6" y="1192"/>
                      </a:lnTo>
                      <a:lnTo>
                        <a:pt x="4" y="1201"/>
                      </a:lnTo>
                      <a:lnTo>
                        <a:pt x="2" y="1211"/>
                      </a:lnTo>
                      <a:lnTo>
                        <a:pt x="2" y="1218"/>
                      </a:lnTo>
                      <a:lnTo>
                        <a:pt x="0" y="1230"/>
                      </a:lnTo>
                      <a:lnTo>
                        <a:pt x="0" y="1237"/>
                      </a:lnTo>
                      <a:lnTo>
                        <a:pt x="0" y="1247"/>
                      </a:lnTo>
                      <a:lnTo>
                        <a:pt x="0" y="1257"/>
                      </a:lnTo>
                      <a:lnTo>
                        <a:pt x="0" y="1268"/>
                      </a:lnTo>
                      <a:lnTo>
                        <a:pt x="0" y="1276"/>
                      </a:lnTo>
                      <a:lnTo>
                        <a:pt x="0" y="1285"/>
                      </a:lnTo>
                      <a:lnTo>
                        <a:pt x="0" y="1296"/>
                      </a:lnTo>
                      <a:lnTo>
                        <a:pt x="0" y="1304"/>
                      </a:lnTo>
                      <a:lnTo>
                        <a:pt x="0" y="1314"/>
                      </a:lnTo>
                      <a:lnTo>
                        <a:pt x="0" y="1323"/>
                      </a:lnTo>
                      <a:lnTo>
                        <a:pt x="0" y="1333"/>
                      </a:lnTo>
                      <a:lnTo>
                        <a:pt x="2" y="1342"/>
                      </a:lnTo>
                      <a:lnTo>
                        <a:pt x="2" y="1352"/>
                      </a:lnTo>
                      <a:lnTo>
                        <a:pt x="4" y="1363"/>
                      </a:lnTo>
                      <a:lnTo>
                        <a:pt x="4" y="1371"/>
                      </a:lnTo>
                      <a:lnTo>
                        <a:pt x="6" y="1382"/>
                      </a:lnTo>
                      <a:lnTo>
                        <a:pt x="8" y="1390"/>
                      </a:lnTo>
                      <a:lnTo>
                        <a:pt x="8" y="1401"/>
                      </a:lnTo>
                      <a:lnTo>
                        <a:pt x="10" y="1409"/>
                      </a:lnTo>
                      <a:lnTo>
                        <a:pt x="11" y="1420"/>
                      </a:lnTo>
                      <a:lnTo>
                        <a:pt x="13" y="1429"/>
                      </a:lnTo>
                      <a:lnTo>
                        <a:pt x="15" y="1439"/>
                      </a:lnTo>
                      <a:lnTo>
                        <a:pt x="17" y="1448"/>
                      </a:lnTo>
                      <a:lnTo>
                        <a:pt x="19" y="1458"/>
                      </a:lnTo>
                      <a:lnTo>
                        <a:pt x="21" y="1468"/>
                      </a:lnTo>
                      <a:lnTo>
                        <a:pt x="23" y="1477"/>
                      </a:lnTo>
                      <a:lnTo>
                        <a:pt x="27" y="1487"/>
                      </a:lnTo>
                      <a:lnTo>
                        <a:pt x="29" y="1496"/>
                      </a:lnTo>
                      <a:lnTo>
                        <a:pt x="30" y="1506"/>
                      </a:lnTo>
                      <a:lnTo>
                        <a:pt x="34" y="1515"/>
                      </a:lnTo>
                      <a:lnTo>
                        <a:pt x="36" y="1525"/>
                      </a:lnTo>
                      <a:lnTo>
                        <a:pt x="38" y="1534"/>
                      </a:lnTo>
                      <a:lnTo>
                        <a:pt x="42" y="1544"/>
                      </a:lnTo>
                      <a:lnTo>
                        <a:pt x="46" y="1553"/>
                      </a:lnTo>
                      <a:lnTo>
                        <a:pt x="48" y="1561"/>
                      </a:lnTo>
                      <a:lnTo>
                        <a:pt x="51" y="1572"/>
                      </a:lnTo>
                      <a:lnTo>
                        <a:pt x="55" y="1580"/>
                      </a:lnTo>
                      <a:lnTo>
                        <a:pt x="59" y="1589"/>
                      </a:lnTo>
                      <a:lnTo>
                        <a:pt x="63" y="1599"/>
                      </a:lnTo>
                      <a:lnTo>
                        <a:pt x="67" y="1608"/>
                      </a:lnTo>
                      <a:lnTo>
                        <a:pt x="68" y="1616"/>
                      </a:lnTo>
                      <a:lnTo>
                        <a:pt x="74" y="1627"/>
                      </a:lnTo>
                      <a:lnTo>
                        <a:pt x="78" y="1635"/>
                      </a:lnTo>
                      <a:lnTo>
                        <a:pt x="82" y="1644"/>
                      </a:lnTo>
                      <a:lnTo>
                        <a:pt x="86" y="1652"/>
                      </a:lnTo>
                      <a:lnTo>
                        <a:pt x="89" y="1661"/>
                      </a:lnTo>
                      <a:lnTo>
                        <a:pt x="95" y="1669"/>
                      </a:lnTo>
                      <a:lnTo>
                        <a:pt x="99" y="1679"/>
                      </a:lnTo>
                      <a:lnTo>
                        <a:pt x="103" y="1688"/>
                      </a:lnTo>
                      <a:lnTo>
                        <a:pt x="108" y="1696"/>
                      </a:lnTo>
                      <a:lnTo>
                        <a:pt x="114" y="1703"/>
                      </a:lnTo>
                      <a:lnTo>
                        <a:pt x="118" y="1713"/>
                      </a:lnTo>
                      <a:lnTo>
                        <a:pt x="124" y="1722"/>
                      </a:lnTo>
                      <a:lnTo>
                        <a:pt x="127" y="1732"/>
                      </a:lnTo>
                      <a:lnTo>
                        <a:pt x="131" y="1736"/>
                      </a:lnTo>
                      <a:lnTo>
                        <a:pt x="135" y="1739"/>
                      </a:lnTo>
                      <a:lnTo>
                        <a:pt x="135" y="1743"/>
                      </a:lnTo>
                      <a:lnTo>
                        <a:pt x="137" y="1745"/>
                      </a:lnTo>
                      <a:lnTo>
                        <a:pt x="139" y="1747"/>
                      </a:lnTo>
                      <a:lnTo>
                        <a:pt x="141" y="1751"/>
                      </a:lnTo>
                      <a:lnTo>
                        <a:pt x="143" y="1755"/>
                      </a:lnTo>
                      <a:lnTo>
                        <a:pt x="143" y="1756"/>
                      </a:lnTo>
                      <a:lnTo>
                        <a:pt x="145" y="1760"/>
                      </a:lnTo>
                      <a:lnTo>
                        <a:pt x="146" y="1762"/>
                      </a:lnTo>
                      <a:lnTo>
                        <a:pt x="148" y="1766"/>
                      </a:lnTo>
                      <a:lnTo>
                        <a:pt x="150" y="1768"/>
                      </a:lnTo>
                      <a:lnTo>
                        <a:pt x="152" y="1770"/>
                      </a:lnTo>
                      <a:lnTo>
                        <a:pt x="156" y="1774"/>
                      </a:lnTo>
                      <a:lnTo>
                        <a:pt x="158" y="1777"/>
                      </a:lnTo>
                      <a:lnTo>
                        <a:pt x="160" y="1779"/>
                      </a:lnTo>
                      <a:lnTo>
                        <a:pt x="160" y="1783"/>
                      </a:lnTo>
                      <a:lnTo>
                        <a:pt x="162" y="1787"/>
                      </a:lnTo>
                      <a:lnTo>
                        <a:pt x="166" y="1789"/>
                      </a:lnTo>
                      <a:lnTo>
                        <a:pt x="166" y="1791"/>
                      </a:lnTo>
                      <a:lnTo>
                        <a:pt x="167" y="1794"/>
                      </a:lnTo>
                      <a:lnTo>
                        <a:pt x="169" y="1796"/>
                      </a:lnTo>
                      <a:lnTo>
                        <a:pt x="171" y="1800"/>
                      </a:lnTo>
                      <a:lnTo>
                        <a:pt x="173" y="1802"/>
                      </a:lnTo>
                      <a:lnTo>
                        <a:pt x="175" y="1806"/>
                      </a:lnTo>
                      <a:lnTo>
                        <a:pt x="177" y="1808"/>
                      </a:lnTo>
                      <a:lnTo>
                        <a:pt x="179" y="1812"/>
                      </a:lnTo>
                      <a:lnTo>
                        <a:pt x="181" y="1815"/>
                      </a:lnTo>
                      <a:lnTo>
                        <a:pt x="183" y="1817"/>
                      </a:lnTo>
                      <a:lnTo>
                        <a:pt x="185" y="1821"/>
                      </a:lnTo>
                      <a:lnTo>
                        <a:pt x="188" y="1827"/>
                      </a:lnTo>
                      <a:lnTo>
                        <a:pt x="190" y="1831"/>
                      </a:lnTo>
                      <a:lnTo>
                        <a:pt x="194" y="1836"/>
                      </a:lnTo>
                      <a:lnTo>
                        <a:pt x="198" y="1842"/>
                      </a:lnTo>
                      <a:lnTo>
                        <a:pt x="200" y="1846"/>
                      </a:lnTo>
                      <a:lnTo>
                        <a:pt x="204" y="1850"/>
                      </a:lnTo>
                      <a:lnTo>
                        <a:pt x="205" y="1853"/>
                      </a:lnTo>
                      <a:lnTo>
                        <a:pt x="207" y="1859"/>
                      </a:lnTo>
                      <a:lnTo>
                        <a:pt x="209" y="1861"/>
                      </a:lnTo>
                      <a:lnTo>
                        <a:pt x="211" y="1863"/>
                      </a:lnTo>
                      <a:lnTo>
                        <a:pt x="213" y="1867"/>
                      </a:lnTo>
                      <a:lnTo>
                        <a:pt x="215" y="1869"/>
                      </a:lnTo>
                      <a:lnTo>
                        <a:pt x="217" y="1870"/>
                      </a:lnTo>
                      <a:lnTo>
                        <a:pt x="219" y="1874"/>
                      </a:lnTo>
                      <a:lnTo>
                        <a:pt x="141" y="2163"/>
                      </a:lnTo>
                      <a:lnTo>
                        <a:pt x="143" y="2165"/>
                      </a:lnTo>
                      <a:lnTo>
                        <a:pt x="146" y="2165"/>
                      </a:lnTo>
                      <a:lnTo>
                        <a:pt x="150" y="2167"/>
                      </a:lnTo>
                      <a:lnTo>
                        <a:pt x="152" y="2167"/>
                      </a:lnTo>
                      <a:lnTo>
                        <a:pt x="154" y="2167"/>
                      </a:lnTo>
                      <a:lnTo>
                        <a:pt x="158" y="2167"/>
                      </a:lnTo>
                      <a:lnTo>
                        <a:pt x="162" y="2171"/>
                      </a:lnTo>
                      <a:lnTo>
                        <a:pt x="166" y="2171"/>
                      </a:lnTo>
                      <a:lnTo>
                        <a:pt x="167" y="2173"/>
                      </a:lnTo>
                      <a:lnTo>
                        <a:pt x="171" y="2173"/>
                      </a:lnTo>
                      <a:lnTo>
                        <a:pt x="175" y="2175"/>
                      </a:lnTo>
                      <a:lnTo>
                        <a:pt x="181" y="2175"/>
                      </a:lnTo>
                      <a:lnTo>
                        <a:pt x="185" y="2175"/>
                      </a:lnTo>
                      <a:lnTo>
                        <a:pt x="188" y="2177"/>
                      </a:lnTo>
                      <a:lnTo>
                        <a:pt x="194" y="2180"/>
                      </a:lnTo>
                      <a:lnTo>
                        <a:pt x="198" y="2180"/>
                      </a:lnTo>
                      <a:lnTo>
                        <a:pt x="204" y="2182"/>
                      </a:lnTo>
                      <a:lnTo>
                        <a:pt x="209" y="2182"/>
                      </a:lnTo>
                      <a:lnTo>
                        <a:pt x="215" y="2184"/>
                      </a:lnTo>
                      <a:lnTo>
                        <a:pt x="219" y="2186"/>
                      </a:lnTo>
                      <a:lnTo>
                        <a:pt x="224" y="2188"/>
                      </a:lnTo>
                      <a:lnTo>
                        <a:pt x="232" y="2188"/>
                      </a:lnTo>
                      <a:lnTo>
                        <a:pt x="238" y="2190"/>
                      </a:lnTo>
                      <a:lnTo>
                        <a:pt x="243" y="2190"/>
                      </a:lnTo>
                      <a:lnTo>
                        <a:pt x="251" y="2192"/>
                      </a:lnTo>
                      <a:lnTo>
                        <a:pt x="257" y="2194"/>
                      </a:lnTo>
                      <a:lnTo>
                        <a:pt x="264" y="2194"/>
                      </a:lnTo>
                      <a:lnTo>
                        <a:pt x="270" y="2196"/>
                      </a:lnTo>
                      <a:lnTo>
                        <a:pt x="276" y="2196"/>
                      </a:lnTo>
                      <a:lnTo>
                        <a:pt x="283" y="2197"/>
                      </a:lnTo>
                      <a:lnTo>
                        <a:pt x="291" y="2199"/>
                      </a:lnTo>
                      <a:lnTo>
                        <a:pt x="297" y="2199"/>
                      </a:lnTo>
                      <a:lnTo>
                        <a:pt x="304" y="2199"/>
                      </a:lnTo>
                      <a:lnTo>
                        <a:pt x="312" y="2199"/>
                      </a:lnTo>
                      <a:lnTo>
                        <a:pt x="320" y="2201"/>
                      </a:lnTo>
                      <a:lnTo>
                        <a:pt x="325" y="2201"/>
                      </a:lnTo>
                      <a:lnTo>
                        <a:pt x="333" y="2201"/>
                      </a:lnTo>
                      <a:lnTo>
                        <a:pt x="341" y="2201"/>
                      </a:lnTo>
                      <a:lnTo>
                        <a:pt x="348" y="2201"/>
                      </a:lnTo>
                      <a:lnTo>
                        <a:pt x="356" y="2201"/>
                      </a:lnTo>
                      <a:lnTo>
                        <a:pt x="363" y="2201"/>
                      </a:lnTo>
                      <a:lnTo>
                        <a:pt x="371" y="2201"/>
                      </a:lnTo>
                      <a:lnTo>
                        <a:pt x="379" y="2201"/>
                      </a:lnTo>
                      <a:lnTo>
                        <a:pt x="386" y="2201"/>
                      </a:lnTo>
                      <a:lnTo>
                        <a:pt x="394" y="2201"/>
                      </a:lnTo>
                      <a:lnTo>
                        <a:pt x="401" y="2199"/>
                      </a:lnTo>
                      <a:lnTo>
                        <a:pt x="409" y="2199"/>
                      </a:lnTo>
                      <a:lnTo>
                        <a:pt x="415" y="2197"/>
                      </a:lnTo>
                      <a:lnTo>
                        <a:pt x="422" y="2196"/>
                      </a:lnTo>
                      <a:lnTo>
                        <a:pt x="432" y="2196"/>
                      </a:lnTo>
                      <a:lnTo>
                        <a:pt x="439" y="2194"/>
                      </a:lnTo>
                      <a:lnTo>
                        <a:pt x="447" y="2192"/>
                      </a:lnTo>
                      <a:lnTo>
                        <a:pt x="455" y="2190"/>
                      </a:lnTo>
                      <a:lnTo>
                        <a:pt x="462" y="2188"/>
                      </a:lnTo>
                      <a:lnTo>
                        <a:pt x="470" y="2188"/>
                      </a:lnTo>
                      <a:lnTo>
                        <a:pt x="476" y="2184"/>
                      </a:lnTo>
                      <a:lnTo>
                        <a:pt x="483" y="2182"/>
                      </a:lnTo>
                      <a:lnTo>
                        <a:pt x="491" y="2180"/>
                      </a:lnTo>
                      <a:lnTo>
                        <a:pt x="498" y="2175"/>
                      </a:lnTo>
                      <a:lnTo>
                        <a:pt x="504" y="2173"/>
                      </a:lnTo>
                      <a:lnTo>
                        <a:pt x="512" y="2169"/>
                      </a:lnTo>
                      <a:lnTo>
                        <a:pt x="517" y="2165"/>
                      </a:lnTo>
                      <a:lnTo>
                        <a:pt x="525" y="2161"/>
                      </a:lnTo>
                      <a:lnTo>
                        <a:pt x="531" y="2158"/>
                      </a:lnTo>
                      <a:lnTo>
                        <a:pt x="536" y="2154"/>
                      </a:lnTo>
                      <a:lnTo>
                        <a:pt x="542" y="2150"/>
                      </a:lnTo>
                      <a:lnTo>
                        <a:pt x="550" y="2146"/>
                      </a:lnTo>
                      <a:lnTo>
                        <a:pt x="555" y="2142"/>
                      </a:lnTo>
                      <a:lnTo>
                        <a:pt x="559" y="2137"/>
                      </a:lnTo>
                      <a:lnTo>
                        <a:pt x="565" y="2133"/>
                      </a:lnTo>
                      <a:lnTo>
                        <a:pt x="571" y="2129"/>
                      </a:lnTo>
                      <a:lnTo>
                        <a:pt x="576" y="2123"/>
                      </a:lnTo>
                      <a:lnTo>
                        <a:pt x="582" y="2120"/>
                      </a:lnTo>
                      <a:lnTo>
                        <a:pt x="588" y="2114"/>
                      </a:lnTo>
                      <a:lnTo>
                        <a:pt x="592" y="2110"/>
                      </a:lnTo>
                      <a:lnTo>
                        <a:pt x="595" y="2106"/>
                      </a:lnTo>
                      <a:lnTo>
                        <a:pt x="601" y="2101"/>
                      </a:lnTo>
                      <a:lnTo>
                        <a:pt x="605" y="2095"/>
                      </a:lnTo>
                      <a:lnTo>
                        <a:pt x="611" y="2091"/>
                      </a:lnTo>
                      <a:lnTo>
                        <a:pt x="614" y="2085"/>
                      </a:lnTo>
                      <a:lnTo>
                        <a:pt x="618" y="2080"/>
                      </a:lnTo>
                      <a:lnTo>
                        <a:pt x="624" y="2076"/>
                      </a:lnTo>
                      <a:lnTo>
                        <a:pt x="628" y="2070"/>
                      </a:lnTo>
                      <a:lnTo>
                        <a:pt x="632" y="2064"/>
                      </a:lnTo>
                      <a:lnTo>
                        <a:pt x="635" y="2059"/>
                      </a:lnTo>
                      <a:lnTo>
                        <a:pt x="637" y="2055"/>
                      </a:lnTo>
                      <a:lnTo>
                        <a:pt x="643" y="2049"/>
                      </a:lnTo>
                      <a:lnTo>
                        <a:pt x="645" y="2043"/>
                      </a:lnTo>
                      <a:lnTo>
                        <a:pt x="649" y="2040"/>
                      </a:lnTo>
                      <a:lnTo>
                        <a:pt x="652" y="2034"/>
                      </a:lnTo>
                      <a:lnTo>
                        <a:pt x="654" y="2030"/>
                      </a:lnTo>
                      <a:lnTo>
                        <a:pt x="658" y="2024"/>
                      </a:lnTo>
                      <a:lnTo>
                        <a:pt x="660" y="2021"/>
                      </a:lnTo>
                      <a:lnTo>
                        <a:pt x="664" y="2015"/>
                      </a:lnTo>
                      <a:lnTo>
                        <a:pt x="666" y="2011"/>
                      </a:lnTo>
                      <a:lnTo>
                        <a:pt x="668" y="2005"/>
                      </a:lnTo>
                      <a:lnTo>
                        <a:pt x="672" y="2002"/>
                      </a:lnTo>
                      <a:lnTo>
                        <a:pt x="673" y="1998"/>
                      </a:lnTo>
                      <a:lnTo>
                        <a:pt x="675" y="1992"/>
                      </a:lnTo>
                      <a:lnTo>
                        <a:pt x="677" y="1986"/>
                      </a:lnTo>
                      <a:lnTo>
                        <a:pt x="679" y="1983"/>
                      </a:lnTo>
                      <a:lnTo>
                        <a:pt x="681" y="1979"/>
                      </a:lnTo>
                      <a:lnTo>
                        <a:pt x="683" y="1975"/>
                      </a:lnTo>
                      <a:lnTo>
                        <a:pt x="685" y="1971"/>
                      </a:lnTo>
                      <a:lnTo>
                        <a:pt x="687" y="1969"/>
                      </a:lnTo>
                      <a:lnTo>
                        <a:pt x="689" y="1964"/>
                      </a:lnTo>
                      <a:lnTo>
                        <a:pt x="691" y="1962"/>
                      </a:lnTo>
                      <a:lnTo>
                        <a:pt x="692" y="1958"/>
                      </a:lnTo>
                      <a:lnTo>
                        <a:pt x="692" y="1954"/>
                      </a:lnTo>
                      <a:lnTo>
                        <a:pt x="692" y="1952"/>
                      </a:lnTo>
                      <a:lnTo>
                        <a:pt x="694" y="1950"/>
                      </a:lnTo>
                      <a:lnTo>
                        <a:pt x="696" y="1945"/>
                      </a:lnTo>
                      <a:lnTo>
                        <a:pt x="698" y="1941"/>
                      </a:lnTo>
                      <a:lnTo>
                        <a:pt x="700" y="1937"/>
                      </a:lnTo>
                      <a:lnTo>
                        <a:pt x="700" y="1935"/>
                      </a:lnTo>
                      <a:lnTo>
                        <a:pt x="700" y="1933"/>
                      </a:lnTo>
                      <a:lnTo>
                        <a:pt x="702" y="1933"/>
                      </a:lnTo>
                      <a:lnTo>
                        <a:pt x="740" y="1943"/>
                      </a:lnTo>
                      <a:lnTo>
                        <a:pt x="740" y="1943"/>
                      </a:lnTo>
                      <a:lnTo>
                        <a:pt x="738" y="1945"/>
                      </a:lnTo>
                      <a:lnTo>
                        <a:pt x="738" y="1947"/>
                      </a:lnTo>
                      <a:lnTo>
                        <a:pt x="738" y="1950"/>
                      </a:lnTo>
                      <a:lnTo>
                        <a:pt x="738" y="1954"/>
                      </a:lnTo>
                      <a:lnTo>
                        <a:pt x="738" y="1958"/>
                      </a:lnTo>
                      <a:lnTo>
                        <a:pt x="736" y="1962"/>
                      </a:lnTo>
                      <a:lnTo>
                        <a:pt x="736" y="1964"/>
                      </a:lnTo>
                      <a:lnTo>
                        <a:pt x="736" y="1967"/>
                      </a:lnTo>
                      <a:lnTo>
                        <a:pt x="736" y="1971"/>
                      </a:lnTo>
                      <a:lnTo>
                        <a:pt x="736" y="1975"/>
                      </a:lnTo>
                      <a:lnTo>
                        <a:pt x="736" y="1979"/>
                      </a:lnTo>
                      <a:lnTo>
                        <a:pt x="736" y="1983"/>
                      </a:lnTo>
                      <a:lnTo>
                        <a:pt x="736" y="1985"/>
                      </a:lnTo>
                      <a:lnTo>
                        <a:pt x="736" y="1990"/>
                      </a:lnTo>
                      <a:lnTo>
                        <a:pt x="736" y="1994"/>
                      </a:lnTo>
                      <a:lnTo>
                        <a:pt x="736" y="1998"/>
                      </a:lnTo>
                      <a:lnTo>
                        <a:pt x="736" y="2004"/>
                      </a:lnTo>
                      <a:lnTo>
                        <a:pt x="736" y="2007"/>
                      </a:lnTo>
                      <a:lnTo>
                        <a:pt x="736" y="2013"/>
                      </a:lnTo>
                      <a:lnTo>
                        <a:pt x="736" y="2015"/>
                      </a:lnTo>
                      <a:lnTo>
                        <a:pt x="736" y="2021"/>
                      </a:lnTo>
                      <a:lnTo>
                        <a:pt x="736" y="2026"/>
                      </a:lnTo>
                      <a:lnTo>
                        <a:pt x="736" y="2030"/>
                      </a:lnTo>
                      <a:lnTo>
                        <a:pt x="736" y="2036"/>
                      </a:lnTo>
                      <a:lnTo>
                        <a:pt x="736" y="2042"/>
                      </a:lnTo>
                      <a:lnTo>
                        <a:pt x="736" y="2047"/>
                      </a:lnTo>
                      <a:lnTo>
                        <a:pt x="738" y="2051"/>
                      </a:lnTo>
                      <a:lnTo>
                        <a:pt x="738" y="2057"/>
                      </a:lnTo>
                      <a:lnTo>
                        <a:pt x="738" y="2062"/>
                      </a:lnTo>
                      <a:lnTo>
                        <a:pt x="740" y="2066"/>
                      </a:lnTo>
                      <a:lnTo>
                        <a:pt x="740" y="2072"/>
                      </a:lnTo>
                      <a:lnTo>
                        <a:pt x="742" y="2078"/>
                      </a:lnTo>
                      <a:lnTo>
                        <a:pt x="744" y="2083"/>
                      </a:lnTo>
                      <a:lnTo>
                        <a:pt x="744" y="2091"/>
                      </a:lnTo>
                      <a:lnTo>
                        <a:pt x="746" y="2095"/>
                      </a:lnTo>
                      <a:lnTo>
                        <a:pt x="748" y="2101"/>
                      </a:lnTo>
                      <a:lnTo>
                        <a:pt x="748" y="2106"/>
                      </a:lnTo>
                      <a:lnTo>
                        <a:pt x="751" y="2110"/>
                      </a:lnTo>
                      <a:lnTo>
                        <a:pt x="753" y="2118"/>
                      </a:lnTo>
                      <a:lnTo>
                        <a:pt x="753" y="2123"/>
                      </a:lnTo>
                      <a:lnTo>
                        <a:pt x="757" y="2129"/>
                      </a:lnTo>
                      <a:lnTo>
                        <a:pt x="759" y="2135"/>
                      </a:lnTo>
                      <a:lnTo>
                        <a:pt x="761" y="2139"/>
                      </a:lnTo>
                      <a:lnTo>
                        <a:pt x="765" y="2144"/>
                      </a:lnTo>
                      <a:lnTo>
                        <a:pt x="767" y="2150"/>
                      </a:lnTo>
                      <a:lnTo>
                        <a:pt x="769" y="2156"/>
                      </a:lnTo>
                      <a:lnTo>
                        <a:pt x="772" y="2159"/>
                      </a:lnTo>
                      <a:lnTo>
                        <a:pt x="776" y="2165"/>
                      </a:lnTo>
                      <a:lnTo>
                        <a:pt x="780" y="2171"/>
                      </a:lnTo>
                      <a:lnTo>
                        <a:pt x="782" y="2175"/>
                      </a:lnTo>
                      <a:lnTo>
                        <a:pt x="786" y="2180"/>
                      </a:lnTo>
                      <a:lnTo>
                        <a:pt x="789" y="2186"/>
                      </a:lnTo>
                      <a:lnTo>
                        <a:pt x="795" y="2190"/>
                      </a:lnTo>
                      <a:lnTo>
                        <a:pt x="799" y="2196"/>
                      </a:lnTo>
                      <a:lnTo>
                        <a:pt x="805" y="2201"/>
                      </a:lnTo>
                      <a:lnTo>
                        <a:pt x="808" y="2205"/>
                      </a:lnTo>
                      <a:lnTo>
                        <a:pt x="814" y="2209"/>
                      </a:lnTo>
                      <a:lnTo>
                        <a:pt x="818" y="2213"/>
                      </a:lnTo>
                      <a:lnTo>
                        <a:pt x="824" y="2216"/>
                      </a:lnTo>
                      <a:lnTo>
                        <a:pt x="828" y="2222"/>
                      </a:lnTo>
                      <a:lnTo>
                        <a:pt x="833" y="2224"/>
                      </a:lnTo>
                      <a:lnTo>
                        <a:pt x="839" y="2228"/>
                      </a:lnTo>
                      <a:lnTo>
                        <a:pt x="845" y="2232"/>
                      </a:lnTo>
                      <a:lnTo>
                        <a:pt x="848" y="2235"/>
                      </a:lnTo>
                      <a:lnTo>
                        <a:pt x="854" y="2239"/>
                      </a:lnTo>
                      <a:lnTo>
                        <a:pt x="858" y="2243"/>
                      </a:lnTo>
                      <a:lnTo>
                        <a:pt x="864" y="2245"/>
                      </a:lnTo>
                      <a:lnTo>
                        <a:pt x="867" y="2249"/>
                      </a:lnTo>
                      <a:lnTo>
                        <a:pt x="873" y="2253"/>
                      </a:lnTo>
                      <a:lnTo>
                        <a:pt x="877" y="2256"/>
                      </a:lnTo>
                      <a:lnTo>
                        <a:pt x="883" y="2258"/>
                      </a:lnTo>
                      <a:lnTo>
                        <a:pt x="890" y="2260"/>
                      </a:lnTo>
                      <a:lnTo>
                        <a:pt x="896" y="2264"/>
                      </a:lnTo>
                      <a:lnTo>
                        <a:pt x="900" y="2266"/>
                      </a:lnTo>
                      <a:lnTo>
                        <a:pt x="904" y="2268"/>
                      </a:lnTo>
                      <a:lnTo>
                        <a:pt x="907" y="2270"/>
                      </a:lnTo>
                      <a:lnTo>
                        <a:pt x="913" y="2273"/>
                      </a:lnTo>
                      <a:lnTo>
                        <a:pt x="919" y="2275"/>
                      </a:lnTo>
                      <a:lnTo>
                        <a:pt x="925" y="2277"/>
                      </a:lnTo>
                      <a:lnTo>
                        <a:pt x="928" y="2279"/>
                      </a:lnTo>
                      <a:lnTo>
                        <a:pt x="934" y="2281"/>
                      </a:lnTo>
                      <a:lnTo>
                        <a:pt x="938" y="2283"/>
                      </a:lnTo>
                      <a:lnTo>
                        <a:pt x="942" y="2285"/>
                      </a:lnTo>
                      <a:lnTo>
                        <a:pt x="947" y="2287"/>
                      </a:lnTo>
                      <a:lnTo>
                        <a:pt x="951" y="2289"/>
                      </a:lnTo>
                      <a:lnTo>
                        <a:pt x="955" y="2289"/>
                      </a:lnTo>
                      <a:lnTo>
                        <a:pt x="961" y="2291"/>
                      </a:lnTo>
                      <a:lnTo>
                        <a:pt x="964" y="2291"/>
                      </a:lnTo>
                      <a:lnTo>
                        <a:pt x="968" y="2294"/>
                      </a:lnTo>
                      <a:lnTo>
                        <a:pt x="972" y="2294"/>
                      </a:lnTo>
                      <a:lnTo>
                        <a:pt x="978" y="2294"/>
                      </a:lnTo>
                      <a:lnTo>
                        <a:pt x="982" y="2296"/>
                      </a:lnTo>
                      <a:lnTo>
                        <a:pt x="985" y="2296"/>
                      </a:lnTo>
                      <a:lnTo>
                        <a:pt x="989" y="2296"/>
                      </a:lnTo>
                      <a:lnTo>
                        <a:pt x="993" y="2298"/>
                      </a:lnTo>
                      <a:lnTo>
                        <a:pt x="997" y="2298"/>
                      </a:lnTo>
                      <a:lnTo>
                        <a:pt x="1001" y="2298"/>
                      </a:lnTo>
                      <a:lnTo>
                        <a:pt x="1004" y="2298"/>
                      </a:lnTo>
                      <a:lnTo>
                        <a:pt x="1008" y="2300"/>
                      </a:lnTo>
                      <a:lnTo>
                        <a:pt x="1010" y="2300"/>
                      </a:lnTo>
                      <a:lnTo>
                        <a:pt x="1014" y="2300"/>
                      </a:lnTo>
                      <a:lnTo>
                        <a:pt x="1016" y="2300"/>
                      </a:lnTo>
                      <a:lnTo>
                        <a:pt x="1020" y="2300"/>
                      </a:lnTo>
                      <a:lnTo>
                        <a:pt x="1022" y="2300"/>
                      </a:lnTo>
                      <a:lnTo>
                        <a:pt x="1025" y="2302"/>
                      </a:lnTo>
                      <a:lnTo>
                        <a:pt x="1029" y="2300"/>
                      </a:lnTo>
                      <a:lnTo>
                        <a:pt x="1035" y="2300"/>
                      </a:lnTo>
                      <a:lnTo>
                        <a:pt x="1039" y="2298"/>
                      </a:lnTo>
                      <a:lnTo>
                        <a:pt x="1042" y="2298"/>
                      </a:lnTo>
                      <a:lnTo>
                        <a:pt x="1044" y="2296"/>
                      </a:lnTo>
                      <a:lnTo>
                        <a:pt x="1048" y="2296"/>
                      </a:lnTo>
                      <a:lnTo>
                        <a:pt x="1048" y="2294"/>
                      </a:lnTo>
                      <a:lnTo>
                        <a:pt x="1050" y="2294"/>
                      </a:lnTo>
                      <a:lnTo>
                        <a:pt x="1246" y="1334"/>
                      </a:lnTo>
                      <a:lnTo>
                        <a:pt x="1246" y="1333"/>
                      </a:lnTo>
                      <a:lnTo>
                        <a:pt x="1248" y="1331"/>
                      </a:lnTo>
                      <a:lnTo>
                        <a:pt x="1250" y="1327"/>
                      </a:lnTo>
                      <a:lnTo>
                        <a:pt x="1252" y="1325"/>
                      </a:lnTo>
                      <a:lnTo>
                        <a:pt x="1252" y="1323"/>
                      </a:lnTo>
                      <a:lnTo>
                        <a:pt x="1254" y="1319"/>
                      </a:lnTo>
                      <a:lnTo>
                        <a:pt x="1256" y="1315"/>
                      </a:lnTo>
                      <a:lnTo>
                        <a:pt x="1259" y="1312"/>
                      </a:lnTo>
                      <a:lnTo>
                        <a:pt x="1259" y="1306"/>
                      </a:lnTo>
                      <a:lnTo>
                        <a:pt x="1263" y="1302"/>
                      </a:lnTo>
                      <a:lnTo>
                        <a:pt x="1265" y="1296"/>
                      </a:lnTo>
                      <a:lnTo>
                        <a:pt x="1269" y="1293"/>
                      </a:lnTo>
                      <a:lnTo>
                        <a:pt x="1271" y="1285"/>
                      </a:lnTo>
                      <a:lnTo>
                        <a:pt x="1275" y="1281"/>
                      </a:lnTo>
                      <a:lnTo>
                        <a:pt x="1276" y="1274"/>
                      </a:lnTo>
                      <a:lnTo>
                        <a:pt x="1280" y="1266"/>
                      </a:lnTo>
                      <a:lnTo>
                        <a:pt x="1284" y="1258"/>
                      </a:lnTo>
                      <a:lnTo>
                        <a:pt x="1288" y="1249"/>
                      </a:lnTo>
                      <a:lnTo>
                        <a:pt x="1290" y="1241"/>
                      </a:lnTo>
                      <a:lnTo>
                        <a:pt x="1294" y="1234"/>
                      </a:lnTo>
                      <a:lnTo>
                        <a:pt x="1297" y="1224"/>
                      </a:lnTo>
                      <a:lnTo>
                        <a:pt x="1301" y="1217"/>
                      </a:lnTo>
                      <a:lnTo>
                        <a:pt x="1305" y="1207"/>
                      </a:lnTo>
                      <a:lnTo>
                        <a:pt x="1309" y="1198"/>
                      </a:lnTo>
                      <a:lnTo>
                        <a:pt x="1313" y="1188"/>
                      </a:lnTo>
                      <a:lnTo>
                        <a:pt x="1316" y="1177"/>
                      </a:lnTo>
                      <a:lnTo>
                        <a:pt x="1320" y="1165"/>
                      </a:lnTo>
                      <a:lnTo>
                        <a:pt x="1324" y="1154"/>
                      </a:lnTo>
                      <a:lnTo>
                        <a:pt x="1330" y="1144"/>
                      </a:lnTo>
                      <a:lnTo>
                        <a:pt x="1334" y="1133"/>
                      </a:lnTo>
                      <a:lnTo>
                        <a:pt x="1337" y="1122"/>
                      </a:lnTo>
                      <a:lnTo>
                        <a:pt x="1339" y="1108"/>
                      </a:lnTo>
                      <a:lnTo>
                        <a:pt x="1345" y="1097"/>
                      </a:lnTo>
                      <a:lnTo>
                        <a:pt x="1349" y="1084"/>
                      </a:lnTo>
                      <a:lnTo>
                        <a:pt x="1353" y="1070"/>
                      </a:lnTo>
                      <a:lnTo>
                        <a:pt x="1354" y="1059"/>
                      </a:lnTo>
                      <a:lnTo>
                        <a:pt x="1358" y="1044"/>
                      </a:lnTo>
                      <a:lnTo>
                        <a:pt x="1362" y="1032"/>
                      </a:lnTo>
                      <a:lnTo>
                        <a:pt x="1366" y="1017"/>
                      </a:lnTo>
                      <a:lnTo>
                        <a:pt x="1370" y="1004"/>
                      </a:lnTo>
                      <a:lnTo>
                        <a:pt x="1372" y="988"/>
                      </a:lnTo>
                      <a:lnTo>
                        <a:pt x="1375" y="975"/>
                      </a:lnTo>
                      <a:lnTo>
                        <a:pt x="1377" y="960"/>
                      </a:lnTo>
                      <a:lnTo>
                        <a:pt x="1381" y="947"/>
                      </a:lnTo>
                      <a:lnTo>
                        <a:pt x="1383" y="931"/>
                      </a:lnTo>
                      <a:lnTo>
                        <a:pt x="1387" y="916"/>
                      </a:lnTo>
                      <a:lnTo>
                        <a:pt x="1389" y="901"/>
                      </a:lnTo>
                      <a:lnTo>
                        <a:pt x="1391" y="886"/>
                      </a:lnTo>
                      <a:lnTo>
                        <a:pt x="1392" y="871"/>
                      </a:lnTo>
                      <a:lnTo>
                        <a:pt x="1394" y="855"/>
                      </a:lnTo>
                      <a:lnTo>
                        <a:pt x="1396" y="838"/>
                      </a:lnTo>
                      <a:lnTo>
                        <a:pt x="1398" y="823"/>
                      </a:lnTo>
                      <a:lnTo>
                        <a:pt x="1398" y="806"/>
                      </a:lnTo>
                      <a:lnTo>
                        <a:pt x="1400" y="791"/>
                      </a:lnTo>
                      <a:lnTo>
                        <a:pt x="1402" y="774"/>
                      </a:lnTo>
                      <a:lnTo>
                        <a:pt x="1402" y="757"/>
                      </a:lnTo>
                      <a:lnTo>
                        <a:pt x="1402" y="741"/>
                      </a:lnTo>
                      <a:lnTo>
                        <a:pt x="1402" y="724"/>
                      </a:lnTo>
                      <a:lnTo>
                        <a:pt x="1402" y="705"/>
                      </a:lnTo>
                      <a:lnTo>
                        <a:pt x="1402" y="690"/>
                      </a:lnTo>
                      <a:lnTo>
                        <a:pt x="1400" y="673"/>
                      </a:lnTo>
                      <a:lnTo>
                        <a:pt x="1400" y="656"/>
                      </a:lnTo>
                      <a:lnTo>
                        <a:pt x="1398" y="654"/>
                      </a:lnTo>
                      <a:lnTo>
                        <a:pt x="1398" y="652"/>
                      </a:lnTo>
                      <a:lnTo>
                        <a:pt x="1398" y="648"/>
                      </a:lnTo>
                      <a:lnTo>
                        <a:pt x="1398" y="644"/>
                      </a:lnTo>
                      <a:lnTo>
                        <a:pt x="1398" y="643"/>
                      </a:lnTo>
                      <a:lnTo>
                        <a:pt x="1398" y="639"/>
                      </a:lnTo>
                      <a:lnTo>
                        <a:pt x="1396" y="637"/>
                      </a:lnTo>
                      <a:lnTo>
                        <a:pt x="1396" y="633"/>
                      </a:lnTo>
                      <a:lnTo>
                        <a:pt x="1396" y="631"/>
                      </a:lnTo>
                      <a:lnTo>
                        <a:pt x="1396" y="627"/>
                      </a:lnTo>
                      <a:lnTo>
                        <a:pt x="1396" y="623"/>
                      </a:lnTo>
                      <a:lnTo>
                        <a:pt x="1394" y="620"/>
                      </a:lnTo>
                      <a:lnTo>
                        <a:pt x="1394" y="618"/>
                      </a:lnTo>
                      <a:lnTo>
                        <a:pt x="1394" y="616"/>
                      </a:lnTo>
                      <a:lnTo>
                        <a:pt x="1392" y="612"/>
                      </a:lnTo>
                      <a:lnTo>
                        <a:pt x="1392" y="610"/>
                      </a:lnTo>
                      <a:lnTo>
                        <a:pt x="1392" y="608"/>
                      </a:lnTo>
                      <a:lnTo>
                        <a:pt x="1391" y="604"/>
                      </a:lnTo>
                      <a:lnTo>
                        <a:pt x="1391" y="603"/>
                      </a:lnTo>
                      <a:lnTo>
                        <a:pt x="1391" y="599"/>
                      </a:lnTo>
                      <a:lnTo>
                        <a:pt x="1389" y="597"/>
                      </a:lnTo>
                      <a:lnTo>
                        <a:pt x="1389" y="593"/>
                      </a:lnTo>
                      <a:lnTo>
                        <a:pt x="1389" y="589"/>
                      </a:lnTo>
                      <a:lnTo>
                        <a:pt x="1389" y="587"/>
                      </a:lnTo>
                      <a:lnTo>
                        <a:pt x="1387" y="585"/>
                      </a:lnTo>
                      <a:lnTo>
                        <a:pt x="1385" y="582"/>
                      </a:lnTo>
                      <a:lnTo>
                        <a:pt x="1385" y="580"/>
                      </a:lnTo>
                      <a:lnTo>
                        <a:pt x="1383" y="578"/>
                      </a:lnTo>
                      <a:lnTo>
                        <a:pt x="1383" y="572"/>
                      </a:lnTo>
                      <a:lnTo>
                        <a:pt x="1381" y="568"/>
                      </a:lnTo>
                      <a:lnTo>
                        <a:pt x="1377" y="563"/>
                      </a:lnTo>
                      <a:lnTo>
                        <a:pt x="1375" y="557"/>
                      </a:lnTo>
                      <a:lnTo>
                        <a:pt x="1373" y="553"/>
                      </a:lnTo>
                      <a:lnTo>
                        <a:pt x="1370" y="547"/>
                      </a:lnTo>
                      <a:lnTo>
                        <a:pt x="1366" y="544"/>
                      </a:lnTo>
                      <a:lnTo>
                        <a:pt x="1364" y="540"/>
                      </a:lnTo>
                      <a:lnTo>
                        <a:pt x="1360" y="536"/>
                      </a:lnTo>
                      <a:lnTo>
                        <a:pt x="1356" y="532"/>
                      </a:lnTo>
                      <a:lnTo>
                        <a:pt x="1353" y="528"/>
                      </a:lnTo>
                      <a:lnTo>
                        <a:pt x="1349" y="525"/>
                      </a:lnTo>
                      <a:lnTo>
                        <a:pt x="1345" y="523"/>
                      </a:lnTo>
                      <a:lnTo>
                        <a:pt x="1339" y="521"/>
                      </a:lnTo>
                      <a:lnTo>
                        <a:pt x="1335" y="517"/>
                      </a:lnTo>
                      <a:lnTo>
                        <a:pt x="1332" y="515"/>
                      </a:lnTo>
                      <a:lnTo>
                        <a:pt x="1326" y="515"/>
                      </a:lnTo>
                      <a:lnTo>
                        <a:pt x="1322" y="513"/>
                      </a:lnTo>
                      <a:lnTo>
                        <a:pt x="1318" y="511"/>
                      </a:lnTo>
                      <a:lnTo>
                        <a:pt x="1316" y="511"/>
                      </a:lnTo>
                      <a:lnTo>
                        <a:pt x="1313" y="511"/>
                      </a:lnTo>
                      <a:lnTo>
                        <a:pt x="1311" y="511"/>
                      </a:lnTo>
                      <a:lnTo>
                        <a:pt x="1309" y="509"/>
                      </a:lnTo>
                      <a:lnTo>
                        <a:pt x="1305" y="509"/>
                      </a:lnTo>
                      <a:lnTo>
                        <a:pt x="1303" y="509"/>
                      </a:lnTo>
                      <a:lnTo>
                        <a:pt x="1301" y="509"/>
                      </a:lnTo>
                      <a:lnTo>
                        <a:pt x="1297" y="509"/>
                      </a:lnTo>
                      <a:lnTo>
                        <a:pt x="1295" y="509"/>
                      </a:lnTo>
                      <a:lnTo>
                        <a:pt x="1292" y="509"/>
                      </a:lnTo>
                      <a:lnTo>
                        <a:pt x="1290" y="509"/>
                      </a:lnTo>
                      <a:lnTo>
                        <a:pt x="1284" y="509"/>
                      </a:lnTo>
                      <a:lnTo>
                        <a:pt x="1280" y="509"/>
                      </a:lnTo>
                      <a:lnTo>
                        <a:pt x="1275" y="509"/>
                      </a:lnTo>
                      <a:lnTo>
                        <a:pt x="1269" y="509"/>
                      </a:lnTo>
                      <a:lnTo>
                        <a:pt x="1265" y="509"/>
                      </a:lnTo>
                      <a:lnTo>
                        <a:pt x="1259" y="509"/>
                      </a:lnTo>
                      <a:lnTo>
                        <a:pt x="1256" y="511"/>
                      </a:lnTo>
                      <a:lnTo>
                        <a:pt x="1252" y="511"/>
                      </a:lnTo>
                      <a:lnTo>
                        <a:pt x="1246" y="515"/>
                      </a:lnTo>
                      <a:lnTo>
                        <a:pt x="1242" y="515"/>
                      </a:lnTo>
                      <a:lnTo>
                        <a:pt x="1238" y="517"/>
                      </a:lnTo>
                      <a:lnTo>
                        <a:pt x="1235" y="521"/>
                      </a:lnTo>
                      <a:lnTo>
                        <a:pt x="1231" y="523"/>
                      </a:lnTo>
                      <a:lnTo>
                        <a:pt x="1229" y="525"/>
                      </a:lnTo>
                      <a:lnTo>
                        <a:pt x="1225" y="527"/>
                      </a:lnTo>
                      <a:lnTo>
                        <a:pt x="1221" y="530"/>
                      </a:lnTo>
                      <a:lnTo>
                        <a:pt x="1219" y="532"/>
                      </a:lnTo>
                      <a:lnTo>
                        <a:pt x="1216" y="538"/>
                      </a:lnTo>
                      <a:lnTo>
                        <a:pt x="1214" y="542"/>
                      </a:lnTo>
                      <a:lnTo>
                        <a:pt x="1212" y="546"/>
                      </a:lnTo>
                      <a:lnTo>
                        <a:pt x="1210" y="549"/>
                      </a:lnTo>
                      <a:lnTo>
                        <a:pt x="1208" y="555"/>
                      </a:lnTo>
                      <a:lnTo>
                        <a:pt x="1208" y="557"/>
                      </a:lnTo>
                      <a:lnTo>
                        <a:pt x="1206" y="559"/>
                      </a:lnTo>
                      <a:lnTo>
                        <a:pt x="1204" y="561"/>
                      </a:lnTo>
                      <a:lnTo>
                        <a:pt x="1204" y="565"/>
                      </a:lnTo>
                      <a:lnTo>
                        <a:pt x="1204" y="566"/>
                      </a:lnTo>
                      <a:lnTo>
                        <a:pt x="1204" y="570"/>
                      </a:lnTo>
                      <a:lnTo>
                        <a:pt x="1204" y="572"/>
                      </a:lnTo>
                      <a:lnTo>
                        <a:pt x="1204" y="576"/>
                      </a:lnTo>
                      <a:lnTo>
                        <a:pt x="1139" y="895"/>
                      </a:lnTo>
                      <a:lnTo>
                        <a:pt x="1136" y="893"/>
                      </a:lnTo>
                      <a:lnTo>
                        <a:pt x="1132" y="892"/>
                      </a:lnTo>
                      <a:lnTo>
                        <a:pt x="1126" y="888"/>
                      </a:lnTo>
                      <a:lnTo>
                        <a:pt x="1122" y="886"/>
                      </a:lnTo>
                      <a:lnTo>
                        <a:pt x="1117" y="884"/>
                      </a:lnTo>
                      <a:lnTo>
                        <a:pt x="1113" y="880"/>
                      </a:lnTo>
                      <a:lnTo>
                        <a:pt x="1107" y="878"/>
                      </a:lnTo>
                      <a:lnTo>
                        <a:pt x="1105" y="876"/>
                      </a:lnTo>
                      <a:lnTo>
                        <a:pt x="1227" y="316"/>
                      </a:lnTo>
                      <a:lnTo>
                        <a:pt x="1227" y="312"/>
                      </a:lnTo>
                      <a:lnTo>
                        <a:pt x="1227" y="308"/>
                      </a:lnTo>
                      <a:lnTo>
                        <a:pt x="1229" y="306"/>
                      </a:lnTo>
                      <a:lnTo>
                        <a:pt x="1229" y="304"/>
                      </a:lnTo>
                      <a:lnTo>
                        <a:pt x="1229" y="300"/>
                      </a:lnTo>
                      <a:lnTo>
                        <a:pt x="1229" y="298"/>
                      </a:lnTo>
                      <a:lnTo>
                        <a:pt x="1229" y="295"/>
                      </a:lnTo>
                      <a:lnTo>
                        <a:pt x="1229" y="293"/>
                      </a:lnTo>
                      <a:lnTo>
                        <a:pt x="1229" y="291"/>
                      </a:lnTo>
                      <a:lnTo>
                        <a:pt x="1229" y="287"/>
                      </a:lnTo>
                      <a:lnTo>
                        <a:pt x="1229" y="285"/>
                      </a:lnTo>
                      <a:lnTo>
                        <a:pt x="1229" y="283"/>
                      </a:lnTo>
                      <a:lnTo>
                        <a:pt x="1229" y="278"/>
                      </a:lnTo>
                      <a:lnTo>
                        <a:pt x="1227" y="272"/>
                      </a:lnTo>
                      <a:lnTo>
                        <a:pt x="1225" y="268"/>
                      </a:lnTo>
                      <a:lnTo>
                        <a:pt x="1225" y="262"/>
                      </a:lnTo>
                      <a:lnTo>
                        <a:pt x="1223" y="257"/>
                      </a:lnTo>
                      <a:lnTo>
                        <a:pt x="1221" y="253"/>
                      </a:lnTo>
                      <a:lnTo>
                        <a:pt x="1219" y="247"/>
                      </a:lnTo>
                      <a:lnTo>
                        <a:pt x="1217" y="243"/>
                      </a:lnTo>
                      <a:lnTo>
                        <a:pt x="1216" y="240"/>
                      </a:lnTo>
                      <a:lnTo>
                        <a:pt x="1214" y="236"/>
                      </a:lnTo>
                      <a:lnTo>
                        <a:pt x="1210" y="232"/>
                      </a:lnTo>
                      <a:lnTo>
                        <a:pt x="1206" y="226"/>
                      </a:lnTo>
                      <a:lnTo>
                        <a:pt x="1202" y="222"/>
                      </a:lnTo>
                      <a:lnTo>
                        <a:pt x="1200" y="219"/>
                      </a:lnTo>
                      <a:lnTo>
                        <a:pt x="1197" y="215"/>
                      </a:lnTo>
                      <a:lnTo>
                        <a:pt x="1193" y="211"/>
                      </a:lnTo>
                      <a:lnTo>
                        <a:pt x="1189" y="207"/>
                      </a:lnTo>
                      <a:lnTo>
                        <a:pt x="1185" y="205"/>
                      </a:lnTo>
                      <a:lnTo>
                        <a:pt x="1179" y="203"/>
                      </a:lnTo>
                      <a:lnTo>
                        <a:pt x="1176" y="200"/>
                      </a:lnTo>
                      <a:lnTo>
                        <a:pt x="1172" y="198"/>
                      </a:lnTo>
                      <a:lnTo>
                        <a:pt x="1166" y="194"/>
                      </a:lnTo>
                      <a:lnTo>
                        <a:pt x="1160" y="192"/>
                      </a:lnTo>
                      <a:lnTo>
                        <a:pt x="1157" y="192"/>
                      </a:lnTo>
                      <a:lnTo>
                        <a:pt x="1151" y="190"/>
                      </a:lnTo>
                      <a:lnTo>
                        <a:pt x="1147" y="190"/>
                      </a:lnTo>
                      <a:lnTo>
                        <a:pt x="1143" y="188"/>
                      </a:lnTo>
                      <a:lnTo>
                        <a:pt x="1141" y="186"/>
                      </a:lnTo>
                      <a:lnTo>
                        <a:pt x="1138" y="186"/>
                      </a:lnTo>
                      <a:lnTo>
                        <a:pt x="1136" y="186"/>
                      </a:lnTo>
                      <a:lnTo>
                        <a:pt x="1134" y="186"/>
                      </a:lnTo>
                      <a:lnTo>
                        <a:pt x="1130" y="186"/>
                      </a:lnTo>
                      <a:lnTo>
                        <a:pt x="1128" y="186"/>
                      </a:lnTo>
                      <a:lnTo>
                        <a:pt x="1124" y="186"/>
                      </a:lnTo>
                      <a:lnTo>
                        <a:pt x="1122" y="186"/>
                      </a:lnTo>
                      <a:lnTo>
                        <a:pt x="1120" y="186"/>
                      </a:lnTo>
                      <a:lnTo>
                        <a:pt x="1117" y="186"/>
                      </a:lnTo>
                      <a:lnTo>
                        <a:pt x="1115" y="186"/>
                      </a:lnTo>
                      <a:lnTo>
                        <a:pt x="1109" y="186"/>
                      </a:lnTo>
                      <a:lnTo>
                        <a:pt x="1105" y="188"/>
                      </a:lnTo>
                      <a:lnTo>
                        <a:pt x="1100" y="188"/>
                      </a:lnTo>
                      <a:lnTo>
                        <a:pt x="1094" y="190"/>
                      </a:lnTo>
                      <a:lnTo>
                        <a:pt x="1090" y="192"/>
                      </a:lnTo>
                      <a:lnTo>
                        <a:pt x="1086" y="192"/>
                      </a:lnTo>
                      <a:lnTo>
                        <a:pt x="1081" y="194"/>
                      </a:lnTo>
                      <a:lnTo>
                        <a:pt x="1077" y="198"/>
                      </a:lnTo>
                      <a:lnTo>
                        <a:pt x="1073" y="200"/>
                      </a:lnTo>
                      <a:lnTo>
                        <a:pt x="1067" y="203"/>
                      </a:lnTo>
                      <a:lnTo>
                        <a:pt x="1063" y="205"/>
                      </a:lnTo>
                      <a:lnTo>
                        <a:pt x="1058" y="207"/>
                      </a:lnTo>
                      <a:lnTo>
                        <a:pt x="1054" y="211"/>
                      </a:lnTo>
                      <a:lnTo>
                        <a:pt x="1050" y="215"/>
                      </a:lnTo>
                      <a:lnTo>
                        <a:pt x="1048" y="219"/>
                      </a:lnTo>
                      <a:lnTo>
                        <a:pt x="1044" y="222"/>
                      </a:lnTo>
                      <a:lnTo>
                        <a:pt x="1041" y="226"/>
                      </a:lnTo>
                      <a:lnTo>
                        <a:pt x="1039" y="232"/>
                      </a:lnTo>
                      <a:lnTo>
                        <a:pt x="1035" y="234"/>
                      </a:lnTo>
                      <a:lnTo>
                        <a:pt x="1033" y="240"/>
                      </a:lnTo>
                      <a:lnTo>
                        <a:pt x="1029" y="243"/>
                      </a:lnTo>
                      <a:lnTo>
                        <a:pt x="1027" y="249"/>
                      </a:lnTo>
                      <a:lnTo>
                        <a:pt x="1025" y="253"/>
                      </a:lnTo>
                      <a:lnTo>
                        <a:pt x="1023" y="259"/>
                      </a:lnTo>
                      <a:lnTo>
                        <a:pt x="1022" y="260"/>
                      </a:lnTo>
                      <a:lnTo>
                        <a:pt x="1022" y="264"/>
                      </a:lnTo>
                      <a:lnTo>
                        <a:pt x="1022" y="266"/>
                      </a:lnTo>
                      <a:lnTo>
                        <a:pt x="1022" y="270"/>
                      </a:lnTo>
                      <a:lnTo>
                        <a:pt x="919" y="730"/>
                      </a:lnTo>
                      <a:lnTo>
                        <a:pt x="915" y="728"/>
                      </a:lnTo>
                      <a:lnTo>
                        <a:pt x="913" y="726"/>
                      </a:lnTo>
                      <a:lnTo>
                        <a:pt x="907" y="724"/>
                      </a:lnTo>
                      <a:lnTo>
                        <a:pt x="905" y="720"/>
                      </a:lnTo>
                      <a:lnTo>
                        <a:pt x="904" y="719"/>
                      </a:lnTo>
                      <a:lnTo>
                        <a:pt x="900" y="717"/>
                      </a:lnTo>
                      <a:lnTo>
                        <a:pt x="896" y="713"/>
                      </a:lnTo>
                      <a:lnTo>
                        <a:pt x="892" y="713"/>
                      </a:lnTo>
                      <a:lnTo>
                        <a:pt x="1022" y="129"/>
                      </a:lnTo>
                      <a:lnTo>
                        <a:pt x="1022" y="125"/>
                      </a:lnTo>
                      <a:lnTo>
                        <a:pt x="1022" y="124"/>
                      </a:lnTo>
                      <a:lnTo>
                        <a:pt x="1022" y="120"/>
                      </a:lnTo>
                      <a:lnTo>
                        <a:pt x="1022" y="118"/>
                      </a:lnTo>
                      <a:lnTo>
                        <a:pt x="1022" y="114"/>
                      </a:lnTo>
                      <a:lnTo>
                        <a:pt x="1022" y="112"/>
                      </a:lnTo>
                      <a:lnTo>
                        <a:pt x="1022" y="110"/>
                      </a:lnTo>
                      <a:lnTo>
                        <a:pt x="1022" y="106"/>
                      </a:lnTo>
                      <a:lnTo>
                        <a:pt x="1022" y="105"/>
                      </a:lnTo>
                      <a:lnTo>
                        <a:pt x="1022" y="103"/>
                      </a:lnTo>
                      <a:lnTo>
                        <a:pt x="1022" y="99"/>
                      </a:lnTo>
                      <a:lnTo>
                        <a:pt x="1022" y="97"/>
                      </a:lnTo>
                      <a:lnTo>
                        <a:pt x="1022" y="91"/>
                      </a:lnTo>
                      <a:lnTo>
                        <a:pt x="1022" y="86"/>
                      </a:lnTo>
                      <a:lnTo>
                        <a:pt x="1020" y="82"/>
                      </a:lnTo>
                      <a:lnTo>
                        <a:pt x="1018" y="76"/>
                      </a:lnTo>
                      <a:lnTo>
                        <a:pt x="1016" y="70"/>
                      </a:lnTo>
                      <a:lnTo>
                        <a:pt x="1014" y="67"/>
                      </a:lnTo>
                      <a:lnTo>
                        <a:pt x="1012" y="61"/>
                      </a:lnTo>
                      <a:lnTo>
                        <a:pt x="1010" y="57"/>
                      </a:lnTo>
                      <a:lnTo>
                        <a:pt x="1008" y="53"/>
                      </a:lnTo>
                      <a:lnTo>
                        <a:pt x="1006" y="48"/>
                      </a:lnTo>
                      <a:lnTo>
                        <a:pt x="1004" y="44"/>
                      </a:lnTo>
                      <a:lnTo>
                        <a:pt x="1001" y="40"/>
                      </a:lnTo>
                      <a:lnTo>
                        <a:pt x="997" y="36"/>
                      </a:lnTo>
                      <a:lnTo>
                        <a:pt x="993" y="32"/>
                      </a:lnTo>
                      <a:lnTo>
                        <a:pt x="991" y="29"/>
                      </a:lnTo>
                      <a:lnTo>
                        <a:pt x="985" y="25"/>
                      </a:lnTo>
                      <a:lnTo>
                        <a:pt x="983" y="23"/>
                      </a:lnTo>
                      <a:lnTo>
                        <a:pt x="978" y="19"/>
                      </a:lnTo>
                      <a:lnTo>
                        <a:pt x="972" y="17"/>
                      </a:lnTo>
                      <a:lnTo>
                        <a:pt x="968" y="13"/>
                      </a:lnTo>
                      <a:lnTo>
                        <a:pt x="964" y="11"/>
                      </a:lnTo>
                      <a:lnTo>
                        <a:pt x="961" y="10"/>
                      </a:lnTo>
                      <a:lnTo>
                        <a:pt x="955" y="6"/>
                      </a:lnTo>
                      <a:lnTo>
                        <a:pt x="949" y="6"/>
                      </a:lnTo>
                      <a:lnTo>
                        <a:pt x="944" y="4"/>
                      </a:lnTo>
                      <a:lnTo>
                        <a:pt x="940" y="4"/>
                      </a:lnTo>
                      <a:lnTo>
                        <a:pt x="936" y="2"/>
                      </a:lnTo>
                      <a:lnTo>
                        <a:pt x="934" y="2"/>
                      </a:lnTo>
                      <a:lnTo>
                        <a:pt x="932" y="0"/>
                      </a:lnTo>
                      <a:lnTo>
                        <a:pt x="928" y="0"/>
                      </a:lnTo>
                      <a:lnTo>
                        <a:pt x="926" y="0"/>
                      </a:lnTo>
                      <a:lnTo>
                        <a:pt x="925" y="0"/>
                      </a:lnTo>
                      <a:lnTo>
                        <a:pt x="921" y="0"/>
                      </a:lnTo>
                      <a:lnTo>
                        <a:pt x="919" y="0"/>
                      </a:lnTo>
                      <a:lnTo>
                        <a:pt x="915" y="0"/>
                      </a:lnTo>
                      <a:lnTo>
                        <a:pt x="913" y="0"/>
                      </a:lnTo>
                      <a:lnTo>
                        <a:pt x="911" y="0"/>
                      </a:lnTo>
                      <a:lnTo>
                        <a:pt x="907" y="0"/>
                      </a:lnTo>
                      <a:lnTo>
                        <a:pt x="904" y="0"/>
                      </a:lnTo>
                      <a:lnTo>
                        <a:pt x="898" y="2"/>
                      </a:lnTo>
                      <a:lnTo>
                        <a:pt x="896" y="2"/>
                      </a:lnTo>
                      <a:lnTo>
                        <a:pt x="892" y="2"/>
                      </a:lnTo>
                      <a:lnTo>
                        <a:pt x="890" y="2"/>
                      </a:lnTo>
                      <a:lnTo>
                        <a:pt x="888" y="4"/>
                      </a:lnTo>
                      <a:lnTo>
                        <a:pt x="881" y="4"/>
                      </a:lnTo>
                      <a:lnTo>
                        <a:pt x="877" y="6"/>
                      </a:lnTo>
                      <a:lnTo>
                        <a:pt x="873" y="10"/>
                      </a:lnTo>
                      <a:lnTo>
                        <a:pt x="867" y="11"/>
                      </a:lnTo>
                      <a:lnTo>
                        <a:pt x="864" y="15"/>
                      </a:lnTo>
                      <a:lnTo>
                        <a:pt x="860" y="17"/>
                      </a:lnTo>
                      <a:lnTo>
                        <a:pt x="854" y="19"/>
                      </a:lnTo>
                      <a:lnTo>
                        <a:pt x="850" y="23"/>
                      </a:lnTo>
                      <a:lnTo>
                        <a:pt x="847" y="25"/>
                      </a:lnTo>
                      <a:lnTo>
                        <a:pt x="843" y="29"/>
                      </a:lnTo>
                      <a:lnTo>
                        <a:pt x="839" y="32"/>
                      </a:lnTo>
                      <a:lnTo>
                        <a:pt x="835" y="36"/>
                      </a:lnTo>
                      <a:lnTo>
                        <a:pt x="833" y="40"/>
                      </a:lnTo>
                      <a:lnTo>
                        <a:pt x="831" y="44"/>
                      </a:lnTo>
                      <a:lnTo>
                        <a:pt x="828" y="48"/>
                      </a:lnTo>
                      <a:lnTo>
                        <a:pt x="824" y="53"/>
                      </a:lnTo>
                      <a:lnTo>
                        <a:pt x="822" y="57"/>
                      </a:lnTo>
                      <a:lnTo>
                        <a:pt x="820" y="61"/>
                      </a:lnTo>
                      <a:lnTo>
                        <a:pt x="818" y="67"/>
                      </a:lnTo>
                      <a:lnTo>
                        <a:pt x="816" y="70"/>
                      </a:lnTo>
                      <a:lnTo>
                        <a:pt x="816" y="74"/>
                      </a:lnTo>
                      <a:lnTo>
                        <a:pt x="814" y="76"/>
                      </a:lnTo>
                      <a:lnTo>
                        <a:pt x="812" y="82"/>
                      </a:lnTo>
                      <a:lnTo>
                        <a:pt x="812" y="84"/>
                      </a:lnTo>
                      <a:lnTo>
                        <a:pt x="687" y="663"/>
                      </a:lnTo>
                      <a:lnTo>
                        <a:pt x="681" y="663"/>
                      </a:lnTo>
                      <a:lnTo>
                        <a:pt x="677" y="663"/>
                      </a:lnTo>
                      <a:lnTo>
                        <a:pt x="673" y="663"/>
                      </a:lnTo>
                      <a:lnTo>
                        <a:pt x="670" y="663"/>
                      </a:lnTo>
                      <a:lnTo>
                        <a:pt x="666" y="663"/>
                      </a:lnTo>
                      <a:lnTo>
                        <a:pt x="660" y="665"/>
                      </a:lnTo>
                      <a:lnTo>
                        <a:pt x="656" y="665"/>
                      </a:lnTo>
                      <a:lnTo>
                        <a:pt x="652" y="667"/>
                      </a:lnTo>
                      <a:lnTo>
                        <a:pt x="753" y="213"/>
                      </a:lnTo>
                      <a:lnTo>
                        <a:pt x="753" y="209"/>
                      </a:lnTo>
                      <a:lnTo>
                        <a:pt x="753" y="207"/>
                      </a:lnTo>
                      <a:lnTo>
                        <a:pt x="753" y="203"/>
                      </a:lnTo>
                      <a:lnTo>
                        <a:pt x="753" y="201"/>
                      </a:lnTo>
                      <a:lnTo>
                        <a:pt x="753" y="198"/>
                      </a:lnTo>
                      <a:lnTo>
                        <a:pt x="753" y="196"/>
                      </a:lnTo>
                      <a:lnTo>
                        <a:pt x="753" y="192"/>
                      </a:lnTo>
                      <a:lnTo>
                        <a:pt x="753" y="190"/>
                      </a:lnTo>
                      <a:lnTo>
                        <a:pt x="753" y="188"/>
                      </a:lnTo>
                      <a:lnTo>
                        <a:pt x="753" y="184"/>
                      </a:lnTo>
                      <a:lnTo>
                        <a:pt x="753" y="182"/>
                      </a:lnTo>
                      <a:lnTo>
                        <a:pt x="753" y="181"/>
                      </a:lnTo>
                      <a:lnTo>
                        <a:pt x="753" y="175"/>
                      </a:lnTo>
                      <a:lnTo>
                        <a:pt x="753" y="169"/>
                      </a:lnTo>
                      <a:lnTo>
                        <a:pt x="751" y="167"/>
                      </a:lnTo>
                      <a:lnTo>
                        <a:pt x="751" y="163"/>
                      </a:lnTo>
                      <a:lnTo>
                        <a:pt x="751" y="162"/>
                      </a:lnTo>
                      <a:lnTo>
                        <a:pt x="750" y="160"/>
                      </a:lnTo>
                      <a:lnTo>
                        <a:pt x="748" y="154"/>
                      </a:lnTo>
                      <a:lnTo>
                        <a:pt x="746" y="148"/>
                      </a:lnTo>
                      <a:lnTo>
                        <a:pt x="744" y="144"/>
                      </a:lnTo>
                      <a:lnTo>
                        <a:pt x="742" y="141"/>
                      </a:lnTo>
                      <a:lnTo>
                        <a:pt x="740" y="135"/>
                      </a:lnTo>
                      <a:lnTo>
                        <a:pt x="738" y="131"/>
                      </a:lnTo>
                      <a:lnTo>
                        <a:pt x="734" y="127"/>
                      </a:lnTo>
                      <a:lnTo>
                        <a:pt x="730" y="124"/>
                      </a:lnTo>
                      <a:lnTo>
                        <a:pt x="727" y="120"/>
                      </a:lnTo>
                      <a:lnTo>
                        <a:pt x="725" y="116"/>
                      </a:lnTo>
                      <a:lnTo>
                        <a:pt x="721" y="112"/>
                      </a:lnTo>
                      <a:lnTo>
                        <a:pt x="717" y="108"/>
                      </a:lnTo>
                      <a:lnTo>
                        <a:pt x="713" y="105"/>
                      </a:lnTo>
                      <a:lnTo>
                        <a:pt x="710" y="103"/>
                      </a:lnTo>
                      <a:lnTo>
                        <a:pt x="704" y="99"/>
                      </a:lnTo>
                      <a:lnTo>
                        <a:pt x="700" y="97"/>
                      </a:lnTo>
                      <a:lnTo>
                        <a:pt x="694" y="95"/>
                      </a:lnTo>
                      <a:lnTo>
                        <a:pt x="691" y="91"/>
                      </a:lnTo>
                      <a:lnTo>
                        <a:pt x="685" y="89"/>
                      </a:lnTo>
                      <a:lnTo>
                        <a:pt x="681" y="87"/>
                      </a:lnTo>
                      <a:lnTo>
                        <a:pt x="675" y="86"/>
                      </a:lnTo>
                      <a:lnTo>
                        <a:pt x="672" y="86"/>
                      </a:lnTo>
                      <a:lnTo>
                        <a:pt x="668" y="84"/>
                      </a:lnTo>
                      <a:lnTo>
                        <a:pt x="666" y="84"/>
                      </a:lnTo>
                      <a:lnTo>
                        <a:pt x="664" y="84"/>
                      </a:lnTo>
                      <a:lnTo>
                        <a:pt x="660" y="84"/>
                      </a:lnTo>
                      <a:lnTo>
                        <a:pt x="658" y="84"/>
                      </a:lnTo>
                      <a:lnTo>
                        <a:pt x="654" y="84"/>
                      </a:lnTo>
                      <a:lnTo>
                        <a:pt x="652" y="84"/>
                      </a:lnTo>
                      <a:lnTo>
                        <a:pt x="651" y="84"/>
                      </a:lnTo>
                      <a:lnTo>
                        <a:pt x="647" y="84"/>
                      </a:lnTo>
                      <a:lnTo>
                        <a:pt x="645" y="84"/>
                      </a:lnTo>
                      <a:lnTo>
                        <a:pt x="643" y="84"/>
                      </a:lnTo>
                      <a:lnTo>
                        <a:pt x="639" y="84"/>
                      </a:lnTo>
                      <a:lnTo>
                        <a:pt x="635" y="84"/>
                      </a:lnTo>
                      <a:lnTo>
                        <a:pt x="630" y="84"/>
                      </a:lnTo>
                      <a:lnTo>
                        <a:pt x="628" y="84"/>
                      </a:lnTo>
                      <a:lnTo>
                        <a:pt x="624" y="86"/>
                      </a:lnTo>
                      <a:lnTo>
                        <a:pt x="622" y="86"/>
                      </a:lnTo>
                      <a:lnTo>
                        <a:pt x="618" y="86"/>
                      </a:lnTo>
                      <a:lnTo>
                        <a:pt x="614" y="87"/>
                      </a:lnTo>
                      <a:lnTo>
                        <a:pt x="609" y="89"/>
                      </a:lnTo>
                      <a:lnTo>
                        <a:pt x="603" y="91"/>
                      </a:lnTo>
                      <a:lnTo>
                        <a:pt x="599" y="95"/>
                      </a:lnTo>
                      <a:lnTo>
                        <a:pt x="595" y="97"/>
                      </a:lnTo>
                      <a:lnTo>
                        <a:pt x="592" y="99"/>
                      </a:lnTo>
                      <a:lnTo>
                        <a:pt x="586" y="103"/>
                      </a:lnTo>
                      <a:lnTo>
                        <a:pt x="582" y="105"/>
                      </a:lnTo>
                      <a:lnTo>
                        <a:pt x="578" y="108"/>
                      </a:lnTo>
                      <a:lnTo>
                        <a:pt x="574" y="112"/>
                      </a:lnTo>
                      <a:lnTo>
                        <a:pt x="571" y="116"/>
                      </a:lnTo>
                      <a:lnTo>
                        <a:pt x="567" y="120"/>
                      </a:lnTo>
                      <a:lnTo>
                        <a:pt x="565" y="124"/>
                      </a:lnTo>
                      <a:lnTo>
                        <a:pt x="563" y="127"/>
                      </a:lnTo>
                      <a:lnTo>
                        <a:pt x="559" y="131"/>
                      </a:lnTo>
                      <a:lnTo>
                        <a:pt x="555" y="135"/>
                      </a:lnTo>
                      <a:lnTo>
                        <a:pt x="554" y="141"/>
                      </a:lnTo>
                      <a:lnTo>
                        <a:pt x="552" y="146"/>
                      </a:lnTo>
                      <a:lnTo>
                        <a:pt x="550" y="150"/>
                      </a:lnTo>
                      <a:lnTo>
                        <a:pt x="548" y="156"/>
                      </a:lnTo>
                      <a:lnTo>
                        <a:pt x="546" y="158"/>
                      </a:lnTo>
                      <a:lnTo>
                        <a:pt x="546" y="160"/>
                      </a:lnTo>
                      <a:lnTo>
                        <a:pt x="544" y="163"/>
                      </a:lnTo>
                      <a:lnTo>
                        <a:pt x="544" y="167"/>
                      </a:lnTo>
                      <a:lnTo>
                        <a:pt x="361" y="1127"/>
                      </a:lnTo>
                      <a:lnTo>
                        <a:pt x="361" y="1127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0" name="AutoShape 407"/>
              <p:cNvSpPr/>
              <p:nvPr/>
            </p:nvSpPr>
            <p:spPr>
              <a:xfrm flipH="1" rot="2647800">
                <a:off x="6839280" y="2932920"/>
                <a:ext cx="88560" cy="75600"/>
              </a:xfrm>
              <a:prstGeom prst="hexagon">
                <a:avLst>
                  <a:gd name="adj" fmla="val 29286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AutoShape 408"/>
              <p:cNvSpPr/>
              <p:nvPr/>
            </p:nvSpPr>
            <p:spPr>
              <a:xfrm flipH="1" rot="2617200">
                <a:off x="6530760" y="3213720"/>
                <a:ext cx="193320" cy="54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308" y="21600"/>
                    </a:lnTo>
                    <a:lnTo>
                      <a:pt x="1729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2" name="Group 409"/>
            <p:cNvGrpSpPr/>
            <p:nvPr/>
          </p:nvGrpSpPr>
          <p:grpSpPr>
            <a:xfrm>
              <a:off x="6781680" y="2481480"/>
              <a:ext cx="642600" cy="619920"/>
              <a:chOff x="6781680" y="2481480"/>
              <a:chExt cx="642600" cy="619920"/>
            </a:xfrm>
          </p:grpSpPr>
          <p:grpSp>
            <p:nvGrpSpPr>
              <p:cNvPr id="3003" name="Group 410"/>
              <p:cNvGrpSpPr/>
              <p:nvPr/>
            </p:nvGrpSpPr>
            <p:grpSpPr>
              <a:xfrm>
                <a:off x="6781680" y="2481480"/>
                <a:ext cx="642600" cy="619920"/>
                <a:chOff x="6781680" y="2481480"/>
                <a:chExt cx="642600" cy="619920"/>
              </a:xfrm>
            </p:grpSpPr>
            <p:sp>
              <p:nvSpPr>
                <p:cNvPr id="3004" name="AutoShape 411"/>
                <p:cNvSpPr/>
                <p:nvPr/>
              </p:nvSpPr>
              <p:spPr>
                <a:xfrm flipV="1" rot="2617200">
                  <a:off x="6964560" y="2639880"/>
                  <a:ext cx="179640" cy="36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4308" y="21600"/>
                      </a:lnTo>
                      <a:lnTo>
                        <a:pt x="17292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5" name="Oval 412"/>
                <p:cNvSpPr/>
                <p:nvPr/>
              </p:nvSpPr>
              <p:spPr>
                <a:xfrm flipV="1" rot="2077800">
                  <a:off x="6819120" y="2874600"/>
                  <a:ext cx="186480" cy="1900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6" name="Freeform 413"/>
                <p:cNvSpPr/>
                <p:nvPr/>
              </p:nvSpPr>
              <p:spPr>
                <a:xfrm flipV="1" rot="14183400">
                  <a:off x="7168320" y="2489400"/>
                  <a:ext cx="174960" cy="287640"/>
                </a:xfrm>
                <a:custGeom>
                  <a:avLst/>
                  <a:gdLst/>
                  <a:ahLst/>
                  <a:rect l="l" t="t" r="r" b="b"/>
                  <a:pathLst>
                    <a:path w="1402" h="2302">
                      <a:moveTo>
                        <a:pt x="361" y="1127"/>
                      </a:moveTo>
                      <a:lnTo>
                        <a:pt x="280" y="1116"/>
                      </a:lnTo>
                      <a:lnTo>
                        <a:pt x="373" y="711"/>
                      </a:lnTo>
                      <a:lnTo>
                        <a:pt x="373" y="709"/>
                      </a:lnTo>
                      <a:lnTo>
                        <a:pt x="375" y="705"/>
                      </a:lnTo>
                      <a:lnTo>
                        <a:pt x="375" y="703"/>
                      </a:lnTo>
                      <a:lnTo>
                        <a:pt x="375" y="700"/>
                      </a:lnTo>
                      <a:lnTo>
                        <a:pt x="375" y="698"/>
                      </a:lnTo>
                      <a:lnTo>
                        <a:pt x="375" y="696"/>
                      </a:lnTo>
                      <a:lnTo>
                        <a:pt x="375" y="692"/>
                      </a:lnTo>
                      <a:lnTo>
                        <a:pt x="375" y="690"/>
                      </a:lnTo>
                      <a:lnTo>
                        <a:pt x="375" y="684"/>
                      </a:lnTo>
                      <a:lnTo>
                        <a:pt x="375" y="681"/>
                      </a:lnTo>
                      <a:lnTo>
                        <a:pt x="375" y="675"/>
                      </a:lnTo>
                      <a:lnTo>
                        <a:pt x="375" y="669"/>
                      </a:lnTo>
                      <a:lnTo>
                        <a:pt x="371" y="665"/>
                      </a:lnTo>
                      <a:lnTo>
                        <a:pt x="371" y="660"/>
                      </a:lnTo>
                      <a:lnTo>
                        <a:pt x="369" y="654"/>
                      </a:lnTo>
                      <a:lnTo>
                        <a:pt x="367" y="652"/>
                      </a:lnTo>
                      <a:lnTo>
                        <a:pt x="365" y="646"/>
                      </a:lnTo>
                      <a:lnTo>
                        <a:pt x="363" y="641"/>
                      </a:lnTo>
                      <a:lnTo>
                        <a:pt x="361" y="637"/>
                      </a:lnTo>
                      <a:lnTo>
                        <a:pt x="358" y="633"/>
                      </a:lnTo>
                      <a:lnTo>
                        <a:pt x="356" y="629"/>
                      </a:lnTo>
                      <a:lnTo>
                        <a:pt x="354" y="623"/>
                      </a:lnTo>
                      <a:lnTo>
                        <a:pt x="350" y="620"/>
                      </a:lnTo>
                      <a:lnTo>
                        <a:pt x="346" y="616"/>
                      </a:lnTo>
                      <a:lnTo>
                        <a:pt x="342" y="612"/>
                      </a:lnTo>
                      <a:lnTo>
                        <a:pt x="339" y="610"/>
                      </a:lnTo>
                      <a:lnTo>
                        <a:pt x="335" y="606"/>
                      </a:lnTo>
                      <a:lnTo>
                        <a:pt x="331" y="603"/>
                      </a:lnTo>
                      <a:lnTo>
                        <a:pt x="325" y="601"/>
                      </a:lnTo>
                      <a:lnTo>
                        <a:pt x="321" y="597"/>
                      </a:lnTo>
                      <a:lnTo>
                        <a:pt x="318" y="595"/>
                      </a:lnTo>
                      <a:lnTo>
                        <a:pt x="312" y="593"/>
                      </a:lnTo>
                      <a:lnTo>
                        <a:pt x="306" y="591"/>
                      </a:lnTo>
                      <a:lnTo>
                        <a:pt x="302" y="589"/>
                      </a:lnTo>
                      <a:lnTo>
                        <a:pt x="299" y="589"/>
                      </a:lnTo>
                      <a:lnTo>
                        <a:pt x="295" y="587"/>
                      </a:lnTo>
                      <a:lnTo>
                        <a:pt x="291" y="587"/>
                      </a:lnTo>
                      <a:lnTo>
                        <a:pt x="287" y="585"/>
                      </a:lnTo>
                      <a:lnTo>
                        <a:pt x="285" y="585"/>
                      </a:lnTo>
                      <a:lnTo>
                        <a:pt x="283" y="585"/>
                      </a:lnTo>
                      <a:lnTo>
                        <a:pt x="280" y="585"/>
                      </a:lnTo>
                      <a:lnTo>
                        <a:pt x="276" y="585"/>
                      </a:lnTo>
                      <a:lnTo>
                        <a:pt x="274" y="585"/>
                      </a:lnTo>
                      <a:lnTo>
                        <a:pt x="272" y="585"/>
                      </a:lnTo>
                      <a:lnTo>
                        <a:pt x="268" y="585"/>
                      </a:lnTo>
                      <a:lnTo>
                        <a:pt x="266" y="585"/>
                      </a:lnTo>
                      <a:lnTo>
                        <a:pt x="263" y="585"/>
                      </a:lnTo>
                      <a:lnTo>
                        <a:pt x="261" y="587"/>
                      </a:lnTo>
                      <a:lnTo>
                        <a:pt x="259" y="587"/>
                      </a:lnTo>
                      <a:lnTo>
                        <a:pt x="255" y="587"/>
                      </a:lnTo>
                      <a:lnTo>
                        <a:pt x="253" y="589"/>
                      </a:lnTo>
                      <a:lnTo>
                        <a:pt x="249" y="589"/>
                      </a:lnTo>
                      <a:lnTo>
                        <a:pt x="247" y="589"/>
                      </a:lnTo>
                      <a:lnTo>
                        <a:pt x="243" y="591"/>
                      </a:lnTo>
                      <a:lnTo>
                        <a:pt x="240" y="591"/>
                      </a:lnTo>
                      <a:lnTo>
                        <a:pt x="238" y="593"/>
                      </a:lnTo>
                      <a:lnTo>
                        <a:pt x="236" y="595"/>
                      </a:lnTo>
                      <a:lnTo>
                        <a:pt x="232" y="595"/>
                      </a:lnTo>
                      <a:lnTo>
                        <a:pt x="230" y="597"/>
                      </a:lnTo>
                      <a:lnTo>
                        <a:pt x="228" y="599"/>
                      </a:lnTo>
                      <a:lnTo>
                        <a:pt x="224" y="601"/>
                      </a:lnTo>
                      <a:lnTo>
                        <a:pt x="223" y="601"/>
                      </a:lnTo>
                      <a:lnTo>
                        <a:pt x="219" y="603"/>
                      </a:lnTo>
                      <a:lnTo>
                        <a:pt x="217" y="604"/>
                      </a:lnTo>
                      <a:lnTo>
                        <a:pt x="211" y="608"/>
                      </a:lnTo>
                      <a:lnTo>
                        <a:pt x="207" y="612"/>
                      </a:lnTo>
                      <a:lnTo>
                        <a:pt x="204" y="616"/>
                      </a:lnTo>
                      <a:lnTo>
                        <a:pt x="198" y="618"/>
                      </a:lnTo>
                      <a:lnTo>
                        <a:pt x="194" y="623"/>
                      </a:lnTo>
                      <a:lnTo>
                        <a:pt x="188" y="627"/>
                      </a:lnTo>
                      <a:lnTo>
                        <a:pt x="185" y="633"/>
                      </a:lnTo>
                      <a:lnTo>
                        <a:pt x="181" y="637"/>
                      </a:lnTo>
                      <a:lnTo>
                        <a:pt x="177" y="641"/>
                      </a:lnTo>
                      <a:lnTo>
                        <a:pt x="173" y="646"/>
                      </a:lnTo>
                      <a:lnTo>
                        <a:pt x="169" y="652"/>
                      </a:lnTo>
                      <a:lnTo>
                        <a:pt x="166" y="656"/>
                      </a:lnTo>
                      <a:lnTo>
                        <a:pt x="162" y="662"/>
                      </a:lnTo>
                      <a:lnTo>
                        <a:pt x="160" y="665"/>
                      </a:lnTo>
                      <a:lnTo>
                        <a:pt x="158" y="669"/>
                      </a:lnTo>
                      <a:lnTo>
                        <a:pt x="158" y="671"/>
                      </a:lnTo>
                      <a:lnTo>
                        <a:pt x="156" y="673"/>
                      </a:lnTo>
                      <a:lnTo>
                        <a:pt x="154" y="677"/>
                      </a:lnTo>
                      <a:lnTo>
                        <a:pt x="152" y="679"/>
                      </a:lnTo>
                      <a:lnTo>
                        <a:pt x="152" y="681"/>
                      </a:lnTo>
                      <a:lnTo>
                        <a:pt x="150" y="684"/>
                      </a:lnTo>
                      <a:lnTo>
                        <a:pt x="150" y="688"/>
                      </a:lnTo>
                      <a:lnTo>
                        <a:pt x="146" y="694"/>
                      </a:lnTo>
                      <a:lnTo>
                        <a:pt x="145" y="701"/>
                      </a:lnTo>
                      <a:lnTo>
                        <a:pt x="143" y="709"/>
                      </a:lnTo>
                      <a:lnTo>
                        <a:pt x="139" y="717"/>
                      </a:lnTo>
                      <a:lnTo>
                        <a:pt x="137" y="724"/>
                      </a:lnTo>
                      <a:lnTo>
                        <a:pt x="135" y="732"/>
                      </a:lnTo>
                      <a:lnTo>
                        <a:pt x="131" y="739"/>
                      </a:lnTo>
                      <a:lnTo>
                        <a:pt x="129" y="747"/>
                      </a:lnTo>
                      <a:lnTo>
                        <a:pt x="126" y="755"/>
                      </a:lnTo>
                      <a:lnTo>
                        <a:pt x="124" y="760"/>
                      </a:lnTo>
                      <a:lnTo>
                        <a:pt x="122" y="768"/>
                      </a:lnTo>
                      <a:lnTo>
                        <a:pt x="120" y="776"/>
                      </a:lnTo>
                      <a:lnTo>
                        <a:pt x="116" y="781"/>
                      </a:lnTo>
                      <a:lnTo>
                        <a:pt x="114" y="789"/>
                      </a:lnTo>
                      <a:lnTo>
                        <a:pt x="112" y="796"/>
                      </a:lnTo>
                      <a:lnTo>
                        <a:pt x="110" y="804"/>
                      </a:lnTo>
                      <a:lnTo>
                        <a:pt x="107" y="812"/>
                      </a:lnTo>
                      <a:lnTo>
                        <a:pt x="107" y="817"/>
                      </a:lnTo>
                      <a:lnTo>
                        <a:pt x="103" y="823"/>
                      </a:lnTo>
                      <a:lnTo>
                        <a:pt x="101" y="831"/>
                      </a:lnTo>
                      <a:lnTo>
                        <a:pt x="97" y="836"/>
                      </a:lnTo>
                      <a:lnTo>
                        <a:pt x="97" y="844"/>
                      </a:lnTo>
                      <a:lnTo>
                        <a:pt x="93" y="852"/>
                      </a:lnTo>
                      <a:lnTo>
                        <a:pt x="93" y="857"/>
                      </a:lnTo>
                      <a:lnTo>
                        <a:pt x="89" y="865"/>
                      </a:lnTo>
                      <a:lnTo>
                        <a:pt x="88" y="871"/>
                      </a:lnTo>
                      <a:lnTo>
                        <a:pt x="86" y="878"/>
                      </a:lnTo>
                      <a:lnTo>
                        <a:pt x="84" y="884"/>
                      </a:lnTo>
                      <a:lnTo>
                        <a:pt x="82" y="892"/>
                      </a:lnTo>
                      <a:lnTo>
                        <a:pt x="80" y="899"/>
                      </a:lnTo>
                      <a:lnTo>
                        <a:pt x="78" y="907"/>
                      </a:lnTo>
                      <a:lnTo>
                        <a:pt x="74" y="912"/>
                      </a:lnTo>
                      <a:lnTo>
                        <a:pt x="72" y="920"/>
                      </a:lnTo>
                      <a:lnTo>
                        <a:pt x="72" y="926"/>
                      </a:lnTo>
                      <a:lnTo>
                        <a:pt x="68" y="931"/>
                      </a:lnTo>
                      <a:lnTo>
                        <a:pt x="67" y="939"/>
                      </a:lnTo>
                      <a:lnTo>
                        <a:pt x="65" y="945"/>
                      </a:lnTo>
                      <a:lnTo>
                        <a:pt x="63" y="952"/>
                      </a:lnTo>
                      <a:lnTo>
                        <a:pt x="59" y="958"/>
                      </a:lnTo>
                      <a:lnTo>
                        <a:pt x="57" y="966"/>
                      </a:lnTo>
                      <a:lnTo>
                        <a:pt x="55" y="971"/>
                      </a:lnTo>
                      <a:lnTo>
                        <a:pt x="53" y="979"/>
                      </a:lnTo>
                      <a:lnTo>
                        <a:pt x="51" y="987"/>
                      </a:lnTo>
                      <a:lnTo>
                        <a:pt x="49" y="994"/>
                      </a:lnTo>
                      <a:lnTo>
                        <a:pt x="48" y="1000"/>
                      </a:lnTo>
                      <a:lnTo>
                        <a:pt x="46" y="1007"/>
                      </a:lnTo>
                      <a:lnTo>
                        <a:pt x="44" y="1015"/>
                      </a:lnTo>
                      <a:lnTo>
                        <a:pt x="42" y="1021"/>
                      </a:lnTo>
                      <a:lnTo>
                        <a:pt x="42" y="1028"/>
                      </a:lnTo>
                      <a:lnTo>
                        <a:pt x="38" y="1036"/>
                      </a:lnTo>
                      <a:lnTo>
                        <a:pt x="36" y="1042"/>
                      </a:lnTo>
                      <a:lnTo>
                        <a:pt x="36" y="1049"/>
                      </a:lnTo>
                      <a:lnTo>
                        <a:pt x="34" y="1057"/>
                      </a:lnTo>
                      <a:lnTo>
                        <a:pt x="30" y="1063"/>
                      </a:lnTo>
                      <a:lnTo>
                        <a:pt x="30" y="1070"/>
                      </a:lnTo>
                      <a:lnTo>
                        <a:pt x="29" y="1078"/>
                      </a:lnTo>
                      <a:lnTo>
                        <a:pt x="27" y="1085"/>
                      </a:lnTo>
                      <a:lnTo>
                        <a:pt x="25" y="1093"/>
                      </a:lnTo>
                      <a:lnTo>
                        <a:pt x="23" y="1101"/>
                      </a:lnTo>
                      <a:lnTo>
                        <a:pt x="21" y="1108"/>
                      </a:lnTo>
                      <a:lnTo>
                        <a:pt x="19" y="1116"/>
                      </a:lnTo>
                      <a:lnTo>
                        <a:pt x="17" y="1123"/>
                      </a:lnTo>
                      <a:lnTo>
                        <a:pt x="17" y="1131"/>
                      </a:lnTo>
                      <a:lnTo>
                        <a:pt x="15" y="1139"/>
                      </a:lnTo>
                      <a:lnTo>
                        <a:pt x="13" y="1148"/>
                      </a:lnTo>
                      <a:lnTo>
                        <a:pt x="10" y="1158"/>
                      </a:lnTo>
                      <a:lnTo>
                        <a:pt x="10" y="1165"/>
                      </a:lnTo>
                      <a:lnTo>
                        <a:pt x="8" y="1175"/>
                      </a:lnTo>
                      <a:lnTo>
                        <a:pt x="6" y="1182"/>
                      </a:lnTo>
                      <a:lnTo>
                        <a:pt x="6" y="1192"/>
                      </a:lnTo>
                      <a:lnTo>
                        <a:pt x="4" y="1201"/>
                      </a:lnTo>
                      <a:lnTo>
                        <a:pt x="2" y="1211"/>
                      </a:lnTo>
                      <a:lnTo>
                        <a:pt x="2" y="1218"/>
                      </a:lnTo>
                      <a:lnTo>
                        <a:pt x="0" y="1230"/>
                      </a:lnTo>
                      <a:lnTo>
                        <a:pt x="0" y="1237"/>
                      </a:lnTo>
                      <a:lnTo>
                        <a:pt x="0" y="1247"/>
                      </a:lnTo>
                      <a:lnTo>
                        <a:pt x="0" y="1257"/>
                      </a:lnTo>
                      <a:lnTo>
                        <a:pt x="0" y="1268"/>
                      </a:lnTo>
                      <a:lnTo>
                        <a:pt x="0" y="1276"/>
                      </a:lnTo>
                      <a:lnTo>
                        <a:pt x="0" y="1285"/>
                      </a:lnTo>
                      <a:lnTo>
                        <a:pt x="0" y="1296"/>
                      </a:lnTo>
                      <a:lnTo>
                        <a:pt x="0" y="1304"/>
                      </a:lnTo>
                      <a:lnTo>
                        <a:pt x="0" y="1314"/>
                      </a:lnTo>
                      <a:lnTo>
                        <a:pt x="0" y="1323"/>
                      </a:lnTo>
                      <a:lnTo>
                        <a:pt x="0" y="1333"/>
                      </a:lnTo>
                      <a:lnTo>
                        <a:pt x="2" y="1342"/>
                      </a:lnTo>
                      <a:lnTo>
                        <a:pt x="2" y="1352"/>
                      </a:lnTo>
                      <a:lnTo>
                        <a:pt x="4" y="1363"/>
                      </a:lnTo>
                      <a:lnTo>
                        <a:pt x="4" y="1371"/>
                      </a:lnTo>
                      <a:lnTo>
                        <a:pt x="6" y="1382"/>
                      </a:lnTo>
                      <a:lnTo>
                        <a:pt x="8" y="1390"/>
                      </a:lnTo>
                      <a:lnTo>
                        <a:pt x="8" y="1401"/>
                      </a:lnTo>
                      <a:lnTo>
                        <a:pt x="10" y="1409"/>
                      </a:lnTo>
                      <a:lnTo>
                        <a:pt x="11" y="1420"/>
                      </a:lnTo>
                      <a:lnTo>
                        <a:pt x="13" y="1429"/>
                      </a:lnTo>
                      <a:lnTo>
                        <a:pt x="15" y="1439"/>
                      </a:lnTo>
                      <a:lnTo>
                        <a:pt x="17" y="1448"/>
                      </a:lnTo>
                      <a:lnTo>
                        <a:pt x="19" y="1458"/>
                      </a:lnTo>
                      <a:lnTo>
                        <a:pt x="21" y="1468"/>
                      </a:lnTo>
                      <a:lnTo>
                        <a:pt x="23" y="1477"/>
                      </a:lnTo>
                      <a:lnTo>
                        <a:pt x="27" y="1487"/>
                      </a:lnTo>
                      <a:lnTo>
                        <a:pt x="29" y="1496"/>
                      </a:lnTo>
                      <a:lnTo>
                        <a:pt x="30" y="1506"/>
                      </a:lnTo>
                      <a:lnTo>
                        <a:pt x="34" y="1515"/>
                      </a:lnTo>
                      <a:lnTo>
                        <a:pt x="36" y="1525"/>
                      </a:lnTo>
                      <a:lnTo>
                        <a:pt x="38" y="1534"/>
                      </a:lnTo>
                      <a:lnTo>
                        <a:pt x="42" y="1544"/>
                      </a:lnTo>
                      <a:lnTo>
                        <a:pt x="46" y="1553"/>
                      </a:lnTo>
                      <a:lnTo>
                        <a:pt x="48" y="1561"/>
                      </a:lnTo>
                      <a:lnTo>
                        <a:pt x="51" y="1572"/>
                      </a:lnTo>
                      <a:lnTo>
                        <a:pt x="55" y="1580"/>
                      </a:lnTo>
                      <a:lnTo>
                        <a:pt x="59" y="1589"/>
                      </a:lnTo>
                      <a:lnTo>
                        <a:pt x="63" y="1599"/>
                      </a:lnTo>
                      <a:lnTo>
                        <a:pt x="67" y="1608"/>
                      </a:lnTo>
                      <a:lnTo>
                        <a:pt x="68" y="1616"/>
                      </a:lnTo>
                      <a:lnTo>
                        <a:pt x="74" y="1627"/>
                      </a:lnTo>
                      <a:lnTo>
                        <a:pt x="78" y="1635"/>
                      </a:lnTo>
                      <a:lnTo>
                        <a:pt x="82" y="1644"/>
                      </a:lnTo>
                      <a:lnTo>
                        <a:pt x="86" y="1652"/>
                      </a:lnTo>
                      <a:lnTo>
                        <a:pt x="89" y="1661"/>
                      </a:lnTo>
                      <a:lnTo>
                        <a:pt x="95" y="1669"/>
                      </a:lnTo>
                      <a:lnTo>
                        <a:pt x="99" y="1679"/>
                      </a:lnTo>
                      <a:lnTo>
                        <a:pt x="103" y="1688"/>
                      </a:lnTo>
                      <a:lnTo>
                        <a:pt x="108" y="1696"/>
                      </a:lnTo>
                      <a:lnTo>
                        <a:pt x="114" y="1703"/>
                      </a:lnTo>
                      <a:lnTo>
                        <a:pt x="118" y="1713"/>
                      </a:lnTo>
                      <a:lnTo>
                        <a:pt x="124" y="1722"/>
                      </a:lnTo>
                      <a:lnTo>
                        <a:pt x="127" y="1732"/>
                      </a:lnTo>
                      <a:lnTo>
                        <a:pt x="131" y="1736"/>
                      </a:lnTo>
                      <a:lnTo>
                        <a:pt x="135" y="1739"/>
                      </a:lnTo>
                      <a:lnTo>
                        <a:pt x="135" y="1743"/>
                      </a:lnTo>
                      <a:lnTo>
                        <a:pt x="137" y="1745"/>
                      </a:lnTo>
                      <a:lnTo>
                        <a:pt x="139" y="1747"/>
                      </a:lnTo>
                      <a:lnTo>
                        <a:pt x="141" y="1751"/>
                      </a:lnTo>
                      <a:lnTo>
                        <a:pt x="143" y="1755"/>
                      </a:lnTo>
                      <a:lnTo>
                        <a:pt x="143" y="1756"/>
                      </a:lnTo>
                      <a:lnTo>
                        <a:pt x="145" y="1760"/>
                      </a:lnTo>
                      <a:lnTo>
                        <a:pt x="146" y="1762"/>
                      </a:lnTo>
                      <a:lnTo>
                        <a:pt x="148" y="1766"/>
                      </a:lnTo>
                      <a:lnTo>
                        <a:pt x="150" y="1768"/>
                      </a:lnTo>
                      <a:lnTo>
                        <a:pt x="152" y="1770"/>
                      </a:lnTo>
                      <a:lnTo>
                        <a:pt x="156" y="1774"/>
                      </a:lnTo>
                      <a:lnTo>
                        <a:pt x="158" y="1777"/>
                      </a:lnTo>
                      <a:lnTo>
                        <a:pt x="160" y="1779"/>
                      </a:lnTo>
                      <a:lnTo>
                        <a:pt x="160" y="1783"/>
                      </a:lnTo>
                      <a:lnTo>
                        <a:pt x="162" y="1787"/>
                      </a:lnTo>
                      <a:lnTo>
                        <a:pt x="166" y="1789"/>
                      </a:lnTo>
                      <a:lnTo>
                        <a:pt x="166" y="1791"/>
                      </a:lnTo>
                      <a:lnTo>
                        <a:pt x="167" y="1794"/>
                      </a:lnTo>
                      <a:lnTo>
                        <a:pt x="169" y="1796"/>
                      </a:lnTo>
                      <a:lnTo>
                        <a:pt x="171" y="1800"/>
                      </a:lnTo>
                      <a:lnTo>
                        <a:pt x="173" y="1802"/>
                      </a:lnTo>
                      <a:lnTo>
                        <a:pt x="175" y="1806"/>
                      </a:lnTo>
                      <a:lnTo>
                        <a:pt x="177" y="1808"/>
                      </a:lnTo>
                      <a:lnTo>
                        <a:pt x="179" y="1812"/>
                      </a:lnTo>
                      <a:lnTo>
                        <a:pt x="181" y="1815"/>
                      </a:lnTo>
                      <a:lnTo>
                        <a:pt x="183" y="1817"/>
                      </a:lnTo>
                      <a:lnTo>
                        <a:pt x="185" y="1821"/>
                      </a:lnTo>
                      <a:lnTo>
                        <a:pt x="188" y="1827"/>
                      </a:lnTo>
                      <a:lnTo>
                        <a:pt x="190" y="1831"/>
                      </a:lnTo>
                      <a:lnTo>
                        <a:pt x="194" y="1836"/>
                      </a:lnTo>
                      <a:lnTo>
                        <a:pt x="198" y="1842"/>
                      </a:lnTo>
                      <a:lnTo>
                        <a:pt x="200" y="1846"/>
                      </a:lnTo>
                      <a:lnTo>
                        <a:pt x="204" y="1850"/>
                      </a:lnTo>
                      <a:lnTo>
                        <a:pt x="205" y="1853"/>
                      </a:lnTo>
                      <a:lnTo>
                        <a:pt x="207" y="1859"/>
                      </a:lnTo>
                      <a:lnTo>
                        <a:pt x="209" y="1861"/>
                      </a:lnTo>
                      <a:lnTo>
                        <a:pt x="211" y="1863"/>
                      </a:lnTo>
                      <a:lnTo>
                        <a:pt x="213" y="1867"/>
                      </a:lnTo>
                      <a:lnTo>
                        <a:pt x="215" y="1869"/>
                      </a:lnTo>
                      <a:lnTo>
                        <a:pt x="217" y="1870"/>
                      </a:lnTo>
                      <a:lnTo>
                        <a:pt x="219" y="1874"/>
                      </a:lnTo>
                      <a:lnTo>
                        <a:pt x="141" y="2163"/>
                      </a:lnTo>
                      <a:lnTo>
                        <a:pt x="143" y="2165"/>
                      </a:lnTo>
                      <a:lnTo>
                        <a:pt x="146" y="2165"/>
                      </a:lnTo>
                      <a:lnTo>
                        <a:pt x="150" y="2167"/>
                      </a:lnTo>
                      <a:lnTo>
                        <a:pt x="152" y="2167"/>
                      </a:lnTo>
                      <a:lnTo>
                        <a:pt x="154" y="2167"/>
                      </a:lnTo>
                      <a:lnTo>
                        <a:pt x="158" y="2167"/>
                      </a:lnTo>
                      <a:lnTo>
                        <a:pt x="162" y="2171"/>
                      </a:lnTo>
                      <a:lnTo>
                        <a:pt x="166" y="2171"/>
                      </a:lnTo>
                      <a:lnTo>
                        <a:pt x="167" y="2173"/>
                      </a:lnTo>
                      <a:lnTo>
                        <a:pt x="171" y="2173"/>
                      </a:lnTo>
                      <a:lnTo>
                        <a:pt x="175" y="2175"/>
                      </a:lnTo>
                      <a:lnTo>
                        <a:pt x="181" y="2175"/>
                      </a:lnTo>
                      <a:lnTo>
                        <a:pt x="185" y="2175"/>
                      </a:lnTo>
                      <a:lnTo>
                        <a:pt x="188" y="2177"/>
                      </a:lnTo>
                      <a:lnTo>
                        <a:pt x="194" y="2180"/>
                      </a:lnTo>
                      <a:lnTo>
                        <a:pt x="198" y="2180"/>
                      </a:lnTo>
                      <a:lnTo>
                        <a:pt x="204" y="2182"/>
                      </a:lnTo>
                      <a:lnTo>
                        <a:pt x="209" y="2182"/>
                      </a:lnTo>
                      <a:lnTo>
                        <a:pt x="215" y="2184"/>
                      </a:lnTo>
                      <a:lnTo>
                        <a:pt x="219" y="2186"/>
                      </a:lnTo>
                      <a:lnTo>
                        <a:pt x="224" y="2188"/>
                      </a:lnTo>
                      <a:lnTo>
                        <a:pt x="232" y="2188"/>
                      </a:lnTo>
                      <a:lnTo>
                        <a:pt x="238" y="2190"/>
                      </a:lnTo>
                      <a:lnTo>
                        <a:pt x="243" y="2190"/>
                      </a:lnTo>
                      <a:lnTo>
                        <a:pt x="251" y="2192"/>
                      </a:lnTo>
                      <a:lnTo>
                        <a:pt x="257" y="2194"/>
                      </a:lnTo>
                      <a:lnTo>
                        <a:pt x="264" y="2194"/>
                      </a:lnTo>
                      <a:lnTo>
                        <a:pt x="270" y="2196"/>
                      </a:lnTo>
                      <a:lnTo>
                        <a:pt x="276" y="2196"/>
                      </a:lnTo>
                      <a:lnTo>
                        <a:pt x="283" y="2197"/>
                      </a:lnTo>
                      <a:lnTo>
                        <a:pt x="291" y="2199"/>
                      </a:lnTo>
                      <a:lnTo>
                        <a:pt x="297" y="2199"/>
                      </a:lnTo>
                      <a:lnTo>
                        <a:pt x="304" y="2199"/>
                      </a:lnTo>
                      <a:lnTo>
                        <a:pt x="312" y="2199"/>
                      </a:lnTo>
                      <a:lnTo>
                        <a:pt x="320" y="2201"/>
                      </a:lnTo>
                      <a:lnTo>
                        <a:pt x="325" y="2201"/>
                      </a:lnTo>
                      <a:lnTo>
                        <a:pt x="333" y="2201"/>
                      </a:lnTo>
                      <a:lnTo>
                        <a:pt x="341" y="2201"/>
                      </a:lnTo>
                      <a:lnTo>
                        <a:pt x="348" y="2201"/>
                      </a:lnTo>
                      <a:lnTo>
                        <a:pt x="356" y="2201"/>
                      </a:lnTo>
                      <a:lnTo>
                        <a:pt x="363" y="2201"/>
                      </a:lnTo>
                      <a:lnTo>
                        <a:pt x="371" y="2201"/>
                      </a:lnTo>
                      <a:lnTo>
                        <a:pt x="379" y="2201"/>
                      </a:lnTo>
                      <a:lnTo>
                        <a:pt x="386" y="2201"/>
                      </a:lnTo>
                      <a:lnTo>
                        <a:pt x="394" y="2201"/>
                      </a:lnTo>
                      <a:lnTo>
                        <a:pt x="401" y="2199"/>
                      </a:lnTo>
                      <a:lnTo>
                        <a:pt x="409" y="2199"/>
                      </a:lnTo>
                      <a:lnTo>
                        <a:pt x="415" y="2197"/>
                      </a:lnTo>
                      <a:lnTo>
                        <a:pt x="422" y="2196"/>
                      </a:lnTo>
                      <a:lnTo>
                        <a:pt x="432" y="2196"/>
                      </a:lnTo>
                      <a:lnTo>
                        <a:pt x="439" y="2194"/>
                      </a:lnTo>
                      <a:lnTo>
                        <a:pt x="447" y="2192"/>
                      </a:lnTo>
                      <a:lnTo>
                        <a:pt x="455" y="2190"/>
                      </a:lnTo>
                      <a:lnTo>
                        <a:pt x="462" y="2188"/>
                      </a:lnTo>
                      <a:lnTo>
                        <a:pt x="470" y="2188"/>
                      </a:lnTo>
                      <a:lnTo>
                        <a:pt x="476" y="2184"/>
                      </a:lnTo>
                      <a:lnTo>
                        <a:pt x="483" y="2182"/>
                      </a:lnTo>
                      <a:lnTo>
                        <a:pt x="491" y="2180"/>
                      </a:lnTo>
                      <a:lnTo>
                        <a:pt x="498" y="2175"/>
                      </a:lnTo>
                      <a:lnTo>
                        <a:pt x="504" y="2173"/>
                      </a:lnTo>
                      <a:lnTo>
                        <a:pt x="512" y="2169"/>
                      </a:lnTo>
                      <a:lnTo>
                        <a:pt x="517" y="2165"/>
                      </a:lnTo>
                      <a:lnTo>
                        <a:pt x="525" y="2161"/>
                      </a:lnTo>
                      <a:lnTo>
                        <a:pt x="531" y="2158"/>
                      </a:lnTo>
                      <a:lnTo>
                        <a:pt x="536" y="2154"/>
                      </a:lnTo>
                      <a:lnTo>
                        <a:pt x="542" y="2150"/>
                      </a:lnTo>
                      <a:lnTo>
                        <a:pt x="550" y="2146"/>
                      </a:lnTo>
                      <a:lnTo>
                        <a:pt x="555" y="2142"/>
                      </a:lnTo>
                      <a:lnTo>
                        <a:pt x="559" y="2137"/>
                      </a:lnTo>
                      <a:lnTo>
                        <a:pt x="565" y="2133"/>
                      </a:lnTo>
                      <a:lnTo>
                        <a:pt x="571" y="2129"/>
                      </a:lnTo>
                      <a:lnTo>
                        <a:pt x="576" y="2123"/>
                      </a:lnTo>
                      <a:lnTo>
                        <a:pt x="582" y="2120"/>
                      </a:lnTo>
                      <a:lnTo>
                        <a:pt x="588" y="2114"/>
                      </a:lnTo>
                      <a:lnTo>
                        <a:pt x="592" y="2110"/>
                      </a:lnTo>
                      <a:lnTo>
                        <a:pt x="595" y="2106"/>
                      </a:lnTo>
                      <a:lnTo>
                        <a:pt x="601" y="2101"/>
                      </a:lnTo>
                      <a:lnTo>
                        <a:pt x="605" y="2095"/>
                      </a:lnTo>
                      <a:lnTo>
                        <a:pt x="611" y="2091"/>
                      </a:lnTo>
                      <a:lnTo>
                        <a:pt x="614" y="2085"/>
                      </a:lnTo>
                      <a:lnTo>
                        <a:pt x="618" y="2080"/>
                      </a:lnTo>
                      <a:lnTo>
                        <a:pt x="624" y="2076"/>
                      </a:lnTo>
                      <a:lnTo>
                        <a:pt x="628" y="2070"/>
                      </a:lnTo>
                      <a:lnTo>
                        <a:pt x="632" y="2064"/>
                      </a:lnTo>
                      <a:lnTo>
                        <a:pt x="635" y="2059"/>
                      </a:lnTo>
                      <a:lnTo>
                        <a:pt x="637" y="2055"/>
                      </a:lnTo>
                      <a:lnTo>
                        <a:pt x="643" y="2049"/>
                      </a:lnTo>
                      <a:lnTo>
                        <a:pt x="645" y="2043"/>
                      </a:lnTo>
                      <a:lnTo>
                        <a:pt x="649" y="2040"/>
                      </a:lnTo>
                      <a:lnTo>
                        <a:pt x="652" y="2034"/>
                      </a:lnTo>
                      <a:lnTo>
                        <a:pt x="654" y="2030"/>
                      </a:lnTo>
                      <a:lnTo>
                        <a:pt x="658" y="2024"/>
                      </a:lnTo>
                      <a:lnTo>
                        <a:pt x="660" y="2021"/>
                      </a:lnTo>
                      <a:lnTo>
                        <a:pt x="664" y="2015"/>
                      </a:lnTo>
                      <a:lnTo>
                        <a:pt x="666" y="2011"/>
                      </a:lnTo>
                      <a:lnTo>
                        <a:pt x="668" y="2005"/>
                      </a:lnTo>
                      <a:lnTo>
                        <a:pt x="672" y="2002"/>
                      </a:lnTo>
                      <a:lnTo>
                        <a:pt x="673" y="1998"/>
                      </a:lnTo>
                      <a:lnTo>
                        <a:pt x="675" y="1992"/>
                      </a:lnTo>
                      <a:lnTo>
                        <a:pt x="677" y="1986"/>
                      </a:lnTo>
                      <a:lnTo>
                        <a:pt x="679" y="1983"/>
                      </a:lnTo>
                      <a:lnTo>
                        <a:pt x="681" y="1979"/>
                      </a:lnTo>
                      <a:lnTo>
                        <a:pt x="683" y="1975"/>
                      </a:lnTo>
                      <a:lnTo>
                        <a:pt x="685" y="1971"/>
                      </a:lnTo>
                      <a:lnTo>
                        <a:pt x="687" y="1969"/>
                      </a:lnTo>
                      <a:lnTo>
                        <a:pt x="689" y="1964"/>
                      </a:lnTo>
                      <a:lnTo>
                        <a:pt x="691" y="1962"/>
                      </a:lnTo>
                      <a:lnTo>
                        <a:pt x="692" y="1958"/>
                      </a:lnTo>
                      <a:lnTo>
                        <a:pt x="692" y="1954"/>
                      </a:lnTo>
                      <a:lnTo>
                        <a:pt x="692" y="1952"/>
                      </a:lnTo>
                      <a:lnTo>
                        <a:pt x="694" y="1950"/>
                      </a:lnTo>
                      <a:lnTo>
                        <a:pt x="696" y="1945"/>
                      </a:lnTo>
                      <a:lnTo>
                        <a:pt x="698" y="1941"/>
                      </a:lnTo>
                      <a:lnTo>
                        <a:pt x="700" y="1937"/>
                      </a:lnTo>
                      <a:lnTo>
                        <a:pt x="700" y="1935"/>
                      </a:lnTo>
                      <a:lnTo>
                        <a:pt x="700" y="1933"/>
                      </a:lnTo>
                      <a:lnTo>
                        <a:pt x="702" y="1933"/>
                      </a:lnTo>
                      <a:lnTo>
                        <a:pt x="740" y="1943"/>
                      </a:lnTo>
                      <a:lnTo>
                        <a:pt x="740" y="1943"/>
                      </a:lnTo>
                      <a:lnTo>
                        <a:pt x="738" y="1945"/>
                      </a:lnTo>
                      <a:lnTo>
                        <a:pt x="738" y="1947"/>
                      </a:lnTo>
                      <a:lnTo>
                        <a:pt x="738" y="1950"/>
                      </a:lnTo>
                      <a:lnTo>
                        <a:pt x="738" y="1954"/>
                      </a:lnTo>
                      <a:lnTo>
                        <a:pt x="738" y="1958"/>
                      </a:lnTo>
                      <a:lnTo>
                        <a:pt x="736" y="1962"/>
                      </a:lnTo>
                      <a:lnTo>
                        <a:pt x="736" y="1964"/>
                      </a:lnTo>
                      <a:lnTo>
                        <a:pt x="736" y="1967"/>
                      </a:lnTo>
                      <a:lnTo>
                        <a:pt x="736" y="1971"/>
                      </a:lnTo>
                      <a:lnTo>
                        <a:pt x="736" y="1975"/>
                      </a:lnTo>
                      <a:lnTo>
                        <a:pt x="736" y="1979"/>
                      </a:lnTo>
                      <a:lnTo>
                        <a:pt x="736" y="1983"/>
                      </a:lnTo>
                      <a:lnTo>
                        <a:pt x="736" y="1985"/>
                      </a:lnTo>
                      <a:lnTo>
                        <a:pt x="736" y="1990"/>
                      </a:lnTo>
                      <a:lnTo>
                        <a:pt x="736" y="1994"/>
                      </a:lnTo>
                      <a:lnTo>
                        <a:pt x="736" y="1998"/>
                      </a:lnTo>
                      <a:lnTo>
                        <a:pt x="736" y="2004"/>
                      </a:lnTo>
                      <a:lnTo>
                        <a:pt x="736" y="2007"/>
                      </a:lnTo>
                      <a:lnTo>
                        <a:pt x="736" y="2013"/>
                      </a:lnTo>
                      <a:lnTo>
                        <a:pt x="736" y="2015"/>
                      </a:lnTo>
                      <a:lnTo>
                        <a:pt x="736" y="2021"/>
                      </a:lnTo>
                      <a:lnTo>
                        <a:pt x="736" y="2026"/>
                      </a:lnTo>
                      <a:lnTo>
                        <a:pt x="736" y="2030"/>
                      </a:lnTo>
                      <a:lnTo>
                        <a:pt x="736" y="2036"/>
                      </a:lnTo>
                      <a:lnTo>
                        <a:pt x="736" y="2042"/>
                      </a:lnTo>
                      <a:lnTo>
                        <a:pt x="736" y="2047"/>
                      </a:lnTo>
                      <a:lnTo>
                        <a:pt x="738" y="2051"/>
                      </a:lnTo>
                      <a:lnTo>
                        <a:pt x="738" y="2057"/>
                      </a:lnTo>
                      <a:lnTo>
                        <a:pt x="738" y="2062"/>
                      </a:lnTo>
                      <a:lnTo>
                        <a:pt x="740" y="2066"/>
                      </a:lnTo>
                      <a:lnTo>
                        <a:pt x="740" y="2072"/>
                      </a:lnTo>
                      <a:lnTo>
                        <a:pt x="742" y="2078"/>
                      </a:lnTo>
                      <a:lnTo>
                        <a:pt x="744" y="2083"/>
                      </a:lnTo>
                      <a:lnTo>
                        <a:pt x="744" y="2091"/>
                      </a:lnTo>
                      <a:lnTo>
                        <a:pt x="746" y="2095"/>
                      </a:lnTo>
                      <a:lnTo>
                        <a:pt x="748" y="2101"/>
                      </a:lnTo>
                      <a:lnTo>
                        <a:pt x="748" y="2106"/>
                      </a:lnTo>
                      <a:lnTo>
                        <a:pt x="751" y="2110"/>
                      </a:lnTo>
                      <a:lnTo>
                        <a:pt x="753" y="2118"/>
                      </a:lnTo>
                      <a:lnTo>
                        <a:pt x="753" y="2123"/>
                      </a:lnTo>
                      <a:lnTo>
                        <a:pt x="757" y="2129"/>
                      </a:lnTo>
                      <a:lnTo>
                        <a:pt x="759" y="2135"/>
                      </a:lnTo>
                      <a:lnTo>
                        <a:pt x="761" y="2139"/>
                      </a:lnTo>
                      <a:lnTo>
                        <a:pt x="765" y="2144"/>
                      </a:lnTo>
                      <a:lnTo>
                        <a:pt x="767" y="2150"/>
                      </a:lnTo>
                      <a:lnTo>
                        <a:pt x="769" y="2156"/>
                      </a:lnTo>
                      <a:lnTo>
                        <a:pt x="772" y="2159"/>
                      </a:lnTo>
                      <a:lnTo>
                        <a:pt x="776" y="2165"/>
                      </a:lnTo>
                      <a:lnTo>
                        <a:pt x="780" y="2171"/>
                      </a:lnTo>
                      <a:lnTo>
                        <a:pt x="782" y="2175"/>
                      </a:lnTo>
                      <a:lnTo>
                        <a:pt x="786" y="2180"/>
                      </a:lnTo>
                      <a:lnTo>
                        <a:pt x="789" y="2186"/>
                      </a:lnTo>
                      <a:lnTo>
                        <a:pt x="795" y="2190"/>
                      </a:lnTo>
                      <a:lnTo>
                        <a:pt x="799" y="2196"/>
                      </a:lnTo>
                      <a:lnTo>
                        <a:pt x="805" y="2201"/>
                      </a:lnTo>
                      <a:lnTo>
                        <a:pt x="808" y="2205"/>
                      </a:lnTo>
                      <a:lnTo>
                        <a:pt x="814" y="2209"/>
                      </a:lnTo>
                      <a:lnTo>
                        <a:pt x="818" y="2213"/>
                      </a:lnTo>
                      <a:lnTo>
                        <a:pt x="824" y="2216"/>
                      </a:lnTo>
                      <a:lnTo>
                        <a:pt x="828" y="2222"/>
                      </a:lnTo>
                      <a:lnTo>
                        <a:pt x="833" y="2224"/>
                      </a:lnTo>
                      <a:lnTo>
                        <a:pt x="839" y="2228"/>
                      </a:lnTo>
                      <a:lnTo>
                        <a:pt x="845" y="2232"/>
                      </a:lnTo>
                      <a:lnTo>
                        <a:pt x="848" y="2235"/>
                      </a:lnTo>
                      <a:lnTo>
                        <a:pt x="854" y="2239"/>
                      </a:lnTo>
                      <a:lnTo>
                        <a:pt x="858" y="2243"/>
                      </a:lnTo>
                      <a:lnTo>
                        <a:pt x="864" y="2245"/>
                      </a:lnTo>
                      <a:lnTo>
                        <a:pt x="867" y="2249"/>
                      </a:lnTo>
                      <a:lnTo>
                        <a:pt x="873" y="2253"/>
                      </a:lnTo>
                      <a:lnTo>
                        <a:pt x="877" y="2256"/>
                      </a:lnTo>
                      <a:lnTo>
                        <a:pt x="883" y="2258"/>
                      </a:lnTo>
                      <a:lnTo>
                        <a:pt x="890" y="2260"/>
                      </a:lnTo>
                      <a:lnTo>
                        <a:pt x="896" y="2264"/>
                      </a:lnTo>
                      <a:lnTo>
                        <a:pt x="900" y="2266"/>
                      </a:lnTo>
                      <a:lnTo>
                        <a:pt x="904" y="2268"/>
                      </a:lnTo>
                      <a:lnTo>
                        <a:pt x="907" y="2270"/>
                      </a:lnTo>
                      <a:lnTo>
                        <a:pt x="913" y="2273"/>
                      </a:lnTo>
                      <a:lnTo>
                        <a:pt x="919" y="2275"/>
                      </a:lnTo>
                      <a:lnTo>
                        <a:pt x="925" y="2277"/>
                      </a:lnTo>
                      <a:lnTo>
                        <a:pt x="928" y="2279"/>
                      </a:lnTo>
                      <a:lnTo>
                        <a:pt x="934" y="2281"/>
                      </a:lnTo>
                      <a:lnTo>
                        <a:pt x="938" y="2283"/>
                      </a:lnTo>
                      <a:lnTo>
                        <a:pt x="942" y="2285"/>
                      </a:lnTo>
                      <a:lnTo>
                        <a:pt x="947" y="2287"/>
                      </a:lnTo>
                      <a:lnTo>
                        <a:pt x="951" y="2289"/>
                      </a:lnTo>
                      <a:lnTo>
                        <a:pt x="955" y="2289"/>
                      </a:lnTo>
                      <a:lnTo>
                        <a:pt x="961" y="2291"/>
                      </a:lnTo>
                      <a:lnTo>
                        <a:pt x="964" y="2291"/>
                      </a:lnTo>
                      <a:lnTo>
                        <a:pt x="968" y="2294"/>
                      </a:lnTo>
                      <a:lnTo>
                        <a:pt x="972" y="2294"/>
                      </a:lnTo>
                      <a:lnTo>
                        <a:pt x="978" y="2294"/>
                      </a:lnTo>
                      <a:lnTo>
                        <a:pt x="982" y="2296"/>
                      </a:lnTo>
                      <a:lnTo>
                        <a:pt x="985" y="2296"/>
                      </a:lnTo>
                      <a:lnTo>
                        <a:pt x="989" y="2296"/>
                      </a:lnTo>
                      <a:lnTo>
                        <a:pt x="993" y="2298"/>
                      </a:lnTo>
                      <a:lnTo>
                        <a:pt x="997" y="2298"/>
                      </a:lnTo>
                      <a:lnTo>
                        <a:pt x="1001" y="2298"/>
                      </a:lnTo>
                      <a:lnTo>
                        <a:pt x="1004" y="2298"/>
                      </a:lnTo>
                      <a:lnTo>
                        <a:pt x="1008" y="2300"/>
                      </a:lnTo>
                      <a:lnTo>
                        <a:pt x="1010" y="2300"/>
                      </a:lnTo>
                      <a:lnTo>
                        <a:pt x="1014" y="2300"/>
                      </a:lnTo>
                      <a:lnTo>
                        <a:pt x="1016" y="2300"/>
                      </a:lnTo>
                      <a:lnTo>
                        <a:pt x="1020" y="2300"/>
                      </a:lnTo>
                      <a:lnTo>
                        <a:pt x="1022" y="2300"/>
                      </a:lnTo>
                      <a:lnTo>
                        <a:pt x="1025" y="2302"/>
                      </a:lnTo>
                      <a:lnTo>
                        <a:pt x="1029" y="2300"/>
                      </a:lnTo>
                      <a:lnTo>
                        <a:pt x="1035" y="2300"/>
                      </a:lnTo>
                      <a:lnTo>
                        <a:pt x="1039" y="2298"/>
                      </a:lnTo>
                      <a:lnTo>
                        <a:pt x="1042" y="2298"/>
                      </a:lnTo>
                      <a:lnTo>
                        <a:pt x="1044" y="2296"/>
                      </a:lnTo>
                      <a:lnTo>
                        <a:pt x="1048" y="2296"/>
                      </a:lnTo>
                      <a:lnTo>
                        <a:pt x="1048" y="2294"/>
                      </a:lnTo>
                      <a:lnTo>
                        <a:pt x="1050" y="2294"/>
                      </a:lnTo>
                      <a:lnTo>
                        <a:pt x="1246" y="1334"/>
                      </a:lnTo>
                      <a:lnTo>
                        <a:pt x="1246" y="1333"/>
                      </a:lnTo>
                      <a:lnTo>
                        <a:pt x="1248" y="1331"/>
                      </a:lnTo>
                      <a:lnTo>
                        <a:pt x="1250" y="1327"/>
                      </a:lnTo>
                      <a:lnTo>
                        <a:pt x="1252" y="1325"/>
                      </a:lnTo>
                      <a:lnTo>
                        <a:pt x="1252" y="1323"/>
                      </a:lnTo>
                      <a:lnTo>
                        <a:pt x="1254" y="1319"/>
                      </a:lnTo>
                      <a:lnTo>
                        <a:pt x="1256" y="1315"/>
                      </a:lnTo>
                      <a:lnTo>
                        <a:pt x="1259" y="1312"/>
                      </a:lnTo>
                      <a:lnTo>
                        <a:pt x="1259" y="1306"/>
                      </a:lnTo>
                      <a:lnTo>
                        <a:pt x="1263" y="1302"/>
                      </a:lnTo>
                      <a:lnTo>
                        <a:pt x="1265" y="1296"/>
                      </a:lnTo>
                      <a:lnTo>
                        <a:pt x="1269" y="1293"/>
                      </a:lnTo>
                      <a:lnTo>
                        <a:pt x="1271" y="1285"/>
                      </a:lnTo>
                      <a:lnTo>
                        <a:pt x="1275" y="1281"/>
                      </a:lnTo>
                      <a:lnTo>
                        <a:pt x="1276" y="1274"/>
                      </a:lnTo>
                      <a:lnTo>
                        <a:pt x="1280" y="1266"/>
                      </a:lnTo>
                      <a:lnTo>
                        <a:pt x="1284" y="1258"/>
                      </a:lnTo>
                      <a:lnTo>
                        <a:pt x="1288" y="1249"/>
                      </a:lnTo>
                      <a:lnTo>
                        <a:pt x="1290" y="1241"/>
                      </a:lnTo>
                      <a:lnTo>
                        <a:pt x="1294" y="1234"/>
                      </a:lnTo>
                      <a:lnTo>
                        <a:pt x="1297" y="1224"/>
                      </a:lnTo>
                      <a:lnTo>
                        <a:pt x="1301" y="1217"/>
                      </a:lnTo>
                      <a:lnTo>
                        <a:pt x="1305" y="1207"/>
                      </a:lnTo>
                      <a:lnTo>
                        <a:pt x="1309" y="1198"/>
                      </a:lnTo>
                      <a:lnTo>
                        <a:pt x="1313" y="1188"/>
                      </a:lnTo>
                      <a:lnTo>
                        <a:pt x="1316" y="1177"/>
                      </a:lnTo>
                      <a:lnTo>
                        <a:pt x="1320" y="1165"/>
                      </a:lnTo>
                      <a:lnTo>
                        <a:pt x="1324" y="1154"/>
                      </a:lnTo>
                      <a:lnTo>
                        <a:pt x="1330" y="1144"/>
                      </a:lnTo>
                      <a:lnTo>
                        <a:pt x="1334" y="1133"/>
                      </a:lnTo>
                      <a:lnTo>
                        <a:pt x="1337" y="1122"/>
                      </a:lnTo>
                      <a:lnTo>
                        <a:pt x="1339" y="1108"/>
                      </a:lnTo>
                      <a:lnTo>
                        <a:pt x="1345" y="1097"/>
                      </a:lnTo>
                      <a:lnTo>
                        <a:pt x="1349" y="1084"/>
                      </a:lnTo>
                      <a:lnTo>
                        <a:pt x="1353" y="1070"/>
                      </a:lnTo>
                      <a:lnTo>
                        <a:pt x="1354" y="1059"/>
                      </a:lnTo>
                      <a:lnTo>
                        <a:pt x="1358" y="1044"/>
                      </a:lnTo>
                      <a:lnTo>
                        <a:pt x="1362" y="1032"/>
                      </a:lnTo>
                      <a:lnTo>
                        <a:pt x="1366" y="1017"/>
                      </a:lnTo>
                      <a:lnTo>
                        <a:pt x="1370" y="1004"/>
                      </a:lnTo>
                      <a:lnTo>
                        <a:pt x="1372" y="988"/>
                      </a:lnTo>
                      <a:lnTo>
                        <a:pt x="1375" y="975"/>
                      </a:lnTo>
                      <a:lnTo>
                        <a:pt x="1377" y="960"/>
                      </a:lnTo>
                      <a:lnTo>
                        <a:pt x="1381" y="947"/>
                      </a:lnTo>
                      <a:lnTo>
                        <a:pt x="1383" y="931"/>
                      </a:lnTo>
                      <a:lnTo>
                        <a:pt x="1387" y="916"/>
                      </a:lnTo>
                      <a:lnTo>
                        <a:pt x="1389" y="901"/>
                      </a:lnTo>
                      <a:lnTo>
                        <a:pt x="1391" y="886"/>
                      </a:lnTo>
                      <a:lnTo>
                        <a:pt x="1392" y="871"/>
                      </a:lnTo>
                      <a:lnTo>
                        <a:pt x="1394" y="855"/>
                      </a:lnTo>
                      <a:lnTo>
                        <a:pt x="1396" y="838"/>
                      </a:lnTo>
                      <a:lnTo>
                        <a:pt x="1398" y="823"/>
                      </a:lnTo>
                      <a:lnTo>
                        <a:pt x="1398" y="806"/>
                      </a:lnTo>
                      <a:lnTo>
                        <a:pt x="1400" y="791"/>
                      </a:lnTo>
                      <a:lnTo>
                        <a:pt x="1402" y="774"/>
                      </a:lnTo>
                      <a:lnTo>
                        <a:pt x="1402" y="757"/>
                      </a:lnTo>
                      <a:lnTo>
                        <a:pt x="1402" y="741"/>
                      </a:lnTo>
                      <a:lnTo>
                        <a:pt x="1402" y="724"/>
                      </a:lnTo>
                      <a:lnTo>
                        <a:pt x="1402" y="705"/>
                      </a:lnTo>
                      <a:lnTo>
                        <a:pt x="1402" y="690"/>
                      </a:lnTo>
                      <a:lnTo>
                        <a:pt x="1400" y="673"/>
                      </a:lnTo>
                      <a:lnTo>
                        <a:pt x="1400" y="656"/>
                      </a:lnTo>
                      <a:lnTo>
                        <a:pt x="1398" y="654"/>
                      </a:lnTo>
                      <a:lnTo>
                        <a:pt x="1398" y="652"/>
                      </a:lnTo>
                      <a:lnTo>
                        <a:pt x="1398" y="648"/>
                      </a:lnTo>
                      <a:lnTo>
                        <a:pt x="1398" y="644"/>
                      </a:lnTo>
                      <a:lnTo>
                        <a:pt x="1398" y="643"/>
                      </a:lnTo>
                      <a:lnTo>
                        <a:pt x="1398" y="639"/>
                      </a:lnTo>
                      <a:lnTo>
                        <a:pt x="1396" y="637"/>
                      </a:lnTo>
                      <a:lnTo>
                        <a:pt x="1396" y="633"/>
                      </a:lnTo>
                      <a:lnTo>
                        <a:pt x="1396" y="631"/>
                      </a:lnTo>
                      <a:lnTo>
                        <a:pt x="1396" y="627"/>
                      </a:lnTo>
                      <a:lnTo>
                        <a:pt x="1396" y="623"/>
                      </a:lnTo>
                      <a:lnTo>
                        <a:pt x="1394" y="620"/>
                      </a:lnTo>
                      <a:lnTo>
                        <a:pt x="1394" y="618"/>
                      </a:lnTo>
                      <a:lnTo>
                        <a:pt x="1394" y="616"/>
                      </a:lnTo>
                      <a:lnTo>
                        <a:pt x="1392" y="612"/>
                      </a:lnTo>
                      <a:lnTo>
                        <a:pt x="1392" y="610"/>
                      </a:lnTo>
                      <a:lnTo>
                        <a:pt x="1392" y="608"/>
                      </a:lnTo>
                      <a:lnTo>
                        <a:pt x="1391" y="604"/>
                      </a:lnTo>
                      <a:lnTo>
                        <a:pt x="1391" y="603"/>
                      </a:lnTo>
                      <a:lnTo>
                        <a:pt x="1391" y="599"/>
                      </a:lnTo>
                      <a:lnTo>
                        <a:pt x="1389" y="597"/>
                      </a:lnTo>
                      <a:lnTo>
                        <a:pt x="1389" y="593"/>
                      </a:lnTo>
                      <a:lnTo>
                        <a:pt x="1389" y="589"/>
                      </a:lnTo>
                      <a:lnTo>
                        <a:pt x="1389" y="587"/>
                      </a:lnTo>
                      <a:lnTo>
                        <a:pt x="1387" y="585"/>
                      </a:lnTo>
                      <a:lnTo>
                        <a:pt x="1385" y="582"/>
                      </a:lnTo>
                      <a:lnTo>
                        <a:pt x="1385" y="580"/>
                      </a:lnTo>
                      <a:lnTo>
                        <a:pt x="1383" y="578"/>
                      </a:lnTo>
                      <a:lnTo>
                        <a:pt x="1383" y="572"/>
                      </a:lnTo>
                      <a:lnTo>
                        <a:pt x="1381" y="568"/>
                      </a:lnTo>
                      <a:lnTo>
                        <a:pt x="1377" y="563"/>
                      </a:lnTo>
                      <a:lnTo>
                        <a:pt x="1375" y="557"/>
                      </a:lnTo>
                      <a:lnTo>
                        <a:pt x="1373" y="553"/>
                      </a:lnTo>
                      <a:lnTo>
                        <a:pt x="1370" y="547"/>
                      </a:lnTo>
                      <a:lnTo>
                        <a:pt x="1366" y="544"/>
                      </a:lnTo>
                      <a:lnTo>
                        <a:pt x="1364" y="540"/>
                      </a:lnTo>
                      <a:lnTo>
                        <a:pt x="1360" y="536"/>
                      </a:lnTo>
                      <a:lnTo>
                        <a:pt x="1356" y="532"/>
                      </a:lnTo>
                      <a:lnTo>
                        <a:pt x="1353" y="528"/>
                      </a:lnTo>
                      <a:lnTo>
                        <a:pt x="1349" y="525"/>
                      </a:lnTo>
                      <a:lnTo>
                        <a:pt x="1345" y="523"/>
                      </a:lnTo>
                      <a:lnTo>
                        <a:pt x="1339" y="521"/>
                      </a:lnTo>
                      <a:lnTo>
                        <a:pt x="1335" y="517"/>
                      </a:lnTo>
                      <a:lnTo>
                        <a:pt x="1332" y="515"/>
                      </a:lnTo>
                      <a:lnTo>
                        <a:pt x="1326" y="515"/>
                      </a:lnTo>
                      <a:lnTo>
                        <a:pt x="1322" y="513"/>
                      </a:lnTo>
                      <a:lnTo>
                        <a:pt x="1318" y="511"/>
                      </a:lnTo>
                      <a:lnTo>
                        <a:pt x="1316" y="511"/>
                      </a:lnTo>
                      <a:lnTo>
                        <a:pt x="1313" y="511"/>
                      </a:lnTo>
                      <a:lnTo>
                        <a:pt x="1311" y="511"/>
                      </a:lnTo>
                      <a:lnTo>
                        <a:pt x="1309" y="509"/>
                      </a:lnTo>
                      <a:lnTo>
                        <a:pt x="1305" y="509"/>
                      </a:lnTo>
                      <a:lnTo>
                        <a:pt x="1303" y="509"/>
                      </a:lnTo>
                      <a:lnTo>
                        <a:pt x="1301" y="509"/>
                      </a:lnTo>
                      <a:lnTo>
                        <a:pt x="1297" y="509"/>
                      </a:lnTo>
                      <a:lnTo>
                        <a:pt x="1295" y="509"/>
                      </a:lnTo>
                      <a:lnTo>
                        <a:pt x="1292" y="509"/>
                      </a:lnTo>
                      <a:lnTo>
                        <a:pt x="1290" y="509"/>
                      </a:lnTo>
                      <a:lnTo>
                        <a:pt x="1284" y="509"/>
                      </a:lnTo>
                      <a:lnTo>
                        <a:pt x="1280" y="509"/>
                      </a:lnTo>
                      <a:lnTo>
                        <a:pt x="1275" y="509"/>
                      </a:lnTo>
                      <a:lnTo>
                        <a:pt x="1269" y="509"/>
                      </a:lnTo>
                      <a:lnTo>
                        <a:pt x="1265" y="509"/>
                      </a:lnTo>
                      <a:lnTo>
                        <a:pt x="1259" y="509"/>
                      </a:lnTo>
                      <a:lnTo>
                        <a:pt x="1256" y="511"/>
                      </a:lnTo>
                      <a:lnTo>
                        <a:pt x="1252" y="511"/>
                      </a:lnTo>
                      <a:lnTo>
                        <a:pt x="1246" y="515"/>
                      </a:lnTo>
                      <a:lnTo>
                        <a:pt x="1242" y="515"/>
                      </a:lnTo>
                      <a:lnTo>
                        <a:pt x="1238" y="517"/>
                      </a:lnTo>
                      <a:lnTo>
                        <a:pt x="1235" y="521"/>
                      </a:lnTo>
                      <a:lnTo>
                        <a:pt x="1231" y="523"/>
                      </a:lnTo>
                      <a:lnTo>
                        <a:pt x="1229" y="525"/>
                      </a:lnTo>
                      <a:lnTo>
                        <a:pt x="1225" y="527"/>
                      </a:lnTo>
                      <a:lnTo>
                        <a:pt x="1221" y="530"/>
                      </a:lnTo>
                      <a:lnTo>
                        <a:pt x="1219" y="532"/>
                      </a:lnTo>
                      <a:lnTo>
                        <a:pt x="1216" y="538"/>
                      </a:lnTo>
                      <a:lnTo>
                        <a:pt x="1214" y="542"/>
                      </a:lnTo>
                      <a:lnTo>
                        <a:pt x="1212" y="546"/>
                      </a:lnTo>
                      <a:lnTo>
                        <a:pt x="1210" y="549"/>
                      </a:lnTo>
                      <a:lnTo>
                        <a:pt x="1208" y="555"/>
                      </a:lnTo>
                      <a:lnTo>
                        <a:pt x="1208" y="557"/>
                      </a:lnTo>
                      <a:lnTo>
                        <a:pt x="1206" y="559"/>
                      </a:lnTo>
                      <a:lnTo>
                        <a:pt x="1204" y="561"/>
                      </a:lnTo>
                      <a:lnTo>
                        <a:pt x="1204" y="565"/>
                      </a:lnTo>
                      <a:lnTo>
                        <a:pt x="1204" y="566"/>
                      </a:lnTo>
                      <a:lnTo>
                        <a:pt x="1204" y="570"/>
                      </a:lnTo>
                      <a:lnTo>
                        <a:pt x="1204" y="572"/>
                      </a:lnTo>
                      <a:lnTo>
                        <a:pt x="1204" y="576"/>
                      </a:lnTo>
                      <a:lnTo>
                        <a:pt x="1139" y="895"/>
                      </a:lnTo>
                      <a:lnTo>
                        <a:pt x="1136" y="893"/>
                      </a:lnTo>
                      <a:lnTo>
                        <a:pt x="1132" y="892"/>
                      </a:lnTo>
                      <a:lnTo>
                        <a:pt x="1126" y="888"/>
                      </a:lnTo>
                      <a:lnTo>
                        <a:pt x="1122" y="886"/>
                      </a:lnTo>
                      <a:lnTo>
                        <a:pt x="1117" y="884"/>
                      </a:lnTo>
                      <a:lnTo>
                        <a:pt x="1113" y="880"/>
                      </a:lnTo>
                      <a:lnTo>
                        <a:pt x="1107" y="878"/>
                      </a:lnTo>
                      <a:lnTo>
                        <a:pt x="1105" y="876"/>
                      </a:lnTo>
                      <a:lnTo>
                        <a:pt x="1227" y="316"/>
                      </a:lnTo>
                      <a:lnTo>
                        <a:pt x="1227" y="312"/>
                      </a:lnTo>
                      <a:lnTo>
                        <a:pt x="1227" y="308"/>
                      </a:lnTo>
                      <a:lnTo>
                        <a:pt x="1229" y="306"/>
                      </a:lnTo>
                      <a:lnTo>
                        <a:pt x="1229" y="304"/>
                      </a:lnTo>
                      <a:lnTo>
                        <a:pt x="1229" y="300"/>
                      </a:lnTo>
                      <a:lnTo>
                        <a:pt x="1229" y="298"/>
                      </a:lnTo>
                      <a:lnTo>
                        <a:pt x="1229" y="295"/>
                      </a:lnTo>
                      <a:lnTo>
                        <a:pt x="1229" y="293"/>
                      </a:lnTo>
                      <a:lnTo>
                        <a:pt x="1229" y="291"/>
                      </a:lnTo>
                      <a:lnTo>
                        <a:pt x="1229" y="287"/>
                      </a:lnTo>
                      <a:lnTo>
                        <a:pt x="1229" y="285"/>
                      </a:lnTo>
                      <a:lnTo>
                        <a:pt x="1229" y="283"/>
                      </a:lnTo>
                      <a:lnTo>
                        <a:pt x="1229" y="278"/>
                      </a:lnTo>
                      <a:lnTo>
                        <a:pt x="1227" y="272"/>
                      </a:lnTo>
                      <a:lnTo>
                        <a:pt x="1225" y="268"/>
                      </a:lnTo>
                      <a:lnTo>
                        <a:pt x="1225" y="262"/>
                      </a:lnTo>
                      <a:lnTo>
                        <a:pt x="1223" y="257"/>
                      </a:lnTo>
                      <a:lnTo>
                        <a:pt x="1221" y="253"/>
                      </a:lnTo>
                      <a:lnTo>
                        <a:pt x="1219" y="247"/>
                      </a:lnTo>
                      <a:lnTo>
                        <a:pt x="1217" y="243"/>
                      </a:lnTo>
                      <a:lnTo>
                        <a:pt x="1216" y="240"/>
                      </a:lnTo>
                      <a:lnTo>
                        <a:pt x="1214" y="236"/>
                      </a:lnTo>
                      <a:lnTo>
                        <a:pt x="1210" y="232"/>
                      </a:lnTo>
                      <a:lnTo>
                        <a:pt x="1206" y="226"/>
                      </a:lnTo>
                      <a:lnTo>
                        <a:pt x="1202" y="222"/>
                      </a:lnTo>
                      <a:lnTo>
                        <a:pt x="1200" y="219"/>
                      </a:lnTo>
                      <a:lnTo>
                        <a:pt x="1197" y="215"/>
                      </a:lnTo>
                      <a:lnTo>
                        <a:pt x="1193" y="211"/>
                      </a:lnTo>
                      <a:lnTo>
                        <a:pt x="1189" y="207"/>
                      </a:lnTo>
                      <a:lnTo>
                        <a:pt x="1185" y="205"/>
                      </a:lnTo>
                      <a:lnTo>
                        <a:pt x="1179" y="203"/>
                      </a:lnTo>
                      <a:lnTo>
                        <a:pt x="1176" y="200"/>
                      </a:lnTo>
                      <a:lnTo>
                        <a:pt x="1172" y="198"/>
                      </a:lnTo>
                      <a:lnTo>
                        <a:pt x="1166" y="194"/>
                      </a:lnTo>
                      <a:lnTo>
                        <a:pt x="1160" y="192"/>
                      </a:lnTo>
                      <a:lnTo>
                        <a:pt x="1157" y="192"/>
                      </a:lnTo>
                      <a:lnTo>
                        <a:pt x="1151" y="190"/>
                      </a:lnTo>
                      <a:lnTo>
                        <a:pt x="1147" y="190"/>
                      </a:lnTo>
                      <a:lnTo>
                        <a:pt x="1143" y="188"/>
                      </a:lnTo>
                      <a:lnTo>
                        <a:pt x="1141" y="186"/>
                      </a:lnTo>
                      <a:lnTo>
                        <a:pt x="1138" y="186"/>
                      </a:lnTo>
                      <a:lnTo>
                        <a:pt x="1136" y="186"/>
                      </a:lnTo>
                      <a:lnTo>
                        <a:pt x="1134" y="186"/>
                      </a:lnTo>
                      <a:lnTo>
                        <a:pt x="1130" y="186"/>
                      </a:lnTo>
                      <a:lnTo>
                        <a:pt x="1128" y="186"/>
                      </a:lnTo>
                      <a:lnTo>
                        <a:pt x="1124" y="186"/>
                      </a:lnTo>
                      <a:lnTo>
                        <a:pt x="1122" y="186"/>
                      </a:lnTo>
                      <a:lnTo>
                        <a:pt x="1120" y="186"/>
                      </a:lnTo>
                      <a:lnTo>
                        <a:pt x="1117" y="186"/>
                      </a:lnTo>
                      <a:lnTo>
                        <a:pt x="1115" y="186"/>
                      </a:lnTo>
                      <a:lnTo>
                        <a:pt x="1109" y="186"/>
                      </a:lnTo>
                      <a:lnTo>
                        <a:pt x="1105" y="188"/>
                      </a:lnTo>
                      <a:lnTo>
                        <a:pt x="1100" y="188"/>
                      </a:lnTo>
                      <a:lnTo>
                        <a:pt x="1094" y="190"/>
                      </a:lnTo>
                      <a:lnTo>
                        <a:pt x="1090" y="192"/>
                      </a:lnTo>
                      <a:lnTo>
                        <a:pt x="1086" y="192"/>
                      </a:lnTo>
                      <a:lnTo>
                        <a:pt x="1081" y="194"/>
                      </a:lnTo>
                      <a:lnTo>
                        <a:pt x="1077" y="198"/>
                      </a:lnTo>
                      <a:lnTo>
                        <a:pt x="1073" y="200"/>
                      </a:lnTo>
                      <a:lnTo>
                        <a:pt x="1067" y="203"/>
                      </a:lnTo>
                      <a:lnTo>
                        <a:pt x="1063" y="205"/>
                      </a:lnTo>
                      <a:lnTo>
                        <a:pt x="1058" y="207"/>
                      </a:lnTo>
                      <a:lnTo>
                        <a:pt x="1054" y="211"/>
                      </a:lnTo>
                      <a:lnTo>
                        <a:pt x="1050" y="215"/>
                      </a:lnTo>
                      <a:lnTo>
                        <a:pt x="1048" y="219"/>
                      </a:lnTo>
                      <a:lnTo>
                        <a:pt x="1044" y="222"/>
                      </a:lnTo>
                      <a:lnTo>
                        <a:pt x="1041" y="226"/>
                      </a:lnTo>
                      <a:lnTo>
                        <a:pt x="1039" y="232"/>
                      </a:lnTo>
                      <a:lnTo>
                        <a:pt x="1035" y="234"/>
                      </a:lnTo>
                      <a:lnTo>
                        <a:pt x="1033" y="240"/>
                      </a:lnTo>
                      <a:lnTo>
                        <a:pt x="1029" y="243"/>
                      </a:lnTo>
                      <a:lnTo>
                        <a:pt x="1027" y="249"/>
                      </a:lnTo>
                      <a:lnTo>
                        <a:pt x="1025" y="253"/>
                      </a:lnTo>
                      <a:lnTo>
                        <a:pt x="1023" y="259"/>
                      </a:lnTo>
                      <a:lnTo>
                        <a:pt x="1022" y="260"/>
                      </a:lnTo>
                      <a:lnTo>
                        <a:pt x="1022" y="264"/>
                      </a:lnTo>
                      <a:lnTo>
                        <a:pt x="1022" y="266"/>
                      </a:lnTo>
                      <a:lnTo>
                        <a:pt x="1022" y="270"/>
                      </a:lnTo>
                      <a:lnTo>
                        <a:pt x="919" y="730"/>
                      </a:lnTo>
                      <a:lnTo>
                        <a:pt x="915" y="728"/>
                      </a:lnTo>
                      <a:lnTo>
                        <a:pt x="913" y="726"/>
                      </a:lnTo>
                      <a:lnTo>
                        <a:pt x="907" y="724"/>
                      </a:lnTo>
                      <a:lnTo>
                        <a:pt x="905" y="720"/>
                      </a:lnTo>
                      <a:lnTo>
                        <a:pt x="904" y="719"/>
                      </a:lnTo>
                      <a:lnTo>
                        <a:pt x="900" y="717"/>
                      </a:lnTo>
                      <a:lnTo>
                        <a:pt x="896" y="713"/>
                      </a:lnTo>
                      <a:lnTo>
                        <a:pt x="892" y="713"/>
                      </a:lnTo>
                      <a:lnTo>
                        <a:pt x="1022" y="129"/>
                      </a:lnTo>
                      <a:lnTo>
                        <a:pt x="1022" y="125"/>
                      </a:lnTo>
                      <a:lnTo>
                        <a:pt x="1022" y="124"/>
                      </a:lnTo>
                      <a:lnTo>
                        <a:pt x="1022" y="120"/>
                      </a:lnTo>
                      <a:lnTo>
                        <a:pt x="1022" y="118"/>
                      </a:lnTo>
                      <a:lnTo>
                        <a:pt x="1022" y="114"/>
                      </a:lnTo>
                      <a:lnTo>
                        <a:pt x="1022" y="112"/>
                      </a:lnTo>
                      <a:lnTo>
                        <a:pt x="1022" y="110"/>
                      </a:lnTo>
                      <a:lnTo>
                        <a:pt x="1022" y="106"/>
                      </a:lnTo>
                      <a:lnTo>
                        <a:pt x="1022" y="105"/>
                      </a:lnTo>
                      <a:lnTo>
                        <a:pt x="1022" y="103"/>
                      </a:lnTo>
                      <a:lnTo>
                        <a:pt x="1022" y="99"/>
                      </a:lnTo>
                      <a:lnTo>
                        <a:pt x="1022" y="97"/>
                      </a:lnTo>
                      <a:lnTo>
                        <a:pt x="1022" y="91"/>
                      </a:lnTo>
                      <a:lnTo>
                        <a:pt x="1022" y="86"/>
                      </a:lnTo>
                      <a:lnTo>
                        <a:pt x="1020" y="82"/>
                      </a:lnTo>
                      <a:lnTo>
                        <a:pt x="1018" y="76"/>
                      </a:lnTo>
                      <a:lnTo>
                        <a:pt x="1016" y="70"/>
                      </a:lnTo>
                      <a:lnTo>
                        <a:pt x="1014" y="67"/>
                      </a:lnTo>
                      <a:lnTo>
                        <a:pt x="1012" y="61"/>
                      </a:lnTo>
                      <a:lnTo>
                        <a:pt x="1010" y="57"/>
                      </a:lnTo>
                      <a:lnTo>
                        <a:pt x="1008" y="53"/>
                      </a:lnTo>
                      <a:lnTo>
                        <a:pt x="1006" y="48"/>
                      </a:lnTo>
                      <a:lnTo>
                        <a:pt x="1004" y="44"/>
                      </a:lnTo>
                      <a:lnTo>
                        <a:pt x="1001" y="40"/>
                      </a:lnTo>
                      <a:lnTo>
                        <a:pt x="997" y="36"/>
                      </a:lnTo>
                      <a:lnTo>
                        <a:pt x="993" y="32"/>
                      </a:lnTo>
                      <a:lnTo>
                        <a:pt x="991" y="29"/>
                      </a:lnTo>
                      <a:lnTo>
                        <a:pt x="985" y="25"/>
                      </a:lnTo>
                      <a:lnTo>
                        <a:pt x="983" y="23"/>
                      </a:lnTo>
                      <a:lnTo>
                        <a:pt x="978" y="19"/>
                      </a:lnTo>
                      <a:lnTo>
                        <a:pt x="972" y="17"/>
                      </a:lnTo>
                      <a:lnTo>
                        <a:pt x="968" y="13"/>
                      </a:lnTo>
                      <a:lnTo>
                        <a:pt x="964" y="11"/>
                      </a:lnTo>
                      <a:lnTo>
                        <a:pt x="961" y="10"/>
                      </a:lnTo>
                      <a:lnTo>
                        <a:pt x="955" y="6"/>
                      </a:lnTo>
                      <a:lnTo>
                        <a:pt x="949" y="6"/>
                      </a:lnTo>
                      <a:lnTo>
                        <a:pt x="944" y="4"/>
                      </a:lnTo>
                      <a:lnTo>
                        <a:pt x="940" y="4"/>
                      </a:lnTo>
                      <a:lnTo>
                        <a:pt x="936" y="2"/>
                      </a:lnTo>
                      <a:lnTo>
                        <a:pt x="934" y="2"/>
                      </a:lnTo>
                      <a:lnTo>
                        <a:pt x="932" y="0"/>
                      </a:lnTo>
                      <a:lnTo>
                        <a:pt x="928" y="0"/>
                      </a:lnTo>
                      <a:lnTo>
                        <a:pt x="926" y="0"/>
                      </a:lnTo>
                      <a:lnTo>
                        <a:pt x="925" y="0"/>
                      </a:lnTo>
                      <a:lnTo>
                        <a:pt x="921" y="0"/>
                      </a:lnTo>
                      <a:lnTo>
                        <a:pt x="919" y="0"/>
                      </a:lnTo>
                      <a:lnTo>
                        <a:pt x="915" y="0"/>
                      </a:lnTo>
                      <a:lnTo>
                        <a:pt x="913" y="0"/>
                      </a:lnTo>
                      <a:lnTo>
                        <a:pt x="911" y="0"/>
                      </a:lnTo>
                      <a:lnTo>
                        <a:pt x="907" y="0"/>
                      </a:lnTo>
                      <a:lnTo>
                        <a:pt x="904" y="0"/>
                      </a:lnTo>
                      <a:lnTo>
                        <a:pt x="898" y="2"/>
                      </a:lnTo>
                      <a:lnTo>
                        <a:pt x="896" y="2"/>
                      </a:lnTo>
                      <a:lnTo>
                        <a:pt x="892" y="2"/>
                      </a:lnTo>
                      <a:lnTo>
                        <a:pt x="890" y="2"/>
                      </a:lnTo>
                      <a:lnTo>
                        <a:pt x="888" y="4"/>
                      </a:lnTo>
                      <a:lnTo>
                        <a:pt x="881" y="4"/>
                      </a:lnTo>
                      <a:lnTo>
                        <a:pt x="877" y="6"/>
                      </a:lnTo>
                      <a:lnTo>
                        <a:pt x="873" y="10"/>
                      </a:lnTo>
                      <a:lnTo>
                        <a:pt x="867" y="11"/>
                      </a:lnTo>
                      <a:lnTo>
                        <a:pt x="864" y="15"/>
                      </a:lnTo>
                      <a:lnTo>
                        <a:pt x="860" y="17"/>
                      </a:lnTo>
                      <a:lnTo>
                        <a:pt x="854" y="19"/>
                      </a:lnTo>
                      <a:lnTo>
                        <a:pt x="850" y="23"/>
                      </a:lnTo>
                      <a:lnTo>
                        <a:pt x="847" y="25"/>
                      </a:lnTo>
                      <a:lnTo>
                        <a:pt x="843" y="29"/>
                      </a:lnTo>
                      <a:lnTo>
                        <a:pt x="839" y="32"/>
                      </a:lnTo>
                      <a:lnTo>
                        <a:pt x="835" y="36"/>
                      </a:lnTo>
                      <a:lnTo>
                        <a:pt x="833" y="40"/>
                      </a:lnTo>
                      <a:lnTo>
                        <a:pt x="831" y="44"/>
                      </a:lnTo>
                      <a:lnTo>
                        <a:pt x="828" y="48"/>
                      </a:lnTo>
                      <a:lnTo>
                        <a:pt x="824" y="53"/>
                      </a:lnTo>
                      <a:lnTo>
                        <a:pt x="822" y="57"/>
                      </a:lnTo>
                      <a:lnTo>
                        <a:pt x="820" y="61"/>
                      </a:lnTo>
                      <a:lnTo>
                        <a:pt x="818" y="67"/>
                      </a:lnTo>
                      <a:lnTo>
                        <a:pt x="816" y="70"/>
                      </a:lnTo>
                      <a:lnTo>
                        <a:pt x="816" y="74"/>
                      </a:lnTo>
                      <a:lnTo>
                        <a:pt x="814" y="76"/>
                      </a:lnTo>
                      <a:lnTo>
                        <a:pt x="812" y="82"/>
                      </a:lnTo>
                      <a:lnTo>
                        <a:pt x="812" y="84"/>
                      </a:lnTo>
                      <a:lnTo>
                        <a:pt x="687" y="663"/>
                      </a:lnTo>
                      <a:lnTo>
                        <a:pt x="681" y="663"/>
                      </a:lnTo>
                      <a:lnTo>
                        <a:pt x="677" y="663"/>
                      </a:lnTo>
                      <a:lnTo>
                        <a:pt x="673" y="663"/>
                      </a:lnTo>
                      <a:lnTo>
                        <a:pt x="670" y="663"/>
                      </a:lnTo>
                      <a:lnTo>
                        <a:pt x="666" y="663"/>
                      </a:lnTo>
                      <a:lnTo>
                        <a:pt x="660" y="665"/>
                      </a:lnTo>
                      <a:lnTo>
                        <a:pt x="656" y="665"/>
                      </a:lnTo>
                      <a:lnTo>
                        <a:pt x="652" y="667"/>
                      </a:lnTo>
                      <a:lnTo>
                        <a:pt x="753" y="213"/>
                      </a:lnTo>
                      <a:lnTo>
                        <a:pt x="753" y="209"/>
                      </a:lnTo>
                      <a:lnTo>
                        <a:pt x="753" y="207"/>
                      </a:lnTo>
                      <a:lnTo>
                        <a:pt x="753" y="203"/>
                      </a:lnTo>
                      <a:lnTo>
                        <a:pt x="753" y="201"/>
                      </a:lnTo>
                      <a:lnTo>
                        <a:pt x="753" y="198"/>
                      </a:lnTo>
                      <a:lnTo>
                        <a:pt x="753" y="196"/>
                      </a:lnTo>
                      <a:lnTo>
                        <a:pt x="753" y="192"/>
                      </a:lnTo>
                      <a:lnTo>
                        <a:pt x="753" y="190"/>
                      </a:lnTo>
                      <a:lnTo>
                        <a:pt x="753" y="188"/>
                      </a:lnTo>
                      <a:lnTo>
                        <a:pt x="753" y="184"/>
                      </a:lnTo>
                      <a:lnTo>
                        <a:pt x="753" y="182"/>
                      </a:lnTo>
                      <a:lnTo>
                        <a:pt x="753" y="181"/>
                      </a:lnTo>
                      <a:lnTo>
                        <a:pt x="753" y="175"/>
                      </a:lnTo>
                      <a:lnTo>
                        <a:pt x="753" y="169"/>
                      </a:lnTo>
                      <a:lnTo>
                        <a:pt x="751" y="167"/>
                      </a:lnTo>
                      <a:lnTo>
                        <a:pt x="751" y="163"/>
                      </a:lnTo>
                      <a:lnTo>
                        <a:pt x="751" y="162"/>
                      </a:lnTo>
                      <a:lnTo>
                        <a:pt x="750" y="160"/>
                      </a:lnTo>
                      <a:lnTo>
                        <a:pt x="748" y="154"/>
                      </a:lnTo>
                      <a:lnTo>
                        <a:pt x="746" y="148"/>
                      </a:lnTo>
                      <a:lnTo>
                        <a:pt x="744" y="144"/>
                      </a:lnTo>
                      <a:lnTo>
                        <a:pt x="742" y="141"/>
                      </a:lnTo>
                      <a:lnTo>
                        <a:pt x="740" y="135"/>
                      </a:lnTo>
                      <a:lnTo>
                        <a:pt x="738" y="131"/>
                      </a:lnTo>
                      <a:lnTo>
                        <a:pt x="734" y="127"/>
                      </a:lnTo>
                      <a:lnTo>
                        <a:pt x="730" y="124"/>
                      </a:lnTo>
                      <a:lnTo>
                        <a:pt x="727" y="120"/>
                      </a:lnTo>
                      <a:lnTo>
                        <a:pt x="725" y="116"/>
                      </a:lnTo>
                      <a:lnTo>
                        <a:pt x="721" y="112"/>
                      </a:lnTo>
                      <a:lnTo>
                        <a:pt x="717" y="108"/>
                      </a:lnTo>
                      <a:lnTo>
                        <a:pt x="713" y="105"/>
                      </a:lnTo>
                      <a:lnTo>
                        <a:pt x="710" y="103"/>
                      </a:lnTo>
                      <a:lnTo>
                        <a:pt x="704" y="99"/>
                      </a:lnTo>
                      <a:lnTo>
                        <a:pt x="700" y="97"/>
                      </a:lnTo>
                      <a:lnTo>
                        <a:pt x="694" y="95"/>
                      </a:lnTo>
                      <a:lnTo>
                        <a:pt x="691" y="91"/>
                      </a:lnTo>
                      <a:lnTo>
                        <a:pt x="685" y="89"/>
                      </a:lnTo>
                      <a:lnTo>
                        <a:pt x="681" y="87"/>
                      </a:lnTo>
                      <a:lnTo>
                        <a:pt x="675" y="86"/>
                      </a:lnTo>
                      <a:lnTo>
                        <a:pt x="672" y="86"/>
                      </a:lnTo>
                      <a:lnTo>
                        <a:pt x="668" y="84"/>
                      </a:lnTo>
                      <a:lnTo>
                        <a:pt x="666" y="84"/>
                      </a:lnTo>
                      <a:lnTo>
                        <a:pt x="664" y="84"/>
                      </a:lnTo>
                      <a:lnTo>
                        <a:pt x="660" y="84"/>
                      </a:lnTo>
                      <a:lnTo>
                        <a:pt x="658" y="84"/>
                      </a:lnTo>
                      <a:lnTo>
                        <a:pt x="654" y="84"/>
                      </a:lnTo>
                      <a:lnTo>
                        <a:pt x="652" y="84"/>
                      </a:lnTo>
                      <a:lnTo>
                        <a:pt x="651" y="84"/>
                      </a:lnTo>
                      <a:lnTo>
                        <a:pt x="647" y="84"/>
                      </a:lnTo>
                      <a:lnTo>
                        <a:pt x="645" y="84"/>
                      </a:lnTo>
                      <a:lnTo>
                        <a:pt x="643" y="84"/>
                      </a:lnTo>
                      <a:lnTo>
                        <a:pt x="639" y="84"/>
                      </a:lnTo>
                      <a:lnTo>
                        <a:pt x="635" y="84"/>
                      </a:lnTo>
                      <a:lnTo>
                        <a:pt x="630" y="84"/>
                      </a:lnTo>
                      <a:lnTo>
                        <a:pt x="628" y="84"/>
                      </a:lnTo>
                      <a:lnTo>
                        <a:pt x="624" y="86"/>
                      </a:lnTo>
                      <a:lnTo>
                        <a:pt x="622" y="86"/>
                      </a:lnTo>
                      <a:lnTo>
                        <a:pt x="618" y="86"/>
                      </a:lnTo>
                      <a:lnTo>
                        <a:pt x="614" y="87"/>
                      </a:lnTo>
                      <a:lnTo>
                        <a:pt x="609" y="89"/>
                      </a:lnTo>
                      <a:lnTo>
                        <a:pt x="603" y="91"/>
                      </a:lnTo>
                      <a:lnTo>
                        <a:pt x="599" y="95"/>
                      </a:lnTo>
                      <a:lnTo>
                        <a:pt x="595" y="97"/>
                      </a:lnTo>
                      <a:lnTo>
                        <a:pt x="592" y="99"/>
                      </a:lnTo>
                      <a:lnTo>
                        <a:pt x="586" y="103"/>
                      </a:lnTo>
                      <a:lnTo>
                        <a:pt x="582" y="105"/>
                      </a:lnTo>
                      <a:lnTo>
                        <a:pt x="578" y="108"/>
                      </a:lnTo>
                      <a:lnTo>
                        <a:pt x="574" y="112"/>
                      </a:lnTo>
                      <a:lnTo>
                        <a:pt x="571" y="116"/>
                      </a:lnTo>
                      <a:lnTo>
                        <a:pt x="567" y="120"/>
                      </a:lnTo>
                      <a:lnTo>
                        <a:pt x="565" y="124"/>
                      </a:lnTo>
                      <a:lnTo>
                        <a:pt x="563" y="127"/>
                      </a:lnTo>
                      <a:lnTo>
                        <a:pt x="559" y="131"/>
                      </a:lnTo>
                      <a:lnTo>
                        <a:pt x="555" y="135"/>
                      </a:lnTo>
                      <a:lnTo>
                        <a:pt x="554" y="141"/>
                      </a:lnTo>
                      <a:lnTo>
                        <a:pt x="552" y="146"/>
                      </a:lnTo>
                      <a:lnTo>
                        <a:pt x="550" y="150"/>
                      </a:lnTo>
                      <a:lnTo>
                        <a:pt x="548" y="156"/>
                      </a:lnTo>
                      <a:lnTo>
                        <a:pt x="546" y="158"/>
                      </a:lnTo>
                      <a:lnTo>
                        <a:pt x="546" y="160"/>
                      </a:lnTo>
                      <a:lnTo>
                        <a:pt x="544" y="163"/>
                      </a:lnTo>
                      <a:lnTo>
                        <a:pt x="544" y="167"/>
                      </a:lnTo>
                      <a:lnTo>
                        <a:pt x="361" y="1127"/>
                      </a:lnTo>
                      <a:lnTo>
                        <a:pt x="361" y="112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7" name="AutoShape 414"/>
              <p:cNvSpPr/>
              <p:nvPr/>
            </p:nvSpPr>
            <p:spPr>
              <a:xfrm flipV="1" rot="2647800">
                <a:off x="6866640" y="2937960"/>
                <a:ext cx="88560" cy="75600"/>
              </a:xfrm>
              <a:prstGeom prst="hexagon">
                <a:avLst>
                  <a:gd name="adj" fmla="val 29286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AutoShape 415"/>
              <p:cNvSpPr/>
              <p:nvPr/>
            </p:nvSpPr>
            <p:spPr>
              <a:xfrm flipV="1" rot="2617200">
                <a:off x="7070760" y="2678040"/>
                <a:ext cx="193320" cy="54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308" y="21600"/>
                    </a:lnTo>
                    <a:lnTo>
                      <a:pt x="1729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09" name="Group 416"/>
          <p:cNvGrpSpPr/>
          <p:nvPr/>
        </p:nvGrpSpPr>
        <p:grpSpPr>
          <a:xfrm>
            <a:off x="6878880" y="2629440"/>
            <a:ext cx="204840" cy="162000"/>
            <a:chOff x="6878880" y="2629440"/>
            <a:chExt cx="204840" cy="162000"/>
          </a:xfrm>
        </p:grpSpPr>
        <p:sp>
          <p:nvSpPr>
            <p:cNvPr id="3010" name="AutoShape 417"/>
            <p:cNvSpPr/>
            <p:nvPr/>
          </p:nvSpPr>
          <p:spPr>
            <a:xfrm flipH="1" rot="833400">
              <a:off x="6890400" y="2649240"/>
              <a:ext cx="180720" cy="12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AutoShape 418"/>
            <p:cNvSpPr/>
            <p:nvPr/>
          </p:nvSpPr>
          <p:spPr>
            <a:xfrm flipH="1" rot="971400">
              <a:off x="6931080" y="2647800"/>
              <a:ext cx="115560" cy="109440"/>
            </a:xfrm>
            <a:custGeom>
              <a:avLst/>
              <a:gdLst/>
              <a:ahLst/>
              <a:rect l="l" t="t" r="r" b="b"/>
              <a:pathLst>
                <a:path w="73" h="69">
                  <a:moveTo>
                    <a:pt x="0" y="26"/>
                  </a:moveTo>
                  <a:lnTo>
                    <a:pt x="27" y="26"/>
                  </a:lnTo>
                  <a:lnTo>
                    <a:pt x="36" y="0"/>
                  </a:lnTo>
                  <a:lnTo>
                    <a:pt x="45" y="26"/>
                  </a:lnTo>
                  <a:lnTo>
                    <a:pt x="72" y="26"/>
                  </a:lnTo>
                  <a:lnTo>
                    <a:pt x="50" y="42"/>
                  </a:lnTo>
                  <a:lnTo>
                    <a:pt x="59" y="68"/>
                  </a:lnTo>
                  <a:lnTo>
                    <a:pt x="36" y="52"/>
                  </a:lnTo>
                  <a:lnTo>
                    <a:pt x="13" y="68"/>
                  </a:lnTo>
                  <a:lnTo>
                    <a:pt x="22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2" name="Group 419"/>
          <p:cNvGrpSpPr/>
          <p:nvPr/>
        </p:nvGrpSpPr>
        <p:grpSpPr>
          <a:xfrm>
            <a:off x="2652840" y="-14760"/>
            <a:ext cx="4281120" cy="4863960"/>
            <a:chOff x="2652840" y="-14760"/>
            <a:chExt cx="4281120" cy="4863960"/>
          </a:xfrm>
        </p:grpSpPr>
        <p:sp>
          <p:nvSpPr>
            <p:cNvPr id="3013" name="Oval 420"/>
            <p:cNvSpPr/>
            <p:nvPr/>
          </p:nvSpPr>
          <p:spPr>
            <a:xfrm rot="16200000">
              <a:off x="4121640" y="2053800"/>
              <a:ext cx="1326600" cy="426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3137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AutoShape 421"/>
            <p:cNvSpPr/>
            <p:nvPr/>
          </p:nvSpPr>
          <p:spPr>
            <a:xfrm rot="10800000">
              <a:off x="2670120" y="-14760"/>
              <a:ext cx="4263840" cy="4346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702" y="21600"/>
                  </a:lnTo>
                  <a:lnTo>
                    <a:pt x="1289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aeaea">
                    <a:alpha val="71372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5" name="文本框 8200"/>
          <p:cNvSpPr/>
          <p:nvPr/>
        </p:nvSpPr>
        <p:spPr>
          <a:xfrm>
            <a:off x="1219320" y="5715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 thruBlk="true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autoRev="1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349" dur="1000" fill="hold"/>
                                        <p:tgtEl>
                                          <p:spTgt spid="2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0" dur="indefinite" autoRev="1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351" dur="1000" fill="hold"/>
                                        <p:tgtEl>
                                          <p:spTgt spid="2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" dur="indefinite" autoRev="1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353" dur="1000" fill="hold"/>
                                        <p:tgtEl>
                                          <p:spTgt spid="2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355" dur="3000" fill="hold"/>
                                        <p:tgtEl>
                                          <p:spTgt spid="27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357" dur="3000" fill="hold"/>
                                        <p:tgtEl>
                                          <p:spTgt spid="29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666 0 E">
                                      <p:cBhvr>
                                        <p:cTn id="359" dur="5000" fill="hold"/>
                                        <p:tgtEl>
                                          <p:spTgt spid="2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666 0 E">
                                      <p:cBhvr>
                                        <p:cTn id="361" dur="5000" fill="hold"/>
                                        <p:tgtEl>
                                          <p:spTgt spid="2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666 0 E">
                                      <p:cBhvr>
                                        <p:cTn id="363" dur="5000" fill="hold"/>
                                        <p:tgtEl>
                                          <p:spTgt spid="26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666 0 E">
                                      <p:cBhvr>
                                        <p:cTn id="365" dur="5000" fill="hold"/>
                                        <p:tgtEl>
                                          <p:spTgt spid="27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666 0 E">
                                      <p:cBhvr>
                                        <p:cTn id="367" dur="5000" fill="hold"/>
                                        <p:tgtEl>
                                          <p:spTgt spid="27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666 0 E">
                                      <p:cBhvr>
                                        <p:cTn id="369" dur="5000" fill="hold"/>
                                        <p:tgtEl>
                                          <p:spTgt spid="27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666 0 E">
                                      <p:cBhvr>
                                        <p:cTn id="371" dur="5000" fill="hold"/>
                                        <p:tgtEl>
                                          <p:spTgt spid="27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2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3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000"/>
                            </p:stCondLst>
                            <p:childTnLst>
                              <p:par>
                                <p:cTn id="37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2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2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2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2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2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2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2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7000"/>
                            </p:stCondLst>
                            <p:childTnLst>
                              <p:par>
                                <p:cTn id="401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2" dur="2000"/>
                                        <p:tgtEl>
                                          <p:spTgt spid="3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6" name="Group 834"/>
          <p:cNvGrpSpPr/>
          <p:nvPr/>
        </p:nvGrpSpPr>
        <p:grpSpPr>
          <a:xfrm>
            <a:off x="4520880" y="1362960"/>
            <a:ext cx="882000" cy="3241440"/>
            <a:chOff x="4520880" y="1362960"/>
            <a:chExt cx="882000" cy="3241440"/>
          </a:xfrm>
        </p:grpSpPr>
        <p:grpSp>
          <p:nvGrpSpPr>
            <p:cNvPr id="3017" name="Group 835"/>
            <p:cNvGrpSpPr/>
            <p:nvPr/>
          </p:nvGrpSpPr>
          <p:grpSpPr>
            <a:xfrm>
              <a:off x="4806720" y="2439720"/>
              <a:ext cx="581400" cy="2101680"/>
              <a:chOff x="4806720" y="2439720"/>
              <a:chExt cx="581400" cy="2101680"/>
            </a:xfrm>
          </p:grpSpPr>
          <p:grpSp>
            <p:nvGrpSpPr>
              <p:cNvPr id="3018" name="Group 836"/>
              <p:cNvGrpSpPr/>
              <p:nvPr/>
            </p:nvGrpSpPr>
            <p:grpSpPr>
              <a:xfrm>
                <a:off x="4956480" y="3453840"/>
                <a:ext cx="431640" cy="1087560"/>
                <a:chOff x="4956480" y="3453840"/>
                <a:chExt cx="431640" cy="1087560"/>
              </a:xfrm>
            </p:grpSpPr>
            <p:sp>
              <p:nvSpPr>
                <p:cNvPr id="3019" name="AutoShape 837"/>
                <p:cNvSpPr/>
                <p:nvPr/>
              </p:nvSpPr>
              <p:spPr>
                <a:xfrm flipH="1" rot="6166800">
                  <a:off x="5146920" y="4270320"/>
                  <a:ext cx="109440" cy="3567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08080"/>
                    </a:gs>
                  </a:gsLst>
                  <a:lin ang="6060000"/>
                </a:gra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0" name="AutoShape 838"/>
                <p:cNvSpPr/>
                <p:nvPr/>
              </p:nvSpPr>
              <p:spPr>
                <a:xfrm flipH="1" rot="105000">
                  <a:off x="4963320" y="3457440"/>
                  <a:ext cx="254880" cy="479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7777"/>
                    </a:gs>
                  </a:gsLst>
                  <a:lin ang="0"/>
                </a:gra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1" name="AutoShape 839"/>
                <p:cNvSpPr/>
                <p:nvPr/>
              </p:nvSpPr>
              <p:spPr>
                <a:xfrm flipH="1" rot="105000">
                  <a:off x="4999680" y="3936960"/>
                  <a:ext cx="153000" cy="479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7777"/>
                    </a:gs>
                  </a:gsLst>
                  <a:lin ang="0"/>
                </a:gra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2" name="Oval 840"/>
                <p:cNvSpPr/>
                <p:nvPr/>
              </p:nvSpPr>
              <p:spPr>
                <a:xfrm flipH="1" rot="105000">
                  <a:off x="5009400" y="3883320"/>
                  <a:ext cx="153000" cy="143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3" name="AutoShape 841"/>
                <p:cNvSpPr/>
                <p:nvPr/>
              </p:nvSpPr>
              <p:spPr>
                <a:xfrm flipH="1" flipV="1" rot="105000">
                  <a:off x="5047920" y="3927600"/>
                  <a:ext cx="82800" cy="66960"/>
                </a:xfrm>
                <a:prstGeom prst="hexagon">
                  <a:avLst>
                    <a:gd name="adj" fmla="val 30914"/>
                    <a:gd name="vf" fmla="val 115470"/>
                  </a:avLst>
                </a:prstGeom>
                <a:solidFill>
                  <a:srgbClr val="ff000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4" name="Group 842"/>
              <p:cNvGrpSpPr/>
              <p:nvPr/>
            </p:nvGrpSpPr>
            <p:grpSpPr>
              <a:xfrm>
                <a:off x="4806720" y="2439720"/>
                <a:ext cx="431640" cy="1087920"/>
                <a:chOff x="4806720" y="2439720"/>
                <a:chExt cx="431640" cy="1087920"/>
              </a:xfrm>
            </p:grpSpPr>
            <p:sp>
              <p:nvSpPr>
                <p:cNvPr id="3025" name="AutoShape 843"/>
                <p:cNvSpPr/>
                <p:nvPr/>
              </p:nvSpPr>
              <p:spPr>
                <a:xfrm flipH="1" rot="16966200">
                  <a:off x="4938120" y="2353680"/>
                  <a:ext cx="109440" cy="356760"/>
                </a:xfrm>
                <a:prstGeom prst="triangle">
                  <a:avLst>
                    <a:gd name="adj" fmla="val 5000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6" name="AutoShape 844"/>
                <p:cNvSpPr/>
                <p:nvPr/>
              </p:nvSpPr>
              <p:spPr>
                <a:xfrm flipH="1" rot="10905000">
                  <a:off x="4975560" y="3043440"/>
                  <a:ext cx="254880" cy="480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7" name="AutoShape 845"/>
                <p:cNvSpPr/>
                <p:nvPr/>
              </p:nvSpPr>
              <p:spPr>
                <a:xfrm flipH="1" rot="10905000">
                  <a:off x="5041800" y="2563920"/>
                  <a:ext cx="153000" cy="479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8" name="Oval 846"/>
                <p:cNvSpPr/>
                <p:nvPr/>
              </p:nvSpPr>
              <p:spPr>
                <a:xfrm flipH="1" rot="10905000">
                  <a:off x="5031360" y="2954160"/>
                  <a:ext cx="153000" cy="1436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9" name="AutoShape 847"/>
                <p:cNvSpPr/>
                <p:nvPr/>
              </p:nvSpPr>
              <p:spPr>
                <a:xfrm flipH="1" flipV="1" rot="10905000">
                  <a:off x="5063760" y="2985480"/>
                  <a:ext cx="82800" cy="66960"/>
                </a:xfrm>
                <a:prstGeom prst="hexagon">
                  <a:avLst>
                    <a:gd name="adj" fmla="val 30914"/>
                    <a:gd name="vf" fmla="val 11547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30" name="Group 848"/>
            <p:cNvGrpSpPr/>
            <p:nvPr/>
          </p:nvGrpSpPr>
          <p:grpSpPr>
            <a:xfrm>
              <a:off x="4691520" y="2520360"/>
              <a:ext cx="639000" cy="2084040"/>
              <a:chOff x="4691520" y="2520360"/>
              <a:chExt cx="639000" cy="2084040"/>
            </a:xfrm>
          </p:grpSpPr>
          <p:grpSp>
            <p:nvGrpSpPr>
              <p:cNvPr id="3031" name="Group 849"/>
              <p:cNvGrpSpPr/>
              <p:nvPr/>
            </p:nvGrpSpPr>
            <p:grpSpPr>
              <a:xfrm>
                <a:off x="4883760" y="3529440"/>
                <a:ext cx="446760" cy="1074960"/>
                <a:chOff x="4883760" y="3529440"/>
                <a:chExt cx="446760" cy="1074960"/>
              </a:xfrm>
            </p:grpSpPr>
            <p:sp>
              <p:nvSpPr>
                <p:cNvPr id="3032" name="AutoShape 850"/>
                <p:cNvSpPr/>
                <p:nvPr/>
              </p:nvSpPr>
              <p:spPr>
                <a:xfrm flipH="1" rot="6061800">
                  <a:off x="5090040" y="4338360"/>
                  <a:ext cx="109800" cy="3564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08080"/>
                    </a:gs>
                  </a:gsLst>
                  <a:lin ang="6060000"/>
                </a:gra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3" name="AutoShape 851"/>
                <p:cNvSpPr/>
                <p:nvPr/>
              </p:nvSpPr>
              <p:spPr>
                <a:xfrm flipH="1">
                  <a:off x="4883760" y="3529440"/>
                  <a:ext cx="254880" cy="479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7777"/>
                    </a:gs>
                  </a:gsLst>
                  <a:lin ang="0"/>
                </a:gra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4" name="AutoShape 852"/>
                <p:cNvSpPr/>
                <p:nvPr/>
              </p:nvSpPr>
              <p:spPr>
                <a:xfrm flipH="1">
                  <a:off x="4934160" y="4008960"/>
                  <a:ext cx="153000" cy="479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7777"/>
                    </a:gs>
                  </a:gsLst>
                  <a:lin ang="0"/>
                </a:gra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5" name="Oval 853"/>
                <p:cNvSpPr/>
                <p:nvPr/>
              </p:nvSpPr>
              <p:spPr>
                <a:xfrm flipH="1">
                  <a:off x="4937400" y="3954960"/>
                  <a:ext cx="153000" cy="143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6" name="AutoShape 854"/>
                <p:cNvSpPr/>
                <p:nvPr/>
              </p:nvSpPr>
              <p:spPr>
                <a:xfrm flipH="1" flipV="1">
                  <a:off x="4975920" y="3999960"/>
                  <a:ext cx="82800" cy="66960"/>
                </a:xfrm>
                <a:prstGeom prst="hexagon">
                  <a:avLst>
                    <a:gd name="adj" fmla="val 30914"/>
                    <a:gd name="vf" fmla="val 115470"/>
                  </a:avLst>
                </a:prstGeom>
                <a:solidFill>
                  <a:srgbClr val="ff000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7" name="Group 855"/>
              <p:cNvGrpSpPr/>
              <p:nvPr/>
            </p:nvGrpSpPr>
            <p:grpSpPr>
              <a:xfrm>
                <a:off x="4691520" y="2520360"/>
                <a:ext cx="446760" cy="1074960"/>
                <a:chOff x="4691520" y="2520360"/>
                <a:chExt cx="446760" cy="1074960"/>
              </a:xfrm>
            </p:grpSpPr>
            <p:sp>
              <p:nvSpPr>
                <p:cNvPr id="3038" name="AutoShape 856"/>
                <p:cNvSpPr/>
                <p:nvPr/>
              </p:nvSpPr>
              <p:spPr>
                <a:xfrm flipH="1" rot="16861200">
                  <a:off x="4821840" y="2429640"/>
                  <a:ext cx="109800" cy="356400"/>
                </a:xfrm>
                <a:prstGeom prst="triangle">
                  <a:avLst>
                    <a:gd name="adj" fmla="val 5000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9" name="AutoShape 857"/>
                <p:cNvSpPr/>
                <p:nvPr/>
              </p:nvSpPr>
              <p:spPr>
                <a:xfrm flipH="1" rot="10800000">
                  <a:off x="4883400" y="3115800"/>
                  <a:ext cx="254880" cy="479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0" name="AutoShape 858"/>
                <p:cNvSpPr/>
                <p:nvPr/>
              </p:nvSpPr>
              <p:spPr>
                <a:xfrm flipH="1" rot="10800000">
                  <a:off x="4934160" y="2636280"/>
                  <a:ext cx="153000" cy="479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1" name="Oval 859"/>
                <p:cNvSpPr/>
                <p:nvPr/>
              </p:nvSpPr>
              <p:spPr>
                <a:xfrm flipH="1" rot="10800000">
                  <a:off x="4930920" y="3025800"/>
                  <a:ext cx="153000" cy="1436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2" name="AutoShape 860"/>
                <p:cNvSpPr/>
                <p:nvPr/>
              </p:nvSpPr>
              <p:spPr>
                <a:xfrm flipH="1" flipV="1" rot="10800000">
                  <a:off x="4963320" y="3057840"/>
                  <a:ext cx="82800" cy="66960"/>
                </a:xfrm>
                <a:prstGeom prst="hexagon">
                  <a:avLst>
                    <a:gd name="adj" fmla="val 30914"/>
                    <a:gd name="vf" fmla="val 11547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43" name="Group 861"/>
            <p:cNvGrpSpPr/>
            <p:nvPr/>
          </p:nvGrpSpPr>
          <p:grpSpPr>
            <a:xfrm>
              <a:off x="4553280" y="2076480"/>
              <a:ext cx="768960" cy="1522800"/>
              <a:chOff x="4553280" y="2076480"/>
              <a:chExt cx="768960" cy="1522800"/>
            </a:xfrm>
          </p:grpSpPr>
          <p:grpSp>
            <p:nvGrpSpPr>
              <p:cNvPr id="3044" name="Group 862"/>
              <p:cNvGrpSpPr/>
              <p:nvPr/>
            </p:nvGrpSpPr>
            <p:grpSpPr>
              <a:xfrm>
                <a:off x="4553280" y="2076480"/>
                <a:ext cx="768960" cy="1522800"/>
                <a:chOff x="4553280" y="2076480"/>
                <a:chExt cx="768960" cy="1522800"/>
              </a:xfrm>
            </p:grpSpPr>
            <p:sp>
              <p:nvSpPr>
                <p:cNvPr id="3045" name="Arc 863"/>
                <p:cNvSpPr/>
                <p:nvPr/>
              </p:nvSpPr>
              <p:spPr>
                <a:xfrm flipH="1" rot="18790800">
                  <a:off x="4574880" y="2838960"/>
                  <a:ext cx="575640" cy="310680"/>
                </a:xfrm>
                <a:custGeom>
                  <a:avLst/>
                  <a:gdLst/>
                  <a:ahLst/>
                  <a:rect l="l" t="t" r="r" b="b"/>
                  <a:pathLst>
                    <a:path fill="none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6" name="Arc 864"/>
                <p:cNvSpPr/>
                <p:nvPr/>
              </p:nvSpPr>
              <p:spPr>
                <a:xfrm flipH="1" rot="18790800">
                  <a:off x="4612680" y="2503080"/>
                  <a:ext cx="575640" cy="310680"/>
                </a:xfrm>
                <a:custGeom>
                  <a:avLst/>
                  <a:gdLst/>
                  <a:ahLst/>
                  <a:rect l="l" t="t" r="r" b="b"/>
                  <a:pathLst>
                    <a:path fill="none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7" name="AutoShape 865"/>
                <p:cNvSpPr/>
                <p:nvPr/>
              </p:nvSpPr>
              <p:spPr>
                <a:xfrm flipH="1" rot="10800000">
                  <a:off x="4969440" y="2303640"/>
                  <a:ext cx="343440" cy="335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10800" y="21600"/>
                      </a:lnTo>
                      <a:lnTo>
                        <a:pt x="108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8" name="AutoShape 866"/>
                <p:cNvSpPr/>
                <p:nvPr/>
              </p:nvSpPr>
              <p:spPr>
                <a:xfrm flipH="1">
                  <a:off x="4969440" y="2630880"/>
                  <a:ext cx="343440" cy="66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10800" y="21600"/>
                      </a:lnTo>
                      <a:lnTo>
                        <a:pt x="108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9" name="Rectangle 867"/>
                <p:cNvSpPr/>
                <p:nvPr/>
              </p:nvSpPr>
              <p:spPr>
                <a:xfrm flipH="1">
                  <a:off x="4854240" y="2313360"/>
                  <a:ext cx="284040" cy="806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7777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0" name="AutoShape 868"/>
                <p:cNvSpPr/>
                <p:nvPr/>
              </p:nvSpPr>
              <p:spPr>
                <a:xfrm flipH="1" rot="10800000">
                  <a:off x="4711680" y="3119400"/>
                  <a:ext cx="610560" cy="479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287" y="21600"/>
                      </a:lnTo>
                      <a:lnTo>
                        <a:pt x="16313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77777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1" name="Oval 869"/>
                <p:cNvSpPr/>
                <p:nvPr/>
              </p:nvSpPr>
              <p:spPr>
                <a:xfrm flipH="1">
                  <a:off x="4854960" y="2283120"/>
                  <a:ext cx="290880" cy="5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2" name="Rectangle 870"/>
                <p:cNvSpPr/>
                <p:nvPr/>
              </p:nvSpPr>
              <p:spPr>
                <a:xfrm flipH="1">
                  <a:off x="4931280" y="2076480"/>
                  <a:ext cx="116640" cy="230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7777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3" name="Rectangle 871"/>
              <p:cNvSpPr/>
              <p:nvPr/>
            </p:nvSpPr>
            <p:spPr>
              <a:xfrm flipH="1">
                <a:off x="4841640" y="3116880"/>
                <a:ext cx="349560" cy="507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4" name="Group 872"/>
            <p:cNvGrpSpPr/>
            <p:nvPr/>
          </p:nvGrpSpPr>
          <p:grpSpPr>
            <a:xfrm>
              <a:off x="4899960" y="1362960"/>
              <a:ext cx="254880" cy="2207160"/>
              <a:chOff x="4899960" y="1362960"/>
              <a:chExt cx="254880" cy="2207160"/>
            </a:xfrm>
          </p:grpSpPr>
          <p:grpSp>
            <p:nvGrpSpPr>
              <p:cNvPr id="3055" name="Group 873"/>
              <p:cNvGrpSpPr/>
              <p:nvPr/>
            </p:nvGrpSpPr>
            <p:grpSpPr>
              <a:xfrm>
                <a:off x="4914360" y="1362960"/>
                <a:ext cx="240480" cy="1204920"/>
                <a:chOff x="4914360" y="1362960"/>
                <a:chExt cx="240480" cy="1204920"/>
              </a:xfrm>
            </p:grpSpPr>
            <p:grpSp>
              <p:nvGrpSpPr>
                <p:cNvPr id="3056" name="Group 874"/>
                <p:cNvGrpSpPr/>
                <p:nvPr/>
              </p:nvGrpSpPr>
              <p:grpSpPr>
                <a:xfrm>
                  <a:off x="4914360" y="1586520"/>
                  <a:ext cx="237600" cy="981360"/>
                  <a:chOff x="4914360" y="1586520"/>
                  <a:chExt cx="237600" cy="981360"/>
                </a:xfrm>
              </p:grpSpPr>
              <p:sp>
                <p:nvSpPr>
                  <p:cNvPr id="3057" name="AutoShape 875"/>
                  <p:cNvSpPr/>
                  <p:nvPr/>
                </p:nvSpPr>
                <p:spPr>
                  <a:xfrm flipH="1" rot="11167200">
                    <a:off x="4951800" y="1977120"/>
                    <a:ext cx="172440" cy="52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5400" y="21600"/>
                        </a:lnTo>
                        <a:lnTo>
                          <a:pt x="162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8" name="AutoShape 876"/>
                  <p:cNvSpPr/>
                  <p:nvPr/>
                </p:nvSpPr>
                <p:spPr>
                  <a:xfrm flipH="1" rot="11167200">
                    <a:off x="5034240" y="1590120"/>
                    <a:ext cx="88560" cy="39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5400" y="21600"/>
                        </a:lnTo>
                        <a:lnTo>
                          <a:pt x="162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9" name="Oval 877"/>
                  <p:cNvSpPr/>
                  <p:nvPr/>
                </p:nvSpPr>
                <p:spPr>
                  <a:xfrm flipH="1" rot="11167200">
                    <a:off x="4981320" y="1881360"/>
                    <a:ext cx="152280" cy="14400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0" name="AutoShape 878"/>
                  <p:cNvSpPr/>
                  <p:nvPr/>
                </p:nvSpPr>
                <p:spPr>
                  <a:xfrm flipH="1" flipV="1" rot="11166600">
                    <a:off x="5014440" y="1912320"/>
                    <a:ext cx="82440" cy="66960"/>
                  </a:xfrm>
                  <a:prstGeom prst="hexagon">
                    <a:avLst>
                      <a:gd name="adj" fmla="val 30780"/>
                      <a:gd name="vf" fmla="val 115470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1" name="AutoShape 879"/>
                  <p:cNvSpPr/>
                  <p:nvPr/>
                </p:nvSpPr>
                <p:spPr>
                  <a:xfrm flipH="1" rot="5387400">
                    <a:off x="4938480" y="2387880"/>
                    <a:ext cx="155520" cy="20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934" y="2201"/>
                          <a:pt x="12267" y="5080"/>
                          <a:pt x="12267" y="10800"/>
                        </a:cubicBezTo>
                        <a:cubicBezTo>
                          <a:pt x="12267" y="16520"/>
                          <a:pt x="16934" y="19399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2" name="Freeform 880"/>
                <p:cNvSpPr/>
                <p:nvPr/>
              </p:nvSpPr>
              <p:spPr>
                <a:xfrm rot="22200">
                  <a:off x="5046840" y="1363320"/>
                  <a:ext cx="106920" cy="256680"/>
                </a:xfrm>
                <a:custGeom>
                  <a:avLst/>
                  <a:gdLst/>
                  <a:ahLst/>
                  <a:rect l="l" t="t" r="r" b="b"/>
                  <a:pathLst>
                    <a:path w="1402" h="2302">
                      <a:moveTo>
                        <a:pt x="361" y="1127"/>
                      </a:moveTo>
                      <a:lnTo>
                        <a:pt x="280" y="1116"/>
                      </a:lnTo>
                      <a:lnTo>
                        <a:pt x="373" y="711"/>
                      </a:lnTo>
                      <a:lnTo>
                        <a:pt x="373" y="709"/>
                      </a:lnTo>
                      <a:lnTo>
                        <a:pt x="375" y="705"/>
                      </a:lnTo>
                      <a:lnTo>
                        <a:pt x="375" y="703"/>
                      </a:lnTo>
                      <a:lnTo>
                        <a:pt x="375" y="700"/>
                      </a:lnTo>
                      <a:lnTo>
                        <a:pt x="375" y="698"/>
                      </a:lnTo>
                      <a:lnTo>
                        <a:pt x="375" y="696"/>
                      </a:lnTo>
                      <a:lnTo>
                        <a:pt x="375" y="692"/>
                      </a:lnTo>
                      <a:lnTo>
                        <a:pt x="375" y="690"/>
                      </a:lnTo>
                      <a:lnTo>
                        <a:pt x="375" y="684"/>
                      </a:lnTo>
                      <a:lnTo>
                        <a:pt x="375" y="681"/>
                      </a:lnTo>
                      <a:lnTo>
                        <a:pt x="375" y="675"/>
                      </a:lnTo>
                      <a:lnTo>
                        <a:pt x="375" y="669"/>
                      </a:lnTo>
                      <a:lnTo>
                        <a:pt x="371" y="665"/>
                      </a:lnTo>
                      <a:lnTo>
                        <a:pt x="371" y="660"/>
                      </a:lnTo>
                      <a:lnTo>
                        <a:pt x="369" y="654"/>
                      </a:lnTo>
                      <a:lnTo>
                        <a:pt x="367" y="652"/>
                      </a:lnTo>
                      <a:lnTo>
                        <a:pt x="365" y="646"/>
                      </a:lnTo>
                      <a:lnTo>
                        <a:pt x="363" y="641"/>
                      </a:lnTo>
                      <a:lnTo>
                        <a:pt x="361" y="637"/>
                      </a:lnTo>
                      <a:lnTo>
                        <a:pt x="358" y="633"/>
                      </a:lnTo>
                      <a:lnTo>
                        <a:pt x="356" y="629"/>
                      </a:lnTo>
                      <a:lnTo>
                        <a:pt x="354" y="623"/>
                      </a:lnTo>
                      <a:lnTo>
                        <a:pt x="350" y="620"/>
                      </a:lnTo>
                      <a:lnTo>
                        <a:pt x="346" y="616"/>
                      </a:lnTo>
                      <a:lnTo>
                        <a:pt x="342" y="612"/>
                      </a:lnTo>
                      <a:lnTo>
                        <a:pt x="339" y="610"/>
                      </a:lnTo>
                      <a:lnTo>
                        <a:pt x="335" y="606"/>
                      </a:lnTo>
                      <a:lnTo>
                        <a:pt x="331" y="603"/>
                      </a:lnTo>
                      <a:lnTo>
                        <a:pt x="325" y="601"/>
                      </a:lnTo>
                      <a:lnTo>
                        <a:pt x="321" y="597"/>
                      </a:lnTo>
                      <a:lnTo>
                        <a:pt x="318" y="595"/>
                      </a:lnTo>
                      <a:lnTo>
                        <a:pt x="312" y="593"/>
                      </a:lnTo>
                      <a:lnTo>
                        <a:pt x="306" y="591"/>
                      </a:lnTo>
                      <a:lnTo>
                        <a:pt x="302" y="589"/>
                      </a:lnTo>
                      <a:lnTo>
                        <a:pt x="299" y="589"/>
                      </a:lnTo>
                      <a:lnTo>
                        <a:pt x="295" y="587"/>
                      </a:lnTo>
                      <a:lnTo>
                        <a:pt x="291" y="587"/>
                      </a:lnTo>
                      <a:lnTo>
                        <a:pt x="287" y="585"/>
                      </a:lnTo>
                      <a:lnTo>
                        <a:pt x="285" y="585"/>
                      </a:lnTo>
                      <a:lnTo>
                        <a:pt x="283" y="585"/>
                      </a:lnTo>
                      <a:lnTo>
                        <a:pt x="280" y="585"/>
                      </a:lnTo>
                      <a:lnTo>
                        <a:pt x="276" y="585"/>
                      </a:lnTo>
                      <a:lnTo>
                        <a:pt x="274" y="585"/>
                      </a:lnTo>
                      <a:lnTo>
                        <a:pt x="272" y="585"/>
                      </a:lnTo>
                      <a:lnTo>
                        <a:pt x="268" y="585"/>
                      </a:lnTo>
                      <a:lnTo>
                        <a:pt x="266" y="585"/>
                      </a:lnTo>
                      <a:lnTo>
                        <a:pt x="263" y="585"/>
                      </a:lnTo>
                      <a:lnTo>
                        <a:pt x="261" y="587"/>
                      </a:lnTo>
                      <a:lnTo>
                        <a:pt x="259" y="587"/>
                      </a:lnTo>
                      <a:lnTo>
                        <a:pt x="255" y="587"/>
                      </a:lnTo>
                      <a:lnTo>
                        <a:pt x="253" y="589"/>
                      </a:lnTo>
                      <a:lnTo>
                        <a:pt x="249" y="589"/>
                      </a:lnTo>
                      <a:lnTo>
                        <a:pt x="247" y="589"/>
                      </a:lnTo>
                      <a:lnTo>
                        <a:pt x="243" y="591"/>
                      </a:lnTo>
                      <a:lnTo>
                        <a:pt x="240" y="591"/>
                      </a:lnTo>
                      <a:lnTo>
                        <a:pt x="238" y="593"/>
                      </a:lnTo>
                      <a:lnTo>
                        <a:pt x="236" y="595"/>
                      </a:lnTo>
                      <a:lnTo>
                        <a:pt x="232" y="595"/>
                      </a:lnTo>
                      <a:lnTo>
                        <a:pt x="230" y="597"/>
                      </a:lnTo>
                      <a:lnTo>
                        <a:pt x="228" y="599"/>
                      </a:lnTo>
                      <a:lnTo>
                        <a:pt x="224" y="601"/>
                      </a:lnTo>
                      <a:lnTo>
                        <a:pt x="223" y="601"/>
                      </a:lnTo>
                      <a:lnTo>
                        <a:pt x="219" y="603"/>
                      </a:lnTo>
                      <a:lnTo>
                        <a:pt x="217" y="604"/>
                      </a:lnTo>
                      <a:lnTo>
                        <a:pt x="211" y="608"/>
                      </a:lnTo>
                      <a:lnTo>
                        <a:pt x="207" y="612"/>
                      </a:lnTo>
                      <a:lnTo>
                        <a:pt x="204" y="616"/>
                      </a:lnTo>
                      <a:lnTo>
                        <a:pt x="198" y="618"/>
                      </a:lnTo>
                      <a:lnTo>
                        <a:pt x="194" y="623"/>
                      </a:lnTo>
                      <a:lnTo>
                        <a:pt x="188" y="627"/>
                      </a:lnTo>
                      <a:lnTo>
                        <a:pt x="185" y="633"/>
                      </a:lnTo>
                      <a:lnTo>
                        <a:pt x="181" y="637"/>
                      </a:lnTo>
                      <a:lnTo>
                        <a:pt x="177" y="641"/>
                      </a:lnTo>
                      <a:lnTo>
                        <a:pt x="173" y="646"/>
                      </a:lnTo>
                      <a:lnTo>
                        <a:pt x="169" y="652"/>
                      </a:lnTo>
                      <a:lnTo>
                        <a:pt x="166" y="656"/>
                      </a:lnTo>
                      <a:lnTo>
                        <a:pt x="162" y="662"/>
                      </a:lnTo>
                      <a:lnTo>
                        <a:pt x="160" y="665"/>
                      </a:lnTo>
                      <a:lnTo>
                        <a:pt x="158" y="669"/>
                      </a:lnTo>
                      <a:lnTo>
                        <a:pt x="158" y="671"/>
                      </a:lnTo>
                      <a:lnTo>
                        <a:pt x="156" y="673"/>
                      </a:lnTo>
                      <a:lnTo>
                        <a:pt x="154" y="677"/>
                      </a:lnTo>
                      <a:lnTo>
                        <a:pt x="152" y="679"/>
                      </a:lnTo>
                      <a:lnTo>
                        <a:pt x="152" y="681"/>
                      </a:lnTo>
                      <a:lnTo>
                        <a:pt x="150" y="684"/>
                      </a:lnTo>
                      <a:lnTo>
                        <a:pt x="150" y="688"/>
                      </a:lnTo>
                      <a:lnTo>
                        <a:pt x="146" y="694"/>
                      </a:lnTo>
                      <a:lnTo>
                        <a:pt x="145" y="701"/>
                      </a:lnTo>
                      <a:lnTo>
                        <a:pt x="143" y="709"/>
                      </a:lnTo>
                      <a:lnTo>
                        <a:pt x="139" y="717"/>
                      </a:lnTo>
                      <a:lnTo>
                        <a:pt x="137" y="724"/>
                      </a:lnTo>
                      <a:lnTo>
                        <a:pt x="135" y="732"/>
                      </a:lnTo>
                      <a:lnTo>
                        <a:pt x="131" y="739"/>
                      </a:lnTo>
                      <a:lnTo>
                        <a:pt x="129" y="747"/>
                      </a:lnTo>
                      <a:lnTo>
                        <a:pt x="126" y="755"/>
                      </a:lnTo>
                      <a:lnTo>
                        <a:pt x="124" y="760"/>
                      </a:lnTo>
                      <a:lnTo>
                        <a:pt x="122" y="768"/>
                      </a:lnTo>
                      <a:lnTo>
                        <a:pt x="120" y="776"/>
                      </a:lnTo>
                      <a:lnTo>
                        <a:pt x="116" y="781"/>
                      </a:lnTo>
                      <a:lnTo>
                        <a:pt x="114" y="789"/>
                      </a:lnTo>
                      <a:lnTo>
                        <a:pt x="112" y="796"/>
                      </a:lnTo>
                      <a:lnTo>
                        <a:pt x="110" y="804"/>
                      </a:lnTo>
                      <a:lnTo>
                        <a:pt x="107" y="812"/>
                      </a:lnTo>
                      <a:lnTo>
                        <a:pt x="107" y="817"/>
                      </a:lnTo>
                      <a:lnTo>
                        <a:pt x="103" y="823"/>
                      </a:lnTo>
                      <a:lnTo>
                        <a:pt x="101" y="831"/>
                      </a:lnTo>
                      <a:lnTo>
                        <a:pt x="97" y="836"/>
                      </a:lnTo>
                      <a:lnTo>
                        <a:pt x="97" y="844"/>
                      </a:lnTo>
                      <a:lnTo>
                        <a:pt x="93" y="852"/>
                      </a:lnTo>
                      <a:lnTo>
                        <a:pt x="93" y="857"/>
                      </a:lnTo>
                      <a:lnTo>
                        <a:pt x="89" y="865"/>
                      </a:lnTo>
                      <a:lnTo>
                        <a:pt x="88" y="871"/>
                      </a:lnTo>
                      <a:lnTo>
                        <a:pt x="86" y="878"/>
                      </a:lnTo>
                      <a:lnTo>
                        <a:pt x="84" y="884"/>
                      </a:lnTo>
                      <a:lnTo>
                        <a:pt x="82" y="892"/>
                      </a:lnTo>
                      <a:lnTo>
                        <a:pt x="80" y="899"/>
                      </a:lnTo>
                      <a:lnTo>
                        <a:pt x="78" y="907"/>
                      </a:lnTo>
                      <a:lnTo>
                        <a:pt x="74" y="912"/>
                      </a:lnTo>
                      <a:lnTo>
                        <a:pt x="72" y="920"/>
                      </a:lnTo>
                      <a:lnTo>
                        <a:pt x="72" y="926"/>
                      </a:lnTo>
                      <a:lnTo>
                        <a:pt x="68" y="931"/>
                      </a:lnTo>
                      <a:lnTo>
                        <a:pt x="67" y="939"/>
                      </a:lnTo>
                      <a:lnTo>
                        <a:pt x="65" y="945"/>
                      </a:lnTo>
                      <a:lnTo>
                        <a:pt x="63" y="952"/>
                      </a:lnTo>
                      <a:lnTo>
                        <a:pt x="59" y="958"/>
                      </a:lnTo>
                      <a:lnTo>
                        <a:pt x="57" y="966"/>
                      </a:lnTo>
                      <a:lnTo>
                        <a:pt x="55" y="971"/>
                      </a:lnTo>
                      <a:lnTo>
                        <a:pt x="53" y="979"/>
                      </a:lnTo>
                      <a:lnTo>
                        <a:pt x="51" y="987"/>
                      </a:lnTo>
                      <a:lnTo>
                        <a:pt x="49" y="994"/>
                      </a:lnTo>
                      <a:lnTo>
                        <a:pt x="48" y="1000"/>
                      </a:lnTo>
                      <a:lnTo>
                        <a:pt x="46" y="1007"/>
                      </a:lnTo>
                      <a:lnTo>
                        <a:pt x="44" y="1015"/>
                      </a:lnTo>
                      <a:lnTo>
                        <a:pt x="42" y="1021"/>
                      </a:lnTo>
                      <a:lnTo>
                        <a:pt x="42" y="1028"/>
                      </a:lnTo>
                      <a:lnTo>
                        <a:pt x="38" y="1036"/>
                      </a:lnTo>
                      <a:lnTo>
                        <a:pt x="36" y="1042"/>
                      </a:lnTo>
                      <a:lnTo>
                        <a:pt x="36" y="1049"/>
                      </a:lnTo>
                      <a:lnTo>
                        <a:pt x="34" y="1057"/>
                      </a:lnTo>
                      <a:lnTo>
                        <a:pt x="30" y="1063"/>
                      </a:lnTo>
                      <a:lnTo>
                        <a:pt x="30" y="1070"/>
                      </a:lnTo>
                      <a:lnTo>
                        <a:pt x="29" y="1078"/>
                      </a:lnTo>
                      <a:lnTo>
                        <a:pt x="27" y="1085"/>
                      </a:lnTo>
                      <a:lnTo>
                        <a:pt x="25" y="1093"/>
                      </a:lnTo>
                      <a:lnTo>
                        <a:pt x="23" y="1101"/>
                      </a:lnTo>
                      <a:lnTo>
                        <a:pt x="21" y="1108"/>
                      </a:lnTo>
                      <a:lnTo>
                        <a:pt x="19" y="1116"/>
                      </a:lnTo>
                      <a:lnTo>
                        <a:pt x="17" y="1123"/>
                      </a:lnTo>
                      <a:lnTo>
                        <a:pt x="17" y="1131"/>
                      </a:lnTo>
                      <a:lnTo>
                        <a:pt x="15" y="1139"/>
                      </a:lnTo>
                      <a:lnTo>
                        <a:pt x="13" y="1148"/>
                      </a:lnTo>
                      <a:lnTo>
                        <a:pt x="10" y="1158"/>
                      </a:lnTo>
                      <a:lnTo>
                        <a:pt x="10" y="1165"/>
                      </a:lnTo>
                      <a:lnTo>
                        <a:pt x="8" y="1175"/>
                      </a:lnTo>
                      <a:lnTo>
                        <a:pt x="6" y="1182"/>
                      </a:lnTo>
                      <a:lnTo>
                        <a:pt x="6" y="1192"/>
                      </a:lnTo>
                      <a:lnTo>
                        <a:pt x="4" y="1201"/>
                      </a:lnTo>
                      <a:lnTo>
                        <a:pt x="2" y="1211"/>
                      </a:lnTo>
                      <a:lnTo>
                        <a:pt x="2" y="1218"/>
                      </a:lnTo>
                      <a:lnTo>
                        <a:pt x="0" y="1230"/>
                      </a:lnTo>
                      <a:lnTo>
                        <a:pt x="0" y="1237"/>
                      </a:lnTo>
                      <a:lnTo>
                        <a:pt x="0" y="1247"/>
                      </a:lnTo>
                      <a:lnTo>
                        <a:pt x="0" y="1257"/>
                      </a:lnTo>
                      <a:lnTo>
                        <a:pt x="0" y="1268"/>
                      </a:lnTo>
                      <a:lnTo>
                        <a:pt x="0" y="1276"/>
                      </a:lnTo>
                      <a:lnTo>
                        <a:pt x="0" y="1285"/>
                      </a:lnTo>
                      <a:lnTo>
                        <a:pt x="0" y="1296"/>
                      </a:lnTo>
                      <a:lnTo>
                        <a:pt x="0" y="1304"/>
                      </a:lnTo>
                      <a:lnTo>
                        <a:pt x="0" y="1314"/>
                      </a:lnTo>
                      <a:lnTo>
                        <a:pt x="0" y="1323"/>
                      </a:lnTo>
                      <a:lnTo>
                        <a:pt x="0" y="1333"/>
                      </a:lnTo>
                      <a:lnTo>
                        <a:pt x="2" y="1342"/>
                      </a:lnTo>
                      <a:lnTo>
                        <a:pt x="2" y="1352"/>
                      </a:lnTo>
                      <a:lnTo>
                        <a:pt x="4" y="1363"/>
                      </a:lnTo>
                      <a:lnTo>
                        <a:pt x="4" y="1371"/>
                      </a:lnTo>
                      <a:lnTo>
                        <a:pt x="6" y="1382"/>
                      </a:lnTo>
                      <a:lnTo>
                        <a:pt x="8" y="1390"/>
                      </a:lnTo>
                      <a:lnTo>
                        <a:pt x="8" y="1401"/>
                      </a:lnTo>
                      <a:lnTo>
                        <a:pt x="10" y="1409"/>
                      </a:lnTo>
                      <a:lnTo>
                        <a:pt x="11" y="1420"/>
                      </a:lnTo>
                      <a:lnTo>
                        <a:pt x="13" y="1429"/>
                      </a:lnTo>
                      <a:lnTo>
                        <a:pt x="15" y="1439"/>
                      </a:lnTo>
                      <a:lnTo>
                        <a:pt x="17" y="1448"/>
                      </a:lnTo>
                      <a:lnTo>
                        <a:pt x="19" y="1458"/>
                      </a:lnTo>
                      <a:lnTo>
                        <a:pt x="21" y="1468"/>
                      </a:lnTo>
                      <a:lnTo>
                        <a:pt x="23" y="1477"/>
                      </a:lnTo>
                      <a:lnTo>
                        <a:pt x="27" y="1487"/>
                      </a:lnTo>
                      <a:lnTo>
                        <a:pt x="29" y="1496"/>
                      </a:lnTo>
                      <a:lnTo>
                        <a:pt x="30" y="1506"/>
                      </a:lnTo>
                      <a:lnTo>
                        <a:pt x="34" y="1515"/>
                      </a:lnTo>
                      <a:lnTo>
                        <a:pt x="36" y="1525"/>
                      </a:lnTo>
                      <a:lnTo>
                        <a:pt x="38" y="1534"/>
                      </a:lnTo>
                      <a:lnTo>
                        <a:pt x="42" y="1544"/>
                      </a:lnTo>
                      <a:lnTo>
                        <a:pt x="46" y="1553"/>
                      </a:lnTo>
                      <a:lnTo>
                        <a:pt x="48" y="1561"/>
                      </a:lnTo>
                      <a:lnTo>
                        <a:pt x="51" y="1572"/>
                      </a:lnTo>
                      <a:lnTo>
                        <a:pt x="55" y="1580"/>
                      </a:lnTo>
                      <a:lnTo>
                        <a:pt x="59" y="1589"/>
                      </a:lnTo>
                      <a:lnTo>
                        <a:pt x="63" y="1599"/>
                      </a:lnTo>
                      <a:lnTo>
                        <a:pt x="67" y="1608"/>
                      </a:lnTo>
                      <a:lnTo>
                        <a:pt x="68" y="1616"/>
                      </a:lnTo>
                      <a:lnTo>
                        <a:pt x="74" y="1627"/>
                      </a:lnTo>
                      <a:lnTo>
                        <a:pt x="78" y="1635"/>
                      </a:lnTo>
                      <a:lnTo>
                        <a:pt x="82" y="1644"/>
                      </a:lnTo>
                      <a:lnTo>
                        <a:pt x="86" y="1652"/>
                      </a:lnTo>
                      <a:lnTo>
                        <a:pt x="89" y="1661"/>
                      </a:lnTo>
                      <a:lnTo>
                        <a:pt x="95" y="1669"/>
                      </a:lnTo>
                      <a:lnTo>
                        <a:pt x="99" y="1679"/>
                      </a:lnTo>
                      <a:lnTo>
                        <a:pt x="103" y="1688"/>
                      </a:lnTo>
                      <a:lnTo>
                        <a:pt x="108" y="1696"/>
                      </a:lnTo>
                      <a:lnTo>
                        <a:pt x="114" y="1703"/>
                      </a:lnTo>
                      <a:lnTo>
                        <a:pt x="118" y="1713"/>
                      </a:lnTo>
                      <a:lnTo>
                        <a:pt x="124" y="1722"/>
                      </a:lnTo>
                      <a:lnTo>
                        <a:pt x="127" y="1732"/>
                      </a:lnTo>
                      <a:lnTo>
                        <a:pt x="131" y="1736"/>
                      </a:lnTo>
                      <a:lnTo>
                        <a:pt x="135" y="1739"/>
                      </a:lnTo>
                      <a:lnTo>
                        <a:pt x="135" y="1743"/>
                      </a:lnTo>
                      <a:lnTo>
                        <a:pt x="137" y="1745"/>
                      </a:lnTo>
                      <a:lnTo>
                        <a:pt x="139" y="1747"/>
                      </a:lnTo>
                      <a:lnTo>
                        <a:pt x="141" y="1751"/>
                      </a:lnTo>
                      <a:lnTo>
                        <a:pt x="143" y="1755"/>
                      </a:lnTo>
                      <a:lnTo>
                        <a:pt x="143" y="1756"/>
                      </a:lnTo>
                      <a:lnTo>
                        <a:pt x="145" y="1760"/>
                      </a:lnTo>
                      <a:lnTo>
                        <a:pt x="146" y="1762"/>
                      </a:lnTo>
                      <a:lnTo>
                        <a:pt x="148" y="1766"/>
                      </a:lnTo>
                      <a:lnTo>
                        <a:pt x="150" y="1768"/>
                      </a:lnTo>
                      <a:lnTo>
                        <a:pt x="152" y="1770"/>
                      </a:lnTo>
                      <a:lnTo>
                        <a:pt x="156" y="1774"/>
                      </a:lnTo>
                      <a:lnTo>
                        <a:pt x="158" y="1777"/>
                      </a:lnTo>
                      <a:lnTo>
                        <a:pt x="160" y="1779"/>
                      </a:lnTo>
                      <a:lnTo>
                        <a:pt x="160" y="1783"/>
                      </a:lnTo>
                      <a:lnTo>
                        <a:pt x="162" y="1787"/>
                      </a:lnTo>
                      <a:lnTo>
                        <a:pt x="166" y="1789"/>
                      </a:lnTo>
                      <a:lnTo>
                        <a:pt x="166" y="1791"/>
                      </a:lnTo>
                      <a:lnTo>
                        <a:pt x="167" y="1794"/>
                      </a:lnTo>
                      <a:lnTo>
                        <a:pt x="169" y="1796"/>
                      </a:lnTo>
                      <a:lnTo>
                        <a:pt x="171" y="1800"/>
                      </a:lnTo>
                      <a:lnTo>
                        <a:pt x="173" y="1802"/>
                      </a:lnTo>
                      <a:lnTo>
                        <a:pt x="175" y="1806"/>
                      </a:lnTo>
                      <a:lnTo>
                        <a:pt x="177" y="1808"/>
                      </a:lnTo>
                      <a:lnTo>
                        <a:pt x="179" y="1812"/>
                      </a:lnTo>
                      <a:lnTo>
                        <a:pt x="181" y="1815"/>
                      </a:lnTo>
                      <a:lnTo>
                        <a:pt x="183" y="1817"/>
                      </a:lnTo>
                      <a:lnTo>
                        <a:pt x="185" y="1821"/>
                      </a:lnTo>
                      <a:lnTo>
                        <a:pt x="188" y="1827"/>
                      </a:lnTo>
                      <a:lnTo>
                        <a:pt x="190" y="1831"/>
                      </a:lnTo>
                      <a:lnTo>
                        <a:pt x="194" y="1836"/>
                      </a:lnTo>
                      <a:lnTo>
                        <a:pt x="198" y="1842"/>
                      </a:lnTo>
                      <a:lnTo>
                        <a:pt x="200" y="1846"/>
                      </a:lnTo>
                      <a:lnTo>
                        <a:pt x="204" y="1850"/>
                      </a:lnTo>
                      <a:lnTo>
                        <a:pt x="205" y="1853"/>
                      </a:lnTo>
                      <a:lnTo>
                        <a:pt x="207" y="1859"/>
                      </a:lnTo>
                      <a:lnTo>
                        <a:pt x="209" y="1861"/>
                      </a:lnTo>
                      <a:lnTo>
                        <a:pt x="211" y="1863"/>
                      </a:lnTo>
                      <a:lnTo>
                        <a:pt x="213" y="1867"/>
                      </a:lnTo>
                      <a:lnTo>
                        <a:pt x="215" y="1869"/>
                      </a:lnTo>
                      <a:lnTo>
                        <a:pt x="217" y="1870"/>
                      </a:lnTo>
                      <a:lnTo>
                        <a:pt x="219" y="1874"/>
                      </a:lnTo>
                      <a:lnTo>
                        <a:pt x="141" y="2163"/>
                      </a:lnTo>
                      <a:lnTo>
                        <a:pt x="143" y="2165"/>
                      </a:lnTo>
                      <a:lnTo>
                        <a:pt x="146" y="2165"/>
                      </a:lnTo>
                      <a:lnTo>
                        <a:pt x="150" y="2167"/>
                      </a:lnTo>
                      <a:lnTo>
                        <a:pt x="152" y="2167"/>
                      </a:lnTo>
                      <a:lnTo>
                        <a:pt x="154" y="2167"/>
                      </a:lnTo>
                      <a:lnTo>
                        <a:pt x="158" y="2167"/>
                      </a:lnTo>
                      <a:lnTo>
                        <a:pt x="162" y="2171"/>
                      </a:lnTo>
                      <a:lnTo>
                        <a:pt x="166" y="2171"/>
                      </a:lnTo>
                      <a:lnTo>
                        <a:pt x="167" y="2173"/>
                      </a:lnTo>
                      <a:lnTo>
                        <a:pt x="171" y="2173"/>
                      </a:lnTo>
                      <a:lnTo>
                        <a:pt x="175" y="2175"/>
                      </a:lnTo>
                      <a:lnTo>
                        <a:pt x="181" y="2175"/>
                      </a:lnTo>
                      <a:lnTo>
                        <a:pt x="185" y="2175"/>
                      </a:lnTo>
                      <a:lnTo>
                        <a:pt x="188" y="2177"/>
                      </a:lnTo>
                      <a:lnTo>
                        <a:pt x="194" y="2180"/>
                      </a:lnTo>
                      <a:lnTo>
                        <a:pt x="198" y="2180"/>
                      </a:lnTo>
                      <a:lnTo>
                        <a:pt x="204" y="2182"/>
                      </a:lnTo>
                      <a:lnTo>
                        <a:pt x="209" y="2182"/>
                      </a:lnTo>
                      <a:lnTo>
                        <a:pt x="215" y="2184"/>
                      </a:lnTo>
                      <a:lnTo>
                        <a:pt x="219" y="2186"/>
                      </a:lnTo>
                      <a:lnTo>
                        <a:pt x="224" y="2188"/>
                      </a:lnTo>
                      <a:lnTo>
                        <a:pt x="232" y="2188"/>
                      </a:lnTo>
                      <a:lnTo>
                        <a:pt x="238" y="2190"/>
                      </a:lnTo>
                      <a:lnTo>
                        <a:pt x="243" y="2190"/>
                      </a:lnTo>
                      <a:lnTo>
                        <a:pt x="251" y="2192"/>
                      </a:lnTo>
                      <a:lnTo>
                        <a:pt x="257" y="2194"/>
                      </a:lnTo>
                      <a:lnTo>
                        <a:pt x="264" y="2194"/>
                      </a:lnTo>
                      <a:lnTo>
                        <a:pt x="270" y="2196"/>
                      </a:lnTo>
                      <a:lnTo>
                        <a:pt x="276" y="2196"/>
                      </a:lnTo>
                      <a:lnTo>
                        <a:pt x="283" y="2197"/>
                      </a:lnTo>
                      <a:lnTo>
                        <a:pt x="291" y="2199"/>
                      </a:lnTo>
                      <a:lnTo>
                        <a:pt x="297" y="2199"/>
                      </a:lnTo>
                      <a:lnTo>
                        <a:pt x="304" y="2199"/>
                      </a:lnTo>
                      <a:lnTo>
                        <a:pt x="312" y="2199"/>
                      </a:lnTo>
                      <a:lnTo>
                        <a:pt x="320" y="2201"/>
                      </a:lnTo>
                      <a:lnTo>
                        <a:pt x="325" y="2201"/>
                      </a:lnTo>
                      <a:lnTo>
                        <a:pt x="333" y="2201"/>
                      </a:lnTo>
                      <a:lnTo>
                        <a:pt x="341" y="2201"/>
                      </a:lnTo>
                      <a:lnTo>
                        <a:pt x="348" y="2201"/>
                      </a:lnTo>
                      <a:lnTo>
                        <a:pt x="356" y="2201"/>
                      </a:lnTo>
                      <a:lnTo>
                        <a:pt x="363" y="2201"/>
                      </a:lnTo>
                      <a:lnTo>
                        <a:pt x="371" y="2201"/>
                      </a:lnTo>
                      <a:lnTo>
                        <a:pt x="379" y="2201"/>
                      </a:lnTo>
                      <a:lnTo>
                        <a:pt x="386" y="2201"/>
                      </a:lnTo>
                      <a:lnTo>
                        <a:pt x="394" y="2201"/>
                      </a:lnTo>
                      <a:lnTo>
                        <a:pt x="401" y="2199"/>
                      </a:lnTo>
                      <a:lnTo>
                        <a:pt x="409" y="2199"/>
                      </a:lnTo>
                      <a:lnTo>
                        <a:pt x="415" y="2197"/>
                      </a:lnTo>
                      <a:lnTo>
                        <a:pt x="422" y="2196"/>
                      </a:lnTo>
                      <a:lnTo>
                        <a:pt x="432" y="2196"/>
                      </a:lnTo>
                      <a:lnTo>
                        <a:pt x="439" y="2194"/>
                      </a:lnTo>
                      <a:lnTo>
                        <a:pt x="447" y="2192"/>
                      </a:lnTo>
                      <a:lnTo>
                        <a:pt x="455" y="2190"/>
                      </a:lnTo>
                      <a:lnTo>
                        <a:pt x="462" y="2188"/>
                      </a:lnTo>
                      <a:lnTo>
                        <a:pt x="470" y="2188"/>
                      </a:lnTo>
                      <a:lnTo>
                        <a:pt x="476" y="2184"/>
                      </a:lnTo>
                      <a:lnTo>
                        <a:pt x="483" y="2182"/>
                      </a:lnTo>
                      <a:lnTo>
                        <a:pt x="491" y="2180"/>
                      </a:lnTo>
                      <a:lnTo>
                        <a:pt x="498" y="2175"/>
                      </a:lnTo>
                      <a:lnTo>
                        <a:pt x="504" y="2173"/>
                      </a:lnTo>
                      <a:lnTo>
                        <a:pt x="512" y="2169"/>
                      </a:lnTo>
                      <a:lnTo>
                        <a:pt x="517" y="2165"/>
                      </a:lnTo>
                      <a:lnTo>
                        <a:pt x="525" y="2161"/>
                      </a:lnTo>
                      <a:lnTo>
                        <a:pt x="531" y="2158"/>
                      </a:lnTo>
                      <a:lnTo>
                        <a:pt x="536" y="2154"/>
                      </a:lnTo>
                      <a:lnTo>
                        <a:pt x="542" y="2150"/>
                      </a:lnTo>
                      <a:lnTo>
                        <a:pt x="550" y="2146"/>
                      </a:lnTo>
                      <a:lnTo>
                        <a:pt x="555" y="2142"/>
                      </a:lnTo>
                      <a:lnTo>
                        <a:pt x="559" y="2137"/>
                      </a:lnTo>
                      <a:lnTo>
                        <a:pt x="565" y="2133"/>
                      </a:lnTo>
                      <a:lnTo>
                        <a:pt x="571" y="2129"/>
                      </a:lnTo>
                      <a:lnTo>
                        <a:pt x="576" y="2123"/>
                      </a:lnTo>
                      <a:lnTo>
                        <a:pt x="582" y="2120"/>
                      </a:lnTo>
                      <a:lnTo>
                        <a:pt x="588" y="2114"/>
                      </a:lnTo>
                      <a:lnTo>
                        <a:pt x="592" y="2110"/>
                      </a:lnTo>
                      <a:lnTo>
                        <a:pt x="595" y="2106"/>
                      </a:lnTo>
                      <a:lnTo>
                        <a:pt x="601" y="2101"/>
                      </a:lnTo>
                      <a:lnTo>
                        <a:pt x="605" y="2095"/>
                      </a:lnTo>
                      <a:lnTo>
                        <a:pt x="611" y="2091"/>
                      </a:lnTo>
                      <a:lnTo>
                        <a:pt x="614" y="2085"/>
                      </a:lnTo>
                      <a:lnTo>
                        <a:pt x="618" y="2080"/>
                      </a:lnTo>
                      <a:lnTo>
                        <a:pt x="624" y="2076"/>
                      </a:lnTo>
                      <a:lnTo>
                        <a:pt x="628" y="2070"/>
                      </a:lnTo>
                      <a:lnTo>
                        <a:pt x="632" y="2064"/>
                      </a:lnTo>
                      <a:lnTo>
                        <a:pt x="635" y="2059"/>
                      </a:lnTo>
                      <a:lnTo>
                        <a:pt x="637" y="2055"/>
                      </a:lnTo>
                      <a:lnTo>
                        <a:pt x="643" y="2049"/>
                      </a:lnTo>
                      <a:lnTo>
                        <a:pt x="645" y="2043"/>
                      </a:lnTo>
                      <a:lnTo>
                        <a:pt x="649" y="2040"/>
                      </a:lnTo>
                      <a:lnTo>
                        <a:pt x="652" y="2034"/>
                      </a:lnTo>
                      <a:lnTo>
                        <a:pt x="654" y="2030"/>
                      </a:lnTo>
                      <a:lnTo>
                        <a:pt x="658" y="2024"/>
                      </a:lnTo>
                      <a:lnTo>
                        <a:pt x="660" y="2021"/>
                      </a:lnTo>
                      <a:lnTo>
                        <a:pt x="664" y="2015"/>
                      </a:lnTo>
                      <a:lnTo>
                        <a:pt x="666" y="2011"/>
                      </a:lnTo>
                      <a:lnTo>
                        <a:pt x="668" y="2005"/>
                      </a:lnTo>
                      <a:lnTo>
                        <a:pt x="672" y="2002"/>
                      </a:lnTo>
                      <a:lnTo>
                        <a:pt x="673" y="1998"/>
                      </a:lnTo>
                      <a:lnTo>
                        <a:pt x="675" y="1992"/>
                      </a:lnTo>
                      <a:lnTo>
                        <a:pt x="677" y="1986"/>
                      </a:lnTo>
                      <a:lnTo>
                        <a:pt x="679" y="1983"/>
                      </a:lnTo>
                      <a:lnTo>
                        <a:pt x="681" y="1979"/>
                      </a:lnTo>
                      <a:lnTo>
                        <a:pt x="683" y="1975"/>
                      </a:lnTo>
                      <a:lnTo>
                        <a:pt x="685" y="1971"/>
                      </a:lnTo>
                      <a:lnTo>
                        <a:pt x="687" y="1969"/>
                      </a:lnTo>
                      <a:lnTo>
                        <a:pt x="689" y="1964"/>
                      </a:lnTo>
                      <a:lnTo>
                        <a:pt x="691" y="1962"/>
                      </a:lnTo>
                      <a:lnTo>
                        <a:pt x="692" y="1958"/>
                      </a:lnTo>
                      <a:lnTo>
                        <a:pt x="692" y="1954"/>
                      </a:lnTo>
                      <a:lnTo>
                        <a:pt x="692" y="1952"/>
                      </a:lnTo>
                      <a:lnTo>
                        <a:pt x="694" y="1950"/>
                      </a:lnTo>
                      <a:lnTo>
                        <a:pt x="696" y="1945"/>
                      </a:lnTo>
                      <a:lnTo>
                        <a:pt x="698" y="1941"/>
                      </a:lnTo>
                      <a:lnTo>
                        <a:pt x="700" y="1937"/>
                      </a:lnTo>
                      <a:lnTo>
                        <a:pt x="700" y="1935"/>
                      </a:lnTo>
                      <a:lnTo>
                        <a:pt x="700" y="1933"/>
                      </a:lnTo>
                      <a:lnTo>
                        <a:pt x="702" y="1933"/>
                      </a:lnTo>
                      <a:lnTo>
                        <a:pt x="740" y="1943"/>
                      </a:lnTo>
                      <a:lnTo>
                        <a:pt x="740" y="1943"/>
                      </a:lnTo>
                      <a:lnTo>
                        <a:pt x="738" y="1945"/>
                      </a:lnTo>
                      <a:lnTo>
                        <a:pt x="738" y="1947"/>
                      </a:lnTo>
                      <a:lnTo>
                        <a:pt x="738" y="1950"/>
                      </a:lnTo>
                      <a:lnTo>
                        <a:pt x="738" y="1954"/>
                      </a:lnTo>
                      <a:lnTo>
                        <a:pt x="738" y="1958"/>
                      </a:lnTo>
                      <a:lnTo>
                        <a:pt x="736" y="1962"/>
                      </a:lnTo>
                      <a:lnTo>
                        <a:pt x="736" y="1964"/>
                      </a:lnTo>
                      <a:lnTo>
                        <a:pt x="736" y="1967"/>
                      </a:lnTo>
                      <a:lnTo>
                        <a:pt x="736" y="1971"/>
                      </a:lnTo>
                      <a:lnTo>
                        <a:pt x="736" y="1975"/>
                      </a:lnTo>
                      <a:lnTo>
                        <a:pt x="736" y="1979"/>
                      </a:lnTo>
                      <a:lnTo>
                        <a:pt x="736" y="1983"/>
                      </a:lnTo>
                      <a:lnTo>
                        <a:pt x="736" y="1985"/>
                      </a:lnTo>
                      <a:lnTo>
                        <a:pt x="736" y="1990"/>
                      </a:lnTo>
                      <a:lnTo>
                        <a:pt x="736" y="1994"/>
                      </a:lnTo>
                      <a:lnTo>
                        <a:pt x="736" y="1998"/>
                      </a:lnTo>
                      <a:lnTo>
                        <a:pt x="736" y="2004"/>
                      </a:lnTo>
                      <a:lnTo>
                        <a:pt x="736" y="2007"/>
                      </a:lnTo>
                      <a:lnTo>
                        <a:pt x="736" y="2013"/>
                      </a:lnTo>
                      <a:lnTo>
                        <a:pt x="736" y="2015"/>
                      </a:lnTo>
                      <a:lnTo>
                        <a:pt x="736" y="2021"/>
                      </a:lnTo>
                      <a:lnTo>
                        <a:pt x="736" y="2026"/>
                      </a:lnTo>
                      <a:lnTo>
                        <a:pt x="736" y="2030"/>
                      </a:lnTo>
                      <a:lnTo>
                        <a:pt x="736" y="2036"/>
                      </a:lnTo>
                      <a:lnTo>
                        <a:pt x="736" y="2042"/>
                      </a:lnTo>
                      <a:lnTo>
                        <a:pt x="736" y="2047"/>
                      </a:lnTo>
                      <a:lnTo>
                        <a:pt x="738" y="2051"/>
                      </a:lnTo>
                      <a:lnTo>
                        <a:pt x="738" y="2057"/>
                      </a:lnTo>
                      <a:lnTo>
                        <a:pt x="738" y="2062"/>
                      </a:lnTo>
                      <a:lnTo>
                        <a:pt x="740" y="2066"/>
                      </a:lnTo>
                      <a:lnTo>
                        <a:pt x="740" y="2072"/>
                      </a:lnTo>
                      <a:lnTo>
                        <a:pt x="742" y="2078"/>
                      </a:lnTo>
                      <a:lnTo>
                        <a:pt x="744" y="2083"/>
                      </a:lnTo>
                      <a:lnTo>
                        <a:pt x="744" y="2091"/>
                      </a:lnTo>
                      <a:lnTo>
                        <a:pt x="746" y="2095"/>
                      </a:lnTo>
                      <a:lnTo>
                        <a:pt x="748" y="2101"/>
                      </a:lnTo>
                      <a:lnTo>
                        <a:pt x="748" y="2106"/>
                      </a:lnTo>
                      <a:lnTo>
                        <a:pt x="751" y="2110"/>
                      </a:lnTo>
                      <a:lnTo>
                        <a:pt x="753" y="2118"/>
                      </a:lnTo>
                      <a:lnTo>
                        <a:pt x="753" y="2123"/>
                      </a:lnTo>
                      <a:lnTo>
                        <a:pt x="757" y="2129"/>
                      </a:lnTo>
                      <a:lnTo>
                        <a:pt x="759" y="2135"/>
                      </a:lnTo>
                      <a:lnTo>
                        <a:pt x="761" y="2139"/>
                      </a:lnTo>
                      <a:lnTo>
                        <a:pt x="765" y="2144"/>
                      </a:lnTo>
                      <a:lnTo>
                        <a:pt x="767" y="2150"/>
                      </a:lnTo>
                      <a:lnTo>
                        <a:pt x="769" y="2156"/>
                      </a:lnTo>
                      <a:lnTo>
                        <a:pt x="772" y="2159"/>
                      </a:lnTo>
                      <a:lnTo>
                        <a:pt x="776" y="2165"/>
                      </a:lnTo>
                      <a:lnTo>
                        <a:pt x="780" y="2171"/>
                      </a:lnTo>
                      <a:lnTo>
                        <a:pt x="782" y="2175"/>
                      </a:lnTo>
                      <a:lnTo>
                        <a:pt x="786" y="2180"/>
                      </a:lnTo>
                      <a:lnTo>
                        <a:pt x="789" y="2186"/>
                      </a:lnTo>
                      <a:lnTo>
                        <a:pt x="795" y="2190"/>
                      </a:lnTo>
                      <a:lnTo>
                        <a:pt x="799" y="2196"/>
                      </a:lnTo>
                      <a:lnTo>
                        <a:pt x="805" y="2201"/>
                      </a:lnTo>
                      <a:lnTo>
                        <a:pt x="808" y="2205"/>
                      </a:lnTo>
                      <a:lnTo>
                        <a:pt x="814" y="2209"/>
                      </a:lnTo>
                      <a:lnTo>
                        <a:pt x="818" y="2213"/>
                      </a:lnTo>
                      <a:lnTo>
                        <a:pt x="824" y="2216"/>
                      </a:lnTo>
                      <a:lnTo>
                        <a:pt x="828" y="2222"/>
                      </a:lnTo>
                      <a:lnTo>
                        <a:pt x="833" y="2224"/>
                      </a:lnTo>
                      <a:lnTo>
                        <a:pt x="839" y="2228"/>
                      </a:lnTo>
                      <a:lnTo>
                        <a:pt x="845" y="2232"/>
                      </a:lnTo>
                      <a:lnTo>
                        <a:pt x="848" y="2235"/>
                      </a:lnTo>
                      <a:lnTo>
                        <a:pt x="854" y="2239"/>
                      </a:lnTo>
                      <a:lnTo>
                        <a:pt x="858" y="2243"/>
                      </a:lnTo>
                      <a:lnTo>
                        <a:pt x="864" y="2245"/>
                      </a:lnTo>
                      <a:lnTo>
                        <a:pt x="867" y="2249"/>
                      </a:lnTo>
                      <a:lnTo>
                        <a:pt x="873" y="2253"/>
                      </a:lnTo>
                      <a:lnTo>
                        <a:pt x="877" y="2256"/>
                      </a:lnTo>
                      <a:lnTo>
                        <a:pt x="883" y="2258"/>
                      </a:lnTo>
                      <a:lnTo>
                        <a:pt x="890" y="2260"/>
                      </a:lnTo>
                      <a:lnTo>
                        <a:pt x="896" y="2264"/>
                      </a:lnTo>
                      <a:lnTo>
                        <a:pt x="900" y="2266"/>
                      </a:lnTo>
                      <a:lnTo>
                        <a:pt x="904" y="2268"/>
                      </a:lnTo>
                      <a:lnTo>
                        <a:pt x="907" y="2270"/>
                      </a:lnTo>
                      <a:lnTo>
                        <a:pt x="913" y="2273"/>
                      </a:lnTo>
                      <a:lnTo>
                        <a:pt x="919" y="2275"/>
                      </a:lnTo>
                      <a:lnTo>
                        <a:pt x="925" y="2277"/>
                      </a:lnTo>
                      <a:lnTo>
                        <a:pt x="928" y="2279"/>
                      </a:lnTo>
                      <a:lnTo>
                        <a:pt x="934" y="2281"/>
                      </a:lnTo>
                      <a:lnTo>
                        <a:pt x="938" y="2283"/>
                      </a:lnTo>
                      <a:lnTo>
                        <a:pt x="942" y="2285"/>
                      </a:lnTo>
                      <a:lnTo>
                        <a:pt x="947" y="2287"/>
                      </a:lnTo>
                      <a:lnTo>
                        <a:pt x="951" y="2289"/>
                      </a:lnTo>
                      <a:lnTo>
                        <a:pt x="955" y="2289"/>
                      </a:lnTo>
                      <a:lnTo>
                        <a:pt x="961" y="2291"/>
                      </a:lnTo>
                      <a:lnTo>
                        <a:pt x="964" y="2291"/>
                      </a:lnTo>
                      <a:lnTo>
                        <a:pt x="968" y="2294"/>
                      </a:lnTo>
                      <a:lnTo>
                        <a:pt x="972" y="2294"/>
                      </a:lnTo>
                      <a:lnTo>
                        <a:pt x="978" y="2294"/>
                      </a:lnTo>
                      <a:lnTo>
                        <a:pt x="982" y="2296"/>
                      </a:lnTo>
                      <a:lnTo>
                        <a:pt x="985" y="2296"/>
                      </a:lnTo>
                      <a:lnTo>
                        <a:pt x="989" y="2296"/>
                      </a:lnTo>
                      <a:lnTo>
                        <a:pt x="993" y="2298"/>
                      </a:lnTo>
                      <a:lnTo>
                        <a:pt x="997" y="2298"/>
                      </a:lnTo>
                      <a:lnTo>
                        <a:pt x="1001" y="2298"/>
                      </a:lnTo>
                      <a:lnTo>
                        <a:pt x="1004" y="2298"/>
                      </a:lnTo>
                      <a:lnTo>
                        <a:pt x="1008" y="2300"/>
                      </a:lnTo>
                      <a:lnTo>
                        <a:pt x="1010" y="2300"/>
                      </a:lnTo>
                      <a:lnTo>
                        <a:pt x="1014" y="2300"/>
                      </a:lnTo>
                      <a:lnTo>
                        <a:pt x="1016" y="2300"/>
                      </a:lnTo>
                      <a:lnTo>
                        <a:pt x="1020" y="2300"/>
                      </a:lnTo>
                      <a:lnTo>
                        <a:pt x="1022" y="2300"/>
                      </a:lnTo>
                      <a:lnTo>
                        <a:pt x="1025" y="2302"/>
                      </a:lnTo>
                      <a:lnTo>
                        <a:pt x="1029" y="2300"/>
                      </a:lnTo>
                      <a:lnTo>
                        <a:pt x="1035" y="2300"/>
                      </a:lnTo>
                      <a:lnTo>
                        <a:pt x="1039" y="2298"/>
                      </a:lnTo>
                      <a:lnTo>
                        <a:pt x="1042" y="2298"/>
                      </a:lnTo>
                      <a:lnTo>
                        <a:pt x="1044" y="2296"/>
                      </a:lnTo>
                      <a:lnTo>
                        <a:pt x="1048" y="2296"/>
                      </a:lnTo>
                      <a:lnTo>
                        <a:pt x="1048" y="2294"/>
                      </a:lnTo>
                      <a:lnTo>
                        <a:pt x="1050" y="2294"/>
                      </a:lnTo>
                      <a:lnTo>
                        <a:pt x="1246" y="1334"/>
                      </a:lnTo>
                      <a:lnTo>
                        <a:pt x="1246" y="1333"/>
                      </a:lnTo>
                      <a:lnTo>
                        <a:pt x="1248" y="1331"/>
                      </a:lnTo>
                      <a:lnTo>
                        <a:pt x="1250" y="1327"/>
                      </a:lnTo>
                      <a:lnTo>
                        <a:pt x="1252" y="1325"/>
                      </a:lnTo>
                      <a:lnTo>
                        <a:pt x="1252" y="1323"/>
                      </a:lnTo>
                      <a:lnTo>
                        <a:pt x="1254" y="1319"/>
                      </a:lnTo>
                      <a:lnTo>
                        <a:pt x="1256" y="1315"/>
                      </a:lnTo>
                      <a:lnTo>
                        <a:pt x="1259" y="1312"/>
                      </a:lnTo>
                      <a:lnTo>
                        <a:pt x="1259" y="1306"/>
                      </a:lnTo>
                      <a:lnTo>
                        <a:pt x="1263" y="1302"/>
                      </a:lnTo>
                      <a:lnTo>
                        <a:pt x="1265" y="1296"/>
                      </a:lnTo>
                      <a:lnTo>
                        <a:pt x="1269" y="1293"/>
                      </a:lnTo>
                      <a:lnTo>
                        <a:pt x="1271" y="1285"/>
                      </a:lnTo>
                      <a:lnTo>
                        <a:pt x="1275" y="1281"/>
                      </a:lnTo>
                      <a:lnTo>
                        <a:pt x="1276" y="1274"/>
                      </a:lnTo>
                      <a:lnTo>
                        <a:pt x="1280" y="1266"/>
                      </a:lnTo>
                      <a:lnTo>
                        <a:pt x="1284" y="1258"/>
                      </a:lnTo>
                      <a:lnTo>
                        <a:pt x="1288" y="1249"/>
                      </a:lnTo>
                      <a:lnTo>
                        <a:pt x="1290" y="1241"/>
                      </a:lnTo>
                      <a:lnTo>
                        <a:pt x="1294" y="1234"/>
                      </a:lnTo>
                      <a:lnTo>
                        <a:pt x="1297" y="1224"/>
                      </a:lnTo>
                      <a:lnTo>
                        <a:pt x="1301" y="1217"/>
                      </a:lnTo>
                      <a:lnTo>
                        <a:pt x="1305" y="1207"/>
                      </a:lnTo>
                      <a:lnTo>
                        <a:pt x="1309" y="1198"/>
                      </a:lnTo>
                      <a:lnTo>
                        <a:pt x="1313" y="1188"/>
                      </a:lnTo>
                      <a:lnTo>
                        <a:pt x="1316" y="1177"/>
                      </a:lnTo>
                      <a:lnTo>
                        <a:pt x="1320" y="1165"/>
                      </a:lnTo>
                      <a:lnTo>
                        <a:pt x="1324" y="1154"/>
                      </a:lnTo>
                      <a:lnTo>
                        <a:pt x="1330" y="1144"/>
                      </a:lnTo>
                      <a:lnTo>
                        <a:pt x="1334" y="1133"/>
                      </a:lnTo>
                      <a:lnTo>
                        <a:pt x="1337" y="1122"/>
                      </a:lnTo>
                      <a:lnTo>
                        <a:pt x="1339" y="1108"/>
                      </a:lnTo>
                      <a:lnTo>
                        <a:pt x="1345" y="1097"/>
                      </a:lnTo>
                      <a:lnTo>
                        <a:pt x="1349" y="1084"/>
                      </a:lnTo>
                      <a:lnTo>
                        <a:pt x="1353" y="1070"/>
                      </a:lnTo>
                      <a:lnTo>
                        <a:pt x="1354" y="1059"/>
                      </a:lnTo>
                      <a:lnTo>
                        <a:pt x="1358" y="1044"/>
                      </a:lnTo>
                      <a:lnTo>
                        <a:pt x="1362" y="1032"/>
                      </a:lnTo>
                      <a:lnTo>
                        <a:pt x="1366" y="1017"/>
                      </a:lnTo>
                      <a:lnTo>
                        <a:pt x="1370" y="1004"/>
                      </a:lnTo>
                      <a:lnTo>
                        <a:pt x="1372" y="988"/>
                      </a:lnTo>
                      <a:lnTo>
                        <a:pt x="1375" y="975"/>
                      </a:lnTo>
                      <a:lnTo>
                        <a:pt x="1377" y="960"/>
                      </a:lnTo>
                      <a:lnTo>
                        <a:pt x="1381" y="947"/>
                      </a:lnTo>
                      <a:lnTo>
                        <a:pt x="1383" y="931"/>
                      </a:lnTo>
                      <a:lnTo>
                        <a:pt x="1387" y="916"/>
                      </a:lnTo>
                      <a:lnTo>
                        <a:pt x="1389" y="901"/>
                      </a:lnTo>
                      <a:lnTo>
                        <a:pt x="1391" y="886"/>
                      </a:lnTo>
                      <a:lnTo>
                        <a:pt x="1392" y="871"/>
                      </a:lnTo>
                      <a:lnTo>
                        <a:pt x="1394" y="855"/>
                      </a:lnTo>
                      <a:lnTo>
                        <a:pt x="1396" y="838"/>
                      </a:lnTo>
                      <a:lnTo>
                        <a:pt x="1398" y="823"/>
                      </a:lnTo>
                      <a:lnTo>
                        <a:pt x="1398" y="806"/>
                      </a:lnTo>
                      <a:lnTo>
                        <a:pt x="1400" y="791"/>
                      </a:lnTo>
                      <a:lnTo>
                        <a:pt x="1402" y="774"/>
                      </a:lnTo>
                      <a:lnTo>
                        <a:pt x="1402" y="757"/>
                      </a:lnTo>
                      <a:lnTo>
                        <a:pt x="1402" y="741"/>
                      </a:lnTo>
                      <a:lnTo>
                        <a:pt x="1402" y="724"/>
                      </a:lnTo>
                      <a:lnTo>
                        <a:pt x="1402" y="705"/>
                      </a:lnTo>
                      <a:lnTo>
                        <a:pt x="1402" y="690"/>
                      </a:lnTo>
                      <a:lnTo>
                        <a:pt x="1400" y="673"/>
                      </a:lnTo>
                      <a:lnTo>
                        <a:pt x="1400" y="656"/>
                      </a:lnTo>
                      <a:lnTo>
                        <a:pt x="1398" y="654"/>
                      </a:lnTo>
                      <a:lnTo>
                        <a:pt x="1398" y="652"/>
                      </a:lnTo>
                      <a:lnTo>
                        <a:pt x="1398" y="648"/>
                      </a:lnTo>
                      <a:lnTo>
                        <a:pt x="1398" y="644"/>
                      </a:lnTo>
                      <a:lnTo>
                        <a:pt x="1398" y="643"/>
                      </a:lnTo>
                      <a:lnTo>
                        <a:pt x="1398" y="639"/>
                      </a:lnTo>
                      <a:lnTo>
                        <a:pt x="1396" y="637"/>
                      </a:lnTo>
                      <a:lnTo>
                        <a:pt x="1396" y="633"/>
                      </a:lnTo>
                      <a:lnTo>
                        <a:pt x="1396" y="631"/>
                      </a:lnTo>
                      <a:lnTo>
                        <a:pt x="1396" y="627"/>
                      </a:lnTo>
                      <a:lnTo>
                        <a:pt x="1396" y="623"/>
                      </a:lnTo>
                      <a:lnTo>
                        <a:pt x="1394" y="620"/>
                      </a:lnTo>
                      <a:lnTo>
                        <a:pt x="1394" y="618"/>
                      </a:lnTo>
                      <a:lnTo>
                        <a:pt x="1394" y="616"/>
                      </a:lnTo>
                      <a:lnTo>
                        <a:pt x="1392" y="612"/>
                      </a:lnTo>
                      <a:lnTo>
                        <a:pt x="1392" y="610"/>
                      </a:lnTo>
                      <a:lnTo>
                        <a:pt x="1392" y="608"/>
                      </a:lnTo>
                      <a:lnTo>
                        <a:pt x="1391" y="604"/>
                      </a:lnTo>
                      <a:lnTo>
                        <a:pt x="1391" y="603"/>
                      </a:lnTo>
                      <a:lnTo>
                        <a:pt x="1391" y="599"/>
                      </a:lnTo>
                      <a:lnTo>
                        <a:pt x="1389" y="597"/>
                      </a:lnTo>
                      <a:lnTo>
                        <a:pt x="1389" y="593"/>
                      </a:lnTo>
                      <a:lnTo>
                        <a:pt x="1389" y="589"/>
                      </a:lnTo>
                      <a:lnTo>
                        <a:pt x="1389" y="587"/>
                      </a:lnTo>
                      <a:lnTo>
                        <a:pt x="1387" y="585"/>
                      </a:lnTo>
                      <a:lnTo>
                        <a:pt x="1385" y="582"/>
                      </a:lnTo>
                      <a:lnTo>
                        <a:pt x="1385" y="580"/>
                      </a:lnTo>
                      <a:lnTo>
                        <a:pt x="1383" y="578"/>
                      </a:lnTo>
                      <a:lnTo>
                        <a:pt x="1383" y="572"/>
                      </a:lnTo>
                      <a:lnTo>
                        <a:pt x="1381" y="568"/>
                      </a:lnTo>
                      <a:lnTo>
                        <a:pt x="1377" y="563"/>
                      </a:lnTo>
                      <a:lnTo>
                        <a:pt x="1375" y="557"/>
                      </a:lnTo>
                      <a:lnTo>
                        <a:pt x="1373" y="553"/>
                      </a:lnTo>
                      <a:lnTo>
                        <a:pt x="1370" y="547"/>
                      </a:lnTo>
                      <a:lnTo>
                        <a:pt x="1366" y="544"/>
                      </a:lnTo>
                      <a:lnTo>
                        <a:pt x="1364" y="540"/>
                      </a:lnTo>
                      <a:lnTo>
                        <a:pt x="1360" y="536"/>
                      </a:lnTo>
                      <a:lnTo>
                        <a:pt x="1356" y="532"/>
                      </a:lnTo>
                      <a:lnTo>
                        <a:pt x="1353" y="528"/>
                      </a:lnTo>
                      <a:lnTo>
                        <a:pt x="1349" y="525"/>
                      </a:lnTo>
                      <a:lnTo>
                        <a:pt x="1345" y="523"/>
                      </a:lnTo>
                      <a:lnTo>
                        <a:pt x="1339" y="521"/>
                      </a:lnTo>
                      <a:lnTo>
                        <a:pt x="1335" y="517"/>
                      </a:lnTo>
                      <a:lnTo>
                        <a:pt x="1332" y="515"/>
                      </a:lnTo>
                      <a:lnTo>
                        <a:pt x="1326" y="515"/>
                      </a:lnTo>
                      <a:lnTo>
                        <a:pt x="1322" y="513"/>
                      </a:lnTo>
                      <a:lnTo>
                        <a:pt x="1318" y="511"/>
                      </a:lnTo>
                      <a:lnTo>
                        <a:pt x="1316" y="511"/>
                      </a:lnTo>
                      <a:lnTo>
                        <a:pt x="1313" y="511"/>
                      </a:lnTo>
                      <a:lnTo>
                        <a:pt x="1311" y="511"/>
                      </a:lnTo>
                      <a:lnTo>
                        <a:pt x="1309" y="509"/>
                      </a:lnTo>
                      <a:lnTo>
                        <a:pt x="1305" y="509"/>
                      </a:lnTo>
                      <a:lnTo>
                        <a:pt x="1303" y="509"/>
                      </a:lnTo>
                      <a:lnTo>
                        <a:pt x="1301" y="509"/>
                      </a:lnTo>
                      <a:lnTo>
                        <a:pt x="1297" y="509"/>
                      </a:lnTo>
                      <a:lnTo>
                        <a:pt x="1295" y="509"/>
                      </a:lnTo>
                      <a:lnTo>
                        <a:pt x="1292" y="509"/>
                      </a:lnTo>
                      <a:lnTo>
                        <a:pt x="1290" y="509"/>
                      </a:lnTo>
                      <a:lnTo>
                        <a:pt x="1284" y="509"/>
                      </a:lnTo>
                      <a:lnTo>
                        <a:pt x="1280" y="509"/>
                      </a:lnTo>
                      <a:lnTo>
                        <a:pt x="1275" y="509"/>
                      </a:lnTo>
                      <a:lnTo>
                        <a:pt x="1269" y="509"/>
                      </a:lnTo>
                      <a:lnTo>
                        <a:pt x="1265" y="509"/>
                      </a:lnTo>
                      <a:lnTo>
                        <a:pt x="1259" y="509"/>
                      </a:lnTo>
                      <a:lnTo>
                        <a:pt x="1256" y="511"/>
                      </a:lnTo>
                      <a:lnTo>
                        <a:pt x="1252" y="511"/>
                      </a:lnTo>
                      <a:lnTo>
                        <a:pt x="1246" y="515"/>
                      </a:lnTo>
                      <a:lnTo>
                        <a:pt x="1242" y="515"/>
                      </a:lnTo>
                      <a:lnTo>
                        <a:pt x="1238" y="517"/>
                      </a:lnTo>
                      <a:lnTo>
                        <a:pt x="1235" y="521"/>
                      </a:lnTo>
                      <a:lnTo>
                        <a:pt x="1231" y="523"/>
                      </a:lnTo>
                      <a:lnTo>
                        <a:pt x="1229" y="525"/>
                      </a:lnTo>
                      <a:lnTo>
                        <a:pt x="1225" y="527"/>
                      </a:lnTo>
                      <a:lnTo>
                        <a:pt x="1221" y="530"/>
                      </a:lnTo>
                      <a:lnTo>
                        <a:pt x="1219" y="532"/>
                      </a:lnTo>
                      <a:lnTo>
                        <a:pt x="1216" y="538"/>
                      </a:lnTo>
                      <a:lnTo>
                        <a:pt x="1214" y="542"/>
                      </a:lnTo>
                      <a:lnTo>
                        <a:pt x="1212" y="546"/>
                      </a:lnTo>
                      <a:lnTo>
                        <a:pt x="1210" y="549"/>
                      </a:lnTo>
                      <a:lnTo>
                        <a:pt x="1208" y="555"/>
                      </a:lnTo>
                      <a:lnTo>
                        <a:pt x="1208" y="557"/>
                      </a:lnTo>
                      <a:lnTo>
                        <a:pt x="1206" y="559"/>
                      </a:lnTo>
                      <a:lnTo>
                        <a:pt x="1204" y="561"/>
                      </a:lnTo>
                      <a:lnTo>
                        <a:pt x="1204" y="565"/>
                      </a:lnTo>
                      <a:lnTo>
                        <a:pt x="1204" y="566"/>
                      </a:lnTo>
                      <a:lnTo>
                        <a:pt x="1204" y="570"/>
                      </a:lnTo>
                      <a:lnTo>
                        <a:pt x="1204" y="572"/>
                      </a:lnTo>
                      <a:lnTo>
                        <a:pt x="1204" y="576"/>
                      </a:lnTo>
                      <a:lnTo>
                        <a:pt x="1139" y="895"/>
                      </a:lnTo>
                      <a:lnTo>
                        <a:pt x="1136" y="893"/>
                      </a:lnTo>
                      <a:lnTo>
                        <a:pt x="1132" y="892"/>
                      </a:lnTo>
                      <a:lnTo>
                        <a:pt x="1126" y="888"/>
                      </a:lnTo>
                      <a:lnTo>
                        <a:pt x="1122" y="886"/>
                      </a:lnTo>
                      <a:lnTo>
                        <a:pt x="1117" y="884"/>
                      </a:lnTo>
                      <a:lnTo>
                        <a:pt x="1113" y="880"/>
                      </a:lnTo>
                      <a:lnTo>
                        <a:pt x="1107" y="878"/>
                      </a:lnTo>
                      <a:lnTo>
                        <a:pt x="1105" y="876"/>
                      </a:lnTo>
                      <a:lnTo>
                        <a:pt x="1227" y="316"/>
                      </a:lnTo>
                      <a:lnTo>
                        <a:pt x="1227" y="312"/>
                      </a:lnTo>
                      <a:lnTo>
                        <a:pt x="1227" y="308"/>
                      </a:lnTo>
                      <a:lnTo>
                        <a:pt x="1229" y="306"/>
                      </a:lnTo>
                      <a:lnTo>
                        <a:pt x="1229" y="304"/>
                      </a:lnTo>
                      <a:lnTo>
                        <a:pt x="1229" y="300"/>
                      </a:lnTo>
                      <a:lnTo>
                        <a:pt x="1229" y="298"/>
                      </a:lnTo>
                      <a:lnTo>
                        <a:pt x="1229" y="295"/>
                      </a:lnTo>
                      <a:lnTo>
                        <a:pt x="1229" y="293"/>
                      </a:lnTo>
                      <a:lnTo>
                        <a:pt x="1229" y="291"/>
                      </a:lnTo>
                      <a:lnTo>
                        <a:pt x="1229" y="287"/>
                      </a:lnTo>
                      <a:lnTo>
                        <a:pt x="1229" y="285"/>
                      </a:lnTo>
                      <a:lnTo>
                        <a:pt x="1229" y="283"/>
                      </a:lnTo>
                      <a:lnTo>
                        <a:pt x="1229" y="278"/>
                      </a:lnTo>
                      <a:lnTo>
                        <a:pt x="1227" y="272"/>
                      </a:lnTo>
                      <a:lnTo>
                        <a:pt x="1225" y="268"/>
                      </a:lnTo>
                      <a:lnTo>
                        <a:pt x="1225" y="262"/>
                      </a:lnTo>
                      <a:lnTo>
                        <a:pt x="1223" y="257"/>
                      </a:lnTo>
                      <a:lnTo>
                        <a:pt x="1221" y="253"/>
                      </a:lnTo>
                      <a:lnTo>
                        <a:pt x="1219" y="247"/>
                      </a:lnTo>
                      <a:lnTo>
                        <a:pt x="1217" y="243"/>
                      </a:lnTo>
                      <a:lnTo>
                        <a:pt x="1216" y="240"/>
                      </a:lnTo>
                      <a:lnTo>
                        <a:pt x="1214" y="236"/>
                      </a:lnTo>
                      <a:lnTo>
                        <a:pt x="1210" y="232"/>
                      </a:lnTo>
                      <a:lnTo>
                        <a:pt x="1206" y="226"/>
                      </a:lnTo>
                      <a:lnTo>
                        <a:pt x="1202" y="222"/>
                      </a:lnTo>
                      <a:lnTo>
                        <a:pt x="1200" y="219"/>
                      </a:lnTo>
                      <a:lnTo>
                        <a:pt x="1197" y="215"/>
                      </a:lnTo>
                      <a:lnTo>
                        <a:pt x="1193" y="211"/>
                      </a:lnTo>
                      <a:lnTo>
                        <a:pt x="1189" y="207"/>
                      </a:lnTo>
                      <a:lnTo>
                        <a:pt x="1185" y="205"/>
                      </a:lnTo>
                      <a:lnTo>
                        <a:pt x="1179" y="203"/>
                      </a:lnTo>
                      <a:lnTo>
                        <a:pt x="1176" y="200"/>
                      </a:lnTo>
                      <a:lnTo>
                        <a:pt x="1172" y="198"/>
                      </a:lnTo>
                      <a:lnTo>
                        <a:pt x="1166" y="194"/>
                      </a:lnTo>
                      <a:lnTo>
                        <a:pt x="1160" y="192"/>
                      </a:lnTo>
                      <a:lnTo>
                        <a:pt x="1157" y="192"/>
                      </a:lnTo>
                      <a:lnTo>
                        <a:pt x="1151" y="190"/>
                      </a:lnTo>
                      <a:lnTo>
                        <a:pt x="1147" y="190"/>
                      </a:lnTo>
                      <a:lnTo>
                        <a:pt x="1143" y="188"/>
                      </a:lnTo>
                      <a:lnTo>
                        <a:pt x="1141" y="186"/>
                      </a:lnTo>
                      <a:lnTo>
                        <a:pt x="1138" y="186"/>
                      </a:lnTo>
                      <a:lnTo>
                        <a:pt x="1136" y="186"/>
                      </a:lnTo>
                      <a:lnTo>
                        <a:pt x="1134" y="186"/>
                      </a:lnTo>
                      <a:lnTo>
                        <a:pt x="1130" y="186"/>
                      </a:lnTo>
                      <a:lnTo>
                        <a:pt x="1128" y="186"/>
                      </a:lnTo>
                      <a:lnTo>
                        <a:pt x="1124" y="186"/>
                      </a:lnTo>
                      <a:lnTo>
                        <a:pt x="1122" y="186"/>
                      </a:lnTo>
                      <a:lnTo>
                        <a:pt x="1120" y="186"/>
                      </a:lnTo>
                      <a:lnTo>
                        <a:pt x="1117" y="186"/>
                      </a:lnTo>
                      <a:lnTo>
                        <a:pt x="1115" y="186"/>
                      </a:lnTo>
                      <a:lnTo>
                        <a:pt x="1109" y="186"/>
                      </a:lnTo>
                      <a:lnTo>
                        <a:pt x="1105" y="188"/>
                      </a:lnTo>
                      <a:lnTo>
                        <a:pt x="1100" y="188"/>
                      </a:lnTo>
                      <a:lnTo>
                        <a:pt x="1094" y="190"/>
                      </a:lnTo>
                      <a:lnTo>
                        <a:pt x="1090" y="192"/>
                      </a:lnTo>
                      <a:lnTo>
                        <a:pt x="1086" y="192"/>
                      </a:lnTo>
                      <a:lnTo>
                        <a:pt x="1081" y="194"/>
                      </a:lnTo>
                      <a:lnTo>
                        <a:pt x="1077" y="198"/>
                      </a:lnTo>
                      <a:lnTo>
                        <a:pt x="1073" y="200"/>
                      </a:lnTo>
                      <a:lnTo>
                        <a:pt x="1067" y="203"/>
                      </a:lnTo>
                      <a:lnTo>
                        <a:pt x="1063" y="205"/>
                      </a:lnTo>
                      <a:lnTo>
                        <a:pt x="1058" y="207"/>
                      </a:lnTo>
                      <a:lnTo>
                        <a:pt x="1054" y="211"/>
                      </a:lnTo>
                      <a:lnTo>
                        <a:pt x="1050" y="215"/>
                      </a:lnTo>
                      <a:lnTo>
                        <a:pt x="1048" y="219"/>
                      </a:lnTo>
                      <a:lnTo>
                        <a:pt x="1044" y="222"/>
                      </a:lnTo>
                      <a:lnTo>
                        <a:pt x="1041" y="226"/>
                      </a:lnTo>
                      <a:lnTo>
                        <a:pt x="1039" y="232"/>
                      </a:lnTo>
                      <a:lnTo>
                        <a:pt x="1035" y="234"/>
                      </a:lnTo>
                      <a:lnTo>
                        <a:pt x="1033" y="240"/>
                      </a:lnTo>
                      <a:lnTo>
                        <a:pt x="1029" y="243"/>
                      </a:lnTo>
                      <a:lnTo>
                        <a:pt x="1027" y="249"/>
                      </a:lnTo>
                      <a:lnTo>
                        <a:pt x="1025" y="253"/>
                      </a:lnTo>
                      <a:lnTo>
                        <a:pt x="1023" y="259"/>
                      </a:lnTo>
                      <a:lnTo>
                        <a:pt x="1022" y="260"/>
                      </a:lnTo>
                      <a:lnTo>
                        <a:pt x="1022" y="264"/>
                      </a:lnTo>
                      <a:lnTo>
                        <a:pt x="1022" y="266"/>
                      </a:lnTo>
                      <a:lnTo>
                        <a:pt x="1022" y="270"/>
                      </a:lnTo>
                      <a:lnTo>
                        <a:pt x="919" y="730"/>
                      </a:lnTo>
                      <a:lnTo>
                        <a:pt x="915" y="728"/>
                      </a:lnTo>
                      <a:lnTo>
                        <a:pt x="913" y="726"/>
                      </a:lnTo>
                      <a:lnTo>
                        <a:pt x="907" y="724"/>
                      </a:lnTo>
                      <a:lnTo>
                        <a:pt x="905" y="720"/>
                      </a:lnTo>
                      <a:lnTo>
                        <a:pt x="904" y="719"/>
                      </a:lnTo>
                      <a:lnTo>
                        <a:pt x="900" y="717"/>
                      </a:lnTo>
                      <a:lnTo>
                        <a:pt x="896" y="713"/>
                      </a:lnTo>
                      <a:lnTo>
                        <a:pt x="892" y="713"/>
                      </a:lnTo>
                      <a:lnTo>
                        <a:pt x="1022" y="129"/>
                      </a:lnTo>
                      <a:lnTo>
                        <a:pt x="1022" y="125"/>
                      </a:lnTo>
                      <a:lnTo>
                        <a:pt x="1022" y="124"/>
                      </a:lnTo>
                      <a:lnTo>
                        <a:pt x="1022" y="120"/>
                      </a:lnTo>
                      <a:lnTo>
                        <a:pt x="1022" y="118"/>
                      </a:lnTo>
                      <a:lnTo>
                        <a:pt x="1022" y="114"/>
                      </a:lnTo>
                      <a:lnTo>
                        <a:pt x="1022" y="112"/>
                      </a:lnTo>
                      <a:lnTo>
                        <a:pt x="1022" y="110"/>
                      </a:lnTo>
                      <a:lnTo>
                        <a:pt x="1022" y="106"/>
                      </a:lnTo>
                      <a:lnTo>
                        <a:pt x="1022" y="105"/>
                      </a:lnTo>
                      <a:lnTo>
                        <a:pt x="1022" y="103"/>
                      </a:lnTo>
                      <a:lnTo>
                        <a:pt x="1022" y="99"/>
                      </a:lnTo>
                      <a:lnTo>
                        <a:pt x="1022" y="97"/>
                      </a:lnTo>
                      <a:lnTo>
                        <a:pt x="1022" y="91"/>
                      </a:lnTo>
                      <a:lnTo>
                        <a:pt x="1022" y="86"/>
                      </a:lnTo>
                      <a:lnTo>
                        <a:pt x="1020" y="82"/>
                      </a:lnTo>
                      <a:lnTo>
                        <a:pt x="1018" y="76"/>
                      </a:lnTo>
                      <a:lnTo>
                        <a:pt x="1016" y="70"/>
                      </a:lnTo>
                      <a:lnTo>
                        <a:pt x="1014" y="67"/>
                      </a:lnTo>
                      <a:lnTo>
                        <a:pt x="1012" y="61"/>
                      </a:lnTo>
                      <a:lnTo>
                        <a:pt x="1010" y="57"/>
                      </a:lnTo>
                      <a:lnTo>
                        <a:pt x="1008" y="53"/>
                      </a:lnTo>
                      <a:lnTo>
                        <a:pt x="1006" y="48"/>
                      </a:lnTo>
                      <a:lnTo>
                        <a:pt x="1004" y="44"/>
                      </a:lnTo>
                      <a:lnTo>
                        <a:pt x="1001" y="40"/>
                      </a:lnTo>
                      <a:lnTo>
                        <a:pt x="997" y="36"/>
                      </a:lnTo>
                      <a:lnTo>
                        <a:pt x="993" y="32"/>
                      </a:lnTo>
                      <a:lnTo>
                        <a:pt x="991" y="29"/>
                      </a:lnTo>
                      <a:lnTo>
                        <a:pt x="985" y="25"/>
                      </a:lnTo>
                      <a:lnTo>
                        <a:pt x="983" y="23"/>
                      </a:lnTo>
                      <a:lnTo>
                        <a:pt x="978" y="19"/>
                      </a:lnTo>
                      <a:lnTo>
                        <a:pt x="972" y="17"/>
                      </a:lnTo>
                      <a:lnTo>
                        <a:pt x="968" y="13"/>
                      </a:lnTo>
                      <a:lnTo>
                        <a:pt x="964" y="11"/>
                      </a:lnTo>
                      <a:lnTo>
                        <a:pt x="961" y="10"/>
                      </a:lnTo>
                      <a:lnTo>
                        <a:pt x="955" y="6"/>
                      </a:lnTo>
                      <a:lnTo>
                        <a:pt x="949" y="6"/>
                      </a:lnTo>
                      <a:lnTo>
                        <a:pt x="944" y="4"/>
                      </a:lnTo>
                      <a:lnTo>
                        <a:pt x="940" y="4"/>
                      </a:lnTo>
                      <a:lnTo>
                        <a:pt x="936" y="2"/>
                      </a:lnTo>
                      <a:lnTo>
                        <a:pt x="934" y="2"/>
                      </a:lnTo>
                      <a:lnTo>
                        <a:pt x="932" y="0"/>
                      </a:lnTo>
                      <a:lnTo>
                        <a:pt x="928" y="0"/>
                      </a:lnTo>
                      <a:lnTo>
                        <a:pt x="926" y="0"/>
                      </a:lnTo>
                      <a:lnTo>
                        <a:pt x="925" y="0"/>
                      </a:lnTo>
                      <a:lnTo>
                        <a:pt x="921" y="0"/>
                      </a:lnTo>
                      <a:lnTo>
                        <a:pt x="919" y="0"/>
                      </a:lnTo>
                      <a:lnTo>
                        <a:pt x="915" y="0"/>
                      </a:lnTo>
                      <a:lnTo>
                        <a:pt x="913" y="0"/>
                      </a:lnTo>
                      <a:lnTo>
                        <a:pt x="911" y="0"/>
                      </a:lnTo>
                      <a:lnTo>
                        <a:pt x="907" y="0"/>
                      </a:lnTo>
                      <a:lnTo>
                        <a:pt x="904" y="0"/>
                      </a:lnTo>
                      <a:lnTo>
                        <a:pt x="898" y="2"/>
                      </a:lnTo>
                      <a:lnTo>
                        <a:pt x="896" y="2"/>
                      </a:lnTo>
                      <a:lnTo>
                        <a:pt x="892" y="2"/>
                      </a:lnTo>
                      <a:lnTo>
                        <a:pt x="890" y="2"/>
                      </a:lnTo>
                      <a:lnTo>
                        <a:pt x="888" y="4"/>
                      </a:lnTo>
                      <a:lnTo>
                        <a:pt x="881" y="4"/>
                      </a:lnTo>
                      <a:lnTo>
                        <a:pt x="877" y="6"/>
                      </a:lnTo>
                      <a:lnTo>
                        <a:pt x="873" y="10"/>
                      </a:lnTo>
                      <a:lnTo>
                        <a:pt x="867" y="11"/>
                      </a:lnTo>
                      <a:lnTo>
                        <a:pt x="864" y="15"/>
                      </a:lnTo>
                      <a:lnTo>
                        <a:pt x="860" y="17"/>
                      </a:lnTo>
                      <a:lnTo>
                        <a:pt x="854" y="19"/>
                      </a:lnTo>
                      <a:lnTo>
                        <a:pt x="850" y="23"/>
                      </a:lnTo>
                      <a:lnTo>
                        <a:pt x="847" y="25"/>
                      </a:lnTo>
                      <a:lnTo>
                        <a:pt x="843" y="29"/>
                      </a:lnTo>
                      <a:lnTo>
                        <a:pt x="839" y="32"/>
                      </a:lnTo>
                      <a:lnTo>
                        <a:pt x="835" y="36"/>
                      </a:lnTo>
                      <a:lnTo>
                        <a:pt x="833" y="40"/>
                      </a:lnTo>
                      <a:lnTo>
                        <a:pt x="831" y="44"/>
                      </a:lnTo>
                      <a:lnTo>
                        <a:pt x="828" y="48"/>
                      </a:lnTo>
                      <a:lnTo>
                        <a:pt x="824" y="53"/>
                      </a:lnTo>
                      <a:lnTo>
                        <a:pt x="822" y="57"/>
                      </a:lnTo>
                      <a:lnTo>
                        <a:pt x="820" y="61"/>
                      </a:lnTo>
                      <a:lnTo>
                        <a:pt x="818" y="67"/>
                      </a:lnTo>
                      <a:lnTo>
                        <a:pt x="816" y="70"/>
                      </a:lnTo>
                      <a:lnTo>
                        <a:pt x="816" y="74"/>
                      </a:lnTo>
                      <a:lnTo>
                        <a:pt x="814" y="76"/>
                      </a:lnTo>
                      <a:lnTo>
                        <a:pt x="812" y="82"/>
                      </a:lnTo>
                      <a:lnTo>
                        <a:pt x="812" y="84"/>
                      </a:lnTo>
                      <a:lnTo>
                        <a:pt x="687" y="663"/>
                      </a:lnTo>
                      <a:lnTo>
                        <a:pt x="681" y="663"/>
                      </a:lnTo>
                      <a:lnTo>
                        <a:pt x="677" y="663"/>
                      </a:lnTo>
                      <a:lnTo>
                        <a:pt x="673" y="663"/>
                      </a:lnTo>
                      <a:lnTo>
                        <a:pt x="670" y="663"/>
                      </a:lnTo>
                      <a:lnTo>
                        <a:pt x="666" y="663"/>
                      </a:lnTo>
                      <a:lnTo>
                        <a:pt x="660" y="665"/>
                      </a:lnTo>
                      <a:lnTo>
                        <a:pt x="656" y="665"/>
                      </a:lnTo>
                      <a:lnTo>
                        <a:pt x="652" y="667"/>
                      </a:lnTo>
                      <a:lnTo>
                        <a:pt x="753" y="213"/>
                      </a:lnTo>
                      <a:lnTo>
                        <a:pt x="753" y="209"/>
                      </a:lnTo>
                      <a:lnTo>
                        <a:pt x="753" y="207"/>
                      </a:lnTo>
                      <a:lnTo>
                        <a:pt x="753" y="203"/>
                      </a:lnTo>
                      <a:lnTo>
                        <a:pt x="753" y="201"/>
                      </a:lnTo>
                      <a:lnTo>
                        <a:pt x="753" y="198"/>
                      </a:lnTo>
                      <a:lnTo>
                        <a:pt x="753" y="196"/>
                      </a:lnTo>
                      <a:lnTo>
                        <a:pt x="753" y="192"/>
                      </a:lnTo>
                      <a:lnTo>
                        <a:pt x="753" y="190"/>
                      </a:lnTo>
                      <a:lnTo>
                        <a:pt x="753" y="188"/>
                      </a:lnTo>
                      <a:lnTo>
                        <a:pt x="753" y="184"/>
                      </a:lnTo>
                      <a:lnTo>
                        <a:pt x="753" y="182"/>
                      </a:lnTo>
                      <a:lnTo>
                        <a:pt x="753" y="181"/>
                      </a:lnTo>
                      <a:lnTo>
                        <a:pt x="753" y="175"/>
                      </a:lnTo>
                      <a:lnTo>
                        <a:pt x="753" y="169"/>
                      </a:lnTo>
                      <a:lnTo>
                        <a:pt x="751" y="167"/>
                      </a:lnTo>
                      <a:lnTo>
                        <a:pt x="751" y="163"/>
                      </a:lnTo>
                      <a:lnTo>
                        <a:pt x="751" y="162"/>
                      </a:lnTo>
                      <a:lnTo>
                        <a:pt x="750" y="160"/>
                      </a:lnTo>
                      <a:lnTo>
                        <a:pt x="748" y="154"/>
                      </a:lnTo>
                      <a:lnTo>
                        <a:pt x="746" y="148"/>
                      </a:lnTo>
                      <a:lnTo>
                        <a:pt x="744" y="144"/>
                      </a:lnTo>
                      <a:lnTo>
                        <a:pt x="742" y="141"/>
                      </a:lnTo>
                      <a:lnTo>
                        <a:pt x="740" y="135"/>
                      </a:lnTo>
                      <a:lnTo>
                        <a:pt x="738" y="131"/>
                      </a:lnTo>
                      <a:lnTo>
                        <a:pt x="734" y="127"/>
                      </a:lnTo>
                      <a:lnTo>
                        <a:pt x="730" y="124"/>
                      </a:lnTo>
                      <a:lnTo>
                        <a:pt x="727" y="120"/>
                      </a:lnTo>
                      <a:lnTo>
                        <a:pt x="725" y="116"/>
                      </a:lnTo>
                      <a:lnTo>
                        <a:pt x="721" y="112"/>
                      </a:lnTo>
                      <a:lnTo>
                        <a:pt x="717" y="108"/>
                      </a:lnTo>
                      <a:lnTo>
                        <a:pt x="713" y="105"/>
                      </a:lnTo>
                      <a:lnTo>
                        <a:pt x="710" y="103"/>
                      </a:lnTo>
                      <a:lnTo>
                        <a:pt x="704" y="99"/>
                      </a:lnTo>
                      <a:lnTo>
                        <a:pt x="700" y="97"/>
                      </a:lnTo>
                      <a:lnTo>
                        <a:pt x="694" y="95"/>
                      </a:lnTo>
                      <a:lnTo>
                        <a:pt x="691" y="91"/>
                      </a:lnTo>
                      <a:lnTo>
                        <a:pt x="685" y="89"/>
                      </a:lnTo>
                      <a:lnTo>
                        <a:pt x="681" y="87"/>
                      </a:lnTo>
                      <a:lnTo>
                        <a:pt x="675" y="86"/>
                      </a:lnTo>
                      <a:lnTo>
                        <a:pt x="672" y="86"/>
                      </a:lnTo>
                      <a:lnTo>
                        <a:pt x="668" y="84"/>
                      </a:lnTo>
                      <a:lnTo>
                        <a:pt x="666" y="84"/>
                      </a:lnTo>
                      <a:lnTo>
                        <a:pt x="664" y="84"/>
                      </a:lnTo>
                      <a:lnTo>
                        <a:pt x="660" y="84"/>
                      </a:lnTo>
                      <a:lnTo>
                        <a:pt x="658" y="84"/>
                      </a:lnTo>
                      <a:lnTo>
                        <a:pt x="654" y="84"/>
                      </a:lnTo>
                      <a:lnTo>
                        <a:pt x="652" y="84"/>
                      </a:lnTo>
                      <a:lnTo>
                        <a:pt x="651" y="84"/>
                      </a:lnTo>
                      <a:lnTo>
                        <a:pt x="647" y="84"/>
                      </a:lnTo>
                      <a:lnTo>
                        <a:pt x="645" y="84"/>
                      </a:lnTo>
                      <a:lnTo>
                        <a:pt x="643" y="84"/>
                      </a:lnTo>
                      <a:lnTo>
                        <a:pt x="639" y="84"/>
                      </a:lnTo>
                      <a:lnTo>
                        <a:pt x="635" y="84"/>
                      </a:lnTo>
                      <a:lnTo>
                        <a:pt x="630" y="84"/>
                      </a:lnTo>
                      <a:lnTo>
                        <a:pt x="628" y="84"/>
                      </a:lnTo>
                      <a:lnTo>
                        <a:pt x="624" y="86"/>
                      </a:lnTo>
                      <a:lnTo>
                        <a:pt x="622" y="86"/>
                      </a:lnTo>
                      <a:lnTo>
                        <a:pt x="618" y="86"/>
                      </a:lnTo>
                      <a:lnTo>
                        <a:pt x="614" y="87"/>
                      </a:lnTo>
                      <a:lnTo>
                        <a:pt x="609" y="89"/>
                      </a:lnTo>
                      <a:lnTo>
                        <a:pt x="603" y="91"/>
                      </a:lnTo>
                      <a:lnTo>
                        <a:pt x="599" y="95"/>
                      </a:lnTo>
                      <a:lnTo>
                        <a:pt x="595" y="97"/>
                      </a:lnTo>
                      <a:lnTo>
                        <a:pt x="592" y="99"/>
                      </a:lnTo>
                      <a:lnTo>
                        <a:pt x="586" y="103"/>
                      </a:lnTo>
                      <a:lnTo>
                        <a:pt x="582" y="105"/>
                      </a:lnTo>
                      <a:lnTo>
                        <a:pt x="578" y="108"/>
                      </a:lnTo>
                      <a:lnTo>
                        <a:pt x="574" y="112"/>
                      </a:lnTo>
                      <a:lnTo>
                        <a:pt x="571" y="116"/>
                      </a:lnTo>
                      <a:lnTo>
                        <a:pt x="567" y="120"/>
                      </a:lnTo>
                      <a:lnTo>
                        <a:pt x="565" y="124"/>
                      </a:lnTo>
                      <a:lnTo>
                        <a:pt x="563" y="127"/>
                      </a:lnTo>
                      <a:lnTo>
                        <a:pt x="559" y="131"/>
                      </a:lnTo>
                      <a:lnTo>
                        <a:pt x="555" y="135"/>
                      </a:lnTo>
                      <a:lnTo>
                        <a:pt x="554" y="141"/>
                      </a:lnTo>
                      <a:lnTo>
                        <a:pt x="552" y="146"/>
                      </a:lnTo>
                      <a:lnTo>
                        <a:pt x="550" y="150"/>
                      </a:lnTo>
                      <a:lnTo>
                        <a:pt x="548" y="156"/>
                      </a:lnTo>
                      <a:lnTo>
                        <a:pt x="546" y="158"/>
                      </a:lnTo>
                      <a:lnTo>
                        <a:pt x="546" y="160"/>
                      </a:lnTo>
                      <a:lnTo>
                        <a:pt x="544" y="163"/>
                      </a:lnTo>
                      <a:lnTo>
                        <a:pt x="544" y="167"/>
                      </a:lnTo>
                      <a:lnTo>
                        <a:pt x="361" y="1127"/>
                      </a:lnTo>
                      <a:lnTo>
                        <a:pt x="361" y="112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3" name="Rectangle 881"/>
                <p:cNvSpPr/>
                <p:nvPr/>
              </p:nvSpPr>
              <p:spPr>
                <a:xfrm flipH="1" flipV="1" rot="11211000">
                  <a:off x="5048640" y="1574280"/>
                  <a:ext cx="98280" cy="4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4" name="Group 882"/>
              <p:cNvGrpSpPr/>
              <p:nvPr/>
            </p:nvGrpSpPr>
            <p:grpSpPr>
              <a:xfrm>
                <a:off x="4899960" y="2345400"/>
                <a:ext cx="224640" cy="1224720"/>
                <a:chOff x="4899960" y="2345400"/>
                <a:chExt cx="224640" cy="1224720"/>
              </a:xfrm>
            </p:grpSpPr>
            <p:grpSp>
              <p:nvGrpSpPr>
                <p:cNvPr id="3065" name="Group 883"/>
                <p:cNvGrpSpPr/>
                <p:nvPr/>
              </p:nvGrpSpPr>
              <p:grpSpPr>
                <a:xfrm>
                  <a:off x="4899960" y="2345400"/>
                  <a:ext cx="221400" cy="993240"/>
                  <a:chOff x="4899960" y="2345400"/>
                  <a:chExt cx="221400" cy="993240"/>
                </a:xfrm>
              </p:grpSpPr>
              <p:sp>
                <p:nvSpPr>
                  <p:cNvPr id="3066" name="AutoShape 884"/>
                  <p:cNvSpPr/>
                  <p:nvPr/>
                </p:nvSpPr>
                <p:spPr>
                  <a:xfrm flipH="1" rot="21518400">
                    <a:off x="4934880" y="2422800"/>
                    <a:ext cx="172080" cy="52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5400" y="21600"/>
                        </a:lnTo>
                        <a:lnTo>
                          <a:pt x="162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77777"/>
                      </a:gs>
                    </a:gsLst>
                    <a:lin ang="21222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7" name="AutoShape 885"/>
                  <p:cNvSpPr/>
                  <p:nvPr/>
                </p:nvSpPr>
                <p:spPr>
                  <a:xfrm flipH="1" rot="21518400">
                    <a:off x="4995000" y="2944440"/>
                    <a:ext cx="88560" cy="39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5400" y="21600"/>
                        </a:lnTo>
                        <a:lnTo>
                          <a:pt x="162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77777"/>
                      </a:gs>
                    </a:gsLst>
                    <a:lin ang="21222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8" name="Oval 886"/>
                  <p:cNvSpPr/>
                  <p:nvPr/>
                </p:nvSpPr>
                <p:spPr>
                  <a:xfrm flipH="1" rot="21518400">
                    <a:off x="4962960" y="2900520"/>
                    <a:ext cx="151920" cy="144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b2b2b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9" name="AutoShape 887"/>
                  <p:cNvSpPr/>
                  <p:nvPr/>
                </p:nvSpPr>
                <p:spPr>
                  <a:xfrm flipH="1" flipV="1" rot="21517800">
                    <a:off x="5001120" y="2945880"/>
                    <a:ext cx="82080" cy="66960"/>
                  </a:xfrm>
                  <a:prstGeom prst="hexagon">
                    <a:avLst>
                      <a:gd name="adj" fmla="val 30645"/>
                      <a:gd name="vf" fmla="val 115470"/>
                    </a:avLst>
                  </a:prstGeom>
                  <a:solidFill>
                    <a:srgbClr val="ff0000"/>
                  </a:solidFill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0" name="AutoShape 888"/>
                  <p:cNvSpPr/>
                  <p:nvPr/>
                </p:nvSpPr>
                <p:spPr>
                  <a:xfrm flipH="1" rot="15738600">
                    <a:off x="4932360" y="2334960"/>
                    <a:ext cx="155520" cy="20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934" y="2201"/>
                          <a:pt x="12267" y="5080"/>
                          <a:pt x="12267" y="10800"/>
                        </a:cubicBezTo>
                        <a:cubicBezTo>
                          <a:pt x="12267" y="16520"/>
                          <a:pt x="16934" y="19399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77777"/>
                      </a:gs>
                      <a:gs pos="100000">
                        <a:srgbClr val="ffffff"/>
                      </a:gs>
                    </a:gsLst>
                    <a:lin ang="20844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71" name="Freeform 889"/>
                <p:cNvSpPr/>
                <p:nvPr/>
              </p:nvSpPr>
              <p:spPr>
                <a:xfrm rot="10373400">
                  <a:off x="5002200" y="3307320"/>
                  <a:ext cx="106560" cy="257040"/>
                </a:xfrm>
                <a:custGeom>
                  <a:avLst/>
                  <a:gdLst/>
                  <a:ahLst/>
                  <a:rect l="l" t="t" r="r" b="b"/>
                  <a:pathLst>
                    <a:path w="1402" h="2302">
                      <a:moveTo>
                        <a:pt x="361" y="1127"/>
                      </a:moveTo>
                      <a:lnTo>
                        <a:pt x="280" y="1116"/>
                      </a:lnTo>
                      <a:lnTo>
                        <a:pt x="373" y="711"/>
                      </a:lnTo>
                      <a:lnTo>
                        <a:pt x="373" y="709"/>
                      </a:lnTo>
                      <a:lnTo>
                        <a:pt x="375" y="705"/>
                      </a:lnTo>
                      <a:lnTo>
                        <a:pt x="375" y="703"/>
                      </a:lnTo>
                      <a:lnTo>
                        <a:pt x="375" y="700"/>
                      </a:lnTo>
                      <a:lnTo>
                        <a:pt x="375" y="698"/>
                      </a:lnTo>
                      <a:lnTo>
                        <a:pt x="375" y="696"/>
                      </a:lnTo>
                      <a:lnTo>
                        <a:pt x="375" y="692"/>
                      </a:lnTo>
                      <a:lnTo>
                        <a:pt x="375" y="690"/>
                      </a:lnTo>
                      <a:lnTo>
                        <a:pt x="375" y="684"/>
                      </a:lnTo>
                      <a:lnTo>
                        <a:pt x="375" y="681"/>
                      </a:lnTo>
                      <a:lnTo>
                        <a:pt x="375" y="675"/>
                      </a:lnTo>
                      <a:lnTo>
                        <a:pt x="375" y="669"/>
                      </a:lnTo>
                      <a:lnTo>
                        <a:pt x="371" y="665"/>
                      </a:lnTo>
                      <a:lnTo>
                        <a:pt x="371" y="660"/>
                      </a:lnTo>
                      <a:lnTo>
                        <a:pt x="369" y="654"/>
                      </a:lnTo>
                      <a:lnTo>
                        <a:pt x="367" y="652"/>
                      </a:lnTo>
                      <a:lnTo>
                        <a:pt x="365" y="646"/>
                      </a:lnTo>
                      <a:lnTo>
                        <a:pt x="363" y="641"/>
                      </a:lnTo>
                      <a:lnTo>
                        <a:pt x="361" y="637"/>
                      </a:lnTo>
                      <a:lnTo>
                        <a:pt x="358" y="633"/>
                      </a:lnTo>
                      <a:lnTo>
                        <a:pt x="356" y="629"/>
                      </a:lnTo>
                      <a:lnTo>
                        <a:pt x="354" y="623"/>
                      </a:lnTo>
                      <a:lnTo>
                        <a:pt x="350" y="620"/>
                      </a:lnTo>
                      <a:lnTo>
                        <a:pt x="346" y="616"/>
                      </a:lnTo>
                      <a:lnTo>
                        <a:pt x="342" y="612"/>
                      </a:lnTo>
                      <a:lnTo>
                        <a:pt x="339" y="610"/>
                      </a:lnTo>
                      <a:lnTo>
                        <a:pt x="335" y="606"/>
                      </a:lnTo>
                      <a:lnTo>
                        <a:pt x="331" y="603"/>
                      </a:lnTo>
                      <a:lnTo>
                        <a:pt x="325" y="601"/>
                      </a:lnTo>
                      <a:lnTo>
                        <a:pt x="321" y="597"/>
                      </a:lnTo>
                      <a:lnTo>
                        <a:pt x="318" y="595"/>
                      </a:lnTo>
                      <a:lnTo>
                        <a:pt x="312" y="593"/>
                      </a:lnTo>
                      <a:lnTo>
                        <a:pt x="306" y="591"/>
                      </a:lnTo>
                      <a:lnTo>
                        <a:pt x="302" y="589"/>
                      </a:lnTo>
                      <a:lnTo>
                        <a:pt x="299" y="589"/>
                      </a:lnTo>
                      <a:lnTo>
                        <a:pt x="295" y="587"/>
                      </a:lnTo>
                      <a:lnTo>
                        <a:pt x="291" y="587"/>
                      </a:lnTo>
                      <a:lnTo>
                        <a:pt x="287" y="585"/>
                      </a:lnTo>
                      <a:lnTo>
                        <a:pt x="285" y="585"/>
                      </a:lnTo>
                      <a:lnTo>
                        <a:pt x="283" y="585"/>
                      </a:lnTo>
                      <a:lnTo>
                        <a:pt x="280" y="585"/>
                      </a:lnTo>
                      <a:lnTo>
                        <a:pt x="276" y="585"/>
                      </a:lnTo>
                      <a:lnTo>
                        <a:pt x="274" y="585"/>
                      </a:lnTo>
                      <a:lnTo>
                        <a:pt x="272" y="585"/>
                      </a:lnTo>
                      <a:lnTo>
                        <a:pt x="268" y="585"/>
                      </a:lnTo>
                      <a:lnTo>
                        <a:pt x="266" y="585"/>
                      </a:lnTo>
                      <a:lnTo>
                        <a:pt x="263" y="585"/>
                      </a:lnTo>
                      <a:lnTo>
                        <a:pt x="261" y="587"/>
                      </a:lnTo>
                      <a:lnTo>
                        <a:pt x="259" y="587"/>
                      </a:lnTo>
                      <a:lnTo>
                        <a:pt x="255" y="587"/>
                      </a:lnTo>
                      <a:lnTo>
                        <a:pt x="253" y="589"/>
                      </a:lnTo>
                      <a:lnTo>
                        <a:pt x="249" y="589"/>
                      </a:lnTo>
                      <a:lnTo>
                        <a:pt x="247" y="589"/>
                      </a:lnTo>
                      <a:lnTo>
                        <a:pt x="243" y="591"/>
                      </a:lnTo>
                      <a:lnTo>
                        <a:pt x="240" y="591"/>
                      </a:lnTo>
                      <a:lnTo>
                        <a:pt x="238" y="593"/>
                      </a:lnTo>
                      <a:lnTo>
                        <a:pt x="236" y="595"/>
                      </a:lnTo>
                      <a:lnTo>
                        <a:pt x="232" y="595"/>
                      </a:lnTo>
                      <a:lnTo>
                        <a:pt x="230" y="597"/>
                      </a:lnTo>
                      <a:lnTo>
                        <a:pt x="228" y="599"/>
                      </a:lnTo>
                      <a:lnTo>
                        <a:pt x="224" y="601"/>
                      </a:lnTo>
                      <a:lnTo>
                        <a:pt x="223" y="601"/>
                      </a:lnTo>
                      <a:lnTo>
                        <a:pt x="219" y="603"/>
                      </a:lnTo>
                      <a:lnTo>
                        <a:pt x="217" y="604"/>
                      </a:lnTo>
                      <a:lnTo>
                        <a:pt x="211" y="608"/>
                      </a:lnTo>
                      <a:lnTo>
                        <a:pt x="207" y="612"/>
                      </a:lnTo>
                      <a:lnTo>
                        <a:pt x="204" y="616"/>
                      </a:lnTo>
                      <a:lnTo>
                        <a:pt x="198" y="618"/>
                      </a:lnTo>
                      <a:lnTo>
                        <a:pt x="194" y="623"/>
                      </a:lnTo>
                      <a:lnTo>
                        <a:pt x="188" y="627"/>
                      </a:lnTo>
                      <a:lnTo>
                        <a:pt x="185" y="633"/>
                      </a:lnTo>
                      <a:lnTo>
                        <a:pt x="181" y="637"/>
                      </a:lnTo>
                      <a:lnTo>
                        <a:pt x="177" y="641"/>
                      </a:lnTo>
                      <a:lnTo>
                        <a:pt x="173" y="646"/>
                      </a:lnTo>
                      <a:lnTo>
                        <a:pt x="169" y="652"/>
                      </a:lnTo>
                      <a:lnTo>
                        <a:pt x="166" y="656"/>
                      </a:lnTo>
                      <a:lnTo>
                        <a:pt x="162" y="662"/>
                      </a:lnTo>
                      <a:lnTo>
                        <a:pt x="160" y="665"/>
                      </a:lnTo>
                      <a:lnTo>
                        <a:pt x="158" y="669"/>
                      </a:lnTo>
                      <a:lnTo>
                        <a:pt x="158" y="671"/>
                      </a:lnTo>
                      <a:lnTo>
                        <a:pt x="156" y="673"/>
                      </a:lnTo>
                      <a:lnTo>
                        <a:pt x="154" y="677"/>
                      </a:lnTo>
                      <a:lnTo>
                        <a:pt x="152" y="679"/>
                      </a:lnTo>
                      <a:lnTo>
                        <a:pt x="152" y="681"/>
                      </a:lnTo>
                      <a:lnTo>
                        <a:pt x="150" y="684"/>
                      </a:lnTo>
                      <a:lnTo>
                        <a:pt x="150" y="688"/>
                      </a:lnTo>
                      <a:lnTo>
                        <a:pt x="146" y="694"/>
                      </a:lnTo>
                      <a:lnTo>
                        <a:pt x="145" y="701"/>
                      </a:lnTo>
                      <a:lnTo>
                        <a:pt x="143" y="709"/>
                      </a:lnTo>
                      <a:lnTo>
                        <a:pt x="139" y="717"/>
                      </a:lnTo>
                      <a:lnTo>
                        <a:pt x="137" y="724"/>
                      </a:lnTo>
                      <a:lnTo>
                        <a:pt x="135" y="732"/>
                      </a:lnTo>
                      <a:lnTo>
                        <a:pt x="131" y="739"/>
                      </a:lnTo>
                      <a:lnTo>
                        <a:pt x="129" y="747"/>
                      </a:lnTo>
                      <a:lnTo>
                        <a:pt x="126" y="755"/>
                      </a:lnTo>
                      <a:lnTo>
                        <a:pt x="124" y="760"/>
                      </a:lnTo>
                      <a:lnTo>
                        <a:pt x="122" y="768"/>
                      </a:lnTo>
                      <a:lnTo>
                        <a:pt x="120" y="776"/>
                      </a:lnTo>
                      <a:lnTo>
                        <a:pt x="116" y="781"/>
                      </a:lnTo>
                      <a:lnTo>
                        <a:pt x="114" y="789"/>
                      </a:lnTo>
                      <a:lnTo>
                        <a:pt x="112" y="796"/>
                      </a:lnTo>
                      <a:lnTo>
                        <a:pt x="110" y="804"/>
                      </a:lnTo>
                      <a:lnTo>
                        <a:pt x="107" y="812"/>
                      </a:lnTo>
                      <a:lnTo>
                        <a:pt x="107" y="817"/>
                      </a:lnTo>
                      <a:lnTo>
                        <a:pt x="103" y="823"/>
                      </a:lnTo>
                      <a:lnTo>
                        <a:pt x="101" y="831"/>
                      </a:lnTo>
                      <a:lnTo>
                        <a:pt x="97" y="836"/>
                      </a:lnTo>
                      <a:lnTo>
                        <a:pt x="97" y="844"/>
                      </a:lnTo>
                      <a:lnTo>
                        <a:pt x="93" y="852"/>
                      </a:lnTo>
                      <a:lnTo>
                        <a:pt x="93" y="857"/>
                      </a:lnTo>
                      <a:lnTo>
                        <a:pt x="89" y="865"/>
                      </a:lnTo>
                      <a:lnTo>
                        <a:pt x="88" y="871"/>
                      </a:lnTo>
                      <a:lnTo>
                        <a:pt x="86" y="878"/>
                      </a:lnTo>
                      <a:lnTo>
                        <a:pt x="84" y="884"/>
                      </a:lnTo>
                      <a:lnTo>
                        <a:pt x="82" y="892"/>
                      </a:lnTo>
                      <a:lnTo>
                        <a:pt x="80" y="899"/>
                      </a:lnTo>
                      <a:lnTo>
                        <a:pt x="78" y="907"/>
                      </a:lnTo>
                      <a:lnTo>
                        <a:pt x="74" y="912"/>
                      </a:lnTo>
                      <a:lnTo>
                        <a:pt x="72" y="920"/>
                      </a:lnTo>
                      <a:lnTo>
                        <a:pt x="72" y="926"/>
                      </a:lnTo>
                      <a:lnTo>
                        <a:pt x="68" y="931"/>
                      </a:lnTo>
                      <a:lnTo>
                        <a:pt x="67" y="939"/>
                      </a:lnTo>
                      <a:lnTo>
                        <a:pt x="65" y="945"/>
                      </a:lnTo>
                      <a:lnTo>
                        <a:pt x="63" y="952"/>
                      </a:lnTo>
                      <a:lnTo>
                        <a:pt x="59" y="958"/>
                      </a:lnTo>
                      <a:lnTo>
                        <a:pt x="57" y="966"/>
                      </a:lnTo>
                      <a:lnTo>
                        <a:pt x="55" y="971"/>
                      </a:lnTo>
                      <a:lnTo>
                        <a:pt x="53" y="979"/>
                      </a:lnTo>
                      <a:lnTo>
                        <a:pt x="51" y="987"/>
                      </a:lnTo>
                      <a:lnTo>
                        <a:pt x="49" y="994"/>
                      </a:lnTo>
                      <a:lnTo>
                        <a:pt x="48" y="1000"/>
                      </a:lnTo>
                      <a:lnTo>
                        <a:pt x="46" y="1007"/>
                      </a:lnTo>
                      <a:lnTo>
                        <a:pt x="44" y="1015"/>
                      </a:lnTo>
                      <a:lnTo>
                        <a:pt x="42" y="1021"/>
                      </a:lnTo>
                      <a:lnTo>
                        <a:pt x="42" y="1028"/>
                      </a:lnTo>
                      <a:lnTo>
                        <a:pt x="38" y="1036"/>
                      </a:lnTo>
                      <a:lnTo>
                        <a:pt x="36" y="1042"/>
                      </a:lnTo>
                      <a:lnTo>
                        <a:pt x="36" y="1049"/>
                      </a:lnTo>
                      <a:lnTo>
                        <a:pt x="34" y="1057"/>
                      </a:lnTo>
                      <a:lnTo>
                        <a:pt x="30" y="1063"/>
                      </a:lnTo>
                      <a:lnTo>
                        <a:pt x="30" y="1070"/>
                      </a:lnTo>
                      <a:lnTo>
                        <a:pt x="29" y="1078"/>
                      </a:lnTo>
                      <a:lnTo>
                        <a:pt x="27" y="1085"/>
                      </a:lnTo>
                      <a:lnTo>
                        <a:pt x="25" y="1093"/>
                      </a:lnTo>
                      <a:lnTo>
                        <a:pt x="23" y="1101"/>
                      </a:lnTo>
                      <a:lnTo>
                        <a:pt x="21" y="1108"/>
                      </a:lnTo>
                      <a:lnTo>
                        <a:pt x="19" y="1116"/>
                      </a:lnTo>
                      <a:lnTo>
                        <a:pt x="17" y="1123"/>
                      </a:lnTo>
                      <a:lnTo>
                        <a:pt x="17" y="1131"/>
                      </a:lnTo>
                      <a:lnTo>
                        <a:pt x="15" y="1139"/>
                      </a:lnTo>
                      <a:lnTo>
                        <a:pt x="13" y="1148"/>
                      </a:lnTo>
                      <a:lnTo>
                        <a:pt x="10" y="1158"/>
                      </a:lnTo>
                      <a:lnTo>
                        <a:pt x="10" y="1165"/>
                      </a:lnTo>
                      <a:lnTo>
                        <a:pt x="8" y="1175"/>
                      </a:lnTo>
                      <a:lnTo>
                        <a:pt x="6" y="1182"/>
                      </a:lnTo>
                      <a:lnTo>
                        <a:pt x="6" y="1192"/>
                      </a:lnTo>
                      <a:lnTo>
                        <a:pt x="4" y="1201"/>
                      </a:lnTo>
                      <a:lnTo>
                        <a:pt x="2" y="1211"/>
                      </a:lnTo>
                      <a:lnTo>
                        <a:pt x="2" y="1218"/>
                      </a:lnTo>
                      <a:lnTo>
                        <a:pt x="0" y="1230"/>
                      </a:lnTo>
                      <a:lnTo>
                        <a:pt x="0" y="1237"/>
                      </a:lnTo>
                      <a:lnTo>
                        <a:pt x="0" y="1247"/>
                      </a:lnTo>
                      <a:lnTo>
                        <a:pt x="0" y="1257"/>
                      </a:lnTo>
                      <a:lnTo>
                        <a:pt x="0" y="1268"/>
                      </a:lnTo>
                      <a:lnTo>
                        <a:pt x="0" y="1276"/>
                      </a:lnTo>
                      <a:lnTo>
                        <a:pt x="0" y="1285"/>
                      </a:lnTo>
                      <a:lnTo>
                        <a:pt x="0" y="1296"/>
                      </a:lnTo>
                      <a:lnTo>
                        <a:pt x="0" y="1304"/>
                      </a:lnTo>
                      <a:lnTo>
                        <a:pt x="0" y="1314"/>
                      </a:lnTo>
                      <a:lnTo>
                        <a:pt x="0" y="1323"/>
                      </a:lnTo>
                      <a:lnTo>
                        <a:pt x="0" y="1333"/>
                      </a:lnTo>
                      <a:lnTo>
                        <a:pt x="2" y="1342"/>
                      </a:lnTo>
                      <a:lnTo>
                        <a:pt x="2" y="1352"/>
                      </a:lnTo>
                      <a:lnTo>
                        <a:pt x="4" y="1363"/>
                      </a:lnTo>
                      <a:lnTo>
                        <a:pt x="4" y="1371"/>
                      </a:lnTo>
                      <a:lnTo>
                        <a:pt x="6" y="1382"/>
                      </a:lnTo>
                      <a:lnTo>
                        <a:pt x="8" y="1390"/>
                      </a:lnTo>
                      <a:lnTo>
                        <a:pt x="8" y="1401"/>
                      </a:lnTo>
                      <a:lnTo>
                        <a:pt x="10" y="1409"/>
                      </a:lnTo>
                      <a:lnTo>
                        <a:pt x="11" y="1420"/>
                      </a:lnTo>
                      <a:lnTo>
                        <a:pt x="13" y="1429"/>
                      </a:lnTo>
                      <a:lnTo>
                        <a:pt x="15" y="1439"/>
                      </a:lnTo>
                      <a:lnTo>
                        <a:pt x="17" y="1448"/>
                      </a:lnTo>
                      <a:lnTo>
                        <a:pt x="19" y="1458"/>
                      </a:lnTo>
                      <a:lnTo>
                        <a:pt x="21" y="1468"/>
                      </a:lnTo>
                      <a:lnTo>
                        <a:pt x="23" y="1477"/>
                      </a:lnTo>
                      <a:lnTo>
                        <a:pt x="27" y="1487"/>
                      </a:lnTo>
                      <a:lnTo>
                        <a:pt x="29" y="1496"/>
                      </a:lnTo>
                      <a:lnTo>
                        <a:pt x="30" y="1506"/>
                      </a:lnTo>
                      <a:lnTo>
                        <a:pt x="34" y="1515"/>
                      </a:lnTo>
                      <a:lnTo>
                        <a:pt x="36" y="1525"/>
                      </a:lnTo>
                      <a:lnTo>
                        <a:pt x="38" y="1534"/>
                      </a:lnTo>
                      <a:lnTo>
                        <a:pt x="42" y="1544"/>
                      </a:lnTo>
                      <a:lnTo>
                        <a:pt x="46" y="1553"/>
                      </a:lnTo>
                      <a:lnTo>
                        <a:pt x="48" y="1561"/>
                      </a:lnTo>
                      <a:lnTo>
                        <a:pt x="51" y="1572"/>
                      </a:lnTo>
                      <a:lnTo>
                        <a:pt x="55" y="1580"/>
                      </a:lnTo>
                      <a:lnTo>
                        <a:pt x="59" y="1589"/>
                      </a:lnTo>
                      <a:lnTo>
                        <a:pt x="63" y="1599"/>
                      </a:lnTo>
                      <a:lnTo>
                        <a:pt x="67" y="1608"/>
                      </a:lnTo>
                      <a:lnTo>
                        <a:pt x="68" y="1616"/>
                      </a:lnTo>
                      <a:lnTo>
                        <a:pt x="74" y="1627"/>
                      </a:lnTo>
                      <a:lnTo>
                        <a:pt x="78" y="1635"/>
                      </a:lnTo>
                      <a:lnTo>
                        <a:pt x="82" y="1644"/>
                      </a:lnTo>
                      <a:lnTo>
                        <a:pt x="86" y="1652"/>
                      </a:lnTo>
                      <a:lnTo>
                        <a:pt x="89" y="1661"/>
                      </a:lnTo>
                      <a:lnTo>
                        <a:pt x="95" y="1669"/>
                      </a:lnTo>
                      <a:lnTo>
                        <a:pt x="99" y="1679"/>
                      </a:lnTo>
                      <a:lnTo>
                        <a:pt x="103" y="1688"/>
                      </a:lnTo>
                      <a:lnTo>
                        <a:pt x="108" y="1696"/>
                      </a:lnTo>
                      <a:lnTo>
                        <a:pt x="114" y="1703"/>
                      </a:lnTo>
                      <a:lnTo>
                        <a:pt x="118" y="1713"/>
                      </a:lnTo>
                      <a:lnTo>
                        <a:pt x="124" y="1722"/>
                      </a:lnTo>
                      <a:lnTo>
                        <a:pt x="127" y="1732"/>
                      </a:lnTo>
                      <a:lnTo>
                        <a:pt x="131" y="1736"/>
                      </a:lnTo>
                      <a:lnTo>
                        <a:pt x="135" y="1739"/>
                      </a:lnTo>
                      <a:lnTo>
                        <a:pt x="135" y="1743"/>
                      </a:lnTo>
                      <a:lnTo>
                        <a:pt x="137" y="1745"/>
                      </a:lnTo>
                      <a:lnTo>
                        <a:pt x="139" y="1747"/>
                      </a:lnTo>
                      <a:lnTo>
                        <a:pt x="141" y="1751"/>
                      </a:lnTo>
                      <a:lnTo>
                        <a:pt x="143" y="1755"/>
                      </a:lnTo>
                      <a:lnTo>
                        <a:pt x="143" y="1756"/>
                      </a:lnTo>
                      <a:lnTo>
                        <a:pt x="145" y="1760"/>
                      </a:lnTo>
                      <a:lnTo>
                        <a:pt x="146" y="1762"/>
                      </a:lnTo>
                      <a:lnTo>
                        <a:pt x="148" y="1766"/>
                      </a:lnTo>
                      <a:lnTo>
                        <a:pt x="150" y="1768"/>
                      </a:lnTo>
                      <a:lnTo>
                        <a:pt x="152" y="1770"/>
                      </a:lnTo>
                      <a:lnTo>
                        <a:pt x="156" y="1774"/>
                      </a:lnTo>
                      <a:lnTo>
                        <a:pt x="158" y="1777"/>
                      </a:lnTo>
                      <a:lnTo>
                        <a:pt x="160" y="1779"/>
                      </a:lnTo>
                      <a:lnTo>
                        <a:pt x="160" y="1783"/>
                      </a:lnTo>
                      <a:lnTo>
                        <a:pt x="162" y="1787"/>
                      </a:lnTo>
                      <a:lnTo>
                        <a:pt x="166" y="1789"/>
                      </a:lnTo>
                      <a:lnTo>
                        <a:pt x="166" y="1791"/>
                      </a:lnTo>
                      <a:lnTo>
                        <a:pt x="167" y="1794"/>
                      </a:lnTo>
                      <a:lnTo>
                        <a:pt x="169" y="1796"/>
                      </a:lnTo>
                      <a:lnTo>
                        <a:pt x="171" y="1800"/>
                      </a:lnTo>
                      <a:lnTo>
                        <a:pt x="173" y="1802"/>
                      </a:lnTo>
                      <a:lnTo>
                        <a:pt x="175" y="1806"/>
                      </a:lnTo>
                      <a:lnTo>
                        <a:pt x="177" y="1808"/>
                      </a:lnTo>
                      <a:lnTo>
                        <a:pt x="179" y="1812"/>
                      </a:lnTo>
                      <a:lnTo>
                        <a:pt x="181" y="1815"/>
                      </a:lnTo>
                      <a:lnTo>
                        <a:pt x="183" y="1817"/>
                      </a:lnTo>
                      <a:lnTo>
                        <a:pt x="185" y="1821"/>
                      </a:lnTo>
                      <a:lnTo>
                        <a:pt x="188" y="1827"/>
                      </a:lnTo>
                      <a:lnTo>
                        <a:pt x="190" y="1831"/>
                      </a:lnTo>
                      <a:lnTo>
                        <a:pt x="194" y="1836"/>
                      </a:lnTo>
                      <a:lnTo>
                        <a:pt x="198" y="1842"/>
                      </a:lnTo>
                      <a:lnTo>
                        <a:pt x="200" y="1846"/>
                      </a:lnTo>
                      <a:lnTo>
                        <a:pt x="204" y="1850"/>
                      </a:lnTo>
                      <a:lnTo>
                        <a:pt x="205" y="1853"/>
                      </a:lnTo>
                      <a:lnTo>
                        <a:pt x="207" y="1859"/>
                      </a:lnTo>
                      <a:lnTo>
                        <a:pt x="209" y="1861"/>
                      </a:lnTo>
                      <a:lnTo>
                        <a:pt x="211" y="1863"/>
                      </a:lnTo>
                      <a:lnTo>
                        <a:pt x="213" y="1867"/>
                      </a:lnTo>
                      <a:lnTo>
                        <a:pt x="215" y="1869"/>
                      </a:lnTo>
                      <a:lnTo>
                        <a:pt x="217" y="1870"/>
                      </a:lnTo>
                      <a:lnTo>
                        <a:pt x="219" y="1874"/>
                      </a:lnTo>
                      <a:lnTo>
                        <a:pt x="141" y="2163"/>
                      </a:lnTo>
                      <a:lnTo>
                        <a:pt x="143" y="2165"/>
                      </a:lnTo>
                      <a:lnTo>
                        <a:pt x="146" y="2165"/>
                      </a:lnTo>
                      <a:lnTo>
                        <a:pt x="150" y="2167"/>
                      </a:lnTo>
                      <a:lnTo>
                        <a:pt x="152" y="2167"/>
                      </a:lnTo>
                      <a:lnTo>
                        <a:pt x="154" y="2167"/>
                      </a:lnTo>
                      <a:lnTo>
                        <a:pt x="158" y="2167"/>
                      </a:lnTo>
                      <a:lnTo>
                        <a:pt x="162" y="2171"/>
                      </a:lnTo>
                      <a:lnTo>
                        <a:pt x="166" y="2171"/>
                      </a:lnTo>
                      <a:lnTo>
                        <a:pt x="167" y="2173"/>
                      </a:lnTo>
                      <a:lnTo>
                        <a:pt x="171" y="2173"/>
                      </a:lnTo>
                      <a:lnTo>
                        <a:pt x="175" y="2175"/>
                      </a:lnTo>
                      <a:lnTo>
                        <a:pt x="181" y="2175"/>
                      </a:lnTo>
                      <a:lnTo>
                        <a:pt x="185" y="2175"/>
                      </a:lnTo>
                      <a:lnTo>
                        <a:pt x="188" y="2177"/>
                      </a:lnTo>
                      <a:lnTo>
                        <a:pt x="194" y="2180"/>
                      </a:lnTo>
                      <a:lnTo>
                        <a:pt x="198" y="2180"/>
                      </a:lnTo>
                      <a:lnTo>
                        <a:pt x="204" y="2182"/>
                      </a:lnTo>
                      <a:lnTo>
                        <a:pt x="209" y="2182"/>
                      </a:lnTo>
                      <a:lnTo>
                        <a:pt x="215" y="2184"/>
                      </a:lnTo>
                      <a:lnTo>
                        <a:pt x="219" y="2186"/>
                      </a:lnTo>
                      <a:lnTo>
                        <a:pt x="224" y="2188"/>
                      </a:lnTo>
                      <a:lnTo>
                        <a:pt x="232" y="2188"/>
                      </a:lnTo>
                      <a:lnTo>
                        <a:pt x="238" y="2190"/>
                      </a:lnTo>
                      <a:lnTo>
                        <a:pt x="243" y="2190"/>
                      </a:lnTo>
                      <a:lnTo>
                        <a:pt x="251" y="2192"/>
                      </a:lnTo>
                      <a:lnTo>
                        <a:pt x="257" y="2194"/>
                      </a:lnTo>
                      <a:lnTo>
                        <a:pt x="264" y="2194"/>
                      </a:lnTo>
                      <a:lnTo>
                        <a:pt x="270" y="2196"/>
                      </a:lnTo>
                      <a:lnTo>
                        <a:pt x="276" y="2196"/>
                      </a:lnTo>
                      <a:lnTo>
                        <a:pt x="283" y="2197"/>
                      </a:lnTo>
                      <a:lnTo>
                        <a:pt x="291" y="2199"/>
                      </a:lnTo>
                      <a:lnTo>
                        <a:pt x="297" y="2199"/>
                      </a:lnTo>
                      <a:lnTo>
                        <a:pt x="304" y="2199"/>
                      </a:lnTo>
                      <a:lnTo>
                        <a:pt x="312" y="2199"/>
                      </a:lnTo>
                      <a:lnTo>
                        <a:pt x="320" y="2201"/>
                      </a:lnTo>
                      <a:lnTo>
                        <a:pt x="325" y="2201"/>
                      </a:lnTo>
                      <a:lnTo>
                        <a:pt x="333" y="2201"/>
                      </a:lnTo>
                      <a:lnTo>
                        <a:pt x="341" y="2201"/>
                      </a:lnTo>
                      <a:lnTo>
                        <a:pt x="348" y="2201"/>
                      </a:lnTo>
                      <a:lnTo>
                        <a:pt x="356" y="2201"/>
                      </a:lnTo>
                      <a:lnTo>
                        <a:pt x="363" y="2201"/>
                      </a:lnTo>
                      <a:lnTo>
                        <a:pt x="371" y="2201"/>
                      </a:lnTo>
                      <a:lnTo>
                        <a:pt x="379" y="2201"/>
                      </a:lnTo>
                      <a:lnTo>
                        <a:pt x="386" y="2201"/>
                      </a:lnTo>
                      <a:lnTo>
                        <a:pt x="394" y="2201"/>
                      </a:lnTo>
                      <a:lnTo>
                        <a:pt x="401" y="2199"/>
                      </a:lnTo>
                      <a:lnTo>
                        <a:pt x="409" y="2199"/>
                      </a:lnTo>
                      <a:lnTo>
                        <a:pt x="415" y="2197"/>
                      </a:lnTo>
                      <a:lnTo>
                        <a:pt x="422" y="2196"/>
                      </a:lnTo>
                      <a:lnTo>
                        <a:pt x="432" y="2196"/>
                      </a:lnTo>
                      <a:lnTo>
                        <a:pt x="439" y="2194"/>
                      </a:lnTo>
                      <a:lnTo>
                        <a:pt x="447" y="2192"/>
                      </a:lnTo>
                      <a:lnTo>
                        <a:pt x="455" y="2190"/>
                      </a:lnTo>
                      <a:lnTo>
                        <a:pt x="462" y="2188"/>
                      </a:lnTo>
                      <a:lnTo>
                        <a:pt x="470" y="2188"/>
                      </a:lnTo>
                      <a:lnTo>
                        <a:pt x="476" y="2184"/>
                      </a:lnTo>
                      <a:lnTo>
                        <a:pt x="483" y="2182"/>
                      </a:lnTo>
                      <a:lnTo>
                        <a:pt x="491" y="2180"/>
                      </a:lnTo>
                      <a:lnTo>
                        <a:pt x="498" y="2175"/>
                      </a:lnTo>
                      <a:lnTo>
                        <a:pt x="504" y="2173"/>
                      </a:lnTo>
                      <a:lnTo>
                        <a:pt x="512" y="2169"/>
                      </a:lnTo>
                      <a:lnTo>
                        <a:pt x="517" y="2165"/>
                      </a:lnTo>
                      <a:lnTo>
                        <a:pt x="525" y="2161"/>
                      </a:lnTo>
                      <a:lnTo>
                        <a:pt x="531" y="2158"/>
                      </a:lnTo>
                      <a:lnTo>
                        <a:pt x="536" y="2154"/>
                      </a:lnTo>
                      <a:lnTo>
                        <a:pt x="542" y="2150"/>
                      </a:lnTo>
                      <a:lnTo>
                        <a:pt x="550" y="2146"/>
                      </a:lnTo>
                      <a:lnTo>
                        <a:pt x="555" y="2142"/>
                      </a:lnTo>
                      <a:lnTo>
                        <a:pt x="559" y="2137"/>
                      </a:lnTo>
                      <a:lnTo>
                        <a:pt x="565" y="2133"/>
                      </a:lnTo>
                      <a:lnTo>
                        <a:pt x="571" y="2129"/>
                      </a:lnTo>
                      <a:lnTo>
                        <a:pt x="576" y="2123"/>
                      </a:lnTo>
                      <a:lnTo>
                        <a:pt x="582" y="2120"/>
                      </a:lnTo>
                      <a:lnTo>
                        <a:pt x="588" y="2114"/>
                      </a:lnTo>
                      <a:lnTo>
                        <a:pt x="592" y="2110"/>
                      </a:lnTo>
                      <a:lnTo>
                        <a:pt x="595" y="2106"/>
                      </a:lnTo>
                      <a:lnTo>
                        <a:pt x="601" y="2101"/>
                      </a:lnTo>
                      <a:lnTo>
                        <a:pt x="605" y="2095"/>
                      </a:lnTo>
                      <a:lnTo>
                        <a:pt x="611" y="2091"/>
                      </a:lnTo>
                      <a:lnTo>
                        <a:pt x="614" y="2085"/>
                      </a:lnTo>
                      <a:lnTo>
                        <a:pt x="618" y="2080"/>
                      </a:lnTo>
                      <a:lnTo>
                        <a:pt x="624" y="2076"/>
                      </a:lnTo>
                      <a:lnTo>
                        <a:pt x="628" y="2070"/>
                      </a:lnTo>
                      <a:lnTo>
                        <a:pt x="632" y="2064"/>
                      </a:lnTo>
                      <a:lnTo>
                        <a:pt x="635" y="2059"/>
                      </a:lnTo>
                      <a:lnTo>
                        <a:pt x="637" y="2055"/>
                      </a:lnTo>
                      <a:lnTo>
                        <a:pt x="643" y="2049"/>
                      </a:lnTo>
                      <a:lnTo>
                        <a:pt x="645" y="2043"/>
                      </a:lnTo>
                      <a:lnTo>
                        <a:pt x="649" y="2040"/>
                      </a:lnTo>
                      <a:lnTo>
                        <a:pt x="652" y="2034"/>
                      </a:lnTo>
                      <a:lnTo>
                        <a:pt x="654" y="2030"/>
                      </a:lnTo>
                      <a:lnTo>
                        <a:pt x="658" y="2024"/>
                      </a:lnTo>
                      <a:lnTo>
                        <a:pt x="660" y="2021"/>
                      </a:lnTo>
                      <a:lnTo>
                        <a:pt x="664" y="2015"/>
                      </a:lnTo>
                      <a:lnTo>
                        <a:pt x="666" y="2011"/>
                      </a:lnTo>
                      <a:lnTo>
                        <a:pt x="668" y="2005"/>
                      </a:lnTo>
                      <a:lnTo>
                        <a:pt x="672" y="2002"/>
                      </a:lnTo>
                      <a:lnTo>
                        <a:pt x="673" y="1998"/>
                      </a:lnTo>
                      <a:lnTo>
                        <a:pt x="675" y="1992"/>
                      </a:lnTo>
                      <a:lnTo>
                        <a:pt x="677" y="1986"/>
                      </a:lnTo>
                      <a:lnTo>
                        <a:pt x="679" y="1983"/>
                      </a:lnTo>
                      <a:lnTo>
                        <a:pt x="681" y="1979"/>
                      </a:lnTo>
                      <a:lnTo>
                        <a:pt x="683" y="1975"/>
                      </a:lnTo>
                      <a:lnTo>
                        <a:pt x="685" y="1971"/>
                      </a:lnTo>
                      <a:lnTo>
                        <a:pt x="687" y="1969"/>
                      </a:lnTo>
                      <a:lnTo>
                        <a:pt x="689" y="1964"/>
                      </a:lnTo>
                      <a:lnTo>
                        <a:pt x="691" y="1962"/>
                      </a:lnTo>
                      <a:lnTo>
                        <a:pt x="692" y="1958"/>
                      </a:lnTo>
                      <a:lnTo>
                        <a:pt x="692" y="1954"/>
                      </a:lnTo>
                      <a:lnTo>
                        <a:pt x="692" y="1952"/>
                      </a:lnTo>
                      <a:lnTo>
                        <a:pt x="694" y="1950"/>
                      </a:lnTo>
                      <a:lnTo>
                        <a:pt x="696" y="1945"/>
                      </a:lnTo>
                      <a:lnTo>
                        <a:pt x="698" y="1941"/>
                      </a:lnTo>
                      <a:lnTo>
                        <a:pt x="700" y="1937"/>
                      </a:lnTo>
                      <a:lnTo>
                        <a:pt x="700" y="1935"/>
                      </a:lnTo>
                      <a:lnTo>
                        <a:pt x="700" y="1933"/>
                      </a:lnTo>
                      <a:lnTo>
                        <a:pt x="702" y="1933"/>
                      </a:lnTo>
                      <a:lnTo>
                        <a:pt x="740" y="1943"/>
                      </a:lnTo>
                      <a:lnTo>
                        <a:pt x="740" y="1943"/>
                      </a:lnTo>
                      <a:lnTo>
                        <a:pt x="738" y="1945"/>
                      </a:lnTo>
                      <a:lnTo>
                        <a:pt x="738" y="1947"/>
                      </a:lnTo>
                      <a:lnTo>
                        <a:pt x="738" y="1950"/>
                      </a:lnTo>
                      <a:lnTo>
                        <a:pt x="738" y="1954"/>
                      </a:lnTo>
                      <a:lnTo>
                        <a:pt x="738" y="1958"/>
                      </a:lnTo>
                      <a:lnTo>
                        <a:pt x="736" y="1962"/>
                      </a:lnTo>
                      <a:lnTo>
                        <a:pt x="736" y="1964"/>
                      </a:lnTo>
                      <a:lnTo>
                        <a:pt x="736" y="1967"/>
                      </a:lnTo>
                      <a:lnTo>
                        <a:pt x="736" y="1971"/>
                      </a:lnTo>
                      <a:lnTo>
                        <a:pt x="736" y="1975"/>
                      </a:lnTo>
                      <a:lnTo>
                        <a:pt x="736" y="1979"/>
                      </a:lnTo>
                      <a:lnTo>
                        <a:pt x="736" y="1983"/>
                      </a:lnTo>
                      <a:lnTo>
                        <a:pt x="736" y="1985"/>
                      </a:lnTo>
                      <a:lnTo>
                        <a:pt x="736" y="1990"/>
                      </a:lnTo>
                      <a:lnTo>
                        <a:pt x="736" y="1994"/>
                      </a:lnTo>
                      <a:lnTo>
                        <a:pt x="736" y="1998"/>
                      </a:lnTo>
                      <a:lnTo>
                        <a:pt x="736" y="2004"/>
                      </a:lnTo>
                      <a:lnTo>
                        <a:pt x="736" y="2007"/>
                      </a:lnTo>
                      <a:lnTo>
                        <a:pt x="736" y="2013"/>
                      </a:lnTo>
                      <a:lnTo>
                        <a:pt x="736" y="2015"/>
                      </a:lnTo>
                      <a:lnTo>
                        <a:pt x="736" y="2021"/>
                      </a:lnTo>
                      <a:lnTo>
                        <a:pt x="736" y="2026"/>
                      </a:lnTo>
                      <a:lnTo>
                        <a:pt x="736" y="2030"/>
                      </a:lnTo>
                      <a:lnTo>
                        <a:pt x="736" y="2036"/>
                      </a:lnTo>
                      <a:lnTo>
                        <a:pt x="736" y="2042"/>
                      </a:lnTo>
                      <a:lnTo>
                        <a:pt x="736" y="2047"/>
                      </a:lnTo>
                      <a:lnTo>
                        <a:pt x="738" y="2051"/>
                      </a:lnTo>
                      <a:lnTo>
                        <a:pt x="738" y="2057"/>
                      </a:lnTo>
                      <a:lnTo>
                        <a:pt x="738" y="2062"/>
                      </a:lnTo>
                      <a:lnTo>
                        <a:pt x="740" y="2066"/>
                      </a:lnTo>
                      <a:lnTo>
                        <a:pt x="740" y="2072"/>
                      </a:lnTo>
                      <a:lnTo>
                        <a:pt x="742" y="2078"/>
                      </a:lnTo>
                      <a:lnTo>
                        <a:pt x="744" y="2083"/>
                      </a:lnTo>
                      <a:lnTo>
                        <a:pt x="744" y="2091"/>
                      </a:lnTo>
                      <a:lnTo>
                        <a:pt x="746" y="2095"/>
                      </a:lnTo>
                      <a:lnTo>
                        <a:pt x="748" y="2101"/>
                      </a:lnTo>
                      <a:lnTo>
                        <a:pt x="748" y="2106"/>
                      </a:lnTo>
                      <a:lnTo>
                        <a:pt x="751" y="2110"/>
                      </a:lnTo>
                      <a:lnTo>
                        <a:pt x="753" y="2118"/>
                      </a:lnTo>
                      <a:lnTo>
                        <a:pt x="753" y="2123"/>
                      </a:lnTo>
                      <a:lnTo>
                        <a:pt x="757" y="2129"/>
                      </a:lnTo>
                      <a:lnTo>
                        <a:pt x="759" y="2135"/>
                      </a:lnTo>
                      <a:lnTo>
                        <a:pt x="761" y="2139"/>
                      </a:lnTo>
                      <a:lnTo>
                        <a:pt x="765" y="2144"/>
                      </a:lnTo>
                      <a:lnTo>
                        <a:pt x="767" y="2150"/>
                      </a:lnTo>
                      <a:lnTo>
                        <a:pt x="769" y="2156"/>
                      </a:lnTo>
                      <a:lnTo>
                        <a:pt x="772" y="2159"/>
                      </a:lnTo>
                      <a:lnTo>
                        <a:pt x="776" y="2165"/>
                      </a:lnTo>
                      <a:lnTo>
                        <a:pt x="780" y="2171"/>
                      </a:lnTo>
                      <a:lnTo>
                        <a:pt x="782" y="2175"/>
                      </a:lnTo>
                      <a:lnTo>
                        <a:pt x="786" y="2180"/>
                      </a:lnTo>
                      <a:lnTo>
                        <a:pt x="789" y="2186"/>
                      </a:lnTo>
                      <a:lnTo>
                        <a:pt x="795" y="2190"/>
                      </a:lnTo>
                      <a:lnTo>
                        <a:pt x="799" y="2196"/>
                      </a:lnTo>
                      <a:lnTo>
                        <a:pt x="805" y="2201"/>
                      </a:lnTo>
                      <a:lnTo>
                        <a:pt x="808" y="2205"/>
                      </a:lnTo>
                      <a:lnTo>
                        <a:pt x="814" y="2209"/>
                      </a:lnTo>
                      <a:lnTo>
                        <a:pt x="818" y="2213"/>
                      </a:lnTo>
                      <a:lnTo>
                        <a:pt x="824" y="2216"/>
                      </a:lnTo>
                      <a:lnTo>
                        <a:pt x="828" y="2222"/>
                      </a:lnTo>
                      <a:lnTo>
                        <a:pt x="833" y="2224"/>
                      </a:lnTo>
                      <a:lnTo>
                        <a:pt x="839" y="2228"/>
                      </a:lnTo>
                      <a:lnTo>
                        <a:pt x="845" y="2232"/>
                      </a:lnTo>
                      <a:lnTo>
                        <a:pt x="848" y="2235"/>
                      </a:lnTo>
                      <a:lnTo>
                        <a:pt x="854" y="2239"/>
                      </a:lnTo>
                      <a:lnTo>
                        <a:pt x="858" y="2243"/>
                      </a:lnTo>
                      <a:lnTo>
                        <a:pt x="864" y="2245"/>
                      </a:lnTo>
                      <a:lnTo>
                        <a:pt x="867" y="2249"/>
                      </a:lnTo>
                      <a:lnTo>
                        <a:pt x="873" y="2253"/>
                      </a:lnTo>
                      <a:lnTo>
                        <a:pt x="877" y="2256"/>
                      </a:lnTo>
                      <a:lnTo>
                        <a:pt x="883" y="2258"/>
                      </a:lnTo>
                      <a:lnTo>
                        <a:pt x="890" y="2260"/>
                      </a:lnTo>
                      <a:lnTo>
                        <a:pt x="896" y="2264"/>
                      </a:lnTo>
                      <a:lnTo>
                        <a:pt x="900" y="2266"/>
                      </a:lnTo>
                      <a:lnTo>
                        <a:pt x="904" y="2268"/>
                      </a:lnTo>
                      <a:lnTo>
                        <a:pt x="907" y="2270"/>
                      </a:lnTo>
                      <a:lnTo>
                        <a:pt x="913" y="2273"/>
                      </a:lnTo>
                      <a:lnTo>
                        <a:pt x="919" y="2275"/>
                      </a:lnTo>
                      <a:lnTo>
                        <a:pt x="925" y="2277"/>
                      </a:lnTo>
                      <a:lnTo>
                        <a:pt x="928" y="2279"/>
                      </a:lnTo>
                      <a:lnTo>
                        <a:pt x="934" y="2281"/>
                      </a:lnTo>
                      <a:lnTo>
                        <a:pt x="938" y="2283"/>
                      </a:lnTo>
                      <a:lnTo>
                        <a:pt x="942" y="2285"/>
                      </a:lnTo>
                      <a:lnTo>
                        <a:pt x="947" y="2287"/>
                      </a:lnTo>
                      <a:lnTo>
                        <a:pt x="951" y="2289"/>
                      </a:lnTo>
                      <a:lnTo>
                        <a:pt x="955" y="2289"/>
                      </a:lnTo>
                      <a:lnTo>
                        <a:pt x="961" y="2291"/>
                      </a:lnTo>
                      <a:lnTo>
                        <a:pt x="964" y="2291"/>
                      </a:lnTo>
                      <a:lnTo>
                        <a:pt x="968" y="2294"/>
                      </a:lnTo>
                      <a:lnTo>
                        <a:pt x="972" y="2294"/>
                      </a:lnTo>
                      <a:lnTo>
                        <a:pt x="978" y="2294"/>
                      </a:lnTo>
                      <a:lnTo>
                        <a:pt x="982" y="2296"/>
                      </a:lnTo>
                      <a:lnTo>
                        <a:pt x="985" y="2296"/>
                      </a:lnTo>
                      <a:lnTo>
                        <a:pt x="989" y="2296"/>
                      </a:lnTo>
                      <a:lnTo>
                        <a:pt x="993" y="2298"/>
                      </a:lnTo>
                      <a:lnTo>
                        <a:pt x="997" y="2298"/>
                      </a:lnTo>
                      <a:lnTo>
                        <a:pt x="1001" y="2298"/>
                      </a:lnTo>
                      <a:lnTo>
                        <a:pt x="1004" y="2298"/>
                      </a:lnTo>
                      <a:lnTo>
                        <a:pt x="1008" y="2300"/>
                      </a:lnTo>
                      <a:lnTo>
                        <a:pt x="1010" y="2300"/>
                      </a:lnTo>
                      <a:lnTo>
                        <a:pt x="1014" y="2300"/>
                      </a:lnTo>
                      <a:lnTo>
                        <a:pt x="1016" y="2300"/>
                      </a:lnTo>
                      <a:lnTo>
                        <a:pt x="1020" y="2300"/>
                      </a:lnTo>
                      <a:lnTo>
                        <a:pt x="1022" y="2300"/>
                      </a:lnTo>
                      <a:lnTo>
                        <a:pt x="1025" y="2302"/>
                      </a:lnTo>
                      <a:lnTo>
                        <a:pt x="1029" y="2300"/>
                      </a:lnTo>
                      <a:lnTo>
                        <a:pt x="1035" y="2300"/>
                      </a:lnTo>
                      <a:lnTo>
                        <a:pt x="1039" y="2298"/>
                      </a:lnTo>
                      <a:lnTo>
                        <a:pt x="1042" y="2298"/>
                      </a:lnTo>
                      <a:lnTo>
                        <a:pt x="1044" y="2296"/>
                      </a:lnTo>
                      <a:lnTo>
                        <a:pt x="1048" y="2296"/>
                      </a:lnTo>
                      <a:lnTo>
                        <a:pt x="1048" y="2294"/>
                      </a:lnTo>
                      <a:lnTo>
                        <a:pt x="1050" y="2294"/>
                      </a:lnTo>
                      <a:lnTo>
                        <a:pt x="1246" y="1334"/>
                      </a:lnTo>
                      <a:lnTo>
                        <a:pt x="1246" y="1333"/>
                      </a:lnTo>
                      <a:lnTo>
                        <a:pt x="1248" y="1331"/>
                      </a:lnTo>
                      <a:lnTo>
                        <a:pt x="1250" y="1327"/>
                      </a:lnTo>
                      <a:lnTo>
                        <a:pt x="1252" y="1325"/>
                      </a:lnTo>
                      <a:lnTo>
                        <a:pt x="1252" y="1323"/>
                      </a:lnTo>
                      <a:lnTo>
                        <a:pt x="1254" y="1319"/>
                      </a:lnTo>
                      <a:lnTo>
                        <a:pt x="1256" y="1315"/>
                      </a:lnTo>
                      <a:lnTo>
                        <a:pt x="1259" y="1312"/>
                      </a:lnTo>
                      <a:lnTo>
                        <a:pt x="1259" y="1306"/>
                      </a:lnTo>
                      <a:lnTo>
                        <a:pt x="1263" y="1302"/>
                      </a:lnTo>
                      <a:lnTo>
                        <a:pt x="1265" y="1296"/>
                      </a:lnTo>
                      <a:lnTo>
                        <a:pt x="1269" y="1293"/>
                      </a:lnTo>
                      <a:lnTo>
                        <a:pt x="1271" y="1285"/>
                      </a:lnTo>
                      <a:lnTo>
                        <a:pt x="1275" y="1281"/>
                      </a:lnTo>
                      <a:lnTo>
                        <a:pt x="1276" y="1274"/>
                      </a:lnTo>
                      <a:lnTo>
                        <a:pt x="1280" y="1266"/>
                      </a:lnTo>
                      <a:lnTo>
                        <a:pt x="1284" y="1258"/>
                      </a:lnTo>
                      <a:lnTo>
                        <a:pt x="1288" y="1249"/>
                      </a:lnTo>
                      <a:lnTo>
                        <a:pt x="1290" y="1241"/>
                      </a:lnTo>
                      <a:lnTo>
                        <a:pt x="1294" y="1234"/>
                      </a:lnTo>
                      <a:lnTo>
                        <a:pt x="1297" y="1224"/>
                      </a:lnTo>
                      <a:lnTo>
                        <a:pt x="1301" y="1217"/>
                      </a:lnTo>
                      <a:lnTo>
                        <a:pt x="1305" y="1207"/>
                      </a:lnTo>
                      <a:lnTo>
                        <a:pt x="1309" y="1198"/>
                      </a:lnTo>
                      <a:lnTo>
                        <a:pt x="1313" y="1188"/>
                      </a:lnTo>
                      <a:lnTo>
                        <a:pt x="1316" y="1177"/>
                      </a:lnTo>
                      <a:lnTo>
                        <a:pt x="1320" y="1165"/>
                      </a:lnTo>
                      <a:lnTo>
                        <a:pt x="1324" y="1154"/>
                      </a:lnTo>
                      <a:lnTo>
                        <a:pt x="1330" y="1144"/>
                      </a:lnTo>
                      <a:lnTo>
                        <a:pt x="1334" y="1133"/>
                      </a:lnTo>
                      <a:lnTo>
                        <a:pt x="1337" y="1122"/>
                      </a:lnTo>
                      <a:lnTo>
                        <a:pt x="1339" y="1108"/>
                      </a:lnTo>
                      <a:lnTo>
                        <a:pt x="1345" y="1097"/>
                      </a:lnTo>
                      <a:lnTo>
                        <a:pt x="1349" y="1084"/>
                      </a:lnTo>
                      <a:lnTo>
                        <a:pt x="1353" y="1070"/>
                      </a:lnTo>
                      <a:lnTo>
                        <a:pt x="1354" y="1059"/>
                      </a:lnTo>
                      <a:lnTo>
                        <a:pt x="1358" y="1044"/>
                      </a:lnTo>
                      <a:lnTo>
                        <a:pt x="1362" y="1032"/>
                      </a:lnTo>
                      <a:lnTo>
                        <a:pt x="1366" y="1017"/>
                      </a:lnTo>
                      <a:lnTo>
                        <a:pt x="1370" y="1004"/>
                      </a:lnTo>
                      <a:lnTo>
                        <a:pt x="1372" y="988"/>
                      </a:lnTo>
                      <a:lnTo>
                        <a:pt x="1375" y="975"/>
                      </a:lnTo>
                      <a:lnTo>
                        <a:pt x="1377" y="960"/>
                      </a:lnTo>
                      <a:lnTo>
                        <a:pt x="1381" y="947"/>
                      </a:lnTo>
                      <a:lnTo>
                        <a:pt x="1383" y="931"/>
                      </a:lnTo>
                      <a:lnTo>
                        <a:pt x="1387" y="916"/>
                      </a:lnTo>
                      <a:lnTo>
                        <a:pt x="1389" y="901"/>
                      </a:lnTo>
                      <a:lnTo>
                        <a:pt x="1391" y="886"/>
                      </a:lnTo>
                      <a:lnTo>
                        <a:pt x="1392" y="871"/>
                      </a:lnTo>
                      <a:lnTo>
                        <a:pt x="1394" y="855"/>
                      </a:lnTo>
                      <a:lnTo>
                        <a:pt x="1396" y="838"/>
                      </a:lnTo>
                      <a:lnTo>
                        <a:pt x="1398" y="823"/>
                      </a:lnTo>
                      <a:lnTo>
                        <a:pt x="1398" y="806"/>
                      </a:lnTo>
                      <a:lnTo>
                        <a:pt x="1400" y="791"/>
                      </a:lnTo>
                      <a:lnTo>
                        <a:pt x="1402" y="774"/>
                      </a:lnTo>
                      <a:lnTo>
                        <a:pt x="1402" y="757"/>
                      </a:lnTo>
                      <a:lnTo>
                        <a:pt x="1402" y="741"/>
                      </a:lnTo>
                      <a:lnTo>
                        <a:pt x="1402" y="724"/>
                      </a:lnTo>
                      <a:lnTo>
                        <a:pt x="1402" y="705"/>
                      </a:lnTo>
                      <a:lnTo>
                        <a:pt x="1402" y="690"/>
                      </a:lnTo>
                      <a:lnTo>
                        <a:pt x="1400" y="673"/>
                      </a:lnTo>
                      <a:lnTo>
                        <a:pt x="1400" y="656"/>
                      </a:lnTo>
                      <a:lnTo>
                        <a:pt x="1398" y="654"/>
                      </a:lnTo>
                      <a:lnTo>
                        <a:pt x="1398" y="652"/>
                      </a:lnTo>
                      <a:lnTo>
                        <a:pt x="1398" y="648"/>
                      </a:lnTo>
                      <a:lnTo>
                        <a:pt x="1398" y="644"/>
                      </a:lnTo>
                      <a:lnTo>
                        <a:pt x="1398" y="643"/>
                      </a:lnTo>
                      <a:lnTo>
                        <a:pt x="1398" y="639"/>
                      </a:lnTo>
                      <a:lnTo>
                        <a:pt x="1396" y="637"/>
                      </a:lnTo>
                      <a:lnTo>
                        <a:pt x="1396" y="633"/>
                      </a:lnTo>
                      <a:lnTo>
                        <a:pt x="1396" y="631"/>
                      </a:lnTo>
                      <a:lnTo>
                        <a:pt x="1396" y="627"/>
                      </a:lnTo>
                      <a:lnTo>
                        <a:pt x="1396" y="623"/>
                      </a:lnTo>
                      <a:lnTo>
                        <a:pt x="1394" y="620"/>
                      </a:lnTo>
                      <a:lnTo>
                        <a:pt x="1394" y="618"/>
                      </a:lnTo>
                      <a:lnTo>
                        <a:pt x="1394" y="616"/>
                      </a:lnTo>
                      <a:lnTo>
                        <a:pt x="1392" y="612"/>
                      </a:lnTo>
                      <a:lnTo>
                        <a:pt x="1392" y="610"/>
                      </a:lnTo>
                      <a:lnTo>
                        <a:pt x="1392" y="608"/>
                      </a:lnTo>
                      <a:lnTo>
                        <a:pt x="1391" y="604"/>
                      </a:lnTo>
                      <a:lnTo>
                        <a:pt x="1391" y="603"/>
                      </a:lnTo>
                      <a:lnTo>
                        <a:pt x="1391" y="599"/>
                      </a:lnTo>
                      <a:lnTo>
                        <a:pt x="1389" y="597"/>
                      </a:lnTo>
                      <a:lnTo>
                        <a:pt x="1389" y="593"/>
                      </a:lnTo>
                      <a:lnTo>
                        <a:pt x="1389" y="589"/>
                      </a:lnTo>
                      <a:lnTo>
                        <a:pt x="1389" y="587"/>
                      </a:lnTo>
                      <a:lnTo>
                        <a:pt x="1387" y="585"/>
                      </a:lnTo>
                      <a:lnTo>
                        <a:pt x="1385" y="582"/>
                      </a:lnTo>
                      <a:lnTo>
                        <a:pt x="1385" y="580"/>
                      </a:lnTo>
                      <a:lnTo>
                        <a:pt x="1383" y="578"/>
                      </a:lnTo>
                      <a:lnTo>
                        <a:pt x="1383" y="572"/>
                      </a:lnTo>
                      <a:lnTo>
                        <a:pt x="1381" y="568"/>
                      </a:lnTo>
                      <a:lnTo>
                        <a:pt x="1377" y="563"/>
                      </a:lnTo>
                      <a:lnTo>
                        <a:pt x="1375" y="557"/>
                      </a:lnTo>
                      <a:lnTo>
                        <a:pt x="1373" y="553"/>
                      </a:lnTo>
                      <a:lnTo>
                        <a:pt x="1370" y="547"/>
                      </a:lnTo>
                      <a:lnTo>
                        <a:pt x="1366" y="544"/>
                      </a:lnTo>
                      <a:lnTo>
                        <a:pt x="1364" y="540"/>
                      </a:lnTo>
                      <a:lnTo>
                        <a:pt x="1360" y="536"/>
                      </a:lnTo>
                      <a:lnTo>
                        <a:pt x="1356" y="532"/>
                      </a:lnTo>
                      <a:lnTo>
                        <a:pt x="1353" y="528"/>
                      </a:lnTo>
                      <a:lnTo>
                        <a:pt x="1349" y="525"/>
                      </a:lnTo>
                      <a:lnTo>
                        <a:pt x="1345" y="523"/>
                      </a:lnTo>
                      <a:lnTo>
                        <a:pt x="1339" y="521"/>
                      </a:lnTo>
                      <a:lnTo>
                        <a:pt x="1335" y="517"/>
                      </a:lnTo>
                      <a:lnTo>
                        <a:pt x="1332" y="515"/>
                      </a:lnTo>
                      <a:lnTo>
                        <a:pt x="1326" y="515"/>
                      </a:lnTo>
                      <a:lnTo>
                        <a:pt x="1322" y="513"/>
                      </a:lnTo>
                      <a:lnTo>
                        <a:pt x="1318" y="511"/>
                      </a:lnTo>
                      <a:lnTo>
                        <a:pt x="1316" y="511"/>
                      </a:lnTo>
                      <a:lnTo>
                        <a:pt x="1313" y="511"/>
                      </a:lnTo>
                      <a:lnTo>
                        <a:pt x="1311" y="511"/>
                      </a:lnTo>
                      <a:lnTo>
                        <a:pt x="1309" y="509"/>
                      </a:lnTo>
                      <a:lnTo>
                        <a:pt x="1305" y="509"/>
                      </a:lnTo>
                      <a:lnTo>
                        <a:pt x="1303" y="509"/>
                      </a:lnTo>
                      <a:lnTo>
                        <a:pt x="1301" y="509"/>
                      </a:lnTo>
                      <a:lnTo>
                        <a:pt x="1297" y="509"/>
                      </a:lnTo>
                      <a:lnTo>
                        <a:pt x="1295" y="509"/>
                      </a:lnTo>
                      <a:lnTo>
                        <a:pt x="1292" y="509"/>
                      </a:lnTo>
                      <a:lnTo>
                        <a:pt x="1290" y="509"/>
                      </a:lnTo>
                      <a:lnTo>
                        <a:pt x="1284" y="509"/>
                      </a:lnTo>
                      <a:lnTo>
                        <a:pt x="1280" y="509"/>
                      </a:lnTo>
                      <a:lnTo>
                        <a:pt x="1275" y="509"/>
                      </a:lnTo>
                      <a:lnTo>
                        <a:pt x="1269" y="509"/>
                      </a:lnTo>
                      <a:lnTo>
                        <a:pt x="1265" y="509"/>
                      </a:lnTo>
                      <a:lnTo>
                        <a:pt x="1259" y="509"/>
                      </a:lnTo>
                      <a:lnTo>
                        <a:pt x="1256" y="511"/>
                      </a:lnTo>
                      <a:lnTo>
                        <a:pt x="1252" y="511"/>
                      </a:lnTo>
                      <a:lnTo>
                        <a:pt x="1246" y="515"/>
                      </a:lnTo>
                      <a:lnTo>
                        <a:pt x="1242" y="515"/>
                      </a:lnTo>
                      <a:lnTo>
                        <a:pt x="1238" y="517"/>
                      </a:lnTo>
                      <a:lnTo>
                        <a:pt x="1235" y="521"/>
                      </a:lnTo>
                      <a:lnTo>
                        <a:pt x="1231" y="523"/>
                      </a:lnTo>
                      <a:lnTo>
                        <a:pt x="1229" y="525"/>
                      </a:lnTo>
                      <a:lnTo>
                        <a:pt x="1225" y="527"/>
                      </a:lnTo>
                      <a:lnTo>
                        <a:pt x="1221" y="530"/>
                      </a:lnTo>
                      <a:lnTo>
                        <a:pt x="1219" y="532"/>
                      </a:lnTo>
                      <a:lnTo>
                        <a:pt x="1216" y="538"/>
                      </a:lnTo>
                      <a:lnTo>
                        <a:pt x="1214" y="542"/>
                      </a:lnTo>
                      <a:lnTo>
                        <a:pt x="1212" y="546"/>
                      </a:lnTo>
                      <a:lnTo>
                        <a:pt x="1210" y="549"/>
                      </a:lnTo>
                      <a:lnTo>
                        <a:pt x="1208" y="555"/>
                      </a:lnTo>
                      <a:lnTo>
                        <a:pt x="1208" y="557"/>
                      </a:lnTo>
                      <a:lnTo>
                        <a:pt x="1206" y="559"/>
                      </a:lnTo>
                      <a:lnTo>
                        <a:pt x="1204" y="561"/>
                      </a:lnTo>
                      <a:lnTo>
                        <a:pt x="1204" y="565"/>
                      </a:lnTo>
                      <a:lnTo>
                        <a:pt x="1204" y="566"/>
                      </a:lnTo>
                      <a:lnTo>
                        <a:pt x="1204" y="570"/>
                      </a:lnTo>
                      <a:lnTo>
                        <a:pt x="1204" y="572"/>
                      </a:lnTo>
                      <a:lnTo>
                        <a:pt x="1204" y="576"/>
                      </a:lnTo>
                      <a:lnTo>
                        <a:pt x="1139" y="895"/>
                      </a:lnTo>
                      <a:lnTo>
                        <a:pt x="1136" y="893"/>
                      </a:lnTo>
                      <a:lnTo>
                        <a:pt x="1132" y="892"/>
                      </a:lnTo>
                      <a:lnTo>
                        <a:pt x="1126" y="888"/>
                      </a:lnTo>
                      <a:lnTo>
                        <a:pt x="1122" y="886"/>
                      </a:lnTo>
                      <a:lnTo>
                        <a:pt x="1117" y="884"/>
                      </a:lnTo>
                      <a:lnTo>
                        <a:pt x="1113" y="880"/>
                      </a:lnTo>
                      <a:lnTo>
                        <a:pt x="1107" y="878"/>
                      </a:lnTo>
                      <a:lnTo>
                        <a:pt x="1105" y="876"/>
                      </a:lnTo>
                      <a:lnTo>
                        <a:pt x="1227" y="316"/>
                      </a:lnTo>
                      <a:lnTo>
                        <a:pt x="1227" y="312"/>
                      </a:lnTo>
                      <a:lnTo>
                        <a:pt x="1227" y="308"/>
                      </a:lnTo>
                      <a:lnTo>
                        <a:pt x="1229" y="306"/>
                      </a:lnTo>
                      <a:lnTo>
                        <a:pt x="1229" y="304"/>
                      </a:lnTo>
                      <a:lnTo>
                        <a:pt x="1229" y="300"/>
                      </a:lnTo>
                      <a:lnTo>
                        <a:pt x="1229" y="298"/>
                      </a:lnTo>
                      <a:lnTo>
                        <a:pt x="1229" y="295"/>
                      </a:lnTo>
                      <a:lnTo>
                        <a:pt x="1229" y="293"/>
                      </a:lnTo>
                      <a:lnTo>
                        <a:pt x="1229" y="291"/>
                      </a:lnTo>
                      <a:lnTo>
                        <a:pt x="1229" y="287"/>
                      </a:lnTo>
                      <a:lnTo>
                        <a:pt x="1229" y="285"/>
                      </a:lnTo>
                      <a:lnTo>
                        <a:pt x="1229" y="283"/>
                      </a:lnTo>
                      <a:lnTo>
                        <a:pt x="1229" y="278"/>
                      </a:lnTo>
                      <a:lnTo>
                        <a:pt x="1227" y="272"/>
                      </a:lnTo>
                      <a:lnTo>
                        <a:pt x="1225" y="268"/>
                      </a:lnTo>
                      <a:lnTo>
                        <a:pt x="1225" y="262"/>
                      </a:lnTo>
                      <a:lnTo>
                        <a:pt x="1223" y="257"/>
                      </a:lnTo>
                      <a:lnTo>
                        <a:pt x="1221" y="253"/>
                      </a:lnTo>
                      <a:lnTo>
                        <a:pt x="1219" y="247"/>
                      </a:lnTo>
                      <a:lnTo>
                        <a:pt x="1217" y="243"/>
                      </a:lnTo>
                      <a:lnTo>
                        <a:pt x="1216" y="240"/>
                      </a:lnTo>
                      <a:lnTo>
                        <a:pt x="1214" y="236"/>
                      </a:lnTo>
                      <a:lnTo>
                        <a:pt x="1210" y="232"/>
                      </a:lnTo>
                      <a:lnTo>
                        <a:pt x="1206" y="226"/>
                      </a:lnTo>
                      <a:lnTo>
                        <a:pt x="1202" y="222"/>
                      </a:lnTo>
                      <a:lnTo>
                        <a:pt x="1200" y="219"/>
                      </a:lnTo>
                      <a:lnTo>
                        <a:pt x="1197" y="215"/>
                      </a:lnTo>
                      <a:lnTo>
                        <a:pt x="1193" y="211"/>
                      </a:lnTo>
                      <a:lnTo>
                        <a:pt x="1189" y="207"/>
                      </a:lnTo>
                      <a:lnTo>
                        <a:pt x="1185" y="205"/>
                      </a:lnTo>
                      <a:lnTo>
                        <a:pt x="1179" y="203"/>
                      </a:lnTo>
                      <a:lnTo>
                        <a:pt x="1176" y="200"/>
                      </a:lnTo>
                      <a:lnTo>
                        <a:pt x="1172" y="198"/>
                      </a:lnTo>
                      <a:lnTo>
                        <a:pt x="1166" y="194"/>
                      </a:lnTo>
                      <a:lnTo>
                        <a:pt x="1160" y="192"/>
                      </a:lnTo>
                      <a:lnTo>
                        <a:pt x="1157" y="192"/>
                      </a:lnTo>
                      <a:lnTo>
                        <a:pt x="1151" y="190"/>
                      </a:lnTo>
                      <a:lnTo>
                        <a:pt x="1147" y="190"/>
                      </a:lnTo>
                      <a:lnTo>
                        <a:pt x="1143" y="188"/>
                      </a:lnTo>
                      <a:lnTo>
                        <a:pt x="1141" y="186"/>
                      </a:lnTo>
                      <a:lnTo>
                        <a:pt x="1138" y="186"/>
                      </a:lnTo>
                      <a:lnTo>
                        <a:pt x="1136" y="186"/>
                      </a:lnTo>
                      <a:lnTo>
                        <a:pt x="1134" y="186"/>
                      </a:lnTo>
                      <a:lnTo>
                        <a:pt x="1130" y="186"/>
                      </a:lnTo>
                      <a:lnTo>
                        <a:pt x="1128" y="186"/>
                      </a:lnTo>
                      <a:lnTo>
                        <a:pt x="1124" y="186"/>
                      </a:lnTo>
                      <a:lnTo>
                        <a:pt x="1122" y="186"/>
                      </a:lnTo>
                      <a:lnTo>
                        <a:pt x="1120" y="186"/>
                      </a:lnTo>
                      <a:lnTo>
                        <a:pt x="1117" y="186"/>
                      </a:lnTo>
                      <a:lnTo>
                        <a:pt x="1115" y="186"/>
                      </a:lnTo>
                      <a:lnTo>
                        <a:pt x="1109" y="186"/>
                      </a:lnTo>
                      <a:lnTo>
                        <a:pt x="1105" y="188"/>
                      </a:lnTo>
                      <a:lnTo>
                        <a:pt x="1100" y="188"/>
                      </a:lnTo>
                      <a:lnTo>
                        <a:pt x="1094" y="190"/>
                      </a:lnTo>
                      <a:lnTo>
                        <a:pt x="1090" y="192"/>
                      </a:lnTo>
                      <a:lnTo>
                        <a:pt x="1086" y="192"/>
                      </a:lnTo>
                      <a:lnTo>
                        <a:pt x="1081" y="194"/>
                      </a:lnTo>
                      <a:lnTo>
                        <a:pt x="1077" y="198"/>
                      </a:lnTo>
                      <a:lnTo>
                        <a:pt x="1073" y="200"/>
                      </a:lnTo>
                      <a:lnTo>
                        <a:pt x="1067" y="203"/>
                      </a:lnTo>
                      <a:lnTo>
                        <a:pt x="1063" y="205"/>
                      </a:lnTo>
                      <a:lnTo>
                        <a:pt x="1058" y="207"/>
                      </a:lnTo>
                      <a:lnTo>
                        <a:pt x="1054" y="211"/>
                      </a:lnTo>
                      <a:lnTo>
                        <a:pt x="1050" y="215"/>
                      </a:lnTo>
                      <a:lnTo>
                        <a:pt x="1048" y="219"/>
                      </a:lnTo>
                      <a:lnTo>
                        <a:pt x="1044" y="222"/>
                      </a:lnTo>
                      <a:lnTo>
                        <a:pt x="1041" y="226"/>
                      </a:lnTo>
                      <a:lnTo>
                        <a:pt x="1039" y="232"/>
                      </a:lnTo>
                      <a:lnTo>
                        <a:pt x="1035" y="234"/>
                      </a:lnTo>
                      <a:lnTo>
                        <a:pt x="1033" y="240"/>
                      </a:lnTo>
                      <a:lnTo>
                        <a:pt x="1029" y="243"/>
                      </a:lnTo>
                      <a:lnTo>
                        <a:pt x="1027" y="249"/>
                      </a:lnTo>
                      <a:lnTo>
                        <a:pt x="1025" y="253"/>
                      </a:lnTo>
                      <a:lnTo>
                        <a:pt x="1023" y="259"/>
                      </a:lnTo>
                      <a:lnTo>
                        <a:pt x="1022" y="260"/>
                      </a:lnTo>
                      <a:lnTo>
                        <a:pt x="1022" y="264"/>
                      </a:lnTo>
                      <a:lnTo>
                        <a:pt x="1022" y="266"/>
                      </a:lnTo>
                      <a:lnTo>
                        <a:pt x="1022" y="270"/>
                      </a:lnTo>
                      <a:lnTo>
                        <a:pt x="919" y="730"/>
                      </a:lnTo>
                      <a:lnTo>
                        <a:pt x="915" y="728"/>
                      </a:lnTo>
                      <a:lnTo>
                        <a:pt x="913" y="726"/>
                      </a:lnTo>
                      <a:lnTo>
                        <a:pt x="907" y="724"/>
                      </a:lnTo>
                      <a:lnTo>
                        <a:pt x="905" y="720"/>
                      </a:lnTo>
                      <a:lnTo>
                        <a:pt x="904" y="719"/>
                      </a:lnTo>
                      <a:lnTo>
                        <a:pt x="900" y="717"/>
                      </a:lnTo>
                      <a:lnTo>
                        <a:pt x="896" y="713"/>
                      </a:lnTo>
                      <a:lnTo>
                        <a:pt x="892" y="713"/>
                      </a:lnTo>
                      <a:lnTo>
                        <a:pt x="1022" y="129"/>
                      </a:lnTo>
                      <a:lnTo>
                        <a:pt x="1022" y="125"/>
                      </a:lnTo>
                      <a:lnTo>
                        <a:pt x="1022" y="124"/>
                      </a:lnTo>
                      <a:lnTo>
                        <a:pt x="1022" y="120"/>
                      </a:lnTo>
                      <a:lnTo>
                        <a:pt x="1022" y="118"/>
                      </a:lnTo>
                      <a:lnTo>
                        <a:pt x="1022" y="114"/>
                      </a:lnTo>
                      <a:lnTo>
                        <a:pt x="1022" y="112"/>
                      </a:lnTo>
                      <a:lnTo>
                        <a:pt x="1022" y="110"/>
                      </a:lnTo>
                      <a:lnTo>
                        <a:pt x="1022" y="106"/>
                      </a:lnTo>
                      <a:lnTo>
                        <a:pt x="1022" y="105"/>
                      </a:lnTo>
                      <a:lnTo>
                        <a:pt x="1022" y="103"/>
                      </a:lnTo>
                      <a:lnTo>
                        <a:pt x="1022" y="99"/>
                      </a:lnTo>
                      <a:lnTo>
                        <a:pt x="1022" y="97"/>
                      </a:lnTo>
                      <a:lnTo>
                        <a:pt x="1022" y="91"/>
                      </a:lnTo>
                      <a:lnTo>
                        <a:pt x="1022" y="86"/>
                      </a:lnTo>
                      <a:lnTo>
                        <a:pt x="1020" y="82"/>
                      </a:lnTo>
                      <a:lnTo>
                        <a:pt x="1018" y="76"/>
                      </a:lnTo>
                      <a:lnTo>
                        <a:pt x="1016" y="70"/>
                      </a:lnTo>
                      <a:lnTo>
                        <a:pt x="1014" y="67"/>
                      </a:lnTo>
                      <a:lnTo>
                        <a:pt x="1012" y="61"/>
                      </a:lnTo>
                      <a:lnTo>
                        <a:pt x="1010" y="57"/>
                      </a:lnTo>
                      <a:lnTo>
                        <a:pt x="1008" y="53"/>
                      </a:lnTo>
                      <a:lnTo>
                        <a:pt x="1006" y="48"/>
                      </a:lnTo>
                      <a:lnTo>
                        <a:pt x="1004" y="44"/>
                      </a:lnTo>
                      <a:lnTo>
                        <a:pt x="1001" y="40"/>
                      </a:lnTo>
                      <a:lnTo>
                        <a:pt x="997" y="36"/>
                      </a:lnTo>
                      <a:lnTo>
                        <a:pt x="993" y="32"/>
                      </a:lnTo>
                      <a:lnTo>
                        <a:pt x="991" y="29"/>
                      </a:lnTo>
                      <a:lnTo>
                        <a:pt x="985" y="25"/>
                      </a:lnTo>
                      <a:lnTo>
                        <a:pt x="983" y="23"/>
                      </a:lnTo>
                      <a:lnTo>
                        <a:pt x="978" y="19"/>
                      </a:lnTo>
                      <a:lnTo>
                        <a:pt x="972" y="17"/>
                      </a:lnTo>
                      <a:lnTo>
                        <a:pt x="968" y="13"/>
                      </a:lnTo>
                      <a:lnTo>
                        <a:pt x="964" y="11"/>
                      </a:lnTo>
                      <a:lnTo>
                        <a:pt x="961" y="10"/>
                      </a:lnTo>
                      <a:lnTo>
                        <a:pt x="955" y="6"/>
                      </a:lnTo>
                      <a:lnTo>
                        <a:pt x="949" y="6"/>
                      </a:lnTo>
                      <a:lnTo>
                        <a:pt x="944" y="4"/>
                      </a:lnTo>
                      <a:lnTo>
                        <a:pt x="940" y="4"/>
                      </a:lnTo>
                      <a:lnTo>
                        <a:pt x="936" y="2"/>
                      </a:lnTo>
                      <a:lnTo>
                        <a:pt x="934" y="2"/>
                      </a:lnTo>
                      <a:lnTo>
                        <a:pt x="932" y="0"/>
                      </a:lnTo>
                      <a:lnTo>
                        <a:pt x="928" y="0"/>
                      </a:lnTo>
                      <a:lnTo>
                        <a:pt x="926" y="0"/>
                      </a:lnTo>
                      <a:lnTo>
                        <a:pt x="925" y="0"/>
                      </a:lnTo>
                      <a:lnTo>
                        <a:pt x="921" y="0"/>
                      </a:lnTo>
                      <a:lnTo>
                        <a:pt x="919" y="0"/>
                      </a:lnTo>
                      <a:lnTo>
                        <a:pt x="915" y="0"/>
                      </a:lnTo>
                      <a:lnTo>
                        <a:pt x="913" y="0"/>
                      </a:lnTo>
                      <a:lnTo>
                        <a:pt x="911" y="0"/>
                      </a:lnTo>
                      <a:lnTo>
                        <a:pt x="907" y="0"/>
                      </a:lnTo>
                      <a:lnTo>
                        <a:pt x="904" y="0"/>
                      </a:lnTo>
                      <a:lnTo>
                        <a:pt x="898" y="2"/>
                      </a:lnTo>
                      <a:lnTo>
                        <a:pt x="896" y="2"/>
                      </a:lnTo>
                      <a:lnTo>
                        <a:pt x="892" y="2"/>
                      </a:lnTo>
                      <a:lnTo>
                        <a:pt x="890" y="2"/>
                      </a:lnTo>
                      <a:lnTo>
                        <a:pt x="888" y="4"/>
                      </a:lnTo>
                      <a:lnTo>
                        <a:pt x="881" y="4"/>
                      </a:lnTo>
                      <a:lnTo>
                        <a:pt x="877" y="6"/>
                      </a:lnTo>
                      <a:lnTo>
                        <a:pt x="873" y="10"/>
                      </a:lnTo>
                      <a:lnTo>
                        <a:pt x="867" y="11"/>
                      </a:lnTo>
                      <a:lnTo>
                        <a:pt x="864" y="15"/>
                      </a:lnTo>
                      <a:lnTo>
                        <a:pt x="860" y="17"/>
                      </a:lnTo>
                      <a:lnTo>
                        <a:pt x="854" y="19"/>
                      </a:lnTo>
                      <a:lnTo>
                        <a:pt x="850" y="23"/>
                      </a:lnTo>
                      <a:lnTo>
                        <a:pt x="847" y="25"/>
                      </a:lnTo>
                      <a:lnTo>
                        <a:pt x="843" y="29"/>
                      </a:lnTo>
                      <a:lnTo>
                        <a:pt x="839" y="32"/>
                      </a:lnTo>
                      <a:lnTo>
                        <a:pt x="835" y="36"/>
                      </a:lnTo>
                      <a:lnTo>
                        <a:pt x="833" y="40"/>
                      </a:lnTo>
                      <a:lnTo>
                        <a:pt x="831" y="44"/>
                      </a:lnTo>
                      <a:lnTo>
                        <a:pt x="828" y="48"/>
                      </a:lnTo>
                      <a:lnTo>
                        <a:pt x="824" y="53"/>
                      </a:lnTo>
                      <a:lnTo>
                        <a:pt x="822" y="57"/>
                      </a:lnTo>
                      <a:lnTo>
                        <a:pt x="820" y="61"/>
                      </a:lnTo>
                      <a:lnTo>
                        <a:pt x="818" y="67"/>
                      </a:lnTo>
                      <a:lnTo>
                        <a:pt x="816" y="70"/>
                      </a:lnTo>
                      <a:lnTo>
                        <a:pt x="816" y="74"/>
                      </a:lnTo>
                      <a:lnTo>
                        <a:pt x="814" y="76"/>
                      </a:lnTo>
                      <a:lnTo>
                        <a:pt x="812" y="82"/>
                      </a:lnTo>
                      <a:lnTo>
                        <a:pt x="812" y="84"/>
                      </a:lnTo>
                      <a:lnTo>
                        <a:pt x="687" y="663"/>
                      </a:lnTo>
                      <a:lnTo>
                        <a:pt x="681" y="663"/>
                      </a:lnTo>
                      <a:lnTo>
                        <a:pt x="677" y="663"/>
                      </a:lnTo>
                      <a:lnTo>
                        <a:pt x="673" y="663"/>
                      </a:lnTo>
                      <a:lnTo>
                        <a:pt x="670" y="663"/>
                      </a:lnTo>
                      <a:lnTo>
                        <a:pt x="666" y="663"/>
                      </a:lnTo>
                      <a:lnTo>
                        <a:pt x="660" y="665"/>
                      </a:lnTo>
                      <a:lnTo>
                        <a:pt x="656" y="665"/>
                      </a:lnTo>
                      <a:lnTo>
                        <a:pt x="652" y="667"/>
                      </a:lnTo>
                      <a:lnTo>
                        <a:pt x="753" y="213"/>
                      </a:lnTo>
                      <a:lnTo>
                        <a:pt x="753" y="209"/>
                      </a:lnTo>
                      <a:lnTo>
                        <a:pt x="753" y="207"/>
                      </a:lnTo>
                      <a:lnTo>
                        <a:pt x="753" y="203"/>
                      </a:lnTo>
                      <a:lnTo>
                        <a:pt x="753" y="201"/>
                      </a:lnTo>
                      <a:lnTo>
                        <a:pt x="753" y="198"/>
                      </a:lnTo>
                      <a:lnTo>
                        <a:pt x="753" y="196"/>
                      </a:lnTo>
                      <a:lnTo>
                        <a:pt x="753" y="192"/>
                      </a:lnTo>
                      <a:lnTo>
                        <a:pt x="753" y="190"/>
                      </a:lnTo>
                      <a:lnTo>
                        <a:pt x="753" y="188"/>
                      </a:lnTo>
                      <a:lnTo>
                        <a:pt x="753" y="184"/>
                      </a:lnTo>
                      <a:lnTo>
                        <a:pt x="753" y="182"/>
                      </a:lnTo>
                      <a:lnTo>
                        <a:pt x="753" y="181"/>
                      </a:lnTo>
                      <a:lnTo>
                        <a:pt x="753" y="175"/>
                      </a:lnTo>
                      <a:lnTo>
                        <a:pt x="753" y="169"/>
                      </a:lnTo>
                      <a:lnTo>
                        <a:pt x="751" y="167"/>
                      </a:lnTo>
                      <a:lnTo>
                        <a:pt x="751" y="163"/>
                      </a:lnTo>
                      <a:lnTo>
                        <a:pt x="751" y="162"/>
                      </a:lnTo>
                      <a:lnTo>
                        <a:pt x="750" y="160"/>
                      </a:lnTo>
                      <a:lnTo>
                        <a:pt x="748" y="154"/>
                      </a:lnTo>
                      <a:lnTo>
                        <a:pt x="746" y="148"/>
                      </a:lnTo>
                      <a:lnTo>
                        <a:pt x="744" y="144"/>
                      </a:lnTo>
                      <a:lnTo>
                        <a:pt x="742" y="141"/>
                      </a:lnTo>
                      <a:lnTo>
                        <a:pt x="740" y="135"/>
                      </a:lnTo>
                      <a:lnTo>
                        <a:pt x="738" y="131"/>
                      </a:lnTo>
                      <a:lnTo>
                        <a:pt x="734" y="127"/>
                      </a:lnTo>
                      <a:lnTo>
                        <a:pt x="730" y="124"/>
                      </a:lnTo>
                      <a:lnTo>
                        <a:pt x="727" y="120"/>
                      </a:lnTo>
                      <a:lnTo>
                        <a:pt x="725" y="116"/>
                      </a:lnTo>
                      <a:lnTo>
                        <a:pt x="721" y="112"/>
                      </a:lnTo>
                      <a:lnTo>
                        <a:pt x="717" y="108"/>
                      </a:lnTo>
                      <a:lnTo>
                        <a:pt x="713" y="105"/>
                      </a:lnTo>
                      <a:lnTo>
                        <a:pt x="710" y="103"/>
                      </a:lnTo>
                      <a:lnTo>
                        <a:pt x="704" y="99"/>
                      </a:lnTo>
                      <a:lnTo>
                        <a:pt x="700" y="97"/>
                      </a:lnTo>
                      <a:lnTo>
                        <a:pt x="694" y="95"/>
                      </a:lnTo>
                      <a:lnTo>
                        <a:pt x="691" y="91"/>
                      </a:lnTo>
                      <a:lnTo>
                        <a:pt x="685" y="89"/>
                      </a:lnTo>
                      <a:lnTo>
                        <a:pt x="681" y="87"/>
                      </a:lnTo>
                      <a:lnTo>
                        <a:pt x="675" y="86"/>
                      </a:lnTo>
                      <a:lnTo>
                        <a:pt x="672" y="86"/>
                      </a:lnTo>
                      <a:lnTo>
                        <a:pt x="668" y="84"/>
                      </a:lnTo>
                      <a:lnTo>
                        <a:pt x="666" y="84"/>
                      </a:lnTo>
                      <a:lnTo>
                        <a:pt x="664" y="84"/>
                      </a:lnTo>
                      <a:lnTo>
                        <a:pt x="660" y="84"/>
                      </a:lnTo>
                      <a:lnTo>
                        <a:pt x="658" y="84"/>
                      </a:lnTo>
                      <a:lnTo>
                        <a:pt x="654" y="84"/>
                      </a:lnTo>
                      <a:lnTo>
                        <a:pt x="652" y="84"/>
                      </a:lnTo>
                      <a:lnTo>
                        <a:pt x="651" y="84"/>
                      </a:lnTo>
                      <a:lnTo>
                        <a:pt x="647" y="84"/>
                      </a:lnTo>
                      <a:lnTo>
                        <a:pt x="645" y="84"/>
                      </a:lnTo>
                      <a:lnTo>
                        <a:pt x="643" y="84"/>
                      </a:lnTo>
                      <a:lnTo>
                        <a:pt x="639" y="84"/>
                      </a:lnTo>
                      <a:lnTo>
                        <a:pt x="635" y="84"/>
                      </a:lnTo>
                      <a:lnTo>
                        <a:pt x="630" y="84"/>
                      </a:lnTo>
                      <a:lnTo>
                        <a:pt x="628" y="84"/>
                      </a:lnTo>
                      <a:lnTo>
                        <a:pt x="624" y="86"/>
                      </a:lnTo>
                      <a:lnTo>
                        <a:pt x="622" y="86"/>
                      </a:lnTo>
                      <a:lnTo>
                        <a:pt x="618" y="86"/>
                      </a:lnTo>
                      <a:lnTo>
                        <a:pt x="614" y="87"/>
                      </a:lnTo>
                      <a:lnTo>
                        <a:pt x="609" y="89"/>
                      </a:lnTo>
                      <a:lnTo>
                        <a:pt x="603" y="91"/>
                      </a:lnTo>
                      <a:lnTo>
                        <a:pt x="599" y="95"/>
                      </a:lnTo>
                      <a:lnTo>
                        <a:pt x="595" y="97"/>
                      </a:lnTo>
                      <a:lnTo>
                        <a:pt x="592" y="99"/>
                      </a:lnTo>
                      <a:lnTo>
                        <a:pt x="586" y="103"/>
                      </a:lnTo>
                      <a:lnTo>
                        <a:pt x="582" y="105"/>
                      </a:lnTo>
                      <a:lnTo>
                        <a:pt x="578" y="108"/>
                      </a:lnTo>
                      <a:lnTo>
                        <a:pt x="574" y="112"/>
                      </a:lnTo>
                      <a:lnTo>
                        <a:pt x="571" y="116"/>
                      </a:lnTo>
                      <a:lnTo>
                        <a:pt x="567" y="120"/>
                      </a:lnTo>
                      <a:lnTo>
                        <a:pt x="565" y="124"/>
                      </a:lnTo>
                      <a:lnTo>
                        <a:pt x="563" y="127"/>
                      </a:lnTo>
                      <a:lnTo>
                        <a:pt x="559" y="131"/>
                      </a:lnTo>
                      <a:lnTo>
                        <a:pt x="555" y="135"/>
                      </a:lnTo>
                      <a:lnTo>
                        <a:pt x="554" y="141"/>
                      </a:lnTo>
                      <a:lnTo>
                        <a:pt x="552" y="146"/>
                      </a:lnTo>
                      <a:lnTo>
                        <a:pt x="550" y="150"/>
                      </a:lnTo>
                      <a:lnTo>
                        <a:pt x="548" y="156"/>
                      </a:lnTo>
                      <a:lnTo>
                        <a:pt x="546" y="158"/>
                      </a:lnTo>
                      <a:lnTo>
                        <a:pt x="546" y="160"/>
                      </a:lnTo>
                      <a:lnTo>
                        <a:pt x="544" y="163"/>
                      </a:lnTo>
                      <a:lnTo>
                        <a:pt x="544" y="167"/>
                      </a:lnTo>
                      <a:lnTo>
                        <a:pt x="361" y="1127"/>
                      </a:lnTo>
                      <a:lnTo>
                        <a:pt x="361" y="1127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2" name="Rectangle 890"/>
                <p:cNvSpPr/>
                <p:nvPr/>
              </p:nvSpPr>
              <p:spPr>
                <a:xfrm flipH="1" flipV="1" rot="21562800">
                  <a:off x="4995720" y="3305880"/>
                  <a:ext cx="97920" cy="47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33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3" name="Group 891"/>
            <p:cNvGrpSpPr/>
            <p:nvPr/>
          </p:nvGrpSpPr>
          <p:grpSpPr>
            <a:xfrm>
              <a:off x="4520880" y="1630800"/>
              <a:ext cx="882000" cy="1139400"/>
              <a:chOff x="4520880" y="1630800"/>
              <a:chExt cx="882000" cy="1139400"/>
            </a:xfrm>
          </p:grpSpPr>
          <p:grpSp>
            <p:nvGrpSpPr>
              <p:cNvPr id="3074" name="Group 892"/>
              <p:cNvGrpSpPr/>
              <p:nvPr/>
            </p:nvGrpSpPr>
            <p:grpSpPr>
              <a:xfrm>
                <a:off x="4524840" y="1630800"/>
                <a:ext cx="817200" cy="718560"/>
                <a:chOff x="4524840" y="1630800"/>
                <a:chExt cx="817200" cy="718560"/>
              </a:xfrm>
            </p:grpSpPr>
            <p:sp>
              <p:nvSpPr>
                <p:cNvPr id="3075" name="AutoShape 893"/>
                <p:cNvSpPr/>
                <p:nvPr/>
              </p:nvSpPr>
              <p:spPr>
                <a:xfrm flipH="1" rot="20474400">
                  <a:off x="4959000" y="1665720"/>
                  <a:ext cx="306000" cy="527400"/>
                </a:xfrm>
                <a:custGeom>
                  <a:avLst/>
                  <a:gdLst>
                    <a:gd name="textAreaLeft" fmla="*/ 195480 w 306000"/>
                    <a:gd name="textAreaRight" fmla="*/ 306360 w 306000"/>
                    <a:gd name="textAreaTop" fmla="*/ 13680 h 527400"/>
                    <a:gd name="textAreaBottom" fmla="*/ 513720 h 527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899"/>
                        <a:pt x="10800" y="1798"/>
                      </a:cubicBezTo>
                      <a:lnTo>
                        <a:pt x="10800" y="9002"/>
                      </a:lnTo>
                      <a:cubicBezTo>
                        <a:pt x="10800" y="9901"/>
                        <a:pt x="5400" y="10800"/>
                        <a:pt x="0" y="10800"/>
                      </a:cubicBezTo>
                      <a:cubicBezTo>
                        <a:pt x="5400" y="10800"/>
                        <a:pt x="10800" y="11699"/>
                        <a:pt x="10800" y="12598"/>
                      </a:cubicBezTo>
                      <a:lnTo>
                        <a:pt x="10800" y="19802"/>
                      </a:lnTo>
                      <a:cubicBezTo>
                        <a:pt x="10800" y="20701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76" name="Group 894"/>
                <p:cNvGrpSpPr/>
                <p:nvPr/>
              </p:nvGrpSpPr>
              <p:grpSpPr>
                <a:xfrm>
                  <a:off x="4524840" y="1884960"/>
                  <a:ext cx="415080" cy="464400"/>
                  <a:chOff x="4524840" y="1884960"/>
                  <a:chExt cx="415080" cy="464400"/>
                </a:xfrm>
              </p:grpSpPr>
              <p:sp>
                <p:nvSpPr>
                  <p:cNvPr id="3077" name="AutoShape 895"/>
                  <p:cNvSpPr/>
                  <p:nvPr/>
                </p:nvSpPr>
                <p:spPr>
                  <a:xfrm rot="13677000">
                    <a:off x="4581360" y="1962360"/>
                    <a:ext cx="319320" cy="247680"/>
                  </a:xfrm>
                  <a:prstGeom prst="triangle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lin ang="694800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8" name="AutoShape 896"/>
                  <p:cNvSpPr/>
                  <p:nvPr/>
                </p:nvSpPr>
                <p:spPr>
                  <a:xfrm rot="12757800">
                    <a:off x="4581360" y="2128320"/>
                    <a:ext cx="50760" cy="225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5400" y="21600"/>
                        </a:lnTo>
                        <a:lnTo>
                          <a:pt x="162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/>
                      </a:gs>
                    </a:gsLst>
                    <a:lin ang="2136600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79" name="Oval 897"/>
                <p:cNvSpPr/>
                <p:nvPr/>
              </p:nvSpPr>
              <p:spPr>
                <a:xfrm flipH="1" rot="20092200">
                  <a:off x="4718520" y="1713960"/>
                  <a:ext cx="376200" cy="57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77777"/>
                    </a:gs>
                  </a:gsLst>
                  <a:lin ang="2009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0" name="AutoShape 898"/>
                <p:cNvSpPr/>
                <p:nvPr/>
              </p:nvSpPr>
              <p:spPr>
                <a:xfrm rot="20895000">
                  <a:off x="4836600" y="1891080"/>
                  <a:ext cx="7524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9725" y="3202"/>
                        <a:pt x="17850" y="5080"/>
                        <a:pt x="17850" y="10800"/>
                      </a:cubicBezTo>
                      <a:cubicBezTo>
                        <a:pt x="17850" y="16520"/>
                        <a:pt x="19725" y="1839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70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1" name="AutoShape 899"/>
                <p:cNvSpPr/>
                <p:nvPr/>
              </p:nvSpPr>
              <p:spPr>
                <a:xfrm flipH="1" rot="8899200">
                  <a:off x="4611240" y="1737360"/>
                  <a:ext cx="35748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4015" y="21600"/>
                      </a:lnTo>
                      <a:lnTo>
                        <a:pt x="17585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889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2" name="Oval 900"/>
                <p:cNvSpPr/>
                <p:nvPr/>
              </p:nvSpPr>
              <p:spPr>
                <a:xfrm flipH="1" rot="20186400">
                  <a:off x="4653360" y="1761480"/>
                  <a:ext cx="408600" cy="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0000"/>
                    </a:gs>
                  </a:gsLst>
                  <a:lin ang="2018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3" name="Group 901"/>
              <p:cNvGrpSpPr/>
              <p:nvPr/>
            </p:nvGrpSpPr>
            <p:grpSpPr>
              <a:xfrm>
                <a:off x="4520880" y="2152800"/>
                <a:ext cx="882000" cy="617400"/>
                <a:chOff x="4520880" y="2152800"/>
                <a:chExt cx="882000" cy="617400"/>
              </a:xfrm>
            </p:grpSpPr>
            <p:sp>
              <p:nvSpPr>
                <p:cNvPr id="3084" name="AutoShape 902"/>
                <p:cNvSpPr/>
                <p:nvPr/>
              </p:nvSpPr>
              <p:spPr>
                <a:xfrm flipH="1" rot="11206800">
                  <a:off x="4550400" y="2169000"/>
                  <a:ext cx="306000" cy="526680"/>
                </a:xfrm>
                <a:custGeom>
                  <a:avLst/>
                  <a:gdLst>
                    <a:gd name="textAreaLeft" fmla="*/ 195480 w 306000"/>
                    <a:gd name="textAreaRight" fmla="*/ 306360 w 306000"/>
                    <a:gd name="textAreaTop" fmla="*/ 13680 h 526680"/>
                    <a:gd name="textAreaBottom" fmla="*/ 513000 h 526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899"/>
                        <a:pt x="10800" y="1798"/>
                      </a:cubicBezTo>
                      <a:lnTo>
                        <a:pt x="10800" y="9002"/>
                      </a:lnTo>
                      <a:cubicBezTo>
                        <a:pt x="10800" y="9901"/>
                        <a:pt x="5400" y="10800"/>
                        <a:pt x="0" y="10800"/>
                      </a:cubicBezTo>
                      <a:cubicBezTo>
                        <a:pt x="5400" y="10800"/>
                        <a:pt x="10800" y="11699"/>
                        <a:pt x="10800" y="12598"/>
                      </a:cubicBezTo>
                      <a:lnTo>
                        <a:pt x="10800" y="19802"/>
                      </a:lnTo>
                      <a:cubicBezTo>
                        <a:pt x="10800" y="20701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85" name="Group 903"/>
                <p:cNvGrpSpPr/>
                <p:nvPr/>
              </p:nvGrpSpPr>
              <p:grpSpPr>
                <a:xfrm>
                  <a:off x="4942800" y="2263320"/>
                  <a:ext cx="460080" cy="376560"/>
                  <a:chOff x="4942800" y="2263320"/>
                  <a:chExt cx="460080" cy="376560"/>
                </a:xfrm>
              </p:grpSpPr>
              <p:sp>
                <p:nvSpPr>
                  <p:cNvPr id="3086" name="AutoShape 904"/>
                  <p:cNvSpPr/>
                  <p:nvPr/>
                </p:nvSpPr>
                <p:spPr>
                  <a:xfrm rot="4410000">
                    <a:off x="4947120" y="2327760"/>
                    <a:ext cx="319320" cy="24732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7" name="AutoShape 905"/>
                  <p:cNvSpPr/>
                  <p:nvPr/>
                </p:nvSpPr>
                <p:spPr>
                  <a:xfrm rot="3490800">
                    <a:off x="5268240" y="2256840"/>
                    <a:ext cx="50760" cy="225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5400" y="21600"/>
                        </a:lnTo>
                        <a:lnTo>
                          <a:pt x="162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88" name="Oval 906"/>
                <p:cNvSpPr/>
                <p:nvPr/>
              </p:nvSpPr>
              <p:spPr>
                <a:xfrm flipH="1" rot="10825200">
                  <a:off x="4731840" y="2169000"/>
                  <a:ext cx="376200" cy="5749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9" name="AutoShape 907"/>
                <p:cNvSpPr/>
                <p:nvPr/>
              </p:nvSpPr>
              <p:spPr>
                <a:xfrm rot="11628000">
                  <a:off x="4895640" y="2431800"/>
                  <a:ext cx="7524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9725" y="3202"/>
                        <a:pt x="17850" y="5080"/>
                        <a:pt x="17850" y="10800"/>
                      </a:cubicBezTo>
                      <a:cubicBezTo>
                        <a:pt x="17850" y="16520"/>
                        <a:pt x="19725" y="1839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0" name="AutoShape 908"/>
                <p:cNvSpPr/>
                <p:nvPr/>
              </p:nvSpPr>
              <p:spPr>
                <a:xfrm flipH="1" rot="21232200">
                  <a:off x="4764600" y="2605680"/>
                  <a:ext cx="35712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4015" y="21600"/>
                      </a:lnTo>
                      <a:lnTo>
                        <a:pt x="17585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1" name="Oval 909"/>
                <p:cNvSpPr/>
                <p:nvPr/>
              </p:nvSpPr>
              <p:spPr>
                <a:xfrm flipH="1" rot="10919400">
                  <a:off x="4677480" y="2603160"/>
                  <a:ext cx="408240" cy="950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92" name="Group 911"/>
          <p:cNvGrpSpPr/>
          <p:nvPr/>
        </p:nvGrpSpPr>
        <p:grpSpPr>
          <a:xfrm>
            <a:off x="6818040" y="2394360"/>
            <a:ext cx="629280" cy="2036880"/>
            <a:chOff x="6818040" y="2394360"/>
            <a:chExt cx="629280" cy="2036880"/>
          </a:xfrm>
        </p:grpSpPr>
        <p:grpSp>
          <p:nvGrpSpPr>
            <p:cNvPr id="3093" name="Group 912"/>
            <p:cNvGrpSpPr/>
            <p:nvPr/>
          </p:nvGrpSpPr>
          <p:grpSpPr>
            <a:xfrm>
              <a:off x="6818400" y="3385440"/>
              <a:ext cx="628920" cy="1045800"/>
              <a:chOff x="6818400" y="3385440"/>
              <a:chExt cx="628920" cy="1045800"/>
            </a:xfrm>
          </p:grpSpPr>
          <p:grpSp>
            <p:nvGrpSpPr>
              <p:cNvPr id="3094" name="Group 913"/>
              <p:cNvGrpSpPr/>
              <p:nvPr/>
            </p:nvGrpSpPr>
            <p:grpSpPr>
              <a:xfrm>
                <a:off x="6818400" y="3405240"/>
                <a:ext cx="628920" cy="1026000"/>
                <a:chOff x="6818400" y="3405240"/>
                <a:chExt cx="628920" cy="1026000"/>
              </a:xfrm>
            </p:grpSpPr>
            <p:grpSp>
              <p:nvGrpSpPr>
                <p:cNvPr id="3095" name="Group 914"/>
                <p:cNvGrpSpPr/>
                <p:nvPr/>
              </p:nvGrpSpPr>
              <p:grpSpPr>
                <a:xfrm>
                  <a:off x="6818400" y="3915720"/>
                  <a:ext cx="440280" cy="515520"/>
                  <a:chOff x="6818400" y="3915720"/>
                  <a:chExt cx="440280" cy="515520"/>
                </a:xfrm>
              </p:grpSpPr>
              <p:sp>
                <p:nvSpPr>
                  <p:cNvPr id="3096" name="AutoShape 915"/>
                  <p:cNvSpPr/>
                  <p:nvPr/>
                </p:nvSpPr>
                <p:spPr>
                  <a:xfrm flipH="1" rot="10800000">
                    <a:off x="7007400" y="3915720"/>
                    <a:ext cx="2444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97" name="Group 916"/>
                  <p:cNvGrpSpPr/>
                  <p:nvPr/>
                </p:nvGrpSpPr>
                <p:grpSpPr>
                  <a:xfrm>
                    <a:off x="6818400" y="4210920"/>
                    <a:ext cx="440280" cy="220320"/>
                    <a:chOff x="6818400" y="4210920"/>
                    <a:chExt cx="440280" cy="220320"/>
                  </a:xfrm>
                </p:grpSpPr>
                <p:grpSp>
                  <p:nvGrpSpPr>
                    <p:cNvPr id="3098" name="Group 917"/>
                    <p:cNvGrpSpPr/>
                    <p:nvPr/>
                  </p:nvGrpSpPr>
                  <p:grpSpPr>
                    <a:xfrm>
                      <a:off x="6818400" y="4305960"/>
                      <a:ext cx="440280" cy="125280"/>
                      <a:chOff x="6818400" y="4305960"/>
                      <a:chExt cx="440280" cy="125280"/>
                    </a:xfrm>
                  </p:grpSpPr>
                  <p:grpSp>
                    <p:nvGrpSpPr>
                      <p:cNvPr id="3099" name="Group 918"/>
                      <p:cNvGrpSpPr/>
                      <p:nvPr/>
                    </p:nvGrpSpPr>
                    <p:grpSpPr>
                      <a:xfrm>
                        <a:off x="6825600" y="4305960"/>
                        <a:ext cx="433080" cy="125280"/>
                        <a:chOff x="6825600" y="4305960"/>
                        <a:chExt cx="433080" cy="125280"/>
                      </a:xfrm>
                    </p:grpSpPr>
                    <p:sp>
                      <p:nvSpPr>
                        <p:cNvPr id="3100" name="Rectangle 919"/>
                        <p:cNvSpPr/>
                        <p:nvPr/>
                      </p:nvSpPr>
                      <p:spPr>
                        <a:xfrm flipH="1">
                          <a:off x="6969960" y="4307040"/>
                          <a:ext cx="288720" cy="12420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01" name="Freeform 920"/>
                        <p:cNvSpPr/>
                        <p:nvPr/>
                      </p:nvSpPr>
                      <p:spPr>
                        <a:xfrm flipH="1">
                          <a:off x="6825240" y="430596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102" name=""/>
                      <p:cNvGrpSpPr/>
                      <p:nvPr/>
                    </p:nvGrpSpPr>
                    <p:grpSpPr>
                      <a:xfrm>
                        <a:off x="6818400" y="4403880"/>
                        <a:ext cx="440280" cy="360"/>
                        <a:chOff x="6818400" y="4403880"/>
                        <a:chExt cx="440280" cy="360"/>
                      </a:xfrm>
                    </p:grpSpPr>
                    <p:sp>
                      <p:nvSpPr>
                        <p:cNvPr id="3103" name="Line 921"/>
                        <p:cNvSpPr/>
                        <p:nvPr/>
                      </p:nvSpPr>
                      <p:spPr>
                        <a:xfrm flipH="1">
                          <a:off x="6818400" y="4403880"/>
                          <a:ext cx="440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04" name=""/>
                        <p:cNvSpPr txBox="1"/>
                        <p:nvPr/>
                      </p:nvSpPr>
                      <p:spPr>
                        <a:xfrm>
                          <a:off x="6818400" y="440388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105" name="Oval 922"/>
                    <p:cNvSpPr/>
                    <p:nvPr/>
                  </p:nvSpPr>
                  <p:spPr>
                    <a:xfrm flipH="1">
                      <a:off x="7093440" y="4271400"/>
                      <a:ext cx="87840" cy="97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6" name="Freeform 923"/>
                    <p:cNvSpPr/>
                    <p:nvPr/>
                  </p:nvSpPr>
                  <p:spPr>
                    <a:xfrm flipH="1" rot="10248000">
                      <a:off x="6927840" y="421920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10248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07" name="Group 924"/>
                <p:cNvGrpSpPr/>
                <p:nvPr/>
              </p:nvGrpSpPr>
              <p:grpSpPr>
                <a:xfrm>
                  <a:off x="7007040" y="3405240"/>
                  <a:ext cx="440280" cy="515520"/>
                  <a:chOff x="7007040" y="3405240"/>
                  <a:chExt cx="440280" cy="515520"/>
                </a:xfrm>
              </p:grpSpPr>
              <p:sp>
                <p:nvSpPr>
                  <p:cNvPr id="3108" name="AutoShape 925"/>
                  <p:cNvSpPr/>
                  <p:nvPr/>
                </p:nvSpPr>
                <p:spPr>
                  <a:xfrm flipH="1">
                    <a:off x="7013160" y="3529440"/>
                    <a:ext cx="24444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09" name="Group 926"/>
                  <p:cNvGrpSpPr/>
                  <p:nvPr/>
                </p:nvGrpSpPr>
                <p:grpSpPr>
                  <a:xfrm>
                    <a:off x="7007040" y="3405240"/>
                    <a:ext cx="440280" cy="220320"/>
                    <a:chOff x="7007040" y="3405240"/>
                    <a:chExt cx="440280" cy="220320"/>
                  </a:xfrm>
                </p:grpSpPr>
                <p:grpSp>
                  <p:nvGrpSpPr>
                    <p:cNvPr id="3110" name="Group 927"/>
                    <p:cNvGrpSpPr/>
                    <p:nvPr/>
                  </p:nvGrpSpPr>
                  <p:grpSpPr>
                    <a:xfrm>
                      <a:off x="7007040" y="3405240"/>
                      <a:ext cx="440280" cy="125280"/>
                      <a:chOff x="7007040" y="3405240"/>
                      <a:chExt cx="440280" cy="125280"/>
                    </a:xfrm>
                  </p:grpSpPr>
                  <p:grpSp>
                    <p:nvGrpSpPr>
                      <p:cNvPr id="3111" name="Group 928"/>
                      <p:cNvGrpSpPr/>
                      <p:nvPr/>
                    </p:nvGrpSpPr>
                    <p:grpSpPr>
                      <a:xfrm>
                        <a:off x="7007040" y="3405240"/>
                        <a:ext cx="433080" cy="125280"/>
                        <a:chOff x="7007040" y="3405240"/>
                        <a:chExt cx="433080" cy="125280"/>
                      </a:xfrm>
                    </p:grpSpPr>
                    <p:sp>
                      <p:nvSpPr>
                        <p:cNvPr id="3112" name="Rectangle 929"/>
                        <p:cNvSpPr/>
                        <p:nvPr/>
                      </p:nvSpPr>
                      <p:spPr>
                        <a:xfrm flipH="1" rot="10800000">
                          <a:off x="7007040" y="340524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13" name="Freeform 930"/>
                        <p:cNvSpPr/>
                        <p:nvPr/>
                      </p:nvSpPr>
                      <p:spPr>
                        <a:xfrm flipH="1" rot="10800000">
                          <a:off x="7295400" y="340704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114" name=""/>
                      <p:cNvGrpSpPr/>
                      <p:nvPr/>
                    </p:nvGrpSpPr>
                    <p:grpSpPr>
                      <a:xfrm>
                        <a:off x="7007040" y="3432240"/>
                        <a:ext cx="440280" cy="360"/>
                        <a:chOff x="7007040" y="3432240"/>
                        <a:chExt cx="440280" cy="360"/>
                      </a:xfrm>
                    </p:grpSpPr>
                    <p:sp>
                      <p:nvSpPr>
                        <p:cNvPr id="3115" name="Line 931"/>
                        <p:cNvSpPr/>
                        <p:nvPr/>
                      </p:nvSpPr>
                      <p:spPr>
                        <a:xfrm>
                          <a:off x="7007040" y="3432600"/>
                          <a:ext cx="44028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16" name=""/>
                        <p:cNvSpPr txBox="1"/>
                        <p:nvPr/>
                      </p:nvSpPr>
                      <p:spPr>
                        <a:xfrm rot="10800000">
                          <a:off x="7007040" y="343224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117" name="Oval 932"/>
                    <p:cNvSpPr/>
                    <p:nvPr/>
                  </p:nvSpPr>
                  <p:spPr>
                    <a:xfrm flipH="1" rot="10800000">
                      <a:off x="7084440" y="346716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8" name="Freeform 933"/>
                    <p:cNvSpPr/>
                    <p:nvPr/>
                  </p:nvSpPr>
                  <p:spPr>
                    <a:xfrm flipH="1" rot="21048000">
                      <a:off x="7219440" y="347040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119" name="Group 934"/>
              <p:cNvGrpSpPr/>
              <p:nvPr/>
            </p:nvGrpSpPr>
            <p:grpSpPr>
              <a:xfrm>
                <a:off x="6988680" y="3385440"/>
                <a:ext cx="284400" cy="627480"/>
                <a:chOff x="6988680" y="3385440"/>
                <a:chExt cx="284400" cy="627480"/>
              </a:xfrm>
            </p:grpSpPr>
            <p:grpSp>
              <p:nvGrpSpPr>
                <p:cNvPr id="3120" name="Group 935"/>
                <p:cNvGrpSpPr/>
                <p:nvPr/>
              </p:nvGrpSpPr>
              <p:grpSpPr>
                <a:xfrm>
                  <a:off x="6988680" y="3385440"/>
                  <a:ext cx="284400" cy="506880"/>
                  <a:chOff x="6988680" y="3385440"/>
                  <a:chExt cx="284400" cy="506880"/>
                </a:xfrm>
              </p:grpSpPr>
              <p:sp>
                <p:nvSpPr>
                  <p:cNvPr id="3121" name="AutoShape 936"/>
                  <p:cNvSpPr/>
                  <p:nvPr/>
                </p:nvSpPr>
                <p:spPr>
                  <a:xfrm flipH="1">
                    <a:off x="6988680" y="3501000"/>
                    <a:ext cx="28440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2" name="Oval 937"/>
                  <p:cNvSpPr/>
                  <p:nvPr/>
                </p:nvSpPr>
                <p:spPr>
                  <a:xfrm flipH="1">
                    <a:off x="6993720" y="3385440"/>
                    <a:ext cx="279360" cy="24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23" name="Oval 938"/>
                <p:cNvSpPr/>
                <p:nvPr/>
              </p:nvSpPr>
              <p:spPr>
                <a:xfrm flipH="1">
                  <a:off x="7010640" y="3776760"/>
                  <a:ext cx="244440" cy="23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ddddd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24" name="AutoShape 939"/>
              <p:cNvSpPr/>
              <p:nvPr/>
            </p:nvSpPr>
            <p:spPr>
              <a:xfrm flipH="1">
                <a:off x="7079760" y="3853440"/>
                <a:ext cx="104760" cy="90720"/>
              </a:xfrm>
              <a:prstGeom prst="hexagon">
                <a:avLst>
                  <a:gd name="adj" fmla="val 28869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5" name="Group 940"/>
            <p:cNvGrpSpPr/>
            <p:nvPr/>
          </p:nvGrpSpPr>
          <p:grpSpPr>
            <a:xfrm>
              <a:off x="6818040" y="2394360"/>
              <a:ext cx="628920" cy="1045800"/>
              <a:chOff x="6818040" y="2394360"/>
              <a:chExt cx="628920" cy="1045800"/>
            </a:xfrm>
          </p:grpSpPr>
          <p:grpSp>
            <p:nvGrpSpPr>
              <p:cNvPr id="3126" name="Group 941"/>
              <p:cNvGrpSpPr/>
              <p:nvPr/>
            </p:nvGrpSpPr>
            <p:grpSpPr>
              <a:xfrm>
                <a:off x="6818040" y="2394360"/>
                <a:ext cx="628920" cy="1026000"/>
                <a:chOff x="6818040" y="2394360"/>
                <a:chExt cx="628920" cy="1026000"/>
              </a:xfrm>
            </p:grpSpPr>
            <p:grpSp>
              <p:nvGrpSpPr>
                <p:cNvPr id="3127" name="Group 942"/>
                <p:cNvGrpSpPr/>
                <p:nvPr/>
              </p:nvGrpSpPr>
              <p:grpSpPr>
                <a:xfrm>
                  <a:off x="7006680" y="2394360"/>
                  <a:ext cx="440280" cy="515520"/>
                  <a:chOff x="7006680" y="2394360"/>
                  <a:chExt cx="440280" cy="515520"/>
                </a:xfrm>
              </p:grpSpPr>
              <p:sp>
                <p:nvSpPr>
                  <p:cNvPr id="3128" name="AutoShape 943"/>
                  <p:cNvSpPr/>
                  <p:nvPr/>
                </p:nvSpPr>
                <p:spPr>
                  <a:xfrm flipH="1">
                    <a:off x="7012800" y="2518200"/>
                    <a:ext cx="2444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29" name="Group 944"/>
                  <p:cNvGrpSpPr/>
                  <p:nvPr/>
                </p:nvGrpSpPr>
                <p:grpSpPr>
                  <a:xfrm>
                    <a:off x="7006680" y="2394360"/>
                    <a:ext cx="440280" cy="220320"/>
                    <a:chOff x="7006680" y="2394360"/>
                    <a:chExt cx="440280" cy="220320"/>
                  </a:xfrm>
                </p:grpSpPr>
                <p:grpSp>
                  <p:nvGrpSpPr>
                    <p:cNvPr id="3130" name="Group 945"/>
                    <p:cNvGrpSpPr/>
                    <p:nvPr/>
                  </p:nvGrpSpPr>
                  <p:grpSpPr>
                    <a:xfrm>
                      <a:off x="7006680" y="2394360"/>
                      <a:ext cx="440280" cy="125280"/>
                      <a:chOff x="7006680" y="2394360"/>
                      <a:chExt cx="440280" cy="125280"/>
                    </a:xfrm>
                  </p:grpSpPr>
                  <p:grpSp>
                    <p:nvGrpSpPr>
                      <p:cNvPr id="3131" name="Group 946"/>
                      <p:cNvGrpSpPr/>
                      <p:nvPr/>
                    </p:nvGrpSpPr>
                    <p:grpSpPr>
                      <a:xfrm>
                        <a:off x="7006680" y="2394360"/>
                        <a:ext cx="433080" cy="125280"/>
                        <a:chOff x="7006680" y="2394360"/>
                        <a:chExt cx="433080" cy="125280"/>
                      </a:xfrm>
                    </p:grpSpPr>
                    <p:sp>
                      <p:nvSpPr>
                        <p:cNvPr id="3132" name="Rectangle 947"/>
                        <p:cNvSpPr/>
                        <p:nvPr/>
                      </p:nvSpPr>
                      <p:spPr>
                        <a:xfrm flipH="1" rot="10800000">
                          <a:off x="7006680" y="239436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33" name="Freeform 948"/>
                        <p:cNvSpPr/>
                        <p:nvPr/>
                      </p:nvSpPr>
                      <p:spPr>
                        <a:xfrm flipH="1" rot="10800000">
                          <a:off x="7295040" y="239616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134" name=""/>
                      <p:cNvGrpSpPr/>
                      <p:nvPr/>
                    </p:nvGrpSpPr>
                    <p:grpSpPr>
                      <a:xfrm>
                        <a:off x="7006680" y="2421360"/>
                        <a:ext cx="440280" cy="360"/>
                        <a:chOff x="7006680" y="2421360"/>
                        <a:chExt cx="440280" cy="360"/>
                      </a:xfrm>
                    </p:grpSpPr>
                    <p:sp>
                      <p:nvSpPr>
                        <p:cNvPr id="3135" name="Line 949"/>
                        <p:cNvSpPr/>
                        <p:nvPr/>
                      </p:nvSpPr>
                      <p:spPr>
                        <a:xfrm>
                          <a:off x="7006680" y="2421720"/>
                          <a:ext cx="44028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36" name=""/>
                        <p:cNvSpPr txBox="1"/>
                        <p:nvPr/>
                      </p:nvSpPr>
                      <p:spPr>
                        <a:xfrm rot="10800000">
                          <a:off x="7006680" y="242136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137" name="Oval 950"/>
                    <p:cNvSpPr/>
                    <p:nvPr/>
                  </p:nvSpPr>
                  <p:spPr>
                    <a:xfrm flipH="1" rot="10800000">
                      <a:off x="7084080" y="245628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8" name="Freeform 951"/>
                    <p:cNvSpPr/>
                    <p:nvPr/>
                  </p:nvSpPr>
                  <p:spPr>
                    <a:xfrm flipH="1" rot="21048000">
                      <a:off x="7219080" y="245952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39" name="Group 952"/>
                <p:cNvGrpSpPr/>
                <p:nvPr/>
              </p:nvGrpSpPr>
              <p:grpSpPr>
                <a:xfrm>
                  <a:off x="6818040" y="2904840"/>
                  <a:ext cx="440280" cy="515520"/>
                  <a:chOff x="6818040" y="2904840"/>
                  <a:chExt cx="440280" cy="515520"/>
                </a:xfrm>
              </p:grpSpPr>
              <p:sp>
                <p:nvSpPr>
                  <p:cNvPr id="3140" name="AutoShape 953"/>
                  <p:cNvSpPr/>
                  <p:nvPr/>
                </p:nvSpPr>
                <p:spPr>
                  <a:xfrm flipH="1" rot="10800000">
                    <a:off x="7007040" y="2904840"/>
                    <a:ext cx="24444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41" name="Group 954"/>
                  <p:cNvGrpSpPr/>
                  <p:nvPr/>
                </p:nvGrpSpPr>
                <p:grpSpPr>
                  <a:xfrm>
                    <a:off x="6818040" y="3200040"/>
                    <a:ext cx="440280" cy="220320"/>
                    <a:chOff x="6818040" y="3200040"/>
                    <a:chExt cx="440280" cy="220320"/>
                  </a:xfrm>
                </p:grpSpPr>
                <p:grpSp>
                  <p:nvGrpSpPr>
                    <p:cNvPr id="3142" name="Group 955"/>
                    <p:cNvGrpSpPr/>
                    <p:nvPr/>
                  </p:nvGrpSpPr>
                  <p:grpSpPr>
                    <a:xfrm>
                      <a:off x="6818040" y="3295080"/>
                      <a:ext cx="440280" cy="125280"/>
                      <a:chOff x="6818040" y="3295080"/>
                      <a:chExt cx="440280" cy="125280"/>
                    </a:xfrm>
                  </p:grpSpPr>
                  <p:grpSp>
                    <p:nvGrpSpPr>
                      <p:cNvPr id="3143" name="Group 956"/>
                      <p:cNvGrpSpPr/>
                      <p:nvPr/>
                    </p:nvGrpSpPr>
                    <p:grpSpPr>
                      <a:xfrm>
                        <a:off x="6825240" y="3295080"/>
                        <a:ext cx="433080" cy="125280"/>
                        <a:chOff x="6825240" y="3295080"/>
                        <a:chExt cx="433080" cy="125280"/>
                      </a:xfrm>
                    </p:grpSpPr>
                    <p:sp>
                      <p:nvSpPr>
                        <p:cNvPr id="3144" name="Rectangle 957"/>
                        <p:cNvSpPr/>
                        <p:nvPr/>
                      </p:nvSpPr>
                      <p:spPr>
                        <a:xfrm flipH="1">
                          <a:off x="6969600" y="329616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45" name="Freeform 958"/>
                        <p:cNvSpPr/>
                        <p:nvPr/>
                      </p:nvSpPr>
                      <p:spPr>
                        <a:xfrm flipH="1">
                          <a:off x="6824880" y="329508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146" name=""/>
                      <p:cNvGrpSpPr/>
                      <p:nvPr/>
                    </p:nvGrpSpPr>
                    <p:grpSpPr>
                      <a:xfrm>
                        <a:off x="6818040" y="3393000"/>
                        <a:ext cx="440280" cy="360"/>
                        <a:chOff x="6818040" y="3393000"/>
                        <a:chExt cx="440280" cy="360"/>
                      </a:xfrm>
                    </p:grpSpPr>
                    <p:sp>
                      <p:nvSpPr>
                        <p:cNvPr id="3147" name="Line 959"/>
                        <p:cNvSpPr/>
                        <p:nvPr/>
                      </p:nvSpPr>
                      <p:spPr>
                        <a:xfrm flipH="1">
                          <a:off x="6818040" y="3393000"/>
                          <a:ext cx="44028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48" name=""/>
                        <p:cNvSpPr txBox="1"/>
                        <p:nvPr/>
                      </p:nvSpPr>
                      <p:spPr>
                        <a:xfrm>
                          <a:off x="6818040" y="339300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149" name="Oval 960"/>
                    <p:cNvSpPr/>
                    <p:nvPr/>
                  </p:nvSpPr>
                  <p:spPr>
                    <a:xfrm flipH="1">
                      <a:off x="7093080" y="326052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0" name="Freeform 961"/>
                    <p:cNvSpPr/>
                    <p:nvPr/>
                  </p:nvSpPr>
                  <p:spPr>
                    <a:xfrm flipH="1" rot="10247400">
                      <a:off x="6927480" y="320832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151" name="Group 962"/>
              <p:cNvGrpSpPr/>
              <p:nvPr/>
            </p:nvGrpSpPr>
            <p:grpSpPr>
              <a:xfrm>
                <a:off x="6992280" y="2812680"/>
                <a:ext cx="284400" cy="627480"/>
                <a:chOff x="6992280" y="2812680"/>
                <a:chExt cx="284400" cy="627480"/>
              </a:xfrm>
            </p:grpSpPr>
            <p:grpSp>
              <p:nvGrpSpPr>
                <p:cNvPr id="3152" name="Group 963"/>
                <p:cNvGrpSpPr/>
                <p:nvPr/>
              </p:nvGrpSpPr>
              <p:grpSpPr>
                <a:xfrm>
                  <a:off x="6992280" y="2933280"/>
                  <a:ext cx="284400" cy="506880"/>
                  <a:chOff x="6992280" y="2933280"/>
                  <a:chExt cx="284400" cy="506880"/>
                </a:xfrm>
              </p:grpSpPr>
              <p:sp>
                <p:nvSpPr>
                  <p:cNvPr id="3153" name="AutoShape 964"/>
                  <p:cNvSpPr/>
                  <p:nvPr/>
                </p:nvSpPr>
                <p:spPr>
                  <a:xfrm flipH="1" rot="10800000">
                    <a:off x="6992280" y="2933280"/>
                    <a:ext cx="28440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4" name="Oval 965"/>
                  <p:cNvSpPr/>
                  <p:nvPr/>
                </p:nvSpPr>
                <p:spPr>
                  <a:xfrm flipH="1" rot="10800000">
                    <a:off x="6992280" y="3200040"/>
                    <a:ext cx="279360" cy="2401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55" name="Oval 966"/>
                <p:cNvSpPr/>
                <p:nvPr/>
              </p:nvSpPr>
              <p:spPr>
                <a:xfrm flipH="1" rot="10800000">
                  <a:off x="7009560" y="2812680"/>
                  <a:ext cx="244440" cy="236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6" name="AutoShape 967"/>
              <p:cNvSpPr/>
              <p:nvPr/>
            </p:nvSpPr>
            <p:spPr>
              <a:xfrm flipH="1" rot="10800000">
                <a:off x="7080120" y="2881440"/>
                <a:ext cx="104760" cy="90720"/>
              </a:xfrm>
              <a:prstGeom prst="hexagon">
                <a:avLst>
                  <a:gd name="adj" fmla="val 28869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57" name="Group 968"/>
          <p:cNvGrpSpPr/>
          <p:nvPr/>
        </p:nvGrpSpPr>
        <p:grpSpPr>
          <a:xfrm>
            <a:off x="6700320" y="2001960"/>
            <a:ext cx="707040" cy="1566720"/>
            <a:chOff x="6700320" y="2001960"/>
            <a:chExt cx="707040" cy="1566720"/>
          </a:xfrm>
        </p:grpSpPr>
        <p:sp>
          <p:nvSpPr>
            <p:cNvPr id="3158" name="Oval 969"/>
            <p:cNvSpPr/>
            <p:nvPr/>
          </p:nvSpPr>
          <p:spPr>
            <a:xfrm flipH="1" rot="21214200">
              <a:off x="6809040" y="2991600"/>
              <a:ext cx="569520" cy="5468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21216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Oval 970"/>
            <p:cNvSpPr/>
            <p:nvPr/>
          </p:nvSpPr>
          <p:spPr>
            <a:xfrm flipH="1" rot="21214200">
              <a:off x="6704640" y="2498400"/>
              <a:ext cx="32760" cy="49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Oval 971"/>
            <p:cNvSpPr/>
            <p:nvPr/>
          </p:nvSpPr>
          <p:spPr>
            <a:xfrm flipH="1" rot="21214200">
              <a:off x="6732720" y="2795760"/>
              <a:ext cx="32760" cy="4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Oval 972"/>
            <p:cNvSpPr/>
            <p:nvPr/>
          </p:nvSpPr>
          <p:spPr>
            <a:xfrm flipH="1" rot="21214200">
              <a:off x="6766200" y="3091320"/>
              <a:ext cx="32760" cy="49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AutoShape 973"/>
            <p:cNvSpPr/>
            <p:nvPr/>
          </p:nvSpPr>
          <p:spPr>
            <a:xfrm flipH="1" rot="21214200">
              <a:off x="6755040" y="2336400"/>
              <a:ext cx="591840" cy="1021320"/>
            </a:xfrm>
            <a:prstGeom prst="can">
              <a:avLst>
                <a:gd name="adj" fmla="val 265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lin ang="21216000"/>
            </a:gra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Rectangle 974"/>
            <p:cNvSpPr/>
            <p:nvPr/>
          </p:nvSpPr>
          <p:spPr>
            <a:xfrm flipH="1" rot="21214200">
              <a:off x="6910560" y="2256120"/>
              <a:ext cx="149040" cy="99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21216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4" name="Group 975"/>
            <p:cNvGrpSpPr/>
            <p:nvPr/>
          </p:nvGrpSpPr>
          <p:grpSpPr>
            <a:xfrm>
              <a:off x="6871680" y="2001960"/>
              <a:ext cx="285480" cy="690480"/>
              <a:chOff x="6871680" y="2001960"/>
              <a:chExt cx="285480" cy="690480"/>
            </a:xfrm>
          </p:grpSpPr>
          <p:sp>
            <p:nvSpPr>
              <p:cNvPr id="3165" name="AutoShape 976"/>
              <p:cNvSpPr/>
              <p:nvPr/>
            </p:nvSpPr>
            <p:spPr>
              <a:xfrm flipH="1" rot="10592400">
                <a:off x="6892560" y="2007000"/>
                <a:ext cx="199800" cy="54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556" y="21600"/>
                    </a:lnTo>
                    <a:lnTo>
                      <a:pt x="20044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AutoShape 977"/>
              <p:cNvSpPr/>
              <p:nvPr/>
            </p:nvSpPr>
            <p:spPr>
              <a:xfrm flipH="1" rot="5014200">
                <a:off x="6907320" y="2439720"/>
                <a:ext cx="213120" cy="263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934" y="2201"/>
                      <a:pt x="12267" y="5080"/>
                      <a:pt x="12267" y="10800"/>
                    </a:cubicBezTo>
                    <a:cubicBezTo>
                      <a:pt x="12267" y="16520"/>
                      <a:pt x="16934" y="1939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67" name="Group 978"/>
          <p:cNvGrpSpPr/>
          <p:nvPr/>
        </p:nvGrpSpPr>
        <p:grpSpPr>
          <a:xfrm>
            <a:off x="6761160" y="2347200"/>
            <a:ext cx="653760" cy="2115720"/>
            <a:chOff x="6761160" y="2347200"/>
            <a:chExt cx="653760" cy="2115720"/>
          </a:xfrm>
        </p:grpSpPr>
        <p:grpSp>
          <p:nvGrpSpPr>
            <p:cNvPr id="3168" name="Group 979"/>
            <p:cNvGrpSpPr/>
            <p:nvPr/>
          </p:nvGrpSpPr>
          <p:grpSpPr>
            <a:xfrm>
              <a:off x="6761160" y="3376440"/>
              <a:ext cx="653760" cy="1086480"/>
              <a:chOff x="6761160" y="3376440"/>
              <a:chExt cx="653760" cy="1086480"/>
            </a:xfrm>
          </p:grpSpPr>
          <p:grpSp>
            <p:nvGrpSpPr>
              <p:cNvPr id="3169" name="Group 980"/>
              <p:cNvGrpSpPr/>
              <p:nvPr/>
            </p:nvGrpSpPr>
            <p:grpSpPr>
              <a:xfrm>
                <a:off x="6761160" y="3396600"/>
                <a:ext cx="653760" cy="1066320"/>
                <a:chOff x="6761160" y="3396600"/>
                <a:chExt cx="653760" cy="1066320"/>
              </a:xfrm>
            </p:grpSpPr>
            <p:grpSp>
              <p:nvGrpSpPr>
                <p:cNvPr id="3170" name="Group 981"/>
                <p:cNvGrpSpPr/>
                <p:nvPr/>
              </p:nvGrpSpPr>
              <p:grpSpPr>
                <a:xfrm>
                  <a:off x="6761160" y="3927240"/>
                  <a:ext cx="457920" cy="535680"/>
                  <a:chOff x="6761160" y="3927240"/>
                  <a:chExt cx="457920" cy="535680"/>
                </a:xfrm>
              </p:grpSpPr>
              <p:sp>
                <p:nvSpPr>
                  <p:cNvPr id="3171" name="AutoShape 982"/>
                  <p:cNvSpPr/>
                  <p:nvPr/>
                </p:nvSpPr>
                <p:spPr>
                  <a:xfrm flipH="1" rot="10800000">
                    <a:off x="6957720" y="392724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72" name="Group 983"/>
                  <p:cNvGrpSpPr/>
                  <p:nvPr/>
                </p:nvGrpSpPr>
                <p:grpSpPr>
                  <a:xfrm>
                    <a:off x="6761160" y="4233240"/>
                    <a:ext cx="457920" cy="229680"/>
                    <a:chOff x="6761160" y="4233240"/>
                    <a:chExt cx="457920" cy="229680"/>
                  </a:xfrm>
                </p:grpSpPr>
                <p:grpSp>
                  <p:nvGrpSpPr>
                    <p:cNvPr id="3173" name="Group 984"/>
                    <p:cNvGrpSpPr/>
                    <p:nvPr/>
                  </p:nvGrpSpPr>
                  <p:grpSpPr>
                    <a:xfrm>
                      <a:off x="6761160" y="4332600"/>
                      <a:ext cx="457920" cy="130320"/>
                      <a:chOff x="6761160" y="4332600"/>
                      <a:chExt cx="457920" cy="130320"/>
                    </a:xfrm>
                  </p:grpSpPr>
                  <p:grpSp>
                    <p:nvGrpSpPr>
                      <p:cNvPr id="3174" name="Group 985"/>
                      <p:cNvGrpSpPr/>
                      <p:nvPr/>
                    </p:nvGrpSpPr>
                    <p:grpSpPr>
                      <a:xfrm>
                        <a:off x="6768720" y="4332600"/>
                        <a:ext cx="450360" cy="130320"/>
                        <a:chOff x="6768720" y="4332600"/>
                        <a:chExt cx="450360" cy="130320"/>
                      </a:xfrm>
                    </p:grpSpPr>
                    <p:sp>
                      <p:nvSpPr>
                        <p:cNvPr id="3175" name="Rectangle 986"/>
                        <p:cNvSpPr/>
                        <p:nvPr/>
                      </p:nvSpPr>
                      <p:spPr>
                        <a:xfrm flipH="1">
                          <a:off x="6918840" y="4333680"/>
                          <a:ext cx="300240" cy="1292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76" name="Freeform 987"/>
                        <p:cNvSpPr/>
                        <p:nvPr/>
                      </p:nvSpPr>
                      <p:spPr>
                        <a:xfrm flipH="1">
                          <a:off x="6768360" y="433260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177" name=""/>
                      <p:cNvGrpSpPr/>
                      <p:nvPr/>
                    </p:nvGrpSpPr>
                    <p:grpSpPr>
                      <a:xfrm>
                        <a:off x="6761160" y="4434120"/>
                        <a:ext cx="457920" cy="360"/>
                        <a:chOff x="6761160" y="4434120"/>
                        <a:chExt cx="457920" cy="360"/>
                      </a:xfrm>
                    </p:grpSpPr>
                    <p:sp>
                      <p:nvSpPr>
                        <p:cNvPr id="3178" name="Line 988"/>
                        <p:cNvSpPr/>
                        <p:nvPr/>
                      </p:nvSpPr>
                      <p:spPr>
                        <a:xfrm flipH="1">
                          <a:off x="6761160" y="4434120"/>
                          <a:ext cx="4579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79" name=""/>
                        <p:cNvSpPr txBox="1"/>
                        <p:nvPr/>
                      </p:nvSpPr>
                      <p:spPr>
                        <a:xfrm>
                          <a:off x="6761160" y="443412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180" name="Oval 989"/>
                    <p:cNvSpPr/>
                    <p:nvPr/>
                  </p:nvSpPr>
                  <p:spPr>
                    <a:xfrm flipH="1">
                      <a:off x="7047360" y="4296600"/>
                      <a:ext cx="91080" cy="101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1" name="Freeform 990"/>
                    <p:cNvSpPr/>
                    <p:nvPr/>
                  </p:nvSpPr>
                  <p:spPr>
                    <a:xfrm flipH="1" rot="10248000">
                      <a:off x="6874920" y="424188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aeaea"/>
                        </a:gs>
                      </a:gsLst>
                      <a:lin ang="10248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82" name="Group 991"/>
                <p:cNvGrpSpPr/>
                <p:nvPr/>
              </p:nvGrpSpPr>
              <p:grpSpPr>
                <a:xfrm>
                  <a:off x="6957000" y="3396600"/>
                  <a:ext cx="457920" cy="535680"/>
                  <a:chOff x="6957000" y="3396600"/>
                  <a:chExt cx="457920" cy="535680"/>
                </a:xfrm>
              </p:grpSpPr>
              <p:sp>
                <p:nvSpPr>
                  <p:cNvPr id="3183" name="AutoShape 992"/>
                  <p:cNvSpPr/>
                  <p:nvPr/>
                </p:nvSpPr>
                <p:spPr>
                  <a:xfrm flipH="1">
                    <a:off x="6964200" y="352548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84" name="Group 993"/>
                  <p:cNvGrpSpPr/>
                  <p:nvPr/>
                </p:nvGrpSpPr>
                <p:grpSpPr>
                  <a:xfrm>
                    <a:off x="6957000" y="3396600"/>
                    <a:ext cx="457920" cy="229680"/>
                    <a:chOff x="6957000" y="3396600"/>
                    <a:chExt cx="457920" cy="229680"/>
                  </a:xfrm>
                </p:grpSpPr>
                <p:grpSp>
                  <p:nvGrpSpPr>
                    <p:cNvPr id="3185" name="Group 994"/>
                    <p:cNvGrpSpPr/>
                    <p:nvPr/>
                  </p:nvGrpSpPr>
                  <p:grpSpPr>
                    <a:xfrm>
                      <a:off x="6957000" y="3396600"/>
                      <a:ext cx="457920" cy="130320"/>
                      <a:chOff x="6957000" y="3396600"/>
                      <a:chExt cx="457920" cy="130320"/>
                    </a:xfrm>
                  </p:grpSpPr>
                  <p:grpSp>
                    <p:nvGrpSpPr>
                      <p:cNvPr id="3186" name="Group 995"/>
                      <p:cNvGrpSpPr/>
                      <p:nvPr/>
                    </p:nvGrpSpPr>
                    <p:grpSpPr>
                      <a:xfrm>
                        <a:off x="6957000" y="3396600"/>
                        <a:ext cx="450360" cy="130320"/>
                        <a:chOff x="6957000" y="3396600"/>
                        <a:chExt cx="450360" cy="130320"/>
                      </a:xfrm>
                    </p:grpSpPr>
                    <p:sp>
                      <p:nvSpPr>
                        <p:cNvPr id="3187" name="Rectangle 996"/>
                        <p:cNvSpPr/>
                        <p:nvPr/>
                      </p:nvSpPr>
                      <p:spPr>
                        <a:xfrm flipH="1" rot="10800000">
                          <a:off x="6957000" y="339660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88" name="Freeform 997"/>
                        <p:cNvSpPr/>
                        <p:nvPr/>
                      </p:nvSpPr>
                      <p:spPr>
                        <a:xfrm flipH="1" rot="10800000">
                          <a:off x="7256880" y="339840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189" name=""/>
                      <p:cNvGrpSpPr/>
                      <p:nvPr/>
                    </p:nvGrpSpPr>
                    <p:grpSpPr>
                      <a:xfrm>
                        <a:off x="6957000" y="3425040"/>
                        <a:ext cx="457920" cy="360"/>
                        <a:chOff x="6957000" y="3425040"/>
                        <a:chExt cx="457920" cy="360"/>
                      </a:xfrm>
                    </p:grpSpPr>
                    <p:sp>
                      <p:nvSpPr>
                        <p:cNvPr id="3190" name="Line 998"/>
                        <p:cNvSpPr/>
                        <p:nvPr/>
                      </p:nvSpPr>
                      <p:spPr>
                        <a:xfrm>
                          <a:off x="6957000" y="3425400"/>
                          <a:ext cx="45792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91" name=""/>
                        <p:cNvSpPr txBox="1"/>
                        <p:nvPr/>
                      </p:nvSpPr>
                      <p:spPr>
                        <a:xfrm rot="10800000">
                          <a:off x="6957000" y="342504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192" name="Oval 999"/>
                    <p:cNvSpPr/>
                    <p:nvPr/>
                  </p:nvSpPr>
                  <p:spPr>
                    <a:xfrm flipH="1" rot="10800000">
                      <a:off x="7036920" y="346140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3" name="Freeform 1000"/>
                    <p:cNvSpPr/>
                    <p:nvPr/>
                  </p:nvSpPr>
                  <p:spPr>
                    <a:xfrm flipH="1" rot="21048000">
                      <a:off x="7177320" y="346500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194" name="Group 1001"/>
              <p:cNvGrpSpPr/>
              <p:nvPr/>
            </p:nvGrpSpPr>
            <p:grpSpPr>
              <a:xfrm>
                <a:off x="6938280" y="3376440"/>
                <a:ext cx="295920" cy="651600"/>
                <a:chOff x="6938280" y="3376440"/>
                <a:chExt cx="295920" cy="651600"/>
              </a:xfrm>
            </p:grpSpPr>
            <p:grpSp>
              <p:nvGrpSpPr>
                <p:cNvPr id="3195" name="Group 1002"/>
                <p:cNvGrpSpPr/>
                <p:nvPr/>
              </p:nvGrpSpPr>
              <p:grpSpPr>
                <a:xfrm>
                  <a:off x="6938280" y="3376440"/>
                  <a:ext cx="295920" cy="526320"/>
                  <a:chOff x="6938280" y="3376440"/>
                  <a:chExt cx="295920" cy="526320"/>
                </a:xfrm>
              </p:grpSpPr>
              <p:sp>
                <p:nvSpPr>
                  <p:cNvPr id="3196" name="AutoShape 1003"/>
                  <p:cNvSpPr/>
                  <p:nvPr/>
                </p:nvSpPr>
                <p:spPr>
                  <a:xfrm flipH="1">
                    <a:off x="6938280" y="3496320"/>
                    <a:ext cx="29592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7" name="Oval 1004"/>
                  <p:cNvSpPr/>
                  <p:nvPr/>
                </p:nvSpPr>
                <p:spPr>
                  <a:xfrm flipH="1">
                    <a:off x="6943320" y="3376440"/>
                    <a:ext cx="290520" cy="249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98" name="Oval 1005"/>
                <p:cNvSpPr/>
                <p:nvPr/>
              </p:nvSpPr>
              <p:spPr>
                <a:xfrm flipH="1">
                  <a:off x="6961680" y="3782880"/>
                  <a:ext cx="254160" cy="245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9" name="AutoShape 1006"/>
              <p:cNvSpPr/>
              <p:nvPr/>
            </p:nvSpPr>
            <p:spPr>
              <a:xfrm flipH="1">
                <a:off x="7032600" y="3862440"/>
                <a:ext cx="109080" cy="94320"/>
              </a:xfrm>
              <a:prstGeom prst="hexagon">
                <a:avLst>
                  <a:gd name="adj" fmla="val 28912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0" name="Group 1007"/>
            <p:cNvGrpSpPr/>
            <p:nvPr/>
          </p:nvGrpSpPr>
          <p:grpSpPr>
            <a:xfrm>
              <a:off x="6761160" y="2347200"/>
              <a:ext cx="653760" cy="1086480"/>
              <a:chOff x="6761160" y="2347200"/>
              <a:chExt cx="653760" cy="1086480"/>
            </a:xfrm>
          </p:grpSpPr>
          <p:grpSp>
            <p:nvGrpSpPr>
              <p:cNvPr id="3201" name="Group 1008"/>
              <p:cNvGrpSpPr/>
              <p:nvPr/>
            </p:nvGrpSpPr>
            <p:grpSpPr>
              <a:xfrm>
                <a:off x="6761160" y="2347200"/>
                <a:ext cx="653760" cy="1066320"/>
                <a:chOff x="6761160" y="2347200"/>
                <a:chExt cx="653760" cy="1066320"/>
              </a:xfrm>
            </p:grpSpPr>
            <p:grpSp>
              <p:nvGrpSpPr>
                <p:cNvPr id="3202" name="Group 1009"/>
                <p:cNvGrpSpPr/>
                <p:nvPr/>
              </p:nvGrpSpPr>
              <p:grpSpPr>
                <a:xfrm>
                  <a:off x="6957000" y="2347200"/>
                  <a:ext cx="457920" cy="535680"/>
                  <a:chOff x="6957000" y="2347200"/>
                  <a:chExt cx="457920" cy="535680"/>
                </a:xfrm>
              </p:grpSpPr>
              <p:sp>
                <p:nvSpPr>
                  <p:cNvPr id="3203" name="AutoShape 1010"/>
                  <p:cNvSpPr/>
                  <p:nvPr/>
                </p:nvSpPr>
                <p:spPr>
                  <a:xfrm flipH="1">
                    <a:off x="6964200" y="247608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204" name="Group 1011"/>
                  <p:cNvGrpSpPr/>
                  <p:nvPr/>
                </p:nvGrpSpPr>
                <p:grpSpPr>
                  <a:xfrm>
                    <a:off x="6957000" y="2347200"/>
                    <a:ext cx="457920" cy="229680"/>
                    <a:chOff x="6957000" y="2347200"/>
                    <a:chExt cx="457920" cy="229680"/>
                  </a:xfrm>
                </p:grpSpPr>
                <p:grpSp>
                  <p:nvGrpSpPr>
                    <p:cNvPr id="3205" name="Group 1012"/>
                    <p:cNvGrpSpPr/>
                    <p:nvPr/>
                  </p:nvGrpSpPr>
                  <p:grpSpPr>
                    <a:xfrm>
                      <a:off x="6957000" y="2347200"/>
                      <a:ext cx="457920" cy="130320"/>
                      <a:chOff x="6957000" y="2347200"/>
                      <a:chExt cx="457920" cy="130320"/>
                    </a:xfrm>
                  </p:grpSpPr>
                  <p:grpSp>
                    <p:nvGrpSpPr>
                      <p:cNvPr id="3206" name="Group 1013"/>
                      <p:cNvGrpSpPr/>
                      <p:nvPr/>
                    </p:nvGrpSpPr>
                    <p:grpSpPr>
                      <a:xfrm>
                        <a:off x="6957000" y="2347200"/>
                        <a:ext cx="450360" cy="130320"/>
                        <a:chOff x="6957000" y="2347200"/>
                        <a:chExt cx="450360" cy="130320"/>
                      </a:xfrm>
                    </p:grpSpPr>
                    <p:sp>
                      <p:nvSpPr>
                        <p:cNvPr id="3207" name="Rectangle 1014"/>
                        <p:cNvSpPr/>
                        <p:nvPr/>
                      </p:nvSpPr>
                      <p:spPr>
                        <a:xfrm flipH="1" rot="10800000">
                          <a:off x="6957000" y="234720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08" name="Freeform 1015"/>
                        <p:cNvSpPr/>
                        <p:nvPr/>
                      </p:nvSpPr>
                      <p:spPr>
                        <a:xfrm flipH="1" rot="10800000">
                          <a:off x="7256880" y="234900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209" name=""/>
                      <p:cNvGrpSpPr/>
                      <p:nvPr/>
                    </p:nvGrpSpPr>
                    <p:grpSpPr>
                      <a:xfrm>
                        <a:off x="6957000" y="2375640"/>
                        <a:ext cx="457920" cy="360"/>
                        <a:chOff x="6957000" y="2375640"/>
                        <a:chExt cx="457920" cy="360"/>
                      </a:xfrm>
                    </p:grpSpPr>
                    <p:sp>
                      <p:nvSpPr>
                        <p:cNvPr id="3210" name="Line 1016"/>
                        <p:cNvSpPr/>
                        <p:nvPr/>
                      </p:nvSpPr>
                      <p:spPr>
                        <a:xfrm>
                          <a:off x="6957000" y="2376000"/>
                          <a:ext cx="45792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11" name=""/>
                        <p:cNvSpPr txBox="1"/>
                        <p:nvPr/>
                      </p:nvSpPr>
                      <p:spPr>
                        <a:xfrm rot="10800000">
                          <a:off x="6957000" y="237564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212" name="Oval 1017"/>
                    <p:cNvSpPr/>
                    <p:nvPr/>
                  </p:nvSpPr>
                  <p:spPr>
                    <a:xfrm flipH="1" rot="10800000">
                      <a:off x="7036920" y="241200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3" name="Freeform 1018"/>
                    <p:cNvSpPr/>
                    <p:nvPr/>
                  </p:nvSpPr>
                  <p:spPr>
                    <a:xfrm flipH="1" rot="21048000">
                      <a:off x="7177320" y="241560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214" name="Group 1019"/>
                <p:cNvGrpSpPr/>
                <p:nvPr/>
              </p:nvGrpSpPr>
              <p:grpSpPr>
                <a:xfrm>
                  <a:off x="6761160" y="2877840"/>
                  <a:ext cx="457920" cy="535680"/>
                  <a:chOff x="6761160" y="2877840"/>
                  <a:chExt cx="457920" cy="535680"/>
                </a:xfrm>
              </p:grpSpPr>
              <p:sp>
                <p:nvSpPr>
                  <p:cNvPr id="3215" name="AutoShape 1020"/>
                  <p:cNvSpPr/>
                  <p:nvPr/>
                </p:nvSpPr>
                <p:spPr>
                  <a:xfrm flipH="1" rot="10800000">
                    <a:off x="6957720" y="287784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216" name="Group 1021"/>
                  <p:cNvGrpSpPr/>
                  <p:nvPr/>
                </p:nvGrpSpPr>
                <p:grpSpPr>
                  <a:xfrm>
                    <a:off x="6761160" y="3183840"/>
                    <a:ext cx="457920" cy="229680"/>
                    <a:chOff x="6761160" y="3183840"/>
                    <a:chExt cx="457920" cy="229680"/>
                  </a:xfrm>
                </p:grpSpPr>
                <p:grpSp>
                  <p:nvGrpSpPr>
                    <p:cNvPr id="3217" name="Group 1022"/>
                    <p:cNvGrpSpPr/>
                    <p:nvPr/>
                  </p:nvGrpSpPr>
                  <p:grpSpPr>
                    <a:xfrm>
                      <a:off x="6761160" y="3283200"/>
                      <a:ext cx="457920" cy="130320"/>
                      <a:chOff x="6761160" y="3283200"/>
                      <a:chExt cx="457920" cy="130320"/>
                    </a:xfrm>
                  </p:grpSpPr>
                  <p:grpSp>
                    <p:nvGrpSpPr>
                      <p:cNvPr id="3218" name="Group 1023"/>
                      <p:cNvGrpSpPr/>
                      <p:nvPr/>
                    </p:nvGrpSpPr>
                    <p:grpSpPr>
                      <a:xfrm>
                        <a:off x="6768720" y="3283200"/>
                        <a:ext cx="450360" cy="130320"/>
                        <a:chOff x="6768720" y="3283200"/>
                        <a:chExt cx="450360" cy="130320"/>
                      </a:xfrm>
                    </p:grpSpPr>
                    <p:sp>
                      <p:nvSpPr>
                        <p:cNvPr id="3219" name="Rectangle 1024"/>
                        <p:cNvSpPr/>
                        <p:nvPr/>
                      </p:nvSpPr>
                      <p:spPr>
                        <a:xfrm flipH="1">
                          <a:off x="6918840" y="328428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20" name="Freeform 1025"/>
                        <p:cNvSpPr/>
                        <p:nvPr/>
                      </p:nvSpPr>
                      <p:spPr>
                        <a:xfrm flipH="1">
                          <a:off x="6768360" y="328320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221" name=""/>
                      <p:cNvGrpSpPr/>
                      <p:nvPr/>
                    </p:nvGrpSpPr>
                    <p:grpSpPr>
                      <a:xfrm>
                        <a:off x="6761160" y="3384720"/>
                        <a:ext cx="457920" cy="360"/>
                        <a:chOff x="6761160" y="3384720"/>
                        <a:chExt cx="457920" cy="360"/>
                      </a:xfrm>
                    </p:grpSpPr>
                    <p:sp>
                      <p:nvSpPr>
                        <p:cNvPr id="3222" name="Line 1026"/>
                        <p:cNvSpPr/>
                        <p:nvPr/>
                      </p:nvSpPr>
                      <p:spPr>
                        <a:xfrm flipH="1">
                          <a:off x="6761160" y="3384720"/>
                          <a:ext cx="45792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23" name=""/>
                        <p:cNvSpPr txBox="1"/>
                        <p:nvPr/>
                      </p:nvSpPr>
                      <p:spPr>
                        <a:xfrm>
                          <a:off x="6761160" y="338472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224" name="Oval 1027"/>
                    <p:cNvSpPr/>
                    <p:nvPr/>
                  </p:nvSpPr>
                  <p:spPr>
                    <a:xfrm flipH="1">
                      <a:off x="7047360" y="324720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5" name="Freeform 1028"/>
                    <p:cNvSpPr/>
                    <p:nvPr/>
                  </p:nvSpPr>
                  <p:spPr>
                    <a:xfrm flipH="1" rot="10247400">
                      <a:off x="6874920" y="319248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26" name="Group 1029"/>
              <p:cNvGrpSpPr/>
              <p:nvPr/>
            </p:nvGrpSpPr>
            <p:grpSpPr>
              <a:xfrm>
                <a:off x="6941880" y="2782080"/>
                <a:ext cx="295920" cy="651600"/>
                <a:chOff x="6941880" y="2782080"/>
                <a:chExt cx="295920" cy="651600"/>
              </a:xfrm>
            </p:grpSpPr>
            <p:grpSp>
              <p:nvGrpSpPr>
                <p:cNvPr id="3227" name="Group 1030"/>
                <p:cNvGrpSpPr/>
                <p:nvPr/>
              </p:nvGrpSpPr>
              <p:grpSpPr>
                <a:xfrm>
                  <a:off x="6941880" y="2907360"/>
                  <a:ext cx="295920" cy="526320"/>
                  <a:chOff x="6941880" y="2907360"/>
                  <a:chExt cx="295920" cy="526320"/>
                </a:xfrm>
              </p:grpSpPr>
              <p:sp>
                <p:nvSpPr>
                  <p:cNvPr id="3228" name="AutoShape 1031"/>
                  <p:cNvSpPr/>
                  <p:nvPr/>
                </p:nvSpPr>
                <p:spPr>
                  <a:xfrm flipH="1" rot="10800000">
                    <a:off x="6941880" y="2907360"/>
                    <a:ext cx="29592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9" name="Oval 1032"/>
                  <p:cNvSpPr/>
                  <p:nvPr/>
                </p:nvSpPr>
                <p:spPr>
                  <a:xfrm flipH="1" rot="10800000">
                    <a:off x="6941520" y="3184200"/>
                    <a:ext cx="290520" cy="24948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30" name="Oval 1033"/>
                <p:cNvSpPr/>
                <p:nvPr/>
              </p:nvSpPr>
              <p:spPr>
                <a:xfrm flipH="1" rot="10800000">
                  <a:off x="6960240" y="2782080"/>
                  <a:ext cx="254160" cy="245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31" name="AutoShape 1034"/>
              <p:cNvSpPr/>
              <p:nvPr/>
            </p:nvSpPr>
            <p:spPr>
              <a:xfrm flipH="1" rot="10800000">
                <a:off x="7033680" y="2853360"/>
                <a:ext cx="109080" cy="94320"/>
              </a:xfrm>
              <a:prstGeom prst="hexagon">
                <a:avLst>
                  <a:gd name="adj" fmla="val 28912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32" name="Group 1035"/>
          <p:cNvGrpSpPr/>
          <p:nvPr/>
        </p:nvGrpSpPr>
        <p:grpSpPr>
          <a:xfrm>
            <a:off x="6867720" y="1379520"/>
            <a:ext cx="277920" cy="1245600"/>
            <a:chOff x="6867720" y="1379520"/>
            <a:chExt cx="277920" cy="1245600"/>
          </a:xfrm>
        </p:grpSpPr>
        <p:grpSp>
          <p:nvGrpSpPr>
            <p:cNvPr id="3233" name="Group 1036"/>
            <p:cNvGrpSpPr/>
            <p:nvPr/>
          </p:nvGrpSpPr>
          <p:grpSpPr>
            <a:xfrm>
              <a:off x="6867720" y="2014560"/>
              <a:ext cx="241200" cy="610560"/>
              <a:chOff x="6867720" y="2014560"/>
              <a:chExt cx="241200" cy="610560"/>
            </a:xfrm>
          </p:grpSpPr>
          <p:sp>
            <p:nvSpPr>
              <p:cNvPr id="3234" name="AutoShape 1037"/>
              <p:cNvSpPr/>
              <p:nvPr/>
            </p:nvSpPr>
            <p:spPr>
              <a:xfrm flipH="1" rot="10893000">
                <a:off x="6901200" y="2016720"/>
                <a:ext cx="179640" cy="491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556" y="21600"/>
                    </a:lnTo>
                    <a:lnTo>
                      <a:pt x="20044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AutoShape 1038"/>
              <p:cNvSpPr/>
              <p:nvPr/>
            </p:nvSpPr>
            <p:spPr>
              <a:xfrm flipH="1" rot="5314800">
                <a:off x="6892200" y="2408040"/>
                <a:ext cx="191880" cy="236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934" y="2201"/>
                      <a:pt x="12267" y="5080"/>
                      <a:pt x="12267" y="10800"/>
                    </a:cubicBezTo>
                    <a:cubicBezTo>
                      <a:pt x="12267" y="16520"/>
                      <a:pt x="16934" y="1939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6" name="Group 1039"/>
            <p:cNvGrpSpPr/>
            <p:nvPr/>
          </p:nvGrpSpPr>
          <p:grpSpPr>
            <a:xfrm>
              <a:off x="6892200" y="1379520"/>
              <a:ext cx="253440" cy="748080"/>
              <a:chOff x="6892200" y="1379520"/>
              <a:chExt cx="253440" cy="748080"/>
            </a:xfrm>
          </p:grpSpPr>
          <p:sp>
            <p:nvSpPr>
              <p:cNvPr id="3237" name="AutoShape 1040"/>
              <p:cNvSpPr/>
              <p:nvPr/>
            </p:nvSpPr>
            <p:spPr>
              <a:xfrm flipH="1" rot="10878000">
                <a:off x="6912360" y="1634400"/>
                <a:ext cx="180000" cy="360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308" y="21600"/>
                    </a:lnTo>
                    <a:lnTo>
                      <a:pt x="17292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Oval 1041"/>
              <p:cNvSpPr/>
              <p:nvPr/>
            </p:nvSpPr>
            <p:spPr>
              <a:xfrm flipH="1" rot="10339200">
                <a:off x="6903720" y="1924920"/>
                <a:ext cx="187200" cy="1908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Freeform 1042"/>
              <p:cNvSpPr/>
              <p:nvPr/>
            </p:nvSpPr>
            <p:spPr>
              <a:xfrm flipH="1" rot="844200">
                <a:off x="6937920" y="1396080"/>
                <a:ext cx="175320" cy="288000"/>
              </a:xfrm>
              <a:custGeom>
                <a:avLst/>
                <a:gdLst/>
                <a:ahLst/>
                <a:rect l="l" t="t" r="r" b="b"/>
                <a:pathLst>
                  <a:path w="1402" h="2302">
                    <a:moveTo>
                      <a:pt x="361" y="1127"/>
                    </a:moveTo>
                    <a:lnTo>
                      <a:pt x="280" y="1116"/>
                    </a:lnTo>
                    <a:lnTo>
                      <a:pt x="373" y="711"/>
                    </a:lnTo>
                    <a:lnTo>
                      <a:pt x="373" y="709"/>
                    </a:lnTo>
                    <a:lnTo>
                      <a:pt x="375" y="705"/>
                    </a:lnTo>
                    <a:lnTo>
                      <a:pt x="375" y="703"/>
                    </a:lnTo>
                    <a:lnTo>
                      <a:pt x="375" y="700"/>
                    </a:lnTo>
                    <a:lnTo>
                      <a:pt x="375" y="698"/>
                    </a:lnTo>
                    <a:lnTo>
                      <a:pt x="375" y="696"/>
                    </a:lnTo>
                    <a:lnTo>
                      <a:pt x="375" y="692"/>
                    </a:lnTo>
                    <a:lnTo>
                      <a:pt x="375" y="690"/>
                    </a:lnTo>
                    <a:lnTo>
                      <a:pt x="375" y="684"/>
                    </a:lnTo>
                    <a:lnTo>
                      <a:pt x="375" y="681"/>
                    </a:lnTo>
                    <a:lnTo>
                      <a:pt x="375" y="675"/>
                    </a:lnTo>
                    <a:lnTo>
                      <a:pt x="375" y="669"/>
                    </a:lnTo>
                    <a:lnTo>
                      <a:pt x="371" y="665"/>
                    </a:lnTo>
                    <a:lnTo>
                      <a:pt x="371" y="660"/>
                    </a:lnTo>
                    <a:lnTo>
                      <a:pt x="369" y="654"/>
                    </a:lnTo>
                    <a:lnTo>
                      <a:pt x="367" y="652"/>
                    </a:lnTo>
                    <a:lnTo>
                      <a:pt x="365" y="646"/>
                    </a:lnTo>
                    <a:lnTo>
                      <a:pt x="363" y="641"/>
                    </a:lnTo>
                    <a:lnTo>
                      <a:pt x="361" y="637"/>
                    </a:lnTo>
                    <a:lnTo>
                      <a:pt x="358" y="633"/>
                    </a:lnTo>
                    <a:lnTo>
                      <a:pt x="356" y="629"/>
                    </a:lnTo>
                    <a:lnTo>
                      <a:pt x="354" y="623"/>
                    </a:lnTo>
                    <a:lnTo>
                      <a:pt x="350" y="620"/>
                    </a:lnTo>
                    <a:lnTo>
                      <a:pt x="346" y="616"/>
                    </a:lnTo>
                    <a:lnTo>
                      <a:pt x="342" y="612"/>
                    </a:lnTo>
                    <a:lnTo>
                      <a:pt x="339" y="610"/>
                    </a:lnTo>
                    <a:lnTo>
                      <a:pt x="335" y="606"/>
                    </a:lnTo>
                    <a:lnTo>
                      <a:pt x="331" y="603"/>
                    </a:lnTo>
                    <a:lnTo>
                      <a:pt x="325" y="601"/>
                    </a:lnTo>
                    <a:lnTo>
                      <a:pt x="321" y="597"/>
                    </a:lnTo>
                    <a:lnTo>
                      <a:pt x="318" y="595"/>
                    </a:lnTo>
                    <a:lnTo>
                      <a:pt x="312" y="593"/>
                    </a:lnTo>
                    <a:lnTo>
                      <a:pt x="306" y="591"/>
                    </a:lnTo>
                    <a:lnTo>
                      <a:pt x="302" y="589"/>
                    </a:lnTo>
                    <a:lnTo>
                      <a:pt x="299" y="589"/>
                    </a:lnTo>
                    <a:lnTo>
                      <a:pt x="295" y="587"/>
                    </a:lnTo>
                    <a:lnTo>
                      <a:pt x="291" y="587"/>
                    </a:lnTo>
                    <a:lnTo>
                      <a:pt x="287" y="585"/>
                    </a:lnTo>
                    <a:lnTo>
                      <a:pt x="285" y="585"/>
                    </a:lnTo>
                    <a:lnTo>
                      <a:pt x="283" y="585"/>
                    </a:lnTo>
                    <a:lnTo>
                      <a:pt x="280" y="585"/>
                    </a:lnTo>
                    <a:lnTo>
                      <a:pt x="276" y="585"/>
                    </a:lnTo>
                    <a:lnTo>
                      <a:pt x="274" y="585"/>
                    </a:lnTo>
                    <a:lnTo>
                      <a:pt x="272" y="585"/>
                    </a:lnTo>
                    <a:lnTo>
                      <a:pt x="268" y="585"/>
                    </a:lnTo>
                    <a:lnTo>
                      <a:pt x="266" y="585"/>
                    </a:lnTo>
                    <a:lnTo>
                      <a:pt x="263" y="585"/>
                    </a:lnTo>
                    <a:lnTo>
                      <a:pt x="261" y="587"/>
                    </a:lnTo>
                    <a:lnTo>
                      <a:pt x="259" y="587"/>
                    </a:lnTo>
                    <a:lnTo>
                      <a:pt x="255" y="587"/>
                    </a:lnTo>
                    <a:lnTo>
                      <a:pt x="253" y="589"/>
                    </a:lnTo>
                    <a:lnTo>
                      <a:pt x="249" y="589"/>
                    </a:lnTo>
                    <a:lnTo>
                      <a:pt x="247" y="589"/>
                    </a:lnTo>
                    <a:lnTo>
                      <a:pt x="243" y="591"/>
                    </a:lnTo>
                    <a:lnTo>
                      <a:pt x="240" y="591"/>
                    </a:lnTo>
                    <a:lnTo>
                      <a:pt x="238" y="593"/>
                    </a:lnTo>
                    <a:lnTo>
                      <a:pt x="236" y="595"/>
                    </a:lnTo>
                    <a:lnTo>
                      <a:pt x="232" y="595"/>
                    </a:lnTo>
                    <a:lnTo>
                      <a:pt x="230" y="597"/>
                    </a:lnTo>
                    <a:lnTo>
                      <a:pt x="228" y="599"/>
                    </a:lnTo>
                    <a:lnTo>
                      <a:pt x="224" y="601"/>
                    </a:lnTo>
                    <a:lnTo>
                      <a:pt x="223" y="601"/>
                    </a:lnTo>
                    <a:lnTo>
                      <a:pt x="219" y="603"/>
                    </a:lnTo>
                    <a:lnTo>
                      <a:pt x="217" y="604"/>
                    </a:lnTo>
                    <a:lnTo>
                      <a:pt x="211" y="608"/>
                    </a:lnTo>
                    <a:lnTo>
                      <a:pt x="207" y="612"/>
                    </a:lnTo>
                    <a:lnTo>
                      <a:pt x="204" y="616"/>
                    </a:lnTo>
                    <a:lnTo>
                      <a:pt x="198" y="618"/>
                    </a:lnTo>
                    <a:lnTo>
                      <a:pt x="194" y="623"/>
                    </a:lnTo>
                    <a:lnTo>
                      <a:pt x="188" y="627"/>
                    </a:lnTo>
                    <a:lnTo>
                      <a:pt x="185" y="633"/>
                    </a:lnTo>
                    <a:lnTo>
                      <a:pt x="181" y="637"/>
                    </a:lnTo>
                    <a:lnTo>
                      <a:pt x="177" y="641"/>
                    </a:lnTo>
                    <a:lnTo>
                      <a:pt x="173" y="646"/>
                    </a:lnTo>
                    <a:lnTo>
                      <a:pt x="169" y="652"/>
                    </a:lnTo>
                    <a:lnTo>
                      <a:pt x="166" y="656"/>
                    </a:lnTo>
                    <a:lnTo>
                      <a:pt x="162" y="662"/>
                    </a:lnTo>
                    <a:lnTo>
                      <a:pt x="160" y="665"/>
                    </a:lnTo>
                    <a:lnTo>
                      <a:pt x="158" y="669"/>
                    </a:lnTo>
                    <a:lnTo>
                      <a:pt x="158" y="671"/>
                    </a:lnTo>
                    <a:lnTo>
                      <a:pt x="156" y="673"/>
                    </a:lnTo>
                    <a:lnTo>
                      <a:pt x="154" y="677"/>
                    </a:lnTo>
                    <a:lnTo>
                      <a:pt x="152" y="679"/>
                    </a:lnTo>
                    <a:lnTo>
                      <a:pt x="152" y="681"/>
                    </a:lnTo>
                    <a:lnTo>
                      <a:pt x="150" y="684"/>
                    </a:lnTo>
                    <a:lnTo>
                      <a:pt x="150" y="688"/>
                    </a:lnTo>
                    <a:lnTo>
                      <a:pt x="146" y="694"/>
                    </a:lnTo>
                    <a:lnTo>
                      <a:pt x="145" y="701"/>
                    </a:lnTo>
                    <a:lnTo>
                      <a:pt x="143" y="709"/>
                    </a:lnTo>
                    <a:lnTo>
                      <a:pt x="139" y="717"/>
                    </a:lnTo>
                    <a:lnTo>
                      <a:pt x="137" y="724"/>
                    </a:lnTo>
                    <a:lnTo>
                      <a:pt x="135" y="732"/>
                    </a:lnTo>
                    <a:lnTo>
                      <a:pt x="131" y="739"/>
                    </a:lnTo>
                    <a:lnTo>
                      <a:pt x="129" y="747"/>
                    </a:lnTo>
                    <a:lnTo>
                      <a:pt x="126" y="755"/>
                    </a:lnTo>
                    <a:lnTo>
                      <a:pt x="124" y="760"/>
                    </a:lnTo>
                    <a:lnTo>
                      <a:pt x="122" y="768"/>
                    </a:lnTo>
                    <a:lnTo>
                      <a:pt x="120" y="776"/>
                    </a:lnTo>
                    <a:lnTo>
                      <a:pt x="116" y="781"/>
                    </a:lnTo>
                    <a:lnTo>
                      <a:pt x="114" y="789"/>
                    </a:lnTo>
                    <a:lnTo>
                      <a:pt x="112" y="796"/>
                    </a:lnTo>
                    <a:lnTo>
                      <a:pt x="110" y="804"/>
                    </a:lnTo>
                    <a:lnTo>
                      <a:pt x="107" y="812"/>
                    </a:lnTo>
                    <a:lnTo>
                      <a:pt x="107" y="817"/>
                    </a:lnTo>
                    <a:lnTo>
                      <a:pt x="103" y="823"/>
                    </a:lnTo>
                    <a:lnTo>
                      <a:pt x="101" y="831"/>
                    </a:lnTo>
                    <a:lnTo>
                      <a:pt x="97" y="836"/>
                    </a:lnTo>
                    <a:lnTo>
                      <a:pt x="97" y="844"/>
                    </a:lnTo>
                    <a:lnTo>
                      <a:pt x="93" y="852"/>
                    </a:lnTo>
                    <a:lnTo>
                      <a:pt x="93" y="857"/>
                    </a:lnTo>
                    <a:lnTo>
                      <a:pt x="89" y="865"/>
                    </a:lnTo>
                    <a:lnTo>
                      <a:pt x="88" y="871"/>
                    </a:lnTo>
                    <a:lnTo>
                      <a:pt x="86" y="878"/>
                    </a:lnTo>
                    <a:lnTo>
                      <a:pt x="84" y="884"/>
                    </a:lnTo>
                    <a:lnTo>
                      <a:pt x="82" y="892"/>
                    </a:lnTo>
                    <a:lnTo>
                      <a:pt x="80" y="899"/>
                    </a:lnTo>
                    <a:lnTo>
                      <a:pt x="78" y="907"/>
                    </a:lnTo>
                    <a:lnTo>
                      <a:pt x="74" y="912"/>
                    </a:lnTo>
                    <a:lnTo>
                      <a:pt x="72" y="920"/>
                    </a:lnTo>
                    <a:lnTo>
                      <a:pt x="72" y="926"/>
                    </a:lnTo>
                    <a:lnTo>
                      <a:pt x="68" y="931"/>
                    </a:lnTo>
                    <a:lnTo>
                      <a:pt x="67" y="939"/>
                    </a:lnTo>
                    <a:lnTo>
                      <a:pt x="65" y="945"/>
                    </a:lnTo>
                    <a:lnTo>
                      <a:pt x="63" y="952"/>
                    </a:lnTo>
                    <a:lnTo>
                      <a:pt x="59" y="958"/>
                    </a:lnTo>
                    <a:lnTo>
                      <a:pt x="57" y="966"/>
                    </a:lnTo>
                    <a:lnTo>
                      <a:pt x="55" y="971"/>
                    </a:lnTo>
                    <a:lnTo>
                      <a:pt x="53" y="979"/>
                    </a:lnTo>
                    <a:lnTo>
                      <a:pt x="51" y="987"/>
                    </a:lnTo>
                    <a:lnTo>
                      <a:pt x="49" y="994"/>
                    </a:lnTo>
                    <a:lnTo>
                      <a:pt x="48" y="1000"/>
                    </a:lnTo>
                    <a:lnTo>
                      <a:pt x="46" y="1007"/>
                    </a:lnTo>
                    <a:lnTo>
                      <a:pt x="44" y="1015"/>
                    </a:lnTo>
                    <a:lnTo>
                      <a:pt x="42" y="1021"/>
                    </a:lnTo>
                    <a:lnTo>
                      <a:pt x="42" y="1028"/>
                    </a:lnTo>
                    <a:lnTo>
                      <a:pt x="38" y="1036"/>
                    </a:lnTo>
                    <a:lnTo>
                      <a:pt x="36" y="1042"/>
                    </a:lnTo>
                    <a:lnTo>
                      <a:pt x="36" y="1049"/>
                    </a:lnTo>
                    <a:lnTo>
                      <a:pt x="34" y="1057"/>
                    </a:lnTo>
                    <a:lnTo>
                      <a:pt x="30" y="1063"/>
                    </a:lnTo>
                    <a:lnTo>
                      <a:pt x="30" y="1070"/>
                    </a:lnTo>
                    <a:lnTo>
                      <a:pt x="29" y="1078"/>
                    </a:lnTo>
                    <a:lnTo>
                      <a:pt x="27" y="1085"/>
                    </a:lnTo>
                    <a:lnTo>
                      <a:pt x="25" y="1093"/>
                    </a:lnTo>
                    <a:lnTo>
                      <a:pt x="23" y="1101"/>
                    </a:lnTo>
                    <a:lnTo>
                      <a:pt x="21" y="1108"/>
                    </a:lnTo>
                    <a:lnTo>
                      <a:pt x="19" y="1116"/>
                    </a:lnTo>
                    <a:lnTo>
                      <a:pt x="17" y="1123"/>
                    </a:lnTo>
                    <a:lnTo>
                      <a:pt x="17" y="1131"/>
                    </a:lnTo>
                    <a:lnTo>
                      <a:pt x="15" y="1139"/>
                    </a:lnTo>
                    <a:lnTo>
                      <a:pt x="13" y="1148"/>
                    </a:lnTo>
                    <a:lnTo>
                      <a:pt x="10" y="1158"/>
                    </a:lnTo>
                    <a:lnTo>
                      <a:pt x="10" y="1165"/>
                    </a:lnTo>
                    <a:lnTo>
                      <a:pt x="8" y="1175"/>
                    </a:lnTo>
                    <a:lnTo>
                      <a:pt x="6" y="1182"/>
                    </a:lnTo>
                    <a:lnTo>
                      <a:pt x="6" y="1192"/>
                    </a:lnTo>
                    <a:lnTo>
                      <a:pt x="4" y="1201"/>
                    </a:lnTo>
                    <a:lnTo>
                      <a:pt x="2" y="1211"/>
                    </a:lnTo>
                    <a:lnTo>
                      <a:pt x="2" y="1218"/>
                    </a:lnTo>
                    <a:lnTo>
                      <a:pt x="0" y="1230"/>
                    </a:lnTo>
                    <a:lnTo>
                      <a:pt x="0" y="1237"/>
                    </a:lnTo>
                    <a:lnTo>
                      <a:pt x="0" y="1247"/>
                    </a:lnTo>
                    <a:lnTo>
                      <a:pt x="0" y="1257"/>
                    </a:lnTo>
                    <a:lnTo>
                      <a:pt x="0" y="1268"/>
                    </a:lnTo>
                    <a:lnTo>
                      <a:pt x="0" y="1276"/>
                    </a:lnTo>
                    <a:lnTo>
                      <a:pt x="0" y="1285"/>
                    </a:lnTo>
                    <a:lnTo>
                      <a:pt x="0" y="1296"/>
                    </a:lnTo>
                    <a:lnTo>
                      <a:pt x="0" y="1304"/>
                    </a:lnTo>
                    <a:lnTo>
                      <a:pt x="0" y="1314"/>
                    </a:lnTo>
                    <a:lnTo>
                      <a:pt x="0" y="1323"/>
                    </a:lnTo>
                    <a:lnTo>
                      <a:pt x="0" y="1333"/>
                    </a:lnTo>
                    <a:lnTo>
                      <a:pt x="2" y="1342"/>
                    </a:lnTo>
                    <a:lnTo>
                      <a:pt x="2" y="1352"/>
                    </a:lnTo>
                    <a:lnTo>
                      <a:pt x="4" y="1363"/>
                    </a:lnTo>
                    <a:lnTo>
                      <a:pt x="4" y="1371"/>
                    </a:lnTo>
                    <a:lnTo>
                      <a:pt x="6" y="1382"/>
                    </a:lnTo>
                    <a:lnTo>
                      <a:pt x="8" y="1390"/>
                    </a:lnTo>
                    <a:lnTo>
                      <a:pt x="8" y="1401"/>
                    </a:lnTo>
                    <a:lnTo>
                      <a:pt x="10" y="1409"/>
                    </a:lnTo>
                    <a:lnTo>
                      <a:pt x="11" y="1420"/>
                    </a:lnTo>
                    <a:lnTo>
                      <a:pt x="13" y="1429"/>
                    </a:lnTo>
                    <a:lnTo>
                      <a:pt x="15" y="1439"/>
                    </a:lnTo>
                    <a:lnTo>
                      <a:pt x="17" y="1448"/>
                    </a:lnTo>
                    <a:lnTo>
                      <a:pt x="19" y="1458"/>
                    </a:lnTo>
                    <a:lnTo>
                      <a:pt x="21" y="1468"/>
                    </a:lnTo>
                    <a:lnTo>
                      <a:pt x="23" y="1477"/>
                    </a:lnTo>
                    <a:lnTo>
                      <a:pt x="27" y="1487"/>
                    </a:lnTo>
                    <a:lnTo>
                      <a:pt x="29" y="1496"/>
                    </a:lnTo>
                    <a:lnTo>
                      <a:pt x="30" y="1506"/>
                    </a:lnTo>
                    <a:lnTo>
                      <a:pt x="34" y="1515"/>
                    </a:lnTo>
                    <a:lnTo>
                      <a:pt x="36" y="1525"/>
                    </a:lnTo>
                    <a:lnTo>
                      <a:pt x="38" y="1534"/>
                    </a:lnTo>
                    <a:lnTo>
                      <a:pt x="42" y="1544"/>
                    </a:lnTo>
                    <a:lnTo>
                      <a:pt x="46" y="1553"/>
                    </a:lnTo>
                    <a:lnTo>
                      <a:pt x="48" y="1561"/>
                    </a:lnTo>
                    <a:lnTo>
                      <a:pt x="51" y="1572"/>
                    </a:lnTo>
                    <a:lnTo>
                      <a:pt x="55" y="1580"/>
                    </a:lnTo>
                    <a:lnTo>
                      <a:pt x="59" y="1589"/>
                    </a:lnTo>
                    <a:lnTo>
                      <a:pt x="63" y="1599"/>
                    </a:lnTo>
                    <a:lnTo>
                      <a:pt x="67" y="1608"/>
                    </a:lnTo>
                    <a:lnTo>
                      <a:pt x="68" y="1616"/>
                    </a:lnTo>
                    <a:lnTo>
                      <a:pt x="74" y="1627"/>
                    </a:lnTo>
                    <a:lnTo>
                      <a:pt x="78" y="1635"/>
                    </a:lnTo>
                    <a:lnTo>
                      <a:pt x="82" y="1644"/>
                    </a:lnTo>
                    <a:lnTo>
                      <a:pt x="86" y="1652"/>
                    </a:lnTo>
                    <a:lnTo>
                      <a:pt x="89" y="1661"/>
                    </a:lnTo>
                    <a:lnTo>
                      <a:pt x="95" y="1669"/>
                    </a:lnTo>
                    <a:lnTo>
                      <a:pt x="99" y="1679"/>
                    </a:lnTo>
                    <a:lnTo>
                      <a:pt x="103" y="1688"/>
                    </a:lnTo>
                    <a:lnTo>
                      <a:pt x="108" y="1696"/>
                    </a:lnTo>
                    <a:lnTo>
                      <a:pt x="114" y="1703"/>
                    </a:lnTo>
                    <a:lnTo>
                      <a:pt x="118" y="1713"/>
                    </a:lnTo>
                    <a:lnTo>
                      <a:pt x="124" y="1722"/>
                    </a:lnTo>
                    <a:lnTo>
                      <a:pt x="127" y="1732"/>
                    </a:lnTo>
                    <a:lnTo>
                      <a:pt x="131" y="1736"/>
                    </a:lnTo>
                    <a:lnTo>
                      <a:pt x="135" y="1739"/>
                    </a:lnTo>
                    <a:lnTo>
                      <a:pt x="135" y="1743"/>
                    </a:lnTo>
                    <a:lnTo>
                      <a:pt x="137" y="1745"/>
                    </a:lnTo>
                    <a:lnTo>
                      <a:pt x="139" y="1747"/>
                    </a:lnTo>
                    <a:lnTo>
                      <a:pt x="141" y="1751"/>
                    </a:lnTo>
                    <a:lnTo>
                      <a:pt x="143" y="1755"/>
                    </a:lnTo>
                    <a:lnTo>
                      <a:pt x="143" y="1756"/>
                    </a:lnTo>
                    <a:lnTo>
                      <a:pt x="145" y="1760"/>
                    </a:lnTo>
                    <a:lnTo>
                      <a:pt x="146" y="1762"/>
                    </a:lnTo>
                    <a:lnTo>
                      <a:pt x="148" y="1766"/>
                    </a:lnTo>
                    <a:lnTo>
                      <a:pt x="150" y="1768"/>
                    </a:lnTo>
                    <a:lnTo>
                      <a:pt x="152" y="1770"/>
                    </a:lnTo>
                    <a:lnTo>
                      <a:pt x="156" y="1774"/>
                    </a:lnTo>
                    <a:lnTo>
                      <a:pt x="158" y="1777"/>
                    </a:lnTo>
                    <a:lnTo>
                      <a:pt x="160" y="1779"/>
                    </a:lnTo>
                    <a:lnTo>
                      <a:pt x="160" y="1783"/>
                    </a:lnTo>
                    <a:lnTo>
                      <a:pt x="162" y="1787"/>
                    </a:lnTo>
                    <a:lnTo>
                      <a:pt x="166" y="1789"/>
                    </a:lnTo>
                    <a:lnTo>
                      <a:pt x="166" y="1791"/>
                    </a:lnTo>
                    <a:lnTo>
                      <a:pt x="167" y="1794"/>
                    </a:lnTo>
                    <a:lnTo>
                      <a:pt x="169" y="1796"/>
                    </a:lnTo>
                    <a:lnTo>
                      <a:pt x="171" y="1800"/>
                    </a:lnTo>
                    <a:lnTo>
                      <a:pt x="173" y="1802"/>
                    </a:lnTo>
                    <a:lnTo>
                      <a:pt x="175" y="1806"/>
                    </a:lnTo>
                    <a:lnTo>
                      <a:pt x="177" y="1808"/>
                    </a:lnTo>
                    <a:lnTo>
                      <a:pt x="179" y="1812"/>
                    </a:lnTo>
                    <a:lnTo>
                      <a:pt x="181" y="1815"/>
                    </a:lnTo>
                    <a:lnTo>
                      <a:pt x="183" y="1817"/>
                    </a:lnTo>
                    <a:lnTo>
                      <a:pt x="185" y="1821"/>
                    </a:lnTo>
                    <a:lnTo>
                      <a:pt x="188" y="1827"/>
                    </a:lnTo>
                    <a:lnTo>
                      <a:pt x="190" y="1831"/>
                    </a:lnTo>
                    <a:lnTo>
                      <a:pt x="194" y="1836"/>
                    </a:lnTo>
                    <a:lnTo>
                      <a:pt x="198" y="1842"/>
                    </a:lnTo>
                    <a:lnTo>
                      <a:pt x="200" y="1846"/>
                    </a:lnTo>
                    <a:lnTo>
                      <a:pt x="204" y="1850"/>
                    </a:lnTo>
                    <a:lnTo>
                      <a:pt x="205" y="1853"/>
                    </a:lnTo>
                    <a:lnTo>
                      <a:pt x="207" y="1859"/>
                    </a:lnTo>
                    <a:lnTo>
                      <a:pt x="209" y="1861"/>
                    </a:lnTo>
                    <a:lnTo>
                      <a:pt x="211" y="1863"/>
                    </a:lnTo>
                    <a:lnTo>
                      <a:pt x="213" y="1867"/>
                    </a:lnTo>
                    <a:lnTo>
                      <a:pt x="215" y="1869"/>
                    </a:lnTo>
                    <a:lnTo>
                      <a:pt x="217" y="1870"/>
                    </a:lnTo>
                    <a:lnTo>
                      <a:pt x="219" y="1874"/>
                    </a:lnTo>
                    <a:lnTo>
                      <a:pt x="141" y="2163"/>
                    </a:lnTo>
                    <a:lnTo>
                      <a:pt x="143" y="2165"/>
                    </a:lnTo>
                    <a:lnTo>
                      <a:pt x="146" y="2165"/>
                    </a:lnTo>
                    <a:lnTo>
                      <a:pt x="150" y="2167"/>
                    </a:lnTo>
                    <a:lnTo>
                      <a:pt x="152" y="2167"/>
                    </a:lnTo>
                    <a:lnTo>
                      <a:pt x="154" y="2167"/>
                    </a:lnTo>
                    <a:lnTo>
                      <a:pt x="158" y="2167"/>
                    </a:lnTo>
                    <a:lnTo>
                      <a:pt x="162" y="2171"/>
                    </a:lnTo>
                    <a:lnTo>
                      <a:pt x="166" y="2171"/>
                    </a:lnTo>
                    <a:lnTo>
                      <a:pt x="167" y="2173"/>
                    </a:lnTo>
                    <a:lnTo>
                      <a:pt x="171" y="2173"/>
                    </a:lnTo>
                    <a:lnTo>
                      <a:pt x="175" y="2175"/>
                    </a:lnTo>
                    <a:lnTo>
                      <a:pt x="181" y="2175"/>
                    </a:lnTo>
                    <a:lnTo>
                      <a:pt x="185" y="2175"/>
                    </a:lnTo>
                    <a:lnTo>
                      <a:pt x="188" y="2177"/>
                    </a:lnTo>
                    <a:lnTo>
                      <a:pt x="194" y="2180"/>
                    </a:lnTo>
                    <a:lnTo>
                      <a:pt x="198" y="2180"/>
                    </a:lnTo>
                    <a:lnTo>
                      <a:pt x="204" y="2182"/>
                    </a:lnTo>
                    <a:lnTo>
                      <a:pt x="209" y="2182"/>
                    </a:lnTo>
                    <a:lnTo>
                      <a:pt x="215" y="2184"/>
                    </a:lnTo>
                    <a:lnTo>
                      <a:pt x="219" y="2186"/>
                    </a:lnTo>
                    <a:lnTo>
                      <a:pt x="224" y="2188"/>
                    </a:lnTo>
                    <a:lnTo>
                      <a:pt x="232" y="2188"/>
                    </a:lnTo>
                    <a:lnTo>
                      <a:pt x="238" y="2190"/>
                    </a:lnTo>
                    <a:lnTo>
                      <a:pt x="243" y="2190"/>
                    </a:lnTo>
                    <a:lnTo>
                      <a:pt x="251" y="2192"/>
                    </a:lnTo>
                    <a:lnTo>
                      <a:pt x="257" y="2194"/>
                    </a:lnTo>
                    <a:lnTo>
                      <a:pt x="264" y="2194"/>
                    </a:lnTo>
                    <a:lnTo>
                      <a:pt x="270" y="2196"/>
                    </a:lnTo>
                    <a:lnTo>
                      <a:pt x="276" y="2196"/>
                    </a:lnTo>
                    <a:lnTo>
                      <a:pt x="283" y="2197"/>
                    </a:lnTo>
                    <a:lnTo>
                      <a:pt x="291" y="2199"/>
                    </a:lnTo>
                    <a:lnTo>
                      <a:pt x="297" y="2199"/>
                    </a:lnTo>
                    <a:lnTo>
                      <a:pt x="304" y="2199"/>
                    </a:lnTo>
                    <a:lnTo>
                      <a:pt x="312" y="2199"/>
                    </a:lnTo>
                    <a:lnTo>
                      <a:pt x="320" y="2201"/>
                    </a:lnTo>
                    <a:lnTo>
                      <a:pt x="325" y="2201"/>
                    </a:lnTo>
                    <a:lnTo>
                      <a:pt x="333" y="2201"/>
                    </a:lnTo>
                    <a:lnTo>
                      <a:pt x="341" y="2201"/>
                    </a:lnTo>
                    <a:lnTo>
                      <a:pt x="348" y="2201"/>
                    </a:lnTo>
                    <a:lnTo>
                      <a:pt x="356" y="2201"/>
                    </a:lnTo>
                    <a:lnTo>
                      <a:pt x="363" y="2201"/>
                    </a:lnTo>
                    <a:lnTo>
                      <a:pt x="371" y="2201"/>
                    </a:lnTo>
                    <a:lnTo>
                      <a:pt x="379" y="2201"/>
                    </a:lnTo>
                    <a:lnTo>
                      <a:pt x="386" y="2201"/>
                    </a:lnTo>
                    <a:lnTo>
                      <a:pt x="394" y="2201"/>
                    </a:lnTo>
                    <a:lnTo>
                      <a:pt x="401" y="2199"/>
                    </a:lnTo>
                    <a:lnTo>
                      <a:pt x="409" y="2199"/>
                    </a:lnTo>
                    <a:lnTo>
                      <a:pt x="415" y="2197"/>
                    </a:lnTo>
                    <a:lnTo>
                      <a:pt x="422" y="2196"/>
                    </a:lnTo>
                    <a:lnTo>
                      <a:pt x="432" y="2196"/>
                    </a:lnTo>
                    <a:lnTo>
                      <a:pt x="439" y="2194"/>
                    </a:lnTo>
                    <a:lnTo>
                      <a:pt x="447" y="2192"/>
                    </a:lnTo>
                    <a:lnTo>
                      <a:pt x="455" y="2190"/>
                    </a:lnTo>
                    <a:lnTo>
                      <a:pt x="462" y="2188"/>
                    </a:lnTo>
                    <a:lnTo>
                      <a:pt x="470" y="2188"/>
                    </a:lnTo>
                    <a:lnTo>
                      <a:pt x="476" y="2184"/>
                    </a:lnTo>
                    <a:lnTo>
                      <a:pt x="483" y="2182"/>
                    </a:lnTo>
                    <a:lnTo>
                      <a:pt x="491" y="2180"/>
                    </a:lnTo>
                    <a:lnTo>
                      <a:pt x="498" y="2175"/>
                    </a:lnTo>
                    <a:lnTo>
                      <a:pt x="504" y="2173"/>
                    </a:lnTo>
                    <a:lnTo>
                      <a:pt x="512" y="2169"/>
                    </a:lnTo>
                    <a:lnTo>
                      <a:pt x="517" y="2165"/>
                    </a:lnTo>
                    <a:lnTo>
                      <a:pt x="525" y="2161"/>
                    </a:lnTo>
                    <a:lnTo>
                      <a:pt x="531" y="2158"/>
                    </a:lnTo>
                    <a:lnTo>
                      <a:pt x="536" y="2154"/>
                    </a:lnTo>
                    <a:lnTo>
                      <a:pt x="542" y="2150"/>
                    </a:lnTo>
                    <a:lnTo>
                      <a:pt x="550" y="2146"/>
                    </a:lnTo>
                    <a:lnTo>
                      <a:pt x="555" y="2142"/>
                    </a:lnTo>
                    <a:lnTo>
                      <a:pt x="559" y="2137"/>
                    </a:lnTo>
                    <a:lnTo>
                      <a:pt x="565" y="2133"/>
                    </a:lnTo>
                    <a:lnTo>
                      <a:pt x="571" y="2129"/>
                    </a:lnTo>
                    <a:lnTo>
                      <a:pt x="576" y="2123"/>
                    </a:lnTo>
                    <a:lnTo>
                      <a:pt x="582" y="2120"/>
                    </a:lnTo>
                    <a:lnTo>
                      <a:pt x="588" y="2114"/>
                    </a:lnTo>
                    <a:lnTo>
                      <a:pt x="592" y="2110"/>
                    </a:lnTo>
                    <a:lnTo>
                      <a:pt x="595" y="2106"/>
                    </a:lnTo>
                    <a:lnTo>
                      <a:pt x="601" y="2101"/>
                    </a:lnTo>
                    <a:lnTo>
                      <a:pt x="605" y="2095"/>
                    </a:lnTo>
                    <a:lnTo>
                      <a:pt x="611" y="2091"/>
                    </a:lnTo>
                    <a:lnTo>
                      <a:pt x="614" y="2085"/>
                    </a:lnTo>
                    <a:lnTo>
                      <a:pt x="618" y="2080"/>
                    </a:lnTo>
                    <a:lnTo>
                      <a:pt x="624" y="2076"/>
                    </a:lnTo>
                    <a:lnTo>
                      <a:pt x="628" y="2070"/>
                    </a:lnTo>
                    <a:lnTo>
                      <a:pt x="632" y="2064"/>
                    </a:lnTo>
                    <a:lnTo>
                      <a:pt x="635" y="2059"/>
                    </a:lnTo>
                    <a:lnTo>
                      <a:pt x="637" y="2055"/>
                    </a:lnTo>
                    <a:lnTo>
                      <a:pt x="643" y="2049"/>
                    </a:lnTo>
                    <a:lnTo>
                      <a:pt x="645" y="2043"/>
                    </a:lnTo>
                    <a:lnTo>
                      <a:pt x="649" y="2040"/>
                    </a:lnTo>
                    <a:lnTo>
                      <a:pt x="652" y="2034"/>
                    </a:lnTo>
                    <a:lnTo>
                      <a:pt x="654" y="2030"/>
                    </a:lnTo>
                    <a:lnTo>
                      <a:pt x="658" y="2024"/>
                    </a:lnTo>
                    <a:lnTo>
                      <a:pt x="660" y="2021"/>
                    </a:lnTo>
                    <a:lnTo>
                      <a:pt x="664" y="2015"/>
                    </a:lnTo>
                    <a:lnTo>
                      <a:pt x="666" y="2011"/>
                    </a:lnTo>
                    <a:lnTo>
                      <a:pt x="668" y="2005"/>
                    </a:lnTo>
                    <a:lnTo>
                      <a:pt x="672" y="2002"/>
                    </a:lnTo>
                    <a:lnTo>
                      <a:pt x="673" y="1998"/>
                    </a:lnTo>
                    <a:lnTo>
                      <a:pt x="675" y="1992"/>
                    </a:lnTo>
                    <a:lnTo>
                      <a:pt x="677" y="1986"/>
                    </a:lnTo>
                    <a:lnTo>
                      <a:pt x="679" y="1983"/>
                    </a:lnTo>
                    <a:lnTo>
                      <a:pt x="681" y="1979"/>
                    </a:lnTo>
                    <a:lnTo>
                      <a:pt x="683" y="1975"/>
                    </a:lnTo>
                    <a:lnTo>
                      <a:pt x="685" y="1971"/>
                    </a:lnTo>
                    <a:lnTo>
                      <a:pt x="687" y="1969"/>
                    </a:lnTo>
                    <a:lnTo>
                      <a:pt x="689" y="1964"/>
                    </a:lnTo>
                    <a:lnTo>
                      <a:pt x="691" y="1962"/>
                    </a:lnTo>
                    <a:lnTo>
                      <a:pt x="692" y="1958"/>
                    </a:lnTo>
                    <a:lnTo>
                      <a:pt x="692" y="1954"/>
                    </a:lnTo>
                    <a:lnTo>
                      <a:pt x="692" y="1952"/>
                    </a:lnTo>
                    <a:lnTo>
                      <a:pt x="694" y="1950"/>
                    </a:lnTo>
                    <a:lnTo>
                      <a:pt x="696" y="1945"/>
                    </a:lnTo>
                    <a:lnTo>
                      <a:pt x="698" y="1941"/>
                    </a:lnTo>
                    <a:lnTo>
                      <a:pt x="700" y="1937"/>
                    </a:lnTo>
                    <a:lnTo>
                      <a:pt x="700" y="1935"/>
                    </a:lnTo>
                    <a:lnTo>
                      <a:pt x="700" y="1933"/>
                    </a:lnTo>
                    <a:lnTo>
                      <a:pt x="702" y="1933"/>
                    </a:lnTo>
                    <a:lnTo>
                      <a:pt x="740" y="1943"/>
                    </a:lnTo>
                    <a:lnTo>
                      <a:pt x="740" y="1943"/>
                    </a:lnTo>
                    <a:lnTo>
                      <a:pt x="738" y="1945"/>
                    </a:lnTo>
                    <a:lnTo>
                      <a:pt x="738" y="1947"/>
                    </a:lnTo>
                    <a:lnTo>
                      <a:pt x="738" y="1950"/>
                    </a:lnTo>
                    <a:lnTo>
                      <a:pt x="738" y="1954"/>
                    </a:lnTo>
                    <a:lnTo>
                      <a:pt x="738" y="1958"/>
                    </a:lnTo>
                    <a:lnTo>
                      <a:pt x="736" y="1962"/>
                    </a:lnTo>
                    <a:lnTo>
                      <a:pt x="736" y="1964"/>
                    </a:lnTo>
                    <a:lnTo>
                      <a:pt x="736" y="1967"/>
                    </a:lnTo>
                    <a:lnTo>
                      <a:pt x="736" y="1971"/>
                    </a:lnTo>
                    <a:lnTo>
                      <a:pt x="736" y="1975"/>
                    </a:lnTo>
                    <a:lnTo>
                      <a:pt x="736" y="1979"/>
                    </a:lnTo>
                    <a:lnTo>
                      <a:pt x="736" y="1983"/>
                    </a:lnTo>
                    <a:lnTo>
                      <a:pt x="736" y="1985"/>
                    </a:lnTo>
                    <a:lnTo>
                      <a:pt x="736" y="1990"/>
                    </a:lnTo>
                    <a:lnTo>
                      <a:pt x="736" y="1994"/>
                    </a:lnTo>
                    <a:lnTo>
                      <a:pt x="736" y="1998"/>
                    </a:lnTo>
                    <a:lnTo>
                      <a:pt x="736" y="2004"/>
                    </a:lnTo>
                    <a:lnTo>
                      <a:pt x="736" y="2007"/>
                    </a:lnTo>
                    <a:lnTo>
                      <a:pt x="736" y="2013"/>
                    </a:lnTo>
                    <a:lnTo>
                      <a:pt x="736" y="2015"/>
                    </a:lnTo>
                    <a:lnTo>
                      <a:pt x="736" y="2021"/>
                    </a:lnTo>
                    <a:lnTo>
                      <a:pt x="736" y="2026"/>
                    </a:lnTo>
                    <a:lnTo>
                      <a:pt x="736" y="2030"/>
                    </a:lnTo>
                    <a:lnTo>
                      <a:pt x="736" y="2036"/>
                    </a:lnTo>
                    <a:lnTo>
                      <a:pt x="736" y="2042"/>
                    </a:lnTo>
                    <a:lnTo>
                      <a:pt x="736" y="2047"/>
                    </a:lnTo>
                    <a:lnTo>
                      <a:pt x="738" y="2051"/>
                    </a:lnTo>
                    <a:lnTo>
                      <a:pt x="738" y="2057"/>
                    </a:lnTo>
                    <a:lnTo>
                      <a:pt x="738" y="2062"/>
                    </a:lnTo>
                    <a:lnTo>
                      <a:pt x="740" y="2066"/>
                    </a:lnTo>
                    <a:lnTo>
                      <a:pt x="740" y="2072"/>
                    </a:lnTo>
                    <a:lnTo>
                      <a:pt x="742" y="2078"/>
                    </a:lnTo>
                    <a:lnTo>
                      <a:pt x="744" y="2083"/>
                    </a:lnTo>
                    <a:lnTo>
                      <a:pt x="744" y="2091"/>
                    </a:lnTo>
                    <a:lnTo>
                      <a:pt x="746" y="2095"/>
                    </a:lnTo>
                    <a:lnTo>
                      <a:pt x="748" y="2101"/>
                    </a:lnTo>
                    <a:lnTo>
                      <a:pt x="748" y="2106"/>
                    </a:lnTo>
                    <a:lnTo>
                      <a:pt x="751" y="2110"/>
                    </a:lnTo>
                    <a:lnTo>
                      <a:pt x="753" y="2118"/>
                    </a:lnTo>
                    <a:lnTo>
                      <a:pt x="753" y="2123"/>
                    </a:lnTo>
                    <a:lnTo>
                      <a:pt x="757" y="2129"/>
                    </a:lnTo>
                    <a:lnTo>
                      <a:pt x="759" y="2135"/>
                    </a:lnTo>
                    <a:lnTo>
                      <a:pt x="761" y="2139"/>
                    </a:lnTo>
                    <a:lnTo>
                      <a:pt x="765" y="2144"/>
                    </a:lnTo>
                    <a:lnTo>
                      <a:pt x="767" y="2150"/>
                    </a:lnTo>
                    <a:lnTo>
                      <a:pt x="769" y="2156"/>
                    </a:lnTo>
                    <a:lnTo>
                      <a:pt x="772" y="2159"/>
                    </a:lnTo>
                    <a:lnTo>
                      <a:pt x="776" y="2165"/>
                    </a:lnTo>
                    <a:lnTo>
                      <a:pt x="780" y="2171"/>
                    </a:lnTo>
                    <a:lnTo>
                      <a:pt x="782" y="2175"/>
                    </a:lnTo>
                    <a:lnTo>
                      <a:pt x="786" y="2180"/>
                    </a:lnTo>
                    <a:lnTo>
                      <a:pt x="789" y="2186"/>
                    </a:lnTo>
                    <a:lnTo>
                      <a:pt x="795" y="2190"/>
                    </a:lnTo>
                    <a:lnTo>
                      <a:pt x="799" y="2196"/>
                    </a:lnTo>
                    <a:lnTo>
                      <a:pt x="805" y="2201"/>
                    </a:lnTo>
                    <a:lnTo>
                      <a:pt x="808" y="2205"/>
                    </a:lnTo>
                    <a:lnTo>
                      <a:pt x="814" y="2209"/>
                    </a:lnTo>
                    <a:lnTo>
                      <a:pt x="818" y="2213"/>
                    </a:lnTo>
                    <a:lnTo>
                      <a:pt x="824" y="2216"/>
                    </a:lnTo>
                    <a:lnTo>
                      <a:pt x="828" y="2222"/>
                    </a:lnTo>
                    <a:lnTo>
                      <a:pt x="833" y="2224"/>
                    </a:lnTo>
                    <a:lnTo>
                      <a:pt x="839" y="2228"/>
                    </a:lnTo>
                    <a:lnTo>
                      <a:pt x="845" y="2232"/>
                    </a:lnTo>
                    <a:lnTo>
                      <a:pt x="848" y="2235"/>
                    </a:lnTo>
                    <a:lnTo>
                      <a:pt x="854" y="2239"/>
                    </a:lnTo>
                    <a:lnTo>
                      <a:pt x="858" y="2243"/>
                    </a:lnTo>
                    <a:lnTo>
                      <a:pt x="864" y="2245"/>
                    </a:lnTo>
                    <a:lnTo>
                      <a:pt x="867" y="2249"/>
                    </a:lnTo>
                    <a:lnTo>
                      <a:pt x="873" y="2253"/>
                    </a:lnTo>
                    <a:lnTo>
                      <a:pt x="877" y="2256"/>
                    </a:lnTo>
                    <a:lnTo>
                      <a:pt x="883" y="2258"/>
                    </a:lnTo>
                    <a:lnTo>
                      <a:pt x="890" y="2260"/>
                    </a:lnTo>
                    <a:lnTo>
                      <a:pt x="896" y="2264"/>
                    </a:lnTo>
                    <a:lnTo>
                      <a:pt x="900" y="2266"/>
                    </a:lnTo>
                    <a:lnTo>
                      <a:pt x="904" y="2268"/>
                    </a:lnTo>
                    <a:lnTo>
                      <a:pt x="907" y="2270"/>
                    </a:lnTo>
                    <a:lnTo>
                      <a:pt x="913" y="2273"/>
                    </a:lnTo>
                    <a:lnTo>
                      <a:pt x="919" y="2275"/>
                    </a:lnTo>
                    <a:lnTo>
                      <a:pt x="925" y="2277"/>
                    </a:lnTo>
                    <a:lnTo>
                      <a:pt x="928" y="2279"/>
                    </a:lnTo>
                    <a:lnTo>
                      <a:pt x="934" y="2281"/>
                    </a:lnTo>
                    <a:lnTo>
                      <a:pt x="938" y="2283"/>
                    </a:lnTo>
                    <a:lnTo>
                      <a:pt x="942" y="2285"/>
                    </a:lnTo>
                    <a:lnTo>
                      <a:pt x="947" y="2287"/>
                    </a:lnTo>
                    <a:lnTo>
                      <a:pt x="951" y="2289"/>
                    </a:lnTo>
                    <a:lnTo>
                      <a:pt x="955" y="2289"/>
                    </a:lnTo>
                    <a:lnTo>
                      <a:pt x="961" y="2291"/>
                    </a:lnTo>
                    <a:lnTo>
                      <a:pt x="964" y="2291"/>
                    </a:lnTo>
                    <a:lnTo>
                      <a:pt x="968" y="2294"/>
                    </a:lnTo>
                    <a:lnTo>
                      <a:pt x="972" y="2294"/>
                    </a:lnTo>
                    <a:lnTo>
                      <a:pt x="978" y="2294"/>
                    </a:lnTo>
                    <a:lnTo>
                      <a:pt x="982" y="2296"/>
                    </a:lnTo>
                    <a:lnTo>
                      <a:pt x="985" y="2296"/>
                    </a:lnTo>
                    <a:lnTo>
                      <a:pt x="989" y="2296"/>
                    </a:lnTo>
                    <a:lnTo>
                      <a:pt x="993" y="2298"/>
                    </a:lnTo>
                    <a:lnTo>
                      <a:pt x="997" y="2298"/>
                    </a:lnTo>
                    <a:lnTo>
                      <a:pt x="1001" y="2298"/>
                    </a:lnTo>
                    <a:lnTo>
                      <a:pt x="1004" y="2298"/>
                    </a:lnTo>
                    <a:lnTo>
                      <a:pt x="1008" y="2300"/>
                    </a:lnTo>
                    <a:lnTo>
                      <a:pt x="1010" y="2300"/>
                    </a:lnTo>
                    <a:lnTo>
                      <a:pt x="1014" y="2300"/>
                    </a:lnTo>
                    <a:lnTo>
                      <a:pt x="1016" y="2300"/>
                    </a:lnTo>
                    <a:lnTo>
                      <a:pt x="1020" y="2300"/>
                    </a:lnTo>
                    <a:lnTo>
                      <a:pt x="1022" y="2300"/>
                    </a:lnTo>
                    <a:lnTo>
                      <a:pt x="1025" y="2302"/>
                    </a:lnTo>
                    <a:lnTo>
                      <a:pt x="1029" y="2300"/>
                    </a:lnTo>
                    <a:lnTo>
                      <a:pt x="1035" y="2300"/>
                    </a:lnTo>
                    <a:lnTo>
                      <a:pt x="1039" y="2298"/>
                    </a:lnTo>
                    <a:lnTo>
                      <a:pt x="1042" y="2298"/>
                    </a:lnTo>
                    <a:lnTo>
                      <a:pt x="1044" y="2296"/>
                    </a:lnTo>
                    <a:lnTo>
                      <a:pt x="1048" y="2296"/>
                    </a:lnTo>
                    <a:lnTo>
                      <a:pt x="1048" y="2294"/>
                    </a:lnTo>
                    <a:lnTo>
                      <a:pt x="1050" y="2294"/>
                    </a:lnTo>
                    <a:lnTo>
                      <a:pt x="1246" y="1334"/>
                    </a:lnTo>
                    <a:lnTo>
                      <a:pt x="1246" y="1333"/>
                    </a:lnTo>
                    <a:lnTo>
                      <a:pt x="1248" y="1331"/>
                    </a:lnTo>
                    <a:lnTo>
                      <a:pt x="1250" y="1327"/>
                    </a:lnTo>
                    <a:lnTo>
                      <a:pt x="1252" y="1325"/>
                    </a:lnTo>
                    <a:lnTo>
                      <a:pt x="1252" y="1323"/>
                    </a:lnTo>
                    <a:lnTo>
                      <a:pt x="1254" y="1319"/>
                    </a:lnTo>
                    <a:lnTo>
                      <a:pt x="1256" y="1315"/>
                    </a:lnTo>
                    <a:lnTo>
                      <a:pt x="1259" y="1312"/>
                    </a:lnTo>
                    <a:lnTo>
                      <a:pt x="1259" y="1306"/>
                    </a:lnTo>
                    <a:lnTo>
                      <a:pt x="1263" y="1302"/>
                    </a:lnTo>
                    <a:lnTo>
                      <a:pt x="1265" y="1296"/>
                    </a:lnTo>
                    <a:lnTo>
                      <a:pt x="1269" y="1293"/>
                    </a:lnTo>
                    <a:lnTo>
                      <a:pt x="1271" y="1285"/>
                    </a:lnTo>
                    <a:lnTo>
                      <a:pt x="1275" y="1281"/>
                    </a:lnTo>
                    <a:lnTo>
                      <a:pt x="1276" y="1274"/>
                    </a:lnTo>
                    <a:lnTo>
                      <a:pt x="1280" y="1266"/>
                    </a:lnTo>
                    <a:lnTo>
                      <a:pt x="1284" y="1258"/>
                    </a:lnTo>
                    <a:lnTo>
                      <a:pt x="1288" y="1249"/>
                    </a:lnTo>
                    <a:lnTo>
                      <a:pt x="1290" y="1241"/>
                    </a:lnTo>
                    <a:lnTo>
                      <a:pt x="1294" y="1234"/>
                    </a:lnTo>
                    <a:lnTo>
                      <a:pt x="1297" y="1224"/>
                    </a:lnTo>
                    <a:lnTo>
                      <a:pt x="1301" y="1217"/>
                    </a:lnTo>
                    <a:lnTo>
                      <a:pt x="1305" y="1207"/>
                    </a:lnTo>
                    <a:lnTo>
                      <a:pt x="1309" y="1198"/>
                    </a:lnTo>
                    <a:lnTo>
                      <a:pt x="1313" y="1188"/>
                    </a:lnTo>
                    <a:lnTo>
                      <a:pt x="1316" y="1177"/>
                    </a:lnTo>
                    <a:lnTo>
                      <a:pt x="1320" y="1165"/>
                    </a:lnTo>
                    <a:lnTo>
                      <a:pt x="1324" y="1154"/>
                    </a:lnTo>
                    <a:lnTo>
                      <a:pt x="1330" y="1144"/>
                    </a:lnTo>
                    <a:lnTo>
                      <a:pt x="1334" y="1133"/>
                    </a:lnTo>
                    <a:lnTo>
                      <a:pt x="1337" y="1122"/>
                    </a:lnTo>
                    <a:lnTo>
                      <a:pt x="1339" y="1108"/>
                    </a:lnTo>
                    <a:lnTo>
                      <a:pt x="1345" y="1097"/>
                    </a:lnTo>
                    <a:lnTo>
                      <a:pt x="1349" y="1084"/>
                    </a:lnTo>
                    <a:lnTo>
                      <a:pt x="1353" y="1070"/>
                    </a:lnTo>
                    <a:lnTo>
                      <a:pt x="1354" y="1059"/>
                    </a:lnTo>
                    <a:lnTo>
                      <a:pt x="1358" y="1044"/>
                    </a:lnTo>
                    <a:lnTo>
                      <a:pt x="1362" y="1032"/>
                    </a:lnTo>
                    <a:lnTo>
                      <a:pt x="1366" y="1017"/>
                    </a:lnTo>
                    <a:lnTo>
                      <a:pt x="1370" y="1004"/>
                    </a:lnTo>
                    <a:lnTo>
                      <a:pt x="1372" y="988"/>
                    </a:lnTo>
                    <a:lnTo>
                      <a:pt x="1375" y="975"/>
                    </a:lnTo>
                    <a:lnTo>
                      <a:pt x="1377" y="960"/>
                    </a:lnTo>
                    <a:lnTo>
                      <a:pt x="1381" y="947"/>
                    </a:lnTo>
                    <a:lnTo>
                      <a:pt x="1383" y="931"/>
                    </a:lnTo>
                    <a:lnTo>
                      <a:pt x="1387" y="916"/>
                    </a:lnTo>
                    <a:lnTo>
                      <a:pt x="1389" y="901"/>
                    </a:lnTo>
                    <a:lnTo>
                      <a:pt x="1391" y="886"/>
                    </a:lnTo>
                    <a:lnTo>
                      <a:pt x="1392" y="871"/>
                    </a:lnTo>
                    <a:lnTo>
                      <a:pt x="1394" y="855"/>
                    </a:lnTo>
                    <a:lnTo>
                      <a:pt x="1396" y="838"/>
                    </a:lnTo>
                    <a:lnTo>
                      <a:pt x="1398" y="823"/>
                    </a:lnTo>
                    <a:lnTo>
                      <a:pt x="1398" y="806"/>
                    </a:lnTo>
                    <a:lnTo>
                      <a:pt x="1400" y="791"/>
                    </a:lnTo>
                    <a:lnTo>
                      <a:pt x="1402" y="774"/>
                    </a:lnTo>
                    <a:lnTo>
                      <a:pt x="1402" y="757"/>
                    </a:lnTo>
                    <a:lnTo>
                      <a:pt x="1402" y="741"/>
                    </a:lnTo>
                    <a:lnTo>
                      <a:pt x="1402" y="724"/>
                    </a:lnTo>
                    <a:lnTo>
                      <a:pt x="1402" y="705"/>
                    </a:lnTo>
                    <a:lnTo>
                      <a:pt x="1402" y="690"/>
                    </a:lnTo>
                    <a:lnTo>
                      <a:pt x="1400" y="673"/>
                    </a:lnTo>
                    <a:lnTo>
                      <a:pt x="1400" y="656"/>
                    </a:lnTo>
                    <a:lnTo>
                      <a:pt x="1398" y="654"/>
                    </a:lnTo>
                    <a:lnTo>
                      <a:pt x="1398" y="652"/>
                    </a:lnTo>
                    <a:lnTo>
                      <a:pt x="1398" y="648"/>
                    </a:lnTo>
                    <a:lnTo>
                      <a:pt x="1398" y="644"/>
                    </a:lnTo>
                    <a:lnTo>
                      <a:pt x="1398" y="643"/>
                    </a:lnTo>
                    <a:lnTo>
                      <a:pt x="1398" y="639"/>
                    </a:lnTo>
                    <a:lnTo>
                      <a:pt x="1396" y="637"/>
                    </a:lnTo>
                    <a:lnTo>
                      <a:pt x="1396" y="633"/>
                    </a:lnTo>
                    <a:lnTo>
                      <a:pt x="1396" y="631"/>
                    </a:lnTo>
                    <a:lnTo>
                      <a:pt x="1396" y="627"/>
                    </a:lnTo>
                    <a:lnTo>
                      <a:pt x="1396" y="623"/>
                    </a:lnTo>
                    <a:lnTo>
                      <a:pt x="1394" y="620"/>
                    </a:lnTo>
                    <a:lnTo>
                      <a:pt x="1394" y="618"/>
                    </a:lnTo>
                    <a:lnTo>
                      <a:pt x="1394" y="616"/>
                    </a:lnTo>
                    <a:lnTo>
                      <a:pt x="1392" y="612"/>
                    </a:lnTo>
                    <a:lnTo>
                      <a:pt x="1392" y="610"/>
                    </a:lnTo>
                    <a:lnTo>
                      <a:pt x="1392" y="608"/>
                    </a:lnTo>
                    <a:lnTo>
                      <a:pt x="1391" y="604"/>
                    </a:lnTo>
                    <a:lnTo>
                      <a:pt x="1391" y="603"/>
                    </a:lnTo>
                    <a:lnTo>
                      <a:pt x="1391" y="599"/>
                    </a:lnTo>
                    <a:lnTo>
                      <a:pt x="1389" y="597"/>
                    </a:lnTo>
                    <a:lnTo>
                      <a:pt x="1389" y="593"/>
                    </a:lnTo>
                    <a:lnTo>
                      <a:pt x="1389" y="589"/>
                    </a:lnTo>
                    <a:lnTo>
                      <a:pt x="1389" y="587"/>
                    </a:lnTo>
                    <a:lnTo>
                      <a:pt x="1387" y="585"/>
                    </a:lnTo>
                    <a:lnTo>
                      <a:pt x="1385" y="582"/>
                    </a:lnTo>
                    <a:lnTo>
                      <a:pt x="1385" y="580"/>
                    </a:lnTo>
                    <a:lnTo>
                      <a:pt x="1383" y="578"/>
                    </a:lnTo>
                    <a:lnTo>
                      <a:pt x="1383" y="572"/>
                    </a:lnTo>
                    <a:lnTo>
                      <a:pt x="1381" y="568"/>
                    </a:lnTo>
                    <a:lnTo>
                      <a:pt x="1377" y="563"/>
                    </a:lnTo>
                    <a:lnTo>
                      <a:pt x="1375" y="557"/>
                    </a:lnTo>
                    <a:lnTo>
                      <a:pt x="1373" y="553"/>
                    </a:lnTo>
                    <a:lnTo>
                      <a:pt x="1370" y="547"/>
                    </a:lnTo>
                    <a:lnTo>
                      <a:pt x="1366" y="544"/>
                    </a:lnTo>
                    <a:lnTo>
                      <a:pt x="1364" y="540"/>
                    </a:lnTo>
                    <a:lnTo>
                      <a:pt x="1360" y="536"/>
                    </a:lnTo>
                    <a:lnTo>
                      <a:pt x="1356" y="532"/>
                    </a:lnTo>
                    <a:lnTo>
                      <a:pt x="1353" y="528"/>
                    </a:lnTo>
                    <a:lnTo>
                      <a:pt x="1349" y="525"/>
                    </a:lnTo>
                    <a:lnTo>
                      <a:pt x="1345" y="523"/>
                    </a:lnTo>
                    <a:lnTo>
                      <a:pt x="1339" y="521"/>
                    </a:lnTo>
                    <a:lnTo>
                      <a:pt x="1335" y="517"/>
                    </a:lnTo>
                    <a:lnTo>
                      <a:pt x="1332" y="515"/>
                    </a:lnTo>
                    <a:lnTo>
                      <a:pt x="1326" y="515"/>
                    </a:lnTo>
                    <a:lnTo>
                      <a:pt x="1322" y="513"/>
                    </a:lnTo>
                    <a:lnTo>
                      <a:pt x="1318" y="511"/>
                    </a:lnTo>
                    <a:lnTo>
                      <a:pt x="1316" y="511"/>
                    </a:lnTo>
                    <a:lnTo>
                      <a:pt x="1313" y="511"/>
                    </a:lnTo>
                    <a:lnTo>
                      <a:pt x="1311" y="511"/>
                    </a:lnTo>
                    <a:lnTo>
                      <a:pt x="1309" y="509"/>
                    </a:lnTo>
                    <a:lnTo>
                      <a:pt x="1305" y="509"/>
                    </a:lnTo>
                    <a:lnTo>
                      <a:pt x="1303" y="509"/>
                    </a:lnTo>
                    <a:lnTo>
                      <a:pt x="1301" y="509"/>
                    </a:lnTo>
                    <a:lnTo>
                      <a:pt x="1297" y="509"/>
                    </a:lnTo>
                    <a:lnTo>
                      <a:pt x="1295" y="509"/>
                    </a:lnTo>
                    <a:lnTo>
                      <a:pt x="1292" y="509"/>
                    </a:lnTo>
                    <a:lnTo>
                      <a:pt x="1290" y="509"/>
                    </a:lnTo>
                    <a:lnTo>
                      <a:pt x="1284" y="509"/>
                    </a:lnTo>
                    <a:lnTo>
                      <a:pt x="1280" y="509"/>
                    </a:lnTo>
                    <a:lnTo>
                      <a:pt x="1275" y="509"/>
                    </a:lnTo>
                    <a:lnTo>
                      <a:pt x="1269" y="509"/>
                    </a:lnTo>
                    <a:lnTo>
                      <a:pt x="1265" y="509"/>
                    </a:lnTo>
                    <a:lnTo>
                      <a:pt x="1259" y="509"/>
                    </a:lnTo>
                    <a:lnTo>
                      <a:pt x="1256" y="511"/>
                    </a:lnTo>
                    <a:lnTo>
                      <a:pt x="1252" y="511"/>
                    </a:lnTo>
                    <a:lnTo>
                      <a:pt x="1246" y="515"/>
                    </a:lnTo>
                    <a:lnTo>
                      <a:pt x="1242" y="515"/>
                    </a:lnTo>
                    <a:lnTo>
                      <a:pt x="1238" y="517"/>
                    </a:lnTo>
                    <a:lnTo>
                      <a:pt x="1235" y="521"/>
                    </a:lnTo>
                    <a:lnTo>
                      <a:pt x="1231" y="523"/>
                    </a:lnTo>
                    <a:lnTo>
                      <a:pt x="1229" y="525"/>
                    </a:lnTo>
                    <a:lnTo>
                      <a:pt x="1225" y="527"/>
                    </a:lnTo>
                    <a:lnTo>
                      <a:pt x="1221" y="530"/>
                    </a:lnTo>
                    <a:lnTo>
                      <a:pt x="1219" y="532"/>
                    </a:lnTo>
                    <a:lnTo>
                      <a:pt x="1216" y="538"/>
                    </a:lnTo>
                    <a:lnTo>
                      <a:pt x="1214" y="542"/>
                    </a:lnTo>
                    <a:lnTo>
                      <a:pt x="1212" y="546"/>
                    </a:lnTo>
                    <a:lnTo>
                      <a:pt x="1210" y="549"/>
                    </a:lnTo>
                    <a:lnTo>
                      <a:pt x="1208" y="555"/>
                    </a:lnTo>
                    <a:lnTo>
                      <a:pt x="1208" y="557"/>
                    </a:lnTo>
                    <a:lnTo>
                      <a:pt x="1206" y="559"/>
                    </a:lnTo>
                    <a:lnTo>
                      <a:pt x="1204" y="561"/>
                    </a:lnTo>
                    <a:lnTo>
                      <a:pt x="1204" y="565"/>
                    </a:lnTo>
                    <a:lnTo>
                      <a:pt x="1204" y="566"/>
                    </a:lnTo>
                    <a:lnTo>
                      <a:pt x="1204" y="570"/>
                    </a:lnTo>
                    <a:lnTo>
                      <a:pt x="1204" y="572"/>
                    </a:lnTo>
                    <a:lnTo>
                      <a:pt x="1204" y="576"/>
                    </a:lnTo>
                    <a:lnTo>
                      <a:pt x="1139" y="895"/>
                    </a:lnTo>
                    <a:lnTo>
                      <a:pt x="1136" y="893"/>
                    </a:lnTo>
                    <a:lnTo>
                      <a:pt x="1132" y="892"/>
                    </a:lnTo>
                    <a:lnTo>
                      <a:pt x="1126" y="888"/>
                    </a:lnTo>
                    <a:lnTo>
                      <a:pt x="1122" y="886"/>
                    </a:lnTo>
                    <a:lnTo>
                      <a:pt x="1117" y="884"/>
                    </a:lnTo>
                    <a:lnTo>
                      <a:pt x="1113" y="880"/>
                    </a:lnTo>
                    <a:lnTo>
                      <a:pt x="1107" y="878"/>
                    </a:lnTo>
                    <a:lnTo>
                      <a:pt x="1105" y="876"/>
                    </a:lnTo>
                    <a:lnTo>
                      <a:pt x="1227" y="316"/>
                    </a:lnTo>
                    <a:lnTo>
                      <a:pt x="1227" y="312"/>
                    </a:lnTo>
                    <a:lnTo>
                      <a:pt x="1227" y="308"/>
                    </a:lnTo>
                    <a:lnTo>
                      <a:pt x="1229" y="306"/>
                    </a:lnTo>
                    <a:lnTo>
                      <a:pt x="1229" y="304"/>
                    </a:lnTo>
                    <a:lnTo>
                      <a:pt x="1229" y="300"/>
                    </a:lnTo>
                    <a:lnTo>
                      <a:pt x="1229" y="298"/>
                    </a:lnTo>
                    <a:lnTo>
                      <a:pt x="1229" y="295"/>
                    </a:lnTo>
                    <a:lnTo>
                      <a:pt x="1229" y="293"/>
                    </a:lnTo>
                    <a:lnTo>
                      <a:pt x="1229" y="291"/>
                    </a:lnTo>
                    <a:lnTo>
                      <a:pt x="1229" y="287"/>
                    </a:lnTo>
                    <a:lnTo>
                      <a:pt x="1229" y="285"/>
                    </a:lnTo>
                    <a:lnTo>
                      <a:pt x="1229" y="283"/>
                    </a:lnTo>
                    <a:lnTo>
                      <a:pt x="1229" y="278"/>
                    </a:lnTo>
                    <a:lnTo>
                      <a:pt x="1227" y="272"/>
                    </a:lnTo>
                    <a:lnTo>
                      <a:pt x="1225" y="268"/>
                    </a:lnTo>
                    <a:lnTo>
                      <a:pt x="1225" y="262"/>
                    </a:lnTo>
                    <a:lnTo>
                      <a:pt x="1223" y="257"/>
                    </a:lnTo>
                    <a:lnTo>
                      <a:pt x="1221" y="253"/>
                    </a:lnTo>
                    <a:lnTo>
                      <a:pt x="1219" y="247"/>
                    </a:lnTo>
                    <a:lnTo>
                      <a:pt x="1217" y="243"/>
                    </a:lnTo>
                    <a:lnTo>
                      <a:pt x="1216" y="240"/>
                    </a:lnTo>
                    <a:lnTo>
                      <a:pt x="1214" y="236"/>
                    </a:lnTo>
                    <a:lnTo>
                      <a:pt x="1210" y="232"/>
                    </a:lnTo>
                    <a:lnTo>
                      <a:pt x="1206" y="226"/>
                    </a:lnTo>
                    <a:lnTo>
                      <a:pt x="1202" y="222"/>
                    </a:lnTo>
                    <a:lnTo>
                      <a:pt x="1200" y="219"/>
                    </a:lnTo>
                    <a:lnTo>
                      <a:pt x="1197" y="215"/>
                    </a:lnTo>
                    <a:lnTo>
                      <a:pt x="1193" y="211"/>
                    </a:lnTo>
                    <a:lnTo>
                      <a:pt x="1189" y="207"/>
                    </a:lnTo>
                    <a:lnTo>
                      <a:pt x="1185" y="205"/>
                    </a:lnTo>
                    <a:lnTo>
                      <a:pt x="1179" y="203"/>
                    </a:lnTo>
                    <a:lnTo>
                      <a:pt x="1176" y="200"/>
                    </a:lnTo>
                    <a:lnTo>
                      <a:pt x="1172" y="198"/>
                    </a:lnTo>
                    <a:lnTo>
                      <a:pt x="1166" y="194"/>
                    </a:lnTo>
                    <a:lnTo>
                      <a:pt x="1160" y="192"/>
                    </a:lnTo>
                    <a:lnTo>
                      <a:pt x="1157" y="192"/>
                    </a:lnTo>
                    <a:lnTo>
                      <a:pt x="1151" y="190"/>
                    </a:lnTo>
                    <a:lnTo>
                      <a:pt x="1147" y="190"/>
                    </a:lnTo>
                    <a:lnTo>
                      <a:pt x="1143" y="188"/>
                    </a:lnTo>
                    <a:lnTo>
                      <a:pt x="1141" y="186"/>
                    </a:lnTo>
                    <a:lnTo>
                      <a:pt x="1138" y="186"/>
                    </a:lnTo>
                    <a:lnTo>
                      <a:pt x="1136" y="186"/>
                    </a:lnTo>
                    <a:lnTo>
                      <a:pt x="1134" y="186"/>
                    </a:lnTo>
                    <a:lnTo>
                      <a:pt x="1130" y="186"/>
                    </a:lnTo>
                    <a:lnTo>
                      <a:pt x="1128" y="186"/>
                    </a:lnTo>
                    <a:lnTo>
                      <a:pt x="1124" y="186"/>
                    </a:lnTo>
                    <a:lnTo>
                      <a:pt x="1122" y="186"/>
                    </a:lnTo>
                    <a:lnTo>
                      <a:pt x="1120" y="186"/>
                    </a:lnTo>
                    <a:lnTo>
                      <a:pt x="1117" y="186"/>
                    </a:lnTo>
                    <a:lnTo>
                      <a:pt x="1115" y="186"/>
                    </a:lnTo>
                    <a:lnTo>
                      <a:pt x="1109" y="186"/>
                    </a:lnTo>
                    <a:lnTo>
                      <a:pt x="1105" y="188"/>
                    </a:lnTo>
                    <a:lnTo>
                      <a:pt x="1100" y="188"/>
                    </a:lnTo>
                    <a:lnTo>
                      <a:pt x="1094" y="190"/>
                    </a:lnTo>
                    <a:lnTo>
                      <a:pt x="1090" y="192"/>
                    </a:lnTo>
                    <a:lnTo>
                      <a:pt x="1086" y="192"/>
                    </a:lnTo>
                    <a:lnTo>
                      <a:pt x="1081" y="194"/>
                    </a:lnTo>
                    <a:lnTo>
                      <a:pt x="1077" y="198"/>
                    </a:lnTo>
                    <a:lnTo>
                      <a:pt x="1073" y="200"/>
                    </a:lnTo>
                    <a:lnTo>
                      <a:pt x="1067" y="203"/>
                    </a:lnTo>
                    <a:lnTo>
                      <a:pt x="1063" y="205"/>
                    </a:lnTo>
                    <a:lnTo>
                      <a:pt x="1058" y="207"/>
                    </a:lnTo>
                    <a:lnTo>
                      <a:pt x="1054" y="211"/>
                    </a:lnTo>
                    <a:lnTo>
                      <a:pt x="1050" y="215"/>
                    </a:lnTo>
                    <a:lnTo>
                      <a:pt x="1048" y="219"/>
                    </a:lnTo>
                    <a:lnTo>
                      <a:pt x="1044" y="222"/>
                    </a:lnTo>
                    <a:lnTo>
                      <a:pt x="1041" y="226"/>
                    </a:lnTo>
                    <a:lnTo>
                      <a:pt x="1039" y="232"/>
                    </a:lnTo>
                    <a:lnTo>
                      <a:pt x="1035" y="234"/>
                    </a:lnTo>
                    <a:lnTo>
                      <a:pt x="1033" y="240"/>
                    </a:lnTo>
                    <a:lnTo>
                      <a:pt x="1029" y="243"/>
                    </a:lnTo>
                    <a:lnTo>
                      <a:pt x="1027" y="249"/>
                    </a:lnTo>
                    <a:lnTo>
                      <a:pt x="1025" y="253"/>
                    </a:lnTo>
                    <a:lnTo>
                      <a:pt x="1023" y="259"/>
                    </a:lnTo>
                    <a:lnTo>
                      <a:pt x="1022" y="260"/>
                    </a:lnTo>
                    <a:lnTo>
                      <a:pt x="1022" y="264"/>
                    </a:lnTo>
                    <a:lnTo>
                      <a:pt x="1022" y="266"/>
                    </a:lnTo>
                    <a:lnTo>
                      <a:pt x="1022" y="270"/>
                    </a:lnTo>
                    <a:lnTo>
                      <a:pt x="919" y="730"/>
                    </a:lnTo>
                    <a:lnTo>
                      <a:pt x="915" y="728"/>
                    </a:lnTo>
                    <a:lnTo>
                      <a:pt x="913" y="726"/>
                    </a:lnTo>
                    <a:lnTo>
                      <a:pt x="907" y="724"/>
                    </a:lnTo>
                    <a:lnTo>
                      <a:pt x="905" y="720"/>
                    </a:lnTo>
                    <a:lnTo>
                      <a:pt x="904" y="719"/>
                    </a:lnTo>
                    <a:lnTo>
                      <a:pt x="900" y="717"/>
                    </a:lnTo>
                    <a:lnTo>
                      <a:pt x="896" y="713"/>
                    </a:lnTo>
                    <a:lnTo>
                      <a:pt x="892" y="713"/>
                    </a:lnTo>
                    <a:lnTo>
                      <a:pt x="1022" y="129"/>
                    </a:lnTo>
                    <a:lnTo>
                      <a:pt x="1022" y="125"/>
                    </a:lnTo>
                    <a:lnTo>
                      <a:pt x="1022" y="124"/>
                    </a:lnTo>
                    <a:lnTo>
                      <a:pt x="1022" y="120"/>
                    </a:lnTo>
                    <a:lnTo>
                      <a:pt x="1022" y="118"/>
                    </a:lnTo>
                    <a:lnTo>
                      <a:pt x="1022" y="114"/>
                    </a:lnTo>
                    <a:lnTo>
                      <a:pt x="1022" y="112"/>
                    </a:lnTo>
                    <a:lnTo>
                      <a:pt x="1022" y="110"/>
                    </a:lnTo>
                    <a:lnTo>
                      <a:pt x="1022" y="106"/>
                    </a:lnTo>
                    <a:lnTo>
                      <a:pt x="1022" y="105"/>
                    </a:lnTo>
                    <a:lnTo>
                      <a:pt x="1022" y="103"/>
                    </a:lnTo>
                    <a:lnTo>
                      <a:pt x="1022" y="99"/>
                    </a:lnTo>
                    <a:lnTo>
                      <a:pt x="1022" y="97"/>
                    </a:lnTo>
                    <a:lnTo>
                      <a:pt x="1022" y="91"/>
                    </a:lnTo>
                    <a:lnTo>
                      <a:pt x="1022" y="86"/>
                    </a:lnTo>
                    <a:lnTo>
                      <a:pt x="1020" y="82"/>
                    </a:lnTo>
                    <a:lnTo>
                      <a:pt x="1018" y="76"/>
                    </a:lnTo>
                    <a:lnTo>
                      <a:pt x="1016" y="70"/>
                    </a:lnTo>
                    <a:lnTo>
                      <a:pt x="1014" y="67"/>
                    </a:lnTo>
                    <a:lnTo>
                      <a:pt x="1012" y="61"/>
                    </a:lnTo>
                    <a:lnTo>
                      <a:pt x="1010" y="57"/>
                    </a:lnTo>
                    <a:lnTo>
                      <a:pt x="1008" y="53"/>
                    </a:lnTo>
                    <a:lnTo>
                      <a:pt x="1006" y="48"/>
                    </a:lnTo>
                    <a:lnTo>
                      <a:pt x="1004" y="44"/>
                    </a:lnTo>
                    <a:lnTo>
                      <a:pt x="1001" y="40"/>
                    </a:lnTo>
                    <a:lnTo>
                      <a:pt x="997" y="36"/>
                    </a:lnTo>
                    <a:lnTo>
                      <a:pt x="993" y="32"/>
                    </a:lnTo>
                    <a:lnTo>
                      <a:pt x="991" y="29"/>
                    </a:lnTo>
                    <a:lnTo>
                      <a:pt x="985" y="25"/>
                    </a:lnTo>
                    <a:lnTo>
                      <a:pt x="983" y="23"/>
                    </a:lnTo>
                    <a:lnTo>
                      <a:pt x="978" y="19"/>
                    </a:lnTo>
                    <a:lnTo>
                      <a:pt x="972" y="17"/>
                    </a:lnTo>
                    <a:lnTo>
                      <a:pt x="968" y="13"/>
                    </a:lnTo>
                    <a:lnTo>
                      <a:pt x="964" y="11"/>
                    </a:lnTo>
                    <a:lnTo>
                      <a:pt x="961" y="10"/>
                    </a:lnTo>
                    <a:lnTo>
                      <a:pt x="955" y="6"/>
                    </a:lnTo>
                    <a:lnTo>
                      <a:pt x="949" y="6"/>
                    </a:lnTo>
                    <a:lnTo>
                      <a:pt x="944" y="4"/>
                    </a:lnTo>
                    <a:lnTo>
                      <a:pt x="940" y="4"/>
                    </a:lnTo>
                    <a:lnTo>
                      <a:pt x="936" y="2"/>
                    </a:lnTo>
                    <a:lnTo>
                      <a:pt x="934" y="2"/>
                    </a:lnTo>
                    <a:lnTo>
                      <a:pt x="932" y="0"/>
                    </a:lnTo>
                    <a:lnTo>
                      <a:pt x="928" y="0"/>
                    </a:lnTo>
                    <a:lnTo>
                      <a:pt x="926" y="0"/>
                    </a:lnTo>
                    <a:lnTo>
                      <a:pt x="925" y="0"/>
                    </a:lnTo>
                    <a:lnTo>
                      <a:pt x="921" y="0"/>
                    </a:lnTo>
                    <a:lnTo>
                      <a:pt x="919" y="0"/>
                    </a:lnTo>
                    <a:lnTo>
                      <a:pt x="915" y="0"/>
                    </a:lnTo>
                    <a:lnTo>
                      <a:pt x="913" y="0"/>
                    </a:lnTo>
                    <a:lnTo>
                      <a:pt x="911" y="0"/>
                    </a:lnTo>
                    <a:lnTo>
                      <a:pt x="907" y="0"/>
                    </a:lnTo>
                    <a:lnTo>
                      <a:pt x="904" y="0"/>
                    </a:lnTo>
                    <a:lnTo>
                      <a:pt x="898" y="2"/>
                    </a:lnTo>
                    <a:lnTo>
                      <a:pt x="896" y="2"/>
                    </a:lnTo>
                    <a:lnTo>
                      <a:pt x="892" y="2"/>
                    </a:lnTo>
                    <a:lnTo>
                      <a:pt x="890" y="2"/>
                    </a:lnTo>
                    <a:lnTo>
                      <a:pt x="888" y="4"/>
                    </a:lnTo>
                    <a:lnTo>
                      <a:pt x="881" y="4"/>
                    </a:lnTo>
                    <a:lnTo>
                      <a:pt x="877" y="6"/>
                    </a:lnTo>
                    <a:lnTo>
                      <a:pt x="873" y="10"/>
                    </a:lnTo>
                    <a:lnTo>
                      <a:pt x="867" y="11"/>
                    </a:lnTo>
                    <a:lnTo>
                      <a:pt x="864" y="15"/>
                    </a:lnTo>
                    <a:lnTo>
                      <a:pt x="860" y="17"/>
                    </a:lnTo>
                    <a:lnTo>
                      <a:pt x="854" y="19"/>
                    </a:lnTo>
                    <a:lnTo>
                      <a:pt x="850" y="23"/>
                    </a:lnTo>
                    <a:lnTo>
                      <a:pt x="847" y="25"/>
                    </a:lnTo>
                    <a:lnTo>
                      <a:pt x="843" y="29"/>
                    </a:lnTo>
                    <a:lnTo>
                      <a:pt x="839" y="32"/>
                    </a:lnTo>
                    <a:lnTo>
                      <a:pt x="835" y="36"/>
                    </a:lnTo>
                    <a:lnTo>
                      <a:pt x="833" y="40"/>
                    </a:lnTo>
                    <a:lnTo>
                      <a:pt x="831" y="44"/>
                    </a:lnTo>
                    <a:lnTo>
                      <a:pt x="828" y="48"/>
                    </a:lnTo>
                    <a:lnTo>
                      <a:pt x="824" y="53"/>
                    </a:lnTo>
                    <a:lnTo>
                      <a:pt x="822" y="57"/>
                    </a:lnTo>
                    <a:lnTo>
                      <a:pt x="820" y="61"/>
                    </a:lnTo>
                    <a:lnTo>
                      <a:pt x="818" y="67"/>
                    </a:lnTo>
                    <a:lnTo>
                      <a:pt x="816" y="70"/>
                    </a:lnTo>
                    <a:lnTo>
                      <a:pt x="816" y="74"/>
                    </a:lnTo>
                    <a:lnTo>
                      <a:pt x="814" y="76"/>
                    </a:lnTo>
                    <a:lnTo>
                      <a:pt x="812" y="82"/>
                    </a:lnTo>
                    <a:lnTo>
                      <a:pt x="812" y="84"/>
                    </a:lnTo>
                    <a:lnTo>
                      <a:pt x="687" y="663"/>
                    </a:lnTo>
                    <a:lnTo>
                      <a:pt x="681" y="663"/>
                    </a:lnTo>
                    <a:lnTo>
                      <a:pt x="677" y="663"/>
                    </a:lnTo>
                    <a:lnTo>
                      <a:pt x="673" y="663"/>
                    </a:lnTo>
                    <a:lnTo>
                      <a:pt x="670" y="663"/>
                    </a:lnTo>
                    <a:lnTo>
                      <a:pt x="666" y="663"/>
                    </a:lnTo>
                    <a:lnTo>
                      <a:pt x="660" y="665"/>
                    </a:lnTo>
                    <a:lnTo>
                      <a:pt x="656" y="665"/>
                    </a:lnTo>
                    <a:lnTo>
                      <a:pt x="652" y="667"/>
                    </a:lnTo>
                    <a:lnTo>
                      <a:pt x="753" y="213"/>
                    </a:lnTo>
                    <a:lnTo>
                      <a:pt x="753" y="209"/>
                    </a:lnTo>
                    <a:lnTo>
                      <a:pt x="753" y="207"/>
                    </a:lnTo>
                    <a:lnTo>
                      <a:pt x="753" y="203"/>
                    </a:lnTo>
                    <a:lnTo>
                      <a:pt x="753" y="201"/>
                    </a:lnTo>
                    <a:lnTo>
                      <a:pt x="753" y="198"/>
                    </a:lnTo>
                    <a:lnTo>
                      <a:pt x="753" y="196"/>
                    </a:lnTo>
                    <a:lnTo>
                      <a:pt x="753" y="192"/>
                    </a:lnTo>
                    <a:lnTo>
                      <a:pt x="753" y="190"/>
                    </a:lnTo>
                    <a:lnTo>
                      <a:pt x="753" y="188"/>
                    </a:lnTo>
                    <a:lnTo>
                      <a:pt x="753" y="184"/>
                    </a:lnTo>
                    <a:lnTo>
                      <a:pt x="753" y="182"/>
                    </a:lnTo>
                    <a:lnTo>
                      <a:pt x="753" y="181"/>
                    </a:lnTo>
                    <a:lnTo>
                      <a:pt x="753" y="175"/>
                    </a:lnTo>
                    <a:lnTo>
                      <a:pt x="753" y="169"/>
                    </a:lnTo>
                    <a:lnTo>
                      <a:pt x="751" y="167"/>
                    </a:lnTo>
                    <a:lnTo>
                      <a:pt x="751" y="163"/>
                    </a:lnTo>
                    <a:lnTo>
                      <a:pt x="751" y="162"/>
                    </a:lnTo>
                    <a:lnTo>
                      <a:pt x="750" y="160"/>
                    </a:lnTo>
                    <a:lnTo>
                      <a:pt x="748" y="154"/>
                    </a:lnTo>
                    <a:lnTo>
                      <a:pt x="746" y="148"/>
                    </a:lnTo>
                    <a:lnTo>
                      <a:pt x="744" y="144"/>
                    </a:lnTo>
                    <a:lnTo>
                      <a:pt x="742" y="141"/>
                    </a:lnTo>
                    <a:lnTo>
                      <a:pt x="740" y="135"/>
                    </a:lnTo>
                    <a:lnTo>
                      <a:pt x="738" y="131"/>
                    </a:lnTo>
                    <a:lnTo>
                      <a:pt x="734" y="127"/>
                    </a:lnTo>
                    <a:lnTo>
                      <a:pt x="730" y="124"/>
                    </a:lnTo>
                    <a:lnTo>
                      <a:pt x="727" y="120"/>
                    </a:lnTo>
                    <a:lnTo>
                      <a:pt x="725" y="116"/>
                    </a:lnTo>
                    <a:lnTo>
                      <a:pt x="721" y="112"/>
                    </a:lnTo>
                    <a:lnTo>
                      <a:pt x="717" y="108"/>
                    </a:lnTo>
                    <a:lnTo>
                      <a:pt x="713" y="105"/>
                    </a:lnTo>
                    <a:lnTo>
                      <a:pt x="710" y="103"/>
                    </a:lnTo>
                    <a:lnTo>
                      <a:pt x="704" y="99"/>
                    </a:lnTo>
                    <a:lnTo>
                      <a:pt x="700" y="97"/>
                    </a:lnTo>
                    <a:lnTo>
                      <a:pt x="694" y="95"/>
                    </a:lnTo>
                    <a:lnTo>
                      <a:pt x="691" y="91"/>
                    </a:lnTo>
                    <a:lnTo>
                      <a:pt x="685" y="89"/>
                    </a:lnTo>
                    <a:lnTo>
                      <a:pt x="681" y="87"/>
                    </a:lnTo>
                    <a:lnTo>
                      <a:pt x="675" y="86"/>
                    </a:lnTo>
                    <a:lnTo>
                      <a:pt x="672" y="86"/>
                    </a:lnTo>
                    <a:lnTo>
                      <a:pt x="668" y="84"/>
                    </a:lnTo>
                    <a:lnTo>
                      <a:pt x="666" y="84"/>
                    </a:lnTo>
                    <a:lnTo>
                      <a:pt x="664" y="84"/>
                    </a:lnTo>
                    <a:lnTo>
                      <a:pt x="660" y="84"/>
                    </a:lnTo>
                    <a:lnTo>
                      <a:pt x="658" y="84"/>
                    </a:lnTo>
                    <a:lnTo>
                      <a:pt x="654" y="84"/>
                    </a:lnTo>
                    <a:lnTo>
                      <a:pt x="652" y="84"/>
                    </a:lnTo>
                    <a:lnTo>
                      <a:pt x="651" y="84"/>
                    </a:lnTo>
                    <a:lnTo>
                      <a:pt x="647" y="84"/>
                    </a:lnTo>
                    <a:lnTo>
                      <a:pt x="645" y="84"/>
                    </a:lnTo>
                    <a:lnTo>
                      <a:pt x="643" y="84"/>
                    </a:lnTo>
                    <a:lnTo>
                      <a:pt x="639" y="84"/>
                    </a:lnTo>
                    <a:lnTo>
                      <a:pt x="635" y="84"/>
                    </a:lnTo>
                    <a:lnTo>
                      <a:pt x="630" y="84"/>
                    </a:lnTo>
                    <a:lnTo>
                      <a:pt x="628" y="84"/>
                    </a:lnTo>
                    <a:lnTo>
                      <a:pt x="624" y="86"/>
                    </a:lnTo>
                    <a:lnTo>
                      <a:pt x="622" y="86"/>
                    </a:lnTo>
                    <a:lnTo>
                      <a:pt x="618" y="86"/>
                    </a:lnTo>
                    <a:lnTo>
                      <a:pt x="614" y="87"/>
                    </a:lnTo>
                    <a:lnTo>
                      <a:pt x="609" y="89"/>
                    </a:lnTo>
                    <a:lnTo>
                      <a:pt x="603" y="91"/>
                    </a:lnTo>
                    <a:lnTo>
                      <a:pt x="599" y="95"/>
                    </a:lnTo>
                    <a:lnTo>
                      <a:pt x="595" y="97"/>
                    </a:lnTo>
                    <a:lnTo>
                      <a:pt x="592" y="99"/>
                    </a:lnTo>
                    <a:lnTo>
                      <a:pt x="586" y="103"/>
                    </a:lnTo>
                    <a:lnTo>
                      <a:pt x="582" y="105"/>
                    </a:lnTo>
                    <a:lnTo>
                      <a:pt x="578" y="108"/>
                    </a:lnTo>
                    <a:lnTo>
                      <a:pt x="574" y="112"/>
                    </a:lnTo>
                    <a:lnTo>
                      <a:pt x="571" y="116"/>
                    </a:lnTo>
                    <a:lnTo>
                      <a:pt x="567" y="120"/>
                    </a:lnTo>
                    <a:lnTo>
                      <a:pt x="565" y="124"/>
                    </a:lnTo>
                    <a:lnTo>
                      <a:pt x="563" y="127"/>
                    </a:lnTo>
                    <a:lnTo>
                      <a:pt x="559" y="131"/>
                    </a:lnTo>
                    <a:lnTo>
                      <a:pt x="555" y="135"/>
                    </a:lnTo>
                    <a:lnTo>
                      <a:pt x="554" y="141"/>
                    </a:lnTo>
                    <a:lnTo>
                      <a:pt x="552" y="146"/>
                    </a:lnTo>
                    <a:lnTo>
                      <a:pt x="550" y="150"/>
                    </a:lnTo>
                    <a:lnTo>
                      <a:pt x="548" y="156"/>
                    </a:lnTo>
                    <a:lnTo>
                      <a:pt x="546" y="158"/>
                    </a:lnTo>
                    <a:lnTo>
                      <a:pt x="546" y="160"/>
                    </a:lnTo>
                    <a:lnTo>
                      <a:pt x="544" y="163"/>
                    </a:lnTo>
                    <a:lnTo>
                      <a:pt x="544" y="167"/>
                    </a:lnTo>
                    <a:lnTo>
                      <a:pt x="361" y="1127"/>
                    </a:lnTo>
                    <a:lnTo>
                      <a:pt x="361" y="112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0" name="AutoShape 1043"/>
            <p:cNvSpPr/>
            <p:nvPr/>
          </p:nvSpPr>
          <p:spPr>
            <a:xfrm flipH="1" rot="10909200">
              <a:off x="6954840" y="1985760"/>
              <a:ext cx="88560" cy="75960"/>
            </a:xfrm>
            <a:prstGeom prst="hexagon">
              <a:avLst>
                <a:gd name="adj" fmla="val 29147"/>
                <a:gd name="vf" fmla="val 1154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1" name="Group 1044"/>
          <p:cNvGrpSpPr/>
          <p:nvPr/>
        </p:nvGrpSpPr>
        <p:grpSpPr>
          <a:xfrm>
            <a:off x="6639480" y="2238480"/>
            <a:ext cx="798840" cy="1043640"/>
            <a:chOff x="6639480" y="2238480"/>
            <a:chExt cx="798840" cy="1043640"/>
          </a:xfrm>
        </p:grpSpPr>
        <p:grpSp>
          <p:nvGrpSpPr>
            <p:cNvPr id="3242" name=""/>
            <p:cNvGrpSpPr/>
            <p:nvPr/>
          </p:nvGrpSpPr>
          <p:grpSpPr>
            <a:xfrm>
              <a:off x="6900480" y="2807280"/>
              <a:ext cx="304920" cy="199440"/>
              <a:chOff x="6900480" y="2807280"/>
              <a:chExt cx="304920" cy="199440"/>
            </a:xfrm>
          </p:grpSpPr>
          <p:sp>
            <p:nvSpPr>
              <p:cNvPr id="3243" name="Line 1045"/>
              <p:cNvSpPr/>
              <p:nvPr/>
            </p:nvSpPr>
            <p:spPr>
              <a:xfrm flipV="1">
                <a:off x="6925320" y="2807280"/>
                <a:ext cx="254520" cy="199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"/>
              <p:cNvSpPr txBox="1"/>
              <p:nvPr/>
            </p:nvSpPr>
            <p:spPr>
              <a:xfrm rot="10243800">
                <a:off x="6910920" y="2828880"/>
                <a:ext cx="283680" cy="155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5" name="Group 1046"/>
            <p:cNvGrpSpPr/>
            <p:nvPr/>
          </p:nvGrpSpPr>
          <p:grpSpPr>
            <a:xfrm>
              <a:off x="6639480" y="2238480"/>
              <a:ext cx="798840" cy="852840"/>
              <a:chOff x="6639480" y="2238480"/>
              <a:chExt cx="798840" cy="852840"/>
            </a:xfrm>
          </p:grpSpPr>
          <p:sp>
            <p:nvSpPr>
              <p:cNvPr id="3246" name="AutoShape 1047"/>
              <p:cNvSpPr/>
              <p:nvPr/>
            </p:nvSpPr>
            <p:spPr>
              <a:xfrm flipH="1" rot="10739400">
                <a:off x="7027920" y="2256840"/>
                <a:ext cx="405360" cy="516600"/>
              </a:xfrm>
              <a:custGeom>
                <a:avLst/>
                <a:gdLst>
                  <a:gd name="textAreaLeft" fmla="*/ 0 w 405360"/>
                  <a:gd name="textAreaRight" fmla="*/ 146160 w 405360"/>
                  <a:gd name="textAreaTop" fmla="*/ 13320 h 516600"/>
                  <a:gd name="textAreaBottom" fmla="*/ 503280 h 51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AutoShape 1048"/>
              <p:cNvSpPr/>
              <p:nvPr/>
            </p:nvSpPr>
            <p:spPr>
              <a:xfrm flipH="1" rot="10615800">
                <a:off x="6739920" y="2250000"/>
                <a:ext cx="446040" cy="526680"/>
              </a:xfrm>
              <a:custGeom>
                <a:avLst/>
                <a:gdLst>
                  <a:gd name="textAreaLeft" fmla="*/ 21600 w 446040"/>
                  <a:gd name="textAreaRight" fmla="*/ 424440 w 446040"/>
                  <a:gd name="textAreaTop" fmla="*/ 21600 h 526680"/>
                  <a:gd name="textAreaBottom" fmla="*/ 505080 h 526680"/>
                </a:gdLst>
                <a:ahLst/>
                <a:rect l="textAreaLeft" t="textAreaTop" r="textAreaRight" b="textAreaBottom"/>
                <a:pathLst>
                  <a:path w="21600" h="25502">
                    <a:moveTo>
                      <a:pt x="3600" y="0"/>
                    </a:moveTo>
                    <a:arcTo wR="3600" hR="3600" stAng="16200000" swAng="-5400000"/>
                    <a:lnTo>
                      <a:pt x="0" y="21902"/>
                    </a:lnTo>
                    <a:arcTo wR="3600" hR="3600" stAng="10800000" swAng="-5400000"/>
                    <a:lnTo>
                      <a:pt x="18000" y="2550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AutoShape 1049"/>
              <p:cNvSpPr/>
              <p:nvPr/>
            </p:nvSpPr>
            <p:spPr>
              <a:xfrm flipH="1" rot="11790600">
                <a:off x="6676200" y="2710080"/>
                <a:ext cx="446040" cy="324360"/>
              </a:xfrm>
              <a:prstGeom prst="triangle">
                <a:avLst>
                  <a:gd name="adj" fmla="val 50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AutoShape 1050"/>
              <p:cNvSpPr/>
              <p:nvPr/>
            </p:nvSpPr>
            <p:spPr>
              <a:xfrm flipH="1" rot="10423800">
                <a:off x="6925680" y="2450520"/>
                <a:ext cx="99720" cy="143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725" y="3202"/>
                      <a:pt x="17850" y="5080"/>
                      <a:pt x="17850" y="10800"/>
                    </a:cubicBezTo>
                    <a:cubicBezTo>
                      <a:pt x="17850" y="16520"/>
                      <a:pt x="19725" y="1839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0" name="AutoShape 1051"/>
            <p:cNvSpPr/>
            <p:nvPr/>
          </p:nvSpPr>
          <p:spPr>
            <a:xfrm flipH="1" rot="12709800">
              <a:off x="6748560" y="2990160"/>
              <a:ext cx="70920" cy="295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1" name="Group 1052"/>
          <p:cNvGrpSpPr/>
          <p:nvPr/>
        </p:nvGrpSpPr>
        <p:grpSpPr>
          <a:xfrm>
            <a:off x="6516720" y="1308240"/>
            <a:ext cx="930960" cy="1872720"/>
            <a:chOff x="6516720" y="1308240"/>
            <a:chExt cx="930960" cy="1872720"/>
          </a:xfrm>
        </p:grpSpPr>
        <p:grpSp>
          <p:nvGrpSpPr>
            <p:cNvPr id="3252" name="Group 1053"/>
            <p:cNvGrpSpPr/>
            <p:nvPr/>
          </p:nvGrpSpPr>
          <p:grpSpPr>
            <a:xfrm>
              <a:off x="6516720" y="1308240"/>
              <a:ext cx="902520" cy="1008360"/>
              <a:chOff x="6516720" y="1308240"/>
              <a:chExt cx="902520" cy="1008360"/>
            </a:xfrm>
          </p:grpSpPr>
          <p:grpSp>
            <p:nvGrpSpPr>
              <p:cNvPr id="3253" name=""/>
              <p:cNvGrpSpPr/>
              <p:nvPr/>
            </p:nvGrpSpPr>
            <p:grpSpPr>
              <a:xfrm>
                <a:off x="6851880" y="1549440"/>
                <a:ext cx="284040" cy="155520"/>
                <a:chOff x="6851880" y="1549440"/>
                <a:chExt cx="284040" cy="155520"/>
              </a:xfrm>
            </p:grpSpPr>
            <p:sp>
              <p:nvSpPr>
                <p:cNvPr id="3254" name="Line 1054"/>
                <p:cNvSpPr/>
                <p:nvPr/>
              </p:nvSpPr>
              <p:spPr>
                <a:xfrm flipH="1">
                  <a:off x="6851880" y="1549440"/>
                  <a:ext cx="284040" cy="155520"/>
                </a:xfrm>
                <a:prstGeom prst="line">
                  <a:avLst/>
                </a:prstGeom>
                <a:ln w="64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5" name=""/>
                <p:cNvSpPr txBox="1"/>
                <p:nvPr/>
              </p:nvSpPr>
              <p:spPr>
                <a:xfrm>
                  <a:off x="6851880" y="1549440"/>
                  <a:ext cx="284040" cy="15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6" name="Group 1055"/>
              <p:cNvGrpSpPr/>
              <p:nvPr/>
            </p:nvGrpSpPr>
            <p:grpSpPr>
              <a:xfrm>
                <a:off x="6516720" y="1442880"/>
                <a:ext cx="894600" cy="873720"/>
                <a:chOff x="6516720" y="1442880"/>
                <a:chExt cx="894600" cy="873720"/>
              </a:xfrm>
            </p:grpSpPr>
            <p:sp>
              <p:nvSpPr>
                <p:cNvPr id="3257" name="AutoShape 1056"/>
                <p:cNvSpPr/>
                <p:nvPr/>
              </p:nvSpPr>
              <p:spPr>
                <a:xfrm flipH="1" rot="498000">
                  <a:off x="6551640" y="1726200"/>
                  <a:ext cx="405360" cy="516600"/>
                </a:xfrm>
                <a:custGeom>
                  <a:avLst/>
                  <a:gdLst>
                    <a:gd name="textAreaLeft" fmla="*/ 0 w 405360"/>
                    <a:gd name="textAreaRight" fmla="*/ 146160 w 405360"/>
                    <a:gd name="textAreaTop" fmla="*/ 13320 h 516600"/>
                    <a:gd name="textAreaBottom" fmla="*/ 503280 h 516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1260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8" name="AutoShape 1057"/>
                <p:cNvSpPr/>
                <p:nvPr/>
              </p:nvSpPr>
              <p:spPr>
                <a:xfrm flipH="1" rot="374400">
                  <a:off x="6795000" y="1766880"/>
                  <a:ext cx="446040" cy="527040"/>
                </a:xfrm>
                <a:custGeom>
                  <a:avLst/>
                  <a:gdLst>
                    <a:gd name="textAreaLeft" fmla="*/ 21600 w 446040"/>
                    <a:gd name="textAreaRight" fmla="*/ 424440 w 446040"/>
                    <a:gd name="textAreaTop" fmla="*/ 21600 h 527040"/>
                    <a:gd name="textAreaBottom" fmla="*/ 505440 h 527040"/>
                  </a:gdLst>
                  <a:ahLst/>
                  <a:rect l="textAreaLeft" t="textAreaTop" r="textAreaRight" b="textAreaBottom"/>
                  <a:pathLst>
                    <a:path w="21600" h="25519">
                      <a:moveTo>
                        <a:pt x="3600" y="0"/>
                      </a:moveTo>
                      <a:arcTo wR="3600" hR="3600" stAng="16200000" swAng="-5400000"/>
                      <a:lnTo>
                        <a:pt x="0" y="21919"/>
                      </a:lnTo>
                      <a:arcTo wR="3600" hR="3600" stAng="10800000" swAng="-5400000"/>
                      <a:lnTo>
                        <a:pt x="18000" y="2551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37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9" name="AutoShape 1058"/>
                <p:cNvSpPr/>
                <p:nvPr/>
              </p:nvSpPr>
              <p:spPr>
                <a:xfrm flipH="1" rot="1549200">
                  <a:off x="6916680" y="1523520"/>
                  <a:ext cx="446040" cy="3243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20448000"/>
                </a:gra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0" name="AutoShape 1059"/>
                <p:cNvSpPr/>
                <p:nvPr/>
              </p:nvSpPr>
              <p:spPr>
                <a:xfrm flipH="1" rot="182400">
                  <a:off x="6956280" y="1947600"/>
                  <a:ext cx="99720" cy="143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9725" y="3202"/>
                        <a:pt x="17850" y="5080"/>
                        <a:pt x="17850" y="10800"/>
                      </a:cubicBezTo>
                      <a:cubicBezTo>
                        <a:pt x="17850" y="16520"/>
                        <a:pt x="19725" y="1839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18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1" name="AutoShape 1060"/>
              <p:cNvSpPr/>
              <p:nvPr/>
            </p:nvSpPr>
            <p:spPr>
              <a:xfrm flipH="1" rot="2468400">
                <a:off x="7259760" y="1294920"/>
                <a:ext cx="71280" cy="295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21366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2" name="Group 1061"/>
            <p:cNvGrpSpPr/>
            <p:nvPr/>
          </p:nvGrpSpPr>
          <p:grpSpPr>
            <a:xfrm>
              <a:off x="6544440" y="2172600"/>
              <a:ext cx="903240" cy="1008360"/>
              <a:chOff x="6544440" y="2172600"/>
              <a:chExt cx="903240" cy="1008360"/>
            </a:xfrm>
          </p:grpSpPr>
          <p:grpSp>
            <p:nvGrpSpPr>
              <p:cNvPr id="3263" name=""/>
              <p:cNvGrpSpPr/>
              <p:nvPr/>
            </p:nvGrpSpPr>
            <p:grpSpPr>
              <a:xfrm>
                <a:off x="6828120" y="2784240"/>
                <a:ext cx="283680" cy="155520"/>
                <a:chOff x="6828120" y="2784240"/>
                <a:chExt cx="283680" cy="155520"/>
              </a:xfrm>
            </p:grpSpPr>
            <p:sp>
              <p:nvSpPr>
                <p:cNvPr id="3264" name="Line 1062"/>
                <p:cNvSpPr/>
                <p:nvPr/>
              </p:nvSpPr>
              <p:spPr>
                <a:xfrm flipV="1">
                  <a:off x="6828120" y="2784240"/>
                  <a:ext cx="283680" cy="155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5" name=""/>
                <p:cNvSpPr txBox="1"/>
                <p:nvPr/>
              </p:nvSpPr>
              <p:spPr>
                <a:xfrm rot="10800000">
                  <a:off x="6828120" y="2784240"/>
                  <a:ext cx="283680" cy="15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6" name="Group 1063"/>
              <p:cNvGrpSpPr/>
              <p:nvPr/>
            </p:nvGrpSpPr>
            <p:grpSpPr>
              <a:xfrm>
                <a:off x="6553080" y="2172600"/>
                <a:ext cx="894600" cy="873720"/>
                <a:chOff x="6553080" y="2172600"/>
                <a:chExt cx="894600" cy="873720"/>
              </a:xfrm>
            </p:grpSpPr>
            <p:sp>
              <p:nvSpPr>
                <p:cNvPr id="3267" name="AutoShape 1064"/>
                <p:cNvSpPr/>
                <p:nvPr/>
              </p:nvSpPr>
              <p:spPr>
                <a:xfrm flipV="1" rot="498000">
                  <a:off x="7006680" y="2245320"/>
                  <a:ext cx="405360" cy="516600"/>
                </a:xfrm>
                <a:custGeom>
                  <a:avLst/>
                  <a:gdLst>
                    <a:gd name="textAreaLeft" fmla="*/ 0 w 405360"/>
                    <a:gd name="textAreaRight" fmla="*/ 146160 w 405360"/>
                    <a:gd name="textAreaTop" fmla="*/ 13320 h 516600"/>
                    <a:gd name="textAreaBottom" fmla="*/ 503280 h 516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8" name="AutoShape 1065"/>
                <p:cNvSpPr/>
                <p:nvPr/>
              </p:nvSpPr>
              <p:spPr>
                <a:xfrm flipV="1" rot="374400">
                  <a:off x="6723000" y="2195280"/>
                  <a:ext cx="446040" cy="527040"/>
                </a:xfrm>
                <a:custGeom>
                  <a:avLst/>
                  <a:gdLst>
                    <a:gd name="textAreaLeft" fmla="*/ 21600 w 446040"/>
                    <a:gd name="textAreaRight" fmla="*/ 424440 w 446040"/>
                    <a:gd name="textAreaTop" fmla="*/ 21600 h 527040"/>
                    <a:gd name="textAreaBottom" fmla="*/ 505440 h 527040"/>
                  </a:gdLst>
                  <a:ahLst/>
                  <a:rect l="textAreaLeft" t="textAreaTop" r="textAreaRight" b="textAreaBottom"/>
                  <a:pathLst>
                    <a:path w="21600" h="25519">
                      <a:moveTo>
                        <a:pt x="3600" y="0"/>
                      </a:moveTo>
                      <a:arcTo wR="3600" hR="3600" stAng="16200000" swAng="-5400000"/>
                      <a:lnTo>
                        <a:pt x="0" y="21919"/>
                      </a:lnTo>
                      <a:arcTo wR="3600" hR="3600" stAng="10800000" swAng="-5400000"/>
                      <a:lnTo>
                        <a:pt x="18000" y="2551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9" name="AutoShape 1066"/>
                <p:cNvSpPr/>
                <p:nvPr/>
              </p:nvSpPr>
              <p:spPr>
                <a:xfrm flipV="1" rot="1549200">
                  <a:off x="6601320" y="2640240"/>
                  <a:ext cx="446040" cy="324360"/>
                </a:xfrm>
                <a:prstGeom prst="triangle">
                  <a:avLst>
                    <a:gd name="adj" fmla="val 5000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0" name="AutoShape 1067"/>
                <p:cNvSpPr/>
                <p:nvPr/>
              </p:nvSpPr>
              <p:spPr>
                <a:xfrm flipV="1" rot="182400">
                  <a:off x="6906960" y="2397600"/>
                  <a:ext cx="99720" cy="143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9725" y="3202"/>
                        <a:pt x="17850" y="5080"/>
                        <a:pt x="17850" y="10800"/>
                      </a:cubicBezTo>
                      <a:cubicBezTo>
                        <a:pt x="17850" y="16520"/>
                        <a:pt x="19725" y="1839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71" name="AutoShape 1068"/>
              <p:cNvSpPr/>
              <p:nvPr/>
            </p:nvSpPr>
            <p:spPr>
              <a:xfrm flipV="1" rot="2468400">
                <a:off x="6633000" y="2898000"/>
                <a:ext cx="70920" cy="295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72" name="Group 1100"/>
          <p:cNvGrpSpPr/>
          <p:nvPr/>
        </p:nvGrpSpPr>
        <p:grpSpPr>
          <a:xfrm>
            <a:off x="6805800" y="1919880"/>
            <a:ext cx="348120" cy="1099800"/>
            <a:chOff x="6805800" y="1919880"/>
            <a:chExt cx="348120" cy="1099800"/>
          </a:xfrm>
        </p:grpSpPr>
        <p:grpSp>
          <p:nvGrpSpPr>
            <p:cNvPr id="3273" name="Group 1069"/>
            <p:cNvGrpSpPr/>
            <p:nvPr/>
          </p:nvGrpSpPr>
          <p:grpSpPr>
            <a:xfrm>
              <a:off x="6805800" y="1919880"/>
              <a:ext cx="348120" cy="1099800"/>
              <a:chOff x="6805800" y="1919880"/>
              <a:chExt cx="348120" cy="1099800"/>
            </a:xfrm>
          </p:grpSpPr>
          <p:grpSp>
            <p:nvGrpSpPr>
              <p:cNvPr id="3274" name="Group 1070"/>
              <p:cNvGrpSpPr/>
              <p:nvPr/>
            </p:nvGrpSpPr>
            <p:grpSpPr>
              <a:xfrm>
                <a:off x="6805800" y="2385720"/>
                <a:ext cx="348120" cy="633960"/>
                <a:chOff x="6805800" y="2385720"/>
                <a:chExt cx="348120" cy="633960"/>
              </a:xfrm>
            </p:grpSpPr>
            <p:sp>
              <p:nvSpPr>
                <p:cNvPr id="3275" name="AutoShape 1071"/>
                <p:cNvSpPr/>
                <p:nvPr/>
              </p:nvSpPr>
              <p:spPr>
                <a:xfrm flipH="1" rot="886800">
                  <a:off x="6865200" y="2513880"/>
                  <a:ext cx="179280" cy="491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1556" y="21600"/>
                      </a:lnTo>
                      <a:lnTo>
                        <a:pt x="20044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18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6" name="AutoShape 1072"/>
                <p:cNvSpPr/>
                <p:nvPr/>
              </p:nvSpPr>
              <p:spPr>
                <a:xfrm flipH="1" rot="16908600">
                  <a:off x="6922440" y="2385360"/>
                  <a:ext cx="191520" cy="23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934" y="2201"/>
                        <a:pt x="12267" y="5080"/>
                        <a:pt x="12267" y="10800"/>
                      </a:cubicBezTo>
                      <a:cubicBezTo>
                        <a:pt x="12267" y="16520"/>
                        <a:pt x="16934" y="1939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62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7" name="Group 1073"/>
              <p:cNvGrpSpPr/>
              <p:nvPr/>
            </p:nvGrpSpPr>
            <p:grpSpPr>
              <a:xfrm>
                <a:off x="6806160" y="1919880"/>
                <a:ext cx="347760" cy="633960"/>
                <a:chOff x="6806160" y="1919880"/>
                <a:chExt cx="347760" cy="633960"/>
              </a:xfrm>
            </p:grpSpPr>
            <p:grpSp>
              <p:nvGrpSpPr>
                <p:cNvPr id="3278" name="Group 1074"/>
                <p:cNvGrpSpPr/>
                <p:nvPr/>
              </p:nvGrpSpPr>
              <p:grpSpPr>
                <a:xfrm>
                  <a:off x="6806160" y="1919880"/>
                  <a:ext cx="347760" cy="633960"/>
                  <a:chOff x="6806160" y="1919880"/>
                  <a:chExt cx="347760" cy="633960"/>
                </a:xfrm>
              </p:grpSpPr>
              <p:sp>
                <p:nvSpPr>
                  <p:cNvPr id="3279" name="AutoShape 1075"/>
                  <p:cNvSpPr/>
                  <p:nvPr/>
                </p:nvSpPr>
                <p:spPr>
                  <a:xfrm flipH="1" flipV="1" rot="20713200">
                    <a:off x="6865200" y="1934640"/>
                    <a:ext cx="179280" cy="49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1556" y="21600"/>
                        </a:lnTo>
                        <a:lnTo>
                          <a:pt x="20044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0" name="AutoShape 1076"/>
                  <p:cNvSpPr/>
                  <p:nvPr/>
                </p:nvSpPr>
                <p:spPr>
                  <a:xfrm flipH="1" flipV="1" rot="4691400">
                    <a:off x="6922440" y="2317320"/>
                    <a:ext cx="19152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934" y="2201"/>
                          <a:pt x="12267" y="5080"/>
                          <a:pt x="12267" y="10800"/>
                        </a:cubicBezTo>
                        <a:cubicBezTo>
                          <a:pt x="12267" y="16520"/>
                          <a:pt x="16934" y="19399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81" name="AutoShape 1077"/>
                <p:cNvSpPr/>
                <p:nvPr/>
              </p:nvSpPr>
              <p:spPr>
                <a:xfrm flipH="1" flipV="1" rot="64800">
                  <a:off x="6879600" y="2184480"/>
                  <a:ext cx="180720" cy="12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0" y="21600"/>
                      </a:lnTo>
                      <a:lnTo>
                        <a:pt x="216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2" name="AutoShape 1078"/>
                <p:cNvSpPr/>
                <p:nvPr/>
              </p:nvSpPr>
              <p:spPr>
                <a:xfrm flipH="1" flipV="1" rot="21527400">
                  <a:off x="6917760" y="2200320"/>
                  <a:ext cx="115560" cy="109080"/>
                </a:xfrm>
                <a:custGeom>
                  <a:avLst/>
                  <a:gdLst/>
                  <a:ahLst/>
                  <a:rect l="l" t="t" r="r" b="b"/>
                  <a:pathLst>
                    <a:path w="73" h="69">
                      <a:moveTo>
                        <a:pt x="0" y="26"/>
                      </a:moveTo>
                      <a:lnTo>
                        <a:pt x="27" y="26"/>
                      </a:lnTo>
                      <a:lnTo>
                        <a:pt x="36" y="0"/>
                      </a:lnTo>
                      <a:lnTo>
                        <a:pt x="45" y="26"/>
                      </a:lnTo>
                      <a:lnTo>
                        <a:pt x="72" y="26"/>
                      </a:lnTo>
                      <a:lnTo>
                        <a:pt x="50" y="42"/>
                      </a:lnTo>
                      <a:lnTo>
                        <a:pt x="59" y="68"/>
                      </a:lnTo>
                      <a:lnTo>
                        <a:pt x="36" y="52"/>
                      </a:lnTo>
                      <a:lnTo>
                        <a:pt x="13" y="68"/>
                      </a:lnTo>
                      <a:lnTo>
                        <a:pt x="22" y="42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83" name="Group 1097"/>
            <p:cNvGrpSpPr/>
            <p:nvPr/>
          </p:nvGrpSpPr>
          <p:grpSpPr>
            <a:xfrm>
              <a:off x="6878880" y="2629440"/>
              <a:ext cx="204840" cy="162000"/>
              <a:chOff x="6878880" y="2629440"/>
              <a:chExt cx="204840" cy="162000"/>
            </a:xfrm>
          </p:grpSpPr>
          <p:sp>
            <p:nvSpPr>
              <p:cNvPr id="3284" name="AutoShape 1098"/>
              <p:cNvSpPr/>
              <p:nvPr/>
            </p:nvSpPr>
            <p:spPr>
              <a:xfrm flipH="1" rot="833400">
                <a:off x="6890400" y="2649240"/>
                <a:ext cx="180720" cy="122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AutoShape 1099"/>
              <p:cNvSpPr/>
              <p:nvPr/>
            </p:nvSpPr>
            <p:spPr>
              <a:xfrm flipH="1" rot="971400">
                <a:off x="6931080" y="2647800"/>
                <a:ext cx="115560" cy="109440"/>
              </a:xfrm>
              <a:custGeom>
                <a:avLst/>
                <a:gdLst/>
                <a:ahLst/>
                <a:rect l="l" t="t" r="r" b="b"/>
                <a:pathLst>
                  <a:path w="73" h="69">
                    <a:moveTo>
                      <a:pt x="0" y="26"/>
                    </a:moveTo>
                    <a:lnTo>
                      <a:pt x="27" y="26"/>
                    </a:lnTo>
                    <a:lnTo>
                      <a:pt x="36" y="0"/>
                    </a:lnTo>
                    <a:lnTo>
                      <a:pt x="45" y="26"/>
                    </a:lnTo>
                    <a:lnTo>
                      <a:pt x="72" y="26"/>
                    </a:lnTo>
                    <a:lnTo>
                      <a:pt x="50" y="42"/>
                    </a:lnTo>
                    <a:lnTo>
                      <a:pt x="59" y="68"/>
                    </a:lnTo>
                    <a:lnTo>
                      <a:pt x="36" y="52"/>
                    </a:lnTo>
                    <a:lnTo>
                      <a:pt x="13" y="68"/>
                    </a:lnTo>
                    <a:lnTo>
                      <a:pt x="22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86" name="Group 1101"/>
          <p:cNvGrpSpPr/>
          <p:nvPr/>
        </p:nvGrpSpPr>
        <p:grpSpPr>
          <a:xfrm>
            <a:off x="6257880" y="2824920"/>
            <a:ext cx="1280160" cy="296280"/>
            <a:chOff x="6257880" y="2824920"/>
            <a:chExt cx="1280160" cy="296280"/>
          </a:xfrm>
        </p:grpSpPr>
        <p:grpSp>
          <p:nvGrpSpPr>
            <p:cNvPr id="3287" name="Group 1102"/>
            <p:cNvGrpSpPr/>
            <p:nvPr/>
          </p:nvGrpSpPr>
          <p:grpSpPr>
            <a:xfrm>
              <a:off x="6257880" y="2848320"/>
              <a:ext cx="745560" cy="272880"/>
              <a:chOff x="6257880" y="2848320"/>
              <a:chExt cx="745560" cy="272880"/>
            </a:xfrm>
          </p:grpSpPr>
          <p:grpSp>
            <p:nvGrpSpPr>
              <p:cNvPr id="3288" name="Group 1103"/>
              <p:cNvGrpSpPr/>
              <p:nvPr/>
            </p:nvGrpSpPr>
            <p:grpSpPr>
              <a:xfrm>
                <a:off x="6257880" y="2848320"/>
                <a:ext cx="745560" cy="272880"/>
                <a:chOff x="6257880" y="2848320"/>
                <a:chExt cx="745560" cy="272880"/>
              </a:xfrm>
            </p:grpSpPr>
            <p:sp>
              <p:nvSpPr>
                <p:cNvPr id="3289" name="AutoShape 1104"/>
                <p:cNvSpPr/>
                <p:nvPr/>
              </p:nvSpPr>
              <p:spPr>
                <a:xfrm flipH="1" rot="4863600">
                  <a:off x="6590160" y="2818440"/>
                  <a:ext cx="179640" cy="360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4308" y="21600"/>
                      </a:lnTo>
                      <a:lnTo>
                        <a:pt x="17292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54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0" name="Oval 1105"/>
                <p:cNvSpPr/>
                <p:nvPr/>
              </p:nvSpPr>
              <p:spPr>
                <a:xfrm flipH="1" rot="4324200">
                  <a:off x="6791040" y="2871000"/>
                  <a:ext cx="186480" cy="190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1" name="Freeform 1106"/>
                <p:cNvSpPr/>
                <p:nvPr/>
              </p:nvSpPr>
              <p:spPr>
                <a:xfrm flipH="1" rot="16429800">
                  <a:off x="6319080" y="2880360"/>
                  <a:ext cx="174960" cy="287640"/>
                </a:xfrm>
                <a:custGeom>
                  <a:avLst/>
                  <a:gdLst/>
                  <a:ahLst/>
                  <a:rect l="l" t="t" r="r" b="b"/>
                  <a:pathLst>
                    <a:path w="1402" h="2302">
                      <a:moveTo>
                        <a:pt x="361" y="1127"/>
                      </a:moveTo>
                      <a:lnTo>
                        <a:pt x="280" y="1116"/>
                      </a:lnTo>
                      <a:lnTo>
                        <a:pt x="373" y="711"/>
                      </a:lnTo>
                      <a:lnTo>
                        <a:pt x="373" y="709"/>
                      </a:lnTo>
                      <a:lnTo>
                        <a:pt x="375" y="705"/>
                      </a:lnTo>
                      <a:lnTo>
                        <a:pt x="375" y="703"/>
                      </a:lnTo>
                      <a:lnTo>
                        <a:pt x="375" y="700"/>
                      </a:lnTo>
                      <a:lnTo>
                        <a:pt x="375" y="698"/>
                      </a:lnTo>
                      <a:lnTo>
                        <a:pt x="375" y="696"/>
                      </a:lnTo>
                      <a:lnTo>
                        <a:pt x="375" y="692"/>
                      </a:lnTo>
                      <a:lnTo>
                        <a:pt x="375" y="690"/>
                      </a:lnTo>
                      <a:lnTo>
                        <a:pt x="375" y="684"/>
                      </a:lnTo>
                      <a:lnTo>
                        <a:pt x="375" y="681"/>
                      </a:lnTo>
                      <a:lnTo>
                        <a:pt x="375" y="675"/>
                      </a:lnTo>
                      <a:lnTo>
                        <a:pt x="375" y="669"/>
                      </a:lnTo>
                      <a:lnTo>
                        <a:pt x="371" y="665"/>
                      </a:lnTo>
                      <a:lnTo>
                        <a:pt x="371" y="660"/>
                      </a:lnTo>
                      <a:lnTo>
                        <a:pt x="369" y="654"/>
                      </a:lnTo>
                      <a:lnTo>
                        <a:pt x="367" y="652"/>
                      </a:lnTo>
                      <a:lnTo>
                        <a:pt x="365" y="646"/>
                      </a:lnTo>
                      <a:lnTo>
                        <a:pt x="363" y="641"/>
                      </a:lnTo>
                      <a:lnTo>
                        <a:pt x="361" y="637"/>
                      </a:lnTo>
                      <a:lnTo>
                        <a:pt x="358" y="633"/>
                      </a:lnTo>
                      <a:lnTo>
                        <a:pt x="356" y="629"/>
                      </a:lnTo>
                      <a:lnTo>
                        <a:pt x="354" y="623"/>
                      </a:lnTo>
                      <a:lnTo>
                        <a:pt x="350" y="620"/>
                      </a:lnTo>
                      <a:lnTo>
                        <a:pt x="346" y="616"/>
                      </a:lnTo>
                      <a:lnTo>
                        <a:pt x="342" y="612"/>
                      </a:lnTo>
                      <a:lnTo>
                        <a:pt x="339" y="610"/>
                      </a:lnTo>
                      <a:lnTo>
                        <a:pt x="335" y="606"/>
                      </a:lnTo>
                      <a:lnTo>
                        <a:pt x="331" y="603"/>
                      </a:lnTo>
                      <a:lnTo>
                        <a:pt x="325" y="601"/>
                      </a:lnTo>
                      <a:lnTo>
                        <a:pt x="321" y="597"/>
                      </a:lnTo>
                      <a:lnTo>
                        <a:pt x="318" y="595"/>
                      </a:lnTo>
                      <a:lnTo>
                        <a:pt x="312" y="593"/>
                      </a:lnTo>
                      <a:lnTo>
                        <a:pt x="306" y="591"/>
                      </a:lnTo>
                      <a:lnTo>
                        <a:pt x="302" y="589"/>
                      </a:lnTo>
                      <a:lnTo>
                        <a:pt x="299" y="589"/>
                      </a:lnTo>
                      <a:lnTo>
                        <a:pt x="295" y="587"/>
                      </a:lnTo>
                      <a:lnTo>
                        <a:pt x="291" y="587"/>
                      </a:lnTo>
                      <a:lnTo>
                        <a:pt x="287" y="585"/>
                      </a:lnTo>
                      <a:lnTo>
                        <a:pt x="285" y="585"/>
                      </a:lnTo>
                      <a:lnTo>
                        <a:pt x="283" y="585"/>
                      </a:lnTo>
                      <a:lnTo>
                        <a:pt x="280" y="585"/>
                      </a:lnTo>
                      <a:lnTo>
                        <a:pt x="276" y="585"/>
                      </a:lnTo>
                      <a:lnTo>
                        <a:pt x="274" y="585"/>
                      </a:lnTo>
                      <a:lnTo>
                        <a:pt x="272" y="585"/>
                      </a:lnTo>
                      <a:lnTo>
                        <a:pt x="268" y="585"/>
                      </a:lnTo>
                      <a:lnTo>
                        <a:pt x="266" y="585"/>
                      </a:lnTo>
                      <a:lnTo>
                        <a:pt x="263" y="585"/>
                      </a:lnTo>
                      <a:lnTo>
                        <a:pt x="261" y="587"/>
                      </a:lnTo>
                      <a:lnTo>
                        <a:pt x="259" y="587"/>
                      </a:lnTo>
                      <a:lnTo>
                        <a:pt x="255" y="587"/>
                      </a:lnTo>
                      <a:lnTo>
                        <a:pt x="253" y="589"/>
                      </a:lnTo>
                      <a:lnTo>
                        <a:pt x="249" y="589"/>
                      </a:lnTo>
                      <a:lnTo>
                        <a:pt x="247" y="589"/>
                      </a:lnTo>
                      <a:lnTo>
                        <a:pt x="243" y="591"/>
                      </a:lnTo>
                      <a:lnTo>
                        <a:pt x="240" y="591"/>
                      </a:lnTo>
                      <a:lnTo>
                        <a:pt x="238" y="593"/>
                      </a:lnTo>
                      <a:lnTo>
                        <a:pt x="236" y="595"/>
                      </a:lnTo>
                      <a:lnTo>
                        <a:pt x="232" y="595"/>
                      </a:lnTo>
                      <a:lnTo>
                        <a:pt x="230" y="597"/>
                      </a:lnTo>
                      <a:lnTo>
                        <a:pt x="228" y="599"/>
                      </a:lnTo>
                      <a:lnTo>
                        <a:pt x="224" y="601"/>
                      </a:lnTo>
                      <a:lnTo>
                        <a:pt x="223" y="601"/>
                      </a:lnTo>
                      <a:lnTo>
                        <a:pt x="219" y="603"/>
                      </a:lnTo>
                      <a:lnTo>
                        <a:pt x="217" y="604"/>
                      </a:lnTo>
                      <a:lnTo>
                        <a:pt x="211" y="608"/>
                      </a:lnTo>
                      <a:lnTo>
                        <a:pt x="207" y="612"/>
                      </a:lnTo>
                      <a:lnTo>
                        <a:pt x="204" y="616"/>
                      </a:lnTo>
                      <a:lnTo>
                        <a:pt x="198" y="618"/>
                      </a:lnTo>
                      <a:lnTo>
                        <a:pt x="194" y="623"/>
                      </a:lnTo>
                      <a:lnTo>
                        <a:pt x="188" y="627"/>
                      </a:lnTo>
                      <a:lnTo>
                        <a:pt x="185" y="633"/>
                      </a:lnTo>
                      <a:lnTo>
                        <a:pt x="181" y="637"/>
                      </a:lnTo>
                      <a:lnTo>
                        <a:pt x="177" y="641"/>
                      </a:lnTo>
                      <a:lnTo>
                        <a:pt x="173" y="646"/>
                      </a:lnTo>
                      <a:lnTo>
                        <a:pt x="169" y="652"/>
                      </a:lnTo>
                      <a:lnTo>
                        <a:pt x="166" y="656"/>
                      </a:lnTo>
                      <a:lnTo>
                        <a:pt x="162" y="662"/>
                      </a:lnTo>
                      <a:lnTo>
                        <a:pt x="160" y="665"/>
                      </a:lnTo>
                      <a:lnTo>
                        <a:pt x="158" y="669"/>
                      </a:lnTo>
                      <a:lnTo>
                        <a:pt x="158" y="671"/>
                      </a:lnTo>
                      <a:lnTo>
                        <a:pt x="156" y="673"/>
                      </a:lnTo>
                      <a:lnTo>
                        <a:pt x="154" y="677"/>
                      </a:lnTo>
                      <a:lnTo>
                        <a:pt x="152" y="679"/>
                      </a:lnTo>
                      <a:lnTo>
                        <a:pt x="152" y="681"/>
                      </a:lnTo>
                      <a:lnTo>
                        <a:pt x="150" y="684"/>
                      </a:lnTo>
                      <a:lnTo>
                        <a:pt x="150" y="688"/>
                      </a:lnTo>
                      <a:lnTo>
                        <a:pt x="146" y="694"/>
                      </a:lnTo>
                      <a:lnTo>
                        <a:pt x="145" y="701"/>
                      </a:lnTo>
                      <a:lnTo>
                        <a:pt x="143" y="709"/>
                      </a:lnTo>
                      <a:lnTo>
                        <a:pt x="139" y="717"/>
                      </a:lnTo>
                      <a:lnTo>
                        <a:pt x="137" y="724"/>
                      </a:lnTo>
                      <a:lnTo>
                        <a:pt x="135" y="732"/>
                      </a:lnTo>
                      <a:lnTo>
                        <a:pt x="131" y="739"/>
                      </a:lnTo>
                      <a:lnTo>
                        <a:pt x="129" y="747"/>
                      </a:lnTo>
                      <a:lnTo>
                        <a:pt x="126" y="755"/>
                      </a:lnTo>
                      <a:lnTo>
                        <a:pt x="124" y="760"/>
                      </a:lnTo>
                      <a:lnTo>
                        <a:pt x="122" y="768"/>
                      </a:lnTo>
                      <a:lnTo>
                        <a:pt x="120" y="776"/>
                      </a:lnTo>
                      <a:lnTo>
                        <a:pt x="116" y="781"/>
                      </a:lnTo>
                      <a:lnTo>
                        <a:pt x="114" y="789"/>
                      </a:lnTo>
                      <a:lnTo>
                        <a:pt x="112" y="796"/>
                      </a:lnTo>
                      <a:lnTo>
                        <a:pt x="110" y="804"/>
                      </a:lnTo>
                      <a:lnTo>
                        <a:pt x="107" y="812"/>
                      </a:lnTo>
                      <a:lnTo>
                        <a:pt x="107" y="817"/>
                      </a:lnTo>
                      <a:lnTo>
                        <a:pt x="103" y="823"/>
                      </a:lnTo>
                      <a:lnTo>
                        <a:pt x="101" y="831"/>
                      </a:lnTo>
                      <a:lnTo>
                        <a:pt x="97" y="836"/>
                      </a:lnTo>
                      <a:lnTo>
                        <a:pt x="97" y="844"/>
                      </a:lnTo>
                      <a:lnTo>
                        <a:pt x="93" y="852"/>
                      </a:lnTo>
                      <a:lnTo>
                        <a:pt x="93" y="857"/>
                      </a:lnTo>
                      <a:lnTo>
                        <a:pt x="89" y="865"/>
                      </a:lnTo>
                      <a:lnTo>
                        <a:pt x="88" y="871"/>
                      </a:lnTo>
                      <a:lnTo>
                        <a:pt x="86" y="878"/>
                      </a:lnTo>
                      <a:lnTo>
                        <a:pt x="84" y="884"/>
                      </a:lnTo>
                      <a:lnTo>
                        <a:pt x="82" y="892"/>
                      </a:lnTo>
                      <a:lnTo>
                        <a:pt x="80" y="899"/>
                      </a:lnTo>
                      <a:lnTo>
                        <a:pt x="78" y="907"/>
                      </a:lnTo>
                      <a:lnTo>
                        <a:pt x="74" y="912"/>
                      </a:lnTo>
                      <a:lnTo>
                        <a:pt x="72" y="920"/>
                      </a:lnTo>
                      <a:lnTo>
                        <a:pt x="72" y="926"/>
                      </a:lnTo>
                      <a:lnTo>
                        <a:pt x="68" y="931"/>
                      </a:lnTo>
                      <a:lnTo>
                        <a:pt x="67" y="939"/>
                      </a:lnTo>
                      <a:lnTo>
                        <a:pt x="65" y="945"/>
                      </a:lnTo>
                      <a:lnTo>
                        <a:pt x="63" y="952"/>
                      </a:lnTo>
                      <a:lnTo>
                        <a:pt x="59" y="958"/>
                      </a:lnTo>
                      <a:lnTo>
                        <a:pt x="57" y="966"/>
                      </a:lnTo>
                      <a:lnTo>
                        <a:pt x="55" y="971"/>
                      </a:lnTo>
                      <a:lnTo>
                        <a:pt x="53" y="979"/>
                      </a:lnTo>
                      <a:lnTo>
                        <a:pt x="51" y="987"/>
                      </a:lnTo>
                      <a:lnTo>
                        <a:pt x="49" y="994"/>
                      </a:lnTo>
                      <a:lnTo>
                        <a:pt x="48" y="1000"/>
                      </a:lnTo>
                      <a:lnTo>
                        <a:pt x="46" y="1007"/>
                      </a:lnTo>
                      <a:lnTo>
                        <a:pt x="44" y="1015"/>
                      </a:lnTo>
                      <a:lnTo>
                        <a:pt x="42" y="1021"/>
                      </a:lnTo>
                      <a:lnTo>
                        <a:pt x="42" y="1028"/>
                      </a:lnTo>
                      <a:lnTo>
                        <a:pt x="38" y="1036"/>
                      </a:lnTo>
                      <a:lnTo>
                        <a:pt x="36" y="1042"/>
                      </a:lnTo>
                      <a:lnTo>
                        <a:pt x="36" y="1049"/>
                      </a:lnTo>
                      <a:lnTo>
                        <a:pt x="34" y="1057"/>
                      </a:lnTo>
                      <a:lnTo>
                        <a:pt x="30" y="1063"/>
                      </a:lnTo>
                      <a:lnTo>
                        <a:pt x="30" y="1070"/>
                      </a:lnTo>
                      <a:lnTo>
                        <a:pt x="29" y="1078"/>
                      </a:lnTo>
                      <a:lnTo>
                        <a:pt x="27" y="1085"/>
                      </a:lnTo>
                      <a:lnTo>
                        <a:pt x="25" y="1093"/>
                      </a:lnTo>
                      <a:lnTo>
                        <a:pt x="23" y="1101"/>
                      </a:lnTo>
                      <a:lnTo>
                        <a:pt x="21" y="1108"/>
                      </a:lnTo>
                      <a:lnTo>
                        <a:pt x="19" y="1116"/>
                      </a:lnTo>
                      <a:lnTo>
                        <a:pt x="17" y="1123"/>
                      </a:lnTo>
                      <a:lnTo>
                        <a:pt x="17" y="1131"/>
                      </a:lnTo>
                      <a:lnTo>
                        <a:pt x="15" y="1139"/>
                      </a:lnTo>
                      <a:lnTo>
                        <a:pt x="13" y="1148"/>
                      </a:lnTo>
                      <a:lnTo>
                        <a:pt x="10" y="1158"/>
                      </a:lnTo>
                      <a:lnTo>
                        <a:pt x="10" y="1165"/>
                      </a:lnTo>
                      <a:lnTo>
                        <a:pt x="8" y="1175"/>
                      </a:lnTo>
                      <a:lnTo>
                        <a:pt x="6" y="1182"/>
                      </a:lnTo>
                      <a:lnTo>
                        <a:pt x="6" y="1192"/>
                      </a:lnTo>
                      <a:lnTo>
                        <a:pt x="4" y="1201"/>
                      </a:lnTo>
                      <a:lnTo>
                        <a:pt x="2" y="1211"/>
                      </a:lnTo>
                      <a:lnTo>
                        <a:pt x="2" y="1218"/>
                      </a:lnTo>
                      <a:lnTo>
                        <a:pt x="0" y="1230"/>
                      </a:lnTo>
                      <a:lnTo>
                        <a:pt x="0" y="1237"/>
                      </a:lnTo>
                      <a:lnTo>
                        <a:pt x="0" y="1247"/>
                      </a:lnTo>
                      <a:lnTo>
                        <a:pt x="0" y="1257"/>
                      </a:lnTo>
                      <a:lnTo>
                        <a:pt x="0" y="1268"/>
                      </a:lnTo>
                      <a:lnTo>
                        <a:pt x="0" y="1276"/>
                      </a:lnTo>
                      <a:lnTo>
                        <a:pt x="0" y="1285"/>
                      </a:lnTo>
                      <a:lnTo>
                        <a:pt x="0" y="1296"/>
                      </a:lnTo>
                      <a:lnTo>
                        <a:pt x="0" y="1304"/>
                      </a:lnTo>
                      <a:lnTo>
                        <a:pt x="0" y="1314"/>
                      </a:lnTo>
                      <a:lnTo>
                        <a:pt x="0" y="1323"/>
                      </a:lnTo>
                      <a:lnTo>
                        <a:pt x="0" y="1333"/>
                      </a:lnTo>
                      <a:lnTo>
                        <a:pt x="2" y="1342"/>
                      </a:lnTo>
                      <a:lnTo>
                        <a:pt x="2" y="1352"/>
                      </a:lnTo>
                      <a:lnTo>
                        <a:pt x="4" y="1363"/>
                      </a:lnTo>
                      <a:lnTo>
                        <a:pt x="4" y="1371"/>
                      </a:lnTo>
                      <a:lnTo>
                        <a:pt x="6" y="1382"/>
                      </a:lnTo>
                      <a:lnTo>
                        <a:pt x="8" y="1390"/>
                      </a:lnTo>
                      <a:lnTo>
                        <a:pt x="8" y="1401"/>
                      </a:lnTo>
                      <a:lnTo>
                        <a:pt x="10" y="1409"/>
                      </a:lnTo>
                      <a:lnTo>
                        <a:pt x="11" y="1420"/>
                      </a:lnTo>
                      <a:lnTo>
                        <a:pt x="13" y="1429"/>
                      </a:lnTo>
                      <a:lnTo>
                        <a:pt x="15" y="1439"/>
                      </a:lnTo>
                      <a:lnTo>
                        <a:pt x="17" y="1448"/>
                      </a:lnTo>
                      <a:lnTo>
                        <a:pt x="19" y="1458"/>
                      </a:lnTo>
                      <a:lnTo>
                        <a:pt x="21" y="1468"/>
                      </a:lnTo>
                      <a:lnTo>
                        <a:pt x="23" y="1477"/>
                      </a:lnTo>
                      <a:lnTo>
                        <a:pt x="27" y="1487"/>
                      </a:lnTo>
                      <a:lnTo>
                        <a:pt x="29" y="1496"/>
                      </a:lnTo>
                      <a:lnTo>
                        <a:pt x="30" y="1506"/>
                      </a:lnTo>
                      <a:lnTo>
                        <a:pt x="34" y="1515"/>
                      </a:lnTo>
                      <a:lnTo>
                        <a:pt x="36" y="1525"/>
                      </a:lnTo>
                      <a:lnTo>
                        <a:pt x="38" y="1534"/>
                      </a:lnTo>
                      <a:lnTo>
                        <a:pt x="42" y="1544"/>
                      </a:lnTo>
                      <a:lnTo>
                        <a:pt x="46" y="1553"/>
                      </a:lnTo>
                      <a:lnTo>
                        <a:pt x="48" y="1561"/>
                      </a:lnTo>
                      <a:lnTo>
                        <a:pt x="51" y="1572"/>
                      </a:lnTo>
                      <a:lnTo>
                        <a:pt x="55" y="1580"/>
                      </a:lnTo>
                      <a:lnTo>
                        <a:pt x="59" y="1589"/>
                      </a:lnTo>
                      <a:lnTo>
                        <a:pt x="63" y="1599"/>
                      </a:lnTo>
                      <a:lnTo>
                        <a:pt x="67" y="1608"/>
                      </a:lnTo>
                      <a:lnTo>
                        <a:pt x="68" y="1616"/>
                      </a:lnTo>
                      <a:lnTo>
                        <a:pt x="74" y="1627"/>
                      </a:lnTo>
                      <a:lnTo>
                        <a:pt x="78" y="1635"/>
                      </a:lnTo>
                      <a:lnTo>
                        <a:pt x="82" y="1644"/>
                      </a:lnTo>
                      <a:lnTo>
                        <a:pt x="86" y="1652"/>
                      </a:lnTo>
                      <a:lnTo>
                        <a:pt x="89" y="1661"/>
                      </a:lnTo>
                      <a:lnTo>
                        <a:pt x="95" y="1669"/>
                      </a:lnTo>
                      <a:lnTo>
                        <a:pt x="99" y="1679"/>
                      </a:lnTo>
                      <a:lnTo>
                        <a:pt x="103" y="1688"/>
                      </a:lnTo>
                      <a:lnTo>
                        <a:pt x="108" y="1696"/>
                      </a:lnTo>
                      <a:lnTo>
                        <a:pt x="114" y="1703"/>
                      </a:lnTo>
                      <a:lnTo>
                        <a:pt x="118" y="1713"/>
                      </a:lnTo>
                      <a:lnTo>
                        <a:pt x="124" y="1722"/>
                      </a:lnTo>
                      <a:lnTo>
                        <a:pt x="127" y="1732"/>
                      </a:lnTo>
                      <a:lnTo>
                        <a:pt x="131" y="1736"/>
                      </a:lnTo>
                      <a:lnTo>
                        <a:pt x="135" y="1739"/>
                      </a:lnTo>
                      <a:lnTo>
                        <a:pt x="135" y="1743"/>
                      </a:lnTo>
                      <a:lnTo>
                        <a:pt x="137" y="1745"/>
                      </a:lnTo>
                      <a:lnTo>
                        <a:pt x="139" y="1747"/>
                      </a:lnTo>
                      <a:lnTo>
                        <a:pt x="141" y="1751"/>
                      </a:lnTo>
                      <a:lnTo>
                        <a:pt x="143" y="1755"/>
                      </a:lnTo>
                      <a:lnTo>
                        <a:pt x="143" y="1756"/>
                      </a:lnTo>
                      <a:lnTo>
                        <a:pt x="145" y="1760"/>
                      </a:lnTo>
                      <a:lnTo>
                        <a:pt x="146" y="1762"/>
                      </a:lnTo>
                      <a:lnTo>
                        <a:pt x="148" y="1766"/>
                      </a:lnTo>
                      <a:lnTo>
                        <a:pt x="150" y="1768"/>
                      </a:lnTo>
                      <a:lnTo>
                        <a:pt x="152" y="1770"/>
                      </a:lnTo>
                      <a:lnTo>
                        <a:pt x="156" y="1774"/>
                      </a:lnTo>
                      <a:lnTo>
                        <a:pt x="158" y="1777"/>
                      </a:lnTo>
                      <a:lnTo>
                        <a:pt x="160" y="1779"/>
                      </a:lnTo>
                      <a:lnTo>
                        <a:pt x="160" y="1783"/>
                      </a:lnTo>
                      <a:lnTo>
                        <a:pt x="162" y="1787"/>
                      </a:lnTo>
                      <a:lnTo>
                        <a:pt x="166" y="1789"/>
                      </a:lnTo>
                      <a:lnTo>
                        <a:pt x="166" y="1791"/>
                      </a:lnTo>
                      <a:lnTo>
                        <a:pt x="167" y="1794"/>
                      </a:lnTo>
                      <a:lnTo>
                        <a:pt x="169" y="1796"/>
                      </a:lnTo>
                      <a:lnTo>
                        <a:pt x="171" y="1800"/>
                      </a:lnTo>
                      <a:lnTo>
                        <a:pt x="173" y="1802"/>
                      </a:lnTo>
                      <a:lnTo>
                        <a:pt x="175" y="1806"/>
                      </a:lnTo>
                      <a:lnTo>
                        <a:pt x="177" y="1808"/>
                      </a:lnTo>
                      <a:lnTo>
                        <a:pt x="179" y="1812"/>
                      </a:lnTo>
                      <a:lnTo>
                        <a:pt x="181" y="1815"/>
                      </a:lnTo>
                      <a:lnTo>
                        <a:pt x="183" y="1817"/>
                      </a:lnTo>
                      <a:lnTo>
                        <a:pt x="185" y="1821"/>
                      </a:lnTo>
                      <a:lnTo>
                        <a:pt x="188" y="1827"/>
                      </a:lnTo>
                      <a:lnTo>
                        <a:pt x="190" y="1831"/>
                      </a:lnTo>
                      <a:lnTo>
                        <a:pt x="194" y="1836"/>
                      </a:lnTo>
                      <a:lnTo>
                        <a:pt x="198" y="1842"/>
                      </a:lnTo>
                      <a:lnTo>
                        <a:pt x="200" y="1846"/>
                      </a:lnTo>
                      <a:lnTo>
                        <a:pt x="204" y="1850"/>
                      </a:lnTo>
                      <a:lnTo>
                        <a:pt x="205" y="1853"/>
                      </a:lnTo>
                      <a:lnTo>
                        <a:pt x="207" y="1859"/>
                      </a:lnTo>
                      <a:lnTo>
                        <a:pt x="209" y="1861"/>
                      </a:lnTo>
                      <a:lnTo>
                        <a:pt x="211" y="1863"/>
                      </a:lnTo>
                      <a:lnTo>
                        <a:pt x="213" y="1867"/>
                      </a:lnTo>
                      <a:lnTo>
                        <a:pt x="215" y="1869"/>
                      </a:lnTo>
                      <a:lnTo>
                        <a:pt x="217" y="1870"/>
                      </a:lnTo>
                      <a:lnTo>
                        <a:pt x="219" y="1874"/>
                      </a:lnTo>
                      <a:lnTo>
                        <a:pt x="141" y="2163"/>
                      </a:lnTo>
                      <a:lnTo>
                        <a:pt x="143" y="2165"/>
                      </a:lnTo>
                      <a:lnTo>
                        <a:pt x="146" y="2165"/>
                      </a:lnTo>
                      <a:lnTo>
                        <a:pt x="150" y="2167"/>
                      </a:lnTo>
                      <a:lnTo>
                        <a:pt x="152" y="2167"/>
                      </a:lnTo>
                      <a:lnTo>
                        <a:pt x="154" y="2167"/>
                      </a:lnTo>
                      <a:lnTo>
                        <a:pt x="158" y="2167"/>
                      </a:lnTo>
                      <a:lnTo>
                        <a:pt x="162" y="2171"/>
                      </a:lnTo>
                      <a:lnTo>
                        <a:pt x="166" y="2171"/>
                      </a:lnTo>
                      <a:lnTo>
                        <a:pt x="167" y="2173"/>
                      </a:lnTo>
                      <a:lnTo>
                        <a:pt x="171" y="2173"/>
                      </a:lnTo>
                      <a:lnTo>
                        <a:pt x="175" y="2175"/>
                      </a:lnTo>
                      <a:lnTo>
                        <a:pt x="181" y="2175"/>
                      </a:lnTo>
                      <a:lnTo>
                        <a:pt x="185" y="2175"/>
                      </a:lnTo>
                      <a:lnTo>
                        <a:pt x="188" y="2177"/>
                      </a:lnTo>
                      <a:lnTo>
                        <a:pt x="194" y="2180"/>
                      </a:lnTo>
                      <a:lnTo>
                        <a:pt x="198" y="2180"/>
                      </a:lnTo>
                      <a:lnTo>
                        <a:pt x="204" y="2182"/>
                      </a:lnTo>
                      <a:lnTo>
                        <a:pt x="209" y="2182"/>
                      </a:lnTo>
                      <a:lnTo>
                        <a:pt x="215" y="2184"/>
                      </a:lnTo>
                      <a:lnTo>
                        <a:pt x="219" y="2186"/>
                      </a:lnTo>
                      <a:lnTo>
                        <a:pt x="224" y="2188"/>
                      </a:lnTo>
                      <a:lnTo>
                        <a:pt x="232" y="2188"/>
                      </a:lnTo>
                      <a:lnTo>
                        <a:pt x="238" y="2190"/>
                      </a:lnTo>
                      <a:lnTo>
                        <a:pt x="243" y="2190"/>
                      </a:lnTo>
                      <a:lnTo>
                        <a:pt x="251" y="2192"/>
                      </a:lnTo>
                      <a:lnTo>
                        <a:pt x="257" y="2194"/>
                      </a:lnTo>
                      <a:lnTo>
                        <a:pt x="264" y="2194"/>
                      </a:lnTo>
                      <a:lnTo>
                        <a:pt x="270" y="2196"/>
                      </a:lnTo>
                      <a:lnTo>
                        <a:pt x="276" y="2196"/>
                      </a:lnTo>
                      <a:lnTo>
                        <a:pt x="283" y="2197"/>
                      </a:lnTo>
                      <a:lnTo>
                        <a:pt x="291" y="2199"/>
                      </a:lnTo>
                      <a:lnTo>
                        <a:pt x="297" y="2199"/>
                      </a:lnTo>
                      <a:lnTo>
                        <a:pt x="304" y="2199"/>
                      </a:lnTo>
                      <a:lnTo>
                        <a:pt x="312" y="2199"/>
                      </a:lnTo>
                      <a:lnTo>
                        <a:pt x="320" y="2201"/>
                      </a:lnTo>
                      <a:lnTo>
                        <a:pt x="325" y="2201"/>
                      </a:lnTo>
                      <a:lnTo>
                        <a:pt x="333" y="2201"/>
                      </a:lnTo>
                      <a:lnTo>
                        <a:pt x="341" y="2201"/>
                      </a:lnTo>
                      <a:lnTo>
                        <a:pt x="348" y="2201"/>
                      </a:lnTo>
                      <a:lnTo>
                        <a:pt x="356" y="2201"/>
                      </a:lnTo>
                      <a:lnTo>
                        <a:pt x="363" y="2201"/>
                      </a:lnTo>
                      <a:lnTo>
                        <a:pt x="371" y="2201"/>
                      </a:lnTo>
                      <a:lnTo>
                        <a:pt x="379" y="2201"/>
                      </a:lnTo>
                      <a:lnTo>
                        <a:pt x="386" y="2201"/>
                      </a:lnTo>
                      <a:lnTo>
                        <a:pt x="394" y="2201"/>
                      </a:lnTo>
                      <a:lnTo>
                        <a:pt x="401" y="2199"/>
                      </a:lnTo>
                      <a:lnTo>
                        <a:pt x="409" y="2199"/>
                      </a:lnTo>
                      <a:lnTo>
                        <a:pt x="415" y="2197"/>
                      </a:lnTo>
                      <a:lnTo>
                        <a:pt x="422" y="2196"/>
                      </a:lnTo>
                      <a:lnTo>
                        <a:pt x="432" y="2196"/>
                      </a:lnTo>
                      <a:lnTo>
                        <a:pt x="439" y="2194"/>
                      </a:lnTo>
                      <a:lnTo>
                        <a:pt x="447" y="2192"/>
                      </a:lnTo>
                      <a:lnTo>
                        <a:pt x="455" y="2190"/>
                      </a:lnTo>
                      <a:lnTo>
                        <a:pt x="462" y="2188"/>
                      </a:lnTo>
                      <a:lnTo>
                        <a:pt x="470" y="2188"/>
                      </a:lnTo>
                      <a:lnTo>
                        <a:pt x="476" y="2184"/>
                      </a:lnTo>
                      <a:lnTo>
                        <a:pt x="483" y="2182"/>
                      </a:lnTo>
                      <a:lnTo>
                        <a:pt x="491" y="2180"/>
                      </a:lnTo>
                      <a:lnTo>
                        <a:pt x="498" y="2175"/>
                      </a:lnTo>
                      <a:lnTo>
                        <a:pt x="504" y="2173"/>
                      </a:lnTo>
                      <a:lnTo>
                        <a:pt x="512" y="2169"/>
                      </a:lnTo>
                      <a:lnTo>
                        <a:pt x="517" y="2165"/>
                      </a:lnTo>
                      <a:lnTo>
                        <a:pt x="525" y="2161"/>
                      </a:lnTo>
                      <a:lnTo>
                        <a:pt x="531" y="2158"/>
                      </a:lnTo>
                      <a:lnTo>
                        <a:pt x="536" y="2154"/>
                      </a:lnTo>
                      <a:lnTo>
                        <a:pt x="542" y="2150"/>
                      </a:lnTo>
                      <a:lnTo>
                        <a:pt x="550" y="2146"/>
                      </a:lnTo>
                      <a:lnTo>
                        <a:pt x="555" y="2142"/>
                      </a:lnTo>
                      <a:lnTo>
                        <a:pt x="559" y="2137"/>
                      </a:lnTo>
                      <a:lnTo>
                        <a:pt x="565" y="2133"/>
                      </a:lnTo>
                      <a:lnTo>
                        <a:pt x="571" y="2129"/>
                      </a:lnTo>
                      <a:lnTo>
                        <a:pt x="576" y="2123"/>
                      </a:lnTo>
                      <a:lnTo>
                        <a:pt x="582" y="2120"/>
                      </a:lnTo>
                      <a:lnTo>
                        <a:pt x="588" y="2114"/>
                      </a:lnTo>
                      <a:lnTo>
                        <a:pt x="592" y="2110"/>
                      </a:lnTo>
                      <a:lnTo>
                        <a:pt x="595" y="2106"/>
                      </a:lnTo>
                      <a:lnTo>
                        <a:pt x="601" y="2101"/>
                      </a:lnTo>
                      <a:lnTo>
                        <a:pt x="605" y="2095"/>
                      </a:lnTo>
                      <a:lnTo>
                        <a:pt x="611" y="2091"/>
                      </a:lnTo>
                      <a:lnTo>
                        <a:pt x="614" y="2085"/>
                      </a:lnTo>
                      <a:lnTo>
                        <a:pt x="618" y="2080"/>
                      </a:lnTo>
                      <a:lnTo>
                        <a:pt x="624" y="2076"/>
                      </a:lnTo>
                      <a:lnTo>
                        <a:pt x="628" y="2070"/>
                      </a:lnTo>
                      <a:lnTo>
                        <a:pt x="632" y="2064"/>
                      </a:lnTo>
                      <a:lnTo>
                        <a:pt x="635" y="2059"/>
                      </a:lnTo>
                      <a:lnTo>
                        <a:pt x="637" y="2055"/>
                      </a:lnTo>
                      <a:lnTo>
                        <a:pt x="643" y="2049"/>
                      </a:lnTo>
                      <a:lnTo>
                        <a:pt x="645" y="2043"/>
                      </a:lnTo>
                      <a:lnTo>
                        <a:pt x="649" y="2040"/>
                      </a:lnTo>
                      <a:lnTo>
                        <a:pt x="652" y="2034"/>
                      </a:lnTo>
                      <a:lnTo>
                        <a:pt x="654" y="2030"/>
                      </a:lnTo>
                      <a:lnTo>
                        <a:pt x="658" y="2024"/>
                      </a:lnTo>
                      <a:lnTo>
                        <a:pt x="660" y="2021"/>
                      </a:lnTo>
                      <a:lnTo>
                        <a:pt x="664" y="2015"/>
                      </a:lnTo>
                      <a:lnTo>
                        <a:pt x="666" y="2011"/>
                      </a:lnTo>
                      <a:lnTo>
                        <a:pt x="668" y="2005"/>
                      </a:lnTo>
                      <a:lnTo>
                        <a:pt x="672" y="2002"/>
                      </a:lnTo>
                      <a:lnTo>
                        <a:pt x="673" y="1998"/>
                      </a:lnTo>
                      <a:lnTo>
                        <a:pt x="675" y="1992"/>
                      </a:lnTo>
                      <a:lnTo>
                        <a:pt x="677" y="1986"/>
                      </a:lnTo>
                      <a:lnTo>
                        <a:pt x="679" y="1983"/>
                      </a:lnTo>
                      <a:lnTo>
                        <a:pt x="681" y="1979"/>
                      </a:lnTo>
                      <a:lnTo>
                        <a:pt x="683" y="1975"/>
                      </a:lnTo>
                      <a:lnTo>
                        <a:pt x="685" y="1971"/>
                      </a:lnTo>
                      <a:lnTo>
                        <a:pt x="687" y="1969"/>
                      </a:lnTo>
                      <a:lnTo>
                        <a:pt x="689" y="1964"/>
                      </a:lnTo>
                      <a:lnTo>
                        <a:pt x="691" y="1962"/>
                      </a:lnTo>
                      <a:lnTo>
                        <a:pt x="692" y="1958"/>
                      </a:lnTo>
                      <a:lnTo>
                        <a:pt x="692" y="1954"/>
                      </a:lnTo>
                      <a:lnTo>
                        <a:pt x="692" y="1952"/>
                      </a:lnTo>
                      <a:lnTo>
                        <a:pt x="694" y="1950"/>
                      </a:lnTo>
                      <a:lnTo>
                        <a:pt x="696" y="1945"/>
                      </a:lnTo>
                      <a:lnTo>
                        <a:pt x="698" y="1941"/>
                      </a:lnTo>
                      <a:lnTo>
                        <a:pt x="700" y="1937"/>
                      </a:lnTo>
                      <a:lnTo>
                        <a:pt x="700" y="1935"/>
                      </a:lnTo>
                      <a:lnTo>
                        <a:pt x="700" y="1933"/>
                      </a:lnTo>
                      <a:lnTo>
                        <a:pt x="702" y="1933"/>
                      </a:lnTo>
                      <a:lnTo>
                        <a:pt x="740" y="1943"/>
                      </a:lnTo>
                      <a:lnTo>
                        <a:pt x="740" y="1943"/>
                      </a:lnTo>
                      <a:lnTo>
                        <a:pt x="738" y="1945"/>
                      </a:lnTo>
                      <a:lnTo>
                        <a:pt x="738" y="1947"/>
                      </a:lnTo>
                      <a:lnTo>
                        <a:pt x="738" y="1950"/>
                      </a:lnTo>
                      <a:lnTo>
                        <a:pt x="738" y="1954"/>
                      </a:lnTo>
                      <a:lnTo>
                        <a:pt x="738" y="1958"/>
                      </a:lnTo>
                      <a:lnTo>
                        <a:pt x="736" y="1962"/>
                      </a:lnTo>
                      <a:lnTo>
                        <a:pt x="736" y="1964"/>
                      </a:lnTo>
                      <a:lnTo>
                        <a:pt x="736" y="1967"/>
                      </a:lnTo>
                      <a:lnTo>
                        <a:pt x="736" y="1971"/>
                      </a:lnTo>
                      <a:lnTo>
                        <a:pt x="736" y="1975"/>
                      </a:lnTo>
                      <a:lnTo>
                        <a:pt x="736" y="1979"/>
                      </a:lnTo>
                      <a:lnTo>
                        <a:pt x="736" y="1983"/>
                      </a:lnTo>
                      <a:lnTo>
                        <a:pt x="736" y="1985"/>
                      </a:lnTo>
                      <a:lnTo>
                        <a:pt x="736" y="1990"/>
                      </a:lnTo>
                      <a:lnTo>
                        <a:pt x="736" y="1994"/>
                      </a:lnTo>
                      <a:lnTo>
                        <a:pt x="736" y="1998"/>
                      </a:lnTo>
                      <a:lnTo>
                        <a:pt x="736" y="2004"/>
                      </a:lnTo>
                      <a:lnTo>
                        <a:pt x="736" y="2007"/>
                      </a:lnTo>
                      <a:lnTo>
                        <a:pt x="736" y="2013"/>
                      </a:lnTo>
                      <a:lnTo>
                        <a:pt x="736" y="2015"/>
                      </a:lnTo>
                      <a:lnTo>
                        <a:pt x="736" y="2021"/>
                      </a:lnTo>
                      <a:lnTo>
                        <a:pt x="736" y="2026"/>
                      </a:lnTo>
                      <a:lnTo>
                        <a:pt x="736" y="2030"/>
                      </a:lnTo>
                      <a:lnTo>
                        <a:pt x="736" y="2036"/>
                      </a:lnTo>
                      <a:lnTo>
                        <a:pt x="736" y="2042"/>
                      </a:lnTo>
                      <a:lnTo>
                        <a:pt x="736" y="2047"/>
                      </a:lnTo>
                      <a:lnTo>
                        <a:pt x="738" y="2051"/>
                      </a:lnTo>
                      <a:lnTo>
                        <a:pt x="738" y="2057"/>
                      </a:lnTo>
                      <a:lnTo>
                        <a:pt x="738" y="2062"/>
                      </a:lnTo>
                      <a:lnTo>
                        <a:pt x="740" y="2066"/>
                      </a:lnTo>
                      <a:lnTo>
                        <a:pt x="740" y="2072"/>
                      </a:lnTo>
                      <a:lnTo>
                        <a:pt x="742" y="2078"/>
                      </a:lnTo>
                      <a:lnTo>
                        <a:pt x="744" y="2083"/>
                      </a:lnTo>
                      <a:lnTo>
                        <a:pt x="744" y="2091"/>
                      </a:lnTo>
                      <a:lnTo>
                        <a:pt x="746" y="2095"/>
                      </a:lnTo>
                      <a:lnTo>
                        <a:pt x="748" y="2101"/>
                      </a:lnTo>
                      <a:lnTo>
                        <a:pt x="748" y="2106"/>
                      </a:lnTo>
                      <a:lnTo>
                        <a:pt x="751" y="2110"/>
                      </a:lnTo>
                      <a:lnTo>
                        <a:pt x="753" y="2118"/>
                      </a:lnTo>
                      <a:lnTo>
                        <a:pt x="753" y="2123"/>
                      </a:lnTo>
                      <a:lnTo>
                        <a:pt x="757" y="2129"/>
                      </a:lnTo>
                      <a:lnTo>
                        <a:pt x="759" y="2135"/>
                      </a:lnTo>
                      <a:lnTo>
                        <a:pt x="761" y="2139"/>
                      </a:lnTo>
                      <a:lnTo>
                        <a:pt x="765" y="2144"/>
                      </a:lnTo>
                      <a:lnTo>
                        <a:pt x="767" y="2150"/>
                      </a:lnTo>
                      <a:lnTo>
                        <a:pt x="769" y="2156"/>
                      </a:lnTo>
                      <a:lnTo>
                        <a:pt x="772" y="2159"/>
                      </a:lnTo>
                      <a:lnTo>
                        <a:pt x="776" y="2165"/>
                      </a:lnTo>
                      <a:lnTo>
                        <a:pt x="780" y="2171"/>
                      </a:lnTo>
                      <a:lnTo>
                        <a:pt x="782" y="2175"/>
                      </a:lnTo>
                      <a:lnTo>
                        <a:pt x="786" y="2180"/>
                      </a:lnTo>
                      <a:lnTo>
                        <a:pt x="789" y="2186"/>
                      </a:lnTo>
                      <a:lnTo>
                        <a:pt x="795" y="2190"/>
                      </a:lnTo>
                      <a:lnTo>
                        <a:pt x="799" y="2196"/>
                      </a:lnTo>
                      <a:lnTo>
                        <a:pt x="805" y="2201"/>
                      </a:lnTo>
                      <a:lnTo>
                        <a:pt x="808" y="2205"/>
                      </a:lnTo>
                      <a:lnTo>
                        <a:pt x="814" y="2209"/>
                      </a:lnTo>
                      <a:lnTo>
                        <a:pt x="818" y="2213"/>
                      </a:lnTo>
                      <a:lnTo>
                        <a:pt x="824" y="2216"/>
                      </a:lnTo>
                      <a:lnTo>
                        <a:pt x="828" y="2222"/>
                      </a:lnTo>
                      <a:lnTo>
                        <a:pt x="833" y="2224"/>
                      </a:lnTo>
                      <a:lnTo>
                        <a:pt x="839" y="2228"/>
                      </a:lnTo>
                      <a:lnTo>
                        <a:pt x="845" y="2232"/>
                      </a:lnTo>
                      <a:lnTo>
                        <a:pt x="848" y="2235"/>
                      </a:lnTo>
                      <a:lnTo>
                        <a:pt x="854" y="2239"/>
                      </a:lnTo>
                      <a:lnTo>
                        <a:pt x="858" y="2243"/>
                      </a:lnTo>
                      <a:lnTo>
                        <a:pt x="864" y="2245"/>
                      </a:lnTo>
                      <a:lnTo>
                        <a:pt x="867" y="2249"/>
                      </a:lnTo>
                      <a:lnTo>
                        <a:pt x="873" y="2253"/>
                      </a:lnTo>
                      <a:lnTo>
                        <a:pt x="877" y="2256"/>
                      </a:lnTo>
                      <a:lnTo>
                        <a:pt x="883" y="2258"/>
                      </a:lnTo>
                      <a:lnTo>
                        <a:pt x="890" y="2260"/>
                      </a:lnTo>
                      <a:lnTo>
                        <a:pt x="896" y="2264"/>
                      </a:lnTo>
                      <a:lnTo>
                        <a:pt x="900" y="2266"/>
                      </a:lnTo>
                      <a:lnTo>
                        <a:pt x="904" y="2268"/>
                      </a:lnTo>
                      <a:lnTo>
                        <a:pt x="907" y="2270"/>
                      </a:lnTo>
                      <a:lnTo>
                        <a:pt x="913" y="2273"/>
                      </a:lnTo>
                      <a:lnTo>
                        <a:pt x="919" y="2275"/>
                      </a:lnTo>
                      <a:lnTo>
                        <a:pt x="925" y="2277"/>
                      </a:lnTo>
                      <a:lnTo>
                        <a:pt x="928" y="2279"/>
                      </a:lnTo>
                      <a:lnTo>
                        <a:pt x="934" y="2281"/>
                      </a:lnTo>
                      <a:lnTo>
                        <a:pt x="938" y="2283"/>
                      </a:lnTo>
                      <a:lnTo>
                        <a:pt x="942" y="2285"/>
                      </a:lnTo>
                      <a:lnTo>
                        <a:pt x="947" y="2287"/>
                      </a:lnTo>
                      <a:lnTo>
                        <a:pt x="951" y="2289"/>
                      </a:lnTo>
                      <a:lnTo>
                        <a:pt x="955" y="2289"/>
                      </a:lnTo>
                      <a:lnTo>
                        <a:pt x="961" y="2291"/>
                      </a:lnTo>
                      <a:lnTo>
                        <a:pt x="964" y="2291"/>
                      </a:lnTo>
                      <a:lnTo>
                        <a:pt x="968" y="2294"/>
                      </a:lnTo>
                      <a:lnTo>
                        <a:pt x="972" y="2294"/>
                      </a:lnTo>
                      <a:lnTo>
                        <a:pt x="978" y="2294"/>
                      </a:lnTo>
                      <a:lnTo>
                        <a:pt x="982" y="2296"/>
                      </a:lnTo>
                      <a:lnTo>
                        <a:pt x="985" y="2296"/>
                      </a:lnTo>
                      <a:lnTo>
                        <a:pt x="989" y="2296"/>
                      </a:lnTo>
                      <a:lnTo>
                        <a:pt x="993" y="2298"/>
                      </a:lnTo>
                      <a:lnTo>
                        <a:pt x="997" y="2298"/>
                      </a:lnTo>
                      <a:lnTo>
                        <a:pt x="1001" y="2298"/>
                      </a:lnTo>
                      <a:lnTo>
                        <a:pt x="1004" y="2298"/>
                      </a:lnTo>
                      <a:lnTo>
                        <a:pt x="1008" y="2300"/>
                      </a:lnTo>
                      <a:lnTo>
                        <a:pt x="1010" y="2300"/>
                      </a:lnTo>
                      <a:lnTo>
                        <a:pt x="1014" y="2300"/>
                      </a:lnTo>
                      <a:lnTo>
                        <a:pt x="1016" y="2300"/>
                      </a:lnTo>
                      <a:lnTo>
                        <a:pt x="1020" y="2300"/>
                      </a:lnTo>
                      <a:lnTo>
                        <a:pt x="1022" y="2300"/>
                      </a:lnTo>
                      <a:lnTo>
                        <a:pt x="1025" y="2302"/>
                      </a:lnTo>
                      <a:lnTo>
                        <a:pt x="1029" y="2300"/>
                      </a:lnTo>
                      <a:lnTo>
                        <a:pt x="1035" y="2300"/>
                      </a:lnTo>
                      <a:lnTo>
                        <a:pt x="1039" y="2298"/>
                      </a:lnTo>
                      <a:lnTo>
                        <a:pt x="1042" y="2298"/>
                      </a:lnTo>
                      <a:lnTo>
                        <a:pt x="1044" y="2296"/>
                      </a:lnTo>
                      <a:lnTo>
                        <a:pt x="1048" y="2296"/>
                      </a:lnTo>
                      <a:lnTo>
                        <a:pt x="1048" y="2294"/>
                      </a:lnTo>
                      <a:lnTo>
                        <a:pt x="1050" y="2294"/>
                      </a:lnTo>
                      <a:lnTo>
                        <a:pt x="1246" y="1334"/>
                      </a:lnTo>
                      <a:lnTo>
                        <a:pt x="1246" y="1333"/>
                      </a:lnTo>
                      <a:lnTo>
                        <a:pt x="1248" y="1331"/>
                      </a:lnTo>
                      <a:lnTo>
                        <a:pt x="1250" y="1327"/>
                      </a:lnTo>
                      <a:lnTo>
                        <a:pt x="1252" y="1325"/>
                      </a:lnTo>
                      <a:lnTo>
                        <a:pt x="1252" y="1323"/>
                      </a:lnTo>
                      <a:lnTo>
                        <a:pt x="1254" y="1319"/>
                      </a:lnTo>
                      <a:lnTo>
                        <a:pt x="1256" y="1315"/>
                      </a:lnTo>
                      <a:lnTo>
                        <a:pt x="1259" y="1312"/>
                      </a:lnTo>
                      <a:lnTo>
                        <a:pt x="1259" y="1306"/>
                      </a:lnTo>
                      <a:lnTo>
                        <a:pt x="1263" y="1302"/>
                      </a:lnTo>
                      <a:lnTo>
                        <a:pt x="1265" y="1296"/>
                      </a:lnTo>
                      <a:lnTo>
                        <a:pt x="1269" y="1293"/>
                      </a:lnTo>
                      <a:lnTo>
                        <a:pt x="1271" y="1285"/>
                      </a:lnTo>
                      <a:lnTo>
                        <a:pt x="1275" y="1281"/>
                      </a:lnTo>
                      <a:lnTo>
                        <a:pt x="1276" y="1274"/>
                      </a:lnTo>
                      <a:lnTo>
                        <a:pt x="1280" y="1266"/>
                      </a:lnTo>
                      <a:lnTo>
                        <a:pt x="1284" y="1258"/>
                      </a:lnTo>
                      <a:lnTo>
                        <a:pt x="1288" y="1249"/>
                      </a:lnTo>
                      <a:lnTo>
                        <a:pt x="1290" y="1241"/>
                      </a:lnTo>
                      <a:lnTo>
                        <a:pt x="1294" y="1234"/>
                      </a:lnTo>
                      <a:lnTo>
                        <a:pt x="1297" y="1224"/>
                      </a:lnTo>
                      <a:lnTo>
                        <a:pt x="1301" y="1217"/>
                      </a:lnTo>
                      <a:lnTo>
                        <a:pt x="1305" y="1207"/>
                      </a:lnTo>
                      <a:lnTo>
                        <a:pt x="1309" y="1198"/>
                      </a:lnTo>
                      <a:lnTo>
                        <a:pt x="1313" y="1188"/>
                      </a:lnTo>
                      <a:lnTo>
                        <a:pt x="1316" y="1177"/>
                      </a:lnTo>
                      <a:lnTo>
                        <a:pt x="1320" y="1165"/>
                      </a:lnTo>
                      <a:lnTo>
                        <a:pt x="1324" y="1154"/>
                      </a:lnTo>
                      <a:lnTo>
                        <a:pt x="1330" y="1144"/>
                      </a:lnTo>
                      <a:lnTo>
                        <a:pt x="1334" y="1133"/>
                      </a:lnTo>
                      <a:lnTo>
                        <a:pt x="1337" y="1122"/>
                      </a:lnTo>
                      <a:lnTo>
                        <a:pt x="1339" y="1108"/>
                      </a:lnTo>
                      <a:lnTo>
                        <a:pt x="1345" y="1097"/>
                      </a:lnTo>
                      <a:lnTo>
                        <a:pt x="1349" y="1084"/>
                      </a:lnTo>
                      <a:lnTo>
                        <a:pt x="1353" y="1070"/>
                      </a:lnTo>
                      <a:lnTo>
                        <a:pt x="1354" y="1059"/>
                      </a:lnTo>
                      <a:lnTo>
                        <a:pt x="1358" y="1044"/>
                      </a:lnTo>
                      <a:lnTo>
                        <a:pt x="1362" y="1032"/>
                      </a:lnTo>
                      <a:lnTo>
                        <a:pt x="1366" y="1017"/>
                      </a:lnTo>
                      <a:lnTo>
                        <a:pt x="1370" y="1004"/>
                      </a:lnTo>
                      <a:lnTo>
                        <a:pt x="1372" y="988"/>
                      </a:lnTo>
                      <a:lnTo>
                        <a:pt x="1375" y="975"/>
                      </a:lnTo>
                      <a:lnTo>
                        <a:pt x="1377" y="960"/>
                      </a:lnTo>
                      <a:lnTo>
                        <a:pt x="1381" y="947"/>
                      </a:lnTo>
                      <a:lnTo>
                        <a:pt x="1383" y="931"/>
                      </a:lnTo>
                      <a:lnTo>
                        <a:pt x="1387" y="916"/>
                      </a:lnTo>
                      <a:lnTo>
                        <a:pt x="1389" y="901"/>
                      </a:lnTo>
                      <a:lnTo>
                        <a:pt x="1391" y="886"/>
                      </a:lnTo>
                      <a:lnTo>
                        <a:pt x="1392" y="871"/>
                      </a:lnTo>
                      <a:lnTo>
                        <a:pt x="1394" y="855"/>
                      </a:lnTo>
                      <a:lnTo>
                        <a:pt x="1396" y="838"/>
                      </a:lnTo>
                      <a:lnTo>
                        <a:pt x="1398" y="823"/>
                      </a:lnTo>
                      <a:lnTo>
                        <a:pt x="1398" y="806"/>
                      </a:lnTo>
                      <a:lnTo>
                        <a:pt x="1400" y="791"/>
                      </a:lnTo>
                      <a:lnTo>
                        <a:pt x="1402" y="774"/>
                      </a:lnTo>
                      <a:lnTo>
                        <a:pt x="1402" y="757"/>
                      </a:lnTo>
                      <a:lnTo>
                        <a:pt x="1402" y="741"/>
                      </a:lnTo>
                      <a:lnTo>
                        <a:pt x="1402" y="724"/>
                      </a:lnTo>
                      <a:lnTo>
                        <a:pt x="1402" y="705"/>
                      </a:lnTo>
                      <a:lnTo>
                        <a:pt x="1402" y="690"/>
                      </a:lnTo>
                      <a:lnTo>
                        <a:pt x="1400" y="673"/>
                      </a:lnTo>
                      <a:lnTo>
                        <a:pt x="1400" y="656"/>
                      </a:lnTo>
                      <a:lnTo>
                        <a:pt x="1398" y="654"/>
                      </a:lnTo>
                      <a:lnTo>
                        <a:pt x="1398" y="652"/>
                      </a:lnTo>
                      <a:lnTo>
                        <a:pt x="1398" y="648"/>
                      </a:lnTo>
                      <a:lnTo>
                        <a:pt x="1398" y="644"/>
                      </a:lnTo>
                      <a:lnTo>
                        <a:pt x="1398" y="643"/>
                      </a:lnTo>
                      <a:lnTo>
                        <a:pt x="1398" y="639"/>
                      </a:lnTo>
                      <a:lnTo>
                        <a:pt x="1396" y="637"/>
                      </a:lnTo>
                      <a:lnTo>
                        <a:pt x="1396" y="633"/>
                      </a:lnTo>
                      <a:lnTo>
                        <a:pt x="1396" y="631"/>
                      </a:lnTo>
                      <a:lnTo>
                        <a:pt x="1396" y="627"/>
                      </a:lnTo>
                      <a:lnTo>
                        <a:pt x="1396" y="623"/>
                      </a:lnTo>
                      <a:lnTo>
                        <a:pt x="1394" y="620"/>
                      </a:lnTo>
                      <a:lnTo>
                        <a:pt x="1394" y="618"/>
                      </a:lnTo>
                      <a:lnTo>
                        <a:pt x="1394" y="616"/>
                      </a:lnTo>
                      <a:lnTo>
                        <a:pt x="1392" y="612"/>
                      </a:lnTo>
                      <a:lnTo>
                        <a:pt x="1392" y="610"/>
                      </a:lnTo>
                      <a:lnTo>
                        <a:pt x="1392" y="608"/>
                      </a:lnTo>
                      <a:lnTo>
                        <a:pt x="1391" y="604"/>
                      </a:lnTo>
                      <a:lnTo>
                        <a:pt x="1391" y="603"/>
                      </a:lnTo>
                      <a:lnTo>
                        <a:pt x="1391" y="599"/>
                      </a:lnTo>
                      <a:lnTo>
                        <a:pt x="1389" y="597"/>
                      </a:lnTo>
                      <a:lnTo>
                        <a:pt x="1389" y="593"/>
                      </a:lnTo>
                      <a:lnTo>
                        <a:pt x="1389" y="589"/>
                      </a:lnTo>
                      <a:lnTo>
                        <a:pt x="1389" y="587"/>
                      </a:lnTo>
                      <a:lnTo>
                        <a:pt x="1387" y="585"/>
                      </a:lnTo>
                      <a:lnTo>
                        <a:pt x="1385" y="582"/>
                      </a:lnTo>
                      <a:lnTo>
                        <a:pt x="1385" y="580"/>
                      </a:lnTo>
                      <a:lnTo>
                        <a:pt x="1383" y="578"/>
                      </a:lnTo>
                      <a:lnTo>
                        <a:pt x="1383" y="572"/>
                      </a:lnTo>
                      <a:lnTo>
                        <a:pt x="1381" y="568"/>
                      </a:lnTo>
                      <a:lnTo>
                        <a:pt x="1377" y="563"/>
                      </a:lnTo>
                      <a:lnTo>
                        <a:pt x="1375" y="557"/>
                      </a:lnTo>
                      <a:lnTo>
                        <a:pt x="1373" y="553"/>
                      </a:lnTo>
                      <a:lnTo>
                        <a:pt x="1370" y="547"/>
                      </a:lnTo>
                      <a:lnTo>
                        <a:pt x="1366" y="544"/>
                      </a:lnTo>
                      <a:lnTo>
                        <a:pt x="1364" y="540"/>
                      </a:lnTo>
                      <a:lnTo>
                        <a:pt x="1360" y="536"/>
                      </a:lnTo>
                      <a:lnTo>
                        <a:pt x="1356" y="532"/>
                      </a:lnTo>
                      <a:lnTo>
                        <a:pt x="1353" y="528"/>
                      </a:lnTo>
                      <a:lnTo>
                        <a:pt x="1349" y="525"/>
                      </a:lnTo>
                      <a:lnTo>
                        <a:pt x="1345" y="523"/>
                      </a:lnTo>
                      <a:lnTo>
                        <a:pt x="1339" y="521"/>
                      </a:lnTo>
                      <a:lnTo>
                        <a:pt x="1335" y="517"/>
                      </a:lnTo>
                      <a:lnTo>
                        <a:pt x="1332" y="515"/>
                      </a:lnTo>
                      <a:lnTo>
                        <a:pt x="1326" y="515"/>
                      </a:lnTo>
                      <a:lnTo>
                        <a:pt x="1322" y="513"/>
                      </a:lnTo>
                      <a:lnTo>
                        <a:pt x="1318" y="511"/>
                      </a:lnTo>
                      <a:lnTo>
                        <a:pt x="1316" y="511"/>
                      </a:lnTo>
                      <a:lnTo>
                        <a:pt x="1313" y="511"/>
                      </a:lnTo>
                      <a:lnTo>
                        <a:pt x="1311" y="511"/>
                      </a:lnTo>
                      <a:lnTo>
                        <a:pt x="1309" y="509"/>
                      </a:lnTo>
                      <a:lnTo>
                        <a:pt x="1305" y="509"/>
                      </a:lnTo>
                      <a:lnTo>
                        <a:pt x="1303" y="509"/>
                      </a:lnTo>
                      <a:lnTo>
                        <a:pt x="1301" y="509"/>
                      </a:lnTo>
                      <a:lnTo>
                        <a:pt x="1297" y="509"/>
                      </a:lnTo>
                      <a:lnTo>
                        <a:pt x="1295" y="509"/>
                      </a:lnTo>
                      <a:lnTo>
                        <a:pt x="1292" y="509"/>
                      </a:lnTo>
                      <a:lnTo>
                        <a:pt x="1290" y="509"/>
                      </a:lnTo>
                      <a:lnTo>
                        <a:pt x="1284" y="509"/>
                      </a:lnTo>
                      <a:lnTo>
                        <a:pt x="1280" y="509"/>
                      </a:lnTo>
                      <a:lnTo>
                        <a:pt x="1275" y="509"/>
                      </a:lnTo>
                      <a:lnTo>
                        <a:pt x="1269" y="509"/>
                      </a:lnTo>
                      <a:lnTo>
                        <a:pt x="1265" y="509"/>
                      </a:lnTo>
                      <a:lnTo>
                        <a:pt x="1259" y="509"/>
                      </a:lnTo>
                      <a:lnTo>
                        <a:pt x="1256" y="511"/>
                      </a:lnTo>
                      <a:lnTo>
                        <a:pt x="1252" y="511"/>
                      </a:lnTo>
                      <a:lnTo>
                        <a:pt x="1246" y="515"/>
                      </a:lnTo>
                      <a:lnTo>
                        <a:pt x="1242" y="515"/>
                      </a:lnTo>
                      <a:lnTo>
                        <a:pt x="1238" y="517"/>
                      </a:lnTo>
                      <a:lnTo>
                        <a:pt x="1235" y="521"/>
                      </a:lnTo>
                      <a:lnTo>
                        <a:pt x="1231" y="523"/>
                      </a:lnTo>
                      <a:lnTo>
                        <a:pt x="1229" y="525"/>
                      </a:lnTo>
                      <a:lnTo>
                        <a:pt x="1225" y="527"/>
                      </a:lnTo>
                      <a:lnTo>
                        <a:pt x="1221" y="530"/>
                      </a:lnTo>
                      <a:lnTo>
                        <a:pt x="1219" y="532"/>
                      </a:lnTo>
                      <a:lnTo>
                        <a:pt x="1216" y="538"/>
                      </a:lnTo>
                      <a:lnTo>
                        <a:pt x="1214" y="542"/>
                      </a:lnTo>
                      <a:lnTo>
                        <a:pt x="1212" y="546"/>
                      </a:lnTo>
                      <a:lnTo>
                        <a:pt x="1210" y="549"/>
                      </a:lnTo>
                      <a:lnTo>
                        <a:pt x="1208" y="555"/>
                      </a:lnTo>
                      <a:lnTo>
                        <a:pt x="1208" y="557"/>
                      </a:lnTo>
                      <a:lnTo>
                        <a:pt x="1206" y="559"/>
                      </a:lnTo>
                      <a:lnTo>
                        <a:pt x="1204" y="561"/>
                      </a:lnTo>
                      <a:lnTo>
                        <a:pt x="1204" y="565"/>
                      </a:lnTo>
                      <a:lnTo>
                        <a:pt x="1204" y="566"/>
                      </a:lnTo>
                      <a:lnTo>
                        <a:pt x="1204" y="570"/>
                      </a:lnTo>
                      <a:lnTo>
                        <a:pt x="1204" y="572"/>
                      </a:lnTo>
                      <a:lnTo>
                        <a:pt x="1204" y="576"/>
                      </a:lnTo>
                      <a:lnTo>
                        <a:pt x="1139" y="895"/>
                      </a:lnTo>
                      <a:lnTo>
                        <a:pt x="1136" y="893"/>
                      </a:lnTo>
                      <a:lnTo>
                        <a:pt x="1132" y="892"/>
                      </a:lnTo>
                      <a:lnTo>
                        <a:pt x="1126" y="888"/>
                      </a:lnTo>
                      <a:lnTo>
                        <a:pt x="1122" y="886"/>
                      </a:lnTo>
                      <a:lnTo>
                        <a:pt x="1117" y="884"/>
                      </a:lnTo>
                      <a:lnTo>
                        <a:pt x="1113" y="880"/>
                      </a:lnTo>
                      <a:lnTo>
                        <a:pt x="1107" y="878"/>
                      </a:lnTo>
                      <a:lnTo>
                        <a:pt x="1105" y="876"/>
                      </a:lnTo>
                      <a:lnTo>
                        <a:pt x="1227" y="316"/>
                      </a:lnTo>
                      <a:lnTo>
                        <a:pt x="1227" y="312"/>
                      </a:lnTo>
                      <a:lnTo>
                        <a:pt x="1227" y="308"/>
                      </a:lnTo>
                      <a:lnTo>
                        <a:pt x="1229" y="306"/>
                      </a:lnTo>
                      <a:lnTo>
                        <a:pt x="1229" y="304"/>
                      </a:lnTo>
                      <a:lnTo>
                        <a:pt x="1229" y="300"/>
                      </a:lnTo>
                      <a:lnTo>
                        <a:pt x="1229" y="298"/>
                      </a:lnTo>
                      <a:lnTo>
                        <a:pt x="1229" y="295"/>
                      </a:lnTo>
                      <a:lnTo>
                        <a:pt x="1229" y="293"/>
                      </a:lnTo>
                      <a:lnTo>
                        <a:pt x="1229" y="291"/>
                      </a:lnTo>
                      <a:lnTo>
                        <a:pt x="1229" y="287"/>
                      </a:lnTo>
                      <a:lnTo>
                        <a:pt x="1229" y="285"/>
                      </a:lnTo>
                      <a:lnTo>
                        <a:pt x="1229" y="283"/>
                      </a:lnTo>
                      <a:lnTo>
                        <a:pt x="1229" y="278"/>
                      </a:lnTo>
                      <a:lnTo>
                        <a:pt x="1227" y="272"/>
                      </a:lnTo>
                      <a:lnTo>
                        <a:pt x="1225" y="268"/>
                      </a:lnTo>
                      <a:lnTo>
                        <a:pt x="1225" y="262"/>
                      </a:lnTo>
                      <a:lnTo>
                        <a:pt x="1223" y="257"/>
                      </a:lnTo>
                      <a:lnTo>
                        <a:pt x="1221" y="253"/>
                      </a:lnTo>
                      <a:lnTo>
                        <a:pt x="1219" y="247"/>
                      </a:lnTo>
                      <a:lnTo>
                        <a:pt x="1217" y="243"/>
                      </a:lnTo>
                      <a:lnTo>
                        <a:pt x="1216" y="240"/>
                      </a:lnTo>
                      <a:lnTo>
                        <a:pt x="1214" y="236"/>
                      </a:lnTo>
                      <a:lnTo>
                        <a:pt x="1210" y="232"/>
                      </a:lnTo>
                      <a:lnTo>
                        <a:pt x="1206" y="226"/>
                      </a:lnTo>
                      <a:lnTo>
                        <a:pt x="1202" y="222"/>
                      </a:lnTo>
                      <a:lnTo>
                        <a:pt x="1200" y="219"/>
                      </a:lnTo>
                      <a:lnTo>
                        <a:pt x="1197" y="215"/>
                      </a:lnTo>
                      <a:lnTo>
                        <a:pt x="1193" y="211"/>
                      </a:lnTo>
                      <a:lnTo>
                        <a:pt x="1189" y="207"/>
                      </a:lnTo>
                      <a:lnTo>
                        <a:pt x="1185" y="205"/>
                      </a:lnTo>
                      <a:lnTo>
                        <a:pt x="1179" y="203"/>
                      </a:lnTo>
                      <a:lnTo>
                        <a:pt x="1176" y="200"/>
                      </a:lnTo>
                      <a:lnTo>
                        <a:pt x="1172" y="198"/>
                      </a:lnTo>
                      <a:lnTo>
                        <a:pt x="1166" y="194"/>
                      </a:lnTo>
                      <a:lnTo>
                        <a:pt x="1160" y="192"/>
                      </a:lnTo>
                      <a:lnTo>
                        <a:pt x="1157" y="192"/>
                      </a:lnTo>
                      <a:lnTo>
                        <a:pt x="1151" y="190"/>
                      </a:lnTo>
                      <a:lnTo>
                        <a:pt x="1147" y="190"/>
                      </a:lnTo>
                      <a:lnTo>
                        <a:pt x="1143" y="188"/>
                      </a:lnTo>
                      <a:lnTo>
                        <a:pt x="1141" y="186"/>
                      </a:lnTo>
                      <a:lnTo>
                        <a:pt x="1138" y="186"/>
                      </a:lnTo>
                      <a:lnTo>
                        <a:pt x="1136" y="186"/>
                      </a:lnTo>
                      <a:lnTo>
                        <a:pt x="1134" y="186"/>
                      </a:lnTo>
                      <a:lnTo>
                        <a:pt x="1130" y="186"/>
                      </a:lnTo>
                      <a:lnTo>
                        <a:pt x="1128" y="186"/>
                      </a:lnTo>
                      <a:lnTo>
                        <a:pt x="1124" y="186"/>
                      </a:lnTo>
                      <a:lnTo>
                        <a:pt x="1122" y="186"/>
                      </a:lnTo>
                      <a:lnTo>
                        <a:pt x="1120" y="186"/>
                      </a:lnTo>
                      <a:lnTo>
                        <a:pt x="1117" y="186"/>
                      </a:lnTo>
                      <a:lnTo>
                        <a:pt x="1115" y="186"/>
                      </a:lnTo>
                      <a:lnTo>
                        <a:pt x="1109" y="186"/>
                      </a:lnTo>
                      <a:lnTo>
                        <a:pt x="1105" y="188"/>
                      </a:lnTo>
                      <a:lnTo>
                        <a:pt x="1100" y="188"/>
                      </a:lnTo>
                      <a:lnTo>
                        <a:pt x="1094" y="190"/>
                      </a:lnTo>
                      <a:lnTo>
                        <a:pt x="1090" y="192"/>
                      </a:lnTo>
                      <a:lnTo>
                        <a:pt x="1086" y="192"/>
                      </a:lnTo>
                      <a:lnTo>
                        <a:pt x="1081" y="194"/>
                      </a:lnTo>
                      <a:lnTo>
                        <a:pt x="1077" y="198"/>
                      </a:lnTo>
                      <a:lnTo>
                        <a:pt x="1073" y="200"/>
                      </a:lnTo>
                      <a:lnTo>
                        <a:pt x="1067" y="203"/>
                      </a:lnTo>
                      <a:lnTo>
                        <a:pt x="1063" y="205"/>
                      </a:lnTo>
                      <a:lnTo>
                        <a:pt x="1058" y="207"/>
                      </a:lnTo>
                      <a:lnTo>
                        <a:pt x="1054" y="211"/>
                      </a:lnTo>
                      <a:lnTo>
                        <a:pt x="1050" y="215"/>
                      </a:lnTo>
                      <a:lnTo>
                        <a:pt x="1048" y="219"/>
                      </a:lnTo>
                      <a:lnTo>
                        <a:pt x="1044" y="222"/>
                      </a:lnTo>
                      <a:lnTo>
                        <a:pt x="1041" y="226"/>
                      </a:lnTo>
                      <a:lnTo>
                        <a:pt x="1039" y="232"/>
                      </a:lnTo>
                      <a:lnTo>
                        <a:pt x="1035" y="234"/>
                      </a:lnTo>
                      <a:lnTo>
                        <a:pt x="1033" y="240"/>
                      </a:lnTo>
                      <a:lnTo>
                        <a:pt x="1029" y="243"/>
                      </a:lnTo>
                      <a:lnTo>
                        <a:pt x="1027" y="249"/>
                      </a:lnTo>
                      <a:lnTo>
                        <a:pt x="1025" y="253"/>
                      </a:lnTo>
                      <a:lnTo>
                        <a:pt x="1023" y="259"/>
                      </a:lnTo>
                      <a:lnTo>
                        <a:pt x="1022" y="260"/>
                      </a:lnTo>
                      <a:lnTo>
                        <a:pt x="1022" y="264"/>
                      </a:lnTo>
                      <a:lnTo>
                        <a:pt x="1022" y="266"/>
                      </a:lnTo>
                      <a:lnTo>
                        <a:pt x="1022" y="270"/>
                      </a:lnTo>
                      <a:lnTo>
                        <a:pt x="919" y="730"/>
                      </a:lnTo>
                      <a:lnTo>
                        <a:pt x="915" y="728"/>
                      </a:lnTo>
                      <a:lnTo>
                        <a:pt x="913" y="726"/>
                      </a:lnTo>
                      <a:lnTo>
                        <a:pt x="907" y="724"/>
                      </a:lnTo>
                      <a:lnTo>
                        <a:pt x="905" y="720"/>
                      </a:lnTo>
                      <a:lnTo>
                        <a:pt x="904" y="719"/>
                      </a:lnTo>
                      <a:lnTo>
                        <a:pt x="900" y="717"/>
                      </a:lnTo>
                      <a:lnTo>
                        <a:pt x="896" y="713"/>
                      </a:lnTo>
                      <a:lnTo>
                        <a:pt x="892" y="713"/>
                      </a:lnTo>
                      <a:lnTo>
                        <a:pt x="1022" y="129"/>
                      </a:lnTo>
                      <a:lnTo>
                        <a:pt x="1022" y="125"/>
                      </a:lnTo>
                      <a:lnTo>
                        <a:pt x="1022" y="124"/>
                      </a:lnTo>
                      <a:lnTo>
                        <a:pt x="1022" y="120"/>
                      </a:lnTo>
                      <a:lnTo>
                        <a:pt x="1022" y="118"/>
                      </a:lnTo>
                      <a:lnTo>
                        <a:pt x="1022" y="114"/>
                      </a:lnTo>
                      <a:lnTo>
                        <a:pt x="1022" y="112"/>
                      </a:lnTo>
                      <a:lnTo>
                        <a:pt x="1022" y="110"/>
                      </a:lnTo>
                      <a:lnTo>
                        <a:pt x="1022" y="106"/>
                      </a:lnTo>
                      <a:lnTo>
                        <a:pt x="1022" y="105"/>
                      </a:lnTo>
                      <a:lnTo>
                        <a:pt x="1022" y="103"/>
                      </a:lnTo>
                      <a:lnTo>
                        <a:pt x="1022" y="99"/>
                      </a:lnTo>
                      <a:lnTo>
                        <a:pt x="1022" y="97"/>
                      </a:lnTo>
                      <a:lnTo>
                        <a:pt x="1022" y="91"/>
                      </a:lnTo>
                      <a:lnTo>
                        <a:pt x="1022" y="86"/>
                      </a:lnTo>
                      <a:lnTo>
                        <a:pt x="1020" y="82"/>
                      </a:lnTo>
                      <a:lnTo>
                        <a:pt x="1018" y="76"/>
                      </a:lnTo>
                      <a:lnTo>
                        <a:pt x="1016" y="70"/>
                      </a:lnTo>
                      <a:lnTo>
                        <a:pt x="1014" y="67"/>
                      </a:lnTo>
                      <a:lnTo>
                        <a:pt x="1012" y="61"/>
                      </a:lnTo>
                      <a:lnTo>
                        <a:pt x="1010" y="57"/>
                      </a:lnTo>
                      <a:lnTo>
                        <a:pt x="1008" y="53"/>
                      </a:lnTo>
                      <a:lnTo>
                        <a:pt x="1006" y="48"/>
                      </a:lnTo>
                      <a:lnTo>
                        <a:pt x="1004" y="44"/>
                      </a:lnTo>
                      <a:lnTo>
                        <a:pt x="1001" y="40"/>
                      </a:lnTo>
                      <a:lnTo>
                        <a:pt x="997" y="36"/>
                      </a:lnTo>
                      <a:lnTo>
                        <a:pt x="993" y="32"/>
                      </a:lnTo>
                      <a:lnTo>
                        <a:pt x="991" y="29"/>
                      </a:lnTo>
                      <a:lnTo>
                        <a:pt x="985" y="25"/>
                      </a:lnTo>
                      <a:lnTo>
                        <a:pt x="983" y="23"/>
                      </a:lnTo>
                      <a:lnTo>
                        <a:pt x="978" y="19"/>
                      </a:lnTo>
                      <a:lnTo>
                        <a:pt x="972" y="17"/>
                      </a:lnTo>
                      <a:lnTo>
                        <a:pt x="968" y="13"/>
                      </a:lnTo>
                      <a:lnTo>
                        <a:pt x="964" y="11"/>
                      </a:lnTo>
                      <a:lnTo>
                        <a:pt x="961" y="10"/>
                      </a:lnTo>
                      <a:lnTo>
                        <a:pt x="955" y="6"/>
                      </a:lnTo>
                      <a:lnTo>
                        <a:pt x="949" y="6"/>
                      </a:lnTo>
                      <a:lnTo>
                        <a:pt x="944" y="4"/>
                      </a:lnTo>
                      <a:lnTo>
                        <a:pt x="940" y="4"/>
                      </a:lnTo>
                      <a:lnTo>
                        <a:pt x="936" y="2"/>
                      </a:lnTo>
                      <a:lnTo>
                        <a:pt x="934" y="2"/>
                      </a:lnTo>
                      <a:lnTo>
                        <a:pt x="932" y="0"/>
                      </a:lnTo>
                      <a:lnTo>
                        <a:pt x="928" y="0"/>
                      </a:lnTo>
                      <a:lnTo>
                        <a:pt x="926" y="0"/>
                      </a:lnTo>
                      <a:lnTo>
                        <a:pt x="925" y="0"/>
                      </a:lnTo>
                      <a:lnTo>
                        <a:pt x="921" y="0"/>
                      </a:lnTo>
                      <a:lnTo>
                        <a:pt x="919" y="0"/>
                      </a:lnTo>
                      <a:lnTo>
                        <a:pt x="915" y="0"/>
                      </a:lnTo>
                      <a:lnTo>
                        <a:pt x="913" y="0"/>
                      </a:lnTo>
                      <a:lnTo>
                        <a:pt x="911" y="0"/>
                      </a:lnTo>
                      <a:lnTo>
                        <a:pt x="907" y="0"/>
                      </a:lnTo>
                      <a:lnTo>
                        <a:pt x="904" y="0"/>
                      </a:lnTo>
                      <a:lnTo>
                        <a:pt x="898" y="2"/>
                      </a:lnTo>
                      <a:lnTo>
                        <a:pt x="896" y="2"/>
                      </a:lnTo>
                      <a:lnTo>
                        <a:pt x="892" y="2"/>
                      </a:lnTo>
                      <a:lnTo>
                        <a:pt x="890" y="2"/>
                      </a:lnTo>
                      <a:lnTo>
                        <a:pt x="888" y="4"/>
                      </a:lnTo>
                      <a:lnTo>
                        <a:pt x="881" y="4"/>
                      </a:lnTo>
                      <a:lnTo>
                        <a:pt x="877" y="6"/>
                      </a:lnTo>
                      <a:lnTo>
                        <a:pt x="873" y="10"/>
                      </a:lnTo>
                      <a:lnTo>
                        <a:pt x="867" y="11"/>
                      </a:lnTo>
                      <a:lnTo>
                        <a:pt x="864" y="15"/>
                      </a:lnTo>
                      <a:lnTo>
                        <a:pt x="860" y="17"/>
                      </a:lnTo>
                      <a:lnTo>
                        <a:pt x="854" y="19"/>
                      </a:lnTo>
                      <a:lnTo>
                        <a:pt x="850" y="23"/>
                      </a:lnTo>
                      <a:lnTo>
                        <a:pt x="847" y="25"/>
                      </a:lnTo>
                      <a:lnTo>
                        <a:pt x="843" y="29"/>
                      </a:lnTo>
                      <a:lnTo>
                        <a:pt x="839" y="32"/>
                      </a:lnTo>
                      <a:lnTo>
                        <a:pt x="835" y="36"/>
                      </a:lnTo>
                      <a:lnTo>
                        <a:pt x="833" y="40"/>
                      </a:lnTo>
                      <a:lnTo>
                        <a:pt x="831" y="44"/>
                      </a:lnTo>
                      <a:lnTo>
                        <a:pt x="828" y="48"/>
                      </a:lnTo>
                      <a:lnTo>
                        <a:pt x="824" y="53"/>
                      </a:lnTo>
                      <a:lnTo>
                        <a:pt x="822" y="57"/>
                      </a:lnTo>
                      <a:lnTo>
                        <a:pt x="820" y="61"/>
                      </a:lnTo>
                      <a:lnTo>
                        <a:pt x="818" y="67"/>
                      </a:lnTo>
                      <a:lnTo>
                        <a:pt x="816" y="70"/>
                      </a:lnTo>
                      <a:lnTo>
                        <a:pt x="816" y="74"/>
                      </a:lnTo>
                      <a:lnTo>
                        <a:pt x="814" y="76"/>
                      </a:lnTo>
                      <a:lnTo>
                        <a:pt x="812" y="82"/>
                      </a:lnTo>
                      <a:lnTo>
                        <a:pt x="812" y="84"/>
                      </a:lnTo>
                      <a:lnTo>
                        <a:pt x="687" y="663"/>
                      </a:lnTo>
                      <a:lnTo>
                        <a:pt x="681" y="663"/>
                      </a:lnTo>
                      <a:lnTo>
                        <a:pt x="677" y="663"/>
                      </a:lnTo>
                      <a:lnTo>
                        <a:pt x="673" y="663"/>
                      </a:lnTo>
                      <a:lnTo>
                        <a:pt x="670" y="663"/>
                      </a:lnTo>
                      <a:lnTo>
                        <a:pt x="666" y="663"/>
                      </a:lnTo>
                      <a:lnTo>
                        <a:pt x="660" y="665"/>
                      </a:lnTo>
                      <a:lnTo>
                        <a:pt x="656" y="665"/>
                      </a:lnTo>
                      <a:lnTo>
                        <a:pt x="652" y="667"/>
                      </a:lnTo>
                      <a:lnTo>
                        <a:pt x="753" y="213"/>
                      </a:lnTo>
                      <a:lnTo>
                        <a:pt x="753" y="209"/>
                      </a:lnTo>
                      <a:lnTo>
                        <a:pt x="753" y="207"/>
                      </a:lnTo>
                      <a:lnTo>
                        <a:pt x="753" y="203"/>
                      </a:lnTo>
                      <a:lnTo>
                        <a:pt x="753" y="201"/>
                      </a:lnTo>
                      <a:lnTo>
                        <a:pt x="753" y="198"/>
                      </a:lnTo>
                      <a:lnTo>
                        <a:pt x="753" y="196"/>
                      </a:lnTo>
                      <a:lnTo>
                        <a:pt x="753" y="192"/>
                      </a:lnTo>
                      <a:lnTo>
                        <a:pt x="753" y="190"/>
                      </a:lnTo>
                      <a:lnTo>
                        <a:pt x="753" y="188"/>
                      </a:lnTo>
                      <a:lnTo>
                        <a:pt x="753" y="184"/>
                      </a:lnTo>
                      <a:lnTo>
                        <a:pt x="753" y="182"/>
                      </a:lnTo>
                      <a:lnTo>
                        <a:pt x="753" y="181"/>
                      </a:lnTo>
                      <a:lnTo>
                        <a:pt x="753" y="175"/>
                      </a:lnTo>
                      <a:lnTo>
                        <a:pt x="753" y="169"/>
                      </a:lnTo>
                      <a:lnTo>
                        <a:pt x="751" y="167"/>
                      </a:lnTo>
                      <a:lnTo>
                        <a:pt x="751" y="163"/>
                      </a:lnTo>
                      <a:lnTo>
                        <a:pt x="751" y="162"/>
                      </a:lnTo>
                      <a:lnTo>
                        <a:pt x="750" y="160"/>
                      </a:lnTo>
                      <a:lnTo>
                        <a:pt x="748" y="154"/>
                      </a:lnTo>
                      <a:lnTo>
                        <a:pt x="746" y="148"/>
                      </a:lnTo>
                      <a:lnTo>
                        <a:pt x="744" y="144"/>
                      </a:lnTo>
                      <a:lnTo>
                        <a:pt x="742" y="141"/>
                      </a:lnTo>
                      <a:lnTo>
                        <a:pt x="740" y="135"/>
                      </a:lnTo>
                      <a:lnTo>
                        <a:pt x="738" y="131"/>
                      </a:lnTo>
                      <a:lnTo>
                        <a:pt x="734" y="127"/>
                      </a:lnTo>
                      <a:lnTo>
                        <a:pt x="730" y="124"/>
                      </a:lnTo>
                      <a:lnTo>
                        <a:pt x="727" y="120"/>
                      </a:lnTo>
                      <a:lnTo>
                        <a:pt x="725" y="116"/>
                      </a:lnTo>
                      <a:lnTo>
                        <a:pt x="721" y="112"/>
                      </a:lnTo>
                      <a:lnTo>
                        <a:pt x="717" y="108"/>
                      </a:lnTo>
                      <a:lnTo>
                        <a:pt x="713" y="105"/>
                      </a:lnTo>
                      <a:lnTo>
                        <a:pt x="710" y="103"/>
                      </a:lnTo>
                      <a:lnTo>
                        <a:pt x="704" y="99"/>
                      </a:lnTo>
                      <a:lnTo>
                        <a:pt x="700" y="97"/>
                      </a:lnTo>
                      <a:lnTo>
                        <a:pt x="694" y="95"/>
                      </a:lnTo>
                      <a:lnTo>
                        <a:pt x="691" y="91"/>
                      </a:lnTo>
                      <a:lnTo>
                        <a:pt x="685" y="89"/>
                      </a:lnTo>
                      <a:lnTo>
                        <a:pt x="681" y="87"/>
                      </a:lnTo>
                      <a:lnTo>
                        <a:pt x="675" y="86"/>
                      </a:lnTo>
                      <a:lnTo>
                        <a:pt x="672" y="86"/>
                      </a:lnTo>
                      <a:lnTo>
                        <a:pt x="668" y="84"/>
                      </a:lnTo>
                      <a:lnTo>
                        <a:pt x="666" y="84"/>
                      </a:lnTo>
                      <a:lnTo>
                        <a:pt x="664" y="84"/>
                      </a:lnTo>
                      <a:lnTo>
                        <a:pt x="660" y="84"/>
                      </a:lnTo>
                      <a:lnTo>
                        <a:pt x="658" y="84"/>
                      </a:lnTo>
                      <a:lnTo>
                        <a:pt x="654" y="84"/>
                      </a:lnTo>
                      <a:lnTo>
                        <a:pt x="652" y="84"/>
                      </a:lnTo>
                      <a:lnTo>
                        <a:pt x="651" y="84"/>
                      </a:lnTo>
                      <a:lnTo>
                        <a:pt x="647" y="84"/>
                      </a:lnTo>
                      <a:lnTo>
                        <a:pt x="645" y="84"/>
                      </a:lnTo>
                      <a:lnTo>
                        <a:pt x="643" y="84"/>
                      </a:lnTo>
                      <a:lnTo>
                        <a:pt x="639" y="84"/>
                      </a:lnTo>
                      <a:lnTo>
                        <a:pt x="635" y="84"/>
                      </a:lnTo>
                      <a:lnTo>
                        <a:pt x="630" y="84"/>
                      </a:lnTo>
                      <a:lnTo>
                        <a:pt x="628" y="84"/>
                      </a:lnTo>
                      <a:lnTo>
                        <a:pt x="624" y="86"/>
                      </a:lnTo>
                      <a:lnTo>
                        <a:pt x="622" y="86"/>
                      </a:lnTo>
                      <a:lnTo>
                        <a:pt x="618" y="86"/>
                      </a:lnTo>
                      <a:lnTo>
                        <a:pt x="614" y="87"/>
                      </a:lnTo>
                      <a:lnTo>
                        <a:pt x="609" y="89"/>
                      </a:lnTo>
                      <a:lnTo>
                        <a:pt x="603" y="91"/>
                      </a:lnTo>
                      <a:lnTo>
                        <a:pt x="599" y="95"/>
                      </a:lnTo>
                      <a:lnTo>
                        <a:pt x="595" y="97"/>
                      </a:lnTo>
                      <a:lnTo>
                        <a:pt x="592" y="99"/>
                      </a:lnTo>
                      <a:lnTo>
                        <a:pt x="586" y="103"/>
                      </a:lnTo>
                      <a:lnTo>
                        <a:pt x="582" y="105"/>
                      </a:lnTo>
                      <a:lnTo>
                        <a:pt x="578" y="108"/>
                      </a:lnTo>
                      <a:lnTo>
                        <a:pt x="574" y="112"/>
                      </a:lnTo>
                      <a:lnTo>
                        <a:pt x="571" y="116"/>
                      </a:lnTo>
                      <a:lnTo>
                        <a:pt x="567" y="120"/>
                      </a:lnTo>
                      <a:lnTo>
                        <a:pt x="565" y="124"/>
                      </a:lnTo>
                      <a:lnTo>
                        <a:pt x="563" y="127"/>
                      </a:lnTo>
                      <a:lnTo>
                        <a:pt x="559" y="131"/>
                      </a:lnTo>
                      <a:lnTo>
                        <a:pt x="555" y="135"/>
                      </a:lnTo>
                      <a:lnTo>
                        <a:pt x="554" y="141"/>
                      </a:lnTo>
                      <a:lnTo>
                        <a:pt x="552" y="146"/>
                      </a:lnTo>
                      <a:lnTo>
                        <a:pt x="550" y="150"/>
                      </a:lnTo>
                      <a:lnTo>
                        <a:pt x="548" y="156"/>
                      </a:lnTo>
                      <a:lnTo>
                        <a:pt x="546" y="158"/>
                      </a:lnTo>
                      <a:lnTo>
                        <a:pt x="546" y="160"/>
                      </a:lnTo>
                      <a:lnTo>
                        <a:pt x="544" y="163"/>
                      </a:lnTo>
                      <a:lnTo>
                        <a:pt x="544" y="167"/>
                      </a:lnTo>
                      <a:lnTo>
                        <a:pt x="361" y="1127"/>
                      </a:lnTo>
                      <a:lnTo>
                        <a:pt x="361" y="1127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92" name="AutoShape 1107"/>
              <p:cNvSpPr/>
              <p:nvPr/>
            </p:nvSpPr>
            <p:spPr>
              <a:xfrm flipH="1" rot="4894200">
                <a:off x="6843600" y="2924640"/>
                <a:ext cx="88560" cy="75960"/>
              </a:xfrm>
              <a:prstGeom prst="hexagon">
                <a:avLst>
                  <a:gd name="adj" fmla="val 29147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AutoShape 1108"/>
              <p:cNvSpPr/>
              <p:nvPr/>
            </p:nvSpPr>
            <p:spPr>
              <a:xfrm flipH="1" rot="4863600">
                <a:off x="6423480" y="2993760"/>
                <a:ext cx="192960" cy="5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308" y="21600"/>
                    </a:lnTo>
                    <a:lnTo>
                      <a:pt x="1729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4" name="Group 1109"/>
            <p:cNvGrpSpPr/>
            <p:nvPr/>
          </p:nvGrpSpPr>
          <p:grpSpPr>
            <a:xfrm>
              <a:off x="6792480" y="2824920"/>
              <a:ext cx="745560" cy="272880"/>
              <a:chOff x="6792480" y="2824920"/>
              <a:chExt cx="745560" cy="272880"/>
            </a:xfrm>
          </p:grpSpPr>
          <p:grpSp>
            <p:nvGrpSpPr>
              <p:cNvPr id="3295" name="Group 1110"/>
              <p:cNvGrpSpPr/>
              <p:nvPr/>
            </p:nvGrpSpPr>
            <p:grpSpPr>
              <a:xfrm>
                <a:off x="6792480" y="2824920"/>
                <a:ext cx="745560" cy="272880"/>
                <a:chOff x="6792480" y="2824920"/>
                <a:chExt cx="745560" cy="272880"/>
              </a:xfrm>
            </p:grpSpPr>
            <p:sp>
              <p:nvSpPr>
                <p:cNvPr id="3296" name="AutoShape 1111"/>
                <p:cNvSpPr/>
                <p:nvPr/>
              </p:nvSpPr>
              <p:spPr>
                <a:xfrm flipV="1" rot="4863600">
                  <a:off x="7025040" y="2766960"/>
                  <a:ext cx="179640" cy="360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4308" y="21600"/>
                      </a:lnTo>
                      <a:lnTo>
                        <a:pt x="17292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7" name="Oval 1112"/>
                <p:cNvSpPr/>
                <p:nvPr/>
              </p:nvSpPr>
              <p:spPr>
                <a:xfrm flipV="1" rot="4324200">
                  <a:off x="6818400" y="2884320"/>
                  <a:ext cx="186480" cy="1904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8" name="Freeform 1113"/>
                <p:cNvSpPr/>
                <p:nvPr/>
              </p:nvSpPr>
              <p:spPr>
                <a:xfrm flipV="1" rot="16429800">
                  <a:off x="7301160" y="2777760"/>
                  <a:ext cx="174960" cy="287640"/>
                </a:xfrm>
                <a:custGeom>
                  <a:avLst/>
                  <a:gdLst/>
                  <a:ahLst/>
                  <a:rect l="l" t="t" r="r" b="b"/>
                  <a:pathLst>
                    <a:path w="1402" h="2302">
                      <a:moveTo>
                        <a:pt x="361" y="1127"/>
                      </a:moveTo>
                      <a:lnTo>
                        <a:pt x="280" y="1116"/>
                      </a:lnTo>
                      <a:lnTo>
                        <a:pt x="373" y="711"/>
                      </a:lnTo>
                      <a:lnTo>
                        <a:pt x="373" y="709"/>
                      </a:lnTo>
                      <a:lnTo>
                        <a:pt x="375" y="705"/>
                      </a:lnTo>
                      <a:lnTo>
                        <a:pt x="375" y="703"/>
                      </a:lnTo>
                      <a:lnTo>
                        <a:pt x="375" y="700"/>
                      </a:lnTo>
                      <a:lnTo>
                        <a:pt x="375" y="698"/>
                      </a:lnTo>
                      <a:lnTo>
                        <a:pt x="375" y="696"/>
                      </a:lnTo>
                      <a:lnTo>
                        <a:pt x="375" y="692"/>
                      </a:lnTo>
                      <a:lnTo>
                        <a:pt x="375" y="690"/>
                      </a:lnTo>
                      <a:lnTo>
                        <a:pt x="375" y="684"/>
                      </a:lnTo>
                      <a:lnTo>
                        <a:pt x="375" y="681"/>
                      </a:lnTo>
                      <a:lnTo>
                        <a:pt x="375" y="675"/>
                      </a:lnTo>
                      <a:lnTo>
                        <a:pt x="375" y="669"/>
                      </a:lnTo>
                      <a:lnTo>
                        <a:pt x="371" y="665"/>
                      </a:lnTo>
                      <a:lnTo>
                        <a:pt x="371" y="660"/>
                      </a:lnTo>
                      <a:lnTo>
                        <a:pt x="369" y="654"/>
                      </a:lnTo>
                      <a:lnTo>
                        <a:pt x="367" y="652"/>
                      </a:lnTo>
                      <a:lnTo>
                        <a:pt x="365" y="646"/>
                      </a:lnTo>
                      <a:lnTo>
                        <a:pt x="363" y="641"/>
                      </a:lnTo>
                      <a:lnTo>
                        <a:pt x="361" y="637"/>
                      </a:lnTo>
                      <a:lnTo>
                        <a:pt x="358" y="633"/>
                      </a:lnTo>
                      <a:lnTo>
                        <a:pt x="356" y="629"/>
                      </a:lnTo>
                      <a:lnTo>
                        <a:pt x="354" y="623"/>
                      </a:lnTo>
                      <a:lnTo>
                        <a:pt x="350" y="620"/>
                      </a:lnTo>
                      <a:lnTo>
                        <a:pt x="346" y="616"/>
                      </a:lnTo>
                      <a:lnTo>
                        <a:pt x="342" y="612"/>
                      </a:lnTo>
                      <a:lnTo>
                        <a:pt x="339" y="610"/>
                      </a:lnTo>
                      <a:lnTo>
                        <a:pt x="335" y="606"/>
                      </a:lnTo>
                      <a:lnTo>
                        <a:pt x="331" y="603"/>
                      </a:lnTo>
                      <a:lnTo>
                        <a:pt x="325" y="601"/>
                      </a:lnTo>
                      <a:lnTo>
                        <a:pt x="321" y="597"/>
                      </a:lnTo>
                      <a:lnTo>
                        <a:pt x="318" y="595"/>
                      </a:lnTo>
                      <a:lnTo>
                        <a:pt x="312" y="593"/>
                      </a:lnTo>
                      <a:lnTo>
                        <a:pt x="306" y="591"/>
                      </a:lnTo>
                      <a:lnTo>
                        <a:pt x="302" y="589"/>
                      </a:lnTo>
                      <a:lnTo>
                        <a:pt x="299" y="589"/>
                      </a:lnTo>
                      <a:lnTo>
                        <a:pt x="295" y="587"/>
                      </a:lnTo>
                      <a:lnTo>
                        <a:pt x="291" y="587"/>
                      </a:lnTo>
                      <a:lnTo>
                        <a:pt x="287" y="585"/>
                      </a:lnTo>
                      <a:lnTo>
                        <a:pt x="285" y="585"/>
                      </a:lnTo>
                      <a:lnTo>
                        <a:pt x="283" y="585"/>
                      </a:lnTo>
                      <a:lnTo>
                        <a:pt x="280" y="585"/>
                      </a:lnTo>
                      <a:lnTo>
                        <a:pt x="276" y="585"/>
                      </a:lnTo>
                      <a:lnTo>
                        <a:pt x="274" y="585"/>
                      </a:lnTo>
                      <a:lnTo>
                        <a:pt x="272" y="585"/>
                      </a:lnTo>
                      <a:lnTo>
                        <a:pt x="268" y="585"/>
                      </a:lnTo>
                      <a:lnTo>
                        <a:pt x="266" y="585"/>
                      </a:lnTo>
                      <a:lnTo>
                        <a:pt x="263" y="585"/>
                      </a:lnTo>
                      <a:lnTo>
                        <a:pt x="261" y="587"/>
                      </a:lnTo>
                      <a:lnTo>
                        <a:pt x="259" y="587"/>
                      </a:lnTo>
                      <a:lnTo>
                        <a:pt x="255" y="587"/>
                      </a:lnTo>
                      <a:lnTo>
                        <a:pt x="253" y="589"/>
                      </a:lnTo>
                      <a:lnTo>
                        <a:pt x="249" y="589"/>
                      </a:lnTo>
                      <a:lnTo>
                        <a:pt x="247" y="589"/>
                      </a:lnTo>
                      <a:lnTo>
                        <a:pt x="243" y="591"/>
                      </a:lnTo>
                      <a:lnTo>
                        <a:pt x="240" y="591"/>
                      </a:lnTo>
                      <a:lnTo>
                        <a:pt x="238" y="593"/>
                      </a:lnTo>
                      <a:lnTo>
                        <a:pt x="236" y="595"/>
                      </a:lnTo>
                      <a:lnTo>
                        <a:pt x="232" y="595"/>
                      </a:lnTo>
                      <a:lnTo>
                        <a:pt x="230" y="597"/>
                      </a:lnTo>
                      <a:lnTo>
                        <a:pt x="228" y="599"/>
                      </a:lnTo>
                      <a:lnTo>
                        <a:pt x="224" y="601"/>
                      </a:lnTo>
                      <a:lnTo>
                        <a:pt x="223" y="601"/>
                      </a:lnTo>
                      <a:lnTo>
                        <a:pt x="219" y="603"/>
                      </a:lnTo>
                      <a:lnTo>
                        <a:pt x="217" y="604"/>
                      </a:lnTo>
                      <a:lnTo>
                        <a:pt x="211" y="608"/>
                      </a:lnTo>
                      <a:lnTo>
                        <a:pt x="207" y="612"/>
                      </a:lnTo>
                      <a:lnTo>
                        <a:pt x="204" y="616"/>
                      </a:lnTo>
                      <a:lnTo>
                        <a:pt x="198" y="618"/>
                      </a:lnTo>
                      <a:lnTo>
                        <a:pt x="194" y="623"/>
                      </a:lnTo>
                      <a:lnTo>
                        <a:pt x="188" y="627"/>
                      </a:lnTo>
                      <a:lnTo>
                        <a:pt x="185" y="633"/>
                      </a:lnTo>
                      <a:lnTo>
                        <a:pt x="181" y="637"/>
                      </a:lnTo>
                      <a:lnTo>
                        <a:pt x="177" y="641"/>
                      </a:lnTo>
                      <a:lnTo>
                        <a:pt x="173" y="646"/>
                      </a:lnTo>
                      <a:lnTo>
                        <a:pt x="169" y="652"/>
                      </a:lnTo>
                      <a:lnTo>
                        <a:pt x="166" y="656"/>
                      </a:lnTo>
                      <a:lnTo>
                        <a:pt x="162" y="662"/>
                      </a:lnTo>
                      <a:lnTo>
                        <a:pt x="160" y="665"/>
                      </a:lnTo>
                      <a:lnTo>
                        <a:pt x="158" y="669"/>
                      </a:lnTo>
                      <a:lnTo>
                        <a:pt x="158" y="671"/>
                      </a:lnTo>
                      <a:lnTo>
                        <a:pt x="156" y="673"/>
                      </a:lnTo>
                      <a:lnTo>
                        <a:pt x="154" y="677"/>
                      </a:lnTo>
                      <a:lnTo>
                        <a:pt x="152" y="679"/>
                      </a:lnTo>
                      <a:lnTo>
                        <a:pt x="152" y="681"/>
                      </a:lnTo>
                      <a:lnTo>
                        <a:pt x="150" y="684"/>
                      </a:lnTo>
                      <a:lnTo>
                        <a:pt x="150" y="688"/>
                      </a:lnTo>
                      <a:lnTo>
                        <a:pt x="146" y="694"/>
                      </a:lnTo>
                      <a:lnTo>
                        <a:pt x="145" y="701"/>
                      </a:lnTo>
                      <a:lnTo>
                        <a:pt x="143" y="709"/>
                      </a:lnTo>
                      <a:lnTo>
                        <a:pt x="139" y="717"/>
                      </a:lnTo>
                      <a:lnTo>
                        <a:pt x="137" y="724"/>
                      </a:lnTo>
                      <a:lnTo>
                        <a:pt x="135" y="732"/>
                      </a:lnTo>
                      <a:lnTo>
                        <a:pt x="131" y="739"/>
                      </a:lnTo>
                      <a:lnTo>
                        <a:pt x="129" y="747"/>
                      </a:lnTo>
                      <a:lnTo>
                        <a:pt x="126" y="755"/>
                      </a:lnTo>
                      <a:lnTo>
                        <a:pt x="124" y="760"/>
                      </a:lnTo>
                      <a:lnTo>
                        <a:pt x="122" y="768"/>
                      </a:lnTo>
                      <a:lnTo>
                        <a:pt x="120" y="776"/>
                      </a:lnTo>
                      <a:lnTo>
                        <a:pt x="116" y="781"/>
                      </a:lnTo>
                      <a:lnTo>
                        <a:pt x="114" y="789"/>
                      </a:lnTo>
                      <a:lnTo>
                        <a:pt x="112" y="796"/>
                      </a:lnTo>
                      <a:lnTo>
                        <a:pt x="110" y="804"/>
                      </a:lnTo>
                      <a:lnTo>
                        <a:pt x="107" y="812"/>
                      </a:lnTo>
                      <a:lnTo>
                        <a:pt x="107" y="817"/>
                      </a:lnTo>
                      <a:lnTo>
                        <a:pt x="103" y="823"/>
                      </a:lnTo>
                      <a:lnTo>
                        <a:pt x="101" y="831"/>
                      </a:lnTo>
                      <a:lnTo>
                        <a:pt x="97" y="836"/>
                      </a:lnTo>
                      <a:lnTo>
                        <a:pt x="97" y="844"/>
                      </a:lnTo>
                      <a:lnTo>
                        <a:pt x="93" y="852"/>
                      </a:lnTo>
                      <a:lnTo>
                        <a:pt x="93" y="857"/>
                      </a:lnTo>
                      <a:lnTo>
                        <a:pt x="89" y="865"/>
                      </a:lnTo>
                      <a:lnTo>
                        <a:pt x="88" y="871"/>
                      </a:lnTo>
                      <a:lnTo>
                        <a:pt x="86" y="878"/>
                      </a:lnTo>
                      <a:lnTo>
                        <a:pt x="84" y="884"/>
                      </a:lnTo>
                      <a:lnTo>
                        <a:pt x="82" y="892"/>
                      </a:lnTo>
                      <a:lnTo>
                        <a:pt x="80" y="899"/>
                      </a:lnTo>
                      <a:lnTo>
                        <a:pt x="78" y="907"/>
                      </a:lnTo>
                      <a:lnTo>
                        <a:pt x="74" y="912"/>
                      </a:lnTo>
                      <a:lnTo>
                        <a:pt x="72" y="920"/>
                      </a:lnTo>
                      <a:lnTo>
                        <a:pt x="72" y="926"/>
                      </a:lnTo>
                      <a:lnTo>
                        <a:pt x="68" y="931"/>
                      </a:lnTo>
                      <a:lnTo>
                        <a:pt x="67" y="939"/>
                      </a:lnTo>
                      <a:lnTo>
                        <a:pt x="65" y="945"/>
                      </a:lnTo>
                      <a:lnTo>
                        <a:pt x="63" y="952"/>
                      </a:lnTo>
                      <a:lnTo>
                        <a:pt x="59" y="958"/>
                      </a:lnTo>
                      <a:lnTo>
                        <a:pt x="57" y="966"/>
                      </a:lnTo>
                      <a:lnTo>
                        <a:pt x="55" y="971"/>
                      </a:lnTo>
                      <a:lnTo>
                        <a:pt x="53" y="979"/>
                      </a:lnTo>
                      <a:lnTo>
                        <a:pt x="51" y="987"/>
                      </a:lnTo>
                      <a:lnTo>
                        <a:pt x="49" y="994"/>
                      </a:lnTo>
                      <a:lnTo>
                        <a:pt x="48" y="1000"/>
                      </a:lnTo>
                      <a:lnTo>
                        <a:pt x="46" y="1007"/>
                      </a:lnTo>
                      <a:lnTo>
                        <a:pt x="44" y="1015"/>
                      </a:lnTo>
                      <a:lnTo>
                        <a:pt x="42" y="1021"/>
                      </a:lnTo>
                      <a:lnTo>
                        <a:pt x="42" y="1028"/>
                      </a:lnTo>
                      <a:lnTo>
                        <a:pt x="38" y="1036"/>
                      </a:lnTo>
                      <a:lnTo>
                        <a:pt x="36" y="1042"/>
                      </a:lnTo>
                      <a:lnTo>
                        <a:pt x="36" y="1049"/>
                      </a:lnTo>
                      <a:lnTo>
                        <a:pt x="34" y="1057"/>
                      </a:lnTo>
                      <a:lnTo>
                        <a:pt x="30" y="1063"/>
                      </a:lnTo>
                      <a:lnTo>
                        <a:pt x="30" y="1070"/>
                      </a:lnTo>
                      <a:lnTo>
                        <a:pt x="29" y="1078"/>
                      </a:lnTo>
                      <a:lnTo>
                        <a:pt x="27" y="1085"/>
                      </a:lnTo>
                      <a:lnTo>
                        <a:pt x="25" y="1093"/>
                      </a:lnTo>
                      <a:lnTo>
                        <a:pt x="23" y="1101"/>
                      </a:lnTo>
                      <a:lnTo>
                        <a:pt x="21" y="1108"/>
                      </a:lnTo>
                      <a:lnTo>
                        <a:pt x="19" y="1116"/>
                      </a:lnTo>
                      <a:lnTo>
                        <a:pt x="17" y="1123"/>
                      </a:lnTo>
                      <a:lnTo>
                        <a:pt x="17" y="1131"/>
                      </a:lnTo>
                      <a:lnTo>
                        <a:pt x="15" y="1139"/>
                      </a:lnTo>
                      <a:lnTo>
                        <a:pt x="13" y="1148"/>
                      </a:lnTo>
                      <a:lnTo>
                        <a:pt x="10" y="1158"/>
                      </a:lnTo>
                      <a:lnTo>
                        <a:pt x="10" y="1165"/>
                      </a:lnTo>
                      <a:lnTo>
                        <a:pt x="8" y="1175"/>
                      </a:lnTo>
                      <a:lnTo>
                        <a:pt x="6" y="1182"/>
                      </a:lnTo>
                      <a:lnTo>
                        <a:pt x="6" y="1192"/>
                      </a:lnTo>
                      <a:lnTo>
                        <a:pt x="4" y="1201"/>
                      </a:lnTo>
                      <a:lnTo>
                        <a:pt x="2" y="1211"/>
                      </a:lnTo>
                      <a:lnTo>
                        <a:pt x="2" y="1218"/>
                      </a:lnTo>
                      <a:lnTo>
                        <a:pt x="0" y="1230"/>
                      </a:lnTo>
                      <a:lnTo>
                        <a:pt x="0" y="1237"/>
                      </a:lnTo>
                      <a:lnTo>
                        <a:pt x="0" y="1247"/>
                      </a:lnTo>
                      <a:lnTo>
                        <a:pt x="0" y="1257"/>
                      </a:lnTo>
                      <a:lnTo>
                        <a:pt x="0" y="1268"/>
                      </a:lnTo>
                      <a:lnTo>
                        <a:pt x="0" y="1276"/>
                      </a:lnTo>
                      <a:lnTo>
                        <a:pt x="0" y="1285"/>
                      </a:lnTo>
                      <a:lnTo>
                        <a:pt x="0" y="1296"/>
                      </a:lnTo>
                      <a:lnTo>
                        <a:pt x="0" y="1304"/>
                      </a:lnTo>
                      <a:lnTo>
                        <a:pt x="0" y="1314"/>
                      </a:lnTo>
                      <a:lnTo>
                        <a:pt x="0" y="1323"/>
                      </a:lnTo>
                      <a:lnTo>
                        <a:pt x="0" y="1333"/>
                      </a:lnTo>
                      <a:lnTo>
                        <a:pt x="2" y="1342"/>
                      </a:lnTo>
                      <a:lnTo>
                        <a:pt x="2" y="1352"/>
                      </a:lnTo>
                      <a:lnTo>
                        <a:pt x="4" y="1363"/>
                      </a:lnTo>
                      <a:lnTo>
                        <a:pt x="4" y="1371"/>
                      </a:lnTo>
                      <a:lnTo>
                        <a:pt x="6" y="1382"/>
                      </a:lnTo>
                      <a:lnTo>
                        <a:pt x="8" y="1390"/>
                      </a:lnTo>
                      <a:lnTo>
                        <a:pt x="8" y="1401"/>
                      </a:lnTo>
                      <a:lnTo>
                        <a:pt x="10" y="1409"/>
                      </a:lnTo>
                      <a:lnTo>
                        <a:pt x="11" y="1420"/>
                      </a:lnTo>
                      <a:lnTo>
                        <a:pt x="13" y="1429"/>
                      </a:lnTo>
                      <a:lnTo>
                        <a:pt x="15" y="1439"/>
                      </a:lnTo>
                      <a:lnTo>
                        <a:pt x="17" y="1448"/>
                      </a:lnTo>
                      <a:lnTo>
                        <a:pt x="19" y="1458"/>
                      </a:lnTo>
                      <a:lnTo>
                        <a:pt x="21" y="1468"/>
                      </a:lnTo>
                      <a:lnTo>
                        <a:pt x="23" y="1477"/>
                      </a:lnTo>
                      <a:lnTo>
                        <a:pt x="27" y="1487"/>
                      </a:lnTo>
                      <a:lnTo>
                        <a:pt x="29" y="1496"/>
                      </a:lnTo>
                      <a:lnTo>
                        <a:pt x="30" y="1506"/>
                      </a:lnTo>
                      <a:lnTo>
                        <a:pt x="34" y="1515"/>
                      </a:lnTo>
                      <a:lnTo>
                        <a:pt x="36" y="1525"/>
                      </a:lnTo>
                      <a:lnTo>
                        <a:pt x="38" y="1534"/>
                      </a:lnTo>
                      <a:lnTo>
                        <a:pt x="42" y="1544"/>
                      </a:lnTo>
                      <a:lnTo>
                        <a:pt x="46" y="1553"/>
                      </a:lnTo>
                      <a:lnTo>
                        <a:pt x="48" y="1561"/>
                      </a:lnTo>
                      <a:lnTo>
                        <a:pt x="51" y="1572"/>
                      </a:lnTo>
                      <a:lnTo>
                        <a:pt x="55" y="1580"/>
                      </a:lnTo>
                      <a:lnTo>
                        <a:pt x="59" y="1589"/>
                      </a:lnTo>
                      <a:lnTo>
                        <a:pt x="63" y="1599"/>
                      </a:lnTo>
                      <a:lnTo>
                        <a:pt x="67" y="1608"/>
                      </a:lnTo>
                      <a:lnTo>
                        <a:pt x="68" y="1616"/>
                      </a:lnTo>
                      <a:lnTo>
                        <a:pt x="74" y="1627"/>
                      </a:lnTo>
                      <a:lnTo>
                        <a:pt x="78" y="1635"/>
                      </a:lnTo>
                      <a:lnTo>
                        <a:pt x="82" y="1644"/>
                      </a:lnTo>
                      <a:lnTo>
                        <a:pt x="86" y="1652"/>
                      </a:lnTo>
                      <a:lnTo>
                        <a:pt x="89" y="1661"/>
                      </a:lnTo>
                      <a:lnTo>
                        <a:pt x="95" y="1669"/>
                      </a:lnTo>
                      <a:lnTo>
                        <a:pt x="99" y="1679"/>
                      </a:lnTo>
                      <a:lnTo>
                        <a:pt x="103" y="1688"/>
                      </a:lnTo>
                      <a:lnTo>
                        <a:pt x="108" y="1696"/>
                      </a:lnTo>
                      <a:lnTo>
                        <a:pt x="114" y="1703"/>
                      </a:lnTo>
                      <a:lnTo>
                        <a:pt x="118" y="1713"/>
                      </a:lnTo>
                      <a:lnTo>
                        <a:pt x="124" y="1722"/>
                      </a:lnTo>
                      <a:lnTo>
                        <a:pt x="127" y="1732"/>
                      </a:lnTo>
                      <a:lnTo>
                        <a:pt x="131" y="1736"/>
                      </a:lnTo>
                      <a:lnTo>
                        <a:pt x="135" y="1739"/>
                      </a:lnTo>
                      <a:lnTo>
                        <a:pt x="135" y="1743"/>
                      </a:lnTo>
                      <a:lnTo>
                        <a:pt x="137" y="1745"/>
                      </a:lnTo>
                      <a:lnTo>
                        <a:pt x="139" y="1747"/>
                      </a:lnTo>
                      <a:lnTo>
                        <a:pt x="141" y="1751"/>
                      </a:lnTo>
                      <a:lnTo>
                        <a:pt x="143" y="1755"/>
                      </a:lnTo>
                      <a:lnTo>
                        <a:pt x="143" y="1756"/>
                      </a:lnTo>
                      <a:lnTo>
                        <a:pt x="145" y="1760"/>
                      </a:lnTo>
                      <a:lnTo>
                        <a:pt x="146" y="1762"/>
                      </a:lnTo>
                      <a:lnTo>
                        <a:pt x="148" y="1766"/>
                      </a:lnTo>
                      <a:lnTo>
                        <a:pt x="150" y="1768"/>
                      </a:lnTo>
                      <a:lnTo>
                        <a:pt x="152" y="1770"/>
                      </a:lnTo>
                      <a:lnTo>
                        <a:pt x="156" y="1774"/>
                      </a:lnTo>
                      <a:lnTo>
                        <a:pt x="158" y="1777"/>
                      </a:lnTo>
                      <a:lnTo>
                        <a:pt x="160" y="1779"/>
                      </a:lnTo>
                      <a:lnTo>
                        <a:pt x="160" y="1783"/>
                      </a:lnTo>
                      <a:lnTo>
                        <a:pt x="162" y="1787"/>
                      </a:lnTo>
                      <a:lnTo>
                        <a:pt x="166" y="1789"/>
                      </a:lnTo>
                      <a:lnTo>
                        <a:pt x="166" y="1791"/>
                      </a:lnTo>
                      <a:lnTo>
                        <a:pt x="167" y="1794"/>
                      </a:lnTo>
                      <a:lnTo>
                        <a:pt x="169" y="1796"/>
                      </a:lnTo>
                      <a:lnTo>
                        <a:pt x="171" y="1800"/>
                      </a:lnTo>
                      <a:lnTo>
                        <a:pt x="173" y="1802"/>
                      </a:lnTo>
                      <a:lnTo>
                        <a:pt x="175" y="1806"/>
                      </a:lnTo>
                      <a:lnTo>
                        <a:pt x="177" y="1808"/>
                      </a:lnTo>
                      <a:lnTo>
                        <a:pt x="179" y="1812"/>
                      </a:lnTo>
                      <a:lnTo>
                        <a:pt x="181" y="1815"/>
                      </a:lnTo>
                      <a:lnTo>
                        <a:pt x="183" y="1817"/>
                      </a:lnTo>
                      <a:lnTo>
                        <a:pt x="185" y="1821"/>
                      </a:lnTo>
                      <a:lnTo>
                        <a:pt x="188" y="1827"/>
                      </a:lnTo>
                      <a:lnTo>
                        <a:pt x="190" y="1831"/>
                      </a:lnTo>
                      <a:lnTo>
                        <a:pt x="194" y="1836"/>
                      </a:lnTo>
                      <a:lnTo>
                        <a:pt x="198" y="1842"/>
                      </a:lnTo>
                      <a:lnTo>
                        <a:pt x="200" y="1846"/>
                      </a:lnTo>
                      <a:lnTo>
                        <a:pt x="204" y="1850"/>
                      </a:lnTo>
                      <a:lnTo>
                        <a:pt x="205" y="1853"/>
                      </a:lnTo>
                      <a:lnTo>
                        <a:pt x="207" y="1859"/>
                      </a:lnTo>
                      <a:lnTo>
                        <a:pt x="209" y="1861"/>
                      </a:lnTo>
                      <a:lnTo>
                        <a:pt x="211" y="1863"/>
                      </a:lnTo>
                      <a:lnTo>
                        <a:pt x="213" y="1867"/>
                      </a:lnTo>
                      <a:lnTo>
                        <a:pt x="215" y="1869"/>
                      </a:lnTo>
                      <a:lnTo>
                        <a:pt x="217" y="1870"/>
                      </a:lnTo>
                      <a:lnTo>
                        <a:pt x="219" y="1874"/>
                      </a:lnTo>
                      <a:lnTo>
                        <a:pt x="141" y="2163"/>
                      </a:lnTo>
                      <a:lnTo>
                        <a:pt x="143" y="2165"/>
                      </a:lnTo>
                      <a:lnTo>
                        <a:pt x="146" y="2165"/>
                      </a:lnTo>
                      <a:lnTo>
                        <a:pt x="150" y="2167"/>
                      </a:lnTo>
                      <a:lnTo>
                        <a:pt x="152" y="2167"/>
                      </a:lnTo>
                      <a:lnTo>
                        <a:pt x="154" y="2167"/>
                      </a:lnTo>
                      <a:lnTo>
                        <a:pt x="158" y="2167"/>
                      </a:lnTo>
                      <a:lnTo>
                        <a:pt x="162" y="2171"/>
                      </a:lnTo>
                      <a:lnTo>
                        <a:pt x="166" y="2171"/>
                      </a:lnTo>
                      <a:lnTo>
                        <a:pt x="167" y="2173"/>
                      </a:lnTo>
                      <a:lnTo>
                        <a:pt x="171" y="2173"/>
                      </a:lnTo>
                      <a:lnTo>
                        <a:pt x="175" y="2175"/>
                      </a:lnTo>
                      <a:lnTo>
                        <a:pt x="181" y="2175"/>
                      </a:lnTo>
                      <a:lnTo>
                        <a:pt x="185" y="2175"/>
                      </a:lnTo>
                      <a:lnTo>
                        <a:pt x="188" y="2177"/>
                      </a:lnTo>
                      <a:lnTo>
                        <a:pt x="194" y="2180"/>
                      </a:lnTo>
                      <a:lnTo>
                        <a:pt x="198" y="2180"/>
                      </a:lnTo>
                      <a:lnTo>
                        <a:pt x="204" y="2182"/>
                      </a:lnTo>
                      <a:lnTo>
                        <a:pt x="209" y="2182"/>
                      </a:lnTo>
                      <a:lnTo>
                        <a:pt x="215" y="2184"/>
                      </a:lnTo>
                      <a:lnTo>
                        <a:pt x="219" y="2186"/>
                      </a:lnTo>
                      <a:lnTo>
                        <a:pt x="224" y="2188"/>
                      </a:lnTo>
                      <a:lnTo>
                        <a:pt x="232" y="2188"/>
                      </a:lnTo>
                      <a:lnTo>
                        <a:pt x="238" y="2190"/>
                      </a:lnTo>
                      <a:lnTo>
                        <a:pt x="243" y="2190"/>
                      </a:lnTo>
                      <a:lnTo>
                        <a:pt x="251" y="2192"/>
                      </a:lnTo>
                      <a:lnTo>
                        <a:pt x="257" y="2194"/>
                      </a:lnTo>
                      <a:lnTo>
                        <a:pt x="264" y="2194"/>
                      </a:lnTo>
                      <a:lnTo>
                        <a:pt x="270" y="2196"/>
                      </a:lnTo>
                      <a:lnTo>
                        <a:pt x="276" y="2196"/>
                      </a:lnTo>
                      <a:lnTo>
                        <a:pt x="283" y="2197"/>
                      </a:lnTo>
                      <a:lnTo>
                        <a:pt x="291" y="2199"/>
                      </a:lnTo>
                      <a:lnTo>
                        <a:pt x="297" y="2199"/>
                      </a:lnTo>
                      <a:lnTo>
                        <a:pt x="304" y="2199"/>
                      </a:lnTo>
                      <a:lnTo>
                        <a:pt x="312" y="2199"/>
                      </a:lnTo>
                      <a:lnTo>
                        <a:pt x="320" y="2201"/>
                      </a:lnTo>
                      <a:lnTo>
                        <a:pt x="325" y="2201"/>
                      </a:lnTo>
                      <a:lnTo>
                        <a:pt x="333" y="2201"/>
                      </a:lnTo>
                      <a:lnTo>
                        <a:pt x="341" y="2201"/>
                      </a:lnTo>
                      <a:lnTo>
                        <a:pt x="348" y="2201"/>
                      </a:lnTo>
                      <a:lnTo>
                        <a:pt x="356" y="2201"/>
                      </a:lnTo>
                      <a:lnTo>
                        <a:pt x="363" y="2201"/>
                      </a:lnTo>
                      <a:lnTo>
                        <a:pt x="371" y="2201"/>
                      </a:lnTo>
                      <a:lnTo>
                        <a:pt x="379" y="2201"/>
                      </a:lnTo>
                      <a:lnTo>
                        <a:pt x="386" y="2201"/>
                      </a:lnTo>
                      <a:lnTo>
                        <a:pt x="394" y="2201"/>
                      </a:lnTo>
                      <a:lnTo>
                        <a:pt x="401" y="2199"/>
                      </a:lnTo>
                      <a:lnTo>
                        <a:pt x="409" y="2199"/>
                      </a:lnTo>
                      <a:lnTo>
                        <a:pt x="415" y="2197"/>
                      </a:lnTo>
                      <a:lnTo>
                        <a:pt x="422" y="2196"/>
                      </a:lnTo>
                      <a:lnTo>
                        <a:pt x="432" y="2196"/>
                      </a:lnTo>
                      <a:lnTo>
                        <a:pt x="439" y="2194"/>
                      </a:lnTo>
                      <a:lnTo>
                        <a:pt x="447" y="2192"/>
                      </a:lnTo>
                      <a:lnTo>
                        <a:pt x="455" y="2190"/>
                      </a:lnTo>
                      <a:lnTo>
                        <a:pt x="462" y="2188"/>
                      </a:lnTo>
                      <a:lnTo>
                        <a:pt x="470" y="2188"/>
                      </a:lnTo>
                      <a:lnTo>
                        <a:pt x="476" y="2184"/>
                      </a:lnTo>
                      <a:lnTo>
                        <a:pt x="483" y="2182"/>
                      </a:lnTo>
                      <a:lnTo>
                        <a:pt x="491" y="2180"/>
                      </a:lnTo>
                      <a:lnTo>
                        <a:pt x="498" y="2175"/>
                      </a:lnTo>
                      <a:lnTo>
                        <a:pt x="504" y="2173"/>
                      </a:lnTo>
                      <a:lnTo>
                        <a:pt x="512" y="2169"/>
                      </a:lnTo>
                      <a:lnTo>
                        <a:pt x="517" y="2165"/>
                      </a:lnTo>
                      <a:lnTo>
                        <a:pt x="525" y="2161"/>
                      </a:lnTo>
                      <a:lnTo>
                        <a:pt x="531" y="2158"/>
                      </a:lnTo>
                      <a:lnTo>
                        <a:pt x="536" y="2154"/>
                      </a:lnTo>
                      <a:lnTo>
                        <a:pt x="542" y="2150"/>
                      </a:lnTo>
                      <a:lnTo>
                        <a:pt x="550" y="2146"/>
                      </a:lnTo>
                      <a:lnTo>
                        <a:pt x="555" y="2142"/>
                      </a:lnTo>
                      <a:lnTo>
                        <a:pt x="559" y="2137"/>
                      </a:lnTo>
                      <a:lnTo>
                        <a:pt x="565" y="2133"/>
                      </a:lnTo>
                      <a:lnTo>
                        <a:pt x="571" y="2129"/>
                      </a:lnTo>
                      <a:lnTo>
                        <a:pt x="576" y="2123"/>
                      </a:lnTo>
                      <a:lnTo>
                        <a:pt x="582" y="2120"/>
                      </a:lnTo>
                      <a:lnTo>
                        <a:pt x="588" y="2114"/>
                      </a:lnTo>
                      <a:lnTo>
                        <a:pt x="592" y="2110"/>
                      </a:lnTo>
                      <a:lnTo>
                        <a:pt x="595" y="2106"/>
                      </a:lnTo>
                      <a:lnTo>
                        <a:pt x="601" y="2101"/>
                      </a:lnTo>
                      <a:lnTo>
                        <a:pt x="605" y="2095"/>
                      </a:lnTo>
                      <a:lnTo>
                        <a:pt x="611" y="2091"/>
                      </a:lnTo>
                      <a:lnTo>
                        <a:pt x="614" y="2085"/>
                      </a:lnTo>
                      <a:lnTo>
                        <a:pt x="618" y="2080"/>
                      </a:lnTo>
                      <a:lnTo>
                        <a:pt x="624" y="2076"/>
                      </a:lnTo>
                      <a:lnTo>
                        <a:pt x="628" y="2070"/>
                      </a:lnTo>
                      <a:lnTo>
                        <a:pt x="632" y="2064"/>
                      </a:lnTo>
                      <a:lnTo>
                        <a:pt x="635" y="2059"/>
                      </a:lnTo>
                      <a:lnTo>
                        <a:pt x="637" y="2055"/>
                      </a:lnTo>
                      <a:lnTo>
                        <a:pt x="643" y="2049"/>
                      </a:lnTo>
                      <a:lnTo>
                        <a:pt x="645" y="2043"/>
                      </a:lnTo>
                      <a:lnTo>
                        <a:pt x="649" y="2040"/>
                      </a:lnTo>
                      <a:lnTo>
                        <a:pt x="652" y="2034"/>
                      </a:lnTo>
                      <a:lnTo>
                        <a:pt x="654" y="2030"/>
                      </a:lnTo>
                      <a:lnTo>
                        <a:pt x="658" y="2024"/>
                      </a:lnTo>
                      <a:lnTo>
                        <a:pt x="660" y="2021"/>
                      </a:lnTo>
                      <a:lnTo>
                        <a:pt x="664" y="2015"/>
                      </a:lnTo>
                      <a:lnTo>
                        <a:pt x="666" y="2011"/>
                      </a:lnTo>
                      <a:lnTo>
                        <a:pt x="668" y="2005"/>
                      </a:lnTo>
                      <a:lnTo>
                        <a:pt x="672" y="2002"/>
                      </a:lnTo>
                      <a:lnTo>
                        <a:pt x="673" y="1998"/>
                      </a:lnTo>
                      <a:lnTo>
                        <a:pt x="675" y="1992"/>
                      </a:lnTo>
                      <a:lnTo>
                        <a:pt x="677" y="1986"/>
                      </a:lnTo>
                      <a:lnTo>
                        <a:pt x="679" y="1983"/>
                      </a:lnTo>
                      <a:lnTo>
                        <a:pt x="681" y="1979"/>
                      </a:lnTo>
                      <a:lnTo>
                        <a:pt x="683" y="1975"/>
                      </a:lnTo>
                      <a:lnTo>
                        <a:pt x="685" y="1971"/>
                      </a:lnTo>
                      <a:lnTo>
                        <a:pt x="687" y="1969"/>
                      </a:lnTo>
                      <a:lnTo>
                        <a:pt x="689" y="1964"/>
                      </a:lnTo>
                      <a:lnTo>
                        <a:pt x="691" y="1962"/>
                      </a:lnTo>
                      <a:lnTo>
                        <a:pt x="692" y="1958"/>
                      </a:lnTo>
                      <a:lnTo>
                        <a:pt x="692" y="1954"/>
                      </a:lnTo>
                      <a:lnTo>
                        <a:pt x="692" y="1952"/>
                      </a:lnTo>
                      <a:lnTo>
                        <a:pt x="694" y="1950"/>
                      </a:lnTo>
                      <a:lnTo>
                        <a:pt x="696" y="1945"/>
                      </a:lnTo>
                      <a:lnTo>
                        <a:pt x="698" y="1941"/>
                      </a:lnTo>
                      <a:lnTo>
                        <a:pt x="700" y="1937"/>
                      </a:lnTo>
                      <a:lnTo>
                        <a:pt x="700" y="1935"/>
                      </a:lnTo>
                      <a:lnTo>
                        <a:pt x="700" y="1933"/>
                      </a:lnTo>
                      <a:lnTo>
                        <a:pt x="702" y="1933"/>
                      </a:lnTo>
                      <a:lnTo>
                        <a:pt x="740" y="1943"/>
                      </a:lnTo>
                      <a:lnTo>
                        <a:pt x="740" y="1943"/>
                      </a:lnTo>
                      <a:lnTo>
                        <a:pt x="738" y="1945"/>
                      </a:lnTo>
                      <a:lnTo>
                        <a:pt x="738" y="1947"/>
                      </a:lnTo>
                      <a:lnTo>
                        <a:pt x="738" y="1950"/>
                      </a:lnTo>
                      <a:lnTo>
                        <a:pt x="738" y="1954"/>
                      </a:lnTo>
                      <a:lnTo>
                        <a:pt x="738" y="1958"/>
                      </a:lnTo>
                      <a:lnTo>
                        <a:pt x="736" y="1962"/>
                      </a:lnTo>
                      <a:lnTo>
                        <a:pt x="736" y="1964"/>
                      </a:lnTo>
                      <a:lnTo>
                        <a:pt x="736" y="1967"/>
                      </a:lnTo>
                      <a:lnTo>
                        <a:pt x="736" y="1971"/>
                      </a:lnTo>
                      <a:lnTo>
                        <a:pt x="736" y="1975"/>
                      </a:lnTo>
                      <a:lnTo>
                        <a:pt x="736" y="1979"/>
                      </a:lnTo>
                      <a:lnTo>
                        <a:pt x="736" y="1983"/>
                      </a:lnTo>
                      <a:lnTo>
                        <a:pt x="736" y="1985"/>
                      </a:lnTo>
                      <a:lnTo>
                        <a:pt x="736" y="1990"/>
                      </a:lnTo>
                      <a:lnTo>
                        <a:pt x="736" y="1994"/>
                      </a:lnTo>
                      <a:lnTo>
                        <a:pt x="736" y="1998"/>
                      </a:lnTo>
                      <a:lnTo>
                        <a:pt x="736" y="2004"/>
                      </a:lnTo>
                      <a:lnTo>
                        <a:pt x="736" y="2007"/>
                      </a:lnTo>
                      <a:lnTo>
                        <a:pt x="736" y="2013"/>
                      </a:lnTo>
                      <a:lnTo>
                        <a:pt x="736" y="2015"/>
                      </a:lnTo>
                      <a:lnTo>
                        <a:pt x="736" y="2021"/>
                      </a:lnTo>
                      <a:lnTo>
                        <a:pt x="736" y="2026"/>
                      </a:lnTo>
                      <a:lnTo>
                        <a:pt x="736" y="2030"/>
                      </a:lnTo>
                      <a:lnTo>
                        <a:pt x="736" y="2036"/>
                      </a:lnTo>
                      <a:lnTo>
                        <a:pt x="736" y="2042"/>
                      </a:lnTo>
                      <a:lnTo>
                        <a:pt x="736" y="2047"/>
                      </a:lnTo>
                      <a:lnTo>
                        <a:pt x="738" y="2051"/>
                      </a:lnTo>
                      <a:lnTo>
                        <a:pt x="738" y="2057"/>
                      </a:lnTo>
                      <a:lnTo>
                        <a:pt x="738" y="2062"/>
                      </a:lnTo>
                      <a:lnTo>
                        <a:pt x="740" y="2066"/>
                      </a:lnTo>
                      <a:lnTo>
                        <a:pt x="740" y="2072"/>
                      </a:lnTo>
                      <a:lnTo>
                        <a:pt x="742" y="2078"/>
                      </a:lnTo>
                      <a:lnTo>
                        <a:pt x="744" y="2083"/>
                      </a:lnTo>
                      <a:lnTo>
                        <a:pt x="744" y="2091"/>
                      </a:lnTo>
                      <a:lnTo>
                        <a:pt x="746" y="2095"/>
                      </a:lnTo>
                      <a:lnTo>
                        <a:pt x="748" y="2101"/>
                      </a:lnTo>
                      <a:lnTo>
                        <a:pt x="748" y="2106"/>
                      </a:lnTo>
                      <a:lnTo>
                        <a:pt x="751" y="2110"/>
                      </a:lnTo>
                      <a:lnTo>
                        <a:pt x="753" y="2118"/>
                      </a:lnTo>
                      <a:lnTo>
                        <a:pt x="753" y="2123"/>
                      </a:lnTo>
                      <a:lnTo>
                        <a:pt x="757" y="2129"/>
                      </a:lnTo>
                      <a:lnTo>
                        <a:pt x="759" y="2135"/>
                      </a:lnTo>
                      <a:lnTo>
                        <a:pt x="761" y="2139"/>
                      </a:lnTo>
                      <a:lnTo>
                        <a:pt x="765" y="2144"/>
                      </a:lnTo>
                      <a:lnTo>
                        <a:pt x="767" y="2150"/>
                      </a:lnTo>
                      <a:lnTo>
                        <a:pt x="769" y="2156"/>
                      </a:lnTo>
                      <a:lnTo>
                        <a:pt x="772" y="2159"/>
                      </a:lnTo>
                      <a:lnTo>
                        <a:pt x="776" y="2165"/>
                      </a:lnTo>
                      <a:lnTo>
                        <a:pt x="780" y="2171"/>
                      </a:lnTo>
                      <a:lnTo>
                        <a:pt x="782" y="2175"/>
                      </a:lnTo>
                      <a:lnTo>
                        <a:pt x="786" y="2180"/>
                      </a:lnTo>
                      <a:lnTo>
                        <a:pt x="789" y="2186"/>
                      </a:lnTo>
                      <a:lnTo>
                        <a:pt x="795" y="2190"/>
                      </a:lnTo>
                      <a:lnTo>
                        <a:pt x="799" y="2196"/>
                      </a:lnTo>
                      <a:lnTo>
                        <a:pt x="805" y="2201"/>
                      </a:lnTo>
                      <a:lnTo>
                        <a:pt x="808" y="2205"/>
                      </a:lnTo>
                      <a:lnTo>
                        <a:pt x="814" y="2209"/>
                      </a:lnTo>
                      <a:lnTo>
                        <a:pt x="818" y="2213"/>
                      </a:lnTo>
                      <a:lnTo>
                        <a:pt x="824" y="2216"/>
                      </a:lnTo>
                      <a:lnTo>
                        <a:pt x="828" y="2222"/>
                      </a:lnTo>
                      <a:lnTo>
                        <a:pt x="833" y="2224"/>
                      </a:lnTo>
                      <a:lnTo>
                        <a:pt x="839" y="2228"/>
                      </a:lnTo>
                      <a:lnTo>
                        <a:pt x="845" y="2232"/>
                      </a:lnTo>
                      <a:lnTo>
                        <a:pt x="848" y="2235"/>
                      </a:lnTo>
                      <a:lnTo>
                        <a:pt x="854" y="2239"/>
                      </a:lnTo>
                      <a:lnTo>
                        <a:pt x="858" y="2243"/>
                      </a:lnTo>
                      <a:lnTo>
                        <a:pt x="864" y="2245"/>
                      </a:lnTo>
                      <a:lnTo>
                        <a:pt x="867" y="2249"/>
                      </a:lnTo>
                      <a:lnTo>
                        <a:pt x="873" y="2253"/>
                      </a:lnTo>
                      <a:lnTo>
                        <a:pt x="877" y="2256"/>
                      </a:lnTo>
                      <a:lnTo>
                        <a:pt x="883" y="2258"/>
                      </a:lnTo>
                      <a:lnTo>
                        <a:pt x="890" y="2260"/>
                      </a:lnTo>
                      <a:lnTo>
                        <a:pt x="896" y="2264"/>
                      </a:lnTo>
                      <a:lnTo>
                        <a:pt x="900" y="2266"/>
                      </a:lnTo>
                      <a:lnTo>
                        <a:pt x="904" y="2268"/>
                      </a:lnTo>
                      <a:lnTo>
                        <a:pt x="907" y="2270"/>
                      </a:lnTo>
                      <a:lnTo>
                        <a:pt x="913" y="2273"/>
                      </a:lnTo>
                      <a:lnTo>
                        <a:pt x="919" y="2275"/>
                      </a:lnTo>
                      <a:lnTo>
                        <a:pt x="925" y="2277"/>
                      </a:lnTo>
                      <a:lnTo>
                        <a:pt x="928" y="2279"/>
                      </a:lnTo>
                      <a:lnTo>
                        <a:pt x="934" y="2281"/>
                      </a:lnTo>
                      <a:lnTo>
                        <a:pt x="938" y="2283"/>
                      </a:lnTo>
                      <a:lnTo>
                        <a:pt x="942" y="2285"/>
                      </a:lnTo>
                      <a:lnTo>
                        <a:pt x="947" y="2287"/>
                      </a:lnTo>
                      <a:lnTo>
                        <a:pt x="951" y="2289"/>
                      </a:lnTo>
                      <a:lnTo>
                        <a:pt x="955" y="2289"/>
                      </a:lnTo>
                      <a:lnTo>
                        <a:pt x="961" y="2291"/>
                      </a:lnTo>
                      <a:lnTo>
                        <a:pt x="964" y="2291"/>
                      </a:lnTo>
                      <a:lnTo>
                        <a:pt x="968" y="2294"/>
                      </a:lnTo>
                      <a:lnTo>
                        <a:pt x="972" y="2294"/>
                      </a:lnTo>
                      <a:lnTo>
                        <a:pt x="978" y="2294"/>
                      </a:lnTo>
                      <a:lnTo>
                        <a:pt x="982" y="2296"/>
                      </a:lnTo>
                      <a:lnTo>
                        <a:pt x="985" y="2296"/>
                      </a:lnTo>
                      <a:lnTo>
                        <a:pt x="989" y="2296"/>
                      </a:lnTo>
                      <a:lnTo>
                        <a:pt x="993" y="2298"/>
                      </a:lnTo>
                      <a:lnTo>
                        <a:pt x="997" y="2298"/>
                      </a:lnTo>
                      <a:lnTo>
                        <a:pt x="1001" y="2298"/>
                      </a:lnTo>
                      <a:lnTo>
                        <a:pt x="1004" y="2298"/>
                      </a:lnTo>
                      <a:lnTo>
                        <a:pt x="1008" y="2300"/>
                      </a:lnTo>
                      <a:lnTo>
                        <a:pt x="1010" y="2300"/>
                      </a:lnTo>
                      <a:lnTo>
                        <a:pt x="1014" y="2300"/>
                      </a:lnTo>
                      <a:lnTo>
                        <a:pt x="1016" y="2300"/>
                      </a:lnTo>
                      <a:lnTo>
                        <a:pt x="1020" y="2300"/>
                      </a:lnTo>
                      <a:lnTo>
                        <a:pt x="1022" y="2300"/>
                      </a:lnTo>
                      <a:lnTo>
                        <a:pt x="1025" y="2302"/>
                      </a:lnTo>
                      <a:lnTo>
                        <a:pt x="1029" y="2300"/>
                      </a:lnTo>
                      <a:lnTo>
                        <a:pt x="1035" y="2300"/>
                      </a:lnTo>
                      <a:lnTo>
                        <a:pt x="1039" y="2298"/>
                      </a:lnTo>
                      <a:lnTo>
                        <a:pt x="1042" y="2298"/>
                      </a:lnTo>
                      <a:lnTo>
                        <a:pt x="1044" y="2296"/>
                      </a:lnTo>
                      <a:lnTo>
                        <a:pt x="1048" y="2296"/>
                      </a:lnTo>
                      <a:lnTo>
                        <a:pt x="1048" y="2294"/>
                      </a:lnTo>
                      <a:lnTo>
                        <a:pt x="1050" y="2294"/>
                      </a:lnTo>
                      <a:lnTo>
                        <a:pt x="1246" y="1334"/>
                      </a:lnTo>
                      <a:lnTo>
                        <a:pt x="1246" y="1333"/>
                      </a:lnTo>
                      <a:lnTo>
                        <a:pt x="1248" y="1331"/>
                      </a:lnTo>
                      <a:lnTo>
                        <a:pt x="1250" y="1327"/>
                      </a:lnTo>
                      <a:lnTo>
                        <a:pt x="1252" y="1325"/>
                      </a:lnTo>
                      <a:lnTo>
                        <a:pt x="1252" y="1323"/>
                      </a:lnTo>
                      <a:lnTo>
                        <a:pt x="1254" y="1319"/>
                      </a:lnTo>
                      <a:lnTo>
                        <a:pt x="1256" y="1315"/>
                      </a:lnTo>
                      <a:lnTo>
                        <a:pt x="1259" y="1312"/>
                      </a:lnTo>
                      <a:lnTo>
                        <a:pt x="1259" y="1306"/>
                      </a:lnTo>
                      <a:lnTo>
                        <a:pt x="1263" y="1302"/>
                      </a:lnTo>
                      <a:lnTo>
                        <a:pt x="1265" y="1296"/>
                      </a:lnTo>
                      <a:lnTo>
                        <a:pt x="1269" y="1293"/>
                      </a:lnTo>
                      <a:lnTo>
                        <a:pt x="1271" y="1285"/>
                      </a:lnTo>
                      <a:lnTo>
                        <a:pt x="1275" y="1281"/>
                      </a:lnTo>
                      <a:lnTo>
                        <a:pt x="1276" y="1274"/>
                      </a:lnTo>
                      <a:lnTo>
                        <a:pt x="1280" y="1266"/>
                      </a:lnTo>
                      <a:lnTo>
                        <a:pt x="1284" y="1258"/>
                      </a:lnTo>
                      <a:lnTo>
                        <a:pt x="1288" y="1249"/>
                      </a:lnTo>
                      <a:lnTo>
                        <a:pt x="1290" y="1241"/>
                      </a:lnTo>
                      <a:lnTo>
                        <a:pt x="1294" y="1234"/>
                      </a:lnTo>
                      <a:lnTo>
                        <a:pt x="1297" y="1224"/>
                      </a:lnTo>
                      <a:lnTo>
                        <a:pt x="1301" y="1217"/>
                      </a:lnTo>
                      <a:lnTo>
                        <a:pt x="1305" y="1207"/>
                      </a:lnTo>
                      <a:lnTo>
                        <a:pt x="1309" y="1198"/>
                      </a:lnTo>
                      <a:lnTo>
                        <a:pt x="1313" y="1188"/>
                      </a:lnTo>
                      <a:lnTo>
                        <a:pt x="1316" y="1177"/>
                      </a:lnTo>
                      <a:lnTo>
                        <a:pt x="1320" y="1165"/>
                      </a:lnTo>
                      <a:lnTo>
                        <a:pt x="1324" y="1154"/>
                      </a:lnTo>
                      <a:lnTo>
                        <a:pt x="1330" y="1144"/>
                      </a:lnTo>
                      <a:lnTo>
                        <a:pt x="1334" y="1133"/>
                      </a:lnTo>
                      <a:lnTo>
                        <a:pt x="1337" y="1122"/>
                      </a:lnTo>
                      <a:lnTo>
                        <a:pt x="1339" y="1108"/>
                      </a:lnTo>
                      <a:lnTo>
                        <a:pt x="1345" y="1097"/>
                      </a:lnTo>
                      <a:lnTo>
                        <a:pt x="1349" y="1084"/>
                      </a:lnTo>
                      <a:lnTo>
                        <a:pt x="1353" y="1070"/>
                      </a:lnTo>
                      <a:lnTo>
                        <a:pt x="1354" y="1059"/>
                      </a:lnTo>
                      <a:lnTo>
                        <a:pt x="1358" y="1044"/>
                      </a:lnTo>
                      <a:lnTo>
                        <a:pt x="1362" y="1032"/>
                      </a:lnTo>
                      <a:lnTo>
                        <a:pt x="1366" y="1017"/>
                      </a:lnTo>
                      <a:lnTo>
                        <a:pt x="1370" y="1004"/>
                      </a:lnTo>
                      <a:lnTo>
                        <a:pt x="1372" y="988"/>
                      </a:lnTo>
                      <a:lnTo>
                        <a:pt x="1375" y="975"/>
                      </a:lnTo>
                      <a:lnTo>
                        <a:pt x="1377" y="960"/>
                      </a:lnTo>
                      <a:lnTo>
                        <a:pt x="1381" y="947"/>
                      </a:lnTo>
                      <a:lnTo>
                        <a:pt x="1383" y="931"/>
                      </a:lnTo>
                      <a:lnTo>
                        <a:pt x="1387" y="916"/>
                      </a:lnTo>
                      <a:lnTo>
                        <a:pt x="1389" y="901"/>
                      </a:lnTo>
                      <a:lnTo>
                        <a:pt x="1391" y="886"/>
                      </a:lnTo>
                      <a:lnTo>
                        <a:pt x="1392" y="871"/>
                      </a:lnTo>
                      <a:lnTo>
                        <a:pt x="1394" y="855"/>
                      </a:lnTo>
                      <a:lnTo>
                        <a:pt x="1396" y="838"/>
                      </a:lnTo>
                      <a:lnTo>
                        <a:pt x="1398" y="823"/>
                      </a:lnTo>
                      <a:lnTo>
                        <a:pt x="1398" y="806"/>
                      </a:lnTo>
                      <a:lnTo>
                        <a:pt x="1400" y="791"/>
                      </a:lnTo>
                      <a:lnTo>
                        <a:pt x="1402" y="774"/>
                      </a:lnTo>
                      <a:lnTo>
                        <a:pt x="1402" y="757"/>
                      </a:lnTo>
                      <a:lnTo>
                        <a:pt x="1402" y="741"/>
                      </a:lnTo>
                      <a:lnTo>
                        <a:pt x="1402" y="724"/>
                      </a:lnTo>
                      <a:lnTo>
                        <a:pt x="1402" y="705"/>
                      </a:lnTo>
                      <a:lnTo>
                        <a:pt x="1402" y="690"/>
                      </a:lnTo>
                      <a:lnTo>
                        <a:pt x="1400" y="673"/>
                      </a:lnTo>
                      <a:lnTo>
                        <a:pt x="1400" y="656"/>
                      </a:lnTo>
                      <a:lnTo>
                        <a:pt x="1398" y="654"/>
                      </a:lnTo>
                      <a:lnTo>
                        <a:pt x="1398" y="652"/>
                      </a:lnTo>
                      <a:lnTo>
                        <a:pt x="1398" y="648"/>
                      </a:lnTo>
                      <a:lnTo>
                        <a:pt x="1398" y="644"/>
                      </a:lnTo>
                      <a:lnTo>
                        <a:pt x="1398" y="643"/>
                      </a:lnTo>
                      <a:lnTo>
                        <a:pt x="1398" y="639"/>
                      </a:lnTo>
                      <a:lnTo>
                        <a:pt x="1396" y="637"/>
                      </a:lnTo>
                      <a:lnTo>
                        <a:pt x="1396" y="633"/>
                      </a:lnTo>
                      <a:lnTo>
                        <a:pt x="1396" y="631"/>
                      </a:lnTo>
                      <a:lnTo>
                        <a:pt x="1396" y="627"/>
                      </a:lnTo>
                      <a:lnTo>
                        <a:pt x="1396" y="623"/>
                      </a:lnTo>
                      <a:lnTo>
                        <a:pt x="1394" y="620"/>
                      </a:lnTo>
                      <a:lnTo>
                        <a:pt x="1394" y="618"/>
                      </a:lnTo>
                      <a:lnTo>
                        <a:pt x="1394" y="616"/>
                      </a:lnTo>
                      <a:lnTo>
                        <a:pt x="1392" y="612"/>
                      </a:lnTo>
                      <a:lnTo>
                        <a:pt x="1392" y="610"/>
                      </a:lnTo>
                      <a:lnTo>
                        <a:pt x="1392" y="608"/>
                      </a:lnTo>
                      <a:lnTo>
                        <a:pt x="1391" y="604"/>
                      </a:lnTo>
                      <a:lnTo>
                        <a:pt x="1391" y="603"/>
                      </a:lnTo>
                      <a:lnTo>
                        <a:pt x="1391" y="599"/>
                      </a:lnTo>
                      <a:lnTo>
                        <a:pt x="1389" y="597"/>
                      </a:lnTo>
                      <a:lnTo>
                        <a:pt x="1389" y="593"/>
                      </a:lnTo>
                      <a:lnTo>
                        <a:pt x="1389" y="589"/>
                      </a:lnTo>
                      <a:lnTo>
                        <a:pt x="1389" y="587"/>
                      </a:lnTo>
                      <a:lnTo>
                        <a:pt x="1387" y="585"/>
                      </a:lnTo>
                      <a:lnTo>
                        <a:pt x="1385" y="582"/>
                      </a:lnTo>
                      <a:lnTo>
                        <a:pt x="1385" y="580"/>
                      </a:lnTo>
                      <a:lnTo>
                        <a:pt x="1383" y="578"/>
                      </a:lnTo>
                      <a:lnTo>
                        <a:pt x="1383" y="572"/>
                      </a:lnTo>
                      <a:lnTo>
                        <a:pt x="1381" y="568"/>
                      </a:lnTo>
                      <a:lnTo>
                        <a:pt x="1377" y="563"/>
                      </a:lnTo>
                      <a:lnTo>
                        <a:pt x="1375" y="557"/>
                      </a:lnTo>
                      <a:lnTo>
                        <a:pt x="1373" y="553"/>
                      </a:lnTo>
                      <a:lnTo>
                        <a:pt x="1370" y="547"/>
                      </a:lnTo>
                      <a:lnTo>
                        <a:pt x="1366" y="544"/>
                      </a:lnTo>
                      <a:lnTo>
                        <a:pt x="1364" y="540"/>
                      </a:lnTo>
                      <a:lnTo>
                        <a:pt x="1360" y="536"/>
                      </a:lnTo>
                      <a:lnTo>
                        <a:pt x="1356" y="532"/>
                      </a:lnTo>
                      <a:lnTo>
                        <a:pt x="1353" y="528"/>
                      </a:lnTo>
                      <a:lnTo>
                        <a:pt x="1349" y="525"/>
                      </a:lnTo>
                      <a:lnTo>
                        <a:pt x="1345" y="523"/>
                      </a:lnTo>
                      <a:lnTo>
                        <a:pt x="1339" y="521"/>
                      </a:lnTo>
                      <a:lnTo>
                        <a:pt x="1335" y="517"/>
                      </a:lnTo>
                      <a:lnTo>
                        <a:pt x="1332" y="515"/>
                      </a:lnTo>
                      <a:lnTo>
                        <a:pt x="1326" y="515"/>
                      </a:lnTo>
                      <a:lnTo>
                        <a:pt x="1322" y="513"/>
                      </a:lnTo>
                      <a:lnTo>
                        <a:pt x="1318" y="511"/>
                      </a:lnTo>
                      <a:lnTo>
                        <a:pt x="1316" y="511"/>
                      </a:lnTo>
                      <a:lnTo>
                        <a:pt x="1313" y="511"/>
                      </a:lnTo>
                      <a:lnTo>
                        <a:pt x="1311" y="511"/>
                      </a:lnTo>
                      <a:lnTo>
                        <a:pt x="1309" y="509"/>
                      </a:lnTo>
                      <a:lnTo>
                        <a:pt x="1305" y="509"/>
                      </a:lnTo>
                      <a:lnTo>
                        <a:pt x="1303" y="509"/>
                      </a:lnTo>
                      <a:lnTo>
                        <a:pt x="1301" y="509"/>
                      </a:lnTo>
                      <a:lnTo>
                        <a:pt x="1297" y="509"/>
                      </a:lnTo>
                      <a:lnTo>
                        <a:pt x="1295" y="509"/>
                      </a:lnTo>
                      <a:lnTo>
                        <a:pt x="1292" y="509"/>
                      </a:lnTo>
                      <a:lnTo>
                        <a:pt x="1290" y="509"/>
                      </a:lnTo>
                      <a:lnTo>
                        <a:pt x="1284" y="509"/>
                      </a:lnTo>
                      <a:lnTo>
                        <a:pt x="1280" y="509"/>
                      </a:lnTo>
                      <a:lnTo>
                        <a:pt x="1275" y="509"/>
                      </a:lnTo>
                      <a:lnTo>
                        <a:pt x="1269" y="509"/>
                      </a:lnTo>
                      <a:lnTo>
                        <a:pt x="1265" y="509"/>
                      </a:lnTo>
                      <a:lnTo>
                        <a:pt x="1259" y="509"/>
                      </a:lnTo>
                      <a:lnTo>
                        <a:pt x="1256" y="511"/>
                      </a:lnTo>
                      <a:lnTo>
                        <a:pt x="1252" y="511"/>
                      </a:lnTo>
                      <a:lnTo>
                        <a:pt x="1246" y="515"/>
                      </a:lnTo>
                      <a:lnTo>
                        <a:pt x="1242" y="515"/>
                      </a:lnTo>
                      <a:lnTo>
                        <a:pt x="1238" y="517"/>
                      </a:lnTo>
                      <a:lnTo>
                        <a:pt x="1235" y="521"/>
                      </a:lnTo>
                      <a:lnTo>
                        <a:pt x="1231" y="523"/>
                      </a:lnTo>
                      <a:lnTo>
                        <a:pt x="1229" y="525"/>
                      </a:lnTo>
                      <a:lnTo>
                        <a:pt x="1225" y="527"/>
                      </a:lnTo>
                      <a:lnTo>
                        <a:pt x="1221" y="530"/>
                      </a:lnTo>
                      <a:lnTo>
                        <a:pt x="1219" y="532"/>
                      </a:lnTo>
                      <a:lnTo>
                        <a:pt x="1216" y="538"/>
                      </a:lnTo>
                      <a:lnTo>
                        <a:pt x="1214" y="542"/>
                      </a:lnTo>
                      <a:lnTo>
                        <a:pt x="1212" y="546"/>
                      </a:lnTo>
                      <a:lnTo>
                        <a:pt x="1210" y="549"/>
                      </a:lnTo>
                      <a:lnTo>
                        <a:pt x="1208" y="555"/>
                      </a:lnTo>
                      <a:lnTo>
                        <a:pt x="1208" y="557"/>
                      </a:lnTo>
                      <a:lnTo>
                        <a:pt x="1206" y="559"/>
                      </a:lnTo>
                      <a:lnTo>
                        <a:pt x="1204" y="561"/>
                      </a:lnTo>
                      <a:lnTo>
                        <a:pt x="1204" y="565"/>
                      </a:lnTo>
                      <a:lnTo>
                        <a:pt x="1204" y="566"/>
                      </a:lnTo>
                      <a:lnTo>
                        <a:pt x="1204" y="570"/>
                      </a:lnTo>
                      <a:lnTo>
                        <a:pt x="1204" y="572"/>
                      </a:lnTo>
                      <a:lnTo>
                        <a:pt x="1204" y="576"/>
                      </a:lnTo>
                      <a:lnTo>
                        <a:pt x="1139" y="895"/>
                      </a:lnTo>
                      <a:lnTo>
                        <a:pt x="1136" y="893"/>
                      </a:lnTo>
                      <a:lnTo>
                        <a:pt x="1132" y="892"/>
                      </a:lnTo>
                      <a:lnTo>
                        <a:pt x="1126" y="888"/>
                      </a:lnTo>
                      <a:lnTo>
                        <a:pt x="1122" y="886"/>
                      </a:lnTo>
                      <a:lnTo>
                        <a:pt x="1117" y="884"/>
                      </a:lnTo>
                      <a:lnTo>
                        <a:pt x="1113" y="880"/>
                      </a:lnTo>
                      <a:lnTo>
                        <a:pt x="1107" y="878"/>
                      </a:lnTo>
                      <a:lnTo>
                        <a:pt x="1105" y="876"/>
                      </a:lnTo>
                      <a:lnTo>
                        <a:pt x="1227" y="316"/>
                      </a:lnTo>
                      <a:lnTo>
                        <a:pt x="1227" y="312"/>
                      </a:lnTo>
                      <a:lnTo>
                        <a:pt x="1227" y="308"/>
                      </a:lnTo>
                      <a:lnTo>
                        <a:pt x="1229" y="306"/>
                      </a:lnTo>
                      <a:lnTo>
                        <a:pt x="1229" y="304"/>
                      </a:lnTo>
                      <a:lnTo>
                        <a:pt x="1229" y="300"/>
                      </a:lnTo>
                      <a:lnTo>
                        <a:pt x="1229" y="298"/>
                      </a:lnTo>
                      <a:lnTo>
                        <a:pt x="1229" y="295"/>
                      </a:lnTo>
                      <a:lnTo>
                        <a:pt x="1229" y="293"/>
                      </a:lnTo>
                      <a:lnTo>
                        <a:pt x="1229" y="291"/>
                      </a:lnTo>
                      <a:lnTo>
                        <a:pt x="1229" y="287"/>
                      </a:lnTo>
                      <a:lnTo>
                        <a:pt x="1229" y="285"/>
                      </a:lnTo>
                      <a:lnTo>
                        <a:pt x="1229" y="283"/>
                      </a:lnTo>
                      <a:lnTo>
                        <a:pt x="1229" y="278"/>
                      </a:lnTo>
                      <a:lnTo>
                        <a:pt x="1227" y="272"/>
                      </a:lnTo>
                      <a:lnTo>
                        <a:pt x="1225" y="268"/>
                      </a:lnTo>
                      <a:lnTo>
                        <a:pt x="1225" y="262"/>
                      </a:lnTo>
                      <a:lnTo>
                        <a:pt x="1223" y="257"/>
                      </a:lnTo>
                      <a:lnTo>
                        <a:pt x="1221" y="253"/>
                      </a:lnTo>
                      <a:lnTo>
                        <a:pt x="1219" y="247"/>
                      </a:lnTo>
                      <a:lnTo>
                        <a:pt x="1217" y="243"/>
                      </a:lnTo>
                      <a:lnTo>
                        <a:pt x="1216" y="240"/>
                      </a:lnTo>
                      <a:lnTo>
                        <a:pt x="1214" y="236"/>
                      </a:lnTo>
                      <a:lnTo>
                        <a:pt x="1210" y="232"/>
                      </a:lnTo>
                      <a:lnTo>
                        <a:pt x="1206" y="226"/>
                      </a:lnTo>
                      <a:lnTo>
                        <a:pt x="1202" y="222"/>
                      </a:lnTo>
                      <a:lnTo>
                        <a:pt x="1200" y="219"/>
                      </a:lnTo>
                      <a:lnTo>
                        <a:pt x="1197" y="215"/>
                      </a:lnTo>
                      <a:lnTo>
                        <a:pt x="1193" y="211"/>
                      </a:lnTo>
                      <a:lnTo>
                        <a:pt x="1189" y="207"/>
                      </a:lnTo>
                      <a:lnTo>
                        <a:pt x="1185" y="205"/>
                      </a:lnTo>
                      <a:lnTo>
                        <a:pt x="1179" y="203"/>
                      </a:lnTo>
                      <a:lnTo>
                        <a:pt x="1176" y="200"/>
                      </a:lnTo>
                      <a:lnTo>
                        <a:pt x="1172" y="198"/>
                      </a:lnTo>
                      <a:lnTo>
                        <a:pt x="1166" y="194"/>
                      </a:lnTo>
                      <a:lnTo>
                        <a:pt x="1160" y="192"/>
                      </a:lnTo>
                      <a:lnTo>
                        <a:pt x="1157" y="192"/>
                      </a:lnTo>
                      <a:lnTo>
                        <a:pt x="1151" y="190"/>
                      </a:lnTo>
                      <a:lnTo>
                        <a:pt x="1147" y="190"/>
                      </a:lnTo>
                      <a:lnTo>
                        <a:pt x="1143" y="188"/>
                      </a:lnTo>
                      <a:lnTo>
                        <a:pt x="1141" y="186"/>
                      </a:lnTo>
                      <a:lnTo>
                        <a:pt x="1138" y="186"/>
                      </a:lnTo>
                      <a:lnTo>
                        <a:pt x="1136" y="186"/>
                      </a:lnTo>
                      <a:lnTo>
                        <a:pt x="1134" y="186"/>
                      </a:lnTo>
                      <a:lnTo>
                        <a:pt x="1130" y="186"/>
                      </a:lnTo>
                      <a:lnTo>
                        <a:pt x="1128" y="186"/>
                      </a:lnTo>
                      <a:lnTo>
                        <a:pt x="1124" y="186"/>
                      </a:lnTo>
                      <a:lnTo>
                        <a:pt x="1122" y="186"/>
                      </a:lnTo>
                      <a:lnTo>
                        <a:pt x="1120" y="186"/>
                      </a:lnTo>
                      <a:lnTo>
                        <a:pt x="1117" y="186"/>
                      </a:lnTo>
                      <a:lnTo>
                        <a:pt x="1115" y="186"/>
                      </a:lnTo>
                      <a:lnTo>
                        <a:pt x="1109" y="186"/>
                      </a:lnTo>
                      <a:lnTo>
                        <a:pt x="1105" y="188"/>
                      </a:lnTo>
                      <a:lnTo>
                        <a:pt x="1100" y="188"/>
                      </a:lnTo>
                      <a:lnTo>
                        <a:pt x="1094" y="190"/>
                      </a:lnTo>
                      <a:lnTo>
                        <a:pt x="1090" y="192"/>
                      </a:lnTo>
                      <a:lnTo>
                        <a:pt x="1086" y="192"/>
                      </a:lnTo>
                      <a:lnTo>
                        <a:pt x="1081" y="194"/>
                      </a:lnTo>
                      <a:lnTo>
                        <a:pt x="1077" y="198"/>
                      </a:lnTo>
                      <a:lnTo>
                        <a:pt x="1073" y="200"/>
                      </a:lnTo>
                      <a:lnTo>
                        <a:pt x="1067" y="203"/>
                      </a:lnTo>
                      <a:lnTo>
                        <a:pt x="1063" y="205"/>
                      </a:lnTo>
                      <a:lnTo>
                        <a:pt x="1058" y="207"/>
                      </a:lnTo>
                      <a:lnTo>
                        <a:pt x="1054" y="211"/>
                      </a:lnTo>
                      <a:lnTo>
                        <a:pt x="1050" y="215"/>
                      </a:lnTo>
                      <a:lnTo>
                        <a:pt x="1048" y="219"/>
                      </a:lnTo>
                      <a:lnTo>
                        <a:pt x="1044" y="222"/>
                      </a:lnTo>
                      <a:lnTo>
                        <a:pt x="1041" y="226"/>
                      </a:lnTo>
                      <a:lnTo>
                        <a:pt x="1039" y="232"/>
                      </a:lnTo>
                      <a:lnTo>
                        <a:pt x="1035" y="234"/>
                      </a:lnTo>
                      <a:lnTo>
                        <a:pt x="1033" y="240"/>
                      </a:lnTo>
                      <a:lnTo>
                        <a:pt x="1029" y="243"/>
                      </a:lnTo>
                      <a:lnTo>
                        <a:pt x="1027" y="249"/>
                      </a:lnTo>
                      <a:lnTo>
                        <a:pt x="1025" y="253"/>
                      </a:lnTo>
                      <a:lnTo>
                        <a:pt x="1023" y="259"/>
                      </a:lnTo>
                      <a:lnTo>
                        <a:pt x="1022" y="260"/>
                      </a:lnTo>
                      <a:lnTo>
                        <a:pt x="1022" y="264"/>
                      </a:lnTo>
                      <a:lnTo>
                        <a:pt x="1022" y="266"/>
                      </a:lnTo>
                      <a:lnTo>
                        <a:pt x="1022" y="270"/>
                      </a:lnTo>
                      <a:lnTo>
                        <a:pt x="919" y="730"/>
                      </a:lnTo>
                      <a:lnTo>
                        <a:pt x="915" y="728"/>
                      </a:lnTo>
                      <a:lnTo>
                        <a:pt x="913" y="726"/>
                      </a:lnTo>
                      <a:lnTo>
                        <a:pt x="907" y="724"/>
                      </a:lnTo>
                      <a:lnTo>
                        <a:pt x="905" y="720"/>
                      </a:lnTo>
                      <a:lnTo>
                        <a:pt x="904" y="719"/>
                      </a:lnTo>
                      <a:lnTo>
                        <a:pt x="900" y="717"/>
                      </a:lnTo>
                      <a:lnTo>
                        <a:pt x="896" y="713"/>
                      </a:lnTo>
                      <a:lnTo>
                        <a:pt x="892" y="713"/>
                      </a:lnTo>
                      <a:lnTo>
                        <a:pt x="1022" y="129"/>
                      </a:lnTo>
                      <a:lnTo>
                        <a:pt x="1022" y="125"/>
                      </a:lnTo>
                      <a:lnTo>
                        <a:pt x="1022" y="124"/>
                      </a:lnTo>
                      <a:lnTo>
                        <a:pt x="1022" y="120"/>
                      </a:lnTo>
                      <a:lnTo>
                        <a:pt x="1022" y="118"/>
                      </a:lnTo>
                      <a:lnTo>
                        <a:pt x="1022" y="114"/>
                      </a:lnTo>
                      <a:lnTo>
                        <a:pt x="1022" y="112"/>
                      </a:lnTo>
                      <a:lnTo>
                        <a:pt x="1022" y="110"/>
                      </a:lnTo>
                      <a:lnTo>
                        <a:pt x="1022" y="106"/>
                      </a:lnTo>
                      <a:lnTo>
                        <a:pt x="1022" y="105"/>
                      </a:lnTo>
                      <a:lnTo>
                        <a:pt x="1022" y="103"/>
                      </a:lnTo>
                      <a:lnTo>
                        <a:pt x="1022" y="99"/>
                      </a:lnTo>
                      <a:lnTo>
                        <a:pt x="1022" y="97"/>
                      </a:lnTo>
                      <a:lnTo>
                        <a:pt x="1022" y="91"/>
                      </a:lnTo>
                      <a:lnTo>
                        <a:pt x="1022" y="86"/>
                      </a:lnTo>
                      <a:lnTo>
                        <a:pt x="1020" y="82"/>
                      </a:lnTo>
                      <a:lnTo>
                        <a:pt x="1018" y="76"/>
                      </a:lnTo>
                      <a:lnTo>
                        <a:pt x="1016" y="70"/>
                      </a:lnTo>
                      <a:lnTo>
                        <a:pt x="1014" y="67"/>
                      </a:lnTo>
                      <a:lnTo>
                        <a:pt x="1012" y="61"/>
                      </a:lnTo>
                      <a:lnTo>
                        <a:pt x="1010" y="57"/>
                      </a:lnTo>
                      <a:lnTo>
                        <a:pt x="1008" y="53"/>
                      </a:lnTo>
                      <a:lnTo>
                        <a:pt x="1006" y="48"/>
                      </a:lnTo>
                      <a:lnTo>
                        <a:pt x="1004" y="44"/>
                      </a:lnTo>
                      <a:lnTo>
                        <a:pt x="1001" y="40"/>
                      </a:lnTo>
                      <a:lnTo>
                        <a:pt x="997" y="36"/>
                      </a:lnTo>
                      <a:lnTo>
                        <a:pt x="993" y="32"/>
                      </a:lnTo>
                      <a:lnTo>
                        <a:pt x="991" y="29"/>
                      </a:lnTo>
                      <a:lnTo>
                        <a:pt x="985" y="25"/>
                      </a:lnTo>
                      <a:lnTo>
                        <a:pt x="983" y="23"/>
                      </a:lnTo>
                      <a:lnTo>
                        <a:pt x="978" y="19"/>
                      </a:lnTo>
                      <a:lnTo>
                        <a:pt x="972" y="17"/>
                      </a:lnTo>
                      <a:lnTo>
                        <a:pt x="968" y="13"/>
                      </a:lnTo>
                      <a:lnTo>
                        <a:pt x="964" y="11"/>
                      </a:lnTo>
                      <a:lnTo>
                        <a:pt x="961" y="10"/>
                      </a:lnTo>
                      <a:lnTo>
                        <a:pt x="955" y="6"/>
                      </a:lnTo>
                      <a:lnTo>
                        <a:pt x="949" y="6"/>
                      </a:lnTo>
                      <a:lnTo>
                        <a:pt x="944" y="4"/>
                      </a:lnTo>
                      <a:lnTo>
                        <a:pt x="940" y="4"/>
                      </a:lnTo>
                      <a:lnTo>
                        <a:pt x="936" y="2"/>
                      </a:lnTo>
                      <a:lnTo>
                        <a:pt x="934" y="2"/>
                      </a:lnTo>
                      <a:lnTo>
                        <a:pt x="932" y="0"/>
                      </a:lnTo>
                      <a:lnTo>
                        <a:pt x="928" y="0"/>
                      </a:lnTo>
                      <a:lnTo>
                        <a:pt x="926" y="0"/>
                      </a:lnTo>
                      <a:lnTo>
                        <a:pt x="925" y="0"/>
                      </a:lnTo>
                      <a:lnTo>
                        <a:pt x="921" y="0"/>
                      </a:lnTo>
                      <a:lnTo>
                        <a:pt x="919" y="0"/>
                      </a:lnTo>
                      <a:lnTo>
                        <a:pt x="915" y="0"/>
                      </a:lnTo>
                      <a:lnTo>
                        <a:pt x="913" y="0"/>
                      </a:lnTo>
                      <a:lnTo>
                        <a:pt x="911" y="0"/>
                      </a:lnTo>
                      <a:lnTo>
                        <a:pt x="907" y="0"/>
                      </a:lnTo>
                      <a:lnTo>
                        <a:pt x="904" y="0"/>
                      </a:lnTo>
                      <a:lnTo>
                        <a:pt x="898" y="2"/>
                      </a:lnTo>
                      <a:lnTo>
                        <a:pt x="896" y="2"/>
                      </a:lnTo>
                      <a:lnTo>
                        <a:pt x="892" y="2"/>
                      </a:lnTo>
                      <a:lnTo>
                        <a:pt x="890" y="2"/>
                      </a:lnTo>
                      <a:lnTo>
                        <a:pt x="888" y="4"/>
                      </a:lnTo>
                      <a:lnTo>
                        <a:pt x="881" y="4"/>
                      </a:lnTo>
                      <a:lnTo>
                        <a:pt x="877" y="6"/>
                      </a:lnTo>
                      <a:lnTo>
                        <a:pt x="873" y="10"/>
                      </a:lnTo>
                      <a:lnTo>
                        <a:pt x="867" y="11"/>
                      </a:lnTo>
                      <a:lnTo>
                        <a:pt x="864" y="15"/>
                      </a:lnTo>
                      <a:lnTo>
                        <a:pt x="860" y="17"/>
                      </a:lnTo>
                      <a:lnTo>
                        <a:pt x="854" y="19"/>
                      </a:lnTo>
                      <a:lnTo>
                        <a:pt x="850" y="23"/>
                      </a:lnTo>
                      <a:lnTo>
                        <a:pt x="847" y="25"/>
                      </a:lnTo>
                      <a:lnTo>
                        <a:pt x="843" y="29"/>
                      </a:lnTo>
                      <a:lnTo>
                        <a:pt x="839" y="32"/>
                      </a:lnTo>
                      <a:lnTo>
                        <a:pt x="835" y="36"/>
                      </a:lnTo>
                      <a:lnTo>
                        <a:pt x="833" y="40"/>
                      </a:lnTo>
                      <a:lnTo>
                        <a:pt x="831" y="44"/>
                      </a:lnTo>
                      <a:lnTo>
                        <a:pt x="828" y="48"/>
                      </a:lnTo>
                      <a:lnTo>
                        <a:pt x="824" y="53"/>
                      </a:lnTo>
                      <a:lnTo>
                        <a:pt x="822" y="57"/>
                      </a:lnTo>
                      <a:lnTo>
                        <a:pt x="820" y="61"/>
                      </a:lnTo>
                      <a:lnTo>
                        <a:pt x="818" y="67"/>
                      </a:lnTo>
                      <a:lnTo>
                        <a:pt x="816" y="70"/>
                      </a:lnTo>
                      <a:lnTo>
                        <a:pt x="816" y="74"/>
                      </a:lnTo>
                      <a:lnTo>
                        <a:pt x="814" y="76"/>
                      </a:lnTo>
                      <a:lnTo>
                        <a:pt x="812" y="82"/>
                      </a:lnTo>
                      <a:lnTo>
                        <a:pt x="812" y="84"/>
                      </a:lnTo>
                      <a:lnTo>
                        <a:pt x="687" y="663"/>
                      </a:lnTo>
                      <a:lnTo>
                        <a:pt x="681" y="663"/>
                      </a:lnTo>
                      <a:lnTo>
                        <a:pt x="677" y="663"/>
                      </a:lnTo>
                      <a:lnTo>
                        <a:pt x="673" y="663"/>
                      </a:lnTo>
                      <a:lnTo>
                        <a:pt x="670" y="663"/>
                      </a:lnTo>
                      <a:lnTo>
                        <a:pt x="666" y="663"/>
                      </a:lnTo>
                      <a:lnTo>
                        <a:pt x="660" y="665"/>
                      </a:lnTo>
                      <a:lnTo>
                        <a:pt x="656" y="665"/>
                      </a:lnTo>
                      <a:lnTo>
                        <a:pt x="652" y="667"/>
                      </a:lnTo>
                      <a:lnTo>
                        <a:pt x="753" y="213"/>
                      </a:lnTo>
                      <a:lnTo>
                        <a:pt x="753" y="209"/>
                      </a:lnTo>
                      <a:lnTo>
                        <a:pt x="753" y="207"/>
                      </a:lnTo>
                      <a:lnTo>
                        <a:pt x="753" y="203"/>
                      </a:lnTo>
                      <a:lnTo>
                        <a:pt x="753" y="201"/>
                      </a:lnTo>
                      <a:lnTo>
                        <a:pt x="753" y="198"/>
                      </a:lnTo>
                      <a:lnTo>
                        <a:pt x="753" y="196"/>
                      </a:lnTo>
                      <a:lnTo>
                        <a:pt x="753" y="192"/>
                      </a:lnTo>
                      <a:lnTo>
                        <a:pt x="753" y="190"/>
                      </a:lnTo>
                      <a:lnTo>
                        <a:pt x="753" y="188"/>
                      </a:lnTo>
                      <a:lnTo>
                        <a:pt x="753" y="184"/>
                      </a:lnTo>
                      <a:lnTo>
                        <a:pt x="753" y="182"/>
                      </a:lnTo>
                      <a:lnTo>
                        <a:pt x="753" y="181"/>
                      </a:lnTo>
                      <a:lnTo>
                        <a:pt x="753" y="175"/>
                      </a:lnTo>
                      <a:lnTo>
                        <a:pt x="753" y="169"/>
                      </a:lnTo>
                      <a:lnTo>
                        <a:pt x="751" y="167"/>
                      </a:lnTo>
                      <a:lnTo>
                        <a:pt x="751" y="163"/>
                      </a:lnTo>
                      <a:lnTo>
                        <a:pt x="751" y="162"/>
                      </a:lnTo>
                      <a:lnTo>
                        <a:pt x="750" y="160"/>
                      </a:lnTo>
                      <a:lnTo>
                        <a:pt x="748" y="154"/>
                      </a:lnTo>
                      <a:lnTo>
                        <a:pt x="746" y="148"/>
                      </a:lnTo>
                      <a:lnTo>
                        <a:pt x="744" y="144"/>
                      </a:lnTo>
                      <a:lnTo>
                        <a:pt x="742" y="141"/>
                      </a:lnTo>
                      <a:lnTo>
                        <a:pt x="740" y="135"/>
                      </a:lnTo>
                      <a:lnTo>
                        <a:pt x="738" y="131"/>
                      </a:lnTo>
                      <a:lnTo>
                        <a:pt x="734" y="127"/>
                      </a:lnTo>
                      <a:lnTo>
                        <a:pt x="730" y="124"/>
                      </a:lnTo>
                      <a:lnTo>
                        <a:pt x="727" y="120"/>
                      </a:lnTo>
                      <a:lnTo>
                        <a:pt x="725" y="116"/>
                      </a:lnTo>
                      <a:lnTo>
                        <a:pt x="721" y="112"/>
                      </a:lnTo>
                      <a:lnTo>
                        <a:pt x="717" y="108"/>
                      </a:lnTo>
                      <a:lnTo>
                        <a:pt x="713" y="105"/>
                      </a:lnTo>
                      <a:lnTo>
                        <a:pt x="710" y="103"/>
                      </a:lnTo>
                      <a:lnTo>
                        <a:pt x="704" y="99"/>
                      </a:lnTo>
                      <a:lnTo>
                        <a:pt x="700" y="97"/>
                      </a:lnTo>
                      <a:lnTo>
                        <a:pt x="694" y="95"/>
                      </a:lnTo>
                      <a:lnTo>
                        <a:pt x="691" y="91"/>
                      </a:lnTo>
                      <a:lnTo>
                        <a:pt x="685" y="89"/>
                      </a:lnTo>
                      <a:lnTo>
                        <a:pt x="681" y="87"/>
                      </a:lnTo>
                      <a:lnTo>
                        <a:pt x="675" y="86"/>
                      </a:lnTo>
                      <a:lnTo>
                        <a:pt x="672" y="86"/>
                      </a:lnTo>
                      <a:lnTo>
                        <a:pt x="668" y="84"/>
                      </a:lnTo>
                      <a:lnTo>
                        <a:pt x="666" y="84"/>
                      </a:lnTo>
                      <a:lnTo>
                        <a:pt x="664" y="84"/>
                      </a:lnTo>
                      <a:lnTo>
                        <a:pt x="660" y="84"/>
                      </a:lnTo>
                      <a:lnTo>
                        <a:pt x="658" y="84"/>
                      </a:lnTo>
                      <a:lnTo>
                        <a:pt x="654" y="84"/>
                      </a:lnTo>
                      <a:lnTo>
                        <a:pt x="652" y="84"/>
                      </a:lnTo>
                      <a:lnTo>
                        <a:pt x="651" y="84"/>
                      </a:lnTo>
                      <a:lnTo>
                        <a:pt x="647" y="84"/>
                      </a:lnTo>
                      <a:lnTo>
                        <a:pt x="645" y="84"/>
                      </a:lnTo>
                      <a:lnTo>
                        <a:pt x="643" y="84"/>
                      </a:lnTo>
                      <a:lnTo>
                        <a:pt x="639" y="84"/>
                      </a:lnTo>
                      <a:lnTo>
                        <a:pt x="635" y="84"/>
                      </a:lnTo>
                      <a:lnTo>
                        <a:pt x="630" y="84"/>
                      </a:lnTo>
                      <a:lnTo>
                        <a:pt x="628" y="84"/>
                      </a:lnTo>
                      <a:lnTo>
                        <a:pt x="624" y="86"/>
                      </a:lnTo>
                      <a:lnTo>
                        <a:pt x="622" y="86"/>
                      </a:lnTo>
                      <a:lnTo>
                        <a:pt x="618" y="86"/>
                      </a:lnTo>
                      <a:lnTo>
                        <a:pt x="614" y="87"/>
                      </a:lnTo>
                      <a:lnTo>
                        <a:pt x="609" y="89"/>
                      </a:lnTo>
                      <a:lnTo>
                        <a:pt x="603" y="91"/>
                      </a:lnTo>
                      <a:lnTo>
                        <a:pt x="599" y="95"/>
                      </a:lnTo>
                      <a:lnTo>
                        <a:pt x="595" y="97"/>
                      </a:lnTo>
                      <a:lnTo>
                        <a:pt x="592" y="99"/>
                      </a:lnTo>
                      <a:lnTo>
                        <a:pt x="586" y="103"/>
                      </a:lnTo>
                      <a:lnTo>
                        <a:pt x="582" y="105"/>
                      </a:lnTo>
                      <a:lnTo>
                        <a:pt x="578" y="108"/>
                      </a:lnTo>
                      <a:lnTo>
                        <a:pt x="574" y="112"/>
                      </a:lnTo>
                      <a:lnTo>
                        <a:pt x="571" y="116"/>
                      </a:lnTo>
                      <a:lnTo>
                        <a:pt x="567" y="120"/>
                      </a:lnTo>
                      <a:lnTo>
                        <a:pt x="565" y="124"/>
                      </a:lnTo>
                      <a:lnTo>
                        <a:pt x="563" y="127"/>
                      </a:lnTo>
                      <a:lnTo>
                        <a:pt x="559" y="131"/>
                      </a:lnTo>
                      <a:lnTo>
                        <a:pt x="555" y="135"/>
                      </a:lnTo>
                      <a:lnTo>
                        <a:pt x="554" y="141"/>
                      </a:lnTo>
                      <a:lnTo>
                        <a:pt x="552" y="146"/>
                      </a:lnTo>
                      <a:lnTo>
                        <a:pt x="550" y="150"/>
                      </a:lnTo>
                      <a:lnTo>
                        <a:pt x="548" y="156"/>
                      </a:lnTo>
                      <a:lnTo>
                        <a:pt x="546" y="158"/>
                      </a:lnTo>
                      <a:lnTo>
                        <a:pt x="546" y="160"/>
                      </a:lnTo>
                      <a:lnTo>
                        <a:pt x="544" y="163"/>
                      </a:lnTo>
                      <a:lnTo>
                        <a:pt x="544" y="167"/>
                      </a:lnTo>
                      <a:lnTo>
                        <a:pt x="361" y="1127"/>
                      </a:lnTo>
                      <a:lnTo>
                        <a:pt x="361" y="112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99" name="AutoShape 1114"/>
              <p:cNvSpPr/>
              <p:nvPr/>
            </p:nvSpPr>
            <p:spPr>
              <a:xfrm flipV="1" rot="4894200">
                <a:off x="6862680" y="2945160"/>
                <a:ext cx="88560" cy="75960"/>
              </a:xfrm>
              <a:prstGeom prst="hexagon">
                <a:avLst>
                  <a:gd name="adj" fmla="val 29147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AutoShape 1115"/>
              <p:cNvSpPr/>
              <p:nvPr/>
            </p:nvSpPr>
            <p:spPr>
              <a:xfrm flipV="1" rot="4863600">
                <a:off x="7178760" y="2896560"/>
                <a:ext cx="192960" cy="5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308" y="21600"/>
                    </a:lnTo>
                    <a:lnTo>
                      <a:pt x="1729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01" name="Group 1117"/>
          <p:cNvGrpSpPr/>
          <p:nvPr/>
        </p:nvGrpSpPr>
        <p:grpSpPr>
          <a:xfrm>
            <a:off x="2652840" y="-14760"/>
            <a:ext cx="4281120" cy="4863960"/>
            <a:chOff x="2652840" y="-14760"/>
            <a:chExt cx="4281120" cy="4863960"/>
          </a:xfrm>
        </p:grpSpPr>
        <p:sp>
          <p:nvSpPr>
            <p:cNvPr id="3302" name="Oval 1118"/>
            <p:cNvSpPr/>
            <p:nvPr/>
          </p:nvSpPr>
          <p:spPr>
            <a:xfrm rot="16200000">
              <a:off x="4121640" y="2053800"/>
              <a:ext cx="1326600" cy="426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3137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AutoShape 1119"/>
            <p:cNvSpPr/>
            <p:nvPr/>
          </p:nvSpPr>
          <p:spPr>
            <a:xfrm rot="10800000">
              <a:off x="2670120" y="-14760"/>
              <a:ext cx="4263840" cy="4346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702" y="21600"/>
                  </a:lnTo>
                  <a:lnTo>
                    <a:pt x="1289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aeaea">
                    <a:alpha val="71372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4" name=""/>
          <p:cNvGrpSpPr/>
          <p:nvPr/>
        </p:nvGrpSpPr>
        <p:grpSpPr>
          <a:xfrm>
            <a:off x="-1447920" y="5486400"/>
            <a:ext cx="304920" cy="609480"/>
            <a:chOff x="-1447920" y="5486400"/>
            <a:chExt cx="304920" cy="609480"/>
          </a:xfrm>
        </p:grpSpPr>
        <p:sp>
          <p:nvSpPr>
            <p:cNvPr id="3305" name="Line 1120"/>
            <p:cNvSpPr/>
            <p:nvPr/>
          </p:nvSpPr>
          <p:spPr>
            <a:xfrm>
              <a:off x="-1447920" y="5486400"/>
              <a:ext cx="304920" cy="609480"/>
            </a:xfrm>
            <a:prstGeom prst="line">
              <a:avLst/>
            </a:prstGeom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 txBox="1"/>
            <p:nvPr/>
          </p:nvSpPr>
          <p:spPr>
            <a:xfrm>
              <a:off x="-1447920" y="5486400"/>
              <a:ext cx="30492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600000">
                                      <p:cBhvr>
                                        <p:cTn id="409" dur="2000" fill="hold"/>
                                        <p:tgtEl>
                                          <p:spTgt spid="3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3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3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4000"/>
                            </p:stCondLst>
                            <p:childTnLst>
                              <p:par>
                                <p:cTn id="418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9" dur="3000" fill="hold"/>
                                        <p:tgtEl>
                                          <p:spTgt spid="3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45FF-A1FB-4787-ACD6-0AED44442B6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1" name="AutoShape 2"/>
          <p:cNvSpPr/>
          <p:nvPr/>
        </p:nvSpPr>
        <p:spPr>
          <a:xfrm rot="16200000">
            <a:off x="1969920" y="2045880"/>
            <a:ext cx="1698840" cy="5334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3399">
                  <a:alpha val="62352"/>
                </a:srgbClr>
              </a:gs>
              <a:gs pos="100000">
                <a:srgbClr val="76184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2" name="Group 3"/>
          <p:cNvGrpSpPr/>
          <p:nvPr/>
        </p:nvGrpSpPr>
        <p:grpSpPr>
          <a:xfrm>
            <a:off x="3728880" y="1475640"/>
            <a:ext cx="518040" cy="2370600"/>
            <a:chOff x="3728880" y="1475640"/>
            <a:chExt cx="518040" cy="2370600"/>
          </a:xfrm>
        </p:grpSpPr>
        <p:grpSp>
          <p:nvGrpSpPr>
            <p:cNvPr id="3313" name="Group 4"/>
            <p:cNvGrpSpPr/>
            <p:nvPr/>
          </p:nvGrpSpPr>
          <p:grpSpPr>
            <a:xfrm>
              <a:off x="3728880" y="1475640"/>
              <a:ext cx="518040" cy="2370600"/>
              <a:chOff x="3728880" y="1475640"/>
              <a:chExt cx="518040" cy="2370600"/>
            </a:xfrm>
          </p:grpSpPr>
          <p:grpSp>
            <p:nvGrpSpPr>
              <p:cNvPr id="3314" name="Group 5"/>
              <p:cNvGrpSpPr/>
              <p:nvPr/>
            </p:nvGrpSpPr>
            <p:grpSpPr>
              <a:xfrm>
                <a:off x="3728880" y="1712520"/>
                <a:ext cx="319320" cy="1245600"/>
                <a:chOff x="3728880" y="1712520"/>
                <a:chExt cx="319320" cy="1245600"/>
              </a:xfrm>
            </p:grpSpPr>
            <p:grpSp>
              <p:nvGrpSpPr>
                <p:cNvPr id="3315" name="Group 6"/>
                <p:cNvGrpSpPr/>
                <p:nvPr/>
              </p:nvGrpSpPr>
              <p:grpSpPr>
                <a:xfrm>
                  <a:off x="3809160" y="2345760"/>
                  <a:ext cx="239040" cy="612360"/>
                  <a:chOff x="3809160" y="2345760"/>
                  <a:chExt cx="239040" cy="612360"/>
                </a:xfrm>
              </p:grpSpPr>
              <p:sp>
                <p:nvSpPr>
                  <p:cNvPr id="3316" name="AutoShape 7"/>
                  <p:cNvSpPr/>
                  <p:nvPr/>
                </p:nvSpPr>
                <p:spPr>
                  <a:xfrm rot="10575600">
                    <a:off x="3825000" y="2350800"/>
                    <a:ext cx="179640" cy="49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1556" y="21600"/>
                        </a:lnTo>
                        <a:lnTo>
                          <a:pt x="20044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7" name="AutoShape 8"/>
                  <p:cNvSpPr/>
                  <p:nvPr/>
                </p:nvSpPr>
                <p:spPr>
                  <a:xfrm rot="16153800">
                    <a:off x="3832560" y="2742120"/>
                    <a:ext cx="1918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934" y="2201"/>
                          <a:pt x="12267" y="5080"/>
                          <a:pt x="12267" y="10800"/>
                        </a:cubicBezTo>
                        <a:cubicBezTo>
                          <a:pt x="12267" y="16520"/>
                          <a:pt x="16934" y="19399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18" name="Group 9"/>
                <p:cNvGrpSpPr/>
                <p:nvPr/>
              </p:nvGrpSpPr>
              <p:grpSpPr>
                <a:xfrm>
                  <a:off x="3728880" y="1712520"/>
                  <a:ext cx="273600" cy="746280"/>
                  <a:chOff x="3728880" y="1712520"/>
                  <a:chExt cx="273600" cy="746280"/>
                </a:xfrm>
              </p:grpSpPr>
              <p:sp>
                <p:nvSpPr>
                  <p:cNvPr id="3319" name="AutoShape 10"/>
                  <p:cNvSpPr/>
                  <p:nvPr/>
                </p:nvSpPr>
                <p:spPr>
                  <a:xfrm rot="10590600">
                    <a:off x="3796560" y="1968840"/>
                    <a:ext cx="180360" cy="36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4308" y="21600"/>
                        </a:lnTo>
                        <a:lnTo>
                          <a:pt x="17292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0" name="Oval 11"/>
                  <p:cNvSpPr/>
                  <p:nvPr/>
                </p:nvSpPr>
                <p:spPr>
                  <a:xfrm rot="11129400">
                    <a:off x="3806280" y="2259720"/>
                    <a:ext cx="187200" cy="19044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1" name="Freeform 12"/>
                  <p:cNvSpPr/>
                  <p:nvPr/>
                </p:nvSpPr>
                <p:spPr>
                  <a:xfrm rot="20624400">
                    <a:off x="3765600" y="1731240"/>
                    <a:ext cx="175680" cy="28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02" h="2302">
                        <a:moveTo>
                          <a:pt x="361" y="1127"/>
                        </a:moveTo>
                        <a:lnTo>
                          <a:pt x="280" y="1116"/>
                        </a:lnTo>
                        <a:lnTo>
                          <a:pt x="373" y="711"/>
                        </a:lnTo>
                        <a:lnTo>
                          <a:pt x="373" y="709"/>
                        </a:lnTo>
                        <a:lnTo>
                          <a:pt x="375" y="705"/>
                        </a:lnTo>
                        <a:lnTo>
                          <a:pt x="375" y="703"/>
                        </a:lnTo>
                        <a:lnTo>
                          <a:pt x="375" y="700"/>
                        </a:lnTo>
                        <a:lnTo>
                          <a:pt x="375" y="698"/>
                        </a:lnTo>
                        <a:lnTo>
                          <a:pt x="375" y="696"/>
                        </a:lnTo>
                        <a:lnTo>
                          <a:pt x="375" y="692"/>
                        </a:lnTo>
                        <a:lnTo>
                          <a:pt x="375" y="690"/>
                        </a:lnTo>
                        <a:lnTo>
                          <a:pt x="375" y="684"/>
                        </a:lnTo>
                        <a:lnTo>
                          <a:pt x="375" y="681"/>
                        </a:lnTo>
                        <a:lnTo>
                          <a:pt x="375" y="675"/>
                        </a:lnTo>
                        <a:lnTo>
                          <a:pt x="375" y="669"/>
                        </a:lnTo>
                        <a:lnTo>
                          <a:pt x="371" y="665"/>
                        </a:lnTo>
                        <a:lnTo>
                          <a:pt x="371" y="660"/>
                        </a:lnTo>
                        <a:lnTo>
                          <a:pt x="369" y="654"/>
                        </a:lnTo>
                        <a:lnTo>
                          <a:pt x="367" y="652"/>
                        </a:lnTo>
                        <a:lnTo>
                          <a:pt x="365" y="646"/>
                        </a:lnTo>
                        <a:lnTo>
                          <a:pt x="363" y="641"/>
                        </a:lnTo>
                        <a:lnTo>
                          <a:pt x="361" y="637"/>
                        </a:lnTo>
                        <a:lnTo>
                          <a:pt x="358" y="633"/>
                        </a:lnTo>
                        <a:lnTo>
                          <a:pt x="356" y="629"/>
                        </a:lnTo>
                        <a:lnTo>
                          <a:pt x="354" y="623"/>
                        </a:lnTo>
                        <a:lnTo>
                          <a:pt x="350" y="620"/>
                        </a:lnTo>
                        <a:lnTo>
                          <a:pt x="346" y="616"/>
                        </a:lnTo>
                        <a:lnTo>
                          <a:pt x="342" y="612"/>
                        </a:lnTo>
                        <a:lnTo>
                          <a:pt x="339" y="610"/>
                        </a:lnTo>
                        <a:lnTo>
                          <a:pt x="335" y="606"/>
                        </a:lnTo>
                        <a:lnTo>
                          <a:pt x="331" y="603"/>
                        </a:lnTo>
                        <a:lnTo>
                          <a:pt x="325" y="601"/>
                        </a:lnTo>
                        <a:lnTo>
                          <a:pt x="321" y="597"/>
                        </a:lnTo>
                        <a:lnTo>
                          <a:pt x="318" y="595"/>
                        </a:lnTo>
                        <a:lnTo>
                          <a:pt x="312" y="593"/>
                        </a:lnTo>
                        <a:lnTo>
                          <a:pt x="306" y="591"/>
                        </a:lnTo>
                        <a:lnTo>
                          <a:pt x="302" y="589"/>
                        </a:lnTo>
                        <a:lnTo>
                          <a:pt x="299" y="589"/>
                        </a:lnTo>
                        <a:lnTo>
                          <a:pt x="295" y="587"/>
                        </a:lnTo>
                        <a:lnTo>
                          <a:pt x="291" y="587"/>
                        </a:lnTo>
                        <a:lnTo>
                          <a:pt x="287" y="585"/>
                        </a:lnTo>
                        <a:lnTo>
                          <a:pt x="285" y="585"/>
                        </a:lnTo>
                        <a:lnTo>
                          <a:pt x="283" y="585"/>
                        </a:lnTo>
                        <a:lnTo>
                          <a:pt x="280" y="585"/>
                        </a:lnTo>
                        <a:lnTo>
                          <a:pt x="276" y="585"/>
                        </a:lnTo>
                        <a:lnTo>
                          <a:pt x="274" y="585"/>
                        </a:lnTo>
                        <a:lnTo>
                          <a:pt x="272" y="585"/>
                        </a:lnTo>
                        <a:lnTo>
                          <a:pt x="268" y="585"/>
                        </a:lnTo>
                        <a:lnTo>
                          <a:pt x="266" y="585"/>
                        </a:lnTo>
                        <a:lnTo>
                          <a:pt x="263" y="585"/>
                        </a:lnTo>
                        <a:lnTo>
                          <a:pt x="261" y="587"/>
                        </a:lnTo>
                        <a:lnTo>
                          <a:pt x="259" y="587"/>
                        </a:lnTo>
                        <a:lnTo>
                          <a:pt x="255" y="587"/>
                        </a:lnTo>
                        <a:lnTo>
                          <a:pt x="253" y="589"/>
                        </a:lnTo>
                        <a:lnTo>
                          <a:pt x="249" y="589"/>
                        </a:lnTo>
                        <a:lnTo>
                          <a:pt x="247" y="589"/>
                        </a:lnTo>
                        <a:lnTo>
                          <a:pt x="243" y="591"/>
                        </a:lnTo>
                        <a:lnTo>
                          <a:pt x="240" y="591"/>
                        </a:lnTo>
                        <a:lnTo>
                          <a:pt x="238" y="593"/>
                        </a:lnTo>
                        <a:lnTo>
                          <a:pt x="236" y="595"/>
                        </a:lnTo>
                        <a:lnTo>
                          <a:pt x="232" y="595"/>
                        </a:lnTo>
                        <a:lnTo>
                          <a:pt x="230" y="597"/>
                        </a:lnTo>
                        <a:lnTo>
                          <a:pt x="228" y="599"/>
                        </a:lnTo>
                        <a:lnTo>
                          <a:pt x="224" y="601"/>
                        </a:lnTo>
                        <a:lnTo>
                          <a:pt x="223" y="601"/>
                        </a:lnTo>
                        <a:lnTo>
                          <a:pt x="219" y="603"/>
                        </a:lnTo>
                        <a:lnTo>
                          <a:pt x="217" y="604"/>
                        </a:lnTo>
                        <a:lnTo>
                          <a:pt x="211" y="608"/>
                        </a:lnTo>
                        <a:lnTo>
                          <a:pt x="207" y="612"/>
                        </a:lnTo>
                        <a:lnTo>
                          <a:pt x="204" y="616"/>
                        </a:lnTo>
                        <a:lnTo>
                          <a:pt x="198" y="618"/>
                        </a:lnTo>
                        <a:lnTo>
                          <a:pt x="194" y="623"/>
                        </a:lnTo>
                        <a:lnTo>
                          <a:pt x="188" y="627"/>
                        </a:lnTo>
                        <a:lnTo>
                          <a:pt x="185" y="633"/>
                        </a:lnTo>
                        <a:lnTo>
                          <a:pt x="181" y="637"/>
                        </a:lnTo>
                        <a:lnTo>
                          <a:pt x="177" y="641"/>
                        </a:lnTo>
                        <a:lnTo>
                          <a:pt x="173" y="646"/>
                        </a:lnTo>
                        <a:lnTo>
                          <a:pt x="169" y="652"/>
                        </a:lnTo>
                        <a:lnTo>
                          <a:pt x="166" y="656"/>
                        </a:lnTo>
                        <a:lnTo>
                          <a:pt x="162" y="662"/>
                        </a:lnTo>
                        <a:lnTo>
                          <a:pt x="160" y="665"/>
                        </a:lnTo>
                        <a:lnTo>
                          <a:pt x="158" y="669"/>
                        </a:lnTo>
                        <a:lnTo>
                          <a:pt x="158" y="671"/>
                        </a:lnTo>
                        <a:lnTo>
                          <a:pt x="156" y="673"/>
                        </a:lnTo>
                        <a:lnTo>
                          <a:pt x="154" y="677"/>
                        </a:lnTo>
                        <a:lnTo>
                          <a:pt x="152" y="679"/>
                        </a:lnTo>
                        <a:lnTo>
                          <a:pt x="152" y="681"/>
                        </a:lnTo>
                        <a:lnTo>
                          <a:pt x="150" y="684"/>
                        </a:lnTo>
                        <a:lnTo>
                          <a:pt x="150" y="688"/>
                        </a:lnTo>
                        <a:lnTo>
                          <a:pt x="146" y="694"/>
                        </a:lnTo>
                        <a:lnTo>
                          <a:pt x="145" y="701"/>
                        </a:lnTo>
                        <a:lnTo>
                          <a:pt x="143" y="709"/>
                        </a:lnTo>
                        <a:lnTo>
                          <a:pt x="139" y="717"/>
                        </a:lnTo>
                        <a:lnTo>
                          <a:pt x="137" y="724"/>
                        </a:lnTo>
                        <a:lnTo>
                          <a:pt x="135" y="732"/>
                        </a:lnTo>
                        <a:lnTo>
                          <a:pt x="131" y="739"/>
                        </a:lnTo>
                        <a:lnTo>
                          <a:pt x="129" y="747"/>
                        </a:lnTo>
                        <a:lnTo>
                          <a:pt x="126" y="755"/>
                        </a:lnTo>
                        <a:lnTo>
                          <a:pt x="124" y="760"/>
                        </a:lnTo>
                        <a:lnTo>
                          <a:pt x="122" y="768"/>
                        </a:lnTo>
                        <a:lnTo>
                          <a:pt x="120" y="776"/>
                        </a:lnTo>
                        <a:lnTo>
                          <a:pt x="116" y="781"/>
                        </a:lnTo>
                        <a:lnTo>
                          <a:pt x="114" y="789"/>
                        </a:lnTo>
                        <a:lnTo>
                          <a:pt x="112" y="796"/>
                        </a:lnTo>
                        <a:lnTo>
                          <a:pt x="110" y="804"/>
                        </a:lnTo>
                        <a:lnTo>
                          <a:pt x="107" y="812"/>
                        </a:lnTo>
                        <a:lnTo>
                          <a:pt x="107" y="817"/>
                        </a:lnTo>
                        <a:lnTo>
                          <a:pt x="103" y="823"/>
                        </a:lnTo>
                        <a:lnTo>
                          <a:pt x="101" y="831"/>
                        </a:lnTo>
                        <a:lnTo>
                          <a:pt x="97" y="836"/>
                        </a:lnTo>
                        <a:lnTo>
                          <a:pt x="97" y="844"/>
                        </a:lnTo>
                        <a:lnTo>
                          <a:pt x="93" y="852"/>
                        </a:lnTo>
                        <a:lnTo>
                          <a:pt x="93" y="857"/>
                        </a:lnTo>
                        <a:lnTo>
                          <a:pt x="89" y="865"/>
                        </a:lnTo>
                        <a:lnTo>
                          <a:pt x="88" y="871"/>
                        </a:lnTo>
                        <a:lnTo>
                          <a:pt x="86" y="878"/>
                        </a:lnTo>
                        <a:lnTo>
                          <a:pt x="84" y="884"/>
                        </a:lnTo>
                        <a:lnTo>
                          <a:pt x="82" y="892"/>
                        </a:lnTo>
                        <a:lnTo>
                          <a:pt x="80" y="899"/>
                        </a:lnTo>
                        <a:lnTo>
                          <a:pt x="78" y="907"/>
                        </a:lnTo>
                        <a:lnTo>
                          <a:pt x="74" y="912"/>
                        </a:lnTo>
                        <a:lnTo>
                          <a:pt x="72" y="920"/>
                        </a:lnTo>
                        <a:lnTo>
                          <a:pt x="72" y="926"/>
                        </a:lnTo>
                        <a:lnTo>
                          <a:pt x="68" y="931"/>
                        </a:lnTo>
                        <a:lnTo>
                          <a:pt x="67" y="939"/>
                        </a:lnTo>
                        <a:lnTo>
                          <a:pt x="65" y="945"/>
                        </a:lnTo>
                        <a:lnTo>
                          <a:pt x="63" y="952"/>
                        </a:lnTo>
                        <a:lnTo>
                          <a:pt x="59" y="958"/>
                        </a:lnTo>
                        <a:lnTo>
                          <a:pt x="57" y="966"/>
                        </a:lnTo>
                        <a:lnTo>
                          <a:pt x="55" y="971"/>
                        </a:lnTo>
                        <a:lnTo>
                          <a:pt x="53" y="979"/>
                        </a:lnTo>
                        <a:lnTo>
                          <a:pt x="51" y="987"/>
                        </a:lnTo>
                        <a:lnTo>
                          <a:pt x="49" y="994"/>
                        </a:lnTo>
                        <a:lnTo>
                          <a:pt x="48" y="1000"/>
                        </a:lnTo>
                        <a:lnTo>
                          <a:pt x="46" y="1007"/>
                        </a:lnTo>
                        <a:lnTo>
                          <a:pt x="44" y="1015"/>
                        </a:lnTo>
                        <a:lnTo>
                          <a:pt x="42" y="1021"/>
                        </a:lnTo>
                        <a:lnTo>
                          <a:pt x="42" y="1028"/>
                        </a:lnTo>
                        <a:lnTo>
                          <a:pt x="38" y="1036"/>
                        </a:lnTo>
                        <a:lnTo>
                          <a:pt x="36" y="1042"/>
                        </a:lnTo>
                        <a:lnTo>
                          <a:pt x="36" y="1049"/>
                        </a:lnTo>
                        <a:lnTo>
                          <a:pt x="34" y="1057"/>
                        </a:lnTo>
                        <a:lnTo>
                          <a:pt x="30" y="1063"/>
                        </a:lnTo>
                        <a:lnTo>
                          <a:pt x="30" y="1070"/>
                        </a:lnTo>
                        <a:lnTo>
                          <a:pt x="29" y="1078"/>
                        </a:lnTo>
                        <a:lnTo>
                          <a:pt x="27" y="1085"/>
                        </a:lnTo>
                        <a:lnTo>
                          <a:pt x="25" y="1093"/>
                        </a:lnTo>
                        <a:lnTo>
                          <a:pt x="23" y="1101"/>
                        </a:lnTo>
                        <a:lnTo>
                          <a:pt x="21" y="1108"/>
                        </a:lnTo>
                        <a:lnTo>
                          <a:pt x="19" y="1116"/>
                        </a:lnTo>
                        <a:lnTo>
                          <a:pt x="17" y="1123"/>
                        </a:lnTo>
                        <a:lnTo>
                          <a:pt x="17" y="1131"/>
                        </a:lnTo>
                        <a:lnTo>
                          <a:pt x="15" y="1139"/>
                        </a:lnTo>
                        <a:lnTo>
                          <a:pt x="13" y="1148"/>
                        </a:lnTo>
                        <a:lnTo>
                          <a:pt x="10" y="1158"/>
                        </a:lnTo>
                        <a:lnTo>
                          <a:pt x="10" y="1165"/>
                        </a:lnTo>
                        <a:lnTo>
                          <a:pt x="8" y="1175"/>
                        </a:lnTo>
                        <a:lnTo>
                          <a:pt x="6" y="1182"/>
                        </a:lnTo>
                        <a:lnTo>
                          <a:pt x="6" y="1192"/>
                        </a:lnTo>
                        <a:lnTo>
                          <a:pt x="4" y="1201"/>
                        </a:lnTo>
                        <a:lnTo>
                          <a:pt x="2" y="1211"/>
                        </a:lnTo>
                        <a:lnTo>
                          <a:pt x="2" y="1218"/>
                        </a:lnTo>
                        <a:lnTo>
                          <a:pt x="0" y="1230"/>
                        </a:lnTo>
                        <a:lnTo>
                          <a:pt x="0" y="1237"/>
                        </a:lnTo>
                        <a:lnTo>
                          <a:pt x="0" y="1247"/>
                        </a:lnTo>
                        <a:lnTo>
                          <a:pt x="0" y="1257"/>
                        </a:lnTo>
                        <a:lnTo>
                          <a:pt x="0" y="1268"/>
                        </a:lnTo>
                        <a:lnTo>
                          <a:pt x="0" y="1276"/>
                        </a:lnTo>
                        <a:lnTo>
                          <a:pt x="0" y="1285"/>
                        </a:lnTo>
                        <a:lnTo>
                          <a:pt x="0" y="1296"/>
                        </a:lnTo>
                        <a:lnTo>
                          <a:pt x="0" y="1304"/>
                        </a:lnTo>
                        <a:lnTo>
                          <a:pt x="0" y="1314"/>
                        </a:lnTo>
                        <a:lnTo>
                          <a:pt x="0" y="1323"/>
                        </a:lnTo>
                        <a:lnTo>
                          <a:pt x="0" y="1333"/>
                        </a:lnTo>
                        <a:lnTo>
                          <a:pt x="2" y="1342"/>
                        </a:lnTo>
                        <a:lnTo>
                          <a:pt x="2" y="1352"/>
                        </a:lnTo>
                        <a:lnTo>
                          <a:pt x="4" y="1363"/>
                        </a:lnTo>
                        <a:lnTo>
                          <a:pt x="4" y="1371"/>
                        </a:lnTo>
                        <a:lnTo>
                          <a:pt x="6" y="1382"/>
                        </a:lnTo>
                        <a:lnTo>
                          <a:pt x="8" y="1390"/>
                        </a:lnTo>
                        <a:lnTo>
                          <a:pt x="8" y="1401"/>
                        </a:lnTo>
                        <a:lnTo>
                          <a:pt x="10" y="1409"/>
                        </a:lnTo>
                        <a:lnTo>
                          <a:pt x="11" y="1420"/>
                        </a:lnTo>
                        <a:lnTo>
                          <a:pt x="13" y="1429"/>
                        </a:lnTo>
                        <a:lnTo>
                          <a:pt x="15" y="1439"/>
                        </a:lnTo>
                        <a:lnTo>
                          <a:pt x="17" y="1448"/>
                        </a:lnTo>
                        <a:lnTo>
                          <a:pt x="19" y="1458"/>
                        </a:lnTo>
                        <a:lnTo>
                          <a:pt x="21" y="1468"/>
                        </a:lnTo>
                        <a:lnTo>
                          <a:pt x="23" y="1477"/>
                        </a:lnTo>
                        <a:lnTo>
                          <a:pt x="27" y="1487"/>
                        </a:lnTo>
                        <a:lnTo>
                          <a:pt x="29" y="1496"/>
                        </a:lnTo>
                        <a:lnTo>
                          <a:pt x="30" y="1506"/>
                        </a:lnTo>
                        <a:lnTo>
                          <a:pt x="34" y="1515"/>
                        </a:lnTo>
                        <a:lnTo>
                          <a:pt x="36" y="1525"/>
                        </a:lnTo>
                        <a:lnTo>
                          <a:pt x="38" y="1534"/>
                        </a:lnTo>
                        <a:lnTo>
                          <a:pt x="42" y="1544"/>
                        </a:lnTo>
                        <a:lnTo>
                          <a:pt x="46" y="1553"/>
                        </a:lnTo>
                        <a:lnTo>
                          <a:pt x="48" y="1561"/>
                        </a:lnTo>
                        <a:lnTo>
                          <a:pt x="51" y="1572"/>
                        </a:lnTo>
                        <a:lnTo>
                          <a:pt x="55" y="1580"/>
                        </a:lnTo>
                        <a:lnTo>
                          <a:pt x="59" y="1589"/>
                        </a:lnTo>
                        <a:lnTo>
                          <a:pt x="63" y="1599"/>
                        </a:lnTo>
                        <a:lnTo>
                          <a:pt x="67" y="1608"/>
                        </a:lnTo>
                        <a:lnTo>
                          <a:pt x="68" y="1616"/>
                        </a:lnTo>
                        <a:lnTo>
                          <a:pt x="74" y="1627"/>
                        </a:lnTo>
                        <a:lnTo>
                          <a:pt x="78" y="1635"/>
                        </a:lnTo>
                        <a:lnTo>
                          <a:pt x="82" y="1644"/>
                        </a:lnTo>
                        <a:lnTo>
                          <a:pt x="86" y="1652"/>
                        </a:lnTo>
                        <a:lnTo>
                          <a:pt x="89" y="1661"/>
                        </a:lnTo>
                        <a:lnTo>
                          <a:pt x="95" y="1669"/>
                        </a:lnTo>
                        <a:lnTo>
                          <a:pt x="99" y="1679"/>
                        </a:lnTo>
                        <a:lnTo>
                          <a:pt x="103" y="1688"/>
                        </a:lnTo>
                        <a:lnTo>
                          <a:pt x="108" y="1696"/>
                        </a:lnTo>
                        <a:lnTo>
                          <a:pt x="114" y="1703"/>
                        </a:lnTo>
                        <a:lnTo>
                          <a:pt x="118" y="1713"/>
                        </a:lnTo>
                        <a:lnTo>
                          <a:pt x="124" y="1722"/>
                        </a:lnTo>
                        <a:lnTo>
                          <a:pt x="127" y="1732"/>
                        </a:lnTo>
                        <a:lnTo>
                          <a:pt x="131" y="1736"/>
                        </a:lnTo>
                        <a:lnTo>
                          <a:pt x="135" y="1739"/>
                        </a:lnTo>
                        <a:lnTo>
                          <a:pt x="135" y="1743"/>
                        </a:lnTo>
                        <a:lnTo>
                          <a:pt x="137" y="1745"/>
                        </a:lnTo>
                        <a:lnTo>
                          <a:pt x="139" y="1747"/>
                        </a:lnTo>
                        <a:lnTo>
                          <a:pt x="141" y="1751"/>
                        </a:lnTo>
                        <a:lnTo>
                          <a:pt x="143" y="1755"/>
                        </a:lnTo>
                        <a:lnTo>
                          <a:pt x="143" y="1756"/>
                        </a:lnTo>
                        <a:lnTo>
                          <a:pt x="145" y="1760"/>
                        </a:lnTo>
                        <a:lnTo>
                          <a:pt x="146" y="1762"/>
                        </a:lnTo>
                        <a:lnTo>
                          <a:pt x="148" y="1766"/>
                        </a:lnTo>
                        <a:lnTo>
                          <a:pt x="150" y="1768"/>
                        </a:lnTo>
                        <a:lnTo>
                          <a:pt x="152" y="1770"/>
                        </a:lnTo>
                        <a:lnTo>
                          <a:pt x="156" y="1774"/>
                        </a:lnTo>
                        <a:lnTo>
                          <a:pt x="158" y="1777"/>
                        </a:lnTo>
                        <a:lnTo>
                          <a:pt x="160" y="1779"/>
                        </a:lnTo>
                        <a:lnTo>
                          <a:pt x="160" y="1783"/>
                        </a:lnTo>
                        <a:lnTo>
                          <a:pt x="162" y="1787"/>
                        </a:lnTo>
                        <a:lnTo>
                          <a:pt x="166" y="1789"/>
                        </a:lnTo>
                        <a:lnTo>
                          <a:pt x="166" y="1791"/>
                        </a:lnTo>
                        <a:lnTo>
                          <a:pt x="167" y="1794"/>
                        </a:lnTo>
                        <a:lnTo>
                          <a:pt x="169" y="1796"/>
                        </a:lnTo>
                        <a:lnTo>
                          <a:pt x="171" y="1800"/>
                        </a:lnTo>
                        <a:lnTo>
                          <a:pt x="173" y="1802"/>
                        </a:lnTo>
                        <a:lnTo>
                          <a:pt x="175" y="1806"/>
                        </a:lnTo>
                        <a:lnTo>
                          <a:pt x="177" y="1808"/>
                        </a:lnTo>
                        <a:lnTo>
                          <a:pt x="179" y="1812"/>
                        </a:lnTo>
                        <a:lnTo>
                          <a:pt x="181" y="1815"/>
                        </a:lnTo>
                        <a:lnTo>
                          <a:pt x="183" y="1817"/>
                        </a:lnTo>
                        <a:lnTo>
                          <a:pt x="185" y="1821"/>
                        </a:lnTo>
                        <a:lnTo>
                          <a:pt x="188" y="1827"/>
                        </a:lnTo>
                        <a:lnTo>
                          <a:pt x="190" y="1831"/>
                        </a:lnTo>
                        <a:lnTo>
                          <a:pt x="194" y="1836"/>
                        </a:lnTo>
                        <a:lnTo>
                          <a:pt x="198" y="1842"/>
                        </a:lnTo>
                        <a:lnTo>
                          <a:pt x="200" y="1846"/>
                        </a:lnTo>
                        <a:lnTo>
                          <a:pt x="204" y="1850"/>
                        </a:lnTo>
                        <a:lnTo>
                          <a:pt x="205" y="1853"/>
                        </a:lnTo>
                        <a:lnTo>
                          <a:pt x="207" y="1859"/>
                        </a:lnTo>
                        <a:lnTo>
                          <a:pt x="209" y="1861"/>
                        </a:lnTo>
                        <a:lnTo>
                          <a:pt x="211" y="1863"/>
                        </a:lnTo>
                        <a:lnTo>
                          <a:pt x="213" y="1867"/>
                        </a:lnTo>
                        <a:lnTo>
                          <a:pt x="215" y="1869"/>
                        </a:lnTo>
                        <a:lnTo>
                          <a:pt x="217" y="1870"/>
                        </a:lnTo>
                        <a:lnTo>
                          <a:pt x="219" y="1874"/>
                        </a:lnTo>
                        <a:lnTo>
                          <a:pt x="141" y="2163"/>
                        </a:lnTo>
                        <a:lnTo>
                          <a:pt x="143" y="2165"/>
                        </a:lnTo>
                        <a:lnTo>
                          <a:pt x="146" y="2165"/>
                        </a:lnTo>
                        <a:lnTo>
                          <a:pt x="150" y="2167"/>
                        </a:lnTo>
                        <a:lnTo>
                          <a:pt x="152" y="2167"/>
                        </a:lnTo>
                        <a:lnTo>
                          <a:pt x="154" y="2167"/>
                        </a:lnTo>
                        <a:lnTo>
                          <a:pt x="158" y="2167"/>
                        </a:lnTo>
                        <a:lnTo>
                          <a:pt x="162" y="2171"/>
                        </a:lnTo>
                        <a:lnTo>
                          <a:pt x="166" y="2171"/>
                        </a:lnTo>
                        <a:lnTo>
                          <a:pt x="167" y="2173"/>
                        </a:lnTo>
                        <a:lnTo>
                          <a:pt x="171" y="2173"/>
                        </a:lnTo>
                        <a:lnTo>
                          <a:pt x="175" y="2175"/>
                        </a:lnTo>
                        <a:lnTo>
                          <a:pt x="181" y="2175"/>
                        </a:lnTo>
                        <a:lnTo>
                          <a:pt x="185" y="2175"/>
                        </a:lnTo>
                        <a:lnTo>
                          <a:pt x="188" y="2177"/>
                        </a:lnTo>
                        <a:lnTo>
                          <a:pt x="194" y="2180"/>
                        </a:lnTo>
                        <a:lnTo>
                          <a:pt x="198" y="2180"/>
                        </a:lnTo>
                        <a:lnTo>
                          <a:pt x="204" y="2182"/>
                        </a:lnTo>
                        <a:lnTo>
                          <a:pt x="209" y="2182"/>
                        </a:lnTo>
                        <a:lnTo>
                          <a:pt x="215" y="2184"/>
                        </a:lnTo>
                        <a:lnTo>
                          <a:pt x="219" y="2186"/>
                        </a:lnTo>
                        <a:lnTo>
                          <a:pt x="224" y="2188"/>
                        </a:lnTo>
                        <a:lnTo>
                          <a:pt x="232" y="2188"/>
                        </a:lnTo>
                        <a:lnTo>
                          <a:pt x="238" y="2190"/>
                        </a:lnTo>
                        <a:lnTo>
                          <a:pt x="243" y="2190"/>
                        </a:lnTo>
                        <a:lnTo>
                          <a:pt x="251" y="2192"/>
                        </a:lnTo>
                        <a:lnTo>
                          <a:pt x="257" y="2194"/>
                        </a:lnTo>
                        <a:lnTo>
                          <a:pt x="264" y="2194"/>
                        </a:lnTo>
                        <a:lnTo>
                          <a:pt x="270" y="2196"/>
                        </a:lnTo>
                        <a:lnTo>
                          <a:pt x="276" y="2196"/>
                        </a:lnTo>
                        <a:lnTo>
                          <a:pt x="283" y="2197"/>
                        </a:lnTo>
                        <a:lnTo>
                          <a:pt x="291" y="2199"/>
                        </a:lnTo>
                        <a:lnTo>
                          <a:pt x="297" y="2199"/>
                        </a:lnTo>
                        <a:lnTo>
                          <a:pt x="304" y="2199"/>
                        </a:lnTo>
                        <a:lnTo>
                          <a:pt x="312" y="2199"/>
                        </a:lnTo>
                        <a:lnTo>
                          <a:pt x="320" y="2201"/>
                        </a:lnTo>
                        <a:lnTo>
                          <a:pt x="325" y="2201"/>
                        </a:lnTo>
                        <a:lnTo>
                          <a:pt x="333" y="2201"/>
                        </a:lnTo>
                        <a:lnTo>
                          <a:pt x="341" y="2201"/>
                        </a:lnTo>
                        <a:lnTo>
                          <a:pt x="348" y="2201"/>
                        </a:lnTo>
                        <a:lnTo>
                          <a:pt x="356" y="2201"/>
                        </a:lnTo>
                        <a:lnTo>
                          <a:pt x="363" y="2201"/>
                        </a:lnTo>
                        <a:lnTo>
                          <a:pt x="371" y="2201"/>
                        </a:lnTo>
                        <a:lnTo>
                          <a:pt x="379" y="2201"/>
                        </a:lnTo>
                        <a:lnTo>
                          <a:pt x="386" y="2201"/>
                        </a:lnTo>
                        <a:lnTo>
                          <a:pt x="394" y="2201"/>
                        </a:lnTo>
                        <a:lnTo>
                          <a:pt x="401" y="2199"/>
                        </a:lnTo>
                        <a:lnTo>
                          <a:pt x="409" y="2199"/>
                        </a:lnTo>
                        <a:lnTo>
                          <a:pt x="415" y="2197"/>
                        </a:lnTo>
                        <a:lnTo>
                          <a:pt x="422" y="2196"/>
                        </a:lnTo>
                        <a:lnTo>
                          <a:pt x="432" y="2196"/>
                        </a:lnTo>
                        <a:lnTo>
                          <a:pt x="439" y="2194"/>
                        </a:lnTo>
                        <a:lnTo>
                          <a:pt x="447" y="2192"/>
                        </a:lnTo>
                        <a:lnTo>
                          <a:pt x="455" y="2190"/>
                        </a:lnTo>
                        <a:lnTo>
                          <a:pt x="462" y="2188"/>
                        </a:lnTo>
                        <a:lnTo>
                          <a:pt x="470" y="2188"/>
                        </a:lnTo>
                        <a:lnTo>
                          <a:pt x="476" y="2184"/>
                        </a:lnTo>
                        <a:lnTo>
                          <a:pt x="483" y="2182"/>
                        </a:lnTo>
                        <a:lnTo>
                          <a:pt x="491" y="2180"/>
                        </a:lnTo>
                        <a:lnTo>
                          <a:pt x="498" y="2175"/>
                        </a:lnTo>
                        <a:lnTo>
                          <a:pt x="504" y="2173"/>
                        </a:lnTo>
                        <a:lnTo>
                          <a:pt x="512" y="2169"/>
                        </a:lnTo>
                        <a:lnTo>
                          <a:pt x="517" y="2165"/>
                        </a:lnTo>
                        <a:lnTo>
                          <a:pt x="525" y="2161"/>
                        </a:lnTo>
                        <a:lnTo>
                          <a:pt x="531" y="2158"/>
                        </a:lnTo>
                        <a:lnTo>
                          <a:pt x="536" y="2154"/>
                        </a:lnTo>
                        <a:lnTo>
                          <a:pt x="542" y="2150"/>
                        </a:lnTo>
                        <a:lnTo>
                          <a:pt x="550" y="2146"/>
                        </a:lnTo>
                        <a:lnTo>
                          <a:pt x="555" y="2142"/>
                        </a:lnTo>
                        <a:lnTo>
                          <a:pt x="559" y="2137"/>
                        </a:lnTo>
                        <a:lnTo>
                          <a:pt x="565" y="2133"/>
                        </a:lnTo>
                        <a:lnTo>
                          <a:pt x="571" y="2129"/>
                        </a:lnTo>
                        <a:lnTo>
                          <a:pt x="576" y="2123"/>
                        </a:lnTo>
                        <a:lnTo>
                          <a:pt x="582" y="2120"/>
                        </a:lnTo>
                        <a:lnTo>
                          <a:pt x="588" y="2114"/>
                        </a:lnTo>
                        <a:lnTo>
                          <a:pt x="592" y="2110"/>
                        </a:lnTo>
                        <a:lnTo>
                          <a:pt x="595" y="2106"/>
                        </a:lnTo>
                        <a:lnTo>
                          <a:pt x="601" y="2101"/>
                        </a:lnTo>
                        <a:lnTo>
                          <a:pt x="605" y="2095"/>
                        </a:lnTo>
                        <a:lnTo>
                          <a:pt x="611" y="2091"/>
                        </a:lnTo>
                        <a:lnTo>
                          <a:pt x="614" y="2085"/>
                        </a:lnTo>
                        <a:lnTo>
                          <a:pt x="618" y="2080"/>
                        </a:lnTo>
                        <a:lnTo>
                          <a:pt x="624" y="2076"/>
                        </a:lnTo>
                        <a:lnTo>
                          <a:pt x="628" y="2070"/>
                        </a:lnTo>
                        <a:lnTo>
                          <a:pt x="632" y="2064"/>
                        </a:lnTo>
                        <a:lnTo>
                          <a:pt x="635" y="2059"/>
                        </a:lnTo>
                        <a:lnTo>
                          <a:pt x="637" y="2055"/>
                        </a:lnTo>
                        <a:lnTo>
                          <a:pt x="643" y="2049"/>
                        </a:lnTo>
                        <a:lnTo>
                          <a:pt x="645" y="2043"/>
                        </a:lnTo>
                        <a:lnTo>
                          <a:pt x="649" y="2040"/>
                        </a:lnTo>
                        <a:lnTo>
                          <a:pt x="652" y="2034"/>
                        </a:lnTo>
                        <a:lnTo>
                          <a:pt x="654" y="2030"/>
                        </a:lnTo>
                        <a:lnTo>
                          <a:pt x="658" y="2024"/>
                        </a:lnTo>
                        <a:lnTo>
                          <a:pt x="660" y="2021"/>
                        </a:lnTo>
                        <a:lnTo>
                          <a:pt x="664" y="2015"/>
                        </a:lnTo>
                        <a:lnTo>
                          <a:pt x="666" y="2011"/>
                        </a:lnTo>
                        <a:lnTo>
                          <a:pt x="668" y="2005"/>
                        </a:lnTo>
                        <a:lnTo>
                          <a:pt x="672" y="2002"/>
                        </a:lnTo>
                        <a:lnTo>
                          <a:pt x="673" y="1998"/>
                        </a:lnTo>
                        <a:lnTo>
                          <a:pt x="675" y="1992"/>
                        </a:lnTo>
                        <a:lnTo>
                          <a:pt x="677" y="1986"/>
                        </a:lnTo>
                        <a:lnTo>
                          <a:pt x="679" y="1983"/>
                        </a:lnTo>
                        <a:lnTo>
                          <a:pt x="681" y="1979"/>
                        </a:lnTo>
                        <a:lnTo>
                          <a:pt x="683" y="1975"/>
                        </a:lnTo>
                        <a:lnTo>
                          <a:pt x="685" y="1971"/>
                        </a:lnTo>
                        <a:lnTo>
                          <a:pt x="687" y="1969"/>
                        </a:lnTo>
                        <a:lnTo>
                          <a:pt x="689" y="1964"/>
                        </a:lnTo>
                        <a:lnTo>
                          <a:pt x="691" y="1962"/>
                        </a:lnTo>
                        <a:lnTo>
                          <a:pt x="692" y="1958"/>
                        </a:lnTo>
                        <a:lnTo>
                          <a:pt x="692" y="1954"/>
                        </a:lnTo>
                        <a:lnTo>
                          <a:pt x="692" y="1952"/>
                        </a:lnTo>
                        <a:lnTo>
                          <a:pt x="694" y="1950"/>
                        </a:lnTo>
                        <a:lnTo>
                          <a:pt x="696" y="1945"/>
                        </a:lnTo>
                        <a:lnTo>
                          <a:pt x="698" y="1941"/>
                        </a:lnTo>
                        <a:lnTo>
                          <a:pt x="700" y="1937"/>
                        </a:lnTo>
                        <a:lnTo>
                          <a:pt x="700" y="1935"/>
                        </a:lnTo>
                        <a:lnTo>
                          <a:pt x="700" y="1933"/>
                        </a:lnTo>
                        <a:lnTo>
                          <a:pt x="702" y="1933"/>
                        </a:lnTo>
                        <a:lnTo>
                          <a:pt x="740" y="1943"/>
                        </a:lnTo>
                        <a:lnTo>
                          <a:pt x="740" y="1943"/>
                        </a:lnTo>
                        <a:lnTo>
                          <a:pt x="738" y="1945"/>
                        </a:lnTo>
                        <a:lnTo>
                          <a:pt x="738" y="1947"/>
                        </a:lnTo>
                        <a:lnTo>
                          <a:pt x="738" y="1950"/>
                        </a:lnTo>
                        <a:lnTo>
                          <a:pt x="738" y="1954"/>
                        </a:lnTo>
                        <a:lnTo>
                          <a:pt x="738" y="1958"/>
                        </a:lnTo>
                        <a:lnTo>
                          <a:pt x="736" y="1962"/>
                        </a:lnTo>
                        <a:lnTo>
                          <a:pt x="736" y="1964"/>
                        </a:lnTo>
                        <a:lnTo>
                          <a:pt x="736" y="1967"/>
                        </a:lnTo>
                        <a:lnTo>
                          <a:pt x="736" y="1971"/>
                        </a:lnTo>
                        <a:lnTo>
                          <a:pt x="736" y="1975"/>
                        </a:lnTo>
                        <a:lnTo>
                          <a:pt x="736" y="1979"/>
                        </a:lnTo>
                        <a:lnTo>
                          <a:pt x="736" y="1983"/>
                        </a:lnTo>
                        <a:lnTo>
                          <a:pt x="736" y="1985"/>
                        </a:lnTo>
                        <a:lnTo>
                          <a:pt x="736" y="1990"/>
                        </a:lnTo>
                        <a:lnTo>
                          <a:pt x="736" y="1994"/>
                        </a:lnTo>
                        <a:lnTo>
                          <a:pt x="736" y="1998"/>
                        </a:lnTo>
                        <a:lnTo>
                          <a:pt x="736" y="2004"/>
                        </a:lnTo>
                        <a:lnTo>
                          <a:pt x="736" y="2007"/>
                        </a:lnTo>
                        <a:lnTo>
                          <a:pt x="736" y="2013"/>
                        </a:lnTo>
                        <a:lnTo>
                          <a:pt x="736" y="2015"/>
                        </a:lnTo>
                        <a:lnTo>
                          <a:pt x="736" y="2021"/>
                        </a:lnTo>
                        <a:lnTo>
                          <a:pt x="736" y="2026"/>
                        </a:lnTo>
                        <a:lnTo>
                          <a:pt x="736" y="2030"/>
                        </a:lnTo>
                        <a:lnTo>
                          <a:pt x="736" y="2036"/>
                        </a:lnTo>
                        <a:lnTo>
                          <a:pt x="736" y="2042"/>
                        </a:lnTo>
                        <a:lnTo>
                          <a:pt x="736" y="2047"/>
                        </a:lnTo>
                        <a:lnTo>
                          <a:pt x="738" y="2051"/>
                        </a:lnTo>
                        <a:lnTo>
                          <a:pt x="738" y="2057"/>
                        </a:lnTo>
                        <a:lnTo>
                          <a:pt x="738" y="2062"/>
                        </a:lnTo>
                        <a:lnTo>
                          <a:pt x="740" y="2066"/>
                        </a:lnTo>
                        <a:lnTo>
                          <a:pt x="740" y="2072"/>
                        </a:lnTo>
                        <a:lnTo>
                          <a:pt x="742" y="2078"/>
                        </a:lnTo>
                        <a:lnTo>
                          <a:pt x="744" y="2083"/>
                        </a:lnTo>
                        <a:lnTo>
                          <a:pt x="744" y="2091"/>
                        </a:lnTo>
                        <a:lnTo>
                          <a:pt x="746" y="2095"/>
                        </a:lnTo>
                        <a:lnTo>
                          <a:pt x="748" y="2101"/>
                        </a:lnTo>
                        <a:lnTo>
                          <a:pt x="748" y="2106"/>
                        </a:lnTo>
                        <a:lnTo>
                          <a:pt x="751" y="2110"/>
                        </a:lnTo>
                        <a:lnTo>
                          <a:pt x="753" y="2118"/>
                        </a:lnTo>
                        <a:lnTo>
                          <a:pt x="753" y="2123"/>
                        </a:lnTo>
                        <a:lnTo>
                          <a:pt x="757" y="2129"/>
                        </a:lnTo>
                        <a:lnTo>
                          <a:pt x="759" y="2135"/>
                        </a:lnTo>
                        <a:lnTo>
                          <a:pt x="761" y="2139"/>
                        </a:lnTo>
                        <a:lnTo>
                          <a:pt x="765" y="2144"/>
                        </a:lnTo>
                        <a:lnTo>
                          <a:pt x="767" y="2150"/>
                        </a:lnTo>
                        <a:lnTo>
                          <a:pt x="769" y="2156"/>
                        </a:lnTo>
                        <a:lnTo>
                          <a:pt x="772" y="2159"/>
                        </a:lnTo>
                        <a:lnTo>
                          <a:pt x="776" y="2165"/>
                        </a:lnTo>
                        <a:lnTo>
                          <a:pt x="780" y="2171"/>
                        </a:lnTo>
                        <a:lnTo>
                          <a:pt x="782" y="2175"/>
                        </a:lnTo>
                        <a:lnTo>
                          <a:pt x="786" y="2180"/>
                        </a:lnTo>
                        <a:lnTo>
                          <a:pt x="789" y="2186"/>
                        </a:lnTo>
                        <a:lnTo>
                          <a:pt x="795" y="2190"/>
                        </a:lnTo>
                        <a:lnTo>
                          <a:pt x="799" y="2196"/>
                        </a:lnTo>
                        <a:lnTo>
                          <a:pt x="805" y="2201"/>
                        </a:lnTo>
                        <a:lnTo>
                          <a:pt x="808" y="2205"/>
                        </a:lnTo>
                        <a:lnTo>
                          <a:pt x="814" y="2209"/>
                        </a:lnTo>
                        <a:lnTo>
                          <a:pt x="818" y="2213"/>
                        </a:lnTo>
                        <a:lnTo>
                          <a:pt x="824" y="2216"/>
                        </a:lnTo>
                        <a:lnTo>
                          <a:pt x="828" y="2222"/>
                        </a:lnTo>
                        <a:lnTo>
                          <a:pt x="833" y="2224"/>
                        </a:lnTo>
                        <a:lnTo>
                          <a:pt x="839" y="2228"/>
                        </a:lnTo>
                        <a:lnTo>
                          <a:pt x="845" y="2232"/>
                        </a:lnTo>
                        <a:lnTo>
                          <a:pt x="848" y="2235"/>
                        </a:lnTo>
                        <a:lnTo>
                          <a:pt x="854" y="2239"/>
                        </a:lnTo>
                        <a:lnTo>
                          <a:pt x="858" y="2243"/>
                        </a:lnTo>
                        <a:lnTo>
                          <a:pt x="864" y="2245"/>
                        </a:lnTo>
                        <a:lnTo>
                          <a:pt x="867" y="2249"/>
                        </a:lnTo>
                        <a:lnTo>
                          <a:pt x="873" y="2253"/>
                        </a:lnTo>
                        <a:lnTo>
                          <a:pt x="877" y="2256"/>
                        </a:lnTo>
                        <a:lnTo>
                          <a:pt x="883" y="2258"/>
                        </a:lnTo>
                        <a:lnTo>
                          <a:pt x="890" y="2260"/>
                        </a:lnTo>
                        <a:lnTo>
                          <a:pt x="896" y="2264"/>
                        </a:lnTo>
                        <a:lnTo>
                          <a:pt x="900" y="2266"/>
                        </a:lnTo>
                        <a:lnTo>
                          <a:pt x="904" y="2268"/>
                        </a:lnTo>
                        <a:lnTo>
                          <a:pt x="907" y="2270"/>
                        </a:lnTo>
                        <a:lnTo>
                          <a:pt x="913" y="2273"/>
                        </a:lnTo>
                        <a:lnTo>
                          <a:pt x="919" y="2275"/>
                        </a:lnTo>
                        <a:lnTo>
                          <a:pt x="925" y="2277"/>
                        </a:lnTo>
                        <a:lnTo>
                          <a:pt x="928" y="2279"/>
                        </a:lnTo>
                        <a:lnTo>
                          <a:pt x="934" y="2281"/>
                        </a:lnTo>
                        <a:lnTo>
                          <a:pt x="938" y="2283"/>
                        </a:lnTo>
                        <a:lnTo>
                          <a:pt x="942" y="2285"/>
                        </a:lnTo>
                        <a:lnTo>
                          <a:pt x="947" y="2287"/>
                        </a:lnTo>
                        <a:lnTo>
                          <a:pt x="951" y="2289"/>
                        </a:lnTo>
                        <a:lnTo>
                          <a:pt x="955" y="2289"/>
                        </a:lnTo>
                        <a:lnTo>
                          <a:pt x="961" y="2291"/>
                        </a:lnTo>
                        <a:lnTo>
                          <a:pt x="964" y="2291"/>
                        </a:lnTo>
                        <a:lnTo>
                          <a:pt x="968" y="2294"/>
                        </a:lnTo>
                        <a:lnTo>
                          <a:pt x="972" y="2294"/>
                        </a:lnTo>
                        <a:lnTo>
                          <a:pt x="978" y="2294"/>
                        </a:lnTo>
                        <a:lnTo>
                          <a:pt x="982" y="2296"/>
                        </a:lnTo>
                        <a:lnTo>
                          <a:pt x="985" y="2296"/>
                        </a:lnTo>
                        <a:lnTo>
                          <a:pt x="989" y="2296"/>
                        </a:lnTo>
                        <a:lnTo>
                          <a:pt x="993" y="2298"/>
                        </a:lnTo>
                        <a:lnTo>
                          <a:pt x="997" y="2298"/>
                        </a:lnTo>
                        <a:lnTo>
                          <a:pt x="1001" y="2298"/>
                        </a:lnTo>
                        <a:lnTo>
                          <a:pt x="1004" y="2298"/>
                        </a:lnTo>
                        <a:lnTo>
                          <a:pt x="1008" y="2300"/>
                        </a:lnTo>
                        <a:lnTo>
                          <a:pt x="1010" y="2300"/>
                        </a:lnTo>
                        <a:lnTo>
                          <a:pt x="1014" y="2300"/>
                        </a:lnTo>
                        <a:lnTo>
                          <a:pt x="1016" y="2300"/>
                        </a:lnTo>
                        <a:lnTo>
                          <a:pt x="1020" y="2300"/>
                        </a:lnTo>
                        <a:lnTo>
                          <a:pt x="1022" y="2300"/>
                        </a:lnTo>
                        <a:lnTo>
                          <a:pt x="1025" y="2302"/>
                        </a:lnTo>
                        <a:lnTo>
                          <a:pt x="1029" y="2300"/>
                        </a:lnTo>
                        <a:lnTo>
                          <a:pt x="1035" y="2300"/>
                        </a:lnTo>
                        <a:lnTo>
                          <a:pt x="1039" y="2298"/>
                        </a:lnTo>
                        <a:lnTo>
                          <a:pt x="1042" y="2298"/>
                        </a:lnTo>
                        <a:lnTo>
                          <a:pt x="1044" y="2296"/>
                        </a:lnTo>
                        <a:lnTo>
                          <a:pt x="1048" y="2296"/>
                        </a:lnTo>
                        <a:lnTo>
                          <a:pt x="1048" y="2294"/>
                        </a:lnTo>
                        <a:lnTo>
                          <a:pt x="1050" y="2294"/>
                        </a:lnTo>
                        <a:lnTo>
                          <a:pt x="1246" y="1334"/>
                        </a:lnTo>
                        <a:lnTo>
                          <a:pt x="1246" y="1333"/>
                        </a:lnTo>
                        <a:lnTo>
                          <a:pt x="1248" y="1331"/>
                        </a:lnTo>
                        <a:lnTo>
                          <a:pt x="1250" y="1327"/>
                        </a:lnTo>
                        <a:lnTo>
                          <a:pt x="1252" y="1325"/>
                        </a:lnTo>
                        <a:lnTo>
                          <a:pt x="1252" y="1323"/>
                        </a:lnTo>
                        <a:lnTo>
                          <a:pt x="1254" y="1319"/>
                        </a:lnTo>
                        <a:lnTo>
                          <a:pt x="1256" y="1315"/>
                        </a:lnTo>
                        <a:lnTo>
                          <a:pt x="1259" y="1312"/>
                        </a:lnTo>
                        <a:lnTo>
                          <a:pt x="1259" y="1306"/>
                        </a:lnTo>
                        <a:lnTo>
                          <a:pt x="1263" y="1302"/>
                        </a:lnTo>
                        <a:lnTo>
                          <a:pt x="1265" y="1296"/>
                        </a:lnTo>
                        <a:lnTo>
                          <a:pt x="1269" y="1293"/>
                        </a:lnTo>
                        <a:lnTo>
                          <a:pt x="1271" y="1285"/>
                        </a:lnTo>
                        <a:lnTo>
                          <a:pt x="1275" y="1281"/>
                        </a:lnTo>
                        <a:lnTo>
                          <a:pt x="1276" y="1274"/>
                        </a:lnTo>
                        <a:lnTo>
                          <a:pt x="1280" y="1266"/>
                        </a:lnTo>
                        <a:lnTo>
                          <a:pt x="1284" y="1258"/>
                        </a:lnTo>
                        <a:lnTo>
                          <a:pt x="1288" y="1249"/>
                        </a:lnTo>
                        <a:lnTo>
                          <a:pt x="1290" y="1241"/>
                        </a:lnTo>
                        <a:lnTo>
                          <a:pt x="1294" y="1234"/>
                        </a:lnTo>
                        <a:lnTo>
                          <a:pt x="1297" y="1224"/>
                        </a:lnTo>
                        <a:lnTo>
                          <a:pt x="1301" y="1217"/>
                        </a:lnTo>
                        <a:lnTo>
                          <a:pt x="1305" y="1207"/>
                        </a:lnTo>
                        <a:lnTo>
                          <a:pt x="1309" y="1198"/>
                        </a:lnTo>
                        <a:lnTo>
                          <a:pt x="1313" y="1188"/>
                        </a:lnTo>
                        <a:lnTo>
                          <a:pt x="1316" y="1177"/>
                        </a:lnTo>
                        <a:lnTo>
                          <a:pt x="1320" y="1165"/>
                        </a:lnTo>
                        <a:lnTo>
                          <a:pt x="1324" y="1154"/>
                        </a:lnTo>
                        <a:lnTo>
                          <a:pt x="1330" y="1144"/>
                        </a:lnTo>
                        <a:lnTo>
                          <a:pt x="1334" y="1133"/>
                        </a:lnTo>
                        <a:lnTo>
                          <a:pt x="1337" y="1122"/>
                        </a:lnTo>
                        <a:lnTo>
                          <a:pt x="1339" y="1108"/>
                        </a:lnTo>
                        <a:lnTo>
                          <a:pt x="1345" y="1097"/>
                        </a:lnTo>
                        <a:lnTo>
                          <a:pt x="1349" y="1084"/>
                        </a:lnTo>
                        <a:lnTo>
                          <a:pt x="1353" y="1070"/>
                        </a:lnTo>
                        <a:lnTo>
                          <a:pt x="1354" y="1059"/>
                        </a:lnTo>
                        <a:lnTo>
                          <a:pt x="1358" y="1044"/>
                        </a:lnTo>
                        <a:lnTo>
                          <a:pt x="1362" y="1032"/>
                        </a:lnTo>
                        <a:lnTo>
                          <a:pt x="1366" y="1017"/>
                        </a:lnTo>
                        <a:lnTo>
                          <a:pt x="1370" y="1004"/>
                        </a:lnTo>
                        <a:lnTo>
                          <a:pt x="1372" y="988"/>
                        </a:lnTo>
                        <a:lnTo>
                          <a:pt x="1375" y="975"/>
                        </a:lnTo>
                        <a:lnTo>
                          <a:pt x="1377" y="960"/>
                        </a:lnTo>
                        <a:lnTo>
                          <a:pt x="1381" y="947"/>
                        </a:lnTo>
                        <a:lnTo>
                          <a:pt x="1383" y="931"/>
                        </a:lnTo>
                        <a:lnTo>
                          <a:pt x="1387" y="916"/>
                        </a:lnTo>
                        <a:lnTo>
                          <a:pt x="1389" y="901"/>
                        </a:lnTo>
                        <a:lnTo>
                          <a:pt x="1391" y="886"/>
                        </a:lnTo>
                        <a:lnTo>
                          <a:pt x="1392" y="871"/>
                        </a:lnTo>
                        <a:lnTo>
                          <a:pt x="1394" y="855"/>
                        </a:lnTo>
                        <a:lnTo>
                          <a:pt x="1396" y="838"/>
                        </a:lnTo>
                        <a:lnTo>
                          <a:pt x="1398" y="823"/>
                        </a:lnTo>
                        <a:lnTo>
                          <a:pt x="1398" y="806"/>
                        </a:lnTo>
                        <a:lnTo>
                          <a:pt x="1400" y="791"/>
                        </a:lnTo>
                        <a:lnTo>
                          <a:pt x="1402" y="774"/>
                        </a:lnTo>
                        <a:lnTo>
                          <a:pt x="1402" y="757"/>
                        </a:lnTo>
                        <a:lnTo>
                          <a:pt x="1402" y="741"/>
                        </a:lnTo>
                        <a:lnTo>
                          <a:pt x="1402" y="724"/>
                        </a:lnTo>
                        <a:lnTo>
                          <a:pt x="1402" y="705"/>
                        </a:lnTo>
                        <a:lnTo>
                          <a:pt x="1402" y="690"/>
                        </a:lnTo>
                        <a:lnTo>
                          <a:pt x="1400" y="673"/>
                        </a:lnTo>
                        <a:lnTo>
                          <a:pt x="1400" y="656"/>
                        </a:lnTo>
                        <a:lnTo>
                          <a:pt x="1398" y="654"/>
                        </a:lnTo>
                        <a:lnTo>
                          <a:pt x="1398" y="652"/>
                        </a:lnTo>
                        <a:lnTo>
                          <a:pt x="1398" y="648"/>
                        </a:lnTo>
                        <a:lnTo>
                          <a:pt x="1398" y="644"/>
                        </a:lnTo>
                        <a:lnTo>
                          <a:pt x="1398" y="643"/>
                        </a:lnTo>
                        <a:lnTo>
                          <a:pt x="1398" y="639"/>
                        </a:lnTo>
                        <a:lnTo>
                          <a:pt x="1396" y="637"/>
                        </a:lnTo>
                        <a:lnTo>
                          <a:pt x="1396" y="633"/>
                        </a:lnTo>
                        <a:lnTo>
                          <a:pt x="1396" y="631"/>
                        </a:lnTo>
                        <a:lnTo>
                          <a:pt x="1396" y="627"/>
                        </a:lnTo>
                        <a:lnTo>
                          <a:pt x="1396" y="623"/>
                        </a:lnTo>
                        <a:lnTo>
                          <a:pt x="1394" y="620"/>
                        </a:lnTo>
                        <a:lnTo>
                          <a:pt x="1394" y="618"/>
                        </a:lnTo>
                        <a:lnTo>
                          <a:pt x="1394" y="616"/>
                        </a:lnTo>
                        <a:lnTo>
                          <a:pt x="1392" y="612"/>
                        </a:lnTo>
                        <a:lnTo>
                          <a:pt x="1392" y="610"/>
                        </a:lnTo>
                        <a:lnTo>
                          <a:pt x="1392" y="608"/>
                        </a:lnTo>
                        <a:lnTo>
                          <a:pt x="1391" y="604"/>
                        </a:lnTo>
                        <a:lnTo>
                          <a:pt x="1391" y="603"/>
                        </a:lnTo>
                        <a:lnTo>
                          <a:pt x="1391" y="599"/>
                        </a:lnTo>
                        <a:lnTo>
                          <a:pt x="1389" y="597"/>
                        </a:lnTo>
                        <a:lnTo>
                          <a:pt x="1389" y="593"/>
                        </a:lnTo>
                        <a:lnTo>
                          <a:pt x="1389" y="589"/>
                        </a:lnTo>
                        <a:lnTo>
                          <a:pt x="1389" y="587"/>
                        </a:lnTo>
                        <a:lnTo>
                          <a:pt x="1387" y="585"/>
                        </a:lnTo>
                        <a:lnTo>
                          <a:pt x="1385" y="582"/>
                        </a:lnTo>
                        <a:lnTo>
                          <a:pt x="1385" y="580"/>
                        </a:lnTo>
                        <a:lnTo>
                          <a:pt x="1383" y="578"/>
                        </a:lnTo>
                        <a:lnTo>
                          <a:pt x="1383" y="572"/>
                        </a:lnTo>
                        <a:lnTo>
                          <a:pt x="1381" y="568"/>
                        </a:lnTo>
                        <a:lnTo>
                          <a:pt x="1377" y="563"/>
                        </a:lnTo>
                        <a:lnTo>
                          <a:pt x="1375" y="557"/>
                        </a:lnTo>
                        <a:lnTo>
                          <a:pt x="1373" y="553"/>
                        </a:lnTo>
                        <a:lnTo>
                          <a:pt x="1370" y="547"/>
                        </a:lnTo>
                        <a:lnTo>
                          <a:pt x="1366" y="544"/>
                        </a:lnTo>
                        <a:lnTo>
                          <a:pt x="1364" y="540"/>
                        </a:lnTo>
                        <a:lnTo>
                          <a:pt x="1360" y="536"/>
                        </a:lnTo>
                        <a:lnTo>
                          <a:pt x="1356" y="532"/>
                        </a:lnTo>
                        <a:lnTo>
                          <a:pt x="1353" y="528"/>
                        </a:lnTo>
                        <a:lnTo>
                          <a:pt x="1349" y="525"/>
                        </a:lnTo>
                        <a:lnTo>
                          <a:pt x="1345" y="523"/>
                        </a:lnTo>
                        <a:lnTo>
                          <a:pt x="1339" y="521"/>
                        </a:lnTo>
                        <a:lnTo>
                          <a:pt x="1335" y="517"/>
                        </a:lnTo>
                        <a:lnTo>
                          <a:pt x="1332" y="515"/>
                        </a:lnTo>
                        <a:lnTo>
                          <a:pt x="1326" y="515"/>
                        </a:lnTo>
                        <a:lnTo>
                          <a:pt x="1322" y="513"/>
                        </a:lnTo>
                        <a:lnTo>
                          <a:pt x="1318" y="511"/>
                        </a:lnTo>
                        <a:lnTo>
                          <a:pt x="1316" y="511"/>
                        </a:lnTo>
                        <a:lnTo>
                          <a:pt x="1313" y="511"/>
                        </a:lnTo>
                        <a:lnTo>
                          <a:pt x="1311" y="511"/>
                        </a:lnTo>
                        <a:lnTo>
                          <a:pt x="1309" y="509"/>
                        </a:lnTo>
                        <a:lnTo>
                          <a:pt x="1305" y="509"/>
                        </a:lnTo>
                        <a:lnTo>
                          <a:pt x="1303" y="509"/>
                        </a:lnTo>
                        <a:lnTo>
                          <a:pt x="1301" y="509"/>
                        </a:lnTo>
                        <a:lnTo>
                          <a:pt x="1297" y="509"/>
                        </a:lnTo>
                        <a:lnTo>
                          <a:pt x="1295" y="509"/>
                        </a:lnTo>
                        <a:lnTo>
                          <a:pt x="1292" y="509"/>
                        </a:lnTo>
                        <a:lnTo>
                          <a:pt x="1290" y="509"/>
                        </a:lnTo>
                        <a:lnTo>
                          <a:pt x="1284" y="509"/>
                        </a:lnTo>
                        <a:lnTo>
                          <a:pt x="1280" y="509"/>
                        </a:lnTo>
                        <a:lnTo>
                          <a:pt x="1275" y="509"/>
                        </a:lnTo>
                        <a:lnTo>
                          <a:pt x="1269" y="509"/>
                        </a:lnTo>
                        <a:lnTo>
                          <a:pt x="1265" y="509"/>
                        </a:lnTo>
                        <a:lnTo>
                          <a:pt x="1259" y="509"/>
                        </a:lnTo>
                        <a:lnTo>
                          <a:pt x="1256" y="511"/>
                        </a:lnTo>
                        <a:lnTo>
                          <a:pt x="1252" y="511"/>
                        </a:lnTo>
                        <a:lnTo>
                          <a:pt x="1246" y="515"/>
                        </a:lnTo>
                        <a:lnTo>
                          <a:pt x="1242" y="515"/>
                        </a:lnTo>
                        <a:lnTo>
                          <a:pt x="1238" y="517"/>
                        </a:lnTo>
                        <a:lnTo>
                          <a:pt x="1235" y="521"/>
                        </a:lnTo>
                        <a:lnTo>
                          <a:pt x="1231" y="523"/>
                        </a:lnTo>
                        <a:lnTo>
                          <a:pt x="1229" y="525"/>
                        </a:lnTo>
                        <a:lnTo>
                          <a:pt x="1225" y="527"/>
                        </a:lnTo>
                        <a:lnTo>
                          <a:pt x="1221" y="530"/>
                        </a:lnTo>
                        <a:lnTo>
                          <a:pt x="1219" y="532"/>
                        </a:lnTo>
                        <a:lnTo>
                          <a:pt x="1216" y="538"/>
                        </a:lnTo>
                        <a:lnTo>
                          <a:pt x="1214" y="542"/>
                        </a:lnTo>
                        <a:lnTo>
                          <a:pt x="1212" y="546"/>
                        </a:lnTo>
                        <a:lnTo>
                          <a:pt x="1210" y="549"/>
                        </a:lnTo>
                        <a:lnTo>
                          <a:pt x="1208" y="555"/>
                        </a:lnTo>
                        <a:lnTo>
                          <a:pt x="1208" y="557"/>
                        </a:lnTo>
                        <a:lnTo>
                          <a:pt x="1206" y="559"/>
                        </a:lnTo>
                        <a:lnTo>
                          <a:pt x="1204" y="561"/>
                        </a:lnTo>
                        <a:lnTo>
                          <a:pt x="1204" y="565"/>
                        </a:lnTo>
                        <a:lnTo>
                          <a:pt x="1204" y="566"/>
                        </a:lnTo>
                        <a:lnTo>
                          <a:pt x="1204" y="570"/>
                        </a:lnTo>
                        <a:lnTo>
                          <a:pt x="1204" y="572"/>
                        </a:lnTo>
                        <a:lnTo>
                          <a:pt x="1204" y="576"/>
                        </a:lnTo>
                        <a:lnTo>
                          <a:pt x="1139" y="895"/>
                        </a:lnTo>
                        <a:lnTo>
                          <a:pt x="1136" y="893"/>
                        </a:lnTo>
                        <a:lnTo>
                          <a:pt x="1132" y="892"/>
                        </a:lnTo>
                        <a:lnTo>
                          <a:pt x="1126" y="888"/>
                        </a:lnTo>
                        <a:lnTo>
                          <a:pt x="1122" y="886"/>
                        </a:lnTo>
                        <a:lnTo>
                          <a:pt x="1117" y="884"/>
                        </a:lnTo>
                        <a:lnTo>
                          <a:pt x="1113" y="880"/>
                        </a:lnTo>
                        <a:lnTo>
                          <a:pt x="1107" y="878"/>
                        </a:lnTo>
                        <a:lnTo>
                          <a:pt x="1105" y="876"/>
                        </a:lnTo>
                        <a:lnTo>
                          <a:pt x="1227" y="316"/>
                        </a:lnTo>
                        <a:lnTo>
                          <a:pt x="1227" y="312"/>
                        </a:lnTo>
                        <a:lnTo>
                          <a:pt x="1227" y="308"/>
                        </a:lnTo>
                        <a:lnTo>
                          <a:pt x="1229" y="306"/>
                        </a:lnTo>
                        <a:lnTo>
                          <a:pt x="1229" y="304"/>
                        </a:lnTo>
                        <a:lnTo>
                          <a:pt x="1229" y="300"/>
                        </a:lnTo>
                        <a:lnTo>
                          <a:pt x="1229" y="298"/>
                        </a:lnTo>
                        <a:lnTo>
                          <a:pt x="1229" y="295"/>
                        </a:lnTo>
                        <a:lnTo>
                          <a:pt x="1229" y="293"/>
                        </a:lnTo>
                        <a:lnTo>
                          <a:pt x="1229" y="291"/>
                        </a:lnTo>
                        <a:lnTo>
                          <a:pt x="1229" y="287"/>
                        </a:lnTo>
                        <a:lnTo>
                          <a:pt x="1229" y="285"/>
                        </a:lnTo>
                        <a:lnTo>
                          <a:pt x="1229" y="283"/>
                        </a:lnTo>
                        <a:lnTo>
                          <a:pt x="1229" y="278"/>
                        </a:lnTo>
                        <a:lnTo>
                          <a:pt x="1227" y="272"/>
                        </a:lnTo>
                        <a:lnTo>
                          <a:pt x="1225" y="268"/>
                        </a:lnTo>
                        <a:lnTo>
                          <a:pt x="1225" y="262"/>
                        </a:lnTo>
                        <a:lnTo>
                          <a:pt x="1223" y="257"/>
                        </a:lnTo>
                        <a:lnTo>
                          <a:pt x="1221" y="253"/>
                        </a:lnTo>
                        <a:lnTo>
                          <a:pt x="1219" y="247"/>
                        </a:lnTo>
                        <a:lnTo>
                          <a:pt x="1217" y="243"/>
                        </a:lnTo>
                        <a:lnTo>
                          <a:pt x="1216" y="240"/>
                        </a:lnTo>
                        <a:lnTo>
                          <a:pt x="1214" y="236"/>
                        </a:lnTo>
                        <a:lnTo>
                          <a:pt x="1210" y="232"/>
                        </a:lnTo>
                        <a:lnTo>
                          <a:pt x="1206" y="226"/>
                        </a:lnTo>
                        <a:lnTo>
                          <a:pt x="1202" y="222"/>
                        </a:lnTo>
                        <a:lnTo>
                          <a:pt x="1200" y="219"/>
                        </a:lnTo>
                        <a:lnTo>
                          <a:pt x="1197" y="215"/>
                        </a:lnTo>
                        <a:lnTo>
                          <a:pt x="1193" y="211"/>
                        </a:lnTo>
                        <a:lnTo>
                          <a:pt x="1189" y="207"/>
                        </a:lnTo>
                        <a:lnTo>
                          <a:pt x="1185" y="205"/>
                        </a:lnTo>
                        <a:lnTo>
                          <a:pt x="1179" y="203"/>
                        </a:lnTo>
                        <a:lnTo>
                          <a:pt x="1176" y="200"/>
                        </a:lnTo>
                        <a:lnTo>
                          <a:pt x="1172" y="198"/>
                        </a:lnTo>
                        <a:lnTo>
                          <a:pt x="1166" y="194"/>
                        </a:lnTo>
                        <a:lnTo>
                          <a:pt x="1160" y="192"/>
                        </a:lnTo>
                        <a:lnTo>
                          <a:pt x="1157" y="192"/>
                        </a:lnTo>
                        <a:lnTo>
                          <a:pt x="1151" y="190"/>
                        </a:lnTo>
                        <a:lnTo>
                          <a:pt x="1147" y="190"/>
                        </a:lnTo>
                        <a:lnTo>
                          <a:pt x="1143" y="188"/>
                        </a:lnTo>
                        <a:lnTo>
                          <a:pt x="1141" y="186"/>
                        </a:lnTo>
                        <a:lnTo>
                          <a:pt x="1138" y="186"/>
                        </a:lnTo>
                        <a:lnTo>
                          <a:pt x="1136" y="186"/>
                        </a:lnTo>
                        <a:lnTo>
                          <a:pt x="1134" y="186"/>
                        </a:lnTo>
                        <a:lnTo>
                          <a:pt x="1130" y="186"/>
                        </a:lnTo>
                        <a:lnTo>
                          <a:pt x="1128" y="186"/>
                        </a:lnTo>
                        <a:lnTo>
                          <a:pt x="1124" y="186"/>
                        </a:lnTo>
                        <a:lnTo>
                          <a:pt x="1122" y="186"/>
                        </a:lnTo>
                        <a:lnTo>
                          <a:pt x="1120" y="186"/>
                        </a:lnTo>
                        <a:lnTo>
                          <a:pt x="1117" y="186"/>
                        </a:lnTo>
                        <a:lnTo>
                          <a:pt x="1115" y="186"/>
                        </a:lnTo>
                        <a:lnTo>
                          <a:pt x="1109" y="186"/>
                        </a:lnTo>
                        <a:lnTo>
                          <a:pt x="1105" y="188"/>
                        </a:lnTo>
                        <a:lnTo>
                          <a:pt x="1100" y="188"/>
                        </a:lnTo>
                        <a:lnTo>
                          <a:pt x="1094" y="190"/>
                        </a:lnTo>
                        <a:lnTo>
                          <a:pt x="1090" y="192"/>
                        </a:lnTo>
                        <a:lnTo>
                          <a:pt x="1086" y="192"/>
                        </a:lnTo>
                        <a:lnTo>
                          <a:pt x="1081" y="194"/>
                        </a:lnTo>
                        <a:lnTo>
                          <a:pt x="1077" y="198"/>
                        </a:lnTo>
                        <a:lnTo>
                          <a:pt x="1073" y="200"/>
                        </a:lnTo>
                        <a:lnTo>
                          <a:pt x="1067" y="203"/>
                        </a:lnTo>
                        <a:lnTo>
                          <a:pt x="1063" y="205"/>
                        </a:lnTo>
                        <a:lnTo>
                          <a:pt x="1058" y="207"/>
                        </a:lnTo>
                        <a:lnTo>
                          <a:pt x="1054" y="211"/>
                        </a:lnTo>
                        <a:lnTo>
                          <a:pt x="1050" y="215"/>
                        </a:lnTo>
                        <a:lnTo>
                          <a:pt x="1048" y="219"/>
                        </a:lnTo>
                        <a:lnTo>
                          <a:pt x="1044" y="222"/>
                        </a:lnTo>
                        <a:lnTo>
                          <a:pt x="1041" y="226"/>
                        </a:lnTo>
                        <a:lnTo>
                          <a:pt x="1039" y="232"/>
                        </a:lnTo>
                        <a:lnTo>
                          <a:pt x="1035" y="234"/>
                        </a:lnTo>
                        <a:lnTo>
                          <a:pt x="1033" y="240"/>
                        </a:lnTo>
                        <a:lnTo>
                          <a:pt x="1029" y="243"/>
                        </a:lnTo>
                        <a:lnTo>
                          <a:pt x="1027" y="249"/>
                        </a:lnTo>
                        <a:lnTo>
                          <a:pt x="1025" y="253"/>
                        </a:lnTo>
                        <a:lnTo>
                          <a:pt x="1023" y="259"/>
                        </a:lnTo>
                        <a:lnTo>
                          <a:pt x="1022" y="260"/>
                        </a:lnTo>
                        <a:lnTo>
                          <a:pt x="1022" y="264"/>
                        </a:lnTo>
                        <a:lnTo>
                          <a:pt x="1022" y="266"/>
                        </a:lnTo>
                        <a:lnTo>
                          <a:pt x="1022" y="270"/>
                        </a:lnTo>
                        <a:lnTo>
                          <a:pt x="919" y="730"/>
                        </a:lnTo>
                        <a:lnTo>
                          <a:pt x="915" y="728"/>
                        </a:lnTo>
                        <a:lnTo>
                          <a:pt x="913" y="726"/>
                        </a:lnTo>
                        <a:lnTo>
                          <a:pt x="907" y="724"/>
                        </a:lnTo>
                        <a:lnTo>
                          <a:pt x="905" y="720"/>
                        </a:lnTo>
                        <a:lnTo>
                          <a:pt x="904" y="719"/>
                        </a:lnTo>
                        <a:lnTo>
                          <a:pt x="900" y="717"/>
                        </a:lnTo>
                        <a:lnTo>
                          <a:pt x="896" y="713"/>
                        </a:lnTo>
                        <a:lnTo>
                          <a:pt x="892" y="713"/>
                        </a:lnTo>
                        <a:lnTo>
                          <a:pt x="1022" y="129"/>
                        </a:lnTo>
                        <a:lnTo>
                          <a:pt x="1022" y="125"/>
                        </a:lnTo>
                        <a:lnTo>
                          <a:pt x="1022" y="124"/>
                        </a:lnTo>
                        <a:lnTo>
                          <a:pt x="1022" y="120"/>
                        </a:lnTo>
                        <a:lnTo>
                          <a:pt x="1022" y="118"/>
                        </a:lnTo>
                        <a:lnTo>
                          <a:pt x="1022" y="114"/>
                        </a:lnTo>
                        <a:lnTo>
                          <a:pt x="1022" y="112"/>
                        </a:lnTo>
                        <a:lnTo>
                          <a:pt x="1022" y="110"/>
                        </a:lnTo>
                        <a:lnTo>
                          <a:pt x="1022" y="106"/>
                        </a:lnTo>
                        <a:lnTo>
                          <a:pt x="1022" y="105"/>
                        </a:lnTo>
                        <a:lnTo>
                          <a:pt x="1022" y="103"/>
                        </a:lnTo>
                        <a:lnTo>
                          <a:pt x="1022" y="99"/>
                        </a:lnTo>
                        <a:lnTo>
                          <a:pt x="1022" y="97"/>
                        </a:lnTo>
                        <a:lnTo>
                          <a:pt x="1022" y="91"/>
                        </a:lnTo>
                        <a:lnTo>
                          <a:pt x="1022" y="86"/>
                        </a:lnTo>
                        <a:lnTo>
                          <a:pt x="1020" y="82"/>
                        </a:lnTo>
                        <a:lnTo>
                          <a:pt x="1018" y="76"/>
                        </a:lnTo>
                        <a:lnTo>
                          <a:pt x="1016" y="70"/>
                        </a:lnTo>
                        <a:lnTo>
                          <a:pt x="1014" y="67"/>
                        </a:lnTo>
                        <a:lnTo>
                          <a:pt x="1012" y="61"/>
                        </a:lnTo>
                        <a:lnTo>
                          <a:pt x="1010" y="57"/>
                        </a:lnTo>
                        <a:lnTo>
                          <a:pt x="1008" y="53"/>
                        </a:lnTo>
                        <a:lnTo>
                          <a:pt x="1006" y="48"/>
                        </a:lnTo>
                        <a:lnTo>
                          <a:pt x="1004" y="44"/>
                        </a:lnTo>
                        <a:lnTo>
                          <a:pt x="1001" y="40"/>
                        </a:lnTo>
                        <a:lnTo>
                          <a:pt x="997" y="36"/>
                        </a:lnTo>
                        <a:lnTo>
                          <a:pt x="993" y="32"/>
                        </a:lnTo>
                        <a:lnTo>
                          <a:pt x="991" y="29"/>
                        </a:lnTo>
                        <a:lnTo>
                          <a:pt x="985" y="25"/>
                        </a:lnTo>
                        <a:lnTo>
                          <a:pt x="983" y="23"/>
                        </a:lnTo>
                        <a:lnTo>
                          <a:pt x="978" y="19"/>
                        </a:lnTo>
                        <a:lnTo>
                          <a:pt x="972" y="17"/>
                        </a:lnTo>
                        <a:lnTo>
                          <a:pt x="968" y="13"/>
                        </a:lnTo>
                        <a:lnTo>
                          <a:pt x="964" y="11"/>
                        </a:lnTo>
                        <a:lnTo>
                          <a:pt x="961" y="10"/>
                        </a:lnTo>
                        <a:lnTo>
                          <a:pt x="955" y="6"/>
                        </a:lnTo>
                        <a:lnTo>
                          <a:pt x="949" y="6"/>
                        </a:lnTo>
                        <a:lnTo>
                          <a:pt x="944" y="4"/>
                        </a:lnTo>
                        <a:lnTo>
                          <a:pt x="940" y="4"/>
                        </a:lnTo>
                        <a:lnTo>
                          <a:pt x="936" y="2"/>
                        </a:lnTo>
                        <a:lnTo>
                          <a:pt x="934" y="2"/>
                        </a:lnTo>
                        <a:lnTo>
                          <a:pt x="932" y="0"/>
                        </a:lnTo>
                        <a:lnTo>
                          <a:pt x="928" y="0"/>
                        </a:lnTo>
                        <a:lnTo>
                          <a:pt x="926" y="0"/>
                        </a:lnTo>
                        <a:lnTo>
                          <a:pt x="925" y="0"/>
                        </a:lnTo>
                        <a:lnTo>
                          <a:pt x="921" y="0"/>
                        </a:lnTo>
                        <a:lnTo>
                          <a:pt x="919" y="0"/>
                        </a:lnTo>
                        <a:lnTo>
                          <a:pt x="915" y="0"/>
                        </a:lnTo>
                        <a:lnTo>
                          <a:pt x="913" y="0"/>
                        </a:lnTo>
                        <a:lnTo>
                          <a:pt x="911" y="0"/>
                        </a:lnTo>
                        <a:lnTo>
                          <a:pt x="907" y="0"/>
                        </a:lnTo>
                        <a:lnTo>
                          <a:pt x="904" y="0"/>
                        </a:lnTo>
                        <a:lnTo>
                          <a:pt x="898" y="2"/>
                        </a:lnTo>
                        <a:lnTo>
                          <a:pt x="896" y="2"/>
                        </a:lnTo>
                        <a:lnTo>
                          <a:pt x="892" y="2"/>
                        </a:lnTo>
                        <a:lnTo>
                          <a:pt x="890" y="2"/>
                        </a:lnTo>
                        <a:lnTo>
                          <a:pt x="888" y="4"/>
                        </a:lnTo>
                        <a:lnTo>
                          <a:pt x="881" y="4"/>
                        </a:lnTo>
                        <a:lnTo>
                          <a:pt x="877" y="6"/>
                        </a:lnTo>
                        <a:lnTo>
                          <a:pt x="873" y="10"/>
                        </a:lnTo>
                        <a:lnTo>
                          <a:pt x="867" y="11"/>
                        </a:lnTo>
                        <a:lnTo>
                          <a:pt x="864" y="15"/>
                        </a:lnTo>
                        <a:lnTo>
                          <a:pt x="860" y="17"/>
                        </a:lnTo>
                        <a:lnTo>
                          <a:pt x="854" y="19"/>
                        </a:lnTo>
                        <a:lnTo>
                          <a:pt x="850" y="23"/>
                        </a:lnTo>
                        <a:lnTo>
                          <a:pt x="847" y="25"/>
                        </a:lnTo>
                        <a:lnTo>
                          <a:pt x="843" y="29"/>
                        </a:lnTo>
                        <a:lnTo>
                          <a:pt x="839" y="32"/>
                        </a:lnTo>
                        <a:lnTo>
                          <a:pt x="835" y="36"/>
                        </a:lnTo>
                        <a:lnTo>
                          <a:pt x="833" y="40"/>
                        </a:lnTo>
                        <a:lnTo>
                          <a:pt x="831" y="44"/>
                        </a:lnTo>
                        <a:lnTo>
                          <a:pt x="828" y="48"/>
                        </a:lnTo>
                        <a:lnTo>
                          <a:pt x="824" y="53"/>
                        </a:lnTo>
                        <a:lnTo>
                          <a:pt x="822" y="57"/>
                        </a:lnTo>
                        <a:lnTo>
                          <a:pt x="820" y="61"/>
                        </a:lnTo>
                        <a:lnTo>
                          <a:pt x="818" y="67"/>
                        </a:lnTo>
                        <a:lnTo>
                          <a:pt x="816" y="70"/>
                        </a:lnTo>
                        <a:lnTo>
                          <a:pt x="816" y="74"/>
                        </a:lnTo>
                        <a:lnTo>
                          <a:pt x="814" y="76"/>
                        </a:lnTo>
                        <a:lnTo>
                          <a:pt x="812" y="82"/>
                        </a:lnTo>
                        <a:lnTo>
                          <a:pt x="812" y="84"/>
                        </a:lnTo>
                        <a:lnTo>
                          <a:pt x="687" y="663"/>
                        </a:lnTo>
                        <a:lnTo>
                          <a:pt x="681" y="663"/>
                        </a:lnTo>
                        <a:lnTo>
                          <a:pt x="677" y="663"/>
                        </a:lnTo>
                        <a:lnTo>
                          <a:pt x="673" y="663"/>
                        </a:lnTo>
                        <a:lnTo>
                          <a:pt x="670" y="663"/>
                        </a:lnTo>
                        <a:lnTo>
                          <a:pt x="666" y="663"/>
                        </a:lnTo>
                        <a:lnTo>
                          <a:pt x="660" y="665"/>
                        </a:lnTo>
                        <a:lnTo>
                          <a:pt x="656" y="665"/>
                        </a:lnTo>
                        <a:lnTo>
                          <a:pt x="652" y="667"/>
                        </a:lnTo>
                        <a:lnTo>
                          <a:pt x="753" y="213"/>
                        </a:lnTo>
                        <a:lnTo>
                          <a:pt x="753" y="209"/>
                        </a:lnTo>
                        <a:lnTo>
                          <a:pt x="753" y="207"/>
                        </a:lnTo>
                        <a:lnTo>
                          <a:pt x="753" y="203"/>
                        </a:lnTo>
                        <a:lnTo>
                          <a:pt x="753" y="201"/>
                        </a:lnTo>
                        <a:lnTo>
                          <a:pt x="753" y="198"/>
                        </a:lnTo>
                        <a:lnTo>
                          <a:pt x="753" y="196"/>
                        </a:lnTo>
                        <a:lnTo>
                          <a:pt x="753" y="192"/>
                        </a:lnTo>
                        <a:lnTo>
                          <a:pt x="753" y="190"/>
                        </a:lnTo>
                        <a:lnTo>
                          <a:pt x="753" y="188"/>
                        </a:lnTo>
                        <a:lnTo>
                          <a:pt x="753" y="184"/>
                        </a:lnTo>
                        <a:lnTo>
                          <a:pt x="753" y="182"/>
                        </a:lnTo>
                        <a:lnTo>
                          <a:pt x="753" y="181"/>
                        </a:lnTo>
                        <a:lnTo>
                          <a:pt x="753" y="175"/>
                        </a:lnTo>
                        <a:lnTo>
                          <a:pt x="753" y="169"/>
                        </a:lnTo>
                        <a:lnTo>
                          <a:pt x="751" y="167"/>
                        </a:lnTo>
                        <a:lnTo>
                          <a:pt x="751" y="163"/>
                        </a:lnTo>
                        <a:lnTo>
                          <a:pt x="751" y="162"/>
                        </a:lnTo>
                        <a:lnTo>
                          <a:pt x="750" y="160"/>
                        </a:lnTo>
                        <a:lnTo>
                          <a:pt x="748" y="154"/>
                        </a:lnTo>
                        <a:lnTo>
                          <a:pt x="746" y="148"/>
                        </a:lnTo>
                        <a:lnTo>
                          <a:pt x="744" y="144"/>
                        </a:lnTo>
                        <a:lnTo>
                          <a:pt x="742" y="141"/>
                        </a:lnTo>
                        <a:lnTo>
                          <a:pt x="740" y="135"/>
                        </a:lnTo>
                        <a:lnTo>
                          <a:pt x="738" y="131"/>
                        </a:lnTo>
                        <a:lnTo>
                          <a:pt x="734" y="127"/>
                        </a:lnTo>
                        <a:lnTo>
                          <a:pt x="730" y="124"/>
                        </a:lnTo>
                        <a:lnTo>
                          <a:pt x="727" y="120"/>
                        </a:lnTo>
                        <a:lnTo>
                          <a:pt x="725" y="116"/>
                        </a:lnTo>
                        <a:lnTo>
                          <a:pt x="721" y="112"/>
                        </a:lnTo>
                        <a:lnTo>
                          <a:pt x="717" y="108"/>
                        </a:lnTo>
                        <a:lnTo>
                          <a:pt x="713" y="105"/>
                        </a:lnTo>
                        <a:lnTo>
                          <a:pt x="710" y="103"/>
                        </a:lnTo>
                        <a:lnTo>
                          <a:pt x="704" y="99"/>
                        </a:lnTo>
                        <a:lnTo>
                          <a:pt x="700" y="97"/>
                        </a:lnTo>
                        <a:lnTo>
                          <a:pt x="694" y="95"/>
                        </a:lnTo>
                        <a:lnTo>
                          <a:pt x="691" y="91"/>
                        </a:lnTo>
                        <a:lnTo>
                          <a:pt x="685" y="89"/>
                        </a:lnTo>
                        <a:lnTo>
                          <a:pt x="681" y="87"/>
                        </a:lnTo>
                        <a:lnTo>
                          <a:pt x="675" y="86"/>
                        </a:lnTo>
                        <a:lnTo>
                          <a:pt x="672" y="86"/>
                        </a:lnTo>
                        <a:lnTo>
                          <a:pt x="668" y="84"/>
                        </a:lnTo>
                        <a:lnTo>
                          <a:pt x="666" y="84"/>
                        </a:lnTo>
                        <a:lnTo>
                          <a:pt x="664" y="84"/>
                        </a:lnTo>
                        <a:lnTo>
                          <a:pt x="660" y="84"/>
                        </a:lnTo>
                        <a:lnTo>
                          <a:pt x="658" y="84"/>
                        </a:lnTo>
                        <a:lnTo>
                          <a:pt x="654" y="84"/>
                        </a:lnTo>
                        <a:lnTo>
                          <a:pt x="652" y="84"/>
                        </a:lnTo>
                        <a:lnTo>
                          <a:pt x="651" y="84"/>
                        </a:lnTo>
                        <a:lnTo>
                          <a:pt x="647" y="84"/>
                        </a:lnTo>
                        <a:lnTo>
                          <a:pt x="645" y="84"/>
                        </a:lnTo>
                        <a:lnTo>
                          <a:pt x="643" y="84"/>
                        </a:lnTo>
                        <a:lnTo>
                          <a:pt x="639" y="84"/>
                        </a:lnTo>
                        <a:lnTo>
                          <a:pt x="635" y="84"/>
                        </a:lnTo>
                        <a:lnTo>
                          <a:pt x="630" y="84"/>
                        </a:lnTo>
                        <a:lnTo>
                          <a:pt x="628" y="84"/>
                        </a:lnTo>
                        <a:lnTo>
                          <a:pt x="624" y="86"/>
                        </a:lnTo>
                        <a:lnTo>
                          <a:pt x="622" y="86"/>
                        </a:lnTo>
                        <a:lnTo>
                          <a:pt x="618" y="86"/>
                        </a:lnTo>
                        <a:lnTo>
                          <a:pt x="614" y="87"/>
                        </a:lnTo>
                        <a:lnTo>
                          <a:pt x="609" y="89"/>
                        </a:lnTo>
                        <a:lnTo>
                          <a:pt x="603" y="91"/>
                        </a:lnTo>
                        <a:lnTo>
                          <a:pt x="599" y="95"/>
                        </a:lnTo>
                        <a:lnTo>
                          <a:pt x="595" y="97"/>
                        </a:lnTo>
                        <a:lnTo>
                          <a:pt x="592" y="99"/>
                        </a:lnTo>
                        <a:lnTo>
                          <a:pt x="586" y="103"/>
                        </a:lnTo>
                        <a:lnTo>
                          <a:pt x="582" y="105"/>
                        </a:lnTo>
                        <a:lnTo>
                          <a:pt x="578" y="108"/>
                        </a:lnTo>
                        <a:lnTo>
                          <a:pt x="574" y="112"/>
                        </a:lnTo>
                        <a:lnTo>
                          <a:pt x="571" y="116"/>
                        </a:lnTo>
                        <a:lnTo>
                          <a:pt x="567" y="120"/>
                        </a:lnTo>
                        <a:lnTo>
                          <a:pt x="565" y="124"/>
                        </a:lnTo>
                        <a:lnTo>
                          <a:pt x="563" y="127"/>
                        </a:lnTo>
                        <a:lnTo>
                          <a:pt x="559" y="131"/>
                        </a:lnTo>
                        <a:lnTo>
                          <a:pt x="555" y="135"/>
                        </a:lnTo>
                        <a:lnTo>
                          <a:pt x="554" y="141"/>
                        </a:lnTo>
                        <a:lnTo>
                          <a:pt x="552" y="146"/>
                        </a:lnTo>
                        <a:lnTo>
                          <a:pt x="550" y="150"/>
                        </a:lnTo>
                        <a:lnTo>
                          <a:pt x="548" y="156"/>
                        </a:lnTo>
                        <a:lnTo>
                          <a:pt x="546" y="158"/>
                        </a:lnTo>
                        <a:lnTo>
                          <a:pt x="546" y="160"/>
                        </a:lnTo>
                        <a:lnTo>
                          <a:pt x="544" y="163"/>
                        </a:lnTo>
                        <a:lnTo>
                          <a:pt x="544" y="167"/>
                        </a:lnTo>
                        <a:lnTo>
                          <a:pt x="361" y="1127"/>
                        </a:lnTo>
                        <a:lnTo>
                          <a:pt x="361" y="1127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22" name="AutoShape 13"/>
                <p:cNvSpPr/>
                <p:nvPr/>
              </p:nvSpPr>
              <p:spPr>
                <a:xfrm rot="10559400">
                  <a:off x="3853800" y="2320200"/>
                  <a:ext cx="88560" cy="75960"/>
                </a:xfrm>
                <a:prstGeom prst="hexagon">
                  <a:avLst>
                    <a:gd name="adj" fmla="val 29147"/>
                    <a:gd name="vf" fmla="val 11547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3" name="Group 14"/>
              <p:cNvGrpSpPr/>
              <p:nvPr/>
            </p:nvGrpSpPr>
            <p:grpSpPr>
              <a:xfrm>
                <a:off x="3890160" y="1475640"/>
                <a:ext cx="356760" cy="2370600"/>
                <a:chOff x="3890160" y="1475640"/>
                <a:chExt cx="356760" cy="2370600"/>
              </a:xfrm>
            </p:grpSpPr>
            <p:grpSp>
              <p:nvGrpSpPr>
                <p:cNvPr id="3324" name="Group 15"/>
                <p:cNvGrpSpPr/>
                <p:nvPr/>
              </p:nvGrpSpPr>
              <p:grpSpPr>
                <a:xfrm>
                  <a:off x="3890160" y="1475640"/>
                  <a:ext cx="319320" cy="1245240"/>
                  <a:chOff x="3890160" y="1475640"/>
                  <a:chExt cx="319320" cy="1245240"/>
                </a:xfrm>
              </p:grpSpPr>
              <p:grpSp>
                <p:nvGrpSpPr>
                  <p:cNvPr id="3325" name="Group 16"/>
                  <p:cNvGrpSpPr/>
                  <p:nvPr/>
                </p:nvGrpSpPr>
                <p:grpSpPr>
                  <a:xfrm>
                    <a:off x="3970440" y="2108880"/>
                    <a:ext cx="239040" cy="612000"/>
                    <a:chOff x="3970440" y="2108880"/>
                    <a:chExt cx="239040" cy="612000"/>
                  </a:xfrm>
                </p:grpSpPr>
                <p:sp>
                  <p:nvSpPr>
                    <p:cNvPr id="3326" name="AutoShape 17"/>
                    <p:cNvSpPr/>
                    <p:nvPr/>
                  </p:nvSpPr>
                  <p:spPr>
                    <a:xfrm rot="10575600">
                      <a:off x="3986280" y="2113920"/>
                      <a:ext cx="179640" cy="49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7" name="AutoShape 18"/>
                    <p:cNvSpPr/>
                    <p:nvPr/>
                  </p:nvSpPr>
                  <p:spPr>
                    <a:xfrm rot="16153800">
                      <a:off x="3993840" y="2504880"/>
                      <a:ext cx="19188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8" name="Group 19"/>
                  <p:cNvGrpSpPr/>
                  <p:nvPr/>
                </p:nvGrpSpPr>
                <p:grpSpPr>
                  <a:xfrm>
                    <a:off x="3890160" y="1475640"/>
                    <a:ext cx="273600" cy="745920"/>
                    <a:chOff x="3890160" y="1475640"/>
                    <a:chExt cx="273600" cy="745920"/>
                  </a:xfrm>
                </p:grpSpPr>
                <p:sp>
                  <p:nvSpPr>
                    <p:cNvPr id="3329" name="AutoShape 20"/>
                    <p:cNvSpPr/>
                    <p:nvPr/>
                  </p:nvSpPr>
                  <p:spPr>
                    <a:xfrm rot="10590600">
                      <a:off x="3957840" y="1731960"/>
                      <a:ext cx="180360" cy="36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4308" y="21600"/>
                          </a:lnTo>
                          <a:lnTo>
                            <a:pt x="17292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0" name="Oval 21"/>
                    <p:cNvSpPr/>
                    <p:nvPr/>
                  </p:nvSpPr>
                  <p:spPr>
                    <a:xfrm rot="11129400">
                      <a:off x="3967560" y="2022480"/>
                      <a:ext cx="187200" cy="19044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1" name="Freeform 22"/>
                    <p:cNvSpPr/>
                    <p:nvPr/>
                  </p:nvSpPr>
                  <p:spPr>
                    <a:xfrm rot="20624400">
                      <a:off x="3926880" y="1494360"/>
                      <a:ext cx="175680" cy="28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2" h="2302">
                          <a:moveTo>
                            <a:pt x="361" y="1127"/>
                          </a:moveTo>
                          <a:lnTo>
                            <a:pt x="280" y="1116"/>
                          </a:lnTo>
                          <a:lnTo>
                            <a:pt x="373" y="711"/>
                          </a:lnTo>
                          <a:lnTo>
                            <a:pt x="373" y="709"/>
                          </a:lnTo>
                          <a:lnTo>
                            <a:pt x="375" y="705"/>
                          </a:lnTo>
                          <a:lnTo>
                            <a:pt x="375" y="703"/>
                          </a:lnTo>
                          <a:lnTo>
                            <a:pt x="375" y="700"/>
                          </a:lnTo>
                          <a:lnTo>
                            <a:pt x="375" y="698"/>
                          </a:lnTo>
                          <a:lnTo>
                            <a:pt x="375" y="696"/>
                          </a:lnTo>
                          <a:lnTo>
                            <a:pt x="375" y="692"/>
                          </a:lnTo>
                          <a:lnTo>
                            <a:pt x="375" y="690"/>
                          </a:lnTo>
                          <a:lnTo>
                            <a:pt x="375" y="684"/>
                          </a:lnTo>
                          <a:lnTo>
                            <a:pt x="375" y="681"/>
                          </a:lnTo>
                          <a:lnTo>
                            <a:pt x="375" y="675"/>
                          </a:lnTo>
                          <a:lnTo>
                            <a:pt x="375" y="669"/>
                          </a:lnTo>
                          <a:lnTo>
                            <a:pt x="371" y="665"/>
                          </a:lnTo>
                          <a:lnTo>
                            <a:pt x="371" y="660"/>
                          </a:lnTo>
                          <a:lnTo>
                            <a:pt x="369" y="654"/>
                          </a:lnTo>
                          <a:lnTo>
                            <a:pt x="367" y="652"/>
                          </a:lnTo>
                          <a:lnTo>
                            <a:pt x="365" y="646"/>
                          </a:lnTo>
                          <a:lnTo>
                            <a:pt x="363" y="641"/>
                          </a:lnTo>
                          <a:lnTo>
                            <a:pt x="361" y="637"/>
                          </a:lnTo>
                          <a:lnTo>
                            <a:pt x="358" y="633"/>
                          </a:lnTo>
                          <a:lnTo>
                            <a:pt x="356" y="629"/>
                          </a:lnTo>
                          <a:lnTo>
                            <a:pt x="354" y="623"/>
                          </a:lnTo>
                          <a:lnTo>
                            <a:pt x="350" y="620"/>
                          </a:lnTo>
                          <a:lnTo>
                            <a:pt x="346" y="616"/>
                          </a:lnTo>
                          <a:lnTo>
                            <a:pt x="342" y="612"/>
                          </a:lnTo>
                          <a:lnTo>
                            <a:pt x="339" y="610"/>
                          </a:lnTo>
                          <a:lnTo>
                            <a:pt x="335" y="606"/>
                          </a:lnTo>
                          <a:lnTo>
                            <a:pt x="331" y="603"/>
                          </a:lnTo>
                          <a:lnTo>
                            <a:pt x="325" y="601"/>
                          </a:lnTo>
                          <a:lnTo>
                            <a:pt x="321" y="597"/>
                          </a:lnTo>
                          <a:lnTo>
                            <a:pt x="318" y="595"/>
                          </a:lnTo>
                          <a:lnTo>
                            <a:pt x="312" y="593"/>
                          </a:lnTo>
                          <a:lnTo>
                            <a:pt x="306" y="591"/>
                          </a:lnTo>
                          <a:lnTo>
                            <a:pt x="302" y="589"/>
                          </a:lnTo>
                          <a:lnTo>
                            <a:pt x="299" y="589"/>
                          </a:lnTo>
                          <a:lnTo>
                            <a:pt x="295" y="587"/>
                          </a:lnTo>
                          <a:lnTo>
                            <a:pt x="291" y="587"/>
                          </a:lnTo>
                          <a:lnTo>
                            <a:pt x="287" y="585"/>
                          </a:lnTo>
                          <a:lnTo>
                            <a:pt x="285" y="585"/>
                          </a:lnTo>
                          <a:lnTo>
                            <a:pt x="283" y="585"/>
                          </a:lnTo>
                          <a:lnTo>
                            <a:pt x="280" y="585"/>
                          </a:lnTo>
                          <a:lnTo>
                            <a:pt x="276" y="585"/>
                          </a:lnTo>
                          <a:lnTo>
                            <a:pt x="274" y="585"/>
                          </a:lnTo>
                          <a:lnTo>
                            <a:pt x="272" y="585"/>
                          </a:lnTo>
                          <a:lnTo>
                            <a:pt x="268" y="585"/>
                          </a:lnTo>
                          <a:lnTo>
                            <a:pt x="266" y="585"/>
                          </a:lnTo>
                          <a:lnTo>
                            <a:pt x="263" y="585"/>
                          </a:lnTo>
                          <a:lnTo>
                            <a:pt x="261" y="587"/>
                          </a:lnTo>
                          <a:lnTo>
                            <a:pt x="259" y="587"/>
                          </a:lnTo>
                          <a:lnTo>
                            <a:pt x="255" y="587"/>
                          </a:lnTo>
                          <a:lnTo>
                            <a:pt x="253" y="589"/>
                          </a:lnTo>
                          <a:lnTo>
                            <a:pt x="249" y="589"/>
                          </a:lnTo>
                          <a:lnTo>
                            <a:pt x="247" y="589"/>
                          </a:lnTo>
                          <a:lnTo>
                            <a:pt x="243" y="591"/>
                          </a:lnTo>
                          <a:lnTo>
                            <a:pt x="240" y="591"/>
                          </a:lnTo>
                          <a:lnTo>
                            <a:pt x="238" y="593"/>
                          </a:lnTo>
                          <a:lnTo>
                            <a:pt x="236" y="595"/>
                          </a:lnTo>
                          <a:lnTo>
                            <a:pt x="232" y="595"/>
                          </a:lnTo>
                          <a:lnTo>
                            <a:pt x="230" y="597"/>
                          </a:lnTo>
                          <a:lnTo>
                            <a:pt x="228" y="599"/>
                          </a:lnTo>
                          <a:lnTo>
                            <a:pt x="224" y="601"/>
                          </a:lnTo>
                          <a:lnTo>
                            <a:pt x="223" y="601"/>
                          </a:lnTo>
                          <a:lnTo>
                            <a:pt x="219" y="603"/>
                          </a:lnTo>
                          <a:lnTo>
                            <a:pt x="217" y="604"/>
                          </a:lnTo>
                          <a:lnTo>
                            <a:pt x="211" y="608"/>
                          </a:lnTo>
                          <a:lnTo>
                            <a:pt x="207" y="612"/>
                          </a:lnTo>
                          <a:lnTo>
                            <a:pt x="204" y="616"/>
                          </a:lnTo>
                          <a:lnTo>
                            <a:pt x="198" y="618"/>
                          </a:lnTo>
                          <a:lnTo>
                            <a:pt x="194" y="623"/>
                          </a:lnTo>
                          <a:lnTo>
                            <a:pt x="188" y="627"/>
                          </a:lnTo>
                          <a:lnTo>
                            <a:pt x="185" y="633"/>
                          </a:lnTo>
                          <a:lnTo>
                            <a:pt x="181" y="637"/>
                          </a:lnTo>
                          <a:lnTo>
                            <a:pt x="177" y="641"/>
                          </a:lnTo>
                          <a:lnTo>
                            <a:pt x="173" y="646"/>
                          </a:lnTo>
                          <a:lnTo>
                            <a:pt x="169" y="652"/>
                          </a:lnTo>
                          <a:lnTo>
                            <a:pt x="166" y="656"/>
                          </a:lnTo>
                          <a:lnTo>
                            <a:pt x="162" y="662"/>
                          </a:lnTo>
                          <a:lnTo>
                            <a:pt x="160" y="665"/>
                          </a:lnTo>
                          <a:lnTo>
                            <a:pt x="158" y="669"/>
                          </a:lnTo>
                          <a:lnTo>
                            <a:pt x="158" y="671"/>
                          </a:lnTo>
                          <a:lnTo>
                            <a:pt x="156" y="673"/>
                          </a:lnTo>
                          <a:lnTo>
                            <a:pt x="154" y="677"/>
                          </a:lnTo>
                          <a:lnTo>
                            <a:pt x="152" y="679"/>
                          </a:lnTo>
                          <a:lnTo>
                            <a:pt x="152" y="681"/>
                          </a:lnTo>
                          <a:lnTo>
                            <a:pt x="150" y="684"/>
                          </a:lnTo>
                          <a:lnTo>
                            <a:pt x="150" y="688"/>
                          </a:lnTo>
                          <a:lnTo>
                            <a:pt x="146" y="694"/>
                          </a:lnTo>
                          <a:lnTo>
                            <a:pt x="145" y="701"/>
                          </a:lnTo>
                          <a:lnTo>
                            <a:pt x="143" y="709"/>
                          </a:lnTo>
                          <a:lnTo>
                            <a:pt x="139" y="717"/>
                          </a:lnTo>
                          <a:lnTo>
                            <a:pt x="137" y="724"/>
                          </a:lnTo>
                          <a:lnTo>
                            <a:pt x="135" y="732"/>
                          </a:lnTo>
                          <a:lnTo>
                            <a:pt x="131" y="739"/>
                          </a:lnTo>
                          <a:lnTo>
                            <a:pt x="129" y="747"/>
                          </a:lnTo>
                          <a:lnTo>
                            <a:pt x="126" y="755"/>
                          </a:lnTo>
                          <a:lnTo>
                            <a:pt x="124" y="760"/>
                          </a:lnTo>
                          <a:lnTo>
                            <a:pt x="122" y="768"/>
                          </a:lnTo>
                          <a:lnTo>
                            <a:pt x="120" y="776"/>
                          </a:lnTo>
                          <a:lnTo>
                            <a:pt x="116" y="781"/>
                          </a:lnTo>
                          <a:lnTo>
                            <a:pt x="114" y="789"/>
                          </a:lnTo>
                          <a:lnTo>
                            <a:pt x="112" y="796"/>
                          </a:lnTo>
                          <a:lnTo>
                            <a:pt x="110" y="804"/>
                          </a:lnTo>
                          <a:lnTo>
                            <a:pt x="107" y="812"/>
                          </a:lnTo>
                          <a:lnTo>
                            <a:pt x="107" y="817"/>
                          </a:lnTo>
                          <a:lnTo>
                            <a:pt x="103" y="823"/>
                          </a:lnTo>
                          <a:lnTo>
                            <a:pt x="101" y="831"/>
                          </a:lnTo>
                          <a:lnTo>
                            <a:pt x="97" y="836"/>
                          </a:lnTo>
                          <a:lnTo>
                            <a:pt x="97" y="844"/>
                          </a:lnTo>
                          <a:lnTo>
                            <a:pt x="93" y="852"/>
                          </a:lnTo>
                          <a:lnTo>
                            <a:pt x="93" y="857"/>
                          </a:lnTo>
                          <a:lnTo>
                            <a:pt x="89" y="865"/>
                          </a:lnTo>
                          <a:lnTo>
                            <a:pt x="88" y="871"/>
                          </a:lnTo>
                          <a:lnTo>
                            <a:pt x="86" y="878"/>
                          </a:lnTo>
                          <a:lnTo>
                            <a:pt x="84" y="884"/>
                          </a:lnTo>
                          <a:lnTo>
                            <a:pt x="82" y="892"/>
                          </a:lnTo>
                          <a:lnTo>
                            <a:pt x="80" y="899"/>
                          </a:lnTo>
                          <a:lnTo>
                            <a:pt x="78" y="907"/>
                          </a:lnTo>
                          <a:lnTo>
                            <a:pt x="74" y="912"/>
                          </a:lnTo>
                          <a:lnTo>
                            <a:pt x="72" y="920"/>
                          </a:lnTo>
                          <a:lnTo>
                            <a:pt x="72" y="926"/>
                          </a:lnTo>
                          <a:lnTo>
                            <a:pt x="68" y="931"/>
                          </a:lnTo>
                          <a:lnTo>
                            <a:pt x="67" y="939"/>
                          </a:lnTo>
                          <a:lnTo>
                            <a:pt x="65" y="945"/>
                          </a:lnTo>
                          <a:lnTo>
                            <a:pt x="63" y="952"/>
                          </a:lnTo>
                          <a:lnTo>
                            <a:pt x="59" y="958"/>
                          </a:lnTo>
                          <a:lnTo>
                            <a:pt x="57" y="966"/>
                          </a:lnTo>
                          <a:lnTo>
                            <a:pt x="55" y="971"/>
                          </a:lnTo>
                          <a:lnTo>
                            <a:pt x="53" y="979"/>
                          </a:lnTo>
                          <a:lnTo>
                            <a:pt x="51" y="987"/>
                          </a:lnTo>
                          <a:lnTo>
                            <a:pt x="49" y="994"/>
                          </a:lnTo>
                          <a:lnTo>
                            <a:pt x="48" y="1000"/>
                          </a:lnTo>
                          <a:lnTo>
                            <a:pt x="46" y="1007"/>
                          </a:lnTo>
                          <a:lnTo>
                            <a:pt x="44" y="1015"/>
                          </a:lnTo>
                          <a:lnTo>
                            <a:pt x="42" y="1021"/>
                          </a:lnTo>
                          <a:lnTo>
                            <a:pt x="42" y="1028"/>
                          </a:lnTo>
                          <a:lnTo>
                            <a:pt x="38" y="1036"/>
                          </a:lnTo>
                          <a:lnTo>
                            <a:pt x="36" y="1042"/>
                          </a:lnTo>
                          <a:lnTo>
                            <a:pt x="36" y="1049"/>
                          </a:lnTo>
                          <a:lnTo>
                            <a:pt x="34" y="1057"/>
                          </a:lnTo>
                          <a:lnTo>
                            <a:pt x="30" y="1063"/>
                          </a:lnTo>
                          <a:lnTo>
                            <a:pt x="30" y="1070"/>
                          </a:lnTo>
                          <a:lnTo>
                            <a:pt x="29" y="1078"/>
                          </a:lnTo>
                          <a:lnTo>
                            <a:pt x="27" y="1085"/>
                          </a:lnTo>
                          <a:lnTo>
                            <a:pt x="25" y="1093"/>
                          </a:lnTo>
                          <a:lnTo>
                            <a:pt x="23" y="1101"/>
                          </a:lnTo>
                          <a:lnTo>
                            <a:pt x="21" y="1108"/>
                          </a:lnTo>
                          <a:lnTo>
                            <a:pt x="19" y="1116"/>
                          </a:lnTo>
                          <a:lnTo>
                            <a:pt x="17" y="1123"/>
                          </a:lnTo>
                          <a:lnTo>
                            <a:pt x="17" y="1131"/>
                          </a:lnTo>
                          <a:lnTo>
                            <a:pt x="15" y="1139"/>
                          </a:lnTo>
                          <a:lnTo>
                            <a:pt x="13" y="1148"/>
                          </a:lnTo>
                          <a:lnTo>
                            <a:pt x="10" y="1158"/>
                          </a:lnTo>
                          <a:lnTo>
                            <a:pt x="10" y="1165"/>
                          </a:lnTo>
                          <a:lnTo>
                            <a:pt x="8" y="1175"/>
                          </a:lnTo>
                          <a:lnTo>
                            <a:pt x="6" y="1182"/>
                          </a:lnTo>
                          <a:lnTo>
                            <a:pt x="6" y="1192"/>
                          </a:lnTo>
                          <a:lnTo>
                            <a:pt x="4" y="1201"/>
                          </a:lnTo>
                          <a:lnTo>
                            <a:pt x="2" y="1211"/>
                          </a:lnTo>
                          <a:lnTo>
                            <a:pt x="2" y="1218"/>
                          </a:lnTo>
                          <a:lnTo>
                            <a:pt x="0" y="1230"/>
                          </a:lnTo>
                          <a:lnTo>
                            <a:pt x="0" y="1237"/>
                          </a:lnTo>
                          <a:lnTo>
                            <a:pt x="0" y="1247"/>
                          </a:lnTo>
                          <a:lnTo>
                            <a:pt x="0" y="1257"/>
                          </a:lnTo>
                          <a:lnTo>
                            <a:pt x="0" y="1268"/>
                          </a:lnTo>
                          <a:lnTo>
                            <a:pt x="0" y="1276"/>
                          </a:lnTo>
                          <a:lnTo>
                            <a:pt x="0" y="1285"/>
                          </a:lnTo>
                          <a:lnTo>
                            <a:pt x="0" y="1296"/>
                          </a:lnTo>
                          <a:lnTo>
                            <a:pt x="0" y="1304"/>
                          </a:lnTo>
                          <a:lnTo>
                            <a:pt x="0" y="1314"/>
                          </a:lnTo>
                          <a:lnTo>
                            <a:pt x="0" y="1323"/>
                          </a:lnTo>
                          <a:lnTo>
                            <a:pt x="0" y="1333"/>
                          </a:lnTo>
                          <a:lnTo>
                            <a:pt x="2" y="1342"/>
                          </a:lnTo>
                          <a:lnTo>
                            <a:pt x="2" y="1352"/>
                          </a:lnTo>
                          <a:lnTo>
                            <a:pt x="4" y="1363"/>
                          </a:lnTo>
                          <a:lnTo>
                            <a:pt x="4" y="1371"/>
                          </a:lnTo>
                          <a:lnTo>
                            <a:pt x="6" y="1382"/>
                          </a:lnTo>
                          <a:lnTo>
                            <a:pt x="8" y="1390"/>
                          </a:lnTo>
                          <a:lnTo>
                            <a:pt x="8" y="1401"/>
                          </a:lnTo>
                          <a:lnTo>
                            <a:pt x="10" y="1409"/>
                          </a:lnTo>
                          <a:lnTo>
                            <a:pt x="11" y="1420"/>
                          </a:lnTo>
                          <a:lnTo>
                            <a:pt x="13" y="1429"/>
                          </a:lnTo>
                          <a:lnTo>
                            <a:pt x="15" y="1439"/>
                          </a:lnTo>
                          <a:lnTo>
                            <a:pt x="17" y="1448"/>
                          </a:lnTo>
                          <a:lnTo>
                            <a:pt x="19" y="1458"/>
                          </a:lnTo>
                          <a:lnTo>
                            <a:pt x="21" y="1468"/>
                          </a:lnTo>
                          <a:lnTo>
                            <a:pt x="23" y="1477"/>
                          </a:lnTo>
                          <a:lnTo>
                            <a:pt x="27" y="1487"/>
                          </a:lnTo>
                          <a:lnTo>
                            <a:pt x="29" y="1496"/>
                          </a:lnTo>
                          <a:lnTo>
                            <a:pt x="30" y="1506"/>
                          </a:lnTo>
                          <a:lnTo>
                            <a:pt x="34" y="1515"/>
                          </a:lnTo>
                          <a:lnTo>
                            <a:pt x="36" y="1525"/>
                          </a:lnTo>
                          <a:lnTo>
                            <a:pt x="38" y="1534"/>
                          </a:lnTo>
                          <a:lnTo>
                            <a:pt x="42" y="1544"/>
                          </a:lnTo>
                          <a:lnTo>
                            <a:pt x="46" y="1553"/>
                          </a:lnTo>
                          <a:lnTo>
                            <a:pt x="48" y="1561"/>
                          </a:lnTo>
                          <a:lnTo>
                            <a:pt x="51" y="1572"/>
                          </a:lnTo>
                          <a:lnTo>
                            <a:pt x="55" y="1580"/>
                          </a:lnTo>
                          <a:lnTo>
                            <a:pt x="59" y="1589"/>
                          </a:lnTo>
                          <a:lnTo>
                            <a:pt x="63" y="1599"/>
                          </a:lnTo>
                          <a:lnTo>
                            <a:pt x="67" y="1608"/>
                          </a:lnTo>
                          <a:lnTo>
                            <a:pt x="68" y="1616"/>
                          </a:lnTo>
                          <a:lnTo>
                            <a:pt x="74" y="1627"/>
                          </a:lnTo>
                          <a:lnTo>
                            <a:pt x="78" y="1635"/>
                          </a:lnTo>
                          <a:lnTo>
                            <a:pt x="82" y="1644"/>
                          </a:lnTo>
                          <a:lnTo>
                            <a:pt x="86" y="1652"/>
                          </a:lnTo>
                          <a:lnTo>
                            <a:pt x="89" y="1661"/>
                          </a:lnTo>
                          <a:lnTo>
                            <a:pt x="95" y="1669"/>
                          </a:lnTo>
                          <a:lnTo>
                            <a:pt x="99" y="1679"/>
                          </a:lnTo>
                          <a:lnTo>
                            <a:pt x="103" y="1688"/>
                          </a:lnTo>
                          <a:lnTo>
                            <a:pt x="108" y="1696"/>
                          </a:lnTo>
                          <a:lnTo>
                            <a:pt x="114" y="1703"/>
                          </a:lnTo>
                          <a:lnTo>
                            <a:pt x="118" y="1713"/>
                          </a:lnTo>
                          <a:lnTo>
                            <a:pt x="124" y="1722"/>
                          </a:lnTo>
                          <a:lnTo>
                            <a:pt x="127" y="1732"/>
                          </a:lnTo>
                          <a:lnTo>
                            <a:pt x="131" y="1736"/>
                          </a:lnTo>
                          <a:lnTo>
                            <a:pt x="135" y="1739"/>
                          </a:lnTo>
                          <a:lnTo>
                            <a:pt x="135" y="1743"/>
                          </a:lnTo>
                          <a:lnTo>
                            <a:pt x="137" y="1745"/>
                          </a:lnTo>
                          <a:lnTo>
                            <a:pt x="139" y="1747"/>
                          </a:lnTo>
                          <a:lnTo>
                            <a:pt x="141" y="1751"/>
                          </a:lnTo>
                          <a:lnTo>
                            <a:pt x="143" y="1755"/>
                          </a:lnTo>
                          <a:lnTo>
                            <a:pt x="143" y="1756"/>
                          </a:lnTo>
                          <a:lnTo>
                            <a:pt x="145" y="1760"/>
                          </a:lnTo>
                          <a:lnTo>
                            <a:pt x="146" y="1762"/>
                          </a:lnTo>
                          <a:lnTo>
                            <a:pt x="148" y="1766"/>
                          </a:lnTo>
                          <a:lnTo>
                            <a:pt x="150" y="1768"/>
                          </a:lnTo>
                          <a:lnTo>
                            <a:pt x="152" y="1770"/>
                          </a:lnTo>
                          <a:lnTo>
                            <a:pt x="156" y="1774"/>
                          </a:lnTo>
                          <a:lnTo>
                            <a:pt x="158" y="1777"/>
                          </a:lnTo>
                          <a:lnTo>
                            <a:pt x="160" y="1779"/>
                          </a:lnTo>
                          <a:lnTo>
                            <a:pt x="160" y="1783"/>
                          </a:lnTo>
                          <a:lnTo>
                            <a:pt x="162" y="1787"/>
                          </a:lnTo>
                          <a:lnTo>
                            <a:pt x="166" y="1789"/>
                          </a:lnTo>
                          <a:lnTo>
                            <a:pt x="166" y="1791"/>
                          </a:lnTo>
                          <a:lnTo>
                            <a:pt x="167" y="1794"/>
                          </a:lnTo>
                          <a:lnTo>
                            <a:pt x="169" y="1796"/>
                          </a:lnTo>
                          <a:lnTo>
                            <a:pt x="171" y="1800"/>
                          </a:lnTo>
                          <a:lnTo>
                            <a:pt x="173" y="1802"/>
                          </a:lnTo>
                          <a:lnTo>
                            <a:pt x="175" y="1806"/>
                          </a:lnTo>
                          <a:lnTo>
                            <a:pt x="177" y="1808"/>
                          </a:lnTo>
                          <a:lnTo>
                            <a:pt x="179" y="1812"/>
                          </a:lnTo>
                          <a:lnTo>
                            <a:pt x="181" y="1815"/>
                          </a:lnTo>
                          <a:lnTo>
                            <a:pt x="183" y="1817"/>
                          </a:lnTo>
                          <a:lnTo>
                            <a:pt x="185" y="1821"/>
                          </a:lnTo>
                          <a:lnTo>
                            <a:pt x="188" y="1827"/>
                          </a:lnTo>
                          <a:lnTo>
                            <a:pt x="190" y="1831"/>
                          </a:lnTo>
                          <a:lnTo>
                            <a:pt x="194" y="1836"/>
                          </a:lnTo>
                          <a:lnTo>
                            <a:pt x="198" y="1842"/>
                          </a:lnTo>
                          <a:lnTo>
                            <a:pt x="200" y="1846"/>
                          </a:lnTo>
                          <a:lnTo>
                            <a:pt x="204" y="1850"/>
                          </a:lnTo>
                          <a:lnTo>
                            <a:pt x="205" y="1853"/>
                          </a:lnTo>
                          <a:lnTo>
                            <a:pt x="207" y="1859"/>
                          </a:lnTo>
                          <a:lnTo>
                            <a:pt x="209" y="1861"/>
                          </a:lnTo>
                          <a:lnTo>
                            <a:pt x="211" y="1863"/>
                          </a:lnTo>
                          <a:lnTo>
                            <a:pt x="213" y="1867"/>
                          </a:lnTo>
                          <a:lnTo>
                            <a:pt x="215" y="1869"/>
                          </a:lnTo>
                          <a:lnTo>
                            <a:pt x="217" y="1870"/>
                          </a:lnTo>
                          <a:lnTo>
                            <a:pt x="219" y="1874"/>
                          </a:lnTo>
                          <a:lnTo>
                            <a:pt x="141" y="2163"/>
                          </a:lnTo>
                          <a:lnTo>
                            <a:pt x="143" y="2165"/>
                          </a:lnTo>
                          <a:lnTo>
                            <a:pt x="146" y="2165"/>
                          </a:lnTo>
                          <a:lnTo>
                            <a:pt x="150" y="2167"/>
                          </a:lnTo>
                          <a:lnTo>
                            <a:pt x="152" y="2167"/>
                          </a:lnTo>
                          <a:lnTo>
                            <a:pt x="154" y="2167"/>
                          </a:lnTo>
                          <a:lnTo>
                            <a:pt x="158" y="2167"/>
                          </a:lnTo>
                          <a:lnTo>
                            <a:pt x="162" y="2171"/>
                          </a:lnTo>
                          <a:lnTo>
                            <a:pt x="166" y="2171"/>
                          </a:lnTo>
                          <a:lnTo>
                            <a:pt x="167" y="2173"/>
                          </a:lnTo>
                          <a:lnTo>
                            <a:pt x="171" y="2173"/>
                          </a:lnTo>
                          <a:lnTo>
                            <a:pt x="175" y="2175"/>
                          </a:lnTo>
                          <a:lnTo>
                            <a:pt x="181" y="2175"/>
                          </a:lnTo>
                          <a:lnTo>
                            <a:pt x="185" y="2175"/>
                          </a:lnTo>
                          <a:lnTo>
                            <a:pt x="188" y="2177"/>
                          </a:lnTo>
                          <a:lnTo>
                            <a:pt x="194" y="2180"/>
                          </a:lnTo>
                          <a:lnTo>
                            <a:pt x="198" y="2180"/>
                          </a:lnTo>
                          <a:lnTo>
                            <a:pt x="204" y="2182"/>
                          </a:lnTo>
                          <a:lnTo>
                            <a:pt x="209" y="2182"/>
                          </a:lnTo>
                          <a:lnTo>
                            <a:pt x="215" y="2184"/>
                          </a:lnTo>
                          <a:lnTo>
                            <a:pt x="219" y="2186"/>
                          </a:lnTo>
                          <a:lnTo>
                            <a:pt x="224" y="2188"/>
                          </a:lnTo>
                          <a:lnTo>
                            <a:pt x="232" y="2188"/>
                          </a:lnTo>
                          <a:lnTo>
                            <a:pt x="238" y="2190"/>
                          </a:lnTo>
                          <a:lnTo>
                            <a:pt x="243" y="2190"/>
                          </a:lnTo>
                          <a:lnTo>
                            <a:pt x="251" y="2192"/>
                          </a:lnTo>
                          <a:lnTo>
                            <a:pt x="257" y="2194"/>
                          </a:lnTo>
                          <a:lnTo>
                            <a:pt x="264" y="2194"/>
                          </a:lnTo>
                          <a:lnTo>
                            <a:pt x="270" y="2196"/>
                          </a:lnTo>
                          <a:lnTo>
                            <a:pt x="276" y="2196"/>
                          </a:lnTo>
                          <a:lnTo>
                            <a:pt x="283" y="2197"/>
                          </a:lnTo>
                          <a:lnTo>
                            <a:pt x="291" y="2199"/>
                          </a:lnTo>
                          <a:lnTo>
                            <a:pt x="297" y="2199"/>
                          </a:lnTo>
                          <a:lnTo>
                            <a:pt x="304" y="2199"/>
                          </a:lnTo>
                          <a:lnTo>
                            <a:pt x="312" y="2199"/>
                          </a:lnTo>
                          <a:lnTo>
                            <a:pt x="320" y="2201"/>
                          </a:lnTo>
                          <a:lnTo>
                            <a:pt x="325" y="2201"/>
                          </a:lnTo>
                          <a:lnTo>
                            <a:pt x="333" y="2201"/>
                          </a:lnTo>
                          <a:lnTo>
                            <a:pt x="341" y="2201"/>
                          </a:lnTo>
                          <a:lnTo>
                            <a:pt x="348" y="2201"/>
                          </a:lnTo>
                          <a:lnTo>
                            <a:pt x="356" y="2201"/>
                          </a:lnTo>
                          <a:lnTo>
                            <a:pt x="363" y="2201"/>
                          </a:lnTo>
                          <a:lnTo>
                            <a:pt x="371" y="2201"/>
                          </a:lnTo>
                          <a:lnTo>
                            <a:pt x="379" y="2201"/>
                          </a:lnTo>
                          <a:lnTo>
                            <a:pt x="386" y="2201"/>
                          </a:lnTo>
                          <a:lnTo>
                            <a:pt x="394" y="2201"/>
                          </a:lnTo>
                          <a:lnTo>
                            <a:pt x="401" y="2199"/>
                          </a:lnTo>
                          <a:lnTo>
                            <a:pt x="409" y="2199"/>
                          </a:lnTo>
                          <a:lnTo>
                            <a:pt x="415" y="2197"/>
                          </a:lnTo>
                          <a:lnTo>
                            <a:pt x="422" y="2196"/>
                          </a:lnTo>
                          <a:lnTo>
                            <a:pt x="432" y="2196"/>
                          </a:lnTo>
                          <a:lnTo>
                            <a:pt x="439" y="2194"/>
                          </a:lnTo>
                          <a:lnTo>
                            <a:pt x="447" y="2192"/>
                          </a:lnTo>
                          <a:lnTo>
                            <a:pt x="455" y="2190"/>
                          </a:lnTo>
                          <a:lnTo>
                            <a:pt x="462" y="2188"/>
                          </a:lnTo>
                          <a:lnTo>
                            <a:pt x="470" y="2188"/>
                          </a:lnTo>
                          <a:lnTo>
                            <a:pt x="476" y="2184"/>
                          </a:lnTo>
                          <a:lnTo>
                            <a:pt x="483" y="2182"/>
                          </a:lnTo>
                          <a:lnTo>
                            <a:pt x="491" y="2180"/>
                          </a:lnTo>
                          <a:lnTo>
                            <a:pt x="498" y="2175"/>
                          </a:lnTo>
                          <a:lnTo>
                            <a:pt x="504" y="2173"/>
                          </a:lnTo>
                          <a:lnTo>
                            <a:pt x="512" y="2169"/>
                          </a:lnTo>
                          <a:lnTo>
                            <a:pt x="517" y="2165"/>
                          </a:lnTo>
                          <a:lnTo>
                            <a:pt x="525" y="2161"/>
                          </a:lnTo>
                          <a:lnTo>
                            <a:pt x="531" y="2158"/>
                          </a:lnTo>
                          <a:lnTo>
                            <a:pt x="536" y="2154"/>
                          </a:lnTo>
                          <a:lnTo>
                            <a:pt x="542" y="2150"/>
                          </a:lnTo>
                          <a:lnTo>
                            <a:pt x="550" y="2146"/>
                          </a:lnTo>
                          <a:lnTo>
                            <a:pt x="555" y="2142"/>
                          </a:lnTo>
                          <a:lnTo>
                            <a:pt x="559" y="2137"/>
                          </a:lnTo>
                          <a:lnTo>
                            <a:pt x="565" y="2133"/>
                          </a:lnTo>
                          <a:lnTo>
                            <a:pt x="571" y="2129"/>
                          </a:lnTo>
                          <a:lnTo>
                            <a:pt x="576" y="2123"/>
                          </a:lnTo>
                          <a:lnTo>
                            <a:pt x="582" y="2120"/>
                          </a:lnTo>
                          <a:lnTo>
                            <a:pt x="588" y="2114"/>
                          </a:lnTo>
                          <a:lnTo>
                            <a:pt x="592" y="2110"/>
                          </a:lnTo>
                          <a:lnTo>
                            <a:pt x="595" y="2106"/>
                          </a:lnTo>
                          <a:lnTo>
                            <a:pt x="601" y="2101"/>
                          </a:lnTo>
                          <a:lnTo>
                            <a:pt x="605" y="2095"/>
                          </a:lnTo>
                          <a:lnTo>
                            <a:pt x="611" y="2091"/>
                          </a:lnTo>
                          <a:lnTo>
                            <a:pt x="614" y="2085"/>
                          </a:lnTo>
                          <a:lnTo>
                            <a:pt x="618" y="2080"/>
                          </a:lnTo>
                          <a:lnTo>
                            <a:pt x="624" y="2076"/>
                          </a:lnTo>
                          <a:lnTo>
                            <a:pt x="628" y="2070"/>
                          </a:lnTo>
                          <a:lnTo>
                            <a:pt x="632" y="2064"/>
                          </a:lnTo>
                          <a:lnTo>
                            <a:pt x="635" y="2059"/>
                          </a:lnTo>
                          <a:lnTo>
                            <a:pt x="637" y="2055"/>
                          </a:lnTo>
                          <a:lnTo>
                            <a:pt x="643" y="2049"/>
                          </a:lnTo>
                          <a:lnTo>
                            <a:pt x="645" y="2043"/>
                          </a:lnTo>
                          <a:lnTo>
                            <a:pt x="649" y="2040"/>
                          </a:lnTo>
                          <a:lnTo>
                            <a:pt x="652" y="2034"/>
                          </a:lnTo>
                          <a:lnTo>
                            <a:pt x="654" y="2030"/>
                          </a:lnTo>
                          <a:lnTo>
                            <a:pt x="658" y="2024"/>
                          </a:lnTo>
                          <a:lnTo>
                            <a:pt x="660" y="2021"/>
                          </a:lnTo>
                          <a:lnTo>
                            <a:pt x="664" y="2015"/>
                          </a:lnTo>
                          <a:lnTo>
                            <a:pt x="666" y="2011"/>
                          </a:lnTo>
                          <a:lnTo>
                            <a:pt x="668" y="2005"/>
                          </a:lnTo>
                          <a:lnTo>
                            <a:pt x="672" y="2002"/>
                          </a:lnTo>
                          <a:lnTo>
                            <a:pt x="673" y="1998"/>
                          </a:lnTo>
                          <a:lnTo>
                            <a:pt x="675" y="1992"/>
                          </a:lnTo>
                          <a:lnTo>
                            <a:pt x="677" y="1986"/>
                          </a:lnTo>
                          <a:lnTo>
                            <a:pt x="679" y="1983"/>
                          </a:lnTo>
                          <a:lnTo>
                            <a:pt x="681" y="1979"/>
                          </a:lnTo>
                          <a:lnTo>
                            <a:pt x="683" y="1975"/>
                          </a:lnTo>
                          <a:lnTo>
                            <a:pt x="685" y="1971"/>
                          </a:lnTo>
                          <a:lnTo>
                            <a:pt x="687" y="1969"/>
                          </a:lnTo>
                          <a:lnTo>
                            <a:pt x="689" y="1964"/>
                          </a:lnTo>
                          <a:lnTo>
                            <a:pt x="691" y="1962"/>
                          </a:lnTo>
                          <a:lnTo>
                            <a:pt x="692" y="1958"/>
                          </a:lnTo>
                          <a:lnTo>
                            <a:pt x="692" y="1954"/>
                          </a:lnTo>
                          <a:lnTo>
                            <a:pt x="692" y="1952"/>
                          </a:lnTo>
                          <a:lnTo>
                            <a:pt x="694" y="1950"/>
                          </a:lnTo>
                          <a:lnTo>
                            <a:pt x="696" y="1945"/>
                          </a:lnTo>
                          <a:lnTo>
                            <a:pt x="698" y="1941"/>
                          </a:lnTo>
                          <a:lnTo>
                            <a:pt x="700" y="1937"/>
                          </a:lnTo>
                          <a:lnTo>
                            <a:pt x="700" y="1935"/>
                          </a:lnTo>
                          <a:lnTo>
                            <a:pt x="700" y="1933"/>
                          </a:lnTo>
                          <a:lnTo>
                            <a:pt x="702" y="1933"/>
                          </a:lnTo>
                          <a:lnTo>
                            <a:pt x="740" y="1943"/>
                          </a:lnTo>
                          <a:lnTo>
                            <a:pt x="740" y="1943"/>
                          </a:lnTo>
                          <a:lnTo>
                            <a:pt x="738" y="1945"/>
                          </a:lnTo>
                          <a:lnTo>
                            <a:pt x="738" y="1947"/>
                          </a:lnTo>
                          <a:lnTo>
                            <a:pt x="738" y="1950"/>
                          </a:lnTo>
                          <a:lnTo>
                            <a:pt x="738" y="1954"/>
                          </a:lnTo>
                          <a:lnTo>
                            <a:pt x="738" y="1958"/>
                          </a:lnTo>
                          <a:lnTo>
                            <a:pt x="736" y="1962"/>
                          </a:lnTo>
                          <a:lnTo>
                            <a:pt x="736" y="1964"/>
                          </a:lnTo>
                          <a:lnTo>
                            <a:pt x="736" y="1967"/>
                          </a:lnTo>
                          <a:lnTo>
                            <a:pt x="736" y="1971"/>
                          </a:lnTo>
                          <a:lnTo>
                            <a:pt x="736" y="1975"/>
                          </a:lnTo>
                          <a:lnTo>
                            <a:pt x="736" y="1979"/>
                          </a:lnTo>
                          <a:lnTo>
                            <a:pt x="736" y="1983"/>
                          </a:lnTo>
                          <a:lnTo>
                            <a:pt x="736" y="1985"/>
                          </a:lnTo>
                          <a:lnTo>
                            <a:pt x="736" y="1990"/>
                          </a:lnTo>
                          <a:lnTo>
                            <a:pt x="736" y="1994"/>
                          </a:lnTo>
                          <a:lnTo>
                            <a:pt x="736" y="1998"/>
                          </a:lnTo>
                          <a:lnTo>
                            <a:pt x="736" y="2004"/>
                          </a:lnTo>
                          <a:lnTo>
                            <a:pt x="736" y="2007"/>
                          </a:lnTo>
                          <a:lnTo>
                            <a:pt x="736" y="2013"/>
                          </a:lnTo>
                          <a:lnTo>
                            <a:pt x="736" y="2015"/>
                          </a:lnTo>
                          <a:lnTo>
                            <a:pt x="736" y="2021"/>
                          </a:lnTo>
                          <a:lnTo>
                            <a:pt x="736" y="2026"/>
                          </a:lnTo>
                          <a:lnTo>
                            <a:pt x="736" y="2030"/>
                          </a:lnTo>
                          <a:lnTo>
                            <a:pt x="736" y="2036"/>
                          </a:lnTo>
                          <a:lnTo>
                            <a:pt x="736" y="2042"/>
                          </a:lnTo>
                          <a:lnTo>
                            <a:pt x="736" y="2047"/>
                          </a:lnTo>
                          <a:lnTo>
                            <a:pt x="738" y="2051"/>
                          </a:lnTo>
                          <a:lnTo>
                            <a:pt x="738" y="2057"/>
                          </a:lnTo>
                          <a:lnTo>
                            <a:pt x="738" y="2062"/>
                          </a:lnTo>
                          <a:lnTo>
                            <a:pt x="740" y="2066"/>
                          </a:lnTo>
                          <a:lnTo>
                            <a:pt x="740" y="2072"/>
                          </a:lnTo>
                          <a:lnTo>
                            <a:pt x="742" y="2078"/>
                          </a:lnTo>
                          <a:lnTo>
                            <a:pt x="744" y="2083"/>
                          </a:lnTo>
                          <a:lnTo>
                            <a:pt x="744" y="2091"/>
                          </a:lnTo>
                          <a:lnTo>
                            <a:pt x="746" y="2095"/>
                          </a:lnTo>
                          <a:lnTo>
                            <a:pt x="748" y="2101"/>
                          </a:lnTo>
                          <a:lnTo>
                            <a:pt x="748" y="2106"/>
                          </a:lnTo>
                          <a:lnTo>
                            <a:pt x="751" y="2110"/>
                          </a:lnTo>
                          <a:lnTo>
                            <a:pt x="753" y="2118"/>
                          </a:lnTo>
                          <a:lnTo>
                            <a:pt x="753" y="2123"/>
                          </a:lnTo>
                          <a:lnTo>
                            <a:pt x="757" y="2129"/>
                          </a:lnTo>
                          <a:lnTo>
                            <a:pt x="759" y="2135"/>
                          </a:lnTo>
                          <a:lnTo>
                            <a:pt x="761" y="2139"/>
                          </a:lnTo>
                          <a:lnTo>
                            <a:pt x="765" y="2144"/>
                          </a:lnTo>
                          <a:lnTo>
                            <a:pt x="767" y="2150"/>
                          </a:lnTo>
                          <a:lnTo>
                            <a:pt x="769" y="2156"/>
                          </a:lnTo>
                          <a:lnTo>
                            <a:pt x="772" y="2159"/>
                          </a:lnTo>
                          <a:lnTo>
                            <a:pt x="776" y="2165"/>
                          </a:lnTo>
                          <a:lnTo>
                            <a:pt x="780" y="2171"/>
                          </a:lnTo>
                          <a:lnTo>
                            <a:pt x="782" y="2175"/>
                          </a:lnTo>
                          <a:lnTo>
                            <a:pt x="786" y="2180"/>
                          </a:lnTo>
                          <a:lnTo>
                            <a:pt x="789" y="2186"/>
                          </a:lnTo>
                          <a:lnTo>
                            <a:pt x="795" y="2190"/>
                          </a:lnTo>
                          <a:lnTo>
                            <a:pt x="799" y="2196"/>
                          </a:lnTo>
                          <a:lnTo>
                            <a:pt x="805" y="2201"/>
                          </a:lnTo>
                          <a:lnTo>
                            <a:pt x="808" y="2205"/>
                          </a:lnTo>
                          <a:lnTo>
                            <a:pt x="814" y="2209"/>
                          </a:lnTo>
                          <a:lnTo>
                            <a:pt x="818" y="2213"/>
                          </a:lnTo>
                          <a:lnTo>
                            <a:pt x="824" y="2216"/>
                          </a:lnTo>
                          <a:lnTo>
                            <a:pt x="828" y="2222"/>
                          </a:lnTo>
                          <a:lnTo>
                            <a:pt x="833" y="2224"/>
                          </a:lnTo>
                          <a:lnTo>
                            <a:pt x="839" y="2228"/>
                          </a:lnTo>
                          <a:lnTo>
                            <a:pt x="845" y="2232"/>
                          </a:lnTo>
                          <a:lnTo>
                            <a:pt x="848" y="2235"/>
                          </a:lnTo>
                          <a:lnTo>
                            <a:pt x="854" y="2239"/>
                          </a:lnTo>
                          <a:lnTo>
                            <a:pt x="858" y="2243"/>
                          </a:lnTo>
                          <a:lnTo>
                            <a:pt x="864" y="2245"/>
                          </a:lnTo>
                          <a:lnTo>
                            <a:pt x="867" y="2249"/>
                          </a:lnTo>
                          <a:lnTo>
                            <a:pt x="873" y="2253"/>
                          </a:lnTo>
                          <a:lnTo>
                            <a:pt x="877" y="2256"/>
                          </a:lnTo>
                          <a:lnTo>
                            <a:pt x="883" y="2258"/>
                          </a:lnTo>
                          <a:lnTo>
                            <a:pt x="890" y="2260"/>
                          </a:lnTo>
                          <a:lnTo>
                            <a:pt x="896" y="2264"/>
                          </a:lnTo>
                          <a:lnTo>
                            <a:pt x="900" y="2266"/>
                          </a:lnTo>
                          <a:lnTo>
                            <a:pt x="904" y="2268"/>
                          </a:lnTo>
                          <a:lnTo>
                            <a:pt x="907" y="2270"/>
                          </a:lnTo>
                          <a:lnTo>
                            <a:pt x="913" y="2273"/>
                          </a:lnTo>
                          <a:lnTo>
                            <a:pt x="919" y="2275"/>
                          </a:lnTo>
                          <a:lnTo>
                            <a:pt x="925" y="2277"/>
                          </a:lnTo>
                          <a:lnTo>
                            <a:pt x="928" y="2279"/>
                          </a:lnTo>
                          <a:lnTo>
                            <a:pt x="934" y="2281"/>
                          </a:lnTo>
                          <a:lnTo>
                            <a:pt x="938" y="2283"/>
                          </a:lnTo>
                          <a:lnTo>
                            <a:pt x="942" y="2285"/>
                          </a:lnTo>
                          <a:lnTo>
                            <a:pt x="947" y="2287"/>
                          </a:lnTo>
                          <a:lnTo>
                            <a:pt x="951" y="2289"/>
                          </a:lnTo>
                          <a:lnTo>
                            <a:pt x="955" y="2289"/>
                          </a:lnTo>
                          <a:lnTo>
                            <a:pt x="961" y="2291"/>
                          </a:lnTo>
                          <a:lnTo>
                            <a:pt x="964" y="2291"/>
                          </a:lnTo>
                          <a:lnTo>
                            <a:pt x="968" y="2294"/>
                          </a:lnTo>
                          <a:lnTo>
                            <a:pt x="972" y="2294"/>
                          </a:lnTo>
                          <a:lnTo>
                            <a:pt x="978" y="2294"/>
                          </a:lnTo>
                          <a:lnTo>
                            <a:pt x="982" y="2296"/>
                          </a:lnTo>
                          <a:lnTo>
                            <a:pt x="985" y="2296"/>
                          </a:lnTo>
                          <a:lnTo>
                            <a:pt x="989" y="2296"/>
                          </a:lnTo>
                          <a:lnTo>
                            <a:pt x="993" y="2298"/>
                          </a:lnTo>
                          <a:lnTo>
                            <a:pt x="997" y="2298"/>
                          </a:lnTo>
                          <a:lnTo>
                            <a:pt x="1001" y="2298"/>
                          </a:lnTo>
                          <a:lnTo>
                            <a:pt x="1004" y="2298"/>
                          </a:lnTo>
                          <a:lnTo>
                            <a:pt x="1008" y="2300"/>
                          </a:lnTo>
                          <a:lnTo>
                            <a:pt x="1010" y="2300"/>
                          </a:lnTo>
                          <a:lnTo>
                            <a:pt x="1014" y="2300"/>
                          </a:lnTo>
                          <a:lnTo>
                            <a:pt x="1016" y="2300"/>
                          </a:lnTo>
                          <a:lnTo>
                            <a:pt x="1020" y="2300"/>
                          </a:lnTo>
                          <a:lnTo>
                            <a:pt x="1022" y="2300"/>
                          </a:lnTo>
                          <a:lnTo>
                            <a:pt x="1025" y="2302"/>
                          </a:lnTo>
                          <a:lnTo>
                            <a:pt x="1029" y="2300"/>
                          </a:lnTo>
                          <a:lnTo>
                            <a:pt x="1035" y="2300"/>
                          </a:lnTo>
                          <a:lnTo>
                            <a:pt x="1039" y="2298"/>
                          </a:lnTo>
                          <a:lnTo>
                            <a:pt x="1042" y="2298"/>
                          </a:lnTo>
                          <a:lnTo>
                            <a:pt x="1044" y="2296"/>
                          </a:lnTo>
                          <a:lnTo>
                            <a:pt x="1048" y="2296"/>
                          </a:lnTo>
                          <a:lnTo>
                            <a:pt x="1048" y="2294"/>
                          </a:lnTo>
                          <a:lnTo>
                            <a:pt x="1050" y="2294"/>
                          </a:lnTo>
                          <a:lnTo>
                            <a:pt x="1246" y="1334"/>
                          </a:lnTo>
                          <a:lnTo>
                            <a:pt x="1246" y="1333"/>
                          </a:lnTo>
                          <a:lnTo>
                            <a:pt x="1248" y="1331"/>
                          </a:lnTo>
                          <a:lnTo>
                            <a:pt x="1250" y="1327"/>
                          </a:lnTo>
                          <a:lnTo>
                            <a:pt x="1252" y="1325"/>
                          </a:lnTo>
                          <a:lnTo>
                            <a:pt x="1252" y="1323"/>
                          </a:lnTo>
                          <a:lnTo>
                            <a:pt x="1254" y="1319"/>
                          </a:lnTo>
                          <a:lnTo>
                            <a:pt x="1256" y="1315"/>
                          </a:lnTo>
                          <a:lnTo>
                            <a:pt x="1259" y="1312"/>
                          </a:lnTo>
                          <a:lnTo>
                            <a:pt x="1259" y="1306"/>
                          </a:lnTo>
                          <a:lnTo>
                            <a:pt x="1263" y="1302"/>
                          </a:lnTo>
                          <a:lnTo>
                            <a:pt x="1265" y="1296"/>
                          </a:lnTo>
                          <a:lnTo>
                            <a:pt x="1269" y="1293"/>
                          </a:lnTo>
                          <a:lnTo>
                            <a:pt x="1271" y="1285"/>
                          </a:lnTo>
                          <a:lnTo>
                            <a:pt x="1275" y="1281"/>
                          </a:lnTo>
                          <a:lnTo>
                            <a:pt x="1276" y="1274"/>
                          </a:lnTo>
                          <a:lnTo>
                            <a:pt x="1280" y="1266"/>
                          </a:lnTo>
                          <a:lnTo>
                            <a:pt x="1284" y="1258"/>
                          </a:lnTo>
                          <a:lnTo>
                            <a:pt x="1288" y="1249"/>
                          </a:lnTo>
                          <a:lnTo>
                            <a:pt x="1290" y="1241"/>
                          </a:lnTo>
                          <a:lnTo>
                            <a:pt x="1294" y="1234"/>
                          </a:lnTo>
                          <a:lnTo>
                            <a:pt x="1297" y="1224"/>
                          </a:lnTo>
                          <a:lnTo>
                            <a:pt x="1301" y="1217"/>
                          </a:lnTo>
                          <a:lnTo>
                            <a:pt x="1305" y="1207"/>
                          </a:lnTo>
                          <a:lnTo>
                            <a:pt x="1309" y="1198"/>
                          </a:lnTo>
                          <a:lnTo>
                            <a:pt x="1313" y="1188"/>
                          </a:lnTo>
                          <a:lnTo>
                            <a:pt x="1316" y="1177"/>
                          </a:lnTo>
                          <a:lnTo>
                            <a:pt x="1320" y="1165"/>
                          </a:lnTo>
                          <a:lnTo>
                            <a:pt x="1324" y="1154"/>
                          </a:lnTo>
                          <a:lnTo>
                            <a:pt x="1330" y="1144"/>
                          </a:lnTo>
                          <a:lnTo>
                            <a:pt x="1334" y="1133"/>
                          </a:lnTo>
                          <a:lnTo>
                            <a:pt x="1337" y="1122"/>
                          </a:lnTo>
                          <a:lnTo>
                            <a:pt x="1339" y="1108"/>
                          </a:lnTo>
                          <a:lnTo>
                            <a:pt x="1345" y="1097"/>
                          </a:lnTo>
                          <a:lnTo>
                            <a:pt x="1349" y="1084"/>
                          </a:lnTo>
                          <a:lnTo>
                            <a:pt x="1353" y="1070"/>
                          </a:lnTo>
                          <a:lnTo>
                            <a:pt x="1354" y="1059"/>
                          </a:lnTo>
                          <a:lnTo>
                            <a:pt x="1358" y="1044"/>
                          </a:lnTo>
                          <a:lnTo>
                            <a:pt x="1362" y="1032"/>
                          </a:lnTo>
                          <a:lnTo>
                            <a:pt x="1366" y="1017"/>
                          </a:lnTo>
                          <a:lnTo>
                            <a:pt x="1370" y="1004"/>
                          </a:lnTo>
                          <a:lnTo>
                            <a:pt x="1372" y="988"/>
                          </a:lnTo>
                          <a:lnTo>
                            <a:pt x="1375" y="975"/>
                          </a:lnTo>
                          <a:lnTo>
                            <a:pt x="1377" y="960"/>
                          </a:lnTo>
                          <a:lnTo>
                            <a:pt x="1381" y="947"/>
                          </a:lnTo>
                          <a:lnTo>
                            <a:pt x="1383" y="931"/>
                          </a:lnTo>
                          <a:lnTo>
                            <a:pt x="1387" y="916"/>
                          </a:lnTo>
                          <a:lnTo>
                            <a:pt x="1389" y="901"/>
                          </a:lnTo>
                          <a:lnTo>
                            <a:pt x="1391" y="886"/>
                          </a:lnTo>
                          <a:lnTo>
                            <a:pt x="1392" y="871"/>
                          </a:lnTo>
                          <a:lnTo>
                            <a:pt x="1394" y="855"/>
                          </a:lnTo>
                          <a:lnTo>
                            <a:pt x="1396" y="838"/>
                          </a:lnTo>
                          <a:lnTo>
                            <a:pt x="1398" y="823"/>
                          </a:lnTo>
                          <a:lnTo>
                            <a:pt x="1398" y="806"/>
                          </a:lnTo>
                          <a:lnTo>
                            <a:pt x="1400" y="791"/>
                          </a:lnTo>
                          <a:lnTo>
                            <a:pt x="1402" y="774"/>
                          </a:lnTo>
                          <a:lnTo>
                            <a:pt x="1402" y="757"/>
                          </a:lnTo>
                          <a:lnTo>
                            <a:pt x="1402" y="741"/>
                          </a:lnTo>
                          <a:lnTo>
                            <a:pt x="1402" y="724"/>
                          </a:lnTo>
                          <a:lnTo>
                            <a:pt x="1402" y="705"/>
                          </a:lnTo>
                          <a:lnTo>
                            <a:pt x="1402" y="690"/>
                          </a:lnTo>
                          <a:lnTo>
                            <a:pt x="1400" y="673"/>
                          </a:lnTo>
                          <a:lnTo>
                            <a:pt x="1400" y="656"/>
                          </a:lnTo>
                          <a:lnTo>
                            <a:pt x="1398" y="654"/>
                          </a:lnTo>
                          <a:lnTo>
                            <a:pt x="1398" y="652"/>
                          </a:lnTo>
                          <a:lnTo>
                            <a:pt x="1398" y="648"/>
                          </a:lnTo>
                          <a:lnTo>
                            <a:pt x="1398" y="644"/>
                          </a:lnTo>
                          <a:lnTo>
                            <a:pt x="1398" y="643"/>
                          </a:lnTo>
                          <a:lnTo>
                            <a:pt x="1398" y="639"/>
                          </a:lnTo>
                          <a:lnTo>
                            <a:pt x="1396" y="637"/>
                          </a:lnTo>
                          <a:lnTo>
                            <a:pt x="1396" y="633"/>
                          </a:lnTo>
                          <a:lnTo>
                            <a:pt x="1396" y="631"/>
                          </a:lnTo>
                          <a:lnTo>
                            <a:pt x="1396" y="627"/>
                          </a:lnTo>
                          <a:lnTo>
                            <a:pt x="1396" y="623"/>
                          </a:lnTo>
                          <a:lnTo>
                            <a:pt x="1394" y="620"/>
                          </a:lnTo>
                          <a:lnTo>
                            <a:pt x="1394" y="618"/>
                          </a:lnTo>
                          <a:lnTo>
                            <a:pt x="1394" y="616"/>
                          </a:lnTo>
                          <a:lnTo>
                            <a:pt x="1392" y="612"/>
                          </a:lnTo>
                          <a:lnTo>
                            <a:pt x="1392" y="610"/>
                          </a:lnTo>
                          <a:lnTo>
                            <a:pt x="1392" y="608"/>
                          </a:lnTo>
                          <a:lnTo>
                            <a:pt x="1391" y="604"/>
                          </a:lnTo>
                          <a:lnTo>
                            <a:pt x="1391" y="603"/>
                          </a:lnTo>
                          <a:lnTo>
                            <a:pt x="1391" y="599"/>
                          </a:lnTo>
                          <a:lnTo>
                            <a:pt x="1389" y="597"/>
                          </a:lnTo>
                          <a:lnTo>
                            <a:pt x="1389" y="593"/>
                          </a:lnTo>
                          <a:lnTo>
                            <a:pt x="1389" y="589"/>
                          </a:lnTo>
                          <a:lnTo>
                            <a:pt x="1389" y="587"/>
                          </a:lnTo>
                          <a:lnTo>
                            <a:pt x="1387" y="585"/>
                          </a:lnTo>
                          <a:lnTo>
                            <a:pt x="1385" y="582"/>
                          </a:lnTo>
                          <a:lnTo>
                            <a:pt x="1385" y="580"/>
                          </a:lnTo>
                          <a:lnTo>
                            <a:pt x="1383" y="578"/>
                          </a:lnTo>
                          <a:lnTo>
                            <a:pt x="1383" y="572"/>
                          </a:lnTo>
                          <a:lnTo>
                            <a:pt x="1381" y="568"/>
                          </a:lnTo>
                          <a:lnTo>
                            <a:pt x="1377" y="563"/>
                          </a:lnTo>
                          <a:lnTo>
                            <a:pt x="1375" y="557"/>
                          </a:lnTo>
                          <a:lnTo>
                            <a:pt x="1373" y="553"/>
                          </a:lnTo>
                          <a:lnTo>
                            <a:pt x="1370" y="547"/>
                          </a:lnTo>
                          <a:lnTo>
                            <a:pt x="1366" y="544"/>
                          </a:lnTo>
                          <a:lnTo>
                            <a:pt x="1364" y="540"/>
                          </a:lnTo>
                          <a:lnTo>
                            <a:pt x="1360" y="536"/>
                          </a:lnTo>
                          <a:lnTo>
                            <a:pt x="1356" y="532"/>
                          </a:lnTo>
                          <a:lnTo>
                            <a:pt x="1353" y="528"/>
                          </a:lnTo>
                          <a:lnTo>
                            <a:pt x="1349" y="525"/>
                          </a:lnTo>
                          <a:lnTo>
                            <a:pt x="1345" y="523"/>
                          </a:lnTo>
                          <a:lnTo>
                            <a:pt x="1339" y="521"/>
                          </a:lnTo>
                          <a:lnTo>
                            <a:pt x="1335" y="517"/>
                          </a:lnTo>
                          <a:lnTo>
                            <a:pt x="1332" y="515"/>
                          </a:lnTo>
                          <a:lnTo>
                            <a:pt x="1326" y="515"/>
                          </a:lnTo>
                          <a:lnTo>
                            <a:pt x="1322" y="513"/>
                          </a:lnTo>
                          <a:lnTo>
                            <a:pt x="1318" y="511"/>
                          </a:lnTo>
                          <a:lnTo>
                            <a:pt x="1316" y="511"/>
                          </a:lnTo>
                          <a:lnTo>
                            <a:pt x="1313" y="511"/>
                          </a:lnTo>
                          <a:lnTo>
                            <a:pt x="1311" y="511"/>
                          </a:lnTo>
                          <a:lnTo>
                            <a:pt x="1309" y="509"/>
                          </a:lnTo>
                          <a:lnTo>
                            <a:pt x="1305" y="509"/>
                          </a:lnTo>
                          <a:lnTo>
                            <a:pt x="1303" y="509"/>
                          </a:lnTo>
                          <a:lnTo>
                            <a:pt x="1301" y="509"/>
                          </a:lnTo>
                          <a:lnTo>
                            <a:pt x="1297" y="509"/>
                          </a:lnTo>
                          <a:lnTo>
                            <a:pt x="1295" y="509"/>
                          </a:lnTo>
                          <a:lnTo>
                            <a:pt x="1292" y="509"/>
                          </a:lnTo>
                          <a:lnTo>
                            <a:pt x="1290" y="509"/>
                          </a:lnTo>
                          <a:lnTo>
                            <a:pt x="1284" y="509"/>
                          </a:lnTo>
                          <a:lnTo>
                            <a:pt x="1280" y="509"/>
                          </a:lnTo>
                          <a:lnTo>
                            <a:pt x="1275" y="509"/>
                          </a:lnTo>
                          <a:lnTo>
                            <a:pt x="1269" y="509"/>
                          </a:lnTo>
                          <a:lnTo>
                            <a:pt x="1265" y="509"/>
                          </a:lnTo>
                          <a:lnTo>
                            <a:pt x="1259" y="509"/>
                          </a:lnTo>
                          <a:lnTo>
                            <a:pt x="1256" y="511"/>
                          </a:lnTo>
                          <a:lnTo>
                            <a:pt x="1252" y="511"/>
                          </a:lnTo>
                          <a:lnTo>
                            <a:pt x="1246" y="515"/>
                          </a:lnTo>
                          <a:lnTo>
                            <a:pt x="1242" y="515"/>
                          </a:lnTo>
                          <a:lnTo>
                            <a:pt x="1238" y="517"/>
                          </a:lnTo>
                          <a:lnTo>
                            <a:pt x="1235" y="521"/>
                          </a:lnTo>
                          <a:lnTo>
                            <a:pt x="1231" y="523"/>
                          </a:lnTo>
                          <a:lnTo>
                            <a:pt x="1229" y="525"/>
                          </a:lnTo>
                          <a:lnTo>
                            <a:pt x="1225" y="527"/>
                          </a:lnTo>
                          <a:lnTo>
                            <a:pt x="1221" y="530"/>
                          </a:lnTo>
                          <a:lnTo>
                            <a:pt x="1219" y="532"/>
                          </a:lnTo>
                          <a:lnTo>
                            <a:pt x="1216" y="538"/>
                          </a:lnTo>
                          <a:lnTo>
                            <a:pt x="1214" y="542"/>
                          </a:lnTo>
                          <a:lnTo>
                            <a:pt x="1212" y="546"/>
                          </a:lnTo>
                          <a:lnTo>
                            <a:pt x="1210" y="549"/>
                          </a:lnTo>
                          <a:lnTo>
                            <a:pt x="1208" y="555"/>
                          </a:lnTo>
                          <a:lnTo>
                            <a:pt x="1208" y="557"/>
                          </a:lnTo>
                          <a:lnTo>
                            <a:pt x="1206" y="559"/>
                          </a:lnTo>
                          <a:lnTo>
                            <a:pt x="1204" y="561"/>
                          </a:lnTo>
                          <a:lnTo>
                            <a:pt x="1204" y="565"/>
                          </a:lnTo>
                          <a:lnTo>
                            <a:pt x="1204" y="566"/>
                          </a:lnTo>
                          <a:lnTo>
                            <a:pt x="1204" y="570"/>
                          </a:lnTo>
                          <a:lnTo>
                            <a:pt x="1204" y="572"/>
                          </a:lnTo>
                          <a:lnTo>
                            <a:pt x="1204" y="576"/>
                          </a:lnTo>
                          <a:lnTo>
                            <a:pt x="1139" y="895"/>
                          </a:lnTo>
                          <a:lnTo>
                            <a:pt x="1136" y="893"/>
                          </a:lnTo>
                          <a:lnTo>
                            <a:pt x="1132" y="892"/>
                          </a:lnTo>
                          <a:lnTo>
                            <a:pt x="1126" y="888"/>
                          </a:lnTo>
                          <a:lnTo>
                            <a:pt x="1122" y="886"/>
                          </a:lnTo>
                          <a:lnTo>
                            <a:pt x="1117" y="884"/>
                          </a:lnTo>
                          <a:lnTo>
                            <a:pt x="1113" y="880"/>
                          </a:lnTo>
                          <a:lnTo>
                            <a:pt x="1107" y="878"/>
                          </a:lnTo>
                          <a:lnTo>
                            <a:pt x="1105" y="876"/>
                          </a:lnTo>
                          <a:lnTo>
                            <a:pt x="1227" y="316"/>
                          </a:lnTo>
                          <a:lnTo>
                            <a:pt x="1227" y="312"/>
                          </a:lnTo>
                          <a:lnTo>
                            <a:pt x="1227" y="308"/>
                          </a:lnTo>
                          <a:lnTo>
                            <a:pt x="1229" y="306"/>
                          </a:lnTo>
                          <a:lnTo>
                            <a:pt x="1229" y="304"/>
                          </a:lnTo>
                          <a:lnTo>
                            <a:pt x="1229" y="300"/>
                          </a:lnTo>
                          <a:lnTo>
                            <a:pt x="1229" y="298"/>
                          </a:lnTo>
                          <a:lnTo>
                            <a:pt x="1229" y="295"/>
                          </a:lnTo>
                          <a:lnTo>
                            <a:pt x="1229" y="293"/>
                          </a:lnTo>
                          <a:lnTo>
                            <a:pt x="1229" y="291"/>
                          </a:lnTo>
                          <a:lnTo>
                            <a:pt x="1229" y="287"/>
                          </a:lnTo>
                          <a:lnTo>
                            <a:pt x="1229" y="285"/>
                          </a:lnTo>
                          <a:lnTo>
                            <a:pt x="1229" y="283"/>
                          </a:lnTo>
                          <a:lnTo>
                            <a:pt x="1229" y="278"/>
                          </a:lnTo>
                          <a:lnTo>
                            <a:pt x="1227" y="272"/>
                          </a:lnTo>
                          <a:lnTo>
                            <a:pt x="1225" y="268"/>
                          </a:lnTo>
                          <a:lnTo>
                            <a:pt x="1225" y="262"/>
                          </a:lnTo>
                          <a:lnTo>
                            <a:pt x="1223" y="257"/>
                          </a:lnTo>
                          <a:lnTo>
                            <a:pt x="1221" y="253"/>
                          </a:lnTo>
                          <a:lnTo>
                            <a:pt x="1219" y="247"/>
                          </a:lnTo>
                          <a:lnTo>
                            <a:pt x="1217" y="243"/>
                          </a:lnTo>
                          <a:lnTo>
                            <a:pt x="1216" y="240"/>
                          </a:lnTo>
                          <a:lnTo>
                            <a:pt x="1214" y="236"/>
                          </a:lnTo>
                          <a:lnTo>
                            <a:pt x="1210" y="232"/>
                          </a:lnTo>
                          <a:lnTo>
                            <a:pt x="1206" y="226"/>
                          </a:lnTo>
                          <a:lnTo>
                            <a:pt x="1202" y="222"/>
                          </a:lnTo>
                          <a:lnTo>
                            <a:pt x="1200" y="219"/>
                          </a:lnTo>
                          <a:lnTo>
                            <a:pt x="1197" y="215"/>
                          </a:lnTo>
                          <a:lnTo>
                            <a:pt x="1193" y="211"/>
                          </a:lnTo>
                          <a:lnTo>
                            <a:pt x="1189" y="207"/>
                          </a:lnTo>
                          <a:lnTo>
                            <a:pt x="1185" y="205"/>
                          </a:lnTo>
                          <a:lnTo>
                            <a:pt x="1179" y="203"/>
                          </a:lnTo>
                          <a:lnTo>
                            <a:pt x="1176" y="200"/>
                          </a:lnTo>
                          <a:lnTo>
                            <a:pt x="1172" y="198"/>
                          </a:lnTo>
                          <a:lnTo>
                            <a:pt x="1166" y="194"/>
                          </a:lnTo>
                          <a:lnTo>
                            <a:pt x="1160" y="192"/>
                          </a:lnTo>
                          <a:lnTo>
                            <a:pt x="1157" y="192"/>
                          </a:lnTo>
                          <a:lnTo>
                            <a:pt x="1151" y="190"/>
                          </a:lnTo>
                          <a:lnTo>
                            <a:pt x="1147" y="190"/>
                          </a:lnTo>
                          <a:lnTo>
                            <a:pt x="1143" y="188"/>
                          </a:lnTo>
                          <a:lnTo>
                            <a:pt x="1141" y="186"/>
                          </a:lnTo>
                          <a:lnTo>
                            <a:pt x="1138" y="186"/>
                          </a:lnTo>
                          <a:lnTo>
                            <a:pt x="1136" y="186"/>
                          </a:lnTo>
                          <a:lnTo>
                            <a:pt x="1134" y="186"/>
                          </a:lnTo>
                          <a:lnTo>
                            <a:pt x="1130" y="186"/>
                          </a:lnTo>
                          <a:lnTo>
                            <a:pt x="1128" y="186"/>
                          </a:lnTo>
                          <a:lnTo>
                            <a:pt x="1124" y="186"/>
                          </a:lnTo>
                          <a:lnTo>
                            <a:pt x="1122" y="186"/>
                          </a:lnTo>
                          <a:lnTo>
                            <a:pt x="1120" y="186"/>
                          </a:lnTo>
                          <a:lnTo>
                            <a:pt x="1117" y="186"/>
                          </a:lnTo>
                          <a:lnTo>
                            <a:pt x="1115" y="186"/>
                          </a:lnTo>
                          <a:lnTo>
                            <a:pt x="1109" y="186"/>
                          </a:lnTo>
                          <a:lnTo>
                            <a:pt x="1105" y="188"/>
                          </a:lnTo>
                          <a:lnTo>
                            <a:pt x="1100" y="188"/>
                          </a:lnTo>
                          <a:lnTo>
                            <a:pt x="1094" y="190"/>
                          </a:lnTo>
                          <a:lnTo>
                            <a:pt x="1090" y="192"/>
                          </a:lnTo>
                          <a:lnTo>
                            <a:pt x="1086" y="192"/>
                          </a:lnTo>
                          <a:lnTo>
                            <a:pt x="1081" y="194"/>
                          </a:lnTo>
                          <a:lnTo>
                            <a:pt x="1077" y="198"/>
                          </a:lnTo>
                          <a:lnTo>
                            <a:pt x="1073" y="200"/>
                          </a:lnTo>
                          <a:lnTo>
                            <a:pt x="1067" y="203"/>
                          </a:lnTo>
                          <a:lnTo>
                            <a:pt x="1063" y="205"/>
                          </a:lnTo>
                          <a:lnTo>
                            <a:pt x="1058" y="207"/>
                          </a:lnTo>
                          <a:lnTo>
                            <a:pt x="1054" y="211"/>
                          </a:lnTo>
                          <a:lnTo>
                            <a:pt x="1050" y="215"/>
                          </a:lnTo>
                          <a:lnTo>
                            <a:pt x="1048" y="219"/>
                          </a:lnTo>
                          <a:lnTo>
                            <a:pt x="1044" y="222"/>
                          </a:lnTo>
                          <a:lnTo>
                            <a:pt x="1041" y="226"/>
                          </a:lnTo>
                          <a:lnTo>
                            <a:pt x="1039" y="232"/>
                          </a:lnTo>
                          <a:lnTo>
                            <a:pt x="1035" y="234"/>
                          </a:lnTo>
                          <a:lnTo>
                            <a:pt x="1033" y="240"/>
                          </a:lnTo>
                          <a:lnTo>
                            <a:pt x="1029" y="243"/>
                          </a:lnTo>
                          <a:lnTo>
                            <a:pt x="1027" y="249"/>
                          </a:lnTo>
                          <a:lnTo>
                            <a:pt x="1025" y="253"/>
                          </a:lnTo>
                          <a:lnTo>
                            <a:pt x="1023" y="259"/>
                          </a:lnTo>
                          <a:lnTo>
                            <a:pt x="1022" y="260"/>
                          </a:lnTo>
                          <a:lnTo>
                            <a:pt x="1022" y="264"/>
                          </a:lnTo>
                          <a:lnTo>
                            <a:pt x="1022" y="266"/>
                          </a:lnTo>
                          <a:lnTo>
                            <a:pt x="1022" y="270"/>
                          </a:lnTo>
                          <a:lnTo>
                            <a:pt x="919" y="730"/>
                          </a:lnTo>
                          <a:lnTo>
                            <a:pt x="915" y="728"/>
                          </a:lnTo>
                          <a:lnTo>
                            <a:pt x="913" y="726"/>
                          </a:lnTo>
                          <a:lnTo>
                            <a:pt x="907" y="724"/>
                          </a:lnTo>
                          <a:lnTo>
                            <a:pt x="905" y="720"/>
                          </a:lnTo>
                          <a:lnTo>
                            <a:pt x="904" y="719"/>
                          </a:lnTo>
                          <a:lnTo>
                            <a:pt x="900" y="717"/>
                          </a:lnTo>
                          <a:lnTo>
                            <a:pt x="896" y="713"/>
                          </a:lnTo>
                          <a:lnTo>
                            <a:pt x="892" y="713"/>
                          </a:lnTo>
                          <a:lnTo>
                            <a:pt x="1022" y="129"/>
                          </a:lnTo>
                          <a:lnTo>
                            <a:pt x="1022" y="125"/>
                          </a:lnTo>
                          <a:lnTo>
                            <a:pt x="1022" y="124"/>
                          </a:lnTo>
                          <a:lnTo>
                            <a:pt x="1022" y="120"/>
                          </a:lnTo>
                          <a:lnTo>
                            <a:pt x="1022" y="118"/>
                          </a:lnTo>
                          <a:lnTo>
                            <a:pt x="1022" y="114"/>
                          </a:lnTo>
                          <a:lnTo>
                            <a:pt x="1022" y="112"/>
                          </a:lnTo>
                          <a:lnTo>
                            <a:pt x="1022" y="110"/>
                          </a:lnTo>
                          <a:lnTo>
                            <a:pt x="1022" y="106"/>
                          </a:lnTo>
                          <a:lnTo>
                            <a:pt x="1022" y="105"/>
                          </a:lnTo>
                          <a:lnTo>
                            <a:pt x="1022" y="103"/>
                          </a:lnTo>
                          <a:lnTo>
                            <a:pt x="1022" y="99"/>
                          </a:lnTo>
                          <a:lnTo>
                            <a:pt x="1022" y="97"/>
                          </a:lnTo>
                          <a:lnTo>
                            <a:pt x="1022" y="91"/>
                          </a:lnTo>
                          <a:lnTo>
                            <a:pt x="1022" y="86"/>
                          </a:lnTo>
                          <a:lnTo>
                            <a:pt x="1020" y="82"/>
                          </a:lnTo>
                          <a:lnTo>
                            <a:pt x="1018" y="76"/>
                          </a:lnTo>
                          <a:lnTo>
                            <a:pt x="1016" y="70"/>
                          </a:lnTo>
                          <a:lnTo>
                            <a:pt x="1014" y="67"/>
                          </a:lnTo>
                          <a:lnTo>
                            <a:pt x="1012" y="61"/>
                          </a:lnTo>
                          <a:lnTo>
                            <a:pt x="1010" y="57"/>
                          </a:lnTo>
                          <a:lnTo>
                            <a:pt x="1008" y="53"/>
                          </a:lnTo>
                          <a:lnTo>
                            <a:pt x="1006" y="48"/>
                          </a:lnTo>
                          <a:lnTo>
                            <a:pt x="1004" y="44"/>
                          </a:lnTo>
                          <a:lnTo>
                            <a:pt x="1001" y="40"/>
                          </a:lnTo>
                          <a:lnTo>
                            <a:pt x="997" y="36"/>
                          </a:lnTo>
                          <a:lnTo>
                            <a:pt x="993" y="32"/>
                          </a:lnTo>
                          <a:lnTo>
                            <a:pt x="991" y="29"/>
                          </a:lnTo>
                          <a:lnTo>
                            <a:pt x="985" y="25"/>
                          </a:lnTo>
                          <a:lnTo>
                            <a:pt x="983" y="23"/>
                          </a:lnTo>
                          <a:lnTo>
                            <a:pt x="978" y="19"/>
                          </a:lnTo>
                          <a:lnTo>
                            <a:pt x="972" y="17"/>
                          </a:lnTo>
                          <a:lnTo>
                            <a:pt x="968" y="13"/>
                          </a:lnTo>
                          <a:lnTo>
                            <a:pt x="964" y="11"/>
                          </a:lnTo>
                          <a:lnTo>
                            <a:pt x="961" y="10"/>
                          </a:lnTo>
                          <a:lnTo>
                            <a:pt x="955" y="6"/>
                          </a:lnTo>
                          <a:lnTo>
                            <a:pt x="949" y="6"/>
                          </a:lnTo>
                          <a:lnTo>
                            <a:pt x="944" y="4"/>
                          </a:lnTo>
                          <a:lnTo>
                            <a:pt x="940" y="4"/>
                          </a:lnTo>
                          <a:lnTo>
                            <a:pt x="936" y="2"/>
                          </a:lnTo>
                          <a:lnTo>
                            <a:pt x="934" y="2"/>
                          </a:lnTo>
                          <a:lnTo>
                            <a:pt x="932" y="0"/>
                          </a:lnTo>
                          <a:lnTo>
                            <a:pt x="928" y="0"/>
                          </a:lnTo>
                          <a:lnTo>
                            <a:pt x="926" y="0"/>
                          </a:lnTo>
                          <a:lnTo>
                            <a:pt x="925" y="0"/>
                          </a:lnTo>
                          <a:lnTo>
                            <a:pt x="921" y="0"/>
                          </a:lnTo>
                          <a:lnTo>
                            <a:pt x="919" y="0"/>
                          </a:lnTo>
                          <a:lnTo>
                            <a:pt x="915" y="0"/>
                          </a:lnTo>
                          <a:lnTo>
                            <a:pt x="913" y="0"/>
                          </a:lnTo>
                          <a:lnTo>
                            <a:pt x="911" y="0"/>
                          </a:lnTo>
                          <a:lnTo>
                            <a:pt x="907" y="0"/>
                          </a:lnTo>
                          <a:lnTo>
                            <a:pt x="904" y="0"/>
                          </a:lnTo>
                          <a:lnTo>
                            <a:pt x="898" y="2"/>
                          </a:lnTo>
                          <a:lnTo>
                            <a:pt x="896" y="2"/>
                          </a:lnTo>
                          <a:lnTo>
                            <a:pt x="892" y="2"/>
                          </a:lnTo>
                          <a:lnTo>
                            <a:pt x="890" y="2"/>
                          </a:lnTo>
                          <a:lnTo>
                            <a:pt x="888" y="4"/>
                          </a:lnTo>
                          <a:lnTo>
                            <a:pt x="881" y="4"/>
                          </a:lnTo>
                          <a:lnTo>
                            <a:pt x="877" y="6"/>
                          </a:lnTo>
                          <a:lnTo>
                            <a:pt x="873" y="10"/>
                          </a:lnTo>
                          <a:lnTo>
                            <a:pt x="867" y="11"/>
                          </a:lnTo>
                          <a:lnTo>
                            <a:pt x="864" y="15"/>
                          </a:lnTo>
                          <a:lnTo>
                            <a:pt x="860" y="17"/>
                          </a:lnTo>
                          <a:lnTo>
                            <a:pt x="854" y="19"/>
                          </a:lnTo>
                          <a:lnTo>
                            <a:pt x="850" y="23"/>
                          </a:lnTo>
                          <a:lnTo>
                            <a:pt x="847" y="25"/>
                          </a:lnTo>
                          <a:lnTo>
                            <a:pt x="843" y="29"/>
                          </a:lnTo>
                          <a:lnTo>
                            <a:pt x="839" y="32"/>
                          </a:lnTo>
                          <a:lnTo>
                            <a:pt x="835" y="36"/>
                          </a:lnTo>
                          <a:lnTo>
                            <a:pt x="833" y="40"/>
                          </a:lnTo>
                          <a:lnTo>
                            <a:pt x="831" y="44"/>
                          </a:lnTo>
                          <a:lnTo>
                            <a:pt x="828" y="48"/>
                          </a:lnTo>
                          <a:lnTo>
                            <a:pt x="824" y="53"/>
                          </a:lnTo>
                          <a:lnTo>
                            <a:pt x="822" y="57"/>
                          </a:lnTo>
                          <a:lnTo>
                            <a:pt x="820" y="61"/>
                          </a:lnTo>
                          <a:lnTo>
                            <a:pt x="818" y="67"/>
                          </a:lnTo>
                          <a:lnTo>
                            <a:pt x="816" y="70"/>
                          </a:lnTo>
                          <a:lnTo>
                            <a:pt x="816" y="74"/>
                          </a:lnTo>
                          <a:lnTo>
                            <a:pt x="814" y="76"/>
                          </a:lnTo>
                          <a:lnTo>
                            <a:pt x="812" y="82"/>
                          </a:lnTo>
                          <a:lnTo>
                            <a:pt x="812" y="84"/>
                          </a:lnTo>
                          <a:lnTo>
                            <a:pt x="687" y="663"/>
                          </a:lnTo>
                          <a:lnTo>
                            <a:pt x="681" y="663"/>
                          </a:lnTo>
                          <a:lnTo>
                            <a:pt x="677" y="663"/>
                          </a:lnTo>
                          <a:lnTo>
                            <a:pt x="673" y="663"/>
                          </a:lnTo>
                          <a:lnTo>
                            <a:pt x="670" y="663"/>
                          </a:lnTo>
                          <a:lnTo>
                            <a:pt x="666" y="663"/>
                          </a:lnTo>
                          <a:lnTo>
                            <a:pt x="660" y="665"/>
                          </a:lnTo>
                          <a:lnTo>
                            <a:pt x="656" y="665"/>
                          </a:lnTo>
                          <a:lnTo>
                            <a:pt x="652" y="667"/>
                          </a:lnTo>
                          <a:lnTo>
                            <a:pt x="753" y="213"/>
                          </a:lnTo>
                          <a:lnTo>
                            <a:pt x="753" y="209"/>
                          </a:lnTo>
                          <a:lnTo>
                            <a:pt x="753" y="207"/>
                          </a:lnTo>
                          <a:lnTo>
                            <a:pt x="753" y="203"/>
                          </a:lnTo>
                          <a:lnTo>
                            <a:pt x="753" y="201"/>
                          </a:lnTo>
                          <a:lnTo>
                            <a:pt x="753" y="198"/>
                          </a:lnTo>
                          <a:lnTo>
                            <a:pt x="753" y="196"/>
                          </a:lnTo>
                          <a:lnTo>
                            <a:pt x="753" y="192"/>
                          </a:lnTo>
                          <a:lnTo>
                            <a:pt x="753" y="190"/>
                          </a:lnTo>
                          <a:lnTo>
                            <a:pt x="753" y="188"/>
                          </a:lnTo>
                          <a:lnTo>
                            <a:pt x="753" y="184"/>
                          </a:lnTo>
                          <a:lnTo>
                            <a:pt x="753" y="182"/>
                          </a:lnTo>
                          <a:lnTo>
                            <a:pt x="753" y="181"/>
                          </a:lnTo>
                          <a:lnTo>
                            <a:pt x="753" y="175"/>
                          </a:lnTo>
                          <a:lnTo>
                            <a:pt x="753" y="169"/>
                          </a:lnTo>
                          <a:lnTo>
                            <a:pt x="751" y="167"/>
                          </a:lnTo>
                          <a:lnTo>
                            <a:pt x="751" y="163"/>
                          </a:lnTo>
                          <a:lnTo>
                            <a:pt x="751" y="162"/>
                          </a:lnTo>
                          <a:lnTo>
                            <a:pt x="750" y="160"/>
                          </a:lnTo>
                          <a:lnTo>
                            <a:pt x="748" y="154"/>
                          </a:lnTo>
                          <a:lnTo>
                            <a:pt x="746" y="148"/>
                          </a:lnTo>
                          <a:lnTo>
                            <a:pt x="744" y="144"/>
                          </a:lnTo>
                          <a:lnTo>
                            <a:pt x="742" y="141"/>
                          </a:lnTo>
                          <a:lnTo>
                            <a:pt x="740" y="135"/>
                          </a:lnTo>
                          <a:lnTo>
                            <a:pt x="738" y="131"/>
                          </a:lnTo>
                          <a:lnTo>
                            <a:pt x="734" y="127"/>
                          </a:lnTo>
                          <a:lnTo>
                            <a:pt x="730" y="124"/>
                          </a:lnTo>
                          <a:lnTo>
                            <a:pt x="727" y="120"/>
                          </a:lnTo>
                          <a:lnTo>
                            <a:pt x="725" y="116"/>
                          </a:lnTo>
                          <a:lnTo>
                            <a:pt x="721" y="112"/>
                          </a:lnTo>
                          <a:lnTo>
                            <a:pt x="717" y="108"/>
                          </a:lnTo>
                          <a:lnTo>
                            <a:pt x="713" y="105"/>
                          </a:lnTo>
                          <a:lnTo>
                            <a:pt x="710" y="103"/>
                          </a:lnTo>
                          <a:lnTo>
                            <a:pt x="704" y="99"/>
                          </a:lnTo>
                          <a:lnTo>
                            <a:pt x="700" y="97"/>
                          </a:lnTo>
                          <a:lnTo>
                            <a:pt x="694" y="95"/>
                          </a:lnTo>
                          <a:lnTo>
                            <a:pt x="691" y="91"/>
                          </a:lnTo>
                          <a:lnTo>
                            <a:pt x="685" y="89"/>
                          </a:lnTo>
                          <a:lnTo>
                            <a:pt x="681" y="87"/>
                          </a:lnTo>
                          <a:lnTo>
                            <a:pt x="675" y="86"/>
                          </a:lnTo>
                          <a:lnTo>
                            <a:pt x="672" y="86"/>
                          </a:lnTo>
                          <a:lnTo>
                            <a:pt x="668" y="84"/>
                          </a:lnTo>
                          <a:lnTo>
                            <a:pt x="666" y="84"/>
                          </a:lnTo>
                          <a:lnTo>
                            <a:pt x="664" y="84"/>
                          </a:lnTo>
                          <a:lnTo>
                            <a:pt x="660" y="84"/>
                          </a:lnTo>
                          <a:lnTo>
                            <a:pt x="658" y="84"/>
                          </a:lnTo>
                          <a:lnTo>
                            <a:pt x="654" y="84"/>
                          </a:lnTo>
                          <a:lnTo>
                            <a:pt x="652" y="84"/>
                          </a:lnTo>
                          <a:lnTo>
                            <a:pt x="651" y="84"/>
                          </a:lnTo>
                          <a:lnTo>
                            <a:pt x="647" y="84"/>
                          </a:lnTo>
                          <a:lnTo>
                            <a:pt x="645" y="84"/>
                          </a:lnTo>
                          <a:lnTo>
                            <a:pt x="643" y="84"/>
                          </a:lnTo>
                          <a:lnTo>
                            <a:pt x="639" y="84"/>
                          </a:lnTo>
                          <a:lnTo>
                            <a:pt x="635" y="84"/>
                          </a:lnTo>
                          <a:lnTo>
                            <a:pt x="630" y="84"/>
                          </a:lnTo>
                          <a:lnTo>
                            <a:pt x="628" y="84"/>
                          </a:lnTo>
                          <a:lnTo>
                            <a:pt x="624" y="86"/>
                          </a:lnTo>
                          <a:lnTo>
                            <a:pt x="622" y="86"/>
                          </a:lnTo>
                          <a:lnTo>
                            <a:pt x="618" y="86"/>
                          </a:lnTo>
                          <a:lnTo>
                            <a:pt x="614" y="87"/>
                          </a:lnTo>
                          <a:lnTo>
                            <a:pt x="609" y="89"/>
                          </a:lnTo>
                          <a:lnTo>
                            <a:pt x="603" y="91"/>
                          </a:lnTo>
                          <a:lnTo>
                            <a:pt x="599" y="95"/>
                          </a:lnTo>
                          <a:lnTo>
                            <a:pt x="595" y="97"/>
                          </a:lnTo>
                          <a:lnTo>
                            <a:pt x="592" y="99"/>
                          </a:lnTo>
                          <a:lnTo>
                            <a:pt x="586" y="103"/>
                          </a:lnTo>
                          <a:lnTo>
                            <a:pt x="582" y="105"/>
                          </a:lnTo>
                          <a:lnTo>
                            <a:pt x="578" y="108"/>
                          </a:lnTo>
                          <a:lnTo>
                            <a:pt x="574" y="112"/>
                          </a:lnTo>
                          <a:lnTo>
                            <a:pt x="571" y="116"/>
                          </a:lnTo>
                          <a:lnTo>
                            <a:pt x="567" y="120"/>
                          </a:lnTo>
                          <a:lnTo>
                            <a:pt x="565" y="124"/>
                          </a:lnTo>
                          <a:lnTo>
                            <a:pt x="563" y="127"/>
                          </a:lnTo>
                          <a:lnTo>
                            <a:pt x="559" y="131"/>
                          </a:lnTo>
                          <a:lnTo>
                            <a:pt x="555" y="135"/>
                          </a:lnTo>
                          <a:lnTo>
                            <a:pt x="554" y="141"/>
                          </a:lnTo>
                          <a:lnTo>
                            <a:pt x="552" y="146"/>
                          </a:lnTo>
                          <a:lnTo>
                            <a:pt x="550" y="150"/>
                          </a:lnTo>
                          <a:lnTo>
                            <a:pt x="548" y="156"/>
                          </a:lnTo>
                          <a:lnTo>
                            <a:pt x="546" y="158"/>
                          </a:lnTo>
                          <a:lnTo>
                            <a:pt x="546" y="160"/>
                          </a:lnTo>
                          <a:lnTo>
                            <a:pt x="544" y="163"/>
                          </a:lnTo>
                          <a:lnTo>
                            <a:pt x="544" y="167"/>
                          </a:lnTo>
                          <a:lnTo>
                            <a:pt x="361" y="1127"/>
                          </a:lnTo>
                          <a:lnTo>
                            <a:pt x="361" y="1127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32" name="AutoShape 23"/>
                  <p:cNvSpPr/>
                  <p:nvPr/>
                </p:nvSpPr>
                <p:spPr>
                  <a:xfrm rot="10559400">
                    <a:off x="4015080" y="2083320"/>
                    <a:ext cx="88560" cy="75960"/>
                  </a:xfrm>
                  <a:prstGeom prst="hexagon">
                    <a:avLst>
                      <a:gd name="adj" fmla="val 29147"/>
                      <a:gd name="vf" fmla="val 115470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3" name="Group 24"/>
                <p:cNvGrpSpPr/>
                <p:nvPr/>
              </p:nvGrpSpPr>
              <p:grpSpPr>
                <a:xfrm>
                  <a:off x="3975840" y="2598480"/>
                  <a:ext cx="271080" cy="1247760"/>
                  <a:chOff x="3975840" y="2598480"/>
                  <a:chExt cx="271080" cy="1247760"/>
                </a:xfrm>
              </p:grpSpPr>
              <p:grpSp>
                <p:nvGrpSpPr>
                  <p:cNvPr id="3334" name="Group 25"/>
                  <p:cNvGrpSpPr/>
                  <p:nvPr/>
                </p:nvGrpSpPr>
                <p:grpSpPr>
                  <a:xfrm>
                    <a:off x="3975840" y="2598480"/>
                    <a:ext cx="242640" cy="611280"/>
                    <a:chOff x="3975840" y="2598480"/>
                    <a:chExt cx="242640" cy="611280"/>
                  </a:xfrm>
                </p:grpSpPr>
                <p:sp>
                  <p:nvSpPr>
                    <p:cNvPr id="3335" name="AutoShape 26"/>
                    <p:cNvSpPr/>
                    <p:nvPr/>
                  </p:nvSpPr>
                  <p:spPr>
                    <a:xfrm rot="21532200">
                      <a:off x="4008960" y="2715840"/>
                      <a:ext cx="179640" cy="49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18000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6" name="AutoShape 27"/>
                    <p:cNvSpPr/>
                    <p:nvPr/>
                  </p:nvSpPr>
                  <p:spPr>
                    <a:xfrm rot="5510400">
                      <a:off x="4001040" y="2579760"/>
                      <a:ext cx="19188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7" name="Group 28"/>
                  <p:cNvGrpSpPr/>
                  <p:nvPr/>
                </p:nvGrpSpPr>
                <p:grpSpPr>
                  <a:xfrm>
                    <a:off x="3996720" y="3097080"/>
                    <a:ext cx="250200" cy="749160"/>
                    <a:chOff x="3996720" y="3097080"/>
                    <a:chExt cx="250200" cy="749160"/>
                  </a:xfrm>
                </p:grpSpPr>
                <p:sp>
                  <p:nvSpPr>
                    <p:cNvPr id="3338" name="AutoShape 29"/>
                    <p:cNvSpPr/>
                    <p:nvPr/>
                  </p:nvSpPr>
                  <p:spPr>
                    <a:xfrm rot="21547200">
                      <a:off x="4016520" y="3229920"/>
                      <a:ext cx="180360" cy="36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4308" y="21600"/>
                          </a:lnTo>
                          <a:lnTo>
                            <a:pt x="17292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54000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9" name="Oval 30"/>
                    <p:cNvSpPr/>
                    <p:nvPr/>
                  </p:nvSpPr>
                  <p:spPr>
                    <a:xfrm rot="486000">
                      <a:off x="4009320" y="3108960"/>
                      <a:ext cx="187200" cy="190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0" name="Freeform 31"/>
                    <p:cNvSpPr/>
                    <p:nvPr/>
                  </p:nvSpPr>
                  <p:spPr>
                    <a:xfrm rot="9981000">
                      <a:off x="4039560" y="3541320"/>
                      <a:ext cx="175680" cy="28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2" h="2302">
                          <a:moveTo>
                            <a:pt x="361" y="1127"/>
                          </a:moveTo>
                          <a:lnTo>
                            <a:pt x="280" y="1116"/>
                          </a:lnTo>
                          <a:lnTo>
                            <a:pt x="373" y="711"/>
                          </a:lnTo>
                          <a:lnTo>
                            <a:pt x="373" y="709"/>
                          </a:lnTo>
                          <a:lnTo>
                            <a:pt x="375" y="705"/>
                          </a:lnTo>
                          <a:lnTo>
                            <a:pt x="375" y="703"/>
                          </a:lnTo>
                          <a:lnTo>
                            <a:pt x="375" y="700"/>
                          </a:lnTo>
                          <a:lnTo>
                            <a:pt x="375" y="698"/>
                          </a:lnTo>
                          <a:lnTo>
                            <a:pt x="375" y="696"/>
                          </a:lnTo>
                          <a:lnTo>
                            <a:pt x="375" y="692"/>
                          </a:lnTo>
                          <a:lnTo>
                            <a:pt x="375" y="690"/>
                          </a:lnTo>
                          <a:lnTo>
                            <a:pt x="375" y="684"/>
                          </a:lnTo>
                          <a:lnTo>
                            <a:pt x="375" y="681"/>
                          </a:lnTo>
                          <a:lnTo>
                            <a:pt x="375" y="675"/>
                          </a:lnTo>
                          <a:lnTo>
                            <a:pt x="375" y="669"/>
                          </a:lnTo>
                          <a:lnTo>
                            <a:pt x="371" y="665"/>
                          </a:lnTo>
                          <a:lnTo>
                            <a:pt x="371" y="660"/>
                          </a:lnTo>
                          <a:lnTo>
                            <a:pt x="369" y="654"/>
                          </a:lnTo>
                          <a:lnTo>
                            <a:pt x="367" y="652"/>
                          </a:lnTo>
                          <a:lnTo>
                            <a:pt x="365" y="646"/>
                          </a:lnTo>
                          <a:lnTo>
                            <a:pt x="363" y="641"/>
                          </a:lnTo>
                          <a:lnTo>
                            <a:pt x="361" y="637"/>
                          </a:lnTo>
                          <a:lnTo>
                            <a:pt x="358" y="633"/>
                          </a:lnTo>
                          <a:lnTo>
                            <a:pt x="356" y="629"/>
                          </a:lnTo>
                          <a:lnTo>
                            <a:pt x="354" y="623"/>
                          </a:lnTo>
                          <a:lnTo>
                            <a:pt x="350" y="620"/>
                          </a:lnTo>
                          <a:lnTo>
                            <a:pt x="346" y="616"/>
                          </a:lnTo>
                          <a:lnTo>
                            <a:pt x="342" y="612"/>
                          </a:lnTo>
                          <a:lnTo>
                            <a:pt x="339" y="610"/>
                          </a:lnTo>
                          <a:lnTo>
                            <a:pt x="335" y="606"/>
                          </a:lnTo>
                          <a:lnTo>
                            <a:pt x="331" y="603"/>
                          </a:lnTo>
                          <a:lnTo>
                            <a:pt x="325" y="601"/>
                          </a:lnTo>
                          <a:lnTo>
                            <a:pt x="321" y="597"/>
                          </a:lnTo>
                          <a:lnTo>
                            <a:pt x="318" y="595"/>
                          </a:lnTo>
                          <a:lnTo>
                            <a:pt x="312" y="593"/>
                          </a:lnTo>
                          <a:lnTo>
                            <a:pt x="306" y="591"/>
                          </a:lnTo>
                          <a:lnTo>
                            <a:pt x="302" y="589"/>
                          </a:lnTo>
                          <a:lnTo>
                            <a:pt x="299" y="589"/>
                          </a:lnTo>
                          <a:lnTo>
                            <a:pt x="295" y="587"/>
                          </a:lnTo>
                          <a:lnTo>
                            <a:pt x="291" y="587"/>
                          </a:lnTo>
                          <a:lnTo>
                            <a:pt x="287" y="585"/>
                          </a:lnTo>
                          <a:lnTo>
                            <a:pt x="285" y="585"/>
                          </a:lnTo>
                          <a:lnTo>
                            <a:pt x="283" y="585"/>
                          </a:lnTo>
                          <a:lnTo>
                            <a:pt x="280" y="585"/>
                          </a:lnTo>
                          <a:lnTo>
                            <a:pt x="276" y="585"/>
                          </a:lnTo>
                          <a:lnTo>
                            <a:pt x="274" y="585"/>
                          </a:lnTo>
                          <a:lnTo>
                            <a:pt x="272" y="585"/>
                          </a:lnTo>
                          <a:lnTo>
                            <a:pt x="268" y="585"/>
                          </a:lnTo>
                          <a:lnTo>
                            <a:pt x="266" y="585"/>
                          </a:lnTo>
                          <a:lnTo>
                            <a:pt x="263" y="585"/>
                          </a:lnTo>
                          <a:lnTo>
                            <a:pt x="261" y="587"/>
                          </a:lnTo>
                          <a:lnTo>
                            <a:pt x="259" y="587"/>
                          </a:lnTo>
                          <a:lnTo>
                            <a:pt x="255" y="587"/>
                          </a:lnTo>
                          <a:lnTo>
                            <a:pt x="253" y="589"/>
                          </a:lnTo>
                          <a:lnTo>
                            <a:pt x="249" y="589"/>
                          </a:lnTo>
                          <a:lnTo>
                            <a:pt x="247" y="589"/>
                          </a:lnTo>
                          <a:lnTo>
                            <a:pt x="243" y="591"/>
                          </a:lnTo>
                          <a:lnTo>
                            <a:pt x="240" y="591"/>
                          </a:lnTo>
                          <a:lnTo>
                            <a:pt x="238" y="593"/>
                          </a:lnTo>
                          <a:lnTo>
                            <a:pt x="236" y="595"/>
                          </a:lnTo>
                          <a:lnTo>
                            <a:pt x="232" y="595"/>
                          </a:lnTo>
                          <a:lnTo>
                            <a:pt x="230" y="597"/>
                          </a:lnTo>
                          <a:lnTo>
                            <a:pt x="228" y="599"/>
                          </a:lnTo>
                          <a:lnTo>
                            <a:pt x="224" y="601"/>
                          </a:lnTo>
                          <a:lnTo>
                            <a:pt x="223" y="601"/>
                          </a:lnTo>
                          <a:lnTo>
                            <a:pt x="219" y="603"/>
                          </a:lnTo>
                          <a:lnTo>
                            <a:pt x="217" y="604"/>
                          </a:lnTo>
                          <a:lnTo>
                            <a:pt x="211" y="608"/>
                          </a:lnTo>
                          <a:lnTo>
                            <a:pt x="207" y="612"/>
                          </a:lnTo>
                          <a:lnTo>
                            <a:pt x="204" y="616"/>
                          </a:lnTo>
                          <a:lnTo>
                            <a:pt x="198" y="618"/>
                          </a:lnTo>
                          <a:lnTo>
                            <a:pt x="194" y="623"/>
                          </a:lnTo>
                          <a:lnTo>
                            <a:pt x="188" y="627"/>
                          </a:lnTo>
                          <a:lnTo>
                            <a:pt x="185" y="633"/>
                          </a:lnTo>
                          <a:lnTo>
                            <a:pt x="181" y="637"/>
                          </a:lnTo>
                          <a:lnTo>
                            <a:pt x="177" y="641"/>
                          </a:lnTo>
                          <a:lnTo>
                            <a:pt x="173" y="646"/>
                          </a:lnTo>
                          <a:lnTo>
                            <a:pt x="169" y="652"/>
                          </a:lnTo>
                          <a:lnTo>
                            <a:pt x="166" y="656"/>
                          </a:lnTo>
                          <a:lnTo>
                            <a:pt x="162" y="662"/>
                          </a:lnTo>
                          <a:lnTo>
                            <a:pt x="160" y="665"/>
                          </a:lnTo>
                          <a:lnTo>
                            <a:pt x="158" y="669"/>
                          </a:lnTo>
                          <a:lnTo>
                            <a:pt x="158" y="671"/>
                          </a:lnTo>
                          <a:lnTo>
                            <a:pt x="156" y="673"/>
                          </a:lnTo>
                          <a:lnTo>
                            <a:pt x="154" y="677"/>
                          </a:lnTo>
                          <a:lnTo>
                            <a:pt x="152" y="679"/>
                          </a:lnTo>
                          <a:lnTo>
                            <a:pt x="152" y="681"/>
                          </a:lnTo>
                          <a:lnTo>
                            <a:pt x="150" y="684"/>
                          </a:lnTo>
                          <a:lnTo>
                            <a:pt x="150" y="688"/>
                          </a:lnTo>
                          <a:lnTo>
                            <a:pt x="146" y="694"/>
                          </a:lnTo>
                          <a:lnTo>
                            <a:pt x="145" y="701"/>
                          </a:lnTo>
                          <a:lnTo>
                            <a:pt x="143" y="709"/>
                          </a:lnTo>
                          <a:lnTo>
                            <a:pt x="139" y="717"/>
                          </a:lnTo>
                          <a:lnTo>
                            <a:pt x="137" y="724"/>
                          </a:lnTo>
                          <a:lnTo>
                            <a:pt x="135" y="732"/>
                          </a:lnTo>
                          <a:lnTo>
                            <a:pt x="131" y="739"/>
                          </a:lnTo>
                          <a:lnTo>
                            <a:pt x="129" y="747"/>
                          </a:lnTo>
                          <a:lnTo>
                            <a:pt x="126" y="755"/>
                          </a:lnTo>
                          <a:lnTo>
                            <a:pt x="124" y="760"/>
                          </a:lnTo>
                          <a:lnTo>
                            <a:pt x="122" y="768"/>
                          </a:lnTo>
                          <a:lnTo>
                            <a:pt x="120" y="776"/>
                          </a:lnTo>
                          <a:lnTo>
                            <a:pt x="116" y="781"/>
                          </a:lnTo>
                          <a:lnTo>
                            <a:pt x="114" y="789"/>
                          </a:lnTo>
                          <a:lnTo>
                            <a:pt x="112" y="796"/>
                          </a:lnTo>
                          <a:lnTo>
                            <a:pt x="110" y="804"/>
                          </a:lnTo>
                          <a:lnTo>
                            <a:pt x="107" y="812"/>
                          </a:lnTo>
                          <a:lnTo>
                            <a:pt x="107" y="817"/>
                          </a:lnTo>
                          <a:lnTo>
                            <a:pt x="103" y="823"/>
                          </a:lnTo>
                          <a:lnTo>
                            <a:pt x="101" y="831"/>
                          </a:lnTo>
                          <a:lnTo>
                            <a:pt x="97" y="836"/>
                          </a:lnTo>
                          <a:lnTo>
                            <a:pt x="97" y="844"/>
                          </a:lnTo>
                          <a:lnTo>
                            <a:pt x="93" y="852"/>
                          </a:lnTo>
                          <a:lnTo>
                            <a:pt x="93" y="857"/>
                          </a:lnTo>
                          <a:lnTo>
                            <a:pt x="89" y="865"/>
                          </a:lnTo>
                          <a:lnTo>
                            <a:pt x="88" y="871"/>
                          </a:lnTo>
                          <a:lnTo>
                            <a:pt x="86" y="878"/>
                          </a:lnTo>
                          <a:lnTo>
                            <a:pt x="84" y="884"/>
                          </a:lnTo>
                          <a:lnTo>
                            <a:pt x="82" y="892"/>
                          </a:lnTo>
                          <a:lnTo>
                            <a:pt x="80" y="899"/>
                          </a:lnTo>
                          <a:lnTo>
                            <a:pt x="78" y="907"/>
                          </a:lnTo>
                          <a:lnTo>
                            <a:pt x="74" y="912"/>
                          </a:lnTo>
                          <a:lnTo>
                            <a:pt x="72" y="920"/>
                          </a:lnTo>
                          <a:lnTo>
                            <a:pt x="72" y="926"/>
                          </a:lnTo>
                          <a:lnTo>
                            <a:pt x="68" y="931"/>
                          </a:lnTo>
                          <a:lnTo>
                            <a:pt x="67" y="939"/>
                          </a:lnTo>
                          <a:lnTo>
                            <a:pt x="65" y="945"/>
                          </a:lnTo>
                          <a:lnTo>
                            <a:pt x="63" y="952"/>
                          </a:lnTo>
                          <a:lnTo>
                            <a:pt x="59" y="958"/>
                          </a:lnTo>
                          <a:lnTo>
                            <a:pt x="57" y="966"/>
                          </a:lnTo>
                          <a:lnTo>
                            <a:pt x="55" y="971"/>
                          </a:lnTo>
                          <a:lnTo>
                            <a:pt x="53" y="979"/>
                          </a:lnTo>
                          <a:lnTo>
                            <a:pt x="51" y="987"/>
                          </a:lnTo>
                          <a:lnTo>
                            <a:pt x="49" y="994"/>
                          </a:lnTo>
                          <a:lnTo>
                            <a:pt x="48" y="1000"/>
                          </a:lnTo>
                          <a:lnTo>
                            <a:pt x="46" y="1007"/>
                          </a:lnTo>
                          <a:lnTo>
                            <a:pt x="44" y="1015"/>
                          </a:lnTo>
                          <a:lnTo>
                            <a:pt x="42" y="1021"/>
                          </a:lnTo>
                          <a:lnTo>
                            <a:pt x="42" y="1028"/>
                          </a:lnTo>
                          <a:lnTo>
                            <a:pt x="38" y="1036"/>
                          </a:lnTo>
                          <a:lnTo>
                            <a:pt x="36" y="1042"/>
                          </a:lnTo>
                          <a:lnTo>
                            <a:pt x="36" y="1049"/>
                          </a:lnTo>
                          <a:lnTo>
                            <a:pt x="34" y="1057"/>
                          </a:lnTo>
                          <a:lnTo>
                            <a:pt x="30" y="1063"/>
                          </a:lnTo>
                          <a:lnTo>
                            <a:pt x="30" y="1070"/>
                          </a:lnTo>
                          <a:lnTo>
                            <a:pt x="29" y="1078"/>
                          </a:lnTo>
                          <a:lnTo>
                            <a:pt x="27" y="1085"/>
                          </a:lnTo>
                          <a:lnTo>
                            <a:pt x="25" y="1093"/>
                          </a:lnTo>
                          <a:lnTo>
                            <a:pt x="23" y="1101"/>
                          </a:lnTo>
                          <a:lnTo>
                            <a:pt x="21" y="1108"/>
                          </a:lnTo>
                          <a:lnTo>
                            <a:pt x="19" y="1116"/>
                          </a:lnTo>
                          <a:lnTo>
                            <a:pt x="17" y="1123"/>
                          </a:lnTo>
                          <a:lnTo>
                            <a:pt x="17" y="1131"/>
                          </a:lnTo>
                          <a:lnTo>
                            <a:pt x="15" y="1139"/>
                          </a:lnTo>
                          <a:lnTo>
                            <a:pt x="13" y="1148"/>
                          </a:lnTo>
                          <a:lnTo>
                            <a:pt x="10" y="1158"/>
                          </a:lnTo>
                          <a:lnTo>
                            <a:pt x="10" y="1165"/>
                          </a:lnTo>
                          <a:lnTo>
                            <a:pt x="8" y="1175"/>
                          </a:lnTo>
                          <a:lnTo>
                            <a:pt x="6" y="1182"/>
                          </a:lnTo>
                          <a:lnTo>
                            <a:pt x="6" y="1192"/>
                          </a:lnTo>
                          <a:lnTo>
                            <a:pt x="4" y="1201"/>
                          </a:lnTo>
                          <a:lnTo>
                            <a:pt x="2" y="1211"/>
                          </a:lnTo>
                          <a:lnTo>
                            <a:pt x="2" y="1218"/>
                          </a:lnTo>
                          <a:lnTo>
                            <a:pt x="0" y="1230"/>
                          </a:lnTo>
                          <a:lnTo>
                            <a:pt x="0" y="1237"/>
                          </a:lnTo>
                          <a:lnTo>
                            <a:pt x="0" y="1247"/>
                          </a:lnTo>
                          <a:lnTo>
                            <a:pt x="0" y="1257"/>
                          </a:lnTo>
                          <a:lnTo>
                            <a:pt x="0" y="1268"/>
                          </a:lnTo>
                          <a:lnTo>
                            <a:pt x="0" y="1276"/>
                          </a:lnTo>
                          <a:lnTo>
                            <a:pt x="0" y="1285"/>
                          </a:lnTo>
                          <a:lnTo>
                            <a:pt x="0" y="1296"/>
                          </a:lnTo>
                          <a:lnTo>
                            <a:pt x="0" y="1304"/>
                          </a:lnTo>
                          <a:lnTo>
                            <a:pt x="0" y="1314"/>
                          </a:lnTo>
                          <a:lnTo>
                            <a:pt x="0" y="1323"/>
                          </a:lnTo>
                          <a:lnTo>
                            <a:pt x="0" y="1333"/>
                          </a:lnTo>
                          <a:lnTo>
                            <a:pt x="2" y="1342"/>
                          </a:lnTo>
                          <a:lnTo>
                            <a:pt x="2" y="1352"/>
                          </a:lnTo>
                          <a:lnTo>
                            <a:pt x="4" y="1363"/>
                          </a:lnTo>
                          <a:lnTo>
                            <a:pt x="4" y="1371"/>
                          </a:lnTo>
                          <a:lnTo>
                            <a:pt x="6" y="1382"/>
                          </a:lnTo>
                          <a:lnTo>
                            <a:pt x="8" y="1390"/>
                          </a:lnTo>
                          <a:lnTo>
                            <a:pt x="8" y="1401"/>
                          </a:lnTo>
                          <a:lnTo>
                            <a:pt x="10" y="1409"/>
                          </a:lnTo>
                          <a:lnTo>
                            <a:pt x="11" y="1420"/>
                          </a:lnTo>
                          <a:lnTo>
                            <a:pt x="13" y="1429"/>
                          </a:lnTo>
                          <a:lnTo>
                            <a:pt x="15" y="1439"/>
                          </a:lnTo>
                          <a:lnTo>
                            <a:pt x="17" y="1448"/>
                          </a:lnTo>
                          <a:lnTo>
                            <a:pt x="19" y="1458"/>
                          </a:lnTo>
                          <a:lnTo>
                            <a:pt x="21" y="1468"/>
                          </a:lnTo>
                          <a:lnTo>
                            <a:pt x="23" y="1477"/>
                          </a:lnTo>
                          <a:lnTo>
                            <a:pt x="27" y="1487"/>
                          </a:lnTo>
                          <a:lnTo>
                            <a:pt x="29" y="1496"/>
                          </a:lnTo>
                          <a:lnTo>
                            <a:pt x="30" y="1506"/>
                          </a:lnTo>
                          <a:lnTo>
                            <a:pt x="34" y="1515"/>
                          </a:lnTo>
                          <a:lnTo>
                            <a:pt x="36" y="1525"/>
                          </a:lnTo>
                          <a:lnTo>
                            <a:pt x="38" y="1534"/>
                          </a:lnTo>
                          <a:lnTo>
                            <a:pt x="42" y="1544"/>
                          </a:lnTo>
                          <a:lnTo>
                            <a:pt x="46" y="1553"/>
                          </a:lnTo>
                          <a:lnTo>
                            <a:pt x="48" y="1561"/>
                          </a:lnTo>
                          <a:lnTo>
                            <a:pt x="51" y="1572"/>
                          </a:lnTo>
                          <a:lnTo>
                            <a:pt x="55" y="1580"/>
                          </a:lnTo>
                          <a:lnTo>
                            <a:pt x="59" y="1589"/>
                          </a:lnTo>
                          <a:lnTo>
                            <a:pt x="63" y="1599"/>
                          </a:lnTo>
                          <a:lnTo>
                            <a:pt x="67" y="1608"/>
                          </a:lnTo>
                          <a:lnTo>
                            <a:pt x="68" y="1616"/>
                          </a:lnTo>
                          <a:lnTo>
                            <a:pt x="74" y="1627"/>
                          </a:lnTo>
                          <a:lnTo>
                            <a:pt x="78" y="1635"/>
                          </a:lnTo>
                          <a:lnTo>
                            <a:pt x="82" y="1644"/>
                          </a:lnTo>
                          <a:lnTo>
                            <a:pt x="86" y="1652"/>
                          </a:lnTo>
                          <a:lnTo>
                            <a:pt x="89" y="1661"/>
                          </a:lnTo>
                          <a:lnTo>
                            <a:pt x="95" y="1669"/>
                          </a:lnTo>
                          <a:lnTo>
                            <a:pt x="99" y="1679"/>
                          </a:lnTo>
                          <a:lnTo>
                            <a:pt x="103" y="1688"/>
                          </a:lnTo>
                          <a:lnTo>
                            <a:pt x="108" y="1696"/>
                          </a:lnTo>
                          <a:lnTo>
                            <a:pt x="114" y="1703"/>
                          </a:lnTo>
                          <a:lnTo>
                            <a:pt x="118" y="1713"/>
                          </a:lnTo>
                          <a:lnTo>
                            <a:pt x="124" y="1722"/>
                          </a:lnTo>
                          <a:lnTo>
                            <a:pt x="127" y="1732"/>
                          </a:lnTo>
                          <a:lnTo>
                            <a:pt x="131" y="1736"/>
                          </a:lnTo>
                          <a:lnTo>
                            <a:pt x="135" y="1739"/>
                          </a:lnTo>
                          <a:lnTo>
                            <a:pt x="135" y="1743"/>
                          </a:lnTo>
                          <a:lnTo>
                            <a:pt x="137" y="1745"/>
                          </a:lnTo>
                          <a:lnTo>
                            <a:pt x="139" y="1747"/>
                          </a:lnTo>
                          <a:lnTo>
                            <a:pt x="141" y="1751"/>
                          </a:lnTo>
                          <a:lnTo>
                            <a:pt x="143" y="1755"/>
                          </a:lnTo>
                          <a:lnTo>
                            <a:pt x="143" y="1756"/>
                          </a:lnTo>
                          <a:lnTo>
                            <a:pt x="145" y="1760"/>
                          </a:lnTo>
                          <a:lnTo>
                            <a:pt x="146" y="1762"/>
                          </a:lnTo>
                          <a:lnTo>
                            <a:pt x="148" y="1766"/>
                          </a:lnTo>
                          <a:lnTo>
                            <a:pt x="150" y="1768"/>
                          </a:lnTo>
                          <a:lnTo>
                            <a:pt x="152" y="1770"/>
                          </a:lnTo>
                          <a:lnTo>
                            <a:pt x="156" y="1774"/>
                          </a:lnTo>
                          <a:lnTo>
                            <a:pt x="158" y="1777"/>
                          </a:lnTo>
                          <a:lnTo>
                            <a:pt x="160" y="1779"/>
                          </a:lnTo>
                          <a:lnTo>
                            <a:pt x="160" y="1783"/>
                          </a:lnTo>
                          <a:lnTo>
                            <a:pt x="162" y="1787"/>
                          </a:lnTo>
                          <a:lnTo>
                            <a:pt x="166" y="1789"/>
                          </a:lnTo>
                          <a:lnTo>
                            <a:pt x="166" y="1791"/>
                          </a:lnTo>
                          <a:lnTo>
                            <a:pt x="167" y="1794"/>
                          </a:lnTo>
                          <a:lnTo>
                            <a:pt x="169" y="1796"/>
                          </a:lnTo>
                          <a:lnTo>
                            <a:pt x="171" y="1800"/>
                          </a:lnTo>
                          <a:lnTo>
                            <a:pt x="173" y="1802"/>
                          </a:lnTo>
                          <a:lnTo>
                            <a:pt x="175" y="1806"/>
                          </a:lnTo>
                          <a:lnTo>
                            <a:pt x="177" y="1808"/>
                          </a:lnTo>
                          <a:lnTo>
                            <a:pt x="179" y="1812"/>
                          </a:lnTo>
                          <a:lnTo>
                            <a:pt x="181" y="1815"/>
                          </a:lnTo>
                          <a:lnTo>
                            <a:pt x="183" y="1817"/>
                          </a:lnTo>
                          <a:lnTo>
                            <a:pt x="185" y="1821"/>
                          </a:lnTo>
                          <a:lnTo>
                            <a:pt x="188" y="1827"/>
                          </a:lnTo>
                          <a:lnTo>
                            <a:pt x="190" y="1831"/>
                          </a:lnTo>
                          <a:lnTo>
                            <a:pt x="194" y="1836"/>
                          </a:lnTo>
                          <a:lnTo>
                            <a:pt x="198" y="1842"/>
                          </a:lnTo>
                          <a:lnTo>
                            <a:pt x="200" y="1846"/>
                          </a:lnTo>
                          <a:lnTo>
                            <a:pt x="204" y="1850"/>
                          </a:lnTo>
                          <a:lnTo>
                            <a:pt x="205" y="1853"/>
                          </a:lnTo>
                          <a:lnTo>
                            <a:pt x="207" y="1859"/>
                          </a:lnTo>
                          <a:lnTo>
                            <a:pt x="209" y="1861"/>
                          </a:lnTo>
                          <a:lnTo>
                            <a:pt x="211" y="1863"/>
                          </a:lnTo>
                          <a:lnTo>
                            <a:pt x="213" y="1867"/>
                          </a:lnTo>
                          <a:lnTo>
                            <a:pt x="215" y="1869"/>
                          </a:lnTo>
                          <a:lnTo>
                            <a:pt x="217" y="1870"/>
                          </a:lnTo>
                          <a:lnTo>
                            <a:pt x="219" y="1874"/>
                          </a:lnTo>
                          <a:lnTo>
                            <a:pt x="141" y="2163"/>
                          </a:lnTo>
                          <a:lnTo>
                            <a:pt x="143" y="2165"/>
                          </a:lnTo>
                          <a:lnTo>
                            <a:pt x="146" y="2165"/>
                          </a:lnTo>
                          <a:lnTo>
                            <a:pt x="150" y="2167"/>
                          </a:lnTo>
                          <a:lnTo>
                            <a:pt x="152" y="2167"/>
                          </a:lnTo>
                          <a:lnTo>
                            <a:pt x="154" y="2167"/>
                          </a:lnTo>
                          <a:lnTo>
                            <a:pt x="158" y="2167"/>
                          </a:lnTo>
                          <a:lnTo>
                            <a:pt x="162" y="2171"/>
                          </a:lnTo>
                          <a:lnTo>
                            <a:pt x="166" y="2171"/>
                          </a:lnTo>
                          <a:lnTo>
                            <a:pt x="167" y="2173"/>
                          </a:lnTo>
                          <a:lnTo>
                            <a:pt x="171" y="2173"/>
                          </a:lnTo>
                          <a:lnTo>
                            <a:pt x="175" y="2175"/>
                          </a:lnTo>
                          <a:lnTo>
                            <a:pt x="181" y="2175"/>
                          </a:lnTo>
                          <a:lnTo>
                            <a:pt x="185" y="2175"/>
                          </a:lnTo>
                          <a:lnTo>
                            <a:pt x="188" y="2177"/>
                          </a:lnTo>
                          <a:lnTo>
                            <a:pt x="194" y="2180"/>
                          </a:lnTo>
                          <a:lnTo>
                            <a:pt x="198" y="2180"/>
                          </a:lnTo>
                          <a:lnTo>
                            <a:pt x="204" y="2182"/>
                          </a:lnTo>
                          <a:lnTo>
                            <a:pt x="209" y="2182"/>
                          </a:lnTo>
                          <a:lnTo>
                            <a:pt x="215" y="2184"/>
                          </a:lnTo>
                          <a:lnTo>
                            <a:pt x="219" y="2186"/>
                          </a:lnTo>
                          <a:lnTo>
                            <a:pt x="224" y="2188"/>
                          </a:lnTo>
                          <a:lnTo>
                            <a:pt x="232" y="2188"/>
                          </a:lnTo>
                          <a:lnTo>
                            <a:pt x="238" y="2190"/>
                          </a:lnTo>
                          <a:lnTo>
                            <a:pt x="243" y="2190"/>
                          </a:lnTo>
                          <a:lnTo>
                            <a:pt x="251" y="2192"/>
                          </a:lnTo>
                          <a:lnTo>
                            <a:pt x="257" y="2194"/>
                          </a:lnTo>
                          <a:lnTo>
                            <a:pt x="264" y="2194"/>
                          </a:lnTo>
                          <a:lnTo>
                            <a:pt x="270" y="2196"/>
                          </a:lnTo>
                          <a:lnTo>
                            <a:pt x="276" y="2196"/>
                          </a:lnTo>
                          <a:lnTo>
                            <a:pt x="283" y="2197"/>
                          </a:lnTo>
                          <a:lnTo>
                            <a:pt x="291" y="2199"/>
                          </a:lnTo>
                          <a:lnTo>
                            <a:pt x="297" y="2199"/>
                          </a:lnTo>
                          <a:lnTo>
                            <a:pt x="304" y="2199"/>
                          </a:lnTo>
                          <a:lnTo>
                            <a:pt x="312" y="2199"/>
                          </a:lnTo>
                          <a:lnTo>
                            <a:pt x="320" y="2201"/>
                          </a:lnTo>
                          <a:lnTo>
                            <a:pt x="325" y="2201"/>
                          </a:lnTo>
                          <a:lnTo>
                            <a:pt x="333" y="2201"/>
                          </a:lnTo>
                          <a:lnTo>
                            <a:pt x="341" y="2201"/>
                          </a:lnTo>
                          <a:lnTo>
                            <a:pt x="348" y="2201"/>
                          </a:lnTo>
                          <a:lnTo>
                            <a:pt x="356" y="2201"/>
                          </a:lnTo>
                          <a:lnTo>
                            <a:pt x="363" y="2201"/>
                          </a:lnTo>
                          <a:lnTo>
                            <a:pt x="371" y="2201"/>
                          </a:lnTo>
                          <a:lnTo>
                            <a:pt x="379" y="2201"/>
                          </a:lnTo>
                          <a:lnTo>
                            <a:pt x="386" y="2201"/>
                          </a:lnTo>
                          <a:lnTo>
                            <a:pt x="394" y="2201"/>
                          </a:lnTo>
                          <a:lnTo>
                            <a:pt x="401" y="2199"/>
                          </a:lnTo>
                          <a:lnTo>
                            <a:pt x="409" y="2199"/>
                          </a:lnTo>
                          <a:lnTo>
                            <a:pt x="415" y="2197"/>
                          </a:lnTo>
                          <a:lnTo>
                            <a:pt x="422" y="2196"/>
                          </a:lnTo>
                          <a:lnTo>
                            <a:pt x="432" y="2196"/>
                          </a:lnTo>
                          <a:lnTo>
                            <a:pt x="439" y="2194"/>
                          </a:lnTo>
                          <a:lnTo>
                            <a:pt x="447" y="2192"/>
                          </a:lnTo>
                          <a:lnTo>
                            <a:pt x="455" y="2190"/>
                          </a:lnTo>
                          <a:lnTo>
                            <a:pt x="462" y="2188"/>
                          </a:lnTo>
                          <a:lnTo>
                            <a:pt x="470" y="2188"/>
                          </a:lnTo>
                          <a:lnTo>
                            <a:pt x="476" y="2184"/>
                          </a:lnTo>
                          <a:lnTo>
                            <a:pt x="483" y="2182"/>
                          </a:lnTo>
                          <a:lnTo>
                            <a:pt x="491" y="2180"/>
                          </a:lnTo>
                          <a:lnTo>
                            <a:pt x="498" y="2175"/>
                          </a:lnTo>
                          <a:lnTo>
                            <a:pt x="504" y="2173"/>
                          </a:lnTo>
                          <a:lnTo>
                            <a:pt x="512" y="2169"/>
                          </a:lnTo>
                          <a:lnTo>
                            <a:pt x="517" y="2165"/>
                          </a:lnTo>
                          <a:lnTo>
                            <a:pt x="525" y="2161"/>
                          </a:lnTo>
                          <a:lnTo>
                            <a:pt x="531" y="2158"/>
                          </a:lnTo>
                          <a:lnTo>
                            <a:pt x="536" y="2154"/>
                          </a:lnTo>
                          <a:lnTo>
                            <a:pt x="542" y="2150"/>
                          </a:lnTo>
                          <a:lnTo>
                            <a:pt x="550" y="2146"/>
                          </a:lnTo>
                          <a:lnTo>
                            <a:pt x="555" y="2142"/>
                          </a:lnTo>
                          <a:lnTo>
                            <a:pt x="559" y="2137"/>
                          </a:lnTo>
                          <a:lnTo>
                            <a:pt x="565" y="2133"/>
                          </a:lnTo>
                          <a:lnTo>
                            <a:pt x="571" y="2129"/>
                          </a:lnTo>
                          <a:lnTo>
                            <a:pt x="576" y="2123"/>
                          </a:lnTo>
                          <a:lnTo>
                            <a:pt x="582" y="2120"/>
                          </a:lnTo>
                          <a:lnTo>
                            <a:pt x="588" y="2114"/>
                          </a:lnTo>
                          <a:lnTo>
                            <a:pt x="592" y="2110"/>
                          </a:lnTo>
                          <a:lnTo>
                            <a:pt x="595" y="2106"/>
                          </a:lnTo>
                          <a:lnTo>
                            <a:pt x="601" y="2101"/>
                          </a:lnTo>
                          <a:lnTo>
                            <a:pt x="605" y="2095"/>
                          </a:lnTo>
                          <a:lnTo>
                            <a:pt x="611" y="2091"/>
                          </a:lnTo>
                          <a:lnTo>
                            <a:pt x="614" y="2085"/>
                          </a:lnTo>
                          <a:lnTo>
                            <a:pt x="618" y="2080"/>
                          </a:lnTo>
                          <a:lnTo>
                            <a:pt x="624" y="2076"/>
                          </a:lnTo>
                          <a:lnTo>
                            <a:pt x="628" y="2070"/>
                          </a:lnTo>
                          <a:lnTo>
                            <a:pt x="632" y="2064"/>
                          </a:lnTo>
                          <a:lnTo>
                            <a:pt x="635" y="2059"/>
                          </a:lnTo>
                          <a:lnTo>
                            <a:pt x="637" y="2055"/>
                          </a:lnTo>
                          <a:lnTo>
                            <a:pt x="643" y="2049"/>
                          </a:lnTo>
                          <a:lnTo>
                            <a:pt x="645" y="2043"/>
                          </a:lnTo>
                          <a:lnTo>
                            <a:pt x="649" y="2040"/>
                          </a:lnTo>
                          <a:lnTo>
                            <a:pt x="652" y="2034"/>
                          </a:lnTo>
                          <a:lnTo>
                            <a:pt x="654" y="2030"/>
                          </a:lnTo>
                          <a:lnTo>
                            <a:pt x="658" y="2024"/>
                          </a:lnTo>
                          <a:lnTo>
                            <a:pt x="660" y="2021"/>
                          </a:lnTo>
                          <a:lnTo>
                            <a:pt x="664" y="2015"/>
                          </a:lnTo>
                          <a:lnTo>
                            <a:pt x="666" y="2011"/>
                          </a:lnTo>
                          <a:lnTo>
                            <a:pt x="668" y="2005"/>
                          </a:lnTo>
                          <a:lnTo>
                            <a:pt x="672" y="2002"/>
                          </a:lnTo>
                          <a:lnTo>
                            <a:pt x="673" y="1998"/>
                          </a:lnTo>
                          <a:lnTo>
                            <a:pt x="675" y="1992"/>
                          </a:lnTo>
                          <a:lnTo>
                            <a:pt x="677" y="1986"/>
                          </a:lnTo>
                          <a:lnTo>
                            <a:pt x="679" y="1983"/>
                          </a:lnTo>
                          <a:lnTo>
                            <a:pt x="681" y="1979"/>
                          </a:lnTo>
                          <a:lnTo>
                            <a:pt x="683" y="1975"/>
                          </a:lnTo>
                          <a:lnTo>
                            <a:pt x="685" y="1971"/>
                          </a:lnTo>
                          <a:lnTo>
                            <a:pt x="687" y="1969"/>
                          </a:lnTo>
                          <a:lnTo>
                            <a:pt x="689" y="1964"/>
                          </a:lnTo>
                          <a:lnTo>
                            <a:pt x="691" y="1962"/>
                          </a:lnTo>
                          <a:lnTo>
                            <a:pt x="692" y="1958"/>
                          </a:lnTo>
                          <a:lnTo>
                            <a:pt x="692" y="1954"/>
                          </a:lnTo>
                          <a:lnTo>
                            <a:pt x="692" y="1952"/>
                          </a:lnTo>
                          <a:lnTo>
                            <a:pt x="694" y="1950"/>
                          </a:lnTo>
                          <a:lnTo>
                            <a:pt x="696" y="1945"/>
                          </a:lnTo>
                          <a:lnTo>
                            <a:pt x="698" y="1941"/>
                          </a:lnTo>
                          <a:lnTo>
                            <a:pt x="700" y="1937"/>
                          </a:lnTo>
                          <a:lnTo>
                            <a:pt x="700" y="1935"/>
                          </a:lnTo>
                          <a:lnTo>
                            <a:pt x="700" y="1933"/>
                          </a:lnTo>
                          <a:lnTo>
                            <a:pt x="702" y="1933"/>
                          </a:lnTo>
                          <a:lnTo>
                            <a:pt x="740" y="1943"/>
                          </a:lnTo>
                          <a:lnTo>
                            <a:pt x="740" y="1943"/>
                          </a:lnTo>
                          <a:lnTo>
                            <a:pt x="738" y="1945"/>
                          </a:lnTo>
                          <a:lnTo>
                            <a:pt x="738" y="1947"/>
                          </a:lnTo>
                          <a:lnTo>
                            <a:pt x="738" y="1950"/>
                          </a:lnTo>
                          <a:lnTo>
                            <a:pt x="738" y="1954"/>
                          </a:lnTo>
                          <a:lnTo>
                            <a:pt x="738" y="1958"/>
                          </a:lnTo>
                          <a:lnTo>
                            <a:pt x="736" y="1962"/>
                          </a:lnTo>
                          <a:lnTo>
                            <a:pt x="736" y="1964"/>
                          </a:lnTo>
                          <a:lnTo>
                            <a:pt x="736" y="1967"/>
                          </a:lnTo>
                          <a:lnTo>
                            <a:pt x="736" y="1971"/>
                          </a:lnTo>
                          <a:lnTo>
                            <a:pt x="736" y="1975"/>
                          </a:lnTo>
                          <a:lnTo>
                            <a:pt x="736" y="1979"/>
                          </a:lnTo>
                          <a:lnTo>
                            <a:pt x="736" y="1983"/>
                          </a:lnTo>
                          <a:lnTo>
                            <a:pt x="736" y="1985"/>
                          </a:lnTo>
                          <a:lnTo>
                            <a:pt x="736" y="1990"/>
                          </a:lnTo>
                          <a:lnTo>
                            <a:pt x="736" y="1994"/>
                          </a:lnTo>
                          <a:lnTo>
                            <a:pt x="736" y="1998"/>
                          </a:lnTo>
                          <a:lnTo>
                            <a:pt x="736" y="2004"/>
                          </a:lnTo>
                          <a:lnTo>
                            <a:pt x="736" y="2007"/>
                          </a:lnTo>
                          <a:lnTo>
                            <a:pt x="736" y="2013"/>
                          </a:lnTo>
                          <a:lnTo>
                            <a:pt x="736" y="2015"/>
                          </a:lnTo>
                          <a:lnTo>
                            <a:pt x="736" y="2021"/>
                          </a:lnTo>
                          <a:lnTo>
                            <a:pt x="736" y="2026"/>
                          </a:lnTo>
                          <a:lnTo>
                            <a:pt x="736" y="2030"/>
                          </a:lnTo>
                          <a:lnTo>
                            <a:pt x="736" y="2036"/>
                          </a:lnTo>
                          <a:lnTo>
                            <a:pt x="736" y="2042"/>
                          </a:lnTo>
                          <a:lnTo>
                            <a:pt x="736" y="2047"/>
                          </a:lnTo>
                          <a:lnTo>
                            <a:pt x="738" y="2051"/>
                          </a:lnTo>
                          <a:lnTo>
                            <a:pt x="738" y="2057"/>
                          </a:lnTo>
                          <a:lnTo>
                            <a:pt x="738" y="2062"/>
                          </a:lnTo>
                          <a:lnTo>
                            <a:pt x="740" y="2066"/>
                          </a:lnTo>
                          <a:lnTo>
                            <a:pt x="740" y="2072"/>
                          </a:lnTo>
                          <a:lnTo>
                            <a:pt x="742" y="2078"/>
                          </a:lnTo>
                          <a:lnTo>
                            <a:pt x="744" y="2083"/>
                          </a:lnTo>
                          <a:lnTo>
                            <a:pt x="744" y="2091"/>
                          </a:lnTo>
                          <a:lnTo>
                            <a:pt x="746" y="2095"/>
                          </a:lnTo>
                          <a:lnTo>
                            <a:pt x="748" y="2101"/>
                          </a:lnTo>
                          <a:lnTo>
                            <a:pt x="748" y="2106"/>
                          </a:lnTo>
                          <a:lnTo>
                            <a:pt x="751" y="2110"/>
                          </a:lnTo>
                          <a:lnTo>
                            <a:pt x="753" y="2118"/>
                          </a:lnTo>
                          <a:lnTo>
                            <a:pt x="753" y="2123"/>
                          </a:lnTo>
                          <a:lnTo>
                            <a:pt x="757" y="2129"/>
                          </a:lnTo>
                          <a:lnTo>
                            <a:pt x="759" y="2135"/>
                          </a:lnTo>
                          <a:lnTo>
                            <a:pt x="761" y="2139"/>
                          </a:lnTo>
                          <a:lnTo>
                            <a:pt x="765" y="2144"/>
                          </a:lnTo>
                          <a:lnTo>
                            <a:pt x="767" y="2150"/>
                          </a:lnTo>
                          <a:lnTo>
                            <a:pt x="769" y="2156"/>
                          </a:lnTo>
                          <a:lnTo>
                            <a:pt x="772" y="2159"/>
                          </a:lnTo>
                          <a:lnTo>
                            <a:pt x="776" y="2165"/>
                          </a:lnTo>
                          <a:lnTo>
                            <a:pt x="780" y="2171"/>
                          </a:lnTo>
                          <a:lnTo>
                            <a:pt x="782" y="2175"/>
                          </a:lnTo>
                          <a:lnTo>
                            <a:pt x="786" y="2180"/>
                          </a:lnTo>
                          <a:lnTo>
                            <a:pt x="789" y="2186"/>
                          </a:lnTo>
                          <a:lnTo>
                            <a:pt x="795" y="2190"/>
                          </a:lnTo>
                          <a:lnTo>
                            <a:pt x="799" y="2196"/>
                          </a:lnTo>
                          <a:lnTo>
                            <a:pt x="805" y="2201"/>
                          </a:lnTo>
                          <a:lnTo>
                            <a:pt x="808" y="2205"/>
                          </a:lnTo>
                          <a:lnTo>
                            <a:pt x="814" y="2209"/>
                          </a:lnTo>
                          <a:lnTo>
                            <a:pt x="818" y="2213"/>
                          </a:lnTo>
                          <a:lnTo>
                            <a:pt x="824" y="2216"/>
                          </a:lnTo>
                          <a:lnTo>
                            <a:pt x="828" y="2222"/>
                          </a:lnTo>
                          <a:lnTo>
                            <a:pt x="833" y="2224"/>
                          </a:lnTo>
                          <a:lnTo>
                            <a:pt x="839" y="2228"/>
                          </a:lnTo>
                          <a:lnTo>
                            <a:pt x="845" y="2232"/>
                          </a:lnTo>
                          <a:lnTo>
                            <a:pt x="848" y="2235"/>
                          </a:lnTo>
                          <a:lnTo>
                            <a:pt x="854" y="2239"/>
                          </a:lnTo>
                          <a:lnTo>
                            <a:pt x="858" y="2243"/>
                          </a:lnTo>
                          <a:lnTo>
                            <a:pt x="864" y="2245"/>
                          </a:lnTo>
                          <a:lnTo>
                            <a:pt x="867" y="2249"/>
                          </a:lnTo>
                          <a:lnTo>
                            <a:pt x="873" y="2253"/>
                          </a:lnTo>
                          <a:lnTo>
                            <a:pt x="877" y="2256"/>
                          </a:lnTo>
                          <a:lnTo>
                            <a:pt x="883" y="2258"/>
                          </a:lnTo>
                          <a:lnTo>
                            <a:pt x="890" y="2260"/>
                          </a:lnTo>
                          <a:lnTo>
                            <a:pt x="896" y="2264"/>
                          </a:lnTo>
                          <a:lnTo>
                            <a:pt x="900" y="2266"/>
                          </a:lnTo>
                          <a:lnTo>
                            <a:pt x="904" y="2268"/>
                          </a:lnTo>
                          <a:lnTo>
                            <a:pt x="907" y="2270"/>
                          </a:lnTo>
                          <a:lnTo>
                            <a:pt x="913" y="2273"/>
                          </a:lnTo>
                          <a:lnTo>
                            <a:pt x="919" y="2275"/>
                          </a:lnTo>
                          <a:lnTo>
                            <a:pt x="925" y="2277"/>
                          </a:lnTo>
                          <a:lnTo>
                            <a:pt x="928" y="2279"/>
                          </a:lnTo>
                          <a:lnTo>
                            <a:pt x="934" y="2281"/>
                          </a:lnTo>
                          <a:lnTo>
                            <a:pt x="938" y="2283"/>
                          </a:lnTo>
                          <a:lnTo>
                            <a:pt x="942" y="2285"/>
                          </a:lnTo>
                          <a:lnTo>
                            <a:pt x="947" y="2287"/>
                          </a:lnTo>
                          <a:lnTo>
                            <a:pt x="951" y="2289"/>
                          </a:lnTo>
                          <a:lnTo>
                            <a:pt x="955" y="2289"/>
                          </a:lnTo>
                          <a:lnTo>
                            <a:pt x="961" y="2291"/>
                          </a:lnTo>
                          <a:lnTo>
                            <a:pt x="964" y="2291"/>
                          </a:lnTo>
                          <a:lnTo>
                            <a:pt x="968" y="2294"/>
                          </a:lnTo>
                          <a:lnTo>
                            <a:pt x="972" y="2294"/>
                          </a:lnTo>
                          <a:lnTo>
                            <a:pt x="978" y="2294"/>
                          </a:lnTo>
                          <a:lnTo>
                            <a:pt x="982" y="2296"/>
                          </a:lnTo>
                          <a:lnTo>
                            <a:pt x="985" y="2296"/>
                          </a:lnTo>
                          <a:lnTo>
                            <a:pt x="989" y="2296"/>
                          </a:lnTo>
                          <a:lnTo>
                            <a:pt x="993" y="2298"/>
                          </a:lnTo>
                          <a:lnTo>
                            <a:pt x="997" y="2298"/>
                          </a:lnTo>
                          <a:lnTo>
                            <a:pt x="1001" y="2298"/>
                          </a:lnTo>
                          <a:lnTo>
                            <a:pt x="1004" y="2298"/>
                          </a:lnTo>
                          <a:lnTo>
                            <a:pt x="1008" y="2300"/>
                          </a:lnTo>
                          <a:lnTo>
                            <a:pt x="1010" y="2300"/>
                          </a:lnTo>
                          <a:lnTo>
                            <a:pt x="1014" y="2300"/>
                          </a:lnTo>
                          <a:lnTo>
                            <a:pt x="1016" y="2300"/>
                          </a:lnTo>
                          <a:lnTo>
                            <a:pt x="1020" y="2300"/>
                          </a:lnTo>
                          <a:lnTo>
                            <a:pt x="1022" y="2300"/>
                          </a:lnTo>
                          <a:lnTo>
                            <a:pt x="1025" y="2302"/>
                          </a:lnTo>
                          <a:lnTo>
                            <a:pt x="1029" y="2300"/>
                          </a:lnTo>
                          <a:lnTo>
                            <a:pt x="1035" y="2300"/>
                          </a:lnTo>
                          <a:lnTo>
                            <a:pt x="1039" y="2298"/>
                          </a:lnTo>
                          <a:lnTo>
                            <a:pt x="1042" y="2298"/>
                          </a:lnTo>
                          <a:lnTo>
                            <a:pt x="1044" y="2296"/>
                          </a:lnTo>
                          <a:lnTo>
                            <a:pt x="1048" y="2296"/>
                          </a:lnTo>
                          <a:lnTo>
                            <a:pt x="1048" y="2294"/>
                          </a:lnTo>
                          <a:lnTo>
                            <a:pt x="1050" y="2294"/>
                          </a:lnTo>
                          <a:lnTo>
                            <a:pt x="1246" y="1334"/>
                          </a:lnTo>
                          <a:lnTo>
                            <a:pt x="1246" y="1333"/>
                          </a:lnTo>
                          <a:lnTo>
                            <a:pt x="1248" y="1331"/>
                          </a:lnTo>
                          <a:lnTo>
                            <a:pt x="1250" y="1327"/>
                          </a:lnTo>
                          <a:lnTo>
                            <a:pt x="1252" y="1325"/>
                          </a:lnTo>
                          <a:lnTo>
                            <a:pt x="1252" y="1323"/>
                          </a:lnTo>
                          <a:lnTo>
                            <a:pt x="1254" y="1319"/>
                          </a:lnTo>
                          <a:lnTo>
                            <a:pt x="1256" y="1315"/>
                          </a:lnTo>
                          <a:lnTo>
                            <a:pt x="1259" y="1312"/>
                          </a:lnTo>
                          <a:lnTo>
                            <a:pt x="1259" y="1306"/>
                          </a:lnTo>
                          <a:lnTo>
                            <a:pt x="1263" y="1302"/>
                          </a:lnTo>
                          <a:lnTo>
                            <a:pt x="1265" y="1296"/>
                          </a:lnTo>
                          <a:lnTo>
                            <a:pt x="1269" y="1293"/>
                          </a:lnTo>
                          <a:lnTo>
                            <a:pt x="1271" y="1285"/>
                          </a:lnTo>
                          <a:lnTo>
                            <a:pt x="1275" y="1281"/>
                          </a:lnTo>
                          <a:lnTo>
                            <a:pt x="1276" y="1274"/>
                          </a:lnTo>
                          <a:lnTo>
                            <a:pt x="1280" y="1266"/>
                          </a:lnTo>
                          <a:lnTo>
                            <a:pt x="1284" y="1258"/>
                          </a:lnTo>
                          <a:lnTo>
                            <a:pt x="1288" y="1249"/>
                          </a:lnTo>
                          <a:lnTo>
                            <a:pt x="1290" y="1241"/>
                          </a:lnTo>
                          <a:lnTo>
                            <a:pt x="1294" y="1234"/>
                          </a:lnTo>
                          <a:lnTo>
                            <a:pt x="1297" y="1224"/>
                          </a:lnTo>
                          <a:lnTo>
                            <a:pt x="1301" y="1217"/>
                          </a:lnTo>
                          <a:lnTo>
                            <a:pt x="1305" y="1207"/>
                          </a:lnTo>
                          <a:lnTo>
                            <a:pt x="1309" y="1198"/>
                          </a:lnTo>
                          <a:lnTo>
                            <a:pt x="1313" y="1188"/>
                          </a:lnTo>
                          <a:lnTo>
                            <a:pt x="1316" y="1177"/>
                          </a:lnTo>
                          <a:lnTo>
                            <a:pt x="1320" y="1165"/>
                          </a:lnTo>
                          <a:lnTo>
                            <a:pt x="1324" y="1154"/>
                          </a:lnTo>
                          <a:lnTo>
                            <a:pt x="1330" y="1144"/>
                          </a:lnTo>
                          <a:lnTo>
                            <a:pt x="1334" y="1133"/>
                          </a:lnTo>
                          <a:lnTo>
                            <a:pt x="1337" y="1122"/>
                          </a:lnTo>
                          <a:lnTo>
                            <a:pt x="1339" y="1108"/>
                          </a:lnTo>
                          <a:lnTo>
                            <a:pt x="1345" y="1097"/>
                          </a:lnTo>
                          <a:lnTo>
                            <a:pt x="1349" y="1084"/>
                          </a:lnTo>
                          <a:lnTo>
                            <a:pt x="1353" y="1070"/>
                          </a:lnTo>
                          <a:lnTo>
                            <a:pt x="1354" y="1059"/>
                          </a:lnTo>
                          <a:lnTo>
                            <a:pt x="1358" y="1044"/>
                          </a:lnTo>
                          <a:lnTo>
                            <a:pt x="1362" y="1032"/>
                          </a:lnTo>
                          <a:lnTo>
                            <a:pt x="1366" y="1017"/>
                          </a:lnTo>
                          <a:lnTo>
                            <a:pt x="1370" y="1004"/>
                          </a:lnTo>
                          <a:lnTo>
                            <a:pt x="1372" y="988"/>
                          </a:lnTo>
                          <a:lnTo>
                            <a:pt x="1375" y="975"/>
                          </a:lnTo>
                          <a:lnTo>
                            <a:pt x="1377" y="960"/>
                          </a:lnTo>
                          <a:lnTo>
                            <a:pt x="1381" y="947"/>
                          </a:lnTo>
                          <a:lnTo>
                            <a:pt x="1383" y="931"/>
                          </a:lnTo>
                          <a:lnTo>
                            <a:pt x="1387" y="916"/>
                          </a:lnTo>
                          <a:lnTo>
                            <a:pt x="1389" y="901"/>
                          </a:lnTo>
                          <a:lnTo>
                            <a:pt x="1391" y="886"/>
                          </a:lnTo>
                          <a:lnTo>
                            <a:pt x="1392" y="871"/>
                          </a:lnTo>
                          <a:lnTo>
                            <a:pt x="1394" y="855"/>
                          </a:lnTo>
                          <a:lnTo>
                            <a:pt x="1396" y="838"/>
                          </a:lnTo>
                          <a:lnTo>
                            <a:pt x="1398" y="823"/>
                          </a:lnTo>
                          <a:lnTo>
                            <a:pt x="1398" y="806"/>
                          </a:lnTo>
                          <a:lnTo>
                            <a:pt x="1400" y="791"/>
                          </a:lnTo>
                          <a:lnTo>
                            <a:pt x="1402" y="774"/>
                          </a:lnTo>
                          <a:lnTo>
                            <a:pt x="1402" y="757"/>
                          </a:lnTo>
                          <a:lnTo>
                            <a:pt x="1402" y="741"/>
                          </a:lnTo>
                          <a:lnTo>
                            <a:pt x="1402" y="724"/>
                          </a:lnTo>
                          <a:lnTo>
                            <a:pt x="1402" y="705"/>
                          </a:lnTo>
                          <a:lnTo>
                            <a:pt x="1402" y="690"/>
                          </a:lnTo>
                          <a:lnTo>
                            <a:pt x="1400" y="673"/>
                          </a:lnTo>
                          <a:lnTo>
                            <a:pt x="1400" y="656"/>
                          </a:lnTo>
                          <a:lnTo>
                            <a:pt x="1398" y="654"/>
                          </a:lnTo>
                          <a:lnTo>
                            <a:pt x="1398" y="652"/>
                          </a:lnTo>
                          <a:lnTo>
                            <a:pt x="1398" y="648"/>
                          </a:lnTo>
                          <a:lnTo>
                            <a:pt x="1398" y="644"/>
                          </a:lnTo>
                          <a:lnTo>
                            <a:pt x="1398" y="643"/>
                          </a:lnTo>
                          <a:lnTo>
                            <a:pt x="1398" y="639"/>
                          </a:lnTo>
                          <a:lnTo>
                            <a:pt x="1396" y="637"/>
                          </a:lnTo>
                          <a:lnTo>
                            <a:pt x="1396" y="633"/>
                          </a:lnTo>
                          <a:lnTo>
                            <a:pt x="1396" y="631"/>
                          </a:lnTo>
                          <a:lnTo>
                            <a:pt x="1396" y="627"/>
                          </a:lnTo>
                          <a:lnTo>
                            <a:pt x="1396" y="623"/>
                          </a:lnTo>
                          <a:lnTo>
                            <a:pt x="1394" y="620"/>
                          </a:lnTo>
                          <a:lnTo>
                            <a:pt x="1394" y="618"/>
                          </a:lnTo>
                          <a:lnTo>
                            <a:pt x="1394" y="616"/>
                          </a:lnTo>
                          <a:lnTo>
                            <a:pt x="1392" y="612"/>
                          </a:lnTo>
                          <a:lnTo>
                            <a:pt x="1392" y="610"/>
                          </a:lnTo>
                          <a:lnTo>
                            <a:pt x="1392" y="608"/>
                          </a:lnTo>
                          <a:lnTo>
                            <a:pt x="1391" y="604"/>
                          </a:lnTo>
                          <a:lnTo>
                            <a:pt x="1391" y="603"/>
                          </a:lnTo>
                          <a:lnTo>
                            <a:pt x="1391" y="599"/>
                          </a:lnTo>
                          <a:lnTo>
                            <a:pt x="1389" y="597"/>
                          </a:lnTo>
                          <a:lnTo>
                            <a:pt x="1389" y="593"/>
                          </a:lnTo>
                          <a:lnTo>
                            <a:pt x="1389" y="589"/>
                          </a:lnTo>
                          <a:lnTo>
                            <a:pt x="1389" y="587"/>
                          </a:lnTo>
                          <a:lnTo>
                            <a:pt x="1387" y="585"/>
                          </a:lnTo>
                          <a:lnTo>
                            <a:pt x="1385" y="582"/>
                          </a:lnTo>
                          <a:lnTo>
                            <a:pt x="1385" y="580"/>
                          </a:lnTo>
                          <a:lnTo>
                            <a:pt x="1383" y="578"/>
                          </a:lnTo>
                          <a:lnTo>
                            <a:pt x="1383" y="572"/>
                          </a:lnTo>
                          <a:lnTo>
                            <a:pt x="1381" y="568"/>
                          </a:lnTo>
                          <a:lnTo>
                            <a:pt x="1377" y="563"/>
                          </a:lnTo>
                          <a:lnTo>
                            <a:pt x="1375" y="557"/>
                          </a:lnTo>
                          <a:lnTo>
                            <a:pt x="1373" y="553"/>
                          </a:lnTo>
                          <a:lnTo>
                            <a:pt x="1370" y="547"/>
                          </a:lnTo>
                          <a:lnTo>
                            <a:pt x="1366" y="544"/>
                          </a:lnTo>
                          <a:lnTo>
                            <a:pt x="1364" y="540"/>
                          </a:lnTo>
                          <a:lnTo>
                            <a:pt x="1360" y="536"/>
                          </a:lnTo>
                          <a:lnTo>
                            <a:pt x="1356" y="532"/>
                          </a:lnTo>
                          <a:lnTo>
                            <a:pt x="1353" y="528"/>
                          </a:lnTo>
                          <a:lnTo>
                            <a:pt x="1349" y="525"/>
                          </a:lnTo>
                          <a:lnTo>
                            <a:pt x="1345" y="523"/>
                          </a:lnTo>
                          <a:lnTo>
                            <a:pt x="1339" y="521"/>
                          </a:lnTo>
                          <a:lnTo>
                            <a:pt x="1335" y="517"/>
                          </a:lnTo>
                          <a:lnTo>
                            <a:pt x="1332" y="515"/>
                          </a:lnTo>
                          <a:lnTo>
                            <a:pt x="1326" y="515"/>
                          </a:lnTo>
                          <a:lnTo>
                            <a:pt x="1322" y="513"/>
                          </a:lnTo>
                          <a:lnTo>
                            <a:pt x="1318" y="511"/>
                          </a:lnTo>
                          <a:lnTo>
                            <a:pt x="1316" y="511"/>
                          </a:lnTo>
                          <a:lnTo>
                            <a:pt x="1313" y="511"/>
                          </a:lnTo>
                          <a:lnTo>
                            <a:pt x="1311" y="511"/>
                          </a:lnTo>
                          <a:lnTo>
                            <a:pt x="1309" y="509"/>
                          </a:lnTo>
                          <a:lnTo>
                            <a:pt x="1305" y="509"/>
                          </a:lnTo>
                          <a:lnTo>
                            <a:pt x="1303" y="509"/>
                          </a:lnTo>
                          <a:lnTo>
                            <a:pt x="1301" y="509"/>
                          </a:lnTo>
                          <a:lnTo>
                            <a:pt x="1297" y="509"/>
                          </a:lnTo>
                          <a:lnTo>
                            <a:pt x="1295" y="509"/>
                          </a:lnTo>
                          <a:lnTo>
                            <a:pt x="1292" y="509"/>
                          </a:lnTo>
                          <a:lnTo>
                            <a:pt x="1290" y="509"/>
                          </a:lnTo>
                          <a:lnTo>
                            <a:pt x="1284" y="509"/>
                          </a:lnTo>
                          <a:lnTo>
                            <a:pt x="1280" y="509"/>
                          </a:lnTo>
                          <a:lnTo>
                            <a:pt x="1275" y="509"/>
                          </a:lnTo>
                          <a:lnTo>
                            <a:pt x="1269" y="509"/>
                          </a:lnTo>
                          <a:lnTo>
                            <a:pt x="1265" y="509"/>
                          </a:lnTo>
                          <a:lnTo>
                            <a:pt x="1259" y="509"/>
                          </a:lnTo>
                          <a:lnTo>
                            <a:pt x="1256" y="511"/>
                          </a:lnTo>
                          <a:lnTo>
                            <a:pt x="1252" y="511"/>
                          </a:lnTo>
                          <a:lnTo>
                            <a:pt x="1246" y="515"/>
                          </a:lnTo>
                          <a:lnTo>
                            <a:pt x="1242" y="515"/>
                          </a:lnTo>
                          <a:lnTo>
                            <a:pt x="1238" y="517"/>
                          </a:lnTo>
                          <a:lnTo>
                            <a:pt x="1235" y="521"/>
                          </a:lnTo>
                          <a:lnTo>
                            <a:pt x="1231" y="523"/>
                          </a:lnTo>
                          <a:lnTo>
                            <a:pt x="1229" y="525"/>
                          </a:lnTo>
                          <a:lnTo>
                            <a:pt x="1225" y="527"/>
                          </a:lnTo>
                          <a:lnTo>
                            <a:pt x="1221" y="530"/>
                          </a:lnTo>
                          <a:lnTo>
                            <a:pt x="1219" y="532"/>
                          </a:lnTo>
                          <a:lnTo>
                            <a:pt x="1216" y="538"/>
                          </a:lnTo>
                          <a:lnTo>
                            <a:pt x="1214" y="542"/>
                          </a:lnTo>
                          <a:lnTo>
                            <a:pt x="1212" y="546"/>
                          </a:lnTo>
                          <a:lnTo>
                            <a:pt x="1210" y="549"/>
                          </a:lnTo>
                          <a:lnTo>
                            <a:pt x="1208" y="555"/>
                          </a:lnTo>
                          <a:lnTo>
                            <a:pt x="1208" y="557"/>
                          </a:lnTo>
                          <a:lnTo>
                            <a:pt x="1206" y="559"/>
                          </a:lnTo>
                          <a:lnTo>
                            <a:pt x="1204" y="561"/>
                          </a:lnTo>
                          <a:lnTo>
                            <a:pt x="1204" y="565"/>
                          </a:lnTo>
                          <a:lnTo>
                            <a:pt x="1204" y="566"/>
                          </a:lnTo>
                          <a:lnTo>
                            <a:pt x="1204" y="570"/>
                          </a:lnTo>
                          <a:lnTo>
                            <a:pt x="1204" y="572"/>
                          </a:lnTo>
                          <a:lnTo>
                            <a:pt x="1204" y="576"/>
                          </a:lnTo>
                          <a:lnTo>
                            <a:pt x="1139" y="895"/>
                          </a:lnTo>
                          <a:lnTo>
                            <a:pt x="1136" y="893"/>
                          </a:lnTo>
                          <a:lnTo>
                            <a:pt x="1132" y="892"/>
                          </a:lnTo>
                          <a:lnTo>
                            <a:pt x="1126" y="888"/>
                          </a:lnTo>
                          <a:lnTo>
                            <a:pt x="1122" y="886"/>
                          </a:lnTo>
                          <a:lnTo>
                            <a:pt x="1117" y="884"/>
                          </a:lnTo>
                          <a:lnTo>
                            <a:pt x="1113" y="880"/>
                          </a:lnTo>
                          <a:lnTo>
                            <a:pt x="1107" y="878"/>
                          </a:lnTo>
                          <a:lnTo>
                            <a:pt x="1105" y="876"/>
                          </a:lnTo>
                          <a:lnTo>
                            <a:pt x="1227" y="316"/>
                          </a:lnTo>
                          <a:lnTo>
                            <a:pt x="1227" y="312"/>
                          </a:lnTo>
                          <a:lnTo>
                            <a:pt x="1227" y="308"/>
                          </a:lnTo>
                          <a:lnTo>
                            <a:pt x="1229" y="306"/>
                          </a:lnTo>
                          <a:lnTo>
                            <a:pt x="1229" y="304"/>
                          </a:lnTo>
                          <a:lnTo>
                            <a:pt x="1229" y="300"/>
                          </a:lnTo>
                          <a:lnTo>
                            <a:pt x="1229" y="298"/>
                          </a:lnTo>
                          <a:lnTo>
                            <a:pt x="1229" y="295"/>
                          </a:lnTo>
                          <a:lnTo>
                            <a:pt x="1229" y="293"/>
                          </a:lnTo>
                          <a:lnTo>
                            <a:pt x="1229" y="291"/>
                          </a:lnTo>
                          <a:lnTo>
                            <a:pt x="1229" y="287"/>
                          </a:lnTo>
                          <a:lnTo>
                            <a:pt x="1229" y="285"/>
                          </a:lnTo>
                          <a:lnTo>
                            <a:pt x="1229" y="283"/>
                          </a:lnTo>
                          <a:lnTo>
                            <a:pt x="1229" y="278"/>
                          </a:lnTo>
                          <a:lnTo>
                            <a:pt x="1227" y="272"/>
                          </a:lnTo>
                          <a:lnTo>
                            <a:pt x="1225" y="268"/>
                          </a:lnTo>
                          <a:lnTo>
                            <a:pt x="1225" y="262"/>
                          </a:lnTo>
                          <a:lnTo>
                            <a:pt x="1223" y="257"/>
                          </a:lnTo>
                          <a:lnTo>
                            <a:pt x="1221" y="253"/>
                          </a:lnTo>
                          <a:lnTo>
                            <a:pt x="1219" y="247"/>
                          </a:lnTo>
                          <a:lnTo>
                            <a:pt x="1217" y="243"/>
                          </a:lnTo>
                          <a:lnTo>
                            <a:pt x="1216" y="240"/>
                          </a:lnTo>
                          <a:lnTo>
                            <a:pt x="1214" y="236"/>
                          </a:lnTo>
                          <a:lnTo>
                            <a:pt x="1210" y="232"/>
                          </a:lnTo>
                          <a:lnTo>
                            <a:pt x="1206" y="226"/>
                          </a:lnTo>
                          <a:lnTo>
                            <a:pt x="1202" y="222"/>
                          </a:lnTo>
                          <a:lnTo>
                            <a:pt x="1200" y="219"/>
                          </a:lnTo>
                          <a:lnTo>
                            <a:pt x="1197" y="215"/>
                          </a:lnTo>
                          <a:lnTo>
                            <a:pt x="1193" y="211"/>
                          </a:lnTo>
                          <a:lnTo>
                            <a:pt x="1189" y="207"/>
                          </a:lnTo>
                          <a:lnTo>
                            <a:pt x="1185" y="205"/>
                          </a:lnTo>
                          <a:lnTo>
                            <a:pt x="1179" y="203"/>
                          </a:lnTo>
                          <a:lnTo>
                            <a:pt x="1176" y="200"/>
                          </a:lnTo>
                          <a:lnTo>
                            <a:pt x="1172" y="198"/>
                          </a:lnTo>
                          <a:lnTo>
                            <a:pt x="1166" y="194"/>
                          </a:lnTo>
                          <a:lnTo>
                            <a:pt x="1160" y="192"/>
                          </a:lnTo>
                          <a:lnTo>
                            <a:pt x="1157" y="192"/>
                          </a:lnTo>
                          <a:lnTo>
                            <a:pt x="1151" y="190"/>
                          </a:lnTo>
                          <a:lnTo>
                            <a:pt x="1147" y="190"/>
                          </a:lnTo>
                          <a:lnTo>
                            <a:pt x="1143" y="188"/>
                          </a:lnTo>
                          <a:lnTo>
                            <a:pt x="1141" y="186"/>
                          </a:lnTo>
                          <a:lnTo>
                            <a:pt x="1138" y="186"/>
                          </a:lnTo>
                          <a:lnTo>
                            <a:pt x="1136" y="186"/>
                          </a:lnTo>
                          <a:lnTo>
                            <a:pt x="1134" y="186"/>
                          </a:lnTo>
                          <a:lnTo>
                            <a:pt x="1130" y="186"/>
                          </a:lnTo>
                          <a:lnTo>
                            <a:pt x="1128" y="186"/>
                          </a:lnTo>
                          <a:lnTo>
                            <a:pt x="1124" y="186"/>
                          </a:lnTo>
                          <a:lnTo>
                            <a:pt x="1122" y="186"/>
                          </a:lnTo>
                          <a:lnTo>
                            <a:pt x="1120" y="186"/>
                          </a:lnTo>
                          <a:lnTo>
                            <a:pt x="1117" y="186"/>
                          </a:lnTo>
                          <a:lnTo>
                            <a:pt x="1115" y="186"/>
                          </a:lnTo>
                          <a:lnTo>
                            <a:pt x="1109" y="186"/>
                          </a:lnTo>
                          <a:lnTo>
                            <a:pt x="1105" y="188"/>
                          </a:lnTo>
                          <a:lnTo>
                            <a:pt x="1100" y="188"/>
                          </a:lnTo>
                          <a:lnTo>
                            <a:pt x="1094" y="190"/>
                          </a:lnTo>
                          <a:lnTo>
                            <a:pt x="1090" y="192"/>
                          </a:lnTo>
                          <a:lnTo>
                            <a:pt x="1086" y="192"/>
                          </a:lnTo>
                          <a:lnTo>
                            <a:pt x="1081" y="194"/>
                          </a:lnTo>
                          <a:lnTo>
                            <a:pt x="1077" y="198"/>
                          </a:lnTo>
                          <a:lnTo>
                            <a:pt x="1073" y="200"/>
                          </a:lnTo>
                          <a:lnTo>
                            <a:pt x="1067" y="203"/>
                          </a:lnTo>
                          <a:lnTo>
                            <a:pt x="1063" y="205"/>
                          </a:lnTo>
                          <a:lnTo>
                            <a:pt x="1058" y="207"/>
                          </a:lnTo>
                          <a:lnTo>
                            <a:pt x="1054" y="211"/>
                          </a:lnTo>
                          <a:lnTo>
                            <a:pt x="1050" y="215"/>
                          </a:lnTo>
                          <a:lnTo>
                            <a:pt x="1048" y="219"/>
                          </a:lnTo>
                          <a:lnTo>
                            <a:pt x="1044" y="222"/>
                          </a:lnTo>
                          <a:lnTo>
                            <a:pt x="1041" y="226"/>
                          </a:lnTo>
                          <a:lnTo>
                            <a:pt x="1039" y="232"/>
                          </a:lnTo>
                          <a:lnTo>
                            <a:pt x="1035" y="234"/>
                          </a:lnTo>
                          <a:lnTo>
                            <a:pt x="1033" y="240"/>
                          </a:lnTo>
                          <a:lnTo>
                            <a:pt x="1029" y="243"/>
                          </a:lnTo>
                          <a:lnTo>
                            <a:pt x="1027" y="249"/>
                          </a:lnTo>
                          <a:lnTo>
                            <a:pt x="1025" y="253"/>
                          </a:lnTo>
                          <a:lnTo>
                            <a:pt x="1023" y="259"/>
                          </a:lnTo>
                          <a:lnTo>
                            <a:pt x="1022" y="260"/>
                          </a:lnTo>
                          <a:lnTo>
                            <a:pt x="1022" y="264"/>
                          </a:lnTo>
                          <a:lnTo>
                            <a:pt x="1022" y="266"/>
                          </a:lnTo>
                          <a:lnTo>
                            <a:pt x="1022" y="270"/>
                          </a:lnTo>
                          <a:lnTo>
                            <a:pt x="919" y="730"/>
                          </a:lnTo>
                          <a:lnTo>
                            <a:pt x="915" y="728"/>
                          </a:lnTo>
                          <a:lnTo>
                            <a:pt x="913" y="726"/>
                          </a:lnTo>
                          <a:lnTo>
                            <a:pt x="907" y="724"/>
                          </a:lnTo>
                          <a:lnTo>
                            <a:pt x="905" y="720"/>
                          </a:lnTo>
                          <a:lnTo>
                            <a:pt x="904" y="719"/>
                          </a:lnTo>
                          <a:lnTo>
                            <a:pt x="900" y="717"/>
                          </a:lnTo>
                          <a:lnTo>
                            <a:pt x="896" y="713"/>
                          </a:lnTo>
                          <a:lnTo>
                            <a:pt x="892" y="713"/>
                          </a:lnTo>
                          <a:lnTo>
                            <a:pt x="1022" y="129"/>
                          </a:lnTo>
                          <a:lnTo>
                            <a:pt x="1022" y="125"/>
                          </a:lnTo>
                          <a:lnTo>
                            <a:pt x="1022" y="124"/>
                          </a:lnTo>
                          <a:lnTo>
                            <a:pt x="1022" y="120"/>
                          </a:lnTo>
                          <a:lnTo>
                            <a:pt x="1022" y="118"/>
                          </a:lnTo>
                          <a:lnTo>
                            <a:pt x="1022" y="114"/>
                          </a:lnTo>
                          <a:lnTo>
                            <a:pt x="1022" y="112"/>
                          </a:lnTo>
                          <a:lnTo>
                            <a:pt x="1022" y="110"/>
                          </a:lnTo>
                          <a:lnTo>
                            <a:pt x="1022" y="106"/>
                          </a:lnTo>
                          <a:lnTo>
                            <a:pt x="1022" y="105"/>
                          </a:lnTo>
                          <a:lnTo>
                            <a:pt x="1022" y="103"/>
                          </a:lnTo>
                          <a:lnTo>
                            <a:pt x="1022" y="99"/>
                          </a:lnTo>
                          <a:lnTo>
                            <a:pt x="1022" y="97"/>
                          </a:lnTo>
                          <a:lnTo>
                            <a:pt x="1022" y="91"/>
                          </a:lnTo>
                          <a:lnTo>
                            <a:pt x="1022" y="86"/>
                          </a:lnTo>
                          <a:lnTo>
                            <a:pt x="1020" y="82"/>
                          </a:lnTo>
                          <a:lnTo>
                            <a:pt x="1018" y="76"/>
                          </a:lnTo>
                          <a:lnTo>
                            <a:pt x="1016" y="70"/>
                          </a:lnTo>
                          <a:lnTo>
                            <a:pt x="1014" y="67"/>
                          </a:lnTo>
                          <a:lnTo>
                            <a:pt x="1012" y="61"/>
                          </a:lnTo>
                          <a:lnTo>
                            <a:pt x="1010" y="57"/>
                          </a:lnTo>
                          <a:lnTo>
                            <a:pt x="1008" y="53"/>
                          </a:lnTo>
                          <a:lnTo>
                            <a:pt x="1006" y="48"/>
                          </a:lnTo>
                          <a:lnTo>
                            <a:pt x="1004" y="44"/>
                          </a:lnTo>
                          <a:lnTo>
                            <a:pt x="1001" y="40"/>
                          </a:lnTo>
                          <a:lnTo>
                            <a:pt x="997" y="36"/>
                          </a:lnTo>
                          <a:lnTo>
                            <a:pt x="993" y="32"/>
                          </a:lnTo>
                          <a:lnTo>
                            <a:pt x="991" y="29"/>
                          </a:lnTo>
                          <a:lnTo>
                            <a:pt x="985" y="25"/>
                          </a:lnTo>
                          <a:lnTo>
                            <a:pt x="983" y="23"/>
                          </a:lnTo>
                          <a:lnTo>
                            <a:pt x="978" y="19"/>
                          </a:lnTo>
                          <a:lnTo>
                            <a:pt x="972" y="17"/>
                          </a:lnTo>
                          <a:lnTo>
                            <a:pt x="968" y="13"/>
                          </a:lnTo>
                          <a:lnTo>
                            <a:pt x="964" y="11"/>
                          </a:lnTo>
                          <a:lnTo>
                            <a:pt x="961" y="10"/>
                          </a:lnTo>
                          <a:lnTo>
                            <a:pt x="955" y="6"/>
                          </a:lnTo>
                          <a:lnTo>
                            <a:pt x="949" y="6"/>
                          </a:lnTo>
                          <a:lnTo>
                            <a:pt x="944" y="4"/>
                          </a:lnTo>
                          <a:lnTo>
                            <a:pt x="940" y="4"/>
                          </a:lnTo>
                          <a:lnTo>
                            <a:pt x="936" y="2"/>
                          </a:lnTo>
                          <a:lnTo>
                            <a:pt x="934" y="2"/>
                          </a:lnTo>
                          <a:lnTo>
                            <a:pt x="932" y="0"/>
                          </a:lnTo>
                          <a:lnTo>
                            <a:pt x="928" y="0"/>
                          </a:lnTo>
                          <a:lnTo>
                            <a:pt x="926" y="0"/>
                          </a:lnTo>
                          <a:lnTo>
                            <a:pt x="925" y="0"/>
                          </a:lnTo>
                          <a:lnTo>
                            <a:pt x="921" y="0"/>
                          </a:lnTo>
                          <a:lnTo>
                            <a:pt x="919" y="0"/>
                          </a:lnTo>
                          <a:lnTo>
                            <a:pt x="915" y="0"/>
                          </a:lnTo>
                          <a:lnTo>
                            <a:pt x="913" y="0"/>
                          </a:lnTo>
                          <a:lnTo>
                            <a:pt x="911" y="0"/>
                          </a:lnTo>
                          <a:lnTo>
                            <a:pt x="907" y="0"/>
                          </a:lnTo>
                          <a:lnTo>
                            <a:pt x="904" y="0"/>
                          </a:lnTo>
                          <a:lnTo>
                            <a:pt x="898" y="2"/>
                          </a:lnTo>
                          <a:lnTo>
                            <a:pt x="896" y="2"/>
                          </a:lnTo>
                          <a:lnTo>
                            <a:pt x="892" y="2"/>
                          </a:lnTo>
                          <a:lnTo>
                            <a:pt x="890" y="2"/>
                          </a:lnTo>
                          <a:lnTo>
                            <a:pt x="888" y="4"/>
                          </a:lnTo>
                          <a:lnTo>
                            <a:pt x="881" y="4"/>
                          </a:lnTo>
                          <a:lnTo>
                            <a:pt x="877" y="6"/>
                          </a:lnTo>
                          <a:lnTo>
                            <a:pt x="873" y="10"/>
                          </a:lnTo>
                          <a:lnTo>
                            <a:pt x="867" y="11"/>
                          </a:lnTo>
                          <a:lnTo>
                            <a:pt x="864" y="15"/>
                          </a:lnTo>
                          <a:lnTo>
                            <a:pt x="860" y="17"/>
                          </a:lnTo>
                          <a:lnTo>
                            <a:pt x="854" y="19"/>
                          </a:lnTo>
                          <a:lnTo>
                            <a:pt x="850" y="23"/>
                          </a:lnTo>
                          <a:lnTo>
                            <a:pt x="847" y="25"/>
                          </a:lnTo>
                          <a:lnTo>
                            <a:pt x="843" y="29"/>
                          </a:lnTo>
                          <a:lnTo>
                            <a:pt x="839" y="32"/>
                          </a:lnTo>
                          <a:lnTo>
                            <a:pt x="835" y="36"/>
                          </a:lnTo>
                          <a:lnTo>
                            <a:pt x="833" y="40"/>
                          </a:lnTo>
                          <a:lnTo>
                            <a:pt x="831" y="44"/>
                          </a:lnTo>
                          <a:lnTo>
                            <a:pt x="828" y="48"/>
                          </a:lnTo>
                          <a:lnTo>
                            <a:pt x="824" y="53"/>
                          </a:lnTo>
                          <a:lnTo>
                            <a:pt x="822" y="57"/>
                          </a:lnTo>
                          <a:lnTo>
                            <a:pt x="820" y="61"/>
                          </a:lnTo>
                          <a:lnTo>
                            <a:pt x="818" y="67"/>
                          </a:lnTo>
                          <a:lnTo>
                            <a:pt x="816" y="70"/>
                          </a:lnTo>
                          <a:lnTo>
                            <a:pt x="816" y="74"/>
                          </a:lnTo>
                          <a:lnTo>
                            <a:pt x="814" y="76"/>
                          </a:lnTo>
                          <a:lnTo>
                            <a:pt x="812" y="82"/>
                          </a:lnTo>
                          <a:lnTo>
                            <a:pt x="812" y="84"/>
                          </a:lnTo>
                          <a:lnTo>
                            <a:pt x="687" y="663"/>
                          </a:lnTo>
                          <a:lnTo>
                            <a:pt x="681" y="663"/>
                          </a:lnTo>
                          <a:lnTo>
                            <a:pt x="677" y="663"/>
                          </a:lnTo>
                          <a:lnTo>
                            <a:pt x="673" y="663"/>
                          </a:lnTo>
                          <a:lnTo>
                            <a:pt x="670" y="663"/>
                          </a:lnTo>
                          <a:lnTo>
                            <a:pt x="666" y="663"/>
                          </a:lnTo>
                          <a:lnTo>
                            <a:pt x="660" y="665"/>
                          </a:lnTo>
                          <a:lnTo>
                            <a:pt x="656" y="665"/>
                          </a:lnTo>
                          <a:lnTo>
                            <a:pt x="652" y="667"/>
                          </a:lnTo>
                          <a:lnTo>
                            <a:pt x="753" y="213"/>
                          </a:lnTo>
                          <a:lnTo>
                            <a:pt x="753" y="209"/>
                          </a:lnTo>
                          <a:lnTo>
                            <a:pt x="753" y="207"/>
                          </a:lnTo>
                          <a:lnTo>
                            <a:pt x="753" y="203"/>
                          </a:lnTo>
                          <a:lnTo>
                            <a:pt x="753" y="201"/>
                          </a:lnTo>
                          <a:lnTo>
                            <a:pt x="753" y="198"/>
                          </a:lnTo>
                          <a:lnTo>
                            <a:pt x="753" y="196"/>
                          </a:lnTo>
                          <a:lnTo>
                            <a:pt x="753" y="192"/>
                          </a:lnTo>
                          <a:lnTo>
                            <a:pt x="753" y="190"/>
                          </a:lnTo>
                          <a:lnTo>
                            <a:pt x="753" y="188"/>
                          </a:lnTo>
                          <a:lnTo>
                            <a:pt x="753" y="184"/>
                          </a:lnTo>
                          <a:lnTo>
                            <a:pt x="753" y="182"/>
                          </a:lnTo>
                          <a:lnTo>
                            <a:pt x="753" y="181"/>
                          </a:lnTo>
                          <a:lnTo>
                            <a:pt x="753" y="175"/>
                          </a:lnTo>
                          <a:lnTo>
                            <a:pt x="753" y="169"/>
                          </a:lnTo>
                          <a:lnTo>
                            <a:pt x="751" y="167"/>
                          </a:lnTo>
                          <a:lnTo>
                            <a:pt x="751" y="163"/>
                          </a:lnTo>
                          <a:lnTo>
                            <a:pt x="751" y="162"/>
                          </a:lnTo>
                          <a:lnTo>
                            <a:pt x="750" y="160"/>
                          </a:lnTo>
                          <a:lnTo>
                            <a:pt x="748" y="154"/>
                          </a:lnTo>
                          <a:lnTo>
                            <a:pt x="746" y="148"/>
                          </a:lnTo>
                          <a:lnTo>
                            <a:pt x="744" y="144"/>
                          </a:lnTo>
                          <a:lnTo>
                            <a:pt x="742" y="141"/>
                          </a:lnTo>
                          <a:lnTo>
                            <a:pt x="740" y="135"/>
                          </a:lnTo>
                          <a:lnTo>
                            <a:pt x="738" y="131"/>
                          </a:lnTo>
                          <a:lnTo>
                            <a:pt x="734" y="127"/>
                          </a:lnTo>
                          <a:lnTo>
                            <a:pt x="730" y="124"/>
                          </a:lnTo>
                          <a:lnTo>
                            <a:pt x="727" y="120"/>
                          </a:lnTo>
                          <a:lnTo>
                            <a:pt x="725" y="116"/>
                          </a:lnTo>
                          <a:lnTo>
                            <a:pt x="721" y="112"/>
                          </a:lnTo>
                          <a:lnTo>
                            <a:pt x="717" y="108"/>
                          </a:lnTo>
                          <a:lnTo>
                            <a:pt x="713" y="105"/>
                          </a:lnTo>
                          <a:lnTo>
                            <a:pt x="710" y="103"/>
                          </a:lnTo>
                          <a:lnTo>
                            <a:pt x="704" y="99"/>
                          </a:lnTo>
                          <a:lnTo>
                            <a:pt x="700" y="97"/>
                          </a:lnTo>
                          <a:lnTo>
                            <a:pt x="694" y="95"/>
                          </a:lnTo>
                          <a:lnTo>
                            <a:pt x="691" y="91"/>
                          </a:lnTo>
                          <a:lnTo>
                            <a:pt x="685" y="89"/>
                          </a:lnTo>
                          <a:lnTo>
                            <a:pt x="681" y="87"/>
                          </a:lnTo>
                          <a:lnTo>
                            <a:pt x="675" y="86"/>
                          </a:lnTo>
                          <a:lnTo>
                            <a:pt x="672" y="86"/>
                          </a:lnTo>
                          <a:lnTo>
                            <a:pt x="668" y="84"/>
                          </a:lnTo>
                          <a:lnTo>
                            <a:pt x="666" y="84"/>
                          </a:lnTo>
                          <a:lnTo>
                            <a:pt x="664" y="84"/>
                          </a:lnTo>
                          <a:lnTo>
                            <a:pt x="660" y="84"/>
                          </a:lnTo>
                          <a:lnTo>
                            <a:pt x="658" y="84"/>
                          </a:lnTo>
                          <a:lnTo>
                            <a:pt x="654" y="84"/>
                          </a:lnTo>
                          <a:lnTo>
                            <a:pt x="652" y="84"/>
                          </a:lnTo>
                          <a:lnTo>
                            <a:pt x="651" y="84"/>
                          </a:lnTo>
                          <a:lnTo>
                            <a:pt x="647" y="84"/>
                          </a:lnTo>
                          <a:lnTo>
                            <a:pt x="645" y="84"/>
                          </a:lnTo>
                          <a:lnTo>
                            <a:pt x="643" y="84"/>
                          </a:lnTo>
                          <a:lnTo>
                            <a:pt x="639" y="84"/>
                          </a:lnTo>
                          <a:lnTo>
                            <a:pt x="635" y="84"/>
                          </a:lnTo>
                          <a:lnTo>
                            <a:pt x="630" y="84"/>
                          </a:lnTo>
                          <a:lnTo>
                            <a:pt x="628" y="84"/>
                          </a:lnTo>
                          <a:lnTo>
                            <a:pt x="624" y="86"/>
                          </a:lnTo>
                          <a:lnTo>
                            <a:pt x="622" y="86"/>
                          </a:lnTo>
                          <a:lnTo>
                            <a:pt x="618" y="86"/>
                          </a:lnTo>
                          <a:lnTo>
                            <a:pt x="614" y="87"/>
                          </a:lnTo>
                          <a:lnTo>
                            <a:pt x="609" y="89"/>
                          </a:lnTo>
                          <a:lnTo>
                            <a:pt x="603" y="91"/>
                          </a:lnTo>
                          <a:lnTo>
                            <a:pt x="599" y="95"/>
                          </a:lnTo>
                          <a:lnTo>
                            <a:pt x="595" y="97"/>
                          </a:lnTo>
                          <a:lnTo>
                            <a:pt x="592" y="99"/>
                          </a:lnTo>
                          <a:lnTo>
                            <a:pt x="586" y="103"/>
                          </a:lnTo>
                          <a:lnTo>
                            <a:pt x="582" y="105"/>
                          </a:lnTo>
                          <a:lnTo>
                            <a:pt x="578" y="108"/>
                          </a:lnTo>
                          <a:lnTo>
                            <a:pt x="574" y="112"/>
                          </a:lnTo>
                          <a:lnTo>
                            <a:pt x="571" y="116"/>
                          </a:lnTo>
                          <a:lnTo>
                            <a:pt x="567" y="120"/>
                          </a:lnTo>
                          <a:lnTo>
                            <a:pt x="565" y="124"/>
                          </a:lnTo>
                          <a:lnTo>
                            <a:pt x="563" y="127"/>
                          </a:lnTo>
                          <a:lnTo>
                            <a:pt x="559" y="131"/>
                          </a:lnTo>
                          <a:lnTo>
                            <a:pt x="555" y="135"/>
                          </a:lnTo>
                          <a:lnTo>
                            <a:pt x="554" y="141"/>
                          </a:lnTo>
                          <a:lnTo>
                            <a:pt x="552" y="146"/>
                          </a:lnTo>
                          <a:lnTo>
                            <a:pt x="550" y="150"/>
                          </a:lnTo>
                          <a:lnTo>
                            <a:pt x="548" y="156"/>
                          </a:lnTo>
                          <a:lnTo>
                            <a:pt x="546" y="158"/>
                          </a:lnTo>
                          <a:lnTo>
                            <a:pt x="546" y="160"/>
                          </a:lnTo>
                          <a:lnTo>
                            <a:pt x="544" y="163"/>
                          </a:lnTo>
                          <a:lnTo>
                            <a:pt x="544" y="167"/>
                          </a:lnTo>
                          <a:lnTo>
                            <a:pt x="361" y="1127"/>
                          </a:lnTo>
                          <a:lnTo>
                            <a:pt x="361" y="1127"/>
                          </a:lnTo>
                          <a:close/>
                        </a:path>
                      </a:pathLst>
                    </a:custGeom>
                    <a:solidFill>
                      <a:srgbClr val="eaeaea"/>
                    </a:soli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41" name="AutoShape 32"/>
                  <p:cNvSpPr/>
                  <p:nvPr/>
                </p:nvSpPr>
                <p:spPr>
                  <a:xfrm rot="21516000">
                    <a:off x="4060440" y="3162960"/>
                    <a:ext cx="88560" cy="75960"/>
                  </a:xfrm>
                  <a:prstGeom prst="hexagon">
                    <a:avLst>
                      <a:gd name="adj" fmla="val 29147"/>
                      <a:gd name="vf" fmla="val 115470"/>
                    </a:avLst>
                  </a:prstGeom>
                  <a:solidFill>
                    <a:srgbClr val="ff0000"/>
                  </a:solidFill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42" name="AutoShape 33"/>
              <p:cNvSpPr/>
              <p:nvPr/>
            </p:nvSpPr>
            <p:spPr>
              <a:xfrm rot="21533400">
                <a:off x="4005720" y="2820960"/>
                <a:ext cx="180000" cy="121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210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3" name="AutoShape 34"/>
            <p:cNvSpPr/>
            <p:nvPr/>
          </p:nvSpPr>
          <p:spPr>
            <a:xfrm rot="21547800">
              <a:off x="4011120" y="3546360"/>
              <a:ext cx="192600" cy="5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308" y="21600"/>
                  </a:lnTo>
                  <a:lnTo>
                    <a:pt x="1729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ffffff"/>
                </a:gs>
              </a:gsLst>
              <a:lin ang="2100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4" name="Group 35"/>
          <p:cNvGrpSpPr/>
          <p:nvPr/>
        </p:nvGrpSpPr>
        <p:grpSpPr>
          <a:xfrm>
            <a:off x="3809520" y="2667240"/>
            <a:ext cx="629280" cy="2036880"/>
            <a:chOff x="3809520" y="2667240"/>
            <a:chExt cx="629280" cy="2036880"/>
          </a:xfrm>
        </p:grpSpPr>
        <p:grpSp>
          <p:nvGrpSpPr>
            <p:cNvPr id="3345" name="Group 36"/>
            <p:cNvGrpSpPr/>
            <p:nvPr/>
          </p:nvGrpSpPr>
          <p:grpSpPr>
            <a:xfrm>
              <a:off x="3809520" y="3658320"/>
              <a:ext cx="628920" cy="1045800"/>
              <a:chOff x="3809520" y="3658320"/>
              <a:chExt cx="628920" cy="1045800"/>
            </a:xfrm>
          </p:grpSpPr>
          <p:grpSp>
            <p:nvGrpSpPr>
              <p:cNvPr id="3346" name="Group 37"/>
              <p:cNvGrpSpPr/>
              <p:nvPr/>
            </p:nvGrpSpPr>
            <p:grpSpPr>
              <a:xfrm>
                <a:off x="3809520" y="3678120"/>
                <a:ext cx="628920" cy="1026000"/>
                <a:chOff x="3809520" y="3678120"/>
                <a:chExt cx="628920" cy="1026000"/>
              </a:xfrm>
            </p:grpSpPr>
            <p:grpSp>
              <p:nvGrpSpPr>
                <p:cNvPr id="3347" name="Group 38"/>
                <p:cNvGrpSpPr/>
                <p:nvPr/>
              </p:nvGrpSpPr>
              <p:grpSpPr>
                <a:xfrm>
                  <a:off x="3998160" y="4188600"/>
                  <a:ext cx="440280" cy="515520"/>
                  <a:chOff x="3998160" y="4188600"/>
                  <a:chExt cx="440280" cy="515520"/>
                </a:xfrm>
              </p:grpSpPr>
              <p:sp>
                <p:nvSpPr>
                  <p:cNvPr id="3348" name="AutoShape 39"/>
                  <p:cNvSpPr/>
                  <p:nvPr/>
                </p:nvSpPr>
                <p:spPr>
                  <a:xfrm rot="10800000">
                    <a:off x="4004640" y="4188600"/>
                    <a:ext cx="2444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349" name="Group 40"/>
                  <p:cNvGrpSpPr/>
                  <p:nvPr/>
                </p:nvGrpSpPr>
                <p:grpSpPr>
                  <a:xfrm>
                    <a:off x="3998160" y="4483800"/>
                    <a:ext cx="440280" cy="220320"/>
                    <a:chOff x="3998160" y="4483800"/>
                    <a:chExt cx="440280" cy="220320"/>
                  </a:xfrm>
                </p:grpSpPr>
                <p:grpSp>
                  <p:nvGrpSpPr>
                    <p:cNvPr id="3350" name="Group 41"/>
                    <p:cNvGrpSpPr/>
                    <p:nvPr/>
                  </p:nvGrpSpPr>
                  <p:grpSpPr>
                    <a:xfrm>
                      <a:off x="3998160" y="4578840"/>
                      <a:ext cx="440280" cy="125280"/>
                      <a:chOff x="3998160" y="4578840"/>
                      <a:chExt cx="440280" cy="125280"/>
                    </a:xfrm>
                  </p:grpSpPr>
                  <p:grpSp>
                    <p:nvGrpSpPr>
                      <p:cNvPr id="3351" name="Group 42"/>
                      <p:cNvGrpSpPr/>
                      <p:nvPr/>
                    </p:nvGrpSpPr>
                    <p:grpSpPr>
                      <a:xfrm>
                        <a:off x="3998160" y="4578840"/>
                        <a:ext cx="433080" cy="125280"/>
                        <a:chOff x="3998160" y="4578840"/>
                        <a:chExt cx="433080" cy="125280"/>
                      </a:xfrm>
                    </p:grpSpPr>
                    <p:sp>
                      <p:nvSpPr>
                        <p:cNvPr id="3352" name="Rectangle 43"/>
                        <p:cNvSpPr/>
                        <p:nvPr/>
                      </p:nvSpPr>
                      <p:spPr>
                        <a:xfrm>
                          <a:off x="3998160" y="4579920"/>
                          <a:ext cx="288720" cy="12420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53" name="Freeform 44"/>
                        <p:cNvSpPr/>
                        <p:nvPr/>
                      </p:nvSpPr>
                      <p:spPr>
                        <a:xfrm>
                          <a:off x="4286880" y="457884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354" name=""/>
                      <p:cNvGrpSpPr/>
                      <p:nvPr/>
                    </p:nvGrpSpPr>
                    <p:grpSpPr>
                      <a:xfrm>
                        <a:off x="3998160" y="4676760"/>
                        <a:ext cx="440280" cy="360"/>
                        <a:chOff x="3998160" y="4676760"/>
                        <a:chExt cx="440280" cy="360"/>
                      </a:xfrm>
                    </p:grpSpPr>
                    <p:sp>
                      <p:nvSpPr>
                        <p:cNvPr id="3355" name="Line 45"/>
                        <p:cNvSpPr/>
                        <p:nvPr/>
                      </p:nvSpPr>
                      <p:spPr>
                        <a:xfrm>
                          <a:off x="3998160" y="4676760"/>
                          <a:ext cx="440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56" name=""/>
                        <p:cNvSpPr txBox="1"/>
                        <p:nvPr/>
                      </p:nvSpPr>
                      <p:spPr>
                        <a:xfrm>
                          <a:off x="3998160" y="467676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57" name="Oval 46"/>
                    <p:cNvSpPr/>
                    <p:nvPr/>
                  </p:nvSpPr>
                  <p:spPr>
                    <a:xfrm>
                      <a:off x="4075560" y="4544280"/>
                      <a:ext cx="87840" cy="97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8" name="Freeform 47"/>
                    <p:cNvSpPr/>
                    <p:nvPr/>
                  </p:nvSpPr>
                  <p:spPr>
                    <a:xfrm rot="11352000">
                      <a:off x="4210920" y="449208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10248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59" name="Group 48"/>
                <p:cNvGrpSpPr/>
                <p:nvPr/>
              </p:nvGrpSpPr>
              <p:grpSpPr>
                <a:xfrm>
                  <a:off x="3809520" y="3678120"/>
                  <a:ext cx="440280" cy="515520"/>
                  <a:chOff x="3809520" y="3678120"/>
                  <a:chExt cx="440280" cy="515520"/>
                </a:xfrm>
              </p:grpSpPr>
              <p:sp>
                <p:nvSpPr>
                  <p:cNvPr id="3360" name="AutoShape 49"/>
                  <p:cNvSpPr/>
                  <p:nvPr/>
                </p:nvSpPr>
                <p:spPr>
                  <a:xfrm>
                    <a:off x="3998880" y="3802320"/>
                    <a:ext cx="24444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361" name="Group 50"/>
                  <p:cNvGrpSpPr/>
                  <p:nvPr/>
                </p:nvGrpSpPr>
                <p:grpSpPr>
                  <a:xfrm>
                    <a:off x="3809520" y="3678120"/>
                    <a:ext cx="440280" cy="220320"/>
                    <a:chOff x="3809520" y="3678120"/>
                    <a:chExt cx="440280" cy="220320"/>
                  </a:xfrm>
                </p:grpSpPr>
                <p:grpSp>
                  <p:nvGrpSpPr>
                    <p:cNvPr id="3362" name="Group 51"/>
                    <p:cNvGrpSpPr/>
                    <p:nvPr/>
                  </p:nvGrpSpPr>
                  <p:grpSpPr>
                    <a:xfrm>
                      <a:off x="3809520" y="3678120"/>
                      <a:ext cx="440280" cy="125280"/>
                      <a:chOff x="3809520" y="3678120"/>
                      <a:chExt cx="440280" cy="125280"/>
                    </a:xfrm>
                  </p:grpSpPr>
                  <p:grpSp>
                    <p:nvGrpSpPr>
                      <p:cNvPr id="3363" name="Group 52"/>
                      <p:cNvGrpSpPr/>
                      <p:nvPr/>
                    </p:nvGrpSpPr>
                    <p:grpSpPr>
                      <a:xfrm>
                        <a:off x="3816720" y="3678120"/>
                        <a:ext cx="433080" cy="125280"/>
                        <a:chOff x="3816720" y="3678120"/>
                        <a:chExt cx="433080" cy="125280"/>
                      </a:xfrm>
                    </p:grpSpPr>
                    <p:sp>
                      <p:nvSpPr>
                        <p:cNvPr id="3364" name="Rectangle 53"/>
                        <p:cNvSpPr/>
                        <p:nvPr/>
                      </p:nvSpPr>
                      <p:spPr>
                        <a:xfrm rot="10800000">
                          <a:off x="3961080" y="367812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65" name="Freeform 54"/>
                        <p:cNvSpPr/>
                        <p:nvPr/>
                      </p:nvSpPr>
                      <p:spPr>
                        <a:xfrm rot="10800000">
                          <a:off x="3816720" y="367992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366" name=""/>
                      <p:cNvGrpSpPr/>
                      <p:nvPr/>
                    </p:nvGrpSpPr>
                    <p:grpSpPr>
                      <a:xfrm>
                        <a:off x="3809520" y="3705120"/>
                        <a:ext cx="440280" cy="360"/>
                        <a:chOff x="3809520" y="3705120"/>
                        <a:chExt cx="440280" cy="360"/>
                      </a:xfrm>
                    </p:grpSpPr>
                    <p:sp>
                      <p:nvSpPr>
                        <p:cNvPr id="3367" name="Line 55"/>
                        <p:cNvSpPr/>
                        <p:nvPr/>
                      </p:nvSpPr>
                      <p:spPr>
                        <a:xfrm flipH="1">
                          <a:off x="3809520" y="3705480"/>
                          <a:ext cx="44028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68" name=""/>
                        <p:cNvSpPr txBox="1"/>
                        <p:nvPr/>
                      </p:nvSpPr>
                      <p:spPr>
                        <a:xfrm rot="10800000">
                          <a:off x="3809520" y="370512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69" name="Oval 56"/>
                    <p:cNvSpPr/>
                    <p:nvPr/>
                  </p:nvSpPr>
                  <p:spPr>
                    <a:xfrm rot="10800000">
                      <a:off x="4084560" y="374004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0" name="Freeform 57"/>
                    <p:cNvSpPr/>
                    <p:nvPr/>
                  </p:nvSpPr>
                  <p:spPr>
                    <a:xfrm rot="552000">
                      <a:off x="3918600" y="374328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371" name="Group 58"/>
              <p:cNvGrpSpPr/>
              <p:nvPr/>
            </p:nvGrpSpPr>
            <p:grpSpPr>
              <a:xfrm>
                <a:off x="3983760" y="3658320"/>
                <a:ext cx="284760" cy="627480"/>
                <a:chOff x="3983760" y="3658320"/>
                <a:chExt cx="284760" cy="627480"/>
              </a:xfrm>
            </p:grpSpPr>
            <p:grpSp>
              <p:nvGrpSpPr>
                <p:cNvPr id="3372" name="Group 59"/>
                <p:cNvGrpSpPr/>
                <p:nvPr/>
              </p:nvGrpSpPr>
              <p:grpSpPr>
                <a:xfrm>
                  <a:off x="3983760" y="3658320"/>
                  <a:ext cx="284760" cy="506880"/>
                  <a:chOff x="3983760" y="3658320"/>
                  <a:chExt cx="284760" cy="506880"/>
                </a:xfrm>
              </p:grpSpPr>
              <p:sp>
                <p:nvSpPr>
                  <p:cNvPr id="3373" name="AutoShape 60"/>
                  <p:cNvSpPr/>
                  <p:nvPr/>
                </p:nvSpPr>
                <p:spPr>
                  <a:xfrm>
                    <a:off x="3983760" y="3773880"/>
                    <a:ext cx="28476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4" name="Oval 61"/>
                  <p:cNvSpPr/>
                  <p:nvPr/>
                </p:nvSpPr>
                <p:spPr>
                  <a:xfrm>
                    <a:off x="3983760" y="3658320"/>
                    <a:ext cx="279720" cy="24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75" name="Oval 62"/>
                <p:cNvSpPr/>
                <p:nvPr/>
              </p:nvSpPr>
              <p:spPr>
                <a:xfrm>
                  <a:off x="4001400" y="4049640"/>
                  <a:ext cx="244800" cy="23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ddddd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76" name="AutoShape 63"/>
              <p:cNvSpPr/>
              <p:nvPr/>
            </p:nvSpPr>
            <p:spPr>
              <a:xfrm>
                <a:off x="4072320" y="4126320"/>
                <a:ext cx="104760" cy="90720"/>
              </a:xfrm>
              <a:prstGeom prst="hexagon">
                <a:avLst>
                  <a:gd name="adj" fmla="val 28869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7" name="Group 64"/>
            <p:cNvGrpSpPr/>
            <p:nvPr/>
          </p:nvGrpSpPr>
          <p:grpSpPr>
            <a:xfrm>
              <a:off x="3809880" y="2667240"/>
              <a:ext cx="628920" cy="1045800"/>
              <a:chOff x="3809880" y="2667240"/>
              <a:chExt cx="628920" cy="1045800"/>
            </a:xfrm>
          </p:grpSpPr>
          <p:grpSp>
            <p:nvGrpSpPr>
              <p:cNvPr id="3378" name="Group 65"/>
              <p:cNvGrpSpPr/>
              <p:nvPr/>
            </p:nvGrpSpPr>
            <p:grpSpPr>
              <a:xfrm>
                <a:off x="3809880" y="2667240"/>
                <a:ext cx="628920" cy="1026000"/>
                <a:chOff x="3809880" y="2667240"/>
                <a:chExt cx="628920" cy="1026000"/>
              </a:xfrm>
            </p:grpSpPr>
            <p:grpSp>
              <p:nvGrpSpPr>
                <p:cNvPr id="3379" name="Group 66"/>
                <p:cNvGrpSpPr/>
                <p:nvPr/>
              </p:nvGrpSpPr>
              <p:grpSpPr>
                <a:xfrm>
                  <a:off x="3809880" y="2667240"/>
                  <a:ext cx="440280" cy="515520"/>
                  <a:chOff x="3809880" y="2667240"/>
                  <a:chExt cx="440280" cy="515520"/>
                </a:xfrm>
              </p:grpSpPr>
              <p:sp>
                <p:nvSpPr>
                  <p:cNvPr id="3380" name="AutoShape 67"/>
                  <p:cNvSpPr/>
                  <p:nvPr/>
                </p:nvSpPr>
                <p:spPr>
                  <a:xfrm>
                    <a:off x="3999240" y="2791080"/>
                    <a:ext cx="2444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381" name="Group 68"/>
                  <p:cNvGrpSpPr/>
                  <p:nvPr/>
                </p:nvGrpSpPr>
                <p:grpSpPr>
                  <a:xfrm>
                    <a:off x="3809880" y="2667240"/>
                    <a:ext cx="440280" cy="220320"/>
                    <a:chOff x="3809880" y="2667240"/>
                    <a:chExt cx="440280" cy="220320"/>
                  </a:xfrm>
                </p:grpSpPr>
                <p:grpSp>
                  <p:nvGrpSpPr>
                    <p:cNvPr id="3382" name="Group 69"/>
                    <p:cNvGrpSpPr/>
                    <p:nvPr/>
                  </p:nvGrpSpPr>
                  <p:grpSpPr>
                    <a:xfrm>
                      <a:off x="3809880" y="2667240"/>
                      <a:ext cx="440280" cy="125280"/>
                      <a:chOff x="3809880" y="2667240"/>
                      <a:chExt cx="440280" cy="125280"/>
                    </a:xfrm>
                  </p:grpSpPr>
                  <p:grpSp>
                    <p:nvGrpSpPr>
                      <p:cNvPr id="3383" name="Group 70"/>
                      <p:cNvGrpSpPr/>
                      <p:nvPr/>
                    </p:nvGrpSpPr>
                    <p:grpSpPr>
                      <a:xfrm>
                        <a:off x="3817080" y="2667240"/>
                        <a:ext cx="433080" cy="125280"/>
                        <a:chOff x="3817080" y="2667240"/>
                        <a:chExt cx="433080" cy="125280"/>
                      </a:xfrm>
                    </p:grpSpPr>
                    <p:sp>
                      <p:nvSpPr>
                        <p:cNvPr id="3384" name="Rectangle 71"/>
                        <p:cNvSpPr/>
                        <p:nvPr/>
                      </p:nvSpPr>
                      <p:spPr>
                        <a:xfrm rot="10800000">
                          <a:off x="3961440" y="266724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85" name="Freeform 72"/>
                        <p:cNvSpPr/>
                        <p:nvPr/>
                      </p:nvSpPr>
                      <p:spPr>
                        <a:xfrm rot="10800000">
                          <a:off x="3817080" y="266904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386" name=""/>
                      <p:cNvGrpSpPr/>
                      <p:nvPr/>
                    </p:nvGrpSpPr>
                    <p:grpSpPr>
                      <a:xfrm>
                        <a:off x="3809880" y="2694240"/>
                        <a:ext cx="440280" cy="360"/>
                        <a:chOff x="3809880" y="2694240"/>
                        <a:chExt cx="440280" cy="360"/>
                      </a:xfrm>
                    </p:grpSpPr>
                    <p:sp>
                      <p:nvSpPr>
                        <p:cNvPr id="3387" name="Line 73"/>
                        <p:cNvSpPr/>
                        <p:nvPr/>
                      </p:nvSpPr>
                      <p:spPr>
                        <a:xfrm flipH="1">
                          <a:off x="3809880" y="2694600"/>
                          <a:ext cx="44028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88" name=""/>
                        <p:cNvSpPr txBox="1"/>
                        <p:nvPr/>
                      </p:nvSpPr>
                      <p:spPr>
                        <a:xfrm rot="10800000">
                          <a:off x="3809880" y="269424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89" name="Oval 74"/>
                    <p:cNvSpPr/>
                    <p:nvPr/>
                  </p:nvSpPr>
                  <p:spPr>
                    <a:xfrm rot="10800000">
                      <a:off x="4084920" y="272916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0" name="Freeform 75"/>
                    <p:cNvSpPr/>
                    <p:nvPr/>
                  </p:nvSpPr>
                  <p:spPr>
                    <a:xfrm rot="552000">
                      <a:off x="3918960" y="273240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91" name="Group 76"/>
                <p:cNvGrpSpPr/>
                <p:nvPr/>
              </p:nvGrpSpPr>
              <p:grpSpPr>
                <a:xfrm>
                  <a:off x="3998520" y="3177720"/>
                  <a:ext cx="440280" cy="515520"/>
                  <a:chOff x="3998520" y="3177720"/>
                  <a:chExt cx="440280" cy="515520"/>
                </a:xfrm>
              </p:grpSpPr>
              <p:sp>
                <p:nvSpPr>
                  <p:cNvPr id="3392" name="AutoShape 77"/>
                  <p:cNvSpPr/>
                  <p:nvPr/>
                </p:nvSpPr>
                <p:spPr>
                  <a:xfrm rot="10800000">
                    <a:off x="4005000" y="3177720"/>
                    <a:ext cx="24444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393" name="Group 78"/>
                  <p:cNvGrpSpPr/>
                  <p:nvPr/>
                </p:nvGrpSpPr>
                <p:grpSpPr>
                  <a:xfrm>
                    <a:off x="3998520" y="3472920"/>
                    <a:ext cx="440280" cy="220320"/>
                    <a:chOff x="3998520" y="3472920"/>
                    <a:chExt cx="440280" cy="220320"/>
                  </a:xfrm>
                </p:grpSpPr>
                <p:grpSp>
                  <p:nvGrpSpPr>
                    <p:cNvPr id="3394" name="Group 79"/>
                    <p:cNvGrpSpPr/>
                    <p:nvPr/>
                  </p:nvGrpSpPr>
                  <p:grpSpPr>
                    <a:xfrm>
                      <a:off x="3998520" y="3567960"/>
                      <a:ext cx="440280" cy="125280"/>
                      <a:chOff x="3998520" y="3567960"/>
                      <a:chExt cx="440280" cy="125280"/>
                    </a:xfrm>
                  </p:grpSpPr>
                  <p:grpSp>
                    <p:nvGrpSpPr>
                      <p:cNvPr id="3395" name="Group 80"/>
                      <p:cNvGrpSpPr/>
                      <p:nvPr/>
                    </p:nvGrpSpPr>
                    <p:grpSpPr>
                      <a:xfrm>
                        <a:off x="3998520" y="3567960"/>
                        <a:ext cx="433080" cy="125280"/>
                        <a:chOff x="3998520" y="3567960"/>
                        <a:chExt cx="433080" cy="125280"/>
                      </a:xfrm>
                    </p:grpSpPr>
                    <p:sp>
                      <p:nvSpPr>
                        <p:cNvPr id="3396" name="Rectangle 81"/>
                        <p:cNvSpPr/>
                        <p:nvPr/>
                      </p:nvSpPr>
                      <p:spPr>
                        <a:xfrm>
                          <a:off x="3998520" y="356904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97" name="Freeform 82"/>
                        <p:cNvSpPr/>
                        <p:nvPr/>
                      </p:nvSpPr>
                      <p:spPr>
                        <a:xfrm>
                          <a:off x="4287240" y="356796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398" name=""/>
                      <p:cNvGrpSpPr/>
                      <p:nvPr/>
                    </p:nvGrpSpPr>
                    <p:grpSpPr>
                      <a:xfrm>
                        <a:off x="3998520" y="3665880"/>
                        <a:ext cx="440280" cy="360"/>
                        <a:chOff x="3998520" y="3665880"/>
                        <a:chExt cx="440280" cy="360"/>
                      </a:xfrm>
                    </p:grpSpPr>
                    <p:sp>
                      <p:nvSpPr>
                        <p:cNvPr id="3399" name="Line 83"/>
                        <p:cNvSpPr/>
                        <p:nvPr/>
                      </p:nvSpPr>
                      <p:spPr>
                        <a:xfrm>
                          <a:off x="3998520" y="3665880"/>
                          <a:ext cx="44028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00" name=""/>
                        <p:cNvSpPr txBox="1"/>
                        <p:nvPr/>
                      </p:nvSpPr>
                      <p:spPr>
                        <a:xfrm>
                          <a:off x="3998520" y="366588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401" name="Oval 84"/>
                    <p:cNvSpPr/>
                    <p:nvPr/>
                  </p:nvSpPr>
                  <p:spPr>
                    <a:xfrm>
                      <a:off x="4075920" y="353340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2" name="Freeform 85"/>
                    <p:cNvSpPr/>
                    <p:nvPr/>
                  </p:nvSpPr>
                  <p:spPr>
                    <a:xfrm rot="11352600">
                      <a:off x="4211280" y="348120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403" name="Group 86"/>
              <p:cNvGrpSpPr/>
              <p:nvPr/>
            </p:nvGrpSpPr>
            <p:grpSpPr>
              <a:xfrm>
                <a:off x="3979800" y="3085560"/>
                <a:ext cx="284760" cy="627480"/>
                <a:chOff x="3979800" y="3085560"/>
                <a:chExt cx="284760" cy="627480"/>
              </a:xfrm>
            </p:grpSpPr>
            <p:grpSp>
              <p:nvGrpSpPr>
                <p:cNvPr id="3404" name="Group 87"/>
                <p:cNvGrpSpPr/>
                <p:nvPr/>
              </p:nvGrpSpPr>
              <p:grpSpPr>
                <a:xfrm>
                  <a:off x="3979800" y="3206160"/>
                  <a:ext cx="284760" cy="506880"/>
                  <a:chOff x="3979800" y="3206160"/>
                  <a:chExt cx="284760" cy="506880"/>
                </a:xfrm>
              </p:grpSpPr>
              <p:sp>
                <p:nvSpPr>
                  <p:cNvPr id="3405" name="AutoShape 88"/>
                  <p:cNvSpPr/>
                  <p:nvPr/>
                </p:nvSpPr>
                <p:spPr>
                  <a:xfrm rot="10800000">
                    <a:off x="3979800" y="3206160"/>
                    <a:ext cx="28476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6" name="Oval 89"/>
                  <p:cNvSpPr/>
                  <p:nvPr/>
                </p:nvSpPr>
                <p:spPr>
                  <a:xfrm rot="10800000">
                    <a:off x="3984840" y="3472920"/>
                    <a:ext cx="279720" cy="2401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7" name="Oval 90"/>
                <p:cNvSpPr/>
                <p:nvPr/>
              </p:nvSpPr>
              <p:spPr>
                <a:xfrm rot="10800000">
                  <a:off x="4002120" y="3085560"/>
                  <a:ext cx="244800" cy="236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08" name="AutoShape 91"/>
              <p:cNvSpPr/>
              <p:nvPr/>
            </p:nvSpPr>
            <p:spPr>
              <a:xfrm rot="10800000">
                <a:off x="4071240" y="3154320"/>
                <a:ext cx="104760" cy="90720"/>
              </a:xfrm>
              <a:prstGeom prst="hexagon">
                <a:avLst>
                  <a:gd name="adj" fmla="val 28869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09" name="AutoShape 92"/>
          <p:cNvSpPr/>
          <p:nvPr/>
        </p:nvSpPr>
        <p:spPr>
          <a:xfrm rot="471600">
            <a:off x="3657240" y="2619000"/>
            <a:ext cx="152280" cy="533520"/>
          </a:xfrm>
          <a:custGeom>
            <a:avLst/>
            <a:gdLst>
              <a:gd name="textAreaLeft" fmla="*/ 44640 w 152280"/>
              <a:gd name="textAreaRight" fmla="*/ 152640 w 15228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0" name="Group 93"/>
          <p:cNvGrpSpPr/>
          <p:nvPr/>
        </p:nvGrpSpPr>
        <p:grpSpPr>
          <a:xfrm>
            <a:off x="3781080" y="2233800"/>
            <a:ext cx="707040" cy="1566720"/>
            <a:chOff x="3781080" y="2233800"/>
            <a:chExt cx="707040" cy="1566720"/>
          </a:xfrm>
        </p:grpSpPr>
        <p:sp>
          <p:nvSpPr>
            <p:cNvPr id="3411" name="Oval 94"/>
            <p:cNvSpPr/>
            <p:nvPr/>
          </p:nvSpPr>
          <p:spPr>
            <a:xfrm rot="385800">
              <a:off x="3809880" y="3223440"/>
              <a:ext cx="569520" cy="5464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21216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Oval 95"/>
            <p:cNvSpPr/>
            <p:nvPr/>
          </p:nvSpPr>
          <p:spPr>
            <a:xfrm rot="385800">
              <a:off x="4451040" y="2730240"/>
              <a:ext cx="32760" cy="49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Oval 96"/>
            <p:cNvSpPr/>
            <p:nvPr/>
          </p:nvSpPr>
          <p:spPr>
            <a:xfrm rot="385800">
              <a:off x="4422600" y="3027600"/>
              <a:ext cx="32760" cy="4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Oval 97"/>
            <p:cNvSpPr/>
            <p:nvPr/>
          </p:nvSpPr>
          <p:spPr>
            <a:xfrm rot="385800">
              <a:off x="4389480" y="3323160"/>
              <a:ext cx="32760" cy="49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AutoShape 98"/>
            <p:cNvSpPr/>
            <p:nvPr/>
          </p:nvSpPr>
          <p:spPr>
            <a:xfrm rot="385800">
              <a:off x="3840480" y="2568240"/>
              <a:ext cx="591840" cy="1021320"/>
            </a:xfrm>
            <a:prstGeom prst="can">
              <a:avLst>
                <a:gd name="adj" fmla="val 2652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21216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Rectangle 99"/>
            <p:cNvSpPr/>
            <p:nvPr/>
          </p:nvSpPr>
          <p:spPr>
            <a:xfrm rot="385800">
              <a:off x="4128840" y="2487960"/>
              <a:ext cx="149040" cy="986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21216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7" name="Group 100"/>
            <p:cNvGrpSpPr/>
            <p:nvPr/>
          </p:nvGrpSpPr>
          <p:grpSpPr>
            <a:xfrm>
              <a:off x="4031280" y="2233800"/>
              <a:ext cx="285480" cy="690480"/>
              <a:chOff x="4031280" y="2233800"/>
              <a:chExt cx="285480" cy="690480"/>
            </a:xfrm>
          </p:grpSpPr>
          <p:sp>
            <p:nvSpPr>
              <p:cNvPr id="3418" name="AutoShape 101"/>
              <p:cNvSpPr/>
              <p:nvPr/>
            </p:nvSpPr>
            <p:spPr>
              <a:xfrm rot="11007600">
                <a:off x="4096080" y="2239200"/>
                <a:ext cx="199800" cy="545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556" y="21600"/>
                    </a:lnTo>
                    <a:lnTo>
                      <a:pt x="20044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AutoShape 102"/>
              <p:cNvSpPr/>
              <p:nvPr/>
            </p:nvSpPr>
            <p:spPr>
              <a:xfrm rot="16585800">
                <a:off x="4067280" y="2671920"/>
                <a:ext cx="213120" cy="263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934" y="2201"/>
                      <a:pt x="12267" y="5080"/>
                      <a:pt x="12267" y="10800"/>
                    </a:cubicBezTo>
                    <a:cubicBezTo>
                      <a:pt x="12267" y="16520"/>
                      <a:pt x="16934" y="1939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20" name="AutoShape 103"/>
          <p:cNvSpPr/>
          <p:nvPr/>
        </p:nvSpPr>
        <p:spPr>
          <a:xfrm rot="447600">
            <a:off x="3705120" y="2619360"/>
            <a:ext cx="162000" cy="527040"/>
          </a:xfrm>
          <a:custGeom>
            <a:avLst/>
            <a:gdLst>
              <a:gd name="textAreaLeft" fmla="*/ 7920 w 162000"/>
              <a:gd name="textAreaRight" fmla="*/ 154080 w 162000"/>
              <a:gd name="textAreaTop" fmla="*/ 7920 h 527040"/>
              <a:gd name="textAreaBottom" fmla="*/ 519120 h 527040"/>
            </a:gdLst>
            <a:ahLst/>
            <a:rect l="textAreaLeft" t="textAreaTop" r="textAreaRight" b="textAreaBottom"/>
            <a:pathLst>
              <a:path w="21600" h="70164">
                <a:moveTo>
                  <a:pt x="3600" y="0"/>
                </a:moveTo>
                <a:arcTo wR="3600" hR="3600" stAng="16200000" swAng="-5400000"/>
                <a:lnTo>
                  <a:pt x="0" y="66564"/>
                </a:lnTo>
                <a:arcTo wR="3600" hR="3600" stAng="10800000" swAng="-5400000"/>
                <a:lnTo>
                  <a:pt x="18000" y="701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2115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1" name="Group 104"/>
          <p:cNvGrpSpPr/>
          <p:nvPr/>
        </p:nvGrpSpPr>
        <p:grpSpPr>
          <a:xfrm>
            <a:off x="3753000" y="2591640"/>
            <a:ext cx="653760" cy="2115720"/>
            <a:chOff x="3753000" y="2591640"/>
            <a:chExt cx="653760" cy="2115720"/>
          </a:xfrm>
        </p:grpSpPr>
        <p:grpSp>
          <p:nvGrpSpPr>
            <p:cNvPr id="3422" name="Group 105"/>
            <p:cNvGrpSpPr/>
            <p:nvPr/>
          </p:nvGrpSpPr>
          <p:grpSpPr>
            <a:xfrm>
              <a:off x="3753000" y="3620880"/>
              <a:ext cx="653760" cy="1086480"/>
              <a:chOff x="3753000" y="3620880"/>
              <a:chExt cx="653760" cy="1086480"/>
            </a:xfrm>
          </p:grpSpPr>
          <p:grpSp>
            <p:nvGrpSpPr>
              <p:cNvPr id="3423" name="Group 106"/>
              <p:cNvGrpSpPr/>
              <p:nvPr/>
            </p:nvGrpSpPr>
            <p:grpSpPr>
              <a:xfrm>
                <a:off x="3753000" y="3641040"/>
                <a:ext cx="653760" cy="1066320"/>
                <a:chOff x="3753000" y="3641040"/>
                <a:chExt cx="653760" cy="1066320"/>
              </a:xfrm>
            </p:grpSpPr>
            <p:grpSp>
              <p:nvGrpSpPr>
                <p:cNvPr id="3424" name="Group 107"/>
                <p:cNvGrpSpPr/>
                <p:nvPr/>
              </p:nvGrpSpPr>
              <p:grpSpPr>
                <a:xfrm>
                  <a:off x="3948840" y="4171680"/>
                  <a:ext cx="457920" cy="535680"/>
                  <a:chOff x="3948840" y="4171680"/>
                  <a:chExt cx="457920" cy="535680"/>
                </a:xfrm>
              </p:grpSpPr>
              <p:sp>
                <p:nvSpPr>
                  <p:cNvPr id="3425" name="AutoShape 108"/>
                  <p:cNvSpPr/>
                  <p:nvPr/>
                </p:nvSpPr>
                <p:spPr>
                  <a:xfrm rot="10800000">
                    <a:off x="3956040" y="417168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26" name="Group 109"/>
                  <p:cNvGrpSpPr/>
                  <p:nvPr/>
                </p:nvGrpSpPr>
                <p:grpSpPr>
                  <a:xfrm>
                    <a:off x="3948840" y="4477680"/>
                    <a:ext cx="457920" cy="229680"/>
                    <a:chOff x="3948840" y="4477680"/>
                    <a:chExt cx="457920" cy="229680"/>
                  </a:xfrm>
                </p:grpSpPr>
                <p:grpSp>
                  <p:nvGrpSpPr>
                    <p:cNvPr id="3427" name="Group 110"/>
                    <p:cNvGrpSpPr/>
                    <p:nvPr/>
                  </p:nvGrpSpPr>
                  <p:grpSpPr>
                    <a:xfrm>
                      <a:off x="3948840" y="4577040"/>
                      <a:ext cx="457920" cy="130320"/>
                      <a:chOff x="3948840" y="4577040"/>
                      <a:chExt cx="457920" cy="130320"/>
                    </a:xfrm>
                  </p:grpSpPr>
                  <p:grpSp>
                    <p:nvGrpSpPr>
                      <p:cNvPr id="3428" name="Group 111"/>
                      <p:cNvGrpSpPr/>
                      <p:nvPr/>
                    </p:nvGrpSpPr>
                    <p:grpSpPr>
                      <a:xfrm>
                        <a:off x="3948840" y="4577040"/>
                        <a:ext cx="450360" cy="130320"/>
                        <a:chOff x="3948840" y="4577040"/>
                        <a:chExt cx="450360" cy="130320"/>
                      </a:xfrm>
                    </p:grpSpPr>
                    <p:sp>
                      <p:nvSpPr>
                        <p:cNvPr id="3429" name="Rectangle 112"/>
                        <p:cNvSpPr/>
                        <p:nvPr/>
                      </p:nvSpPr>
                      <p:spPr>
                        <a:xfrm>
                          <a:off x="3948840" y="4578120"/>
                          <a:ext cx="300240" cy="1292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30" name="Freeform 113"/>
                        <p:cNvSpPr/>
                        <p:nvPr/>
                      </p:nvSpPr>
                      <p:spPr>
                        <a:xfrm>
                          <a:off x="4249080" y="457704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431" name=""/>
                      <p:cNvGrpSpPr/>
                      <p:nvPr/>
                    </p:nvGrpSpPr>
                    <p:grpSpPr>
                      <a:xfrm>
                        <a:off x="3948840" y="4678560"/>
                        <a:ext cx="457920" cy="360"/>
                        <a:chOff x="3948840" y="4678560"/>
                        <a:chExt cx="457920" cy="360"/>
                      </a:xfrm>
                    </p:grpSpPr>
                    <p:sp>
                      <p:nvSpPr>
                        <p:cNvPr id="3432" name="Line 114"/>
                        <p:cNvSpPr/>
                        <p:nvPr/>
                      </p:nvSpPr>
                      <p:spPr>
                        <a:xfrm>
                          <a:off x="3948840" y="4678560"/>
                          <a:ext cx="4579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33" name=""/>
                        <p:cNvSpPr txBox="1"/>
                        <p:nvPr/>
                      </p:nvSpPr>
                      <p:spPr>
                        <a:xfrm>
                          <a:off x="3948840" y="467856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434" name="Oval 115"/>
                    <p:cNvSpPr/>
                    <p:nvPr/>
                  </p:nvSpPr>
                  <p:spPr>
                    <a:xfrm>
                      <a:off x="4029120" y="4541040"/>
                      <a:ext cx="91080" cy="101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5" name="Freeform 116"/>
                    <p:cNvSpPr/>
                    <p:nvPr/>
                  </p:nvSpPr>
                  <p:spPr>
                    <a:xfrm rot="11352000">
                      <a:off x="4169880" y="448632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aeaea"/>
                        </a:gs>
                      </a:gsLst>
                      <a:lin ang="10248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436" name="Group 117"/>
                <p:cNvGrpSpPr/>
                <p:nvPr/>
              </p:nvGrpSpPr>
              <p:grpSpPr>
                <a:xfrm>
                  <a:off x="3753000" y="3641040"/>
                  <a:ext cx="457920" cy="535680"/>
                  <a:chOff x="3753000" y="3641040"/>
                  <a:chExt cx="457920" cy="535680"/>
                </a:xfrm>
              </p:grpSpPr>
              <p:sp>
                <p:nvSpPr>
                  <p:cNvPr id="3437" name="AutoShape 118"/>
                  <p:cNvSpPr/>
                  <p:nvPr/>
                </p:nvSpPr>
                <p:spPr>
                  <a:xfrm>
                    <a:off x="3949560" y="376992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38" name="Group 119"/>
                  <p:cNvGrpSpPr/>
                  <p:nvPr/>
                </p:nvGrpSpPr>
                <p:grpSpPr>
                  <a:xfrm>
                    <a:off x="3753000" y="3641040"/>
                    <a:ext cx="457920" cy="229680"/>
                    <a:chOff x="3753000" y="3641040"/>
                    <a:chExt cx="457920" cy="229680"/>
                  </a:xfrm>
                </p:grpSpPr>
                <p:grpSp>
                  <p:nvGrpSpPr>
                    <p:cNvPr id="3439" name="Group 120"/>
                    <p:cNvGrpSpPr/>
                    <p:nvPr/>
                  </p:nvGrpSpPr>
                  <p:grpSpPr>
                    <a:xfrm>
                      <a:off x="3753000" y="3641040"/>
                      <a:ext cx="457920" cy="130320"/>
                      <a:chOff x="3753000" y="3641040"/>
                      <a:chExt cx="457920" cy="130320"/>
                    </a:xfrm>
                  </p:grpSpPr>
                  <p:grpSp>
                    <p:nvGrpSpPr>
                      <p:cNvPr id="3440" name="Group 121"/>
                      <p:cNvGrpSpPr/>
                      <p:nvPr/>
                    </p:nvGrpSpPr>
                    <p:grpSpPr>
                      <a:xfrm>
                        <a:off x="3760560" y="3641040"/>
                        <a:ext cx="450360" cy="130320"/>
                        <a:chOff x="3760560" y="3641040"/>
                        <a:chExt cx="450360" cy="130320"/>
                      </a:xfrm>
                    </p:grpSpPr>
                    <p:sp>
                      <p:nvSpPr>
                        <p:cNvPr id="3441" name="Rectangle 122"/>
                        <p:cNvSpPr/>
                        <p:nvPr/>
                      </p:nvSpPr>
                      <p:spPr>
                        <a:xfrm rot="10800000">
                          <a:off x="3910680" y="364104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42" name="Freeform 123"/>
                        <p:cNvSpPr/>
                        <p:nvPr/>
                      </p:nvSpPr>
                      <p:spPr>
                        <a:xfrm rot="10800000">
                          <a:off x="3760560" y="364284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443" name=""/>
                      <p:cNvGrpSpPr/>
                      <p:nvPr/>
                    </p:nvGrpSpPr>
                    <p:grpSpPr>
                      <a:xfrm>
                        <a:off x="3753000" y="3669480"/>
                        <a:ext cx="457920" cy="360"/>
                        <a:chOff x="3753000" y="3669480"/>
                        <a:chExt cx="457920" cy="360"/>
                      </a:xfrm>
                    </p:grpSpPr>
                    <p:sp>
                      <p:nvSpPr>
                        <p:cNvPr id="3444" name="Line 124"/>
                        <p:cNvSpPr/>
                        <p:nvPr/>
                      </p:nvSpPr>
                      <p:spPr>
                        <a:xfrm flipH="1">
                          <a:off x="3753000" y="3669840"/>
                          <a:ext cx="45792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45" name=""/>
                        <p:cNvSpPr txBox="1"/>
                        <p:nvPr/>
                      </p:nvSpPr>
                      <p:spPr>
                        <a:xfrm rot="10800000">
                          <a:off x="3753000" y="366948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446" name="Oval 125"/>
                    <p:cNvSpPr/>
                    <p:nvPr/>
                  </p:nvSpPr>
                  <p:spPr>
                    <a:xfrm rot="10800000">
                      <a:off x="4039560" y="370584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7" name="Freeform 126"/>
                    <p:cNvSpPr/>
                    <p:nvPr/>
                  </p:nvSpPr>
                  <p:spPr>
                    <a:xfrm rot="552000">
                      <a:off x="3866760" y="370944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448" name="Group 127"/>
              <p:cNvGrpSpPr/>
              <p:nvPr/>
            </p:nvGrpSpPr>
            <p:grpSpPr>
              <a:xfrm>
                <a:off x="3933720" y="3620880"/>
                <a:ext cx="295920" cy="651600"/>
                <a:chOff x="3933720" y="3620880"/>
                <a:chExt cx="295920" cy="651600"/>
              </a:xfrm>
            </p:grpSpPr>
            <p:grpSp>
              <p:nvGrpSpPr>
                <p:cNvPr id="3449" name="Group 128"/>
                <p:cNvGrpSpPr/>
                <p:nvPr/>
              </p:nvGrpSpPr>
              <p:grpSpPr>
                <a:xfrm>
                  <a:off x="3933720" y="3620880"/>
                  <a:ext cx="295920" cy="526320"/>
                  <a:chOff x="3933720" y="3620880"/>
                  <a:chExt cx="295920" cy="526320"/>
                </a:xfrm>
              </p:grpSpPr>
              <p:sp>
                <p:nvSpPr>
                  <p:cNvPr id="3450" name="AutoShape 129"/>
                  <p:cNvSpPr/>
                  <p:nvPr/>
                </p:nvSpPr>
                <p:spPr>
                  <a:xfrm>
                    <a:off x="3933720" y="3740760"/>
                    <a:ext cx="29592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1" name="Oval 130"/>
                  <p:cNvSpPr/>
                  <p:nvPr/>
                </p:nvSpPr>
                <p:spPr>
                  <a:xfrm>
                    <a:off x="3933720" y="3620880"/>
                    <a:ext cx="290520" cy="249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52" name="Oval 131"/>
                <p:cNvSpPr/>
                <p:nvPr/>
              </p:nvSpPr>
              <p:spPr>
                <a:xfrm>
                  <a:off x="3952080" y="4027320"/>
                  <a:ext cx="254160" cy="245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3" name="AutoShape 132"/>
              <p:cNvSpPr/>
              <p:nvPr/>
            </p:nvSpPr>
            <p:spPr>
              <a:xfrm>
                <a:off x="4025880" y="4106880"/>
                <a:ext cx="108720" cy="94320"/>
              </a:xfrm>
              <a:prstGeom prst="hexagon">
                <a:avLst>
                  <a:gd name="adj" fmla="val 28817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4" name="Group 133"/>
            <p:cNvGrpSpPr/>
            <p:nvPr/>
          </p:nvGrpSpPr>
          <p:grpSpPr>
            <a:xfrm>
              <a:off x="3753000" y="2591640"/>
              <a:ext cx="653760" cy="1086480"/>
              <a:chOff x="3753000" y="2591640"/>
              <a:chExt cx="653760" cy="1086480"/>
            </a:xfrm>
          </p:grpSpPr>
          <p:grpSp>
            <p:nvGrpSpPr>
              <p:cNvPr id="3455" name="Group 134"/>
              <p:cNvGrpSpPr/>
              <p:nvPr/>
            </p:nvGrpSpPr>
            <p:grpSpPr>
              <a:xfrm>
                <a:off x="3753000" y="2591640"/>
                <a:ext cx="653760" cy="1066320"/>
                <a:chOff x="3753000" y="2591640"/>
                <a:chExt cx="653760" cy="1066320"/>
              </a:xfrm>
            </p:grpSpPr>
            <p:grpSp>
              <p:nvGrpSpPr>
                <p:cNvPr id="3456" name="Group 135"/>
                <p:cNvGrpSpPr/>
                <p:nvPr/>
              </p:nvGrpSpPr>
              <p:grpSpPr>
                <a:xfrm>
                  <a:off x="3753000" y="2591640"/>
                  <a:ext cx="457920" cy="535680"/>
                  <a:chOff x="3753000" y="2591640"/>
                  <a:chExt cx="457920" cy="535680"/>
                </a:xfrm>
              </p:grpSpPr>
              <p:sp>
                <p:nvSpPr>
                  <p:cNvPr id="3457" name="AutoShape 136"/>
                  <p:cNvSpPr/>
                  <p:nvPr/>
                </p:nvSpPr>
                <p:spPr>
                  <a:xfrm>
                    <a:off x="3949560" y="272052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58" name="Group 137"/>
                  <p:cNvGrpSpPr/>
                  <p:nvPr/>
                </p:nvGrpSpPr>
                <p:grpSpPr>
                  <a:xfrm>
                    <a:off x="3753000" y="2591640"/>
                    <a:ext cx="457920" cy="229680"/>
                    <a:chOff x="3753000" y="2591640"/>
                    <a:chExt cx="457920" cy="229680"/>
                  </a:xfrm>
                </p:grpSpPr>
                <p:grpSp>
                  <p:nvGrpSpPr>
                    <p:cNvPr id="3459" name="Group 138"/>
                    <p:cNvGrpSpPr/>
                    <p:nvPr/>
                  </p:nvGrpSpPr>
                  <p:grpSpPr>
                    <a:xfrm>
                      <a:off x="3753000" y="2591640"/>
                      <a:ext cx="457920" cy="130320"/>
                      <a:chOff x="3753000" y="2591640"/>
                      <a:chExt cx="457920" cy="130320"/>
                    </a:xfrm>
                  </p:grpSpPr>
                  <p:grpSp>
                    <p:nvGrpSpPr>
                      <p:cNvPr id="3460" name="Group 139"/>
                      <p:cNvGrpSpPr/>
                      <p:nvPr/>
                    </p:nvGrpSpPr>
                    <p:grpSpPr>
                      <a:xfrm>
                        <a:off x="3760560" y="2591640"/>
                        <a:ext cx="450360" cy="130320"/>
                        <a:chOff x="3760560" y="2591640"/>
                        <a:chExt cx="450360" cy="130320"/>
                      </a:xfrm>
                    </p:grpSpPr>
                    <p:sp>
                      <p:nvSpPr>
                        <p:cNvPr id="3461" name="Rectangle 140"/>
                        <p:cNvSpPr/>
                        <p:nvPr/>
                      </p:nvSpPr>
                      <p:spPr>
                        <a:xfrm rot="10800000">
                          <a:off x="3910680" y="259164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62" name="Freeform 141"/>
                        <p:cNvSpPr/>
                        <p:nvPr/>
                      </p:nvSpPr>
                      <p:spPr>
                        <a:xfrm rot="10800000">
                          <a:off x="3760560" y="259344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463" name=""/>
                      <p:cNvGrpSpPr/>
                      <p:nvPr/>
                    </p:nvGrpSpPr>
                    <p:grpSpPr>
                      <a:xfrm>
                        <a:off x="3753000" y="2620080"/>
                        <a:ext cx="457920" cy="360"/>
                        <a:chOff x="3753000" y="2620080"/>
                        <a:chExt cx="457920" cy="360"/>
                      </a:xfrm>
                    </p:grpSpPr>
                    <p:sp>
                      <p:nvSpPr>
                        <p:cNvPr id="3464" name="Line 142"/>
                        <p:cNvSpPr/>
                        <p:nvPr/>
                      </p:nvSpPr>
                      <p:spPr>
                        <a:xfrm flipH="1">
                          <a:off x="3753000" y="2620440"/>
                          <a:ext cx="45792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65" name=""/>
                        <p:cNvSpPr txBox="1"/>
                        <p:nvPr/>
                      </p:nvSpPr>
                      <p:spPr>
                        <a:xfrm rot="10800000">
                          <a:off x="3753000" y="262008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466" name="Oval 143"/>
                    <p:cNvSpPr/>
                    <p:nvPr/>
                  </p:nvSpPr>
                  <p:spPr>
                    <a:xfrm rot="10800000">
                      <a:off x="4039560" y="265644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7" name="Freeform 144"/>
                    <p:cNvSpPr/>
                    <p:nvPr/>
                  </p:nvSpPr>
                  <p:spPr>
                    <a:xfrm rot="552000">
                      <a:off x="3866760" y="266004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468" name="Group 145"/>
                <p:cNvGrpSpPr/>
                <p:nvPr/>
              </p:nvGrpSpPr>
              <p:grpSpPr>
                <a:xfrm>
                  <a:off x="3948840" y="3122280"/>
                  <a:ext cx="457920" cy="535680"/>
                  <a:chOff x="3948840" y="3122280"/>
                  <a:chExt cx="457920" cy="535680"/>
                </a:xfrm>
              </p:grpSpPr>
              <p:sp>
                <p:nvSpPr>
                  <p:cNvPr id="3469" name="AutoShape 146"/>
                  <p:cNvSpPr/>
                  <p:nvPr/>
                </p:nvSpPr>
                <p:spPr>
                  <a:xfrm rot="10800000">
                    <a:off x="3956040" y="312228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70" name="Group 147"/>
                  <p:cNvGrpSpPr/>
                  <p:nvPr/>
                </p:nvGrpSpPr>
                <p:grpSpPr>
                  <a:xfrm>
                    <a:off x="3948840" y="3428280"/>
                    <a:ext cx="457920" cy="229680"/>
                    <a:chOff x="3948840" y="3428280"/>
                    <a:chExt cx="457920" cy="229680"/>
                  </a:xfrm>
                </p:grpSpPr>
                <p:grpSp>
                  <p:nvGrpSpPr>
                    <p:cNvPr id="3471" name="Group 148"/>
                    <p:cNvGrpSpPr/>
                    <p:nvPr/>
                  </p:nvGrpSpPr>
                  <p:grpSpPr>
                    <a:xfrm>
                      <a:off x="3948840" y="3527640"/>
                      <a:ext cx="457920" cy="130320"/>
                      <a:chOff x="3948840" y="3527640"/>
                      <a:chExt cx="457920" cy="130320"/>
                    </a:xfrm>
                  </p:grpSpPr>
                  <p:grpSp>
                    <p:nvGrpSpPr>
                      <p:cNvPr id="3472" name="Group 149"/>
                      <p:cNvGrpSpPr/>
                      <p:nvPr/>
                    </p:nvGrpSpPr>
                    <p:grpSpPr>
                      <a:xfrm>
                        <a:off x="3948840" y="3527640"/>
                        <a:ext cx="450360" cy="130320"/>
                        <a:chOff x="3948840" y="3527640"/>
                        <a:chExt cx="450360" cy="130320"/>
                      </a:xfrm>
                    </p:grpSpPr>
                    <p:sp>
                      <p:nvSpPr>
                        <p:cNvPr id="3473" name="Rectangle 150"/>
                        <p:cNvSpPr/>
                        <p:nvPr/>
                      </p:nvSpPr>
                      <p:spPr>
                        <a:xfrm>
                          <a:off x="3948840" y="352872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74" name="Freeform 151"/>
                        <p:cNvSpPr/>
                        <p:nvPr/>
                      </p:nvSpPr>
                      <p:spPr>
                        <a:xfrm>
                          <a:off x="4249080" y="352764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475" name=""/>
                      <p:cNvGrpSpPr/>
                      <p:nvPr/>
                    </p:nvGrpSpPr>
                    <p:grpSpPr>
                      <a:xfrm>
                        <a:off x="3948840" y="3629160"/>
                        <a:ext cx="457920" cy="360"/>
                        <a:chOff x="3948840" y="3629160"/>
                        <a:chExt cx="457920" cy="360"/>
                      </a:xfrm>
                    </p:grpSpPr>
                    <p:sp>
                      <p:nvSpPr>
                        <p:cNvPr id="3476" name="Line 152"/>
                        <p:cNvSpPr/>
                        <p:nvPr/>
                      </p:nvSpPr>
                      <p:spPr>
                        <a:xfrm>
                          <a:off x="3948840" y="3629160"/>
                          <a:ext cx="45792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77" name=""/>
                        <p:cNvSpPr txBox="1"/>
                        <p:nvPr/>
                      </p:nvSpPr>
                      <p:spPr>
                        <a:xfrm>
                          <a:off x="3948840" y="362916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478" name="Oval 153"/>
                    <p:cNvSpPr/>
                    <p:nvPr/>
                  </p:nvSpPr>
                  <p:spPr>
                    <a:xfrm>
                      <a:off x="4029120" y="349164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9" name="Freeform 154"/>
                    <p:cNvSpPr/>
                    <p:nvPr/>
                  </p:nvSpPr>
                  <p:spPr>
                    <a:xfrm rot="11352600">
                      <a:off x="4169880" y="343692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480" name="Group 155"/>
              <p:cNvGrpSpPr/>
              <p:nvPr/>
            </p:nvGrpSpPr>
            <p:grpSpPr>
              <a:xfrm>
                <a:off x="3930120" y="3026520"/>
                <a:ext cx="295920" cy="651600"/>
                <a:chOff x="3930120" y="3026520"/>
                <a:chExt cx="295920" cy="651600"/>
              </a:xfrm>
            </p:grpSpPr>
            <p:grpSp>
              <p:nvGrpSpPr>
                <p:cNvPr id="3481" name="Group 156"/>
                <p:cNvGrpSpPr/>
                <p:nvPr/>
              </p:nvGrpSpPr>
              <p:grpSpPr>
                <a:xfrm>
                  <a:off x="3930120" y="3151800"/>
                  <a:ext cx="295920" cy="526320"/>
                  <a:chOff x="3930120" y="3151800"/>
                  <a:chExt cx="295920" cy="526320"/>
                </a:xfrm>
              </p:grpSpPr>
              <p:sp>
                <p:nvSpPr>
                  <p:cNvPr id="3482" name="AutoShape 157"/>
                  <p:cNvSpPr/>
                  <p:nvPr/>
                </p:nvSpPr>
                <p:spPr>
                  <a:xfrm rot="10800000">
                    <a:off x="3930120" y="3151800"/>
                    <a:ext cx="29592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3" name="Oval 158"/>
                  <p:cNvSpPr/>
                  <p:nvPr/>
                </p:nvSpPr>
                <p:spPr>
                  <a:xfrm rot="10800000">
                    <a:off x="3935520" y="3428640"/>
                    <a:ext cx="290520" cy="24948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84" name="Oval 159"/>
                <p:cNvSpPr/>
                <p:nvPr/>
              </p:nvSpPr>
              <p:spPr>
                <a:xfrm rot="10800000">
                  <a:off x="3953520" y="3026520"/>
                  <a:ext cx="254160" cy="245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5" name="AutoShape 160"/>
              <p:cNvSpPr/>
              <p:nvPr/>
            </p:nvSpPr>
            <p:spPr>
              <a:xfrm rot="10800000">
                <a:off x="4025160" y="3097800"/>
                <a:ext cx="108720" cy="94320"/>
              </a:xfrm>
              <a:prstGeom prst="hexagon">
                <a:avLst>
                  <a:gd name="adj" fmla="val 28817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86" name="Group 161"/>
          <p:cNvGrpSpPr/>
          <p:nvPr/>
        </p:nvGrpSpPr>
        <p:grpSpPr>
          <a:xfrm>
            <a:off x="3763800" y="1553040"/>
            <a:ext cx="456840" cy="2366280"/>
            <a:chOff x="3763800" y="1553040"/>
            <a:chExt cx="456840" cy="2366280"/>
          </a:xfrm>
        </p:grpSpPr>
        <p:grpSp>
          <p:nvGrpSpPr>
            <p:cNvPr id="3487" name="Group 162"/>
            <p:cNvGrpSpPr/>
            <p:nvPr/>
          </p:nvGrpSpPr>
          <p:grpSpPr>
            <a:xfrm>
              <a:off x="3763800" y="1553040"/>
              <a:ext cx="456840" cy="2366280"/>
              <a:chOff x="3763800" y="1553040"/>
              <a:chExt cx="456840" cy="2366280"/>
            </a:xfrm>
          </p:grpSpPr>
          <p:grpSp>
            <p:nvGrpSpPr>
              <p:cNvPr id="3488" name="Group 163"/>
              <p:cNvGrpSpPr/>
              <p:nvPr/>
            </p:nvGrpSpPr>
            <p:grpSpPr>
              <a:xfrm>
                <a:off x="3763800" y="1553040"/>
                <a:ext cx="456840" cy="2366280"/>
                <a:chOff x="3763800" y="1553040"/>
                <a:chExt cx="456840" cy="2366280"/>
              </a:xfrm>
            </p:grpSpPr>
            <p:grpSp>
              <p:nvGrpSpPr>
                <p:cNvPr id="3489" name="Group 164"/>
                <p:cNvGrpSpPr/>
                <p:nvPr/>
              </p:nvGrpSpPr>
              <p:grpSpPr>
                <a:xfrm>
                  <a:off x="3763800" y="1783440"/>
                  <a:ext cx="278280" cy="1245240"/>
                  <a:chOff x="3763800" y="1783440"/>
                  <a:chExt cx="278280" cy="1245240"/>
                </a:xfrm>
              </p:grpSpPr>
              <p:grpSp>
                <p:nvGrpSpPr>
                  <p:cNvPr id="3490" name="Group 165"/>
                  <p:cNvGrpSpPr/>
                  <p:nvPr/>
                </p:nvGrpSpPr>
                <p:grpSpPr>
                  <a:xfrm>
                    <a:off x="3800880" y="2418120"/>
                    <a:ext cx="241200" cy="610560"/>
                    <a:chOff x="3800880" y="2418120"/>
                    <a:chExt cx="241200" cy="610560"/>
                  </a:xfrm>
                </p:grpSpPr>
                <p:sp>
                  <p:nvSpPr>
                    <p:cNvPr id="3491" name="AutoShape 166"/>
                    <p:cNvSpPr/>
                    <p:nvPr/>
                  </p:nvSpPr>
                  <p:spPr>
                    <a:xfrm rot="10707000">
                      <a:off x="3828240" y="2420280"/>
                      <a:ext cx="179640" cy="49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2" name="AutoShape 167"/>
                    <p:cNvSpPr/>
                    <p:nvPr/>
                  </p:nvSpPr>
                  <p:spPr>
                    <a:xfrm rot="16285200">
                      <a:off x="3825360" y="2811600"/>
                      <a:ext cx="19152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93" name="Group 168"/>
                  <p:cNvGrpSpPr/>
                  <p:nvPr/>
                </p:nvGrpSpPr>
                <p:grpSpPr>
                  <a:xfrm>
                    <a:off x="3763800" y="1783440"/>
                    <a:ext cx="253440" cy="747720"/>
                    <a:chOff x="3763800" y="1783440"/>
                    <a:chExt cx="253440" cy="747720"/>
                  </a:xfrm>
                </p:grpSpPr>
                <p:sp>
                  <p:nvSpPr>
                    <p:cNvPr id="3494" name="AutoShape 169"/>
                    <p:cNvSpPr/>
                    <p:nvPr/>
                  </p:nvSpPr>
                  <p:spPr>
                    <a:xfrm rot="10722000">
                      <a:off x="3816720" y="2037960"/>
                      <a:ext cx="180360" cy="36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4308" y="21600"/>
                          </a:lnTo>
                          <a:lnTo>
                            <a:pt x="17292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5" name="Oval 170"/>
                    <p:cNvSpPr/>
                    <p:nvPr/>
                  </p:nvSpPr>
                  <p:spPr>
                    <a:xfrm rot="11260800">
                      <a:off x="3817800" y="2328840"/>
                      <a:ext cx="187200" cy="19044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6" name="Freeform 171"/>
                    <p:cNvSpPr/>
                    <p:nvPr/>
                  </p:nvSpPr>
                  <p:spPr>
                    <a:xfrm rot="20755800">
                      <a:off x="3795840" y="1800360"/>
                      <a:ext cx="175680" cy="28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2" h="2302">
                          <a:moveTo>
                            <a:pt x="361" y="1127"/>
                          </a:moveTo>
                          <a:lnTo>
                            <a:pt x="280" y="1116"/>
                          </a:lnTo>
                          <a:lnTo>
                            <a:pt x="373" y="711"/>
                          </a:lnTo>
                          <a:lnTo>
                            <a:pt x="373" y="709"/>
                          </a:lnTo>
                          <a:lnTo>
                            <a:pt x="375" y="705"/>
                          </a:lnTo>
                          <a:lnTo>
                            <a:pt x="375" y="703"/>
                          </a:lnTo>
                          <a:lnTo>
                            <a:pt x="375" y="700"/>
                          </a:lnTo>
                          <a:lnTo>
                            <a:pt x="375" y="698"/>
                          </a:lnTo>
                          <a:lnTo>
                            <a:pt x="375" y="696"/>
                          </a:lnTo>
                          <a:lnTo>
                            <a:pt x="375" y="692"/>
                          </a:lnTo>
                          <a:lnTo>
                            <a:pt x="375" y="690"/>
                          </a:lnTo>
                          <a:lnTo>
                            <a:pt x="375" y="684"/>
                          </a:lnTo>
                          <a:lnTo>
                            <a:pt x="375" y="681"/>
                          </a:lnTo>
                          <a:lnTo>
                            <a:pt x="375" y="675"/>
                          </a:lnTo>
                          <a:lnTo>
                            <a:pt x="375" y="669"/>
                          </a:lnTo>
                          <a:lnTo>
                            <a:pt x="371" y="665"/>
                          </a:lnTo>
                          <a:lnTo>
                            <a:pt x="371" y="660"/>
                          </a:lnTo>
                          <a:lnTo>
                            <a:pt x="369" y="654"/>
                          </a:lnTo>
                          <a:lnTo>
                            <a:pt x="367" y="652"/>
                          </a:lnTo>
                          <a:lnTo>
                            <a:pt x="365" y="646"/>
                          </a:lnTo>
                          <a:lnTo>
                            <a:pt x="363" y="641"/>
                          </a:lnTo>
                          <a:lnTo>
                            <a:pt x="361" y="637"/>
                          </a:lnTo>
                          <a:lnTo>
                            <a:pt x="358" y="633"/>
                          </a:lnTo>
                          <a:lnTo>
                            <a:pt x="356" y="629"/>
                          </a:lnTo>
                          <a:lnTo>
                            <a:pt x="354" y="623"/>
                          </a:lnTo>
                          <a:lnTo>
                            <a:pt x="350" y="620"/>
                          </a:lnTo>
                          <a:lnTo>
                            <a:pt x="346" y="616"/>
                          </a:lnTo>
                          <a:lnTo>
                            <a:pt x="342" y="612"/>
                          </a:lnTo>
                          <a:lnTo>
                            <a:pt x="339" y="610"/>
                          </a:lnTo>
                          <a:lnTo>
                            <a:pt x="335" y="606"/>
                          </a:lnTo>
                          <a:lnTo>
                            <a:pt x="331" y="603"/>
                          </a:lnTo>
                          <a:lnTo>
                            <a:pt x="325" y="601"/>
                          </a:lnTo>
                          <a:lnTo>
                            <a:pt x="321" y="597"/>
                          </a:lnTo>
                          <a:lnTo>
                            <a:pt x="318" y="595"/>
                          </a:lnTo>
                          <a:lnTo>
                            <a:pt x="312" y="593"/>
                          </a:lnTo>
                          <a:lnTo>
                            <a:pt x="306" y="591"/>
                          </a:lnTo>
                          <a:lnTo>
                            <a:pt x="302" y="589"/>
                          </a:lnTo>
                          <a:lnTo>
                            <a:pt x="299" y="589"/>
                          </a:lnTo>
                          <a:lnTo>
                            <a:pt x="295" y="587"/>
                          </a:lnTo>
                          <a:lnTo>
                            <a:pt x="291" y="587"/>
                          </a:lnTo>
                          <a:lnTo>
                            <a:pt x="287" y="585"/>
                          </a:lnTo>
                          <a:lnTo>
                            <a:pt x="285" y="585"/>
                          </a:lnTo>
                          <a:lnTo>
                            <a:pt x="283" y="585"/>
                          </a:lnTo>
                          <a:lnTo>
                            <a:pt x="280" y="585"/>
                          </a:lnTo>
                          <a:lnTo>
                            <a:pt x="276" y="585"/>
                          </a:lnTo>
                          <a:lnTo>
                            <a:pt x="274" y="585"/>
                          </a:lnTo>
                          <a:lnTo>
                            <a:pt x="272" y="585"/>
                          </a:lnTo>
                          <a:lnTo>
                            <a:pt x="268" y="585"/>
                          </a:lnTo>
                          <a:lnTo>
                            <a:pt x="266" y="585"/>
                          </a:lnTo>
                          <a:lnTo>
                            <a:pt x="263" y="585"/>
                          </a:lnTo>
                          <a:lnTo>
                            <a:pt x="261" y="587"/>
                          </a:lnTo>
                          <a:lnTo>
                            <a:pt x="259" y="587"/>
                          </a:lnTo>
                          <a:lnTo>
                            <a:pt x="255" y="587"/>
                          </a:lnTo>
                          <a:lnTo>
                            <a:pt x="253" y="589"/>
                          </a:lnTo>
                          <a:lnTo>
                            <a:pt x="249" y="589"/>
                          </a:lnTo>
                          <a:lnTo>
                            <a:pt x="247" y="589"/>
                          </a:lnTo>
                          <a:lnTo>
                            <a:pt x="243" y="591"/>
                          </a:lnTo>
                          <a:lnTo>
                            <a:pt x="240" y="591"/>
                          </a:lnTo>
                          <a:lnTo>
                            <a:pt x="238" y="593"/>
                          </a:lnTo>
                          <a:lnTo>
                            <a:pt x="236" y="595"/>
                          </a:lnTo>
                          <a:lnTo>
                            <a:pt x="232" y="595"/>
                          </a:lnTo>
                          <a:lnTo>
                            <a:pt x="230" y="597"/>
                          </a:lnTo>
                          <a:lnTo>
                            <a:pt x="228" y="599"/>
                          </a:lnTo>
                          <a:lnTo>
                            <a:pt x="224" y="601"/>
                          </a:lnTo>
                          <a:lnTo>
                            <a:pt x="223" y="601"/>
                          </a:lnTo>
                          <a:lnTo>
                            <a:pt x="219" y="603"/>
                          </a:lnTo>
                          <a:lnTo>
                            <a:pt x="217" y="604"/>
                          </a:lnTo>
                          <a:lnTo>
                            <a:pt x="211" y="608"/>
                          </a:lnTo>
                          <a:lnTo>
                            <a:pt x="207" y="612"/>
                          </a:lnTo>
                          <a:lnTo>
                            <a:pt x="204" y="616"/>
                          </a:lnTo>
                          <a:lnTo>
                            <a:pt x="198" y="618"/>
                          </a:lnTo>
                          <a:lnTo>
                            <a:pt x="194" y="623"/>
                          </a:lnTo>
                          <a:lnTo>
                            <a:pt x="188" y="627"/>
                          </a:lnTo>
                          <a:lnTo>
                            <a:pt x="185" y="633"/>
                          </a:lnTo>
                          <a:lnTo>
                            <a:pt x="181" y="637"/>
                          </a:lnTo>
                          <a:lnTo>
                            <a:pt x="177" y="641"/>
                          </a:lnTo>
                          <a:lnTo>
                            <a:pt x="173" y="646"/>
                          </a:lnTo>
                          <a:lnTo>
                            <a:pt x="169" y="652"/>
                          </a:lnTo>
                          <a:lnTo>
                            <a:pt x="166" y="656"/>
                          </a:lnTo>
                          <a:lnTo>
                            <a:pt x="162" y="662"/>
                          </a:lnTo>
                          <a:lnTo>
                            <a:pt x="160" y="665"/>
                          </a:lnTo>
                          <a:lnTo>
                            <a:pt x="158" y="669"/>
                          </a:lnTo>
                          <a:lnTo>
                            <a:pt x="158" y="671"/>
                          </a:lnTo>
                          <a:lnTo>
                            <a:pt x="156" y="673"/>
                          </a:lnTo>
                          <a:lnTo>
                            <a:pt x="154" y="677"/>
                          </a:lnTo>
                          <a:lnTo>
                            <a:pt x="152" y="679"/>
                          </a:lnTo>
                          <a:lnTo>
                            <a:pt x="152" y="681"/>
                          </a:lnTo>
                          <a:lnTo>
                            <a:pt x="150" y="684"/>
                          </a:lnTo>
                          <a:lnTo>
                            <a:pt x="150" y="688"/>
                          </a:lnTo>
                          <a:lnTo>
                            <a:pt x="146" y="694"/>
                          </a:lnTo>
                          <a:lnTo>
                            <a:pt x="145" y="701"/>
                          </a:lnTo>
                          <a:lnTo>
                            <a:pt x="143" y="709"/>
                          </a:lnTo>
                          <a:lnTo>
                            <a:pt x="139" y="717"/>
                          </a:lnTo>
                          <a:lnTo>
                            <a:pt x="137" y="724"/>
                          </a:lnTo>
                          <a:lnTo>
                            <a:pt x="135" y="732"/>
                          </a:lnTo>
                          <a:lnTo>
                            <a:pt x="131" y="739"/>
                          </a:lnTo>
                          <a:lnTo>
                            <a:pt x="129" y="747"/>
                          </a:lnTo>
                          <a:lnTo>
                            <a:pt x="126" y="755"/>
                          </a:lnTo>
                          <a:lnTo>
                            <a:pt x="124" y="760"/>
                          </a:lnTo>
                          <a:lnTo>
                            <a:pt x="122" y="768"/>
                          </a:lnTo>
                          <a:lnTo>
                            <a:pt x="120" y="776"/>
                          </a:lnTo>
                          <a:lnTo>
                            <a:pt x="116" y="781"/>
                          </a:lnTo>
                          <a:lnTo>
                            <a:pt x="114" y="789"/>
                          </a:lnTo>
                          <a:lnTo>
                            <a:pt x="112" y="796"/>
                          </a:lnTo>
                          <a:lnTo>
                            <a:pt x="110" y="804"/>
                          </a:lnTo>
                          <a:lnTo>
                            <a:pt x="107" y="812"/>
                          </a:lnTo>
                          <a:lnTo>
                            <a:pt x="107" y="817"/>
                          </a:lnTo>
                          <a:lnTo>
                            <a:pt x="103" y="823"/>
                          </a:lnTo>
                          <a:lnTo>
                            <a:pt x="101" y="831"/>
                          </a:lnTo>
                          <a:lnTo>
                            <a:pt x="97" y="836"/>
                          </a:lnTo>
                          <a:lnTo>
                            <a:pt x="97" y="844"/>
                          </a:lnTo>
                          <a:lnTo>
                            <a:pt x="93" y="852"/>
                          </a:lnTo>
                          <a:lnTo>
                            <a:pt x="93" y="857"/>
                          </a:lnTo>
                          <a:lnTo>
                            <a:pt x="89" y="865"/>
                          </a:lnTo>
                          <a:lnTo>
                            <a:pt x="88" y="871"/>
                          </a:lnTo>
                          <a:lnTo>
                            <a:pt x="86" y="878"/>
                          </a:lnTo>
                          <a:lnTo>
                            <a:pt x="84" y="884"/>
                          </a:lnTo>
                          <a:lnTo>
                            <a:pt x="82" y="892"/>
                          </a:lnTo>
                          <a:lnTo>
                            <a:pt x="80" y="899"/>
                          </a:lnTo>
                          <a:lnTo>
                            <a:pt x="78" y="907"/>
                          </a:lnTo>
                          <a:lnTo>
                            <a:pt x="74" y="912"/>
                          </a:lnTo>
                          <a:lnTo>
                            <a:pt x="72" y="920"/>
                          </a:lnTo>
                          <a:lnTo>
                            <a:pt x="72" y="926"/>
                          </a:lnTo>
                          <a:lnTo>
                            <a:pt x="68" y="931"/>
                          </a:lnTo>
                          <a:lnTo>
                            <a:pt x="67" y="939"/>
                          </a:lnTo>
                          <a:lnTo>
                            <a:pt x="65" y="945"/>
                          </a:lnTo>
                          <a:lnTo>
                            <a:pt x="63" y="952"/>
                          </a:lnTo>
                          <a:lnTo>
                            <a:pt x="59" y="958"/>
                          </a:lnTo>
                          <a:lnTo>
                            <a:pt x="57" y="966"/>
                          </a:lnTo>
                          <a:lnTo>
                            <a:pt x="55" y="971"/>
                          </a:lnTo>
                          <a:lnTo>
                            <a:pt x="53" y="979"/>
                          </a:lnTo>
                          <a:lnTo>
                            <a:pt x="51" y="987"/>
                          </a:lnTo>
                          <a:lnTo>
                            <a:pt x="49" y="994"/>
                          </a:lnTo>
                          <a:lnTo>
                            <a:pt x="48" y="1000"/>
                          </a:lnTo>
                          <a:lnTo>
                            <a:pt x="46" y="1007"/>
                          </a:lnTo>
                          <a:lnTo>
                            <a:pt x="44" y="1015"/>
                          </a:lnTo>
                          <a:lnTo>
                            <a:pt x="42" y="1021"/>
                          </a:lnTo>
                          <a:lnTo>
                            <a:pt x="42" y="1028"/>
                          </a:lnTo>
                          <a:lnTo>
                            <a:pt x="38" y="1036"/>
                          </a:lnTo>
                          <a:lnTo>
                            <a:pt x="36" y="1042"/>
                          </a:lnTo>
                          <a:lnTo>
                            <a:pt x="36" y="1049"/>
                          </a:lnTo>
                          <a:lnTo>
                            <a:pt x="34" y="1057"/>
                          </a:lnTo>
                          <a:lnTo>
                            <a:pt x="30" y="1063"/>
                          </a:lnTo>
                          <a:lnTo>
                            <a:pt x="30" y="1070"/>
                          </a:lnTo>
                          <a:lnTo>
                            <a:pt x="29" y="1078"/>
                          </a:lnTo>
                          <a:lnTo>
                            <a:pt x="27" y="1085"/>
                          </a:lnTo>
                          <a:lnTo>
                            <a:pt x="25" y="1093"/>
                          </a:lnTo>
                          <a:lnTo>
                            <a:pt x="23" y="1101"/>
                          </a:lnTo>
                          <a:lnTo>
                            <a:pt x="21" y="1108"/>
                          </a:lnTo>
                          <a:lnTo>
                            <a:pt x="19" y="1116"/>
                          </a:lnTo>
                          <a:lnTo>
                            <a:pt x="17" y="1123"/>
                          </a:lnTo>
                          <a:lnTo>
                            <a:pt x="17" y="1131"/>
                          </a:lnTo>
                          <a:lnTo>
                            <a:pt x="15" y="1139"/>
                          </a:lnTo>
                          <a:lnTo>
                            <a:pt x="13" y="1148"/>
                          </a:lnTo>
                          <a:lnTo>
                            <a:pt x="10" y="1158"/>
                          </a:lnTo>
                          <a:lnTo>
                            <a:pt x="10" y="1165"/>
                          </a:lnTo>
                          <a:lnTo>
                            <a:pt x="8" y="1175"/>
                          </a:lnTo>
                          <a:lnTo>
                            <a:pt x="6" y="1182"/>
                          </a:lnTo>
                          <a:lnTo>
                            <a:pt x="6" y="1192"/>
                          </a:lnTo>
                          <a:lnTo>
                            <a:pt x="4" y="1201"/>
                          </a:lnTo>
                          <a:lnTo>
                            <a:pt x="2" y="1211"/>
                          </a:lnTo>
                          <a:lnTo>
                            <a:pt x="2" y="1218"/>
                          </a:lnTo>
                          <a:lnTo>
                            <a:pt x="0" y="1230"/>
                          </a:lnTo>
                          <a:lnTo>
                            <a:pt x="0" y="1237"/>
                          </a:lnTo>
                          <a:lnTo>
                            <a:pt x="0" y="1247"/>
                          </a:lnTo>
                          <a:lnTo>
                            <a:pt x="0" y="1257"/>
                          </a:lnTo>
                          <a:lnTo>
                            <a:pt x="0" y="1268"/>
                          </a:lnTo>
                          <a:lnTo>
                            <a:pt x="0" y="1276"/>
                          </a:lnTo>
                          <a:lnTo>
                            <a:pt x="0" y="1285"/>
                          </a:lnTo>
                          <a:lnTo>
                            <a:pt x="0" y="1296"/>
                          </a:lnTo>
                          <a:lnTo>
                            <a:pt x="0" y="1304"/>
                          </a:lnTo>
                          <a:lnTo>
                            <a:pt x="0" y="1314"/>
                          </a:lnTo>
                          <a:lnTo>
                            <a:pt x="0" y="1323"/>
                          </a:lnTo>
                          <a:lnTo>
                            <a:pt x="0" y="1333"/>
                          </a:lnTo>
                          <a:lnTo>
                            <a:pt x="2" y="1342"/>
                          </a:lnTo>
                          <a:lnTo>
                            <a:pt x="2" y="1352"/>
                          </a:lnTo>
                          <a:lnTo>
                            <a:pt x="4" y="1363"/>
                          </a:lnTo>
                          <a:lnTo>
                            <a:pt x="4" y="1371"/>
                          </a:lnTo>
                          <a:lnTo>
                            <a:pt x="6" y="1382"/>
                          </a:lnTo>
                          <a:lnTo>
                            <a:pt x="8" y="1390"/>
                          </a:lnTo>
                          <a:lnTo>
                            <a:pt x="8" y="1401"/>
                          </a:lnTo>
                          <a:lnTo>
                            <a:pt x="10" y="1409"/>
                          </a:lnTo>
                          <a:lnTo>
                            <a:pt x="11" y="1420"/>
                          </a:lnTo>
                          <a:lnTo>
                            <a:pt x="13" y="1429"/>
                          </a:lnTo>
                          <a:lnTo>
                            <a:pt x="15" y="1439"/>
                          </a:lnTo>
                          <a:lnTo>
                            <a:pt x="17" y="1448"/>
                          </a:lnTo>
                          <a:lnTo>
                            <a:pt x="19" y="1458"/>
                          </a:lnTo>
                          <a:lnTo>
                            <a:pt x="21" y="1468"/>
                          </a:lnTo>
                          <a:lnTo>
                            <a:pt x="23" y="1477"/>
                          </a:lnTo>
                          <a:lnTo>
                            <a:pt x="27" y="1487"/>
                          </a:lnTo>
                          <a:lnTo>
                            <a:pt x="29" y="1496"/>
                          </a:lnTo>
                          <a:lnTo>
                            <a:pt x="30" y="1506"/>
                          </a:lnTo>
                          <a:lnTo>
                            <a:pt x="34" y="1515"/>
                          </a:lnTo>
                          <a:lnTo>
                            <a:pt x="36" y="1525"/>
                          </a:lnTo>
                          <a:lnTo>
                            <a:pt x="38" y="1534"/>
                          </a:lnTo>
                          <a:lnTo>
                            <a:pt x="42" y="1544"/>
                          </a:lnTo>
                          <a:lnTo>
                            <a:pt x="46" y="1553"/>
                          </a:lnTo>
                          <a:lnTo>
                            <a:pt x="48" y="1561"/>
                          </a:lnTo>
                          <a:lnTo>
                            <a:pt x="51" y="1572"/>
                          </a:lnTo>
                          <a:lnTo>
                            <a:pt x="55" y="1580"/>
                          </a:lnTo>
                          <a:lnTo>
                            <a:pt x="59" y="1589"/>
                          </a:lnTo>
                          <a:lnTo>
                            <a:pt x="63" y="1599"/>
                          </a:lnTo>
                          <a:lnTo>
                            <a:pt x="67" y="1608"/>
                          </a:lnTo>
                          <a:lnTo>
                            <a:pt x="68" y="1616"/>
                          </a:lnTo>
                          <a:lnTo>
                            <a:pt x="74" y="1627"/>
                          </a:lnTo>
                          <a:lnTo>
                            <a:pt x="78" y="1635"/>
                          </a:lnTo>
                          <a:lnTo>
                            <a:pt x="82" y="1644"/>
                          </a:lnTo>
                          <a:lnTo>
                            <a:pt x="86" y="1652"/>
                          </a:lnTo>
                          <a:lnTo>
                            <a:pt x="89" y="1661"/>
                          </a:lnTo>
                          <a:lnTo>
                            <a:pt x="95" y="1669"/>
                          </a:lnTo>
                          <a:lnTo>
                            <a:pt x="99" y="1679"/>
                          </a:lnTo>
                          <a:lnTo>
                            <a:pt x="103" y="1688"/>
                          </a:lnTo>
                          <a:lnTo>
                            <a:pt x="108" y="1696"/>
                          </a:lnTo>
                          <a:lnTo>
                            <a:pt x="114" y="1703"/>
                          </a:lnTo>
                          <a:lnTo>
                            <a:pt x="118" y="1713"/>
                          </a:lnTo>
                          <a:lnTo>
                            <a:pt x="124" y="1722"/>
                          </a:lnTo>
                          <a:lnTo>
                            <a:pt x="127" y="1732"/>
                          </a:lnTo>
                          <a:lnTo>
                            <a:pt x="131" y="1736"/>
                          </a:lnTo>
                          <a:lnTo>
                            <a:pt x="135" y="1739"/>
                          </a:lnTo>
                          <a:lnTo>
                            <a:pt x="135" y="1743"/>
                          </a:lnTo>
                          <a:lnTo>
                            <a:pt x="137" y="1745"/>
                          </a:lnTo>
                          <a:lnTo>
                            <a:pt x="139" y="1747"/>
                          </a:lnTo>
                          <a:lnTo>
                            <a:pt x="141" y="1751"/>
                          </a:lnTo>
                          <a:lnTo>
                            <a:pt x="143" y="1755"/>
                          </a:lnTo>
                          <a:lnTo>
                            <a:pt x="143" y="1756"/>
                          </a:lnTo>
                          <a:lnTo>
                            <a:pt x="145" y="1760"/>
                          </a:lnTo>
                          <a:lnTo>
                            <a:pt x="146" y="1762"/>
                          </a:lnTo>
                          <a:lnTo>
                            <a:pt x="148" y="1766"/>
                          </a:lnTo>
                          <a:lnTo>
                            <a:pt x="150" y="1768"/>
                          </a:lnTo>
                          <a:lnTo>
                            <a:pt x="152" y="1770"/>
                          </a:lnTo>
                          <a:lnTo>
                            <a:pt x="156" y="1774"/>
                          </a:lnTo>
                          <a:lnTo>
                            <a:pt x="158" y="1777"/>
                          </a:lnTo>
                          <a:lnTo>
                            <a:pt x="160" y="1779"/>
                          </a:lnTo>
                          <a:lnTo>
                            <a:pt x="160" y="1783"/>
                          </a:lnTo>
                          <a:lnTo>
                            <a:pt x="162" y="1787"/>
                          </a:lnTo>
                          <a:lnTo>
                            <a:pt x="166" y="1789"/>
                          </a:lnTo>
                          <a:lnTo>
                            <a:pt x="166" y="1791"/>
                          </a:lnTo>
                          <a:lnTo>
                            <a:pt x="167" y="1794"/>
                          </a:lnTo>
                          <a:lnTo>
                            <a:pt x="169" y="1796"/>
                          </a:lnTo>
                          <a:lnTo>
                            <a:pt x="171" y="1800"/>
                          </a:lnTo>
                          <a:lnTo>
                            <a:pt x="173" y="1802"/>
                          </a:lnTo>
                          <a:lnTo>
                            <a:pt x="175" y="1806"/>
                          </a:lnTo>
                          <a:lnTo>
                            <a:pt x="177" y="1808"/>
                          </a:lnTo>
                          <a:lnTo>
                            <a:pt x="179" y="1812"/>
                          </a:lnTo>
                          <a:lnTo>
                            <a:pt x="181" y="1815"/>
                          </a:lnTo>
                          <a:lnTo>
                            <a:pt x="183" y="1817"/>
                          </a:lnTo>
                          <a:lnTo>
                            <a:pt x="185" y="1821"/>
                          </a:lnTo>
                          <a:lnTo>
                            <a:pt x="188" y="1827"/>
                          </a:lnTo>
                          <a:lnTo>
                            <a:pt x="190" y="1831"/>
                          </a:lnTo>
                          <a:lnTo>
                            <a:pt x="194" y="1836"/>
                          </a:lnTo>
                          <a:lnTo>
                            <a:pt x="198" y="1842"/>
                          </a:lnTo>
                          <a:lnTo>
                            <a:pt x="200" y="1846"/>
                          </a:lnTo>
                          <a:lnTo>
                            <a:pt x="204" y="1850"/>
                          </a:lnTo>
                          <a:lnTo>
                            <a:pt x="205" y="1853"/>
                          </a:lnTo>
                          <a:lnTo>
                            <a:pt x="207" y="1859"/>
                          </a:lnTo>
                          <a:lnTo>
                            <a:pt x="209" y="1861"/>
                          </a:lnTo>
                          <a:lnTo>
                            <a:pt x="211" y="1863"/>
                          </a:lnTo>
                          <a:lnTo>
                            <a:pt x="213" y="1867"/>
                          </a:lnTo>
                          <a:lnTo>
                            <a:pt x="215" y="1869"/>
                          </a:lnTo>
                          <a:lnTo>
                            <a:pt x="217" y="1870"/>
                          </a:lnTo>
                          <a:lnTo>
                            <a:pt x="219" y="1874"/>
                          </a:lnTo>
                          <a:lnTo>
                            <a:pt x="141" y="2163"/>
                          </a:lnTo>
                          <a:lnTo>
                            <a:pt x="143" y="2165"/>
                          </a:lnTo>
                          <a:lnTo>
                            <a:pt x="146" y="2165"/>
                          </a:lnTo>
                          <a:lnTo>
                            <a:pt x="150" y="2167"/>
                          </a:lnTo>
                          <a:lnTo>
                            <a:pt x="152" y="2167"/>
                          </a:lnTo>
                          <a:lnTo>
                            <a:pt x="154" y="2167"/>
                          </a:lnTo>
                          <a:lnTo>
                            <a:pt x="158" y="2167"/>
                          </a:lnTo>
                          <a:lnTo>
                            <a:pt x="162" y="2171"/>
                          </a:lnTo>
                          <a:lnTo>
                            <a:pt x="166" y="2171"/>
                          </a:lnTo>
                          <a:lnTo>
                            <a:pt x="167" y="2173"/>
                          </a:lnTo>
                          <a:lnTo>
                            <a:pt x="171" y="2173"/>
                          </a:lnTo>
                          <a:lnTo>
                            <a:pt x="175" y="2175"/>
                          </a:lnTo>
                          <a:lnTo>
                            <a:pt x="181" y="2175"/>
                          </a:lnTo>
                          <a:lnTo>
                            <a:pt x="185" y="2175"/>
                          </a:lnTo>
                          <a:lnTo>
                            <a:pt x="188" y="2177"/>
                          </a:lnTo>
                          <a:lnTo>
                            <a:pt x="194" y="2180"/>
                          </a:lnTo>
                          <a:lnTo>
                            <a:pt x="198" y="2180"/>
                          </a:lnTo>
                          <a:lnTo>
                            <a:pt x="204" y="2182"/>
                          </a:lnTo>
                          <a:lnTo>
                            <a:pt x="209" y="2182"/>
                          </a:lnTo>
                          <a:lnTo>
                            <a:pt x="215" y="2184"/>
                          </a:lnTo>
                          <a:lnTo>
                            <a:pt x="219" y="2186"/>
                          </a:lnTo>
                          <a:lnTo>
                            <a:pt x="224" y="2188"/>
                          </a:lnTo>
                          <a:lnTo>
                            <a:pt x="232" y="2188"/>
                          </a:lnTo>
                          <a:lnTo>
                            <a:pt x="238" y="2190"/>
                          </a:lnTo>
                          <a:lnTo>
                            <a:pt x="243" y="2190"/>
                          </a:lnTo>
                          <a:lnTo>
                            <a:pt x="251" y="2192"/>
                          </a:lnTo>
                          <a:lnTo>
                            <a:pt x="257" y="2194"/>
                          </a:lnTo>
                          <a:lnTo>
                            <a:pt x="264" y="2194"/>
                          </a:lnTo>
                          <a:lnTo>
                            <a:pt x="270" y="2196"/>
                          </a:lnTo>
                          <a:lnTo>
                            <a:pt x="276" y="2196"/>
                          </a:lnTo>
                          <a:lnTo>
                            <a:pt x="283" y="2197"/>
                          </a:lnTo>
                          <a:lnTo>
                            <a:pt x="291" y="2199"/>
                          </a:lnTo>
                          <a:lnTo>
                            <a:pt x="297" y="2199"/>
                          </a:lnTo>
                          <a:lnTo>
                            <a:pt x="304" y="2199"/>
                          </a:lnTo>
                          <a:lnTo>
                            <a:pt x="312" y="2199"/>
                          </a:lnTo>
                          <a:lnTo>
                            <a:pt x="320" y="2201"/>
                          </a:lnTo>
                          <a:lnTo>
                            <a:pt x="325" y="2201"/>
                          </a:lnTo>
                          <a:lnTo>
                            <a:pt x="333" y="2201"/>
                          </a:lnTo>
                          <a:lnTo>
                            <a:pt x="341" y="2201"/>
                          </a:lnTo>
                          <a:lnTo>
                            <a:pt x="348" y="2201"/>
                          </a:lnTo>
                          <a:lnTo>
                            <a:pt x="356" y="2201"/>
                          </a:lnTo>
                          <a:lnTo>
                            <a:pt x="363" y="2201"/>
                          </a:lnTo>
                          <a:lnTo>
                            <a:pt x="371" y="2201"/>
                          </a:lnTo>
                          <a:lnTo>
                            <a:pt x="379" y="2201"/>
                          </a:lnTo>
                          <a:lnTo>
                            <a:pt x="386" y="2201"/>
                          </a:lnTo>
                          <a:lnTo>
                            <a:pt x="394" y="2201"/>
                          </a:lnTo>
                          <a:lnTo>
                            <a:pt x="401" y="2199"/>
                          </a:lnTo>
                          <a:lnTo>
                            <a:pt x="409" y="2199"/>
                          </a:lnTo>
                          <a:lnTo>
                            <a:pt x="415" y="2197"/>
                          </a:lnTo>
                          <a:lnTo>
                            <a:pt x="422" y="2196"/>
                          </a:lnTo>
                          <a:lnTo>
                            <a:pt x="432" y="2196"/>
                          </a:lnTo>
                          <a:lnTo>
                            <a:pt x="439" y="2194"/>
                          </a:lnTo>
                          <a:lnTo>
                            <a:pt x="447" y="2192"/>
                          </a:lnTo>
                          <a:lnTo>
                            <a:pt x="455" y="2190"/>
                          </a:lnTo>
                          <a:lnTo>
                            <a:pt x="462" y="2188"/>
                          </a:lnTo>
                          <a:lnTo>
                            <a:pt x="470" y="2188"/>
                          </a:lnTo>
                          <a:lnTo>
                            <a:pt x="476" y="2184"/>
                          </a:lnTo>
                          <a:lnTo>
                            <a:pt x="483" y="2182"/>
                          </a:lnTo>
                          <a:lnTo>
                            <a:pt x="491" y="2180"/>
                          </a:lnTo>
                          <a:lnTo>
                            <a:pt x="498" y="2175"/>
                          </a:lnTo>
                          <a:lnTo>
                            <a:pt x="504" y="2173"/>
                          </a:lnTo>
                          <a:lnTo>
                            <a:pt x="512" y="2169"/>
                          </a:lnTo>
                          <a:lnTo>
                            <a:pt x="517" y="2165"/>
                          </a:lnTo>
                          <a:lnTo>
                            <a:pt x="525" y="2161"/>
                          </a:lnTo>
                          <a:lnTo>
                            <a:pt x="531" y="2158"/>
                          </a:lnTo>
                          <a:lnTo>
                            <a:pt x="536" y="2154"/>
                          </a:lnTo>
                          <a:lnTo>
                            <a:pt x="542" y="2150"/>
                          </a:lnTo>
                          <a:lnTo>
                            <a:pt x="550" y="2146"/>
                          </a:lnTo>
                          <a:lnTo>
                            <a:pt x="555" y="2142"/>
                          </a:lnTo>
                          <a:lnTo>
                            <a:pt x="559" y="2137"/>
                          </a:lnTo>
                          <a:lnTo>
                            <a:pt x="565" y="2133"/>
                          </a:lnTo>
                          <a:lnTo>
                            <a:pt x="571" y="2129"/>
                          </a:lnTo>
                          <a:lnTo>
                            <a:pt x="576" y="2123"/>
                          </a:lnTo>
                          <a:lnTo>
                            <a:pt x="582" y="2120"/>
                          </a:lnTo>
                          <a:lnTo>
                            <a:pt x="588" y="2114"/>
                          </a:lnTo>
                          <a:lnTo>
                            <a:pt x="592" y="2110"/>
                          </a:lnTo>
                          <a:lnTo>
                            <a:pt x="595" y="2106"/>
                          </a:lnTo>
                          <a:lnTo>
                            <a:pt x="601" y="2101"/>
                          </a:lnTo>
                          <a:lnTo>
                            <a:pt x="605" y="2095"/>
                          </a:lnTo>
                          <a:lnTo>
                            <a:pt x="611" y="2091"/>
                          </a:lnTo>
                          <a:lnTo>
                            <a:pt x="614" y="2085"/>
                          </a:lnTo>
                          <a:lnTo>
                            <a:pt x="618" y="2080"/>
                          </a:lnTo>
                          <a:lnTo>
                            <a:pt x="624" y="2076"/>
                          </a:lnTo>
                          <a:lnTo>
                            <a:pt x="628" y="2070"/>
                          </a:lnTo>
                          <a:lnTo>
                            <a:pt x="632" y="2064"/>
                          </a:lnTo>
                          <a:lnTo>
                            <a:pt x="635" y="2059"/>
                          </a:lnTo>
                          <a:lnTo>
                            <a:pt x="637" y="2055"/>
                          </a:lnTo>
                          <a:lnTo>
                            <a:pt x="643" y="2049"/>
                          </a:lnTo>
                          <a:lnTo>
                            <a:pt x="645" y="2043"/>
                          </a:lnTo>
                          <a:lnTo>
                            <a:pt x="649" y="2040"/>
                          </a:lnTo>
                          <a:lnTo>
                            <a:pt x="652" y="2034"/>
                          </a:lnTo>
                          <a:lnTo>
                            <a:pt x="654" y="2030"/>
                          </a:lnTo>
                          <a:lnTo>
                            <a:pt x="658" y="2024"/>
                          </a:lnTo>
                          <a:lnTo>
                            <a:pt x="660" y="2021"/>
                          </a:lnTo>
                          <a:lnTo>
                            <a:pt x="664" y="2015"/>
                          </a:lnTo>
                          <a:lnTo>
                            <a:pt x="666" y="2011"/>
                          </a:lnTo>
                          <a:lnTo>
                            <a:pt x="668" y="2005"/>
                          </a:lnTo>
                          <a:lnTo>
                            <a:pt x="672" y="2002"/>
                          </a:lnTo>
                          <a:lnTo>
                            <a:pt x="673" y="1998"/>
                          </a:lnTo>
                          <a:lnTo>
                            <a:pt x="675" y="1992"/>
                          </a:lnTo>
                          <a:lnTo>
                            <a:pt x="677" y="1986"/>
                          </a:lnTo>
                          <a:lnTo>
                            <a:pt x="679" y="1983"/>
                          </a:lnTo>
                          <a:lnTo>
                            <a:pt x="681" y="1979"/>
                          </a:lnTo>
                          <a:lnTo>
                            <a:pt x="683" y="1975"/>
                          </a:lnTo>
                          <a:lnTo>
                            <a:pt x="685" y="1971"/>
                          </a:lnTo>
                          <a:lnTo>
                            <a:pt x="687" y="1969"/>
                          </a:lnTo>
                          <a:lnTo>
                            <a:pt x="689" y="1964"/>
                          </a:lnTo>
                          <a:lnTo>
                            <a:pt x="691" y="1962"/>
                          </a:lnTo>
                          <a:lnTo>
                            <a:pt x="692" y="1958"/>
                          </a:lnTo>
                          <a:lnTo>
                            <a:pt x="692" y="1954"/>
                          </a:lnTo>
                          <a:lnTo>
                            <a:pt x="692" y="1952"/>
                          </a:lnTo>
                          <a:lnTo>
                            <a:pt x="694" y="1950"/>
                          </a:lnTo>
                          <a:lnTo>
                            <a:pt x="696" y="1945"/>
                          </a:lnTo>
                          <a:lnTo>
                            <a:pt x="698" y="1941"/>
                          </a:lnTo>
                          <a:lnTo>
                            <a:pt x="700" y="1937"/>
                          </a:lnTo>
                          <a:lnTo>
                            <a:pt x="700" y="1935"/>
                          </a:lnTo>
                          <a:lnTo>
                            <a:pt x="700" y="1933"/>
                          </a:lnTo>
                          <a:lnTo>
                            <a:pt x="702" y="1933"/>
                          </a:lnTo>
                          <a:lnTo>
                            <a:pt x="740" y="1943"/>
                          </a:lnTo>
                          <a:lnTo>
                            <a:pt x="740" y="1943"/>
                          </a:lnTo>
                          <a:lnTo>
                            <a:pt x="738" y="1945"/>
                          </a:lnTo>
                          <a:lnTo>
                            <a:pt x="738" y="1947"/>
                          </a:lnTo>
                          <a:lnTo>
                            <a:pt x="738" y="1950"/>
                          </a:lnTo>
                          <a:lnTo>
                            <a:pt x="738" y="1954"/>
                          </a:lnTo>
                          <a:lnTo>
                            <a:pt x="738" y="1958"/>
                          </a:lnTo>
                          <a:lnTo>
                            <a:pt x="736" y="1962"/>
                          </a:lnTo>
                          <a:lnTo>
                            <a:pt x="736" y="1964"/>
                          </a:lnTo>
                          <a:lnTo>
                            <a:pt x="736" y="1967"/>
                          </a:lnTo>
                          <a:lnTo>
                            <a:pt x="736" y="1971"/>
                          </a:lnTo>
                          <a:lnTo>
                            <a:pt x="736" y="1975"/>
                          </a:lnTo>
                          <a:lnTo>
                            <a:pt x="736" y="1979"/>
                          </a:lnTo>
                          <a:lnTo>
                            <a:pt x="736" y="1983"/>
                          </a:lnTo>
                          <a:lnTo>
                            <a:pt x="736" y="1985"/>
                          </a:lnTo>
                          <a:lnTo>
                            <a:pt x="736" y="1990"/>
                          </a:lnTo>
                          <a:lnTo>
                            <a:pt x="736" y="1994"/>
                          </a:lnTo>
                          <a:lnTo>
                            <a:pt x="736" y="1998"/>
                          </a:lnTo>
                          <a:lnTo>
                            <a:pt x="736" y="2004"/>
                          </a:lnTo>
                          <a:lnTo>
                            <a:pt x="736" y="2007"/>
                          </a:lnTo>
                          <a:lnTo>
                            <a:pt x="736" y="2013"/>
                          </a:lnTo>
                          <a:lnTo>
                            <a:pt x="736" y="2015"/>
                          </a:lnTo>
                          <a:lnTo>
                            <a:pt x="736" y="2021"/>
                          </a:lnTo>
                          <a:lnTo>
                            <a:pt x="736" y="2026"/>
                          </a:lnTo>
                          <a:lnTo>
                            <a:pt x="736" y="2030"/>
                          </a:lnTo>
                          <a:lnTo>
                            <a:pt x="736" y="2036"/>
                          </a:lnTo>
                          <a:lnTo>
                            <a:pt x="736" y="2042"/>
                          </a:lnTo>
                          <a:lnTo>
                            <a:pt x="736" y="2047"/>
                          </a:lnTo>
                          <a:lnTo>
                            <a:pt x="738" y="2051"/>
                          </a:lnTo>
                          <a:lnTo>
                            <a:pt x="738" y="2057"/>
                          </a:lnTo>
                          <a:lnTo>
                            <a:pt x="738" y="2062"/>
                          </a:lnTo>
                          <a:lnTo>
                            <a:pt x="740" y="2066"/>
                          </a:lnTo>
                          <a:lnTo>
                            <a:pt x="740" y="2072"/>
                          </a:lnTo>
                          <a:lnTo>
                            <a:pt x="742" y="2078"/>
                          </a:lnTo>
                          <a:lnTo>
                            <a:pt x="744" y="2083"/>
                          </a:lnTo>
                          <a:lnTo>
                            <a:pt x="744" y="2091"/>
                          </a:lnTo>
                          <a:lnTo>
                            <a:pt x="746" y="2095"/>
                          </a:lnTo>
                          <a:lnTo>
                            <a:pt x="748" y="2101"/>
                          </a:lnTo>
                          <a:lnTo>
                            <a:pt x="748" y="2106"/>
                          </a:lnTo>
                          <a:lnTo>
                            <a:pt x="751" y="2110"/>
                          </a:lnTo>
                          <a:lnTo>
                            <a:pt x="753" y="2118"/>
                          </a:lnTo>
                          <a:lnTo>
                            <a:pt x="753" y="2123"/>
                          </a:lnTo>
                          <a:lnTo>
                            <a:pt x="757" y="2129"/>
                          </a:lnTo>
                          <a:lnTo>
                            <a:pt x="759" y="2135"/>
                          </a:lnTo>
                          <a:lnTo>
                            <a:pt x="761" y="2139"/>
                          </a:lnTo>
                          <a:lnTo>
                            <a:pt x="765" y="2144"/>
                          </a:lnTo>
                          <a:lnTo>
                            <a:pt x="767" y="2150"/>
                          </a:lnTo>
                          <a:lnTo>
                            <a:pt x="769" y="2156"/>
                          </a:lnTo>
                          <a:lnTo>
                            <a:pt x="772" y="2159"/>
                          </a:lnTo>
                          <a:lnTo>
                            <a:pt x="776" y="2165"/>
                          </a:lnTo>
                          <a:lnTo>
                            <a:pt x="780" y="2171"/>
                          </a:lnTo>
                          <a:lnTo>
                            <a:pt x="782" y="2175"/>
                          </a:lnTo>
                          <a:lnTo>
                            <a:pt x="786" y="2180"/>
                          </a:lnTo>
                          <a:lnTo>
                            <a:pt x="789" y="2186"/>
                          </a:lnTo>
                          <a:lnTo>
                            <a:pt x="795" y="2190"/>
                          </a:lnTo>
                          <a:lnTo>
                            <a:pt x="799" y="2196"/>
                          </a:lnTo>
                          <a:lnTo>
                            <a:pt x="805" y="2201"/>
                          </a:lnTo>
                          <a:lnTo>
                            <a:pt x="808" y="2205"/>
                          </a:lnTo>
                          <a:lnTo>
                            <a:pt x="814" y="2209"/>
                          </a:lnTo>
                          <a:lnTo>
                            <a:pt x="818" y="2213"/>
                          </a:lnTo>
                          <a:lnTo>
                            <a:pt x="824" y="2216"/>
                          </a:lnTo>
                          <a:lnTo>
                            <a:pt x="828" y="2222"/>
                          </a:lnTo>
                          <a:lnTo>
                            <a:pt x="833" y="2224"/>
                          </a:lnTo>
                          <a:lnTo>
                            <a:pt x="839" y="2228"/>
                          </a:lnTo>
                          <a:lnTo>
                            <a:pt x="845" y="2232"/>
                          </a:lnTo>
                          <a:lnTo>
                            <a:pt x="848" y="2235"/>
                          </a:lnTo>
                          <a:lnTo>
                            <a:pt x="854" y="2239"/>
                          </a:lnTo>
                          <a:lnTo>
                            <a:pt x="858" y="2243"/>
                          </a:lnTo>
                          <a:lnTo>
                            <a:pt x="864" y="2245"/>
                          </a:lnTo>
                          <a:lnTo>
                            <a:pt x="867" y="2249"/>
                          </a:lnTo>
                          <a:lnTo>
                            <a:pt x="873" y="2253"/>
                          </a:lnTo>
                          <a:lnTo>
                            <a:pt x="877" y="2256"/>
                          </a:lnTo>
                          <a:lnTo>
                            <a:pt x="883" y="2258"/>
                          </a:lnTo>
                          <a:lnTo>
                            <a:pt x="890" y="2260"/>
                          </a:lnTo>
                          <a:lnTo>
                            <a:pt x="896" y="2264"/>
                          </a:lnTo>
                          <a:lnTo>
                            <a:pt x="900" y="2266"/>
                          </a:lnTo>
                          <a:lnTo>
                            <a:pt x="904" y="2268"/>
                          </a:lnTo>
                          <a:lnTo>
                            <a:pt x="907" y="2270"/>
                          </a:lnTo>
                          <a:lnTo>
                            <a:pt x="913" y="2273"/>
                          </a:lnTo>
                          <a:lnTo>
                            <a:pt x="919" y="2275"/>
                          </a:lnTo>
                          <a:lnTo>
                            <a:pt x="925" y="2277"/>
                          </a:lnTo>
                          <a:lnTo>
                            <a:pt x="928" y="2279"/>
                          </a:lnTo>
                          <a:lnTo>
                            <a:pt x="934" y="2281"/>
                          </a:lnTo>
                          <a:lnTo>
                            <a:pt x="938" y="2283"/>
                          </a:lnTo>
                          <a:lnTo>
                            <a:pt x="942" y="2285"/>
                          </a:lnTo>
                          <a:lnTo>
                            <a:pt x="947" y="2287"/>
                          </a:lnTo>
                          <a:lnTo>
                            <a:pt x="951" y="2289"/>
                          </a:lnTo>
                          <a:lnTo>
                            <a:pt x="955" y="2289"/>
                          </a:lnTo>
                          <a:lnTo>
                            <a:pt x="961" y="2291"/>
                          </a:lnTo>
                          <a:lnTo>
                            <a:pt x="964" y="2291"/>
                          </a:lnTo>
                          <a:lnTo>
                            <a:pt x="968" y="2294"/>
                          </a:lnTo>
                          <a:lnTo>
                            <a:pt x="972" y="2294"/>
                          </a:lnTo>
                          <a:lnTo>
                            <a:pt x="978" y="2294"/>
                          </a:lnTo>
                          <a:lnTo>
                            <a:pt x="982" y="2296"/>
                          </a:lnTo>
                          <a:lnTo>
                            <a:pt x="985" y="2296"/>
                          </a:lnTo>
                          <a:lnTo>
                            <a:pt x="989" y="2296"/>
                          </a:lnTo>
                          <a:lnTo>
                            <a:pt x="993" y="2298"/>
                          </a:lnTo>
                          <a:lnTo>
                            <a:pt x="997" y="2298"/>
                          </a:lnTo>
                          <a:lnTo>
                            <a:pt x="1001" y="2298"/>
                          </a:lnTo>
                          <a:lnTo>
                            <a:pt x="1004" y="2298"/>
                          </a:lnTo>
                          <a:lnTo>
                            <a:pt x="1008" y="2300"/>
                          </a:lnTo>
                          <a:lnTo>
                            <a:pt x="1010" y="2300"/>
                          </a:lnTo>
                          <a:lnTo>
                            <a:pt x="1014" y="2300"/>
                          </a:lnTo>
                          <a:lnTo>
                            <a:pt x="1016" y="2300"/>
                          </a:lnTo>
                          <a:lnTo>
                            <a:pt x="1020" y="2300"/>
                          </a:lnTo>
                          <a:lnTo>
                            <a:pt x="1022" y="2300"/>
                          </a:lnTo>
                          <a:lnTo>
                            <a:pt x="1025" y="2302"/>
                          </a:lnTo>
                          <a:lnTo>
                            <a:pt x="1029" y="2300"/>
                          </a:lnTo>
                          <a:lnTo>
                            <a:pt x="1035" y="2300"/>
                          </a:lnTo>
                          <a:lnTo>
                            <a:pt x="1039" y="2298"/>
                          </a:lnTo>
                          <a:lnTo>
                            <a:pt x="1042" y="2298"/>
                          </a:lnTo>
                          <a:lnTo>
                            <a:pt x="1044" y="2296"/>
                          </a:lnTo>
                          <a:lnTo>
                            <a:pt x="1048" y="2296"/>
                          </a:lnTo>
                          <a:lnTo>
                            <a:pt x="1048" y="2294"/>
                          </a:lnTo>
                          <a:lnTo>
                            <a:pt x="1050" y="2294"/>
                          </a:lnTo>
                          <a:lnTo>
                            <a:pt x="1246" y="1334"/>
                          </a:lnTo>
                          <a:lnTo>
                            <a:pt x="1246" y="1333"/>
                          </a:lnTo>
                          <a:lnTo>
                            <a:pt x="1248" y="1331"/>
                          </a:lnTo>
                          <a:lnTo>
                            <a:pt x="1250" y="1327"/>
                          </a:lnTo>
                          <a:lnTo>
                            <a:pt x="1252" y="1325"/>
                          </a:lnTo>
                          <a:lnTo>
                            <a:pt x="1252" y="1323"/>
                          </a:lnTo>
                          <a:lnTo>
                            <a:pt x="1254" y="1319"/>
                          </a:lnTo>
                          <a:lnTo>
                            <a:pt x="1256" y="1315"/>
                          </a:lnTo>
                          <a:lnTo>
                            <a:pt x="1259" y="1312"/>
                          </a:lnTo>
                          <a:lnTo>
                            <a:pt x="1259" y="1306"/>
                          </a:lnTo>
                          <a:lnTo>
                            <a:pt x="1263" y="1302"/>
                          </a:lnTo>
                          <a:lnTo>
                            <a:pt x="1265" y="1296"/>
                          </a:lnTo>
                          <a:lnTo>
                            <a:pt x="1269" y="1293"/>
                          </a:lnTo>
                          <a:lnTo>
                            <a:pt x="1271" y="1285"/>
                          </a:lnTo>
                          <a:lnTo>
                            <a:pt x="1275" y="1281"/>
                          </a:lnTo>
                          <a:lnTo>
                            <a:pt x="1276" y="1274"/>
                          </a:lnTo>
                          <a:lnTo>
                            <a:pt x="1280" y="1266"/>
                          </a:lnTo>
                          <a:lnTo>
                            <a:pt x="1284" y="1258"/>
                          </a:lnTo>
                          <a:lnTo>
                            <a:pt x="1288" y="1249"/>
                          </a:lnTo>
                          <a:lnTo>
                            <a:pt x="1290" y="1241"/>
                          </a:lnTo>
                          <a:lnTo>
                            <a:pt x="1294" y="1234"/>
                          </a:lnTo>
                          <a:lnTo>
                            <a:pt x="1297" y="1224"/>
                          </a:lnTo>
                          <a:lnTo>
                            <a:pt x="1301" y="1217"/>
                          </a:lnTo>
                          <a:lnTo>
                            <a:pt x="1305" y="1207"/>
                          </a:lnTo>
                          <a:lnTo>
                            <a:pt x="1309" y="1198"/>
                          </a:lnTo>
                          <a:lnTo>
                            <a:pt x="1313" y="1188"/>
                          </a:lnTo>
                          <a:lnTo>
                            <a:pt x="1316" y="1177"/>
                          </a:lnTo>
                          <a:lnTo>
                            <a:pt x="1320" y="1165"/>
                          </a:lnTo>
                          <a:lnTo>
                            <a:pt x="1324" y="1154"/>
                          </a:lnTo>
                          <a:lnTo>
                            <a:pt x="1330" y="1144"/>
                          </a:lnTo>
                          <a:lnTo>
                            <a:pt x="1334" y="1133"/>
                          </a:lnTo>
                          <a:lnTo>
                            <a:pt x="1337" y="1122"/>
                          </a:lnTo>
                          <a:lnTo>
                            <a:pt x="1339" y="1108"/>
                          </a:lnTo>
                          <a:lnTo>
                            <a:pt x="1345" y="1097"/>
                          </a:lnTo>
                          <a:lnTo>
                            <a:pt x="1349" y="1084"/>
                          </a:lnTo>
                          <a:lnTo>
                            <a:pt x="1353" y="1070"/>
                          </a:lnTo>
                          <a:lnTo>
                            <a:pt x="1354" y="1059"/>
                          </a:lnTo>
                          <a:lnTo>
                            <a:pt x="1358" y="1044"/>
                          </a:lnTo>
                          <a:lnTo>
                            <a:pt x="1362" y="1032"/>
                          </a:lnTo>
                          <a:lnTo>
                            <a:pt x="1366" y="1017"/>
                          </a:lnTo>
                          <a:lnTo>
                            <a:pt x="1370" y="1004"/>
                          </a:lnTo>
                          <a:lnTo>
                            <a:pt x="1372" y="988"/>
                          </a:lnTo>
                          <a:lnTo>
                            <a:pt x="1375" y="975"/>
                          </a:lnTo>
                          <a:lnTo>
                            <a:pt x="1377" y="960"/>
                          </a:lnTo>
                          <a:lnTo>
                            <a:pt x="1381" y="947"/>
                          </a:lnTo>
                          <a:lnTo>
                            <a:pt x="1383" y="931"/>
                          </a:lnTo>
                          <a:lnTo>
                            <a:pt x="1387" y="916"/>
                          </a:lnTo>
                          <a:lnTo>
                            <a:pt x="1389" y="901"/>
                          </a:lnTo>
                          <a:lnTo>
                            <a:pt x="1391" y="886"/>
                          </a:lnTo>
                          <a:lnTo>
                            <a:pt x="1392" y="871"/>
                          </a:lnTo>
                          <a:lnTo>
                            <a:pt x="1394" y="855"/>
                          </a:lnTo>
                          <a:lnTo>
                            <a:pt x="1396" y="838"/>
                          </a:lnTo>
                          <a:lnTo>
                            <a:pt x="1398" y="823"/>
                          </a:lnTo>
                          <a:lnTo>
                            <a:pt x="1398" y="806"/>
                          </a:lnTo>
                          <a:lnTo>
                            <a:pt x="1400" y="791"/>
                          </a:lnTo>
                          <a:lnTo>
                            <a:pt x="1402" y="774"/>
                          </a:lnTo>
                          <a:lnTo>
                            <a:pt x="1402" y="757"/>
                          </a:lnTo>
                          <a:lnTo>
                            <a:pt x="1402" y="741"/>
                          </a:lnTo>
                          <a:lnTo>
                            <a:pt x="1402" y="724"/>
                          </a:lnTo>
                          <a:lnTo>
                            <a:pt x="1402" y="705"/>
                          </a:lnTo>
                          <a:lnTo>
                            <a:pt x="1402" y="690"/>
                          </a:lnTo>
                          <a:lnTo>
                            <a:pt x="1400" y="673"/>
                          </a:lnTo>
                          <a:lnTo>
                            <a:pt x="1400" y="656"/>
                          </a:lnTo>
                          <a:lnTo>
                            <a:pt x="1398" y="654"/>
                          </a:lnTo>
                          <a:lnTo>
                            <a:pt x="1398" y="652"/>
                          </a:lnTo>
                          <a:lnTo>
                            <a:pt x="1398" y="648"/>
                          </a:lnTo>
                          <a:lnTo>
                            <a:pt x="1398" y="644"/>
                          </a:lnTo>
                          <a:lnTo>
                            <a:pt x="1398" y="643"/>
                          </a:lnTo>
                          <a:lnTo>
                            <a:pt x="1398" y="639"/>
                          </a:lnTo>
                          <a:lnTo>
                            <a:pt x="1396" y="637"/>
                          </a:lnTo>
                          <a:lnTo>
                            <a:pt x="1396" y="633"/>
                          </a:lnTo>
                          <a:lnTo>
                            <a:pt x="1396" y="631"/>
                          </a:lnTo>
                          <a:lnTo>
                            <a:pt x="1396" y="627"/>
                          </a:lnTo>
                          <a:lnTo>
                            <a:pt x="1396" y="623"/>
                          </a:lnTo>
                          <a:lnTo>
                            <a:pt x="1394" y="620"/>
                          </a:lnTo>
                          <a:lnTo>
                            <a:pt x="1394" y="618"/>
                          </a:lnTo>
                          <a:lnTo>
                            <a:pt x="1394" y="616"/>
                          </a:lnTo>
                          <a:lnTo>
                            <a:pt x="1392" y="612"/>
                          </a:lnTo>
                          <a:lnTo>
                            <a:pt x="1392" y="610"/>
                          </a:lnTo>
                          <a:lnTo>
                            <a:pt x="1392" y="608"/>
                          </a:lnTo>
                          <a:lnTo>
                            <a:pt x="1391" y="604"/>
                          </a:lnTo>
                          <a:lnTo>
                            <a:pt x="1391" y="603"/>
                          </a:lnTo>
                          <a:lnTo>
                            <a:pt x="1391" y="599"/>
                          </a:lnTo>
                          <a:lnTo>
                            <a:pt x="1389" y="597"/>
                          </a:lnTo>
                          <a:lnTo>
                            <a:pt x="1389" y="593"/>
                          </a:lnTo>
                          <a:lnTo>
                            <a:pt x="1389" y="589"/>
                          </a:lnTo>
                          <a:lnTo>
                            <a:pt x="1389" y="587"/>
                          </a:lnTo>
                          <a:lnTo>
                            <a:pt x="1387" y="585"/>
                          </a:lnTo>
                          <a:lnTo>
                            <a:pt x="1385" y="582"/>
                          </a:lnTo>
                          <a:lnTo>
                            <a:pt x="1385" y="580"/>
                          </a:lnTo>
                          <a:lnTo>
                            <a:pt x="1383" y="578"/>
                          </a:lnTo>
                          <a:lnTo>
                            <a:pt x="1383" y="572"/>
                          </a:lnTo>
                          <a:lnTo>
                            <a:pt x="1381" y="568"/>
                          </a:lnTo>
                          <a:lnTo>
                            <a:pt x="1377" y="563"/>
                          </a:lnTo>
                          <a:lnTo>
                            <a:pt x="1375" y="557"/>
                          </a:lnTo>
                          <a:lnTo>
                            <a:pt x="1373" y="553"/>
                          </a:lnTo>
                          <a:lnTo>
                            <a:pt x="1370" y="547"/>
                          </a:lnTo>
                          <a:lnTo>
                            <a:pt x="1366" y="544"/>
                          </a:lnTo>
                          <a:lnTo>
                            <a:pt x="1364" y="540"/>
                          </a:lnTo>
                          <a:lnTo>
                            <a:pt x="1360" y="536"/>
                          </a:lnTo>
                          <a:lnTo>
                            <a:pt x="1356" y="532"/>
                          </a:lnTo>
                          <a:lnTo>
                            <a:pt x="1353" y="528"/>
                          </a:lnTo>
                          <a:lnTo>
                            <a:pt x="1349" y="525"/>
                          </a:lnTo>
                          <a:lnTo>
                            <a:pt x="1345" y="523"/>
                          </a:lnTo>
                          <a:lnTo>
                            <a:pt x="1339" y="521"/>
                          </a:lnTo>
                          <a:lnTo>
                            <a:pt x="1335" y="517"/>
                          </a:lnTo>
                          <a:lnTo>
                            <a:pt x="1332" y="515"/>
                          </a:lnTo>
                          <a:lnTo>
                            <a:pt x="1326" y="515"/>
                          </a:lnTo>
                          <a:lnTo>
                            <a:pt x="1322" y="513"/>
                          </a:lnTo>
                          <a:lnTo>
                            <a:pt x="1318" y="511"/>
                          </a:lnTo>
                          <a:lnTo>
                            <a:pt x="1316" y="511"/>
                          </a:lnTo>
                          <a:lnTo>
                            <a:pt x="1313" y="511"/>
                          </a:lnTo>
                          <a:lnTo>
                            <a:pt x="1311" y="511"/>
                          </a:lnTo>
                          <a:lnTo>
                            <a:pt x="1309" y="509"/>
                          </a:lnTo>
                          <a:lnTo>
                            <a:pt x="1305" y="509"/>
                          </a:lnTo>
                          <a:lnTo>
                            <a:pt x="1303" y="509"/>
                          </a:lnTo>
                          <a:lnTo>
                            <a:pt x="1301" y="509"/>
                          </a:lnTo>
                          <a:lnTo>
                            <a:pt x="1297" y="509"/>
                          </a:lnTo>
                          <a:lnTo>
                            <a:pt x="1295" y="509"/>
                          </a:lnTo>
                          <a:lnTo>
                            <a:pt x="1292" y="509"/>
                          </a:lnTo>
                          <a:lnTo>
                            <a:pt x="1290" y="509"/>
                          </a:lnTo>
                          <a:lnTo>
                            <a:pt x="1284" y="509"/>
                          </a:lnTo>
                          <a:lnTo>
                            <a:pt x="1280" y="509"/>
                          </a:lnTo>
                          <a:lnTo>
                            <a:pt x="1275" y="509"/>
                          </a:lnTo>
                          <a:lnTo>
                            <a:pt x="1269" y="509"/>
                          </a:lnTo>
                          <a:lnTo>
                            <a:pt x="1265" y="509"/>
                          </a:lnTo>
                          <a:lnTo>
                            <a:pt x="1259" y="509"/>
                          </a:lnTo>
                          <a:lnTo>
                            <a:pt x="1256" y="511"/>
                          </a:lnTo>
                          <a:lnTo>
                            <a:pt x="1252" y="511"/>
                          </a:lnTo>
                          <a:lnTo>
                            <a:pt x="1246" y="515"/>
                          </a:lnTo>
                          <a:lnTo>
                            <a:pt x="1242" y="515"/>
                          </a:lnTo>
                          <a:lnTo>
                            <a:pt x="1238" y="517"/>
                          </a:lnTo>
                          <a:lnTo>
                            <a:pt x="1235" y="521"/>
                          </a:lnTo>
                          <a:lnTo>
                            <a:pt x="1231" y="523"/>
                          </a:lnTo>
                          <a:lnTo>
                            <a:pt x="1229" y="525"/>
                          </a:lnTo>
                          <a:lnTo>
                            <a:pt x="1225" y="527"/>
                          </a:lnTo>
                          <a:lnTo>
                            <a:pt x="1221" y="530"/>
                          </a:lnTo>
                          <a:lnTo>
                            <a:pt x="1219" y="532"/>
                          </a:lnTo>
                          <a:lnTo>
                            <a:pt x="1216" y="538"/>
                          </a:lnTo>
                          <a:lnTo>
                            <a:pt x="1214" y="542"/>
                          </a:lnTo>
                          <a:lnTo>
                            <a:pt x="1212" y="546"/>
                          </a:lnTo>
                          <a:lnTo>
                            <a:pt x="1210" y="549"/>
                          </a:lnTo>
                          <a:lnTo>
                            <a:pt x="1208" y="555"/>
                          </a:lnTo>
                          <a:lnTo>
                            <a:pt x="1208" y="557"/>
                          </a:lnTo>
                          <a:lnTo>
                            <a:pt x="1206" y="559"/>
                          </a:lnTo>
                          <a:lnTo>
                            <a:pt x="1204" y="561"/>
                          </a:lnTo>
                          <a:lnTo>
                            <a:pt x="1204" y="565"/>
                          </a:lnTo>
                          <a:lnTo>
                            <a:pt x="1204" y="566"/>
                          </a:lnTo>
                          <a:lnTo>
                            <a:pt x="1204" y="570"/>
                          </a:lnTo>
                          <a:lnTo>
                            <a:pt x="1204" y="572"/>
                          </a:lnTo>
                          <a:lnTo>
                            <a:pt x="1204" y="576"/>
                          </a:lnTo>
                          <a:lnTo>
                            <a:pt x="1139" y="895"/>
                          </a:lnTo>
                          <a:lnTo>
                            <a:pt x="1136" y="893"/>
                          </a:lnTo>
                          <a:lnTo>
                            <a:pt x="1132" y="892"/>
                          </a:lnTo>
                          <a:lnTo>
                            <a:pt x="1126" y="888"/>
                          </a:lnTo>
                          <a:lnTo>
                            <a:pt x="1122" y="886"/>
                          </a:lnTo>
                          <a:lnTo>
                            <a:pt x="1117" y="884"/>
                          </a:lnTo>
                          <a:lnTo>
                            <a:pt x="1113" y="880"/>
                          </a:lnTo>
                          <a:lnTo>
                            <a:pt x="1107" y="878"/>
                          </a:lnTo>
                          <a:lnTo>
                            <a:pt x="1105" y="876"/>
                          </a:lnTo>
                          <a:lnTo>
                            <a:pt x="1227" y="316"/>
                          </a:lnTo>
                          <a:lnTo>
                            <a:pt x="1227" y="312"/>
                          </a:lnTo>
                          <a:lnTo>
                            <a:pt x="1227" y="308"/>
                          </a:lnTo>
                          <a:lnTo>
                            <a:pt x="1229" y="306"/>
                          </a:lnTo>
                          <a:lnTo>
                            <a:pt x="1229" y="304"/>
                          </a:lnTo>
                          <a:lnTo>
                            <a:pt x="1229" y="300"/>
                          </a:lnTo>
                          <a:lnTo>
                            <a:pt x="1229" y="298"/>
                          </a:lnTo>
                          <a:lnTo>
                            <a:pt x="1229" y="295"/>
                          </a:lnTo>
                          <a:lnTo>
                            <a:pt x="1229" y="293"/>
                          </a:lnTo>
                          <a:lnTo>
                            <a:pt x="1229" y="291"/>
                          </a:lnTo>
                          <a:lnTo>
                            <a:pt x="1229" y="287"/>
                          </a:lnTo>
                          <a:lnTo>
                            <a:pt x="1229" y="285"/>
                          </a:lnTo>
                          <a:lnTo>
                            <a:pt x="1229" y="283"/>
                          </a:lnTo>
                          <a:lnTo>
                            <a:pt x="1229" y="278"/>
                          </a:lnTo>
                          <a:lnTo>
                            <a:pt x="1227" y="272"/>
                          </a:lnTo>
                          <a:lnTo>
                            <a:pt x="1225" y="268"/>
                          </a:lnTo>
                          <a:lnTo>
                            <a:pt x="1225" y="262"/>
                          </a:lnTo>
                          <a:lnTo>
                            <a:pt x="1223" y="257"/>
                          </a:lnTo>
                          <a:lnTo>
                            <a:pt x="1221" y="253"/>
                          </a:lnTo>
                          <a:lnTo>
                            <a:pt x="1219" y="247"/>
                          </a:lnTo>
                          <a:lnTo>
                            <a:pt x="1217" y="243"/>
                          </a:lnTo>
                          <a:lnTo>
                            <a:pt x="1216" y="240"/>
                          </a:lnTo>
                          <a:lnTo>
                            <a:pt x="1214" y="236"/>
                          </a:lnTo>
                          <a:lnTo>
                            <a:pt x="1210" y="232"/>
                          </a:lnTo>
                          <a:lnTo>
                            <a:pt x="1206" y="226"/>
                          </a:lnTo>
                          <a:lnTo>
                            <a:pt x="1202" y="222"/>
                          </a:lnTo>
                          <a:lnTo>
                            <a:pt x="1200" y="219"/>
                          </a:lnTo>
                          <a:lnTo>
                            <a:pt x="1197" y="215"/>
                          </a:lnTo>
                          <a:lnTo>
                            <a:pt x="1193" y="211"/>
                          </a:lnTo>
                          <a:lnTo>
                            <a:pt x="1189" y="207"/>
                          </a:lnTo>
                          <a:lnTo>
                            <a:pt x="1185" y="205"/>
                          </a:lnTo>
                          <a:lnTo>
                            <a:pt x="1179" y="203"/>
                          </a:lnTo>
                          <a:lnTo>
                            <a:pt x="1176" y="200"/>
                          </a:lnTo>
                          <a:lnTo>
                            <a:pt x="1172" y="198"/>
                          </a:lnTo>
                          <a:lnTo>
                            <a:pt x="1166" y="194"/>
                          </a:lnTo>
                          <a:lnTo>
                            <a:pt x="1160" y="192"/>
                          </a:lnTo>
                          <a:lnTo>
                            <a:pt x="1157" y="192"/>
                          </a:lnTo>
                          <a:lnTo>
                            <a:pt x="1151" y="190"/>
                          </a:lnTo>
                          <a:lnTo>
                            <a:pt x="1147" y="190"/>
                          </a:lnTo>
                          <a:lnTo>
                            <a:pt x="1143" y="188"/>
                          </a:lnTo>
                          <a:lnTo>
                            <a:pt x="1141" y="186"/>
                          </a:lnTo>
                          <a:lnTo>
                            <a:pt x="1138" y="186"/>
                          </a:lnTo>
                          <a:lnTo>
                            <a:pt x="1136" y="186"/>
                          </a:lnTo>
                          <a:lnTo>
                            <a:pt x="1134" y="186"/>
                          </a:lnTo>
                          <a:lnTo>
                            <a:pt x="1130" y="186"/>
                          </a:lnTo>
                          <a:lnTo>
                            <a:pt x="1128" y="186"/>
                          </a:lnTo>
                          <a:lnTo>
                            <a:pt x="1124" y="186"/>
                          </a:lnTo>
                          <a:lnTo>
                            <a:pt x="1122" y="186"/>
                          </a:lnTo>
                          <a:lnTo>
                            <a:pt x="1120" y="186"/>
                          </a:lnTo>
                          <a:lnTo>
                            <a:pt x="1117" y="186"/>
                          </a:lnTo>
                          <a:lnTo>
                            <a:pt x="1115" y="186"/>
                          </a:lnTo>
                          <a:lnTo>
                            <a:pt x="1109" y="186"/>
                          </a:lnTo>
                          <a:lnTo>
                            <a:pt x="1105" y="188"/>
                          </a:lnTo>
                          <a:lnTo>
                            <a:pt x="1100" y="188"/>
                          </a:lnTo>
                          <a:lnTo>
                            <a:pt x="1094" y="190"/>
                          </a:lnTo>
                          <a:lnTo>
                            <a:pt x="1090" y="192"/>
                          </a:lnTo>
                          <a:lnTo>
                            <a:pt x="1086" y="192"/>
                          </a:lnTo>
                          <a:lnTo>
                            <a:pt x="1081" y="194"/>
                          </a:lnTo>
                          <a:lnTo>
                            <a:pt x="1077" y="198"/>
                          </a:lnTo>
                          <a:lnTo>
                            <a:pt x="1073" y="200"/>
                          </a:lnTo>
                          <a:lnTo>
                            <a:pt x="1067" y="203"/>
                          </a:lnTo>
                          <a:lnTo>
                            <a:pt x="1063" y="205"/>
                          </a:lnTo>
                          <a:lnTo>
                            <a:pt x="1058" y="207"/>
                          </a:lnTo>
                          <a:lnTo>
                            <a:pt x="1054" y="211"/>
                          </a:lnTo>
                          <a:lnTo>
                            <a:pt x="1050" y="215"/>
                          </a:lnTo>
                          <a:lnTo>
                            <a:pt x="1048" y="219"/>
                          </a:lnTo>
                          <a:lnTo>
                            <a:pt x="1044" y="222"/>
                          </a:lnTo>
                          <a:lnTo>
                            <a:pt x="1041" y="226"/>
                          </a:lnTo>
                          <a:lnTo>
                            <a:pt x="1039" y="232"/>
                          </a:lnTo>
                          <a:lnTo>
                            <a:pt x="1035" y="234"/>
                          </a:lnTo>
                          <a:lnTo>
                            <a:pt x="1033" y="240"/>
                          </a:lnTo>
                          <a:lnTo>
                            <a:pt x="1029" y="243"/>
                          </a:lnTo>
                          <a:lnTo>
                            <a:pt x="1027" y="249"/>
                          </a:lnTo>
                          <a:lnTo>
                            <a:pt x="1025" y="253"/>
                          </a:lnTo>
                          <a:lnTo>
                            <a:pt x="1023" y="259"/>
                          </a:lnTo>
                          <a:lnTo>
                            <a:pt x="1022" y="260"/>
                          </a:lnTo>
                          <a:lnTo>
                            <a:pt x="1022" y="264"/>
                          </a:lnTo>
                          <a:lnTo>
                            <a:pt x="1022" y="266"/>
                          </a:lnTo>
                          <a:lnTo>
                            <a:pt x="1022" y="270"/>
                          </a:lnTo>
                          <a:lnTo>
                            <a:pt x="919" y="730"/>
                          </a:lnTo>
                          <a:lnTo>
                            <a:pt x="915" y="728"/>
                          </a:lnTo>
                          <a:lnTo>
                            <a:pt x="913" y="726"/>
                          </a:lnTo>
                          <a:lnTo>
                            <a:pt x="907" y="724"/>
                          </a:lnTo>
                          <a:lnTo>
                            <a:pt x="905" y="720"/>
                          </a:lnTo>
                          <a:lnTo>
                            <a:pt x="904" y="719"/>
                          </a:lnTo>
                          <a:lnTo>
                            <a:pt x="900" y="717"/>
                          </a:lnTo>
                          <a:lnTo>
                            <a:pt x="896" y="713"/>
                          </a:lnTo>
                          <a:lnTo>
                            <a:pt x="892" y="713"/>
                          </a:lnTo>
                          <a:lnTo>
                            <a:pt x="1022" y="129"/>
                          </a:lnTo>
                          <a:lnTo>
                            <a:pt x="1022" y="125"/>
                          </a:lnTo>
                          <a:lnTo>
                            <a:pt x="1022" y="124"/>
                          </a:lnTo>
                          <a:lnTo>
                            <a:pt x="1022" y="120"/>
                          </a:lnTo>
                          <a:lnTo>
                            <a:pt x="1022" y="118"/>
                          </a:lnTo>
                          <a:lnTo>
                            <a:pt x="1022" y="114"/>
                          </a:lnTo>
                          <a:lnTo>
                            <a:pt x="1022" y="112"/>
                          </a:lnTo>
                          <a:lnTo>
                            <a:pt x="1022" y="110"/>
                          </a:lnTo>
                          <a:lnTo>
                            <a:pt x="1022" y="106"/>
                          </a:lnTo>
                          <a:lnTo>
                            <a:pt x="1022" y="105"/>
                          </a:lnTo>
                          <a:lnTo>
                            <a:pt x="1022" y="103"/>
                          </a:lnTo>
                          <a:lnTo>
                            <a:pt x="1022" y="99"/>
                          </a:lnTo>
                          <a:lnTo>
                            <a:pt x="1022" y="97"/>
                          </a:lnTo>
                          <a:lnTo>
                            <a:pt x="1022" y="91"/>
                          </a:lnTo>
                          <a:lnTo>
                            <a:pt x="1022" y="86"/>
                          </a:lnTo>
                          <a:lnTo>
                            <a:pt x="1020" y="82"/>
                          </a:lnTo>
                          <a:lnTo>
                            <a:pt x="1018" y="76"/>
                          </a:lnTo>
                          <a:lnTo>
                            <a:pt x="1016" y="70"/>
                          </a:lnTo>
                          <a:lnTo>
                            <a:pt x="1014" y="67"/>
                          </a:lnTo>
                          <a:lnTo>
                            <a:pt x="1012" y="61"/>
                          </a:lnTo>
                          <a:lnTo>
                            <a:pt x="1010" y="57"/>
                          </a:lnTo>
                          <a:lnTo>
                            <a:pt x="1008" y="53"/>
                          </a:lnTo>
                          <a:lnTo>
                            <a:pt x="1006" y="48"/>
                          </a:lnTo>
                          <a:lnTo>
                            <a:pt x="1004" y="44"/>
                          </a:lnTo>
                          <a:lnTo>
                            <a:pt x="1001" y="40"/>
                          </a:lnTo>
                          <a:lnTo>
                            <a:pt x="997" y="36"/>
                          </a:lnTo>
                          <a:lnTo>
                            <a:pt x="993" y="32"/>
                          </a:lnTo>
                          <a:lnTo>
                            <a:pt x="991" y="29"/>
                          </a:lnTo>
                          <a:lnTo>
                            <a:pt x="985" y="25"/>
                          </a:lnTo>
                          <a:lnTo>
                            <a:pt x="983" y="23"/>
                          </a:lnTo>
                          <a:lnTo>
                            <a:pt x="978" y="19"/>
                          </a:lnTo>
                          <a:lnTo>
                            <a:pt x="972" y="17"/>
                          </a:lnTo>
                          <a:lnTo>
                            <a:pt x="968" y="13"/>
                          </a:lnTo>
                          <a:lnTo>
                            <a:pt x="964" y="11"/>
                          </a:lnTo>
                          <a:lnTo>
                            <a:pt x="961" y="10"/>
                          </a:lnTo>
                          <a:lnTo>
                            <a:pt x="955" y="6"/>
                          </a:lnTo>
                          <a:lnTo>
                            <a:pt x="949" y="6"/>
                          </a:lnTo>
                          <a:lnTo>
                            <a:pt x="944" y="4"/>
                          </a:lnTo>
                          <a:lnTo>
                            <a:pt x="940" y="4"/>
                          </a:lnTo>
                          <a:lnTo>
                            <a:pt x="936" y="2"/>
                          </a:lnTo>
                          <a:lnTo>
                            <a:pt x="934" y="2"/>
                          </a:lnTo>
                          <a:lnTo>
                            <a:pt x="932" y="0"/>
                          </a:lnTo>
                          <a:lnTo>
                            <a:pt x="928" y="0"/>
                          </a:lnTo>
                          <a:lnTo>
                            <a:pt x="926" y="0"/>
                          </a:lnTo>
                          <a:lnTo>
                            <a:pt x="925" y="0"/>
                          </a:lnTo>
                          <a:lnTo>
                            <a:pt x="921" y="0"/>
                          </a:lnTo>
                          <a:lnTo>
                            <a:pt x="919" y="0"/>
                          </a:lnTo>
                          <a:lnTo>
                            <a:pt x="915" y="0"/>
                          </a:lnTo>
                          <a:lnTo>
                            <a:pt x="913" y="0"/>
                          </a:lnTo>
                          <a:lnTo>
                            <a:pt x="911" y="0"/>
                          </a:lnTo>
                          <a:lnTo>
                            <a:pt x="907" y="0"/>
                          </a:lnTo>
                          <a:lnTo>
                            <a:pt x="904" y="0"/>
                          </a:lnTo>
                          <a:lnTo>
                            <a:pt x="898" y="2"/>
                          </a:lnTo>
                          <a:lnTo>
                            <a:pt x="896" y="2"/>
                          </a:lnTo>
                          <a:lnTo>
                            <a:pt x="892" y="2"/>
                          </a:lnTo>
                          <a:lnTo>
                            <a:pt x="890" y="2"/>
                          </a:lnTo>
                          <a:lnTo>
                            <a:pt x="888" y="4"/>
                          </a:lnTo>
                          <a:lnTo>
                            <a:pt x="881" y="4"/>
                          </a:lnTo>
                          <a:lnTo>
                            <a:pt x="877" y="6"/>
                          </a:lnTo>
                          <a:lnTo>
                            <a:pt x="873" y="10"/>
                          </a:lnTo>
                          <a:lnTo>
                            <a:pt x="867" y="11"/>
                          </a:lnTo>
                          <a:lnTo>
                            <a:pt x="864" y="15"/>
                          </a:lnTo>
                          <a:lnTo>
                            <a:pt x="860" y="17"/>
                          </a:lnTo>
                          <a:lnTo>
                            <a:pt x="854" y="19"/>
                          </a:lnTo>
                          <a:lnTo>
                            <a:pt x="850" y="23"/>
                          </a:lnTo>
                          <a:lnTo>
                            <a:pt x="847" y="25"/>
                          </a:lnTo>
                          <a:lnTo>
                            <a:pt x="843" y="29"/>
                          </a:lnTo>
                          <a:lnTo>
                            <a:pt x="839" y="32"/>
                          </a:lnTo>
                          <a:lnTo>
                            <a:pt x="835" y="36"/>
                          </a:lnTo>
                          <a:lnTo>
                            <a:pt x="833" y="40"/>
                          </a:lnTo>
                          <a:lnTo>
                            <a:pt x="831" y="44"/>
                          </a:lnTo>
                          <a:lnTo>
                            <a:pt x="828" y="48"/>
                          </a:lnTo>
                          <a:lnTo>
                            <a:pt x="824" y="53"/>
                          </a:lnTo>
                          <a:lnTo>
                            <a:pt x="822" y="57"/>
                          </a:lnTo>
                          <a:lnTo>
                            <a:pt x="820" y="61"/>
                          </a:lnTo>
                          <a:lnTo>
                            <a:pt x="818" y="67"/>
                          </a:lnTo>
                          <a:lnTo>
                            <a:pt x="816" y="70"/>
                          </a:lnTo>
                          <a:lnTo>
                            <a:pt x="816" y="74"/>
                          </a:lnTo>
                          <a:lnTo>
                            <a:pt x="814" y="76"/>
                          </a:lnTo>
                          <a:lnTo>
                            <a:pt x="812" y="82"/>
                          </a:lnTo>
                          <a:lnTo>
                            <a:pt x="812" y="84"/>
                          </a:lnTo>
                          <a:lnTo>
                            <a:pt x="687" y="663"/>
                          </a:lnTo>
                          <a:lnTo>
                            <a:pt x="681" y="663"/>
                          </a:lnTo>
                          <a:lnTo>
                            <a:pt x="677" y="663"/>
                          </a:lnTo>
                          <a:lnTo>
                            <a:pt x="673" y="663"/>
                          </a:lnTo>
                          <a:lnTo>
                            <a:pt x="670" y="663"/>
                          </a:lnTo>
                          <a:lnTo>
                            <a:pt x="666" y="663"/>
                          </a:lnTo>
                          <a:lnTo>
                            <a:pt x="660" y="665"/>
                          </a:lnTo>
                          <a:lnTo>
                            <a:pt x="656" y="665"/>
                          </a:lnTo>
                          <a:lnTo>
                            <a:pt x="652" y="667"/>
                          </a:lnTo>
                          <a:lnTo>
                            <a:pt x="753" y="213"/>
                          </a:lnTo>
                          <a:lnTo>
                            <a:pt x="753" y="209"/>
                          </a:lnTo>
                          <a:lnTo>
                            <a:pt x="753" y="207"/>
                          </a:lnTo>
                          <a:lnTo>
                            <a:pt x="753" y="203"/>
                          </a:lnTo>
                          <a:lnTo>
                            <a:pt x="753" y="201"/>
                          </a:lnTo>
                          <a:lnTo>
                            <a:pt x="753" y="198"/>
                          </a:lnTo>
                          <a:lnTo>
                            <a:pt x="753" y="196"/>
                          </a:lnTo>
                          <a:lnTo>
                            <a:pt x="753" y="192"/>
                          </a:lnTo>
                          <a:lnTo>
                            <a:pt x="753" y="190"/>
                          </a:lnTo>
                          <a:lnTo>
                            <a:pt x="753" y="188"/>
                          </a:lnTo>
                          <a:lnTo>
                            <a:pt x="753" y="184"/>
                          </a:lnTo>
                          <a:lnTo>
                            <a:pt x="753" y="182"/>
                          </a:lnTo>
                          <a:lnTo>
                            <a:pt x="753" y="181"/>
                          </a:lnTo>
                          <a:lnTo>
                            <a:pt x="753" y="175"/>
                          </a:lnTo>
                          <a:lnTo>
                            <a:pt x="753" y="169"/>
                          </a:lnTo>
                          <a:lnTo>
                            <a:pt x="751" y="167"/>
                          </a:lnTo>
                          <a:lnTo>
                            <a:pt x="751" y="163"/>
                          </a:lnTo>
                          <a:lnTo>
                            <a:pt x="751" y="162"/>
                          </a:lnTo>
                          <a:lnTo>
                            <a:pt x="750" y="160"/>
                          </a:lnTo>
                          <a:lnTo>
                            <a:pt x="748" y="154"/>
                          </a:lnTo>
                          <a:lnTo>
                            <a:pt x="746" y="148"/>
                          </a:lnTo>
                          <a:lnTo>
                            <a:pt x="744" y="144"/>
                          </a:lnTo>
                          <a:lnTo>
                            <a:pt x="742" y="141"/>
                          </a:lnTo>
                          <a:lnTo>
                            <a:pt x="740" y="135"/>
                          </a:lnTo>
                          <a:lnTo>
                            <a:pt x="738" y="131"/>
                          </a:lnTo>
                          <a:lnTo>
                            <a:pt x="734" y="127"/>
                          </a:lnTo>
                          <a:lnTo>
                            <a:pt x="730" y="124"/>
                          </a:lnTo>
                          <a:lnTo>
                            <a:pt x="727" y="120"/>
                          </a:lnTo>
                          <a:lnTo>
                            <a:pt x="725" y="116"/>
                          </a:lnTo>
                          <a:lnTo>
                            <a:pt x="721" y="112"/>
                          </a:lnTo>
                          <a:lnTo>
                            <a:pt x="717" y="108"/>
                          </a:lnTo>
                          <a:lnTo>
                            <a:pt x="713" y="105"/>
                          </a:lnTo>
                          <a:lnTo>
                            <a:pt x="710" y="103"/>
                          </a:lnTo>
                          <a:lnTo>
                            <a:pt x="704" y="99"/>
                          </a:lnTo>
                          <a:lnTo>
                            <a:pt x="700" y="97"/>
                          </a:lnTo>
                          <a:lnTo>
                            <a:pt x="694" y="95"/>
                          </a:lnTo>
                          <a:lnTo>
                            <a:pt x="691" y="91"/>
                          </a:lnTo>
                          <a:lnTo>
                            <a:pt x="685" y="89"/>
                          </a:lnTo>
                          <a:lnTo>
                            <a:pt x="681" y="87"/>
                          </a:lnTo>
                          <a:lnTo>
                            <a:pt x="675" y="86"/>
                          </a:lnTo>
                          <a:lnTo>
                            <a:pt x="672" y="86"/>
                          </a:lnTo>
                          <a:lnTo>
                            <a:pt x="668" y="84"/>
                          </a:lnTo>
                          <a:lnTo>
                            <a:pt x="666" y="84"/>
                          </a:lnTo>
                          <a:lnTo>
                            <a:pt x="664" y="84"/>
                          </a:lnTo>
                          <a:lnTo>
                            <a:pt x="660" y="84"/>
                          </a:lnTo>
                          <a:lnTo>
                            <a:pt x="658" y="84"/>
                          </a:lnTo>
                          <a:lnTo>
                            <a:pt x="654" y="84"/>
                          </a:lnTo>
                          <a:lnTo>
                            <a:pt x="652" y="84"/>
                          </a:lnTo>
                          <a:lnTo>
                            <a:pt x="651" y="84"/>
                          </a:lnTo>
                          <a:lnTo>
                            <a:pt x="647" y="84"/>
                          </a:lnTo>
                          <a:lnTo>
                            <a:pt x="645" y="84"/>
                          </a:lnTo>
                          <a:lnTo>
                            <a:pt x="643" y="84"/>
                          </a:lnTo>
                          <a:lnTo>
                            <a:pt x="639" y="84"/>
                          </a:lnTo>
                          <a:lnTo>
                            <a:pt x="635" y="84"/>
                          </a:lnTo>
                          <a:lnTo>
                            <a:pt x="630" y="84"/>
                          </a:lnTo>
                          <a:lnTo>
                            <a:pt x="628" y="84"/>
                          </a:lnTo>
                          <a:lnTo>
                            <a:pt x="624" y="86"/>
                          </a:lnTo>
                          <a:lnTo>
                            <a:pt x="622" y="86"/>
                          </a:lnTo>
                          <a:lnTo>
                            <a:pt x="618" y="86"/>
                          </a:lnTo>
                          <a:lnTo>
                            <a:pt x="614" y="87"/>
                          </a:lnTo>
                          <a:lnTo>
                            <a:pt x="609" y="89"/>
                          </a:lnTo>
                          <a:lnTo>
                            <a:pt x="603" y="91"/>
                          </a:lnTo>
                          <a:lnTo>
                            <a:pt x="599" y="95"/>
                          </a:lnTo>
                          <a:lnTo>
                            <a:pt x="595" y="97"/>
                          </a:lnTo>
                          <a:lnTo>
                            <a:pt x="592" y="99"/>
                          </a:lnTo>
                          <a:lnTo>
                            <a:pt x="586" y="103"/>
                          </a:lnTo>
                          <a:lnTo>
                            <a:pt x="582" y="105"/>
                          </a:lnTo>
                          <a:lnTo>
                            <a:pt x="578" y="108"/>
                          </a:lnTo>
                          <a:lnTo>
                            <a:pt x="574" y="112"/>
                          </a:lnTo>
                          <a:lnTo>
                            <a:pt x="571" y="116"/>
                          </a:lnTo>
                          <a:lnTo>
                            <a:pt x="567" y="120"/>
                          </a:lnTo>
                          <a:lnTo>
                            <a:pt x="565" y="124"/>
                          </a:lnTo>
                          <a:lnTo>
                            <a:pt x="563" y="127"/>
                          </a:lnTo>
                          <a:lnTo>
                            <a:pt x="559" y="131"/>
                          </a:lnTo>
                          <a:lnTo>
                            <a:pt x="555" y="135"/>
                          </a:lnTo>
                          <a:lnTo>
                            <a:pt x="554" y="141"/>
                          </a:lnTo>
                          <a:lnTo>
                            <a:pt x="552" y="146"/>
                          </a:lnTo>
                          <a:lnTo>
                            <a:pt x="550" y="150"/>
                          </a:lnTo>
                          <a:lnTo>
                            <a:pt x="548" y="156"/>
                          </a:lnTo>
                          <a:lnTo>
                            <a:pt x="546" y="158"/>
                          </a:lnTo>
                          <a:lnTo>
                            <a:pt x="546" y="160"/>
                          </a:lnTo>
                          <a:lnTo>
                            <a:pt x="544" y="163"/>
                          </a:lnTo>
                          <a:lnTo>
                            <a:pt x="544" y="167"/>
                          </a:lnTo>
                          <a:lnTo>
                            <a:pt x="361" y="1127"/>
                          </a:lnTo>
                          <a:lnTo>
                            <a:pt x="361" y="1127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97" name="AutoShape 172"/>
                  <p:cNvSpPr/>
                  <p:nvPr/>
                </p:nvSpPr>
                <p:spPr>
                  <a:xfrm rot="10690800">
                    <a:off x="3865320" y="2389320"/>
                    <a:ext cx="88560" cy="75960"/>
                  </a:xfrm>
                  <a:prstGeom prst="hexagon">
                    <a:avLst>
                      <a:gd name="adj" fmla="val 29147"/>
                      <a:gd name="vf" fmla="val 115470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8" name="Group 173"/>
                <p:cNvGrpSpPr/>
                <p:nvPr/>
              </p:nvGrpSpPr>
              <p:grpSpPr>
                <a:xfrm>
                  <a:off x="3933720" y="1553040"/>
                  <a:ext cx="286920" cy="2366280"/>
                  <a:chOff x="3933720" y="1553040"/>
                  <a:chExt cx="286920" cy="2366280"/>
                </a:xfrm>
              </p:grpSpPr>
              <p:grpSp>
                <p:nvGrpSpPr>
                  <p:cNvPr id="3499" name="Group 174"/>
                  <p:cNvGrpSpPr/>
                  <p:nvPr/>
                </p:nvGrpSpPr>
                <p:grpSpPr>
                  <a:xfrm>
                    <a:off x="3933720" y="1553040"/>
                    <a:ext cx="278640" cy="1244880"/>
                    <a:chOff x="3933720" y="1553040"/>
                    <a:chExt cx="278640" cy="1244880"/>
                  </a:xfrm>
                </p:grpSpPr>
                <p:grpSp>
                  <p:nvGrpSpPr>
                    <p:cNvPr id="3500" name="Group 175"/>
                    <p:cNvGrpSpPr/>
                    <p:nvPr/>
                  </p:nvGrpSpPr>
                  <p:grpSpPr>
                    <a:xfrm>
                      <a:off x="3971160" y="2187360"/>
                      <a:ext cx="241200" cy="610560"/>
                      <a:chOff x="3971160" y="2187360"/>
                      <a:chExt cx="241200" cy="610560"/>
                    </a:xfrm>
                  </p:grpSpPr>
                  <p:sp>
                    <p:nvSpPr>
                      <p:cNvPr id="3501" name="AutoShape 176"/>
                      <p:cNvSpPr/>
                      <p:nvPr/>
                    </p:nvSpPr>
                    <p:spPr>
                      <a:xfrm rot="10707000">
                        <a:off x="3998160" y="2189520"/>
                        <a:ext cx="179640" cy="49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1556" y="21600"/>
                            </a:lnTo>
                            <a:lnTo>
                              <a:pt x="20044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02" name="AutoShape 177"/>
                      <p:cNvSpPr/>
                      <p:nvPr/>
                    </p:nvSpPr>
                    <p:spPr>
                      <a:xfrm rot="16285200">
                        <a:off x="3995640" y="2580840"/>
                        <a:ext cx="191520" cy="23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934" y="2201"/>
                              <a:pt x="12267" y="5080"/>
                              <a:pt x="12267" y="10800"/>
                            </a:cubicBezTo>
                            <a:cubicBezTo>
                              <a:pt x="12267" y="16520"/>
                              <a:pt x="16934" y="19399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503" name="Group 178"/>
                    <p:cNvGrpSpPr/>
                    <p:nvPr/>
                  </p:nvGrpSpPr>
                  <p:grpSpPr>
                    <a:xfrm>
                      <a:off x="3933720" y="1553040"/>
                      <a:ext cx="253800" cy="747360"/>
                      <a:chOff x="3933720" y="1553040"/>
                      <a:chExt cx="253800" cy="747360"/>
                    </a:xfrm>
                  </p:grpSpPr>
                  <p:sp>
                    <p:nvSpPr>
                      <p:cNvPr id="3504" name="AutoShape 179"/>
                      <p:cNvSpPr/>
                      <p:nvPr/>
                    </p:nvSpPr>
                    <p:spPr>
                      <a:xfrm rot="10722000">
                        <a:off x="3987000" y="1807200"/>
                        <a:ext cx="180360" cy="360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4308" y="21600"/>
                            </a:lnTo>
                            <a:lnTo>
                              <a:pt x="17292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05" name="Oval 180"/>
                      <p:cNvSpPr/>
                      <p:nvPr/>
                    </p:nvSpPr>
                    <p:spPr>
                      <a:xfrm rot="11260800">
                        <a:off x="3988080" y="2098080"/>
                        <a:ext cx="187200" cy="190440"/>
                      </a:xfrm>
                      <a:prstGeom prst="ellipse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06" name="Freeform 181"/>
                      <p:cNvSpPr/>
                      <p:nvPr/>
                    </p:nvSpPr>
                    <p:spPr>
                      <a:xfrm rot="20755800">
                        <a:off x="3965760" y="1569960"/>
                        <a:ext cx="175680" cy="28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02" h="2302">
                            <a:moveTo>
                              <a:pt x="361" y="1127"/>
                            </a:moveTo>
                            <a:lnTo>
                              <a:pt x="280" y="1116"/>
                            </a:lnTo>
                            <a:lnTo>
                              <a:pt x="373" y="711"/>
                            </a:lnTo>
                            <a:lnTo>
                              <a:pt x="373" y="709"/>
                            </a:lnTo>
                            <a:lnTo>
                              <a:pt x="375" y="705"/>
                            </a:lnTo>
                            <a:lnTo>
                              <a:pt x="375" y="703"/>
                            </a:lnTo>
                            <a:lnTo>
                              <a:pt x="375" y="700"/>
                            </a:lnTo>
                            <a:lnTo>
                              <a:pt x="375" y="698"/>
                            </a:lnTo>
                            <a:lnTo>
                              <a:pt x="375" y="696"/>
                            </a:lnTo>
                            <a:lnTo>
                              <a:pt x="375" y="692"/>
                            </a:lnTo>
                            <a:lnTo>
                              <a:pt x="375" y="690"/>
                            </a:lnTo>
                            <a:lnTo>
                              <a:pt x="375" y="684"/>
                            </a:lnTo>
                            <a:lnTo>
                              <a:pt x="375" y="681"/>
                            </a:lnTo>
                            <a:lnTo>
                              <a:pt x="375" y="675"/>
                            </a:lnTo>
                            <a:lnTo>
                              <a:pt x="375" y="669"/>
                            </a:lnTo>
                            <a:lnTo>
                              <a:pt x="371" y="665"/>
                            </a:lnTo>
                            <a:lnTo>
                              <a:pt x="371" y="660"/>
                            </a:lnTo>
                            <a:lnTo>
                              <a:pt x="369" y="654"/>
                            </a:lnTo>
                            <a:lnTo>
                              <a:pt x="367" y="652"/>
                            </a:lnTo>
                            <a:lnTo>
                              <a:pt x="365" y="646"/>
                            </a:lnTo>
                            <a:lnTo>
                              <a:pt x="363" y="641"/>
                            </a:lnTo>
                            <a:lnTo>
                              <a:pt x="361" y="637"/>
                            </a:lnTo>
                            <a:lnTo>
                              <a:pt x="358" y="633"/>
                            </a:lnTo>
                            <a:lnTo>
                              <a:pt x="356" y="629"/>
                            </a:lnTo>
                            <a:lnTo>
                              <a:pt x="354" y="623"/>
                            </a:lnTo>
                            <a:lnTo>
                              <a:pt x="350" y="620"/>
                            </a:lnTo>
                            <a:lnTo>
                              <a:pt x="346" y="616"/>
                            </a:lnTo>
                            <a:lnTo>
                              <a:pt x="342" y="612"/>
                            </a:lnTo>
                            <a:lnTo>
                              <a:pt x="339" y="610"/>
                            </a:lnTo>
                            <a:lnTo>
                              <a:pt x="335" y="606"/>
                            </a:lnTo>
                            <a:lnTo>
                              <a:pt x="331" y="603"/>
                            </a:lnTo>
                            <a:lnTo>
                              <a:pt x="325" y="601"/>
                            </a:lnTo>
                            <a:lnTo>
                              <a:pt x="321" y="597"/>
                            </a:lnTo>
                            <a:lnTo>
                              <a:pt x="318" y="595"/>
                            </a:lnTo>
                            <a:lnTo>
                              <a:pt x="312" y="593"/>
                            </a:lnTo>
                            <a:lnTo>
                              <a:pt x="306" y="591"/>
                            </a:lnTo>
                            <a:lnTo>
                              <a:pt x="302" y="589"/>
                            </a:lnTo>
                            <a:lnTo>
                              <a:pt x="299" y="589"/>
                            </a:lnTo>
                            <a:lnTo>
                              <a:pt x="295" y="587"/>
                            </a:lnTo>
                            <a:lnTo>
                              <a:pt x="291" y="587"/>
                            </a:lnTo>
                            <a:lnTo>
                              <a:pt x="287" y="585"/>
                            </a:lnTo>
                            <a:lnTo>
                              <a:pt x="285" y="585"/>
                            </a:lnTo>
                            <a:lnTo>
                              <a:pt x="283" y="585"/>
                            </a:lnTo>
                            <a:lnTo>
                              <a:pt x="280" y="585"/>
                            </a:lnTo>
                            <a:lnTo>
                              <a:pt x="276" y="585"/>
                            </a:lnTo>
                            <a:lnTo>
                              <a:pt x="274" y="585"/>
                            </a:lnTo>
                            <a:lnTo>
                              <a:pt x="272" y="585"/>
                            </a:lnTo>
                            <a:lnTo>
                              <a:pt x="268" y="585"/>
                            </a:lnTo>
                            <a:lnTo>
                              <a:pt x="266" y="585"/>
                            </a:lnTo>
                            <a:lnTo>
                              <a:pt x="263" y="585"/>
                            </a:lnTo>
                            <a:lnTo>
                              <a:pt x="261" y="587"/>
                            </a:lnTo>
                            <a:lnTo>
                              <a:pt x="259" y="587"/>
                            </a:lnTo>
                            <a:lnTo>
                              <a:pt x="255" y="587"/>
                            </a:lnTo>
                            <a:lnTo>
                              <a:pt x="253" y="589"/>
                            </a:lnTo>
                            <a:lnTo>
                              <a:pt x="249" y="589"/>
                            </a:lnTo>
                            <a:lnTo>
                              <a:pt x="247" y="589"/>
                            </a:lnTo>
                            <a:lnTo>
                              <a:pt x="243" y="591"/>
                            </a:lnTo>
                            <a:lnTo>
                              <a:pt x="240" y="591"/>
                            </a:lnTo>
                            <a:lnTo>
                              <a:pt x="238" y="593"/>
                            </a:lnTo>
                            <a:lnTo>
                              <a:pt x="236" y="595"/>
                            </a:lnTo>
                            <a:lnTo>
                              <a:pt x="232" y="595"/>
                            </a:lnTo>
                            <a:lnTo>
                              <a:pt x="230" y="597"/>
                            </a:lnTo>
                            <a:lnTo>
                              <a:pt x="228" y="599"/>
                            </a:lnTo>
                            <a:lnTo>
                              <a:pt x="224" y="601"/>
                            </a:lnTo>
                            <a:lnTo>
                              <a:pt x="223" y="601"/>
                            </a:lnTo>
                            <a:lnTo>
                              <a:pt x="219" y="603"/>
                            </a:lnTo>
                            <a:lnTo>
                              <a:pt x="217" y="604"/>
                            </a:lnTo>
                            <a:lnTo>
                              <a:pt x="211" y="608"/>
                            </a:lnTo>
                            <a:lnTo>
                              <a:pt x="207" y="612"/>
                            </a:lnTo>
                            <a:lnTo>
                              <a:pt x="204" y="616"/>
                            </a:lnTo>
                            <a:lnTo>
                              <a:pt x="198" y="618"/>
                            </a:lnTo>
                            <a:lnTo>
                              <a:pt x="194" y="623"/>
                            </a:lnTo>
                            <a:lnTo>
                              <a:pt x="188" y="627"/>
                            </a:lnTo>
                            <a:lnTo>
                              <a:pt x="185" y="633"/>
                            </a:lnTo>
                            <a:lnTo>
                              <a:pt x="181" y="637"/>
                            </a:lnTo>
                            <a:lnTo>
                              <a:pt x="177" y="641"/>
                            </a:lnTo>
                            <a:lnTo>
                              <a:pt x="173" y="646"/>
                            </a:lnTo>
                            <a:lnTo>
                              <a:pt x="169" y="652"/>
                            </a:lnTo>
                            <a:lnTo>
                              <a:pt x="166" y="656"/>
                            </a:lnTo>
                            <a:lnTo>
                              <a:pt x="162" y="662"/>
                            </a:lnTo>
                            <a:lnTo>
                              <a:pt x="160" y="665"/>
                            </a:lnTo>
                            <a:lnTo>
                              <a:pt x="158" y="669"/>
                            </a:lnTo>
                            <a:lnTo>
                              <a:pt x="158" y="671"/>
                            </a:lnTo>
                            <a:lnTo>
                              <a:pt x="156" y="673"/>
                            </a:lnTo>
                            <a:lnTo>
                              <a:pt x="154" y="677"/>
                            </a:lnTo>
                            <a:lnTo>
                              <a:pt x="152" y="679"/>
                            </a:lnTo>
                            <a:lnTo>
                              <a:pt x="152" y="681"/>
                            </a:lnTo>
                            <a:lnTo>
                              <a:pt x="150" y="684"/>
                            </a:lnTo>
                            <a:lnTo>
                              <a:pt x="150" y="688"/>
                            </a:lnTo>
                            <a:lnTo>
                              <a:pt x="146" y="694"/>
                            </a:lnTo>
                            <a:lnTo>
                              <a:pt x="145" y="701"/>
                            </a:lnTo>
                            <a:lnTo>
                              <a:pt x="143" y="709"/>
                            </a:lnTo>
                            <a:lnTo>
                              <a:pt x="139" y="717"/>
                            </a:lnTo>
                            <a:lnTo>
                              <a:pt x="137" y="724"/>
                            </a:lnTo>
                            <a:lnTo>
                              <a:pt x="135" y="732"/>
                            </a:lnTo>
                            <a:lnTo>
                              <a:pt x="131" y="739"/>
                            </a:lnTo>
                            <a:lnTo>
                              <a:pt x="129" y="747"/>
                            </a:lnTo>
                            <a:lnTo>
                              <a:pt x="126" y="755"/>
                            </a:lnTo>
                            <a:lnTo>
                              <a:pt x="124" y="760"/>
                            </a:lnTo>
                            <a:lnTo>
                              <a:pt x="122" y="768"/>
                            </a:lnTo>
                            <a:lnTo>
                              <a:pt x="120" y="776"/>
                            </a:lnTo>
                            <a:lnTo>
                              <a:pt x="116" y="781"/>
                            </a:lnTo>
                            <a:lnTo>
                              <a:pt x="114" y="789"/>
                            </a:lnTo>
                            <a:lnTo>
                              <a:pt x="112" y="796"/>
                            </a:lnTo>
                            <a:lnTo>
                              <a:pt x="110" y="804"/>
                            </a:lnTo>
                            <a:lnTo>
                              <a:pt x="107" y="812"/>
                            </a:lnTo>
                            <a:lnTo>
                              <a:pt x="107" y="817"/>
                            </a:lnTo>
                            <a:lnTo>
                              <a:pt x="103" y="823"/>
                            </a:lnTo>
                            <a:lnTo>
                              <a:pt x="101" y="831"/>
                            </a:lnTo>
                            <a:lnTo>
                              <a:pt x="97" y="836"/>
                            </a:lnTo>
                            <a:lnTo>
                              <a:pt x="97" y="844"/>
                            </a:lnTo>
                            <a:lnTo>
                              <a:pt x="93" y="852"/>
                            </a:lnTo>
                            <a:lnTo>
                              <a:pt x="93" y="857"/>
                            </a:lnTo>
                            <a:lnTo>
                              <a:pt x="89" y="865"/>
                            </a:lnTo>
                            <a:lnTo>
                              <a:pt x="88" y="871"/>
                            </a:lnTo>
                            <a:lnTo>
                              <a:pt x="86" y="878"/>
                            </a:lnTo>
                            <a:lnTo>
                              <a:pt x="84" y="884"/>
                            </a:lnTo>
                            <a:lnTo>
                              <a:pt x="82" y="892"/>
                            </a:lnTo>
                            <a:lnTo>
                              <a:pt x="80" y="899"/>
                            </a:lnTo>
                            <a:lnTo>
                              <a:pt x="78" y="907"/>
                            </a:lnTo>
                            <a:lnTo>
                              <a:pt x="74" y="912"/>
                            </a:lnTo>
                            <a:lnTo>
                              <a:pt x="72" y="920"/>
                            </a:lnTo>
                            <a:lnTo>
                              <a:pt x="72" y="926"/>
                            </a:lnTo>
                            <a:lnTo>
                              <a:pt x="68" y="931"/>
                            </a:lnTo>
                            <a:lnTo>
                              <a:pt x="67" y="939"/>
                            </a:lnTo>
                            <a:lnTo>
                              <a:pt x="65" y="945"/>
                            </a:lnTo>
                            <a:lnTo>
                              <a:pt x="63" y="952"/>
                            </a:lnTo>
                            <a:lnTo>
                              <a:pt x="59" y="958"/>
                            </a:lnTo>
                            <a:lnTo>
                              <a:pt x="57" y="966"/>
                            </a:lnTo>
                            <a:lnTo>
                              <a:pt x="55" y="971"/>
                            </a:lnTo>
                            <a:lnTo>
                              <a:pt x="53" y="979"/>
                            </a:lnTo>
                            <a:lnTo>
                              <a:pt x="51" y="987"/>
                            </a:lnTo>
                            <a:lnTo>
                              <a:pt x="49" y="994"/>
                            </a:lnTo>
                            <a:lnTo>
                              <a:pt x="48" y="1000"/>
                            </a:lnTo>
                            <a:lnTo>
                              <a:pt x="46" y="1007"/>
                            </a:lnTo>
                            <a:lnTo>
                              <a:pt x="44" y="1015"/>
                            </a:lnTo>
                            <a:lnTo>
                              <a:pt x="42" y="1021"/>
                            </a:lnTo>
                            <a:lnTo>
                              <a:pt x="42" y="1028"/>
                            </a:lnTo>
                            <a:lnTo>
                              <a:pt x="38" y="1036"/>
                            </a:lnTo>
                            <a:lnTo>
                              <a:pt x="36" y="1042"/>
                            </a:lnTo>
                            <a:lnTo>
                              <a:pt x="36" y="1049"/>
                            </a:lnTo>
                            <a:lnTo>
                              <a:pt x="34" y="1057"/>
                            </a:lnTo>
                            <a:lnTo>
                              <a:pt x="30" y="1063"/>
                            </a:lnTo>
                            <a:lnTo>
                              <a:pt x="30" y="1070"/>
                            </a:lnTo>
                            <a:lnTo>
                              <a:pt x="29" y="1078"/>
                            </a:lnTo>
                            <a:lnTo>
                              <a:pt x="27" y="1085"/>
                            </a:lnTo>
                            <a:lnTo>
                              <a:pt x="25" y="1093"/>
                            </a:lnTo>
                            <a:lnTo>
                              <a:pt x="23" y="1101"/>
                            </a:lnTo>
                            <a:lnTo>
                              <a:pt x="21" y="1108"/>
                            </a:lnTo>
                            <a:lnTo>
                              <a:pt x="19" y="1116"/>
                            </a:lnTo>
                            <a:lnTo>
                              <a:pt x="17" y="1123"/>
                            </a:lnTo>
                            <a:lnTo>
                              <a:pt x="17" y="1131"/>
                            </a:lnTo>
                            <a:lnTo>
                              <a:pt x="15" y="1139"/>
                            </a:lnTo>
                            <a:lnTo>
                              <a:pt x="13" y="1148"/>
                            </a:lnTo>
                            <a:lnTo>
                              <a:pt x="10" y="1158"/>
                            </a:lnTo>
                            <a:lnTo>
                              <a:pt x="10" y="1165"/>
                            </a:lnTo>
                            <a:lnTo>
                              <a:pt x="8" y="1175"/>
                            </a:lnTo>
                            <a:lnTo>
                              <a:pt x="6" y="1182"/>
                            </a:lnTo>
                            <a:lnTo>
                              <a:pt x="6" y="1192"/>
                            </a:lnTo>
                            <a:lnTo>
                              <a:pt x="4" y="1201"/>
                            </a:lnTo>
                            <a:lnTo>
                              <a:pt x="2" y="1211"/>
                            </a:lnTo>
                            <a:lnTo>
                              <a:pt x="2" y="1218"/>
                            </a:lnTo>
                            <a:lnTo>
                              <a:pt x="0" y="1230"/>
                            </a:lnTo>
                            <a:lnTo>
                              <a:pt x="0" y="1237"/>
                            </a:lnTo>
                            <a:lnTo>
                              <a:pt x="0" y="1247"/>
                            </a:lnTo>
                            <a:lnTo>
                              <a:pt x="0" y="1257"/>
                            </a:lnTo>
                            <a:lnTo>
                              <a:pt x="0" y="1268"/>
                            </a:lnTo>
                            <a:lnTo>
                              <a:pt x="0" y="1276"/>
                            </a:lnTo>
                            <a:lnTo>
                              <a:pt x="0" y="1285"/>
                            </a:lnTo>
                            <a:lnTo>
                              <a:pt x="0" y="1296"/>
                            </a:lnTo>
                            <a:lnTo>
                              <a:pt x="0" y="1304"/>
                            </a:lnTo>
                            <a:lnTo>
                              <a:pt x="0" y="1314"/>
                            </a:lnTo>
                            <a:lnTo>
                              <a:pt x="0" y="1323"/>
                            </a:lnTo>
                            <a:lnTo>
                              <a:pt x="0" y="1333"/>
                            </a:lnTo>
                            <a:lnTo>
                              <a:pt x="2" y="1342"/>
                            </a:lnTo>
                            <a:lnTo>
                              <a:pt x="2" y="1352"/>
                            </a:lnTo>
                            <a:lnTo>
                              <a:pt x="4" y="1363"/>
                            </a:lnTo>
                            <a:lnTo>
                              <a:pt x="4" y="1371"/>
                            </a:lnTo>
                            <a:lnTo>
                              <a:pt x="6" y="1382"/>
                            </a:lnTo>
                            <a:lnTo>
                              <a:pt x="8" y="1390"/>
                            </a:lnTo>
                            <a:lnTo>
                              <a:pt x="8" y="1401"/>
                            </a:lnTo>
                            <a:lnTo>
                              <a:pt x="10" y="1409"/>
                            </a:lnTo>
                            <a:lnTo>
                              <a:pt x="11" y="1420"/>
                            </a:lnTo>
                            <a:lnTo>
                              <a:pt x="13" y="1429"/>
                            </a:lnTo>
                            <a:lnTo>
                              <a:pt x="15" y="1439"/>
                            </a:lnTo>
                            <a:lnTo>
                              <a:pt x="17" y="1448"/>
                            </a:lnTo>
                            <a:lnTo>
                              <a:pt x="19" y="1458"/>
                            </a:lnTo>
                            <a:lnTo>
                              <a:pt x="21" y="1468"/>
                            </a:lnTo>
                            <a:lnTo>
                              <a:pt x="23" y="1477"/>
                            </a:lnTo>
                            <a:lnTo>
                              <a:pt x="27" y="1487"/>
                            </a:lnTo>
                            <a:lnTo>
                              <a:pt x="29" y="1496"/>
                            </a:lnTo>
                            <a:lnTo>
                              <a:pt x="30" y="1506"/>
                            </a:lnTo>
                            <a:lnTo>
                              <a:pt x="34" y="1515"/>
                            </a:lnTo>
                            <a:lnTo>
                              <a:pt x="36" y="1525"/>
                            </a:lnTo>
                            <a:lnTo>
                              <a:pt x="38" y="1534"/>
                            </a:lnTo>
                            <a:lnTo>
                              <a:pt x="42" y="1544"/>
                            </a:lnTo>
                            <a:lnTo>
                              <a:pt x="46" y="1553"/>
                            </a:lnTo>
                            <a:lnTo>
                              <a:pt x="48" y="1561"/>
                            </a:lnTo>
                            <a:lnTo>
                              <a:pt x="51" y="1572"/>
                            </a:lnTo>
                            <a:lnTo>
                              <a:pt x="55" y="1580"/>
                            </a:lnTo>
                            <a:lnTo>
                              <a:pt x="59" y="1589"/>
                            </a:lnTo>
                            <a:lnTo>
                              <a:pt x="63" y="1599"/>
                            </a:lnTo>
                            <a:lnTo>
                              <a:pt x="67" y="1608"/>
                            </a:lnTo>
                            <a:lnTo>
                              <a:pt x="68" y="1616"/>
                            </a:lnTo>
                            <a:lnTo>
                              <a:pt x="74" y="1627"/>
                            </a:lnTo>
                            <a:lnTo>
                              <a:pt x="78" y="1635"/>
                            </a:lnTo>
                            <a:lnTo>
                              <a:pt x="82" y="1644"/>
                            </a:lnTo>
                            <a:lnTo>
                              <a:pt x="86" y="1652"/>
                            </a:lnTo>
                            <a:lnTo>
                              <a:pt x="89" y="1661"/>
                            </a:lnTo>
                            <a:lnTo>
                              <a:pt x="95" y="1669"/>
                            </a:lnTo>
                            <a:lnTo>
                              <a:pt x="99" y="1679"/>
                            </a:lnTo>
                            <a:lnTo>
                              <a:pt x="103" y="1688"/>
                            </a:lnTo>
                            <a:lnTo>
                              <a:pt x="108" y="1696"/>
                            </a:lnTo>
                            <a:lnTo>
                              <a:pt x="114" y="1703"/>
                            </a:lnTo>
                            <a:lnTo>
                              <a:pt x="118" y="1713"/>
                            </a:lnTo>
                            <a:lnTo>
                              <a:pt x="124" y="1722"/>
                            </a:lnTo>
                            <a:lnTo>
                              <a:pt x="127" y="1732"/>
                            </a:lnTo>
                            <a:lnTo>
                              <a:pt x="131" y="1736"/>
                            </a:lnTo>
                            <a:lnTo>
                              <a:pt x="135" y="1739"/>
                            </a:lnTo>
                            <a:lnTo>
                              <a:pt x="135" y="1743"/>
                            </a:lnTo>
                            <a:lnTo>
                              <a:pt x="137" y="1745"/>
                            </a:lnTo>
                            <a:lnTo>
                              <a:pt x="139" y="1747"/>
                            </a:lnTo>
                            <a:lnTo>
                              <a:pt x="141" y="1751"/>
                            </a:lnTo>
                            <a:lnTo>
                              <a:pt x="143" y="1755"/>
                            </a:lnTo>
                            <a:lnTo>
                              <a:pt x="143" y="1756"/>
                            </a:lnTo>
                            <a:lnTo>
                              <a:pt x="145" y="1760"/>
                            </a:lnTo>
                            <a:lnTo>
                              <a:pt x="146" y="1762"/>
                            </a:lnTo>
                            <a:lnTo>
                              <a:pt x="148" y="1766"/>
                            </a:lnTo>
                            <a:lnTo>
                              <a:pt x="150" y="1768"/>
                            </a:lnTo>
                            <a:lnTo>
                              <a:pt x="152" y="1770"/>
                            </a:lnTo>
                            <a:lnTo>
                              <a:pt x="156" y="1774"/>
                            </a:lnTo>
                            <a:lnTo>
                              <a:pt x="158" y="1777"/>
                            </a:lnTo>
                            <a:lnTo>
                              <a:pt x="160" y="1779"/>
                            </a:lnTo>
                            <a:lnTo>
                              <a:pt x="160" y="1783"/>
                            </a:lnTo>
                            <a:lnTo>
                              <a:pt x="162" y="1787"/>
                            </a:lnTo>
                            <a:lnTo>
                              <a:pt x="166" y="1789"/>
                            </a:lnTo>
                            <a:lnTo>
                              <a:pt x="166" y="1791"/>
                            </a:lnTo>
                            <a:lnTo>
                              <a:pt x="167" y="1794"/>
                            </a:lnTo>
                            <a:lnTo>
                              <a:pt x="169" y="1796"/>
                            </a:lnTo>
                            <a:lnTo>
                              <a:pt x="171" y="1800"/>
                            </a:lnTo>
                            <a:lnTo>
                              <a:pt x="173" y="1802"/>
                            </a:lnTo>
                            <a:lnTo>
                              <a:pt x="175" y="1806"/>
                            </a:lnTo>
                            <a:lnTo>
                              <a:pt x="177" y="1808"/>
                            </a:lnTo>
                            <a:lnTo>
                              <a:pt x="179" y="1812"/>
                            </a:lnTo>
                            <a:lnTo>
                              <a:pt x="181" y="1815"/>
                            </a:lnTo>
                            <a:lnTo>
                              <a:pt x="183" y="1817"/>
                            </a:lnTo>
                            <a:lnTo>
                              <a:pt x="185" y="1821"/>
                            </a:lnTo>
                            <a:lnTo>
                              <a:pt x="188" y="1827"/>
                            </a:lnTo>
                            <a:lnTo>
                              <a:pt x="190" y="1831"/>
                            </a:lnTo>
                            <a:lnTo>
                              <a:pt x="194" y="1836"/>
                            </a:lnTo>
                            <a:lnTo>
                              <a:pt x="198" y="1842"/>
                            </a:lnTo>
                            <a:lnTo>
                              <a:pt x="200" y="1846"/>
                            </a:lnTo>
                            <a:lnTo>
                              <a:pt x="204" y="1850"/>
                            </a:lnTo>
                            <a:lnTo>
                              <a:pt x="205" y="1853"/>
                            </a:lnTo>
                            <a:lnTo>
                              <a:pt x="207" y="1859"/>
                            </a:lnTo>
                            <a:lnTo>
                              <a:pt x="209" y="1861"/>
                            </a:lnTo>
                            <a:lnTo>
                              <a:pt x="211" y="1863"/>
                            </a:lnTo>
                            <a:lnTo>
                              <a:pt x="213" y="1867"/>
                            </a:lnTo>
                            <a:lnTo>
                              <a:pt x="215" y="1869"/>
                            </a:lnTo>
                            <a:lnTo>
                              <a:pt x="217" y="1870"/>
                            </a:lnTo>
                            <a:lnTo>
                              <a:pt x="219" y="1874"/>
                            </a:lnTo>
                            <a:lnTo>
                              <a:pt x="141" y="2163"/>
                            </a:lnTo>
                            <a:lnTo>
                              <a:pt x="143" y="2165"/>
                            </a:lnTo>
                            <a:lnTo>
                              <a:pt x="146" y="2165"/>
                            </a:lnTo>
                            <a:lnTo>
                              <a:pt x="150" y="2167"/>
                            </a:lnTo>
                            <a:lnTo>
                              <a:pt x="152" y="2167"/>
                            </a:lnTo>
                            <a:lnTo>
                              <a:pt x="154" y="2167"/>
                            </a:lnTo>
                            <a:lnTo>
                              <a:pt x="158" y="2167"/>
                            </a:lnTo>
                            <a:lnTo>
                              <a:pt x="162" y="2171"/>
                            </a:lnTo>
                            <a:lnTo>
                              <a:pt x="166" y="2171"/>
                            </a:lnTo>
                            <a:lnTo>
                              <a:pt x="167" y="2173"/>
                            </a:lnTo>
                            <a:lnTo>
                              <a:pt x="171" y="2173"/>
                            </a:lnTo>
                            <a:lnTo>
                              <a:pt x="175" y="2175"/>
                            </a:lnTo>
                            <a:lnTo>
                              <a:pt x="181" y="2175"/>
                            </a:lnTo>
                            <a:lnTo>
                              <a:pt x="185" y="2175"/>
                            </a:lnTo>
                            <a:lnTo>
                              <a:pt x="188" y="2177"/>
                            </a:lnTo>
                            <a:lnTo>
                              <a:pt x="194" y="2180"/>
                            </a:lnTo>
                            <a:lnTo>
                              <a:pt x="198" y="2180"/>
                            </a:lnTo>
                            <a:lnTo>
                              <a:pt x="204" y="2182"/>
                            </a:lnTo>
                            <a:lnTo>
                              <a:pt x="209" y="2182"/>
                            </a:lnTo>
                            <a:lnTo>
                              <a:pt x="215" y="2184"/>
                            </a:lnTo>
                            <a:lnTo>
                              <a:pt x="219" y="2186"/>
                            </a:lnTo>
                            <a:lnTo>
                              <a:pt x="224" y="2188"/>
                            </a:lnTo>
                            <a:lnTo>
                              <a:pt x="232" y="2188"/>
                            </a:lnTo>
                            <a:lnTo>
                              <a:pt x="238" y="2190"/>
                            </a:lnTo>
                            <a:lnTo>
                              <a:pt x="243" y="2190"/>
                            </a:lnTo>
                            <a:lnTo>
                              <a:pt x="251" y="2192"/>
                            </a:lnTo>
                            <a:lnTo>
                              <a:pt x="257" y="2194"/>
                            </a:lnTo>
                            <a:lnTo>
                              <a:pt x="264" y="2194"/>
                            </a:lnTo>
                            <a:lnTo>
                              <a:pt x="270" y="2196"/>
                            </a:lnTo>
                            <a:lnTo>
                              <a:pt x="276" y="2196"/>
                            </a:lnTo>
                            <a:lnTo>
                              <a:pt x="283" y="2197"/>
                            </a:lnTo>
                            <a:lnTo>
                              <a:pt x="291" y="2199"/>
                            </a:lnTo>
                            <a:lnTo>
                              <a:pt x="297" y="2199"/>
                            </a:lnTo>
                            <a:lnTo>
                              <a:pt x="304" y="2199"/>
                            </a:lnTo>
                            <a:lnTo>
                              <a:pt x="312" y="2199"/>
                            </a:lnTo>
                            <a:lnTo>
                              <a:pt x="320" y="2201"/>
                            </a:lnTo>
                            <a:lnTo>
                              <a:pt x="325" y="2201"/>
                            </a:lnTo>
                            <a:lnTo>
                              <a:pt x="333" y="2201"/>
                            </a:lnTo>
                            <a:lnTo>
                              <a:pt x="341" y="2201"/>
                            </a:lnTo>
                            <a:lnTo>
                              <a:pt x="348" y="2201"/>
                            </a:lnTo>
                            <a:lnTo>
                              <a:pt x="356" y="2201"/>
                            </a:lnTo>
                            <a:lnTo>
                              <a:pt x="363" y="2201"/>
                            </a:lnTo>
                            <a:lnTo>
                              <a:pt x="371" y="2201"/>
                            </a:lnTo>
                            <a:lnTo>
                              <a:pt x="379" y="2201"/>
                            </a:lnTo>
                            <a:lnTo>
                              <a:pt x="386" y="2201"/>
                            </a:lnTo>
                            <a:lnTo>
                              <a:pt x="394" y="2201"/>
                            </a:lnTo>
                            <a:lnTo>
                              <a:pt x="401" y="2199"/>
                            </a:lnTo>
                            <a:lnTo>
                              <a:pt x="409" y="2199"/>
                            </a:lnTo>
                            <a:lnTo>
                              <a:pt x="415" y="2197"/>
                            </a:lnTo>
                            <a:lnTo>
                              <a:pt x="422" y="2196"/>
                            </a:lnTo>
                            <a:lnTo>
                              <a:pt x="432" y="2196"/>
                            </a:lnTo>
                            <a:lnTo>
                              <a:pt x="439" y="2194"/>
                            </a:lnTo>
                            <a:lnTo>
                              <a:pt x="447" y="2192"/>
                            </a:lnTo>
                            <a:lnTo>
                              <a:pt x="455" y="2190"/>
                            </a:lnTo>
                            <a:lnTo>
                              <a:pt x="462" y="2188"/>
                            </a:lnTo>
                            <a:lnTo>
                              <a:pt x="470" y="2188"/>
                            </a:lnTo>
                            <a:lnTo>
                              <a:pt x="476" y="2184"/>
                            </a:lnTo>
                            <a:lnTo>
                              <a:pt x="483" y="2182"/>
                            </a:lnTo>
                            <a:lnTo>
                              <a:pt x="491" y="2180"/>
                            </a:lnTo>
                            <a:lnTo>
                              <a:pt x="498" y="2175"/>
                            </a:lnTo>
                            <a:lnTo>
                              <a:pt x="504" y="2173"/>
                            </a:lnTo>
                            <a:lnTo>
                              <a:pt x="512" y="2169"/>
                            </a:lnTo>
                            <a:lnTo>
                              <a:pt x="517" y="2165"/>
                            </a:lnTo>
                            <a:lnTo>
                              <a:pt x="525" y="2161"/>
                            </a:lnTo>
                            <a:lnTo>
                              <a:pt x="531" y="2158"/>
                            </a:lnTo>
                            <a:lnTo>
                              <a:pt x="536" y="2154"/>
                            </a:lnTo>
                            <a:lnTo>
                              <a:pt x="542" y="2150"/>
                            </a:lnTo>
                            <a:lnTo>
                              <a:pt x="550" y="2146"/>
                            </a:lnTo>
                            <a:lnTo>
                              <a:pt x="555" y="2142"/>
                            </a:lnTo>
                            <a:lnTo>
                              <a:pt x="559" y="2137"/>
                            </a:lnTo>
                            <a:lnTo>
                              <a:pt x="565" y="2133"/>
                            </a:lnTo>
                            <a:lnTo>
                              <a:pt x="571" y="2129"/>
                            </a:lnTo>
                            <a:lnTo>
                              <a:pt x="576" y="2123"/>
                            </a:lnTo>
                            <a:lnTo>
                              <a:pt x="582" y="2120"/>
                            </a:lnTo>
                            <a:lnTo>
                              <a:pt x="588" y="2114"/>
                            </a:lnTo>
                            <a:lnTo>
                              <a:pt x="592" y="2110"/>
                            </a:lnTo>
                            <a:lnTo>
                              <a:pt x="595" y="2106"/>
                            </a:lnTo>
                            <a:lnTo>
                              <a:pt x="601" y="2101"/>
                            </a:lnTo>
                            <a:lnTo>
                              <a:pt x="605" y="2095"/>
                            </a:lnTo>
                            <a:lnTo>
                              <a:pt x="611" y="2091"/>
                            </a:lnTo>
                            <a:lnTo>
                              <a:pt x="614" y="2085"/>
                            </a:lnTo>
                            <a:lnTo>
                              <a:pt x="618" y="2080"/>
                            </a:lnTo>
                            <a:lnTo>
                              <a:pt x="624" y="2076"/>
                            </a:lnTo>
                            <a:lnTo>
                              <a:pt x="628" y="2070"/>
                            </a:lnTo>
                            <a:lnTo>
                              <a:pt x="632" y="2064"/>
                            </a:lnTo>
                            <a:lnTo>
                              <a:pt x="635" y="2059"/>
                            </a:lnTo>
                            <a:lnTo>
                              <a:pt x="637" y="2055"/>
                            </a:lnTo>
                            <a:lnTo>
                              <a:pt x="643" y="2049"/>
                            </a:lnTo>
                            <a:lnTo>
                              <a:pt x="645" y="2043"/>
                            </a:lnTo>
                            <a:lnTo>
                              <a:pt x="649" y="2040"/>
                            </a:lnTo>
                            <a:lnTo>
                              <a:pt x="652" y="2034"/>
                            </a:lnTo>
                            <a:lnTo>
                              <a:pt x="654" y="2030"/>
                            </a:lnTo>
                            <a:lnTo>
                              <a:pt x="658" y="2024"/>
                            </a:lnTo>
                            <a:lnTo>
                              <a:pt x="660" y="2021"/>
                            </a:lnTo>
                            <a:lnTo>
                              <a:pt x="664" y="2015"/>
                            </a:lnTo>
                            <a:lnTo>
                              <a:pt x="666" y="2011"/>
                            </a:lnTo>
                            <a:lnTo>
                              <a:pt x="668" y="2005"/>
                            </a:lnTo>
                            <a:lnTo>
                              <a:pt x="672" y="2002"/>
                            </a:lnTo>
                            <a:lnTo>
                              <a:pt x="673" y="1998"/>
                            </a:lnTo>
                            <a:lnTo>
                              <a:pt x="675" y="1992"/>
                            </a:lnTo>
                            <a:lnTo>
                              <a:pt x="677" y="1986"/>
                            </a:lnTo>
                            <a:lnTo>
                              <a:pt x="679" y="1983"/>
                            </a:lnTo>
                            <a:lnTo>
                              <a:pt x="681" y="1979"/>
                            </a:lnTo>
                            <a:lnTo>
                              <a:pt x="683" y="1975"/>
                            </a:lnTo>
                            <a:lnTo>
                              <a:pt x="685" y="1971"/>
                            </a:lnTo>
                            <a:lnTo>
                              <a:pt x="687" y="1969"/>
                            </a:lnTo>
                            <a:lnTo>
                              <a:pt x="689" y="1964"/>
                            </a:lnTo>
                            <a:lnTo>
                              <a:pt x="691" y="1962"/>
                            </a:lnTo>
                            <a:lnTo>
                              <a:pt x="692" y="1958"/>
                            </a:lnTo>
                            <a:lnTo>
                              <a:pt x="692" y="1954"/>
                            </a:lnTo>
                            <a:lnTo>
                              <a:pt x="692" y="1952"/>
                            </a:lnTo>
                            <a:lnTo>
                              <a:pt x="694" y="1950"/>
                            </a:lnTo>
                            <a:lnTo>
                              <a:pt x="696" y="1945"/>
                            </a:lnTo>
                            <a:lnTo>
                              <a:pt x="698" y="1941"/>
                            </a:lnTo>
                            <a:lnTo>
                              <a:pt x="700" y="1937"/>
                            </a:lnTo>
                            <a:lnTo>
                              <a:pt x="700" y="1935"/>
                            </a:lnTo>
                            <a:lnTo>
                              <a:pt x="700" y="1933"/>
                            </a:lnTo>
                            <a:lnTo>
                              <a:pt x="702" y="1933"/>
                            </a:lnTo>
                            <a:lnTo>
                              <a:pt x="740" y="1943"/>
                            </a:lnTo>
                            <a:lnTo>
                              <a:pt x="740" y="1943"/>
                            </a:lnTo>
                            <a:lnTo>
                              <a:pt x="738" y="1945"/>
                            </a:lnTo>
                            <a:lnTo>
                              <a:pt x="738" y="1947"/>
                            </a:lnTo>
                            <a:lnTo>
                              <a:pt x="738" y="1950"/>
                            </a:lnTo>
                            <a:lnTo>
                              <a:pt x="738" y="1954"/>
                            </a:lnTo>
                            <a:lnTo>
                              <a:pt x="738" y="1958"/>
                            </a:lnTo>
                            <a:lnTo>
                              <a:pt x="736" y="1962"/>
                            </a:lnTo>
                            <a:lnTo>
                              <a:pt x="736" y="1964"/>
                            </a:lnTo>
                            <a:lnTo>
                              <a:pt x="736" y="1967"/>
                            </a:lnTo>
                            <a:lnTo>
                              <a:pt x="736" y="1971"/>
                            </a:lnTo>
                            <a:lnTo>
                              <a:pt x="736" y="1975"/>
                            </a:lnTo>
                            <a:lnTo>
                              <a:pt x="736" y="1979"/>
                            </a:lnTo>
                            <a:lnTo>
                              <a:pt x="736" y="1983"/>
                            </a:lnTo>
                            <a:lnTo>
                              <a:pt x="736" y="1985"/>
                            </a:lnTo>
                            <a:lnTo>
                              <a:pt x="736" y="1990"/>
                            </a:lnTo>
                            <a:lnTo>
                              <a:pt x="736" y="1994"/>
                            </a:lnTo>
                            <a:lnTo>
                              <a:pt x="736" y="1998"/>
                            </a:lnTo>
                            <a:lnTo>
                              <a:pt x="736" y="2004"/>
                            </a:lnTo>
                            <a:lnTo>
                              <a:pt x="736" y="2007"/>
                            </a:lnTo>
                            <a:lnTo>
                              <a:pt x="736" y="2013"/>
                            </a:lnTo>
                            <a:lnTo>
                              <a:pt x="736" y="2015"/>
                            </a:lnTo>
                            <a:lnTo>
                              <a:pt x="736" y="2021"/>
                            </a:lnTo>
                            <a:lnTo>
                              <a:pt x="736" y="2026"/>
                            </a:lnTo>
                            <a:lnTo>
                              <a:pt x="736" y="2030"/>
                            </a:lnTo>
                            <a:lnTo>
                              <a:pt x="736" y="2036"/>
                            </a:lnTo>
                            <a:lnTo>
                              <a:pt x="736" y="2042"/>
                            </a:lnTo>
                            <a:lnTo>
                              <a:pt x="736" y="2047"/>
                            </a:lnTo>
                            <a:lnTo>
                              <a:pt x="738" y="2051"/>
                            </a:lnTo>
                            <a:lnTo>
                              <a:pt x="738" y="2057"/>
                            </a:lnTo>
                            <a:lnTo>
                              <a:pt x="738" y="2062"/>
                            </a:lnTo>
                            <a:lnTo>
                              <a:pt x="740" y="2066"/>
                            </a:lnTo>
                            <a:lnTo>
                              <a:pt x="740" y="2072"/>
                            </a:lnTo>
                            <a:lnTo>
                              <a:pt x="742" y="2078"/>
                            </a:lnTo>
                            <a:lnTo>
                              <a:pt x="744" y="2083"/>
                            </a:lnTo>
                            <a:lnTo>
                              <a:pt x="744" y="2091"/>
                            </a:lnTo>
                            <a:lnTo>
                              <a:pt x="746" y="2095"/>
                            </a:lnTo>
                            <a:lnTo>
                              <a:pt x="748" y="2101"/>
                            </a:lnTo>
                            <a:lnTo>
                              <a:pt x="748" y="2106"/>
                            </a:lnTo>
                            <a:lnTo>
                              <a:pt x="751" y="2110"/>
                            </a:lnTo>
                            <a:lnTo>
                              <a:pt x="753" y="2118"/>
                            </a:lnTo>
                            <a:lnTo>
                              <a:pt x="753" y="2123"/>
                            </a:lnTo>
                            <a:lnTo>
                              <a:pt x="757" y="2129"/>
                            </a:lnTo>
                            <a:lnTo>
                              <a:pt x="759" y="2135"/>
                            </a:lnTo>
                            <a:lnTo>
                              <a:pt x="761" y="2139"/>
                            </a:lnTo>
                            <a:lnTo>
                              <a:pt x="765" y="2144"/>
                            </a:lnTo>
                            <a:lnTo>
                              <a:pt x="767" y="2150"/>
                            </a:lnTo>
                            <a:lnTo>
                              <a:pt x="769" y="2156"/>
                            </a:lnTo>
                            <a:lnTo>
                              <a:pt x="772" y="2159"/>
                            </a:lnTo>
                            <a:lnTo>
                              <a:pt x="776" y="2165"/>
                            </a:lnTo>
                            <a:lnTo>
                              <a:pt x="780" y="2171"/>
                            </a:lnTo>
                            <a:lnTo>
                              <a:pt x="782" y="2175"/>
                            </a:lnTo>
                            <a:lnTo>
                              <a:pt x="786" y="2180"/>
                            </a:lnTo>
                            <a:lnTo>
                              <a:pt x="789" y="2186"/>
                            </a:lnTo>
                            <a:lnTo>
                              <a:pt x="795" y="2190"/>
                            </a:lnTo>
                            <a:lnTo>
                              <a:pt x="799" y="2196"/>
                            </a:lnTo>
                            <a:lnTo>
                              <a:pt x="805" y="2201"/>
                            </a:lnTo>
                            <a:lnTo>
                              <a:pt x="808" y="2205"/>
                            </a:lnTo>
                            <a:lnTo>
                              <a:pt x="814" y="2209"/>
                            </a:lnTo>
                            <a:lnTo>
                              <a:pt x="818" y="2213"/>
                            </a:lnTo>
                            <a:lnTo>
                              <a:pt x="824" y="2216"/>
                            </a:lnTo>
                            <a:lnTo>
                              <a:pt x="828" y="2222"/>
                            </a:lnTo>
                            <a:lnTo>
                              <a:pt x="833" y="2224"/>
                            </a:lnTo>
                            <a:lnTo>
                              <a:pt x="839" y="2228"/>
                            </a:lnTo>
                            <a:lnTo>
                              <a:pt x="845" y="2232"/>
                            </a:lnTo>
                            <a:lnTo>
                              <a:pt x="848" y="2235"/>
                            </a:lnTo>
                            <a:lnTo>
                              <a:pt x="854" y="2239"/>
                            </a:lnTo>
                            <a:lnTo>
                              <a:pt x="858" y="2243"/>
                            </a:lnTo>
                            <a:lnTo>
                              <a:pt x="864" y="2245"/>
                            </a:lnTo>
                            <a:lnTo>
                              <a:pt x="867" y="2249"/>
                            </a:lnTo>
                            <a:lnTo>
                              <a:pt x="873" y="2253"/>
                            </a:lnTo>
                            <a:lnTo>
                              <a:pt x="877" y="2256"/>
                            </a:lnTo>
                            <a:lnTo>
                              <a:pt x="883" y="2258"/>
                            </a:lnTo>
                            <a:lnTo>
                              <a:pt x="890" y="2260"/>
                            </a:lnTo>
                            <a:lnTo>
                              <a:pt x="896" y="2264"/>
                            </a:lnTo>
                            <a:lnTo>
                              <a:pt x="900" y="2266"/>
                            </a:lnTo>
                            <a:lnTo>
                              <a:pt x="904" y="2268"/>
                            </a:lnTo>
                            <a:lnTo>
                              <a:pt x="907" y="2270"/>
                            </a:lnTo>
                            <a:lnTo>
                              <a:pt x="913" y="2273"/>
                            </a:lnTo>
                            <a:lnTo>
                              <a:pt x="919" y="2275"/>
                            </a:lnTo>
                            <a:lnTo>
                              <a:pt x="925" y="2277"/>
                            </a:lnTo>
                            <a:lnTo>
                              <a:pt x="928" y="2279"/>
                            </a:lnTo>
                            <a:lnTo>
                              <a:pt x="934" y="2281"/>
                            </a:lnTo>
                            <a:lnTo>
                              <a:pt x="938" y="2283"/>
                            </a:lnTo>
                            <a:lnTo>
                              <a:pt x="942" y="2285"/>
                            </a:lnTo>
                            <a:lnTo>
                              <a:pt x="947" y="2287"/>
                            </a:lnTo>
                            <a:lnTo>
                              <a:pt x="951" y="2289"/>
                            </a:lnTo>
                            <a:lnTo>
                              <a:pt x="955" y="2289"/>
                            </a:lnTo>
                            <a:lnTo>
                              <a:pt x="961" y="2291"/>
                            </a:lnTo>
                            <a:lnTo>
                              <a:pt x="964" y="2291"/>
                            </a:lnTo>
                            <a:lnTo>
                              <a:pt x="968" y="2294"/>
                            </a:lnTo>
                            <a:lnTo>
                              <a:pt x="972" y="2294"/>
                            </a:lnTo>
                            <a:lnTo>
                              <a:pt x="978" y="2294"/>
                            </a:lnTo>
                            <a:lnTo>
                              <a:pt x="982" y="2296"/>
                            </a:lnTo>
                            <a:lnTo>
                              <a:pt x="985" y="2296"/>
                            </a:lnTo>
                            <a:lnTo>
                              <a:pt x="989" y="2296"/>
                            </a:lnTo>
                            <a:lnTo>
                              <a:pt x="993" y="2298"/>
                            </a:lnTo>
                            <a:lnTo>
                              <a:pt x="997" y="2298"/>
                            </a:lnTo>
                            <a:lnTo>
                              <a:pt x="1001" y="2298"/>
                            </a:lnTo>
                            <a:lnTo>
                              <a:pt x="1004" y="2298"/>
                            </a:lnTo>
                            <a:lnTo>
                              <a:pt x="1008" y="2300"/>
                            </a:lnTo>
                            <a:lnTo>
                              <a:pt x="1010" y="2300"/>
                            </a:lnTo>
                            <a:lnTo>
                              <a:pt x="1014" y="2300"/>
                            </a:lnTo>
                            <a:lnTo>
                              <a:pt x="1016" y="2300"/>
                            </a:lnTo>
                            <a:lnTo>
                              <a:pt x="1020" y="2300"/>
                            </a:lnTo>
                            <a:lnTo>
                              <a:pt x="1022" y="2300"/>
                            </a:lnTo>
                            <a:lnTo>
                              <a:pt x="1025" y="2302"/>
                            </a:lnTo>
                            <a:lnTo>
                              <a:pt x="1029" y="2300"/>
                            </a:lnTo>
                            <a:lnTo>
                              <a:pt x="1035" y="2300"/>
                            </a:lnTo>
                            <a:lnTo>
                              <a:pt x="1039" y="2298"/>
                            </a:lnTo>
                            <a:lnTo>
                              <a:pt x="1042" y="2298"/>
                            </a:lnTo>
                            <a:lnTo>
                              <a:pt x="1044" y="2296"/>
                            </a:lnTo>
                            <a:lnTo>
                              <a:pt x="1048" y="2296"/>
                            </a:lnTo>
                            <a:lnTo>
                              <a:pt x="1048" y="2294"/>
                            </a:lnTo>
                            <a:lnTo>
                              <a:pt x="1050" y="2294"/>
                            </a:lnTo>
                            <a:lnTo>
                              <a:pt x="1246" y="1334"/>
                            </a:lnTo>
                            <a:lnTo>
                              <a:pt x="1246" y="1333"/>
                            </a:lnTo>
                            <a:lnTo>
                              <a:pt x="1248" y="1331"/>
                            </a:lnTo>
                            <a:lnTo>
                              <a:pt x="1250" y="1327"/>
                            </a:lnTo>
                            <a:lnTo>
                              <a:pt x="1252" y="1325"/>
                            </a:lnTo>
                            <a:lnTo>
                              <a:pt x="1252" y="1323"/>
                            </a:lnTo>
                            <a:lnTo>
                              <a:pt x="1254" y="1319"/>
                            </a:lnTo>
                            <a:lnTo>
                              <a:pt x="1256" y="1315"/>
                            </a:lnTo>
                            <a:lnTo>
                              <a:pt x="1259" y="1312"/>
                            </a:lnTo>
                            <a:lnTo>
                              <a:pt x="1259" y="1306"/>
                            </a:lnTo>
                            <a:lnTo>
                              <a:pt x="1263" y="1302"/>
                            </a:lnTo>
                            <a:lnTo>
                              <a:pt x="1265" y="1296"/>
                            </a:lnTo>
                            <a:lnTo>
                              <a:pt x="1269" y="1293"/>
                            </a:lnTo>
                            <a:lnTo>
                              <a:pt x="1271" y="1285"/>
                            </a:lnTo>
                            <a:lnTo>
                              <a:pt x="1275" y="1281"/>
                            </a:lnTo>
                            <a:lnTo>
                              <a:pt x="1276" y="1274"/>
                            </a:lnTo>
                            <a:lnTo>
                              <a:pt x="1280" y="1266"/>
                            </a:lnTo>
                            <a:lnTo>
                              <a:pt x="1284" y="1258"/>
                            </a:lnTo>
                            <a:lnTo>
                              <a:pt x="1288" y="1249"/>
                            </a:lnTo>
                            <a:lnTo>
                              <a:pt x="1290" y="1241"/>
                            </a:lnTo>
                            <a:lnTo>
                              <a:pt x="1294" y="1234"/>
                            </a:lnTo>
                            <a:lnTo>
                              <a:pt x="1297" y="1224"/>
                            </a:lnTo>
                            <a:lnTo>
                              <a:pt x="1301" y="1217"/>
                            </a:lnTo>
                            <a:lnTo>
                              <a:pt x="1305" y="1207"/>
                            </a:lnTo>
                            <a:lnTo>
                              <a:pt x="1309" y="1198"/>
                            </a:lnTo>
                            <a:lnTo>
                              <a:pt x="1313" y="1188"/>
                            </a:lnTo>
                            <a:lnTo>
                              <a:pt x="1316" y="1177"/>
                            </a:lnTo>
                            <a:lnTo>
                              <a:pt x="1320" y="1165"/>
                            </a:lnTo>
                            <a:lnTo>
                              <a:pt x="1324" y="1154"/>
                            </a:lnTo>
                            <a:lnTo>
                              <a:pt x="1330" y="1144"/>
                            </a:lnTo>
                            <a:lnTo>
                              <a:pt x="1334" y="1133"/>
                            </a:lnTo>
                            <a:lnTo>
                              <a:pt x="1337" y="1122"/>
                            </a:lnTo>
                            <a:lnTo>
                              <a:pt x="1339" y="1108"/>
                            </a:lnTo>
                            <a:lnTo>
                              <a:pt x="1345" y="1097"/>
                            </a:lnTo>
                            <a:lnTo>
                              <a:pt x="1349" y="1084"/>
                            </a:lnTo>
                            <a:lnTo>
                              <a:pt x="1353" y="1070"/>
                            </a:lnTo>
                            <a:lnTo>
                              <a:pt x="1354" y="1059"/>
                            </a:lnTo>
                            <a:lnTo>
                              <a:pt x="1358" y="1044"/>
                            </a:lnTo>
                            <a:lnTo>
                              <a:pt x="1362" y="1032"/>
                            </a:lnTo>
                            <a:lnTo>
                              <a:pt x="1366" y="1017"/>
                            </a:lnTo>
                            <a:lnTo>
                              <a:pt x="1370" y="1004"/>
                            </a:lnTo>
                            <a:lnTo>
                              <a:pt x="1372" y="988"/>
                            </a:lnTo>
                            <a:lnTo>
                              <a:pt x="1375" y="975"/>
                            </a:lnTo>
                            <a:lnTo>
                              <a:pt x="1377" y="960"/>
                            </a:lnTo>
                            <a:lnTo>
                              <a:pt x="1381" y="947"/>
                            </a:lnTo>
                            <a:lnTo>
                              <a:pt x="1383" y="931"/>
                            </a:lnTo>
                            <a:lnTo>
                              <a:pt x="1387" y="916"/>
                            </a:lnTo>
                            <a:lnTo>
                              <a:pt x="1389" y="901"/>
                            </a:lnTo>
                            <a:lnTo>
                              <a:pt x="1391" y="886"/>
                            </a:lnTo>
                            <a:lnTo>
                              <a:pt x="1392" y="871"/>
                            </a:lnTo>
                            <a:lnTo>
                              <a:pt x="1394" y="855"/>
                            </a:lnTo>
                            <a:lnTo>
                              <a:pt x="1396" y="838"/>
                            </a:lnTo>
                            <a:lnTo>
                              <a:pt x="1398" y="823"/>
                            </a:lnTo>
                            <a:lnTo>
                              <a:pt x="1398" y="806"/>
                            </a:lnTo>
                            <a:lnTo>
                              <a:pt x="1400" y="791"/>
                            </a:lnTo>
                            <a:lnTo>
                              <a:pt x="1402" y="774"/>
                            </a:lnTo>
                            <a:lnTo>
                              <a:pt x="1402" y="757"/>
                            </a:lnTo>
                            <a:lnTo>
                              <a:pt x="1402" y="741"/>
                            </a:lnTo>
                            <a:lnTo>
                              <a:pt x="1402" y="724"/>
                            </a:lnTo>
                            <a:lnTo>
                              <a:pt x="1402" y="705"/>
                            </a:lnTo>
                            <a:lnTo>
                              <a:pt x="1402" y="690"/>
                            </a:lnTo>
                            <a:lnTo>
                              <a:pt x="1400" y="673"/>
                            </a:lnTo>
                            <a:lnTo>
                              <a:pt x="1400" y="656"/>
                            </a:lnTo>
                            <a:lnTo>
                              <a:pt x="1398" y="654"/>
                            </a:lnTo>
                            <a:lnTo>
                              <a:pt x="1398" y="652"/>
                            </a:lnTo>
                            <a:lnTo>
                              <a:pt x="1398" y="648"/>
                            </a:lnTo>
                            <a:lnTo>
                              <a:pt x="1398" y="644"/>
                            </a:lnTo>
                            <a:lnTo>
                              <a:pt x="1398" y="643"/>
                            </a:lnTo>
                            <a:lnTo>
                              <a:pt x="1398" y="639"/>
                            </a:lnTo>
                            <a:lnTo>
                              <a:pt x="1396" y="637"/>
                            </a:lnTo>
                            <a:lnTo>
                              <a:pt x="1396" y="633"/>
                            </a:lnTo>
                            <a:lnTo>
                              <a:pt x="1396" y="631"/>
                            </a:lnTo>
                            <a:lnTo>
                              <a:pt x="1396" y="627"/>
                            </a:lnTo>
                            <a:lnTo>
                              <a:pt x="1396" y="623"/>
                            </a:lnTo>
                            <a:lnTo>
                              <a:pt x="1394" y="620"/>
                            </a:lnTo>
                            <a:lnTo>
                              <a:pt x="1394" y="618"/>
                            </a:lnTo>
                            <a:lnTo>
                              <a:pt x="1394" y="616"/>
                            </a:lnTo>
                            <a:lnTo>
                              <a:pt x="1392" y="612"/>
                            </a:lnTo>
                            <a:lnTo>
                              <a:pt x="1392" y="610"/>
                            </a:lnTo>
                            <a:lnTo>
                              <a:pt x="1392" y="608"/>
                            </a:lnTo>
                            <a:lnTo>
                              <a:pt x="1391" y="604"/>
                            </a:lnTo>
                            <a:lnTo>
                              <a:pt x="1391" y="603"/>
                            </a:lnTo>
                            <a:lnTo>
                              <a:pt x="1391" y="599"/>
                            </a:lnTo>
                            <a:lnTo>
                              <a:pt x="1389" y="597"/>
                            </a:lnTo>
                            <a:lnTo>
                              <a:pt x="1389" y="593"/>
                            </a:lnTo>
                            <a:lnTo>
                              <a:pt x="1389" y="589"/>
                            </a:lnTo>
                            <a:lnTo>
                              <a:pt x="1389" y="587"/>
                            </a:lnTo>
                            <a:lnTo>
                              <a:pt x="1387" y="585"/>
                            </a:lnTo>
                            <a:lnTo>
                              <a:pt x="1385" y="582"/>
                            </a:lnTo>
                            <a:lnTo>
                              <a:pt x="1385" y="580"/>
                            </a:lnTo>
                            <a:lnTo>
                              <a:pt x="1383" y="578"/>
                            </a:lnTo>
                            <a:lnTo>
                              <a:pt x="1383" y="572"/>
                            </a:lnTo>
                            <a:lnTo>
                              <a:pt x="1381" y="568"/>
                            </a:lnTo>
                            <a:lnTo>
                              <a:pt x="1377" y="563"/>
                            </a:lnTo>
                            <a:lnTo>
                              <a:pt x="1375" y="557"/>
                            </a:lnTo>
                            <a:lnTo>
                              <a:pt x="1373" y="553"/>
                            </a:lnTo>
                            <a:lnTo>
                              <a:pt x="1370" y="547"/>
                            </a:lnTo>
                            <a:lnTo>
                              <a:pt x="1366" y="544"/>
                            </a:lnTo>
                            <a:lnTo>
                              <a:pt x="1364" y="540"/>
                            </a:lnTo>
                            <a:lnTo>
                              <a:pt x="1360" y="536"/>
                            </a:lnTo>
                            <a:lnTo>
                              <a:pt x="1356" y="532"/>
                            </a:lnTo>
                            <a:lnTo>
                              <a:pt x="1353" y="528"/>
                            </a:lnTo>
                            <a:lnTo>
                              <a:pt x="1349" y="525"/>
                            </a:lnTo>
                            <a:lnTo>
                              <a:pt x="1345" y="523"/>
                            </a:lnTo>
                            <a:lnTo>
                              <a:pt x="1339" y="521"/>
                            </a:lnTo>
                            <a:lnTo>
                              <a:pt x="1335" y="517"/>
                            </a:lnTo>
                            <a:lnTo>
                              <a:pt x="1332" y="515"/>
                            </a:lnTo>
                            <a:lnTo>
                              <a:pt x="1326" y="515"/>
                            </a:lnTo>
                            <a:lnTo>
                              <a:pt x="1322" y="513"/>
                            </a:lnTo>
                            <a:lnTo>
                              <a:pt x="1318" y="511"/>
                            </a:lnTo>
                            <a:lnTo>
                              <a:pt x="1316" y="511"/>
                            </a:lnTo>
                            <a:lnTo>
                              <a:pt x="1313" y="511"/>
                            </a:lnTo>
                            <a:lnTo>
                              <a:pt x="1311" y="511"/>
                            </a:lnTo>
                            <a:lnTo>
                              <a:pt x="1309" y="509"/>
                            </a:lnTo>
                            <a:lnTo>
                              <a:pt x="1305" y="509"/>
                            </a:lnTo>
                            <a:lnTo>
                              <a:pt x="1303" y="509"/>
                            </a:lnTo>
                            <a:lnTo>
                              <a:pt x="1301" y="509"/>
                            </a:lnTo>
                            <a:lnTo>
                              <a:pt x="1297" y="509"/>
                            </a:lnTo>
                            <a:lnTo>
                              <a:pt x="1295" y="509"/>
                            </a:lnTo>
                            <a:lnTo>
                              <a:pt x="1292" y="509"/>
                            </a:lnTo>
                            <a:lnTo>
                              <a:pt x="1290" y="509"/>
                            </a:lnTo>
                            <a:lnTo>
                              <a:pt x="1284" y="509"/>
                            </a:lnTo>
                            <a:lnTo>
                              <a:pt x="1280" y="509"/>
                            </a:lnTo>
                            <a:lnTo>
                              <a:pt x="1275" y="509"/>
                            </a:lnTo>
                            <a:lnTo>
                              <a:pt x="1269" y="509"/>
                            </a:lnTo>
                            <a:lnTo>
                              <a:pt x="1265" y="509"/>
                            </a:lnTo>
                            <a:lnTo>
                              <a:pt x="1259" y="509"/>
                            </a:lnTo>
                            <a:lnTo>
                              <a:pt x="1256" y="511"/>
                            </a:lnTo>
                            <a:lnTo>
                              <a:pt x="1252" y="511"/>
                            </a:lnTo>
                            <a:lnTo>
                              <a:pt x="1246" y="515"/>
                            </a:lnTo>
                            <a:lnTo>
                              <a:pt x="1242" y="515"/>
                            </a:lnTo>
                            <a:lnTo>
                              <a:pt x="1238" y="517"/>
                            </a:lnTo>
                            <a:lnTo>
                              <a:pt x="1235" y="521"/>
                            </a:lnTo>
                            <a:lnTo>
                              <a:pt x="1231" y="523"/>
                            </a:lnTo>
                            <a:lnTo>
                              <a:pt x="1229" y="525"/>
                            </a:lnTo>
                            <a:lnTo>
                              <a:pt x="1225" y="527"/>
                            </a:lnTo>
                            <a:lnTo>
                              <a:pt x="1221" y="530"/>
                            </a:lnTo>
                            <a:lnTo>
                              <a:pt x="1219" y="532"/>
                            </a:lnTo>
                            <a:lnTo>
                              <a:pt x="1216" y="538"/>
                            </a:lnTo>
                            <a:lnTo>
                              <a:pt x="1214" y="542"/>
                            </a:lnTo>
                            <a:lnTo>
                              <a:pt x="1212" y="546"/>
                            </a:lnTo>
                            <a:lnTo>
                              <a:pt x="1210" y="549"/>
                            </a:lnTo>
                            <a:lnTo>
                              <a:pt x="1208" y="555"/>
                            </a:lnTo>
                            <a:lnTo>
                              <a:pt x="1208" y="557"/>
                            </a:lnTo>
                            <a:lnTo>
                              <a:pt x="1206" y="559"/>
                            </a:lnTo>
                            <a:lnTo>
                              <a:pt x="1204" y="561"/>
                            </a:lnTo>
                            <a:lnTo>
                              <a:pt x="1204" y="565"/>
                            </a:lnTo>
                            <a:lnTo>
                              <a:pt x="1204" y="566"/>
                            </a:lnTo>
                            <a:lnTo>
                              <a:pt x="1204" y="570"/>
                            </a:lnTo>
                            <a:lnTo>
                              <a:pt x="1204" y="572"/>
                            </a:lnTo>
                            <a:lnTo>
                              <a:pt x="1204" y="576"/>
                            </a:lnTo>
                            <a:lnTo>
                              <a:pt x="1139" y="895"/>
                            </a:lnTo>
                            <a:lnTo>
                              <a:pt x="1136" y="893"/>
                            </a:lnTo>
                            <a:lnTo>
                              <a:pt x="1132" y="892"/>
                            </a:lnTo>
                            <a:lnTo>
                              <a:pt x="1126" y="888"/>
                            </a:lnTo>
                            <a:lnTo>
                              <a:pt x="1122" y="886"/>
                            </a:lnTo>
                            <a:lnTo>
                              <a:pt x="1117" y="884"/>
                            </a:lnTo>
                            <a:lnTo>
                              <a:pt x="1113" y="880"/>
                            </a:lnTo>
                            <a:lnTo>
                              <a:pt x="1107" y="878"/>
                            </a:lnTo>
                            <a:lnTo>
                              <a:pt x="1105" y="876"/>
                            </a:lnTo>
                            <a:lnTo>
                              <a:pt x="1227" y="316"/>
                            </a:lnTo>
                            <a:lnTo>
                              <a:pt x="1227" y="312"/>
                            </a:lnTo>
                            <a:lnTo>
                              <a:pt x="1227" y="308"/>
                            </a:lnTo>
                            <a:lnTo>
                              <a:pt x="1229" y="306"/>
                            </a:lnTo>
                            <a:lnTo>
                              <a:pt x="1229" y="304"/>
                            </a:lnTo>
                            <a:lnTo>
                              <a:pt x="1229" y="300"/>
                            </a:lnTo>
                            <a:lnTo>
                              <a:pt x="1229" y="298"/>
                            </a:lnTo>
                            <a:lnTo>
                              <a:pt x="1229" y="295"/>
                            </a:lnTo>
                            <a:lnTo>
                              <a:pt x="1229" y="293"/>
                            </a:lnTo>
                            <a:lnTo>
                              <a:pt x="1229" y="291"/>
                            </a:lnTo>
                            <a:lnTo>
                              <a:pt x="1229" y="287"/>
                            </a:lnTo>
                            <a:lnTo>
                              <a:pt x="1229" y="285"/>
                            </a:lnTo>
                            <a:lnTo>
                              <a:pt x="1229" y="283"/>
                            </a:lnTo>
                            <a:lnTo>
                              <a:pt x="1229" y="278"/>
                            </a:lnTo>
                            <a:lnTo>
                              <a:pt x="1227" y="272"/>
                            </a:lnTo>
                            <a:lnTo>
                              <a:pt x="1225" y="268"/>
                            </a:lnTo>
                            <a:lnTo>
                              <a:pt x="1225" y="262"/>
                            </a:lnTo>
                            <a:lnTo>
                              <a:pt x="1223" y="257"/>
                            </a:lnTo>
                            <a:lnTo>
                              <a:pt x="1221" y="253"/>
                            </a:lnTo>
                            <a:lnTo>
                              <a:pt x="1219" y="247"/>
                            </a:lnTo>
                            <a:lnTo>
                              <a:pt x="1217" y="243"/>
                            </a:lnTo>
                            <a:lnTo>
                              <a:pt x="1216" y="240"/>
                            </a:lnTo>
                            <a:lnTo>
                              <a:pt x="1214" y="236"/>
                            </a:lnTo>
                            <a:lnTo>
                              <a:pt x="1210" y="232"/>
                            </a:lnTo>
                            <a:lnTo>
                              <a:pt x="1206" y="226"/>
                            </a:lnTo>
                            <a:lnTo>
                              <a:pt x="1202" y="222"/>
                            </a:lnTo>
                            <a:lnTo>
                              <a:pt x="1200" y="219"/>
                            </a:lnTo>
                            <a:lnTo>
                              <a:pt x="1197" y="215"/>
                            </a:lnTo>
                            <a:lnTo>
                              <a:pt x="1193" y="211"/>
                            </a:lnTo>
                            <a:lnTo>
                              <a:pt x="1189" y="207"/>
                            </a:lnTo>
                            <a:lnTo>
                              <a:pt x="1185" y="205"/>
                            </a:lnTo>
                            <a:lnTo>
                              <a:pt x="1179" y="203"/>
                            </a:lnTo>
                            <a:lnTo>
                              <a:pt x="1176" y="200"/>
                            </a:lnTo>
                            <a:lnTo>
                              <a:pt x="1172" y="198"/>
                            </a:lnTo>
                            <a:lnTo>
                              <a:pt x="1166" y="194"/>
                            </a:lnTo>
                            <a:lnTo>
                              <a:pt x="1160" y="192"/>
                            </a:lnTo>
                            <a:lnTo>
                              <a:pt x="1157" y="192"/>
                            </a:lnTo>
                            <a:lnTo>
                              <a:pt x="1151" y="190"/>
                            </a:lnTo>
                            <a:lnTo>
                              <a:pt x="1147" y="190"/>
                            </a:lnTo>
                            <a:lnTo>
                              <a:pt x="1143" y="188"/>
                            </a:lnTo>
                            <a:lnTo>
                              <a:pt x="1141" y="186"/>
                            </a:lnTo>
                            <a:lnTo>
                              <a:pt x="1138" y="186"/>
                            </a:lnTo>
                            <a:lnTo>
                              <a:pt x="1136" y="186"/>
                            </a:lnTo>
                            <a:lnTo>
                              <a:pt x="1134" y="186"/>
                            </a:lnTo>
                            <a:lnTo>
                              <a:pt x="1130" y="186"/>
                            </a:lnTo>
                            <a:lnTo>
                              <a:pt x="1128" y="186"/>
                            </a:lnTo>
                            <a:lnTo>
                              <a:pt x="1124" y="186"/>
                            </a:lnTo>
                            <a:lnTo>
                              <a:pt x="1122" y="186"/>
                            </a:lnTo>
                            <a:lnTo>
                              <a:pt x="1120" y="186"/>
                            </a:lnTo>
                            <a:lnTo>
                              <a:pt x="1117" y="186"/>
                            </a:lnTo>
                            <a:lnTo>
                              <a:pt x="1115" y="186"/>
                            </a:lnTo>
                            <a:lnTo>
                              <a:pt x="1109" y="186"/>
                            </a:lnTo>
                            <a:lnTo>
                              <a:pt x="1105" y="188"/>
                            </a:lnTo>
                            <a:lnTo>
                              <a:pt x="1100" y="188"/>
                            </a:lnTo>
                            <a:lnTo>
                              <a:pt x="1094" y="190"/>
                            </a:lnTo>
                            <a:lnTo>
                              <a:pt x="1090" y="192"/>
                            </a:lnTo>
                            <a:lnTo>
                              <a:pt x="1086" y="192"/>
                            </a:lnTo>
                            <a:lnTo>
                              <a:pt x="1081" y="194"/>
                            </a:lnTo>
                            <a:lnTo>
                              <a:pt x="1077" y="198"/>
                            </a:lnTo>
                            <a:lnTo>
                              <a:pt x="1073" y="200"/>
                            </a:lnTo>
                            <a:lnTo>
                              <a:pt x="1067" y="203"/>
                            </a:lnTo>
                            <a:lnTo>
                              <a:pt x="1063" y="205"/>
                            </a:lnTo>
                            <a:lnTo>
                              <a:pt x="1058" y="207"/>
                            </a:lnTo>
                            <a:lnTo>
                              <a:pt x="1054" y="211"/>
                            </a:lnTo>
                            <a:lnTo>
                              <a:pt x="1050" y="215"/>
                            </a:lnTo>
                            <a:lnTo>
                              <a:pt x="1048" y="219"/>
                            </a:lnTo>
                            <a:lnTo>
                              <a:pt x="1044" y="222"/>
                            </a:lnTo>
                            <a:lnTo>
                              <a:pt x="1041" y="226"/>
                            </a:lnTo>
                            <a:lnTo>
                              <a:pt x="1039" y="232"/>
                            </a:lnTo>
                            <a:lnTo>
                              <a:pt x="1035" y="234"/>
                            </a:lnTo>
                            <a:lnTo>
                              <a:pt x="1033" y="240"/>
                            </a:lnTo>
                            <a:lnTo>
                              <a:pt x="1029" y="243"/>
                            </a:lnTo>
                            <a:lnTo>
                              <a:pt x="1027" y="249"/>
                            </a:lnTo>
                            <a:lnTo>
                              <a:pt x="1025" y="253"/>
                            </a:lnTo>
                            <a:lnTo>
                              <a:pt x="1023" y="259"/>
                            </a:lnTo>
                            <a:lnTo>
                              <a:pt x="1022" y="260"/>
                            </a:lnTo>
                            <a:lnTo>
                              <a:pt x="1022" y="264"/>
                            </a:lnTo>
                            <a:lnTo>
                              <a:pt x="1022" y="266"/>
                            </a:lnTo>
                            <a:lnTo>
                              <a:pt x="1022" y="270"/>
                            </a:lnTo>
                            <a:lnTo>
                              <a:pt x="919" y="730"/>
                            </a:lnTo>
                            <a:lnTo>
                              <a:pt x="915" y="728"/>
                            </a:lnTo>
                            <a:lnTo>
                              <a:pt x="913" y="726"/>
                            </a:lnTo>
                            <a:lnTo>
                              <a:pt x="907" y="724"/>
                            </a:lnTo>
                            <a:lnTo>
                              <a:pt x="905" y="720"/>
                            </a:lnTo>
                            <a:lnTo>
                              <a:pt x="904" y="719"/>
                            </a:lnTo>
                            <a:lnTo>
                              <a:pt x="900" y="717"/>
                            </a:lnTo>
                            <a:lnTo>
                              <a:pt x="896" y="713"/>
                            </a:lnTo>
                            <a:lnTo>
                              <a:pt x="892" y="713"/>
                            </a:lnTo>
                            <a:lnTo>
                              <a:pt x="1022" y="129"/>
                            </a:lnTo>
                            <a:lnTo>
                              <a:pt x="1022" y="125"/>
                            </a:lnTo>
                            <a:lnTo>
                              <a:pt x="1022" y="124"/>
                            </a:lnTo>
                            <a:lnTo>
                              <a:pt x="1022" y="120"/>
                            </a:lnTo>
                            <a:lnTo>
                              <a:pt x="1022" y="118"/>
                            </a:lnTo>
                            <a:lnTo>
                              <a:pt x="1022" y="114"/>
                            </a:lnTo>
                            <a:lnTo>
                              <a:pt x="1022" y="112"/>
                            </a:lnTo>
                            <a:lnTo>
                              <a:pt x="1022" y="110"/>
                            </a:lnTo>
                            <a:lnTo>
                              <a:pt x="1022" y="106"/>
                            </a:lnTo>
                            <a:lnTo>
                              <a:pt x="1022" y="105"/>
                            </a:lnTo>
                            <a:lnTo>
                              <a:pt x="1022" y="103"/>
                            </a:lnTo>
                            <a:lnTo>
                              <a:pt x="1022" y="99"/>
                            </a:lnTo>
                            <a:lnTo>
                              <a:pt x="1022" y="97"/>
                            </a:lnTo>
                            <a:lnTo>
                              <a:pt x="1022" y="91"/>
                            </a:lnTo>
                            <a:lnTo>
                              <a:pt x="1022" y="86"/>
                            </a:lnTo>
                            <a:lnTo>
                              <a:pt x="1020" y="82"/>
                            </a:lnTo>
                            <a:lnTo>
                              <a:pt x="1018" y="76"/>
                            </a:lnTo>
                            <a:lnTo>
                              <a:pt x="1016" y="70"/>
                            </a:lnTo>
                            <a:lnTo>
                              <a:pt x="1014" y="67"/>
                            </a:lnTo>
                            <a:lnTo>
                              <a:pt x="1012" y="61"/>
                            </a:lnTo>
                            <a:lnTo>
                              <a:pt x="1010" y="57"/>
                            </a:lnTo>
                            <a:lnTo>
                              <a:pt x="1008" y="53"/>
                            </a:lnTo>
                            <a:lnTo>
                              <a:pt x="1006" y="48"/>
                            </a:lnTo>
                            <a:lnTo>
                              <a:pt x="1004" y="44"/>
                            </a:lnTo>
                            <a:lnTo>
                              <a:pt x="1001" y="40"/>
                            </a:lnTo>
                            <a:lnTo>
                              <a:pt x="997" y="36"/>
                            </a:lnTo>
                            <a:lnTo>
                              <a:pt x="993" y="32"/>
                            </a:lnTo>
                            <a:lnTo>
                              <a:pt x="991" y="29"/>
                            </a:lnTo>
                            <a:lnTo>
                              <a:pt x="985" y="25"/>
                            </a:lnTo>
                            <a:lnTo>
                              <a:pt x="983" y="23"/>
                            </a:lnTo>
                            <a:lnTo>
                              <a:pt x="978" y="19"/>
                            </a:lnTo>
                            <a:lnTo>
                              <a:pt x="972" y="17"/>
                            </a:lnTo>
                            <a:lnTo>
                              <a:pt x="968" y="13"/>
                            </a:lnTo>
                            <a:lnTo>
                              <a:pt x="964" y="11"/>
                            </a:lnTo>
                            <a:lnTo>
                              <a:pt x="961" y="10"/>
                            </a:lnTo>
                            <a:lnTo>
                              <a:pt x="955" y="6"/>
                            </a:lnTo>
                            <a:lnTo>
                              <a:pt x="949" y="6"/>
                            </a:lnTo>
                            <a:lnTo>
                              <a:pt x="944" y="4"/>
                            </a:lnTo>
                            <a:lnTo>
                              <a:pt x="940" y="4"/>
                            </a:lnTo>
                            <a:lnTo>
                              <a:pt x="936" y="2"/>
                            </a:lnTo>
                            <a:lnTo>
                              <a:pt x="934" y="2"/>
                            </a:lnTo>
                            <a:lnTo>
                              <a:pt x="932" y="0"/>
                            </a:lnTo>
                            <a:lnTo>
                              <a:pt x="928" y="0"/>
                            </a:lnTo>
                            <a:lnTo>
                              <a:pt x="926" y="0"/>
                            </a:lnTo>
                            <a:lnTo>
                              <a:pt x="925" y="0"/>
                            </a:lnTo>
                            <a:lnTo>
                              <a:pt x="921" y="0"/>
                            </a:lnTo>
                            <a:lnTo>
                              <a:pt x="919" y="0"/>
                            </a:lnTo>
                            <a:lnTo>
                              <a:pt x="915" y="0"/>
                            </a:lnTo>
                            <a:lnTo>
                              <a:pt x="913" y="0"/>
                            </a:lnTo>
                            <a:lnTo>
                              <a:pt x="911" y="0"/>
                            </a:lnTo>
                            <a:lnTo>
                              <a:pt x="907" y="0"/>
                            </a:lnTo>
                            <a:lnTo>
                              <a:pt x="904" y="0"/>
                            </a:lnTo>
                            <a:lnTo>
                              <a:pt x="898" y="2"/>
                            </a:lnTo>
                            <a:lnTo>
                              <a:pt x="896" y="2"/>
                            </a:lnTo>
                            <a:lnTo>
                              <a:pt x="892" y="2"/>
                            </a:lnTo>
                            <a:lnTo>
                              <a:pt x="890" y="2"/>
                            </a:lnTo>
                            <a:lnTo>
                              <a:pt x="888" y="4"/>
                            </a:lnTo>
                            <a:lnTo>
                              <a:pt x="881" y="4"/>
                            </a:lnTo>
                            <a:lnTo>
                              <a:pt x="877" y="6"/>
                            </a:lnTo>
                            <a:lnTo>
                              <a:pt x="873" y="10"/>
                            </a:lnTo>
                            <a:lnTo>
                              <a:pt x="867" y="11"/>
                            </a:lnTo>
                            <a:lnTo>
                              <a:pt x="864" y="15"/>
                            </a:lnTo>
                            <a:lnTo>
                              <a:pt x="860" y="17"/>
                            </a:lnTo>
                            <a:lnTo>
                              <a:pt x="854" y="19"/>
                            </a:lnTo>
                            <a:lnTo>
                              <a:pt x="850" y="23"/>
                            </a:lnTo>
                            <a:lnTo>
                              <a:pt x="847" y="25"/>
                            </a:lnTo>
                            <a:lnTo>
                              <a:pt x="843" y="29"/>
                            </a:lnTo>
                            <a:lnTo>
                              <a:pt x="839" y="32"/>
                            </a:lnTo>
                            <a:lnTo>
                              <a:pt x="835" y="36"/>
                            </a:lnTo>
                            <a:lnTo>
                              <a:pt x="833" y="40"/>
                            </a:lnTo>
                            <a:lnTo>
                              <a:pt x="831" y="44"/>
                            </a:lnTo>
                            <a:lnTo>
                              <a:pt x="828" y="48"/>
                            </a:lnTo>
                            <a:lnTo>
                              <a:pt x="824" y="53"/>
                            </a:lnTo>
                            <a:lnTo>
                              <a:pt x="822" y="57"/>
                            </a:lnTo>
                            <a:lnTo>
                              <a:pt x="820" y="61"/>
                            </a:lnTo>
                            <a:lnTo>
                              <a:pt x="818" y="67"/>
                            </a:lnTo>
                            <a:lnTo>
                              <a:pt x="816" y="70"/>
                            </a:lnTo>
                            <a:lnTo>
                              <a:pt x="816" y="74"/>
                            </a:lnTo>
                            <a:lnTo>
                              <a:pt x="814" y="76"/>
                            </a:lnTo>
                            <a:lnTo>
                              <a:pt x="812" y="82"/>
                            </a:lnTo>
                            <a:lnTo>
                              <a:pt x="812" y="84"/>
                            </a:lnTo>
                            <a:lnTo>
                              <a:pt x="687" y="663"/>
                            </a:lnTo>
                            <a:lnTo>
                              <a:pt x="681" y="663"/>
                            </a:lnTo>
                            <a:lnTo>
                              <a:pt x="677" y="663"/>
                            </a:lnTo>
                            <a:lnTo>
                              <a:pt x="673" y="663"/>
                            </a:lnTo>
                            <a:lnTo>
                              <a:pt x="670" y="663"/>
                            </a:lnTo>
                            <a:lnTo>
                              <a:pt x="666" y="663"/>
                            </a:lnTo>
                            <a:lnTo>
                              <a:pt x="660" y="665"/>
                            </a:lnTo>
                            <a:lnTo>
                              <a:pt x="656" y="665"/>
                            </a:lnTo>
                            <a:lnTo>
                              <a:pt x="652" y="667"/>
                            </a:lnTo>
                            <a:lnTo>
                              <a:pt x="753" y="213"/>
                            </a:lnTo>
                            <a:lnTo>
                              <a:pt x="753" y="209"/>
                            </a:lnTo>
                            <a:lnTo>
                              <a:pt x="753" y="207"/>
                            </a:lnTo>
                            <a:lnTo>
                              <a:pt x="753" y="203"/>
                            </a:lnTo>
                            <a:lnTo>
                              <a:pt x="753" y="201"/>
                            </a:lnTo>
                            <a:lnTo>
                              <a:pt x="753" y="198"/>
                            </a:lnTo>
                            <a:lnTo>
                              <a:pt x="753" y="196"/>
                            </a:lnTo>
                            <a:lnTo>
                              <a:pt x="753" y="192"/>
                            </a:lnTo>
                            <a:lnTo>
                              <a:pt x="753" y="190"/>
                            </a:lnTo>
                            <a:lnTo>
                              <a:pt x="753" y="188"/>
                            </a:lnTo>
                            <a:lnTo>
                              <a:pt x="753" y="184"/>
                            </a:lnTo>
                            <a:lnTo>
                              <a:pt x="753" y="182"/>
                            </a:lnTo>
                            <a:lnTo>
                              <a:pt x="753" y="181"/>
                            </a:lnTo>
                            <a:lnTo>
                              <a:pt x="753" y="175"/>
                            </a:lnTo>
                            <a:lnTo>
                              <a:pt x="753" y="169"/>
                            </a:lnTo>
                            <a:lnTo>
                              <a:pt x="751" y="167"/>
                            </a:lnTo>
                            <a:lnTo>
                              <a:pt x="751" y="163"/>
                            </a:lnTo>
                            <a:lnTo>
                              <a:pt x="751" y="162"/>
                            </a:lnTo>
                            <a:lnTo>
                              <a:pt x="750" y="160"/>
                            </a:lnTo>
                            <a:lnTo>
                              <a:pt x="748" y="154"/>
                            </a:lnTo>
                            <a:lnTo>
                              <a:pt x="746" y="148"/>
                            </a:lnTo>
                            <a:lnTo>
                              <a:pt x="744" y="144"/>
                            </a:lnTo>
                            <a:lnTo>
                              <a:pt x="742" y="141"/>
                            </a:lnTo>
                            <a:lnTo>
                              <a:pt x="740" y="135"/>
                            </a:lnTo>
                            <a:lnTo>
                              <a:pt x="738" y="131"/>
                            </a:lnTo>
                            <a:lnTo>
                              <a:pt x="734" y="127"/>
                            </a:lnTo>
                            <a:lnTo>
                              <a:pt x="730" y="124"/>
                            </a:lnTo>
                            <a:lnTo>
                              <a:pt x="727" y="120"/>
                            </a:lnTo>
                            <a:lnTo>
                              <a:pt x="725" y="116"/>
                            </a:lnTo>
                            <a:lnTo>
                              <a:pt x="721" y="112"/>
                            </a:lnTo>
                            <a:lnTo>
                              <a:pt x="717" y="108"/>
                            </a:lnTo>
                            <a:lnTo>
                              <a:pt x="713" y="105"/>
                            </a:lnTo>
                            <a:lnTo>
                              <a:pt x="710" y="103"/>
                            </a:lnTo>
                            <a:lnTo>
                              <a:pt x="704" y="99"/>
                            </a:lnTo>
                            <a:lnTo>
                              <a:pt x="700" y="97"/>
                            </a:lnTo>
                            <a:lnTo>
                              <a:pt x="694" y="95"/>
                            </a:lnTo>
                            <a:lnTo>
                              <a:pt x="691" y="91"/>
                            </a:lnTo>
                            <a:lnTo>
                              <a:pt x="685" y="89"/>
                            </a:lnTo>
                            <a:lnTo>
                              <a:pt x="681" y="87"/>
                            </a:lnTo>
                            <a:lnTo>
                              <a:pt x="675" y="86"/>
                            </a:lnTo>
                            <a:lnTo>
                              <a:pt x="672" y="86"/>
                            </a:lnTo>
                            <a:lnTo>
                              <a:pt x="668" y="84"/>
                            </a:lnTo>
                            <a:lnTo>
                              <a:pt x="666" y="84"/>
                            </a:lnTo>
                            <a:lnTo>
                              <a:pt x="664" y="84"/>
                            </a:lnTo>
                            <a:lnTo>
                              <a:pt x="660" y="84"/>
                            </a:lnTo>
                            <a:lnTo>
                              <a:pt x="658" y="84"/>
                            </a:lnTo>
                            <a:lnTo>
                              <a:pt x="654" y="84"/>
                            </a:lnTo>
                            <a:lnTo>
                              <a:pt x="652" y="84"/>
                            </a:lnTo>
                            <a:lnTo>
                              <a:pt x="651" y="84"/>
                            </a:lnTo>
                            <a:lnTo>
                              <a:pt x="647" y="84"/>
                            </a:lnTo>
                            <a:lnTo>
                              <a:pt x="645" y="84"/>
                            </a:lnTo>
                            <a:lnTo>
                              <a:pt x="643" y="84"/>
                            </a:lnTo>
                            <a:lnTo>
                              <a:pt x="639" y="84"/>
                            </a:lnTo>
                            <a:lnTo>
                              <a:pt x="635" y="84"/>
                            </a:lnTo>
                            <a:lnTo>
                              <a:pt x="630" y="84"/>
                            </a:lnTo>
                            <a:lnTo>
                              <a:pt x="628" y="84"/>
                            </a:lnTo>
                            <a:lnTo>
                              <a:pt x="624" y="86"/>
                            </a:lnTo>
                            <a:lnTo>
                              <a:pt x="622" y="86"/>
                            </a:lnTo>
                            <a:lnTo>
                              <a:pt x="618" y="86"/>
                            </a:lnTo>
                            <a:lnTo>
                              <a:pt x="614" y="87"/>
                            </a:lnTo>
                            <a:lnTo>
                              <a:pt x="609" y="89"/>
                            </a:lnTo>
                            <a:lnTo>
                              <a:pt x="603" y="91"/>
                            </a:lnTo>
                            <a:lnTo>
                              <a:pt x="599" y="95"/>
                            </a:lnTo>
                            <a:lnTo>
                              <a:pt x="595" y="97"/>
                            </a:lnTo>
                            <a:lnTo>
                              <a:pt x="592" y="99"/>
                            </a:lnTo>
                            <a:lnTo>
                              <a:pt x="586" y="103"/>
                            </a:lnTo>
                            <a:lnTo>
                              <a:pt x="582" y="105"/>
                            </a:lnTo>
                            <a:lnTo>
                              <a:pt x="578" y="108"/>
                            </a:lnTo>
                            <a:lnTo>
                              <a:pt x="574" y="112"/>
                            </a:lnTo>
                            <a:lnTo>
                              <a:pt x="571" y="116"/>
                            </a:lnTo>
                            <a:lnTo>
                              <a:pt x="567" y="120"/>
                            </a:lnTo>
                            <a:lnTo>
                              <a:pt x="565" y="124"/>
                            </a:lnTo>
                            <a:lnTo>
                              <a:pt x="563" y="127"/>
                            </a:lnTo>
                            <a:lnTo>
                              <a:pt x="559" y="131"/>
                            </a:lnTo>
                            <a:lnTo>
                              <a:pt x="555" y="135"/>
                            </a:lnTo>
                            <a:lnTo>
                              <a:pt x="554" y="141"/>
                            </a:lnTo>
                            <a:lnTo>
                              <a:pt x="552" y="146"/>
                            </a:lnTo>
                            <a:lnTo>
                              <a:pt x="550" y="150"/>
                            </a:lnTo>
                            <a:lnTo>
                              <a:pt x="548" y="156"/>
                            </a:lnTo>
                            <a:lnTo>
                              <a:pt x="546" y="158"/>
                            </a:lnTo>
                            <a:lnTo>
                              <a:pt x="546" y="160"/>
                            </a:lnTo>
                            <a:lnTo>
                              <a:pt x="544" y="163"/>
                            </a:lnTo>
                            <a:lnTo>
                              <a:pt x="544" y="167"/>
                            </a:lnTo>
                            <a:lnTo>
                              <a:pt x="361" y="1127"/>
                            </a:lnTo>
                            <a:lnTo>
                              <a:pt x="361" y="1127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507" name="AutoShape 182"/>
                    <p:cNvSpPr/>
                    <p:nvPr/>
                  </p:nvSpPr>
                  <p:spPr>
                    <a:xfrm rot="10690800">
                      <a:off x="4035600" y="2158560"/>
                      <a:ext cx="88560" cy="75960"/>
                    </a:xfrm>
                    <a:prstGeom prst="hexagon">
                      <a:avLst>
                        <a:gd name="adj" fmla="val 29147"/>
                        <a:gd name="vf" fmla="val 115470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80" bIns="1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08" name="Group 183"/>
                  <p:cNvGrpSpPr/>
                  <p:nvPr/>
                </p:nvGrpSpPr>
                <p:grpSpPr>
                  <a:xfrm>
                    <a:off x="3971160" y="2671200"/>
                    <a:ext cx="249480" cy="1248120"/>
                    <a:chOff x="3971160" y="2671200"/>
                    <a:chExt cx="249480" cy="1248120"/>
                  </a:xfrm>
                </p:grpSpPr>
                <p:grpSp>
                  <p:nvGrpSpPr>
                    <p:cNvPr id="3509" name="Group 184"/>
                    <p:cNvGrpSpPr/>
                    <p:nvPr/>
                  </p:nvGrpSpPr>
                  <p:grpSpPr>
                    <a:xfrm>
                      <a:off x="3971160" y="2671200"/>
                      <a:ext cx="249480" cy="614520"/>
                      <a:chOff x="3971160" y="2671200"/>
                      <a:chExt cx="249480" cy="614520"/>
                    </a:xfrm>
                  </p:grpSpPr>
                  <p:sp>
                    <p:nvSpPr>
                      <p:cNvPr id="3510" name="AutoShape 185"/>
                      <p:cNvSpPr/>
                      <p:nvPr/>
                    </p:nvSpPr>
                    <p:spPr>
                      <a:xfrm rot="63600">
                        <a:off x="3997080" y="2792520"/>
                        <a:ext cx="179640" cy="49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1556" y="21600"/>
                            </a:lnTo>
                            <a:lnTo>
                              <a:pt x="20044" y="21600"/>
                            </a:lnTo>
                            <a:lnTo>
                              <a:pt x="2160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0c0c0"/>
                          </a:gs>
                          <a:gs pos="100000">
                            <a:srgbClr val="ffffff"/>
                          </a:gs>
                        </a:gsLst>
                        <a:lin ang="180000"/>
                      </a:gradFill>
                      <a:ln w="93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11" name="AutoShape 186"/>
                      <p:cNvSpPr/>
                      <p:nvPr/>
                    </p:nvSpPr>
                    <p:spPr>
                      <a:xfrm rot="5641800">
                        <a:off x="3999960" y="2656440"/>
                        <a:ext cx="191520" cy="23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934" y="2201"/>
                              <a:pt x="12267" y="5080"/>
                              <a:pt x="12267" y="10800"/>
                            </a:cubicBezTo>
                            <a:cubicBezTo>
                              <a:pt x="12267" y="16520"/>
                              <a:pt x="16934" y="19399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dddddd"/>
                          </a:gs>
                        </a:gsLst>
                        <a:lin ang="16200000"/>
                      </a:gradFill>
                      <a:ln w="93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512" name="Group 187"/>
                    <p:cNvGrpSpPr/>
                    <p:nvPr/>
                  </p:nvGrpSpPr>
                  <p:grpSpPr>
                    <a:xfrm>
                      <a:off x="3973320" y="3170160"/>
                      <a:ext cx="230040" cy="749160"/>
                      <a:chOff x="3973320" y="3170160"/>
                      <a:chExt cx="230040" cy="749160"/>
                    </a:xfrm>
                  </p:grpSpPr>
                  <p:sp>
                    <p:nvSpPr>
                      <p:cNvPr id="3513" name="AutoShape 188"/>
                      <p:cNvSpPr/>
                      <p:nvPr/>
                    </p:nvSpPr>
                    <p:spPr>
                      <a:xfrm rot="78600">
                        <a:off x="3987360" y="3305880"/>
                        <a:ext cx="180360" cy="360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4308" y="21600"/>
                            </a:lnTo>
                            <a:lnTo>
                              <a:pt x="17292" y="21600"/>
                            </a:lnTo>
                            <a:lnTo>
                              <a:pt x="2160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0c0c0"/>
                          </a:gs>
                          <a:gs pos="100000">
                            <a:srgbClr val="ffffff"/>
                          </a:gs>
                        </a:gsLst>
                        <a:lin ang="540000"/>
                      </a:gradFill>
                      <a:ln w="93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14" name="Oval 189"/>
                      <p:cNvSpPr/>
                      <p:nvPr/>
                    </p:nvSpPr>
                    <p:spPr>
                      <a:xfrm rot="617400">
                        <a:off x="3988440" y="3185280"/>
                        <a:ext cx="187200" cy="1904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dddddd"/>
                          </a:gs>
                          <a:gs pos="100000">
                            <a:srgbClr val="ffffff"/>
                          </a:gs>
                        </a:gsLst>
                        <a:lin ang="0"/>
                      </a:gradFill>
                      <a:ln w="9360">
                        <a:solidFill>
                          <a:srgbClr val="c0c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15" name="Freeform 190"/>
                      <p:cNvSpPr/>
                      <p:nvPr/>
                    </p:nvSpPr>
                    <p:spPr>
                      <a:xfrm rot="10112400">
                        <a:off x="4000680" y="3616920"/>
                        <a:ext cx="175680" cy="28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02" h="2302">
                            <a:moveTo>
                              <a:pt x="361" y="1127"/>
                            </a:moveTo>
                            <a:lnTo>
                              <a:pt x="280" y="1116"/>
                            </a:lnTo>
                            <a:lnTo>
                              <a:pt x="373" y="711"/>
                            </a:lnTo>
                            <a:lnTo>
                              <a:pt x="373" y="709"/>
                            </a:lnTo>
                            <a:lnTo>
                              <a:pt x="375" y="705"/>
                            </a:lnTo>
                            <a:lnTo>
                              <a:pt x="375" y="703"/>
                            </a:lnTo>
                            <a:lnTo>
                              <a:pt x="375" y="700"/>
                            </a:lnTo>
                            <a:lnTo>
                              <a:pt x="375" y="698"/>
                            </a:lnTo>
                            <a:lnTo>
                              <a:pt x="375" y="696"/>
                            </a:lnTo>
                            <a:lnTo>
                              <a:pt x="375" y="692"/>
                            </a:lnTo>
                            <a:lnTo>
                              <a:pt x="375" y="690"/>
                            </a:lnTo>
                            <a:lnTo>
                              <a:pt x="375" y="684"/>
                            </a:lnTo>
                            <a:lnTo>
                              <a:pt x="375" y="681"/>
                            </a:lnTo>
                            <a:lnTo>
                              <a:pt x="375" y="675"/>
                            </a:lnTo>
                            <a:lnTo>
                              <a:pt x="375" y="669"/>
                            </a:lnTo>
                            <a:lnTo>
                              <a:pt x="371" y="665"/>
                            </a:lnTo>
                            <a:lnTo>
                              <a:pt x="371" y="660"/>
                            </a:lnTo>
                            <a:lnTo>
                              <a:pt x="369" y="654"/>
                            </a:lnTo>
                            <a:lnTo>
                              <a:pt x="367" y="652"/>
                            </a:lnTo>
                            <a:lnTo>
                              <a:pt x="365" y="646"/>
                            </a:lnTo>
                            <a:lnTo>
                              <a:pt x="363" y="641"/>
                            </a:lnTo>
                            <a:lnTo>
                              <a:pt x="361" y="637"/>
                            </a:lnTo>
                            <a:lnTo>
                              <a:pt x="358" y="633"/>
                            </a:lnTo>
                            <a:lnTo>
                              <a:pt x="356" y="629"/>
                            </a:lnTo>
                            <a:lnTo>
                              <a:pt x="354" y="623"/>
                            </a:lnTo>
                            <a:lnTo>
                              <a:pt x="350" y="620"/>
                            </a:lnTo>
                            <a:lnTo>
                              <a:pt x="346" y="616"/>
                            </a:lnTo>
                            <a:lnTo>
                              <a:pt x="342" y="612"/>
                            </a:lnTo>
                            <a:lnTo>
                              <a:pt x="339" y="610"/>
                            </a:lnTo>
                            <a:lnTo>
                              <a:pt x="335" y="606"/>
                            </a:lnTo>
                            <a:lnTo>
                              <a:pt x="331" y="603"/>
                            </a:lnTo>
                            <a:lnTo>
                              <a:pt x="325" y="601"/>
                            </a:lnTo>
                            <a:lnTo>
                              <a:pt x="321" y="597"/>
                            </a:lnTo>
                            <a:lnTo>
                              <a:pt x="318" y="595"/>
                            </a:lnTo>
                            <a:lnTo>
                              <a:pt x="312" y="593"/>
                            </a:lnTo>
                            <a:lnTo>
                              <a:pt x="306" y="591"/>
                            </a:lnTo>
                            <a:lnTo>
                              <a:pt x="302" y="589"/>
                            </a:lnTo>
                            <a:lnTo>
                              <a:pt x="299" y="589"/>
                            </a:lnTo>
                            <a:lnTo>
                              <a:pt x="295" y="587"/>
                            </a:lnTo>
                            <a:lnTo>
                              <a:pt x="291" y="587"/>
                            </a:lnTo>
                            <a:lnTo>
                              <a:pt x="287" y="585"/>
                            </a:lnTo>
                            <a:lnTo>
                              <a:pt x="285" y="585"/>
                            </a:lnTo>
                            <a:lnTo>
                              <a:pt x="283" y="585"/>
                            </a:lnTo>
                            <a:lnTo>
                              <a:pt x="280" y="585"/>
                            </a:lnTo>
                            <a:lnTo>
                              <a:pt x="276" y="585"/>
                            </a:lnTo>
                            <a:lnTo>
                              <a:pt x="274" y="585"/>
                            </a:lnTo>
                            <a:lnTo>
                              <a:pt x="272" y="585"/>
                            </a:lnTo>
                            <a:lnTo>
                              <a:pt x="268" y="585"/>
                            </a:lnTo>
                            <a:lnTo>
                              <a:pt x="266" y="585"/>
                            </a:lnTo>
                            <a:lnTo>
                              <a:pt x="263" y="585"/>
                            </a:lnTo>
                            <a:lnTo>
                              <a:pt x="261" y="587"/>
                            </a:lnTo>
                            <a:lnTo>
                              <a:pt x="259" y="587"/>
                            </a:lnTo>
                            <a:lnTo>
                              <a:pt x="255" y="587"/>
                            </a:lnTo>
                            <a:lnTo>
                              <a:pt x="253" y="589"/>
                            </a:lnTo>
                            <a:lnTo>
                              <a:pt x="249" y="589"/>
                            </a:lnTo>
                            <a:lnTo>
                              <a:pt x="247" y="589"/>
                            </a:lnTo>
                            <a:lnTo>
                              <a:pt x="243" y="591"/>
                            </a:lnTo>
                            <a:lnTo>
                              <a:pt x="240" y="591"/>
                            </a:lnTo>
                            <a:lnTo>
                              <a:pt x="238" y="593"/>
                            </a:lnTo>
                            <a:lnTo>
                              <a:pt x="236" y="595"/>
                            </a:lnTo>
                            <a:lnTo>
                              <a:pt x="232" y="595"/>
                            </a:lnTo>
                            <a:lnTo>
                              <a:pt x="230" y="597"/>
                            </a:lnTo>
                            <a:lnTo>
                              <a:pt x="228" y="599"/>
                            </a:lnTo>
                            <a:lnTo>
                              <a:pt x="224" y="601"/>
                            </a:lnTo>
                            <a:lnTo>
                              <a:pt x="223" y="601"/>
                            </a:lnTo>
                            <a:lnTo>
                              <a:pt x="219" y="603"/>
                            </a:lnTo>
                            <a:lnTo>
                              <a:pt x="217" y="604"/>
                            </a:lnTo>
                            <a:lnTo>
                              <a:pt x="211" y="608"/>
                            </a:lnTo>
                            <a:lnTo>
                              <a:pt x="207" y="612"/>
                            </a:lnTo>
                            <a:lnTo>
                              <a:pt x="204" y="616"/>
                            </a:lnTo>
                            <a:lnTo>
                              <a:pt x="198" y="618"/>
                            </a:lnTo>
                            <a:lnTo>
                              <a:pt x="194" y="623"/>
                            </a:lnTo>
                            <a:lnTo>
                              <a:pt x="188" y="627"/>
                            </a:lnTo>
                            <a:lnTo>
                              <a:pt x="185" y="633"/>
                            </a:lnTo>
                            <a:lnTo>
                              <a:pt x="181" y="637"/>
                            </a:lnTo>
                            <a:lnTo>
                              <a:pt x="177" y="641"/>
                            </a:lnTo>
                            <a:lnTo>
                              <a:pt x="173" y="646"/>
                            </a:lnTo>
                            <a:lnTo>
                              <a:pt x="169" y="652"/>
                            </a:lnTo>
                            <a:lnTo>
                              <a:pt x="166" y="656"/>
                            </a:lnTo>
                            <a:lnTo>
                              <a:pt x="162" y="662"/>
                            </a:lnTo>
                            <a:lnTo>
                              <a:pt x="160" y="665"/>
                            </a:lnTo>
                            <a:lnTo>
                              <a:pt x="158" y="669"/>
                            </a:lnTo>
                            <a:lnTo>
                              <a:pt x="158" y="671"/>
                            </a:lnTo>
                            <a:lnTo>
                              <a:pt x="156" y="673"/>
                            </a:lnTo>
                            <a:lnTo>
                              <a:pt x="154" y="677"/>
                            </a:lnTo>
                            <a:lnTo>
                              <a:pt x="152" y="679"/>
                            </a:lnTo>
                            <a:lnTo>
                              <a:pt x="152" y="681"/>
                            </a:lnTo>
                            <a:lnTo>
                              <a:pt x="150" y="684"/>
                            </a:lnTo>
                            <a:lnTo>
                              <a:pt x="150" y="688"/>
                            </a:lnTo>
                            <a:lnTo>
                              <a:pt x="146" y="694"/>
                            </a:lnTo>
                            <a:lnTo>
                              <a:pt x="145" y="701"/>
                            </a:lnTo>
                            <a:lnTo>
                              <a:pt x="143" y="709"/>
                            </a:lnTo>
                            <a:lnTo>
                              <a:pt x="139" y="717"/>
                            </a:lnTo>
                            <a:lnTo>
                              <a:pt x="137" y="724"/>
                            </a:lnTo>
                            <a:lnTo>
                              <a:pt x="135" y="732"/>
                            </a:lnTo>
                            <a:lnTo>
                              <a:pt x="131" y="739"/>
                            </a:lnTo>
                            <a:lnTo>
                              <a:pt x="129" y="747"/>
                            </a:lnTo>
                            <a:lnTo>
                              <a:pt x="126" y="755"/>
                            </a:lnTo>
                            <a:lnTo>
                              <a:pt x="124" y="760"/>
                            </a:lnTo>
                            <a:lnTo>
                              <a:pt x="122" y="768"/>
                            </a:lnTo>
                            <a:lnTo>
                              <a:pt x="120" y="776"/>
                            </a:lnTo>
                            <a:lnTo>
                              <a:pt x="116" y="781"/>
                            </a:lnTo>
                            <a:lnTo>
                              <a:pt x="114" y="789"/>
                            </a:lnTo>
                            <a:lnTo>
                              <a:pt x="112" y="796"/>
                            </a:lnTo>
                            <a:lnTo>
                              <a:pt x="110" y="804"/>
                            </a:lnTo>
                            <a:lnTo>
                              <a:pt x="107" y="812"/>
                            </a:lnTo>
                            <a:lnTo>
                              <a:pt x="107" y="817"/>
                            </a:lnTo>
                            <a:lnTo>
                              <a:pt x="103" y="823"/>
                            </a:lnTo>
                            <a:lnTo>
                              <a:pt x="101" y="831"/>
                            </a:lnTo>
                            <a:lnTo>
                              <a:pt x="97" y="836"/>
                            </a:lnTo>
                            <a:lnTo>
                              <a:pt x="97" y="844"/>
                            </a:lnTo>
                            <a:lnTo>
                              <a:pt x="93" y="852"/>
                            </a:lnTo>
                            <a:lnTo>
                              <a:pt x="93" y="857"/>
                            </a:lnTo>
                            <a:lnTo>
                              <a:pt x="89" y="865"/>
                            </a:lnTo>
                            <a:lnTo>
                              <a:pt x="88" y="871"/>
                            </a:lnTo>
                            <a:lnTo>
                              <a:pt x="86" y="878"/>
                            </a:lnTo>
                            <a:lnTo>
                              <a:pt x="84" y="884"/>
                            </a:lnTo>
                            <a:lnTo>
                              <a:pt x="82" y="892"/>
                            </a:lnTo>
                            <a:lnTo>
                              <a:pt x="80" y="899"/>
                            </a:lnTo>
                            <a:lnTo>
                              <a:pt x="78" y="907"/>
                            </a:lnTo>
                            <a:lnTo>
                              <a:pt x="74" y="912"/>
                            </a:lnTo>
                            <a:lnTo>
                              <a:pt x="72" y="920"/>
                            </a:lnTo>
                            <a:lnTo>
                              <a:pt x="72" y="926"/>
                            </a:lnTo>
                            <a:lnTo>
                              <a:pt x="68" y="931"/>
                            </a:lnTo>
                            <a:lnTo>
                              <a:pt x="67" y="939"/>
                            </a:lnTo>
                            <a:lnTo>
                              <a:pt x="65" y="945"/>
                            </a:lnTo>
                            <a:lnTo>
                              <a:pt x="63" y="952"/>
                            </a:lnTo>
                            <a:lnTo>
                              <a:pt x="59" y="958"/>
                            </a:lnTo>
                            <a:lnTo>
                              <a:pt x="57" y="966"/>
                            </a:lnTo>
                            <a:lnTo>
                              <a:pt x="55" y="971"/>
                            </a:lnTo>
                            <a:lnTo>
                              <a:pt x="53" y="979"/>
                            </a:lnTo>
                            <a:lnTo>
                              <a:pt x="51" y="987"/>
                            </a:lnTo>
                            <a:lnTo>
                              <a:pt x="49" y="994"/>
                            </a:lnTo>
                            <a:lnTo>
                              <a:pt x="48" y="1000"/>
                            </a:lnTo>
                            <a:lnTo>
                              <a:pt x="46" y="1007"/>
                            </a:lnTo>
                            <a:lnTo>
                              <a:pt x="44" y="1015"/>
                            </a:lnTo>
                            <a:lnTo>
                              <a:pt x="42" y="1021"/>
                            </a:lnTo>
                            <a:lnTo>
                              <a:pt x="42" y="1028"/>
                            </a:lnTo>
                            <a:lnTo>
                              <a:pt x="38" y="1036"/>
                            </a:lnTo>
                            <a:lnTo>
                              <a:pt x="36" y="1042"/>
                            </a:lnTo>
                            <a:lnTo>
                              <a:pt x="36" y="1049"/>
                            </a:lnTo>
                            <a:lnTo>
                              <a:pt x="34" y="1057"/>
                            </a:lnTo>
                            <a:lnTo>
                              <a:pt x="30" y="1063"/>
                            </a:lnTo>
                            <a:lnTo>
                              <a:pt x="30" y="1070"/>
                            </a:lnTo>
                            <a:lnTo>
                              <a:pt x="29" y="1078"/>
                            </a:lnTo>
                            <a:lnTo>
                              <a:pt x="27" y="1085"/>
                            </a:lnTo>
                            <a:lnTo>
                              <a:pt x="25" y="1093"/>
                            </a:lnTo>
                            <a:lnTo>
                              <a:pt x="23" y="1101"/>
                            </a:lnTo>
                            <a:lnTo>
                              <a:pt x="21" y="1108"/>
                            </a:lnTo>
                            <a:lnTo>
                              <a:pt x="19" y="1116"/>
                            </a:lnTo>
                            <a:lnTo>
                              <a:pt x="17" y="1123"/>
                            </a:lnTo>
                            <a:lnTo>
                              <a:pt x="17" y="1131"/>
                            </a:lnTo>
                            <a:lnTo>
                              <a:pt x="15" y="1139"/>
                            </a:lnTo>
                            <a:lnTo>
                              <a:pt x="13" y="1148"/>
                            </a:lnTo>
                            <a:lnTo>
                              <a:pt x="10" y="1158"/>
                            </a:lnTo>
                            <a:lnTo>
                              <a:pt x="10" y="1165"/>
                            </a:lnTo>
                            <a:lnTo>
                              <a:pt x="8" y="1175"/>
                            </a:lnTo>
                            <a:lnTo>
                              <a:pt x="6" y="1182"/>
                            </a:lnTo>
                            <a:lnTo>
                              <a:pt x="6" y="1192"/>
                            </a:lnTo>
                            <a:lnTo>
                              <a:pt x="4" y="1201"/>
                            </a:lnTo>
                            <a:lnTo>
                              <a:pt x="2" y="1211"/>
                            </a:lnTo>
                            <a:lnTo>
                              <a:pt x="2" y="1218"/>
                            </a:lnTo>
                            <a:lnTo>
                              <a:pt x="0" y="1230"/>
                            </a:lnTo>
                            <a:lnTo>
                              <a:pt x="0" y="1237"/>
                            </a:lnTo>
                            <a:lnTo>
                              <a:pt x="0" y="1247"/>
                            </a:lnTo>
                            <a:lnTo>
                              <a:pt x="0" y="1257"/>
                            </a:lnTo>
                            <a:lnTo>
                              <a:pt x="0" y="1268"/>
                            </a:lnTo>
                            <a:lnTo>
                              <a:pt x="0" y="1276"/>
                            </a:lnTo>
                            <a:lnTo>
                              <a:pt x="0" y="1285"/>
                            </a:lnTo>
                            <a:lnTo>
                              <a:pt x="0" y="1296"/>
                            </a:lnTo>
                            <a:lnTo>
                              <a:pt x="0" y="1304"/>
                            </a:lnTo>
                            <a:lnTo>
                              <a:pt x="0" y="1314"/>
                            </a:lnTo>
                            <a:lnTo>
                              <a:pt x="0" y="1323"/>
                            </a:lnTo>
                            <a:lnTo>
                              <a:pt x="0" y="1333"/>
                            </a:lnTo>
                            <a:lnTo>
                              <a:pt x="2" y="1342"/>
                            </a:lnTo>
                            <a:lnTo>
                              <a:pt x="2" y="1352"/>
                            </a:lnTo>
                            <a:lnTo>
                              <a:pt x="4" y="1363"/>
                            </a:lnTo>
                            <a:lnTo>
                              <a:pt x="4" y="1371"/>
                            </a:lnTo>
                            <a:lnTo>
                              <a:pt x="6" y="1382"/>
                            </a:lnTo>
                            <a:lnTo>
                              <a:pt x="8" y="1390"/>
                            </a:lnTo>
                            <a:lnTo>
                              <a:pt x="8" y="1401"/>
                            </a:lnTo>
                            <a:lnTo>
                              <a:pt x="10" y="1409"/>
                            </a:lnTo>
                            <a:lnTo>
                              <a:pt x="11" y="1420"/>
                            </a:lnTo>
                            <a:lnTo>
                              <a:pt x="13" y="1429"/>
                            </a:lnTo>
                            <a:lnTo>
                              <a:pt x="15" y="1439"/>
                            </a:lnTo>
                            <a:lnTo>
                              <a:pt x="17" y="1448"/>
                            </a:lnTo>
                            <a:lnTo>
                              <a:pt x="19" y="1458"/>
                            </a:lnTo>
                            <a:lnTo>
                              <a:pt x="21" y="1468"/>
                            </a:lnTo>
                            <a:lnTo>
                              <a:pt x="23" y="1477"/>
                            </a:lnTo>
                            <a:lnTo>
                              <a:pt x="27" y="1487"/>
                            </a:lnTo>
                            <a:lnTo>
                              <a:pt x="29" y="1496"/>
                            </a:lnTo>
                            <a:lnTo>
                              <a:pt x="30" y="1506"/>
                            </a:lnTo>
                            <a:lnTo>
                              <a:pt x="34" y="1515"/>
                            </a:lnTo>
                            <a:lnTo>
                              <a:pt x="36" y="1525"/>
                            </a:lnTo>
                            <a:lnTo>
                              <a:pt x="38" y="1534"/>
                            </a:lnTo>
                            <a:lnTo>
                              <a:pt x="42" y="1544"/>
                            </a:lnTo>
                            <a:lnTo>
                              <a:pt x="46" y="1553"/>
                            </a:lnTo>
                            <a:lnTo>
                              <a:pt x="48" y="1561"/>
                            </a:lnTo>
                            <a:lnTo>
                              <a:pt x="51" y="1572"/>
                            </a:lnTo>
                            <a:lnTo>
                              <a:pt x="55" y="1580"/>
                            </a:lnTo>
                            <a:lnTo>
                              <a:pt x="59" y="1589"/>
                            </a:lnTo>
                            <a:lnTo>
                              <a:pt x="63" y="1599"/>
                            </a:lnTo>
                            <a:lnTo>
                              <a:pt x="67" y="1608"/>
                            </a:lnTo>
                            <a:lnTo>
                              <a:pt x="68" y="1616"/>
                            </a:lnTo>
                            <a:lnTo>
                              <a:pt x="74" y="1627"/>
                            </a:lnTo>
                            <a:lnTo>
                              <a:pt x="78" y="1635"/>
                            </a:lnTo>
                            <a:lnTo>
                              <a:pt x="82" y="1644"/>
                            </a:lnTo>
                            <a:lnTo>
                              <a:pt x="86" y="1652"/>
                            </a:lnTo>
                            <a:lnTo>
                              <a:pt x="89" y="1661"/>
                            </a:lnTo>
                            <a:lnTo>
                              <a:pt x="95" y="1669"/>
                            </a:lnTo>
                            <a:lnTo>
                              <a:pt x="99" y="1679"/>
                            </a:lnTo>
                            <a:lnTo>
                              <a:pt x="103" y="1688"/>
                            </a:lnTo>
                            <a:lnTo>
                              <a:pt x="108" y="1696"/>
                            </a:lnTo>
                            <a:lnTo>
                              <a:pt x="114" y="1703"/>
                            </a:lnTo>
                            <a:lnTo>
                              <a:pt x="118" y="1713"/>
                            </a:lnTo>
                            <a:lnTo>
                              <a:pt x="124" y="1722"/>
                            </a:lnTo>
                            <a:lnTo>
                              <a:pt x="127" y="1732"/>
                            </a:lnTo>
                            <a:lnTo>
                              <a:pt x="131" y="1736"/>
                            </a:lnTo>
                            <a:lnTo>
                              <a:pt x="135" y="1739"/>
                            </a:lnTo>
                            <a:lnTo>
                              <a:pt x="135" y="1743"/>
                            </a:lnTo>
                            <a:lnTo>
                              <a:pt x="137" y="1745"/>
                            </a:lnTo>
                            <a:lnTo>
                              <a:pt x="139" y="1747"/>
                            </a:lnTo>
                            <a:lnTo>
                              <a:pt x="141" y="1751"/>
                            </a:lnTo>
                            <a:lnTo>
                              <a:pt x="143" y="1755"/>
                            </a:lnTo>
                            <a:lnTo>
                              <a:pt x="143" y="1756"/>
                            </a:lnTo>
                            <a:lnTo>
                              <a:pt x="145" y="1760"/>
                            </a:lnTo>
                            <a:lnTo>
                              <a:pt x="146" y="1762"/>
                            </a:lnTo>
                            <a:lnTo>
                              <a:pt x="148" y="1766"/>
                            </a:lnTo>
                            <a:lnTo>
                              <a:pt x="150" y="1768"/>
                            </a:lnTo>
                            <a:lnTo>
                              <a:pt x="152" y="1770"/>
                            </a:lnTo>
                            <a:lnTo>
                              <a:pt x="156" y="1774"/>
                            </a:lnTo>
                            <a:lnTo>
                              <a:pt x="158" y="1777"/>
                            </a:lnTo>
                            <a:lnTo>
                              <a:pt x="160" y="1779"/>
                            </a:lnTo>
                            <a:lnTo>
                              <a:pt x="160" y="1783"/>
                            </a:lnTo>
                            <a:lnTo>
                              <a:pt x="162" y="1787"/>
                            </a:lnTo>
                            <a:lnTo>
                              <a:pt x="166" y="1789"/>
                            </a:lnTo>
                            <a:lnTo>
                              <a:pt x="166" y="1791"/>
                            </a:lnTo>
                            <a:lnTo>
                              <a:pt x="167" y="1794"/>
                            </a:lnTo>
                            <a:lnTo>
                              <a:pt x="169" y="1796"/>
                            </a:lnTo>
                            <a:lnTo>
                              <a:pt x="171" y="1800"/>
                            </a:lnTo>
                            <a:lnTo>
                              <a:pt x="173" y="1802"/>
                            </a:lnTo>
                            <a:lnTo>
                              <a:pt x="175" y="1806"/>
                            </a:lnTo>
                            <a:lnTo>
                              <a:pt x="177" y="1808"/>
                            </a:lnTo>
                            <a:lnTo>
                              <a:pt x="179" y="1812"/>
                            </a:lnTo>
                            <a:lnTo>
                              <a:pt x="181" y="1815"/>
                            </a:lnTo>
                            <a:lnTo>
                              <a:pt x="183" y="1817"/>
                            </a:lnTo>
                            <a:lnTo>
                              <a:pt x="185" y="1821"/>
                            </a:lnTo>
                            <a:lnTo>
                              <a:pt x="188" y="1827"/>
                            </a:lnTo>
                            <a:lnTo>
                              <a:pt x="190" y="1831"/>
                            </a:lnTo>
                            <a:lnTo>
                              <a:pt x="194" y="1836"/>
                            </a:lnTo>
                            <a:lnTo>
                              <a:pt x="198" y="1842"/>
                            </a:lnTo>
                            <a:lnTo>
                              <a:pt x="200" y="1846"/>
                            </a:lnTo>
                            <a:lnTo>
                              <a:pt x="204" y="1850"/>
                            </a:lnTo>
                            <a:lnTo>
                              <a:pt x="205" y="1853"/>
                            </a:lnTo>
                            <a:lnTo>
                              <a:pt x="207" y="1859"/>
                            </a:lnTo>
                            <a:lnTo>
                              <a:pt x="209" y="1861"/>
                            </a:lnTo>
                            <a:lnTo>
                              <a:pt x="211" y="1863"/>
                            </a:lnTo>
                            <a:lnTo>
                              <a:pt x="213" y="1867"/>
                            </a:lnTo>
                            <a:lnTo>
                              <a:pt x="215" y="1869"/>
                            </a:lnTo>
                            <a:lnTo>
                              <a:pt x="217" y="1870"/>
                            </a:lnTo>
                            <a:lnTo>
                              <a:pt x="219" y="1874"/>
                            </a:lnTo>
                            <a:lnTo>
                              <a:pt x="141" y="2163"/>
                            </a:lnTo>
                            <a:lnTo>
                              <a:pt x="143" y="2165"/>
                            </a:lnTo>
                            <a:lnTo>
                              <a:pt x="146" y="2165"/>
                            </a:lnTo>
                            <a:lnTo>
                              <a:pt x="150" y="2167"/>
                            </a:lnTo>
                            <a:lnTo>
                              <a:pt x="152" y="2167"/>
                            </a:lnTo>
                            <a:lnTo>
                              <a:pt x="154" y="2167"/>
                            </a:lnTo>
                            <a:lnTo>
                              <a:pt x="158" y="2167"/>
                            </a:lnTo>
                            <a:lnTo>
                              <a:pt x="162" y="2171"/>
                            </a:lnTo>
                            <a:lnTo>
                              <a:pt x="166" y="2171"/>
                            </a:lnTo>
                            <a:lnTo>
                              <a:pt x="167" y="2173"/>
                            </a:lnTo>
                            <a:lnTo>
                              <a:pt x="171" y="2173"/>
                            </a:lnTo>
                            <a:lnTo>
                              <a:pt x="175" y="2175"/>
                            </a:lnTo>
                            <a:lnTo>
                              <a:pt x="181" y="2175"/>
                            </a:lnTo>
                            <a:lnTo>
                              <a:pt x="185" y="2175"/>
                            </a:lnTo>
                            <a:lnTo>
                              <a:pt x="188" y="2177"/>
                            </a:lnTo>
                            <a:lnTo>
                              <a:pt x="194" y="2180"/>
                            </a:lnTo>
                            <a:lnTo>
                              <a:pt x="198" y="2180"/>
                            </a:lnTo>
                            <a:lnTo>
                              <a:pt x="204" y="2182"/>
                            </a:lnTo>
                            <a:lnTo>
                              <a:pt x="209" y="2182"/>
                            </a:lnTo>
                            <a:lnTo>
                              <a:pt x="215" y="2184"/>
                            </a:lnTo>
                            <a:lnTo>
                              <a:pt x="219" y="2186"/>
                            </a:lnTo>
                            <a:lnTo>
                              <a:pt x="224" y="2188"/>
                            </a:lnTo>
                            <a:lnTo>
                              <a:pt x="232" y="2188"/>
                            </a:lnTo>
                            <a:lnTo>
                              <a:pt x="238" y="2190"/>
                            </a:lnTo>
                            <a:lnTo>
                              <a:pt x="243" y="2190"/>
                            </a:lnTo>
                            <a:lnTo>
                              <a:pt x="251" y="2192"/>
                            </a:lnTo>
                            <a:lnTo>
                              <a:pt x="257" y="2194"/>
                            </a:lnTo>
                            <a:lnTo>
                              <a:pt x="264" y="2194"/>
                            </a:lnTo>
                            <a:lnTo>
                              <a:pt x="270" y="2196"/>
                            </a:lnTo>
                            <a:lnTo>
                              <a:pt x="276" y="2196"/>
                            </a:lnTo>
                            <a:lnTo>
                              <a:pt x="283" y="2197"/>
                            </a:lnTo>
                            <a:lnTo>
                              <a:pt x="291" y="2199"/>
                            </a:lnTo>
                            <a:lnTo>
                              <a:pt x="297" y="2199"/>
                            </a:lnTo>
                            <a:lnTo>
                              <a:pt x="304" y="2199"/>
                            </a:lnTo>
                            <a:lnTo>
                              <a:pt x="312" y="2199"/>
                            </a:lnTo>
                            <a:lnTo>
                              <a:pt x="320" y="2201"/>
                            </a:lnTo>
                            <a:lnTo>
                              <a:pt x="325" y="2201"/>
                            </a:lnTo>
                            <a:lnTo>
                              <a:pt x="333" y="2201"/>
                            </a:lnTo>
                            <a:lnTo>
                              <a:pt x="341" y="2201"/>
                            </a:lnTo>
                            <a:lnTo>
                              <a:pt x="348" y="2201"/>
                            </a:lnTo>
                            <a:lnTo>
                              <a:pt x="356" y="2201"/>
                            </a:lnTo>
                            <a:lnTo>
                              <a:pt x="363" y="2201"/>
                            </a:lnTo>
                            <a:lnTo>
                              <a:pt x="371" y="2201"/>
                            </a:lnTo>
                            <a:lnTo>
                              <a:pt x="379" y="2201"/>
                            </a:lnTo>
                            <a:lnTo>
                              <a:pt x="386" y="2201"/>
                            </a:lnTo>
                            <a:lnTo>
                              <a:pt x="394" y="2201"/>
                            </a:lnTo>
                            <a:lnTo>
                              <a:pt x="401" y="2199"/>
                            </a:lnTo>
                            <a:lnTo>
                              <a:pt x="409" y="2199"/>
                            </a:lnTo>
                            <a:lnTo>
                              <a:pt x="415" y="2197"/>
                            </a:lnTo>
                            <a:lnTo>
                              <a:pt x="422" y="2196"/>
                            </a:lnTo>
                            <a:lnTo>
                              <a:pt x="432" y="2196"/>
                            </a:lnTo>
                            <a:lnTo>
                              <a:pt x="439" y="2194"/>
                            </a:lnTo>
                            <a:lnTo>
                              <a:pt x="447" y="2192"/>
                            </a:lnTo>
                            <a:lnTo>
                              <a:pt x="455" y="2190"/>
                            </a:lnTo>
                            <a:lnTo>
                              <a:pt x="462" y="2188"/>
                            </a:lnTo>
                            <a:lnTo>
                              <a:pt x="470" y="2188"/>
                            </a:lnTo>
                            <a:lnTo>
                              <a:pt x="476" y="2184"/>
                            </a:lnTo>
                            <a:lnTo>
                              <a:pt x="483" y="2182"/>
                            </a:lnTo>
                            <a:lnTo>
                              <a:pt x="491" y="2180"/>
                            </a:lnTo>
                            <a:lnTo>
                              <a:pt x="498" y="2175"/>
                            </a:lnTo>
                            <a:lnTo>
                              <a:pt x="504" y="2173"/>
                            </a:lnTo>
                            <a:lnTo>
                              <a:pt x="512" y="2169"/>
                            </a:lnTo>
                            <a:lnTo>
                              <a:pt x="517" y="2165"/>
                            </a:lnTo>
                            <a:lnTo>
                              <a:pt x="525" y="2161"/>
                            </a:lnTo>
                            <a:lnTo>
                              <a:pt x="531" y="2158"/>
                            </a:lnTo>
                            <a:lnTo>
                              <a:pt x="536" y="2154"/>
                            </a:lnTo>
                            <a:lnTo>
                              <a:pt x="542" y="2150"/>
                            </a:lnTo>
                            <a:lnTo>
                              <a:pt x="550" y="2146"/>
                            </a:lnTo>
                            <a:lnTo>
                              <a:pt x="555" y="2142"/>
                            </a:lnTo>
                            <a:lnTo>
                              <a:pt x="559" y="2137"/>
                            </a:lnTo>
                            <a:lnTo>
                              <a:pt x="565" y="2133"/>
                            </a:lnTo>
                            <a:lnTo>
                              <a:pt x="571" y="2129"/>
                            </a:lnTo>
                            <a:lnTo>
                              <a:pt x="576" y="2123"/>
                            </a:lnTo>
                            <a:lnTo>
                              <a:pt x="582" y="2120"/>
                            </a:lnTo>
                            <a:lnTo>
                              <a:pt x="588" y="2114"/>
                            </a:lnTo>
                            <a:lnTo>
                              <a:pt x="592" y="2110"/>
                            </a:lnTo>
                            <a:lnTo>
                              <a:pt x="595" y="2106"/>
                            </a:lnTo>
                            <a:lnTo>
                              <a:pt x="601" y="2101"/>
                            </a:lnTo>
                            <a:lnTo>
                              <a:pt x="605" y="2095"/>
                            </a:lnTo>
                            <a:lnTo>
                              <a:pt x="611" y="2091"/>
                            </a:lnTo>
                            <a:lnTo>
                              <a:pt x="614" y="2085"/>
                            </a:lnTo>
                            <a:lnTo>
                              <a:pt x="618" y="2080"/>
                            </a:lnTo>
                            <a:lnTo>
                              <a:pt x="624" y="2076"/>
                            </a:lnTo>
                            <a:lnTo>
                              <a:pt x="628" y="2070"/>
                            </a:lnTo>
                            <a:lnTo>
                              <a:pt x="632" y="2064"/>
                            </a:lnTo>
                            <a:lnTo>
                              <a:pt x="635" y="2059"/>
                            </a:lnTo>
                            <a:lnTo>
                              <a:pt x="637" y="2055"/>
                            </a:lnTo>
                            <a:lnTo>
                              <a:pt x="643" y="2049"/>
                            </a:lnTo>
                            <a:lnTo>
                              <a:pt x="645" y="2043"/>
                            </a:lnTo>
                            <a:lnTo>
                              <a:pt x="649" y="2040"/>
                            </a:lnTo>
                            <a:lnTo>
                              <a:pt x="652" y="2034"/>
                            </a:lnTo>
                            <a:lnTo>
                              <a:pt x="654" y="2030"/>
                            </a:lnTo>
                            <a:lnTo>
                              <a:pt x="658" y="2024"/>
                            </a:lnTo>
                            <a:lnTo>
                              <a:pt x="660" y="2021"/>
                            </a:lnTo>
                            <a:lnTo>
                              <a:pt x="664" y="2015"/>
                            </a:lnTo>
                            <a:lnTo>
                              <a:pt x="666" y="2011"/>
                            </a:lnTo>
                            <a:lnTo>
                              <a:pt x="668" y="2005"/>
                            </a:lnTo>
                            <a:lnTo>
                              <a:pt x="672" y="2002"/>
                            </a:lnTo>
                            <a:lnTo>
                              <a:pt x="673" y="1998"/>
                            </a:lnTo>
                            <a:lnTo>
                              <a:pt x="675" y="1992"/>
                            </a:lnTo>
                            <a:lnTo>
                              <a:pt x="677" y="1986"/>
                            </a:lnTo>
                            <a:lnTo>
                              <a:pt x="679" y="1983"/>
                            </a:lnTo>
                            <a:lnTo>
                              <a:pt x="681" y="1979"/>
                            </a:lnTo>
                            <a:lnTo>
                              <a:pt x="683" y="1975"/>
                            </a:lnTo>
                            <a:lnTo>
                              <a:pt x="685" y="1971"/>
                            </a:lnTo>
                            <a:lnTo>
                              <a:pt x="687" y="1969"/>
                            </a:lnTo>
                            <a:lnTo>
                              <a:pt x="689" y="1964"/>
                            </a:lnTo>
                            <a:lnTo>
                              <a:pt x="691" y="1962"/>
                            </a:lnTo>
                            <a:lnTo>
                              <a:pt x="692" y="1958"/>
                            </a:lnTo>
                            <a:lnTo>
                              <a:pt x="692" y="1954"/>
                            </a:lnTo>
                            <a:lnTo>
                              <a:pt x="692" y="1952"/>
                            </a:lnTo>
                            <a:lnTo>
                              <a:pt x="694" y="1950"/>
                            </a:lnTo>
                            <a:lnTo>
                              <a:pt x="696" y="1945"/>
                            </a:lnTo>
                            <a:lnTo>
                              <a:pt x="698" y="1941"/>
                            </a:lnTo>
                            <a:lnTo>
                              <a:pt x="700" y="1937"/>
                            </a:lnTo>
                            <a:lnTo>
                              <a:pt x="700" y="1935"/>
                            </a:lnTo>
                            <a:lnTo>
                              <a:pt x="700" y="1933"/>
                            </a:lnTo>
                            <a:lnTo>
                              <a:pt x="702" y="1933"/>
                            </a:lnTo>
                            <a:lnTo>
                              <a:pt x="740" y="1943"/>
                            </a:lnTo>
                            <a:lnTo>
                              <a:pt x="740" y="1943"/>
                            </a:lnTo>
                            <a:lnTo>
                              <a:pt x="738" y="1945"/>
                            </a:lnTo>
                            <a:lnTo>
                              <a:pt x="738" y="1947"/>
                            </a:lnTo>
                            <a:lnTo>
                              <a:pt x="738" y="1950"/>
                            </a:lnTo>
                            <a:lnTo>
                              <a:pt x="738" y="1954"/>
                            </a:lnTo>
                            <a:lnTo>
                              <a:pt x="738" y="1958"/>
                            </a:lnTo>
                            <a:lnTo>
                              <a:pt x="736" y="1962"/>
                            </a:lnTo>
                            <a:lnTo>
                              <a:pt x="736" y="1964"/>
                            </a:lnTo>
                            <a:lnTo>
                              <a:pt x="736" y="1967"/>
                            </a:lnTo>
                            <a:lnTo>
                              <a:pt x="736" y="1971"/>
                            </a:lnTo>
                            <a:lnTo>
                              <a:pt x="736" y="1975"/>
                            </a:lnTo>
                            <a:lnTo>
                              <a:pt x="736" y="1979"/>
                            </a:lnTo>
                            <a:lnTo>
                              <a:pt x="736" y="1983"/>
                            </a:lnTo>
                            <a:lnTo>
                              <a:pt x="736" y="1985"/>
                            </a:lnTo>
                            <a:lnTo>
                              <a:pt x="736" y="1990"/>
                            </a:lnTo>
                            <a:lnTo>
                              <a:pt x="736" y="1994"/>
                            </a:lnTo>
                            <a:lnTo>
                              <a:pt x="736" y="1998"/>
                            </a:lnTo>
                            <a:lnTo>
                              <a:pt x="736" y="2004"/>
                            </a:lnTo>
                            <a:lnTo>
                              <a:pt x="736" y="2007"/>
                            </a:lnTo>
                            <a:lnTo>
                              <a:pt x="736" y="2013"/>
                            </a:lnTo>
                            <a:lnTo>
                              <a:pt x="736" y="2015"/>
                            </a:lnTo>
                            <a:lnTo>
                              <a:pt x="736" y="2021"/>
                            </a:lnTo>
                            <a:lnTo>
                              <a:pt x="736" y="2026"/>
                            </a:lnTo>
                            <a:lnTo>
                              <a:pt x="736" y="2030"/>
                            </a:lnTo>
                            <a:lnTo>
                              <a:pt x="736" y="2036"/>
                            </a:lnTo>
                            <a:lnTo>
                              <a:pt x="736" y="2042"/>
                            </a:lnTo>
                            <a:lnTo>
                              <a:pt x="736" y="2047"/>
                            </a:lnTo>
                            <a:lnTo>
                              <a:pt x="738" y="2051"/>
                            </a:lnTo>
                            <a:lnTo>
                              <a:pt x="738" y="2057"/>
                            </a:lnTo>
                            <a:lnTo>
                              <a:pt x="738" y="2062"/>
                            </a:lnTo>
                            <a:lnTo>
                              <a:pt x="740" y="2066"/>
                            </a:lnTo>
                            <a:lnTo>
                              <a:pt x="740" y="2072"/>
                            </a:lnTo>
                            <a:lnTo>
                              <a:pt x="742" y="2078"/>
                            </a:lnTo>
                            <a:lnTo>
                              <a:pt x="744" y="2083"/>
                            </a:lnTo>
                            <a:lnTo>
                              <a:pt x="744" y="2091"/>
                            </a:lnTo>
                            <a:lnTo>
                              <a:pt x="746" y="2095"/>
                            </a:lnTo>
                            <a:lnTo>
                              <a:pt x="748" y="2101"/>
                            </a:lnTo>
                            <a:lnTo>
                              <a:pt x="748" y="2106"/>
                            </a:lnTo>
                            <a:lnTo>
                              <a:pt x="751" y="2110"/>
                            </a:lnTo>
                            <a:lnTo>
                              <a:pt x="753" y="2118"/>
                            </a:lnTo>
                            <a:lnTo>
                              <a:pt x="753" y="2123"/>
                            </a:lnTo>
                            <a:lnTo>
                              <a:pt x="757" y="2129"/>
                            </a:lnTo>
                            <a:lnTo>
                              <a:pt x="759" y="2135"/>
                            </a:lnTo>
                            <a:lnTo>
                              <a:pt x="761" y="2139"/>
                            </a:lnTo>
                            <a:lnTo>
                              <a:pt x="765" y="2144"/>
                            </a:lnTo>
                            <a:lnTo>
                              <a:pt x="767" y="2150"/>
                            </a:lnTo>
                            <a:lnTo>
                              <a:pt x="769" y="2156"/>
                            </a:lnTo>
                            <a:lnTo>
                              <a:pt x="772" y="2159"/>
                            </a:lnTo>
                            <a:lnTo>
                              <a:pt x="776" y="2165"/>
                            </a:lnTo>
                            <a:lnTo>
                              <a:pt x="780" y="2171"/>
                            </a:lnTo>
                            <a:lnTo>
                              <a:pt x="782" y="2175"/>
                            </a:lnTo>
                            <a:lnTo>
                              <a:pt x="786" y="2180"/>
                            </a:lnTo>
                            <a:lnTo>
                              <a:pt x="789" y="2186"/>
                            </a:lnTo>
                            <a:lnTo>
                              <a:pt x="795" y="2190"/>
                            </a:lnTo>
                            <a:lnTo>
                              <a:pt x="799" y="2196"/>
                            </a:lnTo>
                            <a:lnTo>
                              <a:pt x="805" y="2201"/>
                            </a:lnTo>
                            <a:lnTo>
                              <a:pt x="808" y="2205"/>
                            </a:lnTo>
                            <a:lnTo>
                              <a:pt x="814" y="2209"/>
                            </a:lnTo>
                            <a:lnTo>
                              <a:pt x="818" y="2213"/>
                            </a:lnTo>
                            <a:lnTo>
                              <a:pt x="824" y="2216"/>
                            </a:lnTo>
                            <a:lnTo>
                              <a:pt x="828" y="2222"/>
                            </a:lnTo>
                            <a:lnTo>
                              <a:pt x="833" y="2224"/>
                            </a:lnTo>
                            <a:lnTo>
                              <a:pt x="839" y="2228"/>
                            </a:lnTo>
                            <a:lnTo>
                              <a:pt x="845" y="2232"/>
                            </a:lnTo>
                            <a:lnTo>
                              <a:pt x="848" y="2235"/>
                            </a:lnTo>
                            <a:lnTo>
                              <a:pt x="854" y="2239"/>
                            </a:lnTo>
                            <a:lnTo>
                              <a:pt x="858" y="2243"/>
                            </a:lnTo>
                            <a:lnTo>
                              <a:pt x="864" y="2245"/>
                            </a:lnTo>
                            <a:lnTo>
                              <a:pt x="867" y="2249"/>
                            </a:lnTo>
                            <a:lnTo>
                              <a:pt x="873" y="2253"/>
                            </a:lnTo>
                            <a:lnTo>
                              <a:pt x="877" y="2256"/>
                            </a:lnTo>
                            <a:lnTo>
                              <a:pt x="883" y="2258"/>
                            </a:lnTo>
                            <a:lnTo>
                              <a:pt x="890" y="2260"/>
                            </a:lnTo>
                            <a:lnTo>
                              <a:pt x="896" y="2264"/>
                            </a:lnTo>
                            <a:lnTo>
                              <a:pt x="900" y="2266"/>
                            </a:lnTo>
                            <a:lnTo>
                              <a:pt x="904" y="2268"/>
                            </a:lnTo>
                            <a:lnTo>
                              <a:pt x="907" y="2270"/>
                            </a:lnTo>
                            <a:lnTo>
                              <a:pt x="913" y="2273"/>
                            </a:lnTo>
                            <a:lnTo>
                              <a:pt x="919" y="2275"/>
                            </a:lnTo>
                            <a:lnTo>
                              <a:pt x="925" y="2277"/>
                            </a:lnTo>
                            <a:lnTo>
                              <a:pt x="928" y="2279"/>
                            </a:lnTo>
                            <a:lnTo>
                              <a:pt x="934" y="2281"/>
                            </a:lnTo>
                            <a:lnTo>
                              <a:pt x="938" y="2283"/>
                            </a:lnTo>
                            <a:lnTo>
                              <a:pt x="942" y="2285"/>
                            </a:lnTo>
                            <a:lnTo>
                              <a:pt x="947" y="2287"/>
                            </a:lnTo>
                            <a:lnTo>
                              <a:pt x="951" y="2289"/>
                            </a:lnTo>
                            <a:lnTo>
                              <a:pt x="955" y="2289"/>
                            </a:lnTo>
                            <a:lnTo>
                              <a:pt x="961" y="2291"/>
                            </a:lnTo>
                            <a:lnTo>
                              <a:pt x="964" y="2291"/>
                            </a:lnTo>
                            <a:lnTo>
                              <a:pt x="968" y="2294"/>
                            </a:lnTo>
                            <a:lnTo>
                              <a:pt x="972" y="2294"/>
                            </a:lnTo>
                            <a:lnTo>
                              <a:pt x="978" y="2294"/>
                            </a:lnTo>
                            <a:lnTo>
                              <a:pt x="982" y="2296"/>
                            </a:lnTo>
                            <a:lnTo>
                              <a:pt x="985" y="2296"/>
                            </a:lnTo>
                            <a:lnTo>
                              <a:pt x="989" y="2296"/>
                            </a:lnTo>
                            <a:lnTo>
                              <a:pt x="993" y="2298"/>
                            </a:lnTo>
                            <a:lnTo>
                              <a:pt x="997" y="2298"/>
                            </a:lnTo>
                            <a:lnTo>
                              <a:pt x="1001" y="2298"/>
                            </a:lnTo>
                            <a:lnTo>
                              <a:pt x="1004" y="2298"/>
                            </a:lnTo>
                            <a:lnTo>
                              <a:pt x="1008" y="2300"/>
                            </a:lnTo>
                            <a:lnTo>
                              <a:pt x="1010" y="2300"/>
                            </a:lnTo>
                            <a:lnTo>
                              <a:pt x="1014" y="2300"/>
                            </a:lnTo>
                            <a:lnTo>
                              <a:pt x="1016" y="2300"/>
                            </a:lnTo>
                            <a:lnTo>
                              <a:pt x="1020" y="2300"/>
                            </a:lnTo>
                            <a:lnTo>
                              <a:pt x="1022" y="2300"/>
                            </a:lnTo>
                            <a:lnTo>
                              <a:pt x="1025" y="2302"/>
                            </a:lnTo>
                            <a:lnTo>
                              <a:pt x="1029" y="2300"/>
                            </a:lnTo>
                            <a:lnTo>
                              <a:pt x="1035" y="2300"/>
                            </a:lnTo>
                            <a:lnTo>
                              <a:pt x="1039" y="2298"/>
                            </a:lnTo>
                            <a:lnTo>
                              <a:pt x="1042" y="2298"/>
                            </a:lnTo>
                            <a:lnTo>
                              <a:pt x="1044" y="2296"/>
                            </a:lnTo>
                            <a:lnTo>
                              <a:pt x="1048" y="2296"/>
                            </a:lnTo>
                            <a:lnTo>
                              <a:pt x="1048" y="2294"/>
                            </a:lnTo>
                            <a:lnTo>
                              <a:pt x="1050" y="2294"/>
                            </a:lnTo>
                            <a:lnTo>
                              <a:pt x="1246" y="1334"/>
                            </a:lnTo>
                            <a:lnTo>
                              <a:pt x="1246" y="1333"/>
                            </a:lnTo>
                            <a:lnTo>
                              <a:pt x="1248" y="1331"/>
                            </a:lnTo>
                            <a:lnTo>
                              <a:pt x="1250" y="1327"/>
                            </a:lnTo>
                            <a:lnTo>
                              <a:pt x="1252" y="1325"/>
                            </a:lnTo>
                            <a:lnTo>
                              <a:pt x="1252" y="1323"/>
                            </a:lnTo>
                            <a:lnTo>
                              <a:pt x="1254" y="1319"/>
                            </a:lnTo>
                            <a:lnTo>
                              <a:pt x="1256" y="1315"/>
                            </a:lnTo>
                            <a:lnTo>
                              <a:pt x="1259" y="1312"/>
                            </a:lnTo>
                            <a:lnTo>
                              <a:pt x="1259" y="1306"/>
                            </a:lnTo>
                            <a:lnTo>
                              <a:pt x="1263" y="1302"/>
                            </a:lnTo>
                            <a:lnTo>
                              <a:pt x="1265" y="1296"/>
                            </a:lnTo>
                            <a:lnTo>
                              <a:pt x="1269" y="1293"/>
                            </a:lnTo>
                            <a:lnTo>
                              <a:pt x="1271" y="1285"/>
                            </a:lnTo>
                            <a:lnTo>
                              <a:pt x="1275" y="1281"/>
                            </a:lnTo>
                            <a:lnTo>
                              <a:pt x="1276" y="1274"/>
                            </a:lnTo>
                            <a:lnTo>
                              <a:pt x="1280" y="1266"/>
                            </a:lnTo>
                            <a:lnTo>
                              <a:pt x="1284" y="1258"/>
                            </a:lnTo>
                            <a:lnTo>
                              <a:pt x="1288" y="1249"/>
                            </a:lnTo>
                            <a:lnTo>
                              <a:pt x="1290" y="1241"/>
                            </a:lnTo>
                            <a:lnTo>
                              <a:pt x="1294" y="1234"/>
                            </a:lnTo>
                            <a:lnTo>
                              <a:pt x="1297" y="1224"/>
                            </a:lnTo>
                            <a:lnTo>
                              <a:pt x="1301" y="1217"/>
                            </a:lnTo>
                            <a:lnTo>
                              <a:pt x="1305" y="1207"/>
                            </a:lnTo>
                            <a:lnTo>
                              <a:pt x="1309" y="1198"/>
                            </a:lnTo>
                            <a:lnTo>
                              <a:pt x="1313" y="1188"/>
                            </a:lnTo>
                            <a:lnTo>
                              <a:pt x="1316" y="1177"/>
                            </a:lnTo>
                            <a:lnTo>
                              <a:pt x="1320" y="1165"/>
                            </a:lnTo>
                            <a:lnTo>
                              <a:pt x="1324" y="1154"/>
                            </a:lnTo>
                            <a:lnTo>
                              <a:pt x="1330" y="1144"/>
                            </a:lnTo>
                            <a:lnTo>
                              <a:pt x="1334" y="1133"/>
                            </a:lnTo>
                            <a:lnTo>
                              <a:pt x="1337" y="1122"/>
                            </a:lnTo>
                            <a:lnTo>
                              <a:pt x="1339" y="1108"/>
                            </a:lnTo>
                            <a:lnTo>
                              <a:pt x="1345" y="1097"/>
                            </a:lnTo>
                            <a:lnTo>
                              <a:pt x="1349" y="1084"/>
                            </a:lnTo>
                            <a:lnTo>
                              <a:pt x="1353" y="1070"/>
                            </a:lnTo>
                            <a:lnTo>
                              <a:pt x="1354" y="1059"/>
                            </a:lnTo>
                            <a:lnTo>
                              <a:pt x="1358" y="1044"/>
                            </a:lnTo>
                            <a:lnTo>
                              <a:pt x="1362" y="1032"/>
                            </a:lnTo>
                            <a:lnTo>
                              <a:pt x="1366" y="1017"/>
                            </a:lnTo>
                            <a:lnTo>
                              <a:pt x="1370" y="1004"/>
                            </a:lnTo>
                            <a:lnTo>
                              <a:pt x="1372" y="988"/>
                            </a:lnTo>
                            <a:lnTo>
                              <a:pt x="1375" y="975"/>
                            </a:lnTo>
                            <a:lnTo>
                              <a:pt x="1377" y="960"/>
                            </a:lnTo>
                            <a:lnTo>
                              <a:pt x="1381" y="947"/>
                            </a:lnTo>
                            <a:lnTo>
                              <a:pt x="1383" y="931"/>
                            </a:lnTo>
                            <a:lnTo>
                              <a:pt x="1387" y="916"/>
                            </a:lnTo>
                            <a:lnTo>
                              <a:pt x="1389" y="901"/>
                            </a:lnTo>
                            <a:lnTo>
                              <a:pt x="1391" y="886"/>
                            </a:lnTo>
                            <a:lnTo>
                              <a:pt x="1392" y="871"/>
                            </a:lnTo>
                            <a:lnTo>
                              <a:pt x="1394" y="855"/>
                            </a:lnTo>
                            <a:lnTo>
                              <a:pt x="1396" y="838"/>
                            </a:lnTo>
                            <a:lnTo>
                              <a:pt x="1398" y="823"/>
                            </a:lnTo>
                            <a:lnTo>
                              <a:pt x="1398" y="806"/>
                            </a:lnTo>
                            <a:lnTo>
                              <a:pt x="1400" y="791"/>
                            </a:lnTo>
                            <a:lnTo>
                              <a:pt x="1402" y="774"/>
                            </a:lnTo>
                            <a:lnTo>
                              <a:pt x="1402" y="757"/>
                            </a:lnTo>
                            <a:lnTo>
                              <a:pt x="1402" y="741"/>
                            </a:lnTo>
                            <a:lnTo>
                              <a:pt x="1402" y="724"/>
                            </a:lnTo>
                            <a:lnTo>
                              <a:pt x="1402" y="705"/>
                            </a:lnTo>
                            <a:lnTo>
                              <a:pt x="1402" y="690"/>
                            </a:lnTo>
                            <a:lnTo>
                              <a:pt x="1400" y="673"/>
                            </a:lnTo>
                            <a:lnTo>
                              <a:pt x="1400" y="656"/>
                            </a:lnTo>
                            <a:lnTo>
                              <a:pt x="1398" y="654"/>
                            </a:lnTo>
                            <a:lnTo>
                              <a:pt x="1398" y="652"/>
                            </a:lnTo>
                            <a:lnTo>
                              <a:pt x="1398" y="648"/>
                            </a:lnTo>
                            <a:lnTo>
                              <a:pt x="1398" y="644"/>
                            </a:lnTo>
                            <a:lnTo>
                              <a:pt x="1398" y="643"/>
                            </a:lnTo>
                            <a:lnTo>
                              <a:pt x="1398" y="639"/>
                            </a:lnTo>
                            <a:lnTo>
                              <a:pt x="1396" y="637"/>
                            </a:lnTo>
                            <a:lnTo>
                              <a:pt x="1396" y="633"/>
                            </a:lnTo>
                            <a:lnTo>
                              <a:pt x="1396" y="631"/>
                            </a:lnTo>
                            <a:lnTo>
                              <a:pt x="1396" y="627"/>
                            </a:lnTo>
                            <a:lnTo>
                              <a:pt x="1396" y="623"/>
                            </a:lnTo>
                            <a:lnTo>
                              <a:pt x="1394" y="620"/>
                            </a:lnTo>
                            <a:lnTo>
                              <a:pt x="1394" y="618"/>
                            </a:lnTo>
                            <a:lnTo>
                              <a:pt x="1394" y="616"/>
                            </a:lnTo>
                            <a:lnTo>
                              <a:pt x="1392" y="612"/>
                            </a:lnTo>
                            <a:lnTo>
                              <a:pt x="1392" y="610"/>
                            </a:lnTo>
                            <a:lnTo>
                              <a:pt x="1392" y="608"/>
                            </a:lnTo>
                            <a:lnTo>
                              <a:pt x="1391" y="604"/>
                            </a:lnTo>
                            <a:lnTo>
                              <a:pt x="1391" y="603"/>
                            </a:lnTo>
                            <a:lnTo>
                              <a:pt x="1391" y="599"/>
                            </a:lnTo>
                            <a:lnTo>
                              <a:pt x="1389" y="597"/>
                            </a:lnTo>
                            <a:lnTo>
                              <a:pt x="1389" y="593"/>
                            </a:lnTo>
                            <a:lnTo>
                              <a:pt x="1389" y="589"/>
                            </a:lnTo>
                            <a:lnTo>
                              <a:pt x="1389" y="587"/>
                            </a:lnTo>
                            <a:lnTo>
                              <a:pt x="1387" y="585"/>
                            </a:lnTo>
                            <a:lnTo>
                              <a:pt x="1385" y="582"/>
                            </a:lnTo>
                            <a:lnTo>
                              <a:pt x="1385" y="580"/>
                            </a:lnTo>
                            <a:lnTo>
                              <a:pt x="1383" y="578"/>
                            </a:lnTo>
                            <a:lnTo>
                              <a:pt x="1383" y="572"/>
                            </a:lnTo>
                            <a:lnTo>
                              <a:pt x="1381" y="568"/>
                            </a:lnTo>
                            <a:lnTo>
                              <a:pt x="1377" y="563"/>
                            </a:lnTo>
                            <a:lnTo>
                              <a:pt x="1375" y="557"/>
                            </a:lnTo>
                            <a:lnTo>
                              <a:pt x="1373" y="553"/>
                            </a:lnTo>
                            <a:lnTo>
                              <a:pt x="1370" y="547"/>
                            </a:lnTo>
                            <a:lnTo>
                              <a:pt x="1366" y="544"/>
                            </a:lnTo>
                            <a:lnTo>
                              <a:pt x="1364" y="540"/>
                            </a:lnTo>
                            <a:lnTo>
                              <a:pt x="1360" y="536"/>
                            </a:lnTo>
                            <a:lnTo>
                              <a:pt x="1356" y="532"/>
                            </a:lnTo>
                            <a:lnTo>
                              <a:pt x="1353" y="528"/>
                            </a:lnTo>
                            <a:lnTo>
                              <a:pt x="1349" y="525"/>
                            </a:lnTo>
                            <a:lnTo>
                              <a:pt x="1345" y="523"/>
                            </a:lnTo>
                            <a:lnTo>
                              <a:pt x="1339" y="521"/>
                            </a:lnTo>
                            <a:lnTo>
                              <a:pt x="1335" y="517"/>
                            </a:lnTo>
                            <a:lnTo>
                              <a:pt x="1332" y="515"/>
                            </a:lnTo>
                            <a:lnTo>
                              <a:pt x="1326" y="515"/>
                            </a:lnTo>
                            <a:lnTo>
                              <a:pt x="1322" y="513"/>
                            </a:lnTo>
                            <a:lnTo>
                              <a:pt x="1318" y="511"/>
                            </a:lnTo>
                            <a:lnTo>
                              <a:pt x="1316" y="511"/>
                            </a:lnTo>
                            <a:lnTo>
                              <a:pt x="1313" y="511"/>
                            </a:lnTo>
                            <a:lnTo>
                              <a:pt x="1311" y="511"/>
                            </a:lnTo>
                            <a:lnTo>
                              <a:pt x="1309" y="509"/>
                            </a:lnTo>
                            <a:lnTo>
                              <a:pt x="1305" y="509"/>
                            </a:lnTo>
                            <a:lnTo>
                              <a:pt x="1303" y="509"/>
                            </a:lnTo>
                            <a:lnTo>
                              <a:pt x="1301" y="509"/>
                            </a:lnTo>
                            <a:lnTo>
                              <a:pt x="1297" y="509"/>
                            </a:lnTo>
                            <a:lnTo>
                              <a:pt x="1295" y="509"/>
                            </a:lnTo>
                            <a:lnTo>
                              <a:pt x="1292" y="509"/>
                            </a:lnTo>
                            <a:lnTo>
                              <a:pt x="1290" y="509"/>
                            </a:lnTo>
                            <a:lnTo>
                              <a:pt x="1284" y="509"/>
                            </a:lnTo>
                            <a:lnTo>
                              <a:pt x="1280" y="509"/>
                            </a:lnTo>
                            <a:lnTo>
                              <a:pt x="1275" y="509"/>
                            </a:lnTo>
                            <a:lnTo>
                              <a:pt x="1269" y="509"/>
                            </a:lnTo>
                            <a:lnTo>
                              <a:pt x="1265" y="509"/>
                            </a:lnTo>
                            <a:lnTo>
                              <a:pt x="1259" y="509"/>
                            </a:lnTo>
                            <a:lnTo>
                              <a:pt x="1256" y="511"/>
                            </a:lnTo>
                            <a:lnTo>
                              <a:pt x="1252" y="511"/>
                            </a:lnTo>
                            <a:lnTo>
                              <a:pt x="1246" y="515"/>
                            </a:lnTo>
                            <a:lnTo>
                              <a:pt x="1242" y="515"/>
                            </a:lnTo>
                            <a:lnTo>
                              <a:pt x="1238" y="517"/>
                            </a:lnTo>
                            <a:lnTo>
                              <a:pt x="1235" y="521"/>
                            </a:lnTo>
                            <a:lnTo>
                              <a:pt x="1231" y="523"/>
                            </a:lnTo>
                            <a:lnTo>
                              <a:pt x="1229" y="525"/>
                            </a:lnTo>
                            <a:lnTo>
                              <a:pt x="1225" y="527"/>
                            </a:lnTo>
                            <a:lnTo>
                              <a:pt x="1221" y="530"/>
                            </a:lnTo>
                            <a:lnTo>
                              <a:pt x="1219" y="532"/>
                            </a:lnTo>
                            <a:lnTo>
                              <a:pt x="1216" y="538"/>
                            </a:lnTo>
                            <a:lnTo>
                              <a:pt x="1214" y="542"/>
                            </a:lnTo>
                            <a:lnTo>
                              <a:pt x="1212" y="546"/>
                            </a:lnTo>
                            <a:lnTo>
                              <a:pt x="1210" y="549"/>
                            </a:lnTo>
                            <a:lnTo>
                              <a:pt x="1208" y="555"/>
                            </a:lnTo>
                            <a:lnTo>
                              <a:pt x="1208" y="557"/>
                            </a:lnTo>
                            <a:lnTo>
                              <a:pt x="1206" y="559"/>
                            </a:lnTo>
                            <a:lnTo>
                              <a:pt x="1204" y="561"/>
                            </a:lnTo>
                            <a:lnTo>
                              <a:pt x="1204" y="565"/>
                            </a:lnTo>
                            <a:lnTo>
                              <a:pt x="1204" y="566"/>
                            </a:lnTo>
                            <a:lnTo>
                              <a:pt x="1204" y="570"/>
                            </a:lnTo>
                            <a:lnTo>
                              <a:pt x="1204" y="572"/>
                            </a:lnTo>
                            <a:lnTo>
                              <a:pt x="1204" y="576"/>
                            </a:lnTo>
                            <a:lnTo>
                              <a:pt x="1139" y="895"/>
                            </a:lnTo>
                            <a:lnTo>
                              <a:pt x="1136" y="893"/>
                            </a:lnTo>
                            <a:lnTo>
                              <a:pt x="1132" y="892"/>
                            </a:lnTo>
                            <a:lnTo>
                              <a:pt x="1126" y="888"/>
                            </a:lnTo>
                            <a:lnTo>
                              <a:pt x="1122" y="886"/>
                            </a:lnTo>
                            <a:lnTo>
                              <a:pt x="1117" y="884"/>
                            </a:lnTo>
                            <a:lnTo>
                              <a:pt x="1113" y="880"/>
                            </a:lnTo>
                            <a:lnTo>
                              <a:pt x="1107" y="878"/>
                            </a:lnTo>
                            <a:lnTo>
                              <a:pt x="1105" y="876"/>
                            </a:lnTo>
                            <a:lnTo>
                              <a:pt x="1227" y="316"/>
                            </a:lnTo>
                            <a:lnTo>
                              <a:pt x="1227" y="312"/>
                            </a:lnTo>
                            <a:lnTo>
                              <a:pt x="1227" y="308"/>
                            </a:lnTo>
                            <a:lnTo>
                              <a:pt x="1229" y="306"/>
                            </a:lnTo>
                            <a:lnTo>
                              <a:pt x="1229" y="304"/>
                            </a:lnTo>
                            <a:lnTo>
                              <a:pt x="1229" y="300"/>
                            </a:lnTo>
                            <a:lnTo>
                              <a:pt x="1229" y="298"/>
                            </a:lnTo>
                            <a:lnTo>
                              <a:pt x="1229" y="295"/>
                            </a:lnTo>
                            <a:lnTo>
                              <a:pt x="1229" y="293"/>
                            </a:lnTo>
                            <a:lnTo>
                              <a:pt x="1229" y="291"/>
                            </a:lnTo>
                            <a:lnTo>
                              <a:pt x="1229" y="287"/>
                            </a:lnTo>
                            <a:lnTo>
                              <a:pt x="1229" y="285"/>
                            </a:lnTo>
                            <a:lnTo>
                              <a:pt x="1229" y="283"/>
                            </a:lnTo>
                            <a:lnTo>
                              <a:pt x="1229" y="278"/>
                            </a:lnTo>
                            <a:lnTo>
                              <a:pt x="1227" y="272"/>
                            </a:lnTo>
                            <a:lnTo>
                              <a:pt x="1225" y="268"/>
                            </a:lnTo>
                            <a:lnTo>
                              <a:pt x="1225" y="262"/>
                            </a:lnTo>
                            <a:lnTo>
                              <a:pt x="1223" y="257"/>
                            </a:lnTo>
                            <a:lnTo>
                              <a:pt x="1221" y="253"/>
                            </a:lnTo>
                            <a:lnTo>
                              <a:pt x="1219" y="247"/>
                            </a:lnTo>
                            <a:lnTo>
                              <a:pt x="1217" y="243"/>
                            </a:lnTo>
                            <a:lnTo>
                              <a:pt x="1216" y="240"/>
                            </a:lnTo>
                            <a:lnTo>
                              <a:pt x="1214" y="236"/>
                            </a:lnTo>
                            <a:lnTo>
                              <a:pt x="1210" y="232"/>
                            </a:lnTo>
                            <a:lnTo>
                              <a:pt x="1206" y="226"/>
                            </a:lnTo>
                            <a:lnTo>
                              <a:pt x="1202" y="222"/>
                            </a:lnTo>
                            <a:lnTo>
                              <a:pt x="1200" y="219"/>
                            </a:lnTo>
                            <a:lnTo>
                              <a:pt x="1197" y="215"/>
                            </a:lnTo>
                            <a:lnTo>
                              <a:pt x="1193" y="211"/>
                            </a:lnTo>
                            <a:lnTo>
                              <a:pt x="1189" y="207"/>
                            </a:lnTo>
                            <a:lnTo>
                              <a:pt x="1185" y="205"/>
                            </a:lnTo>
                            <a:lnTo>
                              <a:pt x="1179" y="203"/>
                            </a:lnTo>
                            <a:lnTo>
                              <a:pt x="1176" y="200"/>
                            </a:lnTo>
                            <a:lnTo>
                              <a:pt x="1172" y="198"/>
                            </a:lnTo>
                            <a:lnTo>
                              <a:pt x="1166" y="194"/>
                            </a:lnTo>
                            <a:lnTo>
                              <a:pt x="1160" y="192"/>
                            </a:lnTo>
                            <a:lnTo>
                              <a:pt x="1157" y="192"/>
                            </a:lnTo>
                            <a:lnTo>
                              <a:pt x="1151" y="190"/>
                            </a:lnTo>
                            <a:lnTo>
                              <a:pt x="1147" y="190"/>
                            </a:lnTo>
                            <a:lnTo>
                              <a:pt x="1143" y="188"/>
                            </a:lnTo>
                            <a:lnTo>
                              <a:pt x="1141" y="186"/>
                            </a:lnTo>
                            <a:lnTo>
                              <a:pt x="1138" y="186"/>
                            </a:lnTo>
                            <a:lnTo>
                              <a:pt x="1136" y="186"/>
                            </a:lnTo>
                            <a:lnTo>
                              <a:pt x="1134" y="186"/>
                            </a:lnTo>
                            <a:lnTo>
                              <a:pt x="1130" y="186"/>
                            </a:lnTo>
                            <a:lnTo>
                              <a:pt x="1128" y="186"/>
                            </a:lnTo>
                            <a:lnTo>
                              <a:pt x="1124" y="186"/>
                            </a:lnTo>
                            <a:lnTo>
                              <a:pt x="1122" y="186"/>
                            </a:lnTo>
                            <a:lnTo>
                              <a:pt x="1120" y="186"/>
                            </a:lnTo>
                            <a:lnTo>
                              <a:pt x="1117" y="186"/>
                            </a:lnTo>
                            <a:lnTo>
                              <a:pt x="1115" y="186"/>
                            </a:lnTo>
                            <a:lnTo>
                              <a:pt x="1109" y="186"/>
                            </a:lnTo>
                            <a:lnTo>
                              <a:pt x="1105" y="188"/>
                            </a:lnTo>
                            <a:lnTo>
                              <a:pt x="1100" y="188"/>
                            </a:lnTo>
                            <a:lnTo>
                              <a:pt x="1094" y="190"/>
                            </a:lnTo>
                            <a:lnTo>
                              <a:pt x="1090" y="192"/>
                            </a:lnTo>
                            <a:lnTo>
                              <a:pt x="1086" y="192"/>
                            </a:lnTo>
                            <a:lnTo>
                              <a:pt x="1081" y="194"/>
                            </a:lnTo>
                            <a:lnTo>
                              <a:pt x="1077" y="198"/>
                            </a:lnTo>
                            <a:lnTo>
                              <a:pt x="1073" y="200"/>
                            </a:lnTo>
                            <a:lnTo>
                              <a:pt x="1067" y="203"/>
                            </a:lnTo>
                            <a:lnTo>
                              <a:pt x="1063" y="205"/>
                            </a:lnTo>
                            <a:lnTo>
                              <a:pt x="1058" y="207"/>
                            </a:lnTo>
                            <a:lnTo>
                              <a:pt x="1054" y="211"/>
                            </a:lnTo>
                            <a:lnTo>
                              <a:pt x="1050" y="215"/>
                            </a:lnTo>
                            <a:lnTo>
                              <a:pt x="1048" y="219"/>
                            </a:lnTo>
                            <a:lnTo>
                              <a:pt x="1044" y="222"/>
                            </a:lnTo>
                            <a:lnTo>
                              <a:pt x="1041" y="226"/>
                            </a:lnTo>
                            <a:lnTo>
                              <a:pt x="1039" y="232"/>
                            </a:lnTo>
                            <a:lnTo>
                              <a:pt x="1035" y="234"/>
                            </a:lnTo>
                            <a:lnTo>
                              <a:pt x="1033" y="240"/>
                            </a:lnTo>
                            <a:lnTo>
                              <a:pt x="1029" y="243"/>
                            </a:lnTo>
                            <a:lnTo>
                              <a:pt x="1027" y="249"/>
                            </a:lnTo>
                            <a:lnTo>
                              <a:pt x="1025" y="253"/>
                            </a:lnTo>
                            <a:lnTo>
                              <a:pt x="1023" y="259"/>
                            </a:lnTo>
                            <a:lnTo>
                              <a:pt x="1022" y="260"/>
                            </a:lnTo>
                            <a:lnTo>
                              <a:pt x="1022" y="264"/>
                            </a:lnTo>
                            <a:lnTo>
                              <a:pt x="1022" y="266"/>
                            </a:lnTo>
                            <a:lnTo>
                              <a:pt x="1022" y="270"/>
                            </a:lnTo>
                            <a:lnTo>
                              <a:pt x="919" y="730"/>
                            </a:lnTo>
                            <a:lnTo>
                              <a:pt x="915" y="728"/>
                            </a:lnTo>
                            <a:lnTo>
                              <a:pt x="913" y="726"/>
                            </a:lnTo>
                            <a:lnTo>
                              <a:pt x="907" y="724"/>
                            </a:lnTo>
                            <a:lnTo>
                              <a:pt x="905" y="720"/>
                            </a:lnTo>
                            <a:lnTo>
                              <a:pt x="904" y="719"/>
                            </a:lnTo>
                            <a:lnTo>
                              <a:pt x="900" y="717"/>
                            </a:lnTo>
                            <a:lnTo>
                              <a:pt x="896" y="713"/>
                            </a:lnTo>
                            <a:lnTo>
                              <a:pt x="892" y="713"/>
                            </a:lnTo>
                            <a:lnTo>
                              <a:pt x="1022" y="129"/>
                            </a:lnTo>
                            <a:lnTo>
                              <a:pt x="1022" y="125"/>
                            </a:lnTo>
                            <a:lnTo>
                              <a:pt x="1022" y="124"/>
                            </a:lnTo>
                            <a:lnTo>
                              <a:pt x="1022" y="120"/>
                            </a:lnTo>
                            <a:lnTo>
                              <a:pt x="1022" y="118"/>
                            </a:lnTo>
                            <a:lnTo>
                              <a:pt x="1022" y="114"/>
                            </a:lnTo>
                            <a:lnTo>
                              <a:pt x="1022" y="112"/>
                            </a:lnTo>
                            <a:lnTo>
                              <a:pt x="1022" y="110"/>
                            </a:lnTo>
                            <a:lnTo>
                              <a:pt x="1022" y="106"/>
                            </a:lnTo>
                            <a:lnTo>
                              <a:pt x="1022" y="105"/>
                            </a:lnTo>
                            <a:lnTo>
                              <a:pt x="1022" y="103"/>
                            </a:lnTo>
                            <a:lnTo>
                              <a:pt x="1022" y="99"/>
                            </a:lnTo>
                            <a:lnTo>
                              <a:pt x="1022" y="97"/>
                            </a:lnTo>
                            <a:lnTo>
                              <a:pt x="1022" y="91"/>
                            </a:lnTo>
                            <a:lnTo>
                              <a:pt x="1022" y="86"/>
                            </a:lnTo>
                            <a:lnTo>
                              <a:pt x="1020" y="82"/>
                            </a:lnTo>
                            <a:lnTo>
                              <a:pt x="1018" y="76"/>
                            </a:lnTo>
                            <a:lnTo>
                              <a:pt x="1016" y="70"/>
                            </a:lnTo>
                            <a:lnTo>
                              <a:pt x="1014" y="67"/>
                            </a:lnTo>
                            <a:lnTo>
                              <a:pt x="1012" y="61"/>
                            </a:lnTo>
                            <a:lnTo>
                              <a:pt x="1010" y="57"/>
                            </a:lnTo>
                            <a:lnTo>
                              <a:pt x="1008" y="53"/>
                            </a:lnTo>
                            <a:lnTo>
                              <a:pt x="1006" y="48"/>
                            </a:lnTo>
                            <a:lnTo>
                              <a:pt x="1004" y="44"/>
                            </a:lnTo>
                            <a:lnTo>
                              <a:pt x="1001" y="40"/>
                            </a:lnTo>
                            <a:lnTo>
                              <a:pt x="997" y="36"/>
                            </a:lnTo>
                            <a:lnTo>
                              <a:pt x="993" y="32"/>
                            </a:lnTo>
                            <a:lnTo>
                              <a:pt x="991" y="29"/>
                            </a:lnTo>
                            <a:lnTo>
                              <a:pt x="985" y="25"/>
                            </a:lnTo>
                            <a:lnTo>
                              <a:pt x="983" y="23"/>
                            </a:lnTo>
                            <a:lnTo>
                              <a:pt x="978" y="19"/>
                            </a:lnTo>
                            <a:lnTo>
                              <a:pt x="972" y="17"/>
                            </a:lnTo>
                            <a:lnTo>
                              <a:pt x="968" y="13"/>
                            </a:lnTo>
                            <a:lnTo>
                              <a:pt x="964" y="11"/>
                            </a:lnTo>
                            <a:lnTo>
                              <a:pt x="961" y="10"/>
                            </a:lnTo>
                            <a:lnTo>
                              <a:pt x="955" y="6"/>
                            </a:lnTo>
                            <a:lnTo>
                              <a:pt x="949" y="6"/>
                            </a:lnTo>
                            <a:lnTo>
                              <a:pt x="944" y="4"/>
                            </a:lnTo>
                            <a:lnTo>
                              <a:pt x="940" y="4"/>
                            </a:lnTo>
                            <a:lnTo>
                              <a:pt x="936" y="2"/>
                            </a:lnTo>
                            <a:lnTo>
                              <a:pt x="934" y="2"/>
                            </a:lnTo>
                            <a:lnTo>
                              <a:pt x="932" y="0"/>
                            </a:lnTo>
                            <a:lnTo>
                              <a:pt x="928" y="0"/>
                            </a:lnTo>
                            <a:lnTo>
                              <a:pt x="926" y="0"/>
                            </a:lnTo>
                            <a:lnTo>
                              <a:pt x="925" y="0"/>
                            </a:lnTo>
                            <a:lnTo>
                              <a:pt x="921" y="0"/>
                            </a:lnTo>
                            <a:lnTo>
                              <a:pt x="919" y="0"/>
                            </a:lnTo>
                            <a:lnTo>
                              <a:pt x="915" y="0"/>
                            </a:lnTo>
                            <a:lnTo>
                              <a:pt x="913" y="0"/>
                            </a:lnTo>
                            <a:lnTo>
                              <a:pt x="911" y="0"/>
                            </a:lnTo>
                            <a:lnTo>
                              <a:pt x="907" y="0"/>
                            </a:lnTo>
                            <a:lnTo>
                              <a:pt x="904" y="0"/>
                            </a:lnTo>
                            <a:lnTo>
                              <a:pt x="898" y="2"/>
                            </a:lnTo>
                            <a:lnTo>
                              <a:pt x="896" y="2"/>
                            </a:lnTo>
                            <a:lnTo>
                              <a:pt x="892" y="2"/>
                            </a:lnTo>
                            <a:lnTo>
                              <a:pt x="890" y="2"/>
                            </a:lnTo>
                            <a:lnTo>
                              <a:pt x="888" y="4"/>
                            </a:lnTo>
                            <a:lnTo>
                              <a:pt x="881" y="4"/>
                            </a:lnTo>
                            <a:lnTo>
                              <a:pt x="877" y="6"/>
                            </a:lnTo>
                            <a:lnTo>
                              <a:pt x="873" y="10"/>
                            </a:lnTo>
                            <a:lnTo>
                              <a:pt x="867" y="11"/>
                            </a:lnTo>
                            <a:lnTo>
                              <a:pt x="864" y="15"/>
                            </a:lnTo>
                            <a:lnTo>
                              <a:pt x="860" y="17"/>
                            </a:lnTo>
                            <a:lnTo>
                              <a:pt x="854" y="19"/>
                            </a:lnTo>
                            <a:lnTo>
                              <a:pt x="850" y="23"/>
                            </a:lnTo>
                            <a:lnTo>
                              <a:pt x="847" y="25"/>
                            </a:lnTo>
                            <a:lnTo>
                              <a:pt x="843" y="29"/>
                            </a:lnTo>
                            <a:lnTo>
                              <a:pt x="839" y="32"/>
                            </a:lnTo>
                            <a:lnTo>
                              <a:pt x="835" y="36"/>
                            </a:lnTo>
                            <a:lnTo>
                              <a:pt x="833" y="40"/>
                            </a:lnTo>
                            <a:lnTo>
                              <a:pt x="831" y="44"/>
                            </a:lnTo>
                            <a:lnTo>
                              <a:pt x="828" y="48"/>
                            </a:lnTo>
                            <a:lnTo>
                              <a:pt x="824" y="53"/>
                            </a:lnTo>
                            <a:lnTo>
                              <a:pt x="822" y="57"/>
                            </a:lnTo>
                            <a:lnTo>
                              <a:pt x="820" y="61"/>
                            </a:lnTo>
                            <a:lnTo>
                              <a:pt x="818" y="67"/>
                            </a:lnTo>
                            <a:lnTo>
                              <a:pt x="816" y="70"/>
                            </a:lnTo>
                            <a:lnTo>
                              <a:pt x="816" y="74"/>
                            </a:lnTo>
                            <a:lnTo>
                              <a:pt x="814" y="76"/>
                            </a:lnTo>
                            <a:lnTo>
                              <a:pt x="812" y="82"/>
                            </a:lnTo>
                            <a:lnTo>
                              <a:pt x="812" y="84"/>
                            </a:lnTo>
                            <a:lnTo>
                              <a:pt x="687" y="663"/>
                            </a:lnTo>
                            <a:lnTo>
                              <a:pt x="681" y="663"/>
                            </a:lnTo>
                            <a:lnTo>
                              <a:pt x="677" y="663"/>
                            </a:lnTo>
                            <a:lnTo>
                              <a:pt x="673" y="663"/>
                            </a:lnTo>
                            <a:lnTo>
                              <a:pt x="670" y="663"/>
                            </a:lnTo>
                            <a:lnTo>
                              <a:pt x="666" y="663"/>
                            </a:lnTo>
                            <a:lnTo>
                              <a:pt x="660" y="665"/>
                            </a:lnTo>
                            <a:lnTo>
                              <a:pt x="656" y="665"/>
                            </a:lnTo>
                            <a:lnTo>
                              <a:pt x="652" y="667"/>
                            </a:lnTo>
                            <a:lnTo>
                              <a:pt x="753" y="213"/>
                            </a:lnTo>
                            <a:lnTo>
                              <a:pt x="753" y="209"/>
                            </a:lnTo>
                            <a:lnTo>
                              <a:pt x="753" y="207"/>
                            </a:lnTo>
                            <a:lnTo>
                              <a:pt x="753" y="203"/>
                            </a:lnTo>
                            <a:lnTo>
                              <a:pt x="753" y="201"/>
                            </a:lnTo>
                            <a:lnTo>
                              <a:pt x="753" y="198"/>
                            </a:lnTo>
                            <a:lnTo>
                              <a:pt x="753" y="196"/>
                            </a:lnTo>
                            <a:lnTo>
                              <a:pt x="753" y="192"/>
                            </a:lnTo>
                            <a:lnTo>
                              <a:pt x="753" y="190"/>
                            </a:lnTo>
                            <a:lnTo>
                              <a:pt x="753" y="188"/>
                            </a:lnTo>
                            <a:lnTo>
                              <a:pt x="753" y="184"/>
                            </a:lnTo>
                            <a:lnTo>
                              <a:pt x="753" y="182"/>
                            </a:lnTo>
                            <a:lnTo>
                              <a:pt x="753" y="181"/>
                            </a:lnTo>
                            <a:lnTo>
                              <a:pt x="753" y="175"/>
                            </a:lnTo>
                            <a:lnTo>
                              <a:pt x="753" y="169"/>
                            </a:lnTo>
                            <a:lnTo>
                              <a:pt x="751" y="167"/>
                            </a:lnTo>
                            <a:lnTo>
                              <a:pt x="751" y="163"/>
                            </a:lnTo>
                            <a:lnTo>
                              <a:pt x="751" y="162"/>
                            </a:lnTo>
                            <a:lnTo>
                              <a:pt x="750" y="160"/>
                            </a:lnTo>
                            <a:lnTo>
                              <a:pt x="748" y="154"/>
                            </a:lnTo>
                            <a:lnTo>
                              <a:pt x="746" y="148"/>
                            </a:lnTo>
                            <a:lnTo>
                              <a:pt x="744" y="144"/>
                            </a:lnTo>
                            <a:lnTo>
                              <a:pt x="742" y="141"/>
                            </a:lnTo>
                            <a:lnTo>
                              <a:pt x="740" y="135"/>
                            </a:lnTo>
                            <a:lnTo>
                              <a:pt x="738" y="131"/>
                            </a:lnTo>
                            <a:lnTo>
                              <a:pt x="734" y="127"/>
                            </a:lnTo>
                            <a:lnTo>
                              <a:pt x="730" y="124"/>
                            </a:lnTo>
                            <a:lnTo>
                              <a:pt x="727" y="120"/>
                            </a:lnTo>
                            <a:lnTo>
                              <a:pt x="725" y="116"/>
                            </a:lnTo>
                            <a:lnTo>
                              <a:pt x="721" y="112"/>
                            </a:lnTo>
                            <a:lnTo>
                              <a:pt x="717" y="108"/>
                            </a:lnTo>
                            <a:lnTo>
                              <a:pt x="713" y="105"/>
                            </a:lnTo>
                            <a:lnTo>
                              <a:pt x="710" y="103"/>
                            </a:lnTo>
                            <a:lnTo>
                              <a:pt x="704" y="99"/>
                            </a:lnTo>
                            <a:lnTo>
                              <a:pt x="700" y="97"/>
                            </a:lnTo>
                            <a:lnTo>
                              <a:pt x="694" y="95"/>
                            </a:lnTo>
                            <a:lnTo>
                              <a:pt x="691" y="91"/>
                            </a:lnTo>
                            <a:lnTo>
                              <a:pt x="685" y="89"/>
                            </a:lnTo>
                            <a:lnTo>
                              <a:pt x="681" y="87"/>
                            </a:lnTo>
                            <a:lnTo>
                              <a:pt x="675" y="86"/>
                            </a:lnTo>
                            <a:lnTo>
                              <a:pt x="672" y="86"/>
                            </a:lnTo>
                            <a:lnTo>
                              <a:pt x="668" y="84"/>
                            </a:lnTo>
                            <a:lnTo>
                              <a:pt x="666" y="84"/>
                            </a:lnTo>
                            <a:lnTo>
                              <a:pt x="664" y="84"/>
                            </a:lnTo>
                            <a:lnTo>
                              <a:pt x="660" y="84"/>
                            </a:lnTo>
                            <a:lnTo>
                              <a:pt x="658" y="84"/>
                            </a:lnTo>
                            <a:lnTo>
                              <a:pt x="654" y="84"/>
                            </a:lnTo>
                            <a:lnTo>
                              <a:pt x="652" y="84"/>
                            </a:lnTo>
                            <a:lnTo>
                              <a:pt x="651" y="84"/>
                            </a:lnTo>
                            <a:lnTo>
                              <a:pt x="647" y="84"/>
                            </a:lnTo>
                            <a:lnTo>
                              <a:pt x="645" y="84"/>
                            </a:lnTo>
                            <a:lnTo>
                              <a:pt x="643" y="84"/>
                            </a:lnTo>
                            <a:lnTo>
                              <a:pt x="639" y="84"/>
                            </a:lnTo>
                            <a:lnTo>
                              <a:pt x="635" y="84"/>
                            </a:lnTo>
                            <a:lnTo>
                              <a:pt x="630" y="84"/>
                            </a:lnTo>
                            <a:lnTo>
                              <a:pt x="628" y="84"/>
                            </a:lnTo>
                            <a:lnTo>
                              <a:pt x="624" y="86"/>
                            </a:lnTo>
                            <a:lnTo>
                              <a:pt x="622" y="86"/>
                            </a:lnTo>
                            <a:lnTo>
                              <a:pt x="618" y="86"/>
                            </a:lnTo>
                            <a:lnTo>
                              <a:pt x="614" y="87"/>
                            </a:lnTo>
                            <a:lnTo>
                              <a:pt x="609" y="89"/>
                            </a:lnTo>
                            <a:lnTo>
                              <a:pt x="603" y="91"/>
                            </a:lnTo>
                            <a:lnTo>
                              <a:pt x="599" y="95"/>
                            </a:lnTo>
                            <a:lnTo>
                              <a:pt x="595" y="97"/>
                            </a:lnTo>
                            <a:lnTo>
                              <a:pt x="592" y="99"/>
                            </a:lnTo>
                            <a:lnTo>
                              <a:pt x="586" y="103"/>
                            </a:lnTo>
                            <a:lnTo>
                              <a:pt x="582" y="105"/>
                            </a:lnTo>
                            <a:lnTo>
                              <a:pt x="578" y="108"/>
                            </a:lnTo>
                            <a:lnTo>
                              <a:pt x="574" y="112"/>
                            </a:lnTo>
                            <a:lnTo>
                              <a:pt x="571" y="116"/>
                            </a:lnTo>
                            <a:lnTo>
                              <a:pt x="567" y="120"/>
                            </a:lnTo>
                            <a:lnTo>
                              <a:pt x="565" y="124"/>
                            </a:lnTo>
                            <a:lnTo>
                              <a:pt x="563" y="127"/>
                            </a:lnTo>
                            <a:lnTo>
                              <a:pt x="559" y="131"/>
                            </a:lnTo>
                            <a:lnTo>
                              <a:pt x="555" y="135"/>
                            </a:lnTo>
                            <a:lnTo>
                              <a:pt x="554" y="141"/>
                            </a:lnTo>
                            <a:lnTo>
                              <a:pt x="552" y="146"/>
                            </a:lnTo>
                            <a:lnTo>
                              <a:pt x="550" y="150"/>
                            </a:lnTo>
                            <a:lnTo>
                              <a:pt x="548" y="156"/>
                            </a:lnTo>
                            <a:lnTo>
                              <a:pt x="546" y="158"/>
                            </a:lnTo>
                            <a:lnTo>
                              <a:pt x="546" y="160"/>
                            </a:lnTo>
                            <a:lnTo>
                              <a:pt x="544" y="163"/>
                            </a:lnTo>
                            <a:lnTo>
                              <a:pt x="544" y="167"/>
                            </a:lnTo>
                            <a:lnTo>
                              <a:pt x="361" y="1127"/>
                            </a:lnTo>
                            <a:lnTo>
                              <a:pt x="361" y="1127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9360">
                        <a:solidFill>
                          <a:srgbClr val="c0c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516" name="AutoShape 191"/>
                    <p:cNvSpPr/>
                    <p:nvPr/>
                  </p:nvSpPr>
                  <p:spPr>
                    <a:xfrm rot="47400">
                      <a:off x="4039920" y="3238920"/>
                      <a:ext cx="88560" cy="75960"/>
                    </a:xfrm>
                    <a:prstGeom prst="hexagon">
                      <a:avLst>
                        <a:gd name="adj" fmla="val 29147"/>
                        <a:gd name="vf" fmla="val 115470"/>
                      </a:avLst>
                    </a:prstGeom>
                    <a:solidFill>
                      <a:srgbClr val="ff0000"/>
                    </a:solidFill>
                    <a:ln w="9360">
                      <a:solidFill>
                        <a:srgbClr val="b2b2b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80" bIns="1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517" name="AutoShape 192"/>
                <p:cNvSpPr/>
                <p:nvPr/>
              </p:nvSpPr>
              <p:spPr>
                <a:xfrm rot="64800">
                  <a:off x="3997080" y="2896920"/>
                  <a:ext cx="180000" cy="12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0" y="21600"/>
                      </a:lnTo>
                      <a:lnTo>
                        <a:pt x="216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8" name="AutoShape 193"/>
              <p:cNvSpPr/>
              <p:nvPr/>
            </p:nvSpPr>
            <p:spPr>
              <a:xfrm rot="79200">
                <a:off x="3976200" y="3622320"/>
                <a:ext cx="192600" cy="5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308" y="21600"/>
                    </a:lnTo>
                    <a:lnTo>
                      <a:pt x="1729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9" name="AutoShape 194"/>
            <p:cNvSpPr/>
            <p:nvPr/>
          </p:nvSpPr>
          <p:spPr>
            <a:xfrm rot="21528000">
              <a:off x="4025160" y="2895480"/>
              <a:ext cx="115560" cy="109800"/>
            </a:xfrm>
            <a:custGeom>
              <a:avLst/>
              <a:gdLst/>
              <a:ahLst/>
              <a:rect l="l" t="t" r="r" b="b"/>
              <a:pathLst>
                <a:path w="137" h="130">
                  <a:moveTo>
                    <a:pt x="0" y="49"/>
                  </a:moveTo>
                  <a:lnTo>
                    <a:pt x="52" y="49"/>
                  </a:lnTo>
                  <a:lnTo>
                    <a:pt x="68" y="0"/>
                  </a:lnTo>
                  <a:lnTo>
                    <a:pt x="84" y="49"/>
                  </a:lnTo>
                  <a:lnTo>
                    <a:pt x="136" y="49"/>
                  </a:lnTo>
                  <a:lnTo>
                    <a:pt x="94" y="80"/>
                  </a:lnTo>
                  <a:lnTo>
                    <a:pt x="110" y="129"/>
                  </a:lnTo>
                  <a:lnTo>
                    <a:pt x="68" y="99"/>
                  </a:lnTo>
                  <a:lnTo>
                    <a:pt x="26" y="129"/>
                  </a:lnTo>
                  <a:lnTo>
                    <a:pt x="42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0" name="Group 195"/>
          <p:cNvGrpSpPr/>
          <p:nvPr/>
        </p:nvGrpSpPr>
        <p:grpSpPr>
          <a:xfrm>
            <a:off x="4867200" y="2772720"/>
            <a:ext cx="409680" cy="1961640"/>
            <a:chOff x="4867200" y="2772720"/>
            <a:chExt cx="409680" cy="1961640"/>
          </a:xfrm>
        </p:grpSpPr>
        <p:grpSp>
          <p:nvGrpSpPr>
            <p:cNvPr id="3521" name="Group 196"/>
            <p:cNvGrpSpPr/>
            <p:nvPr/>
          </p:nvGrpSpPr>
          <p:grpSpPr>
            <a:xfrm>
              <a:off x="4867200" y="3713760"/>
              <a:ext cx="349560" cy="1020600"/>
              <a:chOff x="4867200" y="3713760"/>
              <a:chExt cx="349560" cy="1020600"/>
            </a:xfrm>
          </p:grpSpPr>
          <p:sp>
            <p:nvSpPr>
              <p:cNvPr id="3522" name="AutoShape 197"/>
              <p:cNvSpPr/>
              <p:nvPr/>
            </p:nvSpPr>
            <p:spPr>
              <a:xfrm rot="15249000">
                <a:off x="4979160" y="4488120"/>
                <a:ext cx="101520" cy="3099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606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3" name="AutoShape 198"/>
              <p:cNvSpPr/>
              <p:nvPr/>
            </p:nvSpPr>
            <p:spPr>
              <a:xfrm rot="21310800">
                <a:off x="4977000" y="3722040"/>
                <a:ext cx="221400" cy="443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4" name="AutoShape 199"/>
              <p:cNvSpPr/>
              <p:nvPr/>
            </p:nvSpPr>
            <p:spPr>
              <a:xfrm rot="21310800">
                <a:off x="5058720" y="4164480"/>
                <a:ext cx="132840" cy="443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5" name="Oval 200"/>
              <p:cNvSpPr/>
              <p:nvPr/>
            </p:nvSpPr>
            <p:spPr>
              <a:xfrm rot="21310800">
                <a:off x="5038200" y="4115520"/>
                <a:ext cx="132840" cy="132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AutoShape 201"/>
              <p:cNvSpPr/>
              <p:nvPr/>
            </p:nvSpPr>
            <p:spPr>
              <a:xfrm flipV="1" rot="21310800">
                <a:off x="5067000" y="4157280"/>
                <a:ext cx="72000" cy="61920"/>
              </a:xfrm>
              <a:prstGeom prst="hexagon">
                <a:avLst>
                  <a:gd name="adj" fmla="val 2907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7" name="Group 202"/>
            <p:cNvGrpSpPr/>
            <p:nvPr/>
          </p:nvGrpSpPr>
          <p:grpSpPr>
            <a:xfrm>
              <a:off x="4927320" y="2772720"/>
              <a:ext cx="349560" cy="1020960"/>
              <a:chOff x="4927320" y="2772720"/>
              <a:chExt cx="349560" cy="1020960"/>
            </a:xfrm>
          </p:grpSpPr>
          <p:sp>
            <p:nvSpPr>
              <p:cNvPr id="3528" name="AutoShape 203"/>
              <p:cNvSpPr/>
              <p:nvPr/>
            </p:nvSpPr>
            <p:spPr>
              <a:xfrm rot="4449600">
                <a:off x="5062680" y="2708640"/>
                <a:ext cx="101520" cy="310320"/>
              </a:xfrm>
              <a:prstGeom prst="triangle">
                <a:avLst>
                  <a:gd name="adj" fmla="val 50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9" name="AutoShape 204"/>
              <p:cNvSpPr/>
              <p:nvPr/>
            </p:nvSpPr>
            <p:spPr>
              <a:xfrm rot="10510800">
                <a:off x="4945320" y="3341160"/>
                <a:ext cx="221400" cy="443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0" name="AutoShape 205"/>
              <p:cNvSpPr/>
              <p:nvPr/>
            </p:nvSpPr>
            <p:spPr>
              <a:xfrm rot="10510800">
                <a:off x="4952160" y="2898720"/>
                <a:ext cx="132840" cy="443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1" name="Oval 206"/>
              <p:cNvSpPr/>
              <p:nvPr/>
            </p:nvSpPr>
            <p:spPr>
              <a:xfrm rot="10510800">
                <a:off x="4972680" y="3258360"/>
                <a:ext cx="132840" cy="1332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AutoShape 207"/>
              <p:cNvSpPr/>
              <p:nvPr/>
            </p:nvSpPr>
            <p:spPr>
              <a:xfrm flipV="1" rot="10510800">
                <a:off x="5004360" y="3287520"/>
                <a:ext cx="72000" cy="61920"/>
              </a:xfrm>
              <a:prstGeom prst="hexagon">
                <a:avLst>
                  <a:gd name="adj" fmla="val 29070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33" name="Group 208"/>
          <p:cNvGrpSpPr/>
          <p:nvPr/>
        </p:nvGrpSpPr>
        <p:grpSpPr>
          <a:xfrm>
            <a:off x="4793760" y="2867040"/>
            <a:ext cx="556560" cy="1925640"/>
            <a:chOff x="4793760" y="2867040"/>
            <a:chExt cx="556560" cy="1925640"/>
          </a:xfrm>
        </p:grpSpPr>
        <p:grpSp>
          <p:nvGrpSpPr>
            <p:cNvPr id="3534" name="Group 209"/>
            <p:cNvGrpSpPr/>
            <p:nvPr/>
          </p:nvGrpSpPr>
          <p:grpSpPr>
            <a:xfrm>
              <a:off x="4793760" y="3799440"/>
              <a:ext cx="388800" cy="993240"/>
              <a:chOff x="4793760" y="3799440"/>
              <a:chExt cx="388800" cy="993240"/>
            </a:xfrm>
          </p:grpSpPr>
          <p:sp>
            <p:nvSpPr>
              <p:cNvPr id="3535" name="AutoShape 210"/>
              <p:cNvSpPr/>
              <p:nvPr/>
            </p:nvSpPr>
            <p:spPr>
              <a:xfrm rot="15538200">
                <a:off x="4904640" y="4557960"/>
                <a:ext cx="101520" cy="3099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606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AutoShape 211"/>
              <p:cNvSpPr/>
              <p:nvPr/>
            </p:nvSpPr>
            <p:spPr>
              <a:xfrm>
                <a:off x="4961160" y="3799440"/>
                <a:ext cx="221400" cy="443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7" name="AutoShape 212"/>
              <p:cNvSpPr/>
              <p:nvPr/>
            </p:nvSpPr>
            <p:spPr>
              <a:xfrm>
                <a:off x="5005440" y="4243320"/>
                <a:ext cx="132840" cy="443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Oval 213"/>
              <p:cNvSpPr/>
              <p:nvPr/>
            </p:nvSpPr>
            <p:spPr>
              <a:xfrm>
                <a:off x="5002560" y="4193280"/>
                <a:ext cx="132840" cy="133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9" name="AutoShape 214"/>
              <p:cNvSpPr/>
              <p:nvPr/>
            </p:nvSpPr>
            <p:spPr>
              <a:xfrm flipV="1">
                <a:off x="5030280" y="4235040"/>
                <a:ext cx="72000" cy="61920"/>
              </a:xfrm>
              <a:prstGeom prst="hexagon">
                <a:avLst>
                  <a:gd name="adj" fmla="val 2907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0" name="Group 215"/>
            <p:cNvGrpSpPr/>
            <p:nvPr/>
          </p:nvGrpSpPr>
          <p:grpSpPr>
            <a:xfrm>
              <a:off x="4961520" y="2867040"/>
              <a:ext cx="388800" cy="993240"/>
              <a:chOff x="4961520" y="2867040"/>
              <a:chExt cx="388800" cy="993240"/>
            </a:xfrm>
          </p:grpSpPr>
          <p:sp>
            <p:nvSpPr>
              <p:cNvPr id="3541" name="AutoShape 216"/>
              <p:cNvSpPr/>
              <p:nvPr/>
            </p:nvSpPr>
            <p:spPr>
              <a:xfrm rot="4738800">
                <a:off x="5137200" y="2791080"/>
                <a:ext cx="101520" cy="310320"/>
              </a:xfrm>
              <a:prstGeom prst="triangle">
                <a:avLst>
                  <a:gd name="adj" fmla="val 50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AutoShape 217"/>
              <p:cNvSpPr/>
              <p:nvPr/>
            </p:nvSpPr>
            <p:spPr>
              <a:xfrm rot="10800000">
                <a:off x="4961520" y="3416400"/>
                <a:ext cx="221400" cy="443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AutoShape 218"/>
              <p:cNvSpPr/>
              <p:nvPr/>
            </p:nvSpPr>
            <p:spPr>
              <a:xfrm rot="10800000">
                <a:off x="5005800" y="2972520"/>
                <a:ext cx="132840" cy="443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Oval 219"/>
              <p:cNvSpPr/>
              <p:nvPr/>
            </p:nvSpPr>
            <p:spPr>
              <a:xfrm rot="10800000">
                <a:off x="5008680" y="3333240"/>
                <a:ext cx="132840" cy="1332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AutoShape 220"/>
              <p:cNvSpPr/>
              <p:nvPr/>
            </p:nvSpPr>
            <p:spPr>
              <a:xfrm flipV="1" rot="10800000">
                <a:off x="5041440" y="3362760"/>
                <a:ext cx="72000" cy="61920"/>
              </a:xfrm>
              <a:prstGeom prst="hexagon">
                <a:avLst>
                  <a:gd name="adj" fmla="val 29070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46" name="Group 221"/>
          <p:cNvGrpSpPr/>
          <p:nvPr/>
        </p:nvGrpSpPr>
        <p:grpSpPr>
          <a:xfrm>
            <a:off x="4800600" y="2438280"/>
            <a:ext cx="678600" cy="1409040"/>
            <a:chOff x="4800600" y="2438280"/>
            <a:chExt cx="678600" cy="1409040"/>
          </a:xfrm>
        </p:grpSpPr>
        <p:grpSp>
          <p:nvGrpSpPr>
            <p:cNvPr id="3547" name="Group 222"/>
            <p:cNvGrpSpPr/>
            <p:nvPr/>
          </p:nvGrpSpPr>
          <p:grpSpPr>
            <a:xfrm>
              <a:off x="4800600" y="2438280"/>
              <a:ext cx="678600" cy="1409040"/>
              <a:chOff x="4800600" y="2438280"/>
              <a:chExt cx="678600" cy="1409040"/>
            </a:xfrm>
          </p:grpSpPr>
          <p:sp>
            <p:nvSpPr>
              <p:cNvPr id="3548" name="Arc 223"/>
              <p:cNvSpPr/>
              <p:nvPr/>
            </p:nvSpPr>
            <p:spPr>
              <a:xfrm rot="2809200">
                <a:off x="4932000" y="3153240"/>
                <a:ext cx="532800" cy="26964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9" name="Arc 224"/>
              <p:cNvSpPr/>
              <p:nvPr/>
            </p:nvSpPr>
            <p:spPr>
              <a:xfrm rot="2809200">
                <a:off x="4898880" y="2842200"/>
                <a:ext cx="532800" cy="26964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AutoShape 225"/>
              <p:cNvSpPr/>
              <p:nvPr/>
            </p:nvSpPr>
            <p:spPr>
              <a:xfrm rot="10800000">
                <a:off x="4808880" y="2648520"/>
                <a:ext cx="298080" cy="310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0800" y="21600"/>
                    </a:lnTo>
                    <a:lnTo>
                      <a:pt x="108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1" name="AutoShape 226"/>
              <p:cNvSpPr/>
              <p:nvPr/>
            </p:nvSpPr>
            <p:spPr>
              <a:xfrm>
                <a:off x="4808880" y="2951640"/>
                <a:ext cx="298080" cy="613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0800" y="21600"/>
                    </a:lnTo>
                    <a:lnTo>
                      <a:pt x="108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2" name="Rectangle 227"/>
              <p:cNvSpPr/>
              <p:nvPr/>
            </p:nvSpPr>
            <p:spPr>
              <a:xfrm>
                <a:off x="4959720" y="2657520"/>
                <a:ext cx="246600" cy="7462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AutoShape 228"/>
              <p:cNvSpPr/>
              <p:nvPr/>
            </p:nvSpPr>
            <p:spPr>
              <a:xfrm rot="10800000">
                <a:off x="4800600" y="3403440"/>
                <a:ext cx="529920" cy="443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287" y="21600"/>
                    </a:lnTo>
                    <a:lnTo>
                      <a:pt x="16313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Oval 229"/>
              <p:cNvSpPr/>
              <p:nvPr/>
            </p:nvSpPr>
            <p:spPr>
              <a:xfrm>
                <a:off x="4953600" y="2629440"/>
                <a:ext cx="252720" cy="47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5" name="Rectangle 230"/>
              <p:cNvSpPr/>
              <p:nvPr/>
            </p:nvSpPr>
            <p:spPr>
              <a:xfrm>
                <a:off x="5038560" y="2438280"/>
                <a:ext cx="101160" cy="2134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6" name="Rectangle 231"/>
            <p:cNvSpPr/>
            <p:nvPr/>
          </p:nvSpPr>
          <p:spPr>
            <a:xfrm>
              <a:off x="4914000" y="3401280"/>
              <a:ext cx="303480" cy="47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7" name="Group 232"/>
          <p:cNvGrpSpPr/>
          <p:nvPr/>
        </p:nvGrpSpPr>
        <p:grpSpPr>
          <a:xfrm>
            <a:off x="4934880" y="1745640"/>
            <a:ext cx="235080" cy="2040480"/>
            <a:chOff x="4934880" y="1745640"/>
            <a:chExt cx="235080" cy="2040480"/>
          </a:xfrm>
        </p:grpSpPr>
        <p:grpSp>
          <p:nvGrpSpPr>
            <p:cNvPr id="3558" name="Group 233"/>
            <p:cNvGrpSpPr/>
            <p:nvPr/>
          </p:nvGrpSpPr>
          <p:grpSpPr>
            <a:xfrm>
              <a:off x="4934880" y="1745640"/>
              <a:ext cx="221400" cy="1113480"/>
              <a:chOff x="4934880" y="1745640"/>
              <a:chExt cx="221400" cy="1113480"/>
            </a:xfrm>
          </p:grpSpPr>
          <p:grpSp>
            <p:nvGrpSpPr>
              <p:cNvPr id="3559" name="Group 234"/>
              <p:cNvGrpSpPr/>
              <p:nvPr/>
            </p:nvGrpSpPr>
            <p:grpSpPr>
              <a:xfrm>
                <a:off x="4945680" y="1953000"/>
                <a:ext cx="210600" cy="906120"/>
                <a:chOff x="4945680" y="1953000"/>
                <a:chExt cx="210600" cy="906120"/>
              </a:xfrm>
            </p:grpSpPr>
            <p:sp>
              <p:nvSpPr>
                <p:cNvPr id="3560" name="AutoShape 235"/>
                <p:cNvSpPr/>
                <p:nvPr/>
              </p:nvSpPr>
              <p:spPr>
                <a:xfrm rot="10432800">
                  <a:off x="4971240" y="2313360"/>
                  <a:ext cx="150120" cy="486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1" name="AutoShape 236"/>
                <p:cNvSpPr/>
                <p:nvPr/>
              </p:nvSpPr>
              <p:spPr>
                <a:xfrm rot="10432800">
                  <a:off x="4966200" y="1955880"/>
                  <a:ext cx="77040" cy="363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2" name="Oval 237"/>
                <p:cNvSpPr/>
                <p:nvPr/>
              </p:nvSpPr>
              <p:spPr>
                <a:xfrm rot="10432800">
                  <a:off x="4959720" y="2224800"/>
                  <a:ext cx="132480" cy="1332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3" name="AutoShape 238"/>
                <p:cNvSpPr/>
                <p:nvPr/>
              </p:nvSpPr>
              <p:spPr>
                <a:xfrm flipV="1" rot="10433400">
                  <a:off x="4991400" y="2254680"/>
                  <a:ext cx="71640" cy="61920"/>
                </a:xfrm>
                <a:prstGeom prst="hexagon">
                  <a:avLst>
                    <a:gd name="adj" fmla="val 28924"/>
                    <a:gd name="vf" fmla="val 11547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4" name="AutoShape 239"/>
                <p:cNvSpPr/>
                <p:nvPr/>
              </p:nvSpPr>
              <p:spPr>
                <a:xfrm rot="16212600">
                  <a:off x="4995720" y="2698200"/>
                  <a:ext cx="144000" cy="176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934" y="2201"/>
                        <a:pt x="12267" y="5080"/>
                        <a:pt x="12267" y="10800"/>
                      </a:cubicBezTo>
                      <a:cubicBezTo>
                        <a:pt x="12267" y="16520"/>
                        <a:pt x="16934" y="1939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5" name="Freeform 240"/>
              <p:cNvSpPr/>
              <p:nvPr/>
            </p:nvSpPr>
            <p:spPr>
              <a:xfrm flipH="1" rot="21577800">
                <a:off x="4935240" y="1745640"/>
                <a:ext cx="92880" cy="237960"/>
              </a:xfrm>
              <a:custGeom>
                <a:avLst/>
                <a:gdLst/>
                <a:ahLst/>
                <a:rect l="l" t="t" r="r" b="b"/>
                <a:pathLst>
                  <a:path w="1402" h="2302">
                    <a:moveTo>
                      <a:pt x="361" y="1127"/>
                    </a:moveTo>
                    <a:lnTo>
                      <a:pt x="280" y="1116"/>
                    </a:lnTo>
                    <a:lnTo>
                      <a:pt x="373" y="711"/>
                    </a:lnTo>
                    <a:lnTo>
                      <a:pt x="373" y="709"/>
                    </a:lnTo>
                    <a:lnTo>
                      <a:pt x="375" y="705"/>
                    </a:lnTo>
                    <a:lnTo>
                      <a:pt x="375" y="703"/>
                    </a:lnTo>
                    <a:lnTo>
                      <a:pt x="375" y="700"/>
                    </a:lnTo>
                    <a:lnTo>
                      <a:pt x="375" y="698"/>
                    </a:lnTo>
                    <a:lnTo>
                      <a:pt x="375" y="696"/>
                    </a:lnTo>
                    <a:lnTo>
                      <a:pt x="375" y="692"/>
                    </a:lnTo>
                    <a:lnTo>
                      <a:pt x="375" y="690"/>
                    </a:lnTo>
                    <a:lnTo>
                      <a:pt x="375" y="684"/>
                    </a:lnTo>
                    <a:lnTo>
                      <a:pt x="375" y="681"/>
                    </a:lnTo>
                    <a:lnTo>
                      <a:pt x="375" y="675"/>
                    </a:lnTo>
                    <a:lnTo>
                      <a:pt x="375" y="669"/>
                    </a:lnTo>
                    <a:lnTo>
                      <a:pt x="371" y="665"/>
                    </a:lnTo>
                    <a:lnTo>
                      <a:pt x="371" y="660"/>
                    </a:lnTo>
                    <a:lnTo>
                      <a:pt x="369" y="654"/>
                    </a:lnTo>
                    <a:lnTo>
                      <a:pt x="367" y="652"/>
                    </a:lnTo>
                    <a:lnTo>
                      <a:pt x="365" y="646"/>
                    </a:lnTo>
                    <a:lnTo>
                      <a:pt x="363" y="641"/>
                    </a:lnTo>
                    <a:lnTo>
                      <a:pt x="361" y="637"/>
                    </a:lnTo>
                    <a:lnTo>
                      <a:pt x="358" y="633"/>
                    </a:lnTo>
                    <a:lnTo>
                      <a:pt x="356" y="629"/>
                    </a:lnTo>
                    <a:lnTo>
                      <a:pt x="354" y="623"/>
                    </a:lnTo>
                    <a:lnTo>
                      <a:pt x="350" y="620"/>
                    </a:lnTo>
                    <a:lnTo>
                      <a:pt x="346" y="616"/>
                    </a:lnTo>
                    <a:lnTo>
                      <a:pt x="342" y="612"/>
                    </a:lnTo>
                    <a:lnTo>
                      <a:pt x="339" y="610"/>
                    </a:lnTo>
                    <a:lnTo>
                      <a:pt x="335" y="606"/>
                    </a:lnTo>
                    <a:lnTo>
                      <a:pt x="331" y="603"/>
                    </a:lnTo>
                    <a:lnTo>
                      <a:pt x="325" y="601"/>
                    </a:lnTo>
                    <a:lnTo>
                      <a:pt x="321" y="597"/>
                    </a:lnTo>
                    <a:lnTo>
                      <a:pt x="318" y="595"/>
                    </a:lnTo>
                    <a:lnTo>
                      <a:pt x="312" y="593"/>
                    </a:lnTo>
                    <a:lnTo>
                      <a:pt x="306" y="591"/>
                    </a:lnTo>
                    <a:lnTo>
                      <a:pt x="302" y="589"/>
                    </a:lnTo>
                    <a:lnTo>
                      <a:pt x="299" y="589"/>
                    </a:lnTo>
                    <a:lnTo>
                      <a:pt x="295" y="587"/>
                    </a:lnTo>
                    <a:lnTo>
                      <a:pt x="291" y="587"/>
                    </a:lnTo>
                    <a:lnTo>
                      <a:pt x="287" y="585"/>
                    </a:lnTo>
                    <a:lnTo>
                      <a:pt x="285" y="585"/>
                    </a:lnTo>
                    <a:lnTo>
                      <a:pt x="283" y="585"/>
                    </a:lnTo>
                    <a:lnTo>
                      <a:pt x="280" y="585"/>
                    </a:lnTo>
                    <a:lnTo>
                      <a:pt x="276" y="585"/>
                    </a:lnTo>
                    <a:lnTo>
                      <a:pt x="274" y="585"/>
                    </a:lnTo>
                    <a:lnTo>
                      <a:pt x="272" y="585"/>
                    </a:lnTo>
                    <a:lnTo>
                      <a:pt x="268" y="585"/>
                    </a:lnTo>
                    <a:lnTo>
                      <a:pt x="266" y="585"/>
                    </a:lnTo>
                    <a:lnTo>
                      <a:pt x="263" y="585"/>
                    </a:lnTo>
                    <a:lnTo>
                      <a:pt x="261" y="587"/>
                    </a:lnTo>
                    <a:lnTo>
                      <a:pt x="259" y="587"/>
                    </a:lnTo>
                    <a:lnTo>
                      <a:pt x="255" y="587"/>
                    </a:lnTo>
                    <a:lnTo>
                      <a:pt x="253" y="589"/>
                    </a:lnTo>
                    <a:lnTo>
                      <a:pt x="249" y="589"/>
                    </a:lnTo>
                    <a:lnTo>
                      <a:pt x="247" y="589"/>
                    </a:lnTo>
                    <a:lnTo>
                      <a:pt x="243" y="591"/>
                    </a:lnTo>
                    <a:lnTo>
                      <a:pt x="240" y="591"/>
                    </a:lnTo>
                    <a:lnTo>
                      <a:pt x="238" y="593"/>
                    </a:lnTo>
                    <a:lnTo>
                      <a:pt x="236" y="595"/>
                    </a:lnTo>
                    <a:lnTo>
                      <a:pt x="232" y="595"/>
                    </a:lnTo>
                    <a:lnTo>
                      <a:pt x="230" y="597"/>
                    </a:lnTo>
                    <a:lnTo>
                      <a:pt x="228" y="599"/>
                    </a:lnTo>
                    <a:lnTo>
                      <a:pt x="224" y="601"/>
                    </a:lnTo>
                    <a:lnTo>
                      <a:pt x="223" y="601"/>
                    </a:lnTo>
                    <a:lnTo>
                      <a:pt x="219" y="603"/>
                    </a:lnTo>
                    <a:lnTo>
                      <a:pt x="217" y="604"/>
                    </a:lnTo>
                    <a:lnTo>
                      <a:pt x="211" y="608"/>
                    </a:lnTo>
                    <a:lnTo>
                      <a:pt x="207" y="612"/>
                    </a:lnTo>
                    <a:lnTo>
                      <a:pt x="204" y="616"/>
                    </a:lnTo>
                    <a:lnTo>
                      <a:pt x="198" y="618"/>
                    </a:lnTo>
                    <a:lnTo>
                      <a:pt x="194" y="623"/>
                    </a:lnTo>
                    <a:lnTo>
                      <a:pt x="188" y="627"/>
                    </a:lnTo>
                    <a:lnTo>
                      <a:pt x="185" y="633"/>
                    </a:lnTo>
                    <a:lnTo>
                      <a:pt x="181" y="637"/>
                    </a:lnTo>
                    <a:lnTo>
                      <a:pt x="177" y="641"/>
                    </a:lnTo>
                    <a:lnTo>
                      <a:pt x="173" y="646"/>
                    </a:lnTo>
                    <a:lnTo>
                      <a:pt x="169" y="652"/>
                    </a:lnTo>
                    <a:lnTo>
                      <a:pt x="166" y="656"/>
                    </a:lnTo>
                    <a:lnTo>
                      <a:pt x="162" y="662"/>
                    </a:lnTo>
                    <a:lnTo>
                      <a:pt x="160" y="665"/>
                    </a:lnTo>
                    <a:lnTo>
                      <a:pt x="158" y="669"/>
                    </a:lnTo>
                    <a:lnTo>
                      <a:pt x="158" y="671"/>
                    </a:lnTo>
                    <a:lnTo>
                      <a:pt x="156" y="673"/>
                    </a:lnTo>
                    <a:lnTo>
                      <a:pt x="154" y="677"/>
                    </a:lnTo>
                    <a:lnTo>
                      <a:pt x="152" y="679"/>
                    </a:lnTo>
                    <a:lnTo>
                      <a:pt x="152" y="681"/>
                    </a:lnTo>
                    <a:lnTo>
                      <a:pt x="150" y="684"/>
                    </a:lnTo>
                    <a:lnTo>
                      <a:pt x="150" y="688"/>
                    </a:lnTo>
                    <a:lnTo>
                      <a:pt x="146" y="694"/>
                    </a:lnTo>
                    <a:lnTo>
                      <a:pt x="145" y="701"/>
                    </a:lnTo>
                    <a:lnTo>
                      <a:pt x="143" y="709"/>
                    </a:lnTo>
                    <a:lnTo>
                      <a:pt x="139" y="717"/>
                    </a:lnTo>
                    <a:lnTo>
                      <a:pt x="137" y="724"/>
                    </a:lnTo>
                    <a:lnTo>
                      <a:pt x="135" y="732"/>
                    </a:lnTo>
                    <a:lnTo>
                      <a:pt x="131" y="739"/>
                    </a:lnTo>
                    <a:lnTo>
                      <a:pt x="129" y="747"/>
                    </a:lnTo>
                    <a:lnTo>
                      <a:pt x="126" y="755"/>
                    </a:lnTo>
                    <a:lnTo>
                      <a:pt x="124" y="760"/>
                    </a:lnTo>
                    <a:lnTo>
                      <a:pt x="122" y="768"/>
                    </a:lnTo>
                    <a:lnTo>
                      <a:pt x="120" y="776"/>
                    </a:lnTo>
                    <a:lnTo>
                      <a:pt x="116" y="781"/>
                    </a:lnTo>
                    <a:lnTo>
                      <a:pt x="114" y="789"/>
                    </a:lnTo>
                    <a:lnTo>
                      <a:pt x="112" y="796"/>
                    </a:lnTo>
                    <a:lnTo>
                      <a:pt x="110" y="804"/>
                    </a:lnTo>
                    <a:lnTo>
                      <a:pt x="107" y="812"/>
                    </a:lnTo>
                    <a:lnTo>
                      <a:pt x="107" y="817"/>
                    </a:lnTo>
                    <a:lnTo>
                      <a:pt x="103" y="823"/>
                    </a:lnTo>
                    <a:lnTo>
                      <a:pt x="101" y="831"/>
                    </a:lnTo>
                    <a:lnTo>
                      <a:pt x="97" y="836"/>
                    </a:lnTo>
                    <a:lnTo>
                      <a:pt x="97" y="844"/>
                    </a:lnTo>
                    <a:lnTo>
                      <a:pt x="93" y="852"/>
                    </a:lnTo>
                    <a:lnTo>
                      <a:pt x="93" y="857"/>
                    </a:lnTo>
                    <a:lnTo>
                      <a:pt x="89" y="865"/>
                    </a:lnTo>
                    <a:lnTo>
                      <a:pt x="88" y="871"/>
                    </a:lnTo>
                    <a:lnTo>
                      <a:pt x="86" y="878"/>
                    </a:lnTo>
                    <a:lnTo>
                      <a:pt x="84" y="884"/>
                    </a:lnTo>
                    <a:lnTo>
                      <a:pt x="82" y="892"/>
                    </a:lnTo>
                    <a:lnTo>
                      <a:pt x="80" y="899"/>
                    </a:lnTo>
                    <a:lnTo>
                      <a:pt x="78" y="907"/>
                    </a:lnTo>
                    <a:lnTo>
                      <a:pt x="74" y="912"/>
                    </a:lnTo>
                    <a:lnTo>
                      <a:pt x="72" y="920"/>
                    </a:lnTo>
                    <a:lnTo>
                      <a:pt x="72" y="926"/>
                    </a:lnTo>
                    <a:lnTo>
                      <a:pt x="68" y="931"/>
                    </a:lnTo>
                    <a:lnTo>
                      <a:pt x="67" y="939"/>
                    </a:lnTo>
                    <a:lnTo>
                      <a:pt x="65" y="945"/>
                    </a:lnTo>
                    <a:lnTo>
                      <a:pt x="63" y="952"/>
                    </a:lnTo>
                    <a:lnTo>
                      <a:pt x="59" y="958"/>
                    </a:lnTo>
                    <a:lnTo>
                      <a:pt x="57" y="966"/>
                    </a:lnTo>
                    <a:lnTo>
                      <a:pt x="55" y="971"/>
                    </a:lnTo>
                    <a:lnTo>
                      <a:pt x="53" y="979"/>
                    </a:lnTo>
                    <a:lnTo>
                      <a:pt x="51" y="987"/>
                    </a:lnTo>
                    <a:lnTo>
                      <a:pt x="49" y="994"/>
                    </a:lnTo>
                    <a:lnTo>
                      <a:pt x="48" y="1000"/>
                    </a:lnTo>
                    <a:lnTo>
                      <a:pt x="46" y="1007"/>
                    </a:lnTo>
                    <a:lnTo>
                      <a:pt x="44" y="1015"/>
                    </a:lnTo>
                    <a:lnTo>
                      <a:pt x="42" y="1021"/>
                    </a:lnTo>
                    <a:lnTo>
                      <a:pt x="42" y="1028"/>
                    </a:lnTo>
                    <a:lnTo>
                      <a:pt x="38" y="1036"/>
                    </a:lnTo>
                    <a:lnTo>
                      <a:pt x="36" y="1042"/>
                    </a:lnTo>
                    <a:lnTo>
                      <a:pt x="36" y="1049"/>
                    </a:lnTo>
                    <a:lnTo>
                      <a:pt x="34" y="1057"/>
                    </a:lnTo>
                    <a:lnTo>
                      <a:pt x="30" y="1063"/>
                    </a:lnTo>
                    <a:lnTo>
                      <a:pt x="30" y="1070"/>
                    </a:lnTo>
                    <a:lnTo>
                      <a:pt x="29" y="1078"/>
                    </a:lnTo>
                    <a:lnTo>
                      <a:pt x="27" y="1085"/>
                    </a:lnTo>
                    <a:lnTo>
                      <a:pt x="25" y="1093"/>
                    </a:lnTo>
                    <a:lnTo>
                      <a:pt x="23" y="1101"/>
                    </a:lnTo>
                    <a:lnTo>
                      <a:pt x="21" y="1108"/>
                    </a:lnTo>
                    <a:lnTo>
                      <a:pt x="19" y="1116"/>
                    </a:lnTo>
                    <a:lnTo>
                      <a:pt x="17" y="1123"/>
                    </a:lnTo>
                    <a:lnTo>
                      <a:pt x="17" y="1131"/>
                    </a:lnTo>
                    <a:lnTo>
                      <a:pt x="15" y="1139"/>
                    </a:lnTo>
                    <a:lnTo>
                      <a:pt x="13" y="1148"/>
                    </a:lnTo>
                    <a:lnTo>
                      <a:pt x="10" y="1158"/>
                    </a:lnTo>
                    <a:lnTo>
                      <a:pt x="10" y="1165"/>
                    </a:lnTo>
                    <a:lnTo>
                      <a:pt x="8" y="1175"/>
                    </a:lnTo>
                    <a:lnTo>
                      <a:pt x="6" y="1182"/>
                    </a:lnTo>
                    <a:lnTo>
                      <a:pt x="6" y="1192"/>
                    </a:lnTo>
                    <a:lnTo>
                      <a:pt x="4" y="1201"/>
                    </a:lnTo>
                    <a:lnTo>
                      <a:pt x="2" y="1211"/>
                    </a:lnTo>
                    <a:lnTo>
                      <a:pt x="2" y="1218"/>
                    </a:lnTo>
                    <a:lnTo>
                      <a:pt x="0" y="1230"/>
                    </a:lnTo>
                    <a:lnTo>
                      <a:pt x="0" y="1237"/>
                    </a:lnTo>
                    <a:lnTo>
                      <a:pt x="0" y="1247"/>
                    </a:lnTo>
                    <a:lnTo>
                      <a:pt x="0" y="1257"/>
                    </a:lnTo>
                    <a:lnTo>
                      <a:pt x="0" y="1268"/>
                    </a:lnTo>
                    <a:lnTo>
                      <a:pt x="0" y="1276"/>
                    </a:lnTo>
                    <a:lnTo>
                      <a:pt x="0" y="1285"/>
                    </a:lnTo>
                    <a:lnTo>
                      <a:pt x="0" y="1296"/>
                    </a:lnTo>
                    <a:lnTo>
                      <a:pt x="0" y="1304"/>
                    </a:lnTo>
                    <a:lnTo>
                      <a:pt x="0" y="1314"/>
                    </a:lnTo>
                    <a:lnTo>
                      <a:pt x="0" y="1323"/>
                    </a:lnTo>
                    <a:lnTo>
                      <a:pt x="0" y="1333"/>
                    </a:lnTo>
                    <a:lnTo>
                      <a:pt x="2" y="1342"/>
                    </a:lnTo>
                    <a:lnTo>
                      <a:pt x="2" y="1352"/>
                    </a:lnTo>
                    <a:lnTo>
                      <a:pt x="4" y="1363"/>
                    </a:lnTo>
                    <a:lnTo>
                      <a:pt x="4" y="1371"/>
                    </a:lnTo>
                    <a:lnTo>
                      <a:pt x="6" y="1382"/>
                    </a:lnTo>
                    <a:lnTo>
                      <a:pt x="8" y="1390"/>
                    </a:lnTo>
                    <a:lnTo>
                      <a:pt x="8" y="1401"/>
                    </a:lnTo>
                    <a:lnTo>
                      <a:pt x="10" y="1409"/>
                    </a:lnTo>
                    <a:lnTo>
                      <a:pt x="11" y="1420"/>
                    </a:lnTo>
                    <a:lnTo>
                      <a:pt x="13" y="1429"/>
                    </a:lnTo>
                    <a:lnTo>
                      <a:pt x="15" y="1439"/>
                    </a:lnTo>
                    <a:lnTo>
                      <a:pt x="17" y="1448"/>
                    </a:lnTo>
                    <a:lnTo>
                      <a:pt x="19" y="1458"/>
                    </a:lnTo>
                    <a:lnTo>
                      <a:pt x="21" y="1468"/>
                    </a:lnTo>
                    <a:lnTo>
                      <a:pt x="23" y="1477"/>
                    </a:lnTo>
                    <a:lnTo>
                      <a:pt x="27" y="1487"/>
                    </a:lnTo>
                    <a:lnTo>
                      <a:pt x="29" y="1496"/>
                    </a:lnTo>
                    <a:lnTo>
                      <a:pt x="30" y="1506"/>
                    </a:lnTo>
                    <a:lnTo>
                      <a:pt x="34" y="1515"/>
                    </a:lnTo>
                    <a:lnTo>
                      <a:pt x="36" y="1525"/>
                    </a:lnTo>
                    <a:lnTo>
                      <a:pt x="38" y="1534"/>
                    </a:lnTo>
                    <a:lnTo>
                      <a:pt x="42" y="1544"/>
                    </a:lnTo>
                    <a:lnTo>
                      <a:pt x="46" y="1553"/>
                    </a:lnTo>
                    <a:lnTo>
                      <a:pt x="48" y="1561"/>
                    </a:lnTo>
                    <a:lnTo>
                      <a:pt x="51" y="1572"/>
                    </a:lnTo>
                    <a:lnTo>
                      <a:pt x="55" y="1580"/>
                    </a:lnTo>
                    <a:lnTo>
                      <a:pt x="59" y="1589"/>
                    </a:lnTo>
                    <a:lnTo>
                      <a:pt x="63" y="1599"/>
                    </a:lnTo>
                    <a:lnTo>
                      <a:pt x="67" y="1608"/>
                    </a:lnTo>
                    <a:lnTo>
                      <a:pt x="68" y="1616"/>
                    </a:lnTo>
                    <a:lnTo>
                      <a:pt x="74" y="1627"/>
                    </a:lnTo>
                    <a:lnTo>
                      <a:pt x="78" y="1635"/>
                    </a:lnTo>
                    <a:lnTo>
                      <a:pt x="82" y="1644"/>
                    </a:lnTo>
                    <a:lnTo>
                      <a:pt x="86" y="1652"/>
                    </a:lnTo>
                    <a:lnTo>
                      <a:pt x="89" y="1661"/>
                    </a:lnTo>
                    <a:lnTo>
                      <a:pt x="95" y="1669"/>
                    </a:lnTo>
                    <a:lnTo>
                      <a:pt x="99" y="1679"/>
                    </a:lnTo>
                    <a:lnTo>
                      <a:pt x="103" y="1688"/>
                    </a:lnTo>
                    <a:lnTo>
                      <a:pt x="108" y="1696"/>
                    </a:lnTo>
                    <a:lnTo>
                      <a:pt x="114" y="1703"/>
                    </a:lnTo>
                    <a:lnTo>
                      <a:pt x="118" y="1713"/>
                    </a:lnTo>
                    <a:lnTo>
                      <a:pt x="124" y="1722"/>
                    </a:lnTo>
                    <a:lnTo>
                      <a:pt x="127" y="1732"/>
                    </a:lnTo>
                    <a:lnTo>
                      <a:pt x="131" y="1736"/>
                    </a:lnTo>
                    <a:lnTo>
                      <a:pt x="135" y="1739"/>
                    </a:lnTo>
                    <a:lnTo>
                      <a:pt x="135" y="1743"/>
                    </a:lnTo>
                    <a:lnTo>
                      <a:pt x="137" y="1745"/>
                    </a:lnTo>
                    <a:lnTo>
                      <a:pt x="139" y="1747"/>
                    </a:lnTo>
                    <a:lnTo>
                      <a:pt x="141" y="1751"/>
                    </a:lnTo>
                    <a:lnTo>
                      <a:pt x="143" y="1755"/>
                    </a:lnTo>
                    <a:lnTo>
                      <a:pt x="143" y="1756"/>
                    </a:lnTo>
                    <a:lnTo>
                      <a:pt x="145" y="1760"/>
                    </a:lnTo>
                    <a:lnTo>
                      <a:pt x="146" y="1762"/>
                    </a:lnTo>
                    <a:lnTo>
                      <a:pt x="148" y="1766"/>
                    </a:lnTo>
                    <a:lnTo>
                      <a:pt x="150" y="1768"/>
                    </a:lnTo>
                    <a:lnTo>
                      <a:pt x="152" y="1770"/>
                    </a:lnTo>
                    <a:lnTo>
                      <a:pt x="156" y="1774"/>
                    </a:lnTo>
                    <a:lnTo>
                      <a:pt x="158" y="1777"/>
                    </a:lnTo>
                    <a:lnTo>
                      <a:pt x="160" y="1779"/>
                    </a:lnTo>
                    <a:lnTo>
                      <a:pt x="160" y="1783"/>
                    </a:lnTo>
                    <a:lnTo>
                      <a:pt x="162" y="1787"/>
                    </a:lnTo>
                    <a:lnTo>
                      <a:pt x="166" y="1789"/>
                    </a:lnTo>
                    <a:lnTo>
                      <a:pt x="166" y="1791"/>
                    </a:lnTo>
                    <a:lnTo>
                      <a:pt x="167" y="1794"/>
                    </a:lnTo>
                    <a:lnTo>
                      <a:pt x="169" y="1796"/>
                    </a:lnTo>
                    <a:lnTo>
                      <a:pt x="171" y="1800"/>
                    </a:lnTo>
                    <a:lnTo>
                      <a:pt x="173" y="1802"/>
                    </a:lnTo>
                    <a:lnTo>
                      <a:pt x="175" y="1806"/>
                    </a:lnTo>
                    <a:lnTo>
                      <a:pt x="177" y="1808"/>
                    </a:lnTo>
                    <a:lnTo>
                      <a:pt x="179" y="1812"/>
                    </a:lnTo>
                    <a:lnTo>
                      <a:pt x="181" y="1815"/>
                    </a:lnTo>
                    <a:lnTo>
                      <a:pt x="183" y="1817"/>
                    </a:lnTo>
                    <a:lnTo>
                      <a:pt x="185" y="1821"/>
                    </a:lnTo>
                    <a:lnTo>
                      <a:pt x="188" y="1827"/>
                    </a:lnTo>
                    <a:lnTo>
                      <a:pt x="190" y="1831"/>
                    </a:lnTo>
                    <a:lnTo>
                      <a:pt x="194" y="1836"/>
                    </a:lnTo>
                    <a:lnTo>
                      <a:pt x="198" y="1842"/>
                    </a:lnTo>
                    <a:lnTo>
                      <a:pt x="200" y="1846"/>
                    </a:lnTo>
                    <a:lnTo>
                      <a:pt x="204" y="1850"/>
                    </a:lnTo>
                    <a:lnTo>
                      <a:pt x="205" y="1853"/>
                    </a:lnTo>
                    <a:lnTo>
                      <a:pt x="207" y="1859"/>
                    </a:lnTo>
                    <a:lnTo>
                      <a:pt x="209" y="1861"/>
                    </a:lnTo>
                    <a:lnTo>
                      <a:pt x="211" y="1863"/>
                    </a:lnTo>
                    <a:lnTo>
                      <a:pt x="213" y="1867"/>
                    </a:lnTo>
                    <a:lnTo>
                      <a:pt x="215" y="1869"/>
                    </a:lnTo>
                    <a:lnTo>
                      <a:pt x="217" y="1870"/>
                    </a:lnTo>
                    <a:lnTo>
                      <a:pt x="219" y="1874"/>
                    </a:lnTo>
                    <a:lnTo>
                      <a:pt x="141" y="2163"/>
                    </a:lnTo>
                    <a:lnTo>
                      <a:pt x="143" y="2165"/>
                    </a:lnTo>
                    <a:lnTo>
                      <a:pt x="146" y="2165"/>
                    </a:lnTo>
                    <a:lnTo>
                      <a:pt x="150" y="2167"/>
                    </a:lnTo>
                    <a:lnTo>
                      <a:pt x="152" y="2167"/>
                    </a:lnTo>
                    <a:lnTo>
                      <a:pt x="154" y="2167"/>
                    </a:lnTo>
                    <a:lnTo>
                      <a:pt x="158" y="2167"/>
                    </a:lnTo>
                    <a:lnTo>
                      <a:pt x="162" y="2171"/>
                    </a:lnTo>
                    <a:lnTo>
                      <a:pt x="166" y="2171"/>
                    </a:lnTo>
                    <a:lnTo>
                      <a:pt x="167" y="2173"/>
                    </a:lnTo>
                    <a:lnTo>
                      <a:pt x="171" y="2173"/>
                    </a:lnTo>
                    <a:lnTo>
                      <a:pt x="175" y="2175"/>
                    </a:lnTo>
                    <a:lnTo>
                      <a:pt x="181" y="2175"/>
                    </a:lnTo>
                    <a:lnTo>
                      <a:pt x="185" y="2175"/>
                    </a:lnTo>
                    <a:lnTo>
                      <a:pt x="188" y="2177"/>
                    </a:lnTo>
                    <a:lnTo>
                      <a:pt x="194" y="2180"/>
                    </a:lnTo>
                    <a:lnTo>
                      <a:pt x="198" y="2180"/>
                    </a:lnTo>
                    <a:lnTo>
                      <a:pt x="204" y="2182"/>
                    </a:lnTo>
                    <a:lnTo>
                      <a:pt x="209" y="2182"/>
                    </a:lnTo>
                    <a:lnTo>
                      <a:pt x="215" y="2184"/>
                    </a:lnTo>
                    <a:lnTo>
                      <a:pt x="219" y="2186"/>
                    </a:lnTo>
                    <a:lnTo>
                      <a:pt x="224" y="2188"/>
                    </a:lnTo>
                    <a:lnTo>
                      <a:pt x="232" y="2188"/>
                    </a:lnTo>
                    <a:lnTo>
                      <a:pt x="238" y="2190"/>
                    </a:lnTo>
                    <a:lnTo>
                      <a:pt x="243" y="2190"/>
                    </a:lnTo>
                    <a:lnTo>
                      <a:pt x="251" y="2192"/>
                    </a:lnTo>
                    <a:lnTo>
                      <a:pt x="257" y="2194"/>
                    </a:lnTo>
                    <a:lnTo>
                      <a:pt x="264" y="2194"/>
                    </a:lnTo>
                    <a:lnTo>
                      <a:pt x="270" y="2196"/>
                    </a:lnTo>
                    <a:lnTo>
                      <a:pt x="276" y="2196"/>
                    </a:lnTo>
                    <a:lnTo>
                      <a:pt x="283" y="2197"/>
                    </a:lnTo>
                    <a:lnTo>
                      <a:pt x="291" y="2199"/>
                    </a:lnTo>
                    <a:lnTo>
                      <a:pt x="297" y="2199"/>
                    </a:lnTo>
                    <a:lnTo>
                      <a:pt x="304" y="2199"/>
                    </a:lnTo>
                    <a:lnTo>
                      <a:pt x="312" y="2199"/>
                    </a:lnTo>
                    <a:lnTo>
                      <a:pt x="320" y="2201"/>
                    </a:lnTo>
                    <a:lnTo>
                      <a:pt x="325" y="2201"/>
                    </a:lnTo>
                    <a:lnTo>
                      <a:pt x="333" y="2201"/>
                    </a:lnTo>
                    <a:lnTo>
                      <a:pt x="341" y="2201"/>
                    </a:lnTo>
                    <a:lnTo>
                      <a:pt x="348" y="2201"/>
                    </a:lnTo>
                    <a:lnTo>
                      <a:pt x="356" y="2201"/>
                    </a:lnTo>
                    <a:lnTo>
                      <a:pt x="363" y="2201"/>
                    </a:lnTo>
                    <a:lnTo>
                      <a:pt x="371" y="2201"/>
                    </a:lnTo>
                    <a:lnTo>
                      <a:pt x="379" y="2201"/>
                    </a:lnTo>
                    <a:lnTo>
                      <a:pt x="386" y="2201"/>
                    </a:lnTo>
                    <a:lnTo>
                      <a:pt x="394" y="2201"/>
                    </a:lnTo>
                    <a:lnTo>
                      <a:pt x="401" y="2199"/>
                    </a:lnTo>
                    <a:lnTo>
                      <a:pt x="409" y="2199"/>
                    </a:lnTo>
                    <a:lnTo>
                      <a:pt x="415" y="2197"/>
                    </a:lnTo>
                    <a:lnTo>
                      <a:pt x="422" y="2196"/>
                    </a:lnTo>
                    <a:lnTo>
                      <a:pt x="432" y="2196"/>
                    </a:lnTo>
                    <a:lnTo>
                      <a:pt x="439" y="2194"/>
                    </a:lnTo>
                    <a:lnTo>
                      <a:pt x="447" y="2192"/>
                    </a:lnTo>
                    <a:lnTo>
                      <a:pt x="455" y="2190"/>
                    </a:lnTo>
                    <a:lnTo>
                      <a:pt x="462" y="2188"/>
                    </a:lnTo>
                    <a:lnTo>
                      <a:pt x="470" y="2188"/>
                    </a:lnTo>
                    <a:lnTo>
                      <a:pt x="476" y="2184"/>
                    </a:lnTo>
                    <a:lnTo>
                      <a:pt x="483" y="2182"/>
                    </a:lnTo>
                    <a:lnTo>
                      <a:pt x="491" y="2180"/>
                    </a:lnTo>
                    <a:lnTo>
                      <a:pt x="498" y="2175"/>
                    </a:lnTo>
                    <a:lnTo>
                      <a:pt x="504" y="2173"/>
                    </a:lnTo>
                    <a:lnTo>
                      <a:pt x="512" y="2169"/>
                    </a:lnTo>
                    <a:lnTo>
                      <a:pt x="517" y="2165"/>
                    </a:lnTo>
                    <a:lnTo>
                      <a:pt x="525" y="2161"/>
                    </a:lnTo>
                    <a:lnTo>
                      <a:pt x="531" y="2158"/>
                    </a:lnTo>
                    <a:lnTo>
                      <a:pt x="536" y="2154"/>
                    </a:lnTo>
                    <a:lnTo>
                      <a:pt x="542" y="2150"/>
                    </a:lnTo>
                    <a:lnTo>
                      <a:pt x="550" y="2146"/>
                    </a:lnTo>
                    <a:lnTo>
                      <a:pt x="555" y="2142"/>
                    </a:lnTo>
                    <a:lnTo>
                      <a:pt x="559" y="2137"/>
                    </a:lnTo>
                    <a:lnTo>
                      <a:pt x="565" y="2133"/>
                    </a:lnTo>
                    <a:lnTo>
                      <a:pt x="571" y="2129"/>
                    </a:lnTo>
                    <a:lnTo>
                      <a:pt x="576" y="2123"/>
                    </a:lnTo>
                    <a:lnTo>
                      <a:pt x="582" y="2120"/>
                    </a:lnTo>
                    <a:lnTo>
                      <a:pt x="588" y="2114"/>
                    </a:lnTo>
                    <a:lnTo>
                      <a:pt x="592" y="2110"/>
                    </a:lnTo>
                    <a:lnTo>
                      <a:pt x="595" y="2106"/>
                    </a:lnTo>
                    <a:lnTo>
                      <a:pt x="601" y="2101"/>
                    </a:lnTo>
                    <a:lnTo>
                      <a:pt x="605" y="2095"/>
                    </a:lnTo>
                    <a:lnTo>
                      <a:pt x="611" y="2091"/>
                    </a:lnTo>
                    <a:lnTo>
                      <a:pt x="614" y="2085"/>
                    </a:lnTo>
                    <a:lnTo>
                      <a:pt x="618" y="2080"/>
                    </a:lnTo>
                    <a:lnTo>
                      <a:pt x="624" y="2076"/>
                    </a:lnTo>
                    <a:lnTo>
                      <a:pt x="628" y="2070"/>
                    </a:lnTo>
                    <a:lnTo>
                      <a:pt x="632" y="2064"/>
                    </a:lnTo>
                    <a:lnTo>
                      <a:pt x="635" y="2059"/>
                    </a:lnTo>
                    <a:lnTo>
                      <a:pt x="637" y="2055"/>
                    </a:lnTo>
                    <a:lnTo>
                      <a:pt x="643" y="2049"/>
                    </a:lnTo>
                    <a:lnTo>
                      <a:pt x="645" y="2043"/>
                    </a:lnTo>
                    <a:lnTo>
                      <a:pt x="649" y="2040"/>
                    </a:lnTo>
                    <a:lnTo>
                      <a:pt x="652" y="2034"/>
                    </a:lnTo>
                    <a:lnTo>
                      <a:pt x="654" y="2030"/>
                    </a:lnTo>
                    <a:lnTo>
                      <a:pt x="658" y="2024"/>
                    </a:lnTo>
                    <a:lnTo>
                      <a:pt x="660" y="2021"/>
                    </a:lnTo>
                    <a:lnTo>
                      <a:pt x="664" y="2015"/>
                    </a:lnTo>
                    <a:lnTo>
                      <a:pt x="666" y="2011"/>
                    </a:lnTo>
                    <a:lnTo>
                      <a:pt x="668" y="2005"/>
                    </a:lnTo>
                    <a:lnTo>
                      <a:pt x="672" y="2002"/>
                    </a:lnTo>
                    <a:lnTo>
                      <a:pt x="673" y="1998"/>
                    </a:lnTo>
                    <a:lnTo>
                      <a:pt x="675" y="1992"/>
                    </a:lnTo>
                    <a:lnTo>
                      <a:pt x="677" y="1986"/>
                    </a:lnTo>
                    <a:lnTo>
                      <a:pt x="679" y="1983"/>
                    </a:lnTo>
                    <a:lnTo>
                      <a:pt x="681" y="1979"/>
                    </a:lnTo>
                    <a:lnTo>
                      <a:pt x="683" y="1975"/>
                    </a:lnTo>
                    <a:lnTo>
                      <a:pt x="685" y="1971"/>
                    </a:lnTo>
                    <a:lnTo>
                      <a:pt x="687" y="1969"/>
                    </a:lnTo>
                    <a:lnTo>
                      <a:pt x="689" y="1964"/>
                    </a:lnTo>
                    <a:lnTo>
                      <a:pt x="691" y="1962"/>
                    </a:lnTo>
                    <a:lnTo>
                      <a:pt x="692" y="1958"/>
                    </a:lnTo>
                    <a:lnTo>
                      <a:pt x="692" y="1954"/>
                    </a:lnTo>
                    <a:lnTo>
                      <a:pt x="692" y="1952"/>
                    </a:lnTo>
                    <a:lnTo>
                      <a:pt x="694" y="1950"/>
                    </a:lnTo>
                    <a:lnTo>
                      <a:pt x="696" y="1945"/>
                    </a:lnTo>
                    <a:lnTo>
                      <a:pt x="698" y="1941"/>
                    </a:lnTo>
                    <a:lnTo>
                      <a:pt x="700" y="1937"/>
                    </a:lnTo>
                    <a:lnTo>
                      <a:pt x="700" y="1935"/>
                    </a:lnTo>
                    <a:lnTo>
                      <a:pt x="700" y="1933"/>
                    </a:lnTo>
                    <a:lnTo>
                      <a:pt x="702" y="1933"/>
                    </a:lnTo>
                    <a:lnTo>
                      <a:pt x="740" y="1943"/>
                    </a:lnTo>
                    <a:lnTo>
                      <a:pt x="740" y="1943"/>
                    </a:lnTo>
                    <a:lnTo>
                      <a:pt x="738" y="1945"/>
                    </a:lnTo>
                    <a:lnTo>
                      <a:pt x="738" y="1947"/>
                    </a:lnTo>
                    <a:lnTo>
                      <a:pt x="738" y="1950"/>
                    </a:lnTo>
                    <a:lnTo>
                      <a:pt x="738" y="1954"/>
                    </a:lnTo>
                    <a:lnTo>
                      <a:pt x="738" y="1958"/>
                    </a:lnTo>
                    <a:lnTo>
                      <a:pt x="736" y="1962"/>
                    </a:lnTo>
                    <a:lnTo>
                      <a:pt x="736" y="1964"/>
                    </a:lnTo>
                    <a:lnTo>
                      <a:pt x="736" y="1967"/>
                    </a:lnTo>
                    <a:lnTo>
                      <a:pt x="736" y="1971"/>
                    </a:lnTo>
                    <a:lnTo>
                      <a:pt x="736" y="1975"/>
                    </a:lnTo>
                    <a:lnTo>
                      <a:pt x="736" y="1979"/>
                    </a:lnTo>
                    <a:lnTo>
                      <a:pt x="736" y="1983"/>
                    </a:lnTo>
                    <a:lnTo>
                      <a:pt x="736" y="1985"/>
                    </a:lnTo>
                    <a:lnTo>
                      <a:pt x="736" y="1990"/>
                    </a:lnTo>
                    <a:lnTo>
                      <a:pt x="736" y="1994"/>
                    </a:lnTo>
                    <a:lnTo>
                      <a:pt x="736" y="1998"/>
                    </a:lnTo>
                    <a:lnTo>
                      <a:pt x="736" y="2004"/>
                    </a:lnTo>
                    <a:lnTo>
                      <a:pt x="736" y="2007"/>
                    </a:lnTo>
                    <a:lnTo>
                      <a:pt x="736" y="2013"/>
                    </a:lnTo>
                    <a:lnTo>
                      <a:pt x="736" y="2015"/>
                    </a:lnTo>
                    <a:lnTo>
                      <a:pt x="736" y="2021"/>
                    </a:lnTo>
                    <a:lnTo>
                      <a:pt x="736" y="2026"/>
                    </a:lnTo>
                    <a:lnTo>
                      <a:pt x="736" y="2030"/>
                    </a:lnTo>
                    <a:lnTo>
                      <a:pt x="736" y="2036"/>
                    </a:lnTo>
                    <a:lnTo>
                      <a:pt x="736" y="2042"/>
                    </a:lnTo>
                    <a:lnTo>
                      <a:pt x="736" y="2047"/>
                    </a:lnTo>
                    <a:lnTo>
                      <a:pt x="738" y="2051"/>
                    </a:lnTo>
                    <a:lnTo>
                      <a:pt x="738" y="2057"/>
                    </a:lnTo>
                    <a:lnTo>
                      <a:pt x="738" y="2062"/>
                    </a:lnTo>
                    <a:lnTo>
                      <a:pt x="740" y="2066"/>
                    </a:lnTo>
                    <a:lnTo>
                      <a:pt x="740" y="2072"/>
                    </a:lnTo>
                    <a:lnTo>
                      <a:pt x="742" y="2078"/>
                    </a:lnTo>
                    <a:lnTo>
                      <a:pt x="744" y="2083"/>
                    </a:lnTo>
                    <a:lnTo>
                      <a:pt x="744" y="2091"/>
                    </a:lnTo>
                    <a:lnTo>
                      <a:pt x="746" y="2095"/>
                    </a:lnTo>
                    <a:lnTo>
                      <a:pt x="748" y="2101"/>
                    </a:lnTo>
                    <a:lnTo>
                      <a:pt x="748" y="2106"/>
                    </a:lnTo>
                    <a:lnTo>
                      <a:pt x="751" y="2110"/>
                    </a:lnTo>
                    <a:lnTo>
                      <a:pt x="753" y="2118"/>
                    </a:lnTo>
                    <a:lnTo>
                      <a:pt x="753" y="2123"/>
                    </a:lnTo>
                    <a:lnTo>
                      <a:pt x="757" y="2129"/>
                    </a:lnTo>
                    <a:lnTo>
                      <a:pt x="759" y="2135"/>
                    </a:lnTo>
                    <a:lnTo>
                      <a:pt x="761" y="2139"/>
                    </a:lnTo>
                    <a:lnTo>
                      <a:pt x="765" y="2144"/>
                    </a:lnTo>
                    <a:lnTo>
                      <a:pt x="767" y="2150"/>
                    </a:lnTo>
                    <a:lnTo>
                      <a:pt x="769" y="2156"/>
                    </a:lnTo>
                    <a:lnTo>
                      <a:pt x="772" y="2159"/>
                    </a:lnTo>
                    <a:lnTo>
                      <a:pt x="776" y="2165"/>
                    </a:lnTo>
                    <a:lnTo>
                      <a:pt x="780" y="2171"/>
                    </a:lnTo>
                    <a:lnTo>
                      <a:pt x="782" y="2175"/>
                    </a:lnTo>
                    <a:lnTo>
                      <a:pt x="786" y="2180"/>
                    </a:lnTo>
                    <a:lnTo>
                      <a:pt x="789" y="2186"/>
                    </a:lnTo>
                    <a:lnTo>
                      <a:pt x="795" y="2190"/>
                    </a:lnTo>
                    <a:lnTo>
                      <a:pt x="799" y="2196"/>
                    </a:lnTo>
                    <a:lnTo>
                      <a:pt x="805" y="2201"/>
                    </a:lnTo>
                    <a:lnTo>
                      <a:pt x="808" y="2205"/>
                    </a:lnTo>
                    <a:lnTo>
                      <a:pt x="814" y="2209"/>
                    </a:lnTo>
                    <a:lnTo>
                      <a:pt x="818" y="2213"/>
                    </a:lnTo>
                    <a:lnTo>
                      <a:pt x="824" y="2216"/>
                    </a:lnTo>
                    <a:lnTo>
                      <a:pt x="828" y="2222"/>
                    </a:lnTo>
                    <a:lnTo>
                      <a:pt x="833" y="2224"/>
                    </a:lnTo>
                    <a:lnTo>
                      <a:pt x="839" y="2228"/>
                    </a:lnTo>
                    <a:lnTo>
                      <a:pt x="845" y="2232"/>
                    </a:lnTo>
                    <a:lnTo>
                      <a:pt x="848" y="2235"/>
                    </a:lnTo>
                    <a:lnTo>
                      <a:pt x="854" y="2239"/>
                    </a:lnTo>
                    <a:lnTo>
                      <a:pt x="858" y="2243"/>
                    </a:lnTo>
                    <a:lnTo>
                      <a:pt x="864" y="2245"/>
                    </a:lnTo>
                    <a:lnTo>
                      <a:pt x="867" y="2249"/>
                    </a:lnTo>
                    <a:lnTo>
                      <a:pt x="873" y="2253"/>
                    </a:lnTo>
                    <a:lnTo>
                      <a:pt x="877" y="2256"/>
                    </a:lnTo>
                    <a:lnTo>
                      <a:pt x="883" y="2258"/>
                    </a:lnTo>
                    <a:lnTo>
                      <a:pt x="890" y="2260"/>
                    </a:lnTo>
                    <a:lnTo>
                      <a:pt x="896" y="2264"/>
                    </a:lnTo>
                    <a:lnTo>
                      <a:pt x="900" y="2266"/>
                    </a:lnTo>
                    <a:lnTo>
                      <a:pt x="904" y="2268"/>
                    </a:lnTo>
                    <a:lnTo>
                      <a:pt x="907" y="2270"/>
                    </a:lnTo>
                    <a:lnTo>
                      <a:pt x="913" y="2273"/>
                    </a:lnTo>
                    <a:lnTo>
                      <a:pt x="919" y="2275"/>
                    </a:lnTo>
                    <a:lnTo>
                      <a:pt x="925" y="2277"/>
                    </a:lnTo>
                    <a:lnTo>
                      <a:pt x="928" y="2279"/>
                    </a:lnTo>
                    <a:lnTo>
                      <a:pt x="934" y="2281"/>
                    </a:lnTo>
                    <a:lnTo>
                      <a:pt x="938" y="2283"/>
                    </a:lnTo>
                    <a:lnTo>
                      <a:pt x="942" y="2285"/>
                    </a:lnTo>
                    <a:lnTo>
                      <a:pt x="947" y="2287"/>
                    </a:lnTo>
                    <a:lnTo>
                      <a:pt x="951" y="2289"/>
                    </a:lnTo>
                    <a:lnTo>
                      <a:pt x="955" y="2289"/>
                    </a:lnTo>
                    <a:lnTo>
                      <a:pt x="961" y="2291"/>
                    </a:lnTo>
                    <a:lnTo>
                      <a:pt x="964" y="2291"/>
                    </a:lnTo>
                    <a:lnTo>
                      <a:pt x="968" y="2294"/>
                    </a:lnTo>
                    <a:lnTo>
                      <a:pt x="972" y="2294"/>
                    </a:lnTo>
                    <a:lnTo>
                      <a:pt x="978" y="2294"/>
                    </a:lnTo>
                    <a:lnTo>
                      <a:pt x="982" y="2296"/>
                    </a:lnTo>
                    <a:lnTo>
                      <a:pt x="985" y="2296"/>
                    </a:lnTo>
                    <a:lnTo>
                      <a:pt x="989" y="2296"/>
                    </a:lnTo>
                    <a:lnTo>
                      <a:pt x="993" y="2298"/>
                    </a:lnTo>
                    <a:lnTo>
                      <a:pt x="997" y="2298"/>
                    </a:lnTo>
                    <a:lnTo>
                      <a:pt x="1001" y="2298"/>
                    </a:lnTo>
                    <a:lnTo>
                      <a:pt x="1004" y="2298"/>
                    </a:lnTo>
                    <a:lnTo>
                      <a:pt x="1008" y="2300"/>
                    </a:lnTo>
                    <a:lnTo>
                      <a:pt x="1010" y="2300"/>
                    </a:lnTo>
                    <a:lnTo>
                      <a:pt x="1014" y="2300"/>
                    </a:lnTo>
                    <a:lnTo>
                      <a:pt x="1016" y="2300"/>
                    </a:lnTo>
                    <a:lnTo>
                      <a:pt x="1020" y="2300"/>
                    </a:lnTo>
                    <a:lnTo>
                      <a:pt x="1022" y="2300"/>
                    </a:lnTo>
                    <a:lnTo>
                      <a:pt x="1025" y="2302"/>
                    </a:lnTo>
                    <a:lnTo>
                      <a:pt x="1029" y="2300"/>
                    </a:lnTo>
                    <a:lnTo>
                      <a:pt x="1035" y="2300"/>
                    </a:lnTo>
                    <a:lnTo>
                      <a:pt x="1039" y="2298"/>
                    </a:lnTo>
                    <a:lnTo>
                      <a:pt x="1042" y="2298"/>
                    </a:lnTo>
                    <a:lnTo>
                      <a:pt x="1044" y="2296"/>
                    </a:lnTo>
                    <a:lnTo>
                      <a:pt x="1048" y="2296"/>
                    </a:lnTo>
                    <a:lnTo>
                      <a:pt x="1048" y="2294"/>
                    </a:lnTo>
                    <a:lnTo>
                      <a:pt x="1050" y="2294"/>
                    </a:lnTo>
                    <a:lnTo>
                      <a:pt x="1246" y="1334"/>
                    </a:lnTo>
                    <a:lnTo>
                      <a:pt x="1246" y="1333"/>
                    </a:lnTo>
                    <a:lnTo>
                      <a:pt x="1248" y="1331"/>
                    </a:lnTo>
                    <a:lnTo>
                      <a:pt x="1250" y="1327"/>
                    </a:lnTo>
                    <a:lnTo>
                      <a:pt x="1252" y="1325"/>
                    </a:lnTo>
                    <a:lnTo>
                      <a:pt x="1252" y="1323"/>
                    </a:lnTo>
                    <a:lnTo>
                      <a:pt x="1254" y="1319"/>
                    </a:lnTo>
                    <a:lnTo>
                      <a:pt x="1256" y="1315"/>
                    </a:lnTo>
                    <a:lnTo>
                      <a:pt x="1259" y="1312"/>
                    </a:lnTo>
                    <a:lnTo>
                      <a:pt x="1259" y="1306"/>
                    </a:lnTo>
                    <a:lnTo>
                      <a:pt x="1263" y="1302"/>
                    </a:lnTo>
                    <a:lnTo>
                      <a:pt x="1265" y="1296"/>
                    </a:lnTo>
                    <a:lnTo>
                      <a:pt x="1269" y="1293"/>
                    </a:lnTo>
                    <a:lnTo>
                      <a:pt x="1271" y="1285"/>
                    </a:lnTo>
                    <a:lnTo>
                      <a:pt x="1275" y="1281"/>
                    </a:lnTo>
                    <a:lnTo>
                      <a:pt x="1276" y="1274"/>
                    </a:lnTo>
                    <a:lnTo>
                      <a:pt x="1280" y="1266"/>
                    </a:lnTo>
                    <a:lnTo>
                      <a:pt x="1284" y="1258"/>
                    </a:lnTo>
                    <a:lnTo>
                      <a:pt x="1288" y="1249"/>
                    </a:lnTo>
                    <a:lnTo>
                      <a:pt x="1290" y="1241"/>
                    </a:lnTo>
                    <a:lnTo>
                      <a:pt x="1294" y="1234"/>
                    </a:lnTo>
                    <a:lnTo>
                      <a:pt x="1297" y="1224"/>
                    </a:lnTo>
                    <a:lnTo>
                      <a:pt x="1301" y="1217"/>
                    </a:lnTo>
                    <a:lnTo>
                      <a:pt x="1305" y="1207"/>
                    </a:lnTo>
                    <a:lnTo>
                      <a:pt x="1309" y="1198"/>
                    </a:lnTo>
                    <a:lnTo>
                      <a:pt x="1313" y="1188"/>
                    </a:lnTo>
                    <a:lnTo>
                      <a:pt x="1316" y="1177"/>
                    </a:lnTo>
                    <a:lnTo>
                      <a:pt x="1320" y="1165"/>
                    </a:lnTo>
                    <a:lnTo>
                      <a:pt x="1324" y="1154"/>
                    </a:lnTo>
                    <a:lnTo>
                      <a:pt x="1330" y="1144"/>
                    </a:lnTo>
                    <a:lnTo>
                      <a:pt x="1334" y="1133"/>
                    </a:lnTo>
                    <a:lnTo>
                      <a:pt x="1337" y="1122"/>
                    </a:lnTo>
                    <a:lnTo>
                      <a:pt x="1339" y="1108"/>
                    </a:lnTo>
                    <a:lnTo>
                      <a:pt x="1345" y="1097"/>
                    </a:lnTo>
                    <a:lnTo>
                      <a:pt x="1349" y="1084"/>
                    </a:lnTo>
                    <a:lnTo>
                      <a:pt x="1353" y="1070"/>
                    </a:lnTo>
                    <a:lnTo>
                      <a:pt x="1354" y="1059"/>
                    </a:lnTo>
                    <a:lnTo>
                      <a:pt x="1358" y="1044"/>
                    </a:lnTo>
                    <a:lnTo>
                      <a:pt x="1362" y="1032"/>
                    </a:lnTo>
                    <a:lnTo>
                      <a:pt x="1366" y="1017"/>
                    </a:lnTo>
                    <a:lnTo>
                      <a:pt x="1370" y="1004"/>
                    </a:lnTo>
                    <a:lnTo>
                      <a:pt x="1372" y="988"/>
                    </a:lnTo>
                    <a:lnTo>
                      <a:pt x="1375" y="975"/>
                    </a:lnTo>
                    <a:lnTo>
                      <a:pt x="1377" y="960"/>
                    </a:lnTo>
                    <a:lnTo>
                      <a:pt x="1381" y="947"/>
                    </a:lnTo>
                    <a:lnTo>
                      <a:pt x="1383" y="931"/>
                    </a:lnTo>
                    <a:lnTo>
                      <a:pt x="1387" y="916"/>
                    </a:lnTo>
                    <a:lnTo>
                      <a:pt x="1389" y="901"/>
                    </a:lnTo>
                    <a:lnTo>
                      <a:pt x="1391" y="886"/>
                    </a:lnTo>
                    <a:lnTo>
                      <a:pt x="1392" y="871"/>
                    </a:lnTo>
                    <a:lnTo>
                      <a:pt x="1394" y="855"/>
                    </a:lnTo>
                    <a:lnTo>
                      <a:pt x="1396" y="838"/>
                    </a:lnTo>
                    <a:lnTo>
                      <a:pt x="1398" y="823"/>
                    </a:lnTo>
                    <a:lnTo>
                      <a:pt x="1398" y="806"/>
                    </a:lnTo>
                    <a:lnTo>
                      <a:pt x="1400" y="791"/>
                    </a:lnTo>
                    <a:lnTo>
                      <a:pt x="1402" y="774"/>
                    </a:lnTo>
                    <a:lnTo>
                      <a:pt x="1402" y="757"/>
                    </a:lnTo>
                    <a:lnTo>
                      <a:pt x="1402" y="741"/>
                    </a:lnTo>
                    <a:lnTo>
                      <a:pt x="1402" y="724"/>
                    </a:lnTo>
                    <a:lnTo>
                      <a:pt x="1402" y="705"/>
                    </a:lnTo>
                    <a:lnTo>
                      <a:pt x="1402" y="690"/>
                    </a:lnTo>
                    <a:lnTo>
                      <a:pt x="1400" y="673"/>
                    </a:lnTo>
                    <a:lnTo>
                      <a:pt x="1400" y="656"/>
                    </a:lnTo>
                    <a:lnTo>
                      <a:pt x="1398" y="654"/>
                    </a:lnTo>
                    <a:lnTo>
                      <a:pt x="1398" y="652"/>
                    </a:lnTo>
                    <a:lnTo>
                      <a:pt x="1398" y="648"/>
                    </a:lnTo>
                    <a:lnTo>
                      <a:pt x="1398" y="644"/>
                    </a:lnTo>
                    <a:lnTo>
                      <a:pt x="1398" y="643"/>
                    </a:lnTo>
                    <a:lnTo>
                      <a:pt x="1398" y="639"/>
                    </a:lnTo>
                    <a:lnTo>
                      <a:pt x="1396" y="637"/>
                    </a:lnTo>
                    <a:lnTo>
                      <a:pt x="1396" y="633"/>
                    </a:lnTo>
                    <a:lnTo>
                      <a:pt x="1396" y="631"/>
                    </a:lnTo>
                    <a:lnTo>
                      <a:pt x="1396" y="627"/>
                    </a:lnTo>
                    <a:lnTo>
                      <a:pt x="1396" y="623"/>
                    </a:lnTo>
                    <a:lnTo>
                      <a:pt x="1394" y="620"/>
                    </a:lnTo>
                    <a:lnTo>
                      <a:pt x="1394" y="618"/>
                    </a:lnTo>
                    <a:lnTo>
                      <a:pt x="1394" y="616"/>
                    </a:lnTo>
                    <a:lnTo>
                      <a:pt x="1392" y="612"/>
                    </a:lnTo>
                    <a:lnTo>
                      <a:pt x="1392" y="610"/>
                    </a:lnTo>
                    <a:lnTo>
                      <a:pt x="1392" y="608"/>
                    </a:lnTo>
                    <a:lnTo>
                      <a:pt x="1391" y="604"/>
                    </a:lnTo>
                    <a:lnTo>
                      <a:pt x="1391" y="603"/>
                    </a:lnTo>
                    <a:lnTo>
                      <a:pt x="1391" y="599"/>
                    </a:lnTo>
                    <a:lnTo>
                      <a:pt x="1389" y="597"/>
                    </a:lnTo>
                    <a:lnTo>
                      <a:pt x="1389" y="593"/>
                    </a:lnTo>
                    <a:lnTo>
                      <a:pt x="1389" y="589"/>
                    </a:lnTo>
                    <a:lnTo>
                      <a:pt x="1389" y="587"/>
                    </a:lnTo>
                    <a:lnTo>
                      <a:pt x="1387" y="585"/>
                    </a:lnTo>
                    <a:lnTo>
                      <a:pt x="1385" y="582"/>
                    </a:lnTo>
                    <a:lnTo>
                      <a:pt x="1385" y="580"/>
                    </a:lnTo>
                    <a:lnTo>
                      <a:pt x="1383" y="578"/>
                    </a:lnTo>
                    <a:lnTo>
                      <a:pt x="1383" y="572"/>
                    </a:lnTo>
                    <a:lnTo>
                      <a:pt x="1381" y="568"/>
                    </a:lnTo>
                    <a:lnTo>
                      <a:pt x="1377" y="563"/>
                    </a:lnTo>
                    <a:lnTo>
                      <a:pt x="1375" y="557"/>
                    </a:lnTo>
                    <a:lnTo>
                      <a:pt x="1373" y="553"/>
                    </a:lnTo>
                    <a:lnTo>
                      <a:pt x="1370" y="547"/>
                    </a:lnTo>
                    <a:lnTo>
                      <a:pt x="1366" y="544"/>
                    </a:lnTo>
                    <a:lnTo>
                      <a:pt x="1364" y="540"/>
                    </a:lnTo>
                    <a:lnTo>
                      <a:pt x="1360" y="536"/>
                    </a:lnTo>
                    <a:lnTo>
                      <a:pt x="1356" y="532"/>
                    </a:lnTo>
                    <a:lnTo>
                      <a:pt x="1353" y="528"/>
                    </a:lnTo>
                    <a:lnTo>
                      <a:pt x="1349" y="525"/>
                    </a:lnTo>
                    <a:lnTo>
                      <a:pt x="1345" y="523"/>
                    </a:lnTo>
                    <a:lnTo>
                      <a:pt x="1339" y="521"/>
                    </a:lnTo>
                    <a:lnTo>
                      <a:pt x="1335" y="517"/>
                    </a:lnTo>
                    <a:lnTo>
                      <a:pt x="1332" y="515"/>
                    </a:lnTo>
                    <a:lnTo>
                      <a:pt x="1326" y="515"/>
                    </a:lnTo>
                    <a:lnTo>
                      <a:pt x="1322" y="513"/>
                    </a:lnTo>
                    <a:lnTo>
                      <a:pt x="1318" y="511"/>
                    </a:lnTo>
                    <a:lnTo>
                      <a:pt x="1316" y="511"/>
                    </a:lnTo>
                    <a:lnTo>
                      <a:pt x="1313" y="511"/>
                    </a:lnTo>
                    <a:lnTo>
                      <a:pt x="1311" y="511"/>
                    </a:lnTo>
                    <a:lnTo>
                      <a:pt x="1309" y="509"/>
                    </a:lnTo>
                    <a:lnTo>
                      <a:pt x="1305" y="509"/>
                    </a:lnTo>
                    <a:lnTo>
                      <a:pt x="1303" y="509"/>
                    </a:lnTo>
                    <a:lnTo>
                      <a:pt x="1301" y="509"/>
                    </a:lnTo>
                    <a:lnTo>
                      <a:pt x="1297" y="509"/>
                    </a:lnTo>
                    <a:lnTo>
                      <a:pt x="1295" y="509"/>
                    </a:lnTo>
                    <a:lnTo>
                      <a:pt x="1292" y="509"/>
                    </a:lnTo>
                    <a:lnTo>
                      <a:pt x="1290" y="509"/>
                    </a:lnTo>
                    <a:lnTo>
                      <a:pt x="1284" y="509"/>
                    </a:lnTo>
                    <a:lnTo>
                      <a:pt x="1280" y="509"/>
                    </a:lnTo>
                    <a:lnTo>
                      <a:pt x="1275" y="509"/>
                    </a:lnTo>
                    <a:lnTo>
                      <a:pt x="1269" y="509"/>
                    </a:lnTo>
                    <a:lnTo>
                      <a:pt x="1265" y="509"/>
                    </a:lnTo>
                    <a:lnTo>
                      <a:pt x="1259" y="509"/>
                    </a:lnTo>
                    <a:lnTo>
                      <a:pt x="1256" y="511"/>
                    </a:lnTo>
                    <a:lnTo>
                      <a:pt x="1252" y="511"/>
                    </a:lnTo>
                    <a:lnTo>
                      <a:pt x="1246" y="515"/>
                    </a:lnTo>
                    <a:lnTo>
                      <a:pt x="1242" y="515"/>
                    </a:lnTo>
                    <a:lnTo>
                      <a:pt x="1238" y="517"/>
                    </a:lnTo>
                    <a:lnTo>
                      <a:pt x="1235" y="521"/>
                    </a:lnTo>
                    <a:lnTo>
                      <a:pt x="1231" y="523"/>
                    </a:lnTo>
                    <a:lnTo>
                      <a:pt x="1229" y="525"/>
                    </a:lnTo>
                    <a:lnTo>
                      <a:pt x="1225" y="527"/>
                    </a:lnTo>
                    <a:lnTo>
                      <a:pt x="1221" y="530"/>
                    </a:lnTo>
                    <a:lnTo>
                      <a:pt x="1219" y="532"/>
                    </a:lnTo>
                    <a:lnTo>
                      <a:pt x="1216" y="538"/>
                    </a:lnTo>
                    <a:lnTo>
                      <a:pt x="1214" y="542"/>
                    </a:lnTo>
                    <a:lnTo>
                      <a:pt x="1212" y="546"/>
                    </a:lnTo>
                    <a:lnTo>
                      <a:pt x="1210" y="549"/>
                    </a:lnTo>
                    <a:lnTo>
                      <a:pt x="1208" y="555"/>
                    </a:lnTo>
                    <a:lnTo>
                      <a:pt x="1208" y="557"/>
                    </a:lnTo>
                    <a:lnTo>
                      <a:pt x="1206" y="559"/>
                    </a:lnTo>
                    <a:lnTo>
                      <a:pt x="1204" y="561"/>
                    </a:lnTo>
                    <a:lnTo>
                      <a:pt x="1204" y="565"/>
                    </a:lnTo>
                    <a:lnTo>
                      <a:pt x="1204" y="566"/>
                    </a:lnTo>
                    <a:lnTo>
                      <a:pt x="1204" y="570"/>
                    </a:lnTo>
                    <a:lnTo>
                      <a:pt x="1204" y="572"/>
                    </a:lnTo>
                    <a:lnTo>
                      <a:pt x="1204" y="576"/>
                    </a:lnTo>
                    <a:lnTo>
                      <a:pt x="1139" y="895"/>
                    </a:lnTo>
                    <a:lnTo>
                      <a:pt x="1136" y="893"/>
                    </a:lnTo>
                    <a:lnTo>
                      <a:pt x="1132" y="892"/>
                    </a:lnTo>
                    <a:lnTo>
                      <a:pt x="1126" y="888"/>
                    </a:lnTo>
                    <a:lnTo>
                      <a:pt x="1122" y="886"/>
                    </a:lnTo>
                    <a:lnTo>
                      <a:pt x="1117" y="884"/>
                    </a:lnTo>
                    <a:lnTo>
                      <a:pt x="1113" y="880"/>
                    </a:lnTo>
                    <a:lnTo>
                      <a:pt x="1107" y="878"/>
                    </a:lnTo>
                    <a:lnTo>
                      <a:pt x="1105" y="876"/>
                    </a:lnTo>
                    <a:lnTo>
                      <a:pt x="1227" y="316"/>
                    </a:lnTo>
                    <a:lnTo>
                      <a:pt x="1227" y="312"/>
                    </a:lnTo>
                    <a:lnTo>
                      <a:pt x="1227" y="308"/>
                    </a:lnTo>
                    <a:lnTo>
                      <a:pt x="1229" y="306"/>
                    </a:lnTo>
                    <a:lnTo>
                      <a:pt x="1229" y="304"/>
                    </a:lnTo>
                    <a:lnTo>
                      <a:pt x="1229" y="300"/>
                    </a:lnTo>
                    <a:lnTo>
                      <a:pt x="1229" y="298"/>
                    </a:lnTo>
                    <a:lnTo>
                      <a:pt x="1229" y="295"/>
                    </a:lnTo>
                    <a:lnTo>
                      <a:pt x="1229" y="293"/>
                    </a:lnTo>
                    <a:lnTo>
                      <a:pt x="1229" y="291"/>
                    </a:lnTo>
                    <a:lnTo>
                      <a:pt x="1229" y="287"/>
                    </a:lnTo>
                    <a:lnTo>
                      <a:pt x="1229" y="285"/>
                    </a:lnTo>
                    <a:lnTo>
                      <a:pt x="1229" y="283"/>
                    </a:lnTo>
                    <a:lnTo>
                      <a:pt x="1229" y="278"/>
                    </a:lnTo>
                    <a:lnTo>
                      <a:pt x="1227" y="272"/>
                    </a:lnTo>
                    <a:lnTo>
                      <a:pt x="1225" y="268"/>
                    </a:lnTo>
                    <a:lnTo>
                      <a:pt x="1225" y="262"/>
                    </a:lnTo>
                    <a:lnTo>
                      <a:pt x="1223" y="257"/>
                    </a:lnTo>
                    <a:lnTo>
                      <a:pt x="1221" y="253"/>
                    </a:lnTo>
                    <a:lnTo>
                      <a:pt x="1219" y="247"/>
                    </a:lnTo>
                    <a:lnTo>
                      <a:pt x="1217" y="243"/>
                    </a:lnTo>
                    <a:lnTo>
                      <a:pt x="1216" y="240"/>
                    </a:lnTo>
                    <a:lnTo>
                      <a:pt x="1214" y="236"/>
                    </a:lnTo>
                    <a:lnTo>
                      <a:pt x="1210" y="232"/>
                    </a:lnTo>
                    <a:lnTo>
                      <a:pt x="1206" y="226"/>
                    </a:lnTo>
                    <a:lnTo>
                      <a:pt x="1202" y="222"/>
                    </a:lnTo>
                    <a:lnTo>
                      <a:pt x="1200" y="219"/>
                    </a:lnTo>
                    <a:lnTo>
                      <a:pt x="1197" y="215"/>
                    </a:lnTo>
                    <a:lnTo>
                      <a:pt x="1193" y="211"/>
                    </a:lnTo>
                    <a:lnTo>
                      <a:pt x="1189" y="207"/>
                    </a:lnTo>
                    <a:lnTo>
                      <a:pt x="1185" y="205"/>
                    </a:lnTo>
                    <a:lnTo>
                      <a:pt x="1179" y="203"/>
                    </a:lnTo>
                    <a:lnTo>
                      <a:pt x="1176" y="200"/>
                    </a:lnTo>
                    <a:lnTo>
                      <a:pt x="1172" y="198"/>
                    </a:lnTo>
                    <a:lnTo>
                      <a:pt x="1166" y="194"/>
                    </a:lnTo>
                    <a:lnTo>
                      <a:pt x="1160" y="192"/>
                    </a:lnTo>
                    <a:lnTo>
                      <a:pt x="1157" y="192"/>
                    </a:lnTo>
                    <a:lnTo>
                      <a:pt x="1151" y="190"/>
                    </a:lnTo>
                    <a:lnTo>
                      <a:pt x="1147" y="190"/>
                    </a:lnTo>
                    <a:lnTo>
                      <a:pt x="1143" y="188"/>
                    </a:lnTo>
                    <a:lnTo>
                      <a:pt x="1141" y="186"/>
                    </a:lnTo>
                    <a:lnTo>
                      <a:pt x="1138" y="186"/>
                    </a:lnTo>
                    <a:lnTo>
                      <a:pt x="1136" y="186"/>
                    </a:lnTo>
                    <a:lnTo>
                      <a:pt x="1134" y="186"/>
                    </a:lnTo>
                    <a:lnTo>
                      <a:pt x="1130" y="186"/>
                    </a:lnTo>
                    <a:lnTo>
                      <a:pt x="1128" y="186"/>
                    </a:lnTo>
                    <a:lnTo>
                      <a:pt x="1124" y="186"/>
                    </a:lnTo>
                    <a:lnTo>
                      <a:pt x="1122" y="186"/>
                    </a:lnTo>
                    <a:lnTo>
                      <a:pt x="1120" y="186"/>
                    </a:lnTo>
                    <a:lnTo>
                      <a:pt x="1117" y="186"/>
                    </a:lnTo>
                    <a:lnTo>
                      <a:pt x="1115" y="186"/>
                    </a:lnTo>
                    <a:lnTo>
                      <a:pt x="1109" y="186"/>
                    </a:lnTo>
                    <a:lnTo>
                      <a:pt x="1105" y="188"/>
                    </a:lnTo>
                    <a:lnTo>
                      <a:pt x="1100" y="188"/>
                    </a:lnTo>
                    <a:lnTo>
                      <a:pt x="1094" y="190"/>
                    </a:lnTo>
                    <a:lnTo>
                      <a:pt x="1090" y="192"/>
                    </a:lnTo>
                    <a:lnTo>
                      <a:pt x="1086" y="192"/>
                    </a:lnTo>
                    <a:lnTo>
                      <a:pt x="1081" y="194"/>
                    </a:lnTo>
                    <a:lnTo>
                      <a:pt x="1077" y="198"/>
                    </a:lnTo>
                    <a:lnTo>
                      <a:pt x="1073" y="200"/>
                    </a:lnTo>
                    <a:lnTo>
                      <a:pt x="1067" y="203"/>
                    </a:lnTo>
                    <a:lnTo>
                      <a:pt x="1063" y="205"/>
                    </a:lnTo>
                    <a:lnTo>
                      <a:pt x="1058" y="207"/>
                    </a:lnTo>
                    <a:lnTo>
                      <a:pt x="1054" y="211"/>
                    </a:lnTo>
                    <a:lnTo>
                      <a:pt x="1050" y="215"/>
                    </a:lnTo>
                    <a:lnTo>
                      <a:pt x="1048" y="219"/>
                    </a:lnTo>
                    <a:lnTo>
                      <a:pt x="1044" y="222"/>
                    </a:lnTo>
                    <a:lnTo>
                      <a:pt x="1041" y="226"/>
                    </a:lnTo>
                    <a:lnTo>
                      <a:pt x="1039" y="232"/>
                    </a:lnTo>
                    <a:lnTo>
                      <a:pt x="1035" y="234"/>
                    </a:lnTo>
                    <a:lnTo>
                      <a:pt x="1033" y="240"/>
                    </a:lnTo>
                    <a:lnTo>
                      <a:pt x="1029" y="243"/>
                    </a:lnTo>
                    <a:lnTo>
                      <a:pt x="1027" y="249"/>
                    </a:lnTo>
                    <a:lnTo>
                      <a:pt x="1025" y="253"/>
                    </a:lnTo>
                    <a:lnTo>
                      <a:pt x="1023" y="259"/>
                    </a:lnTo>
                    <a:lnTo>
                      <a:pt x="1022" y="260"/>
                    </a:lnTo>
                    <a:lnTo>
                      <a:pt x="1022" y="264"/>
                    </a:lnTo>
                    <a:lnTo>
                      <a:pt x="1022" y="266"/>
                    </a:lnTo>
                    <a:lnTo>
                      <a:pt x="1022" y="270"/>
                    </a:lnTo>
                    <a:lnTo>
                      <a:pt x="919" y="730"/>
                    </a:lnTo>
                    <a:lnTo>
                      <a:pt x="915" y="728"/>
                    </a:lnTo>
                    <a:lnTo>
                      <a:pt x="913" y="726"/>
                    </a:lnTo>
                    <a:lnTo>
                      <a:pt x="907" y="724"/>
                    </a:lnTo>
                    <a:lnTo>
                      <a:pt x="905" y="720"/>
                    </a:lnTo>
                    <a:lnTo>
                      <a:pt x="904" y="719"/>
                    </a:lnTo>
                    <a:lnTo>
                      <a:pt x="900" y="717"/>
                    </a:lnTo>
                    <a:lnTo>
                      <a:pt x="896" y="713"/>
                    </a:lnTo>
                    <a:lnTo>
                      <a:pt x="892" y="713"/>
                    </a:lnTo>
                    <a:lnTo>
                      <a:pt x="1022" y="129"/>
                    </a:lnTo>
                    <a:lnTo>
                      <a:pt x="1022" y="125"/>
                    </a:lnTo>
                    <a:lnTo>
                      <a:pt x="1022" y="124"/>
                    </a:lnTo>
                    <a:lnTo>
                      <a:pt x="1022" y="120"/>
                    </a:lnTo>
                    <a:lnTo>
                      <a:pt x="1022" y="118"/>
                    </a:lnTo>
                    <a:lnTo>
                      <a:pt x="1022" y="114"/>
                    </a:lnTo>
                    <a:lnTo>
                      <a:pt x="1022" y="112"/>
                    </a:lnTo>
                    <a:lnTo>
                      <a:pt x="1022" y="110"/>
                    </a:lnTo>
                    <a:lnTo>
                      <a:pt x="1022" y="106"/>
                    </a:lnTo>
                    <a:lnTo>
                      <a:pt x="1022" y="105"/>
                    </a:lnTo>
                    <a:lnTo>
                      <a:pt x="1022" y="103"/>
                    </a:lnTo>
                    <a:lnTo>
                      <a:pt x="1022" y="99"/>
                    </a:lnTo>
                    <a:lnTo>
                      <a:pt x="1022" y="97"/>
                    </a:lnTo>
                    <a:lnTo>
                      <a:pt x="1022" y="91"/>
                    </a:lnTo>
                    <a:lnTo>
                      <a:pt x="1022" y="86"/>
                    </a:lnTo>
                    <a:lnTo>
                      <a:pt x="1020" y="82"/>
                    </a:lnTo>
                    <a:lnTo>
                      <a:pt x="1018" y="76"/>
                    </a:lnTo>
                    <a:lnTo>
                      <a:pt x="1016" y="70"/>
                    </a:lnTo>
                    <a:lnTo>
                      <a:pt x="1014" y="67"/>
                    </a:lnTo>
                    <a:lnTo>
                      <a:pt x="1012" y="61"/>
                    </a:lnTo>
                    <a:lnTo>
                      <a:pt x="1010" y="57"/>
                    </a:lnTo>
                    <a:lnTo>
                      <a:pt x="1008" y="53"/>
                    </a:lnTo>
                    <a:lnTo>
                      <a:pt x="1006" y="48"/>
                    </a:lnTo>
                    <a:lnTo>
                      <a:pt x="1004" y="44"/>
                    </a:lnTo>
                    <a:lnTo>
                      <a:pt x="1001" y="40"/>
                    </a:lnTo>
                    <a:lnTo>
                      <a:pt x="997" y="36"/>
                    </a:lnTo>
                    <a:lnTo>
                      <a:pt x="993" y="32"/>
                    </a:lnTo>
                    <a:lnTo>
                      <a:pt x="991" y="29"/>
                    </a:lnTo>
                    <a:lnTo>
                      <a:pt x="985" y="25"/>
                    </a:lnTo>
                    <a:lnTo>
                      <a:pt x="983" y="23"/>
                    </a:lnTo>
                    <a:lnTo>
                      <a:pt x="978" y="19"/>
                    </a:lnTo>
                    <a:lnTo>
                      <a:pt x="972" y="17"/>
                    </a:lnTo>
                    <a:lnTo>
                      <a:pt x="968" y="13"/>
                    </a:lnTo>
                    <a:lnTo>
                      <a:pt x="964" y="11"/>
                    </a:lnTo>
                    <a:lnTo>
                      <a:pt x="961" y="10"/>
                    </a:lnTo>
                    <a:lnTo>
                      <a:pt x="955" y="6"/>
                    </a:lnTo>
                    <a:lnTo>
                      <a:pt x="949" y="6"/>
                    </a:lnTo>
                    <a:lnTo>
                      <a:pt x="944" y="4"/>
                    </a:lnTo>
                    <a:lnTo>
                      <a:pt x="940" y="4"/>
                    </a:lnTo>
                    <a:lnTo>
                      <a:pt x="936" y="2"/>
                    </a:lnTo>
                    <a:lnTo>
                      <a:pt x="934" y="2"/>
                    </a:lnTo>
                    <a:lnTo>
                      <a:pt x="932" y="0"/>
                    </a:lnTo>
                    <a:lnTo>
                      <a:pt x="928" y="0"/>
                    </a:lnTo>
                    <a:lnTo>
                      <a:pt x="926" y="0"/>
                    </a:lnTo>
                    <a:lnTo>
                      <a:pt x="925" y="0"/>
                    </a:lnTo>
                    <a:lnTo>
                      <a:pt x="921" y="0"/>
                    </a:lnTo>
                    <a:lnTo>
                      <a:pt x="919" y="0"/>
                    </a:lnTo>
                    <a:lnTo>
                      <a:pt x="915" y="0"/>
                    </a:lnTo>
                    <a:lnTo>
                      <a:pt x="913" y="0"/>
                    </a:lnTo>
                    <a:lnTo>
                      <a:pt x="911" y="0"/>
                    </a:lnTo>
                    <a:lnTo>
                      <a:pt x="907" y="0"/>
                    </a:lnTo>
                    <a:lnTo>
                      <a:pt x="904" y="0"/>
                    </a:lnTo>
                    <a:lnTo>
                      <a:pt x="898" y="2"/>
                    </a:lnTo>
                    <a:lnTo>
                      <a:pt x="896" y="2"/>
                    </a:lnTo>
                    <a:lnTo>
                      <a:pt x="892" y="2"/>
                    </a:lnTo>
                    <a:lnTo>
                      <a:pt x="890" y="2"/>
                    </a:lnTo>
                    <a:lnTo>
                      <a:pt x="888" y="4"/>
                    </a:lnTo>
                    <a:lnTo>
                      <a:pt x="881" y="4"/>
                    </a:lnTo>
                    <a:lnTo>
                      <a:pt x="877" y="6"/>
                    </a:lnTo>
                    <a:lnTo>
                      <a:pt x="873" y="10"/>
                    </a:lnTo>
                    <a:lnTo>
                      <a:pt x="867" y="11"/>
                    </a:lnTo>
                    <a:lnTo>
                      <a:pt x="864" y="15"/>
                    </a:lnTo>
                    <a:lnTo>
                      <a:pt x="860" y="17"/>
                    </a:lnTo>
                    <a:lnTo>
                      <a:pt x="854" y="19"/>
                    </a:lnTo>
                    <a:lnTo>
                      <a:pt x="850" y="23"/>
                    </a:lnTo>
                    <a:lnTo>
                      <a:pt x="847" y="25"/>
                    </a:lnTo>
                    <a:lnTo>
                      <a:pt x="843" y="29"/>
                    </a:lnTo>
                    <a:lnTo>
                      <a:pt x="839" y="32"/>
                    </a:lnTo>
                    <a:lnTo>
                      <a:pt x="835" y="36"/>
                    </a:lnTo>
                    <a:lnTo>
                      <a:pt x="833" y="40"/>
                    </a:lnTo>
                    <a:lnTo>
                      <a:pt x="831" y="44"/>
                    </a:lnTo>
                    <a:lnTo>
                      <a:pt x="828" y="48"/>
                    </a:lnTo>
                    <a:lnTo>
                      <a:pt x="824" y="53"/>
                    </a:lnTo>
                    <a:lnTo>
                      <a:pt x="822" y="57"/>
                    </a:lnTo>
                    <a:lnTo>
                      <a:pt x="820" y="61"/>
                    </a:lnTo>
                    <a:lnTo>
                      <a:pt x="818" y="67"/>
                    </a:lnTo>
                    <a:lnTo>
                      <a:pt x="816" y="70"/>
                    </a:lnTo>
                    <a:lnTo>
                      <a:pt x="816" y="74"/>
                    </a:lnTo>
                    <a:lnTo>
                      <a:pt x="814" y="76"/>
                    </a:lnTo>
                    <a:lnTo>
                      <a:pt x="812" y="82"/>
                    </a:lnTo>
                    <a:lnTo>
                      <a:pt x="812" y="84"/>
                    </a:lnTo>
                    <a:lnTo>
                      <a:pt x="687" y="663"/>
                    </a:lnTo>
                    <a:lnTo>
                      <a:pt x="681" y="663"/>
                    </a:lnTo>
                    <a:lnTo>
                      <a:pt x="677" y="663"/>
                    </a:lnTo>
                    <a:lnTo>
                      <a:pt x="673" y="663"/>
                    </a:lnTo>
                    <a:lnTo>
                      <a:pt x="670" y="663"/>
                    </a:lnTo>
                    <a:lnTo>
                      <a:pt x="666" y="663"/>
                    </a:lnTo>
                    <a:lnTo>
                      <a:pt x="660" y="665"/>
                    </a:lnTo>
                    <a:lnTo>
                      <a:pt x="656" y="665"/>
                    </a:lnTo>
                    <a:lnTo>
                      <a:pt x="652" y="667"/>
                    </a:lnTo>
                    <a:lnTo>
                      <a:pt x="753" y="213"/>
                    </a:lnTo>
                    <a:lnTo>
                      <a:pt x="753" y="209"/>
                    </a:lnTo>
                    <a:lnTo>
                      <a:pt x="753" y="207"/>
                    </a:lnTo>
                    <a:lnTo>
                      <a:pt x="753" y="203"/>
                    </a:lnTo>
                    <a:lnTo>
                      <a:pt x="753" y="201"/>
                    </a:lnTo>
                    <a:lnTo>
                      <a:pt x="753" y="198"/>
                    </a:lnTo>
                    <a:lnTo>
                      <a:pt x="753" y="196"/>
                    </a:lnTo>
                    <a:lnTo>
                      <a:pt x="753" y="192"/>
                    </a:lnTo>
                    <a:lnTo>
                      <a:pt x="753" y="190"/>
                    </a:lnTo>
                    <a:lnTo>
                      <a:pt x="753" y="188"/>
                    </a:lnTo>
                    <a:lnTo>
                      <a:pt x="753" y="184"/>
                    </a:lnTo>
                    <a:lnTo>
                      <a:pt x="753" y="182"/>
                    </a:lnTo>
                    <a:lnTo>
                      <a:pt x="753" y="181"/>
                    </a:lnTo>
                    <a:lnTo>
                      <a:pt x="753" y="175"/>
                    </a:lnTo>
                    <a:lnTo>
                      <a:pt x="753" y="169"/>
                    </a:lnTo>
                    <a:lnTo>
                      <a:pt x="751" y="167"/>
                    </a:lnTo>
                    <a:lnTo>
                      <a:pt x="751" y="163"/>
                    </a:lnTo>
                    <a:lnTo>
                      <a:pt x="751" y="162"/>
                    </a:lnTo>
                    <a:lnTo>
                      <a:pt x="750" y="160"/>
                    </a:lnTo>
                    <a:lnTo>
                      <a:pt x="748" y="154"/>
                    </a:lnTo>
                    <a:lnTo>
                      <a:pt x="746" y="148"/>
                    </a:lnTo>
                    <a:lnTo>
                      <a:pt x="744" y="144"/>
                    </a:lnTo>
                    <a:lnTo>
                      <a:pt x="742" y="141"/>
                    </a:lnTo>
                    <a:lnTo>
                      <a:pt x="740" y="135"/>
                    </a:lnTo>
                    <a:lnTo>
                      <a:pt x="738" y="131"/>
                    </a:lnTo>
                    <a:lnTo>
                      <a:pt x="734" y="127"/>
                    </a:lnTo>
                    <a:lnTo>
                      <a:pt x="730" y="124"/>
                    </a:lnTo>
                    <a:lnTo>
                      <a:pt x="727" y="120"/>
                    </a:lnTo>
                    <a:lnTo>
                      <a:pt x="725" y="116"/>
                    </a:lnTo>
                    <a:lnTo>
                      <a:pt x="721" y="112"/>
                    </a:lnTo>
                    <a:lnTo>
                      <a:pt x="717" y="108"/>
                    </a:lnTo>
                    <a:lnTo>
                      <a:pt x="713" y="105"/>
                    </a:lnTo>
                    <a:lnTo>
                      <a:pt x="710" y="103"/>
                    </a:lnTo>
                    <a:lnTo>
                      <a:pt x="704" y="99"/>
                    </a:lnTo>
                    <a:lnTo>
                      <a:pt x="700" y="97"/>
                    </a:lnTo>
                    <a:lnTo>
                      <a:pt x="694" y="95"/>
                    </a:lnTo>
                    <a:lnTo>
                      <a:pt x="691" y="91"/>
                    </a:lnTo>
                    <a:lnTo>
                      <a:pt x="685" y="89"/>
                    </a:lnTo>
                    <a:lnTo>
                      <a:pt x="681" y="87"/>
                    </a:lnTo>
                    <a:lnTo>
                      <a:pt x="675" y="86"/>
                    </a:lnTo>
                    <a:lnTo>
                      <a:pt x="672" y="86"/>
                    </a:lnTo>
                    <a:lnTo>
                      <a:pt x="668" y="84"/>
                    </a:lnTo>
                    <a:lnTo>
                      <a:pt x="666" y="84"/>
                    </a:lnTo>
                    <a:lnTo>
                      <a:pt x="664" y="84"/>
                    </a:lnTo>
                    <a:lnTo>
                      <a:pt x="660" y="84"/>
                    </a:lnTo>
                    <a:lnTo>
                      <a:pt x="658" y="84"/>
                    </a:lnTo>
                    <a:lnTo>
                      <a:pt x="654" y="84"/>
                    </a:lnTo>
                    <a:lnTo>
                      <a:pt x="652" y="84"/>
                    </a:lnTo>
                    <a:lnTo>
                      <a:pt x="651" y="84"/>
                    </a:lnTo>
                    <a:lnTo>
                      <a:pt x="647" y="84"/>
                    </a:lnTo>
                    <a:lnTo>
                      <a:pt x="645" y="84"/>
                    </a:lnTo>
                    <a:lnTo>
                      <a:pt x="643" y="84"/>
                    </a:lnTo>
                    <a:lnTo>
                      <a:pt x="639" y="84"/>
                    </a:lnTo>
                    <a:lnTo>
                      <a:pt x="635" y="84"/>
                    </a:lnTo>
                    <a:lnTo>
                      <a:pt x="630" y="84"/>
                    </a:lnTo>
                    <a:lnTo>
                      <a:pt x="628" y="84"/>
                    </a:lnTo>
                    <a:lnTo>
                      <a:pt x="624" y="86"/>
                    </a:lnTo>
                    <a:lnTo>
                      <a:pt x="622" y="86"/>
                    </a:lnTo>
                    <a:lnTo>
                      <a:pt x="618" y="86"/>
                    </a:lnTo>
                    <a:lnTo>
                      <a:pt x="614" y="87"/>
                    </a:lnTo>
                    <a:lnTo>
                      <a:pt x="609" y="89"/>
                    </a:lnTo>
                    <a:lnTo>
                      <a:pt x="603" y="91"/>
                    </a:lnTo>
                    <a:lnTo>
                      <a:pt x="599" y="95"/>
                    </a:lnTo>
                    <a:lnTo>
                      <a:pt x="595" y="97"/>
                    </a:lnTo>
                    <a:lnTo>
                      <a:pt x="592" y="99"/>
                    </a:lnTo>
                    <a:lnTo>
                      <a:pt x="586" y="103"/>
                    </a:lnTo>
                    <a:lnTo>
                      <a:pt x="582" y="105"/>
                    </a:lnTo>
                    <a:lnTo>
                      <a:pt x="578" y="108"/>
                    </a:lnTo>
                    <a:lnTo>
                      <a:pt x="574" y="112"/>
                    </a:lnTo>
                    <a:lnTo>
                      <a:pt x="571" y="116"/>
                    </a:lnTo>
                    <a:lnTo>
                      <a:pt x="567" y="120"/>
                    </a:lnTo>
                    <a:lnTo>
                      <a:pt x="565" y="124"/>
                    </a:lnTo>
                    <a:lnTo>
                      <a:pt x="563" y="127"/>
                    </a:lnTo>
                    <a:lnTo>
                      <a:pt x="559" y="131"/>
                    </a:lnTo>
                    <a:lnTo>
                      <a:pt x="555" y="135"/>
                    </a:lnTo>
                    <a:lnTo>
                      <a:pt x="554" y="141"/>
                    </a:lnTo>
                    <a:lnTo>
                      <a:pt x="552" y="146"/>
                    </a:lnTo>
                    <a:lnTo>
                      <a:pt x="550" y="150"/>
                    </a:lnTo>
                    <a:lnTo>
                      <a:pt x="548" y="156"/>
                    </a:lnTo>
                    <a:lnTo>
                      <a:pt x="546" y="158"/>
                    </a:lnTo>
                    <a:lnTo>
                      <a:pt x="546" y="160"/>
                    </a:lnTo>
                    <a:lnTo>
                      <a:pt x="544" y="163"/>
                    </a:lnTo>
                    <a:lnTo>
                      <a:pt x="544" y="167"/>
                    </a:lnTo>
                    <a:lnTo>
                      <a:pt x="361" y="1127"/>
                    </a:lnTo>
                    <a:lnTo>
                      <a:pt x="361" y="112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Rectangle 241"/>
              <p:cNvSpPr/>
              <p:nvPr/>
            </p:nvSpPr>
            <p:spPr>
              <a:xfrm flipV="1" rot="10389000">
                <a:off x="4942800" y="1941480"/>
                <a:ext cx="8532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7" name="Group 242"/>
            <p:cNvGrpSpPr/>
            <p:nvPr/>
          </p:nvGrpSpPr>
          <p:grpSpPr>
            <a:xfrm>
              <a:off x="4976280" y="2654280"/>
              <a:ext cx="193680" cy="1131840"/>
              <a:chOff x="4976280" y="2654280"/>
              <a:chExt cx="193680" cy="1131840"/>
            </a:xfrm>
          </p:grpSpPr>
          <p:grpSp>
            <p:nvGrpSpPr>
              <p:cNvPr id="3568" name="Group 243"/>
              <p:cNvGrpSpPr/>
              <p:nvPr/>
            </p:nvGrpSpPr>
            <p:grpSpPr>
              <a:xfrm>
                <a:off x="4976280" y="2654280"/>
                <a:ext cx="193680" cy="917280"/>
                <a:chOff x="4976280" y="2654280"/>
                <a:chExt cx="193680" cy="917280"/>
              </a:xfrm>
            </p:grpSpPr>
            <p:sp>
              <p:nvSpPr>
                <p:cNvPr id="3569" name="AutoShape 244"/>
                <p:cNvSpPr/>
                <p:nvPr/>
              </p:nvSpPr>
              <p:spPr>
                <a:xfrm rot="81600">
                  <a:off x="4990320" y="2724840"/>
                  <a:ext cx="149760" cy="486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ffffff"/>
                    </a:gs>
                  </a:gsLst>
                  <a:lin ang="212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0" name="AutoShape 245"/>
                <p:cNvSpPr/>
                <p:nvPr/>
              </p:nvSpPr>
              <p:spPr>
                <a:xfrm rot="81600">
                  <a:off x="5012640" y="3206880"/>
                  <a:ext cx="77040" cy="363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ffffff"/>
                    </a:gs>
                  </a:gsLst>
                  <a:lin ang="212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1" name="Oval 246"/>
                <p:cNvSpPr/>
                <p:nvPr/>
              </p:nvSpPr>
              <p:spPr>
                <a:xfrm rot="81600">
                  <a:off x="4984920" y="3166920"/>
                  <a:ext cx="132120" cy="133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2" name="AutoShape 247"/>
                <p:cNvSpPr/>
                <p:nvPr/>
              </p:nvSpPr>
              <p:spPr>
                <a:xfrm flipV="1" rot="82200">
                  <a:off x="5013000" y="3207600"/>
                  <a:ext cx="71640" cy="61920"/>
                </a:xfrm>
                <a:prstGeom prst="hexagon">
                  <a:avLst>
                    <a:gd name="adj" fmla="val 28924"/>
                    <a:gd name="vf" fmla="val 115470"/>
                  </a:avLst>
                </a:prstGeom>
                <a:solidFill>
                  <a:srgbClr val="ff000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3" name="AutoShape 248"/>
                <p:cNvSpPr/>
                <p:nvPr/>
              </p:nvSpPr>
              <p:spPr>
                <a:xfrm rot="5861400">
                  <a:off x="5000760" y="2648880"/>
                  <a:ext cx="144000" cy="176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934" y="2201"/>
                        <a:pt x="12267" y="5080"/>
                        <a:pt x="12267" y="10800"/>
                      </a:cubicBezTo>
                      <a:cubicBezTo>
                        <a:pt x="12267" y="16520"/>
                        <a:pt x="16934" y="1939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2b2b2"/>
                    </a:gs>
                  </a:gsLst>
                  <a:lin ang="20844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4" name="Freeform 249"/>
              <p:cNvSpPr/>
              <p:nvPr/>
            </p:nvSpPr>
            <p:spPr>
              <a:xfrm flipH="1" rot="11226600">
                <a:off x="4992480" y="3543120"/>
                <a:ext cx="92880" cy="237960"/>
              </a:xfrm>
              <a:custGeom>
                <a:avLst/>
                <a:gdLst/>
                <a:ahLst/>
                <a:rect l="l" t="t" r="r" b="b"/>
                <a:pathLst>
                  <a:path w="1402" h="2302">
                    <a:moveTo>
                      <a:pt x="361" y="1127"/>
                    </a:moveTo>
                    <a:lnTo>
                      <a:pt x="280" y="1116"/>
                    </a:lnTo>
                    <a:lnTo>
                      <a:pt x="373" y="711"/>
                    </a:lnTo>
                    <a:lnTo>
                      <a:pt x="373" y="709"/>
                    </a:lnTo>
                    <a:lnTo>
                      <a:pt x="375" y="705"/>
                    </a:lnTo>
                    <a:lnTo>
                      <a:pt x="375" y="703"/>
                    </a:lnTo>
                    <a:lnTo>
                      <a:pt x="375" y="700"/>
                    </a:lnTo>
                    <a:lnTo>
                      <a:pt x="375" y="698"/>
                    </a:lnTo>
                    <a:lnTo>
                      <a:pt x="375" y="696"/>
                    </a:lnTo>
                    <a:lnTo>
                      <a:pt x="375" y="692"/>
                    </a:lnTo>
                    <a:lnTo>
                      <a:pt x="375" y="690"/>
                    </a:lnTo>
                    <a:lnTo>
                      <a:pt x="375" y="684"/>
                    </a:lnTo>
                    <a:lnTo>
                      <a:pt x="375" y="681"/>
                    </a:lnTo>
                    <a:lnTo>
                      <a:pt x="375" y="675"/>
                    </a:lnTo>
                    <a:lnTo>
                      <a:pt x="375" y="669"/>
                    </a:lnTo>
                    <a:lnTo>
                      <a:pt x="371" y="665"/>
                    </a:lnTo>
                    <a:lnTo>
                      <a:pt x="371" y="660"/>
                    </a:lnTo>
                    <a:lnTo>
                      <a:pt x="369" y="654"/>
                    </a:lnTo>
                    <a:lnTo>
                      <a:pt x="367" y="652"/>
                    </a:lnTo>
                    <a:lnTo>
                      <a:pt x="365" y="646"/>
                    </a:lnTo>
                    <a:lnTo>
                      <a:pt x="363" y="641"/>
                    </a:lnTo>
                    <a:lnTo>
                      <a:pt x="361" y="637"/>
                    </a:lnTo>
                    <a:lnTo>
                      <a:pt x="358" y="633"/>
                    </a:lnTo>
                    <a:lnTo>
                      <a:pt x="356" y="629"/>
                    </a:lnTo>
                    <a:lnTo>
                      <a:pt x="354" y="623"/>
                    </a:lnTo>
                    <a:lnTo>
                      <a:pt x="350" y="620"/>
                    </a:lnTo>
                    <a:lnTo>
                      <a:pt x="346" y="616"/>
                    </a:lnTo>
                    <a:lnTo>
                      <a:pt x="342" y="612"/>
                    </a:lnTo>
                    <a:lnTo>
                      <a:pt x="339" y="610"/>
                    </a:lnTo>
                    <a:lnTo>
                      <a:pt x="335" y="606"/>
                    </a:lnTo>
                    <a:lnTo>
                      <a:pt x="331" y="603"/>
                    </a:lnTo>
                    <a:lnTo>
                      <a:pt x="325" y="601"/>
                    </a:lnTo>
                    <a:lnTo>
                      <a:pt x="321" y="597"/>
                    </a:lnTo>
                    <a:lnTo>
                      <a:pt x="318" y="595"/>
                    </a:lnTo>
                    <a:lnTo>
                      <a:pt x="312" y="593"/>
                    </a:lnTo>
                    <a:lnTo>
                      <a:pt x="306" y="591"/>
                    </a:lnTo>
                    <a:lnTo>
                      <a:pt x="302" y="589"/>
                    </a:lnTo>
                    <a:lnTo>
                      <a:pt x="299" y="589"/>
                    </a:lnTo>
                    <a:lnTo>
                      <a:pt x="295" y="587"/>
                    </a:lnTo>
                    <a:lnTo>
                      <a:pt x="291" y="587"/>
                    </a:lnTo>
                    <a:lnTo>
                      <a:pt x="287" y="585"/>
                    </a:lnTo>
                    <a:lnTo>
                      <a:pt x="285" y="585"/>
                    </a:lnTo>
                    <a:lnTo>
                      <a:pt x="283" y="585"/>
                    </a:lnTo>
                    <a:lnTo>
                      <a:pt x="280" y="585"/>
                    </a:lnTo>
                    <a:lnTo>
                      <a:pt x="276" y="585"/>
                    </a:lnTo>
                    <a:lnTo>
                      <a:pt x="274" y="585"/>
                    </a:lnTo>
                    <a:lnTo>
                      <a:pt x="272" y="585"/>
                    </a:lnTo>
                    <a:lnTo>
                      <a:pt x="268" y="585"/>
                    </a:lnTo>
                    <a:lnTo>
                      <a:pt x="266" y="585"/>
                    </a:lnTo>
                    <a:lnTo>
                      <a:pt x="263" y="585"/>
                    </a:lnTo>
                    <a:lnTo>
                      <a:pt x="261" y="587"/>
                    </a:lnTo>
                    <a:lnTo>
                      <a:pt x="259" y="587"/>
                    </a:lnTo>
                    <a:lnTo>
                      <a:pt x="255" y="587"/>
                    </a:lnTo>
                    <a:lnTo>
                      <a:pt x="253" y="589"/>
                    </a:lnTo>
                    <a:lnTo>
                      <a:pt x="249" y="589"/>
                    </a:lnTo>
                    <a:lnTo>
                      <a:pt x="247" y="589"/>
                    </a:lnTo>
                    <a:lnTo>
                      <a:pt x="243" y="591"/>
                    </a:lnTo>
                    <a:lnTo>
                      <a:pt x="240" y="591"/>
                    </a:lnTo>
                    <a:lnTo>
                      <a:pt x="238" y="593"/>
                    </a:lnTo>
                    <a:lnTo>
                      <a:pt x="236" y="595"/>
                    </a:lnTo>
                    <a:lnTo>
                      <a:pt x="232" y="595"/>
                    </a:lnTo>
                    <a:lnTo>
                      <a:pt x="230" y="597"/>
                    </a:lnTo>
                    <a:lnTo>
                      <a:pt x="228" y="599"/>
                    </a:lnTo>
                    <a:lnTo>
                      <a:pt x="224" y="601"/>
                    </a:lnTo>
                    <a:lnTo>
                      <a:pt x="223" y="601"/>
                    </a:lnTo>
                    <a:lnTo>
                      <a:pt x="219" y="603"/>
                    </a:lnTo>
                    <a:lnTo>
                      <a:pt x="217" y="604"/>
                    </a:lnTo>
                    <a:lnTo>
                      <a:pt x="211" y="608"/>
                    </a:lnTo>
                    <a:lnTo>
                      <a:pt x="207" y="612"/>
                    </a:lnTo>
                    <a:lnTo>
                      <a:pt x="204" y="616"/>
                    </a:lnTo>
                    <a:lnTo>
                      <a:pt x="198" y="618"/>
                    </a:lnTo>
                    <a:lnTo>
                      <a:pt x="194" y="623"/>
                    </a:lnTo>
                    <a:lnTo>
                      <a:pt x="188" y="627"/>
                    </a:lnTo>
                    <a:lnTo>
                      <a:pt x="185" y="633"/>
                    </a:lnTo>
                    <a:lnTo>
                      <a:pt x="181" y="637"/>
                    </a:lnTo>
                    <a:lnTo>
                      <a:pt x="177" y="641"/>
                    </a:lnTo>
                    <a:lnTo>
                      <a:pt x="173" y="646"/>
                    </a:lnTo>
                    <a:lnTo>
                      <a:pt x="169" y="652"/>
                    </a:lnTo>
                    <a:lnTo>
                      <a:pt x="166" y="656"/>
                    </a:lnTo>
                    <a:lnTo>
                      <a:pt x="162" y="662"/>
                    </a:lnTo>
                    <a:lnTo>
                      <a:pt x="160" y="665"/>
                    </a:lnTo>
                    <a:lnTo>
                      <a:pt x="158" y="669"/>
                    </a:lnTo>
                    <a:lnTo>
                      <a:pt x="158" y="671"/>
                    </a:lnTo>
                    <a:lnTo>
                      <a:pt x="156" y="673"/>
                    </a:lnTo>
                    <a:lnTo>
                      <a:pt x="154" y="677"/>
                    </a:lnTo>
                    <a:lnTo>
                      <a:pt x="152" y="679"/>
                    </a:lnTo>
                    <a:lnTo>
                      <a:pt x="152" y="681"/>
                    </a:lnTo>
                    <a:lnTo>
                      <a:pt x="150" y="684"/>
                    </a:lnTo>
                    <a:lnTo>
                      <a:pt x="150" y="688"/>
                    </a:lnTo>
                    <a:lnTo>
                      <a:pt x="146" y="694"/>
                    </a:lnTo>
                    <a:lnTo>
                      <a:pt x="145" y="701"/>
                    </a:lnTo>
                    <a:lnTo>
                      <a:pt x="143" y="709"/>
                    </a:lnTo>
                    <a:lnTo>
                      <a:pt x="139" y="717"/>
                    </a:lnTo>
                    <a:lnTo>
                      <a:pt x="137" y="724"/>
                    </a:lnTo>
                    <a:lnTo>
                      <a:pt x="135" y="732"/>
                    </a:lnTo>
                    <a:lnTo>
                      <a:pt x="131" y="739"/>
                    </a:lnTo>
                    <a:lnTo>
                      <a:pt x="129" y="747"/>
                    </a:lnTo>
                    <a:lnTo>
                      <a:pt x="126" y="755"/>
                    </a:lnTo>
                    <a:lnTo>
                      <a:pt x="124" y="760"/>
                    </a:lnTo>
                    <a:lnTo>
                      <a:pt x="122" y="768"/>
                    </a:lnTo>
                    <a:lnTo>
                      <a:pt x="120" y="776"/>
                    </a:lnTo>
                    <a:lnTo>
                      <a:pt x="116" y="781"/>
                    </a:lnTo>
                    <a:lnTo>
                      <a:pt x="114" y="789"/>
                    </a:lnTo>
                    <a:lnTo>
                      <a:pt x="112" y="796"/>
                    </a:lnTo>
                    <a:lnTo>
                      <a:pt x="110" y="804"/>
                    </a:lnTo>
                    <a:lnTo>
                      <a:pt x="107" y="812"/>
                    </a:lnTo>
                    <a:lnTo>
                      <a:pt x="107" y="817"/>
                    </a:lnTo>
                    <a:lnTo>
                      <a:pt x="103" y="823"/>
                    </a:lnTo>
                    <a:lnTo>
                      <a:pt x="101" y="831"/>
                    </a:lnTo>
                    <a:lnTo>
                      <a:pt x="97" y="836"/>
                    </a:lnTo>
                    <a:lnTo>
                      <a:pt x="97" y="844"/>
                    </a:lnTo>
                    <a:lnTo>
                      <a:pt x="93" y="852"/>
                    </a:lnTo>
                    <a:lnTo>
                      <a:pt x="93" y="857"/>
                    </a:lnTo>
                    <a:lnTo>
                      <a:pt x="89" y="865"/>
                    </a:lnTo>
                    <a:lnTo>
                      <a:pt x="88" y="871"/>
                    </a:lnTo>
                    <a:lnTo>
                      <a:pt x="86" y="878"/>
                    </a:lnTo>
                    <a:lnTo>
                      <a:pt x="84" y="884"/>
                    </a:lnTo>
                    <a:lnTo>
                      <a:pt x="82" y="892"/>
                    </a:lnTo>
                    <a:lnTo>
                      <a:pt x="80" y="899"/>
                    </a:lnTo>
                    <a:lnTo>
                      <a:pt x="78" y="907"/>
                    </a:lnTo>
                    <a:lnTo>
                      <a:pt x="74" y="912"/>
                    </a:lnTo>
                    <a:lnTo>
                      <a:pt x="72" y="920"/>
                    </a:lnTo>
                    <a:lnTo>
                      <a:pt x="72" y="926"/>
                    </a:lnTo>
                    <a:lnTo>
                      <a:pt x="68" y="931"/>
                    </a:lnTo>
                    <a:lnTo>
                      <a:pt x="67" y="939"/>
                    </a:lnTo>
                    <a:lnTo>
                      <a:pt x="65" y="945"/>
                    </a:lnTo>
                    <a:lnTo>
                      <a:pt x="63" y="952"/>
                    </a:lnTo>
                    <a:lnTo>
                      <a:pt x="59" y="958"/>
                    </a:lnTo>
                    <a:lnTo>
                      <a:pt x="57" y="966"/>
                    </a:lnTo>
                    <a:lnTo>
                      <a:pt x="55" y="971"/>
                    </a:lnTo>
                    <a:lnTo>
                      <a:pt x="53" y="979"/>
                    </a:lnTo>
                    <a:lnTo>
                      <a:pt x="51" y="987"/>
                    </a:lnTo>
                    <a:lnTo>
                      <a:pt x="49" y="994"/>
                    </a:lnTo>
                    <a:lnTo>
                      <a:pt x="48" y="1000"/>
                    </a:lnTo>
                    <a:lnTo>
                      <a:pt x="46" y="1007"/>
                    </a:lnTo>
                    <a:lnTo>
                      <a:pt x="44" y="1015"/>
                    </a:lnTo>
                    <a:lnTo>
                      <a:pt x="42" y="1021"/>
                    </a:lnTo>
                    <a:lnTo>
                      <a:pt x="42" y="1028"/>
                    </a:lnTo>
                    <a:lnTo>
                      <a:pt x="38" y="1036"/>
                    </a:lnTo>
                    <a:lnTo>
                      <a:pt x="36" y="1042"/>
                    </a:lnTo>
                    <a:lnTo>
                      <a:pt x="36" y="1049"/>
                    </a:lnTo>
                    <a:lnTo>
                      <a:pt x="34" y="1057"/>
                    </a:lnTo>
                    <a:lnTo>
                      <a:pt x="30" y="1063"/>
                    </a:lnTo>
                    <a:lnTo>
                      <a:pt x="30" y="1070"/>
                    </a:lnTo>
                    <a:lnTo>
                      <a:pt x="29" y="1078"/>
                    </a:lnTo>
                    <a:lnTo>
                      <a:pt x="27" y="1085"/>
                    </a:lnTo>
                    <a:lnTo>
                      <a:pt x="25" y="1093"/>
                    </a:lnTo>
                    <a:lnTo>
                      <a:pt x="23" y="1101"/>
                    </a:lnTo>
                    <a:lnTo>
                      <a:pt x="21" y="1108"/>
                    </a:lnTo>
                    <a:lnTo>
                      <a:pt x="19" y="1116"/>
                    </a:lnTo>
                    <a:lnTo>
                      <a:pt x="17" y="1123"/>
                    </a:lnTo>
                    <a:lnTo>
                      <a:pt x="17" y="1131"/>
                    </a:lnTo>
                    <a:lnTo>
                      <a:pt x="15" y="1139"/>
                    </a:lnTo>
                    <a:lnTo>
                      <a:pt x="13" y="1148"/>
                    </a:lnTo>
                    <a:lnTo>
                      <a:pt x="10" y="1158"/>
                    </a:lnTo>
                    <a:lnTo>
                      <a:pt x="10" y="1165"/>
                    </a:lnTo>
                    <a:lnTo>
                      <a:pt x="8" y="1175"/>
                    </a:lnTo>
                    <a:lnTo>
                      <a:pt x="6" y="1182"/>
                    </a:lnTo>
                    <a:lnTo>
                      <a:pt x="6" y="1192"/>
                    </a:lnTo>
                    <a:lnTo>
                      <a:pt x="4" y="1201"/>
                    </a:lnTo>
                    <a:lnTo>
                      <a:pt x="2" y="1211"/>
                    </a:lnTo>
                    <a:lnTo>
                      <a:pt x="2" y="1218"/>
                    </a:lnTo>
                    <a:lnTo>
                      <a:pt x="0" y="1230"/>
                    </a:lnTo>
                    <a:lnTo>
                      <a:pt x="0" y="1237"/>
                    </a:lnTo>
                    <a:lnTo>
                      <a:pt x="0" y="1247"/>
                    </a:lnTo>
                    <a:lnTo>
                      <a:pt x="0" y="1257"/>
                    </a:lnTo>
                    <a:lnTo>
                      <a:pt x="0" y="1268"/>
                    </a:lnTo>
                    <a:lnTo>
                      <a:pt x="0" y="1276"/>
                    </a:lnTo>
                    <a:lnTo>
                      <a:pt x="0" y="1285"/>
                    </a:lnTo>
                    <a:lnTo>
                      <a:pt x="0" y="1296"/>
                    </a:lnTo>
                    <a:lnTo>
                      <a:pt x="0" y="1304"/>
                    </a:lnTo>
                    <a:lnTo>
                      <a:pt x="0" y="1314"/>
                    </a:lnTo>
                    <a:lnTo>
                      <a:pt x="0" y="1323"/>
                    </a:lnTo>
                    <a:lnTo>
                      <a:pt x="0" y="1333"/>
                    </a:lnTo>
                    <a:lnTo>
                      <a:pt x="2" y="1342"/>
                    </a:lnTo>
                    <a:lnTo>
                      <a:pt x="2" y="1352"/>
                    </a:lnTo>
                    <a:lnTo>
                      <a:pt x="4" y="1363"/>
                    </a:lnTo>
                    <a:lnTo>
                      <a:pt x="4" y="1371"/>
                    </a:lnTo>
                    <a:lnTo>
                      <a:pt x="6" y="1382"/>
                    </a:lnTo>
                    <a:lnTo>
                      <a:pt x="8" y="1390"/>
                    </a:lnTo>
                    <a:lnTo>
                      <a:pt x="8" y="1401"/>
                    </a:lnTo>
                    <a:lnTo>
                      <a:pt x="10" y="1409"/>
                    </a:lnTo>
                    <a:lnTo>
                      <a:pt x="11" y="1420"/>
                    </a:lnTo>
                    <a:lnTo>
                      <a:pt x="13" y="1429"/>
                    </a:lnTo>
                    <a:lnTo>
                      <a:pt x="15" y="1439"/>
                    </a:lnTo>
                    <a:lnTo>
                      <a:pt x="17" y="1448"/>
                    </a:lnTo>
                    <a:lnTo>
                      <a:pt x="19" y="1458"/>
                    </a:lnTo>
                    <a:lnTo>
                      <a:pt x="21" y="1468"/>
                    </a:lnTo>
                    <a:lnTo>
                      <a:pt x="23" y="1477"/>
                    </a:lnTo>
                    <a:lnTo>
                      <a:pt x="27" y="1487"/>
                    </a:lnTo>
                    <a:lnTo>
                      <a:pt x="29" y="1496"/>
                    </a:lnTo>
                    <a:lnTo>
                      <a:pt x="30" y="1506"/>
                    </a:lnTo>
                    <a:lnTo>
                      <a:pt x="34" y="1515"/>
                    </a:lnTo>
                    <a:lnTo>
                      <a:pt x="36" y="1525"/>
                    </a:lnTo>
                    <a:lnTo>
                      <a:pt x="38" y="1534"/>
                    </a:lnTo>
                    <a:lnTo>
                      <a:pt x="42" y="1544"/>
                    </a:lnTo>
                    <a:lnTo>
                      <a:pt x="46" y="1553"/>
                    </a:lnTo>
                    <a:lnTo>
                      <a:pt x="48" y="1561"/>
                    </a:lnTo>
                    <a:lnTo>
                      <a:pt x="51" y="1572"/>
                    </a:lnTo>
                    <a:lnTo>
                      <a:pt x="55" y="1580"/>
                    </a:lnTo>
                    <a:lnTo>
                      <a:pt x="59" y="1589"/>
                    </a:lnTo>
                    <a:lnTo>
                      <a:pt x="63" y="1599"/>
                    </a:lnTo>
                    <a:lnTo>
                      <a:pt x="67" y="1608"/>
                    </a:lnTo>
                    <a:lnTo>
                      <a:pt x="68" y="1616"/>
                    </a:lnTo>
                    <a:lnTo>
                      <a:pt x="74" y="1627"/>
                    </a:lnTo>
                    <a:lnTo>
                      <a:pt x="78" y="1635"/>
                    </a:lnTo>
                    <a:lnTo>
                      <a:pt x="82" y="1644"/>
                    </a:lnTo>
                    <a:lnTo>
                      <a:pt x="86" y="1652"/>
                    </a:lnTo>
                    <a:lnTo>
                      <a:pt x="89" y="1661"/>
                    </a:lnTo>
                    <a:lnTo>
                      <a:pt x="95" y="1669"/>
                    </a:lnTo>
                    <a:lnTo>
                      <a:pt x="99" y="1679"/>
                    </a:lnTo>
                    <a:lnTo>
                      <a:pt x="103" y="1688"/>
                    </a:lnTo>
                    <a:lnTo>
                      <a:pt x="108" y="1696"/>
                    </a:lnTo>
                    <a:lnTo>
                      <a:pt x="114" y="1703"/>
                    </a:lnTo>
                    <a:lnTo>
                      <a:pt x="118" y="1713"/>
                    </a:lnTo>
                    <a:lnTo>
                      <a:pt x="124" y="1722"/>
                    </a:lnTo>
                    <a:lnTo>
                      <a:pt x="127" y="1732"/>
                    </a:lnTo>
                    <a:lnTo>
                      <a:pt x="131" y="1736"/>
                    </a:lnTo>
                    <a:lnTo>
                      <a:pt x="135" y="1739"/>
                    </a:lnTo>
                    <a:lnTo>
                      <a:pt x="135" y="1743"/>
                    </a:lnTo>
                    <a:lnTo>
                      <a:pt x="137" y="1745"/>
                    </a:lnTo>
                    <a:lnTo>
                      <a:pt x="139" y="1747"/>
                    </a:lnTo>
                    <a:lnTo>
                      <a:pt x="141" y="1751"/>
                    </a:lnTo>
                    <a:lnTo>
                      <a:pt x="143" y="1755"/>
                    </a:lnTo>
                    <a:lnTo>
                      <a:pt x="143" y="1756"/>
                    </a:lnTo>
                    <a:lnTo>
                      <a:pt x="145" y="1760"/>
                    </a:lnTo>
                    <a:lnTo>
                      <a:pt x="146" y="1762"/>
                    </a:lnTo>
                    <a:lnTo>
                      <a:pt x="148" y="1766"/>
                    </a:lnTo>
                    <a:lnTo>
                      <a:pt x="150" y="1768"/>
                    </a:lnTo>
                    <a:lnTo>
                      <a:pt x="152" y="1770"/>
                    </a:lnTo>
                    <a:lnTo>
                      <a:pt x="156" y="1774"/>
                    </a:lnTo>
                    <a:lnTo>
                      <a:pt x="158" y="1777"/>
                    </a:lnTo>
                    <a:lnTo>
                      <a:pt x="160" y="1779"/>
                    </a:lnTo>
                    <a:lnTo>
                      <a:pt x="160" y="1783"/>
                    </a:lnTo>
                    <a:lnTo>
                      <a:pt x="162" y="1787"/>
                    </a:lnTo>
                    <a:lnTo>
                      <a:pt x="166" y="1789"/>
                    </a:lnTo>
                    <a:lnTo>
                      <a:pt x="166" y="1791"/>
                    </a:lnTo>
                    <a:lnTo>
                      <a:pt x="167" y="1794"/>
                    </a:lnTo>
                    <a:lnTo>
                      <a:pt x="169" y="1796"/>
                    </a:lnTo>
                    <a:lnTo>
                      <a:pt x="171" y="1800"/>
                    </a:lnTo>
                    <a:lnTo>
                      <a:pt x="173" y="1802"/>
                    </a:lnTo>
                    <a:lnTo>
                      <a:pt x="175" y="1806"/>
                    </a:lnTo>
                    <a:lnTo>
                      <a:pt x="177" y="1808"/>
                    </a:lnTo>
                    <a:lnTo>
                      <a:pt x="179" y="1812"/>
                    </a:lnTo>
                    <a:lnTo>
                      <a:pt x="181" y="1815"/>
                    </a:lnTo>
                    <a:lnTo>
                      <a:pt x="183" y="1817"/>
                    </a:lnTo>
                    <a:lnTo>
                      <a:pt x="185" y="1821"/>
                    </a:lnTo>
                    <a:lnTo>
                      <a:pt x="188" y="1827"/>
                    </a:lnTo>
                    <a:lnTo>
                      <a:pt x="190" y="1831"/>
                    </a:lnTo>
                    <a:lnTo>
                      <a:pt x="194" y="1836"/>
                    </a:lnTo>
                    <a:lnTo>
                      <a:pt x="198" y="1842"/>
                    </a:lnTo>
                    <a:lnTo>
                      <a:pt x="200" y="1846"/>
                    </a:lnTo>
                    <a:lnTo>
                      <a:pt x="204" y="1850"/>
                    </a:lnTo>
                    <a:lnTo>
                      <a:pt x="205" y="1853"/>
                    </a:lnTo>
                    <a:lnTo>
                      <a:pt x="207" y="1859"/>
                    </a:lnTo>
                    <a:lnTo>
                      <a:pt x="209" y="1861"/>
                    </a:lnTo>
                    <a:lnTo>
                      <a:pt x="211" y="1863"/>
                    </a:lnTo>
                    <a:lnTo>
                      <a:pt x="213" y="1867"/>
                    </a:lnTo>
                    <a:lnTo>
                      <a:pt x="215" y="1869"/>
                    </a:lnTo>
                    <a:lnTo>
                      <a:pt x="217" y="1870"/>
                    </a:lnTo>
                    <a:lnTo>
                      <a:pt x="219" y="1874"/>
                    </a:lnTo>
                    <a:lnTo>
                      <a:pt x="141" y="2163"/>
                    </a:lnTo>
                    <a:lnTo>
                      <a:pt x="143" y="2165"/>
                    </a:lnTo>
                    <a:lnTo>
                      <a:pt x="146" y="2165"/>
                    </a:lnTo>
                    <a:lnTo>
                      <a:pt x="150" y="2167"/>
                    </a:lnTo>
                    <a:lnTo>
                      <a:pt x="152" y="2167"/>
                    </a:lnTo>
                    <a:lnTo>
                      <a:pt x="154" y="2167"/>
                    </a:lnTo>
                    <a:lnTo>
                      <a:pt x="158" y="2167"/>
                    </a:lnTo>
                    <a:lnTo>
                      <a:pt x="162" y="2171"/>
                    </a:lnTo>
                    <a:lnTo>
                      <a:pt x="166" y="2171"/>
                    </a:lnTo>
                    <a:lnTo>
                      <a:pt x="167" y="2173"/>
                    </a:lnTo>
                    <a:lnTo>
                      <a:pt x="171" y="2173"/>
                    </a:lnTo>
                    <a:lnTo>
                      <a:pt x="175" y="2175"/>
                    </a:lnTo>
                    <a:lnTo>
                      <a:pt x="181" y="2175"/>
                    </a:lnTo>
                    <a:lnTo>
                      <a:pt x="185" y="2175"/>
                    </a:lnTo>
                    <a:lnTo>
                      <a:pt x="188" y="2177"/>
                    </a:lnTo>
                    <a:lnTo>
                      <a:pt x="194" y="2180"/>
                    </a:lnTo>
                    <a:lnTo>
                      <a:pt x="198" y="2180"/>
                    </a:lnTo>
                    <a:lnTo>
                      <a:pt x="204" y="2182"/>
                    </a:lnTo>
                    <a:lnTo>
                      <a:pt x="209" y="2182"/>
                    </a:lnTo>
                    <a:lnTo>
                      <a:pt x="215" y="2184"/>
                    </a:lnTo>
                    <a:lnTo>
                      <a:pt x="219" y="2186"/>
                    </a:lnTo>
                    <a:lnTo>
                      <a:pt x="224" y="2188"/>
                    </a:lnTo>
                    <a:lnTo>
                      <a:pt x="232" y="2188"/>
                    </a:lnTo>
                    <a:lnTo>
                      <a:pt x="238" y="2190"/>
                    </a:lnTo>
                    <a:lnTo>
                      <a:pt x="243" y="2190"/>
                    </a:lnTo>
                    <a:lnTo>
                      <a:pt x="251" y="2192"/>
                    </a:lnTo>
                    <a:lnTo>
                      <a:pt x="257" y="2194"/>
                    </a:lnTo>
                    <a:lnTo>
                      <a:pt x="264" y="2194"/>
                    </a:lnTo>
                    <a:lnTo>
                      <a:pt x="270" y="2196"/>
                    </a:lnTo>
                    <a:lnTo>
                      <a:pt x="276" y="2196"/>
                    </a:lnTo>
                    <a:lnTo>
                      <a:pt x="283" y="2197"/>
                    </a:lnTo>
                    <a:lnTo>
                      <a:pt x="291" y="2199"/>
                    </a:lnTo>
                    <a:lnTo>
                      <a:pt x="297" y="2199"/>
                    </a:lnTo>
                    <a:lnTo>
                      <a:pt x="304" y="2199"/>
                    </a:lnTo>
                    <a:lnTo>
                      <a:pt x="312" y="2199"/>
                    </a:lnTo>
                    <a:lnTo>
                      <a:pt x="320" y="2201"/>
                    </a:lnTo>
                    <a:lnTo>
                      <a:pt x="325" y="2201"/>
                    </a:lnTo>
                    <a:lnTo>
                      <a:pt x="333" y="2201"/>
                    </a:lnTo>
                    <a:lnTo>
                      <a:pt x="341" y="2201"/>
                    </a:lnTo>
                    <a:lnTo>
                      <a:pt x="348" y="2201"/>
                    </a:lnTo>
                    <a:lnTo>
                      <a:pt x="356" y="2201"/>
                    </a:lnTo>
                    <a:lnTo>
                      <a:pt x="363" y="2201"/>
                    </a:lnTo>
                    <a:lnTo>
                      <a:pt x="371" y="2201"/>
                    </a:lnTo>
                    <a:lnTo>
                      <a:pt x="379" y="2201"/>
                    </a:lnTo>
                    <a:lnTo>
                      <a:pt x="386" y="2201"/>
                    </a:lnTo>
                    <a:lnTo>
                      <a:pt x="394" y="2201"/>
                    </a:lnTo>
                    <a:lnTo>
                      <a:pt x="401" y="2199"/>
                    </a:lnTo>
                    <a:lnTo>
                      <a:pt x="409" y="2199"/>
                    </a:lnTo>
                    <a:lnTo>
                      <a:pt x="415" y="2197"/>
                    </a:lnTo>
                    <a:lnTo>
                      <a:pt x="422" y="2196"/>
                    </a:lnTo>
                    <a:lnTo>
                      <a:pt x="432" y="2196"/>
                    </a:lnTo>
                    <a:lnTo>
                      <a:pt x="439" y="2194"/>
                    </a:lnTo>
                    <a:lnTo>
                      <a:pt x="447" y="2192"/>
                    </a:lnTo>
                    <a:lnTo>
                      <a:pt x="455" y="2190"/>
                    </a:lnTo>
                    <a:lnTo>
                      <a:pt x="462" y="2188"/>
                    </a:lnTo>
                    <a:lnTo>
                      <a:pt x="470" y="2188"/>
                    </a:lnTo>
                    <a:lnTo>
                      <a:pt x="476" y="2184"/>
                    </a:lnTo>
                    <a:lnTo>
                      <a:pt x="483" y="2182"/>
                    </a:lnTo>
                    <a:lnTo>
                      <a:pt x="491" y="2180"/>
                    </a:lnTo>
                    <a:lnTo>
                      <a:pt x="498" y="2175"/>
                    </a:lnTo>
                    <a:lnTo>
                      <a:pt x="504" y="2173"/>
                    </a:lnTo>
                    <a:lnTo>
                      <a:pt x="512" y="2169"/>
                    </a:lnTo>
                    <a:lnTo>
                      <a:pt x="517" y="2165"/>
                    </a:lnTo>
                    <a:lnTo>
                      <a:pt x="525" y="2161"/>
                    </a:lnTo>
                    <a:lnTo>
                      <a:pt x="531" y="2158"/>
                    </a:lnTo>
                    <a:lnTo>
                      <a:pt x="536" y="2154"/>
                    </a:lnTo>
                    <a:lnTo>
                      <a:pt x="542" y="2150"/>
                    </a:lnTo>
                    <a:lnTo>
                      <a:pt x="550" y="2146"/>
                    </a:lnTo>
                    <a:lnTo>
                      <a:pt x="555" y="2142"/>
                    </a:lnTo>
                    <a:lnTo>
                      <a:pt x="559" y="2137"/>
                    </a:lnTo>
                    <a:lnTo>
                      <a:pt x="565" y="2133"/>
                    </a:lnTo>
                    <a:lnTo>
                      <a:pt x="571" y="2129"/>
                    </a:lnTo>
                    <a:lnTo>
                      <a:pt x="576" y="2123"/>
                    </a:lnTo>
                    <a:lnTo>
                      <a:pt x="582" y="2120"/>
                    </a:lnTo>
                    <a:lnTo>
                      <a:pt x="588" y="2114"/>
                    </a:lnTo>
                    <a:lnTo>
                      <a:pt x="592" y="2110"/>
                    </a:lnTo>
                    <a:lnTo>
                      <a:pt x="595" y="2106"/>
                    </a:lnTo>
                    <a:lnTo>
                      <a:pt x="601" y="2101"/>
                    </a:lnTo>
                    <a:lnTo>
                      <a:pt x="605" y="2095"/>
                    </a:lnTo>
                    <a:lnTo>
                      <a:pt x="611" y="2091"/>
                    </a:lnTo>
                    <a:lnTo>
                      <a:pt x="614" y="2085"/>
                    </a:lnTo>
                    <a:lnTo>
                      <a:pt x="618" y="2080"/>
                    </a:lnTo>
                    <a:lnTo>
                      <a:pt x="624" y="2076"/>
                    </a:lnTo>
                    <a:lnTo>
                      <a:pt x="628" y="2070"/>
                    </a:lnTo>
                    <a:lnTo>
                      <a:pt x="632" y="2064"/>
                    </a:lnTo>
                    <a:lnTo>
                      <a:pt x="635" y="2059"/>
                    </a:lnTo>
                    <a:lnTo>
                      <a:pt x="637" y="2055"/>
                    </a:lnTo>
                    <a:lnTo>
                      <a:pt x="643" y="2049"/>
                    </a:lnTo>
                    <a:lnTo>
                      <a:pt x="645" y="2043"/>
                    </a:lnTo>
                    <a:lnTo>
                      <a:pt x="649" y="2040"/>
                    </a:lnTo>
                    <a:lnTo>
                      <a:pt x="652" y="2034"/>
                    </a:lnTo>
                    <a:lnTo>
                      <a:pt x="654" y="2030"/>
                    </a:lnTo>
                    <a:lnTo>
                      <a:pt x="658" y="2024"/>
                    </a:lnTo>
                    <a:lnTo>
                      <a:pt x="660" y="2021"/>
                    </a:lnTo>
                    <a:lnTo>
                      <a:pt x="664" y="2015"/>
                    </a:lnTo>
                    <a:lnTo>
                      <a:pt x="666" y="2011"/>
                    </a:lnTo>
                    <a:lnTo>
                      <a:pt x="668" y="2005"/>
                    </a:lnTo>
                    <a:lnTo>
                      <a:pt x="672" y="2002"/>
                    </a:lnTo>
                    <a:lnTo>
                      <a:pt x="673" y="1998"/>
                    </a:lnTo>
                    <a:lnTo>
                      <a:pt x="675" y="1992"/>
                    </a:lnTo>
                    <a:lnTo>
                      <a:pt x="677" y="1986"/>
                    </a:lnTo>
                    <a:lnTo>
                      <a:pt x="679" y="1983"/>
                    </a:lnTo>
                    <a:lnTo>
                      <a:pt x="681" y="1979"/>
                    </a:lnTo>
                    <a:lnTo>
                      <a:pt x="683" y="1975"/>
                    </a:lnTo>
                    <a:lnTo>
                      <a:pt x="685" y="1971"/>
                    </a:lnTo>
                    <a:lnTo>
                      <a:pt x="687" y="1969"/>
                    </a:lnTo>
                    <a:lnTo>
                      <a:pt x="689" y="1964"/>
                    </a:lnTo>
                    <a:lnTo>
                      <a:pt x="691" y="1962"/>
                    </a:lnTo>
                    <a:lnTo>
                      <a:pt x="692" y="1958"/>
                    </a:lnTo>
                    <a:lnTo>
                      <a:pt x="692" y="1954"/>
                    </a:lnTo>
                    <a:lnTo>
                      <a:pt x="692" y="1952"/>
                    </a:lnTo>
                    <a:lnTo>
                      <a:pt x="694" y="1950"/>
                    </a:lnTo>
                    <a:lnTo>
                      <a:pt x="696" y="1945"/>
                    </a:lnTo>
                    <a:lnTo>
                      <a:pt x="698" y="1941"/>
                    </a:lnTo>
                    <a:lnTo>
                      <a:pt x="700" y="1937"/>
                    </a:lnTo>
                    <a:lnTo>
                      <a:pt x="700" y="1935"/>
                    </a:lnTo>
                    <a:lnTo>
                      <a:pt x="700" y="1933"/>
                    </a:lnTo>
                    <a:lnTo>
                      <a:pt x="702" y="1933"/>
                    </a:lnTo>
                    <a:lnTo>
                      <a:pt x="740" y="1943"/>
                    </a:lnTo>
                    <a:lnTo>
                      <a:pt x="740" y="1943"/>
                    </a:lnTo>
                    <a:lnTo>
                      <a:pt x="738" y="1945"/>
                    </a:lnTo>
                    <a:lnTo>
                      <a:pt x="738" y="1947"/>
                    </a:lnTo>
                    <a:lnTo>
                      <a:pt x="738" y="1950"/>
                    </a:lnTo>
                    <a:lnTo>
                      <a:pt x="738" y="1954"/>
                    </a:lnTo>
                    <a:lnTo>
                      <a:pt x="738" y="1958"/>
                    </a:lnTo>
                    <a:lnTo>
                      <a:pt x="736" y="1962"/>
                    </a:lnTo>
                    <a:lnTo>
                      <a:pt x="736" y="1964"/>
                    </a:lnTo>
                    <a:lnTo>
                      <a:pt x="736" y="1967"/>
                    </a:lnTo>
                    <a:lnTo>
                      <a:pt x="736" y="1971"/>
                    </a:lnTo>
                    <a:lnTo>
                      <a:pt x="736" y="1975"/>
                    </a:lnTo>
                    <a:lnTo>
                      <a:pt x="736" y="1979"/>
                    </a:lnTo>
                    <a:lnTo>
                      <a:pt x="736" y="1983"/>
                    </a:lnTo>
                    <a:lnTo>
                      <a:pt x="736" y="1985"/>
                    </a:lnTo>
                    <a:lnTo>
                      <a:pt x="736" y="1990"/>
                    </a:lnTo>
                    <a:lnTo>
                      <a:pt x="736" y="1994"/>
                    </a:lnTo>
                    <a:lnTo>
                      <a:pt x="736" y="1998"/>
                    </a:lnTo>
                    <a:lnTo>
                      <a:pt x="736" y="2004"/>
                    </a:lnTo>
                    <a:lnTo>
                      <a:pt x="736" y="2007"/>
                    </a:lnTo>
                    <a:lnTo>
                      <a:pt x="736" y="2013"/>
                    </a:lnTo>
                    <a:lnTo>
                      <a:pt x="736" y="2015"/>
                    </a:lnTo>
                    <a:lnTo>
                      <a:pt x="736" y="2021"/>
                    </a:lnTo>
                    <a:lnTo>
                      <a:pt x="736" y="2026"/>
                    </a:lnTo>
                    <a:lnTo>
                      <a:pt x="736" y="2030"/>
                    </a:lnTo>
                    <a:lnTo>
                      <a:pt x="736" y="2036"/>
                    </a:lnTo>
                    <a:lnTo>
                      <a:pt x="736" y="2042"/>
                    </a:lnTo>
                    <a:lnTo>
                      <a:pt x="736" y="2047"/>
                    </a:lnTo>
                    <a:lnTo>
                      <a:pt x="738" y="2051"/>
                    </a:lnTo>
                    <a:lnTo>
                      <a:pt x="738" y="2057"/>
                    </a:lnTo>
                    <a:lnTo>
                      <a:pt x="738" y="2062"/>
                    </a:lnTo>
                    <a:lnTo>
                      <a:pt x="740" y="2066"/>
                    </a:lnTo>
                    <a:lnTo>
                      <a:pt x="740" y="2072"/>
                    </a:lnTo>
                    <a:lnTo>
                      <a:pt x="742" y="2078"/>
                    </a:lnTo>
                    <a:lnTo>
                      <a:pt x="744" y="2083"/>
                    </a:lnTo>
                    <a:lnTo>
                      <a:pt x="744" y="2091"/>
                    </a:lnTo>
                    <a:lnTo>
                      <a:pt x="746" y="2095"/>
                    </a:lnTo>
                    <a:lnTo>
                      <a:pt x="748" y="2101"/>
                    </a:lnTo>
                    <a:lnTo>
                      <a:pt x="748" y="2106"/>
                    </a:lnTo>
                    <a:lnTo>
                      <a:pt x="751" y="2110"/>
                    </a:lnTo>
                    <a:lnTo>
                      <a:pt x="753" y="2118"/>
                    </a:lnTo>
                    <a:lnTo>
                      <a:pt x="753" y="2123"/>
                    </a:lnTo>
                    <a:lnTo>
                      <a:pt x="757" y="2129"/>
                    </a:lnTo>
                    <a:lnTo>
                      <a:pt x="759" y="2135"/>
                    </a:lnTo>
                    <a:lnTo>
                      <a:pt x="761" y="2139"/>
                    </a:lnTo>
                    <a:lnTo>
                      <a:pt x="765" y="2144"/>
                    </a:lnTo>
                    <a:lnTo>
                      <a:pt x="767" y="2150"/>
                    </a:lnTo>
                    <a:lnTo>
                      <a:pt x="769" y="2156"/>
                    </a:lnTo>
                    <a:lnTo>
                      <a:pt x="772" y="2159"/>
                    </a:lnTo>
                    <a:lnTo>
                      <a:pt x="776" y="2165"/>
                    </a:lnTo>
                    <a:lnTo>
                      <a:pt x="780" y="2171"/>
                    </a:lnTo>
                    <a:lnTo>
                      <a:pt x="782" y="2175"/>
                    </a:lnTo>
                    <a:lnTo>
                      <a:pt x="786" y="2180"/>
                    </a:lnTo>
                    <a:lnTo>
                      <a:pt x="789" y="2186"/>
                    </a:lnTo>
                    <a:lnTo>
                      <a:pt x="795" y="2190"/>
                    </a:lnTo>
                    <a:lnTo>
                      <a:pt x="799" y="2196"/>
                    </a:lnTo>
                    <a:lnTo>
                      <a:pt x="805" y="2201"/>
                    </a:lnTo>
                    <a:lnTo>
                      <a:pt x="808" y="2205"/>
                    </a:lnTo>
                    <a:lnTo>
                      <a:pt x="814" y="2209"/>
                    </a:lnTo>
                    <a:lnTo>
                      <a:pt x="818" y="2213"/>
                    </a:lnTo>
                    <a:lnTo>
                      <a:pt x="824" y="2216"/>
                    </a:lnTo>
                    <a:lnTo>
                      <a:pt x="828" y="2222"/>
                    </a:lnTo>
                    <a:lnTo>
                      <a:pt x="833" y="2224"/>
                    </a:lnTo>
                    <a:lnTo>
                      <a:pt x="839" y="2228"/>
                    </a:lnTo>
                    <a:lnTo>
                      <a:pt x="845" y="2232"/>
                    </a:lnTo>
                    <a:lnTo>
                      <a:pt x="848" y="2235"/>
                    </a:lnTo>
                    <a:lnTo>
                      <a:pt x="854" y="2239"/>
                    </a:lnTo>
                    <a:lnTo>
                      <a:pt x="858" y="2243"/>
                    </a:lnTo>
                    <a:lnTo>
                      <a:pt x="864" y="2245"/>
                    </a:lnTo>
                    <a:lnTo>
                      <a:pt x="867" y="2249"/>
                    </a:lnTo>
                    <a:lnTo>
                      <a:pt x="873" y="2253"/>
                    </a:lnTo>
                    <a:lnTo>
                      <a:pt x="877" y="2256"/>
                    </a:lnTo>
                    <a:lnTo>
                      <a:pt x="883" y="2258"/>
                    </a:lnTo>
                    <a:lnTo>
                      <a:pt x="890" y="2260"/>
                    </a:lnTo>
                    <a:lnTo>
                      <a:pt x="896" y="2264"/>
                    </a:lnTo>
                    <a:lnTo>
                      <a:pt x="900" y="2266"/>
                    </a:lnTo>
                    <a:lnTo>
                      <a:pt x="904" y="2268"/>
                    </a:lnTo>
                    <a:lnTo>
                      <a:pt x="907" y="2270"/>
                    </a:lnTo>
                    <a:lnTo>
                      <a:pt x="913" y="2273"/>
                    </a:lnTo>
                    <a:lnTo>
                      <a:pt x="919" y="2275"/>
                    </a:lnTo>
                    <a:lnTo>
                      <a:pt x="925" y="2277"/>
                    </a:lnTo>
                    <a:lnTo>
                      <a:pt x="928" y="2279"/>
                    </a:lnTo>
                    <a:lnTo>
                      <a:pt x="934" y="2281"/>
                    </a:lnTo>
                    <a:lnTo>
                      <a:pt x="938" y="2283"/>
                    </a:lnTo>
                    <a:lnTo>
                      <a:pt x="942" y="2285"/>
                    </a:lnTo>
                    <a:lnTo>
                      <a:pt x="947" y="2287"/>
                    </a:lnTo>
                    <a:lnTo>
                      <a:pt x="951" y="2289"/>
                    </a:lnTo>
                    <a:lnTo>
                      <a:pt x="955" y="2289"/>
                    </a:lnTo>
                    <a:lnTo>
                      <a:pt x="961" y="2291"/>
                    </a:lnTo>
                    <a:lnTo>
                      <a:pt x="964" y="2291"/>
                    </a:lnTo>
                    <a:lnTo>
                      <a:pt x="968" y="2294"/>
                    </a:lnTo>
                    <a:lnTo>
                      <a:pt x="972" y="2294"/>
                    </a:lnTo>
                    <a:lnTo>
                      <a:pt x="978" y="2294"/>
                    </a:lnTo>
                    <a:lnTo>
                      <a:pt x="982" y="2296"/>
                    </a:lnTo>
                    <a:lnTo>
                      <a:pt x="985" y="2296"/>
                    </a:lnTo>
                    <a:lnTo>
                      <a:pt x="989" y="2296"/>
                    </a:lnTo>
                    <a:lnTo>
                      <a:pt x="993" y="2298"/>
                    </a:lnTo>
                    <a:lnTo>
                      <a:pt x="997" y="2298"/>
                    </a:lnTo>
                    <a:lnTo>
                      <a:pt x="1001" y="2298"/>
                    </a:lnTo>
                    <a:lnTo>
                      <a:pt x="1004" y="2298"/>
                    </a:lnTo>
                    <a:lnTo>
                      <a:pt x="1008" y="2300"/>
                    </a:lnTo>
                    <a:lnTo>
                      <a:pt x="1010" y="2300"/>
                    </a:lnTo>
                    <a:lnTo>
                      <a:pt x="1014" y="2300"/>
                    </a:lnTo>
                    <a:lnTo>
                      <a:pt x="1016" y="2300"/>
                    </a:lnTo>
                    <a:lnTo>
                      <a:pt x="1020" y="2300"/>
                    </a:lnTo>
                    <a:lnTo>
                      <a:pt x="1022" y="2300"/>
                    </a:lnTo>
                    <a:lnTo>
                      <a:pt x="1025" y="2302"/>
                    </a:lnTo>
                    <a:lnTo>
                      <a:pt x="1029" y="2300"/>
                    </a:lnTo>
                    <a:lnTo>
                      <a:pt x="1035" y="2300"/>
                    </a:lnTo>
                    <a:lnTo>
                      <a:pt x="1039" y="2298"/>
                    </a:lnTo>
                    <a:lnTo>
                      <a:pt x="1042" y="2298"/>
                    </a:lnTo>
                    <a:lnTo>
                      <a:pt x="1044" y="2296"/>
                    </a:lnTo>
                    <a:lnTo>
                      <a:pt x="1048" y="2296"/>
                    </a:lnTo>
                    <a:lnTo>
                      <a:pt x="1048" y="2294"/>
                    </a:lnTo>
                    <a:lnTo>
                      <a:pt x="1050" y="2294"/>
                    </a:lnTo>
                    <a:lnTo>
                      <a:pt x="1246" y="1334"/>
                    </a:lnTo>
                    <a:lnTo>
                      <a:pt x="1246" y="1333"/>
                    </a:lnTo>
                    <a:lnTo>
                      <a:pt x="1248" y="1331"/>
                    </a:lnTo>
                    <a:lnTo>
                      <a:pt x="1250" y="1327"/>
                    </a:lnTo>
                    <a:lnTo>
                      <a:pt x="1252" y="1325"/>
                    </a:lnTo>
                    <a:lnTo>
                      <a:pt x="1252" y="1323"/>
                    </a:lnTo>
                    <a:lnTo>
                      <a:pt x="1254" y="1319"/>
                    </a:lnTo>
                    <a:lnTo>
                      <a:pt x="1256" y="1315"/>
                    </a:lnTo>
                    <a:lnTo>
                      <a:pt x="1259" y="1312"/>
                    </a:lnTo>
                    <a:lnTo>
                      <a:pt x="1259" y="1306"/>
                    </a:lnTo>
                    <a:lnTo>
                      <a:pt x="1263" y="1302"/>
                    </a:lnTo>
                    <a:lnTo>
                      <a:pt x="1265" y="1296"/>
                    </a:lnTo>
                    <a:lnTo>
                      <a:pt x="1269" y="1293"/>
                    </a:lnTo>
                    <a:lnTo>
                      <a:pt x="1271" y="1285"/>
                    </a:lnTo>
                    <a:lnTo>
                      <a:pt x="1275" y="1281"/>
                    </a:lnTo>
                    <a:lnTo>
                      <a:pt x="1276" y="1274"/>
                    </a:lnTo>
                    <a:lnTo>
                      <a:pt x="1280" y="1266"/>
                    </a:lnTo>
                    <a:lnTo>
                      <a:pt x="1284" y="1258"/>
                    </a:lnTo>
                    <a:lnTo>
                      <a:pt x="1288" y="1249"/>
                    </a:lnTo>
                    <a:lnTo>
                      <a:pt x="1290" y="1241"/>
                    </a:lnTo>
                    <a:lnTo>
                      <a:pt x="1294" y="1234"/>
                    </a:lnTo>
                    <a:lnTo>
                      <a:pt x="1297" y="1224"/>
                    </a:lnTo>
                    <a:lnTo>
                      <a:pt x="1301" y="1217"/>
                    </a:lnTo>
                    <a:lnTo>
                      <a:pt x="1305" y="1207"/>
                    </a:lnTo>
                    <a:lnTo>
                      <a:pt x="1309" y="1198"/>
                    </a:lnTo>
                    <a:lnTo>
                      <a:pt x="1313" y="1188"/>
                    </a:lnTo>
                    <a:lnTo>
                      <a:pt x="1316" y="1177"/>
                    </a:lnTo>
                    <a:lnTo>
                      <a:pt x="1320" y="1165"/>
                    </a:lnTo>
                    <a:lnTo>
                      <a:pt x="1324" y="1154"/>
                    </a:lnTo>
                    <a:lnTo>
                      <a:pt x="1330" y="1144"/>
                    </a:lnTo>
                    <a:lnTo>
                      <a:pt x="1334" y="1133"/>
                    </a:lnTo>
                    <a:lnTo>
                      <a:pt x="1337" y="1122"/>
                    </a:lnTo>
                    <a:lnTo>
                      <a:pt x="1339" y="1108"/>
                    </a:lnTo>
                    <a:lnTo>
                      <a:pt x="1345" y="1097"/>
                    </a:lnTo>
                    <a:lnTo>
                      <a:pt x="1349" y="1084"/>
                    </a:lnTo>
                    <a:lnTo>
                      <a:pt x="1353" y="1070"/>
                    </a:lnTo>
                    <a:lnTo>
                      <a:pt x="1354" y="1059"/>
                    </a:lnTo>
                    <a:lnTo>
                      <a:pt x="1358" y="1044"/>
                    </a:lnTo>
                    <a:lnTo>
                      <a:pt x="1362" y="1032"/>
                    </a:lnTo>
                    <a:lnTo>
                      <a:pt x="1366" y="1017"/>
                    </a:lnTo>
                    <a:lnTo>
                      <a:pt x="1370" y="1004"/>
                    </a:lnTo>
                    <a:lnTo>
                      <a:pt x="1372" y="988"/>
                    </a:lnTo>
                    <a:lnTo>
                      <a:pt x="1375" y="975"/>
                    </a:lnTo>
                    <a:lnTo>
                      <a:pt x="1377" y="960"/>
                    </a:lnTo>
                    <a:lnTo>
                      <a:pt x="1381" y="947"/>
                    </a:lnTo>
                    <a:lnTo>
                      <a:pt x="1383" y="931"/>
                    </a:lnTo>
                    <a:lnTo>
                      <a:pt x="1387" y="916"/>
                    </a:lnTo>
                    <a:lnTo>
                      <a:pt x="1389" y="901"/>
                    </a:lnTo>
                    <a:lnTo>
                      <a:pt x="1391" y="886"/>
                    </a:lnTo>
                    <a:lnTo>
                      <a:pt x="1392" y="871"/>
                    </a:lnTo>
                    <a:lnTo>
                      <a:pt x="1394" y="855"/>
                    </a:lnTo>
                    <a:lnTo>
                      <a:pt x="1396" y="838"/>
                    </a:lnTo>
                    <a:lnTo>
                      <a:pt x="1398" y="823"/>
                    </a:lnTo>
                    <a:lnTo>
                      <a:pt x="1398" y="806"/>
                    </a:lnTo>
                    <a:lnTo>
                      <a:pt x="1400" y="791"/>
                    </a:lnTo>
                    <a:lnTo>
                      <a:pt x="1402" y="774"/>
                    </a:lnTo>
                    <a:lnTo>
                      <a:pt x="1402" y="757"/>
                    </a:lnTo>
                    <a:lnTo>
                      <a:pt x="1402" y="741"/>
                    </a:lnTo>
                    <a:lnTo>
                      <a:pt x="1402" y="724"/>
                    </a:lnTo>
                    <a:lnTo>
                      <a:pt x="1402" y="705"/>
                    </a:lnTo>
                    <a:lnTo>
                      <a:pt x="1402" y="690"/>
                    </a:lnTo>
                    <a:lnTo>
                      <a:pt x="1400" y="673"/>
                    </a:lnTo>
                    <a:lnTo>
                      <a:pt x="1400" y="656"/>
                    </a:lnTo>
                    <a:lnTo>
                      <a:pt x="1398" y="654"/>
                    </a:lnTo>
                    <a:lnTo>
                      <a:pt x="1398" y="652"/>
                    </a:lnTo>
                    <a:lnTo>
                      <a:pt x="1398" y="648"/>
                    </a:lnTo>
                    <a:lnTo>
                      <a:pt x="1398" y="644"/>
                    </a:lnTo>
                    <a:lnTo>
                      <a:pt x="1398" y="643"/>
                    </a:lnTo>
                    <a:lnTo>
                      <a:pt x="1398" y="639"/>
                    </a:lnTo>
                    <a:lnTo>
                      <a:pt x="1396" y="637"/>
                    </a:lnTo>
                    <a:lnTo>
                      <a:pt x="1396" y="633"/>
                    </a:lnTo>
                    <a:lnTo>
                      <a:pt x="1396" y="631"/>
                    </a:lnTo>
                    <a:lnTo>
                      <a:pt x="1396" y="627"/>
                    </a:lnTo>
                    <a:lnTo>
                      <a:pt x="1396" y="623"/>
                    </a:lnTo>
                    <a:lnTo>
                      <a:pt x="1394" y="620"/>
                    </a:lnTo>
                    <a:lnTo>
                      <a:pt x="1394" y="618"/>
                    </a:lnTo>
                    <a:lnTo>
                      <a:pt x="1394" y="616"/>
                    </a:lnTo>
                    <a:lnTo>
                      <a:pt x="1392" y="612"/>
                    </a:lnTo>
                    <a:lnTo>
                      <a:pt x="1392" y="610"/>
                    </a:lnTo>
                    <a:lnTo>
                      <a:pt x="1392" y="608"/>
                    </a:lnTo>
                    <a:lnTo>
                      <a:pt x="1391" y="604"/>
                    </a:lnTo>
                    <a:lnTo>
                      <a:pt x="1391" y="603"/>
                    </a:lnTo>
                    <a:lnTo>
                      <a:pt x="1391" y="599"/>
                    </a:lnTo>
                    <a:lnTo>
                      <a:pt x="1389" y="597"/>
                    </a:lnTo>
                    <a:lnTo>
                      <a:pt x="1389" y="593"/>
                    </a:lnTo>
                    <a:lnTo>
                      <a:pt x="1389" y="589"/>
                    </a:lnTo>
                    <a:lnTo>
                      <a:pt x="1389" y="587"/>
                    </a:lnTo>
                    <a:lnTo>
                      <a:pt x="1387" y="585"/>
                    </a:lnTo>
                    <a:lnTo>
                      <a:pt x="1385" y="582"/>
                    </a:lnTo>
                    <a:lnTo>
                      <a:pt x="1385" y="580"/>
                    </a:lnTo>
                    <a:lnTo>
                      <a:pt x="1383" y="578"/>
                    </a:lnTo>
                    <a:lnTo>
                      <a:pt x="1383" y="572"/>
                    </a:lnTo>
                    <a:lnTo>
                      <a:pt x="1381" y="568"/>
                    </a:lnTo>
                    <a:lnTo>
                      <a:pt x="1377" y="563"/>
                    </a:lnTo>
                    <a:lnTo>
                      <a:pt x="1375" y="557"/>
                    </a:lnTo>
                    <a:lnTo>
                      <a:pt x="1373" y="553"/>
                    </a:lnTo>
                    <a:lnTo>
                      <a:pt x="1370" y="547"/>
                    </a:lnTo>
                    <a:lnTo>
                      <a:pt x="1366" y="544"/>
                    </a:lnTo>
                    <a:lnTo>
                      <a:pt x="1364" y="540"/>
                    </a:lnTo>
                    <a:lnTo>
                      <a:pt x="1360" y="536"/>
                    </a:lnTo>
                    <a:lnTo>
                      <a:pt x="1356" y="532"/>
                    </a:lnTo>
                    <a:lnTo>
                      <a:pt x="1353" y="528"/>
                    </a:lnTo>
                    <a:lnTo>
                      <a:pt x="1349" y="525"/>
                    </a:lnTo>
                    <a:lnTo>
                      <a:pt x="1345" y="523"/>
                    </a:lnTo>
                    <a:lnTo>
                      <a:pt x="1339" y="521"/>
                    </a:lnTo>
                    <a:lnTo>
                      <a:pt x="1335" y="517"/>
                    </a:lnTo>
                    <a:lnTo>
                      <a:pt x="1332" y="515"/>
                    </a:lnTo>
                    <a:lnTo>
                      <a:pt x="1326" y="515"/>
                    </a:lnTo>
                    <a:lnTo>
                      <a:pt x="1322" y="513"/>
                    </a:lnTo>
                    <a:lnTo>
                      <a:pt x="1318" y="511"/>
                    </a:lnTo>
                    <a:lnTo>
                      <a:pt x="1316" y="511"/>
                    </a:lnTo>
                    <a:lnTo>
                      <a:pt x="1313" y="511"/>
                    </a:lnTo>
                    <a:lnTo>
                      <a:pt x="1311" y="511"/>
                    </a:lnTo>
                    <a:lnTo>
                      <a:pt x="1309" y="509"/>
                    </a:lnTo>
                    <a:lnTo>
                      <a:pt x="1305" y="509"/>
                    </a:lnTo>
                    <a:lnTo>
                      <a:pt x="1303" y="509"/>
                    </a:lnTo>
                    <a:lnTo>
                      <a:pt x="1301" y="509"/>
                    </a:lnTo>
                    <a:lnTo>
                      <a:pt x="1297" y="509"/>
                    </a:lnTo>
                    <a:lnTo>
                      <a:pt x="1295" y="509"/>
                    </a:lnTo>
                    <a:lnTo>
                      <a:pt x="1292" y="509"/>
                    </a:lnTo>
                    <a:lnTo>
                      <a:pt x="1290" y="509"/>
                    </a:lnTo>
                    <a:lnTo>
                      <a:pt x="1284" y="509"/>
                    </a:lnTo>
                    <a:lnTo>
                      <a:pt x="1280" y="509"/>
                    </a:lnTo>
                    <a:lnTo>
                      <a:pt x="1275" y="509"/>
                    </a:lnTo>
                    <a:lnTo>
                      <a:pt x="1269" y="509"/>
                    </a:lnTo>
                    <a:lnTo>
                      <a:pt x="1265" y="509"/>
                    </a:lnTo>
                    <a:lnTo>
                      <a:pt x="1259" y="509"/>
                    </a:lnTo>
                    <a:lnTo>
                      <a:pt x="1256" y="511"/>
                    </a:lnTo>
                    <a:lnTo>
                      <a:pt x="1252" y="511"/>
                    </a:lnTo>
                    <a:lnTo>
                      <a:pt x="1246" y="515"/>
                    </a:lnTo>
                    <a:lnTo>
                      <a:pt x="1242" y="515"/>
                    </a:lnTo>
                    <a:lnTo>
                      <a:pt x="1238" y="517"/>
                    </a:lnTo>
                    <a:lnTo>
                      <a:pt x="1235" y="521"/>
                    </a:lnTo>
                    <a:lnTo>
                      <a:pt x="1231" y="523"/>
                    </a:lnTo>
                    <a:lnTo>
                      <a:pt x="1229" y="525"/>
                    </a:lnTo>
                    <a:lnTo>
                      <a:pt x="1225" y="527"/>
                    </a:lnTo>
                    <a:lnTo>
                      <a:pt x="1221" y="530"/>
                    </a:lnTo>
                    <a:lnTo>
                      <a:pt x="1219" y="532"/>
                    </a:lnTo>
                    <a:lnTo>
                      <a:pt x="1216" y="538"/>
                    </a:lnTo>
                    <a:lnTo>
                      <a:pt x="1214" y="542"/>
                    </a:lnTo>
                    <a:lnTo>
                      <a:pt x="1212" y="546"/>
                    </a:lnTo>
                    <a:lnTo>
                      <a:pt x="1210" y="549"/>
                    </a:lnTo>
                    <a:lnTo>
                      <a:pt x="1208" y="555"/>
                    </a:lnTo>
                    <a:lnTo>
                      <a:pt x="1208" y="557"/>
                    </a:lnTo>
                    <a:lnTo>
                      <a:pt x="1206" y="559"/>
                    </a:lnTo>
                    <a:lnTo>
                      <a:pt x="1204" y="561"/>
                    </a:lnTo>
                    <a:lnTo>
                      <a:pt x="1204" y="565"/>
                    </a:lnTo>
                    <a:lnTo>
                      <a:pt x="1204" y="566"/>
                    </a:lnTo>
                    <a:lnTo>
                      <a:pt x="1204" y="570"/>
                    </a:lnTo>
                    <a:lnTo>
                      <a:pt x="1204" y="572"/>
                    </a:lnTo>
                    <a:lnTo>
                      <a:pt x="1204" y="576"/>
                    </a:lnTo>
                    <a:lnTo>
                      <a:pt x="1139" y="895"/>
                    </a:lnTo>
                    <a:lnTo>
                      <a:pt x="1136" y="893"/>
                    </a:lnTo>
                    <a:lnTo>
                      <a:pt x="1132" y="892"/>
                    </a:lnTo>
                    <a:lnTo>
                      <a:pt x="1126" y="888"/>
                    </a:lnTo>
                    <a:lnTo>
                      <a:pt x="1122" y="886"/>
                    </a:lnTo>
                    <a:lnTo>
                      <a:pt x="1117" y="884"/>
                    </a:lnTo>
                    <a:lnTo>
                      <a:pt x="1113" y="880"/>
                    </a:lnTo>
                    <a:lnTo>
                      <a:pt x="1107" y="878"/>
                    </a:lnTo>
                    <a:lnTo>
                      <a:pt x="1105" y="876"/>
                    </a:lnTo>
                    <a:lnTo>
                      <a:pt x="1227" y="316"/>
                    </a:lnTo>
                    <a:lnTo>
                      <a:pt x="1227" y="312"/>
                    </a:lnTo>
                    <a:lnTo>
                      <a:pt x="1227" y="308"/>
                    </a:lnTo>
                    <a:lnTo>
                      <a:pt x="1229" y="306"/>
                    </a:lnTo>
                    <a:lnTo>
                      <a:pt x="1229" y="304"/>
                    </a:lnTo>
                    <a:lnTo>
                      <a:pt x="1229" y="300"/>
                    </a:lnTo>
                    <a:lnTo>
                      <a:pt x="1229" y="298"/>
                    </a:lnTo>
                    <a:lnTo>
                      <a:pt x="1229" y="295"/>
                    </a:lnTo>
                    <a:lnTo>
                      <a:pt x="1229" y="293"/>
                    </a:lnTo>
                    <a:lnTo>
                      <a:pt x="1229" y="291"/>
                    </a:lnTo>
                    <a:lnTo>
                      <a:pt x="1229" y="287"/>
                    </a:lnTo>
                    <a:lnTo>
                      <a:pt x="1229" y="285"/>
                    </a:lnTo>
                    <a:lnTo>
                      <a:pt x="1229" y="283"/>
                    </a:lnTo>
                    <a:lnTo>
                      <a:pt x="1229" y="278"/>
                    </a:lnTo>
                    <a:lnTo>
                      <a:pt x="1227" y="272"/>
                    </a:lnTo>
                    <a:lnTo>
                      <a:pt x="1225" y="268"/>
                    </a:lnTo>
                    <a:lnTo>
                      <a:pt x="1225" y="262"/>
                    </a:lnTo>
                    <a:lnTo>
                      <a:pt x="1223" y="257"/>
                    </a:lnTo>
                    <a:lnTo>
                      <a:pt x="1221" y="253"/>
                    </a:lnTo>
                    <a:lnTo>
                      <a:pt x="1219" y="247"/>
                    </a:lnTo>
                    <a:lnTo>
                      <a:pt x="1217" y="243"/>
                    </a:lnTo>
                    <a:lnTo>
                      <a:pt x="1216" y="240"/>
                    </a:lnTo>
                    <a:lnTo>
                      <a:pt x="1214" y="236"/>
                    </a:lnTo>
                    <a:lnTo>
                      <a:pt x="1210" y="232"/>
                    </a:lnTo>
                    <a:lnTo>
                      <a:pt x="1206" y="226"/>
                    </a:lnTo>
                    <a:lnTo>
                      <a:pt x="1202" y="222"/>
                    </a:lnTo>
                    <a:lnTo>
                      <a:pt x="1200" y="219"/>
                    </a:lnTo>
                    <a:lnTo>
                      <a:pt x="1197" y="215"/>
                    </a:lnTo>
                    <a:lnTo>
                      <a:pt x="1193" y="211"/>
                    </a:lnTo>
                    <a:lnTo>
                      <a:pt x="1189" y="207"/>
                    </a:lnTo>
                    <a:lnTo>
                      <a:pt x="1185" y="205"/>
                    </a:lnTo>
                    <a:lnTo>
                      <a:pt x="1179" y="203"/>
                    </a:lnTo>
                    <a:lnTo>
                      <a:pt x="1176" y="200"/>
                    </a:lnTo>
                    <a:lnTo>
                      <a:pt x="1172" y="198"/>
                    </a:lnTo>
                    <a:lnTo>
                      <a:pt x="1166" y="194"/>
                    </a:lnTo>
                    <a:lnTo>
                      <a:pt x="1160" y="192"/>
                    </a:lnTo>
                    <a:lnTo>
                      <a:pt x="1157" y="192"/>
                    </a:lnTo>
                    <a:lnTo>
                      <a:pt x="1151" y="190"/>
                    </a:lnTo>
                    <a:lnTo>
                      <a:pt x="1147" y="190"/>
                    </a:lnTo>
                    <a:lnTo>
                      <a:pt x="1143" y="188"/>
                    </a:lnTo>
                    <a:lnTo>
                      <a:pt x="1141" y="186"/>
                    </a:lnTo>
                    <a:lnTo>
                      <a:pt x="1138" y="186"/>
                    </a:lnTo>
                    <a:lnTo>
                      <a:pt x="1136" y="186"/>
                    </a:lnTo>
                    <a:lnTo>
                      <a:pt x="1134" y="186"/>
                    </a:lnTo>
                    <a:lnTo>
                      <a:pt x="1130" y="186"/>
                    </a:lnTo>
                    <a:lnTo>
                      <a:pt x="1128" y="186"/>
                    </a:lnTo>
                    <a:lnTo>
                      <a:pt x="1124" y="186"/>
                    </a:lnTo>
                    <a:lnTo>
                      <a:pt x="1122" y="186"/>
                    </a:lnTo>
                    <a:lnTo>
                      <a:pt x="1120" y="186"/>
                    </a:lnTo>
                    <a:lnTo>
                      <a:pt x="1117" y="186"/>
                    </a:lnTo>
                    <a:lnTo>
                      <a:pt x="1115" y="186"/>
                    </a:lnTo>
                    <a:lnTo>
                      <a:pt x="1109" y="186"/>
                    </a:lnTo>
                    <a:lnTo>
                      <a:pt x="1105" y="188"/>
                    </a:lnTo>
                    <a:lnTo>
                      <a:pt x="1100" y="188"/>
                    </a:lnTo>
                    <a:lnTo>
                      <a:pt x="1094" y="190"/>
                    </a:lnTo>
                    <a:lnTo>
                      <a:pt x="1090" y="192"/>
                    </a:lnTo>
                    <a:lnTo>
                      <a:pt x="1086" y="192"/>
                    </a:lnTo>
                    <a:lnTo>
                      <a:pt x="1081" y="194"/>
                    </a:lnTo>
                    <a:lnTo>
                      <a:pt x="1077" y="198"/>
                    </a:lnTo>
                    <a:lnTo>
                      <a:pt x="1073" y="200"/>
                    </a:lnTo>
                    <a:lnTo>
                      <a:pt x="1067" y="203"/>
                    </a:lnTo>
                    <a:lnTo>
                      <a:pt x="1063" y="205"/>
                    </a:lnTo>
                    <a:lnTo>
                      <a:pt x="1058" y="207"/>
                    </a:lnTo>
                    <a:lnTo>
                      <a:pt x="1054" y="211"/>
                    </a:lnTo>
                    <a:lnTo>
                      <a:pt x="1050" y="215"/>
                    </a:lnTo>
                    <a:lnTo>
                      <a:pt x="1048" y="219"/>
                    </a:lnTo>
                    <a:lnTo>
                      <a:pt x="1044" y="222"/>
                    </a:lnTo>
                    <a:lnTo>
                      <a:pt x="1041" y="226"/>
                    </a:lnTo>
                    <a:lnTo>
                      <a:pt x="1039" y="232"/>
                    </a:lnTo>
                    <a:lnTo>
                      <a:pt x="1035" y="234"/>
                    </a:lnTo>
                    <a:lnTo>
                      <a:pt x="1033" y="240"/>
                    </a:lnTo>
                    <a:lnTo>
                      <a:pt x="1029" y="243"/>
                    </a:lnTo>
                    <a:lnTo>
                      <a:pt x="1027" y="249"/>
                    </a:lnTo>
                    <a:lnTo>
                      <a:pt x="1025" y="253"/>
                    </a:lnTo>
                    <a:lnTo>
                      <a:pt x="1023" y="259"/>
                    </a:lnTo>
                    <a:lnTo>
                      <a:pt x="1022" y="260"/>
                    </a:lnTo>
                    <a:lnTo>
                      <a:pt x="1022" y="264"/>
                    </a:lnTo>
                    <a:lnTo>
                      <a:pt x="1022" y="266"/>
                    </a:lnTo>
                    <a:lnTo>
                      <a:pt x="1022" y="270"/>
                    </a:lnTo>
                    <a:lnTo>
                      <a:pt x="919" y="730"/>
                    </a:lnTo>
                    <a:lnTo>
                      <a:pt x="915" y="728"/>
                    </a:lnTo>
                    <a:lnTo>
                      <a:pt x="913" y="726"/>
                    </a:lnTo>
                    <a:lnTo>
                      <a:pt x="907" y="724"/>
                    </a:lnTo>
                    <a:lnTo>
                      <a:pt x="905" y="720"/>
                    </a:lnTo>
                    <a:lnTo>
                      <a:pt x="904" y="719"/>
                    </a:lnTo>
                    <a:lnTo>
                      <a:pt x="900" y="717"/>
                    </a:lnTo>
                    <a:lnTo>
                      <a:pt x="896" y="713"/>
                    </a:lnTo>
                    <a:lnTo>
                      <a:pt x="892" y="713"/>
                    </a:lnTo>
                    <a:lnTo>
                      <a:pt x="1022" y="129"/>
                    </a:lnTo>
                    <a:lnTo>
                      <a:pt x="1022" y="125"/>
                    </a:lnTo>
                    <a:lnTo>
                      <a:pt x="1022" y="124"/>
                    </a:lnTo>
                    <a:lnTo>
                      <a:pt x="1022" y="120"/>
                    </a:lnTo>
                    <a:lnTo>
                      <a:pt x="1022" y="118"/>
                    </a:lnTo>
                    <a:lnTo>
                      <a:pt x="1022" y="114"/>
                    </a:lnTo>
                    <a:lnTo>
                      <a:pt x="1022" y="112"/>
                    </a:lnTo>
                    <a:lnTo>
                      <a:pt x="1022" y="110"/>
                    </a:lnTo>
                    <a:lnTo>
                      <a:pt x="1022" y="106"/>
                    </a:lnTo>
                    <a:lnTo>
                      <a:pt x="1022" y="105"/>
                    </a:lnTo>
                    <a:lnTo>
                      <a:pt x="1022" y="103"/>
                    </a:lnTo>
                    <a:lnTo>
                      <a:pt x="1022" y="99"/>
                    </a:lnTo>
                    <a:lnTo>
                      <a:pt x="1022" y="97"/>
                    </a:lnTo>
                    <a:lnTo>
                      <a:pt x="1022" y="91"/>
                    </a:lnTo>
                    <a:lnTo>
                      <a:pt x="1022" y="86"/>
                    </a:lnTo>
                    <a:lnTo>
                      <a:pt x="1020" y="82"/>
                    </a:lnTo>
                    <a:lnTo>
                      <a:pt x="1018" y="76"/>
                    </a:lnTo>
                    <a:lnTo>
                      <a:pt x="1016" y="70"/>
                    </a:lnTo>
                    <a:lnTo>
                      <a:pt x="1014" y="67"/>
                    </a:lnTo>
                    <a:lnTo>
                      <a:pt x="1012" y="61"/>
                    </a:lnTo>
                    <a:lnTo>
                      <a:pt x="1010" y="57"/>
                    </a:lnTo>
                    <a:lnTo>
                      <a:pt x="1008" y="53"/>
                    </a:lnTo>
                    <a:lnTo>
                      <a:pt x="1006" y="48"/>
                    </a:lnTo>
                    <a:lnTo>
                      <a:pt x="1004" y="44"/>
                    </a:lnTo>
                    <a:lnTo>
                      <a:pt x="1001" y="40"/>
                    </a:lnTo>
                    <a:lnTo>
                      <a:pt x="997" y="36"/>
                    </a:lnTo>
                    <a:lnTo>
                      <a:pt x="993" y="32"/>
                    </a:lnTo>
                    <a:lnTo>
                      <a:pt x="991" y="29"/>
                    </a:lnTo>
                    <a:lnTo>
                      <a:pt x="985" y="25"/>
                    </a:lnTo>
                    <a:lnTo>
                      <a:pt x="983" y="23"/>
                    </a:lnTo>
                    <a:lnTo>
                      <a:pt x="978" y="19"/>
                    </a:lnTo>
                    <a:lnTo>
                      <a:pt x="972" y="17"/>
                    </a:lnTo>
                    <a:lnTo>
                      <a:pt x="968" y="13"/>
                    </a:lnTo>
                    <a:lnTo>
                      <a:pt x="964" y="11"/>
                    </a:lnTo>
                    <a:lnTo>
                      <a:pt x="961" y="10"/>
                    </a:lnTo>
                    <a:lnTo>
                      <a:pt x="955" y="6"/>
                    </a:lnTo>
                    <a:lnTo>
                      <a:pt x="949" y="6"/>
                    </a:lnTo>
                    <a:lnTo>
                      <a:pt x="944" y="4"/>
                    </a:lnTo>
                    <a:lnTo>
                      <a:pt x="940" y="4"/>
                    </a:lnTo>
                    <a:lnTo>
                      <a:pt x="936" y="2"/>
                    </a:lnTo>
                    <a:lnTo>
                      <a:pt x="934" y="2"/>
                    </a:lnTo>
                    <a:lnTo>
                      <a:pt x="932" y="0"/>
                    </a:lnTo>
                    <a:lnTo>
                      <a:pt x="928" y="0"/>
                    </a:lnTo>
                    <a:lnTo>
                      <a:pt x="926" y="0"/>
                    </a:lnTo>
                    <a:lnTo>
                      <a:pt x="925" y="0"/>
                    </a:lnTo>
                    <a:lnTo>
                      <a:pt x="921" y="0"/>
                    </a:lnTo>
                    <a:lnTo>
                      <a:pt x="919" y="0"/>
                    </a:lnTo>
                    <a:lnTo>
                      <a:pt x="915" y="0"/>
                    </a:lnTo>
                    <a:lnTo>
                      <a:pt x="913" y="0"/>
                    </a:lnTo>
                    <a:lnTo>
                      <a:pt x="911" y="0"/>
                    </a:lnTo>
                    <a:lnTo>
                      <a:pt x="907" y="0"/>
                    </a:lnTo>
                    <a:lnTo>
                      <a:pt x="904" y="0"/>
                    </a:lnTo>
                    <a:lnTo>
                      <a:pt x="898" y="2"/>
                    </a:lnTo>
                    <a:lnTo>
                      <a:pt x="896" y="2"/>
                    </a:lnTo>
                    <a:lnTo>
                      <a:pt x="892" y="2"/>
                    </a:lnTo>
                    <a:lnTo>
                      <a:pt x="890" y="2"/>
                    </a:lnTo>
                    <a:lnTo>
                      <a:pt x="888" y="4"/>
                    </a:lnTo>
                    <a:lnTo>
                      <a:pt x="881" y="4"/>
                    </a:lnTo>
                    <a:lnTo>
                      <a:pt x="877" y="6"/>
                    </a:lnTo>
                    <a:lnTo>
                      <a:pt x="873" y="10"/>
                    </a:lnTo>
                    <a:lnTo>
                      <a:pt x="867" y="11"/>
                    </a:lnTo>
                    <a:lnTo>
                      <a:pt x="864" y="15"/>
                    </a:lnTo>
                    <a:lnTo>
                      <a:pt x="860" y="17"/>
                    </a:lnTo>
                    <a:lnTo>
                      <a:pt x="854" y="19"/>
                    </a:lnTo>
                    <a:lnTo>
                      <a:pt x="850" y="23"/>
                    </a:lnTo>
                    <a:lnTo>
                      <a:pt x="847" y="25"/>
                    </a:lnTo>
                    <a:lnTo>
                      <a:pt x="843" y="29"/>
                    </a:lnTo>
                    <a:lnTo>
                      <a:pt x="839" y="32"/>
                    </a:lnTo>
                    <a:lnTo>
                      <a:pt x="835" y="36"/>
                    </a:lnTo>
                    <a:lnTo>
                      <a:pt x="833" y="40"/>
                    </a:lnTo>
                    <a:lnTo>
                      <a:pt x="831" y="44"/>
                    </a:lnTo>
                    <a:lnTo>
                      <a:pt x="828" y="48"/>
                    </a:lnTo>
                    <a:lnTo>
                      <a:pt x="824" y="53"/>
                    </a:lnTo>
                    <a:lnTo>
                      <a:pt x="822" y="57"/>
                    </a:lnTo>
                    <a:lnTo>
                      <a:pt x="820" y="61"/>
                    </a:lnTo>
                    <a:lnTo>
                      <a:pt x="818" y="67"/>
                    </a:lnTo>
                    <a:lnTo>
                      <a:pt x="816" y="70"/>
                    </a:lnTo>
                    <a:lnTo>
                      <a:pt x="816" y="74"/>
                    </a:lnTo>
                    <a:lnTo>
                      <a:pt x="814" y="76"/>
                    </a:lnTo>
                    <a:lnTo>
                      <a:pt x="812" y="82"/>
                    </a:lnTo>
                    <a:lnTo>
                      <a:pt x="812" y="84"/>
                    </a:lnTo>
                    <a:lnTo>
                      <a:pt x="687" y="663"/>
                    </a:lnTo>
                    <a:lnTo>
                      <a:pt x="681" y="663"/>
                    </a:lnTo>
                    <a:lnTo>
                      <a:pt x="677" y="663"/>
                    </a:lnTo>
                    <a:lnTo>
                      <a:pt x="673" y="663"/>
                    </a:lnTo>
                    <a:lnTo>
                      <a:pt x="670" y="663"/>
                    </a:lnTo>
                    <a:lnTo>
                      <a:pt x="666" y="663"/>
                    </a:lnTo>
                    <a:lnTo>
                      <a:pt x="660" y="665"/>
                    </a:lnTo>
                    <a:lnTo>
                      <a:pt x="656" y="665"/>
                    </a:lnTo>
                    <a:lnTo>
                      <a:pt x="652" y="667"/>
                    </a:lnTo>
                    <a:lnTo>
                      <a:pt x="753" y="213"/>
                    </a:lnTo>
                    <a:lnTo>
                      <a:pt x="753" y="209"/>
                    </a:lnTo>
                    <a:lnTo>
                      <a:pt x="753" y="207"/>
                    </a:lnTo>
                    <a:lnTo>
                      <a:pt x="753" y="203"/>
                    </a:lnTo>
                    <a:lnTo>
                      <a:pt x="753" y="201"/>
                    </a:lnTo>
                    <a:lnTo>
                      <a:pt x="753" y="198"/>
                    </a:lnTo>
                    <a:lnTo>
                      <a:pt x="753" y="196"/>
                    </a:lnTo>
                    <a:lnTo>
                      <a:pt x="753" y="192"/>
                    </a:lnTo>
                    <a:lnTo>
                      <a:pt x="753" y="190"/>
                    </a:lnTo>
                    <a:lnTo>
                      <a:pt x="753" y="188"/>
                    </a:lnTo>
                    <a:lnTo>
                      <a:pt x="753" y="184"/>
                    </a:lnTo>
                    <a:lnTo>
                      <a:pt x="753" y="182"/>
                    </a:lnTo>
                    <a:lnTo>
                      <a:pt x="753" y="181"/>
                    </a:lnTo>
                    <a:lnTo>
                      <a:pt x="753" y="175"/>
                    </a:lnTo>
                    <a:lnTo>
                      <a:pt x="753" y="169"/>
                    </a:lnTo>
                    <a:lnTo>
                      <a:pt x="751" y="167"/>
                    </a:lnTo>
                    <a:lnTo>
                      <a:pt x="751" y="163"/>
                    </a:lnTo>
                    <a:lnTo>
                      <a:pt x="751" y="162"/>
                    </a:lnTo>
                    <a:lnTo>
                      <a:pt x="750" y="160"/>
                    </a:lnTo>
                    <a:lnTo>
                      <a:pt x="748" y="154"/>
                    </a:lnTo>
                    <a:lnTo>
                      <a:pt x="746" y="148"/>
                    </a:lnTo>
                    <a:lnTo>
                      <a:pt x="744" y="144"/>
                    </a:lnTo>
                    <a:lnTo>
                      <a:pt x="742" y="141"/>
                    </a:lnTo>
                    <a:lnTo>
                      <a:pt x="740" y="135"/>
                    </a:lnTo>
                    <a:lnTo>
                      <a:pt x="738" y="131"/>
                    </a:lnTo>
                    <a:lnTo>
                      <a:pt x="734" y="127"/>
                    </a:lnTo>
                    <a:lnTo>
                      <a:pt x="730" y="124"/>
                    </a:lnTo>
                    <a:lnTo>
                      <a:pt x="727" y="120"/>
                    </a:lnTo>
                    <a:lnTo>
                      <a:pt x="725" y="116"/>
                    </a:lnTo>
                    <a:lnTo>
                      <a:pt x="721" y="112"/>
                    </a:lnTo>
                    <a:lnTo>
                      <a:pt x="717" y="108"/>
                    </a:lnTo>
                    <a:lnTo>
                      <a:pt x="713" y="105"/>
                    </a:lnTo>
                    <a:lnTo>
                      <a:pt x="710" y="103"/>
                    </a:lnTo>
                    <a:lnTo>
                      <a:pt x="704" y="99"/>
                    </a:lnTo>
                    <a:lnTo>
                      <a:pt x="700" y="97"/>
                    </a:lnTo>
                    <a:lnTo>
                      <a:pt x="694" y="95"/>
                    </a:lnTo>
                    <a:lnTo>
                      <a:pt x="691" y="91"/>
                    </a:lnTo>
                    <a:lnTo>
                      <a:pt x="685" y="89"/>
                    </a:lnTo>
                    <a:lnTo>
                      <a:pt x="681" y="87"/>
                    </a:lnTo>
                    <a:lnTo>
                      <a:pt x="675" y="86"/>
                    </a:lnTo>
                    <a:lnTo>
                      <a:pt x="672" y="86"/>
                    </a:lnTo>
                    <a:lnTo>
                      <a:pt x="668" y="84"/>
                    </a:lnTo>
                    <a:lnTo>
                      <a:pt x="666" y="84"/>
                    </a:lnTo>
                    <a:lnTo>
                      <a:pt x="664" y="84"/>
                    </a:lnTo>
                    <a:lnTo>
                      <a:pt x="660" y="84"/>
                    </a:lnTo>
                    <a:lnTo>
                      <a:pt x="658" y="84"/>
                    </a:lnTo>
                    <a:lnTo>
                      <a:pt x="654" y="84"/>
                    </a:lnTo>
                    <a:lnTo>
                      <a:pt x="652" y="84"/>
                    </a:lnTo>
                    <a:lnTo>
                      <a:pt x="651" y="84"/>
                    </a:lnTo>
                    <a:lnTo>
                      <a:pt x="647" y="84"/>
                    </a:lnTo>
                    <a:lnTo>
                      <a:pt x="645" y="84"/>
                    </a:lnTo>
                    <a:lnTo>
                      <a:pt x="643" y="84"/>
                    </a:lnTo>
                    <a:lnTo>
                      <a:pt x="639" y="84"/>
                    </a:lnTo>
                    <a:lnTo>
                      <a:pt x="635" y="84"/>
                    </a:lnTo>
                    <a:lnTo>
                      <a:pt x="630" y="84"/>
                    </a:lnTo>
                    <a:lnTo>
                      <a:pt x="628" y="84"/>
                    </a:lnTo>
                    <a:lnTo>
                      <a:pt x="624" y="86"/>
                    </a:lnTo>
                    <a:lnTo>
                      <a:pt x="622" y="86"/>
                    </a:lnTo>
                    <a:lnTo>
                      <a:pt x="618" y="86"/>
                    </a:lnTo>
                    <a:lnTo>
                      <a:pt x="614" y="87"/>
                    </a:lnTo>
                    <a:lnTo>
                      <a:pt x="609" y="89"/>
                    </a:lnTo>
                    <a:lnTo>
                      <a:pt x="603" y="91"/>
                    </a:lnTo>
                    <a:lnTo>
                      <a:pt x="599" y="95"/>
                    </a:lnTo>
                    <a:lnTo>
                      <a:pt x="595" y="97"/>
                    </a:lnTo>
                    <a:lnTo>
                      <a:pt x="592" y="99"/>
                    </a:lnTo>
                    <a:lnTo>
                      <a:pt x="586" y="103"/>
                    </a:lnTo>
                    <a:lnTo>
                      <a:pt x="582" y="105"/>
                    </a:lnTo>
                    <a:lnTo>
                      <a:pt x="578" y="108"/>
                    </a:lnTo>
                    <a:lnTo>
                      <a:pt x="574" y="112"/>
                    </a:lnTo>
                    <a:lnTo>
                      <a:pt x="571" y="116"/>
                    </a:lnTo>
                    <a:lnTo>
                      <a:pt x="567" y="120"/>
                    </a:lnTo>
                    <a:lnTo>
                      <a:pt x="565" y="124"/>
                    </a:lnTo>
                    <a:lnTo>
                      <a:pt x="563" y="127"/>
                    </a:lnTo>
                    <a:lnTo>
                      <a:pt x="559" y="131"/>
                    </a:lnTo>
                    <a:lnTo>
                      <a:pt x="555" y="135"/>
                    </a:lnTo>
                    <a:lnTo>
                      <a:pt x="554" y="141"/>
                    </a:lnTo>
                    <a:lnTo>
                      <a:pt x="552" y="146"/>
                    </a:lnTo>
                    <a:lnTo>
                      <a:pt x="550" y="150"/>
                    </a:lnTo>
                    <a:lnTo>
                      <a:pt x="548" y="156"/>
                    </a:lnTo>
                    <a:lnTo>
                      <a:pt x="546" y="158"/>
                    </a:lnTo>
                    <a:lnTo>
                      <a:pt x="546" y="160"/>
                    </a:lnTo>
                    <a:lnTo>
                      <a:pt x="544" y="163"/>
                    </a:lnTo>
                    <a:lnTo>
                      <a:pt x="544" y="167"/>
                    </a:lnTo>
                    <a:lnTo>
                      <a:pt x="361" y="1127"/>
                    </a:lnTo>
                    <a:lnTo>
                      <a:pt x="361" y="1127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Rectangle 250"/>
              <p:cNvSpPr/>
              <p:nvPr/>
            </p:nvSpPr>
            <p:spPr>
              <a:xfrm flipV="1" rot="37200">
                <a:off x="5005440" y="3541680"/>
                <a:ext cx="85320" cy="442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33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76" name="Group 251"/>
          <p:cNvGrpSpPr/>
          <p:nvPr/>
        </p:nvGrpSpPr>
        <p:grpSpPr>
          <a:xfrm>
            <a:off x="3748320" y="1536840"/>
            <a:ext cx="983520" cy="1946880"/>
            <a:chOff x="3748320" y="1536840"/>
            <a:chExt cx="983520" cy="1946880"/>
          </a:xfrm>
        </p:grpSpPr>
        <p:grpSp>
          <p:nvGrpSpPr>
            <p:cNvPr id="3577" name="Group 252"/>
            <p:cNvGrpSpPr/>
            <p:nvPr/>
          </p:nvGrpSpPr>
          <p:grpSpPr>
            <a:xfrm>
              <a:off x="3828960" y="1536840"/>
              <a:ext cx="902880" cy="1008000"/>
              <a:chOff x="3828960" y="1536840"/>
              <a:chExt cx="902880" cy="1008000"/>
            </a:xfrm>
          </p:grpSpPr>
          <p:grpSp>
            <p:nvGrpSpPr>
              <p:cNvPr id="3578" name=""/>
              <p:cNvGrpSpPr/>
              <p:nvPr/>
            </p:nvGrpSpPr>
            <p:grpSpPr>
              <a:xfrm>
                <a:off x="4112640" y="1778040"/>
                <a:ext cx="283680" cy="155520"/>
                <a:chOff x="4112640" y="1778040"/>
                <a:chExt cx="283680" cy="155520"/>
              </a:xfrm>
            </p:grpSpPr>
            <p:sp>
              <p:nvSpPr>
                <p:cNvPr id="3579" name="Line 253"/>
                <p:cNvSpPr/>
                <p:nvPr/>
              </p:nvSpPr>
              <p:spPr>
                <a:xfrm>
                  <a:off x="4112640" y="1778040"/>
                  <a:ext cx="283680" cy="155520"/>
                </a:xfrm>
                <a:prstGeom prst="line">
                  <a:avLst/>
                </a:prstGeom>
                <a:ln w="64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0" name=""/>
                <p:cNvSpPr txBox="1"/>
                <p:nvPr/>
              </p:nvSpPr>
              <p:spPr>
                <a:xfrm>
                  <a:off x="4112640" y="1778040"/>
                  <a:ext cx="283680" cy="15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1" name="Group 254"/>
              <p:cNvGrpSpPr/>
              <p:nvPr/>
            </p:nvGrpSpPr>
            <p:grpSpPr>
              <a:xfrm>
                <a:off x="3837600" y="1671480"/>
                <a:ext cx="894240" cy="873360"/>
                <a:chOff x="3837600" y="1671480"/>
                <a:chExt cx="894240" cy="873360"/>
              </a:xfrm>
            </p:grpSpPr>
            <p:sp>
              <p:nvSpPr>
                <p:cNvPr id="3582" name="AutoShape 255"/>
                <p:cNvSpPr/>
                <p:nvPr/>
              </p:nvSpPr>
              <p:spPr>
                <a:xfrm rot="21102000">
                  <a:off x="4291200" y="1955160"/>
                  <a:ext cx="405360" cy="516600"/>
                </a:xfrm>
                <a:custGeom>
                  <a:avLst/>
                  <a:gdLst>
                    <a:gd name="textAreaLeft" fmla="*/ 0 w 405360"/>
                    <a:gd name="textAreaRight" fmla="*/ 146160 w 405360"/>
                    <a:gd name="textAreaTop" fmla="*/ 13320 h 516600"/>
                    <a:gd name="textAreaBottom" fmla="*/ 503280 h 516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1260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3" name="AutoShape 256"/>
                <p:cNvSpPr/>
                <p:nvPr/>
              </p:nvSpPr>
              <p:spPr>
                <a:xfrm rot="21225600">
                  <a:off x="4007160" y="1995480"/>
                  <a:ext cx="446040" cy="526680"/>
                </a:xfrm>
                <a:custGeom>
                  <a:avLst/>
                  <a:gdLst>
                    <a:gd name="textAreaLeft" fmla="*/ 21600 w 446040"/>
                    <a:gd name="textAreaRight" fmla="*/ 424440 w 446040"/>
                    <a:gd name="textAreaTop" fmla="*/ 21600 h 526680"/>
                    <a:gd name="textAreaBottom" fmla="*/ 505080 h 526680"/>
                  </a:gdLst>
                  <a:ahLst/>
                  <a:rect l="textAreaLeft" t="textAreaTop" r="textAreaRight" b="textAreaBottom"/>
                  <a:pathLst>
                    <a:path w="21600" h="25502">
                      <a:moveTo>
                        <a:pt x="3600" y="0"/>
                      </a:moveTo>
                      <a:arcTo wR="3600" hR="3600" stAng="16200000" swAng="-5400000"/>
                      <a:lnTo>
                        <a:pt x="0" y="21902"/>
                      </a:lnTo>
                      <a:arcTo wR="3600" hR="3600" stAng="10800000" swAng="-5400000"/>
                      <a:lnTo>
                        <a:pt x="18000" y="2550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37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4" name="AutoShape 257"/>
                <p:cNvSpPr/>
                <p:nvPr/>
              </p:nvSpPr>
              <p:spPr>
                <a:xfrm rot="20050800">
                  <a:off x="3885840" y="1752480"/>
                  <a:ext cx="446040" cy="3243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20448000"/>
                </a:gra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5" name="AutoShape 258"/>
                <p:cNvSpPr/>
                <p:nvPr/>
              </p:nvSpPr>
              <p:spPr>
                <a:xfrm rot="21417600">
                  <a:off x="4191480" y="2176200"/>
                  <a:ext cx="99720" cy="143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9725" y="3202"/>
                        <a:pt x="17850" y="5080"/>
                        <a:pt x="17850" y="10800"/>
                      </a:cubicBezTo>
                      <a:cubicBezTo>
                        <a:pt x="17850" y="16520"/>
                        <a:pt x="19725" y="1839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18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86" name="AutoShape 259"/>
              <p:cNvSpPr/>
              <p:nvPr/>
            </p:nvSpPr>
            <p:spPr>
              <a:xfrm rot="19131600">
                <a:off x="3917160" y="1523520"/>
                <a:ext cx="70920" cy="295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21366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7" name="Group 260"/>
            <p:cNvGrpSpPr/>
            <p:nvPr/>
          </p:nvGrpSpPr>
          <p:grpSpPr>
            <a:xfrm>
              <a:off x="3748320" y="2440080"/>
              <a:ext cx="798840" cy="1043640"/>
              <a:chOff x="3748320" y="2440080"/>
              <a:chExt cx="798840" cy="1043640"/>
            </a:xfrm>
          </p:grpSpPr>
          <p:grpSp>
            <p:nvGrpSpPr>
              <p:cNvPr id="3588" name=""/>
              <p:cNvGrpSpPr/>
              <p:nvPr/>
            </p:nvGrpSpPr>
            <p:grpSpPr>
              <a:xfrm>
                <a:off x="3981240" y="3008880"/>
                <a:ext cx="305280" cy="199440"/>
                <a:chOff x="3981240" y="3008880"/>
                <a:chExt cx="305280" cy="199440"/>
              </a:xfrm>
            </p:grpSpPr>
            <p:sp>
              <p:nvSpPr>
                <p:cNvPr id="3589" name="Line 261"/>
                <p:cNvSpPr/>
                <p:nvPr/>
              </p:nvSpPr>
              <p:spPr>
                <a:xfrm flipH="1" flipV="1">
                  <a:off x="4006800" y="3008880"/>
                  <a:ext cx="254520" cy="199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0" name=""/>
                <p:cNvSpPr txBox="1"/>
                <p:nvPr/>
              </p:nvSpPr>
              <p:spPr>
                <a:xfrm rot="11358600">
                  <a:off x="3992040" y="3030840"/>
                  <a:ext cx="283680" cy="15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1" name="Group 262"/>
              <p:cNvGrpSpPr/>
              <p:nvPr/>
            </p:nvGrpSpPr>
            <p:grpSpPr>
              <a:xfrm>
                <a:off x="3748320" y="2440080"/>
                <a:ext cx="798840" cy="852840"/>
                <a:chOff x="3748320" y="2440080"/>
                <a:chExt cx="798840" cy="852840"/>
              </a:xfrm>
            </p:grpSpPr>
            <p:sp>
              <p:nvSpPr>
                <p:cNvPr id="3592" name="AutoShape 263"/>
                <p:cNvSpPr/>
                <p:nvPr/>
              </p:nvSpPr>
              <p:spPr>
                <a:xfrm rot="10860600">
                  <a:off x="3752640" y="2458440"/>
                  <a:ext cx="405360" cy="516600"/>
                </a:xfrm>
                <a:custGeom>
                  <a:avLst/>
                  <a:gdLst>
                    <a:gd name="textAreaLeft" fmla="*/ 0 w 405360"/>
                    <a:gd name="textAreaRight" fmla="*/ 146160 w 405360"/>
                    <a:gd name="textAreaTop" fmla="*/ 13320 h 516600"/>
                    <a:gd name="textAreaBottom" fmla="*/ 503280 h 516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3" name="AutoShape 264"/>
                <p:cNvSpPr/>
                <p:nvPr/>
              </p:nvSpPr>
              <p:spPr>
                <a:xfrm rot="10984200">
                  <a:off x="3999960" y="2451240"/>
                  <a:ext cx="446040" cy="526680"/>
                </a:xfrm>
                <a:custGeom>
                  <a:avLst/>
                  <a:gdLst>
                    <a:gd name="textAreaLeft" fmla="*/ 21600 w 446040"/>
                    <a:gd name="textAreaRight" fmla="*/ 424440 w 446040"/>
                    <a:gd name="textAreaTop" fmla="*/ 21600 h 526680"/>
                    <a:gd name="textAreaBottom" fmla="*/ 505080 h 526680"/>
                  </a:gdLst>
                  <a:ahLst/>
                  <a:rect l="textAreaLeft" t="textAreaTop" r="textAreaRight" b="textAreaBottom"/>
                  <a:pathLst>
                    <a:path w="21600" h="25502">
                      <a:moveTo>
                        <a:pt x="3600" y="0"/>
                      </a:moveTo>
                      <a:arcTo wR="3600" hR="3600" stAng="16200000" swAng="-5400000"/>
                      <a:lnTo>
                        <a:pt x="0" y="21902"/>
                      </a:lnTo>
                      <a:arcTo wR="3600" hR="3600" stAng="10800000" swAng="-5400000"/>
                      <a:lnTo>
                        <a:pt x="18000" y="2550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4" name="AutoShape 265"/>
                <p:cNvSpPr/>
                <p:nvPr/>
              </p:nvSpPr>
              <p:spPr>
                <a:xfrm rot="9809400">
                  <a:off x="4064040" y="2911680"/>
                  <a:ext cx="446040" cy="324360"/>
                </a:xfrm>
                <a:prstGeom prst="triangle">
                  <a:avLst>
                    <a:gd name="adj" fmla="val 5000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5" name="AutoShape 266"/>
                <p:cNvSpPr/>
                <p:nvPr/>
              </p:nvSpPr>
              <p:spPr>
                <a:xfrm rot="11176200">
                  <a:off x="4160160" y="2652120"/>
                  <a:ext cx="99720" cy="143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9725" y="3202"/>
                        <a:pt x="17850" y="5080"/>
                        <a:pt x="17850" y="10800"/>
                      </a:cubicBezTo>
                      <a:cubicBezTo>
                        <a:pt x="17850" y="16520"/>
                        <a:pt x="19725" y="1839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96" name="AutoShape 267"/>
              <p:cNvSpPr/>
              <p:nvPr/>
            </p:nvSpPr>
            <p:spPr>
              <a:xfrm rot="8890200">
                <a:off x="4366440" y="3191760"/>
                <a:ext cx="70920" cy="295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97" name="Group 268"/>
          <p:cNvGrpSpPr/>
          <p:nvPr/>
        </p:nvGrpSpPr>
        <p:grpSpPr>
          <a:xfrm>
            <a:off x="4675680" y="1951200"/>
            <a:ext cx="774360" cy="1048680"/>
            <a:chOff x="4675680" y="1951200"/>
            <a:chExt cx="774360" cy="1048680"/>
          </a:xfrm>
        </p:grpSpPr>
        <p:grpSp>
          <p:nvGrpSpPr>
            <p:cNvPr id="3598" name="Group 269"/>
            <p:cNvGrpSpPr/>
            <p:nvPr/>
          </p:nvGrpSpPr>
          <p:grpSpPr>
            <a:xfrm>
              <a:off x="4728600" y="1951200"/>
              <a:ext cx="713880" cy="655200"/>
              <a:chOff x="4728600" y="1951200"/>
              <a:chExt cx="713880" cy="655200"/>
            </a:xfrm>
          </p:grpSpPr>
          <p:sp>
            <p:nvSpPr>
              <p:cNvPr id="3599" name="AutoShape 270"/>
              <p:cNvSpPr/>
              <p:nvPr/>
            </p:nvSpPr>
            <p:spPr>
              <a:xfrm rot="1125600">
                <a:off x="4799880" y="1980720"/>
                <a:ext cx="266040" cy="487800"/>
              </a:xfrm>
              <a:custGeom>
                <a:avLst/>
                <a:gdLst>
                  <a:gd name="textAreaLeft" fmla="*/ 169920 w 266040"/>
                  <a:gd name="textAreaRight" fmla="*/ 266400 w 266040"/>
                  <a:gd name="textAreaTop" fmla="*/ 12600 h 487800"/>
                  <a:gd name="textAreaBottom" fmla="*/ 475200 h 48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899"/>
                      <a:pt x="10800" y="1798"/>
                    </a:cubicBezTo>
                    <a:lnTo>
                      <a:pt x="10800" y="9002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699"/>
                      <a:pt x="10800" y="12598"/>
                    </a:cubicBezTo>
                    <a:lnTo>
                      <a:pt x="10800" y="19802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0" name="Group 271"/>
              <p:cNvGrpSpPr/>
              <p:nvPr/>
            </p:nvGrpSpPr>
            <p:grpSpPr>
              <a:xfrm>
                <a:off x="5077440" y="2189520"/>
                <a:ext cx="365040" cy="416880"/>
                <a:chOff x="5077440" y="2189520"/>
                <a:chExt cx="365040" cy="416880"/>
              </a:xfrm>
            </p:grpSpPr>
            <p:sp>
              <p:nvSpPr>
                <p:cNvPr id="3601" name="AutoShape 272"/>
                <p:cNvSpPr/>
                <p:nvPr/>
              </p:nvSpPr>
              <p:spPr>
                <a:xfrm flipH="1" rot="7923000">
                  <a:off x="5108040" y="2263680"/>
                  <a:ext cx="295560" cy="21492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6948000"/>
                </a:gra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2" name="AutoShape 273"/>
                <p:cNvSpPr/>
                <p:nvPr/>
              </p:nvSpPr>
              <p:spPr>
                <a:xfrm flipH="1" rot="8842200">
                  <a:off x="5346360" y="2413800"/>
                  <a:ext cx="46800" cy="195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21366000"/>
                </a:gra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03" name="Oval 274"/>
              <p:cNvSpPr/>
              <p:nvPr/>
            </p:nvSpPr>
            <p:spPr>
              <a:xfrm rot="1507800">
                <a:off x="4948920" y="2025000"/>
                <a:ext cx="326880" cy="53208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ffffff"/>
                  </a:gs>
                </a:gsLst>
                <a:lin ang="2009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AutoShape 275"/>
              <p:cNvSpPr/>
              <p:nvPr/>
            </p:nvSpPr>
            <p:spPr>
              <a:xfrm flipH="1" rot="705000">
                <a:off x="5107320" y="2189520"/>
                <a:ext cx="65520" cy="133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725" y="3202"/>
                      <a:pt x="17850" y="5080"/>
                      <a:pt x="17850" y="10800"/>
                    </a:cubicBezTo>
                    <a:cubicBezTo>
                      <a:pt x="17850" y="16520"/>
                      <a:pt x="19725" y="1839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70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AutoShape 276"/>
              <p:cNvSpPr/>
              <p:nvPr/>
            </p:nvSpPr>
            <p:spPr>
              <a:xfrm rot="12700800">
                <a:off x="5057640" y="2047320"/>
                <a:ext cx="310320" cy="134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015" y="21600"/>
                    </a:lnTo>
                    <a:lnTo>
                      <a:pt x="17585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lin ang="889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6" name="Oval 277"/>
              <p:cNvSpPr/>
              <p:nvPr/>
            </p:nvSpPr>
            <p:spPr>
              <a:xfrm rot="1413600">
                <a:off x="4977000" y="2069280"/>
                <a:ext cx="354960" cy="885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2018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7" name="Group 278"/>
            <p:cNvGrpSpPr/>
            <p:nvPr/>
          </p:nvGrpSpPr>
          <p:grpSpPr>
            <a:xfrm>
              <a:off x="4675680" y="2438640"/>
              <a:ext cx="774360" cy="561240"/>
              <a:chOff x="4675680" y="2438640"/>
              <a:chExt cx="774360" cy="561240"/>
            </a:xfrm>
          </p:grpSpPr>
          <p:sp>
            <p:nvSpPr>
              <p:cNvPr id="3608" name="AutoShape 279"/>
              <p:cNvSpPr/>
              <p:nvPr/>
            </p:nvSpPr>
            <p:spPr>
              <a:xfrm rot="10393200">
                <a:off x="5156280" y="2452320"/>
                <a:ext cx="265680" cy="487800"/>
              </a:xfrm>
              <a:custGeom>
                <a:avLst/>
                <a:gdLst>
                  <a:gd name="textAreaLeft" fmla="*/ 169920 w 265680"/>
                  <a:gd name="textAreaRight" fmla="*/ 266040 w 265680"/>
                  <a:gd name="textAreaTop" fmla="*/ 12600 h 487800"/>
                  <a:gd name="textAreaBottom" fmla="*/ 475200 h 48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899"/>
                      <a:pt x="10800" y="1798"/>
                    </a:cubicBezTo>
                    <a:lnTo>
                      <a:pt x="10800" y="9002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699"/>
                      <a:pt x="10800" y="12598"/>
                    </a:cubicBezTo>
                    <a:lnTo>
                      <a:pt x="10800" y="19802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9" name="Group 280"/>
              <p:cNvGrpSpPr/>
              <p:nvPr/>
            </p:nvGrpSpPr>
            <p:grpSpPr>
              <a:xfrm>
                <a:off x="4675680" y="2531520"/>
                <a:ext cx="403920" cy="344520"/>
                <a:chOff x="4675680" y="2531520"/>
                <a:chExt cx="403920" cy="344520"/>
              </a:xfrm>
            </p:grpSpPr>
            <p:sp>
              <p:nvSpPr>
                <p:cNvPr id="3610" name="AutoShape 281"/>
                <p:cNvSpPr/>
                <p:nvPr/>
              </p:nvSpPr>
              <p:spPr>
                <a:xfrm flipH="1" rot="17190000">
                  <a:off x="4786560" y="2595960"/>
                  <a:ext cx="295560" cy="214920"/>
                </a:xfrm>
                <a:prstGeom prst="triangle">
                  <a:avLst>
                    <a:gd name="adj" fmla="val 5000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1" name="AutoShape 282"/>
                <p:cNvSpPr/>
                <p:nvPr/>
              </p:nvSpPr>
              <p:spPr>
                <a:xfrm flipH="1" rot="18109200">
                  <a:off x="4746960" y="2528640"/>
                  <a:ext cx="46800" cy="195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2" name="Oval 283"/>
              <p:cNvSpPr/>
              <p:nvPr/>
            </p:nvSpPr>
            <p:spPr>
              <a:xfrm rot="10774800">
                <a:off x="4934880" y="2447640"/>
                <a:ext cx="326880" cy="532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AutoShape 284"/>
              <p:cNvSpPr/>
              <p:nvPr/>
            </p:nvSpPr>
            <p:spPr>
              <a:xfrm flipH="1" rot="9972000">
                <a:off x="5055120" y="2689920"/>
                <a:ext cx="65520" cy="133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725" y="3202"/>
                      <a:pt x="17850" y="5080"/>
                      <a:pt x="17850" y="10800"/>
                    </a:cubicBezTo>
                    <a:cubicBezTo>
                      <a:pt x="17850" y="16520"/>
                      <a:pt x="19725" y="1839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AutoShape 285"/>
              <p:cNvSpPr/>
              <p:nvPr/>
            </p:nvSpPr>
            <p:spPr>
              <a:xfrm rot="367800">
                <a:off x="4928760" y="2848680"/>
                <a:ext cx="310320" cy="134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015" y="21600"/>
                    </a:lnTo>
                    <a:lnTo>
                      <a:pt x="17585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Oval 286"/>
              <p:cNvSpPr/>
              <p:nvPr/>
            </p:nvSpPr>
            <p:spPr>
              <a:xfrm rot="10680600">
                <a:off x="4959720" y="2847240"/>
                <a:ext cx="354600" cy="885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16" name="Rectangle 28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Oval 288"/>
          <p:cNvSpPr/>
          <p:nvPr/>
        </p:nvSpPr>
        <p:spPr>
          <a:xfrm rot="19701600">
            <a:off x="3733920" y="-5334120"/>
            <a:ext cx="10868040" cy="10668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Oval 289"/>
          <p:cNvSpPr/>
          <p:nvPr/>
        </p:nvSpPr>
        <p:spPr>
          <a:xfrm>
            <a:off x="5651640" y="-22716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Oval 290"/>
          <p:cNvSpPr/>
          <p:nvPr/>
        </p:nvSpPr>
        <p:spPr>
          <a:xfrm>
            <a:off x="3924360" y="-19836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Oval 291"/>
          <p:cNvSpPr/>
          <p:nvPr/>
        </p:nvSpPr>
        <p:spPr>
          <a:xfrm>
            <a:off x="6443640" y="-30780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Oval 292"/>
          <p:cNvSpPr/>
          <p:nvPr/>
        </p:nvSpPr>
        <p:spPr>
          <a:xfrm>
            <a:off x="3780000" y="-172872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Oval 293"/>
          <p:cNvSpPr/>
          <p:nvPr/>
        </p:nvSpPr>
        <p:spPr>
          <a:xfrm>
            <a:off x="900000" y="-30780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Oval 294"/>
          <p:cNvSpPr/>
          <p:nvPr/>
        </p:nvSpPr>
        <p:spPr>
          <a:xfrm>
            <a:off x="8174160" y="-19836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Oval 295"/>
          <p:cNvSpPr/>
          <p:nvPr/>
        </p:nvSpPr>
        <p:spPr>
          <a:xfrm>
            <a:off x="7093080" y="-7477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Oval 296"/>
          <p:cNvSpPr/>
          <p:nvPr/>
        </p:nvSpPr>
        <p:spPr>
          <a:xfrm>
            <a:off x="4572000" y="-103500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Oval 297"/>
          <p:cNvSpPr/>
          <p:nvPr/>
        </p:nvSpPr>
        <p:spPr>
          <a:xfrm>
            <a:off x="8893080" y="-34308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Oval 298"/>
          <p:cNvSpPr/>
          <p:nvPr/>
        </p:nvSpPr>
        <p:spPr>
          <a:xfrm>
            <a:off x="5076720" y="-80316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Oval 299"/>
          <p:cNvSpPr/>
          <p:nvPr/>
        </p:nvSpPr>
        <p:spPr>
          <a:xfrm>
            <a:off x="6229440" y="-132408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Oval 300"/>
          <p:cNvSpPr/>
          <p:nvPr/>
        </p:nvSpPr>
        <p:spPr>
          <a:xfrm>
            <a:off x="4859280" y="-571644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Oval 301"/>
          <p:cNvSpPr/>
          <p:nvPr/>
        </p:nvSpPr>
        <p:spPr>
          <a:xfrm>
            <a:off x="3348000" y="-258300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Oval 302"/>
          <p:cNvSpPr/>
          <p:nvPr/>
        </p:nvSpPr>
        <p:spPr>
          <a:xfrm>
            <a:off x="-252360" y="-192708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Oval 303"/>
          <p:cNvSpPr/>
          <p:nvPr/>
        </p:nvSpPr>
        <p:spPr>
          <a:xfrm>
            <a:off x="7165800" y="-229716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Oval 304"/>
          <p:cNvSpPr/>
          <p:nvPr/>
        </p:nvSpPr>
        <p:spPr>
          <a:xfrm>
            <a:off x="4500720" y="-272736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Oval 305"/>
          <p:cNvSpPr/>
          <p:nvPr/>
        </p:nvSpPr>
        <p:spPr>
          <a:xfrm>
            <a:off x="7667640" y="-265572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Oval 306"/>
          <p:cNvSpPr/>
          <p:nvPr/>
        </p:nvSpPr>
        <p:spPr>
          <a:xfrm>
            <a:off x="1692360" y="-57895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Oval 307"/>
          <p:cNvSpPr/>
          <p:nvPr/>
        </p:nvSpPr>
        <p:spPr>
          <a:xfrm>
            <a:off x="5257800" y="-265572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Oval 308"/>
          <p:cNvSpPr/>
          <p:nvPr/>
        </p:nvSpPr>
        <p:spPr>
          <a:xfrm>
            <a:off x="2916360" y="-434808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Oval 309"/>
          <p:cNvSpPr/>
          <p:nvPr/>
        </p:nvSpPr>
        <p:spPr>
          <a:xfrm>
            <a:off x="466560" y="-138744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Oval 310"/>
          <p:cNvSpPr/>
          <p:nvPr/>
        </p:nvSpPr>
        <p:spPr>
          <a:xfrm>
            <a:off x="8820000" y="-280044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Oval 311"/>
          <p:cNvSpPr/>
          <p:nvPr/>
        </p:nvSpPr>
        <p:spPr>
          <a:xfrm>
            <a:off x="7596360" y="-337500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Oval 312"/>
          <p:cNvSpPr/>
          <p:nvPr/>
        </p:nvSpPr>
        <p:spPr>
          <a:xfrm>
            <a:off x="4500720" y="-161136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Oval 313"/>
          <p:cNvSpPr/>
          <p:nvPr/>
        </p:nvSpPr>
        <p:spPr>
          <a:xfrm>
            <a:off x="3780000" y="-362736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Oval 314"/>
          <p:cNvSpPr/>
          <p:nvPr/>
        </p:nvSpPr>
        <p:spPr>
          <a:xfrm>
            <a:off x="1836720" y="-391464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Oval 315"/>
          <p:cNvSpPr/>
          <p:nvPr/>
        </p:nvSpPr>
        <p:spPr>
          <a:xfrm>
            <a:off x="8748720" y="-196380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Oval 316"/>
          <p:cNvSpPr/>
          <p:nvPr/>
        </p:nvSpPr>
        <p:spPr>
          <a:xfrm>
            <a:off x="7954920" y="-48531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Oval 317"/>
          <p:cNvSpPr/>
          <p:nvPr/>
        </p:nvSpPr>
        <p:spPr>
          <a:xfrm>
            <a:off x="5762520" y="-384336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Oval 318"/>
          <p:cNvSpPr/>
          <p:nvPr/>
        </p:nvSpPr>
        <p:spPr>
          <a:xfrm>
            <a:off x="826920" y="-206388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Oval 319"/>
          <p:cNvSpPr/>
          <p:nvPr/>
        </p:nvSpPr>
        <p:spPr>
          <a:xfrm>
            <a:off x="9072720" y="-384336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Oval 320"/>
          <p:cNvSpPr/>
          <p:nvPr/>
        </p:nvSpPr>
        <p:spPr>
          <a:xfrm>
            <a:off x="6732720" y="-434808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Oval 321"/>
          <p:cNvSpPr/>
          <p:nvPr/>
        </p:nvSpPr>
        <p:spPr>
          <a:xfrm>
            <a:off x="6300720" y="-391464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Oval 322"/>
          <p:cNvSpPr/>
          <p:nvPr/>
        </p:nvSpPr>
        <p:spPr>
          <a:xfrm>
            <a:off x="5148360" y="-35751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Oval 323"/>
          <p:cNvSpPr/>
          <p:nvPr/>
        </p:nvSpPr>
        <p:spPr>
          <a:xfrm>
            <a:off x="2987640" y="-377028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Oval 324"/>
          <p:cNvSpPr/>
          <p:nvPr/>
        </p:nvSpPr>
        <p:spPr>
          <a:xfrm>
            <a:off x="1403280" y="-463536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Oval 325"/>
          <p:cNvSpPr/>
          <p:nvPr/>
        </p:nvSpPr>
        <p:spPr>
          <a:xfrm>
            <a:off x="7310520" y="-348300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Oval 326"/>
          <p:cNvSpPr/>
          <p:nvPr/>
        </p:nvSpPr>
        <p:spPr>
          <a:xfrm>
            <a:off x="4394160" y="-435456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Oval 327"/>
          <p:cNvSpPr/>
          <p:nvPr/>
        </p:nvSpPr>
        <p:spPr>
          <a:xfrm>
            <a:off x="3995640" y="-9637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Oval 328"/>
          <p:cNvSpPr/>
          <p:nvPr/>
        </p:nvSpPr>
        <p:spPr>
          <a:xfrm>
            <a:off x="7667640" y="-10447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Oval 329"/>
          <p:cNvSpPr/>
          <p:nvPr/>
        </p:nvSpPr>
        <p:spPr>
          <a:xfrm>
            <a:off x="5003640" y="-478008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Oval 330"/>
          <p:cNvSpPr/>
          <p:nvPr/>
        </p:nvSpPr>
        <p:spPr>
          <a:xfrm>
            <a:off x="5724360" y="-66168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Oval 331"/>
          <p:cNvSpPr/>
          <p:nvPr/>
        </p:nvSpPr>
        <p:spPr>
          <a:xfrm>
            <a:off x="8317080" y="-175572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Oval 332"/>
          <p:cNvSpPr/>
          <p:nvPr/>
        </p:nvSpPr>
        <p:spPr>
          <a:xfrm>
            <a:off x="6227640" y="-89208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Oval 333"/>
          <p:cNvSpPr/>
          <p:nvPr/>
        </p:nvSpPr>
        <p:spPr>
          <a:xfrm>
            <a:off x="7091280" y="-499572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Oval 334"/>
          <p:cNvSpPr/>
          <p:nvPr/>
        </p:nvSpPr>
        <p:spPr>
          <a:xfrm>
            <a:off x="898560" y="-28987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Oval 335"/>
          <p:cNvSpPr/>
          <p:nvPr/>
        </p:nvSpPr>
        <p:spPr>
          <a:xfrm>
            <a:off x="9109080" y="-203508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Oval 336"/>
          <p:cNvSpPr/>
          <p:nvPr/>
        </p:nvSpPr>
        <p:spPr>
          <a:xfrm>
            <a:off x="5078520" y="-665316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Oval 337"/>
          <p:cNvSpPr/>
          <p:nvPr/>
        </p:nvSpPr>
        <p:spPr>
          <a:xfrm>
            <a:off x="1547640" y="-17557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Oval 338"/>
          <p:cNvSpPr/>
          <p:nvPr/>
        </p:nvSpPr>
        <p:spPr>
          <a:xfrm>
            <a:off x="2843280" y="-557388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Oval 339"/>
          <p:cNvSpPr/>
          <p:nvPr/>
        </p:nvSpPr>
        <p:spPr>
          <a:xfrm>
            <a:off x="2197080" y="-348300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Oval 340"/>
          <p:cNvSpPr/>
          <p:nvPr/>
        </p:nvSpPr>
        <p:spPr>
          <a:xfrm>
            <a:off x="1908000" y="-110808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Oval 341"/>
          <p:cNvSpPr/>
          <p:nvPr/>
        </p:nvSpPr>
        <p:spPr>
          <a:xfrm>
            <a:off x="2951280" y="-19638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Oval 342"/>
          <p:cNvSpPr/>
          <p:nvPr/>
        </p:nvSpPr>
        <p:spPr>
          <a:xfrm>
            <a:off x="1260360" y="-377208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Oval 343"/>
          <p:cNvSpPr/>
          <p:nvPr/>
        </p:nvSpPr>
        <p:spPr>
          <a:xfrm>
            <a:off x="4392720" y="-49309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Oval 344"/>
          <p:cNvSpPr/>
          <p:nvPr/>
        </p:nvSpPr>
        <p:spPr>
          <a:xfrm>
            <a:off x="3492360" y="-143208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Oval 345"/>
          <p:cNvSpPr/>
          <p:nvPr/>
        </p:nvSpPr>
        <p:spPr>
          <a:xfrm>
            <a:off x="4643280" y="-44280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Oval 346"/>
          <p:cNvSpPr/>
          <p:nvPr/>
        </p:nvSpPr>
        <p:spPr>
          <a:xfrm>
            <a:off x="5580000" y="-58752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Oval 347"/>
          <p:cNvSpPr/>
          <p:nvPr/>
        </p:nvSpPr>
        <p:spPr>
          <a:xfrm>
            <a:off x="6372360" y="-193680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Oval 348"/>
          <p:cNvSpPr/>
          <p:nvPr/>
        </p:nvSpPr>
        <p:spPr>
          <a:xfrm>
            <a:off x="5291280" y="-179244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Oval 349"/>
          <p:cNvSpPr/>
          <p:nvPr/>
        </p:nvSpPr>
        <p:spPr>
          <a:xfrm>
            <a:off x="3529080" y="-507528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Oval 350"/>
          <p:cNvSpPr/>
          <p:nvPr/>
        </p:nvSpPr>
        <p:spPr>
          <a:xfrm>
            <a:off x="142920" y="-17557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Oval 351"/>
          <p:cNvSpPr/>
          <p:nvPr/>
        </p:nvSpPr>
        <p:spPr>
          <a:xfrm>
            <a:off x="7308720" y="-168264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Oval 352"/>
          <p:cNvSpPr/>
          <p:nvPr/>
        </p:nvSpPr>
        <p:spPr>
          <a:xfrm>
            <a:off x="4211640" y="-225900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Oval 353"/>
          <p:cNvSpPr/>
          <p:nvPr/>
        </p:nvSpPr>
        <p:spPr>
          <a:xfrm>
            <a:off x="8028000" y="-244008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Oval 354"/>
          <p:cNvSpPr/>
          <p:nvPr/>
        </p:nvSpPr>
        <p:spPr>
          <a:xfrm>
            <a:off x="6732720" y="-1574640"/>
            <a:ext cx="107640" cy="107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Oval 355"/>
          <p:cNvSpPr/>
          <p:nvPr/>
        </p:nvSpPr>
        <p:spPr>
          <a:xfrm>
            <a:off x="826920" y="-506880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Oval 356"/>
          <p:cNvSpPr/>
          <p:nvPr/>
        </p:nvSpPr>
        <p:spPr>
          <a:xfrm>
            <a:off x="3057480" y="-29718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Oval 357"/>
          <p:cNvSpPr/>
          <p:nvPr/>
        </p:nvSpPr>
        <p:spPr>
          <a:xfrm>
            <a:off x="1066680" y="-11430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Oval 358"/>
          <p:cNvSpPr/>
          <p:nvPr/>
        </p:nvSpPr>
        <p:spPr>
          <a:xfrm>
            <a:off x="8964720" y="-258444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Oval 359"/>
          <p:cNvSpPr/>
          <p:nvPr/>
        </p:nvSpPr>
        <p:spPr>
          <a:xfrm>
            <a:off x="8245440" y="-36990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Oval 360"/>
          <p:cNvSpPr/>
          <p:nvPr/>
        </p:nvSpPr>
        <p:spPr>
          <a:xfrm>
            <a:off x="8386920" y="-485316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Oval 361"/>
          <p:cNvSpPr/>
          <p:nvPr/>
        </p:nvSpPr>
        <p:spPr>
          <a:xfrm>
            <a:off x="4176720" y="-340344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Oval 362"/>
          <p:cNvSpPr/>
          <p:nvPr/>
        </p:nvSpPr>
        <p:spPr>
          <a:xfrm>
            <a:off x="1476360" y="-29797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Oval 363"/>
          <p:cNvSpPr/>
          <p:nvPr/>
        </p:nvSpPr>
        <p:spPr>
          <a:xfrm>
            <a:off x="8964720" y="-139536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Oval 364"/>
          <p:cNvSpPr/>
          <p:nvPr/>
        </p:nvSpPr>
        <p:spPr>
          <a:xfrm>
            <a:off x="7810560" y="-19191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Oval 365"/>
          <p:cNvSpPr/>
          <p:nvPr/>
        </p:nvSpPr>
        <p:spPr>
          <a:xfrm>
            <a:off x="5867280" y="-290844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Oval 366"/>
          <p:cNvSpPr/>
          <p:nvPr/>
        </p:nvSpPr>
        <p:spPr>
          <a:xfrm>
            <a:off x="466560" y="-463536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Oval 367"/>
          <p:cNvSpPr/>
          <p:nvPr/>
        </p:nvSpPr>
        <p:spPr>
          <a:xfrm>
            <a:off x="9756720" y="-189216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Oval 368"/>
          <p:cNvSpPr/>
          <p:nvPr/>
        </p:nvSpPr>
        <p:spPr>
          <a:xfrm>
            <a:off x="6805440" y="-341136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Oval 369"/>
          <p:cNvSpPr/>
          <p:nvPr/>
        </p:nvSpPr>
        <p:spPr>
          <a:xfrm>
            <a:off x="6443640" y="-254628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Oval 370"/>
          <p:cNvSpPr/>
          <p:nvPr/>
        </p:nvSpPr>
        <p:spPr>
          <a:xfrm>
            <a:off x="5688000" y="-25113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Oval 371"/>
          <p:cNvSpPr/>
          <p:nvPr/>
        </p:nvSpPr>
        <p:spPr>
          <a:xfrm>
            <a:off x="3817800" y="-434664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Oval 372"/>
          <p:cNvSpPr/>
          <p:nvPr/>
        </p:nvSpPr>
        <p:spPr>
          <a:xfrm>
            <a:off x="216000" y="-366228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Oval 373"/>
          <p:cNvSpPr/>
          <p:nvPr/>
        </p:nvSpPr>
        <p:spPr>
          <a:xfrm>
            <a:off x="7524720" y="-383688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Oval 374"/>
          <p:cNvSpPr/>
          <p:nvPr/>
        </p:nvSpPr>
        <p:spPr>
          <a:xfrm>
            <a:off x="4932360" y="-405936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Oval 375"/>
          <p:cNvSpPr/>
          <p:nvPr/>
        </p:nvSpPr>
        <p:spPr>
          <a:xfrm>
            <a:off x="4208400" y="-48564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Oval 376"/>
          <p:cNvSpPr/>
          <p:nvPr/>
        </p:nvSpPr>
        <p:spPr>
          <a:xfrm>
            <a:off x="8099280" y="-8287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Oval 377"/>
          <p:cNvSpPr/>
          <p:nvPr/>
        </p:nvSpPr>
        <p:spPr>
          <a:xfrm>
            <a:off x="3419640" y="-4995720"/>
            <a:ext cx="107640" cy="107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Oval 378"/>
          <p:cNvSpPr/>
          <p:nvPr/>
        </p:nvSpPr>
        <p:spPr>
          <a:xfrm>
            <a:off x="2340000" y="-153972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Oval 379"/>
          <p:cNvSpPr/>
          <p:nvPr/>
        </p:nvSpPr>
        <p:spPr>
          <a:xfrm>
            <a:off x="7812000" y="-139536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Oval 380"/>
          <p:cNvSpPr/>
          <p:nvPr/>
        </p:nvSpPr>
        <p:spPr>
          <a:xfrm>
            <a:off x="7161120" y="-117936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Oval 381"/>
          <p:cNvSpPr/>
          <p:nvPr/>
        </p:nvSpPr>
        <p:spPr>
          <a:xfrm>
            <a:off x="5796000" y="-99072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Oval 382"/>
          <p:cNvSpPr/>
          <p:nvPr/>
        </p:nvSpPr>
        <p:spPr>
          <a:xfrm>
            <a:off x="395280" y="-268272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Oval 383"/>
          <p:cNvSpPr/>
          <p:nvPr/>
        </p:nvSpPr>
        <p:spPr>
          <a:xfrm>
            <a:off x="9396360" y="-181944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Oval 384"/>
          <p:cNvSpPr/>
          <p:nvPr/>
        </p:nvSpPr>
        <p:spPr>
          <a:xfrm>
            <a:off x="3417840" y="-63972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Oval 385"/>
          <p:cNvSpPr/>
          <p:nvPr/>
        </p:nvSpPr>
        <p:spPr>
          <a:xfrm>
            <a:off x="2209680" y="-5335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Oval 386"/>
          <p:cNvSpPr/>
          <p:nvPr/>
        </p:nvSpPr>
        <p:spPr>
          <a:xfrm>
            <a:off x="393840" y="-38736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Oval 387"/>
          <p:cNvSpPr/>
          <p:nvPr/>
        </p:nvSpPr>
        <p:spPr>
          <a:xfrm>
            <a:off x="5867280" y="-463536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Oval 388"/>
          <p:cNvSpPr/>
          <p:nvPr/>
        </p:nvSpPr>
        <p:spPr>
          <a:xfrm>
            <a:off x="7380360" y="-664524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Oval 389"/>
          <p:cNvSpPr/>
          <p:nvPr/>
        </p:nvSpPr>
        <p:spPr>
          <a:xfrm>
            <a:off x="2411280" y="-456408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Oval 390"/>
          <p:cNvSpPr/>
          <p:nvPr/>
        </p:nvSpPr>
        <p:spPr>
          <a:xfrm>
            <a:off x="2844720" y="-45864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Oval 391"/>
          <p:cNvSpPr/>
          <p:nvPr/>
        </p:nvSpPr>
        <p:spPr>
          <a:xfrm>
            <a:off x="2987640" y="-110808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Oval 392"/>
          <p:cNvSpPr/>
          <p:nvPr/>
        </p:nvSpPr>
        <p:spPr>
          <a:xfrm>
            <a:off x="6370560" y="-506880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Oval 393"/>
          <p:cNvSpPr/>
          <p:nvPr/>
        </p:nvSpPr>
        <p:spPr>
          <a:xfrm>
            <a:off x="2050920" y="-24033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Oval 394"/>
          <p:cNvSpPr/>
          <p:nvPr/>
        </p:nvSpPr>
        <p:spPr>
          <a:xfrm>
            <a:off x="4140360" y="-593244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Oval 395"/>
          <p:cNvSpPr/>
          <p:nvPr/>
        </p:nvSpPr>
        <p:spPr>
          <a:xfrm>
            <a:off x="684360" y="-413064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Oval 396"/>
          <p:cNvSpPr/>
          <p:nvPr/>
        </p:nvSpPr>
        <p:spPr>
          <a:xfrm>
            <a:off x="5796000" y="-585936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Oval 397"/>
          <p:cNvSpPr/>
          <p:nvPr/>
        </p:nvSpPr>
        <p:spPr>
          <a:xfrm>
            <a:off x="-468360" y="-420372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Oval 398"/>
          <p:cNvSpPr/>
          <p:nvPr/>
        </p:nvSpPr>
        <p:spPr>
          <a:xfrm>
            <a:off x="468360" y="-542772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Oval 399"/>
          <p:cNvSpPr/>
          <p:nvPr/>
        </p:nvSpPr>
        <p:spPr>
          <a:xfrm>
            <a:off x="3348000" y="-614844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Oval 400"/>
          <p:cNvSpPr/>
          <p:nvPr/>
        </p:nvSpPr>
        <p:spPr>
          <a:xfrm>
            <a:off x="7380360" y="-550080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Oval 401"/>
          <p:cNvSpPr/>
          <p:nvPr/>
        </p:nvSpPr>
        <p:spPr>
          <a:xfrm>
            <a:off x="8101080" y="-550080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Oval 402"/>
          <p:cNvSpPr/>
          <p:nvPr/>
        </p:nvSpPr>
        <p:spPr>
          <a:xfrm>
            <a:off x="2411280" y="-614844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Oval 403"/>
          <p:cNvSpPr/>
          <p:nvPr/>
        </p:nvSpPr>
        <p:spPr>
          <a:xfrm>
            <a:off x="4859280" y="-622152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Oval 404"/>
          <p:cNvSpPr/>
          <p:nvPr/>
        </p:nvSpPr>
        <p:spPr>
          <a:xfrm>
            <a:off x="6732720" y="-586116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c2c2c2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4" name="等你爱我 (2m 16s).mp3" descr=""/>
          <p:cNvPicPr/>
          <p:nvPr/>
        </p:nvPicPr>
        <p:blipFill>
          <a:blip r:embed="rId1"/>
          <a:stretch/>
        </p:blipFill>
        <p:spPr>
          <a:xfrm>
            <a:off x="10287000" y="3276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735" name="Freeform 406">
            <a:hlinkClick r:id="" action="ppaction://hlinkshowjump?jump=endshow"/>
          </p:cNvPr>
          <p:cNvSpPr/>
          <p:nvPr/>
        </p:nvSpPr>
        <p:spPr>
          <a:xfrm>
            <a:off x="7238880" y="6072120"/>
            <a:ext cx="325440" cy="328680"/>
          </a:xfrm>
          <a:custGeom>
            <a:avLst/>
            <a:gdLst/>
            <a:ahLst/>
            <a:rect l="l" t="t" r="r" b="b"/>
            <a:pathLst>
              <a:path w="674" h="680">
                <a:moveTo>
                  <a:pt x="305" y="217"/>
                </a:moveTo>
                <a:cubicBezTo>
                  <a:pt x="305" y="215"/>
                  <a:pt x="304" y="213"/>
                  <a:pt x="304" y="212"/>
                </a:cubicBezTo>
                <a:cubicBezTo>
                  <a:pt x="304" y="210"/>
                  <a:pt x="303" y="208"/>
                  <a:pt x="303" y="206"/>
                </a:cubicBezTo>
                <a:cubicBezTo>
                  <a:pt x="290" y="150"/>
                  <a:pt x="210" y="71"/>
                  <a:pt x="158" y="49"/>
                </a:cubicBezTo>
                <a:cubicBezTo>
                  <a:pt x="145" y="43"/>
                  <a:pt x="130" y="40"/>
                  <a:pt x="118" y="40"/>
                </a:cubicBezTo>
                <a:cubicBezTo>
                  <a:pt x="43" y="37"/>
                  <a:pt x="7" y="134"/>
                  <a:pt x="1" y="201"/>
                </a:cubicBezTo>
                <a:cubicBezTo>
                  <a:pt x="0" y="213"/>
                  <a:pt x="1" y="225"/>
                  <a:pt x="1" y="235"/>
                </a:cubicBezTo>
                <a:cubicBezTo>
                  <a:pt x="1" y="237"/>
                  <a:pt x="1" y="239"/>
                  <a:pt x="1" y="241"/>
                </a:cubicBezTo>
                <a:cubicBezTo>
                  <a:pt x="2" y="243"/>
                  <a:pt x="2" y="245"/>
                  <a:pt x="2" y="247"/>
                </a:cubicBezTo>
                <a:cubicBezTo>
                  <a:pt x="6" y="338"/>
                  <a:pt x="50" y="410"/>
                  <a:pt x="112" y="476"/>
                </a:cubicBezTo>
                <a:cubicBezTo>
                  <a:pt x="150" y="516"/>
                  <a:pt x="192" y="550"/>
                  <a:pt x="234" y="590"/>
                </a:cubicBezTo>
                <a:cubicBezTo>
                  <a:pt x="249" y="606"/>
                  <a:pt x="292" y="671"/>
                  <a:pt x="314" y="674"/>
                </a:cubicBezTo>
                <a:cubicBezTo>
                  <a:pt x="320" y="675"/>
                  <a:pt x="324" y="678"/>
                  <a:pt x="329" y="680"/>
                </a:cubicBezTo>
                <a:cubicBezTo>
                  <a:pt x="329" y="678"/>
                  <a:pt x="329" y="677"/>
                  <a:pt x="330" y="675"/>
                </a:cubicBezTo>
                <a:cubicBezTo>
                  <a:pt x="330" y="673"/>
                  <a:pt x="330" y="672"/>
                  <a:pt x="331" y="670"/>
                </a:cubicBezTo>
                <a:cubicBezTo>
                  <a:pt x="345" y="570"/>
                  <a:pt x="387" y="554"/>
                  <a:pt x="465" y="496"/>
                </a:cubicBezTo>
                <a:cubicBezTo>
                  <a:pt x="465" y="496"/>
                  <a:pt x="465" y="496"/>
                  <a:pt x="465" y="496"/>
                </a:cubicBezTo>
                <a:cubicBezTo>
                  <a:pt x="465" y="495"/>
                  <a:pt x="465" y="495"/>
                  <a:pt x="465" y="495"/>
                </a:cubicBezTo>
                <a:cubicBezTo>
                  <a:pt x="518" y="456"/>
                  <a:pt x="569" y="385"/>
                  <a:pt x="608" y="320"/>
                </a:cubicBezTo>
                <a:cubicBezTo>
                  <a:pt x="609" y="319"/>
                  <a:pt x="609" y="317"/>
                  <a:pt x="610" y="316"/>
                </a:cubicBezTo>
                <a:cubicBezTo>
                  <a:pt x="611" y="315"/>
                  <a:pt x="612" y="313"/>
                  <a:pt x="613" y="312"/>
                </a:cubicBezTo>
                <a:cubicBezTo>
                  <a:pt x="634" y="274"/>
                  <a:pt x="656" y="231"/>
                  <a:pt x="663" y="193"/>
                </a:cubicBezTo>
                <a:cubicBezTo>
                  <a:pt x="668" y="170"/>
                  <a:pt x="674" y="128"/>
                  <a:pt x="668" y="93"/>
                </a:cubicBezTo>
                <a:cubicBezTo>
                  <a:pt x="664" y="67"/>
                  <a:pt x="652" y="44"/>
                  <a:pt x="638" y="31"/>
                </a:cubicBezTo>
                <a:cubicBezTo>
                  <a:pt x="602" y="0"/>
                  <a:pt x="542" y="23"/>
                  <a:pt x="505" y="44"/>
                </a:cubicBezTo>
                <a:cubicBezTo>
                  <a:pt x="500" y="47"/>
                  <a:pt x="494" y="50"/>
                  <a:pt x="489" y="53"/>
                </a:cubicBezTo>
                <a:cubicBezTo>
                  <a:pt x="488" y="54"/>
                  <a:pt x="486" y="54"/>
                  <a:pt x="485" y="55"/>
                </a:cubicBezTo>
                <a:cubicBezTo>
                  <a:pt x="483" y="56"/>
                  <a:pt x="482" y="57"/>
                  <a:pt x="481" y="58"/>
                </a:cubicBezTo>
                <a:cubicBezTo>
                  <a:pt x="419" y="99"/>
                  <a:pt x="361" y="152"/>
                  <a:pt x="318" y="199"/>
                </a:cubicBezTo>
                <a:cubicBezTo>
                  <a:pt x="312" y="205"/>
                  <a:pt x="305" y="219"/>
                  <a:pt x="299" y="228"/>
                </a:cubicBezTo>
              </a:path>
            </a:pathLst>
          </a:custGeom>
          <a:solidFill>
            <a:srgbClr val="e60012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Freeform 407">
            <a:hlinkClick r:id="" action="ppaction://hlinkshowjump?jump=firstslide"/>
          </p:cNvPr>
          <p:cNvSpPr/>
          <p:nvPr/>
        </p:nvSpPr>
        <p:spPr>
          <a:xfrm>
            <a:off x="7848720" y="5965920"/>
            <a:ext cx="457200" cy="434880"/>
          </a:xfrm>
          <a:custGeom>
            <a:avLst/>
            <a:gdLst/>
            <a:ahLst/>
            <a:rect l="l" t="t" r="r" b="b"/>
            <a:pathLst>
              <a:path w="1278" h="1214">
                <a:moveTo>
                  <a:pt x="1033" y="1214"/>
                </a:moveTo>
                <a:lnTo>
                  <a:pt x="647" y="933"/>
                </a:lnTo>
                <a:lnTo>
                  <a:pt x="639" y="928"/>
                </a:lnTo>
                <a:lnTo>
                  <a:pt x="630" y="933"/>
                </a:lnTo>
                <a:lnTo>
                  <a:pt x="244" y="1214"/>
                </a:lnTo>
                <a:lnTo>
                  <a:pt x="244" y="1214"/>
                </a:lnTo>
                <a:lnTo>
                  <a:pt x="392" y="760"/>
                </a:lnTo>
                <a:lnTo>
                  <a:pt x="395" y="750"/>
                </a:lnTo>
                <a:lnTo>
                  <a:pt x="386" y="744"/>
                </a:lnTo>
                <a:lnTo>
                  <a:pt x="0" y="464"/>
                </a:lnTo>
                <a:lnTo>
                  <a:pt x="477" y="464"/>
                </a:lnTo>
                <a:lnTo>
                  <a:pt x="488" y="464"/>
                </a:lnTo>
                <a:lnTo>
                  <a:pt x="491" y="454"/>
                </a:lnTo>
                <a:lnTo>
                  <a:pt x="639" y="0"/>
                </a:lnTo>
                <a:lnTo>
                  <a:pt x="787" y="454"/>
                </a:lnTo>
                <a:lnTo>
                  <a:pt x="789" y="464"/>
                </a:lnTo>
                <a:lnTo>
                  <a:pt x="800" y="464"/>
                </a:lnTo>
                <a:lnTo>
                  <a:pt x="1278" y="464"/>
                </a:lnTo>
                <a:lnTo>
                  <a:pt x="891" y="744"/>
                </a:lnTo>
                <a:lnTo>
                  <a:pt x="883" y="750"/>
                </a:lnTo>
                <a:lnTo>
                  <a:pt x="885" y="760"/>
                </a:lnTo>
                <a:lnTo>
                  <a:pt x="1033" y="1214"/>
                </a:lnTo>
                <a:lnTo>
                  <a:pt x="1033" y="1214"/>
                </a:lnTo>
                <a:lnTo>
                  <a:pt x="1033" y="1214"/>
                </a:lnTo>
                <a:close/>
              </a:path>
            </a:pathLst>
          </a:custGeom>
          <a:solidFill>
            <a:srgbClr val="e60012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 thruBlk="true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5" dur="140123" fill="hold"/>
                                        <p:tgtEl>
                                          <p:spTgt spid="37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3000"/>
                                        <p:tgtEl>
                                          <p:spTgt spid="3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620000">
                                      <p:cBhvr>
                                        <p:cTn id="430" dur="3000" fill="hold"/>
                                        <p:tgtEl>
                                          <p:spTgt spid="3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560000">
                                      <p:cBhvr>
                                        <p:cTn id="432" dur="3000" fill="hold"/>
                                        <p:tgtEl>
                                          <p:spTgt spid="3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434" dur="3000" fill="hold"/>
                                        <p:tgtEl>
                                          <p:spTgt spid="3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436" dur="3000" fill="hold"/>
                                        <p:tgtEl>
                                          <p:spTgt spid="3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10000"/>
                                        <p:tgtEl>
                                          <p:spTgt spid="3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3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0"/>
                                        <p:tgtEl>
                                          <p:spTgt spid="3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05556E-006 -3.33333E-006 C -0.00086 0.01505 -0.00156 0.03033 -3.05556E-006 0.05116 C 0.00157 0.07223 0.01077 0.10579 0.0092 0.12639 C 0.00764 0.14699 -0.00486 0.15556 -0.0092 0.17593 C -0.01354 0.19653 -0.01493 0.22361 -0.01701 0.24931 C -0.01909 0.275 -0.02187 0.30417 -0.02152 0.33033 C -0.02118 0.35648 -0.01666 0.37848 -0.01545 0.40556 C -0.01423 0.43264 -0.01215 0.46528 -0.01389 0.49236 C -0.01562 0.51968 -0.02534 0.53311 -0.02621 0.56968 C -0.02708 0.60625 -0.01545 0.67223 -0.01857 0.71204 C -0.0217 0.75209 -0.03958 0.78195 -0.04461 0.80903 C -0.04965 0.83611 -0.04982 0.85278 -0.0493 0.87431 C -0.04878 0.89607 -0.04253 0.92431 -0.04149 0.93959 C -0.04045 0.9551 -0.04253 0.95949 -0.04305 0.96736 C -0.04357 0.975 -0.04444 0.98449 -0.04461 0.98727 E">
                                      <p:cBhvr>
                                        <p:cTn id="444" dur="10000" fill="hold"/>
                                        <p:tgtEl>
                                          <p:spTgt spid="3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6181 C 0.00329 -0.01158 0.0026 0.03842 0.00243 0.07523 C 0.00225 0.11204 0.00364 0.12384 0.00243 0.1581 C 0.00121 0.19259 -0.00799 0.24352 -0.00521 0.28241 C -0.00243 0.3213 0.01111 0.34606 0.01927 0.39143 C 0.02743 0.43704 0.04514 0.50092 0.04392 0.55532 C 0.0427 0.60926 0.01753 0.67222 0.01163 0.71643 C 0.00573 0.76042 0.00746 0.78912 0.0085 0.81898 C 0.00954 0.84861 0.0177 0.87222 0.0177 0.89537 C 0.0177 0.91829 0.01007 0.94005 0.0085 0.95833 C 0.00694 0.97685 0.0085 0.99815 0.0085 1.00671 E">
                                      <p:cBhvr>
                                        <p:cTn id="446" dur="10000" fill="hold"/>
                                        <p:tgtEl>
                                          <p:spTgt spid="3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-2.96296E-006 C -0.00017 0.01598 -0.0007 0.03172 0.00069 0.05301 C 0.00208 0.07454 0.01076 0.10926 0.0092 0.13079 C 0.00781 0.15185 -0.00382 0.16042 -0.00781 0.18148 C -0.01181 0.20278 -0.01302 0.23079 -0.01511 0.25741 C -0.01701 0.2838 -0.01945 0.31412 -0.01927 0.34098 C -0.01892 0.36806 -0.01476 0.39121 -0.01354 0.41898 C -0.0125 0.44699 -0.01059 0.48056 -0.01215 0.50857 C -0.01372 0.53658 -0.02274 0.55047 -0.02361 0.5882 C -0.02431 0.62616 -0.01354 0.69445 -0.01649 0.73565 C -0.01945 0.77685 -0.03594 0.80787 -0.04063 0.83565 C -0.04531 0.86366 -0.04531 0.88079 -0.04497 0.90348 C -0.04445 0.9257 -0.03872 0.95463 -0.03767 0.97084 C -0.03681 0.98658 -0.03872 0.99121 -0.03906 0.99931 C -0.03958 1.00718 -0.04045 1.01713 -0.04063 1.02014 E">
                                      <p:cBhvr>
                                        <p:cTn id="448" dur="10000" fill="hold"/>
                                        <p:tgtEl>
                                          <p:spTgt spid="3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0629E-006 C -0.00087 0.01873 -0.00157 0.03724 4.44444E-006 0.06268 C 0.00156 0.08835 0.01076 0.12928 0.0092 0.15472 C 0.00763 0.1797 -0.00487 0.1901 -0.00921 0.21485 C -0.01355 0.23983 -0.01493 0.2729 -0.01702 0.30435 C -0.0191 0.33557 -0.02188 0.37119 -0.02153 0.4031 C -0.02118 0.43502 -0.01667 0.46207 -0.01546 0.49491 C -0.01424 0.52799 -0.01216 0.56776 -0.01389 0.60107 C -0.01563 0.63414 -0.02535 0.65056 -0.02622 0.69519 C -0.02709 0.73983 -0.01546 0.82031 -0.01858 0.8691 C -0.02171 0.9179 -0.03959 0.95444 -0.04462 0.98728 C -0.04966 1.02035 -0.04983 1.04071 -0.04931 1.0673 C -0.04879 1.09367 -0.04254 1.12789 -0.0415 1.14686 C -0.04046 1.16559 -0.04254 1.17091 -0.04306 1.18062 C -0.04358 1.1901 -0.04445 1.20144 -0.04462 1.2049 E">
                                      <p:cBhvr>
                                        <p:cTn id="450" dur="13000" fill="hold"/>
                                        <p:tgtEl>
                                          <p:spTgt spid="36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1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96296E-006 C 0.00278 0.01945 0.00556 0.03843 0.00643 0.05486 C 0.00712 0.0713 0.00591 0.0669 0.00469 0.09954 C 0.00365 0.13195 -0.00156 0.20926 -3.88889E-006 0.25 C 0.00157 0.29051 0.01094 0.31273 0.01424 0.34306 C 0.01737 0.37361 0.01997 0.39792 0.01893 0.43218 C 0.01789 0.46644 0.004 0.5088 0.00799 0.54885 C 0.01181 0.58912 0.03368 0.62431 0.04254 0.67408 C 0.05157 0.72385 0.05816 0.78797 0.06146 0.84584 C 0.06493 0.90348 0.06389 0.96158 0.06302 1.02014 E">
                                      <p:cBhvr>
                                        <p:cTn id="452" dur="10000" fill="hold"/>
                                        <p:tgtEl>
                                          <p:spTgt spid="3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3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9259E-006 C -0.01511 0.02615 -0.03021 0.05254 -0.0309 0.09074 C -0.0316 0.12916 -0.00243 0.17083 -0.00469 0.23032 C -0.00695 0.28981 -0.03924 0.37361 -0.04462 0.44861 C -0.05 0.52361 -0.02153 0.5993 -0.03698 0.68078 C -0.05243 0.76227 -0.12153 0.88634 -0.13698 0.93727 C -0.15243 0.98819 -0.14097 0.98703 -0.12934 0.98588 E">
                                      <p:cBhvr>
                                        <p:cTn id="454" dur="10000" fill="hold"/>
                                        <p:tgtEl>
                                          <p:spTgt spid="3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5" dur="indefinite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1.94444E-006 -3.46945E-018 C -0.00087 0.01551 -0.00156 0.03079 -1.94444E-006 0.05231 C 0.00156 0.07384 0.01077 0.10787 0.0092 0.12917 C 0.00764 0.15023 -0.00486 0.1588 -0.0092 0.17986 C -0.01354 0.20069 -0.01493 0.22824 -0.01701 0.25463 C -0.0191 0.28079 -0.02187 0.31065 -0.02153 0.33727 C -0.02118 0.36389 -0.01666 0.38657 -0.01545 0.41412 C -0.01423 0.44167 -0.01215 0.475 -0.01389 0.50278 C -0.01562 0.53056 -0.02535 0.54421 -0.02621 0.58171 C -0.02708 0.61898 -0.01545 0.68634 -0.01857 0.72708 C -0.0217 0.76782 -0.03958 0.79838 -0.04462 0.82616 C -0.04965 0.8537 -0.04982 0.87083 -0.0493 0.89282 C -0.04878 0.91505 -0.04253 0.94375 -0.04149 0.95949 C -0.04045 0.97523 -0.04253 0.97963 -0.04305 0.98773 C -0.04357 0.9956 -0.04444 1.00532 -0.04462 1.0081 E">
                                      <p:cBhvr>
                                        <p:cTn id="456" dur="10000" fill="hold"/>
                                        <p:tgtEl>
                                          <p:spTgt spid="3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6175 C 0.00329 -0.01041 0.0026 0.04093 0.00243 0.0784 C 0.00225 0.1161 0.00364 0.12812 0.00243 0.16327 C 0.00121 0.19843 -0.00799 0.25046 -0.00521 0.29024 C -0.00243 0.33002 0.01111 0.35523 0.01927 0.40171 C 0.02743 0.4482 0.04514 0.51364 0.04392 0.56915 C 0.0427 0.62442 0.01753 0.68871 0.01163 0.73381 C 0.00573 0.77891 0.00746 0.80828 0.0085 0.83881 C 0.00954 0.8691 0.0177 0.89315 0.0177 0.91674 C 0.0177 0.94033 0.01007 0.96253 0.0085 0.98127 C 0.00694 1.00023 0.0085 1.02197 0.0085 1.03053 E">
                                      <p:cBhvr>
                                        <p:cTn id="458" dur="10000" fill="hold"/>
                                        <p:tgtEl>
                                          <p:spTgt spid="3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21 -0.15439 C 0.01511 -0.12268 -3.61111000000004E-006 -0.0912 -0.00069 -0.04537 C -0.00139 0.000239999999999997 0.02778 0.05024 0.02552 0.1213 C 0.02327 0.19237 -0.00902 0.29237 -0.01441 0.38218 C -0.01979 0.47199 0.00868 0.56274 -0.00677 0.65996 C -0.02222 0.75741 -0.09132 0.90602 -0.10677 0.9669 C -0.12222 1.02778 -0.11076 1.02639 -0.09913 1.025 E">
                                      <p:cBhvr>
                                        <p:cTn id="460" dur="10000" fill="hold"/>
                                        <p:tgtEl>
                                          <p:spTgt spid="3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6175 C 0.00329 -0.01041 0.0026 0.04093 0.00243 0.0784 C 0.00225 0.1161 0.00364 0.12812 0.00243 0.16327 C 0.00121 0.19843 -0.00799 0.25046 -0.00521 0.29024 C -0.00243 0.33002 0.01111 0.35523 0.01927 0.40171 C 0.02743 0.4482 0.04514 0.51364 0.04392 0.56915 C 0.0427 0.62442 0.01753 0.68871 0.01163 0.73381 C 0.00573 0.77891 0.00746 0.80828 0.0085 0.83881 C 0.00954 0.8691 0.0177 0.89315 0.0177 0.91674 C 0.0177 0.94033 0.01007 0.96253 0.0085 0.98127 C 0.00694 1.00023 0.0085 1.02197 0.0085 1.03053 E">
                                      <p:cBhvr>
                                        <p:cTn id="462" dur="13000" fill="hold"/>
                                        <p:tgtEl>
                                          <p:spTgt spid="3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4 0.0185 C -0.01146 0.0451 -0.02657 0.07193 -0.02726 0.11078 C -0.02795 0.14963 0.00121 0.19195 -0.00104 0.25232 C -0.0033 0.31268 -0.03559 0.39755 -0.04097 0.47364 C -0.04636 0.54973 -0.01788 0.62674 -0.03334 0.7093 C -0.04879 0.79186 -0.11788 0.9179 -0.13334 0.96948 C -0.14879 1.02105 -0.13733 1.01989 -0.1257 1.01874 E">
                                      <p:cBhvr>
                                        <p:cTn id="464" dur="13000" fill="hold"/>
                                        <p:tgtEl>
                                          <p:spTgt spid="3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72222E-006 -1.48148E-006 C -0.00034 0.0206 -0.00086 0.04097 -4.72222E-006 0.06898 C 0.00087 0.09676 0.00591 0.14144 0.00504 0.16898 C 0.00417 0.19653 -0.0026 0.20764 -0.00486 0.23542 C -0.00729 0.26204 -0.00798 0.29792 -0.00902 0.33125 C -0.01024 0.36551 -0.01163 0.4044 -0.01145 0.43935 C -0.01128 0.47431 -0.00885 0.50371 -0.00815 0.53958 C -0.00763 0.57546 -0.00642 0.61898 -0.00746 0.65533 C -0.00833 0.69167 -0.01354 0.70949 -0.01406 0.7581 C -0.0144 0.80695 -0.00815 0.89445 -0.00989 0.94792 C -0.01163 1.00116 -0.02118 1.04074 -0.02378 1.07685 C -0.02656 1.11296 -0.02656 1.13496 -0.02638 1.16412 C -0.02604 1.19283 -0.02274 1.23009 -0.02222 1.25093 C -0.0217 1.27153 -0.02274 1.27708 -0.02309 1.2875 C -0.02326 1.29769 -0.02378 1.31065 -0.02378 1.31412 E">
                                      <p:cBhvr>
                                        <p:cTn id="466" dur="12000" fill="hold"/>
                                        <p:tgtEl>
                                          <p:spTgt spid="3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19 -0.0618 C 0.01267 0.00532999999999999 0.01215 0.07176 0.01197 0.12037 C 0.0118 0.16945 0.01284 0.18473 0.01197 0.23056 C 0.01111 0.27593 0.00399 0.34375 0.00607 0.39399 C 0.00816 0.44537 0.01875 0.47824 0.025 0.53843 C 0.03142 0.59861 0.04513 0.6838 0.04409 0.75533 C 0.04322 0.82755 0.02361 0.91065 0.01909 0.96922 C 0.01458 1.02732 0.01579 1.06551 0.01666 1.1051 C 0.01753 1.14468 0.02378 1.1757 0.02378 1.20625 C 0.02378 1.23704 0.01788 1.26574 0.01666 1.29028 C 0.01545 1.31482 0.01666 1.34283 0.01666 1.3544 E">
                                      <p:cBhvr>
                                        <p:cTn id="468" dur="11000" fill="hold"/>
                                        <p:tgtEl>
                                          <p:spTgt spid="3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1943 C 0.00434 0.03793 0.00712 0.05666 0.00781 0.07262 C 0.00851 0.08857 0.00729 0.08418 0.00625 0.11563 C 0.00521 0.14709 -1.94444000000001E-006 0.22178 0.00156 0.2611 C 0.00313 0.30042 0.01233 0.32192 0.01545 0.35129 C 0.01858 0.38067 0.02118 0.40425 0.02014 0.43733 C 0.0191 0.4704 0.00556 0.51133 0.00938 0.55018 C 0.0132 0.58904 0.03455 0.62303 0.04323 0.67114 C 0.05191 0.71901 0.05834 0.78122 0.06163 0.83696 C 0.06493 0.89269 0.06406 0.94889 0.0632 1.00509 E">
                                      <p:cBhvr>
                                        <p:cTn id="470" dur="13000" fill="hold"/>
                                        <p:tgtEl>
                                          <p:spTgt spid="3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5 -0.17692 C -0.01145 -0.14524 -0.02656 -0.11379 -0.02725 -0.06799 C -0.02795 -0.02243 0.00122 0.02775 -0.00104 0.09852 C -0.00329 0.16952 -0.03559 0.26942 -0.04097 0.35916 C -0.04635 0.44889 -0.01788 0.53955 -0.03333 0.63668 C -0.04878 0.73404 -0.11788 0.88251 -0.13333 0.94334 C -0.14878 1.00416 -0.13732 1.00277 -0.12569 1.00139 E">
                                      <p:cBhvr>
                                        <p:cTn id="472" dur="12000" fill="hold"/>
                                        <p:tgtEl>
                                          <p:spTgt spid="3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6175 C 0.00329 -0.01041 0.0026 0.04093 0.00243 0.0784 C 0.00225 0.1161 0.00364 0.12812 0.00243 0.16327 C 0.00121 0.19843 -0.00799 0.25046 -0.00521 0.29024 C -0.00243 0.33002 0.01111 0.35523 0.01927 0.40171 C 0.02743 0.4482 0.04514 0.51364 0.04392 0.56915 C 0.0427 0.62442 0.01753 0.68871 0.01163 0.73381 C 0.00573 0.77891 0.00746 0.80828 0.0085 0.83881 C 0.00954 0.8691 0.0177 0.89315 0.0177 0.91674 C 0.0177 0.94033 0.01007 0.96253 0.0085 0.98127 C 0.00694 1.00023 0.0085 1.02197 0.0085 1.03053 E">
                                      <p:cBhvr>
                                        <p:cTn id="474" dur="11000" fill="hold"/>
                                        <p:tgtEl>
                                          <p:spTgt spid="3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4 0.0185 C -0.01146 0.0451 -0.02657 0.07193 -0.02726 0.11078 C -0.02795 0.14963 0.00121 0.19195 -0.00104 0.25232 C -0.0033 0.31268 -0.03559 0.39755 -0.04097 0.47364 C -0.04636 0.54973 -0.01788 0.62674 -0.03334 0.7093 C -0.04879 0.79186 -0.11788 0.9179 -0.13334 0.96948 C -0.14879 1.02105 -0.13733 1.01989 -0.1257 1.01874 E">
                                      <p:cBhvr>
                                        <p:cTn id="476" dur="11000" fill="hold"/>
                                        <p:tgtEl>
                                          <p:spTgt spid="3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1.66667E-006 -2.22222E-006 C -0.00087 0.01968 -0.00156 0.03935 -1.66667E-006 0.06667 C 0.00156 0.09352 0.01077 0.13681 0.0092 0.16366 C 0.00764 0.19028 -0.00486 0.20093 -0.0092 0.22732 C -0.01337 0.25394 -0.01476 0.28866 -0.01684 0.32153 C -0.01892 0.35463 -0.0217 0.39236 -0.02135 0.42593 C -0.02101 0.45949 -0.01649 0.4882 -0.01528 0.52292 C -0.01406 0.55787 -0.01198 0.59977 -0.01371 0.63472 C -0.01545 0.67014 -0.02517 0.6875 -0.02604 0.73449 C -0.02691 0.78172 -0.01528 0.86667 -0.0184 0.91829 C -0.02153 0.96991 -0.03923 1.00857 -0.04427 1.04329 C -0.0493 1.07824 -0.0493 1.09954 -0.04896 1.12755 C -0.04844 1.15556 -0.04219 1.19167 -0.04114 1.21158 C -0.0401 1.23172 -0.04219 1.2375 -0.04271 1.24746 C -0.04323 1.25741 -0.0441 1.26968 -0.04427 1.27338 E">
                                      <p:cBhvr>
                                        <p:cTn id="478" dur="13000" fill="hold"/>
                                        <p:tgtEl>
                                          <p:spTgt spid="3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209 4.44444E-006 C 0.00139 0.02314 0.00087 0.04537 0.00209 0.07638 C 0.0033 0.1074 0.01077 0.15694 0.00938 0.1875 C 0.00816 0.21782 -0.00173 0.22986 -0.00521 0.26018 C -0.00868 0.2905 -0.00972 0.33032 -0.01128 0.36875 C -0.01302 0.40625 -0.01527 0.44907 -0.01493 0.48773 C -0.01475 0.52615 -0.01111 0.55879 -0.01007 0.59861 C -0.0092 0.63842 -0.00746 0.6868 -0.00885 0.72662 C -0.01024 0.7662 -0.01805 0.78634 -0.01875 0.84004 C -0.01944 0.89421 -0.01007 0.99143 -0.01267 1.05046 C -0.0151 1.10925 -0.02934 1.1537 -0.03333 1.19328 C -0.03732 1.23333 -0.03732 1.25763 -0.03698 1.29027 C -0.03663 1.32199 -0.03159 1.36342 -0.03073 1.38634 C -0.03003 1.40902 -0.03159 1.4155 -0.03212 1.42708 C -0.03246 1.43865 -0.03316 1.45231 -0.03333 1.45694 E">
                                      <p:cBhvr>
                                        <p:cTn id="480" dur="11000" fill="hold"/>
                                        <p:tgtEl>
                                          <p:spTgt spid="3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15 -0.06181 C 0.01562 0.00555000000000001 0.0151 0.07268 0.0151 0.12152 C 0.01493 0.17083 0.01597 0.18657 0.0151 0.2324 C 0.01424 0.27847 0.00781 0.34652 0.00972 0.39791 C 0.01163 0.44976 0.02118 0.48263 0.02691 0.54328 C 0.03264 0.60393 0.04514 0.68958 0.04427 0.76203 C 0.0434 0.83425 0.02569 0.91805 0.02153 0.97708 C 0.01736 1.03588 0.01858 1.0743 0.01927 1.11435 C 0.01996 1.1537 0.02569 1.18541 0.02569 1.2162 C 0.02569 1.24699 0.02049 1.27592 0.01927 1.30023 C 0.01823 1.32523 0.01927 1.35347 0.01927 1.36504 E">
                                      <p:cBhvr>
                                        <p:cTn id="482" dur="11000" fill="hold"/>
                                        <p:tgtEl>
                                          <p:spTgt spid="3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44444E-006 C 0.00121 0.02245 0.00243 0.0449 0.00277 0.06412 C 0.00312 0.0831 0.0026 0.07824 0.00208 0.1155 C 0.00156 0.153 -0.0007 0.24189 4.16667E-006 0.28888 C 0.00069 0.33588 0.00486 0.36157 0.00625 0.39675 C 0.00781 0.43148 0.00902 0.45972 0.0085 0.49907 C 0.00798 0.53819 0.00173 0.58726 0.00347 0.63356 C 0.0052 0.67963 0.0151 0.7206 0.01909 0.778 C 0.02309 0.83518 0.02604 0.90949 0.0276 0.97615 C 0.02916 1.04282 0.02864 1.10995 0.02829 1.17754 E">
                                      <p:cBhvr>
                                        <p:cTn id="484" dur="13000" fill="hold"/>
                                        <p:tgtEl>
                                          <p:spTgt spid="3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4 -0.17708 C -0.01146 -0.13449 -0.02657 -0.09305 -0.02726 -0.03241 C -0.02795 0.02778 0.00121 0.09421 -0.00105 0.1882 C -0.0033 0.28195 -0.03559 0.41343 -0.04098 0.53218 C -0.04636 0.65046 -0.01789 0.7706 -0.03334 0.89954 C -0.04879 1.02824 -0.11789 1.225 -0.13334 1.30532 C -0.14879 1.38611 -0.13733 1.38403 -0.1257 1.38241 E">
                                      <p:cBhvr>
                                        <p:cTn id="486" dur="11000" fill="hold"/>
                                        <p:tgtEl>
                                          <p:spTgt spid="3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7 -3.7037E-006 C 0.05 0.02269 0.04966 0.04445 0.0507 0.075 C 0.05157 0.10556 0.05799 0.15417 0.05678 0.18403 C 0.05573 0.21366 0.0474 0.2257 0.04445 0.25533 C 0.04167 0.28519 0.0408 0.32408 0.03941 0.36204 C 0.03803 0.39861 0.03612 0.44074 0.03646 0.47824 C 0.03646 0.51598 0.03959 0.54815 0.04046 0.58727 C 0.04115 0.62593 0.04271 0.67315 0.0415 0.7125 C 0.04028 0.75139 0.03368 0.7713 0.03316 0.82385 C 0.03264 0.87709 0.04046 0.97246 0.0382 1.03033 C 0.03629 1.0882 0.02431 1.13195 0.02101 1.17061 C 0.01771 1.20996 0.01771 1.23357 0.01789 1.26574 C 0.01823 1.29653 0.0224 1.3375 0.02309 1.35996 C 0.02379 1.38218 0.0224 1.38889 0.02205 1.4 C 0.02171 1.41111 0.02118 1.42477 0.02101 1.4294 E">
                                      <p:cBhvr>
                                        <p:cTn id="488" dur="11000" fill="hold"/>
                                        <p:tgtEl>
                                          <p:spTgt spid="3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7.40741E-007 C -0.00017 0.02315 -0.00069 0.04537 0.0007 0.07662 C 0.00209 0.10787 0.01077 0.15764 0.0092 0.1882 C 0.00781 0.21852 -0.00382 0.23125 -0.00781 0.26088 C -0.0118 0.29144 -0.01302 0.33125 -0.0151 0.36991 C -0.01701 0.40741 -0.01944 0.45046 -0.01927 0.48889 C -0.01892 0.52755 -0.01475 0.56042 -0.01354 0.60023 C -0.0125 0.64028 -0.01059 0.68866 -0.01215 0.7287 C -0.01371 0.76829 -0.02274 0.78843 -0.02361 0.84236 C -0.0243 0.89676 -0.01354 0.99421 -0.01649 1.05324 C -0.01944 1.1125 -0.03594 1.15695 -0.04062 1.19676 C -0.04531 1.23681 -0.04531 1.26111 -0.04496 1.29375 C -0.04444 1.3257 -0.03871 1.36713 -0.03767 1.39028 C -0.0368 1.41296 -0.03871 1.41968 -0.03906 1.43102 C -0.03958 1.44259 -0.04045 1.45648 -0.04062 1.46111 E">
                                      <p:cBhvr>
                                        <p:cTn id="490" dur="11000" fill="hold"/>
                                        <p:tgtEl>
                                          <p:spTgt spid="3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9 -0.06181 C 0.00938 0.00231 0.00885 0.06597 0.00868 0.1125 C 0.00851 0.15949 0.00972 0.17407 0.00868 0.21782 C 0.00764 0.26134 -0.00017 0.32569 0.00208 0.375 C 0.00451 0.42384 0.01597 0.45532 0.02292 0.51273 C 0.03003 0.56991 0.04514 0.65139 0.0441 0.71991 C 0.04306 0.78889 0.02153 0.86828 0.01649 0.92453 C 0.01146 0.98009 0.01285 1.01643 0.01389 1.0544 C 0.01476 1.09213 0.0217 1.12199 0.0217 1.15116 C 0.0217 1.18055 0.0151 1.2081 0.01389 1.23148 C 0.0125 1.25486 0.01389 1.28171 0.01389 1.29282 E">
                                      <p:cBhvr>
                                        <p:cTn id="492" dur="13000" fill="hold"/>
                                        <p:tgtEl>
                                          <p:spTgt spid="3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2.22222E-006 C 0.00329 0.02732 0.0066 0.05463 0.00729 0.07755 C 0.00816 0.1007 0.00678 0.09445 0.00556 0.14005 C 0.00435 0.18565 -0.00156 0.29375 0.00018 0.35093 C 0.00191 0.40787 0.01251 0.43866 0.01615 0.48102 C 0.01962 0.52384 0.02257 0.55787 0.02153 0.60579 C 0.02032 0.65371 0.00469 0.71297 0.00903 0.76922 C 0.01355 0.82547 0.03803 0.875 0.04792 0.94468 C 0.05782 1.01435 0.06528 1.1044 0.0691 1.18542 C 0.07292 1.26621 0.07188 1.34769 0.07084 1.42963 E">
                                      <p:cBhvr>
                                        <p:cTn id="494" dur="11000" fill="hold"/>
                                        <p:tgtEl>
                                          <p:spTgt spid="36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4 0.0185 C -0.01146 0.0451 -0.02657 0.07193 -0.02726 0.11078 C -0.02795 0.14963 0.00121 0.19195 -0.00104 0.25232 C -0.0033 0.31268 -0.03559 0.39755 -0.04097 0.47364 C -0.04636 0.54973 -0.01788 0.62674 -0.03334 0.7093 C -0.04879 0.79186 -0.11788 0.9179 -0.13334 0.96948 C -0.14879 1.02105 -0.13733 1.01989 -0.1257 1.01874 E">
                                      <p:cBhvr>
                                        <p:cTn id="496" dur="13000" fill="hold"/>
                                        <p:tgtEl>
                                          <p:spTgt spid="3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2.22222E-006 2.22222E-006 C -0.0007 0.02014 -0.00122 0.04028 2.22222E-006 0.06759 C 0.00121 0.09467 0.00868 0.13866 0.00729 0.16551 C 0.00607 0.19236 -0.00382 0.20347 -0.00729 0.23032 C -0.01077 0.25671 -0.01181 0.29213 -0.01337 0.325 C -0.01511 0.35833 -0.01736 0.39653 -0.01702 0.43078 C -0.01684 0.46481 -0.0132 0.49375 -0.01215 0.52893 C -0.01129 0.56342 -0.00955 0.60602 -0.01094 0.64166 C -0.01233 0.67708 -0.02014 0.69467 -0.02084 0.74213 C -0.02153 0.79004 -0.01215 0.87569 -0.01476 0.92801 C -0.01719 0.98009 -0.03143 1.01898 -0.03542 1.05416 C -0.03941 1.08958 -0.03941 1.11111 -0.03906 1.13981 C -0.03872 1.16782 -0.03368 1.2044 -0.03281 1.22453 C -0.03212 1.24467 -0.03368 1.25046 -0.0342 1.26065 C -0.03455 1.27037 -0.03525 1.2831 -0.03542 1.28657 E">
                                      <p:cBhvr>
                                        <p:cTn id="498" dur="13000" fill="hold"/>
                                        <p:tgtEl>
                                          <p:spTgt spid="3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6175 C 0.00329 -0.01041 0.0026 0.04093 0.00243 0.0784 C 0.00225 0.1161 0.00364 0.12812 0.00243 0.16327 C 0.00121 0.19843 -0.00799 0.25046 -0.00521 0.29024 C -0.00243 0.33002 0.01111 0.35523 0.01927 0.40171 C 0.02743 0.4482 0.04514 0.51364 0.04392 0.56915 C 0.0427 0.62442 0.01753 0.68871 0.01163 0.73381 C 0.00573 0.77891 0.00746 0.80828 0.0085 0.83881 C 0.00954 0.8691 0.0177 0.89315 0.0177 0.91674 C 0.0177 0.94033 0.01007 0.96253 0.0085 0.98127 C 0.00694 1.00023 0.0085 1.02197 0.0085 1.03053 E">
                                      <p:cBhvr>
                                        <p:cTn id="500" dur="11000" fill="hold"/>
                                        <p:tgtEl>
                                          <p:spTgt spid="36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1943 C 0.00434 0.03793 0.00712 0.05666 0.00781 0.07262 C 0.00851 0.08857 0.00729 0.08418 0.00625 0.11563 C 0.00521 0.14709 -1.94444000000001E-006 0.22178 0.00156 0.2611 C 0.00313 0.30042 0.01233 0.32192 0.01545 0.35129 C 0.01858 0.38067 0.02118 0.40425 0.02014 0.43733 C 0.0191 0.4704 0.00556 0.51133 0.00938 0.55018 C 0.0132 0.58904 0.03455 0.62303 0.04323 0.67114 C 0.05191 0.71901 0.05834 0.78122 0.06163 0.83696 C 0.06493 0.89269 0.06406 0.94889 0.0632 1.00509 E">
                                      <p:cBhvr>
                                        <p:cTn id="502" dur="13000" fill="hold"/>
                                        <p:tgtEl>
                                          <p:spTgt spid="3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5 -0.17692 C -0.01145 -0.14524 -0.02656 -0.11379 -0.02725 -0.06799 C -0.02795 -0.02243 0.00122 0.02775 -0.00104 0.09852 C -0.00329 0.16952 -0.03559 0.26942 -0.04097 0.35916 C -0.04635 0.44889 -0.01788 0.53955 -0.03333 0.63668 C -0.04878 0.73404 -0.11788 0.88251 -0.13333 0.94334 C -0.14878 1.00416 -0.13732 1.00277 -0.12569 1.00139 E">
                                      <p:cBhvr>
                                        <p:cTn id="504" dur="12000" fill="hold"/>
                                        <p:tgtEl>
                                          <p:spTgt spid="3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6175 C 0.00329 -0.01041 0.0026 0.04093 0.00243 0.0784 C 0.00225 0.1161 0.00364 0.12812 0.00243 0.16327 C 0.00121 0.19843 -0.00799 0.25046 -0.00521 0.29024 C -0.00243 0.33002 0.01111 0.35523 0.01927 0.40171 C 0.02743 0.4482 0.04514 0.51364 0.04392 0.56915 C 0.0427 0.62442 0.01753 0.68871 0.01163 0.73381 C 0.00573 0.77891 0.00746 0.80828 0.0085 0.83881 C 0.00954 0.8691 0.0177 0.89315 0.0177 0.91674 C 0.0177 0.94033 0.01007 0.96253 0.0085 0.98127 C 0.00694 1.00023 0.0085 1.02197 0.0085 1.03053 E">
                                      <p:cBhvr>
                                        <p:cTn id="506" dur="11000" fill="hold"/>
                                        <p:tgtEl>
                                          <p:spTgt spid="36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4 0.0185 C -0.01146 0.0451 -0.02657 0.07193 -0.02726 0.11078 C -0.02795 0.14963 0.00121 0.19195 -0.00104 0.25232 C -0.0033 0.31268 -0.03559 0.39755 -0.04097 0.47364 C -0.04636 0.54973 -0.01788 0.62674 -0.03334 0.7093 C -0.04879 0.79186 -0.11788 0.9179 -0.13334 0.96948 C -0.14879 1.02105 -0.13733 1.01989 -0.1257 1.01874 E">
                                      <p:cBhvr>
                                        <p:cTn id="508" dur="11000" fill="hold"/>
                                        <p:tgtEl>
                                          <p:spTgt spid="3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66667E-006 -2.22222E-006 C -0.00052 0.02292 -0.00104 0.04537 1.66667E-006 0.07639 C 0.00104 0.10718 0.00729 0.15672 0.00625 0.18704 C 0.00521 0.21736 -0.00313 0.22986 -0.00608 0.26042 C -0.00903 0.29028 -0.0099 0.33009 -0.01129 0.36783 C -0.01268 0.40579 -0.01441 0.44884 -0.01424 0.48727 C -0.01406 0.5257 -0.01111 0.55834 -0.01024 0.59815 C -0.00938 0.63773 -0.00799 0.68565 -0.0092 0.72616 C -0.01042 0.76597 -0.01684 0.78588 -0.01736 0.83959 C -0.01788 0.89329 -0.01024 0.99005 -0.01233 1.04931 C -0.01441 1.1081 -0.02622 1.15209 -0.02969 1.1919 C -0.03299 1.23195 -0.03299 1.25625 -0.03281 1.28866 C -0.03247 1.32037 -0.0283 1.36158 -0.02761 1.38449 C -0.02691 1.40741 -0.0283 1.41366 -0.02865 1.42523 C -0.02899 1.43634 -0.02952 1.4507 -0.02969 1.45463 E">
                                      <p:cBhvr>
                                        <p:cTn id="510" dur="11000" fill="hold"/>
                                        <p:tgtEl>
                                          <p:spTgt spid="3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6175 C 0.00329 -0.01041 0.0026 0.04093 0.00243 0.0784 C 0.00225 0.1161 0.00364 0.12812 0.00243 0.16327 C 0.00121 0.19843 -0.00799 0.25046 -0.00521 0.29024 C -0.00243 0.33002 0.01111 0.35523 0.01927 0.40171 C 0.02743 0.4482 0.04514 0.51364 0.04392 0.56915 C 0.0427 0.62442 0.01753 0.68871 0.01163 0.73381 C 0.00573 0.77891 0.00746 0.80828 0.0085 0.83881 C 0.00954 0.8691 0.0177 0.89315 0.0177 0.91674 C 0.0177 0.94033 0.01007 0.96253 0.0085 0.98127 C 0.00694 1.00023 0.0085 1.02197 0.0085 1.03053 E">
                                      <p:cBhvr>
                                        <p:cTn id="512" dur="11000" fill="hold"/>
                                        <p:tgtEl>
                                          <p:spTgt spid="3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1943 C 0.00434 0.03793 0.00712 0.05666 0.00781 0.07262 C 0.00851 0.08857 0.00729 0.08418 0.00625 0.11563 C 0.00521 0.14709 -1.94444000000001E-006 0.22178 0.00156 0.2611 C 0.00313 0.30042 0.01233 0.32192 0.01545 0.35129 C 0.01858 0.38067 0.02118 0.40425 0.02014 0.43733 C 0.0191 0.4704 0.00556 0.51133 0.00938 0.55018 C 0.0132 0.58904 0.03455 0.62303 0.04323 0.67114 C 0.05191 0.71901 0.05834 0.78122 0.06163 0.83696 C 0.06493 0.89269 0.06406 0.94889 0.0632 1.00509 E">
                                      <p:cBhvr>
                                        <p:cTn id="514" dur="11000" fill="hold"/>
                                        <p:tgtEl>
                                          <p:spTgt spid="3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5 -0.17692 C -0.01145 -0.14524 -0.02656 -0.11379 -0.02725 -0.06799 C -0.02795 -0.02243 0.00122 0.02775 -0.00104 0.09852 C -0.00329 0.16952 -0.03559 0.26942 -0.04097 0.35916 C -0.04635 0.44889 -0.01788 0.53955 -0.03333 0.63668 C -0.04878 0.73404 -0.11788 0.88251 -0.13333 0.94334 C -0.14878 1.00416 -0.13732 1.00277 -0.12569 1.00139 E">
                                      <p:cBhvr>
                                        <p:cTn id="516" dur="11000" fill="hold"/>
                                        <p:tgtEl>
                                          <p:spTgt spid="3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7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95 -0.06181 C 0.00643 0.01458 0.00573 0.09004 0.00556 0.14514 C 0.00539 0.20092 0.0066 0.21852 0.00556 0.2706 C 0.00452 0.32222 -0.00399 0.3993 -0.00156 0.45764 C 0.00104 0.5162 0.01354 0.55347 0.02118 0.62106 C 0.02865 0.69004 0.04514 0.78611 0.04393 0.86759 C 0.04289 0.9493 0.01945 1.04328 0.01407 1.10995 C 0.00868 1.17615 0.01025 1.21944 0.01111 1.26435 C 0.01216 1.30926 0.01962 1.34444 0.01962 1.37939 C 0.01962 1.41435 0.01268 1.44676 0.01111 1.47453 C 0.00973 1.50254 0.01111 1.53426 0.01111 1.54768 E">
                                      <p:cBhvr>
                                        <p:cTn id="518" dur="11000" fill="hold"/>
                                        <p:tgtEl>
                                          <p:spTgt spid="36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07 4.44444E-006 C -8.33332999999967E-007 0.01689 -0.00069 0.03356 0.0007 0.05625 C 0.00226 0.07916 0.01076 0.1155 0.0092 0.13819 C 0.00781 0.16064 -0.00364 0.16967 -0.00764 0.19189 C -0.01163 0.21435 -0.01302 0.24375 -0.01493 0.27199 C -0.01684 0.29976 -0.01927 0.33171 -0.0191 0.36018 C -0.01875 0.38865 -0.01458 0.41319 -0.01337 0.44259 C -0.01233 0.47199 -0.01042 0.5074 -0.01198 0.53726 C -0.01354 0.56689 -0.02257 0.58148 -0.02326 0.62129 C -0.02413 0.66157 -0.01337 0.73333 -0.01632 0.77708 C -0.0191 0.8206 -0.03559 0.85347 -0.04028 0.88287 C -0.04496 0.91226 -0.04496 0.93032 -0.04462 0.95439 C -0.0441 0.97777 -0.03837 1.00833 -0.03733 1.02546 C -0.03646 1.04213 -0.03837 1.04699 -0.03889 1.05555 C -0.03924 1.06388 -0.0401 1.0743 -0.04028 1.07754 E">
                                      <p:cBhvr>
                                        <p:cTn id="520" dur="10000" fill="hold"/>
                                        <p:tgtEl>
                                          <p:spTgt spid="3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1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44444E-006 C -0.00104 0.01759 -0.00191 0.03495 1.66667E-006 0.05902 C 0.00191 0.08287 0.01285 0.12129 0.01094 0.14444 C 0.00903 0.16782 -0.00573 0.17754 -0.01094 0.20069 C -0.01615 0.2243 -0.01771 0.25509 -0.02014 0.28449 C -0.02274 0.31365 -0.02604 0.34722 -0.02552 0.37708 C -0.02518 0.40671 -0.01979 0.43217 -0.0184 0.46296 C -0.01684 0.49398 -0.01441 0.53101 -0.01649 0.56226 C -0.01858 0.59328 -0.03004 0.60856 -0.03108 0.65023 C -0.03212 0.69213 -0.0184 0.76736 -0.02205 0.81319 C -0.0257 0.85879 -0.04705 0.89305 -0.05295 0.92384 C -0.05886 0.95463 -0.05903 0.97361 -0.05851 0.99861 C -0.05781 1.02314 -0.05052 1.05532 -0.04931 1.07291 C -0.04792 1.0905 -0.05052 1.0956 -0.05104 1.10463 C -0.05174 1.11342 -0.05278 1.12407 -0.05295 1.12754 E">
                                      <p:cBhvr>
                                        <p:cTn id="522" dur="13000" fill="hold"/>
                                        <p:tgtEl>
                                          <p:spTgt spid="3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3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-3.7037E-006 C 1.11111000000003E-006 0.02246 -0.0007 0.04375 0.00069 0.07361 C 0.00226 0.10371 0.01076 0.15162 0.0092 0.18079 C 0.00781 0.21019 -0.00382 0.22246 -0.00781 0.2507 C -0.01181 0.28033 -0.01302 0.31829 -0.01493 0.35533 C -0.01684 0.39121 -0.01945 0.43195 -0.0191 0.46945 C -0.01875 0.50672 -0.01458 0.53797 -0.01354 0.57662 C -0.01233 0.61505 -0.01042 0.66135 -0.01215 0.7 C -0.01372 0.73843 -0.02257 0.75787 -0.02344 0.80949 C -0.02431 0.86181 -0.01354 0.95556 -0.01632 1.01227 C -0.01927 1.06922 -0.03576 1.11204 -0.04045 1.15024 C -0.04514 1.18889 -0.04514 1.21227 -0.04479 1.24352 C -0.04427 1.27408 -0.03854 1.31412 -0.0375 1.33611 C -0.03663 1.35811 -0.03854 1.36459 -0.03906 1.37547 C -0.03941 1.38658 -0.04028 1.4 -0.04045 1.4044 E">
                                      <p:cBhvr>
                                        <p:cTn id="524" dur="11000" fill="hold"/>
                                        <p:tgtEl>
                                          <p:spTgt spid="3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85185E-006 C 0.00278 0.025 0.00556 0.05 0.00625 0.07106 C 0.00695 0.09236 0.00573 0.08657 0.00469 0.12824 C 0.00365 0.17014 -0.00156 0.26921 -1.94444E-006 0.32176 C 0.00156 0.37291 0.01077 0.40139 0.01389 0.44051 C 0.01702 0.47963 0.01962 0.51088 0.01858 0.55509 C 0.01754 0.59884 0.004 0.65324 0.00781 0.70486 C 0.01163 0.75648 0.03299 0.80162 0.04167 0.86551 C 0.05035 0.92916 0.05677 1.0118 0.06007 1.08611 C 0.06337 1.15995 0.0625 1.23472 0.06163 1.30972 E">
                                      <p:cBhvr>
                                        <p:cTn id="526" dur="12000" fill="hold"/>
                                        <p:tgtEl>
                                          <p:spTgt spid="36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7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4 0.0185 C -0.01146 0.0451 -0.02657 0.07193 -0.02726 0.11078 C -0.02795 0.14963 0.00121 0.19195 -0.00104 0.25232 C -0.0033 0.31268 -0.03559 0.39755 -0.04097 0.47364 C -0.04636 0.54973 -0.01788 0.62674 -0.03334 0.7093 C -0.04879 0.79186 -0.11788 0.9179 -0.13334 0.96948 C -0.14879 1.02105 -0.13733 1.01989 -0.1257 1.01874 E">
                                      <p:cBhvr>
                                        <p:cTn id="528" dur="13000" fill="hold"/>
                                        <p:tgtEl>
                                          <p:spTgt spid="3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069 0 C 2.50000000000001E-006 0.01713 -0.0007 0.0338 0.00069 0.05694 C 0.00225 0.07986 0.01076 0.1162 0.0092 0.13889 C 0.00781 0.16157 -0.00382 0.17083 -0.00781 0.19352 C -0.01181 0.21574 -0.01302 0.24537 -0.01493 0.27338 C -0.01684 0.30162 -0.01945 0.3338 -0.0191 0.36204 C -0.01875 0.39097 -0.01459 0.41505 -0.01354 0.44468 C -0.01233 0.47431 -0.01042 0.51019 -0.01216 0.54005 C -0.01372 0.57014 -0.02257 0.58472 -0.02344 0.62477 C -0.02431 0.66505 -0.01354 0.73727 -0.01632 0.78125 C -0.01927 0.825 -0.03577 0.85787 -0.04045 0.8875 C -0.04514 0.91736 -0.04514 0.93542 -0.04479 0.95949 C -0.04427 0.9831 -0.03854 1.01389 -0.0375 1.03102 C -0.03663 1.04792 -0.03854 1.05255 -0.03906 1.06134 C -0.03941 1.06944 -0.04028 1.08032 -0.04045 1.0831 E">
                                      <p:cBhvr>
                                        <p:cTn id="530" dur="10000" fill="hold"/>
                                        <p:tgtEl>
                                          <p:spTgt spid="36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36 -0.06181 C 0.01284 -0.00417 0.01232 0.05301 0.01215 0.09467 C 0.01197 0.1368 0.01302 0.15 0.01215 0.18866 C 0.01111 0.22778 0.00416 0.28588 0.00625 0.32986 C 0.00833 0.37407 0.01875 0.40208 0.02517 0.45347 C 0.03142 0.50509 0.04513 0.57824 0.04409 0.63958 C 0.04322 0.70139 0.02378 0.77268 0.01927 0.82315 C 0.01458 0.87291 0.01597 0.90579 0.01684 0.93958 C 0.01753 0.97361 0.02395 1.00023 0.02395 1.02662 C 0.02395 1.05301 0.01805 1.07754 0.01684 1.09861 C 0.01562 1.11967 0.01684 1.14375 0.01684 1.1537 E">
                                      <p:cBhvr>
                                        <p:cTn id="532" dur="13000" fill="hold"/>
                                        <p:tgtEl>
                                          <p:spTgt spid="3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3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81481E-006 C 0.00277 0.02662 0.00573 0.053 0.00642 0.07592 C 0.00711 0.09814 0.0059 0.09236 0.00468 0.1368 C 0.00364 0.18171 -0.00157 0.28726 3.33333E-006 0.34305 C 0.00156 0.39884 0.01093 0.4287 0.01423 0.47037 C 0.01736 0.51203 0.02014 0.54537 0.01909 0.59236 C 0.01788 0.63912 0.00399 0.69722 0.00798 0.75231 C 0.01198 0.8074 0.03385 0.85578 0.04271 0.92384 C 0.05156 0.99189 0.05816 1.08009 0.06163 1.15902 C 0.0651 1.23819 0.06406 1.31782 0.06319 1.39791 E">
                                      <p:cBhvr>
                                        <p:cTn id="534" dur="11000" fill="hold"/>
                                        <p:tgtEl>
                                          <p:spTgt spid="36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5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042 -0.17685 C 0.04531 -0.13726 0.03021 -0.09884 0.02951 -0.04259 C 0.02882 0.01343 0.05798 0.07524 0.05573 0.16204 C 0.05347 0.24931 0.02118 0.37153 0.0158 0.48149 C 0.01042 0.59213 0.03889 0.70301 0.02344 0.82269 C 0.00798 0.94213 -0.06111 1.12477 -0.07656 1.19954 C -0.09202 1.27454 -0.08056 1.27246 -0.06892 1.27084 E">
                                      <p:cBhvr>
                                        <p:cTn id="536" dur="13000" fill="hold"/>
                                        <p:tgtEl>
                                          <p:spTgt spid="3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7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4 0.0185 C -0.01146 0.0451 -0.02657 0.07193 -0.02726 0.11078 C -0.02795 0.14963 0.00121 0.19195 -0.00104 0.25232 C -0.0033 0.31268 -0.03559 0.39755 -0.04097 0.47364 C -0.04636 0.54973 -0.01788 0.62674 -0.03334 0.7093 C -0.04879 0.79186 -0.11788 0.9179 -0.13334 0.96948 C -0.14879 1.02105 -0.13733 1.01989 -0.1257 1.01874 E">
                                      <p:cBhvr>
                                        <p:cTn id="538" dur="13000" fill="hold"/>
                                        <p:tgtEl>
                                          <p:spTgt spid="3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9" dur="indefinite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44444E-006 0 C -0.00052 0.01713 -0.00086 0.0338 -4.44444E-006 0.05694 C 0.00105 0.07986 0.0073 0.1162 0.00625 0.13889 C 0.00521 0.16157 -0.00312 0.17083 -0.00607 0.19352 C -0.00885 0.21574 -0.00972 0.24537 -0.01111 0.27338 C -0.0125 0.30162 -0.01441 0.3338 -0.01423 0.3625 C -0.01388 0.39097 -0.01093 0.41505 -0.01006 0.44468 C -0.00937 0.47431 -0.00798 0.51019 -0.00902 0.54005 C -0.01024 0.57014 -0.01666 0.58472 -0.01718 0.62477 C -0.01788 0.66505 -0.01006 0.73727 -0.01215 0.78125 C -0.01423 0.825 -0.02604 0.85787 -0.02951 0.8875 C -0.03281 0.91736 -0.03281 0.93542 -0.03263 0.95949 C -0.03229 0.9831 -0.02812 1.01389 -0.02743 1.03102 C -0.02673 1.04792 -0.02812 1.05255 -0.02847 1.06134 C -0.02881 1.06944 -0.02934 1.08032 -0.02951 1.0831 E">
                                      <p:cBhvr>
                                        <p:cTn id="540" dur="10000" fill="hold"/>
                                        <p:tgtEl>
                                          <p:spTgt spid="3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3.7037E-006 C -0.0151 0.03658 -0.03021 0.07292 -0.0309 0.12477 C -0.0316 0.17686 -0.00243 0.2338 -0.00469 0.31505 C -0.00694 0.39561 -0.03924 0.50949 -0.04462 0.61158 C -0.05 0.71366 -0.02153 0.8176 -0.03698 0.92848 C -0.05243 1.03936 -0.12153 1.2088 -0.13698 1.27824 C -0.15243 1.34792 -0.14097 1.34653 -0.12934 1.34491 E">
                                      <p:cBhvr>
                                        <p:cTn id="542" dur="11000" fill="hold"/>
                                        <p:tgtEl>
                                          <p:spTgt spid="3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3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6175 C 0.00329 -0.01041 0.0026 0.04093 0.00243 0.0784 C 0.00225 0.1161 0.00364 0.12812 0.00243 0.16327 C 0.00121 0.19843 -0.00799 0.25046 -0.00521 0.29024 C -0.00243 0.33002 0.01111 0.35523 0.01927 0.40171 C 0.02743 0.4482 0.04514 0.51364 0.04392 0.56915 C 0.0427 0.62442 0.01753 0.68871 0.01163 0.73381 C 0.00573 0.77891 0.00746 0.80828 0.0085 0.83881 C 0.00954 0.8691 0.0177 0.89315 0.0177 0.91674 C 0.0177 0.94033 0.01007 0.96253 0.0085 0.98127 C 0.00694 1.00023 0.0085 1.02197 0.0085 1.03053 E">
                                      <p:cBhvr>
                                        <p:cTn id="544" dur="12000" fill="hold"/>
                                        <p:tgtEl>
                                          <p:spTgt spid="36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5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4 0.0185 C -0.01146 0.0451 -0.02657 0.07193 -0.02726 0.11078 C -0.02795 0.14963 0.00121 0.19195 -0.00104 0.25232 C -0.0033 0.31268 -0.03559 0.39755 -0.04097 0.47364 C -0.04636 0.54973 -0.01788 0.62674 -0.03334 0.7093 C -0.04879 0.79186 -0.11788 0.9179 -0.13334 0.96948 C -0.14879 1.02105 -0.13733 1.01989 -0.1257 1.01874 E">
                                      <p:cBhvr>
                                        <p:cTn id="546" dur="13000" fill="hold"/>
                                        <p:tgtEl>
                                          <p:spTgt spid="36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44444E-006 0 C -0.00052 0.01713 -0.00086 0.0338 -4.44444E-006 0.05694 C 0.00105 0.07986 0.0073 0.1162 0.00625 0.13889 C 0.00521 0.16157 -0.00312 0.17083 -0.00607 0.19352 C -0.00885 0.21574 -0.00972 0.24537 -0.01111 0.27338 C -0.0125 0.30162 -0.01441 0.3338 -0.01423 0.3625 C -0.01388 0.39097 -0.01093 0.41505 -0.01006 0.44468 C -0.00937 0.47431 -0.00798 0.51019 -0.00902 0.54005 C -0.01024 0.57014 -0.01666 0.58472 -0.01718 0.62477 C -0.01788 0.66505 -0.01006 0.73727 -0.01215 0.78125 C -0.01423 0.825 -0.02604 0.85787 -0.02951 0.8875 C -0.03281 0.91736 -0.03281 0.93542 -0.03263 0.95949 C -0.03229 0.9831 -0.02812 1.01389 -0.02743 1.03102 C -0.02673 1.04792 -0.02812 1.05255 -0.02847 1.06134 C -0.02881 1.06944 -0.02934 1.08032 -0.02951 1.0831 E">
                                      <p:cBhvr>
                                        <p:cTn id="548" dur="10000" fill="hold"/>
                                        <p:tgtEl>
                                          <p:spTgt spid="37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9" dur="indefinite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44444E-006 0 C -0.00052 0.01713 -0.00086 0.0338 -4.44444E-006 0.05694 C 0.00105 0.07986 0.0073 0.1162 0.00625 0.13889 C 0.00521 0.16157 -0.00312 0.17083 -0.00607 0.19352 C -0.00885 0.21574 -0.00972 0.24537 -0.01111 0.27338 C -0.0125 0.30162 -0.01441 0.3338 -0.01423 0.3625 C -0.01388 0.39097 -0.01093 0.41505 -0.01006 0.44468 C -0.00937 0.47431 -0.00798 0.51019 -0.00902 0.54005 C -0.01024 0.57014 -0.01666 0.58472 -0.01718 0.62477 C -0.01788 0.66505 -0.01006 0.73727 -0.01215 0.78125 C -0.01423 0.825 -0.02604 0.85787 -0.02951 0.8875 C -0.03281 0.91736 -0.03281 0.93542 -0.03263 0.95949 C -0.03229 0.9831 -0.02812 1.01389 -0.02743 1.03102 C -0.02673 1.04792 -0.02812 1.05255 -0.02847 1.06134 C -0.02881 1.06944 -0.02934 1.08032 -0.02951 1.0831 E">
                                      <p:cBhvr>
                                        <p:cTn id="550" dur="10000" fill="hold"/>
                                        <p:tgtEl>
                                          <p:spTgt spid="37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44444E-006 0 C -0.00052 0.01713 -0.00086 0.0338 -4.44444E-006 0.05694 C 0.00105 0.07986 0.0073 0.1162 0.00625 0.13889 C 0.00521 0.16157 -0.00312 0.17083 -0.00607 0.19352 C -0.00885 0.21574 -0.00972 0.24537 -0.01111 0.27338 C -0.0125 0.30162 -0.01441 0.3338 -0.01423 0.3625 C -0.01388 0.39097 -0.01093 0.41505 -0.01006 0.44468 C -0.00937 0.47431 -0.00798 0.51019 -0.00902 0.54005 C -0.01024 0.57014 -0.01666 0.58472 -0.01718 0.62477 C -0.01788 0.66505 -0.01006 0.73727 -0.01215 0.78125 C -0.01423 0.825 -0.02604 0.85787 -0.02951 0.8875 C -0.03281 0.91736 -0.03281 0.93542 -0.03263 0.95949 C -0.03229 0.9831 -0.02812 1.01389 -0.02743 1.03102 C -0.02673 1.04792 -0.02812 1.05255 -0.02847 1.06134 C -0.02881 1.06944 -0.02934 1.08032 -0.02951 1.0831 E">
                                      <p:cBhvr>
                                        <p:cTn id="552" dur="10000" fill="hold"/>
                                        <p:tgtEl>
                                          <p:spTgt spid="37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3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6175 C 0.00329 -0.01041 0.0026 0.04093 0.00243 0.0784 C 0.00225 0.1161 0.00364 0.12812 0.00243 0.16327 C 0.00121 0.19843 -0.00799 0.25046 -0.00521 0.29024 C -0.00243 0.33002 0.01111 0.35523 0.01927 0.40171 C 0.02743 0.4482 0.04514 0.51364 0.04392 0.56915 C 0.0427 0.62442 0.01753 0.68871 0.01163 0.73381 C 0.00573 0.77891 0.00746 0.80828 0.0085 0.83881 C 0.00954 0.8691 0.0177 0.89315 0.0177 0.91674 C 0.0177 0.94033 0.01007 0.96253 0.0085 0.98127 C 0.00694 1.00023 0.0085 1.02197 0.0085 1.03053 E">
                                      <p:cBhvr>
                                        <p:cTn id="554" dur="11000" fill="hold"/>
                                        <p:tgtEl>
                                          <p:spTgt spid="37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5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6175 C 0.00329 -0.01041 0.0026 0.04093 0.00243 0.0784 C 0.00225 0.1161 0.00364 0.12812 0.00243 0.16327 C 0.00121 0.19843 -0.00799 0.25046 -0.00521 0.29024 C -0.00243 0.33002 0.01111 0.35523 0.01927 0.40171 C 0.02743 0.4482 0.04514 0.51364 0.04392 0.56915 C 0.0427 0.62442 0.01753 0.68871 0.01163 0.73381 C 0.00573 0.77891 0.00746 0.80828 0.0085 0.83881 C 0.00954 0.8691 0.0177 0.89315 0.0177 0.91674 C 0.0177 0.94033 0.01007 0.96253 0.0085 0.98127 C 0.00694 1.00023 0.0085 1.02197 0.0085 1.03053 E">
                                      <p:cBhvr>
                                        <p:cTn id="556" dur="11000" fill="hold"/>
                                        <p:tgtEl>
                                          <p:spTgt spid="37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6175 C 0.00329 -0.01041 0.0026 0.04093 0.00243 0.0784 C 0.00225 0.1161 0.00364 0.12812 0.00243 0.16327 C 0.00121 0.19843 -0.00799 0.25046 -0.00521 0.29024 C -0.00243 0.33002 0.01111 0.35523 0.01927 0.40171 C 0.02743 0.4482 0.04514 0.51364 0.04392 0.56915 C 0.0427 0.62442 0.01753 0.68871 0.01163 0.73381 C 0.00573 0.77891 0.00746 0.80828 0.0085 0.83881 C 0.00954 0.8691 0.0177 0.89315 0.0177 0.91674 C 0.0177 0.94033 0.01007 0.96253 0.0085 0.98127 C 0.00694 1.00023 0.0085 1.02197 0.0085 1.03053 E">
                                      <p:cBhvr>
                                        <p:cTn id="558" dur="11000" fill="hold"/>
                                        <p:tgtEl>
                                          <p:spTgt spid="37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9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6175 C 0.00329 -0.01041 0.0026 0.04093 0.00243 0.0784 C 0.00225 0.1161 0.00364 0.12812 0.00243 0.16327 C 0.00121 0.19843 -0.00799 0.25046 -0.00521 0.29024 C -0.00243 0.33002 0.01111 0.35523 0.01927 0.40171 C 0.02743 0.4482 0.04514 0.51364 0.04392 0.56915 C 0.0427 0.62442 0.01753 0.68871 0.01163 0.73381 C 0.00573 0.77891 0.00746 0.80828 0.0085 0.83881 C 0.00954 0.8691 0.0177 0.89315 0.0177 0.91674 C 0.0177 0.94033 0.01007 0.96253 0.0085 0.98127 C 0.00694 1.00023 0.0085 1.02197 0.0085 1.03053 E">
                                      <p:cBhvr>
                                        <p:cTn id="560" dur="11000" fill="hold"/>
                                        <p:tgtEl>
                                          <p:spTgt spid="3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1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6175 C 0.00329 -0.01041 0.0026 0.04093 0.00243 0.0784 C 0.00225 0.1161 0.00364 0.12812 0.00243 0.16327 C 0.00121 0.19843 -0.00799 0.25046 -0.00521 0.29024 C -0.00243 0.33002 0.01111 0.35523 0.01927 0.40171 C 0.02743 0.4482 0.04514 0.51364 0.04392 0.56915 C 0.0427 0.62442 0.01753 0.68871 0.01163 0.73381 C 0.00573 0.77891 0.00746 0.80828 0.0085 0.83881 C 0.00954 0.8691 0.0177 0.89315 0.0177 0.91674 C 0.0177 0.94033 0.01007 0.96253 0.0085 0.98127 C 0.00694 1.00023 0.0085 1.02197 0.0085 1.03053 E">
                                      <p:cBhvr>
                                        <p:cTn id="562" dur="11000" fill="hold"/>
                                        <p:tgtEl>
                                          <p:spTgt spid="3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6175 C 0.00329 -0.01041 0.0026 0.04093 0.00243 0.0784 C 0.00225 0.1161 0.00364 0.12812 0.00243 0.16327 C 0.00121 0.19843 -0.00799 0.25046 -0.00521 0.29024 C -0.00243 0.33002 0.01111 0.35523 0.01927 0.40171 C 0.02743 0.4482 0.04514 0.51364 0.04392 0.56915 C 0.0427 0.62442 0.01753 0.68871 0.01163 0.73381 C 0.00573 0.77891 0.00746 0.80828 0.0085 0.83881 C 0.00954 0.8691 0.0177 0.89315 0.0177 0.91674 C 0.0177 0.94033 0.01007 0.96253 0.0085 0.98127 C 0.00694 1.00023 0.0085 1.02197 0.0085 1.03053 E">
                                      <p:cBhvr>
                                        <p:cTn id="564" dur="11000" fill="hold"/>
                                        <p:tgtEl>
                                          <p:spTgt spid="37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5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6175 C 0.00329 -0.01041 0.0026 0.04093 0.00243 0.0784 C 0.00225 0.1161 0.00364 0.12812 0.00243 0.16327 C 0.00121 0.19843 -0.00799 0.25046 -0.00521 0.29024 C -0.00243 0.33002 0.01111 0.35523 0.01927 0.40171 C 0.02743 0.4482 0.04514 0.51364 0.04392 0.56915 C 0.0427 0.62442 0.01753 0.68871 0.01163 0.73381 C 0.00573 0.77891 0.00746 0.80828 0.0085 0.83881 C 0.00954 0.8691 0.0177 0.89315 0.0177 0.91674 C 0.0177 0.94033 0.01007 0.96253 0.0085 0.98127 C 0.00694 1.00023 0.0085 1.02197 0.0085 1.03053 E">
                                      <p:cBhvr>
                                        <p:cTn id="566" dur="11000" fill="hold"/>
                                        <p:tgtEl>
                                          <p:spTgt spid="3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6175 C 0.00329 -0.01041 0.0026 0.04093 0.00243 0.0784 C 0.00225 0.1161 0.00364 0.12812 0.00243 0.16327 C 0.00121 0.19843 -0.00799 0.25046 -0.00521 0.29024 C -0.00243 0.33002 0.01111 0.35523 0.01927 0.40171 C 0.02743 0.4482 0.04514 0.51364 0.04392 0.56915 C 0.0427 0.62442 0.01753 0.68871 0.01163 0.73381 C 0.00573 0.77891 0.00746 0.80828 0.0085 0.83881 C 0.00954 0.8691 0.0177 0.89315 0.0177 0.91674 C 0.0177 0.94033 0.01007 0.96253 0.0085 0.98127 C 0.00694 1.00023 0.0085 1.02197 0.0085 1.03053 E">
                                      <p:cBhvr>
                                        <p:cTn id="568" dur="11000" fill="hold"/>
                                        <p:tgtEl>
                                          <p:spTgt spid="37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66667E-006 -2.22222E-006 C -0.00052 0.02292 -0.00104 0.04537 1.66667E-006 0.07639 C 0.00104 0.10718 0.00729 0.15672 0.00625 0.18704 C 0.00521 0.21736 -0.00313 0.22986 -0.00608 0.26042 C -0.00903 0.29028 -0.0099 0.33009 -0.01129 0.36783 C -0.01268 0.40579 -0.01441 0.44884 -0.01424 0.48727 C -0.01406 0.5257 -0.01111 0.55834 -0.01024 0.59815 C -0.00938 0.63773 -0.00799 0.68565 -0.0092 0.72616 C -0.01042 0.76597 -0.01684 0.78588 -0.01736 0.83959 C -0.01788 0.89329 -0.01024 0.99005 -0.01233 1.04931 C -0.01441 1.1081 -0.02622 1.15209 -0.02969 1.1919 C -0.03299 1.23195 -0.03299 1.25625 -0.03281 1.28866 C -0.03247 1.32037 -0.0283 1.36158 -0.02761 1.38449 C -0.02691 1.40741 -0.0283 1.41366 -0.02865 1.42523 C -0.02899 1.43634 -0.02952 1.4507 -0.02969 1.45463 E">
                                      <p:cBhvr>
                                        <p:cTn id="570" dur="11000" fill="hold"/>
                                        <p:tgtEl>
                                          <p:spTgt spid="3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1" dur="indefinite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3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dur="indefinite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3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夜的钢琴曲(五).mp3" descr=""/>
          <p:cNvPicPr/>
          <p:nvPr/>
        </p:nvPicPr>
        <p:blipFill>
          <a:blip r:embed="rId1"/>
          <a:stretch/>
        </p:blipFill>
        <p:spPr>
          <a:xfrm>
            <a:off x="9677520" y="-13716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08" name="Freeform 38"/>
          <p:cNvSpPr/>
          <p:nvPr/>
        </p:nvSpPr>
        <p:spPr>
          <a:xfrm>
            <a:off x="4165560" y="1476360"/>
            <a:ext cx="828720" cy="836640"/>
          </a:xfrm>
          <a:custGeom>
            <a:avLst/>
            <a:gdLst/>
            <a:ahLst/>
            <a:rect l="l" t="t" r="r" b="b"/>
            <a:pathLst>
              <a:path w="684" h="691">
                <a:moveTo>
                  <a:pt x="320" y="224"/>
                </a:moveTo>
                <a:cubicBezTo>
                  <a:pt x="315" y="165"/>
                  <a:pt x="236" y="74"/>
                  <a:pt x="179" y="50"/>
                </a:cubicBezTo>
                <a:cubicBezTo>
                  <a:pt x="77" y="6"/>
                  <a:pt x="18" y="120"/>
                  <a:pt x="11" y="201"/>
                </a:cubicBezTo>
                <a:cubicBezTo>
                  <a:pt x="0" y="322"/>
                  <a:pt x="53" y="394"/>
                  <a:pt x="128" y="473"/>
                </a:cubicBezTo>
                <a:cubicBezTo>
                  <a:pt x="167" y="514"/>
                  <a:pt x="205" y="553"/>
                  <a:pt x="248" y="595"/>
                </a:cubicBezTo>
                <a:cubicBezTo>
                  <a:pt x="264" y="611"/>
                  <a:pt x="304" y="681"/>
                  <a:pt x="327" y="685"/>
                </a:cubicBezTo>
                <a:cubicBezTo>
                  <a:pt x="333" y="685"/>
                  <a:pt x="337" y="689"/>
                  <a:pt x="342" y="691"/>
                </a:cubicBezTo>
                <a:cubicBezTo>
                  <a:pt x="356" y="579"/>
                  <a:pt x="389" y="555"/>
                  <a:pt x="472" y="493"/>
                </a:cubicBezTo>
                <a:cubicBezTo>
                  <a:pt x="560" y="428"/>
                  <a:pt x="654" y="306"/>
                  <a:pt x="675" y="196"/>
                </a:cubicBezTo>
                <a:cubicBezTo>
                  <a:pt x="683" y="154"/>
                  <a:pt x="684" y="63"/>
                  <a:pt x="649" y="32"/>
                </a:cubicBezTo>
                <a:cubicBezTo>
                  <a:pt x="612" y="0"/>
                  <a:pt x="557" y="24"/>
                  <a:pt x="519" y="45"/>
                </a:cubicBezTo>
                <a:cubicBezTo>
                  <a:pt x="444" y="86"/>
                  <a:pt x="381" y="162"/>
                  <a:pt x="330" y="217"/>
                </a:cubicBezTo>
                <a:cubicBezTo>
                  <a:pt x="325" y="223"/>
                  <a:pt x="321" y="226"/>
                  <a:pt x="315" y="235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0"/>
          <p:cNvSpPr/>
          <p:nvPr/>
        </p:nvSpPr>
        <p:spPr>
          <a:xfrm>
            <a:off x="1143000" y="2819520"/>
            <a:ext cx="7010280" cy="36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微软雅黑"/>
              </a:rPr>
              <a:t>你跟我都有过这样的一份感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微软雅黑"/>
              </a:rPr>
              <a:t>它让你懂得了自己真正想要的是什么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微软雅黑"/>
              </a:rPr>
              <a:t>甚至包括爱情本身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微软雅黑"/>
              </a:rPr>
              <a:t>爱情究竟应该是什么样子的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微软雅黑"/>
              </a:rPr>
              <a:t>。。。。。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微软雅黑"/>
              </a:rPr>
              <a:t>去找回原来的自己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微软雅黑"/>
              </a:rPr>
              <a:t>曾经的心里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微软雅黑"/>
              </a:rPr>
              <a:t>装着的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微软雅黑"/>
              </a:rPr>
              <a:t>是你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微软雅黑"/>
              </a:rPr>
              <a:t>最初的爱情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3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reeform 3"/>
          <p:cNvSpPr/>
          <p:nvPr/>
        </p:nvSpPr>
        <p:spPr>
          <a:xfrm>
            <a:off x="4165560" y="1476360"/>
            <a:ext cx="828720" cy="836640"/>
          </a:xfrm>
          <a:custGeom>
            <a:avLst/>
            <a:gdLst/>
            <a:ahLst/>
            <a:rect l="l" t="t" r="r" b="b"/>
            <a:pathLst>
              <a:path w="684" h="691">
                <a:moveTo>
                  <a:pt x="320" y="224"/>
                </a:moveTo>
                <a:cubicBezTo>
                  <a:pt x="315" y="165"/>
                  <a:pt x="236" y="74"/>
                  <a:pt x="179" y="50"/>
                </a:cubicBezTo>
                <a:cubicBezTo>
                  <a:pt x="77" y="6"/>
                  <a:pt x="18" y="120"/>
                  <a:pt x="11" y="201"/>
                </a:cubicBezTo>
                <a:cubicBezTo>
                  <a:pt x="0" y="322"/>
                  <a:pt x="53" y="394"/>
                  <a:pt x="128" y="473"/>
                </a:cubicBezTo>
                <a:cubicBezTo>
                  <a:pt x="167" y="514"/>
                  <a:pt x="205" y="553"/>
                  <a:pt x="248" y="595"/>
                </a:cubicBezTo>
                <a:cubicBezTo>
                  <a:pt x="264" y="611"/>
                  <a:pt x="304" y="681"/>
                  <a:pt x="327" y="685"/>
                </a:cubicBezTo>
                <a:cubicBezTo>
                  <a:pt x="333" y="685"/>
                  <a:pt x="337" y="689"/>
                  <a:pt x="342" y="691"/>
                </a:cubicBezTo>
                <a:cubicBezTo>
                  <a:pt x="356" y="579"/>
                  <a:pt x="389" y="555"/>
                  <a:pt x="472" y="493"/>
                </a:cubicBezTo>
                <a:cubicBezTo>
                  <a:pt x="560" y="428"/>
                  <a:pt x="654" y="306"/>
                  <a:pt x="675" y="196"/>
                </a:cubicBezTo>
                <a:cubicBezTo>
                  <a:pt x="683" y="154"/>
                  <a:pt x="684" y="63"/>
                  <a:pt x="649" y="32"/>
                </a:cubicBezTo>
                <a:cubicBezTo>
                  <a:pt x="612" y="0"/>
                  <a:pt x="557" y="24"/>
                  <a:pt x="519" y="45"/>
                </a:cubicBezTo>
                <a:cubicBezTo>
                  <a:pt x="444" y="86"/>
                  <a:pt x="381" y="162"/>
                  <a:pt x="330" y="217"/>
                </a:cubicBezTo>
                <a:cubicBezTo>
                  <a:pt x="325" y="223"/>
                  <a:pt x="321" y="226"/>
                  <a:pt x="315" y="235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4"/>
          <p:cNvSpPr/>
          <p:nvPr/>
        </p:nvSpPr>
        <p:spPr>
          <a:xfrm>
            <a:off x="4178160" y="1476360"/>
            <a:ext cx="816120" cy="824040"/>
          </a:xfrm>
          <a:custGeom>
            <a:avLst/>
            <a:gdLst/>
            <a:ahLst/>
            <a:rect l="l" t="t" r="r" b="b"/>
            <a:pathLst>
              <a:path w="674" h="680">
                <a:moveTo>
                  <a:pt x="305" y="217"/>
                </a:moveTo>
                <a:cubicBezTo>
                  <a:pt x="305" y="215"/>
                  <a:pt x="304" y="213"/>
                  <a:pt x="304" y="212"/>
                </a:cubicBezTo>
                <a:cubicBezTo>
                  <a:pt x="304" y="210"/>
                  <a:pt x="303" y="208"/>
                  <a:pt x="303" y="206"/>
                </a:cubicBezTo>
                <a:cubicBezTo>
                  <a:pt x="290" y="150"/>
                  <a:pt x="210" y="71"/>
                  <a:pt x="158" y="49"/>
                </a:cubicBezTo>
                <a:cubicBezTo>
                  <a:pt x="145" y="43"/>
                  <a:pt x="130" y="40"/>
                  <a:pt x="118" y="40"/>
                </a:cubicBezTo>
                <a:cubicBezTo>
                  <a:pt x="43" y="37"/>
                  <a:pt x="7" y="134"/>
                  <a:pt x="1" y="201"/>
                </a:cubicBezTo>
                <a:cubicBezTo>
                  <a:pt x="0" y="213"/>
                  <a:pt x="1" y="225"/>
                  <a:pt x="1" y="235"/>
                </a:cubicBezTo>
                <a:cubicBezTo>
                  <a:pt x="1" y="237"/>
                  <a:pt x="1" y="239"/>
                  <a:pt x="1" y="241"/>
                </a:cubicBezTo>
                <a:cubicBezTo>
                  <a:pt x="2" y="243"/>
                  <a:pt x="2" y="245"/>
                  <a:pt x="2" y="247"/>
                </a:cubicBezTo>
                <a:cubicBezTo>
                  <a:pt x="6" y="338"/>
                  <a:pt x="50" y="410"/>
                  <a:pt x="112" y="476"/>
                </a:cubicBezTo>
                <a:cubicBezTo>
                  <a:pt x="150" y="516"/>
                  <a:pt x="192" y="550"/>
                  <a:pt x="234" y="590"/>
                </a:cubicBezTo>
                <a:cubicBezTo>
                  <a:pt x="249" y="606"/>
                  <a:pt x="292" y="671"/>
                  <a:pt x="314" y="674"/>
                </a:cubicBezTo>
                <a:cubicBezTo>
                  <a:pt x="320" y="675"/>
                  <a:pt x="324" y="678"/>
                  <a:pt x="329" y="680"/>
                </a:cubicBezTo>
                <a:cubicBezTo>
                  <a:pt x="329" y="678"/>
                  <a:pt x="329" y="677"/>
                  <a:pt x="330" y="675"/>
                </a:cubicBezTo>
                <a:cubicBezTo>
                  <a:pt x="330" y="673"/>
                  <a:pt x="330" y="672"/>
                  <a:pt x="331" y="670"/>
                </a:cubicBezTo>
                <a:cubicBezTo>
                  <a:pt x="345" y="570"/>
                  <a:pt x="387" y="554"/>
                  <a:pt x="465" y="496"/>
                </a:cubicBezTo>
                <a:cubicBezTo>
                  <a:pt x="465" y="496"/>
                  <a:pt x="465" y="496"/>
                  <a:pt x="465" y="496"/>
                </a:cubicBezTo>
                <a:cubicBezTo>
                  <a:pt x="465" y="495"/>
                  <a:pt x="465" y="495"/>
                  <a:pt x="465" y="495"/>
                </a:cubicBezTo>
                <a:cubicBezTo>
                  <a:pt x="518" y="456"/>
                  <a:pt x="569" y="385"/>
                  <a:pt x="608" y="320"/>
                </a:cubicBezTo>
                <a:cubicBezTo>
                  <a:pt x="609" y="319"/>
                  <a:pt x="609" y="317"/>
                  <a:pt x="610" y="316"/>
                </a:cubicBezTo>
                <a:cubicBezTo>
                  <a:pt x="611" y="315"/>
                  <a:pt x="612" y="313"/>
                  <a:pt x="613" y="312"/>
                </a:cubicBezTo>
                <a:cubicBezTo>
                  <a:pt x="634" y="274"/>
                  <a:pt x="656" y="231"/>
                  <a:pt x="663" y="193"/>
                </a:cubicBezTo>
                <a:cubicBezTo>
                  <a:pt x="668" y="170"/>
                  <a:pt x="674" y="128"/>
                  <a:pt x="668" y="93"/>
                </a:cubicBezTo>
                <a:cubicBezTo>
                  <a:pt x="664" y="67"/>
                  <a:pt x="652" y="44"/>
                  <a:pt x="638" y="31"/>
                </a:cubicBezTo>
                <a:cubicBezTo>
                  <a:pt x="602" y="0"/>
                  <a:pt x="542" y="23"/>
                  <a:pt x="505" y="44"/>
                </a:cubicBezTo>
                <a:cubicBezTo>
                  <a:pt x="500" y="47"/>
                  <a:pt x="494" y="50"/>
                  <a:pt x="489" y="53"/>
                </a:cubicBezTo>
                <a:cubicBezTo>
                  <a:pt x="488" y="54"/>
                  <a:pt x="486" y="54"/>
                  <a:pt x="485" y="55"/>
                </a:cubicBezTo>
                <a:cubicBezTo>
                  <a:pt x="483" y="56"/>
                  <a:pt x="482" y="57"/>
                  <a:pt x="481" y="58"/>
                </a:cubicBezTo>
                <a:cubicBezTo>
                  <a:pt x="419" y="99"/>
                  <a:pt x="361" y="152"/>
                  <a:pt x="318" y="199"/>
                </a:cubicBezTo>
                <a:cubicBezTo>
                  <a:pt x="312" y="205"/>
                  <a:pt x="305" y="219"/>
                  <a:pt x="299" y="228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5"/>
          <p:cNvSpPr/>
          <p:nvPr/>
        </p:nvSpPr>
        <p:spPr>
          <a:xfrm>
            <a:off x="4178160" y="1479600"/>
            <a:ext cx="816120" cy="809640"/>
          </a:xfrm>
          <a:custGeom>
            <a:avLst/>
            <a:gdLst/>
            <a:ahLst/>
            <a:rect l="l" t="t" r="r" b="b"/>
            <a:pathLst>
              <a:path w="674" h="668">
                <a:moveTo>
                  <a:pt x="298" y="209"/>
                </a:moveTo>
                <a:cubicBezTo>
                  <a:pt x="298" y="207"/>
                  <a:pt x="298" y="206"/>
                  <a:pt x="297" y="204"/>
                </a:cubicBezTo>
                <a:cubicBezTo>
                  <a:pt x="297" y="202"/>
                  <a:pt x="296" y="200"/>
                  <a:pt x="296" y="199"/>
                </a:cubicBezTo>
                <a:cubicBezTo>
                  <a:pt x="284" y="144"/>
                  <a:pt x="196" y="68"/>
                  <a:pt x="147" y="47"/>
                </a:cubicBezTo>
                <a:cubicBezTo>
                  <a:pt x="133" y="41"/>
                  <a:pt x="117" y="38"/>
                  <a:pt x="106" y="38"/>
                </a:cubicBezTo>
                <a:cubicBezTo>
                  <a:pt x="33" y="35"/>
                  <a:pt x="7" y="135"/>
                  <a:pt x="1" y="200"/>
                </a:cubicBezTo>
                <a:cubicBezTo>
                  <a:pt x="0" y="211"/>
                  <a:pt x="2" y="223"/>
                  <a:pt x="2" y="234"/>
                </a:cubicBezTo>
                <a:cubicBezTo>
                  <a:pt x="2" y="236"/>
                  <a:pt x="3" y="238"/>
                  <a:pt x="3" y="239"/>
                </a:cubicBezTo>
                <a:cubicBezTo>
                  <a:pt x="3" y="241"/>
                  <a:pt x="3" y="243"/>
                  <a:pt x="3" y="245"/>
                </a:cubicBezTo>
                <a:cubicBezTo>
                  <a:pt x="7" y="333"/>
                  <a:pt x="46" y="414"/>
                  <a:pt x="106" y="478"/>
                </a:cubicBezTo>
                <a:cubicBezTo>
                  <a:pt x="143" y="517"/>
                  <a:pt x="189" y="545"/>
                  <a:pt x="229" y="584"/>
                </a:cubicBezTo>
                <a:cubicBezTo>
                  <a:pt x="244" y="599"/>
                  <a:pt x="289" y="660"/>
                  <a:pt x="311" y="663"/>
                </a:cubicBezTo>
                <a:cubicBezTo>
                  <a:pt x="316" y="664"/>
                  <a:pt x="321" y="666"/>
                  <a:pt x="325" y="668"/>
                </a:cubicBezTo>
                <a:cubicBezTo>
                  <a:pt x="325" y="667"/>
                  <a:pt x="326" y="665"/>
                  <a:pt x="326" y="663"/>
                </a:cubicBezTo>
                <a:cubicBezTo>
                  <a:pt x="326" y="662"/>
                  <a:pt x="327" y="661"/>
                  <a:pt x="327" y="659"/>
                </a:cubicBezTo>
                <a:cubicBezTo>
                  <a:pt x="341" y="562"/>
                  <a:pt x="391" y="553"/>
                  <a:pt x="466" y="497"/>
                </a:cubicBezTo>
                <a:cubicBezTo>
                  <a:pt x="466" y="497"/>
                  <a:pt x="466" y="497"/>
                  <a:pt x="466" y="497"/>
                </a:cubicBezTo>
                <a:cubicBezTo>
                  <a:pt x="466" y="497"/>
                  <a:pt x="466" y="497"/>
                  <a:pt x="466" y="497"/>
                </a:cubicBezTo>
                <a:cubicBezTo>
                  <a:pt x="517" y="459"/>
                  <a:pt x="563" y="379"/>
                  <a:pt x="601" y="316"/>
                </a:cubicBezTo>
                <a:cubicBezTo>
                  <a:pt x="602" y="315"/>
                  <a:pt x="602" y="313"/>
                  <a:pt x="603" y="312"/>
                </a:cubicBezTo>
                <a:cubicBezTo>
                  <a:pt x="604" y="311"/>
                  <a:pt x="605" y="309"/>
                  <a:pt x="606" y="308"/>
                </a:cubicBezTo>
                <a:cubicBezTo>
                  <a:pt x="627" y="271"/>
                  <a:pt x="653" y="225"/>
                  <a:pt x="660" y="189"/>
                </a:cubicBezTo>
                <a:cubicBezTo>
                  <a:pt x="664" y="166"/>
                  <a:pt x="674" y="123"/>
                  <a:pt x="669" y="90"/>
                </a:cubicBezTo>
                <a:cubicBezTo>
                  <a:pt x="665" y="65"/>
                  <a:pt x="650" y="42"/>
                  <a:pt x="636" y="30"/>
                </a:cubicBezTo>
                <a:cubicBezTo>
                  <a:pt x="601" y="0"/>
                  <a:pt x="536" y="22"/>
                  <a:pt x="500" y="42"/>
                </a:cubicBezTo>
                <a:cubicBezTo>
                  <a:pt x="495" y="45"/>
                  <a:pt x="489" y="47"/>
                  <a:pt x="484" y="50"/>
                </a:cubicBezTo>
                <a:cubicBezTo>
                  <a:pt x="483" y="51"/>
                  <a:pt x="481" y="52"/>
                  <a:pt x="480" y="53"/>
                </a:cubicBezTo>
                <a:cubicBezTo>
                  <a:pt x="478" y="54"/>
                  <a:pt x="477" y="54"/>
                  <a:pt x="475" y="55"/>
                </a:cubicBezTo>
                <a:cubicBezTo>
                  <a:pt x="416" y="95"/>
                  <a:pt x="357" y="135"/>
                  <a:pt x="315" y="181"/>
                </a:cubicBezTo>
                <a:cubicBezTo>
                  <a:pt x="309" y="187"/>
                  <a:pt x="299" y="211"/>
                  <a:pt x="293" y="219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6"/>
          <p:cNvSpPr/>
          <p:nvPr/>
        </p:nvSpPr>
        <p:spPr>
          <a:xfrm>
            <a:off x="4176720" y="1481040"/>
            <a:ext cx="817560" cy="797040"/>
          </a:xfrm>
          <a:custGeom>
            <a:avLst/>
            <a:gdLst/>
            <a:ahLst/>
            <a:rect l="l" t="t" r="r" b="b"/>
            <a:pathLst>
              <a:path w="675" h="658">
                <a:moveTo>
                  <a:pt x="292" y="202"/>
                </a:moveTo>
                <a:cubicBezTo>
                  <a:pt x="291" y="200"/>
                  <a:pt x="291" y="199"/>
                  <a:pt x="291" y="197"/>
                </a:cubicBezTo>
                <a:cubicBezTo>
                  <a:pt x="290" y="196"/>
                  <a:pt x="289" y="194"/>
                  <a:pt x="289" y="192"/>
                </a:cubicBezTo>
                <a:cubicBezTo>
                  <a:pt x="277" y="139"/>
                  <a:pt x="182" y="66"/>
                  <a:pt x="135" y="46"/>
                </a:cubicBezTo>
                <a:cubicBezTo>
                  <a:pt x="122" y="40"/>
                  <a:pt x="104" y="37"/>
                  <a:pt x="93" y="37"/>
                </a:cubicBezTo>
                <a:cubicBezTo>
                  <a:pt x="23" y="34"/>
                  <a:pt x="6" y="136"/>
                  <a:pt x="1" y="199"/>
                </a:cubicBezTo>
                <a:cubicBezTo>
                  <a:pt x="0" y="210"/>
                  <a:pt x="3" y="223"/>
                  <a:pt x="3" y="233"/>
                </a:cubicBezTo>
                <a:cubicBezTo>
                  <a:pt x="3" y="235"/>
                  <a:pt x="4" y="237"/>
                  <a:pt x="4" y="239"/>
                </a:cubicBezTo>
                <a:cubicBezTo>
                  <a:pt x="4" y="241"/>
                  <a:pt x="4" y="243"/>
                  <a:pt x="4" y="245"/>
                </a:cubicBezTo>
                <a:cubicBezTo>
                  <a:pt x="8" y="330"/>
                  <a:pt x="42" y="419"/>
                  <a:pt x="100" y="481"/>
                </a:cubicBezTo>
                <a:cubicBezTo>
                  <a:pt x="135" y="518"/>
                  <a:pt x="185" y="542"/>
                  <a:pt x="223" y="580"/>
                </a:cubicBezTo>
                <a:cubicBezTo>
                  <a:pt x="238" y="594"/>
                  <a:pt x="286" y="650"/>
                  <a:pt x="307" y="653"/>
                </a:cubicBezTo>
                <a:cubicBezTo>
                  <a:pt x="312" y="654"/>
                  <a:pt x="317" y="656"/>
                  <a:pt x="321" y="658"/>
                </a:cubicBezTo>
                <a:cubicBezTo>
                  <a:pt x="321" y="656"/>
                  <a:pt x="322" y="654"/>
                  <a:pt x="322" y="653"/>
                </a:cubicBezTo>
                <a:cubicBezTo>
                  <a:pt x="322" y="651"/>
                  <a:pt x="323" y="650"/>
                  <a:pt x="323" y="649"/>
                </a:cubicBezTo>
                <a:cubicBezTo>
                  <a:pt x="337" y="555"/>
                  <a:pt x="395" y="554"/>
                  <a:pt x="468" y="499"/>
                </a:cubicBezTo>
                <a:cubicBezTo>
                  <a:pt x="468" y="499"/>
                  <a:pt x="468" y="499"/>
                  <a:pt x="468" y="499"/>
                </a:cubicBezTo>
                <a:cubicBezTo>
                  <a:pt x="468" y="499"/>
                  <a:pt x="468" y="499"/>
                  <a:pt x="468" y="499"/>
                </a:cubicBezTo>
                <a:cubicBezTo>
                  <a:pt x="517" y="463"/>
                  <a:pt x="557" y="374"/>
                  <a:pt x="594" y="313"/>
                </a:cubicBezTo>
                <a:cubicBezTo>
                  <a:pt x="595" y="312"/>
                  <a:pt x="595" y="310"/>
                  <a:pt x="596" y="309"/>
                </a:cubicBezTo>
                <a:cubicBezTo>
                  <a:pt x="597" y="308"/>
                  <a:pt x="598" y="306"/>
                  <a:pt x="599" y="305"/>
                </a:cubicBezTo>
                <a:cubicBezTo>
                  <a:pt x="619" y="269"/>
                  <a:pt x="650" y="221"/>
                  <a:pt x="656" y="186"/>
                </a:cubicBezTo>
                <a:cubicBezTo>
                  <a:pt x="661" y="164"/>
                  <a:pt x="675" y="119"/>
                  <a:pt x="670" y="87"/>
                </a:cubicBezTo>
                <a:cubicBezTo>
                  <a:pt x="666" y="63"/>
                  <a:pt x="647" y="41"/>
                  <a:pt x="634" y="29"/>
                </a:cubicBezTo>
                <a:cubicBezTo>
                  <a:pt x="600" y="0"/>
                  <a:pt x="530" y="22"/>
                  <a:pt x="495" y="41"/>
                </a:cubicBezTo>
                <a:cubicBezTo>
                  <a:pt x="491" y="43"/>
                  <a:pt x="483" y="46"/>
                  <a:pt x="479" y="49"/>
                </a:cubicBezTo>
                <a:cubicBezTo>
                  <a:pt x="478" y="50"/>
                  <a:pt x="476" y="51"/>
                  <a:pt x="474" y="51"/>
                </a:cubicBezTo>
                <a:cubicBezTo>
                  <a:pt x="473" y="52"/>
                  <a:pt x="472" y="52"/>
                  <a:pt x="470" y="53"/>
                </a:cubicBezTo>
                <a:cubicBezTo>
                  <a:pt x="412" y="92"/>
                  <a:pt x="352" y="119"/>
                  <a:pt x="311" y="163"/>
                </a:cubicBezTo>
                <a:cubicBezTo>
                  <a:pt x="306" y="169"/>
                  <a:pt x="292" y="204"/>
                  <a:pt x="287" y="212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7"/>
          <p:cNvSpPr/>
          <p:nvPr/>
        </p:nvSpPr>
        <p:spPr>
          <a:xfrm>
            <a:off x="4175280" y="1481040"/>
            <a:ext cx="819000" cy="784440"/>
          </a:xfrm>
          <a:custGeom>
            <a:avLst/>
            <a:gdLst/>
            <a:ahLst/>
            <a:rect l="l" t="t" r="r" b="b"/>
            <a:pathLst>
              <a:path w="676" h="647">
                <a:moveTo>
                  <a:pt x="286" y="195"/>
                </a:moveTo>
                <a:cubicBezTo>
                  <a:pt x="286" y="193"/>
                  <a:pt x="285" y="192"/>
                  <a:pt x="285" y="191"/>
                </a:cubicBezTo>
                <a:cubicBezTo>
                  <a:pt x="285" y="189"/>
                  <a:pt x="283" y="187"/>
                  <a:pt x="283" y="186"/>
                </a:cubicBezTo>
                <a:cubicBezTo>
                  <a:pt x="272" y="135"/>
                  <a:pt x="170" y="64"/>
                  <a:pt x="124" y="44"/>
                </a:cubicBezTo>
                <a:cubicBezTo>
                  <a:pt x="111" y="39"/>
                  <a:pt x="92" y="36"/>
                  <a:pt x="81" y="36"/>
                </a:cubicBezTo>
                <a:cubicBezTo>
                  <a:pt x="14" y="33"/>
                  <a:pt x="7" y="138"/>
                  <a:pt x="1" y="199"/>
                </a:cubicBezTo>
                <a:cubicBezTo>
                  <a:pt x="0" y="210"/>
                  <a:pt x="5" y="223"/>
                  <a:pt x="5" y="233"/>
                </a:cubicBezTo>
                <a:cubicBezTo>
                  <a:pt x="5" y="234"/>
                  <a:pt x="6" y="237"/>
                  <a:pt x="6" y="238"/>
                </a:cubicBezTo>
                <a:cubicBezTo>
                  <a:pt x="6" y="240"/>
                  <a:pt x="6" y="242"/>
                  <a:pt x="6" y="244"/>
                </a:cubicBezTo>
                <a:cubicBezTo>
                  <a:pt x="10" y="326"/>
                  <a:pt x="38" y="425"/>
                  <a:pt x="94" y="484"/>
                </a:cubicBezTo>
                <a:cubicBezTo>
                  <a:pt x="128" y="520"/>
                  <a:pt x="182" y="539"/>
                  <a:pt x="219" y="575"/>
                </a:cubicBezTo>
                <a:cubicBezTo>
                  <a:pt x="234" y="589"/>
                  <a:pt x="283" y="640"/>
                  <a:pt x="303" y="643"/>
                </a:cubicBezTo>
                <a:cubicBezTo>
                  <a:pt x="308" y="644"/>
                  <a:pt x="314" y="645"/>
                  <a:pt x="318" y="647"/>
                </a:cubicBezTo>
                <a:cubicBezTo>
                  <a:pt x="318" y="646"/>
                  <a:pt x="319" y="644"/>
                  <a:pt x="319" y="642"/>
                </a:cubicBezTo>
                <a:cubicBezTo>
                  <a:pt x="319" y="641"/>
                  <a:pt x="320" y="640"/>
                  <a:pt x="321" y="638"/>
                </a:cubicBezTo>
                <a:cubicBezTo>
                  <a:pt x="334" y="548"/>
                  <a:pt x="400" y="554"/>
                  <a:pt x="470" y="502"/>
                </a:cubicBezTo>
                <a:cubicBezTo>
                  <a:pt x="470" y="502"/>
                  <a:pt x="470" y="502"/>
                  <a:pt x="470" y="502"/>
                </a:cubicBezTo>
                <a:cubicBezTo>
                  <a:pt x="470" y="502"/>
                  <a:pt x="470" y="502"/>
                  <a:pt x="470" y="502"/>
                </a:cubicBezTo>
                <a:cubicBezTo>
                  <a:pt x="518" y="466"/>
                  <a:pt x="553" y="369"/>
                  <a:pt x="588" y="310"/>
                </a:cubicBezTo>
                <a:cubicBezTo>
                  <a:pt x="589" y="309"/>
                  <a:pt x="589" y="307"/>
                  <a:pt x="590" y="306"/>
                </a:cubicBezTo>
                <a:cubicBezTo>
                  <a:pt x="590" y="305"/>
                  <a:pt x="592" y="303"/>
                  <a:pt x="593" y="302"/>
                </a:cubicBezTo>
                <a:cubicBezTo>
                  <a:pt x="612" y="267"/>
                  <a:pt x="647" y="217"/>
                  <a:pt x="654" y="183"/>
                </a:cubicBezTo>
                <a:cubicBezTo>
                  <a:pt x="658" y="162"/>
                  <a:pt x="676" y="115"/>
                  <a:pt x="671" y="84"/>
                </a:cubicBezTo>
                <a:cubicBezTo>
                  <a:pt x="667" y="61"/>
                  <a:pt x="646" y="40"/>
                  <a:pt x="633" y="28"/>
                </a:cubicBezTo>
                <a:cubicBezTo>
                  <a:pt x="601" y="0"/>
                  <a:pt x="525" y="21"/>
                  <a:pt x="492" y="40"/>
                </a:cubicBezTo>
                <a:cubicBezTo>
                  <a:pt x="487" y="42"/>
                  <a:pt x="479" y="45"/>
                  <a:pt x="475" y="48"/>
                </a:cubicBezTo>
                <a:cubicBezTo>
                  <a:pt x="473" y="48"/>
                  <a:pt x="471" y="49"/>
                  <a:pt x="470" y="50"/>
                </a:cubicBezTo>
                <a:cubicBezTo>
                  <a:pt x="469" y="51"/>
                  <a:pt x="467" y="51"/>
                  <a:pt x="466" y="51"/>
                </a:cubicBezTo>
                <a:cubicBezTo>
                  <a:pt x="410" y="89"/>
                  <a:pt x="348" y="103"/>
                  <a:pt x="309" y="145"/>
                </a:cubicBezTo>
                <a:cubicBezTo>
                  <a:pt x="304" y="151"/>
                  <a:pt x="286" y="197"/>
                  <a:pt x="281" y="204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8"/>
          <p:cNvSpPr/>
          <p:nvPr/>
        </p:nvSpPr>
        <p:spPr>
          <a:xfrm>
            <a:off x="4175280" y="1482840"/>
            <a:ext cx="819000" cy="769680"/>
          </a:xfrm>
          <a:custGeom>
            <a:avLst/>
            <a:gdLst/>
            <a:ahLst/>
            <a:rect l="l" t="t" r="r" b="b"/>
            <a:pathLst>
              <a:path w="676" h="635">
                <a:moveTo>
                  <a:pt x="279" y="186"/>
                </a:moveTo>
                <a:cubicBezTo>
                  <a:pt x="279" y="185"/>
                  <a:pt x="279" y="185"/>
                  <a:pt x="278" y="183"/>
                </a:cubicBezTo>
                <a:cubicBezTo>
                  <a:pt x="278" y="181"/>
                  <a:pt x="276" y="180"/>
                  <a:pt x="276" y="178"/>
                </a:cubicBezTo>
                <a:cubicBezTo>
                  <a:pt x="265" y="129"/>
                  <a:pt x="156" y="61"/>
                  <a:pt x="111" y="42"/>
                </a:cubicBezTo>
                <a:cubicBezTo>
                  <a:pt x="100" y="37"/>
                  <a:pt x="79" y="34"/>
                  <a:pt x="69" y="34"/>
                </a:cubicBezTo>
                <a:cubicBezTo>
                  <a:pt x="4" y="31"/>
                  <a:pt x="6" y="139"/>
                  <a:pt x="1" y="198"/>
                </a:cubicBezTo>
                <a:cubicBezTo>
                  <a:pt x="0" y="208"/>
                  <a:pt x="6" y="222"/>
                  <a:pt x="6" y="231"/>
                </a:cubicBezTo>
                <a:cubicBezTo>
                  <a:pt x="6" y="233"/>
                  <a:pt x="7" y="235"/>
                  <a:pt x="7" y="237"/>
                </a:cubicBezTo>
                <a:cubicBezTo>
                  <a:pt x="7" y="238"/>
                  <a:pt x="7" y="241"/>
                  <a:pt x="7" y="243"/>
                </a:cubicBezTo>
                <a:cubicBezTo>
                  <a:pt x="11" y="322"/>
                  <a:pt x="34" y="429"/>
                  <a:pt x="88" y="486"/>
                </a:cubicBezTo>
                <a:cubicBezTo>
                  <a:pt x="121" y="521"/>
                  <a:pt x="178" y="535"/>
                  <a:pt x="214" y="570"/>
                </a:cubicBezTo>
                <a:cubicBezTo>
                  <a:pt x="228" y="583"/>
                  <a:pt x="280" y="629"/>
                  <a:pt x="299" y="632"/>
                </a:cubicBezTo>
                <a:cubicBezTo>
                  <a:pt x="304" y="633"/>
                  <a:pt x="310" y="634"/>
                  <a:pt x="314" y="635"/>
                </a:cubicBezTo>
                <a:cubicBezTo>
                  <a:pt x="314" y="634"/>
                  <a:pt x="315" y="632"/>
                  <a:pt x="315" y="630"/>
                </a:cubicBezTo>
                <a:cubicBezTo>
                  <a:pt x="316" y="629"/>
                  <a:pt x="317" y="628"/>
                  <a:pt x="317" y="627"/>
                </a:cubicBezTo>
                <a:cubicBezTo>
                  <a:pt x="330" y="540"/>
                  <a:pt x="404" y="554"/>
                  <a:pt x="471" y="503"/>
                </a:cubicBezTo>
                <a:cubicBezTo>
                  <a:pt x="471" y="503"/>
                  <a:pt x="471" y="503"/>
                  <a:pt x="471" y="503"/>
                </a:cubicBezTo>
                <a:cubicBezTo>
                  <a:pt x="471" y="503"/>
                  <a:pt x="471" y="503"/>
                  <a:pt x="472" y="503"/>
                </a:cubicBezTo>
                <a:cubicBezTo>
                  <a:pt x="517" y="469"/>
                  <a:pt x="547" y="363"/>
                  <a:pt x="581" y="306"/>
                </a:cubicBezTo>
                <a:cubicBezTo>
                  <a:pt x="581" y="305"/>
                  <a:pt x="582" y="303"/>
                  <a:pt x="582" y="302"/>
                </a:cubicBezTo>
                <a:cubicBezTo>
                  <a:pt x="583" y="301"/>
                  <a:pt x="585" y="299"/>
                  <a:pt x="586" y="297"/>
                </a:cubicBezTo>
                <a:cubicBezTo>
                  <a:pt x="604" y="265"/>
                  <a:pt x="644" y="212"/>
                  <a:pt x="651" y="179"/>
                </a:cubicBezTo>
                <a:cubicBezTo>
                  <a:pt x="655" y="159"/>
                  <a:pt x="676" y="110"/>
                  <a:pt x="672" y="80"/>
                </a:cubicBezTo>
                <a:cubicBezTo>
                  <a:pt x="668" y="58"/>
                  <a:pt x="643" y="38"/>
                  <a:pt x="631" y="27"/>
                </a:cubicBezTo>
                <a:cubicBezTo>
                  <a:pt x="600" y="0"/>
                  <a:pt x="519" y="20"/>
                  <a:pt x="487" y="38"/>
                </a:cubicBezTo>
                <a:cubicBezTo>
                  <a:pt x="482" y="40"/>
                  <a:pt x="474" y="43"/>
                  <a:pt x="469" y="45"/>
                </a:cubicBezTo>
                <a:cubicBezTo>
                  <a:pt x="468" y="46"/>
                  <a:pt x="466" y="47"/>
                  <a:pt x="465" y="48"/>
                </a:cubicBezTo>
                <a:cubicBezTo>
                  <a:pt x="463" y="48"/>
                  <a:pt x="462" y="48"/>
                  <a:pt x="461" y="49"/>
                </a:cubicBezTo>
                <a:cubicBezTo>
                  <a:pt x="407" y="85"/>
                  <a:pt x="343" y="86"/>
                  <a:pt x="305" y="127"/>
                </a:cubicBezTo>
                <a:cubicBezTo>
                  <a:pt x="300" y="132"/>
                  <a:pt x="279" y="189"/>
                  <a:pt x="275" y="196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9"/>
          <p:cNvSpPr/>
          <p:nvPr/>
        </p:nvSpPr>
        <p:spPr>
          <a:xfrm>
            <a:off x="4167360" y="1484280"/>
            <a:ext cx="826920" cy="757440"/>
          </a:xfrm>
          <a:custGeom>
            <a:avLst/>
            <a:gdLst/>
            <a:ahLst/>
            <a:rect l="l" t="t" r="r" b="b"/>
            <a:pathLst>
              <a:path w="683" h="625">
                <a:moveTo>
                  <a:pt x="279" y="179"/>
                </a:moveTo>
                <a:cubicBezTo>
                  <a:pt x="278" y="178"/>
                  <a:pt x="278" y="178"/>
                  <a:pt x="278" y="176"/>
                </a:cubicBezTo>
                <a:cubicBezTo>
                  <a:pt x="277" y="175"/>
                  <a:pt x="276" y="173"/>
                  <a:pt x="275" y="172"/>
                </a:cubicBezTo>
                <a:cubicBezTo>
                  <a:pt x="265" y="125"/>
                  <a:pt x="148" y="59"/>
                  <a:pt x="105" y="41"/>
                </a:cubicBezTo>
                <a:cubicBezTo>
                  <a:pt x="94" y="36"/>
                  <a:pt x="72" y="34"/>
                  <a:pt x="62" y="33"/>
                </a:cubicBezTo>
                <a:cubicBezTo>
                  <a:pt x="0" y="31"/>
                  <a:pt x="11" y="141"/>
                  <a:pt x="6" y="197"/>
                </a:cubicBezTo>
                <a:cubicBezTo>
                  <a:pt x="5" y="207"/>
                  <a:pt x="12" y="222"/>
                  <a:pt x="13" y="231"/>
                </a:cubicBezTo>
                <a:cubicBezTo>
                  <a:pt x="13" y="232"/>
                  <a:pt x="14" y="235"/>
                  <a:pt x="14" y="236"/>
                </a:cubicBezTo>
                <a:cubicBezTo>
                  <a:pt x="14" y="238"/>
                  <a:pt x="14" y="241"/>
                  <a:pt x="14" y="242"/>
                </a:cubicBezTo>
                <a:cubicBezTo>
                  <a:pt x="18" y="318"/>
                  <a:pt x="36" y="434"/>
                  <a:pt x="88" y="489"/>
                </a:cubicBezTo>
                <a:cubicBezTo>
                  <a:pt x="119" y="522"/>
                  <a:pt x="181" y="531"/>
                  <a:pt x="215" y="565"/>
                </a:cubicBezTo>
                <a:cubicBezTo>
                  <a:pt x="228" y="578"/>
                  <a:pt x="283" y="619"/>
                  <a:pt x="301" y="622"/>
                </a:cubicBezTo>
                <a:cubicBezTo>
                  <a:pt x="306" y="622"/>
                  <a:pt x="312" y="623"/>
                  <a:pt x="316" y="625"/>
                </a:cubicBezTo>
                <a:cubicBezTo>
                  <a:pt x="316" y="623"/>
                  <a:pt x="317" y="621"/>
                  <a:pt x="317" y="620"/>
                </a:cubicBezTo>
                <a:cubicBezTo>
                  <a:pt x="318" y="618"/>
                  <a:pt x="319" y="618"/>
                  <a:pt x="319" y="617"/>
                </a:cubicBezTo>
                <a:cubicBezTo>
                  <a:pt x="331" y="533"/>
                  <a:pt x="414" y="554"/>
                  <a:pt x="479" y="505"/>
                </a:cubicBezTo>
                <a:cubicBezTo>
                  <a:pt x="479" y="505"/>
                  <a:pt x="479" y="505"/>
                  <a:pt x="479" y="505"/>
                </a:cubicBezTo>
                <a:cubicBezTo>
                  <a:pt x="479" y="505"/>
                  <a:pt x="479" y="505"/>
                  <a:pt x="479" y="505"/>
                </a:cubicBezTo>
                <a:cubicBezTo>
                  <a:pt x="523" y="473"/>
                  <a:pt x="547" y="358"/>
                  <a:pt x="580" y="303"/>
                </a:cubicBezTo>
                <a:cubicBezTo>
                  <a:pt x="580" y="302"/>
                  <a:pt x="581" y="300"/>
                  <a:pt x="581" y="299"/>
                </a:cubicBezTo>
                <a:cubicBezTo>
                  <a:pt x="582" y="298"/>
                  <a:pt x="584" y="296"/>
                  <a:pt x="584" y="294"/>
                </a:cubicBezTo>
                <a:cubicBezTo>
                  <a:pt x="602" y="263"/>
                  <a:pt x="647" y="207"/>
                  <a:pt x="653" y="176"/>
                </a:cubicBezTo>
                <a:cubicBezTo>
                  <a:pt x="657" y="156"/>
                  <a:pt x="683" y="107"/>
                  <a:pt x="678" y="78"/>
                </a:cubicBezTo>
                <a:cubicBezTo>
                  <a:pt x="675" y="56"/>
                  <a:pt x="647" y="37"/>
                  <a:pt x="635" y="26"/>
                </a:cubicBezTo>
                <a:cubicBezTo>
                  <a:pt x="605" y="0"/>
                  <a:pt x="519" y="19"/>
                  <a:pt x="488" y="37"/>
                </a:cubicBezTo>
                <a:cubicBezTo>
                  <a:pt x="484" y="39"/>
                  <a:pt x="474" y="41"/>
                  <a:pt x="470" y="44"/>
                </a:cubicBezTo>
                <a:cubicBezTo>
                  <a:pt x="469" y="45"/>
                  <a:pt x="466" y="45"/>
                  <a:pt x="465" y="46"/>
                </a:cubicBezTo>
                <a:cubicBezTo>
                  <a:pt x="464" y="47"/>
                  <a:pt x="463" y="46"/>
                  <a:pt x="461" y="47"/>
                </a:cubicBezTo>
                <a:cubicBezTo>
                  <a:pt x="410" y="81"/>
                  <a:pt x="344" y="69"/>
                  <a:pt x="308" y="109"/>
                </a:cubicBezTo>
                <a:cubicBezTo>
                  <a:pt x="303" y="114"/>
                  <a:pt x="279" y="182"/>
                  <a:pt x="274" y="189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10"/>
          <p:cNvSpPr/>
          <p:nvPr/>
        </p:nvSpPr>
        <p:spPr>
          <a:xfrm>
            <a:off x="4156200" y="1486080"/>
            <a:ext cx="839520" cy="742680"/>
          </a:xfrm>
          <a:custGeom>
            <a:avLst/>
            <a:gdLst/>
            <a:ahLst/>
            <a:rect l="l" t="t" r="r" b="b"/>
            <a:pathLst>
              <a:path w="693" h="613">
                <a:moveTo>
                  <a:pt x="282" y="171"/>
                </a:moveTo>
                <a:cubicBezTo>
                  <a:pt x="282" y="170"/>
                  <a:pt x="281" y="170"/>
                  <a:pt x="281" y="169"/>
                </a:cubicBezTo>
                <a:cubicBezTo>
                  <a:pt x="280" y="167"/>
                  <a:pt x="279" y="166"/>
                  <a:pt x="278" y="164"/>
                </a:cubicBezTo>
                <a:cubicBezTo>
                  <a:pt x="268" y="119"/>
                  <a:pt x="144" y="56"/>
                  <a:pt x="103" y="39"/>
                </a:cubicBezTo>
                <a:cubicBezTo>
                  <a:pt x="92" y="34"/>
                  <a:pt x="69" y="32"/>
                  <a:pt x="60" y="31"/>
                </a:cubicBezTo>
                <a:cubicBezTo>
                  <a:pt x="0" y="29"/>
                  <a:pt x="21" y="142"/>
                  <a:pt x="16" y="196"/>
                </a:cubicBezTo>
                <a:cubicBezTo>
                  <a:pt x="15" y="205"/>
                  <a:pt x="23" y="221"/>
                  <a:pt x="23" y="229"/>
                </a:cubicBezTo>
                <a:cubicBezTo>
                  <a:pt x="23" y="231"/>
                  <a:pt x="25" y="233"/>
                  <a:pt x="25" y="235"/>
                </a:cubicBezTo>
                <a:cubicBezTo>
                  <a:pt x="25" y="236"/>
                  <a:pt x="24" y="239"/>
                  <a:pt x="25" y="241"/>
                </a:cubicBezTo>
                <a:cubicBezTo>
                  <a:pt x="28" y="314"/>
                  <a:pt x="42" y="438"/>
                  <a:pt x="91" y="491"/>
                </a:cubicBezTo>
                <a:cubicBezTo>
                  <a:pt x="121" y="523"/>
                  <a:pt x="187" y="527"/>
                  <a:pt x="220" y="560"/>
                </a:cubicBezTo>
                <a:cubicBezTo>
                  <a:pt x="233" y="572"/>
                  <a:pt x="289" y="608"/>
                  <a:pt x="307" y="611"/>
                </a:cubicBezTo>
                <a:cubicBezTo>
                  <a:pt x="312" y="611"/>
                  <a:pt x="318" y="611"/>
                  <a:pt x="322" y="613"/>
                </a:cubicBezTo>
                <a:cubicBezTo>
                  <a:pt x="322" y="612"/>
                  <a:pt x="323" y="609"/>
                  <a:pt x="324" y="608"/>
                </a:cubicBezTo>
                <a:cubicBezTo>
                  <a:pt x="324" y="607"/>
                  <a:pt x="325" y="606"/>
                  <a:pt x="325" y="605"/>
                </a:cubicBezTo>
                <a:cubicBezTo>
                  <a:pt x="337" y="525"/>
                  <a:pt x="427" y="553"/>
                  <a:pt x="490" y="507"/>
                </a:cubicBezTo>
                <a:cubicBezTo>
                  <a:pt x="490" y="507"/>
                  <a:pt x="490" y="507"/>
                  <a:pt x="490" y="507"/>
                </a:cubicBezTo>
                <a:cubicBezTo>
                  <a:pt x="490" y="507"/>
                  <a:pt x="490" y="507"/>
                  <a:pt x="490" y="507"/>
                </a:cubicBezTo>
                <a:cubicBezTo>
                  <a:pt x="532" y="475"/>
                  <a:pt x="551" y="352"/>
                  <a:pt x="583" y="299"/>
                </a:cubicBezTo>
                <a:cubicBezTo>
                  <a:pt x="583" y="298"/>
                  <a:pt x="583" y="296"/>
                  <a:pt x="584" y="295"/>
                </a:cubicBezTo>
                <a:cubicBezTo>
                  <a:pt x="585" y="294"/>
                  <a:pt x="587" y="291"/>
                  <a:pt x="587" y="290"/>
                </a:cubicBezTo>
                <a:cubicBezTo>
                  <a:pt x="605" y="260"/>
                  <a:pt x="654" y="202"/>
                  <a:pt x="660" y="172"/>
                </a:cubicBezTo>
                <a:cubicBezTo>
                  <a:pt x="663" y="153"/>
                  <a:pt x="693" y="102"/>
                  <a:pt x="689" y="74"/>
                </a:cubicBezTo>
                <a:cubicBezTo>
                  <a:pt x="686" y="53"/>
                  <a:pt x="654" y="35"/>
                  <a:pt x="642" y="24"/>
                </a:cubicBezTo>
                <a:cubicBezTo>
                  <a:pt x="614" y="0"/>
                  <a:pt x="523" y="18"/>
                  <a:pt x="493" y="35"/>
                </a:cubicBezTo>
                <a:cubicBezTo>
                  <a:pt x="489" y="37"/>
                  <a:pt x="479" y="39"/>
                  <a:pt x="475" y="42"/>
                </a:cubicBezTo>
                <a:cubicBezTo>
                  <a:pt x="474" y="42"/>
                  <a:pt x="471" y="43"/>
                  <a:pt x="470" y="44"/>
                </a:cubicBezTo>
                <a:cubicBezTo>
                  <a:pt x="469" y="44"/>
                  <a:pt x="467" y="43"/>
                  <a:pt x="466" y="44"/>
                </a:cubicBezTo>
                <a:cubicBezTo>
                  <a:pt x="417" y="77"/>
                  <a:pt x="349" y="52"/>
                  <a:pt x="314" y="90"/>
                </a:cubicBezTo>
                <a:cubicBezTo>
                  <a:pt x="310" y="95"/>
                  <a:pt x="282" y="173"/>
                  <a:pt x="277" y="180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11"/>
          <p:cNvSpPr/>
          <p:nvPr/>
        </p:nvSpPr>
        <p:spPr>
          <a:xfrm>
            <a:off x="4145040" y="1488960"/>
            <a:ext cx="852480" cy="728640"/>
          </a:xfrm>
          <a:custGeom>
            <a:avLst/>
            <a:gdLst/>
            <a:ahLst/>
            <a:rect l="l" t="t" r="r" b="b"/>
            <a:pathLst>
              <a:path w="704" h="602">
                <a:moveTo>
                  <a:pt x="285" y="164"/>
                </a:moveTo>
                <a:cubicBezTo>
                  <a:pt x="285" y="163"/>
                  <a:pt x="284" y="163"/>
                  <a:pt x="284" y="162"/>
                </a:cubicBezTo>
                <a:cubicBezTo>
                  <a:pt x="284" y="161"/>
                  <a:pt x="281" y="159"/>
                  <a:pt x="281" y="158"/>
                </a:cubicBezTo>
                <a:cubicBezTo>
                  <a:pt x="271" y="114"/>
                  <a:pt x="140" y="54"/>
                  <a:pt x="101" y="37"/>
                </a:cubicBezTo>
                <a:cubicBezTo>
                  <a:pt x="91" y="33"/>
                  <a:pt x="66" y="31"/>
                  <a:pt x="57" y="30"/>
                </a:cubicBezTo>
                <a:cubicBezTo>
                  <a:pt x="0" y="28"/>
                  <a:pt x="30" y="144"/>
                  <a:pt x="25" y="196"/>
                </a:cubicBezTo>
                <a:cubicBezTo>
                  <a:pt x="25" y="205"/>
                  <a:pt x="34" y="221"/>
                  <a:pt x="34" y="229"/>
                </a:cubicBezTo>
                <a:cubicBezTo>
                  <a:pt x="34" y="230"/>
                  <a:pt x="36" y="233"/>
                  <a:pt x="36" y="234"/>
                </a:cubicBezTo>
                <a:cubicBezTo>
                  <a:pt x="36" y="235"/>
                  <a:pt x="35" y="239"/>
                  <a:pt x="35" y="240"/>
                </a:cubicBezTo>
                <a:cubicBezTo>
                  <a:pt x="39" y="310"/>
                  <a:pt x="47" y="444"/>
                  <a:pt x="95" y="494"/>
                </a:cubicBezTo>
                <a:cubicBezTo>
                  <a:pt x="124" y="525"/>
                  <a:pt x="193" y="524"/>
                  <a:pt x="225" y="555"/>
                </a:cubicBezTo>
                <a:cubicBezTo>
                  <a:pt x="237" y="567"/>
                  <a:pt x="296" y="598"/>
                  <a:pt x="313" y="600"/>
                </a:cubicBezTo>
                <a:cubicBezTo>
                  <a:pt x="317" y="601"/>
                  <a:pt x="324" y="601"/>
                  <a:pt x="328" y="602"/>
                </a:cubicBezTo>
                <a:cubicBezTo>
                  <a:pt x="328" y="601"/>
                  <a:pt x="329" y="599"/>
                  <a:pt x="330" y="597"/>
                </a:cubicBezTo>
                <a:cubicBezTo>
                  <a:pt x="330" y="596"/>
                  <a:pt x="332" y="596"/>
                  <a:pt x="332" y="595"/>
                </a:cubicBezTo>
                <a:cubicBezTo>
                  <a:pt x="343" y="518"/>
                  <a:pt x="441" y="554"/>
                  <a:pt x="501" y="509"/>
                </a:cubicBezTo>
                <a:cubicBezTo>
                  <a:pt x="501" y="509"/>
                  <a:pt x="501" y="509"/>
                  <a:pt x="501" y="509"/>
                </a:cubicBezTo>
                <a:cubicBezTo>
                  <a:pt x="501" y="509"/>
                  <a:pt x="501" y="509"/>
                  <a:pt x="501" y="509"/>
                </a:cubicBezTo>
                <a:cubicBezTo>
                  <a:pt x="542" y="479"/>
                  <a:pt x="556" y="347"/>
                  <a:pt x="585" y="297"/>
                </a:cubicBezTo>
                <a:cubicBezTo>
                  <a:pt x="586" y="295"/>
                  <a:pt x="586" y="293"/>
                  <a:pt x="587" y="292"/>
                </a:cubicBezTo>
                <a:cubicBezTo>
                  <a:pt x="587" y="291"/>
                  <a:pt x="589" y="288"/>
                  <a:pt x="590" y="287"/>
                </a:cubicBezTo>
                <a:cubicBezTo>
                  <a:pt x="607" y="258"/>
                  <a:pt x="661" y="198"/>
                  <a:pt x="666" y="169"/>
                </a:cubicBezTo>
                <a:cubicBezTo>
                  <a:pt x="670" y="151"/>
                  <a:pt x="704" y="98"/>
                  <a:pt x="699" y="71"/>
                </a:cubicBezTo>
                <a:cubicBezTo>
                  <a:pt x="696" y="52"/>
                  <a:pt x="662" y="34"/>
                  <a:pt x="650" y="24"/>
                </a:cubicBezTo>
                <a:cubicBezTo>
                  <a:pt x="623" y="0"/>
                  <a:pt x="527" y="18"/>
                  <a:pt x="498" y="33"/>
                </a:cubicBezTo>
                <a:cubicBezTo>
                  <a:pt x="494" y="36"/>
                  <a:pt x="483" y="38"/>
                  <a:pt x="480" y="40"/>
                </a:cubicBezTo>
                <a:cubicBezTo>
                  <a:pt x="479" y="41"/>
                  <a:pt x="476" y="42"/>
                  <a:pt x="475" y="42"/>
                </a:cubicBezTo>
                <a:cubicBezTo>
                  <a:pt x="473" y="43"/>
                  <a:pt x="472" y="42"/>
                  <a:pt x="471" y="42"/>
                </a:cubicBezTo>
                <a:cubicBezTo>
                  <a:pt x="423" y="74"/>
                  <a:pt x="354" y="36"/>
                  <a:pt x="321" y="73"/>
                </a:cubicBezTo>
                <a:cubicBezTo>
                  <a:pt x="316" y="77"/>
                  <a:pt x="285" y="166"/>
                  <a:pt x="281" y="173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12"/>
          <p:cNvSpPr/>
          <p:nvPr/>
        </p:nvSpPr>
        <p:spPr>
          <a:xfrm>
            <a:off x="4132440" y="1488960"/>
            <a:ext cx="866520" cy="717840"/>
          </a:xfrm>
          <a:custGeom>
            <a:avLst/>
            <a:gdLst/>
            <a:ahLst/>
            <a:rect l="l" t="t" r="r" b="b"/>
            <a:pathLst>
              <a:path w="715" h="592">
                <a:moveTo>
                  <a:pt x="289" y="157"/>
                </a:moveTo>
                <a:cubicBezTo>
                  <a:pt x="289" y="156"/>
                  <a:pt x="288" y="157"/>
                  <a:pt x="288" y="155"/>
                </a:cubicBezTo>
                <a:cubicBezTo>
                  <a:pt x="288" y="154"/>
                  <a:pt x="285" y="153"/>
                  <a:pt x="285" y="151"/>
                </a:cubicBezTo>
                <a:cubicBezTo>
                  <a:pt x="276" y="110"/>
                  <a:pt x="138" y="52"/>
                  <a:pt x="100" y="36"/>
                </a:cubicBezTo>
                <a:cubicBezTo>
                  <a:pt x="90" y="32"/>
                  <a:pt x="64" y="30"/>
                  <a:pt x="55" y="29"/>
                </a:cubicBezTo>
                <a:cubicBezTo>
                  <a:pt x="0" y="27"/>
                  <a:pt x="40" y="146"/>
                  <a:pt x="36" y="196"/>
                </a:cubicBezTo>
                <a:cubicBezTo>
                  <a:pt x="35" y="204"/>
                  <a:pt x="46" y="220"/>
                  <a:pt x="46" y="228"/>
                </a:cubicBezTo>
                <a:cubicBezTo>
                  <a:pt x="46" y="230"/>
                  <a:pt x="48" y="232"/>
                  <a:pt x="48" y="233"/>
                </a:cubicBezTo>
                <a:cubicBezTo>
                  <a:pt x="48" y="235"/>
                  <a:pt x="47" y="238"/>
                  <a:pt x="47" y="240"/>
                </a:cubicBezTo>
                <a:cubicBezTo>
                  <a:pt x="51" y="306"/>
                  <a:pt x="54" y="449"/>
                  <a:pt x="99" y="497"/>
                </a:cubicBezTo>
                <a:cubicBezTo>
                  <a:pt x="127" y="527"/>
                  <a:pt x="200" y="521"/>
                  <a:pt x="230" y="550"/>
                </a:cubicBezTo>
                <a:cubicBezTo>
                  <a:pt x="242" y="562"/>
                  <a:pt x="304" y="588"/>
                  <a:pt x="320" y="590"/>
                </a:cubicBezTo>
                <a:cubicBezTo>
                  <a:pt x="324" y="591"/>
                  <a:pt x="331" y="590"/>
                  <a:pt x="334" y="592"/>
                </a:cubicBezTo>
                <a:cubicBezTo>
                  <a:pt x="334" y="590"/>
                  <a:pt x="336" y="588"/>
                  <a:pt x="337" y="587"/>
                </a:cubicBezTo>
                <a:cubicBezTo>
                  <a:pt x="337" y="586"/>
                  <a:pt x="339" y="586"/>
                  <a:pt x="339" y="584"/>
                </a:cubicBezTo>
                <a:cubicBezTo>
                  <a:pt x="350" y="511"/>
                  <a:pt x="456" y="554"/>
                  <a:pt x="514" y="512"/>
                </a:cubicBezTo>
                <a:cubicBezTo>
                  <a:pt x="514" y="512"/>
                  <a:pt x="514" y="512"/>
                  <a:pt x="514" y="512"/>
                </a:cubicBezTo>
                <a:cubicBezTo>
                  <a:pt x="514" y="512"/>
                  <a:pt x="514" y="512"/>
                  <a:pt x="514" y="512"/>
                </a:cubicBezTo>
                <a:cubicBezTo>
                  <a:pt x="552" y="483"/>
                  <a:pt x="561" y="341"/>
                  <a:pt x="589" y="294"/>
                </a:cubicBezTo>
                <a:cubicBezTo>
                  <a:pt x="590" y="293"/>
                  <a:pt x="590" y="289"/>
                  <a:pt x="590" y="289"/>
                </a:cubicBezTo>
                <a:cubicBezTo>
                  <a:pt x="591" y="287"/>
                  <a:pt x="593" y="285"/>
                  <a:pt x="594" y="284"/>
                </a:cubicBezTo>
                <a:cubicBezTo>
                  <a:pt x="610" y="256"/>
                  <a:pt x="668" y="194"/>
                  <a:pt x="674" y="166"/>
                </a:cubicBezTo>
                <a:cubicBezTo>
                  <a:pt x="677" y="149"/>
                  <a:pt x="715" y="94"/>
                  <a:pt x="711" y="69"/>
                </a:cubicBezTo>
                <a:cubicBezTo>
                  <a:pt x="708" y="50"/>
                  <a:pt x="670" y="33"/>
                  <a:pt x="659" y="23"/>
                </a:cubicBezTo>
                <a:cubicBezTo>
                  <a:pt x="633" y="0"/>
                  <a:pt x="532" y="17"/>
                  <a:pt x="504" y="32"/>
                </a:cubicBezTo>
                <a:cubicBezTo>
                  <a:pt x="501" y="34"/>
                  <a:pt x="489" y="37"/>
                  <a:pt x="485" y="39"/>
                </a:cubicBezTo>
                <a:cubicBezTo>
                  <a:pt x="484" y="39"/>
                  <a:pt x="481" y="40"/>
                  <a:pt x="480" y="41"/>
                </a:cubicBezTo>
                <a:cubicBezTo>
                  <a:pt x="479" y="41"/>
                  <a:pt x="477" y="40"/>
                  <a:pt x="476" y="41"/>
                </a:cubicBezTo>
                <a:cubicBezTo>
                  <a:pt x="431" y="71"/>
                  <a:pt x="360" y="20"/>
                  <a:pt x="328" y="55"/>
                </a:cubicBezTo>
                <a:cubicBezTo>
                  <a:pt x="324" y="59"/>
                  <a:pt x="289" y="159"/>
                  <a:pt x="285" y="165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13"/>
          <p:cNvSpPr/>
          <p:nvPr/>
        </p:nvSpPr>
        <p:spPr>
          <a:xfrm>
            <a:off x="4121280" y="1490760"/>
            <a:ext cx="877680" cy="703080"/>
          </a:xfrm>
          <a:custGeom>
            <a:avLst/>
            <a:gdLst/>
            <a:ahLst/>
            <a:rect l="l" t="t" r="r" b="b"/>
            <a:pathLst>
              <a:path w="725" h="580">
                <a:moveTo>
                  <a:pt x="292" y="149"/>
                </a:moveTo>
                <a:cubicBezTo>
                  <a:pt x="292" y="148"/>
                  <a:pt x="291" y="149"/>
                  <a:pt x="291" y="148"/>
                </a:cubicBezTo>
                <a:cubicBezTo>
                  <a:pt x="291" y="146"/>
                  <a:pt x="288" y="145"/>
                  <a:pt x="288" y="144"/>
                </a:cubicBezTo>
                <a:cubicBezTo>
                  <a:pt x="279" y="104"/>
                  <a:pt x="133" y="49"/>
                  <a:pt x="97" y="34"/>
                </a:cubicBezTo>
                <a:cubicBezTo>
                  <a:pt x="88" y="30"/>
                  <a:pt x="61" y="28"/>
                  <a:pt x="52" y="27"/>
                </a:cubicBezTo>
                <a:cubicBezTo>
                  <a:pt x="0" y="25"/>
                  <a:pt x="49" y="147"/>
                  <a:pt x="45" y="194"/>
                </a:cubicBezTo>
                <a:cubicBezTo>
                  <a:pt x="44" y="202"/>
                  <a:pt x="56" y="219"/>
                  <a:pt x="56" y="227"/>
                </a:cubicBezTo>
                <a:cubicBezTo>
                  <a:pt x="56" y="228"/>
                  <a:pt x="58" y="231"/>
                  <a:pt x="58" y="232"/>
                </a:cubicBezTo>
                <a:cubicBezTo>
                  <a:pt x="58" y="233"/>
                  <a:pt x="58" y="237"/>
                  <a:pt x="58" y="238"/>
                </a:cubicBezTo>
                <a:cubicBezTo>
                  <a:pt x="61" y="302"/>
                  <a:pt x="59" y="453"/>
                  <a:pt x="102" y="499"/>
                </a:cubicBezTo>
                <a:cubicBezTo>
                  <a:pt x="129" y="527"/>
                  <a:pt x="206" y="516"/>
                  <a:pt x="235" y="545"/>
                </a:cubicBezTo>
                <a:cubicBezTo>
                  <a:pt x="246" y="556"/>
                  <a:pt x="310" y="577"/>
                  <a:pt x="325" y="579"/>
                </a:cubicBezTo>
                <a:cubicBezTo>
                  <a:pt x="329" y="580"/>
                  <a:pt x="337" y="579"/>
                  <a:pt x="340" y="580"/>
                </a:cubicBezTo>
                <a:cubicBezTo>
                  <a:pt x="340" y="579"/>
                  <a:pt x="342" y="576"/>
                  <a:pt x="342" y="575"/>
                </a:cubicBezTo>
                <a:cubicBezTo>
                  <a:pt x="342" y="574"/>
                  <a:pt x="345" y="574"/>
                  <a:pt x="345" y="573"/>
                </a:cubicBezTo>
                <a:cubicBezTo>
                  <a:pt x="355" y="503"/>
                  <a:pt x="470" y="554"/>
                  <a:pt x="524" y="513"/>
                </a:cubicBezTo>
                <a:cubicBezTo>
                  <a:pt x="524" y="513"/>
                  <a:pt x="524" y="513"/>
                  <a:pt x="524" y="513"/>
                </a:cubicBezTo>
                <a:cubicBezTo>
                  <a:pt x="524" y="513"/>
                  <a:pt x="524" y="513"/>
                  <a:pt x="524" y="513"/>
                </a:cubicBezTo>
                <a:cubicBezTo>
                  <a:pt x="561" y="486"/>
                  <a:pt x="564" y="335"/>
                  <a:pt x="592" y="290"/>
                </a:cubicBezTo>
                <a:cubicBezTo>
                  <a:pt x="592" y="289"/>
                  <a:pt x="592" y="285"/>
                  <a:pt x="593" y="284"/>
                </a:cubicBezTo>
                <a:cubicBezTo>
                  <a:pt x="593" y="283"/>
                  <a:pt x="596" y="281"/>
                  <a:pt x="596" y="280"/>
                </a:cubicBezTo>
                <a:cubicBezTo>
                  <a:pt x="611" y="254"/>
                  <a:pt x="675" y="188"/>
                  <a:pt x="680" y="162"/>
                </a:cubicBezTo>
                <a:cubicBezTo>
                  <a:pt x="683" y="145"/>
                  <a:pt x="725" y="89"/>
                  <a:pt x="721" y="65"/>
                </a:cubicBezTo>
                <a:cubicBezTo>
                  <a:pt x="718" y="47"/>
                  <a:pt x="677" y="30"/>
                  <a:pt x="667" y="22"/>
                </a:cubicBezTo>
                <a:cubicBezTo>
                  <a:pt x="642" y="0"/>
                  <a:pt x="535" y="16"/>
                  <a:pt x="509" y="30"/>
                </a:cubicBezTo>
                <a:cubicBezTo>
                  <a:pt x="505" y="32"/>
                  <a:pt x="493" y="34"/>
                  <a:pt x="489" y="37"/>
                </a:cubicBezTo>
                <a:cubicBezTo>
                  <a:pt x="489" y="37"/>
                  <a:pt x="485" y="38"/>
                  <a:pt x="484" y="38"/>
                </a:cubicBezTo>
                <a:cubicBezTo>
                  <a:pt x="483" y="39"/>
                  <a:pt x="482" y="37"/>
                  <a:pt x="481" y="38"/>
                </a:cubicBezTo>
                <a:cubicBezTo>
                  <a:pt x="437" y="67"/>
                  <a:pt x="364" y="3"/>
                  <a:pt x="334" y="36"/>
                </a:cubicBezTo>
                <a:cubicBezTo>
                  <a:pt x="330" y="40"/>
                  <a:pt x="292" y="151"/>
                  <a:pt x="288" y="157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4"/>
          <p:cNvSpPr/>
          <p:nvPr/>
        </p:nvSpPr>
        <p:spPr>
          <a:xfrm>
            <a:off x="4111560" y="1490760"/>
            <a:ext cx="890640" cy="706320"/>
          </a:xfrm>
          <a:custGeom>
            <a:avLst/>
            <a:gdLst/>
            <a:ahLst/>
            <a:rect l="l" t="t" r="r" b="b"/>
            <a:pathLst>
              <a:path w="735" h="583">
                <a:moveTo>
                  <a:pt x="295" y="155"/>
                </a:moveTo>
                <a:cubicBezTo>
                  <a:pt x="295" y="154"/>
                  <a:pt x="294" y="155"/>
                  <a:pt x="294" y="154"/>
                </a:cubicBezTo>
                <a:cubicBezTo>
                  <a:pt x="294" y="153"/>
                  <a:pt x="291" y="152"/>
                  <a:pt x="291" y="150"/>
                </a:cubicBezTo>
                <a:cubicBezTo>
                  <a:pt x="282" y="113"/>
                  <a:pt x="129" y="60"/>
                  <a:pt x="95" y="46"/>
                </a:cubicBezTo>
                <a:cubicBezTo>
                  <a:pt x="86" y="42"/>
                  <a:pt x="58" y="40"/>
                  <a:pt x="50" y="39"/>
                </a:cubicBezTo>
                <a:cubicBezTo>
                  <a:pt x="0" y="37"/>
                  <a:pt x="58" y="162"/>
                  <a:pt x="54" y="207"/>
                </a:cubicBezTo>
                <a:cubicBezTo>
                  <a:pt x="54" y="215"/>
                  <a:pt x="67" y="232"/>
                  <a:pt x="67" y="239"/>
                </a:cubicBezTo>
                <a:cubicBezTo>
                  <a:pt x="67" y="240"/>
                  <a:pt x="69" y="243"/>
                  <a:pt x="69" y="244"/>
                </a:cubicBezTo>
                <a:cubicBezTo>
                  <a:pt x="69" y="246"/>
                  <a:pt x="69" y="249"/>
                  <a:pt x="69" y="251"/>
                </a:cubicBezTo>
                <a:cubicBezTo>
                  <a:pt x="72" y="311"/>
                  <a:pt x="65" y="471"/>
                  <a:pt x="106" y="515"/>
                </a:cubicBezTo>
                <a:cubicBezTo>
                  <a:pt x="131" y="542"/>
                  <a:pt x="212" y="526"/>
                  <a:pt x="240" y="553"/>
                </a:cubicBezTo>
                <a:cubicBezTo>
                  <a:pt x="250" y="563"/>
                  <a:pt x="316" y="580"/>
                  <a:pt x="331" y="582"/>
                </a:cubicBezTo>
                <a:cubicBezTo>
                  <a:pt x="335" y="583"/>
                  <a:pt x="343" y="581"/>
                  <a:pt x="346" y="582"/>
                </a:cubicBezTo>
                <a:cubicBezTo>
                  <a:pt x="346" y="581"/>
                  <a:pt x="348" y="579"/>
                  <a:pt x="348" y="577"/>
                </a:cubicBezTo>
                <a:cubicBezTo>
                  <a:pt x="348" y="576"/>
                  <a:pt x="351" y="577"/>
                  <a:pt x="351" y="576"/>
                </a:cubicBezTo>
                <a:cubicBezTo>
                  <a:pt x="361" y="509"/>
                  <a:pt x="484" y="567"/>
                  <a:pt x="536" y="528"/>
                </a:cubicBezTo>
                <a:cubicBezTo>
                  <a:pt x="536" y="528"/>
                  <a:pt x="536" y="528"/>
                  <a:pt x="536" y="528"/>
                </a:cubicBezTo>
                <a:cubicBezTo>
                  <a:pt x="536" y="528"/>
                  <a:pt x="536" y="528"/>
                  <a:pt x="536" y="528"/>
                </a:cubicBezTo>
                <a:cubicBezTo>
                  <a:pt x="571" y="502"/>
                  <a:pt x="569" y="343"/>
                  <a:pt x="595" y="300"/>
                </a:cubicBezTo>
                <a:cubicBezTo>
                  <a:pt x="595" y="299"/>
                  <a:pt x="595" y="295"/>
                  <a:pt x="595" y="294"/>
                </a:cubicBezTo>
                <a:cubicBezTo>
                  <a:pt x="596" y="293"/>
                  <a:pt x="599" y="291"/>
                  <a:pt x="599" y="290"/>
                </a:cubicBezTo>
                <a:cubicBezTo>
                  <a:pt x="614" y="265"/>
                  <a:pt x="681" y="197"/>
                  <a:pt x="686" y="172"/>
                </a:cubicBezTo>
                <a:cubicBezTo>
                  <a:pt x="689" y="156"/>
                  <a:pt x="735" y="98"/>
                  <a:pt x="731" y="75"/>
                </a:cubicBezTo>
                <a:cubicBezTo>
                  <a:pt x="729" y="58"/>
                  <a:pt x="684" y="42"/>
                  <a:pt x="674" y="34"/>
                </a:cubicBezTo>
                <a:cubicBezTo>
                  <a:pt x="651" y="13"/>
                  <a:pt x="539" y="29"/>
                  <a:pt x="514" y="42"/>
                </a:cubicBezTo>
                <a:cubicBezTo>
                  <a:pt x="511" y="44"/>
                  <a:pt x="498" y="46"/>
                  <a:pt x="494" y="48"/>
                </a:cubicBezTo>
                <a:cubicBezTo>
                  <a:pt x="493" y="49"/>
                  <a:pt x="490" y="49"/>
                  <a:pt x="489" y="50"/>
                </a:cubicBezTo>
                <a:cubicBezTo>
                  <a:pt x="488" y="50"/>
                  <a:pt x="486" y="49"/>
                  <a:pt x="485" y="49"/>
                </a:cubicBezTo>
                <a:cubicBezTo>
                  <a:pt x="444" y="77"/>
                  <a:pt x="369" y="0"/>
                  <a:pt x="340" y="32"/>
                </a:cubicBezTo>
                <a:cubicBezTo>
                  <a:pt x="337" y="36"/>
                  <a:pt x="295" y="157"/>
                  <a:pt x="292" y="162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15"/>
          <p:cNvSpPr/>
          <p:nvPr/>
        </p:nvSpPr>
        <p:spPr>
          <a:xfrm>
            <a:off x="4098960" y="1488960"/>
            <a:ext cx="904680" cy="714600"/>
          </a:xfrm>
          <a:custGeom>
            <a:avLst/>
            <a:gdLst/>
            <a:ahLst/>
            <a:rect l="l" t="t" r="r" b="b"/>
            <a:pathLst>
              <a:path w="746" h="588">
                <a:moveTo>
                  <a:pt x="299" y="164"/>
                </a:moveTo>
                <a:cubicBezTo>
                  <a:pt x="299" y="163"/>
                  <a:pt x="298" y="164"/>
                  <a:pt x="298" y="163"/>
                </a:cubicBezTo>
                <a:cubicBezTo>
                  <a:pt x="297" y="162"/>
                  <a:pt x="294" y="161"/>
                  <a:pt x="294" y="160"/>
                </a:cubicBezTo>
                <a:cubicBezTo>
                  <a:pt x="286" y="124"/>
                  <a:pt x="126" y="74"/>
                  <a:pt x="94" y="60"/>
                </a:cubicBezTo>
                <a:cubicBezTo>
                  <a:pt x="85" y="57"/>
                  <a:pt x="55" y="55"/>
                  <a:pt x="47" y="54"/>
                </a:cubicBezTo>
                <a:cubicBezTo>
                  <a:pt x="0" y="52"/>
                  <a:pt x="68" y="180"/>
                  <a:pt x="64" y="222"/>
                </a:cubicBezTo>
                <a:cubicBezTo>
                  <a:pt x="64" y="230"/>
                  <a:pt x="78" y="248"/>
                  <a:pt x="78" y="254"/>
                </a:cubicBezTo>
                <a:cubicBezTo>
                  <a:pt x="78" y="256"/>
                  <a:pt x="81" y="258"/>
                  <a:pt x="81" y="260"/>
                </a:cubicBezTo>
                <a:cubicBezTo>
                  <a:pt x="81" y="261"/>
                  <a:pt x="80" y="265"/>
                  <a:pt x="80" y="266"/>
                </a:cubicBezTo>
                <a:cubicBezTo>
                  <a:pt x="83" y="324"/>
                  <a:pt x="71" y="492"/>
                  <a:pt x="110" y="534"/>
                </a:cubicBezTo>
                <a:cubicBezTo>
                  <a:pt x="134" y="560"/>
                  <a:pt x="219" y="539"/>
                  <a:pt x="245" y="564"/>
                </a:cubicBezTo>
                <a:cubicBezTo>
                  <a:pt x="255" y="574"/>
                  <a:pt x="323" y="586"/>
                  <a:pt x="337" y="588"/>
                </a:cubicBezTo>
                <a:cubicBezTo>
                  <a:pt x="341" y="588"/>
                  <a:pt x="349" y="586"/>
                  <a:pt x="352" y="587"/>
                </a:cubicBezTo>
                <a:cubicBezTo>
                  <a:pt x="352" y="586"/>
                  <a:pt x="355" y="584"/>
                  <a:pt x="355" y="583"/>
                </a:cubicBezTo>
                <a:cubicBezTo>
                  <a:pt x="355" y="582"/>
                  <a:pt x="357" y="582"/>
                  <a:pt x="358" y="581"/>
                </a:cubicBezTo>
                <a:cubicBezTo>
                  <a:pt x="367" y="518"/>
                  <a:pt x="498" y="584"/>
                  <a:pt x="547" y="547"/>
                </a:cubicBezTo>
                <a:cubicBezTo>
                  <a:pt x="547" y="547"/>
                  <a:pt x="547" y="547"/>
                  <a:pt x="547" y="547"/>
                </a:cubicBezTo>
                <a:cubicBezTo>
                  <a:pt x="547" y="547"/>
                  <a:pt x="547" y="547"/>
                  <a:pt x="547" y="547"/>
                </a:cubicBezTo>
                <a:cubicBezTo>
                  <a:pt x="581" y="522"/>
                  <a:pt x="573" y="354"/>
                  <a:pt x="598" y="312"/>
                </a:cubicBezTo>
                <a:cubicBezTo>
                  <a:pt x="598" y="312"/>
                  <a:pt x="598" y="308"/>
                  <a:pt x="598" y="307"/>
                </a:cubicBezTo>
                <a:cubicBezTo>
                  <a:pt x="599" y="306"/>
                  <a:pt x="602" y="304"/>
                  <a:pt x="602" y="303"/>
                </a:cubicBezTo>
                <a:cubicBezTo>
                  <a:pt x="616" y="279"/>
                  <a:pt x="689" y="209"/>
                  <a:pt x="693" y="185"/>
                </a:cubicBezTo>
                <a:cubicBezTo>
                  <a:pt x="696" y="170"/>
                  <a:pt x="746" y="110"/>
                  <a:pt x="742" y="88"/>
                </a:cubicBezTo>
                <a:cubicBezTo>
                  <a:pt x="740" y="72"/>
                  <a:pt x="692" y="57"/>
                  <a:pt x="683" y="49"/>
                </a:cubicBezTo>
                <a:cubicBezTo>
                  <a:pt x="660" y="29"/>
                  <a:pt x="543" y="44"/>
                  <a:pt x="520" y="57"/>
                </a:cubicBezTo>
                <a:cubicBezTo>
                  <a:pt x="516" y="59"/>
                  <a:pt x="502" y="61"/>
                  <a:pt x="499" y="63"/>
                </a:cubicBezTo>
                <a:cubicBezTo>
                  <a:pt x="498" y="63"/>
                  <a:pt x="495" y="64"/>
                  <a:pt x="494" y="64"/>
                </a:cubicBezTo>
                <a:cubicBezTo>
                  <a:pt x="493" y="65"/>
                  <a:pt x="491" y="63"/>
                  <a:pt x="490" y="63"/>
                </a:cubicBezTo>
                <a:cubicBezTo>
                  <a:pt x="451" y="89"/>
                  <a:pt x="375" y="0"/>
                  <a:pt x="347" y="30"/>
                </a:cubicBezTo>
                <a:cubicBezTo>
                  <a:pt x="344" y="34"/>
                  <a:pt x="299" y="166"/>
                  <a:pt x="295" y="171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16"/>
          <p:cNvSpPr/>
          <p:nvPr/>
        </p:nvSpPr>
        <p:spPr>
          <a:xfrm>
            <a:off x="4087800" y="1487520"/>
            <a:ext cx="917640" cy="728640"/>
          </a:xfrm>
          <a:custGeom>
            <a:avLst/>
            <a:gdLst/>
            <a:ahLst/>
            <a:rect l="l" t="t" r="r" b="b"/>
            <a:pathLst>
              <a:path w="757" h="601">
                <a:moveTo>
                  <a:pt x="303" y="174"/>
                </a:moveTo>
                <a:cubicBezTo>
                  <a:pt x="303" y="173"/>
                  <a:pt x="302" y="175"/>
                  <a:pt x="301" y="173"/>
                </a:cubicBezTo>
                <a:cubicBezTo>
                  <a:pt x="301" y="172"/>
                  <a:pt x="298" y="171"/>
                  <a:pt x="298" y="170"/>
                </a:cubicBezTo>
                <a:cubicBezTo>
                  <a:pt x="290" y="136"/>
                  <a:pt x="123" y="89"/>
                  <a:pt x="92" y="76"/>
                </a:cubicBezTo>
                <a:cubicBezTo>
                  <a:pt x="84" y="72"/>
                  <a:pt x="53" y="71"/>
                  <a:pt x="45" y="70"/>
                </a:cubicBezTo>
                <a:cubicBezTo>
                  <a:pt x="0" y="69"/>
                  <a:pt x="78" y="199"/>
                  <a:pt x="74" y="239"/>
                </a:cubicBezTo>
                <a:cubicBezTo>
                  <a:pt x="74" y="246"/>
                  <a:pt x="90" y="264"/>
                  <a:pt x="90" y="271"/>
                </a:cubicBezTo>
                <a:cubicBezTo>
                  <a:pt x="90" y="272"/>
                  <a:pt x="92" y="275"/>
                  <a:pt x="92" y="276"/>
                </a:cubicBezTo>
                <a:cubicBezTo>
                  <a:pt x="92" y="277"/>
                  <a:pt x="91" y="281"/>
                  <a:pt x="91" y="282"/>
                </a:cubicBezTo>
                <a:cubicBezTo>
                  <a:pt x="94" y="337"/>
                  <a:pt x="77" y="515"/>
                  <a:pt x="114" y="554"/>
                </a:cubicBezTo>
                <a:cubicBezTo>
                  <a:pt x="137" y="578"/>
                  <a:pt x="226" y="552"/>
                  <a:pt x="250" y="577"/>
                </a:cubicBezTo>
                <a:cubicBezTo>
                  <a:pt x="260" y="586"/>
                  <a:pt x="331" y="592"/>
                  <a:pt x="344" y="594"/>
                </a:cubicBezTo>
                <a:cubicBezTo>
                  <a:pt x="347" y="595"/>
                  <a:pt x="356" y="592"/>
                  <a:pt x="358" y="594"/>
                </a:cubicBezTo>
                <a:cubicBezTo>
                  <a:pt x="359" y="593"/>
                  <a:pt x="361" y="590"/>
                  <a:pt x="361" y="589"/>
                </a:cubicBezTo>
                <a:cubicBezTo>
                  <a:pt x="362" y="588"/>
                  <a:pt x="364" y="589"/>
                  <a:pt x="364" y="588"/>
                </a:cubicBezTo>
                <a:cubicBezTo>
                  <a:pt x="373" y="528"/>
                  <a:pt x="512" y="601"/>
                  <a:pt x="559" y="566"/>
                </a:cubicBezTo>
                <a:cubicBezTo>
                  <a:pt x="559" y="566"/>
                  <a:pt x="559" y="566"/>
                  <a:pt x="559" y="566"/>
                </a:cubicBezTo>
                <a:cubicBezTo>
                  <a:pt x="559" y="566"/>
                  <a:pt x="559" y="566"/>
                  <a:pt x="559" y="566"/>
                </a:cubicBezTo>
                <a:cubicBezTo>
                  <a:pt x="591" y="542"/>
                  <a:pt x="578" y="366"/>
                  <a:pt x="601" y="326"/>
                </a:cubicBezTo>
                <a:cubicBezTo>
                  <a:pt x="602" y="326"/>
                  <a:pt x="601" y="322"/>
                  <a:pt x="602" y="321"/>
                </a:cubicBezTo>
                <a:cubicBezTo>
                  <a:pt x="602" y="320"/>
                  <a:pt x="605" y="317"/>
                  <a:pt x="606" y="317"/>
                </a:cubicBezTo>
                <a:cubicBezTo>
                  <a:pt x="619" y="294"/>
                  <a:pt x="696" y="221"/>
                  <a:pt x="700" y="198"/>
                </a:cubicBezTo>
                <a:cubicBezTo>
                  <a:pt x="703" y="185"/>
                  <a:pt x="757" y="123"/>
                  <a:pt x="754" y="103"/>
                </a:cubicBezTo>
                <a:cubicBezTo>
                  <a:pt x="751" y="87"/>
                  <a:pt x="700" y="73"/>
                  <a:pt x="691" y="65"/>
                </a:cubicBezTo>
                <a:cubicBezTo>
                  <a:pt x="670" y="47"/>
                  <a:pt x="548" y="61"/>
                  <a:pt x="525" y="73"/>
                </a:cubicBezTo>
                <a:cubicBezTo>
                  <a:pt x="522" y="75"/>
                  <a:pt x="508" y="76"/>
                  <a:pt x="505" y="78"/>
                </a:cubicBezTo>
                <a:cubicBezTo>
                  <a:pt x="504" y="79"/>
                  <a:pt x="500" y="79"/>
                  <a:pt x="499" y="80"/>
                </a:cubicBezTo>
                <a:cubicBezTo>
                  <a:pt x="498" y="80"/>
                  <a:pt x="496" y="78"/>
                  <a:pt x="496" y="78"/>
                </a:cubicBezTo>
                <a:cubicBezTo>
                  <a:pt x="458" y="103"/>
                  <a:pt x="381" y="0"/>
                  <a:pt x="354" y="29"/>
                </a:cubicBezTo>
                <a:cubicBezTo>
                  <a:pt x="351" y="33"/>
                  <a:pt x="303" y="175"/>
                  <a:pt x="300" y="180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17"/>
          <p:cNvSpPr/>
          <p:nvPr/>
        </p:nvSpPr>
        <p:spPr>
          <a:xfrm>
            <a:off x="4076640" y="1486080"/>
            <a:ext cx="928800" cy="747360"/>
          </a:xfrm>
          <a:custGeom>
            <a:avLst/>
            <a:gdLst/>
            <a:ahLst/>
            <a:rect l="l" t="t" r="r" b="b"/>
            <a:pathLst>
              <a:path w="767" h="617">
                <a:moveTo>
                  <a:pt x="306" y="183"/>
                </a:moveTo>
                <a:cubicBezTo>
                  <a:pt x="306" y="182"/>
                  <a:pt x="305" y="184"/>
                  <a:pt x="305" y="183"/>
                </a:cubicBezTo>
                <a:cubicBezTo>
                  <a:pt x="304" y="182"/>
                  <a:pt x="301" y="181"/>
                  <a:pt x="301" y="180"/>
                </a:cubicBezTo>
                <a:cubicBezTo>
                  <a:pt x="293" y="148"/>
                  <a:pt x="119" y="103"/>
                  <a:pt x="90" y="91"/>
                </a:cubicBezTo>
                <a:cubicBezTo>
                  <a:pt x="82" y="87"/>
                  <a:pt x="50" y="86"/>
                  <a:pt x="43" y="86"/>
                </a:cubicBezTo>
                <a:cubicBezTo>
                  <a:pt x="0" y="84"/>
                  <a:pt x="87" y="217"/>
                  <a:pt x="84" y="255"/>
                </a:cubicBezTo>
                <a:cubicBezTo>
                  <a:pt x="83" y="261"/>
                  <a:pt x="100" y="280"/>
                  <a:pt x="100" y="286"/>
                </a:cubicBezTo>
                <a:cubicBezTo>
                  <a:pt x="100" y="287"/>
                  <a:pt x="103" y="290"/>
                  <a:pt x="103" y="291"/>
                </a:cubicBezTo>
                <a:cubicBezTo>
                  <a:pt x="103" y="292"/>
                  <a:pt x="102" y="297"/>
                  <a:pt x="102" y="298"/>
                </a:cubicBezTo>
                <a:cubicBezTo>
                  <a:pt x="105" y="349"/>
                  <a:pt x="82" y="536"/>
                  <a:pt x="118" y="573"/>
                </a:cubicBezTo>
                <a:cubicBezTo>
                  <a:pt x="139" y="596"/>
                  <a:pt x="232" y="565"/>
                  <a:pt x="255" y="588"/>
                </a:cubicBezTo>
                <a:cubicBezTo>
                  <a:pt x="264" y="597"/>
                  <a:pt x="337" y="598"/>
                  <a:pt x="350" y="600"/>
                </a:cubicBezTo>
                <a:cubicBezTo>
                  <a:pt x="353" y="601"/>
                  <a:pt x="362" y="598"/>
                  <a:pt x="364" y="599"/>
                </a:cubicBezTo>
                <a:cubicBezTo>
                  <a:pt x="364" y="598"/>
                  <a:pt x="367" y="595"/>
                  <a:pt x="367" y="594"/>
                </a:cubicBezTo>
                <a:cubicBezTo>
                  <a:pt x="368" y="593"/>
                  <a:pt x="370" y="594"/>
                  <a:pt x="371" y="594"/>
                </a:cubicBezTo>
                <a:cubicBezTo>
                  <a:pt x="379" y="537"/>
                  <a:pt x="526" y="617"/>
                  <a:pt x="570" y="584"/>
                </a:cubicBezTo>
                <a:cubicBezTo>
                  <a:pt x="570" y="584"/>
                  <a:pt x="570" y="584"/>
                  <a:pt x="570" y="584"/>
                </a:cubicBezTo>
                <a:cubicBezTo>
                  <a:pt x="570" y="584"/>
                  <a:pt x="571" y="584"/>
                  <a:pt x="571" y="584"/>
                </a:cubicBezTo>
                <a:cubicBezTo>
                  <a:pt x="600" y="562"/>
                  <a:pt x="582" y="376"/>
                  <a:pt x="604" y="340"/>
                </a:cubicBezTo>
                <a:cubicBezTo>
                  <a:pt x="605" y="339"/>
                  <a:pt x="604" y="335"/>
                  <a:pt x="604" y="334"/>
                </a:cubicBezTo>
                <a:cubicBezTo>
                  <a:pt x="605" y="333"/>
                  <a:pt x="608" y="330"/>
                  <a:pt x="609" y="330"/>
                </a:cubicBezTo>
                <a:cubicBezTo>
                  <a:pt x="621" y="308"/>
                  <a:pt x="703" y="233"/>
                  <a:pt x="707" y="211"/>
                </a:cubicBezTo>
                <a:cubicBezTo>
                  <a:pt x="709" y="198"/>
                  <a:pt x="767" y="135"/>
                  <a:pt x="764" y="116"/>
                </a:cubicBezTo>
                <a:cubicBezTo>
                  <a:pt x="762" y="101"/>
                  <a:pt x="707" y="88"/>
                  <a:pt x="699" y="81"/>
                </a:cubicBezTo>
                <a:cubicBezTo>
                  <a:pt x="679" y="63"/>
                  <a:pt x="551" y="76"/>
                  <a:pt x="530" y="88"/>
                </a:cubicBezTo>
                <a:cubicBezTo>
                  <a:pt x="528" y="89"/>
                  <a:pt x="512" y="91"/>
                  <a:pt x="509" y="93"/>
                </a:cubicBezTo>
                <a:cubicBezTo>
                  <a:pt x="509" y="93"/>
                  <a:pt x="504" y="94"/>
                  <a:pt x="504" y="94"/>
                </a:cubicBezTo>
                <a:cubicBezTo>
                  <a:pt x="503" y="95"/>
                  <a:pt x="501" y="92"/>
                  <a:pt x="500" y="93"/>
                </a:cubicBezTo>
                <a:cubicBezTo>
                  <a:pt x="465" y="116"/>
                  <a:pt x="385" y="0"/>
                  <a:pt x="361" y="27"/>
                </a:cubicBezTo>
                <a:cubicBezTo>
                  <a:pt x="358" y="31"/>
                  <a:pt x="306" y="184"/>
                  <a:pt x="303" y="189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18"/>
          <p:cNvSpPr/>
          <p:nvPr/>
        </p:nvSpPr>
        <p:spPr>
          <a:xfrm>
            <a:off x="4065480" y="1484280"/>
            <a:ext cx="941400" cy="766800"/>
          </a:xfrm>
          <a:custGeom>
            <a:avLst/>
            <a:gdLst/>
            <a:ahLst/>
            <a:rect l="l" t="t" r="r" b="b"/>
            <a:pathLst>
              <a:path w="777" h="633">
                <a:moveTo>
                  <a:pt x="309" y="191"/>
                </a:moveTo>
                <a:cubicBezTo>
                  <a:pt x="309" y="190"/>
                  <a:pt x="308" y="193"/>
                  <a:pt x="308" y="192"/>
                </a:cubicBezTo>
                <a:cubicBezTo>
                  <a:pt x="308" y="191"/>
                  <a:pt x="304" y="190"/>
                  <a:pt x="304" y="189"/>
                </a:cubicBezTo>
                <a:cubicBezTo>
                  <a:pt x="297" y="159"/>
                  <a:pt x="115" y="117"/>
                  <a:pt x="88" y="105"/>
                </a:cubicBezTo>
                <a:cubicBezTo>
                  <a:pt x="81" y="102"/>
                  <a:pt x="47" y="100"/>
                  <a:pt x="40" y="100"/>
                </a:cubicBezTo>
                <a:cubicBezTo>
                  <a:pt x="0" y="98"/>
                  <a:pt x="97" y="234"/>
                  <a:pt x="93" y="270"/>
                </a:cubicBezTo>
                <a:cubicBezTo>
                  <a:pt x="93" y="276"/>
                  <a:pt x="111" y="296"/>
                  <a:pt x="111" y="301"/>
                </a:cubicBezTo>
                <a:cubicBezTo>
                  <a:pt x="111" y="302"/>
                  <a:pt x="114" y="305"/>
                  <a:pt x="114" y="306"/>
                </a:cubicBezTo>
                <a:cubicBezTo>
                  <a:pt x="114" y="307"/>
                  <a:pt x="113" y="312"/>
                  <a:pt x="113" y="313"/>
                </a:cubicBezTo>
                <a:cubicBezTo>
                  <a:pt x="116" y="361"/>
                  <a:pt x="88" y="557"/>
                  <a:pt x="121" y="592"/>
                </a:cubicBezTo>
                <a:cubicBezTo>
                  <a:pt x="141" y="613"/>
                  <a:pt x="238" y="577"/>
                  <a:pt x="260" y="599"/>
                </a:cubicBezTo>
                <a:cubicBezTo>
                  <a:pt x="268" y="607"/>
                  <a:pt x="344" y="604"/>
                  <a:pt x="356" y="606"/>
                </a:cubicBezTo>
                <a:cubicBezTo>
                  <a:pt x="359" y="606"/>
                  <a:pt x="368" y="603"/>
                  <a:pt x="370" y="604"/>
                </a:cubicBezTo>
                <a:cubicBezTo>
                  <a:pt x="370" y="603"/>
                  <a:pt x="373" y="600"/>
                  <a:pt x="374" y="599"/>
                </a:cubicBezTo>
                <a:cubicBezTo>
                  <a:pt x="374" y="598"/>
                  <a:pt x="377" y="599"/>
                  <a:pt x="377" y="599"/>
                </a:cubicBezTo>
                <a:cubicBezTo>
                  <a:pt x="385" y="545"/>
                  <a:pt x="540" y="633"/>
                  <a:pt x="582" y="602"/>
                </a:cubicBezTo>
                <a:cubicBezTo>
                  <a:pt x="582" y="602"/>
                  <a:pt x="582" y="602"/>
                  <a:pt x="582" y="602"/>
                </a:cubicBezTo>
                <a:cubicBezTo>
                  <a:pt x="582" y="602"/>
                  <a:pt x="582" y="602"/>
                  <a:pt x="582" y="602"/>
                </a:cubicBezTo>
                <a:cubicBezTo>
                  <a:pt x="610" y="581"/>
                  <a:pt x="586" y="387"/>
                  <a:pt x="607" y="352"/>
                </a:cubicBezTo>
                <a:cubicBezTo>
                  <a:pt x="608" y="351"/>
                  <a:pt x="607" y="347"/>
                  <a:pt x="607" y="346"/>
                </a:cubicBezTo>
                <a:cubicBezTo>
                  <a:pt x="608" y="346"/>
                  <a:pt x="611" y="343"/>
                  <a:pt x="612" y="342"/>
                </a:cubicBezTo>
                <a:cubicBezTo>
                  <a:pt x="623" y="322"/>
                  <a:pt x="710" y="244"/>
                  <a:pt x="713" y="224"/>
                </a:cubicBezTo>
                <a:cubicBezTo>
                  <a:pt x="716" y="212"/>
                  <a:pt x="777" y="147"/>
                  <a:pt x="774" y="129"/>
                </a:cubicBezTo>
                <a:cubicBezTo>
                  <a:pt x="772" y="115"/>
                  <a:pt x="715" y="102"/>
                  <a:pt x="707" y="96"/>
                </a:cubicBezTo>
                <a:cubicBezTo>
                  <a:pt x="688" y="79"/>
                  <a:pt x="555" y="91"/>
                  <a:pt x="536" y="102"/>
                </a:cubicBezTo>
                <a:cubicBezTo>
                  <a:pt x="533" y="104"/>
                  <a:pt x="517" y="105"/>
                  <a:pt x="514" y="107"/>
                </a:cubicBezTo>
                <a:cubicBezTo>
                  <a:pt x="513" y="107"/>
                  <a:pt x="509" y="108"/>
                  <a:pt x="508" y="108"/>
                </a:cubicBezTo>
                <a:cubicBezTo>
                  <a:pt x="508" y="109"/>
                  <a:pt x="506" y="106"/>
                  <a:pt x="505" y="106"/>
                </a:cubicBezTo>
                <a:cubicBezTo>
                  <a:pt x="472" y="128"/>
                  <a:pt x="390" y="0"/>
                  <a:pt x="367" y="25"/>
                </a:cubicBezTo>
                <a:cubicBezTo>
                  <a:pt x="364" y="28"/>
                  <a:pt x="309" y="192"/>
                  <a:pt x="306" y="197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19"/>
          <p:cNvSpPr/>
          <p:nvPr/>
        </p:nvSpPr>
        <p:spPr>
          <a:xfrm>
            <a:off x="4054320" y="1481040"/>
            <a:ext cx="954360" cy="787320"/>
          </a:xfrm>
          <a:custGeom>
            <a:avLst/>
            <a:gdLst/>
            <a:ahLst/>
            <a:rect l="l" t="t" r="r" b="b"/>
            <a:pathLst>
              <a:path w="788" h="650">
                <a:moveTo>
                  <a:pt x="313" y="201"/>
                </a:moveTo>
                <a:cubicBezTo>
                  <a:pt x="313" y="200"/>
                  <a:pt x="311" y="202"/>
                  <a:pt x="311" y="202"/>
                </a:cubicBezTo>
                <a:cubicBezTo>
                  <a:pt x="311" y="201"/>
                  <a:pt x="307" y="200"/>
                  <a:pt x="307" y="199"/>
                </a:cubicBezTo>
                <a:cubicBezTo>
                  <a:pt x="300" y="171"/>
                  <a:pt x="112" y="131"/>
                  <a:pt x="86" y="120"/>
                </a:cubicBezTo>
                <a:cubicBezTo>
                  <a:pt x="79" y="117"/>
                  <a:pt x="44" y="116"/>
                  <a:pt x="38" y="116"/>
                </a:cubicBezTo>
                <a:cubicBezTo>
                  <a:pt x="0" y="114"/>
                  <a:pt x="106" y="252"/>
                  <a:pt x="103" y="286"/>
                </a:cubicBezTo>
                <a:cubicBezTo>
                  <a:pt x="103" y="292"/>
                  <a:pt x="122" y="312"/>
                  <a:pt x="122" y="317"/>
                </a:cubicBezTo>
                <a:cubicBezTo>
                  <a:pt x="122" y="318"/>
                  <a:pt x="125" y="321"/>
                  <a:pt x="125" y="322"/>
                </a:cubicBezTo>
                <a:cubicBezTo>
                  <a:pt x="125" y="323"/>
                  <a:pt x="124" y="328"/>
                  <a:pt x="124" y="329"/>
                </a:cubicBezTo>
                <a:cubicBezTo>
                  <a:pt x="127" y="374"/>
                  <a:pt x="94" y="578"/>
                  <a:pt x="125" y="611"/>
                </a:cubicBezTo>
                <a:cubicBezTo>
                  <a:pt x="144" y="631"/>
                  <a:pt x="244" y="591"/>
                  <a:pt x="265" y="611"/>
                </a:cubicBezTo>
                <a:cubicBezTo>
                  <a:pt x="273" y="619"/>
                  <a:pt x="351" y="610"/>
                  <a:pt x="362" y="612"/>
                </a:cubicBezTo>
                <a:cubicBezTo>
                  <a:pt x="365" y="612"/>
                  <a:pt x="374" y="609"/>
                  <a:pt x="376" y="610"/>
                </a:cubicBezTo>
                <a:cubicBezTo>
                  <a:pt x="376" y="609"/>
                  <a:pt x="380" y="606"/>
                  <a:pt x="380" y="605"/>
                </a:cubicBezTo>
                <a:cubicBezTo>
                  <a:pt x="380" y="604"/>
                  <a:pt x="383" y="606"/>
                  <a:pt x="383" y="605"/>
                </a:cubicBezTo>
                <a:cubicBezTo>
                  <a:pt x="391" y="555"/>
                  <a:pt x="554" y="650"/>
                  <a:pt x="593" y="621"/>
                </a:cubicBezTo>
                <a:cubicBezTo>
                  <a:pt x="593" y="621"/>
                  <a:pt x="593" y="621"/>
                  <a:pt x="593" y="621"/>
                </a:cubicBezTo>
                <a:cubicBezTo>
                  <a:pt x="593" y="621"/>
                  <a:pt x="593" y="621"/>
                  <a:pt x="593" y="621"/>
                </a:cubicBezTo>
                <a:cubicBezTo>
                  <a:pt x="620" y="601"/>
                  <a:pt x="591" y="398"/>
                  <a:pt x="610" y="366"/>
                </a:cubicBezTo>
                <a:cubicBezTo>
                  <a:pt x="611" y="365"/>
                  <a:pt x="610" y="360"/>
                  <a:pt x="610" y="360"/>
                </a:cubicBezTo>
                <a:cubicBezTo>
                  <a:pt x="611" y="359"/>
                  <a:pt x="614" y="356"/>
                  <a:pt x="615" y="355"/>
                </a:cubicBezTo>
                <a:cubicBezTo>
                  <a:pt x="625" y="337"/>
                  <a:pt x="717" y="257"/>
                  <a:pt x="720" y="237"/>
                </a:cubicBezTo>
                <a:cubicBezTo>
                  <a:pt x="722" y="226"/>
                  <a:pt x="788" y="160"/>
                  <a:pt x="785" y="142"/>
                </a:cubicBezTo>
                <a:cubicBezTo>
                  <a:pt x="783" y="129"/>
                  <a:pt x="722" y="118"/>
                  <a:pt x="715" y="111"/>
                </a:cubicBezTo>
                <a:cubicBezTo>
                  <a:pt x="697" y="96"/>
                  <a:pt x="560" y="107"/>
                  <a:pt x="541" y="118"/>
                </a:cubicBezTo>
                <a:cubicBezTo>
                  <a:pt x="538" y="119"/>
                  <a:pt x="521" y="121"/>
                  <a:pt x="519" y="122"/>
                </a:cubicBezTo>
                <a:cubicBezTo>
                  <a:pt x="518" y="123"/>
                  <a:pt x="514" y="123"/>
                  <a:pt x="513" y="123"/>
                </a:cubicBezTo>
                <a:cubicBezTo>
                  <a:pt x="512" y="124"/>
                  <a:pt x="511" y="121"/>
                  <a:pt x="510" y="121"/>
                </a:cubicBezTo>
                <a:cubicBezTo>
                  <a:pt x="479" y="142"/>
                  <a:pt x="396" y="0"/>
                  <a:pt x="374" y="24"/>
                </a:cubicBezTo>
                <a:cubicBezTo>
                  <a:pt x="371" y="27"/>
                  <a:pt x="313" y="202"/>
                  <a:pt x="310" y="206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20"/>
          <p:cNvSpPr/>
          <p:nvPr/>
        </p:nvSpPr>
        <p:spPr>
          <a:xfrm>
            <a:off x="4043520" y="1481040"/>
            <a:ext cx="966600" cy="806400"/>
          </a:xfrm>
          <a:custGeom>
            <a:avLst/>
            <a:gdLst/>
            <a:ahLst/>
            <a:rect l="l" t="t" r="r" b="b"/>
            <a:pathLst>
              <a:path w="799" h="666">
                <a:moveTo>
                  <a:pt x="316" y="209"/>
                </a:moveTo>
                <a:cubicBezTo>
                  <a:pt x="316" y="208"/>
                  <a:pt x="315" y="211"/>
                  <a:pt x="315" y="210"/>
                </a:cubicBezTo>
                <a:cubicBezTo>
                  <a:pt x="315" y="210"/>
                  <a:pt x="310" y="209"/>
                  <a:pt x="310" y="208"/>
                </a:cubicBezTo>
                <a:cubicBezTo>
                  <a:pt x="304" y="181"/>
                  <a:pt x="108" y="145"/>
                  <a:pt x="84" y="135"/>
                </a:cubicBezTo>
                <a:cubicBezTo>
                  <a:pt x="78" y="132"/>
                  <a:pt x="41" y="130"/>
                  <a:pt x="35" y="130"/>
                </a:cubicBezTo>
                <a:cubicBezTo>
                  <a:pt x="0" y="129"/>
                  <a:pt x="116" y="270"/>
                  <a:pt x="113" y="301"/>
                </a:cubicBezTo>
                <a:cubicBezTo>
                  <a:pt x="113" y="307"/>
                  <a:pt x="133" y="327"/>
                  <a:pt x="133" y="332"/>
                </a:cubicBezTo>
                <a:cubicBezTo>
                  <a:pt x="133" y="333"/>
                  <a:pt x="137" y="336"/>
                  <a:pt x="137" y="337"/>
                </a:cubicBezTo>
                <a:cubicBezTo>
                  <a:pt x="137" y="338"/>
                  <a:pt x="136" y="343"/>
                  <a:pt x="136" y="344"/>
                </a:cubicBezTo>
                <a:cubicBezTo>
                  <a:pt x="138" y="386"/>
                  <a:pt x="100" y="599"/>
                  <a:pt x="129" y="630"/>
                </a:cubicBezTo>
                <a:cubicBezTo>
                  <a:pt x="147" y="649"/>
                  <a:pt x="251" y="603"/>
                  <a:pt x="270" y="622"/>
                </a:cubicBezTo>
                <a:cubicBezTo>
                  <a:pt x="277" y="629"/>
                  <a:pt x="358" y="616"/>
                  <a:pt x="368" y="617"/>
                </a:cubicBezTo>
                <a:cubicBezTo>
                  <a:pt x="371" y="618"/>
                  <a:pt x="381" y="613"/>
                  <a:pt x="383" y="614"/>
                </a:cubicBezTo>
                <a:cubicBezTo>
                  <a:pt x="383" y="614"/>
                  <a:pt x="386" y="610"/>
                  <a:pt x="386" y="610"/>
                </a:cubicBezTo>
                <a:cubicBezTo>
                  <a:pt x="386" y="609"/>
                  <a:pt x="390" y="611"/>
                  <a:pt x="390" y="610"/>
                </a:cubicBezTo>
                <a:cubicBezTo>
                  <a:pt x="397" y="563"/>
                  <a:pt x="568" y="666"/>
                  <a:pt x="605" y="639"/>
                </a:cubicBezTo>
                <a:cubicBezTo>
                  <a:pt x="605" y="639"/>
                  <a:pt x="605" y="639"/>
                  <a:pt x="605" y="639"/>
                </a:cubicBezTo>
                <a:cubicBezTo>
                  <a:pt x="605" y="639"/>
                  <a:pt x="605" y="639"/>
                  <a:pt x="605" y="639"/>
                </a:cubicBezTo>
                <a:cubicBezTo>
                  <a:pt x="630" y="621"/>
                  <a:pt x="595" y="408"/>
                  <a:pt x="613" y="378"/>
                </a:cubicBezTo>
                <a:cubicBezTo>
                  <a:pt x="614" y="377"/>
                  <a:pt x="613" y="373"/>
                  <a:pt x="613" y="372"/>
                </a:cubicBezTo>
                <a:cubicBezTo>
                  <a:pt x="614" y="372"/>
                  <a:pt x="617" y="369"/>
                  <a:pt x="618" y="368"/>
                </a:cubicBezTo>
                <a:cubicBezTo>
                  <a:pt x="628" y="350"/>
                  <a:pt x="724" y="268"/>
                  <a:pt x="727" y="250"/>
                </a:cubicBezTo>
                <a:cubicBezTo>
                  <a:pt x="729" y="239"/>
                  <a:pt x="799" y="171"/>
                  <a:pt x="796" y="155"/>
                </a:cubicBezTo>
                <a:cubicBezTo>
                  <a:pt x="794" y="143"/>
                  <a:pt x="730" y="132"/>
                  <a:pt x="723" y="126"/>
                </a:cubicBezTo>
                <a:cubicBezTo>
                  <a:pt x="707" y="112"/>
                  <a:pt x="564" y="123"/>
                  <a:pt x="546" y="132"/>
                </a:cubicBezTo>
                <a:cubicBezTo>
                  <a:pt x="544" y="133"/>
                  <a:pt x="526" y="135"/>
                  <a:pt x="524" y="136"/>
                </a:cubicBezTo>
                <a:cubicBezTo>
                  <a:pt x="523" y="137"/>
                  <a:pt x="519" y="137"/>
                  <a:pt x="518" y="137"/>
                </a:cubicBezTo>
                <a:cubicBezTo>
                  <a:pt x="517" y="138"/>
                  <a:pt x="515" y="134"/>
                  <a:pt x="515" y="135"/>
                </a:cubicBezTo>
                <a:cubicBezTo>
                  <a:pt x="486" y="154"/>
                  <a:pt x="401" y="0"/>
                  <a:pt x="381" y="22"/>
                </a:cubicBezTo>
                <a:cubicBezTo>
                  <a:pt x="378" y="24"/>
                  <a:pt x="316" y="210"/>
                  <a:pt x="314" y="214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21"/>
          <p:cNvSpPr/>
          <p:nvPr/>
        </p:nvSpPr>
        <p:spPr>
          <a:xfrm>
            <a:off x="4032360" y="1477800"/>
            <a:ext cx="979200" cy="827280"/>
          </a:xfrm>
          <a:custGeom>
            <a:avLst/>
            <a:gdLst/>
            <a:ahLst/>
            <a:rect l="l" t="t" r="r" b="b"/>
            <a:pathLst>
              <a:path w="808" h="683">
                <a:moveTo>
                  <a:pt x="319" y="218"/>
                </a:moveTo>
                <a:cubicBezTo>
                  <a:pt x="319" y="218"/>
                  <a:pt x="318" y="221"/>
                  <a:pt x="317" y="220"/>
                </a:cubicBezTo>
                <a:cubicBezTo>
                  <a:pt x="317" y="219"/>
                  <a:pt x="313" y="219"/>
                  <a:pt x="313" y="218"/>
                </a:cubicBezTo>
                <a:cubicBezTo>
                  <a:pt x="307" y="193"/>
                  <a:pt x="104" y="159"/>
                  <a:pt x="82" y="150"/>
                </a:cubicBezTo>
                <a:cubicBezTo>
                  <a:pt x="76" y="147"/>
                  <a:pt x="38" y="146"/>
                  <a:pt x="32" y="146"/>
                </a:cubicBezTo>
                <a:cubicBezTo>
                  <a:pt x="0" y="144"/>
                  <a:pt x="125" y="288"/>
                  <a:pt x="122" y="318"/>
                </a:cubicBezTo>
                <a:cubicBezTo>
                  <a:pt x="122" y="323"/>
                  <a:pt x="144" y="344"/>
                  <a:pt x="144" y="348"/>
                </a:cubicBezTo>
                <a:cubicBezTo>
                  <a:pt x="144" y="349"/>
                  <a:pt x="147" y="352"/>
                  <a:pt x="147" y="353"/>
                </a:cubicBezTo>
                <a:cubicBezTo>
                  <a:pt x="147" y="354"/>
                  <a:pt x="146" y="359"/>
                  <a:pt x="146" y="360"/>
                </a:cubicBezTo>
                <a:cubicBezTo>
                  <a:pt x="148" y="399"/>
                  <a:pt x="105" y="621"/>
                  <a:pt x="132" y="649"/>
                </a:cubicBezTo>
                <a:cubicBezTo>
                  <a:pt x="148" y="667"/>
                  <a:pt x="256" y="616"/>
                  <a:pt x="274" y="634"/>
                </a:cubicBezTo>
                <a:cubicBezTo>
                  <a:pt x="281" y="640"/>
                  <a:pt x="364" y="622"/>
                  <a:pt x="373" y="624"/>
                </a:cubicBezTo>
                <a:cubicBezTo>
                  <a:pt x="376" y="624"/>
                  <a:pt x="386" y="619"/>
                  <a:pt x="388" y="620"/>
                </a:cubicBezTo>
                <a:cubicBezTo>
                  <a:pt x="388" y="619"/>
                  <a:pt x="392" y="616"/>
                  <a:pt x="392" y="615"/>
                </a:cubicBezTo>
                <a:cubicBezTo>
                  <a:pt x="392" y="615"/>
                  <a:pt x="395" y="617"/>
                  <a:pt x="396" y="616"/>
                </a:cubicBezTo>
                <a:cubicBezTo>
                  <a:pt x="402" y="573"/>
                  <a:pt x="582" y="683"/>
                  <a:pt x="616" y="658"/>
                </a:cubicBezTo>
                <a:cubicBezTo>
                  <a:pt x="616" y="658"/>
                  <a:pt x="616" y="658"/>
                  <a:pt x="616" y="658"/>
                </a:cubicBezTo>
                <a:cubicBezTo>
                  <a:pt x="616" y="658"/>
                  <a:pt x="616" y="658"/>
                  <a:pt x="616" y="658"/>
                </a:cubicBezTo>
                <a:cubicBezTo>
                  <a:pt x="639" y="641"/>
                  <a:pt x="599" y="420"/>
                  <a:pt x="616" y="392"/>
                </a:cubicBezTo>
                <a:cubicBezTo>
                  <a:pt x="616" y="391"/>
                  <a:pt x="615" y="386"/>
                  <a:pt x="615" y="386"/>
                </a:cubicBezTo>
                <a:cubicBezTo>
                  <a:pt x="616" y="385"/>
                  <a:pt x="620" y="382"/>
                  <a:pt x="620" y="381"/>
                </a:cubicBezTo>
                <a:cubicBezTo>
                  <a:pt x="629" y="365"/>
                  <a:pt x="730" y="280"/>
                  <a:pt x="733" y="263"/>
                </a:cubicBezTo>
                <a:cubicBezTo>
                  <a:pt x="735" y="253"/>
                  <a:pt x="808" y="184"/>
                  <a:pt x="806" y="169"/>
                </a:cubicBezTo>
                <a:cubicBezTo>
                  <a:pt x="804" y="158"/>
                  <a:pt x="737" y="148"/>
                  <a:pt x="731" y="142"/>
                </a:cubicBezTo>
                <a:cubicBezTo>
                  <a:pt x="715" y="129"/>
                  <a:pt x="567" y="139"/>
                  <a:pt x="551" y="148"/>
                </a:cubicBezTo>
                <a:cubicBezTo>
                  <a:pt x="549" y="149"/>
                  <a:pt x="530" y="150"/>
                  <a:pt x="528" y="151"/>
                </a:cubicBezTo>
                <a:cubicBezTo>
                  <a:pt x="528" y="152"/>
                  <a:pt x="523" y="152"/>
                  <a:pt x="522" y="152"/>
                </a:cubicBezTo>
                <a:cubicBezTo>
                  <a:pt x="522" y="153"/>
                  <a:pt x="520" y="149"/>
                  <a:pt x="519" y="149"/>
                </a:cubicBezTo>
                <a:cubicBezTo>
                  <a:pt x="492" y="167"/>
                  <a:pt x="405" y="0"/>
                  <a:pt x="387" y="20"/>
                </a:cubicBezTo>
                <a:cubicBezTo>
                  <a:pt x="384" y="23"/>
                  <a:pt x="319" y="219"/>
                  <a:pt x="317" y="223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22"/>
          <p:cNvSpPr/>
          <p:nvPr/>
        </p:nvSpPr>
        <p:spPr>
          <a:xfrm>
            <a:off x="4021200" y="1474920"/>
            <a:ext cx="992160" cy="849240"/>
          </a:xfrm>
          <a:custGeom>
            <a:avLst/>
            <a:gdLst/>
            <a:ahLst/>
            <a:rect l="l" t="t" r="r" b="b"/>
            <a:pathLst>
              <a:path w="819" h="700">
                <a:moveTo>
                  <a:pt x="323" y="228"/>
                </a:moveTo>
                <a:cubicBezTo>
                  <a:pt x="323" y="227"/>
                  <a:pt x="321" y="231"/>
                  <a:pt x="321" y="230"/>
                </a:cubicBezTo>
                <a:cubicBezTo>
                  <a:pt x="321" y="229"/>
                  <a:pt x="316" y="229"/>
                  <a:pt x="316" y="228"/>
                </a:cubicBezTo>
                <a:cubicBezTo>
                  <a:pt x="311" y="205"/>
                  <a:pt x="100" y="174"/>
                  <a:pt x="80" y="165"/>
                </a:cubicBezTo>
                <a:cubicBezTo>
                  <a:pt x="75" y="163"/>
                  <a:pt x="35" y="161"/>
                  <a:pt x="30" y="161"/>
                </a:cubicBezTo>
                <a:cubicBezTo>
                  <a:pt x="0" y="160"/>
                  <a:pt x="134" y="307"/>
                  <a:pt x="132" y="334"/>
                </a:cubicBezTo>
                <a:cubicBezTo>
                  <a:pt x="132" y="338"/>
                  <a:pt x="155" y="360"/>
                  <a:pt x="155" y="364"/>
                </a:cubicBezTo>
                <a:cubicBezTo>
                  <a:pt x="155" y="365"/>
                  <a:pt x="159" y="368"/>
                  <a:pt x="159" y="369"/>
                </a:cubicBezTo>
                <a:cubicBezTo>
                  <a:pt x="159" y="370"/>
                  <a:pt x="157" y="375"/>
                  <a:pt x="157" y="376"/>
                </a:cubicBezTo>
                <a:cubicBezTo>
                  <a:pt x="159" y="412"/>
                  <a:pt x="111" y="642"/>
                  <a:pt x="136" y="669"/>
                </a:cubicBezTo>
                <a:cubicBezTo>
                  <a:pt x="151" y="685"/>
                  <a:pt x="263" y="629"/>
                  <a:pt x="280" y="645"/>
                </a:cubicBezTo>
                <a:cubicBezTo>
                  <a:pt x="286" y="652"/>
                  <a:pt x="371" y="629"/>
                  <a:pt x="380" y="630"/>
                </a:cubicBezTo>
                <a:cubicBezTo>
                  <a:pt x="382" y="630"/>
                  <a:pt x="393" y="625"/>
                  <a:pt x="394" y="626"/>
                </a:cubicBezTo>
                <a:cubicBezTo>
                  <a:pt x="394" y="625"/>
                  <a:pt x="398" y="622"/>
                  <a:pt x="398" y="621"/>
                </a:cubicBezTo>
                <a:cubicBezTo>
                  <a:pt x="398" y="621"/>
                  <a:pt x="402" y="623"/>
                  <a:pt x="402" y="622"/>
                </a:cubicBezTo>
                <a:cubicBezTo>
                  <a:pt x="408" y="582"/>
                  <a:pt x="596" y="700"/>
                  <a:pt x="628" y="677"/>
                </a:cubicBezTo>
                <a:cubicBezTo>
                  <a:pt x="628" y="677"/>
                  <a:pt x="628" y="677"/>
                  <a:pt x="628" y="677"/>
                </a:cubicBezTo>
                <a:cubicBezTo>
                  <a:pt x="628" y="677"/>
                  <a:pt x="628" y="677"/>
                  <a:pt x="628" y="677"/>
                </a:cubicBezTo>
                <a:cubicBezTo>
                  <a:pt x="649" y="661"/>
                  <a:pt x="604" y="431"/>
                  <a:pt x="619" y="405"/>
                </a:cubicBezTo>
                <a:cubicBezTo>
                  <a:pt x="620" y="404"/>
                  <a:pt x="618" y="400"/>
                  <a:pt x="619" y="399"/>
                </a:cubicBezTo>
                <a:cubicBezTo>
                  <a:pt x="619" y="398"/>
                  <a:pt x="623" y="395"/>
                  <a:pt x="623" y="395"/>
                </a:cubicBezTo>
                <a:cubicBezTo>
                  <a:pt x="632" y="379"/>
                  <a:pt x="737" y="292"/>
                  <a:pt x="740" y="277"/>
                </a:cubicBezTo>
                <a:cubicBezTo>
                  <a:pt x="742" y="268"/>
                  <a:pt x="819" y="196"/>
                  <a:pt x="817" y="183"/>
                </a:cubicBezTo>
                <a:cubicBezTo>
                  <a:pt x="816" y="172"/>
                  <a:pt x="745" y="163"/>
                  <a:pt x="739" y="158"/>
                </a:cubicBezTo>
                <a:cubicBezTo>
                  <a:pt x="725" y="145"/>
                  <a:pt x="572" y="155"/>
                  <a:pt x="557" y="163"/>
                </a:cubicBezTo>
                <a:cubicBezTo>
                  <a:pt x="555" y="164"/>
                  <a:pt x="535" y="165"/>
                  <a:pt x="534" y="166"/>
                </a:cubicBezTo>
                <a:cubicBezTo>
                  <a:pt x="533" y="167"/>
                  <a:pt x="528" y="167"/>
                  <a:pt x="527" y="167"/>
                </a:cubicBezTo>
                <a:cubicBezTo>
                  <a:pt x="527" y="168"/>
                  <a:pt x="525" y="164"/>
                  <a:pt x="524" y="164"/>
                </a:cubicBezTo>
                <a:cubicBezTo>
                  <a:pt x="499" y="181"/>
                  <a:pt x="411" y="0"/>
                  <a:pt x="394" y="19"/>
                </a:cubicBezTo>
                <a:cubicBezTo>
                  <a:pt x="391" y="22"/>
                  <a:pt x="323" y="229"/>
                  <a:pt x="321" y="232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23"/>
          <p:cNvSpPr/>
          <p:nvPr/>
        </p:nvSpPr>
        <p:spPr>
          <a:xfrm>
            <a:off x="4010040" y="1473120"/>
            <a:ext cx="1003320" cy="868320"/>
          </a:xfrm>
          <a:custGeom>
            <a:avLst/>
            <a:gdLst/>
            <a:ahLst/>
            <a:rect l="l" t="t" r="r" b="b"/>
            <a:pathLst>
              <a:path w="829" h="717">
                <a:moveTo>
                  <a:pt x="326" y="237"/>
                </a:moveTo>
                <a:cubicBezTo>
                  <a:pt x="326" y="236"/>
                  <a:pt x="324" y="240"/>
                  <a:pt x="324" y="240"/>
                </a:cubicBezTo>
                <a:cubicBezTo>
                  <a:pt x="324" y="239"/>
                  <a:pt x="319" y="238"/>
                  <a:pt x="319" y="238"/>
                </a:cubicBezTo>
                <a:cubicBezTo>
                  <a:pt x="314" y="217"/>
                  <a:pt x="96" y="188"/>
                  <a:pt x="78" y="180"/>
                </a:cubicBezTo>
                <a:cubicBezTo>
                  <a:pt x="72" y="178"/>
                  <a:pt x="32" y="177"/>
                  <a:pt x="27" y="177"/>
                </a:cubicBezTo>
                <a:cubicBezTo>
                  <a:pt x="0" y="176"/>
                  <a:pt x="143" y="325"/>
                  <a:pt x="141" y="350"/>
                </a:cubicBezTo>
                <a:cubicBezTo>
                  <a:pt x="141" y="354"/>
                  <a:pt x="165" y="376"/>
                  <a:pt x="165" y="380"/>
                </a:cubicBezTo>
                <a:cubicBezTo>
                  <a:pt x="165" y="381"/>
                  <a:pt x="169" y="384"/>
                  <a:pt x="169" y="385"/>
                </a:cubicBezTo>
                <a:cubicBezTo>
                  <a:pt x="169" y="385"/>
                  <a:pt x="168" y="391"/>
                  <a:pt x="168" y="391"/>
                </a:cubicBezTo>
                <a:cubicBezTo>
                  <a:pt x="170" y="425"/>
                  <a:pt x="117" y="664"/>
                  <a:pt x="139" y="688"/>
                </a:cubicBezTo>
                <a:cubicBezTo>
                  <a:pt x="153" y="703"/>
                  <a:pt x="269" y="642"/>
                  <a:pt x="284" y="657"/>
                </a:cubicBezTo>
                <a:cubicBezTo>
                  <a:pt x="290" y="663"/>
                  <a:pt x="377" y="635"/>
                  <a:pt x="385" y="636"/>
                </a:cubicBezTo>
                <a:cubicBezTo>
                  <a:pt x="387" y="637"/>
                  <a:pt x="398" y="631"/>
                  <a:pt x="400" y="632"/>
                </a:cubicBezTo>
                <a:cubicBezTo>
                  <a:pt x="400" y="631"/>
                  <a:pt x="404" y="628"/>
                  <a:pt x="404" y="627"/>
                </a:cubicBezTo>
                <a:cubicBezTo>
                  <a:pt x="404" y="626"/>
                  <a:pt x="408" y="629"/>
                  <a:pt x="408" y="628"/>
                </a:cubicBezTo>
                <a:cubicBezTo>
                  <a:pt x="414" y="591"/>
                  <a:pt x="610" y="717"/>
                  <a:pt x="638" y="695"/>
                </a:cubicBezTo>
                <a:cubicBezTo>
                  <a:pt x="638" y="695"/>
                  <a:pt x="638" y="695"/>
                  <a:pt x="638" y="695"/>
                </a:cubicBezTo>
                <a:cubicBezTo>
                  <a:pt x="638" y="695"/>
                  <a:pt x="638" y="695"/>
                  <a:pt x="638" y="695"/>
                </a:cubicBezTo>
                <a:cubicBezTo>
                  <a:pt x="658" y="681"/>
                  <a:pt x="607" y="442"/>
                  <a:pt x="622" y="418"/>
                </a:cubicBezTo>
                <a:cubicBezTo>
                  <a:pt x="622" y="418"/>
                  <a:pt x="621" y="413"/>
                  <a:pt x="621" y="412"/>
                </a:cubicBezTo>
                <a:cubicBezTo>
                  <a:pt x="621" y="412"/>
                  <a:pt x="626" y="408"/>
                  <a:pt x="626" y="408"/>
                </a:cubicBezTo>
                <a:cubicBezTo>
                  <a:pt x="634" y="394"/>
                  <a:pt x="744" y="304"/>
                  <a:pt x="746" y="290"/>
                </a:cubicBezTo>
                <a:cubicBezTo>
                  <a:pt x="748" y="282"/>
                  <a:pt x="829" y="209"/>
                  <a:pt x="827" y="196"/>
                </a:cubicBezTo>
                <a:cubicBezTo>
                  <a:pt x="826" y="187"/>
                  <a:pt x="752" y="178"/>
                  <a:pt x="747" y="174"/>
                </a:cubicBezTo>
                <a:cubicBezTo>
                  <a:pt x="733" y="162"/>
                  <a:pt x="575" y="171"/>
                  <a:pt x="561" y="178"/>
                </a:cubicBezTo>
                <a:cubicBezTo>
                  <a:pt x="560" y="179"/>
                  <a:pt x="540" y="180"/>
                  <a:pt x="538" y="181"/>
                </a:cubicBezTo>
                <a:cubicBezTo>
                  <a:pt x="537" y="182"/>
                  <a:pt x="532" y="182"/>
                  <a:pt x="531" y="182"/>
                </a:cubicBezTo>
                <a:cubicBezTo>
                  <a:pt x="531" y="183"/>
                  <a:pt x="529" y="178"/>
                  <a:pt x="528" y="179"/>
                </a:cubicBezTo>
                <a:cubicBezTo>
                  <a:pt x="506" y="194"/>
                  <a:pt x="416" y="0"/>
                  <a:pt x="400" y="18"/>
                </a:cubicBezTo>
                <a:cubicBezTo>
                  <a:pt x="398" y="20"/>
                  <a:pt x="326" y="238"/>
                  <a:pt x="324" y="241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24"/>
          <p:cNvSpPr/>
          <p:nvPr/>
        </p:nvSpPr>
        <p:spPr>
          <a:xfrm>
            <a:off x="3998880" y="1469880"/>
            <a:ext cx="1017720" cy="889200"/>
          </a:xfrm>
          <a:custGeom>
            <a:avLst/>
            <a:gdLst/>
            <a:ahLst/>
            <a:rect l="l" t="t" r="r" b="b"/>
            <a:pathLst>
              <a:path w="840" h="733">
                <a:moveTo>
                  <a:pt x="330" y="245"/>
                </a:moveTo>
                <a:cubicBezTo>
                  <a:pt x="330" y="245"/>
                  <a:pt x="328" y="249"/>
                  <a:pt x="328" y="248"/>
                </a:cubicBezTo>
                <a:cubicBezTo>
                  <a:pt x="328" y="248"/>
                  <a:pt x="323" y="247"/>
                  <a:pt x="322" y="247"/>
                </a:cubicBezTo>
                <a:cubicBezTo>
                  <a:pt x="318" y="228"/>
                  <a:pt x="93" y="202"/>
                  <a:pt x="76" y="194"/>
                </a:cubicBezTo>
                <a:cubicBezTo>
                  <a:pt x="72" y="192"/>
                  <a:pt x="29" y="191"/>
                  <a:pt x="25" y="191"/>
                </a:cubicBezTo>
                <a:cubicBezTo>
                  <a:pt x="0" y="190"/>
                  <a:pt x="153" y="342"/>
                  <a:pt x="151" y="365"/>
                </a:cubicBezTo>
                <a:cubicBezTo>
                  <a:pt x="151" y="369"/>
                  <a:pt x="177" y="391"/>
                  <a:pt x="177" y="395"/>
                </a:cubicBezTo>
                <a:cubicBezTo>
                  <a:pt x="177" y="395"/>
                  <a:pt x="181" y="399"/>
                  <a:pt x="181" y="400"/>
                </a:cubicBezTo>
                <a:cubicBezTo>
                  <a:pt x="181" y="400"/>
                  <a:pt x="180" y="406"/>
                  <a:pt x="180" y="406"/>
                </a:cubicBezTo>
                <a:cubicBezTo>
                  <a:pt x="181" y="437"/>
                  <a:pt x="123" y="685"/>
                  <a:pt x="144" y="707"/>
                </a:cubicBezTo>
                <a:cubicBezTo>
                  <a:pt x="156" y="720"/>
                  <a:pt x="276" y="655"/>
                  <a:pt x="290" y="668"/>
                </a:cubicBezTo>
                <a:cubicBezTo>
                  <a:pt x="295" y="673"/>
                  <a:pt x="384" y="640"/>
                  <a:pt x="392" y="642"/>
                </a:cubicBezTo>
                <a:cubicBezTo>
                  <a:pt x="394" y="642"/>
                  <a:pt x="405" y="636"/>
                  <a:pt x="406" y="636"/>
                </a:cubicBezTo>
                <a:cubicBezTo>
                  <a:pt x="406" y="636"/>
                  <a:pt x="411" y="632"/>
                  <a:pt x="411" y="632"/>
                </a:cubicBezTo>
                <a:cubicBezTo>
                  <a:pt x="411" y="631"/>
                  <a:pt x="415" y="634"/>
                  <a:pt x="415" y="633"/>
                </a:cubicBezTo>
                <a:cubicBezTo>
                  <a:pt x="420" y="600"/>
                  <a:pt x="624" y="733"/>
                  <a:pt x="650" y="713"/>
                </a:cubicBezTo>
                <a:cubicBezTo>
                  <a:pt x="650" y="713"/>
                  <a:pt x="650" y="713"/>
                  <a:pt x="650" y="713"/>
                </a:cubicBezTo>
                <a:cubicBezTo>
                  <a:pt x="650" y="713"/>
                  <a:pt x="650" y="713"/>
                  <a:pt x="650" y="713"/>
                </a:cubicBezTo>
                <a:cubicBezTo>
                  <a:pt x="668" y="700"/>
                  <a:pt x="612" y="453"/>
                  <a:pt x="625" y="431"/>
                </a:cubicBezTo>
                <a:cubicBezTo>
                  <a:pt x="626" y="430"/>
                  <a:pt x="624" y="425"/>
                  <a:pt x="624" y="425"/>
                </a:cubicBezTo>
                <a:cubicBezTo>
                  <a:pt x="625" y="424"/>
                  <a:pt x="629" y="421"/>
                  <a:pt x="629" y="420"/>
                </a:cubicBezTo>
                <a:cubicBezTo>
                  <a:pt x="637" y="408"/>
                  <a:pt x="751" y="315"/>
                  <a:pt x="753" y="303"/>
                </a:cubicBezTo>
                <a:cubicBezTo>
                  <a:pt x="755" y="295"/>
                  <a:pt x="840" y="220"/>
                  <a:pt x="838" y="209"/>
                </a:cubicBezTo>
                <a:cubicBezTo>
                  <a:pt x="837" y="200"/>
                  <a:pt x="760" y="193"/>
                  <a:pt x="755" y="188"/>
                </a:cubicBezTo>
                <a:cubicBezTo>
                  <a:pt x="743" y="178"/>
                  <a:pt x="580" y="186"/>
                  <a:pt x="567" y="193"/>
                </a:cubicBezTo>
                <a:cubicBezTo>
                  <a:pt x="565" y="193"/>
                  <a:pt x="545" y="194"/>
                  <a:pt x="543" y="195"/>
                </a:cubicBezTo>
                <a:cubicBezTo>
                  <a:pt x="543" y="196"/>
                  <a:pt x="537" y="196"/>
                  <a:pt x="537" y="196"/>
                </a:cubicBezTo>
                <a:cubicBezTo>
                  <a:pt x="536" y="197"/>
                  <a:pt x="534" y="192"/>
                  <a:pt x="534" y="192"/>
                </a:cubicBezTo>
                <a:cubicBezTo>
                  <a:pt x="513" y="206"/>
                  <a:pt x="421" y="0"/>
                  <a:pt x="407" y="16"/>
                </a:cubicBezTo>
                <a:cubicBezTo>
                  <a:pt x="405" y="18"/>
                  <a:pt x="330" y="246"/>
                  <a:pt x="328" y="249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25"/>
          <p:cNvSpPr/>
          <p:nvPr/>
        </p:nvSpPr>
        <p:spPr>
          <a:xfrm>
            <a:off x="3987720" y="1468440"/>
            <a:ext cx="1030320" cy="907920"/>
          </a:xfrm>
          <a:custGeom>
            <a:avLst/>
            <a:gdLst/>
            <a:ahLst/>
            <a:rect l="l" t="t" r="r" b="b"/>
            <a:pathLst>
              <a:path w="850" h="749">
                <a:moveTo>
                  <a:pt x="333" y="255"/>
                </a:moveTo>
                <a:cubicBezTo>
                  <a:pt x="333" y="254"/>
                  <a:pt x="331" y="259"/>
                  <a:pt x="331" y="258"/>
                </a:cubicBezTo>
                <a:cubicBezTo>
                  <a:pt x="331" y="258"/>
                  <a:pt x="325" y="257"/>
                  <a:pt x="325" y="256"/>
                </a:cubicBezTo>
                <a:cubicBezTo>
                  <a:pt x="321" y="240"/>
                  <a:pt x="89" y="216"/>
                  <a:pt x="74" y="209"/>
                </a:cubicBezTo>
                <a:cubicBezTo>
                  <a:pt x="70" y="208"/>
                  <a:pt x="26" y="207"/>
                  <a:pt x="22" y="207"/>
                </a:cubicBezTo>
                <a:cubicBezTo>
                  <a:pt x="0" y="206"/>
                  <a:pt x="162" y="361"/>
                  <a:pt x="161" y="381"/>
                </a:cubicBezTo>
                <a:cubicBezTo>
                  <a:pt x="160" y="384"/>
                  <a:pt x="187" y="407"/>
                  <a:pt x="187" y="411"/>
                </a:cubicBezTo>
                <a:cubicBezTo>
                  <a:pt x="187" y="411"/>
                  <a:pt x="192" y="415"/>
                  <a:pt x="192" y="415"/>
                </a:cubicBezTo>
                <a:cubicBezTo>
                  <a:pt x="192" y="416"/>
                  <a:pt x="190" y="422"/>
                  <a:pt x="190" y="422"/>
                </a:cubicBezTo>
                <a:cubicBezTo>
                  <a:pt x="192" y="449"/>
                  <a:pt x="128" y="706"/>
                  <a:pt x="147" y="726"/>
                </a:cubicBezTo>
                <a:cubicBezTo>
                  <a:pt x="158" y="738"/>
                  <a:pt x="282" y="668"/>
                  <a:pt x="294" y="680"/>
                </a:cubicBezTo>
                <a:cubicBezTo>
                  <a:pt x="299" y="684"/>
                  <a:pt x="391" y="647"/>
                  <a:pt x="397" y="648"/>
                </a:cubicBezTo>
                <a:cubicBezTo>
                  <a:pt x="399" y="648"/>
                  <a:pt x="411" y="641"/>
                  <a:pt x="412" y="642"/>
                </a:cubicBezTo>
                <a:cubicBezTo>
                  <a:pt x="412" y="642"/>
                  <a:pt x="416" y="638"/>
                  <a:pt x="417" y="637"/>
                </a:cubicBezTo>
                <a:cubicBezTo>
                  <a:pt x="417" y="637"/>
                  <a:pt x="421" y="640"/>
                  <a:pt x="421" y="639"/>
                </a:cubicBezTo>
                <a:cubicBezTo>
                  <a:pt x="426" y="609"/>
                  <a:pt x="638" y="749"/>
                  <a:pt x="661" y="732"/>
                </a:cubicBezTo>
                <a:cubicBezTo>
                  <a:pt x="661" y="732"/>
                  <a:pt x="661" y="732"/>
                  <a:pt x="661" y="732"/>
                </a:cubicBezTo>
                <a:cubicBezTo>
                  <a:pt x="661" y="732"/>
                  <a:pt x="661" y="732"/>
                  <a:pt x="661" y="732"/>
                </a:cubicBezTo>
                <a:cubicBezTo>
                  <a:pt x="677" y="720"/>
                  <a:pt x="616" y="464"/>
                  <a:pt x="628" y="444"/>
                </a:cubicBezTo>
                <a:cubicBezTo>
                  <a:pt x="628" y="444"/>
                  <a:pt x="627" y="438"/>
                  <a:pt x="627" y="438"/>
                </a:cubicBezTo>
                <a:cubicBezTo>
                  <a:pt x="627" y="437"/>
                  <a:pt x="632" y="434"/>
                  <a:pt x="632" y="434"/>
                </a:cubicBezTo>
                <a:cubicBezTo>
                  <a:pt x="639" y="422"/>
                  <a:pt x="758" y="327"/>
                  <a:pt x="760" y="316"/>
                </a:cubicBezTo>
                <a:cubicBezTo>
                  <a:pt x="761" y="309"/>
                  <a:pt x="850" y="233"/>
                  <a:pt x="849" y="223"/>
                </a:cubicBezTo>
                <a:cubicBezTo>
                  <a:pt x="848" y="215"/>
                  <a:pt x="767" y="208"/>
                  <a:pt x="763" y="204"/>
                </a:cubicBezTo>
                <a:cubicBezTo>
                  <a:pt x="752" y="195"/>
                  <a:pt x="583" y="202"/>
                  <a:pt x="572" y="208"/>
                </a:cubicBezTo>
                <a:cubicBezTo>
                  <a:pt x="571" y="209"/>
                  <a:pt x="549" y="210"/>
                  <a:pt x="548" y="210"/>
                </a:cubicBezTo>
                <a:cubicBezTo>
                  <a:pt x="547" y="211"/>
                  <a:pt x="542" y="211"/>
                  <a:pt x="541" y="211"/>
                </a:cubicBezTo>
                <a:cubicBezTo>
                  <a:pt x="541" y="211"/>
                  <a:pt x="539" y="207"/>
                  <a:pt x="538" y="207"/>
                </a:cubicBezTo>
                <a:cubicBezTo>
                  <a:pt x="520" y="219"/>
                  <a:pt x="426" y="0"/>
                  <a:pt x="413" y="14"/>
                </a:cubicBezTo>
                <a:cubicBezTo>
                  <a:pt x="411" y="16"/>
                  <a:pt x="333" y="255"/>
                  <a:pt x="331" y="258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26"/>
          <p:cNvSpPr/>
          <p:nvPr/>
        </p:nvSpPr>
        <p:spPr>
          <a:xfrm>
            <a:off x="3976560" y="1465200"/>
            <a:ext cx="1043280" cy="928800"/>
          </a:xfrm>
          <a:custGeom>
            <a:avLst/>
            <a:gdLst/>
            <a:ahLst/>
            <a:rect l="l" t="t" r="r" b="b"/>
            <a:pathLst>
              <a:path w="861" h="766">
                <a:moveTo>
                  <a:pt x="336" y="264"/>
                </a:moveTo>
                <a:cubicBezTo>
                  <a:pt x="336" y="263"/>
                  <a:pt x="334" y="268"/>
                  <a:pt x="334" y="268"/>
                </a:cubicBezTo>
                <a:cubicBezTo>
                  <a:pt x="334" y="267"/>
                  <a:pt x="328" y="267"/>
                  <a:pt x="328" y="266"/>
                </a:cubicBezTo>
                <a:cubicBezTo>
                  <a:pt x="324" y="251"/>
                  <a:pt x="85" y="230"/>
                  <a:pt x="71" y="224"/>
                </a:cubicBezTo>
                <a:cubicBezTo>
                  <a:pt x="68" y="223"/>
                  <a:pt x="23" y="222"/>
                  <a:pt x="20" y="222"/>
                </a:cubicBezTo>
                <a:cubicBezTo>
                  <a:pt x="0" y="221"/>
                  <a:pt x="172" y="379"/>
                  <a:pt x="170" y="397"/>
                </a:cubicBezTo>
                <a:cubicBezTo>
                  <a:pt x="170" y="400"/>
                  <a:pt x="198" y="424"/>
                  <a:pt x="198" y="426"/>
                </a:cubicBezTo>
                <a:cubicBezTo>
                  <a:pt x="198" y="427"/>
                  <a:pt x="203" y="431"/>
                  <a:pt x="203" y="431"/>
                </a:cubicBezTo>
                <a:cubicBezTo>
                  <a:pt x="203" y="432"/>
                  <a:pt x="201" y="437"/>
                  <a:pt x="201" y="438"/>
                </a:cubicBezTo>
                <a:cubicBezTo>
                  <a:pt x="202" y="462"/>
                  <a:pt x="134" y="728"/>
                  <a:pt x="150" y="745"/>
                </a:cubicBezTo>
                <a:cubicBezTo>
                  <a:pt x="160" y="756"/>
                  <a:pt x="288" y="681"/>
                  <a:pt x="299" y="692"/>
                </a:cubicBezTo>
                <a:cubicBezTo>
                  <a:pt x="303" y="696"/>
                  <a:pt x="397" y="653"/>
                  <a:pt x="403" y="654"/>
                </a:cubicBezTo>
                <a:cubicBezTo>
                  <a:pt x="405" y="654"/>
                  <a:pt x="417" y="647"/>
                  <a:pt x="418" y="648"/>
                </a:cubicBezTo>
                <a:cubicBezTo>
                  <a:pt x="418" y="647"/>
                  <a:pt x="422" y="643"/>
                  <a:pt x="422" y="643"/>
                </a:cubicBezTo>
                <a:cubicBezTo>
                  <a:pt x="422" y="643"/>
                  <a:pt x="427" y="645"/>
                  <a:pt x="427" y="645"/>
                </a:cubicBezTo>
                <a:cubicBezTo>
                  <a:pt x="431" y="618"/>
                  <a:pt x="652" y="766"/>
                  <a:pt x="673" y="751"/>
                </a:cubicBezTo>
                <a:cubicBezTo>
                  <a:pt x="673" y="751"/>
                  <a:pt x="673" y="751"/>
                  <a:pt x="673" y="751"/>
                </a:cubicBezTo>
                <a:cubicBezTo>
                  <a:pt x="673" y="751"/>
                  <a:pt x="673" y="751"/>
                  <a:pt x="673" y="751"/>
                </a:cubicBezTo>
                <a:cubicBezTo>
                  <a:pt x="687" y="740"/>
                  <a:pt x="620" y="475"/>
                  <a:pt x="631" y="458"/>
                </a:cubicBezTo>
                <a:cubicBezTo>
                  <a:pt x="631" y="457"/>
                  <a:pt x="629" y="452"/>
                  <a:pt x="629" y="451"/>
                </a:cubicBezTo>
                <a:cubicBezTo>
                  <a:pt x="630" y="451"/>
                  <a:pt x="634" y="447"/>
                  <a:pt x="635" y="447"/>
                </a:cubicBezTo>
                <a:cubicBezTo>
                  <a:pt x="640" y="437"/>
                  <a:pt x="764" y="339"/>
                  <a:pt x="766" y="329"/>
                </a:cubicBezTo>
                <a:cubicBezTo>
                  <a:pt x="767" y="323"/>
                  <a:pt x="861" y="245"/>
                  <a:pt x="859" y="236"/>
                </a:cubicBezTo>
                <a:cubicBezTo>
                  <a:pt x="858" y="229"/>
                  <a:pt x="774" y="223"/>
                  <a:pt x="770" y="220"/>
                </a:cubicBezTo>
                <a:cubicBezTo>
                  <a:pt x="761" y="211"/>
                  <a:pt x="587" y="218"/>
                  <a:pt x="577" y="223"/>
                </a:cubicBezTo>
                <a:cubicBezTo>
                  <a:pt x="576" y="224"/>
                  <a:pt x="554" y="225"/>
                  <a:pt x="552" y="225"/>
                </a:cubicBezTo>
                <a:cubicBezTo>
                  <a:pt x="552" y="226"/>
                  <a:pt x="546" y="226"/>
                  <a:pt x="546" y="226"/>
                </a:cubicBezTo>
                <a:cubicBezTo>
                  <a:pt x="545" y="226"/>
                  <a:pt x="543" y="221"/>
                  <a:pt x="543" y="221"/>
                </a:cubicBezTo>
                <a:cubicBezTo>
                  <a:pt x="526" y="233"/>
                  <a:pt x="431" y="0"/>
                  <a:pt x="419" y="13"/>
                </a:cubicBezTo>
                <a:cubicBezTo>
                  <a:pt x="418" y="14"/>
                  <a:pt x="336" y="265"/>
                  <a:pt x="334" y="267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27"/>
          <p:cNvSpPr/>
          <p:nvPr/>
        </p:nvSpPr>
        <p:spPr>
          <a:xfrm>
            <a:off x="3963960" y="1465200"/>
            <a:ext cx="1055880" cy="947880"/>
          </a:xfrm>
          <a:custGeom>
            <a:avLst/>
            <a:gdLst/>
            <a:ahLst/>
            <a:rect l="l" t="t" r="r" b="b"/>
            <a:pathLst>
              <a:path w="872" h="783">
                <a:moveTo>
                  <a:pt x="340" y="273"/>
                </a:moveTo>
                <a:cubicBezTo>
                  <a:pt x="340" y="273"/>
                  <a:pt x="338" y="278"/>
                  <a:pt x="338" y="277"/>
                </a:cubicBezTo>
                <a:cubicBezTo>
                  <a:pt x="338" y="277"/>
                  <a:pt x="332" y="277"/>
                  <a:pt x="332" y="276"/>
                </a:cubicBezTo>
                <a:cubicBezTo>
                  <a:pt x="329" y="263"/>
                  <a:pt x="82" y="245"/>
                  <a:pt x="70" y="240"/>
                </a:cubicBezTo>
                <a:cubicBezTo>
                  <a:pt x="67" y="238"/>
                  <a:pt x="21" y="237"/>
                  <a:pt x="18" y="237"/>
                </a:cubicBezTo>
                <a:cubicBezTo>
                  <a:pt x="0" y="237"/>
                  <a:pt x="182" y="397"/>
                  <a:pt x="180" y="413"/>
                </a:cubicBezTo>
                <a:cubicBezTo>
                  <a:pt x="180" y="416"/>
                  <a:pt x="210" y="440"/>
                  <a:pt x="210" y="442"/>
                </a:cubicBezTo>
                <a:cubicBezTo>
                  <a:pt x="210" y="443"/>
                  <a:pt x="214" y="447"/>
                  <a:pt x="214" y="447"/>
                </a:cubicBezTo>
                <a:cubicBezTo>
                  <a:pt x="214" y="447"/>
                  <a:pt x="213" y="453"/>
                  <a:pt x="213" y="454"/>
                </a:cubicBezTo>
                <a:cubicBezTo>
                  <a:pt x="214" y="475"/>
                  <a:pt x="140" y="749"/>
                  <a:pt x="155" y="765"/>
                </a:cubicBezTo>
                <a:cubicBezTo>
                  <a:pt x="164" y="774"/>
                  <a:pt x="295" y="694"/>
                  <a:pt x="304" y="703"/>
                </a:cubicBezTo>
                <a:cubicBezTo>
                  <a:pt x="308" y="707"/>
                  <a:pt x="405" y="659"/>
                  <a:pt x="410" y="660"/>
                </a:cubicBezTo>
                <a:cubicBezTo>
                  <a:pt x="411" y="660"/>
                  <a:pt x="423" y="653"/>
                  <a:pt x="424" y="653"/>
                </a:cubicBezTo>
                <a:cubicBezTo>
                  <a:pt x="424" y="653"/>
                  <a:pt x="429" y="649"/>
                  <a:pt x="429" y="649"/>
                </a:cubicBezTo>
                <a:cubicBezTo>
                  <a:pt x="429" y="648"/>
                  <a:pt x="434" y="651"/>
                  <a:pt x="434" y="651"/>
                </a:cubicBezTo>
                <a:cubicBezTo>
                  <a:pt x="438" y="628"/>
                  <a:pt x="666" y="783"/>
                  <a:pt x="685" y="769"/>
                </a:cubicBezTo>
                <a:cubicBezTo>
                  <a:pt x="685" y="769"/>
                  <a:pt x="685" y="769"/>
                  <a:pt x="685" y="769"/>
                </a:cubicBezTo>
                <a:cubicBezTo>
                  <a:pt x="685" y="769"/>
                  <a:pt x="685" y="769"/>
                  <a:pt x="685" y="769"/>
                </a:cubicBezTo>
                <a:cubicBezTo>
                  <a:pt x="697" y="760"/>
                  <a:pt x="625" y="486"/>
                  <a:pt x="634" y="471"/>
                </a:cubicBezTo>
                <a:cubicBezTo>
                  <a:pt x="635" y="471"/>
                  <a:pt x="633" y="465"/>
                  <a:pt x="633" y="464"/>
                </a:cubicBezTo>
                <a:cubicBezTo>
                  <a:pt x="633" y="464"/>
                  <a:pt x="638" y="460"/>
                  <a:pt x="638" y="460"/>
                </a:cubicBezTo>
                <a:cubicBezTo>
                  <a:pt x="643" y="451"/>
                  <a:pt x="772" y="352"/>
                  <a:pt x="773" y="343"/>
                </a:cubicBezTo>
                <a:cubicBezTo>
                  <a:pt x="775" y="337"/>
                  <a:pt x="872" y="258"/>
                  <a:pt x="870" y="250"/>
                </a:cubicBezTo>
                <a:cubicBezTo>
                  <a:pt x="869" y="244"/>
                  <a:pt x="783" y="238"/>
                  <a:pt x="779" y="235"/>
                </a:cubicBezTo>
                <a:cubicBezTo>
                  <a:pt x="771" y="228"/>
                  <a:pt x="592" y="234"/>
                  <a:pt x="583" y="238"/>
                </a:cubicBezTo>
                <a:cubicBezTo>
                  <a:pt x="582" y="239"/>
                  <a:pt x="559" y="240"/>
                  <a:pt x="558" y="240"/>
                </a:cubicBezTo>
                <a:cubicBezTo>
                  <a:pt x="557" y="241"/>
                  <a:pt x="551" y="241"/>
                  <a:pt x="551" y="241"/>
                </a:cubicBezTo>
                <a:cubicBezTo>
                  <a:pt x="551" y="241"/>
                  <a:pt x="549" y="236"/>
                  <a:pt x="548" y="236"/>
                </a:cubicBezTo>
                <a:cubicBezTo>
                  <a:pt x="534" y="246"/>
                  <a:pt x="437" y="0"/>
                  <a:pt x="427" y="12"/>
                </a:cubicBezTo>
                <a:cubicBezTo>
                  <a:pt x="425" y="13"/>
                  <a:pt x="340" y="274"/>
                  <a:pt x="339" y="276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28"/>
          <p:cNvSpPr/>
          <p:nvPr/>
        </p:nvSpPr>
        <p:spPr>
          <a:xfrm>
            <a:off x="3952800" y="1461960"/>
            <a:ext cx="1068480" cy="968400"/>
          </a:xfrm>
          <a:custGeom>
            <a:avLst/>
            <a:gdLst/>
            <a:ahLst/>
            <a:rect l="l" t="t" r="r" b="b"/>
            <a:pathLst>
              <a:path w="882" h="799">
                <a:moveTo>
                  <a:pt x="343" y="281"/>
                </a:moveTo>
                <a:cubicBezTo>
                  <a:pt x="343" y="281"/>
                  <a:pt x="341" y="286"/>
                  <a:pt x="341" y="286"/>
                </a:cubicBezTo>
                <a:cubicBezTo>
                  <a:pt x="341" y="286"/>
                  <a:pt x="335" y="285"/>
                  <a:pt x="335" y="285"/>
                </a:cubicBezTo>
                <a:cubicBezTo>
                  <a:pt x="332" y="274"/>
                  <a:pt x="78" y="258"/>
                  <a:pt x="68" y="254"/>
                </a:cubicBezTo>
                <a:cubicBezTo>
                  <a:pt x="65" y="252"/>
                  <a:pt x="17" y="252"/>
                  <a:pt x="15" y="252"/>
                </a:cubicBezTo>
                <a:cubicBezTo>
                  <a:pt x="0" y="251"/>
                  <a:pt x="191" y="414"/>
                  <a:pt x="190" y="428"/>
                </a:cubicBezTo>
                <a:cubicBezTo>
                  <a:pt x="190" y="430"/>
                  <a:pt x="220" y="455"/>
                  <a:pt x="220" y="457"/>
                </a:cubicBezTo>
                <a:cubicBezTo>
                  <a:pt x="220" y="457"/>
                  <a:pt x="225" y="461"/>
                  <a:pt x="225" y="462"/>
                </a:cubicBezTo>
                <a:cubicBezTo>
                  <a:pt x="225" y="462"/>
                  <a:pt x="223" y="468"/>
                  <a:pt x="223" y="469"/>
                </a:cubicBezTo>
                <a:cubicBezTo>
                  <a:pt x="224" y="487"/>
                  <a:pt x="146" y="770"/>
                  <a:pt x="158" y="783"/>
                </a:cubicBezTo>
                <a:cubicBezTo>
                  <a:pt x="166" y="791"/>
                  <a:pt x="301" y="706"/>
                  <a:pt x="309" y="714"/>
                </a:cubicBezTo>
                <a:cubicBezTo>
                  <a:pt x="312" y="717"/>
                  <a:pt x="411" y="665"/>
                  <a:pt x="416" y="665"/>
                </a:cubicBezTo>
                <a:cubicBezTo>
                  <a:pt x="417" y="665"/>
                  <a:pt x="429" y="658"/>
                  <a:pt x="430" y="658"/>
                </a:cubicBezTo>
                <a:cubicBezTo>
                  <a:pt x="430" y="658"/>
                  <a:pt x="435" y="654"/>
                  <a:pt x="435" y="653"/>
                </a:cubicBezTo>
                <a:cubicBezTo>
                  <a:pt x="435" y="653"/>
                  <a:pt x="440" y="656"/>
                  <a:pt x="440" y="656"/>
                </a:cubicBezTo>
                <a:cubicBezTo>
                  <a:pt x="443" y="636"/>
                  <a:pt x="680" y="799"/>
                  <a:pt x="696" y="787"/>
                </a:cubicBezTo>
                <a:cubicBezTo>
                  <a:pt x="696" y="787"/>
                  <a:pt x="696" y="787"/>
                  <a:pt x="696" y="787"/>
                </a:cubicBezTo>
                <a:cubicBezTo>
                  <a:pt x="696" y="787"/>
                  <a:pt x="696" y="787"/>
                  <a:pt x="696" y="787"/>
                </a:cubicBezTo>
                <a:cubicBezTo>
                  <a:pt x="706" y="779"/>
                  <a:pt x="629" y="496"/>
                  <a:pt x="637" y="483"/>
                </a:cubicBezTo>
                <a:cubicBezTo>
                  <a:pt x="637" y="483"/>
                  <a:pt x="636" y="477"/>
                  <a:pt x="636" y="477"/>
                </a:cubicBezTo>
                <a:cubicBezTo>
                  <a:pt x="636" y="476"/>
                  <a:pt x="641" y="473"/>
                  <a:pt x="641" y="472"/>
                </a:cubicBezTo>
                <a:cubicBezTo>
                  <a:pt x="645" y="465"/>
                  <a:pt x="778" y="363"/>
                  <a:pt x="780" y="355"/>
                </a:cubicBezTo>
                <a:cubicBezTo>
                  <a:pt x="781" y="350"/>
                  <a:pt x="882" y="269"/>
                  <a:pt x="881" y="262"/>
                </a:cubicBezTo>
                <a:cubicBezTo>
                  <a:pt x="880" y="257"/>
                  <a:pt x="790" y="253"/>
                  <a:pt x="787" y="250"/>
                </a:cubicBezTo>
                <a:cubicBezTo>
                  <a:pt x="780" y="244"/>
                  <a:pt x="595" y="248"/>
                  <a:pt x="588" y="253"/>
                </a:cubicBezTo>
                <a:cubicBezTo>
                  <a:pt x="587" y="253"/>
                  <a:pt x="563" y="254"/>
                  <a:pt x="562" y="254"/>
                </a:cubicBezTo>
                <a:cubicBezTo>
                  <a:pt x="562" y="255"/>
                  <a:pt x="556" y="255"/>
                  <a:pt x="555" y="255"/>
                </a:cubicBezTo>
                <a:cubicBezTo>
                  <a:pt x="555" y="255"/>
                  <a:pt x="553" y="249"/>
                  <a:pt x="553" y="250"/>
                </a:cubicBezTo>
                <a:cubicBezTo>
                  <a:pt x="540" y="258"/>
                  <a:pt x="442" y="0"/>
                  <a:pt x="433" y="9"/>
                </a:cubicBezTo>
                <a:cubicBezTo>
                  <a:pt x="432" y="10"/>
                  <a:pt x="343" y="282"/>
                  <a:pt x="342" y="284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29"/>
          <p:cNvSpPr/>
          <p:nvPr/>
        </p:nvSpPr>
        <p:spPr>
          <a:xfrm>
            <a:off x="3943440" y="1459080"/>
            <a:ext cx="1079280" cy="988920"/>
          </a:xfrm>
          <a:custGeom>
            <a:avLst/>
            <a:gdLst/>
            <a:ahLst/>
            <a:rect l="l" t="t" r="r" b="b"/>
            <a:pathLst>
              <a:path w="892" h="816">
                <a:moveTo>
                  <a:pt x="346" y="291"/>
                </a:moveTo>
                <a:cubicBezTo>
                  <a:pt x="346" y="290"/>
                  <a:pt x="344" y="296"/>
                  <a:pt x="344" y="296"/>
                </a:cubicBezTo>
                <a:cubicBezTo>
                  <a:pt x="344" y="295"/>
                  <a:pt x="338" y="295"/>
                  <a:pt x="338" y="295"/>
                </a:cubicBezTo>
                <a:cubicBezTo>
                  <a:pt x="335" y="285"/>
                  <a:pt x="74" y="272"/>
                  <a:pt x="66" y="269"/>
                </a:cubicBezTo>
                <a:cubicBezTo>
                  <a:pt x="63" y="268"/>
                  <a:pt x="14" y="267"/>
                  <a:pt x="12" y="267"/>
                </a:cubicBezTo>
                <a:cubicBezTo>
                  <a:pt x="0" y="267"/>
                  <a:pt x="200" y="433"/>
                  <a:pt x="199" y="444"/>
                </a:cubicBezTo>
                <a:cubicBezTo>
                  <a:pt x="199" y="446"/>
                  <a:pt x="231" y="471"/>
                  <a:pt x="231" y="473"/>
                </a:cubicBezTo>
                <a:cubicBezTo>
                  <a:pt x="231" y="473"/>
                  <a:pt x="236" y="477"/>
                  <a:pt x="236" y="477"/>
                </a:cubicBezTo>
                <a:cubicBezTo>
                  <a:pt x="236" y="478"/>
                  <a:pt x="234" y="484"/>
                  <a:pt x="234" y="484"/>
                </a:cubicBezTo>
                <a:cubicBezTo>
                  <a:pt x="235" y="500"/>
                  <a:pt x="151" y="792"/>
                  <a:pt x="162" y="803"/>
                </a:cubicBezTo>
                <a:cubicBezTo>
                  <a:pt x="168" y="809"/>
                  <a:pt x="307" y="719"/>
                  <a:pt x="314" y="726"/>
                </a:cubicBezTo>
                <a:cubicBezTo>
                  <a:pt x="317" y="728"/>
                  <a:pt x="418" y="671"/>
                  <a:pt x="421" y="671"/>
                </a:cubicBezTo>
                <a:cubicBezTo>
                  <a:pt x="422" y="672"/>
                  <a:pt x="435" y="663"/>
                  <a:pt x="436" y="664"/>
                </a:cubicBezTo>
                <a:cubicBezTo>
                  <a:pt x="436" y="663"/>
                  <a:pt x="441" y="659"/>
                  <a:pt x="441" y="659"/>
                </a:cubicBezTo>
                <a:cubicBezTo>
                  <a:pt x="441" y="659"/>
                  <a:pt x="446" y="662"/>
                  <a:pt x="446" y="662"/>
                </a:cubicBezTo>
                <a:cubicBezTo>
                  <a:pt x="449" y="645"/>
                  <a:pt x="694" y="816"/>
                  <a:pt x="707" y="806"/>
                </a:cubicBezTo>
                <a:cubicBezTo>
                  <a:pt x="707" y="806"/>
                  <a:pt x="707" y="806"/>
                  <a:pt x="707" y="806"/>
                </a:cubicBezTo>
                <a:cubicBezTo>
                  <a:pt x="707" y="806"/>
                  <a:pt x="707" y="806"/>
                  <a:pt x="707" y="806"/>
                </a:cubicBezTo>
                <a:cubicBezTo>
                  <a:pt x="716" y="799"/>
                  <a:pt x="633" y="507"/>
                  <a:pt x="640" y="497"/>
                </a:cubicBezTo>
                <a:cubicBezTo>
                  <a:pt x="640" y="496"/>
                  <a:pt x="638" y="490"/>
                  <a:pt x="638" y="490"/>
                </a:cubicBezTo>
                <a:cubicBezTo>
                  <a:pt x="638" y="490"/>
                  <a:pt x="644" y="486"/>
                  <a:pt x="644" y="485"/>
                </a:cubicBezTo>
                <a:cubicBezTo>
                  <a:pt x="647" y="479"/>
                  <a:pt x="785" y="375"/>
                  <a:pt x="786" y="368"/>
                </a:cubicBezTo>
                <a:cubicBezTo>
                  <a:pt x="787" y="364"/>
                  <a:pt x="892" y="282"/>
                  <a:pt x="891" y="276"/>
                </a:cubicBezTo>
                <a:cubicBezTo>
                  <a:pt x="891" y="272"/>
                  <a:pt x="797" y="268"/>
                  <a:pt x="795" y="266"/>
                </a:cubicBezTo>
                <a:cubicBezTo>
                  <a:pt x="789" y="261"/>
                  <a:pt x="599" y="264"/>
                  <a:pt x="593" y="268"/>
                </a:cubicBezTo>
                <a:cubicBezTo>
                  <a:pt x="592" y="268"/>
                  <a:pt x="568" y="269"/>
                  <a:pt x="567" y="269"/>
                </a:cubicBezTo>
                <a:cubicBezTo>
                  <a:pt x="567" y="269"/>
                  <a:pt x="560" y="270"/>
                  <a:pt x="560" y="270"/>
                </a:cubicBezTo>
                <a:cubicBezTo>
                  <a:pt x="560" y="270"/>
                  <a:pt x="558" y="264"/>
                  <a:pt x="557" y="264"/>
                </a:cubicBezTo>
                <a:cubicBezTo>
                  <a:pt x="547" y="271"/>
                  <a:pt x="447" y="0"/>
                  <a:pt x="439" y="8"/>
                </a:cubicBezTo>
                <a:cubicBezTo>
                  <a:pt x="438" y="9"/>
                  <a:pt x="346" y="291"/>
                  <a:pt x="345" y="292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30"/>
          <p:cNvSpPr/>
          <p:nvPr/>
        </p:nvSpPr>
        <p:spPr>
          <a:xfrm>
            <a:off x="3932280" y="1457280"/>
            <a:ext cx="1092240" cy="1008000"/>
          </a:xfrm>
          <a:custGeom>
            <a:avLst/>
            <a:gdLst/>
            <a:ahLst/>
            <a:rect l="l" t="t" r="r" b="b"/>
            <a:pathLst>
              <a:path w="902" h="832">
                <a:moveTo>
                  <a:pt x="349" y="300"/>
                </a:moveTo>
                <a:cubicBezTo>
                  <a:pt x="349" y="300"/>
                  <a:pt x="347" y="306"/>
                  <a:pt x="347" y="305"/>
                </a:cubicBezTo>
                <a:cubicBezTo>
                  <a:pt x="347" y="305"/>
                  <a:pt x="340" y="305"/>
                  <a:pt x="340" y="305"/>
                </a:cubicBezTo>
                <a:cubicBezTo>
                  <a:pt x="339" y="297"/>
                  <a:pt x="70" y="287"/>
                  <a:pt x="64" y="284"/>
                </a:cubicBezTo>
                <a:cubicBezTo>
                  <a:pt x="62" y="283"/>
                  <a:pt x="11" y="283"/>
                  <a:pt x="10" y="282"/>
                </a:cubicBezTo>
                <a:cubicBezTo>
                  <a:pt x="0" y="282"/>
                  <a:pt x="209" y="451"/>
                  <a:pt x="209" y="460"/>
                </a:cubicBezTo>
                <a:cubicBezTo>
                  <a:pt x="208" y="461"/>
                  <a:pt x="242" y="487"/>
                  <a:pt x="242" y="489"/>
                </a:cubicBezTo>
                <a:cubicBezTo>
                  <a:pt x="242" y="489"/>
                  <a:pt x="247" y="493"/>
                  <a:pt x="247" y="493"/>
                </a:cubicBezTo>
                <a:cubicBezTo>
                  <a:pt x="247" y="493"/>
                  <a:pt x="245" y="500"/>
                  <a:pt x="245" y="500"/>
                </a:cubicBezTo>
                <a:cubicBezTo>
                  <a:pt x="246" y="512"/>
                  <a:pt x="157" y="813"/>
                  <a:pt x="165" y="822"/>
                </a:cubicBezTo>
                <a:cubicBezTo>
                  <a:pt x="170" y="827"/>
                  <a:pt x="313" y="732"/>
                  <a:pt x="319" y="737"/>
                </a:cubicBezTo>
                <a:cubicBezTo>
                  <a:pt x="321" y="739"/>
                  <a:pt x="424" y="677"/>
                  <a:pt x="427" y="678"/>
                </a:cubicBezTo>
                <a:cubicBezTo>
                  <a:pt x="428" y="678"/>
                  <a:pt x="441" y="669"/>
                  <a:pt x="442" y="669"/>
                </a:cubicBezTo>
                <a:cubicBezTo>
                  <a:pt x="442" y="669"/>
                  <a:pt x="447" y="665"/>
                  <a:pt x="447" y="665"/>
                </a:cubicBezTo>
                <a:cubicBezTo>
                  <a:pt x="447" y="664"/>
                  <a:pt x="453" y="668"/>
                  <a:pt x="453" y="668"/>
                </a:cubicBezTo>
                <a:cubicBezTo>
                  <a:pt x="455" y="655"/>
                  <a:pt x="708" y="832"/>
                  <a:pt x="718" y="824"/>
                </a:cubicBezTo>
                <a:cubicBezTo>
                  <a:pt x="718" y="824"/>
                  <a:pt x="718" y="824"/>
                  <a:pt x="718" y="824"/>
                </a:cubicBezTo>
                <a:cubicBezTo>
                  <a:pt x="718" y="824"/>
                  <a:pt x="718" y="824"/>
                  <a:pt x="718" y="824"/>
                </a:cubicBezTo>
                <a:cubicBezTo>
                  <a:pt x="725" y="819"/>
                  <a:pt x="638" y="519"/>
                  <a:pt x="643" y="510"/>
                </a:cubicBezTo>
                <a:cubicBezTo>
                  <a:pt x="643" y="510"/>
                  <a:pt x="641" y="503"/>
                  <a:pt x="641" y="503"/>
                </a:cubicBezTo>
                <a:cubicBezTo>
                  <a:pt x="641" y="503"/>
                  <a:pt x="647" y="499"/>
                  <a:pt x="647" y="499"/>
                </a:cubicBezTo>
                <a:cubicBezTo>
                  <a:pt x="650" y="494"/>
                  <a:pt x="792" y="387"/>
                  <a:pt x="793" y="382"/>
                </a:cubicBezTo>
                <a:cubicBezTo>
                  <a:pt x="793" y="378"/>
                  <a:pt x="902" y="294"/>
                  <a:pt x="902" y="290"/>
                </a:cubicBezTo>
                <a:cubicBezTo>
                  <a:pt x="901" y="286"/>
                  <a:pt x="804" y="283"/>
                  <a:pt x="802" y="281"/>
                </a:cubicBezTo>
                <a:cubicBezTo>
                  <a:pt x="798" y="277"/>
                  <a:pt x="603" y="280"/>
                  <a:pt x="598" y="283"/>
                </a:cubicBezTo>
                <a:cubicBezTo>
                  <a:pt x="597" y="283"/>
                  <a:pt x="572" y="284"/>
                  <a:pt x="572" y="284"/>
                </a:cubicBezTo>
                <a:cubicBezTo>
                  <a:pt x="571" y="284"/>
                  <a:pt x="565" y="284"/>
                  <a:pt x="565" y="285"/>
                </a:cubicBezTo>
                <a:cubicBezTo>
                  <a:pt x="564" y="285"/>
                  <a:pt x="562" y="279"/>
                  <a:pt x="562" y="279"/>
                </a:cubicBezTo>
                <a:cubicBezTo>
                  <a:pt x="554" y="284"/>
                  <a:pt x="451" y="0"/>
                  <a:pt x="446" y="6"/>
                </a:cubicBezTo>
                <a:cubicBezTo>
                  <a:pt x="445" y="7"/>
                  <a:pt x="349" y="300"/>
                  <a:pt x="349" y="301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31"/>
          <p:cNvSpPr/>
          <p:nvPr/>
        </p:nvSpPr>
        <p:spPr>
          <a:xfrm>
            <a:off x="3919680" y="1455840"/>
            <a:ext cx="1106280" cy="1028520"/>
          </a:xfrm>
          <a:custGeom>
            <a:avLst/>
            <a:gdLst/>
            <a:ahLst/>
            <a:rect l="l" t="t" r="r" b="b"/>
            <a:pathLst>
              <a:path w="914" h="849">
                <a:moveTo>
                  <a:pt x="354" y="309"/>
                </a:moveTo>
                <a:cubicBezTo>
                  <a:pt x="354" y="309"/>
                  <a:pt x="351" y="315"/>
                  <a:pt x="351" y="315"/>
                </a:cubicBezTo>
                <a:cubicBezTo>
                  <a:pt x="351" y="315"/>
                  <a:pt x="344" y="315"/>
                  <a:pt x="344" y="314"/>
                </a:cubicBezTo>
                <a:cubicBezTo>
                  <a:pt x="343" y="309"/>
                  <a:pt x="68" y="301"/>
                  <a:pt x="62" y="299"/>
                </a:cubicBezTo>
                <a:cubicBezTo>
                  <a:pt x="61" y="298"/>
                  <a:pt x="9" y="298"/>
                  <a:pt x="8" y="298"/>
                </a:cubicBezTo>
                <a:cubicBezTo>
                  <a:pt x="0" y="298"/>
                  <a:pt x="220" y="469"/>
                  <a:pt x="219" y="476"/>
                </a:cubicBezTo>
                <a:cubicBezTo>
                  <a:pt x="219" y="477"/>
                  <a:pt x="253" y="503"/>
                  <a:pt x="254" y="504"/>
                </a:cubicBezTo>
                <a:cubicBezTo>
                  <a:pt x="254" y="504"/>
                  <a:pt x="259" y="509"/>
                  <a:pt x="259" y="509"/>
                </a:cubicBezTo>
                <a:cubicBezTo>
                  <a:pt x="259" y="509"/>
                  <a:pt x="257" y="516"/>
                  <a:pt x="257" y="516"/>
                </a:cubicBezTo>
                <a:cubicBezTo>
                  <a:pt x="257" y="525"/>
                  <a:pt x="164" y="835"/>
                  <a:pt x="170" y="841"/>
                </a:cubicBezTo>
                <a:cubicBezTo>
                  <a:pt x="174" y="845"/>
                  <a:pt x="320" y="745"/>
                  <a:pt x="324" y="749"/>
                </a:cubicBezTo>
                <a:cubicBezTo>
                  <a:pt x="326" y="751"/>
                  <a:pt x="432" y="683"/>
                  <a:pt x="434" y="684"/>
                </a:cubicBezTo>
                <a:cubicBezTo>
                  <a:pt x="435" y="684"/>
                  <a:pt x="448" y="675"/>
                  <a:pt x="449" y="675"/>
                </a:cubicBezTo>
                <a:cubicBezTo>
                  <a:pt x="449" y="675"/>
                  <a:pt x="454" y="670"/>
                  <a:pt x="454" y="670"/>
                </a:cubicBezTo>
                <a:cubicBezTo>
                  <a:pt x="454" y="670"/>
                  <a:pt x="460" y="674"/>
                  <a:pt x="460" y="674"/>
                </a:cubicBezTo>
                <a:cubicBezTo>
                  <a:pt x="461" y="664"/>
                  <a:pt x="723" y="849"/>
                  <a:pt x="731" y="843"/>
                </a:cubicBezTo>
                <a:cubicBezTo>
                  <a:pt x="731" y="843"/>
                  <a:pt x="731" y="843"/>
                  <a:pt x="731" y="843"/>
                </a:cubicBezTo>
                <a:cubicBezTo>
                  <a:pt x="731" y="843"/>
                  <a:pt x="731" y="843"/>
                  <a:pt x="731" y="843"/>
                </a:cubicBezTo>
                <a:cubicBezTo>
                  <a:pt x="736" y="839"/>
                  <a:pt x="643" y="530"/>
                  <a:pt x="647" y="523"/>
                </a:cubicBezTo>
                <a:cubicBezTo>
                  <a:pt x="647" y="523"/>
                  <a:pt x="645" y="516"/>
                  <a:pt x="645" y="516"/>
                </a:cubicBezTo>
                <a:cubicBezTo>
                  <a:pt x="645" y="516"/>
                  <a:pt x="650" y="512"/>
                  <a:pt x="650" y="512"/>
                </a:cubicBezTo>
                <a:cubicBezTo>
                  <a:pt x="653" y="508"/>
                  <a:pt x="800" y="399"/>
                  <a:pt x="800" y="395"/>
                </a:cubicBezTo>
                <a:cubicBezTo>
                  <a:pt x="801" y="392"/>
                  <a:pt x="914" y="307"/>
                  <a:pt x="913" y="303"/>
                </a:cubicBezTo>
                <a:cubicBezTo>
                  <a:pt x="913" y="301"/>
                  <a:pt x="813" y="298"/>
                  <a:pt x="811" y="297"/>
                </a:cubicBezTo>
                <a:cubicBezTo>
                  <a:pt x="808" y="294"/>
                  <a:pt x="608" y="296"/>
                  <a:pt x="604" y="298"/>
                </a:cubicBezTo>
                <a:cubicBezTo>
                  <a:pt x="604" y="299"/>
                  <a:pt x="578" y="299"/>
                  <a:pt x="577" y="299"/>
                </a:cubicBezTo>
                <a:cubicBezTo>
                  <a:pt x="577" y="299"/>
                  <a:pt x="570" y="299"/>
                  <a:pt x="570" y="299"/>
                </a:cubicBezTo>
                <a:cubicBezTo>
                  <a:pt x="570" y="299"/>
                  <a:pt x="568" y="293"/>
                  <a:pt x="568" y="293"/>
                </a:cubicBezTo>
                <a:cubicBezTo>
                  <a:pt x="561" y="297"/>
                  <a:pt x="457" y="0"/>
                  <a:pt x="453" y="5"/>
                </a:cubicBezTo>
                <a:cubicBezTo>
                  <a:pt x="453" y="6"/>
                  <a:pt x="354" y="309"/>
                  <a:pt x="353" y="310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32"/>
          <p:cNvSpPr/>
          <p:nvPr/>
        </p:nvSpPr>
        <p:spPr>
          <a:xfrm>
            <a:off x="3908520" y="1452600"/>
            <a:ext cx="1119240" cy="1049400"/>
          </a:xfrm>
          <a:custGeom>
            <a:avLst/>
            <a:gdLst/>
            <a:ahLst/>
            <a:rect l="l" t="t" r="r" b="b"/>
            <a:pathLst>
              <a:path w="924" h="866">
                <a:moveTo>
                  <a:pt x="357" y="318"/>
                </a:moveTo>
                <a:cubicBezTo>
                  <a:pt x="357" y="318"/>
                  <a:pt x="355" y="325"/>
                  <a:pt x="355" y="325"/>
                </a:cubicBezTo>
                <a:cubicBezTo>
                  <a:pt x="355" y="324"/>
                  <a:pt x="347" y="324"/>
                  <a:pt x="347" y="324"/>
                </a:cubicBezTo>
                <a:cubicBezTo>
                  <a:pt x="347" y="320"/>
                  <a:pt x="64" y="315"/>
                  <a:pt x="60" y="314"/>
                </a:cubicBezTo>
                <a:cubicBezTo>
                  <a:pt x="59" y="313"/>
                  <a:pt x="6" y="313"/>
                  <a:pt x="5" y="313"/>
                </a:cubicBezTo>
                <a:cubicBezTo>
                  <a:pt x="0" y="313"/>
                  <a:pt x="229" y="487"/>
                  <a:pt x="229" y="492"/>
                </a:cubicBezTo>
                <a:cubicBezTo>
                  <a:pt x="229" y="493"/>
                  <a:pt x="264" y="519"/>
                  <a:pt x="264" y="520"/>
                </a:cubicBezTo>
                <a:cubicBezTo>
                  <a:pt x="264" y="520"/>
                  <a:pt x="270" y="524"/>
                  <a:pt x="270" y="525"/>
                </a:cubicBezTo>
                <a:cubicBezTo>
                  <a:pt x="270" y="525"/>
                  <a:pt x="268" y="531"/>
                  <a:pt x="268" y="532"/>
                </a:cubicBezTo>
                <a:cubicBezTo>
                  <a:pt x="268" y="538"/>
                  <a:pt x="169" y="856"/>
                  <a:pt x="173" y="861"/>
                </a:cubicBezTo>
                <a:cubicBezTo>
                  <a:pt x="176" y="863"/>
                  <a:pt x="327" y="758"/>
                  <a:pt x="329" y="761"/>
                </a:cubicBezTo>
                <a:cubicBezTo>
                  <a:pt x="330" y="762"/>
                  <a:pt x="438" y="690"/>
                  <a:pt x="440" y="690"/>
                </a:cubicBezTo>
                <a:cubicBezTo>
                  <a:pt x="440" y="690"/>
                  <a:pt x="454" y="680"/>
                  <a:pt x="455" y="680"/>
                </a:cubicBezTo>
                <a:cubicBezTo>
                  <a:pt x="455" y="680"/>
                  <a:pt x="460" y="676"/>
                  <a:pt x="460" y="676"/>
                </a:cubicBezTo>
                <a:cubicBezTo>
                  <a:pt x="460" y="676"/>
                  <a:pt x="466" y="680"/>
                  <a:pt x="466" y="680"/>
                </a:cubicBezTo>
                <a:cubicBezTo>
                  <a:pt x="467" y="673"/>
                  <a:pt x="737" y="866"/>
                  <a:pt x="742" y="862"/>
                </a:cubicBezTo>
                <a:cubicBezTo>
                  <a:pt x="742" y="862"/>
                  <a:pt x="742" y="862"/>
                  <a:pt x="742" y="862"/>
                </a:cubicBezTo>
                <a:cubicBezTo>
                  <a:pt x="742" y="862"/>
                  <a:pt x="742" y="862"/>
                  <a:pt x="742" y="862"/>
                </a:cubicBezTo>
                <a:cubicBezTo>
                  <a:pt x="745" y="859"/>
                  <a:pt x="647" y="541"/>
                  <a:pt x="649" y="537"/>
                </a:cubicBezTo>
                <a:cubicBezTo>
                  <a:pt x="649" y="536"/>
                  <a:pt x="647" y="530"/>
                  <a:pt x="647" y="530"/>
                </a:cubicBezTo>
                <a:cubicBezTo>
                  <a:pt x="647" y="529"/>
                  <a:pt x="653" y="525"/>
                  <a:pt x="653" y="525"/>
                </a:cubicBezTo>
                <a:cubicBezTo>
                  <a:pt x="655" y="523"/>
                  <a:pt x="806" y="411"/>
                  <a:pt x="807" y="408"/>
                </a:cubicBezTo>
                <a:cubicBezTo>
                  <a:pt x="807" y="407"/>
                  <a:pt x="924" y="319"/>
                  <a:pt x="924" y="317"/>
                </a:cubicBezTo>
                <a:cubicBezTo>
                  <a:pt x="923" y="315"/>
                  <a:pt x="820" y="313"/>
                  <a:pt x="819" y="313"/>
                </a:cubicBezTo>
                <a:cubicBezTo>
                  <a:pt x="817" y="311"/>
                  <a:pt x="612" y="312"/>
                  <a:pt x="609" y="313"/>
                </a:cubicBezTo>
                <a:cubicBezTo>
                  <a:pt x="609" y="314"/>
                  <a:pt x="582" y="314"/>
                  <a:pt x="582" y="314"/>
                </a:cubicBezTo>
                <a:cubicBezTo>
                  <a:pt x="582" y="314"/>
                  <a:pt x="575" y="314"/>
                  <a:pt x="575" y="314"/>
                </a:cubicBezTo>
                <a:cubicBezTo>
                  <a:pt x="575" y="314"/>
                  <a:pt x="572" y="308"/>
                  <a:pt x="572" y="308"/>
                </a:cubicBezTo>
                <a:cubicBezTo>
                  <a:pt x="568" y="310"/>
                  <a:pt x="462" y="0"/>
                  <a:pt x="460" y="3"/>
                </a:cubicBezTo>
                <a:cubicBezTo>
                  <a:pt x="459" y="4"/>
                  <a:pt x="357" y="318"/>
                  <a:pt x="356" y="319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33"/>
          <p:cNvSpPr/>
          <p:nvPr/>
        </p:nvSpPr>
        <p:spPr>
          <a:xfrm>
            <a:off x="3897360" y="1450800"/>
            <a:ext cx="1131840" cy="1068480"/>
          </a:xfrm>
          <a:custGeom>
            <a:avLst/>
            <a:gdLst/>
            <a:ahLst/>
            <a:rect l="l" t="t" r="r" b="b"/>
            <a:pathLst>
              <a:path w="934" h="882">
                <a:moveTo>
                  <a:pt x="360" y="327"/>
                </a:moveTo>
                <a:cubicBezTo>
                  <a:pt x="360" y="327"/>
                  <a:pt x="358" y="334"/>
                  <a:pt x="358" y="334"/>
                </a:cubicBezTo>
                <a:cubicBezTo>
                  <a:pt x="358" y="334"/>
                  <a:pt x="350" y="334"/>
                  <a:pt x="350" y="334"/>
                </a:cubicBezTo>
                <a:cubicBezTo>
                  <a:pt x="350" y="332"/>
                  <a:pt x="60" y="330"/>
                  <a:pt x="58" y="329"/>
                </a:cubicBezTo>
                <a:cubicBezTo>
                  <a:pt x="58" y="329"/>
                  <a:pt x="3" y="328"/>
                  <a:pt x="3" y="328"/>
                </a:cubicBezTo>
                <a:cubicBezTo>
                  <a:pt x="0" y="328"/>
                  <a:pt x="238" y="505"/>
                  <a:pt x="238" y="508"/>
                </a:cubicBezTo>
                <a:cubicBezTo>
                  <a:pt x="238" y="508"/>
                  <a:pt x="275" y="535"/>
                  <a:pt x="275" y="536"/>
                </a:cubicBezTo>
                <a:cubicBezTo>
                  <a:pt x="275" y="536"/>
                  <a:pt x="281" y="540"/>
                  <a:pt x="281" y="540"/>
                </a:cubicBezTo>
                <a:cubicBezTo>
                  <a:pt x="281" y="540"/>
                  <a:pt x="279" y="547"/>
                  <a:pt x="279" y="547"/>
                </a:cubicBezTo>
                <a:cubicBezTo>
                  <a:pt x="279" y="550"/>
                  <a:pt x="175" y="878"/>
                  <a:pt x="177" y="880"/>
                </a:cubicBezTo>
                <a:cubicBezTo>
                  <a:pt x="178" y="881"/>
                  <a:pt x="333" y="771"/>
                  <a:pt x="334" y="772"/>
                </a:cubicBezTo>
                <a:cubicBezTo>
                  <a:pt x="335" y="773"/>
                  <a:pt x="445" y="696"/>
                  <a:pt x="446" y="696"/>
                </a:cubicBezTo>
                <a:cubicBezTo>
                  <a:pt x="446" y="696"/>
                  <a:pt x="460" y="686"/>
                  <a:pt x="460" y="686"/>
                </a:cubicBezTo>
                <a:cubicBezTo>
                  <a:pt x="460" y="686"/>
                  <a:pt x="466" y="681"/>
                  <a:pt x="466" y="681"/>
                </a:cubicBezTo>
                <a:cubicBezTo>
                  <a:pt x="466" y="681"/>
                  <a:pt x="472" y="686"/>
                  <a:pt x="472" y="686"/>
                </a:cubicBezTo>
                <a:cubicBezTo>
                  <a:pt x="473" y="682"/>
                  <a:pt x="751" y="882"/>
                  <a:pt x="753" y="880"/>
                </a:cubicBezTo>
                <a:cubicBezTo>
                  <a:pt x="753" y="880"/>
                  <a:pt x="753" y="880"/>
                  <a:pt x="753" y="880"/>
                </a:cubicBezTo>
                <a:cubicBezTo>
                  <a:pt x="753" y="880"/>
                  <a:pt x="753" y="880"/>
                  <a:pt x="753" y="880"/>
                </a:cubicBezTo>
                <a:cubicBezTo>
                  <a:pt x="755" y="879"/>
                  <a:pt x="651" y="552"/>
                  <a:pt x="652" y="550"/>
                </a:cubicBezTo>
                <a:cubicBezTo>
                  <a:pt x="652" y="550"/>
                  <a:pt x="650" y="543"/>
                  <a:pt x="650" y="543"/>
                </a:cubicBezTo>
                <a:cubicBezTo>
                  <a:pt x="650" y="543"/>
                  <a:pt x="656" y="538"/>
                  <a:pt x="656" y="538"/>
                </a:cubicBezTo>
                <a:cubicBezTo>
                  <a:pt x="657" y="537"/>
                  <a:pt x="813" y="423"/>
                  <a:pt x="813" y="421"/>
                </a:cubicBezTo>
                <a:cubicBezTo>
                  <a:pt x="814" y="421"/>
                  <a:pt x="934" y="331"/>
                  <a:pt x="934" y="330"/>
                </a:cubicBezTo>
                <a:cubicBezTo>
                  <a:pt x="934" y="329"/>
                  <a:pt x="828" y="329"/>
                  <a:pt x="827" y="328"/>
                </a:cubicBezTo>
                <a:cubicBezTo>
                  <a:pt x="826" y="327"/>
                  <a:pt x="616" y="328"/>
                  <a:pt x="614" y="329"/>
                </a:cubicBezTo>
                <a:cubicBezTo>
                  <a:pt x="614" y="329"/>
                  <a:pt x="587" y="329"/>
                  <a:pt x="587" y="329"/>
                </a:cubicBezTo>
                <a:cubicBezTo>
                  <a:pt x="587" y="329"/>
                  <a:pt x="579" y="329"/>
                  <a:pt x="579" y="329"/>
                </a:cubicBezTo>
                <a:cubicBezTo>
                  <a:pt x="579" y="329"/>
                  <a:pt x="577" y="322"/>
                  <a:pt x="577" y="322"/>
                </a:cubicBezTo>
                <a:cubicBezTo>
                  <a:pt x="575" y="323"/>
                  <a:pt x="467" y="0"/>
                  <a:pt x="466" y="2"/>
                </a:cubicBezTo>
                <a:cubicBezTo>
                  <a:pt x="466" y="2"/>
                  <a:pt x="360" y="328"/>
                  <a:pt x="360" y="328"/>
                </a:cubicBezTo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34"/>
          <p:cNvSpPr/>
          <p:nvPr/>
        </p:nvSpPr>
        <p:spPr>
          <a:xfrm>
            <a:off x="3886200" y="1447920"/>
            <a:ext cx="1144440" cy="1087200"/>
          </a:xfrm>
          <a:custGeom>
            <a:avLst/>
            <a:gdLst/>
            <a:ahLst/>
            <a:rect l="l" t="t" r="r" b="b"/>
            <a:pathLst>
              <a:path w="1278" h="1214">
                <a:moveTo>
                  <a:pt x="1033" y="1214"/>
                </a:moveTo>
                <a:lnTo>
                  <a:pt x="647" y="933"/>
                </a:lnTo>
                <a:lnTo>
                  <a:pt x="639" y="928"/>
                </a:lnTo>
                <a:lnTo>
                  <a:pt x="630" y="933"/>
                </a:lnTo>
                <a:lnTo>
                  <a:pt x="244" y="1214"/>
                </a:lnTo>
                <a:lnTo>
                  <a:pt x="244" y="1214"/>
                </a:lnTo>
                <a:lnTo>
                  <a:pt x="392" y="760"/>
                </a:lnTo>
                <a:lnTo>
                  <a:pt x="395" y="750"/>
                </a:lnTo>
                <a:lnTo>
                  <a:pt x="386" y="744"/>
                </a:lnTo>
                <a:lnTo>
                  <a:pt x="0" y="464"/>
                </a:lnTo>
                <a:lnTo>
                  <a:pt x="477" y="464"/>
                </a:lnTo>
                <a:lnTo>
                  <a:pt x="488" y="464"/>
                </a:lnTo>
                <a:lnTo>
                  <a:pt x="491" y="454"/>
                </a:lnTo>
                <a:lnTo>
                  <a:pt x="639" y="0"/>
                </a:lnTo>
                <a:lnTo>
                  <a:pt x="787" y="454"/>
                </a:lnTo>
                <a:lnTo>
                  <a:pt x="789" y="464"/>
                </a:lnTo>
                <a:lnTo>
                  <a:pt x="800" y="464"/>
                </a:lnTo>
                <a:lnTo>
                  <a:pt x="1278" y="464"/>
                </a:lnTo>
                <a:lnTo>
                  <a:pt x="891" y="744"/>
                </a:lnTo>
                <a:lnTo>
                  <a:pt x="883" y="750"/>
                </a:lnTo>
                <a:lnTo>
                  <a:pt x="885" y="760"/>
                </a:lnTo>
                <a:lnTo>
                  <a:pt x="1033" y="1214"/>
                </a:lnTo>
                <a:lnTo>
                  <a:pt x="1033" y="1214"/>
                </a:lnTo>
                <a:lnTo>
                  <a:pt x="1033" y="1214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-1447920" y="5486400"/>
            <a:ext cx="304920" cy="609480"/>
            <a:chOff x="-1447920" y="5486400"/>
            <a:chExt cx="304920" cy="609480"/>
          </a:xfrm>
        </p:grpSpPr>
        <p:sp>
          <p:nvSpPr>
            <p:cNvPr id="344" name="Line 38"/>
            <p:cNvSpPr/>
            <p:nvPr/>
          </p:nvSpPr>
          <p:spPr>
            <a:xfrm>
              <a:off x="-1447920" y="5486400"/>
              <a:ext cx="304920" cy="609480"/>
            </a:xfrm>
            <a:prstGeom prst="line">
              <a:avLst/>
            </a:prstGeom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 txBox="1"/>
            <p:nvPr/>
          </p:nvSpPr>
          <p:spPr>
            <a:xfrm>
              <a:off x="-1447920" y="5486400"/>
              <a:ext cx="30492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Text Box 39"/>
          <p:cNvSpPr/>
          <p:nvPr/>
        </p:nvSpPr>
        <p:spPr>
          <a:xfrm>
            <a:off x="1143000" y="2819520"/>
            <a:ext cx="7010280" cy="36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微软雅黑"/>
              </a:rPr>
              <a:t>你跟我都有过这样的一份感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微软雅黑"/>
              </a:rPr>
              <a:t>它让你懂得了自己真正想要的是什么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微软雅黑"/>
              </a:rPr>
              <a:t>甚至包括爱情本身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微软雅黑"/>
              </a:rPr>
              <a:t>爱情究竟应该是什么样子的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微软雅黑"/>
              </a:rPr>
              <a:t>。。。。。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微软雅黑"/>
              </a:rPr>
              <a:t>去找回原来的自己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微软雅黑"/>
              </a:rPr>
              <a:t>曾经的心里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微软雅黑"/>
              </a:rPr>
              <a:t>装着的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微软雅黑"/>
              </a:rPr>
              <a:t>是你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微软雅黑"/>
              </a:rPr>
              <a:t>最初的爱情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1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1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5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1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1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1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1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65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6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7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5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1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7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1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7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1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8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1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85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1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8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1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8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1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9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101"/>
                            </p:stCondLst>
                            <p:childTnLst>
                              <p:par>
                                <p:cTn id="97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" dur="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06"/>
          <p:cNvGrpSpPr/>
          <p:nvPr/>
        </p:nvGrpSpPr>
        <p:grpSpPr>
          <a:xfrm>
            <a:off x="4176720" y="1180440"/>
            <a:ext cx="1167480" cy="2229840"/>
            <a:chOff x="4176720" y="1180440"/>
            <a:chExt cx="1167480" cy="2229840"/>
          </a:xfrm>
        </p:grpSpPr>
        <p:grpSp>
          <p:nvGrpSpPr>
            <p:cNvPr id="348" name="Group 207"/>
            <p:cNvGrpSpPr/>
            <p:nvPr/>
          </p:nvGrpSpPr>
          <p:grpSpPr>
            <a:xfrm>
              <a:off x="4176720" y="1180440"/>
              <a:ext cx="1167480" cy="2229840"/>
              <a:chOff x="4176720" y="1180440"/>
              <a:chExt cx="1167480" cy="2229840"/>
            </a:xfrm>
          </p:grpSpPr>
          <p:grpSp>
            <p:nvGrpSpPr>
              <p:cNvPr id="349" name="Group 208"/>
              <p:cNvGrpSpPr/>
              <p:nvPr/>
            </p:nvGrpSpPr>
            <p:grpSpPr>
              <a:xfrm>
                <a:off x="4176720" y="1457640"/>
                <a:ext cx="697680" cy="1202760"/>
                <a:chOff x="4176720" y="1457640"/>
                <a:chExt cx="697680" cy="1202760"/>
              </a:xfrm>
            </p:grpSpPr>
            <p:grpSp>
              <p:nvGrpSpPr>
                <p:cNvPr id="350" name="Group 209"/>
                <p:cNvGrpSpPr/>
                <p:nvPr/>
              </p:nvGrpSpPr>
              <p:grpSpPr>
                <a:xfrm>
                  <a:off x="4450680" y="2023920"/>
                  <a:ext cx="423720" cy="636480"/>
                  <a:chOff x="4450680" y="2023920"/>
                  <a:chExt cx="423720" cy="636480"/>
                </a:xfrm>
              </p:grpSpPr>
              <p:sp>
                <p:nvSpPr>
                  <p:cNvPr id="351" name="AutoShape 210"/>
                  <p:cNvSpPr/>
                  <p:nvPr/>
                </p:nvSpPr>
                <p:spPr>
                  <a:xfrm rot="9411600">
                    <a:off x="4539960" y="2039040"/>
                    <a:ext cx="179640" cy="49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1556" y="21600"/>
                        </a:lnTo>
                        <a:lnTo>
                          <a:pt x="20044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AutoShape 211"/>
                  <p:cNvSpPr/>
                  <p:nvPr/>
                </p:nvSpPr>
                <p:spPr>
                  <a:xfrm rot="14989800">
                    <a:off x="4633920" y="2411280"/>
                    <a:ext cx="1918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934" y="2201"/>
                          <a:pt x="12267" y="5080"/>
                          <a:pt x="12267" y="10800"/>
                        </a:cubicBezTo>
                        <a:cubicBezTo>
                          <a:pt x="12267" y="16520"/>
                          <a:pt x="16934" y="19399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" name="Group 212"/>
                <p:cNvGrpSpPr/>
                <p:nvPr/>
              </p:nvGrpSpPr>
              <p:grpSpPr>
                <a:xfrm>
                  <a:off x="4176720" y="1457640"/>
                  <a:ext cx="472320" cy="719280"/>
                  <a:chOff x="4176720" y="1457640"/>
                  <a:chExt cx="472320" cy="719280"/>
                </a:xfrm>
              </p:grpSpPr>
              <p:sp>
                <p:nvSpPr>
                  <p:cNvPr id="354" name="AutoShape 213"/>
                  <p:cNvSpPr/>
                  <p:nvPr/>
                </p:nvSpPr>
                <p:spPr>
                  <a:xfrm rot="9426600">
                    <a:off x="4364280" y="1692000"/>
                    <a:ext cx="180360" cy="36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4308" y="21600"/>
                        </a:lnTo>
                        <a:lnTo>
                          <a:pt x="17292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Oval 214"/>
                  <p:cNvSpPr/>
                  <p:nvPr/>
                </p:nvSpPr>
                <p:spPr>
                  <a:xfrm rot="9965400">
                    <a:off x="4441680" y="1966680"/>
                    <a:ext cx="187200" cy="19044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Freeform 215"/>
                  <p:cNvSpPr/>
                  <p:nvPr/>
                </p:nvSpPr>
                <p:spPr>
                  <a:xfrm rot="19460400">
                    <a:off x="4244040" y="1481400"/>
                    <a:ext cx="175680" cy="28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02" h="2302">
                        <a:moveTo>
                          <a:pt x="361" y="1127"/>
                        </a:moveTo>
                        <a:lnTo>
                          <a:pt x="280" y="1116"/>
                        </a:lnTo>
                        <a:lnTo>
                          <a:pt x="373" y="711"/>
                        </a:lnTo>
                        <a:lnTo>
                          <a:pt x="373" y="709"/>
                        </a:lnTo>
                        <a:lnTo>
                          <a:pt x="375" y="705"/>
                        </a:lnTo>
                        <a:lnTo>
                          <a:pt x="375" y="703"/>
                        </a:lnTo>
                        <a:lnTo>
                          <a:pt x="375" y="700"/>
                        </a:lnTo>
                        <a:lnTo>
                          <a:pt x="375" y="698"/>
                        </a:lnTo>
                        <a:lnTo>
                          <a:pt x="375" y="696"/>
                        </a:lnTo>
                        <a:lnTo>
                          <a:pt x="375" y="692"/>
                        </a:lnTo>
                        <a:lnTo>
                          <a:pt x="375" y="690"/>
                        </a:lnTo>
                        <a:lnTo>
                          <a:pt x="375" y="684"/>
                        </a:lnTo>
                        <a:lnTo>
                          <a:pt x="375" y="681"/>
                        </a:lnTo>
                        <a:lnTo>
                          <a:pt x="375" y="675"/>
                        </a:lnTo>
                        <a:lnTo>
                          <a:pt x="375" y="669"/>
                        </a:lnTo>
                        <a:lnTo>
                          <a:pt x="371" y="665"/>
                        </a:lnTo>
                        <a:lnTo>
                          <a:pt x="371" y="660"/>
                        </a:lnTo>
                        <a:lnTo>
                          <a:pt x="369" y="654"/>
                        </a:lnTo>
                        <a:lnTo>
                          <a:pt x="367" y="652"/>
                        </a:lnTo>
                        <a:lnTo>
                          <a:pt x="365" y="646"/>
                        </a:lnTo>
                        <a:lnTo>
                          <a:pt x="363" y="641"/>
                        </a:lnTo>
                        <a:lnTo>
                          <a:pt x="361" y="637"/>
                        </a:lnTo>
                        <a:lnTo>
                          <a:pt x="358" y="633"/>
                        </a:lnTo>
                        <a:lnTo>
                          <a:pt x="356" y="629"/>
                        </a:lnTo>
                        <a:lnTo>
                          <a:pt x="354" y="623"/>
                        </a:lnTo>
                        <a:lnTo>
                          <a:pt x="350" y="620"/>
                        </a:lnTo>
                        <a:lnTo>
                          <a:pt x="346" y="616"/>
                        </a:lnTo>
                        <a:lnTo>
                          <a:pt x="342" y="612"/>
                        </a:lnTo>
                        <a:lnTo>
                          <a:pt x="339" y="610"/>
                        </a:lnTo>
                        <a:lnTo>
                          <a:pt x="335" y="606"/>
                        </a:lnTo>
                        <a:lnTo>
                          <a:pt x="331" y="603"/>
                        </a:lnTo>
                        <a:lnTo>
                          <a:pt x="325" y="601"/>
                        </a:lnTo>
                        <a:lnTo>
                          <a:pt x="321" y="597"/>
                        </a:lnTo>
                        <a:lnTo>
                          <a:pt x="318" y="595"/>
                        </a:lnTo>
                        <a:lnTo>
                          <a:pt x="312" y="593"/>
                        </a:lnTo>
                        <a:lnTo>
                          <a:pt x="306" y="591"/>
                        </a:lnTo>
                        <a:lnTo>
                          <a:pt x="302" y="589"/>
                        </a:lnTo>
                        <a:lnTo>
                          <a:pt x="299" y="589"/>
                        </a:lnTo>
                        <a:lnTo>
                          <a:pt x="295" y="587"/>
                        </a:lnTo>
                        <a:lnTo>
                          <a:pt x="291" y="587"/>
                        </a:lnTo>
                        <a:lnTo>
                          <a:pt x="287" y="585"/>
                        </a:lnTo>
                        <a:lnTo>
                          <a:pt x="285" y="585"/>
                        </a:lnTo>
                        <a:lnTo>
                          <a:pt x="283" y="585"/>
                        </a:lnTo>
                        <a:lnTo>
                          <a:pt x="280" y="585"/>
                        </a:lnTo>
                        <a:lnTo>
                          <a:pt x="276" y="585"/>
                        </a:lnTo>
                        <a:lnTo>
                          <a:pt x="274" y="585"/>
                        </a:lnTo>
                        <a:lnTo>
                          <a:pt x="272" y="585"/>
                        </a:lnTo>
                        <a:lnTo>
                          <a:pt x="268" y="585"/>
                        </a:lnTo>
                        <a:lnTo>
                          <a:pt x="266" y="585"/>
                        </a:lnTo>
                        <a:lnTo>
                          <a:pt x="263" y="585"/>
                        </a:lnTo>
                        <a:lnTo>
                          <a:pt x="261" y="587"/>
                        </a:lnTo>
                        <a:lnTo>
                          <a:pt x="259" y="587"/>
                        </a:lnTo>
                        <a:lnTo>
                          <a:pt x="255" y="587"/>
                        </a:lnTo>
                        <a:lnTo>
                          <a:pt x="253" y="589"/>
                        </a:lnTo>
                        <a:lnTo>
                          <a:pt x="249" y="589"/>
                        </a:lnTo>
                        <a:lnTo>
                          <a:pt x="247" y="589"/>
                        </a:lnTo>
                        <a:lnTo>
                          <a:pt x="243" y="591"/>
                        </a:lnTo>
                        <a:lnTo>
                          <a:pt x="240" y="591"/>
                        </a:lnTo>
                        <a:lnTo>
                          <a:pt x="238" y="593"/>
                        </a:lnTo>
                        <a:lnTo>
                          <a:pt x="236" y="595"/>
                        </a:lnTo>
                        <a:lnTo>
                          <a:pt x="232" y="595"/>
                        </a:lnTo>
                        <a:lnTo>
                          <a:pt x="230" y="597"/>
                        </a:lnTo>
                        <a:lnTo>
                          <a:pt x="228" y="599"/>
                        </a:lnTo>
                        <a:lnTo>
                          <a:pt x="224" y="601"/>
                        </a:lnTo>
                        <a:lnTo>
                          <a:pt x="223" y="601"/>
                        </a:lnTo>
                        <a:lnTo>
                          <a:pt x="219" y="603"/>
                        </a:lnTo>
                        <a:lnTo>
                          <a:pt x="217" y="604"/>
                        </a:lnTo>
                        <a:lnTo>
                          <a:pt x="211" y="608"/>
                        </a:lnTo>
                        <a:lnTo>
                          <a:pt x="207" y="612"/>
                        </a:lnTo>
                        <a:lnTo>
                          <a:pt x="204" y="616"/>
                        </a:lnTo>
                        <a:lnTo>
                          <a:pt x="198" y="618"/>
                        </a:lnTo>
                        <a:lnTo>
                          <a:pt x="194" y="623"/>
                        </a:lnTo>
                        <a:lnTo>
                          <a:pt x="188" y="627"/>
                        </a:lnTo>
                        <a:lnTo>
                          <a:pt x="185" y="633"/>
                        </a:lnTo>
                        <a:lnTo>
                          <a:pt x="181" y="637"/>
                        </a:lnTo>
                        <a:lnTo>
                          <a:pt x="177" y="641"/>
                        </a:lnTo>
                        <a:lnTo>
                          <a:pt x="173" y="646"/>
                        </a:lnTo>
                        <a:lnTo>
                          <a:pt x="169" y="652"/>
                        </a:lnTo>
                        <a:lnTo>
                          <a:pt x="166" y="656"/>
                        </a:lnTo>
                        <a:lnTo>
                          <a:pt x="162" y="662"/>
                        </a:lnTo>
                        <a:lnTo>
                          <a:pt x="160" y="665"/>
                        </a:lnTo>
                        <a:lnTo>
                          <a:pt x="158" y="669"/>
                        </a:lnTo>
                        <a:lnTo>
                          <a:pt x="158" y="671"/>
                        </a:lnTo>
                        <a:lnTo>
                          <a:pt x="156" y="673"/>
                        </a:lnTo>
                        <a:lnTo>
                          <a:pt x="154" y="677"/>
                        </a:lnTo>
                        <a:lnTo>
                          <a:pt x="152" y="679"/>
                        </a:lnTo>
                        <a:lnTo>
                          <a:pt x="152" y="681"/>
                        </a:lnTo>
                        <a:lnTo>
                          <a:pt x="150" y="684"/>
                        </a:lnTo>
                        <a:lnTo>
                          <a:pt x="150" y="688"/>
                        </a:lnTo>
                        <a:lnTo>
                          <a:pt x="146" y="694"/>
                        </a:lnTo>
                        <a:lnTo>
                          <a:pt x="145" y="701"/>
                        </a:lnTo>
                        <a:lnTo>
                          <a:pt x="143" y="709"/>
                        </a:lnTo>
                        <a:lnTo>
                          <a:pt x="139" y="717"/>
                        </a:lnTo>
                        <a:lnTo>
                          <a:pt x="137" y="724"/>
                        </a:lnTo>
                        <a:lnTo>
                          <a:pt x="135" y="732"/>
                        </a:lnTo>
                        <a:lnTo>
                          <a:pt x="131" y="739"/>
                        </a:lnTo>
                        <a:lnTo>
                          <a:pt x="129" y="747"/>
                        </a:lnTo>
                        <a:lnTo>
                          <a:pt x="126" y="755"/>
                        </a:lnTo>
                        <a:lnTo>
                          <a:pt x="124" y="760"/>
                        </a:lnTo>
                        <a:lnTo>
                          <a:pt x="122" y="768"/>
                        </a:lnTo>
                        <a:lnTo>
                          <a:pt x="120" y="776"/>
                        </a:lnTo>
                        <a:lnTo>
                          <a:pt x="116" y="781"/>
                        </a:lnTo>
                        <a:lnTo>
                          <a:pt x="114" y="789"/>
                        </a:lnTo>
                        <a:lnTo>
                          <a:pt x="112" y="796"/>
                        </a:lnTo>
                        <a:lnTo>
                          <a:pt x="110" y="804"/>
                        </a:lnTo>
                        <a:lnTo>
                          <a:pt x="107" y="812"/>
                        </a:lnTo>
                        <a:lnTo>
                          <a:pt x="107" y="817"/>
                        </a:lnTo>
                        <a:lnTo>
                          <a:pt x="103" y="823"/>
                        </a:lnTo>
                        <a:lnTo>
                          <a:pt x="101" y="831"/>
                        </a:lnTo>
                        <a:lnTo>
                          <a:pt x="97" y="836"/>
                        </a:lnTo>
                        <a:lnTo>
                          <a:pt x="97" y="844"/>
                        </a:lnTo>
                        <a:lnTo>
                          <a:pt x="93" y="852"/>
                        </a:lnTo>
                        <a:lnTo>
                          <a:pt x="93" y="857"/>
                        </a:lnTo>
                        <a:lnTo>
                          <a:pt x="89" y="865"/>
                        </a:lnTo>
                        <a:lnTo>
                          <a:pt x="88" y="871"/>
                        </a:lnTo>
                        <a:lnTo>
                          <a:pt x="86" y="878"/>
                        </a:lnTo>
                        <a:lnTo>
                          <a:pt x="84" y="884"/>
                        </a:lnTo>
                        <a:lnTo>
                          <a:pt x="82" y="892"/>
                        </a:lnTo>
                        <a:lnTo>
                          <a:pt x="80" y="899"/>
                        </a:lnTo>
                        <a:lnTo>
                          <a:pt x="78" y="907"/>
                        </a:lnTo>
                        <a:lnTo>
                          <a:pt x="74" y="912"/>
                        </a:lnTo>
                        <a:lnTo>
                          <a:pt x="72" y="920"/>
                        </a:lnTo>
                        <a:lnTo>
                          <a:pt x="72" y="926"/>
                        </a:lnTo>
                        <a:lnTo>
                          <a:pt x="68" y="931"/>
                        </a:lnTo>
                        <a:lnTo>
                          <a:pt x="67" y="939"/>
                        </a:lnTo>
                        <a:lnTo>
                          <a:pt x="65" y="945"/>
                        </a:lnTo>
                        <a:lnTo>
                          <a:pt x="63" y="952"/>
                        </a:lnTo>
                        <a:lnTo>
                          <a:pt x="59" y="958"/>
                        </a:lnTo>
                        <a:lnTo>
                          <a:pt x="57" y="966"/>
                        </a:lnTo>
                        <a:lnTo>
                          <a:pt x="55" y="971"/>
                        </a:lnTo>
                        <a:lnTo>
                          <a:pt x="53" y="979"/>
                        </a:lnTo>
                        <a:lnTo>
                          <a:pt x="51" y="987"/>
                        </a:lnTo>
                        <a:lnTo>
                          <a:pt x="49" y="994"/>
                        </a:lnTo>
                        <a:lnTo>
                          <a:pt x="48" y="1000"/>
                        </a:lnTo>
                        <a:lnTo>
                          <a:pt x="46" y="1007"/>
                        </a:lnTo>
                        <a:lnTo>
                          <a:pt x="44" y="1015"/>
                        </a:lnTo>
                        <a:lnTo>
                          <a:pt x="42" y="1021"/>
                        </a:lnTo>
                        <a:lnTo>
                          <a:pt x="42" y="1028"/>
                        </a:lnTo>
                        <a:lnTo>
                          <a:pt x="38" y="1036"/>
                        </a:lnTo>
                        <a:lnTo>
                          <a:pt x="36" y="1042"/>
                        </a:lnTo>
                        <a:lnTo>
                          <a:pt x="36" y="1049"/>
                        </a:lnTo>
                        <a:lnTo>
                          <a:pt x="34" y="1057"/>
                        </a:lnTo>
                        <a:lnTo>
                          <a:pt x="30" y="1063"/>
                        </a:lnTo>
                        <a:lnTo>
                          <a:pt x="30" y="1070"/>
                        </a:lnTo>
                        <a:lnTo>
                          <a:pt x="29" y="1078"/>
                        </a:lnTo>
                        <a:lnTo>
                          <a:pt x="27" y="1085"/>
                        </a:lnTo>
                        <a:lnTo>
                          <a:pt x="25" y="1093"/>
                        </a:lnTo>
                        <a:lnTo>
                          <a:pt x="23" y="1101"/>
                        </a:lnTo>
                        <a:lnTo>
                          <a:pt x="21" y="1108"/>
                        </a:lnTo>
                        <a:lnTo>
                          <a:pt x="19" y="1116"/>
                        </a:lnTo>
                        <a:lnTo>
                          <a:pt x="17" y="1123"/>
                        </a:lnTo>
                        <a:lnTo>
                          <a:pt x="17" y="1131"/>
                        </a:lnTo>
                        <a:lnTo>
                          <a:pt x="15" y="1139"/>
                        </a:lnTo>
                        <a:lnTo>
                          <a:pt x="13" y="1148"/>
                        </a:lnTo>
                        <a:lnTo>
                          <a:pt x="10" y="1158"/>
                        </a:lnTo>
                        <a:lnTo>
                          <a:pt x="10" y="1165"/>
                        </a:lnTo>
                        <a:lnTo>
                          <a:pt x="8" y="1175"/>
                        </a:lnTo>
                        <a:lnTo>
                          <a:pt x="6" y="1182"/>
                        </a:lnTo>
                        <a:lnTo>
                          <a:pt x="6" y="1192"/>
                        </a:lnTo>
                        <a:lnTo>
                          <a:pt x="4" y="1201"/>
                        </a:lnTo>
                        <a:lnTo>
                          <a:pt x="2" y="1211"/>
                        </a:lnTo>
                        <a:lnTo>
                          <a:pt x="2" y="1218"/>
                        </a:lnTo>
                        <a:lnTo>
                          <a:pt x="0" y="1230"/>
                        </a:lnTo>
                        <a:lnTo>
                          <a:pt x="0" y="1237"/>
                        </a:lnTo>
                        <a:lnTo>
                          <a:pt x="0" y="1247"/>
                        </a:lnTo>
                        <a:lnTo>
                          <a:pt x="0" y="1257"/>
                        </a:lnTo>
                        <a:lnTo>
                          <a:pt x="0" y="1268"/>
                        </a:lnTo>
                        <a:lnTo>
                          <a:pt x="0" y="1276"/>
                        </a:lnTo>
                        <a:lnTo>
                          <a:pt x="0" y="1285"/>
                        </a:lnTo>
                        <a:lnTo>
                          <a:pt x="0" y="1296"/>
                        </a:lnTo>
                        <a:lnTo>
                          <a:pt x="0" y="1304"/>
                        </a:lnTo>
                        <a:lnTo>
                          <a:pt x="0" y="1314"/>
                        </a:lnTo>
                        <a:lnTo>
                          <a:pt x="0" y="1323"/>
                        </a:lnTo>
                        <a:lnTo>
                          <a:pt x="0" y="1333"/>
                        </a:lnTo>
                        <a:lnTo>
                          <a:pt x="2" y="1342"/>
                        </a:lnTo>
                        <a:lnTo>
                          <a:pt x="2" y="1352"/>
                        </a:lnTo>
                        <a:lnTo>
                          <a:pt x="4" y="1363"/>
                        </a:lnTo>
                        <a:lnTo>
                          <a:pt x="4" y="1371"/>
                        </a:lnTo>
                        <a:lnTo>
                          <a:pt x="6" y="1382"/>
                        </a:lnTo>
                        <a:lnTo>
                          <a:pt x="8" y="1390"/>
                        </a:lnTo>
                        <a:lnTo>
                          <a:pt x="8" y="1401"/>
                        </a:lnTo>
                        <a:lnTo>
                          <a:pt x="10" y="1409"/>
                        </a:lnTo>
                        <a:lnTo>
                          <a:pt x="11" y="1420"/>
                        </a:lnTo>
                        <a:lnTo>
                          <a:pt x="13" y="1429"/>
                        </a:lnTo>
                        <a:lnTo>
                          <a:pt x="15" y="1439"/>
                        </a:lnTo>
                        <a:lnTo>
                          <a:pt x="17" y="1448"/>
                        </a:lnTo>
                        <a:lnTo>
                          <a:pt x="19" y="1458"/>
                        </a:lnTo>
                        <a:lnTo>
                          <a:pt x="21" y="1468"/>
                        </a:lnTo>
                        <a:lnTo>
                          <a:pt x="23" y="1477"/>
                        </a:lnTo>
                        <a:lnTo>
                          <a:pt x="27" y="1487"/>
                        </a:lnTo>
                        <a:lnTo>
                          <a:pt x="29" y="1496"/>
                        </a:lnTo>
                        <a:lnTo>
                          <a:pt x="30" y="1506"/>
                        </a:lnTo>
                        <a:lnTo>
                          <a:pt x="34" y="1515"/>
                        </a:lnTo>
                        <a:lnTo>
                          <a:pt x="36" y="1525"/>
                        </a:lnTo>
                        <a:lnTo>
                          <a:pt x="38" y="1534"/>
                        </a:lnTo>
                        <a:lnTo>
                          <a:pt x="42" y="1544"/>
                        </a:lnTo>
                        <a:lnTo>
                          <a:pt x="46" y="1553"/>
                        </a:lnTo>
                        <a:lnTo>
                          <a:pt x="48" y="1561"/>
                        </a:lnTo>
                        <a:lnTo>
                          <a:pt x="51" y="1572"/>
                        </a:lnTo>
                        <a:lnTo>
                          <a:pt x="55" y="1580"/>
                        </a:lnTo>
                        <a:lnTo>
                          <a:pt x="59" y="1589"/>
                        </a:lnTo>
                        <a:lnTo>
                          <a:pt x="63" y="1599"/>
                        </a:lnTo>
                        <a:lnTo>
                          <a:pt x="67" y="1608"/>
                        </a:lnTo>
                        <a:lnTo>
                          <a:pt x="68" y="1616"/>
                        </a:lnTo>
                        <a:lnTo>
                          <a:pt x="74" y="1627"/>
                        </a:lnTo>
                        <a:lnTo>
                          <a:pt x="78" y="1635"/>
                        </a:lnTo>
                        <a:lnTo>
                          <a:pt x="82" y="1644"/>
                        </a:lnTo>
                        <a:lnTo>
                          <a:pt x="86" y="1652"/>
                        </a:lnTo>
                        <a:lnTo>
                          <a:pt x="89" y="1661"/>
                        </a:lnTo>
                        <a:lnTo>
                          <a:pt x="95" y="1669"/>
                        </a:lnTo>
                        <a:lnTo>
                          <a:pt x="99" y="1679"/>
                        </a:lnTo>
                        <a:lnTo>
                          <a:pt x="103" y="1688"/>
                        </a:lnTo>
                        <a:lnTo>
                          <a:pt x="108" y="1696"/>
                        </a:lnTo>
                        <a:lnTo>
                          <a:pt x="114" y="1703"/>
                        </a:lnTo>
                        <a:lnTo>
                          <a:pt x="118" y="1713"/>
                        </a:lnTo>
                        <a:lnTo>
                          <a:pt x="124" y="1722"/>
                        </a:lnTo>
                        <a:lnTo>
                          <a:pt x="127" y="1732"/>
                        </a:lnTo>
                        <a:lnTo>
                          <a:pt x="131" y="1736"/>
                        </a:lnTo>
                        <a:lnTo>
                          <a:pt x="135" y="1739"/>
                        </a:lnTo>
                        <a:lnTo>
                          <a:pt x="135" y="1743"/>
                        </a:lnTo>
                        <a:lnTo>
                          <a:pt x="137" y="1745"/>
                        </a:lnTo>
                        <a:lnTo>
                          <a:pt x="139" y="1747"/>
                        </a:lnTo>
                        <a:lnTo>
                          <a:pt x="141" y="1751"/>
                        </a:lnTo>
                        <a:lnTo>
                          <a:pt x="143" y="1755"/>
                        </a:lnTo>
                        <a:lnTo>
                          <a:pt x="143" y="1756"/>
                        </a:lnTo>
                        <a:lnTo>
                          <a:pt x="145" y="1760"/>
                        </a:lnTo>
                        <a:lnTo>
                          <a:pt x="146" y="1762"/>
                        </a:lnTo>
                        <a:lnTo>
                          <a:pt x="148" y="1766"/>
                        </a:lnTo>
                        <a:lnTo>
                          <a:pt x="150" y="1768"/>
                        </a:lnTo>
                        <a:lnTo>
                          <a:pt x="152" y="1770"/>
                        </a:lnTo>
                        <a:lnTo>
                          <a:pt x="156" y="1774"/>
                        </a:lnTo>
                        <a:lnTo>
                          <a:pt x="158" y="1777"/>
                        </a:lnTo>
                        <a:lnTo>
                          <a:pt x="160" y="1779"/>
                        </a:lnTo>
                        <a:lnTo>
                          <a:pt x="160" y="1783"/>
                        </a:lnTo>
                        <a:lnTo>
                          <a:pt x="162" y="1787"/>
                        </a:lnTo>
                        <a:lnTo>
                          <a:pt x="166" y="1789"/>
                        </a:lnTo>
                        <a:lnTo>
                          <a:pt x="166" y="1791"/>
                        </a:lnTo>
                        <a:lnTo>
                          <a:pt x="167" y="1794"/>
                        </a:lnTo>
                        <a:lnTo>
                          <a:pt x="169" y="1796"/>
                        </a:lnTo>
                        <a:lnTo>
                          <a:pt x="171" y="1800"/>
                        </a:lnTo>
                        <a:lnTo>
                          <a:pt x="173" y="1802"/>
                        </a:lnTo>
                        <a:lnTo>
                          <a:pt x="175" y="1806"/>
                        </a:lnTo>
                        <a:lnTo>
                          <a:pt x="177" y="1808"/>
                        </a:lnTo>
                        <a:lnTo>
                          <a:pt x="179" y="1812"/>
                        </a:lnTo>
                        <a:lnTo>
                          <a:pt x="181" y="1815"/>
                        </a:lnTo>
                        <a:lnTo>
                          <a:pt x="183" y="1817"/>
                        </a:lnTo>
                        <a:lnTo>
                          <a:pt x="185" y="1821"/>
                        </a:lnTo>
                        <a:lnTo>
                          <a:pt x="188" y="1827"/>
                        </a:lnTo>
                        <a:lnTo>
                          <a:pt x="190" y="1831"/>
                        </a:lnTo>
                        <a:lnTo>
                          <a:pt x="194" y="1836"/>
                        </a:lnTo>
                        <a:lnTo>
                          <a:pt x="198" y="1842"/>
                        </a:lnTo>
                        <a:lnTo>
                          <a:pt x="200" y="1846"/>
                        </a:lnTo>
                        <a:lnTo>
                          <a:pt x="204" y="1850"/>
                        </a:lnTo>
                        <a:lnTo>
                          <a:pt x="205" y="1853"/>
                        </a:lnTo>
                        <a:lnTo>
                          <a:pt x="207" y="1859"/>
                        </a:lnTo>
                        <a:lnTo>
                          <a:pt x="209" y="1861"/>
                        </a:lnTo>
                        <a:lnTo>
                          <a:pt x="211" y="1863"/>
                        </a:lnTo>
                        <a:lnTo>
                          <a:pt x="213" y="1867"/>
                        </a:lnTo>
                        <a:lnTo>
                          <a:pt x="215" y="1869"/>
                        </a:lnTo>
                        <a:lnTo>
                          <a:pt x="217" y="1870"/>
                        </a:lnTo>
                        <a:lnTo>
                          <a:pt x="219" y="1874"/>
                        </a:lnTo>
                        <a:lnTo>
                          <a:pt x="141" y="2163"/>
                        </a:lnTo>
                        <a:lnTo>
                          <a:pt x="143" y="2165"/>
                        </a:lnTo>
                        <a:lnTo>
                          <a:pt x="146" y="2165"/>
                        </a:lnTo>
                        <a:lnTo>
                          <a:pt x="150" y="2167"/>
                        </a:lnTo>
                        <a:lnTo>
                          <a:pt x="152" y="2167"/>
                        </a:lnTo>
                        <a:lnTo>
                          <a:pt x="154" y="2167"/>
                        </a:lnTo>
                        <a:lnTo>
                          <a:pt x="158" y="2167"/>
                        </a:lnTo>
                        <a:lnTo>
                          <a:pt x="162" y="2171"/>
                        </a:lnTo>
                        <a:lnTo>
                          <a:pt x="166" y="2171"/>
                        </a:lnTo>
                        <a:lnTo>
                          <a:pt x="167" y="2173"/>
                        </a:lnTo>
                        <a:lnTo>
                          <a:pt x="171" y="2173"/>
                        </a:lnTo>
                        <a:lnTo>
                          <a:pt x="175" y="2175"/>
                        </a:lnTo>
                        <a:lnTo>
                          <a:pt x="181" y="2175"/>
                        </a:lnTo>
                        <a:lnTo>
                          <a:pt x="185" y="2175"/>
                        </a:lnTo>
                        <a:lnTo>
                          <a:pt x="188" y="2177"/>
                        </a:lnTo>
                        <a:lnTo>
                          <a:pt x="194" y="2180"/>
                        </a:lnTo>
                        <a:lnTo>
                          <a:pt x="198" y="2180"/>
                        </a:lnTo>
                        <a:lnTo>
                          <a:pt x="204" y="2182"/>
                        </a:lnTo>
                        <a:lnTo>
                          <a:pt x="209" y="2182"/>
                        </a:lnTo>
                        <a:lnTo>
                          <a:pt x="215" y="2184"/>
                        </a:lnTo>
                        <a:lnTo>
                          <a:pt x="219" y="2186"/>
                        </a:lnTo>
                        <a:lnTo>
                          <a:pt x="224" y="2188"/>
                        </a:lnTo>
                        <a:lnTo>
                          <a:pt x="232" y="2188"/>
                        </a:lnTo>
                        <a:lnTo>
                          <a:pt x="238" y="2190"/>
                        </a:lnTo>
                        <a:lnTo>
                          <a:pt x="243" y="2190"/>
                        </a:lnTo>
                        <a:lnTo>
                          <a:pt x="251" y="2192"/>
                        </a:lnTo>
                        <a:lnTo>
                          <a:pt x="257" y="2194"/>
                        </a:lnTo>
                        <a:lnTo>
                          <a:pt x="264" y="2194"/>
                        </a:lnTo>
                        <a:lnTo>
                          <a:pt x="270" y="2196"/>
                        </a:lnTo>
                        <a:lnTo>
                          <a:pt x="276" y="2196"/>
                        </a:lnTo>
                        <a:lnTo>
                          <a:pt x="283" y="2197"/>
                        </a:lnTo>
                        <a:lnTo>
                          <a:pt x="291" y="2199"/>
                        </a:lnTo>
                        <a:lnTo>
                          <a:pt x="297" y="2199"/>
                        </a:lnTo>
                        <a:lnTo>
                          <a:pt x="304" y="2199"/>
                        </a:lnTo>
                        <a:lnTo>
                          <a:pt x="312" y="2199"/>
                        </a:lnTo>
                        <a:lnTo>
                          <a:pt x="320" y="2201"/>
                        </a:lnTo>
                        <a:lnTo>
                          <a:pt x="325" y="2201"/>
                        </a:lnTo>
                        <a:lnTo>
                          <a:pt x="333" y="2201"/>
                        </a:lnTo>
                        <a:lnTo>
                          <a:pt x="341" y="2201"/>
                        </a:lnTo>
                        <a:lnTo>
                          <a:pt x="348" y="2201"/>
                        </a:lnTo>
                        <a:lnTo>
                          <a:pt x="356" y="2201"/>
                        </a:lnTo>
                        <a:lnTo>
                          <a:pt x="363" y="2201"/>
                        </a:lnTo>
                        <a:lnTo>
                          <a:pt x="371" y="2201"/>
                        </a:lnTo>
                        <a:lnTo>
                          <a:pt x="379" y="2201"/>
                        </a:lnTo>
                        <a:lnTo>
                          <a:pt x="386" y="2201"/>
                        </a:lnTo>
                        <a:lnTo>
                          <a:pt x="394" y="2201"/>
                        </a:lnTo>
                        <a:lnTo>
                          <a:pt x="401" y="2199"/>
                        </a:lnTo>
                        <a:lnTo>
                          <a:pt x="409" y="2199"/>
                        </a:lnTo>
                        <a:lnTo>
                          <a:pt x="415" y="2197"/>
                        </a:lnTo>
                        <a:lnTo>
                          <a:pt x="422" y="2196"/>
                        </a:lnTo>
                        <a:lnTo>
                          <a:pt x="432" y="2196"/>
                        </a:lnTo>
                        <a:lnTo>
                          <a:pt x="439" y="2194"/>
                        </a:lnTo>
                        <a:lnTo>
                          <a:pt x="447" y="2192"/>
                        </a:lnTo>
                        <a:lnTo>
                          <a:pt x="455" y="2190"/>
                        </a:lnTo>
                        <a:lnTo>
                          <a:pt x="462" y="2188"/>
                        </a:lnTo>
                        <a:lnTo>
                          <a:pt x="470" y="2188"/>
                        </a:lnTo>
                        <a:lnTo>
                          <a:pt x="476" y="2184"/>
                        </a:lnTo>
                        <a:lnTo>
                          <a:pt x="483" y="2182"/>
                        </a:lnTo>
                        <a:lnTo>
                          <a:pt x="491" y="2180"/>
                        </a:lnTo>
                        <a:lnTo>
                          <a:pt x="498" y="2175"/>
                        </a:lnTo>
                        <a:lnTo>
                          <a:pt x="504" y="2173"/>
                        </a:lnTo>
                        <a:lnTo>
                          <a:pt x="512" y="2169"/>
                        </a:lnTo>
                        <a:lnTo>
                          <a:pt x="517" y="2165"/>
                        </a:lnTo>
                        <a:lnTo>
                          <a:pt x="525" y="2161"/>
                        </a:lnTo>
                        <a:lnTo>
                          <a:pt x="531" y="2158"/>
                        </a:lnTo>
                        <a:lnTo>
                          <a:pt x="536" y="2154"/>
                        </a:lnTo>
                        <a:lnTo>
                          <a:pt x="542" y="2150"/>
                        </a:lnTo>
                        <a:lnTo>
                          <a:pt x="550" y="2146"/>
                        </a:lnTo>
                        <a:lnTo>
                          <a:pt x="555" y="2142"/>
                        </a:lnTo>
                        <a:lnTo>
                          <a:pt x="559" y="2137"/>
                        </a:lnTo>
                        <a:lnTo>
                          <a:pt x="565" y="2133"/>
                        </a:lnTo>
                        <a:lnTo>
                          <a:pt x="571" y="2129"/>
                        </a:lnTo>
                        <a:lnTo>
                          <a:pt x="576" y="2123"/>
                        </a:lnTo>
                        <a:lnTo>
                          <a:pt x="582" y="2120"/>
                        </a:lnTo>
                        <a:lnTo>
                          <a:pt x="588" y="2114"/>
                        </a:lnTo>
                        <a:lnTo>
                          <a:pt x="592" y="2110"/>
                        </a:lnTo>
                        <a:lnTo>
                          <a:pt x="595" y="2106"/>
                        </a:lnTo>
                        <a:lnTo>
                          <a:pt x="601" y="2101"/>
                        </a:lnTo>
                        <a:lnTo>
                          <a:pt x="605" y="2095"/>
                        </a:lnTo>
                        <a:lnTo>
                          <a:pt x="611" y="2091"/>
                        </a:lnTo>
                        <a:lnTo>
                          <a:pt x="614" y="2085"/>
                        </a:lnTo>
                        <a:lnTo>
                          <a:pt x="618" y="2080"/>
                        </a:lnTo>
                        <a:lnTo>
                          <a:pt x="624" y="2076"/>
                        </a:lnTo>
                        <a:lnTo>
                          <a:pt x="628" y="2070"/>
                        </a:lnTo>
                        <a:lnTo>
                          <a:pt x="632" y="2064"/>
                        </a:lnTo>
                        <a:lnTo>
                          <a:pt x="635" y="2059"/>
                        </a:lnTo>
                        <a:lnTo>
                          <a:pt x="637" y="2055"/>
                        </a:lnTo>
                        <a:lnTo>
                          <a:pt x="643" y="2049"/>
                        </a:lnTo>
                        <a:lnTo>
                          <a:pt x="645" y="2043"/>
                        </a:lnTo>
                        <a:lnTo>
                          <a:pt x="649" y="2040"/>
                        </a:lnTo>
                        <a:lnTo>
                          <a:pt x="652" y="2034"/>
                        </a:lnTo>
                        <a:lnTo>
                          <a:pt x="654" y="2030"/>
                        </a:lnTo>
                        <a:lnTo>
                          <a:pt x="658" y="2024"/>
                        </a:lnTo>
                        <a:lnTo>
                          <a:pt x="660" y="2021"/>
                        </a:lnTo>
                        <a:lnTo>
                          <a:pt x="664" y="2015"/>
                        </a:lnTo>
                        <a:lnTo>
                          <a:pt x="666" y="2011"/>
                        </a:lnTo>
                        <a:lnTo>
                          <a:pt x="668" y="2005"/>
                        </a:lnTo>
                        <a:lnTo>
                          <a:pt x="672" y="2002"/>
                        </a:lnTo>
                        <a:lnTo>
                          <a:pt x="673" y="1998"/>
                        </a:lnTo>
                        <a:lnTo>
                          <a:pt x="675" y="1992"/>
                        </a:lnTo>
                        <a:lnTo>
                          <a:pt x="677" y="1986"/>
                        </a:lnTo>
                        <a:lnTo>
                          <a:pt x="679" y="1983"/>
                        </a:lnTo>
                        <a:lnTo>
                          <a:pt x="681" y="1979"/>
                        </a:lnTo>
                        <a:lnTo>
                          <a:pt x="683" y="1975"/>
                        </a:lnTo>
                        <a:lnTo>
                          <a:pt x="685" y="1971"/>
                        </a:lnTo>
                        <a:lnTo>
                          <a:pt x="687" y="1969"/>
                        </a:lnTo>
                        <a:lnTo>
                          <a:pt x="689" y="1964"/>
                        </a:lnTo>
                        <a:lnTo>
                          <a:pt x="691" y="1962"/>
                        </a:lnTo>
                        <a:lnTo>
                          <a:pt x="692" y="1958"/>
                        </a:lnTo>
                        <a:lnTo>
                          <a:pt x="692" y="1954"/>
                        </a:lnTo>
                        <a:lnTo>
                          <a:pt x="692" y="1952"/>
                        </a:lnTo>
                        <a:lnTo>
                          <a:pt x="694" y="1950"/>
                        </a:lnTo>
                        <a:lnTo>
                          <a:pt x="696" y="1945"/>
                        </a:lnTo>
                        <a:lnTo>
                          <a:pt x="698" y="1941"/>
                        </a:lnTo>
                        <a:lnTo>
                          <a:pt x="700" y="1937"/>
                        </a:lnTo>
                        <a:lnTo>
                          <a:pt x="700" y="1935"/>
                        </a:lnTo>
                        <a:lnTo>
                          <a:pt x="700" y="1933"/>
                        </a:lnTo>
                        <a:lnTo>
                          <a:pt x="702" y="1933"/>
                        </a:lnTo>
                        <a:lnTo>
                          <a:pt x="740" y="1943"/>
                        </a:lnTo>
                        <a:lnTo>
                          <a:pt x="740" y="1943"/>
                        </a:lnTo>
                        <a:lnTo>
                          <a:pt x="738" y="1945"/>
                        </a:lnTo>
                        <a:lnTo>
                          <a:pt x="738" y="1947"/>
                        </a:lnTo>
                        <a:lnTo>
                          <a:pt x="738" y="1950"/>
                        </a:lnTo>
                        <a:lnTo>
                          <a:pt x="738" y="1954"/>
                        </a:lnTo>
                        <a:lnTo>
                          <a:pt x="738" y="1958"/>
                        </a:lnTo>
                        <a:lnTo>
                          <a:pt x="736" y="1962"/>
                        </a:lnTo>
                        <a:lnTo>
                          <a:pt x="736" y="1964"/>
                        </a:lnTo>
                        <a:lnTo>
                          <a:pt x="736" y="1967"/>
                        </a:lnTo>
                        <a:lnTo>
                          <a:pt x="736" y="1971"/>
                        </a:lnTo>
                        <a:lnTo>
                          <a:pt x="736" y="1975"/>
                        </a:lnTo>
                        <a:lnTo>
                          <a:pt x="736" y="1979"/>
                        </a:lnTo>
                        <a:lnTo>
                          <a:pt x="736" y="1983"/>
                        </a:lnTo>
                        <a:lnTo>
                          <a:pt x="736" y="1985"/>
                        </a:lnTo>
                        <a:lnTo>
                          <a:pt x="736" y="1990"/>
                        </a:lnTo>
                        <a:lnTo>
                          <a:pt x="736" y="1994"/>
                        </a:lnTo>
                        <a:lnTo>
                          <a:pt x="736" y="1998"/>
                        </a:lnTo>
                        <a:lnTo>
                          <a:pt x="736" y="2004"/>
                        </a:lnTo>
                        <a:lnTo>
                          <a:pt x="736" y="2007"/>
                        </a:lnTo>
                        <a:lnTo>
                          <a:pt x="736" y="2013"/>
                        </a:lnTo>
                        <a:lnTo>
                          <a:pt x="736" y="2015"/>
                        </a:lnTo>
                        <a:lnTo>
                          <a:pt x="736" y="2021"/>
                        </a:lnTo>
                        <a:lnTo>
                          <a:pt x="736" y="2026"/>
                        </a:lnTo>
                        <a:lnTo>
                          <a:pt x="736" y="2030"/>
                        </a:lnTo>
                        <a:lnTo>
                          <a:pt x="736" y="2036"/>
                        </a:lnTo>
                        <a:lnTo>
                          <a:pt x="736" y="2042"/>
                        </a:lnTo>
                        <a:lnTo>
                          <a:pt x="736" y="2047"/>
                        </a:lnTo>
                        <a:lnTo>
                          <a:pt x="738" y="2051"/>
                        </a:lnTo>
                        <a:lnTo>
                          <a:pt x="738" y="2057"/>
                        </a:lnTo>
                        <a:lnTo>
                          <a:pt x="738" y="2062"/>
                        </a:lnTo>
                        <a:lnTo>
                          <a:pt x="740" y="2066"/>
                        </a:lnTo>
                        <a:lnTo>
                          <a:pt x="740" y="2072"/>
                        </a:lnTo>
                        <a:lnTo>
                          <a:pt x="742" y="2078"/>
                        </a:lnTo>
                        <a:lnTo>
                          <a:pt x="744" y="2083"/>
                        </a:lnTo>
                        <a:lnTo>
                          <a:pt x="744" y="2091"/>
                        </a:lnTo>
                        <a:lnTo>
                          <a:pt x="746" y="2095"/>
                        </a:lnTo>
                        <a:lnTo>
                          <a:pt x="748" y="2101"/>
                        </a:lnTo>
                        <a:lnTo>
                          <a:pt x="748" y="2106"/>
                        </a:lnTo>
                        <a:lnTo>
                          <a:pt x="751" y="2110"/>
                        </a:lnTo>
                        <a:lnTo>
                          <a:pt x="753" y="2118"/>
                        </a:lnTo>
                        <a:lnTo>
                          <a:pt x="753" y="2123"/>
                        </a:lnTo>
                        <a:lnTo>
                          <a:pt x="757" y="2129"/>
                        </a:lnTo>
                        <a:lnTo>
                          <a:pt x="759" y="2135"/>
                        </a:lnTo>
                        <a:lnTo>
                          <a:pt x="761" y="2139"/>
                        </a:lnTo>
                        <a:lnTo>
                          <a:pt x="765" y="2144"/>
                        </a:lnTo>
                        <a:lnTo>
                          <a:pt x="767" y="2150"/>
                        </a:lnTo>
                        <a:lnTo>
                          <a:pt x="769" y="2156"/>
                        </a:lnTo>
                        <a:lnTo>
                          <a:pt x="772" y="2159"/>
                        </a:lnTo>
                        <a:lnTo>
                          <a:pt x="776" y="2165"/>
                        </a:lnTo>
                        <a:lnTo>
                          <a:pt x="780" y="2171"/>
                        </a:lnTo>
                        <a:lnTo>
                          <a:pt x="782" y="2175"/>
                        </a:lnTo>
                        <a:lnTo>
                          <a:pt x="786" y="2180"/>
                        </a:lnTo>
                        <a:lnTo>
                          <a:pt x="789" y="2186"/>
                        </a:lnTo>
                        <a:lnTo>
                          <a:pt x="795" y="2190"/>
                        </a:lnTo>
                        <a:lnTo>
                          <a:pt x="799" y="2196"/>
                        </a:lnTo>
                        <a:lnTo>
                          <a:pt x="805" y="2201"/>
                        </a:lnTo>
                        <a:lnTo>
                          <a:pt x="808" y="2205"/>
                        </a:lnTo>
                        <a:lnTo>
                          <a:pt x="814" y="2209"/>
                        </a:lnTo>
                        <a:lnTo>
                          <a:pt x="818" y="2213"/>
                        </a:lnTo>
                        <a:lnTo>
                          <a:pt x="824" y="2216"/>
                        </a:lnTo>
                        <a:lnTo>
                          <a:pt x="828" y="2222"/>
                        </a:lnTo>
                        <a:lnTo>
                          <a:pt x="833" y="2224"/>
                        </a:lnTo>
                        <a:lnTo>
                          <a:pt x="839" y="2228"/>
                        </a:lnTo>
                        <a:lnTo>
                          <a:pt x="845" y="2232"/>
                        </a:lnTo>
                        <a:lnTo>
                          <a:pt x="848" y="2235"/>
                        </a:lnTo>
                        <a:lnTo>
                          <a:pt x="854" y="2239"/>
                        </a:lnTo>
                        <a:lnTo>
                          <a:pt x="858" y="2243"/>
                        </a:lnTo>
                        <a:lnTo>
                          <a:pt x="864" y="2245"/>
                        </a:lnTo>
                        <a:lnTo>
                          <a:pt x="867" y="2249"/>
                        </a:lnTo>
                        <a:lnTo>
                          <a:pt x="873" y="2253"/>
                        </a:lnTo>
                        <a:lnTo>
                          <a:pt x="877" y="2256"/>
                        </a:lnTo>
                        <a:lnTo>
                          <a:pt x="883" y="2258"/>
                        </a:lnTo>
                        <a:lnTo>
                          <a:pt x="890" y="2260"/>
                        </a:lnTo>
                        <a:lnTo>
                          <a:pt x="896" y="2264"/>
                        </a:lnTo>
                        <a:lnTo>
                          <a:pt x="900" y="2266"/>
                        </a:lnTo>
                        <a:lnTo>
                          <a:pt x="904" y="2268"/>
                        </a:lnTo>
                        <a:lnTo>
                          <a:pt x="907" y="2270"/>
                        </a:lnTo>
                        <a:lnTo>
                          <a:pt x="913" y="2273"/>
                        </a:lnTo>
                        <a:lnTo>
                          <a:pt x="919" y="2275"/>
                        </a:lnTo>
                        <a:lnTo>
                          <a:pt x="925" y="2277"/>
                        </a:lnTo>
                        <a:lnTo>
                          <a:pt x="928" y="2279"/>
                        </a:lnTo>
                        <a:lnTo>
                          <a:pt x="934" y="2281"/>
                        </a:lnTo>
                        <a:lnTo>
                          <a:pt x="938" y="2283"/>
                        </a:lnTo>
                        <a:lnTo>
                          <a:pt x="942" y="2285"/>
                        </a:lnTo>
                        <a:lnTo>
                          <a:pt x="947" y="2287"/>
                        </a:lnTo>
                        <a:lnTo>
                          <a:pt x="951" y="2289"/>
                        </a:lnTo>
                        <a:lnTo>
                          <a:pt x="955" y="2289"/>
                        </a:lnTo>
                        <a:lnTo>
                          <a:pt x="961" y="2291"/>
                        </a:lnTo>
                        <a:lnTo>
                          <a:pt x="964" y="2291"/>
                        </a:lnTo>
                        <a:lnTo>
                          <a:pt x="968" y="2294"/>
                        </a:lnTo>
                        <a:lnTo>
                          <a:pt x="972" y="2294"/>
                        </a:lnTo>
                        <a:lnTo>
                          <a:pt x="978" y="2294"/>
                        </a:lnTo>
                        <a:lnTo>
                          <a:pt x="982" y="2296"/>
                        </a:lnTo>
                        <a:lnTo>
                          <a:pt x="985" y="2296"/>
                        </a:lnTo>
                        <a:lnTo>
                          <a:pt x="989" y="2296"/>
                        </a:lnTo>
                        <a:lnTo>
                          <a:pt x="993" y="2298"/>
                        </a:lnTo>
                        <a:lnTo>
                          <a:pt x="997" y="2298"/>
                        </a:lnTo>
                        <a:lnTo>
                          <a:pt x="1001" y="2298"/>
                        </a:lnTo>
                        <a:lnTo>
                          <a:pt x="1004" y="2298"/>
                        </a:lnTo>
                        <a:lnTo>
                          <a:pt x="1008" y="2300"/>
                        </a:lnTo>
                        <a:lnTo>
                          <a:pt x="1010" y="2300"/>
                        </a:lnTo>
                        <a:lnTo>
                          <a:pt x="1014" y="2300"/>
                        </a:lnTo>
                        <a:lnTo>
                          <a:pt x="1016" y="2300"/>
                        </a:lnTo>
                        <a:lnTo>
                          <a:pt x="1020" y="2300"/>
                        </a:lnTo>
                        <a:lnTo>
                          <a:pt x="1022" y="2300"/>
                        </a:lnTo>
                        <a:lnTo>
                          <a:pt x="1025" y="2302"/>
                        </a:lnTo>
                        <a:lnTo>
                          <a:pt x="1029" y="2300"/>
                        </a:lnTo>
                        <a:lnTo>
                          <a:pt x="1035" y="2300"/>
                        </a:lnTo>
                        <a:lnTo>
                          <a:pt x="1039" y="2298"/>
                        </a:lnTo>
                        <a:lnTo>
                          <a:pt x="1042" y="2298"/>
                        </a:lnTo>
                        <a:lnTo>
                          <a:pt x="1044" y="2296"/>
                        </a:lnTo>
                        <a:lnTo>
                          <a:pt x="1048" y="2296"/>
                        </a:lnTo>
                        <a:lnTo>
                          <a:pt x="1048" y="2294"/>
                        </a:lnTo>
                        <a:lnTo>
                          <a:pt x="1050" y="2294"/>
                        </a:lnTo>
                        <a:lnTo>
                          <a:pt x="1246" y="1334"/>
                        </a:lnTo>
                        <a:lnTo>
                          <a:pt x="1246" y="1333"/>
                        </a:lnTo>
                        <a:lnTo>
                          <a:pt x="1248" y="1331"/>
                        </a:lnTo>
                        <a:lnTo>
                          <a:pt x="1250" y="1327"/>
                        </a:lnTo>
                        <a:lnTo>
                          <a:pt x="1252" y="1325"/>
                        </a:lnTo>
                        <a:lnTo>
                          <a:pt x="1252" y="1323"/>
                        </a:lnTo>
                        <a:lnTo>
                          <a:pt x="1254" y="1319"/>
                        </a:lnTo>
                        <a:lnTo>
                          <a:pt x="1256" y="1315"/>
                        </a:lnTo>
                        <a:lnTo>
                          <a:pt x="1259" y="1312"/>
                        </a:lnTo>
                        <a:lnTo>
                          <a:pt x="1259" y="1306"/>
                        </a:lnTo>
                        <a:lnTo>
                          <a:pt x="1263" y="1302"/>
                        </a:lnTo>
                        <a:lnTo>
                          <a:pt x="1265" y="1296"/>
                        </a:lnTo>
                        <a:lnTo>
                          <a:pt x="1269" y="1293"/>
                        </a:lnTo>
                        <a:lnTo>
                          <a:pt x="1271" y="1285"/>
                        </a:lnTo>
                        <a:lnTo>
                          <a:pt x="1275" y="1281"/>
                        </a:lnTo>
                        <a:lnTo>
                          <a:pt x="1276" y="1274"/>
                        </a:lnTo>
                        <a:lnTo>
                          <a:pt x="1280" y="1266"/>
                        </a:lnTo>
                        <a:lnTo>
                          <a:pt x="1284" y="1258"/>
                        </a:lnTo>
                        <a:lnTo>
                          <a:pt x="1288" y="1249"/>
                        </a:lnTo>
                        <a:lnTo>
                          <a:pt x="1290" y="1241"/>
                        </a:lnTo>
                        <a:lnTo>
                          <a:pt x="1294" y="1234"/>
                        </a:lnTo>
                        <a:lnTo>
                          <a:pt x="1297" y="1224"/>
                        </a:lnTo>
                        <a:lnTo>
                          <a:pt x="1301" y="1217"/>
                        </a:lnTo>
                        <a:lnTo>
                          <a:pt x="1305" y="1207"/>
                        </a:lnTo>
                        <a:lnTo>
                          <a:pt x="1309" y="1198"/>
                        </a:lnTo>
                        <a:lnTo>
                          <a:pt x="1313" y="1188"/>
                        </a:lnTo>
                        <a:lnTo>
                          <a:pt x="1316" y="1177"/>
                        </a:lnTo>
                        <a:lnTo>
                          <a:pt x="1320" y="1165"/>
                        </a:lnTo>
                        <a:lnTo>
                          <a:pt x="1324" y="1154"/>
                        </a:lnTo>
                        <a:lnTo>
                          <a:pt x="1330" y="1144"/>
                        </a:lnTo>
                        <a:lnTo>
                          <a:pt x="1334" y="1133"/>
                        </a:lnTo>
                        <a:lnTo>
                          <a:pt x="1337" y="1122"/>
                        </a:lnTo>
                        <a:lnTo>
                          <a:pt x="1339" y="1108"/>
                        </a:lnTo>
                        <a:lnTo>
                          <a:pt x="1345" y="1097"/>
                        </a:lnTo>
                        <a:lnTo>
                          <a:pt x="1349" y="1084"/>
                        </a:lnTo>
                        <a:lnTo>
                          <a:pt x="1353" y="1070"/>
                        </a:lnTo>
                        <a:lnTo>
                          <a:pt x="1354" y="1059"/>
                        </a:lnTo>
                        <a:lnTo>
                          <a:pt x="1358" y="1044"/>
                        </a:lnTo>
                        <a:lnTo>
                          <a:pt x="1362" y="1032"/>
                        </a:lnTo>
                        <a:lnTo>
                          <a:pt x="1366" y="1017"/>
                        </a:lnTo>
                        <a:lnTo>
                          <a:pt x="1370" y="1004"/>
                        </a:lnTo>
                        <a:lnTo>
                          <a:pt x="1372" y="988"/>
                        </a:lnTo>
                        <a:lnTo>
                          <a:pt x="1375" y="975"/>
                        </a:lnTo>
                        <a:lnTo>
                          <a:pt x="1377" y="960"/>
                        </a:lnTo>
                        <a:lnTo>
                          <a:pt x="1381" y="947"/>
                        </a:lnTo>
                        <a:lnTo>
                          <a:pt x="1383" y="931"/>
                        </a:lnTo>
                        <a:lnTo>
                          <a:pt x="1387" y="916"/>
                        </a:lnTo>
                        <a:lnTo>
                          <a:pt x="1389" y="901"/>
                        </a:lnTo>
                        <a:lnTo>
                          <a:pt x="1391" y="886"/>
                        </a:lnTo>
                        <a:lnTo>
                          <a:pt x="1392" y="871"/>
                        </a:lnTo>
                        <a:lnTo>
                          <a:pt x="1394" y="855"/>
                        </a:lnTo>
                        <a:lnTo>
                          <a:pt x="1396" y="838"/>
                        </a:lnTo>
                        <a:lnTo>
                          <a:pt x="1398" y="823"/>
                        </a:lnTo>
                        <a:lnTo>
                          <a:pt x="1398" y="806"/>
                        </a:lnTo>
                        <a:lnTo>
                          <a:pt x="1400" y="791"/>
                        </a:lnTo>
                        <a:lnTo>
                          <a:pt x="1402" y="774"/>
                        </a:lnTo>
                        <a:lnTo>
                          <a:pt x="1402" y="757"/>
                        </a:lnTo>
                        <a:lnTo>
                          <a:pt x="1402" y="741"/>
                        </a:lnTo>
                        <a:lnTo>
                          <a:pt x="1402" y="724"/>
                        </a:lnTo>
                        <a:lnTo>
                          <a:pt x="1402" y="705"/>
                        </a:lnTo>
                        <a:lnTo>
                          <a:pt x="1402" y="690"/>
                        </a:lnTo>
                        <a:lnTo>
                          <a:pt x="1400" y="673"/>
                        </a:lnTo>
                        <a:lnTo>
                          <a:pt x="1400" y="656"/>
                        </a:lnTo>
                        <a:lnTo>
                          <a:pt x="1398" y="654"/>
                        </a:lnTo>
                        <a:lnTo>
                          <a:pt x="1398" y="652"/>
                        </a:lnTo>
                        <a:lnTo>
                          <a:pt x="1398" y="648"/>
                        </a:lnTo>
                        <a:lnTo>
                          <a:pt x="1398" y="644"/>
                        </a:lnTo>
                        <a:lnTo>
                          <a:pt x="1398" y="643"/>
                        </a:lnTo>
                        <a:lnTo>
                          <a:pt x="1398" y="639"/>
                        </a:lnTo>
                        <a:lnTo>
                          <a:pt x="1396" y="637"/>
                        </a:lnTo>
                        <a:lnTo>
                          <a:pt x="1396" y="633"/>
                        </a:lnTo>
                        <a:lnTo>
                          <a:pt x="1396" y="631"/>
                        </a:lnTo>
                        <a:lnTo>
                          <a:pt x="1396" y="627"/>
                        </a:lnTo>
                        <a:lnTo>
                          <a:pt x="1396" y="623"/>
                        </a:lnTo>
                        <a:lnTo>
                          <a:pt x="1394" y="620"/>
                        </a:lnTo>
                        <a:lnTo>
                          <a:pt x="1394" y="618"/>
                        </a:lnTo>
                        <a:lnTo>
                          <a:pt x="1394" y="616"/>
                        </a:lnTo>
                        <a:lnTo>
                          <a:pt x="1392" y="612"/>
                        </a:lnTo>
                        <a:lnTo>
                          <a:pt x="1392" y="610"/>
                        </a:lnTo>
                        <a:lnTo>
                          <a:pt x="1392" y="608"/>
                        </a:lnTo>
                        <a:lnTo>
                          <a:pt x="1391" y="604"/>
                        </a:lnTo>
                        <a:lnTo>
                          <a:pt x="1391" y="603"/>
                        </a:lnTo>
                        <a:lnTo>
                          <a:pt x="1391" y="599"/>
                        </a:lnTo>
                        <a:lnTo>
                          <a:pt x="1389" y="597"/>
                        </a:lnTo>
                        <a:lnTo>
                          <a:pt x="1389" y="593"/>
                        </a:lnTo>
                        <a:lnTo>
                          <a:pt x="1389" y="589"/>
                        </a:lnTo>
                        <a:lnTo>
                          <a:pt x="1389" y="587"/>
                        </a:lnTo>
                        <a:lnTo>
                          <a:pt x="1387" y="585"/>
                        </a:lnTo>
                        <a:lnTo>
                          <a:pt x="1385" y="582"/>
                        </a:lnTo>
                        <a:lnTo>
                          <a:pt x="1385" y="580"/>
                        </a:lnTo>
                        <a:lnTo>
                          <a:pt x="1383" y="578"/>
                        </a:lnTo>
                        <a:lnTo>
                          <a:pt x="1383" y="572"/>
                        </a:lnTo>
                        <a:lnTo>
                          <a:pt x="1381" y="568"/>
                        </a:lnTo>
                        <a:lnTo>
                          <a:pt x="1377" y="563"/>
                        </a:lnTo>
                        <a:lnTo>
                          <a:pt x="1375" y="557"/>
                        </a:lnTo>
                        <a:lnTo>
                          <a:pt x="1373" y="553"/>
                        </a:lnTo>
                        <a:lnTo>
                          <a:pt x="1370" y="547"/>
                        </a:lnTo>
                        <a:lnTo>
                          <a:pt x="1366" y="544"/>
                        </a:lnTo>
                        <a:lnTo>
                          <a:pt x="1364" y="540"/>
                        </a:lnTo>
                        <a:lnTo>
                          <a:pt x="1360" y="536"/>
                        </a:lnTo>
                        <a:lnTo>
                          <a:pt x="1356" y="532"/>
                        </a:lnTo>
                        <a:lnTo>
                          <a:pt x="1353" y="528"/>
                        </a:lnTo>
                        <a:lnTo>
                          <a:pt x="1349" y="525"/>
                        </a:lnTo>
                        <a:lnTo>
                          <a:pt x="1345" y="523"/>
                        </a:lnTo>
                        <a:lnTo>
                          <a:pt x="1339" y="521"/>
                        </a:lnTo>
                        <a:lnTo>
                          <a:pt x="1335" y="517"/>
                        </a:lnTo>
                        <a:lnTo>
                          <a:pt x="1332" y="515"/>
                        </a:lnTo>
                        <a:lnTo>
                          <a:pt x="1326" y="515"/>
                        </a:lnTo>
                        <a:lnTo>
                          <a:pt x="1322" y="513"/>
                        </a:lnTo>
                        <a:lnTo>
                          <a:pt x="1318" y="511"/>
                        </a:lnTo>
                        <a:lnTo>
                          <a:pt x="1316" y="511"/>
                        </a:lnTo>
                        <a:lnTo>
                          <a:pt x="1313" y="511"/>
                        </a:lnTo>
                        <a:lnTo>
                          <a:pt x="1311" y="511"/>
                        </a:lnTo>
                        <a:lnTo>
                          <a:pt x="1309" y="509"/>
                        </a:lnTo>
                        <a:lnTo>
                          <a:pt x="1305" y="509"/>
                        </a:lnTo>
                        <a:lnTo>
                          <a:pt x="1303" y="509"/>
                        </a:lnTo>
                        <a:lnTo>
                          <a:pt x="1301" y="509"/>
                        </a:lnTo>
                        <a:lnTo>
                          <a:pt x="1297" y="509"/>
                        </a:lnTo>
                        <a:lnTo>
                          <a:pt x="1295" y="509"/>
                        </a:lnTo>
                        <a:lnTo>
                          <a:pt x="1292" y="509"/>
                        </a:lnTo>
                        <a:lnTo>
                          <a:pt x="1290" y="509"/>
                        </a:lnTo>
                        <a:lnTo>
                          <a:pt x="1284" y="509"/>
                        </a:lnTo>
                        <a:lnTo>
                          <a:pt x="1280" y="509"/>
                        </a:lnTo>
                        <a:lnTo>
                          <a:pt x="1275" y="509"/>
                        </a:lnTo>
                        <a:lnTo>
                          <a:pt x="1269" y="509"/>
                        </a:lnTo>
                        <a:lnTo>
                          <a:pt x="1265" y="509"/>
                        </a:lnTo>
                        <a:lnTo>
                          <a:pt x="1259" y="509"/>
                        </a:lnTo>
                        <a:lnTo>
                          <a:pt x="1256" y="511"/>
                        </a:lnTo>
                        <a:lnTo>
                          <a:pt x="1252" y="511"/>
                        </a:lnTo>
                        <a:lnTo>
                          <a:pt x="1246" y="515"/>
                        </a:lnTo>
                        <a:lnTo>
                          <a:pt x="1242" y="515"/>
                        </a:lnTo>
                        <a:lnTo>
                          <a:pt x="1238" y="517"/>
                        </a:lnTo>
                        <a:lnTo>
                          <a:pt x="1235" y="521"/>
                        </a:lnTo>
                        <a:lnTo>
                          <a:pt x="1231" y="523"/>
                        </a:lnTo>
                        <a:lnTo>
                          <a:pt x="1229" y="525"/>
                        </a:lnTo>
                        <a:lnTo>
                          <a:pt x="1225" y="527"/>
                        </a:lnTo>
                        <a:lnTo>
                          <a:pt x="1221" y="530"/>
                        </a:lnTo>
                        <a:lnTo>
                          <a:pt x="1219" y="532"/>
                        </a:lnTo>
                        <a:lnTo>
                          <a:pt x="1216" y="538"/>
                        </a:lnTo>
                        <a:lnTo>
                          <a:pt x="1214" y="542"/>
                        </a:lnTo>
                        <a:lnTo>
                          <a:pt x="1212" y="546"/>
                        </a:lnTo>
                        <a:lnTo>
                          <a:pt x="1210" y="549"/>
                        </a:lnTo>
                        <a:lnTo>
                          <a:pt x="1208" y="555"/>
                        </a:lnTo>
                        <a:lnTo>
                          <a:pt x="1208" y="557"/>
                        </a:lnTo>
                        <a:lnTo>
                          <a:pt x="1206" y="559"/>
                        </a:lnTo>
                        <a:lnTo>
                          <a:pt x="1204" y="561"/>
                        </a:lnTo>
                        <a:lnTo>
                          <a:pt x="1204" y="565"/>
                        </a:lnTo>
                        <a:lnTo>
                          <a:pt x="1204" y="566"/>
                        </a:lnTo>
                        <a:lnTo>
                          <a:pt x="1204" y="570"/>
                        </a:lnTo>
                        <a:lnTo>
                          <a:pt x="1204" y="572"/>
                        </a:lnTo>
                        <a:lnTo>
                          <a:pt x="1204" y="576"/>
                        </a:lnTo>
                        <a:lnTo>
                          <a:pt x="1139" y="895"/>
                        </a:lnTo>
                        <a:lnTo>
                          <a:pt x="1136" y="893"/>
                        </a:lnTo>
                        <a:lnTo>
                          <a:pt x="1132" y="892"/>
                        </a:lnTo>
                        <a:lnTo>
                          <a:pt x="1126" y="888"/>
                        </a:lnTo>
                        <a:lnTo>
                          <a:pt x="1122" y="886"/>
                        </a:lnTo>
                        <a:lnTo>
                          <a:pt x="1117" y="884"/>
                        </a:lnTo>
                        <a:lnTo>
                          <a:pt x="1113" y="880"/>
                        </a:lnTo>
                        <a:lnTo>
                          <a:pt x="1107" y="878"/>
                        </a:lnTo>
                        <a:lnTo>
                          <a:pt x="1105" y="876"/>
                        </a:lnTo>
                        <a:lnTo>
                          <a:pt x="1227" y="316"/>
                        </a:lnTo>
                        <a:lnTo>
                          <a:pt x="1227" y="312"/>
                        </a:lnTo>
                        <a:lnTo>
                          <a:pt x="1227" y="308"/>
                        </a:lnTo>
                        <a:lnTo>
                          <a:pt x="1229" y="306"/>
                        </a:lnTo>
                        <a:lnTo>
                          <a:pt x="1229" y="304"/>
                        </a:lnTo>
                        <a:lnTo>
                          <a:pt x="1229" y="300"/>
                        </a:lnTo>
                        <a:lnTo>
                          <a:pt x="1229" y="298"/>
                        </a:lnTo>
                        <a:lnTo>
                          <a:pt x="1229" y="295"/>
                        </a:lnTo>
                        <a:lnTo>
                          <a:pt x="1229" y="293"/>
                        </a:lnTo>
                        <a:lnTo>
                          <a:pt x="1229" y="291"/>
                        </a:lnTo>
                        <a:lnTo>
                          <a:pt x="1229" y="287"/>
                        </a:lnTo>
                        <a:lnTo>
                          <a:pt x="1229" y="285"/>
                        </a:lnTo>
                        <a:lnTo>
                          <a:pt x="1229" y="283"/>
                        </a:lnTo>
                        <a:lnTo>
                          <a:pt x="1229" y="278"/>
                        </a:lnTo>
                        <a:lnTo>
                          <a:pt x="1227" y="272"/>
                        </a:lnTo>
                        <a:lnTo>
                          <a:pt x="1225" y="268"/>
                        </a:lnTo>
                        <a:lnTo>
                          <a:pt x="1225" y="262"/>
                        </a:lnTo>
                        <a:lnTo>
                          <a:pt x="1223" y="257"/>
                        </a:lnTo>
                        <a:lnTo>
                          <a:pt x="1221" y="253"/>
                        </a:lnTo>
                        <a:lnTo>
                          <a:pt x="1219" y="247"/>
                        </a:lnTo>
                        <a:lnTo>
                          <a:pt x="1217" y="243"/>
                        </a:lnTo>
                        <a:lnTo>
                          <a:pt x="1216" y="240"/>
                        </a:lnTo>
                        <a:lnTo>
                          <a:pt x="1214" y="236"/>
                        </a:lnTo>
                        <a:lnTo>
                          <a:pt x="1210" y="232"/>
                        </a:lnTo>
                        <a:lnTo>
                          <a:pt x="1206" y="226"/>
                        </a:lnTo>
                        <a:lnTo>
                          <a:pt x="1202" y="222"/>
                        </a:lnTo>
                        <a:lnTo>
                          <a:pt x="1200" y="219"/>
                        </a:lnTo>
                        <a:lnTo>
                          <a:pt x="1197" y="215"/>
                        </a:lnTo>
                        <a:lnTo>
                          <a:pt x="1193" y="211"/>
                        </a:lnTo>
                        <a:lnTo>
                          <a:pt x="1189" y="207"/>
                        </a:lnTo>
                        <a:lnTo>
                          <a:pt x="1185" y="205"/>
                        </a:lnTo>
                        <a:lnTo>
                          <a:pt x="1179" y="203"/>
                        </a:lnTo>
                        <a:lnTo>
                          <a:pt x="1176" y="200"/>
                        </a:lnTo>
                        <a:lnTo>
                          <a:pt x="1172" y="198"/>
                        </a:lnTo>
                        <a:lnTo>
                          <a:pt x="1166" y="194"/>
                        </a:lnTo>
                        <a:lnTo>
                          <a:pt x="1160" y="192"/>
                        </a:lnTo>
                        <a:lnTo>
                          <a:pt x="1157" y="192"/>
                        </a:lnTo>
                        <a:lnTo>
                          <a:pt x="1151" y="190"/>
                        </a:lnTo>
                        <a:lnTo>
                          <a:pt x="1147" y="190"/>
                        </a:lnTo>
                        <a:lnTo>
                          <a:pt x="1143" y="188"/>
                        </a:lnTo>
                        <a:lnTo>
                          <a:pt x="1141" y="186"/>
                        </a:lnTo>
                        <a:lnTo>
                          <a:pt x="1138" y="186"/>
                        </a:lnTo>
                        <a:lnTo>
                          <a:pt x="1136" y="186"/>
                        </a:lnTo>
                        <a:lnTo>
                          <a:pt x="1134" y="186"/>
                        </a:lnTo>
                        <a:lnTo>
                          <a:pt x="1130" y="186"/>
                        </a:lnTo>
                        <a:lnTo>
                          <a:pt x="1128" y="186"/>
                        </a:lnTo>
                        <a:lnTo>
                          <a:pt x="1124" y="186"/>
                        </a:lnTo>
                        <a:lnTo>
                          <a:pt x="1122" y="186"/>
                        </a:lnTo>
                        <a:lnTo>
                          <a:pt x="1120" y="186"/>
                        </a:lnTo>
                        <a:lnTo>
                          <a:pt x="1117" y="186"/>
                        </a:lnTo>
                        <a:lnTo>
                          <a:pt x="1115" y="186"/>
                        </a:lnTo>
                        <a:lnTo>
                          <a:pt x="1109" y="186"/>
                        </a:lnTo>
                        <a:lnTo>
                          <a:pt x="1105" y="188"/>
                        </a:lnTo>
                        <a:lnTo>
                          <a:pt x="1100" y="188"/>
                        </a:lnTo>
                        <a:lnTo>
                          <a:pt x="1094" y="190"/>
                        </a:lnTo>
                        <a:lnTo>
                          <a:pt x="1090" y="192"/>
                        </a:lnTo>
                        <a:lnTo>
                          <a:pt x="1086" y="192"/>
                        </a:lnTo>
                        <a:lnTo>
                          <a:pt x="1081" y="194"/>
                        </a:lnTo>
                        <a:lnTo>
                          <a:pt x="1077" y="198"/>
                        </a:lnTo>
                        <a:lnTo>
                          <a:pt x="1073" y="200"/>
                        </a:lnTo>
                        <a:lnTo>
                          <a:pt x="1067" y="203"/>
                        </a:lnTo>
                        <a:lnTo>
                          <a:pt x="1063" y="205"/>
                        </a:lnTo>
                        <a:lnTo>
                          <a:pt x="1058" y="207"/>
                        </a:lnTo>
                        <a:lnTo>
                          <a:pt x="1054" y="211"/>
                        </a:lnTo>
                        <a:lnTo>
                          <a:pt x="1050" y="215"/>
                        </a:lnTo>
                        <a:lnTo>
                          <a:pt x="1048" y="219"/>
                        </a:lnTo>
                        <a:lnTo>
                          <a:pt x="1044" y="222"/>
                        </a:lnTo>
                        <a:lnTo>
                          <a:pt x="1041" y="226"/>
                        </a:lnTo>
                        <a:lnTo>
                          <a:pt x="1039" y="232"/>
                        </a:lnTo>
                        <a:lnTo>
                          <a:pt x="1035" y="234"/>
                        </a:lnTo>
                        <a:lnTo>
                          <a:pt x="1033" y="240"/>
                        </a:lnTo>
                        <a:lnTo>
                          <a:pt x="1029" y="243"/>
                        </a:lnTo>
                        <a:lnTo>
                          <a:pt x="1027" y="249"/>
                        </a:lnTo>
                        <a:lnTo>
                          <a:pt x="1025" y="253"/>
                        </a:lnTo>
                        <a:lnTo>
                          <a:pt x="1023" y="259"/>
                        </a:lnTo>
                        <a:lnTo>
                          <a:pt x="1022" y="260"/>
                        </a:lnTo>
                        <a:lnTo>
                          <a:pt x="1022" y="264"/>
                        </a:lnTo>
                        <a:lnTo>
                          <a:pt x="1022" y="266"/>
                        </a:lnTo>
                        <a:lnTo>
                          <a:pt x="1022" y="270"/>
                        </a:lnTo>
                        <a:lnTo>
                          <a:pt x="919" y="730"/>
                        </a:lnTo>
                        <a:lnTo>
                          <a:pt x="915" y="728"/>
                        </a:lnTo>
                        <a:lnTo>
                          <a:pt x="913" y="726"/>
                        </a:lnTo>
                        <a:lnTo>
                          <a:pt x="907" y="724"/>
                        </a:lnTo>
                        <a:lnTo>
                          <a:pt x="905" y="720"/>
                        </a:lnTo>
                        <a:lnTo>
                          <a:pt x="904" y="719"/>
                        </a:lnTo>
                        <a:lnTo>
                          <a:pt x="900" y="717"/>
                        </a:lnTo>
                        <a:lnTo>
                          <a:pt x="896" y="713"/>
                        </a:lnTo>
                        <a:lnTo>
                          <a:pt x="892" y="713"/>
                        </a:lnTo>
                        <a:lnTo>
                          <a:pt x="1022" y="129"/>
                        </a:lnTo>
                        <a:lnTo>
                          <a:pt x="1022" y="125"/>
                        </a:lnTo>
                        <a:lnTo>
                          <a:pt x="1022" y="124"/>
                        </a:lnTo>
                        <a:lnTo>
                          <a:pt x="1022" y="120"/>
                        </a:lnTo>
                        <a:lnTo>
                          <a:pt x="1022" y="118"/>
                        </a:lnTo>
                        <a:lnTo>
                          <a:pt x="1022" y="114"/>
                        </a:lnTo>
                        <a:lnTo>
                          <a:pt x="1022" y="112"/>
                        </a:lnTo>
                        <a:lnTo>
                          <a:pt x="1022" y="110"/>
                        </a:lnTo>
                        <a:lnTo>
                          <a:pt x="1022" y="106"/>
                        </a:lnTo>
                        <a:lnTo>
                          <a:pt x="1022" y="105"/>
                        </a:lnTo>
                        <a:lnTo>
                          <a:pt x="1022" y="103"/>
                        </a:lnTo>
                        <a:lnTo>
                          <a:pt x="1022" y="99"/>
                        </a:lnTo>
                        <a:lnTo>
                          <a:pt x="1022" y="97"/>
                        </a:lnTo>
                        <a:lnTo>
                          <a:pt x="1022" y="91"/>
                        </a:lnTo>
                        <a:lnTo>
                          <a:pt x="1022" y="86"/>
                        </a:lnTo>
                        <a:lnTo>
                          <a:pt x="1020" y="82"/>
                        </a:lnTo>
                        <a:lnTo>
                          <a:pt x="1018" y="76"/>
                        </a:lnTo>
                        <a:lnTo>
                          <a:pt x="1016" y="70"/>
                        </a:lnTo>
                        <a:lnTo>
                          <a:pt x="1014" y="67"/>
                        </a:lnTo>
                        <a:lnTo>
                          <a:pt x="1012" y="61"/>
                        </a:lnTo>
                        <a:lnTo>
                          <a:pt x="1010" y="57"/>
                        </a:lnTo>
                        <a:lnTo>
                          <a:pt x="1008" y="53"/>
                        </a:lnTo>
                        <a:lnTo>
                          <a:pt x="1006" y="48"/>
                        </a:lnTo>
                        <a:lnTo>
                          <a:pt x="1004" y="44"/>
                        </a:lnTo>
                        <a:lnTo>
                          <a:pt x="1001" y="40"/>
                        </a:lnTo>
                        <a:lnTo>
                          <a:pt x="997" y="36"/>
                        </a:lnTo>
                        <a:lnTo>
                          <a:pt x="993" y="32"/>
                        </a:lnTo>
                        <a:lnTo>
                          <a:pt x="991" y="29"/>
                        </a:lnTo>
                        <a:lnTo>
                          <a:pt x="985" y="25"/>
                        </a:lnTo>
                        <a:lnTo>
                          <a:pt x="983" y="23"/>
                        </a:lnTo>
                        <a:lnTo>
                          <a:pt x="978" y="19"/>
                        </a:lnTo>
                        <a:lnTo>
                          <a:pt x="972" y="17"/>
                        </a:lnTo>
                        <a:lnTo>
                          <a:pt x="968" y="13"/>
                        </a:lnTo>
                        <a:lnTo>
                          <a:pt x="964" y="11"/>
                        </a:lnTo>
                        <a:lnTo>
                          <a:pt x="961" y="10"/>
                        </a:lnTo>
                        <a:lnTo>
                          <a:pt x="955" y="6"/>
                        </a:lnTo>
                        <a:lnTo>
                          <a:pt x="949" y="6"/>
                        </a:lnTo>
                        <a:lnTo>
                          <a:pt x="944" y="4"/>
                        </a:lnTo>
                        <a:lnTo>
                          <a:pt x="940" y="4"/>
                        </a:lnTo>
                        <a:lnTo>
                          <a:pt x="936" y="2"/>
                        </a:lnTo>
                        <a:lnTo>
                          <a:pt x="934" y="2"/>
                        </a:lnTo>
                        <a:lnTo>
                          <a:pt x="932" y="0"/>
                        </a:lnTo>
                        <a:lnTo>
                          <a:pt x="928" y="0"/>
                        </a:lnTo>
                        <a:lnTo>
                          <a:pt x="926" y="0"/>
                        </a:lnTo>
                        <a:lnTo>
                          <a:pt x="925" y="0"/>
                        </a:lnTo>
                        <a:lnTo>
                          <a:pt x="921" y="0"/>
                        </a:lnTo>
                        <a:lnTo>
                          <a:pt x="919" y="0"/>
                        </a:lnTo>
                        <a:lnTo>
                          <a:pt x="915" y="0"/>
                        </a:lnTo>
                        <a:lnTo>
                          <a:pt x="913" y="0"/>
                        </a:lnTo>
                        <a:lnTo>
                          <a:pt x="911" y="0"/>
                        </a:lnTo>
                        <a:lnTo>
                          <a:pt x="907" y="0"/>
                        </a:lnTo>
                        <a:lnTo>
                          <a:pt x="904" y="0"/>
                        </a:lnTo>
                        <a:lnTo>
                          <a:pt x="898" y="2"/>
                        </a:lnTo>
                        <a:lnTo>
                          <a:pt x="896" y="2"/>
                        </a:lnTo>
                        <a:lnTo>
                          <a:pt x="892" y="2"/>
                        </a:lnTo>
                        <a:lnTo>
                          <a:pt x="890" y="2"/>
                        </a:lnTo>
                        <a:lnTo>
                          <a:pt x="888" y="4"/>
                        </a:lnTo>
                        <a:lnTo>
                          <a:pt x="881" y="4"/>
                        </a:lnTo>
                        <a:lnTo>
                          <a:pt x="877" y="6"/>
                        </a:lnTo>
                        <a:lnTo>
                          <a:pt x="873" y="10"/>
                        </a:lnTo>
                        <a:lnTo>
                          <a:pt x="867" y="11"/>
                        </a:lnTo>
                        <a:lnTo>
                          <a:pt x="864" y="15"/>
                        </a:lnTo>
                        <a:lnTo>
                          <a:pt x="860" y="17"/>
                        </a:lnTo>
                        <a:lnTo>
                          <a:pt x="854" y="19"/>
                        </a:lnTo>
                        <a:lnTo>
                          <a:pt x="850" y="23"/>
                        </a:lnTo>
                        <a:lnTo>
                          <a:pt x="847" y="25"/>
                        </a:lnTo>
                        <a:lnTo>
                          <a:pt x="843" y="29"/>
                        </a:lnTo>
                        <a:lnTo>
                          <a:pt x="839" y="32"/>
                        </a:lnTo>
                        <a:lnTo>
                          <a:pt x="835" y="36"/>
                        </a:lnTo>
                        <a:lnTo>
                          <a:pt x="833" y="40"/>
                        </a:lnTo>
                        <a:lnTo>
                          <a:pt x="831" y="44"/>
                        </a:lnTo>
                        <a:lnTo>
                          <a:pt x="828" y="48"/>
                        </a:lnTo>
                        <a:lnTo>
                          <a:pt x="824" y="53"/>
                        </a:lnTo>
                        <a:lnTo>
                          <a:pt x="822" y="57"/>
                        </a:lnTo>
                        <a:lnTo>
                          <a:pt x="820" y="61"/>
                        </a:lnTo>
                        <a:lnTo>
                          <a:pt x="818" y="67"/>
                        </a:lnTo>
                        <a:lnTo>
                          <a:pt x="816" y="70"/>
                        </a:lnTo>
                        <a:lnTo>
                          <a:pt x="816" y="74"/>
                        </a:lnTo>
                        <a:lnTo>
                          <a:pt x="814" y="76"/>
                        </a:lnTo>
                        <a:lnTo>
                          <a:pt x="812" y="82"/>
                        </a:lnTo>
                        <a:lnTo>
                          <a:pt x="812" y="84"/>
                        </a:lnTo>
                        <a:lnTo>
                          <a:pt x="687" y="663"/>
                        </a:lnTo>
                        <a:lnTo>
                          <a:pt x="681" y="663"/>
                        </a:lnTo>
                        <a:lnTo>
                          <a:pt x="677" y="663"/>
                        </a:lnTo>
                        <a:lnTo>
                          <a:pt x="673" y="663"/>
                        </a:lnTo>
                        <a:lnTo>
                          <a:pt x="670" y="663"/>
                        </a:lnTo>
                        <a:lnTo>
                          <a:pt x="666" y="663"/>
                        </a:lnTo>
                        <a:lnTo>
                          <a:pt x="660" y="665"/>
                        </a:lnTo>
                        <a:lnTo>
                          <a:pt x="656" y="665"/>
                        </a:lnTo>
                        <a:lnTo>
                          <a:pt x="652" y="667"/>
                        </a:lnTo>
                        <a:lnTo>
                          <a:pt x="753" y="213"/>
                        </a:lnTo>
                        <a:lnTo>
                          <a:pt x="753" y="209"/>
                        </a:lnTo>
                        <a:lnTo>
                          <a:pt x="753" y="207"/>
                        </a:lnTo>
                        <a:lnTo>
                          <a:pt x="753" y="203"/>
                        </a:lnTo>
                        <a:lnTo>
                          <a:pt x="753" y="201"/>
                        </a:lnTo>
                        <a:lnTo>
                          <a:pt x="753" y="198"/>
                        </a:lnTo>
                        <a:lnTo>
                          <a:pt x="753" y="196"/>
                        </a:lnTo>
                        <a:lnTo>
                          <a:pt x="753" y="192"/>
                        </a:lnTo>
                        <a:lnTo>
                          <a:pt x="753" y="190"/>
                        </a:lnTo>
                        <a:lnTo>
                          <a:pt x="753" y="188"/>
                        </a:lnTo>
                        <a:lnTo>
                          <a:pt x="753" y="184"/>
                        </a:lnTo>
                        <a:lnTo>
                          <a:pt x="753" y="182"/>
                        </a:lnTo>
                        <a:lnTo>
                          <a:pt x="753" y="181"/>
                        </a:lnTo>
                        <a:lnTo>
                          <a:pt x="753" y="175"/>
                        </a:lnTo>
                        <a:lnTo>
                          <a:pt x="753" y="169"/>
                        </a:lnTo>
                        <a:lnTo>
                          <a:pt x="751" y="167"/>
                        </a:lnTo>
                        <a:lnTo>
                          <a:pt x="751" y="163"/>
                        </a:lnTo>
                        <a:lnTo>
                          <a:pt x="751" y="162"/>
                        </a:lnTo>
                        <a:lnTo>
                          <a:pt x="750" y="160"/>
                        </a:lnTo>
                        <a:lnTo>
                          <a:pt x="748" y="154"/>
                        </a:lnTo>
                        <a:lnTo>
                          <a:pt x="746" y="148"/>
                        </a:lnTo>
                        <a:lnTo>
                          <a:pt x="744" y="144"/>
                        </a:lnTo>
                        <a:lnTo>
                          <a:pt x="742" y="141"/>
                        </a:lnTo>
                        <a:lnTo>
                          <a:pt x="740" y="135"/>
                        </a:lnTo>
                        <a:lnTo>
                          <a:pt x="738" y="131"/>
                        </a:lnTo>
                        <a:lnTo>
                          <a:pt x="734" y="127"/>
                        </a:lnTo>
                        <a:lnTo>
                          <a:pt x="730" y="124"/>
                        </a:lnTo>
                        <a:lnTo>
                          <a:pt x="727" y="120"/>
                        </a:lnTo>
                        <a:lnTo>
                          <a:pt x="725" y="116"/>
                        </a:lnTo>
                        <a:lnTo>
                          <a:pt x="721" y="112"/>
                        </a:lnTo>
                        <a:lnTo>
                          <a:pt x="717" y="108"/>
                        </a:lnTo>
                        <a:lnTo>
                          <a:pt x="713" y="105"/>
                        </a:lnTo>
                        <a:lnTo>
                          <a:pt x="710" y="103"/>
                        </a:lnTo>
                        <a:lnTo>
                          <a:pt x="704" y="99"/>
                        </a:lnTo>
                        <a:lnTo>
                          <a:pt x="700" y="97"/>
                        </a:lnTo>
                        <a:lnTo>
                          <a:pt x="694" y="95"/>
                        </a:lnTo>
                        <a:lnTo>
                          <a:pt x="691" y="91"/>
                        </a:lnTo>
                        <a:lnTo>
                          <a:pt x="685" y="89"/>
                        </a:lnTo>
                        <a:lnTo>
                          <a:pt x="681" y="87"/>
                        </a:lnTo>
                        <a:lnTo>
                          <a:pt x="675" y="86"/>
                        </a:lnTo>
                        <a:lnTo>
                          <a:pt x="672" y="86"/>
                        </a:lnTo>
                        <a:lnTo>
                          <a:pt x="668" y="84"/>
                        </a:lnTo>
                        <a:lnTo>
                          <a:pt x="666" y="84"/>
                        </a:lnTo>
                        <a:lnTo>
                          <a:pt x="664" y="84"/>
                        </a:lnTo>
                        <a:lnTo>
                          <a:pt x="660" y="84"/>
                        </a:lnTo>
                        <a:lnTo>
                          <a:pt x="658" y="84"/>
                        </a:lnTo>
                        <a:lnTo>
                          <a:pt x="654" y="84"/>
                        </a:lnTo>
                        <a:lnTo>
                          <a:pt x="652" y="84"/>
                        </a:lnTo>
                        <a:lnTo>
                          <a:pt x="651" y="84"/>
                        </a:lnTo>
                        <a:lnTo>
                          <a:pt x="647" y="84"/>
                        </a:lnTo>
                        <a:lnTo>
                          <a:pt x="645" y="84"/>
                        </a:lnTo>
                        <a:lnTo>
                          <a:pt x="643" y="84"/>
                        </a:lnTo>
                        <a:lnTo>
                          <a:pt x="639" y="84"/>
                        </a:lnTo>
                        <a:lnTo>
                          <a:pt x="635" y="84"/>
                        </a:lnTo>
                        <a:lnTo>
                          <a:pt x="630" y="84"/>
                        </a:lnTo>
                        <a:lnTo>
                          <a:pt x="628" y="84"/>
                        </a:lnTo>
                        <a:lnTo>
                          <a:pt x="624" y="86"/>
                        </a:lnTo>
                        <a:lnTo>
                          <a:pt x="622" y="86"/>
                        </a:lnTo>
                        <a:lnTo>
                          <a:pt x="618" y="86"/>
                        </a:lnTo>
                        <a:lnTo>
                          <a:pt x="614" y="87"/>
                        </a:lnTo>
                        <a:lnTo>
                          <a:pt x="609" y="89"/>
                        </a:lnTo>
                        <a:lnTo>
                          <a:pt x="603" y="91"/>
                        </a:lnTo>
                        <a:lnTo>
                          <a:pt x="599" y="95"/>
                        </a:lnTo>
                        <a:lnTo>
                          <a:pt x="595" y="97"/>
                        </a:lnTo>
                        <a:lnTo>
                          <a:pt x="592" y="99"/>
                        </a:lnTo>
                        <a:lnTo>
                          <a:pt x="586" y="103"/>
                        </a:lnTo>
                        <a:lnTo>
                          <a:pt x="582" y="105"/>
                        </a:lnTo>
                        <a:lnTo>
                          <a:pt x="578" y="108"/>
                        </a:lnTo>
                        <a:lnTo>
                          <a:pt x="574" y="112"/>
                        </a:lnTo>
                        <a:lnTo>
                          <a:pt x="571" y="116"/>
                        </a:lnTo>
                        <a:lnTo>
                          <a:pt x="567" y="120"/>
                        </a:lnTo>
                        <a:lnTo>
                          <a:pt x="565" y="124"/>
                        </a:lnTo>
                        <a:lnTo>
                          <a:pt x="563" y="127"/>
                        </a:lnTo>
                        <a:lnTo>
                          <a:pt x="559" y="131"/>
                        </a:lnTo>
                        <a:lnTo>
                          <a:pt x="555" y="135"/>
                        </a:lnTo>
                        <a:lnTo>
                          <a:pt x="554" y="141"/>
                        </a:lnTo>
                        <a:lnTo>
                          <a:pt x="552" y="146"/>
                        </a:lnTo>
                        <a:lnTo>
                          <a:pt x="550" y="150"/>
                        </a:lnTo>
                        <a:lnTo>
                          <a:pt x="548" y="156"/>
                        </a:lnTo>
                        <a:lnTo>
                          <a:pt x="546" y="158"/>
                        </a:lnTo>
                        <a:lnTo>
                          <a:pt x="546" y="160"/>
                        </a:lnTo>
                        <a:lnTo>
                          <a:pt x="544" y="163"/>
                        </a:lnTo>
                        <a:lnTo>
                          <a:pt x="544" y="167"/>
                        </a:lnTo>
                        <a:lnTo>
                          <a:pt x="361" y="1127"/>
                        </a:lnTo>
                        <a:lnTo>
                          <a:pt x="361" y="1127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7" name="AutoShape 216"/>
                <p:cNvSpPr/>
                <p:nvPr/>
              </p:nvSpPr>
              <p:spPr>
                <a:xfrm rot="9395400">
                  <a:off x="4490280" y="2027880"/>
                  <a:ext cx="88560" cy="75960"/>
                </a:xfrm>
                <a:prstGeom prst="hexagon">
                  <a:avLst>
                    <a:gd name="adj" fmla="val 29147"/>
                    <a:gd name="vf" fmla="val 11547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Group 217"/>
              <p:cNvGrpSpPr/>
              <p:nvPr/>
            </p:nvGrpSpPr>
            <p:grpSpPr>
              <a:xfrm>
                <a:off x="4250160" y="1180440"/>
                <a:ext cx="1094040" cy="2229840"/>
                <a:chOff x="4250160" y="1180440"/>
                <a:chExt cx="1094040" cy="2229840"/>
              </a:xfrm>
            </p:grpSpPr>
            <p:grpSp>
              <p:nvGrpSpPr>
                <p:cNvPr id="359" name="Group 218"/>
                <p:cNvGrpSpPr/>
                <p:nvPr/>
              </p:nvGrpSpPr>
              <p:grpSpPr>
                <a:xfrm>
                  <a:off x="4250160" y="1180440"/>
                  <a:ext cx="697680" cy="1202760"/>
                  <a:chOff x="4250160" y="1180440"/>
                  <a:chExt cx="697680" cy="1202760"/>
                </a:xfrm>
              </p:grpSpPr>
              <p:grpSp>
                <p:nvGrpSpPr>
                  <p:cNvPr id="360" name="Group 219"/>
                  <p:cNvGrpSpPr/>
                  <p:nvPr/>
                </p:nvGrpSpPr>
                <p:grpSpPr>
                  <a:xfrm>
                    <a:off x="4524120" y="1747080"/>
                    <a:ext cx="423720" cy="636120"/>
                    <a:chOff x="4524120" y="1747080"/>
                    <a:chExt cx="423720" cy="636120"/>
                  </a:xfrm>
                </p:grpSpPr>
                <p:sp>
                  <p:nvSpPr>
                    <p:cNvPr id="361" name="AutoShape 220"/>
                    <p:cNvSpPr/>
                    <p:nvPr/>
                  </p:nvSpPr>
                  <p:spPr>
                    <a:xfrm rot="9411600">
                      <a:off x="4613400" y="1762200"/>
                      <a:ext cx="179640" cy="49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AutoShape 221"/>
                    <p:cNvSpPr/>
                    <p:nvPr/>
                  </p:nvSpPr>
                  <p:spPr>
                    <a:xfrm rot="14989800">
                      <a:off x="4707360" y="2134080"/>
                      <a:ext cx="19188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Group 222"/>
                  <p:cNvGrpSpPr/>
                  <p:nvPr/>
                </p:nvGrpSpPr>
                <p:grpSpPr>
                  <a:xfrm>
                    <a:off x="4250160" y="1180440"/>
                    <a:ext cx="472320" cy="719640"/>
                    <a:chOff x="4250160" y="1180440"/>
                    <a:chExt cx="472320" cy="719640"/>
                  </a:xfrm>
                </p:grpSpPr>
                <p:sp>
                  <p:nvSpPr>
                    <p:cNvPr id="364" name="AutoShape 223"/>
                    <p:cNvSpPr/>
                    <p:nvPr/>
                  </p:nvSpPr>
                  <p:spPr>
                    <a:xfrm rot="9426600">
                      <a:off x="4437720" y="1414800"/>
                      <a:ext cx="180360" cy="36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4308" y="21600"/>
                          </a:lnTo>
                          <a:lnTo>
                            <a:pt x="17292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Oval 224"/>
                    <p:cNvSpPr/>
                    <p:nvPr/>
                  </p:nvSpPr>
                  <p:spPr>
                    <a:xfrm rot="9965400">
                      <a:off x="4515120" y="1689840"/>
                      <a:ext cx="187200" cy="19044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Freeform 225"/>
                    <p:cNvSpPr/>
                    <p:nvPr/>
                  </p:nvSpPr>
                  <p:spPr>
                    <a:xfrm rot="19460400">
                      <a:off x="4317480" y="1204200"/>
                      <a:ext cx="175680" cy="28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2" h="2302">
                          <a:moveTo>
                            <a:pt x="361" y="1127"/>
                          </a:moveTo>
                          <a:lnTo>
                            <a:pt x="280" y="1116"/>
                          </a:lnTo>
                          <a:lnTo>
                            <a:pt x="373" y="711"/>
                          </a:lnTo>
                          <a:lnTo>
                            <a:pt x="373" y="709"/>
                          </a:lnTo>
                          <a:lnTo>
                            <a:pt x="375" y="705"/>
                          </a:lnTo>
                          <a:lnTo>
                            <a:pt x="375" y="703"/>
                          </a:lnTo>
                          <a:lnTo>
                            <a:pt x="375" y="700"/>
                          </a:lnTo>
                          <a:lnTo>
                            <a:pt x="375" y="698"/>
                          </a:lnTo>
                          <a:lnTo>
                            <a:pt x="375" y="696"/>
                          </a:lnTo>
                          <a:lnTo>
                            <a:pt x="375" y="692"/>
                          </a:lnTo>
                          <a:lnTo>
                            <a:pt x="375" y="690"/>
                          </a:lnTo>
                          <a:lnTo>
                            <a:pt x="375" y="684"/>
                          </a:lnTo>
                          <a:lnTo>
                            <a:pt x="375" y="681"/>
                          </a:lnTo>
                          <a:lnTo>
                            <a:pt x="375" y="675"/>
                          </a:lnTo>
                          <a:lnTo>
                            <a:pt x="375" y="669"/>
                          </a:lnTo>
                          <a:lnTo>
                            <a:pt x="371" y="665"/>
                          </a:lnTo>
                          <a:lnTo>
                            <a:pt x="371" y="660"/>
                          </a:lnTo>
                          <a:lnTo>
                            <a:pt x="369" y="654"/>
                          </a:lnTo>
                          <a:lnTo>
                            <a:pt x="367" y="652"/>
                          </a:lnTo>
                          <a:lnTo>
                            <a:pt x="365" y="646"/>
                          </a:lnTo>
                          <a:lnTo>
                            <a:pt x="363" y="641"/>
                          </a:lnTo>
                          <a:lnTo>
                            <a:pt x="361" y="637"/>
                          </a:lnTo>
                          <a:lnTo>
                            <a:pt x="358" y="633"/>
                          </a:lnTo>
                          <a:lnTo>
                            <a:pt x="356" y="629"/>
                          </a:lnTo>
                          <a:lnTo>
                            <a:pt x="354" y="623"/>
                          </a:lnTo>
                          <a:lnTo>
                            <a:pt x="350" y="620"/>
                          </a:lnTo>
                          <a:lnTo>
                            <a:pt x="346" y="616"/>
                          </a:lnTo>
                          <a:lnTo>
                            <a:pt x="342" y="612"/>
                          </a:lnTo>
                          <a:lnTo>
                            <a:pt x="339" y="610"/>
                          </a:lnTo>
                          <a:lnTo>
                            <a:pt x="335" y="606"/>
                          </a:lnTo>
                          <a:lnTo>
                            <a:pt x="331" y="603"/>
                          </a:lnTo>
                          <a:lnTo>
                            <a:pt x="325" y="601"/>
                          </a:lnTo>
                          <a:lnTo>
                            <a:pt x="321" y="597"/>
                          </a:lnTo>
                          <a:lnTo>
                            <a:pt x="318" y="595"/>
                          </a:lnTo>
                          <a:lnTo>
                            <a:pt x="312" y="593"/>
                          </a:lnTo>
                          <a:lnTo>
                            <a:pt x="306" y="591"/>
                          </a:lnTo>
                          <a:lnTo>
                            <a:pt x="302" y="589"/>
                          </a:lnTo>
                          <a:lnTo>
                            <a:pt x="299" y="589"/>
                          </a:lnTo>
                          <a:lnTo>
                            <a:pt x="295" y="587"/>
                          </a:lnTo>
                          <a:lnTo>
                            <a:pt x="291" y="587"/>
                          </a:lnTo>
                          <a:lnTo>
                            <a:pt x="287" y="585"/>
                          </a:lnTo>
                          <a:lnTo>
                            <a:pt x="285" y="585"/>
                          </a:lnTo>
                          <a:lnTo>
                            <a:pt x="283" y="585"/>
                          </a:lnTo>
                          <a:lnTo>
                            <a:pt x="280" y="585"/>
                          </a:lnTo>
                          <a:lnTo>
                            <a:pt x="276" y="585"/>
                          </a:lnTo>
                          <a:lnTo>
                            <a:pt x="274" y="585"/>
                          </a:lnTo>
                          <a:lnTo>
                            <a:pt x="272" y="585"/>
                          </a:lnTo>
                          <a:lnTo>
                            <a:pt x="268" y="585"/>
                          </a:lnTo>
                          <a:lnTo>
                            <a:pt x="266" y="585"/>
                          </a:lnTo>
                          <a:lnTo>
                            <a:pt x="263" y="585"/>
                          </a:lnTo>
                          <a:lnTo>
                            <a:pt x="261" y="587"/>
                          </a:lnTo>
                          <a:lnTo>
                            <a:pt x="259" y="587"/>
                          </a:lnTo>
                          <a:lnTo>
                            <a:pt x="255" y="587"/>
                          </a:lnTo>
                          <a:lnTo>
                            <a:pt x="253" y="589"/>
                          </a:lnTo>
                          <a:lnTo>
                            <a:pt x="249" y="589"/>
                          </a:lnTo>
                          <a:lnTo>
                            <a:pt x="247" y="589"/>
                          </a:lnTo>
                          <a:lnTo>
                            <a:pt x="243" y="591"/>
                          </a:lnTo>
                          <a:lnTo>
                            <a:pt x="240" y="591"/>
                          </a:lnTo>
                          <a:lnTo>
                            <a:pt x="238" y="593"/>
                          </a:lnTo>
                          <a:lnTo>
                            <a:pt x="236" y="595"/>
                          </a:lnTo>
                          <a:lnTo>
                            <a:pt x="232" y="595"/>
                          </a:lnTo>
                          <a:lnTo>
                            <a:pt x="230" y="597"/>
                          </a:lnTo>
                          <a:lnTo>
                            <a:pt x="228" y="599"/>
                          </a:lnTo>
                          <a:lnTo>
                            <a:pt x="224" y="601"/>
                          </a:lnTo>
                          <a:lnTo>
                            <a:pt x="223" y="601"/>
                          </a:lnTo>
                          <a:lnTo>
                            <a:pt x="219" y="603"/>
                          </a:lnTo>
                          <a:lnTo>
                            <a:pt x="217" y="604"/>
                          </a:lnTo>
                          <a:lnTo>
                            <a:pt x="211" y="608"/>
                          </a:lnTo>
                          <a:lnTo>
                            <a:pt x="207" y="612"/>
                          </a:lnTo>
                          <a:lnTo>
                            <a:pt x="204" y="616"/>
                          </a:lnTo>
                          <a:lnTo>
                            <a:pt x="198" y="618"/>
                          </a:lnTo>
                          <a:lnTo>
                            <a:pt x="194" y="623"/>
                          </a:lnTo>
                          <a:lnTo>
                            <a:pt x="188" y="627"/>
                          </a:lnTo>
                          <a:lnTo>
                            <a:pt x="185" y="633"/>
                          </a:lnTo>
                          <a:lnTo>
                            <a:pt x="181" y="637"/>
                          </a:lnTo>
                          <a:lnTo>
                            <a:pt x="177" y="641"/>
                          </a:lnTo>
                          <a:lnTo>
                            <a:pt x="173" y="646"/>
                          </a:lnTo>
                          <a:lnTo>
                            <a:pt x="169" y="652"/>
                          </a:lnTo>
                          <a:lnTo>
                            <a:pt x="166" y="656"/>
                          </a:lnTo>
                          <a:lnTo>
                            <a:pt x="162" y="662"/>
                          </a:lnTo>
                          <a:lnTo>
                            <a:pt x="160" y="665"/>
                          </a:lnTo>
                          <a:lnTo>
                            <a:pt x="158" y="669"/>
                          </a:lnTo>
                          <a:lnTo>
                            <a:pt x="158" y="671"/>
                          </a:lnTo>
                          <a:lnTo>
                            <a:pt x="156" y="673"/>
                          </a:lnTo>
                          <a:lnTo>
                            <a:pt x="154" y="677"/>
                          </a:lnTo>
                          <a:lnTo>
                            <a:pt x="152" y="679"/>
                          </a:lnTo>
                          <a:lnTo>
                            <a:pt x="152" y="681"/>
                          </a:lnTo>
                          <a:lnTo>
                            <a:pt x="150" y="684"/>
                          </a:lnTo>
                          <a:lnTo>
                            <a:pt x="150" y="688"/>
                          </a:lnTo>
                          <a:lnTo>
                            <a:pt x="146" y="694"/>
                          </a:lnTo>
                          <a:lnTo>
                            <a:pt x="145" y="701"/>
                          </a:lnTo>
                          <a:lnTo>
                            <a:pt x="143" y="709"/>
                          </a:lnTo>
                          <a:lnTo>
                            <a:pt x="139" y="717"/>
                          </a:lnTo>
                          <a:lnTo>
                            <a:pt x="137" y="724"/>
                          </a:lnTo>
                          <a:lnTo>
                            <a:pt x="135" y="732"/>
                          </a:lnTo>
                          <a:lnTo>
                            <a:pt x="131" y="739"/>
                          </a:lnTo>
                          <a:lnTo>
                            <a:pt x="129" y="747"/>
                          </a:lnTo>
                          <a:lnTo>
                            <a:pt x="126" y="755"/>
                          </a:lnTo>
                          <a:lnTo>
                            <a:pt x="124" y="760"/>
                          </a:lnTo>
                          <a:lnTo>
                            <a:pt x="122" y="768"/>
                          </a:lnTo>
                          <a:lnTo>
                            <a:pt x="120" y="776"/>
                          </a:lnTo>
                          <a:lnTo>
                            <a:pt x="116" y="781"/>
                          </a:lnTo>
                          <a:lnTo>
                            <a:pt x="114" y="789"/>
                          </a:lnTo>
                          <a:lnTo>
                            <a:pt x="112" y="796"/>
                          </a:lnTo>
                          <a:lnTo>
                            <a:pt x="110" y="804"/>
                          </a:lnTo>
                          <a:lnTo>
                            <a:pt x="107" y="812"/>
                          </a:lnTo>
                          <a:lnTo>
                            <a:pt x="107" y="817"/>
                          </a:lnTo>
                          <a:lnTo>
                            <a:pt x="103" y="823"/>
                          </a:lnTo>
                          <a:lnTo>
                            <a:pt x="101" y="831"/>
                          </a:lnTo>
                          <a:lnTo>
                            <a:pt x="97" y="836"/>
                          </a:lnTo>
                          <a:lnTo>
                            <a:pt x="97" y="844"/>
                          </a:lnTo>
                          <a:lnTo>
                            <a:pt x="93" y="852"/>
                          </a:lnTo>
                          <a:lnTo>
                            <a:pt x="93" y="857"/>
                          </a:lnTo>
                          <a:lnTo>
                            <a:pt x="89" y="865"/>
                          </a:lnTo>
                          <a:lnTo>
                            <a:pt x="88" y="871"/>
                          </a:lnTo>
                          <a:lnTo>
                            <a:pt x="86" y="878"/>
                          </a:lnTo>
                          <a:lnTo>
                            <a:pt x="84" y="884"/>
                          </a:lnTo>
                          <a:lnTo>
                            <a:pt x="82" y="892"/>
                          </a:lnTo>
                          <a:lnTo>
                            <a:pt x="80" y="899"/>
                          </a:lnTo>
                          <a:lnTo>
                            <a:pt x="78" y="907"/>
                          </a:lnTo>
                          <a:lnTo>
                            <a:pt x="74" y="912"/>
                          </a:lnTo>
                          <a:lnTo>
                            <a:pt x="72" y="920"/>
                          </a:lnTo>
                          <a:lnTo>
                            <a:pt x="72" y="926"/>
                          </a:lnTo>
                          <a:lnTo>
                            <a:pt x="68" y="931"/>
                          </a:lnTo>
                          <a:lnTo>
                            <a:pt x="67" y="939"/>
                          </a:lnTo>
                          <a:lnTo>
                            <a:pt x="65" y="945"/>
                          </a:lnTo>
                          <a:lnTo>
                            <a:pt x="63" y="952"/>
                          </a:lnTo>
                          <a:lnTo>
                            <a:pt x="59" y="958"/>
                          </a:lnTo>
                          <a:lnTo>
                            <a:pt x="57" y="966"/>
                          </a:lnTo>
                          <a:lnTo>
                            <a:pt x="55" y="971"/>
                          </a:lnTo>
                          <a:lnTo>
                            <a:pt x="53" y="979"/>
                          </a:lnTo>
                          <a:lnTo>
                            <a:pt x="51" y="987"/>
                          </a:lnTo>
                          <a:lnTo>
                            <a:pt x="49" y="994"/>
                          </a:lnTo>
                          <a:lnTo>
                            <a:pt x="48" y="1000"/>
                          </a:lnTo>
                          <a:lnTo>
                            <a:pt x="46" y="1007"/>
                          </a:lnTo>
                          <a:lnTo>
                            <a:pt x="44" y="1015"/>
                          </a:lnTo>
                          <a:lnTo>
                            <a:pt x="42" y="1021"/>
                          </a:lnTo>
                          <a:lnTo>
                            <a:pt x="42" y="1028"/>
                          </a:lnTo>
                          <a:lnTo>
                            <a:pt x="38" y="1036"/>
                          </a:lnTo>
                          <a:lnTo>
                            <a:pt x="36" y="1042"/>
                          </a:lnTo>
                          <a:lnTo>
                            <a:pt x="36" y="1049"/>
                          </a:lnTo>
                          <a:lnTo>
                            <a:pt x="34" y="1057"/>
                          </a:lnTo>
                          <a:lnTo>
                            <a:pt x="30" y="1063"/>
                          </a:lnTo>
                          <a:lnTo>
                            <a:pt x="30" y="1070"/>
                          </a:lnTo>
                          <a:lnTo>
                            <a:pt x="29" y="1078"/>
                          </a:lnTo>
                          <a:lnTo>
                            <a:pt x="27" y="1085"/>
                          </a:lnTo>
                          <a:lnTo>
                            <a:pt x="25" y="1093"/>
                          </a:lnTo>
                          <a:lnTo>
                            <a:pt x="23" y="1101"/>
                          </a:lnTo>
                          <a:lnTo>
                            <a:pt x="21" y="1108"/>
                          </a:lnTo>
                          <a:lnTo>
                            <a:pt x="19" y="1116"/>
                          </a:lnTo>
                          <a:lnTo>
                            <a:pt x="17" y="1123"/>
                          </a:lnTo>
                          <a:lnTo>
                            <a:pt x="17" y="1131"/>
                          </a:lnTo>
                          <a:lnTo>
                            <a:pt x="15" y="1139"/>
                          </a:lnTo>
                          <a:lnTo>
                            <a:pt x="13" y="1148"/>
                          </a:lnTo>
                          <a:lnTo>
                            <a:pt x="10" y="1158"/>
                          </a:lnTo>
                          <a:lnTo>
                            <a:pt x="10" y="1165"/>
                          </a:lnTo>
                          <a:lnTo>
                            <a:pt x="8" y="1175"/>
                          </a:lnTo>
                          <a:lnTo>
                            <a:pt x="6" y="1182"/>
                          </a:lnTo>
                          <a:lnTo>
                            <a:pt x="6" y="1192"/>
                          </a:lnTo>
                          <a:lnTo>
                            <a:pt x="4" y="1201"/>
                          </a:lnTo>
                          <a:lnTo>
                            <a:pt x="2" y="1211"/>
                          </a:lnTo>
                          <a:lnTo>
                            <a:pt x="2" y="1218"/>
                          </a:lnTo>
                          <a:lnTo>
                            <a:pt x="0" y="1230"/>
                          </a:lnTo>
                          <a:lnTo>
                            <a:pt x="0" y="1237"/>
                          </a:lnTo>
                          <a:lnTo>
                            <a:pt x="0" y="1247"/>
                          </a:lnTo>
                          <a:lnTo>
                            <a:pt x="0" y="1257"/>
                          </a:lnTo>
                          <a:lnTo>
                            <a:pt x="0" y="1268"/>
                          </a:lnTo>
                          <a:lnTo>
                            <a:pt x="0" y="1276"/>
                          </a:lnTo>
                          <a:lnTo>
                            <a:pt x="0" y="1285"/>
                          </a:lnTo>
                          <a:lnTo>
                            <a:pt x="0" y="1296"/>
                          </a:lnTo>
                          <a:lnTo>
                            <a:pt x="0" y="1304"/>
                          </a:lnTo>
                          <a:lnTo>
                            <a:pt x="0" y="1314"/>
                          </a:lnTo>
                          <a:lnTo>
                            <a:pt x="0" y="1323"/>
                          </a:lnTo>
                          <a:lnTo>
                            <a:pt x="0" y="1333"/>
                          </a:lnTo>
                          <a:lnTo>
                            <a:pt x="2" y="1342"/>
                          </a:lnTo>
                          <a:lnTo>
                            <a:pt x="2" y="1352"/>
                          </a:lnTo>
                          <a:lnTo>
                            <a:pt x="4" y="1363"/>
                          </a:lnTo>
                          <a:lnTo>
                            <a:pt x="4" y="1371"/>
                          </a:lnTo>
                          <a:lnTo>
                            <a:pt x="6" y="1382"/>
                          </a:lnTo>
                          <a:lnTo>
                            <a:pt x="8" y="1390"/>
                          </a:lnTo>
                          <a:lnTo>
                            <a:pt x="8" y="1401"/>
                          </a:lnTo>
                          <a:lnTo>
                            <a:pt x="10" y="1409"/>
                          </a:lnTo>
                          <a:lnTo>
                            <a:pt x="11" y="1420"/>
                          </a:lnTo>
                          <a:lnTo>
                            <a:pt x="13" y="1429"/>
                          </a:lnTo>
                          <a:lnTo>
                            <a:pt x="15" y="1439"/>
                          </a:lnTo>
                          <a:lnTo>
                            <a:pt x="17" y="1448"/>
                          </a:lnTo>
                          <a:lnTo>
                            <a:pt x="19" y="1458"/>
                          </a:lnTo>
                          <a:lnTo>
                            <a:pt x="21" y="1468"/>
                          </a:lnTo>
                          <a:lnTo>
                            <a:pt x="23" y="1477"/>
                          </a:lnTo>
                          <a:lnTo>
                            <a:pt x="27" y="1487"/>
                          </a:lnTo>
                          <a:lnTo>
                            <a:pt x="29" y="1496"/>
                          </a:lnTo>
                          <a:lnTo>
                            <a:pt x="30" y="1506"/>
                          </a:lnTo>
                          <a:lnTo>
                            <a:pt x="34" y="1515"/>
                          </a:lnTo>
                          <a:lnTo>
                            <a:pt x="36" y="1525"/>
                          </a:lnTo>
                          <a:lnTo>
                            <a:pt x="38" y="1534"/>
                          </a:lnTo>
                          <a:lnTo>
                            <a:pt x="42" y="1544"/>
                          </a:lnTo>
                          <a:lnTo>
                            <a:pt x="46" y="1553"/>
                          </a:lnTo>
                          <a:lnTo>
                            <a:pt x="48" y="1561"/>
                          </a:lnTo>
                          <a:lnTo>
                            <a:pt x="51" y="1572"/>
                          </a:lnTo>
                          <a:lnTo>
                            <a:pt x="55" y="1580"/>
                          </a:lnTo>
                          <a:lnTo>
                            <a:pt x="59" y="1589"/>
                          </a:lnTo>
                          <a:lnTo>
                            <a:pt x="63" y="1599"/>
                          </a:lnTo>
                          <a:lnTo>
                            <a:pt x="67" y="1608"/>
                          </a:lnTo>
                          <a:lnTo>
                            <a:pt x="68" y="1616"/>
                          </a:lnTo>
                          <a:lnTo>
                            <a:pt x="74" y="1627"/>
                          </a:lnTo>
                          <a:lnTo>
                            <a:pt x="78" y="1635"/>
                          </a:lnTo>
                          <a:lnTo>
                            <a:pt x="82" y="1644"/>
                          </a:lnTo>
                          <a:lnTo>
                            <a:pt x="86" y="1652"/>
                          </a:lnTo>
                          <a:lnTo>
                            <a:pt x="89" y="1661"/>
                          </a:lnTo>
                          <a:lnTo>
                            <a:pt x="95" y="1669"/>
                          </a:lnTo>
                          <a:lnTo>
                            <a:pt x="99" y="1679"/>
                          </a:lnTo>
                          <a:lnTo>
                            <a:pt x="103" y="1688"/>
                          </a:lnTo>
                          <a:lnTo>
                            <a:pt x="108" y="1696"/>
                          </a:lnTo>
                          <a:lnTo>
                            <a:pt x="114" y="1703"/>
                          </a:lnTo>
                          <a:lnTo>
                            <a:pt x="118" y="1713"/>
                          </a:lnTo>
                          <a:lnTo>
                            <a:pt x="124" y="1722"/>
                          </a:lnTo>
                          <a:lnTo>
                            <a:pt x="127" y="1732"/>
                          </a:lnTo>
                          <a:lnTo>
                            <a:pt x="131" y="1736"/>
                          </a:lnTo>
                          <a:lnTo>
                            <a:pt x="135" y="1739"/>
                          </a:lnTo>
                          <a:lnTo>
                            <a:pt x="135" y="1743"/>
                          </a:lnTo>
                          <a:lnTo>
                            <a:pt x="137" y="1745"/>
                          </a:lnTo>
                          <a:lnTo>
                            <a:pt x="139" y="1747"/>
                          </a:lnTo>
                          <a:lnTo>
                            <a:pt x="141" y="1751"/>
                          </a:lnTo>
                          <a:lnTo>
                            <a:pt x="143" y="1755"/>
                          </a:lnTo>
                          <a:lnTo>
                            <a:pt x="143" y="1756"/>
                          </a:lnTo>
                          <a:lnTo>
                            <a:pt x="145" y="1760"/>
                          </a:lnTo>
                          <a:lnTo>
                            <a:pt x="146" y="1762"/>
                          </a:lnTo>
                          <a:lnTo>
                            <a:pt x="148" y="1766"/>
                          </a:lnTo>
                          <a:lnTo>
                            <a:pt x="150" y="1768"/>
                          </a:lnTo>
                          <a:lnTo>
                            <a:pt x="152" y="1770"/>
                          </a:lnTo>
                          <a:lnTo>
                            <a:pt x="156" y="1774"/>
                          </a:lnTo>
                          <a:lnTo>
                            <a:pt x="158" y="1777"/>
                          </a:lnTo>
                          <a:lnTo>
                            <a:pt x="160" y="1779"/>
                          </a:lnTo>
                          <a:lnTo>
                            <a:pt x="160" y="1783"/>
                          </a:lnTo>
                          <a:lnTo>
                            <a:pt x="162" y="1787"/>
                          </a:lnTo>
                          <a:lnTo>
                            <a:pt x="166" y="1789"/>
                          </a:lnTo>
                          <a:lnTo>
                            <a:pt x="166" y="1791"/>
                          </a:lnTo>
                          <a:lnTo>
                            <a:pt x="167" y="1794"/>
                          </a:lnTo>
                          <a:lnTo>
                            <a:pt x="169" y="1796"/>
                          </a:lnTo>
                          <a:lnTo>
                            <a:pt x="171" y="1800"/>
                          </a:lnTo>
                          <a:lnTo>
                            <a:pt x="173" y="1802"/>
                          </a:lnTo>
                          <a:lnTo>
                            <a:pt x="175" y="1806"/>
                          </a:lnTo>
                          <a:lnTo>
                            <a:pt x="177" y="1808"/>
                          </a:lnTo>
                          <a:lnTo>
                            <a:pt x="179" y="1812"/>
                          </a:lnTo>
                          <a:lnTo>
                            <a:pt x="181" y="1815"/>
                          </a:lnTo>
                          <a:lnTo>
                            <a:pt x="183" y="1817"/>
                          </a:lnTo>
                          <a:lnTo>
                            <a:pt x="185" y="1821"/>
                          </a:lnTo>
                          <a:lnTo>
                            <a:pt x="188" y="1827"/>
                          </a:lnTo>
                          <a:lnTo>
                            <a:pt x="190" y="1831"/>
                          </a:lnTo>
                          <a:lnTo>
                            <a:pt x="194" y="1836"/>
                          </a:lnTo>
                          <a:lnTo>
                            <a:pt x="198" y="1842"/>
                          </a:lnTo>
                          <a:lnTo>
                            <a:pt x="200" y="1846"/>
                          </a:lnTo>
                          <a:lnTo>
                            <a:pt x="204" y="1850"/>
                          </a:lnTo>
                          <a:lnTo>
                            <a:pt x="205" y="1853"/>
                          </a:lnTo>
                          <a:lnTo>
                            <a:pt x="207" y="1859"/>
                          </a:lnTo>
                          <a:lnTo>
                            <a:pt x="209" y="1861"/>
                          </a:lnTo>
                          <a:lnTo>
                            <a:pt x="211" y="1863"/>
                          </a:lnTo>
                          <a:lnTo>
                            <a:pt x="213" y="1867"/>
                          </a:lnTo>
                          <a:lnTo>
                            <a:pt x="215" y="1869"/>
                          </a:lnTo>
                          <a:lnTo>
                            <a:pt x="217" y="1870"/>
                          </a:lnTo>
                          <a:lnTo>
                            <a:pt x="219" y="1874"/>
                          </a:lnTo>
                          <a:lnTo>
                            <a:pt x="141" y="2163"/>
                          </a:lnTo>
                          <a:lnTo>
                            <a:pt x="143" y="2165"/>
                          </a:lnTo>
                          <a:lnTo>
                            <a:pt x="146" y="2165"/>
                          </a:lnTo>
                          <a:lnTo>
                            <a:pt x="150" y="2167"/>
                          </a:lnTo>
                          <a:lnTo>
                            <a:pt x="152" y="2167"/>
                          </a:lnTo>
                          <a:lnTo>
                            <a:pt x="154" y="2167"/>
                          </a:lnTo>
                          <a:lnTo>
                            <a:pt x="158" y="2167"/>
                          </a:lnTo>
                          <a:lnTo>
                            <a:pt x="162" y="2171"/>
                          </a:lnTo>
                          <a:lnTo>
                            <a:pt x="166" y="2171"/>
                          </a:lnTo>
                          <a:lnTo>
                            <a:pt x="167" y="2173"/>
                          </a:lnTo>
                          <a:lnTo>
                            <a:pt x="171" y="2173"/>
                          </a:lnTo>
                          <a:lnTo>
                            <a:pt x="175" y="2175"/>
                          </a:lnTo>
                          <a:lnTo>
                            <a:pt x="181" y="2175"/>
                          </a:lnTo>
                          <a:lnTo>
                            <a:pt x="185" y="2175"/>
                          </a:lnTo>
                          <a:lnTo>
                            <a:pt x="188" y="2177"/>
                          </a:lnTo>
                          <a:lnTo>
                            <a:pt x="194" y="2180"/>
                          </a:lnTo>
                          <a:lnTo>
                            <a:pt x="198" y="2180"/>
                          </a:lnTo>
                          <a:lnTo>
                            <a:pt x="204" y="2182"/>
                          </a:lnTo>
                          <a:lnTo>
                            <a:pt x="209" y="2182"/>
                          </a:lnTo>
                          <a:lnTo>
                            <a:pt x="215" y="2184"/>
                          </a:lnTo>
                          <a:lnTo>
                            <a:pt x="219" y="2186"/>
                          </a:lnTo>
                          <a:lnTo>
                            <a:pt x="224" y="2188"/>
                          </a:lnTo>
                          <a:lnTo>
                            <a:pt x="232" y="2188"/>
                          </a:lnTo>
                          <a:lnTo>
                            <a:pt x="238" y="2190"/>
                          </a:lnTo>
                          <a:lnTo>
                            <a:pt x="243" y="2190"/>
                          </a:lnTo>
                          <a:lnTo>
                            <a:pt x="251" y="2192"/>
                          </a:lnTo>
                          <a:lnTo>
                            <a:pt x="257" y="2194"/>
                          </a:lnTo>
                          <a:lnTo>
                            <a:pt x="264" y="2194"/>
                          </a:lnTo>
                          <a:lnTo>
                            <a:pt x="270" y="2196"/>
                          </a:lnTo>
                          <a:lnTo>
                            <a:pt x="276" y="2196"/>
                          </a:lnTo>
                          <a:lnTo>
                            <a:pt x="283" y="2197"/>
                          </a:lnTo>
                          <a:lnTo>
                            <a:pt x="291" y="2199"/>
                          </a:lnTo>
                          <a:lnTo>
                            <a:pt x="297" y="2199"/>
                          </a:lnTo>
                          <a:lnTo>
                            <a:pt x="304" y="2199"/>
                          </a:lnTo>
                          <a:lnTo>
                            <a:pt x="312" y="2199"/>
                          </a:lnTo>
                          <a:lnTo>
                            <a:pt x="320" y="2201"/>
                          </a:lnTo>
                          <a:lnTo>
                            <a:pt x="325" y="2201"/>
                          </a:lnTo>
                          <a:lnTo>
                            <a:pt x="333" y="2201"/>
                          </a:lnTo>
                          <a:lnTo>
                            <a:pt x="341" y="2201"/>
                          </a:lnTo>
                          <a:lnTo>
                            <a:pt x="348" y="2201"/>
                          </a:lnTo>
                          <a:lnTo>
                            <a:pt x="356" y="2201"/>
                          </a:lnTo>
                          <a:lnTo>
                            <a:pt x="363" y="2201"/>
                          </a:lnTo>
                          <a:lnTo>
                            <a:pt x="371" y="2201"/>
                          </a:lnTo>
                          <a:lnTo>
                            <a:pt x="379" y="2201"/>
                          </a:lnTo>
                          <a:lnTo>
                            <a:pt x="386" y="2201"/>
                          </a:lnTo>
                          <a:lnTo>
                            <a:pt x="394" y="2201"/>
                          </a:lnTo>
                          <a:lnTo>
                            <a:pt x="401" y="2199"/>
                          </a:lnTo>
                          <a:lnTo>
                            <a:pt x="409" y="2199"/>
                          </a:lnTo>
                          <a:lnTo>
                            <a:pt x="415" y="2197"/>
                          </a:lnTo>
                          <a:lnTo>
                            <a:pt x="422" y="2196"/>
                          </a:lnTo>
                          <a:lnTo>
                            <a:pt x="432" y="2196"/>
                          </a:lnTo>
                          <a:lnTo>
                            <a:pt x="439" y="2194"/>
                          </a:lnTo>
                          <a:lnTo>
                            <a:pt x="447" y="2192"/>
                          </a:lnTo>
                          <a:lnTo>
                            <a:pt x="455" y="2190"/>
                          </a:lnTo>
                          <a:lnTo>
                            <a:pt x="462" y="2188"/>
                          </a:lnTo>
                          <a:lnTo>
                            <a:pt x="470" y="2188"/>
                          </a:lnTo>
                          <a:lnTo>
                            <a:pt x="476" y="2184"/>
                          </a:lnTo>
                          <a:lnTo>
                            <a:pt x="483" y="2182"/>
                          </a:lnTo>
                          <a:lnTo>
                            <a:pt x="491" y="2180"/>
                          </a:lnTo>
                          <a:lnTo>
                            <a:pt x="498" y="2175"/>
                          </a:lnTo>
                          <a:lnTo>
                            <a:pt x="504" y="2173"/>
                          </a:lnTo>
                          <a:lnTo>
                            <a:pt x="512" y="2169"/>
                          </a:lnTo>
                          <a:lnTo>
                            <a:pt x="517" y="2165"/>
                          </a:lnTo>
                          <a:lnTo>
                            <a:pt x="525" y="2161"/>
                          </a:lnTo>
                          <a:lnTo>
                            <a:pt x="531" y="2158"/>
                          </a:lnTo>
                          <a:lnTo>
                            <a:pt x="536" y="2154"/>
                          </a:lnTo>
                          <a:lnTo>
                            <a:pt x="542" y="2150"/>
                          </a:lnTo>
                          <a:lnTo>
                            <a:pt x="550" y="2146"/>
                          </a:lnTo>
                          <a:lnTo>
                            <a:pt x="555" y="2142"/>
                          </a:lnTo>
                          <a:lnTo>
                            <a:pt x="559" y="2137"/>
                          </a:lnTo>
                          <a:lnTo>
                            <a:pt x="565" y="2133"/>
                          </a:lnTo>
                          <a:lnTo>
                            <a:pt x="571" y="2129"/>
                          </a:lnTo>
                          <a:lnTo>
                            <a:pt x="576" y="2123"/>
                          </a:lnTo>
                          <a:lnTo>
                            <a:pt x="582" y="2120"/>
                          </a:lnTo>
                          <a:lnTo>
                            <a:pt x="588" y="2114"/>
                          </a:lnTo>
                          <a:lnTo>
                            <a:pt x="592" y="2110"/>
                          </a:lnTo>
                          <a:lnTo>
                            <a:pt x="595" y="2106"/>
                          </a:lnTo>
                          <a:lnTo>
                            <a:pt x="601" y="2101"/>
                          </a:lnTo>
                          <a:lnTo>
                            <a:pt x="605" y="2095"/>
                          </a:lnTo>
                          <a:lnTo>
                            <a:pt x="611" y="2091"/>
                          </a:lnTo>
                          <a:lnTo>
                            <a:pt x="614" y="2085"/>
                          </a:lnTo>
                          <a:lnTo>
                            <a:pt x="618" y="2080"/>
                          </a:lnTo>
                          <a:lnTo>
                            <a:pt x="624" y="2076"/>
                          </a:lnTo>
                          <a:lnTo>
                            <a:pt x="628" y="2070"/>
                          </a:lnTo>
                          <a:lnTo>
                            <a:pt x="632" y="2064"/>
                          </a:lnTo>
                          <a:lnTo>
                            <a:pt x="635" y="2059"/>
                          </a:lnTo>
                          <a:lnTo>
                            <a:pt x="637" y="2055"/>
                          </a:lnTo>
                          <a:lnTo>
                            <a:pt x="643" y="2049"/>
                          </a:lnTo>
                          <a:lnTo>
                            <a:pt x="645" y="2043"/>
                          </a:lnTo>
                          <a:lnTo>
                            <a:pt x="649" y="2040"/>
                          </a:lnTo>
                          <a:lnTo>
                            <a:pt x="652" y="2034"/>
                          </a:lnTo>
                          <a:lnTo>
                            <a:pt x="654" y="2030"/>
                          </a:lnTo>
                          <a:lnTo>
                            <a:pt x="658" y="2024"/>
                          </a:lnTo>
                          <a:lnTo>
                            <a:pt x="660" y="2021"/>
                          </a:lnTo>
                          <a:lnTo>
                            <a:pt x="664" y="2015"/>
                          </a:lnTo>
                          <a:lnTo>
                            <a:pt x="666" y="2011"/>
                          </a:lnTo>
                          <a:lnTo>
                            <a:pt x="668" y="2005"/>
                          </a:lnTo>
                          <a:lnTo>
                            <a:pt x="672" y="2002"/>
                          </a:lnTo>
                          <a:lnTo>
                            <a:pt x="673" y="1998"/>
                          </a:lnTo>
                          <a:lnTo>
                            <a:pt x="675" y="1992"/>
                          </a:lnTo>
                          <a:lnTo>
                            <a:pt x="677" y="1986"/>
                          </a:lnTo>
                          <a:lnTo>
                            <a:pt x="679" y="1983"/>
                          </a:lnTo>
                          <a:lnTo>
                            <a:pt x="681" y="1979"/>
                          </a:lnTo>
                          <a:lnTo>
                            <a:pt x="683" y="1975"/>
                          </a:lnTo>
                          <a:lnTo>
                            <a:pt x="685" y="1971"/>
                          </a:lnTo>
                          <a:lnTo>
                            <a:pt x="687" y="1969"/>
                          </a:lnTo>
                          <a:lnTo>
                            <a:pt x="689" y="1964"/>
                          </a:lnTo>
                          <a:lnTo>
                            <a:pt x="691" y="1962"/>
                          </a:lnTo>
                          <a:lnTo>
                            <a:pt x="692" y="1958"/>
                          </a:lnTo>
                          <a:lnTo>
                            <a:pt x="692" y="1954"/>
                          </a:lnTo>
                          <a:lnTo>
                            <a:pt x="692" y="1952"/>
                          </a:lnTo>
                          <a:lnTo>
                            <a:pt x="694" y="1950"/>
                          </a:lnTo>
                          <a:lnTo>
                            <a:pt x="696" y="1945"/>
                          </a:lnTo>
                          <a:lnTo>
                            <a:pt x="698" y="1941"/>
                          </a:lnTo>
                          <a:lnTo>
                            <a:pt x="700" y="1937"/>
                          </a:lnTo>
                          <a:lnTo>
                            <a:pt x="700" y="1935"/>
                          </a:lnTo>
                          <a:lnTo>
                            <a:pt x="700" y="1933"/>
                          </a:lnTo>
                          <a:lnTo>
                            <a:pt x="702" y="1933"/>
                          </a:lnTo>
                          <a:lnTo>
                            <a:pt x="740" y="1943"/>
                          </a:lnTo>
                          <a:lnTo>
                            <a:pt x="740" y="1943"/>
                          </a:lnTo>
                          <a:lnTo>
                            <a:pt x="738" y="1945"/>
                          </a:lnTo>
                          <a:lnTo>
                            <a:pt x="738" y="1947"/>
                          </a:lnTo>
                          <a:lnTo>
                            <a:pt x="738" y="1950"/>
                          </a:lnTo>
                          <a:lnTo>
                            <a:pt x="738" y="1954"/>
                          </a:lnTo>
                          <a:lnTo>
                            <a:pt x="738" y="1958"/>
                          </a:lnTo>
                          <a:lnTo>
                            <a:pt x="736" y="1962"/>
                          </a:lnTo>
                          <a:lnTo>
                            <a:pt x="736" y="1964"/>
                          </a:lnTo>
                          <a:lnTo>
                            <a:pt x="736" y="1967"/>
                          </a:lnTo>
                          <a:lnTo>
                            <a:pt x="736" y="1971"/>
                          </a:lnTo>
                          <a:lnTo>
                            <a:pt x="736" y="1975"/>
                          </a:lnTo>
                          <a:lnTo>
                            <a:pt x="736" y="1979"/>
                          </a:lnTo>
                          <a:lnTo>
                            <a:pt x="736" y="1983"/>
                          </a:lnTo>
                          <a:lnTo>
                            <a:pt x="736" y="1985"/>
                          </a:lnTo>
                          <a:lnTo>
                            <a:pt x="736" y="1990"/>
                          </a:lnTo>
                          <a:lnTo>
                            <a:pt x="736" y="1994"/>
                          </a:lnTo>
                          <a:lnTo>
                            <a:pt x="736" y="1998"/>
                          </a:lnTo>
                          <a:lnTo>
                            <a:pt x="736" y="2004"/>
                          </a:lnTo>
                          <a:lnTo>
                            <a:pt x="736" y="2007"/>
                          </a:lnTo>
                          <a:lnTo>
                            <a:pt x="736" y="2013"/>
                          </a:lnTo>
                          <a:lnTo>
                            <a:pt x="736" y="2015"/>
                          </a:lnTo>
                          <a:lnTo>
                            <a:pt x="736" y="2021"/>
                          </a:lnTo>
                          <a:lnTo>
                            <a:pt x="736" y="2026"/>
                          </a:lnTo>
                          <a:lnTo>
                            <a:pt x="736" y="2030"/>
                          </a:lnTo>
                          <a:lnTo>
                            <a:pt x="736" y="2036"/>
                          </a:lnTo>
                          <a:lnTo>
                            <a:pt x="736" y="2042"/>
                          </a:lnTo>
                          <a:lnTo>
                            <a:pt x="736" y="2047"/>
                          </a:lnTo>
                          <a:lnTo>
                            <a:pt x="738" y="2051"/>
                          </a:lnTo>
                          <a:lnTo>
                            <a:pt x="738" y="2057"/>
                          </a:lnTo>
                          <a:lnTo>
                            <a:pt x="738" y="2062"/>
                          </a:lnTo>
                          <a:lnTo>
                            <a:pt x="740" y="2066"/>
                          </a:lnTo>
                          <a:lnTo>
                            <a:pt x="740" y="2072"/>
                          </a:lnTo>
                          <a:lnTo>
                            <a:pt x="742" y="2078"/>
                          </a:lnTo>
                          <a:lnTo>
                            <a:pt x="744" y="2083"/>
                          </a:lnTo>
                          <a:lnTo>
                            <a:pt x="744" y="2091"/>
                          </a:lnTo>
                          <a:lnTo>
                            <a:pt x="746" y="2095"/>
                          </a:lnTo>
                          <a:lnTo>
                            <a:pt x="748" y="2101"/>
                          </a:lnTo>
                          <a:lnTo>
                            <a:pt x="748" y="2106"/>
                          </a:lnTo>
                          <a:lnTo>
                            <a:pt x="751" y="2110"/>
                          </a:lnTo>
                          <a:lnTo>
                            <a:pt x="753" y="2118"/>
                          </a:lnTo>
                          <a:lnTo>
                            <a:pt x="753" y="2123"/>
                          </a:lnTo>
                          <a:lnTo>
                            <a:pt x="757" y="2129"/>
                          </a:lnTo>
                          <a:lnTo>
                            <a:pt x="759" y="2135"/>
                          </a:lnTo>
                          <a:lnTo>
                            <a:pt x="761" y="2139"/>
                          </a:lnTo>
                          <a:lnTo>
                            <a:pt x="765" y="2144"/>
                          </a:lnTo>
                          <a:lnTo>
                            <a:pt x="767" y="2150"/>
                          </a:lnTo>
                          <a:lnTo>
                            <a:pt x="769" y="2156"/>
                          </a:lnTo>
                          <a:lnTo>
                            <a:pt x="772" y="2159"/>
                          </a:lnTo>
                          <a:lnTo>
                            <a:pt x="776" y="2165"/>
                          </a:lnTo>
                          <a:lnTo>
                            <a:pt x="780" y="2171"/>
                          </a:lnTo>
                          <a:lnTo>
                            <a:pt x="782" y="2175"/>
                          </a:lnTo>
                          <a:lnTo>
                            <a:pt x="786" y="2180"/>
                          </a:lnTo>
                          <a:lnTo>
                            <a:pt x="789" y="2186"/>
                          </a:lnTo>
                          <a:lnTo>
                            <a:pt x="795" y="2190"/>
                          </a:lnTo>
                          <a:lnTo>
                            <a:pt x="799" y="2196"/>
                          </a:lnTo>
                          <a:lnTo>
                            <a:pt x="805" y="2201"/>
                          </a:lnTo>
                          <a:lnTo>
                            <a:pt x="808" y="2205"/>
                          </a:lnTo>
                          <a:lnTo>
                            <a:pt x="814" y="2209"/>
                          </a:lnTo>
                          <a:lnTo>
                            <a:pt x="818" y="2213"/>
                          </a:lnTo>
                          <a:lnTo>
                            <a:pt x="824" y="2216"/>
                          </a:lnTo>
                          <a:lnTo>
                            <a:pt x="828" y="2222"/>
                          </a:lnTo>
                          <a:lnTo>
                            <a:pt x="833" y="2224"/>
                          </a:lnTo>
                          <a:lnTo>
                            <a:pt x="839" y="2228"/>
                          </a:lnTo>
                          <a:lnTo>
                            <a:pt x="845" y="2232"/>
                          </a:lnTo>
                          <a:lnTo>
                            <a:pt x="848" y="2235"/>
                          </a:lnTo>
                          <a:lnTo>
                            <a:pt x="854" y="2239"/>
                          </a:lnTo>
                          <a:lnTo>
                            <a:pt x="858" y="2243"/>
                          </a:lnTo>
                          <a:lnTo>
                            <a:pt x="864" y="2245"/>
                          </a:lnTo>
                          <a:lnTo>
                            <a:pt x="867" y="2249"/>
                          </a:lnTo>
                          <a:lnTo>
                            <a:pt x="873" y="2253"/>
                          </a:lnTo>
                          <a:lnTo>
                            <a:pt x="877" y="2256"/>
                          </a:lnTo>
                          <a:lnTo>
                            <a:pt x="883" y="2258"/>
                          </a:lnTo>
                          <a:lnTo>
                            <a:pt x="890" y="2260"/>
                          </a:lnTo>
                          <a:lnTo>
                            <a:pt x="896" y="2264"/>
                          </a:lnTo>
                          <a:lnTo>
                            <a:pt x="900" y="2266"/>
                          </a:lnTo>
                          <a:lnTo>
                            <a:pt x="904" y="2268"/>
                          </a:lnTo>
                          <a:lnTo>
                            <a:pt x="907" y="2270"/>
                          </a:lnTo>
                          <a:lnTo>
                            <a:pt x="913" y="2273"/>
                          </a:lnTo>
                          <a:lnTo>
                            <a:pt x="919" y="2275"/>
                          </a:lnTo>
                          <a:lnTo>
                            <a:pt x="925" y="2277"/>
                          </a:lnTo>
                          <a:lnTo>
                            <a:pt x="928" y="2279"/>
                          </a:lnTo>
                          <a:lnTo>
                            <a:pt x="934" y="2281"/>
                          </a:lnTo>
                          <a:lnTo>
                            <a:pt x="938" y="2283"/>
                          </a:lnTo>
                          <a:lnTo>
                            <a:pt x="942" y="2285"/>
                          </a:lnTo>
                          <a:lnTo>
                            <a:pt x="947" y="2287"/>
                          </a:lnTo>
                          <a:lnTo>
                            <a:pt x="951" y="2289"/>
                          </a:lnTo>
                          <a:lnTo>
                            <a:pt x="955" y="2289"/>
                          </a:lnTo>
                          <a:lnTo>
                            <a:pt x="961" y="2291"/>
                          </a:lnTo>
                          <a:lnTo>
                            <a:pt x="964" y="2291"/>
                          </a:lnTo>
                          <a:lnTo>
                            <a:pt x="968" y="2294"/>
                          </a:lnTo>
                          <a:lnTo>
                            <a:pt x="972" y="2294"/>
                          </a:lnTo>
                          <a:lnTo>
                            <a:pt x="978" y="2294"/>
                          </a:lnTo>
                          <a:lnTo>
                            <a:pt x="982" y="2296"/>
                          </a:lnTo>
                          <a:lnTo>
                            <a:pt x="985" y="2296"/>
                          </a:lnTo>
                          <a:lnTo>
                            <a:pt x="989" y="2296"/>
                          </a:lnTo>
                          <a:lnTo>
                            <a:pt x="993" y="2298"/>
                          </a:lnTo>
                          <a:lnTo>
                            <a:pt x="997" y="2298"/>
                          </a:lnTo>
                          <a:lnTo>
                            <a:pt x="1001" y="2298"/>
                          </a:lnTo>
                          <a:lnTo>
                            <a:pt x="1004" y="2298"/>
                          </a:lnTo>
                          <a:lnTo>
                            <a:pt x="1008" y="2300"/>
                          </a:lnTo>
                          <a:lnTo>
                            <a:pt x="1010" y="2300"/>
                          </a:lnTo>
                          <a:lnTo>
                            <a:pt x="1014" y="2300"/>
                          </a:lnTo>
                          <a:lnTo>
                            <a:pt x="1016" y="2300"/>
                          </a:lnTo>
                          <a:lnTo>
                            <a:pt x="1020" y="2300"/>
                          </a:lnTo>
                          <a:lnTo>
                            <a:pt x="1022" y="2300"/>
                          </a:lnTo>
                          <a:lnTo>
                            <a:pt x="1025" y="2302"/>
                          </a:lnTo>
                          <a:lnTo>
                            <a:pt x="1029" y="2300"/>
                          </a:lnTo>
                          <a:lnTo>
                            <a:pt x="1035" y="2300"/>
                          </a:lnTo>
                          <a:lnTo>
                            <a:pt x="1039" y="2298"/>
                          </a:lnTo>
                          <a:lnTo>
                            <a:pt x="1042" y="2298"/>
                          </a:lnTo>
                          <a:lnTo>
                            <a:pt x="1044" y="2296"/>
                          </a:lnTo>
                          <a:lnTo>
                            <a:pt x="1048" y="2296"/>
                          </a:lnTo>
                          <a:lnTo>
                            <a:pt x="1048" y="2294"/>
                          </a:lnTo>
                          <a:lnTo>
                            <a:pt x="1050" y="2294"/>
                          </a:lnTo>
                          <a:lnTo>
                            <a:pt x="1246" y="1334"/>
                          </a:lnTo>
                          <a:lnTo>
                            <a:pt x="1246" y="1333"/>
                          </a:lnTo>
                          <a:lnTo>
                            <a:pt x="1248" y="1331"/>
                          </a:lnTo>
                          <a:lnTo>
                            <a:pt x="1250" y="1327"/>
                          </a:lnTo>
                          <a:lnTo>
                            <a:pt x="1252" y="1325"/>
                          </a:lnTo>
                          <a:lnTo>
                            <a:pt x="1252" y="1323"/>
                          </a:lnTo>
                          <a:lnTo>
                            <a:pt x="1254" y="1319"/>
                          </a:lnTo>
                          <a:lnTo>
                            <a:pt x="1256" y="1315"/>
                          </a:lnTo>
                          <a:lnTo>
                            <a:pt x="1259" y="1312"/>
                          </a:lnTo>
                          <a:lnTo>
                            <a:pt x="1259" y="1306"/>
                          </a:lnTo>
                          <a:lnTo>
                            <a:pt x="1263" y="1302"/>
                          </a:lnTo>
                          <a:lnTo>
                            <a:pt x="1265" y="1296"/>
                          </a:lnTo>
                          <a:lnTo>
                            <a:pt x="1269" y="1293"/>
                          </a:lnTo>
                          <a:lnTo>
                            <a:pt x="1271" y="1285"/>
                          </a:lnTo>
                          <a:lnTo>
                            <a:pt x="1275" y="1281"/>
                          </a:lnTo>
                          <a:lnTo>
                            <a:pt x="1276" y="1274"/>
                          </a:lnTo>
                          <a:lnTo>
                            <a:pt x="1280" y="1266"/>
                          </a:lnTo>
                          <a:lnTo>
                            <a:pt x="1284" y="1258"/>
                          </a:lnTo>
                          <a:lnTo>
                            <a:pt x="1288" y="1249"/>
                          </a:lnTo>
                          <a:lnTo>
                            <a:pt x="1290" y="1241"/>
                          </a:lnTo>
                          <a:lnTo>
                            <a:pt x="1294" y="1234"/>
                          </a:lnTo>
                          <a:lnTo>
                            <a:pt x="1297" y="1224"/>
                          </a:lnTo>
                          <a:lnTo>
                            <a:pt x="1301" y="1217"/>
                          </a:lnTo>
                          <a:lnTo>
                            <a:pt x="1305" y="1207"/>
                          </a:lnTo>
                          <a:lnTo>
                            <a:pt x="1309" y="1198"/>
                          </a:lnTo>
                          <a:lnTo>
                            <a:pt x="1313" y="1188"/>
                          </a:lnTo>
                          <a:lnTo>
                            <a:pt x="1316" y="1177"/>
                          </a:lnTo>
                          <a:lnTo>
                            <a:pt x="1320" y="1165"/>
                          </a:lnTo>
                          <a:lnTo>
                            <a:pt x="1324" y="1154"/>
                          </a:lnTo>
                          <a:lnTo>
                            <a:pt x="1330" y="1144"/>
                          </a:lnTo>
                          <a:lnTo>
                            <a:pt x="1334" y="1133"/>
                          </a:lnTo>
                          <a:lnTo>
                            <a:pt x="1337" y="1122"/>
                          </a:lnTo>
                          <a:lnTo>
                            <a:pt x="1339" y="1108"/>
                          </a:lnTo>
                          <a:lnTo>
                            <a:pt x="1345" y="1097"/>
                          </a:lnTo>
                          <a:lnTo>
                            <a:pt x="1349" y="1084"/>
                          </a:lnTo>
                          <a:lnTo>
                            <a:pt x="1353" y="1070"/>
                          </a:lnTo>
                          <a:lnTo>
                            <a:pt x="1354" y="1059"/>
                          </a:lnTo>
                          <a:lnTo>
                            <a:pt x="1358" y="1044"/>
                          </a:lnTo>
                          <a:lnTo>
                            <a:pt x="1362" y="1032"/>
                          </a:lnTo>
                          <a:lnTo>
                            <a:pt x="1366" y="1017"/>
                          </a:lnTo>
                          <a:lnTo>
                            <a:pt x="1370" y="1004"/>
                          </a:lnTo>
                          <a:lnTo>
                            <a:pt x="1372" y="988"/>
                          </a:lnTo>
                          <a:lnTo>
                            <a:pt x="1375" y="975"/>
                          </a:lnTo>
                          <a:lnTo>
                            <a:pt x="1377" y="960"/>
                          </a:lnTo>
                          <a:lnTo>
                            <a:pt x="1381" y="947"/>
                          </a:lnTo>
                          <a:lnTo>
                            <a:pt x="1383" y="931"/>
                          </a:lnTo>
                          <a:lnTo>
                            <a:pt x="1387" y="916"/>
                          </a:lnTo>
                          <a:lnTo>
                            <a:pt x="1389" y="901"/>
                          </a:lnTo>
                          <a:lnTo>
                            <a:pt x="1391" y="886"/>
                          </a:lnTo>
                          <a:lnTo>
                            <a:pt x="1392" y="871"/>
                          </a:lnTo>
                          <a:lnTo>
                            <a:pt x="1394" y="855"/>
                          </a:lnTo>
                          <a:lnTo>
                            <a:pt x="1396" y="838"/>
                          </a:lnTo>
                          <a:lnTo>
                            <a:pt x="1398" y="823"/>
                          </a:lnTo>
                          <a:lnTo>
                            <a:pt x="1398" y="806"/>
                          </a:lnTo>
                          <a:lnTo>
                            <a:pt x="1400" y="791"/>
                          </a:lnTo>
                          <a:lnTo>
                            <a:pt x="1402" y="774"/>
                          </a:lnTo>
                          <a:lnTo>
                            <a:pt x="1402" y="757"/>
                          </a:lnTo>
                          <a:lnTo>
                            <a:pt x="1402" y="741"/>
                          </a:lnTo>
                          <a:lnTo>
                            <a:pt x="1402" y="724"/>
                          </a:lnTo>
                          <a:lnTo>
                            <a:pt x="1402" y="705"/>
                          </a:lnTo>
                          <a:lnTo>
                            <a:pt x="1402" y="690"/>
                          </a:lnTo>
                          <a:lnTo>
                            <a:pt x="1400" y="673"/>
                          </a:lnTo>
                          <a:lnTo>
                            <a:pt x="1400" y="656"/>
                          </a:lnTo>
                          <a:lnTo>
                            <a:pt x="1398" y="654"/>
                          </a:lnTo>
                          <a:lnTo>
                            <a:pt x="1398" y="652"/>
                          </a:lnTo>
                          <a:lnTo>
                            <a:pt x="1398" y="648"/>
                          </a:lnTo>
                          <a:lnTo>
                            <a:pt x="1398" y="644"/>
                          </a:lnTo>
                          <a:lnTo>
                            <a:pt x="1398" y="643"/>
                          </a:lnTo>
                          <a:lnTo>
                            <a:pt x="1398" y="639"/>
                          </a:lnTo>
                          <a:lnTo>
                            <a:pt x="1396" y="637"/>
                          </a:lnTo>
                          <a:lnTo>
                            <a:pt x="1396" y="633"/>
                          </a:lnTo>
                          <a:lnTo>
                            <a:pt x="1396" y="631"/>
                          </a:lnTo>
                          <a:lnTo>
                            <a:pt x="1396" y="627"/>
                          </a:lnTo>
                          <a:lnTo>
                            <a:pt x="1396" y="623"/>
                          </a:lnTo>
                          <a:lnTo>
                            <a:pt x="1394" y="620"/>
                          </a:lnTo>
                          <a:lnTo>
                            <a:pt x="1394" y="618"/>
                          </a:lnTo>
                          <a:lnTo>
                            <a:pt x="1394" y="616"/>
                          </a:lnTo>
                          <a:lnTo>
                            <a:pt x="1392" y="612"/>
                          </a:lnTo>
                          <a:lnTo>
                            <a:pt x="1392" y="610"/>
                          </a:lnTo>
                          <a:lnTo>
                            <a:pt x="1392" y="608"/>
                          </a:lnTo>
                          <a:lnTo>
                            <a:pt x="1391" y="604"/>
                          </a:lnTo>
                          <a:lnTo>
                            <a:pt x="1391" y="603"/>
                          </a:lnTo>
                          <a:lnTo>
                            <a:pt x="1391" y="599"/>
                          </a:lnTo>
                          <a:lnTo>
                            <a:pt x="1389" y="597"/>
                          </a:lnTo>
                          <a:lnTo>
                            <a:pt x="1389" y="593"/>
                          </a:lnTo>
                          <a:lnTo>
                            <a:pt x="1389" y="589"/>
                          </a:lnTo>
                          <a:lnTo>
                            <a:pt x="1389" y="587"/>
                          </a:lnTo>
                          <a:lnTo>
                            <a:pt x="1387" y="585"/>
                          </a:lnTo>
                          <a:lnTo>
                            <a:pt x="1385" y="582"/>
                          </a:lnTo>
                          <a:lnTo>
                            <a:pt x="1385" y="580"/>
                          </a:lnTo>
                          <a:lnTo>
                            <a:pt x="1383" y="578"/>
                          </a:lnTo>
                          <a:lnTo>
                            <a:pt x="1383" y="572"/>
                          </a:lnTo>
                          <a:lnTo>
                            <a:pt x="1381" y="568"/>
                          </a:lnTo>
                          <a:lnTo>
                            <a:pt x="1377" y="563"/>
                          </a:lnTo>
                          <a:lnTo>
                            <a:pt x="1375" y="557"/>
                          </a:lnTo>
                          <a:lnTo>
                            <a:pt x="1373" y="553"/>
                          </a:lnTo>
                          <a:lnTo>
                            <a:pt x="1370" y="547"/>
                          </a:lnTo>
                          <a:lnTo>
                            <a:pt x="1366" y="544"/>
                          </a:lnTo>
                          <a:lnTo>
                            <a:pt x="1364" y="540"/>
                          </a:lnTo>
                          <a:lnTo>
                            <a:pt x="1360" y="536"/>
                          </a:lnTo>
                          <a:lnTo>
                            <a:pt x="1356" y="532"/>
                          </a:lnTo>
                          <a:lnTo>
                            <a:pt x="1353" y="528"/>
                          </a:lnTo>
                          <a:lnTo>
                            <a:pt x="1349" y="525"/>
                          </a:lnTo>
                          <a:lnTo>
                            <a:pt x="1345" y="523"/>
                          </a:lnTo>
                          <a:lnTo>
                            <a:pt x="1339" y="521"/>
                          </a:lnTo>
                          <a:lnTo>
                            <a:pt x="1335" y="517"/>
                          </a:lnTo>
                          <a:lnTo>
                            <a:pt x="1332" y="515"/>
                          </a:lnTo>
                          <a:lnTo>
                            <a:pt x="1326" y="515"/>
                          </a:lnTo>
                          <a:lnTo>
                            <a:pt x="1322" y="513"/>
                          </a:lnTo>
                          <a:lnTo>
                            <a:pt x="1318" y="511"/>
                          </a:lnTo>
                          <a:lnTo>
                            <a:pt x="1316" y="511"/>
                          </a:lnTo>
                          <a:lnTo>
                            <a:pt x="1313" y="511"/>
                          </a:lnTo>
                          <a:lnTo>
                            <a:pt x="1311" y="511"/>
                          </a:lnTo>
                          <a:lnTo>
                            <a:pt x="1309" y="509"/>
                          </a:lnTo>
                          <a:lnTo>
                            <a:pt x="1305" y="509"/>
                          </a:lnTo>
                          <a:lnTo>
                            <a:pt x="1303" y="509"/>
                          </a:lnTo>
                          <a:lnTo>
                            <a:pt x="1301" y="509"/>
                          </a:lnTo>
                          <a:lnTo>
                            <a:pt x="1297" y="509"/>
                          </a:lnTo>
                          <a:lnTo>
                            <a:pt x="1295" y="509"/>
                          </a:lnTo>
                          <a:lnTo>
                            <a:pt x="1292" y="509"/>
                          </a:lnTo>
                          <a:lnTo>
                            <a:pt x="1290" y="509"/>
                          </a:lnTo>
                          <a:lnTo>
                            <a:pt x="1284" y="509"/>
                          </a:lnTo>
                          <a:lnTo>
                            <a:pt x="1280" y="509"/>
                          </a:lnTo>
                          <a:lnTo>
                            <a:pt x="1275" y="509"/>
                          </a:lnTo>
                          <a:lnTo>
                            <a:pt x="1269" y="509"/>
                          </a:lnTo>
                          <a:lnTo>
                            <a:pt x="1265" y="509"/>
                          </a:lnTo>
                          <a:lnTo>
                            <a:pt x="1259" y="509"/>
                          </a:lnTo>
                          <a:lnTo>
                            <a:pt x="1256" y="511"/>
                          </a:lnTo>
                          <a:lnTo>
                            <a:pt x="1252" y="511"/>
                          </a:lnTo>
                          <a:lnTo>
                            <a:pt x="1246" y="515"/>
                          </a:lnTo>
                          <a:lnTo>
                            <a:pt x="1242" y="515"/>
                          </a:lnTo>
                          <a:lnTo>
                            <a:pt x="1238" y="517"/>
                          </a:lnTo>
                          <a:lnTo>
                            <a:pt x="1235" y="521"/>
                          </a:lnTo>
                          <a:lnTo>
                            <a:pt x="1231" y="523"/>
                          </a:lnTo>
                          <a:lnTo>
                            <a:pt x="1229" y="525"/>
                          </a:lnTo>
                          <a:lnTo>
                            <a:pt x="1225" y="527"/>
                          </a:lnTo>
                          <a:lnTo>
                            <a:pt x="1221" y="530"/>
                          </a:lnTo>
                          <a:lnTo>
                            <a:pt x="1219" y="532"/>
                          </a:lnTo>
                          <a:lnTo>
                            <a:pt x="1216" y="538"/>
                          </a:lnTo>
                          <a:lnTo>
                            <a:pt x="1214" y="542"/>
                          </a:lnTo>
                          <a:lnTo>
                            <a:pt x="1212" y="546"/>
                          </a:lnTo>
                          <a:lnTo>
                            <a:pt x="1210" y="549"/>
                          </a:lnTo>
                          <a:lnTo>
                            <a:pt x="1208" y="555"/>
                          </a:lnTo>
                          <a:lnTo>
                            <a:pt x="1208" y="557"/>
                          </a:lnTo>
                          <a:lnTo>
                            <a:pt x="1206" y="559"/>
                          </a:lnTo>
                          <a:lnTo>
                            <a:pt x="1204" y="561"/>
                          </a:lnTo>
                          <a:lnTo>
                            <a:pt x="1204" y="565"/>
                          </a:lnTo>
                          <a:lnTo>
                            <a:pt x="1204" y="566"/>
                          </a:lnTo>
                          <a:lnTo>
                            <a:pt x="1204" y="570"/>
                          </a:lnTo>
                          <a:lnTo>
                            <a:pt x="1204" y="572"/>
                          </a:lnTo>
                          <a:lnTo>
                            <a:pt x="1204" y="576"/>
                          </a:lnTo>
                          <a:lnTo>
                            <a:pt x="1139" y="895"/>
                          </a:lnTo>
                          <a:lnTo>
                            <a:pt x="1136" y="893"/>
                          </a:lnTo>
                          <a:lnTo>
                            <a:pt x="1132" y="892"/>
                          </a:lnTo>
                          <a:lnTo>
                            <a:pt x="1126" y="888"/>
                          </a:lnTo>
                          <a:lnTo>
                            <a:pt x="1122" y="886"/>
                          </a:lnTo>
                          <a:lnTo>
                            <a:pt x="1117" y="884"/>
                          </a:lnTo>
                          <a:lnTo>
                            <a:pt x="1113" y="880"/>
                          </a:lnTo>
                          <a:lnTo>
                            <a:pt x="1107" y="878"/>
                          </a:lnTo>
                          <a:lnTo>
                            <a:pt x="1105" y="876"/>
                          </a:lnTo>
                          <a:lnTo>
                            <a:pt x="1227" y="316"/>
                          </a:lnTo>
                          <a:lnTo>
                            <a:pt x="1227" y="312"/>
                          </a:lnTo>
                          <a:lnTo>
                            <a:pt x="1227" y="308"/>
                          </a:lnTo>
                          <a:lnTo>
                            <a:pt x="1229" y="306"/>
                          </a:lnTo>
                          <a:lnTo>
                            <a:pt x="1229" y="304"/>
                          </a:lnTo>
                          <a:lnTo>
                            <a:pt x="1229" y="300"/>
                          </a:lnTo>
                          <a:lnTo>
                            <a:pt x="1229" y="298"/>
                          </a:lnTo>
                          <a:lnTo>
                            <a:pt x="1229" y="295"/>
                          </a:lnTo>
                          <a:lnTo>
                            <a:pt x="1229" y="293"/>
                          </a:lnTo>
                          <a:lnTo>
                            <a:pt x="1229" y="291"/>
                          </a:lnTo>
                          <a:lnTo>
                            <a:pt x="1229" y="287"/>
                          </a:lnTo>
                          <a:lnTo>
                            <a:pt x="1229" y="285"/>
                          </a:lnTo>
                          <a:lnTo>
                            <a:pt x="1229" y="283"/>
                          </a:lnTo>
                          <a:lnTo>
                            <a:pt x="1229" y="278"/>
                          </a:lnTo>
                          <a:lnTo>
                            <a:pt x="1227" y="272"/>
                          </a:lnTo>
                          <a:lnTo>
                            <a:pt x="1225" y="268"/>
                          </a:lnTo>
                          <a:lnTo>
                            <a:pt x="1225" y="262"/>
                          </a:lnTo>
                          <a:lnTo>
                            <a:pt x="1223" y="257"/>
                          </a:lnTo>
                          <a:lnTo>
                            <a:pt x="1221" y="253"/>
                          </a:lnTo>
                          <a:lnTo>
                            <a:pt x="1219" y="247"/>
                          </a:lnTo>
                          <a:lnTo>
                            <a:pt x="1217" y="243"/>
                          </a:lnTo>
                          <a:lnTo>
                            <a:pt x="1216" y="240"/>
                          </a:lnTo>
                          <a:lnTo>
                            <a:pt x="1214" y="236"/>
                          </a:lnTo>
                          <a:lnTo>
                            <a:pt x="1210" y="232"/>
                          </a:lnTo>
                          <a:lnTo>
                            <a:pt x="1206" y="226"/>
                          </a:lnTo>
                          <a:lnTo>
                            <a:pt x="1202" y="222"/>
                          </a:lnTo>
                          <a:lnTo>
                            <a:pt x="1200" y="219"/>
                          </a:lnTo>
                          <a:lnTo>
                            <a:pt x="1197" y="215"/>
                          </a:lnTo>
                          <a:lnTo>
                            <a:pt x="1193" y="211"/>
                          </a:lnTo>
                          <a:lnTo>
                            <a:pt x="1189" y="207"/>
                          </a:lnTo>
                          <a:lnTo>
                            <a:pt x="1185" y="205"/>
                          </a:lnTo>
                          <a:lnTo>
                            <a:pt x="1179" y="203"/>
                          </a:lnTo>
                          <a:lnTo>
                            <a:pt x="1176" y="200"/>
                          </a:lnTo>
                          <a:lnTo>
                            <a:pt x="1172" y="198"/>
                          </a:lnTo>
                          <a:lnTo>
                            <a:pt x="1166" y="194"/>
                          </a:lnTo>
                          <a:lnTo>
                            <a:pt x="1160" y="192"/>
                          </a:lnTo>
                          <a:lnTo>
                            <a:pt x="1157" y="192"/>
                          </a:lnTo>
                          <a:lnTo>
                            <a:pt x="1151" y="190"/>
                          </a:lnTo>
                          <a:lnTo>
                            <a:pt x="1147" y="190"/>
                          </a:lnTo>
                          <a:lnTo>
                            <a:pt x="1143" y="188"/>
                          </a:lnTo>
                          <a:lnTo>
                            <a:pt x="1141" y="186"/>
                          </a:lnTo>
                          <a:lnTo>
                            <a:pt x="1138" y="186"/>
                          </a:lnTo>
                          <a:lnTo>
                            <a:pt x="1136" y="186"/>
                          </a:lnTo>
                          <a:lnTo>
                            <a:pt x="1134" y="186"/>
                          </a:lnTo>
                          <a:lnTo>
                            <a:pt x="1130" y="186"/>
                          </a:lnTo>
                          <a:lnTo>
                            <a:pt x="1128" y="186"/>
                          </a:lnTo>
                          <a:lnTo>
                            <a:pt x="1124" y="186"/>
                          </a:lnTo>
                          <a:lnTo>
                            <a:pt x="1122" y="186"/>
                          </a:lnTo>
                          <a:lnTo>
                            <a:pt x="1120" y="186"/>
                          </a:lnTo>
                          <a:lnTo>
                            <a:pt x="1117" y="186"/>
                          </a:lnTo>
                          <a:lnTo>
                            <a:pt x="1115" y="186"/>
                          </a:lnTo>
                          <a:lnTo>
                            <a:pt x="1109" y="186"/>
                          </a:lnTo>
                          <a:lnTo>
                            <a:pt x="1105" y="188"/>
                          </a:lnTo>
                          <a:lnTo>
                            <a:pt x="1100" y="188"/>
                          </a:lnTo>
                          <a:lnTo>
                            <a:pt x="1094" y="190"/>
                          </a:lnTo>
                          <a:lnTo>
                            <a:pt x="1090" y="192"/>
                          </a:lnTo>
                          <a:lnTo>
                            <a:pt x="1086" y="192"/>
                          </a:lnTo>
                          <a:lnTo>
                            <a:pt x="1081" y="194"/>
                          </a:lnTo>
                          <a:lnTo>
                            <a:pt x="1077" y="198"/>
                          </a:lnTo>
                          <a:lnTo>
                            <a:pt x="1073" y="200"/>
                          </a:lnTo>
                          <a:lnTo>
                            <a:pt x="1067" y="203"/>
                          </a:lnTo>
                          <a:lnTo>
                            <a:pt x="1063" y="205"/>
                          </a:lnTo>
                          <a:lnTo>
                            <a:pt x="1058" y="207"/>
                          </a:lnTo>
                          <a:lnTo>
                            <a:pt x="1054" y="211"/>
                          </a:lnTo>
                          <a:lnTo>
                            <a:pt x="1050" y="215"/>
                          </a:lnTo>
                          <a:lnTo>
                            <a:pt x="1048" y="219"/>
                          </a:lnTo>
                          <a:lnTo>
                            <a:pt x="1044" y="222"/>
                          </a:lnTo>
                          <a:lnTo>
                            <a:pt x="1041" y="226"/>
                          </a:lnTo>
                          <a:lnTo>
                            <a:pt x="1039" y="232"/>
                          </a:lnTo>
                          <a:lnTo>
                            <a:pt x="1035" y="234"/>
                          </a:lnTo>
                          <a:lnTo>
                            <a:pt x="1033" y="240"/>
                          </a:lnTo>
                          <a:lnTo>
                            <a:pt x="1029" y="243"/>
                          </a:lnTo>
                          <a:lnTo>
                            <a:pt x="1027" y="249"/>
                          </a:lnTo>
                          <a:lnTo>
                            <a:pt x="1025" y="253"/>
                          </a:lnTo>
                          <a:lnTo>
                            <a:pt x="1023" y="259"/>
                          </a:lnTo>
                          <a:lnTo>
                            <a:pt x="1022" y="260"/>
                          </a:lnTo>
                          <a:lnTo>
                            <a:pt x="1022" y="264"/>
                          </a:lnTo>
                          <a:lnTo>
                            <a:pt x="1022" y="266"/>
                          </a:lnTo>
                          <a:lnTo>
                            <a:pt x="1022" y="270"/>
                          </a:lnTo>
                          <a:lnTo>
                            <a:pt x="919" y="730"/>
                          </a:lnTo>
                          <a:lnTo>
                            <a:pt x="915" y="728"/>
                          </a:lnTo>
                          <a:lnTo>
                            <a:pt x="913" y="726"/>
                          </a:lnTo>
                          <a:lnTo>
                            <a:pt x="907" y="724"/>
                          </a:lnTo>
                          <a:lnTo>
                            <a:pt x="905" y="720"/>
                          </a:lnTo>
                          <a:lnTo>
                            <a:pt x="904" y="719"/>
                          </a:lnTo>
                          <a:lnTo>
                            <a:pt x="900" y="717"/>
                          </a:lnTo>
                          <a:lnTo>
                            <a:pt x="896" y="713"/>
                          </a:lnTo>
                          <a:lnTo>
                            <a:pt x="892" y="713"/>
                          </a:lnTo>
                          <a:lnTo>
                            <a:pt x="1022" y="129"/>
                          </a:lnTo>
                          <a:lnTo>
                            <a:pt x="1022" y="125"/>
                          </a:lnTo>
                          <a:lnTo>
                            <a:pt x="1022" y="124"/>
                          </a:lnTo>
                          <a:lnTo>
                            <a:pt x="1022" y="120"/>
                          </a:lnTo>
                          <a:lnTo>
                            <a:pt x="1022" y="118"/>
                          </a:lnTo>
                          <a:lnTo>
                            <a:pt x="1022" y="114"/>
                          </a:lnTo>
                          <a:lnTo>
                            <a:pt x="1022" y="112"/>
                          </a:lnTo>
                          <a:lnTo>
                            <a:pt x="1022" y="110"/>
                          </a:lnTo>
                          <a:lnTo>
                            <a:pt x="1022" y="106"/>
                          </a:lnTo>
                          <a:lnTo>
                            <a:pt x="1022" y="105"/>
                          </a:lnTo>
                          <a:lnTo>
                            <a:pt x="1022" y="103"/>
                          </a:lnTo>
                          <a:lnTo>
                            <a:pt x="1022" y="99"/>
                          </a:lnTo>
                          <a:lnTo>
                            <a:pt x="1022" y="97"/>
                          </a:lnTo>
                          <a:lnTo>
                            <a:pt x="1022" y="91"/>
                          </a:lnTo>
                          <a:lnTo>
                            <a:pt x="1022" y="86"/>
                          </a:lnTo>
                          <a:lnTo>
                            <a:pt x="1020" y="82"/>
                          </a:lnTo>
                          <a:lnTo>
                            <a:pt x="1018" y="76"/>
                          </a:lnTo>
                          <a:lnTo>
                            <a:pt x="1016" y="70"/>
                          </a:lnTo>
                          <a:lnTo>
                            <a:pt x="1014" y="67"/>
                          </a:lnTo>
                          <a:lnTo>
                            <a:pt x="1012" y="61"/>
                          </a:lnTo>
                          <a:lnTo>
                            <a:pt x="1010" y="57"/>
                          </a:lnTo>
                          <a:lnTo>
                            <a:pt x="1008" y="53"/>
                          </a:lnTo>
                          <a:lnTo>
                            <a:pt x="1006" y="48"/>
                          </a:lnTo>
                          <a:lnTo>
                            <a:pt x="1004" y="44"/>
                          </a:lnTo>
                          <a:lnTo>
                            <a:pt x="1001" y="40"/>
                          </a:lnTo>
                          <a:lnTo>
                            <a:pt x="997" y="36"/>
                          </a:lnTo>
                          <a:lnTo>
                            <a:pt x="993" y="32"/>
                          </a:lnTo>
                          <a:lnTo>
                            <a:pt x="991" y="29"/>
                          </a:lnTo>
                          <a:lnTo>
                            <a:pt x="985" y="25"/>
                          </a:lnTo>
                          <a:lnTo>
                            <a:pt x="983" y="23"/>
                          </a:lnTo>
                          <a:lnTo>
                            <a:pt x="978" y="19"/>
                          </a:lnTo>
                          <a:lnTo>
                            <a:pt x="972" y="17"/>
                          </a:lnTo>
                          <a:lnTo>
                            <a:pt x="968" y="13"/>
                          </a:lnTo>
                          <a:lnTo>
                            <a:pt x="964" y="11"/>
                          </a:lnTo>
                          <a:lnTo>
                            <a:pt x="961" y="10"/>
                          </a:lnTo>
                          <a:lnTo>
                            <a:pt x="955" y="6"/>
                          </a:lnTo>
                          <a:lnTo>
                            <a:pt x="949" y="6"/>
                          </a:lnTo>
                          <a:lnTo>
                            <a:pt x="944" y="4"/>
                          </a:lnTo>
                          <a:lnTo>
                            <a:pt x="940" y="4"/>
                          </a:lnTo>
                          <a:lnTo>
                            <a:pt x="936" y="2"/>
                          </a:lnTo>
                          <a:lnTo>
                            <a:pt x="934" y="2"/>
                          </a:lnTo>
                          <a:lnTo>
                            <a:pt x="932" y="0"/>
                          </a:lnTo>
                          <a:lnTo>
                            <a:pt x="928" y="0"/>
                          </a:lnTo>
                          <a:lnTo>
                            <a:pt x="926" y="0"/>
                          </a:lnTo>
                          <a:lnTo>
                            <a:pt x="925" y="0"/>
                          </a:lnTo>
                          <a:lnTo>
                            <a:pt x="921" y="0"/>
                          </a:lnTo>
                          <a:lnTo>
                            <a:pt x="919" y="0"/>
                          </a:lnTo>
                          <a:lnTo>
                            <a:pt x="915" y="0"/>
                          </a:lnTo>
                          <a:lnTo>
                            <a:pt x="913" y="0"/>
                          </a:lnTo>
                          <a:lnTo>
                            <a:pt x="911" y="0"/>
                          </a:lnTo>
                          <a:lnTo>
                            <a:pt x="907" y="0"/>
                          </a:lnTo>
                          <a:lnTo>
                            <a:pt x="904" y="0"/>
                          </a:lnTo>
                          <a:lnTo>
                            <a:pt x="898" y="2"/>
                          </a:lnTo>
                          <a:lnTo>
                            <a:pt x="896" y="2"/>
                          </a:lnTo>
                          <a:lnTo>
                            <a:pt x="892" y="2"/>
                          </a:lnTo>
                          <a:lnTo>
                            <a:pt x="890" y="2"/>
                          </a:lnTo>
                          <a:lnTo>
                            <a:pt x="888" y="4"/>
                          </a:lnTo>
                          <a:lnTo>
                            <a:pt x="881" y="4"/>
                          </a:lnTo>
                          <a:lnTo>
                            <a:pt x="877" y="6"/>
                          </a:lnTo>
                          <a:lnTo>
                            <a:pt x="873" y="10"/>
                          </a:lnTo>
                          <a:lnTo>
                            <a:pt x="867" y="11"/>
                          </a:lnTo>
                          <a:lnTo>
                            <a:pt x="864" y="15"/>
                          </a:lnTo>
                          <a:lnTo>
                            <a:pt x="860" y="17"/>
                          </a:lnTo>
                          <a:lnTo>
                            <a:pt x="854" y="19"/>
                          </a:lnTo>
                          <a:lnTo>
                            <a:pt x="850" y="23"/>
                          </a:lnTo>
                          <a:lnTo>
                            <a:pt x="847" y="25"/>
                          </a:lnTo>
                          <a:lnTo>
                            <a:pt x="843" y="29"/>
                          </a:lnTo>
                          <a:lnTo>
                            <a:pt x="839" y="32"/>
                          </a:lnTo>
                          <a:lnTo>
                            <a:pt x="835" y="36"/>
                          </a:lnTo>
                          <a:lnTo>
                            <a:pt x="833" y="40"/>
                          </a:lnTo>
                          <a:lnTo>
                            <a:pt x="831" y="44"/>
                          </a:lnTo>
                          <a:lnTo>
                            <a:pt x="828" y="48"/>
                          </a:lnTo>
                          <a:lnTo>
                            <a:pt x="824" y="53"/>
                          </a:lnTo>
                          <a:lnTo>
                            <a:pt x="822" y="57"/>
                          </a:lnTo>
                          <a:lnTo>
                            <a:pt x="820" y="61"/>
                          </a:lnTo>
                          <a:lnTo>
                            <a:pt x="818" y="67"/>
                          </a:lnTo>
                          <a:lnTo>
                            <a:pt x="816" y="70"/>
                          </a:lnTo>
                          <a:lnTo>
                            <a:pt x="816" y="74"/>
                          </a:lnTo>
                          <a:lnTo>
                            <a:pt x="814" y="76"/>
                          </a:lnTo>
                          <a:lnTo>
                            <a:pt x="812" y="82"/>
                          </a:lnTo>
                          <a:lnTo>
                            <a:pt x="812" y="84"/>
                          </a:lnTo>
                          <a:lnTo>
                            <a:pt x="687" y="663"/>
                          </a:lnTo>
                          <a:lnTo>
                            <a:pt x="681" y="663"/>
                          </a:lnTo>
                          <a:lnTo>
                            <a:pt x="677" y="663"/>
                          </a:lnTo>
                          <a:lnTo>
                            <a:pt x="673" y="663"/>
                          </a:lnTo>
                          <a:lnTo>
                            <a:pt x="670" y="663"/>
                          </a:lnTo>
                          <a:lnTo>
                            <a:pt x="666" y="663"/>
                          </a:lnTo>
                          <a:lnTo>
                            <a:pt x="660" y="665"/>
                          </a:lnTo>
                          <a:lnTo>
                            <a:pt x="656" y="665"/>
                          </a:lnTo>
                          <a:lnTo>
                            <a:pt x="652" y="667"/>
                          </a:lnTo>
                          <a:lnTo>
                            <a:pt x="753" y="213"/>
                          </a:lnTo>
                          <a:lnTo>
                            <a:pt x="753" y="209"/>
                          </a:lnTo>
                          <a:lnTo>
                            <a:pt x="753" y="207"/>
                          </a:lnTo>
                          <a:lnTo>
                            <a:pt x="753" y="203"/>
                          </a:lnTo>
                          <a:lnTo>
                            <a:pt x="753" y="201"/>
                          </a:lnTo>
                          <a:lnTo>
                            <a:pt x="753" y="198"/>
                          </a:lnTo>
                          <a:lnTo>
                            <a:pt x="753" y="196"/>
                          </a:lnTo>
                          <a:lnTo>
                            <a:pt x="753" y="192"/>
                          </a:lnTo>
                          <a:lnTo>
                            <a:pt x="753" y="190"/>
                          </a:lnTo>
                          <a:lnTo>
                            <a:pt x="753" y="188"/>
                          </a:lnTo>
                          <a:lnTo>
                            <a:pt x="753" y="184"/>
                          </a:lnTo>
                          <a:lnTo>
                            <a:pt x="753" y="182"/>
                          </a:lnTo>
                          <a:lnTo>
                            <a:pt x="753" y="181"/>
                          </a:lnTo>
                          <a:lnTo>
                            <a:pt x="753" y="175"/>
                          </a:lnTo>
                          <a:lnTo>
                            <a:pt x="753" y="169"/>
                          </a:lnTo>
                          <a:lnTo>
                            <a:pt x="751" y="167"/>
                          </a:lnTo>
                          <a:lnTo>
                            <a:pt x="751" y="163"/>
                          </a:lnTo>
                          <a:lnTo>
                            <a:pt x="751" y="162"/>
                          </a:lnTo>
                          <a:lnTo>
                            <a:pt x="750" y="160"/>
                          </a:lnTo>
                          <a:lnTo>
                            <a:pt x="748" y="154"/>
                          </a:lnTo>
                          <a:lnTo>
                            <a:pt x="746" y="148"/>
                          </a:lnTo>
                          <a:lnTo>
                            <a:pt x="744" y="144"/>
                          </a:lnTo>
                          <a:lnTo>
                            <a:pt x="742" y="141"/>
                          </a:lnTo>
                          <a:lnTo>
                            <a:pt x="740" y="135"/>
                          </a:lnTo>
                          <a:lnTo>
                            <a:pt x="738" y="131"/>
                          </a:lnTo>
                          <a:lnTo>
                            <a:pt x="734" y="127"/>
                          </a:lnTo>
                          <a:lnTo>
                            <a:pt x="730" y="124"/>
                          </a:lnTo>
                          <a:lnTo>
                            <a:pt x="727" y="120"/>
                          </a:lnTo>
                          <a:lnTo>
                            <a:pt x="725" y="116"/>
                          </a:lnTo>
                          <a:lnTo>
                            <a:pt x="721" y="112"/>
                          </a:lnTo>
                          <a:lnTo>
                            <a:pt x="717" y="108"/>
                          </a:lnTo>
                          <a:lnTo>
                            <a:pt x="713" y="105"/>
                          </a:lnTo>
                          <a:lnTo>
                            <a:pt x="710" y="103"/>
                          </a:lnTo>
                          <a:lnTo>
                            <a:pt x="704" y="99"/>
                          </a:lnTo>
                          <a:lnTo>
                            <a:pt x="700" y="97"/>
                          </a:lnTo>
                          <a:lnTo>
                            <a:pt x="694" y="95"/>
                          </a:lnTo>
                          <a:lnTo>
                            <a:pt x="691" y="91"/>
                          </a:lnTo>
                          <a:lnTo>
                            <a:pt x="685" y="89"/>
                          </a:lnTo>
                          <a:lnTo>
                            <a:pt x="681" y="87"/>
                          </a:lnTo>
                          <a:lnTo>
                            <a:pt x="675" y="86"/>
                          </a:lnTo>
                          <a:lnTo>
                            <a:pt x="672" y="86"/>
                          </a:lnTo>
                          <a:lnTo>
                            <a:pt x="668" y="84"/>
                          </a:lnTo>
                          <a:lnTo>
                            <a:pt x="666" y="84"/>
                          </a:lnTo>
                          <a:lnTo>
                            <a:pt x="664" y="84"/>
                          </a:lnTo>
                          <a:lnTo>
                            <a:pt x="660" y="84"/>
                          </a:lnTo>
                          <a:lnTo>
                            <a:pt x="658" y="84"/>
                          </a:lnTo>
                          <a:lnTo>
                            <a:pt x="654" y="84"/>
                          </a:lnTo>
                          <a:lnTo>
                            <a:pt x="652" y="84"/>
                          </a:lnTo>
                          <a:lnTo>
                            <a:pt x="651" y="84"/>
                          </a:lnTo>
                          <a:lnTo>
                            <a:pt x="647" y="84"/>
                          </a:lnTo>
                          <a:lnTo>
                            <a:pt x="645" y="84"/>
                          </a:lnTo>
                          <a:lnTo>
                            <a:pt x="643" y="84"/>
                          </a:lnTo>
                          <a:lnTo>
                            <a:pt x="639" y="84"/>
                          </a:lnTo>
                          <a:lnTo>
                            <a:pt x="635" y="84"/>
                          </a:lnTo>
                          <a:lnTo>
                            <a:pt x="630" y="84"/>
                          </a:lnTo>
                          <a:lnTo>
                            <a:pt x="628" y="84"/>
                          </a:lnTo>
                          <a:lnTo>
                            <a:pt x="624" y="86"/>
                          </a:lnTo>
                          <a:lnTo>
                            <a:pt x="622" y="86"/>
                          </a:lnTo>
                          <a:lnTo>
                            <a:pt x="618" y="86"/>
                          </a:lnTo>
                          <a:lnTo>
                            <a:pt x="614" y="87"/>
                          </a:lnTo>
                          <a:lnTo>
                            <a:pt x="609" y="89"/>
                          </a:lnTo>
                          <a:lnTo>
                            <a:pt x="603" y="91"/>
                          </a:lnTo>
                          <a:lnTo>
                            <a:pt x="599" y="95"/>
                          </a:lnTo>
                          <a:lnTo>
                            <a:pt x="595" y="97"/>
                          </a:lnTo>
                          <a:lnTo>
                            <a:pt x="592" y="99"/>
                          </a:lnTo>
                          <a:lnTo>
                            <a:pt x="586" y="103"/>
                          </a:lnTo>
                          <a:lnTo>
                            <a:pt x="582" y="105"/>
                          </a:lnTo>
                          <a:lnTo>
                            <a:pt x="578" y="108"/>
                          </a:lnTo>
                          <a:lnTo>
                            <a:pt x="574" y="112"/>
                          </a:lnTo>
                          <a:lnTo>
                            <a:pt x="571" y="116"/>
                          </a:lnTo>
                          <a:lnTo>
                            <a:pt x="567" y="120"/>
                          </a:lnTo>
                          <a:lnTo>
                            <a:pt x="565" y="124"/>
                          </a:lnTo>
                          <a:lnTo>
                            <a:pt x="563" y="127"/>
                          </a:lnTo>
                          <a:lnTo>
                            <a:pt x="559" y="131"/>
                          </a:lnTo>
                          <a:lnTo>
                            <a:pt x="555" y="135"/>
                          </a:lnTo>
                          <a:lnTo>
                            <a:pt x="554" y="141"/>
                          </a:lnTo>
                          <a:lnTo>
                            <a:pt x="552" y="146"/>
                          </a:lnTo>
                          <a:lnTo>
                            <a:pt x="550" y="150"/>
                          </a:lnTo>
                          <a:lnTo>
                            <a:pt x="548" y="156"/>
                          </a:lnTo>
                          <a:lnTo>
                            <a:pt x="546" y="158"/>
                          </a:lnTo>
                          <a:lnTo>
                            <a:pt x="546" y="160"/>
                          </a:lnTo>
                          <a:lnTo>
                            <a:pt x="544" y="163"/>
                          </a:lnTo>
                          <a:lnTo>
                            <a:pt x="544" y="167"/>
                          </a:lnTo>
                          <a:lnTo>
                            <a:pt x="361" y="1127"/>
                          </a:lnTo>
                          <a:lnTo>
                            <a:pt x="361" y="1127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7" name="AutoShape 226"/>
                  <p:cNvSpPr/>
                  <p:nvPr/>
                </p:nvSpPr>
                <p:spPr>
                  <a:xfrm rot="9395400">
                    <a:off x="4563720" y="1750680"/>
                    <a:ext cx="88560" cy="75960"/>
                  </a:xfrm>
                  <a:prstGeom prst="hexagon">
                    <a:avLst>
                      <a:gd name="adj" fmla="val 29147"/>
                      <a:gd name="vf" fmla="val 115470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Group 227"/>
                <p:cNvGrpSpPr/>
                <p:nvPr/>
              </p:nvGrpSpPr>
              <p:grpSpPr>
                <a:xfrm>
                  <a:off x="4693680" y="2193480"/>
                  <a:ext cx="650520" cy="1216800"/>
                  <a:chOff x="4693680" y="2193480"/>
                  <a:chExt cx="650520" cy="1216800"/>
                </a:xfrm>
              </p:grpSpPr>
              <p:grpSp>
                <p:nvGrpSpPr>
                  <p:cNvPr id="369" name="Group 228"/>
                  <p:cNvGrpSpPr/>
                  <p:nvPr/>
                </p:nvGrpSpPr>
                <p:grpSpPr>
                  <a:xfrm>
                    <a:off x="4693680" y="2193480"/>
                    <a:ext cx="401040" cy="636840"/>
                    <a:chOff x="4693680" y="2193480"/>
                    <a:chExt cx="401040" cy="636840"/>
                  </a:xfrm>
                </p:grpSpPr>
                <p:sp>
                  <p:nvSpPr>
                    <p:cNvPr id="370" name="AutoShape 229"/>
                    <p:cNvSpPr/>
                    <p:nvPr/>
                  </p:nvSpPr>
                  <p:spPr>
                    <a:xfrm rot="20368200">
                      <a:off x="4834440" y="2322720"/>
                      <a:ext cx="179640" cy="49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18000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AutoShape 230"/>
                    <p:cNvSpPr/>
                    <p:nvPr/>
                  </p:nvSpPr>
                  <p:spPr>
                    <a:xfrm rot="4346400">
                      <a:off x="4739040" y="2202120"/>
                      <a:ext cx="19188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2" name="Group 231"/>
                  <p:cNvGrpSpPr/>
                  <p:nvPr/>
                </p:nvGrpSpPr>
                <p:grpSpPr>
                  <a:xfrm>
                    <a:off x="4898520" y="2684520"/>
                    <a:ext cx="445680" cy="725760"/>
                    <a:chOff x="4898520" y="2684520"/>
                    <a:chExt cx="445680" cy="725760"/>
                  </a:xfrm>
                </p:grpSpPr>
                <p:sp>
                  <p:nvSpPr>
                    <p:cNvPr id="373" name="AutoShape 232"/>
                    <p:cNvSpPr/>
                    <p:nvPr/>
                  </p:nvSpPr>
                  <p:spPr>
                    <a:xfrm rot="20383200">
                      <a:off x="4990680" y="2808720"/>
                      <a:ext cx="180360" cy="36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4308" y="21600"/>
                          </a:lnTo>
                          <a:lnTo>
                            <a:pt x="17292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54000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Oval 233"/>
                    <p:cNvSpPr/>
                    <p:nvPr/>
                  </p:nvSpPr>
                  <p:spPr>
                    <a:xfrm rot="20922000">
                      <a:off x="4915080" y="2700720"/>
                      <a:ext cx="187200" cy="190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Freeform 234"/>
                    <p:cNvSpPr/>
                    <p:nvPr/>
                  </p:nvSpPr>
                  <p:spPr>
                    <a:xfrm rot="8817000">
                      <a:off x="5104080" y="3097440"/>
                      <a:ext cx="175680" cy="28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2" h="2302">
                          <a:moveTo>
                            <a:pt x="361" y="1127"/>
                          </a:moveTo>
                          <a:lnTo>
                            <a:pt x="280" y="1116"/>
                          </a:lnTo>
                          <a:lnTo>
                            <a:pt x="373" y="711"/>
                          </a:lnTo>
                          <a:lnTo>
                            <a:pt x="373" y="709"/>
                          </a:lnTo>
                          <a:lnTo>
                            <a:pt x="375" y="705"/>
                          </a:lnTo>
                          <a:lnTo>
                            <a:pt x="375" y="703"/>
                          </a:lnTo>
                          <a:lnTo>
                            <a:pt x="375" y="700"/>
                          </a:lnTo>
                          <a:lnTo>
                            <a:pt x="375" y="698"/>
                          </a:lnTo>
                          <a:lnTo>
                            <a:pt x="375" y="696"/>
                          </a:lnTo>
                          <a:lnTo>
                            <a:pt x="375" y="692"/>
                          </a:lnTo>
                          <a:lnTo>
                            <a:pt x="375" y="690"/>
                          </a:lnTo>
                          <a:lnTo>
                            <a:pt x="375" y="684"/>
                          </a:lnTo>
                          <a:lnTo>
                            <a:pt x="375" y="681"/>
                          </a:lnTo>
                          <a:lnTo>
                            <a:pt x="375" y="675"/>
                          </a:lnTo>
                          <a:lnTo>
                            <a:pt x="375" y="669"/>
                          </a:lnTo>
                          <a:lnTo>
                            <a:pt x="371" y="665"/>
                          </a:lnTo>
                          <a:lnTo>
                            <a:pt x="371" y="660"/>
                          </a:lnTo>
                          <a:lnTo>
                            <a:pt x="369" y="654"/>
                          </a:lnTo>
                          <a:lnTo>
                            <a:pt x="367" y="652"/>
                          </a:lnTo>
                          <a:lnTo>
                            <a:pt x="365" y="646"/>
                          </a:lnTo>
                          <a:lnTo>
                            <a:pt x="363" y="641"/>
                          </a:lnTo>
                          <a:lnTo>
                            <a:pt x="361" y="637"/>
                          </a:lnTo>
                          <a:lnTo>
                            <a:pt x="358" y="633"/>
                          </a:lnTo>
                          <a:lnTo>
                            <a:pt x="356" y="629"/>
                          </a:lnTo>
                          <a:lnTo>
                            <a:pt x="354" y="623"/>
                          </a:lnTo>
                          <a:lnTo>
                            <a:pt x="350" y="620"/>
                          </a:lnTo>
                          <a:lnTo>
                            <a:pt x="346" y="616"/>
                          </a:lnTo>
                          <a:lnTo>
                            <a:pt x="342" y="612"/>
                          </a:lnTo>
                          <a:lnTo>
                            <a:pt x="339" y="610"/>
                          </a:lnTo>
                          <a:lnTo>
                            <a:pt x="335" y="606"/>
                          </a:lnTo>
                          <a:lnTo>
                            <a:pt x="331" y="603"/>
                          </a:lnTo>
                          <a:lnTo>
                            <a:pt x="325" y="601"/>
                          </a:lnTo>
                          <a:lnTo>
                            <a:pt x="321" y="597"/>
                          </a:lnTo>
                          <a:lnTo>
                            <a:pt x="318" y="595"/>
                          </a:lnTo>
                          <a:lnTo>
                            <a:pt x="312" y="593"/>
                          </a:lnTo>
                          <a:lnTo>
                            <a:pt x="306" y="591"/>
                          </a:lnTo>
                          <a:lnTo>
                            <a:pt x="302" y="589"/>
                          </a:lnTo>
                          <a:lnTo>
                            <a:pt x="299" y="589"/>
                          </a:lnTo>
                          <a:lnTo>
                            <a:pt x="295" y="587"/>
                          </a:lnTo>
                          <a:lnTo>
                            <a:pt x="291" y="587"/>
                          </a:lnTo>
                          <a:lnTo>
                            <a:pt x="287" y="585"/>
                          </a:lnTo>
                          <a:lnTo>
                            <a:pt x="285" y="585"/>
                          </a:lnTo>
                          <a:lnTo>
                            <a:pt x="283" y="585"/>
                          </a:lnTo>
                          <a:lnTo>
                            <a:pt x="280" y="585"/>
                          </a:lnTo>
                          <a:lnTo>
                            <a:pt x="276" y="585"/>
                          </a:lnTo>
                          <a:lnTo>
                            <a:pt x="274" y="585"/>
                          </a:lnTo>
                          <a:lnTo>
                            <a:pt x="272" y="585"/>
                          </a:lnTo>
                          <a:lnTo>
                            <a:pt x="268" y="585"/>
                          </a:lnTo>
                          <a:lnTo>
                            <a:pt x="266" y="585"/>
                          </a:lnTo>
                          <a:lnTo>
                            <a:pt x="263" y="585"/>
                          </a:lnTo>
                          <a:lnTo>
                            <a:pt x="261" y="587"/>
                          </a:lnTo>
                          <a:lnTo>
                            <a:pt x="259" y="587"/>
                          </a:lnTo>
                          <a:lnTo>
                            <a:pt x="255" y="587"/>
                          </a:lnTo>
                          <a:lnTo>
                            <a:pt x="253" y="589"/>
                          </a:lnTo>
                          <a:lnTo>
                            <a:pt x="249" y="589"/>
                          </a:lnTo>
                          <a:lnTo>
                            <a:pt x="247" y="589"/>
                          </a:lnTo>
                          <a:lnTo>
                            <a:pt x="243" y="591"/>
                          </a:lnTo>
                          <a:lnTo>
                            <a:pt x="240" y="591"/>
                          </a:lnTo>
                          <a:lnTo>
                            <a:pt x="238" y="593"/>
                          </a:lnTo>
                          <a:lnTo>
                            <a:pt x="236" y="595"/>
                          </a:lnTo>
                          <a:lnTo>
                            <a:pt x="232" y="595"/>
                          </a:lnTo>
                          <a:lnTo>
                            <a:pt x="230" y="597"/>
                          </a:lnTo>
                          <a:lnTo>
                            <a:pt x="228" y="599"/>
                          </a:lnTo>
                          <a:lnTo>
                            <a:pt x="224" y="601"/>
                          </a:lnTo>
                          <a:lnTo>
                            <a:pt x="223" y="601"/>
                          </a:lnTo>
                          <a:lnTo>
                            <a:pt x="219" y="603"/>
                          </a:lnTo>
                          <a:lnTo>
                            <a:pt x="217" y="604"/>
                          </a:lnTo>
                          <a:lnTo>
                            <a:pt x="211" y="608"/>
                          </a:lnTo>
                          <a:lnTo>
                            <a:pt x="207" y="612"/>
                          </a:lnTo>
                          <a:lnTo>
                            <a:pt x="204" y="616"/>
                          </a:lnTo>
                          <a:lnTo>
                            <a:pt x="198" y="618"/>
                          </a:lnTo>
                          <a:lnTo>
                            <a:pt x="194" y="623"/>
                          </a:lnTo>
                          <a:lnTo>
                            <a:pt x="188" y="627"/>
                          </a:lnTo>
                          <a:lnTo>
                            <a:pt x="185" y="633"/>
                          </a:lnTo>
                          <a:lnTo>
                            <a:pt x="181" y="637"/>
                          </a:lnTo>
                          <a:lnTo>
                            <a:pt x="177" y="641"/>
                          </a:lnTo>
                          <a:lnTo>
                            <a:pt x="173" y="646"/>
                          </a:lnTo>
                          <a:lnTo>
                            <a:pt x="169" y="652"/>
                          </a:lnTo>
                          <a:lnTo>
                            <a:pt x="166" y="656"/>
                          </a:lnTo>
                          <a:lnTo>
                            <a:pt x="162" y="662"/>
                          </a:lnTo>
                          <a:lnTo>
                            <a:pt x="160" y="665"/>
                          </a:lnTo>
                          <a:lnTo>
                            <a:pt x="158" y="669"/>
                          </a:lnTo>
                          <a:lnTo>
                            <a:pt x="158" y="671"/>
                          </a:lnTo>
                          <a:lnTo>
                            <a:pt x="156" y="673"/>
                          </a:lnTo>
                          <a:lnTo>
                            <a:pt x="154" y="677"/>
                          </a:lnTo>
                          <a:lnTo>
                            <a:pt x="152" y="679"/>
                          </a:lnTo>
                          <a:lnTo>
                            <a:pt x="152" y="681"/>
                          </a:lnTo>
                          <a:lnTo>
                            <a:pt x="150" y="684"/>
                          </a:lnTo>
                          <a:lnTo>
                            <a:pt x="150" y="688"/>
                          </a:lnTo>
                          <a:lnTo>
                            <a:pt x="146" y="694"/>
                          </a:lnTo>
                          <a:lnTo>
                            <a:pt x="145" y="701"/>
                          </a:lnTo>
                          <a:lnTo>
                            <a:pt x="143" y="709"/>
                          </a:lnTo>
                          <a:lnTo>
                            <a:pt x="139" y="717"/>
                          </a:lnTo>
                          <a:lnTo>
                            <a:pt x="137" y="724"/>
                          </a:lnTo>
                          <a:lnTo>
                            <a:pt x="135" y="732"/>
                          </a:lnTo>
                          <a:lnTo>
                            <a:pt x="131" y="739"/>
                          </a:lnTo>
                          <a:lnTo>
                            <a:pt x="129" y="747"/>
                          </a:lnTo>
                          <a:lnTo>
                            <a:pt x="126" y="755"/>
                          </a:lnTo>
                          <a:lnTo>
                            <a:pt x="124" y="760"/>
                          </a:lnTo>
                          <a:lnTo>
                            <a:pt x="122" y="768"/>
                          </a:lnTo>
                          <a:lnTo>
                            <a:pt x="120" y="776"/>
                          </a:lnTo>
                          <a:lnTo>
                            <a:pt x="116" y="781"/>
                          </a:lnTo>
                          <a:lnTo>
                            <a:pt x="114" y="789"/>
                          </a:lnTo>
                          <a:lnTo>
                            <a:pt x="112" y="796"/>
                          </a:lnTo>
                          <a:lnTo>
                            <a:pt x="110" y="804"/>
                          </a:lnTo>
                          <a:lnTo>
                            <a:pt x="107" y="812"/>
                          </a:lnTo>
                          <a:lnTo>
                            <a:pt x="107" y="817"/>
                          </a:lnTo>
                          <a:lnTo>
                            <a:pt x="103" y="823"/>
                          </a:lnTo>
                          <a:lnTo>
                            <a:pt x="101" y="831"/>
                          </a:lnTo>
                          <a:lnTo>
                            <a:pt x="97" y="836"/>
                          </a:lnTo>
                          <a:lnTo>
                            <a:pt x="97" y="844"/>
                          </a:lnTo>
                          <a:lnTo>
                            <a:pt x="93" y="852"/>
                          </a:lnTo>
                          <a:lnTo>
                            <a:pt x="93" y="857"/>
                          </a:lnTo>
                          <a:lnTo>
                            <a:pt x="89" y="865"/>
                          </a:lnTo>
                          <a:lnTo>
                            <a:pt x="88" y="871"/>
                          </a:lnTo>
                          <a:lnTo>
                            <a:pt x="86" y="878"/>
                          </a:lnTo>
                          <a:lnTo>
                            <a:pt x="84" y="884"/>
                          </a:lnTo>
                          <a:lnTo>
                            <a:pt x="82" y="892"/>
                          </a:lnTo>
                          <a:lnTo>
                            <a:pt x="80" y="899"/>
                          </a:lnTo>
                          <a:lnTo>
                            <a:pt x="78" y="907"/>
                          </a:lnTo>
                          <a:lnTo>
                            <a:pt x="74" y="912"/>
                          </a:lnTo>
                          <a:lnTo>
                            <a:pt x="72" y="920"/>
                          </a:lnTo>
                          <a:lnTo>
                            <a:pt x="72" y="926"/>
                          </a:lnTo>
                          <a:lnTo>
                            <a:pt x="68" y="931"/>
                          </a:lnTo>
                          <a:lnTo>
                            <a:pt x="67" y="939"/>
                          </a:lnTo>
                          <a:lnTo>
                            <a:pt x="65" y="945"/>
                          </a:lnTo>
                          <a:lnTo>
                            <a:pt x="63" y="952"/>
                          </a:lnTo>
                          <a:lnTo>
                            <a:pt x="59" y="958"/>
                          </a:lnTo>
                          <a:lnTo>
                            <a:pt x="57" y="966"/>
                          </a:lnTo>
                          <a:lnTo>
                            <a:pt x="55" y="971"/>
                          </a:lnTo>
                          <a:lnTo>
                            <a:pt x="53" y="979"/>
                          </a:lnTo>
                          <a:lnTo>
                            <a:pt x="51" y="987"/>
                          </a:lnTo>
                          <a:lnTo>
                            <a:pt x="49" y="994"/>
                          </a:lnTo>
                          <a:lnTo>
                            <a:pt x="48" y="1000"/>
                          </a:lnTo>
                          <a:lnTo>
                            <a:pt x="46" y="1007"/>
                          </a:lnTo>
                          <a:lnTo>
                            <a:pt x="44" y="1015"/>
                          </a:lnTo>
                          <a:lnTo>
                            <a:pt x="42" y="1021"/>
                          </a:lnTo>
                          <a:lnTo>
                            <a:pt x="42" y="1028"/>
                          </a:lnTo>
                          <a:lnTo>
                            <a:pt x="38" y="1036"/>
                          </a:lnTo>
                          <a:lnTo>
                            <a:pt x="36" y="1042"/>
                          </a:lnTo>
                          <a:lnTo>
                            <a:pt x="36" y="1049"/>
                          </a:lnTo>
                          <a:lnTo>
                            <a:pt x="34" y="1057"/>
                          </a:lnTo>
                          <a:lnTo>
                            <a:pt x="30" y="1063"/>
                          </a:lnTo>
                          <a:lnTo>
                            <a:pt x="30" y="1070"/>
                          </a:lnTo>
                          <a:lnTo>
                            <a:pt x="29" y="1078"/>
                          </a:lnTo>
                          <a:lnTo>
                            <a:pt x="27" y="1085"/>
                          </a:lnTo>
                          <a:lnTo>
                            <a:pt x="25" y="1093"/>
                          </a:lnTo>
                          <a:lnTo>
                            <a:pt x="23" y="1101"/>
                          </a:lnTo>
                          <a:lnTo>
                            <a:pt x="21" y="1108"/>
                          </a:lnTo>
                          <a:lnTo>
                            <a:pt x="19" y="1116"/>
                          </a:lnTo>
                          <a:lnTo>
                            <a:pt x="17" y="1123"/>
                          </a:lnTo>
                          <a:lnTo>
                            <a:pt x="17" y="1131"/>
                          </a:lnTo>
                          <a:lnTo>
                            <a:pt x="15" y="1139"/>
                          </a:lnTo>
                          <a:lnTo>
                            <a:pt x="13" y="1148"/>
                          </a:lnTo>
                          <a:lnTo>
                            <a:pt x="10" y="1158"/>
                          </a:lnTo>
                          <a:lnTo>
                            <a:pt x="10" y="1165"/>
                          </a:lnTo>
                          <a:lnTo>
                            <a:pt x="8" y="1175"/>
                          </a:lnTo>
                          <a:lnTo>
                            <a:pt x="6" y="1182"/>
                          </a:lnTo>
                          <a:lnTo>
                            <a:pt x="6" y="1192"/>
                          </a:lnTo>
                          <a:lnTo>
                            <a:pt x="4" y="1201"/>
                          </a:lnTo>
                          <a:lnTo>
                            <a:pt x="2" y="1211"/>
                          </a:lnTo>
                          <a:lnTo>
                            <a:pt x="2" y="1218"/>
                          </a:lnTo>
                          <a:lnTo>
                            <a:pt x="0" y="1230"/>
                          </a:lnTo>
                          <a:lnTo>
                            <a:pt x="0" y="1237"/>
                          </a:lnTo>
                          <a:lnTo>
                            <a:pt x="0" y="1247"/>
                          </a:lnTo>
                          <a:lnTo>
                            <a:pt x="0" y="1257"/>
                          </a:lnTo>
                          <a:lnTo>
                            <a:pt x="0" y="1268"/>
                          </a:lnTo>
                          <a:lnTo>
                            <a:pt x="0" y="1276"/>
                          </a:lnTo>
                          <a:lnTo>
                            <a:pt x="0" y="1285"/>
                          </a:lnTo>
                          <a:lnTo>
                            <a:pt x="0" y="1296"/>
                          </a:lnTo>
                          <a:lnTo>
                            <a:pt x="0" y="1304"/>
                          </a:lnTo>
                          <a:lnTo>
                            <a:pt x="0" y="1314"/>
                          </a:lnTo>
                          <a:lnTo>
                            <a:pt x="0" y="1323"/>
                          </a:lnTo>
                          <a:lnTo>
                            <a:pt x="0" y="1333"/>
                          </a:lnTo>
                          <a:lnTo>
                            <a:pt x="2" y="1342"/>
                          </a:lnTo>
                          <a:lnTo>
                            <a:pt x="2" y="1352"/>
                          </a:lnTo>
                          <a:lnTo>
                            <a:pt x="4" y="1363"/>
                          </a:lnTo>
                          <a:lnTo>
                            <a:pt x="4" y="1371"/>
                          </a:lnTo>
                          <a:lnTo>
                            <a:pt x="6" y="1382"/>
                          </a:lnTo>
                          <a:lnTo>
                            <a:pt x="8" y="1390"/>
                          </a:lnTo>
                          <a:lnTo>
                            <a:pt x="8" y="1401"/>
                          </a:lnTo>
                          <a:lnTo>
                            <a:pt x="10" y="1409"/>
                          </a:lnTo>
                          <a:lnTo>
                            <a:pt x="11" y="1420"/>
                          </a:lnTo>
                          <a:lnTo>
                            <a:pt x="13" y="1429"/>
                          </a:lnTo>
                          <a:lnTo>
                            <a:pt x="15" y="1439"/>
                          </a:lnTo>
                          <a:lnTo>
                            <a:pt x="17" y="1448"/>
                          </a:lnTo>
                          <a:lnTo>
                            <a:pt x="19" y="1458"/>
                          </a:lnTo>
                          <a:lnTo>
                            <a:pt x="21" y="1468"/>
                          </a:lnTo>
                          <a:lnTo>
                            <a:pt x="23" y="1477"/>
                          </a:lnTo>
                          <a:lnTo>
                            <a:pt x="27" y="1487"/>
                          </a:lnTo>
                          <a:lnTo>
                            <a:pt x="29" y="1496"/>
                          </a:lnTo>
                          <a:lnTo>
                            <a:pt x="30" y="1506"/>
                          </a:lnTo>
                          <a:lnTo>
                            <a:pt x="34" y="1515"/>
                          </a:lnTo>
                          <a:lnTo>
                            <a:pt x="36" y="1525"/>
                          </a:lnTo>
                          <a:lnTo>
                            <a:pt x="38" y="1534"/>
                          </a:lnTo>
                          <a:lnTo>
                            <a:pt x="42" y="1544"/>
                          </a:lnTo>
                          <a:lnTo>
                            <a:pt x="46" y="1553"/>
                          </a:lnTo>
                          <a:lnTo>
                            <a:pt x="48" y="1561"/>
                          </a:lnTo>
                          <a:lnTo>
                            <a:pt x="51" y="1572"/>
                          </a:lnTo>
                          <a:lnTo>
                            <a:pt x="55" y="1580"/>
                          </a:lnTo>
                          <a:lnTo>
                            <a:pt x="59" y="1589"/>
                          </a:lnTo>
                          <a:lnTo>
                            <a:pt x="63" y="1599"/>
                          </a:lnTo>
                          <a:lnTo>
                            <a:pt x="67" y="1608"/>
                          </a:lnTo>
                          <a:lnTo>
                            <a:pt x="68" y="1616"/>
                          </a:lnTo>
                          <a:lnTo>
                            <a:pt x="74" y="1627"/>
                          </a:lnTo>
                          <a:lnTo>
                            <a:pt x="78" y="1635"/>
                          </a:lnTo>
                          <a:lnTo>
                            <a:pt x="82" y="1644"/>
                          </a:lnTo>
                          <a:lnTo>
                            <a:pt x="86" y="1652"/>
                          </a:lnTo>
                          <a:lnTo>
                            <a:pt x="89" y="1661"/>
                          </a:lnTo>
                          <a:lnTo>
                            <a:pt x="95" y="1669"/>
                          </a:lnTo>
                          <a:lnTo>
                            <a:pt x="99" y="1679"/>
                          </a:lnTo>
                          <a:lnTo>
                            <a:pt x="103" y="1688"/>
                          </a:lnTo>
                          <a:lnTo>
                            <a:pt x="108" y="1696"/>
                          </a:lnTo>
                          <a:lnTo>
                            <a:pt x="114" y="1703"/>
                          </a:lnTo>
                          <a:lnTo>
                            <a:pt x="118" y="1713"/>
                          </a:lnTo>
                          <a:lnTo>
                            <a:pt x="124" y="1722"/>
                          </a:lnTo>
                          <a:lnTo>
                            <a:pt x="127" y="1732"/>
                          </a:lnTo>
                          <a:lnTo>
                            <a:pt x="131" y="1736"/>
                          </a:lnTo>
                          <a:lnTo>
                            <a:pt x="135" y="1739"/>
                          </a:lnTo>
                          <a:lnTo>
                            <a:pt x="135" y="1743"/>
                          </a:lnTo>
                          <a:lnTo>
                            <a:pt x="137" y="1745"/>
                          </a:lnTo>
                          <a:lnTo>
                            <a:pt x="139" y="1747"/>
                          </a:lnTo>
                          <a:lnTo>
                            <a:pt x="141" y="1751"/>
                          </a:lnTo>
                          <a:lnTo>
                            <a:pt x="143" y="1755"/>
                          </a:lnTo>
                          <a:lnTo>
                            <a:pt x="143" y="1756"/>
                          </a:lnTo>
                          <a:lnTo>
                            <a:pt x="145" y="1760"/>
                          </a:lnTo>
                          <a:lnTo>
                            <a:pt x="146" y="1762"/>
                          </a:lnTo>
                          <a:lnTo>
                            <a:pt x="148" y="1766"/>
                          </a:lnTo>
                          <a:lnTo>
                            <a:pt x="150" y="1768"/>
                          </a:lnTo>
                          <a:lnTo>
                            <a:pt x="152" y="1770"/>
                          </a:lnTo>
                          <a:lnTo>
                            <a:pt x="156" y="1774"/>
                          </a:lnTo>
                          <a:lnTo>
                            <a:pt x="158" y="1777"/>
                          </a:lnTo>
                          <a:lnTo>
                            <a:pt x="160" y="1779"/>
                          </a:lnTo>
                          <a:lnTo>
                            <a:pt x="160" y="1783"/>
                          </a:lnTo>
                          <a:lnTo>
                            <a:pt x="162" y="1787"/>
                          </a:lnTo>
                          <a:lnTo>
                            <a:pt x="166" y="1789"/>
                          </a:lnTo>
                          <a:lnTo>
                            <a:pt x="166" y="1791"/>
                          </a:lnTo>
                          <a:lnTo>
                            <a:pt x="167" y="1794"/>
                          </a:lnTo>
                          <a:lnTo>
                            <a:pt x="169" y="1796"/>
                          </a:lnTo>
                          <a:lnTo>
                            <a:pt x="171" y="1800"/>
                          </a:lnTo>
                          <a:lnTo>
                            <a:pt x="173" y="1802"/>
                          </a:lnTo>
                          <a:lnTo>
                            <a:pt x="175" y="1806"/>
                          </a:lnTo>
                          <a:lnTo>
                            <a:pt x="177" y="1808"/>
                          </a:lnTo>
                          <a:lnTo>
                            <a:pt x="179" y="1812"/>
                          </a:lnTo>
                          <a:lnTo>
                            <a:pt x="181" y="1815"/>
                          </a:lnTo>
                          <a:lnTo>
                            <a:pt x="183" y="1817"/>
                          </a:lnTo>
                          <a:lnTo>
                            <a:pt x="185" y="1821"/>
                          </a:lnTo>
                          <a:lnTo>
                            <a:pt x="188" y="1827"/>
                          </a:lnTo>
                          <a:lnTo>
                            <a:pt x="190" y="1831"/>
                          </a:lnTo>
                          <a:lnTo>
                            <a:pt x="194" y="1836"/>
                          </a:lnTo>
                          <a:lnTo>
                            <a:pt x="198" y="1842"/>
                          </a:lnTo>
                          <a:lnTo>
                            <a:pt x="200" y="1846"/>
                          </a:lnTo>
                          <a:lnTo>
                            <a:pt x="204" y="1850"/>
                          </a:lnTo>
                          <a:lnTo>
                            <a:pt x="205" y="1853"/>
                          </a:lnTo>
                          <a:lnTo>
                            <a:pt x="207" y="1859"/>
                          </a:lnTo>
                          <a:lnTo>
                            <a:pt x="209" y="1861"/>
                          </a:lnTo>
                          <a:lnTo>
                            <a:pt x="211" y="1863"/>
                          </a:lnTo>
                          <a:lnTo>
                            <a:pt x="213" y="1867"/>
                          </a:lnTo>
                          <a:lnTo>
                            <a:pt x="215" y="1869"/>
                          </a:lnTo>
                          <a:lnTo>
                            <a:pt x="217" y="1870"/>
                          </a:lnTo>
                          <a:lnTo>
                            <a:pt x="219" y="1874"/>
                          </a:lnTo>
                          <a:lnTo>
                            <a:pt x="141" y="2163"/>
                          </a:lnTo>
                          <a:lnTo>
                            <a:pt x="143" y="2165"/>
                          </a:lnTo>
                          <a:lnTo>
                            <a:pt x="146" y="2165"/>
                          </a:lnTo>
                          <a:lnTo>
                            <a:pt x="150" y="2167"/>
                          </a:lnTo>
                          <a:lnTo>
                            <a:pt x="152" y="2167"/>
                          </a:lnTo>
                          <a:lnTo>
                            <a:pt x="154" y="2167"/>
                          </a:lnTo>
                          <a:lnTo>
                            <a:pt x="158" y="2167"/>
                          </a:lnTo>
                          <a:lnTo>
                            <a:pt x="162" y="2171"/>
                          </a:lnTo>
                          <a:lnTo>
                            <a:pt x="166" y="2171"/>
                          </a:lnTo>
                          <a:lnTo>
                            <a:pt x="167" y="2173"/>
                          </a:lnTo>
                          <a:lnTo>
                            <a:pt x="171" y="2173"/>
                          </a:lnTo>
                          <a:lnTo>
                            <a:pt x="175" y="2175"/>
                          </a:lnTo>
                          <a:lnTo>
                            <a:pt x="181" y="2175"/>
                          </a:lnTo>
                          <a:lnTo>
                            <a:pt x="185" y="2175"/>
                          </a:lnTo>
                          <a:lnTo>
                            <a:pt x="188" y="2177"/>
                          </a:lnTo>
                          <a:lnTo>
                            <a:pt x="194" y="2180"/>
                          </a:lnTo>
                          <a:lnTo>
                            <a:pt x="198" y="2180"/>
                          </a:lnTo>
                          <a:lnTo>
                            <a:pt x="204" y="2182"/>
                          </a:lnTo>
                          <a:lnTo>
                            <a:pt x="209" y="2182"/>
                          </a:lnTo>
                          <a:lnTo>
                            <a:pt x="215" y="2184"/>
                          </a:lnTo>
                          <a:lnTo>
                            <a:pt x="219" y="2186"/>
                          </a:lnTo>
                          <a:lnTo>
                            <a:pt x="224" y="2188"/>
                          </a:lnTo>
                          <a:lnTo>
                            <a:pt x="232" y="2188"/>
                          </a:lnTo>
                          <a:lnTo>
                            <a:pt x="238" y="2190"/>
                          </a:lnTo>
                          <a:lnTo>
                            <a:pt x="243" y="2190"/>
                          </a:lnTo>
                          <a:lnTo>
                            <a:pt x="251" y="2192"/>
                          </a:lnTo>
                          <a:lnTo>
                            <a:pt x="257" y="2194"/>
                          </a:lnTo>
                          <a:lnTo>
                            <a:pt x="264" y="2194"/>
                          </a:lnTo>
                          <a:lnTo>
                            <a:pt x="270" y="2196"/>
                          </a:lnTo>
                          <a:lnTo>
                            <a:pt x="276" y="2196"/>
                          </a:lnTo>
                          <a:lnTo>
                            <a:pt x="283" y="2197"/>
                          </a:lnTo>
                          <a:lnTo>
                            <a:pt x="291" y="2199"/>
                          </a:lnTo>
                          <a:lnTo>
                            <a:pt x="297" y="2199"/>
                          </a:lnTo>
                          <a:lnTo>
                            <a:pt x="304" y="2199"/>
                          </a:lnTo>
                          <a:lnTo>
                            <a:pt x="312" y="2199"/>
                          </a:lnTo>
                          <a:lnTo>
                            <a:pt x="320" y="2201"/>
                          </a:lnTo>
                          <a:lnTo>
                            <a:pt x="325" y="2201"/>
                          </a:lnTo>
                          <a:lnTo>
                            <a:pt x="333" y="2201"/>
                          </a:lnTo>
                          <a:lnTo>
                            <a:pt x="341" y="2201"/>
                          </a:lnTo>
                          <a:lnTo>
                            <a:pt x="348" y="2201"/>
                          </a:lnTo>
                          <a:lnTo>
                            <a:pt x="356" y="2201"/>
                          </a:lnTo>
                          <a:lnTo>
                            <a:pt x="363" y="2201"/>
                          </a:lnTo>
                          <a:lnTo>
                            <a:pt x="371" y="2201"/>
                          </a:lnTo>
                          <a:lnTo>
                            <a:pt x="379" y="2201"/>
                          </a:lnTo>
                          <a:lnTo>
                            <a:pt x="386" y="2201"/>
                          </a:lnTo>
                          <a:lnTo>
                            <a:pt x="394" y="2201"/>
                          </a:lnTo>
                          <a:lnTo>
                            <a:pt x="401" y="2199"/>
                          </a:lnTo>
                          <a:lnTo>
                            <a:pt x="409" y="2199"/>
                          </a:lnTo>
                          <a:lnTo>
                            <a:pt x="415" y="2197"/>
                          </a:lnTo>
                          <a:lnTo>
                            <a:pt x="422" y="2196"/>
                          </a:lnTo>
                          <a:lnTo>
                            <a:pt x="432" y="2196"/>
                          </a:lnTo>
                          <a:lnTo>
                            <a:pt x="439" y="2194"/>
                          </a:lnTo>
                          <a:lnTo>
                            <a:pt x="447" y="2192"/>
                          </a:lnTo>
                          <a:lnTo>
                            <a:pt x="455" y="2190"/>
                          </a:lnTo>
                          <a:lnTo>
                            <a:pt x="462" y="2188"/>
                          </a:lnTo>
                          <a:lnTo>
                            <a:pt x="470" y="2188"/>
                          </a:lnTo>
                          <a:lnTo>
                            <a:pt x="476" y="2184"/>
                          </a:lnTo>
                          <a:lnTo>
                            <a:pt x="483" y="2182"/>
                          </a:lnTo>
                          <a:lnTo>
                            <a:pt x="491" y="2180"/>
                          </a:lnTo>
                          <a:lnTo>
                            <a:pt x="498" y="2175"/>
                          </a:lnTo>
                          <a:lnTo>
                            <a:pt x="504" y="2173"/>
                          </a:lnTo>
                          <a:lnTo>
                            <a:pt x="512" y="2169"/>
                          </a:lnTo>
                          <a:lnTo>
                            <a:pt x="517" y="2165"/>
                          </a:lnTo>
                          <a:lnTo>
                            <a:pt x="525" y="2161"/>
                          </a:lnTo>
                          <a:lnTo>
                            <a:pt x="531" y="2158"/>
                          </a:lnTo>
                          <a:lnTo>
                            <a:pt x="536" y="2154"/>
                          </a:lnTo>
                          <a:lnTo>
                            <a:pt x="542" y="2150"/>
                          </a:lnTo>
                          <a:lnTo>
                            <a:pt x="550" y="2146"/>
                          </a:lnTo>
                          <a:lnTo>
                            <a:pt x="555" y="2142"/>
                          </a:lnTo>
                          <a:lnTo>
                            <a:pt x="559" y="2137"/>
                          </a:lnTo>
                          <a:lnTo>
                            <a:pt x="565" y="2133"/>
                          </a:lnTo>
                          <a:lnTo>
                            <a:pt x="571" y="2129"/>
                          </a:lnTo>
                          <a:lnTo>
                            <a:pt x="576" y="2123"/>
                          </a:lnTo>
                          <a:lnTo>
                            <a:pt x="582" y="2120"/>
                          </a:lnTo>
                          <a:lnTo>
                            <a:pt x="588" y="2114"/>
                          </a:lnTo>
                          <a:lnTo>
                            <a:pt x="592" y="2110"/>
                          </a:lnTo>
                          <a:lnTo>
                            <a:pt x="595" y="2106"/>
                          </a:lnTo>
                          <a:lnTo>
                            <a:pt x="601" y="2101"/>
                          </a:lnTo>
                          <a:lnTo>
                            <a:pt x="605" y="2095"/>
                          </a:lnTo>
                          <a:lnTo>
                            <a:pt x="611" y="2091"/>
                          </a:lnTo>
                          <a:lnTo>
                            <a:pt x="614" y="2085"/>
                          </a:lnTo>
                          <a:lnTo>
                            <a:pt x="618" y="2080"/>
                          </a:lnTo>
                          <a:lnTo>
                            <a:pt x="624" y="2076"/>
                          </a:lnTo>
                          <a:lnTo>
                            <a:pt x="628" y="2070"/>
                          </a:lnTo>
                          <a:lnTo>
                            <a:pt x="632" y="2064"/>
                          </a:lnTo>
                          <a:lnTo>
                            <a:pt x="635" y="2059"/>
                          </a:lnTo>
                          <a:lnTo>
                            <a:pt x="637" y="2055"/>
                          </a:lnTo>
                          <a:lnTo>
                            <a:pt x="643" y="2049"/>
                          </a:lnTo>
                          <a:lnTo>
                            <a:pt x="645" y="2043"/>
                          </a:lnTo>
                          <a:lnTo>
                            <a:pt x="649" y="2040"/>
                          </a:lnTo>
                          <a:lnTo>
                            <a:pt x="652" y="2034"/>
                          </a:lnTo>
                          <a:lnTo>
                            <a:pt x="654" y="2030"/>
                          </a:lnTo>
                          <a:lnTo>
                            <a:pt x="658" y="2024"/>
                          </a:lnTo>
                          <a:lnTo>
                            <a:pt x="660" y="2021"/>
                          </a:lnTo>
                          <a:lnTo>
                            <a:pt x="664" y="2015"/>
                          </a:lnTo>
                          <a:lnTo>
                            <a:pt x="666" y="2011"/>
                          </a:lnTo>
                          <a:lnTo>
                            <a:pt x="668" y="2005"/>
                          </a:lnTo>
                          <a:lnTo>
                            <a:pt x="672" y="2002"/>
                          </a:lnTo>
                          <a:lnTo>
                            <a:pt x="673" y="1998"/>
                          </a:lnTo>
                          <a:lnTo>
                            <a:pt x="675" y="1992"/>
                          </a:lnTo>
                          <a:lnTo>
                            <a:pt x="677" y="1986"/>
                          </a:lnTo>
                          <a:lnTo>
                            <a:pt x="679" y="1983"/>
                          </a:lnTo>
                          <a:lnTo>
                            <a:pt x="681" y="1979"/>
                          </a:lnTo>
                          <a:lnTo>
                            <a:pt x="683" y="1975"/>
                          </a:lnTo>
                          <a:lnTo>
                            <a:pt x="685" y="1971"/>
                          </a:lnTo>
                          <a:lnTo>
                            <a:pt x="687" y="1969"/>
                          </a:lnTo>
                          <a:lnTo>
                            <a:pt x="689" y="1964"/>
                          </a:lnTo>
                          <a:lnTo>
                            <a:pt x="691" y="1962"/>
                          </a:lnTo>
                          <a:lnTo>
                            <a:pt x="692" y="1958"/>
                          </a:lnTo>
                          <a:lnTo>
                            <a:pt x="692" y="1954"/>
                          </a:lnTo>
                          <a:lnTo>
                            <a:pt x="692" y="1952"/>
                          </a:lnTo>
                          <a:lnTo>
                            <a:pt x="694" y="1950"/>
                          </a:lnTo>
                          <a:lnTo>
                            <a:pt x="696" y="1945"/>
                          </a:lnTo>
                          <a:lnTo>
                            <a:pt x="698" y="1941"/>
                          </a:lnTo>
                          <a:lnTo>
                            <a:pt x="700" y="1937"/>
                          </a:lnTo>
                          <a:lnTo>
                            <a:pt x="700" y="1935"/>
                          </a:lnTo>
                          <a:lnTo>
                            <a:pt x="700" y="1933"/>
                          </a:lnTo>
                          <a:lnTo>
                            <a:pt x="702" y="1933"/>
                          </a:lnTo>
                          <a:lnTo>
                            <a:pt x="740" y="1943"/>
                          </a:lnTo>
                          <a:lnTo>
                            <a:pt x="740" y="1943"/>
                          </a:lnTo>
                          <a:lnTo>
                            <a:pt x="738" y="1945"/>
                          </a:lnTo>
                          <a:lnTo>
                            <a:pt x="738" y="1947"/>
                          </a:lnTo>
                          <a:lnTo>
                            <a:pt x="738" y="1950"/>
                          </a:lnTo>
                          <a:lnTo>
                            <a:pt x="738" y="1954"/>
                          </a:lnTo>
                          <a:lnTo>
                            <a:pt x="738" y="1958"/>
                          </a:lnTo>
                          <a:lnTo>
                            <a:pt x="736" y="1962"/>
                          </a:lnTo>
                          <a:lnTo>
                            <a:pt x="736" y="1964"/>
                          </a:lnTo>
                          <a:lnTo>
                            <a:pt x="736" y="1967"/>
                          </a:lnTo>
                          <a:lnTo>
                            <a:pt x="736" y="1971"/>
                          </a:lnTo>
                          <a:lnTo>
                            <a:pt x="736" y="1975"/>
                          </a:lnTo>
                          <a:lnTo>
                            <a:pt x="736" y="1979"/>
                          </a:lnTo>
                          <a:lnTo>
                            <a:pt x="736" y="1983"/>
                          </a:lnTo>
                          <a:lnTo>
                            <a:pt x="736" y="1985"/>
                          </a:lnTo>
                          <a:lnTo>
                            <a:pt x="736" y="1990"/>
                          </a:lnTo>
                          <a:lnTo>
                            <a:pt x="736" y="1994"/>
                          </a:lnTo>
                          <a:lnTo>
                            <a:pt x="736" y="1998"/>
                          </a:lnTo>
                          <a:lnTo>
                            <a:pt x="736" y="2004"/>
                          </a:lnTo>
                          <a:lnTo>
                            <a:pt x="736" y="2007"/>
                          </a:lnTo>
                          <a:lnTo>
                            <a:pt x="736" y="2013"/>
                          </a:lnTo>
                          <a:lnTo>
                            <a:pt x="736" y="2015"/>
                          </a:lnTo>
                          <a:lnTo>
                            <a:pt x="736" y="2021"/>
                          </a:lnTo>
                          <a:lnTo>
                            <a:pt x="736" y="2026"/>
                          </a:lnTo>
                          <a:lnTo>
                            <a:pt x="736" y="2030"/>
                          </a:lnTo>
                          <a:lnTo>
                            <a:pt x="736" y="2036"/>
                          </a:lnTo>
                          <a:lnTo>
                            <a:pt x="736" y="2042"/>
                          </a:lnTo>
                          <a:lnTo>
                            <a:pt x="736" y="2047"/>
                          </a:lnTo>
                          <a:lnTo>
                            <a:pt x="738" y="2051"/>
                          </a:lnTo>
                          <a:lnTo>
                            <a:pt x="738" y="2057"/>
                          </a:lnTo>
                          <a:lnTo>
                            <a:pt x="738" y="2062"/>
                          </a:lnTo>
                          <a:lnTo>
                            <a:pt x="740" y="2066"/>
                          </a:lnTo>
                          <a:lnTo>
                            <a:pt x="740" y="2072"/>
                          </a:lnTo>
                          <a:lnTo>
                            <a:pt x="742" y="2078"/>
                          </a:lnTo>
                          <a:lnTo>
                            <a:pt x="744" y="2083"/>
                          </a:lnTo>
                          <a:lnTo>
                            <a:pt x="744" y="2091"/>
                          </a:lnTo>
                          <a:lnTo>
                            <a:pt x="746" y="2095"/>
                          </a:lnTo>
                          <a:lnTo>
                            <a:pt x="748" y="2101"/>
                          </a:lnTo>
                          <a:lnTo>
                            <a:pt x="748" y="2106"/>
                          </a:lnTo>
                          <a:lnTo>
                            <a:pt x="751" y="2110"/>
                          </a:lnTo>
                          <a:lnTo>
                            <a:pt x="753" y="2118"/>
                          </a:lnTo>
                          <a:lnTo>
                            <a:pt x="753" y="2123"/>
                          </a:lnTo>
                          <a:lnTo>
                            <a:pt x="757" y="2129"/>
                          </a:lnTo>
                          <a:lnTo>
                            <a:pt x="759" y="2135"/>
                          </a:lnTo>
                          <a:lnTo>
                            <a:pt x="761" y="2139"/>
                          </a:lnTo>
                          <a:lnTo>
                            <a:pt x="765" y="2144"/>
                          </a:lnTo>
                          <a:lnTo>
                            <a:pt x="767" y="2150"/>
                          </a:lnTo>
                          <a:lnTo>
                            <a:pt x="769" y="2156"/>
                          </a:lnTo>
                          <a:lnTo>
                            <a:pt x="772" y="2159"/>
                          </a:lnTo>
                          <a:lnTo>
                            <a:pt x="776" y="2165"/>
                          </a:lnTo>
                          <a:lnTo>
                            <a:pt x="780" y="2171"/>
                          </a:lnTo>
                          <a:lnTo>
                            <a:pt x="782" y="2175"/>
                          </a:lnTo>
                          <a:lnTo>
                            <a:pt x="786" y="2180"/>
                          </a:lnTo>
                          <a:lnTo>
                            <a:pt x="789" y="2186"/>
                          </a:lnTo>
                          <a:lnTo>
                            <a:pt x="795" y="2190"/>
                          </a:lnTo>
                          <a:lnTo>
                            <a:pt x="799" y="2196"/>
                          </a:lnTo>
                          <a:lnTo>
                            <a:pt x="805" y="2201"/>
                          </a:lnTo>
                          <a:lnTo>
                            <a:pt x="808" y="2205"/>
                          </a:lnTo>
                          <a:lnTo>
                            <a:pt x="814" y="2209"/>
                          </a:lnTo>
                          <a:lnTo>
                            <a:pt x="818" y="2213"/>
                          </a:lnTo>
                          <a:lnTo>
                            <a:pt x="824" y="2216"/>
                          </a:lnTo>
                          <a:lnTo>
                            <a:pt x="828" y="2222"/>
                          </a:lnTo>
                          <a:lnTo>
                            <a:pt x="833" y="2224"/>
                          </a:lnTo>
                          <a:lnTo>
                            <a:pt x="839" y="2228"/>
                          </a:lnTo>
                          <a:lnTo>
                            <a:pt x="845" y="2232"/>
                          </a:lnTo>
                          <a:lnTo>
                            <a:pt x="848" y="2235"/>
                          </a:lnTo>
                          <a:lnTo>
                            <a:pt x="854" y="2239"/>
                          </a:lnTo>
                          <a:lnTo>
                            <a:pt x="858" y="2243"/>
                          </a:lnTo>
                          <a:lnTo>
                            <a:pt x="864" y="2245"/>
                          </a:lnTo>
                          <a:lnTo>
                            <a:pt x="867" y="2249"/>
                          </a:lnTo>
                          <a:lnTo>
                            <a:pt x="873" y="2253"/>
                          </a:lnTo>
                          <a:lnTo>
                            <a:pt x="877" y="2256"/>
                          </a:lnTo>
                          <a:lnTo>
                            <a:pt x="883" y="2258"/>
                          </a:lnTo>
                          <a:lnTo>
                            <a:pt x="890" y="2260"/>
                          </a:lnTo>
                          <a:lnTo>
                            <a:pt x="896" y="2264"/>
                          </a:lnTo>
                          <a:lnTo>
                            <a:pt x="900" y="2266"/>
                          </a:lnTo>
                          <a:lnTo>
                            <a:pt x="904" y="2268"/>
                          </a:lnTo>
                          <a:lnTo>
                            <a:pt x="907" y="2270"/>
                          </a:lnTo>
                          <a:lnTo>
                            <a:pt x="913" y="2273"/>
                          </a:lnTo>
                          <a:lnTo>
                            <a:pt x="919" y="2275"/>
                          </a:lnTo>
                          <a:lnTo>
                            <a:pt x="925" y="2277"/>
                          </a:lnTo>
                          <a:lnTo>
                            <a:pt x="928" y="2279"/>
                          </a:lnTo>
                          <a:lnTo>
                            <a:pt x="934" y="2281"/>
                          </a:lnTo>
                          <a:lnTo>
                            <a:pt x="938" y="2283"/>
                          </a:lnTo>
                          <a:lnTo>
                            <a:pt x="942" y="2285"/>
                          </a:lnTo>
                          <a:lnTo>
                            <a:pt x="947" y="2287"/>
                          </a:lnTo>
                          <a:lnTo>
                            <a:pt x="951" y="2289"/>
                          </a:lnTo>
                          <a:lnTo>
                            <a:pt x="955" y="2289"/>
                          </a:lnTo>
                          <a:lnTo>
                            <a:pt x="961" y="2291"/>
                          </a:lnTo>
                          <a:lnTo>
                            <a:pt x="964" y="2291"/>
                          </a:lnTo>
                          <a:lnTo>
                            <a:pt x="968" y="2294"/>
                          </a:lnTo>
                          <a:lnTo>
                            <a:pt x="972" y="2294"/>
                          </a:lnTo>
                          <a:lnTo>
                            <a:pt x="978" y="2294"/>
                          </a:lnTo>
                          <a:lnTo>
                            <a:pt x="982" y="2296"/>
                          </a:lnTo>
                          <a:lnTo>
                            <a:pt x="985" y="2296"/>
                          </a:lnTo>
                          <a:lnTo>
                            <a:pt x="989" y="2296"/>
                          </a:lnTo>
                          <a:lnTo>
                            <a:pt x="993" y="2298"/>
                          </a:lnTo>
                          <a:lnTo>
                            <a:pt x="997" y="2298"/>
                          </a:lnTo>
                          <a:lnTo>
                            <a:pt x="1001" y="2298"/>
                          </a:lnTo>
                          <a:lnTo>
                            <a:pt x="1004" y="2298"/>
                          </a:lnTo>
                          <a:lnTo>
                            <a:pt x="1008" y="2300"/>
                          </a:lnTo>
                          <a:lnTo>
                            <a:pt x="1010" y="2300"/>
                          </a:lnTo>
                          <a:lnTo>
                            <a:pt x="1014" y="2300"/>
                          </a:lnTo>
                          <a:lnTo>
                            <a:pt x="1016" y="2300"/>
                          </a:lnTo>
                          <a:lnTo>
                            <a:pt x="1020" y="2300"/>
                          </a:lnTo>
                          <a:lnTo>
                            <a:pt x="1022" y="2300"/>
                          </a:lnTo>
                          <a:lnTo>
                            <a:pt x="1025" y="2302"/>
                          </a:lnTo>
                          <a:lnTo>
                            <a:pt x="1029" y="2300"/>
                          </a:lnTo>
                          <a:lnTo>
                            <a:pt x="1035" y="2300"/>
                          </a:lnTo>
                          <a:lnTo>
                            <a:pt x="1039" y="2298"/>
                          </a:lnTo>
                          <a:lnTo>
                            <a:pt x="1042" y="2298"/>
                          </a:lnTo>
                          <a:lnTo>
                            <a:pt x="1044" y="2296"/>
                          </a:lnTo>
                          <a:lnTo>
                            <a:pt x="1048" y="2296"/>
                          </a:lnTo>
                          <a:lnTo>
                            <a:pt x="1048" y="2294"/>
                          </a:lnTo>
                          <a:lnTo>
                            <a:pt x="1050" y="2294"/>
                          </a:lnTo>
                          <a:lnTo>
                            <a:pt x="1246" y="1334"/>
                          </a:lnTo>
                          <a:lnTo>
                            <a:pt x="1246" y="1333"/>
                          </a:lnTo>
                          <a:lnTo>
                            <a:pt x="1248" y="1331"/>
                          </a:lnTo>
                          <a:lnTo>
                            <a:pt x="1250" y="1327"/>
                          </a:lnTo>
                          <a:lnTo>
                            <a:pt x="1252" y="1325"/>
                          </a:lnTo>
                          <a:lnTo>
                            <a:pt x="1252" y="1323"/>
                          </a:lnTo>
                          <a:lnTo>
                            <a:pt x="1254" y="1319"/>
                          </a:lnTo>
                          <a:lnTo>
                            <a:pt x="1256" y="1315"/>
                          </a:lnTo>
                          <a:lnTo>
                            <a:pt x="1259" y="1312"/>
                          </a:lnTo>
                          <a:lnTo>
                            <a:pt x="1259" y="1306"/>
                          </a:lnTo>
                          <a:lnTo>
                            <a:pt x="1263" y="1302"/>
                          </a:lnTo>
                          <a:lnTo>
                            <a:pt x="1265" y="1296"/>
                          </a:lnTo>
                          <a:lnTo>
                            <a:pt x="1269" y="1293"/>
                          </a:lnTo>
                          <a:lnTo>
                            <a:pt x="1271" y="1285"/>
                          </a:lnTo>
                          <a:lnTo>
                            <a:pt x="1275" y="1281"/>
                          </a:lnTo>
                          <a:lnTo>
                            <a:pt x="1276" y="1274"/>
                          </a:lnTo>
                          <a:lnTo>
                            <a:pt x="1280" y="1266"/>
                          </a:lnTo>
                          <a:lnTo>
                            <a:pt x="1284" y="1258"/>
                          </a:lnTo>
                          <a:lnTo>
                            <a:pt x="1288" y="1249"/>
                          </a:lnTo>
                          <a:lnTo>
                            <a:pt x="1290" y="1241"/>
                          </a:lnTo>
                          <a:lnTo>
                            <a:pt x="1294" y="1234"/>
                          </a:lnTo>
                          <a:lnTo>
                            <a:pt x="1297" y="1224"/>
                          </a:lnTo>
                          <a:lnTo>
                            <a:pt x="1301" y="1217"/>
                          </a:lnTo>
                          <a:lnTo>
                            <a:pt x="1305" y="1207"/>
                          </a:lnTo>
                          <a:lnTo>
                            <a:pt x="1309" y="1198"/>
                          </a:lnTo>
                          <a:lnTo>
                            <a:pt x="1313" y="1188"/>
                          </a:lnTo>
                          <a:lnTo>
                            <a:pt x="1316" y="1177"/>
                          </a:lnTo>
                          <a:lnTo>
                            <a:pt x="1320" y="1165"/>
                          </a:lnTo>
                          <a:lnTo>
                            <a:pt x="1324" y="1154"/>
                          </a:lnTo>
                          <a:lnTo>
                            <a:pt x="1330" y="1144"/>
                          </a:lnTo>
                          <a:lnTo>
                            <a:pt x="1334" y="1133"/>
                          </a:lnTo>
                          <a:lnTo>
                            <a:pt x="1337" y="1122"/>
                          </a:lnTo>
                          <a:lnTo>
                            <a:pt x="1339" y="1108"/>
                          </a:lnTo>
                          <a:lnTo>
                            <a:pt x="1345" y="1097"/>
                          </a:lnTo>
                          <a:lnTo>
                            <a:pt x="1349" y="1084"/>
                          </a:lnTo>
                          <a:lnTo>
                            <a:pt x="1353" y="1070"/>
                          </a:lnTo>
                          <a:lnTo>
                            <a:pt x="1354" y="1059"/>
                          </a:lnTo>
                          <a:lnTo>
                            <a:pt x="1358" y="1044"/>
                          </a:lnTo>
                          <a:lnTo>
                            <a:pt x="1362" y="1032"/>
                          </a:lnTo>
                          <a:lnTo>
                            <a:pt x="1366" y="1017"/>
                          </a:lnTo>
                          <a:lnTo>
                            <a:pt x="1370" y="1004"/>
                          </a:lnTo>
                          <a:lnTo>
                            <a:pt x="1372" y="988"/>
                          </a:lnTo>
                          <a:lnTo>
                            <a:pt x="1375" y="975"/>
                          </a:lnTo>
                          <a:lnTo>
                            <a:pt x="1377" y="960"/>
                          </a:lnTo>
                          <a:lnTo>
                            <a:pt x="1381" y="947"/>
                          </a:lnTo>
                          <a:lnTo>
                            <a:pt x="1383" y="931"/>
                          </a:lnTo>
                          <a:lnTo>
                            <a:pt x="1387" y="916"/>
                          </a:lnTo>
                          <a:lnTo>
                            <a:pt x="1389" y="901"/>
                          </a:lnTo>
                          <a:lnTo>
                            <a:pt x="1391" y="886"/>
                          </a:lnTo>
                          <a:lnTo>
                            <a:pt x="1392" y="871"/>
                          </a:lnTo>
                          <a:lnTo>
                            <a:pt x="1394" y="855"/>
                          </a:lnTo>
                          <a:lnTo>
                            <a:pt x="1396" y="838"/>
                          </a:lnTo>
                          <a:lnTo>
                            <a:pt x="1398" y="823"/>
                          </a:lnTo>
                          <a:lnTo>
                            <a:pt x="1398" y="806"/>
                          </a:lnTo>
                          <a:lnTo>
                            <a:pt x="1400" y="791"/>
                          </a:lnTo>
                          <a:lnTo>
                            <a:pt x="1402" y="774"/>
                          </a:lnTo>
                          <a:lnTo>
                            <a:pt x="1402" y="757"/>
                          </a:lnTo>
                          <a:lnTo>
                            <a:pt x="1402" y="741"/>
                          </a:lnTo>
                          <a:lnTo>
                            <a:pt x="1402" y="724"/>
                          </a:lnTo>
                          <a:lnTo>
                            <a:pt x="1402" y="705"/>
                          </a:lnTo>
                          <a:lnTo>
                            <a:pt x="1402" y="690"/>
                          </a:lnTo>
                          <a:lnTo>
                            <a:pt x="1400" y="673"/>
                          </a:lnTo>
                          <a:lnTo>
                            <a:pt x="1400" y="656"/>
                          </a:lnTo>
                          <a:lnTo>
                            <a:pt x="1398" y="654"/>
                          </a:lnTo>
                          <a:lnTo>
                            <a:pt x="1398" y="652"/>
                          </a:lnTo>
                          <a:lnTo>
                            <a:pt x="1398" y="648"/>
                          </a:lnTo>
                          <a:lnTo>
                            <a:pt x="1398" y="644"/>
                          </a:lnTo>
                          <a:lnTo>
                            <a:pt x="1398" y="643"/>
                          </a:lnTo>
                          <a:lnTo>
                            <a:pt x="1398" y="639"/>
                          </a:lnTo>
                          <a:lnTo>
                            <a:pt x="1396" y="637"/>
                          </a:lnTo>
                          <a:lnTo>
                            <a:pt x="1396" y="633"/>
                          </a:lnTo>
                          <a:lnTo>
                            <a:pt x="1396" y="631"/>
                          </a:lnTo>
                          <a:lnTo>
                            <a:pt x="1396" y="627"/>
                          </a:lnTo>
                          <a:lnTo>
                            <a:pt x="1396" y="623"/>
                          </a:lnTo>
                          <a:lnTo>
                            <a:pt x="1394" y="620"/>
                          </a:lnTo>
                          <a:lnTo>
                            <a:pt x="1394" y="618"/>
                          </a:lnTo>
                          <a:lnTo>
                            <a:pt x="1394" y="616"/>
                          </a:lnTo>
                          <a:lnTo>
                            <a:pt x="1392" y="612"/>
                          </a:lnTo>
                          <a:lnTo>
                            <a:pt x="1392" y="610"/>
                          </a:lnTo>
                          <a:lnTo>
                            <a:pt x="1392" y="608"/>
                          </a:lnTo>
                          <a:lnTo>
                            <a:pt x="1391" y="604"/>
                          </a:lnTo>
                          <a:lnTo>
                            <a:pt x="1391" y="603"/>
                          </a:lnTo>
                          <a:lnTo>
                            <a:pt x="1391" y="599"/>
                          </a:lnTo>
                          <a:lnTo>
                            <a:pt x="1389" y="597"/>
                          </a:lnTo>
                          <a:lnTo>
                            <a:pt x="1389" y="593"/>
                          </a:lnTo>
                          <a:lnTo>
                            <a:pt x="1389" y="589"/>
                          </a:lnTo>
                          <a:lnTo>
                            <a:pt x="1389" y="587"/>
                          </a:lnTo>
                          <a:lnTo>
                            <a:pt x="1387" y="585"/>
                          </a:lnTo>
                          <a:lnTo>
                            <a:pt x="1385" y="582"/>
                          </a:lnTo>
                          <a:lnTo>
                            <a:pt x="1385" y="580"/>
                          </a:lnTo>
                          <a:lnTo>
                            <a:pt x="1383" y="578"/>
                          </a:lnTo>
                          <a:lnTo>
                            <a:pt x="1383" y="572"/>
                          </a:lnTo>
                          <a:lnTo>
                            <a:pt x="1381" y="568"/>
                          </a:lnTo>
                          <a:lnTo>
                            <a:pt x="1377" y="563"/>
                          </a:lnTo>
                          <a:lnTo>
                            <a:pt x="1375" y="557"/>
                          </a:lnTo>
                          <a:lnTo>
                            <a:pt x="1373" y="553"/>
                          </a:lnTo>
                          <a:lnTo>
                            <a:pt x="1370" y="547"/>
                          </a:lnTo>
                          <a:lnTo>
                            <a:pt x="1366" y="544"/>
                          </a:lnTo>
                          <a:lnTo>
                            <a:pt x="1364" y="540"/>
                          </a:lnTo>
                          <a:lnTo>
                            <a:pt x="1360" y="536"/>
                          </a:lnTo>
                          <a:lnTo>
                            <a:pt x="1356" y="532"/>
                          </a:lnTo>
                          <a:lnTo>
                            <a:pt x="1353" y="528"/>
                          </a:lnTo>
                          <a:lnTo>
                            <a:pt x="1349" y="525"/>
                          </a:lnTo>
                          <a:lnTo>
                            <a:pt x="1345" y="523"/>
                          </a:lnTo>
                          <a:lnTo>
                            <a:pt x="1339" y="521"/>
                          </a:lnTo>
                          <a:lnTo>
                            <a:pt x="1335" y="517"/>
                          </a:lnTo>
                          <a:lnTo>
                            <a:pt x="1332" y="515"/>
                          </a:lnTo>
                          <a:lnTo>
                            <a:pt x="1326" y="515"/>
                          </a:lnTo>
                          <a:lnTo>
                            <a:pt x="1322" y="513"/>
                          </a:lnTo>
                          <a:lnTo>
                            <a:pt x="1318" y="511"/>
                          </a:lnTo>
                          <a:lnTo>
                            <a:pt x="1316" y="511"/>
                          </a:lnTo>
                          <a:lnTo>
                            <a:pt x="1313" y="511"/>
                          </a:lnTo>
                          <a:lnTo>
                            <a:pt x="1311" y="511"/>
                          </a:lnTo>
                          <a:lnTo>
                            <a:pt x="1309" y="509"/>
                          </a:lnTo>
                          <a:lnTo>
                            <a:pt x="1305" y="509"/>
                          </a:lnTo>
                          <a:lnTo>
                            <a:pt x="1303" y="509"/>
                          </a:lnTo>
                          <a:lnTo>
                            <a:pt x="1301" y="509"/>
                          </a:lnTo>
                          <a:lnTo>
                            <a:pt x="1297" y="509"/>
                          </a:lnTo>
                          <a:lnTo>
                            <a:pt x="1295" y="509"/>
                          </a:lnTo>
                          <a:lnTo>
                            <a:pt x="1292" y="509"/>
                          </a:lnTo>
                          <a:lnTo>
                            <a:pt x="1290" y="509"/>
                          </a:lnTo>
                          <a:lnTo>
                            <a:pt x="1284" y="509"/>
                          </a:lnTo>
                          <a:lnTo>
                            <a:pt x="1280" y="509"/>
                          </a:lnTo>
                          <a:lnTo>
                            <a:pt x="1275" y="509"/>
                          </a:lnTo>
                          <a:lnTo>
                            <a:pt x="1269" y="509"/>
                          </a:lnTo>
                          <a:lnTo>
                            <a:pt x="1265" y="509"/>
                          </a:lnTo>
                          <a:lnTo>
                            <a:pt x="1259" y="509"/>
                          </a:lnTo>
                          <a:lnTo>
                            <a:pt x="1256" y="511"/>
                          </a:lnTo>
                          <a:lnTo>
                            <a:pt x="1252" y="511"/>
                          </a:lnTo>
                          <a:lnTo>
                            <a:pt x="1246" y="515"/>
                          </a:lnTo>
                          <a:lnTo>
                            <a:pt x="1242" y="515"/>
                          </a:lnTo>
                          <a:lnTo>
                            <a:pt x="1238" y="517"/>
                          </a:lnTo>
                          <a:lnTo>
                            <a:pt x="1235" y="521"/>
                          </a:lnTo>
                          <a:lnTo>
                            <a:pt x="1231" y="523"/>
                          </a:lnTo>
                          <a:lnTo>
                            <a:pt x="1229" y="525"/>
                          </a:lnTo>
                          <a:lnTo>
                            <a:pt x="1225" y="527"/>
                          </a:lnTo>
                          <a:lnTo>
                            <a:pt x="1221" y="530"/>
                          </a:lnTo>
                          <a:lnTo>
                            <a:pt x="1219" y="532"/>
                          </a:lnTo>
                          <a:lnTo>
                            <a:pt x="1216" y="538"/>
                          </a:lnTo>
                          <a:lnTo>
                            <a:pt x="1214" y="542"/>
                          </a:lnTo>
                          <a:lnTo>
                            <a:pt x="1212" y="546"/>
                          </a:lnTo>
                          <a:lnTo>
                            <a:pt x="1210" y="549"/>
                          </a:lnTo>
                          <a:lnTo>
                            <a:pt x="1208" y="555"/>
                          </a:lnTo>
                          <a:lnTo>
                            <a:pt x="1208" y="557"/>
                          </a:lnTo>
                          <a:lnTo>
                            <a:pt x="1206" y="559"/>
                          </a:lnTo>
                          <a:lnTo>
                            <a:pt x="1204" y="561"/>
                          </a:lnTo>
                          <a:lnTo>
                            <a:pt x="1204" y="565"/>
                          </a:lnTo>
                          <a:lnTo>
                            <a:pt x="1204" y="566"/>
                          </a:lnTo>
                          <a:lnTo>
                            <a:pt x="1204" y="570"/>
                          </a:lnTo>
                          <a:lnTo>
                            <a:pt x="1204" y="572"/>
                          </a:lnTo>
                          <a:lnTo>
                            <a:pt x="1204" y="576"/>
                          </a:lnTo>
                          <a:lnTo>
                            <a:pt x="1139" y="895"/>
                          </a:lnTo>
                          <a:lnTo>
                            <a:pt x="1136" y="893"/>
                          </a:lnTo>
                          <a:lnTo>
                            <a:pt x="1132" y="892"/>
                          </a:lnTo>
                          <a:lnTo>
                            <a:pt x="1126" y="888"/>
                          </a:lnTo>
                          <a:lnTo>
                            <a:pt x="1122" y="886"/>
                          </a:lnTo>
                          <a:lnTo>
                            <a:pt x="1117" y="884"/>
                          </a:lnTo>
                          <a:lnTo>
                            <a:pt x="1113" y="880"/>
                          </a:lnTo>
                          <a:lnTo>
                            <a:pt x="1107" y="878"/>
                          </a:lnTo>
                          <a:lnTo>
                            <a:pt x="1105" y="876"/>
                          </a:lnTo>
                          <a:lnTo>
                            <a:pt x="1227" y="316"/>
                          </a:lnTo>
                          <a:lnTo>
                            <a:pt x="1227" y="312"/>
                          </a:lnTo>
                          <a:lnTo>
                            <a:pt x="1227" y="308"/>
                          </a:lnTo>
                          <a:lnTo>
                            <a:pt x="1229" y="306"/>
                          </a:lnTo>
                          <a:lnTo>
                            <a:pt x="1229" y="304"/>
                          </a:lnTo>
                          <a:lnTo>
                            <a:pt x="1229" y="300"/>
                          </a:lnTo>
                          <a:lnTo>
                            <a:pt x="1229" y="298"/>
                          </a:lnTo>
                          <a:lnTo>
                            <a:pt x="1229" y="295"/>
                          </a:lnTo>
                          <a:lnTo>
                            <a:pt x="1229" y="293"/>
                          </a:lnTo>
                          <a:lnTo>
                            <a:pt x="1229" y="291"/>
                          </a:lnTo>
                          <a:lnTo>
                            <a:pt x="1229" y="287"/>
                          </a:lnTo>
                          <a:lnTo>
                            <a:pt x="1229" y="285"/>
                          </a:lnTo>
                          <a:lnTo>
                            <a:pt x="1229" y="283"/>
                          </a:lnTo>
                          <a:lnTo>
                            <a:pt x="1229" y="278"/>
                          </a:lnTo>
                          <a:lnTo>
                            <a:pt x="1227" y="272"/>
                          </a:lnTo>
                          <a:lnTo>
                            <a:pt x="1225" y="268"/>
                          </a:lnTo>
                          <a:lnTo>
                            <a:pt x="1225" y="262"/>
                          </a:lnTo>
                          <a:lnTo>
                            <a:pt x="1223" y="257"/>
                          </a:lnTo>
                          <a:lnTo>
                            <a:pt x="1221" y="253"/>
                          </a:lnTo>
                          <a:lnTo>
                            <a:pt x="1219" y="247"/>
                          </a:lnTo>
                          <a:lnTo>
                            <a:pt x="1217" y="243"/>
                          </a:lnTo>
                          <a:lnTo>
                            <a:pt x="1216" y="240"/>
                          </a:lnTo>
                          <a:lnTo>
                            <a:pt x="1214" y="236"/>
                          </a:lnTo>
                          <a:lnTo>
                            <a:pt x="1210" y="232"/>
                          </a:lnTo>
                          <a:lnTo>
                            <a:pt x="1206" y="226"/>
                          </a:lnTo>
                          <a:lnTo>
                            <a:pt x="1202" y="222"/>
                          </a:lnTo>
                          <a:lnTo>
                            <a:pt x="1200" y="219"/>
                          </a:lnTo>
                          <a:lnTo>
                            <a:pt x="1197" y="215"/>
                          </a:lnTo>
                          <a:lnTo>
                            <a:pt x="1193" y="211"/>
                          </a:lnTo>
                          <a:lnTo>
                            <a:pt x="1189" y="207"/>
                          </a:lnTo>
                          <a:lnTo>
                            <a:pt x="1185" y="205"/>
                          </a:lnTo>
                          <a:lnTo>
                            <a:pt x="1179" y="203"/>
                          </a:lnTo>
                          <a:lnTo>
                            <a:pt x="1176" y="200"/>
                          </a:lnTo>
                          <a:lnTo>
                            <a:pt x="1172" y="198"/>
                          </a:lnTo>
                          <a:lnTo>
                            <a:pt x="1166" y="194"/>
                          </a:lnTo>
                          <a:lnTo>
                            <a:pt x="1160" y="192"/>
                          </a:lnTo>
                          <a:lnTo>
                            <a:pt x="1157" y="192"/>
                          </a:lnTo>
                          <a:lnTo>
                            <a:pt x="1151" y="190"/>
                          </a:lnTo>
                          <a:lnTo>
                            <a:pt x="1147" y="190"/>
                          </a:lnTo>
                          <a:lnTo>
                            <a:pt x="1143" y="188"/>
                          </a:lnTo>
                          <a:lnTo>
                            <a:pt x="1141" y="186"/>
                          </a:lnTo>
                          <a:lnTo>
                            <a:pt x="1138" y="186"/>
                          </a:lnTo>
                          <a:lnTo>
                            <a:pt x="1136" y="186"/>
                          </a:lnTo>
                          <a:lnTo>
                            <a:pt x="1134" y="186"/>
                          </a:lnTo>
                          <a:lnTo>
                            <a:pt x="1130" y="186"/>
                          </a:lnTo>
                          <a:lnTo>
                            <a:pt x="1128" y="186"/>
                          </a:lnTo>
                          <a:lnTo>
                            <a:pt x="1124" y="186"/>
                          </a:lnTo>
                          <a:lnTo>
                            <a:pt x="1122" y="186"/>
                          </a:lnTo>
                          <a:lnTo>
                            <a:pt x="1120" y="186"/>
                          </a:lnTo>
                          <a:lnTo>
                            <a:pt x="1117" y="186"/>
                          </a:lnTo>
                          <a:lnTo>
                            <a:pt x="1115" y="186"/>
                          </a:lnTo>
                          <a:lnTo>
                            <a:pt x="1109" y="186"/>
                          </a:lnTo>
                          <a:lnTo>
                            <a:pt x="1105" y="188"/>
                          </a:lnTo>
                          <a:lnTo>
                            <a:pt x="1100" y="188"/>
                          </a:lnTo>
                          <a:lnTo>
                            <a:pt x="1094" y="190"/>
                          </a:lnTo>
                          <a:lnTo>
                            <a:pt x="1090" y="192"/>
                          </a:lnTo>
                          <a:lnTo>
                            <a:pt x="1086" y="192"/>
                          </a:lnTo>
                          <a:lnTo>
                            <a:pt x="1081" y="194"/>
                          </a:lnTo>
                          <a:lnTo>
                            <a:pt x="1077" y="198"/>
                          </a:lnTo>
                          <a:lnTo>
                            <a:pt x="1073" y="200"/>
                          </a:lnTo>
                          <a:lnTo>
                            <a:pt x="1067" y="203"/>
                          </a:lnTo>
                          <a:lnTo>
                            <a:pt x="1063" y="205"/>
                          </a:lnTo>
                          <a:lnTo>
                            <a:pt x="1058" y="207"/>
                          </a:lnTo>
                          <a:lnTo>
                            <a:pt x="1054" y="211"/>
                          </a:lnTo>
                          <a:lnTo>
                            <a:pt x="1050" y="215"/>
                          </a:lnTo>
                          <a:lnTo>
                            <a:pt x="1048" y="219"/>
                          </a:lnTo>
                          <a:lnTo>
                            <a:pt x="1044" y="222"/>
                          </a:lnTo>
                          <a:lnTo>
                            <a:pt x="1041" y="226"/>
                          </a:lnTo>
                          <a:lnTo>
                            <a:pt x="1039" y="232"/>
                          </a:lnTo>
                          <a:lnTo>
                            <a:pt x="1035" y="234"/>
                          </a:lnTo>
                          <a:lnTo>
                            <a:pt x="1033" y="240"/>
                          </a:lnTo>
                          <a:lnTo>
                            <a:pt x="1029" y="243"/>
                          </a:lnTo>
                          <a:lnTo>
                            <a:pt x="1027" y="249"/>
                          </a:lnTo>
                          <a:lnTo>
                            <a:pt x="1025" y="253"/>
                          </a:lnTo>
                          <a:lnTo>
                            <a:pt x="1023" y="259"/>
                          </a:lnTo>
                          <a:lnTo>
                            <a:pt x="1022" y="260"/>
                          </a:lnTo>
                          <a:lnTo>
                            <a:pt x="1022" y="264"/>
                          </a:lnTo>
                          <a:lnTo>
                            <a:pt x="1022" y="266"/>
                          </a:lnTo>
                          <a:lnTo>
                            <a:pt x="1022" y="270"/>
                          </a:lnTo>
                          <a:lnTo>
                            <a:pt x="919" y="730"/>
                          </a:lnTo>
                          <a:lnTo>
                            <a:pt x="915" y="728"/>
                          </a:lnTo>
                          <a:lnTo>
                            <a:pt x="913" y="726"/>
                          </a:lnTo>
                          <a:lnTo>
                            <a:pt x="907" y="724"/>
                          </a:lnTo>
                          <a:lnTo>
                            <a:pt x="905" y="720"/>
                          </a:lnTo>
                          <a:lnTo>
                            <a:pt x="904" y="719"/>
                          </a:lnTo>
                          <a:lnTo>
                            <a:pt x="900" y="717"/>
                          </a:lnTo>
                          <a:lnTo>
                            <a:pt x="896" y="713"/>
                          </a:lnTo>
                          <a:lnTo>
                            <a:pt x="892" y="713"/>
                          </a:lnTo>
                          <a:lnTo>
                            <a:pt x="1022" y="129"/>
                          </a:lnTo>
                          <a:lnTo>
                            <a:pt x="1022" y="125"/>
                          </a:lnTo>
                          <a:lnTo>
                            <a:pt x="1022" y="124"/>
                          </a:lnTo>
                          <a:lnTo>
                            <a:pt x="1022" y="120"/>
                          </a:lnTo>
                          <a:lnTo>
                            <a:pt x="1022" y="118"/>
                          </a:lnTo>
                          <a:lnTo>
                            <a:pt x="1022" y="114"/>
                          </a:lnTo>
                          <a:lnTo>
                            <a:pt x="1022" y="112"/>
                          </a:lnTo>
                          <a:lnTo>
                            <a:pt x="1022" y="110"/>
                          </a:lnTo>
                          <a:lnTo>
                            <a:pt x="1022" y="106"/>
                          </a:lnTo>
                          <a:lnTo>
                            <a:pt x="1022" y="105"/>
                          </a:lnTo>
                          <a:lnTo>
                            <a:pt x="1022" y="103"/>
                          </a:lnTo>
                          <a:lnTo>
                            <a:pt x="1022" y="99"/>
                          </a:lnTo>
                          <a:lnTo>
                            <a:pt x="1022" y="97"/>
                          </a:lnTo>
                          <a:lnTo>
                            <a:pt x="1022" y="91"/>
                          </a:lnTo>
                          <a:lnTo>
                            <a:pt x="1022" y="86"/>
                          </a:lnTo>
                          <a:lnTo>
                            <a:pt x="1020" y="82"/>
                          </a:lnTo>
                          <a:lnTo>
                            <a:pt x="1018" y="76"/>
                          </a:lnTo>
                          <a:lnTo>
                            <a:pt x="1016" y="70"/>
                          </a:lnTo>
                          <a:lnTo>
                            <a:pt x="1014" y="67"/>
                          </a:lnTo>
                          <a:lnTo>
                            <a:pt x="1012" y="61"/>
                          </a:lnTo>
                          <a:lnTo>
                            <a:pt x="1010" y="57"/>
                          </a:lnTo>
                          <a:lnTo>
                            <a:pt x="1008" y="53"/>
                          </a:lnTo>
                          <a:lnTo>
                            <a:pt x="1006" y="48"/>
                          </a:lnTo>
                          <a:lnTo>
                            <a:pt x="1004" y="44"/>
                          </a:lnTo>
                          <a:lnTo>
                            <a:pt x="1001" y="40"/>
                          </a:lnTo>
                          <a:lnTo>
                            <a:pt x="997" y="36"/>
                          </a:lnTo>
                          <a:lnTo>
                            <a:pt x="993" y="32"/>
                          </a:lnTo>
                          <a:lnTo>
                            <a:pt x="991" y="29"/>
                          </a:lnTo>
                          <a:lnTo>
                            <a:pt x="985" y="25"/>
                          </a:lnTo>
                          <a:lnTo>
                            <a:pt x="983" y="23"/>
                          </a:lnTo>
                          <a:lnTo>
                            <a:pt x="978" y="19"/>
                          </a:lnTo>
                          <a:lnTo>
                            <a:pt x="972" y="17"/>
                          </a:lnTo>
                          <a:lnTo>
                            <a:pt x="968" y="13"/>
                          </a:lnTo>
                          <a:lnTo>
                            <a:pt x="964" y="11"/>
                          </a:lnTo>
                          <a:lnTo>
                            <a:pt x="961" y="10"/>
                          </a:lnTo>
                          <a:lnTo>
                            <a:pt x="955" y="6"/>
                          </a:lnTo>
                          <a:lnTo>
                            <a:pt x="949" y="6"/>
                          </a:lnTo>
                          <a:lnTo>
                            <a:pt x="944" y="4"/>
                          </a:lnTo>
                          <a:lnTo>
                            <a:pt x="940" y="4"/>
                          </a:lnTo>
                          <a:lnTo>
                            <a:pt x="936" y="2"/>
                          </a:lnTo>
                          <a:lnTo>
                            <a:pt x="934" y="2"/>
                          </a:lnTo>
                          <a:lnTo>
                            <a:pt x="932" y="0"/>
                          </a:lnTo>
                          <a:lnTo>
                            <a:pt x="928" y="0"/>
                          </a:lnTo>
                          <a:lnTo>
                            <a:pt x="926" y="0"/>
                          </a:lnTo>
                          <a:lnTo>
                            <a:pt x="925" y="0"/>
                          </a:lnTo>
                          <a:lnTo>
                            <a:pt x="921" y="0"/>
                          </a:lnTo>
                          <a:lnTo>
                            <a:pt x="919" y="0"/>
                          </a:lnTo>
                          <a:lnTo>
                            <a:pt x="915" y="0"/>
                          </a:lnTo>
                          <a:lnTo>
                            <a:pt x="913" y="0"/>
                          </a:lnTo>
                          <a:lnTo>
                            <a:pt x="911" y="0"/>
                          </a:lnTo>
                          <a:lnTo>
                            <a:pt x="907" y="0"/>
                          </a:lnTo>
                          <a:lnTo>
                            <a:pt x="904" y="0"/>
                          </a:lnTo>
                          <a:lnTo>
                            <a:pt x="898" y="2"/>
                          </a:lnTo>
                          <a:lnTo>
                            <a:pt x="896" y="2"/>
                          </a:lnTo>
                          <a:lnTo>
                            <a:pt x="892" y="2"/>
                          </a:lnTo>
                          <a:lnTo>
                            <a:pt x="890" y="2"/>
                          </a:lnTo>
                          <a:lnTo>
                            <a:pt x="888" y="4"/>
                          </a:lnTo>
                          <a:lnTo>
                            <a:pt x="881" y="4"/>
                          </a:lnTo>
                          <a:lnTo>
                            <a:pt x="877" y="6"/>
                          </a:lnTo>
                          <a:lnTo>
                            <a:pt x="873" y="10"/>
                          </a:lnTo>
                          <a:lnTo>
                            <a:pt x="867" y="11"/>
                          </a:lnTo>
                          <a:lnTo>
                            <a:pt x="864" y="15"/>
                          </a:lnTo>
                          <a:lnTo>
                            <a:pt x="860" y="17"/>
                          </a:lnTo>
                          <a:lnTo>
                            <a:pt x="854" y="19"/>
                          </a:lnTo>
                          <a:lnTo>
                            <a:pt x="850" y="23"/>
                          </a:lnTo>
                          <a:lnTo>
                            <a:pt x="847" y="25"/>
                          </a:lnTo>
                          <a:lnTo>
                            <a:pt x="843" y="29"/>
                          </a:lnTo>
                          <a:lnTo>
                            <a:pt x="839" y="32"/>
                          </a:lnTo>
                          <a:lnTo>
                            <a:pt x="835" y="36"/>
                          </a:lnTo>
                          <a:lnTo>
                            <a:pt x="833" y="40"/>
                          </a:lnTo>
                          <a:lnTo>
                            <a:pt x="831" y="44"/>
                          </a:lnTo>
                          <a:lnTo>
                            <a:pt x="828" y="48"/>
                          </a:lnTo>
                          <a:lnTo>
                            <a:pt x="824" y="53"/>
                          </a:lnTo>
                          <a:lnTo>
                            <a:pt x="822" y="57"/>
                          </a:lnTo>
                          <a:lnTo>
                            <a:pt x="820" y="61"/>
                          </a:lnTo>
                          <a:lnTo>
                            <a:pt x="818" y="67"/>
                          </a:lnTo>
                          <a:lnTo>
                            <a:pt x="816" y="70"/>
                          </a:lnTo>
                          <a:lnTo>
                            <a:pt x="816" y="74"/>
                          </a:lnTo>
                          <a:lnTo>
                            <a:pt x="814" y="76"/>
                          </a:lnTo>
                          <a:lnTo>
                            <a:pt x="812" y="82"/>
                          </a:lnTo>
                          <a:lnTo>
                            <a:pt x="812" y="84"/>
                          </a:lnTo>
                          <a:lnTo>
                            <a:pt x="687" y="663"/>
                          </a:lnTo>
                          <a:lnTo>
                            <a:pt x="681" y="663"/>
                          </a:lnTo>
                          <a:lnTo>
                            <a:pt x="677" y="663"/>
                          </a:lnTo>
                          <a:lnTo>
                            <a:pt x="673" y="663"/>
                          </a:lnTo>
                          <a:lnTo>
                            <a:pt x="670" y="663"/>
                          </a:lnTo>
                          <a:lnTo>
                            <a:pt x="666" y="663"/>
                          </a:lnTo>
                          <a:lnTo>
                            <a:pt x="660" y="665"/>
                          </a:lnTo>
                          <a:lnTo>
                            <a:pt x="656" y="665"/>
                          </a:lnTo>
                          <a:lnTo>
                            <a:pt x="652" y="667"/>
                          </a:lnTo>
                          <a:lnTo>
                            <a:pt x="753" y="213"/>
                          </a:lnTo>
                          <a:lnTo>
                            <a:pt x="753" y="209"/>
                          </a:lnTo>
                          <a:lnTo>
                            <a:pt x="753" y="207"/>
                          </a:lnTo>
                          <a:lnTo>
                            <a:pt x="753" y="203"/>
                          </a:lnTo>
                          <a:lnTo>
                            <a:pt x="753" y="201"/>
                          </a:lnTo>
                          <a:lnTo>
                            <a:pt x="753" y="198"/>
                          </a:lnTo>
                          <a:lnTo>
                            <a:pt x="753" y="196"/>
                          </a:lnTo>
                          <a:lnTo>
                            <a:pt x="753" y="192"/>
                          </a:lnTo>
                          <a:lnTo>
                            <a:pt x="753" y="190"/>
                          </a:lnTo>
                          <a:lnTo>
                            <a:pt x="753" y="188"/>
                          </a:lnTo>
                          <a:lnTo>
                            <a:pt x="753" y="184"/>
                          </a:lnTo>
                          <a:lnTo>
                            <a:pt x="753" y="182"/>
                          </a:lnTo>
                          <a:lnTo>
                            <a:pt x="753" y="181"/>
                          </a:lnTo>
                          <a:lnTo>
                            <a:pt x="753" y="175"/>
                          </a:lnTo>
                          <a:lnTo>
                            <a:pt x="753" y="169"/>
                          </a:lnTo>
                          <a:lnTo>
                            <a:pt x="751" y="167"/>
                          </a:lnTo>
                          <a:lnTo>
                            <a:pt x="751" y="163"/>
                          </a:lnTo>
                          <a:lnTo>
                            <a:pt x="751" y="162"/>
                          </a:lnTo>
                          <a:lnTo>
                            <a:pt x="750" y="160"/>
                          </a:lnTo>
                          <a:lnTo>
                            <a:pt x="748" y="154"/>
                          </a:lnTo>
                          <a:lnTo>
                            <a:pt x="746" y="148"/>
                          </a:lnTo>
                          <a:lnTo>
                            <a:pt x="744" y="144"/>
                          </a:lnTo>
                          <a:lnTo>
                            <a:pt x="742" y="141"/>
                          </a:lnTo>
                          <a:lnTo>
                            <a:pt x="740" y="135"/>
                          </a:lnTo>
                          <a:lnTo>
                            <a:pt x="738" y="131"/>
                          </a:lnTo>
                          <a:lnTo>
                            <a:pt x="734" y="127"/>
                          </a:lnTo>
                          <a:lnTo>
                            <a:pt x="730" y="124"/>
                          </a:lnTo>
                          <a:lnTo>
                            <a:pt x="727" y="120"/>
                          </a:lnTo>
                          <a:lnTo>
                            <a:pt x="725" y="116"/>
                          </a:lnTo>
                          <a:lnTo>
                            <a:pt x="721" y="112"/>
                          </a:lnTo>
                          <a:lnTo>
                            <a:pt x="717" y="108"/>
                          </a:lnTo>
                          <a:lnTo>
                            <a:pt x="713" y="105"/>
                          </a:lnTo>
                          <a:lnTo>
                            <a:pt x="710" y="103"/>
                          </a:lnTo>
                          <a:lnTo>
                            <a:pt x="704" y="99"/>
                          </a:lnTo>
                          <a:lnTo>
                            <a:pt x="700" y="97"/>
                          </a:lnTo>
                          <a:lnTo>
                            <a:pt x="694" y="95"/>
                          </a:lnTo>
                          <a:lnTo>
                            <a:pt x="691" y="91"/>
                          </a:lnTo>
                          <a:lnTo>
                            <a:pt x="685" y="89"/>
                          </a:lnTo>
                          <a:lnTo>
                            <a:pt x="681" y="87"/>
                          </a:lnTo>
                          <a:lnTo>
                            <a:pt x="675" y="86"/>
                          </a:lnTo>
                          <a:lnTo>
                            <a:pt x="672" y="86"/>
                          </a:lnTo>
                          <a:lnTo>
                            <a:pt x="668" y="84"/>
                          </a:lnTo>
                          <a:lnTo>
                            <a:pt x="666" y="84"/>
                          </a:lnTo>
                          <a:lnTo>
                            <a:pt x="664" y="84"/>
                          </a:lnTo>
                          <a:lnTo>
                            <a:pt x="660" y="84"/>
                          </a:lnTo>
                          <a:lnTo>
                            <a:pt x="658" y="84"/>
                          </a:lnTo>
                          <a:lnTo>
                            <a:pt x="654" y="84"/>
                          </a:lnTo>
                          <a:lnTo>
                            <a:pt x="652" y="84"/>
                          </a:lnTo>
                          <a:lnTo>
                            <a:pt x="651" y="84"/>
                          </a:lnTo>
                          <a:lnTo>
                            <a:pt x="647" y="84"/>
                          </a:lnTo>
                          <a:lnTo>
                            <a:pt x="645" y="84"/>
                          </a:lnTo>
                          <a:lnTo>
                            <a:pt x="643" y="84"/>
                          </a:lnTo>
                          <a:lnTo>
                            <a:pt x="639" y="84"/>
                          </a:lnTo>
                          <a:lnTo>
                            <a:pt x="635" y="84"/>
                          </a:lnTo>
                          <a:lnTo>
                            <a:pt x="630" y="84"/>
                          </a:lnTo>
                          <a:lnTo>
                            <a:pt x="628" y="84"/>
                          </a:lnTo>
                          <a:lnTo>
                            <a:pt x="624" y="86"/>
                          </a:lnTo>
                          <a:lnTo>
                            <a:pt x="622" y="86"/>
                          </a:lnTo>
                          <a:lnTo>
                            <a:pt x="618" y="86"/>
                          </a:lnTo>
                          <a:lnTo>
                            <a:pt x="614" y="87"/>
                          </a:lnTo>
                          <a:lnTo>
                            <a:pt x="609" y="89"/>
                          </a:lnTo>
                          <a:lnTo>
                            <a:pt x="603" y="91"/>
                          </a:lnTo>
                          <a:lnTo>
                            <a:pt x="599" y="95"/>
                          </a:lnTo>
                          <a:lnTo>
                            <a:pt x="595" y="97"/>
                          </a:lnTo>
                          <a:lnTo>
                            <a:pt x="592" y="99"/>
                          </a:lnTo>
                          <a:lnTo>
                            <a:pt x="586" y="103"/>
                          </a:lnTo>
                          <a:lnTo>
                            <a:pt x="582" y="105"/>
                          </a:lnTo>
                          <a:lnTo>
                            <a:pt x="578" y="108"/>
                          </a:lnTo>
                          <a:lnTo>
                            <a:pt x="574" y="112"/>
                          </a:lnTo>
                          <a:lnTo>
                            <a:pt x="571" y="116"/>
                          </a:lnTo>
                          <a:lnTo>
                            <a:pt x="567" y="120"/>
                          </a:lnTo>
                          <a:lnTo>
                            <a:pt x="565" y="124"/>
                          </a:lnTo>
                          <a:lnTo>
                            <a:pt x="563" y="127"/>
                          </a:lnTo>
                          <a:lnTo>
                            <a:pt x="559" y="131"/>
                          </a:lnTo>
                          <a:lnTo>
                            <a:pt x="555" y="135"/>
                          </a:lnTo>
                          <a:lnTo>
                            <a:pt x="554" y="141"/>
                          </a:lnTo>
                          <a:lnTo>
                            <a:pt x="552" y="146"/>
                          </a:lnTo>
                          <a:lnTo>
                            <a:pt x="550" y="150"/>
                          </a:lnTo>
                          <a:lnTo>
                            <a:pt x="548" y="156"/>
                          </a:lnTo>
                          <a:lnTo>
                            <a:pt x="546" y="158"/>
                          </a:lnTo>
                          <a:lnTo>
                            <a:pt x="546" y="160"/>
                          </a:lnTo>
                          <a:lnTo>
                            <a:pt x="544" y="163"/>
                          </a:lnTo>
                          <a:lnTo>
                            <a:pt x="544" y="167"/>
                          </a:lnTo>
                          <a:lnTo>
                            <a:pt x="361" y="1127"/>
                          </a:lnTo>
                          <a:lnTo>
                            <a:pt x="361" y="1127"/>
                          </a:lnTo>
                          <a:close/>
                        </a:path>
                      </a:pathLst>
                    </a:custGeom>
                    <a:solidFill>
                      <a:srgbClr val="eaeaea"/>
                    </a:soli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6" name="AutoShape 235"/>
                  <p:cNvSpPr/>
                  <p:nvPr/>
                </p:nvSpPr>
                <p:spPr>
                  <a:xfrm rot="20352000">
                    <a:off x="4965120" y="2754360"/>
                    <a:ext cx="88560" cy="75960"/>
                  </a:xfrm>
                  <a:prstGeom prst="hexagon">
                    <a:avLst>
                      <a:gd name="adj" fmla="val 29147"/>
                      <a:gd name="vf" fmla="val 115470"/>
                    </a:avLst>
                  </a:prstGeom>
                  <a:solidFill>
                    <a:srgbClr val="ff0000"/>
                  </a:solidFill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7" name="AutoShape 236"/>
              <p:cNvSpPr/>
              <p:nvPr/>
            </p:nvSpPr>
            <p:spPr>
              <a:xfrm rot="20369400">
                <a:off x="4804920" y="2432880"/>
                <a:ext cx="180000" cy="121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210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AutoShape 237"/>
            <p:cNvSpPr/>
            <p:nvPr/>
          </p:nvSpPr>
          <p:spPr>
            <a:xfrm rot="20383800">
              <a:off x="5039640" y="3115800"/>
              <a:ext cx="192600" cy="5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308" y="21600"/>
                  </a:lnTo>
                  <a:lnTo>
                    <a:pt x="1729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ffffff"/>
                </a:gs>
              </a:gsLst>
              <a:lin ang="2100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238"/>
          <p:cNvGrpSpPr/>
          <p:nvPr/>
        </p:nvGrpSpPr>
        <p:grpSpPr>
          <a:xfrm>
            <a:off x="4525560" y="2230200"/>
            <a:ext cx="807480" cy="2124000"/>
            <a:chOff x="4525560" y="2230200"/>
            <a:chExt cx="807480" cy="2124000"/>
          </a:xfrm>
        </p:grpSpPr>
        <p:grpSp>
          <p:nvGrpSpPr>
            <p:cNvPr id="380" name="Group 239"/>
            <p:cNvGrpSpPr/>
            <p:nvPr/>
          </p:nvGrpSpPr>
          <p:grpSpPr>
            <a:xfrm>
              <a:off x="4525560" y="3201120"/>
              <a:ext cx="545040" cy="1153080"/>
              <a:chOff x="4525560" y="3201120"/>
              <a:chExt cx="545040" cy="1153080"/>
            </a:xfrm>
          </p:grpSpPr>
          <p:grpSp>
            <p:nvGrpSpPr>
              <p:cNvPr id="381" name="Group 240"/>
              <p:cNvGrpSpPr/>
              <p:nvPr/>
            </p:nvGrpSpPr>
            <p:grpSpPr>
              <a:xfrm>
                <a:off x="4525560" y="3201120"/>
                <a:ext cx="526680" cy="1153080"/>
                <a:chOff x="4525560" y="3201120"/>
                <a:chExt cx="526680" cy="1153080"/>
              </a:xfrm>
            </p:grpSpPr>
            <p:grpSp>
              <p:nvGrpSpPr>
                <p:cNvPr id="382" name="Group 241"/>
                <p:cNvGrpSpPr/>
                <p:nvPr/>
              </p:nvGrpSpPr>
              <p:grpSpPr>
                <a:xfrm>
                  <a:off x="4525560" y="3742200"/>
                  <a:ext cx="450720" cy="612000"/>
                  <a:chOff x="4525560" y="3742200"/>
                  <a:chExt cx="450720" cy="612000"/>
                </a:xfrm>
              </p:grpSpPr>
              <p:sp>
                <p:nvSpPr>
                  <p:cNvPr id="383" name="AutoShape 242"/>
                  <p:cNvSpPr/>
                  <p:nvPr/>
                </p:nvSpPr>
                <p:spPr>
                  <a:xfrm rot="11766600">
                    <a:off x="4615560" y="3768480"/>
                    <a:ext cx="2444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4" name="Group 243"/>
                  <p:cNvGrpSpPr/>
                  <p:nvPr/>
                </p:nvGrpSpPr>
                <p:grpSpPr>
                  <a:xfrm>
                    <a:off x="4525560" y="4086720"/>
                    <a:ext cx="450720" cy="267480"/>
                    <a:chOff x="4525560" y="4086720"/>
                    <a:chExt cx="450720" cy="267480"/>
                  </a:xfrm>
                </p:grpSpPr>
                <p:grpSp>
                  <p:nvGrpSpPr>
                    <p:cNvPr id="385" name="Group 244"/>
                    <p:cNvGrpSpPr/>
                    <p:nvPr/>
                  </p:nvGrpSpPr>
                  <p:grpSpPr>
                    <a:xfrm>
                      <a:off x="4525560" y="4116240"/>
                      <a:ext cx="450720" cy="237960"/>
                      <a:chOff x="4525560" y="4116240"/>
                      <a:chExt cx="450720" cy="237960"/>
                    </a:xfrm>
                  </p:grpSpPr>
                  <p:grpSp>
                    <p:nvGrpSpPr>
                      <p:cNvPr id="386" name="Group 245"/>
                      <p:cNvGrpSpPr/>
                      <p:nvPr/>
                    </p:nvGrpSpPr>
                    <p:grpSpPr>
                      <a:xfrm>
                        <a:off x="4525560" y="4116240"/>
                        <a:ext cx="450720" cy="237960"/>
                        <a:chOff x="4525560" y="4116240"/>
                        <a:chExt cx="450720" cy="237960"/>
                      </a:xfrm>
                    </p:grpSpPr>
                    <p:sp>
                      <p:nvSpPr>
                        <p:cNvPr id="387" name="Rectangle 246"/>
                        <p:cNvSpPr/>
                        <p:nvPr/>
                      </p:nvSpPr>
                      <p:spPr>
                        <a:xfrm rot="966600">
                          <a:off x="4537080" y="4153680"/>
                          <a:ext cx="288720" cy="12420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8" name="Freeform 247"/>
                        <p:cNvSpPr/>
                        <p:nvPr/>
                      </p:nvSpPr>
                      <p:spPr>
                        <a:xfrm rot="966600">
                          <a:off x="4817520" y="421272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89" name=""/>
                      <p:cNvGrpSpPr/>
                      <p:nvPr/>
                    </p:nvGrpSpPr>
                    <p:grpSpPr>
                      <a:xfrm>
                        <a:off x="4533120" y="4209480"/>
                        <a:ext cx="423000" cy="122400"/>
                        <a:chOff x="4533120" y="4209480"/>
                        <a:chExt cx="423000" cy="122400"/>
                      </a:xfrm>
                    </p:grpSpPr>
                    <p:sp>
                      <p:nvSpPr>
                        <p:cNvPr id="390" name="Line 248"/>
                        <p:cNvSpPr/>
                        <p:nvPr/>
                      </p:nvSpPr>
                      <p:spPr>
                        <a:xfrm>
                          <a:off x="4533120" y="4209480"/>
                          <a:ext cx="423000" cy="1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1" name=""/>
                        <p:cNvSpPr txBox="1"/>
                        <p:nvPr/>
                      </p:nvSpPr>
                      <p:spPr>
                        <a:xfrm rot="966600">
                          <a:off x="4524120" y="427032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92" name="Oval 249"/>
                    <p:cNvSpPr/>
                    <p:nvPr/>
                  </p:nvSpPr>
                  <p:spPr>
                    <a:xfrm rot="966600">
                      <a:off x="4628880" y="4113720"/>
                      <a:ext cx="87840" cy="97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Freeform 250"/>
                    <p:cNvSpPr/>
                    <p:nvPr/>
                  </p:nvSpPr>
                  <p:spPr>
                    <a:xfrm rot="12318600">
                      <a:off x="4766040" y="410472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10248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4" name="Group 251"/>
                <p:cNvGrpSpPr/>
                <p:nvPr/>
              </p:nvGrpSpPr>
              <p:grpSpPr>
                <a:xfrm>
                  <a:off x="4601160" y="3201120"/>
                  <a:ext cx="451080" cy="612360"/>
                  <a:chOff x="4601160" y="3201120"/>
                  <a:chExt cx="451080" cy="612360"/>
                </a:xfrm>
              </p:grpSpPr>
              <p:sp>
                <p:nvSpPr>
                  <p:cNvPr id="395" name="AutoShape 252"/>
                  <p:cNvSpPr/>
                  <p:nvPr/>
                </p:nvSpPr>
                <p:spPr>
                  <a:xfrm rot="966600">
                    <a:off x="4717080" y="3395520"/>
                    <a:ext cx="24444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96" name="Group 253"/>
                  <p:cNvGrpSpPr/>
                  <p:nvPr/>
                </p:nvGrpSpPr>
                <p:grpSpPr>
                  <a:xfrm>
                    <a:off x="4601160" y="3201120"/>
                    <a:ext cx="451080" cy="267840"/>
                    <a:chOff x="4601160" y="3201120"/>
                    <a:chExt cx="451080" cy="267840"/>
                  </a:xfrm>
                </p:grpSpPr>
                <p:grpSp>
                  <p:nvGrpSpPr>
                    <p:cNvPr id="397" name="Group 254"/>
                    <p:cNvGrpSpPr/>
                    <p:nvPr/>
                  </p:nvGrpSpPr>
                  <p:grpSpPr>
                    <a:xfrm>
                      <a:off x="4601160" y="3201120"/>
                      <a:ext cx="451080" cy="237960"/>
                      <a:chOff x="4601160" y="3201120"/>
                      <a:chExt cx="451080" cy="237960"/>
                    </a:xfrm>
                  </p:grpSpPr>
                  <p:grpSp>
                    <p:nvGrpSpPr>
                      <p:cNvPr id="398" name="Group 255"/>
                      <p:cNvGrpSpPr/>
                      <p:nvPr/>
                    </p:nvGrpSpPr>
                    <p:grpSpPr>
                      <a:xfrm>
                        <a:off x="4601160" y="3201120"/>
                        <a:ext cx="451080" cy="237960"/>
                        <a:chOff x="4601160" y="3201120"/>
                        <a:chExt cx="451080" cy="237960"/>
                      </a:xfrm>
                    </p:grpSpPr>
                    <p:sp>
                      <p:nvSpPr>
                        <p:cNvPr id="399" name="Rectangle 256"/>
                        <p:cNvSpPr/>
                        <p:nvPr/>
                      </p:nvSpPr>
                      <p:spPr>
                        <a:xfrm rot="11766600">
                          <a:off x="4751640" y="327708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0" name="Freeform 257"/>
                        <p:cNvSpPr/>
                        <p:nvPr/>
                      </p:nvSpPr>
                      <p:spPr>
                        <a:xfrm rot="11766600">
                          <a:off x="4615200" y="321876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01" name=""/>
                      <p:cNvGrpSpPr/>
                      <p:nvPr/>
                    </p:nvGrpSpPr>
                    <p:grpSpPr>
                      <a:xfrm>
                        <a:off x="4621320" y="3223800"/>
                        <a:ext cx="423000" cy="122400"/>
                        <a:chOff x="4621320" y="3223800"/>
                        <a:chExt cx="423000" cy="122400"/>
                      </a:xfrm>
                    </p:grpSpPr>
                    <p:sp>
                      <p:nvSpPr>
                        <p:cNvPr id="402" name="Line 258"/>
                        <p:cNvSpPr/>
                        <p:nvPr/>
                      </p:nvSpPr>
                      <p:spPr>
                        <a:xfrm flipH="1" flipV="1">
                          <a:off x="4621320" y="3223800"/>
                          <a:ext cx="423000" cy="12240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3" name=""/>
                        <p:cNvSpPr txBox="1"/>
                        <p:nvPr/>
                      </p:nvSpPr>
                      <p:spPr>
                        <a:xfrm rot="11766600">
                          <a:off x="4612680" y="328464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04" name="Oval 259"/>
                    <p:cNvSpPr/>
                    <p:nvPr/>
                  </p:nvSpPr>
                  <p:spPr>
                    <a:xfrm rot="11766600">
                      <a:off x="4860720" y="334368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Freeform 260"/>
                    <p:cNvSpPr/>
                    <p:nvPr/>
                  </p:nvSpPr>
                  <p:spPr>
                    <a:xfrm rot="1518600">
                      <a:off x="4692960" y="330408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06" name="Group 261"/>
              <p:cNvGrpSpPr/>
              <p:nvPr/>
            </p:nvGrpSpPr>
            <p:grpSpPr>
              <a:xfrm>
                <a:off x="4644720" y="3227040"/>
                <a:ext cx="425880" cy="675720"/>
                <a:chOff x="4644720" y="3227040"/>
                <a:chExt cx="425880" cy="675720"/>
              </a:xfrm>
            </p:grpSpPr>
            <p:grpSp>
              <p:nvGrpSpPr>
                <p:cNvPr id="407" name="Group 262"/>
                <p:cNvGrpSpPr/>
                <p:nvPr/>
              </p:nvGrpSpPr>
              <p:grpSpPr>
                <a:xfrm>
                  <a:off x="4661280" y="3227040"/>
                  <a:ext cx="409320" cy="565920"/>
                  <a:chOff x="4661280" y="3227040"/>
                  <a:chExt cx="409320" cy="565920"/>
                </a:xfrm>
              </p:grpSpPr>
              <p:sp>
                <p:nvSpPr>
                  <p:cNvPr id="408" name="AutoShape 263"/>
                  <p:cNvSpPr/>
                  <p:nvPr/>
                </p:nvSpPr>
                <p:spPr>
                  <a:xfrm rot="966600">
                    <a:off x="4709880" y="3369600"/>
                    <a:ext cx="28440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Oval 264"/>
                  <p:cNvSpPr/>
                  <p:nvPr/>
                </p:nvSpPr>
                <p:spPr>
                  <a:xfrm rot="966600">
                    <a:off x="4763160" y="3260880"/>
                    <a:ext cx="279360" cy="24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0" name="Oval 265"/>
                <p:cNvSpPr/>
                <p:nvPr/>
              </p:nvSpPr>
              <p:spPr>
                <a:xfrm rot="966600">
                  <a:off x="4672440" y="3637080"/>
                  <a:ext cx="244440" cy="23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ddddd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1" name="AutoShape 266"/>
              <p:cNvSpPr/>
              <p:nvPr/>
            </p:nvSpPr>
            <p:spPr>
              <a:xfrm rot="966600">
                <a:off x="4741920" y="3713760"/>
                <a:ext cx="104760" cy="90720"/>
              </a:xfrm>
              <a:prstGeom prst="hexagon">
                <a:avLst>
                  <a:gd name="adj" fmla="val 28869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267"/>
            <p:cNvGrpSpPr/>
            <p:nvPr/>
          </p:nvGrpSpPr>
          <p:grpSpPr>
            <a:xfrm>
              <a:off x="4788000" y="2230200"/>
              <a:ext cx="545040" cy="1153080"/>
              <a:chOff x="4788000" y="2230200"/>
              <a:chExt cx="545040" cy="1153080"/>
            </a:xfrm>
          </p:grpSpPr>
          <p:grpSp>
            <p:nvGrpSpPr>
              <p:cNvPr id="413" name="Group 268"/>
              <p:cNvGrpSpPr/>
              <p:nvPr/>
            </p:nvGrpSpPr>
            <p:grpSpPr>
              <a:xfrm>
                <a:off x="4806360" y="2230200"/>
                <a:ext cx="526680" cy="1153080"/>
                <a:chOff x="4806360" y="2230200"/>
                <a:chExt cx="526680" cy="1153080"/>
              </a:xfrm>
            </p:grpSpPr>
            <p:grpSp>
              <p:nvGrpSpPr>
                <p:cNvPr id="414" name="Group 269"/>
                <p:cNvGrpSpPr/>
                <p:nvPr/>
              </p:nvGrpSpPr>
              <p:grpSpPr>
                <a:xfrm>
                  <a:off x="4881960" y="2230200"/>
                  <a:ext cx="451080" cy="612000"/>
                  <a:chOff x="4881960" y="2230200"/>
                  <a:chExt cx="451080" cy="612000"/>
                </a:xfrm>
              </p:grpSpPr>
              <p:sp>
                <p:nvSpPr>
                  <p:cNvPr id="415" name="AutoShape 270"/>
                  <p:cNvSpPr/>
                  <p:nvPr/>
                </p:nvSpPr>
                <p:spPr>
                  <a:xfrm rot="966600">
                    <a:off x="4997880" y="2423880"/>
                    <a:ext cx="2444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6" name="Group 271"/>
                  <p:cNvGrpSpPr/>
                  <p:nvPr/>
                </p:nvGrpSpPr>
                <p:grpSpPr>
                  <a:xfrm>
                    <a:off x="4881960" y="2230200"/>
                    <a:ext cx="451080" cy="267480"/>
                    <a:chOff x="4881960" y="2230200"/>
                    <a:chExt cx="451080" cy="267480"/>
                  </a:xfrm>
                </p:grpSpPr>
                <p:grpSp>
                  <p:nvGrpSpPr>
                    <p:cNvPr id="417" name="Group 272"/>
                    <p:cNvGrpSpPr/>
                    <p:nvPr/>
                  </p:nvGrpSpPr>
                  <p:grpSpPr>
                    <a:xfrm>
                      <a:off x="4881960" y="2230200"/>
                      <a:ext cx="451080" cy="237960"/>
                      <a:chOff x="4881960" y="2230200"/>
                      <a:chExt cx="451080" cy="237960"/>
                    </a:xfrm>
                  </p:grpSpPr>
                  <p:grpSp>
                    <p:nvGrpSpPr>
                      <p:cNvPr id="418" name="Group 273"/>
                      <p:cNvGrpSpPr/>
                      <p:nvPr/>
                    </p:nvGrpSpPr>
                    <p:grpSpPr>
                      <a:xfrm>
                        <a:off x="4881960" y="2230200"/>
                        <a:ext cx="451080" cy="237960"/>
                        <a:chOff x="4881960" y="2230200"/>
                        <a:chExt cx="451080" cy="237960"/>
                      </a:xfrm>
                    </p:grpSpPr>
                    <p:sp>
                      <p:nvSpPr>
                        <p:cNvPr id="419" name="Rectangle 274"/>
                        <p:cNvSpPr/>
                        <p:nvPr/>
                      </p:nvSpPr>
                      <p:spPr>
                        <a:xfrm rot="11766600">
                          <a:off x="5032440" y="230616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0" name="Freeform 275"/>
                        <p:cNvSpPr/>
                        <p:nvPr/>
                      </p:nvSpPr>
                      <p:spPr>
                        <a:xfrm rot="11766600">
                          <a:off x="4896000" y="224784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21" name=""/>
                      <p:cNvGrpSpPr/>
                      <p:nvPr/>
                    </p:nvGrpSpPr>
                    <p:grpSpPr>
                      <a:xfrm>
                        <a:off x="4902120" y="2252520"/>
                        <a:ext cx="423000" cy="122400"/>
                        <a:chOff x="4902120" y="2252520"/>
                        <a:chExt cx="423000" cy="122400"/>
                      </a:xfrm>
                    </p:grpSpPr>
                    <p:sp>
                      <p:nvSpPr>
                        <p:cNvPr id="422" name="Line 276"/>
                        <p:cNvSpPr/>
                        <p:nvPr/>
                      </p:nvSpPr>
                      <p:spPr>
                        <a:xfrm flipH="1" flipV="1">
                          <a:off x="4902120" y="2252880"/>
                          <a:ext cx="423000" cy="12204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3" name=""/>
                        <p:cNvSpPr txBox="1"/>
                        <p:nvPr/>
                      </p:nvSpPr>
                      <p:spPr>
                        <a:xfrm rot="11766600">
                          <a:off x="4893480" y="231336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24" name="Oval 277"/>
                    <p:cNvSpPr/>
                    <p:nvPr/>
                  </p:nvSpPr>
                  <p:spPr>
                    <a:xfrm rot="11766600">
                      <a:off x="5141520" y="237240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Freeform 278"/>
                    <p:cNvSpPr/>
                    <p:nvPr/>
                  </p:nvSpPr>
                  <p:spPr>
                    <a:xfrm rot="1518600">
                      <a:off x="4973760" y="233280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26" name="Group 279"/>
                <p:cNvGrpSpPr/>
                <p:nvPr/>
              </p:nvGrpSpPr>
              <p:grpSpPr>
                <a:xfrm>
                  <a:off x="4806360" y="2770920"/>
                  <a:ext cx="450720" cy="612360"/>
                  <a:chOff x="4806360" y="2770920"/>
                  <a:chExt cx="450720" cy="612360"/>
                </a:xfrm>
              </p:grpSpPr>
              <p:sp>
                <p:nvSpPr>
                  <p:cNvPr id="427" name="AutoShape 280"/>
                  <p:cNvSpPr/>
                  <p:nvPr/>
                </p:nvSpPr>
                <p:spPr>
                  <a:xfrm rot="11766600">
                    <a:off x="4896720" y="2797200"/>
                    <a:ext cx="24444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28" name="Group 281"/>
                  <p:cNvGrpSpPr/>
                  <p:nvPr/>
                </p:nvGrpSpPr>
                <p:grpSpPr>
                  <a:xfrm>
                    <a:off x="4806360" y="3115440"/>
                    <a:ext cx="450720" cy="267840"/>
                    <a:chOff x="4806360" y="3115440"/>
                    <a:chExt cx="450720" cy="267840"/>
                  </a:xfrm>
                </p:grpSpPr>
                <p:grpSp>
                  <p:nvGrpSpPr>
                    <p:cNvPr id="429" name="Group 282"/>
                    <p:cNvGrpSpPr/>
                    <p:nvPr/>
                  </p:nvGrpSpPr>
                  <p:grpSpPr>
                    <a:xfrm>
                      <a:off x="4806360" y="3145320"/>
                      <a:ext cx="450720" cy="237960"/>
                      <a:chOff x="4806360" y="3145320"/>
                      <a:chExt cx="450720" cy="237960"/>
                    </a:xfrm>
                  </p:grpSpPr>
                  <p:grpSp>
                    <p:nvGrpSpPr>
                      <p:cNvPr id="430" name="Group 283"/>
                      <p:cNvGrpSpPr/>
                      <p:nvPr/>
                    </p:nvGrpSpPr>
                    <p:grpSpPr>
                      <a:xfrm>
                        <a:off x="4806360" y="3145320"/>
                        <a:ext cx="450720" cy="237960"/>
                        <a:chOff x="4806360" y="3145320"/>
                        <a:chExt cx="450720" cy="237960"/>
                      </a:xfrm>
                    </p:grpSpPr>
                    <p:sp>
                      <p:nvSpPr>
                        <p:cNvPr id="431" name="Rectangle 284"/>
                        <p:cNvSpPr/>
                        <p:nvPr/>
                      </p:nvSpPr>
                      <p:spPr>
                        <a:xfrm rot="966600">
                          <a:off x="4817880" y="318276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2" name="Freeform 285"/>
                        <p:cNvSpPr/>
                        <p:nvPr/>
                      </p:nvSpPr>
                      <p:spPr>
                        <a:xfrm rot="966600">
                          <a:off x="5098320" y="324180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33" name=""/>
                      <p:cNvGrpSpPr/>
                      <p:nvPr/>
                    </p:nvGrpSpPr>
                    <p:grpSpPr>
                      <a:xfrm>
                        <a:off x="4813920" y="3238200"/>
                        <a:ext cx="423000" cy="122400"/>
                        <a:chOff x="4813920" y="3238200"/>
                        <a:chExt cx="423000" cy="122400"/>
                      </a:xfrm>
                    </p:grpSpPr>
                    <p:sp>
                      <p:nvSpPr>
                        <p:cNvPr id="434" name="Line 286"/>
                        <p:cNvSpPr/>
                        <p:nvPr/>
                      </p:nvSpPr>
                      <p:spPr>
                        <a:xfrm>
                          <a:off x="4813920" y="3238200"/>
                          <a:ext cx="423000" cy="12240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5" name=""/>
                        <p:cNvSpPr txBox="1"/>
                        <p:nvPr/>
                      </p:nvSpPr>
                      <p:spPr>
                        <a:xfrm rot="966600">
                          <a:off x="4804920" y="329904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36" name="Oval 287"/>
                    <p:cNvSpPr/>
                    <p:nvPr/>
                  </p:nvSpPr>
                  <p:spPr>
                    <a:xfrm rot="966600">
                      <a:off x="4909680" y="314244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Freeform 288"/>
                    <p:cNvSpPr/>
                    <p:nvPr/>
                  </p:nvSpPr>
                  <p:spPr>
                    <a:xfrm rot="12319200">
                      <a:off x="5046840" y="313344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38" name="Group 289"/>
              <p:cNvGrpSpPr/>
              <p:nvPr/>
            </p:nvGrpSpPr>
            <p:grpSpPr>
              <a:xfrm>
                <a:off x="4788000" y="2681640"/>
                <a:ext cx="425520" cy="675720"/>
                <a:chOff x="4788000" y="2681640"/>
                <a:chExt cx="425520" cy="675720"/>
              </a:xfrm>
            </p:grpSpPr>
            <p:grpSp>
              <p:nvGrpSpPr>
                <p:cNvPr id="439" name="Group 290"/>
                <p:cNvGrpSpPr/>
                <p:nvPr/>
              </p:nvGrpSpPr>
              <p:grpSpPr>
                <a:xfrm>
                  <a:off x="4788000" y="2791440"/>
                  <a:ext cx="409320" cy="565920"/>
                  <a:chOff x="4788000" y="2791440"/>
                  <a:chExt cx="409320" cy="565920"/>
                </a:xfrm>
              </p:grpSpPr>
              <p:sp>
                <p:nvSpPr>
                  <p:cNvPr id="440" name="AutoShape 291"/>
                  <p:cNvSpPr/>
                  <p:nvPr/>
                </p:nvSpPr>
                <p:spPr>
                  <a:xfrm rot="11766600">
                    <a:off x="4863960" y="2823120"/>
                    <a:ext cx="28440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Oval 292"/>
                  <p:cNvSpPr/>
                  <p:nvPr/>
                </p:nvSpPr>
                <p:spPr>
                  <a:xfrm rot="11766600">
                    <a:off x="4815720" y="3083040"/>
                    <a:ext cx="279360" cy="2401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2" name="Oval 293"/>
                <p:cNvSpPr/>
                <p:nvPr/>
              </p:nvSpPr>
              <p:spPr>
                <a:xfrm rot="11766600">
                  <a:off x="4941000" y="2710800"/>
                  <a:ext cx="244440" cy="236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3" name="AutoShape 294"/>
              <p:cNvSpPr/>
              <p:nvPr/>
            </p:nvSpPr>
            <p:spPr>
              <a:xfrm rot="11766600">
                <a:off x="5011200" y="2779560"/>
                <a:ext cx="104760" cy="90720"/>
              </a:xfrm>
              <a:prstGeom prst="hexagon">
                <a:avLst>
                  <a:gd name="adj" fmla="val 28869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Group 295"/>
          <p:cNvGrpSpPr/>
          <p:nvPr/>
        </p:nvGrpSpPr>
        <p:grpSpPr>
          <a:xfrm>
            <a:off x="4383720" y="1171440"/>
            <a:ext cx="1080000" cy="2245680"/>
            <a:chOff x="4383720" y="1171440"/>
            <a:chExt cx="1080000" cy="2245680"/>
          </a:xfrm>
        </p:grpSpPr>
        <p:grpSp>
          <p:nvGrpSpPr>
            <p:cNvPr id="445" name=""/>
            <p:cNvGrpSpPr/>
            <p:nvPr/>
          </p:nvGrpSpPr>
          <p:grpSpPr>
            <a:xfrm>
              <a:off x="4840200" y="1413000"/>
              <a:ext cx="284400" cy="155520"/>
              <a:chOff x="4840200" y="1413000"/>
              <a:chExt cx="284400" cy="155520"/>
            </a:xfrm>
          </p:grpSpPr>
          <p:sp>
            <p:nvSpPr>
              <p:cNvPr id="446" name="Line 296"/>
              <p:cNvSpPr/>
              <p:nvPr/>
            </p:nvSpPr>
            <p:spPr>
              <a:xfrm>
                <a:off x="4840200" y="1413000"/>
                <a:ext cx="284400" cy="155520"/>
              </a:xfrm>
              <a:prstGeom prst="line">
                <a:avLst/>
              </a:prstGeom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 txBox="1"/>
              <p:nvPr/>
            </p:nvSpPr>
            <p:spPr>
              <a:xfrm>
                <a:off x="4840200" y="1413000"/>
                <a:ext cx="284400" cy="15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AutoShape 297"/>
            <p:cNvSpPr/>
            <p:nvPr/>
          </p:nvSpPr>
          <p:spPr>
            <a:xfrm rot="471600">
              <a:off x="4419360" y="2253960"/>
              <a:ext cx="152280" cy="53316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21960 h 533160"/>
                <a:gd name="textAreaBottom" fmla="*/ 51120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Group 298"/>
            <p:cNvGrpSpPr/>
            <p:nvPr/>
          </p:nvGrpSpPr>
          <p:grpSpPr>
            <a:xfrm>
              <a:off x="4547880" y="1171440"/>
              <a:ext cx="915840" cy="2245680"/>
              <a:chOff x="4547880" y="1171440"/>
              <a:chExt cx="915840" cy="2245680"/>
            </a:xfrm>
          </p:grpSpPr>
          <p:grpSp>
            <p:nvGrpSpPr>
              <p:cNvPr id="450" name="Group 299"/>
              <p:cNvGrpSpPr/>
              <p:nvPr/>
            </p:nvGrpSpPr>
            <p:grpSpPr>
              <a:xfrm>
                <a:off x="4547880" y="1288080"/>
                <a:ext cx="915840" cy="2129040"/>
                <a:chOff x="4547880" y="1288080"/>
                <a:chExt cx="915840" cy="2129040"/>
              </a:xfrm>
            </p:grpSpPr>
            <p:grpSp>
              <p:nvGrpSpPr>
                <p:cNvPr id="451" name="Group 300"/>
                <p:cNvGrpSpPr/>
                <p:nvPr/>
              </p:nvGrpSpPr>
              <p:grpSpPr>
                <a:xfrm>
                  <a:off x="4547880" y="1850040"/>
                  <a:ext cx="706320" cy="1567080"/>
                  <a:chOff x="4547880" y="1850040"/>
                  <a:chExt cx="706320" cy="1567080"/>
                </a:xfrm>
              </p:grpSpPr>
              <p:sp>
                <p:nvSpPr>
                  <p:cNvPr id="452" name="Oval 301"/>
                  <p:cNvSpPr/>
                  <p:nvPr/>
                </p:nvSpPr>
                <p:spPr>
                  <a:xfrm rot="385800">
                    <a:off x="4576320" y="2840040"/>
                    <a:ext cx="569160" cy="546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2121600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Oval 302"/>
                  <p:cNvSpPr/>
                  <p:nvPr/>
                </p:nvSpPr>
                <p:spPr>
                  <a:xfrm rot="385800">
                    <a:off x="5217120" y="2346480"/>
                    <a:ext cx="32760" cy="49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Oval 303"/>
                  <p:cNvSpPr/>
                  <p:nvPr/>
                </p:nvSpPr>
                <p:spPr>
                  <a:xfrm rot="385800">
                    <a:off x="5188680" y="2643840"/>
                    <a:ext cx="32760" cy="48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Oval 304"/>
                  <p:cNvSpPr/>
                  <p:nvPr/>
                </p:nvSpPr>
                <p:spPr>
                  <a:xfrm rot="385800">
                    <a:off x="5155560" y="2939760"/>
                    <a:ext cx="32760" cy="49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AutoShape 305"/>
                  <p:cNvSpPr/>
                  <p:nvPr/>
                </p:nvSpPr>
                <p:spPr>
                  <a:xfrm rot="385800">
                    <a:off x="4607280" y="2184480"/>
                    <a:ext cx="591120" cy="1022040"/>
                  </a:xfrm>
                  <a:prstGeom prst="can">
                    <a:avLst>
                      <a:gd name="adj" fmla="val 2652"/>
                    </a:avLst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2121600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Rectangle 306"/>
                  <p:cNvSpPr/>
                  <p:nvPr/>
                </p:nvSpPr>
                <p:spPr>
                  <a:xfrm rot="385800">
                    <a:off x="4895280" y="2104200"/>
                    <a:ext cx="148680" cy="9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21216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58" name="Group 307"/>
                  <p:cNvGrpSpPr/>
                  <p:nvPr/>
                </p:nvGrpSpPr>
                <p:grpSpPr>
                  <a:xfrm>
                    <a:off x="4797720" y="1850040"/>
                    <a:ext cx="285120" cy="690840"/>
                    <a:chOff x="4797720" y="1850040"/>
                    <a:chExt cx="285120" cy="690840"/>
                  </a:xfrm>
                </p:grpSpPr>
                <p:sp>
                  <p:nvSpPr>
                    <p:cNvPr id="459" name="AutoShape 308"/>
                    <p:cNvSpPr/>
                    <p:nvPr/>
                  </p:nvSpPr>
                  <p:spPr>
                    <a:xfrm rot="11007600">
                      <a:off x="4862520" y="1855440"/>
                      <a:ext cx="199440" cy="54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AutoShape 309"/>
                    <p:cNvSpPr/>
                    <p:nvPr/>
                  </p:nvSpPr>
                  <p:spPr>
                    <a:xfrm rot="16585800">
                      <a:off x="4833360" y="2288520"/>
                      <a:ext cx="213120" cy="26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61" name="Group 310"/>
                <p:cNvGrpSpPr/>
                <p:nvPr/>
              </p:nvGrpSpPr>
              <p:grpSpPr>
                <a:xfrm>
                  <a:off x="4568760" y="1288080"/>
                  <a:ext cx="894960" cy="874440"/>
                  <a:chOff x="4568760" y="1288080"/>
                  <a:chExt cx="894960" cy="874440"/>
                </a:xfrm>
              </p:grpSpPr>
              <p:sp>
                <p:nvSpPr>
                  <p:cNvPr id="462" name="AutoShape 311"/>
                  <p:cNvSpPr/>
                  <p:nvPr/>
                </p:nvSpPr>
                <p:spPr>
                  <a:xfrm rot="21102000">
                    <a:off x="5022720" y="1571760"/>
                    <a:ext cx="405720" cy="516960"/>
                  </a:xfrm>
                  <a:custGeom>
                    <a:avLst/>
                    <a:gdLst>
                      <a:gd name="textAreaLeft" fmla="*/ 0 w 405720"/>
                      <a:gd name="textAreaRight" fmla="*/ 146520 w 405720"/>
                      <a:gd name="textAreaTop" fmla="*/ 13320 h 516960"/>
                      <a:gd name="textAreaBottom" fmla="*/ 503640 h 516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5400" y="0"/>
                          <a:pt x="10800" y="900"/>
                          <a:pt x="10800" y="1800"/>
                        </a:cubicBezTo>
                        <a:lnTo>
                          <a:pt x="10800" y="9000"/>
                        </a:lnTo>
                        <a:cubicBezTo>
                          <a:pt x="10800" y="9900"/>
                          <a:pt x="16200" y="10800"/>
                          <a:pt x="21600" y="10800"/>
                        </a:cubicBezTo>
                        <a:cubicBezTo>
                          <a:pt x="16200" y="10800"/>
                          <a:pt x="10800" y="11700"/>
                          <a:pt x="10800" y="12600"/>
                        </a:cubicBezTo>
                        <a:lnTo>
                          <a:pt x="10800" y="19800"/>
                        </a:lnTo>
                        <a:cubicBezTo>
                          <a:pt x="10800" y="20700"/>
                          <a:pt x="5400" y="21600"/>
                          <a:pt x="0" y="21600"/>
                        </a:cubicBezTo>
                      </a:path>
                    </a:pathLst>
                  </a:custGeom>
                  <a:noFill/>
                  <a:ln w="12600">
                    <a:solidFill>
                      <a:srgbClr val="dddd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AutoShape 312"/>
                  <p:cNvSpPr/>
                  <p:nvPr/>
                </p:nvSpPr>
                <p:spPr>
                  <a:xfrm rot="21225600">
                    <a:off x="4738320" y="1612440"/>
                    <a:ext cx="446400" cy="527400"/>
                  </a:xfrm>
                  <a:custGeom>
                    <a:avLst/>
                    <a:gdLst>
                      <a:gd name="textAreaLeft" fmla="*/ 21600 w 446400"/>
                      <a:gd name="textAreaRight" fmla="*/ 424800 w 446400"/>
                      <a:gd name="textAreaTop" fmla="*/ 21600 h 527400"/>
                      <a:gd name="textAreaBottom" fmla="*/ 505800 h 527400"/>
                    </a:gdLst>
                    <a:ahLst/>
                    <a:rect l="textAreaLeft" t="textAreaTop" r="textAreaRight" b="textAreaBottom"/>
                    <a:pathLst>
                      <a:path w="21600" h="25516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1916"/>
                        </a:lnTo>
                        <a:arcTo wR="3600" hR="3600" stAng="10800000" swAng="-5400000"/>
                        <a:lnTo>
                          <a:pt x="18000" y="25516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372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AutoShape 313"/>
                  <p:cNvSpPr/>
                  <p:nvPr/>
                </p:nvSpPr>
                <p:spPr>
                  <a:xfrm rot="20050800">
                    <a:off x="4617000" y="1368720"/>
                    <a:ext cx="446400" cy="324360"/>
                  </a:xfrm>
                  <a:prstGeom prst="triangle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2044800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AutoShape 314"/>
                  <p:cNvSpPr/>
                  <p:nvPr/>
                </p:nvSpPr>
                <p:spPr>
                  <a:xfrm rot="21417600">
                    <a:off x="4923000" y="1793160"/>
                    <a:ext cx="9972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9725" y="3202"/>
                          <a:pt x="17850" y="5080"/>
                          <a:pt x="17850" y="10800"/>
                        </a:cubicBezTo>
                        <a:cubicBezTo>
                          <a:pt x="17850" y="16520"/>
                          <a:pt x="19725" y="1839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ffffff"/>
                      </a:gs>
                    </a:gsLst>
                    <a:lin ang="18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6" name="AutoShape 315"/>
              <p:cNvSpPr/>
              <p:nvPr/>
            </p:nvSpPr>
            <p:spPr>
              <a:xfrm rot="19131600">
                <a:off x="4650120" y="1158480"/>
                <a:ext cx="70920" cy="294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21366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" name="AutoShape 316"/>
            <p:cNvSpPr/>
            <p:nvPr/>
          </p:nvSpPr>
          <p:spPr>
            <a:xfrm rot="447600">
              <a:off x="4467240" y="2254320"/>
              <a:ext cx="162000" cy="527040"/>
            </a:xfrm>
            <a:custGeom>
              <a:avLst/>
              <a:gdLst>
                <a:gd name="textAreaLeft" fmla="*/ 7920 w 162000"/>
                <a:gd name="textAreaRight" fmla="*/ 154080 w 162000"/>
                <a:gd name="textAreaTop" fmla="*/ 7920 h 527040"/>
                <a:gd name="textAreaBottom" fmla="*/ 519120 h 527040"/>
              </a:gdLst>
              <a:ahLst/>
              <a:rect l="textAreaLeft" t="textAreaTop" r="textAreaRight" b="textAreaBottom"/>
              <a:pathLst>
                <a:path w="21600" h="70164">
                  <a:moveTo>
                    <a:pt x="3600" y="0"/>
                  </a:moveTo>
                  <a:arcTo wR="3600" hR="3600" stAng="16200000" swAng="-5400000"/>
                  <a:lnTo>
                    <a:pt x="0" y="66564"/>
                  </a:lnTo>
                  <a:arcTo wR="3600" hR="3600" stAng="10800000" swAng="-5400000"/>
                  <a:lnTo>
                    <a:pt x="18000" y="701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115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317"/>
          <p:cNvGrpSpPr/>
          <p:nvPr/>
        </p:nvGrpSpPr>
        <p:grpSpPr>
          <a:xfrm>
            <a:off x="4253400" y="2229120"/>
            <a:ext cx="1176480" cy="2110320"/>
            <a:chOff x="4253400" y="2229120"/>
            <a:chExt cx="1176480" cy="2110320"/>
          </a:xfrm>
        </p:grpSpPr>
        <p:grpSp>
          <p:nvGrpSpPr>
            <p:cNvPr id="469" name="Group 318"/>
            <p:cNvGrpSpPr/>
            <p:nvPr/>
          </p:nvGrpSpPr>
          <p:grpSpPr>
            <a:xfrm>
              <a:off x="4531680" y="3218400"/>
              <a:ext cx="898200" cy="1121040"/>
              <a:chOff x="4531680" y="3218400"/>
              <a:chExt cx="898200" cy="1121040"/>
            </a:xfrm>
          </p:grpSpPr>
          <p:grpSp>
            <p:nvGrpSpPr>
              <p:cNvPr id="470" name="Group 319"/>
              <p:cNvGrpSpPr/>
              <p:nvPr/>
            </p:nvGrpSpPr>
            <p:grpSpPr>
              <a:xfrm>
                <a:off x="4531680" y="3241800"/>
                <a:ext cx="898200" cy="1097640"/>
                <a:chOff x="4531680" y="3241800"/>
                <a:chExt cx="898200" cy="1097640"/>
              </a:xfrm>
            </p:grpSpPr>
            <p:grpSp>
              <p:nvGrpSpPr>
                <p:cNvPr id="471" name="Group 320"/>
                <p:cNvGrpSpPr/>
                <p:nvPr/>
              </p:nvGrpSpPr>
              <p:grpSpPr>
                <a:xfrm>
                  <a:off x="4860720" y="3753000"/>
                  <a:ext cx="569160" cy="586440"/>
                  <a:chOff x="4860720" y="3753000"/>
                  <a:chExt cx="569160" cy="586440"/>
                </a:xfrm>
              </p:grpSpPr>
              <p:sp>
                <p:nvSpPr>
                  <p:cNvPr id="472" name="AutoShape 321"/>
                  <p:cNvSpPr/>
                  <p:nvPr/>
                </p:nvSpPr>
                <p:spPr>
                  <a:xfrm rot="9878400">
                    <a:off x="4909680" y="3779280"/>
                    <a:ext cx="254160" cy="40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73" name="Group 322"/>
                  <p:cNvGrpSpPr/>
                  <p:nvPr/>
                </p:nvGrpSpPr>
                <p:grpSpPr>
                  <a:xfrm>
                    <a:off x="4961520" y="4042800"/>
                    <a:ext cx="468360" cy="296640"/>
                    <a:chOff x="4961520" y="4042800"/>
                    <a:chExt cx="468360" cy="296640"/>
                  </a:xfrm>
                </p:grpSpPr>
                <p:grpSp>
                  <p:nvGrpSpPr>
                    <p:cNvPr id="474" name="Group 323"/>
                    <p:cNvGrpSpPr/>
                    <p:nvPr/>
                  </p:nvGrpSpPr>
                  <p:grpSpPr>
                    <a:xfrm>
                      <a:off x="4961520" y="4094640"/>
                      <a:ext cx="468360" cy="244800"/>
                      <a:chOff x="4961520" y="4094640"/>
                      <a:chExt cx="468360" cy="244800"/>
                    </a:xfrm>
                  </p:grpSpPr>
                  <p:grpSp>
                    <p:nvGrpSpPr>
                      <p:cNvPr id="475" name="Group 324"/>
                      <p:cNvGrpSpPr/>
                      <p:nvPr/>
                    </p:nvGrpSpPr>
                    <p:grpSpPr>
                      <a:xfrm>
                        <a:off x="4961520" y="4094640"/>
                        <a:ext cx="468000" cy="244800"/>
                        <a:chOff x="4961520" y="4094640"/>
                        <a:chExt cx="468000" cy="244800"/>
                      </a:xfrm>
                    </p:grpSpPr>
                    <p:sp>
                      <p:nvSpPr>
                        <p:cNvPr id="476" name="Rectangle 325"/>
                        <p:cNvSpPr/>
                        <p:nvPr/>
                      </p:nvSpPr>
                      <p:spPr>
                        <a:xfrm rot="20678400">
                          <a:off x="4973040" y="4172760"/>
                          <a:ext cx="300240" cy="1292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7" name="Freeform 326"/>
                        <p:cNvSpPr/>
                        <p:nvPr/>
                      </p:nvSpPr>
                      <p:spPr>
                        <a:xfrm rot="20678400">
                          <a:off x="5264640" y="411192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78" name=""/>
                      <p:cNvGrpSpPr/>
                      <p:nvPr/>
                    </p:nvGrpSpPr>
                    <p:grpSpPr>
                      <a:xfrm>
                        <a:off x="4988160" y="4190400"/>
                        <a:ext cx="441720" cy="121680"/>
                        <a:chOff x="4988160" y="4190400"/>
                        <a:chExt cx="441720" cy="121680"/>
                      </a:xfrm>
                    </p:grpSpPr>
                    <p:sp>
                      <p:nvSpPr>
                        <p:cNvPr id="479" name="Line 327"/>
                        <p:cNvSpPr/>
                        <p:nvPr/>
                      </p:nvSpPr>
                      <p:spPr>
                        <a:xfrm flipV="1">
                          <a:off x="4988160" y="4190400"/>
                          <a:ext cx="441360" cy="12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0" name=""/>
                        <p:cNvSpPr txBox="1"/>
                        <p:nvPr/>
                      </p:nvSpPr>
                      <p:spPr>
                        <a:xfrm rot="20678400">
                          <a:off x="4979880" y="425088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81" name="Oval 328"/>
                    <p:cNvSpPr/>
                    <p:nvPr/>
                  </p:nvSpPr>
                  <p:spPr>
                    <a:xfrm rot="20678400">
                      <a:off x="5040360" y="4143960"/>
                      <a:ext cx="91080" cy="101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Freeform 329"/>
                    <p:cNvSpPr/>
                    <p:nvPr/>
                  </p:nvSpPr>
                  <p:spPr>
                    <a:xfrm rot="10430400">
                      <a:off x="5168160" y="404892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aeaea"/>
                        </a:gs>
                      </a:gsLst>
                      <a:lin ang="10248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83" name="Group 330"/>
                <p:cNvGrpSpPr/>
                <p:nvPr/>
              </p:nvGrpSpPr>
              <p:grpSpPr>
                <a:xfrm>
                  <a:off x="4531680" y="3241800"/>
                  <a:ext cx="569160" cy="585720"/>
                  <a:chOff x="4531680" y="3241800"/>
                  <a:chExt cx="569160" cy="585720"/>
                </a:xfrm>
              </p:grpSpPr>
              <p:sp>
                <p:nvSpPr>
                  <p:cNvPr id="484" name="AutoShape 331"/>
                  <p:cNvSpPr/>
                  <p:nvPr/>
                </p:nvSpPr>
                <p:spPr>
                  <a:xfrm rot="20678400">
                    <a:off x="4797360" y="339408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85" name="Group 332"/>
                  <p:cNvGrpSpPr/>
                  <p:nvPr/>
                </p:nvGrpSpPr>
                <p:grpSpPr>
                  <a:xfrm>
                    <a:off x="4531680" y="3241800"/>
                    <a:ext cx="468360" cy="296640"/>
                    <a:chOff x="4531680" y="3241800"/>
                    <a:chExt cx="468360" cy="296640"/>
                  </a:xfrm>
                </p:grpSpPr>
                <p:grpSp>
                  <p:nvGrpSpPr>
                    <p:cNvPr id="486" name="Group 333"/>
                    <p:cNvGrpSpPr/>
                    <p:nvPr/>
                  </p:nvGrpSpPr>
                  <p:grpSpPr>
                    <a:xfrm>
                      <a:off x="4531680" y="3241800"/>
                      <a:ext cx="468360" cy="244440"/>
                      <a:chOff x="4531680" y="3241800"/>
                      <a:chExt cx="468360" cy="244440"/>
                    </a:xfrm>
                  </p:grpSpPr>
                  <p:grpSp>
                    <p:nvGrpSpPr>
                      <p:cNvPr id="487" name="Group 334"/>
                      <p:cNvGrpSpPr/>
                      <p:nvPr/>
                    </p:nvGrpSpPr>
                    <p:grpSpPr>
                      <a:xfrm>
                        <a:off x="4532040" y="3241800"/>
                        <a:ext cx="468000" cy="244440"/>
                        <a:chOff x="4532040" y="3241800"/>
                        <a:chExt cx="468000" cy="244440"/>
                      </a:xfrm>
                    </p:grpSpPr>
                    <p:sp>
                      <p:nvSpPr>
                        <p:cNvPr id="488" name="Rectangle 335"/>
                        <p:cNvSpPr/>
                        <p:nvPr/>
                      </p:nvSpPr>
                      <p:spPr>
                        <a:xfrm rot="9878400">
                          <a:off x="4687920" y="327888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9" name="Freeform 336"/>
                        <p:cNvSpPr/>
                        <p:nvPr/>
                      </p:nvSpPr>
                      <p:spPr>
                        <a:xfrm rot="9878400">
                          <a:off x="4546440" y="334008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90" name=""/>
                      <p:cNvGrpSpPr/>
                      <p:nvPr/>
                    </p:nvGrpSpPr>
                    <p:grpSpPr>
                      <a:xfrm>
                        <a:off x="4531680" y="3269160"/>
                        <a:ext cx="441720" cy="121680"/>
                        <a:chOff x="4531680" y="3269160"/>
                        <a:chExt cx="441720" cy="121680"/>
                      </a:xfrm>
                    </p:grpSpPr>
                    <p:sp>
                      <p:nvSpPr>
                        <p:cNvPr id="491" name="Line 337"/>
                        <p:cNvSpPr/>
                        <p:nvPr/>
                      </p:nvSpPr>
                      <p:spPr>
                        <a:xfrm flipH="1">
                          <a:off x="4532040" y="3269520"/>
                          <a:ext cx="441360" cy="12096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2" name=""/>
                        <p:cNvSpPr txBox="1"/>
                        <p:nvPr/>
                      </p:nvSpPr>
                      <p:spPr>
                        <a:xfrm rot="9878400">
                          <a:off x="4523400" y="332964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93" name="Oval 338"/>
                    <p:cNvSpPr/>
                    <p:nvPr/>
                  </p:nvSpPr>
                  <p:spPr>
                    <a:xfrm rot="9878400">
                      <a:off x="4829400" y="333540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Freeform 339"/>
                    <p:cNvSpPr/>
                    <p:nvPr/>
                  </p:nvSpPr>
                  <p:spPr>
                    <a:xfrm rot="21230400">
                      <a:off x="4670280" y="337968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95" name="Group 340"/>
              <p:cNvGrpSpPr/>
              <p:nvPr/>
            </p:nvGrpSpPr>
            <p:grpSpPr>
              <a:xfrm>
                <a:off x="4693320" y="3218400"/>
                <a:ext cx="435240" cy="701280"/>
                <a:chOff x="4693320" y="3218400"/>
                <a:chExt cx="435240" cy="701280"/>
              </a:xfrm>
            </p:grpSpPr>
            <p:grpSp>
              <p:nvGrpSpPr>
                <p:cNvPr id="496" name="Group 341"/>
                <p:cNvGrpSpPr/>
                <p:nvPr/>
              </p:nvGrpSpPr>
              <p:grpSpPr>
                <a:xfrm>
                  <a:off x="4693320" y="3218400"/>
                  <a:ext cx="424800" cy="585360"/>
                  <a:chOff x="4693320" y="3218400"/>
                  <a:chExt cx="424800" cy="585360"/>
                </a:xfrm>
              </p:grpSpPr>
              <p:sp>
                <p:nvSpPr>
                  <p:cNvPr id="497" name="AutoShape 342"/>
                  <p:cNvSpPr/>
                  <p:nvPr/>
                </p:nvSpPr>
                <p:spPr>
                  <a:xfrm rot="20678400">
                    <a:off x="4773240" y="3364560"/>
                    <a:ext cx="29592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Oval 343"/>
                  <p:cNvSpPr/>
                  <p:nvPr/>
                </p:nvSpPr>
                <p:spPr>
                  <a:xfrm rot="20678400">
                    <a:off x="4721040" y="3252240"/>
                    <a:ext cx="290520" cy="249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9" name="Oval 344"/>
                <p:cNvSpPr/>
                <p:nvPr/>
              </p:nvSpPr>
              <p:spPr>
                <a:xfrm rot="20678400">
                  <a:off x="4846320" y="3644640"/>
                  <a:ext cx="254160" cy="24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" name="AutoShape 345"/>
              <p:cNvSpPr/>
              <p:nvPr/>
            </p:nvSpPr>
            <p:spPr>
              <a:xfrm rot="20678400">
                <a:off x="4921200" y="3723840"/>
                <a:ext cx="109080" cy="94320"/>
              </a:xfrm>
              <a:prstGeom prst="hexagon">
                <a:avLst>
                  <a:gd name="adj" fmla="val 28912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346"/>
            <p:cNvGrpSpPr/>
            <p:nvPr/>
          </p:nvGrpSpPr>
          <p:grpSpPr>
            <a:xfrm>
              <a:off x="4253400" y="2229120"/>
              <a:ext cx="898200" cy="1121040"/>
              <a:chOff x="4253400" y="2229120"/>
              <a:chExt cx="898200" cy="1121040"/>
            </a:xfrm>
          </p:grpSpPr>
          <p:grpSp>
            <p:nvGrpSpPr>
              <p:cNvPr id="502" name="Group 347"/>
              <p:cNvGrpSpPr/>
              <p:nvPr/>
            </p:nvGrpSpPr>
            <p:grpSpPr>
              <a:xfrm>
                <a:off x="4253400" y="2229120"/>
                <a:ext cx="898200" cy="1097640"/>
                <a:chOff x="4253400" y="2229120"/>
                <a:chExt cx="898200" cy="1097640"/>
              </a:xfrm>
            </p:grpSpPr>
            <p:grpSp>
              <p:nvGrpSpPr>
                <p:cNvPr id="503" name="Group 348"/>
                <p:cNvGrpSpPr/>
                <p:nvPr/>
              </p:nvGrpSpPr>
              <p:grpSpPr>
                <a:xfrm>
                  <a:off x="4253400" y="2229120"/>
                  <a:ext cx="569160" cy="586440"/>
                  <a:chOff x="4253400" y="2229120"/>
                  <a:chExt cx="569160" cy="586440"/>
                </a:xfrm>
              </p:grpSpPr>
              <p:sp>
                <p:nvSpPr>
                  <p:cNvPr id="504" name="AutoShape 349"/>
                  <p:cNvSpPr/>
                  <p:nvPr/>
                </p:nvSpPr>
                <p:spPr>
                  <a:xfrm rot="20678400">
                    <a:off x="4519080" y="2381760"/>
                    <a:ext cx="254160" cy="40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5" name="Group 350"/>
                  <p:cNvGrpSpPr/>
                  <p:nvPr/>
                </p:nvGrpSpPr>
                <p:grpSpPr>
                  <a:xfrm>
                    <a:off x="4253400" y="2229120"/>
                    <a:ext cx="468360" cy="296640"/>
                    <a:chOff x="4253400" y="2229120"/>
                    <a:chExt cx="468360" cy="296640"/>
                  </a:xfrm>
                </p:grpSpPr>
                <p:grpSp>
                  <p:nvGrpSpPr>
                    <p:cNvPr id="506" name="Group 351"/>
                    <p:cNvGrpSpPr/>
                    <p:nvPr/>
                  </p:nvGrpSpPr>
                  <p:grpSpPr>
                    <a:xfrm>
                      <a:off x="4253400" y="2229120"/>
                      <a:ext cx="468360" cy="244800"/>
                      <a:chOff x="4253400" y="2229120"/>
                      <a:chExt cx="468360" cy="244800"/>
                    </a:xfrm>
                  </p:grpSpPr>
                  <p:grpSp>
                    <p:nvGrpSpPr>
                      <p:cNvPr id="507" name="Group 352"/>
                      <p:cNvGrpSpPr/>
                      <p:nvPr/>
                    </p:nvGrpSpPr>
                    <p:grpSpPr>
                      <a:xfrm>
                        <a:off x="4253760" y="2229120"/>
                        <a:ext cx="468000" cy="244800"/>
                        <a:chOff x="4253760" y="2229120"/>
                        <a:chExt cx="468000" cy="244800"/>
                      </a:xfrm>
                    </p:grpSpPr>
                    <p:sp>
                      <p:nvSpPr>
                        <p:cNvPr id="508" name="Rectangle 353"/>
                        <p:cNvSpPr/>
                        <p:nvPr/>
                      </p:nvSpPr>
                      <p:spPr>
                        <a:xfrm rot="9878400">
                          <a:off x="4409640" y="226620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9" name="Freeform 354"/>
                        <p:cNvSpPr/>
                        <p:nvPr/>
                      </p:nvSpPr>
                      <p:spPr>
                        <a:xfrm rot="9878400">
                          <a:off x="4268160" y="232776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10" name=""/>
                      <p:cNvGrpSpPr/>
                      <p:nvPr/>
                    </p:nvGrpSpPr>
                    <p:grpSpPr>
                      <a:xfrm>
                        <a:off x="4253400" y="2256480"/>
                        <a:ext cx="441720" cy="121680"/>
                        <a:chOff x="4253400" y="2256480"/>
                        <a:chExt cx="441720" cy="121680"/>
                      </a:xfrm>
                    </p:grpSpPr>
                    <p:sp>
                      <p:nvSpPr>
                        <p:cNvPr id="511" name="Line 355"/>
                        <p:cNvSpPr/>
                        <p:nvPr/>
                      </p:nvSpPr>
                      <p:spPr>
                        <a:xfrm flipH="1">
                          <a:off x="4253760" y="2256840"/>
                          <a:ext cx="441360" cy="12132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2" name=""/>
                        <p:cNvSpPr txBox="1"/>
                        <p:nvPr/>
                      </p:nvSpPr>
                      <p:spPr>
                        <a:xfrm rot="9878400">
                          <a:off x="4245120" y="231696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513" name="Oval 356"/>
                    <p:cNvSpPr/>
                    <p:nvPr/>
                  </p:nvSpPr>
                  <p:spPr>
                    <a:xfrm rot="9878400">
                      <a:off x="4551480" y="232272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Freeform 357"/>
                    <p:cNvSpPr/>
                    <p:nvPr/>
                  </p:nvSpPr>
                  <p:spPr>
                    <a:xfrm rot="21230400">
                      <a:off x="4392000" y="236700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15" name="Group 358"/>
                <p:cNvGrpSpPr/>
                <p:nvPr/>
              </p:nvGrpSpPr>
              <p:grpSpPr>
                <a:xfrm>
                  <a:off x="4582440" y="2741040"/>
                  <a:ext cx="569160" cy="585720"/>
                  <a:chOff x="4582440" y="2741040"/>
                  <a:chExt cx="569160" cy="585720"/>
                </a:xfrm>
              </p:grpSpPr>
              <p:sp>
                <p:nvSpPr>
                  <p:cNvPr id="516" name="AutoShape 359"/>
                  <p:cNvSpPr/>
                  <p:nvPr/>
                </p:nvSpPr>
                <p:spPr>
                  <a:xfrm rot="9878400">
                    <a:off x="4631400" y="276732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17" name="Group 360"/>
                  <p:cNvGrpSpPr/>
                  <p:nvPr/>
                </p:nvGrpSpPr>
                <p:grpSpPr>
                  <a:xfrm>
                    <a:off x="4683240" y="3030120"/>
                    <a:ext cx="468360" cy="296640"/>
                    <a:chOff x="4683240" y="3030120"/>
                    <a:chExt cx="468360" cy="296640"/>
                  </a:xfrm>
                </p:grpSpPr>
                <p:grpSp>
                  <p:nvGrpSpPr>
                    <p:cNvPr id="518" name="Group 361"/>
                    <p:cNvGrpSpPr/>
                    <p:nvPr/>
                  </p:nvGrpSpPr>
                  <p:grpSpPr>
                    <a:xfrm>
                      <a:off x="4683240" y="3082320"/>
                      <a:ext cx="468360" cy="244440"/>
                      <a:chOff x="4683240" y="3082320"/>
                      <a:chExt cx="468360" cy="244440"/>
                    </a:xfrm>
                  </p:grpSpPr>
                  <p:grpSp>
                    <p:nvGrpSpPr>
                      <p:cNvPr id="519" name="Group 362"/>
                      <p:cNvGrpSpPr/>
                      <p:nvPr/>
                    </p:nvGrpSpPr>
                    <p:grpSpPr>
                      <a:xfrm>
                        <a:off x="4683240" y="3082320"/>
                        <a:ext cx="468000" cy="244440"/>
                        <a:chOff x="4683240" y="3082320"/>
                        <a:chExt cx="468000" cy="244440"/>
                      </a:xfrm>
                    </p:grpSpPr>
                    <p:sp>
                      <p:nvSpPr>
                        <p:cNvPr id="520" name="Rectangle 363"/>
                        <p:cNvSpPr/>
                        <p:nvPr/>
                      </p:nvSpPr>
                      <p:spPr>
                        <a:xfrm rot="20678400">
                          <a:off x="4694760" y="316008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1" name="Freeform 364"/>
                        <p:cNvSpPr/>
                        <p:nvPr/>
                      </p:nvSpPr>
                      <p:spPr>
                        <a:xfrm rot="20678400">
                          <a:off x="4986360" y="309960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22" name=""/>
                      <p:cNvGrpSpPr/>
                      <p:nvPr/>
                    </p:nvGrpSpPr>
                    <p:grpSpPr>
                      <a:xfrm>
                        <a:off x="4709880" y="3177720"/>
                        <a:ext cx="441720" cy="121680"/>
                        <a:chOff x="4709880" y="3177720"/>
                        <a:chExt cx="441720" cy="121680"/>
                      </a:xfrm>
                    </p:grpSpPr>
                    <p:sp>
                      <p:nvSpPr>
                        <p:cNvPr id="523" name="Line 365"/>
                        <p:cNvSpPr/>
                        <p:nvPr/>
                      </p:nvSpPr>
                      <p:spPr>
                        <a:xfrm flipV="1">
                          <a:off x="4709880" y="3178080"/>
                          <a:ext cx="441360" cy="12096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4" name=""/>
                        <p:cNvSpPr txBox="1"/>
                        <p:nvPr/>
                      </p:nvSpPr>
                      <p:spPr>
                        <a:xfrm rot="20678400">
                          <a:off x="4701600" y="323820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525" name="Oval 366"/>
                    <p:cNvSpPr/>
                    <p:nvPr/>
                  </p:nvSpPr>
                  <p:spPr>
                    <a:xfrm rot="20678400">
                      <a:off x="4762440" y="313128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Freeform 367"/>
                    <p:cNvSpPr/>
                    <p:nvPr/>
                  </p:nvSpPr>
                  <p:spPr>
                    <a:xfrm rot="10431000">
                      <a:off x="4889880" y="303624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27" name="Group 368"/>
              <p:cNvGrpSpPr/>
              <p:nvPr/>
            </p:nvGrpSpPr>
            <p:grpSpPr>
              <a:xfrm>
                <a:off x="4554720" y="2648880"/>
                <a:ext cx="435240" cy="701280"/>
                <a:chOff x="4554720" y="2648880"/>
                <a:chExt cx="435240" cy="701280"/>
              </a:xfrm>
            </p:grpSpPr>
            <p:grpSp>
              <p:nvGrpSpPr>
                <p:cNvPr id="528" name="Group 369"/>
                <p:cNvGrpSpPr/>
                <p:nvPr/>
              </p:nvGrpSpPr>
              <p:grpSpPr>
                <a:xfrm>
                  <a:off x="4565160" y="2764800"/>
                  <a:ext cx="424800" cy="585360"/>
                  <a:chOff x="4565160" y="2764800"/>
                  <a:chExt cx="424800" cy="585360"/>
                </a:xfrm>
              </p:grpSpPr>
              <p:sp>
                <p:nvSpPr>
                  <p:cNvPr id="529" name="AutoShape 370"/>
                  <p:cNvSpPr/>
                  <p:nvPr/>
                </p:nvSpPr>
                <p:spPr>
                  <a:xfrm rot="9878400">
                    <a:off x="4613760" y="2796840"/>
                    <a:ext cx="29592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Oval 371"/>
                  <p:cNvSpPr/>
                  <p:nvPr/>
                </p:nvSpPr>
                <p:spPr>
                  <a:xfrm rot="9878400">
                    <a:off x="4671360" y="3066480"/>
                    <a:ext cx="290520" cy="24948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1" name="Oval 372"/>
                <p:cNvSpPr/>
                <p:nvPr/>
              </p:nvSpPr>
              <p:spPr>
                <a:xfrm rot="9878400">
                  <a:off x="4582440" y="2678040"/>
                  <a:ext cx="254160" cy="2455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2" name="AutoShape 373"/>
              <p:cNvSpPr/>
              <p:nvPr/>
            </p:nvSpPr>
            <p:spPr>
              <a:xfrm rot="9878400">
                <a:off x="4652640" y="2750040"/>
                <a:ext cx="109080" cy="94320"/>
              </a:xfrm>
              <a:prstGeom prst="hexagon">
                <a:avLst>
                  <a:gd name="adj" fmla="val 28912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3" name="Group 374"/>
          <p:cNvGrpSpPr/>
          <p:nvPr/>
        </p:nvGrpSpPr>
        <p:grpSpPr>
          <a:xfrm>
            <a:off x="4542480" y="1207080"/>
            <a:ext cx="546480" cy="2329200"/>
            <a:chOff x="4542480" y="1207080"/>
            <a:chExt cx="546480" cy="2329200"/>
          </a:xfrm>
        </p:grpSpPr>
        <p:grpSp>
          <p:nvGrpSpPr>
            <p:cNvPr id="534" name="Group 375"/>
            <p:cNvGrpSpPr/>
            <p:nvPr/>
          </p:nvGrpSpPr>
          <p:grpSpPr>
            <a:xfrm>
              <a:off x="4542480" y="1207080"/>
              <a:ext cx="546480" cy="2329200"/>
              <a:chOff x="4542480" y="1207080"/>
              <a:chExt cx="546480" cy="2329200"/>
            </a:xfrm>
          </p:grpSpPr>
          <p:grpSp>
            <p:nvGrpSpPr>
              <p:cNvPr id="535" name="Group 376"/>
              <p:cNvGrpSpPr/>
              <p:nvPr/>
            </p:nvGrpSpPr>
            <p:grpSpPr>
              <a:xfrm>
                <a:off x="4542480" y="1207080"/>
                <a:ext cx="546480" cy="2329200"/>
                <a:chOff x="4542480" y="1207080"/>
                <a:chExt cx="546480" cy="2329200"/>
              </a:xfrm>
            </p:grpSpPr>
            <p:grpSp>
              <p:nvGrpSpPr>
                <p:cNvPr id="536" name="Group 377"/>
                <p:cNvGrpSpPr/>
                <p:nvPr/>
              </p:nvGrpSpPr>
              <p:grpSpPr>
                <a:xfrm>
                  <a:off x="4542480" y="1409760"/>
                  <a:ext cx="343800" cy="1246680"/>
                  <a:chOff x="4542480" y="1409760"/>
                  <a:chExt cx="343800" cy="1246680"/>
                </a:xfrm>
              </p:grpSpPr>
              <p:grpSp>
                <p:nvGrpSpPr>
                  <p:cNvPr id="537" name="Group 378"/>
                  <p:cNvGrpSpPr/>
                  <p:nvPr/>
                </p:nvGrpSpPr>
                <p:grpSpPr>
                  <a:xfrm>
                    <a:off x="4542480" y="2025360"/>
                    <a:ext cx="288360" cy="631080"/>
                    <a:chOff x="4542480" y="2025360"/>
                    <a:chExt cx="288360" cy="631080"/>
                  </a:xfrm>
                </p:grpSpPr>
                <p:sp>
                  <p:nvSpPr>
                    <p:cNvPr id="538" name="AutoShape 379"/>
                    <p:cNvSpPr/>
                    <p:nvPr/>
                  </p:nvSpPr>
                  <p:spPr>
                    <a:xfrm rot="11221200">
                      <a:off x="4621680" y="2034360"/>
                      <a:ext cx="179640" cy="49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AutoShape 380"/>
                    <p:cNvSpPr/>
                    <p:nvPr/>
                  </p:nvSpPr>
                  <p:spPr>
                    <a:xfrm rot="16799400">
                      <a:off x="4579560" y="2423160"/>
                      <a:ext cx="19152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0" name="Group 381"/>
                  <p:cNvGrpSpPr/>
                  <p:nvPr/>
                </p:nvGrpSpPr>
                <p:grpSpPr>
                  <a:xfrm>
                    <a:off x="4624920" y="1409760"/>
                    <a:ext cx="261360" cy="747720"/>
                    <a:chOff x="4624920" y="1409760"/>
                    <a:chExt cx="261360" cy="747720"/>
                  </a:xfrm>
                </p:grpSpPr>
                <p:sp>
                  <p:nvSpPr>
                    <p:cNvPr id="541" name="AutoShape 382"/>
                    <p:cNvSpPr/>
                    <p:nvPr/>
                  </p:nvSpPr>
                  <p:spPr>
                    <a:xfrm rot="11236200">
                      <a:off x="4677120" y="1655280"/>
                      <a:ext cx="180360" cy="36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4308" y="21600"/>
                          </a:lnTo>
                          <a:lnTo>
                            <a:pt x="17292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Oval 383"/>
                    <p:cNvSpPr/>
                    <p:nvPr/>
                  </p:nvSpPr>
                  <p:spPr>
                    <a:xfrm rot="11775000">
                      <a:off x="4647600" y="1944360"/>
                      <a:ext cx="187200" cy="19044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Freeform 384"/>
                    <p:cNvSpPr/>
                    <p:nvPr/>
                  </p:nvSpPr>
                  <p:spPr>
                    <a:xfrm rot="21270000">
                      <a:off x="4697280" y="1417320"/>
                      <a:ext cx="175680" cy="28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2" h="2302">
                          <a:moveTo>
                            <a:pt x="361" y="1127"/>
                          </a:moveTo>
                          <a:lnTo>
                            <a:pt x="280" y="1116"/>
                          </a:lnTo>
                          <a:lnTo>
                            <a:pt x="373" y="711"/>
                          </a:lnTo>
                          <a:lnTo>
                            <a:pt x="373" y="709"/>
                          </a:lnTo>
                          <a:lnTo>
                            <a:pt x="375" y="705"/>
                          </a:lnTo>
                          <a:lnTo>
                            <a:pt x="375" y="703"/>
                          </a:lnTo>
                          <a:lnTo>
                            <a:pt x="375" y="700"/>
                          </a:lnTo>
                          <a:lnTo>
                            <a:pt x="375" y="698"/>
                          </a:lnTo>
                          <a:lnTo>
                            <a:pt x="375" y="696"/>
                          </a:lnTo>
                          <a:lnTo>
                            <a:pt x="375" y="692"/>
                          </a:lnTo>
                          <a:lnTo>
                            <a:pt x="375" y="690"/>
                          </a:lnTo>
                          <a:lnTo>
                            <a:pt x="375" y="684"/>
                          </a:lnTo>
                          <a:lnTo>
                            <a:pt x="375" y="681"/>
                          </a:lnTo>
                          <a:lnTo>
                            <a:pt x="375" y="675"/>
                          </a:lnTo>
                          <a:lnTo>
                            <a:pt x="375" y="669"/>
                          </a:lnTo>
                          <a:lnTo>
                            <a:pt x="371" y="665"/>
                          </a:lnTo>
                          <a:lnTo>
                            <a:pt x="371" y="660"/>
                          </a:lnTo>
                          <a:lnTo>
                            <a:pt x="369" y="654"/>
                          </a:lnTo>
                          <a:lnTo>
                            <a:pt x="367" y="652"/>
                          </a:lnTo>
                          <a:lnTo>
                            <a:pt x="365" y="646"/>
                          </a:lnTo>
                          <a:lnTo>
                            <a:pt x="363" y="641"/>
                          </a:lnTo>
                          <a:lnTo>
                            <a:pt x="361" y="637"/>
                          </a:lnTo>
                          <a:lnTo>
                            <a:pt x="358" y="633"/>
                          </a:lnTo>
                          <a:lnTo>
                            <a:pt x="356" y="629"/>
                          </a:lnTo>
                          <a:lnTo>
                            <a:pt x="354" y="623"/>
                          </a:lnTo>
                          <a:lnTo>
                            <a:pt x="350" y="620"/>
                          </a:lnTo>
                          <a:lnTo>
                            <a:pt x="346" y="616"/>
                          </a:lnTo>
                          <a:lnTo>
                            <a:pt x="342" y="612"/>
                          </a:lnTo>
                          <a:lnTo>
                            <a:pt x="339" y="610"/>
                          </a:lnTo>
                          <a:lnTo>
                            <a:pt x="335" y="606"/>
                          </a:lnTo>
                          <a:lnTo>
                            <a:pt x="331" y="603"/>
                          </a:lnTo>
                          <a:lnTo>
                            <a:pt x="325" y="601"/>
                          </a:lnTo>
                          <a:lnTo>
                            <a:pt x="321" y="597"/>
                          </a:lnTo>
                          <a:lnTo>
                            <a:pt x="318" y="595"/>
                          </a:lnTo>
                          <a:lnTo>
                            <a:pt x="312" y="593"/>
                          </a:lnTo>
                          <a:lnTo>
                            <a:pt x="306" y="591"/>
                          </a:lnTo>
                          <a:lnTo>
                            <a:pt x="302" y="589"/>
                          </a:lnTo>
                          <a:lnTo>
                            <a:pt x="299" y="589"/>
                          </a:lnTo>
                          <a:lnTo>
                            <a:pt x="295" y="587"/>
                          </a:lnTo>
                          <a:lnTo>
                            <a:pt x="291" y="587"/>
                          </a:lnTo>
                          <a:lnTo>
                            <a:pt x="287" y="585"/>
                          </a:lnTo>
                          <a:lnTo>
                            <a:pt x="285" y="585"/>
                          </a:lnTo>
                          <a:lnTo>
                            <a:pt x="283" y="585"/>
                          </a:lnTo>
                          <a:lnTo>
                            <a:pt x="280" y="585"/>
                          </a:lnTo>
                          <a:lnTo>
                            <a:pt x="276" y="585"/>
                          </a:lnTo>
                          <a:lnTo>
                            <a:pt x="274" y="585"/>
                          </a:lnTo>
                          <a:lnTo>
                            <a:pt x="272" y="585"/>
                          </a:lnTo>
                          <a:lnTo>
                            <a:pt x="268" y="585"/>
                          </a:lnTo>
                          <a:lnTo>
                            <a:pt x="266" y="585"/>
                          </a:lnTo>
                          <a:lnTo>
                            <a:pt x="263" y="585"/>
                          </a:lnTo>
                          <a:lnTo>
                            <a:pt x="261" y="587"/>
                          </a:lnTo>
                          <a:lnTo>
                            <a:pt x="259" y="587"/>
                          </a:lnTo>
                          <a:lnTo>
                            <a:pt x="255" y="587"/>
                          </a:lnTo>
                          <a:lnTo>
                            <a:pt x="253" y="589"/>
                          </a:lnTo>
                          <a:lnTo>
                            <a:pt x="249" y="589"/>
                          </a:lnTo>
                          <a:lnTo>
                            <a:pt x="247" y="589"/>
                          </a:lnTo>
                          <a:lnTo>
                            <a:pt x="243" y="591"/>
                          </a:lnTo>
                          <a:lnTo>
                            <a:pt x="240" y="591"/>
                          </a:lnTo>
                          <a:lnTo>
                            <a:pt x="238" y="593"/>
                          </a:lnTo>
                          <a:lnTo>
                            <a:pt x="236" y="595"/>
                          </a:lnTo>
                          <a:lnTo>
                            <a:pt x="232" y="595"/>
                          </a:lnTo>
                          <a:lnTo>
                            <a:pt x="230" y="597"/>
                          </a:lnTo>
                          <a:lnTo>
                            <a:pt x="228" y="599"/>
                          </a:lnTo>
                          <a:lnTo>
                            <a:pt x="224" y="601"/>
                          </a:lnTo>
                          <a:lnTo>
                            <a:pt x="223" y="601"/>
                          </a:lnTo>
                          <a:lnTo>
                            <a:pt x="219" y="603"/>
                          </a:lnTo>
                          <a:lnTo>
                            <a:pt x="217" y="604"/>
                          </a:lnTo>
                          <a:lnTo>
                            <a:pt x="211" y="608"/>
                          </a:lnTo>
                          <a:lnTo>
                            <a:pt x="207" y="612"/>
                          </a:lnTo>
                          <a:lnTo>
                            <a:pt x="204" y="616"/>
                          </a:lnTo>
                          <a:lnTo>
                            <a:pt x="198" y="618"/>
                          </a:lnTo>
                          <a:lnTo>
                            <a:pt x="194" y="623"/>
                          </a:lnTo>
                          <a:lnTo>
                            <a:pt x="188" y="627"/>
                          </a:lnTo>
                          <a:lnTo>
                            <a:pt x="185" y="633"/>
                          </a:lnTo>
                          <a:lnTo>
                            <a:pt x="181" y="637"/>
                          </a:lnTo>
                          <a:lnTo>
                            <a:pt x="177" y="641"/>
                          </a:lnTo>
                          <a:lnTo>
                            <a:pt x="173" y="646"/>
                          </a:lnTo>
                          <a:lnTo>
                            <a:pt x="169" y="652"/>
                          </a:lnTo>
                          <a:lnTo>
                            <a:pt x="166" y="656"/>
                          </a:lnTo>
                          <a:lnTo>
                            <a:pt x="162" y="662"/>
                          </a:lnTo>
                          <a:lnTo>
                            <a:pt x="160" y="665"/>
                          </a:lnTo>
                          <a:lnTo>
                            <a:pt x="158" y="669"/>
                          </a:lnTo>
                          <a:lnTo>
                            <a:pt x="158" y="671"/>
                          </a:lnTo>
                          <a:lnTo>
                            <a:pt x="156" y="673"/>
                          </a:lnTo>
                          <a:lnTo>
                            <a:pt x="154" y="677"/>
                          </a:lnTo>
                          <a:lnTo>
                            <a:pt x="152" y="679"/>
                          </a:lnTo>
                          <a:lnTo>
                            <a:pt x="152" y="681"/>
                          </a:lnTo>
                          <a:lnTo>
                            <a:pt x="150" y="684"/>
                          </a:lnTo>
                          <a:lnTo>
                            <a:pt x="150" y="688"/>
                          </a:lnTo>
                          <a:lnTo>
                            <a:pt x="146" y="694"/>
                          </a:lnTo>
                          <a:lnTo>
                            <a:pt x="145" y="701"/>
                          </a:lnTo>
                          <a:lnTo>
                            <a:pt x="143" y="709"/>
                          </a:lnTo>
                          <a:lnTo>
                            <a:pt x="139" y="717"/>
                          </a:lnTo>
                          <a:lnTo>
                            <a:pt x="137" y="724"/>
                          </a:lnTo>
                          <a:lnTo>
                            <a:pt x="135" y="732"/>
                          </a:lnTo>
                          <a:lnTo>
                            <a:pt x="131" y="739"/>
                          </a:lnTo>
                          <a:lnTo>
                            <a:pt x="129" y="747"/>
                          </a:lnTo>
                          <a:lnTo>
                            <a:pt x="126" y="755"/>
                          </a:lnTo>
                          <a:lnTo>
                            <a:pt x="124" y="760"/>
                          </a:lnTo>
                          <a:lnTo>
                            <a:pt x="122" y="768"/>
                          </a:lnTo>
                          <a:lnTo>
                            <a:pt x="120" y="776"/>
                          </a:lnTo>
                          <a:lnTo>
                            <a:pt x="116" y="781"/>
                          </a:lnTo>
                          <a:lnTo>
                            <a:pt x="114" y="789"/>
                          </a:lnTo>
                          <a:lnTo>
                            <a:pt x="112" y="796"/>
                          </a:lnTo>
                          <a:lnTo>
                            <a:pt x="110" y="804"/>
                          </a:lnTo>
                          <a:lnTo>
                            <a:pt x="107" y="812"/>
                          </a:lnTo>
                          <a:lnTo>
                            <a:pt x="107" y="817"/>
                          </a:lnTo>
                          <a:lnTo>
                            <a:pt x="103" y="823"/>
                          </a:lnTo>
                          <a:lnTo>
                            <a:pt x="101" y="831"/>
                          </a:lnTo>
                          <a:lnTo>
                            <a:pt x="97" y="836"/>
                          </a:lnTo>
                          <a:lnTo>
                            <a:pt x="97" y="844"/>
                          </a:lnTo>
                          <a:lnTo>
                            <a:pt x="93" y="852"/>
                          </a:lnTo>
                          <a:lnTo>
                            <a:pt x="93" y="857"/>
                          </a:lnTo>
                          <a:lnTo>
                            <a:pt x="89" y="865"/>
                          </a:lnTo>
                          <a:lnTo>
                            <a:pt x="88" y="871"/>
                          </a:lnTo>
                          <a:lnTo>
                            <a:pt x="86" y="878"/>
                          </a:lnTo>
                          <a:lnTo>
                            <a:pt x="84" y="884"/>
                          </a:lnTo>
                          <a:lnTo>
                            <a:pt x="82" y="892"/>
                          </a:lnTo>
                          <a:lnTo>
                            <a:pt x="80" y="899"/>
                          </a:lnTo>
                          <a:lnTo>
                            <a:pt x="78" y="907"/>
                          </a:lnTo>
                          <a:lnTo>
                            <a:pt x="74" y="912"/>
                          </a:lnTo>
                          <a:lnTo>
                            <a:pt x="72" y="920"/>
                          </a:lnTo>
                          <a:lnTo>
                            <a:pt x="72" y="926"/>
                          </a:lnTo>
                          <a:lnTo>
                            <a:pt x="68" y="931"/>
                          </a:lnTo>
                          <a:lnTo>
                            <a:pt x="67" y="939"/>
                          </a:lnTo>
                          <a:lnTo>
                            <a:pt x="65" y="945"/>
                          </a:lnTo>
                          <a:lnTo>
                            <a:pt x="63" y="952"/>
                          </a:lnTo>
                          <a:lnTo>
                            <a:pt x="59" y="958"/>
                          </a:lnTo>
                          <a:lnTo>
                            <a:pt x="57" y="966"/>
                          </a:lnTo>
                          <a:lnTo>
                            <a:pt x="55" y="971"/>
                          </a:lnTo>
                          <a:lnTo>
                            <a:pt x="53" y="979"/>
                          </a:lnTo>
                          <a:lnTo>
                            <a:pt x="51" y="987"/>
                          </a:lnTo>
                          <a:lnTo>
                            <a:pt x="49" y="994"/>
                          </a:lnTo>
                          <a:lnTo>
                            <a:pt x="48" y="1000"/>
                          </a:lnTo>
                          <a:lnTo>
                            <a:pt x="46" y="1007"/>
                          </a:lnTo>
                          <a:lnTo>
                            <a:pt x="44" y="1015"/>
                          </a:lnTo>
                          <a:lnTo>
                            <a:pt x="42" y="1021"/>
                          </a:lnTo>
                          <a:lnTo>
                            <a:pt x="42" y="1028"/>
                          </a:lnTo>
                          <a:lnTo>
                            <a:pt x="38" y="1036"/>
                          </a:lnTo>
                          <a:lnTo>
                            <a:pt x="36" y="1042"/>
                          </a:lnTo>
                          <a:lnTo>
                            <a:pt x="36" y="1049"/>
                          </a:lnTo>
                          <a:lnTo>
                            <a:pt x="34" y="1057"/>
                          </a:lnTo>
                          <a:lnTo>
                            <a:pt x="30" y="1063"/>
                          </a:lnTo>
                          <a:lnTo>
                            <a:pt x="30" y="1070"/>
                          </a:lnTo>
                          <a:lnTo>
                            <a:pt x="29" y="1078"/>
                          </a:lnTo>
                          <a:lnTo>
                            <a:pt x="27" y="1085"/>
                          </a:lnTo>
                          <a:lnTo>
                            <a:pt x="25" y="1093"/>
                          </a:lnTo>
                          <a:lnTo>
                            <a:pt x="23" y="1101"/>
                          </a:lnTo>
                          <a:lnTo>
                            <a:pt x="21" y="1108"/>
                          </a:lnTo>
                          <a:lnTo>
                            <a:pt x="19" y="1116"/>
                          </a:lnTo>
                          <a:lnTo>
                            <a:pt x="17" y="1123"/>
                          </a:lnTo>
                          <a:lnTo>
                            <a:pt x="17" y="1131"/>
                          </a:lnTo>
                          <a:lnTo>
                            <a:pt x="15" y="1139"/>
                          </a:lnTo>
                          <a:lnTo>
                            <a:pt x="13" y="1148"/>
                          </a:lnTo>
                          <a:lnTo>
                            <a:pt x="10" y="1158"/>
                          </a:lnTo>
                          <a:lnTo>
                            <a:pt x="10" y="1165"/>
                          </a:lnTo>
                          <a:lnTo>
                            <a:pt x="8" y="1175"/>
                          </a:lnTo>
                          <a:lnTo>
                            <a:pt x="6" y="1182"/>
                          </a:lnTo>
                          <a:lnTo>
                            <a:pt x="6" y="1192"/>
                          </a:lnTo>
                          <a:lnTo>
                            <a:pt x="4" y="1201"/>
                          </a:lnTo>
                          <a:lnTo>
                            <a:pt x="2" y="1211"/>
                          </a:lnTo>
                          <a:lnTo>
                            <a:pt x="2" y="1218"/>
                          </a:lnTo>
                          <a:lnTo>
                            <a:pt x="0" y="1230"/>
                          </a:lnTo>
                          <a:lnTo>
                            <a:pt x="0" y="1237"/>
                          </a:lnTo>
                          <a:lnTo>
                            <a:pt x="0" y="1247"/>
                          </a:lnTo>
                          <a:lnTo>
                            <a:pt x="0" y="1257"/>
                          </a:lnTo>
                          <a:lnTo>
                            <a:pt x="0" y="1268"/>
                          </a:lnTo>
                          <a:lnTo>
                            <a:pt x="0" y="1276"/>
                          </a:lnTo>
                          <a:lnTo>
                            <a:pt x="0" y="1285"/>
                          </a:lnTo>
                          <a:lnTo>
                            <a:pt x="0" y="1296"/>
                          </a:lnTo>
                          <a:lnTo>
                            <a:pt x="0" y="1304"/>
                          </a:lnTo>
                          <a:lnTo>
                            <a:pt x="0" y="1314"/>
                          </a:lnTo>
                          <a:lnTo>
                            <a:pt x="0" y="1323"/>
                          </a:lnTo>
                          <a:lnTo>
                            <a:pt x="0" y="1333"/>
                          </a:lnTo>
                          <a:lnTo>
                            <a:pt x="2" y="1342"/>
                          </a:lnTo>
                          <a:lnTo>
                            <a:pt x="2" y="1352"/>
                          </a:lnTo>
                          <a:lnTo>
                            <a:pt x="4" y="1363"/>
                          </a:lnTo>
                          <a:lnTo>
                            <a:pt x="4" y="1371"/>
                          </a:lnTo>
                          <a:lnTo>
                            <a:pt x="6" y="1382"/>
                          </a:lnTo>
                          <a:lnTo>
                            <a:pt x="8" y="1390"/>
                          </a:lnTo>
                          <a:lnTo>
                            <a:pt x="8" y="1401"/>
                          </a:lnTo>
                          <a:lnTo>
                            <a:pt x="10" y="1409"/>
                          </a:lnTo>
                          <a:lnTo>
                            <a:pt x="11" y="1420"/>
                          </a:lnTo>
                          <a:lnTo>
                            <a:pt x="13" y="1429"/>
                          </a:lnTo>
                          <a:lnTo>
                            <a:pt x="15" y="1439"/>
                          </a:lnTo>
                          <a:lnTo>
                            <a:pt x="17" y="1448"/>
                          </a:lnTo>
                          <a:lnTo>
                            <a:pt x="19" y="1458"/>
                          </a:lnTo>
                          <a:lnTo>
                            <a:pt x="21" y="1468"/>
                          </a:lnTo>
                          <a:lnTo>
                            <a:pt x="23" y="1477"/>
                          </a:lnTo>
                          <a:lnTo>
                            <a:pt x="27" y="1487"/>
                          </a:lnTo>
                          <a:lnTo>
                            <a:pt x="29" y="1496"/>
                          </a:lnTo>
                          <a:lnTo>
                            <a:pt x="30" y="1506"/>
                          </a:lnTo>
                          <a:lnTo>
                            <a:pt x="34" y="1515"/>
                          </a:lnTo>
                          <a:lnTo>
                            <a:pt x="36" y="1525"/>
                          </a:lnTo>
                          <a:lnTo>
                            <a:pt x="38" y="1534"/>
                          </a:lnTo>
                          <a:lnTo>
                            <a:pt x="42" y="1544"/>
                          </a:lnTo>
                          <a:lnTo>
                            <a:pt x="46" y="1553"/>
                          </a:lnTo>
                          <a:lnTo>
                            <a:pt x="48" y="1561"/>
                          </a:lnTo>
                          <a:lnTo>
                            <a:pt x="51" y="1572"/>
                          </a:lnTo>
                          <a:lnTo>
                            <a:pt x="55" y="1580"/>
                          </a:lnTo>
                          <a:lnTo>
                            <a:pt x="59" y="1589"/>
                          </a:lnTo>
                          <a:lnTo>
                            <a:pt x="63" y="1599"/>
                          </a:lnTo>
                          <a:lnTo>
                            <a:pt x="67" y="1608"/>
                          </a:lnTo>
                          <a:lnTo>
                            <a:pt x="68" y="1616"/>
                          </a:lnTo>
                          <a:lnTo>
                            <a:pt x="74" y="1627"/>
                          </a:lnTo>
                          <a:lnTo>
                            <a:pt x="78" y="1635"/>
                          </a:lnTo>
                          <a:lnTo>
                            <a:pt x="82" y="1644"/>
                          </a:lnTo>
                          <a:lnTo>
                            <a:pt x="86" y="1652"/>
                          </a:lnTo>
                          <a:lnTo>
                            <a:pt x="89" y="1661"/>
                          </a:lnTo>
                          <a:lnTo>
                            <a:pt x="95" y="1669"/>
                          </a:lnTo>
                          <a:lnTo>
                            <a:pt x="99" y="1679"/>
                          </a:lnTo>
                          <a:lnTo>
                            <a:pt x="103" y="1688"/>
                          </a:lnTo>
                          <a:lnTo>
                            <a:pt x="108" y="1696"/>
                          </a:lnTo>
                          <a:lnTo>
                            <a:pt x="114" y="1703"/>
                          </a:lnTo>
                          <a:lnTo>
                            <a:pt x="118" y="1713"/>
                          </a:lnTo>
                          <a:lnTo>
                            <a:pt x="124" y="1722"/>
                          </a:lnTo>
                          <a:lnTo>
                            <a:pt x="127" y="1732"/>
                          </a:lnTo>
                          <a:lnTo>
                            <a:pt x="131" y="1736"/>
                          </a:lnTo>
                          <a:lnTo>
                            <a:pt x="135" y="1739"/>
                          </a:lnTo>
                          <a:lnTo>
                            <a:pt x="135" y="1743"/>
                          </a:lnTo>
                          <a:lnTo>
                            <a:pt x="137" y="1745"/>
                          </a:lnTo>
                          <a:lnTo>
                            <a:pt x="139" y="1747"/>
                          </a:lnTo>
                          <a:lnTo>
                            <a:pt x="141" y="1751"/>
                          </a:lnTo>
                          <a:lnTo>
                            <a:pt x="143" y="1755"/>
                          </a:lnTo>
                          <a:lnTo>
                            <a:pt x="143" y="1756"/>
                          </a:lnTo>
                          <a:lnTo>
                            <a:pt x="145" y="1760"/>
                          </a:lnTo>
                          <a:lnTo>
                            <a:pt x="146" y="1762"/>
                          </a:lnTo>
                          <a:lnTo>
                            <a:pt x="148" y="1766"/>
                          </a:lnTo>
                          <a:lnTo>
                            <a:pt x="150" y="1768"/>
                          </a:lnTo>
                          <a:lnTo>
                            <a:pt x="152" y="1770"/>
                          </a:lnTo>
                          <a:lnTo>
                            <a:pt x="156" y="1774"/>
                          </a:lnTo>
                          <a:lnTo>
                            <a:pt x="158" y="1777"/>
                          </a:lnTo>
                          <a:lnTo>
                            <a:pt x="160" y="1779"/>
                          </a:lnTo>
                          <a:lnTo>
                            <a:pt x="160" y="1783"/>
                          </a:lnTo>
                          <a:lnTo>
                            <a:pt x="162" y="1787"/>
                          </a:lnTo>
                          <a:lnTo>
                            <a:pt x="166" y="1789"/>
                          </a:lnTo>
                          <a:lnTo>
                            <a:pt x="166" y="1791"/>
                          </a:lnTo>
                          <a:lnTo>
                            <a:pt x="167" y="1794"/>
                          </a:lnTo>
                          <a:lnTo>
                            <a:pt x="169" y="1796"/>
                          </a:lnTo>
                          <a:lnTo>
                            <a:pt x="171" y="1800"/>
                          </a:lnTo>
                          <a:lnTo>
                            <a:pt x="173" y="1802"/>
                          </a:lnTo>
                          <a:lnTo>
                            <a:pt x="175" y="1806"/>
                          </a:lnTo>
                          <a:lnTo>
                            <a:pt x="177" y="1808"/>
                          </a:lnTo>
                          <a:lnTo>
                            <a:pt x="179" y="1812"/>
                          </a:lnTo>
                          <a:lnTo>
                            <a:pt x="181" y="1815"/>
                          </a:lnTo>
                          <a:lnTo>
                            <a:pt x="183" y="1817"/>
                          </a:lnTo>
                          <a:lnTo>
                            <a:pt x="185" y="1821"/>
                          </a:lnTo>
                          <a:lnTo>
                            <a:pt x="188" y="1827"/>
                          </a:lnTo>
                          <a:lnTo>
                            <a:pt x="190" y="1831"/>
                          </a:lnTo>
                          <a:lnTo>
                            <a:pt x="194" y="1836"/>
                          </a:lnTo>
                          <a:lnTo>
                            <a:pt x="198" y="1842"/>
                          </a:lnTo>
                          <a:lnTo>
                            <a:pt x="200" y="1846"/>
                          </a:lnTo>
                          <a:lnTo>
                            <a:pt x="204" y="1850"/>
                          </a:lnTo>
                          <a:lnTo>
                            <a:pt x="205" y="1853"/>
                          </a:lnTo>
                          <a:lnTo>
                            <a:pt x="207" y="1859"/>
                          </a:lnTo>
                          <a:lnTo>
                            <a:pt x="209" y="1861"/>
                          </a:lnTo>
                          <a:lnTo>
                            <a:pt x="211" y="1863"/>
                          </a:lnTo>
                          <a:lnTo>
                            <a:pt x="213" y="1867"/>
                          </a:lnTo>
                          <a:lnTo>
                            <a:pt x="215" y="1869"/>
                          </a:lnTo>
                          <a:lnTo>
                            <a:pt x="217" y="1870"/>
                          </a:lnTo>
                          <a:lnTo>
                            <a:pt x="219" y="1874"/>
                          </a:lnTo>
                          <a:lnTo>
                            <a:pt x="141" y="2163"/>
                          </a:lnTo>
                          <a:lnTo>
                            <a:pt x="143" y="2165"/>
                          </a:lnTo>
                          <a:lnTo>
                            <a:pt x="146" y="2165"/>
                          </a:lnTo>
                          <a:lnTo>
                            <a:pt x="150" y="2167"/>
                          </a:lnTo>
                          <a:lnTo>
                            <a:pt x="152" y="2167"/>
                          </a:lnTo>
                          <a:lnTo>
                            <a:pt x="154" y="2167"/>
                          </a:lnTo>
                          <a:lnTo>
                            <a:pt x="158" y="2167"/>
                          </a:lnTo>
                          <a:lnTo>
                            <a:pt x="162" y="2171"/>
                          </a:lnTo>
                          <a:lnTo>
                            <a:pt x="166" y="2171"/>
                          </a:lnTo>
                          <a:lnTo>
                            <a:pt x="167" y="2173"/>
                          </a:lnTo>
                          <a:lnTo>
                            <a:pt x="171" y="2173"/>
                          </a:lnTo>
                          <a:lnTo>
                            <a:pt x="175" y="2175"/>
                          </a:lnTo>
                          <a:lnTo>
                            <a:pt x="181" y="2175"/>
                          </a:lnTo>
                          <a:lnTo>
                            <a:pt x="185" y="2175"/>
                          </a:lnTo>
                          <a:lnTo>
                            <a:pt x="188" y="2177"/>
                          </a:lnTo>
                          <a:lnTo>
                            <a:pt x="194" y="2180"/>
                          </a:lnTo>
                          <a:lnTo>
                            <a:pt x="198" y="2180"/>
                          </a:lnTo>
                          <a:lnTo>
                            <a:pt x="204" y="2182"/>
                          </a:lnTo>
                          <a:lnTo>
                            <a:pt x="209" y="2182"/>
                          </a:lnTo>
                          <a:lnTo>
                            <a:pt x="215" y="2184"/>
                          </a:lnTo>
                          <a:lnTo>
                            <a:pt x="219" y="2186"/>
                          </a:lnTo>
                          <a:lnTo>
                            <a:pt x="224" y="2188"/>
                          </a:lnTo>
                          <a:lnTo>
                            <a:pt x="232" y="2188"/>
                          </a:lnTo>
                          <a:lnTo>
                            <a:pt x="238" y="2190"/>
                          </a:lnTo>
                          <a:lnTo>
                            <a:pt x="243" y="2190"/>
                          </a:lnTo>
                          <a:lnTo>
                            <a:pt x="251" y="2192"/>
                          </a:lnTo>
                          <a:lnTo>
                            <a:pt x="257" y="2194"/>
                          </a:lnTo>
                          <a:lnTo>
                            <a:pt x="264" y="2194"/>
                          </a:lnTo>
                          <a:lnTo>
                            <a:pt x="270" y="2196"/>
                          </a:lnTo>
                          <a:lnTo>
                            <a:pt x="276" y="2196"/>
                          </a:lnTo>
                          <a:lnTo>
                            <a:pt x="283" y="2197"/>
                          </a:lnTo>
                          <a:lnTo>
                            <a:pt x="291" y="2199"/>
                          </a:lnTo>
                          <a:lnTo>
                            <a:pt x="297" y="2199"/>
                          </a:lnTo>
                          <a:lnTo>
                            <a:pt x="304" y="2199"/>
                          </a:lnTo>
                          <a:lnTo>
                            <a:pt x="312" y="2199"/>
                          </a:lnTo>
                          <a:lnTo>
                            <a:pt x="320" y="2201"/>
                          </a:lnTo>
                          <a:lnTo>
                            <a:pt x="325" y="2201"/>
                          </a:lnTo>
                          <a:lnTo>
                            <a:pt x="333" y="2201"/>
                          </a:lnTo>
                          <a:lnTo>
                            <a:pt x="341" y="2201"/>
                          </a:lnTo>
                          <a:lnTo>
                            <a:pt x="348" y="2201"/>
                          </a:lnTo>
                          <a:lnTo>
                            <a:pt x="356" y="2201"/>
                          </a:lnTo>
                          <a:lnTo>
                            <a:pt x="363" y="2201"/>
                          </a:lnTo>
                          <a:lnTo>
                            <a:pt x="371" y="2201"/>
                          </a:lnTo>
                          <a:lnTo>
                            <a:pt x="379" y="2201"/>
                          </a:lnTo>
                          <a:lnTo>
                            <a:pt x="386" y="2201"/>
                          </a:lnTo>
                          <a:lnTo>
                            <a:pt x="394" y="2201"/>
                          </a:lnTo>
                          <a:lnTo>
                            <a:pt x="401" y="2199"/>
                          </a:lnTo>
                          <a:lnTo>
                            <a:pt x="409" y="2199"/>
                          </a:lnTo>
                          <a:lnTo>
                            <a:pt x="415" y="2197"/>
                          </a:lnTo>
                          <a:lnTo>
                            <a:pt x="422" y="2196"/>
                          </a:lnTo>
                          <a:lnTo>
                            <a:pt x="432" y="2196"/>
                          </a:lnTo>
                          <a:lnTo>
                            <a:pt x="439" y="2194"/>
                          </a:lnTo>
                          <a:lnTo>
                            <a:pt x="447" y="2192"/>
                          </a:lnTo>
                          <a:lnTo>
                            <a:pt x="455" y="2190"/>
                          </a:lnTo>
                          <a:lnTo>
                            <a:pt x="462" y="2188"/>
                          </a:lnTo>
                          <a:lnTo>
                            <a:pt x="470" y="2188"/>
                          </a:lnTo>
                          <a:lnTo>
                            <a:pt x="476" y="2184"/>
                          </a:lnTo>
                          <a:lnTo>
                            <a:pt x="483" y="2182"/>
                          </a:lnTo>
                          <a:lnTo>
                            <a:pt x="491" y="2180"/>
                          </a:lnTo>
                          <a:lnTo>
                            <a:pt x="498" y="2175"/>
                          </a:lnTo>
                          <a:lnTo>
                            <a:pt x="504" y="2173"/>
                          </a:lnTo>
                          <a:lnTo>
                            <a:pt x="512" y="2169"/>
                          </a:lnTo>
                          <a:lnTo>
                            <a:pt x="517" y="2165"/>
                          </a:lnTo>
                          <a:lnTo>
                            <a:pt x="525" y="2161"/>
                          </a:lnTo>
                          <a:lnTo>
                            <a:pt x="531" y="2158"/>
                          </a:lnTo>
                          <a:lnTo>
                            <a:pt x="536" y="2154"/>
                          </a:lnTo>
                          <a:lnTo>
                            <a:pt x="542" y="2150"/>
                          </a:lnTo>
                          <a:lnTo>
                            <a:pt x="550" y="2146"/>
                          </a:lnTo>
                          <a:lnTo>
                            <a:pt x="555" y="2142"/>
                          </a:lnTo>
                          <a:lnTo>
                            <a:pt x="559" y="2137"/>
                          </a:lnTo>
                          <a:lnTo>
                            <a:pt x="565" y="2133"/>
                          </a:lnTo>
                          <a:lnTo>
                            <a:pt x="571" y="2129"/>
                          </a:lnTo>
                          <a:lnTo>
                            <a:pt x="576" y="2123"/>
                          </a:lnTo>
                          <a:lnTo>
                            <a:pt x="582" y="2120"/>
                          </a:lnTo>
                          <a:lnTo>
                            <a:pt x="588" y="2114"/>
                          </a:lnTo>
                          <a:lnTo>
                            <a:pt x="592" y="2110"/>
                          </a:lnTo>
                          <a:lnTo>
                            <a:pt x="595" y="2106"/>
                          </a:lnTo>
                          <a:lnTo>
                            <a:pt x="601" y="2101"/>
                          </a:lnTo>
                          <a:lnTo>
                            <a:pt x="605" y="2095"/>
                          </a:lnTo>
                          <a:lnTo>
                            <a:pt x="611" y="2091"/>
                          </a:lnTo>
                          <a:lnTo>
                            <a:pt x="614" y="2085"/>
                          </a:lnTo>
                          <a:lnTo>
                            <a:pt x="618" y="2080"/>
                          </a:lnTo>
                          <a:lnTo>
                            <a:pt x="624" y="2076"/>
                          </a:lnTo>
                          <a:lnTo>
                            <a:pt x="628" y="2070"/>
                          </a:lnTo>
                          <a:lnTo>
                            <a:pt x="632" y="2064"/>
                          </a:lnTo>
                          <a:lnTo>
                            <a:pt x="635" y="2059"/>
                          </a:lnTo>
                          <a:lnTo>
                            <a:pt x="637" y="2055"/>
                          </a:lnTo>
                          <a:lnTo>
                            <a:pt x="643" y="2049"/>
                          </a:lnTo>
                          <a:lnTo>
                            <a:pt x="645" y="2043"/>
                          </a:lnTo>
                          <a:lnTo>
                            <a:pt x="649" y="2040"/>
                          </a:lnTo>
                          <a:lnTo>
                            <a:pt x="652" y="2034"/>
                          </a:lnTo>
                          <a:lnTo>
                            <a:pt x="654" y="2030"/>
                          </a:lnTo>
                          <a:lnTo>
                            <a:pt x="658" y="2024"/>
                          </a:lnTo>
                          <a:lnTo>
                            <a:pt x="660" y="2021"/>
                          </a:lnTo>
                          <a:lnTo>
                            <a:pt x="664" y="2015"/>
                          </a:lnTo>
                          <a:lnTo>
                            <a:pt x="666" y="2011"/>
                          </a:lnTo>
                          <a:lnTo>
                            <a:pt x="668" y="2005"/>
                          </a:lnTo>
                          <a:lnTo>
                            <a:pt x="672" y="2002"/>
                          </a:lnTo>
                          <a:lnTo>
                            <a:pt x="673" y="1998"/>
                          </a:lnTo>
                          <a:lnTo>
                            <a:pt x="675" y="1992"/>
                          </a:lnTo>
                          <a:lnTo>
                            <a:pt x="677" y="1986"/>
                          </a:lnTo>
                          <a:lnTo>
                            <a:pt x="679" y="1983"/>
                          </a:lnTo>
                          <a:lnTo>
                            <a:pt x="681" y="1979"/>
                          </a:lnTo>
                          <a:lnTo>
                            <a:pt x="683" y="1975"/>
                          </a:lnTo>
                          <a:lnTo>
                            <a:pt x="685" y="1971"/>
                          </a:lnTo>
                          <a:lnTo>
                            <a:pt x="687" y="1969"/>
                          </a:lnTo>
                          <a:lnTo>
                            <a:pt x="689" y="1964"/>
                          </a:lnTo>
                          <a:lnTo>
                            <a:pt x="691" y="1962"/>
                          </a:lnTo>
                          <a:lnTo>
                            <a:pt x="692" y="1958"/>
                          </a:lnTo>
                          <a:lnTo>
                            <a:pt x="692" y="1954"/>
                          </a:lnTo>
                          <a:lnTo>
                            <a:pt x="692" y="1952"/>
                          </a:lnTo>
                          <a:lnTo>
                            <a:pt x="694" y="1950"/>
                          </a:lnTo>
                          <a:lnTo>
                            <a:pt x="696" y="1945"/>
                          </a:lnTo>
                          <a:lnTo>
                            <a:pt x="698" y="1941"/>
                          </a:lnTo>
                          <a:lnTo>
                            <a:pt x="700" y="1937"/>
                          </a:lnTo>
                          <a:lnTo>
                            <a:pt x="700" y="1935"/>
                          </a:lnTo>
                          <a:lnTo>
                            <a:pt x="700" y="1933"/>
                          </a:lnTo>
                          <a:lnTo>
                            <a:pt x="702" y="1933"/>
                          </a:lnTo>
                          <a:lnTo>
                            <a:pt x="740" y="1943"/>
                          </a:lnTo>
                          <a:lnTo>
                            <a:pt x="740" y="1943"/>
                          </a:lnTo>
                          <a:lnTo>
                            <a:pt x="738" y="1945"/>
                          </a:lnTo>
                          <a:lnTo>
                            <a:pt x="738" y="1947"/>
                          </a:lnTo>
                          <a:lnTo>
                            <a:pt x="738" y="1950"/>
                          </a:lnTo>
                          <a:lnTo>
                            <a:pt x="738" y="1954"/>
                          </a:lnTo>
                          <a:lnTo>
                            <a:pt x="738" y="1958"/>
                          </a:lnTo>
                          <a:lnTo>
                            <a:pt x="736" y="1962"/>
                          </a:lnTo>
                          <a:lnTo>
                            <a:pt x="736" y="1964"/>
                          </a:lnTo>
                          <a:lnTo>
                            <a:pt x="736" y="1967"/>
                          </a:lnTo>
                          <a:lnTo>
                            <a:pt x="736" y="1971"/>
                          </a:lnTo>
                          <a:lnTo>
                            <a:pt x="736" y="1975"/>
                          </a:lnTo>
                          <a:lnTo>
                            <a:pt x="736" y="1979"/>
                          </a:lnTo>
                          <a:lnTo>
                            <a:pt x="736" y="1983"/>
                          </a:lnTo>
                          <a:lnTo>
                            <a:pt x="736" y="1985"/>
                          </a:lnTo>
                          <a:lnTo>
                            <a:pt x="736" y="1990"/>
                          </a:lnTo>
                          <a:lnTo>
                            <a:pt x="736" y="1994"/>
                          </a:lnTo>
                          <a:lnTo>
                            <a:pt x="736" y="1998"/>
                          </a:lnTo>
                          <a:lnTo>
                            <a:pt x="736" y="2004"/>
                          </a:lnTo>
                          <a:lnTo>
                            <a:pt x="736" y="2007"/>
                          </a:lnTo>
                          <a:lnTo>
                            <a:pt x="736" y="2013"/>
                          </a:lnTo>
                          <a:lnTo>
                            <a:pt x="736" y="2015"/>
                          </a:lnTo>
                          <a:lnTo>
                            <a:pt x="736" y="2021"/>
                          </a:lnTo>
                          <a:lnTo>
                            <a:pt x="736" y="2026"/>
                          </a:lnTo>
                          <a:lnTo>
                            <a:pt x="736" y="2030"/>
                          </a:lnTo>
                          <a:lnTo>
                            <a:pt x="736" y="2036"/>
                          </a:lnTo>
                          <a:lnTo>
                            <a:pt x="736" y="2042"/>
                          </a:lnTo>
                          <a:lnTo>
                            <a:pt x="736" y="2047"/>
                          </a:lnTo>
                          <a:lnTo>
                            <a:pt x="738" y="2051"/>
                          </a:lnTo>
                          <a:lnTo>
                            <a:pt x="738" y="2057"/>
                          </a:lnTo>
                          <a:lnTo>
                            <a:pt x="738" y="2062"/>
                          </a:lnTo>
                          <a:lnTo>
                            <a:pt x="740" y="2066"/>
                          </a:lnTo>
                          <a:lnTo>
                            <a:pt x="740" y="2072"/>
                          </a:lnTo>
                          <a:lnTo>
                            <a:pt x="742" y="2078"/>
                          </a:lnTo>
                          <a:lnTo>
                            <a:pt x="744" y="2083"/>
                          </a:lnTo>
                          <a:lnTo>
                            <a:pt x="744" y="2091"/>
                          </a:lnTo>
                          <a:lnTo>
                            <a:pt x="746" y="2095"/>
                          </a:lnTo>
                          <a:lnTo>
                            <a:pt x="748" y="2101"/>
                          </a:lnTo>
                          <a:lnTo>
                            <a:pt x="748" y="2106"/>
                          </a:lnTo>
                          <a:lnTo>
                            <a:pt x="751" y="2110"/>
                          </a:lnTo>
                          <a:lnTo>
                            <a:pt x="753" y="2118"/>
                          </a:lnTo>
                          <a:lnTo>
                            <a:pt x="753" y="2123"/>
                          </a:lnTo>
                          <a:lnTo>
                            <a:pt x="757" y="2129"/>
                          </a:lnTo>
                          <a:lnTo>
                            <a:pt x="759" y="2135"/>
                          </a:lnTo>
                          <a:lnTo>
                            <a:pt x="761" y="2139"/>
                          </a:lnTo>
                          <a:lnTo>
                            <a:pt x="765" y="2144"/>
                          </a:lnTo>
                          <a:lnTo>
                            <a:pt x="767" y="2150"/>
                          </a:lnTo>
                          <a:lnTo>
                            <a:pt x="769" y="2156"/>
                          </a:lnTo>
                          <a:lnTo>
                            <a:pt x="772" y="2159"/>
                          </a:lnTo>
                          <a:lnTo>
                            <a:pt x="776" y="2165"/>
                          </a:lnTo>
                          <a:lnTo>
                            <a:pt x="780" y="2171"/>
                          </a:lnTo>
                          <a:lnTo>
                            <a:pt x="782" y="2175"/>
                          </a:lnTo>
                          <a:lnTo>
                            <a:pt x="786" y="2180"/>
                          </a:lnTo>
                          <a:lnTo>
                            <a:pt x="789" y="2186"/>
                          </a:lnTo>
                          <a:lnTo>
                            <a:pt x="795" y="2190"/>
                          </a:lnTo>
                          <a:lnTo>
                            <a:pt x="799" y="2196"/>
                          </a:lnTo>
                          <a:lnTo>
                            <a:pt x="805" y="2201"/>
                          </a:lnTo>
                          <a:lnTo>
                            <a:pt x="808" y="2205"/>
                          </a:lnTo>
                          <a:lnTo>
                            <a:pt x="814" y="2209"/>
                          </a:lnTo>
                          <a:lnTo>
                            <a:pt x="818" y="2213"/>
                          </a:lnTo>
                          <a:lnTo>
                            <a:pt x="824" y="2216"/>
                          </a:lnTo>
                          <a:lnTo>
                            <a:pt x="828" y="2222"/>
                          </a:lnTo>
                          <a:lnTo>
                            <a:pt x="833" y="2224"/>
                          </a:lnTo>
                          <a:lnTo>
                            <a:pt x="839" y="2228"/>
                          </a:lnTo>
                          <a:lnTo>
                            <a:pt x="845" y="2232"/>
                          </a:lnTo>
                          <a:lnTo>
                            <a:pt x="848" y="2235"/>
                          </a:lnTo>
                          <a:lnTo>
                            <a:pt x="854" y="2239"/>
                          </a:lnTo>
                          <a:lnTo>
                            <a:pt x="858" y="2243"/>
                          </a:lnTo>
                          <a:lnTo>
                            <a:pt x="864" y="2245"/>
                          </a:lnTo>
                          <a:lnTo>
                            <a:pt x="867" y="2249"/>
                          </a:lnTo>
                          <a:lnTo>
                            <a:pt x="873" y="2253"/>
                          </a:lnTo>
                          <a:lnTo>
                            <a:pt x="877" y="2256"/>
                          </a:lnTo>
                          <a:lnTo>
                            <a:pt x="883" y="2258"/>
                          </a:lnTo>
                          <a:lnTo>
                            <a:pt x="890" y="2260"/>
                          </a:lnTo>
                          <a:lnTo>
                            <a:pt x="896" y="2264"/>
                          </a:lnTo>
                          <a:lnTo>
                            <a:pt x="900" y="2266"/>
                          </a:lnTo>
                          <a:lnTo>
                            <a:pt x="904" y="2268"/>
                          </a:lnTo>
                          <a:lnTo>
                            <a:pt x="907" y="2270"/>
                          </a:lnTo>
                          <a:lnTo>
                            <a:pt x="913" y="2273"/>
                          </a:lnTo>
                          <a:lnTo>
                            <a:pt x="919" y="2275"/>
                          </a:lnTo>
                          <a:lnTo>
                            <a:pt x="925" y="2277"/>
                          </a:lnTo>
                          <a:lnTo>
                            <a:pt x="928" y="2279"/>
                          </a:lnTo>
                          <a:lnTo>
                            <a:pt x="934" y="2281"/>
                          </a:lnTo>
                          <a:lnTo>
                            <a:pt x="938" y="2283"/>
                          </a:lnTo>
                          <a:lnTo>
                            <a:pt x="942" y="2285"/>
                          </a:lnTo>
                          <a:lnTo>
                            <a:pt x="947" y="2287"/>
                          </a:lnTo>
                          <a:lnTo>
                            <a:pt x="951" y="2289"/>
                          </a:lnTo>
                          <a:lnTo>
                            <a:pt x="955" y="2289"/>
                          </a:lnTo>
                          <a:lnTo>
                            <a:pt x="961" y="2291"/>
                          </a:lnTo>
                          <a:lnTo>
                            <a:pt x="964" y="2291"/>
                          </a:lnTo>
                          <a:lnTo>
                            <a:pt x="968" y="2294"/>
                          </a:lnTo>
                          <a:lnTo>
                            <a:pt x="972" y="2294"/>
                          </a:lnTo>
                          <a:lnTo>
                            <a:pt x="978" y="2294"/>
                          </a:lnTo>
                          <a:lnTo>
                            <a:pt x="982" y="2296"/>
                          </a:lnTo>
                          <a:lnTo>
                            <a:pt x="985" y="2296"/>
                          </a:lnTo>
                          <a:lnTo>
                            <a:pt x="989" y="2296"/>
                          </a:lnTo>
                          <a:lnTo>
                            <a:pt x="993" y="2298"/>
                          </a:lnTo>
                          <a:lnTo>
                            <a:pt x="997" y="2298"/>
                          </a:lnTo>
                          <a:lnTo>
                            <a:pt x="1001" y="2298"/>
                          </a:lnTo>
                          <a:lnTo>
                            <a:pt x="1004" y="2298"/>
                          </a:lnTo>
                          <a:lnTo>
                            <a:pt x="1008" y="2300"/>
                          </a:lnTo>
                          <a:lnTo>
                            <a:pt x="1010" y="2300"/>
                          </a:lnTo>
                          <a:lnTo>
                            <a:pt x="1014" y="2300"/>
                          </a:lnTo>
                          <a:lnTo>
                            <a:pt x="1016" y="2300"/>
                          </a:lnTo>
                          <a:lnTo>
                            <a:pt x="1020" y="2300"/>
                          </a:lnTo>
                          <a:lnTo>
                            <a:pt x="1022" y="2300"/>
                          </a:lnTo>
                          <a:lnTo>
                            <a:pt x="1025" y="2302"/>
                          </a:lnTo>
                          <a:lnTo>
                            <a:pt x="1029" y="2300"/>
                          </a:lnTo>
                          <a:lnTo>
                            <a:pt x="1035" y="2300"/>
                          </a:lnTo>
                          <a:lnTo>
                            <a:pt x="1039" y="2298"/>
                          </a:lnTo>
                          <a:lnTo>
                            <a:pt x="1042" y="2298"/>
                          </a:lnTo>
                          <a:lnTo>
                            <a:pt x="1044" y="2296"/>
                          </a:lnTo>
                          <a:lnTo>
                            <a:pt x="1048" y="2296"/>
                          </a:lnTo>
                          <a:lnTo>
                            <a:pt x="1048" y="2294"/>
                          </a:lnTo>
                          <a:lnTo>
                            <a:pt x="1050" y="2294"/>
                          </a:lnTo>
                          <a:lnTo>
                            <a:pt x="1246" y="1334"/>
                          </a:lnTo>
                          <a:lnTo>
                            <a:pt x="1246" y="1333"/>
                          </a:lnTo>
                          <a:lnTo>
                            <a:pt x="1248" y="1331"/>
                          </a:lnTo>
                          <a:lnTo>
                            <a:pt x="1250" y="1327"/>
                          </a:lnTo>
                          <a:lnTo>
                            <a:pt x="1252" y="1325"/>
                          </a:lnTo>
                          <a:lnTo>
                            <a:pt x="1252" y="1323"/>
                          </a:lnTo>
                          <a:lnTo>
                            <a:pt x="1254" y="1319"/>
                          </a:lnTo>
                          <a:lnTo>
                            <a:pt x="1256" y="1315"/>
                          </a:lnTo>
                          <a:lnTo>
                            <a:pt x="1259" y="1312"/>
                          </a:lnTo>
                          <a:lnTo>
                            <a:pt x="1259" y="1306"/>
                          </a:lnTo>
                          <a:lnTo>
                            <a:pt x="1263" y="1302"/>
                          </a:lnTo>
                          <a:lnTo>
                            <a:pt x="1265" y="1296"/>
                          </a:lnTo>
                          <a:lnTo>
                            <a:pt x="1269" y="1293"/>
                          </a:lnTo>
                          <a:lnTo>
                            <a:pt x="1271" y="1285"/>
                          </a:lnTo>
                          <a:lnTo>
                            <a:pt x="1275" y="1281"/>
                          </a:lnTo>
                          <a:lnTo>
                            <a:pt x="1276" y="1274"/>
                          </a:lnTo>
                          <a:lnTo>
                            <a:pt x="1280" y="1266"/>
                          </a:lnTo>
                          <a:lnTo>
                            <a:pt x="1284" y="1258"/>
                          </a:lnTo>
                          <a:lnTo>
                            <a:pt x="1288" y="1249"/>
                          </a:lnTo>
                          <a:lnTo>
                            <a:pt x="1290" y="1241"/>
                          </a:lnTo>
                          <a:lnTo>
                            <a:pt x="1294" y="1234"/>
                          </a:lnTo>
                          <a:lnTo>
                            <a:pt x="1297" y="1224"/>
                          </a:lnTo>
                          <a:lnTo>
                            <a:pt x="1301" y="1217"/>
                          </a:lnTo>
                          <a:lnTo>
                            <a:pt x="1305" y="1207"/>
                          </a:lnTo>
                          <a:lnTo>
                            <a:pt x="1309" y="1198"/>
                          </a:lnTo>
                          <a:lnTo>
                            <a:pt x="1313" y="1188"/>
                          </a:lnTo>
                          <a:lnTo>
                            <a:pt x="1316" y="1177"/>
                          </a:lnTo>
                          <a:lnTo>
                            <a:pt x="1320" y="1165"/>
                          </a:lnTo>
                          <a:lnTo>
                            <a:pt x="1324" y="1154"/>
                          </a:lnTo>
                          <a:lnTo>
                            <a:pt x="1330" y="1144"/>
                          </a:lnTo>
                          <a:lnTo>
                            <a:pt x="1334" y="1133"/>
                          </a:lnTo>
                          <a:lnTo>
                            <a:pt x="1337" y="1122"/>
                          </a:lnTo>
                          <a:lnTo>
                            <a:pt x="1339" y="1108"/>
                          </a:lnTo>
                          <a:lnTo>
                            <a:pt x="1345" y="1097"/>
                          </a:lnTo>
                          <a:lnTo>
                            <a:pt x="1349" y="1084"/>
                          </a:lnTo>
                          <a:lnTo>
                            <a:pt x="1353" y="1070"/>
                          </a:lnTo>
                          <a:lnTo>
                            <a:pt x="1354" y="1059"/>
                          </a:lnTo>
                          <a:lnTo>
                            <a:pt x="1358" y="1044"/>
                          </a:lnTo>
                          <a:lnTo>
                            <a:pt x="1362" y="1032"/>
                          </a:lnTo>
                          <a:lnTo>
                            <a:pt x="1366" y="1017"/>
                          </a:lnTo>
                          <a:lnTo>
                            <a:pt x="1370" y="1004"/>
                          </a:lnTo>
                          <a:lnTo>
                            <a:pt x="1372" y="988"/>
                          </a:lnTo>
                          <a:lnTo>
                            <a:pt x="1375" y="975"/>
                          </a:lnTo>
                          <a:lnTo>
                            <a:pt x="1377" y="960"/>
                          </a:lnTo>
                          <a:lnTo>
                            <a:pt x="1381" y="947"/>
                          </a:lnTo>
                          <a:lnTo>
                            <a:pt x="1383" y="931"/>
                          </a:lnTo>
                          <a:lnTo>
                            <a:pt x="1387" y="916"/>
                          </a:lnTo>
                          <a:lnTo>
                            <a:pt x="1389" y="901"/>
                          </a:lnTo>
                          <a:lnTo>
                            <a:pt x="1391" y="886"/>
                          </a:lnTo>
                          <a:lnTo>
                            <a:pt x="1392" y="871"/>
                          </a:lnTo>
                          <a:lnTo>
                            <a:pt x="1394" y="855"/>
                          </a:lnTo>
                          <a:lnTo>
                            <a:pt x="1396" y="838"/>
                          </a:lnTo>
                          <a:lnTo>
                            <a:pt x="1398" y="823"/>
                          </a:lnTo>
                          <a:lnTo>
                            <a:pt x="1398" y="806"/>
                          </a:lnTo>
                          <a:lnTo>
                            <a:pt x="1400" y="791"/>
                          </a:lnTo>
                          <a:lnTo>
                            <a:pt x="1402" y="774"/>
                          </a:lnTo>
                          <a:lnTo>
                            <a:pt x="1402" y="757"/>
                          </a:lnTo>
                          <a:lnTo>
                            <a:pt x="1402" y="741"/>
                          </a:lnTo>
                          <a:lnTo>
                            <a:pt x="1402" y="724"/>
                          </a:lnTo>
                          <a:lnTo>
                            <a:pt x="1402" y="705"/>
                          </a:lnTo>
                          <a:lnTo>
                            <a:pt x="1402" y="690"/>
                          </a:lnTo>
                          <a:lnTo>
                            <a:pt x="1400" y="673"/>
                          </a:lnTo>
                          <a:lnTo>
                            <a:pt x="1400" y="656"/>
                          </a:lnTo>
                          <a:lnTo>
                            <a:pt x="1398" y="654"/>
                          </a:lnTo>
                          <a:lnTo>
                            <a:pt x="1398" y="652"/>
                          </a:lnTo>
                          <a:lnTo>
                            <a:pt x="1398" y="648"/>
                          </a:lnTo>
                          <a:lnTo>
                            <a:pt x="1398" y="644"/>
                          </a:lnTo>
                          <a:lnTo>
                            <a:pt x="1398" y="643"/>
                          </a:lnTo>
                          <a:lnTo>
                            <a:pt x="1398" y="639"/>
                          </a:lnTo>
                          <a:lnTo>
                            <a:pt x="1396" y="637"/>
                          </a:lnTo>
                          <a:lnTo>
                            <a:pt x="1396" y="633"/>
                          </a:lnTo>
                          <a:lnTo>
                            <a:pt x="1396" y="631"/>
                          </a:lnTo>
                          <a:lnTo>
                            <a:pt x="1396" y="627"/>
                          </a:lnTo>
                          <a:lnTo>
                            <a:pt x="1396" y="623"/>
                          </a:lnTo>
                          <a:lnTo>
                            <a:pt x="1394" y="620"/>
                          </a:lnTo>
                          <a:lnTo>
                            <a:pt x="1394" y="618"/>
                          </a:lnTo>
                          <a:lnTo>
                            <a:pt x="1394" y="616"/>
                          </a:lnTo>
                          <a:lnTo>
                            <a:pt x="1392" y="612"/>
                          </a:lnTo>
                          <a:lnTo>
                            <a:pt x="1392" y="610"/>
                          </a:lnTo>
                          <a:lnTo>
                            <a:pt x="1392" y="608"/>
                          </a:lnTo>
                          <a:lnTo>
                            <a:pt x="1391" y="604"/>
                          </a:lnTo>
                          <a:lnTo>
                            <a:pt x="1391" y="603"/>
                          </a:lnTo>
                          <a:lnTo>
                            <a:pt x="1391" y="599"/>
                          </a:lnTo>
                          <a:lnTo>
                            <a:pt x="1389" y="597"/>
                          </a:lnTo>
                          <a:lnTo>
                            <a:pt x="1389" y="593"/>
                          </a:lnTo>
                          <a:lnTo>
                            <a:pt x="1389" y="589"/>
                          </a:lnTo>
                          <a:lnTo>
                            <a:pt x="1389" y="587"/>
                          </a:lnTo>
                          <a:lnTo>
                            <a:pt x="1387" y="585"/>
                          </a:lnTo>
                          <a:lnTo>
                            <a:pt x="1385" y="582"/>
                          </a:lnTo>
                          <a:lnTo>
                            <a:pt x="1385" y="580"/>
                          </a:lnTo>
                          <a:lnTo>
                            <a:pt x="1383" y="578"/>
                          </a:lnTo>
                          <a:lnTo>
                            <a:pt x="1383" y="572"/>
                          </a:lnTo>
                          <a:lnTo>
                            <a:pt x="1381" y="568"/>
                          </a:lnTo>
                          <a:lnTo>
                            <a:pt x="1377" y="563"/>
                          </a:lnTo>
                          <a:lnTo>
                            <a:pt x="1375" y="557"/>
                          </a:lnTo>
                          <a:lnTo>
                            <a:pt x="1373" y="553"/>
                          </a:lnTo>
                          <a:lnTo>
                            <a:pt x="1370" y="547"/>
                          </a:lnTo>
                          <a:lnTo>
                            <a:pt x="1366" y="544"/>
                          </a:lnTo>
                          <a:lnTo>
                            <a:pt x="1364" y="540"/>
                          </a:lnTo>
                          <a:lnTo>
                            <a:pt x="1360" y="536"/>
                          </a:lnTo>
                          <a:lnTo>
                            <a:pt x="1356" y="532"/>
                          </a:lnTo>
                          <a:lnTo>
                            <a:pt x="1353" y="528"/>
                          </a:lnTo>
                          <a:lnTo>
                            <a:pt x="1349" y="525"/>
                          </a:lnTo>
                          <a:lnTo>
                            <a:pt x="1345" y="523"/>
                          </a:lnTo>
                          <a:lnTo>
                            <a:pt x="1339" y="521"/>
                          </a:lnTo>
                          <a:lnTo>
                            <a:pt x="1335" y="517"/>
                          </a:lnTo>
                          <a:lnTo>
                            <a:pt x="1332" y="515"/>
                          </a:lnTo>
                          <a:lnTo>
                            <a:pt x="1326" y="515"/>
                          </a:lnTo>
                          <a:lnTo>
                            <a:pt x="1322" y="513"/>
                          </a:lnTo>
                          <a:lnTo>
                            <a:pt x="1318" y="511"/>
                          </a:lnTo>
                          <a:lnTo>
                            <a:pt x="1316" y="511"/>
                          </a:lnTo>
                          <a:lnTo>
                            <a:pt x="1313" y="511"/>
                          </a:lnTo>
                          <a:lnTo>
                            <a:pt x="1311" y="511"/>
                          </a:lnTo>
                          <a:lnTo>
                            <a:pt x="1309" y="509"/>
                          </a:lnTo>
                          <a:lnTo>
                            <a:pt x="1305" y="509"/>
                          </a:lnTo>
                          <a:lnTo>
                            <a:pt x="1303" y="509"/>
                          </a:lnTo>
                          <a:lnTo>
                            <a:pt x="1301" y="509"/>
                          </a:lnTo>
                          <a:lnTo>
                            <a:pt x="1297" y="509"/>
                          </a:lnTo>
                          <a:lnTo>
                            <a:pt x="1295" y="509"/>
                          </a:lnTo>
                          <a:lnTo>
                            <a:pt x="1292" y="509"/>
                          </a:lnTo>
                          <a:lnTo>
                            <a:pt x="1290" y="509"/>
                          </a:lnTo>
                          <a:lnTo>
                            <a:pt x="1284" y="509"/>
                          </a:lnTo>
                          <a:lnTo>
                            <a:pt x="1280" y="509"/>
                          </a:lnTo>
                          <a:lnTo>
                            <a:pt x="1275" y="509"/>
                          </a:lnTo>
                          <a:lnTo>
                            <a:pt x="1269" y="509"/>
                          </a:lnTo>
                          <a:lnTo>
                            <a:pt x="1265" y="509"/>
                          </a:lnTo>
                          <a:lnTo>
                            <a:pt x="1259" y="509"/>
                          </a:lnTo>
                          <a:lnTo>
                            <a:pt x="1256" y="511"/>
                          </a:lnTo>
                          <a:lnTo>
                            <a:pt x="1252" y="511"/>
                          </a:lnTo>
                          <a:lnTo>
                            <a:pt x="1246" y="515"/>
                          </a:lnTo>
                          <a:lnTo>
                            <a:pt x="1242" y="515"/>
                          </a:lnTo>
                          <a:lnTo>
                            <a:pt x="1238" y="517"/>
                          </a:lnTo>
                          <a:lnTo>
                            <a:pt x="1235" y="521"/>
                          </a:lnTo>
                          <a:lnTo>
                            <a:pt x="1231" y="523"/>
                          </a:lnTo>
                          <a:lnTo>
                            <a:pt x="1229" y="525"/>
                          </a:lnTo>
                          <a:lnTo>
                            <a:pt x="1225" y="527"/>
                          </a:lnTo>
                          <a:lnTo>
                            <a:pt x="1221" y="530"/>
                          </a:lnTo>
                          <a:lnTo>
                            <a:pt x="1219" y="532"/>
                          </a:lnTo>
                          <a:lnTo>
                            <a:pt x="1216" y="538"/>
                          </a:lnTo>
                          <a:lnTo>
                            <a:pt x="1214" y="542"/>
                          </a:lnTo>
                          <a:lnTo>
                            <a:pt x="1212" y="546"/>
                          </a:lnTo>
                          <a:lnTo>
                            <a:pt x="1210" y="549"/>
                          </a:lnTo>
                          <a:lnTo>
                            <a:pt x="1208" y="555"/>
                          </a:lnTo>
                          <a:lnTo>
                            <a:pt x="1208" y="557"/>
                          </a:lnTo>
                          <a:lnTo>
                            <a:pt x="1206" y="559"/>
                          </a:lnTo>
                          <a:lnTo>
                            <a:pt x="1204" y="561"/>
                          </a:lnTo>
                          <a:lnTo>
                            <a:pt x="1204" y="565"/>
                          </a:lnTo>
                          <a:lnTo>
                            <a:pt x="1204" y="566"/>
                          </a:lnTo>
                          <a:lnTo>
                            <a:pt x="1204" y="570"/>
                          </a:lnTo>
                          <a:lnTo>
                            <a:pt x="1204" y="572"/>
                          </a:lnTo>
                          <a:lnTo>
                            <a:pt x="1204" y="576"/>
                          </a:lnTo>
                          <a:lnTo>
                            <a:pt x="1139" y="895"/>
                          </a:lnTo>
                          <a:lnTo>
                            <a:pt x="1136" y="893"/>
                          </a:lnTo>
                          <a:lnTo>
                            <a:pt x="1132" y="892"/>
                          </a:lnTo>
                          <a:lnTo>
                            <a:pt x="1126" y="888"/>
                          </a:lnTo>
                          <a:lnTo>
                            <a:pt x="1122" y="886"/>
                          </a:lnTo>
                          <a:lnTo>
                            <a:pt x="1117" y="884"/>
                          </a:lnTo>
                          <a:lnTo>
                            <a:pt x="1113" y="880"/>
                          </a:lnTo>
                          <a:lnTo>
                            <a:pt x="1107" y="878"/>
                          </a:lnTo>
                          <a:lnTo>
                            <a:pt x="1105" y="876"/>
                          </a:lnTo>
                          <a:lnTo>
                            <a:pt x="1227" y="316"/>
                          </a:lnTo>
                          <a:lnTo>
                            <a:pt x="1227" y="312"/>
                          </a:lnTo>
                          <a:lnTo>
                            <a:pt x="1227" y="308"/>
                          </a:lnTo>
                          <a:lnTo>
                            <a:pt x="1229" y="306"/>
                          </a:lnTo>
                          <a:lnTo>
                            <a:pt x="1229" y="304"/>
                          </a:lnTo>
                          <a:lnTo>
                            <a:pt x="1229" y="300"/>
                          </a:lnTo>
                          <a:lnTo>
                            <a:pt x="1229" y="298"/>
                          </a:lnTo>
                          <a:lnTo>
                            <a:pt x="1229" y="295"/>
                          </a:lnTo>
                          <a:lnTo>
                            <a:pt x="1229" y="293"/>
                          </a:lnTo>
                          <a:lnTo>
                            <a:pt x="1229" y="291"/>
                          </a:lnTo>
                          <a:lnTo>
                            <a:pt x="1229" y="287"/>
                          </a:lnTo>
                          <a:lnTo>
                            <a:pt x="1229" y="285"/>
                          </a:lnTo>
                          <a:lnTo>
                            <a:pt x="1229" y="283"/>
                          </a:lnTo>
                          <a:lnTo>
                            <a:pt x="1229" y="278"/>
                          </a:lnTo>
                          <a:lnTo>
                            <a:pt x="1227" y="272"/>
                          </a:lnTo>
                          <a:lnTo>
                            <a:pt x="1225" y="268"/>
                          </a:lnTo>
                          <a:lnTo>
                            <a:pt x="1225" y="262"/>
                          </a:lnTo>
                          <a:lnTo>
                            <a:pt x="1223" y="257"/>
                          </a:lnTo>
                          <a:lnTo>
                            <a:pt x="1221" y="253"/>
                          </a:lnTo>
                          <a:lnTo>
                            <a:pt x="1219" y="247"/>
                          </a:lnTo>
                          <a:lnTo>
                            <a:pt x="1217" y="243"/>
                          </a:lnTo>
                          <a:lnTo>
                            <a:pt x="1216" y="240"/>
                          </a:lnTo>
                          <a:lnTo>
                            <a:pt x="1214" y="236"/>
                          </a:lnTo>
                          <a:lnTo>
                            <a:pt x="1210" y="232"/>
                          </a:lnTo>
                          <a:lnTo>
                            <a:pt x="1206" y="226"/>
                          </a:lnTo>
                          <a:lnTo>
                            <a:pt x="1202" y="222"/>
                          </a:lnTo>
                          <a:lnTo>
                            <a:pt x="1200" y="219"/>
                          </a:lnTo>
                          <a:lnTo>
                            <a:pt x="1197" y="215"/>
                          </a:lnTo>
                          <a:lnTo>
                            <a:pt x="1193" y="211"/>
                          </a:lnTo>
                          <a:lnTo>
                            <a:pt x="1189" y="207"/>
                          </a:lnTo>
                          <a:lnTo>
                            <a:pt x="1185" y="205"/>
                          </a:lnTo>
                          <a:lnTo>
                            <a:pt x="1179" y="203"/>
                          </a:lnTo>
                          <a:lnTo>
                            <a:pt x="1176" y="200"/>
                          </a:lnTo>
                          <a:lnTo>
                            <a:pt x="1172" y="198"/>
                          </a:lnTo>
                          <a:lnTo>
                            <a:pt x="1166" y="194"/>
                          </a:lnTo>
                          <a:lnTo>
                            <a:pt x="1160" y="192"/>
                          </a:lnTo>
                          <a:lnTo>
                            <a:pt x="1157" y="192"/>
                          </a:lnTo>
                          <a:lnTo>
                            <a:pt x="1151" y="190"/>
                          </a:lnTo>
                          <a:lnTo>
                            <a:pt x="1147" y="190"/>
                          </a:lnTo>
                          <a:lnTo>
                            <a:pt x="1143" y="188"/>
                          </a:lnTo>
                          <a:lnTo>
                            <a:pt x="1141" y="186"/>
                          </a:lnTo>
                          <a:lnTo>
                            <a:pt x="1138" y="186"/>
                          </a:lnTo>
                          <a:lnTo>
                            <a:pt x="1136" y="186"/>
                          </a:lnTo>
                          <a:lnTo>
                            <a:pt x="1134" y="186"/>
                          </a:lnTo>
                          <a:lnTo>
                            <a:pt x="1130" y="186"/>
                          </a:lnTo>
                          <a:lnTo>
                            <a:pt x="1128" y="186"/>
                          </a:lnTo>
                          <a:lnTo>
                            <a:pt x="1124" y="186"/>
                          </a:lnTo>
                          <a:lnTo>
                            <a:pt x="1122" y="186"/>
                          </a:lnTo>
                          <a:lnTo>
                            <a:pt x="1120" y="186"/>
                          </a:lnTo>
                          <a:lnTo>
                            <a:pt x="1117" y="186"/>
                          </a:lnTo>
                          <a:lnTo>
                            <a:pt x="1115" y="186"/>
                          </a:lnTo>
                          <a:lnTo>
                            <a:pt x="1109" y="186"/>
                          </a:lnTo>
                          <a:lnTo>
                            <a:pt x="1105" y="188"/>
                          </a:lnTo>
                          <a:lnTo>
                            <a:pt x="1100" y="188"/>
                          </a:lnTo>
                          <a:lnTo>
                            <a:pt x="1094" y="190"/>
                          </a:lnTo>
                          <a:lnTo>
                            <a:pt x="1090" y="192"/>
                          </a:lnTo>
                          <a:lnTo>
                            <a:pt x="1086" y="192"/>
                          </a:lnTo>
                          <a:lnTo>
                            <a:pt x="1081" y="194"/>
                          </a:lnTo>
                          <a:lnTo>
                            <a:pt x="1077" y="198"/>
                          </a:lnTo>
                          <a:lnTo>
                            <a:pt x="1073" y="200"/>
                          </a:lnTo>
                          <a:lnTo>
                            <a:pt x="1067" y="203"/>
                          </a:lnTo>
                          <a:lnTo>
                            <a:pt x="1063" y="205"/>
                          </a:lnTo>
                          <a:lnTo>
                            <a:pt x="1058" y="207"/>
                          </a:lnTo>
                          <a:lnTo>
                            <a:pt x="1054" y="211"/>
                          </a:lnTo>
                          <a:lnTo>
                            <a:pt x="1050" y="215"/>
                          </a:lnTo>
                          <a:lnTo>
                            <a:pt x="1048" y="219"/>
                          </a:lnTo>
                          <a:lnTo>
                            <a:pt x="1044" y="222"/>
                          </a:lnTo>
                          <a:lnTo>
                            <a:pt x="1041" y="226"/>
                          </a:lnTo>
                          <a:lnTo>
                            <a:pt x="1039" y="232"/>
                          </a:lnTo>
                          <a:lnTo>
                            <a:pt x="1035" y="234"/>
                          </a:lnTo>
                          <a:lnTo>
                            <a:pt x="1033" y="240"/>
                          </a:lnTo>
                          <a:lnTo>
                            <a:pt x="1029" y="243"/>
                          </a:lnTo>
                          <a:lnTo>
                            <a:pt x="1027" y="249"/>
                          </a:lnTo>
                          <a:lnTo>
                            <a:pt x="1025" y="253"/>
                          </a:lnTo>
                          <a:lnTo>
                            <a:pt x="1023" y="259"/>
                          </a:lnTo>
                          <a:lnTo>
                            <a:pt x="1022" y="260"/>
                          </a:lnTo>
                          <a:lnTo>
                            <a:pt x="1022" y="264"/>
                          </a:lnTo>
                          <a:lnTo>
                            <a:pt x="1022" y="266"/>
                          </a:lnTo>
                          <a:lnTo>
                            <a:pt x="1022" y="270"/>
                          </a:lnTo>
                          <a:lnTo>
                            <a:pt x="919" y="730"/>
                          </a:lnTo>
                          <a:lnTo>
                            <a:pt x="915" y="728"/>
                          </a:lnTo>
                          <a:lnTo>
                            <a:pt x="913" y="726"/>
                          </a:lnTo>
                          <a:lnTo>
                            <a:pt x="907" y="724"/>
                          </a:lnTo>
                          <a:lnTo>
                            <a:pt x="905" y="720"/>
                          </a:lnTo>
                          <a:lnTo>
                            <a:pt x="904" y="719"/>
                          </a:lnTo>
                          <a:lnTo>
                            <a:pt x="900" y="717"/>
                          </a:lnTo>
                          <a:lnTo>
                            <a:pt x="896" y="713"/>
                          </a:lnTo>
                          <a:lnTo>
                            <a:pt x="892" y="713"/>
                          </a:lnTo>
                          <a:lnTo>
                            <a:pt x="1022" y="129"/>
                          </a:lnTo>
                          <a:lnTo>
                            <a:pt x="1022" y="125"/>
                          </a:lnTo>
                          <a:lnTo>
                            <a:pt x="1022" y="124"/>
                          </a:lnTo>
                          <a:lnTo>
                            <a:pt x="1022" y="120"/>
                          </a:lnTo>
                          <a:lnTo>
                            <a:pt x="1022" y="118"/>
                          </a:lnTo>
                          <a:lnTo>
                            <a:pt x="1022" y="114"/>
                          </a:lnTo>
                          <a:lnTo>
                            <a:pt x="1022" y="112"/>
                          </a:lnTo>
                          <a:lnTo>
                            <a:pt x="1022" y="110"/>
                          </a:lnTo>
                          <a:lnTo>
                            <a:pt x="1022" y="106"/>
                          </a:lnTo>
                          <a:lnTo>
                            <a:pt x="1022" y="105"/>
                          </a:lnTo>
                          <a:lnTo>
                            <a:pt x="1022" y="103"/>
                          </a:lnTo>
                          <a:lnTo>
                            <a:pt x="1022" y="99"/>
                          </a:lnTo>
                          <a:lnTo>
                            <a:pt x="1022" y="97"/>
                          </a:lnTo>
                          <a:lnTo>
                            <a:pt x="1022" y="91"/>
                          </a:lnTo>
                          <a:lnTo>
                            <a:pt x="1022" y="86"/>
                          </a:lnTo>
                          <a:lnTo>
                            <a:pt x="1020" y="82"/>
                          </a:lnTo>
                          <a:lnTo>
                            <a:pt x="1018" y="76"/>
                          </a:lnTo>
                          <a:lnTo>
                            <a:pt x="1016" y="70"/>
                          </a:lnTo>
                          <a:lnTo>
                            <a:pt x="1014" y="67"/>
                          </a:lnTo>
                          <a:lnTo>
                            <a:pt x="1012" y="61"/>
                          </a:lnTo>
                          <a:lnTo>
                            <a:pt x="1010" y="57"/>
                          </a:lnTo>
                          <a:lnTo>
                            <a:pt x="1008" y="53"/>
                          </a:lnTo>
                          <a:lnTo>
                            <a:pt x="1006" y="48"/>
                          </a:lnTo>
                          <a:lnTo>
                            <a:pt x="1004" y="44"/>
                          </a:lnTo>
                          <a:lnTo>
                            <a:pt x="1001" y="40"/>
                          </a:lnTo>
                          <a:lnTo>
                            <a:pt x="997" y="36"/>
                          </a:lnTo>
                          <a:lnTo>
                            <a:pt x="993" y="32"/>
                          </a:lnTo>
                          <a:lnTo>
                            <a:pt x="991" y="29"/>
                          </a:lnTo>
                          <a:lnTo>
                            <a:pt x="985" y="25"/>
                          </a:lnTo>
                          <a:lnTo>
                            <a:pt x="983" y="23"/>
                          </a:lnTo>
                          <a:lnTo>
                            <a:pt x="978" y="19"/>
                          </a:lnTo>
                          <a:lnTo>
                            <a:pt x="972" y="17"/>
                          </a:lnTo>
                          <a:lnTo>
                            <a:pt x="968" y="13"/>
                          </a:lnTo>
                          <a:lnTo>
                            <a:pt x="964" y="11"/>
                          </a:lnTo>
                          <a:lnTo>
                            <a:pt x="961" y="10"/>
                          </a:lnTo>
                          <a:lnTo>
                            <a:pt x="955" y="6"/>
                          </a:lnTo>
                          <a:lnTo>
                            <a:pt x="949" y="6"/>
                          </a:lnTo>
                          <a:lnTo>
                            <a:pt x="944" y="4"/>
                          </a:lnTo>
                          <a:lnTo>
                            <a:pt x="940" y="4"/>
                          </a:lnTo>
                          <a:lnTo>
                            <a:pt x="936" y="2"/>
                          </a:lnTo>
                          <a:lnTo>
                            <a:pt x="934" y="2"/>
                          </a:lnTo>
                          <a:lnTo>
                            <a:pt x="932" y="0"/>
                          </a:lnTo>
                          <a:lnTo>
                            <a:pt x="928" y="0"/>
                          </a:lnTo>
                          <a:lnTo>
                            <a:pt x="926" y="0"/>
                          </a:lnTo>
                          <a:lnTo>
                            <a:pt x="925" y="0"/>
                          </a:lnTo>
                          <a:lnTo>
                            <a:pt x="921" y="0"/>
                          </a:lnTo>
                          <a:lnTo>
                            <a:pt x="919" y="0"/>
                          </a:lnTo>
                          <a:lnTo>
                            <a:pt x="915" y="0"/>
                          </a:lnTo>
                          <a:lnTo>
                            <a:pt x="913" y="0"/>
                          </a:lnTo>
                          <a:lnTo>
                            <a:pt x="911" y="0"/>
                          </a:lnTo>
                          <a:lnTo>
                            <a:pt x="907" y="0"/>
                          </a:lnTo>
                          <a:lnTo>
                            <a:pt x="904" y="0"/>
                          </a:lnTo>
                          <a:lnTo>
                            <a:pt x="898" y="2"/>
                          </a:lnTo>
                          <a:lnTo>
                            <a:pt x="896" y="2"/>
                          </a:lnTo>
                          <a:lnTo>
                            <a:pt x="892" y="2"/>
                          </a:lnTo>
                          <a:lnTo>
                            <a:pt x="890" y="2"/>
                          </a:lnTo>
                          <a:lnTo>
                            <a:pt x="888" y="4"/>
                          </a:lnTo>
                          <a:lnTo>
                            <a:pt x="881" y="4"/>
                          </a:lnTo>
                          <a:lnTo>
                            <a:pt x="877" y="6"/>
                          </a:lnTo>
                          <a:lnTo>
                            <a:pt x="873" y="10"/>
                          </a:lnTo>
                          <a:lnTo>
                            <a:pt x="867" y="11"/>
                          </a:lnTo>
                          <a:lnTo>
                            <a:pt x="864" y="15"/>
                          </a:lnTo>
                          <a:lnTo>
                            <a:pt x="860" y="17"/>
                          </a:lnTo>
                          <a:lnTo>
                            <a:pt x="854" y="19"/>
                          </a:lnTo>
                          <a:lnTo>
                            <a:pt x="850" y="23"/>
                          </a:lnTo>
                          <a:lnTo>
                            <a:pt x="847" y="25"/>
                          </a:lnTo>
                          <a:lnTo>
                            <a:pt x="843" y="29"/>
                          </a:lnTo>
                          <a:lnTo>
                            <a:pt x="839" y="32"/>
                          </a:lnTo>
                          <a:lnTo>
                            <a:pt x="835" y="36"/>
                          </a:lnTo>
                          <a:lnTo>
                            <a:pt x="833" y="40"/>
                          </a:lnTo>
                          <a:lnTo>
                            <a:pt x="831" y="44"/>
                          </a:lnTo>
                          <a:lnTo>
                            <a:pt x="828" y="48"/>
                          </a:lnTo>
                          <a:lnTo>
                            <a:pt x="824" y="53"/>
                          </a:lnTo>
                          <a:lnTo>
                            <a:pt x="822" y="57"/>
                          </a:lnTo>
                          <a:lnTo>
                            <a:pt x="820" y="61"/>
                          </a:lnTo>
                          <a:lnTo>
                            <a:pt x="818" y="67"/>
                          </a:lnTo>
                          <a:lnTo>
                            <a:pt x="816" y="70"/>
                          </a:lnTo>
                          <a:lnTo>
                            <a:pt x="816" y="74"/>
                          </a:lnTo>
                          <a:lnTo>
                            <a:pt x="814" y="76"/>
                          </a:lnTo>
                          <a:lnTo>
                            <a:pt x="812" y="82"/>
                          </a:lnTo>
                          <a:lnTo>
                            <a:pt x="812" y="84"/>
                          </a:lnTo>
                          <a:lnTo>
                            <a:pt x="687" y="663"/>
                          </a:lnTo>
                          <a:lnTo>
                            <a:pt x="681" y="663"/>
                          </a:lnTo>
                          <a:lnTo>
                            <a:pt x="677" y="663"/>
                          </a:lnTo>
                          <a:lnTo>
                            <a:pt x="673" y="663"/>
                          </a:lnTo>
                          <a:lnTo>
                            <a:pt x="670" y="663"/>
                          </a:lnTo>
                          <a:lnTo>
                            <a:pt x="666" y="663"/>
                          </a:lnTo>
                          <a:lnTo>
                            <a:pt x="660" y="665"/>
                          </a:lnTo>
                          <a:lnTo>
                            <a:pt x="656" y="665"/>
                          </a:lnTo>
                          <a:lnTo>
                            <a:pt x="652" y="667"/>
                          </a:lnTo>
                          <a:lnTo>
                            <a:pt x="753" y="213"/>
                          </a:lnTo>
                          <a:lnTo>
                            <a:pt x="753" y="209"/>
                          </a:lnTo>
                          <a:lnTo>
                            <a:pt x="753" y="207"/>
                          </a:lnTo>
                          <a:lnTo>
                            <a:pt x="753" y="203"/>
                          </a:lnTo>
                          <a:lnTo>
                            <a:pt x="753" y="201"/>
                          </a:lnTo>
                          <a:lnTo>
                            <a:pt x="753" y="198"/>
                          </a:lnTo>
                          <a:lnTo>
                            <a:pt x="753" y="196"/>
                          </a:lnTo>
                          <a:lnTo>
                            <a:pt x="753" y="192"/>
                          </a:lnTo>
                          <a:lnTo>
                            <a:pt x="753" y="190"/>
                          </a:lnTo>
                          <a:lnTo>
                            <a:pt x="753" y="188"/>
                          </a:lnTo>
                          <a:lnTo>
                            <a:pt x="753" y="184"/>
                          </a:lnTo>
                          <a:lnTo>
                            <a:pt x="753" y="182"/>
                          </a:lnTo>
                          <a:lnTo>
                            <a:pt x="753" y="181"/>
                          </a:lnTo>
                          <a:lnTo>
                            <a:pt x="753" y="175"/>
                          </a:lnTo>
                          <a:lnTo>
                            <a:pt x="753" y="169"/>
                          </a:lnTo>
                          <a:lnTo>
                            <a:pt x="751" y="167"/>
                          </a:lnTo>
                          <a:lnTo>
                            <a:pt x="751" y="163"/>
                          </a:lnTo>
                          <a:lnTo>
                            <a:pt x="751" y="162"/>
                          </a:lnTo>
                          <a:lnTo>
                            <a:pt x="750" y="160"/>
                          </a:lnTo>
                          <a:lnTo>
                            <a:pt x="748" y="154"/>
                          </a:lnTo>
                          <a:lnTo>
                            <a:pt x="746" y="148"/>
                          </a:lnTo>
                          <a:lnTo>
                            <a:pt x="744" y="144"/>
                          </a:lnTo>
                          <a:lnTo>
                            <a:pt x="742" y="141"/>
                          </a:lnTo>
                          <a:lnTo>
                            <a:pt x="740" y="135"/>
                          </a:lnTo>
                          <a:lnTo>
                            <a:pt x="738" y="131"/>
                          </a:lnTo>
                          <a:lnTo>
                            <a:pt x="734" y="127"/>
                          </a:lnTo>
                          <a:lnTo>
                            <a:pt x="730" y="124"/>
                          </a:lnTo>
                          <a:lnTo>
                            <a:pt x="727" y="120"/>
                          </a:lnTo>
                          <a:lnTo>
                            <a:pt x="725" y="116"/>
                          </a:lnTo>
                          <a:lnTo>
                            <a:pt x="721" y="112"/>
                          </a:lnTo>
                          <a:lnTo>
                            <a:pt x="717" y="108"/>
                          </a:lnTo>
                          <a:lnTo>
                            <a:pt x="713" y="105"/>
                          </a:lnTo>
                          <a:lnTo>
                            <a:pt x="710" y="103"/>
                          </a:lnTo>
                          <a:lnTo>
                            <a:pt x="704" y="99"/>
                          </a:lnTo>
                          <a:lnTo>
                            <a:pt x="700" y="97"/>
                          </a:lnTo>
                          <a:lnTo>
                            <a:pt x="694" y="95"/>
                          </a:lnTo>
                          <a:lnTo>
                            <a:pt x="691" y="91"/>
                          </a:lnTo>
                          <a:lnTo>
                            <a:pt x="685" y="89"/>
                          </a:lnTo>
                          <a:lnTo>
                            <a:pt x="681" y="87"/>
                          </a:lnTo>
                          <a:lnTo>
                            <a:pt x="675" y="86"/>
                          </a:lnTo>
                          <a:lnTo>
                            <a:pt x="672" y="86"/>
                          </a:lnTo>
                          <a:lnTo>
                            <a:pt x="668" y="84"/>
                          </a:lnTo>
                          <a:lnTo>
                            <a:pt x="666" y="84"/>
                          </a:lnTo>
                          <a:lnTo>
                            <a:pt x="664" y="84"/>
                          </a:lnTo>
                          <a:lnTo>
                            <a:pt x="660" y="84"/>
                          </a:lnTo>
                          <a:lnTo>
                            <a:pt x="658" y="84"/>
                          </a:lnTo>
                          <a:lnTo>
                            <a:pt x="654" y="84"/>
                          </a:lnTo>
                          <a:lnTo>
                            <a:pt x="652" y="84"/>
                          </a:lnTo>
                          <a:lnTo>
                            <a:pt x="651" y="84"/>
                          </a:lnTo>
                          <a:lnTo>
                            <a:pt x="647" y="84"/>
                          </a:lnTo>
                          <a:lnTo>
                            <a:pt x="645" y="84"/>
                          </a:lnTo>
                          <a:lnTo>
                            <a:pt x="643" y="84"/>
                          </a:lnTo>
                          <a:lnTo>
                            <a:pt x="639" y="84"/>
                          </a:lnTo>
                          <a:lnTo>
                            <a:pt x="635" y="84"/>
                          </a:lnTo>
                          <a:lnTo>
                            <a:pt x="630" y="84"/>
                          </a:lnTo>
                          <a:lnTo>
                            <a:pt x="628" y="84"/>
                          </a:lnTo>
                          <a:lnTo>
                            <a:pt x="624" y="86"/>
                          </a:lnTo>
                          <a:lnTo>
                            <a:pt x="622" y="86"/>
                          </a:lnTo>
                          <a:lnTo>
                            <a:pt x="618" y="86"/>
                          </a:lnTo>
                          <a:lnTo>
                            <a:pt x="614" y="87"/>
                          </a:lnTo>
                          <a:lnTo>
                            <a:pt x="609" y="89"/>
                          </a:lnTo>
                          <a:lnTo>
                            <a:pt x="603" y="91"/>
                          </a:lnTo>
                          <a:lnTo>
                            <a:pt x="599" y="95"/>
                          </a:lnTo>
                          <a:lnTo>
                            <a:pt x="595" y="97"/>
                          </a:lnTo>
                          <a:lnTo>
                            <a:pt x="592" y="99"/>
                          </a:lnTo>
                          <a:lnTo>
                            <a:pt x="586" y="103"/>
                          </a:lnTo>
                          <a:lnTo>
                            <a:pt x="582" y="105"/>
                          </a:lnTo>
                          <a:lnTo>
                            <a:pt x="578" y="108"/>
                          </a:lnTo>
                          <a:lnTo>
                            <a:pt x="574" y="112"/>
                          </a:lnTo>
                          <a:lnTo>
                            <a:pt x="571" y="116"/>
                          </a:lnTo>
                          <a:lnTo>
                            <a:pt x="567" y="120"/>
                          </a:lnTo>
                          <a:lnTo>
                            <a:pt x="565" y="124"/>
                          </a:lnTo>
                          <a:lnTo>
                            <a:pt x="563" y="127"/>
                          </a:lnTo>
                          <a:lnTo>
                            <a:pt x="559" y="131"/>
                          </a:lnTo>
                          <a:lnTo>
                            <a:pt x="555" y="135"/>
                          </a:lnTo>
                          <a:lnTo>
                            <a:pt x="554" y="141"/>
                          </a:lnTo>
                          <a:lnTo>
                            <a:pt x="552" y="146"/>
                          </a:lnTo>
                          <a:lnTo>
                            <a:pt x="550" y="150"/>
                          </a:lnTo>
                          <a:lnTo>
                            <a:pt x="548" y="156"/>
                          </a:lnTo>
                          <a:lnTo>
                            <a:pt x="546" y="158"/>
                          </a:lnTo>
                          <a:lnTo>
                            <a:pt x="546" y="160"/>
                          </a:lnTo>
                          <a:lnTo>
                            <a:pt x="544" y="163"/>
                          </a:lnTo>
                          <a:lnTo>
                            <a:pt x="544" y="167"/>
                          </a:lnTo>
                          <a:lnTo>
                            <a:pt x="361" y="1127"/>
                          </a:lnTo>
                          <a:lnTo>
                            <a:pt x="361" y="1127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4" name="AutoShape 385"/>
                  <p:cNvSpPr/>
                  <p:nvPr/>
                </p:nvSpPr>
                <p:spPr>
                  <a:xfrm rot="11205000">
                    <a:off x="4694760" y="2004840"/>
                    <a:ext cx="88560" cy="75960"/>
                  </a:xfrm>
                  <a:prstGeom prst="hexagon">
                    <a:avLst>
                      <a:gd name="adj" fmla="val 29147"/>
                      <a:gd name="vf" fmla="val 115470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5" name="Group 386"/>
                <p:cNvGrpSpPr/>
                <p:nvPr/>
              </p:nvGrpSpPr>
              <p:grpSpPr>
                <a:xfrm>
                  <a:off x="4622040" y="1207080"/>
                  <a:ext cx="466920" cy="2329200"/>
                  <a:chOff x="4622040" y="1207080"/>
                  <a:chExt cx="466920" cy="2329200"/>
                </a:xfrm>
              </p:grpSpPr>
              <p:grpSp>
                <p:nvGrpSpPr>
                  <p:cNvPr id="546" name="Group 387"/>
                  <p:cNvGrpSpPr/>
                  <p:nvPr/>
                </p:nvGrpSpPr>
                <p:grpSpPr>
                  <a:xfrm>
                    <a:off x="4745160" y="1207080"/>
                    <a:ext cx="343800" cy="1246680"/>
                    <a:chOff x="4745160" y="1207080"/>
                    <a:chExt cx="343800" cy="1246680"/>
                  </a:xfrm>
                </p:grpSpPr>
                <p:grpSp>
                  <p:nvGrpSpPr>
                    <p:cNvPr id="547" name="Group 388"/>
                    <p:cNvGrpSpPr/>
                    <p:nvPr/>
                  </p:nvGrpSpPr>
                  <p:grpSpPr>
                    <a:xfrm>
                      <a:off x="4745160" y="1822680"/>
                      <a:ext cx="288360" cy="631080"/>
                      <a:chOff x="4745160" y="1822680"/>
                      <a:chExt cx="288360" cy="631080"/>
                    </a:xfrm>
                  </p:grpSpPr>
                  <p:sp>
                    <p:nvSpPr>
                      <p:cNvPr id="548" name="AutoShape 389"/>
                      <p:cNvSpPr/>
                      <p:nvPr/>
                    </p:nvSpPr>
                    <p:spPr>
                      <a:xfrm rot="11221200">
                        <a:off x="4824360" y="1831680"/>
                        <a:ext cx="179640" cy="49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1556" y="21600"/>
                            </a:lnTo>
                            <a:lnTo>
                              <a:pt x="20044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9" name="AutoShape 390"/>
                      <p:cNvSpPr/>
                      <p:nvPr/>
                    </p:nvSpPr>
                    <p:spPr>
                      <a:xfrm rot="16799400">
                        <a:off x="4782240" y="2220480"/>
                        <a:ext cx="191520" cy="23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934" y="2201"/>
                              <a:pt x="12267" y="5080"/>
                              <a:pt x="12267" y="10800"/>
                            </a:cubicBezTo>
                            <a:cubicBezTo>
                              <a:pt x="12267" y="16520"/>
                              <a:pt x="16934" y="19399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50" name="Group 391"/>
                    <p:cNvGrpSpPr/>
                    <p:nvPr/>
                  </p:nvGrpSpPr>
                  <p:grpSpPr>
                    <a:xfrm>
                      <a:off x="4827600" y="1207080"/>
                      <a:ext cx="261360" cy="747720"/>
                      <a:chOff x="4827600" y="1207080"/>
                      <a:chExt cx="261360" cy="747720"/>
                    </a:xfrm>
                  </p:grpSpPr>
                  <p:sp>
                    <p:nvSpPr>
                      <p:cNvPr id="551" name="AutoShape 392"/>
                      <p:cNvSpPr/>
                      <p:nvPr/>
                    </p:nvSpPr>
                    <p:spPr>
                      <a:xfrm rot="11236200">
                        <a:off x="4879800" y="1452600"/>
                        <a:ext cx="180360" cy="360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4308" y="21600"/>
                            </a:lnTo>
                            <a:lnTo>
                              <a:pt x="17292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2" name="Oval 393"/>
                      <p:cNvSpPr/>
                      <p:nvPr/>
                    </p:nvSpPr>
                    <p:spPr>
                      <a:xfrm rot="11775000">
                        <a:off x="4850280" y="1741680"/>
                        <a:ext cx="187200" cy="190440"/>
                      </a:xfrm>
                      <a:prstGeom prst="ellipse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3" name="Freeform 394"/>
                      <p:cNvSpPr/>
                      <p:nvPr/>
                    </p:nvSpPr>
                    <p:spPr>
                      <a:xfrm rot="21270000">
                        <a:off x="4899960" y="1214640"/>
                        <a:ext cx="175680" cy="28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02" h="2302">
                            <a:moveTo>
                              <a:pt x="361" y="1127"/>
                            </a:moveTo>
                            <a:lnTo>
                              <a:pt x="280" y="1116"/>
                            </a:lnTo>
                            <a:lnTo>
                              <a:pt x="373" y="711"/>
                            </a:lnTo>
                            <a:lnTo>
                              <a:pt x="373" y="709"/>
                            </a:lnTo>
                            <a:lnTo>
                              <a:pt x="375" y="705"/>
                            </a:lnTo>
                            <a:lnTo>
                              <a:pt x="375" y="703"/>
                            </a:lnTo>
                            <a:lnTo>
                              <a:pt x="375" y="700"/>
                            </a:lnTo>
                            <a:lnTo>
                              <a:pt x="375" y="698"/>
                            </a:lnTo>
                            <a:lnTo>
                              <a:pt x="375" y="696"/>
                            </a:lnTo>
                            <a:lnTo>
                              <a:pt x="375" y="692"/>
                            </a:lnTo>
                            <a:lnTo>
                              <a:pt x="375" y="690"/>
                            </a:lnTo>
                            <a:lnTo>
                              <a:pt x="375" y="684"/>
                            </a:lnTo>
                            <a:lnTo>
                              <a:pt x="375" y="681"/>
                            </a:lnTo>
                            <a:lnTo>
                              <a:pt x="375" y="675"/>
                            </a:lnTo>
                            <a:lnTo>
                              <a:pt x="375" y="669"/>
                            </a:lnTo>
                            <a:lnTo>
                              <a:pt x="371" y="665"/>
                            </a:lnTo>
                            <a:lnTo>
                              <a:pt x="371" y="660"/>
                            </a:lnTo>
                            <a:lnTo>
                              <a:pt x="369" y="654"/>
                            </a:lnTo>
                            <a:lnTo>
                              <a:pt x="367" y="652"/>
                            </a:lnTo>
                            <a:lnTo>
                              <a:pt x="365" y="646"/>
                            </a:lnTo>
                            <a:lnTo>
                              <a:pt x="363" y="641"/>
                            </a:lnTo>
                            <a:lnTo>
                              <a:pt x="361" y="637"/>
                            </a:lnTo>
                            <a:lnTo>
                              <a:pt x="358" y="633"/>
                            </a:lnTo>
                            <a:lnTo>
                              <a:pt x="356" y="629"/>
                            </a:lnTo>
                            <a:lnTo>
                              <a:pt x="354" y="623"/>
                            </a:lnTo>
                            <a:lnTo>
                              <a:pt x="350" y="620"/>
                            </a:lnTo>
                            <a:lnTo>
                              <a:pt x="346" y="616"/>
                            </a:lnTo>
                            <a:lnTo>
                              <a:pt x="342" y="612"/>
                            </a:lnTo>
                            <a:lnTo>
                              <a:pt x="339" y="610"/>
                            </a:lnTo>
                            <a:lnTo>
                              <a:pt x="335" y="606"/>
                            </a:lnTo>
                            <a:lnTo>
                              <a:pt x="331" y="603"/>
                            </a:lnTo>
                            <a:lnTo>
                              <a:pt x="325" y="601"/>
                            </a:lnTo>
                            <a:lnTo>
                              <a:pt x="321" y="597"/>
                            </a:lnTo>
                            <a:lnTo>
                              <a:pt x="318" y="595"/>
                            </a:lnTo>
                            <a:lnTo>
                              <a:pt x="312" y="593"/>
                            </a:lnTo>
                            <a:lnTo>
                              <a:pt x="306" y="591"/>
                            </a:lnTo>
                            <a:lnTo>
                              <a:pt x="302" y="589"/>
                            </a:lnTo>
                            <a:lnTo>
                              <a:pt x="299" y="589"/>
                            </a:lnTo>
                            <a:lnTo>
                              <a:pt x="295" y="587"/>
                            </a:lnTo>
                            <a:lnTo>
                              <a:pt x="291" y="587"/>
                            </a:lnTo>
                            <a:lnTo>
                              <a:pt x="287" y="585"/>
                            </a:lnTo>
                            <a:lnTo>
                              <a:pt x="285" y="585"/>
                            </a:lnTo>
                            <a:lnTo>
                              <a:pt x="283" y="585"/>
                            </a:lnTo>
                            <a:lnTo>
                              <a:pt x="280" y="585"/>
                            </a:lnTo>
                            <a:lnTo>
                              <a:pt x="276" y="585"/>
                            </a:lnTo>
                            <a:lnTo>
                              <a:pt x="274" y="585"/>
                            </a:lnTo>
                            <a:lnTo>
                              <a:pt x="272" y="585"/>
                            </a:lnTo>
                            <a:lnTo>
                              <a:pt x="268" y="585"/>
                            </a:lnTo>
                            <a:lnTo>
                              <a:pt x="266" y="585"/>
                            </a:lnTo>
                            <a:lnTo>
                              <a:pt x="263" y="585"/>
                            </a:lnTo>
                            <a:lnTo>
                              <a:pt x="261" y="587"/>
                            </a:lnTo>
                            <a:lnTo>
                              <a:pt x="259" y="587"/>
                            </a:lnTo>
                            <a:lnTo>
                              <a:pt x="255" y="587"/>
                            </a:lnTo>
                            <a:lnTo>
                              <a:pt x="253" y="589"/>
                            </a:lnTo>
                            <a:lnTo>
                              <a:pt x="249" y="589"/>
                            </a:lnTo>
                            <a:lnTo>
                              <a:pt x="247" y="589"/>
                            </a:lnTo>
                            <a:lnTo>
                              <a:pt x="243" y="591"/>
                            </a:lnTo>
                            <a:lnTo>
                              <a:pt x="240" y="591"/>
                            </a:lnTo>
                            <a:lnTo>
                              <a:pt x="238" y="593"/>
                            </a:lnTo>
                            <a:lnTo>
                              <a:pt x="236" y="595"/>
                            </a:lnTo>
                            <a:lnTo>
                              <a:pt x="232" y="595"/>
                            </a:lnTo>
                            <a:lnTo>
                              <a:pt x="230" y="597"/>
                            </a:lnTo>
                            <a:lnTo>
                              <a:pt x="228" y="599"/>
                            </a:lnTo>
                            <a:lnTo>
                              <a:pt x="224" y="601"/>
                            </a:lnTo>
                            <a:lnTo>
                              <a:pt x="223" y="601"/>
                            </a:lnTo>
                            <a:lnTo>
                              <a:pt x="219" y="603"/>
                            </a:lnTo>
                            <a:lnTo>
                              <a:pt x="217" y="604"/>
                            </a:lnTo>
                            <a:lnTo>
                              <a:pt x="211" y="608"/>
                            </a:lnTo>
                            <a:lnTo>
                              <a:pt x="207" y="612"/>
                            </a:lnTo>
                            <a:lnTo>
                              <a:pt x="204" y="616"/>
                            </a:lnTo>
                            <a:lnTo>
                              <a:pt x="198" y="618"/>
                            </a:lnTo>
                            <a:lnTo>
                              <a:pt x="194" y="623"/>
                            </a:lnTo>
                            <a:lnTo>
                              <a:pt x="188" y="627"/>
                            </a:lnTo>
                            <a:lnTo>
                              <a:pt x="185" y="633"/>
                            </a:lnTo>
                            <a:lnTo>
                              <a:pt x="181" y="637"/>
                            </a:lnTo>
                            <a:lnTo>
                              <a:pt x="177" y="641"/>
                            </a:lnTo>
                            <a:lnTo>
                              <a:pt x="173" y="646"/>
                            </a:lnTo>
                            <a:lnTo>
                              <a:pt x="169" y="652"/>
                            </a:lnTo>
                            <a:lnTo>
                              <a:pt x="166" y="656"/>
                            </a:lnTo>
                            <a:lnTo>
                              <a:pt x="162" y="662"/>
                            </a:lnTo>
                            <a:lnTo>
                              <a:pt x="160" y="665"/>
                            </a:lnTo>
                            <a:lnTo>
                              <a:pt x="158" y="669"/>
                            </a:lnTo>
                            <a:lnTo>
                              <a:pt x="158" y="671"/>
                            </a:lnTo>
                            <a:lnTo>
                              <a:pt x="156" y="673"/>
                            </a:lnTo>
                            <a:lnTo>
                              <a:pt x="154" y="677"/>
                            </a:lnTo>
                            <a:lnTo>
                              <a:pt x="152" y="679"/>
                            </a:lnTo>
                            <a:lnTo>
                              <a:pt x="152" y="681"/>
                            </a:lnTo>
                            <a:lnTo>
                              <a:pt x="150" y="684"/>
                            </a:lnTo>
                            <a:lnTo>
                              <a:pt x="150" y="688"/>
                            </a:lnTo>
                            <a:lnTo>
                              <a:pt x="146" y="694"/>
                            </a:lnTo>
                            <a:lnTo>
                              <a:pt x="145" y="701"/>
                            </a:lnTo>
                            <a:lnTo>
                              <a:pt x="143" y="709"/>
                            </a:lnTo>
                            <a:lnTo>
                              <a:pt x="139" y="717"/>
                            </a:lnTo>
                            <a:lnTo>
                              <a:pt x="137" y="724"/>
                            </a:lnTo>
                            <a:lnTo>
                              <a:pt x="135" y="732"/>
                            </a:lnTo>
                            <a:lnTo>
                              <a:pt x="131" y="739"/>
                            </a:lnTo>
                            <a:lnTo>
                              <a:pt x="129" y="747"/>
                            </a:lnTo>
                            <a:lnTo>
                              <a:pt x="126" y="755"/>
                            </a:lnTo>
                            <a:lnTo>
                              <a:pt x="124" y="760"/>
                            </a:lnTo>
                            <a:lnTo>
                              <a:pt x="122" y="768"/>
                            </a:lnTo>
                            <a:lnTo>
                              <a:pt x="120" y="776"/>
                            </a:lnTo>
                            <a:lnTo>
                              <a:pt x="116" y="781"/>
                            </a:lnTo>
                            <a:lnTo>
                              <a:pt x="114" y="789"/>
                            </a:lnTo>
                            <a:lnTo>
                              <a:pt x="112" y="796"/>
                            </a:lnTo>
                            <a:lnTo>
                              <a:pt x="110" y="804"/>
                            </a:lnTo>
                            <a:lnTo>
                              <a:pt x="107" y="812"/>
                            </a:lnTo>
                            <a:lnTo>
                              <a:pt x="107" y="817"/>
                            </a:lnTo>
                            <a:lnTo>
                              <a:pt x="103" y="823"/>
                            </a:lnTo>
                            <a:lnTo>
                              <a:pt x="101" y="831"/>
                            </a:lnTo>
                            <a:lnTo>
                              <a:pt x="97" y="836"/>
                            </a:lnTo>
                            <a:lnTo>
                              <a:pt x="97" y="844"/>
                            </a:lnTo>
                            <a:lnTo>
                              <a:pt x="93" y="852"/>
                            </a:lnTo>
                            <a:lnTo>
                              <a:pt x="93" y="857"/>
                            </a:lnTo>
                            <a:lnTo>
                              <a:pt x="89" y="865"/>
                            </a:lnTo>
                            <a:lnTo>
                              <a:pt x="88" y="871"/>
                            </a:lnTo>
                            <a:lnTo>
                              <a:pt x="86" y="878"/>
                            </a:lnTo>
                            <a:lnTo>
                              <a:pt x="84" y="884"/>
                            </a:lnTo>
                            <a:lnTo>
                              <a:pt x="82" y="892"/>
                            </a:lnTo>
                            <a:lnTo>
                              <a:pt x="80" y="899"/>
                            </a:lnTo>
                            <a:lnTo>
                              <a:pt x="78" y="907"/>
                            </a:lnTo>
                            <a:lnTo>
                              <a:pt x="74" y="912"/>
                            </a:lnTo>
                            <a:lnTo>
                              <a:pt x="72" y="920"/>
                            </a:lnTo>
                            <a:lnTo>
                              <a:pt x="72" y="926"/>
                            </a:lnTo>
                            <a:lnTo>
                              <a:pt x="68" y="931"/>
                            </a:lnTo>
                            <a:lnTo>
                              <a:pt x="67" y="939"/>
                            </a:lnTo>
                            <a:lnTo>
                              <a:pt x="65" y="945"/>
                            </a:lnTo>
                            <a:lnTo>
                              <a:pt x="63" y="952"/>
                            </a:lnTo>
                            <a:lnTo>
                              <a:pt x="59" y="958"/>
                            </a:lnTo>
                            <a:lnTo>
                              <a:pt x="57" y="966"/>
                            </a:lnTo>
                            <a:lnTo>
                              <a:pt x="55" y="971"/>
                            </a:lnTo>
                            <a:lnTo>
                              <a:pt x="53" y="979"/>
                            </a:lnTo>
                            <a:lnTo>
                              <a:pt x="51" y="987"/>
                            </a:lnTo>
                            <a:lnTo>
                              <a:pt x="49" y="994"/>
                            </a:lnTo>
                            <a:lnTo>
                              <a:pt x="48" y="1000"/>
                            </a:lnTo>
                            <a:lnTo>
                              <a:pt x="46" y="1007"/>
                            </a:lnTo>
                            <a:lnTo>
                              <a:pt x="44" y="1015"/>
                            </a:lnTo>
                            <a:lnTo>
                              <a:pt x="42" y="1021"/>
                            </a:lnTo>
                            <a:lnTo>
                              <a:pt x="42" y="1028"/>
                            </a:lnTo>
                            <a:lnTo>
                              <a:pt x="38" y="1036"/>
                            </a:lnTo>
                            <a:lnTo>
                              <a:pt x="36" y="1042"/>
                            </a:lnTo>
                            <a:lnTo>
                              <a:pt x="36" y="1049"/>
                            </a:lnTo>
                            <a:lnTo>
                              <a:pt x="34" y="1057"/>
                            </a:lnTo>
                            <a:lnTo>
                              <a:pt x="30" y="1063"/>
                            </a:lnTo>
                            <a:lnTo>
                              <a:pt x="30" y="1070"/>
                            </a:lnTo>
                            <a:lnTo>
                              <a:pt x="29" y="1078"/>
                            </a:lnTo>
                            <a:lnTo>
                              <a:pt x="27" y="1085"/>
                            </a:lnTo>
                            <a:lnTo>
                              <a:pt x="25" y="1093"/>
                            </a:lnTo>
                            <a:lnTo>
                              <a:pt x="23" y="1101"/>
                            </a:lnTo>
                            <a:lnTo>
                              <a:pt x="21" y="1108"/>
                            </a:lnTo>
                            <a:lnTo>
                              <a:pt x="19" y="1116"/>
                            </a:lnTo>
                            <a:lnTo>
                              <a:pt x="17" y="1123"/>
                            </a:lnTo>
                            <a:lnTo>
                              <a:pt x="17" y="1131"/>
                            </a:lnTo>
                            <a:lnTo>
                              <a:pt x="15" y="1139"/>
                            </a:lnTo>
                            <a:lnTo>
                              <a:pt x="13" y="1148"/>
                            </a:lnTo>
                            <a:lnTo>
                              <a:pt x="10" y="1158"/>
                            </a:lnTo>
                            <a:lnTo>
                              <a:pt x="10" y="1165"/>
                            </a:lnTo>
                            <a:lnTo>
                              <a:pt x="8" y="1175"/>
                            </a:lnTo>
                            <a:lnTo>
                              <a:pt x="6" y="1182"/>
                            </a:lnTo>
                            <a:lnTo>
                              <a:pt x="6" y="1192"/>
                            </a:lnTo>
                            <a:lnTo>
                              <a:pt x="4" y="1201"/>
                            </a:lnTo>
                            <a:lnTo>
                              <a:pt x="2" y="1211"/>
                            </a:lnTo>
                            <a:lnTo>
                              <a:pt x="2" y="1218"/>
                            </a:lnTo>
                            <a:lnTo>
                              <a:pt x="0" y="1230"/>
                            </a:lnTo>
                            <a:lnTo>
                              <a:pt x="0" y="1237"/>
                            </a:lnTo>
                            <a:lnTo>
                              <a:pt x="0" y="1247"/>
                            </a:lnTo>
                            <a:lnTo>
                              <a:pt x="0" y="1257"/>
                            </a:lnTo>
                            <a:lnTo>
                              <a:pt x="0" y="1268"/>
                            </a:lnTo>
                            <a:lnTo>
                              <a:pt x="0" y="1276"/>
                            </a:lnTo>
                            <a:lnTo>
                              <a:pt x="0" y="1285"/>
                            </a:lnTo>
                            <a:lnTo>
                              <a:pt x="0" y="1296"/>
                            </a:lnTo>
                            <a:lnTo>
                              <a:pt x="0" y="1304"/>
                            </a:lnTo>
                            <a:lnTo>
                              <a:pt x="0" y="1314"/>
                            </a:lnTo>
                            <a:lnTo>
                              <a:pt x="0" y="1323"/>
                            </a:lnTo>
                            <a:lnTo>
                              <a:pt x="0" y="1333"/>
                            </a:lnTo>
                            <a:lnTo>
                              <a:pt x="2" y="1342"/>
                            </a:lnTo>
                            <a:lnTo>
                              <a:pt x="2" y="1352"/>
                            </a:lnTo>
                            <a:lnTo>
                              <a:pt x="4" y="1363"/>
                            </a:lnTo>
                            <a:lnTo>
                              <a:pt x="4" y="1371"/>
                            </a:lnTo>
                            <a:lnTo>
                              <a:pt x="6" y="1382"/>
                            </a:lnTo>
                            <a:lnTo>
                              <a:pt x="8" y="1390"/>
                            </a:lnTo>
                            <a:lnTo>
                              <a:pt x="8" y="1401"/>
                            </a:lnTo>
                            <a:lnTo>
                              <a:pt x="10" y="1409"/>
                            </a:lnTo>
                            <a:lnTo>
                              <a:pt x="11" y="1420"/>
                            </a:lnTo>
                            <a:lnTo>
                              <a:pt x="13" y="1429"/>
                            </a:lnTo>
                            <a:lnTo>
                              <a:pt x="15" y="1439"/>
                            </a:lnTo>
                            <a:lnTo>
                              <a:pt x="17" y="1448"/>
                            </a:lnTo>
                            <a:lnTo>
                              <a:pt x="19" y="1458"/>
                            </a:lnTo>
                            <a:lnTo>
                              <a:pt x="21" y="1468"/>
                            </a:lnTo>
                            <a:lnTo>
                              <a:pt x="23" y="1477"/>
                            </a:lnTo>
                            <a:lnTo>
                              <a:pt x="27" y="1487"/>
                            </a:lnTo>
                            <a:lnTo>
                              <a:pt x="29" y="1496"/>
                            </a:lnTo>
                            <a:lnTo>
                              <a:pt x="30" y="1506"/>
                            </a:lnTo>
                            <a:lnTo>
                              <a:pt x="34" y="1515"/>
                            </a:lnTo>
                            <a:lnTo>
                              <a:pt x="36" y="1525"/>
                            </a:lnTo>
                            <a:lnTo>
                              <a:pt x="38" y="1534"/>
                            </a:lnTo>
                            <a:lnTo>
                              <a:pt x="42" y="1544"/>
                            </a:lnTo>
                            <a:lnTo>
                              <a:pt x="46" y="1553"/>
                            </a:lnTo>
                            <a:lnTo>
                              <a:pt x="48" y="1561"/>
                            </a:lnTo>
                            <a:lnTo>
                              <a:pt x="51" y="1572"/>
                            </a:lnTo>
                            <a:lnTo>
                              <a:pt x="55" y="1580"/>
                            </a:lnTo>
                            <a:lnTo>
                              <a:pt x="59" y="1589"/>
                            </a:lnTo>
                            <a:lnTo>
                              <a:pt x="63" y="1599"/>
                            </a:lnTo>
                            <a:lnTo>
                              <a:pt x="67" y="1608"/>
                            </a:lnTo>
                            <a:lnTo>
                              <a:pt x="68" y="1616"/>
                            </a:lnTo>
                            <a:lnTo>
                              <a:pt x="74" y="1627"/>
                            </a:lnTo>
                            <a:lnTo>
                              <a:pt x="78" y="1635"/>
                            </a:lnTo>
                            <a:lnTo>
                              <a:pt x="82" y="1644"/>
                            </a:lnTo>
                            <a:lnTo>
                              <a:pt x="86" y="1652"/>
                            </a:lnTo>
                            <a:lnTo>
                              <a:pt x="89" y="1661"/>
                            </a:lnTo>
                            <a:lnTo>
                              <a:pt x="95" y="1669"/>
                            </a:lnTo>
                            <a:lnTo>
                              <a:pt x="99" y="1679"/>
                            </a:lnTo>
                            <a:lnTo>
                              <a:pt x="103" y="1688"/>
                            </a:lnTo>
                            <a:lnTo>
                              <a:pt x="108" y="1696"/>
                            </a:lnTo>
                            <a:lnTo>
                              <a:pt x="114" y="1703"/>
                            </a:lnTo>
                            <a:lnTo>
                              <a:pt x="118" y="1713"/>
                            </a:lnTo>
                            <a:lnTo>
                              <a:pt x="124" y="1722"/>
                            </a:lnTo>
                            <a:lnTo>
                              <a:pt x="127" y="1732"/>
                            </a:lnTo>
                            <a:lnTo>
                              <a:pt x="131" y="1736"/>
                            </a:lnTo>
                            <a:lnTo>
                              <a:pt x="135" y="1739"/>
                            </a:lnTo>
                            <a:lnTo>
                              <a:pt x="135" y="1743"/>
                            </a:lnTo>
                            <a:lnTo>
                              <a:pt x="137" y="1745"/>
                            </a:lnTo>
                            <a:lnTo>
                              <a:pt x="139" y="1747"/>
                            </a:lnTo>
                            <a:lnTo>
                              <a:pt x="141" y="1751"/>
                            </a:lnTo>
                            <a:lnTo>
                              <a:pt x="143" y="1755"/>
                            </a:lnTo>
                            <a:lnTo>
                              <a:pt x="143" y="1756"/>
                            </a:lnTo>
                            <a:lnTo>
                              <a:pt x="145" y="1760"/>
                            </a:lnTo>
                            <a:lnTo>
                              <a:pt x="146" y="1762"/>
                            </a:lnTo>
                            <a:lnTo>
                              <a:pt x="148" y="1766"/>
                            </a:lnTo>
                            <a:lnTo>
                              <a:pt x="150" y="1768"/>
                            </a:lnTo>
                            <a:lnTo>
                              <a:pt x="152" y="1770"/>
                            </a:lnTo>
                            <a:lnTo>
                              <a:pt x="156" y="1774"/>
                            </a:lnTo>
                            <a:lnTo>
                              <a:pt x="158" y="1777"/>
                            </a:lnTo>
                            <a:lnTo>
                              <a:pt x="160" y="1779"/>
                            </a:lnTo>
                            <a:lnTo>
                              <a:pt x="160" y="1783"/>
                            </a:lnTo>
                            <a:lnTo>
                              <a:pt x="162" y="1787"/>
                            </a:lnTo>
                            <a:lnTo>
                              <a:pt x="166" y="1789"/>
                            </a:lnTo>
                            <a:lnTo>
                              <a:pt x="166" y="1791"/>
                            </a:lnTo>
                            <a:lnTo>
                              <a:pt x="167" y="1794"/>
                            </a:lnTo>
                            <a:lnTo>
                              <a:pt x="169" y="1796"/>
                            </a:lnTo>
                            <a:lnTo>
                              <a:pt x="171" y="1800"/>
                            </a:lnTo>
                            <a:lnTo>
                              <a:pt x="173" y="1802"/>
                            </a:lnTo>
                            <a:lnTo>
                              <a:pt x="175" y="1806"/>
                            </a:lnTo>
                            <a:lnTo>
                              <a:pt x="177" y="1808"/>
                            </a:lnTo>
                            <a:lnTo>
                              <a:pt x="179" y="1812"/>
                            </a:lnTo>
                            <a:lnTo>
                              <a:pt x="181" y="1815"/>
                            </a:lnTo>
                            <a:lnTo>
                              <a:pt x="183" y="1817"/>
                            </a:lnTo>
                            <a:lnTo>
                              <a:pt x="185" y="1821"/>
                            </a:lnTo>
                            <a:lnTo>
                              <a:pt x="188" y="1827"/>
                            </a:lnTo>
                            <a:lnTo>
                              <a:pt x="190" y="1831"/>
                            </a:lnTo>
                            <a:lnTo>
                              <a:pt x="194" y="1836"/>
                            </a:lnTo>
                            <a:lnTo>
                              <a:pt x="198" y="1842"/>
                            </a:lnTo>
                            <a:lnTo>
                              <a:pt x="200" y="1846"/>
                            </a:lnTo>
                            <a:lnTo>
                              <a:pt x="204" y="1850"/>
                            </a:lnTo>
                            <a:lnTo>
                              <a:pt x="205" y="1853"/>
                            </a:lnTo>
                            <a:lnTo>
                              <a:pt x="207" y="1859"/>
                            </a:lnTo>
                            <a:lnTo>
                              <a:pt x="209" y="1861"/>
                            </a:lnTo>
                            <a:lnTo>
                              <a:pt x="211" y="1863"/>
                            </a:lnTo>
                            <a:lnTo>
                              <a:pt x="213" y="1867"/>
                            </a:lnTo>
                            <a:lnTo>
                              <a:pt x="215" y="1869"/>
                            </a:lnTo>
                            <a:lnTo>
                              <a:pt x="217" y="1870"/>
                            </a:lnTo>
                            <a:lnTo>
                              <a:pt x="219" y="1874"/>
                            </a:lnTo>
                            <a:lnTo>
                              <a:pt x="141" y="2163"/>
                            </a:lnTo>
                            <a:lnTo>
                              <a:pt x="143" y="2165"/>
                            </a:lnTo>
                            <a:lnTo>
                              <a:pt x="146" y="2165"/>
                            </a:lnTo>
                            <a:lnTo>
                              <a:pt x="150" y="2167"/>
                            </a:lnTo>
                            <a:lnTo>
                              <a:pt x="152" y="2167"/>
                            </a:lnTo>
                            <a:lnTo>
                              <a:pt x="154" y="2167"/>
                            </a:lnTo>
                            <a:lnTo>
                              <a:pt x="158" y="2167"/>
                            </a:lnTo>
                            <a:lnTo>
                              <a:pt x="162" y="2171"/>
                            </a:lnTo>
                            <a:lnTo>
                              <a:pt x="166" y="2171"/>
                            </a:lnTo>
                            <a:lnTo>
                              <a:pt x="167" y="2173"/>
                            </a:lnTo>
                            <a:lnTo>
                              <a:pt x="171" y="2173"/>
                            </a:lnTo>
                            <a:lnTo>
                              <a:pt x="175" y="2175"/>
                            </a:lnTo>
                            <a:lnTo>
                              <a:pt x="181" y="2175"/>
                            </a:lnTo>
                            <a:lnTo>
                              <a:pt x="185" y="2175"/>
                            </a:lnTo>
                            <a:lnTo>
                              <a:pt x="188" y="2177"/>
                            </a:lnTo>
                            <a:lnTo>
                              <a:pt x="194" y="2180"/>
                            </a:lnTo>
                            <a:lnTo>
                              <a:pt x="198" y="2180"/>
                            </a:lnTo>
                            <a:lnTo>
                              <a:pt x="204" y="2182"/>
                            </a:lnTo>
                            <a:lnTo>
                              <a:pt x="209" y="2182"/>
                            </a:lnTo>
                            <a:lnTo>
                              <a:pt x="215" y="2184"/>
                            </a:lnTo>
                            <a:lnTo>
                              <a:pt x="219" y="2186"/>
                            </a:lnTo>
                            <a:lnTo>
                              <a:pt x="224" y="2188"/>
                            </a:lnTo>
                            <a:lnTo>
                              <a:pt x="232" y="2188"/>
                            </a:lnTo>
                            <a:lnTo>
                              <a:pt x="238" y="2190"/>
                            </a:lnTo>
                            <a:lnTo>
                              <a:pt x="243" y="2190"/>
                            </a:lnTo>
                            <a:lnTo>
                              <a:pt x="251" y="2192"/>
                            </a:lnTo>
                            <a:lnTo>
                              <a:pt x="257" y="2194"/>
                            </a:lnTo>
                            <a:lnTo>
                              <a:pt x="264" y="2194"/>
                            </a:lnTo>
                            <a:lnTo>
                              <a:pt x="270" y="2196"/>
                            </a:lnTo>
                            <a:lnTo>
                              <a:pt x="276" y="2196"/>
                            </a:lnTo>
                            <a:lnTo>
                              <a:pt x="283" y="2197"/>
                            </a:lnTo>
                            <a:lnTo>
                              <a:pt x="291" y="2199"/>
                            </a:lnTo>
                            <a:lnTo>
                              <a:pt x="297" y="2199"/>
                            </a:lnTo>
                            <a:lnTo>
                              <a:pt x="304" y="2199"/>
                            </a:lnTo>
                            <a:lnTo>
                              <a:pt x="312" y="2199"/>
                            </a:lnTo>
                            <a:lnTo>
                              <a:pt x="320" y="2201"/>
                            </a:lnTo>
                            <a:lnTo>
                              <a:pt x="325" y="2201"/>
                            </a:lnTo>
                            <a:lnTo>
                              <a:pt x="333" y="2201"/>
                            </a:lnTo>
                            <a:lnTo>
                              <a:pt x="341" y="2201"/>
                            </a:lnTo>
                            <a:lnTo>
                              <a:pt x="348" y="2201"/>
                            </a:lnTo>
                            <a:lnTo>
                              <a:pt x="356" y="2201"/>
                            </a:lnTo>
                            <a:lnTo>
                              <a:pt x="363" y="2201"/>
                            </a:lnTo>
                            <a:lnTo>
                              <a:pt x="371" y="2201"/>
                            </a:lnTo>
                            <a:lnTo>
                              <a:pt x="379" y="2201"/>
                            </a:lnTo>
                            <a:lnTo>
                              <a:pt x="386" y="2201"/>
                            </a:lnTo>
                            <a:lnTo>
                              <a:pt x="394" y="2201"/>
                            </a:lnTo>
                            <a:lnTo>
                              <a:pt x="401" y="2199"/>
                            </a:lnTo>
                            <a:lnTo>
                              <a:pt x="409" y="2199"/>
                            </a:lnTo>
                            <a:lnTo>
                              <a:pt x="415" y="2197"/>
                            </a:lnTo>
                            <a:lnTo>
                              <a:pt x="422" y="2196"/>
                            </a:lnTo>
                            <a:lnTo>
                              <a:pt x="432" y="2196"/>
                            </a:lnTo>
                            <a:lnTo>
                              <a:pt x="439" y="2194"/>
                            </a:lnTo>
                            <a:lnTo>
                              <a:pt x="447" y="2192"/>
                            </a:lnTo>
                            <a:lnTo>
                              <a:pt x="455" y="2190"/>
                            </a:lnTo>
                            <a:lnTo>
                              <a:pt x="462" y="2188"/>
                            </a:lnTo>
                            <a:lnTo>
                              <a:pt x="470" y="2188"/>
                            </a:lnTo>
                            <a:lnTo>
                              <a:pt x="476" y="2184"/>
                            </a:lnTo>
                            <a:lnTo>
                              <a:pt x="483" y="2182"/>
                            </a:lnTo>
                            <a:lnTo>
                              <a:pt x="491" y="2180"/>
                            </a:lnTo>
                            <a:lnTo>
                              <a:pt x="498" y="2175"/>
                            </a:lnTo>
                            <a:lnTo>
                              <a:pt x="504" y="2173"/>
                            </a:lnTo>
                            <a:lnTo>
                              <a:pt x="512" y="2169"/>
                            </a:lnTo>
                            <a:lnTo>
                              <a:pt x="517" y="2165"/>
                            </a:lnTo>
                            <a:lnTo>
                              <a:pt x="525" y="2161"/>
                            </a:lnTo>
                            <a:lnTo>
                              <a:pt x="531" y="2158"/>
                            </a:lnTo>
                            <a:lnTo>
                              <a:pt x="536" y="2154"/>
                            </a:lnTo>
                            <a:lnTo>
                              <a:pt x="542" y="2150"/>
                            </a:lnTo>
                            <a:lnTo>
                              <a:pt x="550" y="2146"/>
                            </a:lnTo>
                            <a:lnTo>
                              <a:pt x="555" y="2142"/>
                            </a:lnTo>
                            <a:lnTo>
                              <a:pt x="559" y="2137"/>
                            </a:lnTo>
                            <a:lnTo>
                              <a:pt x="565" y="2133"/>
                            </a:lnTo>
                            <a:lnTo>
                              <a:pt x="571" y="2129"/>
                            </a:lnTo>
                            <a:lnTo>
                              <a:pt x="576" y="2123"/>
                            </a:lnTo>
                            <a:lnTo>
                              <a:pt x="582" y="2120"/>
                            </a:lnTo>
                            <a:lnTo>
                              <a:pt x="588" y="2114"/>
                            </a:lnTo>
                            <a:lnTo>
                              <a:pt x="592" y="2110"/>
                            </a:lnTo>
                            <a:lnTo>
                              <a:pt x="595" y="2106"/>
                            </a:lnTo>
                            <a:lnTo>
                              <a:pt x="601" y="2101"/>
                            </a:lnTo>
                            <a:lnTo>
                              <a:pt x="605" y="2095"/>
                            </a:lnTo>
                            <a:lnTo>
                              <a:pt x="611" y="2091"/>
                            </a:lnTo>
                            <a:lnTo>
                              <a:pt x="614" y="2085"/>
                            </a:lnTo>
                            <a:lnTo>
                              <a:pt x="618" y="2080"/>
                            </a:lnTo>
                            <a:lnTo>
                              <a:pt x="624" y="2076"/>
                            </a:lnTo>
                            <a:lnTo>
                              <a:pt x="628" y="2070"/>
                            </a:lnTo>
                            <a:lnTo>
                              <a:pt x="632" y="2064"/>
                            </a:lnTo>
                            <a:lnTo>
                              <a:pt x="635" y="2059"/>
                            </a:lnTo>
                            <a:lnTo>
                              <a:pt x="637" y="2055"/>
                            </a:lnTo>
                            <a:lnTo>
                              <a:pt x="643" y="2049"/>
                            </a:lnTo>
                            <a:lnTo>
                              <a:pt x="645" y="2043"/>
                            </a:lnTo>
                            <a:lnTo>
                              <a:pt x="649" y="2040"/>
                            </a:lnTo>
                            <a:lnTo>
                              <a:pt x="652" y="2034"/>
                            </a:lnTo>
                            <a:lnTo>
                              <a:pt x="654" y="2030"/>
                            </a:lnTo>
                            <a:lnTo>
                              <a:pt x="658" y="2024"/>
                            </a:lnTo>
                            <a:lnTo>
                              <a:pt x="660" y="2021"/>
                            </a:lnTo>
                            <a:lnTo>
                              <a:pt x="664" y="2015"/>
                            </a:lnTo>
                            <a:lnTo>
                              <a:pt x="666" y="2011"/>
                            </a:lnTo>
                            <a:lnTo>
                              <a:pt x="668" y="2005"/>
                            </a:lnTo>
                            <a:lnTo>
                              <a:pt x="672" y="2002"/>
                            </a:lnTo>
                            <a:lnTo>
                              <a:pt x="673" y="1998"/>
                            </a:lnTo>
                            <a:lnTo>
                              <a:pt x="675" y="1992"/>
                            </a:lnTo>
                            <a:lnTo>
                              <a:pt x="677" y="1986"/>
                            </a:lnTo>
                            <a:lnTo>
                              <a:pt x="679" y="1983"/>
                            </a:lnTo>
                            <a:lnTo>
                              <a:pt x="681" y="1979"/>
                            </a:lnTo>
                            <a:lnTo>
                              <a:pt x="683" y="1975"/>
                            </a:lnTo>
                            <a:lnTo>
                              <a:pt x="685" y="1971"/>
                            </a:lnTo>
                            <a:lnTo>
                              <a:pt x="687" y="1969"/>
                            </a:lnTo>
                            <a:lnTo>
                              <a:pt x="689" y="1964"/>
                            </a:lnTo>
                            <a:lnTo>
                              <a:pt x="691" y="1962"/>
                            </a:lnTo>
                            <a:lnTo>
                              <a:pt x="692" y="1958"/>
                            </a:lnTo>
                            <a:lnTo>
                              <a:pt x="692" y="1954"/>
                            </a:lnTo>
                            <a:lnTo>
                              <a:pt x="692" y="1952"/>
                            </a:lnTo>
                            <a:lnTo>
                              <a:pt x="694" y="1950"/>
                            </a:lnTo>
                            <a:lnTo>
                              <a:pt x="696" y="1945"/>
                            </a:lnTo>
                            <a:lnTo>
                              <a:pt x="698" y="1941"/>
                            </a:lnTo>
                            <a:lnTo>
                              <a:pt x="700" y="1937"/>
                            </a:lnTo>
                            <a:lnTo>
                              <a:pt x="700" y="1935"/>
                            </a:lnTo>
                            <a:lnTo>
                              <a:pt x="700" y="1933"/>
                            </a:lnTo>
                            <a:lnTo>
                              <a:pt x="702" y="1933"/>
                            </a:lnTo>
                            <a:lnTo>
                              <a:pt x="740" y="1943"/>
                            </a:lnTo>
                            <a:lnTo>
                              <a:pt x="740" y="1943"/>
                            </a:lnTo>
                            <a:lnTo>
                              <a:pt x="738" y="1945"/>
                            </a:lnTo>
                            <a:lnTo>
                              <a:pt x="738" y="1947"/>
                            </a:lnTo>
                            <a:lnTo>
                              <a:pt x="738" y="1950"/>
                            </a:lnTo>
                            <a:lnTo>
                              <a:pt x="738" y="1954"/>
                            </a:lnTo>
                            <a:lnTo>
                              <a:pt x="738" y="1958"/>
                            </a:lnTo>
                            <a:lnTo>
                              <a:pt x="736" y="1962"/>
                            </a:lnTo>
                            <a:lnTo>
                              <a:pt x="736" y="1964"/>
                            </a:lnTo>
                            <a:lnTo>
                              <a:pt x="736" y="1967"/>
                            </a:lnTo>
                            <a:lnTo>
                              <a:pt x="736" y="1971"/>
                            </a:lnTo>
                            <a:lnTo>
                              <a:pt x="736" y="1975"/>
                            </a:lnTo>
                            <a:lnTo>
                              <a:pt x="736" y="1979"/>
                            </a:lnTo>
                            <a:lnTo>
                              <a:pt x="736" y="1983"/>
                            </a:lnTo>
                            <a:lnTo>
                              <a:pt x="736" y="1985"/>
                            </a:lnTo>
                            <a:lnTo>
                              <a:pt x="736" y="1990"/>
                            </a:lnTo>
                            <a:lnTo>
                              <a:pt x="736" y="1994"/>
                            </a:lnTo>
                            <a:lnTo>
                              <a:pt x="736" y="1998"/>
                            </a:lnTo>
                            <a:lnTo>
                              <a:pt x="736" y="2004"/>
                            </a:lnTo>
                            <a:lnTo>
                              <a:pt x="736" y="2007"/>
                            </a:lnTo>
                            <a:lnTo>
                              <a:pt x="736" y="2013"/>
                            </a:lnTo>
                            <a:lnTo>
                              <a:pt x="736" y="2015"/>
                            </a:lnTo>
                            <a:lnTo>
                              <a:pt x="736" y="2021"/>
                            </a:lnTo>
                            <a:lnTo>
                              <a:pt x="736" y="2026"/>
                            </a:lnTo>
                            <a:lnTo>
                              <a:pt x="736" y="2030"/>
                            </a:lnTo>
                            <a:lnTo>
                              <a:pt x="736" y="2036"/>
                            </a:lnTo>
                            <a:lnTo>
                              <a:pt x="736" y="2042"/>
                            </a:lnTo>
                            <a:lnTo>
                              <a:pt x="736" y="2047"/>
                            </a:lnTo>
                            <a:lnTo>
                              <a:pt x="738" y="2051"/>
                            </a:lnTo>
                            <a:lnTo>
                              <a:pt x="738" y="2057"/>
                            </a:lnTo>
                            <a:lnTo>
                              <a:pt x="738" y="2062"/>
                            </a:lnTo>
                            <a:lnTo>
                              <a:pt x="740" y="2066"/>
                            </a:lnTo>
                            <a:lnTo>
                              <a:pt x="740" y="2072"/>
                            </a:lnTo>
                            <a:lnTo>
                              <a:pt x="742" y="2078"/>
                            </a:lnTo>
                            <a:lnTo>
                              <a:pt x="744" y="2083"/>
                            </a:lnTo>
                            <a:lnTo>
                              <a:pt x="744" y="2091"/>
                            </a:lnTo>
                            <a:lnTo>
                              <a:pt x="746" y="2095"/>
                            </a:lnTo>
                            <a:lnTo>
                              <a:pt x="748" y="2101"/>
                            </a:lnTo>
                            <a:lnTo>
                              <a:pt x="748" y="2106"/>
                            </a:lnTo>
                            <a:lnTo>
                              <a:pt x="751" y="2110"/>
                            </a:lnTo>
                            <a:lnTo>
                              <a:pt x="753" y="2118"/>
                            </a:lnTo>
                            <a:lnTo>
                              <a:pt x="753" y="2123"/>
                            </a:lnTo>
                            <a:lnTo>
                              <a:pt x="757" y="2129"/>
                            </a:lnTo>
                            <a:lnTo>
                              <a:pt x="759" y="2135"/>
                            </a:lnTo>
                            <a:lnTo>
                              <a:pt x="761" y="2139"/>
                            </a:lnTo>
                            <a:lnTo>
                              <a:pt x="765" y="2144"/>
                            </a:lnTo>
                            <a:lnTo>
                              <a:pt x="767" y="2150"/>
                            </a:lnTo>
                            <a:lnTo>
                              <a:pt x="769" y="2156"/>
                            </a:lnTo>
                            <a:lnTo>
                              <a:pt x="772" y="2159"/>
                            </a:lnTo>
                            <a:lnTo>
                              <a:pt x="776" y="2165"/>
                            </a:lnTo>
                            <a:lnTo>
                              <a:pt x="780" y="2171"/>
                            </a:lnTo>
                            <a:lnTo>
                              <a:pt x="782" y="2175"/>
                            </a:lnTo>
                            <a:lnTo>
                              <a:pt x="786" y="2180"/>
                            </a:lnTo>
                            <a:lnTo>
                              <a:pt x="789" y="2186"/>
                            </a:lnTo>
                            <a:lnTo>
                              <a:pt x="795" y="2190"/>
                            </a:lnTo>
                            <a:lnTo>
                              <a:pt x="799" y="2196"/>
                            </a:lnTo>
                            <a:lnTo>
                              <a:pt x="805" y="2201"/>
                            </a:lnTo>
                            <a:lnTo>
                              <a:pt x="808" y="2205"/>
                            </a:lnTo>
                            <a:lnTo>
                              <a:pt x="814" y="2209"/>
                            </a:lnTo>
                            <a:lnTo>
                              <a:pt x="818" y="2213"/>
                            </a:lnTo>
                            <a:lnTo>
                              <a:pt x="824" y="2216"/>
                            </a:lnTo>
                            <a:lnTo>
                              <a:pt x="828" y="2222"/>
                            </a:lnTo>
                            <a:lnTo>
                              <a:pt x="833" y="2224"/>
                            </a:lnTo>
                            <a:lnTo>
                              <a:pt x="839" y="2228"/>
                            </a:lnTo>
                            <a:lnTo>
                              <a:pt x="845" y="2232"/>
                            </a:lnTo>
                            <a:lnTo>
                              <a:pt x="848" y="2235"/>
                            </a:lnTo>
                            <a:lnTo>
                              <a:pt x="854" y="2239"/>
                            </a:lnTo>
                            <a:lnTo>
                              <a:pt x="858" y="2243"/>
                            </a:lnTo>
                            <a:lnTo>
                              <a:pt x="864" y="2245"/>
                            </a:lnTo>
                            <a:lnTo>
                              <a:pt x="867" y="2249"/>
                            </a:lnTo>
                            <a:lnTo>
                              <a:pt x="873" y="2253"/>
                            </a:lnTo>
                            <a:lnTo>
                              <a:pt x="877" y="2256"/>
                            </a:lnTo>
                            <a:lnTo>
                              <a:pt x="883" y="2258"/>
                            </a:lnTo>
                            <a:lnTo>
                              <a:pt x="890" y="2260"/>
                            </a:lnTo>
                            <a:lnTo>
                              <a:pt x="896" y="2264"/>
                            </a:lnTo>
                            <a:lnTo>
                              <a:pt x="900" y="2266"/>
                            </a:lnTo>
                            <a:lnTo>
                              <a:pt x="904" y="2268"/>
                            </a:lnTo>
                            <a:lnTo>
                              <a:pt x="907" y="2270"/>
                            </a:lnTo>
                            <a:lnTo>
                              <a:pt x="913" y="2273"/>
                            </a:lnTo>
                            <a:lnTo>
                              <a:pt x="919" y="2275"/>
                            </a:lnTo>
                            <a:lnTo>
                              <a:pt x="925" y="2277"/>
                            </a:lnTo>
                            <a:lnTo>
                              <a:pt x="928" y="2279"/>
                            </a:lnTo>
                            <a:lnTo>
                              <a:pt x="934" y="2281"/>
                            </a:lnTo>
                            <a:lnTo>
                              <a:pt x="938" y="2283"/>
                            </a:lnTo>
                            <a:lnTo>
                              <a:pt x="942" y="2285"/>
                            </a:lnTo>
                            <a:lnTo>
                              <a:pt x="947" y="2287"/>
                            </a:lnTo>
                            <a:lnTo>
                              <a:pt x="951" y="2289"/>
                            </a:lnTo>
                            <a:lnTo>
                              <a:pt x="955" y="2289"/>
                            </a:lnTo>
                            <a:lnTo>
                              <a:pt x="961" y="2291"/>
                            </a:lnTo>
                            <a:lnTo>
                              <a:pt x="964" y="2291"/>
                            </a:lnTo>
                            <a:lnTo>
                              <a:pt x="968" y="2294"/>
                            </a:lnTo>
                            <a:lnTo>
                              <a:pt x="972" y="2294"/>
                            </a:lnTo>
                            <a:lnTo>
                              <a:pt x="978" y="2294"/>
                            </a:lnTo>
                            <a:lnTo>
                              <a:pt x="982" y="2296"/>
                            </a:lnTo>
                            <a:lnTo>
                              <a:pt x="985" y="2296"/>
                            </a:lnTo>
                            <a:lnTo>
                              <a:pt x="989" y="2296"/>
                            </a:lnTo>
                            <a:lnTo>
                              <a:pt x="993" y="2298"/>
                            </a:lnTo>
                            <a:lnTo>
                              <a:pt x="997" y="2298"/>
                            </a:lnTo>
                            <a:lnTo>
                              <a:pt x="1001" y="2298"/>
                            </a:lnTo>
                            <a:lnTo>
                              <a:pt x="1004" y="2298"/>
                            </a:lnTo>
                            <a:lnTo>
                              <a:pt x="1008" y="2300"/>
                            </a:lnTo>
                            <a:lnTo>
                              <a:pt x="1010" y="2300"/>
                            </a:lnTo>
                            <a:lnTo>
                              <a:pt x="1014" y="2300"/>
                            </a:lnTo>
                            <a:lnTo>
                              <a:pt x="1016" y="2300"/>
                            </a:lnTo>
                            <a:lnTo>
                              <a:pt x="1020" y="2300"/>
                            </a:lnTo>
                            <a:lnTo>
                              <a:pt x="1022" y="2300"/>
                            </a:lnTo>
                            <a:lnTo>
                              <a:pt x="1025" y="2302"/>
                            </a:lnTo>
                            <a:lnTo>
                              <a:pt x="1029" y="2300"/>
                            </a:lnTo>
                            <a:lnTo>
                              <a:pt x="1035" y="2300"/>
                            </a:lnTo>
                            <a:lnTo>
                              <a:pt x="1039" y="2298"/>
                            </a:lnTo>
                            <a:lnTo>
                              <a:pt x="1042" y="2298"/>
                            </a:lnTo>
                            <a:lnTo>
                              <a:pt x="1044" y="2296"/>
                            </a:lnTo>
                            <a:lnTo>
                              <a:pt x="1048" y="2296"/>
                            </a:lnTo>
                            <a:lnTo>
                              <a:pt x="1048" y="2294"/>
                            </a:lnTo>
                            <a:lnTo>
                              <a:pt x="1050" y="2294"/>
                            </a:lnTo>
                            <a:lnTo>
                              <a:pt x="1246" y="1334"/>
                            </a:lnTo>
                            <a:lnTo>
                              <a:pt x="1246" y="1333"/>
                            </a:lnTo>
                            <a:lnTo>
                              <a:pt x="1248" y="1331"/>
                            </a:lnTo>
                            <a:lnTo>
                              <a:pt x="1250" y="1327"/>
                            </a:lnTo>
                            <a:lnTo>
                              <a:pt x="1252" y="1325"/>
                            </a:lnTo>
                            <a:lnTo>
                              <a:pt x="1252" y="1323"/>
                            </a:lnTo>
                            <a:lnTo>
                              <a:pt x="1254" y="1319"/>
                            </a:lnTo>
                            <a:lnTo>
                              <a:pt x="1256" y="1315"/>
                            </a:lnTo>
                            <a:lnTo>
                              <a:pt x="1259" y="1312"/>
                            </a:lnTo>
                            <a:lnTo>
                              <a:pt x="1259" y="1306"/>
                            </a:lnTo>
                            <a:lnTo>
                              <a:pt x="1263" y="1302"/>
                            </a:lnTo>
                            <a:lnTo>
                              <a:pt x="1265" y="1296"/>
                            </a:lnTo>
                            <a:lnTo>
                              <a:pt x="1269" y="1293"/>
                            </a:lnTo>
                            <a:lnTo>
                              <a:pt x="1271" y="1285"/>
                            </a:lnTo>
                            <a:lnTo>
                              <a:pt x="1275" y="1281"/>
                            </a:lnTo>
                            <a:lnTo>
                              <a:pt x="1276" y="1274"/>
                            </a:lnTo>
                            <a:lnTo>
                              <a:pt x="1280" y="1266"/>
                            </a:lnTo>
                            <a:lnTo>
                              <a:pt x="1284" y="1258"/>
                            </a:lnTo>
                            <a:lnTo>
                              <a:pt x="1288" y="1249"/>
                            </a:lnTo>
                            <a:lnTo>
                              <a:pt x="1290" y="1241"/>
                            </a:lnTo>
                            <a:lnTo>
                              <a:pt x="1294" y="1234"/>
                            </a:lnTo>
                            <a:lnTo>
                              <a:pt x="1297" y="1224"/>
                            </a:lnTo>
                            <a:lnTo>
                              <a:pt x="1301" y="1217"/>
                            </a:lnTo>
                            <a:lnTo>
                              <a:pt x="1305" y="1207"/>
                            </a:lnTo>
                            <a:lnTo>
                              <a:pt x="1309" y="1198"/>
                            </a:lnTo>
                            <a:lnTo>
                              <a:pt x="1313" y="1188"/>
                            </a:lnTo>
                            <a:lnTo>
                              <a:pt x="1316" y="1177"/>
                            </a:lnTo>
                            <a:lnTo>
                              <a:pt x="1320" y="1165"/>
                            </a:lnTo>
                            <a:lnTo>
                              <a:pt x="1324" y="1154"/>
                            </a:lnTo>
                            <a:lnTo>
                              <a:pt x="1330" y="1144"/>
                            </a:lnTo>
                            <a:lnTo>
                              <a:pt x="1334" y="1133"/>
                            </a:lnTo>
                            <a:lnTo>
                              <a:pt x="1337" y="1122"/>
                            </a:lnTo>
                            <a:lnTo>
                              <a:pt x="1339" y="1108"/>
                            </a:lnTo>
                            <a:lnTo>
                              <a:pt x="1345" y="1097"/>
                            </a:lnTo>
                            <a:lnTo>
                              <a:pt x="1349" y="1084"/>
                            </a:lnTo>
                            <a:lnTo>
                              <a:pt x="1353" y="1070"/>
                            </a:lnTo>
                            <a:lnTo>
                              <a:pt x="1354" y="1059"/>
                            </a:lnTo>
                            <a:lnTo>
                              <a:pt x="1358" y="1044"/>
                            </a:lnTo>
                            <a:lnTo>
                              <a:pt x="1362" y="1032"/>
                            </a:lnTo>
                            <a:lnTo>
                              <a:pt x="1366" y="1017"/>
                            </a:lnTo>
                            <a:lnTo>
                              <a:pt x="1370" y="1004"/>
                            </a:lnTo>
                            <a:lnTo>
                              <a:pt x="1372" y="988"/>
                            </a:lnTo>
                            <a:lnTo>
                              <a:pt x="1375" y="975"/>
                            </a:lnTo>
                            <a:lnTo>
                              <a:pt x="1377" y="960"/>
                            </a:lnTo>
                            <a:lnTo>
                              <a:pt x="1381" y="947"/>
                            </a:lnTo>
                            <a:lnTo>
                              <a:pt x="1383" y="931"/>
                            </a:lnTo>
                            <a:lnTo>
                              <a:pt x="1387" y="916"/>
                            </a:lnTo>
                            <a:lnTo>
                              <a:pt x="1389" y="901"/>
                            </a:lnTo>
                            <a:lnTo>
                              <a:pt x="1391" y="886"/>
                            </a:lnTo>
                            <a:lnTo>
                              <a:pt x="1392" y="871"/>
                            </a:lnTo>
                            <a:lnTo>
                              <a:pt x="1394" y="855"/>
                            </a:lnTo>
                            <a:lnTo>
                              <a:pt x="1396" y="838"/>
                            </a:lnTo>
                            <a:lnTo>
                              <a:pt x="1398" y="823"/>
                            </a:lnTo>
                            <a:lnTo>
                              <a:pt x="1398" y="806"/>
                            </a:lnTo>
                            <a:lnTo>
                              <a:pt x="1400" y="791"/>
                            </a:lnTo>
                            <a:lnTo>
                              <a:pt x="1402" y="774"/>
                            </a:lnTo>
                            <a:lnTo>
                              <a:pt x="1402" y="757"/>
                            </a:lnTo>
                            <a:lnTo>
                              <a:pt x="1402" y="741"/>
                            </a:lnTo>
                            <a:lnTo>
                              <a:pt x="1402" y="724"/>
                            </a:lnTo>
                            <a:lnTo>
                              <a:pt x="1402" y="705"/>
                            </a:lnTo>
                            <a:lnTo>
                              <a:pt x="1402" y="690"/>
                            </a:lnTo>
                            <a:lnTo>
                              <a:pt x="1400" y="673"/>
                            </a:lnTo>
                            <a:lnTo>
                              <a:pt x="1400" y="656"/>
                            </a:lnTo>
                            <a:lnTo>
                              <a:pt x="1398" y="654"/>
                            </a:lnTo>
                            <a:lnTo>
                              <a:pt x="1398" y="652"/>
                            </a:lnTo>
                            <a:lnTo>
                              <a:pt x="1398" y="648"/>
                            </a:lnTo>
                            <a:lnTo>
                              <a:pt x="1398" y="644"/>
                            </a:lnTo>
                            <a:lnTo>
                              <a:pt x="1398" y="643"/>
                            </a:lnTo>
                            <a:lnTo>
                              <a:pt x="1398" y="639"/>
                            </a:lnTo>
                            <a:lnTo>
                              <a:pt x="1396" y="637"/>
                            </a:lnTo>
                            <a:lnTo>
                              <a:pt x="1396" y="633"/>
                            </a:lnTo>
                            <a:lnTo>
                              <a:pt x="1396" y="631"/>
                            </a:lnTo>
                            <a:lnTo>
                              <a:pt x="1396" y="627"/>
                            </a:lnTo>
                            <a:lnTo>
                              <a:pt x="1396" y="623"/>
                            </a:lnTo>
                            <a:lnTo>
                              <a:pt x="1394" y="620"/>
                            </a:lnTo>
                            <a:lnTo>
                              <a:pt x="1394" y="618"/>
                            </a:lnTo>
                            <a:lnTo>
                              <a:pt x="1394" y="616"/>
                            </a:lnTo>
                            <a:lnTo>
                              <a:pt x="1392" y="612"/>
                            </a:lnTo>
                            <a:lnTo>
                              <a:pt x="1392" y="610"/>
                            </a:lnTo>
                            <a:lnTo>
                              <a:pt x="1392" y="608"/>
                            </a:lnTo>
                            <a:lnTo>
                              <a:pt x="1391" y="604"/>
                            </a:lnTo>
                            <a:lnTo>
                              <a:pt x="1391" y="603"/>
                            </a:lnTo>
                            <a:lnTo>
                              <a:pt x="1391" y="599"/>
                            </a:lnTo>
                            <a:lnTo>
                              <a:pt x="1389" y="597"/>
                            </a:lnTo>
                            <a:lnTo>
                              <a:pt x="1389" y="593"/>
                            </a:lnTo>
                            <a:lnTo>
                              <a:pt x="1389" y="589"/>
                            </a:lnTo>
                            <a:lnTo>
                              <a:pt x="1389" y="587"/>
                            </a:lnTo>
                            <a:lnTo>
                              <a:pt x="1387" y="585"/>
                            </a:lnTo>
                            <a:lnTo>
                              <a:pt x="1385" y="582"/>
                            </a:lnTo>
                            <a:lnTo>
                              <a:pt x="1385" y="580"/>
                            </a:lnTo>
                            <a:lnTo>
                              <a:pt x="1383" y="578"/>
                            </a:lnTo>
                            <a:lnTo>
                              <a:pt x="1383" y="572"/>
                            </a:lnTo>
                            <a:lnTo>
                              <a:pt x="1381" y="568"/>
                            </a:lnTo>
                            <a:lnTo>
                              <a:pt x="1377" y="563"/>
                            </a:lnTo>
                            <a:lnTo>
                              <a:pt x="1375" y="557"/>
                            </a:lnTo>
                            <a:lnTo>
                              <a:pt x="1373" y="553"/>
                            </a:lnTo>
                            <a:lnTo>
                              <a:pt x="1370" y="547"/>
                            </a:lnTo>
                            <a:lnTo>
                              <a:pt x="1366" y="544"/>
                            </a:lnTo>
                            <a:lnTo>
                              <a:pt x="1364" y="540"/>
                            </a:lnTo>
                            <a:lnTo>
                              <a:pt x="1360" y="536"/>
                            </a:lnTo>
                            <a:lnTo>
                              <a:pt x="1356" y="532"/>
                            </a:lnTo>
                            <a:lnTo>
                              <a:pt x="1353" y="528"/>
                            </a:lnTo>
                            <a:lnTo>
                              <a:pt x="1349" y="525"/>
                            </a:lnTo>
                            <a:lnTo>
                              <a:pt x="1345" y="523"/>
                            </a:lnTo>
                            <a:lnTo>
                              <a:pt x="1339" y="521"/>
                            </a:lnTo>
                            <a:lnTo>
                              <a:pt x="1335" y="517"/>
                            </a:lnTo>
                            <a:lnTo>
                              <a:pt x="1332" y="515"/>
                            </a:lnTo>
                            <a:lnTo>
                              <a:pt x="1326" y="515"/>
                            </a:lnTo>
                            <a:lnTo>
                              <a:pt x="1322" y="513"/>
                            </a:lnTo>
                            <a:lnTo>
                              <a:pt x="1318" y="511"/>
                            </a:lnTo>
                            <a:lnTo>
                              <a:pt x="1316" y="511"/>
                            </a:lnTo>
                            <a:lnTo>
                              <a:pt x="1313" y="511"/>
                            </a:lnTo>
                            <a:lnTo>
                              <a:pt x="1311" y="511"/>
                            </a:lnTo>
                            <a:lnTo>
                              <a:pt x="1309" y="509"/>
                            </a:lnTo>
                            <a:lnTo>
                              <a:pt x="1305" y="509"/>
                            </a:lnTo>
                            <a:lnTo>
                              <a:pt x="1303" y="509"/>
                            </a:lnTo>
                            <a:lnTo>
                              <a:pt x="1301" y="509"/>
                            </a:lnTo>
                            <a:lnTo>
                              <a:pt x="1297" y="509"/>
                            </a:lnTo>
                            <a:lnTo>
                              <a:pt x="1295" y="509"/>
                            </a:lnTo>
                            <a:lnTo>
                              <a:pt x="1292" y="509"/>
                            </a:lnTo>
                            <a:lnTo>
                              <a:pt x="1290" y="509"/>
                            </a:lnTo>
                            <a:lnTo>
                              <a:pt x="1284" y="509"/>
                            </a:lnTo>
                            <a:lnTo>
                              <a:pt x="1280" y="509"/>
                            </a:lnTo>
                            <a:lnTo>
                              <a:pt x="1275" y="509"/>
                            </a:lnTo>
                            <a:lnTo>
                              <a:pt x="1269" y="509"/>
                            </a:lnTo>
                            <a:lnTo>
                              <a:pt x="1265" y="509"/>
                            </a:lnTo>
                            <a:lnTo>
                              <a:pt x="1259" y="509"/>
                            </a:lnTo>
                            <a:lnTo>
                              <a:pt x="1256" y="511"/>
                            </a:lnTo>
                            <a:lnTo>
                              <a:pt x="1252" y="511"/>
                            </a:lnTo>
                            <a:lnTo>
                              <a:pt x="1246" y="515"/>
                            </a:lnTo>
                            <a:lnTo>
                              <a:pt x="1242" y="515"/>
                            </a:lnTo>
                            <a:lnTo>
                              <a:pt x="1238" y="517"/>
                            </a:lnTo>
                            <a:lnTo>
                              <a:pt x="1235" y="521"/>
                            </a:lnTo>
                            <a:lnTo>
                              <a:pt x="1231" y="523"/>
                            </a:lnTo>
                            <a:lnTo>
                              <a:pt x="1229" y="525"/>
                            </a:lnTo>
                            <a:lnTo>
                              <a:pt x="1225" y="527"/>
                            </a:lnTo>
                            <a:lnTo>
                              <a:pt x="1221" y="530"/>
                            </a:lnTo>
                            <a:lnTo>
                              <a:pt x="1219" y="532"/>
                            </a:lnTo>
                            <a:lnTo>
                              <a:pt x="1216" y="538"/>
                            </a:lnTo>
                            <a:lnTo>
                              <a:pt x="1214" y="542"/>
                            </a:lnTo>
                            <a:lnTo>
                              <a:pt x="1212" y="546"/>
                            </a:lnTo>
                            <a:lnTo>
                              <a:pt x="1210" y="549"/>
                            </a:lnTo>
                            <a:lnTo>
                              <a:pt x="1208" y="555"/>
                            </a:lnTo>
                            <a:lnTo>
                              <a:pt x="1208" y="557"/>
                            </a:lnTo>
                            <a:lnTo>
                              <a:pt x="1206" y="559"/>
                            </a:lnTo>
                            <a:lnTo>
                              <a:pt x="1204" y="561"/>
                            </a:lnTo>
                            <a:lnTo>
                              <a:pt x="1204" y="565"/>
                            </a:lnTo>
                            <a:lnTo>
                              <a:pt x="1204" y="566"/>
                            </a:lnTo>
                            <a:lnTo>
                              <a:pt x="1204" y="570"/>
                            </a:lnTo>
                            <a:lnTo>
                              <a:pt x="1204" y="572"/>
                            </a:lnTo>
                            <a:lnTo>
                              <a:pt x="1204" y="576"/>
                            </a:lnTo>
                            <a:lnTo>
                              <a:pt x="1139" y="895"/>
                            </a:lnTo>
                            <a:lnTo>
                              <a:pt x="1136" y="893"/>
                            </a:lnTo>
                            <a:lnTo>
                              <a:pt x="1132" y="892"/>
                            </a:lnTo>
                            <a:lnTo>
                              <a:pt x="1126" y="888"/>
                            </a:lnTo>
                            <a:lnTo>
                              <a:pt x="1122" y="886"/>
                            </a:lnTo>
                            <a:lnTo>
                              <a:pt x="1117" y="884"/>
                            </a:lnTo>
                            <a:lnTo>
                              <a:pt x="1113" y="880"/>
                            </a:lnTo>
                            <a:lnTo>
                              <a:pt x="1107" y="878"/>
                            </a:lnTo>
                            <a:lnTo>
                              <a:pt x="1105" y="876"/>
                            </a:lnTo>
                            <a:lnTo>
                              <a:pt x="1227" y="316"/>
                            </a:lnTo>
                            <a:lnTo>
                              <a:pt x="1227" y="312"/>
                            </a:lnTo>
                            <a:lnTo>
                              <a:pt x="1227" y="308"/>
                            </a:lnTo>
                            <a:lnTo>
                              <a:pt x="1229" y="306"/>
                            </a:lnTo>
                            <a:lnTo>
                              <a:pt x="1229" y="304"/>
                            </a:lnTo>
                            <a:lnTo>
                              <a:pt x="1229" y="300"/>
                            </a:lnTo>
                            <a:lnTo>
                              <a:pt x="1229" y="298"/>
                            </a:lnTo>
                            <a:lnTo>
                              <a:pt x="1229" y="295"/>
                            </a:lnTo>
                            <a:lnTo>
                              <a:pt x="1229" y="293"/>
                            </a:lnTo>
                            <a:lnTo>
                              <a:pt x="1229" y="291"/>
                            </a:lnTo>
                            <a:lnTo>
                              <a:pt x="1229" y="287"/>
                            </a:lnTo>
                            <a:lnTo>
                              <a:pt x="1229" y="285"/>
                            </a:lnTo>
                            <a:lnTo>
                              <a:pt x="1229" y="283"/>
                            </a:lnTo>
                            <a:lnTo>
                              <a:pt x="1229" y="278"/>
                            </a:lnTo>
                            <a:lnTo>
                              <a:pt x="1227" y="272"/>
                            </a:lnTo>
                            <a:lnTo>
                              <a:pt x="1225" y="268"/>
                            </a:lnTo>
                            <a:lnTo>
                              <a:pt x="1225" y="262"/>
                            </a:lnTo>
                            <a:lnTo>
                              <a:pt x="1223" y="257"/>
                            </a:lnTo>
                            <a:lnTo>
                              <a:pt x="1221" y="253"/>
                            </a:lnTo>
                            <a:lnTo>
                              <a:pt x="1219" y="247"/>
                            </a:lnTo>
                            <a:lnTo>
                              <a:pt x="1217" y="243"/>
                            </a:lnTo>
                            <a:lnTo>
                              <a:pt x="1216" y="240"/>
                            </a:lnTo>
                            <a:lnTo>
                              <a:pt x="1214" y="236"/>
                            </a:lnTo>
                            <a:lnTo>
                              <a:pt x="1210" y="232"/>
                            </a:lnTo>
                            <a:lnTo>
                              <a:pt x="1206" y="226"/>
                            </a:lnTo>
                            <a:lnTo>
                              <a:pt x="1202" y="222"/>
                            </a:lnTo>
                            <a:lnTo>
                              <a:pt x="1200" y="219"/>
                            </a:lnTo>
                            <a:lnTo>
                              <a:pt x="1197" y="215"/>
                            </a:lnTo>
                            <a:lnTo>
                              <a:pt x="1193" y="211"/>
                            </a:lnTo>
                            <a:lnTo>
                              <a:pt x="1189" y="207"/>
                            </a:lnTo>
                            <a:lnTo>
                              <a:pt x="1185" y="205"/>
                            </a:lnTo>
                            <a:lnTo>
                              <a:pt x="1179" y="203"/>
                            </a:lnTo>
                            <a:lnTo>
                              <a:pt x="1176" y="200"/>
                            </a:lnTo>
                            <a:lnTo>
                              <a:pt x="1172" y="198"/>
                            </a:lnTo>
                            <a:lnTo>
                              <a:pt x="1166" y="194"/>
                            </a:lnTo>
                            <a:lnTo>
                              <a:pt x="1160" y="192"/>
                            </a:lnTo>
                            <a:lnTo>
                              <a:pt x="1157" y="192"/>
                            </a:lnTo>
                            <a:lnTo>
                              <a:pt x="1151" y="190"/>
                            </a:lnTo>
                            <a:lnTo>
                              <a:pt x="1147" y="190"/>
                            </a:lnTo>
                            <a:lnTo>
                              <a:pt x="1143" y="188"/>
                            </a:lnTo>
                            <a:lnTo>
                              <a:pt x="1141" y="186"/>
                            </a:lnTo>
                            <a:lnTo>
                              <a:pt x="1138" y="186"/>
                            </a:lnTo>
                            <a:lnTo>
                              <a:pt x="1136" y="186"/>
                            </a:lnTo>
                            <a:lnTo>
                              <a:pt x="1134" y="186"/>
                            </a:lnTo>
                            <a:lnTo>
                              <a:pt x="1130" y="186"/>
                            </a:lnTo>
                            <a:lnTo>
                              <a:pt x="1128" y="186"/>
                            </a:lnTo>
                            <a:lnTo>
                              <a:pt x="1124" y="186"/>
                            </a:lnTo>
                            <a:lnTo>
                              <a:pt x="1122" y="186"/>
                            </a:lnTo>
                            <a:lnTo>
                              <a:pt x="1120" y="186"/>
                            </a:lnTo>
                            <a:lnTo>
                              <a:pt x="1117" y="186"/>
                            </a:lnTo>
                            <a:lnTo>
                              <a:pt x="1115" y="186"/>
                            </a:lnTo>
                            <a:lnTo>
                              <a:pt x="1109" y="186"/>
                            </a:lnTo>
                            <a:lnTo>
                              <a:pt x="1105" y="188"/>
                            </a:lnTo>
                            <a:lnTo>
                              <a:pt x="1100" y="188"/>
                            </a:lnTo>
                            <a:lnTo>
                              <a:pt x="1094" y="190"/>
                            </a:lnTo>
                            <a:lnTo>
                              <a:pt x="1090" y="192"/>
                            </a:lnTo>
                            <a:lnTo>
                              <a:pt x="1086" y="192"/>
                            </a:lnTo>
                            <a:lnTo>
                              <a:pt x="1081" y="194"/>
                            </a:lnTo>
                            <a:lnTo>
                              <a:pt x="1077" y="198"/>
                            </a:lnTo>
                            <a:lnTo>
                              <a:pt x="1073" y="200"/>
                            </a:lnTo>
                            <a:lnTo>
                              <a:pt x="1067" y="203"/>
                            </a:lnTo>
                            <a:lnTo>
                              <a:pt x="1063" y="205"/>
                            </a:lnTo>
                            <a:lnTo>
                              <a:pt x="1058" y="207"/>
                            </a:lnTo>
                            <a:lnTo>
                              <a:pt x="1054" y="211"/>
                            </a:lnTo>
                            <a:lnTo>
                              <a:pt x="1050" y="215"/>
                            </a:lnTo>
                            <a:lnTo>
                              <a:pt x="1048" y="219"/>
                            </a:lnTo>
                            <a:lnTo>
                              <a:pt x="1044" y="222"/>
                            </a:lnTo>
                            <a:lnTo>
                              <a:pt x="1041" y="226"/>
                            </a:lnTo>
                            <a:lnTo>
                              <a:pt x="1039" y="232"/>
                            </a:lnTo>
                            <a:lnTo>
                              <a:pt x="1035" y="234"/>
                            </a:lnTo>
                            <a:lnTo>
                              <a:pt x="1033" y="240"/>
                            </a:lnTo>
                            <a:lnTo>
                              <a:pt x="1029" y="243"/>
                            </a:lnTo>
                            <a:lnTo>
                              <a:pt x="1027" y="249"/>
                            </a:lnTo>
                            <a:lnTo>
                              <a:pt x="1025" y="253"/>
                            </a:lnTo>
                            <a:lnTo>
                              <a:pt x="1023" y="259"/>
                            </a:lnTo>
                            <a:lnTo>
                              <a:pt x="1022" y="260"/>
                            </a:lnTo>
                            <a:lnTo>
                              <a:pt x="1022" y="264"/>
                            </a:lnTo>
                            <a:lnTo>
                              <a:pt x="1022" y="266"/>
                            </a:lnTo>
                            <a:lnTo>
                              <a:pt x="1022" y="270"/>
                            </a:lnTo>
                            <a:lnTo>
                              <a:pt x="919" y="730"/>
                            </a:lnTo>
                            <a:lnTo>
                              <a:pt x="915" y="728"/>
                            </a:lnTo>
                            <a:lnTo>
                              <a:pt x="913" y="726"/>
                            </a:lnTo>
                            <a:lnTo>
                              <a:pt x="907" y="724"/>
                            </a:lnTo>
                            <a:lnTo>
                              <a:pt x="905" y="720"/>
                            </a:lnTo>
                            <a:lnTo>
                              <a:pt x="904" y="719"/>
                            </a:lnTo>
                            <a:lnTo>
                              <a:pt x="900" y="717"/>
                            </a:lnTo>
                            <a:lnTo>
                              <a:pt x="896" y="713"/>
                            </a:lnTo>
                            <a:lnTo>
                              <a:pt x="892" y="713"/>
                            </a:lnTo>
                            <a:lnTo>
                              <a:pt x="1022" y="129"/>
                            </a:lnTo>
                            <a:lnTo>
                              <a:pt x="1022" y="125"/>
                            </a:lnTo>
                            <a:lnTo>
                              <a:pt x="1022" y="124"/>
                            </a:lnTo>
                            <a:lnTo>
                              <a:pt x="1022" y="120"/>
                            </a:lnTo>
                            <a:lnTo>
                              <a:pt x="1022" y="118"/>
                            </a:lnTo>
                            <a:lnTo>
                              <a:pt x="1022" y="114"/>
                            </a:lnTo>
                            <a:lnTo>
                              <a:pt x="1022" y="112"/>
                            </a:lnTo>
                            <a:lnTo>
                              <a:pt x="1022" y="110"/>
                            </a:lnTo>
                            <a:lnTo>
                              <a:pt x="1022" y="106"/>
                            </a:lnTo>
                            <a:lnTo>
                              <a:pt x="1022" y="105"/>
                            </a:lnTo>
                            <a:lnTo>
                              <a:pt x="1022" y="103"/>
                            </a:lnTo>
                            <a:lnTo>
                              <a:pt x="1022" y="99"/>
                            </a:lnTo>
                            <a:lnTo>
                              <a:pt x="1022" y="97"/>
                            </a:lnTo>
                            <a:lnTo>
                              <a:pt x="1022" y="91"/>
                            </a:lnTo>
                            <a:lnTo>
                              <a:pt x="1022" y="86"/>
                            </a:lnTo>
                            <a:lnTo>
                              <a:pt x="1020" y="82"/>
                            </a:lnTo>
                            <a:lnTo>
                              <a:pt x="1018" y="76"/>
                            </a:lnTo>
                            <a:lnTo>
                              <a:pt x="1016" y="70"/>
                            </a:lnTo>
                            <a:lnTo>
                              <a:pt x="1014" y="67"/>
                            </a:lnTo>
                            <a:lnTo>
                              <a:pt x="1012" y="61"/>
                            </a:lnTo>
                            <a:lnTo>
                              <a:pt x="1010" y="57"/>
                            </a:lnTo>
                            <a:lnTo>
                              <a:pt x="1008" y="53"/>
                            </a:lnTo>
                            <a:lnTo>
                              <a:pt x="1006" y="48"/>
                            </a:lnTo>
                            <a:lnTo>
                              <a:pt x="1004" y="44"/>
                            </a:lnTo>
                            <a:lnTo>
                              <a:pt x="1001" y="40"/>
                            </a:lnTo>
                            <a:lnTo>
                              <a:pt x="997" y="36"/>
                            </a:lnTo>
                            <a:lnTo>
                              <a:pt x="993" y="32"/>
                            </a:lnTo>
                            <a:lnTo>
                              <a:pt x="991" y="29"/>
                            </a:lnTo>
                            <a:lnTo>
                              <a:pt x="985" y="25"/>
                            </a:lnTo>
                            <a:lnTo>
                              <a:pt x="983" y="23"/>
                            </a:lnTo>
                            <a:lnTo>
                              <a:pt x="978" y="19"/>
                            </a:lnTo>
                            <a:lnTo>
                              <a:pt x="972" y="17"/>
                            </a:lnTo>
                            <a:lnTo>
                              <a:pt x="968" y="13"/>
                            </a:lnTo>
                            <a:lnTo>
                              <a:pt x="964" y="11"/>
                            </a:lnTo>
                            <a:lnTo>
                              <a:pt x="961" y="10"/>
                            </a:lnTo>
                            <a:lnTo>
                              <a:pt x="955" y="6"/>
                            </a:lnTo>
                            <a:lnTo>
                              <a:pt x="949" y="6"/>
                            </a:lnTo>
                            <a:lnTo>
                              <a:pt x="944" y="4"/>
                            </a:lnTo>
                            <a:lnTo>
                              <a:pt x="940" y="4"/>
                            </a:lnTo>
                            <a:lnTo>
                              <a:pt x="936" y="2"/>
                            </a:lnTo>
                            <a:lnTo>
                              <a:pt x="934" y="2"/>
                            </a:lnTo>
                            <a:lnTo>
                              <a:pt x="932" y="0"/>
                            </a:lnTo>
                            <a:lnTo>
                              <a:pt x="928" y="0"/>
                            </a:lnTo>
                            <a:lnTo>
                              <a:pt x="926" y="0"/>
                            </a:lnTo>
                            <a:lnTo>
                              <a:pt x="925" y="0"/>
                            </a:lnTo>
                            <a:lnTo>
                              <a:pt x="921" y="0"/>
                            </a:lnTo>
                            <a:lnTo>
                              <a:pt x="919" y="0"/>
                            </a:lnTo>
                            <a:lnTo>
                              <a:pt x="915" y="0"/>
                            </a:lnTo>
                            <a:lnTo>
                              <a:pt x="913" y="0"/>
                            </a:lnTo>
                            <a:lnTo>
                              <a:pt x="911" y="0"/>
                            </a:lnTo>
                            <a:lnTo>
                              <a:pt x="907" y="0"/>
                            </a:lnTo>
                            <a:lnTo>
                              <a:pt x="904" y="0"/>
                            </a:lnTo>
                            <a:lnTo>
                              <a:pt x="898" y="2"/>
                            </a:lnTo>
                            <a:lnTo>
                              <a:pt x="896" y="2"/>
                            </a:lnTo>
                            <a:lnTo>
                              <a:pt x="892" y="2"/>
                            </a:lnTo>
                            <a:lnTo>
                              <a:pt x="890" y="2"/>
                            </a:lnTo>
                            <a:lnTo>
                              <a:pt x="888" y="4"/>
                            </a:lnTo>
                            <a:lnTo>
                              <a:pt x="881" y="4"/>
                            </a:lnTo>
                            <a:lnTo>
                              <a:pt x="877" y="6"/>
                            </a:lnTo>
                            <a:lnTo>
                              <a:pt x="873" y="10"/>
                            </a:lnTo>
                            <a:lnTo>
                              <a:pt x="867" y="11"/>
                            </a:lnTo>
                            <a:lnTo>
                              <a:pt x="864" y="15"/>
                            </a:lnTo>
                            <a:lnTo>
                              <a:pt x="860" y="17"/>
                            </a:lnTo>
                            <a:lnTo>
                              <a:pt x="854" y="19"/>
                            </a:lnTo>
                            <a:lnTo>
                              <a:pt x="850" y="23"/>
                            </a:lnTo>
                            <a:lnTo>
                              <a:pt x="847" y="25"/>
                            </a:lnTo>
                            <a:lnTo>
                              <a:pt x="843" y="29"/>
                            </a:lnTo>
                            <a:lnTo>
                              <a:pt x="839" y="32"/>
                            </a:lnTo>
                            <a:lnTo>
                              <a:pt x="835" y="36"/>
                            </a:lnTo>
                            <a:lnTo>
                              <a:pt x="833" y="40"/>
                            </a:lnTo>
                            <a:lnTo>
                              <a:pt x="831" y="44"/>
                            </a:lnTo>
                            <a:lnTo>
                              <a:pt x="828" y="48"/>
                            </a:lnTo>
                            <a:lnTo>
                              <a:pt x="824" y="53"/>
                            </a:lnTo>
                            <a:lnTo>
                              <a:pt x="822" y="57"/>
                            </a:lnTo>
                            <a:lnTo>
                              <a:pt x="820" y="61"/>
                            </a:lnTo>
                            <a:lnTo>
                              <a:pt x="818" y="67"/>
                            </a:lnTo>
                            <a:lnTo>
                              <a:pt x="816" y="70"/>
                            </a:lnTo>
                            <a:lnTo>
                              <a:pt x="816" y="74"/>
                            </a:lnTo>
                            <a:lnTo>
                              <a:pt x="814" y="76"/>
                            </a:lnTo>
                            <a:lnTo>
                              <a:pt x="812" y="82"/>
                            </a:lnTo>
                            <a:lnTo>
                              <a:pt x="812" y="84"/>
                            </a:lnTo>
                            <a:lnTo>
                              <a:pt x="687" y="663"/>
                            </a:lnTo>
                            <a:lnTo>
                              <a:pt x="681" y="663"/>
                            </a:lnTo>
                            <a:lnTo>
                              <a:pt x="677" y="663"/>
                            </a:lnTo>
                            <a:lnTo>
                              <a:pt x="673" y="663"/>
                            </a:lnTo>
                            <a:lnTo>
                              <a:pt x="670" y="663"/>
                            </a:lnTo>
                            <a:lnTo>
                              <a:pt x="666" y="663"/>
                            </a:lnTo>
                            <a:lnTo>
                              <a:pt x="660" y="665"/>
                            </a:lnTo>
                            <a:lnTo>
                              <a:pt x="656" y="665"/>
                            </a:lnTo>
                            <a:lnTo>
                              <a:pt x="652" y="667"/>
                            </a:lnTo>
                            <a:lnTo>
                              <a:pt x="753" y="213"/>
                            </a:lnTo>
                            <a:lnTo>
                              <a:pt x="753" y="209"/>
                            </a:lnTo>
                            <a:lnTo>
                              <a:pt x="753" y="207"/>
                            </a:lnTo>
                            <a:lnTo>
                              <a:pt x="753" y="203"/>
                            </a:lnTo>
                            <a:lnTo>
                              <a:pt x="753" y="201"/>
                            </a:lnTo>
                            <a:lnTo>
                              <a:pt x="753" y="198"/>
                            </a:lnTo>
                            <a:lnTo>
                              <a:pt x="753" y="196"/>
                            </a:lnTo>
                            <a:lnTo>
                              <a:pt x="753" y="192"/>
                            </a:lnTo>
                            <a:lnTo>
                              <a:pt x="753" y="190"/>
                            </a:lnTo>
                            <a:lnTo>
                              <a:pt x="753" y="188"/>
                            </a:lnTo>
                            <a:lnTo>
                              <a:pt x="753" y="184"/>
                            </a:lnTo>
                            <a:lnTo>
                              <a:pt x="753" y="182"/>
                            </a:lnTo>
                            <a:lnTo>
                              <a:pt x="753" y="181"/>
                            </a:lnTo>
                            <a:lnTo>
                              <a:pt x="753" y="175"/>
                            </a:lnTo>
                            <a:lnTo>
                              <a:pt x="753" y="169"/>
                            </a:lnTo>
                            <a:lnTo>
                              <a:pt x="751" y="167"/>
                            </a:lnTo>
                            <a:lnTo>
                              <a:pt x="751" y="163"/>
                            </a:lnTo>
                            <a:lnTo>
                              <a:pt x="751" y="162"/>
                            </a:lnTo>
                            <a:lnTo>
                              <a:pt x="750" y="160"/>
                            </a:lnTo>
                            <a:lnTo>
                              <a:pt x="748" y="154"/>
                            </a:lnTo>
                            <a:lnTo>
                              <a:pt x="746" y="148"/>
                            </a:lnTo>
                            <a:lnTo>
                              <a:pt x="744" y="144"/>
                            </a:lnTo>
                            <a:lnTo>
                              <a:pt x="742" y="141"/>
                            </a:lnTo>
                            <a:lnTo>
                              <a:pt x="740" y="135"/>
                            </a:lnTo>
                            <a:lnTo>
                              <a:pt x="738" y="131"/>
                            </a:lnTo>
                            <a:lnTo>
                              <a:pt x="734" y="127"/>
                            </a:lnTo>
                            <a:lnTo>
                              <a:pt x="730" y="124"/>
                            </a:lnTo>
                            <a:lnTo>
                              <a:pt x="727" y="120"/>
                            </a:lnTo>
                            <a:lnTo>
                              <a:pt x="725" y="116"/>
                            </a:lnTo>
                            <a:lnTo>
                              <a:pt x="721" y="112"/>
                            </a:lnTo>
                            <a:lnTo>
                              <a:pt x="717" y="108"/>
                            </a:lnTo>
                            <a:lnTo>
                              <a:pt x="713" y="105"/>
                            </a:lnTo>
                            <a:lnTo>
                              <a:pt x="710" y="103"/>
                            </a:lnTo>
                            <a:lnTo>
                              <a:pt x="704" y="99"/>
                            </a:lnTo>
                            <a:lnTo>
                              <a:pt x="700" y="97"/>
                            </a:lnTo>
                            <a:lnTo>
                              <a:pt x="694" y="95"/>
                            </a:lnTo>
                            <a:lnTo>
                              <a:pt x="691" y="91"/>
                            </a:lnTo>
                            <a:lnTo>
                              <a:pt x="685" y="89"/>
                            </a:lnTo>
                            <a:lnTo>
                              <a:pt x="681" y="87"/>
                            </a:lnTo>
                            <a:lnTo>
                              <a:pt x="675" y="86"/>
                            </a:lnTo>
                            <a:lnTo>
                              <a:pt x="672" y="86"/>
                            </a:lnTo>
                            <a:lnTo>
                              <a:pt x="668" y="84"/>
                            </a:lnTo>
                            <a:lnTo>
                              <a:pt x="666" y="84"/>
                            </a:lnTo>
                            <a:lnTo>
                              <a:pt x="664" y="84"/>
                            </a:lnTo>
                            <a:lnTo>
                              <a:pt x="660" y="84"/>
                            </a:lnTo>
                            <a:lnTo>
                              <a:pt x="658" y="84"/>
                            </a:lnTo>
                            <a:lnTo>
                              <a:pt x="654" y="84"/>
                            </a:lnTo>
                            <a:lnTo>
                              <a:pt x="652" y="84"/>
                            </a:lnTo>
                            <a:lnTo>
                              <a:pt x="651" y="84"/>
                            </a:lnTo>
                            <a:lnTo>
                              <a:pt x="647" y="84"/>
                            </a:lnTo>
                            <a:lnTo>
                              <a:pt x="645" y="84"/>
                            </a:lnTo>
                            <a:lnTo>
                              <a:pt x="643" y="84"/>
                            </a:lnTo>
                            <a:lnTo>
                              <a:pt x="639" y="84"/>
                            </a:lnTo>
                            <a:lnTo>
                              <a:pt x="635" y="84"/>
                            </a:lnTo>
                            <a:lnTo>
                              <a:pt x="630" y="84"/>
                            </a:lnTo>
                            <a:lnTo>
                              <a:pt x="628" y="84"/>
                            </a:lnTo>
                            <a:lnTo>
                              <a:pt x="624" y="86"/>
                            </a:lnTo>
                            <a:lnTo>
                              <a:pt x="622" y="86"/>
                            </a:lnTo>
                            <a:lnTo>
                              <a:pt x="618" y="86"/>
                            </a:lnTo>
                            <a:lnTo>
                              <a:pt x="614" y="87"/>
                            </a:lnTo>
                            <a:lnTo>
                              <a:pt x="609" y="89"/>
                            </a:lnTo>
                            <a:lnTo>
                              <a:pt x="603" y="91"/>
                            </a:lnTo>
                            <a:lnTo>
                              <a:pt x="599" y="95"/>
                            </a:lnTo>
                            <a:lnTo>
                              <a:pt x="595" y="97"/>
                            </a:lnTo>
                            <a:lnTo>
                              <a:pt x="592" y="99"/>
                            </a:lnTo>
                            <a:lnTo>
                              <a:pt x="586" y="103"/>
                            </a:lnTo>
                            <a:lnTo>
                              <a:pt x="582" y="105"/>
                            </a:lnTo>
                            <a:lnTo>
                              <a:pt x="578" y="108"/>
                            </a:lnTo>
                            <a:lnTo>
                              <a:pt x="574" y="112"/>
                            </a:lnTo>
                            <a:lnTo>
                              <a:pt x="571" y="116"/>
                            </a:lnTo>
                            <a:lnTo>
                              <a:pt x="567" y="120"/>
                            </a:lnTo>
                            <a:lnTo>
                              <a:pt x="565" y="124"/>
                            </a:lnTo>
                            <a:lnTo>
                              <a:pt x="563" y="127"/>
                            </a:lnTo>
                            <a:lnTo>
                              <a:pt x="559" y="131"/>
                            </a:lnTo>
                            <a:lnTo>
                              <a:pt x="555" y="135"/>
                            </a:lnTo>
                            <a:lnTo>
                              <a:pt x="554" y="141"/>
                            </a:lnTo>
                            <a:lnTo>
                              <a:pt x="552" y="146"/>
                            </a:lnTo>
                            <a:lnTo>
                              <a:pt x="550" y="150"/>
                            </a:lnTo>
                            <a:lnTo>
                              <a:pt x="548" y="156"/>
                            </a:lnTo>
                            <a:lnTo>
                              <a:pt x="546" y="158"/>
                            </a:lnTo>
                            <a:lnTo>
                              <a:pt x="546" y="160"/>
                            </a:lnTo>
                            <a:lnTo>
                              <a:pt x="544" y="163"/>
                            </a:lnTo>
                            <a:lnTo>
                              <a:pt x="544" y="167"/>
                            </a:lnTo>
                            <a:lnTo>
                              <a:pt x="361" y="1127"/>
                            </a:lnTo>
                            <a:lnTo>
                              <a:pt x="361" y="1127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54" name="AutoShape 395"/>
                    <p:cNvSpPr/>
                    <p:nvPr/>
                  </p:nvSpPr>
                  <p:spPr>
                    <a:xfrm rot="11205000">
                      <a:off x="4897440" y="1802160"/>
                      <a:ext cx="88560" cy="75960"/>
                    </a:xfrm>
                    <a:prstGeom prst="hexagon">
                      <a:avLst>
                        <a:gd name="adj" fmla="val 29147"/>
                        <a:gd name="vf" fmla="val 115470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80" bIns="1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5" name="Group 396"/>
                  <p:cNvGrpSpPr/>
                  <p:nvPr/>
                </p:nvGrpSpPr>
                <p:grpSpPr>
                  <a:xfrm>
                    <a:off x="4622040" y="2295000"/>
                    <a:ext cx="385560" cy="1241280"/>
                    <a:chOff x="4622040" y="2295000"/>
                    <a:chExt cx="385560" cy="1241280"/>
                  </a:xfrm>
                </p:grpSpPr>
                <p:grpSp>
                  <p:nvGrpSpPr>
                    <p:cNvPr id="556" name="Group 397"/>
                    <p:cNvGrpSpPr/>
                    <p:nvPr/>
                  </p:nvGrpSpPr>
                  <p:grpSpPr>
                    <a:xfrm>
                      <a:off x="4693680" y="2295000"/>
                      <a:ext cx="313920" cy="635400"/>
                      <a:chOff x="4693680" y="2295000"/>
                      <a:chExt cx="313920" cy="635400"/>
                    </a:xfrm>
                  </p:grpSpPr>
                  <p:sp>
                    <p:nvSpPr>
                      <p:cNvPr id="557" name="AutoShape 398"/>
                      <p:cNvSpPr/>
                      <p:nvPr/>
                    </p:nvSpPr>
                    <p:spPr>
                      <a:xfrm rot="577800">
                        <a:off x="4733280" y="2427480"/>
                        <a:ext cx="179640" cy="49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1556" y="21600"/>
                            </a:lnTo>
                            <a:lnTo>
                              <a:pt x="20044" y="21600"/>
                            </a:lnTo>
                            <a:lnTo>
                              <a:pt x="2160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0c0c0"/>
                          </a:gs>
                          <a:gs pos="100000">
                            <a:srgbClr val="ffffff"/>
                          </a:gs>
                        </a:gsLst>
                        <a:lin ang="180000"/>
                      </a:gradFill>
                      <a:ln w="93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8" name="AutoShape 399"/>
                      <p:cNvSpPr/>
                      <p:nvPr/>
                    </p:nvSpPr>
                    <p:spPr>
                      <a:xfrm rot="6156000">
                        <a:off x="4775400" y="2295720"/>
                        <a:ext cx="191520" cy="23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934" y="2201"/>
                              <a:pt x="12267" y="5080"/>
                              <a:pt x="12267" y="10800"/>
                            </a:cubicBezTo>
                            <a:cubicBezTo>
                              <a:pt x="12267" y="16520"/>
                              <a:pt x="16934" y="19399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dddddd"/>
                          </a:gs>
                        </a:gsLst>
                        <a:lin ang="16200000"/>
                      </a:gradFill>
                      <a:ln w="93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59" name="Group 400"/>
                    <p:cNvGrpSpPr/>
                    <p:nvPr/>
                  </p:nvGrpSpPr>
                  <p:grpSpPr>
                    <a:xfrm>
                      <a:off x="4622040" y="2791800"/>
                      <a:ext cx="279720" cy="744480"/>
                      <a:chOff x="4622040" y="2791800"/>
                      <a:chExt cx="279720" cy="744480"/>
                    </a:xfrm>
                  </p:grpSpPr>
                  <p:sp>
                    <p:nvSpPr>
                      <p:cNvPr id="560" name="AutoShape 401"/>
                      <p:cNvSpPr/>
                      <p:nvPr/>
                    </p:nvSpPr>
                    <p:spPr>
                      <a:xfrm rot="592800">
                        <a:off x="4656960" y="2934360"/>
                        <a:ext cx="180360" cy="360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4308" y="21600"/>
                            </a:lnTo>
                            <a:lnTo>
                              <a:pt x="17292" y="21600"/>
                            </a:lnTo>
                            <a:lnTo>
                              <a:pt x="2160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0c0c0"/>
                          </a:gs>
                          <a:gs pos="100000">
                            <a:srgbClr val="ffffff"/>
                          </a:gs>
                        </a:gsLst>
                        <a:lin ang="540000"/>
                      </a:gradFill>
                      <a:ln w="93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1" name="Oval 402"/>
                      <p:cNvSpPr/>
                      <p:nvPr/>
                    </p:nvSpPr>
                    <p:spPr>
                      <a:xfrm rot="1131600">
                        <a:off x="4688640" y="2816640"/>
                        <a:ext cx="187200" cy="1904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dddddd"/>
                          </a:gs>
                          <a:gs pos="100000">
                            <a:srgbClr val="ffffff"/>
                          </a:gs>
                        </a:gsLst>
                        <a:lin ang="0"/>
                      </a:gradFill>
                      <a:ln w="9360">
                        <a:solidFill>
                          <a:srgbClr val="c0c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2" name="Freeform 403"/>
                      <p:cNvSpPr/>
                      <p:nvPr/>
                    </p:nvSpPr>
                    <p:spPr>
                      <a:xfrm rot="10626600">
                        <a:off x="4629240" y="3243960"/>
                        <a:ext cx="175680" cy="28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02" h="2302">
                            <a:moveTo>
                              <a:pt x="361" y="1127"/>
                            </a:moveTo>
                            <a:lnTo>
                              <a:pt x="280" y="1116"/>
                            </a:lnTo>
                            <a:lnTo>
                              <a:pt x="373" y="711"/>
                            </a:lnTo>
                            <a:lnTo>
                              <a:pt x="373" y="709"/>
                            </a:lnTo>
                            <a:lnTo>
                              <a:pt x="375" y="705"/>
                            </a:lnTo>
                            <a:lnTo>
                              <a:pt x="375" y="703"/>
                            </a:lnTo>
                            <a:lnTo>
                              <a:pt x="375" y="700"/>
                            </a:lnTo>
                            <a:lnTo>
                              <a:pt x="375" y="698"/>
                            </a:lnTo>
                            <a:lnTo>
                              <a:pt x="375" y="696"/>
                            </a:lnTo>
                            <a:lnTo>
                              <a:pt x="375" y="692"/>
                            </a:lnTo>
                            <a:lnTo>
                              <a:pt x="375" y="690"/>
                            </a:lnTo>
                            <a:lnTo>
                              <a:pt x="375" y="684"/>
                            </a:lnTo>
                            <a:lnTo>
                              <a:pt x="375" y="681"/>
                            </a:lnTo>
                            <a:lnTo>
                              <a:pt x="375" y="675"/>
                            </a:lnTo>
                            <a:lnTo>
                              <a:pt x="375" y="669"/>
                            </a:lnTo>
                            <a:lnTo>
                              <a:pt x="371" y="665"/>
                            </a:lnTo>
                            <a:lnTo>
                              <a:pt x="371" y="660"/>
                            </a:lnTo>
                            <a:lnTo>
                              <a:pt x="369" y="654"/>
                            </a:lnTo>
                            <a:lnTo>
                              <a:pt x="367" y="652"/>
                            </a:lnTo>
                            <a:lnTo>
                              <a:pt x="365" y="646"/>
                            </a:lnTo>
                            <a:lnTo>
                              <a:pt x="363" y="641"/>
                            </a:lnTo>
                            <a:lnTo>
                              <a:pt x="361" y="637"/>
                            </a:lnTo>
                            <a:lnTo>
                              <a:pt x="358" y="633"/>
                            </a:lnTo>
                            <a:lnTo>
                              <a:pt x="356" y="629"/>
                            </a:lnTo>
                            <a:lnTo>
                              <a:pt x="354" y="623"/>
                            </a:lnTo>
                            <a:lnTo>
                              <a:pt x="350" y="620"/>
                            </a:lnTo>
                            <a:lnTo>
                              <a:pt x="346" y="616"/>
                            </a:lnTo>
                            <a:lnTo>
                              <a:pt x="342" y="612"/>
                            </a:lnTo>
                            <a:lnTo>
                              <a:pt x="339" y="610"/>
                            </a:lnTo>
                            <a:lnTo>
                              <a:pt x="335" y="606"/>
                            </a:lnTo>
                            <a:lnTo>
                              <a:pt x="331" y="603"/>
                            </a:lnTo>
                            <a:lnTo>
                              <a:pt x="325" y="601"/>
                            </a:lnTo>
                            <a:lnTo>
                              <a:pt x="321" y="597"/>
                            </a:lnTo>
                            <a:lnTo>
                              <a:pt x="318" y="595"/>
                            </a:lnTo>
                            <a:lnTo>
                              <a:pt x="312" y="593"/>
                            </a:lnTo>
                            <a:lnTo>
                              <a:pt x="306" y="591"/>
                            </a:lnTo>
                            <a:lnTo>
                              <a:pt x="302" y="589"/>
                            </a:lnTo>
                            <a:lnTo>
                              <a:pt x="299" y="589"/>
                            </a:lnTo>
                            <a:lnTo>
                              <a:pt x="295" y="587"/>
                            </a:lnTo>
                            <a:lnTo>
                              <a:pt x="291" y="587"/>
                            </a:lnTo>
                            <a:lnTo>
                              <a:pt x="287" y="585"/>
                            </a:lnTo>
                            <a:lnTo>
                              <a:pt x="285" y="585"/>
                            </a:lnTo>
                            <a:lnTo>
                              <a:pt x="283" y="585"/>
                            </a:lnTo>
                            <a:lnTo>
                              <a:pt x="280" y="585"/>
                            </a:lnTo>
                            <a:lnTo>
                              <a:pt x="276" y="585"/>
                            </a:lnTo>
                            <a:lnTo>
                              <a:pt x="274" y="585"/>
                            </a:lnTo>
                            <a:lnTo>
                              <a:pt x="272" y="585"/>
                            </a:lnTo>
                            <a:lnTo>
                              <a:pt x="268" y="585"/>
                            </a:lnTo>
                            <a:lnTo>
                              <a:pt x="266" y="585"/>
                            </a:lnTo>
                            <a:lnTo>
                              <a:pt x="263" y="585"/>
                            </a:lnTo>
                            <a:lnTo>
                              <a:pt x="261" y="587"/>
                            </a:lnTo>
                            <a:lnTo>
                              <a:pt x="259" y="587"/>
                            </a:lnTo>
                            <a:lnTo>
                              <a:pt x="255" y="587"/>
                            </a:lnTo>
                            <a:lnTo>
                              <a:pt x="253" y="589"/>
                            </a:lnTo>
                            <a:lnTo>
                              <a:pt x="249" y="589"/>
                            </a:lnTo>
                            <a:lnTo>
                              <a:pt x="247" y="589"/>
                            </a:lnTo>
                            <a:lnTo>
                              <a:pt x="243" y="591"/>
                            </a:lnTo>
                            <a:lnTo>
                              <a:pt x="240" y="591"/>
                            </a:lnTo>
                            <a:lnTo>
                              <a:pt x="238" y="593"/>
                            </a:lnTo>
                            <a:lnTo>
                              <a:pt x="236" y="595"/>
                            </a:lnTo>
                            <a:lnTo>
                              <a:pt x="232" y="595"/>
                            </a:lnTo>
                            <a:lnTo>
                              <a:pt x="230" y="597"/>
                            </a:lnTo>
                            <a:lnTo>
                              <a:pt x="228" y="599"/>
                            </a:lnTo>
                            <a:lnTo>
                              <a:pt x="224" y="601"/>
                            </a:lnTo>
                            <a:lnTo>
                              <a:pt x="223" y="601"/>
                            </a:lnTo>
                            <a:lnTo>
                              <a:pt x="219" y="603"/>
                            </a:lnTo>
                            <a:lnTo>
                              <a:pt x="217" y="604"/>
                            </a:lnTo>
                            <a:lnTo>
                              <a:pt x="211" y="608"/>
                            </a:lnTo>
                            <a:lnTo>
                              <a:pt x="207" y="612"/>
                            </a:lnTo>
                            <a:lnTo>
                              <a:pt x="204" y="616"/>
                            </a:lnTo>
                            <a:lnTo>
                              <a:pt x="198" y="618"/>
                            </a:lnTo>
                            <a:lnTo>
                              <a:pt x="194" y="623"/>
                            </a:lnTo>
                            <a:lnTo>
                              <a:pt x="188" y="627"/>
                            </a:lnTo>
                            <a:lnTo>
                              <a:pt x="185" y="633"/>
                            </a:lnTo>
                            <a:lnTo>
                              <a:pt x="181" y="637"/>
                            </a:lnTo>
                            <a:lnTo>
                              <a:pt x="177" y="641"/>
                            </a:lnTo>
                            <a:lnTo>
                              <a:pt x="173" y="646"/>
                            </a:lnTo>
                            <a:lnTo>
                              <a:pt x="169" y="652"/>
                            </a:lnTo>
                            <a:lnTo>
                              <a:pt x="166" y="656"/>
                            </a:lnTo>
                            <a:lnTo>
                              <a:pt x="162" y="662"/>
                            </a:lnTo>
                            <a:lnTo>
                              <a:pt x="160" y="665"/>
                            </a:lnTo>
                            <a:lnTo>
                              <a:pt x="158" y="669"/>
                            </a:lnTo>
                            <a:lnTo>
                              <a:pt x="158" y="671"/>
                            </a:lnTo>
                            <a:lnTo>
                              <a:pt x="156" y="673"/>
                            </a:lnTo>
                            <a:lnTo>
                              <a:pt x="154" y="677"/>
                            </a:lnTo>
                            <a:lnTo>
                              <a:pt x="152" y="679"/>
                            </a:lnTo>
                            <a:lnTo>
                              <a:pt x="152" y="681"/>
                            </a:lnTo>
                            <a:lnTo>
                              <a:pt x="150" y="684"/>
                            </a:lnTo>
                            <a:lnTo>
                              <a:pt x="150" y="688"/>
                            </a:lnTo>
                            <a:lnTo>
                              <a:pt x="146" y="694"/>
                            </a:lnTo>
                            <a:lnTo>
                              <a:pt x="145" y="701"/>
                            </a:lnTo>
                            <a:lnTo>
                              <a:pt x="143" y="709"/>
                            </a:lnTo>
                            <a:lnTo>
                              <a:pt x="139" y="717"/>
                            </a:lnTo>
                            <a:lnTo>
                              <a:pt x="137" y="724"/>
                            </a:lnTo>
                            <a:lnTo>
                              <a:pt x="135" y="732"/>
                            </a:lnTo>
                            <a:lnTo>
                              <a:pt x="131" y="739"/>
                            </a:lnTo>
                            <a:lnTo>
                              <a:pt x="129" y="747"/>
                            </a:lnTo>
                            <a:lnTo>
                              <a:pt x="126" y="755"/>
                            </a:lnTo>
                            <a:lnTo>
                              <a:pt x="124" y="760"/>
                            </a:lnTo>
                            <a:lnTo>
                              <a:pt x="122" y="768"/>
                            </a:lnTo>
                            <a:lnTo>
                              <a:pt x="120" y="776"/>
                            </a:lnTo>
                            <a:lnTo>
                              <a:pt x="116" y="781"/>
                            </a:lnTo>
                            <a:lnTo>
                              <a:pt x="114" y="789"/>
                            </a:lnTo>
                            <a:lnTo>
                              <a:pt x="112" y="796"/>
                            </a:lnTo>
                            <a:lnTo>
                              <a:pt x="110" y="804"/>
                            </a:lnTo>
                            <a:lnTo>
                              <a:pt x="107" y="812"/>
                            </a:lnTo>
                            <a:lnTo>
                              <a:pt x="107" y="817"/>
                            </a:lnTo>
                            <a:lnTo>
                              <a:pt x="103" y="823"/>
                            </a:lnTo>
                            <a:lnTo>
                              <a:pt x="101" y="831"/>
                            </a:lnTo>
                            <a:lnTo>
                              <a:pt x="97" y="836"/>
                            </a:lnTo>
                            <a:lnTo>
                              <a:pt x="97" y="844"/>
                            </a:lnTo>
                            <a:lnTo>
                              <a:pt x="93" y="852"/>
                            </a:lnTo>
                            <a:lnTo>
                              <a:pt x="93" y="857"/>
                            </a:lnTo>
                            <a:lnTo>
                              <a:pt x="89" y="865"/>
                            </a:lnTo>
                            <a:lnTo>
                              <a:pt x="88" y="871"/>
                            </a:lnTo>
                            <a:lnTo>
                              <a:pt x="86" y="878"/>
                            </a:lnTo>
                            <a:lnTo>
                              <a:pt x="84" y="884"/>
                            </a:lnTo>
                            <a:lnTo>
                              <a:pt x="82" y="892"/>
                            </a:lnTo>
                            <a:lnTo>
                              <a:pt x="80" y="899"/>
                            </a:lnTo>
                            <a:lnTo>
                              <a:pt x="78" y="907"/>
                            </a:lnTo>
                            <a:lnTo>
                              <a:pt x="74" y="912"/>
                            </a:lnTo>
                            <a:lnTo>
                              <a:pt x="72" y="920"/>
                            </a:lnTo>
                            <a:lnTo>
                              <a:pt x="72" y="926"/>
                            </a:lnTo>
                            <a:lnTo>
                              <a:pt x="68" y="931"/>
                            </a:lnTo>
                            <a:lnTo>
                              <a:pt x="67" y="939"/>
                            </a:lnTo>
                            <a:lnTo>
                              <a:pt x="65" y="945"/>
                            </a:lnTo>
                            <a:lnTo>
                              <a:pt x="63" y="952"/>
                            </a:lnTo>
                            <a:lnTo>
                              <a:pt x="59" y="958"/>
                            </a:lnTo>
                            <a:lnTo>
                              <a:pt x="57" y="966"/>
                            </a:lnTo>
                            <a:lnTo>
                              <a:pt x="55" y="971"/>
                            </a:lnTo>
                            <a:lnTo>
                              <a:pt x="53" y="979"/>
                            </a:lnTo>
                            <a:lnTo>
                              <a:pt x="51" y="987"/>
                            </a:lnTo>
                            <a:lnTo>
                              <a:pt x="49" y="994"/>
                            </a:lnTo>
                            <a:lnTo>
                              <a:pt x="48" y="1000"/>
                            </a:lnTo>
                            <a:lnTo>
                              <a:pt x="46" y="1007"/>
                            </a:lnTo>
                            <a:lnTo>
                              <a:pt x="44" y="1015"/>
                            </a:lnTo>
                            <a:lnTo>
                              <a:pt x="42" y="1021"/>
                            </a:lnTo>
                            <a:lnTo>
                              <a:pt x="42" y="1028"/>
                            </a:lnTo>
                            <a:lnTo>
                              <a:pt x="38" y="1036"/>
                            </a:lnTo>
                            <a:lnTo>
                              <a:pt x="36" y="1042"/>
                            </a:lnTo>
                            <a:lnTo>
                              <a:pt x="36" y="1049"/>
                            </a:lnTo>
                            <a:lnTo>
                              <a:pt x="34" y="1057"/>
                            </a:lnTo>
                            <a:lnTo>
                              <a:pt x="30" y="1063"/>
                            </a:lnTo>
                            <a:lnTo>
                              <a:pt x="30" y="1070"/>
                            </a:lnTo>
                            <a:lnTo>
                              <a:pt x="29" y="1078"/>
                            </a:lnTo>
                            <a:lnTo>
                              <a:pt x="27" y="1085"/>
                            </a:lnTo>
                            <a:lnTo>
                              <a:pt x="25" y="1093"/>
                            </a:lnTo>
                            <a:lnTo>
                              <a:pt x="23" y="1101"/>
                            </a:lnTo>
                            <a:lnTo>
                              <a:pt x="21" y="1108"/>
                            </a:lnTo>
                            <a:lnTo>
                              <a:pt x="19" y="1116"/>
                            </a:lnTo>
                            <a:lnTo>
                              <a:pt x="17" y="1123"/>
                            </a:lnTo>
                            <a:lnTo>
                              <a:pt x="17" y="1131"/>
                            </a:lnTo>
                            <a:lnTo>
                              <a:pt x="15" y="1139"/>
                            </a:lnTo>
                            <a:lnTo>
                              <a:pt x="13" y="1148"/>
                            </a:lnTo>
                            <a:lnTo>
                              <a:pt x="10" y="1158"/>
                            </a:lnTo>
                            <a:lnTo>
                              <a:pt x="10" y="1165"/>
                            </a:lnTo>
                            <a:lnTo>
                              <a:pt x="8" y="1175"/>
                            </a:lnTo>
                            <a:lnTo>
                              <a:pt x="6" y="1182"/>
                            </a:lnTo>
                            <a:lnTo>
                              <a:pt x="6" y="1192"/>
                            </a:lnTo>
                            <a:lnTo>
                              <a:pt x="4" y="1201"/>
                            </a:lnTo>
                            <a:lnTo>
                              <a:pt x="2" y="1211"/>
                            </a:lnTo>
                            <a:lnTo>
                              <a:pt x="2" y="1218"/>
                            </a:lnTo>
                            <a:lnTo>
                              <a:pt x="0" y="1230"/>
                            </a:lnTo>
                            <a:lnTo>
                              <a:pt x="0" y="1237"/>
                            </a:lnTo>
                            <a:lnTo>
                              <a:pt x="0" y="1247"/>
                            </a:lnTo>
                            <a:lnTo>
                              <a:pt x="0" y="1257"/>
                            </a:lnTo>
                            <a:lnTo>
                              <a:pt x="0" y="1268"/>
                            </a:lnTo>
                            <a:lnTo>
                              <a:pt x="0" y="1276"/>
                            </a:lnTo>
                            <a:lnTo>
                              <a:pt x="0" y="1285"/>
                            </a:lnTo>
                            <a:lnTo>
                              <a:pt x="0" y="1296"/>
                            </a:lnTo>
                            <a:lnTo>
                              <a:pt x="0" y="1304"/>
                            </a:lnTo>
                            <a:lnTo>
                              <a:pt x="0" y="1314"/>
                            </a:lnTo>
                            <a:lnTo>
                              <a:pt x="0" y="1323"/>
                            </a:lnTo>
                            <a:lnTo>
                              <a:pt x="0" y="1333"/>
                            </a:lnTo>
                            <a:lnTo>
                              <a:pt x="2" y="1342"/>
                            </a:lnTo>
                            <a:lnTo>
                              <a:pt x="2" y="1352"/>
                            </a:lnTo>
                            <a:lnTo>
                              <a:pt x="4" y="1363"/>
                            </a:lnTo>
                            <a:lnTo>
                              <a:pt x="4" y="1371"/>
                            </a:lnTo>
                            <a:lnTo>
                              <a:pt x="6" y="1382"/>
                            </a:lnTo>
                            <a:lnTo>
                              <a:pt x="8" y="1390"/>
                            </a:lnTo>
                            <a:lnTo>
                              <a:pt x="8" y="1401"/>
                            </a:lnTo>
                            <a:lnTo>
                              <a:pt x="10" y="1409"/>
                            </a:lnTo>
                            <a:lnTo>
                              <a:pt x="11" y="1420"/>
                            </a:lnTo>
                            <a:lnTo>
                              <a:pt x="13" y="1429"/>
                            </a:lnTo>
                            <a:lnTo>
                              <a:pt x="15" y="1439"/>
                            </a:lnTo>
                            <a:lnTo>
                              <a:pt x="17" y="1448"/>
                            </a:lnTo>
                            <a:lnTo>
                              <a:pt x="19" y="1458"/>
                            </a:lnTo>
                            <a:lnTo>
                              <a:pt x="21" y="1468"/>
                            </a:lnTo>
                            <a:lnTo>
                              <a:pt x="23" y="1477"/>
                            </a:lnTo>
                            <a:lnTo>
                              <a:pt x="27" y="1487"/>
                            </a:lnTo>
                            <a:lnTo>
                              <a:pt x="29" y="1496"/>
                            </a:lnTo>
                            <a:lnTo>
                              <a:pt x="30" y="1506"/>
                            </a:lnTo>
                            <a:lnTo>
                              <a:pt x="34" y="1515"/>
                            </a:lnTo>
                            <a:lnTo>
                              <a:pt x="36" y="1525"/>
                            </a:lnTo>
                            <a:lnTo>
                              <a:pt x="38" y="1534"/>
                            </a:lnTo>
                            <a:lnTo>
                              <a:pt x="42" y="1544"/>
                            </a:lnTo>
                            <a:lnTo>
                              <a:pt x="46" y="1553"/>
                            </a:lnTo>
                            <a:lnTo>
                              <a:pt x="48" y="1561"/>
                            </a:lnTo>
                            <a:lnTo>
                              <a:pt x="51" y="1572"/>
                            </a:lnTo>
                            <a:lnTo>
                              <a:pt x="55" y="1580"/>
                            </a:lnTo>
                            <a:lnTo>
                              <a:pt x="59" y="1589"/>
                            </a:lnTo>
                            <a:lnTo>
                              <a:pt x="63" y="1599"/>
                            </a:lnTo>
                            <a:lnTo>
                              <a:pt x="67" y="1608"/>
                            </a:lnTo>
                            <a:lnTo>
                              <a:pt x="68" y="1616"/>
                            </a:lnTo>
                            <a:lnTo>
                              <a:pt x="74" y="1627"/>
                            </a:lnTo>
                            <a:lnTo>
                              <a:pt x="78" y="1635"/>
                            </a:lnTo>
                            <a:lnTo>
                              <a:pt x="82" y="1644"/>
                            </a:lnTo>
                            <a:lnTo>
                              <a:pt x="86" y="1652"/>
                            </a:lnTo>
                            <a:lnTo>
                              <a:pt x="89" y="1661"/>
                            </a:lnTo>
                            <a:lnTo>
                              <a:pt x="95" y="1669"/>
                            </a:lnTo>
                            <a:lnTo>
                              <a:pt x="99" y="1679"/>
                            </a:lnTo>
                            <a:lnTo>
                              <a:pt x="103" y="1688"/>
                            </a:lnTo>
                            <a:lnTo>
                              <a:pt x="108" y="1696"/>
                            </a:lnTo>
                            <a:lnTo>
                              <a:pt x="114" y="1703"/>
                            </a:lnTo>
                            <a:lnTo>
                              <a:pt x="118" y="1713"/>
                            </a:lnTo>
                            <a:lnTo>
                              <a:pt x="124" y="1722"/>
                            </a:lnTo>
                            <a:lnTo>
                              <a:pt x="127" y="1732"/>
                            </a:lnTo>
                            <a:lnTo>
                              <a:pt x="131" y="1736"/>
                            </a:lnTo>
                            <a:lnTo>
                              <a:pt x="135" y="1739"/>
                            </a:lnTo>
                            <a:lnTo>
                              <a:pt x="135" y="1743"/>
                            </a:lnTo>
                            <a:lnTo>
                              <a:pt x="137" y="1745"/>
                            </a:lnTo>
                            <a:lnTo>
                              <a:pt x="139" y="1747"/>
                            </a:lnTo>
                            <a:lnTo>
                              <a:pt x="141" y="1751"/>
                            </a:lnTo>
                            <a:lnTo>
                              <a:pt x="143" y="1755"/>
                            </a:lnTo>
                            <a:lnTo>
                              <a:pt x="143" y="1756"/>
                            </a:lnTo>
                            <a:lnTo>
                              <a:pt x="145" y="1760"/>
                            </a:lnTo>
                            <a:lnTo>
                              <a:pt x="146" y="1762"/>
                            </a:lnTo>
                            <a:lnTo>
                              <a:pt x="148" y="1766"/>
                            </a:lnTo>
                            <a:lnTo>
                              <a:pt x="150" y="1768"/>
                            </a:lnTo>
                            <a:lnTo>
                              <a:pt x="152" y="1770"/>
                            </a:lnTo>
                            <a:lnTo>
                              <a:pt x="156" y="1774"/>
                            </a:lnTo>
                            <a:lnTo>
                              <a:pt x="158" y="1777"/>
                            </a:lnTo>
                            <a:lnTo>
                              <a:pt x="160" y="1779"/>
                            </a:lnTo>
                            <a:lnTo>
                              <a:pt x="160" y="1783"/>
                            </a:lnTo>
                            <a:lnTo>
                              <a:pt x="162" y="1787"/>
                            </a:lnTo>
                            <a:lnTo>
                              <a:pt x="166" y="1789"/>
                            </a:lnTo>
                            <a:lnTo>
                              <a:pt x="166" y="1791"/>
                            </a:lnTo>
                            <a:lnTo>
                              <a:pt x="167" y="1794"/>
                            </a:lnTo>
                            <a:lnTo>
                              <a:pt x="169" y="1796"/>
                            </a:lnTo>
                            <a:lnTo>
                              <a:pt x="171" y="1800"/>
                            </a:lnTo>
                            <a:lnTo>
                              <a:pt x="173" y="1802"/>
                            </a:lnTo>
                            <a:lnTo>
                              <a:pt x="175" y="1806"/>
                            </a:lnTo>
                            <a:lnTo>
                              <a:pt x="177" y="1808"/>
                            </a:lnTo>
                            <a:lnTo>
                              <a:pt x="179" y="1812"/>
                            </a:lnTo>
                            <a:lnTo>
                              <a:pt x="181" y="1815"/>
                            </a:lnTo>
                            <a:lnTo>
                              <a:pt x="183" y="1817"/>
                            </a:lnTo>
                            <a:lnTo>
                              <a:pt x="185" y="1821"/>
                            </a:lnTo>
                            <a:lnTo>
                              <a:pt x="188" y="1827"/>
                            </a:lnTo>
                            <a:lnTo>
                              <a:pt x="190" y="1831"/>
                            </a:lnTo>
                            <a:lnTo>
                              <a:pt x="194" y="1836"/>
                            </a:lnTo>
                            <a:lnTo>
                              <a:pt x="198" y="1842"/>
                            </a:lnTo>
                            <a:lnTo>
                              <a:pt x="200" y="1846"/>
                            </a:lnTo>
                            <a:lnTo>
                              <a:pt x="204" y="1850"/>
                            </a:lnTo>
                            <a:lnTo>
                              <a:pt x="205" y="1853"/>
                            </a:lnTo>
                            <a:lnTo>
                              <a:pt x="207" y="1859"/>
                            </a:lnTo>
                            <a:lnTo>
                              <a:pt x="209" y="1861"/>
                            </a:lnTo>
                            <a:lnTo>
                              <a:pt x="211" y="1863"/>
                            </a:lnTo>
                            <a:lnTo>
                              <a:pt x="213" y="1867"/>
                            </a:lnTo>
                            <a:lnTo>
                              <a:pt x="215" y="1869"/>
                            </a:lnTo>
                            <a:lnTo>
                              <a:pt x="217" y="1870"/>
                            </a:lnTo>
                            <a:lnTo>
                              <a:pt x="219" y="1874"/>
                            </a:lnTo>
                            <a:lnTo>
                              <a:pt x="141" y="2163"/>
                            </a:lnTo>
                            <a:lnTo>
                              <a:pt x="143" y="2165"/>
                            </a:lnTo>
                            <a:lnTo>
                              <a:pt x="146" y="2165"/>
                            </a:lnTo>
                            <a:lnTo>
                              <a:pt x="150" y="2167"/>
                            </a:lnTo>
                            <a:lnTo>
                              <a:pt x="152" y="2167"/>
                            </a:lnTo>
                            <a:lnTo>
                              <a:pt x="154" y="2167"/>
                            </a:lnTo>
                            <a:lnTo>
                              <a:pt x="158" y="2167"/>
                            </a:lnTo>
                            <a:lnTo>
                              <a:pt x="162" y="2171"/>
                            </a:lnTo>
                            <a:lnTo>
                              <a:pt x="166" y="2171"/>
                            </a:lnTo>
                            <a:lnTo>
                              <a:pt x="167" y="2173"/>
                            </a:lnTo>
                            <a:lnTo>
                              <a:pt x="171" y="2173"/>
                            </a:lnTo>
                            <a:lnTo>
                              <a:pt x="175" y="2175"/>
                            </a:lnTo>
                            <a:lnTo>
                              <a:pt x="181" y="2175"/>
                            </a:lnTo>
                            <a:lnTo>
                              <a:pt x="185" y="2175"/>
                            </a:lnTo>
                            <a:lnTo>
                              <a:pt x="188" y="2177"/>
                            </a:lnTo>
                            <a:lnTo>
                              <a:pt x="194" y="2180"/>
                            </a:lnTo>
                            <a:lnTo>
                              <a:pt x="198" y="2180"/>
                            </a:lnTo>
                            <a:lnTo>
                              <a:pt x="204" y="2182"/>
                            </a:lnTo>
                            <a:lnTo>
                              <a:pt x="209" y="2182"/>
                            </a:lnTo>
                            <a:lnTo>
                              <a:pt x="215" y="2184"/>
                            </a:lnTo>
                            <a:lnTo>
                              <a:pt x="219" y="2186"/>
                            </a:lnTo>
                            <a:lnTo>
                              <a:pt x="224" y="2188"/>
                            </a:lnTo>
                            <a:lnTo>
                              <a:pt x="232" y="2188"/>
                            </a:lnTo>
                            <a:lnTo>
                              <a:pt x="238" y="2190"/>
                            </a:lnTo>
                            <a:lnTo>
                              <a:pt x="243" y="2190"/>
                            </a:lnTo>
                            <a:lnTo>
                              <a:pt x="251" y="2192"/>
                            </a:lnTo>
                            <a:lnTo>
                              <a:pt x="257" y="2194"/>
                            </a:lnTo>
                            <a:lnTo>
                              <a:pt x="264" y="2194"/>
                            </a:lnTo>
                            <a:lnTo>
                              <a:pt x="270" y="2196"/>
                            </a:lnTo>
                            <a:lnTo>
                              <a:pt x="276" y="2196"/>
                            </a:lnTo>
                            <a:lnTo>
                              <a:pt x="283" y="2197"/>
                            </a:lnTo>
                            <a:lnTo>
                              <a:pt x="291" y="2199"/>
                            </a:lnTo>
                            <a:lnTo>
                              <a:pt x="297" y="2199"/>
                            </a:lnTo>
                            <a:lnTo>
                              <a:pt x="304" y="2199"/>
                            </a:lnTo>
                            <a:lnTo>
                              <a:pt x="312" y="2199"/>
                            </a:lnTo>
                            <a:lnTo>
                              <a:pt x="320" y="2201"/>
                            </a:lnTo>
                            <a:lnTo>
                              <a:pt x="325" y="2201"/>
                            </a:lnTo>
                            <a:lnTo>
                              <a:pt x="333" y="2201"/>
                            </a:lnTo>
                            <a:lnTo>
                              <a:pt x="341" y="2201"/>
                            </a:lnTo>
                            <a:lnTo>
                              <a:pt x="348" y="2201"/>
                            </a:lnTo>
                            <a:lnTo>
                              <a:pt x="356" y="2201"/>
                            </a:lnTo>
                            <a:lnTo>
                              <a:pt x="363" y="2201"/>
                            </a:lnTo>
                            <a:lnTo>
                              <a:pt x="371" y="2201"/>
                            </a:lnTo>
                            <a:lnTo>
                              <a:pt x="379" y="2201"/>
                            </a:lnTo>
                            <a:lnTo>
                              <a:pt x="386" y="2201"/>
                            </a:lnTo>
                            <a:lnTo>
                              <a:pt x="394" y="2201"/>
                            </a:lnTo>
                            <a:lnTo>
                              <a:pt x="401" y="2199"/>
                            </a:lnTo>
                            <a:lnTo>
                              <a:pt x="409" y="2199"/>
                            </a:lnTo>
                            <a:lnTo>
                              <a:pt x="415" y="2197"/>
                            </a:lnTo>
                            <a:lnTo>
                              <a:pt x="422" y="2196"/>
                            </a:lnTo>
                            <a:lnTo>
                              <a:pt x="432" y="2196"/>
                            </a:lnTo>
                            <a:lnTo>
                              <a:pt x="439" y="2194"/>
                            </a:lnTo>
                            <a:lnTo>
                              <a:pt x="447" y="2192"/>
                            </a:lnTo>
                            <a:lnTo>
                              <a:pt x="455" y="2190"/>
                            </a:lnTo>
                            <a:lnTo>
                              <a:pt x="462" y="2188"/>
                            </a:lnTo>
                            <a:lnTo>
                              <a:pt x="470" y="2188"/>
                            </a:lnTo>
                            <a:lnTo>
                              <a:pt x="476" y="2184"/>
                            </a:lnTo>
                            <a:lnTo>
                              <a:pt x="483" y="2182"/>
                            </a:lnTo>
                            <a:lnTo>
                              <a:pt x="491" y="2180"/>
                            </a:lnTo>
                            <a:lnTo>
                              <a:pt x="498" y="2175"/>
                            </a:lnTo>
                            <a:lnTo>
                              <a:pt x="504" y="2173"/>
                            </a:lnTo>
                            <a:lnTo>
                              <a:pt x="512" y="2169"/>
                            </a:lnTo>
                            <a:lnTo>
                              <a:pt x="517" y="2165"/>
                            </a:lnTo>
                            <a:lnTo>
                              <a:pt x="525" y="2161"/>
                            </a:lnTo>
                            <a:lnTo>
                              <a:pt x="531" y="2158"/>
                            </a:lnTo>
                            <a:lnTo>
                              <a:pt x="536" y="2154"/>
                            </a:lnTo>
                            <a:lnTo>
                              <a:pt x="542" y="2150"/>
                            </a:lnTo>
                            <a:lnTo>
                              <a:pt x="550" y="2146"/>
                            </a:lnTo>
                            <a:lnTo>
                              <a:pt x="555" y="2142"/>
                            </a:lnTo>
                            <a:lnTo>
                              <a:pt x="559" y="2137"/>
                            </a:lnTo>
                            <a:lnTo>
                              <a:pt x="565" y="2133"/>
                            </a:lnTo>
                            <a:lnTo>
                              <a:pt x="571" y="2129"/>
                            </a:lnTo>
                            <a:lnTo>
                              <a:pt x="576" y="2123"/>
                            </a:lnTo>
                            <a:lnTo>
                              <a:pt x="582" y="2120"/>
                            </a:lnTo>
                            <a:lnTo>
                              <a:pt x="588" y="2114"/>
                            </a:lnTo>
                            <a:lnTo>
                              <a:pt x="592" y="2110"/>
                            </a:lnTo>
                            <a:lnTo>
                              <a:pt x="595" y="2106"/>
                            </a:lnTo>
                            <a:lnTo>
                              <a:pt x="601" y="2101"/>
                            </a:lnTo>
                            <a:lnTo>
                              <a:pt x="605" y="2095"/>
                            </a:lnTo>
                            <a:lnTo>
                              <a:pt x="611" y="2091"/>
                            </a:lnTo>
                            <a:lnTo>
                              <a:pt x="614" y="2085"/>
                            </a:lnTo>
                            <a:lnTo>
                              <a:pt x="618" y="2080"/>
                            </a:lnTo>
                            <a:lnTo>
                              <a:pt x="624" y="2076"/>
                            </a:lnTo>
                            <a:lnTo>
                              <a:pt x="628" y="2070"/>
                            </a:lnTo>
                            <a:lnTo>
                              <a:pt x="632" y="2064"/>
                            </a:lnTo>
                            <a:lnTo>
                              <a:pt x="635" y="2059"/>
                            </a:lnTo>
                            <a:lnTo>
                              <a:pt x="637" y="2055"/>
                            </a:lnTo>
                            <a:lnTo>
                              <a:pt x="643" y="2049"/>
                            </a:lnTo>
                            <a:lnTo>
                              <a:pt x="645" y="2043"/>
                            </a:lnTo>
                            <a:lnTo>
                              <a:pt x="649" y="2040"/>
                            </a:lnTo>
                            <a:lnTo>
                              <a:pt x="652" y="2034"/>
                            </a:lnTo>
                            <a:lnTo>
                              <a:pt x="654" y="2030"/>
                            </a:lnTo>
                            <a:lnTo>
                              <a:pt x="658" y="2024"/>
                            </a:lnTo>
                            <a:lnTo>
                              <a:pt x="660" y="2021"/>
                            </a:lnTo>
                            <a:lnTo>
                              <a:pt x="664" y="2015"/>
                            </a:lnTo>
                            <a:lnTo>
                              <a:pt x="666" y="2011"/>
                            </a:lnTo>
                            <a:lnTo>
                              <a:pt x="668" y="2005"/>
                            </a:lnTo>
                            <a:lnTo>
                              <a:pt x="672" y="2002"/>
                            </a:lnTo>
                            <a:lnTo>
                              <a:pt x="673" y="1998"/>
                            </a:lnTo>
                            <a:lnTo>
                              <a:pt x="675" y="1992"/>
                            </a:lnTo>
                            <a:lnTo>
                              <a:pt x="677" y="1986"/>
                            </a:lnTo>
                            <a:lnTo>
                              <a:pt x="679" y="1983"/>
                            </a:lnTo>
                            <a:lnTo>
                              <a:pt x="681" y="1979"/>
                            </a:lnTo>
                            <a:lnTo>
                              <a:pt x="683" y="1975"/>
                            </a:lnTo>
                            <a:lnTo>
                              <a:pt x="685" y="1971"/>
                            </a:lnTo>
                            <a:lnTo>
                              <a:pt x="687" y="1969"/>
                            </a:lnTo>
                            <a:lnTo>
                              <a:pt x="689" y="1964"/>
                            </a:lnTo>
                            <a:lnTo>
                              <a:pt x="691" y="1962"/>
                            </a:lnTo>
                            <a:lnTo>
                              <a:pt x="692" y="1958"/>
                            </a:lnTo>
                            <a:lnTo>
                              <a:pt x="692" y="1954"/>
                            </a:lnTo>
                            <a:lnTo>
                              <a:pt x="692" y="1952"/>
                            </a:lnTo>
                            <a:lnTo>
                              <a:pt x="694" y="1950"/>
                            </a:lnTo>
                            <a:lnTo>
                              <a:pt x="696" y="1945"/>
                            </a:lnTo>
                            <a:lnTo>
                              <a:pt x="698" y="1941"/>
                            </a:lnTo>
                            <a:lnTo>
                              <a:pt x="700" y="1937"/>
                            </a:lnTo>
                            <a:lnTo>
                              <a:pt x="700" y="1935"/>
                            </a:lnTo>
                            <a:lnTo>
                              <a:pt x="700" y="1933"/>
                            </a:lnTo>
                            <a:lnTo>
                              <a:pt x="702" y="1933"/>
                            </a:lnTo>
                            <a:lnTo>
                              <a:pt x="740" y="1943"/>
                            </a:lnTo>
                            <a:lnTo>
                              <a:pt x="740" y="1943"/>
                            </a:lnTo>
                            <a:lnTo>
                              <a:pt x="738" y="1945"/>
                            </a:lnTo>
                            <a:lnTo>
                              <a:pt x="738" y="1947"/>
                            </a:lnTo>
                            <a:lnTo>
                              <a:pt x="738" y="1950"/>
                            </a:lnTo>
                            <a:lnTo>
                              <a:pt x="738" y="1954"/>
                            </a:lnTo>
                            <a:lnTo>
                              <a:pt x="738" y="1958"/>
                            </a:lnTo>
                            <a:lnTo>
                              <a:pt x="736" y="1962"/>
                            </a:lnTo>
                            <a:lnTo>
                              <a:pt x="736" y="1964"/>
                            </a:lnTo>
                            <a:lnTo>
                              <a:pt x="736" y="1967"/>
                            </a:lnTo>
                            <a:lnTo>
                              <a:pt x="736" y="1971"/>
                            </a:lnTo>
                            <a:lnTo>
                              <a:pt x="736" y="1975"/>
                            </a:lnTo>
                            <a:lnTo>
                              <a:pt x="736" y="1979"/>
                            </a:lnTo>
                            <a:lnTo>
                              <a:pt x="736" y="1983"/>
                            </a:lnTo>
                            <a:lnTo>
                              <a:pt x="736" y="1985"/>
                            </a:lnTo>
                            <a:lnTo>
                              <a:pt x="736" y="1990"/>
                            </a:lnTo>
                            <a:lnTo>
                              <a:pt x="736" y="1994"/>
                            </a:lnTo>
                            <a:lnTo>
                              <a:pt x="736" y="1998"/>
                            </a:lnTo>
                            <a:lnTo>
                              <a:pt x="736" y="2004"/>
                            </a:lnTo>
                            <a:lnTo>
                              <a:pt x="736" y="2007"/>
                            </a:lnTo>
                            <a:lnTo>
                              <a:pt x="736" y="2013"/>
                            </a:lnTo>
                            <a:lnTo>
                              <a:pt x="736" y="2015"/>
                            </a:lnTo>
                            <a:lnTo>
                              <a:pt x="736" y="2021"/>
                            </a:lnTo>
                            <a:lnTo>
                              <a:pt x="736" y="2026"/>
                            </a:lnTo>
                            <a:lnTo>
                              <a:pt x="736" y="2030"/>
                            </a:lnTo>
                            <a:lnTo>
                              <a:pt x="736" y="2036"/>
                            </a:lnTo>
                            <a:lnTo>
                              <a:pt x="736" y="2042"/>
                            </a:lnTo>
                            <a:lnTo>
                              <a:pt x="736" y="2047"/>
                            </a:lnTo>
                            <a:lnTo>
                              <a:pt x="738" y="2051"/>
                            </a:lnTo>
                            <a:lnTo>
                              <a:pt x="738" y="2057"/>
                            </a:lnTo>
                            <a:lnTo>
                              <a:pt x="738" y="2062"/>
                            </a:lnTo>
                            <a:lnTo>
                              <a:pt x="740" y="2066"/>
                            </a:lnTo>
                            <a:lnTo>
                              <a:pt x="740" y="2072"/>
                            </a:lnTo>
                            <a:lnTo>
                              <a:pt x="742" y="2078"/>
                            </a:lnTo>
                            <a:lnTo>
                              <a:pt x="744" y="2083"/>
                            </a:lnTo>
                            <a:lnTo>
                              <a:pt x="744" y="2091"/>
                            </a:lnTo>
                            <a:lnTo>
                              <a:pt x="746" y="2095"/>
                            </a:lnTo>
                            <a:lnTo>
                              <a:pt x="748" y="2101"/>
                            </a:lnTo>
                            <a:lnTo>
                              <a:pt x="748" y="2106"/>
                            </a:lnTo>
                            <a:lnTo>
                              <a:pt x="751" y="2110"/>
                            </a:lnTo>
                            <a:lnTo>
                              <a:pt x="753" y="2118"/>
                            </a:lnTo>
                            <a:lnTo>
                              <a:pt x="753" y="2123"/>
                            </a:lnTo>
                            <a:lnTo>
                              <a:pt x="757" y="2129"/>
                            </a:lnTo>
                            <a:lnTo>
                              <a:pt x="759" y="2135"/>
                            </a:lnTo>
                            <a:lnTo>
                              <a:pt x="761" y="2139"/>
                            </a:lnTo>
                            <a:lnTo>
                              <a:pt x="765" y="2144"/>
                            </a:lnTo>
                            <a:lnTo>
                              <a:pt x="767" y="2150"/>
                            </a:lnTo>
                            <a:lnTo>
                              <a:pt x="769" y="2156"/>
                            </a:lnTo>
                            <a:lnTo>
                              <a:pt x="772" y="2159"/>
                            </a:lnTo>
                            <a:lnTo>
                              <a:pt x="776" y="2165"/>
                            </a:lnTo>
                            <a:lnTo>
                              <a:pt x="780" y="2171"/>
                            </a:lnTo>
                            <a:lnTo>
                              <a:pt x="782" y="2175"/>
                            </a:lnTo>
                            <a:lnTo>
                              <a:pt x="786" y="2180"/>
                            </a:lnTo>
                            <a:lnTo>
                              <a:pt x="789" y="2186"/>
                            </a:lnTo>
                            <a:lnTo>
                              <a:pt x="795" y="2190"/>
                            </a:lnTo>
                            <a:lnTo>
                              <a:pt x="799" y="2196"/>
                            </a:lnTo>
                            <a:lnTo>
                              <a:pt x="805" y="2201"/>
                            </a:lnTo>
                            <a:lnTo>
                              <a:pt x="808" y="2205"/>
                            </a:lnTo>
                            <a:lnTo>
                              <a:pt x="814" y="2209"/>
                            </a:lnTo>
                            <a:lnTo>
                              <a:pt x="818" y="2213"/>
                            </a:lnTo>
                            <a:lnTo>
                              <a:pt x="824" y="2216"/>
                            </a:lnTo>
                            <a:lnTo>
                              <a:pt x="828" y="2222"/>
                            </a:lnTo>
                            <a:lnTo>
                              <a:pt x="833" y="2224"/>
                            </a:lnTo>
                            <a:lnTo>
                              <a:pt x="839" y="2228"/>
                            </a:lnTo>
                            <a:lnTo>
                              <a:pt x="845" y="2232"/>
                            </a:lnTo>
                            <a:lnTo>
                              <a:pt x="848" y="2235"/>
                            </a:lnTo>
                            <a:lnTo>
                              <a:pt x="854" y="2239"/>
                            </a:lnTo>
                            <a:lnTo>
                              <a:pt x="858" y="2243"/>
                            </a:lnTo>
                            <a:lnTo>
                              <a:pt x="864" y="2245"/>
                            </a:lnTo>
                            <a:lnTo>
                              <a:pt x="867" y="2249"/>
                            </a:lnTo>
                            <a:lnTo>
                              <a:pt x="873" y="2253"/>
                            </a:lnTo>
                            <a:lnTo>
                              <a:pt x="877" y="2256"/>
                            </a:lnTo>
                            <a:lnTo>
                              <a:pt x="883" y="2258"/>
                            </a:lnTo>
                            <a:lnTo>
                              <a:pt x="890" y="2260"/>
                            </a:lnTo>
                            <a:lnTo>
                              <a:pt x="896" y="2264"/>
                            </a:lnTo>
                            <a:lnTo>
                              <a:pt x="900" y="2266"/>
                            </a:lnTo>
                            <a:lnTo>
                              <a:pt x="904" y="2268"/>
                            </a:lnTo>
                            <a:lnTo>
                              <a:pt x="907" y="2270"/>
                            </a:lnTo>
                            <a:lnTo>
                              <a:pt x="913" y="2273"/>
                            </a:lnTo>
                            <a:lnTo>
                              <a:pt x="919" y="2275"/>
                            </a:lnTo>
                            <a:lnTo>
                              <a:pt x="925" y="2277"/>
                            </a:lnTo>
                            <a:lnTo>
                              <a:pt x="928" y="2279"/>
                            </a:lnTo>
                            <a:lnTo>
                              <a:pt x="934" y="2281"/>
                            </a:lnTo>
                            <a:lnTo>
                              <a:pt x="938" y="2283"/>
                            </a:lnTo>
                            <a:lnTo>
                              <a:pt x="942" y="2285"/>
                            </a:lnTo>
                            <a:lnTo>
                              <a:pt x="947" y="2287"/>
                            </a:lnTo>
                            <a:lnTo>
                              <a:pt x="951" y="2289"/>
                            </a:lnTo>
                            <a:lnTo>
                              <a:pt x="955" y="2289"/>
                            </a:lnTo>
                            <a:lnTo>
                              <a:pt x="961" y="2291"/>
                            </a:lnTo>
                            <a:lnTo>
                              <a:pt x="964" y="2291"/>
                            </a:lnTo>
                            <a:lnTo>
                              <a:pt x="968" y="2294"/>
                            </a:lnTo>
                            <a:lnTo>
                              <a:pt x="972" y="2294"/>
                            </a:lnTo>
                            <a:lnTo>
                              <a:pt x="978" y="2294"/>
                            </a:lnTo>
                            <a:lnTo>
                              <a:pt x="982" y="2296"/>
                            </a:lnTo>
                            <a:lnTo>
                              <a:pt x="985" y="2296"/>
                            </a:lnTo>
                            <a:lnTo>
                              <a:pt x="989" y="2296"/>
                            </a:lnTo>
                            <a:lnTo>
                              <a:pt x="993" y="2298"/>
                            </a:lnTo>
                            <a:lnTo>
                              <a:pt x="997" y="2298"/>
                            </a:lnTo>
                            <a:lnTo>
                              <a:pt x="1001" y="2298"/>
                            </a:lnTo>
                            <a:lnTo>
                              <a:pt x="1004" y="2298"/>
                            </a:lnTo>
                            <a:lnTo>
                              <a:pt x="1008" y="2300"/>
                            </a:lnTo>
                            <a:lnTo>
                              <a:pt x="1010" y="2300"/>
                            </a:lnTo>
                            <a:lnTo>
                              <a:pt x="1014" y="2300"/>
                            </a:lnTo>
                            <a:lnTo>
                              <a:pt x="1016" y="2300"/>
                            </a:lnTo>
                            <a:lnTo>
                              <a:pt x="1020" y="2300"/>
                            </a:lnTo>
                            <a:lnTo>
                              <a:pt x="1022" y="2300"/>
                            </a:lnTo>
                            <a:lnTo>
                              <a:pt x="1025" y="2302"/>
                            </a:lnTo>
                            <a:lnTo>
                              <a:pt x="1029" y="2300"/>
                            </a:lnTo>
                            <a:lnTo>
                              <a:pt x="1035" y="2300"/>
                            </a:lnTo>
                            <a:lnTo>
                              <a:pt x="1039" y="2298"/>
                            </a:lnTo>
                            <a:lnTo>
                              <a:pt x="1042" y="2298"/>
                            </a:lnTo>
                            <a:lnTo>
                              <a:pt x="1044" y="2296"/>
                            </a:lnTo>
                            <a:lnTo>
                              <a:pt x="1048" y="2296"/>
                            </a:lnTo>
                            <a:lnTo>
                              <a:pt x="1048" y="2294"/>
                            </a:lnTo>
                            <a:lnTo>
                              <a:pt x="1050" y="2294"/>
                            </a:lnTo>
                            <a:lnTo>
                              <a:pt x="1246" y="1334"/>
                            </a:lnTo>
                            <a:lnTo>
                              <a:pt x="1246" y="1333"/>
                            </a:lnTo>
                            <a:lnTo>
                              <a:pt x="1248" y="1331"/>
                            </a:lnTo>
                            <a:lnTo>
                              <a:pt x="1250" y="1327"/>
                            </a:lnTo>
                            <a:lnTo>
                              <a:pt x="1252" y="1325"/>
                            </a:lnTo>
                            <a:lnTo>
                              <a:pt x="1252" y="1323"/>
                            </a:lnTo>
                            <a:lnTo>
                              <a:pt x="1254" y="1319"/>
                            </a:lnTo>
                            <a:lnTo>
                              <a:pt x="1256" y="1315"/>
                            </a:lnTo>
                            <a:lnTo>
                              <a:pt x="1259" y="1312"/>
                            </a:lnTo>
                            <a:lnTo>
                              <a:pt x="1259" y="1306"/>
                            </a:lnTo>
                            <a:lnTo>
                              <a:pt x="1263" y="1302"/>
                            </a:lnTo>
                            <a:lnTo>
                              <a:pt x="1265" y="1296"/>
                            </a:lnTo>
                            <a:lnTo>
                              <a:pt x="1269" y="1293"/>
                            </a:lnTo>
                            <a:lnTo>
                              <a:pt x="1271" y="1285"/>
                            </a:lnTo>
                            <a:lnTo>
                              <a:pt x="1275" y="1281"/>
                            </a:lnTo>
                            <a:lnTo>
                              <a:pt x="1276" y="1274"/>
                            </a:lnTo>
                            <a:lnTo>
                              <a:pt x="1280" y="1266"/>
                            </a:lnTo>
                            <a:lnTo>
                              <a:pt x="1284" y="1258"/>
                            </a:lnTo>
                            <a:lnTo>
                              <a:pt x="1288" y="1249"/>
                            </a:lnTo>
                            <a:lnTo>
                              <a:pt x="1290" y="1241"/>
                            </a:lnTo>
                            <a:lnTo>
                              <a:pt x="1294" y="1234"/>
                            </a:lnTo>
                            <a:lnTo>
                              <a:pt x="1297" y="1224"/>
                            </a:lnTo>
                            <a:lnTo>
                              <a:pt x="1301" y="1217"/>
                            </a:lnTo>
                            <a:lnTo>
                              <a:pt x="1305" y="1207"/>
                            </a:lnTo>
                            <a:lnTo>
                              <a:pt x="1309" y="1198"/>
                            </a:lnTo>
                            <a:lnTo>
                              <a:pt x="1313" y="1188"/>
                            </a:lnTo>
                            <a:lnTo>
                              <a:pt x="1316" y="1177"/>
                            </a:lnTo>
                            <a:lnTo>
                              <a:pt x="1320" y="1165"/>
                            </a:lnTo>
                            <a:lnTo>
                              <a:pt x="1324" y="1154"/>
                            </a:lnTo>
                            <a:lnTo>
                              <a:pt x="1330" y="1144"/>
                            </a:lnTo>
                            <a:lnTo>
                              <a:pt x="1334" y="1133"/>
                            </a:lnTo>
                            <a:lnTo>
                              <a:pt x="1337" y="1122"/>
                            </a:lnTo>
                            <a:lnTo>
                              <a:pt x="1339" y="1108"/>
                            </a:lnTo>
                            <a:lnTo>
                              <a:pt x="1345" y="1097"/>
                            </a:lnTo>
                            <a:lnTo>
                              <a:pt x="1349" y="1084"/>
                            </a:lnTo>
                            <a:lnTo>
                              <a:pt x="1353" y="1070"/>
                            </a:lnTo>
                            <a:lnTo>
                              <a:pt x="1354" y="1059"/>
                            </a:lnTo>
                            <a:lnTo>
                              <a:pt x="1358" y="1044"/>
                            </a:lnTo>
                            <a:lnTo>
                              <a:pt x="1362" y="1032"/>
                            </a:lnTo>
                            <a:lnTo>
                              <a:pt x="1366" y="1017"/>
                            </a:lnTo>
                            <a:lnTo>
                              <a:pt x="1370" y="1004"/>
                            </a:lnTo>
                            <a:lnTo>
                              <a:pt x="1372" y="988"/>
                            </a:lnTo>
                            <a:lnTo>
                              <a:pt x="1375" y="975"/>
                            </a:lnTo>
                            <a:lnTo>
                              <a:pt x="1377" y="960"/>
                            </a:lnTo>
                            <a:lnTo>
                              <a:pt x="1381" y="947"/>
                            </a:lnTo>
                            <a:lnTo>
                              <a:pt x="1383" y="931"/>
                            </a:lnTo>
                            <a:lnTo>
                              <a:pt x="1387" y="916"/>
                            </a:lnTo>
                            <a:lnTo>
                              <a:pt x="1389" y="901"/>
                            </a:lnTo>
                            <a:lnTo>
                              <a:pt x="1391" y="886"/>
                            </a:lnTo>
                            <a:lnTo>
                              <a:pt x="1392" y="871"/>
                            </a:lnTo>
                            <a:lnTo>
                              <a:pt x="1394" y="855"/>
                            </a:lnTo>
                            <a:lnTo>
                              <a:pt x="1396" y="838"/>
                            </a:lnTo>
                            <a:lnTo>
                              <a:pt x="1398" y="823"/>
                            </a:lnTo>
                            <a:lnTo>
                              <a:pt x="1398" y="806"/>
                            </a:lnTo>
                            <a:lnTo>
                              <a:pt x="1400" y="791"/>
                            </a:lnTo>
                            <a:lnTo>
                              <a:pt x="1402" y="774"/>
                            </a:lnTo>
                            <a:lnTo>
                              <a:pt x="1402" y="757"/>
                            </a:lnTo>
                            <a:lnTo>
                              <a:pt x="1402" y="741"/>
                            </a:lnTo>
                            <a:lnTo>
                              <a:pt x="1402" y="724"/>
                            </a:lnTo>
                            <a:lnTo>
                              <a:pt x="1402" y="705"/>
                            </a:lnTo>
                            <a:lnTo>
                              <a:pt x="1402" y="690"/>
                            </a:lnTo>
                            <a:lnTo>
                              <a:pt x="1400" y="673"/>
                            </a:lnTo>
                            <a:lnTo>
                              <a:pt x="1400" y="656"/>
                            </a:lnTo>
                            <a:lnTo>
                              <a:pt x="1398" y="654"/>
                            </a:lnTo>
                            <a:lnTo>
                              <a:pt x="1398" y="652"/>
                            </a:lnTo>
                            <a:lnTo>
                              <a:pt x="1398" y="648"/>
                            </a:lnTo>
                            <a:lnTo>
                              <a:pt x="1398" y="644"/>
                            </a:lnTo>
                            <a:lnTo>
                              <a:pt x="1398" y="643"/>
                            </a:lnTo>
                            <a:lnTo>
                              <a:pt x="1398" y="639"/>
                            </a:lnTo>
                            <a:lnTo>
                              <a:pt x="1396" y="637"/>
                            </a:lnTo>
                            <a:lnTo>
                              <a:pt x="1396" y="633"/>
                            </a:lnTo>
                            <a:lnTo>
                              <a:pt x="1396" y="631"/>
                            </a:lnTo>
                            <a:lnTo>
                              <a:pt x="1396" y="627"/>
                            </a:lnTo>
                            <a:lnTo>
                              <a:pt x="1396" y="623"/>
                            </a:lnTo>
                            <a:lnTo>
                              <a:pt x="1394" y="620"/>
                            </a:lnTo>
                            <a:lnTo>
                              <a:pt x="1394" y="618"/>
                            </a:lnTo>
                            <a:lnTo>
                              <a:pt x="1394" y="616"/>
                            </a:lnTo>
                            <a:lnTo>
                              <a:pt x="1392" y="612"/>
                            </a:lnTo>
                            <a:lnTo>
                              <a:pt x="1392" y="610"/>
                            </a:lnTo>
                            <a:lnTo>
                              <a:pt x="1392" y="608"/>
                            </a:lnTo>
                            <a:lnTo>
                              <a:pt x="1391" y="604"/>
                            </a:lnTo>
                            <a:lnTo>
                              <a:pt x="1391" y="603"/>
                            </a:lnTo>
                            <a:lnTo>
                              <a:pt x="1391" y="599"/>
                            </a:lnTo>
                            <a:lnTo>
                              <a:pt x="1389" y="597"/>
                            </a:lnTo>
                            <a:lnTo>
                              <a:pt x="1389" y="593"/>
                            </a:lnTo>
                            <a:lnTo>
                              <a:pt x="1389" y="589"/>
                            </a:lnTo>
                            <a:lnTo>
                              <a:pt x="1389" y="587"/>
                            </a:lnTo>
                            <a:lnTo>
                              <a:pt x="1387" y="585"/>
                            </a:lnTo>
                            <a:lnTo>
                              <a:pt x="1385" y="582"/>
                            </a:lnTo>
                            <a:lnTo>
                              <a:pt x="1385" y="580"/>
                            </a:lnTo>
                            <a:lnTo>
                              <a:pt x="1383" y="578"/>
                            </a:lnTo>
                            <a:lnTo>
                              <a:pt x="1383" y="572"/>
                            </a:lnTo>
                            <a:lnTo>
                              <a:pt x="1381" y="568"/>
                            </a:lnTo>
                            <a:lnTo>
                              <a:pt x="1377" y="563"/>
                            </a:lnTo>
                            <a:lnTo>
                              <a:pt x="1375" y="557"/>
                            </a:lnTo>
                            <a:lnTo>
                              <a:pt x="1373" y="553"/>
                            </a:lnTo>
                            <a:lnTo>
                              <a:pt x="1370" y="547"/>
                            </a:lnTo>
                            <a:lnTo>
                              <a:pt x="1366" y="544"/>
                            </a:lnTo>
                            <a:lnTo>
                              <a:pt x="1364" y="540"/>
                            </a:lnTo>
                            <a:lnTo>
                              <a:pt x="1360" y="536"/>
                            </a:lnTo>
                            <a:lnTo>
                              <a:pt x="1356" y="532"/>
                            </a:lnTo>
                            <a:lnTo>
                              <a:pt x="1353" y="528"/>
                            </a:lnTo>
                            <a:lnTo>
                              <a:pt x="1349" y="525"/>
                            </a:lnTo>
                            <a:lnTo>
                              <a:pt x="1345" y="523"/>
                            </a:lnTo>
                            <a:lnTo>
                              <a:pt x="1339" y="521"/>
                            </a:lnTo>
                            <a:lnTo>
                              <a:pt x="1335" y="517"/>
                            </a:lnTo>
                            <a:lnTo>
                              <a:pt x="1332" y="515"/>
                            </a:lnTo>
                            <a:lnTo>
                              <a:pt x="1326" y="515"/>
                            </a:lnTo>
                            <a:lnTo>
                              <a:pt x="1322" y="513"/>
                            </a:lnTo>
                            <a:lnTo>
                              <a:pt x="1318" y="511"/>
                            </a:lnTo>
                            <a:lnTo>
                              <a:pt x="1316" y="511"/>
                            </a:lnTo>
                            <a:lnTo>
                              <a:pt x="1313" y="511"/>
                            </a:lnTo>
                            <a:lnTo>
                              <a:pt x="1311" y="511"/>
                            </a:lnTo>
                            <a:lnTo>
                              <a:pt x="1309" y="509"/>
                            </a:lnTo>
                            <a:lnTo>
                              <a:pt x="1305" y="509"/>
                            </a:lnTo>
                            <a:lnTo>
                              <a:pt x="1303" y="509"/>
                            </a:lnTo>
                            <a:lnTo>
                              <a:pt x="1301" y="509"/>
                            </a:lnTo>
                            <a:lnTo>
                              <a:pt x="1297" y="509"/>
                            </a:lnTo>
                            <a:lnTo>
                              <a:pt x="1295" y="509"/>
                            </a:lnTo>
                            <a:lnTo>
                              <a:pt x="1292" y="509"/>
                            </a:lnTo>
                            <a:lnTo>
                              <a:pt x="1290" y="509"/>
                            </a:lnTo>
                            <a:lnTo>
                              <a:pt x="1284" y="509"/>
                            </a:lnTo>
                            <a:lnTo>
                              <a:pt x="1280" y="509"/>
                            </a:lnTo>
                            <a:lnTo>
                              <a:pt x="1275" y="509"/>
                            </a:lnTo>
                            <a:lnTo>
                              <a:pt x="1269" y="509"/>
                            </a:lnTo>
                            <a:lnTo>
                              <a:pt x="1265" y="509"/>
                            </a:lnTo>
                            <a:lnTo>
                              <a:pt x="1259" y="509"/>
                            </a:lnTo>
                            <a:lnTo>
                              <a:pt x="1256" y="511"/>
                            </a:lnTo>
                            <a:lnTo>
                              <a:pt x="1252" y="511"/>
                            </a:lnTo>
                            <a:lnTo>
                              <a:pt x="1246" y="515"/>
                            </a:lnTo>
                            <a:lnTo>
                              <a:pt x="1242" y="515"/>
                            </a:lnTo>
                            <a:lnTo>
                              <a:pt x="1238" y="517"/>
                            </a:lnTo>
                            <a:lnTo>
                              <a:pt x="1235" y="521"/>
                            </a:lnTo>
                            <a:lnTo>
                              <a:pt x="1231" y="523"/>
                            </a:lnTo>
                            <a:lnTo>
                              <a:pt x="1229" y="525"/>
                            </a:lnTo>
                            <a:lnTo>
                              <a:pt x="1225" y="527"/>
                            </a:lnTo>
                            <a:lnTo>
                              <a:pt x="1221" y="530"/>
                            </a:lnTo>
                            <a:lnTo>
                              <a:pt x="1219" y="532"/>
                            </a:lnTo>
                            <a:lnTo>
                              <a:pt x="1216" y="538"/>
                            </a:lnTo>
                            <a:lnTo>
                              <a:pt x="1214" y="542"/>
                            </a:lnTo>
                            <a:lnTo>
                              <a:pt x="1212" y="546"/>
                            </a:lnTo>
                            <a:lnTo>
                              <a:pt x="1210" y="549"/>
                            </a:lnTo>
                            <a:lnTo>
                              <a:pt x="1208" y="555"/>
                            </a:lnTo>
                            <a:lnTo>
                              <a:pt x="1208" y="557"/>
                            </a:lnTo>
                            <a:lnTo>
                              <a:pt x="1206" y="559"/>
                            </a:lnTo>
                            <a:lnTo>
                              <a:pt x="1204" y="561"/>
                            </a:lnTo>
                            <a:lnTo>
                              <a:pt x="1204" y="565"/>
                            </a:lnTo>
                            <a:lnTo>
                              <a:pt x="1204" y="566"/>
                            </a:lnTo>
                            <a:lnTo>
                              <a:pt x="1204" y="570"/>
                            </a:lnTo>
                            <a:lnTo>
                              <a:pt x="1204" y="572"/>
                            </a:lnTo>
                            <a:lnTo>
                              <a:pt x="1204" y="576"/>
                            </a:lnTo>
                            <a:lnTo>
                              <a:pt x="1139" y="895"/>
                            </a:lnTo>
                            <a:lnTo>
                              <a:pt x="1136" y="893"/>
                            </a:lnTo>
                            <a:lnTo>
                              <a:pt x="1132" y="892"/>
                            </a:lnTo>
                            <a:lnTo>
                              <a:pt x="1126" y="888"/>
                            </a:lnTo>
                            <a:lnTo>
                              <a:pt x="1122" y="886"/>
                            </a:lnTo>
                            <a:lnTo>
                              <a:pt x="1117" y="884"/>
                            </a:lnTo>
                            <a:lnTo>
                              <a:pt x="1113" y="880"/>
                            </a:lnTo>
                            <a:lnTo>
                              <a:pt x="1107" y="878"/>
                            </a:lnTo>
                            <a:lnTo>
                              <a:pt x="1105" y="876"/>
                            </a:lnTo>
                            <a:lnTo>
                              <a:pt x="1227" y="316"/>
                            </a:lnTo>
                            <a:lnTo>
                              <a:pt x="1227" y="312"/>
                            </a:lnTo>
                            <a:lnTo>
                              <a:pt x="1227" y="308"/>
                            </a:lnTo>
                            <a:lnTo>
                              <a:pt x="1229" y="306"/>
                            </a:lnTo>
                            <a:lnTo>
                              <a:pt x="1229" y="304"/>
                            </a:lnTo>
                            <a:lnTo>
                              <a:pt x="1229" y="300"/>
                            </a:lnTo>
                            <a:lnTo>
                              <a:pt x="1229" y="298"/>
                            </a:lnTo>
                            <a:lnTo>
                              <a:pt x="1229" y="295"/>
                            </a:lnTo>
                            <a:lnTo>
                              <a:pt x="1229" y="293"/>
                            </a:lnTo>
                            <a:lnTo>
                              <a:pt x="1229" y="291"/>
                            </a:lnTo>
                            <a:lnTo>
                              <a:pt x="1229" y="287"/>
                            </a:lnTo>
                            <a:lnTo>
                              <a:pt x="1229" y="285"/>
                            </a:lnTo>
                            <a:lnTo>
                              <a:pt x="1229" y="283"/>
                            </a:lnTo>
                            <a:lnTo>
                              <a:pt x="1229" y="278"/>
                            </a:lnTo>
                            <a:lnTo>
                              <a:pt x="1227" y="272"/>
                            </a:lnTo>
                            <a:lnTo>
                              <a:pt x="1225" y="268"/>
                            </a:lnTo>
                            <a:lnTo>
                              <a:pt x="1225" y="262"/>
                            </a:lnTo>
                            <a:lnTo>
                              <a:pt x="1223" y="257"/>
                            </a:lnTo>
                            <a:lnTo>
                              <a:pt x="1221" y="253"/>
                            </a:lnTo>
                            <a:lnTo>
                              <a:pt x="1219" y="247"/>
                            </a:lnTo>
                            <a:lnTo>
                              <a:pt x="1217" y="243"/>
                            </a:lnTo>
                            <a:lnTo>
                              <a:pt x="1216" y="240"/>
                            </a:lnTo>
                            <a:lnTo>
                              <a:pt x="1214" y="236"/>
                            </a:lnTo>
                            <a:lnTo>
                              <a:pt x="1210" y="232"/>
                            </a:lnTo>
                            <a:lnTo>
                              <a:pt x="1206" y="226"/>
                            </a:lnTo>
                            <a:lnTo>
                              <a:pt x="1202" y="222"/>
                            </a:lnTo>
                            <a:lnTo>
                              <a:pt x="1200" y="219"/>
                            </a:lnTo>
                            <a:lnTo>
                              <a:pt x="1197" y="215"/>
                            </a:lnTo>
                            <a:lnTo>
                              <a:pt x="1193" y="211"/>
                            </a:lnTo>
                            <a:lnTo>
                              <a:pt x="1189" y="207"/>
                            </a:lnTo>
                            <a:lnTo>
                              <a:pt x="1185" y="205"/>
                            </a:lnTo>
                            <a:lnTo>
                              <a:pt x="1179" y="203"/>
                            </a:lnTo>
                            <a:lnTo>
                              <a:pt x="1176" y="200"/>
                            </a:lnTo>
                            <a:lnTo>
                              <a:pt x="1172" y="198"/>
                            </a:lnTo>
                            <a:lnTo>
                              <a:pt x="1166" y="194"/>
                            </a:lnTo>
                            <a:lnTo>
                              <a:pt x="1160" y="192"/>
                            </a:lnTo>
                            <a:lnTo>
                              <a:pt x="1157" y="192"/>
                            </a:lnTo>
                            <a:lnTo>
                              <a:pt x="1151" y="190"/>
                            </a:lnTo>
                            <a:lnTo>
                              <a:pt x="1147" y="190"/>
                            </a:lnTo>
                            <a:lnTo>
                              <a:pt x="1143" y="188"/>
                            </a:lnTo>
                            <a:lnTo>
                              <a:pt x="1141" y="186"/>
                            </a:lnTo>
                            <a:lnTo>
                              <a:pt x="1138" y="186"/>
                            </a:lnTo>
                            <a:lnTo>
                              <a:pt x="1136" y="186"/>
                            </a:lnTo>
                            <a:lnTo>
                              <a:pt x="1134" y="186"/>
                            </a:lnTo>
                            <a:lnTo>
                              <a:pt x="1130" y="186"/>
                            </a:lnTo>
                            <a:lnTo>
                              <a:pt x="1128" y="186"/>
                            </a:lnTo>
                            <a:lnTo>
                              <a:pt x="1124" y="186"/>
                            </a:lnTo>
                            <a:lnTo>
                              <a:pt x="1122" y="186"/>
                            </a:lnTo>
                            <a:lnTo>
                              <a:pt x="1120" y="186"/>
                            </a:lnTo>
                            <a:lnTo>
                              <a:pt x="1117" y="186"/>
                            </a:lnTo>
                            <a:lnTo>
                              <a:pt x="1115" y="186"/>
                            </a:lnTo>
                            <a:lnTo>
                              <a:pt x="1109" y="186"/>
                            </a:lnTo>
                            <a:lnTo>
                              <a:pt x="1105" y="188"/>
                            </a:lnTo>
                            <a:lnTo>
                              <a:pt x="1100" y="188"/>
                            </a:lnTo>
                            <a:lnTo>
                              <a:pt x="1094" y="190"/>
                            </a:lnTo>
                            <a:lnTo>
                              <a:pt x="1090" y="192"/>
                            </a:lnTo>
                            <a:lnTo>
                              <a:pt x="1086" y="192"/>
                            </a:lnTo>
                            <a:lnTo>
                              <a:pt x="1081" y="194"/>
                            </a:lnTo>
                            <a:lnTo>
                              <a:pt x="1077" y="198"/>
                            </a:lnTo>
                            <a:lnTo>
                              <a:pt x="1073" y="200"/>
                            </a:lnTo>
                            <a:lnTo>
                              <a:pt x="1067" y="203"/>
                            </a:lnTo>
                            <a:lnTo>
                              <a:pt x="1063" y="205"/>
                            </a:lnTo>
                            <a:lnTo>
                              <a:pt x="1058" y="207"/>
                            </a:lnTo>
                            <a:lnTo>
                              <a:pt x="1054" y="211"/>
                            </a:lnTo>
                            <a:lnTo>
                              <a:pt x="1050" y="215"/>
                            </a:lnTo>
                            <a:lnTo>
                              <a:pt x="1048" y="219"/>
                            </a:lnTo>
                            <a:lnTo>
                              <a:pt x="1044" y="222"/>
                            </a:lnTo>
                            <a:lnTo>
                              <a:pt x="1041" y="226"/>
                            </a:lnTo>
                            <a:lnTo>
                              <a:pt x="1039" y="232"/>
                            </a:lnTo>
                            <a:lnTo>
                              <a:pt x="1035" y="234"/>
                            </a:lnTo>
                            <a:lnTo>
                              <a:pt x="1033" y="240"/>
                            </a:lnTo>
                            <a:lnTo>
                              <a:pt x="1029" y="243"/>
                            </a:lnTo>
                            <a:lnTo>
                              <a:pt x="1027" y="249"/>
                            </a:lnTo>
                            <a:lnTo>
                              <a:pt x="1025" y="253"/>
                            </a:lnTo>
                            <a:lnTo>
                              <a:pt x="1023" y="259"/>
                            </a:lnTo>
                            <a:lnTo>
                              <a:pt x="1022" y="260"/>
                            </a:lnTo>
                            <a:lnTo>
                              <a:pt x="1022" y="264"/>
                            </a:lnTo>
                            <a:lnTo>
                              <a:pt x="1022" y="266"/>
                            </a:lnTo>
                            <a:lnTo>
                              <a:pt x="1022" y="270"/>
                            </a:lnTo>
                            <a:lnTo>
                              <a:pt x="919" y="730"/>
                            </a:lnTo>
                            <a:lnTo>
                              <a:pt x="915" y="728"/>
                            </a:lnTo>
                            <a:lnTo>
                              <a:pt x="913" y="726"/>
                            </a:lnTo>
                            <a:lnTo>
                              <a:pt x="907" y="724"/>
                            </a:lnTo>
                            <a:lnTo>
                              <a:pt x="905" y="720"/>
                            </a:lnTo>
                            <a:lnTo>
                              <a:pt x="904" y="719"/>
                            </a:lnTo>
                            <a:lnTo>
                              <a:pt x="900" y="717"/>
                            </a:lnTo>
                            <a:lnTo>
                              <a:pt x="896" y="713"/>
                            </a:lnTo>
                            <a:lnTo>
                              <a:pt x="892" y="713"/>
                            </a:lnTo>
                            <a:lnTo>
                              <a:pt x="1022" y="129"/>
                            </a:lnTo>
                            <a:lnTo>
                              <a:pt x="1022" y="125"/>
                            </a:lnTo>
                            <a:lnTo>
                              <a:pt x="1022" y="124"/>
                            </a:lnTo>
                            <a:lnTo>
                              <a:pt x="1022" y="120"/>
                            </a:lnTo>
                            <a:lnTo>
                              <a:pt x="1022" y="118"/>
                            </a:lnTo>
                            <a:lnTo>
                              <a:pt x="1022" y="114"/>
                            </a:lnTo>
                            <a:lnTo>
                              <a:pt x="1022" y="112"/>
                            </a:lnTo>
                            <a:lnTo>
                              <a:pt x="1022" y="110"/>
                            </a:lnTo>
                            <a:lnTo>
                              <a:pt x="1022" y="106"/>
                            </a:lnTo>
                            <a:lnTo>
                              <a:pt x="1022" y="105"/>
                            </a:lnTo>
                            <a:lnTo>
                              <a:pt x="1022" y="103"/>
                            </a:lnTo>
                            <a:lnTo>
                              <a:pt x="1022" y="99"/>
                            </a:lnTo>
                            <a:lnTo>
                              <a:pt x="1022" y="97"/>
                            </a:lnTo>
                            <a:lnTo>
                              <a:pt x="1022" y="91"/>
                            </a:lnTo>
                            <a:lnTo>
                              <a:pt x="1022" y="86"/>
                            </a:lnTo>
                            <a:lnTo>
                              <a:pt x="1020" y="82"/>
                            </a:lnTo>
                            <a:lnTo>
                              <a:pt x="1018" y="76"/>
                            </a:lnTo>
                            <a:lnTo>
                              <a:pt x="1016" y="70"/>
                            </a:lnTo>
                            <a:lnTo>
                              <a:pt x="1014" y="67"/>
                            </a:lnTo>
                            <a:lnTo>
                              <a:pt x="1012" y="61"/>
                            </a:lnTo>
                            <a:lnTo>
                              <a:pt x="1010" y="57"/>
                            </a:lnTo>
                            <a:lnTo>
                              <a:pt x="1008" y="53"/>
                            </a:lnTo>
                            <a:lnTo>
                              <a:pt x="1006" y="48"/>
                            </a:lnTo>
                            <a:lnTo>
                              <a:pt x="1004" y="44"/>
                            </a:lnTo>
                            <a:lnTo>
                              <a:pt x="1001" y="40"/>
                            </a:lnTo>
                            <a:lnTo>
                              <a:pt x="997" y="36"/>
                            </a:lnTo>
                            <a:lnTo>
                              <a:pt x="993" y="32"/>
                            </a:lnTo>
                            <a:lnTo>
                              <a:pt x="991" y="29"/>
                            </a:lnTo>
                            <a:lnTo>
                              <a:pt x="985" y="25"/>
                            </a:lnTo>
                            <a:lnTo>
                              <a:pt x="983" y="23"/>
                            </a:lnTo>
                            <a:lnTo>
                              <a:pt x="978" y="19"/>
                            </a:lnTo>
                            <a:lnTo>
                              <a:pt x="972" y="17"/>
                            </a:lnTo>
                            <a:lnTo>
                              <a:pt x="968" y="13"/>
                            </a:lnTo>
                            <a:lnTo>
                              <a:pt x="964" y="11"/>
                            </a:lnTo>
                            <a:lnTo>
                              <a:pt x="961" y="10"/>
                            </a:lnTo>
                            <a:lnTo>
                              <a:pt x="955" y="6"/>
                            </a:lnTo>
                            <a:lnTo>
                              <a:pt x="949" y="6"/>
                            </a:lnTo>
                            <a:lnTo>
                              <a:pt x="944" y="4"/>
                            </a:lnTo>
                            <a:lnTo>
                              <a:pt x="940" y="4"/>
                            </a:lnTo>
                            <a:lnTo>
                              <a:pt x="936" y="2"/>
                            </a:lnTo>
                            <a:lnTo>
                              <a:pt x="934" y="2"/>
                            </a:lnTo>
                            <a:lnTo>
                              <a:pt x="932" y="0"/>
                            </a:lnTo>
                            <a:lnTo>
                              <a:pt x="928" y="0"/>
                            </a:lnTo>
                            <a:lnTo>
                              <a:pt x="926" y="0"/>
                            </a:lnTo>
                            <a:lnTo>
                              <a:pt x="925" y="0"/>
                            </a:lnTo>
                            <a:lnTo>
                              <a:pt x="921" y="0"/>
                            </a:lnTo>
                            <a:lnTo>
                              <a:pt x="919" y="0"/>
                            </a:lnTo>
                            <a:lnTo>
                              <a:pt x="915" y="0"/>
                            </a:lnTo>
                            <a:lnTo>
                              <a:pt x="913" y="0"/>
                            </a:lnTo>
                            <a:lnTo>
                              <a:pt x="911" y="0"/>
                            </a:lnTo>
                            <a:lnTo>
                              <a:pt x="907" y="0"/>
                            </a:lnTo>
                            <a:lnTo>
                              <a:pt x="904" y="0"/>
                            </a:lnTo>
                            <a:lnTo>
                              <a:pt x="898" y="2"/>
                            </a:lnTo>
                            <a:lnTo>
                              <a:pt x="896" y="2"/>
                            </a:lnTo>
                            <a:lnTo>
                              <a:pt x="892" y="2"/>
                            </a:lnTo>
                            <a:lnTo>
                              <a:pt x="890" y="2"/>
                            </a:lnTo>
                            <a:lnTo>
                              <a:pt x="888" y="4"/>
                            </a:lnTo>
                            <a:lnTo>
                              <a:pt x="881" y="4"/>
                            </a:lnTo>
                            <a:lnTo>
                              <a:pt x="877" y="6"/>
                            </a:lnTo>
                            <a:lnTo>
                              <a:pt x="873" y="10"/>
                            </a:lnTo>
                            <a:lnTo>
                              <a:pt x="867" y="11"/>
                            </a:lnTo>
                            <a:lnTo>
                              <a:pt x="864" y="15"/>
                            </a:lnTo>
                            <a:lnTo>
                              <a:pt x="860" y="17"/>
                            </a:lnTo>
                            <a:lnTo>
                              <a:pt x="854" y="19"/>
                            </a:lnTo>
                            <a:lnTo>
                              <a:pt x="850" y="23"/>
                            </a:lnTo>
                            <a:lnTo>
                              <a:pt x="847" y="25"/>
                            </a:lnTo>
                            <a:lnTo>
                              <a:pt x="843" y="29"/>
                            </a:lnTo>
                            <a:lnTo>
                              <a:pt x="839" y="32"/>
                            </a:lnTo>
                            <a:lnTo>
                              <a:pt x="835" y="36"/>
                            </a:lnTo>
                            <a:lnTo>
                              <a:pt x="833" y="40"/>
                            </a:lnTo>
                            <a:lnTo>
                              <a:pt x="831" y="44"/>
                            </a:lnTo>
                            <a:lnTo>
                              <a:pt x="828" y="48"/>
                            </a:lnTo>
                            <a:lnTo>
                              <a:pt x="824" y="53"/>
                            </a:lnTo>
                            <a:lnTo>
                              <a:pt x="822" y="57"/>
                            </a:lnTo>
                            <a:lnTo>
                              <a:pt x="820" y="61"/>
                            </a:lnTo>
                            <a:lnTo>
                              <a:pt x="818" y="67"/>
                            </a:lnTo>
                            <a:lnTo>
                              <a:pt x="816" y="70"/>
                            </a:lnTo>
                            <a:lnTo>
                              <a:pt x="816" y="74"/>
                            </a:lnTo>
                            <a:lnTo>
                              <a:pt x="814" y="76"/>
                            </a:lnTo>
                            <a:lnTo>
                              <a:pt x="812" y="82"/>
                            </a:lnTo>
                            <a:lnTo>
                              <a:pt x="812" y="84"/>
                            </a:lnTo>
                            <a:lnTo>
                              <a:pt x="687" y="663"/>
                            </a:lnTo>
                            <a:lnTo>
                              <a:pt x="681" y="663"/>
                            </a:lnTo>
                            <a:lnTo>
                              <a:pt x="677" y="663"/>
                            </a:lnTo>
                            <a:lnTo>
                              <a:pt x="673" y="663"/>
                            </a:lnTo>
                            <a:lnTo>
                              <a:pt x="670" y="663"/>
                            </a:lnTo>
                            <a:lnTo>
                              <a:pt x="666" y="663"/>
                            </a:lnTo>
                            <a:lnTo>
                              <a:pt x="660" y="665"/>
                            </a:lnTo>
                            <a:lnTo>
                              <a:pt x="656" y="665"/>
                            </a:lnTo>
                            <a:lnTo>
                              <a:pt x="652" y="667"/>
                            </a:lnTo>
                            <a:lnTo>
                              <a:pt x="753" y="213"/>
                            </a:lnTo>
                            <a:lnTo>
                              <a:pt x="753" y="209"/>
                            </a:lnTo>
                            <a:lnTo>
                              <a:pt x="753" y="207"/>
                            </a:lnTo>
                            <a:lnTo>
                              <a:pt x="753" y="203"/>
                            </a:lnTo>
                            <a:lnTo>
                              <a:pt x="753" y="201"/>
                            </a:lnTo>
                            <a:lnTo>
                              <a:pt x="753" y="198"/>
                            </a:lnTo>
                            <a:lnTo>
                              <a:pt x="753" y="196"/>
                            </a:lnTo>
                            <a:lnTo>
                              <a:pt x="753" y="192"/>
                            </a:lnTo>
                            <a:lnTo>
                              <a:pt x="753" y="190"/>
                            </a:lnTo>
                            <a:lnTo>
                              <a:pt x="753" y="188"/>
                            </a:lnTo>
                            <a:lnTo>
                              <a:pt x="753" y="184"/>
                            </a:lnTo>
                            <a:lnTo>
                              <a:pt x="753" y="182"/>
                            </a:lnTo>
                            <a:lnTo>
                              <a:pt x="753" y="181"/>
                            </a:lnTo>
                            <a:lnTo>
                              <a:pt x="753" y="175"/>
                            </a:lnTo>
                            <a:lnTo>
                              <a:pt x="753" y="169"/>
                            </a:lnTo>
                            <a:lnTo>
                              <a:pt x="751" y="167"/>
                            </a:lnTo>
                            <a:lnTo>
                              <a:pt x="751" y="163"/>
                            </a:lnTo>
                            <a:lnTo>
                              <a:pt x="751" y="162"/>
                            </a:lnTo>
                            <a:lnTo>
                              <a:pt x="750" y="160"/>
                            </a:lnTo>
                            <a:lnTo>
                              <a:pt x="748" y="154"/>
                            </a:lnTo>
                            <a:lnTo>
                              <a:pt x="746" y="148"/>
                            </a:lnTo>
                            <a:lnTo>
                              <a:pt x="744" y="144"/>
                            </a:lnTo>
                            <a:lnTo>
                              <a:pt x="742" y="141"/>
                            </a:lnTo>
                            <a:lnTo>
                              <a:pt x="740" y="135"/>
                            </a:lnTo>
                            <a:lnTo>
                              <a:pt x="738" y="131"/>
                            </a:lnTo>
                            <a:lnTo>
                              <a:pt x="734" y="127"/>
                            </a:lnTo>
                            <a:lnTo>
                              <a:pt x="730" y="124"/>
                            </a:lnTo>
                            <a:lnTo>
                              <a:pt x="727" y="120"/>
                            </a:lnTo>
                            <a:lnTo>
                              <a:pt x="725" y="116"/>
                            </a:lnTo>
                            <a:lnTo>
                              <a:pt x="721" y="112"/>
                            </a:lnTo>
                            <a:lnTo>
                              <a:pt x="717" y="108"/>
                            </a:lnTo>
                            <a:lnTo>
                              <a:pt x="713" y="105"/>
                            </a:lnTo>
                            <a:lnTo>
                              <a:pt x="710" y="103"/>
                            </a:lnTo>
                            <a:lnTo>
                              <a:pt x="704" y="99"/>
                            </a:lnTo>
                            <a:lnTo>
                              <a:pt x="700" y="97"/>
                            </a:lnTo>
                            <a:lnTo>
                              <a:pt x="694" y="95"/>
                            </a:lnTo>
                            <a:lnTo>
                              <a:pt x="691" y="91"/>
                            </a:lnTo>
                            <a:lnTo>
                              <a:pt x="685" y="89"/>
                            </a:lnTo>
                            <a:lnTo>
                              <a:pt x="681" y="87"/>
                            </a:lnTo>
                            <a:lnTo>
                              <a:pt x="675" y="86"/>
                            </a:lnTo>
                            <a:lnTo>
                              <a:pt x="672" y="86"/>
                            </a:lnTo>
                            <a:lnTo>
                              <a:pt x="668" y="84"/>
                            </a:lnTo>
                            <a:lnTo>
                              <a:pt x="666" y="84"/>
                            </a:lnTo>
                            <a:lnTo>
                              <a:pt x="664" y="84"/>
                            </a:lnTo>
                            <a:lnTo>
                              <a:pt x="660" y="84"/>
                            </a:lnTo>
                            <a:lnTo>
                              <a:pt x="658" y="84"/>
                            </a:lnTo>
                            <a:lnTo>
                              <a:pt x="654" y="84"/>
                            </a:lnTo>
                            <a:lnTo>
                              <a:pt x="652" y="84"/>
                            </a:lnTo>
                            <a:lnTo>
                              <a:pt x="651" y="84"/>
                            </a:lnTo>
                            <a:lnTo>
                              <a:pt x="647" y="84"/>
                            </a:lnTo>
                            <a:lnTo>
                              <a:pt x="645" y="84"/>
                            </a:lnTo>
                            <a:lnTo>
                              <a:pt x="643" y="84"/>
                            </a:lnTo>
                            <a:lnTo>
                              <a:pt x="639" y="84"/>
                            </a:lnTo>
                            <a:lnTo>
                              <a:pt x="635" y="84"/>
                            </a:lnTo>
                            <a:lnTo>
                              <a:pt x="630" y="84"/>
                            </a:lnTo>
                            <a:lnTo>
                              <a:pt x="628" y="84"/>
                            </a:lnTo>
                            <a:lnTo>
                              <a:pt x="624" y="86"/>
                            </a:lnTo>
                            <a:lnTo>
                              <a:pt x="622" y="86"/>
                            </a:lnTo>
                            <a:lnTo>
                              <a:pt x="618" y="86"/>
                            </a:lnTo>
                            <a:lnTo>
                              <a:pt x="614" y="87"/>
                            </a:lnTo>
                            <a:lnTo>
                              <a:pt x="609" y="89"/>
                            </a:lnTo>
                            <a:lnTo>
                              <a:pt x="603" y="91"/>
                            </a:lnTo>
                            <a:lnTo>
                              <a:pt x="599" y="95"/>
                            </a:lnTo>
                            <a:lnTo>
                              <a:pt x="595" y="97"/>
                            </a:lnTo>
                            <a:lnTo>
                              <a:pt x="592" y="99"/>
                            </a:lnTo>
                            <a:lnTo>
                              <a:pt x="586" y="103"/>
                            </a:lnTo>
                            <a:lnTo>
                              <a:pt x="582" y="105"/>
                            </a:lnTo>
                            <a:lnTo>
                              <a:pt x="578" y="108"/>
                            </a:lnTo>
                            <a:lnTo>
                              <a:pt x="574" y="112"/>
                            </a:lnTo>
                            <a:lnTo>
                              <a:pt x="571" y="116"/>
                            </a:lnTo>
                            <a:lnTo>
                              <a:pt x="567" y="120"/>
                            </a:lnTo>
                            <a:lnTo>
                              <a:pt x="565" y="124"/>
                            </a:lnTo>
                            <a:lnTo>
                              <a:pt x="563" y="127"/>
                            </a:lnTo>
                            <a:lnTo>
                              <a:pt x="559" y="131"/>
                            </a:lnTo>
                            <a:lnTo>
                              <a:pt x="555" y="135"/>
                            </a:lnTo>
                            <a:lnTo>
                              <a:pt x="554" y="141"/>
                            </a:lnTo>
                            <a:lnTo>
                              <a:pt x="552" y="146"/>
                            </a:lnTo>
                            <a:lnTo>
                              <a:pt x="550" y="150"/>
                            </a:lnTo>
                            <a:lnTo>
                              <a:pt x="548" y="156"/>
                            </a:lnTo>
                            <a:lnTo>
                              <a:pt x="546" y="158"/>
                            </a:lnTo>
                            <a:lnTo>
                              <a:pt x="546" y="160"/>
                            </a:lnTo>
                            <a:lnTo>
                              <a:pt x="544" y="163"/>
                            </a:lnTo>
                            <a:lnTo>
                              <a:pt x="544" y="167"/>
                            </a:lnTo>
                            <a:lnTo>
                              <a:pt x="361" y="1127"/>
                            </a:lnTo>
                            <a:lnTo>
                              <a:pt x="361" y="1127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9360">
                        <a:solidFill>
                          <a:srgbClr val="c0c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63" name="AutoShape 404"/>
                    <p:cNvSpPr/>
                    <p:nvPr/>
                  </p:nvSpPr>
                  <p:spPr>
                    <a:xfrm rot="561600">
                      <a:off x="4740480" y="2871000"/>
                      <a:ext cx="88560" cy="75960"/>
                    </a:xfrm>
                    <a:prstGeom prst="hexagon">
                      <a:avLst>
                        <a:gd name="adj" fmla="val 29147"/>
                        <a:gd name="vf" fmla="val 115470"/>
                      </a:avLst>
                    </a:prstGeom>
                    <a:solidFill>
                      <a:srgbClr val="ff0000"/>
                    </a:solidFill>
                    <a:ln w="9360">
                      <a:solidFill>
                        <a:srgbClr val="b2b2b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80" bIns="1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64" name="AutoShape 405"/>
                <p:cNvSpPr/>
                <p:nvPr/>
              </p:nvSpPr>
              <p:spPr>
                <a:xfrm rot="579000">
                  <a:off x="4745520" y="2532960"/>
                  <a:ext cx="180000" cy="12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0" y="21600"/>
                      </a:lnTo>
                      <a:lnTo>
                        <a:pt x="216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5" name="AutoShape 406"/>
              <p:cNvSpPr/>
              <p:nvPr/>
            </p:nvSpPr>
            <p:spPr>
              <a:xfrm rot="593400">
                <a:off x="4620960" y="3247920"/>
                <a:ext cx="192600" cy="5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308" y="21600"/>
                    </a:lnTo>
                    <a:lnTo>
                      <a:pt x="1729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AutoShape 407"/>
            <p:cNvSpPr/>
            <p:nvPr/>
          </p:nvSpPr>
          <p:spPr>
            <a:xfrm rot="441600">
              <a:off x="4774320" y="2530800"/>
              <a:ext cx="115560" cy="109800"/>
            </a:xfrm>
            <a:custGeom>
              <a:avLst/>
              <a:gdLst/>
              <a:ahLst/>
              <a:rect l="l" t="t" r="r" b="b"/>
              <a:pathLst>
                <a:path w="137" h="130">
                  <a:moveTo>
                    <a:pt x="0" y="49"/>
                  </a:moveTo>
                  <a:lnTo>
                    <a:pt x="52" y="49"/>
                  </a:lnTo>
                  <a:lnTo>
                    <a:pt x="68" y="0"/>
                  </a:lnTo>
                  <a:lnTo>
                    <a:pt x="84" y="49"/>
                  </a:lnTo>
                  <a:lnTo>
                    <a:pt x="136" y="49"/>
                  </a:lnTo>
                  <a:lnTo>
                    <a:pt x="94" y="80"/>
                  </a:lnTo>
                  <a:lnTo>
                    <a:pt x="110" y="129"/>
                  </a:lnTo>
                  <a:lnTo>
                    <a:pt x="68" y="99"/>
                  </a:lnTo>
                  <a:lnTo>
                    <a:pt x="26" y="129"/>
                  </a:lnTo>
                  <a:lnTo>
                    <a:pt x="42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408"/>
          <p:cNvGrpSpPr/>
          <p:nvPr/>
        </p:nvGrpSpPr>
        <p:grpSpPr>
          <a:xfrm>
            <a:off x="2652840" y="-14760"/>
            <a:ext cx="4281120" cy="4863960"/>
            <a:chOff x="2652840" y="-14760"/>
            <a:chExt cx="4281120" cy="4863960"/>
          </a:xfrm>
        </p:grpSpPr>
        <p:sp>
          <p:nvSpPr>
            <p:cNvPr id="568" name="Oval 409"/>
            <p:cNvSpPr/>
            <p:nvPr/>
          </p:nvSpPr>
          <p:spPr>
            <a:xfrm rot="16200000">
              <a:off x="4121640" y="2053800"/>
              <a:ext cx="1326600" cy="426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3137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AutoShape 410"/>
            <p:cNvSpPr/>
            <p:nvPr/>
          </p:nvSpPr>
          <p:spPr>
            <a:xfrm rot="10800000">
              <a:off x="2670120" y="-14760"/>
              <a:ext cx="4263840" cy="4346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702" y="21600"/>
                  </a:lnTo>
                  <a:lnTo>
                    <a:pt x="1289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aeaea">
                    <a:alpha val="71372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Text Box 412"/>
          <p:cNvSpPr/>
          <p:nvPr/>
        </p:nvSpPr>
        <p:spPr>
          <a:xfrm>
            <a:off x="2438280" y="5562720"/>
            <a:ext cx="563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我不懂浪漫，不知道女孩子想要什么。他们叫我铁皮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-1447920" y="5486400"/>
            <a:ext cx="304920" cy="609480"/>
            <a:chOff x="-1447920" y="5486400"/>
            <a:chExt cx="304920" cy="609480"/>
          </a:xfrm>
        </p:grpSpPr>
        <p:sp>
          <p:nvSpPr>
            <p:cNvPr id="572" name="Line 413"/>
            <p:cNvSpPr/>
            <p:nvPr/>
          </p:nvSpPr>
          <p:spPr>
            <a:xfrm>
              <a:off x="-1447920" y="5486400"/>
              <a:ext cx="304920" cy="609480"/>
            </a:xfrm>
            <a:prstGeom prst="line">
              <a:avLst/>
            </a:prstGeom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 txBox="1"/>
            <p:nvPr/>
          </p:nvSpPr>
          <p:spPr>
            <a:xfrm>
              <a:off x="-1447920" y="5486400"/>
              <a:ext cx="30492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10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0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0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110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5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65"/>
          <p:cNvSpPr/>
          <p:nvPr/>
        </p:nvSpPr>
        <p:spPr>
          <a:xfrm>
            <a:off x="1295280" y="556272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我现在的工作是伐木工。我想为以后的老婆建一座木屋。不过，可能要等很久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281"/>
          <p:cNvGrpSpPr/>
          <p:nvPr/>
        </p:nvGrpSpPr>
        <p:grpSpPr>
          <a:xfrm>
            <a:off x="6019920" y="3386160"/>
            <a:ext cx="509760" cy="603000"/>
            <a:chOff x="6019920" y="3386160"/>
            <a:chExt cx="509760" cy="603000"/>
          </a:xfrm>
        </p:grpSpPr>
        <p:pic>
          <p:nvPicPr>
            <p:cNvPr id="576" name="Picture 282" descr="3"/>
            <p:cNvPicPr/>
            <p:nvPr/>
          </p:nvPicPr>
          <p:blipFill>
            <a:blip r:embed="rId1"/>
            <a:stretch/>
          </p:blipFill>
          <p:spPr>
            <a:xfrm rot="4578000">
              <a:off x="6047280" y="3693240"/>
              <a:ext cx="268200" cy="26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Rectangle 283"/>
            <p:cNvSpPr/>
            <p:nvPr/>
          </p:nvSpPr>
          <p:spPr>
            <a:xfrm rot="4578000">
              <a:off x="6224040" y="3406320"/>
              <a:ext cx="26820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Group 284"/>
          <p:cNvGrpSpPr/>
          <p:nvPr/>
        </p:nvGrpSpPr>
        <p:grpSpPr>
          <a:xfrm>
            <a:off x="6154200" y="3531960"/>
            <a:ext cx="304200" cy="568440"/>
            <a:chOff x="6154200" y="3531960"/>
            <a:chExt cx="304200" cy="568440"/>
          </a:xfrm>
        </p:grpSpPr>
        <p:pic>
          <p:nvPicPr>
            <p:cNvPr id="579" name="Picture 285" descr="4"/>
            <p:cNvPicPr/>
            <p:nvPr/>
          </p:nvPicPr>
          <p:blipFill>
            <a:blip r:embed="rId2"/>
            <a:stretch/>
          </p:blipFill>
          <p:spPr>
            <a:xfrm rot="357000">
              <a:off x="6167160" y="3819960"/>
              <a:ext cx="245160" cy="2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Rectangle 286"/>
            <p:cNvSpPr/>
            <p:nvPr/>
          </p:nvSpPr>
          <p:spPr>
            <a:xfrm rot="357000">
              <a:off x="6195600" y="3543840"/>
              <a:ext cx="2494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1" name="Picture 287" descr="1"/>
          <p:cNvPicPr/>
          <p:nvPr/>
        </p:nvPicPr>
        <p:blipFill>
          <a:blip r:embed="rId3"/>
          <a:stretch/>
        </p:blipFill>
        <p:spPr>
          <a:xfrm>
            <a:off x="6040440" y="3276720"/>
            <a:ext cx="431640" cy="680760"/>
          </a:xfrm>
          <a:prstGeom prst="rect">
            <a:avLst/>
          </a:prstGeom>
          <a:ln w="0">
            <a:noFill/>
          </a:ln>
        </p:spPr>
      </p:pic>
      <p:grpSp>
        <p:nvGrpSpPr>
          <p:cNvPr id="582" name="Group 288"/>
          <p:cNvGrpSpPr/>
          <p:nvPr/>
        </p:nvGrpSpPr>
        <p:grpSpPr>
          <a:xfrm>
            <a:off x="6061680" y="3552120"/>
            <a:ext cx="532080" cy="578160"/>
            <a:chOff x="6061680" y="3552120"/>
            <a:chExt cx="532080" cy="578160"/>
          </a:xfrm>
        </p:grpSpPr>
        <p:pic>
          <p:nvPicPr>
            <p:cNvPr id="583" name="Picture 289" descr="4"/>
            <p:cNvPicPr/>
            <p:nvPr/>
          </p:nvPicPr>
          <p:blipFill>
            <a:blip r:embed="rId4"/>
            <a:stretch/>
          </p:blipFill>
          <p:spPr>
            <a:xfrm rot="2301000">
              <a:off x="6118200" y="3816000"/>
              <a:ext cx="243360" cy="26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Rectangle 290"/>
            <p:cNvSpPr/>
            <p:nvPr/>
          </p:nvSpPr>
          <p:spPr>
            <a:xfrm rot="2301600">
              <a:off x="6289560" y="3600000"/>
              <a:ext cx="24768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Group 291"/>
          <p:cNvGrpSpPr/>
          <p:nvPr/>
        </p:nvGrpSpPr>
        <p:grpSpPr>
          <a:xfrm>
            <a:off x="6039720" y="3394440"/>
            <a:ext cx="490680" cy="608760"/>
            <a:chOff x="6039720" y="3394440"/>
            <a:chExt cx="490680" cy="608760"/>
          </a:xfrm>
        </p:grpSpPr>
        <p:pic>
          <p:nvPicPr>
            <p:cNvPr id="586" name="Picture 292" descr="3"/>
            <p:cNvPicPr/>
            <p:nvPr/>
          </p:nvPicPr>
          <p:blipFill>
            <a:blip r:embed="rId5"/>
            <a:stretch/>
          </p:blipFill>
          <p:spPr>
            <a:xfrm rot="746400">
              <a:off x="6237000" y="3709800"/>
              <a:ext cx="267480" cy="26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Rectangle 293"/>
            <p:cNvSpPr/>
            <p:nvPr/>
          </p:nvSpPr>
          <p:spPr>
            <a:xfrm rot="746400">
              <a:off x="6067440" y="3419640"/>
              <a:ext cx="26748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Group 297"/>
          <p:cNvGrpSpPr/>
          <p:nvPr/>
        </p:nvGrpSpPr>
        <p:grpSpPr>
          <a:xfrm>
            <a:off x="4190760" y="1164600"/>
            <a:ext cx="1167480" cy="2229840"/>
            <a:chOff x="4190760" y="1164600"/>
            <a:chExt cx="1167480" cy="2229840"/>
          </a:xfrm>
        </p:grpSpPr>
        <p:grpSp>
          <p:nvGrpSpPr>
            <p:cNvPr id="589" name="Group 298"/>
            <p:cNvGrpSpPr/>
            <p:nvPr/>
          </p:nvGrpSpPr>
          <p:grpSpPr>
            <a:xfrm>
              <a:off x="4190760" y="1164600"/>
              <a:ext cx="1167480" cy="2229840"/>
              <a:chOff x="4190760" y="1164600"/>
              <a:chExt cx="1167480" cy="2229840"/>
            </a:xfrm>
          </p:grpSpPr>
          <p:grpSp>
            <p:nvGrpSpPr>
              <p:cNvPr id="590" name="Group 299"/>
              <p:cNvGrpSpPr/>
              <p:nvPr/>
            </p:nvGrpSpPr>
            <p:grpSpPr>
              <a:xfrm>
                <a:off x="4190760" y="1441800"/>
                <a:ext cx="697680" cy="1202760"/>
                <a:chOff x="4190760" y="1441800"/>
                <a:chExt cx="697680" cy="1202760"/>
              </a:xfrm>
            </p:grpSpPr>
            <p:grpSp>
              <p:nvGrpSpPr>
                <p:cNvPr id="591" name="Group 300"/>
                <p:cNvGrpSpPr/>
                <p:nvPr/>
              </p:nvGrpSpPr>
              <p:grpSpPr>
                <a:xfrm>
                  <a:off x="4464720" y="2008080"/>
                  <a:ext cx="423720" cy="636480"/>
                  <a:chOff x="4464720" y="2008080"/>
                  <a:chExt cx="423720" cy="636480"/>
                </a:xfrm>
              </p:grpSpPr>
              <p:sp>
                <p:nvSpPr>
                  <p:cNvPr id="592" name="AutoShape 301"/>
                  <p:cNvSpPr/>
                  <p:nvPr/>
                </p:nvSpPr>
                <p:spPr>
                  <a:xfrm rot="9411600">
                    <a:off x="4554000" y="2023200"/>
                    <a:ext cx="179640" cy="49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1556" y="21600"/>
                        </a:lnTo>
                        <a:lnTo>
                          <a:pt x="20044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AutoShape 302"/>
                  <p:cNvSpPr/>
                  <p:nvPr/>
                </p:nvSpPr>
                <p:spPr>
                  <a:xfrm rot="14989800">
                    <a:off x="4647960" y="2395440"/>
                    <a:ext cx="1918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934" y="2201"/>
                          <a:pt x="12267" y="5080"/>
                          <a:pt x="12267" y="10800"/>
                        </a:cubicBezTo>
                        <a:cubicBezTo>
                          <a:pt x="12267" y="16520"/>
                          <a:pt x="16934" y="19399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4" name="Group 303"/>
                <p:cNvGrpSpPr/>
                <p:nvPr/>
              </p:nvGrpSpPr>
              <p:grpSpPr>
                <a:xfrm>
                  <a:off x="4190760" y="1441800"/>
                  <a:ext cx="472320" cy="719280"/>
                  <a:chOff x="4190760" y="1441800"/>
                  <a:chExt cx="472320" cy="719280"/>
                </a:xfrm>
              </p:grpSpPr>
              <p:sp>
                <p:nvSpPr>
                  <p:cNvPr id="595" name="AutoShape 304"/>
                  <p:cNvSpPr/>
                  <p:nvPr/>
                </p:nvSpPr>
                <p:spPr>
                  <a:xfrm rot="9426600">
                    <a:off x="4378320" y="1676160"/>
                    <a:ext cx="180360" cy="36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4308" y="21600"/>
                        </a:lnTo>
                        <a:lnTo>
                          <a:pt x="17292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Oval 305"/>
                  <p:cNvSpPr/>
                  <p:nvPr/>
                </p:nvSpPr>
                <p:spPr>
                  <a:xfrm rot="9965400">
                    <a:off x="4455720" y="1950840"/>
                    <a:ext cx="187200" cy="19044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Freeform 306"/>
                  <p:cNvSpPr/>
                  <p:nvPr/>
                </p:nvSpPr>
                <p:spPr>
                  <a:xfrm rot="19460400">
                    <a:off x="4258080" y="1465560"/>
                    <a:ext cx="175680" cy="28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02" h="2302">
                        <a:moveTo>
                          <a:pt x="361" y="1127"/>
                        </a:moveTo>
                        <a:lnTo>
                          <a:pt x="280" y="1116"/>
                        </a:lnTo>
                        <a:lnTo>
                          <a:pt x="373" y="711"/>
                        </a:lnTo>
                        <a:lnTo>
                          <a:pt x="373" y="709"/>
                        </a:lnTo>
                        <a:lnTo>
                          <a:pt x="375" y="705"/>
                        </a:lnTo>
                        <a:lnTo>
                          <a:pt x="375" y="703"/>
                        </a:lnTo>
                        <a:lnTo>
                          <a:pt x="375" y="700"/>
                        </a:lnTo>
                        <a:lnTo>
                          <a:pt x="375" y="698"/>
                        </a:lnTo>
                        <a:lnTo>
                          <a:pt x="375" y="696"/>
                        </a:lnTo>
                        <a:lnTo>
                          <a:pt x="375" y="692"/>
                        </a:lnTo>
                        <a:lnTo>
                          <a:pt x="375" y="690"/>
                        </a:lnTo>
                        <a:lnTo>
                          <a:pt x="375" y="684"/>
                        </a:lnTo>
                        <a:lnTo>
                          <a:pt x="375" y="681"/>
                        </a:lnTo>
                        <a:lnTo>
                          <a:pt x="375" y="675"/>
                        </a:lnTo>
                        <a:lnTo>
                          <a:pt x="375" y="669"/>
                        </a:lnTo>
                        <a:lnTo>
                          <a:pt x="371" y="665"/>
                        </a:lnTo>
                        <a:lnTo>
                          <a:pt x="371" y="660"/>
                        </a:lnTo>
                        <a:lnTo>
                          <a:pt x="369" y="654"/>
                        </a:lnTo>
                        <a:lnTo>
                          <a:pt x="367" y="652"/>
                        </a:lnTo>
                        <a:lnTo>
                          <a:pt x="365" y="646"/>
                        </a:lnTo>
                        <a:lnTo>
                          <a:pt x="363" y="641"/>
                        </a:lnTo>
                        <a:lnTo>
                          <a:pt x="361" y="637"/>
                        </a:lnTo>
                        <a:lnTo>
                          <a:pt x="358" y="633"/>
                        </a:lnTo>
                        <a:lnTo>
                          <a:pt x="356" y="629"/>
                        </a:lnTo>
                        <a:lnTo>
                          <a:pt x="354" y="623"/>
                        </a:lnTo>
                        <a:lnTo>
                          <a:pt x="350" y="620"/>
                        </a:lnTo>
                        <a:lnTo>
                          <a:pt x="346" y="616"/>
                        </a:lnTo>
                        <a:lnTo>
                          <a:pt x="342" y="612"/>
                        </a:lnTo>
                        <a:lnTo>
                          <a:pt x="339" y="610"/>
                        </a:lnTo>
                        <a:lnTo>
                          <a:pt x="335" y="606"/>
                        </a:lnTo>
                        <a:lnTo>
                          <a:pt x="331" y="603"/>
                        </a:lnTo>
                        <a:lnTo>
                          <a:pt x="325" y="601"/>
                        </a:lnTo>
                        <a:lnTo>
                          <a:pt x="321" y="597"/>
                        </a:lnTo>
                        <a:lnTo>
                          <a:pt x="318" y="595"/>
                        </a:lnTo>
                        <a:lnTo>
                          <a:pt x="312" y="593"/>
                        </a:lnTo>
                        <a:lnTo>
                          <a:pt x="306" y="591"/>
                        </a:lnTo>
                        <a:lnTo>
                          <a:pt x="302" y="589"/>
                        </a:lnTo>
                        <a:lnTo>
                          <a:pt x="299" y="589"/>
                        </a:lnTo>
                        <a:lnTo>
                          <a:pt x="295" y="587"/>
                        </a:lnTo>
                        <a:lnTo>
                          <a:pt x="291" y="587"/>
                        </a:lnTo>
                        <a:lnTo>
                          <a:pt x="287" y="585"/>
                        </a:lnTo>
                        <a:lnTo>
                          <a:pt x="285" y="585"/>
                        </a:lnTo>
                        <a:lnTo>
                          <a:pt x="283" y="585"/>
                        </a:lnTo>
                        <a:lnTo>
                          <a:pt x="280" y="585"/>
                        </a:lnTo>
                        <a:lnTo>
                          <a:pt x="276" y="585"/>
                        </a:lnTo>
                        <a:lnTo>
                          <a:pt x="274" y="585"/>
                        </a:lnTo>
                        <a:lnTo>
                          <a:pt x="272" y="585"/>
                        </a:lnTo>
                        <a:lnTo>
                          <a:pt x="268" y="585"/>
                        </a:lnTo>
                        <a:lnTo>
                          <a:pt x="266" y="585"/>
                        </a:lnTo>
                        <a:lnTo>
                          <a:pt x="263" y="585"/>
                        </a:lnTo>
                        <a:lnTo>
                          <a:pt x="261" y="587"/>
                        </a:lnTo>
                        <a:lnTo>
                          <a:pt x="259" y="587"/>
                        </a:lnTo>
                        <a:lnTo>
                          <a:pt x="255" y="587"/>
                        </a:lnTo>
                        <a:lnTo>
                          <a:pt x="253" y="589"/>
                        </a:lnTo>
                        <a:lnTo>
                          <a:pt x="249" y="589"/>
                        </a:lnTo>
                        <a:lnTo>
                          <a:pt x="247" y="589"/>
                        </a:lnTo>
                        <a:lnTo>
                          <a:pt x="243" y="591"/>
                        </a:lnTo>
                        <a:lnTo>
                          <a:pt x="240" y="591"/>
                        </a:lnTo>
                        <a:lnTo>
                          <a:pt x="238" y="593"/>
                        </a:lnTo>
                        <a:lnTo>
                          <a:pt x="236" y="595"/>
                        </a:lnTo>
                        <a:lnTo>
                          <a:pt x="232" y="595"/>
                        </a:lnTo>
                        <a:lnTo>
                          <a:pt x="230" y="597"/>
                        </a:lnTo>
                        <a:lnTo>
                          <a:pt x="228" y="599"/>
                        </a:lnTo>
                        <a:lnTo>
                          <a:pt x="224" y="601"/>
                        </a:lnTo>
                        <a:lnTo>
                          <a:pt x="223" y="601"/>
                        </a:lnTo>
                        <a:lnTo>
                          <a:pt x="219" y="603"/>
                        </a:lnTo>
                        <a:lnTo>
                          <a:pt x="217" y="604"/>
                        </a:lnTo>
                        <a:lnTo>
                          <a:pt x="211" y="608"/>
                        </a:lnTo>
                        <a:lnTo>
                          <a:pt x="207" y="612"/>
                        </a:lnTo>
                        <a:lnTo>
                          <a:pt x="204" y="616"/>
                        </a:lnTo>
                        <a:lnTo>
                          <a:pt x="198" y="618"/>
                        </a:lnTo>
                        <a:lnTo>
                          <a:pt x="194" y="623"/>
                        </a:lnTo>
                        <a:lnTo>
                          <a:pt x="188" y="627"/>
                        </a:lnTo>
                        <a:lnTo>
                          <a:pt x="185" y="633"/>
                        </a:lnTo>
                        <a:lnTo>
                          <a:pt x="181" y="637"/>
                        </a:lnTo>
                        <a:lnTo>
                          <a:pt x="177" y="641"/>
                        </a:lnTo>
                        <a:lnTo>
                          <a:pt x="173" y="646"/>
                        </a:lnTo>
                        <a:lnTo>
                          <a:pt x="169" y="652"/>
                        </a:lnTo>
                        <a:lnTo>
                          <a:pt x="166" y="656"/>
                        </a:lnTo>
                        <a:lnTo>
                          <a:pt x="162" y="662"/>
                        </a:lnTo>
                        <a:lnTo>
                          <a:pt x="160" y="665"/>
                        </a:lnTo>
                        <a:lnTo>
                          <a:pt x="158" y="669"/>
                        </a:lnTo>
                        <a:lnTo>
                          <a:pt x="158" y="671"/>
                        </a:lnTo>
                        <a:lnTo>
                          <a:pt x="156" y="673"/>
                        </a:lnTo>
                        <a:lnTo>
                          <a:pt x="154" y="677"/>
                        </a:lnTo>
                        <a:lnTo>
                          <a:pt x="152" y="679"/>
                        </a:lnTo>
                        <a:lnTo>
                          <a:pt x="152" y="681"/>
                        </a:lnTo>
                        <a:lnTo>
                          <a:pt x="150" y="684"/>
                        </a:lnTo>
                        <a:lnTo>
                          <a:pt x="150" y="688"/>
                        </a:lnTo>
                        <a:lnTo>
                          <a:pt x="146" y="694"/>
                        </a:lnTo>
                        <a:lnTo>
                          <a:pt x="145" y="701"/>
                        </a:lnTo>
                        <a:lnTo>
                          <a:pt x="143" y="709"/>
                        </a:lnTo>
                        <a:lnTo>
                          <a:pt x="139" y="717"/>
                        </a:lnTo>
                        <a:lnTo>
                          <a:pt x="137" y="724"/>
                        </a:lnTo>
                        <a:lnTo>
                          <a:pt x="135" y="732"/>
                        </a:lnTo>
                        <a:lnTo>
                          <a:pt x="131" y="739"/>
                        </a:lnTo>
                        <a:lnTo>
                          <a:pt x="129" y="747"/>
                        </a:lnTo>
                        <a:lnTo>
                          <a:pt x="126" y="755"/>
                        </a:lnTo>
                        <a:lnTo>
                          <a:pt x="124" y="760"/>
                        </a:lnTo>
                        <a:lnTo>
                          <a:pt x="122" y="768"/>
                        </a:lnTo>
                        <a:lnTo>
                          <a:pt x="120" y="776"/>
                        </a:lnTo>
                        <a:lnTo>
                          <a:pt x="116" y="781"/>
                        </a:lnTo>
                        <a:lnTo>
                          <a:pt x="114" y="789"/>
                        </a:lnTo>
                        <a:lnTo>
                          <a:pt x="112" y="796"/>
                        </a:lnTo>
                        <a:lnTo>
                          <a:pt x="110" y="804"/>
                        </a:lnTo>
                        <a:lnTo>
                          <a:pt x="107" y="812"/>
                        </a:lnTo>
                        <a:lnTo>
                          <a:pt x="107" y="817"/>
                        </a:lnTo>
                        <a:lnTo>
                          <a:pt x="103" y="823"/>
                        </a:lnTo>
                        <a:lnTo>
                          <a:pt x="101" y="831"/>
                        </a:lnTo>
                        <a:lnTo>
                          <a:pt x="97" y="836"/>
                        </a:lnTo>
                        <a:lnTo>
                          <a:pt x="97" y="844"/>
                        </a:lnTo>
                        <a:lnTo>
                          <a:pt x="93" y="852"/>
                        </a:lnTo>
                        <a:lnTo>
                          <a:pt x="93" y="857"/>
                        </a:lnTo>
                        <a:lnTo>
                          <a:pt x="89" y="865"/>
                        </a:lnTo>
                        <a:lnTo>
                          <a:pt x="88" y="871"/>
                        </a:lnTo>
                        <a:lnTo>
                          <a:pt x="86" y="878"/>
                        </a:lnTo>
                        <a:lnTo>
                          <a:pt x="84" y="884"/>
                        </a:lnTo>
                        <a:lnTo>
                          <a:pt x="82" y="892"/>
                        </a:lnTo>
                        <a:lnTo>
                          <a:pt x="80" y="899"/>
                        </a:lnTo>
                        <a:lnTo>
                          <a:pt x="78" y="907"/>
                        </a:lnTo>
                        <a:lnTo>
                          <a:pt x="74" y="912"/>
                        </a:lnTo>
                        <a:lnTo>
                          <a:pt x="72" y="920"/>
                        </a:lnTo>
                        <a:lnTo>
                          <a:pt x="72" y="926"/>
                        </a:lnTo>
                        <a:lnTo>
                          <a:pt x="68" y="931"/>
                        </a:lnTo>
                        <a:lnTo>
                          <a:pt x="67" y="939"/>
                        </a:lnTo>
                        <a:lnTo>
                          <a:pt x="65" y="945"/>
                        </a:lnTo>
                        <a:lnTo>
                          <a:pt x="63" y="952"/>
                        </a:lnTo>
                        <a:lnTo>
                          <a:pt x="59" y="958"/>
                        </a:lnTo>
                        <a:lnTo>
                          <a:pt x="57" y="966"/>
                        </a:lnTo>
                        <a:lnTo>
                          <a:pt x="55" y="971"/>
                        </a:lnTo>
                        <a:lnTo>
                          <a:pt x="53" y="979"/>
                        </a:lnTo>
                        <a:lnTo>
                          <a:pt x="51" y="987"/>
                        </a:lnTo>
                        <a:lnTo>
                          <a:pt x="49" y="994"/>
                        </a:lnTo>
                        <a:lnTo>
                          <a:pt x="48" y="1000"/>
                        </a:lnTo>
                        <a:lnTo>
                          <a:pt x="46" y="1007"/>
                        </a:lnTo>
                        <a:lnTo>
                          <a:pt x="44" y="1015"/>
                        </a:lnTo>
                        <a:lnTo>
                          <a:pt x="42" y="1021"/>
                        </a:lnTo>
                        <a:lnTo>
                          <a:pt x="42" y="1028"/>
                        </a:lnTo>
                        <a:lnTo>
                          <a:pt x="38" y="1036"/>
                        </a:lnTo>
                        <a:lnTo>
                          <a:pt x="36" y="1042"/>
                        </a:lnTo>
                        <a:lnTo>
                          <a:pt x="36" y="1049"/>
                        </a:lnTo>
                        <a:lnTo>
                          <a:pt x="34" y="1057"/>
                        </a:lnTo>
                        <a:lnTo>
                          <a:pt x="30" y="1063"/>
                        </a:lnTo>
                        <a:lnTo>
                          <a:pt x="30" y="1070"/>
                        </a:lnTo>
                        <a:lnTo>
                          <a:pt x="29" y="1078"/>
                        </a:lnTo>
                        <a:lnTo>
                          <a:pt x="27" y="1085"/>
                        </a:lnTo>
                        <a:lnTo>
                          <a:pt x="25" y="1093"/>
                        </a:lnTo>
                        <a:lnTo>
                          <a:pt x="23" y="1101"/>
                        </a:lnTo>
                        <a:lnTo>
                          <a:pt x="21" y="1108"/>
                        </a:lnTo>
                        <a:lnTo>
                          <a:pt x="19" y="1116"/>
                        </a:lnTo>
                        <a:lnTo>
                          <a:pt x="17" y="1123"/>
                        </a:lnTo>
                        <a:lnTo>
                          <a:pt x="17" y="1131"/>
                        </a:lnTo>
                        <a:lnTo>
                          <a:pt x="15" y="1139"/>
                        </a:lnTo>
                        <a:lnTo>
                          <a:pt x="13" y="1148"/>
                        </a:lnTo>
                        <a:lnTo>
                          <a:pt x="10" y="1158"/>
                        </a:lnTo>
                        <a:lnTo>
                          <a:pt x="10" y="1165"/>
                        </a:lnTo>
                        <a:lnTo>
                          <a:pt x="8" y="1175"/>
                        </a:lnTo>
                        <a:lnTo>
                          <a:pt x="6" y="1182"/>
                        </a:lnTo>
                        <a:lnTo>
                          <a:pt x="6" y="1192"/>
                        </a:lnTo>
                        <a:lnTo>
                          <a:pt x="4" y="1201"/>
                        </a:lnTo>
                        <a:lnTo>
                          <a:pt x="2" y="1211"/>
                        </a:lnTo>
                        <a:lnTo>
                          <a:pt x="2" y="1218"/>
                        </a:lnTo>
                        <a:lnTo>
                          <a:pt x="0" y="1230"/>
                        </a:lnTo>
                        <a:lnTo>
                          <a:pt x="0" y="1237"/>
                        </a:lnTo>
                        <a:lnTo>
                          <a:pt x="0" y="1247"/>
                        </a:lnTo>
                        <a:lnTo>
                          <a:pt x="0" y="1257"/>
                        </a:lnTo>
                        <a:lnTo>
                          <a:pt x="0" y="1268"/>
                        </a:lnTo>
                        <a:lnTo>
                          <a:pt x="0" y="1276"/>
                        </a:lnTo>
                        <a:lnTo>
                          <a:pt x="0" y="1285"/>
                        </a:lnTo>
                        <a:lnTo>
                          <a:pt x="0" y="1296"/>
                        </a:lnTo>
                        <a:lnTo>
                          <a:pt x="0" y="1304"/>
                        </a:lnTo>
                        <a:lnTo>
                          <a:pt x="0" y="1314"/>
                        </a:lnTo>
                        <a:lnTo>
                          <a:pt x="0" y="1323"/>
                        </a:lnTo>
                        <a:lnTo>
                          <a:pt x="0" y="1333"/>
                        </a:lnTo>
                        <a:lnTo>
                          <a:pt x="2" y="1342"/>
                        </a:lnTo>
                        <a:lnTo>
                          <a:pt x="2" y="1352"/>
                        </a:lnTo>
                        <a:lnTo>
                          <a:pt x="4" y="1363"/>
                        </a:lnTo>
                        <a:lnTo>
                          <a:pt x="4" y="1371"/>
                        </a:lnTo>
                        <a:lnTo>
                          <a:pt x="6" y="1382"/>
                        </a:lnTo>
                        <a:lnTo>
                          <a:pt x="8" y="1390"/>
                        </a:lnTo>
                        <a:lnTo>
                          <a:pt x="8" y="1401"/>
                        </a:lnTo>
                        <a:lnTo>
                          <a:pt x="10" y="1409"/>
                        </a:lnTo>
                        <a:lnTo>
                          <a:pt x="11" y="1420"/>
                        </a:lnTo>
                        <a:lnTo>
                          <a:pt x="13" y="1429"/>
                        </a:lnTo>
                        <a:lnTo>
                          <a:pt x="15" y="1439"/>
                        </a:lnTo>
                        <a:lnTo>
                          <a:pt x="17" y="1448"/>
                        </a:lnTo>
                        <a:lnTo>
                          <a:pt x="19" y="1458"/>
                        </a:lnTo>
                        <a:lnTo>
                          <a:pt x="21" y="1468"/>
                        </a:lnTo>
                        <a:lnTo>
                          <a:pt x="23" y="1477"/>
                        </a:lnTo>
                        <a:lnTo>
                          <a:pt x="27" y="1487"/>
                        </a:lnTo>
                        <a:lnTo>
                          <a:pt x="29" y="1496"/>
                        </a:lnTo>
                        <a:lnTo>
                          <a:pt x="30" y="1506"/>
                        </a:lnTo>
                        <a:lnTo>
                          <a:pt x="34" y="1515"/>
                        </a:lnTo>
                        <a:lnTo>
                          <a:pt x="36" y="1525"/>
                        </a:lnTo>
                        <a:lnTo>
                          <a:pt x="38" y="1534"/>
                        </a:lnTo>
                        <a:lnTo>
                          <a:pt x="42" y="1544"/>
                        </a:lnTo>
                        <a:lnTo>
                          <a:pt x="46" y="1553"/>
                        </a:lnTo>
                        <a:lnTo>
                          <a:pt x="48" y="1561"/>
                        </a:lnTo>
                        <a:lnTo>
                          <a:pt x="51" y="1572"/>
                        </a:lnTo>
                        <a:lnTo>
                          <a:pt x="55" y="1580"/>
                        </a:lnTo>
                        <a:lnTo>
                          <a:pt x="59" y="1589"/>
                        </a:lnTo>
                        <a:lnTo>
                          <a:pt x="63" y="1599"/>
                        </a:lnTo>
                        <a:lnTo>
                          <a:pt x="67" y="1608"/>
                        </a:lnTo>
                        <a:lnTo>
                          <a:pt x="68" y="1616"/>
                        </a:lnTo>
                        <a:lnTo>
                          <a:pt x="74" y="1627"/>
                        </a:lnTo>
                        <a:lnTo>
                          <a:pt x="78" y="1635"/>
                        </a:lnTo>
                        <a:lnTo>
                          <a:pt x="82" y="1644"/>
                        </a:lnTo>
                        <a:lnTo>
                          <a:pt x="86" y="1652"/>
                        </a:lnTo>
                        <a:lnTo>
                          <a:pt x="89" y="1661"/>
                        </a:lnTo>
                        <a:lnTo>
                          <a:pt x="95" y="1669"/>
                        </a:lnTo>
                        <a:lnTo>
                          <a:pt x="99" y="1679"/>
                        </a:lnTo>
                        <a:lnTo>
                          <a:pt x="103" y="1688"/>
                        </a:lnTo>
                        <a:lnTo>
                          <a:pt x="108" y="1696"/>
                        </a:lnTo>
                        <a:lnTo>
                          <a:pt x="114" y="1703"/>
                        </a:lnTo>
                        <a:lnTo>
                          <a:pt x="118" y="1713"/>
                        </a:lnTo>
                        <a:lnTo>
                          <a:pt x="124" y="1722"/>
                        </a:lnTo>
                        <a:lnTo>
                          <a:pt x="127" y="1732"/>
                        </a:lnTo>
                        <a:lnTo>
                          <a:pt x="131" y="1736"/>
                        </a:lnTo>
                        <a:lnTo>
                          <a:pt x="135" y="1739"/>
                        </a:lnTo>
                        <a:lnTo>
                          <a:pt x="135" y="1743"/>
                        </a:lnTo>
                        <a:lnTo>
                          <a:pt x="137" y="1745"/>
                        </a:lnTo>
                        <a:lnTo>
                          <a:pt x="139" y="1747"/>
                        </a:lnTo>
                        <a:lnTo>
                          <a:pt x="141" y="1751"/>
                        </a:lnTo>
                        <a:lnTo>
                          <a:pt x="143" y="1755"/>
                        </a:lnTo>
                        <a:lnTo>
                          <a:pt x="143" y="1756"/>
                        </a:lnTo>
                        <a:lnTo>
                          <a:pt x="145" y="1760"/>
                        </a:lnTo>
                        <a:lnTo>
                          <a:pt x="146" y="1762"/>
                        </a:lnTo>
                        <a:lnTo>
                          <a:pt x="148" y="1766"/>
                        </a:lnTo>
                        <a:lnTo>
                          <a:pt x="150" y="1768"/>
                        </a:lnTo>
                        <a:lnTo>
                          <a:pt x="152" y="1770"/>
                        </a:lnTo>
                        <a:lnTo>
                          <a:pt x="156" y="1774"/>
                        </a:lnTo>
                        <a:lnTo>
                          <a:pt x="158" y="1777"/>
                        </a:lnTo>
                        <a:lnTo>
                          <a:pt x="160" y="1779"/>
                        </a:lnTo>
                        <a:lnTo>
                          <a:pt x="160" y="1783"/>
                        </a:lnTo>
                        <a:lnTo>
                          <a:pt x="162" y="1787"/>
                        </a:lnTo>
                        <a:lnTo>
                          <a:pt x="166" y="1789"/>
                        </a:lnTo>
                        <a:lnTo>
                          <a:pt x="166" y="1791"/>
                        </a:lnTo>
                        <a:lnTo>
                          <a:pt x="167" y="1794"/>
                        </a:lnTo>
                        <a:lnTo>
                          <a:pt x="169" y="1796"/>
                        </a:lnTo>
                        <a:lnTo>
                          <a:pt x="171" y="1800"/>
                        </a:lnTo>
                        <a:lnTo>
                          <a:pt x="173" y="1802"/>
                        </a:lnTo>
                        <a:lnTo>
                          <a:pt x="175" y="1806"/>
                        </a:lnTo>
                        <a:lnTo>
                          <a:pt x="177" y="1808"/>
                        </a:lnTo>
                        <a:lnTo>
                          <a:pt x="179" y="1812"/>
                        </a:lnTo>
                        <a:lnTo>
                          <a:pt x="181" y="1815"/>
                        </a:lnTo>
                        <a:lnTo>
                          <a:pt x="183" y="1817"/>
                        </a:lnTo>
                        <a:lnTo>
                          <a:pt x="185" y="1821"/>
                        </a:lnTo>
                        <a:lnTo>
                          <a:pt x="188" y="1827"/>
                        </a:lnTo>
                        <a:lnTo>
                          <a:pt x="190" y="1831"/>
                        </a:lnTo>
                        <a:lnTo>
                          <a:pt x="194" y="1836"/>
                        </a:lnTo>
                        <a:lnTo>
                          <a:pt x="198" y="1842"/>
                        </a:lnTo>
                        <a:lnTo>
                          <a:pt x="200" y="1846"/>
                        </a:lnTo>
                        <a:lnTo>
                          <a:pt x="204" y="1850"/>
                        </a:lnTo>
                        <a:lnTo>
                          <a:pt x="205" y="1853"/>
                        </a:lnTo>
                        <a:lnTo>
                          <a:pt x="207" y="1859"/>
                        </a:lnTo>
                        <a:lnTo>
                          <a:pt x="209" y="1861"/>
                        </a:lnTo>
                        <a:lnTo>
                          <a:pt x="211" y="1863"/>
                        </a:lnTo>
                        <a:lnTo>
                          <a:pt x="213" y="1867"/>
                        </a:lnTo>
                        <a:lnTo>
                          <a:pt x="215" y="1869"/>
                        </a:lnTo>
                        <a:lnTo>
                          <a:pt x="217" y="1870"/>
                        </a:lnTo>
                        <a:lnTo>
                          <a:pt x="219" y="1874"/>
                        </a:lnTo>
                        <a:lnTo>
                          <a:pt x="141" y="2163"/>
                        </a:lnTo>
                        <a:lnTo>
                          <a:pt x="143" y="2165"/>
                        </a:lnTo>
                        <a:lnTo>
                          <a:pt x="146" y="2165"/>
                        </a:lnTo>
                        <a:lnTo>
                          <a:pt x="150" y="2167"/>
                        </a:lnTo>
                        <a:lnTo>
                          <a:pt x="152" y="2167"/>
                        </a:lnTo>
                        <a:lnTo>
                          <a:pt x="154" y="2167"/>
                        </a:lnTo>
                        <a:lnTo>
                          <a:pt x="158" y="2167"/>
                        </a:lnTo>
                        <a:lnTo>
                          <a:pt x="162" y="2171"/>
                        </a:lnTo>
                        <a:lnTo>
                          <a:pt x="166" y="2171"/>
                        </a:lnTo>
                        <a:lnTo>
                          <a:pt x="167" y="2173"/>
                        </a:lnTo>
                        <a:lnTo>
                          <a:pt x="171" y="2173"/>
                        </a:lnTo>
                        <a:lnTo>
                          <a:pt x="175" y="2175"/>
                        </a:lnTo>
                        <a:lnTo>
                          <a:pt x="181" y="2175"/>
                        </a:lnTo>
                        <a:lnTo>
                          <a:pt x="185" y="2175"/>
                        </a:lnTo>
                        <a:lnTo>
                          <a:pt x="188" y="2177"/>
                        </a:lnTo>
                        <a:lnTo>
                          <a:pt x="194" y="2180"/>
                        </a:lnTo>
                        <a:lnTo>
                          <a:pt x="198" y="2180"/>
                        </a:lnTo>
                        <a:lnTo>
                          <a:pt x="204" y="2182"/>
                        </a:lnTo>
                        <a:lnTo>
                          <a:pt x="209" y="2182"/>
                        </a:lnTo>
                        <a:lnTo>
                          <a:pt x="215" y="2184"/>
                        </a:lnTo>
                        <a:lnTo>
                          <a:pt x="219" y="2186"/>
                        </a:lnTo>
                        <a:lnTo>
                          <a:pt x="224" y="2188"/>
                        </a:lnTo>
                        <a:lnTo>
                          <a:pt x="232" y="2188"/>
                        </a:lnTo>
                        <a:lnTo>
                          <a:pt x="238" y="2190"/>
                        </a:lnTo>
                        <a:lnTo>
                          <a:pt x="243" y="2190"/>
                        </a:lnTo>
                        <a:lnTo>
                          <a:pt x="251" y="2192"/>
                        </a:lnTo>
                        <a:lnTo>
                          <a:pt x="257" y="2194"/>
                        </a:lnTo>
                        <a:lnTo>
                          <a:pt x="264" y="2194"/>
                        </a:lnTo>
                        <a:lnTo>
                          <a:pt x="270" y="2196"/>
                        </a:lnTo>
                        <a:lnTo>
                          <a:pt x="276" y="2196"/>
                        </a:lnTo>
                        <a:lnTo>
                          <a:pt x="283" y="2197"/>
                        </a:lnTo>
                        <a:lnTo>
                          <a:pt x="291" y="2199"/>
                        </a:lnTo>
                        <a:lnTo>
                          <a:pt x="297" y="2199"/>
                        </a:lnTo>
                        <a:lnTo>
                          <a:pt x="304" y="2199"/>
                        </a:lnTo>
                        <a:lnTo>
                          <a:pt x="312" y="2199"/>
                        </a:lnTo>
                        <a:lnTo>
                          <a:pt x="320" y="2201"/>
                        </a:lnTo>
                        <a:lnTo>
                          <a:pt x="325" y="2201"/>
                        </a:lnTo>
                        <a:lnTo>
                          <a:pt x="333" y="2201"/>
                        </a:lnTo>
                        <a:lnTo>
                          <a:pt x="341" y="2201"/>
                        </a:lnTo>
                        <a:lnTo>
                          <a:pt x="348" y="2201"/>
                        </a:lnTo>
                        <a:lnTo>
                          <a:pt x="356" y="2201"/>
                        </a:lnTo>
                        <a:lnTo>
                          <a:pt x="363" y="2201"/>
                        </a:lnTo>
                        <a:lnTo>
                          <a:pt x="371" y="2201"/>
                        </a:lnTo>
                        <a:lnTo>
                          <a:pt x="379" y="2201"/>
                        </a:lnTo>
                        <a:lnTo>
                          <a:pt x="386" y="2201"/>
                        </a:lnTo>
                        <a:lnTo>
                          <a:pt x="394" y="2201"/>
                        </a:lnTo>
                        <a:lnTo>
                          <a:pt x="401" y="2199"/>
                        </a:lnTo>
                        <a:lnTo>
                          <a:pt x="409" y="2199"/>
                        </a:lnTo>
                        <a:lnTo>
                          <a:pt x="415" y="2197"/>
                        </a:lnTo>
                        <a:lnTo>
                          <a:pt x="422" y="2196"/>
                        </a:lnTo>
                        <a:lnTo>
                          <a:pt x="432" y="2196"/>
                        </a:lnTo>
                        <a:lnTo>
                          <a:pt x="439" y="2194"/>
                        </a:lnTo>
                        <a:lnTo>
                          <a:pt x="447" y="2192"/>
                        </a:lnTo>
                        <a:lnTo>
                          <a:pt x="455" y="2190"/>
                        </a:lnTo>
                        <a:lnTo>
                          <a:pt x="462" y="2188"/>
                        </a:lnTo>
                        <a:lnTo>
                          <a:pt x="470" y="2188"/>
                        </a:lnTo>
                        <a:lnTo>
                          <a:pt x="476" y="2184"/>
                        </a:lnTo>
                        <a:lnTo>
                          <a:pt x="483" y="2182"/>
                        </a:lnTo>
                        <a:lnTo>
                          <a:pt x="491" y="2180"/>
                        </a:lnTo>
                        <a:lnTo>
                          <a:pt x="498" y="2175"/>
                        </a:lnTo>
                        <a:lnTo>
                          <a:pt x="504" y="2173"/>
                        </a:lnTo>
                        <a:lnTo>
                          <a:pt x="512" y="2169"/>
                        </a:lnTo>
                        <a:lnTo>
                          <a:pt x="517" y="2165"/>
                        </a:lnTo>
                        <a:lnTo>
                          <a:pt x="525" y="2161"/>
                        </a:lnTo>
                        <a:lnTo>
                          <a:pt x="531" y="2158"/>
                        </a:lnTo>
                        <a:lnTo>
                          <a:pt x="536" y="2154"/>
                        </a:lnTo>
                        <a:lnTo>
                          <a:pt x="542" y="2150"/>
                        </a:lnTo>
                        <a:lnTo>
                          <a:pt x="550" y="2146"/>
                        </a:lnTo>
                        <a:lnTo>
                          <a:pt x="555" y="2142"/>
                        </a:lnTo>
                        <a:lnTo>
                          <a:pt x="559" y="2137"/>
                        </a:lnTo>
                        <a:lnTo>
                          <a:pt x="565" y="2133"/>
                        </a:lnTo>
                        <a:lnTo>
                          <a:pt x="571" y="2129"/>
                        </a:lnTo>
                        <a:lnTo>
                          <a:pt x="576" y="2123"/>
                        </a:lnTo>
                        <a:lnTo>
                          <a:pt x="582" y="2120"/>
                        </a:lnTo>
                        <a:lnTo>
                          <a:pt x="588" y="2114"/>
                        </a:lnTo>
                        <a:lnTo>
                          <a:pt x="592" y="2110"/>
                        </a:lnTo>
                        <a:lnTo>
                          <a:pt x="595" y="2106"/>
                        </a:lnTo>
                        <a:lnTo>
                          <a:pt x="601" y="2101"/>
                        </a:lnTo>
                        <a:lnTo>
                          <a:pt x="605" y="2095"/>
                        </a:lnTo>
                        <a:lnTo>
                          <a:pt x="611" y="2091"/>
                        </a:lnTo>
                        <a:lnTo>
                          <a:pt x="614" y="2085"/>
                        </a:lnTo>
                        <a:lnTo>
                          <a:pt x="618" y="2080"/>
                        </a:lnTo>
                        <a:lnTo>
                          <a:pt x="624" y="2076"/>
                        </a:lnTo>
                        <a:lnTo>
                          <a:pt x="628" y="2070"/>
                        </a:lnTo>
                        <a:lnTo>
                          <a:pt x="632" y="2064"/>
                        </a:lnTo>
                        <a:lnTo>
                          <a:pt x="635" y="2059"/>
                        </a:lnTo>
                        <a:lnTo>
                          <a:pt x="637" y="2055"/>
                        </a:lnTo>
                        <a:lnTo>
                          <a:pt x="643" y="2049"/>
                        </a:lnTo>
                        <a:lnTo>
                          <a:pt x="645" y="2043"/>
                        </a:lnTo>
                        <a:lnTo>
                          <a:pt x="649" y="2040"/>
                        </a:lnTo>
                        <a:lnTo>
                          <a:pt x="652" y="2034"/>
                        </a:lnTo>
                        <a:lnTo>
                          <a:pt x="654" y="2030"/>
                        </a:lnTo>
                        <a:lnTo>
                          <a:pt x="658" y="2024"/>
                        </a:lnTo>
                        <a:lnTo>
                          <a:pt x="660" y="2021"/>
                        </a:lnTo>
                        <a:lnTo>
                          <a:pt x="664" y="2015"/>
                        </a:lnTo>
                        <a:lnTo>
                          <a:pt x="666" y="2011"/>
                        </a:lnTo>
                        <a:lnTo>
                          <a:pt x="668" y="2005"/>
                        </a:lnTo>
                        <a:lnTo>
                          <a:pt x="672" y="2002"/>
                        </a:lnTo>
                        <a:lnTo>
                          <a:pt x="673" y="1998"/>
                        </a:lnTo>
                        <a:lnTo>
                          <a:pt x="675" y="1992"/>
                        </a:lnTo>
                        <a:lnTo>
                          <a:pt x="677" y="1986"/>
                        </a:lnTo>
                        <a:lnTo>
                          <a:pt x="679" y="1983"/>
                        </a:lnTo>
                        <a:lnTo>
                          <a:pt x="681" y="1979"/>
                        </a:lnTo>
                        <a:lnTo>
                          <a:pt x="683" y="1975"/>
                        </a:lnTo>
                        <a:lnTo>
                          <a:pt x="685" y="1971"/>
                        </a:lnTo>
                        <a:lnTo>
                          <a:pt x="687" y="1969"/>
                        </a:lnTo>
                        <a:lnTo>
                          <a:pt x="689" y="1964"/>
                        </a:lnTo>
                        <a:lnTo>
                          <a:pt x="691" y="1962"/>
                        </a:lnTo>
                        <a:lnTo>
                          <a:pt x="692" y="1958"/>
                        </a:lnTo>
                        <a:lnTo>
                          <a:pt x="692" y="1954"/>
                        </a:lnTo>
                        <a:lnTo>
                          <a:pt x="692" y="1952"/>
                        </a:lnTo>
                        <a:lnTo>
                          <a:pt x="694" y="1950"/>
                        </a:lnTo>
                        <a:lnTo>
                          <a:pt x="696" y="1945"/>
                        </a:lnTo>
                        <a:lnTo>
                          <a:pt x="698" y="1941"/>
                        </a:lnTo>
                        <a:lnTo>
                          <a:pt x="700" y="1937"/>
                        </a:lnTo>
                        <a:lnTo>
                          <a:pt x="700" y="1935"/>
                        </a:lnTo>
                        <a:lnTo>
                          <a:pt x="700" y="1933"/>
                        </a:lnTo>
                        <a:lnTo>
                          <a:pt x="702" y="1933"/>
                        </a:lnTo>
                        <a:lnTo>
                          <a:pt x="740" y="1943"/>
                        </a:lnTo>
                        <a:lnTo>
                          <a:pt x="740" y="1943"/>
                        </a:lnTo>
                        <a:lnTo>
                          <a:pt x="738" y="1945"/>
                        </a:lnTo>
                        <a:lnTo>
                          <a:pt x="738" y="1947"/>
                        </a:lnTo>
                        <a:lnTo>
                          <a:pt x="738" y="1950"/>
                        </a:lnTo>
                        <a:lnTo>
                          <a:pt x="738" y="1954"/>
                        </a:lnTo>
                        <a:lnTo>
                          <a:pt x="738" y="1958"/>
                        </a:lnTo>
                        <a:lnTo>
                          <a:pt x="736" y="1962"/>
                        </a:lnTo>
                        <a:lnTo>
                          <a:pt x="736" y="1964"/>
                        </a:lnTo>
                        <a:lnTo>
                          <a:pt x="736" y="1967"/>
                        </a:lnTo>
                        <a:lnTo>
                          <a:pt x="736" y="1971"/>
                        </a:lnTo>
                        <a:lnTo>
                          <a:pt x="736" y="1975"/>
                        </a:lnTo>
                        <a:lnTo>
                          <a:pt x="736" y="1979"/>
                        </a:lnTo>
                        <a:lnTo>
                          <a:pt x="736" y="1983"/>
                        </a:lnTo>
                        <a:lnTo>
                          <a:pt x="736" y="1985"/>
                        </a:lnTo>
                        <a:lnTo>
                          <a:pt x="736" y="1990"/>
                        </a:lnTo>
                        <a:lnTo>
                          <a:pt x="736" y="1994"/>
                        </a:lnTo>
                        <a:lnTo>
                          <a:pt x="736" y="1998"/>
                        </a:lnTo>
                        <a:lnTo>
                          <a:pt x="736" y="2004"/>
                        </a:lnTo>
                        <a:lnTo>
                          <a:pt x="736" y="2007"/>
                        </a:lnTo>
                        <a:lnTo>
                          <a:pt x="736" y="2013"/>
                        </a:lnTo>
                        <a:lnTo>
                          <a:pt x="736" y="2015"/>
                        </a:lnTo>
                        <a:lnTo>
                          <a:pt x="736" y="2021"/>
                        </a:lnTo>
                        <a:lnTo>
                          <a:pt x="736" y="2026"/>
                        </a:lnTo>
                        <a:lnTo>
                          <a:pt x="736" y="2030"/>
                        </a:lnTo>
                        <a:lnTo>
                          <a:pt x="736" y="2036"/>
                        </a:lnTo>
                        <a:lnTo>
                          <a:pt x="736" y="2042"/>
                        </a:lnTo>
                        <a:lnTo>
                          <a:pt x="736" y="2047"/>
                        </a:lnTo>
                        <a:lnTo>
                          <a:pt x="738" y="2051"/>
                        </a:lnTo>
                        <a:lnTo>
                          <a:pt x="738" y="2057"/>
                        </a:lnTo>
                        <a:lnTo>
                          <a:pt x="738" y="2062"/>
                        </a:lnTo>
                        <a:lnTo>
                          <a:pt x="740" y="2066"/>
                        </a:lnTo>
                        <a:lnTo>
                          <a:pt x="740" y="2072"/>
                        </a:lnTo>
                        <a:lnTo>
                          <a:pt x="742" y="2078"/>
                        </a:lnTo>
                        <a:lnTo>
                          <a:pt x="744" y="2083"/>
                        </a:lnTo>
                        <a:lnTo>
                          <a:pt x="744" y="2091"/>
                        </a:lnTo>
                        <a:lnTo>
                          <a:pt x="746" y="2095"/>
                        </a:lnTo>
                        <a:lnTo>
                          <a:pt x="748" y="2101"/>
                        </a:lnTo>
                        <a:lnTo>
                          <a:pt x="748" y="2106"/>
                        </a:lnTo>
                        <a:lnTo>
                          <a:pt x="751" y="2110"/>
                        </a:lnTo>
                        <a:lnTo>
                          <a:pt x="753" y="2118"/>
                        </a:lnTo>
                        <a:lnTo>
                          <a:pt x="753" y="2123"/>
                        </a:lnTo>
                        <a:lnTo>
                          <a:pt x="757" y="2129"/>
                        </a:lnTo>
                        <a:lnTo>
                          <a:pt x="759" y="2135"/>
                        </a:lnTo>
                        <a:lnTo>
                          <a:pt x="761" y="2139"/>
                        </a:lnTo>
                        <a:lnTo>
                          <a:pt x="765" y="2144"/>
                        </a:lnTo>
                        <a:lnTo>
                          <a:pt x="767" y="2150"/>
                        </a:lnTo>
                        <a:lnTo>
                          <a:pt x="769" y="2156"/>
                        </a:lnTo>
                        <a:lnTo>
                          <a:pt x="772" y="2159"/>
                        </a:lnTo>
                        <a:lnTo>
                          <a:pt x="776" y="2165"/>
                        </a:lnTo>
                        <a:lnTo>
                          <a:pt x="780" y="2171"/>
                        </a:lnTo>
                        <a:lnTo>
                          <a:pt x="782" y="2175"/>
                        </a:lnTo>
                        <a:lnTo>
                          <a:pt x="786" y="2180"/>
                        </a:lnTo>
                        <a:lnTo>
                          <a:pt x="789" y="2186"/>
                        </a:lnTo>
                        <a:lnTo>
                          <a:pt x="795" y="2190"/>
                        </a:lnTo>
                        <a:lnTo>
                          <a:pt x="799" y="2196"/>
                        </a:lnTo>
                        <a:lnTo>
                          <a:pt x="805" y="2201"/>
                        </a:lnTo>
                        <a:lnTo>
                          <a:pt x="808" y="2205"/>
                        </a:lnTo>
                        <a:lnTo>
                          <a:pt x="814" y="2209"/>
                        </a:lnTo>
                        <a:lnTo>
                          <a:pt x="818" y="2213"/>
                        </a:lnTo>
                        <a:lnTo>
                          <a:pt x="824" y="2216"/>
                        </a:lnTo>
                        <a:lnTo>
                          <a:pt x="828" y="2222"/>
                        </a:lnTo>
                        <a:lnTo>
                          <a:pt x="833" y="2224"/>
                        </a:lnTo>
                        <a:lnTo>
                          <a:pt x="839" y="2228"/>
                        </a:lnTo>
                        <a:lnTo>
                          <a:pt x="845" y="2232"/>
                        </a:lnTo>
                        <a:lnTo>
                          <a:pt x="848" y="2235"/>
                        </a:lnTo>
                        <a:lnTo>
                          <a:pt x="854" y="2239"/>
                        </a:lnTo>
                        <a:lnTo>
                          <a:pt x="858" y="2243"/>
                        </a:lnTo>
                        <a:lnTo>
                          <a:pt x="864" y="2245"/>
                        </a:lnTo>
                        <a:lnTo>
                          <a:pt x="867" y="2249"/>
                        </a:lnTo>
                        <a:lnTo>
                          <a:pt x="873" y="2253"/>
                        </a:lnTo>
                        <a:lnTo>
                          <a:pt x="877" y="2256"/>
                        </a:lnTo>
                        <a:lnTo>
                          <a:pt x="883" y="2258"/>
                        </a:lnTo>
                        <a:lnTo>
                          <a:pt x="890" y="2260"/>
                        </a:lnTo>
                        <a:lnTo>
                          <a:pt x="896" y="2264"/>
                        </a:lnTo>
                        <a:lnTo>
                          <a:pt x="900" y="2266"/>
                        </a:lnTo>
                        <a:lnTo>
                          <a:pt x="904" y="2268"/>
                        </a:lnTo>
                        <a:lnTo>
                          <a:pt x="907" y="2270"/>
                        </a:lnTo>
                        <a:lnTo>
                          <a:pt x="913" y="2273"/>
                        </a:lnTo>
                        <a:lnTo>
                          <a:pt x="919" y="2275"/>
                        </a:lnTo>
                        <a:lnTo>
                          <a:pt x="925" y="2277"/>
                        </a:lnTo>
                        <a:lnTo>
                          <a:pt x="928" y="2279"/>
                        </a:lnTo>
                        <a:lnTo>
                          <a:pt x="934" y="2281"/>
                        </a:lnTo>
                        <a:lnTo>
                          <a:pt x="938" y="2283"/>
                        </a:lnTo>
                        <a:lnTo>
                          <a:pt x="942" y="2285"/>
                        </a:lnTo>
                        <a:lnTo>
                          <a:pt x="947" y="2287"/>
                        </a:lnTo>
                        <a:lnTo>
                          <a:pt x="951" y="2289"/>
                        </a:lnTo>
                        <a:lnTo>
                          <a:pt x="955" y="2289"/>
                        </a:lnTo>
                        <a:lnTo>
                          <a:pt x="961" y="2291"/>
                        </a:lnTo>
                        <a:lnTo>
                          <a:pt x="964" y="2291"/>
                        </a:lnTo>
                        <a:lnTo>
                          <a:pt x="968" y="2294"/>
                        </a:lnTo>
                        <a:lnTo>
                          <a:pt x="972" y="2294"/>
                        </a:lnTo>
                        <a:lnTo>
                          <a:pt x="978" y="2294"/>
                        </a:lnTo>
                        <a:lnTo>
                          <a:pt x="982" y="2296"/>
                        </a:lnTo>
                        <a:lnTo>
                          <a:pt x="985" y="2296"/>
                        </a:lnTo>
                        <a:lnTo>
                          <a:pt x="989" y="2296"/>
                        </a:lnTo>
                        <a:lnTo>
                          <a:pt x="993" y="2298"/>
                        </a:lnTo>
                        <a:lnTo>
                          <a:pt x="997" y="2298"/>
                        </a:lnTo>
                        <a:lnTo>
                          <a:pt x="1001" y="2298"/>
                        </a:lnTo>
                        <a:lnTo>
                          <a:pt x="1004" y="2298"/>
                        </a:lnTo>
                        <a:lnTo>
                          <a:pt x="1008" y="2300"/>
                        </a:lnTo>
                        <a:lnTo>
                          <a:pt x="1010" y="2300"/>
                        </a:lnTo>
                        <a:lnTo>
                          <a:pt x="1014" y="2300"/>
                        </a:lnTo>
                        <a:lnTo>
                          <a:pt x="1016" y="2300"/>
                        </a:lnTo>
                        <a:lnTo>
                          <a:pt x="1020" y="2300"/>
                        </a:lnTo>
                        <a:lnTo>
                          <a:pt x="1022" y="2300"/>
                        </a:lnTo>
                        <a:lnTo>
                          <a:pt x="1025" y="2302"/>
                        </a:lnTo>
                        <a:lnTo>
                          <a:pt x="1029" y="2300"/>
                        </a:lnTo>
                        <a:lnTo>
                          <a:pt x="1035" y="2300"/>
                        </a:lnTo>
                        <a:lnTo>
                          <a:pt x="1039" y="2298"/>
                        </a:lnTo>
                        <a:lnTo>
                          <a:pt x="1042" y="2298"/>
                        </a:lnTo>
                        <a:lnTo>
                          <a:pt x="1044" y="2296"/>
                        </a:lnTo>
                        <a:lnTo>
                          <a:pt x="1048" y="2296"/>
                        </a:lnTo>
                        <a:lnTo>
                          <a:pt x="1048" y="2294"/>
                        </a:lnTo>
                        <a:lnTo>
                          <a:pt x="1050" y="2294"/>
                        </a:lnTo>
                        <a:lnTo>
                          <a:pt x="1246" y="1334"/>
                        </a:lnTo>
                        <a:lnTo>
                          <a:pt x="1246" y="1333"/>
                        </a:lnTo>
                        <a:lnTo>
                          <a:pt x="1248" y="1331"/>
                        </a:lnTo>
                        <a:lnTo>
                          <a:pt x="1250" y="1327"/>
                        </a:lnTo>
                        <a:lnTo>
                          <a:pt x="1252" y="1325"/>
                        </a:lnTo>
                        <a:lnTo>
                          <a:pt x="1252" y="1323"/>
                        </a:lnTo>
                        <a:lnTo>
                          <a:pt x="1254" y="1319"/>
                        </a:lnTo>
                        <a:lnTo>
                          <a:pt x="1256" y="1315"/>
                        </a:lnTo>
                        <a:lnTo>
                          <a:pt x="1259" y="1312"/>
                        </a:lnTo>
                        <a:lnTo>
                          <a:pt x="1259" y="1306"/>
                        </a:lnTo>
                        <a:lnTo>
                          <a:pt x="1263" y="1302"/>
                        </a:lnTo>
                        <a:lnTo>
                          <a:pt x="1265" y="1296"/>
                        </a:lnTo>
                        <a:lnTo>
                          <a:pt x="1269" y="1293"/>
                        </a:lnTo>
                        <a:lnTo>
                          <a:pt x="1271" y="1285"/>
                        </a:lnTo>
                        <a:lnTo>
                          <a:pt x="1275" y="1281"/>
                        </a:lnTo>
                        <a:lnTo>
                          <a:pt x="1276" y="1274"/>
                        </a:lnTo>
                        <a:lnTo>
                          <a:pt x="1280" y="1266"/>
                        </a:lnTo>
                        <a:lnTo>
                          <a:pt x="1284" y="1258"/>
                        </a:lnTo>
                        <a:lnTo>
                          <a:pt x="1288" y="1249"/>
                        </a:lnTo>
                        <a:lnTo>
                          <a:pt x="1290" y="1241"/>
                        </a:lnTo>
                        <a:lnTo>
                          <a:pt x="1294" y="1234"/>
                        </a:lnTo>
                        <a:lnTo>
                          <a:pt x="1297" y="1224"/>
                        </a:lnTo>
                        <a:lnTo>
                          <a:pt x="1301" y="1217"/>
                        </a:lnTo>
                        <a:lnTo>
                          <a:pt x="1305" y="1207"/>
                        </a:lnTo>
                        <a:lnTo>
                          <a:pt x="1309" y="1198"/>
                        </a:lnTo>
                        <a:lnTo>
                          <a:pt x="1313" y="1188"/>
                        </a:lnTo>
                        <a:lnTo>
                          <a:pt x="1316" y="1177"/>
                        </a:lnTo>
                        <a:lnTo>
                          <a:pt x="1320" y="1165"/>
                        </a:lnTo>
                        <a:lnTo>
                          <a:pt x="1324" y="1154"/>
                        </a:lnTo>
                        <a:lnTo>
                          <a:pt x="1330" y="1144"/>
                        </a:lnTo>
                        <a:lnTo>
                          <a:pt x="1334" y="1133"/>
                        </a:lnTo>
                        <a:lnTo>
                          <a:pt x="1337" y="1122"/>
                        </a:lnTo>
                        <a:lnTo>
                          <a:pt x="1339" y="1108"/>
                        </a:lnTo>
                        <a:lnTo>
                          <a:pt x="1345" y="1097"/>
                        </a:lnTo>
                        <a:lnTo>
                          <a:pt x="1349" y="1084"/>
                        </a:lnTo>
                        <a:lnTo>
                          <a:pt x="1353" y="1070"/>
                        </a:lnTo>
                        <a:lnTo>
                          <a:pt x="1354" y="1059"/>
                        </a:lnTo>
                        <a:lnTo>
                          <a:pt x="1358" y="1044"/>
                        </a:lnTo>
                        <a:lnTo>
                          <a:pt x="1362" y="1032"/>
                        </a:lnTo>
                        <a:lnTo>
                          <a:pt x="1366" y="1017"/>
                        </a:lnTo>
                        <a:lnTo>
                          <a:pt x="1370" y="1004"/>
                        </a:lnTo>
                        <a:lnTo>
                          <a:pt x="1372" y="988"/>
                        </a:lnTo>
                        <a:lnTo>
                          <a:pt x="1375" y="975"/>
                        </a:lnTo>
                        <a:lnTo>
                          <a:pt x="1377" y="960"/>
                        </a:lnTo>
                        <a:lnTo>
                          <a:pt x="1381" y="947"/>
                        </a:lnTo>
                        <a:lnTo>
                          <a:pt x="1383" y="931"/>
                        </a:lnTo>
                        <a:lnTo>
                          <a:pt x="1387" y="916"/>
                        </a:lnTo>
                        <a:lnTo>
                          <a:pt x="1389" y="901"/>
                        </a:lnTo>
                        <a:lnTo>
                          <a:pt x="1391" y="886"/>
                        </a:lnTo>
                        <a:lnTo>
                          <a:pt x="1392" y="871"/>
                        </a:lnTo>
                        <a:lnTo>
                          <a:pt x="1394" y="855"/>
                        </a:lnTo>
                        <a:lnTo>
                          <a:pt x="1396" y="838"/>
                        </a:lnTo>
                        <a:lnTo>
                          <a:pt x="1398" y="823"/>
                        </a:lnTo>
                        <a:lnTo>
                          <a:pt x="1398" y="806"/>
                        </a:lnTo>
                        <a:lnTo>
                          <a:pt x="1400" y="791"/>
                        </a:lnTo>
                        <a:lnTo>
                          <a:pt x="1402" y="774"/>
                        </a:lnTo>
                        <a:lnTo>
                          <a:pt x="1402" y="757"/>
                        </a:lnTo>
                        <a:lnTo>
                          <a:pt x="1402" y="741"/>
                        </a:lnTo>
                        <a:lnTo>
                          <a:pt x="1402" y="724"/>
                        </a:lnTo>
                        <a:lnTo>
                          <a:pt x="1402" y="705"/>
                        </a:lnTo>
                        <a:lnTo>
                          <a:pt x="1402" y="690"/>
                        </a:lnTo>
                        <a:lnTo>
                          <a:pt x="1400" y="673"/>
                        </a:lnTo>
                        <a:lnTo>
                          <a:pt x="1400" y="656"/>
                        </a:lnTo>
                        <a:lnTo>
                          <a:pt x="1398" y="654"/>
                        </a:lnTo>
                        <a:lnTo>
                          <a:pt x="1398" y="652"/>
                        </a:lnTo>
                        <a:lnTo>
                          <a:pt x="1398" y="648"/>
                        </a:lnTo>
                        <a:lnTo>
                          <a:pt x="1398" y="644"/>
                        </a:lnTo>
                        <a:lnTo>
                          <a:pt x="1398" y="643"/>
                        </a:lnTo>
                        <a:lnTo>
                          <a:pt x="1398" y="639"/>
                        </a:lnTo>
                        <a:lnTo>
                          <a:pt x="1396" y="637"/>
                        </a:lnTo>
                        <a:lnTo>
                          <a:pt x="1396" y="633"/>
                        </a:lnTo>
                        <a:lnTo>
                          <a:pt x="1396" y="631"/>
                        </a:lnTo>
                        <a:lnTo>
                          <a:pt x="1396" y="627"/>
                        </a:lnTo>
                        <a:lnTo>
                          <a:pt x="1396" y="623"/>
                        </a:lnTo>
                        <a:lnTo>
                          <a:pt x="1394" y="620"/>
                        </a:lnTo>
                        <a:lnTo>
                          <a:pt x="1394" y="618"/>
                        </a:lnTo>
                        <a:lnTo>
                          <a:pt x="1394" y="616"/>
                        </a:lnTo>
                        <a:lnTo>
                          <a:pt x="1392" y="612"/>
                        </a:lnTo>
                        <a:lnTo>
                          <a:pt x="1392" y="610"/>
                        </a:lnTo>
                        <a:lnTo>
                          <a:pt x="1392" y="608"/>
                        </a:lnTo>
                        <a:lnTo>
                          <a:pt x="1391" y="604"/>
                        </a:lnTo>
                        <a:lnTo>
                          <a:pt x="1391" y="603"/>
                        </a:lnTo>
                        <a:lnTo>
                          <a:pt x="1391" y="599"/>
                        </a:lnTo>
                        <a:lnTo>
                          <a:pt x="1389" y="597"/>
                        </a:lnTo>
                        <a:lnTo>
                          <a:pt x="1389" y="593"/>
                        </a:lnTo>
                        <a:lnTo>
                          <a:pt x="1389" y="589"/>
                        </a:lnTo>
                        <a:lnTo>
                          <a:pt x="1389" y="587"/>
                        </a:lnTo>
                        <a:lnTo>
                          <a:pt x="1387" y="585"/>
                        </a:lnTo>
                        <a:lnTo>
                          <a:pt x="1385" y="582"/>
                        </a:lnTo>
                        <a:lnTo>
                          <a:pt x="1385" y="580"/>
                        </a:lnTo>
                        <a:lnTo>
                          <a:pt x="1383" y="578"/>
                        </a:lnTo>
                        <a:lnTo>
                          <a:pt x="1383" y="572"/>
                        </a:lnTo>
                        <a:lnTo>
                          <a:pt x="1381" y="568"/>
                        </a:lnTo>
                        <a:lnTo>
                          <a:pt x="1377" y="563"/>
                        </a:lnTo>
                        <a:lnTo>
                          <a:pt x="1375" y="557"/>
                        </a:lnTo>
                        <a:lnTo>
                          <a:pt x="1373" y="553"/>
                        </a:lnTo>
                        <a:lnTo>
                          <a:pt x="1370" y="547"/>
                        </a:lnTo>
                        <a:lnTo>
                          <a:pt x="1366" y="544"/>
                        </a:lnTo>
                        <a:lnTo>
                          <a:pt x="1364" y="540"/>
                        </a:lnTo>
                        <a:lnTo>
                          <a:pt x="1360" y="536"/>
                        </a:lnTo>
                        <a:lnTo>
                          <a:pt x="1356" y="532"/>
                        </a:lnTo>
                        <a:lnTo>
                          <a:pt x="1353" y="528"/>
                        </a:lnTo>
                        <a:lnTo>
                          <a:pt x="1349" y="525"/>
                        </a:lnTo>
                        <a:lnTo>
                          <a:pt x="1345" y="523"/>
                        </a:lnTo>
                        <a:lnTo>
                          <a:pt x="1339" y="521"/>
                        </a:lnTo>
                        <a:lnTo>
                          <a:pt x="1335" y="517"/>
                        </a:lnTo>
                        <a:lnTo>
                          <a:pt x="1332" y="515"/>
                        </a:lnTo>
                        <a:lnTo>
                          <a:pt x="1326" y="515"/>
                        </a:lnTo>
                        <a:lnTo>
                          <a:pt x="1322" y="513"/>
                        </a:lnTo>
                        <a:lnTo>
                          <a:pt x="1318" y="511"/>
                        </a:lnTo>
                        <a:lnTo>
                          <a:pt x="1316" y="511"/>
                        </a:lnTo>
                        <a:lnTo>
                          <a:pt x="1313" y="511"/>
                        </a:lnTo>
                        <a:lnTo>
                          <a:pt x="1311" y="511"/>
                        </a:lnTo>
                        <a:lnTo>
                          <a:pt x="1309" y="509"/>
                        </a:lnTo>
                        <a:lnTo>
                          <a:pt x="1305" y="509"/>
                        </a:lnTo>
                        <a:lnTo>
                          <a:pt x="1303" y="509"/>
                        </a:lnTo>
                        <a:lnTo>
                          <a:pt x="1301" y="509"/>
                        </a:lnTo>
                        <a:lnTo>
                          <a:pt x="1297" y="509"/>
                        </a:lnTo>
                        <a:lnTo>
                          <a:pt x="1295" y="509"/>
                        </a:lnTo>
                        <a:lnTo>
                          <a:pt x="1292" y="509"/>
                        </a:lnTo>
                        <a:lnTo>
                          <a:pt x="1290" y="509"/>
                        </a:lnTo>
                        <a:lnTo>
                          <a:pt x="1284" y="509"/>
                        </a:lnTo>
                        <a:lnTo>
                          <a:pt x="1280" y="509"/>
                        </a:lnTo>
                        <a:lnTo>
                          <a:pt x="1275" y="509"/>
                        </a:lnTo>
                        <a:lnTo>
                          <a:pt x="1269" y="509"/>
                        </a:lnTo>
                        <a:lnTo>
                          <a:pt x="1265" y="509"/>
                        </a:lnTo>
                        <a:lnTo>
                          <a:pt x="1259" y="509"/>
                        </a:lnTo>
                        <a:lnTo>
                          <a:pt x="1256" y="511"/>
                        </a:lnTo>
                        <a:lnTo>
                          <a:pt x="1252" y="511"/>
                        </a:lnTo>
                        <a:lnTo>
                          <a:pt x="1246" y="515"/>
                        </a:lnTo>
                        <a:lnTo>
                          <a:pt x="1242" y="515"/>
                        </a:lnTo>
                        <a:lnTo>
                          <a:pt x="1238" y="517"/>
                        </a:lnTo>
                        <a:lnTo>
                          <a:pt x="1235" y="521"/>
                        </a:lnTo>
                        <a:lnTo>
                          <a:pt x="1231" y="523"/>
                        </a:lnTo>
                        <a:lnTo>
                          <a:pt x="1229" y="525"/>
                        </a:lnTo>
                        <a:lnTo>
                          <a:pt x="1225" y="527"/>
                        </a:lnTo>
                        <a:lnTo>
                          <a:pt x="1221" y="530"/>
                        </a:lnTo>
                        <a:lnTo>
                          <a:pt x="1219" y="532"/>
                        </a:lnTo>
                        <a:lnTo>
                          <a:pt x="1216" y="538"/>
                        </a:lnTo>
                        <a:lnTo>
                          <a:pt x="1214" y="542"/>
                        </a:lnTo>
                        <a:lnTo>
                          <a:pt x="1212" y="546"/>
                        </a:lnTo>
                        <a:lnTo>
                          <a:pt x="1210" y="549"/>
                        </a:lnTo>
                        <a:lnTo>
                          <a:pt x="1208" y="555"/>
                        </a:lnTo>
                        <a:lnTo>
                          <a:pt x="1208" y="557"/>
                        </a:lnTo>
                        <a:lnTo>
                          <a:pt x="1206" y="559"/>
                        </a:lnTo>
                        <a:lnTo>
                          <a:pt x="1204" y="561"/>
                        </a:lnTo>
                        <a:lnTo>
                          <a:pt x="1204" y="565"/>
                        </a:lnTo>
                        <a:lnTo>
                          <a:pt x="1204" y="566"/>
                        </a:lnTo>
                        <a:lnTo>
                          <a:pt x="1204" y="570"/>
                        </a:lnTo>
                        <a:lnTo>
                          <a:pt x="1204" y="572"/>
                        </a:lnTo>
                        <a:lnTo>
                          <a:pt x="1204" y="576"/>
                        </a:lnTo>
                        <a:lnTo>
                          <a:pt x="1139" y="895"/>
                        </a:lnTo>
                        <a:lnTo>
                          <a:pt x="1136" y="893"/>
                        </a:lnTo>
                        <a:lnTo>
                          <a:pt x="1132" y="892"/>
                        </a:lnTo>
                        <a:lnTo>
                          <a:pt x="1126" y="888"/>
                        </a:lnTo>
                        <a:lnTo>
                          <a:pt x="1122" y="886"/>
                        </a:lnTo>
                        <a:lnTo>
                          <a:pt x="1117" y="884"/>
                        </a:lnTo>
                        <a:lnTo>
                          <a:pt x="1113" y="880"/>
                        </a:lnTo>
                        <a:lnTo>
                          <a:pt x="1107" y="878"/>
                        </a:lnTo>
                        <a:lnTo>
                          <a:pt x="1105" y="876"/>
                        </a:lnTo>
                        <a:lnTo>
                          <a:pt x="1227" y="316"/>
                        </a:lnTo>
                        <a:lnTo>
                          <a:pt x="1227" y="312"/>
                        </a:lnTo>
                        <a:lnTo>
                          <a:pt x="1227" y="308"/>
                        </a:lnTo>
                        <a:lnTo>
                          <a:pt x="1229" y="306"/>
                        </a:lnTo>
                        <a:lnTo>
                          <a:pt x="1229" y="304"/>
                        </a:lnTo>
                        <a:lnTo>
                          <a:pt x="1229" y="300"/>
                        </a:lnTo>
                        <a:lnTo>
                          <a:pt x="1229" y="298"/>
                        </a:lnTo>
                        <a:lnTo>
                          <a:pt x="1229" y="295"/>
                        </a:lnTo>
                        <a:lnTo>
                          <a:pt x="1229" y="293"/>
                        </a:lnTo>
                        <a:lnTo>
                          <a:pt x="1229" y="291"/>
                        </a:lnTo>
                        <a:lnTo>
                          <a:pt x="1229" y="287"/>
                        </a:lnTo>
                        <a:lnTo>
                          <a:pt x="1229" y="285"/>
                        </a:lnTo>
                        <a:lnTo>
                          <a:pt x="1229" y="283"/>
                        </a:lnTo>
                        <a:lnTo>
                          <a:pt x="1229" y="278"/>
                        </a:lnTo>
                        <a:lnTo>
                          <a:pt x="1227" y="272"/>
                        </a:lnTo>
                        <a:lnTo>
                          <a:pt x="1225" y="268"/>
                        </a:lnTo>
                        <a:lnTo>
                          <a:pt x="1225" y="262"/>
                        </a:lnTo>
                        <a:lnTo>
                          <a:pt x="1223" y="257"/>
                        </a:lnTo>
                        <a:lnTo>
                          <a:pt x="1221" y="253"/>
                        </a:lnTo>
                        <a:lnTo>
                          <a:pt x="1219" y="247"/>
                        </a:lnTo>
                        <a:lnTo>
                          <a:pt x="1217" y="243"/>
                        </a:lnTo>
                        <a:lnTo>
                          <a:pt x="1216" y="240"/>
                        </a:lnTo>
                        <a:lnTo>
                          <a:pt x="1214" y="236"/>
                        </a:lnTo>
                        <a:lnTo>
                          <a:pt x="1210" y="232"/>
                        </a:lnTo>
                        <a:lnTo>
                          <a:pt x="1206" y="226"/>
                        </a:lnTo>
                        <a:lnTo>
                          <a:pt x="1202" y="222"/>
                        </a:lnTo>
                        <a:lnTo>
                          <a:pt x="1200" y="219"/>
                        </a:lnTo>
                        <a:lnTo>
                          <a:pt x="1197" y="215"/>
                        </a:lnTo>
                        <a:lnTo>
                          <a:pt x="1193" y="211"/>
                        </a:lnTo>
                        <a:lnTo>
                          <a:pt x="1189" y="207"/>
                        </a:lnTo>
                        <a:lnTo>
                          <a:pt x="1185" y="205"/>
                        </a:lnTo>
                        <a:lnTo>
                          <a:pt x="1179" y="203"/>
                        </a:lnTo>
                        <a:lnTo>
                          <a:pt x="1176" y="200"/>
                        </a:lnTo>
                        <a:lnTo>
                          <a:pt x="1172" y="198"/>
                        </a:lnTo>
                        <a:lnTo>
                          <a:pt x="1166" y="194"/>
                        </a:lnTo>
                        <a:lnTo>
                          <a:pt x="1160" y="192"/>
                        </a:lnTo>
                        <a:lnTo>
                          <a:pt x="1157" y="192"/>
                        </a:lnTo>
                        <a:lnTo>
                          <a:pt x="1151" y="190"/>
                        </a:lnTo>
                        <a:lnTo>
                          <a:pt x="1147" y="190"/>
                        </a:lnTo>
                        <a:lnTo>
                          <a:pt x="1143" y="188"/>
                        </a:lnTo>
                        <a:lnTo>
                          <a:pt x="1141" y="186"/>
                        </a:lnTo>
                        <a:lnTo>
                          <a:pt x="1138" y="186"/>
                        </a:lnTo>
                        <a:lnTo>
                          <a:pt x="1136" y="186"/>
                        </a:lnTo>
                        <a:lnTo>
                          <a:pt x="1134" y="186"/>
                        </a:lnTo>
                        <a:lnTo>
                          <a:pt x="1130" y="186"/>
                        </a:lnTo>
                        <a:lnTo>
                          <a:pt x="1128" y="186"/>
                        </a:lnTo>
                        <a:lnTo>
                          <a:pt x="1124" y="186"/>
                        </a:lnTo>
                        <a:lnTo>
                          <a:pt x="1122" y="186"/>
                        </a:lnTo>
                        <a:lnTo>
                          <a:pt x="1120" y="186"/>
                        </a:lnTo>
                        <a:lnTo>
                          <a:pt x="1117" y="186"/>
                        </a:lnTo>
                        <a:lnTo>
                          <a:pt x="1115" y="186"/>
                        </a:lnTo>
                        <a:lnTo>
                          <a:pt x="1109" y="186"/>
                        </a:lnTo>
                        <a:lnTo>
                          <a:pt x="1105" y="188"/>
                        </a:lnTo>
                        <a:lnTo>
                          <a:pt x="1100" y="188"/>
                        </a:lnTo>
                        <a:lnTo>
                          <a:pt x="1094" y="190"/>
                        </a:lnTo>
                        <a:lnTo>
                          <a:pt x="1090" y="192"/>
                        </a:lnTo>
                        <a:lnTo>
                          <a:pt x="1086" y="192"/>
                        </a:lnTo>
                        <a:lnTo>
                          <a:pt x="1081" y="194"/>
                        </a:lnTo>
                        <a:lnTo>
                          <a:pt x="1077" y="198"/>
                        </a:lnTo>
                        <a:lnTo>
                          <a:pt x="1073" y="200"/>
                        </a:lnTo>
                        <a:lnTo>
                          <a:pt x="1067" y="203"/>
                        </a:lnTo>
                        <a:lnTo>
                          <a:pt x="1063" y="205"/>
                        </a:lnTo>
                        <a:lnTo>
                          <a:pt x="1058" y="207"/>
                        </a:lnTo>
                        <a:lnTo>
                          <a:pt x="1054" y="211"/>
                        </a:lnTo>
                        <a:lnTo>
                          <a:pt x="1050" y="215"/>
                        </a:lnTo>
                        <a:lnTo>
                          <a:pt x="1048" y="219"/>
                        </a:lnTo>
                        <a:lnTo>
                          <a:pt x="1044" y="222"/>
                        </a:lnTo>
                        <a:lnTo>
                          <a:pt x="1041" y="226"/>
                        </a:lnTo>
                        <a:lnTo>
                          <a:pt x="1039" y="232"/>
                        </a:lnTo>
                        <a:lnTo>
                          <a:pt x="1035" y="234"/>
                        </a:lnTo>
                        <a:lnTo>
                          <a:pt x="1033" y="240"/>
                        </a:lnTo>
                        <a:lnTo>
                          <a:pt x="1029" y="243"/>
                        </a:lnTo>
                        <a:lnTo>
                          <a:pt x="1027" y="249"/>
                        </a:lnTo>
                        <a:lnTo>
                          <a:pt x="1025" y="253"/>
                        </a:lnTo>
                        <a:lnTo>
                          <a:pt x="1023" y="259"/>
                        </a:lnTo>
                        <a:lnTo>
                          <a:pt x="1022" y="260"/>
                        </a:lnTo>
                        <a:lnTo>
                          <a:pt x="1022" y="264"/>
                        </a:lnTo>
                        <a:lnTo>
                          <a:pt x="1022" y="266"/>
                        </a:lnTo>
                        <a:lnTo>
                          <a:pt x="1022" y="270"/>
                        </a:lnTo>
                        <a:lnTo>
                          <a:pt x="919" y="730"/>
                        </a:lnTo>
                        <a:lnTo>
                          <a:pt x="915" y="728"/>
                        </a:lnTo>
                        <a:lnTo>
                          <a:pt x="913" y="726"/>
                        </a:lnTo>
                        <a:lnTo>
                          <a:pt x="907" y="724"/>
                        </a:lnTo>
                        <a:lnTo>
                          <a:pt x="905" y="720"/>
                        </a:lnTo>
                        <a:lnTo>
                          <a:pt x="904" y="719"/>
                        </a:lnTo>
                        <a:lnTo>
                          <a:pt x="900" y="717"/>
                        </a:lnTo>
                        <a:lnTo>
                          <a:pt x="896" y="713"/>
                        </a:lnTo>
                        <a:lnTo>
                          <a:pt x="892" y="713"/>
                        </a:lnTo>
                        <a:lnTo>
                          <a:pt x="1022" y="129"/>
                        </a:lnTo>
                        <a:lnTo>
                          <a:pt x="1022" y="125"/>
                        </a:lnTo>
                        <a:lnTo>
                          <a:pt x="1022" y="124"/>
                        </a:lnTo>
                        <a:lnTo>
                          <a:pt x="1022" y="120"/>
                        </a:lnTo>
                        <a:lnTo>
                          <a:pt x="1022" y="118"/>
                        </a:lnTo>
                        <a:lnTo>
                          <a:pt x="1022" y="114"/>
                        </a:lnTo>
                        <a:lnTo>
                          <a:pt x="1022" y="112"/>
                        </a:lnTo>
                        <a:lnTo>
                          <a:pt x="1022" y="110"/>
                        </a:lnTo>
                        <a:lnTo>
                          <a:pt x="1022" y="106"/>
                        </a:lnTo>
                        <a:lnTo>
                          <a:pt x="1022" y="105"/>
                        </a:lnTo>
                        <a:lnTo>
                          <a:pt x="1022" y="103"/>
                        </a:lnTo>
                        <a:lnTo>
                          <a:pt x="1022" y="99"/>
                        </a:lnTo>
                        <a:lnTo>
                          <a:pt x="1022" y="97"/>
                        </a:lnTo>
                        <a:lnTo>
                          <a:pt x="1022" y="91"/>
                        </a:lnTo>
                        <a:lnTo>
                          <a:pt x="1022" y="86"/>
                        </a:lnTo>
                        <a:lnTo>
                          <a:pt x="1020" y="82"/>
                        </a:lnTo>
                        <a:lnTo>
                          <a:pt x="1018" y="76"/>
                        </a:lnTo>
                        <a:lnTo>
                          <a:pt x="1016" y="70"/>
                        </a:lnTo>
                        <a:lnTo>
                          <a:pt x="1014" y="67"/>
                        </a:lnTo>
                        <a:lnTo>
                          <a:pt x="1012" y="61"/>
                        </a:lnTo>
                        <a:lnTo>
                          <a:pt x="1010" y="57"/>
                        </a:lnTo>
                        <a:lnTo>
                          <a:pt x="1008" y="53"/>
                        </a:lnTo>
                        <a:lnTo>
                          <a:pt x="1006" y="48"/>
                        </a:lnTo>
                        <a:lnTo>
                          <a:pt x="1004" y="44"/>
                        </a:lnTo>
                        <a:lnTo>
                          <a:pt x="1001" y="40"/>
                        </a:lnTo>
                        <a:lnTo>
                          <a:pt x="997" y="36"/>
                        </a:lnTo>
                        <a:lnTo>
                          <a:pt x="993" y="32"/>
                        </a:lnTo>
                        <a:lnTo>
                          <a:pt x="991" y="29"/>
                        </a:lnTo>
                        <a:lnTo>
                          <a:pt x="985" y="25"/>
                        </a:lnTo>
                        <a:lnTo>
                          <a:pt x="983" y="23"/>
                        </a:lnTo>
                        <a:lnTo>
                          <a:pt x="978" y="19"/>
                        </a:lnTo>
                        <a:lnTo>
                          <a:pt x="972" y="17"/>
                        </a:lnTo>
                        <a:lnTo>
                          <a:pt x="968" y="13"/>
                        </a:lnTo>
                        <a:lnTo>
                          <a:pt x="964" y="11"/>
                        </a:lnTo>
                        <a:lnTo>
                          <a:pt x="961" y="10"/>
                        </a:lnTo>
                        <a:lnTo>
                          <a:pt x="955" y="6"/>
                        </a:lnTo>
                        <a:lnTo>
                          <a:pt x="949" y="6"/>
                        </a:lnTo>
                        <a:lnTo>
                          <a:pt x="944" y="4"/>
                        </a:lnTo>
                        <a:lnTo>
                          <a:pt x="940" y="4"/>
                        </a:lnTo>
                        <a:lnTo>
                          <a:pt x="936" y="2"/>
                        </a:lnTo>
                        <a:lnTo>
                          <a:pt x="934" y="2"/>
                        </a:lnTo>
                        <a:lnTo>
                          <a:pt x="932" y="0"/>
                        </a:lnTo>
                        <a:lnTo>
                          <a:pt x="928" y="0"/>
                        </a:lnTo>
                        <a:lnTo>
                          <a:pt x="926" y="0"/>
                        </a:lnTo>
                        <a:lnTo>
                          <a:pt x="925" y="0"/>
                        </a:lnTo>
                        <a:lnTo>
                          <a:pt x="921" y="0"/>
                        </a:lnTo>
                        <a:lnTo>
                          <a:pt x="919" y="0"/>
                        </a:lnTo>
                        <a:lnTo>
                          <a:pt x="915" y="0"/>
                        </a:lnTo>
                        <a:lnTo>
                          <a:pt x="913" y="0"/>
                        </a:lnTo>
                        <a:lnTo>
                          <a:pt x="911" y="0"/>
                        </a:lnTo>
                        <a:lnTo>
                          <a:pt x="907" y="0"/>
                        </a:lnTo>
                        <a:lnTo>
                          <a:pt x="904" y="0"/>
                        </a:lnTo>
                        <a:lnTo>
                          <a:pt x="898" y="2"/>
                        </a:lnTo>
                        <a:lnTo>
                          <a:pt x="896" y="2"/>
                        </a:lnTo>
                        <a:lnTo>
                          <a:pt x="892" y="2"/>
                        </a:lnTo>
                        <a:lnTo>
                          <a:pt x="890" y="2"/>
                        </a:lnTo>
                        <a:lnTo>
                          <a:pt x="888" y="4"/>
                        </a:lnTo>
                        <a:lnTo>
                          <a:pt x="881" y="4"/>
                        </a:lnTo>
                        <a:lnTo>
                          <a:pt x="877" y="6"/>
                        </a:lnTo>
                        <a:lnTo>
                          <a:pt x="873" y="10"/>
                        </a:lnTo>
                        <a:lnTo>
                          <a:pt x="867" y="11"/>
                        </a:lnTo>
                        <a:lnTo>
                          <a:pt x="864" y="15"/>
                        </a:lnTo>
                        <a:lnTo>
                          <a:pt x="860" y="17"/>
                        </a:lnTo>
                        <a:lnTo>
                          <a:pt x="854" y="19"/>
                        </a:lnTo>
                        <a:lnTo>
                          <a:pt x="850" y="23"/>
                        </a:lnTo>
                        <a:lnTo>
                          <a:pt x="847" y="25"/>
                        </a:lnTo>
                        <a:lnTo>
                          <a:pt x="843" y="29"/>
                        </a:lnTo>
                        <a:lnTo>
                          <a:pt x="839" y="32"/>
                        </a:lnTo>
                        <a:lnTo>
                          <a:pt x="835" y="36"/>
                        </a:lnTo>
                        <a:lnTo>
                          <a:pt x="833" y="40"/>
                        </a:lnTo>
                        <a:lnTo>
                          <a:pt x="831" y="44"/>
                        </a:lnTo>
                        <a:lnTo>
                          <a:pt x="828" y="48"/>
                        </a:lnTo>
                        <a:lnTo>
                          <a:pt x="824" y="53"/>
                        </a:lnTo>
                        <a:lnTo>
                          <a:pt x="822" y="57"/>
                        </a:lnTo>
                        <a:lnTo>
                          <a:pt x="820" y="61"/>
                        </a:lnTo>
                        <a:lnTo>
                          <a:pt x="818" y="67"/>
                        </a:lnTo>
                        <a:lnTo>
                          <a:pt x="816" y="70"/>
                        </a:lnTo>
                        <a:lnTo>
                          <a:pt x="816" y="74"/>
                        </a:lnTo>
                        <a:lnTo>
                          <a:pt x="814" y="76"/>
                        </a:lnTo>
                        <a:lnTo>
                          <a:pt x="812" y="82"/>
                        </a:lnTo>
                        <a:lnTo>
                          <a:pt x="812" y="84"/>
                        </a:lnTo>
                        <a:lnTo>
                          <a:pt x="687" y="663"/>
                        </a:lnTo>
                        <a:lnTo>
                          <a:pt x="681" y="663"/>
                        </a:lnTo>
                        <a:lnTo>
                          <a:pt x="677" y="663"/>
                        </a:lnTo>
                        <a:lnTo>
                          <a:pt x="673" y="663"/>
                        </a:lnTo>
                        <a:lnTo>
                          <a:pt x="670" y="663"/>
                        </a:lnTo>
                        <a:lnTo>
                          <a:pt x="666" y="663"/>
                        </a:lnTo>
                        <a:lnTo>
                          <a:pt x="660" y="665"/>
                        </a:lnTo>
                        <a:lnTo>
                          <a:pt x="656" y="665"/>
                        </a:lnTo>
                        <a:lnTo>
                          <a:pt x="652" y="667"/>
                        </a:lnTo>
                        <a:lnTo>
                          <a:pt x="753" y="213"/>
                        </a:lnTo>
                        <a:lnTo>
                          <a:pt x="753" y="209"/>
                        </a:lnTo>
                        <a:lnTo>
                          <a:pt x="753" y="207"/>
                        </a:lnTo>
                        <a:lnTo>
                          <a:pt x="753" y="203"/>
                        </a:lnTo>
                        <a:lnTo>
                          <a:pt x="753" y="201"/>
                        </a:lnTo>
                        <a:lnTo>
                          <a:pt x="753" y="198"/>
                        </a:lnTo>
                        <a:lnTo>
                          <a:pt x="753" y="196"/>
                        </a:lnTo>
                        <a:lnTo>
                          <a:pt x="753" y="192"/>
                        </a:lnTo>
                        <a:lnTo>
                          <a:pt x="753" y="190"/>
                        </a:lnTo>
                        <a:lnTo>
                          <a:pt x="753" y="188"/>
                        </a:lnTo>
                        <a:lnTo>
                          <a:pt x="753" y="184"/>
                        </a:lnTo>
                        <a:lnTo>
                          <a:pt x="753" y="182"/>
                        </a:lnTo>
                        <a:lnTo>
                          <a:pt x="753" y="181"/>
                        </a:lnTo>
                        <a:lnTo>
                          <a:pt x="753" y="175"/>
                        </a:lnTo>
                        <a:lnTo>
                          <a:pt x="753" y="169"/>
                        </a:lnTo>
                        <a:lnTo>
                          <a:pt x="751" y="167"/>
                        </a:lnTo>
                        <a:lnTo>
                          <a:pt x="751" y="163"/>
                        </a:lnTo>
                        <a:lnTo>
                          <a:pt x="751" y="162"/>
                        </a:lnTo>
                        <a:lnTo>
                          <a:pt x="750" y="160"/>
                        </a:lnTo>
                        <a:lnTo>
                          <a:pt x="748" y="154"/>
                        </a:lnTo>
                        <a:lnTo>
                          <a:pt x="746" y="148"/>
                        </a:lnTo>
                        <a:lnTo>
                          <a:pt x="744" y="144"/>
                        </a:lnTo>
                        <a:lnTo>
                          <a:pt x="742" y="141"/>
                        </a:lnTo>
                        <a:lnTo>
                          <a:pt x="740" y="135"/>
                        </a:lnTo>
                        <a:lnTo>
                          <a:pt x="738" y="131"/>
                        </a:lnTo>
                        <a:lnTo>
                          <a:pt x="734" y="127"/>
                        </a:lnTo>
                        <a:lnTo>
                          <a:pt x="730" y="124"/>
                        </a:lnTo>
                        <a:lnTo>
                          <a:pt x="727" y="120"/>
                        </a:lnTo>
                        <a:lnTo>
                          <a:pt x="725" y="116"/>
                        </a:lnTo>
                        <a:lnTo>
                          <a:pt x="721" y="112"/>
                        </a:lnTo>
                        <a:lnTo>
                          <a:pt x="717" y="108"/>
                        </a:lnTo>
                        <a:lnTo>
                          <a:pt x="713" y="105"/>
                        </a:lnTo>
                        <a:lnTo>
                          <a:pt x="710" y="103"/>
                        </a:lnTo>
                        <a:lnTo>
                          <a:pt x="704" y="99"/>
                        </a:lnTo>
                        <a:lnTo>
                          <a:pt x="700" y="97"/>
                        </a:lnTo>
                        <a:lnTo>
                          <a:pt x="694" y="95"/>
                        </a:lnTo>
                        <a:lnTo>
                          <a:pt x="691" y="91"/>
                        </a:lnTo>
                        <a:lnTo>
                          <a:pt x="685" y="89"/>
                        </a:lnTo>
                        <a:lnTo>
                          <a:pt x="681" y="87"/>
                        </a:lnTo>
                        <a:lnTo>
                          <a:pt x="675" y="86"/>
                        </a:lnTo>
                        <a:lnTo>
                          <a:pt x="672" y="86"/>
                        </a:lnTo>
                        <a:lnTo>
                          <a:pt x="668" y="84"/>
                        </a:lnTo>
                        <a:lnTo>
                          <a:pt x="666" y="84"/>
                        </a:lnTo>
                        <a:lnTo>
                          <a:pt x="664" y="84"/>
                        </a:lnTo>
                        <a:lnTo>
                          <a:pt x="660" y="84"/>
                        </a:lnTo>
                        <a:lnTo>
                          <a:pt x="658" y="84"/>
                        </a:lnTo>
                        <a:lnTo>
                          <a:pt x="654" y="84"/>
                        </a:lnTo>
                        <a:lnTo>
                          <a:pt x="652" y="84"/>
                        </a:lnTo>
                        <a:lnTo>
                          <a:pt x="651" y="84"/>
                        </a:lnTo>
                        <a:lnTo>
                          <a:pt x="647" y="84"/>
                        </a:lnTo>
                        <a:lnTo>
                          <a:pt x="645" y="84"/>
                        </a:lnTo>
                        <a:lnTo>
                          <a:pt x="643" y="84"/>
                        </a:lnTo>
                        <a:lnTo>
                          <a:pt x="639" y="84"/>
                        </a:lnTo>
                        <a:lnTo>
                          <a:pt x="635" y="84"/>
                        </a:lnTo>
                        <a:lnTo>
                          <a:pt x="630" y="84"/>
                        </a:lnTo>
                        <a:lnTo>
                          <a:pt x="628" y="84"/>
                        </a:lnTo>
                        <a:lnTo>
                          <a:pt x="624" y="86"/>
                        </a:lnTo>
                        <a:lnTo>
                          <a:pt x="622" y="86"/>
                        </a:lnTo>
                        <a:lnTo>
                          <a:pt x="618" y="86"/>
                        </a:lnTo>
                        <a:lnTo>
                          <a:pt x="614" y="87"/>
                        </a:lnTo>
                        <a:lnTo>
                          <a:pt x="609" y="89"/>
                        </a:lnTo>
                        <a:lnTo>
                          <a:pt x="603" y="91"/>
                        </a:lnTo>
                        <a:lnTo>
                          <a:pt x="599" y="95"/>
                        </a:lnTo>
                        <a:lnTo>
                          <a:pt x="595" y="97"/>
                        </a:lnTo>
                        <a:lnTo>
                          <a:pt x="592" y="99"/>
                        </a:lnTo>
                        <a:lnTo>
                          <a:pt x="586" y="103"/>
                        </a:lnTo>
                        <a:lnTo>
                          <a:pt x="582" y="105"/>
                        </a:lnTo>
                        <a:lnTo>
                          <a:pt x="578" y="108"/>
                        </a:lnTo>
                        <a:lnTo>
                          <a:pt x="574" y="112"/>
                        </a:lnTo>
                        <a:lnTo>
                          <a:pt x="571" y="116"/>
                        </a:lnTo>
                        <a:lnTo>
                          <a:pt x="567" y="120"/>
                        </a:lnTo>
                        <a:lnTo>
                          <a:pt x="565" y="124"/>
                        </a:lnTo>
                        <a:lnTo>
                          <a:pt x="563" y="127"/>
                        </a:lnTo>
                        <a:lnTo>
                          <a:pt x="559" y="131"/>
                        </a:lnTo>
                        <a:lnTo>
                          <a:pt x="555" y="135"/>
                        </a:lnTo>
                        <a:lnTo>
                          <a:pt x="554" y="141"/>
                        </a:lnTo>
                        <a:lnTo>
                          <a:pt x="552" y="146"/>
                        </a:lnTo>
                        <a:lnTo>
                          <a:pt x="550" y="150"/>
                        </a:lnTo>
                        <a:lnTo>
                          <a:pt x="548" y="156"/>
                        </a:lnTo>
                        <a:lnTo>
                          <a:pt x="546" y="158"/>
                        </a:lnTo>
                        <a:lnTo>
                          <a:pt x="546" y="160"/>
                        </a:lnTo>
                        <a:lnTo>
                          <a:pt x="544" y="163"/>
                        </a:lnTo>
                        <a:lnTo>
                          <a:pt x="544" y="167"/>
                        </a:lnTo>
                        <a:lnTo>
                          <a:pt x="361" y="1127"/>
                        </a:lnTo>
                        <a:lnTo>
                          <a:pt x="361" y="1127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8" name="AutoShape 307"/>
                <p:cNvSpPr/>
                <p:nvPr/>
              </p:nvSpPr>
              <p:spPr>
                <a:xfrm rot="9395400">
                  <a:off x="4504320" y="2012040"/>
                  <a:ext cx="88560" cy="75960"/>
                </a:xfrm>
                <a:prstGeom prst="hexagon">
                  <a:avLst>
                    <a:gd name="adj" fmla="val 29147"/>
                    <a:gd name="vf" fmla="val 11547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9" name="Group 308"/>
              <p:cNvGrpSpPr/>
              <p:nvPr/>
            </p:nvGrpSpPr>
            <p:grpSpPr>
              <a:xfrm>
                <a:off x="4264200" y="1164600"/>
                <a:ext cx="1094040" cy="2229840"/>
                <a:chOff x="4264200" y="1164600"/>
                <a:chExt cx="1094040" cy="2229840"/>
              </a:xfrm>
            </p:grpSpPr>
            <p:grpSp>
              <p:nvGrpSpPr>
                <p:cNvPr id="600" name="Group 309"/>
                <p:cNvGrpSpPr/>
                <p:nvPr/>
              </p:nvGrpSpPr>
              <p:grpSpPr>
                <a:xfrm>
                  <a:off x="4264200" y="1164600"/>
                  <a:ext cx="697680" cy="1202760"/>
                  <a:chOff x="4264200" y="1164600"/>
                  <a:chExt cx="697680" cy="1202760"/>
                </a:xfrm>
              </p:grpSpPr>
              <p:grpSp>
                <p:nvGrpSpPr>
                  <p:cNvPr id="601" name="Group 310"/>
                  <p:cNvGrpSpPr/>
                  <p:nvPr/>
                </p:nvGrpSpPr>
                <p:grpSpPr>
                  <a:xfrm>
                    <a:off x="4538160" y="1731240"/>
                    <a:ext cx="423720" cy="636120"/>
                    <a:chOff x="4538160" y="1731240"/>
                    <a:chExt cx="423720" cy="636120"/>
                  </a:xfrm>
                </p:grpSpPr>
                <p:sp>
                  <p:nvSpPr>
                    <p:cNvPr id="602" name="AutoShape 311"/>
                    <p:cNvSpPr/>
                    <p:nvPr/>
                  </p:nvSpPr>
                  <p:spPr>
                    <a:xfrm rot="9411600">
                      <a:off x="4627440" y="1746360"/>
                      <a:ext cx="179640" cy="49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3" name="AutoShape 312"/>
                    <p:cNvSpPr/>
                    <p:nvPr/>
                  </p:nvSpPr>
                  <p:spPr>
                    <a:xfrm rot="14989800">
                      <a:off x="4721400" y="2118240"/>
                      <a:ext cx="19188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4" name="Group 313"/>
                  <p:cNvGrpSpPr/>
                  <p:nvPr/>
                </p:nvGrpSpPr>
                <p:grpSpPr>
                  <a:xfrm>
                    <a:off x="4264200" y="1164600"/>
                    <a:ext cx="472320" cy="719640"/>
                    <a:chOff x="4264200" y="1164600"/>
                    <a:chExt cx="472320" cy="719640"/>
                  </a:xfrm>
                </p:grpSpPr>
                <p:sp>
                  <p:nvSpPr>
                    <p:cNvPr id="605" name="AutoShape 314"/>
                    <p:cNvSpPr/>
                    <p:nvPr/>
                  </p:nvSpPr>
                  <p:spPr>
                    <a:xfrm rot="9426600">
                      <a:off x="4451760" y="1398960"/>
                      <a:ext cx="180360" cy="36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4308" y="21600"/>
                          </a:lnTo>
                          <a:lnTo>
                            <a:pt x="17292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6" name="Oval 315"/>
                    <p:cNvSpPr/>
                    <p:nvPr/>
                  </p:nvSpPr>
                  <p:spPr>
                    <a:xfrm rot="9965400">
                      <a:off x="4529160" y="1674000"/>
                      <a:ext cx="187200" cy="19044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Freeform 316"/>
                    <p:cNvSpPr/>
                    <p:nvPr/>
                  </p:nvSpPr>
                  <p:spPr>
                    <a:xfrm rot="19460400">
                      <a:off x="4331520" y="1188360"/>
                      <a:ext cx="175680" cy="28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2" h="2302">
                          <a:moveTo>
                            <a:pt x="361" y="1127"/>
                          </a:moveTo>
                          <a:lnTo>
                            <a:pt x="280" y="1116"/>
                          </a:lnTo>
                          <a:lnTo>
                            <a:pt x="373" y="711"/>
                          </a:lnTo>
                          <a:lnTo>
                            <a:pt x="373" y="709"/>
                          </a:lnTo>
                          <a:lnTo>
                            <a:pt x="375" y="705"/>
                          </a:lnTo>
                          <a:lnTo>
                            <a:pt x="375" y="703"/>
                          </a:lnTo>
                          <a:lnTo>
                            <a:pt x="375" y="700"/>
                          </a:lnTo>
                          <a:lnTo>
                            <a:pt x="375" y="698"/>
                          </a:lnTo>
                          <a:lnTo>
                            <a:pt x="375" y="696"/>
                          </a:lnTo>
                          <a:lnTo>
                            <a:pt x="375" y="692"/>
                          </a:lnTo>
                          <a:lnTo>
                            <a:pt x="375" y="690"/>
                          </a:lnTo>
                          <a:lnTo>
                            <a:pt x="375" y="684"/>
                          </a:lnTo>
                          <a:lnTo>
                            <a:pt x="375" y="681"/>
                          </a:lnTo>
                          <a:lnTo>
                            <a:pt x="375" y="675"/>
                          </a:lnTo>
                          <a:lnTo>
                            <a:pt x="375" y="669"/>
                          </a:lnTo>
                          <a:lnTo>
                            <a:pt x="371" y="665"/>
                          </a:lnTo>
                          <a:lnTo>
                            <a:pt x="371" y="660"/>
                          </a:lnTo>
                          <a:lnTo>
                            <a:pt x="369" y="654"/>
                          </a:lnTo>
                          <a:lnTo>
                            <a:pt x="367" y="652"/>
                          </a:lnTo>
                          <a:lnTo>
                            <a:pt x="365" y="646"/>
                          </a:lnTo>
                          <a:lnTo>
                            <a:pt x="363" y="641"/>
                          </a:lnTo>
                          <a:lnTo>
                            <a:pt x="361" y="637"/>
                          </a:lnTo>
                          <a:lnTo>
                            <a:pt x="358" y="633"/>
                          </a:lnTo>
                          <a:lnTo>
                            <a:pt x="356" y="629"/>
                          </a:lnTo>
                          <a:lnTo>
                            <a:pt x="354" y="623"/>
                          </a:lnTo>
                          <a:lnTo>
                            <a:pt x="350" y="620"/>
                          </a:lnTo>
                          <a:lnTo>
                            <a:pt x="346" y="616"/>
                          </a:lnTo>
                          <a:lnTo>
                            <a:pt x="342" y="612"/>
                          </a:lnTo>
                          <a:lnTo>
                            <a:pt x="339" y="610"/>
                          </a:lnTo>
                          <a:lnTo>
                            <a:pt x="335" y="606"/>
                          </a:lnTo>
                          <a:lnTo>
                            <a:pt x="331" y="603"/>
                          </a:lnTo>
                          <a:lnTo>
                            <a:pt x="325" y="601"/>
                          </a:lnTo>
                          <a:lnTo>
                            <a:pt x="321" y="597"/>
                          </a:lnTo>
                          <a:lnTo>
                            <a:pt x="318" y="595"/>
                          </a:lnTo>
                          <a:lnTo>
                            <a:pt x="312" y="593"/>
                          </a:lnTo>
                          <a:lnTo>
                            <a:pt x="306" y="591"/>
                          </a:lnTo>
                          <a:lnTo>
                            <a:pt x="302" y="589"/>
                          </a:lnTo>
                          <a:lnTo>
                            <a:pt x="299" y="589"/>
                          </a:lnTo>
                          <a:lnTo>
                            <a:pt x="295" y="587"/>
                          </a:lnTo>
                          <a:lnTo>
                            <a:pt x="291" y="587"/>
                          </a:lnTo>
                          <a:lnTo>
                            <a:pt x="287" y="585"/>
                          </a:lnTo>
                          <a:lnTo>
                            <a:pt x="285" y="585"/>
                          </a:lnTo>
                          <a:lnTo>
                            <a:pt x="283" y="585"/>
                          </a:lnTo>
                          <a:lnTo>
                            <a:pt x="280" y="585"/>
                          </a:lnTo>
                          <a:lnTo>
                            <a:pt x="276" y="585"/>
                          </a:lnTo>
                          <a:lnTo>
                            <a:pt x="274" y="585"/>
                          </a:lnTo>
                          <a:lnTo>
                            <a:pt x="272" y="585"/>
                          </a:lnTo>
                          <a:lnTo>
                            <a:pt x="268" y="585"/>
                          </a:lnTo>
                          <a:lnTo>
                            <a:pt x="266" y="585"/>
                          </a:lnTo>
                          <a:lnTo>
                            <a:pt x="263" y="585"/>
                          </a:lnTo>
                          <a:lnTo>
                            <a:pt x="261" y="587"/>
                          </a:lnTo>
                          <a:lnTo>
                            <a:pt x="259" y="587"/>
                          </a:lnTo>
                          <a:lnTo>
                            <a:pt x="255" y="587"/>
                          </a:lnTo>
                          <a:lnTo>
                            <a:pt x="253" y="589"/>
                          </a:lnTo>
                          <a:lnTo>
                            <a:pt x="249" y="589"/>
                          </a:lnTo>
                          <a:lnTo>
                            <a:pt x="247" y="589"/>
                          </a:lnTo>
                          <a:lnTo>
                            <a:pt x="243" y="591"/>
                          </a:lnTo>
                          <a:lnTo>
                            <a:pt x="240" y="591"/>
                          </a:lnTo>
                          <a:lnTo>
                            <a:pt x="238" y="593"/>
                          </a:lnTo>
                          <a:lnTo>
                            <a:pt x="236" y="595"/>
                          </a:lnTo>
                          <a:lnTo>
                            <a:pt x="232" y="595"/>
                          </a:lnTo>
                          <a:lnTo>
                            <a:pt x="230" y="597"/>
                          </a:lnTo>
                          <a:lnTo>
                            <a:pt x="228" y="599"/>
                          </a:lnTo>
                          <a:lnTo>
                            <a:pt x="224" y="601"/>
                          </a:lnTo>
                          <a:lnTo>
                            <a:pt x="223" y="601"/>
                          </a:lnTo>
                          <a:lnTo>
                            <a:pt x="219" y="603"/>
                          </a:lnTo>
                          <a:lnTo>
                            <a:pt x="217" y="604"/>
                          </a:lnTo>
                          <a:lnTo>
                            <a:pt x="211" y="608"/>
                          </a:lnTo>
                          <a:lnTo>
                            <a:pt x="207" y="612"/>
                          </a:lnTo>
                          <a:lnTo>
                            <a:pt x="204" y="616"/>
                          </a:lnTo>
                          <a:lnTo>
                            <a:pt x="198" y="618"/>
                          </a:lnTo>
                          <a:lnTo>
                            <a:pt x="194" y="623"/>
                          </a:lnTo>
                          <a:lnTo>
                            <a:pt x="188" y="627"/>
                          </a:lnTo>
                          <a:lnTo>
                            <a:pt x="185" y="633"/>
                          </a:lnTo>
                          <a:lnTo>
                            <a:pt x="181" y="637"/>
                          </a:lnTo>
                          <a:lnTo>
                            <a:pt x="177" y="641"/>
                          </a:lnTo>
                          <a:lnTo>
                            <a:pt x="173" y="646"/>
                          </a:lnTo>
                          <a:lnTo>
                            <a:pt x="169" y="652"/>
                          </a:lnTo>
                          <a:lnTo>
                            <a:pt x="166" y="656"/>
                          </a:lnTo>
                          <a:lnTo>
                            <a:pt x="162" y="662"/>
                          </a:lnTo>
                          <a:lnTo>
                            <a:pt x="160" y="665"/>
                          </a:lnTo>
                          <a:lnTo>
                            <a:pt x="158" y="669"/>
                          </a:lnTo>
                          <a:lnTo>
                            <a:pt x="158" y="671"/>
                          </a:lnTo>
                          <a:lnTo>
                            <a:pt x="156" y="673"/>
                          </a:lnTo>
                          <a:lnTo>
                            <a:pt x="154" y="677"/>
                          </a:lnTo>
                          <a:lnTo>
                            <a:pt x="152" y="679"/>
                          </a:lnTo>
                          <a:lnTo>
                            <a:pt x="152" y="681"/>
                          </a:lnTo>
                          <a:lnTo>
                            <a:pt x="150" y="684"/>
                          </a:lnTo>
                          <a:lnTo>
                            <a:pt x="150" y="688"/>
                          </a:lnTo>
                          <a:lnTo>
                            <a:pt x="146" y="694"/>
                          </a:lnTo>
                          <a:lnTo>
                            <a:pt x="145" y="701"/>
                          </a:lnTo>
                          <a:lnTo>
                            <a:pt x="143" y="709"/>
                          </a:lnTo>
                          <a:lnTo>
                            <a:pt x="139" y="717"/>
                          </a:lnTo>
                          <a:lnTo>
                            <a:pt x="137" y="724"/>
                          </a:lnTo>
                          <a:lnTo>
                            <a:pt x="135" y="732"/>
                          </a:lnTo>
                          <a:lnTo>
                            <a:pt x="131" y="739"/>
                          </a:lnTo>
                          <a:lnTo>
                            <a:pt x="129" y="747"/>
                          </a:lnTo>
                          <a:lnTo>
                            <a:pt x="126" y="755"/>
                          </a:lnTo>
                          <a:lnTo>
                            <a:pt x="124" y="760"/>
                          </a:lnTo>
                          <a:lnTo>
                            <a:pt x="122" y="768"/>
                          </a:lnTo>
                          <a:lnTo>
                            <a:pt x="120" y="776"/>
                          </a:lnTo>
                          <a:lnTo>
                            <a:pt x="116" y="781"/>
                          </a:lnTo>
                          <a:lnTo>
                            <a:pt x="114" y="789"/>
                          </a:lnTo>
                          <a:lnTo>
                            <a:pt x="112" y="796"/>
                          </a:lnTo>
                          <a:lnTo>
                            <a:pt x="110" y="804"/>
                          </a:lnTo>
                          <a:lnTo>
                            <a:pt x="107" y="812"/>
                          </a:lnTo>
                          <a:lnTo>
                            <a:pt x="107" y="817"/>
                          </a:lnTo>
                          <a:lnTo>
                            <a:pt x="103" y="823"/>
                          </a:lnTo>
                          <a:lnTo>
                            <a:pt x="101" y="831"/>
                          </a:lnTo>
                          <a:lnTo>
                            <a:pt x="97" y="836"/>
                          </a:lnTo>
                          <a:lnTo>
                            <a:pt x="97" y="844"/>
                          </a:lnTo>
                          <a:lnTo>
                            <a:pt x="93" y="852"/>
                          </a:lnTo>
                          <a:lnTo>
                            <a:pt x="93" y="857"/>
                          </a:lnTo>
                          <a:lnTo>
                            <a:pt x="89" y="865"/>
                          </a:lnTo>
                          <a:lnTo>
                            <a:pt x="88" y="871"/>
                          </a:lnTo>
                          <a:lnTo>
                            <a:pt x="86" y="878"/>
                          </a:lnTo>
                          <a:lnTo>
                            <a:pt x="84" y="884"/>
                          </a:lnTo>
                          <a:lnTo>
                            <a:pt x="82" y="892"/>
                          </a:lnTo>
                          <a:lnTo>
                            <a:pt x="80" y="899"/>
                          </a:lnTo>
                          <a:lnTo>
                            <a:pt x="78" y="907"/>
                          </a:lnTo>
                          <a:lnTo>
                            <a:pt x="74" y="912"/>
                          </a:lnTo>
                          <a:lnTo>
                            <a:pt x="72" y="920"/>
                          </a:lnTo>
                          <a:lnTo>
                            <a:pt x="72" y="926"/>
                          </a:lnTo>
                          <a:lnTo>
                            <a:pt x="68" y="931"/>
                          </a:lnTo>
                          <a:lnTo>
                            <a:pt x="67" y="939"/>
                          </a:lnTo>
                          <a:lnTo>
                            <a:pt x="65" y="945"/>
                          </a:lnTo>
                          <a:lnTo>
                            <a:pt x="63" y="952"/>
                          </a:lnTo>
                          <a:lnTo>
                            <a:pt x="59" y="958"/>
                          </a:lnTo>
                          <a:lnTo>
                            <a:pt x="57" y="966"/>
                          </a:lnTo>
                          <a:lnTo>
                            <a:pt x="55" y="971"/>
                          </a:lnTo>
                          <a:lnTo>
                            <a:pt x="53" y="979"/>
                          </a:lnTo>
                          <a:lnTo>
                            <a:pt x="51" y="987"/>
                          </a:lnTo>
                          <a:lnTo>
                            <a:pt x="49" y="994"/>
                          </a:lnTo>
                          <a:lnTo>
                            <a:pt x="48" y="1000"/>
                          </a:lnTo>
                          <a:lnTo>
                            <a:pt x="46" y="1007"/>
                          </a:lnTo>
                          <a:lnTo>
                            <a:pt x="44" y="1015"/>
                          </a:lnTo>
                          <a:lnTo>
                            <a:pt x="42" y="1021"/>
                          </a:lnTo>
                          <a:lnTo>
                            <a:pt x="42" y="1028"/>
                          </a:lnTo>
                          <a:lnTo>
                            <a:pt x="38" y="1036"/>
                          </a:lnTo>
                          <a:lnTo>
                            <a:pt x="36" y="1042"/>
                          </a:lnTo>
                          <a:lnTo>
                            <a:pt x="36" y="1049"/>
                          </a:lnTo>
                          <a:lnTo>
                            <a:pt x="34" y="1057"/>
                          </a:lnTo>
                          <a:lnTo>
                            <a:pt x="30" y="1063"/>
                          </a:lnTo>
                          <a:lnTo>
                            <a:pt x="30" y="1070"/>
                          </a:lnTo>
                          <a:lnTo>
                            <a:pt x="29" y="1078"/>
                          </a:lnTo>
                          <a:lnTo>
                            <a:pt x="27" y="1085"/>
                          </a:lnTo>
                          <a:lnTo>
                            <a:pt x="25" y="1093"/>
                          </a:lnTo>
                          <a:lnTo>
                            <a:pt x="23" y="1101"/>
                          </a:lnTo>
                          <a:lnTo>
                            <a:pt x="21" y="1108"/>
                          </a:lnTo>
                          <a:lnTo>
                            <a:pt x="19" y="1116"/>
                          </a:lnTo>
                          <a:lnTo>
                            <a:pt x="17" y="1123"/>
                          </a:lnTo>
                          <a:lnTo>
                            <a:pt x="17" y="1131"/>
                          </a:lnTo>
                          <a:lnTo>
                            <a:pt x="15" y="1139"/>
                          </a:lnTo>
                          <a:lnTo>
                            <a:pt x="13" y="1148"/>
                          </a:lnTo>
                          <a:lnTo>
                            <a:pt x="10" y="1158"/>
                          </a:lnTo>
                          <a:lnTo>
                            <a:pt x="10" y="1165"/>
                          </a:lnTo>
                          <a:lnTo>
                            <a:pt x="8" y="1175"/>
                          </a:lnTo>
                          <a:lnTo>
                            <a:pt x="6" y="1182"/>
                          </a:lnTo>
                          <a:lnTo>
                            <a:pt x="6" y="1192"/>
                          </a:lnTo>
                          <a:lnTo>
                            <a:pt x="4" y="1201"/>
                          </a:lnTo>
                          <a:lnTo>
                            <a:pt x="2" y="1211"/>
                          </a:lnTo>
                          <a:lnTo>
                            <a:pt x="2" y="1218"/>
                          </a:lnTo>
                          <a:lnTo>
                            <a:pt x="0" y="1230"/>
                          </a:lnTo>
                          <a:lnTo>
                            <a:pt x="0" y="1237"/>
                          </a:lnTo>
                          <a:lnTo>
                            <a:pt x="0" y="1247"/>
                          </a:lnTo>
                          <a:lnTo>
                            <a:pt x="0" y="1257"/>
                          </a:lnTo>
                          <a:lnTo>
                            <a:pt x="0" y="1268"/>
                          </a:lnTo>
                          <a:lnTo>
                            <a:pt x="0" y="1276"/>
                          </a:lnTo>
                          <a:lnTo>
                            <a:pt x="0" y="1285"/>
                          </a:lnTo>
                          <a:lnTo>
                            <a:pt x="0" y="1296"/>
                          </a:lnTo>
                          <a:lnTo>
                            <a:pt x="0" y="1304"/>
                          </a:lnTo>
                          <a:lnTo>
                            <a:pt x="0" y="1314"/>
                          </a:lnTo>
                          <a:lnTo>
                            <a:pt x="0" y="1323"/>
                          </a:lnTo>
                          <a:lnTo>
                            <a:pt x="0" y="1333"/>
                          </a:lnTo>
                          <a:lnTo>
                            <a:pt x="2" y="1342"/>
                          </a:lnTo>
                          <a:lnTo>
                            <a:pt x="2" y="1352"/>
                          </a:lnTo>
                          <a:lnTo>
                            <a:pt x="4" y="1363"/>
                          </a:lnTo>
                          <a:lnTo>
                            <a:pt x="4" y="1371"/>
                          </a:lnTo>
                          <a:lnTo>
                            <a:pt x="6" y="1382"/>
                          </a:lnTo>
                          <a:lnTo>
                            <a:pt x="8" y="1390"/>
                          </a:lnTo>
                          <a:lnTo>
                            <a:pt x="8" y="1401"/>
                          </a:lnTo>
                          <a:lnTo>
                            <a:pt x="10" y="1409"/>
                          </a:lnTo>
                          <a:lnTo>
                            <a:pt x="11" y="1420"/>
                          </a:lnTo>
                          <a:lnTo>
                            <a:pt x="13" y="1429"/>
                          </a:lnTo>
                          <a:lnTo>
                            <a:pt x="15" y="1439"/>
                          </a:lnTo>
                          <a:lnTo>
                            <a:pt x="17" y="1448"/>
                          </a:lnTo>
                          <a:lnTo>
                            <a:pt x="19" y="1458"/>
                          </a:lnTo>
                          <a:lnTo>
                            <a:pt x="21" y="1468"/>
                          </a:lnTo>
                          <a:lnTo>
                            <a:pt x="23" y="1477"/>
                          </a:lnTo>
                          <a:lnTo>
                            <a:pt x="27" y="1487"/>
                          </a:lnTo>
                          <a:lnTo>
                            <a:pt x="29" y="1496"/>
                          </a:lnTo>
                          <a:lnTo>
                            <a:pt x="30" y="1506"/>
                          </a:lnTo>
                          <a:lnTo>
                            <a:pt x="34" y="1515"/>
                          </a:lnTo>
                          <a:lnTo>
                            <a:pt x="36" y="1525"/>
                          </a:lnTo>
                          <a:lnTo>
                            <a:pt x="38" y="1534"/>
                          </a:lnTo>
                          <a:lnTo>
                            <a:pt x="42" y="1544"/>
                          </a:lnTo>
                          <a:lnTo>
                            <a:pt x="46" y="1553"/>
                          </a:lnTo>
                          <a:lnTo>
                            <a:pt x="48" y="1561"/>
                          </a:lnTo>
                          <a:lnTo>
                            <a:pt x="51" y="1572"/>
                          </a:lnTo>
                          <a:lnTo>
                            <a:pt x="55" y="1580"/>
                          </a:lnTo>
                          <a:lnTo>
                            <a:pt x="59" y="1589"/>
                          </a:lnTo>
                          <a:lnTo>
                            <a:pt x="63" y="1599"/>
                          </a:lnTo>
                          <a:lnTo>
                            <a:pt x="67" y="1608"/>
                          </a:lnTo>
                          <a:lnTo>
                            <a:pt x="68" y="1616"/>
                          </a:lnTo>
                          <a:lnTo>
                            <a:pt x="74" y="1627"/>
                          </a:lnTo>
                          <a:lnTo>
                            <a:pt x="78" y="1635"/>
                          </a:lnTo>
                          <a:lnTo>
                            <a:pt x="82" y="1644"/>
                          </a:lnTo>
                          <a:lnTo>
                            <a:pt x="86" y="1652"/>
                          </a:lnTo>
                          <a:lnTo>
                            <a:pt x="89" y="1661"/>
                          </a:lnTo>
                          <a:lnTo>
                            <a:pt x="95" y="1669"/>
                          </a:lnTo>
                          <a:lnTo>
                            <a:pt x="99" y="1679"/>
                          </a:lnTo>
                          <a:lnTo>
                            <a:pt x="103" y="1688"/>
                          </a:lnTo>
                          <a:lnTo>
                            <a:pt x="108" y="1696"/>
                          </a:lnTo>
                          <a:lnTo>
                            <a:pt x="114" y="1703"/>
                          </a:lnTo>
                          <a:lnTo>
                            <a:pt x="118" y="1713"/>
                          </a:lnTo>
                          <a:lnTo>
                            <a:pt x="124" y="1722"/>
                          </a:lnTo>
                          <a:lnTo>
                            <a:pt x="127" y="1732"/>
                          </a:lnTo>
                          <a:lnTo>
                            <a:pt x="131" y="1736"/>
                          </a:lnTo>
                          <a:lnTo>
                            <a:pt x="135" y="1739"/>
                          </a:lnTo>
                          <a:lnTo>
                            <a:pt x="135" y="1743"/>
                          </a:lnTo>
                          <a:lnTo>
                            <a:pt x="137" y="1745"/>
                          </a:lnTo>
                          <a:lnTo>
                            <a:pt x="139" y="1747"/>
                          </a:lnTo>
                          <a:lnTo>
                            <a:pt x="141" y="1751"/>
                          </a:lnTo>
                          <a:lnTo>
                            <a:pt x="143" y="1755"/>
                          </a:lnTo>
                          <a:lnTo>
                            <a:pt x="143" y="1756"/>
                          </a:lnTo>
                          <a:lnTo>
                            <a:pt x="145" y="1760"/>
                          </a:lnTo>
                          <a:lnTo>
                            <a:pt x="146" y="1762"/>
                          </a:lnTo>
                          <a:lnTo>
                            <a:pt x="148" y="1766"/>
                          </a:lnTo>
                          <a:lnTo>
                            <a:pt x="150" y="1768"/>
                          </a:lnTo>
                          <a:lnTo>
                            <a:pt x="152" y="1770"/>
                          </a:lnTo>
                          <a:lnTo>
                            <a:pt x="156" y="1774"/>
                          </a:lnTo>
                          <a:lnTo>
                            <a:pt x="158" y="1777"/>
                          </a:lnTo>
                          <a:lnTo>
                            <a:pt x="160" y="1779"/>
                          </a:lnTo>
                          <a:lnTo>
                            <a:pt x="160" y="1783"/>
                          </a:lnTo>
                          <a:lnTo>
                            <a:pt x="162" y="1787"/>
                          </a:lnTo>
                          <a:lnTo>
                            <a:pt x="166" y="1789"/>
                          </a:lnTo>
                          <a:lnTo>
                            <a:pt x="166" y="1791"/>
                          </a:lnTo>
                          <a:lnTo>
                            <a:pt x="167" y="1794"/>
                          </a:lnTo>
                          <a:lnTo>
                            <a:pt x="169" y="1796"/>
                          </a:lnTo>
                          <a:lnTo>
                            <a:pt x="171" y="1800"/>
                          </a:lnTo>
                          <a:lnTo>
                            <a:pt x="173" y="1802"/>
                          </a:lnTo>
                          <a:lnTo>
                            <a:pt x="175" y="1806"/>
                          </a:lnTo>
                          <a:lnTo>
                            <a:pt x="177" y="1808"/>
                          </a:lnTo>
                          <a:lnTo>
                            <a:pt x="179" y="1812"/>
                          </a:lnTo>
                          <a:lnTo>
                            <a:pt x="181" y="1815"/>
                          </a:lnTo>
                          <a:lnTo>
                            <a:pt x="183" y="1817"/>
                          </a:lnTo>
                          <a:lnTo>
                            <a:pt x="185" y="1821"/>
                          </a:lnTo>
                          <a:lnTo>
                            <a:pt x="188" y="1827"/>
                          </a:lnTo>
                          <a:lnTo>
                            <a:pt x="190" y="1831"/>
                          </a:lnTo>
                          <a:lnTo>
                            <a:pt x="194" y="1836"/>
                          </a:lnTo>
                          <a:lnTo>
                            <a:pt x="198" y="1842"/>
                          </a:lnTo>
                          <a:lnTo>
                            <a:pt x="200" y="1846"/>
                          </a:lnTo>
                          <a:lnTo>
                            <a:pt x="204" y="1850"/>
                          </a:lnTo>
                          <a:lnTo>
                            <a:pt x="205" y="1853"/>
                          </a:lnTo>
                          <a:lnTo>
                            <a:pt x="207" y="1859"/>
                          </a:lnTo>
                          <a:lnTo>
                            <a:pt x="209" y="1861"/>
                          </a:lnTo>
                          <a:lnTo>
                            <a:pt x="211" y="1863"/>
                          </a:lnTo>
                          <a:lnTo>
                            <a:pt x="213" y="1867"/>
                          </a:lnTo>
                          <a:lnTo>
                            <a:pt x="215" y="1869"/>
                          </a:lnTo>
                          <a:lnTo>
                            <a:pt x="217" y="1870"/>
                          </a:lnTo>
                          <a:lnTo>
                            <a:pt x="219" y="1874"/>
                          </a:lnTo>
                          <a:lnTo>
                            <a:pt x="141" y="2163"/>
                          </a:lnTo>
                          <a:lnTo>
                            <a:pt x="143" y="2165"/>
                          </a:lnTo>
                          <a:lnTo>
                            <a:pt x="146" y="2165"/>
                          </a:lnTo>
                          <a:lnTo>
                            <a:pt x="150" y="2167"/>
                          </a:lnTo>
                          <a:lnTo>
                            <a:pt x="152" y="2167"/>
                          </a:lnTo>
                          <a:lnTo>
                            <a:pt x="154" y="2167"/>
                          </a:lnTo>
                          <a:lnTo>
                            <a:pt x="158" y="2167"/>
                          </a:lnTo>
                          <a:lnTo>
                            <a:pt x="162" y="2171"/>
                          </a:lnTo>
                          <a:lnTo>
                            <a:pt x="166" y="2171"/>
                          </a:lnTo>
                          <a:lnTo>
                            <a:pt x="167" y="2173"/>
                          </a:lnTo>
                          <a:lnTo>
                            <a:pt x="171" y="2173"/>
                          </a:lnTo>
                          <a:lnTo>
                            <a:pt x="175" y="2175"/>
                          </a:lnTo>
                          <a:lnTo>
                            <a:pt x="181" y="2175"/>
                          </a:lnTo>
                          <a:lnTo>
                            <a:pt x="185" y="2175"/>
                          </a:lnTo>
                          <a:lnTo>
                            <a:pt x="188" y="2177"/>
                          </a:lnTo>
                          <a:lnTo>
                            <a:pt x="194" y="2180"/>
                          </a:lnTo>
                          <a:lnTo>
                            <a:pt x="198" y="2180"/>
                          </a:lnTo>
                          <a:lnTo>
                            <a:pt x="204" y="2182"/>
                          </a:lnTo>
                          <a:lnTo>
                            <a:pt x="209" y="2182"/>
                          </a:lnTo>
                          <a:lnTo>
                            <a:pt x="215" y="2184"/>
                          </a:lnTo>
                          <a:lnTo>
                            <a:pt x="219" y="2186"/>
                          </a:lnTo>
                          <a:lnTo>
                            <a:pt x="224" y="2188"/>
                          </a:lnTo>
                          <a:lnTo>
                            <a:pt x="232" y="2188"/>
                          </a:lnTo>
                          <a:lnTo>
                            <a:pt x="238" y="2190"/>
                          </a:lnTo>
                          <a:lnTo>
                            <a:pt x="243" y="2190"/>
                          </a:lnTo>
                          <a:lnTo>
                            <a:pt x="251" y="2192"/>
                          </a:lnTo>
                          <a:lnTo>
                            <a:pt x="257" y="2194"/>
                          </a:lnTo>
                          <a:lnTo>
                            <a:pt x="264" y="2194"/>
                          </a:lnTo>
                          <a:lnTo>
                            <a:pt x="270" y="2196"/>
                          </a:lnTo>
                          <a:lnTo>
                            <a:pt x="276" y="2196"/>
                          </a:lnTo>
                          <a:lnTo>
                            <a:pt x="283" y="2197"/>
                          </a:lnTo>
                          <a:lnTo>
                            <a:pt x="291" y="2199"/>
                          </a:lnTo>
                          <a:lnTo>
                            <a:pt x="297" y="2199"/>
                          </a:lnTo>
                          <a:lnTo>
                            <a:pt x="304" y="2199"/>
                          </a:lnTo>
                          <a:lnTo>
                            <a:pt x="312" y="2199"/>
                          </a:lnTo>
                          <a:lnTo>
                            <a:pt x="320" y="2201"/>
                          </a:lnTo>
                          <a:lnTo>
                            <a:pt x="325" y="2201"/>
                          </a:lnTo>
                          <a:lnTo>
                            <a:pt x="333" y="2201"/>
                          </a:lnTo>
                          <a:lnTo>
                            <a:pt x="341" y="2201"/>
                          </a:lnTo>
                          <a:lnTo>
                            <a:pt x="348" y="2201"/>
                          </a:lnTo>
                          <a:lnTo>
                            <a:pt x="356" y="2201"/>
                          </a:lnTo>
                          <a:lnTo>
                            <a:pt x="363" y="2201"/>
                          </a:lnTo>
                          <a:lnTo>
                            <a:pt x="371" y="2201"/>
                          </a:lnTo>
                          <a:lnTo>
                            <a:pt x="379" y="2201"/>
                          </a:lnTo>
                          <a:lnTo>
                            <a:pt x="386" y="2201"/>
                          </a:lnTo>
                          <a:lnTo>
                            <a:pt x="394" y="2201"/>
                          </a:lnTo>
                          <a:lnTo>
                            <a:pt x="401" y="2199"/>
                          </a:lnTo>
                          <a:lnTo>
                            <a:pt x="409" y="2199"/>
                          </a:lnTo>
                          <a:lnTo>
                            <a:pt x="415" y="2197"/>
                          </a:lnTo>
                          <a:lnTo>
                            <a:pt x="422" y="2196"/>
                          </a:lnTo>
                          <a:lnTo>
                            <a:pt x="432" y="2196"/>
                          </a:lnTo>
                          <a:lnTo>
                            <a:pt x="439" y="2194"/>
                          </a:lnTo>
                          <a:lnTo>
                            <a:pt x="447" y="2192"/>
                          </a:lnTo>
                          <a:lnTo>
                            <a:pt x="455" y="2190"/>
                          </a:lnTo>
                          <a:lnTo>
                            <a:pt x="462" y="2188"/>
                          </a:lnTo>
                          <a:lnTo>
                            <a:pt x="470" y="2188"/>
                          </a:lnTo>
                          <a:lnTo>
                            <a:pt x="476" y="2184"/>
                          </a:lnTo>
                          <a:lnTo>
                            <a:pt x="483" y="2182"/>
                          </a:lnTo>
                          <a:lnTo>
                            <a:pt x="491" y="2180"/>
                          </a:lnTo>
                          <a:lnTo>
                            <a:pt x="498" y="2175"/>
                          </a:lnTo>
                          <a:lnTo>
                            <a:pt x="504" y="2173"/>
                          </a:lnTo>
                          <a:lnTo>
                            <a:pt x="512" y="2169"/>
                          </a:lnTo>
                          <a:lnTo>
                            <a:pt x="517" y="2165"/>
                          </a:lnTo>
                          <a:lnTo>
                            <a:pt x="525" y="2161"/>
                          </a:lnTo>
                          <a:lnTo>
                            <a:pt x="531" y="2158"/>
                          </a:lnTo>
                          <a:lnTo>
                            <a:pt x="536" y="2154"/>
                          </a:lnTo>
                          <a:lnTo>
                            <a:pt x="542" y="2150"/>
                          </a:lnTo>
                          <a:lnTo>
                            <a:pt x="550" y="2146"/>
                          </a:lnTo>
                          <a:lnTo>
                            <a:pt x="555" y="2142"/>
                          </a:lnTo>
                          <a:lnTo>
                            <a:pt x="559" y="2137"/>
                          </a:lnTo>
                          <a:lnTo>
                            <a:pt x="565" y="2133"/>
                          </a:lnTo>
                          <a:lnTo>
                            <a:pt x="571" y="2129"/>
                          </a:lnTo>
                          <a:lnTo>
                            <a:pt x="576" y="2123"/>
                          </a:lnTo>
                          <a:lnTo>
                            <a:pt x="582" y="2120"/>
                          </a:lnTo>
                          <a:lnTo>
                            <a:pt x="588" y="2114"/>
                          </a:lnTo>
                          <a:lnTo>
                            <a:pt x="592" y="2110"/>
                          </a:lnTo>
                          <a:lnTo>
                            <a:pt x="595" y="2106"/>
                          </a:lnTo>
                          <a:lnTo>
                            <a:pt x="601" y="2101"/>
                          </a:lnTo>
                          <a:lnTo>
                            <a:pt x="605" y="2095"/>
                          </a:lnTo>
                          <a:lnTo>
                            <a:pt x="611" y="2091"/>
                          </a:lnTo>
                          <a:lnTo>
                            <a:pt x="614" y="2085"/>
                          </a:lnTo>
                          <a:lnTo>
                            <a:pt x="618" y="2080"/>
                          </a:lnTo>
                          <a:lnTo>
                            <a:pt x="624" y="2076"/>
                          </a:lnTo>
                          <a:lnTo>
                            <a:pt x="628" y="2070"/>
                          </a:lnTo>
                          <a:lnTo>
                            <a:pt x="632" y="2064"/>
                          </a:lnTo>
                          <a:lnTo>
                            <a:pt x="635" y="2059"/>
                          </a:lnTo>
                          <a:lnTo>
                            <a:pt x="637" y="2055"/>
                          </a:lnTo>
                          <a:lnTo>
                            <a:pt x="643" y="2049"/>
                          </a:lnTo>
                          <a:lnTo>
                            <a:pt x="645" y="2043"/>
                          </a:lnTo>
                          <a:lnTo>
                            <a:pt x="649" y="2040"/>
                          </a:lnTo>
                          <a:lnTo>
                            <a:pt x="652" y="2034"/>
                          </a:lnTo>
                          <a:lnTo>
                            <a:pt x="654" y="2030"/>
                          </a:lnTo>
                          <a:lnTo>
                            <a:pt x="658" y="2024"/>
                          </a:lnTo>
                          <a:lnTo>
                            <a:pt x="660" y="2021"/>
                          </a:lnTo>
                          <a:lnTo>
                            <a:pt x="664" y="2015"/>
                          </a:lnTo>
                          <a:lnTo>
                            <a:pt x="666" y="2011"/>
                          </a:lnTo>
                          <a:lnTo>
                            <a:pt x="668" y="2005"/>
                          </a:lnTo>
                          <a:lnTo>
                            <a:pt x="672" y="2002"/>
                          </a:lnTo>
                          <a:lnTo>
                            <a:pt x="673" y="1998"/>
                          </a:lnTo>
                          <a:lnTo>
                            <a:pt x="675" y="1992"/>
                          </a:lnTo>
                          <a:lnTo>
                            <a:pt x="677" y="1986"/>
                          </a:lnTo>
                          <a:lnTo>
                            <a:pt x="679" y="1983"/>
                          </a:lnTo>
                          <a:lnTo>
                            <a:pt x="681" y="1979"/>
                          </a:lnTo>
                          <a:lnTo>
                            <a:pt x="683" y="1975"/>
                          </a:lnTo>
                          <a:lnTo>
                            <a:pt x="685" y="1971"/>
                          </a:lnTo>
                          <a:lnTo>
                            <a:pt x="687" y="1969"/>
                          </a:lnTo>
                          <a:lnTo>
                            <a:pt x="689" y="1964"/>
                          </a:lnTo>
                          <a:lnTo>
                            <a:pt x="691" y="1962"/>
                          </a:lnTo>
                          <a:lnTo>
                            <a:pt x="692" y="1958"/>
                          </a:lnTo>
                          <a:lnTo>
                            <a:pt x="692" y="1954"/>
                          </a:lnTo>
                          <a:lnTo>
                            <a:pt x="692" y="1952"/>
                          </a:lnTo>
                          <a:lnTo>
                            <a:pt x="694" y="1950"/>
                          </a:lnTo>
                          <a:lnTo>
                            <a:pt x="696" y="1945"/>
                          </a:lnTo>
                          <a:lnTo>
                            <a:pt x="698" y="1941"/>
                          </a:lnTo>
                          <a:lnTo>
                            <a:pt x="700" y="1937"/>
                          </a:lnTo>
                          <a:lnTo>
                            <a:pt x="700" y="1935"/>
                          </a:lnTo>
                          <a:lnTo>
                            <a:pt x="700" y="1933"/>
                          </a:lnTo>
                          <a:lnTo>
                            <a:pt x="702" y="1933"/>
                          </a:lnTo>
                          <a:lnTo>
                            <a:pt x="740" y="1943"/>
                          </a:lnTo>
                          <a:lnTo>
                            <a:pt x="740" y="1943"/>
                          </a:lnTo>
                          <a:lnTo>
                            <a:pt x="738" y="1945"/>
                          </a:lnTo>
                          <a:lnTo>
                            <a:pt x="738" y="1947"/>
                          </a:lnTo>
                          <a:lnTo>
                            <a:pt x="738" y="1950"/>
                          </a:lnTo>
                          <a:lnTo>
                            <a:pt x="738" y="1954"/>
                          </a:lnTo>
                          <a:lnTo>
                            <a:pt x="738" y="1958"/>
                          </a:lnTo>
                          <a:lnTo>
                            <a:pt x="736" y="1962"/>
                          </a:lnTo>
                          <a:lnTo>
                            <a:pt x="736" y="1964"/>
                          </a:lnTo>
                          <a:lnTo>
                            <a:pt x="736" y="1967"/>
                          </a:lnTo>
                          <a:lnTo>
                            <a:pt x="736" y="1971"/>
                          </a:lnTo>
                          <a:lnTo>
                            <a:pt x="736" y="1975"/>
                          </a:lnTo>
                          <a:lnTo>
                            <a:pt x="736" y="1979"/>
                          </a:lnTo>
                          <a:lnTo>
                            <a:pt x="736" y="1983"/>
                          </a:lnTo>
                          <a:lnTo>
                            <a:pt x="736" y="1985"/>
                          </a:lnTo>
                          <a:lnTo>
                            <a:pt x="736" y="1990"/>
                          </a:lnTo>
                          <a:lnTo>
                            <a:pt x="736" y="1994"/>
                          </a:lnTo>
                          <a:lnTo>
                            <a:pt x="736" y="1998"/>
                          </a:lnTo>
                          <a:lnTo>
                            <a:pt x="736" y="2004"/>
                          </a:lnTo>
                          <a:lnTo>
                            <a:pt x="736" y="2007"/>
                          </a:lnTo>
                          <a:lnTo>
                            <a:pt x="736" y="2013"/>
                          </a:lnTo>
                          <a:lnTo>
                            <a:pt x="736" y="2015"/>
                          </a:lnTo>
                          <a:lnTo>
                            <a:pt x="736" y="2021"/>
                          </a:lnTo>
                          <a:lnTo>
                            <a:pt x="736" y="2026"/>
                          </a:lnTo>
                          <a:lnTo>
                            <a:pt x="736" y="2030"/>
                          </a:lnTo>
                          <a:lnTo>
                            <a:pt x="736" y="2036"/>
                          </a:lnTo>
                          <a:lnTo>
                            <a:pt x="736" y="2042"/>
                          </a:lnTo>
                          <a:lnTo>
                            <a:pt x="736" y="2047"/>
                          </a:lnTo>
                          <a:lnTo>
                            <a:pt x="738" y="2051"/>
                          </a:lnTo>
                          <a:lnTo>
                            <a:pt x="738" y="2057"/>
                          </a:lnTo>
                          <a:lnTo>
                            <a:pt x="738" y="2062"/>
                          </a:lnTo>
                          <a:lnTo>
                            <a:pt x="740" y="2066"/>
                          </a:lnTo>
                          <a:lnTo>
                            <a:pt x="740" y="2072"/>
                          </a:lnTo>
                          <a:lnTo>
                            <a:pt x="742" y="2078"/>
                          </a:lnTo>
                          <a:lnTo>
                            <a:pt x="744" y="2083"/>
                          </a:lnTo>
                          <a:lnTo>
                            <a:pt x="744" y="2091"/>
                          </a:lnTo>
                          <a:lnTo>
                            <a:pt x="746" y="2095"/>
                          </a:lnTo>
                          <a:lnTo>
                            <a:pt x="748" y="2101"/>
                          </a:lnTo>
                          <a:lnTo>
                            <a:pt x="748" y="2106"/>
                          </a:lnTo>
                          <a:lnTo>
                            <a:pt x="751" y="2110"/>
                          </a:lnTo>
                          <a:lnTo>
                            <a:pt x="753" y="2118"/>
                          </a:lnTo>
                          <a:lnTo>
                            <a:pt x="753" y="2123"/>
                          </a:lnTo>
                          <a:lnTo>
                            <a:pt x="757" y="2129"/>
                          </a:lnTo>
                          <a:lnTo>
                            <a:pt x="759" y="2135"/>
                          </a:lnTo>
                          <a:lnTo>
                            <a:pt x="761" y="2139"/>
                          </a:lnTo>
                          <a:lnTo>
                            <a:pt x="765" y="2144"/>
                          </a:lnTo>
                          <a:lnTo>
                            <a:pt x="767" y="2150"/>
                          </a:lnTo>
                          <a:lnTo>
                            <a:pt x="769" y="2156"/>
                          </a:lnTo>
                          <a:lnTo>
                            <a:pt x="772" y="2159"/>
                          </a:lnTo>
                          <a:lnTo>
                            <a:pt x="776" y="2165"/>
                          </a:lnTo>
                          <a:lnTo>
                            <a:pt x="780" y="2171"/>
                          </a:lnTo>
                          <a:lnTo>
                            <a:pt x="782" y="2175"/>
                          </a:lnTo>
                          <a:lnTo>
                            <a:pt x="786" y="2180"/>
                          </a:lnTo>
                          <a:lnTo>
                            <a:pt x="789" y="2186"/>
                          </a:lnTo>
                          <a:lnTo>
                            <a:pt x="795" y="2190"/>
                          </a:lnTo>
                          <a:lnTo>
                            <a:pt x="799" y="2196"/>
                          </a:lnTo>
                          <a:lnTo>
                            <a:pt x="805" y="2201"/>
                          </a:lnTo>
                          <a:lnTo>
                            <a:pt x="808" y="2205"/>
                          </a:lnTo>
                          <a:lnTo>
                            <a:pt x="814" y="2209"/>
                          </a:lnTo>
                          <a:lnTo>
                            <a:pt x="818" y="2213"/>
                          </a:lnTo>
                          <a:lnTo>
                            <a:pt x="824" y="2216"/>
                          </a:lnTo>
                          <a:lnTo>
                            <a:pt x="828" y="2222"/>
                          </a:lnTo>
                          <a:lnTo>
                            <a:pt x="833" y="2224"/>
                          </a:lnTo>
                          <a:lnTo>
                            <a:pt x="839" y="2228"/>
                          </a:lnTo>
                          <a:lnTo>
                            <a:pt x="845" y="2232"/>
                          </a:lnTo>
                          <a:lnTo>
                            <a:pt x="848" y="2235"/>
                          </a:lnTo>
                          <a:lnTo>
                            <a:pt x="854" y="2239"/>
                          </a:lnTo>
                          <a:lnTo>
                            <a:pt x="858" y="2243"/>
                          </a:lnTo>
                          <a:lnTo>
                            <a:pt x="864" y="2245"/>
                          </a:lnTo>
                          <a:lnTo>
                            <a:pt x="867" y="2249"/>
                          </a:lnTo>
                          <a:lnTo>
                            <a:pt x="873" y="2253"/>
                          </a:lnTo>
                          <a:lnTo>
                            <a:pt x="877" y="2256"/>
                          </a:lnTo>
                          <a:lnTo>
                            <a:pt x="883" y="2258"/>
                          </a:lnTo>
                          <a:lnTo>
                            <a:pt x="890" y="2260"/>
                          </a:lnTo>
                          <a:lnTo>
                            <a:pt x="896" y="2264"/>
                          </a:lnTo>
                          <a:lnTo>
                            <a:pt x="900" y="2266"/>
                          </a:lnTo>
                          <a:lnTo>
                            <a:pt x="904" y="2268"/>
                          </a:lnTo>
                          <a:lnTo>
                            <a:pt x="907" y="2270"/>
                          </a:lnTo>
                          <a:lnTo>
                            <a:pt x="913" y="2273"/>
                          </a:lnTo>
                          <a:lnTo>
                            <a:pt x="919" y="2275"/>
                          </a:lnTo>
                          <a:lnTo>
                            <a:pt x="925" y="2277"/>
                          </a:lnTo>
                          <a:lnTo>
                            <a:pt x="928" y="2279"/>
                          </a:lnTo>
                          <a:lnTo>
                            <a:pt x="934" y="2281"/>
                          </a:lnTo>
                          <a:lnTo>
                            <a:pt x="938" y="2283"/>
                          </a:lnTo>
                          <a:lnTo>
                            <a:pt x="942" y="2285"/>
                          </a:lnTo>
                          <a:lnTo>
                            <a:pt x="947" y="2287"/>
                          </a:lnTo>
                          <a:lnTo>
                            <a:pt x="951" y="2289"/>
                          </a:lnTo>
                          <a:lnTo>
                            <a:pt x="955" y="2289"/>
                          </a:lnTo>
                          <a:lnTo>
                            <a:pt x="961" y="2291"/>
                          </a:lnTo>
                          <a:lnTo>
                            <a:pt x="964" y="2291"/>
                          </a:lnTo>
                          <a:lnTo>
                            <a:pt x="968" y="2294"/>
                          </a:lnTo>
                          <a:lnTo>
                            <a:pt x="972" y="2294"/>
                          </a:lnTo>
                          <a:lnTo>
                            <a:pt x="978" y="2294"/>
                          </a:lnTo>
                          <a:lnTo>
                            <a:pt x="982" y="2296"/>
                          </a:lnTo>
                          <a:lnTo>
                            <a:pt x="985" y="2296"/>
                          </a:lnTo>
                          <a:lnTo>
                            <a:pt x="989" y="2296"/>
                          </a:lnTo>
                          <a:lnTo>
                            <a:pt x="993" y="2298"/>
                          </a:lnTo>
                          <a:lnTo>
                            <a:pt x="997" y="2298"/>
                          </a:lnTo>
                          <a:lnTo>
                            <a:pt x="1001" y="2298"/>
                          </a:lnTo>
                          <a:lnTo>
                            <a:pt x="1004" y="2298"/>
                          </a:lnTo>
                          <a:lnTo>
                            <a:pt x="1008" y="2300"/>
                          </a:lnTo>
                          <a:lnTo>
                            <a:pt x="1010" y="2300"/>
                          </a:lnTo>
                          <a:lnTo>
                            <a:pt x="1014" y="2300"/>
                          </a:lnTo>
                          <a:lnTo>
                            <a:pt x="1016" y="2300"/>
                          </a:lnTo>
                          <a:lnTo>
                            <a:pt x="1020" y="2300"/>
                          </a:lnTo>
                          <a:lnTo>
                            <a:pt x="1022" y="2300"/>
                          </a:lnTo>
                          <a:lnTo>
                            <a:pt x="1025" y="2302"/>
                          </a:lnTo>
                          <a:lnTo>
                            <a:pt x="1029" y="2300"/>
                          </a:lnTo>
                          <a:lnTo>
                            <a:pt x="1035" y="2300"/>
                          </a:lnTo>
                          <a:lnTo>
                            <a:pt x="1039" y="2298"/>
                          </a:lnTo>
                          <a:lnTo>
                            <a:pt x="1042" y="2298"/>
                          </a:lnTo>
                          <a:lnTo>
                            <a:pt x="1044" y="2296"/>
                          </a:lnTo>
                          <a:lnTo>
                            <a:pt x="1048" y="2296"/>
                          </a:lnTo>
                          <a:lnTo>
                            <a:pt x="1048" y="2294"/>
                          </a:lnTo>
                          <a:lnTo>
                            <a:pt x="1050" y="2294"/>
                          </a:lnTo>
                          <a:lnTo>
                            <a:pt x="1246" y="1334"/>
                          </a:lnTo>
                          <a:lnTo>
                            <a:pt x="1246" y="1333"/>
                          </a:lnTo>
                          <a:lnTo>
                            <a:pt x="1248" y="1331"/>
                          </a:lnTo>
                          <a:lnTo>
                            <a:pt x="1250" y="1327"/>
                          </a:lnTo>
                          <a:lnTo>
                            <a:pt x="1252" y="1325"/>
                          </a:lnTo>
                          <a:lnTo>
                            <a:pt x="1252" y="1323"/>
                          </a:lnTo>
                          <a:lnTo>
                            <a:pt x="1254" y="1319"/>
                          </a:lnTo>
                          <a:lnTo>
                            <a:pt x="1256" y="1315"/>
                          </a:lnTo>
                          <a:lnTo>
                            <a:pt x="1259" y="1312"/>
                          </a:lnTo>
                          <a:lnTo>
                            <a:pt x="1259" y="1306"/>
                          </a:lnTo>
                          <a:lnTo>
                            <a:pt x="1263" y="1302"/>
                          </a:lnTo>
                          <a:lnTo>
                            <a:pt x="1265" y="1296"/>
                          </a:lnTo>
                          <a:lnTo>
                            <a:pt x="1269" y="1293"/>
                          </a:lnTo>
                          <a:lnTo>
                            <a:pt x="1271" y="1285"/>
                          </a:lnTo>
                          <a:lnTo>
                            <a:pt x="1275" y="1281"/>
                          </a:lnTo>
                          <a:lnTo>
                            <a:pt x="1276" y="1274"/>
                          </a:lnTo>
                          <a:lnTo>
                            <a:pt x="1280" y="1266"/>
                          </a:lnTo>
                          <a:lnTo>
                            <a:pt x="1284" y="1258"/>
                          </a:lnTo>
                          <a:lnTo>
                            <a:pt x="1288" y="1249"/>
                          </a:lnTo>
                          <a:lnTo>
                            <a:pt x="1290" y="1241"/>
                          </a:lnTo>
                          <a:lnTo>
                            <a:pt x="1294" y="1234"/>
                          </a:lnTo>
                          <a:lnTo>
                            <a:pt x="1297" y="1224"/>
                          </a:lnTo>
                          <a:lnTo>
                            <a:pt x="1301" y="1217"/>
                          </a:lnTo>
                          <a:lnTo>
                            <a:pt x="1305" y="1207"/>
                          </a:lnTo>
                          <a:lnTo>
                            <a:pt x="1309" y="1198"/>
                          </a:lnTo>
                          <a:lnTo>
                            <a:pt x="1313" y="1188"/>
                          </a:lnTo>
                          <a:lnTo>
                            <a:pt x="1316" y="1177"/>
                          </a:lnTo>
                          <a:lnTo>
                            <a:pt x="1320" y="1165"/>
                          </a:lnTo>
                          <a:lnTo>
                            <a:pt x="1324" y="1154"/>
                          </a:lnTo>
                          <a:lnTo>
                            <a:pt x="1330" y="1144"/>
                          </a:lnTo>
                          <a:lnTo>
                            <a:pt x="1334" y="1133"/>
                          </a:lnTo>
                          <a:lnTo>
                            <a:pt x="1337" y="1122"/>
                          </a:lnTo>
                          <a:lnTo>
                            <a:pt x="1339" y="1108"/>
                          </a:lnTo>
                          <a:lnTo>
                            <a:pt x="1345" y="1097"/>
                          </a:lnTo>
                          <a:lnTo>
                            <a:pt x="1349" y="1084"/>
                          </a:lnTo>
                          <a:lnTo>
                            <a:pt x="1353" y="1070"/>
                          </a:lnTo>
                          <a:lnTo>
                            <a:pt x="1354" y="1059"/>
                          </a:lnTo>
                          <a:lnTo>
                            <a:pt x="1358" y="1044"/>
                          </a:lnTo>
                          <a:lnTo>
                            <a:pt x="1362" y="1032"/>
                          </a:lnTo>
                          <a:lnTo>
                            <a:pt x="1366" y="1017"/>
                          </a:lnTo>
                          <a:lnTo>
                            <a:pt x="1370" y="1004"/>
                          </a:lnTo>
                          <a:lnTo>
                            <a:pt x="1372" y="988"/>
                          </a:lnTo>
                          <a:lnTo>
                            <a:pt x="1375" y="975"/>
                          </a:lnTo>
                          <a:lnTo>
                            <a:pt x="1377" y="960"/>
                          </a:lnTo>
                          <a:lnTo>
                            <a:pt x="1381" y="947"/>
                          </a:lnTo>
                          <a:lnTo>
                            <a:pt x="1383" y="931"/>
                          </a:lnTo>
                          <a:lnTo>
                            <a:pt x="1387" y="916"/>
                          </a:lnTo>
                          <a:lnTo>
                            <a:pt x="1389" y="901"/>
                          </a:lnTo>
                          <a:lnTo>
                            <a:pt x="1391" y="886"/>
                          </a:lnTo>
                          <a:lnTo>
                            <a:pt x="1392" y="871"/>
                          </a:lnTo>
                          <a:lnTo>
                            <a:pt x="1394" y="855"/>
                          </a:lnTo>
                          <a:lnTo>
                            <a:pt x="1396" y="838"/>
                          </a:lnTo>
                          <a:lnTo>
                            <a:pt x="1398" y="823"/>
                          </a:lnTo>
                          <a:lnTo>
                            <a:pt x="1398" y="806"/>
                          </a:lnTo>
                          <a:lnTo>
                            <a:pt x="1400" y="791"/>
                          </a:lnTo>
                          <a:lnTo>
                            <a:pt x="1402" y="774"/>
                          </a:lnTo>
                          <a:lnTo>
                            <a:pt x="1402" y="757"/>
                          </a:lnTo>
                          <a:lnTo>
                            <a:pt x="1402" y="741"/>
                          </a:lnTo>
                          <a:lnTo>
                            <a:pt x="1402" y="724"/>
                          </a:lnTo>
                          <a:lnTo>
                            <a:pt x="1402" y="705"/>
                          </a:lnTo>
                          <a:lnTo>
                            <a:pt x="1402" y="690"/>
                          </a:lnTo>
                          <a:lnTo>
                            <a:pt x="1400" y="673"/>
                          </a:lnTo>
                          <a:lnTo>
                            <a:pt x="1400" y="656"/>
                          </a:lnTo>
                          <a:lnTo>
                            <a:pt x="1398" y="654"/>
                          </a:lnTo>
                          <a:lnTo>
                            <a:pt x="1398" y="652"/>
                          </a:lnTo>
                          <a:lnTo>
                            <a:pt x="1398" y="648"/>
                          </a:lnTo>
                          <a:lnTo>
                            <a:pt x="1398" y="644"/>
                          </a:lnTo>
                          <a:lnTo>
                            <a:pt x="1398" y="643"/>
                          </a:lnTo>
                          <a:lnTo>
                            <a:pt x="1398" y="639"/>
                          </a:lnTo>
                          <a:lnTo>
                            <a:pt x="1396" y="637"/>
                          </a:lnTo>
                          <a:lnTo>
                            <a:pt x="1396" y="633"/>
                          </a:lnTo>
                          <a:lnTo>
                            <a:pt x="1396" y="631"/>
                          </a:lnTo>
                          <a:lnTo>
                            <a:pt x="1396" y="627"/>
                          </a:lnTo>
                          <a:lnTo>
                            <a:pt x="1396" y="623"/>
                          </a:lnTo>
                          <a:lnTo>
                            <a:pt x="1394" y="620"/>
                          </a:lnTo>
                          <a:lnTo>
                            <a:pt x="1394" y="618"/>
                          </a:lnTo>
                          <a:lnTo>
                            <a:pt x="1394" y="616"/>
                          </a:lnTo>
                          <a:lnTo>
                            <a:pt x="1392" y="612"/>
                          </a:lnTo>
                          <a:lnTo>
                            <a:pt x="1392" y="610"/>
                          </a:lnTo>
                          <a:lnTo>
                            <a:pt x="1392" y="608"/>
                          </a:lnTo>
                          <a:lnTo>
                            <a:pt x="1391" y="604"/>
                          </a:lnTo>
                          <a:lnTo>
                            <a:pt x="1391" y="603"/>
                          </a:lnTo>
                          <a:lnTo>
                            <a:pt x="1391" y="599"/>
                          </a:lnTo>
                          <a:lnTo>
                            <a:pt x="1389" y="597"/>
                          </a:lnTo>
                          <a:lnTo>
                            <a:pt x="1389" y="593"/>
                          </a:lnTo>
                          <a:lnTo>
                            <a:pt x="1389" y="589"/>
                          </a:lnTo>
                          <a:lnTo>
                            <a:pt x="1389" y="587"/>
                          </a:lnTo>
                          <a:lnTo>
                            <a:pt x="1387" y="585"/>
                          </a:lnTo>
                          <a:lnTo>
                            <a:pt x="1385" y="582"/>
                          </a:lnTo>
                          <a:lnTo>
                            <a:pt x="1385" y="580"/>
                          </a:lnTo>
                          <a:lnTo>
                            <a:pt x="1383" y="578"/>
                          </a:lnTo>
                          <a:lnTo>
                            <a:pt x="1383" y="572"/>
                          </a:lnTo>
                          <a:lnTo>
                            <a:pt x="1381" y="568"/>
                          </a:lnTo>
                          <a:lnTo>
                            <a:pt x="1377" y="563"/>
                          </a:lnTo>
                          <a:lnTo>
                            <a:pt x="1375" y="557"/>
                          </a:lnTo>
                          <a:lnTo>
                            <a:pt x="1373" y="553"/>
                          </a:lnTo>
                          <a:lnTo>
                            <a:pt x="1370" y="547"/>
                          </a:lnTo>
                          <a:lnTo>
                            <a:pt x="1366" y="544"/>
                          </a:lnTo>
                          <a:lnTo>
                            <a:pt x="1364" y="540"/>
                          </a:lnTo>
                          <a:lnTo>
                            <a:pt x="1360" y="536"/>
                          </a:lnTo>
                          <a:lnTo>
                            <a:pt x="1356" y="532"/>
                          </a:lnTo>
                          <a:lnTo>
                            <a:pt x="1353" y="528"/>
                          </a:lnTo>
                          <a:lnTo>
                            <a:pt x="1349" y="525"/>
                          </a:lnTo>
                          <a:lnTo>
                            <a:pt x="1345" y="523"/>
                          </a:lnTo>
                          <a:lnTo>
                            <a:pt x="1339" y="521"/>
                          </a:lnTo>
                          <a:lnTo>
                            <a:pt x="1335" y="517"/>
                          </a:lnTo>
                          <a:lnTo>
                            <a:pt x="1332" y="515"/>
                          </a:lnTo>
                          <a:lnTo>
                            <a:pt x="1326" y="515"/>
                          </a:lnTo>
                          <a:lnTo>
                            <a:pt x="1322" y="513"/>
                          </a:lnTo>
                          <a:lnTo>
                            <a:pt x="1318" y="511"/>
                          </a:lnTo>
                          <a:lnTo>
                            <a:pt x="1316" y="511"/>
                          </a:lnTo>
                          <a:lnTo>
                            <a:pt x="1313" y="511"/>
                          </a:lnTo>
                          <a:lnTo>
                            <a:pt x="1311" y="511"/>
                          </a:lnTo>
                          <a:lnTo>
                            <a:pt x="1309" y="509"/>
                          </a:lnTo>
                          <a:lnTo>
                            <a:pt x="1305" y="509"/>
                          </a:lnTo>
                          <a:lnTo>
                            <a:pt x="1303" y="509"/>
                          </a:lnTo>
                          <a:lnTo>
                            <a:pt x="1301" y="509"/>
                          </a:lnTo>
                          <a:lnTo>
                            <a:pt x="1297" y="509"/>
                          </a:lnTo>
                          <a:lnTo>
                            <a:pt x="1295" y="509"/>
                          </a:lnTo>
                          <a:lnTo>
                            <a:pt x="1292" y="509"/>
                          </a:lnTo>
                          <a:lnTo>
                            <a:pt x="1290" y="509"/>
                          </a:lnTo>
                          <a:lnTo>
                            <a:pt x="1284" y="509"/>
                          </a:lnTo>
                          <a:lnTo>
                            <a:pt x="1280" y="509"/>
                          </a:lnTo>
                          <a:lnTo>
                            <a:pt x="1275" y="509"/>
                          </a:lnTo>
                          <a:lnTo>
                            <a:pt x="1269" y="509"/>
                          </a:lnTo>
                          <a:lnTo>
                            <a:pt x="1265" y="509"/>
                          </a:lnTo>
                          <a:lnTo>
                            <a:pt x="1259" y="509"/>
                          </a:lnTo>
                          <a:lnTo>
                            <a:pt x="1256" y="511"/>
                          </a:lnTo>
                          <a:lnTo>
                            <a:pt x="1252" y="511"/>
                          </a:lnTo>
                          <a:lnTo>
                            <a:pt x="1246" y="515"/>
                          </a:lnTo>
                          <a:lnTo>
                            <a:pt x="1242" y="515"/>
                          </a:lnTo>
                          <a:lnTo>
                            <a:pt x="1238" y="517"/>
                          </a:lnTo>
                          <a:lnTo>
                            <a:pt x="1235" y="521"/>
                          </a:lnTo>
                          <a:lnTo>
                            <a:pt x="1231" y="523"/>
                          </a:lnTo>
                          <a:lnTo>
                            <a:pt x="1229" y="525"/>
                          </a:lnTo>
                          <a:lnTo>
                            <a:pt x="1225" y="527"/>
                          </a:lnTo>
                          <a:lnTo>
                            <a:pt x="1221" y="530"/>
                          </a:lnTo>
                          <a:lnTo>
                            <a:pt x="1219" y="532"/>
                          </a:lnTo>
                          <a:lnTo>
                            <a:pt x="1216" y="538"/>
                          </a:lnTo>
                          <a:lnTo>
                            <a:pt x="1214" y="542"/>
                          </a:lnTo>
                          <a:lnTo>
                            <a:pt x="1212" y="546"/>
                          </a:lnTo>
                          <a:lnTo>
                            <a:pt x="1210" y="549"/>
                          </a:lnTo>
                          <a:lnTo>
                            <a:pt x="1208" y="555"/>
                          </a:lnTo>
                          <a:lnTo>
                            <a:pt x="1208" y="557"/>
                          </a:lnTo>
                          <a:lnTo>
                            <a:pt x="1206" y="559"/>
                          </a:lnTo>
                          <a:lnTo>
                            <a:pt x="1204" y="561"/>
                          </a:lnTo>
                          <a:lnTo>
                            <a:pt x="1204" y="565"/>
                          </a:lnTo>
                          <a:lnTo>
                            <a:pt x="1204" y="566"/>
                          </a:lnTo>
                          <a:lnTo>
                            <a:pt x="1204" y="570"/>
                          </a:lnTo>
                          <a:lnTo>
                            <a:pt x="1204" y="572"/>
                          </a:lnTo>
                          <a:lnTo>
                            <a:pt x="1204" y="576"/>
                          </a:lnTo>
                          <a:lnTo>
                            <a:pt x="1139" y="895"/>
                          </a:lnTo>
                          <a:lnTo>
                            <a:pt x="1136" y="893"/>
                          </a:lnTo>
                          <a:lnTo>
                            <a:pt x="1132" y="892"/>
                          </a:lnTo>
                          <a:lnTo>
                            <a:pt x="1126" y="888"/>
                          </a:lnTo>
                          <a:lnTo>
                            <a:pt x="1122" y="886"/>
                          </a:lnTo>
                          <a:lnTo>
                            <a:pt x="1117" y="884"/>
                          </a:lnTo>
                          <a:lnTo>
                            <a:pt x="1113" y="880"/>
                          </a:lnTo>
                          <a:lnTo>
                            <a:pt x="1107" y="878"/>
                          </a:lnTo>
                          <a:lnTo>
                            <a:pt x="1105" y="876"/>
                          </a:lnTo>
                          <a:lnTo>
                            <a:pt x="1227" y="316"/>
                          </a:lnTo>
                          <a:lnTo>
                            <a:pt x="1227" y="312"/>
                          </a:lnTo>
                          <a:lnTo>
                            <a:pt x="1227" y="308"/>
                          </a:lnTo>
                          <a:lnTo>
                            <a:pt x="1229" y="306"/>
                          </a:lnTo>
                          <a:lnTo>
                            <a:pt x="1229" y="304"/>
                          </a:lnTo>
                          <a:lnTo>
                            <a:pt x="1229" y="300"/>
                          </a:lnTo>
                          <a:lnTo>
                            <a:pt x="1229" y="298"/>
                          </a:lnTo>
                          <a:lnTo>
                            <a:pt x="1229" y="295"/>
                          </a:lnTo>
                          <a:lnTo>
                            <a:pt x="1229" y="293"/>
                          </a:lnTo>
                          <a:lnTo>
                            <a:pt x="1229" y="291"/>
                          </a:lnTo>
                          <a:lnTo>
                            <a:pt x="1229" y="287"/>
                          </a:lnTo>
                          <a:lnTo>
                            <a:pt x="1229" y="285"/>
                          </a:lnTo>
                          <a:lnTo>
                            <a:pt x="1229" y="283"/>
                          </a:lnTo>
                          <a:lnTo>
                            <a:pt x="1229" y="278"/>
                          </a:lnTo>
                          <a:lnTo>
                            <a:pt x="1227" y="272"/>
                          </a:lnTo>
                          <a:lnTo>
                            <a:pt x="1225" y="268"/>
                          </a:lnTo>
                          <a:lnTo>
                            <a:pt x="1225" y="262"/>
                          </a:lnTo>
                          <a:lnTo>
                            <a:pt x="1223" y="257"/>
                          </a:lnTo>
                          <a:lnTo>
                            <a:pt x="1221" y="253"/>
                          </a:lnTo>
                          <a:lnTo>
                            <a:pt x="1219" y="247"/>
                          </a:lnTo>
                          <a:lnTo>
                            <a:pt x="1217" y="243"/>
                          </a:lnTo>
                          <a:lnTo>
                            <a:pt x="1216" y="240"/>
                          </a:lnTo>
                          <a:lnTo>
                            <a:pt x="1214" y="236"/>
                          </a:lnTo>
                          <a:lnTo>
                            <a:pt x="1210" y="232"/>
                          </a:lnTo>
                          <a:lnTo>
                            <a:pt x="1206" y="226"/>
                          </a:lnTo>
                          <a:lnTo>
                            <a:pt x="1202" y="222"/>
                          </a:lnTo>
                          <a:lnTo>
                            <a:pt x="1200" y="219"/>
                          </a:lnTo>
                          <a:lnTo>
                            <a:pt x="1197" y="215"/>
                          </a:lnTo>
                          <a:lnTo>
                            <a:pt x="1193" y="211"/>
                          </a:lnTo>
                          <a:lnTo>
                            <a:pt x="1189" y="207"/>
                          </a:lnTo>
                          <a:lnTo>
                            <a:pt x="1185" y="205"/>
                          </a:lnTo>
                          <a:lnTo>
                            <a:pt x="1179" y="203"/>
                          </a:lnTo>
                          <a:lnTo>
                            <a:pt x="1176" y="200"/>
                          </a:lnTo>
                          <a:lnTo>
                            <a:pt x="1172" y="198"/>
                          </a:lnTo>
                          <a:lnTo>
                            <a:pt x="1166" y="194"/>
                          </a:lnTo>
                          <a:lnTo>
                            <a:pt x="1160" y="192"/>
                          </a:lnTo>
                          <a:lnTo>
                            <a:pt x="1157" y="192"/>
                          </a:lnTo>
                          <a:lnTo>
                            <a:pt x="1151" y="190"/>
                          </a:lnTo>
                          <a:lnTo>
                            <a:pt x="1147" y="190"/>
                          </a:lnTo>
                          <a:lnTo>
                            <a:pt x="1143" y="188"/>
                          </a:lnTo>
                          <a:lnTo>
                            <a:pt x="1141" y="186"/>
                          </a:lnTo>
                          <a:lnTo>
                            <a:pt x="1138" y="186"/>
                          </a:lnTo>
                          <a:lnTo>
                            <a:pt x="1136" y="186"/>
                          </a:lnTo>
                          <a:lnTo>
                            <a:pt x="1134" y="186"/>
                          </a:lnTo>
                          <a:lnTo>
                            <a:pt x="1130" y="186"/>
                          </a:lnTo>
                          <a:lnTo>
                            <a:pt x="1128" y="186"/>
                          </a:lnTo>
                          <a:lnTo>
                            <a:pt x="1124" y="186"/>
                          </a:lnTo>
                          <a:lnTo>
                            <a:pt x="1122" y="186"/>
                          </a:lnTo>
                          <a:lnTo>
                            <a:pt x="1120" y="186"/>
                          </a:lnTo>
                          <a:lnTo>
                            <a:pt x="1117" y="186"/>
                          </a:lnTo>
                          <a:lnTo>
                            <a:pt x="1115" y="186"/>
                          </a:lnTo>
                          <a:lnTo>
                            <a:pt x="1109" y="186"/>
                          </a:lnTo>
                          <a:lnTo>
                            <a:pt x="1105" y="188"/>
                          </a:lnTo>
                          <a:lnTo>
                            <a:pt x="1100" y="188"/>
                          </a:lnTo>
                          <a:lnTo>
                            <a:pt x="1094" y="190"/>
                          </a:lnTo>
                          <a:lnTo>
                            <a:pt x="1090" y="192"/>
                          </a:lnTo>
                          <a:lnTo>
                            <a:pt x="1086" y="192"/>
                          </a:lnTo>
                          <a:lnTo>
                            <a:pt x="1081" y="194"/>
                          </a:lnTo>
                          <a:lnTo>
                            <a:pt x="1077" y="198"/>
                          </a:lnTo>
                          <a:lnTo>
                            <a:pt x="1073" y="200"/>
                          </a:lnTo>
                          <a:lnTo>
                            <a:pt x="1067" y="203"/>
                          </a:lnTo>
                          <a:lnTo>
                            <a:pt x="1063" y="205"/>
                          </a:lnTo>
                          <a:lnTo>
                            <a:pt x="1058" y="207"/>
                          </a:lnTo>
                          <a:lnTo>
                            <a:pt x="1054" y="211"/>
                          </a:lnTo>
                          <a:lnTo>
                            <a:pt x="1050" y="215"/>
                          </a:lnTo>
                          <a:lnTo>
                            <a:pt x="1048" y="219"/>
                          </a:lnTo>
                          <a:lnTo>
                            <a:pt x="1044" y="222"/>
                          </a:lnTo>
                          <a:lnTo>
                            <a:pt x="1041" y="226"/>
                          </a:lnTo>
                          <a:lnTo>
                            <a:pt x="1039" y="232"/>
                          </a:lnTo>
                          <a:lnTo>
                            <a:pt x="1035" y="234"/>
                          </a:lnTo>
                          <a:lnTo>
                            <a:pt x="1033" y="240"/>
                          </a:lnTo>
                          <a:lnTo>
                            <a:pt x="1029" y="243"/>
                          </a:lnTo>
                          <a:lnTo>
                            <a:pt x="1027" y="249"/>
                          </a:lnTo>
                          <a:lnTo>
                            <a:pt x="1025" y="253"/>
                          </a:lnTo>
                          <a:lnTo>
                            <a:pt x="1023" y="259"/>
                          </a:lnTo>
                          <a:lnTo>
                            <a:pt x="1022" y="260"/>
                          </a:lnTo>
                          <a:lnTo>
                            <a:pt x="1022" y="264"/>
                          </a:lnTo>
                          <a:lnTo>
                            <a:pt x="1022" y="266"/>
                          </a:lnTo>
                          <a:lnTo>
                            <a:pt x="1022" y="270"/>
                          </a:lnTo>
                          <a:lnTo>
                            <a:pt x="919" y="730"/>
                          </a:lnTo>
                          <a:lnTo>
                            <a:pt x="915" y="728"/>
                          </a:lnTo>
                          <a:lnTo>
                            <a:pt x="913" y="726"/>
                          </a:lnTo>
                          <a:lnTo>
                            <a:pt x="907" y="724"/>
                          </a:lnTo>
                          <a:lnTo>
                            <a:pt x="905" y="720"/>
                          </a:lnTo>
                          <a:lnTo>
                            <a:pt x="904" y="719"/>
                          </a:lnTo>
                          <a:lnTo>
                            <a:pt x="900" y="717"/>
                          </a:lnTo>
                          <a:lnTo>
                            <a:pt x="896" y="713"/>
                          </a:lnTo>
                          <a:lnTo>
                            <a:pt x="892" y="713"/>
                          </a:lnTo>
                          <a:lnTo>
                            <a:pt x="1022" y="129"/>
                          </a:lnTo>
                          <a:lnTo>
                            <a:pt x="1022" y="125"/>
                          </a:lnTo>
                          <a:lnTo>
                            <a:pt x="1022" y="124"/>
                          </a:lnTo>
                          <a:lnTo>
                            <a:pt x="1022" y="120"/>
                          </a:lnTo>
                          <a:lnTo>
                            <a:pt x="1022" y="118"/>
                          </a:lnTo>
                          <a:lnTo>
                            <a:pt x="1022" y="114"/>
                          </a:lnTo>
                          <a:lnTo>
                            <a:pt x="1022" y="112"/>
                          </a:lnTo>
                          <a:lnTo>
                            <a:pt x="1022" y="110"/>
                          </a:lnTo>
                          <a:lnTo>
                            <a:pt x="1022" y="106"/>
                          </a:lnTo>
                          <a:lnTo>
                            <a:pt x="1022" y="105"/>
                          </a:lnTo>
                          <a:lnTo>
                            <a:pt x="1022" y="103"/>
                          </a:lnTo>
                          <a:lnTo>
                            <a:pt x="1022" y="99"/>
                          </a:lnTo>
                          <a:lnTo>
                            <a:pt x="1022" y="97"/>
                          </a:lnTo>
                          <a:lnTo>
                            <a:pt x="1022" y="91"/>
                          </a:lnTo>
                          <a:lnTo>
                            <a:pt x="1022" y="86"/>
                          </a:lnTo>
                          <a:lnTo>
                            <a:pt x="1020" y="82"/>
                          </a:lnTo>
                          <a:lnTo>
                            <a:pt x="1018" y="76"/>
                          </a:lnTo>
                          <a:lnTo>
                            <a:pt x="1016" y="70"/>
                          </a:lnTo>
                          <a:lnTo>
                            <a:pt x="1014" y="67"/>
                          </a:lnTo>
                          <a:lnTo>
                            <a:pt x="1012" y="61"/>
                          </a:lnTo>
                          <a:lnTo>
                            <a:pt x="1010" y="57"/>
                          </a:lnTo>
                          <a:lnTo>
                            <a:pt x="1008" y="53"/>
                          </a:lnTo>
                          <a:lnTo>
                            <a:pt x="1006" y="48"/>
                          </a:lnTo>
                          <a:lnTo>
                            <a:pt x="1004" y="44"/>
                          </a:lnTo>
                          <a:lnTo>
                            <a:pt x="1001" y="40"/>
                          </a:lnTo>
                          <a:lnTo>
                            <a:pt x="997" y="36"/>
                          </a:lnTo>
                          <a:lnTo>
                            <a:pt x="993" y="32"/>
                          </a:lnTo>
                          <a:lnTo>
                            <a:pt x="991" y="29"/>
                          </a:lnTo>
                          <a:lnTo>
                            <a:pt x="985" y="25"/>
                          </a:lnTo>
                          <a:lnTo>
                            <a:pt x="983" y="23"/>
                          </a:lnTo>
                          <a:lnTo>
                            <a:pt x="978" y="19"/>
                          </a:lnTo>
                          <a:lnTo>
                            <a:pt x="972" y="17"/>
                          </a:lnTo>
                          <a:lnTo>
                            <a:pt x="968" y="13"/>
                          </a:lnTo>
                          <a:lnTo>
                            <a:pt x="964" y="11"/>
                          </a:lnTo>
                          <a:lnTo>
                            <a:pt x="961" y="10"/>
                          </a:lnTo>
                          <a:lnTo>
                            <a:pt x="955" y="6"/>
                          </a:lnTo>
                          <a:lnTo>
                            <a:pt x="949" y="6"/>
                          </a:lnTo>
                          <a:lnTo>
                            <a:pt x="944" y="4"/>
                          </a:lnTo>
                          <a:lnTo>
                            <a:pt x="940" y="4"/>
                          </a:lnTo>
                          <a:lnTo>
                            <a:pt x="936" y="2"/>
                          </a:lnTo>
                          <a:lnTo>
                            <a:pt x="934" y="2"/>
                          </a:lnTo>
                          <a:lnTo>
                            <a:pt x="932" y="0"/>
                          </a:lnTo>
                          <a:lnTo>
                            <a:pt x="928" y="0"/>
                          </a:lnTo>
                          <a:lnTo>
                            <a:pt x="926" y="0"/>
                          </a:lnTo>
                          <a:lnTo>
                            <a:pt x="925" y="0"/>
                          </a:lnTo>
                          <a:lnTo>
                            <a:pt x="921" y="0"/>
                          </a:lnTo>
                          <a:lnTo>
                            <a:pt x="919" y="0"/>
                          </a:lnTo>
                          <a:lnTo>
                            <a:pt x="915" y="0"/>
                          </a:lnTo>
                          <a:lnTo>
                            <a:pt x="913" y="0"/>
                          </a:lnTo>
                          <a:lnTo>
                            <a:pt x="911" y="0"/>
                          </a:lnTo>
                          <a:lnTo>
                            <a:pt x="907" y="0"/>
                          </a:lnTo>
                          <a:lnTo>
                            <a:pt x="904" y="0"/>
                          </a:lnTo>
                          <a:lnTo>
                            <a:pt x="898" y="2"/>
                          </a:lnTo>
                          <a:lnTo>
                            <a:pt x="896" y="2"/>
                          </a:lnTo>
                          <a:lnTo>
                            <a:pt x="892" y="2"/>
                          </a:lnTo>
                          <a:lnTo>
                            <a:pt x="890" y="2"/>
                          </a:lnTo>
                          <a:lnTo>
                            <a:pt x="888" y="4"/>
                          </a:lnTo>
                          <a:lnTo>
                            <a:pt x="881" y="4"/>
                          </a:lnTo>
                          <a:lnTo>
                            <a:pt x="877" y="6"/>
                          </a:lnTo>
                          <a:lnTo>
                            <a:pt x="873" y="10"/>
                          </a:lnTo>
                          <a:lnTo>
                            <a:pt x="867" y="11"/>
                          </a:lnTo>
                          <a:lnTo>
                            <a:pt x="864" y="15"/>
                          </a:lnTo>
                          <a:lnTo>
                            <a:pt x="860" y="17"/>
                          </a:lnTo>
                          <a:lnTo>
                            <a:pt x="854" y="19"/>
                          </a:lnTo>
                          <a:lnTo>
                            <a:pt x="850" y="23"/>
                          </a:lnTo>
                          <a:lnTo>
                            <a:pt x="847" y="25"/>
                          </a:lnTo>
                          <a:lnTo>
                            <a:pt x="843" y="29"/>
                          </a:lnTo>
                          <a:lnTo>
                            <a:pt x="839" y="32"/>
                          </a:lnTo>
                          <a:lnTo>
                            <a:pt x="835" y="36"/>
                          </a:lnTo>
                          <a:lnTo>
                            <a:pt x="833" y="40"/>
                          </a:lnTo>
                          <a:lnTo>
                            <a:pt x="831" y="44"/>
                          </a:lnTo>
                          <a:lnTo>
                            <a:pt x="828" y="48"/>
                          </a:lnTo>
                          <a:lnTo>
                            <a:pt x="824" y="53"/>
                          </a:lnTo>
                          <a:lnTo>
                            <a:pt x="822" y="57"/>
                          </a:lnTo>
                          <a:lnTo>
                            <a:pt x="820" y="61"/>
                          </a:lnTo>
                          <a:lnTo>
                            <a:pt x="818" y="67"/>
                          </a:lnTo>
                          <a:lnTo>
                            <a:pt x="816" y="70"/>
                          </a:lnTo>
                          <a:lnTo>
                            <a:pt x="816" y="74"/>
                          </a:lnTo>
                          <a:lnTo>
                            <a:pt x="814" y="76"/>
                          </a:lnTo>
                          <a:lnTo>
                            <a:pt x="812" y="82"/>
                          </a:lnTo>
                          <a:lnTo>
                            <a:pt x="812" y="84"/>
                          </a:lnTo>
                          <a:lnTo>
                            <a:pt x="687" y="663"/>
                          </a:lnTo>
                          <a:lnTo>
                            <a:pt x="681" y="663"/>
                          </a:lnTo>
                          <a:lnTo>
                            <a:pt x="677" y="663"/>
                          </a:lnTo>
                          <a:lnTo>
                            <a:pt x="673" y="663"/>
                          </a:lnTo>
                          <a:lnTo>
                            <a:pt x="670" y="663"/>
                          </a:lnTo>
                          <a:lnTo>
                            <a:pt x="666" y="663"/>
                          </a:lnTo>
                          <a:lnTo>
                            <a:pt x="660" y="665"/>
                          </a:lnTo>
                          <a:lnTo>
                            <a:pt x="656" y="665"/>
                          </a:lnTo>
                          <a:lnTo>
                            <a:pt x="652" y="667"/>
                          </a:lnTo>
                          <a:lnTo>
                            <a:pt x="753" y="213"/>
                          </a:lnTo>
                          <a:lnTo>
                            <a:pt x="753" y="209"/>
                          </a:lnTo>
                          <a:lnTo>
                            <a:pt x="753" y="207"/>
                          </a:lnTo>
                          <a:lnTo>
                            <a:pt x="753" y="203"/>
                          </a:lnTo>
                          <a:lnTo>
                            <a:pt x="753" y="201"/>
                          </a:lnTo>
                          <a:lnTo>
                            <a:pt x="753" y="198"/>
                          </a:lnTo>
                          <a:lnTo>
                            <a:pt x="753" y="196"/>
                          </a:lnTo>
                          <a:lnTo>
                            <a:pt x="753" y="192"/>
                          </a:lnTo>
                          <a:lnTo>
                            <a:pt x="753" y="190"/>
                          </a:lnTo>
                          <a:lnTo>
                            <a:pt x="753" y="188"/>
                          </a:lnTo>
                          <a:lnTo>
                            <a:pt x="753" y="184"/>
                          </a:lnTo>
                          <a:lnTo>
                            <a:pt x="753" y="182"/>
                          </a:lnTo>
                          <a:lnTo>
                            <a:pt x="753" y="181"/>
                          </a:lnTo>
                          <a:lnTo>
                            <a:pt x="753" y="175"/>
                          </a:lnTo>
                          <a:lnTo>
                            <a:pt x="753" y="169"/>
                          </a:lnTo>
                          <a:lnTo>
                            <a:pt x="751" y="167"/>
                          </a:lnTo>
                          <a:lnTo>
                            <a:pt x="751" y="163"/>
                          </a:lnTo>
                          <a:lnTo>
                            <a:pt x="751" y="162"/>
                          </a:lnTo>
                          <a:lnTo>
                            <a:pt x="750" y="160"/>
                          </a:lnTo>
                          <a:lnTo>
                            <a:pt x="748" y="154"/>
                          </a:lnTo>
                          <a:lnTo>
                            <a:pt x="746" y="148"/>
                          </a:lnTo>
                          <a:lnTo>
                            <a:pt x="744" y="144"/>
                          </a:lnTo>
                          <a:lnTo>
                            <a:pt x="742" y="141"/>
                          </a:lnTo>
                          <a:lnTo>
                            <a:pt x="740" y="135"/>
                          </a:lnTo>
                          <a:lnTo>
                            <a:pt x="738" y="131"/>
                          </a:lnTo>
                          <a:lnTo>
                            <a:pt x="734" y="127"/>
                          </a:lnTo>
                          <a:lnTo>
                            <a:pt x="730" y="124"/>
                          </a:lnTo>
                          <a:lnTo>
                            <a:pt x="727" y="120"/>
                          </a:lnTo>
                          <a:lnTo>
                            <a:pt x="725" y="116"/>
                          </a:lnTo>
                          <a:lnTo>
                            <a:pt x="721" y="112"/>
                          </a:lnTo>
                          <a:lnTo>
                            <a:pt x="717" y="108"/>
                          </a:lnTo>
                          <a:lnTo>
                            <a:pt x="713" y="105"/>
                          </a:lnTo>
                          <a:lnTo>
                            <a:pt x="710" y="103"/>
                          </a:lnTo>
                          <a:lnTo>
                            <a:pt x="704" y="99"/>
                          </a:lnTo>
                          <a:lnTo>
                            <a:pt x="700" y="97"/>
                          </a:lnTo>
                          <a:lnTo>
                            <a:pt x="694" y="95"/>
                          </a:lnTo>
                          <a:lnTo>
                            <a:pt x="691" y="91"/>
                          </a:lnTo>
                          <a:lnTo>
                            <a:pt x="685" y="89"/>
                          </a:lnTo>
                          <a:lnTo>
                            <a:pt x="681" y="87"/>
                          </a:lnTo>
                          <a:lnTo>
                            <a:pt x="675" y="86"/>
                          </a:lnTo>
                          <a:lnTo>
                            <a:pt x="672" y="86"/>
                          </a:lnTo>
                          <a:lnTo>
                            <a:pt x="668" y="84"/>
                          </a:lnTo>
                          <a:lnTo>
                            <a:pt x="666" y="84"/>
                          </a:lnTo>
                          <a:lnTo>
                            <a:pt x="664" y="84"/>
                          </a:lnTo>
                          <a:lnTo>
                            <a:pt x="660" y="84"/>
                          </a:lnTo>
                          <a:lnTo>
                            <a:pt x="658" y="84"/>
                          </a:lnTo>
                          <a:lnTo>
                            <a:pt x="654" y="84"/>
                          </a:lnTo>
                          <a:lnTo>
                            <a:pt x="652" y="84"/>
                          </a:lnTo>
                          <a:lnTo>
                            <a:pt x="651" y="84"/>
                          </a:lnTo>
                          <a:lnTo>
                            <a:pt x="647" y="84"/>
                          </a:lnTo>
                          <a:lnTo>
                            <a:pt x="645" y="84"/>
                          </a:lnTo>
                          <a:lnTo>
                            <a:pt x="643" y="84"/>
                          </a:lnTo>
                          <a:lnTo>
                            <a:pt x="639" y="84"/>
                          </a:lnTo>
                          <a:lnTo>
                            <a:pt x="635" y="84"/>
                          </a:lnTo>
                          <a:lnTo>
                            <a:pt x="630" y="84"/>
                          </a:lnTo>
                          <a:lnTo>
                            <a:pt x="628" y="84"/>
                          </a:lnTo>
                          <a:lnTo>
                            <a:pt x="624" y="86"/>
                          </a:lnTo>
                          <a:lnTo>
                            <a:pt x="622" y="86"/>
                          </a:lnTo>
                          <a:lnTo>
                            <a:pt x="618" y="86"/>
                          </a:lnTo>
                          <a:lnTo>
                            <a:pt x="614" y="87"/>
                          </a:lnTo>
                          <a:lnTo>
                            <a:pt x="609" y="89"/>
                          </a:lnTo>
                          <a:lnTo>
                            <a:pt x="603" y="91"/>
                          </a:lnTo>
                          <a:lnTo>
                            <a:pt x="599" y="95"/>
                          </a:lnTo>
                          <a:lnTo>
                            <a:pt x="595" y="97"/>
                          </a:lnTo>
                          <a:lnTo>
                            <a:pt x="592" y="99"/>
                          </a:lnTo>
                          <a:lnTo>
                            <a:pt x="586" y="103"/>
                          </a:lnTo>
                          <a:lnTo>
                            <a:pt x="582" y="105"/>
                          </a:lnTo>
                          <a:lnTo>
                            <a:pt x="578" y="108"/>
                          </a:lnTo>
                          <a:lnTo>
                            <a:pt x="574" y="112"/>
                          </a:lnTo>
                          <a:lnTo>
                            <a:pt x="571" y="116"/>
                          </a:lnTo>
                          <a:lnTo>
                            <a:pt x="567" y="120"/>
                          </a:lnTo>
                          <a:lnTo>
                            <a:pt x="565" y="124"/>
                          </a:lnTo>
                          <a:lnTo>
                            <a:pt x="563" y="127"/>
                          </a:lnTo>
                          <a:lnTo>
                            <a:pt x="559" y="131"/>
                          </a:lnTo>
                          <a:lnTo>
                            <a:pt x="555" y="135"/>
                          </a:lnTo>
                          <a:lnTo>
                            <a:pt x="554" y="141"/>
                          </a:lnTo>
                          <a:lnTo>
                            <a:pt x="552" y="146"/>
                          </a:lnTo>
                          <a:lnTo>
                            <a:pt x="550" y="150"/>
                          </a:lnTo>
                          <a:lnTo>
                            <a:pt x="548" y="156"/>
                          </a:lnTo>
                          <a:lnTo>
                            <a:pt x="546" y="158"/>
                          </a:lnTo>
                          <a:lnTo>
                            <a:pt x="546" y="160"/>
                          </a:lnTo>
                          <a:lnTo>
                            <a:pt x="544" y="163"/>
                          </a:lnTo>
                          <a:lnTo>
                            <a:pt x="544" y="167"/>
                          </a:lnTo>
                          <a:lnTo>
                            <a:pt x="361" y="1127"/>
                          </a:lnTo>
                          <a:lnTo>
                            <a:pt x="361" y="1127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8" name="AutoShape 317"/>
                  <p:cNvSpPr/>
                  <p:nvPr/>
                </p:nvSpPr>
                <p:spPr>
                  <a:xfrm rot="9395400">
                    <a:off x="4577760" y="1734840"/>
                    <a:ext cx="88560" cy="75960"/>
                  </a:xfrm>
                  <a:prstGeom prst="hexagon">
                    <a:avLst>
                      <a:gd name="adj" fmla="val 29147"/>
                      <a:gd name="vf" fmla="val 115470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9" name="Group 318"/>
                <p:cNvGrpSpPr/>
                <p:nvPr/>
              </p:nvGrpSpPr>
              <p:grpSpPr>
                <a:xfrm>
                  <a:off x="4707720" y="2177640"/>
                  <a:ext cx="650520" cy="1216800"/>
                  <a:chOff x="4707720" y="2177640"/>
                  <a:chExt cx="650520" cy="1216800"/>
                </a:xfrm>
              </p:grpSpPr>
              <p:grpSp>
                <p:nvGrpSpPr>
                  <p:cNvPr id="610" name="Group 319"/>
                  <p:cNvGrpSpPr/>
                  <p:nvPr/>
                </p:nvGrpSpPr>
                <p:grpSpPr>
                  <a:xfrm>
                    <a:off x="4707720" y="2177640"/>
                    <a:ext cx="401040" cy="636840"/>
                    <a:chOff x="4707720" y="2177640"/>
                    <a:chExt cx="401040" cy="636840"/>
                  </a:xfrm>
                </p:grpSpPr>
                <p:sp>
                  <p:nvSpPr>
                    <p:cNvPr id="611" name="AutoShape 320"/>
                    <p:cNvSpPr/>
                    <p:nvPr/>
                  </p:nvSpPr>
                  <p:spPr>
                    <a:xfrm rot="20368200">
                      <a:off x="4848480" y="2306880"/>
                      <a:ext cx="179640" cy="49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18000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AutoShape 321"/>
                    <p:cNvSpPr/>
                    <p:nvPr/>
                  </p:nvSpPr>
                  <p:spPr>
                    <a:xfrm rot="4346400">
                      <a:off x="4753080" y="2186280"/>
                      <a:ext cx="19188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3" name="Group 322"/>
                  <p:cNvGrpSpPr/>
                  <p:nvPr/>
                </p:nvGrpSpPr>
                <p:grpSpPr>
                  <a:xfrm>
                    <a:off x="4912560" y="2668680"/>
                    <a:ext cx="445680" cy="725760"/>
                    <a:chOff x="4912560" y="2668680"/>
                    <a:chExt cx="445680" cy="725760"/>
                  </a:xfrm>
                </p:grpSpPr>
                <p:sp>
                  <p:nvSpPr>
                    <p:cNvPr id="614" name="AutoShape 323"/>
                    <p:cNvSpPr/>
                    <p:nvPr/>
                  </p:nvSpPr>
                  <p:spPr>
                    <a:xfrm rot="20383200">
                      <a:off x="5004720" y="2792880"/>
                      <a:ext cx="180360" cy="36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4308" y="21600"/>
                          </a:lnTo>
                          <a:lnTo>
                            <a:pt x="17292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54000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5" name="Oval 324"/>
                    <p:cNvSpPr/>
                    <p:nvPr/>
                  </p:nvSpPr>
                  <p:spPr>
                    <a:xfrm rot="20922000">
                      <a:off x="4929120" y="2684880"/>
                      <a:ext cx="187200" cy="190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Freeform 325"/>
                    <p:cNvSpPr/>
                    <p:nvPr/>
                  </p:nvSpPr>
                  <p:spPr>
                    <a:xfrm rot="8817000">
                      <a:off x="5118120" y="3081600"/>
                      <a:ext cx="175680" cy="28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2" h="2302">
                          <a:moveTo>
                            <a:pt x="361" y="1127"/>
                          </a:moveTo>
                          <a:lnTo>
                            <a:pt x="280" y="1116"/>
                          </a:lnTo>
                          <a:lnTo>
                            <a:pt x="373" y="711"/>
                          </a:lnTo>
                          <a:lnTo>
                            <a:pt x="373" y="709"/>
                          </a:lnTo>
                          <a:lnTo>
                            <a:pt x="375" y="705"/>
                          </a:lnTo>
                          <a:lnTo>
                            <a:pt x="375" y="703"/>
                          </a:lnTo>
                          <a:lnTo>
                            <a:pt x="375" y="700"/>
                          </a:lnTo>
                          <a:lnTo>
                            <a:pt x="375" y="698"/>
                          </a:lnTo>
                          <a:lnTo>
                            <a:pt x="375" y="696"/>
                          </a:lnTo>
                          <a:lnTo>
                            <a:pt x="375" y="692"/>
                          </a:lnTo>
                          <a:lnTo>
                            <a:pt x="375" y="690"/>
                          </a:lnTo>
                          <a:lnTo>
                            <a:pt x="375" y="684"/>
                          </a:lnTo>
                          <a:lnTo>
                            <a:pt x="375" y="681"/>
                          </a:lnTo>
                          <a:lnTo>
                            <a:pt x="375" y="675"/>
                          </a:lnTo>
                          <a:lnTo>
                            <a:pt x="375" y="669"/>
                          </a:lnTo>
                          <a:lnTo>
                            <a:pt x="371" y="665"/>
                          </a:lnTo>
                          <a:lnTo>
                            <a:pt x="371" y="660"/>
                          </a:lnTo>
                          <a:lnTo>
                            <a:pt x="369" y="654"/>
                          </a:lnTo>
                          <a:lnTo>
                            <a:pt x="367" y="652"/>
                          </a:lnTo>
                          <a:lnTo>
                            <a:pt x="365" y="646"/>
                          </a:lnTo>
                          <a:lnTo>
                            <a:pt x="363" y="641"/>
                          </a:lnTo>
                          <a:lnTo>
                            <a:pt x="361" y="637"/>
                          </a:lnTo>
                          <a:lnTo>
                            <a:pt x="358" y="633"/>
                          </a:lnTo>
                          <a:lnTo>
                            <a:pt x="356" y="629"/>
                          </a:lnTo>
                          <a:lnTo>
                            <a:pt x="354" y="623"/>
                          </a:lnTo>
                          <a:lnTo>
                            <a:pt x="350" y="620"/>
                          </a:lnTo>
                          <a:lnTo>
                            <a:pt x="346" y="616"/>
                          </a:lnTo>
                          <a:lnTo>
                            <a:pt x="342" y="612"/>
                          </a:lnTo>
                          <a:lnTo>
                            <a:pt x="339" y="610"/>
                          </a:lnTo>
                          <a:lnTo>
                            <a:pt x="335" y="606"/>
                          </a:lnTo>
                          <a:lnTo>
                            <a:pt x="331" y="603"/>
                          </a:lnTo>
                          <a:lnTo>
                            <a:pt x="325" y="601"/>
                          </a:lnTo>
                          <a:lnTo>
                            <a:pt x="321" y="597"/>
                          </a:lnTo>
                          <a:lnTo>
                            <a:pt x="318" y="595"/>
                          </a:lnTo>
                          <a:lnTo>
                            <a:pt x="312" y="593"/>
                          </a:lnTo>
                          <a:lnTo>
                            <a:pt x="306" y="591"/>
                          </a:lnTo>
                          <a:lnTo>
                            <a:pt x="302" y="589"/>
                          </a:lnTo>
                          <a:lnTo>
                            <a:pt x="299" y="589"/>
                          </a:lnTo>
                          <a:lnTo>
                            <a:pt x="295" y="587"/>
                          </a:lnTo>
                          <a:lnTo>
                            <a:pt x="291" y="587"/>
                          </a:lnTo>
                          <a:lnTo>
                            <a:pt x="287" y="585"/>
                          </a:lnTo>
                          <a:lnTo>
                            <a:pt x="285" y="585"/>
                          </a:lnTo>
                          <a:lnTo>
                            <a:pt x="283" y="585"/>
                          </a:lnTo>
                          <a:lnTo>
                            <a:pt x="280" y="585"/>
                          </a:lnTo>
                          <a:lnTo>
                            <a:pt x="276" y="585"/>
                          </a:lnTo>
                          <a:lnTo>
                            <a:pt x="274" y="585"/>
                          </a:lnTo>
                          <a:lnTo>
                            <a:pt x="272" y="585"/>
                          </a:lnTo>
                          <a:lnTo>
                            <a:pt x="268" y="585"/>
                          </a:lnTo>
                          <a:lnTo>
                            <a:pt x="266" y="585"/>
                          </a:lnTo>
                          <a:lnTo>
                            <a:pt x="263" y="585"/>
                          </a:lnTo>
                          <a:lnTo>
                            <a:pt x="261" y="587"/>
                          </a:lnTo>
                          <a:lnTo>
                            <a:pt x="259" y="587"/>
                          </a:lnTo>
                          <a:lnTo>
                            <a:pt x="255" y="587"/>
                          </a:lnTo>
                          <a:lnTo>
                            <a:pt x="253" y="589"/>
                          </a:lnTo>
                          <a:lnTo>
                            <a:pt x="249" y="589"/>
                          </a:lnTo>
                          <a:lnTo>
                            <a:pt x="247" y="589"/>
                          </a:lnTo>
                          <a:lnTo>
                            <a:pt x="243" y="591"/>
                          </a:lnTo>
                          <a:lnTo>
                            <a:pt x="240" y="591"/>
                          </a:lnTo>
                          <a:lnTo>
                            <a:pt x="238" y="593"/>
                          </a:lnTo>
                          <a:lnTo>
                            <a:pt x="236" y="595"/>
                          </a:lnTo>
                          <a:lnTo>
                            <a:pt x="232" y="595"/>
                          </a:lnTo>
                          <a:lnTo>
                            <a:pt x="230" y="597"/>
                          </a:lnTo>
                          <a:lnTo>
                            <a:pt x="228" y="599"/>
                          </a:lnTo>
                          <a:lnTo>
                            <a:pt x="224" y="601"/>
                          </a:lnTo>
                          <a:lnTo>
                            <a:pt x="223" y="601"/>
                          </a:lnTo>
                          <a:lnTo>
                            <a:pt x="219" y="603"/>
                          </a:lnTo>
                          <a:lnTo>
                            <a:pt x="217" y="604"/>
                          </a:lnTo>
                          <a:lnTo>
                            <a:pt x="211" y="608"/>
                          </a:lnTo>
                          <a:lnTo>
                            <a:pt x="207" y="612"/>
                          </a:lnTo>
                          <a:lnTo>
                            <a:pt x="204" y="616"/>
                          </a:lnTo>
                          <a:lnTo>
                            <a:pt x="198" y="618"/>
                          </a:lnTo>
                          <a:lnTo>
                            <a:pt x="194" y="623"/>
                          </a:lnTo>
                          <a:lnTo>
                            <a:pt x="188" y="627"/>
                          </a:lnTo>
                          <a:lnTo>
                            <a:pt x="185" y="633"/>
                          </a:lnTo>
                          <a:lnTo>
                            <a:pt x="181" y="637"/>
                          </a:lnTo>
                          <a:lnTo>
                            <a:pt x="177" y="641"/>
                          </a:lnTo>
                          <a:lnTo>
                            <a:pt x="173" y="646"/>
                          </a:lnTo>
                          <a:lnTo>
                            <a:pt x="169" y="652"/>
                          </a:lnTo>
                          <a:lnTo>
                            <a:pt x="166" y="656"/>
                          </a:lnTo>
                          <a:lnTo>
                            <a:pt x="162" y="662"/>
                          </a:lnTo>
                          <a:lnTo>
                            <a:pt x="160" y="665"/>
                          </a:lnTo>
                          <a:lnTo>
                            <a:pt x="158" y="669"/>
                          </a:lnTo>
                          <a:lnTo>
                            <a:pt x="158" y="671"/>
                          </a:lnTo>
                          <a:lnTo>
                            <a:pt x="156" y="673"/>
                          </a:lnTo>
                          <a:lnTo>
                            <a:pt x="154" y="677"/>
                          </a:lnTo>
                          <a:lnTo>
                            <a:pt x="152" y="679"/>
                          </a:lnTo>
                          <a:lnTo>
                            <a:pt x="152" y="681"/>
                          </a:lnTo>
                          <a:lnTo>
                            <a:pt x="150" y="684"/>
                          </a:lnTo>
                          <a:lnTo>
                            <a:pt x="150" y="688"/>
                          </a:lnTo>
                          <a:lnTo>
                            <a:pt x="146" y="694"/>
                          </a:lnTo>
                          <a:lnTo>
                            <a:pt x="145" y="701"/>
                          </a:lnTo>
                          <a:lnTo>
                            <a:pt x="143" y="709"/>
                          </a:lnTo>
                          <a:lnTo>
                            <a:pt x="139" y="717"/>
                          </a:lnTo>
                          <a:lnTo>
                            <a:pt x="137" y="724"/>
                          </a:lnTo>
                          <a:lnTo>
                            <a:pt x="135" y="732"/>
                          </a:lnTo>
                          <a:lnTo>
                            <a:pt x="131" y="739"/>
                          </a:lnTo>
                          <a:lnTo>
                            <a:pt x="129" y="747"/>
                          </a:lnTo>
                          <a:lnTo>
                            <a:pt x="126" y="755"/>
                          </a:lnTo>
                          <a:lnTo>
                            <a:pt x="124" y="760"/>
                          </a:lnTo>
                          <a:lnTo>
                            <a:pt x="122" y="768"/>
                          </a:lnTo>
                          <a:lnTo>
                            <a:pt x="120" y="776"/>
                          </a:lnTo>
                          <a:lnTo>
                            <a:pt x="116" y="781"/>
                          </a:lnTo>
                          <a:lnTo>
                            <a:pt x="114" y="789"/>
                          </a:lnTo>
                          <a:lnTo>
                            <a:pt x="112" y="796"/>
                          </a:lnTo>
                          <a:lnTo>
                            <a:pt x="110" y="804"/>
                          </a:lnTo>
                          <a:lnTo>
                            <a:pt x="107" y="812"/>
                          </a:lnTo>
                          <a:lnTo>
                            <a:pt x="107" y="817"/>
                          </a:lnTo>
                          <a:lnTo>
                            <a:pt x="103" y="823"/>
                          </a:lnTo>
                          <a:lnTo>
                            <a:pt x="101" y="831"/>
                          </a:lnTo>
                          <a:lnTo>
                            <a:pt x="97" y="836"/>
                          </a:lnTo>
                          <a:lnTo>
                            <a:pt x="97" y="844"/>
                          </a:lnTo>
                          <a:lnTo>
                            <a:pt x="93" y="852"/>
                          </a:lnTo>
                          <a:lnTo>
                            <a:pt x="93" y="857"/>
                          </a:lnTo>
                          <a:lnTo>
                            <a:pt x="89" y="865"/>
                          </a:lnTo>
                          <a:lnTo>
                            <a:pt x="88" y="871"/>
                          </a:lnTo>
                          <a:lnTo>
                            <a:pt x="86" y="878"/>
                          </a:lnTo>
                          <a:lnTo>
                            <a:pt x="84" y="884"/>
                          </a:lnTo>
                          <a:lnTo>
                            <a:pt x="82" y="892"/>
                          </a:lnTo>
                          <a:lnTo>
                            <a:pt x="80" y="899"/>
                          </a:lnTo>
                          <a:lnTo>
                            <a:pt x="78" y="907"/>
                          </a:lnTo>
                          <a:lnTo>
                            <a:pt x="74" y="912"/>
                          </a:lnTo>
                          <a:lnTo>
                            <a:pt x="72" y="920"/>
                          </a:lnTo>
                          <a:lnTo>
                            <a:pt x="72" y="926"/>
                          </a:lnTo>
                          <a:lnTo>
                            <a:pt x="68" y="931"/>
                          </a:lnTo>
                          <a:lnTo>
                            <a:pt x="67" y="939"/>
                          </a:lnTo>
                          <a:lnTo>
                            <a:pt x="65" y="945"/>
                          </a:lnTo>
                          <a:lnTo>
                            <a:pt x="63" y="952"/>
                          </a:lnTo>
                          <a:lnTo>
                            <a:pt x="59" y="958"/>
                          </a:lnTo>
                          <a:lnTo>
                            <a:pt x="57" y="966"/>
                          </a:lnTo>
                          <a:lnTo>
                            <a:pt x="55" y="971"/>
                          </a:lnTo>
                          <a:lnTo>
                            <a:pt x="53" y="979"/>
                          </a:lnTo>
                          <a:lnTo>
                            <a:pt x="51" y="987"/>
                          </a:lnTo>
                          <a:lnTo>
                            <a:pt x="49" y="994"/>
                          </a:lnTo>
                          <a:lnTo>
                            <a:pt x="48" y="1000"/>
                          </a:lnTo>
                          <a:lnTo>
                            <a:pt x="46" y="1007"/>
                          </a:lnTo>
                          <a:lnTo>
                            <a:pt x="44" y="1015"/>
                          </a:lnTo>
                          <a:lnTo>
                            <a:pt x="42" y="1021"/>
                          </a:lnTo>
                          <a:lnTo>
                            <a:pt x="42" y="1028"/>
                          </a:lnTo>
                          <a:lnTo>
                            <a:pt x="38" y="1036"/>
                          </a:lnTo>
                          <a:lnTo>
                            <a:pt x="36" y="1042"/>
                          </a:lnTo>
                          <a:lnTo>
                            <a:pt x="36" y="1049"/>
                          </a:lnTo>
                          <a:lnTo>
                            <a:pt x="34" y="1057"/>
                          </a:lnTo>
                          <a:lnTo>
                            <a:pt x="30" y="1063"/>
                          </a:lnTo>
                          <a:lnTo>
                            <a:pt x="30" y="1070"/>
                          </a:lnTo>
                          <a:lnTo>
                            <a:pt x="29" y="1078"/>
                          </a:lnTo>
                          <a:lnTo>
                            <a:pt x="27" y="1085"/>
                          </a:lnTo>
                          <a:lnTo>
                            <a:pt x="25" y="1093"/>
                          </a:lnTo>
                          <a:lnTo>
                            <a:pt x="23" y="1101"/>
                          </a:lnTo>
                          <a:lnTo>
                            <a:pt x="21" y="1108"/>
                          </a:lnTo>
                          <a:lnTo>
                            <a:pt x="19" y="1116"/>
                          </a:lnTo>
                          <a:lnTo>
                            <a:pt x="17" y="1123"/>
                          </a:lnTo>
                          <a:lnTo>
                            <a:pt x="17" y="1131"/>
                          </a:lnTo>
                          <a:lnTo>
                            <a:pt x="15" y="1139"/>
                          </a:lnTo>
                          <a:lnTo>
                            <a:pt x="13" y="1148"/>
                          </a:lnTo>
                          <a:lnTo>
                            <a:pt x="10" y="1158"/>
                          </a:lnTo>
                          <a:lnTo>
                            <a:pt x="10" y="1165"/>
                          </a:lnTo>
                          <a:lnTo>
                            <a:pt x="8" y="1175"/>
                          </a:lnTo>
                          <a:lnTo>
                            <a:pt x="6" y="1182"/>
                          </a:lnTo>
                          <a:lnTo>
                            <a:pt x="6" y="1192"/>
                          </a:lnTo>
                          <a:lnTo>
                            <a:pt x="4" y="1201"/>
                          </a:lnTo>
                          <a:lnTo>
                            <a:pt x="2" y="1211"/>
                          </a:lnTo>
                          <a:lnTo>
                            <a:pt x="2" y="1218"/>
                          </a:lnTo>
                          <a:lnTo>
                            <a:pt x="0" y="1230"/>
                          </a:lnTo>
                          <a:lnTo>
                            <a:pt x="0" y="1237"/>
                          </a:lnTo>
                          <a:lnTo>
                            <a:pt x="0" y="1247"/>
                          </a:lnTo>
                          <a:lnTo>
                            <a:pt x="0" y="1257"/>
                          </a:lnTo>
                          <a:lnTo>
                            <a:pt x="0" y="1268"/>
                          </a:lnTo>
                          <a:lnTo>
                            <a:pt x="0" y="1276"/>
                          </a:lnTo>
                          <a:lnTo>
                            <a:pt x="0" y="1285"/>
                          </a:lnTo>
                          <a:lnTo>
                            <a:pt x="0" y="1296"/>
                          </a:lnTo>
                          <a:lnTo>
                            <a:pt x="0" y="1304"/>
                          </a:lnTo>
                          <a:lnTo>
                            <a:pt x="0" y="1314"/>
                          </a:lnTo>
                          <a:lnTo>
                            <a:pt x="0" y="1323"/>
                          </a:lnTo>
                          <a:lnTo>
                            <a:pt x="0" y="1333"/>
                          </a:lnTo>
                          <a:lnTo>
                            <a:pt x="2" y="1342"/>
                          </a:lnTo>
                          <a:lnTo>
                            <a:pt x="2" y="1352"/>
                          </a:lnTo>
                          <a:lnTo>
                            <a:pt x="4" y="1363"/>
                          </a:lnTo>
                          <a:lnTo>
                            <a:pt x="4" y="1371"/>
                          </a:lnTo>
                          <a:lnTo>
                            <a:pt x="6" y="1382"/>
                          </a:lnTo>
                          <a:lnTo>
                            <a:pt x="8" y="1390"/>
                          </a:lnTo>
                          <a:lnTo>
                            <a:pt x="8" y="1401"/>
                          </a:lnTo>
                          <a:lnTo>
                            <a:pt x="10" y="1409"/>
                          </a:lnTo>
                          <a:lnTo>
                            <a:pt x="11" y="1420"/>
                          </a:lnTo>
                          <a:lnTo>
                            <a:pt x="13" y="1429"/>
                          </a:lnTo>
                          <a:lnTo>
                            <a:pt x="15" y="1439"/>
                          </a:lnTo>
                          <a:lnTo>
                            <a:pt x="17" y="1448"/>
                          </a:lnTo>
                          <a:lnTo>
                            <a:pt x="19" y="1458"/>
                          </a:lnTo>
                          <a:lnTo>
                            <a:pt x="21" y="1468"/>
                          </a:lnTo>
                          <a:lnTo>
                            <a:pt x="23" y="1477"/>
                          </a:lnTo>
                          <a:lnTo>
                            <a:pt x="27" y="1487"/>
                          </a:lnTo>
                          <a:lnTo>
                            <a:pt x="29" y="1496"/>
                          </a:lnTo>
                          <a:lnTo>
                            <a:pt x="30" y="1506"/>
                          </a:lnTo>
                          <a:lnTo>
                            <a:pt x="34" y="1515"/>
                          </a:lnTo>
                          <a:lnTo>
                            <a:pt x="36" y="1525"/>
                          </a:lnTo>
                          <a:lnTo>
                            <a:pt x="38" y="1534"/>
                          </a:lnTo>
                          <a:lnTo>
                            <a:pt x="42" y="1544"/>
                          </a:lnTo>
                          <a:lnTo>
                            <a:pt x="46" y="1553"/>
                          </a:lnTo>
                          <a:lnTo>
                            <a:pt x="48" y="1561"/>
                          </a:lnTo>
                          <a:lnTo>
                            <a:pt x="51" y="1572"/>
                          </a:lnTo>
                          <a:lnTo>
                            <a:pt x="55" y="1580"/>
                          </a:lnTo>
                          <a:lnTo>
                            <a:pt x="59" y="1589"/>
                          </a:lnTo>
                          <a:lnTo>
                            <a:pt x="63" y="1599"/>
                          </a:lnTo>
                          <a:lnTo>
                            <a:pt x="67" y="1608"/>
                          </a:lnTo>
                          <a:lnTo>
                            <a:pt x="68" y="1616"/>
                          </a:lnTo>
                          <a:lnTo>
                            <a:pt x="74" y="1627"/>
                          </a:lnTo>
                          <a:lnTo>
                            <a:pt x="78" y="1635"/>
                          </a:lnTo>
                          <a:lnTo>
                            <a:pt x="82" y="1644"/>
                          </a:lnTo>
                          <a:lnTo>
                            <a:pt x="86" y="1652"/>
                          </a:lnTo>
                          <a:lnTo>
                            <a:pt x="89" y="1661"/>
                          </a:lnTo>
                          <a:lnTo>
                            <a:pt x="95" y="1669"/>
                          </a:lnTo>
                          <a:lnTo>
                            <a:pt x="99" y="1679"/>
                          </a:lnTo>
                          <a:lnTo>
                            <a:pt x="103" y="1688"/>
                          </a:lnTo>
                          <a:lnTo>
                            <a:pt x="108" y="1696"/>
                          </a:lnTo>
                          <a:lnTo>
                            <a:pt x="114" y="1703"/>
                          </a:lnTo>
                          <a:lnTo>
                            <a:pt x="118" y="1713"/>
                          </a:lnTo>
                          <a:lnTo>
                            <a:pt x="124" y="1722"/>
                          </a:lnTo>
                          <a:lnTo>
                            <a:pt x="127" y="1732"/>
                          </a:lnTo>
                          <a:lnTo>
                            <a:pt x="131" y="1736"/>
                          </a:lnTo>
                          <a:lnTo>
                            <a:pt x="135" y="1739"/>
                          </a:lnTo>
                          <a:lnTo>
                            <a:pt x="135" y="1743"/>
                          </a:lnTo>
                          <a:lnTo>
                            <a:pt x="137" y="1745"/>
                          </a:lnTo>
                          <a:lnTo>
                            <a:pt x="139" y="1747"/>
                          </a:lnTo>
                          <a:lnTo>
                            <a:pt x="141" y="1751"/>
                          </a:lnTo>
                          <a:lnTo>
                            <a:pt x="143" y="1755"/>
                          </a:lnTo>
                          <a:lnTo>
                            <a:pt x="143" y="1756"/>
                          </a:lnTo>
                          <a:lnTo>
                            <a:pt x="145" y="1760"/>
                          </a:lnTo>
                          <a:lnTo>
                            <a:pt x="146" y="1762"/>
                          </a:lnTo>
                          <a:lnTo>
                            <a:pt x="148" y="1766"/>
                          </a:lnTo>
                          <a:lnTo>
                            <a:pt x="150" y="1768"/>
                          </a:lnTo>
                          <a:lnTo>
                            <a:pt x="152" y="1770"/>
                          </a:lnTo>
                          <a:lnTo>
                            <a:pt x="156" y="1774"/>
                          </a:lnTo>
                          <a:lnTo>
                            <a:pt x="158" y="1777"/>
                          </a:lnTo>
                          <a:lnTo>
                            <a:pt x="160" y="1779"/>
                          </a:lnTo>
                          <a:lnTo>
                            <a:pt x="160" y="1783"/>
                          </a:lnTo>
                          <a:lnTo>
                            <a:pt x="162" y="1787"/>
                          </a:lnTo>
                          <a:lnTo>
                            <a:pt x="166" y="1789"/>
                          </a:lnTo>
                          <a:lnTo>
                            <a:pt x="166" y="1791"/>
                          </a:lnTo>
                          <a:lnTo>
                            <a:pt x="167" y="1794"/>
                          </a:lnTo>
                          <a:lnTo>
                            <a:pt x="169" y="1796"/>
                          </a:lnTo>
                          <a:lnTo>
                            <a:pt x="171" y="1800"/>
                          </a:lnTo>
                          <a:lnTo>
                            <a:pt x="173" y="1802"/>
                          </a:lnTo>
                          <a:lnTo>
                            <a:pt x="175" y="1806"/>
                          </a:lnTo>
                          <a:lnTo>
                            <a:pt x="177" y="1808"/>
                          </a:lnTo>
                          <a:lnTo>
                            <a:pt x="179" y="1812"/>
                          </a:lnTo>
                          <a:lnTo>
                            <a:pt x="181" y="1815"/>
                          </a:lnTo>
                          <a:lnTo>
                            <a:pt x="183" y="1817"/>
                          </a:lnTo>
                          <a:lnTo>
                            <a:pt x="185" y="1821"/>
                          </a:lnTo>
                          <a:lnTo>
                            <a:pt x="188" y="1827"/>
                          </a:lnTo>
                          <a:lnTo>
                            <a:pt x="190" y="1831"/>
                          </a:lnTo>
                          <a:lnTo>
                            <a:pt x="194" y="1836"/>
                          </a:lnTo>
                          <a:lnTo>
                            <a:pt x="198" y="1842"/>
                          </a:lnTo>
                          <a:lnTo>
                            <a:pt x="200" y="1846"/>
                          </a:lnTo>
                          <a:lnTo>
                            <a:pt x="204" y="1850"/>
                          </a:lnTo>
                          <a:lnTo>
                            <a:pt x="205" y="1853"/>
                          </a:lnTo>
                          <a:lnTo>
                            <a:pt x="207" y="1859"/>
                          </a:lnTo>
                          <a:lnTo>
                            <a:pt x="209" y="1861"/>
                          </a:lnTo>
                          <a:lnTo>
                            <a:pt x="211" y="1863"/>
                          </a:lnTo>
                          <a:lnTo>
                            <a:pt x="213" y="1867"/>
                          </a:lnTo>
                          <a:lnTo>
                            <a:pt x="215" y="1869"/>
                          </a:lnTo>
                          <a:lnTo>
                            <a:pt x="217" y="1870"/>
                          </a:lnTo>
                          <a:lnTo>
                            <a:pt x="219" y="1874"/>
                          </a:lnTo>
                          <a:lnTo>
                            <a:pt x="141" y="2163"/>
                          </a:lnTo>
                          <a:lnTo>
                            <a:pt x="143" y="2165"/>
                          </a:lnTo>
                          <a:lnTo>
                            <a:pt x="146" y="2165"/>
                          </a:lnTo>
                          <a:lnTo>
                            <a:pt x="150" y="2167"/>
                          </a:lnTo>
                          <a:lnTo>
                            <a:pt x="152" y="2167"/>
                          </a:lnTo>
                          <a:lnTo>
                            <a:pt x="154" y="2167"/>
                          </a:lnTo>
                          <a:lnTo>
                            <a:pt x="158" y="2167"/>
                          </a:lnTo>
                          <a:lnTo>
                            <a:pt x="162" y="2171"/>
                          </a:lnTo>
                          <a:lnTo>
                            <a:pt x="166" y="2171"/>
                          </a:lnTo>
                          <a:lnTo>
                            <a:pt x="167" y="2173"/>
                          </a:lnTo>
                          <a:lnTo>
                            <a:pt x="171" y="2173"/>
                          </a:lnTo>
                          <a:lnTo>
                            <a:pt x="175" y="2175"/>
                          </a:lnTo>
                          <a:lnTo>
                            <a:pt x="181" y="2175"/>
                          </a:lnTo>
                          <a:lnTo>
                            <a:pt x="185" y="2175"/>
                          </a:lnTo>
                          <a:lnTo>
                            <a:pt x="188" y="2177"/>
                          </a:lnTo>
                          <a:lnTo>
                            <a:pt x="194" y="2180"/>
                          </a:lnTo>
                          <a:lnTo>
                            <a:pt x="198" y="2180"/>
                          </a:lnTo>
                          <a:lnTo>
                            <a:pt x="204" y="2182"/>
                          </a:lnTo>
                          <a:lnTo>
                            <a:pt x="209" y="2182"/>
                          </a:lnTo>
                          <a:lnTo>
                            <a:pt x="215" y="2184"/>
                          </a:lnTo>
                          <a:lnTo>
                            <a:pt x="219" y="2186"/>
                          </a:lnTo>
                          <a:lnTo>
                            <a:pt x="224" y="2188"/>
                          </a:lnTo>
                          <a:lnTo>
                            <a:pt x="232" y="2188"/>
                          </a:lnTo>
                          <a:lnTo>
                            <a:pt x="238" y="2190"/>
                          </a:lnTo>
                          <a:lnTo>
                            <a:pt x="243" y="2190"/>
                          </a:lnTo>
                          <a:lnTo>
                            <a:pt x="251" y="2192"/>
                          </a:lnTo>
                          <a:lnTo>
                            <a:pt x="257" y="2194"/>
                          </a:lnTo>
                          <a:lnTo>
                            <a:pt x="264" y="2194"/>
                          </a:lnTo>
                          <a:lnTo>
                            <a:pt x="270" y="2196"/>
                          </a:lnTo>
                          <a:lnTo>
                            <a:pt x="276" y="2196"/>
                          </a:lnTo>
                          <a:lnTo>
                            <a:pt x="283" y="2197"/>
                          </a:lnTo>
                          <a:lnTo>
                            <a:pt x="291" y="2199"/>
                          </a:lnTo>
                          <a:lnTo>
                            <a:pt x="297" y="2199"/>
                          </a:lnTo>
                          <a:lnTo>
                            <a:pt x="304" y="2199"/>
                          </a:lnTo>
                          <a:lnTo>
                            <a:pt x="312" y="2199"/>
                          </a:lnTo>
                          <a:lnTo>
                            <a:pt x="320" y="2201"/>
                          </a:lnTo>
                          <a:lnTo>
                            <a:pt x="325" y="2201"/>
                          </a:lnTo>
                          <a:lnTo>
                            <a:pt x="333" y="2201"/>
                          </a:lnTo>
                          <a:lnTo>
                            <a:pt x="341" y="2201"/>
                          </a:lnTo>
                          <a:lnTo>
                            <a:pt x="348" y="2201"/>
                          </a:lnTo>
                          <a:lnTo>
                            <a:pt x="356" y="2201"/>
                          </a:lnTo>
                          <a:lnTo>
                            <a:pt x="363" y="2201"/>
                          </a:lnTo>
                          <a:lnTo>
                            <a:pt x="371" y="2201"/>
                          </a:lnTo>
                          <a:lnTo>
                            <a:pt x="379" y="2201"/>
                          </a:lnTo>
                          <a:lnTo>
                            <a:pt x="386" y="2201"/>
                          </a:lnTo>
                          <a:lnTo>
                            <a:pt x="394" y="2201"/>
                          </a:lnTo>
                          <a:lnTo>
                            <a:pt x="401" y="2199"/>
                          </a:lnTo>
                          <a:lnTo>
                            <a:pt x="409" y="2199"/>
                          </a:lnTo>
                          <a:lnTo>
                            <a:pt x="415" y="2197"/>
                          </a:lnTo>
                          <a:lnTo>
                            <a:pt x="422" y="2196"/>
                          </a:lnTo>
                          <a:lnTo>
                            <a:pt x="432" y="2196"/>
                          </a:lnTo>
                          <a:lnTo>
                            <a:pt x="439" y="2194"/>
                          </a:lnTo>
                          <a:lnTo>
                            <a:pt x="447" y="2192"/>
                          </a:lnTo>
                          <a:lnTo>
                            <a:pt x="455" y="2190"/>
                          </a:lnTo>
                          <a:lnTo>
                            <a:pt x="462" y="2188"/>
                          </a:lnTo>
                          <a:lnTo>
                            <a:pt x="470" y="2188"/>
                          </a:lnTo>
                          <a:lnTo>
                            <a:pt x="476" y="2184"/>
                          </a:lnTo>
                          <a:lnTo>
                            <a:pt x="483" y="2182"/>
                          </a:lnTo>
                          <a:lnTo>
                            <a:pt x="491" y="2180"/>
                          </a:lnTo>
                          <a:lnTo>
                            <a:pt x="498" y="2175"/>
                          </a:lnTo>
                          <a:lnTo>
                            <a:pt x="504" y="2173"/>
                          </a:lnTo>
                          <a:lnTo>
                            <a:pt x="512" y="2169"/>
                          </a:lnTo>
                          <a:lnTo>
                            <a:pt x="517" y="2165"/>
                          </a:lnTo>
                          <a:lnTo>
                            <a:pt x="525" y="2161"/>
                          </a:lnTo>
                          <a:lnTo>
                            <a:pt x="531" y="2158"/>
                          </a:lnTo>
                          <a:lnTo>
                            <a:pt x="536" y="2154"/>
                          </a:lnTo>
                          <a:lnTo>
                            <a:pt x="542" y="2150"/>
                          </a:lnTo>
                          <a:lnTo>
                            <a:pt x="550" y="2146"/>
                          </a:lnTo>
                          <a:lnTo>
                            <a:pt x="555" y="2142"/>
                          </a:lnTo>
                          <a:lnTo>
                            <a:pt x="559" y="2137"/>
                          </a:lnTo>
                          <a:lnTo>
                            <a:pt x="565" y="2133"/>
                          </a:lnTo>
                          <a:lnTo>
                            <a:pt x="571" y="2129"/>
                          </a:lnTo>
                          <a:lnTo>
                            <a:pt x="576" y="2123"/>
                          </a:lnTo>
                          <a:lnTo>
                            <a:pt x="582" y="2120"/>
                          </a:lnTo>
                          <a:lnTo>
                            <a:pt x="588" y="2114"/>
                          </a:lnTo>
                          <a:lnTo>
                            <a:pt x="592" y="2110"/>
                          </a:lnTo>
                          <a:lnTo>
                            <a:pt x="595" y="2106"/>
                          </a:lnTo>
                          <a:lnTo>
                            <a:pt x="601" y="2101"/>
                          </a:lnTo>
                          <a:lnTo>
                            <a:pt x="605" y="2095"/>
                          </a:lnTo>
                          <a:lnTo>
                            <a:pt x="611" y="2091"/>
                          </a:lnTo>
                          <a:lnTo>
                            <a:pt x="614" y="2085"/>
                          </a:lnTo>
                          <a:lnTo>
                            <a:pt x="618" y="2080"/>
                          </a:lnTo>
                          <a:lnTo>
                            <a:pt x="624" y="2076"/>
                          </a:lnTo>
                          <a:lnTo>
                            <a:pt x="628" y="2070"/>
                          </a:lnTo>
                          <a:lnTo>
                            <a:pt x="632" y="2064"/>
                          </a:lnTo>
                          <a:lnTo>
                            <a:pt x="635" y="2059"/>
                          </a:lnTo>
                          <a:lnTo>
                            <a:pt x="637" y="2055"/>
                          </a:lnTo>
                          <a:lnTo>
                            <a:pt x="643" y="2049"/>
                          </a:lnTo>
                          <a:lnTo>
                            <a:pt x="645" y="2043"/>
                          </a:lnTo>
                          <a:lnTo>
                            <a:pt x="649" y="2040"/>
                          </a:lnTo>
                          <a:lnTo>
                            <a:pt x="652" y="2034"/>
                          </a:lnTo>
                          <a:lnTo>
                            <a:pt x="654" y="2030"/>
                          </a:lnTo>
                          <a:lnTo>
                            <a:pt x="658" y="2024"/>
                          </a:lnTo>
                          <a:lnTo>
                            <a:pt x="660" y="2021"/>
                          </a:lnTo>
                          <a:lnTo>
                            <a:pt x="664" y="2015"/>
                          </a:lnTo>
                          <a:lnTo>
                            <a:pt x="666" y="2011"/>
                          </a:lnTo>
                          <a:lnTo>
                            <a:pt x="668" y="2005"/>
                          </a:lnTo>
                          <a:lnTo>
                            <a:pt x="672" y="2002"/>
                          </a:lnTo>
                          <a:lnTo>
                            <a:pt x="673" y="1998"/>
                          </a:lnTo>
                          <a:lnTo>
                            <a:pt x="675" y="1992"/>
                          </a:lnTo>
                          <a:lnTo>
                            <a:pt x="677" y="1986"/>
                          </a:lnTo>
                          <a:lnTo>
                            <a:pt x="679" y="1983"/>
                          </a:lnTo>
                          <a:lnTo>
                            <a:pt x="681" y="1979"/>
                          </a:lnTo>
                          <a:lnTo>
                            <a:pt x="683" y="1975"/>
                          </a:lnTo>
                          <a:lnTo>
                            <a:pt x="685" y="1971"/>
                          </a:lnTo>
                          <a:lnTo>
                            <a:pt x="687" y="1969"/>
                          </a:lnTo>
                          <a:lnTo>
                            <a:pt x="689" y="1964"/>
                          </a:lnTo>
                          <a:lnTo>
                            <a:pt x="691" y="1962"/>
                          </a:lnTo>
                          <a:lnTo>
                            <a:pt x="692" y="1958"/>
                          </a:lnTo>
                          <a:lnTo>
                            <a:pt x="692" y="1954"/>
                          </a:lnTo>
                          <a:lnTo>
                            <a:pt x="692" y="1952"/>
                          </a:lnTo>
                          <a:lnTo>
                            <a:pt x="694" y="1950"/>
                          </a:lnTo>
                          <a:lnTo>
                            <a:pt x="696" y="1945"/>
                          </a:lnTo>
                          <a:lnTo>
                            <a:pt x="698" y="1941"/>
                          </a:lnTo>
                          <a:lnTo>
                            <a:pt x="700" y="1937"/>
                          </a:lnTo>
                          <a:lnTo>
                            <a:pt x="700" y="1935"/>
                          </a:lnTo>
                          <a:lnTo>
                            <a:pt x="700" y="1933"/>
                          </a:lnTo>
                          <a:lnTo>
                            <a:pt x="702" y="1933"/>
                          </a:lnTo>
                          <a:lnTo>
                            <a:pt x="740" y="1943"/>
                          </a:lnTo>
                          <a:lnTo>
                            <a:pt x="740" y="1943"/>
                          </a:lnTo>
                          <a:lnTo>
                            <a:pt x="738" y="1945"/>
                          </a:lnTo>
                          <a:lnTo>
                            <a:pt x="738" y="1947"/>
                          </a:lnTo>
                          <a:lnTo>
                            <a:pt x="738" y="1950"/>
                          </a:lnTo>
                          <a:lnTo>
                            <a:pt x="738" y="1954"/>
                          </a:lnTo>
                          <a:lnTo>
                            <a:pt x="738" y="1958"/>
                          </a:lnTo>
                          <a:lnTo>
                            <a:pt x="736" y="1962"/>
                          </a:lnTo>
                          <a:lnTo>
                            <a:pt x="736" y="1964"/>
                          </a:lnTo>
                          <a:lnTo>
                            <a:pt x="736" y="1967"/>
                          </a:lnTo>
                          <a:lnTo>
                            <a:pt x="736" y="1971"/>
                          </a:lnTo>
                          <a:lnTo>
                            <a:pt x="736" y="1975"/>
                          </a:lnTo>
                          <a:lnTo>
                            <a:pt x="736" y="1979"/>
                          </a:lnTo>
                          <a:lnTo>
                            <a:pt x="736" y="1983"/>
                          </a:lnTo>
                          <a:lnTo>
                            <a:pt x="736" y="1985"/>
                          </a:lnTo>
                          <a:lnTo>
                            <a:pt x="736" y="1990"/>
                          </a:lnTo>
                          <a:lnTo>
                            <a:pt x="736" y="1994"/>
                          </a:lnTo>
                          <a:lnTo>
                            <a:pt x="736" y="1998"/>
                          </a:lnTo>
                          <a:lnTo>
                            <a:pt x="736" y="2004"/>
                          </a:lnTo>
                          <a:lnTo>
                            <a:pt x="736" y="2007"/>
                          </a:lnTo>
                          <a:lnTo>
                            <a:pt x="736" y="2013"/>
                          </a:lnTo>
                          <a:lnTo>
                            <a:pt x="736" y="2015"/>
                          </a:lnTo>
                          <a:lnTo>
                            <a:pt x="736" y="2021"/>
                          </a:lnTo>
                          <a:lnTo>
                            <a:pt x="736" y="2026"/>
                          </a:lnTo>
                          <a:lnTo>
                            <a:pt x="736" y="2030"/>
                          </a:lnTo>
                          <a:lnTo>
                            <a:pt x="736" y="2036"/>
                          </a:lnTo>
                          <a:lnTo>
                            <a:pt x="736" y="2042"/>
                          </a:lnTo>
                          <a:lnTo>
                            <a:pt x="736" y="2047"/>
                          </a:lnTo>
                          <a:lnTo>
                            <a:pt x="738" y="2051"/>
                          </a:lnTo>
                          <a:lnTo>
                            <a:pt x="738" y="2057"/>
                          </a:lnTo>
                          <a:lnTo>
                            <a:pt x="738" y="2062"/>
                          </a:lnTo>
                          <a:lnTo>
                            <a:pt x="740" y="2066"/>
                          </a:lnTo>
                          <a:lnTo>
                            <a:pt x="740" y="2072"/>
                          </a:lnTo>
                          <a:lnTo>
                            <a:pt x="742" y="2078"/>
                          </a:lnTo>
                          <a:lnTo>
                            <a:pt x="744" y="2083"/>
                          </a:lnTo>
                          <a:lnTo>
                            <a:pt x="744" y="2091"/>
                          </a:lnTo>
                          <a:lnTo>
                            <a:pt x="746" y="2095"/>
                          </a:lnTo>
                          <a:lnTo>
                            <a:pt x="748" y="2101"/>
                          </a:lnTo>
                          <a:lnTo>
                            <a:pt x="748" y="2106"/>
                          </a:lnTo>
                          <a:lnTo>
                            <a:pt x="751" y="2110"/>
                          </a:lnTo>
                          <a:lnTo>
                            <a:pt x="753" y="2118"/>
                          </a:lnTo>
                          <a:lnTo>
                            <a:pt x="753" y="2123"/>
                          </a:lnTo>
                          <a:lnTo>
                            <a:pt x="757" y="2129"/>
                          </a:lnTo>
                          <a:lnTo>
                            <a:pt x="759" y="2135"/>
                          </a:lnTo>
                          <a:lnTo>
                            <a:pt x="761" y="2139"/>
                          </a:lnTo>
                          <a:lnTo>
                            <a:pt x="765" y="2144"/>
                          </a:lnTo>
                          <a:lnTo>
                            <a:pt x="767" y="2150"/>
                          </a:lnTo>
                          <a:lnTo>
                            <a:pt x="769" y="2156"/>
                          </a:lnTo>
                          <a:lnTo>
                            <a:pt x="772" y="2159"/>
                          </a:lnTo>
                          <a:lnTo>
                            <a:pt x="776" y="2165"/>
                          </a:lnTo>
                          <a:lnTo>
                            <a:pt x="780" y="2171"/>
                          </a:lnTo>
                          <a:lnTo>
                            <a:pt x="782" y="2175"/>
                          </a:lnTo>
                          <a:lnTo>
                            <a:pt x="786" y="2180"/>
                          </a:lnTo>
                          <a:lnTo>
                            <a:pt x="789" y="2186"/>
                          </a:lnTo>
                          <a:lnTo>
                            <a:pt x="795" y="2190"/>
                          </a:lnTo>
                          <a:lnTo>
                            <a:pt x="799" y="2196"/>
                          </a:lnTo>
                          <a:lnTo>
                            <a:pt x="805" y="2201"/>
                          </a:lnTo>
                          <a:lnTo>
                            <a:pt x="808" y="2205"/>
                          </a:lnTo>
                          <a:lnTo>
                            <a:pt x="814" y="2209"/>
                          </a:lnTo>
                          <a:lnTo>
                            <a:pt x="818" y="2213"/>
                          </a:lnTo>
                          <a:lnTo>
                            <a:pt x="824" y="2216"/>
                          </a:lnTo>
                          <a:lnTo>
                            <a:pt x="828" y="2222"/>
                          </a:lnTo>
                          <a:lnTo>
                            <a:pt x="833" y="2224"/>
                          </a:lnTo>
                          <a:lnTo>
                            <a:pt x="839" y="2228"/>
                          </a:lnTo>
                          <a:lnTo>
                            <a:pt x="845" y="2232"/>
                          </a:lnTo>
                          <a:lnTo>
                            <a:pt x="848" y="2235"/>
                          </a:lnTo>
                          <a:lnTo>
                            <a:pt x="854" y="2239"/>
                          </a:lnTo>
                          <a:lnTo>
                            <a:pt x="858" y="2243"/>
                          </a:lnTo>
                          <a:lnTo>
                            <a:pt x="864" y="2245"/>
                          </a:lnTo>
                          <a:lnTo>
                            <a:pt x="867" y="2249"/>
                          </a:lnTo>
                          <a:lnTo>
                            <a:pt x="873" y="2253"/>
                          </a:lnTo>
                          <a:lnTo>
                            <a:pt x="877" y="2256"/>
                          </a:lnTo>
                          <a:lnTo>
                            <a:pt x="883" y="2258"/>
                          </a:lnTo>
                          <a:lnTo>
                            <a:pt x="890" y="2260"/>
                          </a:lnTo>
                          <a:lnTo>
                            <a:pt x="896" y="2264"/>
                          </a:lnTo>
                          <a:lnTo>
                            <a:pt x="900" y="2266"/>
                          </a:lnTo>
                          <a:lnTo>
                            <a:pt x="904" y="2268"/>
                          </a:lnTo>
                          <a:lnTo>
                            <a:pt x="907" y="2270"/>
                          </a:lnTo>
                          <a:lnTo>
                            <a:pt x="913" y="2273"/>
                          </a:lnTo>
                          <a:lnTo>
                            <a:pt x="919" y="2275"/>
                          </a:lnTo>
                          <a:lnTo>
                            <a:pt x="925" y="2277"/>
                          </a:lnTo>
                          <a:lnTo>
                            <a:pt x="928" y="2279"/>
                          </a:lnTo>
                          <a:lnTo>
                            <a:pt x="934" y="2281"/>
                          </a:lnTo>
                          <a:lnTo>
                            <a:pt x="938" y="2283"/>
                          </a:lnTo>
                          <a:lnTo>
                            <a:pt x="942" y="2285"/>
                          </a:lnTo>
                          <a:lnTo>
                            <a:pt x="947" y="2287"/>
                          </a:lnTo>
                          <a:lnTo>
                            <a:pt x="951" y="2289"/>
                          </a:lnTo>
                          <a:lnTo>
                            <a:pt x="955" y="2289"/>
                          </a:lnTo>
                          <a:lnTo>
                            <a:pt x="961" y="2291"/>
                          </a:lnTo>
                          <a:lnTo>
                            <a:pt x="964" y="2291"/>
                          </a:lnTo>
                          <a:lnTo>
                            <a:pt x="968" y="2294"/>
                          </a:lnTo>
                          <a:lnTo>
                            <a:pt x="972" y="2294"/>
                          </a:lnTo>
                          <a:lnTo>
                            <a:pt x="978" y="2294"/>
                          </a:lnTo>
                          <a:lnTo>
                            <a:pt x="982" y="2296"/>
                          </a:lnTo>
                          <a:lnTo>
                            <a:pt x="985" y="2296"/>
                          </a:lnTo>
                          <a:lnTo>
                            <a:pt x="989" y="2296"/>
                          </a:lnTo>
                          <a:lnTo>
                            <a:pt x="993" y="2298"/>
                          </a:lnTo>
                          <a:lnTo>
                            <a:pt x="997" y="2298"/>
                          </a:lnTo>
                          <a:lnTo>
                            <a:pt x="1001" y="2298"/>
                          </a:lnTo>
                          <a:lnTo>
                            <a:pt x="1004" y="2298"/>
                          </a:lnTo>
                          <a:lnTo>
                            <a:pt x="1008" y="2300"/>
                          </a:lnTo>
                          <a:lnTo>
                            <a:pt x="1010" y="2300"/>
                          </a:lnTo>
                          <a:lnTo>
                            <a:pt x="1014" y="2300"/>
                          </a:lnTo>
                          <a:lnTo>
                            <a:pt x="1016" y="2300"/>
                          </a:lnTo>
                          <a:lnTo>
                            <a:pt x="1020" y="2300"/>
                          </a:lnTo>
                          <a:lnTo>
                            <a:pt x="1022" y="2300"/>
                          </a:lnTo>
                          <a:lnTo>
                            <a:pt x="1025" y="2302"/>
                          </a:lnTo>
                          <a:lnTo>
                            <a:pt x="1029" y="2300"/>
                          </a:lnTo>
                          <a:lnTo>
                            <a:pt x="1035" y="2300"/>
                          </a:lnTo>
                          <a:lnTo>
                            <a:pt x="1039" y="2298"/>
                          </a:lnTo>
                          <a:lnTo>
                            <a:pt x="1042" y="2298"/>
                          </a:lnTo>
                          <a:lnTo>
                            <a:pt x="1044" y="2296"/>
                          </a:lnTo>
                          <a:lnTo>
                            <a:pt x="1048" y="2296"/>
                          </a:lnTo>
                          <a:lnTo>
                            <a:pt x="1048" y="2294"/>
                          </a:lnTo>
                          <a:lnTo>
                            <a:pt x="1050" y="2294"/>
                          </a:lnTo>
                          <a:lnTo>
                            <a:pt x="1246" y="1334"/>
                          </a:lnTo>
                          <a:lnTo>
                            <a:pt x="1246" y="1333"/>
                          </a:lnTo>
                          <a:lnTo>
                            <a:pt x="1248" y="1331"/>
                          </a:lnTo>
                          <a:lnTo>
                            <a:pt x="1250" y="1327"/>
                          </a:lnTo>
                          <a:lnTo>
                            <a:pt x="1252" y="1325"/>
                          </a:lnTo>
                          <a:lnTo>
                            <a:pt x="1252" y="1323"/>
                          </a:lnTo>
                          <a:lnTo>
                            <a:pt x="1254" y="1319"/>
                          </a:lnTo>
                          <a:lnTo>
                            <a:pt x="1256" y="1315"/>
                          </a:lnTo>
                          <a:lnTo>
                            <a:pt x="1259" y="1312"/>
                          </a:lnTo>
                          <a:lnTo>
                            <a:pt x="1259" y="1306"/>
                          </a:lnTo>
                          <a:lnTo>
                            <a:pt x="1263" y="1302"/>
                          </a:lnTo>
                          <a:lnTo>
                            <a:pt x="1265" y="1296"/>
                          </a:lnTo>
                          <a:lnTo>
                            <a:pt x="1269" y="1293"/>
                          </a:lnTo>
                          <a:lnTo>
                            <a:pt x="1271" y="1285"/>
                          </a:lnTo>
                          <a:lnTo>
                            <a:pt x="1275" y="1281"/>
                          </a:lnTo>
                          <a:lnTo>
                            <a:pt x="1276" y="1274"/>
                          </a:lnTo>
                          <a:lnTo>
                            <a:pt x="1280" y="1266"/>
                          </a:lnTo>
                          <a:lnTo>
                            <a:pt x="1284" y="1258"/>
                          </a:lnTo>
                          <a:lnTo>
                            <a:pt x="1288" y="1249"/>
                          </a:lnTo>
                          <a:lnTo>
                            <a:pt x="1290" y="1241"/>
                          </a:lnTo>
                          <a:lnTo>
                            <a:pt x="1294" y="1234"/>
                          </a:lnTo>
                          <a:lnTo>
                            <a:pt x="1297" y="1224"/>
                          </a:lnTo>
                          <a:lnTo>
                            <a:pt x="1301" y="1217"/>
                          </a:lnTo>
                          <a:lnTo>
                            <a:pt x="1305" y="1207"/>
                          </a:lnTo>
                          <a:lnTo>
                            <a:pt x="1309" y="1198"/>
                          </a:lnTo>
                          <a:lnTo>
                            <a:pt x="1313" y="1188"/>
                          </a:lnTo>
                          <a:lnTo>
                            <a:pt x="1316" y="1177"/>
                          </a:lnTo>
                          <a:lnTo>
                            <a:pt x="1320" y="1165"/>
                          </a:lnTo>
                          <a:lnTo>
                            <a:pt x="1324" y="1154"/>
                          </a:lnTo>
                          <a:lnTo>
                            <a:pt x="1330" y="1144"/>
                          </a:lnTo>
                          <a:lnTo>
                            <a:pt x="1334" y="1133"/>
                          </a:lnTo>
                          <a:lnTo>
                            <a:pt x="1337" y="1122"/>
                          </a:lnTo>
                          <a:lnTo>
                            <a:pt x="1339" y="1108"/>
                          </a:lnTo>
                          <a:lnTo>
                            <a:pt x="1345" y="1097"/>
                          </a:lnTo>
                          <a:lnTo>
                            <a:pt x="1349" y="1084"/>
                          </a:lnTo>
                          <a:lnTo>
                            <a:pt x="1353" y="1070"/>
                          </a:lnTo>
                          <a:lnTo>
                            <a:pt x="1354" y="1059"/>
                          </a:lnTo>
                          <a:lnTo>
                            <a:pt x="1358" y="1044"/>
                          </a:lnTo>
                          <a:lnTo>
                            <a:pt x="1362" y="1032"/>
                          </a:lnTo>
                          <a:lnTo>
                            <a:pt x="1366" y="1017"/>
                          </a:lnTo>
                          <a:lnTo>
                            <a:pt x="1370" y="1004"/>
                          </a:lnTo>
                          <a:lnTo>
                            <a:pt x="1372" y="988"/>
                          </a:lnTo>
                          <a:lnTo>
                            <a:pt x="1375" y="975"/>
                          </a:lnTo>
                          <a:lnTo>
                            <a:pt x="1377" y="960"/>
                          </a:lnTo>
                          <a:lnTo>
                            <a:pt x="1381" y="947"/>
                          </a:lnTo>
                          <a:lnTo>
                            <a:pt x="1383" y="931"/>
                          </a:lnTo>
                          <a:lnTo>
                            <a:pt x="1387" y="916"/>
                          </a:lnTo>
                          <a:lnTo>
                            <a:pt x="1389" y="901"/>
                          </a:lnTo>
                          <a:lnTo>
                            <a:pt x="1391" y="886"/>
                          </a:lnTo>
                          <a:lnTo>
                            <a:pt x="1392" y="871"/>
                          </a:lnTo>
                          <a:lnTo>
                            <a:pt x="1394" y="855"/>
                          </a:lnTo>
                          <a:lnTo>
                            <a:pt x="1396" y="838"/>
                          </a:lnTo>
                          <a:lnTo>
                            <a:pt x="1398" y="823"/>
                          </a:lnTo>
                          <a:lnTo>
                            <a:pt x="1398" y="806"/>
                          </a:lnTo>
                          <a:lnTo>
                            <a:pt x="1400" y="791"/>
                          </a:lnTo>
                          <a:lnTo>
                            <a:pt x="1402" y="774"/>
                          </a:lnTo>
                          <a:lnTo>
                            <a:pt x="1402" y="757"/>
                          </a:lnTo>
                          <a:lnTo>
                            <a:pt x="1402" y="741"/>
                          </a:lnTo>
                          <a:lnTo>
                            <a:pt x="1402" y="724"/>
                          </a:lnTo>
                          <a:lnTo>
                            <a:pt x="1402" y="705"/>
                          </a:lnTo>
                          <a:lnTo>
                            <a:pt x="1402" y="690"/>
                          </a:lnTo>
                          <a:lnTo>
                            <a:pt x="1400" y="673"/>
                          </a:lnTo>
                          <a:lnTo>
                            <a:pt x="1400" y="656"/>
                          </a:lnTo>
                          <a:lnTo>
                            <a:pt x="1398" y="654"/>
                          </a:lnTo>
                          <a:lnTo>
                            <a:pt x="1398" y="652"/>
                          </a:lnTo>
                          <a:lnTo>
                            <a:pt x="1398" y="648"/>
                          </a:lnTo>
                          <a:lnTo>
                            <a:pt x="1398" y="644"/>
                          </a:lnTo>
                          <a:lnTo>
                            <a:pt x="1398" y="643"/>
                          </a:lnTo>
                          <a:lnTo>
                            <a:pt x="1398" y="639"/>
                          </a:lnTo>
                          <a:lnTo>
                            <a:pt x="1396" y="637"/>
                          </a:lnTo>
                          <a:lnTo>
                            <a:pt x="1396" y="633"/>
                          </a:lnTo>
                          <a:lnTo>
                            <a:pt x="1396" y="631"/>
                          </a:lnTo>
                          <a:lnTo>
                            <a:pt x="1396" y="627"/>
                          </a:lnTo>
                          <a:lnTo>
                            <a:pt x="1396" y="623"/>
                          </a:lnTo>
                          <a:lnTo>
                            <a:pt x="1394" y="620"/>
                          </a:lnTo>
                          <a:lnTo>
                            <a:pt x="1394" y="618"/>
                          </a:lnTo>
                          <a:lnTo>
                            <a:pt x="1394" y="616"/>
                          </a:lnTo>
                          <a:lnTo>
                            <a:pt x="1392" y="612"/>
                          </a:lnTo>
                          <a:lnTo>
                            <a:pt x="1392" y="610"/>
                          </a:lnTo>
                          <a:lnTo>
                            <a:pt x="1392" y="608"/>
                          </a:lnTo>
                          <a:lnTo>
                            <a:pt x="1391" y="604"/>
                          </a:lnTo>
                          <a:lnTo>
                            <a:pt x="1391" y="603"/>
                          </a:lnTo>
                          <a:lnTo>
                            <a:pt x="1391" y="599"/>
                          </a:lnTo>
                          <a:lnTo>
                            <a:pt x="1389" y="597"/>
                          </a:lnTo>
                          <a:lnTo>
                            <a:pt x="1389" y="593"/>
                          </a:lnTo>
                          <a:lnTo>
                            <a:pt x="1389" y="589"/>
                          </a:lnTo>
                          <a:lnTo>
                            <a:pt x="1389" y="587"/>
                          </a:lnTo>
                          <a:lnTo>
                            <a:pt x="1387" y="585"/>
                          </a:lnTo>
                          <a:lnTo>
                            <a:pt x="1385" y="582"/>
                          </a:lnTo>
                          <a:lnTo>
                            <a:pt x="1385" y="580"/>
                          </a:lnTo>
                          <a:lnTo>
                            <a:pt x="1383" y="578"/>
                          </a:lnTo>
                          <a:lnTo>
                            <a:pt x="1383" y="572"/>
                          </a:lnTo>
                          <a:lnTo>
                            <a:pt x="1381" y="568"/>
                          </a:lnTo>
                          <a:lnTo>
                            <a:pt x="1377" y="563"/>
                          </a:lnTo>
                          <a:lnTo>
                            <a:pt x="1375" y="557"/>
                          </a:lnTo>
                          <a:lnTo>
                            <a:pt x="1373" y="553"/>
                          </a:lnTo>
                          <a:lnTo>
                            <a:pt x="1370" y="547"/>
                          </a:lnTo>
                          <a:lnTo>
                            <a:pt x="1366" y="544"/>
                          </a:lnTo>
                          <a:lnTo>
                            <a:pt x="1364" y="540"/>
                          </a:lnTo>
                          <a:lnTo>
                            <a:pt x="1360" y="536"/>
                          </a:lnTo>
                          <a:lnTo>
                            <a:pt x="1356" y="532"/>
                          </a:lnTo>
                          <a:lnTo>
                            <a:pt x="1353" y="528"/>
                          </a:lnTo>
                          <a:lnTo>
                            <a:pt x="1349" y="525"/>
                          </a:lnTo>
                          <a:lnTo>
                            <a:pt x="1345" y="523"/>
                          </a:lnTo>
                          <a:lnTo>
                            <a:pt x="1339" y="521"/>
                          </a:lnTo>
                          <a:lnTo>
                            <a:pt x="1335" y="517"/>
                          </a:lnTo>
                          <a:lnTo>
                            <a:pt x="1332" y="515"/>
                          </a:lnTo>
                          <a:lnTo>
                            <a:pt x="1326" y="515"/>
                          </a:lnTo>
                          <a:lnTo>
                            <a:pt x="1322" y="513"/>
                          </a:lnTo>
                          <a:lnTo>
                            <a:pt x="1318" y="511"/>
                          </a:lnTo>
                          <a:lnTo>
                            <a:pt x="1316" y="511"/>
                          </a:lnTo>
                          <a:lnTo>
                            <a:pt x="1313" y="511"/>
                          </a:lnTo>
                          <a:lnTo>
                            <a:pt x="1311" y="511"/>
                          </a:lnTo>
                          <a:lnTo>
                            <a:pt x="1309" y="509"/>
                          </a:lnTo>
                          <a:lnTo>
                            <a:pt x="1305" y="509"/>
                          </a:lnTo>
                          <a:lnTo>
                            <a:pt x="1303" y="509"/>
                          </a:lnTo>
                          <a:lnTo>
                            <a:pt x="1301" y="509"/>
                          </a:lnTo>
                          <a:lnTo>
                            <a:pt x="1297" y="509"/>
                          </a:lnTo>
                          <a:lnTo>
                            <a:pt x="1295" y="509"/>
                          </a:lnTo>
                          <a:lnTo>
                            <a:pt x="1292" y="509"/>
                          </a:lnTo>
                          <a:lnTo>
                            <a:pt x="1290" y="509"/>
                          </a:lnTo>
                          <a:lnTo>
                            <a:pt x="1284" y="509"/>
                          </a:lnTo>
                          <a:lnTo>
                            <a:pt x="1280" y="509"/>
                          </a:lnTo>
                          <a:lnTo>
                            <a:pt x="1275" y="509"/>
                          </a:lnTo>
                          <a:lnTo>
                            <a:pt x="1269" y="509"/>
                          </a:lnTo>
                          <a:lnTo>
                            <a:pt x="1265" y="509"/>
                          </a:lnTo>
                          <a:lnTo>
                            <a:pt x="1259" y="509"/>
                          </a:lnTo>
                          <a:lnTo>
                            <a:pt x="1256" y="511"/>
                          </a:lnTo>
                          <a:lnTo>
                            <a:pt x="1252" y="511"/>
                          </a:lnTo>
                          <a:lnTo>
                            <a:pt x="1246" y="515"/>
                          </a:lnTo>
                          <a:lnTo>
                            <a:pt x="1242" y="515"/>
                          </a:lnTo>
                          <a:lnTo>
                            <a:pt x="1238" y="517"/>
                          </a:lnTo>
                          <a:lnTo>
                            <a:pt x="1235" y="521"/>
                          </a:lnTo>
                          <a:lnTo>
                            <a:pt x="1231" y="523"/>
                          </a:lnTo>
                          <a:lnTo>
                            <a:pt x="1229" y="525"/>
                          </a:lnTo>
                          <a:lnTo>
                            <a:pt x="1225" y="527"/>
                          </a:lnTo>
                          <a:lnTo>
                            <a:pt x="1221" y="530"/>
                          </a:lnTo>
                          <a:lnTo>
                            <a:pt x="1219" y="532"/>
                          </a:lnTo>
                          <a:lnTo>
                            <a:pt x="1216" y="538"/>
                          </a:lnTo>
                          <a:lnTo>
                            <a:pt x="1214" y="542"/>
                          </a:lnTo>
                          <a:lnTo>
                            <a:pt x="1212" y="546"/>
                          </a:lnTo>
                          <a:lnTo>
                            <a:pt x="1210" y="549"/>
                          </a:lnTo>
                          <a:lnTo>
                            <a:pt x="1208" y="555"/>
                          </a:lnTo>
                          <a:lnTo>
                            <a:pt x="1208" y="557"/>
                          </a:lnTo>
                          <a:lnTo>
                            <a:pt x="1206" y="559"/>
                          </a:lnTo>
                          <a:lnTo>
                            <a:pt x="1204" y="561"/>
                          </a:lnTo>
                          <a:lnTo>
                            <a:pt x="1204" y="565"/>
                          </a:lnTo>
                          <a:lnTo>
                            <a:pt x="1204" y="566"/>
                          </a:lnTo>
                          <a:lnTo>
                            <a:pt x="1204" y="570"/>
                          </a:lnTo>
                          <a:lnTo>
                            <a:pt x="1204" y="572"/>
                          </a:lnTo>
                          <a:lnTo>
                            <a:pt x="1204" y="576"/>
                          </a:lnTo>
                          <a:lnTo>
                            <a:pt x="1139" y="895"/>
                          </a:lnTo>
                          <a:lnTo>
                            <a:pt x="1136" y="893"/>
                          </a:lnTo>
                          <a:lnTo>
                            <a:pt x="1132" y="892"/>
                          </a:lnTo>
                          <a:lnTo>
                            <a:pt x="1126" y="888"/>
                          </a:lnTo>
                          <a:lnTo>
                            <a:pt x="1122" y="886"/>
                          </a:lnTo>
                          <a:lnTo>
                            <a:pt x="1117" y="884"/>
                          </a:lnTo>
                          <a:lnTo>
                            <a:pt x="1113" y="880"/>
                          </a:lnTo>
                          <a:lnTo>
                            <a:pt x="1107" y="878"/>
                          </a:lnTo>
                          <a:lnTo>
                            <a:pt x="1105" y="876"/>
                          </a:lnTo>
                          <a:lnTo>
                            <a:pt x="1227" y="316"/>
                          </a:lnTo>
                          <a:lnTo>
                            <a:pt x="1227" y="312"/>
                          </a:lnTo>
                          <a:lnTo>
                            <a:pt x="1227" y="308"/>
                          </a:lnTo>
                          <a:lnTo>
                            <a:pt x="1229" y="306"/>
                          </a:lnTo>
                          <a:lnTo>
                            <a:pt x="1229" y="304"/>
                          </a:lnTo>
                          <a:lnTo>
                            <a:pt x="1229" y="300"/>
                          </a:lnTo>
                          <a:lnTo>
                            <a:pt x="1229" y="298"/>
                          </a:lnTo>
                          <a:lnTo>
                            <a:pt x="1229" y="295"/>
                          </a:lnTo>
                          <a:lnTo>
                            <a:pt x="1229" y="293"/>
                          </a:lnTo>
                          <a:lnTo>
                            <a:pt x="1229" y="291"/>
                          </a:lnTo>
                          <a:lnTo>
                            <a:pt x="1229" y="287"/>
                          </a:lnTo>
                          <a:lnTo>
                            <a:pt x="1229" y="285"/>
                          </a:lnTo>
                          <a:lnTo>
                            <a:pt x="1229" y="283"/>
                          </a:lnTo>
                          <a:lnTo>
                            <a:pt x="1229" y="278"/>
                          </a:lnTo>
                          <a:lnTo>
                            <a:pt x="1227" y="272"/>
                          </a:lnTo>
                          <a:lnTo>
                            <a:pt x="1225" y="268"/>
                          </a:lnTo>
                          <a:lnTo>
                            <a:pt x="1225" y="262"/>
                          </a:lnTo>
                          <a:lnTo>
                            <a:pt x="1223" y="257"/>
                          </a:lnTo>
                          <a:lnTo>
                            <a:pt x="1221" y="253"/>
                          </a:lnTo>
                          <a:lnTo>
                            <a:pt x="1219" y="247"/>
                          </a:lnTo>
                          <a:lnTo>
                            <a:pt x="1217" y="243"/>
                          </a:lnTo>
                          <a:lnTo>
                            <a:pt x="1216" y="240"/>
                          </a:lnTo>
                          <a:lnTo>
                            <a:pt x="1214" y="236"/>
                          </a:lnTo>
                          <a:lnTo>
                            <a:pt x="1210" y="232"/>
                          </a:lnTo>
                          <a:lnTo>
                            <a:pt x="1206" y="226"/>
                          </a:lnTo>
                          <a:lnTo>
                            <a:pt x="1202" y="222"/>
                          </a:lnTo>
                          <a:lnTo>
                            <a:pt x="1200" y="219"/>
                          </a:lnTo>
                          <a:lnTo>
                            <a:pt x="1197" y="215"/>
                          </a:lnTo>
                          <a:lnTo>
                            <a:pt x="1193" y="211"/>
                          </a:lnTo>
                          <a:lnTo>
                            <a:pt x="1189" y="207"/>
                          </a:lnTo>
                          <a:lnTo>
                            <a:pt x="1185" y="205"/>
                          </a:lnTo>
                          <a:lnTo>
                            <a:pt x="1179" y="203"/>
                          </a:lnTo>
                          <a:lnTo>
                            <a:pt x="1176" y="200"/>
                          </a:lnTo>
                          <a:lnTo>
                            <a:pt x="1172" y="198"/>
                          </a:lnTo>
                          <a:lnTo>
                            <a:pt x="1166" y="194"/>
                          </a:lnTo>
                          <a:lnTo>
                            <a:pt x="1160" y="192"/>
                          </a:lnTo>
                          <a:lnTo>
                            <a:pt x="1157" y="192"/>
                          </a:lnTo>
                          <a:lnTo>
                            <a:pt x="1151" y="190"/>
                          </a:lnTo>
                          <a:lnTo>
                            <a:pt x="1147" y="190"/>
                          </a:lnTo>
                          <a:lnTo>
                            <a:pt x="1143" y="188"/>
                          </a:lnTo>
                          <a:lnTo>
                            <a:pt x="1141" y="186"/>
                          </a:lnTo>
                          <a:lnTo>
                            <a:pt x="1138" y="186"/>
                          </a:lnTo>
                          <a:lnTo>
                            <a:pt x="1136" y="186"/>
                          </a:lnTo>
                          <a:lnTo>
                            <a:pt x="1134" y="186"/>
                          </a:lnTo>
                          <a:lnTo>
                            <a:pt x="1130" y="186"/>
                          </a:lnTo>
                          <a:lnTo>
                            <a:pt x="1128" y="186"/>
                          </a:lnTo>
                          <a:lnTo>
                            <a:pt x="1124" y="186"/>
                          </a:lnTo>
                          <a:lnTo>
                            <a:pt x="1122" y="186"/>
                          </a:lnTo>
                          <a:lnTo>
                            <a:pt x="1120" y="186"/>
                          </a:lnTo>
                          <a:lnTo>
                            <a:pt x="1117" y="186"/>
                          </a:lnTo>
                          <a:lnTo>
                            <a:pt x="1115" y="186"/>
                          </a:lnTo>
                          <a:lnTo>
                            <a:pt x="1109" y="186"/>
                          </a:lnTo>
                          <a:lnTo>
                            <a:pt x="1105" y="188"/>
                          </a:lnTo>
                          <a:lnTo>
                            <a:pt x="1100" y="188"/>
                          </a:lnTo>
                          <a:lnTo>
                            <a:pt x="1094" y="190"/>
                          </a:lnTo>
                          <a:lnTo>
                            <a:pt x="1090" y="192"/>
                          </a:lnTo>
                          <a:lnTo>
                            <a:pt x="1086" y="192"/>
                          </a:lnTo>
                          <a:lnTo>
                            <a:pt x="1081" y="194"/>
                          </a:lnTo>
                          <a:lnTo>
                            <a:pt x="1077" y="198"/>
                          </a:lnTo>
                          <a:lnTo>
                            <a:pt x="1073" y="200"/>
                          </a:lnTo>
                          <a:lnTo>
                            <a:pt x="1067" y="203"/>
                          </a:lnTo>
                          <a:lnTo>
                            <a:pt x="1063" y="205"/>
                          </a:lnTo>
                          <a:lnTo>
                            <a:pt x="1058" y="207"/>
                          </a:lnTo>
                          <a:lnTo>
                            <a:pt x="1054" y="211"/>
                          </a:lnTo>
                          <a:lnTo>
                            <a:pt x="1050" y="215"/>
                          </a:lnTo>
                          <a:lnTo>
                            <a:pt x="1048" y="219"/>
                          </a:lnTo>
                          <a:lnTo>
                            <a:pt x="1044" y="222"/>
                          </a:lnTo>
                          <a:lnTo>
                            <a:pt x="1041" y="226"/>
                          </a:lnTo>
                          <a:lnTo>
                            <a:pt x="1039" y="232"/>
                          </a:lnTo>
                          <a:lnTo>
                            <a:pt x="1035" y="234"/>
                          </a:lnTo>
                          <a:lnTo>
                            <a:pt x="1033" y="240"/>
                          </a:lnTo>
                          <a:lnTo>
                            <a:pt x="1029" y="243"/>
                          </a:lnTo>
                          <a:lnTo>
                            <a:pt x="1027" y="249"/>
                          </a:lnTo>
                          <a:lnTo>
                            <a:pt x="1025" y="253"/>
                          </a:lnTo>
                          <a:lnTo>
                            <a:pt x="1023" y="259"/>
                          </a:lnTo>
                          <a:lnTo>
                            <a:pt x="1022" y="260"/>
                          </a:lnTo>
                          <a:lnTo>
                            <a:pt x="1022" y="264"/>
                          </a:lnTo>
                          <a:lnTo>
                            <a:pt x="1022" y="266"/>
                          </a:lnTo>
                          <a:lnTo>
                            <a:pt x="1022" y="270"/>
                          </a:lnTo>
                          <a:lnTo>
                            <a:pt x="919" y="730"/>
                          </a:lnTo>
                          <a:lnTo>
                            <a:pt x="915" y="728"/>
                          </a:lnTo>
                          <a:lnTo>
                            <a:pt x="913" y="726"/>
                          </a:lnTo>
                          <a:lnTo>
                            <a:pt x="907" y="724"/>
                          </a:lnTo>
                          <a:lnTo>
                            <a:pt x="905" y="720"/>
                          </a:lnTo>
                          <a:lnTo>
                            <a:pt x="904" y="719"/>
                          </a:lnTo>
                          <a:lnTo>
                            <a:pt x="900" y="717"/>
                          </a:lnTo>
                          <a:lnTo>
                            <a:pt x="896" y="713"/>
                          </a:lnTo>
                          <a:lnTo>
                            <a:pt x="892" y="713"/>
                          </a:lnTo>
                          <a:lnTo>
                            <a:pt x="1022" y="129"/>
                          </a:lnTo>
                          <a:lnTo>
                            <a:pt x="1022" y="125"/>
                          </a:lnTo>
                          <a:lnTo>
                            <a:pt x="1022" y="124"/>
                          </a:lnTo>
                          <a:lnTo>
                            <a:pt x="1022" y="120"/>
                          </a:lnTo>
                          <a:lnTo>
                            <a:pt x="1022" y="118"/>
                          </a:lnTo>
                          <a:lnTo>
                            <a:pt x="1022" y="114"/>
                          </a:lnTo>
                          <a:lnTo>
                            <a:pt x="1022" y="112"/>
                          </a:lnTo>
                          <a:lnTo>
                            <a:pt x="1022" y="110"/>
                          </a:lnTo>
                          <a:lnTo>
                            <a:pt x="1022" y="106"/>
                          </a:lnTo>
                          <a:lnTo>
                            <a:pt x="1022" y="105"/>
                          </a:lnTo>
                          <a:lnTo>
                            <a:pt x="1022" y="103"/>
                          </a:lnTo>
                          <a:lnTo>
                            <a:pt x="1022" y="99"/>
                          </a:lnTo>
                          <a:lnTo>
                            <a:pt x="1022" y="97"/>
                          </a:lnTo>
                          <a:lnTo>
                            <a:pt x="1022" y="91"/>
                          </a:lnTo>
                          <a:lnTo>
                            <a:pt x="1022" y="86"/>
                          </a:lnTo>
                          <a:lnTo>
                            <a:pt x="1020" y="82"/>
                          </a:lnTo>
                          <a:lnTo>
                            <a:pt x="1018" y="76"/>
                          </a:lnTo>
                          <a:lnTo>
                            <a:pt x="1016" y="70"/>
                          </a:lnTo>
                          <a:lnTo>
                            <a:pt x="1014" y="67"/>
                          </a:lnTo>
                          <a:lnTo>
                            <a:pt x="1012" y="61"/>
                          </a:lnTo>
                          <a:lnTo>
                            <a:pt x="1010" y="57"/>
                          </a:lnTo>
                          <a:lnTo>
                            <a:pt x="1008" y="53"/>
                          </a:lnTo>
                          <a:lnTo>
                            <a:pt x="1006" y="48"/>
                          </a:lnTo>
                          <a:lnTo>
                            <a:pt x="1004" y="44"/>
                          </a:lnTo>
                          <a:lnTo>
                            <a:pt x="1001" y="40"/>
                          </a:lnTo>
                          <a:lnTo>
                            <a:pt x="997" y="36"/>
                          </a:lnTo>
                          <a:lnTo>
                            <a:pt x="993" y="32"/>
                          </a:lnTo>
                          <a:lnTo>
                            <a:pt x="991" y="29"/>
                          </a:lnTo>
                          <a:lnTo>
                            <a:pt x="985" y="25"/>
                          </a:lnTo>
                          <a:lnTo>
                            <a:pt x="983" y="23"/>
                          </a:lnTo>
                          <a:lnTo>
                            <a:pt x="978" y="19"/>
                          </a:lnTo>
                          <a:lnTo>
                            <a:pt x="972" y="17"/>
                          </a:lnTo>
                          <a:lnTo>
                            <a:pt x="968" y="13"/>
                          </a:lnTo>
                          <a:lnTo>
                            <a:pt x="964" y="11"/>
                          </a:lnTo>
                          <a:lnTo>
                            <a:pt x="961" y="10"/>
                          </a:lnTo>
                          <a:lnTo>
                            <a:pt x="955" y="6"/>
                          </a:lnTo>
                          <a:lnTo>
                            <a:pt x="949" y="6"/>
                          </a:lnTo>
                          <a:lnTo>
                            <a:pt x="944" y="4"/>
                          </a:lnTo>
                          <a:lnTo>
                            <a:pt x="940" y="4"/>
                          </a:lnTo>
                          <a:lnTo>
                            <a:pt x="936" y="2"/>
                          </a:lnTo>
                          <a:lnTo>
                            <a:pt x="934" y="2"/>
                          </a:lnTo>
                          <a:lnTo>
                            <a:pt x="932" y="0"/>
                          </a:lnTo>
                          <a:lnTo>
                            <a:pt x="928" y="0"/>
                          </a:lnTo>
                          <a:lnTo>
                            <a:pt x="926" y="0"/>
                          </a:lnTo>
                          <a:lnTo>
                            <a:pt x="925" y="0"/>
                          </a:lnTo>
                          <a:lnTo>
                            <a:pt x="921" y="0"/>
                          </a:lnTo>
                          <a:lnTo>
                            <a:pt x="919" y="0"/>
                          </a:lnTo>
                          <a:lnTo>
                            <a:pt x="915" y="0"/>
                          </a:lnTo>
                          <a:lnTo>
                            <a:pt x="913" y="0"/>
                          </a:lnTo>
                          <a:lnTo>
                            <a:pt x="911" y="0"/>
                          </a:lnTo>
                          <a:lnTo>
                            <a:pt x="907" y="0"/>
                          </a:lnTo>
                          <a:lnTo>
                            <a:pt x="904" y="0"/>
                          </a:lnTo>
                          <a:lnTo>
                            <a:pt x="898" y="2"/>
                          </a:lnTo>
                          <a:lnTo>
                            <a:pt x="896" y="2"/>
                          </a:lnTo>
                          <a:lnTo>
                            <a:pt x="892" y="2"/>
                          </a:lnTo>
                          <a:lnTo>
                            <a:pt x="890" y="2"/>
                          </a:lnTo>
                          <a:lnTo>
                            <a:pt x="888" y="4"/>
                          </a:lnTo>
                          <a:lnTo>
                            <a:pt x="881" y="4"/>
                          </a:lnTo>
                          <a:lnTo>
                            <a:pt x="877" y="6"/>
                          </a:lnTo>
                          <a:lnTo>
                            <a:pt x="873" y="10"/>
                          </a:lnTo>
                          <a:lnTo>
                            <a:pt x="867" y="11"/>
                          </a:lnTo>
                          <a:lnTo>
                            <a:pt x="864" y="15"/>
                          </a:lnTo>
                          <a:lnTo>
                            <a:pt x="860" y="17"/>
                          </a:lnTo>
                          <a:lnTo>
                            <a:pt x="854" y="19"/>
                          </a:lnTo>
                          <a:lnTo>
                            <a:pt x="850" y="23"/>
                          </a:lnTo>
                          <a:lnTo>
                            <a:pt x="847" y="25"/>
                          </a:lnTo>
                          <a:lnTo>
                            <a:pt x="843" y="29"/>
                          </a:lnTo>
                          <a:lnTo>
                            <a:pt x="839" y="32"/>
                          </a:lnTo>
                          <a:lnTo>
                            <a:pt x="835" y="36"/>
                          </a:lnTo>
                          <a:lnTo>
                            <a:pt x="833" y="40"/>
                          </a:lnTo>
                          <a:lnTo>
                            <a:pt x="831" y="44"/>
                          </a:lnTo>
                          <a:lnTo>
                            <a:pt x="828" y="48"/>
                          </a:lnTo>
                          <a:lnTo>
                            <a:pt x="824" y="53"/>
                          </a:lnTo>
                          <a:lnTo>
                            <a:pt x="822" y="57"/>
                          </a:lnTo>
                          <a:lnTo>
                            <a:pt x="820" y="61"/>
                          </a:lnTo>
                          <a:lnTo>
                            <a:pt x="818" y="67"/>
                          </a:lnTo>
                          <a:lnTo>
                            <a:pt x="816" y="70"/>
                          </a:lnTo>
                          <a:lnTo>
                            <a:pt x="816" y="74"/>
                          </a:lnTo>
                          <a:lnTo>
                            <a:pt x="814" y="76"/>
                          </a:lnTo>
                          <a:lnTo>
                            <a:pt x="812" y="82"/>
                          </a:lnTo>
                          <a:lnTo>
                            <a:pt x="812" y="84"/>
                          </a:lnTo>
                          <a:lnTo>
                            <a:pt x="687" y="663"/>
                          </a:lnTo>
                          <a:lnTo>
                            <a:pt x="681" y="663"/>
                          </a:lnTo>
                          <a:lnTo>
                            <a:pt x="677" y="663"/>
                          </a:lnTo>
                          <a:lnTo>
                            <a:pt x="673" y="663"/>
                          </a:lnTo>
                          <a:lnTo>
                            <a:pt x="670" y="663"/>
                          </a:lnTo>
                          <a:lnTo>
                            <a:pt x="666" y="663"/>
                          </a:lnTo>
                          <a:lnTo>
                            <a:pt x="660" y="665"/>
                          </a:lnTo>
                          <a:lnTo>
                            <a:pt x="656" y="665"/>
                          </a:lnTo>
                          <a:lnTo>
                            <a:pt x="652" y="667"/>
                          </a:lnTo>
                          <a:lnTo>
                            <a:pt x="753" y="213"/>
                          </a:lnTo>
                          <a:lnTo>
                            <a:pt x="753" y="209"/>
                          </a:lnTo>
                          <a:lnTo>
                            <a:pt x="753" y="207"/>
                          </a:lnTo>
                          <a:lnTo>
                            <a:pt x="753" y="203"/>
                          </a:lnTo>
                          <a:lnTo>
                            <a:pt x="753" y="201"/>
                          </a:lnTo>
                          <a:lnTo>
                            <a:pt x="753" y="198"/>
                          </a:lnTo>
                          <a:lnTo>
                            <a:pt x="753" y="196"/>
                          </a:lnTo>
                          <a:lnTo>
                            <a:pt x="753" y="192"/>
                          </a:lnTo>
                          <a:lnTo>
                            <a:pt x="753" y="190"/>
                          </a:lnTo>
                          <a:lnTo>
                            <a:pt x="753" y="188"/>
                          </a:lnTo>
                          <a:lnTo>
                            <a:pt x="753" y="184"/>
                          </a:lnTo>
                          <a:lnTo>
                            <a:pt x="753" y="182"/>
                          </a:lnTo>
                          <a:lnTo>
                            <a:pt x="753" y="181"/>
                          </a:lnTo>
                          <a:lnTo>
                            <a:pt x="753" y="175"/>
                          </a:lnTo>
                          <a:lnTo>
                            <a:pt x="753" y="169"/>
                          </a:lnTo>
                          <a:lnTo>
                            <a:pt x="751" y="167"/>
                          </a:lnTo>
                          <a:lnTo>
                            <a:pt x="751" y="163"/>
                          </a:lnTo>
                          <a:lnTo>
                            <a:pt x="751" y="162"/>
                          </a:lnTo>
                          <a:lnTo>
                            <a:pt x="750" y="160"/>
                          </a:lnTo>
                          <a:lnTo>
                            <a:pt x="748" y="154"/>
                          </a:lnTo>
                          <a:lnTo>
                            <a:pt x="746" y="148"/>
                          </a:lnTo>
                          <a:lnTo>
                            <a:pt x="744" y="144"/>
                          </a:lnTo>
                          <a:lnTo>
                            <a:pt x="742" y="141"/>
                          </a:lnTo>
                          <a:lnTo>
                            <a:pt x="740" y="135"/>
                          </a:lnTo>
                          <a:lnTo>
                            <a:pt x="738" y="131"/>
                          </a:lnTo>
                          <a:lnTo>
                            <a:pt x="734" y="127"/>
                          </a:lnTo>
                          <a:lnTo>
                            <a:pt x="730" y="124"/>
                          </a:lnTo>
                          <a:lnTo>
                            <a:pt x="727" y="120"/>
                          </a:lnTo>
                          <a:lnTo>
                            <a:pt x="725" y="116"/>
                          </a:lnTo>
                          <a:lnTo>
                            <a:pt x="721" y="112"/>
                          </a:lnTo>
                          <a:lnTo>
                            <a:pt x="717" y="108"/>
                          </a:lnTo>
                          <a:lnTo>
                            <a:pt x="713" y="105"/>
                          </a:lnTo>
                          <a:lnTo>
                            <a:pt x="710" y="103"/>
                          </a:lnTo>
                          <a:lnTo>
                            <a:pt x="704" y="99"/>
                          </a:lnTo>
                          <a:lnTo>
                            <a:pt x="700" y="97"/>
                          </a:lnTo>
                          <a:lnTo>
                            <a:pt x="694" y="95"/>
                          </a:lnTo>
                          <a:lnTo>
                            <a:pt x="691" y="91"/>
                          </a:lnTo>
                          <a:lnTo>
                            <a:pt x="685" y="89"/>
                          </a:lnTo>
                          <a:lnTo>
                            <a:pt x="681" y="87"/>
                          </a:lnTo>
                          <a:lnTo>
                            <a:pt x="675" y="86"/>
                          </a:lnTo>
                          <a:lnTo>
                            <a:pt x="672" y="86"/>
                          </a:lnTo>
                          <a:lnTo>
                            <a:pt x="668" y="84"/>
                          </a:lnTo>
                          <a:lnTo>
                            <a:pt x="666" y="84"/>
                          </a:lnTo>
                          <a:lnTo>
                            <a:pt x="664" y="84"/>
                          </a:lnTo>
                          <a:lnTo>
                            <a:pt x="660" y="84"/>
                          </a:lnTo>
                          <a:lnTo>
                            <a:pt x="658" y="84"/>
                          </a:lnTo>
                          <a:lnTo>
                            <a:pt x="654" y="84"/>
                          </a:lnTo>
                          <a:lnTo>
                            <a:pt x="652" y="84"/>
                          </a:lnTo>
                          <a:lnTo>
                            <a:pt x="651" y="84"/>
                          </a:lnTo>
                          <a:lnTo>
                            <a:pt x="647" y="84"/>
                          </a:lnTo>
                          <a:lnTo>
                            <a:pt x="645" y="84"/>
                          </a:lnTo>
                          <a:lnTo>
                            <a:pt x="643" y="84"/>
                          </a:lnTo>
                          <a:lnTo>
                            <a:pt x="639" y="84"/>
                          </a:lnTo>
                          <a:lnTo>
                            <a:pt x="635" y="84"/>
                          </a:lnTo>
                          <a:lnTo>
                            <a:pt x="630" y="84"/>
                          </a:lnTo>
                          <a:lnTo>
                            <a:pt x="628" y="84"/>
                          </a:lnTo>
                          <a:lnTo>
                            <a:pt x="624" y="86"/>
                          </a:lnTo>
                          <a:lnTo>
                            <a:pt x="622" y="86"/>
                          </a:lnTo>
                          <a:lnTo>
                            <a:pt x="618" y="86"/>
                          </a:lnTo>
                          <a:lnTo>
                            <a:pt x="614" y="87"/>
                          </a:lnTo>
                          <a:lnTo>
                            <a:pt x="609" y="89"/>
                          </a:lnTo>
                          <a:lnTo>
                            <a:pt x="603" y="91"/>
                          </a:lnTo>
                          <a:lnTo>
                            <a:pt x="599" y="95"/>
                          </a:lnTo>
                          <a:lnTo>
                            <a:pt x="595" y="97"/>
                          </a:lnTo>
                          <a:lnTo>
                            <a:pt x="592" y="99"/>
                          </a:lnTo>
                          <a:lnTo>
                            <a:pt x="586" y="103"/>
                          </a:lnTo>
                          <a:lnTo>
                            <a:pt x="582" y="105"/>
                          </a:lnTo>
                          <a:lnTo>
                            <a:pt x="578" y="108"/>
                          </a:lnTo>
                          <a:lnTo>
                            <a:pt x="574" y="112"/>
                          </a:lnTo>
                          <a:lnTo>
                            <a:pt x="571" y="116"/>
                          </a:lnTo>
                          <a:lnTo>
                            <a:pt x="567" y="120"/>
                          </a:lnTo>
                          <a:lnTo>
                            <a:pt x="565" y="124"/>
                          </a:lnTo>
                          <a:lnTo>
                            <a:pt x="563" y="127"/>
                          </a:lnTo>
                          <a:lnTo>
                            <a:pt x="559" y="131"/>
                          </a:lnTo>
                          <a:lnTo>
                            <a:pt x="555" y="135"/>
                          </a:lnTo>
                          <a:lnTo>
                            <a:pt x="554" y="141"/>
                          </a:lnTo>
                          <a:lnTo>
                            <a:pt x="552" y="146"/>
                          </a:lnTo>
                          <a:lnTo>
                            <a:pt x="550" y="150"/>
                          </a:lnTo>
                          <a:lnTo>
                            <a:pt x="548" y="156"/>
                          </a:lnTo>
                          <a:lnTo>
                            <a:pt x="546" y="158"/>
                          </a:lnTo>
                          <a:lnTo>
                            <a:pt x="546" y="160"/>
                          </a:lnTo>
                          <a:lnTo>
                            <a:pt x="544" y="163"/>
                          </a:lnTo>
                          <a:lnTo>
                            <a:pt x="544" y="167"/>
                          </a:lnTo>
                          <a:lnTo>
                            <a:pt x="361" y="1127"/>
                          </a:lnTo>
                          <a:lnTo>
                            <a:pt x="361" y="1127"/>
                          </a:lnTo>
                          <a:close/>
                        </a:path>
                      </a:pathLst>
                    </a:custGeom>
                    <a:solidFill>
                      <a:srgbClr val="eaeaea"/>
                    </a:soli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7" name="AutoShape 326"/>
                  <p:cNvSpPr/>
                  <p:nvPr/>
                </p:nvSpPr>
                <p:spPr>
                  <a:xfrm rot="20352000">
                    <a:off x="4979160" y="2738520"/>
                    <a:ext cx="88560" cy="75960"/>
                  </a:xfrm>
                  <a:prstGeom prst="hexagon">
                    <a:avLst>
                      <a:gd name="adj" fmla="val 29147"/>
                      <a:gd name="vf" fmla="val 115470"/>
                    </a:avLst>
                  </a:prstGeom>
                  <a:solidFill>
                    <a:srgbClr val="ff0000"/>
                  </a:solidFill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18" name="AutoShape 327"/>
              <p:cNvSpPr/>
              <p:nvPr/>
            </p:nvSpPr>
            <p:spPr>
              <a:xfrm rot="20369400">
                <a:off x="4818960" y="2417040"/>
                <a:ext cx="180000" cy="121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210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9" name="AutoShape 328"/>
            <p:cNvSpPr/>
            <p:nvPr/>
          </p:nvSpPr>
          <p:spPr>
            <a:xfrm rot="20383800">
              <a:off x="5053680" y="3099960"/>
              <a:ext cx="192600" cy="5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308" y="21600"/>
                  </a:lnTo>
                  <a:lnTo>
                    <a:pt x="1729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ffffff"/>
                </a:gs>
              </a:gsLst>
              <a:lin ang="2100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Group 329"/>
          <p:cNvGrpSpPr/>
          <p:nvPr/>
        </p:nvGrpSpPr>
        <p:grpSpPr>
          <a:xfrm>
            <a:off x="4539960" y="2214360"/>
            <a:ext cx="807480" cy="2124000"/>
            <a:chOff x="4539960" y="2214360"/>
            <a:chExt cx="807480" cy="2124000"/>
          </a:xfrm>
        </p:grpSpPr>
        <p:grpSp>
          <p:nvGrpSpPr>
            <p:cNvPr id="621" name="Group 330"/>
            <p:cNvGrpSpPr/>
            <p:nvPr/>
          </p:nvGrpSpPr>
          <p:grpSpPr>
            <a:xfrm>
              <a:off x="4539960" y="3185280"/>
              <a:ext cx="545040" cy="1153080"/>
              <a:chOff x="4539960" y="3185280"/>
              <a:chExt cx="545040" cy="1153080"/>
            </a:xfrm>
          </p:grpSpPr>
          <p:grpSp>
            <p:nvGrpSpPr>
              <p:cNvPr id="622" name="Group 331"/>
              <p:cNvGrpSpPr/>
              <p:nvPr/>
            </p:nvGrpSpPr>
            <p:grpSpPr>
              <a:xfrm>
                <a:off x="4539960" y="3185280"/>
                <a:ext cx="526680" cy="1153080"/>
                <a:chOff x="4539960" y="3185280"/>
                <a:chExt cx="526680" cy="1153080"/>
              </a:xfrm>
            </p:grpSpPr>
            <p:grpSp>
              <p:nvGrpSpPr>
                <p:cNvPr id="623" name="Group 332"/>
                <p:cNvGrpSpPr/>
                <p:nvPr/>
              </p:nvGrpSpPr>
              <p:grpSpPr>
                <a:xfrm>
                  <a:off x="4539960" y="3726360"/>
                  <a:ext cx="450720" cy="612000"/>
                  <a:chOff x="4539960" y="3726360"/>
                  <a:chExt cx="450720" cy="612000"/>
                </a:xfrm>
              </p:grpSpPr>
              <p:sp>
                <p:nvSpPr>
                  <p:cNvPr id="624" name="AutoShape 333"/>
                  <p:cNvSpPr/>
                  <p:nvPr/>
                </p:nvSpPr>
                <p:spPr>
                  <a:xfrm rot="11766600">
                    <a:off x="4629960" y="3752640"/>
                    <a:ext cx="2444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25" name="Group 334"/>
                  <p:cNvGrpSpPr/>
                  <p:nvPr/>
                </p:nvGrpSpPr>
                <p:grpSpPr>
                  <a:xfrm>
                    <a:off x="4539960" y="4070880"/>
                    <a:ext cx="450720" cy="267480"/>
                    <a:chOff x="4539960" y="4070880"/>
                    <a:chExt cx="450720" cy="267480"/>
                  </a:xfrm>
                </p:grpSpPr>
                <p:grpSp>
                  <p:nvGrpSpPr>
                    <p:cNvPr id="626" name="Group 335"/>
                    <p:cNvGrpSpPr/>
                    <p:nvPr/>
                  </p:nvGrpSpPr>
                  <p:grpSpPr>
                    <a:xfrm>
                      <a:off x="4539960" y="4100400"/>
                      <a:ext cx="450720" cy="237960"/>
                      <a:chOff x="4539960" y="4100400"/>
                      <a:chExt cx="450720" cy="237960"/>
                    </a:xfrm>
                  </p:grpSpPr>
                  <p:grpSp>
                    <p:nvGrpSpPr>
                      <p:cNvPr id="627" name="Group 336"/>
                      <p:cNvGrpSpPr/>
                      <p:nvPr/>
                    </p:nvGrpSpPr>
                    <p:grpSpPr>
                      <a:xfrm>
                        <a:off x="4539960" y="4100400"/>
                        <a:ext cx="450720" cy="237960"/>
                        <a:chOff x="4539960" y="4100400"/>
                        <a:chExt cx="450720" cy="237960"/>
                      </a:xfrm>
                    </p:grpSpPr>
                    <p:sp>
                      <p:nvSpPr>
                        <p:cNvPr id="628" name="Rectangle 337"/>
                        <p:cNvSpPr/>
                        <p:nvPr/>
                      </p:nvSpPr>
                      <p:spPr>
                        <a:xfrm rot="966600">
                          <a:off x="4551480" y="4137840"/>
                          <a:ext cx="288720" cy="12420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9" name="Freeform 338"/>
                        <p:cNvSpPr/>
                        <p:nvPr/>
                      </p:nvSpPr>
                      <p:spPr>
                        <a:xfrm rot="966600">
                          <a:off x="4831920" y="419688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30" name=""/>
                      <p:cNvGrpSpPr/>
                      <p:nvPr/>
                    </p:nvGrpSpPr>
                    <p:grpSpPr>
                      <a:xfrm>
                        <a:off x="4547520" y="4193640"/>
                        <a:ext cx="423000" cy="122400"/>
                        <a:chOff x="4547520" y="4193640"/>
                        <a:chExt cx="423000" cy="122400"/>
                      </a:xfrm>
                    </p:grpSpPr>
                    <p:sp>
                      <p:nvSpPr>
                        <p:cNvPr id="631" name="Line 339"/>
                        <p:cNvSpPr/>
                        <p:nvPr/>
                      </p:nvSpPr>
                      <p:spPr>
                        <a:xfrm>
                          <a:off x="4547520" y="4193640"/>
                          <a:ext cx="423000" cy="1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2" name=""/>
                        <p:cNvSpPr txBox="1"/>
                        <p:nvPr/>
                      </p:nvSpPr>
                      <p:spPr>
                        <a:xfrm rot="966600">
                          <a:off x="4538520" y="425448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633" name="Oval 340"/>
                    <p:cNvSpPr/>
                    <p:nvPr/>
                  </p:nvSpPr>
                  <p:spPr>
                    <a:xfrm rot="966600">
                      <a:off x="4643280" y="4097880"/>
                      <a:ext cx="87840" cy="97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Freeform 341"/>
                    <p:cNvSpPr/>
                    <p:nvPr/>
                  </p:nvSpPr>
                  <p:spPr>
                    <a:xfrm rot="12318600">
                      <a:off x="4780440" y="408888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10248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35" name="Group 342"/>
                <p:cNvGrpSpPr/>
                <p:nvPr/>
              </p:nvGrpSpPr>
              <p:grpSpPr>
                <a:xfrm>
                  <a:off x="4615560" y="3185280"/>
                  <a:ext cx="451080" cy="612360"/>
                  <a:chOff x="4615560" y="3185280"/>
                  <a:chExt cx="451080" cy="612360"/>
                </a:xfrm>
              </p:grpSpPr>
              <p:sp>
                <p:nvSpPr>
                  <p:cNvPr id="636" name="AutoShape 343"/>
                  <p:cNvSpPr/>
                  <p:nvPr/>
                </p:nvSpPr>
                <p:spPr>
                  <a:xfrm rot="966600">
                    <a:off x="4731480" y="3379680"/>
                    <a:ext cx="24444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37" name="Group 344"/>
                  <p:cNvGrpSpPr/>
                  <p:nvPr/>
                </p:nvGrpSpPr>
                <p:grpSpPr>
                  <a:xfrm>
                    <a:off x="4615560" y="3185280"/>
                    <a:ext cx="451080" cy="267840"/>
                    <a:chOff x="4615560" y="3185280"/>
                    <a:chExt cx="451080" cy="267840"/>
                  </a:xfrm>
                </p:grpSpPr>
                <p:grpSp>
                  <p:nvGrpSpPr>
                    <p:cNvPr id="638" name="Group 345"/>
                    <p:cNvGrpSpPr/>
                    <p:nvPr/>
                  </p:nvGrpSpPr>
                  <p:grpSpPr>
                    <a:xfrm>
                      <a:off x="4615560" y="3185280"/>
                      <a:ext cx="451080" cy="237960"/>
                      <a:chOff x="4615560" y="3185280"/>
                      <a:chExt cx="451080" cy="237960"/>
                    </a:xfrm>
                  </p:grpSpPr>
                  <p:grpSp>
                    <p:nvGrpSpPr>
                      <p:cNvPr id="639" name="Group 346"/>
                      <p:cNvGrpSpPr/>
                      <p:nvPr/>
                    </p:nvGrpSpPr>
                    <p:grpSpPr>
                      <a:xfrm>
                        <a:off x="4615560" y="3185280"/>
                        <a:ext cx="451080" cy="237960"/>
                        <a:chOff x="4615560" y="3185280"/>
                        <a:chExt cx="451080" cy="237960"/>
                      </a:xfrm>
                    </p:grpSpPr>
                    <p:sp>
                      <p:nvSpPr>
                        <p:cNvPr id="640" name="Rectangle 347"/>
                        <p:cNvSpPr/>
                        <p:nvPr/>
                      </p:nvSpPr>
                      <p:spPr>
                        <a:xfrm rot="11766600">
                          <a:off x="4766040" y="326124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1" name="Freeform 348"/>
                        <p:cNvSpPr/>
                        <p:nvPr/>
                      </p:nvSpPr>
                      <p:spPr>
                        <a:xfrm rot="11766600">
                          <a:off x="4629600" y="320292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42" name=""/>
                      <p:cNvGrpSpPr/>
                      <p:nvPr/>
                    </p:nvGrpSpPr>
                    <p:grpSpPr>
                      <a:xfrm>
                        <a:off x="4635720" y="3207960"/>
                        <a:ext cx="423000" cy="122400"/>
                        <a:chOff x="4635720" y="3207960"/>
                        <a:chExt cx="423000" cy="122400"/>
                      </a:xfrm>
                    </p:grpSpPr>
                    <p:sp>
                      <p:nvSpPr>
                        <p:cNvPr id="643" name="Line 349"/>
                        <p:cNvSpPr/>
                        <p:nvPr/>
                      </p:nvSpPr>
                      <p:spPr>
                        <a:xfrm flipH="1" flipV="1">
                          <a:off x="4635720" y="3207960"/>
                          <a:ext cx="423000" cy="12240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4" name=""/>
                        <p:cNvSpPr txBox="1"/>
                        <p:nvPr/>
                      </p:nvSpPr>
                      <p:spPr>
                        <a:xfrm rot="11766600">
                          <a:off x="4627080" y="326880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645" name="Oval 350"/>
                    <p:cNvSpPr/>
                    <p:nvPr/>
                  </p:nvSpPr>
                  <p:spPr>
                    <a:xfrm rot="11766600">
                      <a:off x="4875120" y="332784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6" name="Freeform 351"/>
                    <p:cNvSpPr/>
                    <p:nvPr/>
                  </p:nvSpPr>
                  <p:spPr>
                    <a:xfrm rot="1518600">
                      <a:off x="4707360" y="328824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47" name="Group 352"/>
              <p:cNvGrpSpPr/>
              <p:nvPr/>
            </p:nvGrpSpPr>
            <p:grpSpPr>
              <a:xfrm>
                <a:off x="4659120" y="3211200"/>
                <a:ext cx="425880" cy="675720"/>
                <a:chOff x="4659120" y="3211200"/>
                <a:chExt cx="425880" cy="675720"/>
              </a:xfrm>
            </p:grpSpPr>
            <p:grpSp>
              <p:nvGrpSpPr>
                <p:cNvPr id="648" name="Group 353"/>
                <p:cNvGrpSpPr/>
                <p:nvPr/>
              </p:nvGrpSpPr>
              <p:grpSpPr>
                <a:xfrm>
                  <a:off x="4675680" y="3211200"/>
                  <a:ext cx="409320" cy="565920"/>
                  <a:chOff x="4675680" y="3211200"/>
                  <a:chExt cx="409320" cy="565920"/>
                </a:xfrm>
              </p:grpSpPr>
              <p:sp>
                <p:nvSpPr>
                  <p:cNvPr id="649" name="AutoShape 354"/>
                  <p:cNvSpPr/>
                  <p:nvPr/>
                </p:nvSpPr>
                <p:spPr>
                  <a:xfrm rot="966600">
                    <a:off x="4724280" y="3353760"/>
                    <a:ext cx="28440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Oval 355"/>
                  <p:cNvSpPr/>
                  <p:nvPr/>
                </p:nvSpPr>
                <p:spPr>
                  <a:xfrm rot="966600">
                    <a:off x="4777560" y="3245040"/>
                    <a:ext cx="279360" cy="24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1" name="Oval 356"/>
                <p:cNvSpPr/>
                <p:nvPr/>
              </p:nvSpPr>
              <p:spPr>
                <a:xfrm rot="966600">
                  <a:off x="4686840" y="3621240"/>
                  <a:ext cx="244440" cy="23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ddddd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2" name="AutoShape 357"/>
              <p:cNvSpPr/>
              <p:nvPr/>
            </p:nvSpPr>
            <p:spPr>
              <a:xfrm rot="966600">
                <a:off x="4756320" y="3697920"/>
                <a:ext cx="104760" cy="90720"/>
              </a:xfrm>
              <a:prstGeom prst="hexagon">
                <a:avLst>
                  <a:gd name="adj" fmla="val 28869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Group 358"/>
            <p:cNvGrpSpPr/>
            <p:nvPr/>
          </p:nvGrpSpPr>
          <p:grpSpPr>
            <a:xfrm>
              <a:off x="4802400" y="2214360"/>
              <a:ext cx="545040" cy="1153080"/>
              <a:chOff x="4802400" y="2214360"/>
              <a:chExt cx="545040" cy="1153080"/>
            </a:xfrm>
          </p:grpSpPr>
          <p:grpSp>
            <p:nvGrpSpPr>
              <p:cNvPr id="654" name="Group 359"/>
              <p:cNvGrpSpPr/>
              <p:nvPr/>
            </p:nvGrpSpPr>
            <p:grpSpPr>
              <a:xfrm>
                <a:off x="4820760" y="2214360"/>
                <a:ext cx="526680" cy="1153080"/>
                <a:chOff x="4820760" y="2214360"/>
                <a:chExt cx="526680" cy="1153080"/>
              </a:xfrm>
            </p:grpSpPr>
            <p:grpSp>
              <p:nvGrpSpPr>
                <p:cNvPr id="655" name="Group 360"/>
                <p:cNvGrpSpPr/>
                <p:nvPr/>
              </p:nvGrpSpPr>
              <p:grpSpPr>
                <a:xfrm>
                  <a:off x="4896360" y="2214360"/>
                  <a:ext cx="451080" cy="612000"/>
                  <a:chOff x="4896360" y="2214360"/>
                  <a:chExt cx="451080" cy="612000"/>
                </a:xfrm>
              </p:grpSpPr>
              <p:sp>
                <p:nvSpPr>
                  <p:cNvPr id="656" name="AutoShape 361"/>
                  <p:cNvSpPr/>
                  <p:nvPr/>
                </p:nvSpPr>
                <p:spPr>
                  <a:xfrm rot="966600">
                    <a:off x="5012280" y="2408040"/>
                    <a:ext cx="2444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57" name="Group 362"/>
                  <p:cNvGrpSpPr/>
                  <p:nvPr/>
                </p:nvGrpSpPr>
                <p:grpSpPr>
                  <a:xfrm>
                    <a:off x="4896360" y="2214360"/>
                    <a:ext cx="451080" cy="267480"/>
                    <a:chOff x="4896360" y="2214360"/>
                    <a:chExt cx="451080" cy="267480"/>
                  </a:xfrm>
                </p:grpSpPr>
                <p:grpSp>
                  <p:nvGrpSpPr>
                    <p:cNvPr id="658" name="Group 363"/>
                    <p:cNvGrpSpPr/>
                    <p:nvPr/>
                  </p:nvGrpSpPr>
                  <p:grpSpPr>
                    <a:xfrm>
                      <a:off x="4896360" y="2214360"/>
                      <a:ext cx="451080" cy="237960"/>
                      <a:chOff x="4896360" y="2214360"/>
                      <a:chExt cx="451080" cy="237960"/>
                    </a:xfrm>
                  </p:grpSpPr>
                  <p:grpSp>
                    <p:nvGrpSpPr>
                      <p:cNvPr id="659" name="Group 364"/>
                      <p:cNvGrpSpPr/>
                      <p:nvPr/>
                    </p:nvGrpSpPr>
                    <p:grpSpPr>
                      <a:xfrm>
                        <a:off x="4896360" y="2214360"/>
                        <a:ext cx="451080" cy="237960"/>
                        <a:chOff x="4896360" y="2214360"/>
                        <a:chExt cx="451080" cy="237960"/>
                      </a:xfrm>
                    </p:grpSpPr>
                    <p:sp>
                      <p:nvSpPr>
                        <p:cNvPr id="660" name="Rectangle 365"/>
                        <p:cNvSpPr/>
                        <p:nvPr/>
                      </p:nvSpPr>
                      <p:spPr>
                        <a:xfrm rot="11766600">
                          <a:off x="5046840" y="229032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1" name="Freeform 366"/>
                        <p:cNvSpPr/>
                        <p:nvPr/>
                      </p:nvSpPr>
                      <p:spPr>
                        <a:xfrm rot="11766600">
                          <a:off x="4910400" y="223200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62" name=""/>
                      <p:cNvGrpSpPr/>
                      <p:nvPr/>
                    </p:nvGrpSpPr>
                    <p:grpSpPr>
                      <a:xfrm>
                        <a:off x="4916520" y="2236680"/>
                        <a:ext cx="423000" cy="122400"/>
                        <a:chOff x="4916520" y="2236680"/>
                        <a:chExt cx="423000" cy="122400"/>
                      </a:xfrm>
                    </p:grpSpPr>
                    <p:sp>
                      <p:nvSpPr>
                        <p:cNvPr id="663" name="Line 367"/>
                        <p:cNvSpPr/>
                        <p:nvPr/>
                      </p:nvSpPr>
                      <p:spPr>
                        <a:xfrm flipH="1" flipV="1">
                          <a:off x="4916520" y="2237040"/>
                          <a:ext cx="423000" cy="12204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4" name=""/>
                        <p:cNvSpPr txBox="1"/>
                        <p:nvPr/>
                      </p:nvSpPr>
                      <p:spPr>
                        <a:xfrm rot="11766600">
                          <a:off x="4907880" y="229752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665" name="Oval 368"/>
                    <p:cNvSpPr/>
                    <p:nvPr/>
                  </p:nvSpPr>
                  <p:spPr>
                    <a:xfrm rot="11766600">
                      <a:off x="5155920" y="235656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Freeform 369"/>
                    <p:cNvSpPr/>
                    <p:nvPr/>
                  </p:nvSpPr>
                  <p:spPr>
                    <a:xfrm rot="1518600">
                      <a:off x="4988160" y="231696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67" name="Group 370"/>
                <p:cNvGrpSpPr/>
                <p:nvPr/>
              </p:nvGrpSpPr>
              <p:grpSpPr>
                <a:xfrm>
                  <a:off x="4820760" y="2755080"/>
                  <a:ext cx="450720" cy="612360"/>
                  <a:chOff x="4820760" y="2755080"/>
                  <a:chExt cx="450720" cy="612360"/>
                </a:xfrm>
              </p:grpSpPr>
              <p:sp>
                <p:nvSpPr>
                  <p:cNvPr id="668" name="AutoShape 371"/>
                  <p:cNvSpPr/>
                  <p:nvPr/>
                </p:nvSpPr>
                <p:spPr>
                  <a:xfrm rot="11766600">
                    <a:off x="4911120" y="2781360"/>
                    <a:ext cx="24444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69" name="Group 372"/>
                  <p:cNvGrpSpPr/>
                  <p:nvPr/>
                </p:nvGrpSpPr>
                <p:grpSpPr>
                  <a:xfrm>
                    <a:off x="4820760" y="3099600"/>
                    <a:ext cx="450720" cy="267840"/>
                    <a:chOff x="4820760" y="3099600"/>
                    <a:chExt cx="450720" cy="267840"/>
                  </a:xfrm>
                </p:grpSpPr>
                <p:grpSp>
                  <p:nvGrpSpPr>
                    <p:cNvPr id="670" name="Group 373"/>
                    <p:cNvGrpSpPr/>
                    <p:nvPr/>
                  </p:nvGrpSpPr>
                  <p:grpSpPr>
                    <a:xfrm>
                      <a:off x="4820760" y="3129480"/>
                      <a:ext cx="450720" cy="237960"/>
                      <a:chOff x="4820760" y="3129480"/>
                      <a:chExt cx="450720" cy="237960"/>
                    </a:xfrm>
                  </p:grpSpPr>
                  <p:grpSp>
                    <p:nvGrpSpPr>
                      <p:cNvPr id="671" name="Group 374"/>
                      <p:cNvGrpSpPr/>
                      <p:nvPr/>
                    </p:nvGrpSpPr>
                    <p:grpSpPr>
                      <a:xfrm>
                        <a:off x="4820760" y="3129480"/>
                        <a:ext cx="450720" cy="237960"/>
                        <a:chOff x="4820760" y="3129480"/>
                        <a:chExt cx="450720" cy="237960"/>
                      </a:xfrm>
                    </p:grpSpPr>
                    <p:sp>
                      <p:nvSpPr>
                        <p:cNvPr id="672" name="Rectangle 375"/>
                        <p:cNvSpPr/>
                        <p:nvPr/>
                      </p:nvSpPr>
                      <p:spPr>
                        <a:xfrm rot="966600">
                          <a:off x="4832280" y="316692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3" name="Freeform 376"/>
                        <p:cNvSpPr/>
                        <p:nvPr/>
                      </p:nvSpPr>
                      <p:spPr>
                        <a:xfrm rot="966600">
                          <a:off x="5112720" y="322596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74" name=""/>
                      <p:cNvGrpSpPr/>
                      <p:nvPr/>
                    </p:nvGrpSpPr>
                    <p:grpSpPr>
                      <a:xfrm>
                        <a:off x="4828320" y="3222360"/>
                        <a:ext cx="423000" cy="122400"/>
                        <a:chOff x="4828320" y="3222360"/>
                        <a:chExt cx="423000" cy="122400"/>
                      </a:xfrm>
                    </p:grpSpPr>
                    <p:sp>
                      <p:nvSpPr>
                        <p:cNvPr id="675" name="Line 377"/>
                        <p:cNvSpPr/>
                        <p:nvPr/>
                      </p:nvSpPr>
                      <p:spPr>
                        <a:xfrm>
                          <a:off x="4828320" y="3222360"/>
                          <a:ext cx="423000" cy="12240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6" name=""/>
                        <p:cNvSpPr txBox="1"/>
                        <p:nvPr/>
                      </p:nvSpPr>
                      <p:spPr>
                        <a:xfrm rot="966600">
                          <a:off x="4819320" y="328320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677" name="Oval 378"/>
                    <p:cNvSpPr/>
                    <p:nvPr/>
                  </p:nvSpPr>
                  <p:spPr>
                    <a:xfrm rot="966600">
                      <a:off x="4924080" y="312660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Freeform 379"/>
                    <p:cNvSpPr/>
                    <p:nvPr/>
                  </p:nvSpPr>
                  <p:spPr>
                    <a:xfrm rot="12319200">
                      <a:off x="5061240" y="311760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79" name="Group 380"/>
              <p:cNvGrpSpPr/>
              <p:nvPr/>
            </p:nvGrpSpPr>
            <p:grpSpPr>
              <a:xfrm>
                <a:off x="4802400" y="2665800"/>
                <a:ext cx="425520" cy="675720"/>
                <a:chOff x="4802400" y="2665800"/>
                <a:chExt cx="425520" cy="675720"/>
              </a:xfrm>
            </p:grpSpPr>
            <p:grpSp>
              <p:nvGrpSpPr>
                <p:cNvPr id="680" name="Group 381"/>
                <p:cNvGrpSpPr/>
                <p:nvPr/>
              </p:nvGrpSpPr>
              <p:grpSpPr>
                <a:xfrm>
                  <a:off x="4802400" y="2775600"/>
                  <a:ext cx="409320" cy="565920"/>
                  <a:chOff x="4802400" y="2775600"/>
                  <a:chExt cx="409320" cy="565920"/>
                </a:xfrm>
              </p:grpSpPr>
              <p:sp>
                <p:nvSpPr>
                  <p:cNvPr id="681" name="AutoShape 382"/>
                  <p:cNvSpPr/>
                  <p:nvPr/>
                </p:nvSpPr>
                <p:spPr>
                  <a:xfrm rot="11766600">
                    <a:off x="4878360" y="2807280"/>
                    <a:ext cx="28440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Oval 383"/>
                  <p:cNvSpPr/>
                  <p:nvPr/>
                </p:nvSpPr>
                <p:spPr>
                  <a:xfrm rot="11766600">
                    <a:off x="4830120" y="3067200"/>
                    <a:ext cx="279360" cy="2401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3" name="Oval 384"/>
                <p:cNvSpPr/>
                <p:nvPr/>
              </p:nvSpPr>
              <p:spPr>
                <a:xfrm rot="11766600">
                  <a:off x="4955400" y="2694960"/>
                  <a:ext cx="244440" cy="236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4" name="AutoShape 385"/>
              <p:cNvSpPr/>
              <p:nvPr/>
            </p:nvSpPr>
            <p:spPr>
              <a:xfrm rot="11766600">
                <a:off x="5025600" y="2763720"/>
                <a:ext cx="104760" cy="90720"/>
              </a:xfrm>
              <a:prstGeom prst="hexagon">
                <a:avLst>
                  <a:gd name="adj" fmla="val 28869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5" name="Group 386"/>
          <p:cNvGrpSpPr/>
          <p:nvPr/>
        </p:nvGrpSpPr>
        <p:grpSpPr>
          <a:xfrm>
            <a:off x="4397760" y="1155600"/>
            <a:ext cx="1080000" cy="2245680"/>
            <a:chOff x="4397760" y="1155600"/>
            <a:chExt cx="1080000" cy="2245680"/>
          </a:xfrm>
        </p:grpSpPr>
        <p:grpSp>
          <p:nvGrpSpPr>
            <p:cNvPr id="686" name=""/>
            <p:cNvGrpSpPr/>
            <p:nvPr/>
          </p:nvGrpSpPr>
          <p:grpSpPr>
            <a:xfrm>
              <a:off x="4854240" y="1397160"/>
              <a:ext cx="284400" cy="155520"/>
              <a:chOff x="4854240" y="1397160"/>
              <a:chExt cx="284400" cy="155520"/>
            </a:xfrm>
          </p:grpSpPr>
          <p:sp>
            <p:nvSpPr>
              <p:cNvPr id="687" name="Line 387"/>
              <p:cNvSpPr/>
              <p:nvPr/>
            </p:nvSpPr>
            <p:spPr>
              <a:xfrm>
                <a:off x="4854240" y="1397160"/>
                <a:ext cx="284400" cy="155520"/>
              </a:xfrm>
              <a:prstGeom prst="line">
                <a:avLst/>
              </a:prstGeom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 txBox="1"/>
              <p:nvPr/>
            </p:nvSpPr>
            <p:spPr>
              <a:xfrm>
                <a:off x="4854240" y="1397160"/>
                <a:ext cx="284400" cy="15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9" name="AutoShape 388"/>
            <p:cNvSpPr/>
            <p:nvPr/>
          </p:nvSpPr>
          <p:spPr>
            <a:xfrm rot="471600">
              <a:off x="4433400" y="2238120"/>
              <a:ext cx="152280" cy="53316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21960 h 533160"/>
                <a:gd name="textAreaBottom" fmla="*/ 51120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0" name="Group 389"/>
            <p:cNvGrpSpPr/>
            <p:nvPr/>
          </p:nvGrpSpPr>
          <p:grpSpPr>
            <a:xfrm>
              <a:off x="4561920" y="1155600"/>
              <a:ext cx="915840" cy="2245680"/>
              <a:chOff x="4561920" y="1155600"/>
              <a:chExt cx="915840" cy="2245680"/>
            </a:xfrm>
          </p:grpSpPr>
          <p:grpSp>
            <p:nvGrpSpPr>
              <p:cNvPr id="691" name="Group 390"/>
              <p:cNvGrpSpPr/>
              <p:nvPr/>
            </p:nvGrpSpPr>
            <p:grpSpPr>
              <a:xfrm>
                <a:off x="4561920" y="1272240"/>
                <a:ext cx="915840" cy="2129040"/>
                <a:chOff x="4561920" y="1272240"/>
                <a:chExt cx="915840" cy="2129040"/>
              </a:xfrm>
            </p:grpSpPr>
            <p:grpSp>
              <p:nvGrpSpPr>
                <p:cNvPr id="692" name="Group 391"/>
                <p:cNvGrpSpPr/>
                <p:nvPr/>
              </p:nvGrpSpPr>
              <p:grpSpPr>
                <a:xfrm>
                  <a:off x="4561920" y="1834200"/>
                  <a:ext cx="706320" cy="1567080"/>
                  <a:chOff x="4561920" y="1834200"/>
                  <a:chExt cx="706320" cy="1567080"/>
                </a:xfrm>
              </p:grpSpPr>
              <p:sp>
                <p:nvSpPr>
                  <p:cNvPr id="693" name="Oval 392"/>
                  <p:cNvSpPr/>
                  <p:nvPr/>
                </p:nvSpPr>
                <p:spPr>
                  <a:xfrm rot="385800">
                    <a:off x="4590360" y="2824200"/>
                    <a:ext cx="569160" cy="546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2121600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Oval 393"/>
                  <p:cNvSpPr/>
                  <p:nvPr/>
                </p:nvSpPr>
                <p:spPr>
                  <a:xfrm rot="385800">
                    <a:off x="5231160" y="2330640"/>
                    <a:ext cx="32760" cy="49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Oval 394"/>
                  <p:cNvSpPr/>
                  <p:nvPr/>
                </p:nvSpPr>
                <p:spPr>
                  <a:xfrm rot="385800">
                    <a:off x="5202720" y="2628000"/>
                    <a:ext cx="32760" cy="48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Oval 395"/>
                  <p:cNvSpPr/>
                  <p:nvPr/>
                </p:nvSpPr>
                <p:spPr>
                  <a:xfrm rot="385800">
                    <a:off x="5169600" y="2923920"/>
                    <a:ext cx="32760" cy="49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AutoShape 396"/>
                  <p:cNvSpPr/>
                  <p:nvPr/>
                </p:nvSpPr>
                <p:spPr>
                  <a:xfrm rot="385800">
                    <a:off x="4621320" y="2168640"/>
                    <a:ext cx="591120" cy="1022040"/>
                  </a:xfrm>
                  <a:prstGeom prst="can">
                    <a:avLst>
                      <a:gd name="adj" fmla="val 2652"/>
                    </a:avLst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2121600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Rectangle 397"/>
                  <p:cNvSpPr/>
                  <p:nvPr/>
                </p:nvSpPr>
                <p:spPr>
                  <a:xfrm rot="385800">
                    <a:off x="4909320" y="2088360"/>
                    <a:ext cx="148680" cy="9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21216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99" name="Group 398"/>
                  <p:cNvGrpSpPr/>
                  <p:nvPr/>
                </p:nvGrpSpPr>
                <p:grpSpPr>
                  <a:xfrm>
                    <a:off x="4811760" y="1834200"/>
                    <a:ext cx="285120" cy="690840"/>
                    <a:chOff x="4811760" y="1834200"/>
                    <a:chExt cx="285120" cy="690840"/>
                  </a:xfrm>
                </p:grpSpPr>
                <p:sp>
                  <p:nvSpPr>
                    <p:cNvPr id="700" name="AutoShape 399"/>
                    <p:cNvSpPr/>
                    <p:nvPr/>
                  </p:nvSpPr>
                  <p:spPr>
                    <a:xfrm rot="11007600">
                      <a:off x="4876560" y="1839600"/>
                      <a:ext cx="199440" cy="54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AutoShape 400"/>
                    <p:cNvSpPr/>
                    <p:nvPr/>
                  </p:nvSpPr>
                  <p:spPr>
                    <a:xfrm rot="16585800">
                      <a:off x="4847400" y="2272680"/>
                      <a:ext cx="213120" cy="26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02" name="Group 401"/>
                <p:cNvGrpSpPr/>
                <p:nvPr/>
              </p:nvGrpSpPr>
              <p:grpSpPr>
                <a:xfrm>
                  <a:off x="4582800" y="1272240"/>
                  <a:ext cx="894960" cy="874440"/>
                  <a:chOff x="4582800" y="1272240"/>
                  <a:chExt cx="894960" cy="874440"/>
                </a:xfrm>
              </p:grpSpPr>
              <p:sp>
                <p:nvSpPr>
                  <p:cNvPr id="703" name="AutoShape 402"/>
                  <p:cNvSpPr/>
                  <p:nvPr/>
                </p:nvSpPr>
                <p:spPr>
                  <a:xfrm rot="21102000">
                    <a:off x="5036760" y="1555920"/>
                    <a:ext cx="405720" cy="516960"/>
                  </a:xfrm>
                  <a:custGeom>
                    <a:avLst/>
                    <a:gdLst>
                      <a:gd name="textAreaLeft" fmla="*/ 0 w 405720"/>
                      <a:gd name="textAreaRight" fmla="*/ 146520 w 405720"/>
                      <a:gd name="textAreaTop" fmla="*/ 13320 h 516960"/>
                      <a:gd name="textAreaBottom" fmla="*/ 503640 h 516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5400" y="0"/>
                          <a:pt x="10800" y="900"/>
                          <a:pt x="10800" y="1800"/>
                        </a:cubicBezTo>
                        <a:lnTo>
                          <a:pt x="10800" y="9000"/>
                        </a:lnTo>
                        <a:cubicBezTo>
                          <a:pt x="10800" y="9900"/>
                          <a:pt x="16200" y="10800"/>
                          <a:pt x="21600" y="10800"/>
                        </a:cubicBezTo>
                        <a:cubicBezTo>
                          <a:pt x="16200" y="10800"/>
                          <a:pt x="10800" y="11700"/>
                          <a:pt x="10800" y="12600"/>
                        </a:cubicBezTo>
                        <a:lnTo>
                          <a:pt x="10800" y="19800"/>
                        </a:lnTo>
                        <a:cubicBezTo>
                          <a:pt x="10800" y="20700"/>
                          <a:pt x="5400" y="21600"/>
                          <a:pt x="0" y="21600"/>
                        </a:cubicBezTo>
                      </a:path>
                    </a:pathLst>
                  </a:custGeom>
                  <a:noFill/>
                  <a:ln w="12600">
                    <a:solidFill>
                      <a:srgbClr val="dddd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AutoShape 403"/>
                  <p:cNvSpPr/>
                  <p:nvPr/>
                </p:nvSpPr>
                <p:spPr>
                  <a:xfrm rot="21225600">
                    <a:off x="4752360" y="1596600"/>
                    <a:ext cx="446400" cy="527400"/>
                  </a:xfrm>
                  <a:custGeom>
                    <a:avLst/>
                    <a:gdLst>
                      <a:gd name="textAreaLeft" fmla="*/ 21600 w 446400"/>
                      <a:gd name="textAreaRight" fmla="*/ 424800 w 446400"/>
                      <a:gd name="textAreaTop" fmla="*/ 21600 h 527400"/>
                      <a:gd name="textAreaBottom" fmla="*/ 505800 h 527400"/>
                    </a:gdLst>
                    <a:ahLst/>
                    <a:rect l="textAreaLeft" t="textAreaTop" r="textAreaRight" b="textAreaBottom"/>
                    <a:pathLst>
                      <a:path w="21600" h="25516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1916"/>
                        </a:lnTo>
                        <a:arcTo wR="3600" hR="3600" stAng="10800000" swAng="-5400000"/>
                        <a:lnTo>
                          <a:pt x="18000" y="25516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372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AutoShape 404"/>
                  <p:cNvSpPr/>
                  <p:nvPr/>
                </p:nvSpPr>
                <p:spPr>
                  <a:xfrm rot="20050800">
                    <a:off x="4631040" y="1352880"/>
                    <a:ext cx="446400" cy="324360"/>
                  </a:xfrm>
                  <a:prstGeom prst="triangle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2044800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AutoShape 405"/>
                  <p:cNvSpPr/>
                  <p:nvPr/>
                </p:nvSpPr>
                <p:spPr>
                  <a:xfrm rot="21417600">
                    <a:off x="4937040" y="1777320"/>
                    <a:ext cx="9972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9725" y="3202"/>
                          <a:pt x="17850" y="5080"/>
                          <a:pt x="17850" y="10800"/>
                        </a:cubicBezTo>
                        <a:cubicBezTo>
                          <a:pt x="17850" y="16520"/>
                          <a:pt x="19725" y="1839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ffffff"/>
                      </a:gs>
                    </a:gsLst>
                    <a:lin ang="18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07" name="AutoShape 406"/>
              <p:cNvSpPr/>
              <p:nvPr/>
            </p:nvSpPr>
            <p:spPr>
              <a:xfrm rot="19131600">
                <a:off x="4664160" y="1142640"/>
                <a:ext cx="70920" cy="294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21366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8" name="AutoShape 407"/>
            <p:cNvSpPr/>
            <p:nvPr/>
          </p:nvSpPr>
          <p:spPr>
            <a:xfrm rot="447600">
              <a:off x="4481280" y="2238480"/>
              <a:ext cx="162000" cy="527040"/>
            </a:xfrm>
            <a:custGeom>
              <a:avLst/>
              <a:gdLst>
                <a:gd name="textAreaLeft" fmla="*/ 7920 w 162000"/>
                <a:gd name="textAreaRight" fmla="*/ 154080 w 162000"/>
                <a:gd name="textAreaTop" fmla="*/ 7920 h 527040"/>
                <a:gd name="textAreaBottom" fmla="*/ 519120 h 527040"/>
              </a:gdLst>
              <a:ahLst/>
              <a:rect l="textAreaLeft" t="textAreaTop" r="textAreaRight" b="textAreaBottom"/>
              <a:pathLst>
                <a:path w="21600" h="70164">
                  <a:moveTo>
                    <a:pt x="3600" y="0"/>
                  </a:moveTo>
                  <a:arcTo wR="3600" hR="3600" stAng="16200000" swAng="-5400000"/>
                  <a:lnTo>
                    <a:pt x="0" y="66564"/>
                  </a:lnTo>
                  <a:arcTo wR="3600" hR="3600" stAng="10800000" swAng="-5400000"/>
                  <a:lnTo>
                    <a:pt x="18000" y="701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115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408"/>
          <p:cNvGrpSpPr/>
          <p:nvPr/>
        </p:nvGrpSpPr>
        <p:grpSpPr>
          <a:xfrm>
            <a:off x="4267800" y="2213280"/>
            <a:ext cx="1176480" cy="2110320"/>
            <a:chOff x="4267800" y="2213280"/>
            <a:chExt cx="1176480" cy="2110320"/>
          </a:xfrm>
        </p:grpSpPr>
        <p:grpSp>
          <p:nvGrpSpPr>
            <p:cNvPr id="710" name="Group 409"/>
            <p:cNvGrpSpPr/>
            <p:nvPr/>
          </p:nvGrpSpPr>
          <p:grpSpPr>
            <a:xfrm>
              <a:off x="4546080" y="3202560"/>
              <a:ext cx="898200" cy="1121040"/>
              <a:chOff x="4546080" y="3202560"/>
              <a:chExt cx="898200" cy="1121040"/>
            </a:xfrm>
          </p:grpSpPr>
          <p:grpSp>
            <p:nvGrpSpPr>
              <p:cNvPr id="711" name="Group 410"/>
              <p:cNvGrpSpPr/>
              <p:nvPr/>
            </p:nvGrpSpPr>
            <p:grpSpPr>
              <a:xfrm>
                <a:off x="4546080" y="3225960"/>
                <a:ext cx="898200" cy="1097640"/>
                <a:chOff x="4546080" y="3225960"/>
                <a:chExt cx="898200" cy="1097640"/>
              </a:xfrm>
            </p:grpSpPr>
            <p:grpSp>
              <p:nvGrpSpPr>
                <p:cNvPr id="712" name="Group 411"/>
                <p:cNvGrpSpPr/>
                <p:nvPr/>
              </p:nvGrpSpPr>
              <p:grpSpPr>
                <a:xfrm>
                  <a:off x="4875120" y="3737160"/>
                  <a:ext cx="569160" cy="586440"/>
                  <a:chOff x="4875120" y="3737160"/>
                  <a:chExt cx="569160" cy="586440"/>
                </a:xfrm>
              </p:grpSpPr>
              <p:sp>
                <p:nvSpPr>
                  <p:cNvPr id="713" name="AutoShape 412"/>
                  <p:cNvSpPr/>
                  <p:nvPr/>
                </p:nvSpPr>
                <p:spPr>
                  <a:xfrm rot="9878400">
                    <a:off x="4924080" y="3763440"/>
                    <a:ext cx="254160" cy="40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4" name="Group 413"/>
                  <p:cNvGrpSpPr/>
                  <p:nvPr/>
                </p:nvGrpSpPr>
                <p:grpSpPr>
                  <a:xfrm>
                    <a:off x="4975920" y="4026960"/>
                    <a:ext cx="468360" cy="296640"/>
                    <a:chOff x="4975920" y="4026960"/>
                    <a:chExt cx="468360" cy="296640"/>
                  </a:xfrm>
                </p:grpSpPr>
                <p:grpSp>
                  <p:nvGrpSpPr>
                    <p:cNvPr id="715" name="Group 414"/>
                    <p:cNvGrpSpPr/>
                    <p:nvPr/>
                  </p:nvGrpSpPr>
                  <p:grpSpPr>
                    <a:xfrm>
                      <a:off x="4975920" y="4078800"/>
                      <a:ext cx="468360" cy="244800"/>
                      <a:chOff x="4975920" y="4078800"/>
                      <a:chExt cx="468360" cy="244800"/>
                    </a:xfrm>
                  </p:grpSpPr>
                  <p:grpSp>
                    <p:nvGrpSpPr>
                      <p:cNvPr id="716" name="Group 415"/>
                      <p:cNvGrpSpPr/>
                      <p:nvPr/>
                    </p:nvGrpSpPr>
                    <p:grpSpPr>
                      <a:xfrm>
                        <a:off x="4975920" y="4078800"/>
                        <a:ext cx="468000" cy="244800"/>
                        <a:chOff x="4975920" y="4078800"/>
                        <a:chExt cx="468000" cy="244800"/>
                      </a:xfrm>
                    </p:grpSpPr>
                    <p:sp>
                      <p:nvSpPr>
                        <p:cNvPr id="717" name="Rectangle 416"/>
                        <p:cNvSpPr/>
                        <p:nvPr/>
                      </p:nvSpPr>
                      <p:spPr>
                        <a:xfrm rot="20678400">
                          <a:off x="4987440" y="4156920"/>
                          <a:ext cx="300240" cy="1292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8" name="Freeform 417"/>
                        <p:cNvSpPr/>
                        <p:nvPr/>
                      </p:nvSpPr>
                      <p:spPr>
                        <a:xfrm rot="20678400">
                          <a:off x="5279040" y="409608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19" name=""/>
                      <p:cNvGrpSpPr/>
                      <p:nvPr/>
                    </p:nvGrpSpPr>
                    <p:grpSpPr>
                      <a:xfrm>
                        <a:off x="5002560" y="4174560"/>
                        <a:ext cx="441720" cy="121680"/>
                        <a:chOff x="5002560" y="4174560"/>
                        <a:chExt cx="441720" cy="121680"/>
                      </a:xfrm>
                    </p:grpSpPr>
                    <p:sp>
                      <p:nvSpPr>
                        <p:cNvPr id="720" name="Line 418"/>
                        <p:cNvSpPr/>
                        <p:nvPr/>
                      </p:nvSpPr>
                      <p:spPr>
                        <a:xfrm flipV="1">
                          <a:off x="5002560" y="4174560"/>
                          <a:ext cx="441360" cy="12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1" name=""/>
                        <p:cNvSpPr txBox="1"/>
                        <p:nvPr/>
                      </p:nvSpPr>
                      <p:spPr>
                        <a:xfrm rot="20678400">
                          <a:off x="4994280" y="423504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722" name="Oval 419"/>
                    <p:cNvSpPr/>
                    <p:nvPr/>
                  </p:nvSpPr>
                  <p:spPr>
                    <a:xfrm rot="20678400">
                      <a:off x="5054760" y="4128120"/>
                      <a:ext cx="91080" cy="101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Freeform 420"/>
                    <p:cNvSpPr/>
                    <p:nvPr/>
                  </p:nvSpPr>
                  <p:spPr>
                    <a:xfrm rot="10430400">
                      <a:off x="5182560" y="403308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aeaea"/>
                        </a:gs>
                      </a:gsLst>
                      <a:lin ang="10248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24" name="Group 421"/>
                <p:cNvGrpSpPr/>
                <p:nvPr/>
              </p:nvGrpSpPr>
              <p:grpSpPr>
                <a:xfrm>
                  <a:off x="4546080" y="3225960"/>
                  <a:ext cx="569160" cy="585720"/>
                  <a:chOff x="4546080" y="3225960"/>
                  <a:chExt cx="569160" cy="585720"/>
                </a:xfrm>
              </p:grpSpPr>
              <p:sp>
                <p:nvSpPr>
                  <p:cNvPr id="725" name="AutoShape 422"/>
                  <p:cNvSpPr/>
                  <p:nvPr/>
                </p:nvSpPr>
                <p:spPr>
                  <a:xfrm rot="20678400">
                    <a:off x="4811760" y="337824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6" name="Group 423"/>
                  <p:cNvGrpSpPr/>
                  <p:nvPr/>
                </p:nvGrpSpPr>
                <p:grpSpPr>
                  <a:xfrm>
                    <a:off x="4546080" y="3225960"/>
                    <a:ext cx="468360" cy="296640"/>
                    <a:chOff x="4546080" y="3225960"/>
                    <a:chExt cx="468360" cy="296640"/>
                  </a:xfrm>
                </p:grpSpPr>
                <p:grpSp>
                  <p:nvGrpSpPr>
                    <p:cNvPr id="727" name="Group 424"/>
                    <p:cNvGrpSpPr/>
                    <p:nvPr/>
                  </p:nvGrpSpPr>
                  <p:grpSpPr>
                    <a:xfrm>
                      <a:off x="4546080" y="3225960"/>
                      <a:ext cx="468360" cy="244440"/>
                      <a:chOff x="4546080" y="3225960"/>
                      <a:chExt cx="468360" cy="244440"/>
                    </a:xfrm>
                  </p:grpSpPr>
                  <p:grpSp>
                    <p:nvGrpSpPr>
                      <p:cNvPr id="728" name="Group 425"/>
                      <p:cNvGrpSpPr/>
                      <p:nvPr/>
                    </p:nvGrpSpPr>
                    <p:grpSpPr>
                      <a:xfrm>
                        <a:off x="4546440" y="3225960"/>
                        <a:ext cx="468000" cy="244440"/>
                        <a:chOff x="4546440" y="3225960"/>
                        <a:chExt cx="468000" cy="244440"/>
                      </a:xfrm>
                    </p:grpSpPr>
                    <p:sp>
                      <p:nvSpPr>
                        <p:cNvPr id="729" name="Rectangle 426"/>
                        <p:cNvSpPr/>
                        <p:nvPr/>
                      </p:nvSpPr>
                      <p:spPr>
                        <a:xfrm rot="9878400">
                          <a:off x="4702320" y="326304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0" name="Freeform 427"/>
                        <p:cNvSpPr/>
                        <p:nvPr/>
                      </p:nvSpPr>
                      <p:spPr>
                        <a:xfrm rot="9878400">
                          <a:off x="4560840" y="332424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31" name=""/>
                      <p:cNvGrpSpPr/>
                      <p:nvPr/>
                    </p:nvGrpSpPr>
                    <p:grpSpPr>
                      <a:xfrm>
                        <a:off x="4546080" y="3253320"/>
                        <a:ext cx="441720" cy="121680"/>
                        <a:chOff x="4546080" y="3253320"/>
                        <a:chExt cx="441720" cy="121680"/>
                      </a:xfrm>
                    </p:grpSpPr>
                    <p:sp>
                      <p:nvSpPr>
                        <p:cNvPr id="732" name="Line 428"/>
                        <p:cNvSpPr/>
                        <p:nvPr/>
                      </p:nvSpPr>
                      <p:spPr>
                        <a:xfrm flipH="1">
                          <a:off x="4546440" y="3253680"/>
                          <a:ext cx="441360" cy="12096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3" name=""/>
                        <p:cNvSpPr txBox="1"/>
                        <p:nvPr/>
                      </p:nvSpPr>
                      <p:spPr>
                        <a:xfrm rot="9878400">
                          <a:off x="4537800" y="331380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734" name="Oval 429"/>
                    <p:cNvSpPr/>
                    <p:nvPr/>
                  </p:nvSpPr>
                  <p:spPr>
                    <a:xfrm rot="9878400">
                      <a:off x="4843800" y="331956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Freeform 430"/>
                    <p:cNvSpPr/>
                    <p:nvPr/>
                  </p:nvSpPr>
                  <p:spPr>
                    <a:xfrm rot="21230400">
                      <a:off x="4684680" y="336384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36" name="Group 431"/>
              <p:cNvGrpSpPr/>
              <p:nvPr/>
            </p:nvGrpSpPr>
            <p:grpSpPr>
              <a:xfrm>
                <a:off x="4707720" y="3202560"/>
                <a:ext cx="435240" cy="701280"/>
                <a:chOff x="4707720" y="3202560"/>
                <a:chExt cx="435240" cy="701280"/>
              </a:xfrm>
            </p:grpSpPr>
            <p:grpSp>
              <p:nvGrpSpPr>
                <p:cNvPr id="737" name="Group 432"/>
                <p:cNvGrpSpPr/>
                <p:nvPr/>
              </p:nvGrpSpPr>
              <p:grpSpPr>
                <a:xfrm>
                  <a:off x="4707720" y="3202560"/>
                  <a:ext cx="424800" cy="585360"/>
                  <a:chOff x="4707720" y="3202560"/>
                  <a:chExt cx="424800" cy="585360"/>
                </a:xfrm>
              </p:grpSpPr>
              <p:sp>
                <p:nvSpPr>
                  <p:cNvPr id="738" name="AutoShape 433"/>
                  <p:cNvSpPr/>
                  <p:nvPr/>
                </p:nvSpPr>
                <p:spPr>
                  <a:xfrm rot="20678400">
                    <a:off x="4787640" y="3348720"/>
                    <a:ext cx="29592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Oval 434"/>
                  <p:cNvSpPr/>
                  <p:nvPr/>
                </p:nvSpPr>
                <p:spPr>
                  <a:xfrm rot="20678400">
                    <a:off x="4735440" y="3236400"/>
                    <a:ext cx="290520" cy="249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0" name="Oval 435"/>
                <p:cNvSpPr/>
                <p:nvPr/>
              </p:nvSpPr>
              <p:spPr>
                <a:xfrm rot="20678400">
                  <a:off x="4860720" y="3628800"/>
                  <a:ext cx="254160" cy="24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1" name="AutoShape 436"/>
              <p:cNvSpPr/>
              <p:nvPr/>
            </p:nvSpPr>
            <p:spPr>
              <a:xfrm rot="20678400">
                <a:off x="4935600" y="3708000"/>
                <a:ext cx="109080" cy="94320"/>
              </a:xfrm>
              <a:prstGeom prst="hexagon">
                <a:avLst>
                  <a:gd name="adj" fmla="val 28912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Group 437"/>
            <p:cNvGrpSpPr/>
            <p:nvPr/>
          </p:nvGrpSpPr>
          <p:grpSpPr>
            <a:xfrm>
              <a:off x="4267800" y="2213280"/>
              <a:ext cx="898200" cy="1121040"/>
              <a:chOff x="4267800" y="2213280"/>
              <a:chExt cx="898200" cy="1121040"/>
            </a:xfrm>
          </p:grpSpPr>
          <p:grpSp>
            <p:nvGrpSpPr>
              <p:cNvPr id="743" name="Group 438"/>
              <p:cNvGrpSpPr/>
              <p:nvPr/>
            </p:nvGrpSpPr>
            <p:grpSpPr>
              <a:xfrm>
                <a:off x="4267800" y="2213280"/>
                <a:ext cx="898200" cy="1097640"/>
                <a:chOff x="4267800" y="2213280"/>
                <a:chExt cx="898200" cy="1097640"/>
              </a:xfrm>
            </p:grpSpPr>
            <p:grpSp>
              <p:nvGrpSpPr>
                <p:cNvPr id="744" name="Group 439"/>
                <p:cNvGrpSpPr/>
                <p:nvPr/>
              </p:nvGrpSpPr>
              <p:grpSpPr>
                <a:xfrm>
                  <a:off x="4267800" y="2213280"/>
                  <a:ext cx="569160" cy="586440"/>
                  <a:chOff x="4267800" y="2213280"/>
                  <a:chExt cx="569160" cy="586440"/>
                </a:xfrm>
              </p:grpSpPr>
              <p:sp>
                <p:nvSpPr>
                  <p:cNvPr id="745" name="AutoShape 440"/>
                  <p:cNvSpPr/>
                  <p:nvPr/>
                </p:nvSpPr>
                <p:spPr>
                  <a:xfrm rot="20678400">
                    <a:off x="4533480" y="2365920"/>
                    <a:ext cx="254160" cy="40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6" name="Group 441"/>
                  <p:cNvGrpSpPr/>
                  <p:nvPr/>
                </p:nvGrpSpPr>
                <p:grpSpPr>
                  <a:xfrm>
                    <a:off x="4267800" y="2213280"/>
                    <a:ext cx="468360" cy="296640"/>
                    <a:chOff x="4267800" y="2213280"/>
                    <a:chExt cx="468360" cy="296640"/>
                  </a:xfrm>
                </p:grpSpPr>
                <p:grpSp>
                  <p:nvGrpSpPr>
                    <p:cNvPr id="747" name="Group 442"/>
                    <p:cNvGrpSpPr/>
                    <p:nvPr/>
                  </p:nvGrpSpPr>
                  <p:grpSpPr>
                    <a:xfrm>
                      <a:off x="4267800" y="2213280"/>
                      <a:ext cx="468360" cy="244800"/>
                      <a:chOff x="4267800" y="2213280"/>
                      <a:chExt cx="468360" cy="244800"/>
                    </a:xfrm>
                  </p:grpSpPr>
                  <p:grpSp>
                    <p:nvGrpSpPr>
                      <p:cNvPr id="748" name="Group 443"/>
                      <p:cNvGrpSpPr/>
                      <p:nvPr/>
                    </p:nvGrpSpPr>
                    <p:grpSpPr>
                      <a:xfrm>
                        <a:off x="4268160" y="2213280"/>
                        <a:ext cx="468000" cy="244800"/>
                        <a:chOff x="4268160" y="2213280"/>
                        <a:chExt cx="468000" cy="244800"/>
                      </a:xfrm>
                    </p:grpSpPr>
                    <p:sp>
                      <p:nvSpPr>
                        <p:cNvPr id="749" name="Rectangle 444"/>
                        <p:cNvSpPr/>
                        <p:nvPr/>
                      </p:nvSpPr>
                      <p:spPr>
                        <a:xfrm rot="9878400">
                          <a:off x="4424040" y="225036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0" name="Freeform 445"/>
                        <p:cNvSpPr/>
                        <p:nvPr/>
                      </p:nvSpPr>
                      <p:spPr>
                        <a:xfrm rot="9878400">
                          <a:off x="4282560" y="231192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51" name=""/>
                      <p:cNvGrpSpPr/>
                      <p:nvPr/>
                    </p:nvGrpSpPr>
                    <p:grpSpPr>
                      <a:xfrm>
                        <a:off x="4267800" y="2240640"/>
                        <a:ext cx="441720" cy="121680"/>
                        <a:chOff x="4267800" y="2240640"/>
                        <a:chExt cx="441720" cy="121680"/>
                      </a:xfrm>
                    </p:grpSpPr>
                    <p:sp>
                      <p:nvSpPr>
                        <p:cNvPr id="752" name="Line 446"/>
                        <p:cNvSpPr/>
                        <p:nvPr/>
                      </p:nvSpPr>
                      <p:spPr>
                        <a:xfrm flipH="1">
                          <a:off x="4268160" y="2241000"/>
                          <a:ext cx="441360" cy="12132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3" name=""/>
                        <p:cNvSpPr txBox="1"/>
                        <p:nvPr/>
                      </p:nvSpPr>
                      <p:spPr>
                        <a:xfrm rot="9878400">
                          <a:off x="4259520" y="230112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754" name="Oval 447"/>
                    <p:cNvSpPr/>
                    <p:nvPr/>
                  </p:nvSpPr>
                  <p:spPr>
                    <a:xfrm rot="9878400">
                      <a:off x="4565880" y="230688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5" name="Freeform 448"/>
                    <p:cNvSpPr/>
                    <p:nvPr/>
                  </p:nvSpPr>
                  <p:spPr>
                    <a:xfrm rot="21230400">
                      <a:off x="4406400" y="235116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56" name="Group 449"/>
                <p:cNvGrpSpPr/>
                <p:nvPr/>
              </p:nvGrpSpPr>
              <p:grpSpPr>
                <a:xfrm>
                  <a:off x="4596840" y="2725200"/>
                  <a:ext cx="569160" cy="585720"/>
                  <a:chOff x="4596840" y="2725200"/>
                  <a:chExt cx="569160" cy="585720"/>
                </a:xfrm>
              </p:grpSpPr>
              <p:sp>
                <p:nvSpPr>
                  <p:cNvPr id="757" name="AutoShape 450"/>
                  <p:cNvSpPr/>
                  <p:nvPr/>
                </p:nvSpPr>
                <p:spPr>
                  <a:xfrm rot="9878400">
                    <a:off x="4645800" y="275148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58" name="Group 451"/>
                  <p:cNvGrpSpPr/>
                  <p:nvPr/>
                </p:nvGrpSpPr>
                <p:grpSpPr>
                  <a:xfrm>
                    <a:off x="4697640" y="3014280"/>
                    <a:ext cx="468360" cy="296640"/>
                    <a:chOff x="4697640" y="3014280"/>
                    <a:chExt cx="468360" cy="296640"/>
                  </a:xfrm>
                </p:grpSpPr>
                <p:grpSp>
                  <p:nvGrpSpPr>
                    <p:cNvPr id="759" name="Group 452"/>
                    <p:cNvGrpSpPr/>
                    <p:nvPr/>
                  </p:nvGrpSpPr>
                  <p:grpSpPr>
                    <a:xfrm>
                      <a:off x="4697640" y="3066480"/>
                      <a:ext cx="468360" cy="244440"/>
                      <a:chOff x="4697640" y="3066480"/>
                      <a:chExt cx="468360" cy="244440"/>
                    </a:xfrm>
                  </p:grpSpPr>
                  <p:grpSp>
                    <p:nvGrpSpPr>
                      <p:cNvPr id="760" name="Group 453"/>
                      <p:cNvGrpSpPr/>
                      <p:nvPr/>
                    </p:nvGrpSpPr>
                    <p:grpSpPr>
                      <a:xfrm>
                        <a:off x="4697640" y="3066480"/>
                        <a:ext cx="468000" cy="244440"/>
                        <a:chOff x="4697640" y="3066480"/>
                        <a:chExt cx="468000" cy="244440"/>
                      </a:xfrm>
                    </p:grpSpPr>
                    <p:sp>
                      <p:nvSpPr>
                        <p:cNvPr id="761" name="Rectangle 454"/>
                        <p:cNvSpPr/>
                        <p:nvPr/>
                      </p:nvSpPr>
                      <p:spPr>
                        <a:xfrm rot="20678400">
                          <a:off x="4709160" y="314424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2" name="Freeform 455"/>
                        <p:cNvSpPr/>
                        <p:nvPr/>
                      </p:nvSpPr>
                      <p:spPr>
                        <a:xfrm rot="20678400">
                          <a:off x="5000760" y="308376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63" name=""/>
                      <p:cNvGrpSpPr/>
                      <p:nvPr/>
                    </p:nvGrpSpPr>
                    <p:grpSpPr>
                      <a:xfrm>
                        <a:off x="4724280" y="3161880"/>
                        <a:ext cx="441720" cy="121680"/>
                        <a:chOff x="4724280" y="3161880"/>
                        <a:chExt cx="441720" cy="121680"/>
                      </a:xfrm>
                    </p:grpSpPr>
                    <p:sp>
                      <p:nvSpPr>
                        <p:cNvPr id="764" name="Line 456"/>
                        <p:cNvSpPr/>
                        <p:nvPr/>
                      </p:nvSpPr>
                      <p:spPr>
                        <a:xfrm flipV="1">
                          <a:off x="4724280" y="3162240"/>
                          <a:ext cx="441360" cy="12096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5" name=""/>
                        <p:cNvSpPr txBox="1"/>
                        <p:nvPr/>
                      </p:nvSpPr>
                      <p:spPr>
                        <a:xfrm rot="20678400">
                          <a:off x="4716000" y="322236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766" name="Oval 457"/>
                    <p:cNvSpPr/>
                    <p:nvPr/>
                  </p:nvSpPr>
                  <p:spPr>
                    <a:xfrm rot="20678400">
                      <a:off x="4776840" y="311544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Freeform 458"/>
                    <p:cNvSpPr/>
                    <p:nvPr/>
                  </p:nvSpPr>
                  <p:spPr>
                    <a:xfrm rot="10431000">
                      <a:off x="4904280" y="302040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68" name="Group 459"/>
              <p:cNvGrpSpPr/>
              <p:nvPr/>
            </p:nvGrpSpPr>
            <p:grpSpPr>
              <a:xfrm>
                <a:off x="4569120" y="2633040"/>
                <a:ext cx="435240" cy="701280"/>
                <a:chOff x="4569120" y="2633040"/>
                <a:chExt cx="435240" cy="701280"/>
              </a:xfrm>
            </p:grpSpPr>
            <p:grpSp>
              <p:nvGrpSpPr>
                <p:cNvPr id="769" name="Group 460"/>
                <p:cNvGrpSpPr/>
                <p:nvPr/>
              </p:nvGrpSpPr>
              <p:grpSpPr>
                <a:xfrm>
                  <a:off x="4579560" y="2748960"/>
                  <a:ext cx="424800" cy="585360"/>
                  <a:chOff x="4579560" y="2748960"/>
                  <a:chExt cx="424800" cy="585360"/>
                </a:xfrm>
              </p:grpSpPr>
              <p:sp>
                <p:nvSpPr>
                  <p:cNvPr id="770" name="AutoShape 461"/>
                  <p:cNvSpPr/>
                  <p:nvPr/>
                </p:nvSpPr>
                <p:spPr>
                  <a:xfrm rot="9878400">
                    <a:off x="4628160" y="2781000"/>
                    <a:ext cx="29592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Oval 462"/>
                  <p:cNvSpPr/>
                  <p:nvPr/>
                </p:nvSpPr>
                <p:spPr>
                  <a:xfrm rot="9878400">
                    <a:off x="4685760" y="3050640"/>
                    <a:ext cx="290520" cy="24948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2" name="Oval 463"/>
                <p:cNvSpPr/>
                <p:nvPr/>
              </p:nvSpPr>
              <p:spPr>
                <a:xfrm rot="9878400">
                  <a:off x="4596840" y="2662200"/>
                  <a:ext cx="254160" cy="2455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3" name="AutoShape 464"/>
              <p:cNvSpPr/>
              <p:nvPr/>
            </p:nvSpPr>
            <p:spPr>
              <a:xfrm rot="9878400">
                <a:off x="4667040" y="2734200"/>
                <a:ext cx="109080" cy="94320"/>
              </a:xfrm>
              <a:prstGeom prst="hexagon">
                <a:avLst>
                  <a:gd name="adj" fmla="val 28912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4" name="Group 465"/>
          <p:cNvGrpSpPr/>
          <p:nvPr/>
        </p:nvGrpSpPr>
        <p:grpSpPr>
          <a:xfrm>
            <a:off x="4809240" y="2205360"/>
            <a:ext cx="608040" cy="533160"/>
            <a:chOff x="4809240" y="2205360"/>
            <a:chExt cx="608040" cy="533160"/>
          </a:xfrm>
        </p:grpSpPr>
        <p:grpSp>
          <p:nvGrpSpPr>
            <p:cNvPr id="775" name="Group 466"/>
            <p:cNvGrpSpPr/>
            <p:nvPr/>
          </p:nvGrpSpPr>
          <p:grpSpPr>
            <a:xfrm>
              <a:off x="4809240" y="2205360"/>
              <a:ext cx="608040" cy="533160"/>
              <a:chOff x="4809240" y="2205360"/>
              <a:chExt cx="608040" cy="533160"/>
            </a:xfrm>
          </p:grpSpPr>
          <p:sp>
            <p:nvSpPr>
              <p:cNvPr id="776" name="AutoShape 467"/>
              <p:cNvSpPr/>
              <p:nvPr/>
            </p:nvSpPr>
            <p:spPr>
              <a:xfrm rot="18417000">
                <a:off x="5076720" y="2273040"/>
                <a:ext cx="179640" cy="491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556" y="21600"/>
                    </a:lnTo>
                    <a:lnTo>
                      <a:pt x="20044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8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AutoShape 468"/>
              <p:cNvSpPr/>
              <p:nvPr/>
            </p:nvSpPr>
            <p:spPr>
              <a:xfrm rot="2395200">
                <a:off x="4862880" y="2239200"/>
                <a:ext cx="191520" cy="236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934" y="2201"/>
                      <a:pt x="12267" y="5080"/>
                      <a:pt x="12267" y="10800"/>
                    </a:cubicBezTo>
                    <a:cubicBezTo>
                      <a:pt x="12267" y="16520"/>
                      <a:pt x="16934" y="1939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162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8" name="AutoShape 469"/>
            <p:cNvSpPr/>
            <p:nvPr/>
          </p:nvSpPr>
          <p:spPr>
            <a:xfrm rot="18418200">
              <a:off x="5009400" y="2409120"/>
              <a:ext cx="180720" cy="122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AutoShape 470"/>
            <p:cNvSpPr/>
            <p:nvPr/>
          </p:nvSpPr>
          <p:spPr>
            <a:xfrm rot="18280200">
              <a:off x="5032440" y="2414160"/>
              <a:ext cx="115920" cy="109440"/>
            </a:xfrm>
            <a:custGeom>
              <a:avLst/>
              <a:gdLst/>
              <a:ahLst/>
              <a:rect l="l" t="t" r="r" b="b"/>
              <a:pathLst>
                <a:path w="73" h="69">
                  <a:moveTo>
                    <a:pt x="0" y="26"/>
                  </a:moveTo>
                  <a:lnTo>
                    <a:pt x="27" y="26"/>
                  </a:lnTo>
                  <a:lnTo>
                    <a:pt x="36" y="0"/>
                  </a:lnTo>
                  <a:lnTo>
                    <a:pt x="45" y="26"/>
                  </a:lnTo>
                  <a:lnTo>
                    <a:pt x="72" y="26"/>
                  </a:lnTo>
                  <a:lnTo>
                    <a:pt x="50" y="42"/>
                  </a:lnTo>
                  <a:lnTo>
                    <a:pt x="59" y="68"/>
                  </a:lnTo>
                  <a:lnTo>
                    <a:pt x="36" y="52"/>
                  </a:lnTo>
                  <a:lnTo>
                    <a:pt x="13" y="68"/>
                  </a:lnTo>
                  <a:lnTo>
                    <a:pt x="22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" name="Group 471"/>
          <p:cNvGrpSpPr/>
          <p:nvPr/>
        </p:nvGrpSpPr>
        <p:grpSpPr>
          <a:xfrm>
            <a:off x="3645000" y="1800720"/>
            <a:ext cx="2099160" cy="598680"/>
            <a:chOff x="3645000" y="1800720"/>
            <a:chExt cx="2099160" cy="598680"/>
          </a:xfrm>
        </p:grpSpPr>
        <p:grpSp>
          <p:nvGrpSpPr>
            <p:cNvPr id="781" name="Group 472"/>
            <p:cNvGrpSpPr/>
            <p:nvPr/>
          </p:nvGrpSpPr>
          <p:grpSpPr>
            <a:xfrm>
              <a:off x="3664800" y="1800720"/>
              <a:ext cx="2079360" cy="521640"/>
              <a:chOff x="3664800" y="1800720"/>
              <a:chExt cx="2079360" cy="521640"/>
            </a:xfrm>
          </p:grpSpPr>
          <p:sp>
            <p:nvSpPr>
              <p:cNvPr id="782" name="AutoShape 473"/>
              <p:cNvSpPr/>
              <p:nvPr/>
            </p:nvSpPr>
            <p:spPr>
              <a:xfrm flipH="1" rot="6052200">
                <a:off x="4688640" y="1060920"/>
                <a:ext cx="75960" cy="2057760"/>
              </a:xfrm>
              <a:prstGeom prst="can">
                <a:avLst>
                  <a:gd name="adj" fmla="val 6796"/>
                </a:avLst>
              </a:prstGeom>
              <a:solidFill>
                <a:srgbClr val="eaeaea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AutoShape 474"/>
              <p:cNvSpPr/>
              <p:nvPr/>
            </p:nvSpPr>
            <p:spPr>
              <a:xfrm flipH="1" rot="11452200">
                <a:off x="3695400" y="1861560"/>
                <a:ext cx="685800" cy="392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4" name="Oval 475"/>
            <p:cNvSpPr/>
            <p:nvPr/>
          </p:nvSpPr>
          <p:spPr>
            <a:xfrm flipH="1" rot="6052200">
              <a:off x="3918960" y="1916640"/>
              <a:ext cx="153000" cy="68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Group 476"/>
          <p:cNvGrpSpPr/>
          <p:nvPr/>
        </p:nvGrpSpPr>
        <p:grpSpPr>
          <a:xfrm>
            <a:off x="5281560" y="2140920"/>
            <a:ext cx="249120" cy="680040"/>
            <a:chOff x="5281560" y="2140920"/>
            <a:chExt cx="249120" cy="680040"/>
          </a:xfrm>
        </p:grpSpPr>
        <p:sp>
          <p:nvSpPr>
            <p:cNvPr id="786" name="AutoShape 477"/>
            <p:cNvSpPr/>
            <p:nvPr/>
          </p:nvSpPr>
          <p:spPr>
            <a:xfrm flipH="1" rot="21499800">
              <a:off x="5322960" y="2142720"/>
              <a:ext cx="152280" cy="30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Group 478"/>
            <p:cNvGrpSpPr/>
            <p:nvPr/>
          </p:nvGrpSpPr>
          <p:grpSpPr>
            <a:xfrm>
              <a:off x="5281560" y="2304000"/>
              <a:ext cx="249120" cy="516960"/>
              <a:chOff x="5281560" y="2304000"/>
              <a:chExt cx="249120" cy="516960"/>
            </a:xfrm>
          </p:grpSpPr>
          <p:sp>
            <p:nvSpPr>
              <p:cNvPr id="788" name="AutoShape 479"/>
              <p:cNvSpPr/>
              <p:nvPr/>
            </p:nvSpPr>
            <p:spPr>
              <a:xfrm flipH="1" rot="10467000">
                <a:off x="5309640" y="2316960"/>
                <a:ext cx="181080" cy="36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308" y="21600"/>
                    </a:lnTo>
                    <a:lnTo>
                      <a:pt x="1729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4572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Oval 480"/>
              <p:cNvSpPr/>
              <p:nvPr/>
            </p:nvSpPr>
            <p:spPr>
              <a:xfrm flipH="1" rot="9928200">
                <a:off x="5319720" y="2607480"/>
                <a:ext cx="189000" cy="1926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4032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AutoShape 481"/>
              <p:cNvSpPr/>
              <p:nvPr/>
            </p:nvSpPr>
            <p:spPr>
              <a:xfrm flipH="1" rot="10498200">
                <a:off x="5374080" y="2669760"/>
                <a:ext cx="89640" cy="76680"/>
              </a:xfrm>
              <a:prstGeom prst="hexagon">
                <a:avLst>
                  <a:gd name="adj" fmla="val 29225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AutoShape 482"/>
              <p:cNvSpPr/>
              <p:nvPr/>
            </p:nvSpPr>
            <p:spPr>
              <a:xfrm flipH="1" rot="10467000">
                <a:off x="5283360" y="2313000"/>
                <a:ext cx="195480" cy="55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308" y="21600"/>
                    </a:lnTo>
                    <a:lnTo>
                      <a:pt x="1729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2" name="Group 483"/>
          <p:cNvGrpSpPr/>
          <p:nvPr/>
        </p:nvGrpSpPr>
        <p:grpSpPr>
          <a:xfrm>
            <a:off x="2666880" y="-14760"/>
            <a:ext cx="4281120" cy="4863960"/>
            <a:chOff x="2666880" y="-14760"/>
            <a:chExt cx="4281120" cy="4863960"/>
          </a:xfrm>
        </p:grpSpPr>
        <p:sp>
          <p:nvSpPr>
            <p:cNvPr id="793" name="Oval 484"/>
            <p:cNvSpPr/>
            <p:nvPr/>
          </p:nvSpPr>
          <p:spPr>
            <a:xfrm rot="16200000">
              <a:off x="4135680" y="2053800"/>
              <a:ext cx="1326600" cy="426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3137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AutoShape 485"/>
            <p:cNvSpPr/>
            <p:nvPr/>
          </p:nvSpPr>
          <p:spPr>
            <a:xfrm rot="10800000">
              <a:off x="2684160" y="-14760"/>
              <a:ext cx="4263840" cy="4346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702" y="21600"/>
                  </a:lnTo>
                  <a:lnTo>
                    <a:pt x="1289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aeaea">
                    <a:alpha val="71372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-1447920" y="5486400"/>
            <a:ext cx="304920" cy="609480"/>
            <a:chOff x="-1447920" y="5486400"/>
            <a:chExt cx="304920" cy="609480"/>
          </a:xfrm>
        </p:grpSpPr>
        <p:sp>
          <p:nvSpPr>
            <p:cNvPr id="796" name="Line 486"/>
            <p:cNvSpPr/>
            <p:nvPr/>
          </p:nvSpPr>
          <p:spPr>
            <a:xfrm>
              <a:off x="-1447920" y="5486400"/>
              <a:ext cx="304920" cy="609480"/>
            </a:xfrm>
            <a:prstGeom prst="line">
              <a:avLst/>
            </a:prstGeom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 txBox="1"/>
            <p:nvPr/>
          </p:nvSpPr>
          <p:spPr>
            <a:xfrm>
              <a:off x="-1447920" y="5486400"/>
              <a:ext cx="30492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 thruBlk="true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11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21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23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14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2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4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14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4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1666 0 E">
                                      <p:cBhvr>
                                        <p:cTn id="149" dur="50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1666 0 E">
                                      <p:cBhvr>
                                        <p:cTn id="151" dur="5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1666 0 E">
                                      <p:cBhvr>
                                        <p:cTn id="153" dur="5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1666 0 E">
                                      <p:cBhvr>
                                        <p:cTn id="155" dur="5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1666 0 E">
                                      <p:cBhvr>
                                        <p:cTn id="157" dur="5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000"/>
                            </p:stCondLst>
                            <p:childTnLst>
                              <p:par>
                                <p:cTn id="15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7500"/>
                            </p:stCondLst>
                            <p:childTnLst>
                              <p:par>
                                <p:cTn id="175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6" dur="2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Freeform 1191"/>
          <p:cNvSpPr/>
          <p:nvPr/>
        </p:nvSpPr>
        <p:spPr>
          <a:xfrm rot="274800">
            <a:off x="4570200" y="1348920"/>
            <a:ext cx="1082520" cy="1384560"/>
          </a:xfrm>
          <a:custGeom>
            <a:avLst/>
            <a:gdLst/>
            <a:ahLst/>
            <a:rect l="l" t="t" r="r" b="b"/>
            <a:pathLst>
              <a:path w="1056" h="1488">
                <a:moveTo>
                  <a:pt x="0" y="0"/>
                </a:moveTo>
                <a:cubicBezTo>
                  <a:pt x="24" y="188"/>
                  <a:pt x="48" y="376"/>
                  <a:pt x="144" y="528"/>
                </a:cubicBezTo>
                <a:cubicBezTo>
                  <a:pt x="240" y="680"/>
                  <a:pt x="424" y="752"/>
                  <a:pt x="576" y="912"/>
                </a:cubicBezTo>
                <a:cubicBezTo>
                  <a:pt x="728" y="1072"/>
                  <a:pt x="976" y="1392"/>
                  <a:pt x="1056" y="1488"/>
                </a:cubicBezTo>
              </a:path>
            </a:pathLst>
          </a:custGeom>
          <a:noFill/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Group 1192"/>
          <p:cNvGrpSpPr/>
          <p:nvPr/>
        </p:nvGrpSpPr>
        <p:grpSpPr>
          <a:xfrm>
            <a:off x="4076640" y="364680"/>
            <a:ext cx="1610280" cy="2152440"/>
            <a:chOff x="4076640" y="364680"/>
            <a:chExt cx="1610280" cy="2152440"/>
          </a:xfrm>
        </p:grpSpPr>
        <p:grpSp>
          <p:nvGrpSpPr>
            <p:cNvPr id="800" name="Group 1193"/>
            <p:cNvGrpSpPr/>
            <p:nvPr/>
          </p:nvGrpSpPr>
          <p:grpSpPr>
            <a:xfrm>
              <a:off x="4076640" y="364680"/>
              <a:ext cx="1092600" cy="1256040"/>
              <a:chOff x="4076640" y="364680"/>
              <a:chExt cx="1092600" cy="1256040"/>
            </a:xfrm>
          </p:grpSpPr>
          <p:sp>
            <p:nvSpPr>
              <p:cNvPr id="801" name="Oval 1194"/>
              <p:cNvSpPr/>
              <p:nvPr/>
            </p:nvSpPr>
            <p:spPr>
              <a:xfrm rot="20269200">
                <a:off x="4246920" y="467640"/>
                <a:ext cx="752040" cy="1049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1195"/>
              <p:cNvSpPr/>
              <p:nvPr/>
            </p:nvSpPr>
            <p:spPr>
              <a:xfrm rot="20187600">
                <a:off x="4388400" y="523080"/>
                <a:ext cx="250560" cy="327960"/>
              </a:xfrm>
              <a:custGeom>
                <a:avLst/>
                <a:gdLst/>
                <a:ahLst/>
                <a:rect l="l" t="t" r="r" b="b"/>
                <a:pathLst>
                  <a:path w="192" h="432">
                    <a:moveTo>
                      <a:pt x="0" y="96"/>
                    </a:moveTo>
                    <a:lnTo>
                      <a:pt x="96" y="432"/>
                    </a:lnTo>
                    <a:lnTo>
                      <a:pt x="192" y="336"/>
                    </a:lnTo>
                    <a:lnTo>
                      <a:pt x="96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Rectangle 1196"/>
              <p:cNvSpPr/>
              <p:nvPr/>
            </p:nvSpPr>
            <p:spPr>
              <a:xfrm rot="19854600">
                <a:off x="4649400" y="842040"/>
                <a:ext cx="154800" cy="146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4" name="Group 1197"/>
            <p:cNvGrpSpPr/>
            <p:nvPr/>
          </p:nvGrpSpPr>
          <p:grpSpPr>
            <a:xfrm>
              <a:off x="4594320" y="1261440"/>
              <a:ext cx="1092600" cy="1255680"/>
              <a:chOff x="4594320" y="1261440"/>
              <a:chExt cx="1092600" cy="1255680"/>
            </a:xfrm>
          </p:grpSpPr>
          <p:sp>
            <p:nvSpPr>
              <p:cNvPr id="805" name="Oval 1198"/>
              <p:cNvSpPr/>
              <p:nvPr/>
            </p:nvSpPr>
            <p:spPr>
              <a:xfrm rot="20269200">
                <a:off x="4764240" y="1364400"/>
                <a:ext cx="752040" cy="10494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1199"/>
              <p:cNvSpPr/>
              <p:nvPr/>
            </p:nvSpPr>
            <p:spPr>
              <a:xfrm rot="20187600">
                <a:off x="4905720" y="1419840"/>
                <a:ext cx="250560" cy="327960"/>
              </a:xfrm>
              <a:custGeom>
                <a:avLst/>
                <a:gdLst/>
                <a:ahLst/>
                <a:rect l="l" t="t" r="r" b="b"/>
                <a:pathLst>
                  <a:path w="192" h="432">
                    <a:moveTo>
                      <a:pt x="0" y="96"/>
                    </a:moveTo>
                    <a:lnTo>
                      <a:pt x="96" y="432"/>
                    </a:lnTo>
                    <a:lnTo>
                      <a:pt x="192" y="336"/>
                    </a:lnTo>
                    <a:lnTo>
                      <a:pt x="96" y="0"/>
                    </a:lnTo>
                    <a:lnTo>
                      <a:pt x="0" y="96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1200"/>
              <p:cNvSpPr/>
              <p:nvPr/>
            </p:nvSpPr>
            <p:spPr>
              <a:xfrm rot="19854600">
                <a:off x="5166720" y="1738440"/>
                <a:ext cx="154800" cy="1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8" name="Group 1202"/>
          <p:cNvGrpSpPr/>
          <p:nvPr/>
        </p:nvGrpSpPr>
        <p:grpSpPr>
          <a:xfrm>
            <a:off x="4410000" y="3257640"/>
            <a:ext cx="582840" cy="708120"/>
            <a:chOff x="4410000" y="3257640"/>
            <a:chExt cx="582840" cy="708120"/>
          </a:xfrm>
        </p:grpSpPr>
        <p:grpSp>
          <p:nvGrpSpPr>
            <p:cNvPr id="809" name="Group 1203"/>
            <p:cNvGrpSpPr/>
            <p:nvPr/>
          </p:nvGrpSpPr>
          <p:grpSpPr>
            <a:xfrm>
              <a:off x="4528080" y="3333240"/>
              <a:ext cx="464760" cy="632520"/>
              <a:chOff x="4528080" y="3333240"/>
              <a:chExt cx="464760" cy="632520"/>
            </a:xfrm>
          </p:grpSpPr>
          <p:sp>
            <p:nvSpPr>
              <p:cNvPr id="810" name="Rectangle 1204"/>
              <p:cNvSpPr/>
              <p:nvPr/>
            </p:nvSpPr>
            <p:spPr>
              <a:xfrm rot="784200">
                <a:off x="4609800" y="3864600"/>
                <a:ext cx="228600" cy="76320"/>
              </a:xfrm>
              <a:prstGeom prst="rect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1" name="Group 1205"/>
              <p:cNvGrpSpPr/>
              <p:nvPr/>
            </p:nvGrpSpPr>
            <p:grpSpPr>
              <a:xfrm>
                <a:off x="4528080" y="3333240"/>
                <a:ext cx="464760" cy="598680"/>
                <a:chOff x="4528080" y="3333240"/>
                <a:chExt cx="464760" cy="598680"/>
              </a:xfrm>
            </p:grpSpPr>
            <p:sp>
              <p:nvSpPr>
                <p:cNvPr id="812" name="AutoShape 1206"/>
                <p:cNvSpPr/>
                <p:nvPr/>
              </p:nvSpPr>
              <p:spPr>
                <a:xfrm rot="11352000">
                  <a:off x="4586040" y="3350520"/>
                  <a:ext cx="253800" cy="407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2700" y="21600"/>
                      </a:lnTo>
                      <a:lnTo>
                        <a:pt x="189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10800000"/>
                </a:gra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3" name="Group 1207"/>
                <p:cNvGrpSpPr/>
                <p:nvPr/>
              </p:nvGrpSpPr>
              <p:grpSpPr>
                <a:xfrm>
                  <a:off x="4528080" y="3672360"/>
                  <a:ext cx="464760" cy="259560"/>
                  <a:chOff x="4528080" y="3672360"/>
                  <a:chExt cx="464760" cy="259560"/>
                </a:xfrm>
              </p:grpSpPr>
              <p:grpSp>
                <p:nvGrpSpPr>
                  <p:cNvPr id="814" name="Group 1208"/>
                  <p:cNvGrpSpPr/>
                  <p:nvPr/>
                </p:nvGrpSpPr>
                <p:grpSpPr>
                  <a:xfrm>
                    <a:off x="4528080" y="3734280"/>
                    <a:ext cx="464760" cy="197640"/>
                    <a:chOff x="4528080" y="3734280"/>
                    <a:chExt cx="464760" cy="197640"/>
                  </a:xfrm>
                </p:grpSpPr>
                <p:grpSp>
                  <p:nvGrpSpPr>
                    <p:cNvPr id="815" name="Group 1209"/>
                    <p:cNvGrpSpPr/>
                    <p:nvPr/>
                  </p:nvGrpSpPr>
                  <p:grpSpPr>
                    <a:xfrm>
                      <a:off x="4528080" y="3734280"/>
                      <a:ext cx="464760" cy="197640"/>
                      <a:chOff x="4528080" y="3734280"/>
                      <a:chExt cx="464760" cy="197640"/>
                    </a:xfrm>
                  </p:grpSpPr>
                  <p:sp>
                    <p:nvSpPr>
                      <p:cNvPr id="816" name="Rectangle 1210"/>
                      <p:cNvSpPr/>
                      <p:nvPr/>
                    </p:nvSpPr>
                    <p:spPr>
                      <a:xfrm rot="551400">
                        <a:off x="4536000" y="3757320"/>
                        <a:ext cx="299880" cy="1292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50000">
                            <a:srgbClr val="dddddd"/>
                          </a:gs>
                          <a:gs pos="100000">
                            <a:srgbClr val="ffffff"/>
                          </a:gs>
                        </a:gsLst>
                        <a:lin ang="5400000"/>
                      </a:gradFill>
                      <a:ln w="93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7" name="Freeform 1211"/>
                      <p:cNvSpPr/>
                      <p:nvPr/>
                    </p:nvSpPr>
                    <p:spPr>
                      <a:xfrm rot="551400">
                        <a:off x="4833360" y="3791880"/>
                        <a:ext cx="149760" cy="128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2" h="672">
                            <a:moveTo>
                              <a:pt x="0" y="0"/>
                            </a:moveTo>
                            <a:lnTo>
                              <a:pt x="672" y="528"/>
                            </a:lnTo>
                            <a:lnTo>
                              <a:pt x="672" y="672"/>
                            </a:lnTo>
                            <a:lnTo>
                              <a:pt x="0" y="67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ffff"/>
                          </a:gs>
                          <a:gs pos="50000">
                            <a:srgbClr val="dddddd"/>
                          </a:gs>
                          <a:gs pos="100000">
                            <a:srgbClr val="ffffff"/>
                          </a:gs>
                        </a:gsLst>
                        <a:lin ang="5400000"/>
                      </a:gradFill>
                      <a:ln w="9360">
                        <a:solidFill>
                          <a:srgbClr val="c0c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18" name=""/>
                    <p:cNvGrpSpPr/>
                    <p:nvPr/>
                  </p:nvGrpSpPr>
                  <p:grpSpPr>
                    <a:xfrm>
                      <a:off x="4532400" y="3833280"/>
                      <a:ext cx="451440" cy="73440"/>
                      <a:chOff x="4532400" y="3833280"/>
                      <a:chExt cx="451440" cy="73440"/>
                    </a:xfrm>
                  </p:grpSpPr>
                  <p:sp>
                    <p:nvSpPr>
                      <p:cNvPr id="819" name="Line 1212"/>
                      <p:cNvSpPr/>
                      <p:nvPr/>
                    </p:nvSpPr>
                    <p:spPr>
                      <a:xfrm>
                        <a:off x="4532400" y="3833280"/>
                        <a:ext cx="451440" cy="73080"/>
                      </a:xfrm>
                      <a:prstGeom prst="line">
                        <a:avLst/>
                      </a:prstGeom>
                      <a:ln w="936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0" name=""/>
                      <p:cNvSpPr txBox="1"/>
                      <p:nvPr/>
                    </p:nvSpPr>
                    <p:spPr>
                      <a:xfrm rot="551400">
                        <a:off x="4529160" y="3869640"/>
                        <a:ext cx="45720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821" name="Oval 1213"/>
                  <p:cNvSpPr/>
                  <p:nvPr/>
                </p:nvSpPr>
                <p:spPr>
                  <a:xfrm rot="551400">
                    <a:off x="4624920" y="3717000"/>
                    <a:ext cx="91080" cy="101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dddddd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Freeform 1214"/>
                  <p:cNvSpPr/>
                  <p:nvPr/>
                </p:nvSpPr>
                <p:spPr>
                  <a:xfrm rot="11903400">
                    <a:off x="4767840" y="3687840"/>
                    <a:ext cx="1224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656">
                        <a:moveTo>
                          <a:pt x="360" y="64"/>
                        </a:moveTo>
                        <a:cubicBezTo>
                          <a:pt x="400" y="128"/>
                          <a:pt x="376" y="448"/>
                          <a:pt x="360" y="544"/>
                        </a:cubicBezTo>
                        <a:cubicBezTo>
                          <a:pt x="344" y="640"/>
                          <a:pt x="320" y="656"/>
                          <a:pt x="264" y="640"/>
                        </a:cubicBezTo>
                        <a:cubicBezTo>
                          <a:pt x="208" y="624"/>
                          <a:pt x="48" y="528"/>
                          <a:pt x="24" y="448"/>
                        </a:cubicBezTo>
                        <a:cubicBezTo>
                          <a:pt x="0" y="368"/>
                          <a:pt x="64" y="224"/>
                          <a:pt x="120" y="160"/>
                        </a:cubicBezTo>
                        <a:cubicBezTo>
                          <a:pt x="176" y="96"/>
                          <a:pt x="320" y="0"/>
                          <a:pt x="360" y="6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aeaea"/>
                      </a:gs>
                    </a:gsLst>
                    <a:lin ang="1024800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23" name="Group 1215"/>
            <p:cNvGrpSpPr/>
            <p:nvPr/>
          </p:nvGrpSpPr>
          <p:grpSpPr>
            <a:xfrm>
              <a:off x="4410000" y="3257640"/>
              <a:ext cx="464760" cy="632160"/>
              <a:chOff x="4410000" y="3257640"/>
              <a:chExt cx="464760" cy="632160"/>
            </a:xfrm>
          </p:grpSpPr>
          <p:sp>
            <p:nvSpPr>
              <p:cNvPr id="824" name="Rectangle 1216"/>
              <p:cNvSpPr/>
              <p:nvPr/>
            </p:nvSpPr>
            <p:spPr>
              <a:xfrm flipH="1" flipV="1" rot="784200">
                <a:off x="4563360" y="3282480"/>
                <a:ext cx="2286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5" name="Group 1217"/>
              <p:cNvGrpSpPr/>
              <p:nvPr/>
            </p:nvGrpSpPr>
            <p:grpSpPr>
              <a:xfrm>
                <a:off x="4410000" y="3291120"/>
                <a:ext cx="464760" cy="598680"/>
                <a:chOff x="4410000" y="3291120"/>
                <a:chExt cx="464760" cy="598680"/>
              </a:xfrm>
            </p:grpSpPr>
            <p:sp>
              <p:nvSpPr>
                <p:cNvPr id="826" name="AutoShape 1218"/>
                <p:cNvSpPr/>
                <p:nvPr/>
              </p:nvSpPr>
              <p:spPr>
                <a:xfrm flipH="1" flipV="1" rot="11352000">
                  <a:off x="4561920" y="3464280"/>
                  <a:ext cx="253800" cy="407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2700" y="21600"/>
                      </a:lnTo>
                      <a:lnTo>
                        <a:pt x="189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7" name="Group 1219"/>
                <p:cNvGrpSpPr/>
                <p:nvPr/>
              </p:nvGrpSpPr>
              <p:grpSpPr>
                <a:xfrm>
                  <a:off x="4410000" y="3291120"/>
                  <a:ext cx="464760" cy="259560"/>
                  <a:chOff x="4410000" y="3291120"/>
                  <a:chExt cx="464760" cy="259560"/>
                </a:xfrm>
              </p:grpSpPr>
              <p:grpSp>
                <p:nvGrpSpPr>
                  <p:cNvPr id="828" name="Group 1220"/>
                  <p:cNvGrpSpPr/>
                  <p:nvPr/>
                </p:nvGrpSpPr>
                <p:grpSpPr>
                  <a:xfrm>
                    <a:off x="4410000" y="3291120"/>
                    <a:ext cx="464760" cy="197640"/>
                    <a:chOff x="4410000" y="3291120"/>
                    <a:chExt cx="464760" cy="197640"/>
                  </a:xfrm>
                </p:grpSpPr>
                <p:grpSp>
                  <p:nvGrpSpPr>
                    <p:cNvPr id="829" name="Group 1221"/>
                    <p:cNvGrpSpPr/>
                    <p:nvPr/>
                  </p:nvGrpSpPr>
                  <p:grpSpPr>
                    <a:xfrm>
                      <a:off x="4410000" y="3291120"/>
                      <a:ext cx="464760" cy="197640"/>
                      <a:chOff x="4410000" y="3291120"/>
                      <a:chExt cx="464760" cy="197640"/>
                    </a:xfrm>
                  </p:grpSpPr>
                  <p:sp>
                    <p:nvSpPr>
                      <p:cNvPr id="830" name="Rectangle 1222"/>
                      <p:cNvSpPr/>
                      <p:nvPr/>
                    </p:nvSpPr>
                    <p:spPr>
                      <a:xfrm flipH="1" flipV="1" rot="551400">
                        <a:off x="4565880" y="3336120"/>
                        <a:ext cx="299880" cy="129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1" name="Freeform 1223"/>
                      <p:cNvSpPr/>
                      <p:nvPr/>
                    </p:nvSpPr>
                    <p:spPr>
                      <a:xfrm flipH="1" flipV="1" rot="551400">
                        <a:off x="4419000" y="3301560"/>
                        <a:ext cx="149760" cy="128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2" h="672">
                            <a:moveTo>
                              <a:pt x="0" y="0"/>
                            </a:moveTo>
                            <a:lnTo>
                              <a:pt x="672" y="528"/>
                            </a:lnTo>
                            <a:lnTo>
                              <a:pt x="672" y="672"/>
                            </a:lnTo>
                            <a:lnTo>
                              <a:pt x="0" y="67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32" name=""/>
                    <p:cNvGrpSpPr/>
                    <p:nvPr/>
                  </p:nvGrpSpPr>
                  <p:grpSpPr>
                    <a:xfrm>
                      <a:off x="4419000" y="3316680"/>
                      <a:ext cx="451440" cy="73440"/>
                      <a:chOff x="4419000" y="3316680"/>
                      <a:chExt cx="451440" cy="73440"/>
                    </a:xfrm>
                  </p:grpSpPr>
                  <p:sp>
                    <p:nvSpPr>
                      <p:cNvPr id="833" name="Line 1224"/>
                      <p:cNvSpPr/>
                      <p:nvPr/>
                    </p:nvSpPr>
                    <p:spPr>
                      <a:xfrm flipH="1" flipV="1">
                        <a:off x="4419000" y="3316680"/>
                        <a:ext cx="451440" cy="7308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4" name=""/>
                      <p:cNvSpPr txBox="1"/>
                      <p:nvPr/>
                    </p:nvSpPr>
                    <p:spPr>
                      <a:xfrm rot="11351400">
                        <a:off x="4416120" y="3353040"/>
                        <a:ext cx="45720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835" name="Oval 1225"/>
                  <p:cNvSpPr/>
                  <p:nvPr/>
                </p:nvSpPr>
                <p:spPr>
                  <a:xfrm flipH="1" flipV="1" rot="551400">
                    <a:off x="4685760" y="3404880"/>
                    <a:ext cx="91080" cy="10116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840" bIns="24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Freeform 1226"/>
                  <p:cNvSpPr/>
                  <p:nvPr/>
                </p:nvSpPr>
                <p:spPr>
                  <a:xfrm flipH="1" flipV="1" rot="11903400">
                    <a:off x="4512240" y="3382560"/>
                    <a:ext cx="1224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656">
                        <a:moveTo>
                          <a:pt x="360" y="64"/>
                        </a:moveTo>
                        <a:cubicBezTo>
                          <a:pt x="400" y="128"/>
                          <a:pt x="376" y="448"/>
                          <a:pt x="360" y="544"/>
                        </a:cubicBezTo>
                        <a:cubicBezTo>
                          <a:pt x="344" y="640"/>
                          <a:pt x="320" y="656"/>
                          <a:pt x="264" y="640"/>
                        </a:cubicBezTo>
                        <a:cubicBezTo>
                          <a:pt x="208" y="624"/>
                          <a:pt x="48" y="528"/>
                          <a:pt x="24" y="448"/>
                        </a:cubicBezTo>
                        <a:cubicBezTo>
                          <a:pt x="0" y="368"/>
                          <a:pt x="64" y="224"/>
                          <a:pt x="120" y="160"/>
                        </a:cubicBezTo>
                        <a:cubicBezTo>
                          <a:pt x="176" y="96"/>
                          <a:pt x="320" y="0"/>
                          <a:pt x="360" y="64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837" name="Group 1227"/>
          <p:cNvGrpSpPr/>
          <p:nvPr/>
        </p:nvGrpSpPr>
        <p:grpSpPr>
          <a:xfrm>
            <a:off x="3880440" y="2575800"/>
            <a:ext cx="1036800" cy="959760"/>
            <a:chOff x="3880440" y="2575800"/>
            <a:chExt cx="1036800" cy="959760"/>
          </a:xfrm>
        </p:grpSpPr>
        <p:grpSp>
          <p:nvGrpSpPr>
            <p:cNvPr id="838" name="Group 1228"/>
            <p:cNvGrpSpPr/>
            <p:nvPr/>
          </p:nvGrpSpPr>
          <p:grpSpPr>
            <a:xfrm>
              <a:off x="4250520" y="2900160"/>
              <a:ext cx="666720" cy="635400"/>
              <a:chOff x="4250520" y="2900160"/>
              <a:chExt cx="666720" cy="635400"/>
            </a:xfrm>
          </p:grpSpPr>
          <p:grpSp>
            <p:nvGrpSpPr>
              <p:cNvPr id="839" name="Group 1229"/>
              <p:cNvGrpSpPr/>
              <p:nvPr/>
            </p:nvGrpSpPr>
            <p:grpSpPr>
              <a:xfrm>
                <a:off x="4250520" y="2900160"/>
                <a:ext cx="589320" cy="566640"/>
                <a:chOff x="4250520" y="2900160"/>
                <a:chExt cx="589320" cy="566640"/>
              </a:xfrm>
            </p:grpSpPr>
            <p:sp>
              <p:nvSpPr>
                <p:cNvPr id="840" name="AutoShape 1230"/>
                <p:cNvSpPr/>
                <p:nvPr/>
              </p:nvSpPr>
              <p:spPr>
                <a:xfrm rot="18696600">
                  <a:off x="4442040" y="3017880"/>
                  <a:ext cx="295200" cy="406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2700" y="21600"/>
                      </a:lnTo>
                      <a:lnTo>
                        <a:pt x="189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Oval 1231"/>
                <p:cNvSpPr/>
                <p:nvPr/>
              </p:nvSpPr>
              <p:spPr>
                <a:xfrm rot="18696600">
                  <a:off x="4294800" y="2966400"/>
                  <a:ext cx="289800" cy="24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2" name="Oval 1232"/>
              <p:cNvSpPr/>
              <p:nvPr/>
            </p:nvSpPr>
            <p:spPr>
              <a:xfrm rot="18696600">
                <a:off x="4615200" y="3236400"/>
                <a:ext cx="252360" cy="24588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924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AutoShape 1233"/>
              <p:cNvSpPr/>
              <p:nvPr/>
            </p:nvSpPr>
            <p:spPr>
              <a:xfrm rot="18696600">
                <a:off x="4692240" y="3312720"/>
                <a:ext cx="109800" cy="95040"/>
              </a:xfrm>
              <a:prstGeom prst="hexagon">
                <a:avLst>
                  <a:gd name="adj" fmla="val 28883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" name="Group 1234"/>
            <p:cNvGrpSpPr/>
            <p:nvPr/>
          </p:nvGrpSpPr>
          <p:grpSpPr>
            <a:xfrm>
              <a:off x="3880440" y="2575800"/>
              <a:ext cx="659880" cy="643680"/>
              <a:chOff x="3880440" y="2575800"/>
              <a:chExt cx="659880" cy="643680"/>
            </a:xfrm>
          </p:grpSpPr>
          <p:grpSp>
            <p:nvGrpSpPr>
              <p:cNvPr id="845" name="Group 1235"/>
              <p:cNvGrpSpPr/>
              <p:nvPr/>
            </p:nvGrpSpPr>
            <p:grpSpPr>
              <a:xfrm>
                <a:off x="3958560" y="2643840"/>
                <a:ext cx="581760" cy="575640"/>
                <a:chOff x="3958560" y="2643840"/>
                <a:chExt cx="581760" cy="575640"/>
              </a:xfrm>
            </p:grpSpPr>
            <p:sp>
              <p:nvSpPr>
                <p:cNvPr id="846" name="AutoShape 1236"/>
                <p:cNvSpPr/>
                <p:nvPr/>
              </p:nvSpPr>
              <p:spPr>
                <a:xfrm flipV="1" rot="18797400">
                  <a:off x="4060080" y="2687040"/>
                  <a:ext cx="295200" cy="406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2700" y="21600"/>
                      </a:lnTo>
                      <a:lnTo>
                        <a:pt x="189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Oval 1237"/>
                <p:cNvSpPr/>
                <p:nvPr/>
              </p:nvSpPr>
              <p:spPr>
                <a:xfrm flipV="1" rot="18797400">
                  <a:off x="4205160" y="2903400"/>
                  <a:ext cx="289800" cy="249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8" name="Oval 1238"/>
              <p:cNvSpPr/>
              <p:nvPr/>
            </p:nvSpPr>
            <p:spPr>
              <a:xfrm flipV="1" rot="18797400">
                <a:off x="3930120" y="2628720"/>
                <a:ext cx="252360" cy="2458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AutoShape 1239"/>
              <p:cNvSpPr/>
              <p:nvPr/>
            </p:nvSpPr>
            <p:spPr>
              <a:xfrm flipV="1" rot="18797400">
                <a:off x="3999600" y="2697840"/>
                <a:ext cx="109800" cy="95040"/>
              </a:xfrm>
              <a:prstGeom prst="hexagon">
                <a:avLst>
                  <a:gd name="adj" fmla="val 28883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0" name="Group 1240"/>
          <p:cNvGrpSpPr/>
          <p:nvPr/>
        </p:nvGrpSpPr>
        <p:grpSpPr>
          <a:xfrm>
            <a:off x="3426840" y="3172680"/>
            <a:ext cx="1289520" cy="1290240"/>
            <a:chOff x="3426840" y="3172680"/>
            <a:chExt cx="1289520" cy="1290240"/>
          </a:xfrm>
        </p:grpSpPr>
        <p:sp>
          <p:nvSpPr>
            <p:cNvPr id="851" name="AutoShape 1241"/>
            <p:cNvSpPr/>
            <p:nvPr/>
          </p:nvSpPr>
          <p:spPr>
            <a:xfrm>
              <a:off x="3577320" y="3322440"/>
              <a:ext cx="988920" cy="990360"/>
            </a:xfrm>
            <a:prstGeom prst="sun">
              <a:avLst>
                <a:gd name="adj" fmla="val 43212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AutoShape 1242"/>
            <p:cNvSpPr/>
            <p:nvPr/>
          </p:nvSpPr>
          <p:spPr>
            <a:xfrm>
              <a:off x="3560760" y="3306600"/>
              <a:ext cx="1020600" cy="1022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492" y="10800"/>
                  </a:moveTo>
                  <a:cubicBezTo>
                    <a:pt x="492" y="16493"/>
                    <a:pt x="5107" y="21108"/>
                    <a:pt x="10800" y="21108"/>
                  </a:cubicBezTo>
                  <a:cubicBezTo>
                    <a:pt x="16493" y="21108"/>
                    <a:pt x="21108" y="16493"/>
                    <a:pt x="21108" y="10800"/>
                  </a:cubicBezTo>
                  <a:cubicBezTo>
                    <a:pt x="21108" y="5107"/>
                    <a:pt x="16493" y="492"/>
                    <a:pt x="10800" y="492"/>
                  </a:cubicBezTo>
                  <a:cubicBezTo>
                    <a:pt x="5107" y="492"/>
                    <a:pt x="492" y="5107"/>
                    <a:pt x="492" y="10800"/>
                  </a:cubicBez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AutoShape 1243"/>
            <p:cNvSpPr/>
            <p:nvPr/>
          </p:nvSpPr>
          <p:spPr>
            <a:xfrm rot="1330200">
              <a:off x="3576960" y="3322440"/>
              <a:ext cx="988920" cy="990360"/>
            </a:xfrm>
            <a:prstGeom prst="sun">
              <a:avLst>
                <a:gd name="adj" fmla="val 43212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Group 1244"/>
          <p:cNvGrpSpPr/>
          <p:nvPr/>
        </p:nvGrpSpPr>
        <p:grpSpPr>
          <a:xfrm>
            <a:off x="5179320" y="3186720"/>
            <a:ext cx="1289880" cy="1290600"/>
            <a:chOff x="5179320" y="3186720"/>
            <a:chExt cx="1289880" cy="1290600"/>
          </a:xfrm>
        </p:grpSpPr>
        <p:sp>
          <p:nvSpPr>
            <p:cNvPr id="855" name="AutoShape 1245"/>
            <p:cNvSpPr/>
            <p:nvPr/>
          </p:nvSpPr>
          <p:spPr>
            <a:xfrm>
              <a:off x="5329800" y="3336840"/>
              <a:ext cx="989280" cy="990360"/>
            </a:xfrm>
            <a:prstGeom prst="sun">
              <a:avLst>
                <a:gd name="adj" fmla="val 43212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AutoShape 1246"/>
            <p:cNvSpPr/>
            <p:nvPr/>
          </p:nvSpPr>
          <p:spPr>
            <a:xfrm>
              <a:off x="5313240" y="3321000"/>
              <a:ext cx="1020960" cy="1022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492" y="10800"/>
                  </a:moveTo>
                  <a:cubicBezTo>
                    <a:pt x="492" y="16493"/>
                    <a:pt x="5107" y="21108"/>
                    <a:pt x="10800" y="21108"/>
                  </a:cubicBezTo>
                  <a:cubicBezTo>
                    <a:pt x="16493" y="21108"/>
                    <a:pt x="21108" y="16493"/>
                    <a:pt x="21108" y="10800"/>
                  </a:cubicBezTo>
                  <a:cubicBezTo>
                    <a:pt x="21108" y="5107"/>
                    <a:pt x="16493" y="492"/>
                    <a:pt x="10800" y="492"/>
                  </a:cubicBezTo>
                  <a:cubicBezTo>
                    <a:pt x="5107" y="492"/>
                    <a:pt x="492" y="5107"/>
                    <a:pt x="492" y="10800"/>
                  </a:cubicBez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AutoShape 1247"/>
            <p:cNvSpPr/>
            <p:nvPr/>
          </p:nvSpPr>
          <p:spPr>
            <a:xfrm rot="1330200">
              <a:off x="5329440" y="3336480"/>
              <a:ext cx="989280" cy="990360"/>
            </a:xfrm>
            <a:prstGeom prst="sun">
              <a:avLst>
                <a:gd name="adj" fmla="val 43212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Group 1248"/>
          <p:cNvGrpSpPr/>
          <p:nvPr/>
        </p:nvGrpSpPr>
        <p:grpSpPr>
          <a:xfrm>
            <a:off x="4568400" y="1957680"/>
            <a:ext cx="1037520" cy="876960"/>
            <a:chOff x="4568400" y="1957680"/>
            <a:chExt cx="1037520" cy="876960"/>
          </a:xfrm>
        </p:grpSpPr>
        <p:grpSp>
          <p:nvGrpSpPr>
            <p:cNvPr id="859" name="Group 1249"/>
            <p:cNvGrpSpPr/>
            <p:nvPr/>
          </p:nvGrpSpPr>
          <p:grpSpPr>
            <a:xfrm>
              <a:off x="4568400" y="1957680"/>
              <a:ext cx="499320" cy="619920"/>
              <a:chOff x="4568400" y="1957680"/>
              <a:chExt cx="499320" cy="619920"/>
            </a:xfrm>
          </p:grpSpPr>
          <p:grpSp>
            <p:nvGrpSpPr>
              <p:cNvPr id="860" name="Group 1250"/>
              <p:cNvGrpSpPr/>
              <p:nvPr/>
            </p:nvGrpSpPr>
            <p:grpSpPr>
              <a:xfrm>
                <a:off x="4568400" y="1957680"/>
                <a:ext cx="499320" cy="619920"/>
                <a:chOff x="4568400" y="1957680"/>
                <a:chExt cx="499320" cy="619920"/>
              </a:xfrm>
            </p:grpSpPr>
            <p:sp>
              <p:nvSpPr>
                <p:cNvPr id="861" name="AutoShape 1251"/>
                <p:cNvSpPr/>
                <p:nvPr/>
              </p:nvSpPr>
              <p:spPr>
                <a:xfrm rot="19618200">
                  <a:off x="4768560" y="2076840"/>
                  <a:ext cx="179640" cy="491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1556" y="21600"/>
                      </a:lnTo>
                      <a:lnTo>
                        <a:pt x="20044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18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AutoShape 1252"/>
                <p:cNvSpPr/>
                <p:nvPr/>
              </p:nvSpPr>
              <p:spPr>
                <a:xfrm rot="3596400">
                  <a:off x="4622760" y="1981440"/>
                  <a:ext cx="191520" cy="23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934" y="2201"/>
                        <a:pt x="12267" y="5080"/>
                        <a:pt x="12267" y="10800"/>
                      </a:cubicBezTo>
                      <a:cubicBezTo>
                        <a:pt x="12267" y="16520"/>
                        <a:pt x="16934" y="1939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62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3" name="AutoShape 1253"/>
              <p:cNvSpPr/>
              <p:nvPr/>
            </p:nvSpPr>
            <p:spPr>
              <a:xfrm rot="19618800">
                <a:off x="4734720" y="2203560"/>
                <a:ext cx="181080" cy="122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AutoShape 1254"/>
              <p:cNvSpPr/>
              <p:nvPr/>
            </p:nvSpPr>
            <p:spPr>
              <a:xfrm rot="19482000">
                <a:off x="4758120" y="2203920"/>
                <a:ext cx="115920" cy="109440"/>
              </a:xfrm>
              <a:custGeom>
                <a:avLst/>
                <a:gdLst/>
                <a:ahLst/>
                <a:rect l="l" t="t" r="r" b="b"/>
                <a:pathLst>
                  <a:path w="69" h="73">
                    <a:moveTo>
                      <a:pt x="0" y="27"/>
                    </a:moveTo>
                    <a:lnTo>
                      <a:pt x="26" y="27"/>
                    </a:lnTo>
                    <a:lnTo>
                      <a:pt x="34" y="0"/>
                    </a:lnTo>
                    <a:lnTo>
                      <a:pt x="42" y="27"/>
                    </a:lnTo>
                    <a:lnTo>
                      <a:pt x="68" y="27"/>
                    </a:lnTo>
                    <a:lnTo>
                      <a:pt x="47" y="45"/>
                    </a:lnTo>
                    <a:lnTo>
                      <a:pt x="55" y="72"/>
                    </a:lnTo>
                    <a:lnTo>
                      <a:pt x="34" y="55"/>
                    </a:lnTo>
                    <a:lnTo>
                      <a:pt x="13" y="72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Group 1255"/>
            <p:cNvGrpSpPr/>
            <p:nvPr/>
          </p:nvGrpSpPr>
          <p:grpSpPr>
            <a:xfrm>
              <a:off x="4875120" y="2387520"/>
              <a:ext cx="730800" cy="447120"/>
              <a:chOff x="4875120" y="2387520"/>
              <a:chExt cx="730800" cy="447120"/>
            </a:xfrm>
          </p:grpSpPr>
          <p:grpSp>
            <p:nvGrpSpPr>
              <p:cNvPr id="866" name="Group 1256"/>
              <p:cNvGrpSpPr/>
              <p:nvPr/>
            </p:nvGrpSpPr>
            <p:grpSpPr>
              <a:xfrm>
                <a:off x="4875120" y="2387520"/>
                <a:ext cx="730800" cy="447120"/>
                <a:chOff x="4875120" y="2387520"/>
                <a:chExt cx="730800" cy="447120"/>
              </a:xfrm>
            </p:grpSpPr>
            <p:sp>
              <p:nvSpPr>
                <p:cNvPr id="867" name="AutoShape 1257"/>
                <p:cNvSpPr/>
                <p:nvPr/>
              </p:nvSpPr>
              <p:spPr>
                <a:xfrm rot="17776200">
                  <a:off x="5101920" y="2428920"/>
                  <a:ext cx="179640" cy="36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4308" y="21600"/>
                      </a:lnTo>
                      <a:lnTo>
                        <a:pt x="17292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54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Oval 1258"/>
                <p:cNvSpPr/>
                <p:nvPr/>
              </p:nvSpPr>
              <p:spPr>
                <a:xfrm rot="18315000">
                  <a:off x="4913280" y="2423160"/>
                  <a:ext cx="186480" cy="19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1259"/>
                <p:cNvSpPr/>
                <p:nvPr/>
              </p:nvSpPr>
              <p:spPr>
                <a:xfrm rot="6210000">
                  <a:off x="5357880" y="2571840"/>
                  <a:ext cx="174960" cy="287640"/>
                </a:xfrm>
                <a:custGeom>
                  <a:avLst/>
                  <a:gdLst/>
                  <a:ahLst/>
                  <a:rect l="l" t="t" r="r" b="b"/>
                  <a:pathLst>
                    <a:path w="1402" h="2302">
                      <a:moveTo>
                        <a:pt x="361" y="1127"/>
                      </a:moveTo>
                      <a:lnTo>
                        <a:pt x="280" y="1116"/>
                      </a:lnTo>
                      <a:lnTo>
                        <a:pt x="373" y="711"/>
                      </a:lnTo>
                      <a:lnTo>
                        <a:pt x="373" y="709"/>
                      </a:lnTo>
                      <a:lnTo>
                        <a:pt x="375" y="705"/>
                      </a:lnTo>
                      <a:lnTo>
                        <a:pt x="375" y="703"/>
                      </a:lnTo>
                      <a:lnTo>
                        <a:pt x="375" y="700"/>
                      </a:lnTo>
                      <a:lnTo>
                        <a:pt x="375" y="698"/>
                      </a:lnTo>
                      <a:lnTo>
                        <a:pt x="375" y="696"/>
                      </a:lnTo>
                      <a:lnTo>
                        <a:pt x="375" y="692"/>
                      </a:lnTo>
                      <a:lnTo>
                        <a:pt x="375" y="690"/>
                      </a:lnTo>
                      <a:lnTo>
                        <a:pt x="375" y="684"/>
                      </a:lnTo>
                      <a:lnTo>
                        <a:pt x="375" y="681"/>
                      </a:lnTo>
                      <a:lnTo>
                        <a:pt x="375" y="675"/>
                      </a:lnTo>
                      <a:lnTo>
                        <a:pt x="375" y="669"/>
                      </a:lnTo>
                      <a:lnTo>
                        <a:pt x="371" y="665"/>
                      </a:lnTo>
                      <a:lnTo>
                        <a:pt x="371" y="660"/>
                      </a:lnTo>
                      <a:lnTo>
                        <a:pt x="369" y="654"/>
                      </a:lnTo>
                      <a:lnTo>
                        <a:pt x="367" y="652"/>
                      </a:lnTo>
                      <a:lnTo>
                        <a:pt x="365" y="646"/>
                      </a:lnTo>
                      <a:lnTo>
                        <a:pt x="363" y="641"/>
                      </a:lnTo>
                      <a:lnTo>
                        <a:pt x="361" y="637"/>
                      </a:lnTo>
                      <a:lnTo>
                        <a:pt x="358" y="633"/>
                      </a:lnTo>
                      <a:lnTo>
                        <a:pt x="356" y="629"/>
                      </a:lnTo>
                      <a:lnTo>
                        <a:pt x="354" y="623"/>
                      </a:lnTo>
                      <a:lnTo>
                        <a:pt x="350" y="620"/>
                      </a:lnTo>
                      <a:lnTo>
                        <a:pt x="346" y="616"/>
                      </a:lnTo>
                      <a:lnTo>
                        <a:pt x="342" y="612"/>
                      </a:lnTo>
                      <a:lnTo>
                        <a:pt x="339" y="610"/>
                      </a:lnTo>
                      <a:lnTo>
                        <a:pt x="335" y="606"/>
                      </a:lnTo>
                      <a:lnTo>
                        <a:pt x="331" y="603"/>
                      </a:lnTo>
                      <a:lnTo>
                        <a:pt x="325" y="601"/>
                      </a:lnTo>
                      <a:lnTo>
                        <a:pt x="321" y="597"/>
                      </a:lnTo>
                      <a:lnTo>
                        <a:pt x="318" y="595"/>
                      </a:lnTo>
                      <a:lnTo>
                        <a:pt x="312" y="593"/>
                      </a:lnTo>
                      <a:lnTo>
                        <a:pt x="306" y="591"/>
                      </a:lnTo>
                      <a:lnTo>
                        <a:pt x="302" y="589"/>
                      </a:lnTo>
                      <a:lnTo>
                        <a:pt x="299" y="589"/>
                      </a:lnTo>
                      <a:lnTo>
                        <a:pt x="295" y="587"/>
                      </a:lnTo>
                      <a:lnTo>
                        <a:pt x="291" y="587"/>
                      </a:lnTo>
                      <a:lnTo>
                        <a:pt x="287" y="585"/>
                      </a:lnTo>
                      <a:lnTo>
                        <a:pt x="285" y="585"/>
                      </a:lnTo>
                      <a:lnTo>
                        <a:pt x="283" y="585"/>
                      </a:lnTo>
                      <a:lnTo>
                        <a:pt x="280" y="585"/>
                      </a:lnTo>
                      <a:lnTo>
                        <a:pt x="276" y="585"/>
                      </a:lnTo>
                      <a:lnTo>
                        <a:pt x="274" y="585"/>
                      </a:lnTo>
                      <a:lnTo>
                        <a:pt x="272" y="585"/>
                      </a:lnTo>
                      <a:lnTo>
                        <a:pt x="268" y="585"/>
                      </a:lnTo>
                      <a:lnTo>
                        <a:pt x="266" y="585"/>
                      </a:lnTo>
                      <a:lnTo>
                        <a:pt x="263" y="585"/>
                      </a:lnTo>
                      <a:lnTo>
                        <a:pt x="261" y="587"/>
                      </a:lnTo>
                      <a:lnTo>
                        <a:pt x="259" y="587"/>
                      </a:lnTo>
                      <a:lnTo>
                        <a:pt x="255" y="587"/>
                      </a:lnTo>
                      <a:lnTo>
                        <a:pt x="253" y="589"/>
                      </a:lnTo>
                      <a:lnTo>
                        <a:pt x="249" y="589"/>
                      </a:lnTo>
                      <a:lnTo>
                        <a:pt x="247" y="589"/>
                      </a:lnTo>
                      <a:lnTo>
                        <a:pt x="243" y="591"/>
                      </a:lnTo>
                      <a:lnTo>
                        <a:pt x="240" y="591"/>
                      </a:lnTo>
                      <a:lnTo>
                        <a:pt x="238" y="593"/>
                      </a:lnTo>
                      <a:lnTo>
                        <a:pt x="236" y="595"/>
                      </a:lnTo>
                      <a:lnTo>
                        <a:pt x="232" y="595"/>
                      </a:lnTo>
                      <a:lnTo>
                        <a:pt x="230" y="597"/>
                      </a:lnTo>
                      <a:lnTo>
                        <a:pt x="228" y="599"/>
                      </a:lnTo>
                      <a:lnTo>
                        <a:pt x="224" y="601"/>
                      </a:lnTo>
                      <a:lnTo>
                        <a:pt x="223" y="601"/>
                      </a:lnTo>
                      <a:lnTo>
                        <a:pt x="219" y="603"/>
                      </a:lnTo>
                      <a:lnTo>
                        <a:pt x="217" y="604"/>
                      </a:lnTo>
                      <a:lnTo>
                        <a:pt x="211" y="608"/>
                      </a:lnTo>
                      <a:lnTo>
                        <a:pt x="207" y="612"/>
                      </a:lnTo>
                      <a:lnTo>
                        <a:pt x="204" y="616"/>
                      </a:lnTo>
                      <a:lnTo>
                        <a:pt x="198" y="618"/>
                      </a:lnTo>
                      <a:lnTo>
                        <a:pt x="194" y="623"/>
                      </a:lnTo>
                      <a:lnTo>
                        <a:pt x="188" y="627"/>
                      </a:lnTo>
                      <a:lnTo>
                        <a:pt x="185" y="633"/>
                      </a:lnTo>
                      <a:lnTo>
                        <a:pt x="181" y="637"/>
                      </a:lnTo>
                      <a:lnTo>
                        <a:pt x="177" y="641"/>
                      </a:lnTo>
                      <a:lnTo>
                        <a:pt x="173" y="646"/>
                      </a:lnTo>
                      <a:lnTo>
                        <a:pt x="169" y="652"/>
                      </a:lnTo>
                      <a:lnTo>
                        <a:pt x="166" y="656"/>
                      </a:lnTo>
                      <a:lnTo>
                        <a:pt x="162" y="662"/>
                      </a:lnTo>
                      <a:lnTo>
                        <a:pt x="160" y="665"/>
                      </a:lnTo>
                      <a:lnTo>
                        <a:pt x="158" y="669"/>
                      </a:lnTo>
                      <a:lnTo>
                        <a:pt x="158" y="671"/>
                      </a:lnTo>
                      <a:lnTo>
                        <a:pt x="156" y="673"/>
                      </a:lnTo>
                      <a:lnTo>
                        <a:pt x="154" y="677"/>
                      </a:lnTo>
                      <a:lnTo>
                        <a:pt x="152" y="679"/>
                      </a:lnTo>
                      <a:lnTo>
                        <a:pt x="152" y="681"/>
                      </a:lnTo>
                      <a:lnTo>
                        <a:pt x="150" y="684"/>
                      </a:lnTo>
                      <a:lnTo>
                        <a:pt x="150" y="688"/>
                      </a:lnTo>
                      <a:lnTo>
                        <a:pt x="146" y="694"/>
                      </a:lnTo>
                      <a:lnTo>
                        <a:pt x="145" y="701"/>
                      </a:lnTo>
                      <a:lnTo>
                        <a:pt x="143" y="709"/>
                      </a:lnTo>
                      <a:lnTo>
                        <a:pt x="139" y="717"/>
                      </a:lnTo>
                      <a:lnTo>
                        <a:pt x="137" y="724"/>
                      </a:lnTo>
                      <a:lnTo>
                        <a:pt x="135" y="732"/>
                      </a:lnTo>
                      <a:lnTo>
                        <a:pt x="131" y="739"/>
                      </a:lnTo>
                      <a:lnTo>
                        <a:pt x="129" y="747"/>
                      </a:lnTo>
                      <a:lnTo>
                        <a:pt x="126" y="755"/>
                      </a:lnTo>
                      <a:lnTo>
                        <a:pt x="124" y="760"/>
                      </a:lnTo>
                      <a:lnTo>
                        <a:pt x="122" y="768"/>
                      </a:lnTo>
                      <a:lnTo>
                        <a:pt x="120" y="776"/>
                      </a:lnTo>
                      <a:lnTo>
                        <a:pt x="116" y="781"/>
                      </a:lnTo>
                      <a:lnTo>
                        <a:pt x="114" y="789"/>
                      </a:lnTo>
                      <a:lnTo>
                        <a:pt x="112" y="796"/>
                      </a:lnTo>
                      <a:lnTo>
                        <a:pt x="110" y="804"/>
                      </a:lnTo>
                      <a:lnTo>
                        <a:pt x="107" y="812"/>
                      </a:lnTo>
                      <a:lnTo>
                        <a:pt x="107" y="817"/>
                      </a:lnTo>
                      <a:lnTo>
                        <a:pt x="103" y="823"/>
                      </a:lnTo>
                      <a:lnTo>
                        <a:pt x="101" y="831"/>
                      </a:lnTo>
                      <a:lnTo>
                        <a:pt x="97" y="836"/>
                      </a:lnTo>
                      <a:lnTo>
                        <a:pt x="97" y="844"/>
                      </a:lnTo>
                      <a:lnTo>
                        <a:pt x="93" y="852"/>
                      </a:lnTo>
                      <a:lnTo>
                        <a:pt x="93" y="857"/>
                      </a:lnTo>
                      <a:lnTo>
                        <a:pt x="89" y="865"/>
                      </a:lnTo>
                      <a:lnTo>
                        <a:pt x="88" y="871"/>
                      </a:lnTo>
                      <a:lnTo>
                        <a:pt x="86" y="878"/>
                      </a:lnTo>
                      <a:lnTo>
                        <a:pt x="84" y="884"/>
                      </a:lnTo>
                      <a:lnTo>
                        <a:pt x="82" y="892"/>
                      </a:lnTo>
                      <a:lnTo>
                        <a:pt x="80" y="899"/>
                      </a:lnTo>
                      <a:lnTo>
                        <a:pt x="78" y="907"/>
                      </a:lnTo>
                      <a:lnTo>
                        <a:pt x="74" y="912"/>
                      </a:lnTo>
                      <a:lnTo>
                        <a:pt x="72" y="920"/>
                      </a:lnTo>
                      <a:lnTo>
                        <a:pt x="72" y="926"/>
                      </a:lnTo>
                      <a:lnTo>
                        <a:pt x="68" y="931"/>
                      </a:lnTo>
                      <a:lnTo>
                        <a:pt x="67" y="939"/>
                      </a:lnTo>
                      <a:lnTo>
                        <a:pt x="65" y="945"/>
                      </a:lnTo>
                      <a:lnTo>
                        <a:pt x="63" y="952"/>
                      </a:lnTo>
                      <a:lnTo>
                        <a:pt x="59" y="958"/>
                      </a:lnTo>
                      <a:lnTo>
                        <a:pt x="57" y="966"/>
                      </a:lnTo>
                      <a:lnTo>
                        <a:pt x="55" y="971"/>
                      </a:lnTo>
                      <a:lnTo>
                        <a:pt x="53" y="979"/>
                      </a:lnTo>
                      <a:lnTo>
                        <a:pt x="51" y="987"/>
                      </a:lnTo>
                      <a:lnTo>
                        <a:pt x="49" y="994"/>
                      </a:lnTo>
                      <a:lnTo>
                        <a:pt x="48" y="1000"/>
                      </a:lnTo>
                      <a:lnTo>
                        <a:pt x="46" y="1007"/>
                      </a:lnTo>
                      <a:lnTo>
                        <a:pt x="44" y="1015"/>
                      </a:lnTo>
                      <a:lnTo>
                        <a:pt x="42" y="1021"/>
                      </a:lnTo>
                      <a:lnTo>
                        <a:pt x="42" y="1028"/>
                      </a:lnTo>
                      <a:lnTo>
                        <a:pt x="38" y="1036"/>
                      </a:lnTo>
                      <a:lnTo>
                        <a:pt x="36" y="1042"/>
                      </a:lnTo>
                      <a:lnTo>
                        <a:pt x="36" y="1049"/>
                      </a:lnTo>
                      <a:lnTo>
                        <a:pt x="34" y="1057"/>
                      </a:lnTo>
                      <a:lnTo>
                        <a:pt x="30" y="1063"/>
                      </a:lnTo>
                      <a:lnTo>
                        <a:pt x="30" y="1070"/>
                      </a:lnTo>
                      <a:lnTo>
                        <a:pt x="29" y="1078"/>
                      </a:lnTo>
                      <a:lnTo>
                        <a:pt x="27" y="1085"/>
                      </a:lnTo>
                      <a:lnTo>
                        <a:pt x="25" y="1093"/>
                      </a:lnTo>
                      <a:lnTo>
                        <a:pt x="23" y="1101"/>
                      </a:lnTo>
                      <a:lnTo>
                        <a:pt x="21" y="1108"/>
                      </a:lnTo>
                      <a:lnTo>
                        <a:pt x="19" y="1116"/>
                      </a:lnTo>
                      <a:lnTo>
                        <a:pt x="17" y="1123"/>
                      </a:lnTo>
                      <a:lnTo>
                        <a:pt x="17" y="1131"/>
                      </a:lnTo>
                      <a:lnTo>
                        <a:pt x="15" y="1139"/>
                      </a:lnTo>
                      <a:lnTo>
                        <a:pt x="13" y="1148"/>
                      </a:lnTo>
                      <a:lnTo>
                        <a:pt x="10" y="1158"/>
                      </a:lnTo>
                      <a:lnTo>
                        <a:pt x="10" y="1165"/>
                      </a:lnTo>
                      <a:lnTo>
                        <a:pt x="8" y="1175"/>
                      </a:lnTo>
                      <a:lnTo>
                        <a:pt x="6" y="1182"/>
                      </a:lnTo>
                      <a:lnTo>
                        <a:pt x="6" y="1192"/>
                      </a:lnTo>
                      <a:lnTo>
                        <a:pt x="4" y="1201"/>
                      </a:lnTo>
                      <a:lnTo>
                        <a:pt x="2" y="1211"/>
                      </a:lnTo>
                      <a:lnTo>
                        <a:pt x="2" y="1218"/>
                      </a:lnTo>
                      <a:lnTo>
                        <a:pt x="0" y="1230"/>
                      </a:lnTo>
                      <a:lnTo>
                        <a:pt x="0" y="1237"/>
                      </a:lnTo>
                      <a:lnTo>
                        <a:pt x="0" y="1247"/>
                      </a:lnTo>
                      <a:lnTo>
                        <a:pt x="0" y="1257"/>
                      </a:lnTo>
                      <a:lnTo>
                        <a:pt x="0" y="1268"/>
                      </a:lnTo>
                      <a:lnTo>
                        <a:pt x="0" y="1276"/>
                      </a:lnTo>
                      <a:lnTo>
                        <a:pt x="0" y="1285"/>
                      </a:lnTo>
                      <a:lnTo>
                        <a:pt x="0" y="1296"/>
                      </a:lnTo>
                      <a:lnTo>
                        <a:pt x="0" y="1304"/>
                      </a:lnTo>
                      <a:lnTo>
                        <a:pt x="0" y="1314"/>
                      </a:lnTo>
                      <a:lnTo>
                        <a:pt x="0" y="1323"/>
                      </a:lnTo>
                      <a:lnTo>
                        <a:pt x="0" y="1333"/>
                      </a:lnTo>
                      <a:lnTo>
                        <a:pt x="2" y="1342"/>
                      </a:lnTo>
                      <a:lnTo>
                        <a:pt x="2" y="1352"/>
                      </a:lnTo>
                      <a:lnTo>
                        <a:pt x="4" y="1363"/>
                      </a:lnTo>
                      <a:lnTo>
                        <a:pt x="4" y="1371"/>
                      </a:lnTo>
                      <a:lnTo>
                        <a:pt x="6" y="1382"/>
                      </a:lnTo>
                      <a:lnTo>
                        <a:pt x="8" y="1390"/>
                      </a:lnTo>
                      <a:lnTo>
                        <a:pt x="8" y="1401"/>
                      </a:lnTo>
                      <a:lnTo>
                        <a:pt x="10" y="1409"/>
                      </a:lnTo>
                      <a:lnTo>
                        <a:pt x="11" y="1420"/>
                      </a:lnTo>
                      <a:lnTo>
                        <a:pt x="13" y="1429"/>
                      </a:lnTo>
                      <a:lnTo>
                        <a:pt x="15" y="1439"/>
                      </a:lnTo>
                      <a:lnTo>
                        <a:pt x="17" y="1448"/>
                      </a:lnTo>
                      <a:lnTo>
                        <a:pt x="19" y="1458"/>
                      </a:lnTo>
                      <a:lnTo>
                        <a:pt x="21" y="1468"/>
                      </a:lnTo>
                      <a:lnTo>
                        <a:pt x="23" y="1477"/>
                      </a:lnTo>
                      <a:lnTo>
                        <a:pt x="27" y="1487"/>
                      </a:lnTo>
                      <a:lnTo>
                        <a:pt x="29" y="1496"/>
                      </a:lnTo>
                      <a:lnTo>
                        <a:pt x="30" y="1506"/>
                      </a:lnTo>
                      <a:lnTo>
                        <a:pt x="34" y="1515"/>
                      </a:lnTo>
                      <a:lnTo>
                        <a:pt x="36" y="1525"/>
                      </a:lnTo>
                      <a:lnTo>
                        <a:pt x="38" y="1534"/>
                      </a:lnTo>
                      <a:lnTo>
                        <a:pt x="42" y="1544"/>
                      </a:lnTo>
                      <a:lnTo>
                        <a:pt x="46" y="1553"/>
                      </a:lnTo>
                      <a:lnTo>
                        <a:pt x="48" y="1561"/>
                      </a:lnTo>
                      <a:lnTo>
                        <a:pt x="51" y="1572"/>
                      </a:lnTo>
                      <a:lnTo>
                        <a:pt x="55" y="1580"/>
                      </a:lnTo>
                      <a:lnTo>
                        <a:pt x="59" y="1589"/>
                      </a:lnTo>
                      <a:lnTo>
                        <a:pt x="63" y="1599"/>
                      </a:lnTo>
                      <a:lnTo>
                        <a:pt x="67" y="1608"/>
                      </a:lnTo>
                      <a:lnTo>
                        <a:pt x="68" y="1616"/>
                      </a:lnTo>
                      <a:lnTo>
                        <a:pt x="74" y="1627"/>
                      </a:lnTo>
                      <a:lnTo>
                        <a:pt x="78" y="1635"/>
                      </a:lnTo>
                      <a:lnTo>
                        <a:pt x="82" y="1644"/>
                      </a:lnTo>
                      <a:lnTo>
                        <a:pt x="86" y="1652"/>
                      </a:lnTo>
                      <a:lnTo>
                        <a:pt x="89" y="1661"/>
                      </a:lnTo>
                      <a:lnTo>
                        <a:pt x="95" y="1669"/>
                      </a:lnTo>
                      <a:lnTo>
                        <a:pt x="99" y="1679"/>
                      </a:lnTo>
                      <a:lnTo>
                        <a:pt x="103" y="1688"/>
                      </a:lnTo>
                      <a:lnTo>
                        <a:pt x="108" y="1696"/>
                      </a:lnTo>
                      <a:lnTo>
                        <a:pt x="114" y="1703"/>
                      </a:lnTo>
                      <a:lnTo>
                        <a:pt x="118" y="1713"/>
                      </a:lnTo>
                      <a:lnTo>
                        <a:pt x="124" y="1722"/>
                      </a:lnTo>
                      <a:lnTo>
                        <a:pt x="127" y="1732"/>
                      </a:lnTo>
                      <a:lnTo>
                        <a:pt x="131" y="1736"/>
                      </a:lnTo>
                      <a:lnTo>
                        <a:pt x="135" y="1739"/>
                      </a:lnTo>
                      <a:lnTo>
                        <a:pt x="135" y="1743"/>
                      </a:lnTo>
                      <a:lnTo>
                        <a:pt x="137" y="1745"/>
                      </a:lnTo>
                      <a:lnTo>
                        <a:pt x="139" y="1747"/>
                      </a:lnTo>
                      <a:lnTo>
                        <a:pt x="141" y="1751"/>
                      </a:lnTo>
                      <a:lnTo>
                        <a:pt x="143" y="1755"/>
                      </a:lnTo>
                      <a:lnTo>
                        <a:pt x="143" y="1756"/>
                      </a:lnTo>
                      <a:lnTo>
                        <a:pt x="145" y="1760"/>
                      </a:lnTo>
                      <a:lnTo>
                        <a:pt x="146" y="1762"/>
                      </a:lnTo>
                      <a:lnTo>
                        <a:pt x="148" y="1766"/>
                      </a:lnTo>
                      <a:lnTo>
                        <a:pt x="150" y="1768"/>
                      </a:lnTo>
                      <a:lnTo>
                        <a:pt x="152" y="1770"/>
                      </a:lnTo>
                      <a:lnTo>
                        <a:pt x="156" y="1774"/>
                      </a:lnTo>
                      <a:lnTo>
                        <a:pt x="158" y="1777"/>
                      </a:lnTo>
                      <a:lnTo>
                        <a:pt x="160" y="1779"/>
                      </a:lnTo>
                      <a:lnTo>
                        <a:pt x="160" y="1783"/>
                      </a:lnTo>
                      <a:lnTo>
                        <a:pt x="162" y="1787"/>
                      </a:lnTo>
                      <a:lnTo>
                        <a:pt x="166" y="1789"/>
                      </a:lnTo>
                      <a:lnTo>
                        <a:pt x="166" y="1791"/>
                      </a:lnTo>
                      <a:lnTo>
                        <a:pt x="167" y="1794"/>
                      </a:lnTo>
                      <a:lnTo>
                        <a:pt x="169" y="1796"/>
                      </a:lnTo>
                      <a:lnTo>
                        <a:pt x="171" y="1800"/>
                      </a:lnTo>
                      <a:lnTo>
                        <a:pt x="173" y="1802"/>
                      </a:lnTo>
                      <a:lnTo>
                        <a:pt x="175" y="1806"/>
                      </a:lnTo>
                      <a:lnTo>
                        <a:pt x="177" y="1808"/>
                      </a:lnTo>
                      <a:lnTo>
                        <a:pt x="179" y="1812"/>
                      </a:lnTo>
                      <a:lnTo>
                        <a:pt x="181" y="1815"/>
                      </a:lnTo>
                      <a:lnTo>
                        <a:pt x="183" y="1817"/>
                      </a:lnTo>
                      <a:lnTo>
                        <a:pt x="185" y="1821"/>
                      </a:lnTo>
                      <a:lnTo>
                        <a:pt x="188" y="1827"/>
                      </a:lnTo>
                      <a:lnTo>
                        <a:pt x="190" y="1831"/>
                      </a:lnTo>
                      <a:lnTo>
                        <a:pt x="194" y="1836"/>
                      </a:lnTo>
                      <a:lnTo>
                        <a:pt x="198" y="1842"/>
                      </a:lnTo>
                      <a:lnTo>
                        <a:pt x="200" y="1846"/>
                      </a:lnTo>
                      <a:lnTo>
                        <a:pt x="204" y="1850"/>
                      </a:lnTo>
                      <a:lnTo>
                        <a:pt x="205" y="1853"/>
                      </a:lnTo>
                      <a:lnTo>
                        <a:pt x="207" y="1859"/>
                      </a:lnTo>
                      <a:lnTo>
                        <a:pt x="209" y="1861"/>
                      </a:lnTo>
                      <a:lnTo>
                        <a:pt x="211" y="1863"/>
                      </a:lnTo>
                      <a:lnTo>
                        <a:pt x="213" y="1867"/>
                      </a:lnTo>
                      <a:lnTo>
                        <a:pt x="215" y="1869"/>
                      </a:lnTo>
                      <a:lnTo>
                        <a:pt x="217" y="1870"/>
                      </a:lnTo>
                      <a:lnTo>
                        <a:pt x="219" y="1874"/>
                      </a:lnTo>
                      <a:lnTo>
                        <a:pt x="141" y="2163"/>
                      </a:lnTo>
                      <a:lnTo>
                        <a:pt x="143" y="2165"/>
                      </a:lnTo>
                      <a:lnTo>
                        <a:pt x="146" y="2165"/>
                      </a:lnTo>
                      <a:lnTo>
                        <a:pt x="150" y="2167"/>
                      </a:lnTo>
                      <a:lnTo>
                        <a:pt x="152" y="2167"/>
                      </a:lnTo>
                      <a:lnTo>
                        <a:pt x="154" y="2167"/>
                      </a:lnTo>
                      <a:lnTo>
                        <a:pt x="158" y="2167"/>
                      </a:lnTo>
                      <a:lnTo>
                        <a:pt x="162" y="2171"/>
                      </a:lnTo>
                      <a:lnTo>
                        <a:pt x="166" y="2171"/>
                      </a:lnTo>
                      <a:lnTo>
                        <a:pt x="167" y="2173"/>
                      </a:lnTo>
                      <a:lnTo>
                        <a:pt x="171" y="2173"/>
                      </a:lnTo>
                      <a:lnTo>
                        <a:pt x="175" y="2175"/>
                      </a:lnTo>
                      <a:lnTo>
                        <a:pt x="181" y="2175"/>
                      </a:lnTo>
                      <a:lnTo>
                        <a:pt x="185" y="2175"/>
                      </a:lnTo>
                      <a:lnTo>
                        <a:pt x="188" y="2177"/>
                      </a:lnTo>
                      <a:lnTo>
                        <a:pt x="194" y="2180"/>
                      </a:lnTo>
                      <a:lnTo>
                        <a:pt x="198" y="2180"/>
                      </a:lnTo>
                      <a:lnTo>
                        <a:pt x="204" y="2182"/>
                      </a:lnTo>
                      <a:lnTo>
                        <a:pt x="209" y="2182"/>
                      </a:lnTo>
                      <a:lnTo>
                        <a:pt x="215" y="2184"/>
                      </a:lnTo>
                      <a:lnTo>
                        <a:pt x="219" y="2186"/>
                      </a:lnTo>
                      <a:lnTo>
                        <a:pt x="224" y="2188"/>
                      </a:lnTo>
                      <a:lnTo>
                        <a:pt x="232" y="2188"/>
                      </a:lnTo>
                      <a:lnTo>
                        <a:pt x="238" y="2190"/>
                      </a:lnTo>
                      <a:lnTo>
                        <a:pt x="243" y="2190"/>
                      </a:lnTo>
                      <a:lnTo>
                        <a:pt x="251" y="2192"/>
                      </a:lnTo>
                      <a:lnTo>
                        <a:pt x="257" y="2194"/>
                      </a:lnTo>
                      <a:lnTo>
                        <a:pt x="264" y="2194"/>
                      </a:lnTo>
                      <a:lnTo>
                        <a:pt x="270" y="2196"/>
                      </a:lnTo>
                      <a:lnTo>
                        <a:pt x="276" y="2196"/>
                      </a:lnTo>
                      <a:lnTo>
                        <a:pt x="283" y="2197"/>
                      </a:lnTo>
                      <a:lnTo>
                        <a:pt x="291" y="2199"/>
                      </a:lnTo>
                      <a:lnTo>
                        <a:pt x="297" y="2199"/>
                      </a:lnTo>
                      <a:lnTo>
                        <a:pt x="304" y="2199"/>
                      </a:lnTo>
                      <a:lnTo>
                        <a:pt x="312" y="2199"/>
                      </a:lnTo>
                      <a:lnTo>
                        <a:pt x="320" y="2201"/>
                      </a:lnTo>
                      <a:lnTo>
                        <a:pt x="325" y="2201"/>
                      </a:lnTo>
                      <a:lnTo>
                        <a:pt x="333" y="2201"/>
                      </a:lnTo>
                      <a:lnTo>
                        <a:pt x="341" y="2201"/>
                      </a:lnTo>
                      <a:lnTo>
                        <a:pt x="348" y="2201"/>
                      </a:lnTo>
                      <a:lnTo>
                        <a:pt x="356" y="2201"/>
                      </a:lnTo>
                      <a:lnTo>
                        <a:pt x="363" y="2201"/>
                      </a:lnTo>
                      <a:lnTo>
                        <a:pt x="371" y="2201"/>
                      </a:lnTo>
                      <a:lnTo>
                        <a:pt x="379" y="2201"/>
                      </a:lnTo>
                      <a:lnTo>
                        <a:pt x="386" y="2201"/>
                      </a:lnTo>
                      <a:lnTo>
                        <a:pt x="394" y="2201"/>
                      </a:lnTo>
                      <a:lnTo>
                        <a:pt x="401" y="2199"/>
                      </a:lnTo>
                      <a:lnTo>
                        <a:pt x="409" y="2199"/>
                      </a:lnTo>
                      <a:lnTo>
                        <a:pt x="415" y="2197"/>
                      </a:lnTo>
                      <a:lnTo>
                        <a:pt x="422" y="2196"/>
                      </a:lnTo>
                      <a:lnTo>
                        <a:pt x="432" y="2196"/>
                      </a:lnTo>
                      <a:lnTo>
                        <a:pt x="439" y="2194"/>
                      </a:lnTo>
                      <a:lnTo>
                        <a:pt x="447" y="2192"/>
                      </a:lnTo>
                      <a:lnTo>
                        <a:pt x="455" y="2190"/>
                      </a:lnTo>
                      <a:lnTo>
                        <a:pt x="462" y="2188"/>
                      </a:lnTo>
                      <a:lnTo>
                        <a:pt x="470" y="2188"/>
                      </a:lnTo>
                      <a:lnTo>
                        <a:pt x="476" y="2184"/>
                      </a:lnTo>
                      <a:lnTo>
                        <a:pt x="483" y="2182"/>
                      </a:lnTo>
                      <a:lnTo>
                        <a:pt x="491" y="2180"/>
                      </a:lnTo>
                      <a:lnTo>
                        <a:pt x="498" y="2175"/>
                      </a:lnTo>
                      <a:lnTo>
                        <a:pt x="504" y="2173"/>
                      </a:lnTo>
                      <a:lnTo>
                        <a:pt x="512" y="2169"/>
                      </a:lnTo>
                      <a:lnTo>
                        <a:pt x="517" y="2165"/>
                      </a:lnTo>
                      <a:lnTo>
                        <a:pt x="525" y="2161"/>
                      </a:lnTo>
                      <a:lnTo>
                        <a:pt x="531" y="2158"/>
                      </a:lnTo>
                      <a:lnTo>
                        <a:pt x="536" y="2154"/>
                      </a:lnTo>
                      <a:lnTo>
                        <a:pt x="542" y="2150"/>
                      </a:lnTo>
                      <a:lnTo>
                        <a:pt x="550" y="2146"/>
                      </a:lnTo>
                      <a:lnTo>
                        <a:pt x="555" y="2142"/>
                      </a:lnTo>
                      <a:lnTo>
                        <a:pt x="559" y="2137"/>
                      </a:lnTo>
                      <a:lnTo>
                        <a:pt x="565" y="2133"/>
                      </a:lnTo>
                      <a:lnTo>
                        <a:pt x="571" y="2129"/>
                      </a:lnTo>
                      <a:lnTo>
                        <a:pt x="576" y="2123"/>
                      </a:lnTo>
                      <a:lnTo>
                        <a:pt x="582" y="2120"/>
                      </a:lnTo>
                      <a:lnTo>
                        <a:pt x="588" y="2114"/>
                      </a:lnTo>
                      <a:lnTo>
                        <a:pt x="592" y="2110"/>
                      </a:lnTo>
                      <a:lnTo>
                        <a:pt x="595" y="2106"/>
                      </a:lnTo>
                      <a:lnTo>
                        <a:pt x="601" y="2101"/>
                      </a:lnTo>
                      <a:lnTo>
                        <a:pt x="605" y="2095"/>
                      </a:lnTo>
                      <a:lnTo>
                        <a:pt x="611" y="2091"/>
                      </a:lnTo>
                      <a:lnTo>
                        <a:pt x="614" y="2085"/>
                      </a:lnTo>
                      <a:lnTo>
                        <a:pt x="618" y="2080"/>
                      </a:lnTo>
                      <a:lnTo>
                        <a:pt x="624" y="2076"/>
                      </a:lnTo>
                      <a:lnTo>
                        <a:pt x="628" y="2070"/>
                      </a:lnTo>
                      <a:lnTo>
                        <a:pt x="632" y="2064"/>
                      </a:lnTo>
                      <a:lnTo>
                        <a:pt x="635" y="2059"/>
                      </a:lnTo>
                      <a:lnTo>
                        <a:pt x="637" y="2055"/>
                      </a:lnTo>
                      <a:lnTo>
                        <a:pt x="643" y="2049"/>
                      </a:lnTo>
                      <a:lnTo>
                        <a:pt x="645" y="2043"/>
                      </a:lnTo>
                      <a:lnTo>
                        <a:pt x="649" y="2040"/>
                      </a:lnTo>
                      <a:lnTo>
                        <a:pt x="652" y="2034"/>
                      </a:lnTo>
                      <a:lnTo>
                        <a:pt x="654" y="2030"/>
                      </a:lnTo>
                      <a:lnTo>
                        <a:pt x="658" y="2024"/>
                      </a:lnTo>
                      <a:lnTo>
                        <a:pt x="660" y="2021"/>
                      </a:lnTo>
                      <a:lnTo>
                        <a:pt x="664" y="2015"/>
                      </a:lnTo>
                      <a:lnTo>
                        <a:pt x="666" y="2011"/>
                      </a:lnTo>
                      <a:lnTo>
                        <a:pt x="668" y="2005"/>
                      </a:lnTo>
                      <a:lnTo>
                        <a:pt x="672" y="2002"/>
                      </a:lnTo>
                      <a:lnTo>
                        <a:pt x="673" y="1998"/>
                      </a:lnTo>
                      <a:lnTo>
                        <a:pt x="675" y="1992"/>
                      </a:lnTo>
                      <a:lnTo>
                        <a:pt x="677" y="1986"/>
                      </a:lnTo>
                      <a:lnTo>
                        <a:pt x="679" y="1983"/>
                      </a:lnTo>
                      <a:lnTo>
                        <a:pt x="681" y="1979"/>
                      </a:lnTo>
                      <a:lnTo>
                        <a:pt x="683" y="1975"/>
                      </a:lnTo>
                      <a:lnTo>
                        <a:pt x="685" y="1971"/>
                      </a:lnTo>
                      <a:lnTo>
                        <a:pt x="687" y="1969"/>
                      </a:lnTo>
                      <a:lnTo>
                        <a:pt x="689" y="1964"/>
                      </a:lnTo>
                      <a:lnTo>
                        <a:pt x="691" y="1962"/>
                      </a:lnTo>
                      <a:lnTo>
                        <a:pt x="692" y="1958"/>
                      </a:lnTo>
                      <a:lnTo>
                        <a:pt x="692" y="1954"/>
                      </a:lnTo>
                      <a:lnTo>
                        <a:pt x="692" y="1952"/>
                      </a:lnTo>
                      <a:lnTo>
                        <a:pt x="694" y="1950"/>
                      </a:lnTo>
                      <a:lnTo>
                        <a:pt x="696" y="1945"/>
                      </a:lnTo>
                      <a:lnTo>
                        <a:pt x="698" y="1941"/>
                      </a:lnTo>
                      <a:lnTo>
                        <a:pt x="700" y="1937"/>
                      </a:lnTo>
                      <a:lnTo>
                        <a:pt x="700" y="1935"/>
                      </a:lnTo>
                      <a:lnTo>
                        <a:pt x="700" y="1933"/>
                      </a:lnTo>
                      <a:lnTo>
                        <a:pt x="702" y="1933"/>
                      </a:lnTo>
                      <a:lnTo>
                        <a:pt x="740" y="1943"/>
                      </a:lnTo>
                      <a:lnTo>
                        <a:pt x="740" y="1943"/>
                      </a:lnTo>
                      <a:lnTo>
                        <a:pt x="738" y="1945"/>
                      </a:lnTo>
                      <a:lnTo>
                        <a:pt x="738" y="1947"/>
                      </a:lnTo>
                      <a:lnTo>
                        <a:pt x="738" y="1950"/>
                      </a:lnTo>
                      <a:lnTo>
                        <a:pt x="738" y="1954"/>
                      </a:lnTo>
                      <a:lnTo>
                        <a:pt x="738" y="1958"/>
                      </a:lnTo>
                      <a:lnTo>
                        <a:pt x="736" y="1962"/>
                      </a:lnTo>
                      <a:lnTo>
                        <a:pt x="736" y="1964"/>
                      </a:lnTo>
                      <a:lnTo>
                        <a:pt x="736" y="1967"/>
                      </a:lnTo>
                      <a:lnTo>
                        <a:pt x="736" y="1971"/>
                      </a:lnTo>
                      <a:lnTo>
                        <a:pt x="736" y="1975"/>
                      </a:lnTo>
                      <a:lnTo>
                        <a:pt x="736" y="1979"/>
                      </a:lnTo>
                      <a:lnTo>
                        <a:pt x="736" y="1983"/>
                      </a:lnTo>
                      <a:lnTo>
                        <a:pt x="736" y="1985"/>
                      </a:lnTo>
                      <a:lnTo>
                        <a:pt x="736" y="1990"/>
                      </a:lnTo>
                      <a:lnTo>
                        <a:pt x="736" y="1994"/>
                      </a:lnTo>
                      <a:lnTo>
                        <a:pt x="736" y="1998"/>
                      </a:lnTo>
                      <a:lnTo>
                        <a:pt x="736" y="2004"/>
                      </a:lnTo>
                      <a:lnTo>
                        <a:pt x="736" y="2007"/>
                      </a:lnTo>
                      <a:lnTo>
                        <a:pt x="736" y="2013"/>
                      </a:lnTo>
                      <a:lnTo>
                        <a:pt x="736" y="2015"/>
                      </a:lnTo>
                      <a:lnTo>
                        <a:pt x="736" y="2021"/>
                      </a:lnTo>
                      <a:lnTo>
                        <a:pt x="736" y="2026"/>
                      </a:lnTo>
                      <a:lnTo>
                        <a:pt x="736" y="2030"/>
                      </a:lnTo>
                      <a:lnTo>
                        <a:pt x="736" y="2036"/>
                      </a:lnTo>
                      <a:lnTo>
                        <a:pt x="736" y="2042"/>
                      </a:lnTo>
                      <a:lnTo>
                        <a:pt x="736" y="2047"/>
                      </a:lnTo>
                      <a:lnTo>
                        <a:pt x="738" y="2051"/>
                      </a:lnTo>
                      <a:lnTo>
                        <a:pt x="738" y="2057"/>
                      </a:lnTo>
                      <a:lnTo>
                        <a:pt x="738" y="2062"/>
                      </a:lnTo>
                      <a:lnTo>
                        <a:pt x="740" y="2066"/>
                      </a:lnTo>
                      <a:lnTo>
                        <a:pt x="740" y="2072"/>
                      </a:lnTo>
                      <a:lnTo>
                        <a:pt x="742" y="2078"/>
                      </a:lnTo>
                      <a:lnTo>
                        <a:pt x="744" y="2083"/>
                      </a:lnTo>
                      <a:lnTo>
                        <a:pt x="744" y="2091"/>
                      </a:lnTo>
                      <a:lnTo>
                        <a:pt x="746" y="2095"/>
                      </a:lnTo>
                      <a:lnTo>
                        <a:pt x="748" y="2101"/>
                      </a:lnTo>
                      <a:lnTo>
                        <a:pt x="748" y="2106"/>
                      </a:lnTo>
                      <a:lnTo>
                        <a:pt x="751" y="2110"/>
                      </a:lnTo>
                      <a:lnTo>
                        <a:pt x="753" y="2118"/>
                      </a:lnTo>
                      <a:lnTo>
                        <a:pt x="753" y="2123"/>
                      </a:lnTo>
                      <a:lnTo>
                        <a:pt x="757" y="2129"/>
                      </a:lnTo>
                      <a:lnTo>
                        <a:pt x="759" y="2135"/>
                      </a:lnTo>
                      <a:lnTo>
                        <a:pt x="761" y="2139"/>
                      </a:lnTo>
                      <a:lnTo>
                        <a:pt x="765" y="2144"/>
                      </a:lnTo>
                      <a:lnTo>
                        <a:pt x="767" y="2150"/>
                      </a:lnTo>
                      <a:lnTo>
                        <a:pt x="769" y="2156"/>
                      </a:lnTo>
                      <a:lnTo>
                        <a:pt x="772" y="2159"/>
                      </a:lnTo>
                      <a:lnTo>
                        <a:pt x="776" y="2165"/>
                      </a:lnTo>
                      <a:lnTo>
                        <a:pt x="780" y="2171"/>
                      </a:lnTo>
                      <a:lnTo>
                        <a:pt x="782" y="2175"/>
                      </a:lnTo>
                      <a:lnTo>
                        <a:pt x="786" y="2180"/>
                      </a:lnTo>
                      <a:lnTo>
                        <a:pt x="789" y="2186"/>
                      </a:lnTo>
                      <a:lnTo>
                        <a:pt x="795" y="2190"/>
                      </a:lnTo>
                      <a:lnTo>
                        <a:pt x="799" y="2196"/>
                      </a:lnTo>
                      <a:lnTo>
                        <a:pt x="805" y="2201"/>
                      </a:lnTo>
                      <a:lnTo>
                        <a:pt x="808" y="2205"/>
                      </a:lnTo>
                      <a:lnTo>
                        <a:pt x="814" y="2209"/>
                      </a:lnTo>
                      <a:lnTo>
                        <a:pt x="818" y="2213"/>
                      </a:lnTo>
                      <a:lnTo>
                        <a:pt x="824" y="2216"/>
                      </a:lnTo>
                      <a:lnTo>
                        <a:pt x="828" y="2222"/>
                      </a:lnTo>
                      <a:lnTo>
                        <a:pt x="833" y="2224"/>
                      </a:lnTo>
                      <a:lnTo>
                        <a:pt x="839" y="2228"/>
                      </a:lnTo>
                      <a:lnTo>
                        <a:pt x="845" y="2232"/>
                      </a:lnTo>
                      <a:lnTo>
                        <a:pt x="848" y="2235"/>
                      </a:lnTo>
                      <a:lnTo>
                        <a:pt x="854" y="2239"/>
                      </a:lnTo>
                      <a:lnTo>
                        <a:pt x="858" y="2243"/>
                      </a:lnTo>
                      <a:lnTo>
                        <a:pt x="864" y="2245"/>
                      </a:lnTo>
                      <a:lnTo>
                        <a:pt x="867" y="2249"/>
                      </a:lnTo>
                      <a:lnTo>
                        <a:pt x="873" y="2253"/>
                      </a:lnTo>
                      <a:lnTo>
                        <a:pt x="877" y="2256"/>
                      </a:lnTo>
                      <a:lnTo>
                        <a:pt x="883" y="2258"/>
                      </a:lnTo>
                      <a:lnTo>
                        <a:pt x="890" y="2260"/>
                      </a:lnTo>
                      <a:lnTo>
                        <a:pt x="896" y="2264"/>
                      </a:lnTo>
                      <a:lnTo>
                        <a:pt x="900" y="2266"/>
                      </a:lnTo>
                      <a:lnTo>
                        <a:pt x="904" y="2268"/>
                      </a:lnTo>
                      <a:lnTo>
                        <a:pt x="907" y="2270"/>
                      </a:lnTo>
                      <a:lnTo>
                        <a:pt x="913" y="2273"/>
                      </a:lnTo>
                      <a:lnTo>
                        <a:pt x="919" y="2275"/>
                      </a:lnTo>
                      <a:lnTo>
                        <a:pt x="925" y="2277"/>
                      </a:lnTo>
                      <a:lnTo>
                        <a:pt x="928" y="2279"/>
                      </a:lnTo>
                      <a:lnTo>
                        <a:pt x="934" y="2281"/>
                      </a:lnTo>
                      <a:lnTo>
                        <a:pt x="938" y="2283"/>
                      </a:lnTo>
                      <a:lnTo>
                        <a:pt x="942" y="2285"/>
                      </a:lnTo>
                      <a:lnTo>
                        <a:pt x="947" y="2287"/>
                      </a:lnTo>
                      <a:lnTo>
                        <a:pt x="951" y="2289"/>
                      </a:lnTo>
                      <a:lnTo>
                        <a:pt x="955" y="2289"/>
                      </a:lnTo>
                      <a:lnTo>
                        <a:pt x="961" y="2291"/>
                      </a:lnTo>
                      <a:lnTo>
                        <a:pt x="964" y="2291"/>
                      </a:lnTo>
                      <a:lnTo>
                        <a:pt x="968" y="2294"/>
                      </a:lnTo>
                      <a:lnTo>
                        <a:pt x="972" y="2294"/>
                      </a:lnTo>
                      <a:lnTo>
                        <a:pt x="978" y="2294"/>
                      </a:lnTo>
                      <a:lnTo>
                        <a:pt x="982" y="2296"/>
                      </a:lnTo>
                      <a:lnTo>
                        <a:pt x="985" y="2296"/>
                      </a:lnTo>
                      <a:lnTo>
                        <a:pt x="989" y="2296"/>
                      </a:lnTo>
                      <a:lnTo>
                        <a:pt x="993" y="2298"/>
                      </a:lnTo>
                      <a:lnTo>
                        <a:pt x="997" y="2298"/>
                      </a:lnTo>
                      <a:lnTo>
                        <a:pt x="1001" y="2298"/>
                      </a:lnTo>
                      <a:lnTo>
                        <a:pt x="1004" y="2298"/>
                      </a:lnTo>
                      <a:lnTo>
                        <a:pt x="1008" y="2300"/>
                      </a:lnTo>
                      <a:lnTo>
                        <a:pt x="1010" y="2300"/>
                      </a:lnTo>
                      <a:lnTo>
                        <a:pt x="1014" y="2300"/>
                      </a:lnTo>
                      <a:lnTo>
                        <a:pt x="1016" y="2300"/>
                      </a:lnTo>
                      <a:lnTo>
                        <a:pt x="1020" y="2300"/>
                      </a:lnTo>
                      <a:lnTo>
                        <a:pt x="1022" y="2300"/>
                      </a:lnTo>
                      <a:lnTo>
                        <a:pt x="1025" y="2302"/>
                      </a:lnTo>
                      <a:lnTo>
                        <a:pt x="1029" y="2300"/>
                      </a:lnTo>
                      <a:lnTo>
                        <a:pt x="1035" y="2300"/>
                      </a:lnTo>
                      <a:lnTo>
                        <a:pt x="1039" y="2298"/>
                      </a:lnTo>
                      <a:lnTo>
                        <a:pt x="1042" y="2298"/>
                      </a:lnTo>
                      <a:lnTo>
                        <a:pt x="1044" y="2296"/>
                      </a:lnTo>
                      <a:lnTo>
                        <a:pt x="1048" y="2296"/>
                      </a:lnTo>
                      <a:lnTo>
                        <a:pt x="1048" y="2294"/>
                      </a:lnTo>
                      <a:lnTo>
                        <a:pt x="1050" y="2294"/>
                      </a:lnTo>
                      <a:lnTo>
                        <a:pt x="1246" y="1334"/>
                      </a:lnTo>
                      <a:lnTo>
                        <a:pt x="1246" y="1333"/>
                      </a:lnTo>
                      <a:lnTo>
                        <a:pt x="1248" y="1331"/>
                      </a:lnTo>
                      <a:lnTo>
                        <a:pt x="1250" y="1327"/>
                      </a:lnTo>
                      <a:lnTo>
                        <a:pt x="1252" y="1325"/>
                      </a:lnTo>
                      <a:lnTo>
                        <a:pt x="1252" y="1323"/>
                      </a:lnTo>
                      <a:lnTo>
                        <a:pt x="1254" y="1319"/>
                      </a:lnTo>
                      <a:lnTo>
                        <a:pt x="1256" y="1315"/>
                      </a:lnTo>
                      <a:lnTo>
                        <a:pt x="1259" y="1312"/>
                      </a:lnTo>
                      <a:lnTo>
                        <a:pt x="1259" y="1306"/>
                      </a:lnTo>
                      <a:lnTo>
                        <a:pt x="1263" y="1302"/>
                      </a:lnTo>
                      <a:lnTo>
                        <a:pt x="1265" y="1296"/>
                      </a:lnTo>
                      <a:lnTo>
                        <a:pt x="1269" y="1293"/>
                      </a:lnTo>
                      <a:lnTo>
                        <a:pt x="1271" y="1285"/>
                      </a:lnTo>
                      <a:lnTo>
                        <a:pt x="1275" y="1281"/>
                      </a:lnTo>
                      <a:lnTo>
                        <a:pt x="1276" y="1274"/>
                      </a:lnTo>
                      <a:lnTo>
                        <a:pt x="1280" y="1266"/>
                      </a:lnTo>
                      <a:lnTo>
                        <a:pt x="1284" y="1258"/>
                      </a:lnTo>
                      <a:lnTo>
                        <a:pt x="1288" y="1249"/>
                      </a:lnTo>
                      <a:lnTo>
                        <a:pt x="1290" y="1241"/>
                      </a:lnTo>
                      <a:lnTo>
                        <a:pt x="1294" y="1234"/>
                      </a:lnTo>
                      <a:lnTo>
                        <a:pt x="1297" y="1224"/>
                      </a:lnTo>
                      <a:lnTo>
                        <a:pt x="1301" y="1217"/>
                      </a:lnTo>
                      <a:lnTo>
                        <a:pt x="1305" y="1207"/>
                      </a:lnTo>
                      <a:lnTo>
                        <a:pt x="1309" y="1198"/>
                      </a:lnTo>
                      <a:lnTo>
                        <a:pt x="1313" y="1188"/>
                      </a:lnTo>
                      <a:lnTo>
                        <a:pt x="1316" y="1177"/>
                      </a:lnTo>
                      <a:lnTo>
                        <a:pt x="1320" y="1165"/>
                      </a:lnTo>
                      <a:lnTo>
                        <a:pt x="1324" y="1154"/>
                      </a:lnTo>
                      <a:lnTo>
                        <a:pt x="1330" y="1144"/>
                      </a:lnTo>
                      <a:lnTo>
                        <a:pt x="1334" y="1133"/>
                      </a:lnTo>
                      <a:lnTo>
                        <a:pt x="1337" y="1122"/>
                      </a:lnTo>
                      <a:lnTo>
                        <a:pt x="1339" y="1108"/>
                      </a:lnTo>
                      <a:lnTo>
                        <a:pt x="1345" y="1097"/>
                      </a:lnTo>
                      <a:lnTo>
                        <a:pt x="1349" y="1084"/>
                      </a:lnTo>
                      <a:lnTo>
                        <a:pt x="1353" y="1070"/>
                      </a:lnTo>
                      <a:lnTo>
                        <a:pt x="1354" y="1059"/>
                      </a:lnTo>
                      <a:lnTo>
                        <a:pt x="1358" y="1044"/>
                      </a:lnTo>
                      <a:lnTo>
                        <a:pt x="1362" y="1032"/>
                      </a:lnTo>
                      <a:lnTo>
                        <a:pt x="1366" y="1017"/>
                      </a:lnTo>
                      <a:lnTo>
                        <a:pt x="1370" y="1004"/>
                      </a:lnTo>
                      <a:lnTo>
                        <a:pt x="1372" y="988"/>
                      </a:lnTo>
                      <a:lnTo>
                        <a:pt x="1375" y="975"/>
                      </a:lnTo>
                      <a:lnTo>
                        <a:pt x="1377" y="960"/>
                      </a:lnTo>
                      <a:lnTo>
                        <a:pt x="1381" y="947"/>
                      </a:lnTo>
                      <a:lnTo>
                        <a:pt x="1383" y="931"/>
                      </a:lnTo>
                      <a:lnTo>
                        <a:pt x="1387" y="916"/>
                      </a:lnTo>
                      <a:lnTo>
                        <a:pt x="1389" y="901"/>
                      </a:lnTo>
                      <a:lnTo>
                        <a:pt x="1391" y="886"/>
                      </a:lnTo>
                      <a:lnTo>
                        <a:pt x="1392" y="871"/>
                      </a:lnTo>
                      <a:lnTo>
                        <a:pt x="1394" y="855"/>
                      </a:lnTo>
                      <a:lnTo>
                        <a:pt x="1396" y="838"/>
                      </a:lnTo>
                      <a:lnTo>
                        <a:pt x="1398" y="823"/>
                      </a:lnTo>
                      <a:lnTo>
                        <a:pt x="1398" y="806"/>
                      </a:lnTo>
                      <a:lnTo>
                        <a:pt x="1400" y="791"/>
                      </a:lnTo>
                      <a:lnTo>
                        <a:pt x="1402" y="774"/>
                      </a:lnTo>
                      <a:lnTo>
                        <a:pt x="1402" y="757"/>
                      </a:lnTo>
                      <a:lnTo>
                        <a:pt x="1402" y="741"/>
                      </a:lnTo>
                      <a:lnTo>
                        <a:pt x="1402" y="724"/>
                      </a:lnTo>
                      <a:lnTo>
                        <a:pt x="1402" y="705"/>
                      </a:lnTo>
                      <a:lnTo>
                        <a:pt x="1402" y="690"/>
                      </a:lnTo>
                      <a:lnTo>
                        <a:pt x="1400" y="673"/>
                      </a:lnTo>
                      <a:lnTo>
                        <a:pt x="1400" y="656"/>
                      </a:lnTo>
                      <a:lnTo>
                        <a:pt x="1398" y="654"/>
                      </a:lnTo>
                      <a:lnTo>
                        <a:pt x="1398" y="652"/>
                      </a:lnTo>
                      <a:lnTo>
                        <a:pt x="1398" y="648"/>
                      </a:lnTo>
                      <a:lnTo>
                        <a:pt x="1398" y="644"/>
                      </a:lnTo>
                      <a:lnTo>
                        <a:pt x="1398" y="643"/>
                      </a:lnTo>
                      <a:lnTo>
                        <a:pt x="1398" y="639"/>
                      </a:lnTo>
                      <a:lnTo>
                        <a:pt x="1396" y="637"/>
                      </a:lnTo>
                      <a:lnTo>
                        <a:pt x="1396" y="633"/>
                      </a:lnTo>
                      <a:lnTo>
                        <a:pt x="1396" y="631"/>
                      </a:lnTo>
                      <a:lnTo>
                        <a:pt x="1396" y="627"/>
                      </a:lnTo>
                      <a:lnTo>
                        <a:pt x="1396" y="623"/>
                      </a:lnTo>
                      <a:lnTo>
                        <a:pt x="1394" y="620"/>
                      </a:lnTo>
                      <a:lnTo>
                        <a:pt x="1394" y="618"/>
                      </a:lnTo>
                      <a:lnTo>
                        <a:pt x="1394" y="616"/>
                      </a:lnTo>
                      <a:lnTo>
                        <a:pt x="1392" y="612"/>
                      </a:lnTo>
                      <a:lnTo>
                        <a:pt x="1392" y="610"/>
                      </a:lnTo>
                      <a:lnTo>
                        <a:pt x="1392" y="608"/>
                      </a:lnTo>
                      <a:lnTo>
                        <a:pt x="1391" y="604"/>
                      </a:lnTo>
                      <a:lnTo>
                        <a:pt x="1391" y="603"/>
                      </a:lnTo>
                      <a:lnTo>
                        <a:pt x="1391" y="599"/>
                      </a:lnTo>
                      <a:lnTo>
                        <a:pt x="1389" y="597"/>
                      </a:lnTo>
                      <a:lnTo>
                        <a:pt x="1389" y="593"/>
                      </a:lnTo>
                      <a:lnTo>
                        <a:pt x="1389" y="589"/>
                      </a:lnTo>
                      <a:lnTo>
                        <a:pt x="1389" y="587"/>
                      </a:lnTo>
                      <a:lnTo>
                        <a:pt x="1387" y="585"/>
                      </a:lnTo>
                      <a:lnTo>
                        <a:pt x="1385" y="582"/>
                      </a:lnTo>
                      <a:lnTo>
                        <a:pt x="1385" y="580"/>
                      </a:lnTo>
                      <a:lnTo>
                        <a:pt x="1383" y="578"/>
                      </a:lnTo>
                      <a:lnTo>
                        <a:pt x="1383" y="572"/>
                      </a:lnTo>
                      <a:lnTo>
                        <a:pt x="1381" y="568"/>
                      </a:lnTo>
                      <a:lnTo>
                        <a:pt x="1377" y="563"/>
                      </a:lnTo>
                      <a:lnTo>
                        <a:pt x="1375" y="557"/>
                      </a:lnTo>
                      <a:lnTo>
                        <a:pt x="1373" y="553"/>
                      </a:lnTo>
                      <a:lnTo>
                        <a:pt x="1370" y="547"/>
                      </a:lnTo>
                      <a:lnTo>
                        <a:pt x="1366" y="544"/>
                      </a:lnTo>
                      <a:lnTo>
                        <a:pt x="1364" y="540"/>
                      </a:lnTo>
                      <a:lnTo>
                        <a:pt x="1360" y="536"/>
                      </a:lnTo>
                      <a:lnTo>
                        <a:pt x="1356" y="532"/>
                      </a:lnTo>
                      <a:lnTo>
                        <a:pt x="1353" y="528"/>
                      </a:lnTo>
                      <a:lnTo>
                        <a:pt x="1349" y="525"/>
                      </a:lnTo>
                      <a:lnTo>
                        <a:pt x="1345" y="523"/>
                      </a:lnTo>
                      <a:lnTo>
                        <a:pt x="1339" y="521"/>
                      </a:lnTo>
                      <a:lnTo>
                        <a:pt x="1335" y="517"/>
                      </a:lnTo>
                      <a:lnTo>
                        <a:pt x="1332" y="515"/>
                      </a:lnTo>
                      <a:lnTo>
                        <a:pt x="1326" y="515"/>
                      </a:lnTo>
                      <a:lnTo>
                        <a:pt x="1322" y="513"/>
                      </a:lnTo>
                      <a:lnTo>
                        <a:pt x="1318" y="511"/>
                      </a:lnTo>
                      <a:lnTo>
                        <a:pt x="1316" y="511"/>
                      </a:lnTo>
                      <a:lnTo>
                        <a:pt x="1313" y="511"/>
                      </a:lnTo>
                      <a:lnTo>
                        <a:pt x="1311" y="511"/>
                      </a:lnTo>
                      <a:lnTo>
                        <a:pt x="1309" y="509"/>
                      </a:lnTo>
                      <a:lnTo>
                        <a:pt x="1305" y="509"/>
                      </a:lnTo>
                      <a:lnTo>
                        <a:pt x="1303" y="509"/>
                      </a:lnTo>
                      <a:lnTo>
                        <a:pt x="1301" y="509"/>
                      </a:lnTo>
                      <a:lnTo>
                        <a:pt x="1297" y="509"/>
                      </a:lnTo>
                      <a:lnTo>
                        <a:pt x="1295" y="509"/>
                      </a:lnTo>
                      <a:lnTo>
                        <a:pt x="1292" y="509"/>
                      </a:lnTo>
                      <a:lnTo>
                        <a:pt x="1290" y="509"/>
                      </a:lnTo>
                      <a:lnTo>
                        <a:pt x="1284" y="509"/>
                      </a:lnTo>
                      <a:lnTo>
                        <a:pt x="1280" y="509"/>
                      </a:lnTo>
                      <a:lnTo>
                        <a:pt x="1275" y="509"/>
                      </a:lnTo>
                      <a:lnTo>
                        <a:pt x="1269" y="509"/>
                      </a:lnTo>
                      <a:lnTo>
                        <a:pt x="1265" y="509"/>
                      </a:lnTo>
                      <a:lnTo>
                        <a:pt x="1259" y="509"/>
                      </a:lnTo>
                      <a:lnTo>
                        <a:pt x="1256" y="511"/>
                      </a:lnTo>
                      <a:lnTo>
                        <a:pt x="1252" y="511"/>
                      </a:lnTo>
                      <a:lnTo>
                        <a:pt x="1246" y="515"/>
                      </a:lnTo>
                      <a:lnTo>
                        <a:pt x="1242" y="515"/>
                      </a:lnTo>
                      <a:lnTo>
                        <a:pt x="1238" y="517"/>
                      </a:lnTo>
                      <a:lnTo>
                        <a:pt x="1235" y="521"/>
                      </a:lnTo>
                      <a:lnTo>
                        <a:pt x="1231" y="523"/>
                      </a:lnTo>
                      <a:lnTo>
                        <a:pt x="1229" y="525"/>
                      </a:lnTo>
                      <a:lnTo>
                        <a:pt x="1225" y="527"/>
                      </a:lnTo>
                      <a:lnTo>
                        <a:pt x="1221" y="530"/>
                      </a:lnTo>
                      <a:lnTo>
                        <a:pt x="1219" y="532"/>
                      </a:lnTo>
                      <a:lnTo>
                        <a:pt x="1216" y="538"/>
                      </a:lnTo>
                      <a:lnTo>
                        <a:pt x="1214" y="542"/>
                      </a:lnTo>
                      <a:lnTo>
                        <a:pt x="1212" y="546"/>
                      </a:lnTo>
                      <a:lnTo>
                        <a:pt x="1210" y="549"/>
                      </a:lnTo>
                      <a:lnTo>
                        <a:pt x="1208" y="555"/>
                      </a:lnTo>
                      <a:lnTo>
                        <a:pt x="1208" y="557"/>
                      </a:lnTo>
                      <a:lnTo>
                        <a:pt x="1206" y="559"/>
                      </a:lnTo>
                      <a:lnTo>
                        <a:pt x="1204" y="561"/>
                      </a:lnTo>
                      <a:lnTo>
                        <a:pt x="1204" y="565"/>
                      </a:lnTo>
                      <a:lnTo>
                        <a:pt x="1204" y="566"/>
                      </a:lnTo>
                      <a:lnTo>
                        <a:pt x="1204" y="570"/>
                      </a:lnTo>
                      <a:lnTo>
                        <a:pt x="1204" y="572"/>
                      </a:lnTo>
                      <a:lnTo>
                        <a:pt x="1204" y="576"/>
                      </a:lnTo>
                      <a:lnTo>
                        <a:pt x="1139" y="895"/>
                      </a:lnTo>
                      <a:lnTo>
                        <a:pt x="1136" y="893"/>
                      </a:lnTo>
                      <a:lnTo>
                        <a:pt x="1132" y="892"/>
                      </a:lnTo>
                      <a:lnTo>
                        <a:pt x="1126" y="888"/>
                      </a:lnTo>
                      <a:lnTo>
                        <a:pt x="1122" y="886"/>
                      </a:lnTo>
                      <a:lnTo>
                        <a:pt x="1117" y="884"/>
                      </a:lnTo>
                      <a:lnTo>
                        <a:pt x="1113" y="880"/>
                      </a:lnTo>
                      <a:lnTo>
                        <a:pt x="1107" y="878"/>
                      </a:lnTo>
                      <a:lnTo>
                        <a:pt x="1105" y="876"/>
                      </a:lnTo>
                      <a:lnTo>
                        <a:pt x="1227" y="316"/>
                      </a:lnTo>
                      <a:lnTo>
                        <a:pt x="1227" y="312"/>
                      </a:lnTo>
                      <a:lnTo>
                        <a:pt x="1227" y="308"/>
                      </a:lnTo>
                      <a:lnTo>
                        <a:pt x="1229" y="306"/>
                      </a:lnTo>
                      <a:lnTo>
                        <a:pt x="1229" y="304"/>
                      </a:lnTo>
                      <a:lnTo>
                        <a:pt x="1229" y="300"/>
                      </a:lnTo>
                      <a:lnTo>
                        <a:pt x="1229" y="298"/>
                      </a:lnTo>
                      <a:lnTo>
                        <a:pt x="1229" y="295"/>
                      </a:lnTo>
                      <a:lnTo>
                        <a:pt x="1229" y="293"/>
                      </a:lnTo>
                      <a:lnTo>
                        <a:pt x="1229" y="291"/>
                      </a:lnTo>
                      <a:lnTo>
                        <a:pt x="1229" y="287"/>
                      </a:lnTo>
                      <a:lnTo>
                        <a:pt x="1229" y="285"/>
                      </a:lnTo>
                      <a:lnTo>
                        <a:pt x="1229" y="283"/>
                      </a:lnTo>
                      <a:lnTo>
                        <a:pt x="1229" y="278"/>
                      </a:lnTo>
                      <a:lnTo>
                        <a:pt x="1227" y="272"/>
                      </a:lnTo>
                      <a:lnTo>
                        <a:pt x="1225" y="268"/>
                      </a:lnTo>
                      <a:lnTo>
                        <a:pt x="1225" y="262"/>
                      </a:lnTo>
                      <a:lnTo>
                        <a:pt x="1223" y="257"/>
                      </a:lnTo>
                      <a:lnTo>
                        <a:pt x="1221" y="253"/>
                      </a:lnTo>
                      <a:lnTo>
                        <a:pt x="1219" y="247"/>
                      </a:lnTo>
                      <a:lnTo>
                        <a:pt x="1217" y="243"/>
                      </a:lnTo>
                      <a:lnTo>
                        <a:pt x="1216" y="240"/>
                      </a:lnTo>
                      <a:lnTo>
                        <a:pt x="1214" y="236"/>
                      </a:lnTo>
                      <a:lnTo>
                        <a:pt x="1210" y="232"/>
                      </a:lnTo>
                      <a:lnTo>
                        <a:pt x="1206" y="226"/>
                      </a:lnTo>
                      <a:lnTo>
                        <a:pt x="1202" y="222"/>
                      </a:lnTo>
                      <a:lnTo>
                        <a:pt x="1200" y="219"/>
                      </a:lnTo>
                      <a:lnTo>
                        <a:pt x="1197" y="215"/>
                      </a:lnTo>
                      <a:lnTo>
                        <a:pt x="1193" y="211"/>
                      </a:lnTo>
                      <a:lnTo>
                        <a:pt x="1189" y="207"/>
                      </a:lnTo>
                      <a:lnTo>
                        <a:pt x="1185" y="205"/>
                      </a:lnTo>
                      <a:lnTo>
                        <a:pt x="1179" y="203"/>
                      </a:lnTo>
                      <a:lnTo>
                        <a:pt x="1176" y="200"/>
                      </a:lnTo>
                      <a:lnTo>
                        <a:pt x="1172" y="198"/>
                      </a:lnTo>
                      <a:lnTo>
                        <a:pt x="1166" y="194"/>
                      </a:lnTo>
                      <a:lnTo>
                        <a:pt x="1160" y="192"/>
                      </a:lnTo>
                      <a:lnTo>
                        <a:pt x="1157" y="192"/>
                      </a:lnTo>
                      <a:lnTo>
                        <a:pt x="1151" y="190"/>
                      </a:lnTo>
                      <a:lnTo>
                        <a:pt x="1147" y="190"/>
                      </a:lnTo>
                      <a:lnTo>
                        <a:pt x="1143" y="188"/>
                      </a:lnTo>
                      <a:lnTo>
                        <a:pt x="1141" y="186"/>
                      </a:lnTo>
                      <a:lnTo>
                        <a:pt x="1138" y="186"/>
                      </a:lnTo>
                      <a:lnTo>
                        <a:pt x="1136" y="186"/>
                      </a:lnTo>
                      <a:lnTo>
                        <a:pt x="1134" y="186"/>
                      </a:lnTo>
                      <a:lnTo>
                        <a:pt x="1130" y="186"/>
                      </a:lnTo>
                      <a:lnTo>
                        <a:pt x="1128" y="186"/>
                      </a:lnTo>
                      <a:lnTo>
                        <a:pt x="1124" y="186"/>
                      </a:lnTo>
                      <a:lnTo>
                        <a:pt x="1122" y="186"/>
                      </a:lnTo>
                      <a:lnTo>
                        <a:pt x="1120" y="186"/>
                      </a:lnTo>
                      <a:lnTo>
                        <a:pt x="1117" y="186"/>
                      </a:lnTo>
                      <a:lnTo>
                        <a:pt x="1115" y="186"/>
                      </a:lnTo>
                      <a:lnTo>
                        <a:pt x="1109" y="186"/>
                      </a:lnTo>
                      <a:lnTo>
                        <a:pt x="1105" y="188"/>
                      </a:lnTo>
                      <a:lnTo>
                        <a:pt x="1100" y="188"/>
                      </a:lnTo>
                      <a:lnTo>
                        <a:pt x="1094" y="190"/>
                      </a:lnTo>
                      <a:lnTo>
                        <a:pt x="1090" y="192"/>
                      </a:lnTo>
                      <a:lnTo>
                        <a:pt x="1086" y="192"/>
                      </a:lnTo>
                      <a:lnTo>
                        <a:pt x="1081" y="194"/>
                      </a:lnTo>
                      <a:lnTo>
                        <a:pt x="1077" y="198"/>
                      </a:lnTo>
                      <a:lnTo>
                        <a:pt x="1073" y="200"/>
                      </a:lnTo>
                      <a:lnTo>
                        <a:pt x="1067" y="203"/>
                      </a:lnTo>
                      <a:lnTo>
                        <a:pt x="1063" y="205"/>
                      </a:lnTo>
                      <a:lnTo>
                        <a:pt x="1058" y="207"/>
                      </a:lnTo>
                      <a:lnTo>
                        <a:pt x="1054" y="211"/>
                      </a:lnTo>
                      <a:lnTo>
                        <a:pt x="1050" y="215"/>
                      </a:lnTo>
                      <a:lnTo>
                        <a:pt x="1048" y="219"/>
                      </a:lnTo>
                      <a:lnTo>
                        <a:pt x="1044" y="222"/>
                      </a:lnTo>
                      <a:lnTo>
                        <a:pt x="1041" y="226"/>
                      </a:lnTo>
                      <a:lnTo>
                        <a:pt x="1039" y="232"/>
                      </a:lnTo>
                      <a:lnTo>
                        <a:pt x="1035" y="234"/>
                      </a:lnTo>
                      <a:lnTo>
                        <a:pt x="1033" y="240"/>
                      </a:lnTo>
                      <a:lnTo>
                        <a:pt x="1029" y="243"/>
                      </a:lnTo>
                      <a:lnTo>
                        <a:pt x="1027" y="249"/>
                      </a:lnTo>
                      <a:lnTo>
                        <a:pt x="1025" y="253"/>
                      </a:lnTo>
                      <a:lnTo>
                        <a:pt x="1023" y="259"/>
                      </a:lnTo>
                      <a:lnTo>
                        <a:pt x="1022" y="260"/>
                      </a:lnTo>
                      <a:lnTo>
                        <a:pt x="1022" y="264"/>
                      </a:lnTo>
                      <a:lnTo>
                        <a:pt x="1022" y="266"/>
                      </a:lnTo>
                      <a:lnTo>
                        <a:pt x="1022" y="270"/>
                      </a:lnTo>
                      <a:lnTo>
                        <a:pt x="919" y="730"/>
                      </a:lnTo>
                      <a:lnTo>
                        <a:pt x="915" y="728"/>
                      </a:lnTo>
                      <a:lnTo>
                        <a:pt x="913" y="726"/>
                      </a:lnTo>
                      <a:lnTo>
                        <a:pt x="907" y="724"/>
                      </a:lnTo>
                      <a:lnTo>
                        <a:pt x="905" y="720"/>
                      </a:lnTo>
                      <a:lnTo>
                        <a:pt x="904" y="719"/>
                      </a:lnTo>
                      <a:lnTo>
                        <a:pt x="900" y="717"/>
                      </a:lnTo>
                      <a:lnTo>
                        <a:pt x="896" y="713"/>
                      </a:lnTo>
                      <a:lnTo>
                        <a:pt x="892" y="713"/>
                      </a:lnTo>
                      <a:lnTo>
                        <a:pt x="1022" y="129"/>
                      </a:lnTo>
                      <a:lnTo>
                        <a:pt x="1022" y="125"/>
                      </a:lnTo>
                      <a:lnTo>
                        <a:pt x="1022" y="124"/>
                      </a:lnTo>
                      <a:lnTo>
                        <a:pt x="1022" y="120"/>
                      </a:lnTo>
                      <a:lnTo>
                        <a:pt x="1022" y="118"/>
                      </a:lnTo>
                      <a:lnTo>
                        <a:pt x="1022" y="114"/>
                      </a:lnTo>
                      <a:lnTo>
                        <a:pt x="1022" y="112"/>
                      </a:lnTo>
                      <a:lnTo>
                        <a:pt x="1022" y="110"/>
                      </a:lnTo>
                      <a:lnTo>
                        <a:pt x="1022" y="106"/>
                      </a:lnTo>
                      <a:lnTo>
                        <a:pt x="1022" y="105"/>
                      </a:lnTo>
                      <a:lnTo>
                        <a:pt x="1022" y="103"/>
                      </a:lnTo>
                      <a:lnTo>
                        <a:pt x="1022" y="99"/>
                      </a:lnTo>
                      <a:lnTo>
                        <a:pt x="1022" y="97"/>
                      </a:lnTo>
                      <a:lnTo>
                        <a:pt x="1022" y="91"/>
                      </a:lnTo>
                      <a:lnTo>
                        <a:pt x="1022" y="86"/>
                      </a:lnTo>
                      <a:lnTo>
                        <a:pt x="1020" y="82"/>
                      </a:lnTo>
                      <a:lnTo>
                        <a:pt x="1018" y="76"/>
                      </a:lnTo>
                      <a:lnTo>
                        <a:pt x="1016" y="70"/>
                      </a:lnTo>
                      <a:lnTo>
                        <a:pt x="1014" y="67"/>
                      </a:lnTo>
                      <a:lnTo>
                        <a:pt x="1012" y="61"/>
                      </a:lnTo>
                      <a:lnTo>
                        <a:pt x="1010" y="57"/>
                      </a:lnTo>
                      <a:lnTo>
                        <a:pt x="1008" y="53"/>
                      </a:lnTo>
                      <a:lnTo>
                        <a:pt x="1006" y="48"/>
                      </a:lnTo>
                      <a:lnTo>
                        <a:pt x="1004" y="44"/>
                      </a:lnTo>
                      <a:lnTo>
                        <a:pt x="1001" y="40"/>
                      </a:lnTo>
                      <a:lnTo>
                        <a:pt x="997" y="36"/>
                      </a:lnTo>
                      <a:lnTo>
                        <a:pt x="993" y="32"/>
                      </a:lnTo>
                      <a:lnTo>
                        <a:pt x="991" y="29"/>
                      </a:lnTo>
                      <a:lnTo>
                        <a:pt x="985" y="25"/>
                      </a:lnTo>
                      <a:lnTo>
                        <a:pt x="983" y="23"/>
                      </a:lnTo>
                      <a:lnTo>
                        <a:pt x="978" y="19"/>
                      </a:lnTo>
                      <a:lnTo>
                        <a:pt x="972" y="17"/>
                      </a:lnTo>
                      <a:lnTo>
                        <a:pt x="968" y="13"/>
                      </a:lnTo>
                      <a:lnTo>
                        <a:pt x="964" y="11"/>
                      </a:lnTo>
                      <a:lnTo>
                        <a:pt x="961" y="10"/>
                      </a:lnTo>
                      <a:lnTo>
                        <a:pt x="955" y="6"/>
                      </a:lnTo>
                      <a:lnTo>
                        <a:pt x="949" y="6"/>
                      </a:lnTo>
                      <a:lnTo>
                        <a:pt x="944" y="4"/>
                      </a:lnTo>
                      <a:lnTo>
                        <a:pt x="940" y="4"/>
                      </a:lnTo>
                      <a:lnTo>
                        <a:pt x="936" y="2"/>
                      </a:lnTo>
                      <a:lnTo>
                        <a:pt x="934" y="2"/>
                      </a:lnTo>
                      <a:lnTo>
                        <a:pt x="932" y="0"/>
                      </a:lnTo>
                      <a:lnTo>
                        <a:pt x="928" y="0"/>
                      </a:lnTo>
                      <a:lnTo>
                        <a:pt x="926" y="0"/>
                      </a:lnTo>
                      <a:lnTo>
                        <a:pt x="925" y="0"/>
                      </a:lnTo>
                      <a:lnTo>
                        <a:pt x="921" y="0"/>
                      </a:lnTo>
                      <a:lnTo>
                        <a:pt x="919" y="0"/>
                      </a:lnTo>
                      <a:lnTo>
                        <a:pt x="915" y="0"/>
                      </a:lnTo>
                      <a:lnTo>
                        <a:pt x="913" y="0"/>
                      </a:lnTo>
                      <a:lnTo>
                        <a:pt x="911" y="0"/>
                      </a:lnTo>
                      <a:lnTo>
                        <a:pt x="907" y="0"/>
                      </a:lnTo>
                      <a:lnTo>
                        <a:pt x="904" y="0"/>
                      </a:lnTo>
                      <a:lnTo>
                        <a:pt x="898" y="2"/>
                      </a:lnTo>
                      <a:lnTo>
                        <a:pt x="896" y="2"/>
                      </a:lnTo>
                      <a:lnTo>
                        <a:pt x="892" y="2"/>
                      </a:lnTo>
                      <a:lnTo>
                        <a:pt x="890" y="2"/>
                      </a:lnTo>
                      <a:lnTo>
                        <a:pt x="888" y="4"/>
                      </a:lnTo>
                      <a:lnTo>
                        <a:pt x="881" y="4"/>
                      </a:lnTo>
                      <a:lnTo>
                        <a:pt x="877" y="6"/>
                      </a:lnTo>
                      <a:lnTo>
                        <a:pt x="873" y="10"/>
                      </a:lnTo>
                      <a:lnTo>
                        <a:pt x="867" y="11"/>
                      </a:lnTo>
                      <a:lnTo>
                        <a:pt x="864" y="15"/>
                      </a:lnTo>
                      <a:lnTo>
                        <a:pt x="860" y="17"/>
                      </a:lnTo>
                      <a:lnTo>
                        <a:pt x="854" y="19"/>
                      </a:lnTo>
                      <a:lnTo>
                        <a:pt x="850" y="23"/>
                      </a:lnTo>
                      <a:lnTo>
                        <a:pt x="847" y="25"/>
                      </a:lnTo>
                      <a:lnTo>
                        <a:pt x="843" y="29"/>
                      </a:lnTo>
                      <a:lnTo>
                        <a:pt x="839" y="32"/>
                      </a:lnTo>
                      <a:lnTo>
                        <a:pt x="835" y="36"/>
                      </a:lnTo>
                      <a:lnTo>
                        <a:pt x="833" y="40"/>
                      </a:lnTo>
                      <a:lnTo>
                        <a:pt x="831" y="44"/>
                      </a:lnTo>
                      <a:lnTo>
                        <a:pt x="828" y="48"/>
                      </a:lnTo>
                      <a:lnTo>
                        <a:pt x="824" y="53"/>
                      </a:lnTo>
                      <a:lnTo>
                        <a:pt x="822" y="57"/>
                      </a:lnTo>
                      <a:lnTo>
                        <a:pt x="820" y="61"/>
                      </a:lnTo>
                      <a:lnTo>
                        <a:pt x="818" y="67"/>
                      </a:lnTo>
                      <a:lnTo>
                        <a:pt x="816" y="70"/>
                      </a:lnTo>
                      <a:lnTo>
                        <a:pt x="816" y="74"/>
                      </a:lnTo>
                      <a:lnTo>
                        <a:pt x="814" y="76"/>
                      </a:lnTo>
                      <a:lnTo>
                        <a:pt x="812" y="82"/>
                      </a:lnTo>
                      <a:lnTo>
                        <a:pt x="812" y="84"/>
                      </a:lnTo>
                      <a:lnTo>
                        <a:pt x="687" y="663"/>
                      </a:lnTo>
                      <a:lnTo>
                        <a:pt x="681" y="663"/>
                      </a:lnTo>
                      <a:lnTo>
                        <a:pt x="677" y="663"/>
                      </a:lnTo>
                      <a:lnTo>
                        <a:pt x="673" y="663"/>
                      </a:lnTo>
                      <a:lnTo>
                        <a:pt x="670" y="663"/>
                      </a:lnTo>
                      <a:lnTo>
                        <a:pt x="666" y="663"/>
                      </a:lnTo>
                      <a:lnTo>
                        <a:pt x="660" y="665"/>
                      </a:lnTo>
                      <a:lnTo>
                        <a:pt x="656" y="665"/>
                      </a:lnTo>
                      <a:lnTo>
                        <a:pt x="652" y="667"/>
                      </a:lnTo>
                      <a:lnTo>
                        <a:pt x="753" y="213"/>
                      </a:lnTo>
                      <a:lnTo>
                        <a:pt x="753" y="209"/>
                      </a:lnTo>
                      <a:lnTo>
                        <a:pt x="753" y="207"/>
                      </a:lnTo>
                      <a:lnTo>
                        <a:pt x="753" y="203"/>
                      </a:lnTo>
                      <a:lnTo>
                        <a:pt x="753" y="201"/>
                      </a:lnTo>
                      <a:lnTo>
                        <a:pt x="753" y="198"/>
                      </a:lnTo>
                      <a:lnTo>
                        <a:pt x="753" y="196"/>
                      </a:lnTo>
                      <a:lnTo>
                        <a:pt x="753" y="192"/>
                      </a:lnTo>
                      <a:lnTo>
                        <a:pt x="753" y="190"/>
                      </a:lnTo>
                      <a:lnTo>
                        <a:pt x="753" y="188"/>
                      </a:lnTo>
                      <a:lnTo>
                        <a:pt x="753" y="184"/>
                      </a:lnTo>
                      <a:lnTo>
                        <a:pt x="753" y="182"/>
                      </a:lnTo>
                      <a:lnTo>
                        <a:pt x="753" y="181"/>
                      </a:lnTo>
                      <a:lnTo>
                        <a:pt x="753" y="175"/>
                      </a:lnTo>
                      <a:lnTo>
                        <a:pt x="753" y="169"/>
                      </a:lnTo>
                      <a:lnTo>
                        <a:pt x="751" y="167"/>
                      </a:lnTo>
                      <a:lnTo>
                        <a:pt x="751" y="163"/>
                      </a:lnTo>
                      <a:lnTo>
                        <a:pt x="751" y="162"/>
                      </a:lnTo>
                      <a:lnTo>
                        <a:pt x="750" y="160"/>
                      </a:lnTo>
                      <a:lnTo>
                        <a:pt x="748" y="154"/>
                      </a:lnTo>
                      <a:lnTo>
                        <a:pt x="746" y="148"/>
                      </a:lnTo>
                      <a:lnTo>
                        <a:pt x="744" y="144"/>
                      </a:lnTo>
                      <a:lnTo>
                        <a:pt x="742" y="141"/>
                      </a:lnTo>
                      <a:lnTo>
                        <a:pt x="740" y="135"/>
                      </a:lnTo>
                      <a:lnTo>
                        <a:pt x="738" y="131"/>
                      </a:lnTo>
                      <a:lnTo>
                        <a:pt x="734" y="127"/>
                      </a:lnTo>
                      <a:lnTo>
                        <a:pt x="730" y="124"/>
                      </a:lnTo>
                      <a:lnTo>
                        <a:pt x="727" y="120"/>
                      </a:lnTo>
                      <a:lnTo>
                        <a:pt x="725" y="116"/>
                      </a:lnTo>
                      <a:lnTo>
                        <a:pt x="721" y="112"/>
                      </a:lnTo>
                      <a:lnTo>
                        <a:pt x="717" y="108"/>
                      </a:lnTo>
                      <a:lnTo>
                        <a:pt x="713" y="105"/>
                      </a:lnTo>
                      <a:lnTo>
                        <a:pt x="710" y="103"/>
                      </a:lnTo>
                      <a:lnTo>
                        <a:pt x="704" y="99"/>
                      </a:lnTo>
                      <a:lnTo>
                        <a:pt x="700" y="97"/>
                      </a:lnTo>
                      <a:lnTo>
                        <a:pt x="694" y="95"/>
                      </a:lnTo>
                      <a:lnTo>
                        <a:pt x="691" y="91"/>
                      </a:lnTo>
                      <a:lnTo>
                        <a:pt x="685" y="89"/>
                      </a:lnTo>
                      <a:lnTo>
                        <a:pt x="681" y="87"/>
                      </a:lnTo>
                      <a:lnTo>
                        <a:pt x="675" y="86"/>
                      </a:lnTo>
                      <a:lnTo>
                        <a:pt x="672" y="86"/>
                      </a:lnTo>
                      <a:lnTo>
                        <a:pt x="668" y="84"/>
                      </a:lnTo>
                      <a:lnTo>
                        <a:pt x="666" y="84"/>
                      </a:lnTo>
                      <a:lnTo>
                        <a:pt x="664" y="84"/>
                      </a:lnTo>
                      <a:lnTo>
                        <a:pt x="660" y="84"/>
                      </a:lnTo>
                      <a:lnTo>
                        <a:pt x="658" y="84"/>
                      </a:lnTo>
                      <a:lnTo>
                        <a:pt x="654" y="84"/>
                      </a:lnTo>
                      <a:lnTo>
                        <a:pt x="652" y="84"/>
                      </a:lnTo>
                      <a:lnTo>
                        <a:pt x="651" y="84"/>
                      </a:lnTo>
                      <a:lnTo>
                        <a:pt x="647" y="84"/>
                      </a:lnTo>
                      <a:lnTo>
                        <a:pt x="645" y="84"/>
                      </a:lnTo>
                      <a:lnTo>
                        <a:pt x="643" y="84"/>
                      </a:lnTo>
                      <a:lnTo>
                        <a:pt x="639" y="84"/>
                      </a:lnTo>
                      <a:lnTo>
                        <a:pt x="635" y="84"/>
                      </a:lnTo>
                      <a:lnTo>
                        <a:pt x="630" y="84"/>
                      </a:lnTo>
                      <a:lnTo>
                        <a:pt x="628" y="84"/>
                      </a:lnTo>
                      <a:lnTo>
                        <a:pt x="624" y="86"/>
                      </a:lnTo>
                      <a:lnTo>
                        <a:pt x="622" y="86"/>
                      </a:lnTo>
                      <a:lnTo>
                        <a:pt x="618" y="86"/>
                      </a:lnTo>
                      <a:lnTo>
                        <a:pt x="614" y="87"/>
                      </a:lnTo>
                      <a:lnTo>
                        <a:pt x="609" y="89"/>
                      </a:lnTo>
                      <a:lnTo>
                        <a:pt x="603" y="91"/>
                      </a:lnTo>
                      <a:lnTo>
                        <a:pt x="599" y="95"/>
                      </a:lnTo>
                      <a:lnTo>
                        <a:pt x="595" y="97"/>
                      </a:lnTo>
                      <a:lnTo>
                        <a:pt x="592" y="99"/>
                      </a:lnTo>
                      <a:lnTo>
                        <a:pt x="586" y="103"/>
                      </a:lnTo>
                      <a:lnTo>
                        <a:pt x="582" y="105"/>
                      </a:lnTo>
                      <a:lnTo>
                        <a:pt x="578" y="108"/>
                      </a:lnTo>
                      <a:lnTo>
                        <a:pt x="574" y="112"/>
                      </a:lnTo>
                      <a:lnTo>
                        <a:pt x="571" y="116"/>
                      </a:lnTo>
                      <a:lnTo>
                        <a:pt x="567" y="120"/>
                      </a:lnTo>
                      <a:lnTo>
                        <a:pt x="565" y="124"/>
                      </a:lnTo>
                      <a:lnTo>
                        <a:pt x="563" y="127"/>
                      </a:lnTo>
                      <a:lnTo>
                        <a:pt x="559" y="131"/>
                      </a:lnTo>
                      <a:lnTo>
                        <a:pt x="555" y="135"/>
                      </a:lnTo>
                      <a:lnTo>
                        <a:pt x="554" y="141"/>
                      </a:lnTo>
                      <a:lnTo>
                        <a:pt x="552" y="146"/>
                      </a:lnTo>
                      <a:lnTo>
                        <a:pt x="550" y="150"/>
                      </a:lnTo>
                      <a:lnTo>
                        <a:pt x="548" y="156"/>
                      </a:lnTo>
                      <a:lnTo>
                        <a:pt x="546" y="158"/>
                      </a:lnTo>
                      <a:lnTo>
                        <a:pt x="546" y="160"/>
                      </a:lnTo>
                      <a:lnTo>
                        <a:pt x="544" y="163"/>
                      </a:lnTo>
                      <a:lnTo>
                        <a:pt x="544" y="167"/>
                      </a:lnTo>
                      <a:lnTo>
                        <a:pt x="361" y="1127"/>
                      </a:lnTo>
                      <a:lnTo>
                        <a:pt x="361" y="1127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0" name="AutoShape 1260"/>
              <p:cNvSpPr/>
              <p:nvPr/>
            </p:nvSpPr>
            <p:spPr>
              <a:xfrm rot="17745600">
                <a:off x="4960080" y="2476440"/>
                <a:ext cx="88920" cy="75960"/>
              </a:xfrm>
              <a:prstGeom prst="hexagon">
                <a:avLst>
                  <a:gd name="adj" fmla="val 29265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AutoShape 1261"/>
              <p:cNvSpPr/>
              <p:nvPr/>
            </p:nvSpPr>
            <p:spPr>
              <a:xfrm rot="17776800">
                <a:off x="5252760" y="2654280"/>
                <a:ext cx="193680" cy="5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308" y="21600"/>
                    </a:lnTo>
                    <a:lnTo>
                      <a:pt x="1729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2" name="Oval 1262"/>
          <p:cNvSpPr/>
          <p:nvPr/>
        </p:nvSpPr>
        <p:spPr>
          <a:xfrm>
            <a:off x="4184640" y="3016080"/>
            <a:ext cx="457200" cy="954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1263"/>
          <p:cNvSpPr/>
          <p:nvPr/>
        </p:nvSpPr>
        <p:spPr>
          <a:xfrm rot="20305800">
            <a:off x="5584680" y="2779200"/>
            <a:ext cx="63720" cy="1117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1264"/>
          <p:cNvSpPr/>
          <p:nvPr/>
        </p:nvSpPr>
        <p:spPr>
          <a:xfrm rot="20439600">
            <a:off x="5016600" y="2803680"/>
            <a:ext cx="669960" cy="60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1265"/>
          <p:cNvSpPr/>
          <p:nvPr/>
        </p:nvSpPr>
        <p:spPr>
          <a:xfrm rot="514800">
            <a:off x="4897080" y="2881080"/>
            <a:ext cx="192240" cy="745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1266"/>
          <p:cNvSpPr/>
          <p:nvPr/>
        </p:nvSpPr>
        <p:spPr>
          <a:xfrm rot="514800">
            <a:off x="5419440" y="2682720"/>
            <a:ext cx="242640" cy="59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1267"/>
          <p:cNvSpPr/>
          <p:nvPr/>
        </p:nvSpPr>
        <p:spPr>
          <a:xfrm>
            <a:off x="4489560" y="3092400"/>
            <a:ext cx="1052280" cy="95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1268"/>
          <p:cNvSpPr/>
          <p:nvPr/>
        </p:nvSpPr>
        <p:spPr>
          <a:xfrm rot="18928200">
            <a:off x="4776840" y="3457080"/>
            <a:ext cx="895320" cy="84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1269"/>
          <p:cNvSpPr/>
          <p:nvPr/>
        </p:nvSpPr>
        <p:spPr>
          <a:xfrm flipH="1" rot="3538200">
            <a:off x="4169520" y="3399120"/>
            <a:ext cx="930240" cy="91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1270"/>
          <p:cNvSpPr/>
          <p:nvPr/>
        </p:nvSpPr>
        <p:spPr>
          <a:xfrm>
            <a:off x="4803840" y="3753000"/>
            <a:ext cx="127080" cy="12852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1271"/>
          <p:cNvSpPr/>
          <p:nvPr/>
        </p:nvSpPr>
        <p:spPr>
          <a:xfrm rot="2037600">
            <a:off x="4244760" y="3108240"/>
            <a:ext cx="95040" cy="766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Oval 1272"/>
          <p:cNvSpPr/>
          <p:nvPr/>
        </p:nvSpPr>
        <p:spPr>
          <a:xfrm>
            <a:off x="4724280" y="3692520"/>
            <a:ext cx="255600" cy="257040"/>
          </a:xfrm>
          <a:prstGeom prst="ellipse">
            <a:avLst/>
          </a:prstGeom>
          <a:noFill/>
          <a:ln w="3816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" name="Group 1273"/>
          <p:cNvGrpSpPr/>
          <p:nvPr/>
        </p:nvGrpSpPr>
        <p:grpSpPr>
          <a:xfrm>
            <a:off x="4013640" y="912600"/>
            <a:ext cx="1161720" cy="2291040"/>
            <a:chOff x="4013640" y="912600"/>
            <a:chExt cx="1161720" cy="2291040"/>
          </a:xfrm>
        </p:grpSpPr>
        <p:grpSp>
          <p:nvGrpSpPr>
            <p:cNvPr id="884" name=""/>
            <p:cNvGrpSpPr/>
            <p:nvPr/>
          </p:nvGrpSpPr>
          <p:grpSpPr>
            <a:xfrm>
              <a:off x="4618080" y="1180800"/>
              <a:ext cx="302040" cy="190080"/>
              <a:chOff x="4618080" y="1180800"/>
              <a:chExt cx="302040" cy="190080"/>
            </a:xfrm>
          </p:grpSpPr>
          <p:sp>
            <p:nvSpPr>
              <p:cNvPr id="885" name="Line 1274"/>
              <p:cNvSpPr/>
              <p:nvPr/>
            </p:nvSpPr>
            <p:spPr>
              <a:xfrm>
                <a:off x="4637880" y="1180800"/>
                <a:ext cx="262800" cy="19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 txBox="1"/>
              <p:nvPr/>
            </p:nvSpPr>
            <p:spPr>
              <a:xfrm rot="435000">
                <a:off x="4626720" y="1198080"/>
                <a:ext cx="284400" cy="15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7" name="AutoShape 1275"/>
            <p:cNvSpPr/>
            <p:nvPr/>
          </p:nvSpPr>
          <p:spPr>
            <a:xfrm rot="906600">
              <a:off x="4080240" y="1969560"/>
              <a:ext cx="152280" cy="53316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21960 h 533160"/>
                <a:gd name="textAreaBottom" fmla="*/ 51120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8" name="Group 1276"/>
            <p:cNvGrpSpPr/>
            <p:nvPr/>
          </p:nvGrpSpPr>
          <p:grpSpPr>
            <a:xfrm>
              <a:off x="4103280" y="912600"/>
              <a:ext cx="1072080" cy="2291040"/>
              <a:chOff x="4103280" y="912600"/>
              <a:chExt cx="1072080" cy="2291040"/>
            </a:xfrm>
          </p:grpSpPr>
          <p:grpSp>
            <p:nvGrpSpPr>
              <p:cNvPr id="889" name="Group 1277"/>
              <p:cNvGrpSpPr/>
              <p:nvPr/>
            </p:nvGrpSpPr>
            <p:grpSpPr>
              <a:xfrm>
                <a:off x="4103280" y="1073160"/>
                <a:ext cx="1072080" cy="2130480"/>
                <a:chOff x="4103280" y="1073160"/>
                <a:chExt cx="1072080" cy="2130480"/>
              </a:xfrm>
            </p:grpSpPr>
            <p:grpSp>
              <p:nvGrpSpPr>
                <p:cNvPr id="890" name="Group 1278"/>
                <p:cNvGrpSpPr/>
                <p:nvPr/>
              </p:nvGrpSpPr>
              <p:grpSpPr>
                <a:xfrm>
                  <a:off x="4103280" y="1618920"/>
                  <a:ext cx="843120" cy="1584720"/>
                  <a:chOff x="4103280" y="1618920"/>
                  <a:chExt cx="843120" cy="1584720"/>
                </a:xfrm>
              </p:grpSpPr>
              <p:sp>
                <p:nvSpPr>
                  <p:cNvPr id="891" name="Oval 1279"/>
                  <p:cNvSpPr/>
                  <p:nvPr/>
                </p:nvSpPr>
                <p:spPr>
                  <a:xfrm rot="821400">
                    <a:off x="4159440" y="2597040"/>
                    <a:ext cx="569160" cy="546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2121600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Oval 1280"/>
                  <p:cNvSpPr/>
                  <p:nvPr/>
                </p:nvSpPr>
                <p:spPr>
                  <a:xfrm rot="821400">
                    <a:off x="4890960" y="2156040"/>
                    <a:ext cx="32760" cy="49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Oval 1281"/>
                  <p:cNvSpPr/>
                  <p:nvPr/>
                </p:nvSpPr>
                <p:spPr>
                  <a:xfrm rot="821400">
                    <a:off x="4825080" y="2447280"/>
                    <a:ext cx="32760" cy="48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Oval 1282"/>
                  <p:cNvSpPr/>
                  <p:nvPr/>
                </p:nvSpPr>
                <p:spPr>
                  <a:xfrm rot="821400">
                    <a:off x="4755240" y="2736720"/>
                    <a:ext cx="32760" cy="49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AutoShape 1283"/>
                  <p:cNvSpPr/>
                  <p:nvPr/>
                </p:nvSpPr>
                <p:spPr>
                  <a:xfrm rot="821400">
                    <a:off x="4242600" y="1949400"/>
                    <a:ext cx="591120" cy="1022040"/>
                  </a:xfrm>
                  <a:prstGeom prst="can">
                    <a:avLst>
                      <a:gd name="adj" fmla="val 2652"/>
                    </a:avLst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2121600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Rectangle 1284"/>
                  <p:cNvSpPr/>
                  <p:nvPr/>
                </p:nvSpPr>
                <p:spPr>
                  <a:xfrm rot="821400">
                    <a:off x="4598280" y="1882080"/>
                    <a:ext cx="148680" cy="9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21216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97" name="Group 1285"/>
                  <p:cNvGrpSpPr/>
                  <p:nvPr/>
                </p:nvGrpSpPr>
                <p:grpSpPr>
                  <a:xfrm>
                    <a:off x="4457160" y="1618920"/>
                    <a:ext cx="360360" cy="708120"/>
                    <a:chOff x="4457160" y="1618920"/>
                    <a:chExt cx="360360" cy="708120"/>
                  </a:xfrm>
                </p:grpSpPr>
                <p:sp>
                  <p:nvSpPr>
                    <p:cNvPr id="898" name="AutoShape 1286"/>
                    <p:cNvSpPr/>
                    <p:nvPr/>
                  </p:nvSpPr>
                  <p:spPr>
                    <a:xfrm rot="11443200">
                      <a:off x="4568760" y="1632600"/>
                      <a:ext cx="199440" cy="54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9" name="AutoShape 1287"/>
                    <p:cNvSpPr/>
                    <p:nvPr/>
                  </p:nvSpPr>
                  <p:spPr>
                    <a:xfrm rot="17021400">
                      <a:off x="4503240" y="2060640"/>
                      <a:ext cx="213120" cy="26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00" name="Group 1288"/>
                <p:cNvGrpSpPr/>
                <p:nvPr/>
              </p:nvGrpSpPr>
              <p:grpSpPr>
                <a:xfrm>
                  <a:off x="4359960" y="1073160"/>
                  <a:ext cx="815400" cy="849960"/>
                  <a:chOff x="4359960" y="1073160"/>
                  <a:chExt cx="815400" cy="849960"/>
                </a:xfrm>
              </p:grpSpPr>
              <p:sp>
                <p:nvSpPr>
                  <p:cNvPr id="901" name="AutoShape 1289"/>
                  <p:cNvSpPr/>
                  <p:nvPr/>
                </p:nvSpPr>
                <p:spPr>
                  <a:xfrm rot="21537000">
                    <a:off x="4764960" y="1384560"/>
                    <a:ext cx="405720" cy="516960"/>
                  </a:xfrm>
                  <a:custGeom>
                    <a:avLst/>
                    <a:gdLst>
                      <a:gd name="textAreaLeft" fmla="*/ 0 w 405720"/>
                      <a:gd name="textAreaRight" fmla="*/ 146520 w 405720"/>
                      <a:gd name="textAreaTop" fmla="*/ 13320 h 516960"/>
                      <a:gd name="textAreaBottom" fmla="*/ 503640 h 516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5400" y="0"/>
                          <a:pt x="10800" y="900"/>
                          <a:pt x="10800" y="1800"/>
                        </a:cubicBezTo>
                        <a:lnTo>
                          <a:pt x="10800" y="9000"/>
                        </a:lnTo>
                        <a:cubicBezTo>
                          <a:pt x="10800" y="9900"/>
                          <a:pt x="16200" y="10800"/>
                          <a:pt x="21600" y="10800"/>
                        </a:cubicBezTo>
                        <a:cubicBezTo>
                          <a:pt x="16200" y="10800"/>
                          <a:pt x="10800" y="11700"/>
                          <a:pt x="10800" y="12600"/>
                        </a:cubicBezTo>
                        <a:lnTo>
                          <a:pt x="10800" y="19800"/>
                        </a:lnTo>
                        <a:cubicBezTo>
                          <a:pt x="10800" y="20700"/>
                          <a:pt x="5400" y="21600"/>
                          <a:pt x="0" y="21600"/>
                        </a:cubicBezTo>
                      </a:path>
                    </a:pathLst>
                  </a:custGeom>
                  <a:noFill/>
                  <a:ln w="12600">
                    <a:solidFill>
                      <a:srgbClr val="dddd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AutoShape 1290"/>
                  <p:cNvSpPr/>
                  <p:nvPr/>
                </p:nvSpPr>
                <p:spPr>
                  <a:xfrm rot="60600">
                    <a:off x="4476600" y="1391400"/>
                    <a:ext cx="446400" cy="527400"/>
                  </a:xfrm>
                  <a:custGeom>
                    <a:avLst/>
                    <a:gdLst>
                      <a:gd name="textAreaLeft" fmla="*/ 21600 w 446400"/>
                      <a:gd name="textAreaRight" fmla="*/ 424800 w 446400"/>
                      <a:gd name="textAreaTop" fmla="*/ 21600 h 527400"/>
                      <a:gd name="textAreaBottom" fmla="*/ 505800 h 527400"/>
                    </a:gdLst>
                    <a:ahLst/>
                    <a:rect l="textAreaLeft" t="textAreaTop" r="textAreaRight" b="textAreaBottom"/>
                    <a:pathLst>
                      <a:path w="21600" h="25516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1916"/>
                        </a:lnTo>
                        <a:arcTo wR="3600" hR="3600" stAng="10800000" swAng="-5400000"/>
                        <a:lnTo>
                          <a:pt x="18000" y="25516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372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AutoShape 1291"/>
                  <p:cNvSpPr/>
                  <p:nvPr/>
                </p:nvSpPr>
                <p:spPr>
                  <a:xfrm rot="20486400">
                    <a:off x="4399920" y="1135800"/>
                    <a:ext cx="446400" cy="324360"/>
                  </a:xfrm>
                  <a:prstGeom prst="triangle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2044800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AutoShape 1292"/>
                  <p:cNvSpPr/>
                  <p:nvPr/>
                </p:nvSpPr>
                <p:spPr>
                  <a:xfrm rot="252600">
                    <a:off x="4662360" y="1573920"/>
                    <a:ext cx="9972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9725" y="3202"/>
                          <a:pt x="17850" y="5080"/>
                          <a:pt x="17850" y="10800"/>
                        </a:cubicBezTo>
                        <a:cubicBezTo>
                          <a:pt x="17850" y="16520"/>
                          <a:pt x="19725" y="1839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ffffff"/>
                      </a:gs>
                    </a:gsLst>
                    <a:lin ang="18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05" name="AutoShape 1293"/>
              <p:cNvSpPr/>
              <p:nvPr/>
            </p:nvSpPr>
            <p:spPr>
              <a:xfrm rot="19567200">
                <a:off x="4462560" y="907200"/>
                <a:ext cx="70920" cy="294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21366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6" name="AutoShape 1294"/>
            <p:cNvSpPr/>
            <p:nvPr/>
          </p:nvSpPr>
          <p:spPr>
            <a:xfrm rot="882600">
              <a:off x="4127760" y="1976400"/>
              <a:ext cx="162000" cy="527040"/>
            </a:xfrm>
            <a:custGeom>
              <a:avLst/>
              <a:gdLst>
                <a:gd name="textAreaLeft" fmla="*/ 7920 w 162000"/>
                <a:gd name="textAreaRight" fmla="*/ 154080 w 162000"/>
                <a:gd name="textAreaTop" fmla="*/ 7920 h 527040"/>
                <a:gd name="textAreaBottom" fmla="*/ 519120 h 527040"/>
              </a:gdLst>
              <a:ahLst/>
              <a:rect l="textAreaLeft" t="textAreaTop" r="textAreaRight" b="textAreaBottom"/>
              <a:pathLst>
                <a:path w="21600" h="70164">
                  <a:moveTo>
                    <a:pt x="3600" y="0"/>
                  </a:moveTo>
                  <a:arcTo wR="3600" hR="3600" stAng="16200000" swAng="-5400000"/>
                  <a:lnTo>
                    <a:pt x="0" y="66564"/>
                  </a:lnTo>
                  <a:arcTo wR="3600" hR="3600" stAng="10800000" swAng="-5400000"/>
                  <a:lnTo>
                    <a:pt x="18000" y="701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115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Group 1295"/>
          <p:cNvGrpSpPr/>
          <p:nvPr/>
        </p:nvGrpSpPr>
        <p:grpSpPr>
          <a:xfrm>
            <a:off x="4326840" y="2004120"/>
            <a:ext cx="401400" cy="636480"/>
            <a:chOff x="4326840" y="2004120"/>
            <a:chExt cx="401400" cy="636480"/>
          </a:xfrm>
        </p:grpSpPr>
        <p:grpSp>
          <p:nvGrpSpPr>
            <p:cNvPr id="908" name="Group 1296"/>
            <p:cNvGrpSpPr/>
            <p:nvPr/>
          </p:nvGrpSpPr>
          <p:grpSpPr>
            <a:xfrm>
              <a:off x="4326840" y="2004120"/>
              <a:ext cx="401400" cy="636480"/>
              <a:chOff x="4326840" y="2004120"/>
              <a:chExt cx="401400" cy="636480"/>
            </a:xfrm>
          </p:grpSpPr>
          <p:sp>
            <p:nvSpPr>
              <p:cNvPr id="909" name="AutoShape 1297"/>
              <p:cNvSpPr/>
              <p:nvPr/>
            </p:nvSpPr>
            <p:spPr>
              <a:xfrm rot="20361000">
                <a:off x="4467600" y="2133360"/>
                <a:ext cx="179640" cy="491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556" y="21600"/>
                    </a:lnTo>
                    <a:lnTo>
                      <a:pt x="20044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8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AutoShape 1298"/>
              <p:cNvSpPr/>
              <p:nvPr/>
            </p:nvSpPr>
            <p:spPr>
              <a:xfrm rot="4339200">
                <a:off x="4372560" y="2012760"/>
                <a:ext cx="191520" cy="236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934" y="2201"/>
                      <a:pt x="12267" y="5080"/>
                      <a:pt x="12267" y="10800"/>
                    </a:cubicBezTo>
                    <a:cubicBezTo>
                      <a:pt x="12267" y="16520"/>
                      <a:pt x="16934" y="1939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162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1" name="AutoShape 1299"/>
            <p:cNvSpPr/>
            <p:nvPr/>
          </p:nvSpPr>
          <p:spPr>
            <a:xfrm rot="20361600">
              <a:off x="4447080" y="2253960"/>
              <a:ext cx="181080" cy="12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AutoShape 1300"/>
            <p:cNvSpPr/>
            <p:nvPr/>
          </p:nvSpPr>
          <p:spPr>
            <a:xfrm rot="20224200">
              <a:off x="4471920" y="2252160"/>
              <a:ext cx="115920" cy="109440"/>
            </a:xfrm>
            <a:custGeom>
              <a:avLst/>
              <a:gdLst/>
              <a:ahLst/>
              <a:rect l="l" t="t" r="r" b="b"/>
              <a:pathLst>
                <a:path w="69" h="73">
                  <a:moveTo>
                    <a:pt x="0" y="27"/>
                  </a:moveTo>
                  <a:lnTo>
                    <a:pt x="26" y="27"/>
                  </a:lnTo>
                  <a:lnTo>
                    <a:pt x="34" y="0"/>
                  </a:lnTo>
                  <a:lnTo>
                    <a:pt x="42" y="27"/>
                  </a:lnTo>
                  <a:lnTo>
                    <a:pt x="68" y="27"/>
                  </a:lnTo>
                  <a:lnTo>
                    <a:pt x="47" y="45"/>
                  </a:lnTo>
                  <a:lnTo>
                    <a:pt x="55" y="72"/>
                  </a:lnTo>
                  <a:lnTo>
                    <a:pt x="34" y="55"/>
                  </a:lnTo>
                  <a:lnTo>
                    <a:pt x="13" y="72"/>
                  </a:lnTo>
                  <a:lnTo>
                    <a:pt x="21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Group 1301"/>
          <p:cNvGrpSpPr/>
          <p:nvPr/>
        </p:nvGrpSpPr>
        <p:grpSpPr>
          <a:xfrm>
            <a:off x="4510080" y="2481840"/>
            <a:ext cx="711720" cy="510480"/>
            <a:chOff x="4510080" y="2481840"/>
            <a:chExt cx="711720" cy="510480"/>
          </a:xfrm>
        </p:grpSpPr>
        <p:grpSp>
          <p:nvGrpSpPr>
            <p:cNvPr id="914" name="Group 1302"/>
            <p:cNvGrpSpPr/>
            <p:nvPr/>
          </p:nvGrpSpPr>
          <p:grpSpPr>
            <a:xfrm>
              <a:off x="4510080" y="2481840"/>
              <a:ext cx="711720" cy="510480"/>
              <a:chOff x="4510080" y="2481840"/>
              <a:chExt cx="711720" cy="510480"/>
            </a:xfrm>
          </p:grpSpPr>
          <p:sp>
            <p:nvSpPr>
              <p:cNvPr id="915" name="AutoShape 1303"/>
              <p:cNvSpPr/>
              <p:nvPr/>
            </p:nvSpPr>
            <p:spPr>
              <a:xfrm rot="18169800">
                <a:off x="4726440" y="2545560"/>
                <a:ext cx="179640" cy="360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308" y="21600"/>
                    </a:lnTo>
                    <a:lnTo>
                      <a:pt x="1729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Oval 1304"/>
              <p:cNvSpPr/>
              <p:nvPr/>
            </p:nvSpPr>
            <p:spPr>
              <a:xfrm rot="18708600">
                <a:off x="4549680" y="2519280"/>
                <a:ext cx="186480" cy="19044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305"/>
              <p:cNvSpPr/>
              <p:nvPr/>
            </p:nvSpPr>
            <p:spPr>
              <a:xfrm rot="6603600">
                <a:off x="4969080" y="2716560"/>
                <a:ext cx="174960" cy="287640"/>
              </a:xfrm>
              <a:custGeom>
                <a:avLst/>
                <a:gdLst/>
                <a:ahLst/>
                <a:rect l="l" t="t" r="r" b="b"/>
                <a:pathLst>
                  <a:path w="1402" h="2302">
                    <a:moveTo>
                      <a:pt x="361" y="1127"/>
                    </a:moveTo>
                    <a:lnTo>
                      <a:pt x="280" y="1116"/>
                    </a:lnTo>
                    <a:lnTo>
                      <a:pt x="373" y="711"/>
                    </a:lnTo>
                    <a:lnTo>
                      <a:pt x="373" y="709"/>
                    </a:lnTo>
                    <a:lnTo>
                      <a:pt x="375" y="705"/>
                    </a:lnTo>
                    <a:lnTo>
                      <a:pt x="375" y="703"/>
                    </a:lnTo>
                    <a:lnTo>
                      <a:pt x="375" y="700"/>
                    </a:lnTo>
                    <a:lnTo>
                      <a:pt x="375" y="698"/>
                    </a:lnTo>
                    <a:lnTo>
                      <a:pt x="375" y="696"/>
                    </a:lnTo>
                    <a:lnTo>
                      <a:pt x="375" y="692"/>
                    </a:lnTo>
                    <a:lnTo>
                      <a:pt x="375" y="690"/>
                    </a:lnTo>
                    <a:lnTo>
                      <a:pt x="375" y="684"/>
                    </a:lnTo>
                    <a:lnTo>
                      <a:pt x="375" y="681"/>
                    </a:lnTo>
                    <a:lnTo>
                      <a:pt x="375" y="675"/>
                    </a:lnTo>
                    <a:lnTo>
                      <a:pt x="375" y="669"/>
                    </a:lnTo>
                    <a:lnTo>
                      <a:pt x="371" y="665"/>
                    </a:lnTo>
                    <a:lnTo>
                      <a:pt x="371" y="660"/>
                    </a:lnTo>
                    <a:lnTo>
                      <a:pt x="369" y="654"/>
                    </a:lnTo>
                    <a:lnTo>
                      <a:pt x="367" y="652"/>
                    </a:lnTo>
                    <a:lnTo>
                      <a:pt x="365" y="646"/>
                    </a:lnTo>
                    <a:lnTo>
                      <a:pt x="363" y="641"/>
                    </a:lnTo>
                    <a:lnTo>
                      <a:pt x="361" y="637"/>
                    </a:lnTo>
                    <a:lnTo>
                      <a:pt x="358" y="633"/>
                    </a:lnTo>
                    <a:lnTo>
                      <a:pt x="356" y="629"/>
                    </a:lnTo>
                    <a:lnTo>
                      <a:pt x="354" y="623"/>
                    </a:lnTo>
                    <a:lnTo>
                      <a:pt x="350" y="620"/>
                    </a:lnTo>
                    <a:lnTo>
                      <a:pt x="346" y="616"/>
                    </a:lnTo>
                    <a:lnTo>
                      <a:pt x="342" y="612"/>
                    </a:lnTo>
                    <a:lnTo>
                      <a:pt x="339" y="610"/>
                    </a:lnTo>
                    <a:lnTo>
                      <a:pt x="335" y="606"/>
                    </a:lnTo>
                    <a:lnTo>
                      <a:pt x="331" y="603"/>
                    </a:lnTo>
                    <a:lnTo>
                      <a:pt x="325" y="601"/>
                    </a:lnTo>
                    <a:lnTo>
                      <a:pt x="321" y="597"/>
                    </a:lnTo>
                    <a:lnTo>
                      <a:pt x="318" y="595"/>
                    </a:lnTo>
                    <a:lnTo>
                      <a:pt x="312" y="593"/>
                    </a:lnTo>
                    <a:lnTo>
                      <a:pt x="306" y="591"/>
                    </a:lnTo>
                    <a:lnTo>
                      <a:pt x="302" y="589"/>
                    </a:lnTo>
                    <a:lnTo>
                      <a:pt x="299" y="589"/>
                    </a:lnTo>
                    <a:lnTo>
                      <a:pt x="295" y="587"/>
                    </a:lnTo>
                    <a:lnTo>
                      <a:pt x="291" y="587"/>
                    </a:lnTo>
                    <a:lnTo>
                      <a:pt x="287" y="585"/>
                    </a:lnTo>
                    <a:lnTo>
                      <a:pt x="285" y="585"/>
                    </a:lnTo>
                    <a:lnTo>
                      <a:pt x="283" y="585"/>
                    </a:lnTo>
                    <a:lnTo>
                      <a:pt x="280" y="585"/>
                    </a:lnTo>
                    <a:lnTo>
                      <a:pt x="276" y="585"/>
                    </a:lnTo>
                    <a:lnTo>
                      <a:pt x="274" y="585"/>
                    </a:lnTo>
                    <a:lnTo>
                      <a:pt x="272" y="585"/>
                    </a:lnTo>
                    <a:lnTo>
                      <a:pt x="268" y="585"/>
                    </a:lnTo>
                    <a:lnTo>
                      <a:pt x="266" y="585"/>
                    </a:lnTo>
                    <a:lnTo>
                      <a:pt x="263" y="585"/>
                    </a:lnTo>
                    <a:lnTo>
                      <a:pt x="261" y="587"/>
                    </a:lnTo>
                    <a:lnTo>
                      <a:pt x="259" y="587"/>
                    </a:lnTo>
                    <a:lnTo>
                      <a:pt x="255" y="587"/>
                    </a:lnTo>
                    <a:lnTo>
                      <a:pt x="253" y="589"/>
                    </a:lnTo>
                    <a:lnTo>
                      <a:pt x="249" y="589"/>
                    </a:lnTo>
                    <a:lnTo>
                      <a:pt x="247" y="589"/>
                    </a:lnTo>
                    <a:lnTo>
                      <a:pt x="243" y="591"/>
                    </a:lnTo>
                    <a:lnTo>
                      <a:pt x="240" y="591"/>
                    </a:lnTo>
                    <a:lnTo>
                      <a:pt x="238" y="593"/>
                    </a:lnTo>
                    <a:lnTo>
                      <a:pt x="236" y="595"/>
                    </a:lnTo>
                    <a:lnTo>
                      <a:pt x="232" y="595"/>
                    </a:lnTo>
                    <a:lnTo>
                      <a:pt x="230" y="597"/>
                    </a:lnTo>
                    <a:lnTo>
                      <a:pt x="228" y="599"/>
                    </a:lnTo>
                    <a:lnTo>
                      <a:pt x="224" y="601"/>
                    </a:lnTo>
                    <a:lnTo>
                      <a:pt x="223" y="601"/>
                    </a:lnTo>
                    <a:lnTo>
                      <a:pt x="219" y="603"/>
                    </a:lnTo>
                    <a:lnTo>
                      <a:pt x="217" y="604"/>
                    </a:lnTo>
                    <a:lnTo>
                      <a:pt x="211" y="608"/>
                    </a:lnTo>
                    <a:lnTo>
                      <a:pt x="207" y="612"/>
                    </a:lnTo>
                    <a:lnTo>
                      <a:pt x="204" y="616"/>
                    </a:lnTo>
                    <a:lnTo>
                      <a:pt x="198" y="618"/>
                    </a:lnTo>
                    <a:lnTo>
                      <a:pt x="194" y="623"/>
                    </a:lnTo>
                    <a:lnTo>
                      <a:pt x="188" y="627"/>
                    </a:lnTo>
                    <a:lnTo>
                      <a:pt x="185" y="633"/>
                    </a:lnTo>
                    <a:lnTo>
                      <a:pt x="181" y="637"/>
                    </a:lnTo>
                    <a:lnTo>
                      <a:pt x="177" y="641"/>
                    </a:lnTo>
                    <a:lnTo>
                      <a:pt x="173" y="646"/>
                    </a:lnTo>
                    <a:lnTo>
                      <a:pt x="169" y="652"/>
                    </a:lnTo>
                    <a:lnTo>
                      <a:pt x="166" y="656"/>
                    </a:lnTo>
                    <a:lnTo>
                      <a:pt x="162" y="662"/>
                    </a:lnTo>
                    <a:lnTo>
                      <a:pt x="160" y="665"/>
                    </a:lnTo>
                    <a:lnTo>
                      <a:pt x="158" y="669"/>
                    </a:lnTo>
                    <a:lnTo>
                      <a:pt x="158" y="671"/>
                    </a:lnTo>
                    <a:lnTo>
                      <a:pt x="156" y="673"/>
                    </a:lnTo>
                    <a:lnTo>
                      <a:pt x="154" y="677"/>
                    </a:lnTo>
                    <a:lnTo>
                      <a:pt x="152" y="679"/>
                    </a:lnTo>
                    <a:lnTo>
                      <a:pt x="152" y="681"/>
                    </a:lnTo>
                    <a:lnTo>
                      <a:pt x="150" y="684"/>
                    </a:lnTo>
                    <a:lnTo>
                      <a:pt x="150" y="688"/>
                    </a:lnTo>
                    <a:lnTo>
                      <a:pt x="146" y="694"/>
                    </a:lnTo>
                    <a:lnTo>
                      <a:pt x="145" y="701"/>
                    </a:lnTo>
                    <a:lnTo>
                      <a:pt x="143" y="709"/>
                    </a:lnTo>
                    <a:lnTo>
                      <a:pt x="139" y="717"/>
                    </a:lnTo>
                    <a:lnTo>
                      <a:pt x="137" y="724"/>
                    </a:lnTo>
                    <a:lnTo>
                      <a:pt x="135" y="732"/>
                    </a:lnTo>
                    <a:lnTo>
                      <a:pt x="131" y="739"/>
                    </a:lnTo>
                    <a:lnTo>
                      <a:pt x="129" y="747"/>
                    </a:lnTo>
                    <a:lnTo>
                      <a:pt x="126" y="755"/>
                    </a:lnTo>
                    <a:lnTo>
                      <a:pt x="124" y="760"/>
                    </a:lnTo>
                    <a:lnTo>
                      <a:pt x="122" y="768"/>
                    </a:lnTo>
                    <a:lnTo>
                      <a:pt x="120" y="776"/>
                    </a:lnTo>
                    <a:lnTo>
                      <a:pt x="116" y="781"/>
                    </a:lnTo>
                    <a:lnTo>
                      <a:pt x="114" y="789"/>
                    </a:lnTo>
                    <a:lnTo>
                      <a:pt x="112" y="796"/>
                    </a:lnTo>
                    <a:lnTo>
                      <a:pt x="110" y="804"/>
                    </a:lnTo>
                    <a:lnTo>
                      <a:pt x="107" y="812"/>
                    </a:lnTo>
                    <a:lnTo>
                      <a:pt x="107" y="817"/>
                    </a:lnTo>
                    <a:lnTo>
                      <a:pt x="103" y="823"/>
                    </a:lnTo>
                    <a:lnTo>
                      <a:pt x="101" y="831"/>
                    </a:lnTo>
                    <a:lnTo>
                      <a:pt x="97" y="836"/>
                    </a:lnTo>
                    <a:lnTo>
                      <a:pt x="97" y="844"/>
                    </a:lnTo>
                    <a:lnTo>
                      <a:pt x="93" y="852"/>
                    </a:lnTo>
                    <a:lnTo>
                      <a:pt x="93" y="857"/>
                    </a:lnTo>
                    <a:lnTo>
                      <a:pt x="89" y="865"/>
                    </a:lnTo>
                    <a:lnTo>
                      <a:pt x="88" y="871"/>
                    </a:lnTo>
                    <a:lnTo>
                      <a:pt x="86" y="878"/>
                    </a:lnTo>
                    <a:lnTo>
                      <a:pt x="84" y="884"/>
                    </a:lnTo>
                    <a:lnTo>
                      <a:pt x="82" y="892"/>
                    </a:lnTo>
                    <a:lnTo>
                      <a:pt x="80" y="899"/>
                    </a:lnTo>
                    <a:lnTo>
                      <a:pt x="78" y="907"/>
                    </a:lnTo>
                    <a:lnTo>
                      <a:pt x="74" y="912"/>
                    </a:lnTo>
                    <a:lnTo>
                      <a:pt x="72" y="920"/>
                    </a:lnTo>
                    <a:lnTo>
                      <a:pt x="72" y="926"/>
                    </a:lnTo>
                    <a:lnTo>
                      <a:pt x="68" y="931"/>
                    </a:lnTo>
                    <a:lnTo>
                      <a:pt x="67" y="939"/>
                    </a:lnTo>
                    <a:lnTo>
                      <a:pt x="65" y="945"/>
                    </a:lnTo>
                    <a:lnTo>
                      <a:pt x="63" y="952"/>
                    </a:lnTo>
                    <a:lnTo>
                      <a:pt x="59" y="958"/>
                    </a:lnTo>
                    <a:lnTo>
                      <a:pt x="57" y="966"/>
                    </a:lnTo>
                    <a:lnTo>
                      <a:pt x="55" y="971"/>
                    </a:lnTo>
                    <a:lnTo>
                      <a:pt x="53" y="979"/>
                    </a:lnTo>
                    <a:lnTo>
                      <a:pt x="51" y="987"/>
                    </a:lnTo>
                    <a:lnTo>
                      <a:pt x="49" y="994"/>
                    </a:lnTo>
                    <a:lnTo>
                      <a:pt x="48" y="1000"/>
                    </a:lnTo>
                    <a:lnTo>
                      <a:pt x="46" y="1007"/>
                    </a:lnTo>
                    <a:lnTo>
                      <a:pt x="44" y="1015"/>
                    </a:lnTo>
                    <a:lnTo>
                      <a:pt x="42" y="1021"/>
                    </a:lnTo>
                    <a:lnTo>
                      <a:pt x="42" y="1028"/>
                    </a:lnTo>
                    <a:lnTo>
                      <a:pt x="38" y="1036"/>
                    </a:lnTo>
                    <a:lnTo>
                      <a:pt x="36" y="1042"/>
                    </a:lnTo>
                    <a:lnTo>
                      <a:pt x="36" y="1049"/>
                    </a:lnTo>
                    <a:lnTo>
                      <a:pt x="34" y="1057"/>
                    </a:lnTo>
                    <a:lnTo>
                      <a:pt x="30" y="1063"/>
                    </a:lnTo>
                    <a:lnTo>
                      <a:pt x="30" y="1070"/>
                    </a:lnTo>
                    <a:lnTo>
                      <a:pt x="29" y="1078"/>
                    </a:lnTo>
                    <a:lnTo>
                      <a:pt x="27" y="1085"/>
                    </a:lnTo>
                    <a:lnTo>
                      <a:pt x="25" y="1093"/>
                    </a:lnTo>
                    <a:lnTo>
                      <a:pt x="23" y="1101"/>
                    </a:lnTo>
                    <a:lnTo>
                      <a:pt x="21" y="1108"/>
                    </a:lnTo>
                    <a:lnTo>
                      <a:pt x="19" y="1116"/>
                    </a:lnTo>
                    <a:lnTo>
                      <a:pt x="17" y="1123"/>
                    </a:lnTo>
                    <a:lnTo>
                      <a:pt x="17" y="1131"/>
                    </a:lnTo>
                    <a:lnTo>
                      <a:pt x="15" y="1139"/>
                    </a:lnTo>
                    <a:lnTo>
                      <a:pt x="13" y="1148"/>
                    </a:lnTo>
                    <a:lnTo>
                      <a:pt x="10" y="1158"/>
                    </a:lnTo>
                    <a:lnTo>
                      <a:pt x="10" y="1165"/>
                    </a:lnTo>
                    <a:lnTo>
                      <a:pt x="8" y="1175"/>
                    </a:lnTo>
                    <a:lnTo>
                      <a:pt x="6" y="1182"/>
                    </a:lnTo>
                    <a:lnTo>
                      <a:pt x="6" y="1192"/>
                    </a:lnTo>
                    <a:lnTo>
                      <a:pt x="4" y="1201"/>
                    </a:lnTo>
                    <a:lnTo>
                      <a:pt x="2" y="1211"/>
                    </a:lnTo>
                    <a:lnTo>
                      <a:pt x="2" y="1218"/>
                    </a:lnTo>
                    <a:lnTo>
                      <a:pt x="0" y="1230"/>
                    </a:lnTo>
                    <a:lnTo>
                      <a:pt x="0" y="1237"/>
                    </a:lnTo>
                    <a:lnTo>
                      <a:pt x="0" y="1247"/>
                    </a:lnTo>
                    <a:lnTo>
                      <a:pt x="0" y="1257"/>
                    </a:lnTo>
                    <a:lnTo>
                      <a:pt x="0" y="1268"/>
                    </a:lnTo>
                    <a:lnTo>
                      <a:pt x="0" y="1276"/>
                    </a:lnTo>
                    <a:lnTo>
                      <a:pt x="0" y="1285"/>
                    </a:lnTo>
                    <a:lnTo>
                      <a:pt x="0" y="1296"/>
                    </a:lnTo>
                    <a:lnTo>
                      <a:pt x="0" y="1304"/>
                    </a:lnTo>
                    <a:lnTo>
                      <a:pt x="0" y="1314"/>
                    </a:lnTo>
                    <a:lnTo>
                      <a:pt x="0" y="1323"/>
                    </a:lnTo>
                    <a:lnTo>
                      <a:pt x="0" y="1333"/>
                    </a:lnTo>
                    <a:lnTo>
                      <a:pt x="2" y="1342"/>
                    </a:lnTo>
                    <a:lnTo>
                      <a:pt x="2" y="1352"/>
                    </a:lnTo>
                    <a:lnTo>
                      <a:pt x="4" y="1363"/>
                    </a:lnTo>
                    <a:lnTo>
                      <a:pt x="4" y="1371"/>
                    </a:lnTo>
                    <a:lnTo>
                      <a:pt x="6" y="1382"/>
                    </a:lnTo>
                    <a:lnTo>
                      <a:pt x="8" y="1390"/>
                    </a:lnTo>
                    <a:lnTo>
                      <a:pt x="8" y="1401"/>
                    </a:lnTo>
                    <a:lnTo>
                      <a:pt x="10" y="1409"/>
                    </a:lnTo>
                    <a:lnTo>
                      <a:pt x="11" y="1420"/>
                    </a:lnTo>
                    <a:lnTo>
                      <a:pt x="13" y="1429"/>
                    </a:lnTo>
                    <a:lnTo>
                      <a:pt x="15" y="1439"/>
                    </a:lnTo>
                    <a:lnTo>
                      <a:pt x="17" y="1448"/>
                    </a:lnTo>
                    <a:lnTo>
                      <a:pt x="19" y="1458"/>
                    </a:lnTo>
                    <a:lnTo>
                      <a:pt x="21" y="1468"/>
                    </a:lnTo>
                    <a:lnTo>
                      <a:pt x="23" y="1477"/>
                    </a:lnTo>
                    <a:lnTo>
                      <a:pt x="27" y="1487"/>
                    </a:lnTo>
                    <a:lnTo>
                      <a:pt x="29" y="1496"/>
                    </a:lnTo>
                    <a:lnTo>
                      <a:pt x="30" y="1506"/>
                    </a:lnTo>
                    <a:lnTo>
                      <a:pt x="34" y="1515"/>
                    </a:lnTo>
                    <a:lnTo>
                      <a:pt x="36" y="1525"/>
                    </a:lnTo>
                    <a:lnTo>
                      <a:pt x="38" y="1534"/>
                    </a:lnTo>
                    <a:lnTo>
                      <a:pt x="42" y="1544"/>
                    </a:lnTo>
                    <a:lnTo>
                      <a:pt x="46" y="1553"/>
                    </a:lnTo>
                    <a:lnTo>
                      <a:pt x="48" y="1561"/>
                    </a:lnTo>
                    <a:lnTo>
                      <a:pt x="51" y="1572"/>
                    </a:lnTo>
                    <a:lnTo>
                      <a:pt x="55" y="1580"/>
                    </a:lnTo>
                    <a:lnTo>
                      <a:pt x="59" y="1589"/>
                    </a:lnTo>
                    <a:lnTo>
                      <a:pt x="63" y="1599"/>
                    </a:lnTo>
                    <a:lnTo>
                      <a:pt x="67" y="1608"/>
                    </a:lnTo>
                    <a:lnTo>
                      <a:pt x="68" y="1616"/>
                    </a:lnTo>
                    <a:lnTo>
                      <a:pt x="74" y="1627"/>
                    </a:lnTo>
                    <a:lnTo>
                      <a:pt x="78" y="1635"/>
                    </a:lnTo>
                    <a:lnTo>
                      <a:pt x="82" y="1644"/>
                    </a:lnTo>
                    <a:lnTo>
                      <a:pt x="86" y="1652"/>
                    </a:lnTo>
                    <a:lnTo>
                      <a:pt x="89" y="1661"/>
                    </a:lnTo>
                    <a:lnTo>
                      <a:pt x="95" y="1669"/>
                    </a:lnTo>
                    <a:lnTo>
                      <a:pt x="99" y="1679"/>
                    </a:lnTo>
                    <a:lnTo>
                      <a:pt x="103" y="1688"/>
                    </a:lnTo>
                    <a:lnTo>
                      <a:pt x="108" y="1696"/>
                    </a:lnTo>
                    <a:lnTo>
                      <a:pt x="114" y="1703"/>
                    </a:lnTo>
                    <a:lnTo>
                      <a:pt x="118" y="1713"/>
                    </a:lnTo>
                    <a:lnTo>
                      <a:pt x="124" y="1722"/>
                    </a:lnTo>
                    <a:lnTo>
                      <a:pt x="127" y="1732"/>
                    </a:lnTo>
                    <a:lnTo>
                      <a:pt x="131" y="1736"/>
                    </a:lnTo>
                    <a:lnTo>
                      <a:pt x="135" y="1739"/>
                    </a:lnTo>
                    <a:lnTo>
                      <a:pt x="135" y="1743"/>
                    </a:lnTo>
                    <a:lnTo>
                      <a:pt x="137" y="1745"/>
                    </a:lnTo>
                    <a:lnTo>
                      <a:pt x="139" y="1747"/>
                    </a:lnTo>
                    <a:lnTo>
                      <a:pt x="141" y="1751"/>
                    </a:lnTo>
                    <a:lnTo>
                      <a:pt x="143" y="1755"/>
                    </a:lnTo>
                    <a:lnTo>
                      <a:pt x="143" y="1756"/>
                    </a:lnTo>
                    <a:lnTo>
                      <a:pt x="145" y="1760"/>
                    </a:lnTo>
                    <a:lnTo>
                      <a:pt x="146" y="1762"/>
                    </a:lnTo>
                    <a:lnTo>
                      <a:pt x="148" y="1766"/>
                    </a:lnTo>
                    <a:lnTo>
                      <a:pt x="150" y="1768"/>
                    </a:lnTo>
                    <a:lnTo>
                      <a:pt x="152" y="1770"/>
                    </a:lnTo>
                    <a:lnTo>
                      <a:pt x="156" y="1774"/>
                    </a:lnTo>
                    <a:lnTo>
                      <a:pt x="158" y="1777"/>
                    </a:lnTo>
                    <a:lnTo>
                      <a:pt x="160" y="1779"/>
                    </a:lnTo>
                    <a:lnTo>
                      <a:pt x="160" y="1783"/>
                    </a:lnTo>
                    <a:lnTo>
                      <a:pt x="162" y="1787"/>
                    </a:lnTo>
                    <a:lnTo>
                      <a:pt x="166" y="1789"/>
                    </a:lnTo>
                    <a:lnTo>
                      <a:pt x="166" y="1791"/>
                    </a:lnTo>
                    <a:lnTo>
                      <a:pt x="167" y="1794"/>
                    </a:lnTo>
                    <a:lnTo>
                      <a:pt x="169" y="1796"/>
                    </a:lnTo>
                    <a:lnTo>
                      <a:pt x="171" y="1800"/>
                    </a:lnTo>
                    <a:lnTo>
                      <a:pt x="173" y="1802"/>
                    </a:lnTo>
                    <a:lnTo>
                      <a:pt x="175" y="1806"/>
                    </a:lnTo>
                    <a:lnTo>
                      <a:pt x="177" y="1808"/>
                    </a:lnTo>
                    <a:lnTo>
                      <a:pt x="179" y="1812"/>
                    </a:lnTo>
                    <a:lnTo>
                      <a:pt x="181" y="1815"/>
                    </a:lnTo>
                    <a:lnTo>
                      <a:pt x="183" y="1817"/>
                    </a:lnTo>
                    <a:lnTo>
                      <a:pt x="185" y="1821"/>
                    </a:lnTo>
                    <a:lnTo>
                      <a:pt x="188" y="1827"/>
                    </a:lnTo>
                    <a:lnTo>
                      <a:pt x="190" y="1831"/>
                    </a:lnTo>
                    <a:lnTo>
                      <a:pt x="194" y="1836"/>
                    </a:lnTo>
                    <a:lnTo>
                      <a:pt x="198" y="1842"/>
                    </a:lnTo>
                    <a:lnTo>
                      <a:pt x="200" y="1846"/>
                    </a:lnTo>
                    <a:lnTo>
                      <a:pt x="204" y="1850"/>
                    </a:lnTo>
                    <a:lnTo>
                      <a:pt x="205" y="1853"/>
                    </a:lnTo>
                    <a:lnTo>
                      <a:pt x="207" y="1859"/>
                    </a:lnTo>
                    <a:lnTo>
                      <a:pt x="209" y="1861"/>
                    </a:lnTo>
                    <a:lnTo>
                      <a:pt x="211" y="1863"/>
                    </a:lnTo>
                    <a:lnTo>
                      <a:pt x="213" y="1867"/>
                    </a:lnTo>
                    <a:lnTo>
                      <a:pt x="215" y="1869"/>
                    </a:lnTo>
                    <a:lnTo>
                      <a:pt x="217" y="1870"/>
                    </a:lnTo>
                    <a:lnTo>
                      <a:pt x="219" y="1874"/>
                    </a:lnTo>
                    <a:lnTo>
                      <a:pt x="141" y="2163"/>
                    </a:lnTo>
                    <a:lnTo>
                      <a:pt x="143" y="2165"/>
                    </a:lnTo>
                    <a:lnTo>
                      <a:pt x="146" y="2165"/>
                    </a:lnTo>
                    <a:lnTo>
                      <a:pt x="150" y="2167"/>
                    </a:lnTo>
                    <a:lnTo>
                      <a:pt x="152" y="2167"/>
                    </a:lnTo>
                    <a:lnTo>
                      <a:pt x="154" y="2167"/>
                    </a:lnTo>
                    <a:lnTo>
                      <a:pt x="158" y="2167"/>
                    </a:lnTo>
                    <a:lnTo>
                      <a:pt x="162" y="2171"/>
                    </a:lnTo>
                    <a:lnTo>
                      <a:pt x="166" y="2171"/>
                    </a:lnTo>
                    <a:lnTo>
                      <a:pt x="167" y="2173"/>
                    </a:lnTo>
                    <a:lnTo>
                      <a:pt x="171" y="2173"/>
                    </a:lnTo>
                    <a:lnTo>
                      <a:pt x="175" y="2175"/>
                    </a:lnTo>
                    <a:lnTo>
                      <a:pt x="181" y="2175"/>
                    </a:lnTo>
                    <a:lnTo>
                      <a:pt x="185" y="2175"/>
                    </a:lnTo>
                    <a:lnTo>
                      <a:pt x="188" y="2177"/>
                    </a:lnTo>
                    <a:lnTo>
                      <a:pt x="194" y="2180"/>
                    </a:lnTo>
                    <a:lnTo>
                      <a:pt x="198" y="2180"/>
                    </a:lnTo>
                    <a:lnTo>
                      <a:pt x="204" y="2182"/>
                    </a:lnTo>
                    <a:lnTo>
                      <a:pt x="209" y="2182"/>
                    </a:lnTo>
                    <a:lnTo>
                      <a:pt x="215" y="2184"/>
                    </a:lnTo>
                    <a:lnTo>
                      <a:pt x="219" y="2186"/>
                    </a:lnTo>
                    <a:lnTo>
                      <a:pt x="224" y="2188"/>
                    </a:lnTo>
                    <a:lnTo>
                      <a:pt x="232" y="2188"/>
                    </a:lnTo>
                    <a:lnTo>
                      <a:pt x="238" y="2190"/>
                    </a:lnTo>
                    <a:lnTo>
                      <a:pt x="243" y="2190"/>
                    </a:lnTo>
                    <a:lnTo>
                      <a:pt x="251" y="2192"/>
                    </a:lnTo>
                    <a:lnTo>
                      <a:pt x="257" y="2194"/>
                    </a:lnTo>
                    <a:lnTo>
                      <a:pt x="264" y="2194"/>
                    </a:lnTo>
                    <a:lnTo>
                      <a:pt x="270" y="2196"/>
                    </a:lnTo>
                    <a:lnTo>
                      <a:pt x="276" y="2196"/>
                    </a:lnTo>
                    <a:lnTo>
                      <a:pt x="283" y="2197"/>
                    </a:lnTo>
                    <a:lnTo>
                      <a:pt x="291" y="2199"/>
                    </a:lnTo>
                    <a:lnTo>
                      <a:pt x="297" y="2199"/>
                    </a:lnTo>
                    <a:lnTo>
                      <a:pt x="304" y="2199"/>
                    </a:lnTo>
                    <a:lnTo>
                      <a:pt x="312" y="2199"/>
                    </a:lnTo>
                    <a:lnTo>
                      <a:pt x="320" y="2201"/>
                    </a:lnTo>
                    <a:lnTo>
                      <a:pt x="325" y="2201"/>
                    </a:lnTo>
                    <a:lnTo>
                      <a:pt x="333" y="2201"/>
                    </a:lnTo>
                    <a:lnTo>
                      <a:pt x="341" y="2201"/>
                    </a:lnTo>
                    <a:lnTo>
                      <a:pt x="348" y="2201"/>
                    </a:lnTo>
                    <a:lnTo>
                      <a:pt x="356" y="2201"/>
                    </a:lnTo>
                    <a:lnTo>
                      <a:pt x="363" y="2201"/>
                    </a:lnTo>
                    <a:lnTo>
                      <a:pt x="371" y="2201"/>
                    </a:lnTo>
                    <a:lnTo>
                      <a:pt x="379" y="2201"/>
                    </a:lnTo>
                    <a:lnTo>
                      <a:pt x="386" y="2201"/>
                    </a:lnTo>
                    <a:lnTo>
                      <a:pt x="394" y="2201"/>
                    </a:lnTo>
                    <a:lnTo>
                      <a:pt x="401" y="2199"/>
                    </a:lnTo>
                    <a:lnTo>
                      <a:pt x="409" y="2199"/>
                    </a:lnTo>
                    <a:lnTo>
                      <a:pt x="415" y="2197"/>
                    </a:lnTo>
                    <a:lnTo>
                      <a:pt x="422" y="2196"/>
                    </a:lnTo>
                    <a:lnTo>
                      <a:pt x="432" y="2196"/>
                    </a:lnTo>
                    <a:lnTo>
                      <a:pt x="439" y="2194"/>
                    </a:lnTo>
                    <a:lnTo>
                      <a:pt x="447" y="2192"/>
                    </a:lnTo>
                    <a:lnTo>
                      <a:pt x="455" y="2190"/>
                    </a:lnTo>
                    <a:lnTo>
                      <a:pt x="462" y="2188"/>
                    </a:lnTo>
                    <a:lnTo>
                      <a:pt x="470" y="2188"/>
                    </a:lnTo>
                    <a:lnTo>
                      <a:pt x="476" y="2184"/>
                    </a:lnTo>
                    <a:lnTo>
                      <a:pt x="483" y="2182"/>
                    </a:lnTo>
                    <a:lnTo>
                      <a:pt x="491" y="2180"/>
                    </a:lnTo>
                    <a:lnTo>
                      <a:pt x="498" y="2175"/>
                    </a:lnTo>
                    <a:lnTo>
                      <a:pt x="504" y="2173"/>
                    </a:lnTo>
                    <a:lnTo>
                      <a:pt x="512" y="2169"/>
                    </a:lnTo>
                    <a:lnTo>
                      <a:pt x="517" y="2165"/>
                    </a:lnTo>
                    <a:lnTo>
                      <a:pt x="525" y="2161"/>
                    </a:lnTo>
                    <a:lnTo>
                      <a:pt x="531" y="2158"/>
                    </a:lnTo>
                    <a:lnTo>
                      <a:pt x="536" y="2154"/>
                    </a:lnTo>
                    <a:lnTo>
                      <a:pt x="542" y="2150"/>
                    </a:lnTo>
                    <a:lnTo>
                      <a:pt x="550" y="2146"/>
                    </a:lnTo>
                    <a:lnTo>
                      <a:pt x="555" y="2142"/>
                    </a:lnTo>
                    <a:lnTo>
                      <a:pt x="559" y="2137"/>
                    </a:lnTo>
                    <a:lnTo>
                      <a:pt x="565" y="2133"/>
                    </a:lnTo>
                    <a:lnTo>
                      <a:pt x="571" y="2129"/>
                    </a:lnTo>
                    <a:lnTo>
                      <a:pt x="576" y="2123"/>
                    </a:lnTo>
                    <a:lnTo>
                      <a:pt x="582" y="2120"/>
                    </a:lnTo>
                    <a:lnTo>
                      <a:pt x="588" y="2114"/>
                    </a:lnTo>
                    <a:lnTo>
                      <a:pt x="592" y="2110"/>
                    </a:lnTo>
                    <a:lnTo>
                      <a:pt x="595" y="2106"/>
                    </a:lnTo>
                    <a:lnTo>
                      <a:pt x="601" y="2101"/>
                    </a:lnTo>
                    <a:lnTo>
                      <a:pt x="605" y="2095"/>
                    </a:lnTo>
                    <a:lnTo>
                      <a:pt x="611" y="2091"/>
                    </a:lnTo>
                    <a:lnTo>
                      <a:pt x="614" y="2085"/>
                    </a:lnTo>
                    <a:lnTo>
                      <a:pt x="618" y="2080"/>
                    </a:lnTo>
                    <a:lnTo>
                      <a:pt x="624" y="2076"/>
                    </a:lnTo>
                    <a:lnTo>
                      <a:pt x="628" y="2070"/>
                    </a:lnTo>
                    <a:lnTo>
                      <a:pt x="632" y="2064"/>
                    </a:lnTo>
                    <a:lnTo>
                      <a:pt x="635" y="2059"/>
                    </a:lnTo>
                    <a:lnTo>
                      <a:pt x="637" y="2055"/>
                    </a:lnTo>
                    <a:lnTo>
                      <a:pt x="643" y="2049"/>
                    </a:lnTo>
                    <a:lnTo>
                      <a:pt x="645" y="2043"/>
                    </a:lnTo>
                    <a:lnTo>
                      <a:pt x="649" y="2040"/>
                    </a:lnTo>
                    <a:lnTo>
                      <a:pt x="652" y="2034"/>
                    </a:lnTo>
                    <a:lnTo>
                      <a:pt x="654" y="2030"/>
                    </a:lnTo>
                    <a:lnTo>
                      <a:pt x="658" y="2024"/>
                    </a:lnTo>
                    <a:lnTo>
                      <a:pt x="660" y="2021"/>
                    </a:lnTo>
                    <a:lnTo>
                      <a:pt x="664" y="2015"/>
                    </a:lnTo>
                    <a:lnTo>
                      <a:pt x="666" y="2011"/>
                    </a:lnTo>
                    <a:lnTo>
                      <a:pt x="668" y="2005"/>
                    </a:lnTo>
                    <a:lnTo>
                      <a:pt x="672" y="2002"/>
                    </a:lnTo>
                    <a:lnTo>
                      <a:pt x="673" y="1998"/>
                    </a:lnTo>
                    <a:lnTo>
                      <a:pt x="675" y="1992"/>
                    </a:lnTo>
                    <a:lnTo>
                      <a:pt x="677" y="1986"/>
                    </a:lnTo>
                    <a:lnTo>
                      <a:pt x="679" y="1983"/>
                    </a:lnTo>
                    <a:lnTo>
                      <a:pt x="681" y="1979"/>
                    </a:lnTo>
                    <a:lnTo>
                      <a:pt x="683" y="1975"/>
                    </a:lnTo>
                    <a:lnTo>
                      <a:pt x="685" y="1971"/>
                    </a:lnTo>
                    <a:lnTo>
                      <a:pt x="687" y="1969"/>
                    </a:lnTo>
                    <a:lnTo>
                      <a:pt x="689" y="1964"/>
                    </a:lnTo>
                    <a:lnTo>
                      <a:pt x="691" y="1962"/>
                    </a:lnTo>
                    <a:lnTo>
                      <a:pt x="692" y="1958"/>
                    </a:lnTo>
                    <a:lnTo>
                      <a:pt x="692" y="1954"/>
                    </a:lnTo>
                    <a:lnTo>
                      <a:pt x="692" y="1952"/>
                    </a:lnTo>
                    <a:lnTo>
                      <a:pt x="694" y="1950"/>
                    </a:lnTo>
                    <a:lnTo>
                      <a:pt x="696" y="1945"/>
                    </a:lnTo>
                    <a:lnTo>
                      <a:pt x="698" y="1941"/>
                    </a:lnTo>
                    <a:lnTo>
                      <a:pt x="700" y="1937"/>
                    </a:lnTo>
                    <a:lnTo>
                      <a:pt x="700" y="1935"/>
                    </a:lnTo>
                    <a:lnTo>
                      <a:pt x="700" y="1933"/>
                    </a:lnTo>
                    <a:lnTo>
                      <a:pt x="702" y="1933"/>
                    </a:lnTo>
                    <a:lnTo>
                      <a:pt x="740" y="1943"/>
                    </a:lnTo>
                    <a:lnTo>
                      <a:pt x="740" y="1943"/>
                    </a:lnTo>
                    <a:lnTo>
                      <a:pt x="738" y="1945"/>
                    </a:lnTo>
                    <a:lnTo>
                      <a:pt x="738" y="1947"/>
                    </a:lnTo>
                    <a:lnTo>
                      <a:pt x="738" y="1950"/>
                    </a:lnTo>
                    <a:lnTo>
                      <a:pt x="738" y="1954"/>
                    </a:lnTo>
                    <a:lnTo>
                      <a:pt x="738" y="1958"/>
                    </a:lnTo>
                    <a:lnTo>
                      <a:pt x="736" y="1962"/>
                    </a:lnTo>
                    <a:lnTo>
                      <a:pt x="736" y="1964"/>
                    </a:lnTo>
                    <a:lnTo>
                      <a:pt x="736" y="1967"/>
                    </a:lnTo>
                    <a:lnTo>
                      <a:pt x="736" y="1971"/>
                    </a:lnTo>
                    <a:lnTo>
                      <a:pt x="736" y="1975"/>
                    </a:lnTo>
                    <a:lnTo>
                      <a:pt x="736" y="1979"/>
                    </a:lnTo>
                    <a:lnTo>
                      <a:pt x="736" y="1983"/>
                    </a:lnTo>
                    <a:lnTo>
                      <a:pt x="736" y="1985"/>
                    </a:lnTo>
                    <a:lnTo>
                      <a:pt x="736" y="1990"/>
                    </a:lnTo>
                    <a:lnTo>
                      <a:pt x="736" y="1994"/>
                    </a:lnTo>
                    <a:lnTo>
                      <a:pt x="736" y="1998"/>
                    </a:lnTo>
                    <a:lnTo>
                      <a:pt x="736" y="2004"/>
                    </a:lnTo>
                    <a:lnTo>
                      <a:pt x="736" y="2007"/>
                    </a:lnTo>
                    <a:lnTo>
                      <a:pt x="736" y="2013"/>
                    </a:lnTo>
                    <a:lnTo>
                      <a:pt x="736" y="2015"/>
                    </a:lnTo>
                    <a:lnTo>
                      <a:pt x="736" y="2021"/>
                    </a:lnTo>
                    <a:lnTo>
                      <a:pt x="736" y="2026"/>
                    </a:lnTo>
                    <a:lnTo>
                      <a:pt x="736" y="2030"/>
                    </a:lnTo>
                    <a:lnTo>
                      <a:pt x="736" y="2036"/>
                    </a:lnTo>
                    <a:lnTo>
                      <a:pt x="736" y="2042"/>
                    </a:lnTo>
                    <a:lnTo>
                      <a:pt x="736" y="2047"/>
                    </a:lnTo>
                    <a:lnTo>
                      <a:pt x="738" y="2051"/>
                    </a:lnTo>
                    <a:lnTo>
                      <a:pt x="738" y="2057"/>
                    </a:lnTo>
                    <a:lnTo>
                      <a:pt x="738" y="2062"/>
                    </a:lnTo>
                    <a:lnTo>
                      <a:pt x="740" y="2066"/>
                    </a:lnTo>
                    <a:lnTo>
                      <a:pt x="740" y="2072"/>
                    </a:lnTo>
                    <a:lnTo>
                      <a:pt x="742" y="2078"/>
                    </a:lnTo>
                    <a:lnTo>
                      <a:pt x="744" y="2083"/>
                    </a:lnTo>
                    <a:lnTo>
                      <a:pt x="744" y="2091"/>
                    </a:lnTo>
                    <a:lnTo>
                      <a:pt x="746" y="2095"/>
                    </a:lnTo>
                    <a:lnTo>
                      <a:pt x="748" y="2101"/>
                    </a:lnTo>
                    <a:lnTo>
                      <a:pt x="748" y="2106"/>
                    </a:lnTo>
                    <a:lnTo>
                      <a:pt x="751" y="2110"/>
                    </a:lnTo>
                    <a:lnTo>
                      <a:pt x="753" y="2118"/>
                    </a:lnTo>
                    <a:lnTo>
                      <a:pt x="753" y="2123"/>
                    </a:lnTo>
                    <a:lnTo>
                      <a:pt x="757" y="2129"/>
                    </a:lnTo>
                    <a:lnTo>
                      <a:pt x="759" y="2135"/>
                    </a:lnTo>
                    <a:lnTo>
                      <a:pt x="761" y="2139"/>
                    </a:lnTo>
                    <a:lnTo>
                      <a:pt x="765" y="2144"/>
                    </a:lnTo>
                    <a:lnTo>
                      <a:pt x="767" y="2150"/>
                    </a:lnTo>
                    <a:lnTo>
                      <a:pt x="769" y="2156"/>
                    </a:lnTo>
                    <a:lnTo>
                      <a:pt x="772" y="2159"/>
                    </a:lnTo>
                    <a:lnTo>
                      <a:pt x="776" y="2165"/>
                    </a:lnTo>
                    <a:lnTo>
                      <a:pt x="780" y="2171"/>
                    </a:lnTo>
                    <a:lnTo>
                      <a:pt x="782" y="2175"/>
                    </a:lnTo>
                    <a:lnTo>
                      <a:pt x="786" y="2180"/>
                    </a:lnTo>
                    <a:lnTo>
                      <a:pt x="789" y="2186"/>
                    </a:lnTo>
                    <a:lnTo>
                      <a:pt x="795" y="2190"/>
                    </a:lnTo>
                    <a:lnTo>
                      <a:pt x="799" y="2196"/>
                    </a:lnTo>
                    <a:lnTo>
                      <a:pt x="805" y="2201"/>
                    </a:lnTo>
                    <a:lnTo>
                      <a:pt x="808" y="2205"/>
                    </a:lnTo>
                    <a:lnTo>
                      <a:pt x="814" y="2209"/>
                    </a:lnTo>
                    <a:lnTo>
                      <a:pt x="818" y="2213"/>
                    </a:lnTo>
                    <a:lnTo>
                      <a:pt x="824" y="2216"/>
                    </a:lnTo>
                    <a:lnTo>
                      <a:pt x="828" y="2222"/>
                    </a:lnTo>
                    <a:lnTo>
                      <a:pt x="833" y="2224"/>
                    </a:lnTo>
                    <a:lnTo>
                      <a:pt x="839" y="2228"/>
                    </a:lnTo>
                    <a:lnTo>
                      <a:pt x="845" y="2232"/>
                    </a:lnTo>
                    <a:lnTo>
                      <a:pt x="848" y="2235"/>
                    </a:lnTo>
                    <a:lnTo>
                      <a:pt x="854" y="2239"/>
                    </a:lnTo>
                    <a:lnTo>
                      <a:pt x="858" y="2243"/>
                    </a:lnTo>
                    <a:lnTo>
                      <a:pt x="864" y="2245"/>
                    </a:lnTo>
                    <a:lnTo>
                      <a:pt x="867" y="2249"/>
                    </a:lnTo>
                    <a:lnTo>
                      <a:pt x="873" y="2253"/>
                    </a:lnTo>
                    <a:lnTo>
                      <a:pt x="877" y="2256"/>
                    </a:lnTo>
                    <a:lnTo>
                      <a:pt x="883" y="2258"/>
                    </a:lnTo>
                    <a:lnTo>
                      <a:pt x="890" y="2260"/>
                    </a:lnTo>
                    <a:lnTo>
                      <a:pt x="896" y="2264"/>
                    </a:lnTo>
                    <a:lnTo>
                      <a:pt x="900" y="2266"/>
                    </a:lnTo>
                    <a:lnTo>
                      <a:pt x="904" y="2268"/>
                    </a:lnTo>
                    <a:lnTo>
                      <a:pt x="907" y="2270"/>
                    </a:lnTo>
                    <a:lnTo>
                      <a:pt x="913" y="2273"/>
                    </a:lnTo>
                    <a:lnTo>
                      <a:pt x="919" y="2275"/>
                    </a:lnTo>
                    <a:lnTo>
                      <a:pt x="925" y="2277"/>
                    </a:lnTo>
                    <a:lnTo>
                      <a:pt x="928" y="2279"/>
                    </a:lnTo>
                    <a:lnTo>
                      <a:pt x="934" y="2281"/>
                    </a:lnTo>
                    <a:lnTo>
                      <a:pt x="938" y="2283"/>
                    </a:lnTo>
                    <a:lnTo>
                      <a:pt x="942" y="2285"/>
                    </a:lnTo>
                    <a:lnTo>
                      <a:pt x="947" y="2287"/>
                    </a:lnTo>
                    <a:lnTo>
                      <a:pt x="951" y="2289"/>
                    </a:lnTo>
                    <a:lnTo>
                      <a:pt x="955" y="2289"/>
                    </a:lnTo>
                    <a:lnTo>
                      <a:pt x="961" y="2291"/>
                    </a:lnTo>
                    <a:lnTo>
                      <a:pt x="964" y="2291"/>
                    </a:lnTo>
                    <a:lnTo>
                      <a:pt x="968" y="2294"/>
                    </a:lnTo>
                    <a:lnTo>
                      <a:pt x="972" y="2294"/>
                    </a:lnTo>
                    <a:lnTo>
                      <a:pt x="978" y="2294"/>
                    </a:lnTo>
                    <a:lnTo>
                      <a:pt x="982" y="2296"/>
                    </a:lnTo>
                    <a:lnTo>
                      <a:pt x="985" y="2296"/>
                    </a:lnTo>
                    <a:lnTo>
                      <a:pt x="989" y="2296"/>
                    </a:lnTo>
                    <a:lnTo>
                      <a:pt x="993" y="2298"/>
                    </a:lnTo>
                    <a:lnTo>
                      <a:pt x="997" y="2298"/>
                    </a:lnTo>
                    <a:lnTo>
                      <a:pt x="1001" y="2298"/>
                    </a:lnTo>
                    <a:lnTo>
                      <a:pt x="1004" y="2298"/>
                    </a:lnTo>
                    <a:lnTo>
                      <a:pt x="1008" y="2300"/>
                    </a:lnTo>
                    <a:lnTo>
                      <a:pt x="1010" y="2300"/>
                    </a:lnTo>
                    <a:lnTo>
                      <a:pt x="1014" y="2300"/>
                    </a:lnTo>
                    <a:lnTo>
                      <a:pt x="1016" y="2300"/>
                    </a:lnTo>
                    <a:lnTo>
                      <a:pt x="1020" y="2300"/>
                    </a:lnTo>
                    <a:lnTo>
                      <a:pt x="1022" y="2300"/>
                    </a:lnTo>
                    <a:lnTo>
                      <a:pt x="1025" y="2302"/>
                    </a:lnTo>
                    <a:lnTo>
                      <a:pt x="1029" y="2300"/>
                    </a:lnTo>
                    <a:lnTo>
                      <a:pt x="1035" y="2300"/>
                    </a:lnTo>
                    <a:lnTo>
                      <a:pt x="1039" y="2298"/>
                    </a:lnTo>
                    <a:lnTo>
                      <a:pt x="1042" y="2298"/>
                    </a:lnTo>
                    <a:lnTo>
                      <a:pt x="1044" y="2296"/>
                    </a:lnTo>
                    <a:lnTo>
                      <a:pt x="1048" y="2296"/>
                    </a:lnTo>
                    <a:lnTo>
                      <a:pt x="1048" y="2294"/>
                    </a:lnTo>
                    <a:lnTo>
                      <a:pt x="1050" y="2294"/>
                    </a:lnTo>
                    <a:lnTo>
                      <a:pt x="1246" y="1334"/>
                    </a:lnTo>
                    <a:lnTo>
                      <a:pt x="1246" y="1333"/>
                    </a:lnTo>
                    <a:lnTo>
                      <a:pt x="1248" y="1331"/>
                    </a:lnTo>
                    <a:lnTo>
                      <a:pt x="1250" y="1327"/>
                    </a:lnTo>
                    <a:lnTo>
                      <a:pt x="1252" y="1325"/>
                    </a:lnTo>
                    <a:lnTo>
                      <a:pt x="1252" y="1323"/>
                    </a:lnTo>
                    <a:lnTo>
                      <a:pt x="1254" y="1319"/>
                    </a:lnTo>
                    <a:lnTo>
                      <a:pt x="1256" y="1315"/>
                    </a:lnTo>
                    <a:lnTo>
                      <a:pt x="1259" y="1312"/>
                    </a:lnTo>
                    <a:lnTo>
                      <a:pt x="1259" y="1306"/>
                    </a:lnTo>
                    <a:lnTo>
                      <a:pt x="1263" y="1302"/>
                    </a:lnTo>
                    <a:lnTo>
                      <a:pt x="1265" y="1296"/>
                    </a:lnTo>
                    <a:lnTo>
                      <a:pt x="1269" y="1293"/>
                    </a:lnTo>
                    <a:lnTo>
                      <a:pt x="1271" y="1285"/>
                    </a:lnTo>
                    <a:lnTo>
                      <a:pt x="1275" y="1281"/>
                    </a:lnTo>
                    <a:lnTo>
                      <a:pt x="1276" y="1274"/>
                    </a:lnTo>
                    <a:lnTo>
                      <a:pt x="1280" y="1266"/>
                    </a:lnTo>
                    <a:lnTo>
                      <a:pt x="1284" y="1258"/>
                    </a:lnTo>
                    <a:lnTo>
                      <a:pt x="1288" y="1249"/>
                    </a:lnTo>
                    <a:lnTo>
                      <a:pt x="1290" y="1241"/>
                    </a:lnTo>
                    <a:lnTo>
                      <a:pt x="1294" y="1234"/>
                    </a:lnTo>
                    <a:lnTo>
                      <a:pt x="1297" y="1224"/>
                    </a:lnTo>
                    <a:lnTo>
                      <a:pt x="1301" y="1217"/>
                    </a:lnTo>
                    <a:lnTo>
                      <a:pt x="1305" y="1207"/>
                    </a:lnTo>
                    <a:lnTo>
                      <a:pt x="1309" y="1198"/>
                    </a:lnTo>
                    <a:lnTo>
                      <a:pt x="1313" y="1188"/>
                    </a:lnTo>
                    <a:lnTo>
                      <a:pt x="1316" y="1177"/>
                    </a:lnTo>
                    <a:lnTo>
                      <a:pt x="1320" y="1165"/>
                    </a:lnTo>
                    <a:lnTo>
                      <a:pt x="1324" y="1154"/>
                    </a:lnTo>
                    <a:lnTo>
                      <a:pt x="1330" y="1144"/>
                    </a:lnTo>
                    <a:lnTo>
                      <a:pt x="1334" y="1133"/>
                    </a:lnTo>
                    <a:lnTo>
                      <a:pt x="1337" y="1122"/>
                    </a:lnTo>
                    <a:lnTo>
                      <a:pt x="1339" y="1108"/>
                    </a:lnTo>
                    <a:lnTo>
                      <a:pt x="1345" y="1097"/>
                    </a:lnTo>
                    <a:lnTo>
                      <a:pt x="1349" y="1084"/>
                    </a:lnTo>
                    <a:lnTo>
                      <a:pt x="1353" y="1070"/>
                    </a:lnTo>
                    <a:lnTo>
                      <a:pt x="1354" y="1059"/>
                    </a:lnTo>
                    <a:lnTo>
                      <a:pt x="1358" y="1044"/>
                    </a:lnTo>
                    <a:lnTo>
                      <a:pt x="1362" y="1032"/>
                    </a:lnTo>
                    <a:lnTo>
                      <a:pt x="1366" y="1017"/>
                    </a:lnTo>
                    <a:lnTo>
                      <a:pt x="1370" y="1004"/>
                    </a:lnTo>
                    <a:lnTo>
                      <a:pt x="1372" y="988"/>
                    </a:lnTo>
                    <a:lnTo>
                      <a:pt x="1375" y="975"/>
                    </a:lnTo>
                    <a:lnTo>
                      <a:pt x="1377" y="960"/>
                    </a:lnTo>
                    <a:lnTo>
                      <a:pt x="1381" y="947"/>
                    </a:lnTo>
                    <a:lnTo>
                      <a:pt x="1383" y="931"/>
                    </a:lnTo>
                    <a:lnTo>
                      <a:pt x="1387" y="916"/>
                    </a:lnTo>
                    <a:lnTo>
                      <a:pt x="1389" y="901"/>
                    </a:lnTo>
                    <a:lnTo>
                      <a:pt x="1391" y="886"/>
                    </a:lnTo>
                    <a:lnTo>
                      <a:pt x="1392" y="871"/>
                    </a:lnTo>
                    <a:lnTo>
                      <a:pt x="1394" y="855"/>
                    </a:lnTo>
                    <a:lnTo>
                      <a:pt x="1396" y="838"/>
                    </a:lnTo>
                    <a:lnTo>
                      <a:pt x="1398" y="823"/>
                    </a:lnTo>
                    <a:lnTo>
                      <a:pt x="1398" y="806"/>
                    </a:lnTo>
                    <a:lnTo>
                      <a:pt x="1400" y="791"/>
                    </a:lnTo>
                    <a:lnTo>
                      <a:pt x="1402" y="774"/>
                    </a:lnTo>
                    <a:lnTo>
                      <a:pt x="1402" y="757"/>
                    </a:lnTo>
                    <a:lnTo>
                      <a:pt x="1402" y="741"/>
                    </a:lnTo>
                    <a:lnTo>
                      <a:pt x="1402" y="724"/>
                    </a:lnTo>
                    <a:lnTo>
                      <a:pt x="1402" y="705"/>
                    </a:lnTo>
                    <a:lnTo>
                      <a:pt x="1402" y="690"/>
                    </a:lnTo>
                    <a:lnTo>
                      <a:pt x="1400" y="673"/>
                    </a:lnTo>
                    <a:lnTo>
                      <a:pt x="1400" y="656"/>
                    </a:lnTo>
                    <a:lnTo>
                      <a:pt x="1398" y="654"/>
                    </a:lnTo>
                    <a:lnTo>
                      <a:pt x="1398" y="652"/>
                    </a:lnTo>
                    <a:lnTo>
                      <a:pt x="1398" y="648"/>
                    </a:lnTo>
                    <a:lnTo>
                      <a:pt x="1398" y="644"/>
                    </a:lnTo>
                    <a:lnTo>
                      <a:pt x="1398" y="643"/>
                    </a:lnTo>
                    <a:lnTo>
                      <a:pt x="1398" y="639"/>
                    </a:lnTo>
                    <a:lnTo>
                      <a:pt x="1396" y="637"/>
                    </a:lnTo>
                    <a:lnTo>
                      <a:pt x="1396" y="633"/>
                    </a:lnTo>
                    <a:lnTo>
                      <a:pt x="1396" y="631"/>
                    </a:lnTo>
                    <a:lnTo>
                      <a:pt x="1396" y="627"/>
                    </a:lnTo>
                    <a:lnTo>
                      <a:pt x="1396" y="623"/>
                    </a:lnTo>
                    <a:lnTo>
                      <a:pt x="1394" y="620"/>
                    </a:lnTo>
                    <a:lnTo>
                      <a:pt x="1394" y="618"/>
                    </a:lnTo>
                    <a:lnTo>
                      <a:pt x="1394" y="616"/>
                    </a:lnTo>
                    <a:lnTo>
                      <a:pt x="1392" y="612"/>
                    </a:lnTo>
                    <a:lnTo>
                      <a:pt x="1392" y="610"/>
                    </a:lnTo>
                    <a:lnTo>
                      <a:pt x="1392" y="608"/>
                    </a:lnTo>
                    <a:lnTo>
                      <a:pt x="1391" y="604"/>
                    </a:lnTo>
                    <a:lnTo>
                      <a:pt x="1391" y="603"/>
                    </a:lnTo>
                    <a:lnTo>
                      <a:pt x="1391" y="599"/>
                    </a:lnTo>
                    <a:lnTo>
                      <a:pt x="1389" y="597"/>
                    </a:lnTo>
                    <a:lnTo>
                      <a:pt x="1389" y="593"/>
                    </a:lnTo>
                    <a:lnTo>
                      <a:pt x="1389" y="589"/>
                    </a:lnTo>
                    <a:lnTo>
                      <a:pt x="1389" y="587"/>
                    </a:lnTo>
                    <a:lnTo>
                      <a:pt x="1387" y="585"/>
                    </a:lnTo>
                    <a:lnTo>
                      <a:pt x="1385" y="582"/>
                    </a:lnTo>
                    <a:lnTo>
                      <a:pt x="1385" y="580"/>
                    </a:lnTo>
                    <a:lnTo>
                      <a:pt x="1383" y="578"/>
                    </a:lnTo>
                    <a:lnTo>
                      <a:pt x="1383" y="572"/>
                    </a:lnTo>
                    <a:lnTo>
                      <a:pt x="1381" y="568"/>
                    </a:lnTo>
                    <a:lnTo>
                      <a:pt x="1377" y="563"/>
                    </a:lnTo>
                    <a:lnTo>
                      <a:pt x="1375" y="557"/>
                    </a:lnTo>
                    <a:lnTo>
                      <a:pt x="1373" y="553"/>
                    </a:lnTo>
                    <a:lnTo>
                      <a:pt x="1370" y="547"/>
                    </a:lnTo>
                    <a:lnTo>
                      <a:pt x="1366" y="544"/>
                    </a:lnTo>
                    <a:lnTo>
                      <a:pt x="1364" y="540"/>
                    </a:lnTo>
                    <a:lnTo>
                      <a:pt x="1360" y="536"/>
                    </a:lnTo>
                    <a:lnTo>
                      <a:pt x="1356" y="532"/>
                    </a:lnTo>
                    <a:lnTo>
                      <a:pt x="1353" y="528"/>
                    </a:lnTo>
                    <a:lnTo>
                      <a:pt x="1349" y="525"/>
                    </a:lnTo>
                    <a:lnTo>
                      <a:pt x="1345" y="523"/>
                    </a:lnTo>
                    <a:lnTo>
                      <a:pt x="1339" y="521"/>
                    </a:lnTo>
                    <a:lnTo>
                      <a:pt x="1335" y="517"/>
                    </a:lnTo>
                    <a:lnTo>
                      <a:pt x="1332" y="515"/>
                    </a:lnTo>
                    <a:lnTo>
                      <a:pt x="1326" y="515"/>
                    </a:lnTo>
                    <a:lnTo>
                      <a:pt x="1322" y="513"/>
                    </a:lnTo>
                    <a:lnTo>
                      <a:pt x="1318" y="511"/>
                    </a:lnTo>
                    <a:lnTo>
                      <a:pt x="1316" y="511"/>
                    </a:lnTo>
                    <a:lnTo>
                      <a:pt x="1313" y="511"/>
                    </a:lnTo>
                    <a:lnTo>
                      <a:pt x="1311" y="511"/>
                    </a:lnTo>
                    <a:lnTo>
                      <a:pt x="1309" y="509"/>
                    </a:lnTo>
                    <a:lnTo>
                      <a:pt x="1305" y="509"/>
                    </a:lnTo>
                    <a:lnTo>
                      <a:pt x="1303" y="509"/>
                    </a:lnTo>
                    <a:lnTo>
                      <a:pt x="1301" y="509"/>
                    </a:lnTo>
                    <a:lnTo>
                      <a:pt x="1297" y="509"/>
                    </a:lnTo>
                    <a:lnTo>
                      <a:pt x="1295" y="509"/>
                    </a:lnTo>
                    <a:lnTo>
                      <a:pt x="1292" y="509"/>
                    </a:lnTo>
                    <a:lnTo>
                      <a:pt x="1290" y="509"/>
                    </a:lnTo>
                    <a:lnTo>
                      <a:pt x="1284" y="509"/>
                    </a:lnTo>
                    <a:lnTo>
                      <a:pt x="1280" y="509"/>
                    </a:lnTo>
                    <a:lnTo>
                      <a:pt x="1275" y="509"/>
                    </a:lnTo>
                    <a:lnTo>
                      <a:pt x="1269" y="509"/>
                    </a:lnTo>
                    <a:lnTo>
                      <a:pt x="1265" y="509"/>
                    </a:lnTo>
                    <a:lnTo>
                      <a:pt x="1259" y="509"/>
                    </a:lnTo>
                    <a:lnTo>
                      <a:pt x="1256" y="511"/>
                    </a:lnTo>
                    <a:lnTo>
                      <a:pt x="1252" y="511"/>
                    </a:lnTo>
                    <a:lnTo>
                      <a:pt x="1246" y="515"/>
                    </a:lnTo>
                    <a:lnTo>
                      <a:pt x="1242" y="515"/>
                    </a:lnTo>
                    <a:lnTo>
                      <a:pt x="1238" y="517"/>
                    </a:lnTo>
                    <a:lnTo>
                      <a:pt x="1235" y="521"/>
                    </a:lnTo>
                    <a:lnTo>
                      <a:pt x="1231" y="523"/>
                    </a:lnTo>
                    <a:lnTo>
                      <a:pt x="1229" y="525"/>
                    </a:lnTo>
                    <a:lnTo>
                      <a:pt x="1225" y="527"/>
                    </a:lnTo>
                    <a:lnTo>
                      <a:pt x="1221" y="530"/>
                    </a:lnTo>
                    <a:lnTo>
                      <a:pt x="1219" y="532"/>
                    </a:lnTo>
                    <a:lnTo>
                      <a:pt x="1216" y="538"/>
                    </a:lnTo>
                    <a:lnTo>
                      <a:pt x="1214" y="542"/>
                    </a:lnTo>
                    <a:lnTo>
                      <a:pt x="1212" y="546"/>
                    </a:lnTo>
                    <a:lnTo>
                      <a:pt x="1210" y="549"/>
                    </a:lnTo>
                    <a:lnTo>
                      <a:pt x="1208" y="555"/>
                    </a:lnTo>
                    <a:lnTo>
                      <a:pt x="1208" y="557"/>
                    </a:lnTo>
                    <a:lnTo>
                      <a:pt x="1206" y="559"/>
                    </a:lnTo>
                    <a:lnTo>
                      <a:pt x="1204" y="561"/>
                    </a:lnTo>
                    <a:lnTo>
                      <a:pt x="1204" y="565"/>
                    </a:lnTo>
                    <a:lnTo>
                      <a:pt x="1204" y="566"/>
                    </a:lnTo>
                    <a:lnTo>
                      <a:pt x="1204" y="570"/>
                    </a:lnTo>
                    <a:lnTo>
                      <a:pt x="1204" y="572"/>
                    </a:lnTo>
                    <a:lnTo>
                      <a:pt x="1204" y="576"/>
                    </a:lnTo>
                    <a:lnTo>
                      <a:pt x="1139" y="895"/>
                    </a:lnTo>
                    <a:lnTo>
                      <a:pt x="1136" y="893"/>
                    </a:lnTo>
                    <a:lnTo>
                      <a:pt x="1132" y="892"/>
                    </a:lnTo>
                    <a:lnTo>
                      <a:pt x="1126" y="888"/>
                    </a:lnTo>
                    <a:lnTo>
                      <a:pt x="1122" y="886"/>
                    </a:lnTo>
                    <a:lnTo>
                      <a:pt x="1117" y="884"/>
                    </a:lnTo>
                    <a:lnTo>
                      <a:pt x="1113" y="880"/>
                    </a:lnTo>
                    <a:lnTo>
                      <a:pt x="1107" y="878"/>
                    </a:lnTo>
                    <a:lnTo>
                      <a:pt x="1105" y="876"/>
                    </a:lnTo>
                    <a:lnTo>
                      <a:pt x="1227" y="316"/>
                    </a:lnTo>
                    <a:lnTo>
                      <a:pt x="1227" y="312"/>
                    </a:lnTo>
                    <a:lnTo>
                      <a:pt x="1227" y="308"/>
                    </a:lnTo>
                    <a:lnTo>
                      <a:pt x="1229" y="306"/>
                    </a:lnTo>
                    <a:lnTo>
                      <a:pt x="1229" y="304"/>
                    </a:lnTo>
                    <a:lnTo>
                      <a:pt x="1229" y="300"/>
                    </a:lnTo>
                    <a:lnTo>
                      <a:pt x="1229" y="298"/>
                    </a:lnTo>
                    <a:lnTo>
                      <a:pt x="1229" y="295"/>
                    </a:lnTo>
                    <a:lnTo>
                      <a:pt x="1229" y="293"/>
                    </a:lnTo>
                    <a:lnTo>
                      <a:pt x="1229" y="291"/>
                    </a:lnTo>
                    <a:lnTo>
                      <a:pt x="1229" y="287"/>
                    </a:lnTo>
                    <a:lnTo>
                      <a:pt x="1229" y="285"/>
                    </a:lnTo>
                    <a:lnTo>
                      <a:pt x="1229" y="283"/>
                    </a:lnTo>
                    <a:lnTo>
                      <a:pt x="1229" y="278"/>
                    </a:lnTo>
                    <a:lnTo>
                      <a:pt x="1227" y="272"/>
                    </a:lnTo>
                    <a:lnTo>
                      <a:pt x="1225" y="268"/>
                    </a:lnTo>
                    <a:lnTo>
                      <a:pt x="1225" y="262"/>
                    </a:lnTo>
                    <a:lnTo>
                      <a:pt x="1223" y="257"/>
                    </a:lnTo>
                    <a:lnTo>
                      <a:pt x="1221" y="253"/>
                    </a:lnTo>
                    <a:lnTo>
                      <a:pt x="1219" y="247"/>
                    </a:lnTo>
                    <a:lnTo>
                      <a:pt x="1217" y="243"/>
                    </a:lnTo>
                    <a:lnTo>
                      <a:pt x="1216" y="240"/>
                    </a:lnTo>
                    <a:lnTo>
                      <a:pt x="1214" y="236"/>
                    </a:lnTo>
                    <a:lnTo>
                      <a:pt x="1210" y="232"/>
                    </a:lnTo>
                    <a:lnTo>
                      <a:pt x="1206" y="226"/>
                    </a:lnTo>
                    <a:lnTo>
                      <a:pt x="1202" y="222"/>
                    </a:lnTo>
                    <a:lnTo>
                      <a:pt x="1200" y="219"/>
                    </a:lnTo>
                    <a:lnTo>
                      <a:pt x="1197" y="215"/>
                    </a:lnTo>
                    <a:lnTo>
                      <a:pt x="1193" y="211"/>
                    </a:lnTo>
                    <a:lnTo>
                      <a:pt x="1189" y="207"/>
                    </a:lnTo>
                    <a:lnTo>
                      <a:pt x="1185" y="205"/>
                    </a:lnTo>
                    <a:lnTo>
                      <a:pt x="1179" y="203"/>
                    </a:lnTo>
                    <a:lnTo>
                      <a:pt x="1176" y="200"/>
                    </a:lnTo>
                    <a:lnTo>
                      <a:pt x="1172" y="198"/>
                    </a:lnTo>
                    <a:lnTo>
                      <a:pt x="1166" y="194"/>
                    </a:lnTo>
                    <a:lnTo>
                      <a:pt x="1160" y="192"/>
                    </a:lnTo>
                    <a:lnTo>
                      <a:pt x="1157" y="192"/>
                    </a:lnTo>
                    <a:lnTo>
                      <a:pt x="1151" y="190"/>
                    </a:lnTo>
                    <a:lnTo>
                      <a:pt x="1147" y="190"/>
                    </a:lnTo>
                    <a:lnTo>
                      <a:pt x="1143" y="188"/>
                    </a:lnTo>
                    <a:lnTo>
                      <a:pt x="1141" y="186"/>
                    </a:lnTo>
                    <a:lnTo>
                      <a:pt x="1138" y="186"/>
                    </a:lnTo>
                    <a:lnTo>
                      <a:pt x="1136" y="186"/>
                    </a:lnTo>
                    <a:lnTo>
                      <a:pt x="1134" y="186"/>
                    </a:lnTo>
                    <a:lnTo>
                      <a:pt x="1130" y="186"/>
                    </a:lnTo>
                    <a:lnTo>
                      <a:pt x="1128" y="186"/>
                    </a:lnTo>
                    <a:lnTo>
                      <a:pt x="1124" y="186"/>
                    </a:lnTo>
                    <a:lnTo>
                      <a:pt x="1122" y="186"/>
                    </a:lnTo>
                    <a:lnTo>
                      <a:pt x="1120" y="186"/>
                    </a:lnTo>
                    <a:lnTo>
                      <a:pt x="1117" y="186"/>
                    </a:lnTo>
                    <a:lnTo>
                      <a:pt x="1115" y="186"/>
                    </a:lnTo>
                    <a:lnTo>
                      <a:pt x="1109" y="186"/>
                    </a:lnTo>
                    <a:lnTo>
                      <a:pt x="1105" y="188"/>
                    </a:lnTo>
                    <a:lnTo>
                      <a:pt x="1100" y="188"/>
                    </a:lnTo>
                    <a:lnTo>
                      <a:pt x="1094" y="190"/>
                    </a:lnTo>
                    <a:lnTo>
                      <a:pt x="1090" y="192"/>
                    </a:lnTo>
                    <a:lnTo>
                      <a:pt x="1086" y="192"/>
                    </a:lnTo>
                    <a:lnTo>
                      <a:pt x="1081" y="194"/>
                    </a:lnTo>
                    <a:lnTo>
                      <a:pt x="1077" y="198"/>
                    </a:lnTo>
                    <a:lnTo>
                      <a:pt x="1073" y="200"/>
                    </a:lnTo>
                    <a:lnTo>
                      <a:pt x="1067" y="203"/>
                    </a:lnTo>
                    <a:lnTo>
                      <a:pt x="1063" y="205"/>
                    </a:lnTo>
                    <a:lnTo>
                      <a:pt x="1058" y="207"/>
                    </a:lnTo>
                    <a:lnTo>
                      <a:pt x="1054" y="211"/>
                    </a:lnTo>
                    <a:lnTo>
                      <a:pt x="1050" y="215"/>
                    </a:lnTo>
                    <a:lnTo>
                      <a:pt x="1048" y="219"/>
                    </a:lnTo>
                    <a:lnTo>
                      <a:pt x="1044" y="222"/>
                    </a:lnTo>
                    <a:lnTo>
                      <a:pt x="1041" y="226"/>
                    </a:lnTo>
                    <a:lnTo>
                      <a:pt x="1039" y="232"/>
                    </a:lnTo>
                    <a:lnTo>
                      <a:pt x="1035" y="234"/>
                    </a:lnTo>
                    <a:lnTo>
                      <a:pt x="1033" y="240"/>
                    </a:lnTo>
                    <a:lnTo>
                      <a:pt x="1029" y="243"/>
                    </a:lnTo>
                    <a:lnTo>
                      <a:pt x="1027" y="249"/>
                    </a:lnTo>
                    <a:lnTo>
                      <a:pt x="1025" y="253"/>
                    </a:lnTo>
                    <a:lnTo>
                      <a:pt x="1023" y="259"/>
                    </a:lnTo>
                    <a:lnTo>
                      <a:pt x="1022" y="260"/>
                    </a:lnTo>
                    <a:lnTo>
                      <a:pt x="1022" y="264"/>
                    </a:lnTo>
                    <a:lnTo>
                      <a:pt x="1022" y="266"/>
                    </a:lnTo>
                    <a:lnTo>
                      <a:pt x="1022" y="270"/>
                    </a:lnTo>
                    <a:lnTo>
                      <a:pt x="919" y="730"/>
                    </a:lnTo>
                    <a:lnTo>
                      <a:pt x="915" y="728"/>
                    </a:lnTo>
                    <a:lnTo>
                      <a:pt x="913" y="726"/>
                    </a:lnTo>
                    <a:lnTo>
                      <a:pt x="907" y="724"/>
                    </a:lnTo>
                    <a:lnTo>
                      <a:pt x="905" y="720"/>
                    </a:lnTo>
                    <a:lnTo>
                      <a:pt x="904" y="719"/>
                    </a:lnTo>
                    <a:lnTo>
                      <a:pt x="900" y="717"/>
                    </a:lnTo>
                    <a:lnTo>
                      <a:pt x="896" y="713"/>
                    </a:lnTo>
                    <a:lnTo>
                      <a:pt x="892" y="713"/>
                    </a:lnTo>
                    <a:lnTo>
                      <a:pt x="1022" y="129"/>
                    </a:lnTo>
                    <a:lnTo>
                      <a:pt x="1022" y="125"/>
                    </a:lnTo>
                    <a:lnTo>
                      <a:pt x="1022" y="124"/>
                    </a:lnTo>
                    <a:lnTo>
                      <a:pt x="1022" y="120"/>
                    </a:lnTo>
                    <a:lnTo>
                      <a:pt x="1022" y="118"/>
                    </a:lnTo>
                    <a:lnTo>
                      <a:pt x="1022" y="114"/>
                    </a:lnTo>
                    <a:lnTo>
                      <a:pt x="1022" y="112"/>
                    </a:lnTo>
                    <a:lnTo>
                      <a:pt x="1022" y="110"/>
                    </a:lnTo>
                    <a:lnTo>
                      <a:pt x="1022" y="106"/>
                    </a:lnTo>
                    <a:lnTo>
                      <a:pt x="1022" y="105"/>
                    </a:lnTo>
                    <a:lnTo>
                      <a:pt x="1022" y="103"/>
                    </a:lnTo>
                    <a:lnTo>
                      <a:pt x="1022" y="99"/>
                    </a:lnTo>
                    <a:lnTo>
                      <a:pt x="1022" y="97"/>
                    </a:lnTo>
                    <a:lnTo>
                      <a:pt x="1022" y="91"/>
                    </a:lnTo>
                    <a:lnTo>
                      <a:pt x="1022" y="86"/>
                    </a:lnTo>
                    <a:lnTo>
                      <a:pt x="1020" y="82"/>
                    </a:lnTo>
                    <a:lnTo>
                      <a:pt x="1018" y="76"/>
                    </a:lnTo>
                    <a:lnTo>
                      <a:pt x="1016" y="70"/>
                    </a:lnTo>
                    <a:lnTo>
                      <a:pt x="1014" y="67"/>
                    </a:lnTo>
                    <a:lnTo>
                      <a:pt x="1012" y="61"/>
                    </a:lnTo>
                    <a:lnTo>
                      <a:pt x="1010" y="57"/>
                    </a:lnTo>
                    <a:lnTo>
                      <a:pt x="1008" y="53"/>
                    </a:lnTo>
                    <a:lnTo>
                      <a:pt x="1006" y="48"/>
                    </a:lnTo>
                    <a:lnTo>
                      <a:pt x="1004" y="44"/>
                    </a:lnTo>
                    <a:lnTo>
                      <a:pt x="1001" y="40"/>
                    </a:lnTo>
                    <a:lnTo>
                      <a:pt x="997" y="36"/>
                    </a:lnTo>
                    <a:lnTo>
                      <a:pt x="993" y="32"/>
                    </a:lnTo>
                    <a:lnTo>
                      <a:pt x="991" y="29"/>
                    </a:lnTo>
                    <a:lnTo>
                      <a:pt x="985" y="25"/>
                    </a:lnTo>
                    <a:lnTo>
                      <a:pt x="983" y="23"/>
                    </a:lnTo>
                    <a:lnTo>
                      <a:pt x="978" y="19"/>
                    </a:lnTo>
                    <a:lnTo>
                      <a:pt x="972" y="17"/>
                    </a:lnTo>
                    <a:lnTo>
                      <a:pt x="968" y="13"/>
                    </a:lnTo>
                    <a:lnTo>
                      <a:pt x="964" y="11"/>
                    </a:lnTo>
                    <a:lnTo>
                      <a:pt x="961" y="10"/>
                    </a:lnTo>
                    <a:lnTo>
                      <a:pt x="955" y="6"/>
                    </a:lnTo>
                    <a:lnTo>
                      <a:pt x="949" y="6"/>
                    </a:lnTo>
                    <a:lnTo>
                      <a:pt x="944" y="4"/>
                    </a:lnTo>
                    <a:lnTo>
                      <a:pt x="940" y="4"/>
                    </a:lnTo>
                    <a:lnTo>
                      <a:pt x="936" y="2"/>
                    </a:lnTo>
                    <a:lnTo>
                      <a:pt x="934" y="2"/>
                    </a:lnTo>
                    <a:lnTo>
                      <a:pt x="932" y="0"/>
                    </a:lnTo>
                    <a:lnTo>
                      <a:pt x="928" y="0"/>
                    </a:lnTo>
                    <a:lnTo>
                      <a:pt x="926" y="0"/>
                    </a:lnTo>
                    <a:lnTo>
                      <a:pt x="925" y="0"/>
                    </a:lnTo>
                    <a:lnTo>
                      <a:pt x="921" y="0"/>
                    </a:lnTo>
                    <a:lnTo>
                      <a:pt x="919" y="0"/>
                    </a:lnTo>
                    <a:lnTo>
                      <a:pt x="915" y="0"/>
                    </a:lnTo>
                    <a:lnTo>
                      <a:pt x="913" y="0"/>
                    </a:lnTo>
                    <a:lnTo>
                      <a:pt x="911" y="0"/>
                    </a:lnTo>
                    <a:lnTo>
                      <a:pt x="907" y="0"/>
                    </a:lnTo>
                    <a:lnTo>
                      <a:pt x="904" y="0"/>
                    </a:lnTo>
                    <a:lnTo>
                      <a:pt x="898" y="2"/>
                    </a:lnTo>
                    <a:lnTo>
                      <a:pt x="896" y="2"/>
                    </a:lnTo>
                    <a:lnTo>
                      <a:pt x="892" y="2"/>
                    </a:lnTo>
                    <a:lnTo>
                      <a:pt x="890" y="2"/>
                    </a:lnTo>
                    <a:lnTo>
                      <a:pt x="888" y="4"/>
                    </a:lnTo>
                    <a:lnTo>
                      <a:pt x="881" y="4"/>
                    </a:lnTo>
                    <a:lnTo>
                      <a:pt x="877" y="6"/>
                    </a:lnTo>
                    <a:lnTo>
                      <a:pt x="873" y="10"/>
                    </a:lnTo>
                    <a:lnTo>
                      <a:pt x="867" y="11"/>
                    </a:lnTo>
                    <a:lnTo>
                      <a:pt x="864" y="15"/>
                    </a:lnTo>
                    <a:lnTo>
                      <a:pt x="860" y="17"/>
                    </a:lnTo>
                    <a:lnTo>
                      <a:pt x="854" y="19"/>
                    </a:lnTo>
                    <a:lnTo>
                      <a:pt x="850" y="23"/>
                    </a:lnTo>
                    <a:lnTo>
                      <a:pt x="847" y="25"/>
                    </a:lnTo>
                    <a:lnTo>
                      <a:pt x="843" y="29"/>
                    </a:lnTo>
                    <a:lnTo>
                      <a:pt x="839" y="32"/>
                    </a:lnTo>
                    <a:lnTo>
                      <a:pt x="835" y="36"/>
                    </a:lnTo>
                    <a:lnTo>
                      <a:pt x="833" y="40"/>
                    </a:lnTo>
                    <a:lnTo>
                      <a:pt x="831" y="44"/>
                    </a:lnTo>
                    <a:lnTo>
                      <a:pt x="828" y="48"/>
                    </a:lnTo>
                    <a:lnTo>
                      <a:pt x="824" y="53"/>
                    </a:lnTo>
                    <a:lnTo>
                      <a:pt x="822" y="57"/>
                    </a:lnTo>
                    <a:lnTo>
                      <a:pt x="820" y="61"/>
                    </a:lnTo>
                    <a:lnTo>
                      <a:pt x="818" y="67"/>
                    </a:lnTo>
                    <a:lnTo>
                      <a:pt x="816" y="70"/>
                    </a:lnTo>
                    <a:lnTo>
                      <a:pt x="816" y="74"/>
                    </a:lnTo>
                    <a:lnTo>
                      <a:pt x="814" y="76"/>
                    </a:lnTo>
                    <a:lnTo>
                      <a:pt x="812" y="82"/>
                    </a:lnTo>
                    <a:lnTo>
                      <a:pt x="812" y="84"/>
                    </a:lnTo>
                    <a:lnTo>
                      <a:pt x="687" y="663"/>
                    </a:lnTo>
                    <a:lnTo>
                      <a:pt x="681" y="663"/>
                    </a:lnTo>
                    <a:lnTo>
                      <a:pt x="677" y="663"/>
                    </a:lnTo>
                    <a:lnTo>
                      <a:pt x="673" y="663"/>
                    </a:lnTo>
                    <a:lnTo>
                      <a:pt x="670" y="663"/>
                    </a:lnTo>
                    <a:lnTo>
                      <a:pt x="666" y="663"/>
                    </a:lnTo>
                    <a:lnTo>
                      <a:pt x="660" y="665"/>
                    </a:lnTo>
                    <a:lnTo>
                      <a:pt x="656" y="665"/>
                    </a:lnTo>
                    <a:lnTo>
                      <a:pt x="652" y="667"/>
                    </a:lnTo>
                    <a:lnTo>
                      <a:pt x="753" y="213"/>
                    </a:lnTo>
                    <a:lnTo>
                      <a:pt x="753" y="209"/>
                    </a:lnTo>
                    <a:lnTo>
                      <a:pt x="753" y="207"/>
                    </a:lnTo>
                    <a:lnTo>
                      <a:pt x="753" y="203"/>
                    </a:lnTo>
                    <a:lnTo>
                      <a:pt x="753" y="201"/>
                    </a:lnTo>
                    <a:lnTo>
                      <a:pt x="753" y="198"/>
                    </a:lnTo>
                    <a:lnTo>
                      <a:pt x="753" y="196"/>
                    </a:lnTo>
                    <a:lnTo>
                      <a:pt x="753" y="192"/>
                    </a:lnTo>
                    <a:lnTo>
                      <a:pt x="753" y="190"/>
                    </a:lnTo>
                    <a:lnTo>
                      <a:pt x="753" y="188"/>
                    </a:lnTo>
                    <a:lnTo>
                      <a:pt x="753" y="184"/>
                    </a:lnTo>
                    <a:lnTo>
                      <a:pt x="753" y="182"/>
                    </a:lnTo>
                    <a:lnTo>
                      <a:pt x="753" y="181"/>
                    </a:lnTo>
                    <a:lnTo>
                      <a:pt x="753" y="175"/>
                    </a:lnTo>
                    <a:lnTo>
                      <a:pt x="753" y="169"/>
                    </a:lnTo>
                    <a:lnTo>
                      <a:pt x="751" y="167"/>
                    </a:lnTo>
                    <a:lnTo>
                      <a:pt x="751" y="163"/>
                    </a:lnTo>
                    <a:lnTo>
                      <a:pt x="751" y="162"/>
                    </a:lnTo>
                    <a:lnTo>
                      <a:pt x="750" y="160"/>
                    </a:lnTo>
                    <a:lnTo>
                      <a:pt x="748" y="154"/>
                    </a:lnTo>
                    <a:lnTo>
                      <a:pt x="746" y="148"/>
                    </a:lnTo>
                    <a:lnTo>
                      <a:pt x="744" y="144"/>
                    </a:lnTo>
                    <a:lnTo>
                      <a:pt x="742" y="141"/>
                    </a:lnTo>
                    <a:lnTo>
                      <a:pt x="740" y="135"/>
                    </a:lnTo>
                    <a:lnTo>
                      <a:pt x="738" y="131"/>
                    </a:lnTo>
                    <a:lnTo>
                      <a:pt x="734" y="127"/>
                    </a:lnTo>
                    <a:lnTo>
                      <a:pt x="730" y="124"/>
                    </a:lnTo>
                    <a:lnTo>
                      <a:pt x="727" y="120"/>
                    </a:lnTo>
                    <a:lnTo>
                      <a:pt x="725" y="116"/>
                    </a:lnTo>
                    <a:lnTo>
                      <a:pt x="721" y="112"/>
                    </a:lnTo>
                    <a:lnTo>
                      <a:pt x="717" y="108"/>
                    </a:lnTo>
                    <a:lnTo>
                      <a:pt x="713" y="105"/>
                    </a:lnTo>
                    <a:lnTo>
                      <a:pt x="710" y="103"/>
                    </a:lnTo>
                    <a:lnTo>
                      <a:pt x="704" y="99"/>
                    </a:lnTo>
                    <a:lnTo>
                      <a:pt x="700" y="97"/>
                    </a:lnTo>
                    <a:lnTo>
                      <a:pt x="694" y="95"/>
                    </a:lnTo>
                    <a:lnTo>
                      <a:pt x="691" y="91"/>
                    </a:lnTo>
                    <a:lnTo>
                      <a:pt x="685" y="89"/>
                    </a:lnTo>
                    <a:lnTo>
                      <a:pt x="681" y="87"/>
                    </a:lnTo>
                    <a:lnTo>
                      <a:pt x="675" y="86"/>
                    </a:lnTo>
                    <a:lnTo>
                      <a:pt x="672" y="86"/>
                    </a:lnTo>
                    <a:lnTo>
                      <a:pt x="668" y="84"/>
                    </a:lnTo>
                    <a:lnTo>
                      <a:pt x="666" y="84"/>
                    </a:lnTo>
                    <a:lnTo>
                      <a:pt x="664" y="84"/>
                    </a:lnTo>
                    <a:lnTo>
                      <a:pt x="660" y="84"/>
                    </a:lnTo>
                    <a:lnTo>
                      <a:pt x="658" y="84"/>
                    </a:lnTo>
                    <a:lnTo>
                      <a:pt x="654" y="84"/>
                    </a:lnTo>
                    <a:lnTo>
                      <a:pt x="652" y="84"/>
                    </a:lnTo>
                    <a:lnTo>
                      <a:pt x="651" y="84"/>
                    </a:lnTo>
                    <a:lnTo>
                      <a:pt x="647" y="84"/>
                    </a:lnTo>
                    <a:lnTo>
                      <a:pt x="645" y="84"/>
                    </a:lnTo>
                    <a:lnTo>
                      <a:pt x="643" y="84"/>
                    </a:lnTo>
                    <a:lnTo>
                      <a:pt x="639" y="84"/>
                    </a:lnTo>
                    <a:lnTo>
                      <a:pt x="635" y="84"/>
                    </a:lnTo>
                    <a:lnTo>
                      <a:pt x="630" y="84"/>
                    </a:lnTo>
                    <a:lnTo>
                      <a:pt x="628" y="84"/>
                    </a:lnTo>
                    <a:lnTo>
                      <a:pt x="624" y="86"/>
                    </a:lnTo>
                    <a:lnTo>
                      <a:pt x="622" y="86"/>
                    </a:lnTo>
                    <a:lnTo>
                      <a:pt x="618" y="86"/>
                    </a:lnTo>
                    <a:lnTo>
                      <a:pt x="614" y="87"/>
                    </a:lnTo>
                    <a:lnTo>
                      <a:pt x="609" y="89"/>
                    </a:lnTo>
                    <a:lnTo>
                      <a:pt x="603" y="91"/>
                    </a:lnTo>
                    <a:lnTo>
                      <a:pt x="599" y="95"/>
                    </a:lnTo>
                    <a:lnTo>
                      <a:pt x="595" y="97"/>
                    </a:lnTo>
                    <a:lnTo>
                      <a:pt x="592" y="99"/>
                    </a:lnTo>
                    <a:lnTo>
                      <a:pt x="586" y="103"/>
                    </a:lnTo>
                    <a:lnTo>
                      <a:pt x="582" y="105"/>
                    </a:lnTo>
                    <a:lnTo>
                      <a:pt x="578" y="108"/>
                    </a:lnTo>
                    <a:lnTo>
                      <a:pt x="574" y="112"/>
                    </a:lnTo>
                    <a:lnTo>
                      <a:pt x="571" y="116"/>
                    </a:lnTo>
                    <a:lnTo>
                      <a:pt x="567" y="120"/>
                    </a:lnTo>
                    <a:lnTo>
                      <a:pt x="565" y="124"/>
                    </a:lnTo>
                    <a:lnTo>
                      <a:pt x="563" y="127"/>
                    </a:lnTo>
                    <a:lnTo>
                      <a:pt x="559" y="131"/>
                    </a:lnTo>
                    <a:lnTo>
                      <a:pt x="555" y="135"/>
                    </a:lnTo>
                    <a:lnTo>
                      <a:pt x="554" y="141"/>
                    </a:lnTo>
                    <a:lnTo>
                      <a:pt x="552" y="146"/>
                    </a:lnTo>
                    <a:lnTo>
                      <a:pt x="550" y="150"/>
                    </a:lnTo>
                    <a:lnTo>
                      <a:pt x="548" y="156"/>
                    </a:lnTo>
                    <a:lnTo>
                      <a:pt x="546" y="158"/>
                    </a:lnTo>
                    <a:lnTo>
                      <a:pt x="546" y="160"/>
                    </a:lnTo>
                    <a:lnTo>
                      <a:pt x="544" y="163"/>
                    </a:lnTo>
                    <a:lnTo>
                      <a:pt x="544" y="167"/>
                    </a:lnTo>
                    <a:lnTo>
                      <a:pt x="361" y="1127"/>
                    </a:lnTo>
                    <a:lnTo>
                      <a:pt x="361" y="1127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8" name="AutoShape 1306"/>
            <p:cNvSpPr/>
            <p:nvPr/>
          </p:nvSpPr>
          <p:spPr>
            <a:xfrm rot="18139200">
              <a:off x="4597560" y="2572560"/>
              <a:ext cx="88920" cy="76320"/>
            </a:xfrm>
            <a:prstGeom prst="hexagon">
              <a:avLst>
                <a:gd name="adj" fmla="val 29127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AutoShape 1307"/>
            <p:cNvSpPr/>
            <p:nvPr/>
          </p:nvSpPr>
          <p:spPr>
            <a:xfrm rot="18170400">
              <a:off x="4868640" y="2788560"/>
              <a:ext cx="193680" cy="5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308" y="21600"/>
                  </a:lnTo>
                  <a:lnTo>
                    <a:pt x="1729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1308"/>
          <p:cNvGrpSpPr/>
          <p:nvPr/>
        </p:nvGrpSpPr>
        <p:grpSpPr>
          <a:xfrm>
            <a:off x="4368600" y="3265560"/>
            <a:ext cx="582840" cy="708120"/>
            <a:chOff x="4368600" y="3265560"/>
            <a:chExt cx="582840" cy="708120"/>
          </a:xfrm>
        </p:grpSpPr>
        <p:grpSp>
          <p:nvGrpSpPr>
            <p:cNvPr id="921" name="Group 1309"/>
            <p:cNvGrpSpPr/>
            <p:nvPr/>
          </p:nvGrpSpPr>
          <p:grpSpPr>
            <a:xfrm>
              <a:off x="4486680" y="3341160"/>
              <a:ext cx="464760" cy="632520"/>
              <a:chOff x="4486680" y="3341160"/>
              <a:chExt cx="464760" cy="632520"/>
            </a:xfrm>
          </p:grpSpPr>
          <p:sp>
            <p:nvSpPr>
              <p:cNvPr id="922" name="Rectangle 1310"/>
              <p:cNvSpPr/>
              <p:nvPr/>
            </p:nvSpPr>
            <p:spPr>
              <a:xfrm rot="784200">
                <a:off x="4568400" y="3872520"/>
                <a:ext cx="228600" cy="76320"/>
              </a:xfrm>
              <a:prstGeom prst="rect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3" name="Group 1311"/>
              <p:cNvGrpSpPr/>
              <p:nvPr/>
            </p:nvGrpSpPr>
            <p:grpSpPr>
              <a:xfrm>
                <a:off x="4486680" y="3341160"/>
                <a:ext cx="464760" cy="598680"/>
                <a:chOff x="4486680" y="3341160"/>
                <a:chExt cx="464760" cy="598680"/>
              </a:xfrm>
            </p:grpSpPr>
            <p:sp>
              <p:nvSpPr>
                <p:cNvPr id="924" name="AutoShape 1312"/>
                <p:cNvSpPr/>
                <p:nvPr/>
              </p:nvSpPr>
              <p:spPr>
                <a:xfrm rot="11352000">
                  <a:off x="4544640" y="3358440"/>
                  <a:ext cx="253800" cy="407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2700" y="21600"/>
                      </a:lnTo>
                      <a:lnTo>
                        <a:pt x="189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10800000"/>
                </a:gra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5" name="Group 1313"/>
                <p:cNvGrpSpPr/>
                <p:nvPr/>
              </p:nvGrpSpPr>
              <p:grpSpPr>
                <a:xfrm>
                  <a:off x="4486680" y="3680280"/>
                  <a:ext cx="464760" cy="259560"/>
                  <a:chOff x="4486680" y="3680280"/>
                  <a:chExt cx="464760" cy="259560"/>
                </a:xfrm>
              </p:grpSpPr>
              <p:grpSp>
                <p:nvGrpSpPr>
                  <p:cNvPr id="926" name="Group 1314"/>
                  <p:cNvGrpSpPr/>
                  <p:nvPr/>
                </p:nvGrpSpPr>
                <p:grpSpPr>
                  <a:xfrm>
                    <a:off x="4486680" y="3742200"/>
                    <a:ext cx="464760" cy="197640"/>
                    <a:chOff x="4486680" y="3742200"/>
                    <a:chExt cx="464760" cy="197640"/>
                  </a:xfrm>
                </p:grpSpPr>
                <p:grpSp>
                  <p:nvGrpSpPr>
                    <p:cNvPr id="927" name="Group 1315"/>
                    <p:cNvGrpSpPr/>
                    <p:nvPr/>
                  </p:nvGrpSpPr>
                  <p:grpSpPr>
                    <a:xfrm>
                      <a:off x="4486680" y="3742200"/>
                      <a:ext cx="464760" cy="197640"/>
                      <a:chOff x="4486680" y="3742200"/>
                      <a:chExt cx="464760" cy="197640"/>
                    </a:xfrm>
                  </p:grpSpPr>
                  <p:sp>
                    <p:nvSpPr>
                      <p:cNvPr id="928" name="Rectangle 1316"/>
                      <p:cNvSpPr/>
                      <p:nvPr/>
                    </p:nvSpPr>
                    <p:spPr>
                      <a:xfrm rot="551400">
                        <a:off x="4494600" y="3765240"/>
                        <a:ext cx="299880" cy="1292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50000">
                            <a:srgbClr val="dddddd"/>
                          </a:gs>
                          <a:gs pos="100000">
                            <a:srgbClr val="ffffff"/>
                          </a:gs>
                        </a:gsLst>
                        <a:lin ang="5400000"/>
                      </a:gradFill>
                      <a:ln w="93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29" name="Freeform 1317"/>
                      <p:cNvSpPr/>
                      <p:nvPr/>
                    </p:nvSpPr>
                    <p:spPr>
                      <a:xfrm rot="551400">
                        <a:off x="4791960" y="3799800"/>
                        <a:ext cx="149760" cy="128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2" h="672">
                            <a:moveTo>
                              <a:pt x="0" y="0"/>
                            </a:moveTo>
                            <a:lnTo>
                              <a:pt x="672" y="528"/>
                            </a:lnTo>
                            <a:lnTo>
                              <a:pt x="672" y="672"/>
                            </a:lnTo>
                            <a:lnTo>
                              <a:pt x="0" y="67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ffff"/>
                          </a:gs>
                          <a:gs pos="50000">
                            <a:srgbClr val="dddddd"/>
                          </a:gs>
                          <a:gs pos="100000">
                            <a:srgbClr val="ffffff"/>
                          </a:gs>
                        </a:gsLst>
                        <a:lin ang="5400000"/>
                      </a:gradFill>
                      <a:ln w="9360">
                        <a:solidFill>
                          <a:srgbClr val="c0c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30" name=""/>
                    <p:cNvGrpSpPr/>
                    <p:nvPr/>
                  </p:nvGrpSpPr>
                  <p:grpSpPr>
                    <a:xfrm>
                      <a:off x="4491000" y="3841200"/>
                      <a:ext cx="451440" cy="73440"/>
                      <a:chOff x="4491000" y="3841200"/>
                      <a:chExt cx="451440" cy="73440"/>
                    </a:xfrm>
                  </p:grpSpPr>
                  <p:sp>
                    <p:nvSpPr>
                      <p:cNvPr id="931" name="Line 1318"/>
                      <p:cNvSpPr/>
                      <p:nvPr/>
                    </p:nvSpPr>
                    <p:spPr>
                      <a:xfrm>
                        <a:off x="4491000" y="3841200"/>
                        <a:ext cx="451440" cy="73080"/>
                      </a:xfrm>
                      <a:prstGeom prst="line">
                        <a:avLst/>
                      </a:prstGeom>
                      <a:ln w="936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32" name=""/>
                      <p:cNvSpPr txBox="1"/>
                      <p:nvPr/>
                    </p:nvSpPr>
                    <p:spPr>
                      <a:xfrm rot="551400">
                        <a:off x="4487760" y="3877560"/>
                        <a:ext cx="45720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933" name="Oval 1319"/>
                  <p:cNvSpPr/>
                  <p:nvPr/>
                </p:nvSpPr>
                <p:spPr>
                  <a:xfrm rot="551400">
                    <a:off x="4583520" y="3724920"/>
                    <a:ext cx="91080" cy="101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dddddd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Freeform 1320"/>
                  <p:cNvSpPr/>
                  <p:nvPr/>
                </p:nvSpPr>
                <p:spPr>
                  <a:xfrm rot="11903400">
                    <a:off x="4726440" y="3695760"/>
                    <a:ext cx="1224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656">
                        <a:moveTo>
                          <a:pt x="360" y="64"/>
                        </a:moveTo>
                        <a:cubicBezTo>
                          <a:pt x="400" y="128"/>
                          <a:pt x="376" y="448"/>
                          <a:pt x="360" y="544"/>
                        </a:cubicBezTo>
                        <a:cubicBezTo>
                          <a:pt x="344" y="640"/>
                          <a:pt x="320" y="656"/>
                          <a:pt x="264" y="640"/>
                        </a:cubicBezTo>
                        <a:cubicBezTo>
                          <a:pt x="208" y="624"/>
                          <a:pt x="48" y="528"/>
                          <a:pt x="24" y="448"/>
                        </a:cubicBezTo>
                        <a:cubicBezTo>
                          <a:pt x="0" y="368"/>
                          <a:pt x="64" y="224"/>
                          <a:pt x="120" y="160"/>
                        </a:cubicBezTo>
                        <a:cubicBezTo>
                          <a:pt x="176" y="96"/>
                          <a:pt x="320" y="0"/>
                          <a:pt x="360" y="6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aeaea"/>
                      </a:gs>
                    </a:gsLst>
                    <a:lin ang="1024800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35" name="Group 1321"/>
            <p:cNvGrpSpPr/>
            <p:nvPr/>
          </p:nvGrpSpPr>
          <p:grpSpPr>
            <a:xfrm>
              <a:off x="4368600" y="3265560"/>
              <a:ext cx="464760" cy="632160"/>
              <a:chOff x="4368600" y="3265560"/>
              <a:chExt cx="464760" cy="632160"/>
            </a:xfrm>
          </p:grpSpPr>
          <p:sp>
            <p:nvSpPr>
              <p:cNvPr id="936" name="Rectangle 1322"/>
              <p:cNvSpPr/>
              <p:nvPr/>
            </p:nvSpPr>
            <p:spPr>
              <a:xfrm flipH="1" flipV="1" rot="784200">
                <a:off x="4521960" y="3290400"/>
                <a:ext cx="2286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7" name="Group 1323"/>
              <p:cNvGrpSpPr/>
              <p:nvPr/>
            </p:nvGrpSpPr>
            <p:grpSpPr>
              <a:xfrm>
                <a:off x="4368600" y="3299040"/>
                <a:ext cx="464760" cy="598680"/>
                <a:chOff x="4368600" y="3299040"/>
                <a:chExt cx="464760" cy="598680"/>
              </a:xfrm>
            </p:grpSpPr>
            <p:sp>
              <p:nvSpPr>
                <p:cNvPr id="938" name="AutoShape 1324"/>
                <p:cNvSpPr/>
                <p:nvPr/>
              </p:nvSpPr>
              <p:spPr>
                <a:xfrm flipH="1" flipV="1" rot="11352000">
                  <a:off x="4520520" y="3472200"/>
                  <a:ext cx="253800" cy="407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2700" y="21600"/>
                      </a:lnTo>
                      <a:lnTo>
                        <a:pt x="189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9" name="Group 1325"/>
                <p:cNvGrpSpPr/>
                <p:nvPr/>
              </p:nvGrpSpPr>
              <p:grpSpPr>
                <a:xfrm>
                  <a:off x="4368600" y="3299040"/>
                  <a:ext cx="464760" cy="259560"/>
                  <a:chOff x="4368600" y="3299040"/>
                  <a:chExt cx="464760" cy="259560"/>
                </a:xfrm>
              </p:grpSpPr>
              <p:grpSp>
                <p:nvGrpSpPr>
                  <p:cNvPr id="940" name="Group 1326"/>
                  <p:cNvGrpSpPr/>
                  <p:nvPr/>
                </p:nvGrpSpPr>
                <p:grpSpPr>
                  <a:xfrm>
                    <a:off x="4368600" y="3299040"/>
                    <a:ext cx="464760" cy="197640"/>
                    <a:chOff x="4368600" y="3299040"/>
                    <a:chExt cx="464760" cy="197640"/>
                  </a:xfrm>
                </p:grpSpPr>
                <p:grpSp>
                  <p:nvGrpSpPr>
                    <p:cNvPr id="941" name="Group 1327"/>
                    <p:cNvGrpSpPr/>
                    <p:nvPr/>
                  </p:nvGrpSpPr>
                  <p:grpSpPr>
                    <a:xfrm>
                      <a:off x="4368600" y="3299040"/>
                      <a:ext cx="464760" cy="197640"/>
                      <a:chOff x="4368600" y="3299040"/>
                      <a:chExt cx="464760" cy="197640"/>
                    </a:xfrm>
                  </p:grpSpPr>
                  <p:sp>
                    <p:nvSpPr>
                      <p:cNvPr id="942" name="Rectangle 1328"/>
                      <p:cNvSpPr/>
                      <p:nvPr/>
                    </p:nvSpPr>
                    <p:spPr>
                      <a:xfrm flipH="1" flipV="1" rot="551400">
                        <a:off x="4524480" y="3344040"/>
                        <a:ext cx="299880" cy="129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3" name="Freeform 1329"/>
                      <p:cNvSpPr/>
                      <p:nvPr/>
                    </p:nvSpPr>
                    <p:spPr>
                      <a:xfrm flipH="1" flipV="1" rot="551400">
                        <a:off x="4377600" y="3309480"/>
                        <a:ext cx="149760" cy="128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2" h="672">
                            <a:moveTo>
                              <a:pt x="0" y="0"/>
                            </a:moveTo>
                            <a:lnTo>
                              <a:pt x="672" y="528"/>
                            </a:lnTo>
                            <a:lnTo>
                              <a:pt x="672" y="672"/>
                            </a:lnTo>
                            <a:lnTo>
                              <a:pt x="0" y="67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44" name=""/>
                    <p:cNvGrpSpPr/>
                    <p:nvPr/>
                  </p:nvGrpSpPr>
                  <p:grpSpPr>
                    <a:xfrm>
                      <a:off x="4377600" y="3324600"/>
                      <a:ext cx="451440" cy="73440"/>
                      <a:chOff x="4377600" y="3324600"/>
                      <a:chExt cx="451440" cy="73440"/>
                    </a:xfrm>
                  </p:grpSpPr>
                  <p:sp>
                    <p:nvSpPr>
                      <p:cNvPr id="945" name="Line 1330"/>
                      <p:cNvSpPr/>
                      <p:nvPr/>
                    </p:nvSpPr>
                    <p:spPr>
                      <a:xfrm flipH="1" flipV="1">
                        <a:off x="4377600" y="3324600"/>
                        <a:ext cx="451440" cy="7308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6" name=""/>
                      <p:cNvSpPr txBox="1"/>
                      <p:nvPr/>
                    </p:nvSpPr>
                    <p:spPr>
                      <a:xfrm rot="11351400">
                        <a:off x="4374720" y="3360960"/>
                        <a:ext cx="45720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947" name="Oval 1331"/>
                  <p:cNvSpPr/>
                  <p:nvPr/>
                </p:nvSpPr>
                <p:spPr>
                  <a:xfrm flipH="1" flipV="1" rot="551400">
                    <a:off x="4644360" y="3412800"/>
                    <a:ext cx="91080" cy="10116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840" bIns="24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Freeform 1332"/>
                  <p:cNvSpPr/>
                  <p:nvPr/>
                </p:nvSpPr>
                <p:spPr>
                  <a:xfrm flipH="1" flipV="1" rot="11903400">
                    <a:off x="4470840" y="3390480"/>
                    <a:ext cx="1224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656">
                        <a:moveTo>
                          <a:pt x="360" y="64"/>
                        </a:moveTo>
                        <a:cubicBezTo>
                          <a:pt x="400" y="128"/>
                          <a:pt x="376" y="448"/>
                          <a:pt x="360" y="544"/>
                        </a:cubicBezTo>
                        <a:cubicBezTo>
                          <a:pt x="344" y="640"/>
                          <a:pt x="320" y="656"/>
                          <a:pt x="264" y="640"/>
                        </a:cubicBezTo>
                        <a:cubicBezTo>
                          <a:pt x="208" y="624"/>
                          <a:pt x="48" y="528"/>
                          <a:pt x="24" y="448"/>
                        </a:cubicBezTo>
                        <a:cubicBezTo>
                          <a:pt x="0" y="368"/>
                          <a:pt x="64" y="224"/>
                          <a:pt x="120" y="160"/>
                        </a:cubicBezTo>
                        <a:cubicBezTo>
                          <a:pt x="176" y="96"/>
                          <a:pt x="320" y="0"/>
                          <a:pt x="360" y="64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949" name="Group 1333"/>
          <p:cNvGrpSpPr/>
          <p:nvPr/>
        </p:nvGrpSpPr>
        <p:grpSpPr>
          <a:xfrm>
            <a:off x="3839040" y="2583360"/>
            <a:ext cx="1037880" cy="960480"/>
            <a:chOff x="3839040" y="2583360"/>
            <a:chExt cx="1037880" cy="960480"/>
          </a:xfrm>
        </p:grpSpPr>
        <p:grpSp>
          <p:nvGrpSpPr>
            <p:cNvPr id="950" name="Group 1334"/>
            <p:cNvGrpSpPr/>
            <p:nvPr/>
          </p:nvGrpSpPr>
          <p:grpSpPr>
            <a:xfrm>
              <a:off x="4209480" y="2908080"/>
              <a:ext cx="667440" cy="635760"/>
              <a:chOff x="4209480" y="2908080"/>
              <a:chExt cx="667440" cy="635760"/>
            </a:xfrm>
          </p:grpSpPr>
          <p:grpSp>
            <p:nvGrpSpPr>
              <p:cNvPr id="951" name="Group 1335"/>
              <p:cNvGrpSpPr/>
              <p:nvPr/>
            </p:nvGrpSpPr>
            <p:grpSpPr>
              <a:xfrm>
                <a:off x="4209480" y="2908080"/>
                <a:ext cx="589680" cy="567000"/>
                <a:chOff x="4209480" y="2908080"/>
                <a:chExt cx="589680" cy="567000"/>
              </a:xfrm>
            </p:grpSpPr>
            <p:sp>
              <p:nvSpPr>
                <p:cNvPr id="952" name="AutoShape 1336"/>
                <p:cNvSpPr/>
                <p:nvPr/>
              </p:nvSpPr>
              <p:spPr>
                <a:xfrm rot="18696600">
                  <a:off x="4401360" y="3026160"/>
                  <a:ext cx="295200" cy="40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2700" y="21600"/>
                      </a:lnTo>
                      <a:lnTo>
                        <a:pt x="189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Oval 1337"/>
                <p:cNvSpPr/>
                <p:nvPr/>
              </p:nvSpPr>
              <p:spPr>
                <a:xfrm rot="18696600">
                  <a:off x="4253760" y="2974320"/>
                  <a:ext cx="289800" cy="24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4" name="Oval 1338"/>
              <p:cNvSpPr/>
              <p:nvPr/>
            </p:nvSpPr>
            <p:spPr>
              <a:xfrm rot="18696600">
                <a:off x="4574520" y="3244680"/>
                <a:ext cx="252360" cy="24624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924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AutoShape 1339"/>
              <p:cNvSpPr/>
              <p:nvPr/>
            </p:nvSpPr>
            <p:spPr>
              <a:xfrm rot="18696600">
                <a:off x="4651560" y="3320640"/>
                <a:ext cx="109800" cy="95400"/>
              </a:xfrm>
              <a:prstGeom prst="hexagon">
                <a:avLst>
                  <a:gd name="adj" fmla="val 28774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6" name="Group 1340"/>
            <p:cNvGrpSpPr/>
            <p:nvPr/>
          </p:nvGrpSpPr>
          <p:grpSpPr>
            <a:xfrm>
              <a:off x="3839040" y="2583360"/>
              <a:ext cx="660600" cy="644400"/>
              <a:chOff x="3839040" y="2583360"/>
              <a:chExt cx="660600" cy="644400"/>
            </a:xfrm>
          </p:grpSpPr>
          <p:grpSp>
            <p:nvGrpSpPr>
              <p:cNvPr id="957" name="Group 1341"/>
              <p:cNvGrpSpPr/>
              <p:nvPr/>
            </p:nvGrpSpPr>
            <p:grpSpPr>
              <a:xfrm>
                <a:off x="3917160" y="2651400"/>
                <a:ext cx="582480" cy="576360"/>
                <a:chOff x="3917160" y="2651400"/>
                <a:chExt cx="582480" cy="576360"/>
              </a:xfrm>
            </p:grpSpPr>
            <p:sp>
              <p:nvSpPr>
                <p:cNvPr id="958" name="AutoShape 1342"/>
                <p:cNvSpPr/>
                <p:nvPr/>
              </p:nvSpPr>
              <p:spPr>
                <a:xfrm flipV="1" rot="18797400">
                  <a:off x="4018680" y="2694600"/>
                  <a:ext cx="295200" cy="40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2700" y="21600"/>
                      </a:lnTo>
                      <a:lnTo>
                        <a:pt x="189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Oval 1343"/>
                <p:cNvSpPr/>
                <p:nvPr/>
              </p:nvSpPr>
              <p:spPr>
                <a:xfrm flipV="1" rot="18797400">
                  <a:off x="4164480" y="2911680"/>
                  <a:ext cx="289800" cy="249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0" name="Oval 1344"/>
              <p:cNvSpPr/>
              <p:nvPr/>
            </p:nvSpPr>
            <p:spPr>
              <a:xfrm flipV="1" rot="18797400">
                <a:off x="3888720" y="2635920"/>
                <a:ext cx="252360" cy="2462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AutoShape 1345"/>
              <p:cNvSpPr/>
              <p:nvPr/>
            </p:nvSpPr>
            <p:spPr>
              <a:xfrm flipV="1" rot="18797400">
                <a:off x="3958560" y="2705760"/>
                <a:ext cx="109800" cy="95400"/>
              </a:xfrm>
              <a:prstGeom prst="hexagon">
                <a:avLst>
                  <a:gd name="adj" fmla="val 28774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2" name="Group 1346"/>
          <p:cNvGrpSpPr/>
          <p:nvPr/>
        </p:nvGrpSpPr>
        <p:grpSpPr>
          <a:xfrm>
            <a:off x="5548680" y="3012840"/>
            <a:ext cx="131400" cy="155880"/>
            <a:chOff x="5548680" y="3012840"/>
            <a:chExt cx="131400" cy="155880"/>
          </a:xfrm>
        </p:grpSpPr>
        <p:sp>
          <p:nvSpPr>
            <p:cNvPr id="963" name="AutoShape 1347"/>
            <p:cNvSpPr/>
            <p:nvPr/>
          </p:nvSpPr>
          <p:spPr>
            <a:xfrm rot="5602800">
              <a:off x="5534280" y="3034080"/>
              <a:ext cx="146160" cy="109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15996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Oval 1348"/>
            <p:cNvSpPr/>
            <p:nvPr/>
          </p:nvSpPr>
          <p:spPr>
            <a:xfrm>
              <a:off x="5647680" y="3022200"/>
              <a:ext cx="32400" cy="14652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5" name="Text Box 1352"/>
          <p:cNvSpPr/>
          <p:nvPr/>
        </p:nvSpPr>
        <p:spPr>
          <a:xfrm>
            <a:off x="1676520" y="5562720"/>
            <a:ext cx="723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我喜欢骑着宝贝车沐浴阳光。当然，有时也会带上一个喜欢的气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-1447920" y="5486400"/>
            <a:ext cx="304920" cy="609480"/>
            <a:chOff x="-1447920" y="5486400"/>
            <a:chExt cx="304920" cy="609480"/>
          </a:xfrm>
        </p:grpSpPr>
        <p:sp>
          <p:nvSpPr>
            <p:cNvPr id="967" name="Line 1353"/>
            <p:cNvSpPr/>
            <p:nvPr/>
          </p:nvSpPr>
          <p:spPr>
            <a:xfrm>
              <a:off x="-1447920" y="5486400"/>
              <a:ext cx="304920" cy="609480"/>
            </a:xfrm>
            <a:prstGeom prst="line">
              <a:avLst/>
            </a:prstGeom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 txBox="1"/>
            <p:nvPr/>
          </p:nvSpPr>
          <p:spPr>
            <a:xfrm>
              <a:off x="-1447920" y="5486400"/>
              <a:ext cx="30492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9" name="Group 1354"/>
          <p:cNvGrpSpPr/>
          <p:nvPr/>
        </p:nvGrpSpPr>
        <p:grpSpPr>
          <a:xfrm>
            <a:off x="2652840" y="-14760"/>
            <a:ext cx="4281120" cy="4863960"/>
            <a:chOff x="2652840" y="-14760"/>
            <a:chExt cx="4281120" cy="4863960"/>
          </a:xfrm>
        </p:grpSpPr>
        <p:sp>
          <p:nvSpPr>
            <p:cNvPr id="970" name="Oval 1355"/>
            <p:cNvSpPr/>
            <p:nvPr/>
          </p:nvSpPr>
          <p:spPr>
            <a:xfrm rot="16200000">
              <a:off x="4121640" y="2053800"/>
              <a:ext cx="1326600" cy="426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3137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AutoShape 1356"/>
            <p:cNvSpPr/>
            <p:nvPr/>
          </p:nvSpPr>
          <p:spPr>
            <a:xfrm rot="10800000">
              <a:off x="2670120" y="-14760"/>
              <a:ext cx="4263840" cy="4346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702" y="21600"/>
                  </a:lnTo>
                  <a:lnTo>
                    <a:pt x="1289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aeaea">
                    <a:alpha val="71372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2" name="文本框 8200"/>
          <p:cNvSpPr/>
          <p:nvPr/>
        </p:nvSpPr>
        <p:spPr>
          <a:xfrm>
            <a:off x="1523880" y="41148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 thruBlk="true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82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84" dur="2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186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1440000">
                                      <p:cBhvr>
                                        <p:cTn id="188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" dur="indefinite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0.00208 C 0.00034 -0.00208 0.01059 -0.00277 0.01336 -0.00439 C 0.01406 -0.00486 0.01441 -0.00601 0.0151 -0.00648 C 0.01597 -0.00717 0.01684 -0.0074 0.0177 -0.00763 C 0.01979 -0.01041 0.02152 -0.01226 0.02395 -0.01435 C 0.02586 -0.02176 0.02482 -0.01898 0.02673 -0.02291 E">
                                      <p:cBhvr>
                                        <p:cTn id="190" dur="1000" fill="hold"/>
                                        <p:tgtEl>
                                          <p:spTgt spid="9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dur="indefinite" autoRev="1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-1800000">
                                      <p:cBhvr>
                                        <p:cTn id="192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3" dur="indefinite" autoRev="1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-1440000">
                                      <p:cBhvr>
                                        <p:cTn id="19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5" dur="indefinite" autoRev="1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61111E-006 -0.00208 C 0.00034 -0.00208 0.01059 -0.00277 0.01336 -0.00439 C 0.01406 -0.00486 0.01441 -0.00601 0.0151 -0.00648 C 0.01597 -0.00717 0.01684 -0.0074 0.0177 -0.00763 C 0.01979 -0.01041 0.02152 -0.01226 0.02395 -0.01435 C 0.02586 -0.02176 0.02482 -0.01898 0.02673 -0.02291 E">
                                      <p:cBhvr>
                                        <p:cTn id="196" dur="1000" fill="hold"/>
                                        <p:tgtEl>
                                          <p:spTgt spid="8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9" dur="7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3" name="Group 267"/>
          <p:cNvGrpSpPr/>
          <p:nvPr/>
        </p:nvGrpSpPr>
        <p:grpSpPr>
          <a:xfrm>
            <a:off x="4992480" y="3656160"/>
            <a:ext cx="1085760" cy="766080"/>
            <a:chOff x="4992480" y="3656160"/>
            <a:chExt cx="1085760" cy="766080"/>
          </a:xfrm>
        </p:grpSpPr>
        <p:grpSp>
          <p:nvGrpSpPr>
            <p:cNvPr id="974" name="Group 268"/>
            <p:cNvGrpSpPr/>
            <p:nvPr/>
          </p:nvGrpSpPr>
          <p:grpSpPr>
            <a:xfrm>
              <a:off x="5391360" y="3776400"/>
              <a:ext cx="686880" cy="568800"/>
              <a:chOff x="5391360" y="3776400"/>
              <a:chExt cx="686880" cy="568800"/>
            </a:xfrm>
          </p:grpSpPr>
          <p:sp>
            <p:nvSpPr>
              <p:cNvPr id="975" name="AutoShape 269"/>
              <p:cNvSpPr/>
              <p:nvPr/>
            </p:nvSpPr>
            <p:spPr>
              <a:xfrm rot="8202000">
                <a:off x="5496480" y="3807360"/>
                <a:ext cx="252720" cy="40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700" y="21600"/>
                    </a:lnTo>
                    <a:lnTo>
                      <a:pt x="189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6" name="Group 270"/>
              <p:cNvGrpSpPr/>
              <p:nvPr/>
            </p:nvGrpSpPr>
            <p:grpSpPr>
              <a:xfrm>
                <a:off x="5665320" y="3943440"/>
                <a:ext cx="412920" cy="401760"/>
                <a:chOff x="5665320" y="3943440"/>
                <a:chExt cx="412920" cy="401760"/>
              </a:xfrm>
            </p:grpSpPr>
            <p:grpSp>
              <p:nvGrpSpPr>
                <p:cNvPr id="977" name="Group 271"/>
                <p:cNvGrpSpPr/>
                <p:nvPr/>
              </p:nvGrpSpPr>
              <p:grpSpPr>
                <a:xfrm>
                  <a:off x="5665320" y="3943440"/>
                  <a:ext cx="412920" cy="401760"/>
                  <a:chOff x="5665320" y="3943440"/>
                  <a:chExt cx="412920" cy="401760"/>
                </a:xfrm>
              </p:grpSpPr>
              <p:grpSp>
                <p:nvGrpSpPr>
                  <p:cNvPr id="978" name="Group 272"/>
                  <p:cNvGrpSpPr/>
                  <p:nvPr/>
                </p:nvGrpSpPr>
                <p:grpSpPr>
                  <a:xfrm>
                    <a:off x="5665320" y="3943440"/>
                    <a:ext cx="412920" cy="401760"/>
                    <a:chOff x="5665320" y="3943440"/>
                    <a:chExt cx="412920" cy="401760"/>
                  </a:xfrm>
                </p:grpSpPr>
                <p:sp>
                  <p:nvSpPr>
                    <p:cNvPr id="979" name="Rectangle 273"/>
                    <p:cNvSpPr/>
                    <p:nvPr/>
                  </p:nvSpPr>
                  <p:spPr>
                    <a:xfrm rot="19002000">
                      <a:off x="5668920" y="4131000"/>
                      <a:ext cx="298440" cy="1292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0" name="Freeform 274"/>
                    <p:cNvSpPr/>
                    <p:nvPr/>
                  </p:nvSpPr>
                  <p:spPr>
                    <a:xfrm rot="19002000">
                      <a:off x="5905440" y="3976920"/>
                      <a:ext cx="149040" cy="12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2" h="672">
                          <a:moveTo>
                            <a:pt x="0" y="0"/>
                          </a:moveTo>
                          <a:lnTo>
                            <a:pt x="672" y="528"/>
                          </a:lnTo>
                          <a:lnTo>
                            <a:pt x="672" y="672"/>
                          </a:lnTo>
                          <a:lnTo>
                            <a:pt x="0" y="67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1" name=""/>
                  <p:cNvGrpSpPr/>
                  <p:nvPr/>
                </p:nvGrpSpPr>
                <p:grpSpPr>
                  <a:xfrm>
                    <a:off x="5734080" y="4011840"/>
                    <a:ext cx="331560" cy="312840"/>
                    <a:chOff x="5734080" y="4011840"/>
                    <a:chExt cx="331560" cy="312840"/>
                  </a:xfrm>
                </p:grpSpPr>
                <p:sp>
                  <p:nvSpPr>
                    <p:cNvPr id="982" name="Line 275"/>
                    <p:cNvSpPr/>
                    <p:nvPr/>
                  </p:nvSpPr>
                  <p:spPr>
                    <a:xfrm flipV="1">
                      <a:off x="5734080" y="4011840"/>
                      <a:ext cx="331560" cy="31248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3" name=""/>
                    <p:cNvSpPr txBox="1"/>
                    <p:nvPr/>
                  </p:nvSpPr>
                  <p:spPr>
                    <a:xfrm rot="19002000">
                      <a:off x="5672160" y="4168080"/>
                      <a:ext cx="4554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4" name="Oval 276"/>
                <p:cNvSpPr/>
                <p:nvPr/>
              </p:nvSpPr>
              <p:spPr>
                <a:xfrm rot="19002000">
                  <a:off x="5720400" y="4124160"/>
                  <a:ext cx="90720" cy="10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277"/>
                <p:cNvSpPr/>
                <p:nvPr/>
              </p:nvSpPr>
              <p:spPr>
                <a:xfrm rot="8754000">
                  <a:off x="5798160" y="3970800"/>
                  <a:ext cx="122040" cy="152280"/>
                </a:xfrm>
                <a:custGeom>
                  <a:avLst/>
                  <a:gdLst/>
                  <a:ahLst/>
                  <a:rect l="l" t="t" r="r" b="b"/>
                  <a:pathLst>
                    <a:path w="400" h="656">
                      <a:moveTo>
                        <a:pt x="360" y="64"/>
                      </a:moveTo>
                      <a:cubicBezTo>
                        <a:pt x="400" y="128"/>
                        <a:pt x="376" y="448"/>
                        <a:pt x="360" y="544"/>
                      </a:cubicBezTo>
                      <a:cubicBezTo>
                        <a:pt x="344" y="640"/>
                        <a:pt x="320" y="656"/>
                        <a:pt x="264" y="640"/>
                      </a:cubicBezTo>
                      <a:cubicBezTo>
                        <a:pt x="208" y="624"/>
                        <a:pt x="48" y="528"/>
                        <a:pt x="24" y="448"/>
                      </a:cubicBezTo>
                      <a:cubicBezTo>
                        <a:pt x="0" y="368"/>
                        <a:pt x="64" y="224"/>
                        <a:pt x="120" y="160"/>
                      </a:cubicBezTo>
                      <a:cubicBezTo>
                        <a:pt x="176" y="96"/>
                        <a:pt x="320" y="0"/>
                        <a:pt x="360" y="6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10248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6" name="Group 278"/>
            <p:cNvGrpSpPr/>
            <p:nvPr/>
          </p:nvGrpSpPr>
          <p:grpSpPr>
            <a:xfrm>
              <a:off x="4992480" y="3656160"/>
              <a:ext cx="618480" cy="766080"/>
              <a:chOff x="4992480" y="3656160"/>
              <a:chExt cx="618480" cy="766080"/>
            </a:xfrm>
          </p:grpSpPr>
          <p:grpSp>
            <p:nvGrpSpPr>
              <p:cNvPr id="987" name="Group 279"/>
              <p:cNvGrpSpPr/>
              <p:nvPr/>
            </p:nvGrpSpPr>
            <p:grpSpPr>
              <a:xfrm>
                <a:off x="5019840" y="3731400"/>
                <a:ext cx="537840" cy="690840"/>
                <a:chOff x="5019840" y="3731400"/>
                <a:chExt cx="537840" cy="690840"/>
              </a:xfrm>
            </p:grpSpPr>
            <p:sp>
              <p:nvSpPr>
                <p:cNvPr id="988" name="AutoShape 280"/>
                <p:cNvSpPr/>
                <p:nvPr/>
              </p:nvSpPr>
              <p:spPr>
                <a:xfrm rot="13135800">
                  <a:off x="5206320" y="3764880"/>
                  <a:ext cx="250920" cy="407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2700" y="21600"/>
                      </a:lnTo>
                      <a:lnTo>
                        <a:pt x="189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89" name="Group 281"/>
                <p:cNvGrpSpPr/>
                <p:nvPr/>
              </p:nvGrpSpPr>
              <p:grpSpPr>
                <a:xfrm>
                  <a:off x="5019840" y="4043880"/>
                  <a:ext cx="427680" cy="378360"/>
                  <a:chOff x="5019840" y="4043880"/>
                  <a:chExt cx="427680" cy="378360"/>
                </a:xfrm>
              </p:grpSpPr>
              <p:grpSp>
                <p:nvGrpSpPr>
                  <p:cNvPr id="990" name="Group 282"/>
                  <p:cNvGrpSpPr/>
                  <p:nvPr/>
                </p:nvGrpSpPr>
                <p:grpSpPr>
                  <a:xfrm>
                    <a:off x="5019840" y="4043880"/>
                    <a:ext cx="427680" cy="378360"/>
                    <a:chOff x="5019840" y="4043880"/>
                    <a:chExt cx="427680" cy="378360"/>
                  </a:xfrm>
                </p:grpSpPr>
                <p:grpSp>
                  <p:nvGrpSpPr>
                    <p:cNvPr id="991" name="Group 283"/>
                    <p:cNvGrpSpPr/>
                    <p:nvPr/>
                  </p:nvGrpSpPr>
                  <p:grpSpPr>
                    <a:xfrm>
                      <a:off x="5019840" y="4043880"/>
                      <a:ext cx="427680" cy="378360"/>
                      <a:chOff x="5019840" y="4043880"/>
                      <a:chExt cx="427680" cy="378360"/>
                    </a:xfrm>
                  </p:grpSpPr>
                  <p:sp>
                    <p:nvSpPr>
                      <p:cNvPr id="992" name="Rectangle 284"/>
                      <p:cNvSpPr/>
                      <p:nvPr/>
                    </p:nvSpPr>
                    <p:spPr>
                      <a:xfrm rot="2335800">
                        <a:off x="5027400" y="4122360"/>
                        <a:ext cx="296280" cy="129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3" name="Freeform 285"/>
                      <p:cNvSpPr/>
                      <p:nvPr/>
                    </p:nvSpPr>
                    <p:spPr>
                      <a:xfrm rot="2335800">
                        <a:off x="5275440" y="4261320"/>
                        <a:ext cx="147960" cy="128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2" h="672">
                            <a:moveTo>
                              <a:pt x="0" y="0"/>
                            </a:moveTo>
                            <a:lnTo>
                              <a:pt x="672" y="528"/>
                            </a:lnTo>
                            <a:lnTo>
                              <a:pt x="672" y="672"/>
                            </a:lnTo>
                            <a:lnTo>
                              <a:pt x="0" y="67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94" name=""/>
                    <p:cNvGrpSpPr/>
                    <p:nvPr/>
                  </p:nvGrpSpPr>
                  <p:grpSpPr>
                    <a:xfrm>
                      <a:off x="5037840" y="4122000"/>
                      <a:ext cx="351720" cy="284040"/>
                      <a:chOff x="5037840" y="4122000"/>
                      <a:chExt cx="351720" cy="284040"/>
                    </a:xfrm>
                  </p:grpSpPr>
                  <p:sp>
                    <p:nvSpPr>
                      <p:cNvPr id="995" name="Line 286"/>
                      <p:cNvSpPr/>
                      <p:nvPr/>
                    </p:nvSpPr>
                    <p:spPr>
                      <a:xfrm>
                        <a:off x="5038200" y="4122000"/>
                        <a:ext cx="351360" cy="2840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6" name=""/>
                      <p:cNvSpPr txBox="1"/>
                      <p:nvPr/>
                    </p:nvSpPr>
                    <p:spPr>
                      <a:xfrm rot="2335800">
                        <a:off x="4987800" y="4263840"/>
                        <a:ext cx="45180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997" name="Oval 287"/>
                  <p:cNvSpPr/>
                  <p:nvPr/>
                </p:nvSpPr>
                <p:spPr>
                  <a:xfrm rot="2335800">
                    <a:off x="5144040" y="4081680"/>
                    <a:ext cx="90000" cy="1015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Freeform 288"/>
                  <p:cNvSpPr/>
                  <p:nvPr/>
                </p:nvSpPr>
                <p:spPr>
                  <a:xfrm rot="13687800">
                    <a:off x="5267520" y="4131000"/>
                    <a:ext cx="12096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656">
                        <a:moveTo>
                          <a:pt x="360" y="64"/>
                        </a:moveTo>
                        <a:cubicBezTo>
                          <a:pt x="400" y="128"/>
                          <a:pt x="376" y="448"/>
                          <a:pt x="360" y="544"/>
                        </a:cubicBezTo>
                        <a:cubicBezTo>
                          <a:pt x="344" y="640"/>
                          <a:pt x="320" y="656"/>
                          <a:pt x="264" y="640"/>
                        </a:cubicBezTo>
                        <a:cubicBezTo>
                          <a:pt x="208" y="624"/>
                          <a:pt x="48" y="528"/>
                          <a:pt x="24" y="448"/>
                        </a:cubicBezTo>
                        <a:cubicBezTo>
                          <a:pt x="0" y="368"/>
                          <a:pt x="64" y="224"/>
                          <a:pt x="120" y="160"/>
                        </a:cubicBezTo>
                        <a:cubicBezTo>
                          <a:pt x="176" y="96"/>
                          <a:pt x="320" y="0"/>
                          <a:pt x="360" y="64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99" name="Group 289"/>
              <p:cNvGrpSpPr/>
              <p:nvPr/>
            </p:nvGrpSpPr>
            <p:grpSpPr>
              <a:xfrm>
                <a:off x="4992480" y="3656160"/>
                <a:ext cx="618480" cy="676080"/>
                <a:chOff x="4992480" y="3656160"/>
                <a:chExt cx="618480" cy="676080"/>
              </a:xfrm>
            </p:grpSpPr>
            <p:grpSp>
              <p:nvGrpSpPr>
                <p:cNvPr id="1000" name="Group 290"/>
                <p:cNvGrpSpPr/>
                <p:nvPr/>
              </p:nvGrpSpPr>
              <p:grpSpPr>
                <a:xfrm>
                  <a:off x="4992480" y="3738960"/>
                  <a:ext cx="553680" cy="593280"/>
                  <a:chOff x="4992480" y="3738960"/>
                  <a:chExt cx="553680" cy="593280"/>
                </a:xfrm>
              </p:grpSpPr>
              <p:sp>
                <p:nvSpPr>
                  <p:cNvPr id="1001" name="AutoShape 291"/>
                  <p:cNvSpPr/>
                  <p:nvPr/>
                </p:nvSpPr>
                <p:spPr>
                  <a:xfrm rot="13135800">
                    <a:off x="5158800" y="3785040"/>
                    <a:ext cx="29160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Oval 292"/>
                  <p:cNvSpPr/>
                  <p:nvPr/>
                </p:nvSpPr>
                <p:spPr>
                  <a:xfrm rot="13135800">
                    <a:off x="5038920" y="4020480"/>
                    <a:ext cx="286200" cy="249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03" name="Oval 293"/>
                <p:cNvSpPr/>
                <p:nvPr/>
              </p:nvSpPr>
              <p:spPr>
                <a:xfrm rot="13135800">
                  <a:off x="5310720" y="3707640"/>
                  <a:ext cx="250560" cy="24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4" name="AutoShape 294"/>
              <p:cNvSpPr/>
              <p:nvPr/>
            </p:nvSpPr>
            <p:spPr>
              <a:xfrm rot="13135800">
                <a:off x="5381640" y="3777840"/>
                <a:ext cx="108000" cy="94680"/>
              </a:xfrm>
              <a:prstGeom prst="hexagon">
                <a:avLst>
                  <a:gd name="adj" fmla="val 28517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Group 489"/>
          <p:cNvGrpSpPr/>
          <p:nvPr/>
        </p:nvGrpSpPr>
        <p:grpSpPr>
          <a:xfrm>
            <a:off x="2969280" y="3339720"/>
            <a:ext cx="4001760" cy="1579320"/>
            <a:chOff x="2969280" y="3339720"/>
            <a:chExt cx="4001760" cy="1579320"/>
          </a:xfrm>
        </p:grpSpPr>
        <p:grpSp>
          <p:nvGrpSpPr>
            <p:cNvPr id="1006" name="Group 400"/>
            <p:cNvGrpSpPr/>
            <p:nvPr/>
          </p:nvGrpSpPr>
          <p:grpSpPr>
            <a:xfrm>
              <a:off x="3484080" y="3390120"/>
              <a:ext cx="707760" cy="759240"/>
              <a:chOff x="3484080" y="3390120"/>
              <a:chExt cx="707760" cy="759240"/>
            </a:xfrm>
          </p:grpSpPr>
          <p:grpSp>
            <p:nvGrpSpPr>
              <p:cNvPr id="1007" name="Group 401"/>
              <p:cNvGrpSpPr/>
              <p:nvPr/>
            </p:nvGrpSpPr>
            <p:grpSpPr>
              <a:xfrm>
                <a:off x="3942720" y="3540240"/>
                <a:ext cx="249120" cy="609120"/>
                <a:chOff x="3942720" y="3540240"/>
                <a:chExt cx="249120" cy="609120"/>
              </a:xfrm>
            </p:grpSpPr>
            <p:sp>
              <p:nvSpPr>
                <p:cNvPr id="1008" name="AutoShape 402"/>
                <p:cNvSpPr/>
                <p:nvPr/>
              </p:nvSpPr>
              <p:spPr>
                <a:xfrm rot="10510800">
                  <a:off x="3962880" y="3546720"/>
                  <a:ext cx="179640" cy="486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1556" y="21600"/>
                      </a:lnTo>
                      <a:lnTo>
                        <a:pt x="20044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18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AutoShape 403"/>
                <p:cNvSpPr/>
                <p:nvPr/>
              </p:nvSpPr>
              <p:spPr>
                <a:xfrm rot="16089600">
                  <a:off x="3975120" y="3932280"/>
                  <a:ext cx="190080" cy="23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934" y="2201"/>
                        <a:pt x="12267" y="5080"/>
                        <a:pt x="12267" y="10800"/>
                      </a:cubicBezTo>
                      <a:cubicBezTo>
                        <a:pt x="12267" y="16520"/>
                        <a:pt x="16934" y="1939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62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0" name="AutoShape 404"/>
              <p:cNvSpPr/>
              <p:nvPr/>
            </p:nvSpPr>
            <p:spPr>
              <a:xfrm rot="10511400">
                <a:off x="3971880" y="3810960"/>
                <a:ext cx="180720" cy="120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Group 405"/>
              <p:cNvGrpSpPr/>
              <p:nvPr/>
            </p:nvGrpSpPr>
            <p:grpSpPr>
              <a:xfrm>
                <a:off x="3484080" y="3390120"/>
                <a:ext cx="669600" cy="580680"/>
                <a:chOff x="3484080" y="3390120"/>
                <a:chExt cx="669600" cy="580680"/>
              </a:xfrm>
            </p:grpSpPr>
            <p:grpSp>
              <p:nvGrpSpPr>
                <p:cNvPr id="1012" name="Group 406"/>
                <p:cNvGrpSpPr/>
                <p:nvPr/>
              </p:nvGrpSpPr>
              <p:grpSpPr>
                <a:xfrm>
                  <a:off x="3484080" y="3390120"/>
                  <a:ext cx="669600" cy="580680"/>
                  <a:chOff x="3484080" y="3390120"/>
                  <a:chExt cx="669600" cy="580680"/>
                </a:xfrm>
              </p:grpSpPr>
              <p:sp>
                <p:nvSpPr>
                  <p:cNvPr id="1013" name="AutoShape 407"/>
                  <p:cNvSpPr/>
                  <p:nvPr/>
                </p:nvSpPr>
                <p:spPr>
                  <a:xfrm rot="3281400">
                    <a:off x="3770280" y="3453480"/>
                    <a:ext cx="177840" cy="36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4308" y="21600"/>
                        </a:lnTo>
                        <a:lnTo>
                          <a:pt x="17292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54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Oval 408"/>
                  <p:cNvSpPr/>
                  <p:nvPr/>
                </p:nvSpPr>
                <p:spPr>
                  <a:xfrm rot="3820200">
                    <a:off x="3934800" y="3420000"/>
                    <a:ext cx="185040" cy="190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Freeform 409"/>
                  <p:cNvSpPr/>
                  <p:nvPr/>
                </p:nvSpPr>
                <p:spPr>
                  <a:xfrm rot="13315800">
                    <a:off x="3557880" y="3661920"/>
                    <a:ext cx="173520" cy="28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02" h="2302">
                        <a:moveTo>
                          <a:pt x="361" y="1127"/>
                        </a:moveTo>
                        <a:lnTo>
                          <a:pt x="280" y="1116"/>
                        </a:lnTo>
                        <a:lnTo>
                          <a:pt x="373" y="711"/>
                        </a:lnTo>
                        <a:lnTo>
                          <a:pt x="373" y="709"/>
                        </a:lnTo>
                        <a:lnTo>
                          <a:pt x="375" y="705"/>
                        </a:lnTo>
                        <a:lnTo>
                          <a:pt x="375" y="703"/>
                        </a:lnTo>
                        <a:lnTo>
                          <a:pt x="375" y="700"/>
                        </a:lnTo>
                        <a:lnTo>
                          <a:pt x="375" y="698"/>
                        </a:lnTo>
                        <a:lnTo>
                          <a:pt x="375" y="696"/>
                        </a:lnTo>
                        <a:lnTo>
                          <a:pt x="375" y="692"/>
                        </a:lnTo>
                        <a:lnTo>
                          <a:pt x="375" y="690"/>
                        </a:lnTo>
                        <a:lnTo>
                          <a:pt x="375" y="684"/>
                        </a:lnTo>
                        <a:lnTo>
                          <a:pt x="375" y="681"/>
                        </a:lnTo>
                        <a:lnTo>
                          <a:pt x="375" y="675"/>
                        </a:lnTo>
                        <a:lnTo>
                          <a:pt x="375" y="669"/>
                        </a:lnTo>
                        <a:lnTo>
                          <a:pt x="371" y="665"/>
                        </a:lnTo>
                        <a:lnTo>
                          <a:pt x="371" y="660"/>
                        </a:lnTo>
                        <a:lnTo>
                          <a:pt x="369" y="654"/>
                        </a:lnTo>
                        <a:lnTo>
                          <a:pt x="367" y="652"/>
                        </a:lnTo>
                        <a:lnTo>
                          <a:pt x="365" y="646"/>
                        </a:lnTo>
                        <a:lnTo>
                          <a:pt x="363" y="641"/>
                        </a:lnTo>
                        <a:lnTo>
                          <a:pt x="361" y="637"/>
                        </a:lnTo>
                        <a:lnTo>
                          <a:pt x="358" y="633"/>
                        </a:lnTo>
                        <a:lnTo>
                          <a:pt x="356" y="629"/>
                        </a:lnTo>
                        <a:lnTo>
                          <a:pt x="354" y="623"/>
                        </a:lnTo>
                        <a:lnTo>
                          <a:pt x="350" y="620"/>
                        </a:lnTo>
                        <a:lnTo>
                          <a:pt x="346" y="616"/>
                        </a:lnTo>
                        <a:lnTo>
                          <a:pt x="342" y="612"/>
                        </a:lnTo>
                        <a:lnTo>
                          <a:pt x="339" y="610"/>
                        </a:lnTo>
                        <a:lnTo>
                          <a:pt x="335" y="606"/>
                        </a:lnTo>
                        <a:lnTo>
                          <a:pt x="331" y="603"/>
                        </a:lnTo>
                        <a:lnTo>
                          <a:pt x="325" y="601"/>
                        </a:lnTo>
                        <a:lnTo>
                          <a:pt x="321" y="597"/>
                        </a:lnTo>
                        <a:lnTo>
                          <a:pt x="318" y="595"/>
                        </a:lnTo>
                        <a:lnTo>
                          <a:pt x="312" y="593"/>
                        </a:lnTo>
                        <a:lnTo>
                          <a:pt x="306" y="591"/>
                        </a:lnTo>
                        <a:lnTo>
                          <a:pt x="302" y="589"/>
                        </a:lnTo>
                        <a:lnTo>
                          <a:pt x="299" y="589"/>
                        </a:lnTo>
                        <a:lnTo>
                          <a:pt x="295" y="587"/>
                        </a:lnTo>
                        <a:lnTo>
                          <a:pt x="291" y="587"/>
                        </a:lnTo>
                        <a:lnTo>
                          <a:pt x="287" y="585"/>
                        </a:lnTo>
                        <a:lnTo>
                          <a:pt x="285" y="585"/>
                        </a:lnTo>
                        <a:lnTo>
                          <a:pt x="283" y="585"/>
                        </a:lnTo>
                        <a:lnTo>
                          <a:pt x="280" y="585"/>
                        </a:lnTo>
                        <a:lnTo>
                          <a:pt x="276" y="585"/>
                        </a:lnTo>
                        <a:lnTo>
                          <a:pt x="274" y="585"/>
                        </a:lnTo>
                        <a:lnTo>
                          <a:pt x="272" y="585"/>
                        </a:lnTo>
                        <a:lnTo>
                          <a:pt x="268" y="585"/>
                        </a:lnTo>
                        <a:lnTo>
                          <a:pt x="266" y="585"/>
                        </a:lnTo>
                        <a:lnTo>
                          <a:pt x="263" y="585"/>
                        </a:lnTo>
                        <a:lnTo>
                          <a:pt x="261" y="587"/>
                        </a:lnTo>
                        <a:lnTo>
                          <a:pt x="259" y="587"/>
                        </a:lnTo>
                        <a:lnTo>
                          <a:pt x="255" y="587"/>
                        </a:lnTo>
                        <a:lnTo>
                          <a:pt x="253" y="589"/>
                        </a:lnTo>
                        <a:lnTo>
                          <a:pt x="249" y="589"/>
                        </a:lnTo>
                        <a:lnTo>
                          <a:pt x="247" y="589"/>
                        </a:lnTo>
                        <a:lnTo>
                          <a:pt x="243" y="591"/>
                        </a:lnTo>
                        <a:lnTo>
                          <a:pt x="240" y="591"/>
                        </a:lnTo>
                        <a:lnTo>
                          <a:pt x="238" y="593"/>
                        </a:lnTo>
                        <a:lnTo>
                          <a:pt x="236" y="595"/>
                        </a:lnTo>
                        <a:lnTo>
                          <a:pt x="232" y="595"/>
                        </a:lnTo>
                        <a:lnTo>
                          <a:pt x="230" y="597"/>
                        </a:lnTo>
                        <a:lnTo>
                          <a:pt x="228" y="599"/>
                        </a:lnTo>
                        <a:lnTo>
                          <a:pt x="224" y="601"/>
                        </a:lnTo>
                        <a:lnTo>
                          <a:pt x="223" y="601"/>
                        </a:lnTo>
                        <a:lnTo>
                          <a:pt x="219" y="603"/>
                        </a:lnTo>
                        <a:lnTo>
                          <a:pt x="217" y="604"/>
                        </a:lnTo>
                        <a:lnTo>
                          <a:pt x="211" y="608"/>
                        </a:lnTo>
                        <a:lnTo>
                          <a:pt x="207" y="612"/>
                        </a:lnTo>
                        <a:lnTo>
                          <a:pt x="204" y="616"/>
                        </a:lnTo>
                        <a:lnTo>
                          <a:pt x="198" y="618"/>
                        </a:lnTo>
                        <a:lnTo>
                          <a:pt x="194" y="623"/>
                        </a:lnTo>
                        <a:lnTo>
                          <a:pt x="188" y="627"/>
                        </a:lnTo>
                        <a:lnTo>
                          <a:pt x="185" y="633"/>
                        </a:lnTo>
                        <a:lnTo>
                          <a:pt x="181" y="637"/>
                        </a:lnTo>
                        <a:lnTo>
                          <a:pt x="177" y="641"/>
                        </a:lnTo>
                        <a:lnTo>
                          <a:pt x="173" y="646"/>
                        </a:lnTo>
                        <a:lnTo>
                          <a:pt x="169" y="652"/>
                        </a:lnTo>
                        <a:lnTo>
                          <a:pt x="166" y="656"/>
                        </a:lnTo>
                        <a:lnTo>
                          <a:pt x="162" y="662"/>
                        </a:lnTo>
                        <a:lnTo>
                          <a:pt x="160" y="665"/>
                        </a:lnTo>
                        <a:lnTo>
                          <a:pt x="158" y="669"/>
                        </a:lnTo>
                        <a:lnTo>
                          <a:pt x="158" y="671"/>
                        </a:lnTo>
                        <a:lnTo>
                          <a:pt x="156" y="673"/>
                        </a:lnTo>
                        <a:lnTo>
                          <a:pt x="154" y="677"/>
                        </a:lnTo>
                        <a:lnTo>
                          <a:pt x="152" y="679"/>
                        </a:lnTo>
                        <a:lnTo>
                          <a:pt x="152" y="681"/>
                        </a:lnTo>
                        <a:lnTo>
                          <a:pt x="150" y="684"/>
                        </a:lnTo>
                        <a:lnTo>
                          <a:pt x="150" y="688"/>
                        </a:lnTo>
                        <a:lnTo>
                          <a:pt x="146" y="694"/>
                        </a:lnTo>
                        <a:lnTo>
                          <a:pt x="145" y="701"/>
                        </a:lnTo>
                        <a:lnTo>
                          <a:pt x="143" y="709"/>
                        </a:lnTo>
                        <a:lnTo>
                          <a:pt x="139" y="717"/>
                        </a:lnTo>
                        <a:lnTo>
                          <a:pt x="137" y="724"/>
                        </a:lnTo>
                        <a:lnTo>
                          <a:pt x="135" y="732"/>
                        </a:lnTo>
                        <a:lnTo>
                          <a:pt x="131" y="739"/>
                        </a:lnTo>
                        <a:lnTo>
                          <a:pt x="129" y="747"/>
                        </a:lnTo>
                        <a:lnTo>
                          <a:pt x="126" y="755"/>
                        </a:lnTo>
                        <a:lnTo>
                          <a:pt x="124" y="760"/>
                        </a:lnTo>
                        <a:lnTo>
                          <a:pt x="122" y="768"/>
                        </a:lnTo>
                        <a:lnTo>
                          <a:pt x="120" y="776"/>
                        </a:lnTo>
                        <a:lnTo>
                          <a:pt x="116" y="781"/>
                        </a:lnTo>
                        <a:lnTo>
                          <a:pt x="114" y="789"/>
                        </a:lnTo>
                        <a:lnTo>
                          <a:pt x="112" y="796"/>
                        </a:lnTo>
                        <a:lnTo>
                          <a:pt x="110" y="804"/>
                        </a:lnTo>
                        <a:lnTo>
                          <a:pt x="107" y="812"/>
                        </a:lnTo>
                        <a:lnTo>
                          <a:pt x="107" y="817"/>
                        </a:lnTo>
                        <a:lnTo>
                          <a:pt x="103" y="823"/>
                        </a:lnTo>
                        <a:lnTo>
                          <a:pt x="101" y="831"/>
                        </a:lnTo>
                        <a:lnTo>
                          <a:pt x="97" y="836"/>
                        </a:lnTo>
                        <a:lnTo>
                          <a:pt x="97" y="844"/>
                        </a:lnTo>
                        <a:lnTo>
                          <a:pt x="93" y="852"/>
                        </a:lnTo>
                        <a:lnTo>
                          <a:pt x="93" y="857"/>
                        </a:lnTo>
                        <a:lnTo>
                          <a:pt x="89" y="865"/>
                        </a:lnTo>
                        <a:lnTo>
                          <a:pt x="88" y="871"/>
                        </a:lnTo>
                        <a:lnTo>
                          <a:pt x="86" y="878"/>
                        </a:lnTo>
                        <a:lnTo>
                          <a:pt x="84" y="884"/>
                        </a:lnTo>
                        <a:lnTo>
                          <a:pt x="82" y="892"/>
                        </a:lnTo>
                        <a:lnTo>
                          <a:pt x="80" y="899"/>
                        </a:lnTo>
                        <a:lnTo>
                          <a:pt x="78" y="907"/>
                        </a:lnTo>
                        <a:lnTo>
                          <a:pt x="74" y="912"/>
                        </a:lnTo>
                        <a:lnTo>
                          <a:pt x="72" y="920"/>
                        </a:lnTo>
                        <a:lnTo>
                          <a:pt x="72" y="926"/>
                        </a:lnTo>
                        <a:lnTo>
                          <a:pt x="68" y="931"/>
                        </a:lnTo>
                        <a:lnTo>
                          <a:pt x="67" y="939"/>
                        </a:lnTo>
                        <a:lnTo>
                          <a:pt x="65" y="945"/>
                        </a:lnTo>
                        <a:lnTo>
                          <a:pt x="63" y="952"/>
                        </a:lnTo>
                        <a:lnTo>
                          <a:pt x="59" y="958"/>
                        </a:lnTo>
                        <a:lnTo>
                          <a:pt x="57" y="966"/>
                        </a:lnTo>
                        <a:lnTo>
                          <a:pt x="55" y="971"/>
                        </a:lnTo>
                        <a:lnTo>
                          <a:pt x="53" y="979"/>
                        </a:lnTo>
                        <a:lnTo>
                          <a:pt x="51" y="987"/>
                        </a:lnTo>
                        <a:lnTo>
                          <a:pt x="49" y="994"/>
                        </a:lnTo>
                        <a:lnTo>
                          <a:pt x="48" y="1000"/>
                        </a:lnTo>
                        <a:lnTo>
                          <a:pt x="46" y="1007"/>
                        </a:lnTo>
                        <a:lnTo>
                          <a:pt x="44" y="1015"/>
                        </a:lnTo>
                        <a:lnTo>
                          <a:pt x="42" y="1021"/>
                        </a:lnTo>
                        <a:lnTo>
                          <a:pt x="42" y="1028"/>
                        </a:lnTo>
                        <a:lnTo>
                          <a:pt x="38" y="1036"/>
                        </a:lnTo>
                        <a:lnTo>
                          <a:pt x="36" y="1042"/>
                        </a:lnTo>
                        <a:lnTo>
                          <a:pt x="36" y="1049"/>
                        </a:lnTo>
                        <a:lnTo>
                          <a:pt x="34" y="1057"/>
                        </a:lnTo>
                        <a:lnTo>
                          <a:pt x="30" y="1063"/>
                        </a:lnTo>
                        <a:lnTo>
                          <a:pt x="30" y="1070"/>
                        </a:lnTo>
                        <a:lnTo>
                          <a:pt x="29" y="1078"/>
                        </a:lnTo>
                        <a:lnTo>
                          <a:pt x="27" y="1085"/>
                        </a:lnTo>
                        <a:lnTo>
                          <a:pt x="25" y="1093"/>
                        </a:lnTo>
                        <a:lnTo>
                          <a:pt x="23" y="1101"/>
                        </a:lnTo>
                        <a:lnTo>
                          <a:pt x="21" y="1108"/>
                        </a:lnTo>
                        <a:lnTo>
                          <a:pt x="19" y="1116"/>
                        </a:lnTo>
                        <a:lnTo>
                          <a:pt x="17" y="1123"/>
                        </a:lnTo>
                        <a:lnTo>
                          <a:pt x="17" y="1131"/>
                        </a:lnTo>
                        <a:lnTo>
                          <a:pt x="15" y="1139"/>
                        </a:lnTo>
                        <a:lnTo>
                          <a:pt x="13" y="1148"/>
                        </a:lnTo>
                        <a:lnTo>
                          <a:pt x="10" y="1158"/>
                        </a:lnTo>
                        <a:lnTo>
                          <a:pt x="10" y="1165"/>
                        </a:lnTo>
                        <a:lnTo>
                          <a:pt x="8" y="1175"/>
                        </a:lnTo>
                        <a:lnTo>
                          <a:pt x="6" y="1182"/>
                        </a:lnTo>
                        <a:lnTo>
                          <a:pt x="6" y="1192"/>
                        </a:lnTo>
                        <a:lnTo>
                          <a:pt x="4" y="1201"/>
                        </a:lnTo>
                        <a:lnTo>
                          <a:pt x="2" y="1211"/>
                        </a:lnTo>
                        <a:lnTo>
                          <a:pt x="2" y="1218"/>
                        </a:lnTo>
                        <a:lnTo>
                          <a:pt x="0" y="1230"/>
                        </a:lnTo>
                        <a:lnTo>
                          <a:pt x="0" y="1237"/>
                        </a:lnTo>
                        <a:lnTo>
                          <a:pt x="0" y="1247"/>
                        </a:lnTo>
                        <a:lnTo>
                          <a:pt x="0" y="1257"/>
                        </a:lnTo>
                        <a:lnTo>
                          <a:pt x="0" y="1268"/>
                        </a:lnTo>
                        <a:lnTo>
                          <a:pt x="0" y="1276"/>
                        </a:lnTo>
                        <a:lnTo>
                          <a:pt x="0" y="1285"/>
                        </a:lnTo>
                        <a:lnTo>
                          <a:pt x="0" y="1296"/>
                        </a:lnTo>
                        <a:lnTo>
                          <a:pt x="0" y="1304"/>
                        </a:lnTo>
                        <a:lnTo>
                          <a:pt x="0" y="1314"/>
                        </a:lnTo>
                        <a:lnTo>
                          <a:pt x="0" y="1323"/>
                        </a:lnTo>
                        <a:lnTo>
                          <a:pt x="0" y="1333"/>
                        </a:lnTo>
                        <a:lnTo>
                          <a:pt x="2" y="1342"/>
                        </a:lnTo>
                        <a:lnTo>
                          <a:pt x="2" y="1352"/>
                        </a:lnTo>
                        <a:lnTo>
                          <a:pt x="4" y="1363"/>
                        </a:lnTo>
                        <a:lnTo>
                          <a:pt x="4" y="1371"/>
                        </a:lnTo>
                        <a:lnTo>
                          <a:pt x="6" y="1382"/>
                        </a:lnTo>
                        <a:lnTo>
                          <a:pt x="8" y="1390"/>
                        </a:lnTo>
                        <a:lnTo>
                          <a:pt x="8" y="1401"/>
                        </a:lnTo>
                        <a:lnTo>
                          <a:pt x="10" y="1409"/>
                        </a:lnTo>
                        <a:lnTo>
                          <a:pt x="11" y="1420"/>
                        </a:lnTo>
                        <a:lnTo>
                          <a:pt x="13" y="1429"/>
                        </a:lnTo>
                        <a:lnTo>
                          <a:pt x="15" y="1439"/>
                        </a:lnTo>
                        <a:lnTo>
                          <a:pt x="17" y="1448"/>
                        </a:lnTo>
                        <a:lnTo>
                          <a:pt x="19" y="1458"/>
                        </a:lnTo>
                        <a:lnTo>
                          <a:pt x="21" y="1468"/>
                        </a:lnTo>
                        <a:lnTo>
                          <a:pt x="23" y="1477"/>
                        </a:lnTo>
                        <a:lnTo>
                          <a:pt x="27" y="1487"/>
                        </a:lnTo>
                        <a:lnTo>
                          <a:pt x="29" y="1496"/>
                        </a:lnTo>
                        <a:lnTo>
                          <a:pt x="30" y="1506"/>
                        </a:lnTo>
                        <a:lnTo>
                          <a:pt x="34" y="1515"/>
                        </a:lnTo>
                        <a:lnTo>
                          <a:pt x="36" y="1525"/>
                        </a:lnTo>
                        <a:lnTo>
                          <a:pt x="38" y="1534"/>
                        </a:lnTo>
                        <a:lnTo>
                          <a:pt x="42" y="1544"/>
                        </a:lnTo>
                        <a:lnTo>
                          <a:pt x="46" y="1553"/>
                        </a:lnTo>
                        <a:lnTo>
                          <a:pt x="48" y="1561"/>
                        </a:lnTo>
                        <a:lnTo>
                          <a:pt x="51" y="1572"/>
                        </a:lnTo>
                        <a:lnTo>
                          <a:pt x="55" y="1580"/>
                        </a:lnTo>
                        <a:lnTo>
                          <a:pt x="59" y="1589"/>
                        </a:lnTo>
                        <a:lnTo>
                          <a:pt x="63" y="1599"/>
                        </a:lnTo>
                        <a:lnTo>
                          <a:pt x="67" y="1608"/>
                        </a:lnTo>
                        <a:lnTo>
                          <a:pt x="68" y="1616"/>
                        </a:lnTo>
                        <a:lnTo>
                          <a:pt x="74" y="1627"/>
                        </a:lnTo>
                        <a:lnTo>
                          <a:pt x="78" y="1635"/>
                        </a:lnTo>
                        <a:lnTo>
                          <a:pt x="82" y="1644"/>
                        </a:lnTo>
                        <a:lnTo>
                          <a:pt x="86" y="1652"/>
                        </a:lnTo>
                        <a:lnTo>
                          <a:pt x="89" y="1661"/>
                        </a:lnTo>
                        <a:lnTo>
                          <a:pt x="95" y="1669"/>
                        </a:lnTo>
                        <a:lnTo>
                          <a:pt x="99" y="1679"/>
                        </a:lnTo>
                        <a:lnTo>
                          <a:pt x="103" y="1688"/>
                        </a:lnTo>
                        <a:lnTo>
                          <a:pt x="108" y="1696"/>
                        </a:lnTo>
                        <a:lnTo>
                          <a:pt x="114" y="1703"/>
                        </a:lnTo>
                        <a:lnTo>
                          <a:pt x="118" y="1713"/>
                        </a:lnTo>
                        <a:lnTo>
                          <a:pt x="124" y="1722"/>
                        </a:lnTo>
                        <a:lnTo>
                          <a:pt x="127" y="1732"/>
                        </a:lnTo>
                        <a:lnTo>
                          <a:pt x="131" y="1736"/>
                        </a:lnTo>
                        <a:lnTo>
                          <a:pt x="135" y="1739"/>
                        </a:lnTo>
                        <a:lnTo>
                          <a:pt x="135" y="1743"/>
                        </a:lnTo>
                        <a:lnTo>
                          <a:pt x="137" y="1745"/>
                        </a:lnTo>
                        <a:lnTo>
                          <a:pt x="139" y="1747"/>
                        </a:lnTo>
                        <a:lnTo>
                          <a:pt x="141" y="1751"/>
                        </a:lnTo>
                        <a:lnTo>
                          <a:pt x="143" y="1755"/>
                        </a:lnTo>
                        <a:lnTo>
                          <a:pt x="143" y="1756"/>
                        </a:lnTo>
                        <a:lnTo>
                          <a:pt x="145" y="1760"/>
                        </a:lnTo>
                        <a:lnTo>
                          <a:pt x="146" y="1762"/>
                        </a:lnTo>
                        <a:lnTo>
                          <a:pt x="148" y="1766"/>
                        </a:lnTo>
                        <a:lnTo>
                          <a:pt x="150" y="1768"/>
                        </a:lnTo>
                        <a:lnTo>
                          <a:pt x="152" y="1770"/>
                        </a:lnTo>
                        <a:lnTo>
                          <a:pt x="156" y="1774"/>
                        </a:lnTo>
                        <a:lnTo>
                          <a:pt x="158" y="1777"/>
                        </a:lnTo>
                        <a:lnTo>
                          <a:pt x="160" y="1779"/>
                        </a:lnTo>
                        <a:lnTo>
                          <a:pt x="160" y="1783"/>
                        </a:lnTo>
                        <a:lnTo>
                          <a:pt x="162" y="1787"/>
                        </a:lnTo>
                        <a:lnTo>
                          <a:pt x="166" y="1789"/>
                        </a:lnTo>
                        <a:lnTo>
                          <a:pt x="166" y="1791"/>
                        </a:lnTo>
                        <a:lnTo>
                          <a:pt x="167" y="1794"/>
                        </a:lnTo>
                        <a:lnTo>
                          <a:pt x="169" y="1796"/>
                        </a:lnTo>
                        <a:lnTo>
                          <a:pt x="171" y="1800"/>
                        </a:lnTo>
                        <a:lnTo>
                          <a:pt x="173" y="1802"/>
                        </a:lnTo>
                        <a:lnTo>
                          <a:pt x="175" y="1806"/>
                        </a:lnTo>
                        <a:lnTo>
                          <a:pt x="177" y="1808"/>
                        </a:lnTo>
                        <a:lnTo>
                          <a:pt x="179" y="1812"/>
                        </a:lnTo>
                        <a:lnTo>
                          <a:pt x="181" y="1815"/>
                        </a:lnTo>
                        <a:lnTo>
                          <a:pt x="183" y="1817"/>
                        </a:lnTo>
                        <a:lnTo>
                          <a:pt x="185" y="1821"/>
                        </a:lnTo>
                        <a:lnTo>
                          <a:pt x="188" y="1827"/>
                        </a:lnTo>
                        <a:lnTo>
                          <a:pt x="190" y="1831"/>
                        </a:lnTo>
                        <a:lnTo>
                          <a:pt x="194" y="1836"/>
                        </a:lnTo>
                        <a:lnTo>
                          <a:pt x="198" y="1842"/>
                        </a:lnTo>
                        <a:lnTo>
                          <a:pt x="200" y="1846"/>
                        </a:lnTo>
                        <a:lnTo>
                          <a:pt x="204" y="1850"/>
                        </a:lnTo>
                        <a:lnTo>
                          <a:pt x="205" y="1853"/>
                        </a:lnTo>
                        <a:lnTo>
                          <a:pt x="207" y="1859"/>
                        </a:lnTo>
                        <a:lnTo>
                          <a:pt x="209" y="1861"/>
                        </a:lnTo>
                        <a:lnTo>
                          <a:pt x="211" y="1863"/>
                        </a:lnTo>
                        <a:lnTo>
                          <a:pt x="213" y="1867"/>
                        </a:lnTo>
                        <a:lnTo>
                          <a:pt x="215" y="1869"/>
                        </a:lnTo>
                        <a:lnTo>
                          <a:pt x="217" y="1870"/>
                        </a:lnTo>
                        <a:lnTo>
                          <a:pt x="219" y="1874"/>
                        </a:lnTo>
                        <a:lnTo>
                          <a:pt x="141" y="2163"/>
                        </a:lnTo>
                        <a:lnTo>
                          <a:pt x="143" y="2165"/>
                        </a:lnTo>
                        <a:lnTo>
                          <a:pt x="146" y="2165"/>
                        </a:lnTo>
                        <a:lnTo>
                          <a:pt x="150" y="2167"/>
                        </a:lnTo>
                        <a:lnTo>
                          <a:pt x="152" y="2167"/>
                        </a:lnTo>
                        <a:lnTo>
                          <a:pt x="154" y="2167"/>
                        </a:lnTo>
                        <a:lnTo>
                          <a:pt x="158" y="2167"/>
                        </a:lnTo>
                        <a:lnTo>
                          <a:pt x="162" y="2171"/>
                        </a:lnTo>
                        <a:lnTo>
                          <a:pt x="166" y="2171"/>
                        </a:lnTo>
                        <a:lnTo>
                          <a:pt x="167" y="2173"/>
                        </a:lnTo>
                        <a:lnTo>
                          <a:pt x="171" y="2173"/>
                        </a:lnTo>
                        <a:lnTo>
                          <a:pt x="175" y="2175"/>
                        </a:lnTo>
                        <a:lnTo>
                          <a:pt x="181" y="2175"/>
                        </a:lnTo>
                        <a:lnTo>
                          <a:pt x="185" y="2175"/>
                        </a:lnTo>
                        <a:lnTo>
                          <a:pt x="188" y="2177"/>
                        </a:lnTo>
                        <a:lnTo>
                          <a:pt x="194" y="2180"/>
                        </a:lnTo>
                        <a:lnTo>
                          <a:pt x="198" y="2180"/>
                        </a:lnTo>
                        <a:lnTo>
                          <a:pt x="204" y="2182"/>
                        </a:lnTo>
                        <a:lnTo>
                          <a:pt x="209" y="2182"/>
                        </a:lnTo>
                        <a:lnTo>
                          <a:pt x="215" y="2184"/>
                        </a:lnTo>
                        <a:lnTo>
                          <a:pt x="219" y="2186"/>
                        </a:lnTo>
                        <a:lnTo>
                          <a:pt x="224" y="2188"/>
                        </a:lnTo>
                        <a:lnTo>
                          <a:pt x="232" y="2188"/>
                        </a:lnTo>
                        <a:lnTo>
                          <a:pt x="238" y="2190"/>
                        </a:lnTo>
                        <a:lnTo>
                          <a:pt x="243" y="2190"/>
                        </a:lnTo>
                        <a:lnTo>
                          <a:pt x="251" y="2192"/>
                        </a:lnTo>
                        <a:lnTo>
                          <a:pt x="257" y="2194"/>
                        </a:lnTo>
                        <a:lnTo>
                          <a:pt x="264" y="2194"/>
                        </a:lnTo>
                        <a:lnTo>
                          <a:pt x="270" y="2196"/>
                        </a:lnTo>
                        <a:lnTo>
                          <a:pt x="276" y="2196"/>
                        </a:lnTo>
                        <a:lnTo>
                          <a:pt x="283" y="2197"/>
                        </a:lnTo>
                        <a:lnTo>
                          <a:pt x="291" y="2199"/>
                        </a:lnTo>
                        <a:lnTo>
                          <a:pt x="297" y="2199"/>
                        </a:lnTo>
                        <a:lnTo>
                          <a:pt x="304" y="2199"/>
                        </a:lnTo>
                        <a:lnTo>
                          <a:pt x="312" y="2199"/>
                        </a:lnTo>
                        <a:lnTo>
                          <a:pt x="320" y="2201"/>
                        </a:lnTo>
                        <a:lnTo>
                          <a:pt x="325" y="2201"/>
                        </a:lnTo>
                        <a:lnTo>
                          <a:pt x="333" y="2201"/>
                        </a:lnTo>
                        <a:lnTo>
                          <a:pt x="341" y="2201"/>
                        </a:lnTo>
                        <a:lnTo>
                          <a:pt x="348" y="2201"/>
                        </a:lnTo>
                        <a:lnTo>
                          <a:pt x="356" y="2201"/>
                        </a:lnTo>
                        <a:lnTo>
                          <a:pt x="363" y="2201"/>
                        </a:lnTo>
                        <a:lnTo>
                          <a:pt x="371" y="2201"/>
                        </a:lnTo>
                        <a:lnTo>
                          <a:pt x="379" y="2201"/>
                        </a:lnTo>
                        <a:lnTo>
                          <a:pt x="386" y="2201"/>
                        </a:lnTo>
                        <a:lnTo>
                          <a:pt x="394" y="2201"/>
                        </a:lnTo>
                        <a:lnTo>
                          <a:pt x="401" y="2199"/>
                        </a:lnTo>
                        <a:lnTo>
                          <a:pt x="409" y="2199"/>
                        </a:lnTo>
                        <a:lnTo>
                          <a:pt x="415" y="2197"/>
                        </a:lnTo>
                        <a:lnTo>
                          <a:pt x="422" y="2196"/>
                        </a:lnTo>
                        <a:lnTo>
                          <a:pt x="432" y="2196"/>
                        </a:lnTo>
                        <a:lnTo>
                          <a:pt x="439" y="2194"/>
                        </a:lnTo>
                        <a:lnTo>
                          <a:pt x="447" y="2192"/>
                        </a:lnTo>
                        <a:lnTo>
                          <a:pt x="455" y="2190"/>
                        </a:lnTo>
                        <a:lnTo>
                          <a:pt x="462" y="2188"/>
                        </a:lnTo>
                        <a:lnTo>
                          <a:pt x="470" y="2188"/>
                        </a:lnTo>
                        <a:lnTo>
                          <a:pt x="476" y="2184"/>
                        </a:lnTo>
                        <a:lnTo>
                          <a:pt x="483" y="2182"/>
                        </a:lnTo>
                        <a:lnTo>
                          <a:pt x="491" y="2180"/>
                        </a:lnTo>
                        <a:lnTo>
                          <a:pt x="498" y="2175"/>
                        </a:lnTo>
                        <a:lnTo>
                          <a:pt x="504" y="2173"/>
                        </a:lnTo>
                        <a:lnTo>
                          <a:pt x="512" y="2169"/>
                        </a:lnTo>
                        <a:lnTo>
                          <a:pt x="517" y="2165"/>
                        </a:lnTo>
                        <a:lnTo>
                          <a:pt x="525" y="2161"/>
                        </a:lnTo>
                        <a:lnTo>
                          <a:pt x="531" y="2158"/>
                        </a:lnTo>
                        <a:lnTo>
                          <a:pt x="536" y="2154"/>
                        </a:lnTo>
                        <a:lnTo>
                          <a:pt x="542" y="2150"/>
                        </a:lnTo>
                        <a:lnTo>
                          <a:pt x="550" y="2146"/>
                        </a:lnTo>
                        <a:lnTo>
                          <a:pt x="555" y="2142"/>
                        </a:lnTo>
                        <a:lnTo>
                          <a:pt x="559" y="2137"/>
                        </a:lnTo>
                        <a:lnTo>
                          <a:pt x="565" y="2133"/>
                        </a:lnTo>
                        <a:lnTo>
                          <a:pt x="571" y="2129"/>
                        </a:lnTo>
                        <a:lnTo>
                          <a:pt x="576" y="2123"/>
                        </a:lnTo>
                        <a:lnTo>
                          <a:pt x="582" y="2120"/>
                        </a:lnTo>
                        <a:lnTo>
                          <a:pt x="588" y="2114"/>
                        </a:lnTo>
                        <a:lnTo>
                          <a:pt x="592" y="2110"/>
                        </a:lnTo>
                        <a:lnTo>
                          <a:pt x="595" y="2106"/>
                        </a:lnTo>
                        <a:lnTo>
                          <a:pt x="601" y="2101"/>
                        </a:lnTo>
                        <a:lnTo>
                          <a:pt x="605" y="2095"/>
                        </a:lnTo>
                        <a:lnTo>
                          <a:pt x="611" y="2091"/>
                        </a:lnTo>
                        <a:lnTo>
                          <a:pt x="614" y="2085"/>
                        </a:lnTo>
                        <a:lnTo>
                          <a:pt x="618" y="2080"/>
                        </a:lnTo>
                        <a:lnTo>
                          <a:pt x="624" y="2076"/>
                        </a:lnTo>
                        <a:lnTo>
                          <a:pt x="628" y="2070"/>
                        </a:lnTo>
                        <a:lnTo>
                          <a:pt x="632" y="2064"/>
                        </a:lnTo>
                        <a:lnTo>
                          <a:pt x="635" y="2059"/>
                        </a:lnTo>
                        <a:lnTo>
                          <a:pt x="637" y="2055"/>
                        </a:lnTo>
                        <a:lnTo>
                          <a:pt x="643" y="2049"/>
                        </a:lnTo>
                        <a:lnTo>
                          <a:pt x="645" y="2043"/>
                        </a:lnTo>
                        <a:lnTo>
                          <a:pt x="649" y="2040"/>
                        </a:lnTo>
                        <a:lnTo>
                          <a:pt x="652" y="2034"/>
                        </a:lnTo>
                        <a:lnTo>
                          <a:pt x="654" y="2030"/>
                        </a:lnTo>
                        <a:lnTo>
                          <a:pt x="658" y="2024"/>
                        </a:lnTo>
                        <a:lnTo>
                          <a:pt x="660" y="2021"/>
                        </a:lnTo>
                        <a:lnTo>
                          <a:pt x="664" y="2015"/>
                        </a:lnTo>
                        <a:lnTo>
                          <a:pt x="666" y="2011"/>
                        </a:lnTo>
                        <a:lnTo>
                          <a:pt x="668" y="2005"/>
                        </a:lnTo>
                        <a:lnTo>
                          <a:pt x="672" y="2002"/>
                        </a:lnTo>
                        <a:lnTo>
                          <a:pt x="673" y="1998"/>
                        </a:lnTo>
                        <a:lnTo>
                          <a:pt x="675" y="1992"/>
                        </a:lnTo>
                        <a:lnTo>
                          <a:pt x="677" y="1986"/>
                        </a:lnTo>
                        <a:lnTo>
                          <a:pt x="679" y="1983"/>
                        </a:lnTo>
                        <a:lnTo>
                          <a:pt x="681" y="1979"/>
                        </a:lnTo>
                        <a:lnTo>
                          <a:pt x="683" y="1975"/>
                        </a:lnTo>
                        <a:lnTo>
                          <a:pt x="685" y="1971"/>
                        </a:lnTo>
                        <a:lnTo>
                          <a:pt x="687" y="1969"/>
                        </a:lnTo>
                        <a:lnTo>
                          <a:pt x="689" y="1964"/>
                        </a:lnTo>
                        <a:lnTo>
                          <a:pt x="691" y="1962"/>
                        </a:lnTo>
                        <a:lnTo>
                          <a:pt x="692" y="1958"/>
                        </a:lnTo>
                        <a:lnTo>
                          <a:pt x="692" y="1954"/>
                        </a:lnTo>
                        <a:lnTo>
                          <a:pt x="692" y="1952"/>
                        </a:lnTo>
                        <a:lnTo>
                          <a:pt x="694" y="1950"/>
                        </a:lnTo>
                        <a:lnTo>
                          <a:pt x="696" y="1945"/>
                        </a:lnTo>
                        <a:lnTo>
                          <a:pt x="698" y="1941"/>
                        </a:lnTo>
                        <a:lnTo>
                          <a:pt x="700" y="1937"/>
                        </a:lnTo>
                        <a:lnTo>
                          <a:pt x="700" y="1935"/>
                        </a:lnTo>
                        <a:lnTo>
                          <a:pt x="700" y="1933"/>
                        </a:lnTo>
                        <a:lnTo>
                          <a:pt x="702" y="1933"/>
                        </a:lnTo>
                        <a:lnTo>
                          <a:pt x="740" y="1943"/>
                        </a:lnTo>
                        <a:lnTo>
                          <a:pt x="740" y="1943"/>
                        </a:lnTo>
                        <a:lnTo>
                          <a:pt x="738" y="1945"/>
                        </a:lnTo>
                        <a:lnTo>
                          <a:pt x="738" y="1947"/>
                        </a:lnTo>
                        <a:lnTo>
                          <a:pt x="738" y="1950"/>
                        </a:lnTo>
                        <a:lnTo>
                          <a:pt x="738" y="1954"/>
                        </a:lnTo>
                        <a:lnTo>
                          <a:pt x="738" y="1958"/>
                        </a:lnTo>
                        <a:lnTo>
                          <a:pt x="736" y="1962"/>
                        </a:lnTo>
                        <a:lnTo>
                          <a:pt x="736" y="1964"/>
                        </a:lnTo>
                        <a:lnTo>
                          <a:pt x="736" y="1967"/>
                        </a:lnTo>
                        <a:lnTo>
                          <a:pt x="736" y="1971"/>
                        </a:lnTo>
                        <a:lnTo>
                          <a:pt x="736" y="1975"/>
                        </a:lnTo>
                        <a:lnTo>
                          <a:pt x="736" y="1979"/>
                        </a:lnTo>
                        <a:lnTo>
                          <a:pt x="736" y="1983"/>
                        </a:lnTo>
                        <a:lnTo>
                          <a:pt x="736" y="1985"/>
                        </a:lnTo>
                        <a:lnTo>
                          <a:pt x="736" y="1990"/>
                        </a:lnTo>
                        <a:lnTo>
                          <a:pt x="736" y="1994"/>
                        </a:lnTo>
                        <a:lnTo>
                          <a:pt x="736" y="1998"/>
                        </a:lnTo>
                        <a:lnTo>
                          <a:pt x="736" y="2004"/>
                        </a:lnTo>
                        <a:lnTo>
                          <a:pt x="736" y="2007"/>
                        </a:lnTo>
                        <a:lnTo>
                          <a:pt x="736" y="2013"/>
                        </a:lnTo>
                        <a:lnTo>
                          <a:pt x="736" y="2015"/>
                        </a:lnTo>
                        <a:lnTo>
                          <a:pt x="736" y="2021"/>
                        </a:lnTo>
                        <a:lnTo>
                          <a:pt x="736" y="2026"/>
                        </a:lnTo>
                        <a:lnTo>
                          <a:pt x="736" y="2030"/>
                        </a:lnTo>
                        <a:lnTo>
                          <a:pt x="736" y="2036"/>
                        </a:lnTo>
                        <a:lnTo>
                          <a:pt x="736" y="2042"/>
                        </a:lnTo>
                        <a:lnTo>
                          <a:pt x="736" y="2047"/>
                        </a:lnTo>
                        <a:lnTo>
                          <a:pt x="738" y="2051"/>
                        </a:lnTo>
                        <a:lnTo>
                          <a:pt x="738" y="2057"/>
                        </a:lnTo>
                        <a:lnTo>
                          <a:pt x="738" y="2062"/>
                        </a:lnTo>
                        <a:lnTo>
                          <a:pt x="740" y="2066"/>
                        </a:lnTo>
                        <a:lnTo>
                          <a:pt x="740" y="2072"/>
                        </a:lnTo>
                        <a:lnTo>
                          <a:pt x="742" y="2078"/>
                        </a:lnTo>
                        <a:lnTo>
                          <a:pt x="744" y="2083"/>
                        </a:lnTo>
                        <a:lnTo>
                          <a:pt x="744" y="2091"/>
                        </a:lnTo>
                        <a:lnTo>
                          <a:pt x="746" y="2095"/>
                        </a:lnTo>
                        <a:lnTo>
                          <a:pt x="748" y="2101"/>
                        </a:lnTo>
                        <a:lnTo>
                          <a:pt x="748" y="2106"/>
                        </a:lnTo>
                        <a:lnTo>
                          <a:pt x="751" y="2110"/>
                        </a:lnTo>
                        <a:lnTo>
                          <a:pt x="753" y="2118"/>
                        </a:lnTo>
                        <a:lnTo>
                          <a:pt x="753" y="2123"/>
                        </a:lnTo>
                        <a:lnTo>
                          <a:pt x="757" y="2129"/>
                        </a:lnTo>
                        <a:lnTo>
                          <a:pt x="759" y="2135"/>
                        </a:lnTo>
                        <a:lnTo>
                          <a:pt x="761" y="2139"/>
                        </a:lnTo>
                        <a:lnTo>
                          <a:pt x="765" y="2144"/>
                        </a:lnTo>
                        <a:lnTo>
                          <a:pt x="767" y="2150"/>
                        </a:lnTo>
                        <a:lnTo>
                          <a:pt x="769" y="2156"/>
                        </a:lnTo>
                        <a:lnTo>
                          <a:pt x="772" y="2159"/>
                        </a:lnTo>
                        <a:lnTo>
                          <a:pt x="776" y="2165"/>
                        </a:lnTo>
                        <a:lnTo>
                          <a:pt x="780" y="2171"/>
                        </a:lnTo>
                        <a:lnTo>
                          <a:pt x="782" y="2175"/>
                        </a:lnTo>
                        <a:lnTo>
                          <a:pt x="786" y="2180"/>
                        </a:lnTo>
                        <a:lnTo>
                          <a:pt x="789" y="2186"/>
                        </a:lnTo>
                        <a:lnTo>
                          <a:pt x="795" y="2190"/>
                        </a:lnTo>
                        <a:lnTo>
                          <a:pt x="799" y="2196"/>
                        </a:lnTo>
                        <a:lnTo>
                          <a:pt x="805" y="2201"/>
                        </a:lnTo>
                        <a:lnTo>
                          <a:pt x="808" y="2205"/>
                        </a:lnTo>
                        <a:lnTo>
                          <a:pt x="814" y="2209"/>
                        </a:lnTo>
                        <a:lnTo>
                          <a:pt x="818" y="2213"/>
                        </a:lnTo>
                        <a:lnTo>
                          <a:pt x="824" y="2216"/>
                        </a:lnTo>
                        <a:lnTo>
                          <a:pt x="828" y="2222"/>
                        </a:lnTo>
                        <a:lnTo>
                          <a:pt x="833" y="2224"/>
                        </a:lnTo>
                        <a:lnTo>
                          <a:pt x="839" y="2228"/>
                        </a:lnTo>
                        <a:lnTo>
                          <a:pt x="845" y="2232"/>
                        </a:lnTo>
                        <a:lnTo>
                          <a:pt x="848" y="2235"/>
                        </a:lnTo>
                        <a:lnTo>
                          <a:pt x="854" y="2239"/>
                        </a:lnTo>
                        <a:lnTo>
                          <a:pt x="858" y="2243"/>
                        </a:lnTo>
                        <a:lnTo>
                          <a:pt x="864" y="2245"/>
                        </a:lnTo>
                        <a:lnTo>
                          <a:pt x="867" y="2249"/>
                        </a:lnTo>
                        <a:lnTo>
                          <a:pt x="873" y="2253"/>
                        </a:lnTo>
                        <a:lnTo>
                          <a:pt x="877" y="2256"/>
                        </a:lnTo>
                        <a:lnTo>
                          <a:pt x="883" y="2258"/>
                        </a:lnTo>
                        <a:lnTo>
                          <a:pt x="890" y="2260"/>
                        </a:lnTo>
                        <a:lnTo>
                          <a:pt x="896" y="2264"/>
                        </a:lnTo>
                        <a:lnTo>
                          <a:pt x="900" y="2266"/>
                        </a:lnTo>
                        <a:lnTo>
                          <a:pt x="904" y="2268"/>
                        </a:lnTo>
                        <a:lnTo>
                          <a:pt x="907" y="2270"/>
                        </a:lnTo>
                        <a:lnTo>
                          <a:pt x="913" y="2273"/>
                        </a:lnTo>
                        <a:lnTo>
                          <a:pt x="919" y="2275"/>
                        </a:lnTo>
                        <a:lnTo>
                          <a:pt x="925" y="2277"/>
                        </a:lnTo>
                        <a:lnTo>
                          <a:pt x="928" y="2279"/>
                        </a:lnTo>
                        <a:lnTo>
                          <a:pt x="934" y="2281"/>
                        </a:lnTo>
                        <a:lnTo>
                          <a:pt x="938" y="2283"/>
                        </a:lnTo>
                        <a:lnTo>
                          <a:pt x="942" y="2285"/>
                        </a:lnTo>
                        <a:lnTo>
                          <a:pt x="947" y="2287"/>
                        </a:lnTo>
                        <a:lnTo>
                          <a:pt x="951" y="2289"/>
                        </a:lnTo>
                        <a:lnTo>
                          <a:pt x="955" y="2289"/>
                        </a:lnTo>
                        <a:lnTo>
                          <a:pt x="961" y="2291"/>
                        </a:lnTo>
                        <a:lnTo>
                          <a:pt x="964" y="2291"/>
                        </a:lnTo>
                        <a:lnTo>
                          <a:pt x="968" y="2294"/>
                        </a:lnTo>
                        <a:lnTo>
                          <a:pt x="972" y="2294"/>
                        </a:lnTo>
                        <a:lnTo>
                          <a:pt x="978" y="2294"/>
                        </a:lnTo>
                        <a:lnTo>
                          <a:pt x="982" y="2296"/>
                        </a:lnTo>
                        <a:lnTo>
                          <a:pt x="985" y="2296"/>
                        </a:lnTo>
                        <a:lnTo>
                          <a:pt x="989" y="2296"/>
                        </a:lnTo>
                        <a:lnTo>
                          <a:pt x="993" y="2298"/>
                        </a:lnTo>
                        <a:lnTo>
                          <a:pt x="997" y="2298"/>
                        </a:lnTo>
                        <a:lnTo>
                          <a:pt x="1001" y="2298"/>
                        </a:lnTo>
                        <a:lnTo>
                          <a:pt x="1004" y="2298"/>
                        </a:lnTo>
                        <a:lnTo>
                          <a:pt x="1008" y="2300"/>
                        </a:lnTo>
                        <a:lnTo>
                          <a:pt x="1010" y="2300"/>
                        </a:lnTo>
                        <a:lnTo>
                          <a:pt x="1014" y="2300"/>
                        </a:lnTo>
                        <a:lnTo>
                          <a:pt x="1016" y="2300"/>
                        </a:lnTo>
                        <a:lnTo>
                          <a:pt x="1020" y="2300"/>
                        </a:lnTo>
                        <a:lnTo>
                          <a:pt x="1022" y="2300"/>
                        </a:lnTo>
                        <a:lnTo>
                          <a:pt x="1025" y="2302"/>
                        </a:lnTo>
                        <a:lnTo>
                          <a:pt x="1029" y="2300"/>
                        </a:lnTo>
                        <a:lnTo>
                          <a:pt x="1035" y="2300"/>
                        </a:lnTo>
                        <a:lnTo>
                          <a:pt x="1039" y="2298"/>
                        </a:lnTo>
                        <a:lnTo>
                          <a:pt x="1042" y="2298"/>
                        </a:lnTo>
                        <a:lnTo>
                          <a:pt x="1044" y="2296"/>
                        </a:lnTo>
                        <a:lnTo>
                          <a:pt x="1048" y="2296"/>
                        </a:lnTo>
                        <a:lnTo>
                          <a:pt x="1048" y="2294"/>
                        </a:lnTo>
                        <a:lnTo>
                          <a:pt x="1050" y="2294"/>
                        </a:lnTo>
                        <a:lnTo>
                          <a:pt x="1246" y="1334"/>
                        </a:lnTo>
                        <a:lnTo>
                          <a:pt x="1246" y="1333"/>
                        </a:lnTo>
                        <a:lnTo>
                          <a:pt x="1248" y="1331"/>
                        </a:lnTo>
                        <a:lnTo>
                          <a:pt x="1250" y="1327"/>
                        </a:lnTo>
                        <a:lnTo>
                          <a:pt x="1252" y="1325"/>
                        </a:lnTo>
                        <a:lnTo>
                          <a:pt x="1252" y="1323"/>
                        </a:lnTo>
                        <a:lnTo>
                          <a:pt x="1254" y="1319"/>
                        </a:lnTo>
                        <a:lnTo>
                          <a:pt x="1256" y="1315"/>
                        </a:lnTo>
                        <a:lnTo>
                          <a:pt x="1259" y="1312"/>
                        </a:lnTo>
                        <a:lnTo>
                          <a:pt x="1259" y="1306"/>
                        </a:lnTo>
                        <a:lnTo>
                          <a:pt x="1263" y="1302"/>
                        </a:lnTo>
                        <a:lnTo>
                          <a:pt x="1265" y="1296"/>
                        </a:lnTo>
                        <a:lnTo>
                          <a:pt x="1269" y="1293"/>
                        </a:lnTo>
                        <a:lnTo>
                          <a:pt x="1271" y="1285"/>
                        </a:lnTo>
                        <a:lnTo>
                          <a:pt x="1275" y="1281"/>
                        </a:lnTo>
                        <a:lnTo>
                          <a:pt x="1276" y="1274"/>
                        </a:lnTo>
                        <a:lnTo>
                          <a:pt x="1280" y="1266"/>
                        </a:lnTo>
                        <a:lnTo>
                          <a:pt x="1284" y="1258"/>
                        </a:lnTo>
                        <a:lnTo>
                          <a:pt x="1288" y="1249"/>
                        </a:lnTo>
                        <a:lnTo>
                          <a:pt x="1290" y="1241"/>
                        </a:lnTo>
                        <a:lnTo>
                          <a:pt x="1294" y="1234"/>
                        </a:lnTo>
                        <a:lnTo>
                          <a:pt x="1297" y="1224"/>
                        </a:lnTo>
                        <a:lnTo>
                          <a:pt x="1301" y="1217"/>
                        </a:lnTo>
                        <a:lnTo>
                          <a:pt x="1305" y="1207"/>
                        </a:lnTo>
                        <a:lnTo>
                          <a:pt x="1309" y="1198"/>
                        </a:lnTo>
                        <a:lnTo>
                          <a:pt x="1313" y="1188"/>
                        </a:lnTo>
                        <a:lnTo>
                          <a:pt x="1316" y="1177"/>
                        </a:lnTo>
                        <a:lnTo>
                          <a:pt x="1320" y="1165"/>
                        </a:lnTo>
                        <a:lnTo>
                          <a:pt x="1324" y="1154"/>
                        </a:lnTo>
                        <a:lnTo>
                          <a:pt x="1330" y="1144"/>
                        </a:lnTo>
                        <a:lnTo>
                          <a:pt x="1334" y="1133"/>
                        </a:lnTo>
                        <a:lnTo>
                          <a:pt x="1337" y="1122"/>
                        </a:lnTo>
                        <a:lnTo>
                          <a:pt x="1339" y="1108"/>
                        </a:lnTo>
                        <a:lnTo>
                          <a:pt x="1345" y="1097"/>
                        </a:lnTo>
                        <a:lnTo>
                          <a:pt x="1349" y="1084"/>
                        </a:lnTo>
                        <a:lnTo>
                          <a:pt x="1353" y="1070"/>
                        </a:lnTo>
                        <a:lnTo>
                          <a:pt x="1354" y="1059"/>
                        </a:lnTo>
                        <a:lnTo>
                          <a:pt x="1358" y="1044"/>
                        </a:lnTo>
                        <a:lnTo>
                          <a:pt x="1362" y="1032"/>
                        </a:lnTo>
                        <a:lnTo>
                          <a:pt x="1366" y="1017"/>
                        </a:lnTo>
                        <a:lnTo>
                          <a:pt x="1370" y="1004"/>
                        </a:lnTo>
                        <a:lnTo>
                          <a:pt x="1372" y="988"/>
                        </a:lnTo>
                        <a:lnTo>
                          <a:pt x="1375" y="975"/>
                        </a:lnTo>
                        <a:lnTo>
                          <a:pt x="1377" y="960"/>
                        </a:lnTo>
                        <a:lnTo>
                          <a:pt x="1381" y="947"/>
                        </a:lnTo>
                        <a:lnTo>
                          <a:pt x="1383" y="931"/>
                        </a:lnTo>
                        <a:lnTo>
                          <a:pt x="1387" y="916"/>
                        </a:lnTo>
                        <a:lnTo>
                          <a:pt x="1389" y="901"/>
                        </a:lnTo>
                        <a:lnTo>
                          <a:pt x="1391" y="886"/>
                        </a:lnTo>
                        <a:lnTo>
                          <a:pt x="1392" y="871"/>
                        </a:lnTo>
                        <a:lnTo>
                          <a:pt x="1394" y="855"/>
                        </a:lnTo>
                        <a:lnTo>
                          <a:pt x="1396" y="838"/>
                        </a:lnTo>
                        <a:lnTo>
                          <a:pt x="1398" y="823"/>
                        </a:lnTo>
                        <a:lnTo>
                          <a:pt x="1398" y="806"/>
                        </a:lnTo>
                        <a:lnTo>
                          <a:pt x="1400" y="791"/>
                        </a:lnTo>
                        <a:lnTo>
                          <a:pt x="1402" y="774"/>
                        </a:lnTo>
                        <a:lnTo>
                          <a:pt x="1402" y="757"/>
                        </a:lnTo>
                        <a:lnTo>
                          <a:pt x="1402" y="741"/>
                        </a:lnTo>
                        <a:lnTo>
                          <a:pt x="1402" y="724"/>
                        </a:lnTo>
                        <a:lnTo>
                          <a:pt x="1402" y="705"/>
                        </a:lnTo>
                        <a:lnTo>
                          <a:pt x="1402" y="690"/>
                        </a:lnTo>
                        <a:lnTo>
                          <a:pt x="1400" y="673"/>
                        </a:lnTo>
                        <a:lnTo>
                          <a:pt x="1400" y="656"/>
                        </a:lnTo>
                        <a:lnTo>
                          <a:pt x="1398" y="654"/>
                        </a:lnTo>
                        <a:lnTo>
                          <a:pt x="1398" y="652"/>
                        </a:lnTo>
                        <a:lnTo>
                          <a:pt x="1398" y="648"/>
                        </a:lnTo>
                        <a:lnTo>
                          <a:pt x="1398" y="644"/>
                        </a:lnTo>
                        <a:lnTo>
                          <a:pt x="1398" y="643"/>
                        </a:lnTo>
                        <a:lnTo>
                          <a:pt x="1398" y="639"/>
                        </a:lnTo>
                        <a:lnTo>
                          <a:pt x="1396" y="637"/>
                        </a:lnTo>
                        <a:lnTo>
                          <a:pt x="1396" y="633"/>
                        </a:lnTo>
                        <a:lnTo>
                          <a:pt x="1396" y="631"/>
                        </a:lnTo>
                        <a:lnTo>
                          <a:pt x="1396" y="627"/>
                        </a:lnTo>
                        <a:lnTo>
                          <a:pt x="1396" y="623"/>
                        </a:lnTo>
                        <a:lnTo>
                          <a:pt x="1394" y="620"/>
                        </a:lnTo>
                        <a:lnTo>
                          <a:pt x="1394" y="618"/>
                        </a:lnTo>
                        <a:lnTo>
                          <a:pt x="1394" y="616"/>
                        </a:lnTo>
                        <a:lnTo>
                          <a:pt x="1392" y="612"/>
                        </a:lnTo>
                        <a:lnTo>
                          <a:pt x="1392" y="610"/>
                        </a:lnTo>
                        <a:lnTo>
                          <a:pt x="1392" y="608"/>
                        </a:lnTo>
                        <a:lnTo>
                          <a:pt x="1391" y="604"/>
                        </a:lnTo>
                        <a:lnTo>
                          <a:pt x="1391" y="603"/>
                        </a:lnTo>
                        <a:lnTo>
                          <a:pt x="1391" y="599"/>
                        </a:lnTo>
                        <a:lnTo>
                          <a:pt x="1389" y="597"/>
                        </a:lnTo>
                        <a:lnTo>
                          <a:pt x="1389" y="593"/>
                        </a:lnTo>
                        <a:lnTo>
                          <a:pt x="1389" y="589"/>
                        </a:lnTo>
                        <a:lnTo>
                          <a:pt x="1389" y="587"/>
                        </a:lnTo>
                        <a:lnTo>
                          <a:pt x="1387" y="585"/>
                        </a:lnTo>
                        <a:lnTo>
                          <a:pt x="1385" y="582"/>
                        </a:lnTo>
                        <a:lnTo>
                          <a:pt x="1385" y="580"/>
                        </a:lnTo>
                        <a:lnTo>
                          <a:pt x="1383" y="578"/>
                        </a:lnTo>
                        <a:lnTo>
                          <a:pt x="1383" y="572"/>
                        </a:lnTo>
                        <a:lnTo>
                          <a:pt x="1381" y="568"/>
                        </a:lnTo>
                        <a:lnTo>
                          <a:pt x="1377" y="563"/>
                        </a:lnTo>
                        <a:lnTo>
                          <a:pt x="1375" y="557"/>
                        </a:lnTo>
                        <a:lnTo>
                          <a:pt x="1373" y="553"/>
                        </a:lnTo>
                        <a:lnTo>
                          <a:pt x="1370" y="547"/>
                        </a:lnTo>
                        <a:lnTo>
                          <a:pt x="1366" y="544"/>
                        </a:lnTo>
                        <a:lnTo>
                          <a:pt x="1364" y="540"/>
                        </a:lnTo>
                        <a:lnTo>
                          <a:pt x="1360" y="536"/>
                        </a:lnTo>
                        <a:lnTo>
                          <a:pt x="1356" y="532"/>
                        </a:lnTo>
                        <a:lnTo>
                          <a:pt x="1353" y="528"/>
                        </a:lnTo>
                        <a:lnTo>
                          <a:pt x="1349" y="525"/>
                        </a:lnTo>
                        <a:lnTo>
                          <a:pt x="1345" y="523"/>
                        </a:lnTo>
                        <a:lnTo>
                          <a:pt x="1339" y="521"/>
                        </a:lnTo>
                        <a:lnTo>
                          <a:pt x="1335" y="517"/>
                        </a:lnTo>
                        <a:lnTo>
                          <a:pt x="1332" y="515"/>
                        </a:lnTo>
                        <a:lnTo>
                          <a:pt x="1326" y="515"/>
                        </a:lnTo>
                        <a:lnTo>
                          <a:pt x="1322" y="513"/>
                        </a:lnTo>
                        <a:lnTo>
                          <a:pt x="1318" y="511"/>
                        </a:lnTo>
                        <a:lnTo>
                          <a:pt x="1316" y="511"/>
                        </a:lnTo>
                        <a:lnTo>
                          <a:pt x="1313" y="511"/>
                        </a:lnTo>
                        <a:lnTo>
                          <a:pt x="1311" y="511"/>
                        </a:lnTo>
                        <a:lnTo>
                          <a:pt x="1309" y="509"/>
                        </a:lnTo>
                        <a:lnTo>
                          <a:pt x="1305" y="509"/>
                        </a:lnTo>
                        <a:lnTo>
                          <a:pt x="1303" y="509"/>
                        </a:lnTo>
                        <a:lnTo>
                          <a:pt x="1301" y="509"/>
                        </a:lnTo>
                        <a:lnTo>
                          <a:pt x="1297" y="509"/>
                        </a:lnTo>
                        <a:lnTo>
                          <a:pt x="1295" y="509"/>
                        </a:lnTo>
                        <a:lnTo>
                          <a:pt x="1292" y="509"/>
                        </a:lnTo>
                        <a:lnTo>
                          <a:pt x="1290" y="509"/>
                        </a:lnTo>
                        <a:lnTo>
                          <a:pt x="1284" y="509"/>
                        </a:lnTo>
                        <a:lnTo>
                          <a:pt x="1280" y="509"/>
                        </a:lnTo>
                        <a:lnTo>
                          <a:pt x="1275" y="509"/>
                        </a:lnTo>
                        <a:lnTo>
                          <a:pt x="1269" y="509"/>
                        </a:lnTo>
                        <a:lnTo>
                          <a:pt x="1265" y="509"/>
                        </a:lnTo>
                        <a:lnTo>
                          <a:pt x="1259" y="509"/>
                        </a:lnTo>
                        <a:lnTo>
                          <a:pt x="1256" y="511"/>
                        </a:lnTo>
                        <a:lnTo>
                          <a:pt x="1252" y="511"/>
                        </a:lnTo>
                        <a:lnTo>
                          <a:pt x="1246" y="515"/>
                        </a:lnTo>
                        <a:lnTo>
                          <a:pt x="1242" y="515"/>
                        </a:lnTo>
                        <a:lnTo>
                          <a:pt x="1238" y="517"/>
                        </a:lnTo>
                        <a:lnTo>
                          <a:pt x="1235" y="521"/>
                        </a:lnTo>
                        <a:lnTo>
                          <a:pt x="1231" y="523"/>
                        </a:lnTo>
                        <a:lnTo>
                          <a:pt x="1229" y="525"/>
                        </a:lnTo>
                        <a:lnTo>
                          <a:pt x="1225" y="527"/>
                        </a:lnTo>
                        <a:lnTo>
                          <a:pt x="1221" y="530"/>
                        </a:lnTo>
                        <a:lnTo>
                          <a:pt x="1219" y="532"/>
                        </a:lnTo>
                        <a:lnTo>
                          <a:pt x="1216" y="538"/>
                        </a:lnTo>
                        <a:lnTo>
                          <a:pt x="1214" y="542"/>
                        </a:lnTo>
                        <a:lnTo>
                          <a:pt x="1212" y="546"/>
                        </a:lnTo>
                        <a:lnTo>
                          <a:pt x="1210" y="549"/>
                        </a:lnTo>
                        <a:lnTo>
                          <a:pt x="1208" y="555"/>
                        </a:lnTo>
                        <a:lnTo>
                          <a:pt x="1208" y="557"/>
                        </a:lnTo>
                        <a:lnTo>
                          <a:pt x="1206" y="559"/>
                        </a:lnTo>
                        <a:lnTo>
                          <a:pt x="1204" y="561"/>
                        </a:lnTo>
                        <a:lnTo>
                          <a:pt x="1204" y="565"/>
                        </a:lnTo>
                        <a:lnTo>
                          <a:pt x="1204" y="566"/>
                        </a:lnTo>
                        <a:lnTo>
                          <a:pt x="1204" y="570"/>
                        </a:lnTo>
                        <a:lnTo>
                          <a:pt x="1204" y="572"/>
                        </a:lnTo>
                        <a:lnTo>
                          <a:pt x="1204" y="576"/>
                        </a:lnTo>
                        <a:lnTo>
                          <a:pt x="1139" y="895"/>
                        </a:lnTo>
                        <a:lnTo>
                          <a:pt x="1136" y="893"/>
                        </a:lnTo>
                        <a:lnTo>
                          <a:pt x="1132" y="892"/>
                        </a:lnTo>
                        <a:lnTo>
                          <a:pt x="1126" y="888"/>
                        </a:lnTo>
                        <a:lnTo>
                          <a:pt x="1122" y="886"/>
                        </a:lnTo>
                        <a:lnTo>
                          <a:pt x="1117" y="884"/>
                        </a:lnTo>
                        <a:lnTo>
                          <a:pt x="1113" y="880"/>
                        </a:lnTo>
                        <a:lnTo>
                          <a:pt x="1107" y="878"/>
                        </a:lnTo>
                        <a:lnTo>
                          <a:pt x="1105" y="876"/>
                        </a:lnTo>
                        <a:lnTo>
                          <a:pt x="1227" y="316"/>
                        </a:lnTo>
                        <a:lnTo>
                          <a:pt x="1227" y="312"/>
                        </a:lnTo>
                        <a:lnTo>
                          <a:pt x="1227" y="308"/>
                        </a:lnTo>
                        <a:lnTo>
                          <a:pt x="1229" y="306"/>
                        </a:lnTo>
                        <a:lnTo>
                          <a:pt x="1229" y="304"/>
                        </a:lnTo>
                        <a:lnTo>
                          <a:pt x="1229" y="300"/>
                        </a:lnTo>
                        <a:lnTo>
                          <a:pt x="1229" y="298"/>
                        </a:lnTo>
                        <a:lnTo>
                          <a:pt x="1229" y="295"/>
                        </a:lnTo>
                        <a:lnTo>
                          <a:pt x="1229" y="293"/>
                        </a:lnTo>
                        <a:lnTo>
                          <a:pt x="1229" y="291"/>
                        </a:lnTo>
                        <a:lnTo>
                          <a:pt x="1229" y="287"/>
                        </a:lnTo>
                        <a:lnTo>
                          <a:pt x="1229" y="285"/>
                        </a:lnTo>
                        <a:lnTo>
                          <a:pt x="1229" y="283"/>
                        </a:lnTo>
                        <a:lnTo>
                          <a:pt x="1229" y="278"/>
                        </a:lnTo>
                        <a:lnTo>
                          <a:pt x="1227" y="272"/>
                        </a:lnTo>
                        <a:lnTo>
                          <a:pt x="1225" y="268"/>
                        </a:lnTo>
                        <a:lnTo>
                          <a:pt x="1225" y="262"/>
                        </a:lnTo>
                        <a:lnTo>
                          <a:pt x="1223" y="257"/>
                        </a:lnTo>
                        <a:lnTo>
                          <a:pt x="1221" y="253"/>
                        </a:lnTo>
                        <a:lnTo>
                          <a:pt x="1219" y="247"/>
                        </a:lnTo>
                        <a:lnTo>
                          <a:pt x="1217" y="243"/>
                        </a:lnTo>
                        <a:lnTo>
                          <a:pt x="1216" y="240"/>
                        </a:lnTo>
                        <a:lnTo>
                          <a:pt x="1214" y="236"/>
                        </a:lnTo>
                        <a:lnTo>
                          <a:pt x="1210" y="232"/>
                        </a:lnTo>
                        <a:lnTo>
                          <a:pt x="1206" y="226"/>
                        </a:lnTo>
                        <a:lnTo>
                          <a:pt x="1202" y="222"/>
                        </a:lnTo>
                        <a:lnTo>
                          <a:pt x="1200" y="219"/>
                        </a:lnTo>
                        <a:lnTo>
                          <a:pt x="1197" y="215"/>
                        </a:lnTo>
                        <a:lnTo>
                          <a:pt x="1193" y="211"/>
                        </a:lnTo>
                        <a:lnTo>
                          <a:pt x="1189" y="207"/>
                        </a:lnTo>
                        <a:lnTo>
                          <a:pt x="1185" y="205"/>
                        </a:lnTo>
                        <a:lnTo>
                          <a:pt x="1179" y="203"/>
                        </a:lnTo>
                        <a:lnTo>
                          <a:pt x="1176" y="200"/>
                        </a:lnTo>
                        <a:lnTo>
                          <a:pt x="1172" y="198"/>
                        </a:lnTo>
                        <a:lnTo>
                          <a:pt x="1166" y="194"/>
                        </a:lnTo>
                        <a:lnTo>
                          <a:pt x="1160" y="192"/>
                        </a:lnTo>
                        <a:lnTo>
                          <a:pt x="1157" y="192"/>
                        </a:lnTo>
                        <a:lnTo>
                          <a:pt x="1151" y="190"/>
                        </a:lnTo>
                        <a:lnTo>
                          <a:pt x="1147" y="190"/>
                        </a:lnTo>
                        <a:lnTo>
                          <a:pt x="1143" y="188"/>
                        </a:lnTo>
                        <a:lnTo>
                          <a:pt x="1141" y="186"/>
                        </a:lnTo>
                        <a:lnTo>
                          <a:pt x="1138" y="186"/>
                        </a:lnTo>
                        <a:lnTo>
                          <a:pt x="1136" y="186"/>
                        </a:lnTo>
                        <a:lnTo>
                          <a:pt x="1134" y="186"/>
                        </a:lnTo>
                        <a:lnTo>
                          <a:pt x="1130" y="186"/>
                        </a:lnTo>
                        <a:lnTo>
                          <a:pt x="1128" y="186"/>
                        </a:lnTo>
                        <a:lnTo>
                          <a:pt x="1124" y="186"/>
                        </a:lnTo>
                        <a:lnTo>
                          <a:pt x="1122" y="186"/>
                        </a:lnTo>
                        <a:lnTo>
                          <a:pt x="1120" y="186"/>
                        </a:lnTo>
                        <a:lnTo>
                          <a:pt x="1117" y="186"/>
                        </a:lnTo>
                        <a:lnTo>
                          <a:pt x="1115" y="186"/>
                        </a:lnTo>
                        <a:lnTo>
                          <a:pt x="1109" y="186"/>
                        </a:lnTo>
                        <a:lnTo>
                          <a:pt x="1105" y="188"/>
                        </a:lnTo>
                        <a:lnTo>
                          <a:pt x="1100" y="188"/>
                        </a:lnTo>
                        <a:lnTo>
                          <a:pt x="1094" y="190"/>
                        </a:lnTo>
                        <a:lnTo>
                          <a:pt x="1090" y="192"/>
                        </a:lnTo>
                        <a:lnTo>
                          <a:pt x="1086" y="192"/>
                        </a:lnTo>
                        <a:lnTo>
                          <a:pt x="1081" y="194"/>
                        </a:lnTo>
                        <a:lnTo>
                          <a:pt x="1077" y="198"/>
                        </a:lnTo>
                        <a:lnTo>
                          <a:pt x="1073" y="200"/>
                        </a:lnTo>
                        <a:lnTo>
                          <a:pt x="1067" y="203"/>
                        </a:lnTo>
                        <a:lnTo>
                          <a:pt x="1063" y="205"/>
                        </a:lnTo>
                        <a:lnTo>
                          <a:pt x="1058" y="207"/>
                        </a:lnTo>
                        <a:lnTo>
                          <a:pt x="1054" y="211"/>
                        </a:lnTo>
                        <a:lnTo>
                          <a:pt x="1050" y="215"/>
                        </a:lnTo>
                        <a:lnTo>
                          <a:pt x="1048" y="219"/>
                        </a:lnTo>
                        <a:lnTo>
                          <a:pt x="1044" y="222"/>
                        </a:lnTo>
                        <a:lnTo>
                          <a:pt x="1041" y="226"/>
                        </a:lnTo>
                        <a:lnTo>
                          <a:pt x="1039" y="232"/>
                        </a:lnTo>
                        <a:lnTo>
                          <a:pt x="1035" y="234"/>
                        </a:lnTo>
                        <a:lnTo>
                          <a:pt x="1033" y="240"/>
                        </a:lnTo>
                        <a:lnTo>
                          <a:pt x="1029" y="243"/>
                        </a:lnTo>
                        <a:lnTo>
                          <a:pt x="1027" y="249"/>
                        </a:lnTo>
                        <a:lnTo>
                          <a:pt x="1025" y="253"/>
                        </a:lnTo>
                        <a:lnTo>
                          <a:pt x="1023" y="259"/>
                        </a:lnTo>
                        <a:lnTo>
                          <a:pt x="1022" y="260"/>
                        </a:lnTo>
                        <a:lnTo>
                          <a:pt x="1022" y="264"/>
                        </a:lnTo>
                        <a:lnTo>
                          <a:pt x="1022" y="266"/>
                        </a:lnTo>
                        <a:lnTo>
                          <a:pt x="1022" y="270"/>
                        </a:lnTo>
                        <a:lnTo>
                          <a:pt x="919" y="730"/>
                        </a:lnTo>
                        <a:lnTo>
                          <a:pt x="915" y="728"/>
                        </a:lnTo>
                        <a:lnTo>
                          <a:pt x="913" y="726"/>
                        </a:lnTo>
                        <a:lnTo>
                          <a:pt x="907" y="724"/>
                        </a:lnTo>
                        <a:lnTo>
                          <a:pt x="905" y="720"/>
                        </a:lnTo>
                        <a:lnTo>
                          <a:pt x="904" y="719"/>
                        </a:lnTo>
                        <a:lnTo>
                          <a:pt x="900" y="717"/>
                        </a:lnTo>
                        <a:lnTo>
                          <a:pt x="896" y="713"/>
                        </a:lnTo>
                        <a:lnTo>
                          <a:pt x="892" y="713"/>
                        </a:lnTo>
                        <a:lnTo>
                          <a:pt x="1022" y="129"/>
                        </a:lnTo>
                        <a:lnTo>
                          <a:pt x="1022" y="125"/>
                        </a:lnTo>
                        <a:lnTo>
                          <a:pt x="1022" y="124"/>
                        </a:lnTo>
                        <a:lnTo>
                          <a:pt x="1022" y="120"/>
                        </a:lnTo>
                        <a:lnTo>
                          <a:pt x="1022" y="118"/>
                        </a:lnTo>
                        <a:lnTo>
                          <a:pt x="1022" y="114"/>
                        </a:lnTo>
                        <a:lnTo>
                          <a:pt x="1022" y="112"/>
                        </a:lnTo>
                        <a:lnTo>
                          <a:pt x="1022" y="110"/>
                        </a:lnTo>
                        <a:lnTo>
                          <a:pt x="1022" y="106"/>
                        </a:lnTo>
                        <a:lnTo>
                          <a:pt x="1022" y="105"/>
                        </a:lnTo>
                        <a:lnTo>
                          <a:pt x="1022" y="103"/>
                        </a:lnTo>
                        <a:lnTo>
                          <a:pt x="1022" y="99"/>
                        </a:lnTo>
                        <a:lnTo>
                          <a:pt x="1022" y="97"/>
                        </a:lnTo>
                        <a:lnTo>
                          <a:pt x="1022" y="91"/>
                        </a:lnTo>
                        <a:lnTo>
                          <a:pt x="1022" y="86"/>
                        </a:lnTo>
                        <a:lnTo>
                          <a:pt x="1020" y="82"/>
                        </a:lnTo>
                        <a:lnTo>
                          <a:pt x="1018" y="76"/>
                        </a:lnTo>
                        <a:lnTo>
                          <a:pt x="1016" y="70"/>
                        </a:lnTo>
                        <a:lnTo>
                          <a:pt x="1014" y="67"/>
                        </a:lnTo>
                        <a:lnTo>
                          <a:pt x="1012" y="61"/>
                        </a:lnTo>
                        <a:lnTo>
                          <a:pt x="1010" y="57"/>
                        </a:lnTo>
                        <a:lnTo>
                          <a:pt x="1008" y="53"/>
                        </a:lnTo>
                        <a:lnTo>
                          <a:pt x="1006" y="48"/>
                        </a:lnTo>
                        <a:lnTo>
                          <a:pt x="1004" y="44"/>
                        </a:lnTo>
                        <a:lnTo>
                          <a:pt x="1001" y="40"/>
                        </a:lnTo>
                        <a:lnTo>
                          <a:pt x="997" y="36"/>
                        </a:lnTo>
                        <a:lnTo>
                          <a:pt x="993" y="32"/>
                        </a:lnTo>
                        <a:lnTo>
                          <a:pt x="991" y="29"/>
                        </a:lnTo>
                        <a:lnTo>
                          <a:pt x="985" y="25"/>
                        </a:lnTo>
                        <a:lnTo>
                          <a:pt x="983" y="23"/>
                        </a:lnTo>
                        <a:lnTo>
                          <a:pt x="978" y="19"/>
                        </a:lnTo>
                        <a:lnTo>
                          <a:pt x="972" y="17"/>
                        </a:lnTo>
                        <a:lnTo>
                          <a:pt x="968" y="13"/>
                        </a:lnTo>
                        <a:lnTo>
                          <a:pt x="964" y="11"/>
                        </a:lnTo>
                        <a:lnTo>
                          <a:pt x="961" y="10"/>
                        </a:lnTo>
                        <a:lnTo>
                          <a:pt x="955" y="6"/>
                        </a:lnTo>
                        <a:lnTo>
                          <a:pt x="949" y="6"/>
                        </a:lnTo>
                        <a:lnTo>
                          <a:pt x="944" y="4"/>
                        </a:lnTo>
                        <a:lnTo>
                          <a:pt x="940" y="4"/>
                        </a:lnTo>
                        <a:lnTo>
                          <a:pt x="936" y="2"/>
                        </a:lnTo>
                        <a:lnTo>
                          <a:pt x="934" y="2"/>
                        </a:lnTo>
                        <a:lnTo>
                          <a:pt x="932" y="0"/>
                        </a:lnTo>
                        <a:lnTo>
                          <a:pt x="928" y="0"/>
                        </a:lnTo>
                        <a:lnTo>
                          <a:pt x="926" y="0"/>
                        </a:lnTo>
                        <a:lnTo>
                          <a:pt x="925" y="0"/>
                        </a:lnTo>
                        <a:lnTo>
                          <a:pt x="921" y="0"/>
                        </a:lnTo>
                        <a:lnTo>
                          <a:pt x="919" y="0"/>
                        </a:lnTo>
                        <a:lnTo>
                          <a:pt x="915" y="0"/>
                        </a:lnTo>
                        <a:lnTo>
                          <a:pt x="913" y="0"/>
                        </a:lnTo>
                        <a:lnTo>
                          <a:pt x="911" y="0"/>
                        </a:lnTo>
                        <a:lnTo>
                          <a:pt x="907" y="0"/>
                        </a:lnTo>
                        <a:lnTo>
                          <a:pt x="904" y="0"/>
                        </a:lnTo>
                        <a:lnTo>
                          <a:pt x="898" y="2"/>
                        </a:lnTo>
                        <a:lnTo>
                          <a:pt x="896" y="2"/>
                        </a:lnTo>
                        <a:lnTo>
                          <a:pt x="892" y="2"/>
                        </a:lnTo>
                        <a:lnTo>
                          <a:pt x="890" y="2"/>
                        </a:lnTo>
                        <a:lnTo>
                          <a:pt x="888" y="4"/>
                        </a:lnTo>
                        <a:lnTo>
                          <a:pt x="881" y="4"/>
                        </a:lnTo>
                        <a:lnTo>
                          <a:pt x="877" y="6"/>
                        </a:lnTo>
                        <a:lnTo>
                          <a:pt x="873" y="10"/>
                        </a:lnTo>
                        <a:lnTo>
                          <a:pt x="867" y="11"/>
                        </a:lnTo>
                        <a:lnTo>
                          <a:pt x="864" y="15"/>
                        </a:lnTo>
                        <a:lnTo>
                          <a:pt x="860" y="17"/>
                        </a:lnTo>
                        <a:lnTo>
                          <a:pt x="854" y="19"/>
                        </a:lnTo>
                        <a:lnTo>
                          <a:pt x="850" y="23"/>
                        </a:lnTo>
                        <a:lnTo>
                          <a:pt x="847" y="25"/>
                        </a:lnTo>
                        <a:lnTo>
                          <a:pt x="843" y="29"/>
                        </a:lnTo>
                        <a:lnTo>
                          <a:pt x="839" y="32"/>
                        </a:lnTo>
                        <a:lnTo>
                          <a:pt x="835" y="36"/>
                        </a:lnTo>
                        <a:lnTo>
                          <a:pt x="833" y="40"/>
                        </a:lnTo>
                        <a:lnTo>
                          <a:pt x="831" y="44"/>
                        </a:lnTo>
                        <a:lnTo>
                          <a:pt x="828" y="48"/>
                        </a:lnTo>
                        <a:lnTo>
                          <a:pt x="824" y="53"/>
                        </a:lnTo>
                        <a:lnTo>
                          <a:pt x="822" y="57"/>
                        </a:lnTo>
                        <a:lnTo>
                          <a:pt x="820" y="61"/>
                        </a:lnTo>
                        <a:lnTo>
                          <a:pt x="818" y="67"/>
                        </a:lnTo>
                        <a:lnTo>
                          <a:pt x="816" y="70"/>
                        </a:lnTo>
                        <a:lnTo>
                          <a:pt x="816" y="74"/>
                        </a:lnTo>
                        <a:lnTo>
                          <a:pt x="814" y="76"/>
                        </a:lnTo>
                        <a:lnTo>
                          <a:pt x="812" y="82"/>
                        </a:lnTo>
                        <a:lnTo>
                          <a:pt x="812" y="84"/>
                        </a:lnTo>
                        <a:lnTo>
                          <a:pt x="687" y="663"/>
                        </a:lnTo>
                        <a:lnTo>
                          <a:pt x="681" y="663"/>
                        </a:lnTo>
                        <a:lnTo>
                          <a:pt x="677" y="663"/>
                        </a:lnTo>
                        <a:lnTo>
                          <a:pt x="673" y="663"/>
                        </a:lnTo>
                        <a:lnTo>
                          <a:pt x="670" y="663"/>
                        </a:lnTo>
                        <a:lnTo>
                          <a:pt x="666" y="663"/>
                        </a:lnTo>
                        <a:lnTo>
                          <a:pt x="660" y="665"/>
                        </a:lnTo>
                        <a:lnTo>
                          <a:pt x="656" y="665"/>
                        </a:lnTo>
                        <a:lnTo>
                          <a:pt x="652" y="667"/>
                        </a:lnTo>
                        <a:lnTo>
                          <a:pt x="753" y="213"/>
                        </a:lnTo>
                        <a:lnTo>
                          <a:pt x="753" y="209"/>
                        </a:lnTo>
                        <a:lnTo>
                          <a:pt x="753" y="207"/>
                        </a:lnTo>
                        <a:lnTo>
                          <a:pt x="753" y="203"/>
                        </a:lnTo>
                        <a:lnTo>
                          <a:pt x="753" y="201"/>
                        </a:lnTo>
                        <a:lnTo>
                          <a:pt x="753" y="198"/>
                        </a:lnTo>
                        <a:lnTo>
                          <a:pt x="753" y="196"/>
                        </a:lnTo>
                        <a:lnTo>
                          <a:pt x="753" y="192"/>
                        </a:lnTo>
                        <a:lnTo>
                          <a:pt x="753" y="190"/>
                        </a:lnTo>
                        <a:lnTo>
                          <a:pt x="753" y="188"/>
                        </a:lnTo>
                        <a:lnTo>
                          <a:pt x="753" y="184"/>
                        </a:lnTo>
                        <a:lnTo>
                          <a:pt x="753" y="182"/>
                        </a:lnTo>
                        <a:lnTo>
                          <a:pt x="753" y="181"/>
                        </a:lnTo>
                        <a:lnTo>
                          <a:pt x="753" y="175"/>
                        </a:lnTo>
                        <a:lnTo>
                          <a:pt x="753" y="169"/>
                        </a:lnTo>
                        <a:lnTo>
                          <a:pt x="751" y="167"/>
                        </a:lnTo>
                        <a:lnTo>
                          <a:pt x="751" y="163"/>
                        </a:lnTo>
                        <a:lnTo>
                          <a:pt x="751" y="162"/>
                        </a:lnTo>
                        <a:lnTo>
                          <a:pt x="750" y="160"/>
                        </a:lnTo>
                        <a:lnTo>
                          <a:pt x="748" y="154"/>
                        </a:lnTo>
                        <a:lnTo>
                          <a:pt x="746" y="148"/>
                        </a:lnTo>
                        <a:lnTo>
                          <a:pt x="744" y="144"/>
                        </a:lnTo>
                        <a:lnTo>
                          <a:pt x="742" y="141"/>
                        </a:lnTo>
                        <a:lnTo>
                          <a:pt x="740" y="135"/>
                        </a:lnTo>
                        <a:lnTo>
                          <a:pt x="738" y="131"/>
                        </a:lnTo>
                        <a:lnTo>
                          <a:pt x="734" y="127"/>
                        </a:lnTo>
                        <a:lnTo>
                          <a:pt x="730" y="124"/>
                        </a:lnTo>
                        <a:lnTo>
                          <a:pt x="727" y="120"/>
                        </a:lnTo>
                        <a:lnTo>
                          <a:pt x="725" y="116"/>
                        </a:lnTo>
                        <a:lnTo>
                          <a:pt x="721" y="112"/>
                        </a:lnTo>
                        <a:lnTo>
                          <a:pt x="717" y="108"/>
                        </a:lnTo>
                        <a:lnTo>
                          <a:pt x="713" y="105"/>
                        </a:lnTo>
                        <a:lnTo>
                          <a:pt x="710" y="103"/>
                        </a:lnTo>
                        <a:lnTo>
                          <a:pt x="704" y="99"/>
                        </a:lnTo>
                        <a:lnTo>
                          <a:pt x="700" y="97"/>
                        </a:lnTo>
                        <a:lnTo>
                          <a:pt x="694" y="95"/>
                        </a:lnTo>
                        <a:lnTo>
                          <a:pt x="691" y="91"/>
                        </a:lnTo>
                        <a:lnTo>
                          <a:pt x="685" y="89"/>
                        </a:lnTo>
                        <a:lnTo>
                          <a:pt x="681" y="87"/>
                        </a:lnTo>
                        <a:lnTo>
                          <a:pt x="675" y="86"/>
                        </a:lnTo>
                        <a:lnTo>
                          <a:pt x="672" y="86"/>
                        </a:lnTo>
                        <a:lnTo>
                          <a:pt x="668" y="84"/>
                        </a:lnTo>
                        <a:lnTo>
                          <a:pt x="666" y="84"/>
                        </a:lnTo>
                        <a:lnTo>
                          <a:pt x="664" y="84"/>
                        </a:lnTo>
                        <a:lnTo>
                          <a:pt x="660" y="84"/>
                        </a:lnTo>
                        <a:lnTo>
                          <a:pt x="658" y="84"/>
                        </a:lnTo>
                        <a:lnTo>
                          <a:pt x="654" y="84"/>
                        </a:lnTo>
                        <a:lnTo>
                          <a:pt x="652" y="84"/>
                        </a:lnTo>
                        <a:lnTo>
                          <a:pt x="651" y="84"/>
                        </a:lnTo>
                        <a:lnTo>
                          <a:pt x="647" y="84"/>
                        </a:lnTo>
                        <a:lnTo>
                          <a:pt x="645" y="84"/>
                        </a:lnTo>
                        <a:lnTo>
                          <a:pt x="643" y="84"/>
                        </a:lnTo>
                        <a:lnTo>
                          <a:pt x="639" y="84"/>
                        </a:lnTo>
                        <a:lnTo>
                          <a:pt x="635" y="84"/>
                        </a:lnTo>
                        <a:lnTo>
                          <a:pt x="630" y="84"/>
                        </a:lnTo>
                        <a:lnTo>
                          <a:pt x="628" y="84"/>
                        </a:lnTo>
                        <a:lnTo>
                          <a:pt x="624" y="86"/>
                        </a:lnTo>
                        <a:lnTo>
                          <a:pt x="622" y="86"/>
                        </a:lnTo>
                        <a:lnTo>
                          <a:pt x="618" y="86"/>
                        </a:lnTo>
                        <a:lnTo>
                          <a:pt x="614" y="87"/>
                        </a:lnTo>
                        <a:lnTo>
                          <a:pt x="609" y="89"/>
                        </a:lnTo>
                        <a:lnTo>
                          <a:pt x="603" y="91"/>
                        </a:lnTo>
                        <a:lnTo>
                          <a:pt x="599" y="95"/>
                        </a:lnTo>
                        <a:lnTo>
                          <a:pt x="595" y="97"/>
                        </a:lnTo>
                        <a:lnTo>
                          <a:pt x="592" y="99"/>
                        </a:lnTo>
                        <a:lnTo>
                          <a:pt x="586" y="103"/>
                        </a:lnTo>
                        <a:lnTo>
                          <a:pt x="582" y="105"/>
                        </a:lnTo>
                        <a:lnTo>
                          <a:pt x="578" y="108"/>
                        </a:lnTo>
                        <a:lnTo>
                          <a:pt x="574" y="112"/>
                        </a:lnTo>
                        <a:lnTo>
                          <a:pt x="571" y="116"/>
                        </a:lnTo>
                        <a:lnTo>
                          <a:pt x="567" y="120"/>
                        </a:lnTo>
                        <a:lnTo>
                          <a:pt x="565" y="124"/>
                        </a:lnTo>
                        <a:lnTo>
                          <a:pt x="563" y="127"/>
                        </a:lnTo>
                        <a:lnTo>
                          <a:pt x="559" y="131"/>
                        </a:lnTo>
                        <a:lnTo>
                          <a:pt x="555" y="135"/>
                        </a:lnTo>
                        <a:lnTo>
                          <a:pt x="554" y="141"/>
                        </a:lnTo>
                        <a:lnTo>
                          <a:pt x="552" y="146"/>
                        </a:lnTo>
                        <a:lnTo>
                          <a:pt x="550" y="150"/>
                        </a:lnTo>
                        <a:lnTo>
                          <a:pt x="548" y="156"/>
                        </a:lnTo>
                        <a:lnTo>
                          <a:pt x="546" y="158"/>
                        </a:lnTo>
                        <a:lnTo>
                          <a:pt x="546" y="160"/>
                        </a:lnTo>
                        <a:lnTo>
                          <a:pt x="544" y="163"/>
                        </a:lnTo>
                        <a:lnTo>
                          <a:pt x="544" y="167"/>
                        </a:lnTo>
                        <a:lnTo>
                          <a:pt x="361" y="1127"/>
                        </a:lnTo>
                        <a:lnTo>
                          <a:pt x="361" y="1127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6" name="AutoShape 410"/>
                <p:cNvSpPr/>
                <p:nvPr/>
              </p:nvSpPr>
              <p:spPr>
                <a:xfrm rot="3250200">
                  <a:off x="3989520" y="3476520"/>
                  <a:ext cx="87840" cy="75600"/>
                </a:xfrm>
                <a:prstGeom prst="hexagon">
                  <a:avLst>
                    <a:gd name="adj" fmla="val 29048"/>
                    <a:gd name="vf" fmla="val 115470"/>
                  </a:avLst>
                </a:prstGeom>
                <a:solidFill>
                  <a:srgbClr val="ff000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AutoShape 411"/>
                <p:cNvSpPr/>
                <p:nvPr/>
              </p:nvSpPr>
              <p:spPr>
                <a:xfrm rot="3281400">
                  <a:off x="3638160" y="3697920"/>
                  <a:ext cx="191520" cy="5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4308" y="21600"/>
                      </a:lnTo>
                      <a:lnTo>
                        <a:pt x="17292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8" name="AutoShape 412"/>
              <p:cNvSpPr/>
              <p:nvPr/>
            </p:nvSpPr>
            <p:spPr>
              <a:xfrm rot="10374000">
                <a:off x="4008960" y="3826440"/>
                <a:ext cx="115920" cy="108360"/>
              </a:xfrm>
              <a:custGeom>
                <a:avLst/>
                <a:gdLst/>
                <a:ahLst/>
                <a:rect l="l" t="t" r="r" b="b"/>
                <a:pathLst>
                  <a:path w="73" h="69">
                    <a:moveTo>
                      <a:pt x="0" y="26"/>
                    </a:moveTo>
                    <a:lnTo>
                      <a:pt x="27" y="26"/>
                    </a:lnTo>
                    <a:lnTo>
                      <a:pt x="36" y="0"/>
                    </a:lnTo>
                    <a:lnTo>
                      <a:pt x="45" y="26"/>
                    </a:lnTo>
                    <a:lnTo>
                      <a:pt x="72" y="26"/>
                    </a:lnTo>
                    <a:lnTo>
                      <a:pt x="50" y="42"/>
                    </a:lnTo>
                    <a:lnTo>
                      <a:pt x="59" y="68"/>
                    </a:lnTo>
                    <a:lnTo>
                      <a:pt x="36" y="52"/>
                    </a:lnTo>
                    <a:lnTo>
                      <a:pt x="13" y="68"/>
                    </a:lnTo>
                    <a:lnTo>
                      <a:pt x="22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Group 413"/>
            <p:cNvGrpSpPr/>
            <p:nvPr/>
          </p:nvGrpSpPr>
          <p:grpSpPr>
            <a:xfrm>
              <a:off x="2969280" y="3339720"/>
              <a:ext cx="4001760" cy="1579320"/>
              <a:chOff x="2969280" y="3339720"/>
              <a:chExt cx="4001760" cy="1579320"/>
            </a:xfrm>
          </p:grpSpPr>
          <p:grpSp>
            <p:nvGrpSpPr>
              <p:cNvPr id="1020" name="Group 414"/>
              <p:cNvGrpSpPr/>
              <p:nvPr/>
            </p:nvGrpSpPr>
            <p:grpSpPr>
              <a:xfrm>
                <a:off x="2969280" y="3339720"/>
                <a:ext cx="2285640" cy="1336320"/>
                <a:chOff x="2969280" y="3339720"/>
                <a:chExt cx="2285640" cy="1336320"/>
              </a:xfrm>
            </p:grpSpPr>
            <p:grpSp>
              <p:nvGrpSpPr>
                <p:cNvPr id="1021" name="Group 415"/>
                <p:cNvGrpSpPr/>
                <p:nvPr/>
              </p:nvGrpSpPr>
              <p:grpSpPr>
                <a:xfrm>
                  <a:off x="3691800" y="3731400"/>
                  <a:ext cx="1563120" cy="862200"/>
                  <a:chOff x="3691800" y="3731400"/>
                  <a:chExt cx="1563120" cy="862200"/>
                </a:xfrm>
              </p:grpSpPr>
              <p:sp>
                <p:nvSpPr>
                  <p:cNvPr id="1022" name="AutoShape 416"/>
                  <p:cNvSpPr/>
                  <p:nvPr/>
                </p:nvSpPr>
                <p:spPr>
                  <a:xfrm rot="16671600">
                    <a:off x="4269600" y="4216320"/>
                    <a:ext cx="150840" cy="532440"/>
                  </a:xfrm>
                  <a:custGeom>
                    <a:avLst/>
                    <a:gdLst>
                      <a:gd name="textAreaLeft" fmla="*/ 44280 w 150840"/>
                      <a:gd name="textAreaRight" fmla="*/ 151200 w 150840"/>
                      <a:gd name="textAreaTop" fmla="*/ 21960 h 532440"/>
                      <a:gd name="textAreaBottom" fmla="*/ 510480 h 532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0800" y="0"/>
                          <a:pt x="0" y="900"/>
                          <a:pt x="0" y="1800"/>
                        </a:cubicBezTo>
                        <a:lnTo>
                          <a:pt x="0" y="19800"/>
                        </a:lnTo>
                        <a:cubicBezTo>
                          <a:pt x="0" y="20700"/>
                          <a:pt x="10800" y="21600"/>
                          <a:pt x="21600" y="21600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23" name="Group 417"/>
                  <p:cNvGrpSpPr/>
                  <p:nvPr/>
                </p:nvGrpSpPr>
                <p:grpSpPr>
                  <a:xfrm>
                    <a:off x="3691800" y="3731400"/>
                    <a:ext cx="1563120" cy="700200"/>
                    <a:chOff x="3691800" y="3731400"/>
                    <a:chExt cx="1563120" cy="700200"/>
                  </a:xfrm>
                </p:grpSpPr>
                <p:sp>
                  <p:nvSpPr>
                    <p:cNvPr id="1024" name="Oval 418"/>
                    <p:cNvSpPr/>
                    <p:nvPr/>
                  </p:nvSpPr>
                  <p:spPr>
                    <a:xfrm rot="16585800">
                      <a:off x="4670280" y="3848040"/>
                      <a:ext cx="563400" cy="5454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ffffff"/>
                        </a:gs>
                      </a:gsLst>
                      <a:lin ang="21216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5" name="Oval 419"/>
                    <p:cNvSpPr/>
                    <p:nvPr/>
                  </p:nvSpPr>
                  <p:spPr>
                    <a:xfrm rot="16585800">
                      <a:off x="4195440" y="3727080"/>
                      <a:ext cx="32400" cy="496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6" name="Oval 420"/>
                    <p:cNvSpPr/>
                    <p:nvPr/>
                  </p:nvSpPr>
                  <p:spPr>
                    <a:xfrm rot="16585800">
                      <a:off x="4492080" y="3755880"/>
                      <a:ext cx="32400" cy="486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880" bIns="-118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7" name="Oval 421"/>
                    <p:cNvSpPr/>
                    <p:nvPr/>
                  </p:nvSpPr>
                  <p:spPr>
                    <a:xfrm rot="16585800">
                      <a:off x="4787640" y="3788280"/>
                      <a:ext cx="32400" cy="496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8" name="AutoShape 422"/>
                    <p:cNvSpPr/>
                    <p:nvPr/>
                  </p:nvSpPr>
                  <p:spPr>
                    <a:xfrm rot="16585800">
                      <a:off x="4242600" y="3569400"/>
                      <a:ext cx="585360" cy="1019520"/>
                    </a:xfrm>
                    <a:prstGeom prst="can">
                      <a:avLst>
                        <a:gd name="adj" fmla="val 2652"/>
                      </a:avLst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ffffff"/>
                        </a:gs>
                      </a:gsLst>
                      <a:lin ang="21216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9" name="Rectangle 423"/>
                    <p:cNvSpPr/>
                    <p:nvPr/>
                  </p:nvSpPr>
                  <p:spPr>
                    <a:xfrm rot="16585800">
                      <a:off x="3920760" y="3964320"/>
                      <a:ext cx="147240" cy="986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2121600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30" name="Group 424"/>
                    <p:cNvGrpSpPr/>
                    <p:nvPr/>
                  </p:nvGrpSpPr>
                  <p:grpSpPr>
                    <a:xfrm>
                      <a:off x="3691800" y="3901680"/>
                      <a:ext cx="689400" cy="282600"/>
                      <a:chOff x="3691800" y="3901680"/>
                      <a:chExt cx="689400" cy="282600"/>
                    </a:xfrm>
                  </p:grpSpPr>
                  <p:sp>
                    <p:nvSpPr>
                      <p:cNvPr id="1031" name="AutoShape 425"/>
                      <p:cNvSpPr/>
                      <p:nvPr/>
                    </p:nvSpPr>
                    <p:spPr>
                      <a:xfrm rot="5608200">
                        <a:off x="3870720" y="3748320"/>
                        <a:ext cx="197640" cy="54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1556" y="21600"/>
                            </a:lnTo>
                            <a:lnTo>
                              <a:pt x="20044" y="21600"/>
                            </a:lnTo>
                            <a:lnTo>
                              <a:pt x="2160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2" name="AutoShape 426"/>
                      <p:cNvSpPr/>
                      <p:nvPr/>
                    </p:nvSpPr>
                    <p:spPr>
                      <a:xfrm rot="11185800">
                        <a:off x="4154400" y="3912840"/>
                        <a:ext cx="212760" cy="26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934" y="2201"/>
                              <a:pt x="12267" y="5080"/>
                              <a:pt x="12267" y="10800"/>
                            </a:cubicBezTo>
                            <a:cubicBezTo>
                              <a:pt x="12267" y="16520"/>
                              <a:pt x="16934" y="19399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033" name="AutoShape 427"/>
                  <p:cNvSpPr/>
                  <p:nvPr/>
                </p:nvSpPr>
                <p:spPr>
                  <a:xfrm rot="16647600">
                    <a:off x="4233240" y="4138920"/>
                    <a:ext cx="160200" cy="525960"/>
                  </a:xfrm>
                  <a:custGeom>
                    <a:avLst/>
                    <a:gdLst>
                      <a:gd name="textAreaLeft" fmla="*/ 7560 w 160200"/>
                      <a:gd name="textAreaRight" fmla="*/ 152640 w 160200"/>
                      <a:gd name="textAreaTop" fmla="*/ 7560 h 525960"/>
                      <a:gd name="textAreaBottom" fmla="*/ 518400 h 525960"/>
                    </a:gdLst>
                    <a:ahLst/>
                    <a:rect l="textAreaLeft" t="textAreaTop" r="textAreaRight" b="textAreaBottom"/>
                    <a:pathLst>
                      <a:path w="21600" h="70805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67205"/>
                        </a:lnTo>
                        <a:arcTo wR="3600" hR="3600" stAng="10800000" swAng="-5400000"/>
                        <a:lnTo>
                          <a:pt x="18000" y="70805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b2b2b2"/>
                      </a:gs>
                    </a:gsLst>
                    <a:lin ang="495000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4" name="Group 428"/>
                <p:cNvGrpSpPr/>
                <p:nvPr/>
              </p:nvGrpSpPr>
              <p:grpSpPr>
                <a:xfrm>
                  <a:off x="2969280" y="3339720"/>
                  <a:ext cx="1918440" cy="1336320"/>
                  <a:chOff x="2969280" y="3339720"/>
                  <a:chExt cx="1918440" cy="1336320"/>
                </a:xfrm>
              </p:grpSpPr>
              <p:grpSp>
                <p:nvGrpSpPr>
                  <p:cNvPr id="1035" name="Group 429"/>
                  <p:cNvGrpSpPr/>
                  <p:nvPr/>
                </p:nvGrpSpPr>
                <p:grpSpPr>
                  <a:xfrm>
                    <a:off x="2969280" y="3339720"/>
                    <a:ext cx="1222200" cy="857160"/>
                    <a:chOff x="2969280" y="3339720"/>
                    <a:chExt cx="1222200" cy="857160"/>
                  </a:xfrm>
                </p:grpSpPr>
                <p:grpSp>
                  <p:nvGrpSpPr>
                    <p:cNvPr id="1036" name=""/>
                    <p:cNvGrpSpPr/>
                    <p:nvPr/>
                  </p:nvGrpSpPr>
                  <p:grpSpPr>
                    <a:xfrm>
                      <a:off x="3297600" y="3465360"/>
                      <a:ext cx="288720" cy="319680"/>
                      <a:chOff x="3297600" y="3465360"/>
                      <a:chExt cx="288720" cy="319680"/>
                    </a:xfrm>
                  </p:grpSpPr>
                  <p:sp>
                    <p:nvSpPr>
                      <p:cNvPr id="1037" name="Line 430"/>
                      <p:cNvSpPr/>
                      <p:nvPr/>
                    </p:nvSpPr>
                    <p:spPr>
                      <a:xfrm flipV="1">
                        <a:off x="3297600" y="3554280"/>
                        <a:ext cx="288720" cy="141840"/>
                      </a:xfrm>
                      <a:prstGeom prst="line">
                        <a:avLst/>
                      </a:prstGeom>
                      <a:ln w="648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8" name=""/>
                      <p:cNvSpPr txBox="1"/>
                      <p:nvPr/>
                    </p:nvSpPr>
                    <p:spPr>
                      <a:xfrm rot="18300000">
                        <a:off x="3300840" y="3547440"/>
                        <a:ext cx="281880" cy="155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39" name="Group 431"/>
                    <p:cNvGrpSpPr/>
                    <p:nvPr/>
                  </p:nvGrpSpPr>
                  <p:grpSpPr>
                    <a:xfrm>
                      <a:off x="3211920" y="3339720"/>
                      <a:ext cx="979560" cy="857160"/>
                      <a:chOff x="3211920" y="3339720"/>
                      <a:chExt cx="979560" cy="857160"/>
                    </a:xfrm>
                  </p:grpSpPr>
                  <p:sp>
                    <p:nvSpPr>
                      <p:cNvPr id="1040" name="AutoShape 432"/>
                      <p:cNvSpPr/>
                      <p:nvPr/>
                    </p:nvSpPr>
                    <p:spPr>
                      <a:xfrm rot="17802000">
                        <a:off x="3669120" y="3377520"/>
                        <a:ext cx="402480" cy="515520"/>
                      </a:xfrm>
                      <a:custGeom>
                        <a:avLst/>
                        <a:gdLst>
                          <a:gd name="textAreaLeft" fmla="*/ 0 w 402480"/>
                          <a:gd name="textAreaRight" fmla="*/ 145440 w 402480"/>
                          <a:gd name="textAreaTop" fmla="*/ 13320 h 515520"/>
                          <a:gd name="textAreaBottom" fmla="*/ 502200 h 5155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cubicBezTo>
                              <a:pt x="5400" y="0"/>
                              <a:pt x="10800" y="900"/>
                              <a:pt x="10800" y="1800"/>
                            </a:cubicBezTo>
                            <a:lnTo>
                              <a:pt x="10800" y="9000"/>
                            </a:lnTo>
                            <a:cubicBezTo>
                              <a:pt x="10800" y="9900"/>
                              <a:pt x="16200" y="10800"/>
                              <a:pt x="21600" y="10800"/>
                            </a:cubicBezTo>
                            <a:cubicBezTo>
                              <a:pt x="16200" y="10800"/>
                              <a:pt x="10800" y="11700"/>
                              <a:pt x="10800" y="12600"/>
                            </a:cubicBezTo>
                            <a:lnTo>
                              <a:pt x="10800" y="19800"/>
                            </a:lnTo>
                            <a:cubicBezTo>
                              <a:pt x="10800" y="20700"/>
                              <a:pt x="5400" y="21600"/>
                              <a:pt x="0" y="21600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dddddd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41" name="AutoShape 433"/>
                      <p:cNvSpPr/>
                      <p:nvPr/>
                    </p:nvSpPr>
                    <p:spPr>
                      <a:xfrm rot="17925600">
                        <a:off x="3536280" y="3612960"/>
                        <a:ext cx="443160" cy="525960"/>
                      </a:xfrm>
                      <a:custGeom>
                        <a:avLst/>
                        <a:gdLst>
                          <a:gd name="textAreaLeft" fmla="*/ 21600 w 443160"/>
                          <a:gd name="textAreaRight" fmla="*/ 421560 w 443160"/>
                          <a:gd name="textAreaTop" fmla="*/ 21600 h 525960"/>
                          <a:gd name="textAreaBottom" fmla="*/ 504360 h 525960"/>
                        </a:gdLst>
                        <a:ahLst/>
                        <a:rect l="textAreaLeft" t="textAreaTop" r="textAreaRight" b="textAreaBottom"/>
                        <a:pathLst>
                          <a:path w="21600" h="25632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22032"/>
                            </a:lnTo>
                            <a:arcTo wR="3600" hR="3600" stAng="10800000" swAng="-5400000"/>
                            <a:lnTo>
                              <a:pt x="18000" y="25632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0c0c0"/>
                          </a:gs>
                          <a:gs pos="100000">
                            <a:srgbClr val="ffffff"/>
                          </a:gs>
                        </a:gsLst>
                        <a:lin ang="372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42" name="AutoShape 434"/>
                      <p:cNvSpPr/>
                      <p:nvPr/>
                    </p:nvSpPr>
                    <p:spPr>
                      <a:xfrm rot="16751400">
                        <a:off x="3185280" y="3615480"/>
                        <a:ext cx="443160" cy="32364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gradFill rotWithShape="0">
                        <a:gsLst>
                          <a:gs pos="0">
                            <a:srgbClr val="c0c0c0"/>
                          </a:gs>
                          <a:gs pos="100000">
                            <a:srgbClr val="ffffff"/>
                          </a:gs>
                        </a:gsLst>
                        <a:lin ang="20448000"/>
                      </a:gradFill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43" name="AutoShape 435"/>
                      <p:cNvSpPr/>
                      <p:nvPr/>
                    </p:nvSpPr>
                    <p:spPr>
                      <a:xfrm rot="18117600">
                        <a:off x="3705840" y="3789000"/>
                        <a:ext cx="99000" cy="143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9725" y="3202"/>
                              <a:pt x="17850" y="5080"/>
                              <a:pt x="17850" y="10800"/>
                            </a:cubicBezTo>
                            <a:cubicBezTo>
                              <a:pt x="17850" y="16520"/>
                              <a:pt x="19725" y="18398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ddddd"/>
                          </a:gs>
                          <a:gs pos="100000">
                            <a:srgbClr val="ffffff"/>
                          </a:gs>
                        </a:gsLst>
                        <a:lin ang="18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044" name="AutoShape 436"/>
                    <p:cNvSpPr/>
                    <p:nvPr/>
                  </p:nvSpPr>
                  <p:spPr>
                    <a:xfrm rot="15831600">
                      <a:off x="3084120" y="3617640"/>
                      <a:ext cx="70560" cy="29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400" y="21600"/>
                          </a:lnTo>
                          <a:lnTo>
                            <a:pt x="16200" y="21600"/>
                          </a:lnTo>
                          <a:lnTo>
                            <a:pt x="2160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ffffff"/>
                        </a:gs>
                      </a:gsLst>
                      <a:lin ang="21366000"/>
                    </a:gradFill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5" name="Group 437"/>
                  <p:cNvGrpSpPr/>
                  <p:nvPr/>
                </p:nvGrpSpPr>
                <p:grpSpPr>
                  <a:xfrm>
                    <a:off x="3650040" y="3805920"/>
                    <a:ext cx="1237680" cy="870120"/>
                    <a:chOff x="3650040" y="3805920"/>
                    <a:chExt cx="1237680" cy="870120"/>
                  </a:xfrm>
                </p:grpSpPr>
                <p:grpSp>
                  <p:nvGrpSpPr>
                    <p:cNvPr id="1046" name=""/>
                    <p:cNvGrpSpPr/>
                    <p:nvPr/>
                  </p:nvGrpSpPr>
                  <p:grpSpPr>
                    <a:xfrm>
                      <a:off x="4244400" y="4286160"/>
                      <a:ext cx="307800" cy="309960"/>
                      <a:chOff x="4244400" y="4286160"/>
                      <a:chExt cx="307800" cy="309960"/>
                    </a:xfrm>
                  </p:grpSpPr>
                  <p:sp>
                    <p:nvSpPr>
                      <p:cNvPr id="1047" name="Line 438"/>
                      <p:cNvSpPr/>
                      <p:nvPr/>
                    </p:nvSpPr>
                    <p:spPr>
                      <a:xfrm flipH="1">
                        <a:off x="4244400" y="4394160"/>
                        <a:ext cx="307800" cy="9360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48" name=""/>
                      <p:cNvSpPr txBox="1"/>
                      <p:nvPr/>
                    </p:nvSpPr>
                    <p:spPr>
                      <a:xfrm rot="8058600">
                        <a:off x="4257000" y="4363560"/>
                        <a:ext cx="281880" cy="155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49" name="Group 439"/>
                    <p:cNvGrpSpPr/>
                    <p:nvPr/>
                  </p:nvGrpSpPr>
                  <p:grpSpPr>
                    <a:xfrm>
                      <a:off x="3650040" y="3805920"/>
                      <a:ext cx="1031040" cy="870120"/>
                      <a:chOff x="3650040" y="3805920"/>
                      <a:chExt cx="1031040" cy="870120"/>
                    </a:xfrm>
                  </p:grpSpPr>
                  <p:sp>
                    <p:nvSpPr>
                      <p:cNvPr id="1050" name="AutoShape 440"/>
                      <p:cNvSpPr/>
                      <p:nvPr/>
                    </p:nvSpPr>
                    <p:spPr>
                      <a:xfrm rot="7560600">
                        <a:off x="3775680" y="4104000"/>
                        <a:ext cx="402480" cy="515520"/>
                      </a:xfrm>
                      <a:custGeom>
                        <a:avLst/>
                        <a:gdLst>
                          <a:gd name="textAreaLeft" fmla="*/ 0 w 402480"/>
                          <a:gd name="textAreaRight" fmla="*/ 145440 w 402480"/>
                          <a:gd name="textAreaTop" fmla="*/ 13320 h 515520"/>
                          <a:gd name="textAreaBottom" fmla="*/ 502200 h 5155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cubicBezTo>
                              <a:pt x="5400" y="0"/>
                              <a:pt x="10800" y="900"/>
                              <a:pt x="10800" y="1800"/>
                            </a:cubicBezTo>
                            <a:lnTo>
                              <a:pt x="10800" y="9000"/>
                            </a:lnTo>
                            <a:cubicBezTo>
                              <a:pt x="10800" y="9900"/>
                              <a:pt x="16200" y="10800"/>
                              <a:pt x="21600" y="10800"/>
                            </a:cubicBezTo>
                            <a:cubicBezTo>
                              <a:pt x="16200" y="10800"/>
                              <a:pt x="10800" y="11700"/>
                              <a:pt x="10800" y="12600"/>
                            </a:cubicBezTo>
                            <a:lnTo>
                              <a:pt x="10800" y="19800"/>
                            </a:lnTo>
                            <a:cubicBezTo>
                              <a:pt x="10800" y="20700"/>
                              <a:pt x="5400" y="21600"/>
                              <a:pt x="0" y="21600"/>
                            </a:cubicBezTo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1" name="AutoShape 441"/>
                      <p:cNvSpPr/>
                      <p:nvPr/>
                    </p:nvSpPr>
                    <p:spPr>
                      <a:xfrm rot="7684200">
                        <a:off x="3905280" y="3879360"/>
                        <a:ext cx="443160" cy="525960"/>
                      </a:xfrm>
                      <a:custGeom>
                        <a:avLst/>
                        <a:gdLst>
                          <a:gd name="textAreaLeft" fmla="*/ 21600 w 443160"/>
                          <a:gd name="textAreaRight" fmla="*/ 421560 w 443160"/>
                          <a:gd name="textAreaTop" fmla="*/ 21600 h 525960"/>
                          <a:gd name="textAreaBottom" fmla="*/ 504360 h 525960"/>
                        </a:gdLst>
                        <a:ahLst/>
                        <a:rect l="textAreaLeft" t="textAreaTop" r="textAreaRight" b="textAreaBottom"/>
                        <a:pathLst>
                          <a:path w="21600" h="25632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22032"/>
                            </a:lnTo>
                            <a:arcTo wR="3600" hR="3600" stAng="10800000" swAng="-5400000"/>
                            <a:lnTo>
                              <a:pt x="18000" y="25632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2" name="AutoShape 442"/>
                      <p:cNvSpPr/>
                      <p:nvPr/>
                    </p:nvSpPr>
                    <p:spPr>
                      <a:xfrm rot="6509400">
                        <a:off x="4235760" y="4134240"/>
                        <a:ext cx="443160" cy="32364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3" name="AutoShape 443"/>
                      <p:cNvSpPr/>
                      <p:nvPr/>
                    </p:nvSpPr>
                    <p:spPr>
                      <a:xfrm rot="7876200">
                        <a:off x="4077720" y="4086360"/>
                        <a:ext cx="99000" cy="143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9725" y="3202"/>
                              <a:pt x="17850" y="5080"/>
                              <a:pt x="17850" y="10800"/>
                            </a:cubicBezTo>
                            <a:cubicBezTo>
                              <a:pt x="17850" y="16520"/>
                              <a:pt x="19725" y="18398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054" name="AutoShape 444"/>
                    <p:cNvSpPr/>
                    <p:nvPr/>
                  </p:nvSpPr>
                  <p:spPr>
                    <a:xfrm rot="5590200">
                      <a:off x="4703400" y="4207680"/>
                      <a:ext cx="70560" cy="29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400" y="21600"/>
                          </a:lnTo>
                          <a:lnTo>
                            <a:pt x="16200" y="21600"/>
                          </a:lnTo>
                          <a:lnTo>
                            <a:pt x="2160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55" name="Group 445"/>
              <p:cNvGrpSpPr/>
              <p:nvPr/>
            </p:nvGrpSpPr>
            <p:grpSpPr>
              <a:xfrm>
                <a:off x="4685040" y="3582720"/>
                <a:ext cx="2286000" cy="1336320"/>
                <a:chOff x="4685040" y="3582720"/>
                <a:chExt cx="2286000" cy="1336320"/>
              </a:xfrm>
            </p:grpSpPr>
            <p:grpSp>
              <p:nvGrpSpPr>
                <p:cNvPr id="1056" name="Group 446"/>
                <p:cNvGrpSpPr/>
                <p:nvPr/>
              </p:nvGrpSpPr>
              <p:grpSpPr>
                <a:xfrm>
                  <a:off x="4685040" y="3665520"/>
                  <a:ext cx="1563480" cy="861840"/>
                  <a:chOff x="4685040" y="3665520"/>
                  <a:chExt cx="1563480" cy="861840"/>
                </a:xfrm>
              </p:grpSpPr>
              <p:sp>
                <p:nvSpPr>
                  <p:cNvPr id="1057" name="AutoShape 447"/>
                  <p:cNvSpPr/>
                  <p:nvPr/>
                </p:nvSpPr>
                <p:spPr>
                  <a:xfrm flipH="1" flipV="1" rot="16671600">
                    <a:off x="5519520" y="3510000"/>
                    <a:ext cx="150840" cy="532440"/>
                  </a:xfrm>
                  <a:custGeom>
                    <a:avLst/>
                    <a:gdLst>
                      <a:gd name="textAreaLeft" fmla="*/ 44280 w 150840"/>
                      <a:gd name="textAreaRight" fmla="*/ 151200 w 150840"/>
                      <a:gd name="textAreaTop" fmla="*/ 21960 h 532440"/>
                      <a:gd name="textAreaBottom" fmla="*/ 510480 h 532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0800" y="0"/>
                          <a:pt x="0" y="900"/>
                          <a:pt x="0" y="1800"/>
                        </a:cubicBezTo>
                        <a:lnTo>
                          <a:pt x="0" y="19800"/>
                        </a:lnTo>
                        <a:cubicBezTo>
                          <a:pt x="0" y="20700"/>
                          <a:pt x="10800" y="21600"/>
                          <a:pt x="21600" y="21600"/>
                        </a:cubicBez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58" name="Group 448"/>
                  <p:cNvGrpSpPr/>
                  <p:nvPr/>
                </p:nvGrpSpPr>
                <p:grpSpPr>
                  <a:xfrm>
                    <a:off x="4685040" y="3827160"/>
                    <a:ext cx="1563480" cy="700200"/>
                    <a:chOff x="4685040" y="3827160"/>
                    <a:chExt cx="1563480" cy="700200"/>
                  </a:xfrm>
                </p:grpSpPr>
                <p:sp>
                  <p:nvSpPr>
                    <p:cNvPr id="1059" name="Oval 449"/>
                    <p:cNvSpPr/>
                    <p:nvPr/>
                  </p:nvSpPr>
                  <p:spPr>
                    <a:xfrm flipH="1" flipV="1" rot="16585800">
                      <a:off x="4705920" y="3864600"/>
                      <a:ext cx="563400" cy="5461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0" name="Oval 450"/>
                    <p:cNvSpPr/>
                    <p:nvPr/>
                  </p:nvSpPr>
                  <p:spPr>
                    <a:xfrm flipH="1" flipV="1" rot="16585800">
                      <a:off x="5711760" y="4480920"/>
                      <a:ext cx="32400" cy="4968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1" name="Oval 451"/>
                    <p:cNvSpPr/>
                    <p:nvPr/>
                  </p:nvSpPr>
                  <p:spPr>
                    <a:xfrm flipH="1" flipV="1" rot="16585800">
                      <a:off x="5415840" y="4453200"/>
                      <a:ext cx="32400" cy="4860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880" bIns="-118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2" name="Oval 452"/>
                    <p:cNvSpPr/>
                    <p:nvPr/>
                  </p:nvSpPr>
                  <p:spPr>
                    <a:xfrm flipH="1" flipV="1" rot="16585800">
                      <a:off x="5119560" y="4419720"/>
                      <a:ext cx="32400" cy="4968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3" name="AutoShape 453"/>
                    <p:cNvSpPr/>
                    <p:nvPr/>
                  </p:nvSpPr>
                  <p:spPr>
                    <a:xfrm flipH="1" flipV="1" rot="16585800">
                      <a:off x="5112360" y="3669120"/>
                      <a:ext cx="585360" cy="1019520"/>
                    </a:xfrm>
                    <a:prstGeom prst="can">
                      <a:avLst>
                        <a:gd name="adj" fmla="val 2652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4" name="Rectangle 454"/>
                    <p:cNvSpPr/>
                    <p:nvPr/>
                  </p:nvSpPr>
                  <p:spPr>
                    <a:xfrm flipH="1" flipV="1" rot="16585800">
                      <a:off x="5871960" y="4195800"/>
                      <a:ext cx="147240" cy="98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65" name="Group 455"/>
                    <p:cNvGrpSpPr/>
                    <p:nvPr/>
                  </p:nvGrpSpPr>
                  <p:grpSpPr>
                    <a:xfrm>
                      <a:off x="5559120" y="4074480"/>
                      <a:ext cx="689400" cy="282960"/>
                      <a:chOff x="5559120" y="4074480"/>
                      <a:chExt cx="689400" cy="282960"/>
                    </a:xfrm>
                  </p:grpSpPr>
                  <p:sp>
                    <p:nvSpPr>
                      <p:cNvPr id="1066" name="AutoShape 456"/>
                      <p:cNvSpPr/>
                      <p:nvPr/>
                    </p:nvSpPr>
                    <p:spPr>
                      <a:xfrm flipH="1" flipV="1" rot="5608200">
                        <a:off x="5871600" y="3964680"/>
                        <a:ext cx="197640" cy="54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1556" y="21600"/>
                            </a:lnTo>
                            <a:lnTo>
                              <a:pt x="20044" y="21600"/>
                            </a:lnTo>
                            <a:lnTo>
                              <a:pt x="2160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67" name="AutoShape 457"/>
                      <p:cNvSpPr/>
                      <p:nvPr/>
                    </p:nvSpPr>
                    <p:spPr>
                      <a:xfrm flipH="1" flipV="1" rot="11185800">
                        <a:off x="5572800" y="4085640"/>
                        <a:ext cx="212760" cy="260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934" y="2201"/>
                              <a:pt x="12267" y="5080"/>
                              <a:pt x="12267" y="10800"/>
                            </a:cubicBezTo>
                            <a:cubicBezTo>
                              <a:pt x="12267" y="16520"/>
                              <a:pt x="16934" y="19399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068" name="AutoShape 458"/>
                  <p:cNvSpPr/>
                  <p:nvPr/>
                </p:nvSpPr>
                <p:spPr>
                  <a:xfrm flipH="1" flipV="1" rot="16647600">
                    <a:off x="5545800" y="3593160"/>
                    <a:ext cx="160200" cy="525960"/>
                  </a:xfrm>
                  <a:custGeom>
                    <a:avLst/>
                    <a:gdLst>
                      <a:gd name="textAreaLeft" fmla="*/ 7560 w 160200"/>
                      <a:gd name="textAreaRight" fmla="*/ 152640 w 160200"/>
                      <a:gd name="textAreaTop" fmla="*/ 7560 h 525960"/>
                      <a:gd name="textAreaBottom" fmla="*/ 518400 h 525960"/>
                    </a:gdLst>
                    <a:ahLst/>
                    <a:rect l="textAreaLeft" t="textAreaTop" r="textAreaRight" b="textAreaBottom"/>
                    <a:pathLst>
                      <a:path w="21600" h="70805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67205"/>
                        </a:lnTo>
                        <a:arcTo wR="3600" hR="3600" stAng="10800000" swAng="-5400000"/>
                        <a:lnTo>
                          <a:pt x="18000" y="70805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9" name="Group 459"/>
                <p:cNvGrpSpPr/>
                <p:nvPr/>
              </p:nvGrpSpPr>
              <p:grpSpPr>
                <a:xfrm>
                  <a:off x="5052600" y="3582720"/>
                  <a:ext cx="1918440" cy="1336320"/>
                  <a:chOff x="5052600" y="3582720"/>
                  <a:chExt cx="1918440" cy="1336320"/>
                </a:xfrm>
              </p:grpSpPr>
              <p:grpSp>
                <p:nvGrpSpPr>
                  <p:cNvPr id="1070" name="Group 460"/>
                  <p:cNvGrpSpPr/>
                  <p:nvPr/>
                </p:nvGrpSpPr>
                <p:grpSpPr>
                  <a:xfrm>
                    <a:off x="5748840" y="4061880"/>
                    <a:ext cx="1222200" cy="857160"/>
                    <a:chOff x="5748840" y="4061880"/>
                    <a:chExt cx="1222200" cy="857160"/>
                  </a:xfrm>
                </p:grpSpPr>
                <p:grpSp>
                  <p:nvGrpSpPr>
                    <p:cNvPr id="1071" name=""/>
                    <p:cNvGrpSpPr/>
                    <p:nvPr/>
                  </p:nvGrpSpPr>
                  <p:grpSpPr>
                    <a:xfrm>
                      <a:off x="6354000" y="4473720"/>
                      <a:ext cx="288720" cy="319680"/>
                      <a:chOff x="6354000" y="4473720"/>
                      <a:chExt cx="288720" cy="319680"/>
                    </a:xfrm>
                  </p:grpSpPr>
                  <p:sp>
                    <p:nvSpPr>
                      <p:cNvPr id="1072" name="Line 461"/>
                      <p:cNvSpPr/>
                      <p:nvPr/>
                    </p:nvSpPr>
                    <p:spPr>
                      <a:xfrm flipH="1">
                        <a:off x="6354000" y="4562640"/>
                        <a:ext cx="288720" cy="1418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3" name=""/>
                      <p:cNvSpPr txBox="1"/>
                      <p:nvPr/>
                    </p:nvSpPr>
                    <p:spPr>
                      <a:xfrm rot="7500600">
                        <a:off x="6357240" y="4555800"/>
                        <a:ext cx="281880" cy="155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74" name="Group 462"/>
                    <p:cNvGrpSpPr/>
                    <p:nvPr/>
                  </p:nvGrpSpPr>
                  <p:grpSpPr>
                    <a:xfrm>
                      <a:off x="5748840" y="4061880"/>
                      <a:ext cx="979560" cy="857160"/>
                      <a:chOff x="5748840" y="4061880"/>
                      <a:chExt cx="979560" cy="857160"/>
                    </a:xfrm>
                  </p:grpSpPr>
                  <p:sp>
                    <p:nvSpPr>
                      <p:cNvPr id="1075" name="AutoShape 463"/>
                      <p:cNvSpPr/>
                      <p:nvPr/>
                    </p:nvSpPr>
                    <p:spPr>
                      <a:xfrm flipH="1" flipV="1" rot="17802000">
                        <a:off x="5868000" y="4365720"/>
                        <a:ext cx="402480" cy="515520"/>
                      </a:xfrm>
                      <a:custGeom>
                        <a:avLst/>
                        <a:gdLst>
                          <a:gd name="textAreaLeft" fmla="*/ 0 w 402480"/>
                          <a:gd name="textAreaRight" fmla="*/ 145440 w 402480"/>
                          <a:gd name="textAreaTop" fmla="*/ 13320 h 515520"/>
                          <a:gd name="textAreaBottom" fmla="*/ 502200 h 5155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cubicBezTo>
                              <a:pt x="5400" y="0"/>
                              <a:pt x="10800" y="900"/>
                              <a:pt x="10800" y="1800"/>
                            </a:cubicBezTo>
                            <a:lnTo>
                              <a:pt x="10800" y="9000"/>
                            </a:lnTo>
                            <a:cubicBezTo>
                              <a:pt x="10800" y="9900"/>
                              <a:pt x="16200" y="10800"/>
                              <a:pt x="21600" y="10800"/>
                            </a:cubicBezTo>
                            <a:cubicBezTo>
                              <a:pt x="16200" y="10800"/>
                              <a:pt x="10800" y="11700"/>
                              <a:pt x="10800" y="12600"/>
                            </a:cubicBezTo>
                            <a:lnTo>
                              <a:pt x="10800" y="19800"/>
                            </a:lnTo>
                            <a:cubicBezTo>
                              <a:pt x="10800" y="20700"/>
                              <a:pt x="5400" y="21600"/>
                              <a:pt x="0" y="21600"/>
                            </a:cubicBezTo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6" name="AutoShape 464"/>
                      <p:cNvSpPr/>
                      <p:nvPr/>
                    </p:nvSpPr>
                    <p:spPr>
                      <a:xfrm flipH="1" flipV="1" rot="17925600">
                        <a:off x="5960160" y="4119480"/>
                        <a:ext cx="443160" cy="525960"/>
                      </a:xfrm>
                      <a:custGeom>
                        <a:avLst/>
                        <a:gdLst>
                          <a:gd name="textAreaLeft" fmla="*/ 21600 w 443160"/>
                          <a:gd name="textAreaRight" fmla="*/ 421560 w 443160"/>
                          <a:gd name="textAreaTop" fmla="*/ 21600 h 525960"/>
                          <a:gd name="textAreaBottom" fmla="*/ 504360 h 525960"/>
                        </a:gdLst>
                        <a:ahLst/>
                        <a:rect l="textAreaLeft" t="textAreaTop" r="textAreaRight" b="textAreaBottom"/>
                        <a:pathLst>
                          <a:path w="21600" h="25632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22032"/>
                            </a:lnTo>
                            <a:arcTo wR="3600" hR="3600" stAng="10800000" swAng="-5400000"/>
                            <a:lnTo>
                              <a:pt x="18000" y="25632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7" name="AutoShape 465"/>
                      <p:cNvSpPr/>
                      <p:nvPr/>
                    </p:nvSpPr>
                    <p:spPr>
                      <a:xfrm flipH="1" flipV="1" rot="16751400">
                        <a:off x="6311520" y="4319280"/>
                        <a:ext cx="443160" cy="32364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8" name="AutoShape 466"/>
                      <p:cNvSpPr/>
                      <p:nvPr/>
                    </p:nvSpPr>
                    <p:spPr>
                      <a:xfrm flipH="1" flipV="1" rot="18117600">
                        <a:off x="6135480" y="4326120"/>
                        <a:ext cx="99000" cy="142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9725" y="3202"/>
                              <a:pt x="17850" y="5080"/>
                              <a:pt x="17850" y="10800"/>
                            </a:cubicBezTo>
                            <a:cubicBezTo>
                              <a:pt x="17850" y="16520"/>
                              <a:pt x="19725" y="18398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079" name="AutoShape 467"/>
                    <p:cNvSpPr/>
                    <p:nvPr/>
                  </p:nvSpPr>
                  <p:spPr>
                    <a:xfrm flipH="1" flipV="1" rot="15831600">
                      <a:off x="6785640" y="4345920"/>
                      <a:ext cx="70560" cy="29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400" y="21600"/>
                          </a:lnTo>
                          <a:lnTo>
                            <a:pt x="16200" y="21600"/>
                          </a:lnTo>
                          <a:lnTo>
                            <a:pt x="2160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0" name="Group 468"/>
                  <p:cNvGrpSpPr/>
                  <p:nvPr/>
                </p:nvGrpSpPr>
                <p:grpSpPr>
                  <a:xfrm>
                    <a:off x="5052600" y="3582720"/>
                    <a:ext cx="1237680" cy="870120"/>
                    <a:chOff x="5052600" y="3582720"/>
                    <a:chExt cx="1237680" cy="870120"/>
                  </a:xfrm>
                </p:grpSpPr>
                <p:grpSp>
                  <p:nvGrpSpPr>
                    <p:cNvPr id="1081" name=""/>
                    <p:cNvGrpSpPr/>
                    <p:nvPr/>
                  </p:nvGrpSpPr>
                  <p:grpSpPr>
                    <a:xfrm>
                      <a:off x="5388120" y="3662640"/>
                      <a:ext cx="307800" cy="309960"/>
                      <a:chOff x="5388120" y="3662640"/>
                      <a:chExt cx="307800" cy="309960"/>
                    </a:xfrm>
                  </p:grpSpPr>
                  <p:sp>
                    <p:nvSpPr>
                      <p:cNvPr id="1082" name="Line 469"/>
                      <p:cNvSpPr/>
                      <p:nvPr/>
                    </p:nvSpPr>
                    <p:spPr>
                      <a:xfrm flipV="1">
                        <a:off x="5388120" y="3771000"/>
                        <a:ext cx="307800" cy="9360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3" name=""/>
                      <p:cNvSpPr txBox="1"/>
                      <p:nvPr/>
                    </p:nvSpPr>
                    <p:spPr>
                      <a:xfrm rot="18859800">
                        <a:off x="5401080" y="3740040"/>
                        <a:ext cx="281880" cy="155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84" name="Group 470"/>
                    <p:cNvGrpSpPr/>
                    <p:nvPr/>
                  </p:nvGrpSpPr>
                  <p:grpSpPr>
                    <a:xfrm>
                      <a:off x="5259240" y="3582720"/>
                      <a:ext cx="1031040" cy="870120"/>
                      <a:chOff x="5259240" y="3582720"/>
                      <a:chExt cx="1031040" cy="870120"/>
                    </a:xfrm>
                  </p:grpSpPr>
                  <p:sp>
                    <p:nvSpPr>
                      <p:cNvPr id="1085" name="AutoShape 471"/>
                      <p:cNvSpPr/>
                      <p:nvPr/>
                    </p:nvSpPr>
                    <p:spPr>
                      <a:xfrm flipH="1" flipV="1" rot="7560600">
                        <a:off x="5761800" y="3638880"/>
                        <a:ext cx="402480" cy="515880"/>
                      </a:xfrm>
                      <a:custGeom>
                        <a:avLst/>
                        <a:gdLst>
                          <a:gd name="textAreaLeft" fmla="*/ 0 w 402480"/>
                          <a:gd name="textAreaRight" fmla="*/ 145440 w 402480"/>
                          <a:gd name="textAreaTop" fmla="*/ 13320 h 515880"/>
                          <a:gd name="textAreaBottom" fmla="*/ 502560 h 51588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cubicBezTo>
                              <a:pt x="5400" y="0"/>
                              <a:pt x="10800" y="900"/>
                              <a:pt x="10800" y="1800"/>
                            </a:cubicBezTo>
                            <a:lnTo>
                              <a:pt x="10800" y="9000"/>
                            </a:lnTo>
                            <a:cubicBezTo>
                              <a:pt x="10800" y="9900"/>
                              <a:pt x="16200" y="10800"/>
                              <a:pt x="21600" y="10800"/>
                            </a:cubicBezTo>
                            <a:cubicBezTo>
                              <a:pt x="16200" y="10800"/>
                              <a:pt x="10800" y="11700"/>
                              <a:pt x="10800" y="12600"/>
                            </a:cubicBezTo>
                            <a:lnTo>
                              <a:pt x="10800" y="19800"/>
                            </a:lnTo>
                            <a:cubicBezTo>
                              <a:pt x="10800" y="20700"/>
                              <a:pt x="5400" y="21600"/>
                              <a:pt x="0" y="21600"/>
                            </a:cubicBezTo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6" name="AutoShape 472"/>
                      <p:cNvSpPr/>
                      <p:nvPr/>
                    </p:nvSpPr>
                    <p:spPr>
                      <a:xfrm flipH="1" flipV="1" rot="7684200">
                        <a:off x="5590800" y="3853080"/>
                        <a:ext cx="443160" cy="525960"/>
                      </a:xfrm>
                      <a:custGeom>
                        <a:avLst/>
                        <a:gdLst>
                          <a:gd name="textAreaLeft" fmla="*/ 21600 w 443160"/>
                          <a:gd name="textAreaRight" fmla="*/ 421560 w 443160"/>
                          <a:gd name="textAreaTop" fmla="*/ 21600 h 525960"/>
                          <a:gd name="textAreaBottom" fmla="*/ 504360 h 525960"/>
                        </a:gdLst>
                        <a:ahLst/>
                        <a:rect l="textAreaLeft" t="textAreaTop" r="textAreaRight" b="textAreaBottom"/>
                        <a:pathLst>
                          <a:path w="21600" h="25632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22032"/>
                            </a:lnTo>
                            <a:arcTo wR="3600" hR="3600" stAng="10800000" swAng="-5400000"/>
                            <a:lnTo>
                              <a:pt x="18000" y="25632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7" name="AutoShape 473"/>
                      <p:cNvSpPr/>
                      <p:nvPr/>
                    </p:nvSpPr>
                    <p:spPr>
                      <a:xfrm flipH="1" flipV="1" rot="6509400">
                        <a:off x="5261040" y="3800520"/>
                        <a:ext cx="442800" cy="32364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8" name="AutoShape 474"/>
                      <p:cNvSpPr/>
                      <p:nvPr/>
                    </p:nvSpPr>
                    <p:spPr>
                      <a:xfrm flipH="1" flipV="1" rot="7876200">
                        <a:off x="5762880" y="4028760"/>
                        <a:ext cx="99000" cy="143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9725" y="3202"/>
                              <a:pt x="17850" y="5080"/>
                              <a:pt x="17850" y="10800"/>
                            </a:cubicBezTo>
                            <a:cubicBezTo>
                              <a:pt x="17850" y="16520"/>
                              <a:pt x="19725" y="18398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089" name="AutoShape 475"/>
                    <p:cNvSpPr/>
                    <p:nvPr/>
                  </p:nvSpPr>
                  <p:spPr>
                    <a:xfrm flipH="1" flipV="1" rot="5590200">
                      <a:off x="5166360" y="3755520"/>
                      <a:ext cx="70560" cy="29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400" y="21600"/>
                          </a:lnTo>
                          <a:lnTo>
                            <a:pt x="16200" y="21600"/>
                          </a:lnTo>
                          <a:lnTo>
                            <a:pt x="2160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090" name="Group 476"/>
            <p:cNvGrpSpPr/>
            <p:nvPr/>
          </p:nvGrpSpPr>
          <p:grpSpPr>
            <a:xfrm>
              <a:off x="3585960" y="3439080"/>
              <a:ext cx="707760" cy="759240"/>
              <a:chOff x="3585960" y="3439080"/>
              <a:chExt cx="707760" cy="759240"/>
            </a:xfrm>
          </p:grpSpPr>
          <p:grpSp>
            <p:nvGrpSpPr>
              <p:cNvPr id="1091" name="Group 477"/>
              <p:cNvGrpSpPr/>
              <p:nvPr/>
            </p:nvGrpSpPr>
            <p:grpSpPr>
              <a:xfrm>
                <a:off x="4044600" y="3589200"/>
                <a:ext cx="249120" cy="609120"/>
                <a:chOff x="4044600" y="3589200"/>
                <a:chExt cx="249120" cy="609120"/>
              </a:xfrm>
            </p:grpSpPr>
            <p:sp>
              <p:nvSpPr>
                <p:cNvPr id="1092" name="AutoShape 478"/>
                <p:cNvSpPr/>
                <p:nvPr/>
              </p:nvSpPr>
              <p:spPr>
                <a:xfrm rot="10510800">
                  <a:off x="4064760" y="3595680"/>
                  <a:ext cx="179640" cy="486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1556" y="21600"/>
                      </a:lnTo>
                      <a:lnTo>
                        <a:pt x="20044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18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AutoShape 479"/>
                <p:cNvSpPr/>
                <p:nvPr/>
              </p:nvSpPr>
              <p:spPr>
                <a:xfrm rot="16089600">
                  <a:off x="4077000" y="3981240"/>
                  <a:ext cx="190080" cy="23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934" y="2201"/>
                        <a:pt x="12267" y="5080"/>
                        <a:pt x="12267" y="10800"/>
                      </a:cubicBezTo>
                      <a:cubicBezTo>
                        <a:pt x="12267" y="16520"/>
                        <a:pt x="16934" y="1939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62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4" name="AutoShape 480"/>
              <p:cNvSpPr/>
              <p:nvPr/>
            </p:nvSpPr>
            <p:spPr>
              <a:xfrm rot="10511400">
                <a:off x="4073760" y="3859920"/>
                <a:ext cx="180720" cy="120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5" name="Group 481"/>
              <p:cNvGrpSpPr/>
              <p:nvPr/>
            </p:nvGrpSpPr>
            <p:grpSpPr>
              <a:xfrm>
                <a:off x="3585960" y="3439080"/>
                <a:ext cx="669600" cy="580680"/>
                <a:chOff x="3585960" y="3439080"/>
                <a:chExt cx="669600" cy="580680"/>
              </a:xfrm>
            </p:grpSpPr>
            <p:grpSp>
              <p:nvGrpSpPr>
                <p:cNvPr id="1096" name="Group 482"/>
                <p:cNvGrpSpPr/>
                <p:nvPr/>
              </p:nvGrpSpPr>
              <p:grpSpPr>
                <a:xfrm>
                  <a:off x="3585960" y="3439080"/>
                  <a:ext cx="669600" cy="580680"/>
                  <a:chOff x="3585960" y="3439080"/>
                  <a:chExt cx="669600" cy="580680"/>
                </a:xfrm>
              </p:grpSpPr>
              <p:sp>
                <p:nvSpPr>
                  <p:cNvPr id="1097" name="AutoShape 483"/>
                  <p:cNvSpPr/>
                  <p:nvPr/>
                </p:nvSpPr>
                <p:spPr>
                  <a:xfrm rot="3281400">
                    <a:off x="3872160" y="3502440"/>
                    <a:ext cx="177840" cy="36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4308" y="21600"/>
                        </a:lnTo>
                        <a:lnTo>
                          <a:pt x="17292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54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Oval 484"/>
                  <p:cNvSpPr/>
                  <p:nvPr/>
                </p:nvSpPr>
                <p:spPr>
                  <a:xfrm rot="3820200">
                    <a:off x="4036680" y="3468960"/>
                    <a:ext cx="185040" cy="190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Freeform 485"/>
                  <p:cNvSpPr/>
                  <p:nvPr/>
                </p:nvSpPr>
                <p:spPr>
                  <a:xfrm rot="13315800">
                    <a:off x="3659760" y="3710880"/>
                    <a:ext cx="173520" cy="28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02" h="2302">
                        <a:moveTo>
                          <a:pt x="361" y="1127"/>
                        </a:moveTo>
                        <a:lnTo>
                          <a:pt x="280" y="1116"/>
                        </a:lnTo>
                        <a:lnTo>
                          <a:pt x="373" y="711"/>
                        </a:lnTo>
                        <a:lnTo>
                          <a:pt x="373" y="709"/>
                        </a:lnTo>
                        <a:lnTo>
                          <a:pt x="375" y="705"/>
                        </a:lnTo>
                        <a:lnTo>
                          <a:pt x="375" y="703"/>
                        </a:lnTo>
                        <a:lnTo>
                          <a:pt x="375" y="700"/>
                        </a:lnTo>
                        <a:lnTo>
                          <a:pt x="375" y="698"/>
                        </a:lnTo>
                        <a:lnTo>
                          <a:pt x="375" y="696"/>
                        </a:lnTo>
                        <a:lnTo>
                          <a:pt x="375" y="692"/>
                        </a:lnTo>
                        <a:lnTo>
                          <a:pt x="375" y="690"/>
                        </a:lnTo>
                        <a:lnTo>
                          <a:pt x="375" y="684"/>
                        </a:lnTo>
                        <a:lnTo>
                          <a:pt x="375" y="681"/>
                        </a:lnTo>
                        <a:lnTo>
                          <a:pt x="375" y="675"/>
                        </a:lnTo>
                        <a:lnTo>
                          <a:pt x="375" y="669"/>
                        </a:lnTo>
                        <a:lnTo>
                          <a:pt x="371" y="665"/>
                        </a:lnTo>
                        <a:lnTo>
                          <a:pt x="371" y="660"/>
                        </a:lnTo>
                        <a:lnTo>
                          <a:pt x="369" y="654"/>
                        </a:lnTo>
                        <a:lnTo>
                          <a:pt x="367" y="652"/>
                        </a:lnTo>
                        <a:lnTo>
                          <a:pt x="365" y="646"/>
                        </a:lnTo>
                        <a:lnTo>
                          <a:pt x="363" y="641"/>
                        </a:lnTo>
                        <a:lnTo>
                          <a:pt x="361" y="637"/>
                        </a:lnTo>
                        <a:lnTo>
                          <a:pt x="358" y="633"/>
                        </a:lnTo>
                        <a:lnTo>
                          <a:pt x="356" y="629"/>
                        </a:lnTo>
                        <a:lnTo>
                          <a:pt x="354" y="623"/>
                        </a:lnTo>
                        <a:lnTo>
                          <a:pt x="350" y="620"/>
                        </a:lnTo>
                        <a:lnTo>
                          <a:pt x="346" y="616"/>
                        </a:lnTo>
                        <a:lnTo>
                          <a:pt x="342" y="612"/>
                        </a:lnTo>
                        <a:lnTo>
                          <a:pt x="339" y="610"/>
                        </a:lnTo>
                        <a:lnTo>
                          <a:pt x="335" y="606"/>
                        </a:lnTo>
                        <a:lnTo>
                          <a:pt x="331" y="603"/>
                        </a:lnTo>
                        <a:lnTo>
                          <a:pt x="325" y="601"/>
                        </a:lnTo>
                        <a:lnTo>
                          <a:pt x="321" y="597"/>
                        </a:lnTo>
                        <a:lnTo>
                          <a:pt x="318" y="595"/>
                        </a:lnTo>
                        <a:lnTo>
                          <a:pt x="312" y="593"/>
                        </a:lnTo>
                        <a:lnTo>
                          <a:pt x="306" y="591"/>
                        </a:lnTo>
                        <a:lnTo>
                          <a:pt x="302" y="589"/>
                        </a:lnTo>
                        <a:lnTo>
                          <a:pt x="299" y="589"/>
                        </a:lnTo>
                        <a:lnTo>
                          <a:pt x="295" y="587"/>
                        </a:lnTo>
                        <a:lnTo>
                          <a:pt x="291" y="587"/>
                        </a:lnTo>
                        <a:lnTo>
                          <a:pt x="287" y="585"/>
                        </a:lnTo>
                        <a:lnTo>
                          <a:pt x="285" y="585"/>
                        </a:lnTo>
                        <a:lnTo>
                          <a:pt x="283" y="585"/>
                        </a:lnTo>
                        <a:lnTo>
                          <a:pt x="280" y="585"/>
                        </a:lnTo>
                        <a:lnTo>
                          <a:pt x="276" y="585"/>
                        </a:lnTo>
                        <a:lnTo>
                          <a:pt x="274" y="585"/>
                        </a:lnTo>
                        <a:lnTo>
                          <a:pt x="272" y="585"/>
                        </a:lnTo>
                        <a:lnTo>
                          <a:pt x="268" y="585"/>
                        </a:lnTo>
                        <a:lnTo>
                          <a:pt x="266" y="585"/>
                        </a:lnTo>
                        <a:lnTo>
                          <a:pt x="263" y="585"/>
                        </a:lnTo>
                        <a:lnTo>
                          <a:pt x="261" y="587"/>
                        </a:lnTo>
                        <a:lnTo>
                          <a:pt x="259" y="587"/>
                        </a:lnTo>
                        <a:lnTo>
                          <a:pt x="255" y="587"/>
                        </a:lnTo>
                        <a:lnTo>
                          <a:pt x="253" y="589"/>
                        </a:lnTo>
                        <a:lnTo>
                          <a:pt x="249" y="589"/>
                        </a:lnTo>
                        <a:lnTo>
                          <a:pt x="247" y="589"/>
                        </a:lnTo>
                        <a:lnTo>
                          <a:pt x="243" y="591"/>
                        </a:lnTo>
                        <a:lnTo>
                          <a:pt x="240" y="591"/>
                        </a:lnTo>
                        <a:lnTo>
                          <a:pt x="238" y="593"/>
                        </a:lnTo>
                        <a:lnTo>
                          <a:pt x="236" y="595"/>
                        </a:lnTo>
                        <a:lnTo>
                          <a:pt x="232" y="595"/>
                        </a:lnTo>
                        <a:lnTo>
                          <a:pt x="230" y="597"/>
                        </a:lnTo>
                        <a:lnTo>
                          <a:pt x="228" y="599"/>
                        </a:lnTo>
                        <a:lnTo>
                          <a:pt x="224" y="601"/>
                        </a:lnTo>
                        <a:lnTo>
                          <a:pt x="223" y="601"/>
                        </a:lnTo>
                        <a:lnTo>
                          <a:pt x="219" y="603"/>
                        </a:lnTo>
                        <a:lnTo>
                          <a:pt x="217" y="604"/>
                        </a:lnTo>
                        <a:lnTo>
                          <a:pt x="211" y="608"/>
                        </a:lnTo>
                        <a:lnTo>
                          <a:pt x="207" y="612"/>
                        </a:lnTo>
                        <a:lnTo>
                          <a:pt x="204" y="616"/>
                        </a:lnTo>
                        <a:lnTo>
                          <a:pt x="198" y="618"/>
                        </a:lnTo>
                        <a:lnTo>
                          <a:pt x="194" y="623"/>
                        </a:lnTo>
                        <a:lnTo>
                          <a:pt x="188" y="627"/>
                        </a:lnTo>
                        <a:lnTo>
                          <a:pt x="185" y="633"/>
                        </a:lnTo>
                        <a:lnTo>
                          <a:pt x="181" y="637"/>
                        </a:lnTo>
                        <a:lnTo>
                          <a:pt x="177" y="641"/>
                        </a:lnTo>
                        <a:lnTo>
                          <a:pt x="173" y="646"/>
                        </a:lnTo>
                        <a:lnTo>
                          <a:pt x="169" y="652"/>
                        </a:lnTo>
                        <a:lnTo>
                          <a:pt x="166" y="656"/>
                        </a:lnTo>
                        <a:lnTo>
                          <a:pt x="162" y="662"/>
                        </a:lnTo>
                        <a:lnTo>
                          <a:pt x="160" y="665"/>
                        </a:lnTo>
                        <a:lnTo>
                          <a:pt x="158" y="669"/>
                        </a:lnTo>
                        <a:lnTo>
                          <a:pt x="158" y="671"/>
                        </a:lnTo>
                        <a:lnTo>
                          <a:pt x="156" y="673"/>
                        </a:lnTo>
                        <a:lnTo>
                          <a:pt x="154" y="677"/>
                        </a:lnTo>
                        <a:lnTo>
                          <a:pt x="152" y="679"/>
                        </a:lnTo>
                        <a:lnTo>
                          <a:pt x="152" y="681"/>
                        </a:lnTo>
                        <a:lnTo>
                          <a:pt x="150" y="684"/>
                        </a:lnTo>
                        <a:lnTo>
                          <a:pt x="150" y="688"/>
                        </a:lnTo>
                        <a:lnTo>
                          <a:pt x="146" y="694"/>
                        </a:lnTo>
                        <a:lnTo>
                          <a:pt x="145" y="701"/>
                        </a:lnTo>
                        <a:lnTo>
                          <a:pt x="143" y="709"/>
                        </a:lnTo>
                        <a:lnTo>
                          <a:pt x="139" y="717"/>
                        </a:lnTo>
                        <a:lnTo>
                          <a:pt x="137" y="724"/>
                        </a:lnTo>
                        <a:lnTo>
                          <a:pt x="135" y="732"/>
                        </a:lnTo>
                        <a:lnTo>
                          <a:pt x="131" y="739"/>
                        </a:lnTo>
                        <a:lnTo>
                          <a:pt x="129" y="747"/>
                        </a:lnTo>
                        <a:lnTo>
                          <a:pt x="126" y="755"/>
                        </a:lnTo>
                        <a:lnTo>
                          <a:pt x="124" y="760"/>
                        </a:lnTo>
                        <a:lnTo>
                          <a:pt x="122" y="768"/>
                        </a:lnTo>
                        <a:lnTo>
                          <a:pt x="120" y="776"/>
                        </a:lnTo>
                        <a:lnTo>
                          <a:pt x="116" y="781"/>
                        </a:lnTo>
                        <a:lnTo>
                          <a:pt x="114" y="789"/>
                        </a:lnTo>
                        <a:lnTo>
                          <a:pt x="112" y="796"/>
                        </a:lnTo>
                        <a:lnTo>
                          <a:pt x="110" y="804"/>
                        </a:lnTo>
                        <a:lnTo>
                          <a:pt x="107" y="812"/>
                        </a:lnTo>
                        <a:lnTo>
                          <a:pt x="107" y="817"/>
                        </a:lnTo>
                        <a:lnTo>
                          <a:pt x="103" y="823"/>
                        </a:lnTo>
                        <a:lnTo>
                          <a:pt x="101" y="831"/>
                        </a:lnTo>
                        <a:lnTo>
                          <a:pt x="97" y="836"/>
                        </a:lnTo>
                        <a:lnTo>
                          <a:pt x="97" y="844"/>
                        </a:lnTo>
                        <a:lnTo>
                          <a:pt x="93" y="852"/>
                        </a:lnTo>
                        <a:lnTo>
                          <a:pt x="93" y="857"/>
                        </a:lnTo>
                        <a:lnTo>
                          <a:pt x="89" y="865"/>
                        </a:lnTo>
                        <a:lnTo>
                          <a:pt x="88" y="871"/>
                        </a:lnTo>
                        <a:lnTo>
                          <a:pt x="86" y="878"/>
                        </a:lnTo>
                        <a:lnTo>
                          <a:pt x="84" y="884"/>
                        </a:lnTo>
                        <a:lnTo>
                          <a:pt x="82" y="892"/>
                        </a:lnTo>
                        <a:lnTo>
                          <a:pt x="80" y="899"/>
                        </a:lnTo>
                        <a:lnTo>
                          <a:pt x="78" y="907"/>
                        </a:lnTo>
                        <a:lnTo>
                          <a:pt x="74" y="912"/>
                        </a:lnTo>
                        <a:lnTo>
                          <a:pt x="72" y="920"/>
                        </a:lnTo>
                        <a:lnTo>
                          <a:pt x="72" y="926"/>
                        </a:lnTo>
                        <a:lnTo>
                          <a:pt x="68" y="931"/>
                        </a:lnTo>
                        <a:lnTo>
                          <a:pt x="67" y="939"/>
                        </a:lnTo>
                        <a:lnTo>
                          <a:pt x="65" y="945"/>
                        </a:lnTo>
                        <a:lnTo>
                          <a:pt x="63" y="952"/>
                        </a:lnTo>
                        <a:lnTo>
                          <a:pt x="59" y="958"/>
                        </a:lnTo>
                        <a:lnTo>
                          <a:pt x="57" y="966"/>
                        </a:lnTo>
                        <a:lnTo>
                          <a:pt x="55" y="971"/>
                        </a:lnTo>
                        <a:lnTo>
                          <a:pt x="53" y="979"/>
                        </a:lnTo>
                        <a:lnTo>
                          <a:pt x="51" y="987"/>
                        </a:lnTo>
                        <a:lnTo>
                          <a:pt x="49" y="994"/>
                        </a:lnTo>
                        <a:lnTo>
                          <a:pt x="48" y="1000"/>
                        </a:lnTo>
                        <a:lnTo>
                          <a:pt x="46" y="1007"/>
                        </a:lnTo>
                        <a:lnTo>
                          <a:pt x="44" y="1015"/>
                        </a:lnTo>
                        <a:lnTo>
                          <a:pt x="42" y="1021"/>
                        </a:lnTo>
                        <a:lnTo>
                          <a:pt x="42" y="1028"/>
                        </a:lnTo>
                        <a:lnTo>
                          <a:pt x="38" y="1036"/>
                        </a:lnTo>
                        <a:lnTo>
                          <a:pt x="36" y="1042"/>
                        </a:lnTo>
                        <a:lnTo>
                          <a:pt x="36" y="1049"/>
                        </a:lnTo>
                        <a:lnTo>
                          <a:pt x="34" y="1057"/>
                        </a:lnTo>
                        <a:lnTo>
                          <a:pt x="30" y="1063"/>
                        </a:lnTo>
                        <a:lnTo>
                          <a:pt x="30" y="1070"/>
                        </a:lnTo>
                        <a:lnTo>
                          <a:pt x="29" y="1078"/>
                        </a:lnTo>
                        <a:lnTo>
                          <a:pt x="27" y="1085"/>
                        </a:lnTo>
                        <a:lnTo>
                          <a:pt x="25" y="1093"/>
                        </a:lnTo>
                        <a:lnTo>
                          <a:pt x="23" y="1101"/>
                        </a:lnTo>
                        <a:lnTo>
                          <a:pt x="21" y="1108"/>
                        </a:lnTo>
                        <a:lnTo>
                          <a:pt x="19" y="1116"/>
                        </a:lnTo>
                        <a:lnTo>
                          <a:pt x="17" y="1123"/>
                        </a:lnTo>
                        <a:lnTo>
                          <a:pt x="17" y="1131"/>
                        </a:lnTo>
                        <a:lnTo>
                          <a:pt x="15" y="1139"/>
                        </a:lnTo>
                        <a:lnTo>
                          <a:pt x="13" y="1148"/>
                        </a:lnTo>
                        <a:lnTo>
                          <a:pt x="10" y="1158"/>
                        </a:lnTo>
                        <a:lnTo>
                          <a:pt x="10" y="1165"/>
                        </a:lnTo>
                        <a:lnTo>
                          <a:pt x="8" y="1175"/>
                        </a:lnTo>
                        <a:lnTo>
                          <a:pt x="6" y="1182"/>
                        </a:lnTo>
                        <a:lnTo>
                          <a:pt x="6" y="1192"/>
                        </a:lnTo>
                        <a:lnTo>
                          <a:pt x="4" y="1201"/>
                        </a:lnTo>
                        <a:lnTo>
                          <a:pt x="2" y="1211"/>
                        </a:lnTo>
                        <a:lnTo>
                          <a:pt x="2" y="1218"/>
                        </a:lnTo>
                        <a:lnTo>
                          <a:pt x="0" y="1230"/>
                        </a:lnTo>
                        <a:lnTo>
                          <a:pt x="0" y="1237"/>
                        </a:lnTo>
                        <a:lnTo>
                          <a:pt x="0" y="1247"/>
                        </a:lnTo>
                        <a:lnTo>
                          <a:pt x="0" y="1257"/>
                        </a:lnTo>
                        <a:lnTo>
                          <a:pt x="0" y="1268"/>
                        </a:lnTo>
                        <a:lnTo>
                          <a:pt x="0" y="1276"/>
                        </a:lnTo>
                        <a:lnTo>
                          <a:pt x="0" y="1285"/>
                        </a:lnTo>
                        <a:lnTo>
                          <a:pt x="0" y="1296"/>
                        </a:lnTo>
                        <a:lnTo>
                          <a:pt x="0" y="1304"/>
                        </a:lnTo>
                        <a:lnTo>
                          <a:pt x="0" y="1314"/>
                        </a:lnTo>
                        <a:lnTo>
                          <a:pt x="0" y="1323"/>
                        </a:lnTo>
                        <a:lnTo>
                          <a:pt x="0" y="1333"/>
                        </a:lnTo>
                        <a:lnTo>
                          <a:pt x="2" y="1342"/>
                        </a:lnTo>
                        <a:lnTo>
                          <a:pt x="2" y="1352"/>
                        </a:lnTo>
                        <a:lnTo>
                          <a:pt x="4" y="1363"/>
                        </a:lnTo>
                        <a:lnTo>
                          <a:pt x="4" y="1371"/>
                        </a:lnTo>
                        <a:lnTo>
                          <a:pt x="6" y="1382"/>
                        </a:lnTo>
                        <a:lnTo>
                          <a:pt x="8" y="1390"/>
                        </a:lnTo>
                        <a:lnTo>
                          <a:pt x="8" y="1401"/>
                        </a:lnTo>
                        <a:lnTo>
                          <a:pt x="10" y="1409"/>
                        </a:lnTo>
                        <a:lnTo>
                          <a:pt x="11" y="1420"/>
                        </a:lnTo>
                        <a:lnTo>
                          <a:pt x="13" y="1429"/>
                        </a:lnTo>
                        <a:lnTo>
                          <a:pt x="15" y="1439"/>
                        </a:lnTo>
                        <a:lnTo>
                          <a:pt x="17" y="1448"/>
                        </a:lnTo>
                        <a:lnTo>
                          <a:pt x="19" y="1458"/>
                        </a:lnTo>
                        <a:lnTo>
                          <a:pt x="21" y="1468"/>
                        </a:lnTo>
                        <a:lnTo>
                          <a:pt x="23" y="1477"/>
                        </a:lnTo>
                        <a:lnTo>
                          <a:pt x="27" y="1487"/>
                        </a:lnTo>
                        <a:lnTo>
                          <a:pt x="29" y="1496"/>
                        </a:lnTo>
                        <a:lnTo>
                          <a:pt x="30" y="1506"/>
                        </a:lnTo>
                        <a:lnTo>
                          <a:pt x="34" y="1515"/>
                        </a:lnTo>
                        <a:lnTo>
                          <a:pt x="36" y="1525"/>
                        </a:lnTo>
                        <a:lnTo>
                          <a:pt x="38" y="1534"/>
                        </a:lnTo>
                        <a:lnTo>
                          <a:pt x="42" y="1544"/>
                        </a:lnTo>
                        <a:lnTo>
                          <a:pt x="46" y="1553"/>
                        </a:lnTo>
                        <a:lnTo>
                          <a:pt x="48" y="1561"/>
                        </a:lnTo>
                        <a:lnTo>
                          <a:pt x="51" y="1572"/>
                        </a:lnTo>
                        <a:lnTo>
                          <a:pt x="55" y="1580"/>
                        </a:lnTo>
                        <a:lnTo>
                          <a:pt x="59" y="1589"/>
                        </a:lnTo>
                        <a:lnTo>
                          <a:pt x="63" y="1599"/>
                        </a:lnTo>
                        <a:lnTo>
                          <a:pt x="67" y="1608"/>
                        </a:lnTo>
                        <a:lnTo>
                          <a:pt x="68" y="1616"/>
                        </a:lnTo>
                        <a:lnTo>
                          <a:pt x="74" y="1627"/>
                        </a:lnTo>
                        <a:lnTo>
                          <a:pt x="78" y="1635"/>
                        </a:lnTo>
                        <a:lnTo>
                          <a:pt x="82" y="1644"/>
                        </a:lnTo>
                        <a:lnTo>
                          <a:pt x="86" y="1652"/>
                        </a:lnTo>
                        <a:lnTo>
                          <a:pt x="89" y="1661"/>
                        </a:lnTo>
                        <a:lnTo>
                          <a:pt x="95" y="1669"/>
                        </a:lnTo>
                        <a:lnTo>
                          <a:pt x="99" y="1679"/>
                        </a:lnTo>
                        <a:lnTo>
                          <a:pt x="103" y="1688"/>
                        </a:lnTo>
                        <a:lnTo>
                          <a:pt x="108" y="1696"/>
                        </a:lnTo>
                        <a:lnTo>
                          <a:pt x="114" y="1703"/>
                        </a:lnTo>
                        <a:lnTo>
                          <a:pt x="118" y="1713"/>
                        </a:lnTo>
                        <a:lnTo>
                          <a:pt x="124" y="1722"/>
                        </a:lnTo>
                        <a:lnTo>
                          <a:pt x="127" y="1732"/>
                        </a:lnTo>
                        <a:lnTo>
                          <a:pt x="131" y="1736"/>
                        </a:lnTo>
                        <a:lnTo>
                          <a:pt x="135" y="1739"/>
                        </a:lnTo>
                        <a:lnTo>
                          <a:pt x="135" y="1743"/>
                        </a:lnTo>
                        <a:lnTo>
                          <a:pt x="137" y="1745"/>
                        </a:lnTo>
                        <a:lnTo>
                          <a:pt x="139" y="1747"/>
                        </a:lnTo>
                        <a:lnTo>
                          <a:pt x="141" y="1751"/>
                        </a:lnTo>
                        <a:lnTo>
                          <a:pt x="143" y="1755"/>
                        </a:lnTo>
                        <a:lnTo>
                          <a:pt x="143" y="1756"/>
                        </a:lnTo>
                        <a:lnTo>
                          <a:pt x="145" y="1760"/>
                        </a:lnTo>
                        <a:lnTo>
                          <a:pt x="146" y="1762"/>
                        </a:lnTo>
                        <a:lnTo>
                          <a:pt x="148" y="1766"/>
                        </a:lnTo>
                        <a:lnTo>
                          <a:pt x="150" y="1768"/>
                        </a:lnTo>
                        <a:lnTo>
                          <a:pt x="152" y="1770"/>
                        </a:lnTo>
                        <a:lnTo>
                          <a:pt x="156" y="1774"/>
                        </a:lnTo>
                        <a:lnTo>
                          <a:pt x="158" y="1777"/>
                        </a:lnTo>
                        <a:lnTo>
                          <a:pt x="160" y="1779"/>
                        </a:lnTo>
                        <a:lnTo>
                          <a:pt x="160" y="1783"/>
                        </a:lnTo>
                        <a:lnTo>
                          <a:pt x="162" y="1787"/>
                        </a:lnTo>
                        <a:lnTo>
                          <a:pt x="166" y="1789"/>
                        </a:lnTo>
                        <a:lnTo>
                          <a:pt x="166" y="1791"/>
                        </a:lnTo>
                        <a:lnTo>
                          <a:pt x="167" y="1794"/>
                        </a:lnTo>
                        <a:lnTo>
                          <a:pt x="169" y="1796"/>
                        </a:lnTo>
                        <a:lnTo>
                          <a:pt x="171" y="1800"/>
                        </a:lnTo>
                        <a:lnTo>
                          <a:pt x="173" y="1802"/>
                        </a:lnTo>
                        <a:lnTo>
                          <a:pt x="175" y="1806"/>
                        </a:lnTo>
                        <a:lnTo>
                          <a:pt x="177" y="1808"/>
                        </a:lnTo>
                        <a:lnTo>
                          <a:pt x="179" y="1812"/>
                        </a:lnTo>
                        <a:lnTo>
                          <a:pt x="181" y="1815"/>
                        </a:lnTo>
                        <a:lnTo>
                          <a:pt x="183" y="1817"/>
                        </a:lnTo>
                        <a:lnTo>
                          <a:pt x="185" y="1821"/>
                        </a:lnTo>
                        <a:lnTo>
                          <a:pt x="188" y="1827"/>
                        </a:lnTo>
                        <a:lnTo>
                          <a:pt x="190" y="1831"/>
                        </a:lnTo>
                        <a:lnTo>
                          <a:pt x="194" y="1836"/>
                        </a:lnTo>
                        <a:lnTo>
                          <a:pt x="198" y="1842"/>
                        </a:lnTo>
                        <a:lnTo>
                          <a:pt x="200" y="1846"/>
                        </a:lnTo>
                        <a:lnTo>
                          <a:pt x="204" y="1850"/>
                        </a:lnTo>
                        <a:lnTo>
                          <a:pt x="205" y="1853"/>
                        </a:lnTo>
                        <a:lnTo>
                          <a:pt x="207" y="1859"/>
                        </a:lnTo>
                        <a:lnTo>
                          <a:pt x="209" y="1861"/>
                        </a:lnTo>
                        <a:lnTo>
                          <a:pt x="211" y="1863"/>
                        </a:lnTo>
                        <a:lnTo>
                          <a:pt x="213" y="1867"/>
                        </a:lnTo>
                        <a:lnTo>
                          <a:pt x="215" y="1869"/>
                        </a:lnTo>
                        <a:lnTo>
                          <a:pt x="217" y="1870"/>
                        </a:lnTo>
                        <a:lnTo>
                          <a:pt x="219" y="1874"/>
                        </a:lnTo>
                        <a:lnTo>
                          <a:pt x="141" y="2163"/>
                        </a:lnTo>
                        <a:lnTo>
                          <a:pt x="143" y="2165"/>
                        </a:lnTo>
                        <a:lnTo>
                          <a:pt x="146" y="2165"/>
                        </a:lnTo>
                        <a:lnTo>
                          <a:pt x="150" y="2167"/>
                        </a:lnTo>
                        <a:lnTo>
                          <a:pt x="152" y="2167"/>
                        </a:lnTo>
                        <a:lnTo>
                          <a:pt x="154" y="2167"/>
                        </a:lnTo>
                        <a:lnTo>
                          <a:pt x="158" y="2167"/>
                        </a:lnTo>
                        <a:lnTo>
                          <a:pt x="162" y="2171"/>
                        </a:lnTo>
                        <a:lnTo>
                          <a:pt x="166" y="2171"/>
                        </a:lnTo>
                        <a:lnTo>
                          <a:pt x="167" y="2173"/>
                        </a:lnTo>
                        <a:lnTo>
                          <a:pt x="171" y="2173"/>
                        </a:lnTo>
                        <a:lnTo>
                          <a:pt x="175" y="2175"/>
                        </a:lnTo>
                        <a:lnTo>
                          <a:pt x="181" y="2175"/>
                        </a:lnTo>
                        <a:lnTo>
                          <a:pt x="185" y="2175"/>
                        </a:lnTo>
                        <a:lnTo>
                          <a:pt x="188" y="2177"/>
                        </a:lnTo>
                        <a:lnTo>
                          <a:pt x="194" y="2180"/>
                        </a:lnTo>
                        <a:lnTo>
                          <a:pt x="198" y="2180"/>
                        </a:lnTo>
                        <a:lnTo>
                          <a:pt x="204" y="2182"/>
                        </a:lnTo>
                        <a:lnTo>
                          <a:pt x="209" y="2182"/>
                        </a:lnTo>
                        <a:lnTo>
                          <a:pt x="215" y="2184"/>
                        </a:lnTo>
                        <a:lnTo>
                          <a:pt x="219" y="2186"/>
                        </a:lnTo>
                        <a:lnTo>
                          <a:pt x="224" y="2188"/>
                        </a:lnTo>
                        <a:lnTo>
                          <a:pt x="232" y="2188"/>
                        </a:lnTo>
                        <a:lnTo>
                          <a:pt x="238" y="2190"/>
                        </a:lnTo>
                        <a:lnTo>
                          <a:pt x="243" y="2190"/>
                        </a:lnTo>
                        <a:lnTo>
                          <a:pt x="251" y="2192"/>
                        </a:lnTo>
                        <a:lnTo>
                          <a:pt x="257" y="2194"/>
                        </a:lnTo>
                        <a:lnTo>
                          <a:pt x="264" y="2194"/>
                        </a:lnTo>
                        <a:lnTo>
                          <a:pt x="270" y="2196"/>
                        </a:lnTo>
                        <a:lnTo>
                          <a:pt x="276" y="2196"/>
                        </a:lnTo>
                        <a:lnTo>
                          <a:pt x="283" y="2197"/>
                        </a:lnTo>
                        <a:lnTo>
                          <a:pt x="291" y="2199"/>
                        </a:lnTo>
                        <a:lnTo>
                          <a:pt x="297" y="2199"/>
                        </a:lnTo>
                        <a:lnTo>
                          <a:pt x="304" y="2199"/>
                        </a:lnTo>
                        <a:lnTo>
                          <a:pt x="312" y="2199"/>
                        </a:lnTo>
                        <a:lnTo>
                          <a:pt x="320" y="2201"/>
                        </a:lnTo>
                        <a:lnTo>
                          <a:pt x="325" y="2201"/>
                        </a:lnTo>
                        <a:lnTo>
                          <a:pt x="333" y="2201"/>
                        </a:lnTo>
                        <a:lnTo>
                          <a:pt x="341" y="2201"/>
                        </a:lnTo>
                        <a:lnTo>
                          <a:pt x="348" y="2201"/>
                        </a:lnTo>
                        <a:lnTo>
                          <a:pt x="356" y="2201"/>
                        </a:lnTo>
                        <a:lnTo>
                          <a:pt x="363" y="2201"/>
                        </a:lnTo>
                        <a:lnTo>
                          <a:pt x="371" y="2201"/>
                        </a:lnTo>
                        <a:lnTo>
                          <a:pt x="379" y="2201"/>
                        </a:lnTo>
                        <a:lnTo>
                          <a:pt x="386" y="2201"/>
                        </a:lnTo>
                        <a:lnTo>
                          <a:pt x="394" y="2201"/>
                        </a:lnTo>
                        <a:lnTo>
                          <a:pt x="401" y="2199"/>
                        </a:lnTo>
                        <a:lnTo>
                          <a:pt x="409" y="2199"/>
                        </a:lnTo>
                        <a:lnTo>
                          <a:pt x="415" y="2197"/>
                        </a:lnTo>
                        <a:lnTo>
                          <a:pt x="422" y="2196"/>
                        </a:lnTo>
                        <a:lnTo>
                          <a:pt x="432" y="2196"/>
                        </a:lnTo>
                        <a:lnTo>
                          <a:pt x="439" y="2194"/>
                        </a:lnTo>
                        <a:lnTo>
                          <a:pt x="447" y="2192"/>
                        </a:lnTo>
                        <a:lnTo>
                          <a:pt x="455" y="2190"/>
                        </a:lnTo>
                        <a:lnTo>
                          <a:pt x="462" y="2188"/>
                        </a:lnTo>
                        <a:lnTo>
                          <a:pt x="470" y="2188"/>
                        </a:lnTo>
                        <a:lnTo>
                          <a:pt x="476" y="2184"/>
                        </a:lnTo>
                        <a:lnTo>
                          <a:pt x="483" y="2182"/>
                        </a:lnTo>
                        <a:lnTo>
                          <a:pt x="491" y="2180"/>
                        </a:lnTo>
                        <a:lnTo>
                          <a:pt x="498" y="2175"/>
                        </a:lnTo>
                        <a:lnTo>
                          <a:pt x="504" y="2173"/>
                        </a:lnTo>
                        <a:lnTo>
                          <a:pt x="512" y="2169"/>
                        </a:lnTo>
                        <a:lnTo>
                          <a:pt x="517" y="2165"/>
                        </a:lnTo>
                        <a:lnTo>
                          <a:pt x="525" y="2161"/>
                        </a:lnTo>
                        <a:lnTo>
                          <a:pt x="531" y="2158"/>
                        </a:lnTo>
                        <a:lnTo>
                          <a:pt x="536" y="2154"/>
                        </a:lnTo>
                        <a:lnTo>
                          <a:pt x="542" y="2150"/>
                        </a:lnTo>
                        <a:lnTo>
                          <a:pt x="550" y="2146"/>
                        </a:lnTo>
                        <a:lnTo>
                          <a:pt x="555" y="2142"/>
                        </a:lnTo>
                        <a:lnTo>
                          <a:pt x="559" y="2137"/>
                        </a:lnTo>
                        <a:lnTo>
                          <a:pt x="565" y="2133"/>
                        </a:lnTo>
                        <a:lnTo>
                          <a:pt x="571" y="2129"/>
                        </a:lnTo>
                        <a:lnTo>
                          <a:pt x="576" y="2123"/>
                        </a:lnTo>
                        <a:lnTo>
                          <a:pt x="582" y="2120"/>
                        </a:lnTo>
                        <a:lnTo>
                          <a:pt x="588" y="2114"/>
                        </a:lnTo>
                        <a:lnTo>
                          <a:pt x="592" y="2110"/>
                        </a:lnTo>
                        <a:lnTo>
                          <a:pt x="595" y="2106"/>
                        </a:lnTo>
                        <a:lnTo>
                          <a:pt x="601" y="2101"/>
                        </a:lnTo>
                        <a:lnTo>
                          <a:pt x="605" y="2095"/>
                        </a:lnTo>
                        <a:lnTo>
                          <a:pt x="611" y="2091"/>
                        </a:lnTo>
                        <a:lnTo>
                          <a:pt x="614" y="2085"/>
                        </a:lnTo>
                        <a:lnTo>
                          <a:pt x="618" y="2080"/>
                        </a:lnTo>
                        <a:lnTo>
                          <a:pt x="624" y="2076"/>
                        </a:lnTo>
                        <a:lnTo>
                          <a:pt x="628" y="2070"/>
                        </a:lnTo>
                        <a:lnTo>
                          <a:pt x="632" y="2064"/>
                        </a:lnTo>
                        <a:lnTo>
                          <a:pt x="635" y="2059"/>
                        </a:lnTo>
                        <a:lnTo>
                          <a:pt x="637" y="2055"/>
                        </a:lnTo>
                        <a:lnTo>
                          <a:pt x="643" y="2049"/>
                        </a:lnTo>
                        <a:lnTo>
                          <a:pt x="645" y="2043"/>
                        </a:lnTo>
                        <a:lnTo>
                          <a:pt x="649" y="2040"/>
                        </a:lnTo>
                        <a:lnTo>
                          <a:pt x="652" y="2034"/>
                        </a:lnTo>
                        <a:lnTo>
                          <a:pt x="654" y="2030"/>
                        </a:lnTo>
                        <a:lnTo>
                          <a:pt x="658" y="2024"/>
                        </a:lnTo>
                        <a:lnTo>
                          <a:pt x="660" y="2021"/>
                        </a:lnTo>
                        <a:lnTo>
                          <a:pt x="664" y="2015"/>
                        </a:lnTo>
                        <a:lnTo>
                          <a:pt x="666" y="2011"/>
                        </a:lnTo>
                        <a:lnTo>
                          <a:pt x="668" y="2005"/>
                        </a:lnTo>
                        <a:lnTo>
                          <a:pt x="672" y="2002"/>
                        </a:lnTo>
                        <a:lnTo>
                          <a:pt x="673" y="1998"/>
                        </a:lnTo>
                        <a:lnTo>
                          <a:pt x="675" y="1992"/>
                        </a:lnTo>
                        <a:lnTo>
                          <a:pt x="677" y="1986"/>
                        </a:lnTo>
                        <a:lnTo>
                          <a:pt x="679" y="1983"/>
                        </a:lnTo>
                        <a:lnTo>
                          <a:pt x="681" y="1979"/>
                        </a:lnTo>
                        <a:lnTo>
                          <a:pt x="683" y="1975"/>
                        </a:lnTo>
                        <a:lnTo>
                          <a:pt x="685" y="1971"/>
                        </a:lnTo>
                        <a:lnTo>
                          <a:pt x="687" y="1969"/>
                        </a:lnTo>
                        <a:lnTo>
                          <a:pt x="689" y="1964"/>
                        </a:lnTo>
                        <a:lnTo>
                          <a:pt x="691" y="1962"/>
                        </a:lnTo>
                        <a:lnTo>
                          <a:pt x="692" y="1958"/>
                        </a:lnTo>
                        <a:lnTo>
                          <a:pt x="692" y="1954"/>
                        </a:lnTo>
                        <a:lnTo>
                          <a:pt x="692" y="1952"/>
                        </a:lnTo>
                        <a:lnTo>
                          <a:pt x="694" y="1950"/>
                        </a:lnTo>
                        <a:lnTo>
                          <a:pt x="696" y="1945"/>
                        </a:lnTo>
                        <a:lnTo>
                          <a:pt x="698" y="1941"/>
                        </a:lnTo>
                        <a:lnTo>
                          <a:pt x="700" y="1937"/>
                        </a:lnTo>
                        <a:lnTo>
                          <a:pt x="700" y="1935"/>
                        </a:lnTo>
                        <a:lnTo>
                          <a:pt x="700" y="1933"/>
                        </a:lnTo>
                        <a:lnTo>
                          <a:pt x="702" y="1933"/>
                        </a:lnTo>
                        <a:lnTo>
                          <a:pt x="740" y="1943"/>
                        </a:lnTo>
                        <a:lnTo>
                          <a:pt x="740" y="1943"/>
                        </a:lnTo>
                        <a:lnTo>
                          <a:pt x="738" y="1945"/>
                        </a:lnTo>
                        <a:lnTo>
                          <a:pt x="738" y="1947"/>
                        </a:lnTo>
                        <a:lnTo>
                          <a:pt x="738" y="1950"/>
                        </a:lnTo>
                        <a:lnTo>
                          <a:pt x="738" y="1954"/>
                        </a:lnTo>
                        <a:lnTo>
                          <a:pt x="738" y="1958"/>
                        </a:lnTo>
                        <a:lnTo>
                          <a:pt x="736" y="1962"/>
                        </a:lnTo>
                        <a:lnTo>
                          <a:pt x="736" y="1964"/>
                        </a:lnTo>
                        <a:lnTo>
                          <a:pt x="736" y="1967"/>
                        </a:lnTo>
                        <a:lnTo>
                          <a:pt x="736" y="1971"/>
                        </a:lnTo>
                        <a:lnTo>
                          <a:pt x="736" y="1975"/>
                        </a:lnTo>
                        <a:lnTo>
                          <a:pt x="736" y="1979"/>
                        </a:lnTo>
                        <a:lnTo>
                          <a:pt x="736" y="1983"/>
                        </a:lnTo>
                        <a:lnTo>
                          <a:pt x="736" y="1985"/>
                        </a:lnTo>
                        <a:lnTo>
                          <a:pt x="736" y="1990"/>
                        </a:lnTo>
                        <a:lnTo>
                          <a:pt x="736" y="1994"/>
                        </a:lnTo>
                        <a:lnTo>
                          <a:pt x="736" y="1998"/>
                        </a:lnTo>
                        <a:lnTo>
                          <a:pt x="736" y="2004"/>
                        </a:lnTo>
                        <a:lnTo>
                          <a:pt x="736" y="2007"/>
                        </a:lnTo>
                        <a:lnTo>
                          <a:pt x="736" y="2013"/>
                        </a:lnTo>
                        <a:lnTo>
                          <a:pt x="736" y="2015"/>
                        </a:lnTo>
                        <a:lnTo>
                          <a:pt x="736" y="2021"/>
                        </a:lnTo>
                        <a:lnTo>
                          <a:pt x="736" y="2026"/>
                        </a:lnTo>
                        <a:lnTo>
                          <a:pt x="736" y="2030"/>
                        </a:lnTo>
                        <a:lnTo>
                          <a:pt x="736" y="2036"/>
                        </a:lnTo>
                        <a:lnTo>
                          <a:pt x="736" y="2042"/>
                        </a:lnTo>
                        <a:lnTo>
                          <a:pt x="736" y="2047"/>
                        </a:lnTo>
                        <a:lnTo>
                          <a:pt x="738" y="2051"/>
                        </a:lnTo>
                        <a:lnTo>
                          <a:pt x="738" y="2057"/>
                        </a:lnTo>
                        <a:lnTo>
                          <a:pt x="738" y="2062"/>
                        </a:lnTo>
                        <a:lnTo>
                          <a:pt x="740" y="2066"/>
                        </a:lnTo>
                        <a:lnTo>
                          <a:pt x="740" y="2072"/>
                        </a:lnTo>
                        <a:lnTo>
                          <a:pt x="742" y="2078"/>
                        </a:lnTo>
                        <a:lnTo>
                          <a:pt x="744" y="2083"/>
                        </a:lnTo>
                        <a:lnTo>
                          <a:pt x="744" y="2091"/>
                        </a:lnTo>
                        <a:lnTo>
                          <a:pt x="746" y="2095"/>
                        </a:lnTo>
                        <a:lnTo>
                          <a:pt x="748" y="2101"/>
                        </a:lnTo>
                        <a:lnTo>
                          <a:pt x="748" y="2106"/>
                        </a:lnTo>
                        <a:lnTo>
                          <a:pt x="751" y="2110"/>
                        </a:lnTo>
                        <a:lnTo>
                          <a:pt x="753" y="2118"/>
                        </a:lnTo>
                        <a:lnTo>
                          <a:pt x="753" y="2123"/>
                        </a:lnTo>
                        <a:lnTo>
                          <a:pt x="757" y="2129"/>
                        </a:lnTo>
                        <a:lnTo>
                          <a:pt x="759" y="2135"/>
                        </a:lnTo>
                        <a:lnTo>
                          <a:pt x="761" y="2139"/>
                        </a:lnTo>
                        <a:lnTo>
                          <a:pt x="765" y="2144"/>
                        </a:lnTo>
                        <a:lnTo>
                          <a:pt x="767" y="2150"/>
                        </a:lnTo>
                        <a:lnTo>
                          <a:pt x="769" y="2156"/>
                        </a:lnTo>
                        <a:lnTo>
                          <a:pt x="772" y="2159"/>
                        </a:lnTo>
                        <a:lnTo>
                          <a:pt x="776" y="2165"/>
                        </a:lnTo>
                        <a:lnTo>
                          <a:pt x="780" y="2171"/>
                        </a:lnTo>
                        <a:lnTo>
                          <a:pt x="782" y="2175"/>
                        </a:lnTo>
                        <a:lnTo>
                          <a:pt x="786" y="2180"/>
                        </a:lnTo>
                        <a:lnTo>
                          <a:pt x="789" y="2186"/>
                        </a:lnTo>
                        <a:lnTo>
                          <a:pt x="795" y="2190"/>
                        </a:lnTo>
                        <a:lnTo>
                          <a:pt x="799" y="2196"/>
                        </a:lnTo>
                        <a:lnTo>
                          <a:pt x="805" y="2201"/>
                        </a:lnTo>
                        <a:lnTo>
                          <a:pt x="808" y="2205"/>
                        </a:lnTo>
                        <a:lnTo>
                          <a:pt x="814" y="2209"/>
                        </a:lnTo>
                        <a:lnTo>
                          <a:pt x="818" y="2213"/>
                        </a:lnTo>
                        <a:lnTo>
                          <a:pt x="824" y="2216"/>
                        </a:lnTo>
                        <a:lnTo>
                          <a:pt x="828" y="2222"/>
                        </a:lnTo>
                        <a:lnTo>
                          <a:pt x="833" y="2224"/>
                        </a:lnTo>
                        <a:lnTo>
                          <a:pt x="839" y="2228"/>
                        </a:lnTo>
                        <a:lnTo>
                          <a:pt x="845" y="2232"/>
                        </a:lnTo>
                        <a:lnTo>
                          <a:pt x="848" y="2235"/>
                        </a:lnTo>
                        <a:lnTo>
                          <a:pt x="854" y="2239"/>
                        </a:lnTo>
                        <a:lnTo>
                          <a:pt x="858" y="2243"/>
                        </a:lnTo>
                        <a:lnTo>
                          <a:pt x="864" y="2245"/>
                        </a:lnTo>
                        <a:lnTo>
                          <a:pt x="867" y="2249"/>
                        </a:lnTo>
                        <a:lnTo>
                          <a:pt x="873" y="2253"/>
                        </a:lnTo>
                        <a:lnTo>
                          <a:pt x="877" y="2256"/>
                        </a:lnTo>
                        <a:lnTo>
                          <a:pt x="883" y="2258"/>
                        </a:lnTo>
                        <a:lnTo>
                          <a:pt x="890" y="2260"/>
                        </a:lnTo>
                        <a:lnTo>
                          <a:pt x="896" y="2264"/>
                        </a:lnTo>
                        <a:lnTo>
                          <a:pt x="900" y="2266"/>
                        </a:lnTo>
                        <a:lnTo>
                          <a:pt x="904" y="2268"/>
                        </a:lnTo>
                        <a:lnTo>
                          <a:pt x="907" y="2270"/>
                        </a:lnTo>
                        <a:lnTo>
                          <a:pt x="913" y="2273"/>
                        </a:lnTo>
                        <a:lnTo>
                          <a:pt x="919" y="2275"/>
                        </a:lnTo>
                        <a:lnTo>
                          <a:pt x="925" y="2277"/>
                        </a:lnTo>
                        <a:lnTo>
                          <a:pt x="928" y="2279"/>
                        </a:lnTo>
                        <a:lnTo>
                          <a:pt x="934" y="2281"/>
                        </a:lnTo>
                        <a:lnTo>
                          <a:pt x="938" y="2283"/>
                        </a:lnTo>
                        <a:lnTo>
                          <a:pt x="942" y="2285"/>
                        </a:lnTo>
                        <a:lnTo>
                          <a:pt x="947" y="2287"/>
                        </a:lnTo>
                        <a:lnTo>
                          <a:pt x="951" y="2289"/>
                        </a:lnTo>
                        <a:lnTo>
                          <a:pt x="955" y="2289"/>
                        </a:lnTo>
                        <a:lnTo>
                          <a:pt x="961" y="2291"/>
                        </a:lnTo>
                        <a:lnTo>
                          <a:pt x="964" y="2291"/>
                        </a:lnTo>
                        <a:lnTo>
                          <a:pt x="968" y="2294"/>
                        </a:lnTo>
                        <a:lnTo>
                          <a:pt x="972" y="2294"/>
                        </a:lnTo>
                        <a:lnTo>
                          <a:pt x="978" y="2294"/>
                        </a:lnTo>
                        <a:lnTo>
                          <a:pt x="982" y="2296"/>
                        </a:lnTo>
                        <a:lnTo>
                          <a:pt x="985" y="2296"/>
                        </a:lnTo>
                        <a:lnTo>
                          <a:pt x="989" y="2296"/>
                        </a:lnTo>
                        <a:lnTo>
                          <a:pt x="993" y="2298"/>
                        </a:lnTo>
                        <a:lnTo>
                          <a:pt x="997" y="2298"/>
                        </a:lnTo>
                        <a:lnTo>
                          <a:pt x="1001" y="2298"/>
                        </a:lnTo>
                        <a:lnTo>
                          <a:pt x="1004" y="2298"/>
                        </a:lnTo>
                        <a:lnTo>
                          <a:pt x="1008" y="2300"/>
                        </a:lnTo>
                        <a:lnTo>
                          <a:pt x="1010" y="2300"/>
                        </a:lnTo>
                        <a:lnTo>
                          <a:pt x="1014" y="2300"/>
                        </a:lnTo>
                        <a:lnTo>
                          <a:pt x="1016" y="2300"/>
                        </a:lnTo>
                        <a:lnTo>
                          <a:pt x="1020" y="2300"/>
                        </a:lnTo>
                        <a:lnTo>
                          <a:pt x="1022" y="2300"/>
                        </a:lnTo>
                        <a:lnTo>
                          <a:pt x="1025" y="2302"/>
                        </a:lnTo>
                        <a:lnTo>
                          <a:pt x="1029" y="2300"/>
                        </a:lnTo>
                        <a:lnTo>
                          <a:pt x="1035" y="2300"/>
                        </a:lnTo>
                        <a:lnTo>
                          <a:pt x="1039" y="2298"/>
                        </a:lnTo>
                        <a:lnTo>
                          <a:pt x="1042" y="2298"/>
                        </a:lnTo>
                        <a:lnTo>
                          <a:pt x="1044" y="2296"/>
                        </a:lnTo>
                        <a:lnTo>
                          <a:pt x="1048" y="2296"/>
                        </a:lnTo>
                        <a:lnTo>
                          <a:pt x="1048" y="2294"/>
                        </a:lnTo>
                        <a:lnTo>
                          <a:pt x="1050" y="2294"/>
                        </a:lnTo>
                        <a:lnTo>
                          <a:pt x="1246" y="1334"/>
                        </a:lnTo>
                        <a:lnTo>
                          <a:pt x="1246" y="1333"/>
                        </a:lnTo>
                        <a:lnTo>
                          <a:pt x="1248" y="1331"/>
                        </a:lnTo>
                        <a:lnTo>
                          <a:pt x="1250" y="1327"/>
                        </a:lnTo>
                        <a:lnTo>
                          <a:pt x="1252" y="1325"/>
                        </a:lnTo>
                        <a:lnTo>
                          <a:pt x="1252" y="1323"/>
                        </a:lnTo>
                        <a:lnTo>
                          <a:pt x="1254" y="1319"/>
                        </a:lnTo>
                        <a:lnTo>
                          <a:pt x="1256" y="1315"/>
                        </a:lnTo>
                        <a:lnTo>
                          <a:pt x="1259" y="1312"/>
                        </a:lnTo>
                        <a:lnTo>
                          <a:pt x="1259" y="1306"/>
                        </a:lnTo>
                        <a:lnTo>
                          <a:pt x="1263" y="1302"/>
                        </a:lnTo>
                        <a:lnTo>
                          <a:pt x="1265" y="1296"/>
                        </a:lnTo>
                        <a:lnTo>
                          <a:pt x="1269" y="1293"/>
                        </a:lnTo>
                        <a:lnTo>
                          <a:pt x="1271" y="1285"/>
                        </a:lnTo>
                        <a:lnTo>
                          <a:pt x="1275" y="1281"/>
                        </a:lnTo>
                        <a:lnTo>
                          <a:pt x="1276" y="1274"/>
                        </a:lnTo>
                        <a:lnTo>
                          <a:pt x="1280" y="1266"/>
                        </a:lnTo>
                        <a:lnTo>
                          <a:pt x="1284" y="1258"/>
                        </a:lnTo>
                        <a:lnTo>
                          <a:pt x="1288" y="1249"/>
                        </a:lnTo>
                        <a:lnTo>
                          <a:pt x="1290" y="1241"/>
                        </a:lnTo>
                        <a:lnTo>
                          <a:pt x="1294" y="1234"/>
                        </a:lnTo>
                        <a:lnTo>
                          <a:pt x="1297" y="1224"/>
                        </a:lnTo>
                        <a:lnTo>
                          <a:pt x="1301" y="1217"/>
                        </a:lnTo>
                        <a:lnTo>
                          <a:pt x="1305" y="1207"/>
                        </a:lnTo>
                        <a:lnTo>
                          <a:pt x="1309" y="1198"/>
                        </a:lnTo>
                        <a:lnTo>
                          <a:pt x="1313" y="1188"/>
                        </a:lnTo>
                        <a:lnTo>
                          <a:pt x="1316" y="1177"/>
                        </a:lnTo>
                        <a:lnTo>
                          <a:pt x="1320" y="1165"/>
                        </a:lnTo>
                        <a:lnTo>
                          <a:pt x="1324" y="1154"/>
                        </a:lnTo>
                        <a:lnTo>
                          <a:pt x="1330" y="1144"/>
                        </a:lnTo>
                        <a:lnTo>
                          <a:pt x="1334" y="1133"/>
                        </a:lnTo>
                        <a:lnTo>
                          <a:pt x="1337" y="1122"/>
                        </a:lnTo>
                        <a:lnTo>
                          <a:pt x="1339" y="1108"/>
                        </a:lnTo>
                        <a:lnTo>
                          <a:pt x="1345" y="1097"/>
                        </a:lnTo>
                        <a:lnTo>
                          <a:pt x="1349" y="1084"/>
                        </a:lnTo>
                        <a:lnTo>
                          <a:pt x="1353" y="1070"/>
                        </a:lnTo>
                        <a:lnTo>
                          <a:pt x="1354" y="1059"/>
                        </a:lnTo>
                        <a:lnTo>
                          <a:pt x="1358" y="1044"/>
                        </a:lnTo>
                        <a:lnTo>
                          <a:pt x="1362" y="1032"/>
                        </a:lnTo>
                        <a:lnTo>
                          <a:pt x="1366" y="1017"/>
                        </a:lnTo>
                        <a:lnTo>
                          <a:pt x="1370" y="1004"/>
                        </a:lnTo>
                        <a:lnTo>
                          <a:pt x="1372" y="988"/>
                        </a:lnTo>
                        <a:lnTo>
                          <a:pt x="1375" y="975"/>
                        </a:lnTo>
                        <a:lnTo>
                          <a:pt x="1377" y="960"/>
                        </a:lnTo>
                        <a:lnTo>
                          <a:pt x="1381" y="947"/>
                        </a:lnTo>
                        <a:lnTo>
                          <a:pt x="1383" y="931"/>
                        </a:lnTo>
                        <a:lnTo>
                          <a:pt x="1387" y="916"/>
                        </a:lnTo>
                        <a:lnTo>
                          <a:pt x="1389" y="901"/>
                        </a:lnTo>
                        <a:lnTo>
                          <a:pt x="1391" y="886"/>
                        </a:lnTo>
                        <a:lnTo>
                          <a:pt x="1392" y="871"/>
                        </a:lnTo>
                        <a:lnTo>
                          <a:pt x="1394" y="855"/>
                        </a:lnTo>
                        <a:lnTo>
                          <a:pt x="1396" y="838"/>
                        </a:lnTo>
                        <a:lnTo>
                          <a:pt x="1398" y="823"/>
                        </a:lnTo>
                        <a:lnTo>
                          <a:pt x="1398" y="806"/>
                        </a:lnTo>
                        <a:lnTo>
                          <a:pt x="1400" y="791"/>
                        </a:lnTo>
                        <a:lnTo>
                          <a:pt x="1402" y="774"/>
                        </a:lnTo>
                        <a:lnTo>
                          <a:pt x="1402" y="757"/>
                        </a:lnTo>
                        <a:lnTo>
                          <a:pt x="1402" y="741"/>
                        </a:lnTo>
                        <a:lnTo>
                          <a:pt x="1402" y="724"/>
                        </a:lnTo>
                        <a:lnTo>
                          <a:pt x="1402" y="705"/>
                        </a:lnTo>
                        <a:lnTo>
                          <a:pt x="1402" y="690"/>
                        </a:lnTo>
                        <a:lnTo>
                          <a:pt x="1400" y="673"/>
                        </a:lnTo>
                        <a:lnTo>
                          <a:pt x="1400" y="656"/>
                        </a:lnTo>
                        <a:lnTo>
                          <a:pt x="1398" y="654"/>
                        </a:lnTo>
                        <a:lnTo>
                          <a:pt x="1398" y="652"/>
                        </a:lnTo>
                        <a:lnTo>
                          <a:pt x="1398" y="648"/>
                        </a:lnTo>
                        <a:lnTo>
                          <a:pt x="1398" y="644"/>
                        </a:lnTo>
                        <a:lnTo>
                          <a:pt x="1398" y="643"/>
                        </a:lnTo>
                        <a:lnTo>
                          <a:pt x="1398" y="639"/>
                        </a:lnTo>
                        <a:lnTo>
                          <a:pt x="1396" y="637"/>
                        </a:lnTo>
                        <a:lnTo>
                          <a:pt x="1396" y="633"/>
                        </a:lnTo>
                        <a:lnTo>
                          <a:pt x="1396" y="631"/>
                        </a:lnTo>
                        <a:lnTo>
                          <a:pt x="1396" y="627"/>
                        </a:lnTo>
                        <a:lnTo>
                          <a:pt x="1396" y="623"/>
                        </a:lnTo>
                        <a:lnTo>
                          <a:pt x="1394" y="620"/>
                        </a:lnTo>
                        <a:lnTo>
                          <a:pt x="1394" y="618"/>
                        </a:lnTo>
                        <a:lnTo>
                          <a:pt x="1394" y="616"/>
                        </a:lnTo>
                        <a:lnTo>
                          <a:pt x="1392" y="612"/>
                        </a:lnTo>
                        <a:lnTo>
                          <a:pt x="1392" y="610"/>
                        </a:lnTo>
                        <a:lnTo>
                          <a:pt x="1392" y="608"/>
                        </a:lnTo>
                        <a:lnTo>
                          <a:pt x="1391" y="604"/>
                        </a:lnTo>
                        <a:lnTo>
                          <a:pt x="1391" y="603"/>
                        </a:lnTo>
                        <a:lnTo>
                          <a:pt x="1391" y="599"/>
                        </a:lnTo>
                        <a:lnTo>
                          <a:pt x="1389" y="597"/>
                        </a:lnTo>
                        <a:lnTo>
                          <a:pt x="1389" y="593"/>
                        </a:lnTo>
                        <a:lnTo>
                          <a:pt x="1389" y="589"/>
                        </a:lnTo>
                        <a:lnTo>
                          <a:pt x="1389" y="587"/>
                        </a:lnTo>
                        <a:lnTo>
                          <a:pt x="1387" y="585"/>
                        </a:lnTo>
                        <a:lnTo>
                          <a:pt x="1385" y="582"/>
                        </a:lnTo>
                        <a:lnTo>
                          <a:pt x="1385" y="580"/>
                        </a:lnTo>
                        <a:lnTo>
                          <a:pt x="1383" y="578"/>
                        </a:lnTo>
                        <a:lnTo>
                          <a:pt x="1383" y="572"/>
                        </a:lnTo>
                        <a:lnTo>
                          <a:pt x="1381" y="568"/>
                        </a:lnTo>
                        <a:lnTo>
                          <a:pt x="1377" y="563"/>
                        </a:lnTo>
                        <a:lnTo>
                          <a:pt x="1375" y="557"/>
                        </a:lnTo>
                        <a:lnTo>
                          <a:pt x="1373" y="553"/>
                        </a:lnTo>
                        <a:lnTo>
                          <a:pt x="1370" y="547"/>
                        </a:lnTo>
                        <a:lnTo>
                          <a:pt x="1366" y="544"/>
                        </a:lnTo>
                        <a:lnTo>
                          <a:pt x="1364" y="540"/>
                        </a:lnTo>
                        <a:lnTo>
                          <a:pt x="1360" y="536"/>
                        </a:lnTo>
                        <a:lnTo>
                          <a:pt x="1356" y="532"/>
                        </a:lnTo>
                        <a:lnTo>
                          <a:pt x="1353" y="528"/>
                        </a:lnTo>
                        <a:lnTo>
                          <a:pt x="1349" y="525"/>
                        </a:lnTo>
                        <a:lnTo>
                          <a:pt x="1345" y="523"/>
                        </a:lnTo>
                        <a:lnTo>
                          <a:pt x="1339" y="521"/>
                        </a:lnTo>
                        <a:lnTo>
                          <a:pt x="1335" y="517"/>
                        </a:lnTo>
                        <a:lnTo>
                          <a:pt x="1332" y="515"/>
                        </a:lnTo>
                        <a:lnTo>
                          <a:pt x="1326" y="515"/>
                        </a:lnTo>
                        <a:lnTo>
                          <a:pt x="1322" y="513"/>
                        </a:lnTo>
                        <a:lnTo>
                          <a:pt x="1318" y="511"/>
                        </a:lnTo>
                        <a:lnTo>
                          <a:pt x="1316" y="511"/>
                        </a:lnTo>
                        <a:lnTo>
                          <a:pt x="1313" y="511"/>
                        </a:lnTo>
                        <a:lnTo>
                          <a:pt x="1311" y="511"/>
                        </a:lnTo>
                        <a:lnTo>
                          <a:pt x="1309" y="509"/>
                        </a:lnTo>
                        <a:lnTo>
                          <a:pt x="1305" y="509"/>
                        </a:lnTo>
                        <a:lnTo>
                          <a:pt x="1303" y="509"/>
                        </a:lnTo>
                        <a:lnTo>
                          <a:pt x="1301" y="509"/>
                        </a:lnTo>
                        <a:lnTo>
                          <a:pt x="1297" y="509"/>
                        </a:lnTo>
                        <a:lnTo>
                          <a:pt x="1295" y="509"/>
                        </a:lnTo>
                        <a:lnTo>
                          <a:pt x="1292" y="509"/>
                        </a:lnTo>
                        <a:lnTo>
                          <a:pt x="1290" y="509"/>
                        </a:lnTo>
                        <a:lnTo>
                          <a:pt x="1284" y="509"/>
                        </a:lnTo>
                        <a:lnTo>
                          <a:pt x="1280" y="509"/>
                        </a:lnTo>
                        <a:lnTo>
                          <a:pt x="1275" y="509"/>
                        </a:lnTo>
                        <a:lnTo>
                          <a:pt x="1269" y="509"/>
                        </a:lnTo>
                        <a:lnTo>
                          <a:pt x="1265" y="509"/>
                        </a:lnTo>
                        <a:lnTo>
                          <a:pt x="1259" y="509"/>
                        </a:lnTo>
                        <a:lnTo>
                          <a:pt x="1256" y="511"/>
                        </a:lnTo>
                        <a:lnTo>
                          <a:pt x="1252" y="511"/>
                        </a:lnTo>
                        <a:lnTo>
                          <a:pt x="1246" y="515"/>
                        </a:lnTo>
                        <a:lnTo>
                          <a:pt x="1242" y="515"/>
                        </a:lnTo>
                        <a:lnTo>
                          <a:pt x="1238" y="517"/>
                        </a:lnTo>
                        <a:lnTo>
                          <a:pt x="1235" y="521"/>
                        </a:lnTo>
                        <a:lnTo>
                          <a:pt x="1231" y="523"/>
                        </a:lnTo>
                        <a:lnTo>
                          <a:pt x="1229" y="525"/>
                        </a:lnTo>
                        <a:lnTo>
                          <a:pt x="1225" y="527"/>
                        </a:lnTo>
                        <a:lnTo>
                          <a:pt x="1221" y="530"/>
                        </a:lnTo>
                        <a:lnTo>
                          <a:pt x="1219" y="532"/>
                        </a:lnTo>
                        <a:lnTo>
                          <a:pt x="1216" y="538"/>
                        </a:lnTo>
                        <a:lnTo>
                          <a:pt x="1214" y="542"/>
                        </a:lnTo>
                        <a:lnTo>
                          <a:pt x="1212" y="546"/>
                        </a:lnTo>
                        <a:lnTo>
                          <a:pt x="1210" y="549"/>
                        </a:lnTo>
                        <a:lnTo>
                          <a:pt x="1208" y="555"/>
                        </a:lnTo>
                        <a:lnTo>
                          <a:pt x="1208" y="557"/>
                        </a:lnTo>
                        <a:lnTo>
                          <a:pt x="1206" y="559"/>
                        </a:lnTo>
                        <a:lnTo>
                          <a:pt x="1204" y="561"/>
                        </a:lnTo>
                        <a:lnTo>
                          <a:pt x="1204" y="565"/>
                        </a:lnTo>
                        <a:lnTo>
                          <a:pt x="1204" y="566"/>
                        </a:lnTo>
                        <a:lnTo>
                          <a:pt x="1204" y="570"/>
                        </a:lnTo>
                        <a:lnTo>
                          <a:pt x="1204" y="572"/>
                        </a:lnTo>
                        <a:lnTo>
                          <a:pt x="1204" y="576"/>
                        </a:lnTo>
                        <a:lnTo>
                          <a:pt x="1139" y="895"/>
                        </a:lnTo>
                        <a:lnTo>
                          <a:pt x="1136" y="893"/>
                        </a:lnTo>
                        <a:lnTo>
                          <a:pt x="1132" y="892"/>
                        </a:lnTo>
                        <a:lnTo>
                          <a:pt x="1126" y="888"/>
                        </a:lnTo>
                        <a:lnTo>
                          <a:pt x="1122" y="886"/>
                        </a:lnTo>
                        <a:lnTo>
                          <a:pt x="1117" y="884"/>
                        </a:lnTo>
                        <a:lnTo>
                          <a:pt x="1113" y="880"/>
                        </a:lnTo>
                        <a:lnTo>
                          <a:pt x="1107" y="878"/>
                        </a:lnTo>
                        <a:lnTo>
                          <a:pt x="1105" y="876"/>
                        </a:lnTo>
                        <a:lnTo>
                          <a:pt x="1227" y="316"/>
                        </a:lnTo>
                        <a:lnTo>
                          <a:pt x="1227" y="312"/>
                        </a:lnTo>
                        <a:lnTo>
                          <a:pt x="1227" y="308"/>
                        </a:lnTo>
                        <a:lnTo>
                          <a:pt x="1229" y="306"/>
                        </a:lnTo>
                        <a:lnTo>
                          <a:pt x="1229" y="304"/>
                        </a:lnTo>
                        <a:lnTo>
                          <a:pt x="1229" y="300"/>
                        </a:lnTo>
                        <a:lnTo>
                          <a:pt x="1229" y="298"/>
                        </a:lnTo>
                        <a:lnTo>
                          <a:pt x="1229" y="295"/>
                        </a:lnTo>
                        <a:lnTo>
                          <a:pt x="1229" y="293"/>
                        </a:lnTo>
                        <a:lnTo>
                          <a:pt x="1229" y="291"/>
                        </a:lnTo>
                        <a:lnTo>
                          <a:pt x="1229" y="287"/>
                        </a:lnTo>
                        <a:lnTo>
                          <a:pt x="1229" y="285"/>
                        </a:lnTo>
                        <a:lnTo>
                          <a:pt x="1229" y="283"/>
                        </a:lnTo>
                        <a:lnTo>
                          <a:pt x="1229" y="278"/>
                        </a:lnTo>
                        <a:lnTo>
                          <a:pt x="1227" y="272"/>
                        </a:lnTo>
                        <a:lnTo>
                          <a:pt x="1225" y="268"/>
                        </a:lnTo>
                        <a:lnTo>
                          <a:pt x="1225" y="262"/>
                        </a:lnTo>
                        <a:lnTo>
                          <a:pt x="1223" y="257"/>
                        </a:lnTo>
                        <a:lnTo>
                          <a:pt x="1221" y="253"/>
                        </a:lnTo>
                        <a:lnTo>
                          <a:pt x="1219" y="247"/>
                        </a:lnTo>
                        <a:lnTo>
                          <a:pt x="1217" y="243"/>
                        </a:lnTo>
                        <a:lnTo>
                          <a:pt x="1216" y="240"/>
                        </a:lnTo>
                        <a:lnTo>
                          <a:pt x="1214" y="236"/>
                        </a:lnTo>
                        <a:lnTo>
                          <a:pt x="1210" y="232"/>
                        </a:lnTo>
                        <a:lnTo>
                          <a:pt x="1206" y="226"/>
                        </a:lnTo>
                        <a:lnTo>
                          <a:pt x="1202" y="222"/>
                        </a:lnTo>
                        <a:lnTo>
                          <a:pt x="1200" y="219"/>
                        </a:lnTo>
                        <a:lnTo>
                          <a:pt x="1197" y="215"/>
                        </a:lnTo>
                        <a:lnTo>
                          <a:pt x="1193" y="211"/>
                        </a:lnTo>
                        <a:lnTo>
                          <a:pt x="1189" y="207"/>
                        </a:lnTo>
                        <a:lnTo>
                          <a:pt x="1185" y="205"/>
                        </a:lnTo>
                        <a:lnTo>
                          <a:pt x="1179" y="203"/>
                        </a:lnTo>
                        <a:lnTo>
                          <a:pt x="1176" y="200"/>
                        </a:lnTo>
                        <a:lnTo>
                          <a:pt x="1172" y="198"/>
                        </a:lnTo>
                        <a:lnTo>
                          <a:pt x="1166" y="194"/>
                        </a:lnTo>
                        <a:lnTo>
                          <a:pt x="1160" y="192"/>
                        </a:lnTo>
                        <a:lnTo>
                          <a:pt x="1157" y="192"/>
                        </a:lnTo>
                        <a:lnTo>
                          <a:pt x="1151" y="190"/>
                        </a:lnTo>
                        <a:lnTo>
                          <a:pt x="1147" y="190"/>
                        </a:lnTo>
                        <a:lnTo>
                          <a:pt x="1143" y="188"/>
                        </a:lnTo>
                        <a:lnTo>
                          <a:pt x="1141" y="186"/>
                        </a:lnTo>
                        <a:lnTo>
                          <a:pt x="1138" y="186"/>
                        </a:lnTo>
                        <a:lnTo>
                          <a:pt x="1136" y="186"/>
                        </a:lnTo>
                        <a:lnTo>
                          <a:pt x="1134" y="186"/>
                        </a:lnTo>
                        <a:lnTo>
                          <a:pt x="1130" y="186"/>
                        </a:lnTo>
                        <a:lnTo>
                          <a:pt x="1128" y="186"/>
                        </a:lnTo>
                        <a:lnTo>
                          <a:pt x="1124" y="186"/>
                        </a:lnTo>
                        <a:lnTo>
                          <a:pt x="1122" y="186"/>
                        </a:lnTo>
                        <a:lnTo>
                          <a:pt x="1120" y="186"/>
                        </a:lnTo>
                        <a:lnTo>
                          <a:pt x="1117" y="186"/>
                        </a:lnTo>
                        <a:lnTo>
                          <a:pt x="1115" y="186"/>
                        </a:lnTo>
                        <a:lnTo>
                          <a:pt x="1109" y="186"/>
                        </a:lnTo>
                        <a:lnTo>
                          <a:pt x="1105" y="188"/>
                        </a:lnTo>
                        <a:lnTo>
                          <a:pt x="1100" y="188"/>
                        </a:lnTo>
                        <a:lnTo>
                          <a:pt x="1094" y="190"/>
                        </a:lnTo>
                        <a:lnTo>
                          <a:pt x="1090" y="192"/>
                        </a:lnTo>
                        <a:lnTo>
                          <a:pt x="1086" y="192"/>
                        </a:lnTo>
                        <a:lnTo>
                          <a:pt x="1081" y="194"/>
                        </a:lnTo>
                        <a:lnTo>
                          <a:pt x="1077" y="198"/>
                        </a:lnTo>
                        <a:lnTo>
                          <a:pt x="1073" y="200"/>
                        </a:lnTo>
                        <a:lnTo>
                          <a:pt x="1067" y="203"/>
                        </a:lnTo>
                        <a:lnTo>
                          <a:pt x="1063" y="205"/>
                        </a:lnTo>
                        <a:lnTo>
                          <a:pt x="1058" y="207"/>
                        </a:lnTo>
                        <a:lnTo>
                          <a:pt x="1054" y="211"/>
                        </a:lnTo>
                        <a:lnTo>
                          <a:pt x="1050" y="215"/>
                        </a:lnTo>
                        <a:lnTo>
                          <a:pt x="1048" y="219"/>
                        </a:lnTo>
                        <a:lnTo>
                          <a:pt x="1044" y="222"/>
                        </a:lnTo>
                        <a:lnTo>
                          <a:pt x="1041" y="226"/>
                        </a:lnTo>
                        <a:lnTo>
                          <a:pt x="1039" y="232"/>
                        </a:lnTo>
                        <a:lnTo>
                          <a:pt x="1035" y="234"/>
                        </a:lnTo>
                        <a:lnTo>
                          <a:pt x="1033" y="240"/>
                        </a:lnTo>
                        <a:lnTo>
                          <a:pt x="1029" y="243"/>
                        </a:lnTo>
                        <a:lnTo>
                          <a:pt x="1027" y="249"/>
                        </a:lnTo>
                        <a:lnTo>
                          <a:pt x="1025" y="253"/>
                        </a:lnTo>
                        <a:lnTo>
                          <a:pt x="1023" y="259"/>
                        </a:lnTo>
                        <a:lnTo>
                          <a:pt x="1022" y="260"/>
                        </a:lnTo>
                        <a:lnTo>
                          <a:pt x="1022" y="264"/>
                        </a:lnTo>
                        <a:lnTo>
                          <a:pt x="1022" y="266"/>
                        </a:lnTo>
                        <a:lnTo>
                          <a:pt x="1022" y="270"/>
                        </a:lnTo>
                        <a:lnTo>
                          <a:pt x="919" y="730"/>
                        </a:lnTo>
                        <a:lnTo>
                          <a:pt x="915" y="728"/>
                        </a:lnTo>
                        <a:lnTo>
                          <a:pt x="913" y="726"/>
                        </a:lnTo>
                        <a:lnTo>
                          <a:pt x="907" y="724"/>
                        </a:lnTo>
                        <a:lnTo>
                          <a:pt x="905" y="720"/>
                        </a:lnTo>
                        <a:lnTo>
                          <a:pt x="904" y="719"/>
                        </a:lnTo>
                        <a:lnTo>
                          <a:pt x="900" y="717"/>
                        </a:lnTo>
                        <a:lnTo>
                          <a:pt x="896" y="713"/>
                        </a:lnTo>
                        <a:lnTo>
                          <a:pt x="892" y="713"/>
                        </a:lnTo>
                        <a:lnTo>
                          <a:pt x="1022" y="129"/>
                        </a:lnTo>
                        <a:lnTo>
                          <a:pt x="1022" y="125"/>
                        </a:lnTo>
                        <a:lnTo>
                          <a:pt x="1022" y="124"/>
                        </a:lnTo>
                        <a:lnTo>
                          <a:pt x="1022" y="120"/>
                        </a:lnTo>
                        <a:lnTo>
                          <a:pt x="1022" y="118"/>
                        </a:lnTo>
                        <a:lnTo>
                          <a:pt x="1022" y="114"/>
                        </a:lnTo>
                        <a:lnTo>
                          <a:pt x="1022" y="112"/>
                        </a:lnTo>
                        <a:lnTo>
                          <a:pt x="1022" y="110"/>
                        </a:lnTo>
                        <a:lnTo>
                          <a:pt x="1022" y="106"/>
                        </a:lnTo>
                        <a:lnTo>
                          <a:pt x="1022" y="105"/>
                        </a:lnTo>
                        <a:lnTo>
                          <a:pt x="1022" y="103"/>
                        </a:lnTo>
                        <a:lnTo>
                          <a:pt x="1022" y="99"/>
                        </a:lnTo>
                        <a:lnTo>
                          <a:pt x="1022" y="97"/>
                        </a:lnTo>
                        <a:lnTo>
                          <a:pt x="1022" y="91"/>
                        </a:lnTo>
                        <a:lnTo>
                          <a:pt x="1022" y="86"/>
                        </a:lnTo>
                        <a:lnTo>
                          <a:pt x="1020" y="82"/>
                        </a:lnTo>
                        <a:lnTo>
                          <a:pt x="1018" y="76"/>
                        </a:lnTo>
                        <a:lnTo>
                          <a:pt x="1016" y="70"/>
                        </a:lnTo>
                        <a:lnTo>
                          <a:pt x="1014" y="67"/>
                        </a:lnTo>
                        <a:lnTo>
                          <a:pt x="1012" y="61"/>
                        </a:lnTo>
                        <a:lnTo>
                          <a:pt x="1010" y="57"/>
                        </a:lnTo>
                        <a:lnTo>
                          <a:pt x="1008" y="53"/>
                        </a:lnTo>
                        <a:lnTo>
                          <a:pt x="1006" y="48"/>
                        </a:lnTo>
                        <a:lnTo>
                          <a:pt x="1004" y="44"/>
                        </a:lnTo>
                        <a:lnTo>
                          <a:pt x="1001" y="40"/>
                        </a:lnTo>
                        <a:lnTo>
                          <a:pt x="997" y="36"/>
                        </a:lnTo>
                        <a:lnTo>
                          <a:pt x="993" y="32"/>
                        </a:lnTo>
                        <a:lnTo>
                          <a:pt x="991" y="29"/>
                        </a:lnTo>
                        <a:lnTo>
                          <a:pt x="985" y="25"/>
                        </a:lnTo>
                        <a:lnTo>
                          <a:pt x="983" y="23"/>
                        </a:lnTo>
                        <a:lnTo>
                          <a:pt x="978" y="19"/>
                        </a:lnTo>
                        <a:lnTo>
                          <a:pt x="972" y="17"/>
                        </a:lnTo>
                        <a:lnTo>
                          <a:pt x="968" y="13"/>
                        </a:lnTo>
                        <a:lnTo>
                          <a:pt x="964" y="11"/>
                        </a:lnTo>
                        <a:lnTo>
                          <a:pt x="961" y="10"/>
                        </a:lnTo>
                        <a:lnTo>
                          <a:pt x="955" y="6"/>
                        </a:lnTo>
                        <a:lnTo>
                          <a:pt x="949" y="6"/>
                        </a:lnTo>
                        <a:lnTo>
                          <a:pt x="944" y="4"/>
                        </a:lnTo>
                        <a:lnTo>
                          <a:pt x="940" y="4"/>
                        </a:lnTo>
                        <a:lnTo>
                          <a:pt x="936" y="2"/>
                        </a:lnTo>
                        <a:lnTo>
                          <a:pt x="934" y="2"/>
                        </a:lnTo>
                        <a:lnTo>
                          <a:pt x="932" y="0"/>
                        </a:lnTo>
                        <a:lnTo>
                          <a:pt x="928" y="0"/>
                        </a:lnTo>
                        <a:lnTo>
                          <a:pt x="926" y="0"/>
                        </a:lnTo>
                        <a:lnTo>
                          <a:pt x="925" y="0"/>
                        </a:lnTo>
                        <a:lnTo>
                          <a:pt x="921" y="0"/>
                        </a:lnTo>
                        <a:lnTo>
                          <a:pt x="919" y="0"/>
                        </a:lnTo>
                        <a:lnTo>
                          <a:pt x="915" y="0"/>
                        </a:lnTo>
                        <a:lnTo>
                          <a:pt x="913" y="0"/>
                        </a:lnTo>
                        <a:lnTo>
                          <a:pt x="911" y="0"/>
                        </a:lnTo>
                        <a:lnTo>
                          <a:pt x="907" y="0"/>
                        </a:lnTo>
                        <a:lnTo>
                          <a:pt x="904" y="0"/>
                        </a:lnTo>
                        <a:lnTo>
                          <a:pt x="898" y="2"/>
                        </a:lnTo>
                        <a:lnTo>
                          <a:pt x="896" y="2"/>
                        </a:lnTo>
                        <a:lnTo>
                          <a:pt x="892" y="2"/>
                        </a:lnTo>
                        <a:lnTo>
                          <a:pt x="890" y="2"/>
                        </a:lnTo>
                        <a:lnTo>
                          <a:pt x="888" y="4"/>
                        </a:lnTo>
                        <a:lnTo>
                          <a:pt x="881" y="4"/>
                        </a:lnTo>
                        <a:lnTo>
                          <a:pt x="877" y="6"/>
                        </a:lnTo>
                        <a:lnTo>
                          <a:pt x="873" y="10"/>
                        </a:lnTo>
                        <a:lnTo>
                          <a:pt x="867" y="11"/>
                        </a:lnTo>
                        <a:lnTo>
                          <a:pt x="864" y="15"/>
                        </a:lnTo>
                        <a:lnTo>
                          <a:pt x="860" y="17"/>
                        </a:lnTo>
                        <a:lnTo>
                          <a:pt x="854" y="19"/>
                        </a:lnTo>
                        <a:lnTo>
                          <a:pt x="850" y="23"/>
                        </a:lnTo>
                        <a:lnTo>
                          <a:pt x="847" y="25"/>
                        </a:lnTo>
                        <a:lnTo>
                          <a:pt x="843" y="29"/>
                        </a:lnTo>
                        <a:lnTo>
                          <a:pt x="839" y="32"/>
                        </a:lnTo>
                        <a:lnTo>
                          <a:pt x="835" y="36"/>
                        </a:lnTo>
                        <a:lnTo>
                          <a:pt x="833" y="40"/>
                        </a:lnTo>
                        <a:lnTo>
                          <a:pt x="831" y="44"/>
                        </a:lnTo>
                        <a:lnTo>
                          <a:pt x="828" y="48"/>
                        </a:lnTo>
                        <a:lnTo>
                          <a:pt x="824" y="53"/>
                        </a:lnTo>
                        <a:lnTo>
                          <a:pt x="822" y="57"/>
                        </a:lnTo>
                        <a:lnTo>
                          <a:pt x="820" y="61"/>
                        </a:lnTo>
                        <a:lnTo>
                          <a:pt x="818" y="67"/>
                        </a:lnTo>
                        <a:lnTo>
                          <a:pt x="816" y="70"/>
                        </a:lnTo>
                        <a:lnTo>
                          <a:pt x="816" y="74"/>
                        </a:lnTo>
                        <a:lnTo>
                          <a:pt x="814" y="76"/>
                        </a:lnTo>
                        <a:lnTo>
                          <a:pt x="812" y="82"/>
                        </a:lnTo>
                        <a:lnTo>
                          <a:pt x="812" y="84"/>
                        </a:lnTo>
                        <a:lnTo>
                          <a:pt x="687" y="663"/>
                        </a:lnTo>
                        <a:lnTo>
                          <a:pt x="681" y="663"/>
                        </a:lnTo>
                        <a:lnTo>
                          <a:pt x="677" y="663"/>
                        </a:lnTo>
                        <a:lnTo>
                          <a:pt x="673" y="663"/>
                        </a:lnTo>
                        <a:lnTo>
                          <a:pt x="670" y="663"/>
                        </a:lnTo>
                        <a:lnTo>
                          <a:pt x="666" y="663"/>
                        </a:lnTo>
                        <a:lnTo>
                          <a:pt x="660" y="665"/>
                        </a:lnTo>
                        <a:lnTo>
                          <a:pt x="656" y="665"/>
                        </a:lnTo>
                        <a:lnTo>
                          <a:pt x="652" y="667"/>
                        </a:lnTo>
                        <a:lnTo>
                          <a:pt x="753" y="213"/>
                        </a:lnTo>
                        <a:lnTo>
                          <a:pt x="753" y="209"/>
                        </a:lnTo>
                        <a:lnTo>
                          <a:pt x="753" y="207"/>
                        </a:lnTo>
                        <a:lnTo>
                          <a:pt x="753" y="203"/>
                        </a:lnTo>
                        <a:lnTo>
                          <a:pt x="753" y="201"/>
                        </a:lnTo>
                        <a:lnTo>
                          <a:pt x="753" y="198"/>
                        </a:lnTo>
                        <a:lnTo>
                          <a:pt x="753" y="196"/>
                        </a:lnTo>
                        <a:lnTo>
                          <a:pt x="753" y="192"/>
                        </a:lnTo>
                        <a:lnTo>
                          <a:pt x="753" y="190"/>
                        </a:lnTo>
                        <a:lnTo>
                          <a:pt x="753" y="188"/>
                        </a:lnTo>
                        <a:lnTo>
                          <a:pt x="753" y="184"/>
                        </a:lnTo>
                        <a:lnTo>
                          <a:pt x="753" y="182"/>
                        </a:lnTo>
                        <a:lnTo>
                          <a:pt x="753" y="181"/>
                        </a:lnTo>
                        <a:lnTo>
                          <a:pt x="753" y="175"/>
                        </a:lnTo>
                        <a:lnTo>
                          <a:pt x="753" y="169"/>
                        </a:lnTo>
                        <a:lnTo>
                          <a:pt x="751" y="167"/>
                        </a:lnTo>
                        <a:lnTo>
                          <a:pt x="751" y="163"/>
                        </a:lnTo>
                        <a:lnTo>
                          <a:pt x="751" y="162"/>
                        </a:lnTo>
                        <a:lnTo>
                          <a:pt x="750" y="160"/>
                        </a:lnTo>
                        <a:lnTo>
                          <a:pt x="748" y="154"/>
                        </a:lnTo>
                        <a:lnTo>
                          <a:pt x="746" y="148"/>
                        </a:lnTo>
                        <a:lnTo>
                          <a:pt x="744" y="144"/>
                        </a:lnTo>
                        <a:lnTo>
                          <a:pt x="742" y="141"/>
                        </a:lnTo>
                        <a:lnTo>
                          <a:pt x="740" y="135"/>
                        </a:lnTo>
                        <a:lnTo>
                          <a:pt x="738" y="131"/>
                        </a:lnTo>
                        <a:lnTo>
                          <a:pt x="734" y="127"/>
                        </a:lnTo>
                        <a:lnTo>
                          <a:pt x="730" y="124"/>
                        </a:lnTo>
                        <a:lnTo>
                          <a:pt x="727" y="120"/>
                        </a:lnTo>
                        <a:lnTo>
                          <a:pt x="725" y="116"/>
                        </a:lnTo>
                        <a:lnTo>
                          <a:pt x="721" y="112"/>
                        </a:lnTo>
                        <a:lnTo>
                          <a:pt x="717" y="108"/>
                        </a:lnTo>
                        <a:lnTo>
                          <a:pt x="713" y="105"/>
                        </a:lnTo>
                        <a:lnTo>
                          <a:pt x="710" y="103"/>
                        </a:lnTo>
                        <a:lnTo>
                          <a:pt x="704" y="99"/>
                        </a:lnTo>
                        <a:lnTo>
                          <a:pt x="700" y="97"/>
                        </a:lnTo>
                        <a:lnTo>
                          <a:pt x="694" y="95"/>
                        </a:lnTo>
                        <a:lnTo>
                          <a:pt x="691" y="91"/>
                        </a:lnTo>
                        <a:lnTo>
                          <a:pt x="685" y="89"/>
                        </a:lnTo>
                        <a:lnTo>
                          <a:pt x="681" y="87"/>
                        </a:lnTo>
                        <a:lnTo>
                          <a:pt x="675" y="86"/>
                        </a:lnTo>
                        <a:lnTo>
                          <a:pt x="672" y="86"/>
                        </a:lnTo>
                        <a:lnTo>
                          <a:pt x="668" y="84"/>
                        </a:lnTo>
                        <a:lnTo>
                          <a:pt x="666" y="84"/>
                        </a:lnTo>
                        <a:lnTo>
                          <a:pt x="664" y="84"/>
                        </a:lnTo>
                        <a:lnTo>
                          <a:pt x="660" y="84"/>
                        </a:lnTo>
                        <a:lnTo>
                          <a:pt x="658" y="84"/>
                        </a:lnTo>
                        <a:lnTo>
                          <a:pt x="654" y="84"/>
                        </a:lnTo>
                        <a:lnTo>
                          <a:pt x="652" y="84"/>
                        </a:lnTo>
                        <a:lnTo>
                          <a:pt x="651" y="84"/>
                        </a:lnTo>
                        <a:lnTo>
                          <a:pt x="647" y="84"/>
                        </a:lnTo>
                        <a:lnTo>
                          <a:pt x="645" y="84"/>
                        </a:lnTo>
                        <a:lnTo>
                          <a:pt x="643" y="84"/>
                        </a:lnTo>
                        <a:lnTo>
                          <a:pt x="639" y="84"/>
                        </a:lnTo>
                        <a:lnTo>
                          <a:pt x="635" y="84"/>
                        </a:lnTo>
                        <a:lnTo>
                          <a:pt x="630" y="84"/>
                        </a:lnTo>
                        <a:lnTo>
                          <a:pt x="628" y="84"/>
                        </a:lnTo>
                        <a:lnTo>
                          <a:pt x="624" y="86"/>
                        </a:lnTo>
                        <a:lnTo>
                          <a:pt x="622" y="86"/>
                        </a:lnTo>
                        <a:lnTo>
                          <a:pt x="618" y="86"/>
                        </a:lnTo>
                        <a:lnTo>
                          <a:pt x="614" y="87"/>
                        </a:lnTo>
                        <a:lnTo>
                          <a:pt x="609" y="89"/>
                        </a:lnTo>
                        <a:lnTo>
                          <a:pt x="603" y="91"/>
                        </a:lnTo>
                        <a:lnTo>
                          <a:pt x="599" y="95"/>
                        </a:lnTo>
                        <a:lnTo>
                          <a:pt x="595" y="97"/>
                        </a:lnTo>
                        <a:lnTo>
                          <a:pt x="592" y="99"/>
                        </a:lnTo>
                        <a:lnTo>
                          <a:pt x="586" y="103"/>
                        </a:lnTo>
                        <a:lnTo>
                          <a:pt x="582" y="105"/>
                        </a:lnTo>
                        <a:lnTo>
                          <a:pt x="578" y="108"/>
                        </a:lnTo>
                        <a:lnTo>
                          <a:pt x="574" y="112"/>
                        </a:lnTo>
                        <a:lnTo>
                          <a:pt x="571" y="116"/>
                        </a:lnTo>
                        <a:lnTo>
                          <a:pt x="567" y="120"/>
                        </a:lnTo>
                        <a:lnTo>
                          <a:pt x="565" y="124"/>
                        </a:lnTo>
                        <a:lnTo>
                          <a:pt x="563" y="127"/>
                        </a:lnTo>
                        <a:lnTo>
                          <a:pt x="559" y="131"/>
                        </a:lnTo>
                        <a:lnTo>
                          <a:pt x="555" y="135"/>
                        </a:lnTo>
                        <a:lnTo>
                          <a:pt x="554" y="141"/>
                        </a:lnTo>
                        <a:lnTo>
                          <a:pt x="552" y="146"/>
                        </a:lnTo>
                        <a:lnTo>
                          <a:pt x="550" y="150"/>
                        </a:lnTo>
                        <a:lnTo>
                          <a:pt x="548" y="156"/>
                        </a:lnTo>
                        <a:lnTo>
                          <a:pt x="546" y="158"/>
                        </a:lnTo>
                        <a:lnTo>
                          <a:pt x="546" y="160"/>
                        </a:lnTo>
                        <a:lnTo>
                          <a:pt x="544" y="163"/>
                        </a:lnTo>
                        <a:lnTo>
                          <a:pt x="544" y="167"/>
                        </a:lnTo>
                        <a:lnTo>
                          <a:pt x="361" y="1127"/>
                        </a:lnTo>
                        <a:lnTo>
                          <a:pt x="361" y="1127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0" name="AutoShape 486"/>
                <p:cNvSpPr/>
                <p:nvPr/>
              </p:nvSpPr>
              <p:spPr>
                <a:xfrm rot="3250200">
                  <a:off x="4091400" y="3525480"/>
                  <a:ext cx="87840" cy="75600"/>
                </a:xfrm>
                <a:prstGeom prst="hexagon">
                  <a:avLst>
                    <a:gd name="adj" fmla="val 29048"/>
                    <a:gd name="vf" fmla="val 115470"/>
                  </a:avLst>
                </a:prstGeom>
                <a:solidFill>
                  <a:srgbClr val="ff000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AutoShape 487"/>
                <p:cNvSpPr/>
                <p:nvPr/>
              </p:nvSpPr>
              <p:spPr>
                <a:xfrm rot="3281400">
                  <a:off x="3740040" y="3746880"/>
                  <a:ext cx="191520" cy="5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4308" y="21600"/>
                      </a:lnTo>
                      <a:lnTo>
                        <a:pt x="17292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2" name="AutoShape 488"/>
              <p:cNvSpPr/>
              <p:nvPr/>
            </p:nvSpPr>
            <p:spPr>
              <a:xfrm rot="10374000">
                <a:off x="4110840" y="3875400"/>
                <a:ext cx="115920" cy="108360"/>
              </a:xfrm>
              <a:custGeom>
                <a:avLst/>
                <a:gdLst/>
                <a:ahLst/>
                <a:rect l="l" t="t" r="r" b="b"/>
                <a:pathLst>
                  <a:path w="73" h="69">
                    <a:moveTo>
                      <a:pt x="0" y="26"/>
                    </a:moveTo>
                    <a:lnTo>
                      <a:pt x="27" y="26"/>
                    </a:lnTo>
                    <a:lnTo>
                      <a:pt x="36" y="0"/>
                    </a:lnTo>
                    <a:lnTo>
                      <a:pt x="45" y="26"/>
                    </a:lnTo>
                    <a:lnTo>
                      <a:pt x="72" y="26"/>
                    </a:lnTo>
                    <a:lnTo>
                      <a:pt x="50" y="42"/>
                    </a:lnTo>
                    <a:lnTo>
                      <a:pt x="59" y="68"/>
                    </a:lnTo>
                    <a:lnTo>
                      <a:pt x="36" y="52"/>
                    </a:lnTo>
                    <a:lnTo>
                      <a:pt x="13" y="68"/>
                    </a:lnTo>
                    <a:lnTo>
                      <a:pt x="22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3" name="Group 490"/>
          <p:cNvGrpSpPr/>
          <p:nvPr/>
        </p:nvGrpSpPr>
        <p:grpSpPr>
          <a:xfrm>
            <a:off x="4930560" y="3703680"/>
            <a:ext cx="1085760" cy="766080"/>
            <a:chOff x="4930560" y="3703680"/>
            <a:chExt cx="1085760" cy="766080"/>
          </a:xfrm>
        </p:grpSpPr>
        <p:grpSp>
          <p:nvGrpSpPr>
            <p:cNvPr id="1104" name="Group 491"/>
            <p:cNvGrpSpPr/>
            <p:nvPr/>
          </p:nvGrpSpPr>
          <p:grpSpPr>
            <a:xfrm>
              <a:off x="5329440" y="3823920"/>
              <a:ext cx="686880" cy="568800"/>
              <a:chOff x="5329440" y="3823920"/>
              <a:chExt cx="686880" cy="568800"/>
            </a:xfrm>
          </p:grpSpPr>
          <p:sp>
            <p:nvSpPr>
              <p:cNvPr id="1105" name="AutoShape 492"/>
              <p:cNvSpPr/>
              <p:nvPr/>
            </p:nvSpPr>
            <p:spPr>
              <a:xfrm rot="8202000">
                <a:off x="5434560" y="3854880"/>
                <a:ext cx="252720" cy="40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700" y="21600"/>
                    </a:lnTo>
                    <a:lnTo>
                      <a:pt x="189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6" name="Group 493"/>
              <p:cNvGrpSpPr/>
              <p:nvPr/>
            </p:nvGrpSpPr>
            <p:grpSpPr>
              <a:xfrm>
                <a:off x="5603400" y="3990960"/>
                <a:ext cx="412920" cy="401760"/>
                <a:chOff x="5603400" y="3990960"/>
                <a:chExt cx="412920" cy="401760"/>
              </a:xfrm>
            </p:grpSpPr>
            <p:grpSp>
              <p:nvGrpSpPr>
                <p:cNvPr id="1107" name="Group 494"/>
                <p:cNvGrpSpPr/>
                <p:nvPr/>
              </p:nvGrpSpPr>
              <p:grpSpPr>
                <a:xfrm>
                  <a:off x="5603400" y="3990960"/>
                  <a:ext cx="412920" cy="401760"/>
                  <a:chOff x="5603400" y="3990960"/>
                  <a:chExt cx="412920" cy="401760"/>
                </a:xfrm>
              </p:grpSpPr>
              <p:grpSp>
                <p:nvGrpSpPr>
                  <p:cNvPr id="1108" name="Group 495"/>
                  <p:cNvGrpSpPr/>
                  <p:nvPr/>
                </p:nvGrpSpPr>
                <p:grpSpPr>
                  <a:xfrm>
                    <a:off x="5603400" y="3990960"/>
                    <a:ext cx="412920" cy="401760"/>
                    <a:chOff x="5603400" y="3990960"/>
                    <a:chExt cx="412920" cy="401760"/>
                  </a:xfrm>
                </p:grpSpPr>
                <p:sp>
                  <p:nvSpPr>
                    <p:cNvPr id="1109" name="Rectangle 496"/>
                    <p:cNvSpPr/>
                    <p:nvPr/>
                  </p:nvSpPr>
                  <p:spPr>
                    <a:xfrm rot="19002000">
                      <a:off x="5607000" y="4178520"/>
                      <a:ext cx="298440" cy="1292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0" name="Freeform 497"/>
                    <p:cNvSpPr/>
                    <p:nvPr/>
                  </p:nvSpPr>
                  <p:spPr>
                    <a:xfrm rot="19002000">
                      <a:off x="5843520" y="4024440"/>
                      <a:ext cx="149040" cy="12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2" h="672">
                          <a:moveTo>
                            <a:pt x="0" y="0"/>
                          </a:moveTo>
                          <a:lnTo>
                            <a:pt x="672" y="528"/>
                          </a:lnTo>
                          <a:lnTo>
                            <a:pt x="672" y="672"/>
                          </a:lnTo>
                          <a:lnTo>
                            <a:pt x="0" y="67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1" name=""/>
                  <p:cNvGrpSpPr/>
                  <p:nvPr/>
                </p:nvGrpSpPr>
                <p:grpSpPr>
                  <a:xfrm>
                    <a:off x="5672160" y="4059360"/>
                    <a:ext cx="331560" cy="312840"/>
                    <a:chOff x="5672160" y="4059360"/>
                    <a:chExt cx="331560" cy="312840"/>
                  </a:xfrm>
                </p:grpSpPr>
                <p:sp>
                  <p:nvSpPr>
                    <p:cNvPr id="1112" name="Line 498"/>
                    <p:cNvSpPr/>
                    <p:nvPr/>
                  </p:nvSpPr>
                  <p:spPr>
                    <a:xfrm flipV="1">
                      <a:off x="5672160" y="4059360"/>
                      <a:ext cx="331560" cy="31248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3" name=""/>
                    <p:cNvSpPr txBox="1"/>
                    <p:nvPr/>
                  </p:nvSpPr>
                  <p:spPr>
                    <a:xfrm rot="19002000">
                      <a:off x="5610240" y="4215600"/>
                      <a:ext cx="4554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14" name="Oval 499"/>
                <p:cNvSpPr/>
                <p:nvPr/>
              </p:nvSpPr>
              <p:spPr>
                <a:xfrm rot="19002000">
                  <a:off x="5658480" y="4171680"/>
                  <a:ext cx="90720" cy="10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500"/>
                <p:cNvSpPr/>
                <p:nvPr/>
              </p:nvSpPr>
              <p:spPr>
                <a:xfrm rot="8754000">
                  <a:off x="5736240" y="4018320"/>
                  <a:ext cx="122040" cy="152280"/>
                </a:xfrm>
                <a:custGeom>
                  <a:avLst/>
                  <a:gdLst/>
                  <a:ahLst/>
                  <a:rect l="l" t="t" r="r" b="b"/>
                  <a:pathLst>
                    <a:path w="400" h="656">
                      <a:moveTo>
                        <a:pt x="360" y="64"/>
                      </a:moveTo>
                      <a:cubicBezTo>
                        <a:pt x="400" y="128"/>
                        <a:pt x="376" y="448"/>
                        <a:pt x="360" y="544"/>
                      </a:cubicBezTo>
                      <a:cubicBezTo>
                        <a:pt x="344" y="640"/>
                        <a:pt x="320" y="656"/>
                        <a:pt x="264" y="640"/>
                      </a:cubicBezTo>
                      <a:cubicBezTo>
                        <a:pt x="208" y="624"/>
                        <a:pt x="48" y="528"/>
                        <a:pt x="24" y="448"/>
                      </a:cubicBezTo>
                      <a:cubicBezTo>
                        <a:pt x="0" y="368"/>
                        <a:pt x="64" y="224"/>
                        <a:pt x="120" y="160"/>
                      </a:cubicBezTo>
                      <a:cubicBezTo>
                        <a:pt x="176" y="96"/>
                        <a:pt x="320" y="0"/>
                        <a:pt x="360" y="6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10248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6" name="Group 501"/>
            <p:cNvGrpSpPr/>
            <p:nvPr/>
          </p:nvGrpSpPr>
          <p:grpSpPr>
            <a:xfrm>
              <a:off x="4930560" y="3703680"/>
              <a:ext cx="618480" cy="766080"/>
              <a:chOff x="4930560" y="3703680"/>
              <a:chExt cx="618480" cy="766080"/>
            </a:xfrm>
          </p:grpSpPr>
          <p:grpSp>
            <p:nvGrpSpPr>
              <p:cNvPr id="1117" name="Group 502"/>
              <p:cNvGrpSpPr/>
              <p:nvPr/>
            </p:nvGrpSpPr>
            <p:grpSpPr>
              <a:xfrm>
                <a:off x="4957920" y="3778920"/>
                <a:ext cx="537840" cy="690840"/>
                <a:chOff x="4957920" y="3778920"/>
                <a:chExt cx="537840" cy="690840"/>
              </a:xfrm>
            </p:grpSpPr>
            <p:sp>
              <p:nvSpPr>
                <p:cNvPr id="1118" name="AutoShape 503"/>
                <p:cNvSpPr/>
                <p:nvPr/>
              </p:nvSpPr>
              <p:spPr>
                <a:xfrm rot="13135800">
                  <a:off x="5144400" y="3812400"/>
                  <a:ext cx="250920" cy="407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2700" y="21600"/>
                      </a:lnTo>
                      <a:lnTo>
                        <a:pt x="189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9" name="Group 504"/>
                <p:cNvGrpSpPr/>
                <p:nvPr/>
              </p:nvGrpSpPr>
              <p:grpSpPr>
                <a:xfrm>
                  <a:off x="4957920" y="4091400"/>
                  <a:ext cx="427680" cy="378360"/>
                  <a:chOff x="4957920" y="4091400"/>
                  <a:chExt cx="427680" cy="378360"/>
                </a:xfrm>
              </p:grpSpPr>
              <p:grpSp>
                <p:nvGrpSpPr>
                  <p:cNvPr id="1120" name="Group 505"/>
                  <p:cNvGrpSpPr/>
                  <p:nvPr/>
                </p:nvGrpSpPr>
                <p:grpSpPr>
                  <a:xfrm>
                    <a:off x="4957920" y="4091400"/>
                    <a:ext cx="427680" cy="378360"/>
                    <a:chOff x="4957920" y="4091400"/>
                    <a:chExt cx="427680" cy="378360"/>
                  </a:xfrm>
                </p:grpSpPr>
                <p:grpSp>
                  <p:nvGrpSpPr>
                    <p:cNvPr id="1121" name="Group 506"/>
                    <p:cNvGrpSpPr/>
                    <p:nvPr/>
                  </p:nvGrpSpPr>
                  <p:grpSpPr>
                    <a:xfrm>
                      <a:off x="4957920" y="4091400"/>
                      <a:ext cx="427680" cy="378360"/>
                      <a:chOff x="4957920" y="4091400"/>
                      <a:chExt cx="427680" cy="378360"/>
                    </a:xfrm>
                  </p:grpSpPr>
                  <p:sp>
                    <p:nvSpPr>
                      <p:cNvPr id="1122" name="Rectangle 507"/>
                      <p:cNvSpPr/>
                      <p:nvPr/>
                    </p:nvSpPr>
                    <p:spPr>
                      <a:xfrm rot="2335800">
                        <a:off x="4965480" y="4169880"/>
                        <a:ext cx="296280" cy="129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3" name="Freeform 508"/>
                      <p:cNvSpPr/>
                      <p:nvPr/>
                    </p:nvSpPr>
                    <p:spPr>
                      <a:xfrm rot="2335800">
                        <a:off x="5213520" y="4308840"/>
                        <a:ext cx="147960" cy="128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2" h="672">
                            <a:moveTo>
                              <a:pt x="0" y="0"/>
                            </a:moveTo>
                            <a:lnTo>
                              <a:pt x="672" y="528"/>
                            </a:lnTo>
                            <a:lnTo>
                              <a:pt x="672" y="672"/>
                            </a:lnTo>
                            <a:lnTo>
                              <a:pt x="0" y="67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24" name=""/>
                    <p:cNvGrpSpPr/>
                    <p:nvPr/>
                  </p:nvGrpSpPr>
                  <p:grpSpPr>
                    <a:xfrm>
                      <a:off x="4975920" y="4169520"/>
                      <a:ext cx="351720" cy="284040"/>
                      <a:chOff x="4975920" y="4169520"/>
                      <a:chExt cx="351720" cy="284040"/>
                    </a:xfrm>
                  </p:grpSpPr>
                  <p:sp>
                    <p:nvSpPr>
                      <p:cNvPr id="1125" name="Line 509"/>
                      <p:cNvSpPr/>
                      <p:nvPr/>
                    </p:nvSpPr>
                    <p:spPr>
                      <a:xfrm>
                        <a:off x="4976280" y="4169520"/>
                        <a:ext cx="351360" cy="2840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6" name=""/>
                      <p:cNvSpPr txBox="1"/>
                      <p:nvPr/>
                    </p:nvSpPr>
                    <p:spPr>
                      <a:xfrm rot="2335800">
                        <a:off x="4925880" y="4311360"/>
                        <a:ext cx="45180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127" name="Oval 510"/>
                  <p:cNvSpPr/>
                  <p:nvPr/>
                </p:nvSpPr>
                <p:spPr>
                  <a:xfrm rot="2335800">
                    <a:off x="5082120" y="4129200"/>
                    <a:ext cx="90000" cy="1015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Freeform 511"/>
                  <p:cNvSpPr/>
                  <p:nvPr/>
                </p:nvSpPr>
                <p:spPr>
                  <a:xfrm rot="13687800">
                    <a:off x="5205600" y="4178520"/>
                    <a:ext cx="12096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656">
                        <a:moveTo>
                          <a:pt x="360" y="64"/>
                        </a:moveTo>
                        <a:cubicBezTo>
                          <a:pt x="400" y="128"/>
                          <a:pt x="376" y="448"/>
                          <a:pt x="360" y="544"/>
                        </a:cubicBezTo>
                        <a:cubicBezTo>
                          <a:pt x="344" y="640"/>
                          <a:pt x="320" y="656"/>
                          <a:pt x="264" y="640"/>
                        </a:cubicBezTo>
                        <a:cubicBezTo>
                          <a:pt x="208" y="624"/>
                          <a:pt x="48" y="528"/>
                          <a:pt x="24" y="448"/>
                        </a:cubicBezTo>
                        <a:cubicBezTo>
                          <a:pt x="0" y="368"/>
                          <a:pt x="64" y="224"/>
                          <a:pt x="120" y="160"/>
                        </a:cubicBezTo>
                        <a:cubicBezTo>
                          <a:pt x="176" y="96"/>
                          <a:pt x="320" y="0"/>
                          <a:pt x="360" y="64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29" name="Group 512"/>
              <p:cNvGrpSpPr/>
              <p:nvPr/>
            </p:nvGrpSpPr>
            <p:grpSpPr>
              <a:xfrm>
                <a:off x="4930560" y="3703680"/>
                <a:ext cx="618480" cy="676080"/>
                <a:chOff x="4930560" y="3703680"/>
                <a:chExt cx="618480" cy="676080"/>
              </a:xfrm>
            </p:grpSpPr>
            <p:grpSp>
              <p:nvGrpSpPr>
                <p:cNvPr id="1130" name="Group 513"/>
                <p:cNvGrpSpPr/>
                <p:nvPr/>
              </p:nvGrpSpPr>
              <p:grpSpPr>
                <a:xfrm>
                  <a:off x="4930560" y="3786480"/>
                  <a:ext cx="553680" cy="593280"/>
                  <a:chOff x="4930560" y="3786480"/>
                  <a:chExt cx="553680" cy="593280"/>
                </a:xfrm>
              </p:grpSpPr>
              <p:sp>
                <p:nvSpPr>
                  <p:cNvPr id="1131" name="AutoShape 514"/>
                  <p:cNvSpPr/>
                  <p:nvPr/>
                </p:nvSpPr>
                <p:spPr>
                  <a:xfrm rot="13135800">
                    <a:off x="5096880" y="3832560"/>
                    <a:ext cx="29160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Oval 515"/>
                  <p:cNvSpPr/>
                  <p:nvPr/>
                </p:nvSpPr>
                <p:spPr>
                  <a:xfrm rot="13135800">
                    <a:off x="4977000" y="4068000"/>
                    <a:ext cx="286200" cy="249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3" name="Oval 516"/>
                <p:cNvSpPr/>
                <p:nvPr/>
              </p:nvSpPr>
              <p:spPr>
                <a:xfrm rot="13135800">
                  <a:off x="5248800" y="3755160"/>
                  <a:ext cx="250560" cy="24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4" name="AutoShape 517"/>
              <p:cNvSpPr/>
              <p:nvPr/>
            </p:nvSpPr>
            <p:spPr>
              <a:xfrm rot="13135800">
                <a:off x="5319720" y="3825360"/>
                <a:ext cx="108000" cy="94680"/>
              </a:xfrm>
              <a:prstGeom prst="hexagon">
                <a:avLst>
                  <a:gd name="adj" fmla="val 28517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5" name="Group 518"/>
          <p:cNvGrpSpPr/>
          <p:nvPr/>
        </p:nvGrpSpPr>
        <p:grpSpPr>
          <a:xfrm>
            <a:off x="2652840" y="-14760"/>
            <a:ext cx="4281120" cy="4863960"/>
            <a:chOff x="2652840" y="-14760"/>
            <a:chExt cx="4281120" cy="4863960"/>
          </a:xfrm>
        </p:grpSpPr>
        <p:sp>
          <p:nvSpPr>
            <p:cNvPr id="1136" name="Oval 519"/>
            <p:cNvSpPr/>
            <p:nvPr/>
          </p:nvSpPr>
          <p:spPr>
            <a:xfrm rot="16200000">
              <a:off x="4121640" y="2053800"/>
              <a:ext cx="1326600" cy="426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3137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AutoShape 520"/>
            <p:cNvSpPr/>
            <p:nvPr/>
          </p:nvSpPr>
          <p:spPr>
            <a:xfrm rot="10800000">
              <a:off x="2670120" y="-14760"/>
              <a:ext cx="4263840" cy="4346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702" y="21600"/>
                  </a:lnTo>
                  <a:lnTo>
                    <a:pt x="1289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aeaea">
                    <a:alpha val="71372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Text Box 521"/>
          <p:cNvSpPr/>
          <p:nvPr/>
        </p:nvSpPr>
        <p:spPr>
          <a:xfrm>
            <a:off x="2209680" y="5562720"/>
            <a:ext cx="563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我经常会锻炼身体。等有一天我有女朋友了，我要保护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9" name=""/>
          <p:cNvGrpSpPr/>
          <p:nvPr/>
        </p:nvGrpSpPr>
        <p:grpSpPr>
          <a:xfrm>
            <a:off x="-1447920" y="5486400"/>
            <a:ext cx="304920" cy="609480"/>
            <a:chOff x="-1447920" y="5486400"/>
            <a:chExt cx="304920" cy="609480"/>
          </a:xfrm>
        </p:grpSpPr>
        <p:sp>
          <p:nvSpPr>
            <p:cNvPr id="1140" name="Line 522"/>
            <p:cNvSpPr/>
            <p:nvPr/>
          </p:nvSpPr>
          <p:spPr>
            <a:xfrm>
              <a:off x="-1447920" y="5486400"/>
              <a:ext cx="304920" cy="609480"/>
            </a:xfrm>
            <a:prstGeom prst="line">
              <a:avLst/>
            </a:prstGeom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 txBox="1"/>
            <p:nvPr/>
          </p:nvSpPr>
          <p:spPr>
            <a:xfrm>
              <a:off x="-1447920" y="5486400"/>
              <a:ext cx="30492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 thruBlk="true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7200000">
                                      <p:cBhvr>
                                        <p:cTn id="205" dur="3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" dur="5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2" name="Group 942"/>
          <p:cNvGrpSpPr/>
          <p:nvPr/>
        </p:nvGrpSpPr>
        <p:grpSpPr>
          <a:xfrm>
            <a:off x="4389120" y="1948320"/>
            <a:ext cx="456840" cy="2366280"/>
            <a:chOff x="4389120" y="1948320"/>
            <a:chExt cx="456840" cy="2366280"/>
          </a:xfrm>
        </p:grpSpPr>
        <p:grpSp>
          <p:nvGrpSpPr>
            <p:cNvPr id="1143" name="Group 943"/>
            <p:cNvGrpSpPr/>
            <p:nvPr/>
          </p:nvGrpSpPr>
          <p:grpSpPr>
            <a:xfrm>
              <a:off x="4389120" y="1948320"/>
              <a:ext cx="456840" cy="2366280"/>
              <a:chOff x="4389120" y="1948320"/>
              <a:chExt cx="456840" cy="2366280"/>
            </a:xfrm>
          </p:grpSpPr>
          <p:grpSp>
            <p:nvGrpSpPr>
              <p:cNvPr id="1144" name="Group 944"/>
              <p:cNvGrpSpPr/>
              <p:nvPr/>
            </p:nvGrpSpPr>
            <p:grpSpPr>
              <a:xfrm>
                <a:off x="4389120" y="1948320"/>
                <a:ext cx="456840" cy="2366280"/>
                <a:chOff x="4389120" y="1948320"/>
                <a:chExt cx="456840" cy="2366280"/>
              </a:xfrm>
            </p:grpSpPr>
            <p:grpSp>
              <p:nvGrpSpPr>
                <p:cNvPr id="1145" name="Group 945"/>
                <p:cNvGrpSpPr/>
                <p:nvPr/>
              </p:nvGrpSpPr>
              <p:grpSpPr>
                <a:xfrm>
                  <a:off x="4389120" y="2178720"/>
                  <a:ext cx="278280" cy="1245240"/>
                  <a:chOff x="4389120" y="2178720"/>
                  <a:chExt cx="278280" cy="1245240"/>
                </a:xfrm>
              </p:grpSpPr>
              <p:grpSp>
                <p:nvGrpSpPr>
                  <p:cNvPr id="1146" name="Group 946"/>
                  <p:cNvGrpSpPr/>
                  <p:nvPr/>
                </p:nvGrpSpPr>
                <p:grpSpPr>
                  <a:xfrm>
                    <a:off x="4426200" y="2813400"/>
                    <a:ext cx="241200" cy="610560"/>
                    <a:chOff x="4426200" y="2813400"/>
                    <a:chExt cx="241200" cy="610560"/>
                  </a:xfrm>
                </p:grpSpPr>
                <p:sp>
                  <p:nvSpPr>
                    <p:cNvPr id="1147" name="AutoShape 947"/>
                    <p:cNvSpPr/>
                    <p:nvPr/>
                  </p:nvSpPr>
                  <p:spPr>
                    <a:xfrm rot="10707000">
                      <a:off x="4453560" y="2815560"/>
                      <a:ext cx="179640" cy="49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8" name="AutoShape 948"/>
                    <p:cNvSpPr/>
                    <p:nvPr/>
                  </p:nvSpPr>
                  <p:spPr>
                    <a:xfrm rot="16285200">
                      <a:off x="4450680" y="3206880"/>
                      <a:ext cx="19152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9" name="Group 949"/>
                  <p:cNvGrpSpPr/>
                  <p:nvPr/>
                </p:nvGrpSpPr>
                <p:grpSpPr>
                  <a:xfrm>
                    <a:off x="4389120" y="2178720"/>
                    <a:ext cx="253440" cy="747720"/>
                    <a:chOff x="4389120" y="2178720"/>
                    <a:chExt cx="253440" cy="747720"/>
                  </a:xfrm>
                </p:grpSpPr>
                <p:sp>
                  <p:nvSpPr>
                    <p:cNvPr id="1150" name="AutoShape 950"/>
                    <p:cNvSpPr/>
                    <p:nvPr/>
                  </p:nvSpPr>
                  <p:spPr>
                    <a:xfrm rot="10722000">
                      <a:off x="4442040" y="2433240"/>
                      <a:ext cx="180360" cy="36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4308" y="21600"/>
                          </a:lnTo>
                          <a:lnTo>
                            <a:pt x="17292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1" name="Oval 951"/>
                    <p:cNvSpPr/>
                    <p:nvPr/>
                  </p:nvSpPr>
                  <p:spPr>
                    <a:xfrm rot="11260800">
                      <a:off x="4443120" y="2724120"/>
                      <a:ext cx="187200" cy="19044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2" name="Freeform 952"/>
                    <p:cNvSpPr/>
                    <p:nvPr/>
                  </p:nvSpPr>
                  <p:spPr>
                    <a:xfrm rot="20755800">
                      <a:off x="4421160" y="2195640"/>
                      <a:ext cx="175680" cy="28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2" h="2302">
                          <a:moveTo>
                            <a:pt x="361" y="1127"/>
                          </a:moveTo>
                          <a:lnTo>
                            <a:pt x="280" y="1116"/>
                          </a:lnTo>
                          <a:lnTo>
                            <a:pt x="373" y="711"/>
                          </a:lnTo>
                          <a:lnTo>
                            <a:pt x="373" y="709"/>
                          </a:lnTo>
                          <a:lnTo>
                            <a:pt x="375" y="705"/>
                          </a:lnTo>
                          <a:lnTo>
                            <a:pt x="375" y="703"/>
                          </a:lnTo>
                          <a:lnTo>
                            <a:pt x="375" y="700"/>
                          </a:lnTo>
                          <a:lnTo>
                            <a:pt x="375" y="698"/>
                          </a:lnTo>
                          <a:lnTo>
                            <a:pt x="375" y="696"/>
                          </a:lnTo>
                          <a:lnTo>
                            <a:pt x="375" y="692"/>
                          </a:lnTo>
                          <a:lnTo>
                            <a:pt x="375" y="690"/>
                          </a:lnTo>
                          <a:lnTo>
                            <a:pt x="375" y="684"/>
                          </a:lnTo>
                          <a:lnTo>
                            <a:pt x="375" y="681"/>
                          </a:lnTo>
                          <a:lnTo>
                            <a:pt x="375" y="675"/>
                          </a:lnTo>
                          <a:lnTo>
                            <a:pt x="375" y="669"/>
                          </a:lnTo>
                          <a:lnTo>
                            <a:pt x="371" y="665"/>
                          </a:lnTo>
                          <a:lnTo>
                            <a:pt x="371" y="660"/>
                          </a:lnTo>
                          <a:lnTo>
                            <a:pt x="369" y="654"/>
                          </a:lnTo>
                          <a:lnTo>
                            <a:pt x="367" y="652"/>
                          </a:lnTo>
                          <a:lnTo>
                            <a:pt x="365" y="646"/>
                          </a:lnTo>
                          <a:lnTo>
                            <a:pt x="363" y="641"/>
                          </a:lnTo>
                          <a:lnTo>
                            <a:pt x="361" y="637"/>
                          </a:lnTo>
                          <a:lnTo>
                            <a:pt x="358" y="633"/>
                          </a:lnTo>
                          <a:lnTo>
                            <a:pt x="356" y="629"/>
                          </a:lnTo>
                          <a:lnTo>
                            <a:pt x="354" y="623"/>
                          </a:lnTo>
                          <a:lnTo>
                            <a:pt x="350" y="620"/>
                          </a:lnTo>
                          <a:lnTo>
                            <a:pt x="346" y="616"/>
                          </a:lnTo>
                          <a:lnTo>
                            <a:pt x="342" y="612"/>
                          </a:lnTo>
                          <a:lnTo>
                            <a:pt x="339" y="610"/>
                          </a:lnTo>
                          <a:lnTo>
                            <a:pt x="335" y="606"/>
                          </a:lnTo>
                          <a:lnTo>
                            <a:pt x="331" y="603"/>
                          </a:lnTo>
                          <a:lnTo>
                            <a:pt x="325" y="601"/>
                          </a:lnTo>
                          <a:lnTo>
                            <a:pt x="321" y="597"/>
                          </a:lnTo>
                          <a:lnTo>
                            <a:pt x="318" y="595"/>
                          </a:lnTo>
                          <a:lnTo>
                            <a:pt x="312" y="593"/>
                          </a:lnTo>
                          <a:lnTo>
                            <a:pt x="306" y="591"/>
                          </a:lnTo>
                          <a:lnTo>
                            <a:pt x="302" y="589"/>
                          </a:lnTo>
                          <a:lnTo>
                            <a:pt x="299" y="589"/>
                          </a:lnTo>
                          <a:lnTo>
                            <a:pt x="295" y="587"/>
                          </a:lnTo>
                          <a:lnTo>
                            <a:pt x="291" y="587"/>
                          </a:lnTo>
                          <a:lnTo>
                            <a:pt x="287" y="585"/>
                          </a:lnTo>
                          <a:lnTo>
                            <a:pt x="285" y="585"/>
                          </a:lnTo>
                          <a:lnTo>
                            <a:pt x="283" y="585"/>
                          </a:lnTo>
                          <a:lnTo>
                            <a:pt x="280" y="585"/>
                          </a:lnTo>
                          <a:lnTo>
                            <a:pt x="276" y="585"/>
                          </a:lnTo>
                          <a:lnTo>
                            <a:pt x="274" y="585"/>
                          </a:lnTo>
                          <a:lnTo>
                            <a:pt x="272" y="585"/>
                          </a:lnTo>
                          <a:lnTo>
                            <a:pt x="268" y="585"/>
                          </a:lnTo>
                          <a:lnTo>
                            <a:pt x="266" y="585"/>
                          </a:lnTo>
                          <a:lnTo>
                            <a:pt x="263" y="585"/>
                          </a:lnTo>
                          <a:lnTo>
                            <a:pt x="261" y="587"/>
                          </a:lnTo>
                          <a:lnTo>
                            <a:pt x="259" y="587"/>
                          </a:lnTo>
                          <a:lnTo>
                            <a:pt x="255" y="587"/>
                          </a:lnTo>
                          <a:lnTo>
                            <a:pt x="253" y="589"/>
                          </a:lnTo>
                          <a:lnTo>
                            <a:pt x="249" y="589"/>
                          </a:lnTo>
                          <a:lnTo>
                            <a:pt x="247" y="589"/>
                          </a:lnTo>
                          <a:lnTo>
                            <a:pt x="243" y="591"/>
                          </a:lnTo>
                          <a:lnTo>
                            <a:pt x="240" y="591"/>
                          </a:lnTo>
                          <a:lnTo>
                            <a:pt x="238" y="593"/>
                          </a:lnTo>
                          <a:lnTo>
                            <a:pt x="236" y="595"/>
                          </a:lnTo>
                          <a:lnTo>
                            <a:pt x="232" y="595"/>
                          </a:lnTo>
                          <a:lnTo>
                            <a:pt x="230" y="597"/>
                          </a:lnTo>
                          <a:lnTo>
                            <a:pt x="228" y="599"/>
                          </a:lnTo>
                          <a:lnTo>
                            <a:pt x="224" y="601"/>
                          </a:lnTo>
                          <a:lnTo>
                            <a:pt x="223" y="601"/>
                          </a:lnTo>
                          <a:lnTo>
                            <a:pt x="219" y="603"/>
                          </a:lnTo>
                          <a:lnTo>
                            <a:pt x="217" y="604"/>
                          </a:lnTo>
                          <a:lnTo>
                            <a:pt x="211" y="608"/>
                          </a:lnTo>
                          <a:lnTo>
                            <a:pt x="207" y="612"/>
                          </a:lnTo>
                          <a:lnTo>
                            <a:pt x="204" y="616"/>
                          </a:lnTo>
                          <a:lnTo>
                            <a:pt x="198" y="618"/>
                          </a:lnTo>
                          <a:lnTo>
                            <a:pt x="194" y="623"/>
                          </a:lnTo>
                          <a:lnTo>
                            <a:pt x="188" y="627"/>
                          </a:lnTo>
                          <a:lnTo>
                            <a:pt x="185" y="633"/>
                          </a:lnTo>
                          <a:lnTo>
                            <a:pt x="181" y="637"/>
                          </a:lnTo>
                          <a:lnTo>
                            <a:pt x="177" y="641"/>
                          </a:lnTo>
                          <a:lnTo>
                            <a:pt x="173" y="646"/>
                          </a:lnTo>
                          <a:lnTo>
                            <a:pt x="169" y="652"/>
                          </a:lnTo>
                          <a:lnTo>
                            <a:pt x="166" y="656"/>
                          </a:lnTo>
                          <a:lnTo>
                            <a:pt x="162" y="662"/>
                          </a:lnTo>
                          <a:lnTo>
                            <a:pt x="160" y="665"/>
                          </a:lnTo>
                          <a:lnTo>
                            <a:pt x="158" y="669"/>
                          </a:lnTo>
                          <a:lnTo>
                            <a:pt x="158" y="671"/>
                          </a:lnTo>
                          <a:lnTo>
                            <a:pt x="156" y="673"/>
                          </a:lnTo>
                          <a:lnTo>
                            <a:pt x="154" y="677"/>
                          </a:lnTo>
                          <a:lnTo>
                            <a:pt x="152" y="679"/>
                          </a:lnTo>
                          <a:lnTo>
                            <a:pt x="152" y="681"/>
                          </a:lnTo>
                          <a:lnTo>
                            <a:pt x="150" y="684"/>
                          </a:lnTo>
                          <a:lnTo>
                            <a:pt x="150" y="688"/>
                          </a:lnTo>
                          <a:lnTo>
                            <a:pt x="146" y="694"/>
                          </a:lnTo>
                          <a:lnTo>
                            <a:pt x="145" y="701"/>
                          </a:lnTo>
                          <a:lnTo>
                            <a:pt x="143" y="709"/>
                          </a:lnTo>
                          <a:lnTo>
                            <a:pt x="139" y="717"/>
                          </a:lnTo>
                          <a:lnTo>
                            <a:pt x="137" y="724"/>
                          </a:lnTo>
                          <a:lnTo>
                            <a:pt x="135" y="732"/>
                          </a:lnTo>
                          <a:lnTo>
                            <a:pt x="131" y="739"/>
                          </a:lnTo>
                          <a:lnTo>
                            <a:pt x="129" y="747"/>
                          </a:lnTo>
                          <a:lnTo>
                            <a:pt x="126" y="755"/>
                          </a:lnTo>
                          <a:lnTo>
                            <a:pt x="124" y="760"/>
                          </a:lnTo>
                          <a:lnTo>
                            <a:pt x="122" y="768"/>
                          </a:lnTo>
                          <a:lnTo>
                            <a:pt x="120" y="776"/>
                          </a:lnTo>
                          <a:lnTo>
                            <a:pt x="116" y="781"/>
                          </a:lnTo>
                          <a:lnTo>
                            <a:pt x="114" y="789"/>
                          </a:lnTo>
                          <a:lnTo>
                            <a:pt x="112" y="796"/>
                          </a:lnTo>
                          <a:lnTo>
                            <a:pt x="110" y="804"/>
                          </a:lnTo>
                          <a:lnTo>
                            <a:pt x="107" y="812"/>
                          </a:lnTo>
                          <a:lnTo>
                            <a:pt x="107" y="817"/>
                          </a:lnTo>
                          <a:lnTo>
                            <a:pt x="103" y="823"/>
                          </a:lnTo>
                          <a:lnTo>
                            <a:pt x="101" y="831"/>
                          </a:lnTo>
                          <a:lnTo>
                            <a:pt x="97" y="836"/>
                          </a:lnTo>
                          <a:lnTo>
                            <a:pt x="97" y="844"/>
                          </a:lnTo>
                          <a:lnTo>
                            <a:pt x="93" y="852"/>
                          </a:lnTo>
                          <a:lnTo>
                            <a:pt x="93" y="857"/>
                          </a:lnTo>
                          <a:lnTo>
                            <a:pt x="89" y="865"/>
                          </a:lnTo>
                          <a:lnTo>
                            <a:pt x="88" y="871"/>
                          </a:lnTo>
                          <a:lnTo>
                            <a:pt x="86" y="878"/>
                          </a:lnTo>
                          <a:lnTo>
                            <a:pt x="84" y="884"/>
                          </a:lnTo>
                          <a:lnTo>
                            <a:pt x="82" y="892"/>
                          </a:lnTo>
                          <a:lnTo>
                            <a:pt x="80" y="899"/>
                          </a:lnTo>
                          <a:lnTo>
                            <a:pt x="78" y="907"/>
                          </a:lnTo>
                          <a:lnTo>
                            <a:pt x="74" y="912"/>
                          </a:lnTo>
                          <a:lnTo>
                            <a:pt x="72" y="920"/>
                          </a:lnTo>
                          <a:lnTo>
                            <a:pt x="72" y="926"/>
                          </a:lnTo>
                          <a:lnTo>
                            <a:pt x="68" y="931"/>
                          </a:lnTo>
                          <a:lnTo>
                            <a:pt x="67" y="939"/>
                          </a:lnTo>
                          <a:lnTo>
                            <a:pt x="65" y="945"/>
                          </a:lnTo>
                          <a:lnTo>
                            <a:pt x="63" y="952"/>
                          </a:lnTo>
                          <a:lnTo>
                            <a:pt x="59" y="958"/>
                          </a:lnTo>
                          <a:lnTo>
                            <a:pt x="57" y="966"/>
                          </a:lnTo>
                          <a:lnTo>
                            <a:pt x="55" y="971"/>
                          </a:lnTo>
                          <a:lnTo>
                            <a:pt x="53" y="979"/>
                          </a:lnTo>
                          <a:lnTo>
                            <a:pt x="51" y="987"/>
                          </a:lnTo>
                          <a:lnTo>
                            <a:pt x="49" y="994"/>
                          </a:lnTo>
                          <a:lnTo>
                            <a:pt x="48" y="1000"/>
                          </a:lnTo>
                          <a:lnTo>
                            <a:pt x="46" y="1007"/>
                          </a:lnTo>
                          <a:lnTo>
                            <a:pt x="44" y="1015"/>
                          </a:lnTo>
                          <a:lnTo>
                            <a:pt x="42" y="1021"/>
                          </a:lnTo>
                          <a:lnTo>
                            <a:pt x="42" y="1028"/>
                          </a:lnTo>
                          <a:lnTo>
                            <a:pt x="38" y="1036"/>
                          </a:lnTo>
                          <a:lnTo>
                            <a:pt x="36" y="1042"/>
                          </a:lnTo>
                          <a:lnTo>
                            <a:pt x="36" y="1049"/>
                          </a:lnTo>
                          <a:lnTo>
                            <a:pt x="34" y="1057"/>
                          </a:lnTo>
                          <a:lnTo>
                            <a:pt x="30" y="1063"/>
                          </a:lnTo>
                          <a:lnTo>
                            <a:pt x="30" y="1070"/>
                          </a:lnTo>
                          <a:lnTo>
                            <a:pt x="29" y="1078"/>
                          </a:lnTo>
                          <a:lnTo>
                            <a:pt x="27" y="1085"/>
                          </a:lnTo>
                          <a:lnTo>
                            <a:pt x="25" y="1093"/>
                          </a:lnTo>
                          <a:lnTo>
                            <a:pt x="23" y="1101"/>
                          </a:lnTo>
                          <a:lnTo>
                            <a:pt x="21" y="1108"/>
                          </a:lnTo>
                          <a:lnTo>
                            <a:pt x="19" y="1116"/>
                          </a:lnTo>
                          <a:lnTo>
                            <a:pt x="17" y="1123"/>
                          </a:lnTo>
                          <a:lnTo>
                            <a:pt x="17" y="1131"/>
                          </a:lnTo>
                          <a:lnTo>
                            <a:pt x="15" y="1139"/>
                          </a:lnTo>
                          <a:lnTo>
                            <a:pt x="13" y="1148"/>
                          </a:lnTo>
                          <a:lnTo>
                            <a:pt x="10" y="1158"/>
                          </a:lnTo>
                          <a:lnTo>
                            <a:pt x="10" y="1165"/>
                          </a:lnTo>
                          <a:lnTo>
                            <a:pt x="8" y="1175"/>
                          </a:lnTo>
                          <a:lnTo>
                            <a:pt x="6" y="1182"/>
                          </a:lnTo>
                          <a:lnTo>
                            <a:pt x="6" y="1192"/>
                          </a:lnTo>
                          <a:lnTo>
                            <a:pt x="4" y="1201"/>
                          </a:lnTo>
                          <a:lnTo>
                            <a:pt x="2" y="1211"/>
                          </a:lnTo>
                          <a:lnTo>
                            <a:pt x="2" y="1218"/>
                          </a:lnTo>
                          <a:lnTo>
                            <a:pt x="0" y="1230"/>
                          </a:lnTo>
                          <a:lnTo>
                            <a:pt x="0" y="1237"/>
                          </a:lnTo>
                          <a:lnTo>
                            <a:pt x="0" y="1247"/>
                          </a:lnTo>
                          <a:lnTo>
                            <a:pt x="0" y="1257"/>
                          </a:lnTo>
                          <a:lnTo>
                            <a:pt x="0" y="1268"/>
                          </a:lnTo>
                          <a:lnTo>
                            <a:pt x="0" y="1276"/>
                          </a:lnTo>
                          <a:lnTo>
                            <a:pt x="0" y="1285"/>
                          </a:lnTo>
                          <a:lnTo>
                            <a:pt x="0" y="1296"/>
                          </a:lnTo>
                          <a:lnTo>
                            <a:pt x="0" y="1304"/>
                          </a:lnTo>
                          <a:lnTo>
                            <a:pt x="0" y="1314"/>
                          </a:lnTo>
                          <a:lnTo>
                            <a:pt x="0" y="1323"/>
                          </a:lnTo>
                          <a:lnTo>
                            <a:pt x="0" y="1333"/>
                          </a:lnTo>
                          <a:lnTo>
                            <a:pt x="2" y="1342"/>
                          </a:lnTo>
                          <a:lnTo>
                            <a:pt x="2" y="1352"/>
                          </a:lnTo>
                          <a:lnTo>
                            <a:pt x="4" y="1363"/>
                          </a:lnTo>
                          <a:lnTo>
                            <a:pt x="4" y="1371"/>
                          </a:lnTo>
                          <a:lnTo>
                            <a:pt x="6" y="1382"/>
                          </a:lnTo>
                          <a:lnTo>
                            <a:pt x="8" y="1390"/>
                          </a:lnTo>
                          <a:lnTo>
                            <a:pt x="8" y="1401"/>
                          </a:lnTo>
                          <a:lnTo>
                            <a:pt x="10" y="1409"/>
                          </a:lnTo>
                          <a:lnTo>
                            <a:pt x="11" y="1420"/>
                          </a:lnTo>
                          <a:lnTo>
                            <a:pt x="13" y="1429"/>
                          </a:lnTo>
                          <a:lnTo>
                            <a:pt x="15" y="1439"/>
                          </a:lnTo>
                          <a:lnTo>
                            <a:pt x="17" y="1448"/>
                          </a:lnTo>
                          <a:lnTo>
                            <a:pt x="19" y="1458"/>
                          </a:lnTo>
                          <a:lnTo>
                            <a:pt x="21" y="1468"/>
                          </a:lnTo>
                          <a:lnTo>
                            <a:pt x="23" y="1477"/>
                          </a:lnTo>
                          <a:lnTo>
                            <a:pt x="27" y="1487"/>
                          </a:lnTo>
                          <a:lnTo>
                            <a:pt x="29" y="1496"/>
                          </a:lnTo>
                          <a:lnTo>
                            <a:pt x="30" y="1506"/>
                          </a:lnTo>
                          <a:lnTo>
                            <a:pt x="34" y="1515"/>
                          </a:lnTo>
                          <a:lnTo>
                            <a:pt x="36" y="1525"/>
                          </a:lnTo>
                          <a:lnTo>
                            <a:pt x="38" y="1534"/>
                          </a:lnTo>
                          <a:lnTo>
                            <a:pt x="42" y="1544"/>
                          </a:lnTo>
                          <a:lnTo>
                            <a:pt x="46" y="1553"/>
                          </a:lnTo>
                          <a:lnTo>
                            <a:pt x="48" y="1561"/>
                          </a:lnTo>
                          <a:lnTo>
                            <a:pt x="51" y="1572"/>
                          </a:lnTo>
                          <a:lnTo>
                            <a:pt x="55" y="1580"/>
                          </a:lnTo>
                          <a:lnTo>
                            <a:pt x="59" y="1589"/>
                          </a:lnTo>
                          <a:lnTo>
                            <a:pt x="63" y="1599"/>
                          </a:lnTo>
                          <a:lnTo>
                            <a:pt x="67" y="1608"/>
                          </a:lnTo>
                          <a:lnTo>
                            <a:pt x="68" y="1616"/>
                          </a:lnTo>
                          <a:lnTo>
                            <a:pt x="74" y="1627"/>
                          </a:lnTo>
                          <a:lnTo>
                            <a:pt x="78" y="1635"/>
                          </a:lnTo>
                          <a:lnTo>
                            <a:pt x="82" y="1644"/>
                          </a:lnTo>
                          <a:lnTo>
                            <a:pt x="86" y="1652"/>
                          </a:lnTo>
                          <a:lnTo>
                            <a:pt x="89" y="1661"/>
                          </a:lnTo>
                          <a:lnTo>
                            <a:pt x="95" y="1669"/>
                          </a:lnTo>
                          <a:lnTo>
                            <a:pt x="99" y="1679"/>
                          </a:lnTo>
                          <a:lnTo>
                            <a:pt x="103" y="1688"/>
                          </a:lnTo>
                          <a:lnTo>
                            <a:pt x="108" y="1696"/>
                          </a:lnTo>
                          <a:lnTo>
                            <a:pt x="114" y="1703"/>
                          </a:lnTo>
                          <a:lnTo>
                            <a:pt x="118" y="1713"/>
                          </a:lnTo>
                          <a:lnTo>
                            <a:pt x="124" y="1722"/>
                          </a:lnTo>
                          <a:lnTo>
                            <a:pt x="127" y="1732"/>
                          </a:lnTo>
                          <a:lnTo>
                            <a:pt x="131" y="1736"/>
                          </a:lnTo>
                          <a:lnTo>
                            <a:pt x="135" y="1739"/>
                          </a:lnTo>
                          <a:lnTo>
                            <a:pt x="135" y="1743"/>
                          </a:lnTo>
                          <a:lnTo>
                            <a:pt x="137" y="1745"/>
                          </a:lnTo>
                          <a:lnTo>
                            <a:pt x="139" y="1747"/>
                          </a:lnTo>
                          <a:lnTo>
                            <a:pt x="141" y="1751"/>
                          </a:lnTo>
                          <a:lnTo>
                            <a:pt x="143" y="1755"/>
                          </a:lnTo>
                          <a:lnTo>
                            <a:pt x="143" y="1756"/>
                          </a:lnTo>
                          <a:lnTo>
                            <a:pt x="145" y="1760"/>
                          </a:lnTo>
                          <a:lnTo>
                            <a:pt x="146" y="1762"/>
                          </a:lnTo>
                          <a:lnTo>
                            <a:pt x="148" y="1766"/>
                          </a:lnTo>
                          <a:lnTo>
                            <a:pt x="150" y="1768"/>
                          </a:lnTo>
                          <a:lnTo>
                            <a:pt x="152" y="1770"/>
                          </a:lnTo>
                          <a:lnTo>
                            <a:pt x="156" y="1774"/>
                          </a:lnTo>
                          <a:lnTo>
                            <a:pt x="158" y="1777"/>
                          </a:lnTo>
                          <a:lnTo>
                            <a:pt x="160" y="1779"/>
                          </a:lnTo>
                          <a:lnTo>
                            <a:pt x="160" y="1783"/>
                          </a:lnTo>
                          <a:lnTo>
                            <a:pt x="162" y="1787"/>
                          </a:lnTo>
                          <a:lnTo>
                            <a:pt x="166" y="1789"/>
                          </a:lnTo>
                          <a:lnTo>
                            <a:pt x="166" y="1791"/>
                          </a:lnTo>
                          <a:lnTo>
                            <a:pt x="167" y="1794"/>
                          </a:lnTo>
                          <a:lnTo>
                            <a:pt x="169" y="1796"/>
                          </a:lnTo>
                          <a:lnTo>
                            <a:pt x="171" y="1800"/>
                          </a:lnTo>
                          <a:lnTo>
                            <a:pt x="173" y="1802"/>
                          </a:lnTo>
                          <a:lnTo>
                            <a:pt x="175" y="1806"/>
                          </a:lnTo>
                          <a:lnTo>
                            <a:pt x="177" y="1808"/>
                          </a:lnTo>
                          <a:lnTo>
                            <a:pt x="179" y="1812"/>
                          </a:lnTo>
                          <a:lnTo>
                            <a:pt x="181" y="1815"/>
                          </a:lnTo>
                          <a:lnTo>
                            <a:pt x="183" y="1817"/>
                          </a:lnTo>
                          <a:lnTo>
                            <a:pt x="185" y="1821"/>
                          </a:lnTo>
                          <a:lnTo>
                            <a:pt x="188" y="1827"/>
                          </a:lnTo>
                          <a:lnTo>
                            <a:pt x="190" y="1831"/>
                          </a:lnTo>
                          <a:lnTo>
                            <a:pt x="194" y="1836"/>
                          </a:lnTo>
                          <a:lnTo>
                            <a:pt x="198" y="1842"/>
                          </a:lnTo>
                          <a:lnTo>
                            <a:pt x="200" y="1846"/>
                          </a:lnTo>
                          <a:lnTo>
                            <a:pt x="204" y="1850"/>
                          </a:lnTo>
                          <a:lnTo>
                            <a:pt x="205" y="1853"/>
                          </a:lnTo>
                          <a:lnTo>
                            <a:pt x="207" y="1859"/>
                          </a:lnTo>
                          <a:lnTo>
                            <a:pt x="209" y="1861"/>
                          </a:lnTo>
                          <a:lnTo>
                            <a:pt x="211" y="1863"/>
                          </a:lnTo>
                          <a:lnTo>
                            <a:pt x="213" y="1867"/>
                          </a:lnTo>
                          <a:lnTo>
                            <a:pt x="215" y="1869"/>
                          </a:lnTo>
                          <a:lnTo>
                            <a:pt x="217" y="1870"/>
                          </a:lnTo>
                          <a:lnTo>
                            <a:pt x="219" y="1874"/>
                          </a:lnTo>
                          <a:lnTo>
                            <a:pt x="141" y="2163"/>
                          </a:lnTo>
                          <a:lnTo>
                            <a:pt x="143" y="2165"/>
                          </a:lnTo>
                          <a:lnTo>
                            <a:pt x="146" y="2165"/>
                          </a:lnTo>
                          <a:lnTo>
                            <a:pt x="150" y="2167"/>
                          </a:lnTo>
                          <a:lnTo>
                            <a:pt x="152" y="2167"/>
                          </a:lnTo>
                          <a:lnTo>
                            <a:pt x="154" y="2167"/>
                          </a:lnTo>
                          <a:lnTo>
                            <a:pt x="158" y="2167"/>
                          </a:lnTo>
                          <a:lnTo>
                            <a:pt x="162" y="2171"/>
                          </a:lnTo>
                          <a:lnTo>
                            <a:pt x="166" y="2171"/>
                          </a:lnTo>
                          <a:lnTo>
                            <a:pt x="167" y="2173"/>
                          </a:lnTo>
                          <a:lnTo>
                            <a:pt x="171" y="2173"/>
                          </a:lnTo>
                          <a:lnTo>
                            <a:pt x="175" y="2175"/>
                          </a:lnTo>
                          <a:lnTo>
                            <a:pt x="181" y="2175"/>
                          </a:lnTo>
                          <a:lnTo>
                            <a:pt x="185" y="2175"/>
                          </a:lnTo>
                          <a:lnTo>
                            <a:pt x="188" y="2177"/>
                          </a:lnTo>
                          <a:lnTo>
                            <a:pt x="194" y="2180"/>
                          </a:lnTo>
                          <a:lnTo>
                            <a:pt x="198" y="2180"/>
                          </a:lnTo>
                          <a:lnTo>
                            <a:pt x="204" y="2182"/>
                          </a:lnTo>
                          <a:lnTo>
                            <a:pt x="209" y="2182"/>
                          </a:lnTo>
                          <a:lnTo>
                            <a:pt x="215" y="2184"/>
                          </a:lnTo>
                          <a:lnTo>
                            <a:pt x="219" y="2186"/>
                          </a:lnTo>
                          <a:lnTo>
                            <a:pt x="224" y="2188"/>
                          </a:lnTo>
                          <a:lnTo>
                            <a:pt x="232" y="2188"/>
                          </a:lnTo>
                          <a:lnTo>
                            <a:pt x="238" y="2190"/>
                          </a:lnTo>
                          <a:lnTo>
                            <a:pt x="243" y="2190"/>
                          </a:lnTo>
                          <a:lnTo>
                            <a:pt x="251" y="2192"/>
                          </a:lnTo>
                          <a:lnTo>
                            <a:pt x="257" y="2194"/>
                          </a:lnTo>
                          <a:lnTo>
                            <a:pt x="264" y="2194"/>
                          </a:lnTo>
                          <a:lnTo>
                            <a:pt x="270" y="2196"/>
                          </a:lnTo>
                          <a:lnTo>
                            <a:pt x="276" y="2196"/>
                          </a:lnTo>
                          <a:lnTo>
                            <a:pt x="283" y="2197"/>
                          </a:lnTo>
                          <a:lnTo>
                            <a:pt x="291" y="2199"/>
                          </a:lnTo>
                          <a:lnTo>
                            <a:pt x="297" y="2199"/>
                          </a:lnTo>
                          <a:lnTo>
                            <a:pt x="304" y="2199"/>
                          </a:lnTo>
                          <a:lnTo>
                            <a:pt x="312" y="2199"/>
                          </a:lnTo>
                          <a:lnTo>
                            <a:pt x="320" y="2201"/>
                          </a:lnTo>
                          <a:lnTo>
                            <a:pt x="325" y="2201"/>
                          </a:lnTo>
                          <a:lnTo>
                            <a:pt x="333" y="2201"/>
                          </a:lnTo>
                          <a:lnTo>
                            <a:pt x="341" y="2201"/>
                          </a:lnTo>
                          <a:lnTo>
                            <a:pt x="348" y="2201"/>
                          </a:lnTo>
                          <a:lnTo>
                            <a:pt x="356" y="2201"/>
                          </a:lnTo>
                          <a:lnTo>
                            <a:pt x="363" y="2201"/>
                          </a:lnTo>
                          <a:lnTo>
                            <a:pt x="371" y="2201"/>
                          </a:lnTo>
                          <a:lnTo>
                            <a:pt x="379" y="2201"/>
                          </a:lnTo>
                          <a:lnTo>
                            <a:pt x="386" y="2201"/>
                          </a:lnTo>
                          <a:lnTo>
                            <a:pt x="394" y="2201"/>
                          </a:lnTo>
                          <a:lnTo>
                            <a:pt x="401" y="2199"/>
                          </a:lnTo>
                          <a:lnTo>
                            <a:pt x="409" y="2199"/>
                          </a:lnTo>
                          <a:lnTo>
                            <a:pt x="415" y="2197"/>
                          </a:lnTo>
                          <a:lnTo>
                            <a:pt x="422" y="2196"/>
                          </a:lnTo>
                          <a:lnTo>
                            <a:pt x="432" y="2196"/>
                          </a:lnTo>
                          <a:lnTo>
                            <a:pt x="439" y="2194"/>
                          </a:lnTo>
                          <a:lnTo>
                            <a:pt x="447" y="2192"/>
                          </a:lnTo>
                          <a:lnTo>
                            <a:pt x="455" y="2190"/>
                          </a:lnTo>
                          <a:lnTo>
                            <a:pt x="462" y="2188"/>
                          </a:lnTo>
                          <a:lnTo>
                            <a:pt x="470" y="2188"/>
                          </a:lnTo>
                          <a:lnTo>
                            <a:pt x="476" y="2184"/>
                          </a:lnTo>
                          <a:lnTo>
                            <a:pt x="483" y="2182"/>
                          </a:lnTo>
                          <a:lnTo>
                            <a:pt x="491" y="2180"/>
                          </a:lnTo>
                          <a:lnTo>
                            <a:pt x="498" y="2175"/>
                          </a:lnTo>
                          <a:lnTo>
                            <a:pt x="504" y="2173"/>
                          </a:lnTo>
                          <a:lnTo>
                            <a:pt x="512" y="2169"/>
                          </a:lnTo>
                          <a:lnTo>
                            <a:pt x="517" y="2165"/>
                          </a:lnTo>
                          <a:lnTo>
                            <a:pt x="525" y="2161"/>
                          </a:lnTo>
                          <a:lnTo>
                            <a:pt x="531" y="2158"/>
                          </a:lnTo>
                          <a:lnTo>
                            <a:pt x="536" y="2154"/>
                          </a:lnTo>
                          <a:lnTo>
                            <a:pt x="542" y="2150"/>
                          </a:lnTo>
                          <a:lnTo>
                            <a:pt x="550" y="2146"/>
                          </a:lnTo>
                          <a:lnTo>
                            <a:pt x="555" y="2142"/>
                          </a:lnTo>
                          <a:lnTo>
                            <a:pt x="559" y="2137"/>
                          </a:lnTo>
                          <a:lnTo>
                            <a:pt x="565" y="2133"/>
                          </a:lnTo>
                          <a:lnTo>
                            <a:pt x="571" y="2129"/>
                          </a:lnTo>
                          <a:lnTo>
                            <a:pt x="576" y="2123"/>
                          </a:lnTo>
                          <a:lnTo>
                            <a:pt x="582" y="2120"/>
                          </a:lnTo>
                          <a:lnTo>
                            <a:pt x="588" y="2114"/>
                          </a:lnTo>
                          <a:lnTo>
                            <a:pt x="592" y="2110"/>
                          </a:lnTo>
                          <a:lnTo>
                            <a:pt x="595" y="2106"/>
                          </a:lnTo>
                          <a:lnTo>
                            <a:pt x="601" y="2101"/>
                          </a:lnTo>
                          <a:lnTo>
                            <a:pt x="605" y="2095"/>
                          </a:lnTo>
                          <a:lnTo>
                            <a:pt x="611" y="2091"/>
                          </a:lnTo>
                          <a:lnTo>
                            <a:pt x="614" y="2085"/>
                          </a:lnTo>
                          <a:lnTo>
                            <a:pt x="618" y="2080"/>
                          </a:lnTo>
                          <a:lnTo>
                            <a:pt x="624" y="2076"/>
                          </a:lnTo>
                          <a:lnTo>
                            <a:pt x="628" y="2070"/>
                          </a:lnTo>
                          <a:lnTo>
                            <a:pt x="632" y="2064"/>
                          </a:lnTo>
                          <a:lnTo>
                            <a:pt x="635" y="2059"/>
                          </a:lnTo>
                          <a:lnTo>
                            <a:pt x="637" y="2055"/>
                          </a:lnTo>
                          <a:lnTo>
                            <a:pt x="643" y="2049"/>
                          </a:lnTo>
                          <a:lnTo>
                            <a:pt x="645" y="2043"/>
                          </a:lnTo>
                          <a:lnTo>
                            <a:pt x="649" y="2040"/>
                          </a:lnTo>
                          <a:lnTo>
                            <a:pt x="652" y="2034"/>
                          </a:lnTo>
                          <a:lnTo>
                            <a:pt x="654" y="2030"/>
                          </a:lnTo>
                          <a:lnTo>
                            <a:pt x="658" y="2024"/>
                          </a:lnTo>
                          <a:lnTo>
                            <a:pt x="660" y="2021"/>
                          </a:lnTo>
                          <a:lnTo>
                            <a:pt x="664" y="2015"/>
                          </a:lnTo>
                          <a:lnTo>
                            <a:pt x="666" y="2011"/>
                          </a:lnTo>
                          <a:lnTo>
                            <a:pt x="668" y="2005"/>
                          </a:lnTo>
                          <a:lnTo>
                            <a:pt x="672" y="2002"/>
                          </a:lnTo>
                          <a:lnTo>
                            <a:pt x="673" y="1998"/>
                          </a:lnTo>
                          <a:lnTo>
                            <a:pt x="675" y="1992"/>
                          </a:lnTo>
                          <a:lnTo>
                            <a:pt x="677" y="1986"/>
                          </a:lnTo>
                          <a:lnTo>
                            <a:pt x="679" y="1983"/>
                          </a:lnTo>
                          <a:lnTo>
                            <a:pt x="681" y="1979"/>
                          </a:lnTo>
                          <a:lnTo>
                            <a:pt x="683" y="1975"/>
                          </a:lnTo>
                          <a:lnTo>
                            <a:pt x="685" y="1971"/>
                          </a:lnTo>
                          <a:lnTo>
                            <a:pt x="687" y="1969"/>
                          </a:lnTo>
                          <a:lnTo>
                            <a:pt x="689" y="1964"/>
                          </a:lnTo>
                          <a:lnTo>
                            <a:pt x="691" y="1962"/>
                          </a:lnTo>
                          <a:lnTo>
                            <a:pt x="692" y="1958"/>
                          </a:lnTo>
                          <a:lnTo>
                            <a:pt x="692" y="1954"/>
                          </a:lnTo>
                          <a:lnTo>
                            <a:pt x="692" y="1952"/>
                          </a:lnTo>
                          <a:lnTo>
                            <a:pt x="694" y="1950"/>
                          </a:lnTo>
                          <a:lnTo>
                            <a:pt x="696" y="1945"/>
                          </a:lnTo>
                          <a:lnTo>
                            <a:pt x="698" y="1941"/>
                          </a:lnTo>
                          <a:lnTo>
                            <a:pt x="700" y="1937"/>
                          </a:lnTo>
                          <a:lnTo>
                            <a:pt x="700" y="1935"/>
                          </a:lnTo>
                          <a:lnTo>
                            <a:pt x="700" y="1933"/>
                          </a:lnTo>
                          <a:lnTo>
                            <a:pt x="702" y="1933"/>
                          </a:lnTo>
                          <a:lnTo>
                            <a:pt x="740" y="1943"/>
                          </a:lnTo>
                          <a:lnTo>
                            <a:pt x="740" y="1943"/>
                          </a:lnTo>
                          <a:lnTo>
                            <a:pt x="738" y="1945"/>
                          </a:lnTo>
                          <a:lnTo>
                            <a:pt x="738" y="1947"/>
                          </a:lnTo>
                          <a:lnTo>
                            <a:pt x="738" y="1950"/>
                          </a:lnTo>
                          <a:lnTo>
                            <a:pt x="738" y="1954"/>
                          </a:lnTo>
                          <a:lnTo>
                            <a:pt x="738" y="1958"/>
                          </a:lnTo>
                          <a:lnTo>
                            <a:pt x="736" y="1962"/>
                          </a:lnTo>
                          <a:lnTo>
                            <a:pt x="736" y="1964"/>
                          </a:lnTo>
                          <a:lnTo>
                            <a:pt x="736" y="1967"/>
                          </a:lnTo>
                          <a:lnTo>
                            <a:pt x="736" y="1971"/>
                          </a:lnTo>
                          <a:lnTo>
                            <a:pt x="736" y="1975"/>
                          </a:lnTo>
                          <a:lnTo>
                            <a:pt x="736" y="1979"/>
                          </a:lnTo>
                          <a:lnTo>
                            <a:pt x="736" y="1983"/>
                          </a:lnTo>
                          <a:lnTo>
                            <a:pt x="736" y="1985"/>
                          </a:lnTo>
                          <a:lnTo>
                            <a:pt x="736" y="1990"/>
                          </a:lnTo>
                          <a:lnTo>
                            <a:pt x="736" y="1994"/>
                          </a:lnTo>
                          <a:lnTo>
                            <a:pt x="736" y="1998"/>
                          </a:lnTo>
                          <a:lnTo>
                            <a:pt x="736" y="2004"/>
                          </a:lnTo>
                          <a:lnTo>
                            <a:pt x="736" y="2007"/>
                          </a:lnTo>
                          <a:lnTo>
                            <a:pt x="736" y="2013"/>
                          </a:lnTo>
                          <a:lnTo>
                            <a:pt x="736" y="2015"/>
                          </a:lnTo>
                          <a:lnTo>
                            <a:pt x="736" y="2021"/>
                          </a:lnTo>
                          <a:lnTo>
                            <a:pt x="736" y="2026"/>
                          </a:lnTo>
                          <a:lnTo>
                            <a:pt x="736" y="2030"/>
                          </a:lnTo>
                          <a:lnTo>
                            <a:pt x="736" y="2036"/>
                          </a:lnTo>
                          <a:lnTo>
                            <a:pt x="736" y="2042"/>
                          </a:lnTo>
                          <a:lnTo>
                            <a:pt x="736" y="2047"/>
                          </a:lnTo>
                          <a:lnTo>
                            <a:pt x="738" y="2051"/>
                          </a:lnTo>
                          <a:lnTo>
                            <a:pt x="738" y="2057"/>
                          </a:lnTo>
                          <a:lnTo>
                            <a:pt x="738" y="2062"/>
                          </a:lnTo>
                          <a:lnTo>
                            <a:pt x="740" y="2066"/>
                          </a:lnTo>
                          <a:lnTo>
                            <a:pt x="740" y="2072"/>
                          </a:lnTo>
                          <a:lnTo>
                            <a:pt x="742" y="2078"/>
                          </a:lnTo>
                          <a:lnTo>
                            <a:pt x="744" y="2083"/>
                          </a:lnTo>
                          <a:lnTo>
                            <a:pt x="744" y="2091"/>
                          </a:lnTo>
                          <a:lnTo>
                            <a:pt x="746" y="2095"/>
                          </a:lnTo>
                          <a:lnTo>
                            <a:pt x="748" y="2101"/>
                          </a:lnTo>
                          <a:lnTo>
                            <a:pt x="748" y="2106"/>
                          </a:lnTo>
                          <a:lnTo>
                            <a:pt x="751" y="2110"/>
                          </a:lnTo>
                          <a:lnTo>
                            <a:pt x="753" y="2118"/>
                          </a:lnTo>
                          <a:lnTo>
                            <a:pt x="753" y="2123"/>
                          </a:lnTo>
                          <a:lnTo>
                            <a:pt x="757" y="2129"/>
                          </a:lnTo>
                          <a:lnTo>
                            <a:pt x="759" y="2135"/>
                          </a:lnTo>
                          <a:lnTo>
                            <a:pt x="761" y="2139"/>
                          </a:lnTo>
                          <a:lnTo>
                            <a:pt x="765" y="2144"/>
                          </a:lnTo>
                          <a:lnTo>
                            <a:pt x="767" y="2150"/>
                          </a:lnTo>
                          <a:lnTo>
                            <a:pt x="769" y="2156"/>
                          </a:lnTo>
                          <a:lnTo>
                            <a:pt x="772" y="2159"/>
                          </a:lnTo>
                          <a:lnTo>
                            <a:pt x="776" y="2165"/>
                          </a:lnTo>
                          <a:lnTo>
                            <a:pt x="780" y="2171"/>
                          </a:lnTo>
                          <a:lnTo>
                            <a:pt x="782" y="2175"/>
                          </a:lnTo>
                          <a:lnTo>
                            <a:pt x="786" y="2180"/>
                          </a:lnTo>
                          <a:lnTo>
                            <a:pt x="789" y="2186"/>
                          </a:lnTo>
                          <a:lnTo>
                            <a:pt x="795" y="2190"/>
                          </a:lnTo>
                          <a:lnTo>
                            <a:pt x="799" y="2196"/>
                          </a:lnTo>
                          <a:lnTo>
                            <a:pt x="805" y="2201"/>
                          </a:lnTo>
                          <a:lnTo>
                            <a:pt x="808" y="2205"/>
                          </a:lnTo>
                          <a:lnTo>
                            <a:pt x="814" y="2209"/>
                          </a:lnTo>
                          <a:lnTo>
                            <a:pt x="818" y="2213"/>
                          </a:lnTo>
                          <a:lnTo>
                            <a:pt x="824" y="2216"/>
                          </a:lnTo>
                          <a:lnTo>
                            <a:pt x="828" y="2222"/>
                          </a:lnTo>
                          <a:lnTo>
                            <a:pt x="833" y="2224"/>
                          </a:lnTo>
                          <a:lnTo>
                            <a:pt x="839" y="2228"/>
                          </a:lnTo>
                          <a:lnTo>
                            <a:pt x="845" y="2232"/>
                          </a:lnTo>
                          <a:lnTo>
                            <a:pt x="848" y="2235"/>
                          </a:lnTo>
                          <a:lnTo>
                            <a:pt x="854" y="2239"/>
                          </a:lnTo>
                          <a:lnTo>
                            <a:pt x="858" y="2243"/>
                          </a:lnTo>
                          <a:lnTo>
                            <a:pt x="864" y="2245"/>
                          </a:lnTo>
                          <a:lnTo>
                            <a:pt x="867" y="2249"/>
                          </a:lnTo>
                          <a:lnTo>
                            <a:pt x="873" y="2253"/>
                          </a:lnTo>
                          <a:lnTo>
                            <a:pt x="877" y="2256"/>
                          </a:lnTo>
                          <a:lnTo>
                            <a:pt x="883" y="2258"/>
                          </a:lnTo>
                          <a:lnTo>
                            <a:pt x="890" y="2260"/>
                          </a:lnTo>
                          <a:lnTo>
                            <a:pt x="896" y="2264"/>
                          </a:lnTo>
                          <a:lnTo>
                            <a:pt x="900" y="2266"/>
                          </a:lnTo>
                          <a:lnTo>
                            <a:pt x="904" y="2268"/>
                          </a:lnTo>
                          <a:lnTo>
                            <a:pt x="907" y="2270"/>
                          </a:lnTo>
                          <a:lnTo>
                            <a:pt x="913" y="2273"/>
                          </a:lnTo>
                          <a:lnTo>
                            <a:pt x="919" y="2275"/>
                          </a:lnTo>
                          <a:lnTo>
                            <a:pt x="925" y="2277"/>
                          </a:lnTo>
                          <a:lnTo>
                            <a:pt x="928" y="2279"/>
                          </a:lnTo>
                          <a:lnTo>
                            <a:pt x="934" y="2281"/>
                          </a:lnTo>
                          <a:lnTo>
                            <a:pt x="938" y="2283"/>
                          </a:lnTo>
                          <a:lnTo>
                            <a:pt x="942" y="2285"/>
                          </a:lnTo>
                          <a:lnTo>
                            <a:pt x="947" y="2287"/>
                          </a:lnTo>
                          <a:lnTo>
                            <a:pt x="951" y="2289"/>
                          </a:lnTo>
                          <a:lnTo>
                            <a:pt x="955" y="2289"/>
                          </a:lnTo>
                          <a:lnTo>
                            <a:pt x="961" y="2291"/>
                          </a:lnTo>
                          <a:lnTo>
                            <a:pt x="964" y="2291"/>
                          </a:lnTo>
                          <a:lnTo>
                            <a:pt x="968" y="2294"/>
                          </a:lnTo>
                          <a:lnTo>
                            <a:pt x="972" y="2294"/>
                          </a:lnTo>
                          <a:lnTo>
                            <a:pt x="978" y="2294"/>
                          </a:lnTo>
                          <a:lnTo>
                            <a:pt x="982" y="2296"/>
                          </a:lnTo>
                          <a:lnTo>
                            <a:pt x="985" y="2296"/>
                          </a:lnTo>
                          <a:lnTo>
                            <a:pt x="989" y="2296"/>
                          </a:lnTo>
                          <a:lnTo>
                            <a:pt x="993" y="2298"/>
                          </a:lnTo>
                          <a:lnTo>
                            <a:pt x="997" y="2298"/>
                          </a:lnTo>
                          <a:lnTo>
                            <a:pt x="1001" y="2298"/>
                          </a:lnTo>
                          <a:lnTo>
                            <a:pt x="1004" y="2298"/>
                          </a:lnTo>
                          <a:lnTo>
                            <a:pt x="1008" y="2300"/>
                          </a:lnTo>
                          <a:lnTo>
                            <a:pt x="1010" y="2300"/>
                          </a:lnTo>
                          <a:lnTo>
                            <a:pt x="1014" y="2300"/>
                          </a:lnTo>
                          <a:lnTo>
                            <a:pt x="1016" y="2300"/>
                          </a:lnTo>
                          <a:lnTo>
                            <a:pt x="1020" y="2300"/>
                          </a:lnTo>
                          <a:lnTo>
                            <a:pt x="1022" y="2300"/>
                          </a:lnTo>
                          <a:lnTo>
                            <a:pt x="1025" y="2302"/>
                          </a:lnTo>
                          <a:lnTo>
                            <a:pt x="1029" y="2300"/>
                          </a:lnTo>
                          <a:lnTo>
                            <a:pt x="1035" y="2300"/>
                          </a:lnTo>
                          <a:lnTo>
                            <a:pt x="1039" y="2298"/>
                          </a:lnTo>
                          <a:lnTo>
                            <a:pt x="1042" y="2298"/>
                          </a:lnTo>
                          <a:lnTo>
                            <a:pt x="1044" y="2296"/>
                          </a:lnTo>
                          <a:lnTo>
                            <a:pt x="1048" y="2296"/>
                          </a:lnTo>
                          <a:lnTo>
                            <a:pt x="1048" y="2294"/>
                          </a:lnTo>
                          <a:lnTo>
                            <a:pt x="1050" y="2294"/>
                          </a:lnTo>
                          <a:lnTo>
                            <a:pt x="1246" y="1334"/>
                          </a:lnTo>
                          <a:lnTo>
                            <a:pt x="1246" y="1333"/>
                          </a:lnTo>
                          <a:lnTo>
                            <a:pt x="1248" y="1331"/>
                          </a:lnTo>
                          <a:lnTo>
                            <a:pt x="1250" y="1327"/>
                          </a:lnTo>
                          <a:lnTo>
                            <a:pt x="1252" y="1325"/>
                          </a:lnTo>
                          <a:lnTo>
                            <a:pt x="1252" y="1323"/>
                          </a:lnTo>
                          <a:lnTo>
                            <a:pt x="1254" y="1319"/>
                          </a:lnTo>
                          <a:lnTo>
                            <a:pt x="1256" y="1315"/>
                          </a:lnTo>
                          <a:lnTo>
                            <a:pt x="1259" y="1312"/>
                          </a:lnTo>
                          <a:lnTo>
                            <a:pt x="1259" y="1306"/>
                          </a:lnTo>
                          <a:lnTo>
                            <a:pt x="1263" y="1302"/>
                          </a:lnTo>
                          <a:lnTo>
                            <a:pt x="1265" y="1296"/>
                          </a:lnTo>
                          <a:lnTo>
                            <a:pt x="1269" y="1293"/>
                          </a:lnTo>
                          <a:lnTo>
                            <a:pt x="1271" y="1285"/>
                          </a:lnTo>
                          <a:lnTo>
                            <a:pt x="1275" y="1281"/>
                          </a:lnTo>
                          <a:lnTo>
                            <a:pt x="1276" y="1274"/>
                          </a:lnTo>
                          <a:lnTo>
                            <a:pt x="1280" y="1266"/>
                          </a:lnTo>
                          <a:lnTo>
                            <a:pt x="1284" y="1258"/>
                          </a:lnTo>
                          <a:lnTo>
                            <a:pt x="1288" y="1249"/>
                          </a:lnTo>
                          <a:lnTo>
                            <a:pt x="1290" y="1241"/>
                          </a:lnTo>
                          <a:lnTo>
                            <a:pt x="1294" y="1234"/>
                          </a:lnTo>
                          <a:lnTo>
                            <a:pt x="1297" y="1224"/>
                          </a:lnTo>
                          <a:lnTo>
                            <a:pt x="1301" y="1217"/>
                          </a:lnTo>
                          <a:lnTo>
                            <a:pt x="1305" y="1207"/>
                          </a:lnTo>
                          <a:lnTo>
                            <a:pt x="1309" y="1198"/>
                          </a:lnTo>
                          <a:lnTo>
                            <a:pt x="1313" y="1188"/>
                          </a:lnTo>
                          <a:lnTo>
                            <a:pt x="1316" y="1177"/>
                          </a:lnTo>
                          <a:lnTo>
                            <a:pt x="1320" y="1165"/>
                          </a:lnTo>
                          <a:lnTo>
                            <a:pt x="1324" y="1154"/>
                          </a:lnTo>
                          <a:lnTo>
                            <a:pt x="1330" y="1144"/>
                          </a:lnTo>
                          <a:lnTo>
                            <a:pt x="1334" y="1133"/>
                          </a:lnTo>
                          <a:lnTo>
                            <a:pt x="1337" y="1122"/>
                          </a:lnTo>
                          <a:lnTo>
                            <a:pt x="1339" y="1108"/>
                          </a:lnTo>
                          <a:lnTo>
                            <a:pt x="1345" y="1097"/>
                          </a:lnTo>
                          <a:lnTo>
                            <a:pt x="1349" y="1084"/>
                          </a:lnTo>
                          <a:lnTo>
                            <a:pt x="1353" y="1070"/>
                          </a:lnTo>
                          <a:lnTo>
                            <a:pt x="1354" y="1059"/>
                          </a:lnTo>
                          <a:lnTo>
                            <a:pt x="1358" y="1044"/>
                          </a:lnTo>
                          <a:lnTo>
                            <a:pt x="1362" y="1032"/>
                          </a:lnTo>
                          <a:lnTo>
                            <a:pt x="1366" y="1017"/>
                          </a:lnTo>
                          <a:lnTo>
                            <a:pt x="1370" y="1004"/>
                          </a:lnTo>
                          <a:lnTo>
                            <a:pt x="1372" y="988"/>
                          </a:lnTo>
                          <a:lnTo>
                            <a:pt x="1375" y="975"/>
                          </a:lnTo>
                          <a:lnTo>
                            <a:pt x="1377" y="960"/>
                          </a:lnTo>
                          <a:lnTo>
                            <a:pt x="1381" y="947"/>
                          </a:lnTo>
                          <a:lnTo>
                            <a:pt x="1383" y="931"/>
                          </a:lnTo>
                          <a:lnTo>
                            <a:pt x="1387" y="916"/>
                          </a:lnTo>
                          <a:lnTo>
                            <a:pt x="1389" y="901"/>
                          </a:lnTo>
                          <a:lnTo>
                            <a:pt x="1391" y="886"/>
                          </a:lnTo>
                          <a:lnTo>
                            <a:pt x="1392" y="871"/>
                          </a:lnTo>
                          <a:lnTo>
                            <a:pt x="1394" y="855"/>
                          </a:lnTo>
                          <a:lnTo>
                            <a:pt x="1396" y="838"/>
                          </a:lnTo>
                          <a:lnTo>
                            <a:pt x="1398" y="823"/>
                          </a:lnTo>
                          <a:lnTo>
                            <a:pt x="1398" y="806"/>
                          </a:lnTo>
                          <a:lnTo>
                            <a:pt x="1400" y="791"/>
                          </a:lnTo>
                          <a:lnTo>
                            <a:pt x="1402" y="774"/>
                          </a:lnTo>
                          <a:lnTo>
                            <a:pt x="1402" y="757"/>
                          </a:lnTo>
                          <a:lnTo>
                            <a:pt x="1402" y="741"/>
                          </a:lnTo>
                          <a:lnTo>
                            <a:pt x="1402" y="724"/>
                          </a:lnTo>
                          <a:lnTo>
                            <a:pt x="1402" y="705"/>
                          </a:lnTo>
                          <a:lnTo>
                            <a:pt x="1402" y="690"/>
                          </a:lnTo>
                          <a:lnTo>
                            <a:pt x="1400" y="673"/>
                          </a:lnTo>
                          <a:lnTo>
                            <a:pt x="1400" y="656"/>
                          </a:lnTo>
                          <a:lnTo>
                            <a:pt x="1398" y="654"/>
                          </a:lnTo>
                          <a:lnTo>
                            <a:pt x="1398" y="652"/>
                          </a:lnTo>
                          <a:lnTo>
                            <a:pt x="1398" y="648"/>
                          </a:lnTo>
                          <a:lnTo>
                            <a:pt x="1398" y="644"/>
                          </a:lnTo>
                          <a:lnTo>
                            <a:pt x="1398" y="643"/>
                          </a:lnTo>
                          <a:lnTo>
                            <a:pt x="1398" y="639"/>
                          </a:lnTo>
                          <a:lnTo>
                            <a:pt x="1396" y="637"/>
                          </a:lnTo>
                          <a:lnTo>
                            <a:pt x="1396" y="633"/>
                          </a:lnTo>
                          <a:lnTo>
                            <a:pt x="1396" y="631"/>
                          </a:lnTo>
                          <a:lnTo>
                            <a:pt x="1396" y="627"/>
                          </a:lnTo>
                          <a:lnTo>
                            <a:pt x="1396" y="623"/>
                          </a:lnTo>
                          <a:lnTo>
                            <a:pt x="1394" y="620"/>
                          </a:lnTo>
                          <a:lnTo>
                            <a:pt x="1394" y="618"/>
                          </a:lnTo>
                          <a:lnTo>
                            <a:pt x="1394" y="616"/>
                          </a:lnTo>
                          <a:lnTo>
                            <a:pt x="1392" y="612"/>
                          </a:lnTo>
                          <a:lnTo>
                            <a:pt x="1392" y="610"/>
                          </a:lnTo>
                          <a:lnTo>
                            <a:pt x="1392" y="608"/>
                          </a:lnTo>
                          <a:lnTo>
                            <a:pt x="1391" y="604"/>
                          </a:lnTo>
                          <a:lnTo>
                            <a:pt x="1391" y="603"/>
                          </a:lnTo>
                          <a:lnTo>
                            <a:pt x="1391" y="599"/>
                          </a:lnTo>
                          <a:lnTo>
                            <a:pt x="1389" y="597"/>
                          </a:lnTo>
                          <a:lnTo>
                            <a:pt x="1389" y="593"/>
                          </a:lnTo>
                          <a:lnTo>
                            <a:pt x="1389" y="589"/>
                          </a:lnTo>
                          <a:lnTo>
                            <a:pt x="1389" y="587"/>
                          </a:lnTo>
                          <a:lnTo>
                            <a:pt x="1387" y="585"/>
                          </a:lnTo>
                          <a:lnTo>
                            <a:pt x="1385" y="582"/>
                          </a:lnTo>
                          <a:lnTo>
                            <a:pt x="1385" y="580"/>
                          </a:lnTo>
                          <a:lnTo>
                            <a:pt x="1383" y="578"/>
                          </a:lnTo>
                          <a:lnTo>
                            <a:pt x="1383" y="572"/>
                          </a:lnTo>
                          <a:lnTo>
                            <a:pt x="1381" y="568"/>
                          </a:lnTo>
                          <a:lnTo>
                            <a:pt x="1377" y="563"/>
                          </a:lnTo>
                          <a:lnTo>
                            <a:pt x="1375" y="557"/>
                          </a:lnTo>
                          <a:lnTo>
                            <a:pt x="1373" y="553"/>
                          </a:lnTo>
                          <a:lnTo>
                            <a:pt x="1370" y="547"/>
                          </a:lnTo>
                          <a:lnTo>
                            <a:pt x="1366" y="544"/>
                          </a:lnTo>
                          <a:lnTo>
                            <a:pt x="1364" y="540"/>
                          </a:lnTo>
                          <a:lnTo>
                            <a:pt x="1360" y="536"/>
                          </a:lnTo>
                          <a:lnTo>
                            <a:pt x="1356" y="532"/>
                          </a:lnTo>
                          <a:lnTo>
                            <a:pt x="1353" y="528"/>
                          </a:lnTo>
                          <a:lnTo>
                            <a:pt x="1349" y="525"/>
                          </a:lnTo>
                          <a:lnTo>
                            <a:pt x="1345" y="523"/>
                          </a:lnTo>
                          <a:lnTo>
                            <a:pt x="1339" y="521"/>
                          </a:lnTo>
                          <a:lnTo>
                            <a:pt x="1335" y="517"/>
                          </a:lnTo>
                          <a:lnTo>
                            <a:pt x="1332" y="515"/>
                          </a:lnTo>
                          <a:lnTo>
                            <a:pt x="1326" y="515"/>
                          </a:lnTo>
                          <a:lnTo>
                            <a:pt x="1322" y="513"/>
                          </a:lnTo>
                          <a:lnTo>
                            <a:pt x="1318" y="511"/>
                          </a:lnTo>
                          <a:lnTo>
                            <a:pt x="1316" y="511"/>
                          </a:lnTo>
                          <a:lnTo>
                            <a:pt x="1313" y="511"/>
                          </a:lnTo>
                          <a:lnTo>
                            <a:pt x="1311" y="511"/>
                          </a:lnTo>
                          <a:lnTo>
                            <a:pt x="1309" y="509"/>
                          </a:lnTo>
                          <a:lnTo>
                            <a:pt x="1305" y="509"/>
                          </a:lnTo>
                          <a:lnTo>
                            <a:pt x="1303" y="509"/>
                          </a:lnTo>
                          <a:lnTo>
                            <a:pt x="1301" y="509"/>
                          </a:lnTo>
                          <a:lnTo>
                            <a:pt x="1297" y="509"/>
                          </a:lnTo>
                          <a:lnTo>
                            <a:pt x="1295" y="509"/>
                          </a:lnTo>
                          <a:lnTo>
                            <a:pt x="1292" y="509"/>
                          </a:lnTo>
                          <a:lnTo>
                            <a:pt x="1290" y="509"/>
                          </a:lnTo>
                          <a:lnTo>
                            <a:pt x="1284" y="509"/>
                          </a:lnTo>
                          <a:lnTo>
                            <a:pt x="1280" y="509"/>
                          </a:lnTo>
                          <a:lnTo>
                            <a:pt x="1275" y="509"/>
                          </a:lnTo>
                          <a:lnTo>
                            <a:pt x="1269" y="509"/>
                          </a:lnTo>
                          <a:lnTo>
                            <a:pt x="1265" y="509"/>
                          </a:lnTo>
                          <a:lnTo>
                            <a:pt x="1259" y="509"/>
                          </a:lnTo>
                          <a:lnTo>
                            <a:pt x="1256" y="511"/>
                          </a:lnTo>
                          <a:lnTo>
                            <a:pt x="1252" y="511"/>
                          </a:lnTo>
                          <a:lnTo>
                            <a:pt x="1246" y="515"/>
                          </a:lnTo>
                          <a:lnTo>
                            <a:pt x="1242" y="515"/>
                          </a:lnTo>
                          <a:lnTo>
                            <a:pt x="1238" y="517"/>
                          </a:lnTo>
                          <a:lnTo>
                            <a:pt x="1235" y="521"/>
                          </a:lnTo>
                          <a:lnTo>
                            <a:pt x="1231" y="523"/>
                          </a:lnTo>
                          <a:lnTo>
                            <a:pt x="1229" y="525"/>
                          </a:lnTo>
                          <a:lnTo>
                            <a:pt x="1225" y="527"/>
                          </a:lnTo>
                          <a:lnTo>
                            <a:pt x="1221" y="530"/>
                          </a:lnTo>
                          <a:lnTo>
                            <a:pt x="1219" y="532"/>
                          </a:lnTo>
                          <a:lnTo>
                            <a:pt x="1216" y="538"/>
                          </a:lnTo>
                          <a:lnTo>
                            <a:pt x="1214" y="542"/>
                          </a:lnTo>
                          <a:lnTo>
                            <a:pt x="1212" y="546"/>
                          </a:lnTo>
                          <a:lnTo>
                            <a:pt x="1210" y="549"/>
                          </a:lnTo>
                          <a:lnTo>
                            <a:pt x="1208" y="555"/>
                          </a:lnTo>
                          <a:lnTo>
                            <a:pt x="1208" y="557"/>
                          </a:lnTo>
                          <a:lnTo>
                            <a:pt x="1206" y="559"/>
                          </a:lnTo>
                          <a:lnTo>
                            <a:pt x="1204" y="561"/>
                          </a:lnTo>
                          <a:lnTo>
                            <a:pt x="1204" y="565"/>
                          </a:lnTo>
                          <a:lnTo>
                            <a:pt x="1204" y="566"/>
                          </a:lnTo>
                          <a:lnTo>
                            <a:pt x="1204" y="570"/>
                          </a:lnTo>
                          <a:lnTo>
                            <a:pt x="1204" y="572"/>
                          </a:lnTo>
                          <a:lnTo>
                            <a:pt x="1204" y="576"/>
                          </a:lnTo>
                          <a:lnTo>
                            <a:pt x="1139" y="895"/>
                          </a:lnTo>
                          <a:lnTo>
                            <a:pt x="1136" y="893"/>
                          </a:lnTo>
                          <a:lnTo>
                            <a:pt x="1132" y="892"/>
                          </a:lnTo>
                          <a:lnTo>
                            <a:pt x="1126" y="888"/>
                          </a:lnTo>
                          <a:lnTo>
                            <a:pt x="1122" y="886"/>
                          </a:lnTo>
                          <a:lnTo>
                            <a:pt x="1117" y="884"/>
                          </a:lnTo>
                          <a:lnTo>
                            <a:pt x="1113" y="880"/>
                          </a:lnTo>
                          <a:lnTo>
                            <a:pt x="1107" y="878"/>
                          </a:lnTo>
                          <a:lnTo>
                            <a:pt x="1105" y="876"/>
                          </a:lnTo>
                          <a:lnTo>
                            <a:pt x="1227" y="316"/>
                          </a:lnTo>
                          <a:lnTo>
                            <a:pt x="1227" y="312"/>
                          </a:lnTo>
                          <a:lnTo>
                            <a:pt x="1227" y="308"/>
                          </a:lnTo>
                          <a:lnTo>
                            <a:pt x="1229" y="306"/>
                          </a:lnTo>
                          <a:lnTo>
                            <a:pt x="1229" y="304"/>
                          </a:lnTo>
                          <a:lnTo>
                            <a:pt x="1229" y="300"/>
                          </a:lnTo>
                          <a:lnTo>
                            <a:pt x="1229" y="298"/>
                          </a:lnTo>
                          <a:lnTo>
                            <a:pt x="1229" y="295"/>
                          </a:lnTo>
                          <a:lnTo>
                            <a:pt x="1229" y="293"/>
                          </a:lnTo>
                          <a:lnTo>
                            <a:pt x="1229" y="291"/>
                          </a:lnTo>
                          <a:lnTo>
                            <a:pt x="1229" y="287"/>
                          </a:lnTo>
                          <a:lnTo>
                            <a:pt x="1229" y="285"/>
                          </a:lnTo>
                          <a:lnTo>
                            <a:pt x="1229" y="283"/>
                          </a:lnTo>
                          <a:lnTo>
                            <a:pt x="1229" y="278"/>
                          </a:lnTo>
                          <a:lnTo>
                            <a:pt x="1227" y="272"/>
                          </a:lnTo>
                          <a:lnTo>
                            <a:pt x="1225" y="268"/>
                          </a:lnTo>
                          <a:lnTo>
                            <a:pt x="1225" y="262"/>
                          </a:lnTo>
                          <a:lnTo>
                            <a:pt x="1223" y="257"/>
                          </a:lnTo>
                          <a:lnTo>
                            <a:pt x="1221" y="253"/>
                          </a:lnTo>
                          <a:lnTo>
                            <a:pt x="1219" y="247"/>
                          </a:lnTo>
                          <a:lnTo>
                            <a:pt x="1217" y="243"/>
                          </a:lnTo>
                          <a:lnTo>
                            <a:pt x="1216" y="240"/>
                          </a:lnTo>
                          <a:lnTo>
                            <a:pt x="1214" y="236"/>
                          </a:lnTo>
                          <a:lnTo>
                            <a:pt x="1210" y="232"/>
                          </a:lnTo>
                          <a:lnTo>
                            <a:pt x="1206" y="226"/>
                          </a:lnTo>
                          <a:lnTo>
                            <a:pt x="1202" y="222"/>
                          </a:lnTo>
                          <a:lnTo>
                            <a:pt x="1200" y="219"/>
                          </a:lnTo>
                          <a:lnTo>
                            <a:pt x="1197" y="215"/>
                          </a:lnTo>
                          <a:lnTo>
                            <a:pt x="1193" y="211"/>
                          </a:lnTo>
                          <a:lnTo>
                            <a:pt x="1189" y="207"/>
                          </a:lnTo>
                          <a:lnTo>
                            <a:pt x="1185" y="205"/>
                          </a:lnTo>
                          <a:lnTo>
                            <a:pt x="1179" y="203"/>
                          </a:lnTo>
                          <a:lnTo>
                            <a:pt x="1176" y="200"/>
                          </a:lnTo>
                          <a:lnTo>
                            <a:pt x="1172" y="198"/>
                          </a:lnTo>
                          <a:lnTo>
                            <a:pt x="1166" y="194"/>
                          </a:lnTo>
                          <a:lnTo>
                            <a:pt x="1160" y="192"/>
                          </a:lnTo>
                          <a:lnTo>
                            <a:pt x="1157" y="192"/>
                          </a:lnTo>
                          <a:lnTo>
                            <a:pt x="1151" y="190"/>
                          </a:lnTo>
                          <a:lnTo>
                            <a:pt x="1147" y="190"/>
                          </a:lnTo>
                          <a:lnTo>
                            <a:pt x="1143" y="188"/>
                          </a:lnTo>
                          <a:lnTo>
                            <a:pt x="1141" y="186"/>
                          </a:lnTo>
                          <a:lnTo>
                            <a:pt x="1138" y="186"/>
                          </a:lnTo>
                          <a:lnTo>
                            <a:pt x="1136" y="186"/>
                          </a:lnTo>
                          <a:lnTo>
                            <a:pt x="1134" y="186"/>
                          </a:lnTo>
                          <a:lnTo>
                            <a:pt x="1130" y="186"/>
                          </a:lnTo>
                          <a:lnTo>
                            <a:pt x="1128" y="186"/>
                          </a:lnTo>
                          <a:lnTo>
                            <a:pt x="1124" y="186"/>
                          </a:lnTo>
                          <a:lnTo>
                            <a:pt x="1122" y="186"/>
                          </a:lnTo>
                          <a:lnTo>
                            <a:pt x="1120" y="186"/>
                          </a:lnTo>
                          <a:lnTo>
                            <a:pt x="1117" y="186"/>
                          </a:lnTo>
                          <a:lnTo>
                            <a:pt x="1115" y="186"/>
                          </a:lnTo>
                          <a:lnTo>
                            <a:pt x="1109" y="186"/>
                          </a:lnTo>
                          <a:lnTo>
                            <a:pt x="1105" y="188"/>
                          </a:lnTo>
                          <a:lnTo>
                            <a:pt x="1100" y="188"/>
                          </a:lnTo>
                          <a:lnTo>
                            <a:pt x="1094" y="190"/>
                          </a:lnTo>
                          <a:lnTo>
                            <a:pt x="1090" y="192"/>
                          </a:lnTo>
                          <a:lnTo>
                            <a:pt x="1086" y="192"/>
                          </a:lnTo>
                          <a:lnTo>
                            <a:pt x="1081" y="194"/>
                          </a:lnTo>
                          <a:lnTo>
                            <a:pt x="1077" y="198"/>
                          </a:lnTo>
                          <a:lnTo>
                            <a:pt x="1073" y="200"/>
                          </a:lnTo>
                          <a:lnTo>
                            <a:pt x="1067" y="203"/>
                          </a:lnTo>
                          <a:lnTo>
                            <a:pt x="1063" y="205"/>
                          </a:lnTo>
                          <a:lnTo>
                            <a:pt x="1058" y="207"/>
                          </a:lnTo>
                          <a:lnTo>
                            <a:pt x="1054" y="211"/>
                          </a:lnTo>
                          <a:lnTo>
                            <a:pt x="1050" y="215"/>
                          </a:lnTo>
                          <a:lnTo>
                            <a:pt x="1048" y="219"/>
                          </a:lnTo>
                          <a:lnTo>
                            <a:pt x="1044" y="222"/>
                          </a:lnTo>
                          <a:lnTo>
                            <a:pt x="1041" y="226"/>
                          </a:lnTo>
                          <a:lnTo>
                            <a:pt x="1039" y="232"/>
                          </a:lnTo>
                          <a:lnTo>
                            <a:pt x="1035" y="234"/>
                          </a:lnTo>
                          <a:lnTo>
                            <a:pt x="1033" y="240"/>
                          </a:lnTo>
                          <a:lnTo>
                            <a:pt x="1029" y="243"/>
                          </a:lnTo>
                          <a:lnTo>
                            <a:pt x="1027" y="249"/>
                          </a:lnTo>
                          <a:lnTo>
                            <a:pt x="1025" y="253"/>
                          </a:lnTo>
                          <a:lnTo>
                            <a:pt x="1023" y="259"/>
                          </a:lnTo>
                          <a:lnTo>
                            <a:pt x="1022" y="260"/>
                          </a:lnTo>
                          <a:lnTo>
                            <a:pt x="1022" y="264"/>
                          </a:lnTo>
                          <a:lnTo>
                            <a:pt x="1022" y="266"/>
                          </a:lnTo>
                          <a:lnTo>
                            <a:pt x="1022" y="270"/>
                          </a:lnTo>
                          <a:lnTo>
                            <a:pt x="919" y="730"/>
                          </a:lnTo>
                          <a:lnTo>
                            <a:pt x="915" y="728"/>
                          </a:lnTo>
                          <a:lnTo>
                            <a:pt x="913" y="726"/>
                          </a:lnTo>
                          <a:lnTo>
                            <a:pt x="907" y="724"/>
                          </a:lnTo>
                          <a:lnTo>
                            <a:pt x="905" y="720"/>
                          </a:lnTo>
                          <a:lnTo>
                            <a:pt x="904" y="719"/>
                          </a:lnTo>
                          <a:lnTo>
                            <a:pt x="900" y="717"/>
                          </a:lnTo>
                          <a:lnTo>
                            <a:pt x="896" y="713"/>
                          </a:lnTo>
                          <a:lnTo>
                            <a:pt x="892" y="713"/>
                          </a:lnTo>
                          <a:lnTo>
                            <a:pt x="1022" y="129"/>
                          </a:lnTo>
                          <a:lnTo>
                            <a:pt x="1022" y="125"/>
                          </a:lnTo>
                          <a:lnTo>
                            <a:pt x="1022" y="124"/>
                          </a:lnTo>
                          <a:lnTo>
                            <a:pt x="1022" y="120"/>
                          </a:lnTo>
                          <a:lnTo>
                            <a:pt x="1022" y="118"/>
                          </a:lnTo>
                          <a:lnTo>
                            <a:pt x="1022" y="114"/>
                          </a:lnTo>
                          <a:lnTo>
                            <a:pt x="1022" y="112"/>
                          </a:lnTo>
                          <a:lnTo>
                            <a:pt x="1022" y="110"/>
                          </a:lnTo>
                          <a:lnTo>
                            <a:pt x="1022" y="106"/>
                          </a:lnTo>
                          <a:lnTo>
                            <a:pt x="1022" y="105"/>
                          </a:lnTo>
                          <a:lnTo>
                            <a:pt x="1022" y="103"/>
                          </a:lnTo>
                          <a:lnTo>
                            <a:pt x="1022" y="99"/>
                          </a:lnTo>
                          <a:lnTo>
                            <a:pt x="1022" y="97"/>
                          </a:lnTo>
                          <a:lnTo>
                            <a:pt x="1022" y="91"/>
                          </a:lnTo>
                          <a:lnTo>
                            <a:pt x="1022" y="86"/>
                          </a:lnTo>
                          <a:lnTo>
                            <a:pt x="1020" y="82"/>
                          </a:lnTo>
                          <a:lnTo>
                            <a:pt x="1018" y="76"/>
                          </a:lnTo>
                          <a:lnTo>
                            <a:pt x="1016" y="70"/>
                          </a:lnTo>
                          <a:lnTo>
                            <a:pt x="1014" y="67"/>
                          </a:lnTo>
                          <a:lnTo>
                            <a:pt x="1012" y="61"/>
                          </a:lnTo>
                          <a:lnTo>
                            <a:pt x="1010" y="57"/>
                          </a:lnTo>
                          <a:lnTo>
                            <a:pt x="1008" y="53"/>
                          </a:lnTo>
                          <a:lnTo>
                            <a:pt x="1006" y="48"/>
                          </a:lnTo>
                          <a:lnTo>
                            <a:pt x="1004" y="44"/>
                          </a:lnTo>
                          <a:lnTo>
                            <a:pt x="1001" y="40"/>
                          </a:lnTo>
                          <a:lnTo>
                            <a:pt x="997" y="36"/>
                          </a:lnTo>
                          <a:lnTo>
                            <a:pt x="993" y="32"/>
                          </a:lnTo>
                          <a:lnTo>
                            <a:pt x="991" y="29"/>
                          </a:lnTo>
                          <a:lnTo>
                            <a:pt x="985" y="25"/>
                          </a:lnTo>
                          <a:lnTo>
                            <a:pt x="983" y="23"/>
                          </a:lnTo>
                          <a:lnTo>
                            <a:pt x="978" y="19"/>
                          </a:lnTo>
                          <a:lnTo>
                            <a:pt x="972" y="17"/>
                          </a:lnTo>
                          <a:lnTo>
                            <a:pt x="968" y="13"/>
                          </a:lnTo>
                          <a:lnTo>
                            <a:pt x="964" y="11"/>
                          </a:lnTo>
                          <a:lnTo>
                            <a:pt x="961" y="10"/>
                          </a:lnTo>
                          <a:lnTo>
                            <a:pt x="955" y="6"/>
                          </a:lnTo>
                          <a:lnTo>
                            <a:pt x="949" y="6"/>
                          </a:lnTo>
                          <a:lnTo>
                            <a:pt x="944" y="4"/>
                          </a:lnTo>
                          <a:lnTo>
                            <a:pt x="940" y="4"/>
                          </a:lnTo>
                          <a:lnTo>
                            <a:pt x="936" y="2"/>
                          </a:lnTo>
                          <a:lnTo>
                            <a:pt x="934" y="2"/>
                          </a:lnTo>
                          <a:lnTo>
                            <a:pt x="932" y="0"/>
                          </a:lnTo>
                          <a:lnTo>
                            <a:pt x="928" y="0"/>
                          </a:lnTo>
                          <a:lnTo>
                            <a:pt x="926" y="0"/>
                          </a:lnTo>
                          <a:lnTo>
                            <a:pt x="925" y="0"/>
                          </a:lnTo>
                          <a:lnTo>
                            <a:pt x="921" y="0"/>
                          </a:lnTo>
                          <a:lnTo>
                            <a:pt x="919" y="0"/>
                          </a:lnTo>
                          <a:lnTo>
                            <a:pt x="915" y="0"/>
                          </a:lnTo>
                          <a:lnTo>
                            <a:pt x="913" y="0"/>
                          </a:lnTo>
                          <a:lnTo>
                            <a:pt x="911" y="0"/>
                          </a:lnTo>
                          <a:lnTo>
                            <a:pt x="907" y="0"/>
                          </a:lnTo>
                          <a:lnTo>
                            <a:pt x="904" y="0"/>
                          </a:lnTo>
                          <a:lnTo>
                            <a:pt x="898" y="2"/>
                          </a:lnTo>
                          <a:lnTo>
                            <a:pt x="896" y="2"/>
                          </a:lnTo>
                          <a:lnTo>
                            <a:pt x="892" y="2"/>
                          </a:lnTo>
                          <a:lnTo>
                            <a:pt x="890" y="2"/>
                          </a:lnTo>
                          <a:lnTo>
                            <a:pt x="888" y="4"/>
                          </a:lnTo>
                          <a:lnTo>
                            <a:pt x="881" y="4"/>
                          </a:lnTo>
                          <a:lnTo>
                            <a:pt x="877" y="6"/>
                          </a:lnTo>
                          <a:lnTo>
                            <a:pt x="873" y="10"/>
                          </a:lnTo>
                          <a:lnTo>
                            <a:pt x="867" y="11"/>
                          </a:lnTo>
                          <a:lnTo>
                            <a:pt x="864" y="15"/>
                          </a:lnTo>
                          <a:lnTo>
                            <a:pt x="860" y="17"/>
                          </a:lnTo>
                          <a:lnTo>
                            <a:pt x="854" y="19"/>
                          </a:lnTo>
                          <a:lnTo>
                            <a:pt x="850" y="23"/>
                          </a:lnTo>
                          <a:lnTo>
                            <a:pt x="847" y="25"/>
                          </a:lnTo>
                          <a:lnTo>
                            <a:pt x="843" y="29"/>
                          </a:lnTo>
                          <a:lnTo>
                            <a:pt x="839" y="32"/>
                          </a:lnTo>
                          <a:lnTo>
                            <a:pt x="835" y="36"/>
                          </a:lnTo>
                          <a:lnTo>
                            <a:pt x="833" y="40"/>
                          </a:lnTo>
                          <a:lnTo>
                            <a:pt x="831" y="44"/>
                          </a:lnTo>
                          <a:lnTo>
                            <a:pt x="828" y="48"/>
                          </a:lnTo>
                          <a:lnTo>
                            <a:pt x="824" y="53"/>
                          </a:lnTo>
                          <a:lnTo>
                            <a:pt x="822" y="57"/>
                          </a:lnTo>
                          <a:lnTo>
                            <a:pt x="820" y="61"/>
                          </a:lnTo>
                          <a:lnTo>
                            <a:pt x="818" y="67"/>
                          </a:lnTo>
                          <a:lnTo>
                            <a:pt x="816" y="70"/>
                          </a:lnTo>
                          <a:lnTo>
                            <a:pt x="816" y="74"/>
                          </a:lnTo>
                          <a:lnTo>
                            <a:pt x="814" y="76"/>
                          </a:lnTo>
                          <a:lnTo>
                            <a:pt x="812" y="82"/>
                          </a:lnTo>
                          <a:lnTo>
                            <a:pt x="812" y="84"/>
                          </a:lnTo>
                          <a:lnTo>
                            <a:pt x="687" y="663"/>
                          </a:lnTo>
                          <a:lnTo>
                            <a:pt x="681" y="663"/>
                          </a:lnTo>
                          <a:lnTo>
                            <a:pt x="677" y="663"/>
                          </a:lnTo>
                          <a:lnTo>
                            <a:pt x="673" y="663"/>
                          </a:lnTo>
                          <a:lnTo>
                            <a:pt x="670" y="663"/>
                          </a:lnTo>
                          <a:lnTo>
                            <a:pt x="666" y="663"/>
                          </a:lnTo>
                          <a:lnTo>
                            <a:pt x="660" y="665"/>
                          </a:lnTo>
                          <a:lnTo>
                            <a:pt x="656" y="665"/>
                          </a:lnTo>
                          <a:lnTo>
                            <a:pt x="652" y="667"/>
                          </a:lnTo>
                          <a:lnTo>
                            <a:pt x="753" y="213"/>
                          </a:lnTo>
                          <a:lnTo>
                            <a:pt x="753" y="209"/>
                          </a:lnTo>
                          <a:lnTo>
                            <a:pt x="753" y="207"/>
                          </a:lnTo>
                          <a:lnTo>
                            <a:pt x="753" y="203"/>
                          </a:lnTo>
                          <a:lnTo>
                            <a:pt x="753" y="201"/>
                          </a:lnTo>
                          <a:lnTo>
                            <a:pt x="753" y="198"/>
                          </a:lnTo>
                          <a:lnTo>
                            <a:pt x="753" y="196"/>
                          </a:lnTo>
                          <a:lnTo>
                            <a:pt x="753" y="192"/>
                          </a:lnTo>
                          <a:lnTo>
                            <a:pt x="753" y="190"/>
                          </a:lnTo>
                          <a:lnTo>
                            <a:pt x="753" y="188"/>
                          </a:lnTo>
                          <a:lnTo>
                            <a:pt x="753" y="184"/>
                          </a:lnTo>
                          <a:lnTo>
                            <a:pt x="753" y="182"/>
                          </a:lnTo>
                          <a:lnTo>
                            <a:pt x="753" y="181"/>
                          </a:lnTo>
                          <a:lnTo>
                            <a:pt x="753" y="175"/>
                          </a:lnTo>
                          <a:lnTo>
                            <a:pt x="753" y="169"/>
                          </a:lnTo>
                          <a:lnTo>
                            <a:pt x="751" y="167"/>
                          </a:lnTo>
                          <a:lnTo>
                            <a:pt x="751" y="163"/>
                          </a:lnTo>
                          <a:lnTo>
                            <a:pt x="751" y="162"/>
                          </a:lnTo>
                          <a:lnTo>
                            <a:pt x="750" y="160"/>
                          </a:lnTo>
                          <a:lnTo>
                            <a:pt x="748" y="154"/>
                          </a:lnTo>
                          <a:lnTo>
                            <a:pt x="746" y="148"/>
                          </a:lnTo>
                          <a:lnTo>
                            <a:pt x="744" y="144"/>
                          </a:lnTo>
                          <a:lnTo>
                            <a:pt x="742" y="141"/>
                          </a:lnTo>
                          <a:lnTo>
                            <a:pt x="740" y="135"/>
                          </a:lnTo>
                          <a:lnTo>
                            <a:pt x="738" y="131"/>
                          </a:lnTo>
                          <a:lnTo>
                            <a:pt x="734" y="127"/>
                          </a:lnTo>
                          <a:lnTo>
                            <a:pt x="730" y="124"/>
                          </a:lnTo>
                          <a:lnTo>
                            <a:pt x="727" y="120"/>
                          </a:lnTo>
                          <a:lnTo>
                            <a:pt x="725" y="116"/>
                          </a:lnTo>
                          <a:lnTo>
                            <a:pt x="721" y="112"/>
                          </a:lnTo>
                          <a:lnTo>
                            <a:pt x="717" y="108"/>
                          </a:lnTo>
                          <a:lnTo>
                            <a:pt x="713" y="105"/>
                          </a:lnTo>
                          <a:lnTo>
                            <a:pt x="710" y="103"/>
                          </a:lnTo>
                          <a:lnTo>
                            <a:pt x="704" y="99"/>
                          </a:lnTo>
                          <a:lnTo>
                            <a:pt x="700" y="97"/>
                          </a:lnTo>
                          <a:lnTo>
                            <a:pt x="694" y="95"/>
                          </a:lnTo>
                          <a:lnTo>
                            <a:pt x="691" y="91"/>
                          </a:lnTo>
                          <a:lnTo>
                            <a:pt x="685" y="89"/>
                          </a:lnTo>
                          <a:lnTo>
                            <a:pt x="681" y="87"/>
                          </a:lnTo>
                          <a:lnTo>
                            <a:pt x="675" y="86"/>
                          </a:lnTo>
                          <a:lnTo>
                            <a:pt x="672" y="86"/>
                          </a:lnTo>
                          <a:lnTo>
                            <a:pt x="668" y="84"/>
                          </a:lnTo>
                          <a:lnTo>
                            <a:pt x="666" y="84"/>
                          </a:lnTo>
                          <a:lnTo>
                            <a:pt x="664" y="84"/>
                          </a:lnTo>
                          <a:lnTo>
                            <a:pt x="660" y="84"/>
                          </a:lnTo>
                          <a:lnTo>
                            <a:pt x="658" y="84"/>
                          </a:lnTo>
                          <a:lnTo>
                            <a:pt x="654" y="84"/>
                          </a:lnTo>
                          <a:lnTo>
                            <a:pt x="652" y="84"/>
                          </a:lnTo>
                          <a:lnTo>
                            <a:pt x="651" y="84"/>
                          </a:lnTo>
                          <a:lnTo>
                            <a:pt x="647" y="84"/>
                          </a:lnTo>
                          <a:lnTo>
                            <a:pt x="645" y="84"/>
                          </a:lnTo>
                          <a:lnTo>
                            <a:pt x="643" y="84"/>
                          </a:lnTo>
                          <a:lnTo>
                            <a:pt x="639" y="84"/>
                          </a:lnTo>
                          <a:lnTo>
                            <a:pt x="635" y="84"/>
                          </a:lnTo>
                          <a:lnTo>
                            <a:pt x="630" y="84"/>
                          </a:lnTo>
                          <a:lnTo>
                            <a:pt x="628" y="84"/>
                          </a:lnTo>
                          <a:lnTo>
                            <a:pt x="624" y="86"/>
                          </a:lnTo>
                          <a:lnTo>
                            <a:pt x="622" y="86"/>
                          </a:lnTo>
                          <a:lnTo>
                            <a:pt x="618" y="86"/>
                          </a:lnTo>
                          <a:lnTo>
                            <a:pt x="614" y="87"/>
                          </a:lnTo>
                          <a:lnTo>
                            <a:pt x="609" y="89"/>
                          </a:lnTo>
                          <a:lnTo>
                            <a:pt x="603" y="91"/>
                          </a:lnTo>
                          <a:lnTo>
                            <a:pt x="599" y="95"/>
                          </a:lnTo>
                          <a:lnTo>
                            <a:pt x="595" y="97"/>
                          </a:lnTo>
                          <a:lnTo>
                            <a:pt x="592" y="99"/>
                          </a:lnTo>
                          <a:lnTo>
                            <a:pt x="586" y="103"/>
                          </a:lnTo>
                          <a:lnTo>
                            <a:pt x="582" y="105"/>
                          </a:lnTo>
                          <a:lnTo>
                            <a:pt x="578" y="108"/>
                          </a:lnTo>
                          <a:lnTo>
                            <a:pt x="574" y="112"/>
                          </a:lnTo>
                          <a:lnTo>
                            <a:pt x="571" y="116"/>
                          </a:lnTo>
                          <a:lnTo>
                            <a:pt x="567" y="120"/>
                          </a:lnTo>
                          <a:lnTo>
                            <a:pt x="565" y="124"/>
                          </a:lnTo>
                          <a:lnTo>
                            <a:pt x="563" y="127"/>
                          </a:lnTo>
                          <a:lnTo>
                            <a:pt x="559" y="131"/>
                          </a:lnTo>
                          <a:lnTo>
                            <a:pt x="555" y="135"/>
                          </a:lnTo>
                          <a:lnTo>
                            <a:pt x="554" y="141"/>
                          </a:lnTo>
                          <a:lnTo>
                            <a:pt x="552" y="146"/>
                          </a:lnTo>
                          <a:lnTo>
                            <a:pt x="550" y="150"/>
                          </a:lnTo>
                          <a:lnTo>
                            <a:pt x="548" y="156"/>
                          </a:lnTo>
                          <a:lnTo>
                            <a:pt x="546" y="158"/>
                          </a:lnTo>
                          <a:lnTo>
                            <a:pt x="546" y="160"/>
                          </a:lnTo>
                          <a:lnTo>
                            <a:pt x="544" y="163"/>
                          </a:lnTo>
                          <a:lnTo>
                            <a:pt x="544" y="167"/>
                          </a:lnTo>
                          <a:lnTo>
                            <a:pt x="361" y="1127"/>
                          </a:lnTo>
                          <a:lnTo>
                            <a:pt x="361" y="1127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53" name="AutoShape 953"/>
                  <p:cNvSpPr/>
                  <p:nvPr/>
                </p:nvSpPr>
                <p:spPr>
                  <a:xfrm rot="10690800">
                    <a:off x="4490640" y="2784600"/>
                    <a:ext cx="88560" cy="75960"/>
                  </a:xfrm>
                  <a:prstGeom prst="hexagon">
                    <a:avLst>
                      <a:gd name="adj" fmla="val 29147"/>
                      <a:gd name="vf" fmla="val 115470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4" name="Group 954"/>
                <p:cNvGrpSpPr/>
                <p:nvPr/>
              </p:nvGrpSpPr>
              <p:grpSpPr>
                <a:xfrm>
                  <a:off x="4559040" y="1948320"/>
                  <a:ext cx="286920" cy="2366280"/>
                  <a:chOff x="4559040" y="1948320"/>
                  <a:chExt cx="286920" cy="2366280"/>
                </a:xfrm>
              </p:grpSpPr>
              <p:grpSp>
                <p:nvGrpSpPr>
                  <p:cNvPr id="1155" name="Group 955"/>
                  <p:cNvGrpSpPr/>
                  <p:nvPr/>
                </p:nvGrpSpPr>
                <p:grpSpPr>
                  <a:xfrm>
                    <a:off x="4559040" y="1948320"/>
                    <a:ext cx="278640" cy="1244880"/>
                    <a:chOff x="4559040" y="1948320"/>
                    <a:chExt cx="278640" cy="1244880"/>
                  </a:xfrm>
                </p:grpSpPr>
                <p:grpSp>
                  <p:nvGrpSpPr>
                    <p:cNvPr id="1156" name="Group 956"/>
                    <p:cNvGrpSpPr/>
                    <p:nvPr/>
                  </p:nvGrpSpPr>
                  <p:grpSpPr>
                    <a:xfrm>
                      <a:off x="4596480" y="2582640"/>
                      <a:ext cx="241200" cy="610560"/>
                      <a:chOff x="4596480" y="2582640"/>
                      <a:chExt cx="241200" cy="610560"/>
                    </a:xfrm>
                  </p:grpSpPr>
                  <p:sp>
                    <p:nvSpPr>
                      <p:cNvPr id="1157" name="AutoShape 957"/>
                      <p:cNvSpPr/>
                      <p:nvPr/>
                    </p:nvSpPr>
                    <p:spPr>
                      <a:xfrm rot="10707000">
                        <a:off x="4623480" y="2584800"/>
                        <a:ext cx="179640" cy="49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1556" y="21600"/>
                            </a:lnTo>
                            <a:lnTo>
                              <a:pt x="20044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58" name="AutoShape 958"/>
                      <p:cNvSpPr/>
                      <p:nvPr/>
                    </p:nvSpPr>
                    <p:spPr>
                      <a:xfrm rot="16285200">
                        <a:off x="4620960" y="2976120"/>
                        <a:ext cx="191520" cy="23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934" y="2201"/>
                              <a:pt x="12267" y="5080"/>
                              <a:pt x="12267" y="10800"/>
                            </a:cubicBezTo>
                            <a:cubicBezTo>
                              <a:pt x="12267" y="16520"/>
                              <a:pt x="16934" y="19399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59" name="Group 959"/>
                    <p:cNvGrpSpPr/>
                    <p:nvPr/>
                  </p:nvGrpSpPr>
                  <p:grpSpPr>
                    <a:xfrm>
                      <a:off x="4559040" y="1948320"/>
                      <a:ext cx="253800" cy="747360"/>
                      <a:chOff x="4559040" y="1948320"/>
                      <a:chExt cx="253800" cy="747360"/>
                    </a:xfrm>
                  </p:grpSpPr>
                  <p:sp>
                    <p:nvSpPr>
                      <p:cNvPr id="1160" name="AutoShape 960"/>
                      <p:cNvSpPr/>
                      <p:nvPr/>
                    </p:nvSpPr>
                    <p:spPr>
                      <a:xfrm rot="10722000">
                        <a:off x="4612320" y="2202480"/>
                        <a:ext cx="180360" cy="360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4308" y="21600"/>
                            </a:lnTo>
                            <a:lnTo>
                              <a:pt x="17292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61" name="Oval 961"/>
                      <p:cNvSpPr/>
                      <p:nvPr/>
                    </p:nvSpPr>
                    <p:spPr>
                      <a:xfrm rot="11260800">
                        <a:off x="4613400" y="2493360"/>
                        <a:ext cx="187200" cy="190440"/>
                      </a:xfrm>
                      <a:prstGeom prst="ellipse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62" name="Freeform 962"/>
                      <p:cNvSpPr/>
                      <p:nvPr/>
                    </p:nvSpPr>
                    <p:spPr>
                      <a:xfrm rot="20755800">
                        <a:off x="4591080" y="1965240"/>
                        <a:ext cx="175680" cy="28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02" h="2302">
                            <a:moveTo>
                              <a:pt x="361" y="1127"/>
                            </a:moveTo>
                            <a:lnTo>
                              <a:pt x="280" y="1116"/>
                            </a:lnTo>
                            <a:lnTo>
                              <a:pt x="373" y="711"/>
                            </a:lnTo>
                            <a:lnTo>
                              <a:pt x="373" y="709"/>
                            </a:lnTo>
                            <a:lnTo>
                              <a:pt x="375" y="705"/>
                            </a:lnTo>
                            <a:lnTo>
                              <a:pt x="375" y="703"/>
                            </a:lnTo>
                            <a:lnTo>
                              <a:pt x="375" y="700"/>
                            </a:lnTo>
                            <a:lnTo>
                              <a:pt x="375" y="698"/>
                            </a:lnTo>
                            <a:lnTo>
                              <a:pt x="375" y="696"/>
                            </a:lnTo>
                            <a:lnTo>
                              <a:pt x="375" y="692"/>
                            </a:lnTo>
                            <a:lnTo>
                              <a:pt x="375" y="690"/>
                            </a:lnTo>
                            <a:lnTo>
                              <a:pt x="375" y="684"/>
                            </a:lnTo>
                            <a:lnTo>
                              <a:pt x="375" y="681"/>
                            </a:lnTo>
                            <a:lnTo>
                              <a:pt x="375" y="675"/>
                            </a:lnTo>
                            <a:lnTo>
                              <a:pt x="375" y="669"/>
                            </a:lnTo>
                            <a:lnTo>
                              <a:pt x="371" y="665"/>
                            </a:lnTo>
                            <a:lnTo>
                              <a:pt x="371" y="660"/>
                            </a:lnTo>
                            <a:lnTo>
                              <a:pt x="369" y="654"/>
                            </a:lnTo>
                            <a:lnTo>
                              <a:pt x="367" y="652"/>
                            </a:lnTo>
                            <a:lnTo>
                              <a:pt x="365" y="646"/>
                            </a:lnTo>
                            <a:lnTo>
                              <a:pt x="363" y="641"/>
                            </a:lnTo>
                            <a:lnTo>
                              <a:pt x="361" y="637"/>
                            </a:lnTo>
                            <a:lnTo>
                              <a:pt x="358" y="633"/>
                            </a:lnTo>
                            <a:lnTo>
                              <a:pt x="356" y="629"/>
                            </a:lnTo>
                            <a:lnTo>
                              <a:pt x="354" y="623"/>
                            </a:lnTo>
                            <a:lnTo>
                              <a:pt x="350" y="620"/>
                            </a:lnTo>
                            <a:lnTo>
                              <a:pt x="346" y="616"/>
                            </a:lnTo>
                            <a:lnTo>
                              <a:pt x="342" y="612"/>
                            </a:lnTo>
                            <a:lnTo>
                              <a:pt x="339" y="610"/>
                            </a:lnTo>
                            <a:lnTo>
                              <a:pt x="335" y="606"/>
                            </a:lnTo>
                            <a:lnTo>
                              <a:pt x="331" y="603"/>
                            </a:lnTo>
                            <a:lnTo>
                              <a:pt x="325" y="601"/>
                            </a:lnTo>
                            <a:lnTo>
                              <a:pt x="321" y="597"/>
                            </a:lnTo>
                            <a:lnTo>
                              <a:pt x="318" y="595"/>
                            </a:lnTo>
                            <a:lnTo>
                              <a:pt x="312" y="593"/>
                            </a:lnTo>
                            <a:lnTo>
                              <a:pt x="306" y="591"/>
                            </a:lnTo>
                            <a:lnTo>
                              <a:pt x="302" y="589"/>
                            </a:lnTo>
                            <a:lnTo>
                              <a:pt x="299" y="589"/>
                            </a:lnTo>
                            <a:lnTo>
                              <a:pt x="295" y="587"/>
                            </a:lnTo>
                            <a:lnTo>
                              <a:pt x="291" y="587"/>
                            </a:lnTo>
                            <a:lnTo>
                              <a:pt x="287" y="585"/>
                            </a:lnTo>
                            <a:lnTo>
                              <a:pt x="285" y="585"/>
                            </a:lnTo>
                            <a:lnTo>
                              <a:pt x="283" y="585"/>
                            </a:lnTo>
                            <a:lnTo>
                              <a:pt x="280" y="585"/>
                            </a:lnTo>
                            <a:lnTo>
                              <a:pt x="276" y="585"/>
                            </a:lnTo>
                            <a:lnTo>
                              <a:pt x="274" y="585"/>
                            </a:lnTo>
                            <a:lnTo>
                              <a:pt x="272" y="585"/>
                            </a:lnTo>
                            <a:lnTo>
                              <a:pt x="268" y="585"/>
                            </a:lnTo>
                            <a:lnTo>
                              <a:pt x="266" y="585"/>
                            </a:lnTo>
                            <a:lnTo>
                              <a:pt x="263" y="585"/>
                            </a:lnTo>
                            <a:lnTo>
                              <a:pt x="261" y="587"/>
                            </a:lnTo>
                            <a:lnTo>
                              <a:pt x="259" y="587"/>
                            </a:lnTo>
                            <a:lnTo>
                              <a:pt x="255" y="587"/>
                            </a:lnTo>
                            <a:lnTo>
                              <a:pt x="253" y="589"/>
                            </a:lnTo>
                            <a:lnTo>
                              <a:pt x="249" y="589"/>
                            </a:lnTo>
                            <a:lnTo>
                              <a:pt x="247" y="589"/>
                            </a:lnTo>
                            <a:lnTo>
                              <a:pt x="243" y="591"/>
                            </a:lnTo>
                            <a:lnTo>
                              <a:pt x="240" y="591"/>
                            </a:lnTo>
                            <a:lnTo>
                              <a:pt x="238" y="593"/>
                            </a:lnTo>
                            <a:lnTo>
                              <a:pt x="236" y="595"/>
                            </a:lnTo>
                            <a:lnTo>
                              <a:pt x="232" y="595"/>
                            </a:lnTo>
                            <a:lnTo>
                              <a:pt x="230" y="597"/>
                            </a:lnTo>
                            <a:lnTo>
                              <a:pt x="228" y="599"/>
                            </a:lnTo>
                            <a:lnTo>
                              <a:pt x="224" y="601"/>
                            </a:lnTo>
                            <a:lnTo>
                              <a:pt x="223" y="601"/>
                            </a:lnTo>
                            <a:lnTo>
                              <a:pt x="219" y="603"/>
                            </a:lnTo>
                            <a:lnTo>
                              <a:pt x="217" y="604"/>
                            </a:lnTo>
                            <a:lnTo>
                              <a:pt x="211" y="608"/>
                            </a:lnTo>
                            <a:lnTo>
                              <a:pt x="207" y="612"/>
                            </a:lnTo>
                            <a:lnTo>
                              <a:pt x="204" y="616"/>
                            </a:lnTo>
                            <a:lnTo>
                              <a:pt x="198" y="618"/>
                            </a:lnTo>
                            <a:lnTo>
                              <a:pt x="194" y="623"/>
                            </a:lnTo>
                            <a:lnTo>
                              <a:pt x="188" y="627"/>
                            </a:lnTo>
                            <a:lnTo>
                              <a:pt x="185" y="633"/>
                            </a:lnTo>
                            <a:lnTo>
                              <a:pt x="181" y="637"/>
                            </a:lnTo>
                            <a:lnTo>
                              <a:pt x="177" y="641"/>
                            </a:lnTo>
                            <a:lnTo>
                              <a:pt x="173" y="646"/>
                            </a:lnTo>
                            <a:lnTo>
                              <a:pt x="169" y="652"/>
                            </a:lnTo>
                            <a:lnTo>
                              <a:pt x="166" y="656"/>
                            </a:lnTo>
                            <a:lnTo>
                              <a:pt x="162" y="662"/>
                            </a:lnTo>
                            <a:lnTo>
                              <a:pt x="160" y="665"/>
                            </a:lnTo>
                            <a:lnTo>
                              <a:pt x="158" y="669"/>
                            </a:lnTo>
                            <a:lnTo>
                              <a:pt x="158" y="671"/>
                            </a:lnTo>
                            <a:lnTo>
                              <a:pt x="156" y="673"/>
                            </a:lnTo>
                            <a:lnTo>
                              <a:pt x="154" y="677"/>
                            </a:lnTo>
                            <a:lnTo>
                              <a:pt x="152" y="679"/>
                            </a:lnTo>
                            <a:lnTo>
                              <a:pt x="152" y="681"/>
                            </a:lnTo>
                            <a:lnTo>
                              <a:pt x="150" y="684"/>
                            </a:lnTo>
                            <a:lnTo>
                              <a:pt x="150" y="688"/>
                            </a:lnTo>
                            <a:lnTo>
                              <a:pt x="146" y="694"/>
                            </a:lnTo>
                            <a:lnTo>
                              <a:pt x="145" y="701"/>
                            </a:lnTo>
                            <a:lnTo>
                              <a:pt x="143" y="709"/>
                            </a:lnTo>
                            <a:lnTo>
                              <a:pt x="139" y="717"/>
                            </a:lnTo>
                            <a:lnTo>
                              <a:pt x="137" y="724"/>
                            </a:lnTo>
                            <a:lnTo>
                              <a:pt x="135" y="732"/>
                            </a:lnTo>
                            <a:lnTo>
                              <a:pt x="131" y="739"/>
                            </a:lnTo>
                            <a:lnTo>
                              <a:pt x="129" y="747"/>
                            </a:lnTo>
                            <a:lnTo>
                              <a:pt x="126" y="755"/>
                            </a:lnTo>
                            <a:lnTo>
                              <a:pt x="124" y="760"/>
                            </a:lnTo>
                            <a:lnTo>
                              <a:pt x="122" y="768"/>
                            </a:lnTo>
                            <a:lnTo>
                              <a:pt x="120" y="776"/>
                            </a:lnTo>
                            <a:lnTo>
                              <a:pt x="116" y="781"/>
                            </a:lnTo>
                            <a:lnTo>
                              <a:pt x="114" y="789"/>
                            </a:lnTo>
                            <a:lnTo>
                              <a:pt x="112" y="796"/>
                            </a:lnTo>
                            <a:lnTo>
                              <a:pt x="110" y="804"/>
                            </a:lnTo>
                            <a:lnTo>
                              <a:pt x="107" y="812"/>
                            </a:lnTo>
                            <a:lnTo>
                              <a:pt x="107" y="817"/>
                            </a:lnTo>
                            <a:lnTo>
                              <a:pt x="103" y="823"/>
                            </a:lnTo>
                            <a:lnTo>
                              <a:pt x="101" y="831"/>
                            </a:lnTo>
                            <a:lnTo>
                              <a:pt x="97" y="836"/>
                            </a:lnTo>
                            <a:lnTo>
                              <a:pt x="97" y="844"/>
                            </a:lnTo>
                            <a:lnTo>
                              <a:pt x="93" y="852"/>
                            </a:lnTo>
                            <a:lnTo>
                              <a:pt x="93" y="857"/>
                            </a:lnTo>
                            <a:lnTo>
                              <a:pt x="89" y="865"/>
                            </a:lnTo>
                            <a:lnTo>
                              <a:pt x="88" y="871"/>
                            </a:lnTo>
                            <a:lnTo>
                              <a:pt x="86" y="878"/>
                            </a:lnTo>
                            <a:lnTo>
                              <a:pt x="84" y="884"/>
                            </a:lnTo>
                            <a:lnTo>
                              <a:pt x="82" y="892"/>
                            </a:lnTo>
                            <a:lnTo>
                              <a:pt x="80" y="899"/>
                            </a:lnTo>
                            <a:lnTo>
                              <a:pt x="78" y="907"/>
                            </a:lnTo>
                            <a:lnTo>
                              <a:pt x="74" y="912"/>
                            </a:lnTo>
                            <a:lnTo>
                              <a:pt x="72" y="920"/>
                            </a:lnTo>
                            <a:lnTo>
                              <a:pt x="72" y="926"/>
                            </a:lnTo>
                            <a:lnTo>
                              <a:pt x="68" y="931"/>
                            </a:lnTo>
                            <a:lnTo>
                              <a:pt x="67" y="939"/>
                            </a:lnTo>
                            <a:lnTo>
                              <a:pt x="65" y="945"/>
                            </a:lnTo>
                            <a:lnTo>
                              <a:pt x="63" y="952"/>
                            </a:lnTo>
                            <a:lnTo>
                              <a:pt x="59" y="958"/>
                            </a:lnTo>
                            <a:lnTo>
                              <a:pt x="57" y="966"/>
                            </a:lnTo>
                            <a:lnTo>
                              <a:pt x="55" y="971"/>
                            </a:lnTo>
                            <a:lnTo>
                              <a:pt x="53" y="979"/>
                            </a:lnTo>
                            <a:lnTo>
                              <a:pt x="51" y="987"/>
                            </a:lnTo>
                            <a:lnTo>
                              <a:pt x="49" y="994"/>
                            </a:lnTo>
                            <a:lnTo>
                              <a:pt x="48" y="1000"/>
                            </a:lnTo>
                            <a:lnTo>
                              <a:pt x="46" y="1007"/>
                            </a:lnTo>
                            <a:lnTo>
                              <a:pt x="44" y="1015"/>
                            </a:lnTo>
                            <a:lnTo>
                              <a:pt x="42" y="1021"/>
                            </a:lnTo>
                            <a:lnTo>
                              <a:pt x="42" y="1028"/>
                            </a:lnTo>
                            <a:lnTo>
                              <a:pt x="38" y="1036"/>
                            </a:lnTo>
                            <a:lnTo>
                              <a:pt x="36" y="1042"/>
                            </a:lnTo>
                            <a:lnTo>
                              <a:pt x="36" y="1049"/>
                            </a:lnTo>
                            <a:lnTo>
                              <a:pt x="34" y="1057"/>
                            </a:lnTo>
                            <a:lnTo>
                              <a:pt x="30" y="1063"/>
                            </a:lnTo>
                            <a:lnTo>
                              <a:pt x="30" y="1070"/>
                            </a:lnTo>
                            <a:lnTo>
                              <a:pt x="29" y="1078"/>
                            </a:lnTo>
                            <a:lnTo>
                              <a:pt x="27" y="1085"/>
                            </a:lnTo>
                            <a:lnTo>
                              <a:pt x="25" y="1093"/>
                            </a:lnTo>
                            <a:lnTo>
                              <a:pt x="23" y="1101"/>
                            </a:lnTo>
                            <a:lnTo>
                              <a:pt x="21" y="1108"/>
                            </a:lnTo>
                            <a:lnTo>
                              <a:pt x="19" y="1116"/>
                            </a:lnTo>
                            <a:lnTo>
                              <a:pt x="17" y="1123"/>
                            </a:lnTo>
                            <a:lnTo>
                              <a:pt x="17" y="1131"/>
                            </a:lnTo>
                            <a:lnTo>
                              <a:pt x="15" y="1139"/>
                            </a:lnTo>
                            <a:lnTo>
                              <a:pt x="13" y="1148"/>
                            </a:lnTo>
                            <a:lnTo>
                              <a:pt x="10" y="1158"/>
                            </a:lnTo>
                            <a:lnTo>
                              <a:pt x="10" y="1165"/>
                            </a:lnTo>
                            <a:lnTo>
                              <a:pt x="8" y="1175"/>
                            </a:lnTo>
                            <a:lnTo>
                              <a:pt x="6" y="1182"/>
                            </a:lnTo>
                            <a:lnTo>
                              <a:pt x="6" y="1192"/>
                            </a:lnTo>
                            <a:lnTo>
                              <a:pt x="4" y="1201"/>
                            </a:lnTo>
                            <a:lnTo>
                              <a:pt x="2" y="1211"/>
                            </a:lnTo>
                            <a:lnTo>
                              <a:pt x="2" y="1218"/>
                            </a:lnTo>
                            <a:lnTo>
                              <a:pt x="0" y="1230"/>
                            </a:lnTo>
                            <a:lnTo>
                              <a:pt x="0" y="1237"/>
                            </a:lnTo>
                            <a:lnTo>
                              <a:pt x="0" y="1247"/>
                            </a:lnTo>
                            <a:lnTo>
                              <a:pt x="0" y="1257"/>
                            </a:lnTo>
                            <a:lnTo>
                              <a:pt x="0" y="1268"/>
                            </a:lnTo>
                            <a:lnTo>
                              <a:pt x="0" y="1276"/>
                            </a:lnTo>
                            <a:lnTo>
                              <a:pt x="0" y="1285"/>
                            </a:lnTo>
                            <a:lnTo>
                              <a:pt x="0" y="1296"/>
                            </a:lnTo>
                            <a:lnTo>
                              <a:pt x="0" y="1304"/>
                            </a:lnTo>
                            <a:lnTo>
                              <a:pt x="0" y="1314"/>
                            </a:lnTo>
                            <a:lnTo>
                              <a:pt x="0" y="1323"/>
                            </a:lnTo>
                            <a:lnTo>
                              <a:pt x="0" y="1333"/>
                            </a:lnTo>
                            <a:lnTo>
                              <a:pt x="2" y="1342"/>
                            </a:lnTo>
                            <a:lnTo>
                              <a:pt x="2" y="1352"/>
                            </a:lnTo>
                            <a:lnTo>
                              <a:pt x="4" y="1363"/>
                            </a:lnTo>
                            <a:lnTo>
                              <a:pt x="4" y="1371"/>
                            </a:lnTo>
                            <a:lnTo>
                              <a:pt x="6" y="1382"/>
                            </a:lnTo>
                            <a:lnTo>
                              <a:pt x="8" y="1390"/>
                            </a:lnTo>
                            <a:lnTo>
                              <a:pt x="8" y="1401"/>
                            </a:lnTo>
                            <a:lnTo>
                              <a:pt x="10" y="1409"/>
                            </a:lnTo>
                            <a:lnTo>
                              <a:pt x="11" y="1420"/>
                            </a:lnTo>
                            <a:lnTo>
                              <a:pt x="13" y="1429"/>
                            </a:lnTo>
                            <a:lnTo>
                              <a:pt x="15" y="1439"/>
                            </a:lnTo>
                            <a:lnTo>
                              <a:pt x="17" y="1448"/>
                            </a:lnTo>
                            <a:lnTo>
                              <a:pt x="19" y="1458"/>
                            </a:lnTo>
                            <a:lnTo>
                              <a:pt x="21" y="1468"/>
                            </a:lnTo>
                            <a:lnTo>
                              <a:pt x="23" y="1477"/>
                            </a:lnTo>
                            <a:lnTo>
                              <a:pt x="27" y="1487"/>
                            </a:lnTo>
                            <a:lnTo>
                              <a:pt x="29" y="1496"/>
                            </a:lnTo>
                            <a:lnTo>
                              <a:pt x="30" y="1506"/>
                            </a:lnTo>
                            <a:lnTo>
                              <a:pt x="34" y="1515"/>
                            </a:lnTo>
                            <a:lnTo>
                              <a:pt x="36" y="1525"/>
                            </a:lnTo>
                            <a:lnTo>
                              <a:pt x="38" y="1534"/>
                            </a:lnTo>
                            <a:lnTo>
                              <a:pt x="42" y="1544"/>
                            </a:lnTo>
                            <a:lnTo>
                              <a:pt x="46" y="1553"/>
                            </a:lnTo>
                            <a:lnTo>
                              <a:pt x="48" y="1561"/>
                            </a:lnTo>
                            <a:lnTo>
                              <a:pt x="51" y="1572"/>
                            </a:lnTo>
                            <a:lnTo>
                              <a:pt x="55" y="1580"/>
                            </a:lnTo>
                            <a:lnTo>
                              <a:pt x="59" y="1589"/>
                            </a:lnTo>
                            <a:lnTo>
                              <a:pt x="63" y="1599"/>
                            </a:lnTo>
                            <a:lnTo>
                              <a:pt x="67" y="1608"/>
                            </a:lnTo>
                            <a:lnTo>
                              <a:pt x="68" y="1616"/>
                            </a:lnTo>
                            <a:lnTo>
                              <a:pt x="74" y="1627"/>
                            </a:lnTo>
                            <a:lnTo>
                              <a:pt x="78" y="1635"/>
                            </a:lnTo>
                            <a:lnTo>
                              <a:pt x="82" y="1644"/>
                            </a:lnTo>
                            <a:lnTo>
                              <a:pt x="86" y="1652"/>
                            </a:lnTo>
                            <a:lnTo>
                              <a:pt x="89" y="1661"/>
                            </a:lnTo>
                            <a:lnTo>
                              <a:pt x="95" y="1669"/>
                            </a:lnTo>
                            <a:lnTo>
                              <a:pt x="99" y="1679"/>
                            </a:lnTo>
                            <a:lnTo>
                              <a:pt x="103" y="1688"/>
                            </a:lnTo>
                            <a:lnTo>
                              <a:pt x="108" y="1696"/>
                            </a:lnTo>
                            <a:lnTo>
                              <a:pt x="114" y="1703"/>
                            </a:lnTo>
                            <a:lnTo>
                              <a:pt x="118" y="1713"/>
                            </a:lnTo>
                            <a:lnTo>
                              <a:pt x="124" y="1722"/>
                            </a:lnTo>
                            <a:lnTo>
                              <a:pt x="127" y="1732"/>
                            </a:lnTo>
                            <a:lnTo>
                              <a:pt x="131" y="1736"/>
                            </a:lnTo>
                            <a:lnTo>
                              <a:pt x="135" y="1739"/>
                            </a:lnTo>
                            <a:lnTo>
                              <a:pt x="135" y="1743"/>
                            </a:lnTo>
                            <a:lnTo>
                              <a:pt x="137" y="1745"/>
                            </a:lnTo>
                            <a:lnTo>
                              <a:pt x="139" y="1747"/>
                            </a:lnTo>
                            <a:lnTo>
                              <a:pt x="141" y="1751"/>
                            </a:lnTo>
                            <a:lnTo>
                              <a:pt x="143" y="1755"/>
                            </a:lnTo>
                            <a:lnTo>
                              <a:pt x="143" y="1756"/>
                            </a:lnTo>
                            <a:lnTo>
                              <a:pt x="145" y="1760"/>
                            </a:lnTo>
                            <a:lnTo>
                              <a:pt x="146" y="1762"/>
                            </a:lnTo>
                            <a:lnTo>
                              <a:pt x="148" y="1766"/>
                            </a:lnTo>
                            <a:lnTo>
                              <a:pt x="150" y="1768"/>
                            </a:lnTo>
                            <a:lnTo>
                              <a:pt x="152" y="1770"/>
                            </a:lnTo>
                            <a:lnTo>
                              <a:pt x="156" y="1774"/>
                            </a:lnTo>
                            <a:lnTo>
                              <a:pt x="158" y="1777"/>
                            </a:lnTo>
                            <a:lnTo>
                              <a:pt x="160" y="1779"/>
                            </a:lnTo>
                            <a:lnTo>
                              <a:pt x="160" y="1783"/>
                            </a:lnTo>
                            <a:lnTo>
                              <a:pt x="162" y="1787"/>
                            </a:lnTo>
                            <a:lnTo>
                              <a:pt x="166" y="1789"/>
                            </a:lnTo>
                            <a:lnTo>
                              <a:pt x="166" y="1791"/>
                            </a:lnTo>
                            <a:lnTo>
                              <a:pt x="167" y="1794"/>
                            </a:lnTo>
                            <a:lnTo>
                              <a:pt x="169" y="1796"/>
                            </a:lnTo>
                            <a:lnTo>
                              <a:pt x="171" y="1800"/>
                            </a:lnTo>
                            <a:lnTo>
                              <a:pt x="173" y="1802"/>
                            </a:lnTo>
                            <a:lnTo>
                              <a:pt x="175" y="1806"/>
                            </a:lnTo>
                            <a:lnTo>
                              <a:pt x="177" y="1808"/>
                            </a:lnTo>
                            <a:lnTo>
                              <a:pt x="179" y="1812"/>
                            </a:lnTo>
                            <a:lnTo>
                              <a:pt x="181" y="1815"/>
                            </a:lnTo>
                            <a:lnTo>
                              <a:pt x="183" y="1817"/>
                            </a:lnTo>
                            <a:lnTo>
                              <a:pt x="185" y="1821"/>
                            </a:lnTo>
                            <a:lnTo>
                              <a:pt x="188" y="1827"/>
                            </a:lnTo>
                            <a:lnTo>
                              <a:pt x="190" y="1831"/>
                            </a:lnTo>
                            <a:lnTo>
                              <a:pt x="194" y="1836"/>
                            </a:lnTo>
                            <a:lnTo>
                              <a:pt x="198" y="1842"/>
                            </a:lnTo>
                            <a:lnTo>
                              <a:pt x="200" y="1846"/>
                            </a:lnTo>
                            <a:lnTo>
                              <a:pt x="204" y="1850"/>
                            </a:lnTo>
                            <a:lnTo>
                              <a:pt x="205" y="1853"/>
                            </a:lnTo>
                            <a:lnTo>
                              <a:pt x="207" y="1859"/>
                            </a:lnTo>
                            <a:lnTo>
                              <a:pt x="209" y="1861"/>
                            </a:lnTo>
                            <a:lnTo>
                              <a:pt x="211" y="1863"/>
                            </a:lnTo>
                            <a:lnTo>
                              <a:pt x="213" y="1867"/>
                            </a:lnTo>
                            <a:lnTo>
                              <a:pt x="215" y="1869"/>
                            </a:lnTo>
                            <a:lnTo>
                              <a:pt x="217" y="1870"/>
                            </a:lnTo>
                            <a:lnTo>
                              <a:pt x="219" y="1874"/>
                            </a:lnTo>
                            <a:lnTo>
                              <a:pt x="141" y="2163"/>
                            </a:lnTo>
                            <a:lnTo>
                              <a:pt x="143" y="2165"/>
                            </a:lnTo>
                            <a:lnTo>
                              <a:pt x="146" y="2165"/>
                            </a:lnTo>
                            <a:lnTo>
                              <a:pt x="150" y="2167"/>
                            </a:lnTo>
                            <a:lnTo>
                              <a:pt x="152" y="2167"/>
                            </a:lnTo>
                            <a:lnTo>
                              <a:pt x="154" y="2167"/>
                            </a:lnTo>
                            <a:lnTo>
                              <a:pt x="158" y="2167"/>
                            </a:lnTo>
                            <a:lnTo>
                              <a:pt x="162" y="2171"/>
                            </a:lnTo>
                            <a:lnTo>
                              <a:pt x="166" y="2171"/>
                            </a:lnTo>
                            <a:lnTo>
                              <a:pt x="167" y="2173"/>
                            </a:lnTo>
                            <a:lnTo>
                              <a:pt x="171" y="2173"/>
                            </a:lnTo>
                            <a:lnTo>
                              <a:pt x="175" y="2175"/>
                            </a:lnTo>
                            <a:lnTo>
                              <a:pt x="181" y="2175"/>
                            </a:lnTo>
                            <a:lnTo>
                              <a:pt x="185" y="2175"/>
                            </a:lnTo>
                            <a:lnTo>
                              <a:pt x="188" y="2177"/>
                            </a:lnTo>
                            <a:lnTo>
                              <a:pt x="194" y="2180"/>
                            </a:lnTo>
                            <a:lnTo>
                              <a:pt x="198" y="2180"/>
                            </a:lnTo>
                            <a:lnTo>
                              <a:pt x="204" y="2182"/>
                            </a:lnTo>
                            <a:lnTo>
                              <a:pt x="209" y="2182"/>
                            </a:lnTo>
                            <a:lnTo>
                              <a:pt x="215" y="2184"/>
                            </a:lnTo>
                            <a:lnTo>
                              <a:pt x="219" y="2186"/>
                            </a:lnTo>
                            <a:lnTo>
                              <a:pt x="224" y="2188"/>
                            </a:lnTo>
                            <a:lnTo>
                              <a:pt x="232" y="2188"/>
                            </a:lnTo>
                            <a:lnTo>
                              <a:pt x="238" y="2190"/>
                            </a:lnTo>
                            <a:lnTo>
                              <a:pt x="243" y="2190"/>
                            </a:lnTo>
                            <a:lnTo>
                              <a:pt x="251" y="2192"/>
                            </a:lnTo>
                            <a:lnTo>
                              <a:pt x="257" y="2194"/>
                            </a:lnTo>
                            <a:lnTo>
                              <a:pt x="264" y="2194"/>
                            </a:lnTo>
                            <a:lnTo>
                              <a:pt x="270" y="2196"/>
                            </a:lnTo>
                            <a:lnTo>
                              <a:pt x="276" y="2196"/>
                            </a:lnTo>
                            <a:lnTo>
                              <a:pt x="283" y="2197"/>
                            </a:lnTo>
                            <a:lnTo>
                              <a:pt x="291" y="2199"/>
                            </a:lnTo>
                            <a:lnTo>
                              <a:pt x="297" y="2199"/>
                            </a:lnTo>
                            <a:lnTo>
                              <a:pt x="304" y="2199"/>
                            </a:lnTo>
                            <a:lnTo>
                              <a:pt x="312" y="2199"/>
                            </a:lnTo>
                            <a:lnTo>
                              <a:pt x="320" y="2201"/>
                            </a:lnTo>
                            <a:lnTo>
                              <a:pt x="325" y="2201"/>
                            </a:lnTo>
                            <a:lnTo>
                              <a:pt x="333" y="2201"/>
                            </a:lnTo>
                            <a:lnTo>
                              <a:pt x="341" y="2201"/>
                            </a:lnTo>
                            <a:lnTo>
                              <a:pt x="348" y="2201"/>
                            </a:lnTo>
                            <a:lnTo>
                              <a:pt x="356" y="2201"/>
                            </a:lnTo>
                            <a:lnTo>
                              <a:pt x="363" y="2201"/>
                            </a:lnTo>
                            <a:lnTo>
                              <a:pt x="371" y="2201"/>
                            </a:lnTo>
                            <a:lnTo>
                              <a:pt x="379" y="2201"/>
                            </a:lnTo>
                            <a:lnTo>
                              <a:pt x="386" y="2201"/>
                            </a:lnTo>
                            <a:lnTo>
                              <a:pt x="394" y="2201"/>
                            </a:lnTo>
                            <a:lnTo>
                              <a:pt x="401" y="2199"/>
                            </a:lnTo>
                            <a:lnTo>
                              <a:pt x="409" y="2199"/>
                            </a:lnTo>
                            <a:lnTo>
                              <a:pt x="415" y="2197"/>
                            </a:lnTo>
                            <a:lnTo>
                              <a:pt x="422" y="2196"/>
                            </a:lnTo>
                            <a:lnTo>
                              <a:pt x="432" y="2196"/>
                            </a:lnTo>
                            <a:lnTo>
                              <a:pt x="439" y="2194"/>
                            </a:lnTo>
                            <a:lnTo>
                              <a:pt x="447" y="2192"/>
                            </a:lnTo>
                            <a:lnTo>
                              <a:pt x="455" y="2190"/>
                            </a:lnTo>
                            <a:lnTo>
                              <a:pt x="462" y="2188"/>
                            </a:lnTo>
                            <a:lnTo>
                              <a:pt x="470" y="2188"/>
                            </a:lnTo>
                            <a:lnTo>
                              <a:pt x="476" y="2184"/>
                            </a:lnTo>
                            <a:lnTo>
                              <a:pt x="483" y="2182"/>
                            </a:lnTo>
                            <a:lnTo>
                              <a:pt x="491" y="2180"/>
                            </a:lnTo>
                            <a:lnTo>
                              <a:pt x="498" y="2175"/>
                            </a:lnTo>
                            <a:lnTo>
                              <a:pt x="504" y="2173"/>
                            </a:lnTo>
                            <a:lnTo>
                              <a:pt x="512" y="2169"/>
                            </a:lnTo>
                            <a:lnTo>
                              <a:pt x="517" y="2165"/>
                            </a:lnTo>
                            <a:lnTo>
                              <a:pt x="525" y="2161"/>
                            </a:lnTo>
                            <a:lnTo>
                              <a:pt x="531" y="2158"/>
                            </a:lnTo>
                            <a:lnTo>
                              <a:pt x="536" y="2154"/>
                            </a:lnTo>
                            <a:lnTo>
                              <a:pt x="542" y="2150"/>
                            </a:lnTo>
                            <a:lnTo>
                              <a:pt x="550" y="2146"/>
                            </a:lnTo>
                            <a:lnTo>
                              <a:pt x="555" y="2142"/>
                            </a:lnTo>
                            <a:lnTo>
                              <a:pt x="559" y="2137"/>
                            </a:lnTo>
                            <a:lnTo>
                              <a:pt x="565" y="2133"/>
                            </a:lnTo>
                            <a:lnTo>
                              <a:pt x="571" y="2129"/>
                            </a:lnTo>
                            <a:lnTo>
                              <a:pt x="576" y="2123"/>
                            </a:lnTo>
                            <a:lnTo>
                              <a:pt x="582" y="2120"/>
                            </a:lnTo>
                            <a:lnTo>
                              <a:pt x="588" y="2114"/>
                            </a:lnTo>
                            <a:lnTo>
                              <a:pt x="592" y="2110"/>
                            </a:lnTo>
                            <a:lnTo>
                              <a:pt x="595" y="2106"/>
                            </a:lnTo>
                            <a:lnTo>
                              <a:pt x="601" y="2101"/>
                            </a:lnTo>
                            <a:lnTo>
                              <a:pt x="605" y="2095"/>
                            </a:lnTo>
                            <a:lnTo>
                              <a:pt x="611" y="2091"/>
                            </a:lnTo>
                            <a:lnTo>
                              <a:pt x="614" y="2085"/>
                            </a:lnTo>
                            <a:lnTo>
                              <a:pt x="618" y="2080"/>
                            </a:lnTo>
                            <a:lnTo>
                              <a:pt x="624" y="2076"/>
                            </a:lnTo>
                            <a:lnTo>
                              <a:pt x="628" y="2070"/>
                            </a:lnTo>
                            <a:lnTo>
                              <a:pt x="632" y="2064"/>
                            </a:lnTo>
                            <a:lnTo>
                              <a:pt x="635" y="2059"/>
                            </a:lnTo>
                            <a:lnTo>
                              <a:pt x="637" y="2055"/>
                            </a:lnTo>
                            <a:lnTo>
                              <a:pt x="643" y="2049"/>
                            </a:lnTo>
                            <a:lnTo>
                              <a:pt x="645" y="2043"/>
                            </a:lnTo>
                            <a:lnTo>
                              <a:pt x="649" y="2040"/>
                            </a:lnTo>
                            <a:lnTo>
                              <a:pt x="652" y="2034"/>
                            </a:lnTo>
                            <a:lnTo>
                              <a:pt x="654" y="2030"/>
                            </a:lnTo>
                            <a:lnTo>
                              <a:pt x="658" y="2024"/>
                            </a:lnTo>
                            <a:lnTo>
                              <a:pt x="660" y="2021"/>
                            </a:lnTo>
                            <a:lnTo>
                              <a:pt x="664" y="2015"/>
                            </a:lnTo>
                            <a:lnTo>
                              <a:pt x="666" y="2011"/>
                            </a:lnTo>
                            <a:lnTo>
                              <a:pt x="668" y="2005"/>
                            </a:lnTo>
                            <a:lnTo>
                              <a:pt x="672" y="2002"/>
                            </a:lnTo>
                            <a:lnTo>
                              <a:pt x="673" y="1998"/>
                            </a:lnTo>
                            <a:lnTo>
                              <a:pt x="675" y="1992"/>
                            </a:lnTo>
                            <a:lnTo>
                              <a:pt x="677" y="1986"/>
                            </a:lnTo>
                            <a:lnTo>
                              <a:pt x="679" y="1983"/>
                            </a:lnTo>
                            <a:lnTo>
                              <a:pt x="681" y="1979"/>
                            </a:lnTo>
                            <a:lnTo>
                              <a:pt x="683" y="1975"/>
                            </a:lnTo>
                            <a:lnTo>
                              <a:pt x="685" y="1971"/>
                            </a:lnTo>
                            <a:lnTo>
                              <a:pt x="687" y="1969"/>
                            </a:lnTo>
                            <a:lnTo>
                              <a:pt x="689" y="1964"/>
                            </a:lnTo>
                            <a:lnTo>
                              <a:pt x="691" y="1962"/>
                            </a:lnTo>
                            <a:lnTo>
                              <a:pt x="692" y="1958"/>
                            </a:lnTo>
                            <a:lnTo>
                              <a:pt x="692" y="1954"/>
                            </a:lnTo>
                            <a:lnTo>
                              <a:pt x="692" y="1952"/>
                            </a:lnTo>
                            <a:lnTo>
                              <a:pt x="694" y="1950"/>
                            </a:lnTo>
                            <a:lnTo>
                              <a:pt x="696" y="1945"/>
                            </a:lnTo>
                            <a:lnTo>
                              <a:pt x="698" y="1941"/>
                            </a:lnTo>
                            <a:lnTo>
                              <a:pt x="700" y="1937"/>
                            </a:lnTo>
                            <a:lnTo>
                              <a:pt x="700" y="1935"/>
                            </a:lnTo>
                            <a:lnTo>
                              <a:pt x="700" y="1933"/>
                            </a:lnTo>
                            <a:lnTo>
                              <a:pt x="702" y="1933"/>
                            </a:lnTo>
                            <a:lnTo>
                              <a:pt x="740" y="1943"/>
                            </a:lnTo>
                            <a:lnTo>
                              <a:pt x="740" y="1943"/>
                            </a:lnTo>
                            <a:lnTo>
                              <a:pt x="738" y="1945"/>
                            </a:lnTo>
                            <a:lnTo>
                              <a:pt x="738" y="1947"/>
                            </a:lnTo>
                            <a:lnTo>
                              <a:pt x="738" y="1950"/>
                            </a:lnTo>
                            <a:lnTo>
                              <a:pt x="738" y="1954"/>
                            </a:lnTo>
                            <a:lnTo>
                              <a:pt x="738" y="1958"/>
                            </a:lnTo>
                            <a:lnTo>
                              <a:pt x="736" y="1962"/>
                            </a:lnTo>
                            <a:lnTo>
                              <a:pt x="736" y="1964"/>
                            </a:lnTo>
                            <a:lnTo>
                              <a:pt x="736" y="1967"/>
                            </a:lnTo>
                            <a:lnTo>
                              <a:pt x="736" y="1971"/>
                            </a:lnTo>
                            <a:lnTo>
                              <a:pt x="736" y="1975"/>
                            </a:lnTo>
                            <a:lnTo>
                              <a:pt x="736" y="1979"/>
                            </a:lnTo>
                            <a:lnTo>
                              <a:pt x="736" y="1983"/>
                            </a:lnTo>
                            <a:lnTo>
                              <a:pt x="736" y="1985"/>
                            </a:lnTo>
                            <a:lnTo>
                              <a:pt x="736" y="1990"/>
                            </a:lnTo>
                            <a:lnTo>
                              <a:pt x="736" y="1994"/>
                            </a:lnTo>
                            <a:lnTo>
                              <a:pt x="736" y="1998"/>
                            </a:lnTo>
                            <a:lnTo>
                              <a:pt x="736" y="2004"/>
                            </a:lnTo>
                            <a:lnTo>
                              <a:pt x="736" y="2007"/>
                            </a:lnTo>
                            <a:lnTo>
                              <a:pt x="736" y="2013"/>
                            </a:lnTo>
                            <a:lnTo>
                              <a:pt x="736" y="2015"/>
                            </a:lnTo>
                            <a:lnTo>
                              <a:pt x="736" y="2021"/>
                            </a:lnTo>
                            <a:lnTo>
                              <a:pt x="736" y="2026"/>
                            </a:lnTo>
                            <a:lnTo>
                              <a:pt x="736" y="2030"/>
                            </a:lnTo>
                            <a:lnTo>
                              <a:pt x="736" y="2036"/>
                            </a:lnTo>
                            <a:lnTo>
                              <a:pt x="736" y="2042"/>
                            </a:lnTo>
                            <a:lnTo>
                              <a:pt x="736" y="2047"/>
                            </a:lnTo>
                            <a:lnTo>
                              <a:pt x="738" y="2051"/>
                            </a:lnTo>
                            <a:lnTo>
                              <a:pt x="738" y="2057"/>
                            </a:lnTo>
                            <a:lnTo>
                              <a:pt x="738" y="2062"/>
                            </a:lnTo>
                            <a:lnTo>
                              <a:pt x="740" y="2066"/>
                            </a:lnTo>
                            <a:lnTo>
                              <a:pt x="740" y="2072"/>
                            </a:lnTo>
                            <a:lnTo>
                              <a:pt x="742" y="2078"/>
                            </a:lnTo>
                            <a:lnTo>
                              <a:pt x="744" y="2083"/>
                            </a:lnTo>
                            <a:lnTo>
                              <a:pt x="744" y="2091"/>
                            </a:lnTo>
                            <a:lnTo>
                              <a:pt x="746" y="2095"/>
                            </a:lnTo>
                            <a:lnTo>
                              <a:pt x="748" y="2101"/>
                            </a:lnTo>
                            <a:lnTo>
                              <a:pt x="748" y="2106"/>
                            </a:lnTo>
                            <a:lnTo>
                              <a:pt x="751" y="2110"/>
                            </a:lnTo>
                            <a:lnTo>
                              <a:pt x="753" y="2118"/>
                            </a:lnTo>
                            <a:lnTo>
                              <a:pt x="753" y="2123"/>
                            </a:lnTo>
                            <a:lnTo>
                              <a:pt x="757" y="2129"/>
                            </a:lnTo>
                            <a:lnTo>
                              <a:pt x="759" y="2135"/>
                            </a:lnTo>
                            <a:lnTo>
                              <a:pt x="761" y="2139"/>
                            </a:lnTo>
                            <a:lnTo>
                              <a:pt x="765" y="2144"/>
                            </a:lnTo>
                            <a:lnTo>
                              <a:pt x="767" y="2150"/>
                            </a:lnTo>
                            <a:lnTo>
                              <a:pt x="769" y="2156"/>
                            </a:lnTo>
                            <a:lnTo>
                              <a:pt x="772" y="2159"/>
                            </a:lnTo>
                            <a:lnTo>
                              <a:pt x="776" y="2165"/>
                            </a:lnTo>
                            <a:lnTo>
                              <a:pt x="780" y="2171"/>
                            </a:lnTo>
                            <a:lnTo>
                              <a:pt x="782" y="2175"/>
                            </a:lnTo>
                            <a:lnTo>
                              <a:pt x="786" y="2180"/>
                            </a:lnTo>
                            <a:lnTo>
                              <a:pt x="789" y="2186"/>
                            </a:lnTo>
                            <a:lnTo>
                              <a:pt x="795" y="2190"/>
                            </a:lnTo>
                            <a:lnTo>
                              <a:pt x="799" y="2196"/>
                            </a:lnTo>
                            <a:lnTo>
                              <a:pt x="805" y="2201"/>
                            </a:lnTo>
                            <a:lnTo>
                              <a:pt x="808" y="2205"/>
                            </a:lnTo>
                            <a:lnTo>
                              <a:pt x="814" y="2209"/>
                            </a:lnTo>
                            <a:lnTo>
                              <a:pt x="818" y="2213"/>
                            </a:lnTo>
                            <a:lnTo>
                              <a:pt x="824" y="2216"/>
                            </a:lnTo>
                            <a:lnTo>
                              <a:pt x="828" y="2222"/>
                            </a:lnTo>
                            <a:lnTo>
                              <a:pt x="833" y="2224"/>
                            </a:lnTo>
                            <a:lnTo>
                              <a:pt x="839" y="2228"/>
                            </a:lnTo>
                            <a:lnTo>
                              <a:pt x="845" y="2232"/>
                            </a:lnTo>
                            <a:lnTo>
                              <a:pt x="848" y="2235"/>
                            </a:lnTo>
                            <a:lnTo>
                              <a:pt x="854" y="2239"/>
                            </a:lnTo>
                            <a:lnTo>
                              <a:pt x="858" y="2243"/>
                            </a:lnTo>
                            <a:lnTo>
                              <a:pt x="864" y="2245"/>
                            </a:lnTo>
                            <a:lnTo>
                              <a:pt x="867" y="2249"/>
                            </a:lnTo>
                            <a:lnTo>
                              <a:pt x="873" y="2253"/>
                            </a:lnTo>
                            <a:lnTo>
                              <a:pt x="877" y="2256"/>
                            </a:lnTo>
                            <a:lnTo>
                              <a:pt x="883" y="2258"/>
                            </a:lnTo>
                            <a:lnTo>
                              <a:pt x="890" y="2260"/>
                            </a:lnTo>
                            <a:lnTo>
                              <a:pt x="896" y="2264"/>
                            </a:lnTo>
                            <a:lnTo>
                              <a:pt x="900" y="2266"/>
                            </a:lnTo>
                            <a:lnTo>
                              <a:pt x="904" y="2268"/>
                            </a:lnTo>
                            <a:lnTo>
                              <a:pt x="907" y="2270"/>
                            </a:lnTo>
                            <a:lnTo>
                              <a:pt x="913" y="2273"/>
                            </a:lnTo>
                            <a:lnTo>
                              <a:pt x="919" y="2275"/>
                            </a:lnTo>
                            <a:lnTo>
                              <a:pt x="925" y="2277"/>
                            </a:lnTo>
                            <a:lnTo>
                              <a:pt x="928" y="2279"/>
                            </a:lnTo>
                            <a:lnTo>
                              <a:pt x="934" y="2281"/>
                            </a:lnTo>
                            <a:lnTo>
                              <a:pt x="938" y="2283"/>
                            </a:lnTo>
                            <a:lnTo>
                              <a:pt x="942" y="2285"/>
                            </a:lnTo>
                            <a:lnTo>
                              <a:pt x="947" y="2287"/>
                            </a:lnTo>
                            <a:lnTo>
                              <a:pt x="951" y="2289"/>
                            </a:lnTo>
                            <a:lnTo>
                              <a:pt x="955" y="2289"/>
                            </a:lnTo>
                            <a:lnTo>
                              <a:pt x="961" y="2291"/>
                            </a:lnTo>
                            <a:lnTo>
                              <a:pt x="964" y="2291"/>
                            </a:lnTo>
                            <a:lnTo>
                              <a:pt x="968" y="2294"/>
                            </a:lnTo>
                            <a:lnTo>
                              <a:pt x="972" y="2294"/>
                            </a:lnTo>
                            <a:lnTo>
                              <a:pt x="978" y="2294"/>
                            </a:lnTo>
                            <a:lnTo>
                              <a:pt x="982" y="2296"/>
                            </a:lnTo>
                            <a:lnTo>
                              <a:pt x="985" y="2296"/>
                            </a:lnTo>
                            <a:lnTo>
                              <a:pt x="989" y="2296"/>
                            </a:lnTo>
                            <a:lnTo>
                              <a:pt x="993" y="2298"/>
                            </a:lnTo>
                            <a:lnTo>
                              <a:pt x="997" y="2298"/>
                            </a:lnTo>
                            <a:lnTo>
                              <a:pt x="1001" y="2298"/>
                            </a:lnTo>
                            <a:lnTo>
                              <a:pt x="1004" y="2298"/>
                            </a:lnTo>
                            <a:lnTo>
                              <a:pt x="1008" y="2300"/>
                            </a:lnTo>
                            <a:lnTo>
                              <a:pt x="1010" y="2300"/>
                            </a:lnTo>
                            <a:lnTo>
                              <a:pt x="1014" y="2300"/>
                            </a:lnTo>
                            <a:lnTo>
                              <a:pt x="1016" y="2300"/>
                            </a:lnTo>
                            <a:lnTo>
                              <a:pt x="1020" y="2300"/>
                            </a:lnTo>
                            <a:lnTo>
                              <a:pt x="1022" y="2300"/>
                            </a:lnTo>
                            <a:lnTo>
                              <a:pt x="1025" y="2302"/>
                            </a:lnTo>
                            <a:lnTo>
                              <a:pt x="1029" y="2300"/>
                            </a:lnTo>
                            <a:lnTo>
                              <a:pt x="1035" y="2300"/>
                            </a:lnTo>
                            <a:lnTo>
                              <a:pt x="1039" y="2298"/>
                            </a:lnTo>
                            <a:lnTo>
                              <a:pt x="1042" y="2298"/>
                            </a:lnTo>
                            <a:lnTo>
                              <a:pt x="1044" y="2296"/>
                            </a:lnTo>
                            <a:lnTo>
                              <a:pt x="1048" y="2296"/>
                            </a:lnTo>
                            <a:lnTo>
                              <a:pt x="1048" y="2294"/>
                            </a:lnTo>
                            <a:lnTo>
                              <a:pt x="1050" y="2294"/>
                            </a:lnTo>
                            <a:lnTo>
                              <a:pt x="1246" y="1334"/>
                            </a:lnTo>
                            <a:lnTo>
                              <a:pt x="1246" y="1333"/>
                            </a:lnTo>
                            <a:lnTo>
                              <a:pt x="1248" y="1331"/>
                            </a:lnTo>
                            <a:lnTo>
                              <a:pt x="1250" y="1327"/>
                            </a:lnTo>
                            <a:lnTo>
                              <a:pt x="1252" y="1325"/>
                            </a:lnTo>
                            <a:lnTo>
                              <a:pt x="1252" y="1323"/>
                            </a:lnTo>
                            <a:lnTo>
                              <a:pt x="1254" y="1319"/>
                            </a:lnTo>
                            <a:lnTo>
                              <a:pt x="1256" y="1315"/>
                            </a:lnTo>
                            <a:lnTo>
                              <a:pt x="1259" y="1312"/>
                            </a:lnTo>
                            <a:lnTo>
                              <a:pt x="1259" y="1306"/>
                            </a:lnTo>
                            <a:lnTo>
                              <a:pt x="1263" y="1302"/>
                            </a:lnTo>
                            <a:lnTo>
                              <a:pt x="1265" y="1296"/>
                            </a:lnTo>
                            <a:lnTo>
                              <a:pt x="1269" y="1293"/>
                            </a:lnTo>
                            <a:lnTo>
                              <a:pt x="1271" y="1285"/>
                            </a:lnTo>
                            <a:lnTo>
                              <a:pt x="1275" y="1281"/>
                            </a:lnTo>
                            <a:lnTo>
                              <a:pt x="1276" y="1274"/>
                            </a:lnTo>
                            <a:lnTo>
                              <a:pt x="1280" y="1266"/>
                            </a:lnTo>
                            <a:lnTo>
                              <a:pt x="1284" y="1258"/>
                            </a:lnTo>
                            <a:lnTo>
                              <a:pt x="1288" y="1249"/>
                            </a:lnTo>
                            <a:lnTo>
                              <a:pt x="1290" y="1241"/>
                            </a:lnTo>
                            <a:lnTo>
                              <a:pt x="1294" y="1234"/>
                            </a:lnTo>
                            <a:lnTo>
                              <a:pt x="1297" y="1224"/>
                            </a:lnTo>
                            <a:lnTo>
                              <a:pt x="1301" y="1217"/>
                            </a:lnTo>
                            <a:lnTo>
                              <a:pt x="1305" y="1207"/>
                            </a:lnTo>
                            <a:lnTo>
                              <a:pt x="1309" y="1198"/>
                            </a:lnTo>
                            <a:lnTo>
                              <a:pt x="1313" y="1188"/>
                            </a:lnTo>
                            <a:lnTo>
                              <a:pt x="1316" y="1177"/>
                            </a:lnTo>
                            <a:lnTo>
                              <a:pt x="1320" y="1165"/>
                            </a:lnTo>
                            <a:lnTo>
                              <a:pt x="1324" y="1154"/>
                            </a:lnTo>
                            <a:lnTo>
                              <a:pt x="1330" y="1144"/>
                            </a:lnTo>
                            <a:lnTo>
                              <a:pt x="1334" y="1133"/>
                            </a:lnTo>
                            <a:lnTo>
                              <a:pt x="1337" y="1122"/>
                            </a:lnTo>
                            <a:lnTo>
                              <a:pt x="1339" y="1108"/>
                            </a:lnTo>
                            <a:lnTo>
                              <a:pt x="1345" y="1097"/>
                            </a:lnTo>
                            <a:lnTo>
                              <a:pt x="1349" y="1084"/>
                            </a:lnTo>
                            <a:lnTo>
                              <a:pt x="1353" y="1070"/>
                            </a:lnTo>
                            <a:lnTo>
                              <a:pt x="1354" y="1059"/>
                            </a:lnTo>
                            <a:lnTo>
                              <a:pt x="1358" y="1044"/>
                            </a:lnTo>
                            <a:lnTo>
                              <a:pt x="1362" y="1032"/>
                            </a:lnTo>
                            <a:lnTo>
                              <a:pt x="1366" y="1017"/>
                            </a:lnTo>
                            <a:lnTo>
                              <a:pt x="1370" y="1004"/>
                            </a:lnTo>
                            <a:lnTo>
                              <a:pt x="1372" y="988"/>
                            </a:lnTo>
                            <a:lnTo>
                              <a:pt x="1375" y="975"/>
                            </a:lnTo>
                            <a:lnTo>
                              <a:pt x="1377" y="960"/>
                            </a:lnTo>
                            <a:lnTo>
                              <a:pt x="1381" y="947"/>
                            </a:lnTo>
                            <a:lnTo>
                              <a:pt x="1383" y="931"/>
                            </a:lnTo>
                            <a:lnTo>
                              <a:pt x="1387" y="916"/>
                            </a:lnTo>
                            <a:lnTo>
                              <a:pt x="1389" y="901"/>
                            </a:lnTo>
                            <a:lnTo>
                              <a:pt x="1391" y="886"/>
                            </a:lnTo>
                            <a:lnTo>
                              <a:pt x="1392" y="871"/>
                            </a:lnTo>
                            <a:lnTo>
                              <a:pt x="1394" y="855"/>
                            </a:lnTo>
                            <a:lnTo>
                              <a:pt x="1396" y="838"/>
                            </a:lnTo>
                            <a:lnTo>
                              <a:pt x="1398" y="823"/>
                            </a:lnTo>
                            <a:lnTo>
                              <a:pt x="1398" y="806"/>
                            </a:lnTo>
                            <a:lnTo>
                              <a:pt x="1400" y="791"/>
                            </a:lnTo>
                            <a:lnTo>
                              <a:pt x="1402" y="774"/>
                            </a:lnTo>
                            <a:lnTo>
                              <a:pt x="1402" y="757"/>
                            </a:lnTo>
                            <a:lnTo>
                              <a:pt x="1402" y="741"/>
                            </a:lnTo>
                            <a:lnTo>
                              <a:pt x="1402" y="724"/>
                            </a:lnTo>
                            <a:lnTo>
                              <a:pt x="1402" y="705"/>
                            </a:lnTo>
                            <a:lnTo>
                              <a:pt x="1402" y="690"/>
                            </a:lnTo>
                            <a:lnTo>
                              <a:pt x="1400" y="673"/>
                            </a:lnTo>
                            <a:lnTo>
                              <a:pt x="1400" y="656"/>
                            </a:lnTo>
                            <a:lnTo>
                              <a:pt x="1398" y="654"/>
                            </a:lnTo>
                            <a:lnTo>
                              <a:pt x="1398" y="652"/>
                            </a:lnTo>
                            <a:lnTo>
                              <a:pt x="1398" y="648"/>
                            </a:lnTo>
                            <a:lnTo>
                              <a:pt x="1398" y="644"/>
                            </a:lnTo>
                            <a:lnTo>
                              <a:pt x="1398" y="643"/>
                            </a:lnTo>
                            <a:lnTo>
                              <a:pt x="1398" y="639"/>
                            </a:lnTo>
                            <a:lnTo>
                              <a:pt x="1396" y="637"/>
                            </a:lnTo>
                            <a:lnTo>
                              <a:pt x="1396" y="633"/>
                            </a:lnTo>
                            <a:lnTo>
                              <a:pt x="1396" y="631"/>
                            </a:lnTo>
                            <a:lnTo>
                              <a:pt x="1396" y="627"/>
                            </a:lnTo>
                            <a:lnTo>
                              <a:pt x="1396" y="623"/>
                            </a:lnTo>
                            <a:lnTo>
                              <a:pt x="1394" y="620"/>
                            </a:lnTo>
                            <a:lnTo>
                              <a:pt x="1394" y="618"/>
                            </a:lnTo>
                            <a:lnTo>
                              <a:pt x="1394" y="616"/>
                            </a:lnTo>
                            <a:lnTo>
                              <a:pt x="1392" y="612"/>
                            </a:lnTo>
                            <a:lnTo>
                              <a:pt x="1392" y="610"/>
                            </a:lnTo>
                            <a:lnTo>
                              <a:pt x="1392" y="608"/>
                            </a:lnTo>
                            <a:lnTo>
                              <a:pt x="1391" y="604"/>
                            </a:lnTo>
                            <a:lnTo>
                              <a:pt x="1391" y="603"/>
                            </a:lnTo>
                            <a:lnTo>
                              <a:pt x="1391" y="599"/>
                            </a:lnTo>
                            <a:lnTo>
                              <a:pt x="1389" y="597"/>
                            </a:lnTo>
                            <a:lnTo>
                              <a:pt x="1389" y="593"/>
                            </a:lnTo>
                            <a:lnTo>
                              <a:pt x="1389" y="589"/>
                            </a:lnTo>
                            <a:lnTo>
                              <a:pt x="1389" y="587"/>
                            </a:lnTo>
                            <a:lnTo>
                              <a:pt x="1387" y="585"/>
                            </a:lnTo>
                            <a:lnTo>
                              <a:pt x="1385" y="582"/>
                            </a:lnTo>
                            <a:lnTo>
                              <a:pt x="1385" y="580"/>
                            </a:lnTo>
                            <a:lnTo>
                              <a:pt x="1383" y="578"/>
                            </a:lnTo>
                            <a:lnTo>
                              <a:pt x="1383" y="572"/>
                            </a:lnTo>
                            <a:lnTo>
                              <a:pt x="1381" y="568"/>
                            </a:lnTo>
                            <a:lnTo>
                              <a:pt x="1377" y="563"/>
                            </a:lnTo>
                            <a:lnTo>
                              <a:pt x="1375" y="557"/>
                            </a:lnTo>
                            <a:lnTo>
                              <a:pt x="1373" y="553"/>
                            </a:lnTo>
                            <a:lnTo>
                              <a:pt x="1370" y="547"/>
                            </a:lnTo>
                            <a:lnTo>
                              <a:pt x="1366" y="544"/>
                            </a:lnTo>
                            <a:lnTo>
                              <a:pt x="1364" y="540"/>
                            </a:lnTo>
                            <a:lnTo>
                              <a:pt x="1360" y="536"/>
                            </a:lnTo>
                            <a:lnTo>
                              <a:pt x="1356" y="532"/>
                            </a:lnTo>
                            <a:lnTo>
                              <a:pt x="1353" y="528"/>
                            </a:lnTo>
                            <a:lnTo>
                              <a:pt x="1349" y="525"/>
                            </a:lnTo>
                            <a:lnTo>
                              <a:pt x="1345" y="523"/>
                            </a:lnTo>
                            <a:lnTo>
                              <a:pt x="1339" y="521"/>
                            </a:lnTo>
                            <a:lnTo>
                              <a:pt x="1335" y="517"/>
                            </a:lnTo>
                            <a:lnTo>
                              <a:pt x="1332" y="515"/>
                            </a:lnTo>
                            <a:lnTo>
                              <a:pt x="1326" y="515"/>
                            </a:lnTo>
                            <a:lnTo>
                              <a:pt x="1322" y="513"/>
                            </a:lnTo>
                            <a:lnTo>
                              <a:pt x="1318" y="511"/>
                            </a:lnTo>
                            <a:lnTo>
                              <a:pt x="1316" y="511"/>
                            </a:lnTo>
                            <a:lnTo>
                              <a:pt x="1313" y="511"/>
                            </a:lnTo>
                            <a:lnTo>
                              <a:pt x="1311" y="511"/>
                            </a:lnTo>
                            <a:lnTo>
                              <a:pt x="1309" y="509"/>
                            </a:lnTo>
                            <a:lnTo>
                              <a:pt x="1305" y="509"/>
                            </a:lnTo>
                            <a:lnTo>
                              <a:pt x="1303" y="509"/>
                            </a:lnTo>
                            <a:lnTo>
                              <a:pt x="1301" y="509"/>
                            </a:lnTo>
                            <a:lnTo>
                              <a:pt x="1297" y="509"/>
                            </a:lnTo>
                            <a:lnTo>
                              <a:pt x="1295" y="509"/>
                            </a:lnTo>
                            <a:lnTo>
                              <a:pt x="1292" y="509"/>
                            </a:lnTo>
                            <a:lnTo>
                              <a:pt x="1290" y="509"/>
                            </a:lnTo>
                            <a:lnTo>
                              <a:pt x="1284" y="509"/>
                            </a:lnTo>
                            <a:lnTo>
                              <a:pt x="1280" y="509"/>
                            </a:lnTo>
                            <a:lnTo>
                              <a:pt x="1275" y="509"/>
                            </a:lnTo>
                            <a:lnTo>
                              <a:pt x="1269" y="509"/>
                            </a:lnTo>
                            <a:lnTo>
                              <a:pt x="1265" y="509"/>
                            </a:lnTo>
                            <a:lnTo>
                              <a:pt x="1259" y="509"/>
                            </a:lnTo>
                            <a:lnTo>
                              <a:pt x="1256" y="511"/>
                            </a:lnTo>
                            <a:lnTo>
                              <a:pt x="1252" y="511"/>
                            </a:lnTo>
                            <a:lnTo>
                              <a:pt x="1246" y="515"/>
                            </a:lnTo>
                            <a:lnTo>
                              <a:pt x="1242" y="515"/>
                            </a:lnTo>
                            <a:lnTo>
                              <a:pt x="1238" y="517"/>
                            </a:lnTo>
                            <a:lnTo>
                              <a:pt x="1235" y="521"/>
                            </a:lnTo>
                            <a:lnTo>
                              <a:pt x="1231" y="523"/>
                            </a:lnTo>
                            <a:lnTo>
                              <a:pt x="1229" y="525"/>
                            </a:lnTo>
                            <a:lnTo>
                              <a:pt x="1225" y="527"/>
                            </a:lnTo>
                            <a:lnTo>
                              <a:pt x="1221" y="530"/>
                            </a:lnTo>
                            <a:lnTo>
                              <a:pt x="1219" y="532"/>
                            </a:lnTo>
                            <a:lnTo>
                              <a:pt x="1216" y="538"/>
                            </a:lnTo>
                            <a:lnTo>
                              <a:pt x="1214" y="542"/>
                            </a:lnTo>
                            <a:lnTo>
                              <a:pt x="1212" y="546"/>
                            </a:lnTo>
                            <a:lnTo>
                              <a:pt x="1210" y="549"/>
                            </a:lnTo>
                            <a:lnTo>
                              <a:pt x="1208" y="555"/>
                            </a:lnTo>
                            <a:lnTo>
                              <a:pt x="1208" y="557"/>
                            </a:lnTo>
                            <a:lnTo>
                              <a:pt x="1206" y="559"/>
                            </a:lnTo>
                            <a:lnTo>
                              <a:pt x="1204" y="561"/>
                            </a:lnTo>
                            <a:lnTo>
                              <a:pt x="1204" y="565"/>
                            </a:lnTo>
                            <a:lnTo>
                              <a:pt x="1204" y="566"/>
                            </a:lnTo>
                            <a:lnTo>
                              <a:pt x="1204" y="570"/>
                            </a:lnTo>
                            <a:lnTo>
                              <a:pt x="1204" y="572"/>
                            </a:lnTo>
                            <a:lnTo>
                              <a:pt x="1204" y="576"/>
                            </a:lnTo>
                            <a:lnTo>
                              <a:pt x="1139" y="895"/>
                            </a:lnTo>
                            <a:lnTo>
                              <a:pt x="1136" y="893"/>
                            </a:lnTo>
                            <a:lnTo>
                              <a:pt x="1132" y="892"/>
                            </a:lnTo>
                            <a:lnTo>
                              <a:pt x="1126" y="888"/>
                            </a:lnTo>
                            <a:lnTo>
                              <a:pt x="1122" y="886"/>
                            </a:lnTo>
                            <a:lnTo>
                              <a:pt x="1117" y="884"/>
                            </a:lnTo>
                            <a:lnTo>
                              <a:pt x="1113" y="880"/>
                            </a:lnTo>
                            <a:lnTo>
                              <a:pt x="1107" y="878"/>
                            </a:lnTo>
                            <a:lnTo>
                              <a:pt x="1105" y="876"/>
                            </a:lnTo>
                            <a:lnTo>
                              <a:pt x="1227" y="316"/>
                            </a:lnTo>
                            <a:lnTo>
                              <a:pt x="1227" y="312"/>
                            </a:lnTo>
                            <a:lnTo>
                              <a:pt x="1227" y="308"/>
                            </a:lnTo>
                            <a:lnTo>
                              <a:pt x="1229" y="306"/>
                            </a:lnTo>
                            <a:lnTo>
                              <a:pt x="1229" y="304"/>
                            </a:lnTo>
                            <a:lnTo>
                              <a:pt x="1229" y="300"/>
                            </a:lnTo>
                            <a:lnTo>
                              <a:pt x="1229" y="298"/>
                            </a:lnTo>
                            <a:lnTo>
                              <a:pt x="1229" y="295"/>
                            </a:lnTo>
                            <a:lnTo>
                              <a:pt x="1229" y="293"/>
                            </a:lnTo>
                            <a:lnTo>
                              <a:pt x="1229" y="291"/>
                            </a:lnTo>
                            <a:lnTo>
                              <a:pt x="1229" y="287"/>
                            </a:lnTo>
                            <a:lnTo>
                              <a:pt x="1229" y="285"/>
                            </a:lnTo>
                            <a:lnTo>
                              <a:pt x="1229" y="283"/>
                            </a:lnTo>
                            <a:lnTo>
                              <a:pt x="1229" y="278"/>
                            </a:lnTo>
                            <a:lnTo>
                              <a:pt x="1227" y="272"/>
                            </a:lnTo>
                            <a:lnTo>
                              <a:pt x="1225" y="268"/>
                            </a:lnTo>
                            <a:lnTo>
                              <a:pt x="1225" y="262"/>
                            </a:lnTo>
                            <a:lnTo>
                              <a:pt x="1223" y="257"/>
                            </a:lnTo>
                            <a:lnTo>
                              <a:pt x="1221" y="253"/>
                            </a:lnTo>
                            <a:lnTo>
                              <a:pt x="1219" y="247"/>
                            </a:lnTo>
                            <a:lnTo>
                              <a:pt x="1217" y="243"/>
                            </a:lnTo>
                            <a:lnTo>
                              <a:pt x="1216" y="240"/>
                            </a:lnTo>
                            <a:lnTo>
                              <a:pt x="1214" y="236"/>
                            </a:lnTo>
                            <a:lnTo>
                              <a:pt x="1210" y="232"/>
                            </a:lnTo>
                            <a:lnTo>
                              <a:pt x="1206" y="226"/>
                            </a:lnTo>
                            <a:lnTo>
                              <a:pt x="1202" y="222"/>
                            </a:lnTo>
                            <a:lnTo>
                              <a:pt x="1200" y="219"/>
                            </a:lnTo>
                            <a:lnTo>
                              <a:pt x="1197" y="215"/>
                            </a:lnTo>
                            <a:lnTo>
                              <a:pt x="1193" y="211"/>
                            </a:lnTo>
                            <a:lnTo>
                              <a:pt x="1189" y="207"/>
                            </a:lnTo>
                            <a:lnTo>
                              <a:pt x="1185" y="205"/>
                            </a:lnTo>
                            <a:lnTo>
                              <a:pt x="1179" y="203"/>
                            </a:lnTo>
                            <a:lnTo>
                              <a:pt x="1176" y="200"/>
                            </a:lnTo>
                            <a:lnTo>
                              <a:pt x="1172" y="198"/>
                            </a:lnTo>
                            <a:lnTo>
                              <a:pt x="1166" y="194"/>
                            </a:lnTo>
                            <a:lnTo>
                              <a:pt x="1160" y="192"/>
                            </a:lnTo>
                            <a:lnTo>
                              <a:pt x="1157" y="192"/>
                            </a:lnTo>
                            <a:lnTo>
                              <a:pt x="1151" y="190"/>
                            </a:lnTo>
                            <a:lnTo>
                              <a:pt x="1147" y="190"/>
                            </a:lnTo>
                            <a:lnTo>
                              <a:pt x="1143" y="188"/>
                            </a:lnTo>
                            <a:lnTo>
                              <a:pt x="1141" y="186"/>
                            </a:lnTo>
                            <a:lnTo>
                              <a:pt x="1138" y="186"/>
                            </a:lnTo>
                            <a:lnTo>
                              <a:pt x="1136" y="186"/>
                            </a:lnTo>
                            <a:lnTo>
                              <a:pt x="1134" y="186"/>
                            </a:lnTo>
                            <a:lnTo>
                              <a:pt x="1130" y="186"/>
                            </a:lnTo>
                            <a:lnTo>
                              <a:pt x="1128" y="186"/>
                            </a:lnTo>
                            <a:lnTo>
                              <a:pt x="1124" y="186"/>
                            </a:lnTo>
                            <a:lnTo>
                              <a:pt x="1122" y="186"/>
                            </a:lnTo>
                            <a:lnTo>
                              <a:pt x="1120" y="186"/>
                            </a:lnTo>
                            <a:lnTo>
                              <a:pt x="1117" y="186"/>
                            </a:lnTo>
                            <a:lnTo>
                              <a:pt x="1115" y="186"/>
                            </a:lnTo>
                            <a:lnTo>
                              <a:pt x="1109" y="186"/>
                            </a:lnTo>
                            <a:lnTo>
                              <a:pt x="1105" y="188"/>
                            </a:lnTo>
                            <a:lnTo>
                              <a:pt x="1100" y="188"/>
                            </a:lnTo>
                            <a:lnTo>
                              <a:pt x="1094" y="190"/>
                            </a:lnTo>
                            <a:lnTo>
                              <a:pt x="1090" y="192"/>
                            </a:lnTo>
                            <a:lnTo>
                              <a:pt x="1086" y="192"/>
                            </a:lnTo>
                            <a:lnTo>
                              <a:pt x="1081" y="194"/>
                            </a:lnTo>
                            <a:lnTo>
                              <a:pt x="1077" y="198"/>
                            </a:lnTo>
                            <a:lnTo>
                              <a:pt x="1073" y="200"/>
                            </a:lnTo>
                            <a:lnTo>
                              <a:pt x="1067" y="203"/>
                            </a:lnTo>
                            <a:lnTo>
                              <a:pt x="1063" y="205"/>
                            </a:lnTo>
                            <a:lnTo>
                              <a:pt x="1058" y="207"/>
                            </a:lnTo>
                            <a:lnTo>
                              <a:pt x="1054" y="211"/>
                            </a:lnTo>
                            <a:lnTo>
                              <a:pt x="1050" y="215"/>
                            </a:lnTo>
                            <a:lnTo>
                              <a:pt x="1048" y="219"/>
                            </a:lnTo>
                            <a:lnTo>
                              <a:pt x="1044" y="222"/>
                            </a:lnTo>
                            <a:lnTo>
                              <a:pt x="1041" y="226"/>
                            </a:lnTo>
                            <a:lnTo>
                              <a:pt x="1039" y="232"/>
                            </a:lnTo>
                            <a:lnTo>
                              <a:pt x="1035" y="234"/>
                            </a:lnTo>
                            <a:lnTo>
                              <a:pt x="1033" y="240"/>
                            </a:lnTo>
                            <a:lnTo>
                              <a:pt x="1029" y="243"/>
                            </a:lnTo>
                            <a:lnTo>
                              <a:pt x="1027" y="249"/>
                            </a:lnTo>
                            <a:lnTo>
                              <a:pt x="1025" y="253"/>
                            </a:lnTo>
                            <a:lnTo>
                              <a:pt x="1023" y="259"/>
                            </a:lnTo>
                            <a:lnTo>
                              <a:pt x="1022" y="260"/>
                            </a:lnTo>
                            <a:lnTo>
                              <a:pt x="1022" y="264"/>
                            </a:lnTo>
                            <a:lnTo>
                              <a:pt x="1022" y="266"/>
                            </a:lnTo>
                            <a:lnTo>
                              <a:pt x="1022" y="270"/>
                            </a:lnTo>
                            <a:lnTo>
                              <a:pt x="919" y="730"/>
                            </a:lnTo>
                            <a:lnTo>
                              <a:pt x="915" y="728"/>
                            </a:lnTo>
                            <a:lnTo>
                              <a:pt x="913" y="726"/>
                            </a:lnTo>
                            <a:lnTo>
                              <a:pt x="907" y="724"/>
                            </a:lnTo>
                            <a:lnTo>
                              <a:pt x="905" y="720"/>
                            </a:lnTo>
                            <a:lnTo>
                              <a:pt x="904" y="719"/>
                            </a:lnTo>
                            <a:lnTo>
                              <a:pt x="900" y="717"/>
                            </a:lnTo>
                            <a:lnTo>
                              <a:pt x="896" y="713"/>
                            </a:lnTo>
                            <a:lnTo>
                              <a:pt x="892" y="713"/>
                            </a:lnTo>
                            <a:lnTo>
                              <a:pt x="1022" y="129"/>
                            </a:lnTo>
                            <a:lnTo>
                              <a:pt x="1022" y="125"/>
                            </a:lnTo>
                            <a:lnTo>
                              <a:pt x="1022" y="124"/>
                            </a:lnTo>
                            <a:lnTo>
                              <a:pt x="1022" y="120"/>
                            </a:lnTo>
                            <a:lnTo>
                              <a:pt x="1022" y="118"/>
                            </a:lnTo>
                            <a:lnTo>
                              <a:pt x="1022" y="114"/>
                            </a:lnTo>
                            <a:lnTo>
                              <a:pt x="1022" y="112"/>
                            </a:lnTo>
                            <a:lnTo>
                              <a:pt x="1022" y="110"/>
                            </a:lnTo>
                            <a:lnTo>
                              <a:pt x="1022" y="106"/>
                            </a:lnTo>
                            <a:lnTo>
                              <a:pt x="1022" y="105"/>
                            </a:lnTo>
                            <a:lnTo>
                              <a:pt x="1022" y="103"/>
                            </a:lnTo>
                            <a:lnTo>
                              <a:pt x="1022" y="99"/>
                            </a:lnTo>
                            <a:lnTo>
                              <a:pt x="1022" y="97"/>
                            </a:lnTo>
                            <a:lnTo>
                              <a:pt x="1022" y="91"/>
                            </a:lnTo>
                            <a:lnTo>
                              <a:pt x="1022" y="86"/>
                            </a:lnTo>
                            <a:lnTo>
                              <a:pt x="1020" y="82"/>
                            </a:lnTo>
                            <a:lnTo>
                              <a:pt x="1018" y="76"/>
                            </a:lnTo>
                            <a:lnTo>
                              <a:pt x="1016" y="70"/>
                            </a:lnTo>
                            <a:lnTo>
                              <a:pt x="1014" y="67"/>
                            </a:lnTo>
                            <a:lnTo>
                              <a:pt x="1012" y="61"/>
                            </a:lnTo>
                            <a:lnTo>
                              <a:pt x="1010" y="57"/>
                            </a:lnTo>
                            <a:lnTo>
                              <a:pt x="1008" y="53"/>
                            </a:lnTo>
                            <a:lnTo>
                              <a:pt x="1006" y="48"/>
                            </a:lnTo>
                            <a:lnTo>
                              <a:pt x="1004" y="44"/>
                            </a:lnTo>
                            <a:lnTo>
                              <a:pt x="1001" y="40"/>
                            </a:lnTo>
                            <a:lnTo>
                              <a:pt x="997" y="36"/>
                            </a:lnTo>
                            <a:lnTo>
                              <a:pt x="993" y="32"/>
                            </a:lnTo>
                            <a:lnTo>
                              <a:pt x="991" y="29"/>
                            </a:lnTo>
                            <a:lnTo>
                              <a:pt x="985" y="25"/>
                            </a:lnTo>
                            <a:lnTo>
                              <a:pt x="983" y="23"/>
                            </a:lnTo>
                            <a:lnTo>
                              <a:pt x="978" y="19"/>
                            </a:lnTo>
                            <a:lnTo>
                              <a:pt x="972" y="17"/>
                            </a:lnTo>
                            <a:lnTo>
                              <a:pt x="968" y="13"/>
                            </a:lnTo>
                            <a:lnTo>
                              <a:pt x="964" y="11"/>
                            </a:lnTo>
                            <a:lnTo>
                              <a:pt x="961" y="10"/>
                            </a:lnTo>
                            <a:lnTo>
                              <a:pt x="955" y="6"/>
                            </a:lnTo>
                            <a:lnTo>
                              <a:pt x="949" y="6"/>
                            </a:lnTo>
                            <a:lnTo>
                              <a:pt x="944" y="4"/>
                            </a:lnTo>
                            <a:lnTo>
                              <a:pt x="940" y="4"/>
                            </a:lnTo>
                            <a:lnTo>
                              <a:pt x="936" y="2"/>
                            </a:lnTo>
                            <a:lnTo>
                              <a:pt x="934" y="2"/>
                            </a:lnTo>
                            <a:lnTo>
                              <a:pt x="932" y="0"/>
                            </a:lnTo>
                            <a:lnTo>
                              <a:pt x="928" y="0"/>
                            </a:lnTo>
                            <a:lnTo>
                              <a:pt x="926" y="0"/>
                            </a:lnTo>
                            <a:lnTo>
                              <a:pt x="925" y="0"/>
                            </a:lnTo>
                            <a:lnTo>
                              <a:pt x="921" y="0"/>
                            </a:lnTo>
                            <a:lnTo>
                              <a:pt x="919" y="0"/>
                            </a:lnTo>
                            <a:lnTo>
                              <a:pt x="915" y="0"/>
                            </a:lnTo>
                            <a:lnTo>
                              <a:pt x="913" y="0"/>
                            </a:lnTo>
                            <a:lnTo>
                              <a:pt x="911" y="0"/>
                            </a:lnTo>
                            <a:lnTo>
                              <a:pt x="907" y="0"/>
                            </a:lnTo>
                            <a:lnTo>
                              <a:pt x="904" y="0"/>
                            </a:lnTo>
                            <a:lnTo>
                              <a:pt x="898" y="2"/>
                            </a:lnTo>
                            <a:lnTo>
                              <a:pt x="896" y="2"/>
                            </a:lnTo>
                            <a:lnTo>
                              <a:pt x="892" y="2"/>
                            </a:lnTo>
                            <a:lnTo>
                              <a:pt x="890" y="2"/>
                            </a:lnTo>
                            <a:lnTo>
                              <a:pt x="888" y="4"/>
                            </a:lnTo>
                            <a:lnTo>
                              <a:pt x="881" y="4"/>
                            </a:lnTo>
                            <a:lnTo>
                              <a:pt x="877" y="6"/>
                            </a:lnTo>
                            <a:lnTo>
                              <a:pt x="873" y="10"/>
                            </a:lnTo>
                            <a:lnTo>
                              <a:pt x="867" y="11"/>
                            </a:lnTo>
                            <a:lnTo>
                              <a:pt x="864" y="15"/>
                            </a:lnTo>
                            <a:lnTo>
                              <a:pt x="860" y="17"/>
                            </a:lnTo>
                            <a:lnTo>
                              <a:pt x="854" y="19"/>
                            </a:lnTo>
                            <a:lnTo>
                              <a:pt x="850" y="23"/>
                            </a:lnTo>
                            <a:lnTo>
                              <a:pt x="847" y="25"/>
                            </a:lnTo>
                            <a:lnTo>
                              <a:pt x="843" y="29"/>
                            </a:lnTo>
                            <a:lnTo>
                              <a:pt x="839" y="32"/>
                            </a:lnTo>
                            <a:lnTo>
                              <a:pt x="835" y="36"/>
                            </a:lnTo>
                            <a:lnTo>
                              <a:pt x="833" y="40"/>
                            </a:lnTo>
                            <a:lnTo>
                              <a:pt x="831" y="44"/>
                            </a:lnTo>
                            <a:lnTo>
                              <a:pt x="828" y="48"/>
                            </a:lnTo>
                            <a:lnTo>
                              <a:pt x="824" y="53"/>
                            </a:lnTo>
                            <a:lnTo>
                              <a:pt x="822" y="57"/>
                            </a:lnTo>
                            <a:lnTo>
                              <a:pt x="820" y="61"/>
                            </a:lnTo>
                            <a:lnTo>
                              <a:pt x="818" y="67"/>
                            </a:lnTo>
                            <a:lnTo>
                              <a:pt x="816" y="70"/>
                            </a:lnTo>
                            <a:lnTo>
                              <a:pt x="816" y="74"/>
                            </a:lnTo>
                            <a:lnTo>
                              <a:pt x="814" y="76"/>
                            </a:lnTo>
                            <a:lnTo>
                              <a:pt x="812" y="82"/>
                            </a:lnTo>
                            <a:lnTo>
                              <a:pt x="812" y="84"/>
                            </a:lnTo>
                            <a:lnTo>
                              <a:pt x="687" y="663"/>
                            </a:lnTo>
                            <a:lnTo>
                              <a:pt x="681" y="663"/>
                            </a:lnTo>
                            <a:lnTo>
                              <a:pt x="677" y="663"/>
                            </a:lnTo>
                            <a:lnTo>
                              <a:pt x="673" y="663"/>
                            </a:lnTo>
                            <a:lnTo>
                              <a:pt x="670" y="663"/>
                            </a:lnTo>
                            <a:lnTo>
                              <a:pt x="666" y="663"/>
                            </a:lnTo>
                            <a:lnTo>
                              <a:pt x="660" y="665"/>
                            </a:lnTo>
                            <a:lnTo>
                              <a:pt x="656" y="665"/>
                            </a:lnTo>
                            <a:lnTo>
                              <a:pt x="652" y="667"/>
                            </a:lnTo>
                            <a:lnTo>
                              <a:pt x="753" y="213"/>
                            </a:lnTo>
                            <a:lnTo>
                              <a:pt x="753" y="209"/>
                            </a:lnTo>
                            <a:lnTo>
                              <a:pt x="753" y="207"/>
                            </a:lnTo>
                            <a:lnTo>
                              <a:pt x="753" y="203"/>
                            </a:lnTo>
                            <a:lnTo>
                              <a:pt x="753" y="201"/>
                            </a:lnTo>
                            <a:lnTo>
                              <a:pt x="753" y="198"/>
                            </a:lnTo>
                            <a:lnTo>
                              <a:pt x="753" y="196"/>
                            </a:lnTo>
                            <a:lnTo>
                              <a:pt x="753" y="192"/>
                            </a:lnTo>
                            <a:lnTo>
                              <a:pt x="753" y="190"/>
                            </a:lnTo>
                            <a:lnTo>
                              <a:pt x="753" y="188"/>
                            </a:lnTo>
                            <a:lnTo>
                              <a:pt x="753" y="184"/>
                            </a:lnTo>
                            <a:lnTo>
                              <a:pt x="753" y="182"/>
                            </a:lnTo>
                            <a:lnTo>
                              <a:pt x="753" y="181"/>
                            </a:lnTo>
                            <a:lnTo>
                              <a:pt x="753" y="175"/>
                            </a:lnTo>
                            <a:lnTo>
                              <a:pt x="753" y="169"/>
                            </a:lnTo>
                            <a:lnTo>
                              <a:pt x="751" y="167"/>
                            </a:lnTo>
                            <a:lnTo>
                              <a:pt x="751" y="163"/>
                            </a:lnTo>
                            <a:lnTo>
                              <a:pt x="751" y="162"/>
                            </a:lnTo>
                            <a:lnTo>
                              <a:pt x="750" y="160"/>
                            </a:lnTo>
                            <a:lnTo>
                              <a:pt x="748" y="154"/>
                            </a:lnTo>
                            <a:lnTo>
                              <a:pt x="746" y="148"/>
                            </a:lnTo>
                            <a:lnTo>
                              <a:pt x="744" y="144"/>
                            </a:lnTo>
                            <a:lnTo>
                              <a:pt x="742" y="141"/>
                            </a:lnTo>
                            <a:lnTo>
                              <a:pt x="740" y="135"/>
                            </a:lnTo>
                            <a:lnTo>
                              <a:pt x="738" y="131"/>
                            </a:lnTo>
                            <a:lnTo>
                              <a:pt x="734" y="127"/>
                            </a:lnTo>
                            <a:lnTo>
                              <a:pt x="730" y="124"/>
                            </a:lnTo>
                            <a:lnTo>
                              <a:pt x="727" y="120"/>
                            </a:lnTo>
                            <a:lnTo>
                              <a:pt x="725" y="116"/>
                            </a:lnTo>
                            <a:lnTo>
                              <a:pt x="721" y="112"/>
                            </a:lnTo>
                            <a:lnTo>
                              <a:pt x="717" y="108"/>
                            </a:lnTo>
                            <a:lnTo>
                              <a:pt x="713" y="105"/>
                            </a:lnTo>
                            <a:lnTo>
                              <a:pt x="710" y="103"/>
                            </a:lnTo>
                            <a:lnTo>
                              <a:pt x="704" y="99"/>
                            </a:lnTo>
                            <a:lnTo>
                              <a:pt x="700" y="97"/>
                            </a:lnTo>
                            <a:lnTo>
                              <a:pt x="694" y="95"/>
                            </a:lnTo>
                            <a:lnTo>
                              <a:pt x="691" y="91"/>
                            </a:lnTo>
                            <a:lnTo>
                              <a:pt x="685" y="89"/>
                            </a:lnTo>
                            <a:lnTo>
                              <a:pt x="681" y="87"/>
                            </a:lnTo>
                            <a:lnTo>
                              <a:pt x="675" y="86"/>
                            </a:lnTo>
                            <a:lnTo>
                              <a:pt x="672" y="86"/>
                            </a:lnTo>
                            <a:lnTo>
                              <a:pt x="668" y="84"/>
                            </a:lnTo>
                            <a:lnTo>
                              <a:pt x="666" y="84"/>
                            </a:lnTo>
                            <a:lnTo>
                              <a:pt x="664" y="84"/>
                            </a:lnTo>
                            <a:lnTo>
                              <a:pt x="660" y="84"/>
                            </a:lnTo>
                            <a:lnTo>
                              <a:pt x="658" y="84"/>
                            </a:lnTo>
                            <a:lnTo>
                              <a:pt x="654" y="84"/>
                            </a:lnTo>
                            <a:lnTo>
                              <a:pt x="652" y="84"/>
                            </a:lnTo>
                            <a:lnTo>
                              <a:pt x="651" y="84"/>
                            </a:lnTo>
                            <a:lnTo>
                              <a:pt x="647" y="84"/>
                            </a:lnTo>
                            <a:lnTo>
                              <a:pt x="645" y="84"/>
                            </a:lnTo>
                            <a:lnTo>
                              <a:pt x="643" y="84"/>
                            </a:lnTo>
                            <a:lnTo>
                              <a:pt x="639" y="84"/>
                            </a:lnTo>
                            <a:lnTo>
                              <a:pt x="635" y="84"/>
                            </a:lnTo>
                            <a:lnTo>
                              <a:pt x="630" y="84"/>
                            </a:lnTo>
                            <a:lnTo>
                              <a:pt x="628" y="84"/>
                            </a:lnTo>
                            <a:lnTo>
                              <a:pt x="624" y="86"/>
                            </a:lnTo>
                            <a:lnTo>
                              <a:pt x="622" y="86"/>
                            </a:lnTo>
                            <a:lnTo>
                              <a:pt x="618" y="86"/>
                            </a:lnTo>
                            <a:lnTo>
                              <a:pt x="614" y="87"/>
                            </a:lnTo>
                            <a:lnTo>
                              <a:pt x="609" y="89"/>
                            </a:lnTo>
                            <a:lnTo>
                              <a:pt x="603" y="91"/>
                            </a:lnTo>
                            <a:lnTo>
                              <a:pt x="599" y="95"/>
                            </a:lnTo>
                            <a:lnTo>
                              <a:pt x="595" y="97"/>
                            </a:lnTo>
                            <a:lnTo>
                              <a:pt x="592" y="99"/>
                            </a:lnTo>
                            <a:lnTo>
                              <a:pt x="586" y="103"/>
                            </a:lnTo>
                            <a:lnTo>
                              <a:pt x="582" y="105"/>
                            </a:lnTo>
                            <a:lnTo>
                              <a:pt x="578" y="108"/>
                            </a:lnTo>
                            <a:lnTo>
                              <a:pt x="574" y="112"/>
                            </a:lnTo>
                            <a:lnTo>
                              <a:pt x="571" y="116"/>
                            </a:lnTo>
                            <a:lnTo>
                              <a:pt x="567" y="120"/>
                            </a:lnTo>
                            <a:lnTo>
                              <a:pt x="565" y="124"/>
                            </a:lnTo>
                            <a:lnTo>
                              <a:pt x="563" y="127"/>
                            </a:lnTo>
                            <a:lnTo>
                              <a:pt x="559" y="131"/>
                            </a:lnTo>
                            <a:lnTo>
                              <a:pt x="555" y="135"/>
                            </a:lnTo>
                            <a:lnTo>
                              <a:pt x="554" y="141"/>
                            </a:lnTo>
                            <a:lnTo>
                              <a:pt x="552" y="146"/>
                            </a:lnTo>
                            <a:lnTo>
                              <a:pt x="550" y="150"/>
                            </a:lnTo>
                            <a:lnTo>
                              <a:pt x="548" y="156"/>
                            </a:lnTo>
                            <a:lnTo>
                              <a:pt x="546" y="158"/>
                            </a:lnTo>
                            <a:lnTo>
                              <a:pt x="546" y="160"/>
                            </a:lnTo>
                            <a:lnTo>
                              <a:pt x="544" y="163"/>
                            </a:lnTo>
                            <a:lnTo>
                              <a:pt x="544" y="167"/>
                            </a:lnTo>
                            <a:lnTo>
                              <a:pt x="361" y="1127"/>
                            </a:lnTo>
                            <a:lnTo>
                              <a:pt x="361" y="1127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163" name="AutoShape 963"/>
                    <p:cNvSpPr/>
                    <p:nvPr/>
                  </p:nvSpPr>
                  <p:spPr>
                    <a:xfrm rot="10690800">
                      <a:off x="4660920" y="2553840"/>
                      <a:ext cx="88560" cy="75960"/>
                    </a:xfrm>
                    <a:prstGeom prst="hexagon">
                      <a:avLst>
                        <a:gd name="adj" fmla="val 29147"/>
                        <a:gd name="vf" fmla="val 115470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80" bIns="1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4" name="Group 964"/>
                  <p:cNvGrpSpPr/>
                  <p:nvPr/>
                </p:nvGrpSpPr>
                <p:grpSpPr>
                  <a:xfrm>
                    <a:off x="4596480" y="3066480"/>
                    <a:ext cx="249480" cy="1248120"/>
                    <a:chOff x="4596480" y="3066480"/>
                    <a:chExt cx="249480" cy="1248120"/>
                  </a:xfrm>
                </p:grpSpPr>
                <p:grpSp>
                  <p:nvGrpSpPr>
                    <p:cNvPr id="1165" name="Group 965"/>
                    <p:cNvGrpSpPr/>
                    <p:nvPr/>
                  </p:nvGrpSpPr>
                  <p:grpSpPr>
                    <a:xfrm>
                      <a:off x="4596480" y="3066480"/>
                      <a:ext cx="249480" cy="614520"/>
                      <a:chOff x="4596480" y="3066480"/>
                      <a:chExt cx="249480" cy="614520"/>
                    </a:xfrm>
                  </p:grpSpPr>
                  <p:sp>
                    <p:nvSpPr>
                      <p:cNvPr id="1166" name="AutoShape 966"/>
                      <p:cNvSpPr/>
                      <p:nvPr/>
                    </p:nvSpPr>
                    <p:spPr>
                      <a:xfrm rot="63600">
                        <a:off x="4622400" y="3187800"/>
                        <a:ext cx="179640" cy="49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1556" y="21600"/>
                            </a:lnTo>
                            <a:lnTo>
                              <a:pt x="20044" y="21600"/>
                            </a:lnTo>
                            <a:lnTo>
                              <a:pt x="2160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0c0c0"/>
                          </a:gs>
                          <a:gs pos="100000">
                            <a:srgbClr val="ffffff"/>
                          </a:gs>
                        </a:gsLst>
                        <a:lin ang="180000"/>
                      </a:gradFill>
                      <a:ln w="93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67" name="AutoShape 967"/>
                      <p:cNvSpPr/>
                      <p:nvPr/>
                    </p:nvSpPr>
                    <p:spPr>
                      <a:xfrm rot="5641800">
                        <a:off x="4625280" y="3051720"/>
                        <a:ext cx="191520" cy="23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934" y="2201"/>
                              <a:pt x="12267" y="5080"/>
                              <a:pt x="12267" y="10800"/>
                            </a:cubicBezTo>
                            <a:cubicBezTo>
                              <a:pt x="12267" y="16520"/>
                              <a:pt x="16934" y="19399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dddddd"/>
                          </a:gs>
                        </a:gsLst>
                        <a:lin ang="16200000"/>
                      </a:gradFill>
                      <a:ln w="93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68" name="Group 968"/>
                    <p:cNvGrpSpPr/>
                    <p:nvPr/>
                  </p:nvGrpSpPr>
                  <p:grpSpPr>
                    <a:xfrm>
                      <a:off x="4598640" y="3565440"/>
                      <a:ext cx="230040" cy="749160"/>
                      <a:chOff x="4598640" y="3565440"/>
                      <a:chExt cx="230040" cy="749160"/>
                    </a:xfrm>
                  </p:grpSpPr>
                  <p:sp>
                    <p:nvSpPr>
                      <p:cNvPr id="1169" name="AutoShape 969"/>
                      <p:cNvSpPr/>
                      <p:nvPr/>
                    </p:nvSpPr>
                    <p:spPr>
                      <a:xfrm rot="78600">
                        <a:off x="4612680" y="3701160"/>
                        <a:ext cx="180360" cy="360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4308" y="21600"/>
                            </a:lnTo>
                            <a:lnTo>
                              <a:pt x="17292" y="21600"/>
                            </a:lnTo>
                            <a:lnTo>
                              <a:pt x="2160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0c0c0"/>
                          </a:gs>
                          <a:gs pos="100000">
                            <a:srgbClr val="ffffff"/>
                          </a:gs>
                        </a:gsLst>
                        <a:lin ang="540000"/>
                      </a:gradFill>
                      <a:ln w="93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70" name="Oval 970"/>
                      <p:cNvSpPr/>
                      <p:nvPr/>
                    </p:nvSpPr>
                    <p:spPr>
                      <a:xfrm rot="617400">
                        <a:off x="4613760" y="3580560"/>
                        <a:ext cx="187200" cy="1904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dddddd"/>
                          </a:gs>
                          <a:gs pos="100000">
                            <a:srgbClr val="ffffff"/>
                          </a:gs>
                        </a:gsLst>
                        <a:lin ang="0"/>
                      </a:gradFill>
                      <a:ln w="9360">
                        <a:solidFill>
                          <a:srgbClr val="c0c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71" name="Freeform 971"/>
                      <p:cNvSpPr/>
                      <p:nvPr/>
                    </p:nvSpPr>
                    <p:spPr>
                      <a:xfrm rot="10112400">
                        <a:off x="4626000" y="4012200"/>
                        <a:ext cx="175680" cy="28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02" h="2302">
                            <a:moveTo>
                              <a:pt x="361" y="1127"/>
                            </a:moveTo>
                            <a:lnTo>
                              <a:pt x="280" y="1116"/>
                            </a:lnTo>
                            <a:lnTo>
                              <a:pt x="373" y="711"/>
                            </a:lnTo>
                            <a:lnTo>
                              <a:pt x="373" y="709"/>
                            </a:lnTo>
                            <a:lnTo>
                              <a:pt x="375" y="705"/>
                            </a:lnTo>
                            <a:lnTo>
                              <a:pt x="375" y="703"/>
                            </a:lnTo>
                            <a:lnTo>
                              <a:pt x="375" y="700"/>
                            </a:lnTo>
                            <a:lnTo>
                              <a:pt x="375" y="698"/>
                            </a:lnTo>
                            <a:lnTo>
                              <a:pt x="375" y="696"/>
                            </a:lnTo>
                            <a:lnTo>
                              <a:pt x="375" y="692"/>
                            </a:lnTo>
                            <a:lnTo>
                              <a:pt x="375" y="690"/>
                            </a:lnTo>
                            <a:lnTo>
                              <a:pt x="375" y="684"/>
                            </a:lnTo>
                            <a:lnTo>
                              <a:pt x="375" y="681"/>
                            </a:lnTo>
                            <a:lnTo>
                              <a:pt x="375" y="675"/>
                            </a:lnTo>
                            <a:lnTo>
                              <a:pt x="375" y="669"/>
                            </a:lnTo>
                            <a:lnTo>
                              <a:pt x="371" y="665"/>
                            </a:lnTo>
                            <a:lnTo>
                              <a:pt x="371" y="660"/>
                            </a:lnTo>
                            <a:lnTo>
                              <a:pt x="369" y="654"/>
                            </a:lnTo>
                            <a:lnTo>
                              <a:pt x="367" y="652"/>
                            </a:lnTo>
                            <a:lnTo>
                              <a:pt x="365" y="646"/>
                            </a:lnTo>
                            <a:lnTo>
                              <a:pt x="363" y="641"/>
                            </a:lnTo>
                            <a:lnTo>
                              <a:pt x="361" y="637"/>
                            </a:lnTo>
                            <a:lnTo>
                              <a:pt x="358" y="633"/>
                            </a:lnTo>
                            <a:lnTo>
                              <a:pt x="356" y="629"/>
                            </a:lnTo>
                            <a:lnTo>
                              <a:pt x="354" y="623"/>
                            </a:lnTo>
                            <a:lnTo>
                              <a:pt x="350" y="620"/>
                            </a:lnTo>
                            <a:lnTo>
                              <a:pt x="346" y="616"/>
                            </a:lnTo>
                            <a:lnTo>
                              <a:pt x="342" y="612"/>
                            </a:lnTo>
                            <a:lnTo>
                              <a:pt x="339" y="610"/>
                            </a:lnTo>
                            <a:lnTo>
                              <a:pt x="335" y="606"/>
                            </a:lnTo>
                            <a:lnTo>
                              <a:pt x="331" y="603"/>
                            </a:lnTo>
                            <a:lnTo>
                              <a:pt x="325" y="601"/>
                            </a:lnTo>
                            <a:lnTo>
                              <a:pt x="321" y="597"/>
                            </a:lnTo>
                            <a:lnTo>
                              <a:pt x="318" y="595"/>
                            </a:lnTo>
                            <a:lnTo>
                              <a:pt x="312" y="593"/>
                            </a:lnTo>
                            <a:lnTo>
                              <a:pt x="306" y="591"/>
                            </a:lnTo>
                            <a:lnTo>
                              <a:pt x="302" y="589"/>
                            </a:lnTo>
                            <a:lnTo>
                              <a:pt x="299" y="589"/>
                            </a:lnTo>
                            <a:lnTo>
                              <a:pt x="295" y="587"/>
                            </a:lnTo>
                            <a:lnTo>
                              <a:pt x="291" y="587"/>
                            </a:lnTo>
                            <a:lnTo>
                              <a:pt x="287" y="585"/>
                            </a:lnTo>
                            <a:lnTo>
                              <a:pt x="285" y="585"/>
                            </a:lnTo>
                            <a:lnTo>
                              <a:pt x="283" y="585"/>
                            </a:lnTo>
                            <a:lnTo>
                              <a:pt x="280" y="585"/>
                            </a:lnTo>
                            <a:lnTo>
                              <a:pt x="276" y="585"/>
                            </a:lnTo>
                            <a:lnTo>
                              <a:pt x="274" y="585"/>
                            </a:lnTo>
                            <a:lnTo>
                              <a:pt x="272" y="585"/>
                            </a:lnTo>
                            <a:lnTo>
                              <a:pt x="268" y="585"/>
                            </a:lnTo>
                            <a:lnTo>
                              <a:pt x="266" y="585"/>
                            </a:lnTo>
                            <a:lnTo>
                              <a:pt x="263" y="585"/>
                            </a:lnTo>
                            <a:lnTo>
                              <a:pt x="261" y="587"/>
                            </a:lnTo>
                            <a:lnTo>
                              <a:pt x="259" y="587"/>
                            </a:lnTo>
                            <a:lnTo>
                              <a:pt x="255" y="587"/>
                            </a:lnTo>
                            <a:lnTo>
                              <a:pt x="253" y="589"/>
                            </a:lnTo>
                            <a:lnTo>
                              <a:pt x="249" y="589"/>
                            </a:lnTo>
                            <a:lnTo>
                              <a:pt x="247" y="589"/>
                            </a:lnTo>
                            <a:lnTo>
                              <a:pt x="243" y="591"/>
                            </a:lnTo>
                            <a:lnTo>
                              <a:pt x="240" y="591"/>
                            </a:lnTo>
                            <a:lnTo>
                              <a:pt x="238" y="593"/>
                            </a:lnTo>
                            <a:lnTo>
                              <a:pt x="236" y="595"/>
                            </a:lnTo>
                            <a:lnTo>
                              <a:pt x="232" y="595"/>
                            </a:lnTo>
                            <a:lnTo>
                              <a:pt x="230" y="597"/>
                            </a:lnTo>
                            <a:lnTo>
                              <a:pt x="228" y="599"/>
                            </a:lnTo>
                            <a:lnTo>
                              <a:pt x="224" y="601"/>
                            </a:lnTo>
                            <a:lnTo>
                              <a:pt x="223" y="601"/>
                            </a:lnTo>
                            <a:lnTo>
                              <a:pt x="219" y="603"/>
                            </a:lnTo>
                            <a:lnTo>
                              <a:pt x="217" y="604"/>
                            </a:lnTo>
                            <a:lnTo>
                              <a:pt x="211" y="608"/>
                            </a:lnTo>
                            <a:lnTo>
                              <a:pt x="207" y="612"/>
                            </a:lnTo>
                            <a:lnTo>
                              <a:pt x="204" y="616"/>
                            </a:lnTo>
                            <a:lnTo>
                              <a:pt x="198" y="618"/>
                            </a:lnTo>
                            <a:lnTo>
                              <a:pt x="194" y="623"/>
                            </a:lnTo>
                            <a:lnTo>
                              <a:pt x="188" y="627"/>
                            </a:lnTo>
                            <a:lnTo>
                              <a:pt x="185" y="633"/>
                            </a:lnTo>
                            <a:lnTo>
                              <a:pt x="181" y="637"/>
                            </a:lnTo>
                            <a:lnTo>
                              <a:pt x="177" y="641"/>
                            </a:lnTo>
                            <a:lnTo>
                              <a:pt x="173" y="646"/>
                            </a:lnTo>
                            <a:lnTo>
                              <a:pt x="169" y="652"/>
                            </a:lnTo>
                            <a:lnTo>
                              <a:pt x="166" y="656"/>
                            </a:lnTo>
                            <a:lnTo>
                              <a:pt x="162" y="662"/>
                            </a:lnTo>
                            <a:lnTo>
                              <a:pt x="160" y="665"/>
                            </a:lnTo>
                            <a:lnTo>
                              <a:pt x="158" y="669"/>
                            </a:lnTo>
                            <a:lnTo>
                              <a:pt x="158" y="671"/>
                            </a:lnTo>
                            <a:lnTo>
                              <a:pt x="156" y="673"/>
                            </a:lnTo>
                            <a:lnTo>
                              <a:pt x="154" y="677"/>
                            </a:lnTo>
                            <a:lnTo>
                              <a:pt x="152" y="679"/>
                            </a:lnTo>
                            <a:lnTo>
                              <a:pt x="152" y="681"/>
                            </a:lnTo>
                            <a:lnTo>
                              <a:pt x="150" y="684"/>
                            </a:lnTo>
                            <a:lnTo>
                              <a:pt x="150" y="688"/>
                            </a:lnTo>
                            <a:lnTo>
                              <a:pt x="146" y="694"/>
                            </a:lnTo>
                            <a:lnTo>
                              <a:pt x="145" y="701"/>
                            </a:lnTo>
                            <a:lnTo>
                              <a:pt x="143" y="709"/>
                            </a:lnTo>
                            <a:lnTo>
                              <a:pt x="139" y="717"/>
                            </a:lnTo>
                            <a:lnTo>
                              <a:pt x="137" y="724"/>
                            </a:lnTo>
                            <a:lnTo>
                              <a:pt x="135" y="732"/>
                            </a:lnTo>
                            <a:lnTo>
                              <a:pt x="131" y="739"/>
                            </a:lnTo>
                            <a:lnTo>
                              <a:pt x="129" y="747"/>
                            </a:lnTo>
                            <a:lnTo>
                              <a:pt x="126" y="755"/>
                            </a:lnTo>
                            <a:lnTo>
                              <a:pt x="124" y="760"/>
                            </a:lnTo>
                            <a:lnTo>
                              <a:pt x="122" y="768"/>
                            </a:lnTo>
                            <a:lnTo>
                              <a:pt x="120" y="776"/>
                            </a:lnTo>
                            <a:lnTo>
                              <a:pt x="116" y="781"/>
                            </a:lnTo>
                            <a:lnTo>
                              <a:pt x="114" y="789"/>
                            </a:lnTo>
                            <a:lnTo>
                              <a:pt x="112" y="796"/>
                            </a:lnTo>
                            <a:lnTo>
                              <a:pt x="110" y="804"/>
                            </a:lnTo>
                            <a:lnTo>
                              <a:pt x="107" y="812"/>
                            </a:lnTo>
                            <a:lnTo>
                              <a:pt x="107" y="817"/>
                            </a:lnTo>
                            <a:lnTo>
                              <a:pt x="103" y="823"/>
                            </a:lnTo>
                            <a:lnTo>
                              <a:pt x="101" y="831"/>
                            </a:lnTo>
                            <a:lnTo>
                              <a:pt x="97" y="836"/>
                            </a:lnTo>
                            <a:lnTo>
                              <a:pt x="97" y="844"/>
                            </a:lnTo>
                            <a:lnTo>
                              <a:pt x="93" y="852"/>
                            </a:lnTo>
                            <a:lnTo>
                              <a:pt x="93" y="857"/>
                            </a:lnTo>
                            <a:lnTo>
                              <a:pt x="89" y="865"/>
                            </a:lnTo>
                            <a:lnTo>
                              <a:pt x="88" y="871"/>
                            </a:lnTo>
                            <a:lnTo>
                              <a:pt x="86" y="878"/>
                            </a:lnTo>
                            <a:lnTo>
                              <a:pt x="84" y="884"/>
                            </a:lnTo>
                            <a:lnTo>
                              <a:pt x="82" y="892"/>
                            </a:lnTo>
                            <a:lnTo>
                              <a:pt x="80" y="899"/>
                            </a:lnTo>
                            <a:lnTo>
                              <a:pt x="78" y="907"/>
                            </a:lnTo>
                            <a:lnTo>
                              <a:pt x="74" y="912"/>
                            </a:lnTo>
                            <a:lnTo>
                              <a:pt x="72" y="920"/>
                            </a:lnTo>
                            <a:lnTo>
                              <a:pt x="72" y="926"/>
                            </a:lnTo>
                            <a:lnTo>
                              <a:pt x="68" y="931"/>
                            </a:lnTo>
                            <a:lnTo>
                              <a:pt x="67" y="939"/>
                            </a:lnTo>
                            <a:lnTo>
                              <a:pt x="65" y="945"/>
                            </a:lnTo>
                            <a:lnTo>
                              <a:pt x="63" y="952"/>
                            </a:lnTo>
                            <a:lnTo>
                              <a:pt x="59" y="958"/>
                            </a:lnTo>
                            <a:lnTo>
                              <a:pt x="57" y="966"/>
                            </a:lnTo>
                            <a:lnTo>
                              <a:pt x="55" y="971"/>
                            </a:lnTo>
                            <a:lnTo>
                              <a:pt x="53" y="979"/>
                            </a:lnTo>
                            <a:lnTo>
                              <a:pt x="51" y="987"/>
                            </a:lnTo>
                            <a:lnTo>
                              <a:pt x="49" y="994"/>
                            </a:lnTo>
                            <a:lnTo>
                              <a:pt x="48" y="1000"/>
                            </a:lnTo>
                            <a:lnTo>
                              <a:pt x="46" y="1007"/>
                            </a:lnTo>
                            <a:lnTo>
                              <a:pt x="44" y="1015"/>
                            </a:lnTo>
                            <a:lnTo>
                              <a:pt x="42" y="1021"/>
                            </a:lnTo>
                            <a:lnTo>
                              <a:pt x="42" y="1028"/>
                            </a:lnTo>
                            <a:lnTo>
                              <a:pt x="38" y="1036"/>
                            </a:lnTo>
                            <a:lnTo>
                              <a:pt x="36" y="1042"/>
                            </a:lnTo>
                            <a:lnTo>
                              <a:pt x="36" y="1049"/>
                            </a:lnTo>
                            <a:lnTo>
                              <a:pt x="34" y="1057"/>
                            </a:lnTo>
                            <a:lnTo>
                              <a:pt x="30" y="1063"/>
                            </a:lnTo>
                            <a:lnTo>
                              <a:pt x="30" y="1070"/>
                            </a:lnTo>
                            <a:lnTo>
                              <a:pt x="29" y="1078"/>
                            </a:lnTo>
                            <a:lnTo>
                              <a:pt x="27" y="1085"/>
                            </a:lnTo>
                            <a:lnTo>
                              <a:pt x="25" y="1093"/>
                            </a:lnTo>
                            <a:lnTo>
                              <a:pt x="23" y="1101"/>
                            </a:lnTo>
                            <a:lnTo>
                              <a:pt x="21" y="1108"/>
                            </a:lnTo>
                            <a:lnTo>
                              <a:pt x="19" y="1116"/>
                            </a:lnTo>
                            <a:lnTo>
                              <a:pt x="17" y="1123"/>
                            </a:lnTo>
                            <a:lnTo>
                              <a:pt x="17" y="1131"/>
                            </a:lnTo>
                            <a:lnTo>
                              <a:pt x="15" y="1139"/>
                            </a:lnTo>
                            <a:lnTo>
                              <a:pt x="13" y="1148"/>
                            </a:lnTo>
                            <a:lnTo>
                              <a:pt x="10" y="1158"/>
                            </a:lnTo>
                            <a:lnTo>
                              <a:pt x="10" y="1165"/>
                            </a:lnTo>
                            <a:lnTo>
                              <a:pt x="8" y="1175"/>
                            </a:lnTo>
                            <a:lnTo>
                              <a:pt x="6" y="1182"/>
                            </a:lnTo>
                            <a:lnTo>
                              <a:pt x="6" y="1192"/>
                            </a:lnTo>
                            <a:lnTo>
                              <a:pt x="4" y="1201"/>
                            </a:lnTo>
                            <a:lnTo>
                              <a:pt x="2" y="1211"/>
                            </a:lnTo>
                            <a:lnTo>
                              <a:pt x="2" y="1218"/>
                            </a:lnTo>
                            <a:lnTo>
                              <a:pt x="0" y="1230"/>
                            </a:lnTo>
                            <a:lnTo>
                              <a:pt x="0" y="1237"/>
                            </a:lnTo>
                            <a:lnTo>
                              <a:pt x="0" y="1247"/>
                            </a:lnTo>
                            <a:lnTo>
                              <a:pt x="0" y="1257"/>
                            </a:lnTo>
                            <a:lnTo>
                              <a:pt x="0" y="1268"/>
                            </a:lnTo>
                            <a:lnTo>
                              <a:pt x="0" y="1276"/>
                            </a:lnTo>
                            <a:lnTo>
                              <a:pt x="0" y="1285"/>
                            </a:lnTo>
                            <a:lnTo>
                              <a:pt x="0" y="1296"/>
                            </a:lnTo>
                            <a:lnTo>
                              <a:pt x="0" y="1304"/>
                            </a:lnTo>
                            <a:lnTo>
                              <a:pt x="0" y="1314"/>
                            </a:lnTo>
                            <a:lnTo>
                              <a:pt x="0" y="1323"/>
                            </a:lnTo>
                            <a:lnTo>
                              <a:pt x="0" y="1333"/>
                            </a:lnTo>
                            <a:lnTo>
                              <a:pt x="2" y="1342"/>
                            </a:lnTo>
                            <a:lnTo>
                              <a:pt x="2" y="1352"/>
                            </a:lnTo>
                            <a:lnTo>
                              <a:pt x="4" y="1363"/>
                            </a:lnTo>
                            <a:lnTo>
                              <a:pt x="4" y="1371"/>
                            </a:lnTo>
                            <a:lnTo>
                              <a:pt x="6" y="1382"/>
                            </a:lnTo>
                            <a:lnTo>
                              <a:pt x="8" y="1390"/>
                            </a:lnTo>
                            <a:lnTo>
                              <a:pt x="8" y="1401"/>
                            </a:lnTo>
                            <a:lnTo>
                              <a:pt x="10" y="1409"/>
                            </a:lnTo>
                            <a:lnTo>
                              <a:pt x="11" y="1420"/>
                            </a:lnTo>
                            <a:lnTo>
                              <a:pt x="13" y="1429"/>
                            </a:lnTo>
                            <a:lnTo>
                              <a:pt x="15" y="1439"/>
                            </a:lnTo>
                            <a:lnTo>
                              <a:pt x="17" y="1448"/>
                            </a:lnTo>
                            <a:lnTo>
                              <a:pt x="19" y="1458"/>
                            </a:lnTo>
                            <a:lnTo>
                              <a:pt x="21" y="1468"/>
                            </a:lnTo>
                            <a:lnTo>
                              <a:pt x="23" y="1477"/>
                            </a:lnTo>
                            <a:lnTo>
                              <a:pt x="27" y="1487"/>
                            </a:lnTo>
                            <a:lnTo>
                              <a:pt x="29" y="1496"/>
                            </a:lnTo>
                            <a:lnTo>
                              <a:pt x="30" y="1506"/>
                            </a:lnTo>
                            <a:lnTo>
                              <a:pt x="34" y="1515"/>
                            </a:lnTo>
                            <a:lnTo>
                              <a:pt x="36" y="1525"/>
                            </a:lnTo>
                            <a:lnTo>
                              <a:pt x="38" y="1534"/>
                            </a:lnTo>
                            <a:lnTo>
                              <a:pt x="42" y="1544"/>
                            </a:lnTo>
                            <a:lnTo>
                              <a:pt x="46" y="1553"/>
                            </a:lnTo>
                            <a:lnTo>
                              <a:pt x="48" y="1561"/>
                            </a:lnTo>
                            <a:lnTo>
                              <a:pt x="51" y="1572"/>
                            </a:lnTo>
                            <a:lnTo>
                              <a:pt x="55" y="1580"/>
                            </a:lnTo>
                            <a:lnTo>
                              <a:pt x="59" y="1589"/>
                            </a:lnTo>
                            <a:lnTo>
                              <a:pt x="63" y="1599"/>
                            </a:lnTo>
                            <a:lnTo>
                              <a:pt x="67" y="1608"/>
                            </a:lnTo>
                            <a:lnTo>
                              <a:pt x="68" y="1616"/>
                            </a:lnTo>
                            <a:lnTo>
                              <a:pt x="74" y="1627"/>
                            </a:lnTo>
                            <a:lnTo>
                              <a:pt x="78" y="1635"/>
                            </a:lnTo>
                            <a:lnTo>
                              <a:pt x="82" y="1644"/>
                            </a:lnTo>
                            <a:lnTo>
                              <a:pt x="86" y="1652"/>
                            </a:lnTo>
                            <a:lnTo>
                              <a:pt x="89" y="1661"/>
                            </a:lnTo>
                            <a:lnTo>
                              <a:pt x="95" y="1669"/>
                            </a:lnTo>
                            <a:lnTo>
                              <a:pt x="99" y="1679"/>
                            </a:lnTo>
                            <a:lnTo>
                              <a:pt x="103" y="1688"/>
                            </a:lnTo>
                            <a:lnTo>
                              <a:pt x="108" y="1696"/>
                            </a:lnTo>
                            <a:lnTo>
                              <a:pt x="114" y="1703"/>
                            </a:lnTo>
                            <a:lnTo>
                              <a:pt x="118" y="1713"/>
                            </a:lnTo>
                            <a:lnTo>
                              <a:pt x="124" y="1722"/>
                            </a:lnTo>
                            <a:lnTo>
                              <a:pt x="127" y="1732"/>
                            </a:lnTo>
                            <a:lnTo>
                              <a:pt x="131" y="1736"/>
                            </a:lnTo>
                            <a:lnTo>
                              <a:pt x="135" y="1739"/>
                            </a:lnTo>
                            <a:lnTo>
                              <a:pt x="135" y="1743"/>
                            </a:lnTo>
                            <a:lnTo>
                              <a:pt x="137" y="1745"/>
                            </a:lnTo>
                            <a:lnTo>
                              <a:pt x="139" y="1747"/>
                            </a:lnTo>
                            <a:lnTo>
                              <a:pt x="141" y="1751"/>
                            </a:lnTo>
                            <a:lnTo>
                              <a:pt x="143" y="1755"/>
                            </a:lnTo>
                            <a:lnTo>
                              <a:pt x="143" y="1756"/>
                            </a:lnTo>
                            <a:lnTo>
                              <a:pt x="145" y="1760"/>
                            </a:lnTo>
                            <a:lnTo>
                              <a:pt x="146" y="1762"/>
                            </a:lnTo>
                            <a:lnTo>
                              <a:pt x="148" y="1766"/>
                            </a:lnTo>
                            <a:lnTo>
                              <a:pt x="150" y="1768"/>
                            </a:lnTo>
                            <a:lnTo>
                              <a:pt x="152" y="1770"/>
                            </a:lnTo>
                            <a:lnTo>
                              <a:pt x="156" y="1774"/>
                            </a:lnTo>
                            <a:lnTo>
                              <a:pt x="158" y="1777"/>
                            </a:lnTo>
                            <a:lnTo>
                              <a:pt x="160" y="1779"/>
                            </a:lnTo>
                            <a:lnTo>
                              <a:pt x="160" y="1783"/>
                            </a:lnTo>
                            <a:lnTo>
                              <a:pt x="162" y="1787"/>
                            </a:lnTo>
                            <a:lnTo>
                              <a:pt x="166" y="1789"/>
                            </a:lnTo>
                            <a:lnTo>
                              <a:pt x="166" y="1791"/>
                            </a:lnTo>
                            <a:lnTo>
                              <a:pt x="167" y="1794"/>
                            </a:lnTo>
                            <a:lnTo>
                              <a:pt x="169" y="1796"/>
                            </a:lnTo>
                            <a:lnTo>
                              <a:pt x="171" y="1800"/>
                            </a:lnTo>
                            <a:lnTo>
                              <a:pt x="173" y="1802"/>
                            </a:lnTo>
                            <a:lnTo>
                              <a:pt x="175" y="1806"/>
                            </a:lnTo>
                            <a:lnTo>
                              <a:pt x="177" y="1808"/>
                            </a:lnTo>
                            <a:lnTo>
                              <a:pt x="179" y="1812"/>
                            </a:lnTo>
                            <a:lnTo>
                              <a:pt x="181" y="1815"/>
                            </a:lnTo>
                            <a:lnTo>
                              <a:pt x="183" y="1817"/>
                            </a:lnTo>
                            <a:lnTo>
                              <a:pt x="185" y="1821"/>
                            </a:lnTo>
                            <a:lnTo>
                              <a:pt x="188" y="1827"/>
                            </a:lnTo>
                            <a:lnTo>
                              <a:pt x="190" y="1831"/>
                            </a:lnTo>
                            <a:lnTo>
                              <a:pt x="194" y="1836"/>
                            </a:lnTo>
                            <a:lnTo>
                              <a:pt x="198" y="1842"/>
                            </a:lnTo>
                            <a:lnTo>
                              <a:pt x="200" y="1846"/>
                            </a:lnTo>
                            <a:lnTo>
                              <a:pt x="204" y="1850"/>
                            </a:lnTo>
                            <a:lnTo>
                              <a:pt x="205" y="1853"/>
                            </a:lnTo>
                            <a:lnTo>
                              <a:pt x="207" y="1859"/>
                            </a:lnTo>
                            <a:lnTo>
                              <a:pt x="209" y="1861"/>
                            </a:lnTo>
                            <a:lnTo>
                              <a:pt x="211" y="1863"/>
                            </a:lnTo>
                            <a:lnTo>
                              <a:pt x="213" y="1867"/>
                            </a:lnTo>
                            <a:lnTo>
                              <a:pt x="215" y="1869"/>
                            </a:lnTo>
                            <a:lnTo>
                              <a:pt x="217" y="1870"/>
                            </a:lnTo>
                            <a:lnTo>
                              <a:pt x="219" y="1874"/>
                            </a:lnTo>
                            <a:lnTo>
                              <a:pt x="141" y="2163"/>
                            </a:lnTo>
                            <a:lnTo>
                              <a:pt x="143" y="2165"/>
                            </a:lnTo>
                            <a:lnTo>
                              <a:pt x="146" y="2165"/>
                            </a:lnTo>
                            <a:lnTo>
                              <a:pt x="150" y="2167"/>
                            </a:lnTo>
                            <a:lnTo>
                              <a:pt x="152" y="2167"/>
                            </a:lnTo>
                            <a:lnTo>
                              <a:pt x="154" y="2167"/>
                            </a:lnTo>
                            <a:lnTo>
                              <a:pt x="158" y="2167"/>
                            </a:lnTo>
                            <a:lnTo>
                              <a:pt x="162" y="2171"/>
                            </a:lnTo>
                            <a:lnTo>
                              <a:pt x="166" y="2171"/>
                            </a:lnTo>
                            <a:lnTo>
                              <a:pt x="167" y="2173"/>
                            </a:lnTo>
                            <a:lnTo>
                              <a:pt x="171" y="2173"/>
                            </a:lnTo>
                            <a:lnTo>
                              <a:pt x="175" y="2175"/>
                            </a:lnTo>
                            <a:lnTo>
                              <a:pt x="181" y="2175"/>
                            </a:lnTo>
                            <a:lnTo>
                              <a:pt x="185" y="2175"/>
                            </a:lnTo>
                            <a:lnTo>
                              <a:pt x="188" y="2177"/>
                            </a:lnTo>
                            <a:lnTo>
                              <a:pt x="194" y="2180"/>
                            </a:lnTo>
                            <a:lnTo>
                              <a:pt x="198" y="2180"/>
                            </a:lnTo>
                            <a:lnTo>
                              <a:pt x="204" y="2182"/>
                            </a:lnTo>
                            <a:lnTo>
                              <a:pt x="209" y="2182"/>
                            </a:lnTo>
                            <a:lnTo>
                              <a:pt x="215" y="2184"/>
                            </a:lnTo>
                            <a:lnTo>
                              <a:pt x="219" y="2186"/>
                            </a:lnTo>
                            <a:lnTo>
                              <a:pt x="224" y="2188"/>
                            </a:lnTo>
                            <a:lnTo>
                              <a:pt x="232" y="2188"/>
                            </a:lnTo>
                            <a:lnTo>
                              <a:pt x="238" y="2190"/>
                            </a:lnTo>
                            <a:lnTo>
                              <a:pt x="243" y="2190"/>
                            </a:lnTo>
                            <a:lnTo>
                              <a:pt x="251" y="2192"/>
                            </a:lnTo>
                            <a:lnTo>
                              <a:pt x="257" y="2194"/>
                            </a:lnTo>
                            <a:lnTo>
                              <a:pt x="264" y="2194"/>
                            </a:lnTo>
                            <a:lnTo>
                              <a:pt x="270" y="2196"/>
                            </a:lnTo>
                            <a:lnTo>
                              <a:pt x="276" y="2196"/>
                            </a:lnTo>
                            <a:lnTo>
                              <a:pt x="283" y="2197"/>
                            </a:lnTo>
                            <a:lnTo>
                              <a:pt x="291" y="2199"/>
                            </a:lnTo>
                            <a:lnTo>
                              <a:pt x="297" y="2199"/>
                            </a:lnTo>
                            <a:lnTo>
                              <a:pt x="304" y="2199"/>
                            </a:lnTo>
                            <a:lnTo>
                              <a:pt x="312" y="2199"/>
                            </a:lnTo>
                            <a:lnTo>
                              <a:pt x="320" y="2201"/>
                            </a:lnTo>
                            <a:lnTo>
                              <a:pt x="325" y="2201"/>
                            </a:lnTo>
                            <a:lnTo>
                              <a:pt x="333" y="2201"/>
                            </a:lnTo>
                            <a:lnTo>
                              <a:pt x="341" y="2201"/>
                            </a:lnTo>
                            <a:lnTo>
                              <a:pt x="348" y="2201"/>
                            </a:lnTo>
                            <a:lnTo>
                              <a:pt x="356" y="2201"/>
                            </a:lnTo>
                            <a:lnTo>
                              <a:pt x="363" y="2201"/>
                            </a:lnTo>
                            <a:lnTo>
                              <a:pt x="371" y="2201"/>
                            </a:lnTo>
                            <a:lnTo>
                              <a:pt x="379" y="2201"/>
                            </a:lnTo>
                            <a:lnTo>
                              <a:pt x="386" y="2201"/>
                            </a:lnTo>
                            <a:lnTo>
                              <a:pt x="394" y="2201"/>
                            </a:lnTo>
                            <a:lnTo>
                              <a:pt x="401" y="2199"/>
                            </a:lnTo>
                            <a:lnTo>
                              <a:pt x="409" y="2199"/>
                            </a:lnTo>
                            <a:lnTo>
                              <a:pt x="415" y="2197"/>
                            </a:lnTo>
                            <a:lnTo>
                              <a:pt x="422" y="2196"/>
                            </a:lnTo>
                            <a:lnTo>
                              <a:pt x="432" y="2196"/>
                            </a:lnTo>
                            <a:lnTo>
                              <a:pt x="439" y="2194"/>
                            </a:lnTo>
                            <a:lnTo>
                              <a:pt x="447" y="2192"/>
                            </a:lnTo>
                            <a:lnTo>
                              <a:pt x="455" y="2190"/>
                            </a:lnTo>
                            <a:lnTo>
                              <a:pt x="462" y="2188"/>
                            </a:lnTo>
                            <a:lnTo>
                              <a:pt x="470" y="2188"/>
                            </a:lnTo>
                            <a:lnTo>
                              <a:pt x="476" y="2184"/>
                            </a:lnTo>
                            <a:lnTo>
                              <a:pt x="483" y="2182"/>
                            </a:lnTo>
                            <a:lnTo>
                              <a:pt x="491" y="2180"/>
                            </a:lnTo>
                            <a:lnTo>
                              <a:pt x="498" y="2175"/>
                            </a:lnTo>
                            <a:lnTo>
                              <a:pt x="504" y="2173"/>
                            </a:lnTo>
                            <a:lnTo>
                              <a:pt x="512" y="2169"/>
                            </a:lnTo>
                            <a:lnTo>
                              <a:pt x="517" y="2165"/>
                            </a:lnTo>
                            <a:lnTo>
                              <a:pt x="525" y="2161"/>
                            </a:lnTo>
                            <a:lnTo>
                              <a:pt x="531" y="2158"/>
                            </a:lnTo>
                            <a:lnTo>
                              <a:pt x="536" y="2154"/>
                            </a:lnTo>
                            <a:lnTo>
                              <a:pt x="542" y="2150"/>
                            </a:lnTo>
                            <a:lnTo>
                              <a:pt x="550" y="2146"/>
                            </a:lnTo>
                            <a:lnTo>
                              <a:pt x="555" y="2142"/>
                            </a:lnTo>
                            <a:lnTo>
                              <a:pt x="559" y="2137"/>
                            </a:lnTo>
                            <a:lnTo>
                              <a:pt x="565" y="2133"/>
                            </a:lnTo>
                            <a:lnTo>
                              <a:pt x="571" y="2129"/>
                            </a:lnTo>
                            <a:lnTo>
                              <a:pt x="576" y="2123"/>
                            </a:lnTo>
                            <a:lnTo>
                              <a:pt x="582" y="2120"/>
                            </a:lnTo>
                            <a:lnTo>
                              <a:pt x="588" y="2114"/>
                            </a:lnTo>
                            <a:lnTo>
                              <a:pt x="592" y="2110"/>
                            </a:lnTo>
                            <a:lnTo>
                              <a:pt x="595" y="2106"/>
                            </a:lnTo>
                            <a:lnTo>
                              <a:pt x="601" y="2101"/>
                            </a:lnTo>
                            <a:lnTo>
                              <a:pt x="605" y="2095"/>
                            </a:lnTo>
                            <a:lnTo>
                              <a:pt x="611" y="2091"/>
                            </a:lnTo>
                            <a:lnTo>
                              <a:pt x="614" y="2085"/>
                            </a:lnTo>
                            <a:lnTo>
                              <a:pt x="618" y="2080"/>
                            </a:lnTo>
                            <a:lnTo>
                              <a:pt x="624" y="2076"/>
                            </a:lnTo>
                            <a:lnTo>
                              <a:pt x="628" y="2070"/>
                            </a:lnTo>
                            <a:lnTo>
                              <a:pt x="632" y="2064"/>
                            </a:lnTo>
                            <a:lnTo>
                              <a:pt x="635" y="2059"/>
                            </a:lnTo>
                            <a:lnTo>
                              <a:pt x="637" y="2055"/>
                            </a:lnTo>
                            <a:lnTo>
                              <a:pt x="643" y="2049"/>
                            </a:lnTo>
                            <a:lnTo>
                              <a:pt x="645" y="2043"/>
                            </a:lnTo>
                            <a:lnTo>
                              <a:pt x="649" y="2040"/>
                            </a:lnTo>
                            <a:lnTo>
                              <a:pt x="652" y="2034"/>
                            </a:lnTo>
                            <a:lnTo>
                              <a:pt x="654" y="2030"/>
                            </a:lnTo>
                            <a:lnTo>
                              <a:pt x="658" y="2024"/>
                            </a:lnTo>
                            <a:lnTo>
                              <a:pt x="660" y="2021"/>
                            </a:lnTo>
                            <a:lnTo>
                              <a:pt x="664" y="2015"/>
                            </a:lnTo>
                            <a:lnTo>
                              <a:pt x="666" y="2011"/>
                            </a:lnTo>
                            <a:lnTo>
                              <a:pt x="668" y="2005"/>
                            </a:lnTo>
                            <a:lnTo>
                              <a:pt x="672" y="2002"/>
                            </a:lnTo>
                            <a:lnTo>
                              <a:pt x="673" y="1998"/>
                            </a:lnTo>
                            <a:lnTo>
                              <a:pt x="675" y="1992"/>
                            </a:lnTo>
                            <a:lnTo>
                              <a:pt x="677" y="1986"/>
                            </a:lnTo>
                            <a:lnTo>
                              <a:pt x="679" y="1983"/>
                            </a:lnTo>
                            <a:lnTo>
                              <a:pt x="681" y="1979"/>
                            </a:lnTo>
                            <a:lnTo>
                              <a:pt x="683" y="1975"/>
                            </a:lnTo>
                            <a:lnTo>
                              <a:pt x="685" y="1971"/>
                            </a:lnTo>
                            <a:lnTo>
                              <a:pt x="687" y="1969"/>
                            </a:lnTo>
                            <a:lnTo>
                              <a:pt x="689" y="1964"/>
                            </a:lnTo>
                            <a:lnTo>
                              <a:pt x="691" y="1962"/>
                            </a:lnTo>
                            <a:lnTo>
                              <a:pt x="692" y="1958"/>
                            </a:lnTo>
                            <a:lnTo>
                              <a:pt x="692" y="1954"/>
                            </a:lnTo>
                            <a:lnTo>
                              <a:pt x="692" y="1952"/>
                            </a:lnTo>
                            <a:lnTo>
                              <a:pt x="694" y="1950"/>
                            </a:lnTo>
                            <a:lnTo>
                              <a:pt x="696" y="1945"/>
                            </a:lnTo>
                            <a:lnTo>
                              <a:pt x="698" y="1941"/>
                            </a:lnTo>
                            <a:lnTo>
                              <a:pt x="700" y="1937"/>
                            </a:lnTo>
                            <a:lnTo>
                              <a:pt x="700" y="1935"/>
                            </a:lnTo>
                            <a:lnTo>
                              <a:pt x="700" y="1933"/>
                            </a:lnTo>
                            <a:lnTo>
                              <a:pt x="702" y="1933"/>
                            </a:lnTo>
                            <a:lnTo>
                              <a:pt x="740" y="1943"/>
                            </a:lnTo>
                            <a:lnTo>
                              <a:pt x="740" y="1943"/>
                            </a:lnTo>
                            <a:lnTo>
                              <a:pt x="738" y="1945"/>
                            </a:lnTo>
                            <a:lnTo>
                              <a:pt x="738" y="1947"/>
                            </a:lnTo>
                            <a:lnTo>
                              <a:pt x="738" y="1950"/>
                            </a:lnTo>
                            <a:lnTo>
                              <a:pt x="738" y="1954"/>
                            </a:lnTo>
                            <a:lnTo>
                              <a:pt x="738" y="1958"/>
                            </a:lnTo>
                            <a:lnTo>
                              <a:pt x="736" y="1962"/>
                            </a:lnTo>
                            <a:lnTo>
                              <a:pt x="736" y="1964"/>
                            </a:lnTo>
                            <a:lnTo>
                              <a:pt x="736" y="1967"/>
                            </a:lnTo>
                            <a:lnTo>
                              <a:pt x="736" y="1971"/>
                            </a:lnTo>
                            <a:lnTo>
                              <a:pt x="736" y="1975"/>
                            </a:lnTo>
                            <a:lnTo>
                              <a:pt x="736" y="1979"/>
                            </a:lnTo>
                            <a:lnTo>
                              <a:pt x="736" y="1983"/>
                            </a:lnTo>
                            <a:lnTo>
                              <a:pt x="736" y="1985"/>
                            </a:lnTo>
                            <a:lnTo>
                              <a:pt x="736" y="1990"/>
                            </a:lnTo>
                            <a:lnTo>
                              <a:pt x="736" y="1994"/>
                            </a:lnTo>
                            <a:lnTo>
                              <a:pt x="736" y="1998"/>
                            </a:lnTo>
                            <a:lnTo>
                              <a:pt x="736" y="2004"/>
                            </a:lnTo>
                            <a:lnTo>
                              <a:pt x="736" y="2007"/>
                            </a:lnTo>
                            <a:lnTo>
                              <a:pt x="736" y="2013"/>
                            </a:lnTo>
                            <a:lnTo>
                              <a:pt x="736" y="2015"/>
                            </a:lnTo>
                            <a:lnTo>
                              <a:pt x="736" y="2021"/>
                            </a:lnTo>
                            <a:lnTo>
                              <a:pt x="736" y="2026"/>
                            </a:lnTo>
                            <a:lnTo>
                              <a:pt x="736" y="2030"/>
                            </a:lnTo>
                            <a:lnTo>
                              <a:pt x="736" y="2036"/>
                            </a:lnTo>
                            <a:lnTo>
                              <a:pt x="736" y="2042"/>
                            </a:lnTo>
                            <a:lnTo>
                              <a:pt x="736" y="2047"/>
                            </a:lnTo>
                            <a:lnTo>
                              <a:pt x="738" y="2051"/>
                            </a:lnTo>
                            <a:lnTo>
                              <a:pt x="738" y="2057"/>
                            </a:lnTo>
                            <a:lnTo>
                              <a:pt x="738" y="2062"/>
                            </a:lnTo>
                            <a:lnTo>
                              <a:pt x="740" y="2066"/>
                            </a:lnTo>
                            <a:lnTo>
                              <a:pt x="740" y="2072"/>
                            </a:lnTo>
                            <a:lnTo>
                              <a:pt x="742" y="2078"/>
                            </a:lnTo>
                            <a:lnTo>
                              <a:pt x="744" y="2083"/>
                            </a:lnTo>
                            <a:lnTo>
                              <a:pt x="744" y="2091"/>
                            </a:lnTo>
                            <a:lnTo>
                              <a:pt x="746" y="2095"/>
                            </a:lnTo>
                            <a:lnTo>
                              <a:pt x="748" y="2101"/>
                            </a:lnTo>
                            <a:lnTo>
                              <a:pt x="748" y="2106"/>
                            </a:lnTo>
                            <a:lnTo>
                              <a:pt x="751" y="2110"/>
                            </a:lnTo>
                            <a:lnTo>
                              <a:pt x="753" y="2118"/>
                            </a:lnTo>
                            <a:lnTo>
                              <a:pt x="753" y="2123"/>
                            </a:lnTo>
                            <a:lnTo>
                              <a:pt x="757" y="2129"/>
                            </a:lnTo>
                            <a:lnTo>
                              <a:pt x="759" y="2135"/>
                            </a:lnTo>
                            <a:lnTo>
                              <a:pt x="761" y="2139"/>
                            </a:lnTo>
                            <a:lnTo>
                              <a:pt x="765" y="2144"/>
                            </a:lnTo>
                            <a:lnTo>
                              <a:pt x="767" y="2150"/>
                            </a:lnTo>
                            <a:lnTo>
                              <a:pt x="769" y="2156"/>
                            </a:lnTo>
                            <a:lnTo>
                              <a:pt x="772" y="2159"/>
                            </a:lnTo>
                            <a:lnTo>
                              <a:pt x="776" y="2165"/>
                            </a:lnTo>
                            <a:lnTo>
                              <a:pt x="780" y="2171"/>
                            </a:lnTo>
                            <a:lnTo>
                              <a:pt x="782" y="2175"/>
                            </a:lnTo>
                            <a:lnTo>
                              <a:pt x="786" y="2180"/>
                            </a:lnTo>
                            <a:lnTo>
                              <a:pt x="789" y="2186"/>
                            </a:lnTo>
                            <a:lnTo>
                              <a:pt x="795" y="2190"/>
                            </a:lnTo>
                            <a:lnTo>
                              <a:pt x="799" y="2196"/>
                            </a:lnTo>
                            <a:lnTo>
                              <a:pt x="805" y="2201"/>
                            </a:lnTo>
                            <a:lnTo>
                              <a:pt x="808" y="2205"/>
                            </a:lnTo>
                            <a:lnTo>
                              <a:pt x="814" y="2209"/>
                            </a:lnTo>
                            <a:lnTo>
                              <a:pt x="818" y="2213"/>
                            </a:lnTo>
                            <a:lnTo>
                              <a:pt x="824" y="2216"/>
                            </a:lnTo>
                            <a:lnTo>
                              <a:pt x="828" y="2222"/>
                            </a:lnTo>
                            <a:lnTo>
                              <a:pt x="833" y="2224"/>
                            </a:lnTo>
                            <a:lnTo>
                              <a:pt x="839" y="2228"/>
                            </a:lnTo>
                            <a:lnTo>
                              <a:pt x="845" y="2232"/>
                            </a:lnTo>
                            <a:lnTo>
                              <a:pt x="848" y="2235"/>
                            </a:lnTo>
                            <a:lnTo>
                              <a:pt x="854" y="2239"/>
                            </a:lnTo>
                            <a:lnTo>
                              <a:pt x="858" y="2243"/>
                            </a:lnTo>
                            <a:lnTo>
                              <a:pt x="864" y="2245"/>
                            </a:lnTo>
                            <a:lnTo>
                              <a:pt x="867" y="2249"/>
                            </a:lnTo>
                            <a:lnTo>
                              <a:pt x="873" y="2253"/>
                            </a:lnTo>
                            <a:lnTo>
                              <a:pt x="877" y="2256"/>
                            </a:lnTo>
                            <a:lnTo>
                              <a:pt x="883" y="2258"/>
                            </a:lnTo>
                            <a:lnTo>
                              <a:pt x="890" y="2260"/>
                            </a:lnTo>
                            <a:lnTo>
                              <a:pt x="896" y="2264"/>
                            </a:lnTo>
                            <a:lnTo>
                              <a:pt x="900" y="2266"/>
                            </a:lnTo>
                            <a:lnTo>
                              <a:pt x="904" y="2268"/>
                            </a:lnTo>
                            <a:lnTo>
                              <a:pt x="907" y="2270"/>
                            </a:lnTo>
                            <a:lnTo>
                              <a:pt x="913" y="2273"/>
                            </a:lnTo>
                            <a:lnTo>
                              <a:pt x="919" y="2275"/>
                            </a:lnTo>
                            <a:lnTo>
                              <a:pt x="925" y="2277"/>
                            </a:lnTo>
                            <a:lnTo>
                              <a:pt x="928" y="2279"/>
                            </a:lnTo>
                            <a:lnTo>
                              <a:pt x="934" y="2281"/>
                            </a:lnTo>
                            <a:lnTo>
                              <a:pt x="938" y="2283"/>
                            </a:lnTo>
                            <a:lnTo>
                              <a:pt x="942" y="2285"/>
                            </a:lnTo>
                            <a:lnTo>
                              <a:pt x="947" y="2287"/>
                            </a:lnTo>
                            <a:lnTo>
                              <a:pt x="951" y="2289"/>
                            </a:lnTo>
                            <a:lnTo>
                              <a:pt x="955" y="2289"/>
                            </a:lnTo>
                            <a:lnTo>
                              <a:pt x="961" y="2291"/>
                            </a:lnTo>
                            <a:lnTo>
                              <a:pt x="964" y="2291"/>
                            </a:lnTo>
                            <a:lnTo>
                              <a:pt x="968" y="2294"/>
                            </a:lnTo>
                            <a:lnTo>
                              <a:pt x="972" y="2294"/>
                            </a:lnTo>
                            <a:lnTo>
                              <a:pt x="978" y="2294"/>
                            </a:lnTo>
                            <a:lnTo>
                              <a:pt x="982" y="2296"/>
                            </a:lnTo>
                            <a:lnTo>
                              <a:pt x="985" y="2296"/>
                            </a:lnTo>
                            <a:lnTo>
                              <a:pt x="989" y="2296"/>
                            </a:lnTo>
                            <a:lnTo>
                              <a:pt x="993" y="2298"/>
                            </a:lnTo>
                            <a:lnTo>
                              <a:pt x="997" y="2298"/>
                            </a:lnTo>
                            <a:lnTo>
                              <a:pt x="1001" y="2298"/>
                            </a:lnTo>
                            <a:lnTo>
                              <a:pt x="1004" y="2298"/>
                            </a:lnTo>
                            <a:lnTo>
                              <a:pt x="1008" y="2300"/>
                            </a:lnTo>
                            <a:lnTo>
                              <a:pt x="1010" y="2300"/>
                            </a:lnTo>
                            <a:lnTo>
                              <a:pt x="1014" y="2300"/>
                            </a:lnTo>
                            <a:lnTo>
                              <a:pt x="1016" y="2300"/>
                            </a:lnTo>
                            <a:lnTo>
                              <a:pt x="1020" y="2300"/>
                            </a:lnTo>
                            <a:lnTo>
                              <a:pt x="1022" y="2300"/>
                            </a:lnTo>
                            <a:lnTo>
                              <a:pt x="1025" y="2302"/>
                            </a:lnTo>
                            <a:lnTo>
                              <a:pt x="1029" y="2300"/>
                            </a:lnTo>
                            <a:lnTo>
                              <a:pt x="1035" y="2300"/>
                            </a:lnTo>
                            <a:lnTo>
                              <a:pt x="1039" y="2298"/>
                            </a:lnTo>
                            <a:lnTo>
                              <a:pt x="1042" y="2298"/>
                            </a:lnTo>
                            <a:lnTo>
                              <a:pt x="1044" y="2296"/>
                            </a:lnTo>
                            <a:lnTo>
                              <a:pt x="1048" y="2296"/>
                            </a:lnTo>
                            <a:lnTo>
                              <a:pt x="1048" y="2294"/>
                            </a:lnTo>
                            <a:lnTo>
                              <a:pt x="1050" y="2294"/>
                            </a:lnTo>
                            <a:lnTo>
                              <a:pt x="1246" y="1334"/>
                            </a:lnTo>
                            <a:lnTo>
                              <a:pt x="1246" y="1333"/>
                            </a:lnTo>
                            <a:lnTo>
                              <a:pt x="1248" y="1331"/>
                            </a:lnTo>
                            <a:lnTo>
                              <a:pt x="1250" y="1327"/>
                            </a:lnTo>
                            <a:lnTo>
                              <a:pt x="1252" y="1325"/>
                            </a:lnTo>
                            <a:lnTo>
                              <a:pt x="1252" y="1323"/>
                            </a:lnTo>
                            <a:lnTo>
                              <a:pt x="1254" y="1319"/>
                            </a:lnTo>
                            <a:lnTo>
                              <a:pt x="1256" y="1315"/>
                            </a:lnTo>
                            <a:lnTo>
                              <a:pt x="1259" y="1312"/>
                            </a:lnTo>
                            <a:lnTo>
                              <a:pt x="1259" y="1306"/>
                            </a:lnTo>
                            <a:lnTo>
                              <a:pt x="1263" y="1302"/>
                            </a:lnTo>
                            <a:lnTo>
                              <a:pt x="1265" y="1296"/>
                            </a:lnTo>
                            <a:lnTo>
                              <a:pt x="1269" y="1293"/>
                            </a:lnTo>
                            <a:lnTo>
                              <a:pt x="1271" y="1285"/>
                            </a:lnTo>
                            <a:lnTo>
                              <a:pt x="1275" y="1281"/>
                            </a:lnTo>
                            <a:lnTo>
                              <a:pt x="1276" y="1274"/>
                            </a:lnTo>
                            <a:lnTo>
                              <a:pt x="1280" y="1266"/>
                            </a:lnTo>
                            <a:lnTo>
                              <a:pt x="1284" y="1258"/>
                            </a:lnTo>
                            <a:lnTo>
                              <a:pt x="1288" y="1249"/>
                            </a:lnTo>
                            <a:lnTo>
                              <a:pt x="1290" y="1241"/>
                            </a:lnTo>
                            <a:lnTo>
                              <a:pt x="1294" y="1234"/>
                            </a:lnTo>
                            <a:lnTo>
                              <a:pt x="1297" y="1224"/>
                            </a:lnTo>
                            <a:lnTo>
                              <a:pt x="1301" y="1217"/>
                            </a:lnTo>
                            <a:lnTo>
                              <a:pt x="1305" y="1207"/>
                            </a:lnTo>
                            <a:lnTo>
                              <a:pt x="1309" y="1198"/>
                            </a:lnTo>
                            <a:lnTo>
                              <a:pt x="1313" y="1188"/>
                            </a:lnTo>
                            <a:lnTo>
                              <a:pt x="1316" y="1177"/>
                            </a:lnTo>
                            <a:lnTo>
                              <a:pt x="1320" y="1165"/>
                            </a:lnTo>
                            <a:lnTo>
                              <a:pt x="1324" y="1154"/>
                            </a:lnTo>
                            <a:lnTo>
                              <a:pt x="1330" y="1144"/>
                            </a:lnTo>
                            <a:lnTo>
                              <a:pt x="1334" y="1133"/>
                            </a:lnTo>
                            <a:lnTo>
                              <a:pt x="1337" y="1122"/>
                            </a:lnTo>
                            <a:lnTo>
                              <a:pt x="1339" y="1108"/>
                            </a:lnTo>
                            <a:lnTo>
                              <a:pt x="1345" y="1097"/>
                            </a:lnTo>
                            <a:lnTo>
                              <a:pt x="1349" y="1084"/>
                            </a:lnTo>
                            <a:lnTo>
                              <a:pt x="1353" y="1070"/>
                            </a:lnTo>
                            <a:lnTo>
                              <a:pt x="1354" y="1059"/>
                            </a:lnTo>
                            <a:lnTo>
                              <a:pt x="1358" y="1044"/>
                            </a:lnTo>
                            <a:lnTo>
                              <a:pt x="1362" y="1032"/>
                            </a:lnTo>
                            <a:lnTo>
                              <a:pt x="1366" y="1017"/>
                            </a:lnTo>
                            <a:lnTo>
                              <a:pt x="1370" y="1004"/>
                            </a:lnTo>
                            <a:lnTo>
                              <a:pt x="1372" y="988"/>
                            </a:lnTo>
                            <a:lnTo>
                              <a:pt x="1375" y="975"/>
                            </a:lnTo>
                            <a:lnTo>
                              <a:pt x="1377" y="960"/>
                            </a:lnTo>
                            <a:lnTo>
                              <a:pt x="1381" y="947"/>
                            </a:lnTo>
                            <a:lnTo>
                              <a:pt x="1383" y="931"/>
                            </a:lnTo>
                            <a:lnTo>
                              <a:pt x="1387" y="916"/>
                            </a:lnTo>
                            <a:lnTo>
                              <a:pt x="1389" y="901"/>
                            </a:lnTo>
                            <a:lnTo>
                              <a:pt x="1391" y="886"/>
                            </a:lnTo>
                            <a:lnTo>
                              <a:pt x="1392" y="871"/>
                            </a:lnTo>
                            <a:lnTo>
                              <a:pt x="1394" y="855"/>
                            </a:lnTo>
                            <a:lnTo>
                              <a:pt x="1396" y="838"/>
                            </a:lnTo>
                            <a:lnTo>
                              <a:pt x="1398" y="823"/>
                            </a:lnTo>
                            <a:lnTo>
                              <a:pt x="1398" y="806"/>
                            </a:lnTo>
                            <a:lnTo>
                              <a:pt x="1400" y="791"/>
                            </a:lnTo>
                            <a:lnTo>
                              <a:pt x="1402" y="774"/>
                            </a:lnTo>
                            <a:lnTo>
                              <a:pt x="1402" y="757"/>
                            </a:lnTo>
                            <a:lnTo>
                              <a:pt x="1402" y="741"/>
                            </a:lnTo>
                            <a:lnTo>
                              <a:pt x="1402" y="724"/>
                            </a:lnTo>
                            <a:lnTo>
                              <a:pt x="1402" y="705"/>
                            </a:lnTo>
                            <a:lnTo>
                              <a:pt x="1402" y="690"/>
                            </a:lnTo>
                            <a:lnTo>
                              <a:pt x="1400" y="673"/>
                            </a:lnTo>
                            <a:lnTo>
                              <a:pt x="1400" y="656"/>
                            </a:lnTo>
                            <a:lnTo>
                              <a:pt x="1398" y="654"/>
                            </a:lnTo>
                            <a:lnTo>
                              <a:pt x="1398" y="652"/>
                            </a:lnTo>
                            <a:lnTo>
                              <a:pt x="1398" y="648"/>
                            </a:lnTo>
                            <a:lnTo>
                              <a:pt x="1398" y="644"/>
                            </a:lnTo>
                            <a:lnTo>
                              <a:pt x="1398" y="643"/>
                            </a:lnTo>
                            <a:lnTo>
                              <a:pt x="1398" y="639"/>
                            </a:lnTo>
                            <a:lnTo>
                              <a:pt x="1396" y="637"/>
                            </a:lnTo>
                            <a:lnTo>
                              <a:pt x="1396" y="633"/>
                            </a:lnTo>
                            <a:lnTo>
                              <a:pt x="1396" y="631"/>
                            </a:lnTo>
                            <a:lnTo>
                              <a:pt x="1396" y="627"/>
                            </a:lnTo>
                            <a:lnTo>
                              <a:pt x="1396" y="623"/>
                            </a:lnTo>
                            <a:lnTo>
                              <a:pt x="1394" y="620"/>
                            </a:lnTo>
                            <a:lnTo>
                              <a:pt x="1394" y="618"/>
                            </a:lnTo>
                            <a:lnTo>
                              <a:pt x="1394" y="616"/>
                            </a:lnTo>
                            <a:lnTo>
                              <a:pt x="1392" y="612"/>
                            </a:lnTo>
                            <a:lnTo>
                              <a:pt x="1392" y="610"/>
                            </a:lnTo>
                            <a:lnTo>
                              <a:pt x="1392" y="608"/>
                            </a:lnTo>
                            <a:lnTo>
                              <a:pt x="1391" y="604"/>
                            </a:lnTo>
                            <a:lnTo>
                              <a:pt x="1391" y="603"/>
                            </a:lnTo>
                            <a:lnTo>
                              <a:pt x="1391" y="599"/>
                            </a:lnTo>
                            <a:lnTo>
                              <a:pt x="1389" y="597"/>
                            </a:lnTo>
                            <a:lnTo>
                              <a:pt x="1389" y="593"/>
                            </a:lnTo>
                            <a:lnTo>
                              <a:pt x="1389" y="589"/>
                            </a:lnTo>
                            <a:lnTo>
                              <a:pt x="1389" y="587"/>
                            </a:lnTo>
                            <a:lnTo>
                              <a:pt x="1387" y="585"/>
                            </a:lnTo>
                            <a:lnTo>
                              <a:pt x="1385" y="582"/>
                            </a:lnTo>
                            <a:lnTo>
                              <a:pt x="1385" y="580"/>
                            </a:lnTo>
                            <a:lnTo>
                              <a:pt x="1383" y="578"/>
                            </a:lnTo>
                            <a:lnTo>
                              <a:pt x="1383" y="572"/>
                            </a:lnTo>
                            <a:lnTo>
                              <a:pt x="1381" y="568"/>
                            </a:lnTo>
                            <a:lnTo>
                              <a:pt x="1377" y="563"/>
                            </a:lnTo>
                            <a:lnTo>
                              <a:pt x="1375" y="557"/>
                            </a:lnTo>
                            <a:lnTo>
                              <a:pt x="1373" y="553"/>
                            </a:lnTo>
                            <a:lnTo>
                              <a:pt x="1370" y="547"/>
                            </a:lnTo>
                            <a:lnTo>
                              <a:pt x="1366" y="544"/>
                            </a:lnTo>
                            <a:lnTo>
                              <a:pt x="1364" y="540"/>
                            </a:lnTo>
                            <a:lnTo>
                              <a:pt x="1360" y="536"/>
                            </a:lnTo>
                            <a:lnTo>
                              <a:pt x="1356" y="532"/>
                            </a:lnTo>
                            <a:lnTo>
                              <a:pt x="1353" y="528"/>
                            </a:lnTo>
                            <a:lnTo>
                              <a:pt x="1349" y="525"/>
                            </a:lnTo>
                            <a:lnTo>
                              <a:pt x="1345" y="523"/>
                            </a:lnTo>
                            <a:lnTo>
                              <a:pt x="1339" y="521"/>
                            </a:lnTo>
                            <a:lnTo>
                              <a:pt x="1335" y="517"/>
                            </a:lnTo>
                            <a:lnTo>
                              <a:pt x="1332" y="515"/>
                            </a:lnTo>
                            <a:lnTo>
                              <a:pt x="1326" y="515"/>
                            </a:lnTo>
                            <a:lnTo>
                              <a:pt x="1322" y="513"/>
                            </a:lnTo>
                            <a:lnTo>
                              <a:pt x="1318" y="511"/>
                            </a:lnTo>
                            <a:lnTo>
                              <a:pt x="1316" y="511"/>
                            </a:lnTo>
                            <a:lnTo>
                              <a:pt x="1313" y="511"/>
                            </a:lnTo>
                            <a:lnTo>
                              <a:pt x="1311" y="511"/>
                            </a:lnTo>
                            <a:lnTo>
                              <a:pt x="1309" y="509"/>
                            </a:lnTo>
                            <a:lnTo>
                              <a:pt x="1305" y="509"/>
                            </a:lnTo>
                            <a:lnTo>
                              <a:pt x="1303" y="509"/>
                            </a:lnTo>
                            <a:lnTo>
                              <a:pt x="1301" y="509"/>
                            </a:lnTo>
                            <a:lnTo>
                              <a:pt x="1297" y="509"/>
                            </a:lnTo>
                            <a:lnTo>
                              <a:pt x="1295" y="509"/>
                            </a:lnTo>
                            <a:lnTo>
                              <a:pt x="1292" y="509"/>
                            </a:lnTo>
                            <a:lnTo>
                              <a:pt x="1290" y="509"/>
                            </a:lnTo>
                            <a:lnTo>
                              <a:pt x="1284" y="509"/>
                            </a:lnTo>
                            <a:lnTo>
                              <a:pt x="1280" y="509"/>
                            </a:lnTo>
                            <a:lnTo>
                              <a:pt x="1275" y="509"/>
                            </a:lnTo>
                            <a:lnTo>
                              <a:pt x="1269" y="509"/>
                            </a:lnTo>
                            <a:lnTo>
                              <a:pt x="1265" y="509"/>
                            </a:lnTo>
                            <a:lnTo>
                              <a:pt x="1259" y="509"/>
                            </a:lnTo>
                            <a:lnTo>
                              <a:pt x="1256" y="511"/>
                            </a:lnTo>
                            <a:lnTo>
                              <a:pt x="1252" y="511"/>
                            </a:lnTo>
                            <a:lnTo>
                              <a:pt x="1246" y="515"/>
                            </a:lnTo>
                            <a:lnTo>
                              <a:pt x="1242" y="515"/>
                            </a:lnTo>
                            <a:lnTo>
                              <a:pt x="1238" y="517"/>
                            </a:lnTo>
                            <a:lnTo>
                              <a:pt x="1235" y="521"/>
                            </a:lnTo>
                            <a:lnTo>
                              <a:pt x="1231" y="523"/>
                            </a:lnTo>
                            <a:lnTo>
                              <a:pt x="1229" y="525"/>
                            </a:lnTo>
                            <a:lnTo>
                              <a:pt x="1225" y="527"/>
                            </a:lnTo>
                            <a:lnTo>
                              <a:pt x="1221" y="530"/>
                            </a:lnTo>
                            <a:lnTo>
                              <a:pt x="1219" y="532"/>
                            </a:lnTo>
                            <a:lnTo>
                              <a:pt x="1216" y="538"/>
                            </a:lnTo>
                            <a:lnTo>
                              <a:pt x="1214" y="542"/>
                            </a:lnTo>
                            <a:lnTo>
                              <a:pt x="1212" y="546"/>
                            </a:lnTo>
                            <a:lnTo>
                              <a:pt x="1210" y="549"/>
                            </a:lnTo>
                            <a:lnTo>
                              <a:pt x="1208" y="555"/>
                            </a:lnTo>
                            <a:lnTo>
                              <a:pt x="1208" y="557"/>
                            </a:lnTo>
                            <a:lnTo>
                              <a:pt x="1206" y="559"/>
                            </a:lnTo>
                            <a:lnTo>
                              <a:pt x="1204" y="561"/>
                            </a:lnTo>
                            <a:lnTo>
                              <a:pt x="1204" y="565"/>
                            </a:lnTo>
                            <a:lnTo>
                              <a:pt x="1204" y="566"/>
                            </a:lnTo>
                            <a:lnTo>
                              <a:pt x="1204" y="570"/>
                            </a:lnTo>
                            <a:lnTo>
                              <a:pt x="1204" y="572"/>
                            </a:lnTo>
                            <a:lnTo>
                              <a:pt x="1204" y="576"/>
                            </a:lnTo>
                            <a:lnTo>
                              <a:pt x="1139" y="895"/>
                            </a:lnTo>
                            <a:lnTo>
                              <a:pt x="1136" y="893"/>
                            </a:lnTo>
                            <a:lnTo>
                              <a:pt x="1132" y="892"/>
                            </a:lnTo>
                            <a:lnTo>
                              <a:pt x="1126" y="888"/>
                            </a:lnTo>
                            <a:lnTo>
                              <a:pt x="1122" y="886"/>
                            </a:lnTo>
                            <a:lnTo>
                              <a:pt x="1117" y="884"/>
                            </a:lnTo>
                            <a:lnTo>
                              <a:pt x="1113" y="880"/>
                            </a:lnTo>
                            <a:lnTo>
                              <a:pt x="1107" y="878"/>
                            </a:lnTo>
                            <a:lnTo>
                              <a:pt x="1105" y="876"/>
                            </a:lnTo>
                            <a:lnTo>
                              <a:pt x="1227" y="316"/>
                            </a:lnTo>
                            <a:lnTo>
                              <a:pt x="1227" y="312"/>
                            </a:lnTo>
                            <a:lnTo>
                              <a:pt x="1227" y="308"/>
                            </a:lnTo>
                            <a:lnTo>
                              <a:pt x="1229" y="306"/>
                            </a:lnTo>
                            <a:lnTo>
                              <a:pt x="1229" y="304"/>
                            </a:lnTo>
                            <a:lnTo>
                              <a:pt x="1229" y="300"/>
                            </a:lnTo>
                            <a:lnTo>
                              <a:pt x="1229" y="298"/>
                            </a:lnTo>
                            <a:lnTo>
                              <a:pt x="1229" y="295"/>
                            </a:lnTo>
                            <a:lnTo>
                              <a:pt x="1229" y="293"/>
                            </a:lnTo>
                            <a:lnTo>
                              <a:pt x="1229" y="291"/>
                            </a:lnTo>
                            <a:lnTo>
                              <a:pt x="1229" y="287"/>
                            </a:lnTo>
                            <a:lnTo>
                              <a:pt x="1229" y="285"/>
                            </a:lnTo>
                            <a:lnTo>
                              <a:pt x="1229" y="283"/>
                            </a:lnTo>
                            <a:lnTo>
                              <a:pt x="1229" y="278"/>
                            </a:lnTo>
                            <a:lnTo>
                              <a:pt x="1227" y="272"/>
                            </a:lnTo>
                            <a:lnTo>
                              <a:pt x="1225" y="268"/>
                            </a:lnTo>
                            <a:lnTo>
                              <a:pt x="1225" y="262"/>
                            </a:lnTo>
                            <a:lnTo>
                              <a:pt x="1223" y="257"/>
                            </a:lnTo>
                            <a:lnTo>
                              <a:pt x="1221" y="253"/>
                            </a:lnTo>
                            <a:lnTo>
                              <a:pt x="1219" y="247"/>
                            </a:lnTo>
                            <a:lnTo>
                              <a:pt x="1217" y="243"/>
                            </a:lnTo>
                            <a:lnTo>
                              <a:pt x="1216" y="240"/>
                            </a:lnTo>
                            <a:lnTo>
                              <a:pt x="1214" y="236"/>
                            </a:lnTo>
                            <a:lnTo>
                              <a:pt x="1210" y="232"/>
                            </a:lnTo>
                            <a:lnTo>
                              <a:pt x="1206" y="226"/>
                            </a:lnTo>
                            <a:lnTo>
                              <a:pt x="1202" y="222"/>
                            </a:lnTo>
                            <a:lnTo>
                              <a:pt x="1200" y="219"/>
                            </a:lnTo>
                            <a:lnTo>
                              <a:pt x="1197" y="215"/>
                            </a:lnTo>
                            <a:lnTo>
                              <a:pt x="1193" y="211"/>
                            </a:lnTo>
                            <a:lnTo>
                              <a:pt x="1189" y="207"/>
                            </a:lnTo>
                            <a:lnTo>
                              <a:pt x="1185" y="205"/>
                            </a:lnTo>
                            <a:lnTo>
                              <a:pt x="1179" y="203"/>
                            </a:lnTo>
                            <a:lnTo>
                              <a:pt x="1176" y="200"/>
                            </a:lnTo>
                            <a:lnTo>
                              <a:pt x="1172" y="198"/>
                            </a:lnTo>
                            <a:lnTo>
                              <a:pt x="1166" y="194"/>
                            </a:lnTo>
                            <a:lnTo>
                              <a:pt x="1160" y="192"/>
                            </a:lnTo>
                            <a:lnTo>
                              <a:pt x="1157" y="192"/>
                            </a:lnTo>
                            <a:lnTo>
                              <a:pt x="1151" y="190"/>
                            </a:lnTo>
                            <a:lnTo>
                              <a:pt x="1147" y="190"/>
                            </a:lnTo>
                            <a:lnTo>
                              <a:pt x="1143" y="188"/>
                            </a:lnTo>
                            <a:lnTo>
                              <a:pt x="1141" y="186"/>
                            </a:lnTo>
                            <a:lnTo>
                              <a:pt x="1138" y="186"/>
                            </a:lnTo>
                            <a:lnTo>
                              <a:pt x="1136" y="186"/>
                            </a:lnTo>
                            <a:lnTo>
                              <a:pt x="1134" y="186"/>
                            </a:lnTo>
                            <a:lnTo>
                              <a:pt x="1130" y="186"/>
                            </a:lnTo>
                            <a:lnTo>
                              <a:pt x="1128" y="186"/>
                            </a:lnTo>
                            <a:lnTo>
                              <a:pt x="1124" y="186"/>
                            </a:lnTo>
                            <a:lnTo>
                              <a:pt x="1122" y="186"/>
                            </a:lnTo>
                            <a:lnTo>
                              <a:pt x="1120" y="186"/>
                            </a:lnTo>
                            <a:lnTo>
                              <a:pt x="1117" y="186"/>
                            </a:lnTo>
                            <a:lnTo>
                              <a:pt x="1115" y="186"/>
                            </a:lnTo>
                            <a:lnTo>
                              <a:pt x="1109" y="186"/>
                            </a:lnTo>
                            <a:lnTo>
                              <a:pt x="1105" y="188"/>
                            </a:lnTo>
                            <a:lnTo>
                              <a:pt x="1100" y="188"/>
                            </a:lnTo>
                            <a:lnTo>
                              <a:pt x="1094" y="190"/>
                            </a:lnTo>
                            <a:lnTo>
                              <a:pt x="1090" y="192"/>
                            </a:lnTo>
                            <a:lnTo>
                              <a:pt x="1086" y="192"/>
                            </a:lnTo>
                            <a:lnTo>
                              <a:pt x="1081" y="194"/>
                            </a:lnTo>
                            <a:lnTo>
                              <a:pt x="1077" y="198"/>
                            </a:lnTo>
                            <a:lnTo>
                              <a:pt x="1073" y="200"/>
                            </a:lnTo>
                            <a:lnTo>
                              <a:pt x="1067" y="203"/>
                            </a:lnTo>
                            <a:lnTo>
                              <a:pt x="1063" y="205"/>
                            </a:lnTo>
                            <a:lnTo>
                              <a:pt x="1058" y="207"/>
                            </a:lnTo>
                            <a:lnTo>
                              <a:pt x="1054" y="211"/>
                            </a:lnTo>
                            <a:lnTo>
                              <a:pt x="1050" y="215"/>
                            </a:lnTo>
                            <a:lnTo>
                              <a:pt x="1048" y="219"/>
                            </a:lnTo>
                            <a:lnTo>
                              <a:pt x="1044" y="222"/>
                            </a:lnTo>
                            <a:lnTo>
                              <a:pt x="1041" y="226"/>
                            </a:lnTo>
                            <a:lnTo>
                              <a:pt x="1039" y="232"/>
                            </a:lnTo>
                            <a:lnTo>
                              <a:pt x="1035" y="234"/>
                            </a:lnTo>
                            <a:lnTo>
                              <a:pt x="1033" y="240"/>
                            </a:lnTo>
                            <a:lnTo>
                              <a:pt x="1029" y="243"/>
                            </a:lnTo>
                            <a:lnTo>
                              <a:pt x="1027" y="249"/>
                            </a:lnTo>
                            <a:lnTo>
                              <a:pt x="1025" y="253"/>
                            </a:lnTo>
                            <a:lnTo>
                              <a:pt x="1023" y="259"/>
                            </a:lnTo>
                            <a:lnTo>
                              <a:pt x="1022" y="260"/>
                            </a:lnTo>
                            <a:lnTo>
                              <a:pt x="1022" y="264"/>
                            </a:lnTo>
                            <a:lnTo>
                              <a:pt x="1022" y="266"/>
                            </a:lnTo>
                            <a:lnTo>
                              <a:pt x="1022" y="270"/>
                            </a:lnTo>
                            <a:lnTo>
                              <a:pt x="919" y="730"/>
                            </a:lnTo>
                            <a:lnTo>
                              <a:pt x="915" y="728"/>
                            </a:lnTo>
                            <a:lnTo>
                              <a:pt x="913" y="726"/>
                            </a:lnTo>
                            <a:lnTo>
                              <a:pt x="907" y="724"/>
                            </a:lnTo>
                            <a:lnTo>
                              <a:pt x="905" y="720"/>
                            </a:lnTo>
                            <a:lnTo>
                              <a:pt x="904" y="719"/>
                            </a:lnTo>
                            <a:lnTo>
                              <a:pt x="900" y="717"/>
                            </a:lnTo>
                            <a:lnTo>
                              <a:pt x="896" y="713"/>
                            </a:lnTo>
                            <a:lnTo>
                              <a:pt x="892" y="713"/>
                            </a:lnTo>
                            <a:lnTo>
                              <a:pt x="1022" y="129"/>
                            </a:lnTo>
                            <a:lnTo>
                              <a:pt x="1022" y="125"/>
                            </a:lnTo>
                            <a:lnTo>
                              <a:pt x="1022" y="124"/>
                            </a:lnTo>
                            <a:lnTo>
                              <a:pt x="1022" y="120"/>
                            </a:lnTo>
                            <a:lnTo>
                              <a:pt x="1022" y="118"/>
                            </a:lnTo>
                            <a:lnTo>
                              <a:pt x="1022" y="114"/>
                            </a:lnTo>
                            <a:lnTo>
                              <a:pt x="1022" y="112"/>
                            </a:lnTo>
                            <a:lnTo>
                              <a:pt x="1022" y="110"/>
                            </a:lnTo>
                            <a:lnTo>
                              <a:pt x="1022" y="106"/>
                            </a:lnTo>
                            <a:lnTo>
                              <a:pt x="1022" y="105"/>
                            </a:lnTo>
                            <a:lnTo>
                              <a:pt x="1022" y="103"/>
                            </a:lnTo>
                            <a:lnTo>
                              <a:pt x="1022" y="99"/>
                            </a:lnTo>
                            <a:lnTo>
                              <a:pt x="1022" y="97"/>
                            </a:lnTo>
                            <a:lnTo>
                              <a:pt x="1022" y="91"/>
                            </a:lnTo>
                            <a:lnTo>
                              <a:pt x="1022" y="86"/>
                            </a:lnTo>
                            <a:lnTo>
                              <a:pt x="1020" y="82"/>
                            </a:lnTo>
                            <a:lnTo>
                              <a:pt x="1018" y="76"/>
                            </a:lnTo>
                            <a:lnTo>
                              <a:pt x="1016" y="70"/>
                            </a:lnTo>
                            <a:lnTo>
                              <a:pt x="1014" y="67"/>
                            </a:lnTo>
                            <a:lnTo>
                              <a:pt x="1012" y="61"/>
                            </a:lnTo>
                            <a:lnTo>
                              <a:pt x="1010" y="57"/>
                            </a:lnTo>
                            <a:lnTo>
                              <a:pt x="1008" y="53"/>
                            </a:lnTo>
                            <a:lnTo>
                              <a:pt x="1006" y="48"/>
                            </a:lnTo>
                            <a:lnTo>
                              <a:pt x="1004" y="44"/>
                            </a:lnTo>
                            <a:lnTo>
                              <a:pt x="1001" y="40"/>
                            </a:lnTo>
                            <a:lnTo>
                              <a:pt x="997" y="36"/>
                            </a:lnTo>
                            <a:lnTo>
                              <a:pt x="993" y="32"/>
                            </a:lnTo>
                            <a:lnTo>
                              <a:pt x="991" y="29"/>
                            </a:lnTo>
                            <a:lnTo>
                              <a:pt x="985" y="25"/>
                            </a:lnTo>
                            <a:lnTo>
                              <a:pt x="983" y="23"/>
                            </a:lnTo>
                            <a:lnTo>
                              <a:pt x="978" y="19"/>
                            </a:lnTo>
                            <a:lnTo>
                              <a:pt x="972" y="17"/>
                            </a:lnTo>
                            <a:lnTo>
                              <a:pt x="968" y="13"/>
                            </a:lnTo>
                            <a:lnTo>
                              <a:pt x="964" y="11"/>
                            </a:lnTo>
                            <a:lnTo>
                              <a:pt x="961" y="10"/>
                            </a:lnTo>
                            <a:lnTo>
                              <a:pt x="955" y="6"/>
                            </a:lnTo>
                            <a:lnTo>
                              <a:pt x="949" y="6"/>
                            </a:lnTo>
                            <a:lnTo>
                              <a:pt x="944" y="4"/>
                            </a:lnTo>
                            <a:lnTo>
                              <a:pt x="940" y="4"/>
                            </a:lnTo>
                            <a:lnTo>
                              <a:pt x="936" y="2"/>
                            </a:lnTo>
                            <a:lnTo>
                              <a:pt x="934" y="2"/>
                            </a:lnTo>
                            <a:lnTo>
                              <a:pt x="932" y="0"/>
                            </a:lnTo>
                            <a:lnTo>
                              <a:pt x="928" y="0"/>
                            </a:lnTo>
                            <a:lnTo>
                              <a:pt x="926" y="0"/>
                            </a:lnTo>
                            <a:lnTo>
                              <a:pt x="925" y="0"/>
                            </a:lnTo>
                            <a:lnTo>
                              <a:pt x="921" y="0"/>
                            </a:lnTo>
                            <a:lnTo>
                              <a:pt x="919" y="0"/>
                            </a:lnTo>
                            <a:lnTo>
                              <a:pt x="915" y="0"/>
                            </a:lnTo>
                            <a:lnTo>
                              <a:pt x="913" y="0"/>
                            </a:lnTo>
                            <a:lnTo>
                              <a:pt x="911" y="0"/>
                            </a:lnTo>
                            <a:lnTo>
                              <a:pt x="907" y="0"/>
                            </a:lnTo>
                            <a:lnTo>
                              <a:pt x="904" y="0"/>
                            </a:lnTo>
                            <a:lnTo>
                              <a:pt x="898" y="2"/>
                            </a:lnTo>
                            <a:lnTo>
                              <a:pt x="896" y="2"/>
                            </a:lnTo>
                            <a:lnTo>
                              <a:pt x="892" y="2"/>
                            </a:lnTo>
                            <a:lnTo>
                              <a:pt x="890" y="2"/>
                            </a:lnTo>
                            <a:lnTo>
                              <a:pt x="888" y="4"/>
                            </a:lnTo>
                            <a:lnTo>
                              <a:pt x="881" y="4"/>
                            </a:lnTo>
                            <a:lnTo>
                              <a:pt x="877" y="6"/>
                            </a:lnTo>
                            <a:lnTo>
                              <a:pt x="873" y="10"/>
                            </a:lnTo>
                            <a:lnTo>
                              <a:pt x="867" y="11"/>
                            </a:lnTo>
                            <a:lnTo>
                              <a:pt x="864" y="15"/>
                            </a:lnTo>
                            <a:lnTo>
                              <a:pt x="860" y="17"/>
                            </a:lnTo>
                            <a:lnTo>
                              <a:pt x="854" y="19"/>
                            </a:lnTo>
                            <a:lnTo>
                              <a:pt x="850" y="23"/>
                            </a:lnTo>
                            <a:lnTo>
                              <a:pt x="847" y="25"/>
                            </a:lnTo>
                            <a:lnTo>
                              <a:pt x="843" y="29"/>
                            </a:lnTo>
                            <a:lnTo>
                              <a:pt x="839" y="32"/>
                            </a:lnTo>
                            <a:lnTo>
                              <a:pt x="835" y="36"/>
                            </a:lnTo>
                            <a:lnTo>
                              <a:pt x="833" y="40"/>
                            </a:lnTo>
                            <a:lnTo>
                              <a:pt x="831" y="44"/>
                            </a:lnTo>
                            <a:lnTo>
                              <a:pt x="828" y="48"/>
                            </a:lnTo>
                            <a:lnTo>
                              <a:pt x="824" y="53"/>
                            </a:lnTo>
                            <a:lnTo>
                              <a:pt x="822" y="57"/>
                            </a:lnTo>
                            <a:lnTo>
                              <a:pt x="820" y="61"/>
                            </a:lnTo>
                            <a:lnTo>
                              <a:pt x="818" y="67"/>
                            </a:lnTo>
                            <a:lnTo>
                              <a:pt x="816" y="70"/>
                            </a:lnTo>
                            <a:lnTo>
                              <a:pt x="816" y="74"/>
                            </a:lnTo>
                            <a:lnTo>
                              <a:pt x="814" y="76"/>
                            </a:lnTo>
                            <a:lnTo>
                              <a:pt x="812" y="82"/>
                            </a:lnTo>
                            <a:lnTo>
                              <a:pt x="812" y="84"/>
                            </a:lnTo>
                            <a:lnTo>
                              <a:pt x="687" y="663"/>
                            </a:lnTo>
                            <a:lnTo>
                              <a:pt x="681" y="663"/>
                            </a:lnTo>
                            <a:lnTo>
                              <a:pt x="677" y="663"/>
                            </a:lnTo>
                            <a:lnTo>
                              <a:pt x="673" y="663"/>
                            </a:lnTo>
                            <a:lnTo>
                              <a:pt x="670" y="663"/>
                            </a:lnTo>
                            <a:lnTo>
                              <a:pt x="666" y="663"/>
                            </a:lnTo>
                            <a:lnTo>
                              <a:pt x="660" y="665"/>
                            </a:lnTo>
                            <a:lnTo>
                              <a:pt x="656" y="665"/>
                            </a:lnTo>
                            <a:lnTo>
                              <a:pt x="652" y="667"/>
                            </a:lnTo>
                            <a:lnTo>
                              <a:pt x="753" y="213"/>
                            </a:lnTo>
                            <a:lnTo>
                              <a:pt x="753" y="209"/>
                            </a:lnTo>
                            <a:lnTo>
                              <a:pt x="753" y="207"/>
                            </a:lnTo>
                            <a:lnTo>
                              <a:pt x="753" y="203"/>
                            </a:lnTo>
                            <a:lnTo>
                              <a:pt x="753" y="201"/>
                            </a:lnTo>
                            <a:lnTo>
                              <a:pt x="753" y="198"/>
                            </a:lnTo>
                            <a:lnTo>
                              <a:pt x="753" y="196"/>
                            </a:lnTo>
                            <a:lnTo>
                              <a:pt x="753" y="192"/>
                            </a:lnTo>
                            <a:lnTo>
                              <a:pt x="753" y="190"/>
                            </a:lnTo>
                            <a:lnTo>
                              <a:pt x="753" y="188"/>
                            </a:lnTo>
                            <a:lnTo>
                              <a:pt x="753" y="184"/>
                            </a:lnTo>
                            <a:lnTo>
                              <a:pt x="753" y="182"/>
                            </a:lnTo>
                            <a:lnTo>
                              <a:pt x="753" y="181"/>
                            </a:lnTo>
                            <a:lnTo>
                              <a:pt x="753" y="175"/>
                            </a:lnTo>
                            <a:lnTo>
                              <a:pt x="753" y="169"/>
                            </a:lnTo>
                            <a:lnTo>
                              <a:pt x="751" y="167"/>
                            </a:lnTo>
                            <a:lnTo>
                              <a:pt x="751" y="163"/>
                            </a:lnTo>
                            <a:lnTo>
                              <a:pt x="751" y="162"/>
                            </a:lnTo>
                            <a:lnTo>
                              <a:pt x="750" y="160"/>
                            </a:lnTo>
                            <a:lnTo>
                              <a:pt x="748" y="154"/>
                            </a:lnTo>
                            <a:lnTo>
                              <a:pt x="746" y="148"/>
                            </a:lnTo>
                            <a:lnTo>
                              <a:pt x="744" y="144"/>
                            </a:lnTo>
                            <a:lnTo>
                              <a:pt x="742" y="141"/>
                            </a:lnTo>
                            <a:lnTo>
                              <a:pt x="740" y="135"/>
                            </a:lnTo>
                            <a:lnTo>
                              <a:pt x="738" y="131"/>
                            </a:lnTo>
                            <a:lnTo>
                              <a:pt x="734" y="127"/>
                            </a:lnTo>
                            <a:lnTo>
                              <a:pt x="730" y="124"/>
                            </a:lnTo>
                            <a:lnTo>
                              <a:pt x="727" y="120"/>
                            </a:lnTo>
                            <a:lnTo>
                              <a:pt x="725" y="116"/>
                            </a:lnTo>
                            <a:lnTo>
                              <a:pt x="721" y="112"/>
                            </a:lnTo>
                            <a:lnTo>
                              <a:pt x="717" y="108"/>
                            </a:lnTo>
                            <a:lnTo>
                              <a:pt x="713" y="105"/>
                            </a:lnTo>
                            <a:lnTo>
                              <a:pt x="710" y="103"/>
                            </a:lnTo>
                            <a:lnTo>
                              <a:pt x="704" y="99"/>
                            </a:lnTo>
                            <a:lnTo>
                              <a:pt x="700" y="97"/>
                            </a:lnTo>
                            <a:lnTo>
                              <a:pt x="694" y="95"/>
                            </a:lnTo>
                            <a:lnTo>
                              <a:pt x="691" y="91"/>
                            </a:lnTo>
                            <a:lnTo>
                              <a:pt x="685" y="89"/>
                            </a:lnTo>
                            <a:lnTo>
                              <a:pt x="681" y="87"/>
                            </a:lnTo>
                            <a:lnTo>
                              <a:pt x="675" y="86"/>
                            </a:lnTo>
                            <a:lnTo>
                              <a:pt x="672" y="86"/>
                            </a:lnTo>
                            <a:lnTo>
                              <a:pt x="668" y="84"/>
                            </a:lnTo>
                            <a:lnTo>
                              <a:pt x="666" y="84"/>
                            </a:lnTo>
                            <a:lnTo>
                              <a:pt x="664" y="84"/>
                            </a:lnTo>
                            <a:lnTo>
                              <a:pt x="660" y="84"/>
                            </a:lnTo>
                            <a:lnTo>
                              <a:pt x="658" y="84"/>
                            </a:lnTo>
                            <a:lnTo>
                              <a:pt x="654" y="84"/>
                            </a:lnTo>
                            <a:lnTo>
                              <a:pt x="652" y="84"/>
                            </a:lnTo>
                            <a:lnTo>
                              <a:pt x="651" y="84"/>
                            </a:lnTo>
                            <a:lnTo>
                              <a:pt x="647" y="84"/>
                            </a:lnTo>
                            <a:lnTo>
                              <a:pt x="645" y="84"/>
                            </a:lnTo>
                            <a:lnTo>
                              <a:pt x="643" y="84"/>
                            </a:lnTo>
                            <a:lnTo>
                              <a:pt x="639" y="84"/>
                            </a:lnTo>
                            <a:lnTo>
                              <a:pt x="635" y="84"/>
                            </a:lnTo>
                            <a:lnTo>
                              <a:pt x="630" y="84"/>
                            </a:lnTo>
                            <a:lnTo>
                              <a:pt x="628" y="84"/>
                            </a:lnTo>
                            <a:lnTo>
                              <a:pt x="624" y="86"/>
                            </a:lnTo>
                            <a:lnTo>
                              <a:pt x="622" y="86"/>
                            </a:lnTo>
                            <a:lnTo>
                              <a:pt x="618" y="86"/>
                            </a:lnTo>
                            <a:lnTo>
                              <a:pt x="614" y="87"/>
                            </a:lnTo>
                            <a:lnTo>
                              <a:pt x="609" y="89"/>
                            </a:lnTo>
                            <a:lnTo>
                              <a:pt x="603" y="91"/>
                            </a:lnTo>
                            <a:lnTo>
                              <a:pt x="599" y="95"/>
                            </a:lnTo>
                            <a:lnTo>
                              <a:pt x="595" y="97"/>
                            </a:lnTo>
                            <a:lnTo>
                              <a:pt x="592" y="99"/>
                            </a:lnTo>
                            <a:lnTo>
                              <a:pt x="586" y="103"/>
                            </a:lnTo>
                            <a:lnTo>
                              <a:pt x="582" y="105"/>
                            </a:lnTo>
                            <a:lnTo>
                              <a:pt x="578" y="108"/>
                            </a:lnTo>
                            <a:lnTo>
                              <a:pt x="574" y="112"/>
                            </a:lnTo>
                            <a:lnTo>
                              <a:pt x="571" y="116"/>
                            </a:lnTo>
                            <a:lnTo>
                              <a:pt x="567" y="120"/>
                            </a:lnTo>
                            <a:lnTo>
                              <a:pt x="565" y="124"/>
                            </a:lnTo>
                            <a:lnTo>
                              <a:pt x="563" y="127"/>
                            </a:lnTo>
                            <a:lnTo>
                              <a:pt x="559" y="131"/>
                            </a:lnTo>
                            <a:lnTo>
                              <a:pt x="555" y="135"/>
                            </a:lnTo>
                            <a:lnTo>
                              <a:pt x="554" y="141"/>
                            </a:lnTo>
                            <a:lnTo>
                              <a:pt x="552" y="146"/>
                            </a:lnTo>
                            <a:lnTo>
                              <a:pt x="550" y="150"/>
                            </a:lnTo>
                            <a:lnTo>
                              <a:pt x="548" y="156"/>
                            </a:lnTo>
                            <a:lnTo>
                              <a:pt x="546" y="158"/>
                            </a:lnTo>
                            <a:lnTo>
                              <a:pt x="546" y="160"/>
                            </a:lnTo>
                            <a:lnTo>
                              <a:pt x="544" y="163"/>
                            </a:lnTo>
                            <a:lnTo>
                              <a:pt x="544" y="167"/>
                            </a:lnTo>
                            <a:lnTo>
                              <a:pt x="361" y="1127"/>
                            </a:lnTo>
                            <a:lnTo>
                              <a:pt x="361" y="1127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9360">
                        <a:solidFill>
                          <a:srgbClr val="c0c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172" name="AutoShape 972"/>
                    <p:cNvSpPr/>
                    <p:nvPr/>
                  </p:nvSpPr>
                  <p:spPr>
                    <a:xfrm rot="47400">
                      <a:off x="4665240" y="3634200"/>
                      <a:ext cx="88560" cy="75960"/>
                    </a:xfrm>
                    <a:prstGeom prst="hexagon">
                      <a:avLst>
                        <a:gd name="adj" fmla="val 29147"/>
                        <a:gd name="vf" fmla="val 115470"/>
                      </a:avLst>
                    </a:prstGeom>
                    <a:solidFill>
                      <a:srgbClr val="ff0000"/>
                    </a:solidFill>
                    <a:ln w="9360">
                      <a:solidFill>
                        <a:srgbClr val="b2b2b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80" bIns="1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AutoShape 973"/>
                <p:cNvSpPr/>
                <p:nvPr/>
              </p:nvSpPr>
              <p:spPr>
                <a:xfrm rot="64800">
                  <a:off x="4622400" y="3292200"/>
                  <a:ext cx="180000" cy="12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0" y="21600"/>
                      </a:lnTo>
                      <a:lnTo>
                        <a:pt x="216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4" name="AutoShape 974"/>
              <p:cNvSpPr/>
              <p:nvPr/>
            </p:nvSpPr>
            <p:spPr>
              <a:xfrm rot="79200">
                <a:off x="4601520" y="4017600"/>
                <a:ext cx="192600" cy="5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308" y="21600"/>
                    </a:lnTo>
                    <a:lnTo>
                      <a:pt x="1729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5" name="AutoShape 975"/>
            <p:cNvSpPr/>
            <p:nvPr/>
          </p:nvSpPr>
          <p:spPr>
            <a:xfrm rot="21528000">
              <a:off x="4650480" y="3290760"/>
              <a:ext cx="115560" cy="109800"/>
            </a:xfrm>
            <a:custGeom>
              <a:avLst/>
              <a:gdLst/>
              <a:ahLst/>
              <a:rect l="l" t="t" r="r" b="b"/>
              <a:pathLst>
                <a:path w="137" h="130">
                  <a:moveTo>
                    <a:pt x="0" y="49"/>
                  </a:moveTo>
                  <a:lnTo>
                    <a:pt x="52" y="49"/>
                  </a:lnTo>
                  <a:lnTo>
                    <a:pt x="68" y="0"/>
                  </a:lnTo>
                  <a:lnTo>
                    <a:pt x="84" y="49"/>
                  </a:lnTo>
                  <a:lnTo>
                    <a:pt x="136" y="49"/>
                  </a:lnTo>
                  <a:lnTo>
                    <a:pt x="94" y="80"/>
                  </a:lnTo>
                  <a:lnTo>
                    <a:pt x="110" y="129"/>
                  </a:lnTo>
                  <a:lnTo>
                    <a:pt x="68" y="99"/>
                  </a:lnTo>
                  <a:lnTo>
                    <a:pt x="26" y="129"/>
                  </a:lnTo>
                  <a:lnTo>
                    <a:pt x="42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6" name="Group 1008"/>
          <p:cNvGrpSpPr/>
          <p:nvPr/>
        </p:nvGrpSpPr>
        <p:grpSpPr>
          <a:xfrm>
            <a:off x="4298400" y="3337200"/>
            <a:ext cx="1165680" cy="992880"/>
            <a:chOff x="4298400" y="3337200"/>
            <a:chExt cx="1165680" cy="992880"/>
          </a:xfrm>
        </p:grpSpPr>
        <p:grpSp>
          <p:nvGrpSpPr>
            <p:cNvPr id="1177" name="Group 1009"/>
            <p:cNvGrpSpPr/>
            <p:nvPr/>
          </p:nvGrpSpPr>
          <p:grpSpPr>
            <a:xfrm>
              <a:off x="4783320" y="3749400"/>
              <a:ext cx="680760" cy="580680"/>
              <a:chOff x="4783320" y="3749400"/>
              <a:chExt cx="680760" cy="580680"/>
            </a:xfrm>
          </p:grpSpPr>
          <p:sp>
            <p:nvSpPr>
              <p:cNvPr id="1178" name="AutoShape 1010"/>
              <p:cNvSpPr/>
              <p:nvPr/>
            </p:nvSpPr>
            <p:spPr>
              <a:xfrm rot="8455200">
                <a:off x="4882680" y="3783600"/>
                <a:ext cx="254160" cy="40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700" y="21600"/>
                    </a:lnTo>
                    <a:lnTo>
                      <a:pt x="189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9" name="Group 1011"/>
              <p:cNvGrpSpPr/>
              <p:nvPr/>
            </p:nvGrpSpPr>
            <p:grpSpPr>
              <a:xfrm>
                <a:off x="5033880" y="3942720"/>
                <a:ext cx="430200" cy="387360"/>
                <a:chOff x="5033880" y="3942720"/>
                <a:chExt cx="430200" cy="387360"/>
              </a:xfrm>
            </p:grpSpPr>
            <p:grpSp>
              <p:nvGrpSpPr>
                <p:cNvPr id="1180" name="Group 1012"/>
                <p:cNvGrpSpPr/>
                <p:nvPr/>
              </p:nvGrpSpPr>
              <p:grpSpPr>
                <a:xfrm>
                  <a:off x="5033880" y="3944880"/>
                  <a:ext cx="430200" cy="385200"/>
                  <a:chOff x="5033880" y="3944880"/>
                  <a:chExt cx="430200" cy="385200"/>
                </a:xfrm>
              </p:grpSpPr>
              <p:grpSp>
                <p:nvGrpSpPr>
                  <p:cNvPr id="1181" name="Group 1013"/>
                  <p:cNvGrpSpPr/>
                  <p:nvPr/>
                </p:nvGrpSpPr>
                <p:grpSpPr>
                  <a:xfrm>
                    <a:off x="5033880" y="3944880"/>
                    <a:ext cx="430200" cy="385200"/>
                    <a:chOff x="5033880" y="3944880"/>
                    <a:chExt cx="430200" cy="385200"/>
                  </a:xfrm>
                </p:grpSpPr>
                <p:sp>
                  <p:nvSpPr>
                    <p:cNvPr id="1182" name="Rectangle 1014"/>
                    <p:cNvSpPr/>
                    <p:nvPr/>
                  </p:nvSpPr>
                  <p:spPr>
                    <a:xfrm rot="19255200">
                      <a:off x="5040720" y="4120200"/>
                      <a:ext cx="300240" cy="1292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3" name="Freeform 1015"/>
                    <p:cNvSpPr/>
                    <p:nvPr/>
                  </p:nvSpPr>
                  <p:spPr>
                    <a:xfrm rot="19255200">
                      <a:off x="5289840" y="3977640"/>
                      <a:ext cx="150120" cy="12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2" h="672">
                          <a:moveTo>
                            <a:pt x="0" y="0"/>
                          </a:moveTo>
                          <a:lnTo>
                            <a:pt x="672" y="528"/>
                          </a:lnTo>
                          <a:lnTo>
                            <a:pt x="672" y="672"/>
                          </a:lnTo>
                          <a:lnTo>
                            <a:pt x="0" y="67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4" name=""/>
                  <p:cNvGrpSpPr/>
                  <p:nvPr/>
                </p:nvGrpSpPr>
                <p:grpSpPr>
                  <a:xfrm>
                    <a:off x="5097240" y="4018680"/>
                    <a:ext cx="355680" cy="289080"/>
                    <a:chOff x="5097240" y="4018680"/>
                    <a:chExt cx="355680" cy="289080"/>
                  </a:xfrm>
                </p:grpSpPr>
                <p:sp>
                  <p:nvSpPr>
                    <p:cNvPr id="1185" name="Line 1016"/>
                    <p:cNvSpPr/>
                    <p:nvPr/>
                  </p:nvSpPr>
                  <p:spPr>
                    <a:xfrm flipV="1">
                      <a:off x="5097240" y="4018680"/>
                      <a:ext cx="355320" cy="28872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6" name=""/>
                    <p:cNvSpPr txBox="1"/>
                    <p:nvPr/>
                  </p:nvSpPr>
                  <p:spPr>
                    <a:xfrm rot="19255200">
                      <a:off x="5046120" y="4162680"/>
                      <a:ext cx="4579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87" name="Oval 1017"/>
                <p:cNvSpPr/>
                <p:nvPr/>
              </p:nvSpPr>
              <p:spPr>
                <a:xfrm rot="19255200">
                  <a:off x="5094360" y="4109760"/>
                  <a:ext cx="91080" cy="10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1018"/>
                <p:cNvSpPr/>
                <p:nvPr/>
              </p:nvSpPr>
              <p:spPr>
                <a:xfrm rot="9007200">
                  <a:off x="5181840" y="3963240"/>
                  <a:ext cx="122760" cy="152280"/>
                </a:xfrm>
                <a:custGeom>
                  <a:avLst/>
                  <a:gdLst/>
                  <a:ahLst/>
                  <a:rect l="l" t="t" r="r" b="b"/>
                  <a:pathLst>
                    <a:path w="400" h="656">
                      <a:moveTo>
                        <a:pt x="360" y="64"/>
                      </a:moveTo>
                      <a:cubicBezTo>
                        <a:pt x="400" y="128"/>
                        <a:pt x="376" y="448"/>
                        <a:pt x="360" y="544"/>
                      </a:cubicBezTo>
                      <a:cubicBezTo>
                        <a:pt x="344" y="640"/>
                        <a:pt x="320" y="656"/>
                        <a:pt x="264" y="640"/>
                      </a:cubicBezTo>
                      <a:cubicBezTo>
                        <a:pt x="208" y="624"/>
                        <a:pt x="48" y="528"/>
                        <a:pt x="24" y="448"/>
                      </a:cubicBezTo>
                      <a:cubicBezTo>
                        <a:pt x="0" y="368"/>
                        <a:pt x="64" y="224"/>
                        <a:pt x="120" y="160"/>
                      </a:cubicBezTo>
                      <a:cubicBezTo>
                        <a:pt x="176" y="96"/>
                        <a:pt x="320" y="0"/>
                        <a:pt x="360" y="6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10248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9" name="Group 1019"/>
            <p:cNvGrpSpPr/>
            <p:nvPr/>
          </p:nvGrpSpPr>
          <p:grpSpPr>
            <a:xfrm>
              <a:off x="4298400" y="3337200"/>
              <a:ext cx="680760" cy="580680"/>
              <a:chOff x="4298400" y="3337200"/>
              <a:chExt cx="680760" cy="580680"/>
            </a:xfrm>
          </p:grpSpPr>
          <p:sp>
            <p:nvSpPr>
              <p:cNvPr id="1190" name="AutoShape 1020"/>
              <p:cNvSpPr/>
              <p:nvPr/>
            </p:nvSpPr>
            <p:spPr>
              <a:xfrm rot="19255200">
                <a:off x="4624920" y="3476880"/>
                <a:ext cx="254160" cy="406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700" y="21600"/>
                    </a:lnTo>
                    <a:lnTo>
                      <a:pt x="189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Group 1021"/>
              <p:cNvGrpSpPr/>
              <p:nvPr/>
            </p:nvGrpSpPr>
            <p:grpSpPr>
              <a:xfrm>
                <a:off x="4298400" y="3337200"/>
                <a:ext cx="429840" cy="387000"/>
                <a:chOff x="4298400" y="3337200"/>
                <a:chExt cx="429840" cy="387000"/>
              </a:xfrm>
            </p:grpSpPr>
            <p:grpSp>
              <p:nvGrpSpPr>
                <p:cNvPr id="1192" name="Group 1022"/>
                <p:cNvGrpSpPr/>
                <p:nvPr/>
              </p:nvGrpSpPr>
              <p:grpSpPr>
                <a:xfrm>
                  <a:off x="4298400" y="3337200"/>
                  <a:ext cx="429840" cy="385200"/>
                  <a:chOff x="4298400" y="3337200"/>
                  <a:chExt cx="429840" cy="385200"/>
                </a:xfrm>
              </p:grpSpPr>
              <p:grpSp>
                <p:nvGrpSpPr>
                  <p:cNvPr id="1193" name="Group 1023"/>
                  <p:cNvGrpSpPr/>
                  <p:nvPr/>
                </p:nvGrpSpPr>
                <p:grpSpPr>
                  <a:xfrm>
                    <a:off x="4298400" y="3337200"/>
                    <a:ext cx="429840" cy="385200"/>
                    <a:chOff x="4298400" y="3337200"/>
                    <a:chExt cx="429840" cy="385200"/>
                  </a:xfrm>
                </p:grpSpPr>
                <p:sp>
                  <p:nvSpPr>
                    <p:cNvPr id="1194" name="Rectangle 1024"/>
                    <p:cNvSpPr/>
                    <p:nvPr/>
                  </p:nvSpPr>
                  <p:spPr>
                    <a:xfrm rot="8455200">
                      <a:off x="4420800" y="3417480"/>
                      <a:ext cx="300240" cy="129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5" name="Freeform 1025"/>
                    <p:cNvSpPr/>
                    <p:nvPr/>
                  </p:nvSpPr>
                  <p:spPr>
                    <a:xfrm rot="8455200">
                      <a:off x="4322160" y="3560760"/>
                      <a:ext cx="150120" cy="12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2" h="672">
                          <a:moveTo>
                            <a:pt x="0" y="0"/>
                          </a:moveTo>
                          <a:lnTo>
                            <a:pt x="672" y="528"/>
                          </a:lnTo>
                          <a:lnTo>
                            <a:pt x="672" y="672"/>
                          </a:lnTo>
                          <a:lnTo>
                            <a:pt x="0" y="67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6" name=""/>
                  <p:cNvGrpSpPr/>
                  <p:nvPr/>
                </p:nvGrpSpPr>
                <p:grpSpPr>
                  <a:xfrm>
                    <a:off x="4309200" y="3359160"/>
                    <a:ext cx="355680" cy="289080"/>
                    <a:chOff x="4309200" y="3359160"/>
                    <a:chExt cx="355680" cy="289080"/>
                  </a:xfrm>
                </p:grpSpPr>
                <p:sp>
                  <p:nvSpPr>
                    <p:cNvPr id="1197" name="Line 1026"/>
                    <p:cNvSpPr/>
                    <p:nvPr/>
                  </p:nvSpPr>
                  <p:spPr>
                    <a:xfrm flipH="1">
                      <a:off x="4309560" y="3359520"/>
                      <a:ext cx="355320" cy="28872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8" name=""/>
                    <p:cNvSpPr txBox="1"/>
                    <p:nvPr/>
                  </p:nvSpPr>
                  <p:spPr>
                    <a:xfrm rot="8455200">
                      <a:off x="4257720" y="3503520"/>
                      <a:ext cx="4579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99" name="Oval 1027"/>
                <p:cNvSpPr/>
                <p:nvPr/>
              </p:nvSpPr>
              <p:spPr>
                <a:xfrm rot="8455200">
                  <a:off x="4576320" y="3455280"/>
                  <a:ext cx="91080" cy="1015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Freeform 1028"/>
                <p:cNvSpPr/>
                <p:nvPr/>
              </p:nvSpPr>
              <p:spPr>
                <a:xfrm rot="19807800">
                  <a:off x="4457160" y="3551040"/>
                  <a:ext cx="122760" cy="152280"/>
                </a:xfrm>
                <a:custGeom>
                  <a:avLst/>
                  <a:gdLst/>
                  <a:ahLst/>
                  <a:rect l="l" t="t" r="r" b="b"/>
                  <a:pathLst>
                    <a:path w="400" h="656">
                      <a:moveTo>
                        <a:pt x="360" y="64"/>
                      </a:moveTo>
                      <a:cubicBezTo>
                        <a:pt x="400" y="128"/>
                        <a:pt x="376" y="448"/>
                        <a:pt x="360" y="544"/>
                      </a:cubicBezTo>
                      <a:cubicBezTo>
                        <a:pt x="344" y="640"/>
                        <a:pt x="320" y="656"/>
                        <a:pt x="264" y="640"/>
                      </a:cubicBezTo>
                      <a:cubicBezTo>
                        <a:pt x="208" y="624"/>
                        <a:pt x="48" y="528"/>
                        <a:pt x="24" y="448"/>
                      </a:cubicBezTo>
                      <a:cubicBezTo>
                        <a:pt x="0" y="368"/>
                        <a:pt x="64" y="224"/>
                        <a:pt x="120" y="160"/>
                      </a:cubicBezTo>
                      <a:cubicBezTo>
                        <a:pt x="176" y="96"/>
                        <a:pt x="320" y="0"/>
                        <a:pt x="360" y="64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1" name="Group 1029"/>
          <p:cNvGrpSpPr/>
          <p:nvPr/>
        </p:nvGrpSpPr>
        <p:grpSpPr>
          <a:xfrm>
            <a:off x="4401000" y="3437640"/>
            <a:ext cx="1041480" cy="854280"/>
            <a:chOff x="4401000" y="3437640"/>
            <a:chExt cx="1041480" cy="854280"/>
          </a:xfrm>
        </p:grpSpPr>
        <p:grpSp>
          <p:nvGrpSpPr>
            <p:cNvPr id="1202" name="Group 1030"/>
            <p:cNvGrpSpPr/>
            <p:nvPr/>
          </p:nvGrpSpPr>
          <p:grpSpPr>
            <a:xfrm>
              <a:off x="4401000" y="3693600"/>
              <a:ext cx="689400" cy="598320"/>
              <a:chOff x="4401000" y="3693600"/>
              <a:chExt cx="689400" cy="598320"/>
            </a:xfrm>
          </p:grpSpPr>
          <p:grpSp>
            <p:nvGrpSpPr>
              <p:cNvPr id="1203" name="Group 1031"/>
              <p:cNvGrpSpPr/>
              <p:nvPr/>
            </p:nvGrpSpPr>
            <p:grpSpPr>
              <a:xfrm>
                <a:off x="4401000" y="3693600"/>
                <a:ext cx="689400" cy="598320"/>
                <a:chOff x="4401000" y="3693600"/>
                <a:chExt cx="689400" cy="598320"/>
              </a:xfrm>
            </p:grpSpPr>
            <p:grpSp>
              <p:nvGrpSpPr>
                <p:cNvPr id="1204" name="Group 1032"/>
                <p:cNvGrpSpPr/>
                <p:nvPr/>
              </p:nvGrpSpPr>
              <p:grpSpPr>
                <a:xfrm>
                  <a:off x="4401000" y="3746880"/>
                  <a:ext cx="597600" cy="545040"/>
                  <a:chOff x="4401000" y="3746880"/>
                  <a:chExt cx="597600" cy="545040"/>
                </a:xfrm>
              </p:grpSpPr>
              <p:sp>
                <p:nvSpPr>
                  <p:cNvPr id="1205" name="AutoShape 1033"/>
                  <p:cNvSpPr/>
                  <p:nvPr/>
                </p:nvSpPr>
                <p:spPr>
                  <a:xfrm rot="14085600">
                    <a:off x="4599360" y="3781440"/>
                    <a:ext cx="29520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Oval 1034"/>
                  <p:cNvSpPr/>
                  <p:nvPr/>
                </p:nvSpPr>
                <p:spPr>
                  <a:xfrm rot="14085600">
                    <a:off x="4441320" y="3976560"/>
                    <a:ext cx="289800" cy="249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7" name="Oval 1035"/>
                <p:cNvSpPr/>
                <p:nvPr/>
              </p:nvSpPr>
              <p:spPr>
                <a:xfrm rot="14085600">
                  <a:off x="4789800" y="3745080"/>
                  <a:ext cx="253800" cy="24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8" name="AutoShape 1036"/>
              <p:cNvSpPr/>
              <p:nvPr/>
            </p:nvSpPr>
            <p:spPr>
              <a:xfrm rot="14085600">
                <a:off x="4866120" y="3812040"/>
                <a:ext cx="109080" cy="95040"/>
              </a:xfrm>
              <a:prstGeom prst="hexagon">
                <a:avLst>
                  <a:gd name="adj" fmla="val 28693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9" name="Group 1037"/>
            <p:cNvGrpSpPr/>
            <p:nvPr/>
          </p:nvGrpSpPr>
          <p:grpSpPr>
            <a:xfrm>
              <a:off x="4753440" y="3437640"/>
              <a:ext cx="689040" cy="597600"/>
              <a:chOff x="4753440" y="3437640"/>
              <a:chExt cx="689040" cy="597600"/>
            </a:xfrm>
          </p:grpSpPr>
          <p:grpSp>
            <p:nvGrpSpPr>
              <p:cNvPr id="1210" name="Group 1038"/>
              <p:cNvGrpSpPr/>
              <p:nvPr/>
            </p:nvGrpSpPr>
            <p:grpSpPr>
              <a:xfrm>
                <a:off x="4753440" y="3437640"/>
                <a:ext cx="689040" cy="597600"/>
                <a:chOff x="4753440" y="3437640"/>
                <a:chExt cx="689040" cy="597600"/>
              </a:xfrm>
            </p:grpSpPr>
            <p:grpSp>
              <p:nvGrpSpPr>
                <p:cNvPr id="1211" name="Group 1039"/>
                <p:cNvGrpSpPr/>
                <p:nvPr/>
              </p:nvGrpSpPr>
              <p:grpSpPr>
                <a:xfrm>
                  <a:off x="4842360" y="3437640"/>
                  <a:ext cx="600120" cy="540360"/>
                  <a:chOff x="4842360" y="3437640"/>
                  <a:chExt cx="600120" cy="540360"/>
                </a:xfrm>
              </p:grpSpPr>
              <p:sp>
                <p:nvSpPr>
                  <p:cNvPr id="1212" name="AutoShape 1040"/>
                  <p:cNvSpPr/>
                  <p:nvPr/>
                </p:nvSpPr>
                <p:spPr>
                  <a:xfrm flipV="1" rot="14085600">
                    <a:off x="4945680" y="3536280"/>
                    <a:ext cx="29520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Oval 1041"/>
                  <p:cNvSpPr/>
                  <p:nvPr/>
                </p:nvSpPr>
                <p:spPr>
                  <a:xfrm flipV="1" rot="14085600">
                    <a:off x="5112000" y="3502800"/>
                    <a:ext cx="289800" cy="24948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14" name="Oval 1042"/>
                <p:cNvSpPr/>
                <p:nvPr/>
              </p:nvSpPr>
              <p:spPr>
                <a:xfrm flipV="1" rot="14085600">
                  <a:off x="4799880" y="3737520"/>
                  <a:ext cx="253800" cy="245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AutoShape 1043"/>
              <p:cNvSpPr/>
              <p:nvPr/>
            </p:nvSpPr>
            <p:spPr>
              <a:xfrm flipV="1" rot="14085600">
                <a:off x="4862880" y="3814920"/>
                <a:ext cx="109080" cy="95040"/>
              </a:xfrm>
              <a:prstGeom prst="hexagon">
                <a:avLst>
                  <a:gd name="adj" fmla="val 28693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6" name="Group 1044"/>
          <p:cNvGrpSpPr/>
          <p:nvPr/>
        </p:nvGrpSpPr>
        <p:grpSpPr>
          <a:xfrm>
            <a:off x="4002480" y="1989360"/>
            <a:ext cx="1110240" cy="2263680"/>
            <a:chOff x="4002480" y="1989360"/>
            <a:chExt cx="1110240" cy="2263680"/>
          </a:xfrm>
        </p:grpSpPr>
        <p:sp>
          <p:nvSpPr>
            <p:cNvPr id="1217" name="AutoShape 1045"/>
            <p:cNvSpPr/>
            <p:nvPr/>
          </p:nvSpPr>
          <p:spPr>
            <a:xfrm rot="471600">
              <a:off x="4038120" y="3071520"/>
              <a:ext cx="152280" cy="53316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21960 h 533160"/>
                <a:gd name="textAreaBottom" fmla="*/ 51120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8" name="Group 1046"/>
            <p:cNvGrpSpPr/>
            <p:nvPr/>
          </p:nvGrpSpPr>
          <p:grpSpPr>
            <a:xfrm>
              <a:off x="4161960" y="2686320"/>
              <a:ext cx="707040" cy="1566720"/>
              <a:chOff x="4161960" y="2686320"/>
              <a:chExt cx="707040" cy="1566720"/>
            </a:xfrm>
          </p:grpSpPr>
          <p:sp>
            <p:nvSpPr>
              <p:cNvPr id="1219" name="Oval 1047"/>
              <p:cNvSpPr/>
              <p:nvPr/>
            </p:nvSpPr>
            <p:spPr>
              <a:xfrm rot="385800">
                <a:off x="4190760" y="3675960"/>
                <a:ext cx="569520" cy="5464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21216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Oval 1048"/>
              <p:cNvSpPr/>
              <p:nvPr/>
            </p:nvSpPr>
            <p:spPr>
              <a:xfrm rot="385800">
                <a:off x="4831920" y="3182760"/>
                <a:ext cx="32760" cy="49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Oval 1049"/>
              <p:cNvSpPr/>
              <p:nvPr/>
            </p:nvSpPr>
            <p:spPr>
              <a:xfrm rot="385800">
                <a:off x="4803480" y="3480120"/>
                <a:ext cx="32760" cy="4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Oval 1050"/>
              <p:cNvSpPr/>
              <p:nvPr/>
            </p:nvSpPr>
            <p:spPr>
              <a:xfrm rot="385800">
                <a:off x="4770360" y="3775680"/>
                <a:ext cx="32760" cy="49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AutoShape 1051"/>
              <p:cNvSpPr/>
              <p:nvPr/>
            </p:nvSpPr>
            <p:spPr>
              <a:xfrm rot="385800">
                <a:off x="4221360" y="3020760"/>
                <a:ext cx="591840" cy="1021320"/>
              </a:xfrm>
              <a:prstGeom prst="can">
                <a:avLst>
                  <a:gd name="adj" fmla="val 2652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21216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Rectangle 1052"/>
              <p:cNvSpPr/>
              <p:nvPr/>
            </p:nvSpPr>
            <p:spPr>
              <a:xfrm rot="385800">
                <a:off x="4509720" y="2940480"/>
                <a:ext cx="149040" cy="9864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21216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5" name="Group 1053"/>
              <p:cNvGrpSpPr/>
              <p:nvPr/>
            </p:nvGrpSpPr>
            <p:grpSpPr>
              <a:xfrm>
                <a:off x="4412160" y="2686320"/>
                <a:ext cx="285480" cy="690480"/>
                <a:chOff x="4412160" y="2686320"/>
                <a:chExt cx="285480" cy="690480"/>
              </a:xfrm>
            </p:grpSpPr>
            <p:sp>
              <p:nvSpPr>
                <p:cNvPr id="1226" name="AutoShape 1054"/>
                <p:cNvSpPr/>
                <p:nvPr/>
              </p:nvSpPr>
              <p:spPr>
                <a:xfrm rot="11007600">
                  <a:off x="4476960" y="2691720"/>
                  <a:ext cx="199800" cy="545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1556" y="21600"/>
                      </a:lnTo>
                      <a:lnTo>
                        <a:pt x="20044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AutoShape 1055"/>
                <p:cNvSpPr/>
                <p:nvPr/>
              </p:nvSpPr>
              <p:spPr>
                <a:xfrm rot="16585800">
                  <a:off x="4448160" y="3124440"/>
                  <a:ext cx="213120" cy="263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934" y="2201"/>
                        <a:pt x="12267" y="5080"/>
                        <a:pt x="12267" y="10800"/>
                      </a:cubicBezTo>
                      <a:cubicBezTo>
                        <a:pt x="12267" y="16520"/>
                        <a:pt x="16934" y="1939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8" name="AutoShape 1056"/>
            <p:cNvSpPr/>
            <p:nvPr/>
          </p:nvSpPr>
          <p:spPr>
            <a:xfrm rot="447600">
              <a:off x="4114800" y="3042720"/>
              <a:ext cx="161640" cy="527040"/>
            </a:xfrm>
            <a:custGeom>
              <a:avLst/>
              <a:gdLst>
                <a:gd name="textAreaLeft" fmla="*/ 7560 w 161640"/>
                <a:gd name="textAreaRight" fmla="*/ 154080 w 161640"/>
                <a:gd name="textAreaTop" fmla="*/ 7560 h 527040"/>
                <a:gd name="textAreaBottom" fmla="*/ 519480 h 527040"/>
              </a:gdLst>
              <a:ahLst/>
              <a:rect l="textAreaLeft" t="textAreaTop" r="textAreaRight" b="textAreaBottom"/>
              <a:pathLst>
                <a:path w="21600" h="70320">
                  <a:moveTo>
                    <a:pt x="3600" y="0"/>
                  </a:moveTo>
                  <a:arcTo wR="3600" hR="3600" stAng="16200000" swAng="-5400000"/>
                  <a:lnTo>
                    <a:pt x="0" y="66720"/>
                  </a:lnTo>
                  <a:arcTo wR="3600" hR="3600" stAng="10800000" swAng="-5400000"/>
                  <a:lnTo>
                    <a:pt x="18000" y="7032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115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9" name="Group 1057"/>
            <p:cNvGrpSpPr/>
            <p:nvPr/>
          </p:nvGrpSpPr>
          <p:grpSpPr>
            <a:xfrm>
              <a:off x="4129200" y="1989360"/>
              <a:ext cx="983520" cy="1946880"/>
              <a:chOff x="4129200" y="1989360"/>
              <a:chExt cx="983520" cy="1946880"/>
            </a:xfrm>
          </p:grpSpPr>
          <p:grpSp>
            <p:nvGrpSpPr>
              <p:cNvPr id="1230" name="Group 1058"/>
              <p:cNvGrpSpPr/>
              <p:nvPr/>
            </p:nvGrpSpPr>
            <p:grpSpPr>
              <a:xfrm>
                <a:off x="4209840" y="1989360"/>
                <a:ext cx="902880" cy="1008000"/>
                <a:chOff x="4209840" y="1989360"/>
                <a:chExt cx="902880" cy="1008000"/>
              </a:xfrm>
            </p:grpSpPr>
            <p:grpSp>
              <p:nvGrpSpPr>
                <p:cNvPr id="1231" name=""/>
                <p:cNvGrpSpPr/>
                <p:nvPr/>
              </p:nvGrpSpPr>
              <p:grpSpPr>
                <a:xfrm>
                  <a:off x="4493520" y="2230560"/>
                  <a:ext cx="283680" cy="155520"/>
                  <a:chOff x="4493520" y="2230560"/>
                  <a:chExt cx="283680" cy="155520"/>
                </a:xfrm>
              </p:grpSpPr>
              <p:sp>
                <p:nvSpPr>
                  <p:cNvPr id="1232" name="Line 1059"/>
                  <p:cNvSpPr/>
                  <p:nvPr/>
                </p:nvSpPr>
                <p:spPr>
                  <a:xfrm>
                    <a:off x="4493520" y="2230560"/>
                    <a:ext cx="283680" cy="155520"/>
                  </a:xfrm>
                  <a:prstGeom prst="line">
                    <a:avLst/>
                  </a:prstGeom>
                  <a:ln w="64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"/>
                  <p:cNvSpPr txBox="1"/>
                  <p:nvPr/>
                </p:nvSpPr>
                <p:spPr>
                  <a:xfrm>
                    <a:off x="4493520" y="2230560"/>
                    <a:ext cx="283680" cy="155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4" name="Group 1060"/>
                <p:cNvGrpSpPr/>
                <p:nvPr/>
              </p:nvGrpSpPr>
              <p:grpSpPr>
                <a:xfrm>
                  <a:off x="4218480" y="2124000"/>
                  <a:ext cx="894240" cy="873360"/>
                  <a:chOff x="4218480" y="2124000"/>
                  <a:chExt cx="894240" cy="873360"/>
                </a:xfrm>
              </p:grpSpPr>
              <p:sp>
                <p:nvSpPr>
                  <p:cNvPr id="1235" name="AutoShape 1061"/>
                  <p:cNvSpPr/>
                  <p:nvPr/>
                </p:nvSpPr>
                <p:spPr>
                  <a:xfrm rot="21102000">
                    <a:off x="4672080" y="2407680"/>
                    <a:ext cx="405360" cy="516600"/>
                  </a:xfrm>
                  <a:custGeom>
                    <a:avLst/>
                    <a:gdLst>
                      <a:gd name="textAreaLeft" fmla="*/ 0 w 405360"/>
                      <a:gd name="textAreaRight" fmla="*/ 146160 w 405360"/>
                      <a:gd name="textAreaTop" fmla="*/ 13320 h 516600"/>
                      <a:gd name="textAreaBottom" fmla="*/ 503280 h 516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5400" y="0"/>
                          <a:pt x="10800" y="900"/>
                          <a:pt x="10800" y="1800"/>
                        </a:cubicBezTo>
                        <a:lnTo>
                          <a:pt x="10800" y="9000"/>
                        </a:lnTo>
                        <a:cubicBezTo>
                          <a:pt x="10800" y="9900"/>
                          <a:pt x="16200" y="10800"/>
                          <a:pt x="21600" y="10800"/>
                        </a:cubicBezTo>
                        <a:cubicBezTo>
                          <a:pt x="16200" y="10800"/>
                          <a:pt x="10800" y="11700"/>
                          <a:pt x="10800" y="12600"/>
                        </a:cubicBezTo>
                        <a:lnTo>
                          <a:pt x="10800" y="19800"/>
                        </a:lnTo>
                        <a:cubicBezTo>
                          <a:pt x="10800" y="20700"/>
                          <a:pt x="5400" y="21600"/>
                          <a:pt x="0" y="21600"/>
                        </a:cubicBezTo>
                      </a:path>
                    </a:pathLst>
                  </a:custGeom>
                  <a:noFill/>
                  <a:ln w="12600">
                    <a:solidFill>
                      <a:srgbClr val="dddd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" name="AutoShape 1062"/>
                  <p:cNvSpPr/>
                  <p:nvPr/>
                </p:nvSpPr>
                <p:spPr>
                  <a:xfrm rot="21225600">
                    <a:off x="4388040" y="2448000"/>
                    <a:ext cx="446040" cy="526680"/>
                  </a:xfrm>
                  <a:custGeom>
                    <a:avLst/>
                    <a:gdLst>
                      <a:gd name="textAreaLeft" fmla="*/ 21600 w 446040"/>
                      <a:gd name="textAreaRight" fmla="*/ 424440 w 446040"/>
                      <a:gd name="textAreaTop" fmla="*/ 21600 h 526680"/>
                      <a:gd name="textAreaBottom" fmla="*/ 505080 h 526680"/>
                    </a:gdLst>
                    <a:ahLst/>
                    <a:rect l="textAreaLeft" t="textAreaTop" r="textAreaRight" b="textAreaBottom"/>
                    <a:pathLst>
                      <a:path w="21600" h="25502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1902"/>
                        </a:lnTo>
                        <a:arcTo wR="3600" hR="3600" stAng="10800000" swAng="-5400000"/>
                        <a:lnTo>
                          <a:pt x="18000" y="25502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372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" name="AutoShape 1063"/>
                  <p:cNvSpPr/>
                  <p:nvPr/>
                </p:nvSpPr>
                <p:spPr>
                  <a:xfrm rot="20050800">
                    <a:off x="4266720" y="2205000"/>
                    <a:ext cx="446040" cy="324360"/>
                  </a:xfrm>
                  <a:prstGeom prst="triangle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2044800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AutoShape 1064"/>
                  <p:cNvSpPr/>
                  <p:nvPr/>
                </p:nvSpPr>
                <p:spPr>
                  <a:xfrm rot="21417600">
                    <a:off x="4572360" y="2628720"/>
                    <a:ext cx="99720" cy="143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9725" y="3202"/>
                          <a:pt x="17850" y="5080"/>
                          <a:pt x="17850" y="10800"/>
                        </a:cubicBezTo>
                        <a:cubicBezTo>
                          <a:pt x="17850" y="16520"/>
                          <a:pt x="19725" y="1839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ffffff"/>
                      </a:gs>
                    </a:gsLst>
                    <a:lin ang="18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9" name="AutoShape 1065"/>
                <p:cNvSpPr/>
                <p:nvPr/>
              </p:nvSpPr>
              <p:spPr>
                <a:xfrm rot="19131600">
                  <a:off x="4298040" y="1976040"/>
                  <a:ext cx="70920" cy="295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21366000"/>
                </a:gra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0" name="Group 1066"/>
              <p:cNvGrpSpPr/>
              <p:nvPr/>
            </p:nvGrpSpPr>
            <p:grpSpPr>
              <a:xfrm>
                <a:off x="4129200" y="2892600"/>
                <a:ext cx="798840" cy="1043640"/>
                <a:chOff x="4129200" y="2892600"/>
                <a:chExt cx="798840" cy="1043640"/>
              </a:xfrm>
            </p:grpSpPr>
            <p:grpSp>
              <p:nvGrpSpPr>
                <p:cNvPr id="1241" name=""/>
                <p:cNvGrpSpPr/>
                <p:nvPr/>
              </p:nvGrpSpPr>
              <p:grpSpPr>
                <a:xfrm>
                  <a:off x="4362120" y="3461400"/>
                  <a:ext cx="305280" cy="199440"/>
                  <a:chOff x="4362120" y="3461400"/>
                  <a:chExt cx="305280" cy="199440"/>
                </a:xfrm>
              </p:grpSpPr>
              <p:sp>
                <p:nvSpPr>
                  <p:cNvPr id="1242" name="Line 1067"/>
                  <p:cNvSpPr/>
                  <p:nvPr/>
                </p:nvSpPr>
                <p:spPr>
                  <a:xfrm flipH="1" flipV="1">
                    <a:off x="4387680" y="3461400"/>
                    <a:ext cx="254520" cy="19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"/>
                  <p:cNvSpPr txBox="1"/>
                  <p:nvPr/>
                </p:nvSpPr>
                <p:spPr>
                  <a:xfrm rot="11358600">
                    <a:off x="4372920" y="3483360"/>
                    <a:ext cx="283680" cy="155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4" name="Group 1068"/>
                <p:cNvGrpSpPr/>
                <p:nvPr/>
              </p:nvGrpSpPr>
              <p:grpSpPr>
                <a:xfrm>
                  <a:off x="4129200" y="2892600"/>
                  <a:ext cx="798840" cy="852840"/>
                  <a:chOff x="4129200" y="2892600"/>
                  <a:chExt cx="798840" cy="852840"/>
                </a:xfrm>
              </p:grpSpPr>
              <p:sp>
                <p:nvSpPr>
                  <p:cNvPr id="1245" name="AutoShape 1069"/>
                  <p:cNvSpPr/>
                  <p:nvPr/>
                </p:nvSpPr>
                <p:spPr>
                  <a:xfrm rot="10860600">
                    <a:off x="4133520" y="2910960"/>
                    <a:ext cx="405360" cy="516600"/>
                  </a:xfrm>
                  <a:custGeom>
                    <a:avLst/>
                    <a:gdLst>
                      <a:gd name="textAreaLeft" fmla="*/ 0 w 405360"/>
                      <a:gd name="textAreaRight" fmla="*/ 146160 w 405360"/>
                      <a:gd name="textAreaTop" fmla="*/ 13320 h 516600"/>
                      <a:gd name="textAreaBottom" fmla="*/ 503280 h 516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5400" y="0"/>
                          <a:pt x="10800" y="900"/>
                          <a:pt x="10800" y="1800"/>
                        </a:cubicBezTo>
                        <a:lnTo>
                          <a:pt x="10800" y="9000"/>
                        </a:lnTo>
                        <a:cubicBezTo>
                          <a:pt x="10800" y="9900"/>
                          <a:pt x="16200" y="10800"/>
                          <a:pt x="21600" y="10800"/>
                        </a:cubicBezTo>
                        <a:cubicBezTo>
                          <a:pt x="16200" y="10800"/>
                          <a:pt x="10800" y="11700"/>
                          <a:pt x="10800" y="12600"/>
                        </a:cubicBezTo>
                        <a:lnTo>
                          <a:pt x="10800" y="19800"/>
                        </a:lnTo>
                        <a:cubicBezTo>
                          <a:pt x="10800" y="20700"/>
                          <a:pt x="5400" y="21600"/>
                          <a:pt x="0" y="21600"/>
                        </a:cubicBez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AutoShape 1070"/>
                  <p:cNvSpPr/>
                  <p:nvPr/>
                </p:nvSpPr>
                <p:spPr>
                  <a:xfrm rot="10984200">
                    <a:off x="4380840" y="2903760"/>
                    <a:ext cx="446040" cy="526680"/>
                  </a:xfrm>
                  <a:custGeom>
                    <a:avLst/>
                    <a:gdLst>
                      <a:gd name="textAreaLeft" fmla="*/ 21600 w 446040"/>
                      <a:gd name="textAreaRight" fmla="*/ 424440 w 446040"/>
                      <a:gd name="textAreaTop" fmla="*/ 21600 h 526680"/>
                      <a:gd name="textAreaBottom" fmla="*/ 505080 h 526680"/>
                    </a:gdLst>
                    <a:ahLst/>
                    <a:rect l="textAreaLeft" t="textAreaTop" r="textAreaRight" b="textAreaBottom"/>
                    <a:pathLst>
                      <a:path w="21600" h="25502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1902"/>
                        </a:lnTo>
                        <a:arcTo wR="3600" hR="3600" stAng="10800000" swAng="-5400000"/>
                        <a:lnTo>
                          <a:pt x="18000" y="25502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AutoShape 1071"/>
                  <p:cNvSpPr/>
                  <p:nvPr/>
                </p:nvSpPr>
                <p:spPr>
                  <a:xfrm rot="9809400">
                    <a:off x="4444920" y="3364200"/>
                    <a:ext cx="446040" cy="32436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AutoShape 1072"/>
                  <p:cNvSpPr/>
                  <p:nvPr/>
                </p:nvSpPr>
                <p:spPr>
                  <a:xfrm rot="11176200">
                    <a:off x="4541040" y="3104640"/>
                    <a:ext cx="99720" cy="143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9725" y="3202"/>
                          <a:pt x="17850" y="5080"/>
                          <a:pt x="17850" y="10800"/>
                        </a:cubicBezTo>
                        <a:cubicBezTo>
                          <a:pt x="17850" y="16520"/>
                          <a:pt x="19725" y="18398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9" name="AutoShape 1073"/>
                <p:cNvSpPr/>
                <p:nvPr/>
              </p:nvSpPr>
              <p:spPr>
                <a:xfrm rot="8890200">
                  <a:off x="4747320" y="3644280"/>
                  <a:ext cx="70920" cy="295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50" name="Group 1074"/>
          <p:cNvGrpSpPr/>
          <p:nvPr/>
        </p:nvGrpSpPr>
        <p:grpSpPr>
          <a:xfrm>
            <a:off x="4274280" y="3389400"/>
            <a:ext cx="1166040" cy="993240"/>
            <a:chOff x="4274280" y="3389400"/>
            <a:chExt cx="1166040" cy="993240"/>
          </a:xfrm>
        </p:grpSpPr>
        <p:grpSp>
          <p:nvGrpSpPr>
            <p:cNvPr id="1251" name="Group 1075"/>
            <p:cNvGrpSpPr/>
            <p:nvPr/>
          </p:nvGrpSpPr>
          <p:grpSpPr>
            <a:xfrm>
              <a:off x="4759560" y="3801960"/>
              <a:ext cx="680760" cy="580680"/>
              <a:chOff x="4759560" y="3801960"/>
              <a:chExt cx="680760" cy="580680"/>
            </a:xfrm>
          </p:grpSpPr>
          <p:sp>
            <p:nvSpPr>
              <p:cNvPr id="1252" name="AutoShape 1076"/>
              <p:cNvSpPr/>
              <p:nvPr/>
            </p:nvSpPr>
            <p:spPr>
              <a:xfrm rot="8455200">
                <a:off x="4858920" y="3836160"/>
                <a:ext cx="254160" cy="40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700" y="21600"/>
                    </a:lnTo>
                    <a:lnTo>
                      <a:pt x="189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3" name="Group 1077"/>
              <p:cNvGrpSpPr/>
              <p:nvPr/>
            </p:nvGrpSpPr>
            <p:grpSpPr>
              <a:xfrm>
                <a:off x="5010120" y="3995280"/>
                <a:ext cx="430200" cy="387360"/>
                <a:chOff x="5010120" y="3995280"/>
                <a:chExt cx="430200" cy="387360"/>
              </a:xfrm>
            </p:grpSpPr>
            <p:grpSp>
              <p:nvGrpSpPr>
                <p:cNvPr id="1254" name="Group 1078"/>
                <p:cNvGrpSpPr/>
                <p:nvPr/>
              </p:nvGrpSpPr>
              <p:grpSpPr>
                <a:xfrm>
                  <a:off x="5010120" y="3997440"/>
                  <a:ext cx="430200" cy="385200"/>
                  <a:chOff x="5010120" y="3997440"/>
                  <a:chExt cx="430200" cy="385200"/>
                </a:xfrm>
              </p:grpSpPr>
              <p:grpSp>
                <p:nvGrpSpPr>
                  <p:cNvPr id="1255" name="Group 1079"/>
                  <p:cNvGrpSpPr/>
                  <p:nvPr/>
                </p:nvGrpSpPr>
                <p:grpSpPr>
                  <a:xfrm>
                    <a:off x="5010120" y="3997440"/>
                    <a:ext cx="430200" cy="385200"/>
                    <a:chOff x="5010120" y="3997440"/>
                    <a:chExt cx="430200" cy="385200"/>
                  </a:xfrm>
                </p:grpSpPr>
                <p:sp>
                  <p:nvSpPr>
                    <p:cNvPr id="1256" name="Rectangle 1080"/>
                    <p:cNvSpPr/>
                    <p:nvPr/>
                  </p:nvSpPr>
                  <p:spPr>
                    <a:xfrm rot="19255200">
                      <a:off x="5016960" y="4172760"/>
                      <a:ext cx="300240" cy="1292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7" name="Freeform 1081"/>
                    <p:cNvSpPr/>
                    <p:nvPr/>
                  </p:nvSpPr>
                  <p:spPr>
                    <a:xfrm rot="19255200">
                      <a:off x="5266080" y="4030200"/>
                      <a:ext cx="150120" cy="12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2" h="672">
                          <a:moveTo>
                            <a:pt x="0" y="0"/>
                          </a:moveTo>
                          <a:lnTo>
                            <a:pt x="672" y="528"/>
                          </a:lnTo>
                          <a:lnTo>
                            <a:pt x="672" y="672"/>
                          </a:lnTo>
                          <a:lnTo>
                            <a:pt x="0" y="67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8" name=""/>
                  <p:cNvGrpSpPr/>
                  <p:nvPr/>
                </p:nvGrpSpPr>
                <p:grpSpPr>
                  <a:xfrm>
                    <a:off x="5073480" y="4071240"/>
                    <a:ext cx="355680" cy="289080"/>
                    <a:chOff x="5073480" y="4071240"/>
                    <a:chExt cx="355680" cy="289080"/>
                  </a:xfrm>
                </p:grpSpPr>
                <p:sp>
                  <p:nvSpPr>
                    <p:cNvPr id="1259" name="Line 1082"/>
                    <p:cNvSpPr/>
                    <p:nvPr/>
                  </p:nvSpPr>
                  <p:spPr>
                    <a:xfrm flipV="1">
                      <a:off x="5073480" y="4071240"/>
                      <a:ext cx="355320" cy="28872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0" name=""/>
                    <p:cNvSpPr txBox="1"/>
                    <p:nvPr/>
                  </p:nvSpPr>
                  <p:spPr>
                    <a:xfrm rot="19255200">
                      <a:off x="5022360" y="4215240"/>
                      <a:ext cx="4579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261" name="Oval 1083"/>
                <p:cNvSpPr/>
                <p:nvPr/>
              </p:nvSpPr>
              <p:spPr>
                <a:xfrm rot="19255200">
                  <a:off x="5070600" y="4162320"/>
                  <a:ext cx="91080" cy="10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2" name="Freeform 1084"/>
                <p:cNvSpPr/>
                <p:nvPr/>
              </p:nvSpPr>
              <p:spPr>
                <a:xfrm rot="9007200">
                  <a:off x="5158080" y="4015800"/>
                  <a:ext cx="122760" cy="152280"/>
                </a:xfrm>
                <a:custGeom>
                  <a:avLst/>
                  <a:gdLst/>
                  <a:ahLst/>
                  <a:rect l="l" t="t" r="r" b="b"/>
                  <a:pathLst>
                    <a:path w="400" h="656">
                      <a:moveTo>
                        <a:pt x="360" y="64"/>
                      </a:moveTo>
                      <a:cubicBezTo>
                        <a:pt x="400" y="128"/>
                        <a:pt x="376" y="448"/>
                        <a:pt x="360" y="544"/>
                      </a:cubicBezTo>
                      <a:cubicBezTo>
                        <a:pt x="344" y="640"/>
                        <a:pt x="320" y="656"/>
                        <a:pt x="264" y="640"/>
                      </a:cubicBezTo>
                      <a:cubicBezTo>
                        <a:pt x="208" y="624"/>
                        <a:pt x="48" y="528"/>
                        <a:pt x="24" y="448"/>
                      </a:cubicBezTo>
                      <a:cubicBezTo>
                        <a:pt x="0" y="368"/>
                        <a:pt x="64" y="224"/>
                        <a:pt x="120" y="160"/>
                      </a:cubicBezTo>
                      <a:cubicBezTo>
                        <a:pt x="176" y="96"/>
                        <a:pt x="320" y="0"/>
                        <a:pt x="360" y="6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10248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3" name="Group 1085"/>
            <p:cNvGrpSpPr/>
            <p:nvPr/>
          </p:nvGrpSpPr>
          <p:grpSpPr>
            <a:xfrm>
              <a:off x="4274280" y="3389400"/>
              <a:ext cx="680400" cy="580680"/>
              <a:chOff x="4274280" y="3389400"/>
              <a:chExt cx="680400" cy="580680"/>
            </a:xfrm>
          </p:grpSpPr>
          <p:sp>
            <p:nvSpPr>
              <p:cNvPr id="1264" name="AutoShape 1086"/>
              <p:cNvSpPr/>
              <p:nvPr/>
            </p:nvSpPr>
            <p:spPr>
              <a:xfrm rot="19255200">
                <a:off x="4600800" y="3528720"/>
                <a:ext cx="254160" cy="40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700" y="21600"/>
                    </a:lnTo>
                    <a:lnTo>
                      <a:pt x="189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5" name="Group 1087"/>
              <p:cNvGrpSpPr/>
              <p:nvPr/>
            </p:nvGrpSpPr>
            <p:grpSpPr>
              <a:xfrm>
                <a:off x="4274280" y="3389400"/>
                <a:ext cx="430200" cy="387000"/>
                <a:chOff x="4274280" y="3389400"/>
                <a:chExt cx="430200" cy="387000"/>
              </a:xfrm>
            </p:grpSpPr>
            <p:grpSp>
              <p:nvGrpSpPr>
                <p:cNvPr id="1266" name="Group 1088"/>
                <p:cNvGrpSpPr/>
                <p:nvPr/>
              </p:nvGrpSpPr>
              <p:grpSpPr>
                <a:xfrm>
                  <a:off x="4274280" y="3389400"/>
                  <a:ext cx="430200" cy="385200"/>
                  <a:chOff x="4274280" y="3389400"/>
                  <a:chExt cx="430200" cy="385200"/>
                </a:xfrm>
              </p:grpSpPr>
              <p:grpSp>
                <p:nvGrpSpPr>
                  <p:cNvPr id="1267" name="Group 1089"/>
                  <p:cNvGrpSpPr/>
                  <p:nvPr/>
                </p:nvGrpSpPr>
                <p:grpSpPr>
                  <a:xfrm>
                    <a:off x="4274280" y="3389400"/>
                    <a:ext cx="430200" cy="385200"/>
                    <a:chOff x="4274280" y="3389400"/>
                    <a:chExt cx="430200" cy="385200"/>
                  </a:xfrm>
                </p:grpSpPr>
                <p:sp>
                  <p:nvSpPr>
                    <p:cNvPr id="1268" name="Rectangle 1090"/>
                    <p:cNvSpPr/>
                    <p:nvPr/>
                  </p:nvSpPr>
                  <p:spPr>
                    <a:xfrm rot="8455200">
                      <a:off x="4397040" y="3469680"/>
                      <a:ext cx="300240" cy="129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9" name="Freeform 1091"/>
                    <p:cNvSpPr/>
                    <p:nvPr/>
                  </p:nvSpPr>
                  <p:spPr>
                    <a:xfrm rot="8455200">
                      <a:off x="4298040" y="3612960"/>
                      <a:ext cx="150120" cy="12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2" h="672">
                          <a:moveTo>
                            <a:pt x="0" y="0"/>
                          </a:moveTo>
                          <a:lnTo>
                            <a:pt x="672" y="528"/>
                          </a:lnTo>
                          <a:lnTo>
                            <a:pt x="672" y="672"/>
                          </a:lnTo>
                          <a:lnTo>
                            <a:pt x="0" y="67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70" name=""/>
                  <p:cNvGrpSpPr/>
                  <p:nvPr/>
                </p:nvGrpSpPr>
                <p:grpSpPr>
                  <a:xfrm>
                    <a:off x="4285440" y="3411360"/>
                    <a:ext cx="355680" cy="289080"/>
                    <a:chOff x="4285440" y="3411360"/>
                    <a:chExt cx="355680" cy="289080"/>
                  </a:xfrm>
                </p:grpSpPr>
                <p:sp>
                  <p:nvSpPr>
                    <p:cNvPr id="1271" name="Line 1092"/>
                    <p:cNvSpPr/>
                    <p:nvPr/>
                  </p:nvSpPr>
                  <p:spPr>
                    <a:xfrm flipH="1">
                      <a:off x="4285440" y="3411720"/>
                      <a:ext cx="355680" cy="28872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2" name=""/>
                    <p:cNvSpPr txBox="1"/>
                    <p:nvPr/>
                  </p:nvSpPr>
                  <p:spPr>
                    <a:xfrm rot="8455200">
                      <a:off x="4233960" y="3555720"/>
                      <a:ext cx="4579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273" name="Oval 1093"/>
                <p:cNvSpPr/>
                <p:nvPr/>
              </p:nvSpPr>
              <p:spPr>
                <a:xfrm rot="8455200">
                  <a:off x="4552200" y="3507480"/>
                  <a:ext cx="91080" cy="1015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Freeform 1094"/>
                <p:cNvSpPr/>
                <p:nvPr/>
              </p:nvSpPr>
              <p:spPr>
                <a:xfrm rot="19807800">
                  <a:off x="4433400" y="3603240"/>
                  <a:ext cx="122760" cy="152280"/>
                </a:xfrm>
                <a:custGeom>
                  <a:avLst/>
                  <a:gdLst/>
                  <a:ahLst/>
                  <a:rect l="l" t="t" r="r" b="b"/>
                  <a:pathLst>
                    <a:path w="400" h="656">
                      <a:moveTo>
                        <a:pt x="360" y="64"/>
                      </a:moveTo>
                      <a:cubicBezTo>
                        <a:pt x="400" y="128"/>
                        <a:pt x="376" y="448"/>
                        <a:pt x="360" y="544"/>
                      </a:cubicBezTo>
                      <a:cubicBezTo>
                        <a:pt x="344" y="640"/>
                        <a:pt x="320" y="656"/>
                        <a:pt x="264" y="640"/>
                      </a:cubicBezTo>
                      <a:cubicBezTo>
                        <a:pt x="208" y="624"/>
                        <a:pt x="48" y="528"/>
                        <a:pt x="24" y="448"/>
                      </a:cubicBezTo>
                      <a:cubicBezTo>
                        <a:pt x="0" y="368"/>
                        <a:pt x="64" y="224"/>
                        <a:pt x="120" y="160"/>
                      </a:cubicBezTo>
                      <a:cubicBezTo>
                        <a:pt x="176" y="96"/>
                        <a:pt x="320" y="0"/>
                        <a:pt x="360" y="64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75" name="Group 1095"/>
          <p:cNvGrpSpPr/>
          <p:nvPr/>
        </p:nvGrpSpPr>
        <p:grpSpPr>
          <a:xfrm>
            <a:off x="4377240" y="3489840"/>
            <a:ext cx="1041480" cy="854280"/>
            <a:chOff x="4377240" y="3489840"/>
            <a:chExt cx="1041480" cy="854280"/>
          </a:xfrm>
        </p:grpSpPr>
        <p:grpSp>
          <p:nvGrpSpPr>
            <p:cNvPr id="1276" name="Group 1096"/>
            <p:cNvGrpSpPr/>
            <p:nvPr/>
          </p:nvGrpSpPr>
          <p:grpSpPr>
            <a:xfrm>
              <a:off x="4377240" y="3745800"/>
              <a:ext cx="689400" cy="598320"/>
              <a:chOff x="4377240" y="3745800"/>
              <a:chExt cx="689400" cy="598320"/>
            </a:xfrm>
          </p:grpSpPr>
          <p:grpSp>
            <p:nvGrpSpPr>
              <p:cNvPr id="1277" name="Group 1097"/>
              <p:cNvGrpSpPr/>
              <p:nvPr/>
            </p:nvGrpSpPr>
            <p:grpSpPr>
              <a:xfrm>
                <a:off x="4377240" y="3745800"/>
                <a:ext cx="689400" cy="598320"/>
                <a:chOff x="4377240" y="3745800"/>
                <a:chExt cx="689400" cy="598320"/>
              </a:xfrm>
            </p:grpSpPr>
            <p:grpSp>
              <p:nvGrpSpPr>
                <p:cNvPr id="1278" name="Group 1098"/>
                <p:cNvGrpSpPr/>
                <p:nvPr/>
              </p:nvGrpSpPr>
              <p:grpSpPr>
                <a:xfrm>
                  <a:off x="4377240" y="3799080"/>
                  <a:ext cx="597600" cy="545040"/>
                  <a:chOff x="4377240" y="3799080"/>
                  <a:chExt cx="597600" cy="545040"/>
                </a:xfrm>
              </p:grpSpPr>
              <p:sp>
                <p:nvSpPr>
                  <p:cNvPr id="1279" name="AutoShape 1099"/>
                  <p:cNvSpPr/>
                  <p:nvPr/>
                </p:nvSpPr>
                <p:spPr>
                  <a:xfrm rot="14085600">
                    <a:off x="4575600" y="3833640"/>
                    <a:ext cx="29520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Oval 1100"/>
                  <p:cNvSpPr/>
                  <p:nvPr/>
                </p:nvSpPr>
                <p:spPr>
                  <a:xfrm rot="14085600">
                    <a:off x="4417560" y="4028760"/>
                    <a:ext cx="289800" cy="249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81" name="Oval 1101"/>
                <p:cNvSpPr/>
                <p:nvPr/>
              </p:nvSpPr>
              <p:spPr>
                <a:xfrm rot="14085600">
                  <a:off x="4766040" y="3797280"/>
                  <a:ext cx="253800" cy="24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2" name="AutoShape 1102"/>
              <p:cNvSpPr/>
              <p:nvPr/>
            </p:nvSpPr>
            <p:spPr>
              <a:xfrm rot="14085600">
                <a:off x="4842360" y="3864240"/>
                <a:ext cx="109080" cy="95040"/>
              </a:xfrm>
              <a:prstGeom prst="hexagon">
                <a:avLst>
                  <a:gd name="adj" fmla="val 28693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3" name="Group 1103"/>
            <p:cNvGrpSpPr/>
            <p:nvPr/>
          </p:nvGrpSpPr>
          <p:grpSpPr>
            <a:xfrm>
              <a:off x="4729680" y="3489840"/>
              <a:ext cx="689040" cy="597600"/>
              <a:chOff x="4729680" y="3489840"/>
              <a:chExt cx="689040" cy="597600"/>
            </a:xfrm>
          </p:grpSpPr>
          <p:grpSp>
            <p:nvGrpSpPr>
              <p:cNvPr id="1284" name="Group 1104"/>
              <p:cNvGrpSpPr/>
              <p:nvPr/>
            </p:nvGrpSpPr>
            <p:grpSpPr>
              <a:xfrm>
                <a:off x="4729680" y="3489840"/>
                <a:ext cx="689040" cy="597600"/>
                <a:chOff x="4729680" y="3489840"/>
                <a:chExt cx="689040" cy="597600"/>
              </a:xfrm>
            </p:grpSpPr>
            <p:grpSp>
              <p:nvGrpSpPr>
                <p:cNvPr id="1285" name="Group 1105"/>
                <p:cNvGrpSpPr/>
                <p:nvPr/>
              </p:nvGrpSpPr>
              <p:grpSpPr>
                <a:xfrm>
                  <a:off x="4818600" y="3489840"/>
                  <a:ext cx="600120" cy="540360"/>
                  <a:chOff x="4818600" y="3489840"/>
                  <a:chExt cx="600120" cy="540360"/>
                </a:xfrm>
              </p:grpSpPr>
              <p:sp>
                <p:nvSpPr>
                  <p:cNvPr id="1286" name="AutoShape 1106"/>
                  <p:cNvSpPr/>
                  <p:nvPr/>
                </p:nvSpPr>
                <p:spPr>
                  <a:xfrm flipV="1" rot="14085600">
                    <a:off x="4921920" y="3588480"/>
                    <a:ext cx="29520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Oval 1107"/>
                  <p:cNvSpPr/>
                  <p:nvPr/>
                </p:nvSpPr>
                <p:spPr>
                  <a:xfrm flipV="1" rot="14085600">
                    <a:off x="5088240" y="3555000"/>
                    <a:ext cx="289800" cy="24948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88" name="Oval 1108"/>
                <p:cNvSpPr/>
                <p:nvPr/>
              </p:nvSpPr>
              <p:spPr>
                <a:xfrm flipV="1" rot="14085600">
                  <a:off x="4776120" y="3789720"/>
                  <a:ext cx="253800" cy="245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9" name="AutoShape 1109"/>
              <p:cNvSpPr/>
              <p:nvPr/>
            </p:nvSpPr>
            <p:spPr>
              <a:xfrm flipV="1" rot="14085600">
                <a:off x="4839120" y="3867120"/>
                <a:ext cx="109080" cy="95040"/>
              </a:xfrm>
              <a:prstGeom prst="hexagon">
                <a:avLst>
                  <a:gd name="adj" fmla="val 28693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0" name="Group 1110"/>
          <p:cNvGrpSpPr/>
          <p:nvPr/>
        </p:nvGrpSpPr>
        <p:grpSpPr>
          <a:xfrm>
            <a:off x="4236840" y="2005560"/>
            <a:ext cx="456840" cy="2366280"/>
            <a:chOff x="4236840" y="2005560"/>
            <a:chExt cx="456840" cy="2366280"/>
          </a:xfrm>
        </p:grpSpPr>
        <p:grpSp>
          <p:nvGrpSpPr>
            <p:cNvPr id="1291" name="Group 1111"/>
            <p:cNvGrpSpPr/>
            <p:nvPr/>
          </p:nvGrpSpPr>
          <p:grpSpPr>
            <a:xfrm>
              <a:off x="4236840" y="2005560"/>
              <a:ext cx="456840" cy="2366280"/>
              <a:chOff x="4236840" y="2005560"/>
              <a:chExt cx="456840" cy="2366280"/>
            </a:xfrm>
          </p:grpSpPr>
          <p:grpSp>
            <p:nvGrpSpPr>
              <p:cNvPr id="1292" name="Group 1112"/>
              <p:cNvGrpSpPr/>
              <p:nvPr/>
            </p:nvGrpSpPr>
            <p:grpSpPr>
              <a:xfrm>
                <a:off x="4236840" y="2005560"/>
                <a:ext cx="456840" cy="2366280"/>
                <a:chOff x="4236840" y="2005560"/>
                <a:chExt cx="456840" cy="2366280"/>
              </a:xfrm>
            </p:grpSpPr>
            <p:grpSp>
              <p:nvGrpSpPr>
                <p:cNvPr id="1293" name="Group 1113"/>
                <p:cNvGrpSpPr/>
                <p:nvPr/>
              </p:nvGrpSpPr>
              <p:grpSpPr>
                <a:xfrm>
                  <a:off x="4236840" y="2235960"/>
                  <a:ext cx="278280" cy="1245240"/>
                  <a:chOff x="4236840" y="2235960"/>
                  <a:chExt cx="278280" cy="1245240"/>
                </a:xfrm>
              </p:grpSpPr>
              <p:grpSp>
                <p:nvGrpSpPr>
                  <p:cNvPr id="1294" name="Group 1114"/>
                  <p:cNvGrpSpPr/>
                  <p:nvPr/>
                </p:nvGrpSpPr>
                <p:grpSpPr>
                  <a:xfrm>
                    <a:off x="4273920" y="2870640"/>
                    <a:ext cx="241200" cy="610560"/>
                    <a:chOff x="4273920" y="2870640"/>
                    <a:chExt cx="241200" cy="610560"/>
                  </a:xfrm>
                </p:grpSpPr>
                <p:sp>
                  <p:nvSpPr>
                    <p:cNvPr id="1295" name="AutoShape 1115"/>
                    <p:cNvSpPr/>
                    <p:nvPr/>
                  </p:nvSpPr>
                  <p:spPr>
                    <a:xfrm rot="10707000">
                      <a:off x="4301280" y="2872800"/>
                      <a:ext cx="179640" cy="49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556" y="21600"/>
                          </a:lnTo>
                          <a:lnTo>
                            <a:pt x="20044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6" name="AutoShape 1116"/>
                    <p:cNvSpPr/>
                    <p:nvPr/>
                  </p:nvSpPr>
                  <p:spPr>
                    <a:xfrm rot="16285200">
                      <a:off x="4298400" y="3264120"/>
                      <a:ext cx="19152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934" y="2201"/>
                            <a:pt x="12267" y="5080"/>
                            <a:pt x="12267" y="10800"/>
                          </a:cubicBezTo>
                          <a:cubicBezTo>
                            <a:pt x="12267" y="16520"/>
                            <a:pt x="16934" y="1939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7" name="Group 1117"/>
                  <p:cNvGrpSpPr/>
                  <p:nvPr/>
                </p:nvGrpSpPr>
                <p:grpSpPr>
                  <a:xfrm>
                    <a:off x="4236840" y="2235960"/>
                    <a:ext cx="253440" cy="747720"/>
                    <a:chOff x="4236840" y="2235960"/>
                    <a:chExt cx="253440" cy="747720"/>
                  </a:xfrm>
                </p:grpSpPr>
                <p:sp>
                  <p:nvSpPr>
                    <p:cNvPr id="1298" name="AutoShape 1118"/>
                    <p:cNvSpPr/>
                    <p:nvPr/>
                  </p:nvSpPr>
                  <p:spPr>
                    <a:xfrm rot="10722000">
                      <a:off x="4289760" y="2490480"/>
                      <a:ext cx="180360" cy="36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4308" y="21600"/>
                          </a:lnTo>
                          <a:lnTo>
                            <a:pt x="17292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9" name="Oval 1119"/>
                    <p:cNvSpPr/>
                    <p:nvPr/>
                  </p:nvSpPr>
                  <p:spPr>
                    <a:xfrm rot="11260800">
                      <a:off x="4290840" y="2781360"/>
                      <a:ext cx="187200" cy="19044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0" name="Freeform 1120"/>
                    <p:cNvSpPr/>
                    <p:nvPr/>
                  </p:nvSpPr>
                  <p:spPr>
                    <a:xfrm rot="20755800">
                      <a:off x="4268880" y="2252880"/>
                      <a:ext cx="175680" cy="28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2" h="2302">
                          <a:moveTo>
                            <a:pt x="361" y="1127"/>
                          </a:moveTo>
                          <a:lnTo>
                            <a:pt x="280" y="1116"/>
                          </a:lnTo>
                          <a:lnTo>
                            <a:pt x="373" y="711"/>
                          </a:lnTo>
                          <a:lnTo>
                            <a:pt x="373" y="709"/>
                          </a:lnTo>
                          <a:lnTo>
                            <a:pt x="375" y="705"/>
                          </a:lnTo>
                          <a:lnTo>
                            <a:pt x="375" y="703"/>
                          </a:lnTo>
                          <a:lnTo>
                            <a:pt x="375" y="700"/>
                          </a:lnTo>
                          <a:lnTo>
                            <a:pt x="375" y="698"/>
                          </a:lnTo>
                          <a:lnTo>
                            <a:pt x="375" y="696"/>
                          </a:lnTo>
                          <a:lnTo>
                            <a:pt x="375" y="692"/>
                          </a:lnTo>
                          <a:lnTo>
                            <a:pt x="375" y="690"/>
                          </a:lnTo>
                          <a:lnTo>
                            <a:pt x="375" y="684"/>
                          </a:lnTo>
                          <a:lnTo>
                            <a:pt x="375" y="681"/>
                          </a:lnTo>
                          <a:lnTo>
                            <a:pt x="375" y="675"/>
                          </a:lnTo>
                          <a:lnTo>
                            <a:pt x="375" y="669"/>
                          </a:lnTo>
                          <a:lnTo>
                            <a:pt x="371" y="665"/>
                          </a:lnTo>
                          <a:lnTo>
                            <a:pt x="371" y="660"/>
                          </a:lnTo>
                          <a:lnTo>
                            <a:pt x="369" y="654"/>
                          </a:lnTo>
                          <a:lnTo>
                            <a:pt x="367" y="652"/>
                          </a:lnTo>
                          <a:lnTo>
                            <a:pt x="365" y="646"/>
                          </a:lnTo>
                          <a:lnTo>
                            <a:pt x="363" y="641"/>
                          </a:lnTo>
                          <a:lnTo>
                            <a:pt x="361" y="637"/>
                          </a:lnTo>
                          <a:lnTo>
                            <a:pt x="358" y="633"/>
                          </a:lnTo>
                          <a:lnTo>
                            <a:pt x="356" y="629"/>
                          </a:lnTo>
                          <a:lnTo>
                            <a:pt x="354" y="623"/>
                          </a:lnTo>
                          <a:lnTo>
                            <a:pt x="350" y="620"/>
                          </a:lnTo>
                          <a:lnTo>
                            <a:pt x="346" y="616"/>
                          </a:lnTo>
                          <a:lnTo>
                            <a:pt x="342" y="612"/>
                          </a:lnTo>
                          <a:lnTo>
                            <a:pt x="339" y="610"/>
                          </a:lnTo>
                          <a:lnTo>
                            <a:pt x="335" y="606"/>
                          </a:lnTo>
                          <a:lnTo>
                            <a:pt x="331" y="603"/>
                          </a:lnTo>
                          <a:lnTo>
                            <a:pt x="325" y="601"/>
                          </a:lnTo>
                          <a:lnTo>
                            <a:pt x="321" y="597"/>
                          </a:lnTo>
                          <a:lnTo>
                            <a:pt x="318" y="595"/>
                          </a:lnTo>
                          <a:lnTo>
                            <a:pt x="312" y="593"/>
                          </a:lnTo>
                          <a:lnTo>
                            <a:pt x="306" y="591"/>
                          </a:lnTo>
                          <a:lnTo>
                            <a:pt x="302" y="589"/>
                          </a:lnTo>
                          <a:lnTo>
                            <a:pt x="299" y="589"/>
                          </a:lnTo>
                          <a:lnTo>
                            <a:pt x="295" y="587"/>
                          </a:lnTo>
                          <a:lnTo>
                            <a:pt x="291" y="587"/>
                          </a:lnTo>
                          <a:lnTo>
                            <a:pt x="287" y="585"/>
                          </a:lnTo>
                          <a:lnTo>
                            <a:pt x="285" y="585"/>
                          </a:lnTo>
                          <a:lnTo>
                            <a:pt x="283" y="585"/>
                          </a:lnTo>
                          <a:lnTo>
                            <a:pt x="280" y="585"/>
                          </a:lnTo>
                          <a:lnTo>
                            <a:pt x="276" y="585"/>
                          </a:lnTo>
                          <a:lnTo>
                            <a:pt x="274" y="585"/>
                          </a:lnTo>
                          <a:lnTo>
                            <a:pt x="272" y="585"/>
                          </a:lnTo>
                          <a:lnTo>
                            <a:pt x="268" y="585"/>
                          </a:lnTo>
                          <a:lnTo>
                            <a:pt x="266" y="585"/>
                          </a:lnTo>
                          <a:lnTo>
                            <a:pt x="263" y="585"/>
                          </a:lnTo>
                          <a:lnTo>
                            <a:pt x="261" y="587"/>
                          </a:lnTo>
                          <a:lnTo>
                            <a:pt x="259" y="587"/>
                          </a:lnTo>
                          <a:lnTo>
                            <a:pt x="255" y="587"/>
                          </a:lnTo>
                          <a:lnTo>
                            <a:pt x="253" y="589"/>
                          </a:lnTo>
                          <a:lnTo>
                            <a:pt x="249" y="589"/>
                          </a:lnTo>
                          <a:lnTo>
                            <a:pt x="247" y="589"/>
                          </a:lnTo>
                          <a:lnTo>
                            <a:pt x="243" y="591"/>
                          </a:lnTo>
                          <a:lnTo>
                            <a:pt x="240" y="591"/>
                          </a:lnTo>
                          <a:lnTo>
                            <a:pt x="238" y="593"/>
                          </a:lnTo>
                          <a:lnTo>
                            <a:pt x="236" y="595"/>
                          </a:lnTo>
                          <a:lnTo>
                            <a:pt x="232" y="595"/>
                          </a:lnTo>
                          <a:lnTo>
                            <a:pt x="230" y="597"/>
                          </a:lnTo>
                          <a:lnTo>
                            <a:pt x="228" y="599"/>
                          </a:lnTo>
                          <a:lnTo>
                            <a:pt x="224" y="601"/>
                          </a:lnTo>
                          <a:lnTo>
                            <a:pt x="223" y="601"/>
                          </a:lnTo>
                          <a:lnTo>
                            <a:pt x="219" y="603"/>
                          </a:lnTo>
                          <a:lnTo>
                            <a:pt x="217" y="604"/>
                          </a:lnTo>
                          <a:lnTo>
                            <a:pt x="211" y="608"/>
                          </a:lnTo>
                          <a:lnTo>
                            <a:pt x="207" y="612"/>
                          </a:lnTo>
                          <a:lnTo>
                            <a:pt x="204" y="616"/>
                          </a:lnTo>
                          <a:lnTo>
                            <a:pt x="198" y="618"/>
                          </a:lnTo>
                          <a:lnTo>
                            <a:pt x="194" y="623"/>
                          </a:lnTo>
                          <a:lnTo>
                            <a:pt x="188" y="627"/>
                          </a:lnTo>
                          <a:lnTo>
                            <a:pt x="185" y="633"/>
                          </a:lnTo>
                          <a:lnTo>
                            <a:pt x="181" y="637"/>
                          </a:lnTo>
                          <a:lnTo>
                            <a:pt x="177" y="641"/>
                          </a:lnTo>
                          <a:lnTo>
                            <a:pt x="173" y="646"/>
                          </a:lnTo>
                          <a:lnTo>
                            <a:pt x="169" y="652"/>
                          </a:lnTo>
                          <a:lnTo>
                            <a:pt x="166" y="656"/>
                          </a:lnTo>
                          <a:lnTo>
                            <a:pt x="162" y="662"/>
                          </a:lnTo>
                          <a:lnTo>
                            <a:pt x="160" y="665"/>
                          </a:lnTo>
                          <a:lnTo>
                            <a:pt x="158" y="669"/>
                          </a:lnTo>
                          <a:lnTo>
                            <a:pt x="158" y="671"/>
                          </a:lnTo>
                          <a:lnTo>
                            <a:pt x="156" y="673"/>
                          </a:lnTo>
                          <a:lnTo>
                            <a:pt x="154" y="677"/>
                          </a:lnTo>
                          <a:lnTo>
                            <a:pt x="152" y="679"/>
                          </a:lnTo>
                          <a:lnTo>
                            <a:pt x="152" y="681"/>
                          </a:lnTo>
                          <a:lnTo>
                            <a:pt x="150" y="684"/>
                          </a:lnTo>
                          <a:lnTo>
                            <a:pt x="150" y="688"/>
                          </a:lnTo>
                          <a:lnTo>
                            <a:pt x="146" y="694"/>
                          </a:lnTo>
                          <a:lnTo>
                            <a:pt x="145" y="701"/>
                          </a:lnTo>
                          <a:lnTo>
                            <a:pt x="143" y="709"/>
                          </a:lnTo>
                          <a:lnTo>
                            <a:pt x="139" y="717"/>
                          </a:lnTo>
                          <a:lnTo>
                            <a:pt x="137" y="724"/>
                          </a:lnTo>
                          <a:lnTo>
                            <a:pt x="135" y="732"/>
                          </a:lnTo>
                          <a:lnTo>
                            <a:pt x="131" y="739"/>
                          </a:lnTo>
                          <a:lnTo>
                            <a:pt x="129" y="747"/>
                          </a:lnTo>
                          <a:lnTo>
                            <a:pt x="126" y="755"/>
                          </a:lnTo>
                          <a:lnTo>
                            <a:pt x="124" y="760"/>
                          </a:lnTo>
                          <a:lnTo>
                            <a:pt x="122" y="768"/>
                          </a:lnTo>
                          <a:lnTo>
                            <a:pt x="120" y="776"/>
                          </a:lnTo>
                          <a:lnTo>
                            <a:pt x="116" y="781"/>
                          </a:lnTo>
                          <a:lnTo>
                            <a:pt x="114" y="789"/>
                          </a:lnTo>
                          <a:lnTo>
                            <a:pt x="112" y="796"/>
                          </a:lnTo>
                          <a:lnTo>
                            <a:pt x="110" y="804"/>
                          </a:lnTo>
                          <a:lnTo>
                            <a:pt x="107" y="812"/>
                          </a:lnTo>
                          <a:lnTo>
                            <a:pt x="107" y="817"/>
                          </a:lnTo>
                          <a:lnTo>
                            <a:pt x="103" y="823"/>
                          </a:lnTo>
                          <a:lnTo>
                            <a:pt x="101" y="831"/>
                          </a:lnTo>
                          <a:lnTo>
                            <a:pt x="97" y="836"/>
                          </a:lnTo>
                          <a:lnTo>
                            <a:pt x="97" y="844"/>
                          </a:lnTo>
                          <a:lnTo>
                            <a:pt x="93" y="852"/>
                          </a:lnTo>
                          <a:lnTo>
                            <a:pt x="93" y="857"/>
                          </a:lnTo>
                          <a:lnTo>
                            <a:pt x="89" y="865"/>
                          </a:lnTo>
                          <a:lnTo>
                            <a:pt x="88" y="871"/>
                          </a:lnTo>
                          <a:lnTo>
                            <a:pt x="86" y="878"/>
                          </a:lnTo>
                          <a:lnTo>
                            <a:pt x="84" y="884"/>
                          </a:lnTo>
                          <a:lnTo>
                            <a:pt x="82" y="892"/>
                          </a:lnTo>
                          <a:lnTo>
                            <a:pt x="80" y="899"/>
                          </a:lnTo>
                          <a:lnTo>
                            <a:pt x="78" y="907"/>
                          </a:lnTo>
                          <a:lnTo>
                            <a:pt x="74" y="912"/>
                          </a:lnTo>
                          <a:lnTo>
                            <a:pt x="72" y="920"/>
                          </a:lnTo>
                          <a:lnTo>
                            <a:pt x="72" y="926"/>
                          </a:lnTo>
                          <a:lnTo>
                            <a:pt x="68" y="931"/>
                          </a:lnTo>
                          <a:lnTo>
                            <a:pt x="67" y="939"/>
                          </a:lnTo>
                          <a:lnTo>
                            <a:pt x="65" y="945"/>
                          </a:lnTo>
                          <a:lnTo>
                            <a:pt x="63" y="952"/>
                          </a:lnTo>
                          <a:lnTo>
                            <a:pt x="59" y="958"/>
                          </a:lnTo>
                          <a:lnTo>
                            <a:pt x="57" y="966"/>
                          </a:lnTo>
                          <a:lnTo>
                            <a:pt x="55" y="971"/>
                          </a:lnTo>
                          <a:lnTo>
                            <a:pt x="53" y="979"/>
                          </a:lnTo>
                          <a:lnTo>
                            <a:pt x="51" y="987"/>
                          </a:lnTo>
                          <a:lnTo>
                            <a:pt x="49" y="994"/>
                          </a:lnTo>
                          <a:lnTo>
                            <a:pt x="48" y="1000"/>
                          </a:lnTo>
                          <a:lnTo>
                            <a:pt x="46" y="1007"/>
                          </a:lnTo>
                          <a:lnTo>
                            <a:pt x="44" y="1015"/>
                          </a:lnTo>
                          <a:lnTo>
                            <a:pt x="42" y="1021"/>
                          </a:lnTo>
                          <a:lnTo>
                            <a:pt x="42" y="1028"/>
                          </a:lnTo>
                          <a:lnTo>
                            <a:pt x="38" y="1036"/>
                          </a:lnTo>
                          <a:lnTo>
                            <a:pt x="36" y="1042"/>
                          </a:lnTo>
                          <a:lnTo>
                            <a:pt x="36" y="1049"/>
                          </a:lnTo>
                          <a:lnTo>
                            <a:pt x="34" y="1057"/>
                          </a:lnTo>
                          <a:lnTo>
                            <a:pt x="30" y="1063"/>
                          </a:lnTo>
                          <a:lnTo>
                            <a:pt x="30" y="1070"/>
                          </a:lnTo>
                          <a:lnTo>
                            <a:pt x="29" y="1078"/>
                          </a:lnTo>
                          <a:lnTo>
                            <a:pt x="27" y="1085"/>
                          </a:lnTo>
                          <a:lnTo>
                            <a:pt x="25" y="1093"/>
                          </a:lnTo>
                          <a:lnTo>
                            <a:pt x="23" y="1101"/>
                          </a:lnTo>
                          <a:lnTo>
                            <a:pt x="21" y="1108"/>
                          </a:lnTo>
                          <a:lnTo>
                            <a:pt x="19" y="1116"/>
                          </a:lnTo>
                          <a:lnTo>
                            <a:pt x="17" y="1123"/>
                          </a:lnTo>
                          <a:lnTo>
                            <a:pt x="17" y="1131"/>
                          </a:lnTo>
                          <a:lnTo>
                            <a:pt x="15" y="1139"/>
                          </a:lnTo>
                          <a:lnTo>
                            <a:pt x="13" y="1148"/>
                          </a:lnTo>
                          <a:lnTo>
                            <a:pt x="10" y="1158"/>
                          </a:lnTo>
                          <a:lnTo>
                            <a:pt x="10" y="1165"/>
                          </a:lnTo>
                          <a:lnTo>
                            <a:pt x="8" y="1175"/>
                          </a:lnTo>
                          <a:lnTo>
                            <a:pt x="6" y="1182"/>
                          </a:lnTo>
                          <a:lnTo>
                            <a:pt x="6" y="1192"/>
                          </a:lnTo>
                          <a:lnTo>
                            <a:pt x="4" y="1201"/>
                          </a:lnTo>
                          <a:lnTo>
                            <a:pt x="2" y="1211"/>
                          </a:lnTo>
                          <a:lnTo>
                            <a:pt x="2" y="1218"/>
                          </a:lnTo>
                          <a:lnTo>
                            <a:pt x="0" y="1230"/>
                          </a:lnTo>
                          <a:lnTo>
                            <a:pt x="0" y="1237"/>
                          </a:lnTo>
                          <a:lnTo>
                            <a:pt x="0" y="1247"/>
                          </a:lnTo>
                          <a:lnTo>
                            <a:pt x="0" y="1257"/>
                          </a:lnTo>
                          <a:lnTo>
                            <a:pt x="0" y="1268"/>
                          </a:lnTo>
                          <a:lnTo>
                            <a:pt x="0" y="1276"/>
                          </a:lnTo>
                          <a:lnTo>
                            <a:pt x="0" y="1285"/>
                          </a:lnTo>
                          <a:lnTo>
                            <a:pt x="0" y="1296"/>
                          </a:lnTo>
                          <a:lnTo>
                            <a:pt x="0" y="1304"/>
                          </a:lnTo>
                          <a:lnTo>
                            <a:pt x="0" y="1314"/>
                          </a:lnTo>
                          <a:lnTo>
                            <a:pt x="0" y="1323"/>
                          </a:lnTo>
                          <a:lnTo>
                            <a:pt x="0" y="1333"/>
                          </a:lnTo>
                          <a:lnTo>
                            <a:pt x="2" y="1342"/>
                          </a:lnTo>
                          <a:lnTo>
                            <a:pt x="2" y="1352"/>
                          </a:lnTo>
                          <a:lnTo>
                            <a:pt x="4" y="1363"/>
                          </a:lnTo>
                          <a:lnTo>
                            <a:pt x="4" y="1371"/>
                          </a:lnTo>
                          <a:lnTo>
                            <a:pt x="6" y="1382"/>
                          </a:lnTo>
                          <a:lnTo>
                            <a:pt x="8" y="1390"/>
                          </a:lnTo>
                          <a:lnTo>
                            <a:pt x="8" y="1401"/>
                          </a:lnTo>
                          <a:lnTo>
                            <a:pt x="10" y="1409"/>
                          </a:lnTo>
                          <a:lnTo>
                            <a:pt x="11" y="1420"/>
                          </a:lnTo>
                          <a:lnTo>
                            <a:pt x="13" y="1429"/>
                          </a:lnTo>
                          <a:lnTo>
                            <a:pt x="15" y="1439"/>
                          </a:lnTo>
                          <a:lnTo>
                            <a:pt x="17" y="1448"/>
                          </a:lnTo>
                          <a:lnTo>
                            <a:pt x="19" y="1458"/>
                          </a:lnTo>
                          <a:lnTo>
                            <a:pt x="21" y="1468"/>
                          </a:lnTo>
                          <a:lnTo>
                            <a:pt x="23" y="1477"/>
                          </a:lnTo>
                          <a:lnTo>
                            <a:pt x="27" y="1487"/>
                          </a:lnTo>
                          <a:lnTo>
                            <a:pt x="29" y="1496"/>
                          </a:lnTo>
                          <a:lnTo>
                            <a:pt x="30" y="1506"/>
                          </a:lnTo>
                          <a:lnTo>
                            <a:pt x="34" y="1515"/>
                          </a:lnTo>
                          <a:lnTo>
                            <a:pt x="36" y="1525"/>
                          </a:lnTo>
                          <a:lnTo>
                            <a:pt x="38" y="1534"/>
                          </a:lnTo>
                          <a:lnTo>
                            <a:pt x="42" y="1544"/>
                          </a:lnTo>
                          <a:lnTo>
                            <a:pt x="46" y="1553"/>
                          </a:lnTo>
                          <a:lnTo>
                            <a:pt x="48" y="1561"/>
                          </a:lnTo>
                          <a:lnTo>
                            <a:pt x="51" y="1572"/>
                          </a:lnTo>
                          <a:lnTo>
                            <a:pt x="55" y="1580"/>
                          </a:lnTo>
                          <a:lnTo>
                            <a:pt x="59" y="1589"/>
                          </a:lnTo>
                          <a:lnTo>
                            <a:pt x="63" y="1599"/>
                          </a:lnTo>
                          <a:lnTo>
                            <a:pt x="67" y="1608"/>
                          </a:lnTo>
                          <a:lnTo>
                            <a:pt x="68" y="1616"/>
                          </a:lnTo>
                          <a:lnTo>
                            <a:pt x="74" y="1627"/>
                          </a:lnTo>
                          <a:lnTo>
                            <a:pt x="78" y="1635"/>
                          </a:lnTo>
                          <a:lnTo>
                            <a:pt x="82" y="1644"/>
                          </a:lnTo>
                          <a:lnTo>
                            <a:pt x="86" y="1652"/>
                          </a:lnTo>
                          <a:lnTo>
                            <a:pt x="89" y="1661"/>
                          </a:lnTo>
                          <a:lnTo>
                            <a:pt x="95" y="1669"/>
                          </a:lnTo>
                          <a:lnTo>
                            <a:pt x="99" y="1679"/>
                          </a:lnTo>
                          <a:lnTo>
                            <a:pt x="103" y="1688"/>
                          </a:lnTo>
                          <a:lnTo>
                            <a:pt x="108" y="1696"/>
                          </a:lnTo>
                          <a:lnTo>
                            <a:pt x="114" y="1703"/>
                          </a:lnTo>
                          <a:lnTo>
                            <a:pt x="118" y="1713"/>
                          </a:lnTo>
                          <a:lnTo>
                            <a:pt x="124" y="1722"/>
                          </a:lnTo>
                          <a:lnTo>
                            <a:pt x="127" y="1732"/>
                          </a:lnTo>
                          <a:lnTo>
                            <a:pt x="131" y="1736"/>
                          </a:lnTo>
                          <a:lnTo>
                            <a:pt x="135" y="1739"/>
                          </a:lnTo>
                          <a:lnTo>
                            <a:pt x="135" y="1743"/>
                          </a:lnTo>
                          <a:lnTo>
                            <a:pt x="137" y="1745"/>
                          </a:lnTo>
                          <a:lnTo>
                            <a:pt x="139" y="1747"/>
                          </a:lnTo>
                          <a:lnTo>
                            <a:pt x="141" y="1751"/>
                          </a:lnTo>
                          <a:lnTo>
                            <a:pt x="143" y="1755"/>
                          </a:lnTo>
                          <a:lnTo>
                            <a:pt x="143" y="1756"/>
                          </a:lnTo>
                          <a:lnTo>
                            <a:pt x="145" y="1760"/>
                          </a:lnTo>
                          <a:lnTo>
                            <a:pt x="146" y="1762"/>
                          </a:lnTo>
                          <a:lnTo>
                            <a:pt x="148" y="1766"/>
                          </a:lnTo>
                          <a:lnTo>
                            <a:pt x="150" y="1768"/>
                          </a:lnTo>
                          <a:lnTo>
                            <a:pt x="152" y="1770"/>
                          </a:lnTo>
                          <a:lnTo>
                            <a:pt x="156" y="1774"/>
                          </a:lnTo>
                          <a:lnTo>
                            <a:pt x="158" y="1777"/>
                          </a:lnTo>
                          <a:lnTo>
                            <a:pt x="160" y="1779"/>
                          </a:lnTo>
                          <a:lnTo>
                            <a:pt x="160" y="1783"/>
                          </a:lnTo>
                          <a:lnTo>
                            <a:pt x="162" y="1787"/>
                          </a:lnTo>
                          <a:lnTo>
                            <a:pt x="166" y="1789"/>
                          </a:lnTo>
                          <a:lnTo>
                            <a:pt x="166" y="1791"/>
                          </a:lnTo>
                          <a:lnTo>
                            <a:pt x="167" y="1794"/>
                          </a:lnTo>
                          <a:lnTo>
                            <a:pt x="169" y="1796"/>
                          </a:lnTo>
                          <a:lnTo>
                            <a:pt x="171" y="1800"/>
                          </a:lnTo>
                          <a:lnTo>
                            <a:pt x="173" y="1802"/>
                          </a:lnTo>
                          <a:lnTo>
                            <a:pt x="175" y="1806"/>
                          </a:lnTo>
                          <a:lnTo>
                            <a:pt x="177" y="1808"/>
                          </a:lnTo>
                          <a:lnTo>
                            <a:pt x="179" y="1812"/>
                          </a:lnTo>
                          <a:lnTo>
                            <a:pt x="181" y="1815"/>
                          </a:lnTo>
                          <a:lnTo>
                            <a:pt x="183" y="1817"/>
                          </a:lnTo>
                          <a:lnTo>
                            <a:pt x="185" y="1821"/>
                          </a:lnTo>
                          <a:lnTo>
                            <a:pt x="188" y="1827"/>
                          </a:lnTo>
                          <a:lnTo>
                            <a:pt x="190" y="1831"/>
                          </a:lnTo>
                          <a:lnTo>
                            <a:pt x="194" y="1836"/>
                          </a:lnTo>
                          <a:lnTo>
                            <a:pt x="198" y="1842"/>
                          </a:lnTo>
                          <a:lnTo>
                            <a:pt x="200" y="1846"/>
                          </a:lnTo>
                          <a:lnTo>
                            <a:pt x="204" y="1850"/>
                          </a:lnTo>
                          <a:lnTo>
                            <a:pt x="205" y="1853"/>
                          </a:lnTo>
                          <a:lnTo>
                            <a:pt x="207" y="1859"/>
                          </a:lnTo>
                          <a:lnTo>
                            <a:pt x="209" y="1861"/>
                          </a:lnTo>
                          <a:lnTo>
                            <a:pt x="211" y="1863"/>
                          </a:lnTo>
                          <a:lnTo>
                            <a:pt x="213" y="1867"/>
                          </a:lnTo>
                          <a:lnTo>
                            <a:pt x="215" y="1869"/>
                          </a:lnTo>
                          <a:lnTo>
                            <a:pt x="217" y="1870"/>
                          </a:lnTo>
                          <a:lnTo>
                            <a:pt x="219" y="1874"/>
                          </a:lnTo>
                          <a:lnTo>
                            <a:pt x="141" y="2163"/>
                          </a:lnTo>
                          <a:lnTo>
                            <a:pt x="143" y="2165"/>
                          </a:lnTo>
                          <a:lnTo>
                            <a:pt x="146" y="2165"/>
                          </a:lnTo>
                          <a:lnTo>
                            <a:pt x="150" y="2167"/>
                          </a:lnTo>
                          <a:lnTo>
                            <a:pt x="152" y="2167"/>
                          </a:lnTo>
                          <a:lnTo>
                            <a:pt x="154" y="2167"/>
                          </a:lnTo>
                          <a:lnTo>
                            <a:pt x="158" y="2167"/>
                          </a:lnTo>
                          <a:lnTo>
                            <a:pt x="162" y="2171"/>
                          </a:lnTo>
                          <a:lnTo>
                            <a:pt x="166" y="2171"/>
                          </a:lnTo>
                          <a:lnTo>
                            <a:pt x="167" y="2173"/>
                          </a:lnTo>
                          <a:lnTo>
                            <a:pt x="171" y="2173"/>
                          </a:lnTo>
                          <a:lnTo>
                            <a:pt x="175" y="2175"/>
                          </a:lnTo>
                          <a:lnTo>
                            <a:pt x="181" y="2175"/>
                          </a:lnTo>
                          <a:lnTo>
                            <a:pt x="185" y="2175"/>
                          </a:lnTo>
                          <a:lnTo>
                            <a:pt x="188" y="2177"/>
                          </a:lnTo>
                          <a:lnTo>
                            <a:pt x="194" y="2180"/>
                          </a:lnTo>
                          <a:lnTo>
                            <a:pt x="198" y="2180"/>
                          </a:lnTo>
                          <a:lnTo>
                            <a:pt x="204" y="2182"/>
                          </a:lnTo>
                          <a:lnTo>
                            <a:pt x="209" y="2182"/>
                          </a:lnTo>
                          <a:lnTo>
                            <a:pt x="215" y="2184"/>
                          </a:lnTo>
                          <a:lnTo>
                            <a:pt x="219" y="2186"/>
                          </a:lnTo>
                          <a:lnTo>
                            <a:pt x="224" y="2188"/>
                          </a:lnTo>
                          <a:lnTo>
                            <a:pt x="232" y="2188"/>
                          </a:lnTo>
                          <a:lnTo>
                            <a:pt x="238" y="2190"/>
                          </a:lnTo>
                          <a:lnTo>
                            <a:pt x="243" y="2190"/>
                          </a:lnTo>
                          <a:lnTo>
                            <a:pt x="251" y="2192"/>
                          </a:lnTo>
                          <a:lnTo>
                            <a:pt x="257" y="2194"/>
                          </a:lnTo>
                          <a:lnTo>
                            <a:pt x="264" y="2194"/>
                          </a:lnTo>
                          <a:lnTo>
                            <a:pt x="270" y="2196"/>
                          </a:lnTo>
                          <a:lnTo>
                            <a:pt x="276" y="2196"/>
                          </a:lnTo>
                          <a:lnTo>
                            <a:pt x="283" y="2197"/>
                          </a:lnTo>
                          <a:lnTo>
                            <a:pt x="291" y="2199"/>
                          </a:lnTo>
                          <a:lnTo>
                            <a:pt x="297" y="2199"/>
                          </a:lnTo>
                          <a:lnTo>
                            <a:pt x="304" y="2199"/>
                          </a:lnTo>
                          <a:lnTo>
                            <a:pt x="312" y="2199"/>
                          </a:lnTo>
                          <a:lnTo>
                            <a:pt x="320" y="2201"/>
                          </a:lnTo>
                          <a:lnTo>
                            <a:pt x="325" y="2201"/>
                          </a:lnTo>
                          <a:lnTo>
                            <a:pt x="333" y="2201"/>
                          </a:lnTo>
                          <a:lnTo>
                            <a:pt x="341" y="2201"/>
                          </a:lnTo>
                          <a:lnTo>
                            <a:pt x="348" y="2201"/>
                          </a:lnTo>
                          <a:lnTo>
                            <a:pt x="356" y="2201"/>
                          </a:lnTo>
                          <a:lnTo>
                            <a:pt x="363" y="2201"/>
                          </a:lnTo>
                          <a:lnTo>
                            <a:pt x="371" y="2201"/>
                          </a:lnTo>
                          <a:lnTo>
                            <a:pt x="379" y="2201"/>
                          </a:lnTo>
                          <a:lnTo>
                            <a:pt x="386" y="2201"/>
                          </a:lnTo>
                          <a:lnTo>
                            <a:pt x="394" y="2201"/>
                          </a:lnTo>
                          <a:lnTo>
                            <a:pt x="401" y="2199"/>
                          </a:lnTo>
                          <a:lnTo>
                            <a:pt x="409" y="2199"/>
                          </a:lnTo>
                          <a:lnTo>
                            <a:pt x="415" y="2197"/>
                          </a:lnTo>
                          <a:lnTo>
                            <a:pt x="422" y="2196"/>
                          </a:lnTo>
                          <a:lnTo>
                            <a:pt x="432" y="2196"/>
                          </a:lnTo>
                          <a:lnTo>
                            <a:pt x="439" y="2194"/>
                          </a:lnTo>
                          <a:lnTo>
                            <a:pt x="447" y="2192"/>
                          </a:lnTo>
                          <a:lnTo>
                            <a:pt x="455" y="2190"/>
                          </a:lnTo>
                          <a:lnTo>
                            <a:pt x="462" y="2188"/>
                          </a:lnTo>
                          <a:lnTo>
                            <a:pt x="470" y="2188"/>
                          </a:lnTo>
                          <a:lnTo>
                            <a:pt x="476" y="2184"/>
                          </a:lnTo>
                          <a:lnTo>
                            <a:pt x="483" y="2182"/>
                          </a:lnTo>
                          <a:lnTo>
                            <a:pt x="491" y="2180"/>
                          </a:lnTo>
                          <a:lnTo>
                            <a:pt x="498" y="2175"/>
                          </a:lnTo>
                          <a:lnTo>
                            <a:pt x="504" y="2173"/>
                          </a:lnTo>
                          <a:lnTo>
                            <a:pt x="512" y="2169"/>
                          </a:lnTo>
                          <a:lnTo>
                            <a:pt x="517" y="2165"/>
                          </a:lnTo>
                          <a:lnTo>
                            <a:pt x="525" y="2161"/>
                          </a:lnTo>
                          <a:lnTo>
                            <a:pt x="531" y="2158"/>
                          </a:lnTo>
                          <a:lnTo>
                            <a:pt x="536" y="2154"/>
                          </a:lnTo>
                          <a:lnTo>
                            <a:pt x="542" y="2150"/>
                          </a:lnTo>
                          <a:lnTo>
                            <a:pt x="550" y="2146"/>
                          </a:lnTo>
                          <a:lnTo>
                            <a:pt x="555" y="2142"/>
                          </a:lnTo>
                          <a:lnTo>
                            <a:pt x="559" y="2137"/>
                          </a:lnTo>
                          <a:lnTo>
                            <a:pt x="565" y="2133"/>
                          </a:lnTo>
                          <a:lnTo>
                            <a:pt x="571" y="2129"/>
                          </a:lnTo>
                          <a:lnTo>
                            <a:pt x="576" y="2123"/>
                          </a:lnTo>
                          <a:lnTo>
                            <a:pt x="582" y="2120"/>
                          </a:lnTo>
                          <a:lnTo>
                            <a:pt x="588" y="2114"/>
                          </a:lnTo>
                          <a:lnTo>
                            <a:pt x="592" y="2110"/>
                          </a:lnTo>
                          <a:lnTo>
                            <a:pt x="595" y="2106"/>
                          </a:lnTo>
                          <a:lnTo>
                            <a:pt x="601" y="2101"/>
                          </a:lnTo>
                          <a:lnTo>
                            <a:pt x="605" y="2095"/>
                          </a:lnTo>
                          <a:lnTo>
                            <a:pt x="611" y="2091"/>
                          </a:lnTo>
                          <a:lnTo>
                            <a:pt x="614" y="2085"/>
                          </a:lnTo>
                          <a:lnTo>
                            <a:pt x="618" y="2080"/>
                          </a:lnTo>
                          <a:lnTo>
                            <a:pt x="624" y="2076"/>
                          </a:lnTo>
                          <a:lnTo>
                            <a:pt x="628" y="2070"/>
                          </a:lnTo>
                          <a:lnTo>
                            <a:pt x="632" y="2064"/>
                          </a:lnTo>
                          <a:lnTo>
                            <a:pt x="635" y="2059"/>
                          </a:lnTo>
                          <a:lnTo>
                            <a:pt x="637" y="2055"/>
                          </a:lnTo>
                          <a:lnTo>
                            <a:pt x="643" y="2049"/>
                          </a:lnTo>
                          <a:lnTo>
                            <a:pt x="645" y="2043"/>
                          </a:lnTo>
                          <a:lnTo>
                            <a:pt x="649" y="2040"/>
                          </a:lnTo>
                          <a:lnTo>
                            <a:pt x="652" y="2034"/>
                          </a:lnTo>
                          <a:lnTo>
                            <a:pt x="654" y="2030"/>
                          </a:lnTo>
                          <a:lnTo>
                            <a:pt x="658" y="2024"/>
                          </a:lnTo>
                          <a:lnTo>
                            <a:pt x="660" y="2021"/>
                          </a:lnTo>
                          <a:lnTo>
                            <a:pt x="664" y="2015"/>
                          </a:lnTo>
                          <a:lnTo>
                            <a:pt x="666" y="2011"/>
                          </a:lnTo>
                          <a:lnTo>
                            <a:pt x="668" y="2005"/>
                          </a:lnTo>
                          <a:lnTo>
                            <a:pt x="672" y="2002"/>
                          </a:lnTo>
                          <a:lnTo>
                            <a:pt x="673" y="1998"/>
                          </a:lnTo>
                          <a:lnTo>
                            <a:pt x="675" y="1992"/>
                          </a:lnTo>
                          <a:lnTo>
                            <a:pt x="677" y="1986"/>
                          </a:lnTo>
                          <a:lnTo>
                            <a:pt x="679" y="1983"/>
                          </a:lnTo>
                          <a:lnTo>
                            <a:pt x="681" y="1979"/>
                          </a:lnTo>
                          <a:lnTo>
                            <a:pt x="683" y="1975"/>
                          </a:lnTo>
                          <a:lnTo>
                            <a:pt x="685" y="1971"/>
                          </a:lnTo>
                          <a:lnTo>
                            <a:pt x="687" y="1969"/>
                          </a:lnTo>
                          <a:lnTo>
                            <a:pt x="689" y="1964"/>
                          </a:lnTo>
                          <a:lnTo>
                            <a:pt x="691" y="1962"/>
                          </a:lnTo>
                          <a:lnTo>
                            <a:pt x="692" y="1958"/>
                          </a:lnTo>
                          <a:lnTo>
                            <a:pt x="692" y="1954"/>
                          </a:lnTo>
                          <a:lnTo>
                            <a:pt x="692" y="1952"/>
                          </a:lnTo>
                          <a:lnTo>
                            <a:pt x="694" y="1950"/>
                          </a:lnTo>
                          <a:lnTo>
                            <a:pt x="696" y="1945"/>
                          </a:lnTo>
                          <a:lnTo>
                            <a:pt x="698" y="1941"/>
                          </a:lnTo>
                          <a:lnTo>
                            <a:pt x="700" y="1937"/>
                          </a:lnTo>
                          <a:lnTo>
                            <a:pt x="700" y="1935"/>
                          </a:lnTo>
                          <a:lnTo>
                            <a:pt x="700" y="1933"/>
                          </a:lnTo>
                          <a:lnTo>
                            <a:pt x="702" y="1933"/>
                          </a:lnTo>
                          <a:lnTo>
                            <a:pt x="740" y="1943"/>
                          </a:lnTo>
                          <a:lnTo>
                            <a:pt x="740" y="1943"/>
                          </a:lnTo>
                          <a:lnTo>
                            <a:pt x="738" y="1945"/>
                          </a:lnTo>
                          <a:lnTo>
                            <a:pt x="738" y="1947"/>
                          </a:lnTo>
                          <a:lnTo>
                            <a:pt x="738" y="1950"/>
                          </a:lnTo>
                          <a:lnTo>
                            <a:pt x="738" y="1954"/>
                          </a:lnTo>
                          <a:lnTo>
                            <a:pt x="738" y="1958"/>
                          </a:lnTo>
                          <a:lnTo>
                            <a:pt x="736" y="1962"/>
                          </a:lnTo>
                          <a:lnTo>
                            <a:pt x="736" y="1964"/>
                          </a:lnTo>
                          <a:lnTo>
                            <a:pt x="736" y="1967"/>
                          </a:lnTo>
                          <a:lnTo>
                            <a:pt x="736" y="1971"/>
                          </a:lnTo>
                          <a:lnTo>
                            <a:pt x="736" y="1975"/>
                          </a:lnTo>
                          <a:lnTo>
                            <a:pt x="736" y="1979"/>
                          </a:lnTo>
                          <a:lnTo>
                            <a:pt x="736" y="1983"/>
                          </a:lnTo>
                          <a:lnTo>
                            <a:pt x="736" y="1985"/>
                          </a:lnTo>
                          <a:lnTo>
                            <a:pt x="736" y="1990"/>
                          </a:lnTo>
                          <a:lnTo>
                            <a:pt x="736" y="1994"/>
                          </a:lnTo>
                          <a:lnTo>
                            <a:pt x="736" y="1998"/>
                          </a:lnTo>
                          <a:lnTo>
                            <a:pt x="736" y="2004"/>
                          </a:lnTo>
                          <a:lnTo>
                            <a:pt x="736" y="2007"/>
                          </a:lnTo>
                          <a:lnTo>
                            <a:pt x="736" y="2013"/>
                          </a:lnTo>
                          <a:lnTo>
                            <a:pt x="736" y="2015"/>
                          </a:lnTo>
                          <a:lnTo>
                            <a:pt x="736" y="2021"/>
                          </a:lnTo>
                          <a:lnTo>
                            <a:pt x="736" y="2026"/>
                          </a:lnTo>
                          <a:lnTo>
                            <a:pt x="736" y="2030"/>
                          </a:lnTo>
                          <a:lnTo>
                            <a:pt x="736" y="2036"/>
                          </a:lnTo>
                          <a:lnTo>
                            <a:pt x="736" y="2042"/>
                          </a:lnTo>
                          <a:lnTo>
                            <a:pt x="736" y="2047"/>
                          </a:lnTo>
                          <a:lnTo>
                            <a:pt x="738" y="2051"/>
                          </a:lnTo>
                          <a:lnTo>
                            <a:pt x="738" y="2057"/>
                          </a:lnTo>
                          <a:lnTo>
                            <a:pt x="738" y="2062"/>
                          </a:lnTo>
                          <a:lnTo>
                            <a:pt x="740" y="2066"/>
                          </a:lnTo>
                          <a:lnTo>
                            <a:pt x="740" y="2072"/>
                          </a:lnTo>
                          <a:lnTo>
                            <a:pt x="742" y="2078"/>
                          </a:lnTo>
                          <a:lnTo>
                            <a:pt x="744" y="2083"/>
                          </a:lnTo>
                          <a:lnTo>
                            <a:pt x="744" y="2091"/>
                          </a:lnTo>
                          <a:lnTo>
                            <a:pt x="746" y="2095"/>
                          </a:lnTo>
                          <a:lnTo>
                            <a:pt x="748" y="2101"/>
                          </a:lnTo>
                          <a:lnTo>
                            <a:pt x="748" y="2106"/>
                          </a:lnTo>
                          <a:lnTo>
                            <a:pt x="751" y="2110"/>
                          </a:lnTo>
                          <a:lnTo>
                            <a:pt x="753" y="2118"/>
                          </a:lnTo>
                          <a:lnTo>
                            <a:pt x="753" y="2123"/>
                          </a:lnTo>
                          <a:lnTo>
                            <a:pt x="757" y="2129"/>
                          </a:lnTo>
                          <a:lnTo>
                            <a:pt x="759" y="2135"/>
                          </a:lnTo>
                          <a:lnTo>
                            <a:pt x="761" y="2139"/>
                          </a:lnTo>
                          <a:lnTo>
                            <a:pt x="765" y="2144"/>
                          </a:lnTo>
                          <a:lnTo>
                            <a:pt x="767" y="2150"/>
                          </a:lnTo>
                          <a:lnTo>
                            <a:pt x="769" y="2156"/>
                          </a:lnTo>
                          <a:lnTo>
                            <a:pt x="772" y="2159"/>
                          </a:lnTo>
                          <a:lnTo>
                            <a:pt x="776" y="2165"/>
                          </a:lnTo>
                          <a:lnTo>
                            <a:pt x="780" y="2171"/>
                          </a:lnTo>
                          <a:lnTo>
                            <a:pt x="782" y="2175"/>
                          </a:lnTo>
                          <a:lnTo>
                            <a:pt x="786" y="2180"/>
                          </a:lnTo>
                          <a:lnTo>
                            <a:pt x="789" y="2186"/>
                          </a:lnTo>
                          <a:lnTo>
                            <a:pt x="795" y="2190"/>
                          </a:lnTo>
                          <a:lnTo>
                            <a:pt x="799" y="2196"/>
                          </a:lnTo>
                          <a:lnTo>
                            <a:pt x="805" y="2201"/>
                          </a:lnTo>
                          <a:lnTo>
                            <a:pt x="808" y="2205"/>
                          </a:lnTo>
                          <a:lnTo>
                            <a:pt x="814" y="2209"/>
                          </a:lnTo>
                          <a:lnTo>
                            <a:pt x="818" y="2213"/>
                          </a:lnTo>
                          <a:lnTo>
                            <a:pt x="824" y="2216"/>
                          </a:lnTo>
                          <a:lnTo>
                            <a:pt x="828" y="2222"/>
                          </a:lnTo>
                          <a:lnTo>
                            <a:pt x="833" y="2224"/>
                          </a:lnTo>
                          <a:lnTo>
                            <a:pt x="839" y="2228"/>
                          </a:lnTo>
                          <a:lnTo>
                            <a:pt x="845" y="2232"/>
                          </a:lnTo>
                          <a:lnTo>
                            <a:pt x="848" y="2235"/>
                          </a:lnTo>
                          <a:lnTo>
                            <a:pt x="854" y="2239"/>
                          </a:lnTo>
                          <a:lnTo>
                            <a:pt x="858" y="2243"/>
                          </a:lnTo>
                          <a:lnTo>
                            <a:pt x="864" y="2245"/>
                          </a:lnTo>
                          <a:lnTo>
                            <a:pt x="867" y="2249"/>
                          </a:lnTo>
                          <a:lnTo>
                            <a:pt x="873" y="2253"/>
                          </a:lnTo>
                          <a:lnTo>
                            <a:pt x="877" y="2256"/>
                          </a:lnTo>
                          <a:lnTo>
                            <a:pt x="883" y="2258"/>
                          </a:lnTo>
                          <a:lnTo>
                            <a:pt x="890" y="2260"/>
                          </a:lnTo>
                          <a:lnTo>
                            <a:pt x="896" y="2264"/>
                          </a:lnTo>
                          <a:lnTo>
                            <a:pt x="900" y="2266"/>
                          </a:lnTo>
                          <a:lnTo>
                            <a:pt x="904" y="2268"/>
                          </a:lnTo>
                          <a:lnTo>
                            <a:pt x="907" y="2270"/>
                          </a:lnTo>
                          <a:lnTo>
                            <a:pt x="913" y="2273"/>
                          </a:lnTo>
                          <a:lnTo>
                            <a:pt x="919" y="2275"/>
                          </a:lnTo>
                          <a:lnTo>
                            <a:pt x="925" y="2277"/>
                          </a:lnTo>
                          <a:lnTo>
                            <a:pt x="928" y="2279"/>
                          </a:lnTo>
                          <a:lnTo>
                            <a:pt x="934" y="2281"/>
                          </a:lnTo>
                          <a:lnTo>
                            <a:pt x="938" y="2283"/>
                          </a:lnTo>
                          <a:lnTo>
                            <a:pt x="942" y="2285"/>
                          </a:lnTo>
                          <a:lnTo>
                            <a:pt x="947" y="2287"/>
                          </a:lnTo>
                          <a:lnTo>
                            <a:pt x="951" y="2289"/>
                          </a:lnTo>
                          <a:lnTo>
                            <a:pt x="955" y="2289"/>
                          </a:lnTo>
                          <a:lnTo>
                            <a:pt x="961" y="2291"/>
                          </a:lnTo>
                          <a:lnTo>
                            <a:pt x="964" y="2291"/>
                          </a:lnTo>
                          <a:lnTo>
                            <a:pt x="968" y="2294"/>
                          </a:lnTo>
                          <a:lnTo>
                            <a:pt x="972" y="2294"/>
                          </a:lnTo>
                          <a:lnTo>
                            <a:pt x="978" y="2294"/>
                          </a:lnTo>
                          <a:lnTo>
                            <a:pt x="982" y="2296"/>
                          </a:lnTo>
                          <a:lnTo>
                            <a:pt x="985" y="2296"/>
                          </a:lnTo>
                          <a:lnTo>
                            <a:pt x="989" y="2296"/>
                          </a:lnTo>
                          <a:lnTo>
                            <a:pt x="993" y="2298"/>
                          </a:lnTo>
                          <a:lnTo>
                            <a:pt x="997" y="2298"/>
                          </a:lnTo>
                          <a:lnTo>
                            <a:pt x="1001" y="2298"/>
                          </a:lnTo>
                          <a:lnTo>
                            <a:pt x="1004" y="2298"/>
                          </a:lnTo>
                          <a:lnTo>
                            <a:pt x="1008" y="2300"/>
                          </a:lnTo>
                          <a:lnTo>
                            <a:pt x="1010" y="2300"/>
                          </a:lnTo>
                          <a:lnTo>
                            <a:pt x="1014" y="2300"/>
                          </a:lnTo>
                          <a:lnTo>
                            <a:pt x="1016" y="2300"/>
                          </a:lnTo>
                          <a:lnTo>
                            <a:pt x="1020" y="2300"/>
                          </a:lnTo>
                          <a:lnTo>
                            <a:pt x="1022" y="2300"/>
                          </a:lnTo>
                          <a:lnTo>
                            <a:pt x="1025" y="2302"/>
                          </a:lnTo>
                          <a:lnTo>
                            <a:pt x="1029" y="2300"/>
                          </a:lnTo>
                          <a:lnTo>
                            <a:pt x="1035" y="2300"/>
                          </a:lnTo>
                          <a:lnTo>
                            <a:pt x="1039" y="2298"/>
                          </a:lnTo>
                          <a:lnTo>
                            <a:pt x="1042" y="2298"/>
                          </a:lnTo>
                          <a:lnTo>
                            <a:pt x="1044" y="2296"/>
                          </a:lnTo>
                          <a:lnTo>
                            <a:pt x="1048" y="2296"/>
                          </a:lnTo>
                          <a:lnTo>
                            <a:pt x="1048" y="2294"/>
                          </a:lnTo>
                          <a:lnTo>
                            <a:pt x="1050" y="2294"/>
                          </a:lnTo>
                          <a:lnTo>
                            <a:pt x="1246" y="1334"/>
                          </a:lnTo>
                          <a:lnTo>
                            <a:pt x="1246" y="1333"/>
                          </a:lnTo>
                          <a:lnTo>
                            <a:pt x="1248" y="1331"/>
                          </a:lnTo>
                          <a:lnTo>
                            <a:pt x="1250" y="1327"/>
                          </a:lnTo>
                          <a:lnTo>
                            <a:pt x="1252" y="1325"/>
                          </a:lnTo>
                          <a:lnTo>
                            <a:pt x="1252" y="1323"/>
                          </a:lnTo>
                          <a:lnTo>
                            <a:pt x="1254" y="1319"/>
                          </a:lnTo>
                          <a:lnTo>
                            <a:pt x="1256" y="1315"/>
                          </a:lnTo>
                          <a:lnTo>
                            <a:pt x="1259" y="1312"/>
                          </a:lnTo>
                          <a:lnTo>
                            <a:pt x="1259" y="1306"/>
                          </a:lnTo>
                          <a:lnTo>
                            <a:pt x="1263" y="1302"/>
                          </a:lnTo>
                          <a:lnTo>
                            <a:pt x="1265" y="1296"/>
                          </a:lnTo>
                          <a:lnTo>
                            <a:pt x="1269" y="1293"/>
                          </a:lnTo>
                          <a:lnTo>
                            <a:pt x="1271" y="1285"/>
                          </a:lnTo>
                          <a:lnTo>
                            <a:pt x="1275" y="1281"/>
                          </a:lnTo>
                          <a:lnTo>
                            <a:pt x="1276" y="1274"/>
                          </a:lnTo>
                          <a:lnTo>
                            <a:pt x="1280" y="1266"/>
                          </a:lnTo>
                          <a:lnTo>
                            <a:pt x="1284" y="1258"/>
                          </a:lnTo>
                          <a:lnTo>
                            <a:pt x="1288" y="1249"/>
                          </a:lnTo>
                          <a:lnTo>
                            <a:pt x="1290" y="1241"/>
                          </a:lnTo>
                          <a:lnTo>
                            <a:pt x="1294" y="1234"/>
                          </a:lnTo>
                          <a:lnTo>
                            <a:pt x="1297" y="1224"/>
                          </a:lnTo>
                          <a:lnTo>
                            <a:pt x="1301" y="1217"/>
                          </a:lnTo>
                          <a:lnTo>
                            <a:pt x="1305" y="1207"/>
                          </a:lnTo>
                          <a:lnTo>
                            <a:pt x="1309" y="1198"/>
                          </a:lnTo>
                          <a:lnTo>
                            <a:pt x="1313" y="1188"/>
                          </a:lnTo>
                          <a:lnTo>
                            <a:pt x="1316" y="1177"/>
                          </a:lnTo>
                          <a:lnTo>
                            <a:pt x="1320" y="1165"/>
                          </a:lnTo>
                          <a:lnTo>
                            <a:pt x="1324" y="1154"/>
                          </a:lnTo>
                          <a:lnTo>
                            <a:pt x="1330" y="1144"/>
                          </a:lnTo>
                          <a:lnTo>
                            <a:pt x="1334" y="1133"/>
                          </a:lnTo>
                          <a:lnTo>
                            <a:pt x="1337" y="1122"/>
                          </a:lnTo>
                          <a:lnTo>
                            <a:pt x="1339" y="1108"/>
                          </a:lnTo>
                          <a:lnTo>
                            <a:pt x="1345" y="1097"/>
                          </a:lnTo>
                          <a:lnTo>
                            <a:pt x="1349" y="1084"/>
                          </a:lnTo>
                          <a:lnTo>
                            <a:pt x="1353" y="1070"/>
                          </a:lnTo>
                          <a:lnTo>
                            <a:pt x="1354" y="1059"/>
                          </a:lnTo>
                          <a:lnTo>
                            <a:pt x="1358" y="1044"/>
                          </a:lnTo>
                          <a:lnTo>
                            <a:pt x="1362" y="1032"/>
                          </a:lnTo>
                          <a:lnTo>
                            <a:pt x="1366" y="1017"/>
                          </a:lnTo>
                          <a:lnTo>
                            <a:pt x="1370" y="1004"/>
                          </a:lnTo>
                          <a:lnTo>
                            <a:pt x="1372" y="988"/>
                          </a:lnTo>
                          <a:lnTo>
                            <a:pt x="1375" y="975"/>
                          </a:lnTo>
                          <a:lnTo>
                            <a:pt x="1377" y="960"/>
                          </a:lnTo>
                          <a:lnTo>
                            <a:pt x="1381" y="947"/>
                          </a:lnTo>
                          <a:lnTo>
                            <a:pt x="1383" y="931"/>
                          </a:lnTo>
                          <a:lnTo>
                            <a:pt x="1387" y="916"/>
                          </a:lnTo>
                          <a:lnTo>
                            <a:pt x="1389" y="901"/>
                          </a:lnTo>
                          <a:lnTo>
                            <a:pt x="1391" y="886"/>
                          </a:lnTo>
                          <a:lnTo>
                            <a:pt x="1392" y="871"/>
                          </a:lnTo>
                          <a:lnTo>
                            <a:pt x="1394" y="855"/>
                          </a:lnTo>
                          <a:lnTo>
                            <a:pt x="1396" y="838"/>
                          </a:lnTo>
                          <a:lnTo>
                            <a:pt x="1398" y="823"/>
                          </a:lnTo>
                          <a:lnTo>
                            <a:pt x="1398" y="806"/>
                          </a:lnTo>
                          <a:lnTo>
                            <a:pt x="1400" y="791"/>
                          </a:lnTo>
                          <a:lnTo>
                            <a:pt x="1402" y="774"/>
                          </a:lnTo>
                          <a:lnTo>
                            <a:pt x="1402" y="757"/>
                          </a:lnTo>
                          <a:lnTo>
                            <a:pt x="1402" y="741"/>
                          </a:lnTo>
                          <a:lnTo>
                            <a:pt x="1402" y="724"/>
                          </a:lnTo>
                          <a:lnTo>
                            <a:pt x="1402" y="705"/>
                          </a:lnTo>
                          <a:lnTo>
                            <a:pt x="1402" y="690"/>
                          </a:lnTo>
                          <a:lnTo>
                            <a:pt x="1400" y="673"/>
                          </a:lnTo>
                          <a:lnTo>
                            <a:pt x="1400" y="656"/>
                          </a:lnTo>
                          <a:lnTo>
                            <a:pt x="1398" y="654"/>
                          </a:lnTo>
                          <a:lnTo>
                            <a:pt x="1398" y="652"/>
                          </a:lnTo>
                          <a:lnTo>
                            <a:pt x="1398" y="648"/>
                          </a:lnTo>
                          <a:lnTo>
                            <a:pt x="1398" y="644"/>
                          </a:lnTo>
                          <a:lnTo>
                            <a:pt x="1398" y="643"/>
                          </a:lnTo>
                          <a:lnTo>
                            <a:pt x="1398" y="639"/>
                          </a:lnTo>
                          <a:lnTo>
                            <a:pt x="1396" y="637"/>
                          </a:lnTo>
                          <a:lnTo>
                            <a:pt x="1396" y="633"/>
                          </a:lnTo>
                          <a:lnTo>
                            <a:pt x="1396" y="631"/>
                          </a:lnTo>
                          <a:lnTo>
                            <a:pt x="1396" y="627"/>
                          </a:lnTo>
                          <a:lnTo>
                            <a:pt x="1396" y="623"/>
                          </a:lnTo>
                          <a:lnTo>
                            <a:pt x="1394" y="620"/>
                          </a:lnTo>
                          <a:lnTo>
                            <a:pt x="1394" y="618"/>
                          </a:lnTo>
                          <a:lnTo>
                            <a:pt x="1394" y="616"/>
                          </a:lnTo>
                          <a:lnTo>
                            <a:pt x="1392" y="612"/>
                          </a:lnTo>
                          <a:lnTo>
                            <a:pt x="1392" y="610"/>
                          </a:lnTo>
                          <a:lnTo>
                            <a:pt x="1392" y="608"/>
                          </a:lnTo>
                          <a:lnTo>
                            <a:pt x="1391" y="604"/>
                          </a:lnTo>
                          <a:lnTo>
                            <a:pt x="1391" y="603"/>
                          </a:lnTo>
                          <a:lnTo>
                            <a:pt x="1391" y="599"/>
                          </a:lnTo>
                          <a:lnTo>
                            <a:pt x="1389" y="597"/>
                          </a:lnTo>
                          <a:lnTo>
                            <a:pt x="1389" y="593"/>
                          </a:lnTo>
                          <a:lnTo>
                            <a:pt x="1389" y="589"/>
                          </a:lnTo>
                          <a:lnTo>
                            <a:pt x="1389" y="587"/>
                          </a:lnTo>
                          <a:lnTo>
                            <a:pt x="1387" y="585"/>
                          </a:lnTo>
                          <a:lnTo>
                            <a:pt x="1385" y="582"/>
                          </a:lnTo>
                          <a:lnTo>
                            <a:pt x="1385" y="580"/>
                          </a:lnTo>
                          <a:lnTo>
                            <a:pt x="1383" y="578"/>
                          </a:lnTo>
                          <a:lnTo>
                            <a:pt x="1383" y="572"/>
                          </a:lnTo>
                          <a:lnTo>
                            <a:pt x="1381" y="568"/>
                          </a:lnTo>
                          <a:lnTo>
                            <a:pt x="1377" y="563"/>
                          </a:lnTo>
                          <a:lnTo>
                            <a:pt x="1375" y="557"/>
                          </a:lnTo>
                          <a:lnTo>
                            <a:pt x="1373" y="553"/>
                          </a:lnTo>
                          <a:lnTo>
                            <a:pt x="1370" y="547"/>
                          </a:lnTo>
                          <a:lnTo>
                            <a:pt x="1366" y="544"/>
                          </a:lnTo>
                          <a:lnTo>
                            <a:pt x="1364" y="540"/>
                          </a:lnTo>
                          <a:lnTo>
                            <a:pt x="1360" y="536"/>
                          </a:lnTo>
                          <a:lnTo>
                            <a:pt x="1356" y="532"/>
                          </a:lnTo>
                          <a:lnTo>
                            <a:pt x="1353" y="528"/>
                          </a:lnTo>
                          <a:lnTo>
                            <a:pt x="1349" y="525"/>
                          </a:lnTo>
                          <a:lnTo>
                            <a:pt x="1345" y="523"/>
                          </a:lnTo>
                          <a:lnTo>
                            <a:pt x="1339" y="521"/>
                          </a:lnTo>
                          <a:lnTo>
                            <a:pt x="1335" y="517"/>
                          </a:lnTo>
                          <a:lnTo>
                            <a:pt x="1332" y="515"/>
                          </a:lnTo>
                          <a:lnTo>
                            <a:pt x="1326" y="515"/>
                          </a:lnTo>
                          <a:lnTo>
                            <a:pt x="1322" y="513"/>
                          </a:lnTo>
                          <a:lnTo>
                            <a:pt x="1318" y="511"/>
                          </a:lnTo>
                          <a:lnTo>
                            <a:pt x="1316" y="511"/>
                          </a:lnTo>
                          <a:lnTo>
                            <a:pt x="1313" y="511"/>
                          </a:lnTo>
                          <a:lnTo>
                            <a:pt x="1311" y="511"/>
                          </a:lnTo>
                          <a:lnTo>
                            <a:pt x="1309" y="509"/>
                          </a:lnTo>
                          <a:lnTo>
                            <a:pt x="1305" y="509"/>
                          </a:lnTo>
                          <a:lnTo>
                            <a:pt x="1303" y="509"/>
                          </a:lnTo>
                          <a:lnTo>
                            <a:pt x="1301" y="509"/>
                          </a:lnTo>
                          <a:lnTo>
                            <a:pt x="1297" y="509"/>
                          </a:lnTo>
                          <a:lnTo>
                            <a:pt x="1295" y="509"/>
                          </a:lnTo>
                          <a:lnTo>
                            <a:pt x="1292" y="509"/>
                          </a:lnTo>
                          <a:lnTo>
                            <a:pt x="1290" y="509"/>
                          </a:lnTo>
                          <a:lnTo>
                            <a:pt x="1284" y="509"/>
                          </a:lnTo>
                          <a:lnTo>
                            <a:pt x="1280" y="509"/>
                          </a:lnTo>
                          <a:lnTo>
                            <a:pt x="1275" y="509"/>
                          </a:lnTo>
                          <a:lnTo>
                            <a:pt x="1269" y="509"/>
                          </a:lnTo>
                          <a:lnTo>
                            <a:pt x="1265" y="509"/>
                          </a:lnTo>
                          <a:lnTo>
                            <a:pt x="1259" y="509"/>
                          </a:lnTo>
                          <a:lnTo>
                            <a:pt x="1256" y="511"/>
                          </a:lnTo>
                          <a:lnTo>
                            <a:pt x="1252" y="511"/>
                          </a:lnTo>
                          <a:lnTo>
                            <a:pt x="1246" y="515"/>
                          </a:lnTo>
                          <a:lnTo>
                            <a:pt x="1242" y="515"/>
                          </a:lnTo>
                          <a:lnTo>
                            <a:pt x="1238" y="517"/>
                          </a:lnTo>
                          <a:lnTo>
                            <a:pt x="1235" y="521"/>
                          </a:lnTo>
                          <a:lnTo>
                            <a:pt x="1231" y="523"/>
                          </a:lnTo>
                          <a:lnTo>
                            <a:pt x="1229" y="525"/>
                          </a:lnTo>
                          <a:lnTo>
                            <a:pt x="1225" y="527"/>
                          </a:lnTo>
                          <a:lnTo>
                            <a:pt x="1221" y="530"/>
                          </a:lnTo>
                          <a:lnTo>
                            <a:pt x="1219" y="532"/>
                          </a:lnTo>
                          <a:lnTo>
                            <a:pt x="1216" y="538"/>
                          </a:lnTo>
                          <a:lnTo>
                            <a:pt x="1214" y="542"/>
                          </a:lnTo>
                          <a:lnTo>
                            <a:pt x="1212" y="546"/>
                          </a:lnTo>
                          <a:lnTo>
                            <a:pt x="1210" y="549"/>
                          </a:lnTo>
                          <a:lnTo>
                            <a:pt x="1208" y="555"/>
                          </a:lnTo>
                          <a:lnTo>
                            <a:pt x="1208" y="557"/>
                          </a:lnTo>
                          <a:lnTo>
                            <a:pt x="1206" y="559"/>
                          </a:lnTo>
                          <a:lnTo>
                            <a:pt x="1204" y="561"/>
                          </a:lnTo>
                          <a:lnTo>
                            <a:pt x="1204" y="565"/>
                          </a:lnTo>
                          <a:lnTo>
                            <a:pt x="1204" y="566"/>
                          </a:lnTo>
                          <a:lnTo>
                            <a:pt x="1204" y="570"/>
                          </a:lnTo>
                          <a:lnTo>
                            <a:pt x="1204" y="572"/>
                          </a:lnTo>
                          <a:lnTo>
                            <a:pt x="1204" y="576"/>
                          </a:lnTo>
                          <a:lnTo>
                            <a:pt x="1139" y="895"/>
                          </a:lnTo>
                          <a:lnTo>
                            <a:pt x="1136" y="893"/>
                          </a:lnTo>
                          <a:lnTo>
                            <a:pt x="1132" y="892"/>
                          </a:lnTo>
                          <a:lnTo>
                            <a:pt x="1126" y="888"/>
                          </a:lnTo>
                          <a:lnTo>
                            <a:pt x="1122" y="886"/>
                          </a:lnTo>
                          <a:lnTo>
                            <a:pt x="1117" y="884"/>
                          </a:lnTo>
                          <a:lnTo>
                            <a:pt x="1113" y="880"/>
                          </a:lnTo>
                          <a:lnTo>
                            <a:pt x="1107" y="878"/>
                          </a:lnTo>
                          <a:lnTo>
                            <a:pt x="1105" y="876"/>
                          </a:lnTo>
                          <a:lnTo>
                            <a:pt x="1227" y="316"/>
                          </a:lnTo>
                          <a:lnTo>
                            <a:pt x="1227" y="312"/>
                          </a:lnTo>
                          <a:lnTo>
                            <a:pt x="1227" y="308"/>
                          </a:lnTo>
                          <a:lnTo>
                            <a:pt x="1229" y="306"/>
                          </a:lnTo>
                          <a:lnTo>
                            <a:pt x="1229" y="304"/>
                          </a:lnTo>
                          <a:lnTo>
                            <a:pt x="1229" y="300"/>
                          </a:lnTo>
                          <a:lnTo>
                            <a:pt x="1229" y="298"/>
                          </a:lnTo>
                          <a:lnTo>
                            <a:pt x="1229" y="295"/>
                          </a:lnTo>
                          <a:lnTo>
                            <a:pt x="1229" y="293"/>
                          </a:lnTo>
                          <a:lnTo>
                            <a:pt x="1229" y="291"/>
                          </a:lnTo>
                          <a:lnTo>
                            <a:pt x="1229" y="287"/>
                          </a:lnTo>
                          <a:lnTo>
                            <a:pt x="1229" y="285"/>
                          </a:lnTo>
                          <a:lnTo>
                            <a:pt x="1229" y="283"/>
                          </a:lnTo>
                          <a:lnTo>
                            <a:pt x="1229" y="278"/>
                          </a:lnTo>
                          <a:lnTo>
                            <a:pt x="1227" y="272"/>
                          </a:lnTo>
                          <a:lnTo>
                            <a:pt x="1225" y="268"/>
                          </a:lnTo>
                          <a:lnTo>
                            <a:pt x="1225" y="262"/>
                          </a:lnTo>
                          <a:lnTo>
                            <a:pt x="1223" y="257"/>
                          </a:lnTo>
                          <a:lnTo>
                            <a:pt x="1221" y="253"/>
                          </a:lnTo>
                          <a:lnTo>
                            <a:pt x="1219" y="247"/>
                          </a:lnTo>
                          <a:lnTo>
                            <a:pt x="1217" y="243"/>
                          </a:lnTo>
                          <a:lnTo>
                            <a:pt x="1216" y="240"/>
                          </a:lnTo>
                          <a:lnTo>
                            <a:pt x="1214" y="236"/>
                          </a:lnTo>
                          <a:lnTo>
                            <a:pt x="1210" y="232"/>
                          </a:lnTo>
                          <a:lnTo>
                            <a:pt x="1206" y="226"/>
                          </a:lnTo>
                          <a:lnTo>
                            <a:pt x="1202" y="222"/>
                          </a:lnTo>
                          <a:lnTo>
                            <a:pt x="1200" y="219"/>
                          </a:lnTo>
                          <a:lnTo>
                            <a:pt x="1197" y="215"/>
                          </a:lnTo>
                          <a:lnTo>
                            <a:pt x="1193" y="211"/>
                          </a:lnTo>
                          <a:lnTo>
                            <a:pt x="1189" y="207"/>
                          </a:lnTo>
                          <a:lnTo>
                            <a:pt x="1185" y="205"/>
                          </a:lnTo>
                          <a:lnTo>
                            <a:pt x="1179" y="203"/>
                          </a:lnTo>
                          <a:lnTo>
                            <a:pt x="1176" y="200"/>
                          </a:lnTo>
                          <a:lnTo>
                            <a:pt x="1172" y="198"/>
                          </a:lnTo>
                          <a:lnTo>
                            <a:pt x="1166" y="194"/>
                          </a:lnTo>
                          <a:lnTo>
                            <a:pt x="1160" y="192"/>
                          </a:lnTo>
                          <a:lnTo>
                            <a:pt x="1157" y="192"/>
                          </a:lnTo>
                          <a:lnTo>
                            <a:pt x="1151" y="190"/>
                          </a:lnTo>
                          <a:lnTo>
                            <a:pt x="1147" y="190"/>
                          </a:lnTo>
                          <a:lnTo>
                            <a:pt x="1143" y="188"/>
                          </a:lnTo>
                          <a:lnTo>
                            <a:pt x="1141" y="186"/>
                          </a:lnTo>
                          <a:lnTo>
                            <a:pt x="1138" y="186"/>
                          </a:lnTo>
                          <a:lnTo>
                            <a:pt x="1136" y="186"/>
                          </a:lnTo>
                          <a:lnTo>
                            <a:pt x="1134" y="186"/>
                          </a:lnTo>
                          <a:lnTo>
                            <a:pt x="1130" y="186"/>
                          </a:lnTo>
                          <a:lnTo>
                            <a:pt x="1128" y="186"/>
                          </a:lnTo>
                          <a:lnTo>
                            <a:pt x="1124" y="186"/>
                          </a:lnTo>
                          <a:lnTo>
                            <a:pt x="1122" y="186"/>
                          </a:lnTo>
                          <a:lnTo>
                            <a:pt x="1120" y="186"/>
                          </a:lnTo>
                          <a:lnTo>
                            <a:pt x="1117" y="186"/>
                          </a:lnTo>
                          <a:lnTo>
                            <a:pt x="1115" y="186"/>
                          </a:lnTo>
                          <a:lnTo>
                            <a:pt x="1109" y="186"/>
                          </a:lnTo>
                          <a:lnTo>
                            <a:pt x="1105" y="188"/>
                          </a:lnTo>
                          <a:lnTo>
                            <a:pt x="1100" y="188"/>
                          </a:lnTo>
                          <a:lnTo>
                            <a:pt x="1094" y="190"/>
                          </a:lnTo>
                          <a:lnTo>
                            <a:pt x="1090" y="192"/>
                          </a:lnTo>
                          <a:lnTo>
                            <a:pt x="1086" y="192"/>
                          </a:lnTo>
                          <a:lnTo>
                            <a:pt x="1081" y="194"/>
                          </a:lnTo>
                          <a:lnTo>
                            <a:pt x="1077" y="198"/>
                          </a:lnTo>
                          <a:lnTo>
                            <a:pt x="1073" y="200"/>
                          </a:lnTo>
                          <a:lnTo>
                            <a:pt x="1067" y="203"/>
                          </a:lnTo>
                          <a:lnTo>
                            <a:pt x="1063" y="205"/>
                          </a:lnTo>
                          <a:lnTo>
                            <a:pt x="1058" y="207"/>
                          </a:lnTo>
                          <a:lnTo>
                            <a:pt x="1054" y="211"/>
                          </a:lnTo>
                          <a:lnTo>
                            <a:pt x="1050" y="215"/>
                          </a:lnTo>
                          <a:lnTo>
                            <a:pt x="1048" y="219"/>
                          </a:lnTo>
                          <a:lnTo>
                            <a:pt x="1044" y="222"/>
                          </a:lnTo>
                          <a:lnTo>
                            <a:pt x="1041" y="226"/>
                          </a:lnTo>
                          <a:lnTo>
                            <a:pt x="1039" y="232"/>
                          </a:lnTo>
                          <a:lnTo>
                            <a:pt x="1035" y="234"/>
                          </a:lnTo>
                          <a:lnTo>
                            <a:pt x="1033" y="240"/>
                          </a:lnTo>
                          <a:lnTo>
                            <a:pt x="1029" y="243"/>
                          </a:lnTo>
                          <a:lnTo>
                            <a:pt x="1027" y="249"/>
                          </a:lnTo>
                          <a:lnTo>
                            <a:pt x="1025" y="253"/>
                          </a:lnTo>
                          <a:lnTo>
                            <a:pt x="1023" y="259"/>
                          </a:lnTo>
                          <a:lnTo>
                            <a:pt x="1022" y="260"/>
                          </a:lnTo>
                          <a:lnTo>
                            <a:pt x="1022" y="264"/>
                          </a:lnTo>
                          <a:lnTo>
                            <a:pt x="1022" y="266"/>
                          </a:lnTo>
                          <a:lnTo>
                            <a:pt x="1022" y="270"/>
                          </a:lnTo>
                          <a:lnTo>
                            <a:pt x="919" y="730"/>
                          </a:lnTo>
                          <a:lnTo>
                            <a:pt x="915" y="728"/>
                          </a:lnTo>
                          <a:lnTo>
                            <a:pt x="913" y="726"/>
                          </a:lnTo>
                          <a:lnTo>
                            <a:pt x="907" y="724"/>
                          </a:lnTo>
                          <a:lnTo>
                            <a:pt x="905" y="720"/>
                          </a:lnTo>
                          <a:lnTo>
                            <a:pt x="904" y="719"/>
                          </a:lnTo>
                          <a:lnTo>
                            <a:pt x="900" y="717"/>
                          </a:lnTo>
                          <a:lnTo>
                            <a:pt x="896" y="713"/>
                          </a:lnTo>
                          <a:lnTo>
                            <a:pt x="892" y="713"/>
                          </a:lnTo>
                          <a:lnTo>
                            <a:pt x="1022" y="129"/>
                          </a:lnTo>
                          <a:lnTo>
                            <a:pt x="1022" y="125"/>
                          </a:lnTo>
                          <a:lnTo>
                            <a:pt x="1022" y="124"/>
                          </a:lnTo>
                          <a:lnTo>
                            <a:pt x="1022" y="120"/>
                          </a:lnTo>
                          <a:lnTo>
                            <a:pt x="1022" y="118"/>
                          </a:lnTo>
                          <a:lnTo>
                            <a:pt x="1022" y="114"/>
                          </a:lnTo>
                          <a:lnTo>
                            <a:pt x="1022" y="112"/>
                          </a:lnTo>
                          <a:lnTo>
                            <a:pt x="1022" y="110"/>
                          </a:lnTo>
                          <a:lnTo>
                            <a:pt x="1022" y="106"/>
                          </a:lnTo>
                          <a:lnTo>
                            <a:pt x="1022" y="105"/>
                          </a:lnTo>
                          <a:lnTo>
                            <a:pt x="1022" y="103"/>
                          </a:lnTo>
                          <a:lnTo>
                            <a:pt x="1022" y="99"/>
                          </a:lnTo>
                          <a:lnTo>
                            <a:pt x="1022" y="97"/>
                          </a:lnTo>
                          <a:lnTo>
                            <a:pt x="1022" y="91"/>
                          </a:lnTo>
                          <a:lnTo>
                            <a:pt x="1022" y="86"/>
                          </a:lnTo>
                          <a:lnTo>
                            <a:pt x="1020" y="82"/>
                          </a:lnTo>
                          <a:lnTo>
                            <a:pt x="1018" y="76"/>
                          </a:lnTo>
                          <a:lnTo>
                            <a:pt x="1016" y="70"/>
                          </a:lnTo>
                          <a:lnTo>
                            <a:pt x="1014" y="67"/>
                          </a:lnTo>
                          <a:lnTo>
                            <a:pt x="1012" y="61"/>
                          </a:lnTo>
                          <a:lnTo>
                            <a:pt x="1010" y="57"/>
                          </a:lnTo>
                          <a:lnTo>
                            <a:pt x="1008" y="53"/>
                          </a:lnTo>
                          <a:lnTo>
                            <a:pt x="1006" y="48"/>
                          </a:lnTo>
                          <a:lnTo>
                            <a:pt x="1004" y="44"/>
                          </a:lnTo>
                          <a:lnTo>
                            <a:pt x="1001" y="40"/>
                          </a:lnTo>
                          <a:lnTo>
                            <a:pt x="997" y="36"/>
                          </a:lnTo>
                          <a:lnTo>
                            <a:pt x="993" y="32"/>
                          </a:lnTo>
                          <a:lnTo>
                            <a:pt x="991" y="29"/>
                          </a:lnTo>
                          <a:lnTo>
                            <a:pt x="985" y="25"/>
                          </a:lnTo>
                          <a:lnTo>
                            <a:pt x="983" y="23"/>
                          </a:lnTo>
                          <a:lnTo>
                            <a:pt x="978" y="19"/>
                          </a:lnTo>
                          <a:lnTo>
                            <a:pt x="972" y="17"/>
                          </a:lnTo>
                          <a:lnTo>
                            <a:pt x="968" y="13"/>
                          </a:lnTo>
                          <a:lnTo>
                            <a:pt x="964" y="11"/>
                          </a:lnTo>
                          <a:lnTo>
                            <a:pt x="961" y="10"/>
                          </a:lnTo>
                          <a:lnTo>
                            <a:pt x="955" y="6"/>
                          </a:lnTo>
                          <a:lnTo>
                            <a:pt x="949" y="6"/>
                          </a:lnTo>
                          <a:lnTo>
                            <a:pt x="944" y="4"/>
                          </a:lnTo>
                          <a:lnTo>
                            <a:pt x="940" y="4"/>
                          </a:lnTo>
                          <a:lnTo>
                            <a:pt x="936" y="2"/>
                          </a:lnTo>
                          <a:lnTo>
                            <a:pt x="934" y="2"/>
                          </a:lnTo>
                          <a:lnTo>
                            <a:pt x="932" y="0"/>
                          </a:lnTo>
                          <a:lnTo>
                            <a:pt x="928" y="0"/>
                          </a:lnTo>
                          <a:lnTo>
                            <a:pt x="926" y="0"/>
                          </a:lnTo>
                          <a:lnTo>
                            <a:pt x="925" y="0"/>
                          </a:lnTo>
                          <a:lnTo>
                            <a:pt x="921" y="0"/>
                          </a:lnTo>
                          <a:lnTo>
                            <a:pt x="919" y="0"/>
                          </a:lnTo>
                          <a:lnTo>
                            <a:pt x="915" y="0"/>
                          </a:lnTo>
                          <a:lnTo>
                            <a:pt x="913" y="0"/>
                          </a:lnTo>
                          <a:lnTo>
                            <a:pt x="911" y="0"/>
                          </a:lnTo>
                          <a:lnTo>
                            <a:pt x="907" y="0"/>
                          </a:lnTo>
                          <a:lnTo>
                            <a:pt x="904" y="0"/>
                          </a:lnTo>
                          <a:lnTo>
                            <a:pt x="898" y="2"/>
                          </a:lnTo>
                          <a:lnTo>
                            <a:pt x="896" y="2"/>
                          </a:lnTo>
                          <a:lnTo>
                            <a:pt x="892" y="2"/>
                          </a:lnTo>
                          <a:lnTo>
                            <a:pt x="890" y="2"/>
                          </a:lnTo>
                          <a:lnTo>
                            <a:pt x="888" y="4"/>
                          </a:lnTo>
                          <a:lnTo>
                            <a:pt x="881" y="4"/>
                          </a:lnTo>
                          <a:lnTo>
                            <a:pt x="877" y="6"/>
                          </a:lnTo>
                          <a:lnTo>
                            <a:pt x="873" y="10"/>
                          </a:lnTo>
                          <a:lnTo>
                            <a:pt x="867" y="11"/>
                          </a:lnTo>
                          <a:lnTo>
                            <a:pt x="864" y="15"/>
                          </a:lnTo>
                          <a:lnTo>
                            <a:pt x="860" y="17"/>
                          </a:lnTo>
                          <a:lnTo>
                            <a:pt x="854" y="19"/>
                          </a:lnTo>
                          <a:lnTo>
                            <a:pt x="850" y="23"/>
                          </a:lnTo>
                          <a:lnTo>
                            <a:pt x="847" y="25"/>
                          </a:lnTo>
                          <a:lnTo>
                            <a:pt x="843" y="29"/>
                          </a:lnTo>
                          <a:lnTo>
                            <a:pt x="839" y="32"/>
                          </a:lnTo>
                          <a:lnTo>
                            <a:pt x="835" y="36"/>
                          </a:lnTo>
                          <a:lnTo>
                            <a:pt x="833" y="40"/>
                          </a:lnTo>
                          <a:lnTo>
                            <a:pt x="831" y="44"/>
                          </a:lnTo>
                          <a:lnTo>
                            <a:pt x="828" y="48"/>
                          </a:lnTo>
                          <a:lnTo>
                            <a:pt x="824" y="53"/>
                          </a:lnTo>
                          <a:lnTo>
                            <a:pt x="822" y="57"/>
                          </a:lnTo>
                          <a:lnTo>
                            <a:pt x="820" y="61"/>
                          </a:lnTo>
                          <a:lnTo>
                            <a:pt x="818" y="67"/>
                          </a:lnTo>
                          <a:lnTo>
                            <a:pt x="816" y="70"/>
                          </a:lnTo>
                          <a:lnTo>
                            <a:pt x="816" y="74"/>
                          </a:lnTo>
                          <a:lnTo>
                            <a:pt x="814" y="76"/>
                          </a:lnTo>
                          <a:lnTo>
                            <a:pt x="812" y="82"/>
                          </a:lnTo>
                          <a:lnTo>
                            <a:pt x="812" y="84"/>
                          </a:lnTo>
                          <a:lnTo>
                            <a:pt x="687" y="663"/>
                          </a:lnTo>
                          <a:lnTo>
                            <a:pt x="681" y="663"/>
                          </a:lnTo>
                          <a:lnTo>
                            <a:pt x="677" y="663"/>
                          </a:lnTo>
                          <a:lnTo>
                            <a:pt x="673" y="663"/>
                          </a:lnTo>
                          <a:lnTo>
                            <a:pt x="670" y="663"/>
                          </a:lnTo>
                          <a:lnTo>
                            <a:pt x="666" y="663"/>
                          </a:lnTo>
                          <a:lnTo>
                            <a:pt x="660" y="665"/>
                          </a:lnTo>
                          <a:lnTo>
                            <a:pt x="656" y="665"/>
                          </a:lnTo>
                          <a:lnTo>
                            <a:pt x="652" y="667"/>
                          </a:lnTo>
                          <a:lnTo>
                            <a:pt x="753" y="213"/>
                          </a:lnTo>
                          <a:lnTo>
                            <a:pt x="753" y="209"/>
                          </a:lnTo>
                          <a:lnTo>
                            <a:pt x="753" y="207"/>
                          </a:lnTo>
                          <a:lnTo>
                            <a:pt x="753" y="203"/>
                          </a:lnTo>
                          <a:lnTo>
                            <a:pt x="753" y="201"/>
                          </a:lnTo>
                          <a:lnTo>
                            <a:pt x="753" y="198"/>
                          </a:lnTo>
                          <a:lnTo>
                            <a:pt x="753" y="196"/>
                          </a:lnTo>
                          <a:lnTo>
                            <a:pt x="753" y="192"/>
                          </a:lnTo>
                          <a:lnTo>
                            <a:pt x="753" y="190"/>
                          </a:lnTo>
                          <a:lnTo>
                            <a:pt x="753" y="188"/>
                          </a:lnTo>
                          <a:lnTo>
                            <a:pt x="753" y="184"/>
                          </a:lnTo>
                          <a:lnTo>
                            <a:pt x="753" y="182"/>
                          </a:lnTo>
                          <a:lnTo>
                            <a:pt x="753" y="181"/>
                          </a:lnTo>
                          <a:lnTo>
                            <a:pt x="753" y="175"/>
                          </a:lnTo>
                          <a:lnTo>
                            <a:pt x="753" y="169"/>
                          </a:lnTo>
                          <a:lnTo>
                            <a:pt x="751" y="167"/>
                          </a:lnTo>
                          <a:lnTo>
                            <a:pt x="751" y="163"/>
                          </a:lnTo>
                          <a:lnTo>
                            <a:pt x="751" y="162"/>
                          </a:lnTo>
                          <a:lnTo>
                            <a:pt x="750" y="160"/>
                          </a:lnTo>
                          <a:lnTo>
                            <a:pt x="748" y="154"/>
                          </a:lnTo>
                          <a:lnTo>
                            <a:pt x="746" y="148"/>
                          </a:lnTo>
                          <a:lnTo>
                            <a:pt x="744" y="144"/>
                          </a:lnTo>
                          <a:lnTo>
                            <a:pt x="742" y="141"/>
                          </a:lnTo>
                          <a:lnTo>
                            <a:pt x="740" y="135"/>
                          </a:lnTo>
                          <a:lnTo>
                            <a:pt x="738" y="131"/>
                          </a:lnTo>
                          <a:lnTo>
                            <a:pt x="734" y="127"/>
                          </a:lnTo>
                          <a:lnTo>
                            <a:pt x="730" y="124"/>
                          </a:lnTo>
                          <a:lnTo>
                            <a:pt x="727" y="120"/>
                          </a:lnTo>
                          <a:lnTo>
                            <a:pt x="725" y="116"/>
                          </a:lnTo>
                          <a:lnTo>
                            <a:pt x="721" y="112"/>
                          </a:lnTo>
                          <a:lnTo>
                            <a:pt x="717" y="108"/>
                          </a:lnTo>
                          <a:lnTo>
                            <a:pt x="713" y="105"/>
                          </a:lnTo>
                          <a:lnTo>
                            <a:pt x="710" y="103"/>
                          </a:lnTo>
                          <a:lnTo>
                            <a:pt x="704" y="99"/>
                          </a:lnTo>
                          <a:lnTo>
                            <a:pt x="700" y="97"/>
                          </a:lnTo>
                          <a:lnTo>
                            <a:pt x="694" y="95"/>
                          </a:lnTo>
                          <a:lnTo>
                            <a:pt x="691" y="91"/>
                          </a:lnTo>
                          <a:lnTo>
                            <a:pt x="685" y="89"/>
                          </a:lnTo>
                          <a:lnTo>
                            <a:pt x="681" y="87"/>
                          </a:lnTo>
                          <a:lnTo>
                            <a:pt x="675" y="86"/>
                          </a:lnTo>
                          <a:lnTo>
                            <a:pt x="672" y="86"/>
                          </a:lnTo>
                          <a:lnTo>
                            <a:pt x="668" y="84"/>
                          </a:lnTo>
                          <a:lnTo>
                            <a:pt x="666" y="84"/>
                          </a:lnTo>
                          <a:lnTo>
                            <a:pt x="664" y="84"/>
                          </a:lnTo>
                          <a:lnTo>
                            <a:pt x="660" y="84"/>
                          </a:lnTo>
                          <a:lnTo>
                            <a:pt x="658" y="84"/>
                          </a:lnTo>
                          <a:lnTo>
                            <a:pt x="654" y="84"/>
                          </a:lnTo>
                          <a:lnTo>
                            <a:pt x="652" y="84"/>
                          </a:lnTo>
                          <a:lnTo>
                            <a:pt x="651" y="84"/>
                          </a:lnTo>
                          <a:lnTo>
                            <a:pt x="647" y="84"/>
                          </a:lnTo>
                          <a:lnTo>
                            <a:pt x="645" y="84"/>
                          </a:lnTo>
                          <a:lnTo>
                            <a:pt x="643" y="84"/>
                          </a:lnTo>
                          <a:lnTo>
                            <a:pt x="639" y="84"/>
                          </a:lnTo>
                          <a:lnTo>
                            <a:pt x="635" y="84"/>
                          </a:lnTo>
                          <a:lnTo>
                            <a:pt x="630" y="84"/>
                          </a:lnTo>
                          <a:lnTo>
                            <a:pt x="628" y="84"/>
                          </a:lnTo>
                          <a:lnTo>
                            <a:pt x="624" y="86"/>
                          </a:lnTo>
                          <a:lnTo>
                            <a:pt x="622" y="86"/>
                          </a:lnTo>
                          <a:lnTo>
                            <a:pt x="618" y="86"/>
                          </a:lnTo>
                          <a:lnTo>
                            <a:pt x="614" y="87"/>
                          </a:lnTo>
                          <a:lnTo>
                            <a:pt x="609" y="89"/>
                          </a:lnTo>
                          <a:lnTo>
                            <a:pt x="603" y="91"/>
                          </a:lnTo>
                          <a:lnTo>
                            <a:pt x="599" y="95"/>
                          </a:lnTo>
                          <a:lnTo>
                            <a:pt x="595" y="97"/>
                          </a:lnTo>
                          <a:lnTo>
                            <a:pt x="592" y="99"/>
                          </a:lnTo>
                          <a:lnTo>
                            <a:pt x="586" y="103"/>
                          </a:lnTo>
                          <a:lnTo>
                            <a:pt x="582" y="105"/>
                          </a:lnTo>
                          <a:lnTo>
                            <a:pt x="578" y="108"/>
                          </a:lnTo>
                          <a:lnTo>
                            <a:pt x="574" y="112"/>
                          </a:lnTo>
                          <a:lnTo>
                            <a:pt x="571" y="116"/>
                          </a:lnTo>
                          <a:lnTo>
                            <a:pt x="567" y="120"/>
                          </a:lnTo>
                          <a:lnTo>
                            <a:pt x="565" y="124"/>
                          </a:lnTo>
                          <a:lnTo>
                            <a:pt x="563" y="127"/>
                          </a:lnTo>
                          <a:lnTo>
                            <a:pt x="559" y="131"/>
                          </a:lnTo>
                          <a:lnTo>
                            <a:pt x="555" y="135"/>
                          </a:lnTo>
                          <a:lnTo>
                            <a:pt x="554" y="141"/>
                          </a:lnTo>
                          <a:lnTo>
                            <a:pt x="552" y="146"/>
                          </a:lnTo>
                          <a:lnTo>
                            <a:pt x="550" y="150"/>
                          </a:lnTo>
                          <a:lnTo>
                            <a:pt x="548" y="156"/>
                          </a:lnTo>
                          <a:lnTo>
                            <a:pt x="546" y="158"/>
                          </a:lnTo>
                          <a:lnTo>
                            <a:pt x="546" y="160"/>
                          </a:lnTo>
                          <a:lnTo>
                            <a:pt x="544" y="163"/>
                          </a:lnTo>
                          <a:lnTo>
                            <a:pt x="544" y="167"/>
                          </a:lnTo>
                          <a:lnTo>
                            <a:pt x="361" y="1127"/>
                          </a:lnTo>
                          <a:lnTo>
                            <a:pt x="361" y="1127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01" name="AutoShape 1121"/>
                  <p:cNvSpPr/>
                  <p:nvPr/>
                </p:nvSpPr>
                <p:spPr>
                  <a:xfrm rot="10690800">
                    <a:off x="4338360" y="2841840"/>
                    <a:ext cx="88560" cy="75960"/>
                  </a:xfrm>
                  <a:prstGeom prst="hexagon">
                    <a:avLst>
                      <a:gd name="adj" fmla="val 29147"/>
                      <a:gd name="vf" fmla="val 115470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2" name="Group 1122"/>
                <p:cNvGrpSpPr/>
                <p:nvPr/>
              </p:nvGrpSpPr>
              <p:grpSpPr>
                <a:xfrm>
                  <a:off x="4406760" y="2005560"/>
                  <a:ext cx="286920" cy="2366280"/>
                  <a:chOff x="4406760" y="2005560"/>
                  <a:chExt cx="286920" cy="2366280"/>
                </a:xfrm>
              </p:grpSpPr>
              <p:grpSp>
                <p:nvGrpSpPr>
                  <p:cNvPr id="1303" name="Group 1123"/>
                  <p:cNvGrpSpPr/>
                  <p:nvPr/>
                </p:nvGrpSpPr>
                <p:grpSpPr>
                  <a:xfrm>
                    <a:off x="4406760" y="2005560"/>
                    <a:ext cx="278640" cy="1244880"/>
                    <a:chOff x="4406760" y="2005560"/>
                    <a:chExt cx="278640" cy="1244880"/>
                  </a:xfrm>
                </p:grpSpPr>
                <p:grpSp>
                  <p:nvGrpSpPr>
                    <p:cNvPr id="1304" name="Group 1124"/>
                    <p:cNvGrpSpPr/>
                    <p:nvPr/>
                  </p:nvGrpSpPr>
                  <p:grpSpPr>
                    <a:xfrm>
                      <a:off x="4444200" y="2639880"/>
                      <a:ext cx="241200" cy="610560"/>
                      <a:chOff x="4444200" y="2639880"/>
                      <a:chExt cx="241200" cy="610560"/>
                    </a:xfrm>
                  </p:grpSpPr>
                  <p:sp>
                    <p:nvSpPr>
                      <p:cNvPr id="1305" name="AutoShape 1125"/>
                      <p:cNvSpPr/>
                      <p:nvPr/>
                    </p:nvSpPr>
                    <p:spPr>
                      <a:xfrm rot="10707000">
                        <a:off x="4471200" y="2642040"/>
                        <a:ext cx="179640" cy="49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1556" y="21600"/>
                            </a:lnTo>
                            <a:lnTo>
                              <a:pt x="20044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6" name="AutoShape 1126"/>
                      <p:cNvSpPr/>
                      <p:nvPr/>
                    </p:nvSpPr>
                    <p:spPr>
                      <a:xfrm rot="16285200">
                        <a:off x="4468680" y="3033360"/>
                        <a:ext cx="191520" cy="23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934" y="2201"/>
                              <a:pt x="12267" y="5080"/>
                              <a:pt x="12267" y="10800"/>
                            </a:cubicBezTo>
                            <a:cubicBezTo>
                              <a:pt x="12267" y="16520"/>
                              <a:pt x="16934" y="19399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07" name="Group 1127"/>
                    <p:cNvGrpSpPr/>
                    <p:nvPr/>
                  </p:nvGrpSpPr>
                  <p:grpSpPr>
                    <a:xfrm>
                      <a:off x="4406760" y="2005560"/>
                      <a:ext cx="253800" cy="747360"/>
                      <a:chOff x="4406760" y="2005560"/>
                      <a:chExt cx="253800" cy="747360"/>
                    </a:xfrm>
                  </p:grpSpPr>
                  <p:sp>
                    <p:nvSpPr>
                      <p:cNvPr id="1308" name="AutoShape 1128"/>
                      <p:cNvSpPr/>
                      <p:nvPr/>
                    </p:nvSpPr>
                    <p:spPr>
                      <a:xfrm rot="10722000">
                        <a:off x="4460040" y="2259720"/>
                        <a:ext cx="180360" cy="360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4308" y="21600"/>
                            </a:lnTo>
                            <a:lnTo>
                              <a:pt x="17292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9" name="Oval 1129"/>
                      <p:cNvSpPr/>
                      <p:nvPr/>
                    </p:nvSpPr>
                    <p:spPr>
                      <a:xfrm rot="11260800">
                        <a:off x="4461120" y="2550600"/>
                        <a:ext cx="187200" cy="190440"/>
                      </a:xfrm>
                      <a:prstGeom prst="ellipse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0" name="Freeform 1130"/>
                      <p:cNvSpPr/>
                      <p:nvPr/>
                    </p:nvSpPr>
                    <p:spPr>
                      <a:xfrm rot="20755800">
                        <a:off x="4438800" y="2022480"/>
                        <a:ext cx="175680" cy="28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02" h="2302">
                            <a:moveTo>
                              <a:pt x="361" y="1127"/>
                            </a:moveTo>
                            <a:lnTo>
                              <a:pt x="280" y="1116"/>
                            </a:lnTo>
                            <a:lnTo>
                              <a:pt x="373" y="711"/>
                            </a:lnTo>
                            <a:lnTo>
                              <a:pt x="373" y="709"/>
                            </a:lnTo>
                            <a:lnTo>
                              <a:pt x="375" y="705"/>
                            </a:lnTo>
                            <a:lnTo>
                              <a:pt x="375" y="703"/>
                            </a:lnTo>
                            <a:lnTo>
                              <a:pt x="375" y="700"/>
                            </a:lnTo>
                            <a:lnTo>
                              <a:pt x="375" y="698"/>
                            </a:lnTo>
                            <a:lnTo>
                              <a:pt x="375" y="696"/>
                            </a:lnTo>
                            <a:lnTo>
                              <a:pt x="375" y="692"/>
                            </a:lnTo>
                            <a:lnTo>
                              <a:pt x="375" y="690"/>
                            </a:lnTo>
                            <a:lnTo>
                              <a:pt x="375" y="684"/>
                            </a:lnTo>
                            <a:lnTo>
                              <a:pt x="375" y="681"/>
                            </a:lnTo>
                            <a:lnTo>
                              <a:pt x="375" y="675"/>
                            </a:lnTo>
                            <a:lnTo>
                              <a:pt x="375" y="669"/>
                            </a:lnTo>
                            <a:lnTo>
                              <a:pt x="371" y="665"/>
                            </a:lnTo>
                            <a:lnTo>
                              <a:pt x="371" y="660"/>
                            </a:lnTo>
                            <a:lnTo>
                              <a:pt x="369" y="654"/>
                            </a:lnTo>
                            <a:lnTo>
                              <a:pt x="367" y="652"/>
                            </a:lnTo>
                            <a:lnTo>
                              <a:pt x="365" y="646"/>
                            </a:lnTo>
                            <a:lnTo>
                              <a:pt x="363" y="641"/>
                            </a:lnTo>
                            <a:lnTo>
                              <a:pt x="361" y="637"/>
                            </a:lnTo>
                            <a:lnTo>
                              <a:pt x="358" y="633"/>
                            </a:lnTo>
                            <a:lnTo>
                              <a:pt x="356" y="629"/>
                            </a:lnTo>
                            <a:lnTo>
                              <a:pt x="354" y="623"/>
                            </a:lnTo>
                            <a:lnTo>
                              <a:pt x="350" y="620"/>
                            </a:lnTo>
                            <a:lnTo>
                              <a:pt x="346" y="616"/>
                            </a:lnTo>
                            <a:lnTo>
                              <a:pt x="342" y="612"/>
                            </a:lnTo>
                            <a:lnTo>
                              <a:pt x="339" y="610"/>
                            </a:lnTo>
                            <a:lnTo>
                              <a:pt x="335" y="606"/>
                            </a:lnTo>
                            <a:lnTo>
                              <a:pt x="331" y="603"/>
                            </a:lnTo>
                            <a:lnTo>
                              <a:pt x="325" y="601"/>
                            </a:lnTo>
                            <a:lnTo>
                              <a:pt x="321" y="597"/>
                            </a:lnTo>
                            <a:lnTo>
                              <a:pt x="318" y="595"/>
                            </a:lnTo>
                            <a:lnTo>
                              <a:pt x="312" y="593"/>
                            </a:lnTo>
                            <a:lnTo>
                              <a:pt x="306" y="591"/>
                            </a:lnTo>
                            <a:lnTo>
                              <a:pt x="302" y="589"/>
                            </a:lnTo>
                            <a:lnTo>
                              <a:pt x="299" y="589"/>
                            </a:lnTo>
                            <a:lnTo>
                              <a:pt x="295" y="587"/>
                            </a:lnTo>
                            <a:lnTo>
                              <a:pt x="291" y="587"/>
                            </a:lnTo>
                            <a:lnTo>
                              <a:pt x="287" y="585"/>
                            </a:lnTo>
                            <a:lnTo>
                              <a:pt x="285" y="585"/>
                            </a:lnTo>
                            <a:lnTo>
                              <a:pt x="283" y="585"/>
                            </a:lnTo>
                            <a:lnTo>
                              <a:pt x="280" y="585"/>
                            </a:lnTo>
                            <a:lnTo>
                              <a:pt x="276" y="585"/>
                            </a:lnTo>
                            <a:lnTo>
                              <a:pt x="274" y="585"/>
                            </a:lnTo>
                            <a:lnTo>
                              <a:pt x="272" y="585"/>
                            </a:lnTo>
                            <a:lnTo>
                              <a:pt x="268" y="585"/>
                            </a:lnTo>
                            <a:lnTo>
                              <a:pt x="266" y="585"/>
                            </a:lnTo>
                            <a:lnTo>
                              <a:pt x="263" y="585"/>
                            </a:lnTo>
                            <a:lnTo>
                              <a:pt x="261" y="587"/>
                            </a:lnTo>
                            <a:lnTo>
                              <a:pt x="259" y="587"/>
                            </a:lnTo>
                            <a:lnTo>
                              <a:pt x="255" y="587"/>
                            </a:lnTo>
                            <a:lnTo>
                              <a:pt x="253" y="589"/>
                            </a:lnTo>
                            <a:lnTo>
                              <a:pt x="249" y="589"/>
                            </a:lnTo>
                            <a:lnTo>
                              <a:pt x="247" y="589"/>
                            </a:lnTo>
                            <a:lnTo>
                              <a:pt x="243" y="591"/>
                            </a:lnTo>
                            <a:lnTo>
                              <a:pt x="240" y="591"/>
                            </a:lnTo>
                            <a:lnTo>
                              <a:pt x="238" y="593"/>
                            </a:lnTo>
                            <a:lnTo>
                              <a:pt x="236" y="595"/>
                            </a:lnTo>
                            <a:lnTo>
                              <a:pt x="232" y="595"/>
                            </a:lnTo>
                            <a:lnTo>
                              <a:pt x="230" y="597"/>
                            </a:lnTo>
                            <a:lnTo>
                              <a:pt x="228" y="599"/>
                            </a:lnTo>
                            <a:lnTo>
                              <a:pt x="224" y="601"/>
                            </a:lnTo>
                            <a:lnTo>
                              <a:pt x="223" y="601"/>
                            </a:lnTo>
                            <a:lnTo>
                              <a:pt x="219" y="603"/>
                            </a:lnTo>
                            <a:lnTo>
                              <a:pt x="217" y="604"/>
                            </a:lnTo>
                            <a:lnTo>
                              <a:pt x="211" y="608"/>
                            </a:lnTo>
                            <a:lnTo>
                              <a:pt x="207" y="612"/>
                            </a:lnTo>
                            <a:lnTo>
                              <a:pt x="204" y="616"/>
                            </a:lnTo>
                            <a:lnTo>
                              <a:pt x="198" y="618"/>
                            </a:lnTo>
                            <a:lnTo>
                              <a:pt x="194" y="623"/>
                            </a:lnTo>
                            <a:lnTo>
                              <a:pt x="188" y="627"/>
                            </a:lnTo>
                            <a:lnTo>
                              <a:pt x="185" y="633"/>
                            </a:lnTo>
                            <a:lnTo>
                              <a:pt x="181" y="637"/>
                            </a:lnTo>
                            <a:lnTo>
                              <a:pt x="177" y="641"/>
                            </a:lnTo>
                            <a:lnTo>
                              <a:pt x="173" y="646"/>
                            </a:lnTo>
                            <a:lnTo>
                              <a:pt x="169" y="652"/>
                            </a:lnTo>
                            <a:lnTo>
                              <a:pt x="166" y="656"/>
                            </a:lnTo>
                            <a:lnTo>
                              <a:pt x="162" y="662"/>
                            </a:lnTo>
                            <a:lnTo>
                              <a:pt x="160" y="665"/>
                            </a:lnTo>
                            <a:lnTo>
                              <a:pt x="158" y="669"/>
                            </a:lnTo>
                            <a:lnTo>
                              <a:pt x="158" y="671"/>
                            </a:lnTo>
                            <a:lnTo>
                              <a:pt x="156" y="673"/>
                            </a:lnTo>
                            <a:lnTo>
                              <a:pt x="154" y="677"/>
                            </a:lnTo>
                            <a:lnTo>
                              <a:pt x="152" y="679"/>
                            </a:lnTo>
                            <a:lnTo>
                              <a:pt x="152" y="681"/>
                            </a:lnTo>
                            <a:lnTo>
                              <a:pt x="150" y="684"/>
                            </a:lnTo>
                            <a:lnTo>
                              <a:pt x="150" y="688"/>
                            </a:lnTo>
                            <a:lnTo>
                              <a:pt x="146" y="694"/>
                            </a:lnTo>
                            <a:lnTo>
                              <a:pt x="145" y="701"/>
                            </a:lnTo>
                            <a:lnTo>
                              <a:pt x="143" y="709"/>
                            </a:lnTo>
                            <a:lnTo>
                              <a:pt x="139" y="717"/>
                            </a:lnTo>
                            <a:lnTo>
                              <a:pt x="137" y="724"/>
                            </a:lnTo>
                            <a:lnTo>
                              <a:pt x="135" y="732"/>
                            </a:lnTo>
                            <a:lnTo>
                              <a:pt x="131" y="739"/>
                            </a:lnTo>
                            <a:lnTo>
                              <a:pt x="129" y="747"/>
                            </a:lnTo>
                            <a:lnTo>
                              <a:pt x="126" y="755"/>
                            </a:lnTo>
                            <a:lnTo>
                              <a:pt x="124" y="760"/>
                            </a:lnTo>
                            <a:lnTo>
                              <a:pt x="122" y="768"/>
                            </a:lnTo>
                            <a:lnTo>
                              <a:pt x="120" y="776"/>
                            </a:lnTo>
                            <a:lnTo>
                              <a:pt x="116" y="781"/>
                            </a:lnTo>
                            <a:lnTo>
                              <a:pt x="114" y="789"/>
                            </a:lnTo>
                            <a:lnTo>
                              <a:pt x="112" y="796"/>
                            </a:lnTo>
                            <a:lnTo>
                              <a:pt x="110" y="804"/>
                            </a:lnTo>
                            <a:lnTo>
                              <a:pt x="107" y="812"/>
                            </a:lnTo>
                            <a:lnTo>
                              <a:pt x="107" y="817"/>
                            </a:lnTo>
                            <a:lnTo>
                              <a:pt x="103" y="823"/>
                            </a:lnTo>
                            <a:lnTo>
                              <a:pt x="101" y="831"/>
                            </a:lnTo>
                            <a:lnTo>
                              <a:pt x="97" y="836"/>
                            </a:lnTo>
                            <a:lnTo>
                              <a:pt x="97" y="844"/>
                            </a:lnTo>
                            <a:lnTo>
                              <a:pt x="93" y="852"/>
                            </a:lnTo>
                            <a:lnTo>
                              <a:pt x="93" y="857"/>
                            </a:lnTo>
                            <a:lnTo>
                              <a:pt x="89" y="865"/>
                            </a:lnTo>
                            <a:lnTo>
                              <a:pt x="88" y="871"/>
                            </a:lnTo>
                            <a:lnTo>
                              <a:pt x="86" y="878"/>
                            </a:lnTo>
                            <a:lnTo>
                              <a:pt x="84" y="884"/>
                            </a:lnTo>
                            <a:lnTo>
                              <a:pt x="82" y="892"/>
                            </a:lnTo>
                            <a:lnTo>
                              <a:pt x="80" y="899"/>
                            </a:lnTo>
                            <a:lnTo>
                              <a:pt x="78" y="907"/>
                            </a:lnTo>
                            <a:lnTo>
                              <a:pt x="74" y="912"/>
                            </a:lnTo>
                            <a:lnTo>
                              <a:pt x="72" y="920"/>
                            </a:lnTo>
                            <a:lnTo>
                              <a:pt x="72" y="926"/>
                            </a:lnTo>
                            <a:lnTo>
                              <a:pt x="68" y="931"/>
                            </a:lnTo>
                            <a:lnTo>
                              <a:pt x="67" y="939"/>
                            </a:lnTo>
                            <a:lnTo>
                              <a:pt x="65" y="945"/>
                            </a:lnTo>
                            <a:lnTo>
                              <a:pt x="63" y="952"/>
                            </a:lnTo>
                            <a:lnTo>
                              <a:pt x="59" y="958"/>
                            </a:lnTo>
                            <a:lnTo>
                              <a:pt x="57" y="966"/>
                            </a:lnTo>
                            <a:lnTo>
                              <a:pt x="55" y="971"/>
                            </a:lnTo>
                            <a:lnTo>
                              <a:pt x="53" y="979"/>
                            </a:lnTo>
                            <a:lnTo>
                              <a:pt x="51" y="987"/>
                            </a:lnTo>
                            <a:lnTo>
                              <a:pt x="49" y="994"/>
                            </a:lnTo>
                            <a:lnTo>
                              <a:pt x="48" y="1000"/>
                            </a:lnTo>
                            <a:lnTo>
                              <a:pt x="46" y="1007"/>
                            </a:lnTo>
                            <a:lnTo>
                              <a:pt x="44" y="1015"/>
                            </a:lnTo>
                            <a:lnTo>
                              <a:pt x="42" y="1021"/>
                            </a:lnTo>
                            <a:lnTo>
                              <a:pt x="42" y="1028"/>
                            </a:lnTo>
                            <a:lnTo>
                              <a:pt x="38" y="1036"/>
                            </a:lnTo>
                            <a:lnTo>
                              <a:pt x="36" y="1042"/>
                            </a:lnTo>
                            <a:lnTo>
                              <a:pt x="36" y="1049"/>
                            </a:lnTo>
                            <a:lnTo>
                              <a:pt x="34" y="1057"/>
                            </a:lnTo>
                            <a:lnTo>
                              <a:pt x="30" y="1063"/>
                            </a:lnTo>
                            <a:lnTo>
                              <a:pt x="30" y="1070"/>
                            </a:lnTo>
                            <a:lnTo>
                              <a:pt x="29" y="1078"/>
                            </a:lnTo>
                            <a:lnTo>
                              <a:pt x="27" y="1085"/>
                            </a:lnTo>
                            <a:lnTo>
                              <a:pt x="25" y="1093"/>
                            </a:lnTo>
                            <a:lnTo>
                              <a:pt x="23" y="1101"/>
                            </a:lnTo>
                            <a:lnTo>
                              <a:pt x="21" y="1108"/>
                            </a:lnTo>
                            <a:lnTo>
                              <a:pt x="19" y="1116"/>
                            </a:lnTo>
                            <a:lnTo>
                              <a:pt x="17" y="1123"/>
                            </a:lnTo>
                            <a:lnTo>
                              <a:pt x="17" y="1131"/>
                            </a:lnTo>
                            <a:lnTo>
                              <a:pt x="15" y="1139"/>
                            </a:lnTo>
                            <a:lnTo>
                              <a:pt x="13" y="1148"/>
                            </a:lnTo>
                            <a:lnTo>
                              <a:pt x="10" y="1158"/>
                            </a:lnTo>
                            <a:lnTo>
                              <a:pt x="10" y="1165"/>
                            </a:lnTo>
                            <a:lnTo>
                              <a:pt x="8" y="1175"/>
                            </a:lnTo>
                            <a:lnTo>
                              <a:pt x="6" y="1182"/>
                            </a:lnTo>
                            <a:lnTo>
                              <a:pt x="6" y="1192"/>
                            </a:lnTo>
                            <a:lnTo>
                              <a:pt x="4" y="1201"/>
                            </a:lnTo>
                            <a:lnTo>
                              <a:pt x="2" y="1211"/>
                            </a:lnTo>
                            <a:lnTo>
                              <a:pt x="2" y="1218"/>
                            </a:lnTo>
                            <a:lnTo>
                              <a:pt x="0" y="1230"/>
                            </a:lnTo>
                            <a:lnTo>
                              <a:pt x="0" y="1237"/>
                            </a:lnTo>
                            <a:lnTo>
                              <a:pt x="0" y="1247"/>
                            </a:lnTo>
                            <a:lnTo>
                              <a:pt x="0" y="1257"/>
                            </a:lnTo>
                            <a:lnTo>
                              <a:pt x="0" y="1268"/>
                            </a:lnTo>
                            <a:lnTo>
                              <a:pt x="0" y="1276"/>
                            </a:lnTo>
                            <a:lnTo>
                              <a:pt x="0" y="1285"/>
                            </a:lnTo>
                            <a:lnTo>
                              <a:pt x="0" y="1296"/>
                            </a:lnTo>
                            <a:lnTo>
                              <a:pt x="0" y="1304"/>
                            </a:lnTo>
                            <a:lnTo>
                              <a:pt x="0" y="1314"/>
                            </a:lnTo>
                            <a:lnTo>
                              <a:pt x="0" y="1323"/>
                            </a:lnTo>
                            <a:lnTo>
                              <a:pt x="0" y="1333"/>
                            </a:lnTo>
                            <a:lnTo>
                              <a:pt x="2" y="1342"/>
                            </a:lnTo>
                            <a:lnTo>
                              <a:pt x="2" y="1352"/>
                            </a:lnTo>
                            <a:lnTo>
                              <a:pt x="4" y="1363"/>
                            </a:lnTo>
                            <a:lnTo>
                              <a:pt x="4" y="1371"/>
                            </a:lnTo>
                            <a:lnTo>
                              <a:pt x="6" y="1382"/>
                            </a:lnTo>
                            <a:lnTo>
                              <a:pt x="8" y="1390"/>
                            </a:lnTo>
                            <a:lnTo>
                              <a:pt x="8" y="1401"/>
                            </a:lnTo>
                            <a:lnTo>
                              <a:pt x="10" y="1409"/>
                            </a:lnTo>
                            <a:lnTo>
                              <a:pt x="11" y="1420"/>
                            </a:lnTo>
                            <a:lnTo>
                              <a:pt x="13" y="1429"/>
                            </a:lnTo>
                            <a:lnTo>
                              <a:pt x="15" y="1439"/>
                            </a:lnTo>
                            <a:lnTo>
                              <a:pt x="17" y="1448"/>
                            </a:lnTo>
                            <a:lnTo>
                              <a:pt x="19" y="1458"/>
                            </a:lnTo>
                            <a:lnTo>
                              <a:pt x="21" y="1468"/>
                            </a:lnTo>
                            <a:lnTo>
                              <a:pt x="23" y="1477"/>
                            </a:lnTo>
                            <a:lnTo>
                              <a:pt x="27" y="1487"/>
                            </a:lnTo>
                            <a:lnTo>
                              <a:pt x="29" y="1496"/>
                            </a:lnTo>
                            <a:lnTo>
                              <a:pt x="30" y="1506"/>
                            </a:lnTo>
                            <a:lnTo>
                              <a:pt x="34" y="1515"/>
                            </a:lnTo>
                            <a:lnTo>
                              <a:pt x="36" y="1525"/>
                            </a:lnTo>
                            <a:lnTo>
                              <a:pt x="38" y="1534"/>
                            </a:lnTo>
                            <a:lnTo>
                              <a:pt x="42" y="1544"/>
                            </a:lnTo>
                            <a:lnTo>
                              <a:pt x="46" y="1553"/>
                            </a:lnTo>
                            <a:lnTo>
                              <a:pt x="48" y="1561"/>
                            </a:lnTo>
                            <a:lnTo>
                              <a:pt x="51" y="1572"/>
                            </a:lnTo>
                            <a:lnTo>
                              <a:pt x="55" y="1580"/>
                            </a:lnTo>
                            <a:lnTo>
                              <a:pt x="59" y="1589"/>
                            </a:lnTo>
                            <a:lnTo>
                              <a:pt x="63" y="1599"/>
                            </a:lnTo>
                            <a:lnTo>
                              <a:pt x="67" y="1608"/>
                            </a:lnTo>
                            <a:lnTo>
                              <a:pt x="68" y="1616"/>
                            </a:lnTo>
                            <a:lnTo>
                              <a:pt x="74" y="1627"/>
                            </a:lnTo>
                            <a:lnTo>
                              <a:pt x="78" y="1635"/>
                            </a:lnTo>
                            <a:lnTo>
                              <a:pt x="82" y="1644"/>
                            </a:lnTo>
                            <a:lnTo>
                              <a:pt x="86" y="1652"/>
                            </a:lnTo>
                            <a:lnTo>
                              <a:pt x="89" y="1661"/>
                            </a:lnTo>
                            <a:lnTo>
                              <a:pt x="95" y="1669"/>
                            </a:lnTo>
                            <a:lnTo>
                              <a:pt x="99" y="1679"/>
                            </a:lnTo>
                            <a:lnTo>
                              <a:pt x="103" y="1688"/>
                            </a:lnTo>
                            <a:lnTo>
                              <a:pt x="108" y="1696"/>
                            </a:lnTo>
                            <a:lnTo>
                              <a:pt x="114" y="1703"/>
                            </a:lnTo>
                            <a:lnTo>
                              <a:pt x="118" y="1713"/>
                            </a:lnTo>
                            <a:lnTo>
                              <a:pt x="124" y="1722"/>
                            </a:lnTo>
                            <a:lnTo>
                              <a:pt x="127" y="1732"/>
                            </a:lnTo>
                            <a:lnTo>
                              <a:pt x="131" y="1736"/>
                            </a:lnTo>
                            <a:lnTo>
                              <a:pt x="135" y="1739"/>
                            </a:lnTo>
                            <a:lnTo>
                              <a:pt x="135" y="1743"/>
                            </a:lnTo>
                            <a:lnTo>
                              <a:pt x="137" y="1745"/>
                            </a:lnTo>
                            <a:lnTo>
                              <a:pt x="139" y="1747"/>
                            </a:lnTo>
                            <a:lnTo>
                              <a:pt x="141" y="1751"/>
                            </a:lnTo>
                            <a:lnTo>
                              <a:pt x="143" y="1755"/>
                            </a:lnTo>
                            <a:lnTo>
                              <a:pt x="143" y="1756"/>
                            </a:lnTo>
                            <a:lnTo>
                              <a:pt x="145" y="1760"/>
                            </a:lnTo>
                            <a:lnTo>
                              <a:pt x="146" y="1762"/>
                            </a:lnTo>
                            <a:lnTo>
                              <a:pt x="148" y="1766"/>
                            </a:lnTo>
                            <a:lnTo>
                              <a:pt x="150" y="1768"/>
                            </a:lnTo>
                            <a:lnTo>
                              <a:pt x="152" y="1770"/>
                            </a:lnTo>
                            <a:lnTo>
                              <a:pt x="156" y="1774"/>
                            </a:lnTo>
                            <a:lnTo>
                              <a:pt x="158" y="1777"/>
                            </a:lnTo>
                            <a:lnTo>
                              <a:pt x="160" y="1779"/>
                            </a:lnTo>
                            <a:lnTo>
                              <a:pt x="160" y="1783"/>
                            </a:lnTo>
                            <a:lnTo>
                              <a:pt x="162" y="1787"/>
                            </a:lnTo>
                            <a:lnTo>
                              <a:pt x="166" y="1789"/>
                            </a:lnTo>
                            <a:lnTo>
                              <a:pt x="166" y="1791"/>
                            </a:lnTo>
                            <a:lnTo>
                              <a:pt x="167" y="1794"/>
                            </a:lnTo>
                            <a:lnTo>
                              <a:pt x="169" y="1796"/>
                            </a:lnTo>
                            <a:lnTo>
                              <a:pt x="171" y="1800"/>
                            </a:lnTo>
                            <a:lnTo>
                              <a:pt x="173" y="1802"/>
                            </a:lnTo>
                            <a:lnTo>
                              <a:pt x="175" y="1806"/>
                            </a:lnTo>
                            <a:lnTo>
                              <a:pt x="177" y="1808"/>
                            </a:lnTo>
                            <a:lnTo>
                              <a:pt x="179" y="1812"/>
                            </a:lnTo>
                            <a:lnTo>
                              <a:pt x="181" y="1815"/>
                            </a:lnTo>
                            <a:lnTo>
                              <a:pt x="183" y="1817"/>
                            </a:lnTo>
                            <a:lnTo>
                              <a:pt x="185" y="1821"/>
                            </a:lnTo>
                            <a:lnTo>
                              <a:pt x="188" y="1827"/>
                            </a:lnTo>
                            <a:lnTo>
                              <a:pt x="190" y="1831"/>
                            </a:lnTo>
                            <a:lnTo>
                              <a:pt x="194" y="1836"/>
                            </a:lnTo>
                            <a:lnTo>
                              <a:pt x="198" y="1842"/>
                            </a:lnTo>
                            <a:lnTo>
                              <a:pt x="200" y="1846"/>
                            </a:lnTo>
                            <a:lnTo>
                              <a:pt x="204" y="1850"/>
                            </a:lnTo>
                            <a:lnTo>
                              <a:pt x="205" y="1853"/>
                            </a:lnTo>
                            <a:lnTo>
                              <a:pt x="207" y="1859"/>
                            </a:lnTo>
                            <a:lnTo>
                              <a:pt x="209" y="1861"/>
                            </a:lnTo>
                            <a:lnTo>
                              <a:pt x="211" y="1863"/>
                            </a:lnTo>
                            <a:lnTo>
                              <a:pt x="213" y="1867"/>
                            </a:lnTo>
                            <a:lnTo>
                              <a:pt x="215" y="1869"/>
                            </a:lnTo>
                            <a:lnTo>
                              <a:pt x="217" y="1870"/>
                            </a:lnTo>
                            <a:lnTo>
                              <a:pt x="219" y="1874"/>
                            </a:lnTo>
                            <a:lnTo>
                              <a:pt x="141" y="2163"/>
                            </a:lnTo>
                            <a:lnTo>
                              <a:pt x="143" y="2165"/>
                            </a:lnTo>
                            <a:lnTo>
                              <a:pt x="146" y="2165"/>
                            </a:lnTo>
                            <a:lnTo>
                              <a:pt x="150" y="2167"/>
                            </a:lnTo>
                            <a:lnTo>
                              <a:pt x="152" y="2167"/>
                            </a:lnTo>
                            <a:lnTo>
                              <a:pt x="154" y="2167"/>
                            </a:lnTo>
                            <a:lnTo>
                              <a:pt x="158" y="2167"/>
                            </a:lnTo>
                            <a:lnTo>
                              <a:pt x="162" y="2171"/>
                            </a:lnTo>
                            <a:lnTo>
                              <a:pt x="166" y="2171"/>
                            </a:lnTo>
                            <a:lnTo>
                              <a:pt x="167" y="2173"/>
                            </a:lnTo>
                            <a:lnTo>
                              <a:pt x="171" y="2173"/>
                            </a:lnTo>
                            <a:lnTo>
                              <a:pt x="175" y="2175"/>
                            </a:lnTo>
                            <a:lnTo>
                              <a:pt x="181" y="2175"/>
                            </a:lnTo>
                            <a:lnTo>
                              <a:pt x="185" y="2175"/>
                            </a:lnTo>
                            <a:lnTo>
                              <a:pt x="188" y="2177"/>
                            </a:lnTo>
                            <a:lnTo>
                              <a:pt x="194" y="2180"/>
                            </a:lnTo>
                            <a:lnTo>
                              <a:pt x="198" y="2180"/>
                            </a:lnTo>
                            <a:lnTo>
                              <a:pt x="204" y="2182"/>
                            </a:lnTo>
                            <a:lnTo>
                              <a:pt x="209" y="2182"/>
                            </a:lnTo>
                            <a:lnTo>
                              <a:pt x="215" y="2184"/>
                            </a:lnTo>
                            <a:lnTo>
                              <a:pt x="219" y="2186"/>
                            </a:lnTo>
                            <a:lnTo>
                              <a:pt x="224" y="2188"/>
                            </a:lnTo>
                            <a:lnTo>
                              <a:pt x="232" y="2188"/>
                            </a:lnTo>
                            <a:lnTo>
                              <a:pt x="238" y="2190"/>
                            </a:lnTo>
                            <a:lnTo>
                              <a:pt x="243" y="2190"/>
                            </a:lnTo>
                            <a:lnTo>
                              <a:pt x="251" y="2192"/>
                            </a:lnTo>
                            <a:lnTo>
                              <a:pt x="257" y="2194"/>
                            </a:lnTo>
                            <a:lnTo>
                              <a:pt x="264" y="2194"/>
                            </a:lnTo>
                            <a:lnTo>
                              <a:pt x="270" y="2196"/>
                            </a:lnTo>
                            <a:lnTo>
                              <a:pt x="276" y="2196"/>
                            </a:lnTo>
                            <a:lnTo>
                              <a:pt x="283" y="2197"/>
                            </a:lnTo>
                            <a:lnTo>
                              <a:pt x="291" y="2199"/>
                            </a:lnTo>
                            <a:lnTo>
                              <a:pt x="297" y="2199"/>
                            </a:lnTo>
                            <a:lnTo>
                              <a:pt x="304" y="2199"/>
                            </a:lnTo>
                            <a:lnTo>
                              <a:pt x="312" y="2199"/>
                            </a:lnTo>
                            <a:lnTo>
                              <a:pt x="320" y="2201"/>
                            </a:lnTo>
                            <a:lnTo>
                              <a:pt x="325" y="2201"/>
                            </a:lnTo>
                            <a:lnTo>
                              <a:pt x="333" y="2201"/>
                            </a:lnTo>
                            <a:lnTo>
                              <a:pt x="341" y="2201"/>
                            </a:lnTo>
                            <a:lnTo>
                              <a:pt x="348" y="2201"/>
                            </a:lnTo>
                            <a:lnTo>
                              <a:pt x="356" y="2201"/>
                            </a:lnTo>
                            <a:lnTo>
                              <a:pt x="363" y="2201"/>
                            </a:lnTo>
                            <a:lnTo>
                              <a:pt x="371" y="2201"/>
                            </a:lnTo>
                            <a:lnTo>
                              <a:pt x="379" y="2201"/>
                            </a:lnTo>
                            <a:lnTo>
                              <a:pt x="386" y="2201"/>
                            </a:lnTo>
                            <a:lnTo>
                              <a:pt x="394" y="2201"/>
                            </a:lnTo>
                            <a:lnTo>
                              <a:pt x="401" y="2199"/>
                            </a:lnTo>
                            <a:lnTo>
                              <a:pt x="409" y="2199"/>
                            </a:lnTo>
                            <a:lnTo>
                              <a:pt x="415" y="2197"/>
                            </a:lnTo>
                            <a:lnTo>
                              <a:pt x="422" y="2196"/>
                            </a:lnTo>
                            <a:lnTo>
                              <a:pt x="432" y="2196"/>
                            </a:lnTo>
                            <a:lnTo>
                              <a:pt x="439" y="2194"/>
                            </a:lnTo>
                            <a:lnTo>
                              <a:pt x="447" y="2192"/>
                            </a:lnTo>
                            <a:lnTo>
                              <a:pt x="455" y="2190"/>
                            </a:lnTo>
                            <a:lnTo>
                              <a:pt x="462" y="2188"/>
                            </a:lnTo>
                            <a:lnTo>
                              <a:pt x="470" y="2188"/>
                            </a:lnTo>
                            <a:lnTo>
                              <a:pt x="476" y="2184"/>
                            </a:lnTo>
                            <a:lnTo>
                              <a:pt x="483" y="2182"/>
                            </a:lnTo>
                            <a:lnTo>
                              <a:pt x="491" y="2180"/>
                            </a:lnTo>
                            <a:lnTo>
                              <a:pt x="498" y="2175"/>
                            </a:lnTo>
                            <a:lnTo>
                              <a:pt x="504" y="2173"/>
                            </a:lnTo>
                            <a:lnTo>
                              <a:pt x="512" y="2169"/>
                            </a:lnTo>
                            <a:lnTo>
                              <a:pt x="517" y="2165"/>
                            </a:lnTo>
                            <a:lnTo>
                              <a:pt x="525" y="2161"/>
                            </a:lnTo>
                            <a:lnTo>
                              <a:pt x="531" y="2158"/>
                            </a:lnTo>
                            <a:lnTo>
                              <a:pt x="536" y="2154"/>
                            </a:lnTo>
                            <a:lnTo>
                              <a:pt x="542" y="2150"/>
                            </a:lnTo>
                            <a:lnTo>
                              <a:pt x="550" y="2146"/>
                            </a:lnTo>
                            <a:lnTo>
                              <a:pt x="555" y="2142"/>
                            </a:lnTo>
                            <a:lnTo>
                              <a:pt x="559" y="2137"/>
                            </a:lnTo>
                            <a:lnTo>
                              <a:pt x="565" y="2133"/>
                            </a:lnTo>
                            <a:lnTo>
                              <a:pt x="571" y="2129"/>
                            </a:lnTo>
                            <a:lnTo>
                              <a:pt x="576" y="2123"/>
                            </a:lnTo>
                            <a:lnTo>
                              <a:pt x="582" y="2120"/>
                            </a:lnTo>
                            <a:lnTo>
                              <a:pt x="588" y="2114"/>
                            </a:lnTo>
                            <a:lnTo>
                              <a:pt x="592" y="2110"/>
                            </a:lnTo>
                            <a:lnTo>
                              <a:pt x="595" y="2106"/>
                            </a:lnTo>
                            <a:lnTo>
                              <a:pt x="601" y="2101"/>
                            </a:lnTo>
                            <a:lnTo>
                              <a:pt x="605" y="2095"/>
                            </a:lnTo>
                            <a:lnTo>
                              <a:pt x="611" y="2091"/>
                            </a:lnTo>
                            <a:lnTo>
                              <a:pt x="614" y="2085"/>
                            </a:lnTo>
                            <a:lnTo>
                              <a:pt x="618" y="2080"/>
                            </a:lnTo>
                            <a:lnTo>
                              <a:pt x="624" y="2076"/>
                            </a:lnTo>
                            <a:lnTo>
                              <a:pt x="628" y="2070"/>
                            </a:lnTo>
                            <a:lnTo>
                              <a:pt x="632" y="2064"/>
                            </a:lnTo>
                            <a:lnTo>
                              <a:pt x="635" y="2059"/>
                            </a:lnTo>
                            <a:lnTo>
                              <a:pt x="637" y="2055"/>
                            </a:lnTo>
                            <a:lnTo>
                              <a:pt x="643" y="2049"/>
                            </a:lnTo>
                            <a:lnTo>
                              <a:pt x="645" y="2043"/>
                            </a:lnTo>
                            <a:lnTo>
                              <a:pt x="649" y="2040"/>
                            </a:lnTo>
                            <a:lnTo>
                              <a:pt x="652" y="2034"/>
                            </a:lnTo>
                            <a:lnTo>
                              <a:pt x="654" y="2030"/>
                            </a:lnTo>
                            <a:lnTo>
                              <a:pt x="658" y="2024"/>
                            </a:lnTo>
                            <a:lnTo>
                              <a:pt x="660" y="2021"/>
                            </a:lnTo>
                            <a:lnTo>
                              <a:pt x="664" y="2015"/>
                            </a:lnTo>
                            <a:lnTo>
                              <a:pt x="666" y="2011"/>
                            </a:lnTo>
                            <a:lnTo>
                              <a:pt x="668" y="2005"/>
                            </a:lnTo>
                            <a:lnTo>
                              <a:pt x="672" y="2002"/>
                            </a:lnTo>
                            <a:lnTo>
                              <a:pt x="673" y="1998"/>
                            </a:lnTo>
                            <a:lnTo>
                              <a:pt x="675" y="1992"/>
                            </a:lnTo>
                            <a:lnTo>
                              <a:pt x="677" y="1986"/>
                            </a:lnTo>
                            <a:lnTo>
                              <a:pt x="679" y="1983"/>
                            </a:lnTo>
                            <a:lnTo>
                              <a:pt x="681" y="1979"/>
                            </a:lnTo>
                            <a:lnTo>
                              <a:pt x="683" y="1975"/>
                            </a:lnTo>
                            <a:lnTo>
                              <a:pt x="685" y="1971"/>
                            </a:lnTo>
                            <a:lnTo>
                              <a:pt x="687" y="1969"/>
                            </a:lnTo>
                            <a:lnTo>
                              <a:pt x="689" y="1964"/>
                            </a:lnTo>
                            <a:lnTo>
                              <a:pt x="691" y="1962"/>
                            </a:lnTo>
                            <a:lnTo>
                              <a:pt x="692" y="1958"/>
                            </a:lnTo>
                            <a:lnTo>
                              <a:pt x="692" y="1954"/>
                            </a:lnTo>
                            <a:lnTo>
                              <a:pt x="692" y="1952"/>
                            </a:lnTo>
                            <a:lnTo>
                              <a:pt x="694" y="1950"/>
                            </a:lnTo>
                            <a:lnTo>
                              <a:pt x="696" y="1945"/>
                            </a:lnTo>
                            <a:lnTo>
                              <a:pt x="698" y="1941"/>
                            </a:lnTo>
                            <a:lnTo>
                              <a:pt x="700" y="1937"/>
                            </a:lnTo>
                            <a:lnTo>
                              <a:pt x="700" y="1935"/>
                            </a:lnTo>
                            <a:lnTo>
                              <a:pt x="700" y="1933"/>
                            </a:lnTo>
                            <a:lnTo>
                              <a:pt x="702" y="1933"/>
                            </a:lnTo>
                            <a:lnTo>
                              <a:pt x="740" y="1943"/>
                            </a:lnTo>
                            <a:lnTo>
                              <a:pt x="740" y="1943"/>
                            </a:lnTo>
                            <a:lnTo>
                              <a:pt x="738" y="1945"/>
                            </a:lnTo>
                            <a:lnTo>
                              <a:pt x="738" y="1947"/>
                            </a:lnTo>
                            <a:lnTo>
                              <a:pt x="738" y="1950"/>
                            </a:lnTo>
                            <a:lnTo>
                              <a:pt x="738" y="1954"/>
                            </a:lnTo>
                            <a:lnTo>
                              <a:pt x="738" y="1958"/>
                            </a:lnTo>
                            <a:lnTo>
                              <a:pt x="736" y="1962"/>
                            </a:lnTo>
                            <a:lnTo>
                              <a:pt x="736" y="1964"/>
                            </a:lnTo>
                            <a:lnTo>
                              <a:pt x="736" y="1967"/>
                            </a:lnTo>
                            <a:lnTo>
                              <a:pt x="736" y="1971"/>
                            </a:lnTo>
                            <a:lnTo>
                              <a:pt x="736" y="1975"/>
                            </a:lnTo>
                            <a:lnTo>
                              <a:pt x="736" y="1979"/>
                            </a:lnTo>
                            <a:lnTo>
                              <a:pt x="736" y="1983"/>
                            </a:lnTo>
                            <a:lnTo>
                              <a:pt x="736" y="1985"/>
                            </a:lnTo>
                            <a:lnTo>
                              <a:pt x="736" y="1990"/>
                            </a:lnTo>
                            <a:lnTo>
                              <a:pt x="736" y="1994"/>
                            </a:lnTo>
                            <a:lnTo>
                              <a:pt x="736" y="1998"/>
                            </a:lnTo>
                            <a:lnTo>
                              <a:pt x="736" y="2004"/>
                            </a:lnTo>
                            <a:lnTo>
                              <a:pt x="736" y="2007"/>
                            </a:lnTo>
                            <a:lnTo>
                              <a:pt x="736" y="2013"/>
                            </a:lnTo>
                            <a:lnTo>
                              <a:pt x="736" y="2015"/>
                            </a:lnTo>
                            <a:lnTo>
                              <a:pt x="736" y="2021"/>
                            </a:lnTo>
                            <a:lnTo>
                              <a:pt x="736" y="2026"/>
                            </a:lnTo>
                            <a:lnTo>
                              <a:pt x="736" y="2030"/>
                            </a:lnTo>
                            <a:lnTo>
                              <a:pt x="736" y="2036"/>
                            </a:lnTo>
                            <a:lnTo>
                              <a:pt x="736" y="2042"/>
                            </a:lnTo>
                            <a:lnTo>
                              <a:pt x="736" y="2047"/>
                            </a:lnTo>
                            <a:lnTo>
                              <a:pt x="738" y="2051"/>
                            </a:lnTo>
                            <a:lnTo>
                              <a:pt x="738" y="2057"/>
                            </a:lnTo>
                            <a:lnTo>
                              <a:pt x="738" y="2062"/>
                            </a:lnTo>
                            <a:lnTo>
                              <a:pt x="740" y="2066"/>
                            </a:lnTo>
                            <a:lnTo>
                              <a:pt x="740" y="2072"/>
                            </a:lnTo>
                            <a:lnTo>
                              <a:pt x="742" y="2078"/>
                            </a:lnTo>
                            <a:lnTo>
                              <a:pt x="744" y="2083"/>
                            </a:lnTo>
                            <a:lnTo>
                              <a:pt x="744" y="2091"/>
                            </a:lnTo>
                            <a:lnTo>
                              <a:pt x="746" y="2095"/>
                            </a:lnTo>
                            <a:lnTo>
                              <a:pt x="748" y="2101"/>
                            </a:lnTo>
                            <a:lnTo>
                              <a:pt x="748" y="2106"/>
                            </a:lnTo>
                            <a:lnTo>
                              <a:pt x="751" y="2110"/>
                            </a:lnTo>
                            <a:lnTo>
                              <a:pt x="753" y="2118"/>
                            </a:lnTo>
                            <a:lnTo>
                              <a:pt x="753" y="2123"/>
                            </a:lnTo>
                            <a:lnTo>
                              <a:pt x="757" y="2129"/>
                            </a:lnTo>
                            <a:lnTo>
                              <a:pt x="759" y="2135"/>
                            </a:lnTo>
                            <a:lnTo>
                              <a:pt x="761" y="2139"/>
                            </a:lnTo>
                            <a:lnTo>
                              <a:pt x="765" y="2144"/>
                            </a:lnTo>
                            <a:lnTo>
                              <a:pt x="767" y="2150"/>
                            </a:lnTo>
                            <a:lnTo>
                              <a:pt x="769" y="2156"/>
                            </a:lnTo>
                            <a:lnTo>
                              <a:pt x="772" y="2159"/>
                            </a:lnTo>
                            <a:lnTo>
                              <a:pt x="776" y="2165"/>
                            </a:lnTo>
                            <a:lnTo>
                              <a:pt x="780" y="2171"/>
                            </a:lnTo>
                            <a:lnTo>
                              <a:pt x="782" y="2175"/>
                            </a:lnTo>
                            <a:lnTo>
                              <a:pt x="786" y="2180"/>
                            </a:lnTo>
                            <a:lnTo>
                              <a:pt x="789" y="2186"/>
                            </a:lnTo>
                            <a:lnTo>
                              <a:pt x="795" y="2190"/>
                            </a:lnTo>
                            <a:lnTo>
                              <a:pt x="799" y="2196"/>
                            </a:lnTo>
                            <a:lnTo>
                              <a:pt x="805" y="2201"/>
                            </a:lnTo>
                            <a:lnTo>
                              <a:pt x="808" y="2205"/>
                            </a:lnTo>
                            <a:lnTo>
                              <a:pt x="814" y="2209"/>
                            </a:lnTo>
                            <a:lnTo>
                              <a:pt x="818" y="2213"/>
                            </a:lnTo>
                            <a:lnTo>
                              <a:pt x="824" y="2216"/>
                            </a:lnTo>
                            <a:lnTo>
                              <a:pt x="828" y="2222"/>
                            </a:lnTo>
                            <a:lnTo>
                              <a:pt x="833" y="2224"/>
                            </a:lnTo>
                            <a:lnTo>
                              <a:pt x="839" y="2228"/>
                            </a:lnTo>
                            <a:lnTo>
                              <a:pt x="845" y="2232"/>
                            </a:lnTo>
                            <a:lnTo>
                              <a:pt x="848" y="2235"/>
                            </a:lnTo>
                            <a:lnTo>
                              <a:pt x="854" y="2239"/>
                            </a:lnTo>
                            <a:lnTo>
                              <a:pt x="858" y="2243"/>
                            </a:lnTo>
                            <a:lnTo>
                              <a:pt x="864" y="2245"/>
                            </a:lnTo>
                            <a:lnTo>
                              <a:pt x="867" y="2249"/>
                            </a:lnTo>
                            <a:lnTo>
                              <a:pt x="873" y="2253"/>
                            </a:lnTo>
                            <a:lnTo>
                              <a:pt x="877" y="2256"/>
                            </a:lnTo>
                            <a:lnTo>
                              <a:pt x="883" y="2258"/>
                            </a:lnTo>
                            <a:lnTo>
                              <a:pt x="890" y="2260"/>
                            </a:lnTo>
                            <a:lnTo>
                              <a:pt x="896" y="2264"/>
                            </a:lnTo>
                            <a:lnTo>
                              <a:pt x="900" y="2266"/>
                            </a:lnTo>
                            <a:lnTo>
                              <a:pt x="904" y="2268"/>
                            </a:lnTo>
                            <a:lnTo>
                              <a:pt x="907" y="2270"/>
                            </a:lnTo>
                            <a:lnTo>
                              <a:pt x="913" y="2273"/>
                            </a:lnTo>
                            <a:lnTo>
                              <a:pt x="919" y="2275"/>
                            </a:lnTo>
                            <a:lnTo>
                              <a:pt x="925" y="2277"/>
                            </a:lnTo>
                            <a:lnTo>
                              <a:pt x="928" y="2279"/>
                            </a:lnTo>
                            <a:lnTo>
                              <a:pt x="934" y="2281"/>
                            </a:lnTo>
                            <a:lnTo>
                              <a:pt x="938" y="2283"/>
                            </a:lnTo>
                            <a:lnTo>
                              <a:pt x="942" y="2285"/>
                            </a:lnTo>
                            <a:lnTo>
                              <a:pt x="947" y="2287"/>
                            </a:lnTo>
                            <a:lnTo>
                              <a:pt x="951" y="2289"/>
                            </a:lnTo>
                            <a:lnTo>
                              <a:pt x="955" y="2289"/>
                            </a:lnTo>
                            <a:lnTo>
                              <a:pt x="961" y="2291"/>
                            </a:lnTo>
                            <a:lnTo>
                              <a:pt x="964" y="2291"/>
                            </a:lnTo>
                            <a:lnTo>
                              <a:pt x="968" y="2294"/>
                            </a:lnTo>
                            <a:lnTo>
                              <a:pt x="972" y="2294"/>
                            </a:lnTo>
                            <a:lnTo>
                              <a:pt x="978" y="2294"/>
                            </a:lnTo>
                            <a:lnTo>
                              <a:pt x="982" y="2296"/>
                            </a:lnTo>
                            <a:lnTo>
                              <a:pt x="985" y="2296"/>
                            </a:lnTo>
                            <a:lnTo>
                              <a:pt x="989" y="2296"/>
                            </a:lnTo>
                            <a:lnTo>
                              <a:pt x="993" y="2298"/>
                            </a:lnTo>
                            <a:lnTo>
                              <a:pt x="997" y="2298"/>
                            </a:lnTo>
                            <a:lnTo>
                              <a:pt x="1001" y="2298"/>
                            </a:lnTo>
                            <a:lnTo>
                              <a:pt x="1004" y="2298"/>
                            </a:lnTo>
                            <a:lnTo>
                              <a:pt x="1008" y="2300"/>
                            </a:lnTo>
                            <a:lnTo>
                              <a:pt x="1010" y="2300"/>
                            </a:lnTo>
                            <a:lnTo>
                              <a:pt x="1014" y="2300"/>
                            </a:lnTo>
                            <a:lnTo>
                              <a:pt x="1016" y="2300"/>
                            </a:lnTo>
                            <a:lnTo>
                              <a:pt x="1020" y="2300"/>
                            </a:lnTo>
                            <a:lnTo>
                              <a:pt x="1022" y="2300"/>
                            </a:lnTo>
                            <a:lnTo>
                              <a:pt x="1025" y="2302"/>
                            </a:lnTo>
                            <a:lnTo>
                              <a:pt x="1029" y="2300"/>
                            </a:lnTo>
                            <a:lnTo>
                              <a:pt x="1035" y="2300"/>
                            </a:lnTo>
                            <a:lnTo>
                              <a:pt x="1039" y="2298"/>
                            </a:lnTo>
                            <a:lnTo>
                              <a:pt x="1042" y="2298"/>
                            </a:lnTo>
                            <a:lnTo>
                              <a:pt x="1044" y="2296"/>
                            </a:lnTo>
                            <a:lnTo>
                              <a:pt x="1048" y="2296"/>
                            </a:lnTo>
                            <a:lnTo>
                              <a:pt x="1048" y="2294"/>
                            </a:lnTo>
                            <a:lnTo>
                              <a:pt x="1050" y="2294"/>
                            </a:lnTo>
                            <a:lnTo>
                              <a:pt x="1246" y="1334"/>
                            </a:lnTo>
                            <a:lnTo>
                              <a:pt x="1246" y="1333"/>
                            </a:lnTo>
                            <a:lnTo>
                              <a:pt x="1248" y="1331"/>
                            </a:lnTo>
                            <a:lnTo>
                              <a:pt x="1250" y="1327"/>
                            </a:lnTo>
                            <a:lnTo>
                              <a:pt x="1252" y="1325"/>
                            </a:lnTo>
                            <a:lnTo>
                              <a:pt x="1252" y="1323"/>
                            </a:lnTo>
                            <a:lnTo>
                              <a:pt x="1254" y="1319"/>
                            </a:lnTo>
                            <a:lnTo>
                              <a:pt x="1256" y="1315"/>
                            </a:lnTo>
                            <a:lnTo>
                              <a:pt x="1259" y="1312"/>
                            </a:lnTo>
                            <a:lnTo>
                              <a:pt x="1259" y="1306"/>
                            </a:lnTo>
                            <a:lnTo>
                              <a:pt x="1263" y="1302"/>
                            </a:lnTo>
                            <a:lnTo>
                              <a:pt x="1265" y="1296"/>
                            </a:lnTo>
                            <a:lnTo>
                              <a:pt x="1269" y="1293"/>
                            </a:lnTo>
                            <a:lnTo>
                              <a:pt x="1271" y="1285"/>
                            </a:lnTo>
                            <a:lnTo>
                              <a:pt x="1275" y="1281"/>
                            </a:lnTo>
                            <a:lnTo>
                              <a:pt x="1276" y="1274"/>
                            </a:lnTo>
                            <a:lnTo>
                              <a:pt x="1280" y="1266"/>
                            </a:lnTo>
                            <a:lnTo>
                              <a:pt x="1284" y="1258"/>
                            </a:lnTo>
                            <a:lnTo>
                              <a:pt x="1288" y="1249"/>
                            </a:lnTo>
                            <a:lnTo>
                              <a:pt x="1290" y="1241"/>
                            </a:lnTo>
                            <a:lnTo>
                              <a:pt x="1294" y="1234"/>
                            </a:lnTo>
                            <a:lnTo>
                              <a:pt x="1297" y="1224"/>
                            </a:lnTo>
                            <a:lnTo>
                              <a:pt x="1301" y="1217"/>
                            </a:lnTo>
                            <a:lnTo>
                              <a:pt x="1305" y="1207"/>
                            </a:lnTo>
                            <a:lnTo>
                              <a:pt x="1309" y="1198"/>
                            </a:lnTo>
                            <a:lnTo>
                              <a:pt x="1313" y="1188"/>
                            </a:lnTo>
                            <a:lnTo>
                              <a:pt x="1316" y="1177"/>
                            </a:lnTo>
                            <a:lnTo>
                              <a:pt x="1320" y="1165"/>
                            </a:lnTo>
                            <a:lnTo>
                              <a:pt x="1324" y="1154"/>
                            </a:lnTo>
                            <a:lnTo>
                              <a:pt x="1330" y="1144"/>
                            </a:lnTo>
                            <a:lnTo>
                              <a:pt x="1334" y="1133"/>
                            </a:lnTo>
                            <a:lnTo>
                              <a:pt x="1337" y="1122"/>
                            </a:lnTo>
                            <a:lnTo>
                              <a:pt x="1339" y="1108"/>
                            </a:lnTo>
                            <a:lnTo>
                              <a:pt x="1345" y="1097"/>
                            </a:lnTo>
                            <a:lnTo>
                              <a:pt x="1349" y="1084"/>
                            </a:lnTo>
                            <a:lnTo>
                              <a:pt x="1353" y="1070"/>
                            </a:lnTo>
                            <a:lnTo>
                              <a:pt x="1354" y="1059"/>
                            </a:lnTo>
                            <a:lnTo>
                              <a:pt x="1358" y="1044"/>
                            </a:lnTo>
                            <a:lnTo>
                              <a:pt x="1362" y="1032"/>
                            </a:lnTo>
                            <a:lnTo>
                              <a:pt x="1366" y="1017"/>
                            </a:lnTo>
                            <a:lnTo>
                              <a:pt x="1370" y="1004"/>
                            </a:lnTo>
                            <a:lnTo>
                              <a:pt x="1372" y="988"/>
                            </a:lnTo>
                            <a:lnTo>
                              <a:pt x="1375" y="975"/>
                            </a:lnTo>
                            <a:lnTo>
                              <a:pt x="1377" y="960"/>
                            </a:lnTo>
                            <a:lnTo>
                              <a:pt x="1381" y="947"/>
                            </a:lnTo>
                            <a:lnTo>
                              <a:pt x="1383" y="931"/>
                            </a:lnTo>
                            <a:lnTo>
                              <a:pt x="1387" y="916"/>
                            </a:lnTo>
                            <a:lnTo>
                              <a:pt x="1389" y="901"/>
                            </a:lnTo>
                            <a:lnTo>
                              <a:pt x="1391" y="886"/>
                            </a:lnTo>
                            <a:lnTo>
                              <a:pt x="1392" y="871"/>
                            </a:lnTo>
                            <a:lnTo>
                              <a:pt x="1394" y="855"/>
                            </a:lnTo>
                            <a:lnTo>
                              <a:pt x="1396" y="838"/>
                            </a:lnTo>
                            <a:lnTo>
                              <a:pt x="1398" y="823"/>
                            </a:lnTo>
                            <a:lnTo>
                              <a:pt x="1398" y="806"/>
                            </a:lnTo>
                            <a:lnTo>
                              <a:pt x="1400" y="791"/>
                            </a:lnTo>
                            <a:lnTo>
                              <a:pt x="1402" y="774"/>
                            </a:lnTo>
                            <a:lnTo>
                              <a:pt x="1402" y="757"/>
                            </a:lnTo>
                            <a:lnTo>
                              <a:pt x="1402" y="741"/>
                            </a:lnTo>
                            <a:lnTo>
                              <a:pt x="1402" y="724"/>
                            </a:lnTo>
                            <a:lnTo>
                              <a:pt x="1402" y="705"/>
                            </a:lnTo>
                            <a:lnTo>
                              <a:pt x="1402" y="690"/>
                            </a:lnTo>
                            <a:lnTo>
                              <a:pt x="1400" y="673"/>
                            </a:lnTo>
                            <a:lnTo>
                              <a:pt x="1400" y="656"/>
                            </a:lnTo>
                            <a:lnTo>
                              <a:pt x="1398" y="654"/>
                            </a:lnTo>
                            <a:lnTo>
                              <a:pt x="1398" y="652"/>
                            </a:lnTo>
                            <a:lnTo>
                              <a:pt x="1398" y="648"/>
                            </a:lnTo>
                            <a:lnTo>
                              <a:pt x="1398" y="644"/>
                            </a:lnTo>
                            <a:lnTo>
                              <a:pt x="1398" y="643"/>
                            </a:lnTo>
                            <a:lnTo>
                              <a:pt x="1398" y="639"/>
                            </a:lnTo>
                            <a:lnTo>
                              <a:pt x="1396" y="637"/>
                            </a:lnTo>
                            <a:lnTo>
                              <a:pt x="1396" y="633"/>
                            </a:lnTo>
                            <a:lnTo>
                              <a:pt x="1396" y="631"/>
                            </a:lnTo>
                            <a:lnTo>
                              <a:pt x="1396" y="627"/>
                            </a:lnTo>
                            <a:lnTo>
                              <a:pt x="1396" y="623"/>
                            </a:lnTo>
                            <a:lnTo>
                              <a:pt x="1394" y="620"/>
                            </a:lnTo>
                            <a:lnTo>
                              <a:pt x="1394" y="618"/>
                            </a:lnTo>
                            <a:lnTo>
                              <a:pt x="1394" y="616"/>
                            </a:lnTo>
                            <a:lnTo>
                              <a:pt x="1392" y="612"/>
                            </a:lnTo>
                            <a:lnTo>
                              <a:pt x="1392" y="610"/>
                            </a:lnTo>
                            <a:lnTo>
                              <a:pt x="1392" y="608"/>
                            </a:lnTo>
                            <a:lnTo>
                              <a:pt x="1391" y="604"/>
                            </a:lnTo>
                            <a:lnTo>
                              <a:pt x="1391" y="603"/>
                            </a:lnTo>
                            <a:lnTo>
                              <a:pt x="1391" y="599"/>
                            </a:lnTo>
                            <a:lnTo>
                              <a:pt x="1389" y="597"/>
                            </a:lnTo>
                            <a:lnTo>
                              <a:pt x="1389" y="593"/>
                            </a:lnTo>
                            <a:lnTo>
                              <a:pt x="1389" y="589"/>
                            </a:lnTo>
                            <a:lnTo>
                              <a:pt x="1389" y="587"/>
                            </a:lnTo>
                            <a:lnTo>
                              <a:pt x="1387" y="585"/>
                            </a:lnTo>
                            <a:lnTo>
                              <a:pt x="1385" y="582"/>
                            </a:lnTo>
                            <a:lnTo>
                              <a:pt x="1385" y="580"/>
                            </a:lnTo>
                            <a:lnTo>
                              <a:pt x="1383" y="578"/>
                            </a:lnTo>
                            <a:lnTo>
                              <a:pt x="1383" y="572"/>
                            </a:lnTo>
                            <a:lnTo>
                              <a:pt x="1381" y="568"/>
                            </a:lnTo>
                            <a:lnTo>
                              <a:pt x="1377" y="563"/>
                            </a:lnTo>
                            <a:lnTo>
                              <a:pt x="1375" y="557"/>
                            </a:lnTo>
                            <a:lnTo>
                              <a:pt x="1373" y="553"/>
                            </a:lnTo>
                            <a:lnTo>
                              <a:pt x="1370" y="547"/>
                            </a:lnTo>
                            <a:lnTo>
                              <a:pt x="1366" y="544"/>
                            </a:lnTo>
                            <a:lnTo>
                              <a:pt x="1364" y="540"/>
                            </a:lnTo>
                            <a:lnTo>
                              <a:pt x="1360" y="536"/>
                            </a:lnTo>
                            <a:lnTo>
                              <a:pt x="1356" y="532"/>
                            </a:lnTo>
                            <a:lnTo>
                              <a:pt x="1353" y="528"/>
                            </a:lnTo>
                            <a:lnTo>
                              <a:pt x="1349" y="525"/>
                            </a:lnTo>
                            <a:lnTo>
                              <a:pt x="1345" y="523"/>
                            </a:lnTo>
                            <a:lnTo>
                              <a:pt x="1339" y="521"/>
                            </a:lnTo>
                            <a:lnTo>
                              <a:pt x="1335" y="517"/>
                            </a:lnTo>
                            <a:lnTo>
                              <a:pt x="1332" y="515"/>
                            </a:lnTo>
                            <a:lnTo>
                              <a:pt x="1326" y="515"/>
                            </a:lnTo>
                            <a:lnTo>
                              <a:pt x="1322" y="513"/>
                            </a:lnTo>
                            <a:lnTo>
                              <a:pt x="1318" y="511"/>
                            </a:lnTo>
                            <a:lnTo>
                              <a:pt x="1316" y="511"/>
                            </a:lnTo>
                            <a:lnTo>
                              <a:pt x="1313" y="511"/>
                            </a:lnTo>
                            <a:lnTo>
                              <a:pt x="1311" y="511"/>
                            </a:lnTo>
                            <a:lnTo>
                              <a:pt x="1309" y="509"/>
                            </a:lnTo>
                            <a:lnTo>
                              <a:pt x="1305" y="509"/>
                            </a:lnTo>
                            <a:lnTo>
                              <a:pt x="1303" y="509"/>
                            </a:lnTo>
                            <a:lnTo>
                              <a:pt x="1301" y="509"/>
                            </a:lnTo>
                            <a:lnTo>
                              <a:pt x="1297" y="509"/>
                            </a:lnTo>
                            <a:lnTo>
                              <a:pt x="1295" y="509"/>
                            </a:lnTo>
                            <a:lnTo>
                              <a:pt x="1292" y="509"/>
                            </a:lnTo>
                            <a:lnTo>
                              <a:pt x="1290" y="509"/>
                            </a:lnTo>
                            <a:lnTo>
                              <a:pt x="1284" y="509"/>
                            </a:lnTo>
                            <a:lnTo>
                              <a:pt x="1280" y="509"/>
                            </a:lnTo>
                            <a:lnTo>
                              <a:pt x="1275" y="509"/>
                            </a:lnTo>
                            <a:lnTo>
                              <a:pt x="1269" y="509"/>
                            </a:lnTo>
                            <a:lnTo>
                              <a:pt x="1265" y="509"/>
                            </a:lnTo>
                            <a:lnTo>
                              <a:pt x="1259" y="509"/>
                            </a:lnTo>
                            <a:lnTo>
                              <a:pt x="1256" y="511"/>
                            </a:lnTo>
                            <a:lnTo>
                              <a:pt x="1252" y="511"/>
                            </a:lnTo>
                            <a:lnTo>
                              <a:pt x="1246" y="515"/>
                            </a:lnTo>
                            <a:lnTo>
                              <a:pt x="1242" y="515"/>
                            </a:lnTo>
                            <a:lnTo>
                              <a:pt x="1238" y="517"/>
                            </a:lnTo>
                            <a:lnTo>
                              <a:pt x="1235" y="521"/>
                            </a:lnTo>
                            <a:lnTo>
                              <a:pt x="1231" y="523"/>
                            </a:lnTo>
                            <a:lnTo>
                              <a:pt x="1229" y="525"/>
                            </a:lnTo>
                            <a:lnTo>
                              <a:pt x="1225" y="527"/>
                            </a:lnTo>
                            <a:lnTo>
                              <a:pt x="1221" y="530"/>
                            </a:lnTo>
                            <a:lnTo>
                              <a:pt x="1219" y="532"/>
                            </a:lnTo>
                            <a:lnTo>
                              <a:pt x="1216" y="538"/>
                            </a:lnTo>
                            <a:lnTo>
                              <a:pt x="1214" y="542"/>
                            </a:lnTo>
                            <a:lnTo>
                              <a:pt x="1212" y="546"/>
                            </a:lnTo>
                            <a:lnTo>
                              <a:pt x="1210" y="549"/>
                            </a:lnTo>
                            <a:lnTo>
                              <a:pt x="1208" y="555"/>
                            </a:lnTo>
                            <a:lnTo>
                              <a:pt x="1208" y="557"/>
                            </a:lnTo>
                            <a:lnTo>
                              <a:pt x="1206" y="559"/>
                            </a:lnTo>
                            <a:lnTo>
                              <a:pt x="1204" y="561"/>
                            </a:lnTo>
                            <a:lnTo>
                              <a:pt x="1204" y="565"/>
                            </a:lnTo>
                            <a:lnTo>
                              <a:pt x="1204" y="566"/>
                            </a:lnTo>
                            <a:lnTo>
                              <a:pt x="1204" y="570"/>
                            </a:lnTo>
                            <a:lnTo>
                              <a:pt x="1204" y="572"/>
                            </a:lnTo>
                            <a:lnTo>
                              <a:pt x="1204" y="576"/>
                            </a:lnTo>
                            <a:lnTo>
                              <a:pt x="1139" y="895"/>
                            </a:lnTo>
                            <a:lnTo>
                              <a:pt x="1136" y="893"/>
                            </a:lnTo>
                            <a:lnTo>
                              <a:pt x="1132" y="892"/>
                            </a:lnTo>
                            <a:lnTo>
                              <a:pt x="1126" y="888"/>
                            </a:lnTo>
                            <a:lnTo>
                              <a:pt x="1122" y="886"/>
                            </a:lnTo>
                            <a:lnTo>
                              <a:pt x="1117" y="884"/>
                            </a:lnTo>
                            <a:lnTo>
                              <a:pt x="1113" y="880"/>
                            </a:lnTo>
                            <a:lnTo>
                              <a:pt x="1107" y="878"/>
                            </a:lnTo>
                            <a:lnTo>
                              <a:pt x="1105" y="876"/>
                            </a:lnTo>
                            <a:lnTo>
                              <a:pt x="1227" y="316"/>
                            </a:lnTo>
                            <a:lnTo>
                              <a:pt x="1227" y="312"/>
                            </a:lnTo>
                            <a:lnTo>
                              <a:pt x="1227" y="308"/>
                            </a:lnTo>
                            <a:lnTo>
                              <a:pt x="1229" y="306"/>
                            </a:lnTo>
                            <a:lnTo>
                              <a:pt x="1229" y="304"/>
                            </a:lnTo>
                            <a:lnTo>
                              <a:pt x="1229" y="300"/>
                            </a:lnTo>
                            <a:lnTo>
                              <a:pt x="1229" y="298"/>
                            </a:lnTo>
                            <a:lnTo>
                              <a:pt x="1229" y="295"/>
                            </a:lnTo>
                            <a:lnTo>
                              <a:pt x="1229" y="293"/>
                            </a:lnTo>
                            <a:lnTo>
                              <a:pt x="1229" y="291"/>
                            </a:lnTo>
                            <a:lnTo>
                              <a:pt x="1229" y="287"/>
                            </a:lnTo>
                            <a:lnTo>
                              <a:pt x="1229" y="285"/>
                            </a:lnTo>
                            <a:lnTo>
                              <a:pt x="1229" y="283"/>
                            </a:lnTo>
                            <a:lnTo>
                              <a:pt x="1229" y="278"/>
                            </a:lnTo>
                            <a:lnTo>
                              <a:pt x="1227" y="272"/>
                            </a:lnTo>
                            <a:lnTo>
                              <a:pt x="1225" y="268"/>
                            </a:lnTo>
                            <a:lnTo>
                              <a:pt x="1225" y="262"/>
                            </a:lnTo>
                            <a:lnTo>
                              <a:pt x="1223" y="257"/>
                            </a:lnTo>
                            <a:lnTo>
                              <a:pt x="1221" y="253"/>
                            </a:lnTo>
                            <a:lnTo>
                              <a:pt x="1219" y="247"/>
                            </a:lnTo>
                            <a:lnTo>
                              <a:pt x="1217" y="243"/>
                            </a:lnTo>
                            <a:lnTo>
                              <a:pt x="1216" y="240"/>
                            </a:lnTo>
                            <a:lnTo>
                              <a:pt x="1214" y="236"/>
                            </a:lnTo>
                            <a:lnTo>
                              <a:pt x="1210" y="232"/>
                            </a:lnTo>
                            <a:lnTo>
                              <a:pt x="1206" y="226"/>
                            </a:lnTo>
                            <a:lnTo>
                              <a:pt x="1202" y="222"/>
                            </a:lnTo>
                            <a:lnTo>
                              <a:pt x="1200" y="219"/>
                            </a:lnTo>
                            <a:lnTo>
                              <a:pt x="1197" y="215"/>
                            </a:lnTo>
                            <a:lnTo>
                              <a:pt x="1193" y="211"/>
                            </a:lnTo>
                            <a:lnTo>
                              <a:pt x="1189" y="207"/>
                            </a:lnTo>
                            <a:lnTo>
                              <a:pt x="1185" y="205"/>
                            </a:lnTo>
                            <a:lnTo>
                              <a:pt x="1179" y="203"/>
                            </a:lnTo>
                            <a:lnTo>
                              <a:pt x="1176" y="200"/>
                            </a:lnTo>
                            <a:lnTo>
                              <a:pt x="1172" y="198"/>
                            </a:lnTo>
                            <a:lnTo>
                              <a:pt x="1166" y="194"/>
                            </a:lnTo>
                            <a:lnTo>
                              <a:pt x="1160" y="192"/>
                            </a:lnTo>
                            <a:lnTo>
                              <a:pt x="1157" y="192"/>
                            </a:lnTo>
                            <a:lnTo>
                              <a:pt x="1151" y="190"/>
                            </a:lnTo>
                            <a:lnTo>
                              <a:pt x="1147" y="190"/>
                            </a:lnTo>
                            <a:lnTo>
                              <a:pt x="1143" y="188"/>
                            </a:lnTo>
                            <a:lnTo>
                              <a:pt x="1141" y="186"/>
                            </a:lnTo>
                            <a:lnTo>
                              <a:pt x="1138" y="186"/>
                            </a:lnTo>
                            <a:lnTo>
                              <a:pt x="1136" y="186"/>
                            </a:lnTo>
                            <a:lnTo>
                              <a:pt x="1134" y="186"/>
                            </a:lnTo>
                            <a:lnTo>
                              <a:pt x="1130" y="186"/>
                            </a:lnTo>
                            <a:lnTo>
                              <a:pt x="1128" y="186"/>
                            </a:lnTo>
                            <a:lnTo>
                              <a:pt x="1124" y="186"/>
                            </a:lnTo>
                            <a:lnTo>
                              <a:pt x="1122" y="186"/>
                            </a:lnTo>
                            <a:lnTo>
                              <a:pt x="1120" y="186"/>
                            </a:lnTo>
                            <a:lnTo>
                              <a:pt x="1117" y="186"/>
                            </a:lnTo>
                            <a:lnTo>
                              <a:pt x="1115" y="186"/>
                            </a:lnTo>
                            <a:lnTo>
                              <a:pt x="1109" y="186"/>
                            </a:lnTo>
                            <a:lnTo>
                              <a:pt x="1105" y="188"/>
                            </a:lnTo>
                            <a:lnTo>
                              <a:pt x="1100" y="188"/>
                            </a:lnTo>
                            <a:lnTo>
                              <a:pt x="1094" y="190"/>
                            </a:lnTo>
                            <a:lnTo>
                              <a:pt x="1090" y="192"/>
                            </a:lnTo>
                            <a:lnTo>
                              <a:pt x="1086" y="192"/>
                            </a:lnTo>
                            <a:lnTo>
                              <a:pt x="1081" y="194"/>
                            </a:lnTo>
                            <a:lnTo>
                              <a:pt x="1077" y="198"/>
                            </a:lnTo>
                            <a:lnTo>
                              <a:pt x="1073" y="200"/>
                            </a:lnTo>
                            <a:lnTo>
                              <a:pt x="1067" y="203"/>
                            </a:lnTo>
                            <a:lnTo>
                              <a:pt x="1063" y="205"/>
                            </a:lnTo>
                            <a:lnTo>
                              <a:pt x="1058" y="207"/>
                            </a:lnTo>
                            <a:lnTo>
                              <a:pt x="1054" y="211"/>
                            </a:lnTo>
                            <a:lnTo>
                              <a:pt x="1050" y="215"/>
                            </a:lnTo>
                            <a:lnTo>
                              <a:pt x="1048" y="219"/>
                            </a:lnTo>
                            <a:lnTo>
                              <a:pt x="1044" y="222"/>
                            </a:lnTo>
                            <a:lnTo>
                              <a:pt x="1041" y="226"/>
                            </a:lnTo>
                            <a:lnTo>
                              <a:pt x="1039" y="232"/>
                            </a:lnTo>
                            <a:lnTo>
                              <a:pt x="1035" y="234"/>
                            </a:lnTo>
                            <a:lnTo>
                              <a:pt x="1033" y="240"/>
                            </a:lnTo>
                            <a:lnTo>
                              <a:pt x="1029" y="243"/>
                            </a:lnTo>
                            <a:lnTo>
                              <a:pt x="1027" y="249"/>
                            </a:lnTo>
                            <a:lnTo>
                              <a:pt x="1025" y="253"/>
                            </a:lnTo>
                            <a:lnTo>
                              <a:pt x="1023" y="259"/>
                            </a:lnTo>
                            <a:lnTo>
                              <a:pt x="1022" y="260"/>
                            </a:lnTo>
                            <a:lnTo>
                              <a:pt x="1022" y="264"/>
                            </a:lnTo>
                            <a:lnTo>
                              <a:pt x="1022" y="266"/>
                            </a:lnTo>
                            <a:lnTo>
                              <a:pt x="1022" y="270"/>
                            </a:lnTo>
                            <a:lnTo>
                              <a:pt x="919" y="730"/>
                            </a:lnTo>
                            <a:lnTo>
                              <a:pt x="915" y="728"/>
                            </a:lnTo>
                            <a:lnTo>
                              <a:pt x="913" y="726"/>
                            </a:lnTo>
                            <a:lnTo>
                              <a:pt x="907" y="724"/>
                            </a:lnTo>
                            <a:lnTo>
                              <a:pt x="905" y="720"/>
                            </a:lnTo>
                            <a:lnTo>
                              <a:pt x="904" y="719"/>
                            </a:lnTo>
                            <a:lnTo>
                              <a:pt x="900" y="717"/>
                            </a:lnTo>
                            <a:lnTo>
                              <a:pt x="896" y="713"/>
                            </a:lnTo>
                            <a:lnTo>
                              <a:pt x="892" y="713"/>
                            </a:lnTo>
                            <a:lnTo>
                              <a:pt x="1022" y="129"/>
                            </a:lnTo>
                            <a:lnTo>
                              <a:pt x="1022" y="125"/>
                            </a:lnTo>
                            <a:lnTo>
                              <a:pt x="1022" y="124"/>
                            </a:lnTo>
                            <a:lnTo>
                              <a:pt x="1022" y="120"/>
                            </a:lnTo>
                            <a:lnTo>
                              <a:pt x="1022" y="118"/>
                            </a:lnTo>
                            <a:lnTo>
                              <a:pt x="1022" y="114"/>
                            </a:lnTo>
                            <a:lnTo>
                              <a:pt x="1022" y="112"/>
                            </a:lnTo>
                            <a:lnTo>
                              <a:pt x="1022" y="110"/>
                            </a:lnTo>
                            <a:lnTo>
                              <a:pt x="1022" y="106"/>
                            </a:lnTo>
                            <a:lnTo>
                              <a:pt x="1022" y="105"/>
                            </a:lnTo>
                            <a:lnTo>
                              <a:pt x="1022" y="103"/>
                            </a:lnTo>
                            <a:lnTo>
                              <a:pt x="1022" y="99"/>
                            </a:lnTo>
                            <a:lnTo>
                              <a:pt x="1022" y="97"/>
                            </a:lnTo>
                            <a:lnTo>
                              <a:pt x="1022" y="91"/>
                            </a:lnTo>
                            <a:lnTo>
                              <a:pt x="1022" y="86"/>
                            </a:lnTo>
                            <a:lnTo>
                              <a:pt x="1020" y="82"/>
                            </a:lnTo>
                            <a:lnTo>
                              <a:pt x="1018" y="76"/>
                            </a:lnTo>
                            <a:lnTo>
                              <a:pt x="1016" y="70"/>
                            </a:lnTo>
                            <a:lnTo>
                              <a:pt x="1014" y="67"/>
                            </a:lnTo>
                            <a:lnTo>
                              <a:pt x="1012" y="61"/>
                            </a:lnTo>
                            <a:lnTo>
                              <a:pt x="1010" y="57"/>
                            </a:lnTo>
                            <a:lnTo>
                              <a:pt x="1008" y="53"/>
                            </a:lnTo>
                            <a:lnTo>
                              <a:pt x="1006" y="48"/>
                            </a:lnTo>
                            <a:lnTo>
                              <a:pt x="1004" y="44"/>
                            </a:lnTo>
                            <a:lnTo>
                              <a:pt x="1001" y="40"/>
                            </a:lnTo>
                            <a:lnTo>
                              <a:pt x="997" y="36"/>
                            </a:lnTo>
                            <a:lnTo>
                              <a:pt x="993" y="32"/>
                            </a:lnTo>
                            <a:lnTo>
                              <a:pt x="991" y="29"/>
                            </a:lnTo>
                            <a:lnTo>
                              <a:pt x="985" y="25"/>
                            </a:lnTo>
                            <a:lnTo>
                              <a:pt x="983" y="23"/>
                            </a:lnTo>
                            <a:lnTo>
                              <a:pt x="978" y="19"/>
                            </a:lnTo>
                            <a:lnTo>
                              <a:pt x="972" y="17"/>
                            </a:lnTo>
                            <a:lnTo>
                              <a:pt x="968" y="13"/>
                            </a:lnTo>
                            <a:lnTo>
                              <a:pt x="964" y="11"/>
                            </a:lnTo>
                            <a:lnTo>
                              <a:pt x="961" y="10"/>
                            </a:lnTo>
                            <a:lnTo>
                              <a:pt x="955" y="6"/>
                            </a:lnTo>
                            <a:lnTo>
                              <a:pt x="949" y="6"/>
                            </a:lnTo>
                            <a:lnTo>
                              <a:pt x="944" y="4"/>
                            </a:lnTo>
                            <a:lnTo>
                              <a:pt x="940" y="4"/>
                            </a:lnTo>
                            <a:lnTo>
                              <a:pt x="936" y="2"/>
                            </a:lnTo>
                            <a:lnTo>
                              <a:pt x="934" y="2"/>
                            </a:lnTo>
                            <a:lnTo>
                              <a:pt x="932" y="0"/>
                            </a:lnTo>
                            <a:lnTo>
                              <a:pt x="928" y="0"/>
                            </a:lnTo>
                            <a:lnTo>
                              <a:pt x="926" y="0"/>
                            </a:lnTo>
                            <a:lnTo>
                              <a:pt x="925" y="0"/>
                            </a:lnTo>
                            <a:lnTo>
                              <a:pt x="921" y="0"/>
                            </a:lnTo>
                            <a:lnTo>
                              <a:pt x="919" y="0"/>
                            </a:lnTo>
                            <a:lnTo>
                              <a:pt x="915" y="0"/>
                            </a:lnTo>
                            <a:lnTo>
                              <a:pt x="913" y="0"/>
                            </a:lnTo>
                            <a:lnTo>
                              <a:pt x="911" y="0"/>
                            </a:lnTo>
                            <a:lnTo>
                              <a:pt x="907" y="0"/>
                            </a:lnTo>
                            <a:lnTo>
                              <a:pt x="904" y="0"/>
                            </a:lnTo>
                            <a:lnTo>
                              <a:pt x="898" y="2"/>
                            </a:lnTo>
                            <a:lnTo>
                              <a:pt x="896" y="2"/>
                            </a:lnTo>
                            <a:lnTo>
                              <a:pt x="892" y="2"/>
                            </a:lnTo>
                            <a:lnTo>
                              <a:pt x="890" y="2"/>
                            </a:lnTo>
                            <a:lnTo>
                              <a:pt x="888" y="4"/>
                            </a:lnTo>
                            <a:lnTo>
                              <a:pt x="881" y="4"/>
                            </a:lnTo>
                            <a:lnTo>
                              <a:pt x="877" y="6"/>
                            </a:lnTo>
                            <a:lnTo>
                              <a:pt x="873" y="10"/>
                            </a:lnTo>
                            <a:lnTo>
                              <a:pt x="867" y="11"/>
                            </a:lnTo>
                            <a:lnTo>
                              <a:pt x="864" y="15"/>
                            </a:lnTo>
                            <a:lnTo>
                              <a:pt x="860" y="17"/>
                            </a:lnTo>
                            <a:lnTo>
                              <a:pt x="854" y="19"/>
                            </a:lnTo>
                            <a:lnTo>
                              <a:pt x="850" y="23"/>
                            </a:lnTo>
                            <a:lnTo>
                              <a:pt x="847" y="25"/>
                            </a:lnTo>
                            <a:lnTo>
                              <a:pt x="843" y="29"/>
                            </a:lnTo>
                            <a:lnTo>
                              <a:pt x="839" y="32"/>
                            </a:lnTo>
                            <a:lnTo>
                              <a:pt x="835" y="36"/>
                            </a:lnTo>
                            <a:lnTo>
                              <a:pt x="833" y="40"/>
                            </a:lnTo>
                            <a:lnTo>
                              <a:pt x="831" y="44"/>
                            </a:lnTo>
                            <a:lnTo>
                              <a:pt x="828" y="48"/>
                            </a:lnTo>
                            <a:lnTo>
                              <a:pt x="824" y="53"/>
                            </a:lnTo>
                            <a:lnTo>
                              <a:pt x="822" y="57"/>
                            </a:lnTo>
                            <a:lnTo>
                              <a:pt x="820" y="61"/>
                            </a:lnTo>
                            <a:lnTo>
                              <a:pt x="818" y="67"/>
                            </a:lnTo>
                            <a:lnTo>
                              <a:pt x="816" y="70"/>
                            </a:lnTo>
                            <a:lnTo>
                              <a:pt x="816" y="74"/>
                            </a:lnTo>
                            <a:lnTo>
                              <a:pt x="814" y="76"/>
                            </a:lnTo>
                            <a:lnTo>
                              <a:pt x="812" y="82"/>
                            </a:lnTo>
                            <a:lnTo>
                              <a:pt x="812" y="84"/>
                            </a:lnTo>
                            <a:lnTo>
                              <a:pt x="687" y="663"/>
                            </a:lnTo>
                            <a:lnTo>
                              <a:pt x="681" y="663"/>
                            </a:lnTo>
                            <a:lnTo>
                              <a:pt x="677" y="663"/>
                            </a:lnTo>
                            <a:lnTo>
                              <a:pt x="673" y="663"/>
                            </a:lnTo>
                            <a:lnTo>
                              <a:pt x="670" y="663"/>
                            </a:lnTo>
                            <a:lnTo>
                              <a:pt x="666" y="663"/>
                            </a:lnTo>
                            <a:lnTo>
                              <a:pt x="660" y="665"/>
                            </a:lnTo>
                            <a:lnTo>
                              <a:pt x="656" y="665"/>
                            </a:lnTo>
                            <a:lnTo>
                              <a:pt x="652" y="667"/>
                            </a:lnTo>
                            <a:lnTo>
                              <a:pt x="753" y="213"/>
                            </a:lnTo>
                            <a:lnTo>
                              <a:pt x="753" y="209"/>
                            </a:lnTo>
                            <a:lnTo>
                              <a:pt x="753" y="207"/>
                            </a:lnTo>
                            <a:lnTo>
                              <a:pt x="753" y="203"/>
                            </a:lnTo>
                            <a:lnTo>
                              <a:pt x="753" y="201"/>
                            </a:lnTo>
                            <a:lnTo>
                              <a:pt x="753" y="198"/>
                            </a:lnTo>
                            <a:lnTo>
                              <a:pt x="753" y="196"/>
                            </a:lnTo>
                            <a:lnTo>
                              <a:pt x="753" y="192"/>
                            </a:lnTo>
                            <a:lnTo>
                              <a:pt x="753" y="190"/>
                            </a:lnTo>
                            <a:lnTo>
                              <a:pt x="753" y="188"/>
                            </a:lnTo>
                            <a:lnTo>
                              <a:pt x="753" y="184"/>
                            </a:lnTo>
                            <a:lnTo>
                              <a:pt x="753" y="182"/>
                            </a:lnTo>
                            <a:lnTo>
                              <a:pt x="753" y="181"/>
                            </a:lnTo>
                            <a:lnTo>
                              <a:pt x="753" y="175"/>
                            </a:lnTo>
                            <a:lnTo>
                              <a:pt x="753" y="169"/>
                            </a:lnTo>
                            <a:lnTo>
                              <a:pt x="751" y="167"/>
                            </a:lnTo>
                            <a:lnTo>
                              <a:pt x="751" y="163"/>
                            </a:lnTo>
                            <a:lnTo>
                              <a:pt x="751" y="162"/>
                            </a:lnTo>
                            <a:lnTo>
                              <a:pt x="750" y="160"/>
                            </a:lnTo>
                            <a:lnTo>
                              <a:pt x="748" y="154"/>
                            </a:lnTo>
                            <a:lnTo>
                              <a:pt x="746" y="148"/>
                            </a:lnTo>
                            <a:lnTo>
                              <a:pt x="744" y="144"/>
                            </a:lnTo>
                            <a:lnTo>
                              <a:pt x="742" y="141"/>
                            </a:lnTo>
                            <a:lnTo>
                              <a:pt x="740" y="135"/>
                            </a:lnTo>
                            <a:lnTo>
                              <a:pt x="738" y="131"/>
                            </a:lnTo>
                            <a:lnTo>
                              <a:pt x="734" y="127"/>
                            </a:lnTo>
                            <a:lnTo>
                              <a:pt x="730" y="124"/>
                            </a:lnTo>
                            <a:lnTo>
                              <a:pt x="727" y="120"/>
                            </a:lnTo>
                            <a:lnTo>
                              <a:pt x="725" y="116"/>
                            </a:lnTo>
                            <a:lnTo>
                              <a:pt x="721" y="112"/>
                            </a:lnTo>
                            <a:lnTo>
                              <a:pt x="717" y="108"/>
                            </a:lnTo>
                            <a:lnTo>
                              <a:pt x="713" y="105"/>
                            </a:lnTo>
                            <a:lnTo>
                              <a:pt x="710" y="103"/>
                            </a:lnTo>
                            <a:lnTo>
                              <a:pt x="704" y="99"/>
                            </a:lnTo>
                            <a:lnTo>
                              <a:pt x="700" y="97"/>
                            </a:lnTo>
                            <a:lnTo>
                              <a:pt x="694" y="95"/>
                            </a:lnTo>
                            <a:lnTo>
                              <a:pt x="691" y="91"/>
                            </a:lnTo>
                            <a:lnTo>
                              <a:pt x="685" y="89"/>
                            </a:lnTo>
                            <a:lnTo>
                              <a:pt x="681" y="87"/>
                            </a:lnTo>
                            <a:lnTo>
                              <a:pt x="675" y="86"/>
                            </a:lnTo>
                            <a:lnTo>
                              <a:pt x="672" y="86"/>
                            </a:lnTo>
                            <a:lnTo>
                              <a:pt x="668" y="84"/>
                            </a:lnTo>
                            <a:lnTo>
                              <a:pt x="666" y="84"/>
                            </a:lnTo>
                            <a:lnTo>
                              <a:pt x="664" y="84"/>
                            </a:lnTo>
                            <a:lnTo>
                              <a:pt x="660" y="84"/>
                            </a:lnTo>
                            <a:lnTo>
                              <a:pt x="658" y="84"/>
                            </a:lnTo>
                            <a:lnTo>
                              <a:pt x="654" y="84"/>
                            </a:lnTo>
                            <a:lnTo>
                              <a:pt x="652" y="84"/>
                            </a:lnTo>
                            <a:lnTo>
                              <a:pt x="651" y="84"/>
                            </a:lnTo>
                            <a:lnTo>
                              <a:pt x="647" y="84"/>
                            </a:lnTo>
                            <a:lnTo>
                              <a:pt x="645" y="84"/>
                            </a:lnTo>
                            <a:lnTo>
                              <a:pt x="643" y="84"/>
                            </a:lnTo>
                            <a:lnTo>
                              <a:pt x="639" y="84"/>
                            </a:lnTo>
                            <a:lnTo>
                              <a:pt x="635" y="84"/>
                            </a:lnTo>
                            <a:lnTo>
                              <a:pt x="630" y="84"/>
                            </a:lnTo>
                            <a:lnTo>
                              <a:pt x="628" y="84"/>
                            </a:lnTo>
                            <a:lnTo>
                              <a:pt x="624" y="86"/>
                            </a:lnTo>
                            <a:lnTo>
                              <a:pt x="622" y="86"/>
                            </a:lnTo>
                            <a:lnTo>
                              <a:pt x="618" y="86"/>
                            </a:lnTo>
                            <a:lnTo>
                              <a:pt x="614" y="87"/>
                            </a:lnTo>
                            <a:lnTo>
                              <a:pt x="609" y="89"/>
                            </a:lnTo>
                            <a:lnTo>
                              <a:pt x="603" y="91"/>
                            </a:lnTo>
                            <a:lnTo>
                              <a:pt x="599" y="95"/>
                            </a:lnTo>
                            <a:lnTo>
                              <a:pt x="595" y="97"/>
                            </a:lnTo>
                            <a:lnTo>
                              <a:pt x="592" y="99"/>
                            </a:lnTo>
                            <a:lnTo>
                              <a:pt x="586" y="103"/>
                            </a:lnTo>
                            <a:lnTo>
                              <a:pt x="582" y="105"/>
                            </a:lnTo>
                            <a:lnTo>
                              <a:pt x="578" y="108"/>
                            </a:lnTo>
                            <a:lnTo>
                              <a:pt x="574" y="112"/>
                            </a:lnTo>
                            <a:lnTo>
                              <a:pt x="571" y="116"/>
                            </a:lnTo>
                            <a:lnTo>
                              <a:pt x="567" y="120"/>
                            </a:lnTo>
                            <a:lnTo>
                              <a:pt x="565" y="124"/>
                            </a:lnTo>
                            <a:lnTo>
                              <a:pt x="563" y="127"/>
                            </a:lnTo>
                            <a:lnTo>
                              <a:pt x="559" y="131"/>
                            </a:lnTo>
                            <a:lnTo>
                              <a:pt x="555" y="135"/>
                            </a:lnTo>
                            <a:lnTo>
                              <a:pt x="554" y="141"/>
                            </a:lnTo>
                            <a:lnTo>
                              <a:pt x="552" y="146"/>
                            </a:lnTo>
                            <a:lnTo>
                              <a:pt x="550" y="150"/>
                            </a:lnTo>
                            <a:lnTo>
                              <a:pt x="548" y="156"/>
                            </a:lnTo>
                            <a:lnTo>
                              <a:pt x="546" y="158"/>
                            </a:lnTo>
                            <a:lnTo>
                              <a:pt x="546" y="160"/>
                            </a:lnTo>
                            <a:lnTo>
                              <a:pt x="544" y="163"/>
                            </a:lnTo>
                            <a:lnTo>
                              <a:pt x="544" y="167"/>
                            </a:lnTo>
                            <a:lnTo>
                              <a:pt x="361" y="1127"/>
                            </a:lnTo>
                            <a:lnTo>
                              <a:pt x="361" y="1127"/>
                            </a:lnTo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11" name="AutoShape 1131"/>
                    <p:cNvSpPr/>
                    <p:nvPr/>
                  </p:nvSpPr>
                  <p:spPr>
                    <a:xfrm rot="10690800">
                      <a:off x="4508640" y="2611080"/>
                      <a:ext cx="88560" cy="75960"/>
                    </a:xfrm>
                    <a:prstGeom prst="hexagon">
                      <a:avLst>
                        <a:gd name="adj" fmla="val 29147"/>
                        <a:gd name="vf" fmla="val 115470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80" bIns="1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12" name="Group 1132"/>
                  <p:cNvGrpSpPr/>
                  <p:nvPr/>
                </p:nvGrpSpPr>
                <p:grpSpPr>
                  <a:xfrm>
                    <a:off x="4444200" y="3123720"/>
                    <a:ext cx="249480" cy="1248120"/>
                    <a:chOff x="4444200" y="3123720"/>
                    <a:chExt cx="249480" cy="1248120"/>
                  </a:xfrm>
                </p:grpSpPr>
                <p:grpSp>
                  <p:nvGrpSpPr>
                    <p:cNvPr id="1313" name="Group 1133"/>
                    <p:cNvGrpSpPr/>
                    <p:nvPr/>
                  </p:nvGrpSpPr>
                  <p:grpSpPr>
                    <a:xfrm>
                      <a:off x="4444200" y="3123720"/>
                      <a:ext cx="249480" cy="614520"/>
                      <a:chOff x="4444200" y="3123720"/>
                      <a:chExt cx="249480" cy="614520"/>
                    </a:xfrm>
                  </p:grpSpPr>
                  <p:sp>
                    <p:nvSpPr>
                      <p:cNvPr id="1314" name="AutoShape 1134"/>
                      <p:cNvSpPr/>
                      <p:nvPr/>
                    </p:nvSpPr>
                    <p:spPr>
                      <a:xfrm rot="63600">
                        <a:off x="4470120" y="3245040"/>
                        <a:ext cx="179640" cy="49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1556" y="21600"/>
                            </a:lnTo>
                            <a:lnTo>
                              <a:pt x="20044" y="21600"/>
                            </a:lnTo>
                            <a:lnTo>
                              <a:pt x="2160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0c0c0"/>
                          </a:gs>
                          <a:gs pos="100000">
                            <a:srgbClr val="ffffff"/>
                          </a:gs>
                        </a:gsLst>
                        <a:lin ang="180000"/>
                      </a:gradFill>
                      <a:ln w="93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5" name="AutoShape 1135"/>
                      <p:cNvSpPr/>
                      <p:nvPr/>
                    </p:nvSpPr>
                    <p:spPr>
                      <a:xfrm rot="5641800">
                        <a:off x="4473000" y="3108960"/>
                        <a:ext cx="191520" cy="23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934" y="2201"/>
                              <a:pt x="12267" y="5080"/>
                              <a:pt x="12267" y="10800"/>
                            </a:cubicBezTo>
                            <a:cubicBezTo>
                              <a:pt x="12267" y="16520"/>
                              <a:pt x="16934" y="19399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dddddd"/>
                          </a:gs>
                        </a:gsLst>
                        <a:lin ang="16200000"/>
                      </a:gradFill>
                      <a:ln w="93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16" name="Group 1136"/>
                    <p:cNvGrpSpPr/>
                    <p:nvPr/>
                  </p:nvGrpSpPr>
                  <p:grpSpPr>
                    <a:xfrm>
                      <a:off x="4446360" y="3622680"/>
                      <a:ext cx="230040" cy="749160"/>
                      <a:chOff x="4446360" y="3622680"/>
                      <a:chExt cx="230040" cy="749160"/>
                    </a:xfrm>
                  </p:grpSpPr>
                  <p:sp>
                    <p:nvSpPr>
                      <p:cNvPr id="1317" name="AutoShape 1137"/>
                      <p:cNvSpPr/>
                      <p:nvPr/>
                    </p:nvSpPr>
                    <p:spPr>
                      <a:xfrm rot="78600">
                        <a:off x="4460400" y="3758400"/>
                        <a:ext cx="180360" cy="360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4308" y="21600"/>
                            </a:lnTo>
                            <a:lnTo>
                              <a:pt x="17292" y="21600"/>
                            </a:lnTo>
                            <a:lnTo>
                              <a:pt x="2160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0c0c0"/>
                          </a:gs>
                          <a:gs pos="100000">
                            <a:srgbClr val="ffffff"/>
                          </a:gs>
                        </a:gsLst>
                        <a:lin ang="540000"/>
                      </a:gradFill>
                      <a:ln w="936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8" name="Oval 1138"/>
                      <p:cNvSpPr/>
                      <p:nvPr/>
                    </p:nvSpPr>
                    <p:spPr>
                      <a:xfrm rot="617400">
                        <a:off x="4461480" y="3637800"/>
                        <a:ext cx="187200" cy="1904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dddddd"/>
                          </a:gs>
                          <a:gs pos="100000">
                            <a:srgbClr val="ffffff"/>
                          </a:gs>
                        </a:gsLst>
                        <a:lin ang="0"/>
                      </a:gradFill>
                      <a:ln w="9360">
                        <a:solidFill>
                          <a:srgbClr val="c0c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9" name="Freeform 1139"/>
                      <p:cNvSpPr/>
                      <p:nvPr/>
                    </p:nvSpPr>
                    <p:spPr>
                      <a:xfrm rot="10112400">
                        <a:off x="4473720" y="4069440"/>
                        <a:ext cx="175680" cy="28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02" h="2302">
                            <a:moveTo>
                              <a:pt x="361" y="1127"/>
                            </a:moveTo>
                            <a:lnTo>
                              <a:pt x="280" y="1116"/>
                            </a:lnTo>
                            <a:lnTo>
                              <a:pt x="373" y="711"/>
                            </a:lnTo>
                            <a:lnTo>
                              <a:pt x="373" y="709"/>
                            </a:lnTo>
                            <a:lnTo>
                              <a:pt x="375" y="705"/>
                            </a:lnTo>
                            <a:lnTo>
                              <a:pt x="375" y="703"/>
                            </a:lnTo>
                            <a:lnTo>
                              <a:pt x="375" y="700"/>
                            </a:lnTo>
                            <a:lnTo>
                              <a:pt x="375" y="698"/>
                            </a:lnTo>
                            <a:lnTo>
                              <a:pt x="375" y="696"/>
                            </a:lnTo>
                            <a:lnTo>
                              <a:pt x="375" y="692"/>
                            </a:lnTo>
                            <a:lnTo>
                              <a:pt x="375" y="690"/>
                            </a:lnTo>
                            <a:lnTo>
                              <a:pt x="375" y="684"/>
                            </a:lnTo>
                            <a:lnTo>
                              <a:pt x="375" y="681"/>
                            </a:lnTo>
                            <a:lnTo>
                              <a:pt x="375" y="675"/>
                            </a:lnTo>
                            <a:lnTo>
                              <a:pt x="375" y="669"/>
                            </a:lnTo>
                            <a:lnTo>
                              <a:pt x="371" y="665"/>
                            </a:lnTo>
                            <a:lnTo>
                              <a:pt x="371" y="660"/>
                            </a:lnTo>
                            <a:lnTo>
                              <a:pt x="369" y="654"/>
                            </a:lnTo>
                            <a:lnTo>
                              <a:pt x="367" y="652"/>
                            </a:lnTo>
                            <a:lnTo>
                              <a:pt x="365" y="646"/>
                            </a:lnTo>
                            <a:lnTo>
                              <a:pt x="363" y="641"/>
                            </a:lnTo>
                            <a:lnTo>
                              <a:pt x="361" y="637"/>
                            </a:lnTo>
                            <a:lnTo>
                              <a:pt x="358" y="633"/>
                            </a:lnTo>
                            <a:lnTo>
                              <a:pt x="356" y="629"/>
                            </a:lnTo>
                            <a:lnTo>
                              <a:pt x="354" y="623"/>
                            </a:lnTo>
                            <a:lnTo>
                              <a:pt x="350" y="620"/>
                            </a:lnTo>
                            <a:lnTo>
                              <a:pt x="346" y="616"/>
                            </a:lnTo>
                            <a:lnTo>
                              <a:pt x="342" y="612"/>
                            </a:lnTo>
                            <a:lnTo>
                              <a:pt x="339" y="610"/>
                            </a:lnTo>
                            <a:lnTo>
                              <a:pt x="335" y="606"/>
                            </a:lnTo>
                            <a:lnTo>
                              <a:pt x="331" y="603"/>
                            </a:lnTo>
                            <a:lnTo>
                              <a:pt x="325" y="601"/>
                            </a:lnTo>
                            <a:lnTo>
                              <a:pt x="321" y="597"/>
                            </a:lnTo>
                            <a:lnTo>
                              <a:pt x="318" y="595"/>
                            </a:lnTo>
                            <a:lnTo>
                              <a:pt x="312" y="593"/>
                            </a:lnTo>
                            <a:lnTo>
                              <a:pt x="306" y="591"/>
                            </a:lnTo>
                            <a:lnTo>
                              <a:pt x="302" y="589"/>
                            </a:lnTo>
                            <a:lnTo>
                              <a:pt x="299" y="589"/>
                            </a:lnTo>
                            <a:lnTo>
                              <a:pt x="295" y="587"/>
                            </a:lnTo>
                            <a:lnTo>
                              <a:pt x="291" y="587"/>
                            </a:lnTo>
                            <a:lnTo>
                              <a:pt x="287" y="585"/>
                            </a:lnTo>
                            <a:lnTo>
                              <a:pt x="285" y="585"/>
                            </a:lnTo>
                            <a:lnTo>
                              <a:pt x="283" y="585"/>
                            </a:lnTo>
                            <a:lnTo>
                              <a:pt x="280" y="585"/>
                            </a:lnTo>
                            <a:lnTo>
                              <a:pt x="276" y="585"/>
                            </a:lnTo>
                            <a:lnTo>
                              <a:pt x="274" y="585"/>
                            </a:lnTo>
                            <a:lnTo>
                              <a:pt x="272" y="585"/>
                            </a:lnTo>
                            <a:lnTo>
                              <a:pt x="268" y="585"/>
                            </a:lnTo>
                            <a:lnTo>
                              <a:pt x="266" y="585"/>
                            </a:lnTo>
                            <a:lnTo>
                              <a:pt x="263" y="585"/>
                            </a:lnTo>
                            <a:lnTo>
                              <a:pt x="261" y="587"/>
                            </a:lnTo>
                            <a:lnTo>
                              <a:pt x="259" y="587"/>
                            </a:lnTo>
                            <a:lnTo>
                              <a:pt x="255" y="587"/>
                            </a:lnTo>
                            <a:lnTo>
                              <a:pt x="253" y="589"/>
                            </a:lnTo>
                            <a:lnTo>
                              <a:pt x="249" y="589"/>
                            </a:lnTo>
                            <a:lnTo>
                              <a:pt x="247" y="589"/>
                            </a:lnTo>
                            <a:lnTo>
                              <a:pt x="243" y="591"/>
                            </a:lnTo>
                            <a:lnTo>
                              <a:pt x="240" y="591"/>
                            </a:lnTo>
                            <a:lnTo>
                              <a:pt x="238" y="593"/>
                            </a:lnTo>
                            <a:lnTo>
                              <a:pt x="236" y="595"/>
                            </a:lnTo>
                            <a:lnTo>
                              <a:pt x="232" y="595"/>
                            </a:lnTo>
                            <a:lnTo>
                              <a:pt x="230" y="597"/>
                            </a:lnTo>
                            <a:lnTo>
                              <a:pt x="228" y="599"/>
                            </a:lnTo>
                            <a:lnTo>
                              <a:pt x="224" y="601"/>
                            </a:lnTo>
                            <a:lnTo>
                              <a:pt x="223" y="601"/>
                            </a:lnTo>
                            <a:lnTo>
                              <a:pt x="219" y="603"/>
                            </a:lnTo>
                            <a:lnTo>
                              <a:pt x="217" y="604"/>
                            </a:lnTo>
                            <a:lnTo>
                              <a:pt x="211" y="608"/>
                            </a:lnTo>
                            <a:lnTo>
                              <a:pt x="207" y="612"/>
                            </a:lnTo>
                            <a:lnTo>
                              <a:pt x="204" y="616"/>
                            </a:lnTo>
                            <a:lnTo>
                              <a:pt x="198" y="618"/>
                            </a:lnTo>
                            <a:lnTo>
                              <a:pt x="194" y="623"/>
                            </a:lnTo>
                            <a:lnTo>
                              <a:pt x="188" y="627"/>
                            </a:lnTo>
                            <a:lnTo>
                              <a:pt x="185" y="633"/>
                            </a:lnTo>
                            <a:lnTo>
                              <a:pt x="181" y="637"/>
                            </a:lnTo>
                            <a:lnTo>
                              <a:pt x="177" y="641"/>
                            </a:lnTo>
                            <a:lnTo>
                              <a:pt x="173" y="646"/>
                            </a:lnTo>
                            <a:lnTo>
                              <a:pt x="169" y="652"/>
                            </a:lnTo>
                            <a:lnTo>
                              <a:pt x="166" y="656"/>
                            </a:lnTo>
                            <a:lnTo>
                              <a:pt x="162" y="662"/>
                            </a:lnTo>
                            <a:lnTo>
                              <a:pt x="160" y="665"/>
                            </a:lnTo>
                            <a:lnTo>
                              <a:pt x="158" y="669"/>
                            </a:lnTo>
                            <a:lnTo>
                              <a:pt x="158" y="671"/>
                            </a:lnTo>
                            <a:lnTo>
                              <a:pt x="156" y="673"/>
                            </a:lnTo>
                            <a:lnTo>
                              <a:pt x="154" y="677"/>
                            </a:lnTo>
                            <a:lnTo>
                              <a:pt x="152" y="679"/>
                            </a:lnTo>
                            <a:lnTo>
                              <a:pt x="152" y="681"/>
                            </a:lnTo>
                            <a:lnTo>
                              <a:pt x="150" y="684"/>
                            </a:lnTo>
                            <a:lnTo>
                              <a:pt x="150" y="688"/>
                            </a:lnTo>
                            <a:lnTo>
                              <a:pt x="146" y="694"/>
                            </a:lnTo>
                            <a:lnTo>
                              <a:pt x="145" y="701"/>
                            </a:lnTo>
                            <a:lnTo>
                              <a:pt x="143" y="709"/>
                            </a:lnTo>
                            <a:lnTo>
                              <a:pt x="139" y="717"/>
                            </a:lnTo>
                            <a:lnTo>
                              <a:pt x="137" y="724"/>
                            </a:lnTo>
                            <a:lnTo>
                              <a:pt x="135" y="732"/>
                            </a:lnTo>
                            <a:lnTo>
                              <a:pt x="131" y="739"/>
                            </a:lnTo>
                            <a:lnTo>
                              <a:pt x="129" y="747"/>
                            </a:lnTo>
                            <a:lnTo>
                              <a:pt x="126" y="755"/>
                            </a:lnTo>
                            <a:lnTo>
                              <a:pt x="124" y="760"/>
                            </a:lnTo>
                            <a:lnTo>
                              <a:pt x="122" y="768"/>
                            </a:lnTo>
                            <a:lnTo>
                              <a:pt x="120" y="776"/>
                            </a:lnTo>
                            <a:lnTo>
                              <a:pt x="116" y="781"/>
                            </a:lnTo>
                            <a:lnTo>
                              <a:pt x="114" y="789"/>
                            </a:lnTo>
                            <a:lnTo>
                              <a:pt x="112" y="796"/>
                            </a:lnTo>
                            <a:lnTo>
                              <a:pt x="110" y="804"/>
                            </a:lnTo>
                            <a:lnTo>
                              <a:pt x="107" y="812"/>
                            </a:lnTo>
                            <a:lnTo>
                              <a:pt x="107" y="817"/>
                            </a:lnTo>
                            <a:lnTo>
                              <a:pt x="103" y="823"/>
                            </a:lnTo>
                            <a:lnTo>
                              <a:pt x="101" y="831"/>
                            </a:lnTo>
                            <a:lnTo>
                              <a:pt x="97" y="836"/>
                            </a:lnTo>
                            <a:lnTo>
                              <a:pt x="97" y="844"/>
                            </a:lnTo>
                            <a:lnTo>
                              <a:pt x="93" y="852"/>
                            </a:lnTo>
                            <a:lnTo>
                              <a:pt x="93" y="857"/>
                            </a:lnTo>
                            <a:lnTo>
                              <a:pt x="89" y="865"/>
                            </a:lnTo>
                            <a:lnTo>
                              <a:pt x="88" y="871"/>
                            </a:lnTo>
                            <a:lnTo>
                              <a:pt x="86" y="878"/>
                            </a:lnTo>
                            <a:lnTo>
                              <a:pt x="84" y="884"/>
                            </a:lnTo>
                            <a:lnTo>
                              <a:pt x="82" y="892"/>
                            </a:lnTo>
                            <a:lnTo>
                              <a:pt x="80" y="899"/>
                            </a:lnTo>
                            <a:lnTo>
                              <a:pt x="78" y="907"/>
                            </a:lnTo>
                            <a:lnTo>
                              <a:pt x="74" y="912"/>
                            </a:lnTo>
                            <a:lnTo>
                              <a:pt x="72" y="920"/>
                            </a:lnTo>
                            <a:lnTo>
                              <a:pt x="72" y="926"/>
                            </a:lnTo>
                            <a:lnTo>
                              <a:pt x="68" y="931"/>
                            </a:lnTo>
                            <a:lnTo>
                              <a:pt x="67" y="939"/>
                            </a:lnTo>
                            <a:lnTo>
                              <a:pt x="65" y="945"/>
                            </a:lnTo>
                            <a:lnTo>
                              <a:pt x="63" y="952"/>
                            </a:lnTo>
                            <a:lnTo>
                              <a:pt x="59" y="958"/>
                            </a:lnTo>
                            <a:lnTo>
                              <a:pt x="57" y="966"/>
                            </a:lnTo>
                            <a:lnTo>
                              <a:pt x="55" y="971"/>
                            </a:lnTo>
                            <a:lnTo>
                              <a:pt x="53" y="979"/>
                            </a:lnTo>
                            <a:lnTo>
                              <a:pt x="51" y="987"/>
                            </a:lnTo>
                            <a:lnTo>
                              <a:pt x="49" y="994"/>
                            </a:lnTo>
                            <a:lnTo>
                              <a:pt x="48" y="1000"/>
                            </a:lnTo>
                            <a:lnTo>
                              <a:pt x="46" y="1007"/>
                            </a:lnTo>
                            <a:lnTo>
                              <a:pt x="44" y="1015"/>
                            </a:lnTo>
                            <a:lnTo>
                              <a:pt x="42" y="1021"/>
                            </a:lnTo>
                            <a:lnTo>
                              <a:pt x="42" y="1028"/>
                            </a:lnTo>
                            <a:lnTo>
                              <a:pt x="38" y="1036"/>
                            </a:lnTo>
                            <a:lnTo>
                              <a:pt x="36" y="1042"/>
                            </a:lnTo>
                            <a:lnTo>
                              <a:pt x="36" y="1049"/>
                            </a:lnTo>
                            <a:lnTo>
                              <a:pt x="34" y="1057"/>
                            </a:lnTo>
                            <a:lnTo>
                              <a:pt x="30" y="1063"/>
                            </a:lnTo>
                            <a:lnTo>
                              <a:pt x="30" y="1070"/>
                            </a:lnTo>
                            <a:lnTo>
                              <a:pt x="29" y="1078"/>
                            </a:lnTo>
                            <a:lnTo>
                              <a:pt x="27" y="1085"/>
                            </a:lnTo>
                            <a:lnTo>
                              <a:pt x="25" y="1093"/>
                            </a:lnTo>
                            <a:lnTo>
                              <a:pt x="23" y="1101"/>
                            </a:lnTo>
                            <a:lnTo>
                              <a:pt x="21" y="1108"/>
                            </a:lnTo>
                            <a:lnTo>
                              <a:pt x="19" y="1116"/>
                            </a:lnTo>
                            <a:lnTo>
                              <a:pt x="17" y="1123"/>
                            </a:lnTo>
                            <a:lnTo>
                              <a:pt x="17" y="1131"/>
                            </a:lnTo>
                            <a:lnTo>
                              <a:pt x="15" y="1139"/>
                            </a:lnTo>
                            <a:lnTo>
                              <a:pt x="13" y="1148"/>
                            </a:lnTo>
                            <a:lnTo>
                              <a:pt x="10" y="1158"/>
                            </a:lnTo>
                            <a:lnTo>
                              <a:pt x="10" y="1165"/>
                            </a:lnTo>
                            <a:lnTo>
                              <a:pt x="8" y="1175"/>
                            </a:lnTo>
                            <a:lnTo>
                              <a:pt x="6" y="1182"/>
                            </a:lnTo>
                            <a:lnTo>
                              <a:pt x="6" y="1192"/>
                            </a:lnTo>
                            <a:lnTo>
                              <a:pt x="4" y="1201"/>
                            </a:lnTo>
                            <a:lnTo>
                              <a:pt x="2" y="1211"/>
                            </a:lnTo>
                            <a:lnTo>
                              <a:pt x="2" y="1218"/>
                            </a:lnTo>
                            <a:lnTo>
                              <a:pt x="0" y="1230"/>
                            </a:lnTo>
                            <a:lnTo>
                              <a:pt x="0" y="1237"/>
                            </a:lnTo>
                            <a:lnTo>
                              <a:pt x="0" y="1247"/>
                            </a:lnTo>
                            <a:lnTo>
                              <a:pt x="0" y="1257"/>
                            </a:lnTo>
                            <a:lnTo>
                              <a:pt x="0" y="1268"/>
                            </a:lnTo>
                            <a:lnTo>
                              <a:pt x="0" y="1276"/>
                            </a:lnTo>
                            <a:lnTo>
                              <a:pt x="0" y="1285"/>
                            </a:lnTo>
                            <a:lnTo>
                              <a:pt x="0" y="1296"/>
                            </a:lnTo>
                            <a:lnTo>
                              <a:pt x="0" y="1304"/>
                            </a:lnTo>
                            <a:lnTo>
                              <a:pt x="0" y="1314"/>
                            </a:lnTo>
                            <a:lnTo>
                              <a:pt x="0" y="1323"/>
                            </a:lnTo>
                            <a:lnTo>
                              <a:pt x="0" y="1333"/>
                            </a:lnTo>
                            <a:lnTo>
                              <a:pt x="2" y="1342"/>
                            </a:lnTo>
                            <a:lnTo>
                              <a:pt x="2" y="1352"/>
                            </a:lnTo>
                            <a:lnTo>
                              <a:pt x="4" y="1363"/>
                            </a:lnTo>
                            <a:lnTo>
                              <a:pt x="4" y="1371"/>
                            </a:lnTo>
                            <a:lnTo>
                              <a:pt x="6" y="1382"/>
                            </a:lnTo>
                            <a:lnTo>
                              <a:pt x="8" y="1390"/>
                            </a:lnTo>
                            <a:lnTo>
                              <a:pt x="8" y="1401"/>
                            </a:lnTo>
                            <a:lnTo>
                              <a:pt x="10" y="1409"/>
                            </a:lnTo>
                            <a:lnTo>
                              <a:pt x="11" y="1420"/>
                            </a:lnTo>
                            <a:lnTo>
                              <a:pt x="13" y="1429"/>
                            </a:lnTo>
                            <a:lnTo>
                              <a:pt x="15" y="1439"/>
                            </a:lnTo>
                            <a:lnTo>
                              <a:pt x="17" y="1448"/>
                            </a:lnTo>
                            <a:lnTo>
                              <a:pt x="19" y="1458"/>
                            </a:lnTo>
                            <a:lnTo>
                              <a:pt x="21" y="1468"/>
                            </a:lnTo>
                            <a:lnTo>
                              <a:pt x="23" y="1477"/>
                            </a:lnTo>
                            <a:lnTo>
                              <a:pt x="27" y="1487"/>
                            </a:lnTo>
                            <a:lnTo>
                              <a:pt x="29" y="1496"/>
                            </a:lnTo>
                            <a:lnTo>
                              <a:pt x="30" y="1506"/>
                            </a:lnTo>
                            <a:lnTo>
                              <a:pt x="34" y="1515"/>
                            </a:lnTo>
                            <a:lnTo>
                              <a:pt x="36" y="1525"/>
                            </a:lnTo>
                            <a:lnTo>
                              <a:pt x="38" y="1534"/>
                            </a:lnTo>
                            <a:lnTo>
                              <a:pt x="42" y="1544"/>
                            </a:lnTo>
                            <a:lnTo>
                              <a:pt x="46" y="1553"/>
                            </a:lnTo>
                            <a:lnTo>
                              <a:pt x="48" y="1561"/>
                            </a:lnTo>
                            <a:lnTo>
                              <a:pt x="51" y="1572"/>
                            </a:lnTo>
                            <a:lnTo>
                              <a:pt x="55" y="1580"/>
                            </a:lnTo>
                            <a:lnTo>
                              <a:pt x="59" y="1589"/>
                            </a:lnTo>
                            <a:lnTo>
                              <a:pt x="63" y="1599"/>
                            </a:lnTo>
                            <a:lnTo>
                              <a:pt x="67" y="1608"/>
                            </a:lnTo>
                            <a:lnTo>
                              <a:pt x="68" y="1616"/>
                            </a:lnTo>
                            <a:lnTo>
                              <a:pt x="74" y="1627"/>
                            </a:lnTo>
                            <a:lnTo>
                              <a:pt x="78" y="1635"/>
                            </a:lnTo>
                            <a:lnTo>
                              <a:pt x="82" y="1644"/>
                            </a:lnTo>
                            <a:lnTo>
                              <a:pt x="86" y="1652"/>
                            </a:lnTo>
                            <a:lnTo>
                              <a:pt x="89" y="1661"/>
                            </a:lnTo>
                            <a:lnTo>
                              <a:pt x="95" y="1669"/>
                            </a:lnTo>
                            <a:lnTo>
                              <a:pt x="99" y="1679"/>
                            </a:lnTo>
                            <a:lnTo>
                              <a:pt x="103" y="1688"/>
                            </a:lnTo>
                            <a:lnTo>
                              <a:pt x="108" y="1696"/>
                            </a:lnTo>
                            <a:lnTo>
                              <a:pt x="114" y="1703"/>
                            </a:lnTo>
                            <a:lnTo>
                              <a:pt x="118" y="1713"/>
                            </a:lnTo>
                            <a:lnTo>
                              <a:pt x="124" y="1722"/>
                            </a:lnTo>
                            <a:lnTo>
                              <a:pt x="127" y="1732"/>
                            </a:lnTo>
                            <a:lnTo>
                              <a:pt x="131" y="1736"/>
                            </a:lnTo>
                            <a:lnTo>
                              <a:pt x="135" y="1739"/>
                            </a:lnTo>
                            <a:lnTo>
                              <a:pt x="135" y="1743"/>
                            </a:lnTo>
                            <a:lnTo>
                              <a:pt x="137" y="1745"/>
                            </a:lnTo>
                            <a:lnTo>
                              <a:pt x="139" y="1747"/>
                            </a:lnTo>
                            <a:lnTo>
                              <a:pt x="141" y="1751"/>
                            </a:lnTo>
                            <a:lnTo>
                              <a:pt x="143" y="1755"/>
                            </a:lnTo>
                            <a:lnTo>
                              <a:pt x="143" y="1756"/>
                            </a:lnTo>
                            <a:lnTo>
                              <a:pt x="145" y="1760"/>
                            </a:lnTo>
                            <a:lnTo>
                              <a:pt x="146" y="1762"/>
                            </a:lnTo>
                            <a:lnTo>
                              <a:pt x="148" y="1766"/>
                            </a:lnTo>
                            <a:lnTo>
                              <a:pt x="150" y="1768"/>
                            </a:lnTo>
                            <a:lnTo>
                              <a:pt x="152" y="1770"/>
                            </a:lnTo>
                            <a:lnTo>
                              <a:pt x="156" y="1774"/>
                            </a:lnTo>
                            <a:lnTo>
                              <a:pt x="158" y="1777"/>
                            </a:lnTo>
                            <a:lnTo>
                              <a:pt x="160" y="1779"/>
                            </a:lnTo>
                            <a:lnTo>
                              <a:pt x="160" y="1783"/>
                            </a:lnTo>
                            <a:lnTo>
                              <a:pt x="162" y="1787"/>
                            </a:lnTo>
                            <a:lnTo>
                              <a:pt x="166" y="1789"/>
                            </a:lnTo>
                            <a:lnTo>
                              <a:pt x="166" y="1791"/>
                            </a:lnTo>
                            <a:lnTo>
                              <a:pt x="167" y="1794"/>
                            </a:lnTo>
                            <a:lnTo>
                              <a:pt x="169" y="1796"/>
                            </a:lnTo>
                            <a:lnTo>
                              <a:pt x="171" y="1800"/>
                            </a:lnTo>
                            <a:lnTo>
                              <a:pt x="173" y="1802"/>
                            </a:lnTo>
                            <a:lnTo>
                              <a:pt x="175" y="1806"/>
                            </a:lnTo>
                            <a:lnTo>
                              <a:pt x="177" y="1808"/>
                            </a:lnTo>
                            <a:lnTo>
                              <a:pt x="179" y="1812"/>
                            </a:lnTo>
                            <a:lnTo>
                              <a:pt x="181" y="1815"/>
                            </a:lnTo>
                            <a:lnTo>
                              <a:pt x="183" y="1817"/>
                            </a:lnTo>
                            <a:lnTo>
                              <a:pt x="185" y="1821"/>
                            </a:lnTo>
                            <a:lnTo>
                              <a:pt x="188" y="1827"/>
                            </a:lnTo>
                            <a:lnTo>
                              <a:pt x="190" y="1831"/>
                            </a:lnTo>
                            <a:lnTo>
                              <a:pt x="194" y="1836"/>
                            </a:lnTo>
                            <a:lnTo>
                              <a:pt x="198" y="1842"/>
                            </a:lnTo>
                            <a:lnTo>
                              <a:pt x="200" y="1846"/>
                            </a:lnTo>
                            <a:lnTo>
                              <a:pt x="204" y="1850"/>
                            </a:lnTo>
                            <a:lnTo>
                              <a:pt x="205" y="1853"/>
                            </a:lnTo>
                            <a:lnTo>
                              <a:pt x="207" y="1859"/>
                            </a:lnTo>
                            <a:lnTo>
                              <a:pt x="209" y="1861"/>
                            </a:lnTo>
                            <a:lnTo>
                              <a:pt x="211" y="1863"/>
                            </a:lnTo>
                            <a:lnTo>
                              <a:pt x="213" y="1867"/>
                            </a:lnTo>
                            <a:lnTo>
                              <a:pt x="215" y="1869"/>
                            </a:lnTo>
                            <a:lnTo>
                              <a:pt x="217" y="1870"/>
                            </a:lnTo>
                            <a:lnTo>
                              <a:pt x="219" y="1874"/>
                            </a:lnTo>
                            <a:lnTo>
                              <a:pt x="141" y="2163"/>
                            </a:lnTo>
                            <a:lnTo>
                              <a:pt x="143" y="2165"/>
                            </a:lnTo>
                            <a:lnTo>
                              <a:pt x="146" y="2165"/>
                            </a:lnTo>
                            <a:lnTo>
                              <a:pt x="150" y="2167"/>
                            </a:lnTo>
                            <a:lnTo>
                              <a:pt x="152" y="2167"/>
                            </a:lnTo>
                            <a:lnTo>
                              <a:pt x="154" y="2167"/>
                            </a:lnTo>
                            <a:lnTo>
                              <a:pt x="158" y="2167"/>
                            </a:lnTo>
                            <a:lnTo>
                              <a:pt x="162" y="2171"/>
                            </a:lnTo>
                            <a:lnTo>
                              <a:pt x="166" y="2171"/>
                            </a:lnTo>
                            <a:lnTo>
                              <a:pt x="167" y="2173"/>
                            </a:lnTo>
                            <a:lnTo>
                              <a:pt x="171" y="2173"/>
                            </a:lnTo>
                            <a:lnTo>
                              <a:pt x="175" y="2175"/>
                            </a:lnTo>
                            <a:lnTo>
                              <a:pt x="181" y="2175"/>
                            </a:lnTo>
                            <a:lnTo>
                              <a:pt x="185" y="2175"/>
                            </a:lnTo>
                            <a:lnTo>
                              <a:pt x="188" y="2177"/>
                            </a:lnTo>
                            <a:lnTo>
                              <a:pt x="194" y="2180"/>
                            </a:lnTo>
                            <a:lnTo>
                              <a:pt x="198" y="2180"/>
                            </a:lnTo>
                            <a:lnTo>
                              <a:pt x="204" y="2182"/>
                            </a:lnTo>
                            <a:lnTo>
                              <a:pt x="209" y="2182"/>
                            </a:lnTo>
                            <a:lnTo>
                              <a:pt x="215" y="2184"/>
                            </a:lnTo>
                            <a:lnTo>
                              <a:pt x="219" y="2186"/>
                            </a:lnTo>
                            <a:lnTo>
                              <a:pt x="224" y="2188"/>
                            </a:lnTo>
                            <a:lnTo>
                              <a:pt x="232" y="2188"/>
                            </a:lnTo>
                            <a:lnTo>
                              <a:pt x="238" y="2190"/>
                            </a:lnTo>
                            <a:lnTo>
                              <a:pt x="243" y="2190"/>
                            </a:lnTo>
                            <a:lnTo>
                              <a:pt x="251" y="2192"/>
                            </a:lnTo>
                            <a:lnTo>
                              <a:pt x="257" y="2194"/>
                            </a:lnTo>
                            <a:lnTo>
                              <a:pt x="264" y="2194"/>
                            </a:lnTo>
                            <a:lnTo>
                              <a:pt x="270" y="2196"/>
                            </a:lnTo>
                            <a:lnTo>
                              <a:pt x="276" y="2196"/>
                            </a:lnTo>
                            <a:lnTo>
                              <a:pt x="283" y="2197"/>
                            </a:lnTo>
                            <a:lnTo>
                              <a:pt x="291" y="2199"/>
                            </a:lnTo>
                            <a:lnTo>
                              <a:pt x="297" y="2199"/>
                            </a:lnTo>
                            <a:lnTo>
                              <a:pt x="304" y="2199"/>
                            </a:lnTo>
                            <a:lnTo>
                              <a:pt x="312" y="2199"/>
                            </a:lnTo>
                            <a:lnTo>
                              <a:pt x="320" y="2201"/>
                            </a:lnTo>
                            <a:lnTo>
                              <a:pt x="325" y="2201"/>
                            </a:lnTo>
                            <a:lnTo>
                              <a:pt x="333" y="2201"/>
                            </a:lnTo>
                            <a:lnTo>
                              <a:pt x="341" y="2201"/>
                            </a:lnTo>
                            <a:lnTo>
                              <a:pt x="348" y="2201"/>
                            </a:lnTo>
                            <a:lnTo>
                              <a:pt x="356" y="2201"/>
                            </a:lnTo>
                            <a:lnTo>
                              <a:pt x="363" y="2201"/>
                            </a:lnTo>
                            <a:lnTo>
                              <a:pt x="371" y="2201"/>
                            </a:lnTo>
                            <a:lnTo>
                              <a:pt x="379" y="2201"/>
                            </a:lnTo>
                            <a:lnTo>
                              <a:pt x="386" y="2201"/>
                            </a:lnTo>
                            <a:lnTo>
                              <a:pt x="394" y="2201"/>
                            </a:lnTo>
                            <a:lnTo>
                              <a:pt x="401" y="2199"/>
                            </a:lnTo>
                            <a:lnTo>
                              <a:pt x="409" y="2199"/>
                            </a:lnTo>
                            <a:lnTo>
                              <a:pt x="415" y="2197"/>
                            </a:lnTo>
                            <a:lnTo>
                              <a:pt x="422" y="2196"/>
                            </a:lnTo>
                            <a:lnTo>
                              <a:pt x="432" y="2196"/>
                            </a:lnTo>
                            <a:lnTo>
                              <a:pt x="439" y="2194"/>
                            </a:lnTo>
                            <a:lnTo>
                              <a:pt x="447" y="2192"/>
                            </a:lnTo>
                            <a:lnTo>
                              <a:pt x="455" y="2190"/>
                            </a:lnTo>
                            <a:lnTo>
                              <a:pt x="462" y="2188"/>
                            </a:lnTo>
                            <a:lnTo>
                              <a:pt x="470" y="2188"/>
                            </a:lnTo>
                            <a:lnTo>
                              <a:pt x="476" y="2184"/>
                            </a:lnTo>
                            <a:lnTo>
                              <a:pt x="483" y="2182"/>
                            </a:lnTo>
                            <a:lnTo>
                              <a:pt x="491" y="2180"/>
                            </a:lnTo>
                            <a:lnTo>
                              <a:pt x="498" y="2175"/>
                            </a:lnTo>
                            <a:lnTo>
                              <a:pt x="504" y="2173"/>
                            </a:lnTo>
                            <a:lnTo>
                              <a:pt x="512" y="2169"/>
                            </a:lnTo>
                            <a:lnTo>
                              <a:pt x="517" y="2165"/>
                            </a:lnTo>
                            <a:lnTo>
                              <a:pt x="525" y="2161"/>
                            </a:lnTo>
                            <a:lnTo>
                              <a:pt x="531" y="2158"/>
                            </a:lnTo>
                            <a:lnTo>
                              <a:pt x="536" y="2154"/>
                            </a:lnTo>
                            <a:lnTo>
                              <a:pt x="542" y="2150"/>
                            </a:lnTo>
                            <a:lnTo>
                              <a:pt x="550" y="2146"/>
                            </a:lnTo>
                            <a:lnTo>
                              <a:pt x="555" y="2142"/>
                            </a:lnTo>
                            <a:lnTo>
                              <a:pt x="559" y="2137"/>
                            </a:lnTo>
                            <a:lnTo>
                              <a:pt x="565" y="2133"/>
                            </a:lnTo>
                            <a:lnTo>
                              <a:pt x="571" y="2129"/>
                            </a:lnTo>
                            <a:lnTo>
                              <a:pt x="576" y="2123"/>
                            </a:lnTo>
                            <a:lnTo>
                              <a:pt x="582" y="2120"/>
                            </a:lnTo>
                            <a:lnTo>
                              <a:pt x="588" y="2114"/>
                            </a:lnTo>
                            <a:lnTo>
                              <a:pt x="592" y="2110"/>
                            </a:lnTo>
                            <a:lnTo>
                              <a:pt x="595" y="2106"/>
                            </a:lnTo>
                            <a:lnTo>
                              <a:pt x="601" y="2101"/>
                            </a:lnTo>
                            <a:lnTo>
                              <a:pt x="605" y="2095"/>
                            </a:lnTo>
                            <a:lnTo>
                              <a:pt x="611" y="2091"/>
                            </a:lnTo>
                            <a:lnTo>
                              <a:pt x="614" y="2085"/>
                            </a:lnTo>
                            <a:lnTo>
                              <a:pt x="618" y="2080"/>
                            </a:lnTo>
                            <a:lnTo>
                              <a:pt x="624" y="2076"/>
                            </a:lnTo>
                            <a:lnTo>
                              <a:pt x="628" y="2070"/>
                            </a:lnTo>
                            <a:lnTo>
                              <a:pt x="632" y="2064"/>
                            </a:lnTo>
                            <a:lnTo>
                              <a:pt x="635" y="2059"/>
                            </a:lnTo>
                            <a:lnTo>
                              <a:pt x="637" y="2055"/>
                            </a:lnTo>
                            <a:lnTo>
                              <a:pt x="643" y="2049"/>
                            </a:lnTo>
                            <a:lnTo>
                              <a:pt x="645" y="2043"/>
                            </a:lnTo>
                            <a:lnTo>
                              <a:pt x="649" y="2040"/>
                            </a:lnTo>
                            <a:lnTo>
                              <a:pt x="652" y="2034"/>
                            </a:lnTo>
                            <a:lnTo>
                              <a:pt x="654" y="2030"/>
                            </a:lnTo>
                            <a:lnTo>
                              <a:pt x="658" y="2024"/>
                            </a:lnTo>
                            <a:lnTo>
                              <a:pt x="660" y="2021"/>
                            </a:lnTo>
                            <a:lnTo>
                              <a:pt x="664" y="2015"/>
                            </a:lnTo>
                            <a:lnTo>
                              <a:pt x="666" y="2011"/>
                            </a:lnTo>
                            <a:lnTo>
                              <a:pt x="668" y="2005"/>
                            </a:lnTo>
                            <a:lnTo>
                              <a:pt x="672" y="2002"/>
                            </a:lnTo>
                            <a:lnTo>
                              <a:pt x="673" y="1998"/>
                            </a:lnTo>
                            <a:lnTo>
                              <a:pt x="675" y="1992"/>
                            </a:lnTo>
                            <a:lnTo>
                              <a:pt x="677" y="1986"/>
                            </a:lnTo>
                            <a:lnTo>
                              <a:pt x="679" y="1983"/>
                            </a:lnTo>
                            <a:lnTo>
                              <a:pt x="681" y="1979"/>
                            </a:lnTo>
                            <a:lnTo>
                              <a:pt x="683" y="1975"/>
                            </a:lnTo>
                            <a:lnTo>
                              <a:pt x="685" y="1971"/>
                            </a:lnTo>
                            <a:lnTo>
                              <a:pt x="687" y="1969"/>
                            </a:lnTo>
                            <a:lnTo>
                              <a:pt x="689" y="1964"/>
                            </a:lnTo>
                            <a:lnTo>
                              <a:pt x="691" y="1962"/>
                            </a:lnTo>
                            <a:lnTo>
                              <a:pt x="692" y="1958"/>
                            </a:lnTo>
                            <a:lnTo>
                              <a:pt x="692" y="1954"/>
                            </a:lnTo>
                            <a:lnTo>
                              <a:pt x="692" y="1952"/>
                            </a:lnTo>
                            <a:lnTo>
                              <a:pt x="694" y="1950"/>
                            </a:lnTo>
                            <a:lnTo>
                              <a:pt x="696" y="1945"/>
                            </a:lnTo>
                            <a:lnTo>
                              <a:pt x="698" y="1941"/>
                            </a:lnTo>
                            <a:lnTo>
                              <a:pt x="700" y="1937"/>
                            </a:lnTo>
                            <a:lnTo>
                              <a:pt x="700" y="1935"/>
                            </a:lnTo>
                            <a:lnTo>
                              <a:pt x="700" y="1933"/>
                            </a:lnTo>
                            <a:lnTo>
                              <a:pt x="702" y="1933"/>
                            </a:lnTo>
                            <a:lnTo>
                              <a:pt x="740" y="1943"/>
                            </a:lnTo>
                            <a:lnTo>
                              <a:pt x="740" y="1943"/>
                            </a:lnTo>
                            <a:lnTo>
                              <a:pt x="738" y="1945"/>
                            </a:lnTo>
                            <a:lnTo>
                              <a:pt x="738" y="1947"/>
                            </a:lnTo>
                            <a:lnTo>
                              <a:pt x="738" y="1950"/>
                            </a:lnTo>
                            <a:lnTo>
                              <a:pt x="738" y="1954"/>
                            </a:lnTo>
                            <a:lnTo>
                              <a:pt x="738" y="1958"/>
                            </a:lnTo>
                            <a:lnTo>
                              <a:pt x="736" y="1962"/>
                            </a:lnTo>
                            <a:lnTo>
                              <a:pt x="736" y="1964"/>
                            </a:lnTo>
                            <a:lnTo>
                              <a:pt x="736" y="1967"/>
                            </a:lnTo>
                            <a:lnTo>
                              <a:pt x="736" y="1971"/>
                            </a:lnTo>
                            <a:lnTo>
                              <a:pt x="736" y="1975"/>
                            </a:lnTo>
                            <a:lnTo>
                              <a:pt x="736" y="1979"/>
                            </a:lnTo>
                            <a:lnTo>
                              <a:pt x="736" y="1983"/>
                            </a:lnTo>
                            <a:lnTo>
                              <a:pt x="736" y="1985"/>
                            </a:lnTo>
                            <a:lnTo>
                              <a:pt x="736" y="1990"/>
                            </a:lnTo>
                            <a:lnTo>
                              <a:pt x="736" y="1994"/>
                            </a:lnTo>
                            <a:lnTo>
                              <a:pt x="736" y="1998"/>
                            </a:lnTo>
                            <a:lnTo>
                              <a:pt x="736" y="2004"/>
                            </a:lnTo>
                            <a:lnTo>
                              <a:pt x="736" y="2007"/>
                            </a:lnTo>
                            <a:lnTo>
                              <a:pt x="736" y="2013"/>
                            </a:lnTo>
                            <a:lnTo>
                              <a:pt x="736" y="2015"/>
                            </a:lnTo>
                            <a:lnTo>
                              <a:pt x="736" y="2021"/>
                            </a:lnTo>
                            <a:lnTo>
                              <a:pt x="736" y="2026"/>
                            </a:lnTo>
                            <a:lnTo>
                              <a:pt x="736" y="2030"/>
                            </a:lnTo>
                            <a:lnTo>
                              <a:pt x="736" y="2036"/>
                            </a:lnTo>
                            <a:lnTo>
                              <a:pt x="736" y="2042"/>
                            </a:lnTo>
                            <a:lnTo>
                              <a:pt x="736" y="2047"/>
                            </a:lnTo>
                            <a:lnTo>
                              <a:pt x="738" y="2051"/>
                            </a:lnTo>
                            <a:lnTo>
                              <a:pt x="738" y="2057"/>
                            </a:lnTo>
                            <a:lnTo>
                              <a:pt x="738" y="2062"/>
                            </a:lnTo>
                            <a:lnTo>
                              <a:pt x="740" y="2066"/>
                            </a:lnTo>
                            <a:lnTo>
                              <a:pt x="740" y="2072"/>
                            </a:lnTo>
                            <a:lnTo>
                              <a:pt x="742" y="2078"/>
                            </a:lnTo>
                            <a:lnTo>
                              <a:pt x="744" y="2083"/>
                            </a:lnTo>
                            <a:lnTo>
                              <a:pt x="744" y="2091"/>
                            </a:lnTo>
                            <a:lnTo>
                              <a:pt x="746" y="2095"/>
                            </a:lnTo>
                            <a:lnTo>
                              <a:pt x="748" y="2101"/>
                            </a:lnTo>
                            <a:lnTo>
                              <a:pt x="748" y="2106"/>
                            </a:lnTo>
                            <a:lnTo>
                              <a:pt x="751" y="2110"/>
                            </a:lnTo>
                            <a:lnTo>
                              <a:pt x="753" y="2118"/>
                            </a:lnTo>
                            <a:lnTo>
                              <a:pt x="753" y="2123"/>
                            </a:lnTo>
                            <a:lnTo>
                              <a:pt x="757" y="2129"/>
                            </a:lnTo>
                            <a:lnTo>
                              <a:pt x="759" y="2135"/>
                            </a:lnTo>
                            <a:lnTo>
                              <a:pt x="761" y="2139"/>
                            </a:lnTo>
                            <a:lnTo>
                              <a:pt x="765" y="2144"/>
                            </a:lnTo>
                            <a:lnTo>
                              <a:pt x="767" y="2150"/>
                            </a:lnTo>
                            <a:lnTo>
                              <a:pt x="769" y="2156"/>
                            </a:lnTo>
                            <a:lnTo>
                              <a:pt x="772" y="2159"/>
                            </a:lnTo>
                            <a:lnTo>
                              <a:pt x="776" y="2165"/>
                            </a:lnTo>
                            <a:lnTo>
                              <a:pt x="780" y="2171"/>
                            </a:lnTo>
                            <a:lnTo>
                              <a:pt x="782" y="2175"/>
                            </a:lnTo>
                            <a:lnTo>
                              <a:pt x="786" y="2180"/>
                            </a:lnTo>
                            <a:lnTo>
                              <a:pt x="789" y="2186"/>
                            </a:lnTo>
                            <a:lnTo>
                              <a:pt x="795" y="2190"/>
                            </a:lnTo>
                            <a:lnTo>
                              <a:pt x="799" y="2196"/>
                            </a:lnTo>
                            <a:lnTo>
                              <a:pt x="805" y="2201"/>
                            </a:lnTo>
                            <a:lnTo>
                              <a:pt x="808" y="2205"/>
                            </a:lnTo>
                            <a:lnTo>
                              <a:pt x="814" y="2209"/>
                            </a:lnTo>
                            <a:lnTo>
                              <a:pt x="818" y="2213"/>
                            </a:lnTo>
                            <a:lnTo>
                              <a:pt x="824" y="2216"/>
                            </a:lnTo>
                            <a:lnTo>
                              <a:pt x="828" y="2222"/>
                            </a:lnTo>
                            <a:lnTo>
                              <a:pt x="833" y="2224"/>
                            </a:lnTo>
                            <a:lnTo>
                              <a:pt x="839" y="2228"/>
                            </a:lnTo>
                            <a:lnTo>
                              <a:pt x="845" y="2232"/>
                            </a:lnTo>
                            <a:lnTo>
                              <a:pt x="848" y="2235"/>
                            </a:lnTo>
                            <a:lnTo>
                              <a:pt x="854" y="2239"/>
                            </a:lnTo>
                            <a:lnTo>
                              <a:pt x="858" y="2243"/>
                            </a:lnTo>
                            <a:lnTo>
                              <a:pt x="864" y="2245"/>
                            </a:lnTo>
                            <a:lnTo>
                              <a:pt x="867" y="2249"/>
                            </a:lnTo>
                            <a:lnTo>
                              <a:pt x="873" y="2253"/>
                            </a:lnTo>
                            <a:lnTo>
                              <a:pt x="877" y="2256"/>
                            </a:lnTo>
                            <a:lnTo>
                              <a:pt x="883" y="2258"/>
                            </a:lnTo>
                            <a:lnTo>
                              <a:pt x="890" y="2260"/>
                            </a:lnTo>
                            <a:lnTo>
                              <a:pt x="896" y="2264"/>
                            </a:lnTo>
                            <a:lnTo>
                              <a:pt x="900" y="2266"/>
                            </a:lnTo>
                            <a:lnTo>
                              <a:pt x="904" y="2268"/>
                            </a:lnTo>
                            <a:lnTo>
                              <a:pt x="907" y="2270"/>
                            </a:lnTo>
                            <a:lnTo>
                              <a:pt x="913" y="2273"/>
                            </a:lnTo>
                            <a:lnTo>
                              <a:pt x="919" y="2275"/>
                            </a:lnTo>
                            <a:lnTo>
                              <a:pt x="925" y="2277"/>
                            </a:lnTo>
                            <a:lnTo>
                              <a:pt x="928" y="2279"/>
                            </a:lnTo>
                            <a:lnTo>
                              <a:pt x="934" y="2281"/>
                            </a:lnTo>
                            <a:lnTo>
                              <a:pt x="938" y="2283"/>
                            </a:lnTo>
                            <a:lnTo>
                              <a:pt x="942" y="2285"/>
                            </a:lnTo>
                            <a:lnTo>
                              <a:pt x="947" y="2287"/>
                            </a:lnTo>
                            <a:lnTo>
                              <a:pt x="951" y="2289"/>
                            </a:lnTo>
                            <a:lnTo>
                              <a:pt x="955" y="2289"/>
                            </a:lnTo>
                            <a:lnTo>
                              <a:pt x="961" y="2291"/>
                            </a:lnTo>
                            <a:lnTo>
                              <a:pt x="964" y="2291"/>
                            </a:lnTo>
                            <a:lnTo>
                              <a:pt x="968" y="2294"/>
                            </a:lnTo>
                            <a:lnTo>
                              <a:pt x="972" y="2294"/>
                            </a:lnTo>
                            <a:lnTo>
                              <a:pt x="978" y="2294"/>
                            </a:lnTo>
                            <a:lnTo>
                              <a:pt x="982" y="2296"/>
                            </a:lnTo>
                            <a:lnTo>
                              <a:pt x="985" y="2296"/>
                            </a:lnTo>
                            <a:lnTo>
                              <a:pt x="989" y="2296"/>
                            </a:lnTo>
                            <a:lnTo>
                              <a:pt x="993" y="2298"/>
                            </a:lnTo>
                            <a:lnTo>
                              <a:pt x="997" y="2298"/>
                            </a:lnTo>
                            <a:lnTo>
                              <a:pt x="1001" y="2298"/>
                            </a:lnTo>
                            <a:lnTo>
                              <a:pt x="1004" y="2298"/>
                            </a:lnTo>
                            <a:lnTo>
                              <a:pt x="1008" y="2300"/>
                            </a:lnTo>
                            <a:lnTo>
                              <a:pt x="1010" y="2300"/>
                            </a:lnTo>
                            <a:lnTo>
                              <a:pt x="1014" y="2300"/>
                            </a:lnTo>
                            <a:lnTo>
                              <a:pt x="1016" y="2300"/>
                            </a:lnTo>
                            <a:lnTo>
                              <a:pt x="1020" y="2300"/>
                            </a:lnTo>
                            <a:lnTo>
                              <a:pt x="1022" y="2300"/>
                            </a:lnTo>
                            <a:lnTo>
                              <a:pt x="1025" y="2302"/>
                            </a:lnTo>
                            <a:lnTo>
                              <a:pt x="1029" y="2300"/>
                            </a:lnTo>
                            <a:lnTo>
                              <a:pt x="1035" y="2300"/>
                            </a:lnTo>
                            <a:lnTo>
                              <a:pt x="1039" y="2298"/>
                            </a:lnTo>
                            <a:lnTo>
                              <a:pt x="1042" y="2298"/>
                            </a:lnTo>
                            <a:lnTo>
                              <a:pt x="1044" y="2296"/>
                            </a:lnTo>
                            <a:lnTo>
                              <a:pt x="1048" y="2296"/>
                            </a:lnTo>
                            <a:lnTo>
                              <a:pt x="1048" y="2294"/>
                            </a:lnTo>
                            <a:lnTo>
                              <a:pt x="1050" y="2294"/>
                            </a:lnTo>
                            <a:lnTo>
                              <a:pt x="1246" y="1334"/>
                            </a:lnTo>
                            <a:lnTo>
                              <a:pt x="1246" y="1333"/>
                            </a:lnTo>
                            <a:lnTo>
                              <a:pt x="1248" y="1331"/>
                            </a:lnTo>
                            <a:lnTo>
                              <a:pt x="1250" y="1327"/>
                            </a:lnTo>
                            <a:lnTo>
                              <a:pt x="1252" y="1325"/>
                            </a:lnTo>
                            <a:lnTo>
                              <a:pt x="1252" y="1323"/>
                            </a:lnTo>
                            <a:lnTo>
                              <a:pt x="1254" y="1319"/>
                            </a:lnTo>
                            <a:lnTo>
                              <a:pt x="1256" y="1315"/>
                            </a:lnTo>
                            <a:lnTo>
                              <a:pt x="1259" y="1312"/>
                            </a:lnTo>
                            <a:lnTo>
                              <a:pt x="1259" y="1306"/>
                            </a:lnTo>
                            <a:lnTo>
                              <a:pt x="1263" y="1302"/>
                            </a:lnTo>
                            <a:lnTo>
                              <a:pt x="1265" y="1296"/>
                            </a:lnTo>
                            <a:lnTo>
                              <a:pt x="1269" y="1293"/>
                            </a:lnTo>
                            <a:lnTo>
                              <a:pt x="1271" y="1285"/>
                            </a:lnTo>
                            <a:lnTo>
                              <a:pt x="1275" y="1281"/>
                            </a:lnTo>
                            <a:lnTo>
                              <a:pt x="1276" y="1274"/>
                            </a:lnTo>
                            <a:lnTo>
                              <a:pt x="1280" y="1266"/>
                            </a:lnTo>
                            <a:lnTo>
                              <a:pt x="1284" y="1258"/>
                            </a:lnTo>
                            <a:lnTo>
                              <a:pt x="1288" y="1249"/>
                            </a:lnTo>
                            <a:lnTo>
                              <a:pt x="1290" y="1241"/>
                            </a:lnTo>
                            <a:lnTo>
                              <a:pt x="1294" y="1234"/>
                            </a:lnTo>
                            <a:lnTo>
                              <a:pt x="1297" y="1224"/>
                            </a:lnTo>
                            <a:lnTo>
                              <a:pt x="1301" y="1217"/>
                            </a:lnTo>
                            <a:lnTo>
                              <a:pt x="1305" y="1207"/>
                            </a:lnTo>
                            <a:lnTo>
                              <a:pt x="1309" y="1198"/>
                            </a:lnTo>
                            <a:lnTo>
                              <a:pt x="1313" y="1188"/>
                            </a:lnTo>
                            <a:lnTo>
                              <a:pt x="1316" y="1177"/>
                            </a:lnTo>
                            <a:lnTo>
                              <a:pt x="1320" y="1165"/>
                            </a:lnTo>
                            <a:lnTo>
                              <a:pt x="1324" y="1154"/>
                            </a:lnTo>
                            <a:lnTo>
                              <a:pt x="1330" y="1144"/>
                            </a:lnTo>
                            <a:lnTo>
                              <a:pt x="1334" y="1133"/>
                            </a:lnTo>
                            <a:lnTo>
                              <a:pt x="1337" y="1122"/>
                            </a:lnTo>
                            <a:lnTo>
                              <a:pt x="1339" y="1108"/>
                            </a:lnTo>
                            <a:lnTo>
                              <a:pt x="1345" y="1097"/>
                            </a:lnTo>
                            <a:lnTo>
                              <a:pt x="1349" y="1084"/>
                            </a:lnTo>
                            <a:lnTo>
                              <a:pt x="1353" y="1070"/>
                            </a:lnTo>
                            <a:lnTo>
                              <a:pt x="1354" y="1059"/>
                            </a:lnTo>
                            <a:lnTo>
                              <a:pt x="1358" y="1044"/>
                            </a:lnTo>
                            <a:lnTo>
                              <a:pt x="1362" y="1032"/>
                            </a:lnTo>
                            <a:lnTo>
                              <a:pt x="1366" y="1017"/>
                            </a:lnTo>
                            <a:lnTo>
                              <a:pt x="1370" y="1004"/>
                            </a:lnTo>
                            <a:lnTo>
                              <a:pt x="1372" y="988"/>
                            </a:lnTo>
                            <a:lnTo>
                              <a:pt x="1375" y="975"/>
                            </a:lnTo>
                            <a:lnTo>
                              <a:pt x="1377" y="960"/>
                            </a:lnTo>
                            <a:lnTo>
                              <a:pt x="1381" y="947"/>
                            </a:lnTo>
                            <a:lnTo>
                              <a:pt x="1383" y="931"/>
                            </a:lnTo>
                            <a:lnTo>
                              <a:pt x="1387" y="916"/>
                            </a:lnTo>
                            <a:lnTo>
                              <a:pt x="1389" y="901"/>
                            </a:lnTo>
                            <a:lnTo>
                              <a:pt x="1391" y="886"/>
                            </a:lnTo>
                            <a:lnTo>
                              <a:pt x="1392" y="871"/>
                            </a:lnTo>
                            <a:lnTo>
                              <a:pt x="1394" y="855"/>
                            </a:lnTo>
                            <a:lnTo>
                              <a:pt x="1396" y="838"/>
                            </a:lnTo>
                            <a:lnTo>
                              <a:pt x="1398" y="823"/>
                            </a:lnTo>
                            <a:lnTo>
                              <a:pt x="1398" y="806"/>
                            </a:lnTo>
                            <a:lnTo>
                              <a:pt x="1400" y="791"/>
                            </a:lnTo>
                            <a:lnTo>
                              <a:pt x="1402" y="774"/>
                            </a:lnTo>
                            <a:lnTo>
                              <a:pt x="1402" y="757"/>
                            </a:lnTo>
                            <a:lnTo>
                              <a:pt x="1402" y="741"/>
                            </a:lnTo>
                            <a:lnTo>
                              <a:pt x="1402" y="724"/>
                            </a:lnTo>
                            <a:lnTo>
                              <a:pt x="1402" y="705"/>
                            </a:lnTo>
                            <a:lnTo>
                              <a:pt x="1402" y="690"/>
                            </a:lnTo>
                            <a:lnTo>
                              <a:pt x="1400" y="673"/>
                            </a:lnTo>
                            <a:lnTo>
                              <a:pt x="1400" y="656"/>
                            </a:lnTo>
                            <a:lnTo>
                              <a:pt x="1398" y="654"/>
                            </a:lnTo>
                            <a:lnTo>
                              <a:pt x="1398" y="652"/>
                            </a:lnTo>
                            <a:lnTo>
                              <a:pt x="1398" y="648"/>
                            </a:lnTo>
                            <a:lnTo>
                              <a:pt x="1398" y="644"/>
                            </a:lnTo>
                            <a:lnTo>
                              <a:pt x="1398" y="643"/>
                            </a:lnTo>
                            <a:lnTo>
                              <a:pt x="1398" y="639"/>
                            </a:lnTo>
                            <a:lnTo>
                              <a:pt x="1396" y="637"/>
                            </a:lnTo>
                            <a:lnTo>
                              <a:pt x="1396" y="633"/>
                            </a:lnTo>
                            <a:lnTo>
                              <a:pt x="1396" y="631"/>
                            </a:lnTo>
                            <a:lnTo>
                              <a:pt x="1396" y="627"/>
                            </a:lnTo>
                            <a:lnTo>
                              <a:pt x="1396" y="623"/>
                            </a:lnTo>
                            <a:lnTo>
                              <a:pt x="1394" y="620"/>
                            </a:lnTo>
                            <a:lnTo>
                              <a:pt x="1394" y="618"/>
                            </a:lnTo>
                            <a:lnTo>
                              <a:pt x="1394" y="616"/>
                            </a:lnTo>
                            <a:lnTo>
                              <a:pt x="1392" y="612"/>
                            </a:lnTo>
                            <a:lnTo>
                              <a:pt x="1392" y="610"/>
                            </a:lnTo>
                            <a:lnTo>
                              <a:pt x="1392" y="608"/>
                            </a:lnTo>
                            <a:lnTo>
                              <a:pt x="1391" y="604"/>
                            </a:lnTo>
                            <a:lnTo>
                              <a:pt x="1391" y="603"/>
                            </a:lnTo>
                            <a:lnTo>
                              <a:pt x="1391" y="599"/>
                            </a:lnTo>
                            <a:lnTo>
                              <a:pt x="1389" y="597"/>
                            </a:lnTo>
                            <a:lnTo>
                              <a:pt x="1389" y="593"/>
                            </a:lnTo>
                            <a:lnTo>
                              <a:pt x="1389" y="589"/>
                            </a:lnTo>
                            <a:lnTo>
                              <a:pt x="1389" y="587"/>
                            </a:lnTo>
                            <a:lnTo>
                              <a:pt x="1387" y="585"/>
                            </a:lnTo>
                            <a:lnTo>
                              <a:pt x="1385" y="582"/>
                            </a:lnTo>
                            <a:lnTo>
                              <a:pt x="1385" y="580"/>
                            </a:lnTo>
                            <a:lnTo>
                              <a:pt x="1383" y="578"/>
                            </a:lnTo>
                            <a:lnTo>
                              <a:pt x="1383" y="572"/>
                            </a:lnTo>
                            <a:lnTo>
                              <a:pt x="1381" y="568"/>
                            </a:lnTo>
                            <a:lnTo>
                              <a:pt x="1377" y="563"/>
                            </a:lnTo>
                            <a:lnTo>
                              <a:pt x="1375" y="557"/>
                            </a:lnTo>
                            <a:lnTo>
                              <a:pt x="1373" y="553"/>
                            </a:lnTo>
                            <a:lnTo>
                              <a:pt x="1370" y="547"/>
                            </a:lnTo>
                            <a:lnTo>
                              <a:pt x="1366" y="544"/>
                            </a:lnTo>
                            <a:lnTo>
                              <a:pt x="1364" y="540"/>
                            </a:lnTo>
                            <a:lnTo>
                              <a:pt x="1360" y="536"/>
                            </a:lnTo>
                            <a:lnTo>
                              <a:pt x="1356" y="532"/>
                            </a:lnTo>
                            <a:lnTo>
                              <a:pt x="1353" y="528"/>
                            </a:lnTo>
                            <a:lnTo>
                              <a:pt x="1349" y="525"/>
                            </a:lnTo>
                            <a:lnTo>
                              <a:pt x="1345" y="523"/>
                            </a:lnTo>
                            <a:lnTo>
                              <a:pt x="1339" y="521"/>
                            </a:lnTo>
                            <a:lnTo>
                              <a:pt x="1335" y="517"/>
                            </a:lnTo>
                            <a:lnTo>
                              <a:pt x="1332" y="515"/>
                            </a:lnTo>
                            <a:lnTo>
                              <a:pt x="1326" y="515"/>
                            </a:lnTo>
                            <a:lnTo>
                              <a:pt x="1322" y="513"/>
                            </a:lnTo>
                            <a:lnTo>
                              <a:pt x="1318" y="511"/>
                            </a:lnTo>
                            <a:lnTo>
                              <a:pt x="1316" y="511"/>
                            </a:lnTo>
                            <a:lnTo>
                              <a:pt x="1313" y="511"/>
                            </a:lnTo>
                            <a:lnTo>
                              <a:pt x="1311" y="511"/>
                            </a:lnTo>
                            <a:lnTo>
                              <a:pt x="1309" y="509"/>
                            </a:lnTo>
                            <a:lnTo>
                              <a:pt x="1305" y="509"/>
                            </a:lnTo>
                            <a:lnTo>
                              <a:pt x="1303" y="509"/>
                            </a:lnTo>
                            <a:lnTo>
                              <a:pt x="1301" y="509"/>
                            </a:lnTo>
                            <a:lnTo>
                              <a:pt x="1297" y="509"/>
                            </a:lnTo>
                            <a:lnTo>
                              <a:pt x="1295" y="509"/>
                            </a:lnTo>
                            <a:lnTo>
                              <a:pt x="1292" y="509"/>
                            </a:lnTo>
                            <a:lnTo>
                              <a:pt x="1290" y="509"/>
                            </a:lnTo>
                            <a:lnTo>
                              <a:pt x="1284" y="509"/>
                            </a:lnTo>
                            <a:lnTo>
                              <a:pt x="1280" y="509"/>
                            </a:lnTo>
                            <a:lnTo>
                              <a:pt x="1275" y="509"/>
                            </a:lnTo>
                            <a:lnTo>
                              <a:pt x="1269" y="509"/>
                            </a:lnTo>
                            <a:lnTo>
                              <a:pt x="1265" y="509"/>
                            </a:lnTo>
                            <a:lnTo>
                              <a:pt x="1259" y="509"/>
                            </a:lnTo>
                            <a:lnTo>
                              <a:pt x="1256" y="511"/>
                            </a:lnTo>
                            <a:lnTo>
                              <a:pt x="1252" y="511"/>
                            </a:lnTo>
                            <a:lnTo>
                              <a:pt x="1246" y="515"/>
                            </a:lnTo>
                            <a:lnTo>
                              <a:pt x="1242" y="515"/>
                            </a:lnTo>
                            <a:lnTo>
                              <a:pt x="1238" y="517"/>
                            </a:lnTo>
                            <a:lnTo>
                              <a:pt x="1235" y="521"/>
                            </a:lnTo>
                            <a:lnTo>
                              <a:pt x="1231" y="523"/>
                            </a:lnTo>
                            <a:lnTo>
                              <a:pt x="1229" y="525"/>
                            </a:lnTo>
                            <a:lnTo>
                              <a:pt x="1225" y="527"/>
                            </a:lnTo>
                            <a:lnTo>
                              <a:pt x="1221" y="530"/>
                            </a:lnTo>
                            <a:lnTo>
                              <a:pt x="1219" y="532"/>
                            </a:lnTo>
                            <a:lnTo>
                              <a:pt x="1216" y="538"/>
                            </a:lnTo>
                            <a:lnTo>
                              <a:pt x="1214" y="542"/>
                            </a:lnTo>
                            <a:lnTo>
                              <a:pt x="1212" y="546"/>
                            </a:lnTo>
                            <a:lnTo>
                              <a:pt x="1210" y="549"/>
                            </a:lnTo>
                            <a:lnTo>
                              <a:pt x="1208" y="555"/>
                            </a:lnTo>
                            <a:lnTo>
                              <a:pt x="1208" y="557"/>
                            </a:lnTo>
                            <a:lnTo>
                              <a:pt x="1206" y="559"/>
                            </a:lnTo>
                            <a:lnTo>
                              <a:pt x="1204" y="561"/>
                            </a:lnTo>
                            <a:lnTo>
                              <a:pt x="1204" y="565"/>
                            </a:lnTo>
                            <a:lnTo>
                              <a:pt x="1204" y="566"/>
                            </a:lnTo>
                            <a:lnTo>
                              <a:pt x="1204" y="570"/>
                            </a:lnTo>
                            <a:lnTo>
                              <a:pt x="1204" y="572"/>
                            </a:lnTo>
                            <a:lnTo>
                              <a:pt x="1204" y="576"/>
                            </a:lnTo>
                            <a:lnTo>
                              <a:pt x="1139" y="895"/>
                            </a:lnTo>
                            <a:lnTo>
                              <a:pt x="1136" y="893"/>
                            </a:lnTo>
                            <a:lnTo>
                              <a:pt x="1132" y="892"/>
                            </a:lnTo>
                            <a:lnTo>
                              <a:pt x="1126" y="888"/>
                            </a:lnTo>
                            <a:lnTo>
                              <a:pt x="1122" y="886"/>
                            </a:lnTo>
                            <a:lnTo>
                              <a:pt x="1117" y="884"/>
                            </a:lnTo>
                            <a:lnTo>
                              <a:pt x="1113" y="880"/>
                            </a:lnTo>
                            <a:lnTo>
                              <a:pt x="1107" y="878"/>
                            </a:lnTo>
                            <a:lnTo>
                              <a:pt x="1105" y="876"/>
                            </a:lnTo>
                            <a:lnTo>
                              <a:pt x="1227" y="316"/>
                            </a:lnTo>
                            <a:lnTo>
                              <a:pt x="1227" y="312"/>
                            </a:lnTo>
                            <a:lnTo>
                              <a:pt x="1227" y="308"/>
                            </a:lnTo>
                            <a:lnTo>
                              <a:pt x="1229" y="306"/>
                            </a:lnTo>
                            <a:lnTo>
                              <a:pt x="1229" y="304"/>
                            </a:lnTo>
                            <a:lnTo>
                              <a:pt x="1229" y="300"/>
                            </a:lnTo>
                            <a:lnTo>
                              <a:pt x="1229" y="298"/>
                            </a:lnTo>
                            <a:lnTo>
                              <a:pt x="1229" y="295"/>
                            </a:lnTo>
                            <a:lnTo>
                              <a:pt x="1229" y="293"/>
                            </a:lnTo>
                            <a:lnTo>
                              <a:pt x="1229" y="291"/>
                            </a:lnTo>
                            <a:lnTo>
                              <a:pt x="1229" y="287"/>
                            </a:lnTo>
                            <a:lnTo>
                              <a:pt x="1229" y="285"/>
                            </a:lnTo>
                            <a:lnTo>
                              <a:pt x="1229" y="283"/>
                            </a:lnTo>
                            <a:lnTo>
                              <a:pt x="1229" y="278"/>
                            </a:lnTo>
                            <a:lnTo>
                              <a:pt x="1227" y="272"/>
                            </a:lnTo>
                            <a:lnTo>
                              <a:pt x="1225" y="268"/>
                            </a:lnTo>
                            <a:lnTo>
                              <a:pt x="1225" y="262"/>
                            </a:lnTo>
                            <a:lnTo>
                              <a:pt x="1223" y="257"/>
                            </a:lnTo>
                            <a:lnTo>
                              <a:pt x="1221" y="253"/>
                            </a:lnTo>
                            <a:lnTo>
                              <a:pt x="1219" y="247"/>
                            </a:lnTo>
                            <a:lnTo>
                              <a:pt x="1217" y="243"/>
                            </a:lnTo>
                            <a:lnTo>
                              <a:pt x="1216" y="240"/>
                            </a:lnTo>
                            <a:lnTo>
                              <a:pt x="1214" y="236"/>
                            </a:lnTo>
                            <a:lnTo>
                              <a:pt x="1210" y="232"/>
                            </a:lnTo>
                            <a:lnTo>
                              <a:pt x="1206" y="226"/>
                            </a:lnTo>
                            <a:lnTo>
                              <a:pt x="1202" y="222"/>
                            </a:lnTo>
                            <a:lnTo>
                              <a:pt x="1200" y="219"/>
                            </a:lnTo>
                            <a:lnTo>
                              <a:pt x="1197" y="215"/>
                            </a:lnTo>
                            <a:lnTo>
                              <a:pt x="1193" y="211"/>
                            </a:lnTo>
                            <a:lnTo>
                              <a:pt x="1189" y="207"/>
                            </a:lnTo>
                            <a:lnTo>
                              <a:pt x="1185" y="205"/>
                            </a:lnTo>
                            <a:lnTo>
                              <a:pt x="1179" y="203"/>
                            </a:lnTo>
                            <a:lnTo>
                              <a:pt x="1176" y="200"/>
                            </a:lnTo>
                            <a:lnTo>
                              <a:pt x="1172" y="198"/>
                            </a:lnTo>
                            <a:lnTo>
                              <a:pt x="1166" y="194"/>
                            </a:lnTo>
                            <a:lnTo>
                              <a:pt x="1160" y="192"/>
                            </a:lnTo>
                            <a:lnTo>
                              <a:pt x="1157" y="192"/>
                            </a:lnTo>
                            <a:lnTo>
                              <a:pt x="1151" y="190"/>
                            </a:lnTo>
                            <a:lnTo>
                              <a:pt x="1147" y="190"/>
                            </a:lnTo>
                            <a:lnTo>
                              <a:pt x="1143" y="188"/>
                            </a:lnTo>
                            <a:lnTo>
                              <a:pt x="1141" y="186"/>
                            </a:lnTo>
                            <a:lnTo>
                              <a:pt x="1138" y="186"/>
                            </a:lnTo>
                            <a:lnTo>
                              <a:pt x="1136" y="186"/>
                            </a:lnTo>
                            <a:lnTo>
                              <a:pt x="1134" y="186"/>
                            </a:lnTo>
                            <a:lnTo>
                              <a:pt x="1130" y="186"/>
                            </a:lnTo>
                            <a:lnTo>
                              <a:pt x="1128" y="186"/>
                            </a:lnTo>
                            <a:lnTo>
                              <a:pt x="1124" y="186"/>
                            </a:lnTo>
                            <a:lnTo>
                              <a:pt x="1122" y="186"/>
                            </a:lnTo>
                            <a:lnTo>
                              <a:pt x="1120" y="186"/>
                            </a:lnTo>
                            <a:lnTo>
                              <a:pt x="1117" y="186"/>
                            </a:lnTo>
                            <a:lnTo>
                              <a:pt x="1115" y="186"/>
                            </a:lnTo>
                            <a:lnTo>
                              <a:pt x="1109" y="186"/>
                            </a:lnTo>
                            <a:lnTo>
                              <a:pt x="1105" y="188"/>
                            </a:lnTo>
                            <a:lnTo>
                              <a:pt x="1100" y="188"/>
                            </a:lnTo>
                            <a:lnTo>
                              <a:pt x="1094" y="190"/>
                            </a:lnTo>
                            <a:lnTo>
                              <a:pt x="1090" y="192"/>
                            </a:lnTo>
                            <a:lnTo>
                              <a:pt x="1086" y="192"/>
                            </a:lnTo>
                            <a:lnTo>
                              <a:pt x="1081" y="194"/>
                            </a:lnTo>
                            <a:lnTo>
                              <a:pt x="1077" y="198"/>
                            </a:lnTo>
                            <a:lnTo>
                              <a:pt x="1073" y="200"/>
                            </a:lnTo>
                            <a:lnTo>
                              <a:pt x="1067" y="203"/>
                            </a:lnTo>
                            <a:lnTo>
                              <a:pt x="1063" y="205"/>
                            </a:lnTo>
                            <a:lnTo>
                              <a:pt x="1058" y="207"/>
                            </a:lnTo>
                            <a:lnTo>
                              <a:pt x="1054" y="211"/>
                            </a:lnTo>
                            <a:lnTo>
                              <a:pt x="1050" y="215"/>
                            </a:lnTo>
                            <a:lnTo>
                              <a:pt x="1048" y="219"/>
                            </a:lnTo>
                            <a:lnTo>
                              <a:pt x="1044" y="222"/>
                            </a:lnTo>
                            <a:lnTo>
                              <a:pt x="1041" y="226"/>
                            </a:lnTo>
                            <a:lnTo>
                              <a:pt x="1039" y="232"/>
                            </a:lnTo>
                            <a:lnTo>
                              <a:pt x="1035" y="234"/>
                            </a:lnTo>
                            <a:lnTo>
                              <a:pt x="1033" y="240"/>
                            </a:lnTo>
                            <a:lnTo>
                              <a:pt x="1029" y="243"/>
                            </a:lnTo>
                            <a:lnTo>
                              <a:pt x="1027" y="249"/>
                            </a:lnTo>
                            <a:lnTo>
                              <a:pt x="1025" y="253"/>
                            </a:lnTo>
                            <a:lnTo>
                              <a:pt x="1023" y="259"/>
                            </a:lnTo>
                            <a:lnTo>
                              <a:pt x="1022" y="260"/>
                            </a:lnTo>
                            <a:lnTo>
                              <a:pt x="1022" y="264"/>
                            </a:lnTo>
                            <a:lnTo>
                              <a:pt x="1022" y="266"/>
                            </a:lnTo>
                            <a:lnTo>
                              <a:pt x="1022" y="270"/>
                            </a:lnTo>
                            <a:lnTo>
                              <a:pt x="919" y="730"/>
                            </a:lnTo>
                            <a:lnTo>
                              <a:pt x="915" y="728"/>
                            </a:lnTo>
                            <a:lnTo>
                              <a:pt x="913" y="726"/>
                            </a:lnTo>
                            <a:lnTo>
                              <a:pt x="907" y="724"/>
                            </a:lnTo>
                            <a:lnTo>
                              <a:pt x="905" y="720"/>
                            </a:lnTo>
                            <a:lnTo>
                              <a:pt x="904" y="719"/>
                            </a:lnTo>
                            <a:lnTo>
                              <a:pt x="900" y="717"/>
                            </a:lnTo>
                            <a:lnTo>
                              <a:pt x="896" y="713"/>
                            </a:lnTo>
                            <a:lnTo>
                              <a:pt x="892" y="713"/>
                            </a:lnTo>
                            <a:lnTo>
                              <a:pt x="1022" y="129"/>
                            </a:lnTo>
                            <a:lnTo>
                              <a:pt x="1022" y="125"/>
                            </a:lnTo>
                            <a:lnTo>
                              <a:pt x="1022" y="124"/>
                            </a:lnTo>
                            <a:lnTo>
                              <a:pt x="1022" y="120"/>
                            </a:lnTo>
                            <a:lnTo>
                              <a:pt x="1022" y="118"/>
                            </a:lnTo>
                            <a:lnTo>
                              <a:pt x="1022" y="114"/>
                            </a:lnTo>
                            <a:lnTo>
                              <a:pt x="1022" y="112"/>
                            </a:lnTo>
                            <a:lnTo>
                              <a:pt x="1022" y="110"/>
                            </a:lnTo>
                            <a:lnTo>
                              <a:pt x="1022" y="106"/>
                            </a:lnTo>
                            <a:lnTo>
                              <a:pt x="1022" y="105"/>
                            </a:lnTo>
                            <a:lnTo>
                              <a:pt x="1022" y="103"/>
                            </a:lnTo>
                            <a:lnTo>
                              <a:pt x="1022" y="99"/>
                            </a:lnTo>
                            <a:lnTo>
                              <a:pt x="1022" y="97"/>
                            </a:lnTo>
                            <a:lnTo>
                              <a:pt x="1022" y="91"/>
                            </a:lnTo>
                            <a:lnTo>
                              <a:pt x="1022" y="86"/>
                            </a:lnTo>
                            <a:lnTo>
                              <a:pt x="1020" y="82"/>
                            </a:lnTo>
                            <a:lnTo>
                              <a:pt x="1018" y="76"/>
                            </a:lnTo>
                            <a:lnTo>
                              <a:pt x="1016" y="70"/>
                            </a:lnTo>
                            <a:lnTo>
                              <a:pt x="1014" y="67"/>
                            </a:lnTo>
                            <a:lnTo>
                              <a:pt x="1012" y="61"/>
                            </a:lnTo>
                            <a:lnTo>
                              <a:pt x="1010" y="57"/>
                            </a:lnTo>
                            <a:lnTo>
                              <a:pt x="1008" y="53"/>
                            </a:lnTo>
                            <a:lnTo>
                              <a:pt x="1006" y="48"/>
                            </a:lnTo>
                            <a:lnTo>
                              <a:pt x="1004" y="44"/>
                            </a:lnTo>
                            <a:lnTo>
                              <a:pt x="1001" y="40"/>
                            </a:lnTo>
                            <a:lnTo>
                              <a:pt x="997" y="36"/>
                            </a:lnTo>
                            <a:lnTo>
                              <a:pt x="993" y="32"/>
                            </a:lnTo>
                            <a:lnTo>
                              <a:pt x="991" y="29"/>
                            </a:lnTo>
                            <a:lnTo>
                              <a:pt x="985" y="25"/>
                            </a:lnTo>
                            <a:lnTo>
                              <a:pt x="983" y="23"/>
                            </a:lnTo>
                            <a:lnTo>
                              <a:pt x="978" y="19"/>
                            </a:lnTo>
                            <a:lnTo>
                              <a:pt x="972" y="17"/>
                            </a:lnTo>
                            <a:lnTo>
                              <a:pt x="968" y="13"/>
                            </a:lnTo>
                            <a:lnTo>
                              <a:pt x="964" y="11"/>
                            </a:lnTo>
                            <a:lnTo>
                              <a:pt x="961" y="10"/>
                            </a:lnTo>
                            <a:lnTo>
                              <a:pt x="955" y="6"/>
                            </a:lnTo>
                            <a:lnTo>
                              <a:pt x="949" y="6"/>
                            </a:lnTo>
                            <a:lnTo>
                              <a:pt x="944" y="4"/>
                            </a:lnTo>
                            <a:lnTo>
                              <a:pt x="940" y="4"/>
                            </a:lnTo>
                            <a:lnTo>
                              <a:pt x="936" y="2"/>
                            </a:lnTo>
                            <a:lnTo>
                              <a:pt x="934" y="2"/>
                            </a:lnTo>
                            <a:lnTo>
                              <a:pt x="932" y="0"/>
                            </a:lnTo>
                            <a:lnTo>
                              <a:pt x="928" y="0"/>
                            </a:lnTo>
                            <a:lnTo>
                              <a:pt x="926" y="0"/>
                            </a:lnTo>
                            <a:lnTo>
                              <a:pt x="925" y="0"/>
                            </a:lnTo>
                            <a:lnTo>
                              <a:pt x="921" y="0"/>
                            </a:lnTo>
                            <a:lnTo>
                              <a:pt x="919" y="0"/>
                            </a:lnTo>
                            <a:lnTo>
                              <a:pt x="915" y="0"/>
                            </a:lnTo>
                            <a:lnTo>
                              <a:pt x="913" y="0"/>
                            </a:lnTo>
                            <a:lnTo>
                              <a:pt x="911" y="0"/>
                            </a:lnTo>
                            <a:lnTo>
                              <a:pt x="907" y="0"/>
                            </a:lnTo>
                            <a:lnTo>
                              <a:pt x="904" y="0"/>
                            </a:lnTo>
                            <a:lnTo>
                              <a:pt x="898" y="2"/>
                            </a:lnTo>
                            <a:lnTo>
                              <a:pt x="896" y="2"/>
                            </a:lnTo>
                            <a:lnTo>
                              <a:pt x="892" y="2"/>
                            </a:lnTo>
                            <a:lnTo>
                              <a:pt x="890" y="2"/>
                            </a:lnTo>
                            <a:lnTo>
                              <a:pt x="888" y="4"/>
                            </a:lnTo>
                            <a:lnTo>
                              <a:pt x="881" y="4"/>
                            </a:lnTo>
                            <a:lnTo>
                              <a:pt x="877" y="6"/>
                            </a:lnTo>
                            <a:lnTo>
                              <a:pt x="873" y="10"/>
                            </a:lnTo>
                            <a:lnTo>
                              <a:pt x="867" y="11"/>
                            </a:lnTo>
                            <a:lnTo>
                              <a:pt x="864" y="15"/>
                            </a:lnTo>
                            <a:lnTo>
                              <a:pt x="860" y="17"/>
                            </a:lnTo>
                            <a:lnTo>
                              <a:pt x="854" y="19"/>
                            </a:lnTo>
                            <a:lnTo>
                              <a:pt x="850" y="23"/>
                            </a:lnTo>
                            <a:lnTo>
                              <a:pt x="847" y="25"/>
                            </a:lnTo>
                            <a:lnTo>
                              <a:pt x="843" y="29"/>
                            </a:lnTo>
                            <a:lnTo>
                              <a:pt x="839" y="32"/>
                            </a:lnTo>
                            <a:lnTo>
                              <a:pt x="835" y="36"/>
                            </a:lnTo>
                            <a:lnTo>
                              <a:pt x="833" y="40"/>
                            </a:lnTo>
                            <a:lnTo>
                              <a:pt x="831" y="44"/>
                            </a:lnTo>
                            <a:lnTo>
                              <a:pt x="828" y="48"/>
                            </a:lnTo>
                            <a:lnTo>
                              <a:pt x="824" y="53"/>
                            </a:lnTo>
                            <a:lnTo>
                              <a:pt x="822" y="57"/>
                            </a:lnTo>
                            <a:lnTo>
                              <a:pt x="820" y="61"/>
                            </a:lnTo>
                            <a:lnTo>
                              <a:pt x="818" y="67"/>
                            </a:lnTo>
                            <a:lnTo>
                              <a:pt x="816" y="70"/>
                            </a:lnTo>
                            <a:lnTo>
                              <a:pt x="816" y="74"/>
                            </a:lnTo>
                            <a:lnTo>
                              <a:pt x="814" y="76"/>
                            </a:lnTo>
                            <a:lnTo>
                              <a:pt x="812" y="82"/>
                            </a:lnTo>
                            <a:lnTo>
                              <a:pt x="812" y="84"/>
                            </a:lnTo>
                            <a:lnTo>
                              <a:pt x="687" y="663"/>
                            </a:lnTo>
                            <a:lnTo>
                              <a:pt x="681" y="663"/>
                            </a:lnTo>
                            <a:lnTo>
                              <a:pt x="677" y="663"/>
                            </a:lnTo>
                            <a:lnTo>
                              <a:pt x="673" y="663"/>
                            </a:lnTo>
                            <a:lnTo>
                              <a:pt x="670" y="663"/>
                            </a:lnTo>
                            <a:lnTo>
                              <a:pt x="666" y="663"/>
                            </a:lnTo>
                            <a:lnTo>
                              <a:pt x="660" y="665"/>
                            </a:lnTo>
                            <a:lnTo>
                              <a:pt x="656" y="665"/>
                            </a:lnTo>
                            <a:lnTo>
                              <a:pt x="652" y="667"/>
                            </a:lnTo>
                            <a:lnTo>
                              <a:pt x="753" y="213"/>
                            </a:lnTo>
                            <a:lnTo>
                              <a:pt x="753" y="209"/>
                            </a:lnTo>
                            <a:lnTo>
                              <a:pt x="753" y="207"/>
                            </a:lnTo>
                            <a:lnTo>
                              <a:pt x="753" y="203"/>
                            </a:lnTo>
                            <a:lnTo>
                              <a:pt x="753" y="201"/>
                            </a:lnTo>
                            <a:lnTo>
                              <a:pt x="753" y="198"/>
                            </a:lnTo>
                            <a:lnTo>
                              <a:pt x="753" y="196"/>
                            </a:lnTo>
                            <a:lnTo>
                              <a:pt x="753" y="192"/>
                            </a:lnTo>
                            <a:lnTo>
                              <a:pt x="753" y="190"/>
                            </a:lnTo>
                            <a:lnTo>
                              <a:pt x="753" y="188"/>
                            </a:lnTo>
                            <a:lnTo>
                              <a:pt x="753" y="184"/>
                            </a:lnTo>
                            <a:lnTo>
                              <a:pt x="753" y="182"/>
                            </a:lnTo>
                            <a:lnTo>
                              <a:pt x="753" y="181"/>
                            </a:lnTo>
                            <a:lnTo>
                              <a:pt x="753" y="175"/>
                            </a:lnTo>
                            <a:lnTo>
                              <a:pt x="753" y="169"/>
                            </a:lnTo>
                            <a:lnTo>
                              <a:pt x="751" y="167"/>
                            </a:lnTo>
                            <a:lnTo>
                              <a:pt x="751" y="163"/>
                            </a:lnTo>
                            <a:lnTo>
                              <a:pt x="751" y="162"/>
                            </a:lnTo>
                            <a:lnTo>
                              <a:pt x="750" y="160"/>
                            </a:lnTo>
                            <a:lnTo>
                              <a:pt x="748" y="154"/>
                            </a:lnTo>
                            <a:lnTo>
                              <a:pt x="746" y="148"/>
                            </a:lnTo>
                            <a:lnTo>
                              <a:pt x="744" y="144"/>
                            </a:lnTo>
                            <a:lnTo>
                              <a:pt x="742" y="141"/>
                            </a:lnTo>
                            <a:lnTo>
                              <a:pt x="740" y="135"/>
                            </a:lnTo>
                            <a:lnTo>
                              <a:pt x="738" y="131"/>
                            </a:lnTo>
                            <a:lnTo>
                              <a:pt x="734" y="127"/>
                            </a:lnTo>
                            <a:lnTo>
                              <a:pt x="730" y="124"/>
                            </a:lnTo>
                            <a:lnTo>
                              <a:pt x="727" y="120"/>
                            </a:lnTo>
                            <a:lnTo>
                              <a:pt x="725" y="116"/>
                            </a:lnTo>
                            <a:lnTo>
                              <a:pt x="721" y="112"/>
                            </a:lnTo>
                            <a:lnTo>
                              <a:pt x="717" y="108"/>
                            </a:lnTo>
                            <a:lnTo>
                              <a:pt x="713" y="105"/>
                            </a:lnTo>
                            <a:lnTo>
                              <a:pt x="710" y="103"/>
                            </a:lnTo>
                            <a:lnTo>
                              <a:pt x="704" y="99"/>
                            </a:lnTo>
                            <a:lnTo>
                              <a:pt x="700" y="97"/>
                            </a:lnTo>
                            <a:lnTo>
                              <a:pt x="694" y="95"/>
                            </a:lnTo>
                            <a:lnTo>
                              <a:pt x="691" y="91"/>
                            </a:lnTo>
                            <a:lnTo>
                              <a:pt x="685" y="89"/>
                            </a:lnTo>
                            <a:lnTo>
                              <a:pt x="681" y="87"/>
                            </a:lnTo>
                            <a:lnTo>
                              <a:pt x="675" y="86"/>
                            </a:lnTo>
                            <a:lnTo>
                              <a:pt x="672" y="86"/>
                            </a:lnTo>
                            <a:lnTo>
                              <a:pt x="668" y="84"/>
                            </a:lnTo>
                            <a:lnTo>
                              <a:pt x="666" y="84"/>
                            </a:lnTo>
                            <a:lnTo>
                              <a:pt x="664" y="84"/>
                            </a:lnTo>
                            <a:lnTo>
                              <a:pt x="660" y="84"/>
                            </a:lnTo>
                            <a:lnTo>
                              <a:pt x="658" y="84"/>
                            </a:lnTo>
                            <a:lnTo>
                              <a:pt x="654" y="84"/>
                            </a:lnTo>
                            <a:lnTo>
                              <a:pt x="652" y="84"/>
                            </a:lnTo>
                            <a:lnTo>
                              <a:pt x="651" y="84"/>
                            </a:lnTo>
                            <a:lnTo>
                              <a:pt x="647" y="84"/>
                            </a:lnTo>
                            <a:lnTo>
                              <a:pt x="645" y="84"/>
                            </a:lnTo>
                            <a:lnTo>
                              <a:pt x="643" y="84"/>
                            </a:lnTo>
                            <a:lnTo>
                              <a:pt x="639" y="84"/>
                            </a:lnTo>
                            <a:lnTo>
                              <a:pt x="635" y="84"/>
                            </a:lnTo>
                            <a:lnTo>
                              <a:pt x="630" y="84"/>
                            </a:lnTo>
                            <a:lnTo>
                              <a:pt x="628" y="84"/>
                            </a:lnTo>
                            <a:lnTo>
                              <a:pt x="624" y="86"/>
                            </a:lnTo>
                            <a:lnTo>
                              <a:pt x="622" y="86"/>
                            </a:lnTo>
                            <a:lnTo>
                              <a:pt x="618" y="86"/>
                            </a:lnTo>
                            <a:lnTo>
                              <a:pt x="614" y="87"/>
                            </a:lnTo>
                            <a:lnTo>
                              <a:pt x="609" y="89"/>
                            </a:lnTo>
                            <a:lnTo>
                              <a:pt x="603" y="91"/>
                            </a:lnTo>
                            <a:lnTo>
                              <a:pt x="599" y="95"/>
                            </a:lnTo>
                            <a:lnTo>
                              <a:pt x="595" y="97"/>
                            </a:lnTo>
                            <a:lnTo>
                              <a:pt x="592" y="99"/>
                            </a:lnTo>
                            <a:lnTo>
                              <a:pt x="586" y="103"/>
                            </a:lnTo>
                            <a:lnTo>
                              <a:pt x="582" y="105"/>
                            </a:lnTo>
                            <a:lnTo>
                              <a:pt x="578" y="108"/>
                            </a:lnTo>
                            <a:lnTo>
                              <a:pt x="574" y="112"/>
                            </a:lnTo>
                            <a:lnTo>
                              <a:pt x="571" y="116"/>
                            </a:lnTo>
                            <a:lnTo>
                              <a:pt x="567" y="120"/>
                            </a:lnTo>
                            <a:lnTo>
                              <a:pt x="565" y="124"/>
                            </a:lnTo>
                            <a:lnTo>
                              <a:pt x="563" y="127"/>
                            </a:lnTo>
                            <a:lnTo>
                              <a:pt x="559" y="131"/>
                            </a:lnTo>
                            <a:lnTo>
                              <a:pt x="555" y="135"/>
                            </a:lnTo>
                            <a:lnTo>
                              <a:pt x="554" y="141"/>
                            </a:lnTo>
                            <a:lnTo>
                              <a:pt x="552" y="146"/>
                            </a:lnTo>
                            <a:lnTo>
                              <a:pt x="550" y="150"/>
                            </a:lnTo>
                            <a:lnTo>
                              <a:pt x="548" y="156"/>
                            </a:lnTo>
                            <a:lnTo>
                              <a:pt x="546" y="158"/>
                            </a:lnTo>
                            <a:lnTo>
                              <a:pt x="546" y="160"/>
                            </a:lnTo>
                            <a:lnTo>
                              <a:pt x="544" y="163"/>
                            </a:lnTo>
                            <a:lnTo>
                              <a:pt x="544" y="167"/>
                            </a:lnTo>
                            <a:lnTo>
                              <a:pt x="361" y="1127"/>
                            </a:lnTo>
                            <a:lnTo>
                              <a:pt x="361" y="1127"/>
                            </a:lnTo>
                            <a:close/>
                          </a:path>
                        </a:pathLst>
                      </a:custGeom>
                      <a:solidFill>
                        <a:srgbClr val="eaeaea"/>
                      </a:solidFill>
                      <a:ln w="9360">
                        <a:solidFill>
                          <a:srgbClr val="c0c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20" name="AutoShape 1140"/>
                    <p:cNvSpPr/>
                    <p:nvPr/>
                  </p:nvSpPr>
                  <p:spPr>
                    <a:xfrm rot="47400">
                      <a:off x="4512960" y="3691440"/>
                      <a:ext cx="88560" cy="75960"/>
                    </a:xfrm>
                    <a:prstGeom prst="hexagon">
                      <a:avLst>
                        <a:gd name="adj" fmla="val 29147"/>
                        <a:gd name="vf" fmla="val 115470"/>
                      </a:avLst>
                    </a:prstGeom>
                    <a:solidFill>
                      <a:srgbClr val="ff0000"/>
                    </a:solidFill>
                    <a:ln w="9360">
                      <a:solidFill>
                        <a:srgbClr val="b2b2b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80" bIns="1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321" name="AutoShape 1141"/>
                <p:cNvSpPr/>
                <p:nvPr/>
              </p:nvSpPr>
              <p:spPr>
                <a:xfrm rot="64800">
                  <a:off x="4470120" y="3349440"/>
                  <a:ext cx="180000" cy="12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0" y="21600"/>
                      </a:lnTo>
                      <a:lnTo>
                        <a:pt x="216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2" name="AutoShape 1142"/>
              <p:cNvSpPr/>
              <p:nvPr/>
            </p:nvSpPr>
            <p:spPr>
              <a:xfrm rot="79200">
                <a:off x="4449240" y="4074840"/>
                <a:ext cx="192600" cy="5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308" y="21600"/>
                    </a:lnTo>
                    <a:lnTo>
                      <a:pt x="1729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3" name="AutoShape 1143"/>
            <p:cNvSpPr/>
            <p:nvPr/>
          </p:nvSpPr>
          <p:spPr>
            <a:xfrm rot="21528000">
              <a:off x="4498200" y="3348000"/>
              <a:ext cx="115560" cy="109800"/>
            </a:xfrm>
            <a:custGeom>
              <a:avLst/>
              <a:gdLst/>
              <a:ahLst/>
              <a:rect l="l" t="t" r="r" b="b"/>
              <a:pathLst>
                <a:path w="137" h="130">
                  <a:moveTo>
                    <a:pt x="0" y="49"/>
                  </a:moveTo>
                  <a:lnTo>
                    <a:pt x="52" y="49"/>
                  </a:lnTo>
                  <a:lnTo>
                    <a:pt x="68" y="0"/>
                  </a:lnTo>
                  <a:lnTo>
                    <a:pt x="84" y="49"/>
                  </a:lnTo>
                  <a:lnTo>
                    <a:pt x="136" y="49"/>
                  </a:lnTo>
                  <a:lnTo>
                    <a:pt x="94" y="80"/>
                  </a:lnTo>
                  <a:lnTo>
                    <a:pt x="110" y="129"/>
                  </a:lnTo>
                  <a:lnTo>
                    <a:pt x="68" y="99"/>
                  </a:lnTo>
                  <a:lnTo>
                    <a:pt x="26" y="129"/>
                  </a:lnTo>
                  <a:lnTo>
                    <a:pt x="42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4" name="Group 1145"/>
          <p:cNvGrpSpPr/>
          <p:nvPr/>
        </p:nvGrpSpPr>
        <p:grpSpPr>
          <a:xfrm>
            <a:off x="2652840" y="-14760"/>
            <a:ext cx="4281120" cy="4863960"/>
            <a:chOff x="2652840" y="-14760"/>
            <a:chExt cx="4281120" cy="4863960"/>
          </a:xfrm>
        </p:grpSpPr>
        <p:sp>
          <p:nvSpPr>
            <p:cNvPr id="1325" name="Oval 1146"/>
            <p:cNvSpPr/>
            <p:nvPr/>
          </p:nvSpPr>
          <p:spPr>
            <a:xfrm rot="16200000">
              <a:off x="4121640" y="2053800"/>
              <a:ext cx="1326600" cy="426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3137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AutoShape 1147"/>
            <p:cNvSpPr/>
            <p:nvPr/>
          </p:nvSpPr>
          <p:spPr>
            <a:xfrm rot="10800000">
              <a:off x="2670120" y="-14760"/>
              <a:ext cx="4263840" cy="4346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702" y="21600"/>
                  </a:lnTo>
                  <a:lnTo>
                    <a:pt x="1289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aeaea">
                    <a:alpha val="71372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7" name="Text Box 1350"/>
          <p:cNvSpPr/>
          <p:nvPr/>
        </p:nvSpPr>
        <p:spPr>
          <a:xfrm>
            <a:off x="2133720" y="5562720"/>
            <a:ext cx="67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跌倒的时候，老妈都会让我站起来。她说，日子还要继续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8" name=""/>
          <p:cNvGrpSpPr/>
          <p:nvPr/>
        </p:nvGrpSpPr>
        <p:grpSpPr>
          <a:xfrm>
            <a:off x="-1447920" y="5486400"/>
            <a:ext cx="304920" cy="609480"/>
            <a:chOff x="-1447920" y="5486400"/>
            <a:chExt cx="304920" cy="609480"/>
          </a:xfrm>
        </p:grpSpPr>
        <p:sp>
          <p:nvSpPr>
            <p:cNvPr id="1329" name="Line 1351"/>
            <p:cNvSpPr/>
            <p:nvPr/>
          </p:nvSpPr>
          <p:spPr>
            <a:xfrm>
              <a:off x="-1447920" y="5486400"/>
              <a:ext cx="304920" cy="609480"/>
            </a:xfrm>
            <a:prstGeom prst="line">
              <a:avLst/>
            </a:prstGeom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 txBox="1"/>
            <p:nvPr/>
          </p:nvSpPr>
          <p:spPr>
            <a:xfrm>
              <a:off x="-1447920" y="5486400"/>
              <a:ext cx="30492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320000">
                                      <p:cBhvr>
                                        <p:cTn id="214" dur="2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216" dur="2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320000">
                                      <p:cBhvr>
                                        <p:cTn id="218" dur="2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220" dur="2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59259E-006 L 0.04027 -0.09699 E">
                                      <p:cBhvr>
                                        <p:cTn id="222" dur="2000" fill="hold"/>
                                        <p:tgtEl>
                                          <p:spTgt spid="1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dur="indefinite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224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59259E-006 L 0.03334 -0.08889 E">
                                      <p:cBhvr>
                                        <p:cTn id="226" dur="2000" fill="hold"/>
                                        <p:tgtEl>
                                          <p:spTgt spid="1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dur="indefinite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228" dur="1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" dur="indefinite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230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59259E-006 L 0.03334 -0.08889 E">
                                      <p:cBhvr>
                                        <p:cTn id="232" dur="2000" fill="hold"/>
                                        <p:tgtEl>
                                          <p:spTgt spid="1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5" dur="2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Text Box 187"/>
          <p:cNvSpPr/>
          <p:nvPr/>
        </p:nvSpPr>
        <p:spPr>
          <a:xfrm>
            <a:off x="1676520" y="5562720"/>
            <a:ext cx="6781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有一次我问朋友，你有什么事情可以让你忘记去吃掉手里的巨无霸的吗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他说没有。我很自豪。因为我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2" name="Group 444"/>
          <p:cNvGrpSpPr/>
          <p:nvPr/>
        </p:nvGrpSpPr>
        <p:grpSpPr>
          <a:xfrm>
            <a:off x="4010760" y="1933200"/>
            <a:ext cx="1038240" cy="1562400"/>
            <a:chOff x="4010760" y="1933200"/>
            <a:chExt cx="1038240" cy="1562400"/>
          </a:xfrm>
        </p:grpSpPr>
        <p:grpSp>
          <p:nvGrpSpPr>
            <p:cNvPr id="1333" name="Group 221"/>
            <p:cNvGrpSpPr/>
            <p:nvPr/>
          </p:nvGrpSpPr>
          <p:grpSpPr>
            <a:xfrm>
              <a:off x="4128480" y="1933200"/>
              <a:ext cx="435960" cy="1083600"/>
              <a:chOff x="4128480" y="1933200"/>
              <a:chExt cx="435960" cy="1083600"/>
            </a:xfrm>
          </p:grpSpPr>
          <p:grpSp>
            <p:nvGrpSpPr>
              <p:cNvPr id="1334" name="Group 222"/>
              <p:cNvGrpSpPr/>
              <p:nvPr/>
            </p:nvGrpSpPr>
            <p:grpSpPr>
              <a:xfrm>
                <a:off x="4128480" y="2382480"/>
                <a:ext cx="435960" cy="634320"/>
                <a:chOff x="4128480" y="2382480"/>
                <a:chExt cx="435960" cy="634320"/>
              </a:xfrm>
            </p:grpSpPr>
            <p:sp>
              <p:nvSpPr>
                <p:cNvPr id="1335" name="AutoShape 223"/>
                <p:cNvSpPr/>
                <p:nvPr/>
              </p:nvSpPr>
              <p:spPr>
                <a:xfrm rot="20112600">
                  <a:off x="4290480" y="2510280"/>
                  <a:ext cx="179280" cy="491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1556" y="21600"/>
                      </a:lnTo>
                      <a:lnTo>
                        <a:pt x="20044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18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6" name="AutoShape 224"/>
                <p:cNvSpPr/>
                <p:nvPr/>
              </p:nvSpPr>
              <p:spPr>
                <a:xfrm rot="4090800">
                  <a:off x="4177800" y="2396880"/>
                  <a:ext cx="191520" cy="23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934" y="2201"/>
                        <a:pt x="12267" y="5080"/>
                        <a:pt x="12267" y="10800"/>
                      </a:cubicBezTo>
                      <a:cubicBezTo>
                        <a:pt x="12267" y="16520"/>
                        <a:pt x="16934" y="1939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62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7" name="AutoShape 225"/>
              <p:cNvSpPr/>
              <p:nvPr/>
            </p:nvSpPr>
            <p:spPr>
              <a:xfrm rot="19784400">
                <a:off x="4263120" y="2633760"/>
                <a:ext cx="180720" cy="122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Group 226"/>
              <p:cNvGrpSpPr/>
              <p:nvPr/>
            </p:nvGrpSpPr>
            <p:grpSpPr>
              <a:xfrm>
                <a:off x="4141080" y="1933200"/>
                <a:ext cx="248760" cy="614880"/>
                <a:chOff x="4141080" y="1933200"/>
                <a:chExt cx="248760" cy="614880"/>
              </a:xfrm>
            </p:grpSpPr>
            <p:grpSp>
              <p:nvGrpSpPr>
                <p:cNvPr id="1339" name="Group 227"/>
                <p:cNvGrpSpPr/>
                <p:nvPr/>
              </p:nvGrpSpPr>
              <p:grpSpPr>
                <a:xfrm>
                  <a:off x="4141080" y="1933200"/>
                  <a:ext cx="248760" cy="614880"/>
                  <a:chOff x="4141080" y="1933200"/>
                  <a:chExt cx="248760" cy="614880"/>
                </a:xfrm>
              </p:grpSpPr>
              <p:sp>
                <p:nvSpPr>
                  <p:cNvPr id="1340" name="AutoShape 228"/>
                  <p:cNvSpPr/>
                  <p:nvPr/>
                </p:nvSpPr>
                <p:spPr>
                  <a:xfrm flipV="1" rot="286200">
                    <a:off x="4190040" y="1939320"/>
                    <a:ext cx="17928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1556" y="21600"/>
                        </a:lnTo>
                        <a:lnTo>
                          <a:pt x="20044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" name="AutoShape 229"/>
                  <p:cNvSpPr/>
                  <p:nvPr/>
                </p:nvSpPr>
                <p:spPr>
                  <a:xfrm flipV="1" rot="16308000">
                    <a:off x="4165920" y="2329920"/>
                    <a:ext cx="191520" cy="23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934" y="2201"/>
                          <a:pt x="12267" y="5080"/>
                          <a:pt x="12267" y="10800"/>
                        </a:cubicBezTo>
                        <a:cubicBezTo>
                          <a:pt x="12267" y="16520"/>
                          <a:pt x="16934" y="19399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42" name="AutoShape 230"/>
                <p:cNvSpPr/>
                <p:nvPr/>
              </p:nvSpPr>
              <p:spPr>
                <a:xfrm flipV="1" rot="20934600">
                  <a:off x="4185000" y="2191320"/>
                  <a:ext cx="180360" cy="12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0" y="21600"/>
                      </a:lnTo>
                      <a:lnTo>
                        <a:pt x="216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3" name="AutoShape 231"/>
                <p:cNvSpPr/>
                <p:nvPr/>
              </p:nvSpPr>
              <p:spPr>
                <a:xfrm flipV="1" rot="21072000">
                  <a:off x="4214160" y="2207880"/>
                  <a:ext cx="115200" cy="109440"/>
                </a:xfrm>
                <a:custGeom>
                  <a:avLst/>
                  <a:gdLst/>
                  <a:ahLst/>
                  <a:rect l="l" t="t" r="r" b="b"/>
                  <a:pathLst>
                    <a:path w="73" h="69">
                      <a:moveTo>
                        <a:pt x="0" y="26"/>
                      </a:moveTo>
                      <a:lnTo>
                        <a:pt x="27" y="26"/>
                      </a:lnTo>
                      <a:lnTo>
                        <a:pt x="36" y="0"/>
                      </a:lnTo>
                      <a:lnTo>
                        <a:pt x="45" y="26"/>
                      </a:lnTo>
                      <a:lnTo>
                        <a:pt x="72" y="26"/>
                      </a:lnTo>
                      <a:lnTo>
                        <a:pt x="50" y="42"/>
                      </a:lnTo>
                      <a:lnTo>
                        <a:pt x="59" y="68"/>
                      </a:lnTo>
                      <a:lnTo>
                        <a:pt x="36" y="52"/>
                      </a:lnTo>
                      <a:lnTo>
                        <a:pt x="13" y="68"/>
                      </a:lnTo>
                      <a:lnTo>
                        <a:pt x="22" y="42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4" name="AutoShape 232"/>
              <p:cNvSpPr/>
              <p:nvPr/>
            </p:nvSpPr>
            <p:spPr>
              <a:xfrm rot="19821600">
                <a:off x="4286520" y="2635560"/>
                <a:ext cx="133200" cy="115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5" name="Group 233"/>
            <p:cNvGrpSpPr/>
            <p:nvPr/>
          </p:nvGrpSpPr>
          <p:grpSpPr>
            <a:xfrm>
              <a:off x="4010760" y="2461320"/>
              <a:ext cx="1006200" cy="1034280"/>
              <a:chOff x="4010760" y="2461320"/>
              <a:chExt cx="1006200" cy="1034280"/>
            </a:xfrm>
          </p:grpSpPr>
          <p:grpSp>
            <p:nvGrpSpPr>
              <p:cNvPr id="1346" name="Group 234"/>
              <p:cNvGrpSpPr/>
              <p:nvPr/>
            </p:nvGrpSpPr>
            <p:grpSpPr>
              <a:xfrm>
                <a:off x="4386600" y="2461320"/>
                <a:ext cx="630360" cy="632520"/>
                <a:chOff x="4386600" y="2461320"/>
                <a:chExt cx="630360" cy="632520"/>
              </a:xfrm>
            </p:grpSpPr>
            <p:grpSp>
              <p:nvGrpSpPr>
                <p:cNvPr id="1347" name="Group 235"/>
                <p:cNvGrpSpPr/>
                <p:nvPr/>
              </p:nvGrpSpPr>
              <p:grpSpPr>
                <a:xfrm>
                  <a:off x="4386600" y="2461320"/>
                  <a:ext cx="630360" cy="632520"/>
                  <a:chOff x="4386600" y="2461320"/>
                  <a:chExt cx="630360" cy="632520"/>
                </a:xfrm>
              </p:grpSpPr>
              <p:sp>
                <p:nvSpPr>
                  <p:cNvPr id="1348" name="AutoShape 236"/>
                  <p:cNvSpPr/>
                  <p:nvPr/>
                </p:nvSpPr>
                <p:spPr>
                  <a:xfrm rot="13675800">
                    <a:off x="4580640" y="2645280"/>
                    <a:ext cx="179640" cy="36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4308" y="21600"/>
                        </a:lnTo>
                        <a:lnTo>
                          <a:pt x="17292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54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" name="Oval 237"/>
                  <p:cNvSpPr/>
                  <p:nvPr/>
                </p:nvSpPr>
                <p:spPr>
                  <a:xfrm rot="14215200">
                    <a:off x="4423680" y="2868480"/>
                    <a:ext cx="186480" cy="190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" name="Freeform 238"/>
                  <p:cNvSpPr/>
                  <p:nvPr/>
                </p:nvSpPr>
                <p:spPr>
                  <a:xfrm rot="2109600">
                    <a:off x="4775040" y="2485440"/>
                    <a:ext cx="174960" cy="28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02" h="2302">
                        <a:moveTo>
                          <a:pt x="361" y="1127"/>
                        </a:moveTo>
                        <a:lnTo>
                          <a:pt x="280" y="1116"/>
                        </a:lnTo>
                        <a:lnTo>
                          <a:pt x="373" y="711"/>
                        </a:lnTo>
                        <a:lnTo>
                          <a:pt x="373" y="709"/>
                        </a:lnTo>
                        <a:lnTo>
                          <a:pt x="375" y="705"/>
                        </a:lnTo>
                        <a:lnTo>
                          <a:pt x="375" y="703"/>
                        </a:lnTo>
                        <a:lnTo>
                          <a:pt x="375" y="700"/>
                        </a:lnTo>
                        <a:lnTo>
                          <a:pt x="375" y="698"/>
                        </a:lnTo>
                        <a:lnTo>
                          <a:pt x="375" y="696"/>
                        </a:lnTo>
                        <a:lnTo>
                          <a:pt x="375" y="692"/>
                        </a:lnTo>
                        <a:lnTo>
                          <a:pt x="375" y="690"/>
                        </a:lnTo>
                        <a:lnTo>
                          <a:pt x="375" y="684"/>
                        </a:lnTo>
                        <a:lnTo>
                          <a:pt x="375" y="681"/>
                        </a:lnTo>
                        <a:lnTo>
                          <a:pt x="375" y="675"/>
                        </a:lnTo>
                        <a:lnTo>
                          <a:pt x="375" y="669"/>
                        </a:lnTo>
                        <a:lnTo>
                          <a:pt x="371" y="665"/>
                        </a:lnTo>
                        <a:lnTo>
                          <a:pt x="371" y="660"/>
                        </a:lnTo>
                        <a:lnTo>
                          <a:pt x="369" y="654"/>
                        </a:lnTo>
                        <a:lnTo>
                          <a:pt x="367" y="652"/>
                        </a:lnTo>
                        <a:lnTo>
                          <a:pt x="365" y="646"/>
                        </a:lnTo>
                        <a:lnTo>
                          <a:pt x="363" y="641"/>
                        </a:lnTo>
                        <a:lnTo>
                          <a:pt x="361" y="637"/>
                        </a:lnTo>
                        <a:lnTo>
                          <a:pt x="358" y="633"/>
                        </a:lnTo>
                        <a:lnTo>
                          <a:pt x="356" y="629"/>
                        </a:lnTo>
                        <a:lnTo>
                          <a:pt x="354" y="623"/>
                        </a:lnTo>
                        <a:lnTo>
                          <a:pt x="350" y="620"/>
                        </a:lnTo>
                        <a:lnTo>
                          <a:pt x="346" y="616"/>
                        </a:lnTo>
                        <a:lnTo>
                          <a:pt x="342" y="612"/>
                        </a:lnTo>
                        <a:lnTo>
                          <a:pt x="339" y="610"/>
                        </a:lnTo>
                        <a:lnTo>
                          <a:pt x="335" y="606"/>
                        </a:lnTo>
                        <a:lnTo>
                          <a:pt x="331" y="603"/>
                        </a:lnTo>
                        <a:lnTo>
                          <a:pt x="325" y="601"/>
                        </a:lnTo>
                        <a:lnTo>
                          <a:pt x="321" y="597"/>
                        </a:lnTo>
                        <a:lnTo>
                          <a:pt x="318" y="595"/>
                        </a:lnTo>
                        <a:lnTo>
                          <a:pt x="312" y="593"/>
                        </a:lnTo>
                        <a:lnTo>
                          <a:pt x="306" y="591"/>
                        </a:lnTo>
                        <a:lnTo>
                          <a:pt x="302" y="589"/>
                        </a:lnTo>
                        <a:lnTo>
                          <a:pt x="299" y="589"/>
                        </a:lnTo>
                        <a:lnTo>
                          <a:pt x="295" y="587"/>
                        </a:lnTo>
                        <a:lnTo>
                          <a:pt x="291" y="587"/>
                        </a:lnTo>
                        <a:lnTo>
                          <a:pt x="287" y="585"/>
                        </a:lnTo>
                        <a:lnTo>
                          <a:pt x="285" y="585"/>
                        </a:lnTo>
                        <a:lnTo>
                          <a:pt x="283" y="585"/>
                        </a:lnTo>
                        <a:lnTo>
                          <a:pt x="280" y="585"/>
                        </a:lnTo>
                        <a:lnTo>
                          <a:pt x="276" y="585"/>
                        </a:lnTo>
                        <a:lnTo>
                          <a:pt x="274" y="585"/>
                        </a:lnTo>
                        <a:lnTo>
                          <a:pt x="272" y="585"/>
                        </a:lnTo>
                        <a:lnTo>
                          <a:pt x="268" y="585"/>
                        </a:lnTo>
                        <a:lnTo>
                          <a:pt x="266" y="585"/>
                        </a:lnTo>
                        <a:lnTo>
                          <a:pt x="263" y="585"/>
                        </a:lnTo>
                        <a:lnTo>
                          <a:pt x="261" y="587"/>
                        </a:lnTo>
                        <a:lnTo>
                          <a:pt x="259" y="587"/>
                        </a:lnTo>
                        <a:lnTo>
                          <a:pt x="255" y="587"/>
                        </a:lnTo>
                        <a:lnTo>
                          <a:pt x="253" y="589"/>
                        </a:lnTo>
                        <a:lnTo>
                          <a:pt x="249" y="589"/>
                        </a:lnTo>
                        <a:lnTo>
                          <a:pt x="247" y="589"/>
                        </a:lnTo>
                        <a:lnTo>
                          <a:pt x="243" y="591"/>
                        </a:lnTo>
                        <a:lnTo>
                          <a:pt x="240" y="591"/>
                        </a:lnTo>
                        <a:lnTo>
                          <a:pt x="238" y="593"/>
                        </a:lnTo>
                        <a:lnTo>
                          <a:pt x="236" y="595"/>
                        </a:lnTo>
                        <a:lnTo>
                          <a:pt x="232" y="595"/>
                        </a:lnTo>
                        <a:lnTo>
                          <a:pt x="230" y="597"/>
                        </a:lnTo>
                        <a:lnTo>
                          <a:pt x="228" y="599"/>
                        </a:lnTo>
                        <a:lnTo>
                          <a:pt x="224" y="601"/>
                        </a:lnTo>
                        <a:lnTo>
                          <a:pt x="223" y="601"/>
                        </a:lnTo>
                        <a:lnTo>
                          <a:pt x="219" y="603"/>
                        </a:lnTo>
                        <a:lnTo>
                          <a:pt x="217" y="604"/>
                        </a:lnTo>
                        <a:lnTo>
                          <a:pt x="211" y="608"/>
                        </a:lnTo>
                        <a:lnTo>
                          <a:pt x="207" y="612"/>
                        </a:lnTo>
                        <a:lnTo>
                          <a:pt x="204" y="616"/>
                        </a:lnTo>
                        <a:lnTo>
                          <a:pt x="198" y="618"/>
                        </a:lnTo>
                        <a:lnTo>
                          <a:pt x="194" y="623"/>
                        </a:lnTo>
                        <a:lnTo>
                          <a:pt x="188" y="627"/>
                        </a:lnTo>
                        <a:lnTo>
                          <a:pt x="185" y="633"/>
                        </a:lnTo>
                        <a:lnTo>
                          <a:pt x="181" y="637"/>
                        </a:lnTo>
                        <a:lnTo>
                          <a:pt x="177" y="641"/>
                        </a:lnTo>
                        <a:lnTo>
                          <a:pt x="173" y="646"/>
                        </a:lnTo>
                        <a:lnTo>
                          <a:pt x="169" y="652"/>
                        </a:lnTo>
                        <a:lnTo>
                          <a:pt x="166" y="656"/>
                        </a:lnTo>
                        <a:lnTo>
                          <a:pt x="162" y="662"/>
                        </a:lnTo>
                        <a:lnTo>
                          <a:pt x="160" y="665"/>
                        </a:lnTo>
                        <a:lnTo>
                          <a:pt x="158" y="669"/>
                        </a:lnTo>
                        <a:lnTo>
                          <a:pt x="158" y="671"/>
                        </a:lnTo>
                        <a:lnTo>
                          <a:pt x="156" y="673"/>
                        </a:lnTo>
                        <a:lnTo>
                          <a:pt x="154" y="677"/>
                        </a:lnTo>
                        <a:lnTo>
                          <a:pt x="152" y="679"/>
                        </a:lnTo>
                        <a:lnTo>
                          <a:pt x="152" y="681"/>
                        </a:lnTo>
                        <a:lnTo>
                          <a:pt x="150" y="684"/>
                        </a:lnTo>
                        <a:lnTo>
                          <a:pt x="150" y="688"/>
                        </a:lnTo>
                        <a:lnTo>
                          <a:pt x="146" y="694"/>
                        </a:lnTo>
                        <a:lnTo>
                          <a:pt x="145" y="701"/>
                        </a:lnTo>
                        <a:lnTo>
                          <a:pt x="143" y="709"/>
                        </a:lnTo>
                        <a:lnTo>
                          <a:pt x="139" y="717"/>
                        </a:lnTo>
                        <a:lnTo>
                          <a:pt x="137" y="724"/>
                        </a:lnTo>
                        <a:lnTo>
                          <a:pt x="135" y="732"/>
                        </a:lnTo>
                        <a:lnTo>
                          <a:pt x="131" y="739"/>
                        </a:lnTo>
                        <a:lnTo>
                          <a:pt x="129" y="747"/>
                        </a:lnTo>
                        <a:lnTo>
                          <a:pt x="126" y="755"/>
                        </a:lnTo>
                        <a:lnTo>
                          <a:pt x="124" y="760"/>
                        </a:lnTo>
                        <a:lnTo>
                          <a:pt x="122" y="768"/>
                        </a:lnTo>
                        <a:lnTo>
                          <a:pt x="120" y="776"/>
                        </a:lnTo>
                        <a:lnTo>
                          <a:pt x="116" y="781"/>
                        </a:lnTo>
                        <a:lnTo>
                          <a:pt x="114" y="789"/>
                        </a:lnTo>
                        <a:lnTo>
                          <a:pt x="112" y="796"/>
                        </a:lnTo>
                        <a:lnTo>
                          <a:pt x="110" y="804"/>
                        </a:lnTo>
                        <a:lnTo>
                          <a:pt x="107" y="812"/>
                        </a:lnTo>
                        <a:lnTo>
                          <a:pt x="107" y="817"/>
                        </a:lnTo>
                        <a:lnTo>
                          <a:pt x="103" y="823"/>
                        </a:lnTo>
                        <a:lnTo>
                          <a:pt x="101" y="831"/>
                        </a:lnTo>
                        <a:lnTo>
                          <a:pt x="97" y="836"/>
                        </a:lnTo>
                        <a:lnTo>
                          <a:pt x="97" y="844"/>
                        </a:lnTo>
                        <a:lnTo>
                          <a:pt x="93" y="852"/>
                        </a:lnTo>
                        <a:lnTo>
                          <a:pt x="93" y="857"/>
                        </a:lnTo>
                        <a:lnTo>
                          <a:pt x="89" y="865"/>
                        </a:lnTo>
                        <a:lnTo>
                          <a:pt x="88" y="871"/>
                        </a:lnTo>
                        <a:lnTo>
                          <a:pt x="86" y="878"/>
                        </a:lnTo>
                        <a:lnTo>
                          <a:pt x="84" y="884"/>
                        </a:lnTo>
                        <a:lnTo>
                          <a:pt x="82" y="892"/>
                        </a:lnTo>
                        <a:lnTo>
                          <a:pt x="80" y="899"/>
                        </a:lnTo>
                        <a:lnTo>
                          <a:pt x="78" y="907"/>
                        </a:lnTo>
                        <a:lnTo>
                          <a:pt x="74" y="912"/>
                        </a:lnTo>
                        <a:lnTo>
                          <a:pt x="72" y="920"/>
                        </a:lnTo>
                        <a:lnTo>
                          <a:pt x="72" y="926"/>
                        </a:lnTo>
                        <a:lnTo>
                          <a:pt x="68" y="931"/>
                        </a:lnTo>
                        <a:lnTo>
                          <a:pt x="67" y="939"/>
                        </a:lnTo>
                        <a:lnTo>
                          <a:pt x="65" y="945"/>
                        </a:lnTo>
                        <a:lnTo>
                          <a:pt x="63" y="952"/>
                        </a:lnTo>
                        <a:lnTo>
                          <a:pt x="59" y="958"/>
                        </a:lnTo>
                        <a:lnTo>
                          <a:pt x="57" y="966"/>
                        </a:lnTo>
                        <a:lnTo>
                          <a:pt x="55" y="971"/>
                        </a:lnTo>
                        <a:lnTo>
                          <a:pt x="53" y="979"/>
                        </a:lnTo>
                        <a:lnTo>
                          <a:pt x="51" y="987"/>
                        </a:lnTo>
                        <a:lnTo>
                          <a:pt x="49" y="994"/>
                        </a:lnTo>
                        <a:lnTo>
                          <a:pt x="48" y="1000"/>
                        </a:lnTo>
                        <a:lnTo>
                          <a:pt x="46" y="1007"/>
                        </a:lnTo>
                        <a:lnTo>
                          <a:pt x="44" y="1015"/>
                        </a:lnTo>
                        <a:lnTo>
                          <a:pt x="42" y="1021"/>
                        </a:lnTo>
                        <a:lnTo>
                          <a:pt x="42" y="1028"/>
                        </a:lnTo>
                        <a:lnTo>
                          <a:pt x="38" y="1036"/>
                        </a:lnTo>
                        <a:lnTo>
                          <a:pt x="36" y="1042"/>
                        </a:lnTo>
                        <a:lnTo>
                          <a:pt x="36" y="1049"/>
                        </a:lnTo>
                        <a:lnTo>
                          <a:pt x="34" y="1057"/>
                        </a:lnTo>
                        <a:lnTo>
                          <a:pt x="30" y="1063"/>
                        </a:lnTo>
                        <a:lnTo>
                          <a:pt x="30" y="1070"/>
                        </a:lnTo>
                        <a:lnTo>
                          <a:pt x="29" y="1078"/>
                        </a:lnTo>
                        <a:lnTo>
                          <a:pt x="27" y="1085"/>
                        </a:lnTo>
                        <a:lnTo>
                          <a:pt x="25" y="1093"/>
                        </a:lnTo>
                        <a:lnTo>
                          <a:pt x="23" y="1101"/>
                        </a:lnTo>
                        <a:lnTo>
                          <a:pt x="21" y="1108"/>
                        </a:lnTo>
                        <a:lnTo>
                          <a:pt x="19" y="1116"/>
                        </a:lnTo>
                        <a:lnTo>
                          <a:pt x="17" y="1123"/>
                        </a:lnTo>
                        <a:lnTo>
                          <a:pt x="17" y="1131"/>
                        </a:lnTo>
                        <a:lnTo>
                          <a:pt x="15" y="1139"/>
                        </a:lnTo>
                        <a:lnTo>
                          <a:pt x="13" y="1148"/>
                        </a:lnTo>
                        <a:lnTo>
                          <a:pt x="10" y="1158"/>
                        </a:lnTo>
                        <a:lnTo>
                          <a:pt x="10" y="1165"/>
                        </a:lnTo>
                        <a:lnTo>
                          <a:pt x="8" y="1175"/>
                        </a:lnTo>
                        <a:lnTo>
                          <a:pt x="6" y="1182"/>
                        </a:lnTo>
                        <a:lnTo>
                          <a:pt x="6" y="1192"/>
                        </a:lnTo>
                        <a:lnTo>
                          <a:pt x="4" y="1201"/>
                        </a:lnTo>
                        <a:lnTo>
                          <a:pt x="2" y="1211"/>
                        </a:lnTo>
                        <a:lnTo>
                          <a:pt x="2" y="1218"/>
                        </a:lnTo>
                        <a:lnTo>
                          <a:pt x="0" y="1230"/>
                        </a:lnTo>
                        <a:lnTo>
                          <a:pt x="0" y="1237"/>
                        </a:lnTo>
                        <a:lnTo>
                          <a:pt x="0" y="1247"/>
                        </a:lnTo>
                        <a:lnTo>
                          <a:pt x="0" y="1257"/>
                        </a:lnTo>
                        <a:lnTo>
                          <a:pt x="0" y="1268"/>
                        </a:lnTo>
                        <a:lnTo>
                          <a:pt x="0" y="1276"/>
                        </a:lnTo>
                        <a:lnTo>
                          <a:pt x="0" y="1285"/>
                        </a:lnTo>
                        <a:lnTo>
                          <a:pt x="0" y="1296"/>
                        </a:lnTo>
                        <a:lnTo>
                          <a:pt x="0" y="1304"/>
                        </a:lnTo>
                        <a:lnTo>
                          <a:pt x="0" y="1314"/>
                        </a:lnTo>
                        <a:lnTo>
                          <a:pt x="0" y="1323"/>
                        </a:lnTo>
                        <a:lnTo>
                          <a:pt x="0" y="1333"/>
                        </a:lnTo>
                        <a:lnTo>
                          <a:pt x="2" y="1342"/>
                        </a:lnTo>
                        <a:lnTo>
                          <a:pt x="2" y="1352"/>
                        </a:lnTo>
                        <a:lnTo>
                          <a:pt x="4" y="1363"/>
                        </a:lnTo>
                        <a:lnTo>
                          <a:pt x="4" y="1371"/>
                        </a:lnTo>
                        <a:lnTo>
                          <a:pt x="6" y="1382"/>
                        </a:lnTo>
                        <a:lnTo>
                          <a:pt x="8" y="1390"/>
                        </a:lnTo>
                        <a:lnTo>
                          <a:pt x="8" y="1401"/>
                        </a:lnTo>
                        <a:lnTo>
                          <a:pt x="10" y="1409"/>
                        </a:lnTo>
                        <a:lnTo>
                          <a:pt x="11" y="1420"/>
                        </a:lnTo>
                        <a:lnTo>
                          <a:pt x="13" y="1429"/>
                        </a:lnTo>
                        <a:lnTo>
                          <a:pt x="15" y="1439"/>
                        </a:lnTo>
                        <a:lnTo>
                          <a:pt x="17" y="1448"/>
                        </a:lnTo>
                        <a:lnTo>
                          <a:pt x="19" y="1458"/>
                        </a:lnTo>
                        <a:lnTo>
                          <a:pt x="21" y="1468"/>
                        </a:lnTo>
                        <a:lnTo>
                          <a:pt x="23" y="1477"/>
                        </a:lnTo>
                        <a:lnTo>
                          <a:pt x="27" y="1487"/>
                        </a:lnTo>
                        <a:lnTo>
                          <a:pt x="29" y="1496"/>
                        </a:lnTo>
                        <a:lnTo>
                          <a:pt x="30" y="1506"/>
                        </a:lnTo>
                        <a:lnTo>
                          <a:pt x="34" y="1515"/>
                        </a:lnTo>
                        <a:lnTo>
                          <a:pt x="36" y="1525"/>
                        </a:lnTo>
                        <a:lnTo>
                          <a:pt x="38" y="1534"/>
                        </a:lnTo>
                        <a:lnTo>
                          <a:pt x="42" y="1544"/>
                        </a:lnTo>
                        <a:lnTo>
                          <a:pt x="46" y="1553"/>
                        </a:lnTo>
                        <a:lnTo>
                          <a:pt x="48" y="1561"/>
                        </a:lnTo>
                        <a:lnTo>
                          <a:pt x="51" y="1572"/>
                        </a:lnTo>
                        <a:lnTo>
                          <a:pt x="55" y="1580"/>
                        </a:lnTo>
                        <a:lnTo>
                          <a:pt x="59" y="1589"/>
                        </a:lnTo>
                        <a:lnTo>
                          <a:pt x="63" y="1599"/>
                        </a:lnTo>
                        <a:lnTo>
                          <a:pt x="67" y="1608"/>
                        </a:lnTo>
                        <a:lnTo>
                          <a:pt x="68" y="1616"/>
                        </a:lnTo>
                        <a:lnTo>
                          <a:pt x="74" y="1627"/>
                        </a:lnTo>
                        <a:lnTo>
                          <a:pt x="78" y="1635"/>
                        </a:lnTo>
                        <a:lnTo>
                          <a:pt x="82" y="1644"/>
                        </a:lnTo>
                        <a:lnTo>
                          <a:pt x="86" y="1652"/>
                        </a:lnTo>
                        <a:lnTo>
                          <a:pt x="89" y="1661"/>
                        </a:lnTo>
                        <a:lnTo>
                          <a:pt x="95" y="1669"/>
                        </a:lnTo>
                        <a:lnTo>
                          <a:pt x="99" y="1679"/>
                        </a:lnTo>
                        <a:lnTo>
                          <a:pt x="103" y="1688"/>
                        </a:lnTo>
                        <a:lnTo>
                          <a:pt x="108" y="1696"/>
                        </a:lnTo>
                        <a:lnTo>
                          <a:pt x="114" y="1703"/>
                        </a:lnTo>
                        <a:lnTo>
                          <a:pt x="118" y="1713"/>
                        </a:lnTo>
                        <a:lnTo>
                          <a:pt x="124" y="1722"/>
                        </a:lnTo>
                        <a:lnTo>
                          <a:pt x="127" y="1732"/>
                        </a:lnTo>
                        <a:lnTo>
                          <a:pt x="131" y="1736"/>
                        </a:lnTo>
                        <a:lnTo>
                          <a:pt x="135" y="1739"/>
                        </a:lnTo>
                        <a:lnTo>
                          <a:pt x="135" y="1743"/>
                        </a:lnTo>
                        <a:lnTo>
                          <a:pt x="137" y="1745"/>
                        </a:lnTo>
                        <a:lnTo>
                          <a:pt x="139" y="1747"/>
                        </a:lnTo>
                        <a:lnTo>
                          <a:pt x="141" y="1751"/>
                        </a:lnTo>
                        <a:lnTo>
                          <a:pt x="143" y="1755"/>
                        </a:lnTo>
                        <a:lnTo>
                          <a:pt x="143" y="1756"/>
                        </a:lnTo>
                        <a:lnTo>
                          <a:pt x="145" y="1760"/>
                        </a:lnTo>
                        <a:lnTo>
                          <a:pt x="146" y="1762"/>
                        </a:lnTo>
                        <a:lnTo>
                          <a:pt x="148" y="1766"/>
                        </a:lnTo>
                        <a:lnTo>
                          <a:pt x="150" y="1768"/>
                        </a:lnTo>
                        <a:lnTo>
                          <a:pt x="152" y="1770"/>
                        </a:lnTo>
                        <a:lnTo>
                          <a:pt x="156" y="1774"/>
                        </a:lnTo>
                        <a:lnTo>
                          <a:pt x="158" y="1777"/>
                        </a:lnTo>
                        <a:lnTo>
                          <a:pt x="160" y="1779"/>
                        </a:lnTo>
                        <a:lnTo>
                          <a:pt x="160" y="1783"/>
                        </a:lnTo>
                        <a:lnTo>
                          <a:pt x="162" y="1787"/>
                        </a:lnTo>
                        <a:lnTo>
                          <a:pt x="166" y="1789"/>
                        </a:lnTo>
                        <a:lnTo>
                          <a:pt x="166" y="1791"/>
                        </a:lnTo>
                        <a:lnTo>
                          <a:pt x="167" y="1794"/>
                        </a:lnTo>
                        <a:lnTo>
                          <a:pt x="169" y="1796"/>
                        </a:lnTo>
                        <a:lnTo>
                          <a:pt x="171" y="1800"/>
                        </a:lnTo>
                        <a:lnTo>
                          <a:pt x="173" y="1802"/>
                        </a:lnTo>
                        <a:lnTo>
                          <a:pt x="175" y="1806"/>
                        </a:lnTo>
                        <a:lnTo>
                          <a:pt x="177" y="1808"/>
                        </a:lnTo>
                        <a:lnTo>
                          <a:pt x="179" y="1812"/>
                        </a:lnTo>
                        <a:lnTo>
                          <a:pt x="181" y="1815"/>
                        </a:lnTo>
                        <a:lnTo>
                          <a:pt x="183" y="1817"/>
                        </a:lnTo>
                        <a:lnTo>
                          <a:pt x="185" y="1821"/>
                        </a:lnTo>
                        <a:lnTo>
                          <a:pt x="188" y="1827"/>
                        </a:lnTo>
                        <a:lnTo>
                          <a:pt x="190" y="1831"/>
                        </a:lnTo>
                        <a:lnTo>
                          <a:pt x="194" y="1836"/>
                        </a:lnTo>
                        <a:lnTo>
                          <a:pt x="198" y="1842"/>
                        </a:lnTo>
                        <a:lnTo>
                          <a:pt x="200" y="1846"/>
                        </a:lnTo>
                        <a:lnTo>
                          <a:pt x="204" y="1850"/>
                        </a:lnTo>
                        <a:lnTo>
                          <a:pt x="205" y="1853"/>
                        </a:lnTo>
                        <a:lnTo>
                          <a:pt x="207" y="1859"/>
                        </a:lnTo>
                        <a:lnTo>
                          <a:pt x="209" y="1861"/>
                        </a:lnTo>
                        <a:lnTo>
                          <a:pt x="211" y="1863"/>
                        </a:lnTo>
                        <a:lnTo>
                          <a:pt x="213" y="1867"/>
                        </a:lnTo>
                        <a:lnTo>
                          <a:pt x="215" y="1869"/>
                        </a:lnTo>
                        <a:lnTo>
                          <a:pt x="217" y="1870"/>
                        </a:lnTo>
                        <a:lnTo>
                          <a:pt x="219" y="1874"/>
                        </a:lnTo>
                        <a:lnTo>
                          <a:pt x="141" y="2163"/>
                        </a:lnTo>
                        <a:lnTo>
                          <a:pt x="143" y="2165"/>
                        </a:lnTo>
                        <a:lnTo>
                          <a:pt x="146" y="2165"/>
                        </a:lnTo>
                        <a:lnTo>
                          <a:pt x="150" y="2167"/>
                        </a:lnTo>
                        <a:lnTo>
                          <a:pt x="152" y="2167"/>
                        </a:lnTo>
                        <a:lnTo>
                          <a:pt x="154" y="2167"/>
                        </a:lnTo>
                        <a:lnTo>
                          <a:pt x="158" y="2167"/>
                        </a:lnTo>
                        <a:lnTo>
                          <a:pt x="162" y="2171"/>
                        </a:lnTo>
                        <a:lnTo>
                          <a:pt x="166" y="2171"/>
                        </a:lnTo>
                        <a:lnTo>
                          <a:pt x="167" y="2173"/>
                        </a:lnTo>
                        <a:lnTo>
                          <a:pt x="171" y="2173"/>
                        </a:lnTo>
                        <a:lnTo>
                          <a:pt x="175" y="2175"/>
                        </a:lnTo>
                        <a:lnTo>
                          <a:pt x="181" y="2175"/>
                        </a:lnTo>
                        <a:lnTo>
                          <a:pt x="185" y="2175"/>
                        </a:lnTo>
                        <a:lnTo>
                          <a:pt x="188" y="2177"/>
                        </a:lnTo>
                        <a:lnTo>
                          <a:pt x="194" y="2180"/>
                        </a:lnTo>
                        <a:lnTo>
                          <a:pt x="198" y="2180"/>
                        </a:lnTo>
                        <a:lnTo>
                          <a:pt x="204" y="2182"/>
                        </a:lnTo>
                        <a:lnTo>
                          <a:pt x="209" y="2182"/>
                        </a:lnTo>
                        <a:lnTo>
                          <a:pt x="215" y="2184"/>
                        </a:lnTo>
                        <a:lnTo>
                          <a:pt x="219" y="2186"/>
                        </a:lnTo>
                        <a:lnTo>
                          <a:pt x="224" y="2188"/>
                        </a:lnTo>
                        <a:lnTo>
                          <a:pt x="232" y="2188"/>
                        </a:lnTo>
                        <a:lnTo>
                          <a:pt x="238" y="2190"/>
                        </a:lnTo>
                        <a:lnTo>
                          <a:pt x="243" y="2190"/>
                        </a:lnTo>
                        <a:lnTo>
                          <a:pt x="251" y="2192"/>
                        </a:lnTo>
                        <a:lnTo>
                          <a:pt x="257" y="2194"/>
                        </a:lnTo>
                        <a:lnTo>
                          <a:pt x="264" y="2194"/>
                        </a:lnTo>
                        <a:lnTo>
                          <a:pt x="270" y="2196"/>
                        </a:lnTo>
                        <a:lnTo>
                          <a:pt x="276" y="2196"/>
                        </a:lnTo>
                        <a:lnTo>
                          <a:pt x="283" y="2197"/>
                        </a:lnTo>
                        <a:lnTo>
                          <a:pt x="291" y="2199"/>
                        </a:lnTo>
                        <a:lnTo>
                          <a:pt x="297" y="2199"/>
                        </a:lnTo>
                        <a:lnTo>
                          <a:pt x="304" y="2199"/>
                        </a:lnTo>
                        <a:lnTo>
                          <a:pt x="312" y="2199"/>
                        </a:lnTo>
                        <a:lnTo>
                          <a:pt x="320" y="2201"/>
                        </a:lnTo>
                        <a:lnTo>
                          <a:pt x="325" y="2201"/>
                        </a:lnTo>
                        <a:lnTo>
                          <a:pt x="333" y="2201"/>
                        </a:lnTo>
                        <a:lnTo>
                          <a:pt x="341" y="2201"/>
                        </a:lnTo>
                        <a:lnTo>
                          <a:pt x="348" y="2201"/>
                        </a:lnTo>
                        <a:lnTo>
                          <a:pt x="356" y="2201"/>
                        </a:lnTo>
                        <a:lnTo>
                          <a:pt x="363" y="2201"/>
                        </a:lnTo>
                        <a:lnTo>
                          <a:pt x="371" y="2201"/>
                        </a:lnTo>
                        <a:lnTo>
                          <a:pt x="379" y="2201"/>
                        </a:lnTo>
                        <a:lnTo>
                          <a:pt x="386" y="2201"/>
                        </a:lnTo>
                        <a:lnTo>
                          <a:pt x="394" y="2201"/>
                        </a:lnTo>
                        <a:lnTo>
                          <a:pt x="401" y="2199"/>
                        </a:lnTo>
                        <a:lnTo>
                          <a:pt x="409" y="2199"/>
                        </a:lnTo>
                        <a:lnTo>
                          <a:pt x="415" y="2197"/>
                        </a:lnTo>
                        <a:lnTo>
                          <a:pt x="422" y="2196"/>
                        </a:lnTo>
                        <a:lnTo>
                          <a:pt x="432" y="2196"/>
                        </a:lnTo>
                        <a:lnTo>
                          <a:pt x="439" y="2194"/>
                        </a:lnTo>
                        <a:lnTo>
                          <a:pt x="447" y="2192"/>
                        </a:lnTo>
                        <a:lnTo>
                          <a:pt x="455" y="2190"/>
                        </a:lnTo>
                        <a:lnTo>
                          <a:pt x="462" y="2188"/>
                        </a:lnTo>
                        <a:lnTo>
                          <a:pt x="470" y="2188"/>
                        </a:lnTo>
                        <a:lnTo>
                          <a:pt x="476" y="2184"/>
                        </a:lnTo>
                        <a:lnTo>
                          <a:pt x="483" y="2182"/>
                        </a:lnTo>
                        <a:lnTo>
                          <a:pt x="491" y="2180"/>
                        </a:lnTo>
                        <a:lnTo>
                          <a:pt x="498" y="2175"/>
                        </a:lnTo>
                        <a:lnTo>
                          <a:pt x="504" y="2173"/>
                        </a:lnTo>
                        <a:lnTo>
                          <a:pt x="512" y="2169"/>
                        </a:lnTo>
                        <a:lnTo>
                          <a:pt x="517" y="2165"/>
                        </a:lnTo>
                        <a:lnTo>
                          <a:pt x="525" y="2161"/>
                        </a:lnTo>
                        <a:lnTo>
                          <a:pt x="531" y="2158"/>
                        </a:lnTo>
                        <a:lnTo>
                          <a:pt x="536" y="2154"/>
                        </a:lnTo>
                        <a:lnTo>
                          <a:pt x="542" y="2150"/>
                        </a:lnTo>
                        <a:lnTo>
                          <a:pt x="550" y="2146"/>
                        </a:lnTo>
                        <a:lnTo>
                          <a:pt x="555" y="2142"/>
                        </a:lnTo>
                        <a:lnTo>
                          <a:pt x="559" y="2137"/>
                        </a:lnTo>
                        <a:lnTo>
                          <a:pt x="565" y="2133"/>
                        </a:lnTo>
                        <a:lnTo>
                          <a:pt x="571" y="2129"/>
                        </a:lnTo>
                        <a:lnTo>
                          <a:pt x="576" y="2123"/>
                        </a:lnTo>
                        <a:lnTo>
                          <a:pt x="582" y="2120"/>
                        </a:lnTo>
                        <a:lnTo>
                          <a:pt x="588" y="2114"/>
                        </a:lnTo>
                        <a:lnTo>
                          <a:pt x="592" y="2110"/>
                        </a:lnTo>
                        <a:lnTo>
                          <a:pt x="595" y="2106"/>
                        </a:lnTo>
                        <a:lnTo>
                          <a:pt x="601" y="2101"/>
                        </a:lnTo>
                        <a:lnTo>
                          <a:pt x="605" y="2095"/>
                        </a:lnTo>
                        <a:lnTo>
                          <a:pt x="611" y="2091"/>
                        </a:lnTo>
                        <a:lnTo>
                          <a:pt x="614" y="2085"/>
                        </a:lnTo>
                        <a:lnTo>
                          <a:pt x="618" y="2080"/>
                        </a:lnTo>
                        <a:lnTo>
                          <a:pt x="624" y="2076"/>
                        </a:lnTo>
                        <a:lnTo>
                          <a:pt x="628" y="2070"/>
                        </a:lnTo>
                        <a:lnTo>
                          <a:pt x="632" y="2064"/>
                        </a:lnTo>
                        <a:lnTo>
                          <a:pt x="635" y="2059"/>
                        </a:lnTo>
                        <a:lnTo>
                          <a:pt x="637" y="2055"/>
                        </a:lnTo>
                        <a:lnTo>
                          <a:pt x="643" y="2049"/>
                        </a:lnTo>
                        <a:lnTo>
                          <a:pt x="645" y="2043"/>
                        </a:lnTo>
                        <a:lnTo>
                          <a:pt x="649" y="2040"/>
                        </a:lnTo>
                        <a:lnTo>
                          <a:pt x="652" y="2034"/>
                        </a:lnTo>
                        <a:lnTo>
                          <a:pt x="654" y="2030"/>
                        </a:lnTo>
                        <a:lnTo>
                          <a:pt x="658" y="2024"/>
                        </a:lnTo>
                        <a:lnTo>
                          <a:pt x="660" y="2021"/>
                        </a:lnTo>
                        <a:lnTo>
                          <a:pt x="664" y="2015"/>
                        </a:lnTo>
                        <a:lnTo>
                          <a:pt x="666" y="2011"/>
                        </a:lnTo>
                        <a:lnTo>
                          <a:pt x="668" y="2005"/>
                        </a:lnTo>
                        <a:lnTo>
                          <a:pt x="672" y="2002"/>
                        </a:lnTo>
                        <a:lnTo>
                          <a:pt x="673" y="1998"/>
                        </a:lnTo>
                        <a:lnTo>
                          <a:pt x="675" y="1992"/>
                        </a:lnTo>
                        <a:lnTo>
                          <a:pt x="677" y="1986"/>
                        </a:lnTo>
                        <a:lnTo>
                          <a:pt x="679" y="1983"/>
                        </a:lnTo>
                        <a:lnTo>
                          <a:pt x="681" y="1979"/>
                        </a:lnTo>
                        <a:lnTo>
                          <a:pt x="683" y="1975"/>
                        </a:lnTo>
                        <a:lnTo>
                          <a:pt x="685" y="1971"/>
                        </a:lnTo>
                        <a:lnTo>
                          <a:pt x="687" y="1969"/>
                        </a:lnTo>
                        <a:lnTo>
                          <a:pt x="689" y="1964"/>
                        </a:lnTo>
                        <a:lnTo>
                          <a:pt x="691" y="1962"/>
                        </a:lnTo>
                        <a:lnTo>
                          <a:pt x="692" y="1958"/>
                        </a:lnTo>
                        <a:lnTo>
                          <a:pt x="692" y="1954"/>
                        </a:lnTo>
                        <a:lnTo>
                          <a:pt x="692" y="1952"/>
                        </a:lnTo>
                        <a:lnTo>
                          <a:pt x="694" y="1950"/>
                        </a:lnTo>
                        <a:lnTo>
                          <a:pt x="696" y="1945"/>
                        </a:lnTo>
                        <a:lnTo>
                          <a:pt x="698" y="1941"/>
                        </a:lnTo>
                        <a:lnTo>
                          <a:pt x="700" y="1937"/>
                        </a:lnTo>
                        <a:lnTo>
                          <a:pt x="700" y="1935"/>
                        </a:lnTo>
                        <a:lnTo>
                          <a:pt x="700" y="1933"/>
                        </a:lnTo>
                        <a:lnTo>
                          <a:pt x="702" y="1933"/>
                        </a:lnTo>
                        <a:lnTo>
                          <a:pt x="740" y="1943"/>
                        </a:lnTo>
                        <a:lnTo>
                          <a:pt x="740" y="1943"/>
                        </a:lnTo>
                        <a:lnTo>
                          <a:pt x="738" y="1945"/>
                        </a:lnTo>
                        <a:lnTo>
                          <a:pt x="738" y="1947"/>
                        </a:lnTo>
                        <a:lnTo>
                          <a:pt x="738" y="1950"/>
                        </a:lnTo>
                        <a:lnTo>
                          <a:pt x="738" y="1954"/>
                        </a:lnTo>
                        <a:lnTo>
                          <a:pt x="738" y="1958"/>
                        </a:lnTo>
                        <a:lnTo>
                          <a:pt x="736" y="1962"/>
                        </a:lnTo>
                        <a:lnTo>
                          <a:pt x="736" y="1964"/>
                        </a:lnTo>
                        <a:lnTo>
                          <a:pt x="736" y="1967"/>
                        </a:lnTo>
                        <a:lnTo>
                          <a:pt x="736" y="1971"/>
                        </a:lnTo>
                        <a:lnTo>
                          <a:pt x="736" y="1975"/>
                        </a:lnTo>
                        <a:lnTo>
                          <a:pt x="736" y="1979"/>
                        </a:lnTo>
                        <a:lnTo>
                          <a:pt x="736" y="1983"/>
                        </a:lnTo>
                        <a:lnTo>
                          <a:pt x="736" y="1985"/>
                        </a:lnTo>
                        <a:lnTo>
                          <a:pt x="736" y="1990"/>
                        </a:lnTo>
                        <a:lnTo>
                          <a:pt x="736" y="1994"/>
                        </a:lnTo>
                        <a:lnTo>
                          <a:pt x="736" y="1998"/>
                        </a:lnTo>
                        <a:lnTo>
                          <a:pt x="736" y="2004"/>
                        </a:lnTo>
                        <a:lnTo>
                          <a:pt x="736" y="2007"/>
                        </a:lnTo>
                        <a:lnTo>
                          <a:pt x="736" y="2013"/>
                        </a:lnTo>
                        <a:lnTo>
                          <a:pt x="736" y="2015"/>
                        </a:lnTo>
                        <a:lnTo>
                          <a:pt x="736" y="2021"/>
                        </a:lnTo>
                        <a:lnTo>
                          <a:pt x="736" y="2026"/>
                        </a:lnTo>
                        <a:lnTo>
                          <a:pt x="736" y="2030"/>
                        </a:lnTo>
                        <a:lnTo>
                          <a:pt x="736" y="2036"/>
                        </a:lnTo>
                        <a:lnTo>
                          <a:pt x="736" y="2042"/>
                        </a:lnTo>
                        <a:lnTo>
                          <a:pt x="736" y="2047"/>
                        </a:lnTo>
                        <a:lnTo>
                          <a:pt x="738" y="2051"/>
                        </a:lnTo>
                        <a:lnTo>
                          <a:pt x="738" y="2057"/>
                        </a:lnTo>
                        <a:lnTo>
                          <a:pt x="738" y="2062"/>
                        </a:lnTo>
                        <a:lnTo>
                          <a:pt x="740" y="2066"/>
                        </a:lnTo>
                        <a:lnTo>
                          <a:pt x="740" y="2072"/>
                        </a:lnTo>
                        <a:lnTo>
                          <a:pt x="742" y="2078"/>
                        </a:lnTo>
                        <a:lnTo>
                          <a:pt x="744" y="2083"/>
                        </a:lnTo>
                        <a:lnTo>
                          <a:pt x="744" y="2091"/>
                        </a:lnTo>
                        <a:lnTo>
                          <a:pt x="746" y="2095"/>
                        </a:lnTo>
                        <a:lnTo>
                          <a:pt x="748" y="2101"/>
                        </a:lnTo>
                        <a:lnTo>
                          <a:pt x="748" y="2106"/>
                        </a:lnTo>
                        <a:lnTo>
                          <a:pt x="751" y="2110"/>
                        </a:lnTo>
                        <a:lnTo>
                          <a:pt x="753" y="2118"/>
                        </a:lnTo>
                        <a:lnTo>
                          <a:pt x="753" y="2123"/>
                        </a:lnTo>
                        <a:lnTo>
                          <a:pt x="757" y="2129"/>
                        </a:lnTo>
                        <a:lnTo>
                          <a:pt x="759" y="2135"/>
                        </a:lnTo>
                        <a:lnTo>
                          <a:pt x="761" y="2139"/>
                        </a:lnTo>
                        <a:lnTo>
                          <a:pt x="765" y="2144"/>
                        </a:lnTo>
                        <a:lnTo>
                          <a:pt x="767" y="2150"/>
                        </a:lnTo>
                        <a:lnTo>
                          <a:pt x="769" y="2156"/>
                        </a:lnTo>
                        <a:lnTo>
                          <a:pt x="772" y="2159"/>
                        </a:lnTo>
                        <a:lnTo>
                          <a:pt x="776" y="2165"/>
                        </a:lnTo>
                        <a:lnTo>
                          <a:pt x="780" y="2171"/>
                        </a:lnTo>
                        <a:lnTo>
                          <a:pt x="782" y="2175"/>
                        </a:lnTo>
                        <a:lnTo>
                          <a:pt x="786" y="2180"/>
                        </a:lnTo>
                        <a:lnTo>
                          <a:pt x="789" y="2186"/>
                        </a:lnTo>
                        <a:lnTo>
                          <a:pt x="795" y="2190"/>
                        </a:lnTo>
                        <a:lnTo>
                          <a:pt x="799" y="2196"/>
                        </a:lnTo>
                        <a:lnTo>
                          <a:pt x="805" y="2201"/>
                        </a:lnTo>
                        <a:lnTo>
                          <a:pt x="808" y="2205"/>
                        </a:lnTo>
                        <a:lnTo>
                          <a:pt x="814" y="2209"/>
                        </a:lnTo>
                        <a:lnTo>
                          <a:pt x="818" y="2213"/>
                        </a:lnTo>
                        <a:lnTo>
                          <a:pt x="824" y="2216"/>
                        </a:lnTo>
                        <a:lnTo>
                          <a:pt x="828" y="2222"/>
                        </a:lnTo>
                        <a:lnTo>
                          <a:pt x="833" y="2224"/>
                        </a:lnTo>
                        <a:lnTo>
                          <a:pt x="839" y="2228"/>
                        </a:lnTo>
                        <a:lnTo>
                          <a:pt x="845" y="2232"/>
                        </a:lnTo>
                        <a:lnTo>
                          <a:pt x="848" y="2235"/>
                        </a:lnTo>
                        <a:lnTo>
                          <a:pt x="854" y="2239"/>
                        </a:lnTo>
                        <a:lnTo>
                          <a:pt x="858" y="2243"/>
                        </a:lnTo>
                        <a:lnTo>
                          <a:pt x="864" y="2245"/>
                        </a:lnTo>
                        <a:lnTo>
                          <a:pt x="867" y="2249"/>
                        </a:lnTo>
                        <a:lnTo>
                          <a:pt x="873" y="2253"/>
                        </a:lnTo>
                        <a:lnTo>
                          <a:pt x="877" y="2256"/>
                        </a:lnTo>
                        <a:lnTo>
                          <a:pt x="883" y="2258"/>
                        </a:lnTo>
                        <a:lnTo>
                          <a:pt x="890" y="2260"/>
                        </a:lnTo>
                        <a:lnTo>
                          <a:pt x="896" y="2264"/>
                        </a:lnTo>
                        <a:lnTo>
                          <a:pt x="900" y="2266"/>
                        </a:lnTo>
                        <a:lnTo>
                          <a:pt x="904" y="2268"/>
                        </a:lnTo>
                        <a:lnTo>
                          <a:pt x="907" y="2270"/>
                        </a:lnTo>
                        <a:lnTo>
                          <a:pt x="913" y="2273"/>
                        </a:lnTo>
                        <a:lnTo>
                          <a:pt x="919" y="2275"/>
                        </a:lnTo>
                        <a:lnTo>
                          <a:pt x="925" y="2277"/>
                        </a:lnTo>
                        <a:lnTo>
                          <a:pt x="928" y="2279"/>
                        </a:lnTo>
                        <a:lnTo>
                          <a:pt x="934" y="2281"/>
                        </a:lnTo>
                        <a:lnTo>
                          <a:pt x="938" y="2283"/>
                        </a:lnTo>
                        <a:lnTo>
                          <a:pt x="942" y="2285"/>
                        </a:lnTo>
                        <a:lnTo>
                          <a:pt x="947" y="2287"/>
                        </a:lnTo>
                        <a:lnTo>
                          <a:pt x="951" y="2289"/>
                        </a:lnTo>
                        <a:lnTo>
                          <a:pt x="955" y="2289"/>
                        </a:lnTo>
                        <a:lnTo>
                          <a:pt x="961" y="2291"/>
                        </a:lnTo>
                        <a:lnTo>
                          <a:pt x="964" y="2291"/>
                        </a:lnTo>
                        <a:lnTo>
                          <a:pt x="968" y="2294"/>
                        </a:lnTo>
                        <a:lnTo>
                          <a:pt x="972" y="2294"/>
                        </a:lnTo>
                        <a:lnTo>
                          <a:pt x="978" y="2294"/>
                        </a:lnTo>
                        <a:lnTo>
                          <a:pt x="982" y="2296"/>
                        </a:lnTo>
                        <a:lnTo>
                          <a:pt x="985" y="2296"/>
                        </a:lnTo>
                        <a:lnTo>
                          <a:pt x="989" y="2296"/>
                        </a:lnTo>
                        <a:lnTo>
                          <a:pt x="993" y="2298"/>
                        </a:lnTo>
                        <a:lnTo>
                          <a:pt x="997" y="2298"/>
                        </a:lnTo>
                        <a:lnTo>
                          <a:pt x="1001" y="2298"/>
                        </a:lnTo>
                        <a:lnTo>
                          <a:pt x="1004" y="2298"/>
                        </a:lnTo>
                        <a:lnTo>
                          <a:pt x="1008" y="2300"/>
                        </a:lnTo>
                        <a:lnTo>
                          <a:pt x="1010" y="2300"/>
                        </a:lnTo>
                        <a:lnTo>
                          <a:pt x="1014" y="2300"/>
                        </a:lnTo>
                        <a:lnTo>
                          <a:pt x="1016" y="2300"/>
                        </a:lnTo>
                        <a:lnTo>
                          <a:pt x="1020" y="2300"/>
                        </a:lnTo>
                        <a:lnTo>
                          <a:pt x="1022" y="2300"/>
                        </a:lnTo>
                        <a:lnTo>
                          <a:pt x="1025" y="2302"/>
                        </a:lnTo>
                        <a:lnTo>
                          <a:pt x="1029" y="2300"/>
                        </a:lnTo>
                        <a:lnTo>
                          <a:pt x="1035" y="2300"/>
                        </a:lnTo>
                        <a:lnTo>
                          <a:pt x="1039" y="2298"/>
                        </a:lnTo>
                        <a:lnTo>
                          <a:pt x="1042" y="2298"/>
                        </a:lnTo>
                        <a:lnTo>
                          <a:pt x="1044" y="2296"/>
                        </a:lnTo>
                        <a:lnTo>
                          <a:pt x="1048" y="2296"/>
                        </a:lnTo>
                        <a:lnTo>
                          <a:pt x="1048" y="2294"/>
                        </a:lnTo>
                        <a:lnTo>
                          <a:pt x="1050" y="2294"/>
                        </a:lnTo>
                        <a:lnTo>
                          <a:pt x="1246" y="1334"/>
                        </a:lnTo>
                        <a:lnTo>
                          <a:pt x="1246" y="1333"/>
                        </a:lnTo>
                        <a:lnTo>
                          <a:pt x="1248" y="1331"/>
                        </a:lnTo>
                        <a:lnTo>
                          <a:pt x="1250" y="1327"/>
                        </a:lnTo>
                        <a:lnTo>
                          <a:pt x="1252" y="1325"/>
                        </a:lnTo>
                        <a:lnTo>
                          <a:pt x="1252" y="1323"/>
                        </a:lnTo>
                        <a:lnTo>
                          <a:pt x="1254" y="1319"/>
                        </a:lnTo>
                        <a:lnTo>
                          <a:pt x="1256" y="1315"/>
                        </a:lnTo>
                        <a:lnTo>
                          <a:pt x="1259" y="1312"/>
                        </a:lnTo>
                        <a:lnTo>
                          <a:pt x="1259" y="1306"/>
                        </a:lnTo>
                        <a:lnTo>
                          <a:pt x="1263" y="1302"/>
                        </a:lnTo>
                        <a:lnTo>
                          <a:pt x="1265" y="1296"/>
                        </a:lnTo>
                        <a:lnTo>
                          <a:pt x="1269" y="1293"/>
                        </a:lnTo>
                        <a:lnTo>
                          <a:pt x="1271" y="1285"/>
                        </a:lnTo>
                        <a:lnTo>
                          <a:pt x="1275" y="1281"/>
                        </a:lnTo>
                        <a:lnTo>
                          <a:pt x="1276" y="1274"/>
                        </a:lnTo>
                        <a:lnTo>
                          <a:pt x="1280" y="1266"/>
                        </a:lnTo>
                        <a:lnTo>
                          <a:pt x="1284" y="1258"/>
                        </a:lnTo>
                        <a:lnTo>
                          <a:pt x="1288" y="1249"/>
                        </a:lnTo>
                        <a:lnTo>
                          <a:pt x="1290" y="1241"/>
                        </a:lnTo>
                        <a:lnTo>
                          <a:pt x="1294" y="1234"/>
                        </a:lnTo>
                        <a:lnTo>
                          <a:pt x="1297" y="1224"/>
                        </a:lnTo>
                        <a:lnTo>
                          <a:pt x="1301" y="1217"/>
                        </a:lnTo>
                        <a:lnTo>
                          <a:pt x="1305" y="1207"/>
                        </a:lnTo>
                        <a:lnTo>
                          <a:pt x="1309" y="1198"/>
                        </a:lnTo>
                        <a:lnTo>
                          <a:pt x="1313" y="1188"/>
                        </a:lnTo>
                        <a:lnTo>
                          <a:pt x="1316" y="1177"/>
                        </a:lnTo>
                        <a:lnTo>
                          <a:pt x="1320" y="1165"/>
                        </a:lnTo>
                        <a:lnTo>
                          <a:pt x="1324" y="1154"/>
                        </a:lnTo>
                        <a:lnTo>
                          <a:pt x="1330" y="1144"/>
                        </a:lnTo>
                        <a:lnTo>
                          <a:pt x="1334" y="1133"/>
                        </a:lnTo>
                        <a:lnTo>
                          <a:pt x="1337" y="1122"/>
                        </a:lnTo>
                        <a:lnTo>
                          <a:pt x="1339" y="1108"/>
                        </a:lnTo>
                        <a:lnTo>
                          <a:pt x="1345" y="1097"/>
                        </a:lnTo>
                        <a:lnTo>
                          <a:pt x="1349" y="1084"/>
                        </a:lnTo>
                        <a:lnTo>
                          <a:pt x="1353" y="1070"/>
                        </a:lnTo>
                        <a:lnTo>
                          <a:pt x="1354" y="1059"/>
                        </a:lnTo>
                        <a:lnTo>
                          <a:pt x="1358" y="1044"/>
                        </a:lnTo>
                        <a:lnTo>
                          <a:pt x="1362" y="1032"/>
                        </a:lnTo>
                        <a:lnTo>
                          <a:pt x="1366" y="1017"/>
                        </a:lnTo>
                        <a:lnTo>
                          <a:pt x="1370" y="1004"/>
                        </a:lnTo>
                        <a:lnTo>
                          <a:pt x="1372" y="988"/>
                        </a:lnTo>
                        <a:lnTo>
                          <a:pt x="1375" y="975"/>
                        </a:lnTo>
                        <a:lnTo>
                          <a:pt x="1377" y="960"/>
                        </a:lnTo>
                        <a:lnTo>
                          <a:pt x="1381" y="947"/>
                        </a:lnTo>
                        <a:lnTo>
                          <a:pt x="1383" y="931"/>
                        </a:lnTo>
                        <a:lnTo>
                          <a:pt x="1387" y="916"/>
                        </a:lnTo>
                        <a:lnTo>
                          <a:pt x="1389" y="901"/>
                        </a:lnTo>
                        <a:lnTo>
                          <a:pt x="1391" y="886"/>
                        </a:lnTo>
                        <a:lnTo>
                          <a:pt x="1392" y="871"/>
                        </a:lnTo>
                        <a:lnTo>
                          <a:pt x="1394" y="855"/>
                        </a:lnTo>
                        <a:lnTo>
                          <a:pt x="1396" y="838"/>
                        </a:lnTo>
                        <a:lnTo>
                          <a:pt x="1398" y="823"/>
                        </a:lnTo>
                        <a:lnTo>
                          <a:pt x="1398" y="806"/>
                        </a:lnTo>
                        <a:lnTo>
                          <a:pt x="1400" y="791"/>
                        </a:lnTo>
                        <a:lnTo>
                          <a:pt x="1402" y="774"/>
                        </a:lnTo>
                        <a:lnTo>
                          <a:pt x="1402" y="757"/>
                        </a:lnTo>
                        <a:lnTo>
                          <a:pt x="1402" y="741"/>
                        </a:lnTo>
                        <a:lnTo>
                          <a:pt x="1402" y="724"/>
                        </a:lnTo>
                        <a:lnTo>
                          <a:pt x="1402" y="705"/>
                        </a:lnTo>
                        <a:lnTo>
                          <a:pt x="1402" y="690"/>
                        </a:lnTo>
                        <a:lnTo>
                          <a:pt x="1400" y="673"/>
                        </a:lnTo>
                        <a:lnTo>
                          <a:pt x="1400" y="656"/>
                        </a:lnTo>
                        <a:lnTo>
                          <a:pt x="1398" y="654"/>
                        </a:lnTo>
                        <a:lnTo>
                          <a:pt x="1398" y="652"/>
                        </a:lnTo>
                        <a:lnTo>
                          <a:pt x="1398" y="648"/>
                        </a:lnTo>
                        <a:lnTo>
                          <a:pt x="1398" y="644"/>
                        </a:lnTo>
                        <a:lnTo>
                          <a:pt x="1398" y="643"/>
                        </a:lnTo>
                        <a:lnTo>
                          <a:pt x="1398" y="639"/>
                        </a:lnTo>
                        <a:lnTo>
                          <a:pt x="1396" y="637"/>
                        </a:lnTo>
                        <a:lnTo>
                          <a:pt x="1396" y="633"/>
                        </a:lnTo>
                        <a:lnTo>
                          <a:pt x="1396" y="631"/>
                        </a:lnTo>
                        <a:lnTo>
                          <a:pt x="1396" y="627"/>
                        </a:lnTo>
                        <a:lnTo>
                          <a:pt x="1396" y="623"/>
                        </a:lnTo>
                        <a:lnTo>
                          <a:pt x="1394" y="620"/>
                        </a:lnTo>
                        <a:lnTo>
                          <a:pt x="1394" y="618"/>
                        </a:lnTo>
                        <a:lnTo>
                          <a:pt x="1394" y="616"/>
                        </a:lnTo>
                        <a:lnTo>
                          <a:pt x="1392" y="612"/>
                        </a:lnTo>
                        <a:lnTo>
                          <a:pt x="1392" y="610"/>
                        </a:lnTo>
                        <a:lnTo>
                          <a:pt x="1392" y="608"/>
                        </a:lnTo>
                        <a:lnTo>
                          <a:pt x="1391" y="604"/>
                        </a:lnTo>
                        <a:lnTo>
                          <a:pt x="1391" y="603"/>
                        </a:lnTo>
                        <a:lnTo>
                          <a:pt x="1391" y="599"/>
                        </a:lnTo>
                        <a:lnTo>
                          <a:pt x="1389" y="597"/>
                        </a:lnTo>
                        <a:lnTo>
                          <a:pt x="1389" y="593"/>
                        </a:lnTo>
                        <a:lnTo>
                          <a:pt x="1389" y="589"/>
                        </a:lnTo>
                        <a:lnTo>
                          <a:pt x="1389" y="587"/>
                        </a:lnTo>
                        <a:lnTo>
                          <a:pt x="1387" y="585"/>
                        </a:lnTo>
                        <a:lnTo>
                          <a:pt x="1385" y="582"/>
                        </a:lnTo>
                        <a:lnTo>
                          <a:pt x="1385" y="580"/>
                        </a:lnTo>
                        <a:lnTo>
                          <a:pt x="1383" y="578"/>
                        </a:lnTo>
                        <a:lnTo>
                          <a:pt x="1383" y="572"/>
                        </a:lnTo>
                        <a:lnTo>
                          <a:pt x="1381" y="568"/>
                        </a:lnTo>
                        <a:lnTo>
                          <a:pt x="1377" y="563"/>
                        </a:lnTo>
                        <a:lnTo>
                          <a:pt x="1375" y="557"/>
                        </a:lnTo>
                        <a:lnTo>
                          <a:pt x="1373" y="553"/>
                        </a:lnTo>
                        <a:lnTo>
                          <a:pt x="1370" y="547"/>
                        </a:lnTo>
                        <a:lnTo>
                          <a:pt x="1366" y="544"/>
                        </a:lnTo>
                        <a:lnTo>
                          <a:pt x="1364" y="540"/>
                        </a:lnTo>
                        <a:lnTo>
                          <a:pt x="1360" y="536"/>
                        </a:lnTo>
                        <a:lnTo>
                          <a:pt x="1356" y="532"/>
                        </a:lnTo>
                        <a:lnTo>
                          <a:pt x="1353" y="528"/>
                        </a:lnTo>
                        <a:lnTo>
                          <a:pt x="1349" y="525"/>
                        </a:lnTo>
                        <a:lnTo>
                          <a:pt x="1345" y="523"/>
                        </a:lnTo>
                        <a:lnTo>
                          <a:pt x="1339" y="521"/>
                        </a:lnTo>
                        <a:lnTo>
                          <a:pt x="1335" y="517"/>
                        </a:lnTo>
                        <a:lnTo>
                          <a:pt x="1332" y="515"/>
                        </a:lnTo>
                        <a:lnTo>
                          <a:pt x="1326" y="515"/>
                        </a:lnTo>
                        <a:lnTo>
                          <a:pt x="1322" y="513"/>
                        </a:lnTo>
                        <a:lnTo>
                          <a:pt x="1318" y="511"/>
                        </a:lnTo>
                        <a:lnTo>
                          <a:pt x="1316" y="511"/>
                        </a:lnTo>
                        <a:lnTo>
                          <a:pt x="1313" y="511"/>
                        </a:lnTo>
                        <a:lnTo>
                          <a:pt x="1311" y="511"/>
                        </a:lnTo>
                        <a:lnTo>
                          <a:pt x="1309" y="509"/>
                        </a:lnTo>
                        <a:lnTo>
                          <a:pt x="1305" y="509"/>
                        </a:lnTo>
                        <a:lnTo>
                          <a:pt x="1303" y="509"/>
                        </a:lnTo>
                        <a:lnTo>
                          <a:pt x="1301" y="509"/>
                        </a:lnTo>
                        <a:lnTo>
                          <a:pt x="1297" y="509"/>
                        </a:lnTo>
                        <a:lnTo>
                          <a:pt x="1295" y="509"/>
                        </a:lnTo>
                        <a:lnTo>
                          <a:pt x="1292" y="509"/>
                        </a:lnTo>
                        <a:lnTo>
                          <a:pt x="1290" y="509"/>
                        </a:lnTo>
                        <a:lnTo>
                          <a:pt x="1284" y="509"/>
                        </a:lnTo>
                        <a:lnTo>
                          <a:pt x="1280" y="509"/>
                        </a:lnTo>
                        <a:lnTo>
                          <a:pt x="1275" y="509"/>
                        </a:lnTo>
                        <a:lnTo>
                          <a:pt x="1269" y="509"/>
                        </a:lnTo>
                        <a:lnTo>
                          <a:pt x="1265" y="509"/>
                        </a:lnTo>
                        <a:lnTo>
                          <a:pt x="1259" y="509"/>
                        </a:lnTo>
                        <a:lnTo>
                          <a:pt x="1256" y="511"/>
                        </a:lnTo>
                        <a:lnTo>
                          <a:pt x="1252" y="511"/>
                        </a:lnTo>
                        <a:lnTo>
                          <a:pt x="1246" y="515"/>
                        </a:lnTo>
                        <a:lnTo>
                          <a:pt x="1242" y="515"/>
                        </a:lnTo>
                        <a:lnTo>
                          <a:pt x="1238" y="517"/>
                        </a:lnTo>
                        <a:lnTo>
                          <a:pt x="1235" y="521"/>
                        </a:lnTo>
                        <a:lnTo>
                          <a:pt x="1231" y="523"/>
                        </a:lnTo>
                        <a:lnTo>
                          <a:pt x="1229" y="525"/>
                        </a:lnTo>
                        <a:lnTo>
                          <a:pt x="1225" y="527"/>
                        </a:lnTo>
                        <a:lnTo>
                          <a:pt x="1221" y="530"/>
                        </a:lnTo>
                        <a:lnTo>
                          <a:pt x="1219" y="532"/>
                        </a:lnTo>
                        <a:lnTo>
                          <a:pt x="1216" y="538"/>
                        </a:lnTo>
                        <a:lnTo>
                          <a:pt x="1214" y="542"/>
                        </a:lnTo>
                        <a:lnTo>
                          <a:pt x="1212" y="546"/>
                        </a:lnTo>
                        <a:lnTo>
                          <a:pt x="1210" y="549"/>
                        </a:lnTo>
                        <a:lnTo>
                          <a:pt x="1208" y="555"/>
                        </a:lnTo>
                        <a:lnTo>
                          <a:pt x="1208" y="557"/>
                        </a:lnTo>
                        <a:lnTo>
                          <a:pt x="1206" y="559"/>
                        </a:lnTo>
                        <a:lnTo>
                          <a:pt x="1204" y="561"/>
                        </a:lnTo>
                        <a:lnTo>
                          <a:pt x="1204" y="565"/>
                        </a:lnTo>
                        <a:lnTo>
                          <a:pt x="1204" y="566"/>
                        </a:lnTo>
                        <a:lnTo>
                          <a:pt x="1204" y="570"/>
                        </a:lnTo>
                        <a:lnTo>
                          <a:pt x="1204" y="572"/>
                        </a:lnTo>
                        <a:lnTo>
                          <a:pt x="1204" y="576"/>
                        </a:lnTo>
                        <a:lnTo>
                          <a:pt x="1139" y="895"/>
                        </a:lnTo>
                        <a:lnTo>
                          <a:pt x="1136" y="893"/>
                        </a:lnTo>
                        <a:lnTo>
                          <a:pt x="1132" y="892"/>
                        </a:lnTo>
                        <a:lnTo>
                          <a:pt x="1126" y="888"/>
                        </a:lnTo>
                        <a:lnTo>
                          <a:pt x="1122" y="886"/>
                        </a:lnTo>
                        <a:lnTo>
                          <a:pt x="1117" y="884"/>
                        </a:lnTo>
                        <a:lnTo>
                          <a:pt x="1113" y="880"/>
                        </a:lnTo>
                        <a:lnTo>
                          <a:pt x="1107" y="878"/>
                        </a:lnTo>
                        <a:lnTo>
                          <a:pt x="1105" y="876"/>
                        </a:lnTo>
                        <a:lnTo>
                          <a:pt x="1227" y="316"/>
                        </a:lnTo>
                        <a:lnTo>
                          <a:pt x="1227" y="312"/>
                        </a:lnTo>
                        <a:lnTo>
                          <a:pt x="1227" y="308"/>
                        </a:lnTo>
                        <a:lnTo>
                          <a:pt x="1229" y="306"/>
                        </a:lnTo>
                        <a:lnTo>
                          <a:pt x="1229" y="304"/>
                        </a:lnTo>
                        <a:lnTo>
                          <a:pt x="1229" y="300"/>
                        </a:lnTo>
                        <a:lnTo>
                          <a:pt x="1229" y="298"/>
                        </a:lnTo>
                        <a:lnTo>
                          <a:pt x="1229" y="295"/>
                        </a:lnTo>
                        <a:lnTo>
                          <a:pt x="1229" y="293"/>
                        </a:lnTo>
                        <a:lnTo>
                          <a:pt x="1229" y="291"/>
                        </a:lnTo>
                        <a:lnTo>
                          <a:pt x="1229" y="287"/>
                        </a:lnTo>
                        <a:lnTo>
                          <a:pt x="1229" y="285"/>
                        </a:lnTo>
                        <a:lnTo>
                          <a:pt x="1229" y="283"/>
                        </a:lnTo>
                        <a:lnTo>
                          <a:pt x="1229" y="278"/>
                        </a:lnTo>
                        <a:lnTo>
                          <a:pt x="1227" y="272"/>
                        </a:lnTo>
                        <a:lnTo>
                          <a:pt x="1225" y="268"/>
                        </a:lnTo>
                        <a:lnTo>
                          <a:pt x="1225" y="262"/>
                        </a:lnTo>
                        <a:lnTo>
                          <a:pt x="1223" y="257"/>
                        </a:lnTo>
                        <a:lnTo>
                          <a:pt x="1221" y="253"/>
                        </a:lnTo>
                        <a:lnTo>
                          <a:pt x="1219" y="247"/>
                        </a:lnTo>
                        <a:lnTo>
                          <a:pt x="1217" y="243"/>
                        </a:lnTo>
                        <a:lnTo>
                          <a:pt x="1216" y="240"/>
                        </a:lnTo>
                        <a:lnTo>
                          <a:pt x="1214" y="236"/>
                        </a:lnTo>
                        <a:lnTo>
                          <a:pt x="1210" y="232"/>
                        </a:lnTo>
                        <a:lnTo>
                          <a:pt x="1206" y="226"/>
                        </a:lnTo>
                        <a:lnTo>
                          <a:pt x="1202" y="222"/>
                        </a:lnTo>
                        <a:lnTo>
                          <a:pt x="1200" y="219"/>
                        </a:lnTo>
                        <a:lnTo>
                          <a:pt x="1197" y="215"/>
                        </a:lnTo>
                        <a:lnTo>
                          <a:pt x="1193" y="211"/>
                        </a:lnTo>
                        <a:lnTo>
                          <a:pt x="1189" y="207"/>
                        </a:lnTo>
                        <a:lnTo>
                          <a:pt x="1185" y="205"/>
                        </a:lnTo>
                        <a:lnTo>
                          <a:pt x="1179" y="203"/>
                        </a:lnTo>
                        <a:lnTo>
                          <a:pt x="1176" y="200"/>
                        </a:lnTo>
                        <a:lnTo>
                          <a:pt x="1172" y="198"/>
                        </a:lnTo>
                        <a:lnTo>
                          <a:pt x="1166" y="194"/>
                        </a:lnTo>
                        <a:lnTo>
                          <a:pt x="1160" y="192"/>
                        </a:lnTo>
                        <a:lnTo>
                          <a:pt x="1157" y="192"/>
                        </a:lnTo>
                        <a:lnTo>
                          <a:pt x="1151" y="190"/>
                        </a:lnTo>
                        <a:lnTo>
                          <a:pt x="1147" y="190"/>
                        </a:lnTo>
                        <a:lnTo>
                          <a:pt x="1143" y="188"/>
                        </a:lnTo>
                        <a:lnTo>
                          <a:pt x="1141" y="186"/>
                        </a:lnTo>
                        <a:lnTo>
                          <a:pt x="1138" y="186"/>
                        </a:lnTo>
                        <a:lnTo>
                          <a:pt x="1136" y="186"/>
                        </a:lnTo>
                        <a:lnTo>
                          <a:pt x="1134" y="186"/>
                        </a:lnTo>
                        <a:lnTo>
                          <a:pt x="1130" y="186"/>
                        </a:lnTo>
                        <a:lnTo>
                          <a:pt x="1128" y="186"/>
                        </a:lnTo>
                        <a:lnTo>
                          <a:pt x="1124" y="186"/>
                        </a:lnTo>
                        <a:lnTo>
                          <a:pt x="1122" y="186"/>
                        </a:lnTo>
                        <a:lnTo>
                          <a:pt x="1120" y="186"/>
                        </a:lnTo>
                        <a:lnTo>
                          <a:pt x="1117" y="186"/>
                        </a:lnTo>
                        <a:lnTo>
                          <a:pt x="1115" y="186"/>
                        </a:lnTo>
                        <a:lnTo>
                          <a:pt x="1109" y="186"/>
                        </a:lnTo>
                        <a:lnTo>
                          <a:pt x="1105" y="188"/>
                        </a:lnTo>
                        <a:lnTo>
                          <a:pt x="1100" y="188"/>
                        </a:lnTo>
                        <a:lnTo>
                          <a:pt x="1094" y="190"/>
                        </a:lnTo>
                        <a:lnTo>
                          <a:pt x="1090" y="192"/>
                        </a:lnTo>
                        <a:lnTo>
                          <a:pt x="1086" y="192"/>
                        </a:lnTo>
                        <a:lnTo>
                          <a:pt x="1081" y="194"/>
                        </a:lnTo>
                        <a:lnTo>
                          <a:pt x="1077" y="198"/>
                        </a:lnTo>
                        <a:lnTo>
                          <a:pt x="1073" y="200"/>
                        </a:lnTo>
                        <a:lnTo>
                          <a:pt x="1067" y="203"/>
                        </a:lnTo>
                        <a:lnTo>
                          <a:pt x="1063" y="205"/>
                        </a:lnTo>
                        <a:lnTo>
                          <a:pt x="1058" y="207"/>
                        </a:lnTo>
                        <a:lnTo>
                          <a:pt x="1054" y="211"/>
                        </a:lnTo>
                        <a:lnTo>
                          <a:pt x="1050" y="215"/>
                        </a:lnTo>
                        <a:lnTo>
                          <a:pt x="1048" y="219"/>
                        </a:lnTo>
                        <a:lnTo>
                          <a:pt x="1044" y="222"/>
                        </a:lnTo>
                        <a:lnTo>
                          <a:pt x="1041" y="226"/>
                        </a:lnTo>
                        <a:lnTo>
                          <a:pt x="1039" y="232"/>
                        </a:lnTo>
                        <a:lnTo>
                          <a:pt x="1035" y="234"/>
                        </a:lnTo>
                        <a:lnTo>
                          <a:pt x="1033" y="240"/>
                        </a:lnTo>
                        <a:lnTo>
                          <a:pt x="1029" y="243"/>
                        </a:lnTo>
                        <a:lnTo>
                          <a:pt x="1027" y="249"/>
                        </a:lnTo>
                        <a:lnTo>
                          <a:pt x="1025" y="253"/>
                        </a:lnTo>
                        <a:lnTo>
                          <a:pt x="1023" y="259"/>
                        </a:lnTo>
                        <a:lnTo>
                          <a:pt x="1022" y="260"/>
                        </a:lnTo>
                        <a:lnTo>
                          <a:pt x="1022" y="264"/>
                        </a:lnTo>
                        <a:lnTo>
                          <a:pt x="1022" y="266"/>
                        </a:lnTo>
                        <a:lnTo>
                          <a:pt x="1022" y="270"/>
                        </a:lnTo>
                        <a:lnTo>
                          <a:pt x="919" y="730"/>
                        </a:lnTo>
                        <a:lnTo>
                          <a:pt x="915" y="728"/>
                        </a:lnTo>
                        <a:lnTo>
                          <a:pt x="913" y="726"/>
                        </a:lnTo>
                        <a:lnTo>
                          <a:pt x="907" y="724"/>
                        </a:lnTo>
                        <a:lnTo>
                          <a:pt x="905" y="720"/>
                        </a:lnTo>
                        <a:lnTo>
                          <a:pt x="904" y="719"/>
                        </a:lnTo>
                        <a:lnTo>
                          <a:pt x="900" y="717"/>
                        </a:lnTo>
                        <a:lnTo>
                          <a:pt x="896" y="713"/>
                        </a:lnTo>
                        <a:lnTo>
                          <a:pt x="892" y="713"/>
                        </a:lnTo>
                        <a:lnTo>
                          <a:pt x="1022" y="129"/>
                        </a:lnTo>
                        <a:lnTo>
                          <a:pt x="1022" y="125"/>
                        </a:lnTo>
                        <a:lnTo>
                          <a:pt x="1022" y="124"/>
                        </a:lnTo>
                        <a:lnTo>
                          <a:pt x="1022" y="120"/>
                        </a:lnTo>
                        <a:lnTo>
                          <a:pt x="1022" y="118"/>
                        </a:lnTo>
                        <a:lnTo>
                          <a:pt x="1022" y="114"/>
                        </a:lnTo>
                        <a:lnTo>
                          <a:pt x="1022" y="112"/>
                        </a:lnTo>
                        <a:lnTo>
                          <a:pt x="1022" y="110"/>
                        </a:lnTo>
                        <a:lnTo>
                          <a:pt x="1022" y="106"/>
                        </a:lnTo>
                        <a:lnTo>
                          <a:pt x="1022" y="105"/>
                        </a:lnTo>
                        <a:lnTo>
                          <a:pt x="1022" y="103"/>
                        </a:lnTo>
                        <a:lnTo>
                          <a:pt x="1022" y="99"/>
                        </a:lnTo>
                        <a:lnTo>
                          <a:pt x="1022" y="97"/>
                        </a:lnTo>
                        <a:lnTo>
                          <a:pt x="1022" y="91"/>
                        </a:lnTo>
                        <a:lnTo>
                          <a:pt x="1022" y="86"/>
                        </a:lnTo>
                        <a:lnTo>
                          <a:pt x="1020" y="82"/>
                        </a:lnTo>
                        <a:lnTo>
                          <a:pt x="1018" y="76"/>
                        </a:lnTo>
                        <a:lnTo>
                          <a:pt x="1016" y="70"/>
                        </a:lnTo>
                        <a:lnTo>
                          <a:pt x="1014" y="67"/>
                        </a:lnTo>
                        <a:lnTo>
                          <a:pt x="1012" y="61"/>
                        </a:lnTo>
                        <a:lnTo>
                          <a:pt x="1010" y="57"/>
                        </a:lnTo>
                        <a:lnTo>
                          <a:pt x="1008" y="53"/>
                        </a:lnTo>
                        <a:lnTo>
                          <a:pt x="1006" y="48"/>
                        </a:lnTo>
                        <a:lnTo>
                          <a:pt x="1004" y="44"/>
                        </a:lnTo>
                        <a:lnTo>
                          <a:pt x="1001" y="40"/>
                        </a:lnTo>
                        <a:lnTo>
                          <a:pt x="997" y="36"/>
                        </a:lnTo>
                        <a:lnTo>
                          <a:pt x="993" y="32"/>
                        </a:lnTo>
                        <a:lnTo>
                          <a:pt x="991" y="29"/>
                        </a:lnTo>
                        <a:lnTo>
                          <a:pt x="985" y="25"/>
                        </a:lnTo>
                        <a:lnTo>
                          <a:pt x="983" y="23"/>
                        </a:lnTo>
                        <a:lnTo>
                          <a:pt x="978" y="19"/>
                        </a:lnTo>
                        <a:lnTo>
                          <a:pt x="972" y="17"/>
                        </a:lnTo>
                        <a:lnTo>
                          <a:pt x="968" y="13"/>
                        </a:lnTo>
                        <a:lnTo>
                          <a:pt x="964" y="11"/>
                        </a:lnTo>
                        <a:lnTo>
                          <a:pt x="961" y="10"/>
                        </a:lnTo>
                        <a:lnTo>
                          <a:pt x="955" y="6"/>
                        </a:lnTo>
                        <a:lnTo>
                          <a:pt x="949" y="6"/>
                        </a:lnTo>
                        <a:lnTo>
                          <a:pt x="944" y="4"/>
                        </a:lnTo>
                        <a:lnTo>
                          <a:pt x="940" y="4"/>
                        </a:lnTo>
                        <a:lnTo>
                          <a:pt x="936" y="2"/>
                        </a:lnTo>
                        <a:lnTo>
                          <a:pt x="934" y="2"/>
                        </a:lnTo>
                        <a:lnTo>
                          <a:pt x="932" y="0"/>
                        </a:lnTo>
                        <a:lnTo>
                          <a:pt x="928" y="0"/>
                        </a:lnTo>
                        <a:lnTo>
                          <a:pt x="926" y="0"/>
                        </a:lnTo>
                        <a:lnTo>
                          <a:pt x="925" y="0"/>
                        </a:lnTo>
                        <a:lnTo>
                          <a:pt x="921" y="0"/>
                        </a:lnTo>
                        <a:lnTo>
                          <a:pt x="919" y="0"/>
                        </a:lnTo>
                        <a:lnTo>
                          <a:pt x="915" y="0"/>
                        </a:lnTo>
                        <a:lnTo>
                          <a:pt x="913" y="0"/>
                        </a:lnTo>
                        <a:lnTo>
                          <a:pt x="911" y="0"/>
                        </a:lnTo>
                        <a:lnTo>
                          <a:pt x="907" y="0"/>
                        </a:lnTo>
                        <a:lnTo>
                          <a:pt x="904" y="0"/>
                        </a:lnTo>
                        <a:lnTo>
                          <a:pt x="898" y="2"/>
                        </a:lnTo>
                        <a:lnTo>
                          <a:pt x="896" y="2"/>
                        </a:lnTo>
                        <a:lnTo>
                          <a:pt x="892" y="2"/>
                        </a:lnTo>
                        <a:lnTo>
                          <a:pt x="890" y="2"/>
                        </a:lnTo>
                        <a:lnTo>
                          <a:pt x="888" y="4"/>
                        </a:lnTo>
                        <a:lnTo>
                          <a:pt x="881" y="4"/>
                        </a:lnTo>
                        <a:lnTo>
                          <a:pt x="877" y="6"/>
                        </a:lnTo>
                        <a:lnTo>
                          <a:pt x="873" y="10"/>
                        </a:lnTo>
                        <a:lnTo>
                          <a:pt x="867" y="11"/>
                        </a:lnTo>
                        <a:lnTo>
                          <a:pt x="864" y="15"/>
                        </a:lnTo>
                        <a:lnTo>
                          <a:pt x="860" y="17"/>
                        </a:lnTo>
                        <a:lnTo>
                          <a:pt x="854" y="19"/>
                        </a:lnTo>
                        <a:lnTo>
                          <a:pt x="850" y="23"/>
                        </a:lnTo>
                        <a:lnTo>
                          <a:pt x="847" y="25"/>
                        </a:lnTo>
                        <a:lnTo>
                          <a:pt x="843" y="29"/>
                        </a:lnTo>
                        <a:lnTo>
                          <a:pt x="839" y="32"/>
                        </a:lnTo>
                        <a:lnTo>
                          <a:pt x="835" y="36"/>
                        </a:lnTo>
                        <a:lnTo>
                          <a:pt x="833" y="40"/>
                        </a:lnTo>
                        <a:lnTo>
                          <a:pt x="831" y="44"/>
                        </a:lnTo>
                        <a:lnTo>
                          <a:pt x="828" y="48"/>
                        </a:lnTo>
                        <a:lnTo>
                          <a:pt x="824" y="53"/>
                        </a:lnTo>
                        <a:lnTo>
                          <a:pt x="822" y="57"/>
                        </a:lnTo>
                        <a:lnTo>
                          <a:pt x="820" y="61"/>
                        </a:lnTo>
                        <a:lnTo>
                          <a:pt x="818" y="67"/>
                        </a:lnTo>
                        <a:lnTo>
                          <a:pt x="816" y="70"/>
                        </a:lnTo>
                        <a:lnTo>
                          <a:pt x="816" y="74"/>
                        </a:lnTo>
                        <a:lnTo>
                          <a:pt x="814" y="76"/>
                        </a:lnTo>
                        <a:lnTo>
                          <a:pt x="812" y="82"/>
                        </a:lnTo>
                        <a:lnTo>
                          <a:pt x="812" y="84"/>
                        </a:lnTo>
                        <a:lnTo>
                          <a:pt x="687" y="663"/>
                        </a:lnTo>
                        <a:lnTo>
                          <a:pt x="681" y="663"/>
                        </a:lnTo>
                        <a:lnTo>
                          <a:pt x="677" y="663"/>
                        </a:lnTo>
                        <a:lnTo>
                          <a:pt x="673" y="663"/>
                        </a:lnTo>
                        <a:lnTo>
                          <a:pt x="670" y="663"/>
                        </a:lnTo>
                        <a:lnTo>
                          <a:pt x="666" y="663"/>
                        </a:lnTo>
                        <a:lnTo>
                          <a:pt x="660" y="665"/>
                        </a:lnTo>
                        <a:lnTo>
                          <a:pt x="656" y="665"/>
                        </a:lnTo>
                        <a:lnTo>
                          <a:pt x="652" y="667"/>
                        </a:lnTo>
                        <a:lnTo>
                          <a:pt x="753" y="213"/>
                        </a:lnTo>
                        <a:lnTo>
                          <a:pt x="753" y="209"/>
                        </a:lnTo>
                        <a:lnTo>
                          <a:pt x="753" y="207"/>
                        </a:lnTo>
                        <a:lnTo>
                          <a:pt x="753" y="203"/>
                        </a:lnTo>
                        <a:lnTo>
                          <a:pt x="753" y="201"/>
                        </a:lnTo>
                        <a:lnTo>
                          <a:pt x="753" y="198"/>
                        </a:lnTo>
                        <a:lnTo>
                          <a:pt x="753" y="196"/>
                        </a:lnTo>
                        <a:lnTo>
                          <a:pt x="753" y="192"/>
                        </a:lnTo>
                        <a:lnTo>
                          <a:pt x="753" y="190"/>
                        </a:lnTo>
                        <a:lnTo>
                          <a:pt x="753" y="188"/>
                        </a:lnTo>
                        <a:lnTo>
                          <a:pt x="753" y="184"/>
                        </a:lnTo>
                        <a:lnTo>
                          <a:pt x="753" y="182"/>
                        </a:lnTo>
                        <a:lnTo>
                          <a:pt x="753" y="181"/>
                        </a:lnTo>
                        <a:lnTo>
                          <a:pt x="753" y="175"/>
                        </a:lnTo>
                        <a:lnTo>
                          <a:pt x="753" y="169"/>
                        </a:lnTo>
                        <a:lnTo>
                          <a:pt x="751" y="167"/>
                        </a:lnTo>
                        <a:lnTo>
                          <a:pt x="751" y="163"/>
                        </a:lnTo>
                        <a:lnTo>
                          <a:pt x="751" y="162"/>
                        </a:lnTo>
                        <a:lnTo>
                          <a:pt x="750" y="160"/>
                        </a:lnTo>
                        <a:lnTo>
                          <a:pt x="748" y="154"/>
                        </a:lnTo>
                        <a:lnTo>
                          <a:pt x="746" y="148"/>
                        </a:lnTo>
                        <a:lnTo>
                          <a:pt x="744" y="144"/>
                        </a:lnTo>
                        <a:lnTo>
                          <a:pt x="742" y="141"/>
                        </a:lnTo>
                        <a:lnTo>
                          <a:pt x="740" y="135"/>
                        </a:lnTo>
                        <a:lnTo>
                          <a:pt x="738" y="131"/>
                        </a:lnTo>
                        <a:lnTo>
                          <a:pt x="734" y="127"/>
                        </a:lnTo>
                        <a:lnTo>
                          <a:pt x="730" y="124"/>
                        </a:lnTo>
                        <a:lnTo>
                          <a:pt x="727" y="120"/>
                        </a:lnTo>
                        <a:lnTo>
                          <a:pt x="725" y="116"/>
                        </a:lnTo>
                        <a:lnTo>
                          <a:pt x="721" y="112"/>
                        </a:lnTo>
                        <a:lnTo>
                          <a:pt x="717" y="108"/>
                        </a:lnTo>
                        <a:lnTo>
                          <a:pt x="713" y="105"/>
                        </a:lnTo>
                        <a:lnTo>
                          <a:pt x="710" y="103"/>
                        </a:lnTo>
                        <a:lnTo>
                          <a:pt x="704" y="99"/>
                        </a:lnTo>
                        <a:lnTo>
                          <a:pt x="700" y="97"/>
                        </a:lnTo>
                        <a:lnTo>
                          <a:pt x="694" y="95"/>
                        </a:lnTo>
                        <a:lnTo>
                          <a:pt x="691" y="91"/>
                        </a:lnTo>
                        <a:lnTo>
                          <a:pt x="685" y="89"/>
                        </a:lnTo>
                        <a:lnTo>
                          <a:pt x="681" y="87"/>
                        </a:lnTo>
                        <a:lnTo>
                          <a:pt x="675" y="86"/>
                        </a:lnTo>
                        <a:lnTo>
                          <a:pt x="672" y="86"/>
                        </a:lnTo>
                        <a:lnTo>
                          <a:pt x="668" y="84"/>
                        </a:lnTo>
                        <a:lnTo>
                          <a:pt x="666" y="84"/>
                        </a:lnTo>
                        <a:lnTo>
                          <a:pt x="664" y="84"/>
                        </a:lnTo>
                        <a:lnTo>
                          <a:pt x="660" y="84"/>
                        </a:lnTo>
                        <a:lnTo>
                          <a:pt x="658" y="84"/>
                        </a:lnTo>
                        <a:lnTo>
                          <a:pt x="654" y="84"/>
                        </a:lnTo>
                        <a:lnTo>
                          <a:pt x="652" y="84"/>
                        </a:lnTo>
                        <a:lnTo>
                          <a:pt x="651" y="84"/>
                        </a:lnTo>
                        <a:lnTo>
                          <a:pt x="647" y="84"/>
                        </a:lnTo>
                        <a:lnTo>
                          <a:pt x="645" y="84"/>
                        </a:lnTo>
                        <a:lnTo>
                          <a:pt x="643" y="84"/>
                        </a:lnTo>
                        <a:lnTo>
                          <a:pt x="639" y="84"/>
                        </a:lnTo>
                        <a:lnTo>
                          <a:pt x="635" y="84"/>
                        </a:lnTo>
                        <a:lnTo>
                          <a:pt x="630" y="84"/>
                        </a:lnTo>
                        <a:lnTo>
                          <a:pt x="628" y="84"/>
                        </a:lnTo>
                        <a:lnTo>
                          <a:pt x="624" y="86"/>
                        </a:lnTo>
                        <a:lnTo>
                          <a:pt x="622" y="86"/>
                        </a:lnTo>
                        <a:lnTo>
                          <a:pt x="618" y="86"/>
                        </a:lnTo>
                        <a:lnTo>
                          <a:pt x="614" y="87"/>
                        </a:lnTo>
                        <a:lnTo>
                          <a:pt x="609" y="89"/>
                        </a:lnTo>
                        <a:lnTo>
                          <a:pt x="603" y="91"/>
                        </a:lnTo>
                        <a:lnTo>
                          <a:pt x="599" y="95"/>
                        </a:lnTo>
                        <a:lnTo>
                          <a:pt x="595" y="97"/>
                        </a:lnTo>
                        <a:lnTo>
                          <a:pt x="592" y="99"/>
                        </a:lnTo>
                        <a:lnTo>
                          <a:pt x="586" y="103"/>
                        </a:lnTo>
                        <a:lnTo>
                          <a:pt x="582" y="105"/>
                        </a:lnTo>
                        <a:lnTo>
                          <a:pt x="578" y="108"/>
                        </a:lnTo>
                        <a:lnTo>
                          <a:pt x="574" y="112"/>
                        </a:lnTo>
                        <a:lnTo>
                          <a:pt x="571" y="116"/>
                        </a:lnTo>
                        <a:lnTo>
                          <a:pt x="567" y="120"/>
                        </a:lnTo>
                        <a:lnTo>
                          <a:pt x="565" y="124"/>
                        </a:lnTo>
                        <a:lnTo>
                          <a:pt x="563" y="127"/>
                        </a:lnTo>
                        <a:lnTo>
                          <a:pt x="559" y="131"/>
                        </a:lnTo>
                        <a:lnTo>
                          <a:pt x="555" y="135"/>
                        </a:lnTo>
                        <a:lnTo>
                          <a:pt x="554" y="141"/>
                        </a:lnTo>
                        <a:lnTo>
                          <a:pt x="552" y="146"/>
                        </a:lnTo>
                        <a:lnTo>
                          <a:pt x="550" y="150"/>
                        </a:lnTo>
                        <a:lnTo>
                          <a:pt x="548" y="156"/>
                        </a:lnTo>
                        <a:lnTo>
                          <a:pt x="546" y="158"/>
                        </a:lnTo>
                        <a:lnTo>
                          <a:pt x="546" y="160"/>
                        </a:lnTo>
                        <a:lnTo>
                          <a:pt x="544" y="163"/>
                        </a:lnTo>
                        <a:lnTo>
                          <a:pt x="544" y="167"/>
                        </a:lnTo>
                        <a:lnTo>
                          <a:pt x="361" y="1127"/>
                        </a:lnTo>
                        <a:lnTo>
                          <a:pt x="361" y="1127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AutoShape 239"/>
                <p:cNvSpPr/>
                <p:nvPr/>
              </p:nvSpPr>
              <p:spPr>
                <a:xfrm rot="13645200">
                  <a:off x="4467240" y="2926800"/>
                  <a:ext cx="88560" cy="75960"/>
                </a:xfrm>
                <a:prstGeom prst="hexagon">
                  <a:avLst>
                    <a:gd name="adj" fmla="val 29147"/>
                    <a:gd name="vf" fmla="val 115470"/>
                  </a:avLst>
                </a:prstGeom>
                <a:solidFill>
                  <a:srgbClr val="ff000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AutoShape 240"/>
                <p:cNvSpPr/>
                <p:nvPr/>
              </p:nvSpPr>
              <p:spPr>
                <a:xfrm rot="13675800">
                  <a:off x="4692240" y="2687760"/>
                  <a:ext cx="193320" cy="5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4308" y="21600"/>
                      </a:lnTo>
                      <a:lnTo>
                        <a:pt x="17292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3" name="Group 241"/>
              <p:cNvGrpSpPr/>
              <p:nvPr/>
            </p:nvGrpSpPr>
            <p:grpSpPr>
              <a:xfrm>
                <a:off x="4010760" y="2863080"/>
                <a:ext cx="630360" cy="632520"/>
                <a:chOff x="4010760" y="2863080"/>
                <a:chExt cx="630360" cy="632520"/>
              </a:xfrm>
            </p:grpSpPr>
            <p:grpSp>
              <p:nvGrpSpPr>
                <p:cNvPr id="1354" name="Group 242"/>
                <p:cNvGrpSpPr/>
                <p:nvPr/>
              </p:nvGrpSpPr>
              <p:grpSpPr>
                <a:xfrm>
                  <a:off x="4010760" y="2863080"/>
                  <a:ext cx="630360" cy="632520"/>
                  <a:chOff x="4010760" y="2863080"/>
                  <a:chExt cx="630360" cy="632520"/>
                </a:xfrm>
              </p:grpSpPr>
              <p:sp>
                <p:nvSpPr>
                  <p:cNvPr id="1355" name="AutoShape 243"/>
                  <p:cNvSpPr/>
                  <p:nvPr/>
                </p:nvSpPr>
                <p:spPr>
                  <a:xfrm flipH="1" flipV="1" rot="13675800">
                    <a:off x="4267080" y="2950920"/>
                    <a:ext cx="179640" cy="36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4308" y="21600"/>
                        </a:lnTo>
                        <a:lnTo>
                          <a:pt x="17292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" name="Oval 244"/>
                  <p:cNvSpPr/>
                  <p:nvPr/>
                </p:nvSpPr>
                <p:spPr>
                  <a:xfrm flipH="1" flipV="1" rot="14215200">
                    <a:off x="4416840" y="2897640"/>
                    <a:ext cx="186480" cy="19008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Freeform 245"/>
                  <p:cNvSpPr/>
                  <p:nvPr/>
                </p:nvSpPr>
                <p:spPr>
                  <a:xfrm flipH="1" flipV="1" rot="2109600">
                    <a:off x="4077000" y="3183480"/>
                    <a:ext cx="174960" cy="28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02" h="2302">
                        <a:moveTo>
                          <a:pt x="361" y="1127"/>
                        </a:moveTo>
                        <a:lnTo>
                          <a:pt x="280" y="1116"/>
                        </a:lnTo>
                        <a:lnTo>
                          <a:pt x="373" y="711"/>
                        </a:lnTo>
                        <a:lnTo>
                          <a:pt x="373" y="709"/>
                        </a:lnTo>
                        <a:lnTo>
                          <a:pt x="375" y="705"/>
                        </a:lnTo>
                        <a:lnTo>
                          <a:pt x="375" y="703"/>
                        </a:lnTo>
                        <a:lnTo>
                          <a:pt x="375" y="700"/>
                        </a:lnTo>
                        <a:lnTo>
                          <a:pt x="375" y="698"/>
                        </a:lnTo>
                        <a:lnTo>
                          <a:pt x="375" y="696"/>
                        </a:lnTo>
                        <a:lnTo>
                          <a:pt x="375" y="692"/>
                        </a:lnTo>
                        <a:lnTo>
                          <a:pt x="375" y="690"/>
                        </a:lnTo>
                        <a:lnTo>
                          <a:pt x="375" y="684"/>
                        </a:lnTo>
                        <a:lnTo>
                          <a:pt x="375" y="681"/>
                        </a:lnTo>
                        <a:lnTo>
                          <a:pt x="375" y="675"/>
                        </a:lnTo>
                        <a:lnTo>
                          <a:pt x="375" y="669"/>
                        </a:lnTo>
                        <a:lnTo>
                          <a:pt x="371" y="665"/>
                        </a:lnTo>
                        <a:lnTo>
                          <a:pt x="371" y="660"/>
                        </a:lnTo>
                        <a:lnTo>
                          <a:pt x="369" y="654"/>
                        </a:lnTo>
                        <a:lnTo>
                          <a:pt x="367" y="652"/>
                        </a:lnTo>
                        <a:lnTo>
                          <a:pt x="365" y="646"/>
                        </a:lnTo>
                        <a:lnTo>
                          <a:pt x="363" y="641"/>
                        </a:lnTo>
                        <a:lnTo>
                          <a:pt x="361" y="637"/>
                        </a:lnTo>
                        <a:lnTo>
                          <a:pt x="358" y="633"/>
                        </a:lnTo>
                        <a:lnTo>
                          <a:pt x="356" y="629"/>
                        </a:lnTo>
                        <a:lnTo>
                          <a:pt x="354" y="623"/>
                        </a:lnTo>
                        <a:lnTo>
                          <a:pt x="350" y="620"/>
                        </a:lnTo>
                        <a:lnTo>
                          <a:pt x="346" y="616"/>
                        </a:lnTo>
                        <a:lnTo>
                          <a:pt x="342" y="612"/>
                        </a:lnTo>
                        <a:lnTo>
                          <a:pt x="339" y="610"/>
                        </a:lnTo>
                        <a:lnTo>
                          <a:pt x="335" y="606"/>
                        </a:lnTo>
                        <a:lnTo>
                          <a:pt x="331" y="603"/>
                        </a:lnTo>
                        <a:lnTo>
                          <a:pt x="325" y="601"/>
                        </a:lnTo>
                        <a:lnTo>
                          <a:pt x="321" y="597"/>
                        </a:lnTo>
                        <a:lnTo>
                          <a:pt x="318" y="595"/>
                        </a:lnTo>
                        <a:lnTo>
                          <a:pt x="312" y="593"/>
                        </a:lnTo>
                        <a:lnTo>
                          <a:pt x="306" y="591"/>
                        </a:lnTo>
                        <a:lnTo>
                          <a:pt x="302" y="589"/>
                        </a:lnTo>
                        <a:lnTo>
                          <a:pt x="299" y="589"/>
                        </a:lnTo>
                        <a:lnTo>
                          <a:pt x="295" y="587"/>
                        </a:lnTo>
                        <a:lnTo>
                          <a:pt x="291" y="587"/>
                        </a:lnTo>
                        <a:lnTo>
                          <a:pt x="287" y="585"/>
                        </a:lnTo>
                        <a:lnTo>
                          <a:pt x="285" y="585"/>
                        </a:lnTo>
                        <a:lnTo>
                          <a:pt x="283" y="585"/>
                        </a:lnTo>
                        <a:lnTo>
                          <a:pt x="280" y="585"/>
                        </a:lnTo>
                        <a:lnTo>
                          <a:pt x="276" y="585"/>
                        </a:lnTo>
                        <a:lnTo>
                          <a:pt x="274" y="585"/>
                        </a:lnTo>
                        <a:lnTo>
                          <a:pt x="272" y="585"/>
                        </a:lnTo>
                        <a:lnTo>
                          <a:pt x="268" y="585"/>
                        </a:lnTo>
                        <a:lnTo>
                          <a:pt x="266" y="585"/>
                        </a:lnTo>
                        <a:lnTo>
                          <a:pt x="263" y="585"/>
                        </a:lnTo>
                        <a:lnTo>
                          <a:pt x="261" y="587"/>
                        </a:lnTo>
                        <a:lnTo>
                          <a:pt x="259" y="587"/>
                        </a:lnTo>
                        <a:lnTo>
                          <a:pt x="255" y="587"/>
                        </a:lnTo>
                        <a:lnTo>
                          <a:pt x="253" y="589"/>
                        </a:lnTo>
                        <a:lnTo>
                          <a:pt x="249" y="589"/>
                        </a:lnTo>
                        <a:lnTo>
                          <a:pt x="247" y="589"/>
                        </a:lnTo>
                        <a:lnTo>
                          <a:pt x="243" y="591"/>
                        </a:lnTo>
                        <a:lnTo>
                          <a:pt x="240" y="591"/>
                        </a:lnTo>
                        <a:lnTo>
                          <a:pt x="238" y="593"/>
                        </a:lnTo>
                        <a:lnTo>
                          <a:pt x="236" y="595"/>
                        </a:lnTo>
                        <a:lnTo>
                          <a:pt x="232" y="595"/>
                        </a:lnTo>
                        <a:lnTo>
                          <a:pt x="230" y="597"/>
                        </a:lnTo>
                        <a:lnTo>
                          <a:pt x="228" y="599"/>
                        </a:lnTo>
                        <a:lnTo>
                          <a:pt x="224" y="601"/>
                        </a:lnTo>
                        <a:lnTo>
                          <a:pt x="223" y="601"/>
                        </a:lnTo>
                        <a:lnTo>
                          <a:pt x="219" y="603"/>
                        </a:lnTo>
                        <a:lnTo>
                          <a:pt x="217" y="604"/>
                        </a:lnTo>
                        <a:lnTo>
                          <a:pt x="211" y="608"/>
                        </a:lnTo>
                        <a:lnTo>
                          <a:pt x="207" y="612"/>
                        </a:lnTo>
                        <a:lnTo>
                          <a:pt x="204" y="616"/>
                        </a:lnTo>
                        <a:lnTo>
                          <a:pt x="198" y="618"/>
                        </a:lnTo>
                        <a:lnTo>
                          <a:pt x="194" y="623"/>
                        </a:lnTo>
                        <a:lnTo>
                          <a:pt x="188" y="627"/>
                        </a:lnTo>
                        <a:lnTo>
                          <a:pt x="185" y="633"/>
                        </a:lnTo>
                        <a:lnTo>
                          <a:pt x="181" y="637"/>
                        </a:lnTo>
                        <a:lnTo>
                          <a:pt x="177" y="641"/>
                        </a:lnTo>
                        <a:lnTo>
                          <a:pt x="173" y="646"/>
                        </a:lnTo>
                        <a:lnTo>
                          <a:pt x="169" y="652"/>
                        </a:lnTo>
                        <a:lnTo>
                          <a:pt x="166" y="656"/>
                        </a:lnTo>
                        <a:lnTo>
                          <a:pt x="162" y="662"/>
                        </a:lnTo>
                        <a:lnTo>
                          <a:pt x="160" y="665"/>
                        </a:lnTo>
                        <a:lnTo>
                          <a:pt x="158" y="669"/>
                        </a:lnTo>
                        <a:lnTo>
                          <a:pt x="158" y="671"/>
                        </a:lnTo>
                        <a:lnTo>
                          <a:pt x="156" y="673"/>
                        </a:lnTo>
                        <a:lnTo>
                          <a:pt x="154" y="677"/>
                        </a:lnTo>
                        <a:lnTo>
                          <a:pt x="152" y="679"/>
                        </a:lnTo>
                        <a:lnTo>
                          <a:pt x="152" y="681"/>
                        </a:lnTo>
                        <a:lnTo>
                          <a:pt x="150" y="684"/>
                        </a:lnTo>
                        <a:lnTo>
                          <a:pt x="150" y="688"/>
                        </a:lnTo>
                        <a:lnTo>
                          <a:pt x="146" y="694"/>
                        </a:lnTo>
                        <a:lnTo>
                          <a:pt x="145" y="701"/>
                        </a:lnTo>
                        <a:lnTo>
                          <a:pt x="143" y="709"/>
                        </a:lnTo>
                        <a:lnTo>
                          <a:pt x="139" y="717"/>
                        </a:lnTo>
                        <a:lnTo>
                          <a:pt x="137" y="724"/>
                        </a:lnTo>
                        <a:lnTo>
                          <a:pt x="135" y="732"/>
                        </a:lnTo>
                        <a:lnTo>
                          <a:pt x="131" y="739"/>
                        </a:lnTo>
                        <a:lnTo>
                          <a:pt x="129" y="747"/>
                        </a:lnTo>
                        <a:lnTo>
                          <a:pt x="126" y="755"/>
                        </a:lnTo>
                        <a:lnTo>
                          <a:pt x="124" y="760"/>
                        </a:lnTo>
                        <a:lnTo>
                          <a:pt x="122" y="768"/>
                        </a:lnTo>
                        <a:lnTo>
                          <a:pt x="120" y="776"/>
                        </a:lnTo>
                        <a:lnTo>
                          <a:pt x="116" y="781"/>
                        </a:lnTo>
                        <a:lnTo>
                          <a:pt x="114" y="789"/>
                        </a:lnTo>
                        <a:lnTo>
                          <a:pt x="112" y="796"/>
                        </a:lnTo>
                        <a:lnTo>
                          <a:pt x="110" y="804"/>
                        </a:lnTo>
                        <a:lnTo>
                          <a:pt x="107" y="812"/>
                        </a:lnTo>
                        <a:lnTo>
                          <a:pt x="107" y="817"/>
                        </a:lnTo>
                        <a:lnTo>
                          <a:pt x="103" y="823"/>
                        </a:lnTo>
                        <a:lnTo>
                          <a:pt x="101" y="831"/>
                        </a:lnTo>
                        <a:lnTo>
                          <a:pt x="97" y="836"/>
                        </a:lnTo>
                        <a:lnTo>
                          <a:pt x="97" y="844"/>
                        </a:lnTo>
                        <a:lnTo>
                          <a:pt x="93" y="852"/>
                        </a:lnTo>
                        <a:lnTo>
                          <a:pt x="93" y="857"/>
                        </a:lnTo>
                        <a:lnTo>
                          <a:pt x="89" y="865"/>
                        </a:lnTo>
                        <a:lnTo>
                          <a:pt x="88" y="871"/>
                        </a:lnTo>
                        <a:lnTo>
                          <a:pt x="86" y="878"/>
                        </a:lnTo>
                        <a:lnTo>
                          <a:pt x="84" y="884"/>
                        </a:lnTo>
                        <a:lnTo>
                          <a:pt x="82" y="892"/>
                        </a:lnTo>
                        <a:lnTo>
                          <a:pt x="80" y="899"/>
                        </a:lnTo>
                        <a:lnTo>
                          <a:pt x="78" y="907"/>
                        </a:lnTo>
                        <a:lnTo>
                          <a:pt x="74" y="912"/>
                        </a:lnTo>
                        <a:lnTo>
                          <a:pt x="72" y="920"/>
                        </a:lnTo>
                        <a:lnTo>
                          <a:pt x="72" y="926"/>
                        </a:lnTo>
                        <a:lnTo>
                          <a:pt x="68" y="931"/>
                        </a:lnTo>
                        <a:lnTo>
                          <a:pt x="67" y="939"/>
                        </a:lnTo>
                        <a:lnTo>
                          <a:pt x="65" y="945"/>
                        </a:lnTo>
                        <a:lnTo>
                          <a:pt x="63" y="952"/>
                        </a:lnTo>
                        <a:lnTo>
                          <a:pt x="59" y="958"/>
                        </a:lnTo>
                        <a:lnTo>
                          <a:pt x="57" y="966"/>
                        </a:lnTo>
                        <a:lnTo>
                          <a:pt x="55" y="971"/>
                        </a:lnTo>
                        <a:lnTo>
                          <a:pt x="53" y="979"/>
                        </a:lnTo>
                        <a:lnTo>
                          <a:pt x="51" y="987"/>
                        </a:lnTo>
                        <a:lnTo>
                          <a:pt x="49" y="994"/>
                        </a:lnTo>
                        <a:lnTo>
                          <a:pt x="48" y="1000"/>
                        </a:lnTo>
                        <a:lnTo>
                          <a:pt x="46" y="1007"/>
                        </a:lnTo>
                        <a:lnTo>
                          <a:pt x="44" y="1015"/>
                        </a:lnTo>
                        <a:lnTo>
                          <a:pt x="42" y="1021"/>
                        </a:lnTo>
                        <a:lnTo>
                          <a:pt x="42" y="1028"/>
                        </a:lnTo>
                        <a:lnTo>
                          <a:pt x="38" y="1036"/>
                        </a:lnTo>
                        <a:lnTo>
                          <a:pt x="36" y="1042"/>
                        </a:lnTo>
                        <a:lnTo>
                          <a:pt x="36" y="1049"/>
                        </a:lnTo>
                        <a:lnTo>
                          <a:pt x="34" y="1057"/>
                        </a:lnTo>
                        <a:lnTo>
                          <a:pt x="30" y="1063"/>
                        </a:lnTo>
                        <a:lnTo>
                          <a:pt x="30" y="1070"/>
                        </a:lnTo>
                        <a:lnTo>
                          <a:pt x="29" y="1078"/>
                        </a:lnTo>
                        <a:lnTo>
                          <a:pt x="27" y="1085"/>
                        </a:lnTo>
                        <a:lnTo>
                          <a:pt x="25" y="1093"/>
                        </a:lnTo>
                        <a:lnTo>
                          <a:pt x="23" y="1101"/>
                        </a:lnTo>
                        <a:lnTo>
                          <a:pt x="21" y="1108"/>
                        </a:lnTo>
                        <a:lnTo>
                          <a:pt x="19" y="1116"/>
                        </a:lnTo>
                        <a:lnTo>
                          <a:pt x="17" y="1123"/>
                        </a:lnTo>
                        <a:lnTo>
                          <a:pt x="17" y="1131"/>
                        </a:lnTo>
                        <a:lnTo>
                          <a:pt x="15" y="1139"/>
                        </a:lnTo>
                        <a:lnTo>
                          <a:pt x="13" y="1148"/>
                        </a:lnTo>
                        <a:lnTo>
                          <a:pt x="10" y="1158"/>
                        </a:lnTo>
                        <a:lnTo>
                          <a:pt x="10" y="1165"/>
                        </a:lnTo>
                        <a:lnTo>
                          <a:pt x="8" y="1175"/>
                        </a:lnTo>
                        <a:lnTo>
                          <a:pt x="6" y="1182"/>
                        </a:lnTo>
                        <a:lnTo>
                          <a:pt x="6" y="1192"/>
                        </a:lnTo>
                        <a:lnTo>
                          <a:pt x="4" y="1201"/>
                        </a:lnTo>
                        <a:lnTo>
                          <a:pt x="2" y="1211"/>
                        </a:lnTo>
                        <a:lnTo>
                          <a:pt x="2" y="1218"/>
                        </a:lnTo>
                        <a:lnTo>
                          <a:pt x="0" y="1230"/>
                        </a:lnTo>
                        <a:lnTo>
                          <a:pt x="0" y="1237"/>
                        </a:lnTo>
                        <a:lnTo>
                          <a:pt x="0" y="1247"/>
                        </a:lnTo>
                        <a:lnTo>
                          <a:pt x="0" y="1257"/>
                        </a:lnTo>
                        <a:lnTo>
                          <a:pt x="0" y="1268"/>
                        </a:lnTo>
                        <a:lnTo>
                          <a:pt x="0" y="1276"/>
                        </a:lnTo>
                        <a:lnTo>
                          <a:pt x="0" y="1285"/>
                        </a:lnTo>
                        <a:lnTo>
                          <a:pt x="0" y="1296"/>
                        </a:lnTo>
                        <a:lnTo>
                          <a:pt x="0" y="1304"/>
                        </a:lnTo>
                        <a:lnTo>
                          <a:pt x="0" y="1314"/>
                        </a:lnTo>
                        <a:lnTo>
                          <a:pt x="0" y="1323"/>
                        </a:lnTo>
                        <a:lnTo>
                          <a:pt x="0" y="1333"/>
                        </a:lnTo>
                        <a:lnTo>
                          <a:pt x="2" y="1342"/>
                        </a:lnTo>
                        <a:lnTo>
                          <a:pt x="2" y="1352"/>
                        </a:lnTo>
                        <a:lnTo>
                          <a:pt x="4" y="1363"/>
                        </a:lnTo>
                        <a:lnTo>
                          <a:pt x="4" y="1371"/>
                        </a:lnTo>
                        <a:lnTo>
                          <a:pt x="6" y="1382"/>
                        </a:lnTo>
                        <a:lnTo>
                          <a:pt x="8" y="1390"/>
                        </a:lnTo>
                        <a:lnTo>
                          <a:pt x="8" y="1401"/>
                        </a:lnTo>
                        <a:lnTo>
                          <a:pt x="10" y="1409"/>
                        </a:lnTo>
                        <a:lnTo>
                          <a:pt x="11" y="1420"/>
                        </a:lnTo>
                        <a:lnTo>
                          <a:pt x="13" y="1429"/>
                        </a:lnTo>
                        <a:lnTo>
                          <a:pt x="15" y="1439"/>
                        </a:lnTo>
                        <a:lnTo>
                          <a:pt x="17" y="1448"/>
                        </a:lnTo>
                        <a:lnTo>
                          <a:pt x="19" y="1458"/>
                        </a:lnTo>
                        <a:lnTo>
                          <a:pt x="21" y="1468"/>
                        </a:lnTo>
                        <a:lnTo>
                          <a:pt x="23" y="1477"/>
                        </a:lnTo>
                        <a:lnTo>
                          <a:pt x="27" y="1487"/>
                        </a:lnTo>
                        <a:lnTo>
                          <a:pt x="29" y="1496"/>
                        </a:lnTo>
                        <a:lnTo>
                          <a:pt x="30" y="1506"/>
                        </a:lnTo>
                        <a:lnTo>
                          <a:pt x="34" y="1515"/>
                        </a:lnTo>
                        <a:lnTo>
                          <a:pt x="36" y="1525"/>
                        </a:lnTo>
                        <a:lnTo>
                          <a:pt x="38" y="1534"/>
                        </a:lnTo>
                        <a:lnTo>
                          <a:pt x="42" y="1544"/>
                        </a:lnTo>
                        <a:lnTo>
                          <a:pt x="46" y="1553"/>
                        </a:lnTo>
                        <a:lnTo>
                          <a:pt x="48" y="1561"/>
                        </a:lnTo>
                        <a:lnTo>
                          <a:pt x="51" y="1572"/>
                        </a:lnTo>
                        <a:lnTo>
                          <a:pt x="55" y="1580"/>
                        </a:lnTo>
                        <a:lnTo>
                          <a:pt x="59" y="1589"/>
                        </a:lnTo>
                        <a:lnTo>
                          <a:pt x="63" y="1599"/>
                        </a:lnTo>
                        <a:lnTo>
                          <a:pt x="67" y="1608"/>
                        </a:lnTo>
                        <a:lnTo>
                          <a:pt x="68" y="1616"/>
                        </a:lnTo>
                        <a:lnTo>
                          <a:pt x="74" y="1627"/>
                        </a:lnTo>
                        <a:lnTo>
                          <a:pt x="78" y="1635"/>
                        </a:lnTo>
                        <a:lnTo>
                          <a:pt x="82" y="1644"/>
                        </a:lnTo>
                        <a:lnTo>
                          <a:pt x="86" y="1652"/>
                        </a:lnTo>
                        <a:lnTo>
                          <a:pt x="89" y="1661"/>
                        </a:lnTo>
                        <a:lnTo>
                          <a:pt x="95" y="1669"/>
                        </a:lnTo>
                        <a:lnTo>
                          <a:pt x="99" y="1679"/>
                        </a:lnTo>
                        <a:lnTo>
                          <a:pt x="103" y="1688"/>
                        </a:lnTo>
                        <a:lnTo>
                          <a:pt x="108" y="1696"/>
                        </a:lnTo>
                        <a:lnTo>
                          <a:pt x="114" y="1703"/>
                        </a:lnTo>
                        <a:lnTo>
                          <a:pt x="118" y="1713"/>
                        </a:lnTo>
                        <a:lnTo>
                          <a:pt x="124" y="1722"/>
                        </a:lnTo>
                        <a:lnTo>
                          <a:pt x="127" y="1732"/>
                        </a:lnTo>
                        <a:lnTo>
                          <a:pt x="131" y="1736"/>
                        </a:lnTo>
                        <a:lnTo>
                          <a:pt x="135" y="1739"/>
                        </a:lnTo>
                        <a:lnTo>
                          <a:pt x="135" y="1743"/>
                        </a:lnTo>
                        <a:lnTo>
                          <a:pt x="137" y="1745"/>
                        </a:lnTo>
                        <a:lnTo>
                          <a:pt x="139" y="1747"/>
                        </a:lnTo>
                        <a:lnTo>
                          <a:pt x="141" y="1751"/>
                        </a:lnTo>
                        <a:lnTo>
                          <a:pt x="143" y="1755"/>
                        </a:lnTo>
                        <a:lnTo>
                          <a:pt x="143" y="1756"/>
                        </a:lnTo>
                        <a:lnTo>
                          <a:pt x="145" y="1760"/>
                        </a:lnTo>
                        <a:lnTo>
                          <a:pt x="146" y="1762"/>
                        </a:lnTo>
                        <a:lnTo>
                          <a:pt x="148" y="1766"/>
                        </a:lnTo>
                        <a:lnTo>
                          <a:pt x="150" y="1768"/>
                        </a:lnTo>
                        <a:lnTo>
                          <a:pt x="152" y="1770"/>
                        </a:lnTo>
                        <a:lnTo>
                          <a:pt x="156" y="1774"/>
                        </a:lnTo>
                        <a:lnTo>
                          <a:pt x="158" y="1777"/>
                        </a:lnTo>
                        <a:lnTo>
                          <a:pt x="160" y="1779"/>
                        </a:lnTo>
                        <a:lnTo>
                          <a:pt x="160" y="1783"/>
                        </a:lnTo>
                        <a:lnTo>
                          <a:pt x="162" y="1787"/>
                        </a:lnTo>
                        <a:lnTo>
                          <a:pt x="166" y="1789"/>
                        </a:lnTo>
                        <a:lnTo>
                          <a:pt x="166" y="1791"/>
                        </a:lnTo>
                        <a:lnTo>
                          <a:pt x="167" y="1794"/>
                        </a:lnTo>
                        <a:lnTo>
                          <a:pt x="169" y="1796"/>
                        </a:lnTo>
                        <a:lnTo>
                          <a:pt x="171" y="1800"/>
                        </a:lnTo>
                        <a:lnTo>
                          <a:pt x="173" y="1802"/>
                        </a:lnTo>
                        <a:lnTo>
                          <a:pt x="175" y="1806"/>
                        </a:lnTo>
                        <a:lnTo>
                          <a:pt x="177" y="1808"/>
                        </a:lnTo>
                        <a:lnTo>
                          <a:pt x="179" y="1812"/>
                        </a:lnTo>
                        <a:lnTo>
                          <a:pt x="181" y="1815"/>
                        </a:lnTo>
                        <a:lnTo>
                          <a:pt x="183" y="1817"/>
                        </a:lnTo>
                        <a:lnTo>
                          <a:pt x="185" y="1821"/>
                        </a:lnTo>
                        <a:lnTo>
                          <a:pt x="188" y="1827"/>
                        </a:lnTo>
                        <a:lnTo>
                          <a:pt x="190" y="1831"/>
                        </a:lnTo>
                        <a:lnTo>
                          <a:pt x="194" y="1836"/>
                        </a:lnTo>
                        <a:lnTo>
                          <a:pt x="198" y="1842"/>
                        </a:lnTo>
                        <a:lnTo>
                          <a:pt x="200" y="1846"/>
                        </a:lnTo>
                        <a:lnTo>
                          <a:pt x="204" y="1850"/>
                        </a:lnTo>
                        <a:lnTo>
                          <a:pt x="205" y="1853"/>
                        </a:lnTo>
                        <a:lnTo>
                          <a:pt x="207" y="1859"/>
                        </a:lnTo>
                        <a:lnTo>
                          <a:pt x="209" y="1861"/>
                        </a:lnTo>
                        <a:lnTo>
                          <a:pt x="211" y="1863"/>
                        </a:lnTo>
                        <a:lnTo>
                          <a:pt x="213" y="1867"/>
                        </a:lnTo>
                        <a:lnTo>
                          <a:pt x="215" y="1869"/>
                        </a:lnTo>
                        <a:lnTo>
                          <a:pt x="217" y="1870"/>
                        </a:lnTo>
                        <a:lnTo>
                          <a:pt x="219" y="1874"/>
                        </a:lnTo>
                        <a:lnTo>
                          <a:pt x="141" y="2163"/>
                        </a:lnTo>
                        <a:lnTo>
                          <a:pt x="143" y="2165"/>
                        </a:lnTo>
                        <a:lnTo>
                          <a:pt x="146" y="2165"/>
                        </a:lnTo>
                        <a:lnTo>
                          <a:pt x="150" y="2167"/>
                        </a:lnTo>
                        <a:lnTo>
                          <a:pt x="152" y="2167"/>
                        </a:lnTo>
                        <a:lnTo>
                          <a:pt x="154" y="2167"/>
                        </a:lnTo>
                        <a:lnTo>
                          <a:pt x="158" y="2167"/>
                        </a:lnTo>
                        <a:lnTo>
                          <a:pt x="162" y="2171"/>
                        </a:lnTo>
                        <a:lnTo>
                          <a:pt x="166" y="2171"/>
                        </a:lnTo>
                        <a:lnTo>
                          <a:pt x="167" y="2173"/>
                        </a:lnTo>
                        <a:lnTo>
                          <a:pt x="171" y="2173"/>
                        </a:lnTo>
                        <a:lnTo>
                          <a:pt x="175" y="2175"/>
                        </a:lnTo>
                        <a:lnTo>
                          <a:pt x="181" y="2175"/>
                        </a:lnTo>
                        <a:lnTo>
                          <a:pt x="185" y="2175"/>
                        </a:lnTo>
                        <a:lnTo>
                          <a:pt x="188" y="2177"/>
                        </a:lnTo>
                        <a:lnTo>
                          <a:pt x="194" y="2180"/>
                        </a:lnTo>
                        <a:lnTo>
                          <a:pt x="198" y="2180"/>
                        </a:lnTo>
                        <a:lnTo>
                          <a:pt x="204" y="2182"/>
                        </a:lnTo>
                        <a:lnTo>
                          <a:pt x="209" y="2182"/>
                        </a:lnTo>
                        <a:lnTo>
                          <a:pt x="215" y="2184"/>
                        </a:lnTo>
                        <a:lnTo>
                          <a:pt x="219" y="2186"/>
                        </a:lnTo>
                        <a:lnTo>
                          <a:pt x="224" y="2188"/>
                        </a:lnTo>
                        <a:lnTo>
                          <a:pt x="232" y="2188"/>
                        </a:lnTo>
                        <a:lnTo>
                          <a:pt x="238" y="2190"/>
                        </a:lnTo>
                        <a:lnTo>
                          <a:pt x="243" y="2190"/>
                        </a:lnTo>
                        <a:lnTo>
                          <a:pt x="251" y="2192"/>
                        </a:lnTo>
                        <a:lnTo>
                          <a:pt x="257" y="2194"/>
                        </a:lnTo>
                        <a:lnTo>
                          <a:pt x="264" y="2194"/>
                        </a:lnTo>
                        <a:lnTo>
                          <a:pt x="270" y="2196"/>
                        </a:lnTo>
                        <a:lnTo>
                          <a:pt x="276" y="2196"/>
                        </a:lnTo>
                        <a:lnTo>
                          <a:pt x="283" y="2197"/>
                        </a:lnTo>
                        <a:lnTo>
                          <a:pt x="291" y="2199"/>
                        </a:lnTo>
                        <a:lnTo>
                          <a:pt x="297" y="2199"/>
                        </a:lnTo>
                        <a:lnTo>
                          <a:pt x="304" y="2199"/>
                        </a:lnTo>
                        <a:lnTo>
                          <a:pt x="312" y="2199"/>
                        </a:lnTo>
                        <a:lnTo>
                          <a:pt x="320" y="2201"/>
                        </a:lnTo>
                        <a:lnTo>
                          <a:pt x="325" y="2201"/>
                        </a:lnTo>
                        <a:lnTo>
                          <a:pt x="333" y="2201"/>
                        </a:lnTo>
                        <a:lnTo>
                          <a:pt x="341" y="2201"/>
                        </a:lnTo>
                        <a:lnTo>
                          <a:pt x="348" y="2201"/>
                        </a:lnTo>
                        <a:lnTo>
                          <a:pt x="356" y="2201"/>
                        </a:lnTo>
                        <a:lnTo>
                          <a:pt x="363" y="2201"/>
                        </a:lnTo>
                        <a:lnTo>
                          <a:pt x="371" y="2201"/>
                        </a:lnTo>
                        <a:lnTo>
                          <a:pt x="379" y="2201"/>
                        </a:lnTo>
                        <a:lnTo>
                          <a:pt x="386" y="2201"/>
                        </a:lnTo>
                        <a:lnTo>
                          <a:pt x="394" y="2201"/>
                        </a:lnTo>
                        <a:lnTo>
                          <a:pt x="401" y="2199"/>
                        </a:lnTo>
                        <a:lnTo>
                          <a:pt x="409" y="2199"/>
                        </a:lnTo>
                        <a:lnTo>
                          <a:pt x="415" y="2197"/>
                        </a:lnTo>
                        <a:lnTo>
                          <a:pt x="422" y="2196"/>
                        </a:lnTo>
                        <a:lnTo>
                          <a:pt x="432" y="2196"/>
                        </a:lnTo>
                        <a:lnTo>
                          <a:pt x="439" y="2194"/>
                        </a:lnTo>
                        <a:lnTo>
                          <a:pt x="447" y="2192"/>
                        </a:lnTo>
                        <a:lnTo>
                          <a:pt x="455" y="2190"/>
                        </a:lnTo>
                        <a:lnTo>
                          <a:pt x="462" y="2188"/>
                        </a:lnTo>
                        <a:lnTo>
                          <a:pt x="470" y="2188"/>
                        </a:lnTo>
                        <a:lnTo>
                          <a:pt x="476" y="2184"/>
                        </a:lnTo>
                        <a:lnTo>
                          <a:pt x="483" y="2182"/>
                        </a:lnTo>
                        <a:lnTo>
                          <a:pt x="491" y="2180"/>
                        </a:lnTo>
                        <a:lnTo>
                          <a:pt x="498" y="2175"/>
                        </a:lnTo>
                        <a:lnTo>
                          <a:pt x="504" y="2173"/>
                        </a:lnTo>
                        <a:lnTo>
                          <a:pt x="512" y="2169"/>
                        </a:lnTo>
                        <a:lnTo>
                          <a:pt x="517" y="2165"/>
                        </a:lnTo>
                        <a:lnTo>
                          <a:pt x="525" y="2161"/>
                        </a:lnTo>
                        <a:lnTo>
                          <a:pt x="531" y="2158"/>
                        </a:lnTo>
                        <a:lnTo>
                          <a:pt x="536" y="2154"/>
                        </a:lnTo>
                        <a:lnTo>
                          <a:pt x="542" y="2150"/>
                        </a:lnTo>
                        <a:lnTo>
                          <a:pt x="550" y="2146"/>
                        </a:lnTo>
                        <a:lnTo>
                          <a:pt x="555" y="2142"/>
                        </a:lnTo>
                        <a:lnTo>
                          <a:pt x="559" y="2137"/>
                        </a:lnTo>
                        <a:lnTo>
                          <a:pt x="565" y="2133"/>
                        </a:lnTo>
                        <a:lnTo>
                          <a:pt x="571" y="2129"/>
                        </a:lnTo>
                        <a:lnTo>
                          <a:pt x="576" y="2123"/>
                        </a:lnTo>
                        <a:lnTo>
                          <a:pt x="582" y="2120"/>
                        </a:lnTo>
                        <a:lnTo>
                          <a:pt x="588" y="2114"/>
                        </a:lnTo>
                        <a:lnTo>
                          <a:pt x="592" y="2110"/>
                        </a:lnTo>
                        <a:lnTo>
                          <a:pt x="595" y="2106"/>
                        </a:lnTo>
                        <a:lnTo>
                          <a:pt x="601" y="2101"/>
                        </a:lnTo>
                        <a:lnTo>
                          <a:pt x="605" y="2095"/>
                        </a:lnTo>
                        <a:lnTo>
                          <a:pt x="611" y="2091"/>
                        </a:lnTo>
                        <a:lnTo>
                          <a:pt x="614" y="2085"/>
                        </a:lnTo>
                        <a:lnTo>
                          <a:pt x="618" y="2080"/>
                        </a:lnTo>
                        <a:lnTo>
                          <a:pt x="624" y="2076"/>
                        </a:lnTo>
                        <a:lnTo>
                          <a:pt x="628" y="2070"/>
                        </a:lnTo>
                        <a:lnTo>
                          <a:pt x="632" y="2064"/>
                        </a:lnTo>
                        <a:lnTo>
                          <a:pt x="635" y="2059"/>
                        </a:lnTo>
                        <a:lnTo>
                          <a:pt x="637" y="2055"/>
                        </a:lnTo>
                        <a:lnTo>
                          <a:pt x="643" y="2049"/>
                        </a:lnTo>
                        <a:lnTo>
                          <a:pt x="645" y="2043"/>
                        </a:lnTo>
                        <a:lnTo>
                          <a:pt x="649" y="2040"/>
                        </a:lnTo>
                        <a:lnTo>
                          <a:pt x="652" y="2034"/>
                        </a:lnTo>
                        <a:lnTo>
                          <a:pt x="654" y="2030"/>
                        </a:lnTo>
                        <a:lnTo>
                          <a:pt x="658" y="2024"/>
                        </a:lnTo>
                        <a:lnTo>
                          <a:pt x="660" y="2021"/>
                        </a:lnTo>
                        <a:lnTo>
                          <a:pt x="664" y="2015"/>
                        </a:lnTo>
                        <a:lnTo>
                          <a:pt x="666" y="2011"/>
                        </a:lnTo>
                        <a:lnTo>
                          <a:pt x="668" y="2005"/>
                        </a:lnTo>
                        <a:lnTo>
                          <a:pt x="672" y="2002"/>
                        </a:lnTo>
                        <a:lnTo>
                          <a:pt x="673" y="1998"/>
                        </a:lnTo>
                        <a:lnTo>
                          <a:pt x="675" y="1992"/>
                        </a:lnTo>
                        <a:lnTo>
                          <a:pt x="677" y="1986"/>
                        </a:lnTo>
                        <a:lnTo>
                          <a:pt x="679" y="1983"/>
                        </a:lnTo>
                        <a:lnTo>
                          <a:pt x="681" y="1979"/>
                        </a:lnTo>
                        <a:lnTo>
                          <a:pt x="683" y="1975"/>
                        </a:lnTo>
                        <a:lnTo>
                          <a:pt x="685" y="1971"/>
                        </a:lnTo>
                        <a:lnTo>
                          <a:pt x="687" y="1969"/>
                        </a:lnTo>
                        <a:lnTo>
                          <a:pt x="689" y="1964"/>
                        </a:lnTo>
                        <a:lnTo>
                          <a:pt x="691" y="1962"/>
                        </a:lnTo>
                        <a:lnTo>
                          <a:pt x="692" y="1958"/>
                        </a:lnTo>
                        <a:lnTo>
                          <a:pt x="692" y="1954"/>
                        </a:lnTo>
                        <a:lnTo>
                          <a:pt x="692" y="1952"/>
                        </a:lnTo>
                        <a:lnTo>
                          <a:pt x="694" y="1950"/>
                        </a:lnTo>
                        <a:lnTo>
                          <a:pt x="696" y="1945"/>
                        </a:lnTo>
                        <a:lnTo>
                          <a:pt x="698" y="1941"/>
                        </a:lnTo>
                        <a:lnTo>
                          <a:pt x="700" y="1937"/>
                        </a:lnTo>
                        <a:lnTo>
                          <a:pt x="700" y="1935"/>
                        </a:lnTo>
                        <a:lnTo>
                          <a:pt x="700" y="1933"/>
                        </a:lnTo>
                        <a:lnTo>
                          <a:pt x="702" y="1933"/>
                        </a:lnTo>
                        <a:lnTo>
                          <a:pt x="740" y="1943"/>
                        </a:lnTo>
                        <a:lnTo>
                          <a:pt x="740" y="1943"/>
                        </a:lnTo>
                        <a:lnTo>
                          <a:pt x="738" y="1945"/>
                        </a:lnTo>
                        <a:lnTo>
                          <a:pt x="738" y="1947"/>
                        </a:lnTo>
                        <a:lnTo>
                          <a:pt x="738" y="1950"/>
                        </a:lnTo>
                        <a:lnTo>
                          <a:pt x="738" y="1954"/>
                        </a:lnTo>
                        <a:lnTo>
                          <a:pt x="738" y="1958"/>
                        </a:lnTo>
                        <a:lnTo>
                          <a:pt x="736" y="1962"/>
                        </a:lnTo>
                        <a:lnTo>
                          <a:pt x="736" y="1964"/>
                        </a:lnTo>
                        <a:lnTo>
                          <a:pt x="736" y="1967"/>
                        </a:lnTo>
                        <a:lnTo>
                          <a:pt x="736" y="1971"/>
                        </a:lnTo>
                        <a:lnTo>
                          <a:pt x="736" y="1975"/>
                        </a:lnTo>
                        <a:lnTo>
                          <a:pt x="736" y="1979"/>
                        </a:lnTo>
                        <a:lnTo>
                          <a:pt x="736" y="1983"/>
                        </a:lnTo>
                        <a:lnTo>
                          <a:pt x="736" y="1985"/>
                        </a:lnTo>
                        <a:lnTo>
                          <a:pt x="736" y="1990"/>
                        </a:lnTo>
                        <a:lnTo>
                          <a:pt x="736" y="1994"/>
                        </a:lnTo>
                        <a:lnTo>
                          <a:pt x="736" y="1998"/>
                        </a:lnTo>
                        <a:lnTo>
                          <a:pt x="736" y="2004"/>
                        </a:lnTo>
                        <a:lnTo>
                          <a:pt x="736" y="2007"/>
                        </a:lnTo>
                        <a:lnTo>
                          <a:pt x="736" y="2013"/>
                        </a:lnTo>
                        <a:lnTo>
                          <a:pt x="736" y="2015"/>
                        </a:lnTo>
                        <a:lnTo>
                          <a:pt x="736" y="2021"/>
                        </a:lnTo>
                        <a:lnTo>
                          <a:pt x="736" y="2026"/>
                        </a:lnTo>
                        <a:lnTo>
                          <a:pt x="736" y="2030"/>
                        </a:lnTo>
                        <a:lnTo>
                          <a:pt x="736" y="2036"/>
                        </a:lnTo>
                        <a:lnTo>
                          <a:pt x="736" y="2042"/>
                        </a:lnTo>
                        <a:lnTo>
                          <a:pt x="736" y="2047"/>
                        </a:lnTo>
                        <a:lnTo>
                          <a:pt x="738" y="2051"/>
                        </a:lnTo>
                        <a:lnTo>
                          <a:pt x="738" y="2057"/>
                        </a:lnTo>
                        <a:lnTo>
                          <a:pt x="738" y="2062"/>
                        </a:lnTo>
                        <a:lnTo>
                          <a:pt x="740" y="2066"/>
                        </a:lnTo>
                        <a:lnTo>
                          <a:pt x="740" y="2072"/>
                        </a:lnTo>
                        <a:lnTo>
                          <a:pt x="742" y="2078"/>
                        </a:lnTo>
                        <a:lnTo>
                          <a:pt x="744" y="2083"/>
                        </a:lnTo>
                        <a:lnTo>
                          <a:pt x="744" y="2091"/>
                        </a:lnTo>
                        <a:lnTo>
                          <a:pt x="746" y="2095"/>
                        </a:lnTo>
                        <a:lnTo>
                          <a:pt x="748" y="2101"/>
                        </a:lnTo>
                        <a:lnTo>
                          <a:pt x="748" y="2106"/>
                        </a:lnTo>
                        <a:lnTo>
                          <a:pt x="751" y="2110"/>
                        </a:lnTo>
                        <a:lnTo>
                          <a:pt x="753" y="2118"/>
                        </a:lnTo>
                        <a:lnTo>
                          <a:pt x="753" y="2123"/>
                        </a:lnTo>
                        <a:lnTo>
                          <a:pt x="757" y="2129"/>
                        </a:lnTo>
                        <a:lnTo>
                          <a:pt x="759" y="2135"/>
                        </a:lnTo>
                        <a:lnTo>
                          <a:pt x="761" y="2139"/>
                        </a:lnTo>
                        <a:lnTo>
                          <a:pt x="765" y="2144"/>
                        </a:lnTo>
                        <a:lnTo>
                          <a:pt x="767" y="2150"/>
                        </a:lnTo>
                        <a:lnTo>
                          <a:pt x="769" y="2156"/>
                        </a:lnTo>
                        <a:lnTo>
                          <a:pt x="772" y="2159"/>
                        </a:lnTo>
                        <a:lnTo>
                          <a:pt x="776" y="2165"/>
                        </a:lnTo>
                        <a:lnTo>
                          <a:pt x="780" y="2171"/>
                        </a:lnTo>
                        <a:lnTo>
                          <a:pt x="782" y="2175"/>
                        </a:lnTo>
                        <a:lnTo>
                          <a:pt x="786" y="2180"/>
                        </a:lnTo>
                        <a:lnTo>
                          <a:pt x="789" y="2186"/>
                        </a:lnTo>
                        <a:lnTo>
                          <a:pt x="795" y="2190"/>
                        </a:lnTo>
                        <a:lnTo>
                          <a:pt x="799" y="2196"/>
                        </a:lnTo>
                        <a:lnTo>
                          <a:pt x="805" y="2201"/>
                        </a:lnTo>
                        <a:lnTo>
                          <a:pt x="808" y="2205"/>
                        </a:lnTo>
                        <a:lnTo>
                          <a:pt x="814" y="2209"/>
                        </a:lnTo>
                        <a:lnTo>
                          <a:pt x="818" y="2213"/>
                        </a:lnTo>
                        <a:lnTo>
                          <a:pt x="824" y="2216"/>
                        </a:lnTo>
                        <a:lnTo>
                          <a:pt x="828" y="2222"/>
                        </a:lnTo>
                        <a:lnTo>
                          <a:pt x="833" y="2224"/>
                        </a:lnTo>
                        <a:lnTo>
                          <a:pt x="839" y="2228"/>
                        </a:lnTo>
                        <a:lnTo>
                          <a:pt x="845" y="2232"/>
                        </a:lnTo>
                        <a:lnTo>
                          <a:pt x="848" y="2235"/>
                        </a:lnTo>
                        <a:lnTo>
                          <a:pt x="854" y="2239"/>
                        </a:lnTo>
                        <a:lnTo>
                          <a:pt x="858" y="2243"/>
                        </a:lnTo>
                        <a:lnTo>
                          <a:pt x="864" y="2245"/>
                        </a:lnTo>
                        <a:lnTo>
                          <a:pt x="867" y="2249"/>
                        </a:lnTo>
                        <a:lnTo>
                          <a:pt x="873" y="2253"/>
                        </a:lnTo>
                        <a:lnTo>
                          <a:pt x="877" y="2256"/>
                        </a:lnTo>
                        <a:lnTo>
                          <a:pt x="883" y="2258"/>
                        </a:lnTo>
                        <a:lnTo>
                          <a:pt x="890" y="2260"/>
                        </a:lnTo>
                        <a:lnTo>
                          <a:pt x="896" y="2264"/>
                        </a:lnTo>
                        <a:lnTo>
                          <a:pt x="900" y="2266"/>
                        </a:lnTo>
                        <a:lnTo>
                          <a:pt x="904" y="2268"/>
                        </a:lnTo>
                        <a:lnTo>
                          <a:pt x="907" y="2270"/>
                        </a:lnTo>
                        <a:lnTo>
                          <a:pt x="913" y="2273"/>
                        </a:lnTo>
                        <a:lnTo>
                          <a:pt x="919" y="2275"/>
                        </a:lnTo>
                        <a:lnTo>
                          <a:pt x="925" y="2277"/>
                        </a:lnTo>
                        <a:lnTo>
                          <a:pt x="928" y="2279"/>
                        </a:lnTo>
                        <a:lnTo>
                          <a:pt x="934" y="2281"/>
                        </a:lnTo>
                        <a:lnTo>
                          <a:pt x="938" y="2283"/>
                        </a:lnTo>
                        <a:lnTo>
                          <a:pt x="942" y="2285"/>
                        </a:lnTo>
                        <a:lnTo>
                          <a:pt x="947" y="2287"/>
                        </a:lnTo>
                        <a:lnTo>
                          <a:pt x="951" y="2289"/>
                        </a:lnTo>
                        <a:lnTo>
                          <a:pt x="955" y="2289"/>
                        </a:lnTo>
                        <a:lnTo>
                          <a:pt x="961" y="2291"/>
                        </a:lnTo>
                        <a:lnTo>
                          <a:pt x="964" y="2291"/>
                        </a:lnTo>
                        <a:lnTo>
                          <a:pt x="968" y="2294"/>
                        </a:lnTo>
                        <a:lnTo>
                          <a:pt x="972" y="2294"/>
                        </a:lnTo>
                        <a:lnTo>
                          <a:pt x="978" y="2294"/>
                        </a:lnTo>
                        <a:lnTo>
                          <a:pt x="982" y="2296"/>
                        </a:lnTo>
                        <a:lnTo>
                          <a:pt x="985" y="2296"/>
                        </a:lnTo>
                        <a:lnTo>
                          <a:pt x="989" y="2296"/>
                        </a:lnTo>
                        <a:lnTo>
                          <a:pt x="993" y="2298"/>
                        </a:lnTo>
                        <a:lnTo>
                          <a:pt x="997" y="2298"/>
                        </a:lnTo>
                        <a:lnTo>
                          <a:pt x="1001" y="2298"/>
                        </a:lnTo>
                        <a:lnTo>
                          <a:pt x="1004" y="2298"/>
                        </a:lnTo>
                        <a:lnTo>
                          <a:pt x="1008" y="2300"/>
                        </a:lnTo>
                        <a:lnTo>
                          <a:pt x="1010" y="2300"/>
                        </a:lnTo>
                        <a:lnTo>
                          <a:pt x="1014" y="2300"/>
                        </a:lnTo>
                        <a:lnTo>
                          <a:pt x="1016" y="2300"/>
                        </a:lnTo>
                        <a:lnTo>
                          <a:pt x="1020" y="2300"/>
                        </a:lnTo>
                        <a:lnTo>
                          <a:pt x="1022" y="2300"/>
                        </a:lnTo>
                        <a:lnTo>
                          <a:pt x="1025" y="2302"/>
                        </a:lnTo>
                        <a:lnTo>
                          <a:pt x="1029" y="2300"/>
                        </a:lnTo>
                        <a:lnTo>
                          <a:pt x="1035" y="2300"/>
                        </a:lnTo>
                        <a:lnTo>
                          <a:pt x="1039" y="2298"/>
                        </a:lnTo>
                        <a:lnTo>
                          <a:pt x="1042" y="2298"/>
                        </a:lnTo>
                        <a:lnTo>
                          <a:pt x="1044" y="2296"/>
                        </a:lnTo>
                        <a:lnTo>
                          <a:pt x="1048" y="2296"/>
                        </a:lnTo>
                        <a:lnTo>
                          <a:pt x="1048" y="2294"/>
                        </a:lnTo>
                        <a:lnTo>
                          <a:pt x="1050" y="2294"/>
                        </a:lnTo>
                        <a:lnTo>
                          <a:pt x="1246" y="1334"/>
                        </a:lnTo>
                        <a:lnTo>
                          <a:pt x="1246" y="1333"/>
                        </a:lnTo>
                        <a:lnTo>
                          <a:pt x="1248" y="1331"/>
                        </a:lnTo>
                        <a:lnTo>
                          <a:pt x="1250" y="1327"/>
                        </a:lnTo>
                        <a:lnTo>
                          <a:pt x="1252" y="1325"/>
                        </a:lnTo>
                        <a:lnTo>
                          <a:pt x="1252" y="1323"/>
                        </a:lnTo>
                        <a:lnTo>
                          <a:pt x="1254" y="1319"/>
                        </a:lnTo>
                        <a:lnTo>
                          <a:pt x="1256" y="1315"/>
                        </a:lnTo>
                        <a:lnTo>
                          <a:pt x="1259" y="1312"/>
                        </a:lnTo>
                        <a:lnTo>
                          <a:pt x="1259" y="1306"/>
                        </a:lnTo>
                        <a:lnTo>
                          <a:pt x="1263" y="1302"/>
                        </a:lnTo>
                        <a:lnTo>
                          <a:pt x="1265" y="1296"/>
                        </a:lnTo>
                        <a:lnTo>
                          <a:pt x="1269" y="1293"/>
                        </a:lnTo>
                        <a:lnTo>
                          <a:pt x="1271" y="1285"/>
                        </a:lnTo>
                        <a:lnTo>
                          <a:pt x="1275" y="1281"/>
                        </a:lnTo>
                        <a:lnTo>
                          <a:pt x="1276" y="1274"/>
                        </a:lnTo>
                        <a:lnTo>
                          <a:pt x="1280" y="1266"/>
                        </a:lnTo>
                        <a:lnTo>
                          <a:pt x="1284" y="1258"/>
                        </a:lnTo>
                        <a:lnTo>
                          <a:pt x="1288" y="1249"/>
                        </a:lnTo>
                        <a:lnTo>
                          <a:pt x="1290" y="1241"/>
                        </a:lnTo>
                        <a:lnTo>
                          <a:pt x="1294" y="1234"/>
                        </a:lnTo>
                        <a:lnTo>
                          <a:pt x="1297" y="1224"/>
                        </a:lnTo>
                        <a:lnTo>
                          <a:pt x="1301" y="1217"/>
                        </a:lnTo>
                        <a:lnTo>
                          <a:pt x="1305" y="1207"/>
                        </a:lnTo>
                        <a:lnTo>
                          <a:pt x="1309" y="1198"/>
                        </a:lnTo>
                        <a:lnTo>
                          <a:pt x="1313" y="1188"/>
                        </a:lnTo>
                        <a:lnTo>
                          <a:pt x="1316" y="1177"/>
                        </a:lnTo>
                        <a:lnTo>
                          <a:pt x="1320" y="1165"/>
                        </a:lnTo>
                        <a:lnTo>
                          <a:pt x="1324" y="1154"/>
                        </a:lnTo>
                        <a:lnTo>
                          <a:pt x="1330" y="1144"/>
                        </a:lnTo>
                        <a:lnTo>
                          <a:pt x="1334" y="1133"/>
                        </a:lnTo>
                        <a:lnTo>
                          <a:pt x="1337" y="1122"/>
                        </a:lnTo>
                        <a:lnTo>
                          <a:pt x="1339" y="1108"/>
                        </a:lnTo>
                        <a:lnTo>
                          <a:pt x="1345" y="1097"/>
                        </a:lnTo>
                        <a:lnTo>
                          <a:pt x="1349" y="1084"/>
                        </a:lnTo>
                        <a:lnTo>
                          <a:pt x="1353" y="1070"/>
                        </a:lnTo>
                        <a:lnTo>
                          <a:pt x="1354" y="1059"/>
                        </a:lnTo>
                        <a:lnTo>
                          <a:pt x="1358" y="1044"/>
                        </a:lnTo>
                        <a:lnTo>
                          <a:pt x="1362" y="1032"/>
                        </a:lnTo>
                        <a:lnTo>
                          <a:pt x="1366" y="1017"/>
                        </a:lnTo>
                        <a:lnTo>
                          <a:pt x="1370" y="1004"/>
                        </a:lnTo>
                        <a:lnTo>
                          <a:pt x="1372" y="988"/>
                        </a:lnTo>
                        <a:lnTo>
                          <a:pt x="1375" y="975"/>
                        </a:lnTo>
                        <a:lnTo>
                          <a:pt x="1377" y="960"/>
                        </a:lnTo>
                        <a:lnTo>
                          <a:pt x="1381" y="947"/>
                        </a:lnTo>
                        <a:lnTo>
                          <a:pt x="1383" y="931"/>
                        </a:lnTo>
                        <a:lnTo>
                          <a:pt x="1387" y="916"/>
                        </a:lnTo>
                        <a:lnTo>
                          <a:pt x="1389" y="901"/>
                        </a:lnTo>
                        <a:lnTo>
                          <a:pt x="1391" y="886"/>
                        </a:lnTo>
                        <a:lnTo>
                          <a:pt x="1392" y="871"/>
                        </a:lnTo>
                        <a:lnTo>
                          <a:pt x="1394" y="855"/>
                        </a:lnTo>
                        <a:lnTo>
                          <a:pt x="1396" y="838"/>
                        </a:lnTo>
                        <a:lnTo>
                          <a:pt x="1398" y="823"/>
                        </a:lnTo>
                        <a:lnTo>
                          <a:pt x="1398" y="806"/>
                        </a:lnTo>
                        <a:lnTo>
                          <a:pt x="1400" y="791"/>
                        </a:lnTo>
                        <a:lnTo>
                          <a:pt x="1402" y="774"/>
                        </a:lnTo>
                        <a:lnTo>
                          <a:pt x="1402" y="757"/>
                        </a:lnTo>
                        <a:lnTo>
                          <a:pt x="1402" y="741"/>
                        </a:lnTo>
                        <a:lnTo>
                          <a:pt x="1402" y="724"/>
                        </a:lnTo>
                        <a:lnTo>
                          <a:pt x="1402" y="705"/>
                        </a:lnTo>
                        <a:lnTo>
                          <a:pt x="1402" y="690"/>
                        </a:lnTo>
                        <a:lnTo>
                          <a:pt x="1400" y="673"/>
                        </a:lnTo>
                        <a:lnTo>
                          <a:pt x="1400" y="656"/>
                        </a:lnTo>
                        <a:lnTo>
                          <a:pt x="1398" y="654"/>
                        </a:lnTo>
                        <a:lnTo>
                          <a:pt x="1398" y="652"/>
                        </a:lnTo>
                        <a:lnTo>
                          <a:pt x="1398" y="648"/>
                        </a:lnTo>
                        <a:lnTo>
                          <a:pt x="1398" y="644"/>
                        </a:lnTo>
                        <a:lnTo>
                          <a:pt x="1398" y="643"/>
                        </a:lnTo>
                        <a:lnTo>
                          <a:pt x="1398" y="639"/>
                        </a:lnTo>
                        <a:lnTo>
                          <a:pt x="1396" y="637"/>
                        </a:lnTo>
                        <a:lnTo>
                          <a:pt x="1396" y="633"/>
                        </a:lnTo>
                        <a:lnTo>
                          <a:pt x="1396" y="631"/>
                        </a:lnTo>
                        <a:lnTo>
                          <a:pt x="1396" y="627"/>
                        </a:lnTo>
                        <a:lnTo>
                          <a:pt x="1396" y="623"/>
                        </a:lnTo>
                        <a:lnTo>
                          <a:pt x="1394" y="620"/>
                        </a:lnTo>
                        <a:lnTo>
                          <a:pt x="1394" y="618"/>
                        </a:lnTo>
                        <a:lnTo>
                          <a:pt x="1394" y="616"/>
                        </a:lnTo>
                        <a:lnTo>
                          <a:pt x="1392" y="612"/>
                        </a:lnTo>
                        <a:lnTo>
                          <a:pt x="1392" y="610"/>
                        </a:lnTo>
                        <a:lnTo>
                          <a:pt x="1392" y="608"/>
                        </a:lnTo>
                        <a:lnTo>
                          <a:pt x="1391" y="604"/>
                        </a:lnTo>
                        <a:lnTo>
                          <a:pt x="1391" y="603"/>
                        </a:lnTo>
                        <a:lnTo>
                          <a:pt x="1391" y="599"/>
                        </a:lnTo>
                        <a:lnTo>
                          <a:pt x="1389" y="597"/>
                        </a:lnTo>
                        <a:lnTo>
                          <a:pt x="1389" y="593"/>
                        </a:lnTo>
                        <a:lnTo>
                          <a:pt x="1389" y="589"/>
                        </a:lnTo>
                        <a:lnTo>
                          <a:pt x="1389" y="587"/>
                        </a:lnTo>
                        <a:lnTo>
                          <a:pt x="1387" y="585"/>
                        </a:lnTo>
                        <a:lnTo>
                          <a:pt x="1385" y="582"/>
                        </a:lnTo>
                        <a:lnTo>
                          <a:pt x="1385" y="580"/>
                        </a:lnTo>
                        <a:lnTo>
                          <a:pt x="1383" y="578"/>
                        </a:lnTo>
                        <a:lnTo>
                          <a:pt x="1383" y="572"/>
                        </a:lnTo>
                        <a:lnTo>
                          <a:pt x="1381" y="568"/>
                        </a:lnTo>
                        <a:lnTo>
                          <a:pt x="1377" y="563"/>
                        </a:lnTo>
                        <a:lnTo>
                          <a:pt x="1375" y="557"/>
                        </a:lnTo>
                        <a:lnTo>
                          <a:pt x="1373" y="553"/>
                        </a:lnTo>
                        <a:lnTo>
                          <a:pt x="1370" y="547"/>
                        </a:lnTo>
                        <a:lnTo>
                          <a:pt x="1366" y="544"/>
                        </a:lnTo>
                        <a:lnTo>
                          <a:pt x="1364" y="540"/>
                        </a:lnTo>
                        <a:lnTo>
                          <a:pt x="1360" y="536"/>
                        </a:lnTo>
                        <a:lnTo>
                          <a:pt x="1356" y="532"/>
                        </a:lnTo>
                        <a:lnTo>
                          <a:pt x="1353" y="528"/>
                        </a:lnTo>
                        <a:lnTo>
                          <a:pt x="1349" y="525"/>
                        </a:lnTo>
                        <a:lnTo>
                          <a:pt x="1345" y="523"/>
                        </a:lnTo>
                        <a:lnTo>
                          <a:pt x="1339" y="521"/>
                        </a:lnTo>
                        <a:lnTo>
                          <a:pt x="1335" y="517"/>
                        </a:lnTo>
                        <a:lnTo>
                          <a:pt x="1332" y="515"/>
                        </a:lnTo>
                        <a:lnTo>
                          <a:pt x="1326" y="515"/>
                        </a:lnTo>
                        <a:lnTo>
                          <a:pt x="1322" y="513"/>
                        </a:lnTo>
                        <a:lnTo>
                          <a:pt x="1318" y="511"/>
                        </a:lnTo>
                        <a:lnTo>
                          <a:pt x="1316" y="511"/>
                        </a:lnTo>
                        <a:lnTo>
                          <a:pt x="1313" y="511"/>
                        </a:lnTo>
                        <a:lnTo>
                          <a:pt x="1311" y="511"/>
                        </a:lnTo>
                        <a:lnTo>
                          <a:pt x="1309" y="509"/>
                        </a:lnTo>
                        <a:lnTo>
                          <a:pt x="1305" y="509"/>
                        </a:lnTo>
                        <a:lnTo>
                          <a:pt x="1303" y="509"/>
                        </a:lnTo>
                        <a:lnTo>
                          <a:pt x="1301" y="509"/>
                        </a:lnTo>
                        <a:lnTo>
                          <a:pt x="1297" y="509"/>
                        </a:lnTo>
                        <a:lnTo>
                          <a:pt x="1295" y="509"/>
                        </a:lnTo>
                        <a:lnTo>
                          <a:pt x="1292" y="509"/>
                        </a:lnTo>
                        <a:lnTo>
                          <a:pt x="1290" y="509"/>
                        </a:lnTo>
                        <a:lnTo>
                          <a:pt x="1284" y="509"/>
                        </a:lnTo>
                        <a:lnTo>
                          <a:pt x="1280" y="509"/>
                        </a:lnTo>
                        <a:lnTo>
                          <a:pt x="1275" y="509"/>
                        </a:lnTo>
                        <a:lnTo>
                          <a:pt x="1269" y="509"/>
                        </a:lnTo>
                        <a:lnTo>
                          <a:pt x="1265" y="509"/>
                        </a:lnTo>
                        <a:lnTo>
                          <a:pt x="1259" y="509"/>
                        </a:lnTo>
                        <a:lnTo>
                          <a:pt x="1256" y="511"/>
                        </a:lnTo>
                        <a:lnTo>
                          <a:pt x="1252" y="511"/>
                        </a:lnTo>
                        <a:lnTo>
                          <a:pt x="1246" y="515"/>
                        </a:lnTo>
                        <a:lnTo>
                          <a:pt x="1242" y="515"/>
                        </a:lnTo>
                        <a:lnTo>
                          <a:pt x="1238" y="517"/>
                        </a:lnTo>
                        <a:lnTo>
                          <a:pt x="1235" y="521"/>
                        </a:lnTo>
                        <a:lnTo>
                          <a:pt x="1231" y="523"/>
                        </a:lnTo>
                        <a:lnTo>
                          <a:pt x="1229" y="525"/>
                        </a:lnTo>
                        <a:lnTo>
                          <a:pt x="1225" y="527"/>
                        </a:lnTo>
                        <a:lnTo>
                          <a:pt x="1221" y="530"/>
                        </a:lnTo>
                        <a:lnTo>
                          <a:pt x="1219" y="532"/>
                        </a:lnTo>
                        <a:lnTo>
                          <a:pt x="1216" y="538"/>
                        </a:lnTo>
                        <a:lnTo>
                          <a:pt x="1214" y="542"/>
                        </a:lnTo>
                        <a:lnTo>
                          <a:pt x="1212" y="546"/>
                        </a:lnTo>
                        <a:lnTo>
                          <a:pt x="1210" y="549"/>
                        </a:lnTo>
                        <a:lnTo>
                          <a:pt x="1208" y="555"/>
                        </a:lnTo>
                        <a:lnTo>
                          <a:pt x="1208" y="557"/>
                        </a:lnTo>
                        <a:lnTo>
                          <a:pt x="1206" y="559"/>
                        </a:lnTo>
                        <a:lnTo>
                          <a:pt x="1204" y="561"/>
                        </a:lnTo>
                        <a:lnTo>
                          <a:pt x="1204" y="565"/>
                        </a:lnTo>
                        <a:lnTo>
                          <a:pt x="1204" y="566"/>
                        </a:lnTo>
                        <a:lnTo>
                          <a:pt x="1204" y="570"/>
                        </a:lnTo>
                        <a:lnTo>
                          <a:pt x="1204" y="572"/>
                        </a:lnTo>
                        <a:lnTo>
                          <a:pt x="1204" y="576"/>
                        </a:lnTo>
                        <a:lnTo>
                          <a:pt x="1139" y="895"/>
                        </a:lnTo>
                        <a:lnTo>
                          <a:pt x="1136" y="893"/>
                        </a:lnTo>
                        <a:lnTo>
                          <a:pt x="1132" y="892"/>
                        </a:lnTo>
                        <a:lnTo>
                          <a:pt x="1126" y="888"/>
                        </a:lnTo>
                        <a:lnTo>
                          <a:pt x="1122" y="886"/>
                        </a:lnTo>
                        <a:lnTo>
                          <a:pt x="1117" y="884"/>
                        </a:lnTo>
                        <a:lnTo>
                          <a:pt x="1113" y="880"/>
                        </a:lnTo>
                        <a:lnTo>
                          <a:pt x="1107" y="878"/>
                        </a:lnTo>
                        <a:lnTo>
                          <a:pt x="1105" y="876"/>
                        </a:lnTo>
                        <a:lnTo>
                          <a:pt x="1227" y="316"/>
                        </a:lnTo>
                        <a:lnTo>
                          <a:pt x="1227" y="312"/>
                        </a:lnTo>
                        <a:lnTo>
                          <a:pt x="1227" y="308"/>
                        </a:lnTo>
                        <a:lnTo>
                          <a:pt x="1229" y="306"/>
                        </a:lnTo>
                        <a:lnTo>
                          <a:pt x="1229" y="304"/>
                        </a:lnTo>
                        <a:lnTo>
                          <a:pt x="1229" y="300"/>
                        </a:lnTo>
                        <a:lnTo>
                          <a:pt x="1229" y="298"/>
                        </a:lnTo>
                        <a:lnTo>
                          <a:pt x="1229" y="295"/>
                        </a:lnTo>
                        <a:lnTo>
                          <a:pt x="1229" y="293"/>
                        </a:lnTo>
                        <a:lnTo>
                          <a:pt x="1229" y="291"/>
                        </a:lnTo>
                        <a:lnTo>
                          <a:pt x="1229" y="287"/>
                        </a:lnTo>
                        <a:lnTo>
                          <a:pt x="1229" y="285"/>
                        </a:lnTo>
                        <a:lnTo>
                          <a:pt x="1229" y="283"/>
                        </a:lnTo>
                        <a:lnTo>
                          <a:pt x="1229" y="278"/>
                        </a:lnTo>
                        <a:lnTo>
                          <a:pt x="1227" y="272"/>
                        </a:lnTo>
                        <a:lnTo>
                          <a:pt x="1225" y="268"/>
                        </a:lnTo>
                        <a:lnTo>
                          <a:pt x="1225" y="262"/>
                        </a:lnTo>
                        <a:lnTo>
                          <a:pt x="1223" y="257"/>
                        </a:lnTo>
                        <a:lnTo>
                          <a:pt x="1221" y="253"/>
                        </a:lnTo>
                        <a:lnTo>
                          <a:pt x="1219" y="247"/>
                        </a:lnTo>
                        <a:lnTo>
                          <a:pt x="1217" y="243"/>
                        </a:lnTo>
                        <a:lnTo>
                          <a:pt x="1216" y="240"/>
                        </a:lnTo>
                        <a:lnTo>
                          <a:pt x="1214" y="236"/>
                        </a:lnTo>
                        <a:lnTo>
                          <a:pt x="1210" y="232"/>
                        </a:lnTo>
                        <a:lnTo>
                          <a:pt x="1206" y="226"/>
                        </a:lnTo>
                        <a:lnTo>
                          <a:pt x="1202" y="222"/>
                        </a:lnTo>
                        <a:lnTo>
                          <a:pt x="1200" y="219"/>
                        </a:lnTo>
                        <a:lnTo>
                          <a:pt x="1197" y="215"/>
                        </a:lnTo>
                        <a:lnTo>
                          <a:pt x="1193" y="211"/>
                        </a:lnTo>
                        <a:lnTo>
                          <a:pt x="1189" y="207"/>
                        </a:lnTo>
                        <a:lnTo>
                          <a:pt x="1185" y="205"/>
                        </a:lnTo>
                        <a:lnTo>
                          <a:pt x="1179" y="203"/>
                        </a:lnTo>
                        <a:lnTo>
                          <a:pt x="1176" y="200"/>
                        </a:lnTo>
                        <a:lnTo>
                          <a:pt x="1172" y="198"/>
                        </a:lnTo>
                        <a:lnTo>
                          <a:pt x="1166" y="194"/>
                        </a:lnTo>
                        <a:lnTo>
                          <a:pt x="1160" y="192"/>
                        </a:lnTo>
                        <a:lnTo>
                          <a:pt x="1157" y="192"/>
                        </a:lnTo>
                        <a:lnTo>
                          <a:pt x="1151" y="190"/>
                        </a:lnTo>
                        <a:lnTo>
                          <a:pt x="1147" y="190"/>
                        </a:lnTo>
                        <a:lnTo>
                          <a:pt x="1143" y="188"/>
                        </a:lnTo>
                        <a:lnTo>
                          <a:pt x="1141" y="186"/>
                        </a:lnTo>
                        <a:lnTo>
                          <a:pt x="1138" y="186"/>
                        </a:lnTo>
                        <a:lnTo>
                          <a:pt x="1136" y="186"/>
                        </a:lnTo>
                        <a:lnTo>
                          <a:pt x="1134" y="186"/>
                        </a:lnTo>
                        <a:lnTo>
                          <a:pt x="1130" y="186"/>
                        </a:lnTo>
                        <a:lnTo>
                          <a:pt x="1128" y="186"/>
                        </a:lnTo>
                        <a:lnTo>
                          <a:pt x="1124" y="186"/>
                        </a:lnTo>
                        <a:lnTo>
                          <a:pt x="1122" y="186"/>
                        </a:lnTo>
                        <a:lnTo>
                          <a:pt x="1120" y="186"/>
                        </a:lnTo>
                        <a:lnTo>
                          <a:pt x="1117" y="186"/>
                        </a:lnTo>
                        <a:lnTo>
                          <a:pt x="1115" y="186"/>
                        </a:lnTo>
                        <a:lnTo>
                          <a:pt x="1109" y="186"/>
                        </a:lnTo>
                        <a:lnTo>
                          <a:pt x="1105" y="188"/>
                        </a:lnTo>
                        <a:lnTo>
                          <a:pt x="1100" y="188"/>
                        </a:lnTo>
                        <a:lnTo>
                          <a:pt x="1094" y="190"/>
                        </a:lnTo>
                        <a:lnTo>
                          <a:pt x="1090" y="192"/>
                        </a:lnTo>
                        <a:lnTo>
                          <a:pt x="1086" y="192"/>
                        </a:lnTo>
                        <a:lnTo>
                          <a:pt x="1081" y="194"/>
                        </a:lnTo>
                        <a:lnTo>
                          <a:pt x="1077" y="198"/>
                        </a:lnTo>
                        <a:lnTo>
                          <a:pt x="1073" y="200"/>
                        </a:lnTo>
                        <a:lnTo>
                          <a:pt x="1067" y="203"/>
                        </a:lnTo>
                        <a:lnTo>
                          <a:pt x="1063" y="205"/>
                        </a:lnTo>
                        <a:lnTo>
                          <a:pt x="1058" y="207"/>
                        </a:lnTo>
                        <a:lnTo>
                          <a:pt x="1054" y="211"/>
                        </a:lnTo>
                        <a:lnTo>
                          <a:pt x="1050" y="215"/>
                        </a:lnTo>
                        <a:lnTo>
                          <a:pt x="1048" y="219"/>
                        </a:lnTo>
                        <a:lnTo>
                          <a:pt x="1044" y="222"/>
                        </a:lnTo>
                        <a:lnTo>
                          <a:pt x="1041" y="226"/>
                        </a:lnTo>
                        <a:lnTo>
                          <a:pt x="1039" y="232"/>
                        </a:lnTo>
                        <a:lnTo>
                          <a:pt x="1035" y="234"/>
                        </a:lnTo>
                        <a:lnTo>
                          <a:pt x="1033" y="240"/>
                        </a:lnTo>
                        <a:lnTo>
                          <a:pt x="1029" y="243"/>
                        </a:lnTo>
                        <a:lnTo>
                          <a:pt x="1027" y="249"/>
                        </a:lnTo>
                        <a:lnTo>
                          <a:pt x="1025" y="253"/>
                        </a:lnTo>
                        <a:lnTo>
                          <a:pt x="1023" y="259"/>
                        </a:lnTo>
                        <a:lnTo>
                          <a:pt x="1022" y="260"/>
                        </a:lnTo>
                        <a:lnTo>
                          <a:pt x="1022" y="264"/>
                        </a:lnTo>
                        <a:lnTo>
                          <a:pt x="1022" y="266"/>
                        </a:lnTo>
                        <a:lnTo>
                          <a:pt x="1022" y="270"/>
                        </a:lnTo>
                        <a:lnTo>
                          <a:pt x="919" y="730"/>
                        </a:lnTo>
                        <a:lnTo>
                          <a:pt x="915" y="728"/>
                        </a:lnTo>
                        <a:lnTo>
                          <a:pt x="913" y="726"/>
                        </a:lnTo>
                        <a:lnTo>
                          <a:pt x="907" y="724"/>
                        </a:lnTo>
                        <a:lnTo>
                          <a:pt x="905" y="720"/>
                        </a:lnTo>
                        <a:lnTo>
                          <a:pt x="904" y="719"/>
                        </a:lnTo>
                        <a:lnTo>
                          <a:pt x="900" y="717"/>
                        </a:lnTo>
                        <a:lnTo>
                          <a:pt x="896" y="713"/>
                        </a:lnTo>
                        <a:lnTo>
                          <a:pt x="892" y="713"/>
                        </a:lnTo>
                        <a:lnTo>
                          <a:pt x="1022" y="129"/>
                        </a:lnTo>
                        <a:lnTo>
                          <a:pt x="1022" y="125"/>
                        </a:lnTo>
                        <a:lnTo>
                          <a:pt x="1022" y="124"/>
                        </a:lnTo>
                        <a:lnTo>
                          <a:pt x="1022" y="120"/>
                        </a:lnTo>
                        <a:lnTo>
                          <a:pt x="1022" y="118"/>
                        </a:lnTo>
                        <a:lnTo>
                          <a:pt x="1022" y="114"/>
                        </a:lnTo>
                        <a:lnTo>
                          <a:pt x="1022" y="112"/>
                        </a:lnTo>
                        <a:lnTo>
                          <a:pt x="1022" y="110"/>
                        </a:lnTo>
                        <a:lnTo>
                          <a:pt x="1022" y="106"/>
                        </a:lnTo>
                        <a:lnTo>
                          <a:pt x="1022" y="105"/>
                        </a:lnTo>
                        <a:lnTo>
                          <a:pt x="1022" y="103"/>
                        </a:lnTo>
                        <a:lnTo>
                          <a:pt x="1022" y="99"/>
                        </a:lnTo>
                        <a:lnTo>
                          <a:pt x="1022" y="97"/>
                        </a:lnTo>
                        <a:lnTo>
                          <a:pt x="1022" y="91"/>
                        </a:lnTo>
                        <a:lnTo>
                          <a:pt x="1022" y="86"/>
                        </a:lnTo>
                        <a:lnTo>
                          <a:pt x="1020" y="82"/>
                        </a:lnTo>
                        <a:lnTo>
                          <a:pt x="1018" y="76"/>
                        </a:lnTo>
                        <a:lnTo>
                          <a:pt x="1016" y="70"/>
                        </a:lnTo>
                        <a:lnTo>
                          <a:pt x="1014" y="67"/>
                        </a:lnTo>
                        <a:lnTo>
                          <a:pt x="1012" y="61"/>
                        </a:lnTo>
                        <a:lnTo>
                          <a:pt x="1010" y="57"/>
                        </a:lnTo>
                        <a:lnTo>
                          <a:pt x="1008" y="53"/>
                        </a:lnTo>
                        <a:lnTo>
                          <a:pt x="1006" y="48"/>
                        </a:lnTo>
                        <a:lnTo>
                          <a:pt x="1004" y="44"/>
                        </a:lnTo>
                        <a:lnTo>
                          <a:pt x="1001" y="40"/>
                        </a:lnTo>
                        <a:lnTo>
                          <a:pt x="997" y="36"/>
                        </a:lnTo>
                        <a:lnTo>
                          <a:pt x="993" y="32"/>
                        </a:lnTo>
                        <a:lnTo>
                          <a:pt x="991" y="29"/>
                        </a:lnTo>
                        <a:lnTo>
                          <a:pt x="985" y="25"/>
                        </a:lnTo>
                        <a:lnTo>
                          <a:pt x="983" y="23"/>
                        </a:lnTo>
                        <a:lnTo>
                          <a:pt x="978" y="19"/>
                        </a:lnTo>
                        <a:lnTo>
                          <a:pt x="972" y="17"/>
                        </a:lnTo>
                        <a:lnTo>
                          <a:pt x="968" y="13"/>
                        </a:lnTo>
                        <a:lnTo>
                          <a:pt x="964" y="11"/>
                        </a:lnTo>
                        <a:lnTo>
                          <a:pt x="961" y="10"/>
                        </a:lnTo>
                        <a:lnTo>
                          <a:pt x="955" y="6"/>
                        </a:lnTo>
                        <a:lnTo>
                          <a:pt x="949" y="6"/>
                        </a:lnTo>
                        <a:lnTo>
                          <a:pt x="944" y="4"/>
                        </a:lnTo>
                        <a:lnTo>
                          <a:pt x="940" y="4"/>
                        </a:lnTo>
                        <a:lnTo>
                          <a:pt x="936" y="2"/>
                        </a:lnTo>
                        <a:lnTo>
                          <a:pt x="934" y="2"/>
                        </a:lnTo>
                        <a:lnTo>
                          <a:pt x="932" y="0"/>
                        </a:lnTo>
                        <a:lnTo>
                          <a:pt x="928" y="0"/>
                        </a:lnTo>
                        <a:lnTo>
                          <a:pt x="926" y="0"/>
                        </a:lnTo>
                        <a:lnTo>
                          <a:pt x="925" y="0"/>
                        </a:lnTo>
                        <a:lnTo>
                          <a:pt x="921" y="0"/>
                        </a:lnTo>
                        <a:lnTo>
                          <a:pt x="919" y="0"/>
                        </a:lnTo>
                        <a:lnTo>
                          <a:pt x="915" y="0"/>
                        </a:lnTo>
                        <a:lnTo>
                          <a:pt x="913" y="0"/>
                        </a:lnTo>
                        <a:lnTo>
                          <a:pt x="911" y="0"/>
                        </a:lnTo>
                        <a:lnTo>
                          <a:pt x="907" y="0"/>
                        </a:lnTo>
                        <a:lnTo>
                          <a:pt x="904" y="0"/>
                        </a:lnTo>
                        <a:lnTo>
                          <a:pt x="898" y="2"/>
                        </a:lnTo>
                        <a:lnTo>
                          <a:pt x="896" y="2"/>
                        </a:lnTo>
                        <a:lnTo>
                          <a:pt x="892" y="2"/>
                        </a:lnTo>
                        <a:lnTo>
                          <a:pt x="890" y="2"/>
                        </a:lnTo>
                        <a:lnTo>
                          <a:pt x="888" y="4"/>
                        </a:lnTo>
                        <a:lnTo>
                          <a:pt x="881" y="4"/>
                        </a:lnTo>
                        <a:lnTo>
                          <a:pt x="877" y="6"/>
                        </a:lnTo>
                        <a:lnTo>
                          <a:pt x="873" y="10"/>
                        </a:lnTo>
                        <a:lnTo>
                          <a:pt x="867" y="11"/>
                        </a:lnTo>
                        <a:lnTo>
                          <a:pt x="864" y="15"/>
                        </a:lnTo>
                        <a:lnTo>
                          <a:pt x="860" y="17"/>
                        </a:lnTo>
                        <a:lnTo>
                          <a:pt x="854" y="19"/>
                        </a:lnTo>
                        <a:lnTo>
                          <a:pt x="850" y="23"/>
                        </a:lnTo>
                        <a:lnTo>
                          <a:pt x="847" y="25"/>
                        </a:lnTo>
                        <a:lnTo>
                          <a:pt x="843" y="29"/>
                        </a:lnTo>
                        <a:lnTo>
                          <a:pt x="839" y="32"/>
                        </a:lnTo>
                        <a:lnTo>
                          <a:pt x="835" y="36"/>
                        </a:lnTo>
                        <a:lnTo>
                          <a:pt x="833" y="40"/>
                        </a:lnTo>
                        <a:lnTo>
                          <a:pt x="831" y="44"/>
                        </a:lnTo>
                        <a:lnTo>
                          <a:pt x="828" y="48"/>
                        </a:lnTo>
                        <a:lnTo>
                          <a:pt x="824" y="53"/>
                        </a:lnTo>
                        <a:lnTo>
                          <a:pt x="822" y="57"/>
                        </a:lnTo>
                        <a:lnTo>
                          <a:pt x="820" y="61"/>
                        </a:lnTo>
                        <a:lnTo>
                          <a:pt x="818" y="67"/>
                        </a:lnTo>
                        <a:lnTo>
                          <a:pt x="816" y="70"/>
                        </a:lnTo>
                        <a:lnTo>
                          <a:pt x="816" y="74"/>
                        </a:lnTo>
                        <a:lnTo>
                          <a:pt x="814" y="76"/>
                        </a:lnTo>
                        <a:lnTo>
                          <a:pt x="812" y="82"/>
                        </a:lnTo>
                        <a:lnTo>
                          <a:pt x="812" y="84"/>
                        </a:lnTo>
                        <a:lnTo>
                          <a:pt x="687" y="663"/>
                        </a:lnTo>
                        <a:lnTo>
                          <a:pt x="681" y="663"/>
                        </a:lnTo>
                        <a:lnTo>
                          <a:pt x="677" y="663"/>
                        </a:lnTo>
                        <a:lnTo>
                          <a:pt x="673" y="663"/>
                        </a:lnTo>
                        <a:lnTo>
                          <a:pt x="670" y="663"/>
                        </a:lnTo>
                        <a:lnTo>
                          <a:pt x="666" y="663"/>
                        </a:lnTo>
                        <a:lnTo>
                          <a:pt x="660" y="665"/>
                        </a:lnTo>
                        <a:lnTo>
                          <a:pt x="656" y="665"/>
                        </a:lnTo>
                        <a:lnTo>
                          <a:pt x="652" y="667"/>
                        </a:lnTo>
                        <a:lnTo>
                          <a:pt x="753" y="213"/>
                        </a:lnTo>
                        <a:lnTo>
                          <a:pt x="753" y="209"/>
                        </a:lnTo>
                        <a:lnTo>
                          <a:pt x="753" y="207"/>
                        </a:lnTo>
                        <a:lnTo>
                          <a:pt x="753" y="203"/>
                        </a:lnTo>
                        <a:lnTo>
                          <a:pt x="753" y="201"/>
                        </a:lnTo>
                        <a:lnTo>
                          <a:pt x="753" y="198"/>
                        </a:lnTo>
                        <a:lnTo>
                          <a:pt x="753" y="196"/>
                        </a:lnTo>
                        <a:lnTo>
                          <a:pt x="753" y="192"/>
                        </a:lnTo>
                        <a:lnTo>
                          <a:pt x="753" y="190"/>
                        </a:lnTo>
                        <a:lnTo>
                          <a:pt x="753" y="188"/>
                        </a:lnTo>
                        <a:lnTo>
                          <a:pt x="753" y="184"/>
                        </a:lnTo>
                        <a:lnTo>
                          <a:pt x="753" y="182"/>
                        </a:lnTo>
                        <a:lnTo>
                          <a:pt x="753" y="181"/>
                        </a:lnTo>
                        <a:lnTo>
                          <a:pt x="753" y="175"/>
                        </a:lnTo>
                        <a:lnTo>
                          <a:pt x="753" y="169"/>
                        </a:lnTo>
                        <a:lnTo>
                          <a:pt x="751" y="167"/>
                        </a:lnTo>
                        <a:lnTo>
                          <a:pt x="751" y="163"/>
                        </a:lnTo>
                        <a:lnTo>
                          <a:pt x="751" y="162"/>
                        </a:lnTo>
                        <a:lnTo>
                          <a:pt x="750" y="160"/>
                        </a:lnTo>
                        <a:lnTo>
                          <a:pt x="748" y="154"/>
                        </a:lnTo>
                        <a:lnTo>
                          <a:pt x="746" y="148"/>
                        </a:lnTo>
                        <a:lnTo>
                          <a:pt x="744" y="144"/>
                        </a:lnTo>
                        <a:lnTo>
                          <a:pt x="742" y="141"/>
                        </a:lnTo>
                        <a:lnTo>
                          <a:pt x="740" y="135"/>
                        </a:lnTo>
                        <a:lnTo>
                          <a:pt x="738" y="131"/>
                        </a:lnTo>
                        <a:lnTo>
                          <a:pt x="734" y="127"/>
                        </a:lnTo>
                        <a:lnTo>
                          <a:pt x="730" y="124"/>
                        </a:lnTo>
                        <a:lnTo>
                          <a:pt x="727" y="120"/>
                        </a:lnTo>
                        <a:lnTo>
                          <a:pt x="725" y="116"/>
                        </a:lnTo>
                        <a:lnTo>
                          <a:pt x="721" y="112"/>
                        </a:lnTo>
                        <a:lnTo>
                          <a:pt x="717" y="108"/>
                        </a:lnTo>
                        <a:lnTo>
                          <a:pt x="713" y="105"/>
                        </a:lnTo>
                        <a:lnTo>
                          <a:pt x="710" y="103"/>
                        </a:lnTo>
                        <a:lnTo>
                          <a:pt x="704" y="99"/>
                        </a:lnTo>
                        <a:lnTo>
                          <a:pt x="700" y="97"/>
                        </a:lnTo>
                        <a:lnTo>
                          <a:pt x="694" y="95"/>
                        </a:lnTo>
                        <a:lnTo>
                          <a:pt x="691" y="91"/>
                        </a:lnTo>
                        <a:lnTo>
                          <a:pt x="685" y="89"/>
                        </a:lnTo>
                        <a:lnTo>
                          <a:pt x="681" y="87"/>
                        </a:lnTo>
                        <a:lnTo>
                          <a:pt x="675" y="86"/>
                        </a:lnTo>
                        <a:lnTo>
                          <a:pt x="672" y="86"/>
                        </a:lnTo>
                        <a:lnTo>
                          <a:pt x="668" y="84"/>
                        </a:lnTo>
                        <a:lnTo>
                          <a:pt x="666" y="84"/>
                        </a:lnTo>
                        <a:lnTo>
                          <a:pt x="664" y="84"/>
                        </a:lnTo>
                        <a:lnTo>
                          <a:pt x="660" y="84"/>
                        </a:lnTo>
                        <a:lnTo>
                          <a:pt x="658" y="84"/>
                        </a:lnTo>
                        <a:lnTo>
                          <a:pt x="654" y="84"/>
                        </a:lnTo>
                        <a:lnTo>
                          <a:pt x="652" y="84"/>
                        </a:lnTo>
                        <a:lnTo>
                          <a:pt x="651" y="84"/>
                        </a:lnTo>
                        <a:lnTo>
                          <a:pt x="647" y="84"/>
                        </a:lnTo>
                        <a:lnTo>
                          <a:pt x="645" y="84"/>
                        </a:lnTo>
                        <a:lnTo>
                          <a:pt x="643" y="84"/>
                        </a:lnTo>
                        <a:lnTo>
                          <a:pt x="639" y="84"/>
                        </a:lnTo>
                        <a:lnTo>
                          <a:pt x="635" y="84"/>
                        </a:lnTo>
                        <a:lnTo>
                          <a:pt x="630" y="84"/>
                        </a:lnTo>
                        <a:lnTo>
                          <a:pt x="628" y="84"/>
                        </a:lnTo>
                        <a:lnTo>
                          <a:pt x="624" y="86"/>
                        </a:lnTo>
                        <a:lnTo>
                          <a:pt x="622" y="86"/>
                        </a:lnTo>
                        <a:lnTo>
                          <a:pt x="618" y="86"/>
                        </a:lnTo>
                        <a:lnTo>
                          <a:pt x="614" y="87"/>
                        </a:lnTo>
                        <a:lnTo>
                          <a:pt x="609" y="89"/>
                        </a:lnTo>
                        <a:lnTo>
                          <a:pt x="603" y="91"/>
                        </a:lnTo>
                        <a:lnTo>
                          <a:pt x="599" y="95"/>
                        </a:lnTo>
                        <a:lnTo>
                          <a:pt x="595" y="97"/>
                        </a:lnTo>
                        <a:lnTo>
                          <a:pt x="592" y="99"/>
                        </a:lnTo>
                        <a:lnTo>
                          <a:pt x="586" y="103"/>
                        </a:lnTo>
                        <a:lnTo>
                          <a:pt x="582" y="105"/>
                        </a:lnTo>
                        <a:lnTo>
                          <a:pt x="578" y="108"/>
                        </a:lnTo>
                        <a:lnTo>
                          <a:pt x="574" y="112"/>
                        </a:lnTo>
                        <a:lnTo>
                          <a:pt x="571" y="116"/>
                        </a:lnTo>
                        <a:lnTo>
                          <a:pt x="567" y="120"/>
                        </a:lnTo>
                        <a:lnTo>
                          <a:pt x="565" y="124"/>
                        </a:lnTo>
                        <a:lnTo>
                          <a:pt x="563" y="127"/>
                        </a:lnTo>
                        <a:lnTo>
                          <a:pt x="559" y="131"/>
                        </a:lnTo>
                        <a:lnTo>
                          <a:pt x="555" y="135"/>
                        </a:lnTo>
                        <a:lnTo>
                          <a:pt x="554" y="141"/>
                        </a:lnTo>
                        <a:lnTo>
                          <a:pt x="552" y="146"/>
                        </a:lnTo>
                        <a:lnTo>
                          <a:pt x="550" y="150"/>
                        </a:lnTo>
                        <a:lnTo>
                          <a:pt x="548" y="156"/>
                        </a:lnTo>
                        <a:lnTo>
                          <a:pt x="546" y="158"/>
                        </a:lnTo>
                        <a:lnTo>
                          <a:pt x="546" y="160"/>
                        </a:lnTo>
                        <a:lnTo>
                          <a:pt x="544" y="163"/>
                        </a:lnTo>
                        <a:lnTo>
                          <a:pt x="544" y="167"/>
                        </a:lnTo>
                        <a:lnTo>
                          <a:pt x="361" y="1127"/>
                        </a:lnTo>
                        <a:lnTo>
                          <a:pt x="361" y="1127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8" name="AutoShape 246"/>
                <p:cNvSpPr/>
                <p:nvPr/>
              </p:nvSpPr>
              <p:spPr>
                <a:xfrm flipH="1" flipV="1" rot="13645200">
                  <a:off x="4471200" y="2954160"/>
                  <a:ext cx="88560" cy="75960"/>
                </a:xfrm>
                <a:prstGeom prst="hexagon">
                  <a:avLst>
                    <a:gd name="adj" fmla="val 29147"/>
                    <a:gd name="vf" fmla="val 11547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AutoShape 247"/>
                <p:cNvSpPr/>
                <p:nvPr/>
              </p:nvSpPr>
              <p:spPr>
                <a:xfrm flipH="1" flipV="1" rot="13675800">
                  <a:off x="4142160" y="3213000"/>
                  <a:ext cx="193320" cy="5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4308" y="21600"/>
                      </a:lnTo>
                      <a:lnTo>
                        <a:pt x="17292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0" name="Group 439"/>
            <p:cNvGrpSpPr/>
            <p:nvPr/>
          </p:nvGrpSpPr>
          <p:grpSpPr>
            <a:xfrm>
              <a:off x="4699800" y="2407680"/>
              <a:ext cx="349200" cy="279000"/>
              <a:chOff x="4699800" y="2407680"/>
              <a:chExt cx="349200" cy="279000"/>
            </a:xfrm>
          </p:grpSpPr>
          <p:sp>
            <p:nvSpPr>
              <p:cNvPr id="1361" name="AutoShape 440"/>
              <p:cNvSpPr/>
              <p:nvPr/>
            </p:nvSpPr>
            <p:spPr>
              <a:xfrm rot="6442200">
                <a:off x="4821120" y="2361600"/>
                <a:ext cx="127080" cy="304560"/>
              </a:xfrm>
              <a:custGeom>
                <a:avLst/>
                <a:gdLst>
                  <a:gd name="textAreaLeft" fmla="*/ 9000 w 127080"/>
                  <a:gd name="textAreaRight" fmla="*/ 93960 w 127080"/>
                  <a:gd name="textAreaTop" fmla="*/ 95400 h 304560"/>
                  <a:gd name="textAreaBottom" fmla="*/ 20916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788" y="2866"/>
                      <a:pt x="15975" y="5080"/>
                      <a:pt x="15975" y="10800"/>
                    </a:cubicBezTo>
                    <a:cubicBezTo>
                      <a:pt x="15975" y="16520"/>
                      <a:pt x="18788" y="18734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Rectangle 441"/>
              <p:cNvSpPr/>
              <p:nvPr/>
            </p:nvSpPr>
            <p:spPr>
              <a:xfrm rot="1042200">
                <a:off x="4715280" y="2555280"/>
                <a:ext cx="304560" cy="252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Rectangle 442"/>
              <p:cNvSpPr/>
              <p:nvPr/>
            </p:nvSpPr>
            <p:spPr>
              <a:xfrm rot="1042200">
                <a:off x="4705560" y="2585880"/>
                <a:ext cx="304560" cy="25200"/>
              </a:xfrm>
              <a:prstGeom prst="rect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Rectangle 443"/>
              <p:cNvSpPr/>
              <p:nvPr/>
            </p:nvSpPr>
            <p:spPr>
              <a:xfrm rot="1042200">
                <a:off x="4696560" y="2616480"/>
                <a:ext cx="304560" cy="252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5" name="Group 445"/>
          <p:cNvGrpSpPr/>
          <p:nvPr/>
        </p:nvGrpSpPr>
        <p:grpSpPr>
          <a:xfrm>
            <a:off x="3785760" y="2548440"/>
            <a:ext cx="629280" cy="2036880"/>
            <a:chOff x="3785760" y="2548440"/>
            <a:chExt cx="629280" cy="2036880"/>
          </a:xfrm>
        </p:grpSpPr>
        <p:grpSp>
          <p:nvGrpSpPr>
            <p:cNvPr id="1366" name="Group 446"/>
            <p:cNvGrpSpPr/>
            <p:nvPr/>
          </p:nvGrpSpPr>
          <p:grpSpPr>
            <a:xfrm>
              <a:off x="3785760" y="3539520"/>
              <a:ext cx="628920" cy="1045800"/>
              <a:chOff x="3785760" y="3539520"/>
              <a:chExt cx="628920" cy="1045800"/>
            </a:xfrm>
          </p:grpSpPr>
          <p:grpSp>
            <p:nvGrpSpPr>
              <p:cNvPr id="1367" name="Group 447"/>
              <p:cNvGrpSpPr/>
              <p:nvPr/>
            </p:nvGrpSpPr>
            <p:grpSpPr>
              <a:xfrm>
                <a:off x="3785760" y="3559320"/>
                <a:ext cx="628920" cy="1026000"/>
                <a:chOff x="3785760" y="3559320"/>
                <a:chExt cx="628920" cy="1026000"/>
              </a:xfrm>
            </p:grpSpPr>
            <p:grpSp>
              <p:nvGrpSpPr>
                <p:cNvPr id="1368" name="Group 448"/>
                <p:cNvGrpSpPr/>
                <p:nvPr/>
              </p:nvGrpSpPr>
              <p:grpSpPr>
                <a:xfrm>
                  <a:off x="3974400" y="4069800"/>
                  <a:ext cx="440280" cy="515520"/>
                  <a:chOff x="3974400" y="4069800"/>
                  <a:chExt cx="440280" cy="515520"/>
                </a:xfrm>
              </p:grpSpPr>
              <p:sp>
                <p:nvSpPr>
                  <p:cNvPr id="1369" name="AutoShape 449"/>
                  <p:cNvSpPr/>
                  <p:nvPr/>
                </p:nvSpPr>
                <p:spPr>
                  <a:xfrm rot="10800000">
                    <a:off x="3980880" y="4069800"/>
                    <a:ext cx="2444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70" name="Group 450"/>
                  <p:cNvGrpSpPr/>
                  <p:nvPr/>
                </p:nvGrpSpPr>
                <p:grpSpPr>
                  <a:xfrm>
                    <a:off x="3974400" y="4365000"/>
                    <a:ext cx="440280" cy="220320"/>
                    <a:chOff x="3974400" y="4365000"/>
                    <a:chExt cx="440280" cy="220320"/>
                  </a:xfrm>
                </p:grpSpPr>
                <p:grpSp>
                  <p:nvGrpSpPr>
                    <p:cNvPr id="1371" name="Group 451"/>
                    <p:cNvGrpSpPr/>
                    <p:nvPr/>
                  </p:nvGrpSpPr>
                  <p:grpSpPr>
                    <a:xfrm>
                      <a:off x="3974400" y="4460040"/>
                      <a:ext cx="440280" cy="125280"/>
                      <a:chOff x="3974400" y="4460040"/>
                      <a:chExt cx="440280" cy="125280"/>
                    </a:xfrm>
                  </p:grpSpPr>
                  <p:grpSp>
                    <p:nvGrpSpPr>
                      <p:cNvPr id="1372" name="Group 452"/>
                      <p:cNvGrpSpPr/>
                      <p:nvPr/>
                    </p:nvGrpSpPr>
                    <p:grpSpPr>
                      <a:xfrm>
                        <a:off x="3974400" y="4460040"/>
                        <a:ext cx="433080" cy="125280"/>
                        <a:chOff x="3974400" y="4460040"/>
                        <a:chExt cx="433080" cy="125280"/>
                      </a:xfrm>
                    </p:grpSpPr>
                    <p:sp>
                      <p:nvSpPr>
                        <p:cNvPr id="1373" name="Rectangle 453"/>
                        <p:cNvSpPr/>
                        <p:nvPr/>
                      </p:nvSpPr>
                      <p:spPr>
                        <a:xfrm>
                          <a:off x="3974400" y="4461120"/>
                          <a:ext cx="288720" cy="12420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4" name="Freeform 454"/>
                        <p:cNvSpPr/>
                        <p:nvPr/>
                      </p:nvSpPr>
                      <p:spPr>
                        <a:xfrm>
                          <a:off x="4263120" y="446004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75" name=""/>
                      <p:cNvGrpSpPr/>
                      <p:nvPr/>
                    </p:nvGrpSpPr>
                    <p:grpSpPr>
                      <a:xfrm>
                        <a:off x="3974400" y="4557960"/>
                        <a:ext cx="440280" cy="360"/>
                        <a:chOff x="3974400" y="4557960"/>
                        <a:chExt cx="440280" cy="360"/>
                      </a:xfrm>
                    </p:grpSpPr>
                    <p:sp>
                      <p:nvSpPr>
                        <p:cNvPr id="1376" name="Line 455"/>
                        <p:cNvSpPr/>
                        <p:nvPr/>
                      </p:nvSpPr>
                      <p:spPr>
                        <a:xfrm>
                          <a:off x="3974400" y="4557960"/>
                          <a:ext cx="440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7" name=""/>
                        <p:cNvSpPr txBox="1"/>
                        <p:nvPr/>
                      </p:nvSpPr>
                      <p:spPr>
                        <a:xfrm>
                          <a:off x="3974400" y="455796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378" name="Oval 456"/>
                    <p:cNvSpPr/>
                    <p:nvPr/>
                  </p:nvSpPr>
                  <p:spPr>
                    <a:xfrm>
                      <a:off x="4051800" y="4425480"/>
                      <a:ext cx="87840" cy="97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9" name="Freeform 457"/>
                    <p:cNvSpPr/>
                    <p:nvPr/>
                  </p:nvSpPr>
                  <p:spPr>
                    <a:xfrm rot="11352000">
                      <a:off x="4187160" y="437328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10248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80" name="Group 458"/>
                <p:cNvGrpSpPr/>
                <p:nvPr/>
              </p:nvGrpSpPr>
              <p:grpSpPr>
                <a:xfrm>
                  <a:off x="3785760" y="3559320"/>
                  <a:ext cx="440280" cy="515520"/>
                  <a:chOff x="3785760" y="3559320"/>
                  <a:chExt cx="440280" cy="515520"/>
                </a:xfrm>
              </p:grpSpPr>
              <p:sp>
                <p:nvSpPr>
                  <p:cNvPr id="1381" name="AutoShape 459"/>
                  <p:cNvSpPr/>
                  <p:nvPr/>
                </p:nvSpPr>
                <p:spPr>
                  <a:xfrm>
                    <a:off x="3975120" y="3683520"/>
                    <a:ext cx="24444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82" name="Group 460"/>
                  <p:cNvGrpSpPr/>
                  <p:nvPr/>
                </p:nvGrpSpPr>
                <p:grpSpPr>
                  <a:xfrm>
                    <a:off x="3785760" y="3559320"/>
                    <a:ext cx="440280" cy="220320"/>
                    <a:chOff x="3785760" y="3559320"/>
                    <a:chExt cx="440280" cy="220320"/>
                  </a:xfrm>
                </p:grpSpPr>
                <p:grpSp>
                  <p:nvGrpSpPr>
                    <p:cNvPr id="1383" name="Group 461"/>
                    <p:cNvGrpSpPr/>
                    <p:nvPr/>
                  </p:nvGrpSpPr>
                  <p:grpSpPr>
                    <a:xfrm>
                      <a:off x="3785760" y="3559320"/>
                      <a:ext cx="440280" cy="125280"/>
                      <a:chOff x="3785760" y="3559320"/>
                      <a:chExt cx="440280" cy="125280"/>
                    </a:xfrm>
                  </p:grpSpPr>
                  <p:grpSp>
                    <p:nvGrpSpPr>
                      <p:cNvPr id="1384" name="Group 462"/>
                      <p:cNvGrpSpPr/>
                      <p:nvPr/>
                    </p:nvGrpSpPr>
                    <p:grpSpPr>
                      <a:xfrm>
                        <a:off x="3792960" y="3559320"/>
                        <a:ext cx="433080" cy="125280"/>
                        <a:chOff x="3792960" y="3559320"/>
                        <a:chExt cx="433080" cy="125280"/>
                      </a:xfrm>
                    </p:grpSpPr>
                    <p:sp>
                      <p:nvSpPr>
                        <p:cNvPr id="1385" name="Rectangle 463"/>
                        <p:cNvSpPr/>
                        <p:nvPr/>
                      </p:nvSpPr>
                      <p:spPr>
                        <a:xfrm rot="10800000">
                          <a:off x="3937320" y="355932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6" name="Freeform 464"/>
                        <p:cNvSpPr/>
                        <p:nvPr/>
                      </p:nvSpPr>
                      <p:spPr>
                        <a:xfrm rot="10800000">
                          <a:off x="3792960" y="356112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87" name=""/>
                      <p:cNvGrpSpPr/>
                      <p:nvPr/>
                    </p:nvGrpSpPr>
                    <p:grpSpPr>
                      <a:xfrm>
                        <a:off x="3785760" y="3586320"/>
                        <a:ext cx="440280" cy="360"/>
                        <a:chOff x="3785760" y="3586320"/>
                        <a:chExt cx="440280" cy="360"/>
                      </a:xfrm>
                    </p:grpSpPr>
                    <p:sp>
                      <p:nvSpPr>
                        <p:cNvPr id="1388" name="Line 465"/>
                        <p:cNvSpPr/>
                        <p:nvPr/>
                      </p:nvSpPr>
                      <p:spPr>
                        <a:xfrm flipH="1">
                          <a:off x="3785760" y="3586680"/>
                          <a:ext cx="44028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9" name=""/>
                        <p:cNvSpPr txBox="1"/>
                        <p:nvPr/>
                      </p:nvSpPr>
                      <p:spPr>
                        <a:xfrm rot="10800000">
                          <a:off x="3785760" y="358632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390" name="Oval 466"/>
                    <p:cNvSpPr/>
                    <p:nvPr/>
                  </p:nvSpPr>
                  <p:spPr>
                    <a:xfrm rot="10800000">
                      <a:off x="4060800" y="362124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1" name="Freeform 467"/>
                    <p:cNvSpPr/>
                    <p:nvPr/>
                  </p:nvSpPr>
                  <p:spPr>
                    <a:xfrm rot="552000">
                      <a:off x="3894840" y="362448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392" name="Group 468"/>
              <p:cNvGrpSpPr/>
              <p:nvPr/>
            </p:nvGrpSpPr>
            <p:grpSpPr>
              <a:xfrm>
                <a:off x="3960000" y="3539520"/>
                <a:ext cx="284400" cy="627480"/>
                <a:chOff x="3960000" y="3539520"/>
                <a:chExt cx="284400" cy="627480"/>
              </a:xfrm>
            </p:grpSpPr>
            <p:grpSp>
              <p:nvGrpSpPr>
                <p:cNvPr id="1393" name="Group 469"/>
                <p:cNvGrpSpPr/>
                <p:nvPr/>
              </p:nvGrpSpPr>
              <p:grpSpPr>
                <a:xfrm>
                  <a:off x="3960000" y="3539520"/>
                  <a:ext cx="284400" cy="506880"/>
                  <a:chOff x="3960000" y="3539520"/>
                  <a:chExt cx="284400" cy="506880"/>
                </a:xfrm>
              </p:grpSpPr>
              <p:sp>
                <p:nvSpPr>
                  <p:cNvPr id="1394" name="AutoShape 470"/>
                  <p:cNvSpPr/>
                  <p:nvPr/>
                </p:nvSpPr>
                <p:spPr>
                  <a:xfrm>
                    <a:off x="3960000" y="3655080"/>
                    <a:ext cx="28440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" name="Oval 471"/>
                  <p:cNvSpPr/>
                  <p:nvPr/>
                </p:nvSpPr>
                <p:spPr>
                  <a:xfrm>
                    <a:off x="3960000" y="3539520"/>
                    <a:ext cx="279360" cy="24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fffff"/>
                      </a:gs>
                      <a:gs pos="100000">
                        <a:srgbClr val="dddddd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6" name="Oval 472"/>
                <p:cNvSpPr/>
                <p:nvPr/>
              </p:nvSpPr>
              <p:spPr>
                <a:xfrm>
                  <a:off x="3977640" y="3930840"/>
                  <a:ext cx="244440" cy="23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ddddd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7" name="AutoShape 473"/>
              <p:cNvSpPr/>
              <p:nvPr/>
            </p:nvSpPr>
            <p:spPr>
              <a:xfrm>
                <a:off x="4048200" y="4007520"/>
                <a:ext cx="104760" cy="90720"/>
              </a:xfrm>
              <a:prstGeom prst="hexagon">
                <a:avLst>
                  <a:gd name="adj" fmla="val 28869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8" name="Group 474"/>
            <p:cNvGrpSpPr/>
            <p:nvPr/>
          </p:nvGrpSpPr>
          <p:grpSpPr>
            <a:xfrm>
              <a:off x="3786120" y="2548440"/>
              <a:ext cx="628920" cy="1045800"/>
              <a:chOff x="3786120" y="2548440"/>
              <a:chExt cx="628920" cy="1045800"/>
            </a:xfrm>
          </p:grpSpPr>
          <p:grpSp>
            <p:nvGrpSpPr>
              <p:cNvPr id="1399" name="Group 475"/>
              <p:cNvGrpSpPr/>
              <p:nvPr/>
            </p:nvGrpSpPr>
            <p:grpSpPr>
              <a:xfrm>
                <a:off x="3786120" y="2548440"/>
                <a:ext cx="628920" cy="1026000"/>
                <a:chOff x="3786120" y="2548440"/>
                <a:chExt cx="628920" cy="1026000"/>
              </a:xfrm>
            </p:grpSpPr>
            <p:grpSp>
              <p:nvGrpSpPr>
                <p:cNvPr id="1400" name="Group 476"/>
                <p:cNvGrpSpPr/>
                <p:nvPr/>
              </p:nvGrpSpPr>
              <p:grpSpPr>
                <a:xfrm>
                  <a:off x="3786120" y="2548440"/>
                  <a:ext cx="440280" cy="515520"/>
                  <a:chOff x="3786120" y="2548440"/>
                  <a:chExt cx="440280" cy="515520"/>
                </a:xfrm>
              </p:grpSpPr>
              <p:sp>
                <p:nvSpPr>
                  <p:cNvPr id="1401" name="AutoShape 477"/>
                  <p:cNvSpPr/>
                  <p:nvPr/>
                </p:nvSpPr>
                <p:spPr>
                  <a:xfrm>
                    <a:off x="3975480" y="2672280"/>
                    <a:ext cx="24444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02" name="Group 478"/>
                  <p:cNvGrpSpPr/>
                  <p:nvPr/>
                </p:nvGrpSpPr>
                <p:grpSpPr>
                  <a:xfrm>
                    <a:off x="3786120" y="2548440"/>
                    <a:ext cx="440280" cy="220320"/>
                    <a:chOff x="3786120" y="2548440"/>
                    <a:chExt cx="440280" cy="220320"/>
                  </a:xfrm>
                </p:grpSpPr>
                <p:grpSp>
                  <p:nvGrpSpPr>
                    <p:cNvPr id="1403" name="Group 479"/>
                    <p:cNvGrpSpPr/>
                    <p:nvPr/>
                  </p:nvGrpSpPr>
                  <p:grpSpPr>
                    <a:xfrm>
                      <a:off x="3786120" y="2548440"/>
                      <a:ext cx="440280" cy="125280"/>
                      <a:chOff x="3786120" y="2548440"/>
                      <a:chExt cx="440280" cy="125280"/>
                    </a:xfrm>
                  </p:grpSpPr>
                  <p:grpSp>
                    <p:nvGrpSpPr>
                      <p:cNvPr id="1404" name="Group 480"/>
                      <p:cNvGrpSpPr/>
                      <p:nvPr/>
                    </p:nvGrpSpPr>
                    <p:grpSpPr>
                      <a:xfrm>
                        <a:off x="3793320" y="2548440"/>
                        <a:ext cx="433080" cy="125280"/>
                        <a:chOff x="3793320" y="2548440"/>
                        <a:chExt cx="433080" cy="125280"/>
                      </a:xfrm>
                    </p:grpSpPr>
                    <p:sp>
                      <p:nvSpPr>
                        <p:cNvPr id="1405" name="Rectangle 481"/>
                        <p:cNvSpPr/>
                        <p:nvPr/>
                      </p:nvSpPr>
                      <p:spPr>
                        <a:xfrm rot="10800000">
                          <a:off x="3937680" y="254844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06" name="Freeform 482"/>
                        <p:cNvSpPr/>
                        <p:nvPr/>
                      </p:nvSpPr>
                      <p:spPr>
                        <a:xfrm rot="10800000">
                          <a:off x="3793320" y="255024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07" name=""/>
                      <p:cNvGrpSpPr/>
                      <p:nvPr/>
                    </p:nvGrpSpPr>
                    <p:grpSpPr>
                      <a:xfrm>
                        <a:off x="3786120" y="2575440"/>
                        <a:ext cx="440280" cy="360"/>
                        <a:chOff x="3786120" y="2575440"/>
                        <a:chExt cx="440280" cy="360"/>
                      </a:xfrm>
                    </p:grpSpPr>
                    <p:sp>
                      <p:nvSpPr>
                        <p:cNvPr id="1408" name="Line 483"/>
                        <p:cNvSpPr/>
                        <p:nvPr/>
                      </p:nvSpPr>
                      <p:spPr>
                        <a:xfrm flipH="1">
                          <a:off x="3786120" y="2575800"/>
                          <a:ext cx="44028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09" name=""/>
                        <p:cNvSpPr txBox="1"/>
                        <p:nvPr/>
                      </p:nvSpPr>
                      <p:spPr>
                        <a:xfrm rot="10800000">
                          <a:off x="3786120" y="257544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410" name="Oval 484"/>
                    <p:cNvSpPr/>
                    <p:nvPr/>
                  </p:nvSpPr>
                  <p:spPr>
                    <a:xfrm rot="10800000">
                      <a:off x="4061160" y="261036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1" name="Freeform 485"/>
                    <p:cNvSpPr/>
                    <p:nvPr/>
                  </p:nvSpPr>
                  <p:spPr>
                    <a:xfrm rot="552000">
                      <a:off x="3895200" y="261360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12" name="Group 486"/>
                <p:cNvGrpSpPr/>
                <p:nvPr/>
              </p:nvGrpSpPr>
              <p:grpSpPr>
                <a:xfrm>
                  <a:off x="3974760" y="3058920"/>
                  <a:ext cx="440280" cy="515520"/>
                  <a:chOff x="3974760" y="3058920"/>
                  <a:chExt cx="440280" cy="515520"/>
                </a:xfrm>
              </p:grpSpPr>
              <p:sp>
                <p:nvSpPr>
                  <p:cNvPr id="1413" name="AutoShape 487"/>
                  <p:cNvSpPr/>
                  <p:nvPr/>
                </p:nvSpPr>
                <p:spPr>
                  <a:xfrm rot="10800000">
                    <a:off x="3981240" y="3058920"/>
                    <a:ext cx="24444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14" name="Group 488"/>
                  <p:cNvGrpSpPr/>
                  <p:nvPr/>
                </p:nvGrpSpPr>
                <p:grpSpPr>
                  <a:xfrm>
                    <a:off x="3974760" y="3354120"/>
                    <a:ext cx="440280" cy="220320"/>
                    <a:chOff x="3974760" y="3354120"/>
                    <a:chExt cx="440280" cy="220320"/>
                  </a:xfrm>
                </p:grpSpPr>
                <p:grpSp>
                  <p:nvGrpSpPr>
                    <p:cNvPr id="1415" name="Group 489"/>
                    <p:cNvGrpSpPr/>
                    <p:nvPr/>
                  </p:nvGrpSpPr>
                  <p:grpSpPr>
                    <a:xfrm>
                      <a:off x="3974760" y="3449160"/>
                      <a:ext cx="440280" cy="125280"/>
                      <a:chOff x="3974760" y="3449160"/>
                      <a:chExt cx="440280" cy="125280"/>
                    </a:xfrm>
                  </p:grpSpPr>
                  <p:grpSp>
                    <p:nvGrpSpPr>
                      <p:cNvPr id="1416" name="Group 490"/>
                      <p:cNvGrpSpPr/>
                      <p:nvPr/>
                    </p:nvGrpSpPr>
                    <p:grpSpPr>
                      <a:xfrm>
                        <a:off x="3974760" y="3449160"/>
                        <a:ext cx="433080" cy="125280"/>
                        <a:chOff x="3974760" y="3449160"/>
                        <a:chExt cx="433080" cy="125280"/>
                      </a:xfrm>
                    </p:grpSpPr>
                    <p:sp>
                      <p:nvSpPr>
                        <p:cNvPr id="1417" name="Rectangle 491"/>
                        <p:cNvSpPr/>
                        <p:nvPr/>
                      </p:nvSpPr>
                      <p:spPr>
                        <a:xfrm>
                          <a:off x="3974760" y="3450240"/>
                          <a:ext cx="288720" cy="124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8" name="Freeform 492"/>
                        <p:cNvSpPr/>
                        <p:nvPr/>
                      </p:nvSpPr>
                      <p:spPr>
                        <a:xfrm>
                          <a:off x="4263480" y="3449160"/>
                          <a:ext cx="144360" cy="12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19" name=""/>
                      <p:cNvGrpSpPr/>
                      <p:nvPr/>
                    </p:nvGrpSpPr>
                    <p:grpSpPr>
                      <a:xfrm>
                        <a:off x="3974760" y="3547080"/>
                        <a:ext cx="440280" cy="360"/>
                        <a:chOff x="3974760" y="3547080"/>
                        <a:chExt cx="440280" cy="360"/>
                      </a:xfrm>
                    </p:grpSpPr>
                    <p:sp>
                      <p:nvSpPr>
                        <p:cNvPr id="1420" name="Line 493"/>
                        <p:cNvSpPr/>
                        <p:nvPr/>
                      </p:nvSpPr>
                      <p:spPr>
                        <a:xfrm>
                          <a:off x="3974760" y="3547080"/>
                          <a:ext cx="44028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21" name=""/>
                        <p:cNvSpPr txBox="1"/>
                        <p:nvPr/>
                      </p:nvSpPr>
                      <p:spPr>
                        <a:xfrm>
                          <a:off x="3974760" y="3547080"/>
                          <a:ext cx="4402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422" name="Oval 494"/>
                    <p:cNvSpPr/>
                    <p:nvPr/>
                  </p:nvSpPr>
                  <p:spPr>
                    <a:xfrm>
                      <a:off x="4052160" y="3414600"/>
                      <a:ext cx="87840" cy="979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040" bIns="230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3" name="Freeform 495"/>
                    <p:cNvSpPr/>
                    <p:nvPr/>
                  </p:nvSpPr>
                  <p:spPr>
                    <a:xfrm rot="11352600">
                      <a:off x="4187520" y="3362400"/>
                      <a:ext cx="11808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24" name="Group 496"/>
              <p:cNvGrpSpPr/>
              <p:nvPr/>
            </p:nvGrpSpPr>
            <p:grpSpPr>
              <a:xfrm>
                <a:off x="3956400" y="2966760"/>
                <a:ext cx="284400" cy="627480"/>
                <a:chOff x="3956400" y="2966760"/>
                <a:chExt cx="284400" cy="627480"/>
              </a:xfrm>
            </p:grpSpPr>
            <p:grpSp>
              <p:nvGrpSpPr>
                <p:cNvPr id="1425" name="Group 497"/>
                <p:cNvGrpSpPr/>
                <p:nvPr/>
              </p:nvGrpSpPr>
              <p:grpSpPr>
                <a:xfrm>
                  <a:off x="3956400" y="3087360"/>
                  <a:ext cx="284400" cy="506880"/>
                  <a:chOff x="3956400" y="3087360"/>
                  <a:chExt cx="284400" cy="506880"/>
                </a:xfrm>
              </p:grpSpPr>
              <p:sp>
                <p:nvSpPr>
                  <p:cNvPr id="1426" name="AutoShape 498"/>
                  <p:cNvSpPr/>
                  <p:nvPr/>
                </p:nvSpPr>
                <p:spPr>
                  <a:xfrm rot="10800000">
                    <a:off x="3956400" y="3087360"/>
                    <a:ext cx="28440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7" name="Oval 499"/>
                  <p:cNvSpPr/>
                  <p:nvPr/>
                </p:nvSpPr>
                <p:spPr>
                  <a:xfrm rot="10800000">
                    <a:off x="3961440" y="3354120"/>
                    <a:ext cx="279360" cy="2401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8" name="Oval 500"/>
                <p:cNvSpPr/>
                <p:nvPr/>
              </p:nvSpPr>
              <p:spPr>
                <a:xfrm rot="10800000">
                  <a:off x="3978720" y="2966760"/>
                  <a:ext cx="244440" cy="236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AutoShape 501"/>
              <p:cNvSpPr/>
              <p:nvPr/>
            </p:nvSpPr>
            <p:spPr>
              <a:xfrm rot="10800000">
                <a:off x="4047840" y="3035520"/>
                <a:ext cx="104760" cy="90720"/>
              </a:xfrm>
              <a:prstGeom prst="hexagon">
                <a:avLst>
                  <a:gd name="adj" fmla="val 28869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0" name="AutoShape 502"/>
          <p:cNvSpPr/>
          <p:nvPr/>
        </p:nvSpPr>
        <p:spPr>
          <a:xfrm rot="471600">
            <a:off x="3633480" y="2542680"/>
            <a:ext cx="152280" cy="533520"/>
          </a:xfrm>
          <a:custGeom>
            <a:avLst/>
            <a:gdLst>
              <a:gd name="textAreaLeft" fmla="*/ 44640 w 152280"/>
              <a:gd name="textAreaRight" fmla="*/ 152640 w 15228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1" name="Group 503"/>
          <p:cNvGrpSpPr/>
          <p:nvPr/>
        </p:nvGrpSpPr>
        <p:grpSpPr>
          <a:xfrm>
            <a:off x="3757320" y="2157480"/>
            <a:ext cx="707040" cy="1566720"/>
            <a:chOff x="3757320" y="2157480"/>
            <a:chExt cx="707040" cy="1566720"/>
          </a:xfrm>
        </p:grpSpPr>
        <p:sp>
          <p:nvSpPr>
            <p:cNvPr id="1432" name="Oval 504"/>
            <p:cNvSpPr/>
            <p:nvPr/>
          </p:nvSpPr>
          <p:spPr>
            <a:xfrm rot="385800">
              <a:off x="3786120" y="3147120"/>
              <a:ext cx="569520" cy="5464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21216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Oval 505"/>
            <p:cNvSpPr/>
            <p:nvPr/>
          </p:nvSpPr>
          <p:spPr>
            <a:xfrm rot="385800">
              <a:off x="4427280" y="2653920"/>
              <a:ext cx="32760" cy="49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Oval 506"/>
            <p:cNvSpPr/>
            <p:nvPr/>
          </p:nvSpPr>
          <p:spPr>
            <a:xfrm rot="385800">
              <a:off x="4398840" y="2951280"/>
              <a:ext cx="32760" cy="4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Oval 507"/>
            <p:cNvSpPr/>
            <p:nvPr/>
          </p:nvSpPr>
          <p:spPr>
            <a:xfrm rot="385800">
              <a:off x="4365720" y="3246840"/>
              <a:ext cx="32760" cy="49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AutoShape 508"/>
            <p:cNvSpPr/>
            <p:nvPr/>
          </p:nvSpPr>
          <p:spPr>
            <a:xfrm rot="385800">
              <a:off x="3816720" y="2491920"/>
              <a:ext cx="591840" cy="1021320"/>
            </a:xfrm>
            <a:prstGeom prst="can">
              <a:avLst>
                <a:gd name="adj" fmla="val 2652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21216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Rectangle 509"/>
            <p:cNvSpPr/>
            <p:nvPr/>
          </p:nvSpPr>
          <p:spPr>
            <a:xfrm rot="385800">
              <a:off x="4105080" y="2411640"/>
              <a:ext cx="149040" cy="986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21216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Group 510"/>
            <p:cNvGrpSpPr/>
            <p:nvPr/>
          </p:nvGrpSpPr>
          <p:grpSpPr>
            <a:xfrm>
              <a:off x="4007520" y="2157480"/>
              <a:ext cx="285480" cy="690480"/>
              <a:chOff x="4007520" y="2157480"/>
              <a:chExt cx="285480" cy="690480"/>
            </a:xfrm>
          </p:grpSpPr>
          <p:sp>
            <p:nvSpPr>
              <p:cNvPr id="1439" name="AutoShape 511"/>
              <p:cNvSpPr/>
              <p:nvPr/>
            </p:nvSpPr>
            <p:spPr>
              <a:xfrm rot="11007600">
                <a:off x="4072320" y="2162880"/>
                <a:ext cx="199800" cy="545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556" y="21600"/>
                    </a:lnTo>
                    <a:lnTo>
                      <a:pt x="20044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AutoShape 512"/>
              <p:cNvSpPr/>
              <p:nvPr/>
            </p:nvSpPr>
            <p:spPr>
              <a:xfrm rot="16585800">
                <a:off x="4043520" y="2595600"/>
                <a:ext cx="213120" cy="263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934" y="2201"/>
                      <a:pt x="12267" y="5080"/>
                      <a:pt x="12267" y="10800"/>
                    </a:cubicBezTo>
                    <a:cubicBezTo>
                      <a:pt x="12267" y="16520"/>
                      <a:pt x="16934" y="1939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41" name="AutoShape 513"/>
          <p:cNvSpPr/>
          <p:nvPr/>
        </p:nvSpPr>
        <p:spPr>
          <a:xfrm rot="447600">
            <a:off x="3710160" y="2514240"/>
            <a:ext cx="161640" cy="527040"/>
          </a:xfrm>
          <a:custGeom>
            <a:avLst/>
            <a:gdLst>
              <a:gd name="textAreaLeft" fmla="*/ 7560 w 161640"/>
              <a:gd name="textAreaRight" fmla="*/ 154080 w 161640"/>
              <a:gd name="textAreaTop" fmla="*/ 7560 h 527040"/>
              <a:gd name="textAreaBottom" fmla="*/ 519480 h 527040"/>
            </a:gdLst>
            <a:ahLst/>
            <a:rect l="textAreaLeft" t="textAreaTop" r="textAreaRight" b="textAreaBottom"/>
            <a:pathLst>
              <a:path w="21600" h="70320">
                <a:moveTo>
                  <a:pt x="3600" y="0"/>
                </a:moveTo>
                <a:arcTo wR="3600" hR="3600" stAng="16200000" swAng="-5400000"/>
                <a:lnTo>
                  <a:pt x="0" y="66720"/>
                </a:lnTo>
                <a:arcTo wR="3600" hR="3600" stAng="10800000" swAng="-5400000"/>
                <a:lnTo>
                  <a:pt x="18000" y="703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2115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2" name="Group 514"/>
          <p:cNvGrpSpPr/>
          <p:nvPr/>
        </p:nvGrpSpPr>
        <p:grpSpPr>
          <a:xfrm>
            <a:off x="3710160" y="2500560"/>
            <a:ext cx="653760" cy="2116800"/>
            <a:chOff x="3710160" y="2500560"/>
            <a:chExt cx="653760" cy="2116800"/>
          </a:xfrm>
        </p:grpSpPr>
        <p:grpSp>
          <p:nvGrpSpPr>
            <p:cNvPr id="1443" name="Group 515"/>
            <p:cNvGrpSpPr/>
            <p:nvPr/>
          </p:nvGrpSpPr>
          <p:grpSpPr>
            <a:xfrm>
              <a:off x="3710160" y="3530520"/>
              <a:ext cx="653760" cy="1086840"/>
              <a:chOff x="3710160" y="3530520"/>
              <a:chExt cx="653760" cy="1086840"/>
            </a:xfrm>
          </p:grpSpPr>
          <p:grpSp>
            <p:nvGrpSpPr>
              <p:cNvPr id="1444" name="Group 516"/>
              <p:cNvGrpSpPr/>
              <p:nvPr/>
            </p:nvGrpSpPr>
            <p:grpSpPr>
              <a:xfrm>
                <a:off x="3710160" y="3550680"/>
                <a:ext cx="653760" cy="1066680"/>
                <a:chOff x="3710160" y="3550680"/>
                <a:chExt cx="653760" cy="1066680"/>
              </a:xfrm>
            </p:grpSpPr>
            <p:grpSp>
              <p:nvGrpSpPr>
                <p:cNvPr id="1445" name="Group 517"/>
                <p:cNvGrpSpPr/>
                <p:nvPr/>
              </p:nvGrpSpPr>
              <p:grpSpPr>
                <a:xfrm>
                  <a:off x="3906000" y="4080960"/>
                  <a:ext cx="457920" cy="536400"/>
                  <a:chOff x="3906000" y="4080960"/>
                  <a:chExt cx="457920" cy="536400"/>
                </a:xfrm>
              </p:grpSpPr>
              <p:sp>
                <p:nvSpPr>
                  <p:cNvPr id="1446" name="AutoShape 518"/>
                  <p:cNvSpPr/>
                  <p:nvPr/>
                </p:nvSpPr>
                <p:spPr>
                  <a:xfrm rot="10800000">
                    <a:off x="3913200" y="4080960"/>
                    <a:ext cx="254160" cy="40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47" name="Group 519"/>
                  <p:cNvGrpSpPr/>
                  <p:nvPr/>
                </p:nvGrpSpPr>
                <p:grpSpPr>
                  <a:xfrm>
                    <a:off x="3906000" y="4387680"/>
                    <a:ext cx="457920" cy="229680"/>
                    <a:chOff x="3906000" y="4387680"/>
                    <a:chExt cx="457920" cy="229680"/>
                  </a:xfrm>
                </p:grpSpPr>
                <p:grpSp>
                  <p:nvGrpSpPr>
                    <p:cNvPr id="1448" name="Group 520"/>
                    <p:cNvGrpSpPr/>
                    <p:nvPr/>
                  </p:nvGrpSpPr>
                  <p:grpSpPr>
                    <a:xfrm>
                      <a:off x="3906000" y="4487040"/>
                      <a:ext cx="457920" cy="130320"/>
                      <a:chOff x="3906000" y="4487040"/>
                      <a:chExt cx="457920" cy="130320"/>
                    </a:xfrm>
                  </p:grpSpPr>
                  <p:grpSp>
                    <p:nvGrpSpPr>
                      <p:cNvPr id="1449" name="Group 521"/>
                      <p:cNvGrpSpPr/>
                      <p:nvPr/>
                    </p:nvGrpSpPr>
                    <p:grpSpPr>
                      <a:xfrm>
                        <a:off x="3906000" y="4487040"/>
                        <a:ext cx="450360" cy="130320"/>
                        <a:chOff x="3906000" y="4487040"/>
                        <a:chExt cx="450360" cy="130320"/>
                      </a:xfrm>
                    </p:grpSpPr>
                    <p:sp>
                      <p:nvSpPr>
                        <p:cNvPr id="1450" name="Rectangle 522"/>
                        <p:cNvSpPr/>
                        <p:nvPr/>
                      </p:nvSpPr>
                      <p:spPr>
                        <a:xfrm>
                          <a:off x="3906000" y="4488120"/>
                          <a:ext cx="300240" cy="1292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1" name="Freeform 523"/>
                        <p:cNvSpPr/>
                        <p:nvPr/>
                      </p:nvSpPr>
                      <p:spPr>
                        <a:xfrm>
                          <a:off x="4206240" y="448704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ffff"/>
                            </a:gs>
                            <a:gs pos="50000">
                              <a:srgbClr val="dddddd"/>
                            </a:gs>
                            <a:gs pos="100000">
                              <a:srgbClr val="ffffff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52" name=""/>
                      <p:cNvGrpSpPr/>
                      <p:nvPr/>
                    </p:nvGrpSpPr>
                    <p:grpSpPr>
                      <a:xfrm>
                        <a:off x="3906000" y="4588560"/>
                        <a:ext cx="457920" cy="360"/>
                        <a:chOff x="3906000" y="4588560"/>
                        <a:chExt cx="457920" cy="360"/>
                      </a:xfrm>
                    </p:grpSpPr>
                    <p:sp>
                      <p:nvSpPr>
                        <p:cNvPr id="1453" name="Line 524"/>
                        <p:cNvSpPr/>
                        <p:nvPr/>
                      </p:nvSpPr>
                      <p:spPr>
                        <a:xfrm>
                          <a:off x="3906000" y="4588560"/>
                          <a:ext cx="4579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4" name=""/>
                        <p:cNvSpPr txBox="1"/>
                        <p:nvPr/>
                      </p:nvSpPr>
                      <p:spPr>
                        <a:xfrm>
                          <a:off x="3906000" y="458856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455" name="Oval 525"/>
                    <p:cNvSpPr/>
                    <p:nvPr/>
                  </p:nvSpPr>
                  <p:spPr>
                    <a:xfrm>
                      <a:off x="3986280" y="4451040"/>
                      <a:ext cx="91080" cy="101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6" name="Freeform 526"/>
                    <p:cNvSpPr/>
                    <p:nvPr/>
                  </p:nvSpPr>
                  <p:spPr>
                    <a:xfrm rot="11352000">
                      <a:off x="4127040" y="439632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aeaea"/>
                        </a:gs>
                      </a:gsLst>
                      <a:lin ang="10248000"/>
                    </a:gradFill>
                    <a:ln w="93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57" name="Group 527"/>
                <p:cNvGrpSpPr/>
                <p:nvPr/>
              </p:nvGrpSpPr>
              <p:grpSpPr>
                <a:xfrm>
                  <a:off x="3710160" y="3550680"/>
                  <a:ext cx="457920" cy="535680"/>
                  <a:chOff x="3710160" y="3550680"/>
                  <a:chExt cx="457920" cy="535680"/>
                </a:xfrm>
              </p:grpSpPr>
              <p:sp>
                <p:nvSpPr>
                  <p:cNvPr id="1458" name="AutoShape 528"/>
                  <p:cNvSpPr/>
                  <p:nvPr/>
                </p:nvSpPr>
                <p:spPr>
                  <a:xfrm>
                    <a:off x="3906720" y="367956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59" name="Group 529"/>
                  <p:cNvGrpSpPr/>
                  <p:nvPr/>
                </p:nvGrpSpPr>
                <p:grpSpPr>
                  <a:xfrm>
                    <a:off x="3710160" y="3550680"/>
                    <a:ext cx="457920" cy="229680"/>
                    <a:chOff x="3710160" y="3550680"/>
                    <a:chExt cx="457920" cy="229680"/>
                  </a:xfrm>
                </p:grpSpPr>
                <p:grpSp>
                  <p:nvGrpSpPr>
                    <p:cNvPr id="1460" name="Group 530"/>
                    <p:cNvGrpSpPr/>
                    <p:nvPr/>
                  </p:nvGrpSpPr>
                  <p:grpSpPr>
                    <a:xfrm>
                      <a:off x="3710160" y="3550680"/>
                      <a:ext cx="457920" cy="130320"/>
                      <a:chOff x="3710160" y="3550680"/>
                      <a:chExt cx="457920" cy="130320"/>
                    </a:xfrm>
                  </p:grpSpPr>
                  <p:grpSp>
                    <p:nvGrpSpPr>
                      <p:cNvPr id="1461" name="Group 531"/>
                      <p:cNvGrpSpPr/>
                      <p:nvPr/>
                    </p:nvGrpSpPr>
                    <p:grpSpPr>
                      <a:xfrm>
                        <a:off x="3717720" y="3550680"/>
                        <a:ext cx="450360" cy="130320"/>
                        <a:chOff x="3717720" y="3550680"/>
                        <a:chExt cx="450360" cy="130320"/>
                      </a:xfrm>
                    </p:grpSpPr>
                    <p:sp>
                      <p:nvSpPr>
                        <p:cNvPr id="1462" name="Rectangle 532"/>
                        <p:cNvSpPr/>
                        <p:nvPr/>
                      </p:nvSpPr>
                      <p:spPr>
                        <a:xfrm rot="10800000">
                          <a:off x="3867840" y="355068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3" name="Freeform 533"/>
                        <p:cNvSpPr/>
                        <p:nvPr/>
                      </p:nvSpPr>
                      <p:spPr>
                        <a:xfrm rot="10800000">
                          <a:off x="3717720" y="355248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64" name=""/>
                      <p:cNvGrpSpPr/>
                      <p:nvPr/>
                    </p:nvGrpSpPr>
                    <p:grpSpPr>
                      <a:xfrm>
                        <a:off x="3710160" y="3579120"/>
                        <a:ext cx="457920" cy="360"/>
                        <a:chOff x="3710160" y="3579120"/>
                        <a:chExt cx="457920" cy="360"/>
                      </a:xfrm>
                    </p:grpSpPr>
                    <p:sp>
                      <p:nvSpPr>
                        <p:cNvPr id="1465" name="Line 534"/>
                        <p:cNvSpPr/>
                        <p:nvPr/>
                      </p:nvSpPr>
                      <p:spPr>
                        <a:xfrm flipH="1">
                          <a:off x="3710160" y="3579480"/>
                          <a:ext cx="45792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6" name=""/>
                        <p:cNvSpPr txBox="1"/>
                        <p:nvPr/>
                      </p:nvSpPr>
                      <p:spPr>
                        <a:xfrm rot="10800000">
                          <a:off x="3710160" y="357912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467" name="Oval 535"/>
                    <p:cNvSpPr/>
                    <p:nvPr/>
                  </p:nvSpPr>
                  <p:spPr>
                    <a:xfrm rot="10800000">
                      <a:off x="3996720" y="361548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8" name="Freeform 536"/>
                    <p:cNvSpPr/>
                    <p:nvPr/>
                  </p:nvSpPr>
                  <p:spPr>
                    <a:xfrm rot="552000">
                      <a:off x="3823920" y="361908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69" name="Group 537"/>
              <p:cNvGrpSpPr/>
              <p:nvPr/>
            </p:nvGrpSpPr>
            <p:grpSpPr>
              <a:xfrm>
                <a:off x="3890880" y="3530520"/>
                <a:ext cx="295920" cy="652320"/>
                <a:chOff x="3890880" y="3530520"/>
                <a:chExt cx="295920" cy="652320"/>
              </a:xfrm>
            </p:grpSpPr>
            <p:grpSp>
              <p:nvGrpSpPr>
                <p:cNvPr id="1470" name="Group 538"/>
                <p:cNvGrpSpPr/>
                <p:nvPr/>
              </p:nvGrpSpPr>
              <p:grpSpPr>
                <a:xfrm>
                  <a:off x="3890880" y="3530520"/>
                  <a:ext cx="295920" cy="527040"/>
                  <a:chOff x="3890880" y="3530520"/>
                  <a:chExt cx="295920" cy="527040"/>
                </a:xfrm>
              </p:grpSpPr>
              <p:sp>
                <p:nvSpPr>
                  <p:cNvPr id="1471" name="AutoShape 539"/>
                  <p:cNvSpPr/>
                  <p:nvPr/>
                </p:nvSpPr>
                <p:spPr>
                  <a:xfrm>
                    <a:off x="3890880" y="3650760"/>
                    <a:ext cx="29592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2" name="Oval 540"/>
                  <p:cNvSpPr/>
                  <p:nvPr/>
                </p:nvSpPr>
                <p:spPr>
                  <a:xfrm>
                    <a:off x="3890880" y="3530520"/>
                    <a:ext cx="290520" cy="249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73" name="Oval 541"/>
                <p:cNvSpPr/>
                <p:nvPr/>
              </p:nvSpPr>
              <p:spPr>
                <a:xfrm>
                  <a:off x="3909240" y="3937320"/>
                  <a:ext cx="254160" cy="24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4" name="AutoShape 542"/>
              <p:cNvSpPr/>
              <p:nvPr/>
            </p:nvSpPr>
            <p:spPr>
              <a:xfrm>
                <a:off x="3983040" y="4016880"/>
                <a:ext cx="108720" cy="94320"/>
              </a:xfrm>
              <a:prstGeom prst="hexagon">
                <a:avLst>
                  <a:gd name="adj" fmla="val 28817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5" name="Group 543"/>
            <p:cNvGrpSpPr/>
            <p:nvPr/>
          </p:nvGrpSpPr>
          <p:grpSpPr>
            <a:xfrm>
              <a:off x="3710160" y="2500560"/>
              <a:ext cx="653760" cy="1086840"/>
              <a:chOff x="3710160" y="2500560"/>
              <a:chExt cx="653760" cy="1086840"/>
            </a:xfrm>
          </p:grpSpPr>
          <p:grpSp>
            <p:nvGrpSpPr>
              <p:cNvPr id="1476" name="Group 544"/>
              <p:cNvGrpSpPr/>
              <p:nvPr/>
            </p:nvGrpSpPr>
            <p:grpSpPr>
              <a:xfrm>
                <a:off x="3710160" y="2500560"/>
                <a:ext cx="653760" cy="1066680"/>
                <a:chOff x="3710160" y="2500560"/>
                <a:chExt cx="653760" cy="1066680"/>
              </a:xfrm>
            </p:grpSpPr>
            <p:grpSp>
              <p:nvGrpSpPr>
                <p:cNvPr id="1477" name="Group 545"/>
                <p:cNvGrpSpPr/>
                <p:nvPr/>
              </p:nvGrpSpPr>
              <p:grpSpPr>
                <a:xfrm>
                  <a:off x="3710160" y="2500560"/>
                  <a:ext cx="457920" cy="536400"/>
                  <a:chOff x="3710160" y="2500560"/>
                  <a:chExt cx="457920" cy="536400"/>
                </a:xfrm>
              </p:grpSpPr>
              <p:sp>
                <p:nvSpPr>
                  <p:cNvPr id="1478" name="AutoShape 546"/>
                  <p:cNvSpPr/>
                  <p:nvPr/>
                </p:nvSpPr>
                <p:spPr>
                  <a:xfrm>
                    <a:off x="3906720" y="2629800"/>
                    <a:ext cx="254160" cy="40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79" name="Group 547"/>
                  <p:cNvGrpSpPr/>
                  <p:nvPr/>
                </p:nvGrpSpPr>
                <p:grpSpPr>
                  <a:xfrm>
                    <a:off x="3710160" y="2500560"/>
                    <a:ext cx="457920" cy="229680"/>
                    <a:chOff x="3710160" y="2500560"/>
                    <a:chExt cx="457920" cy="229680"/>
                  </a:xfrm>
                </p:grpSpPr>
                <p:grpSp>
                  <p:nvGrpSpPr>
                    <p:cNvPr id="1480" name="Group 548"/>
                    <p:cNvGrpSpPr/>
                    <p:nvPr/>
                  </p:nvGrpSpPr>
                  <p:grpSpPr>
                    <a:xfrm>
                      <a:off x="3710160" y="2500560"/>
                      <a:ext cx="457920" cy="130320"/>
                      <a:chOff x="3710160" y="2500560"/>
                      <a:chExt cx="457920" cy="130320"/>
                    </a:xfrm>
                  </p:grpSpPr>
                  <p:grpSp>
                    <p:nvGrpSpPr>
                      <p:cNvPr id="1481" name="Group 549"/>
                      <p:cNvGrpSpPr/>
                      <p:nvPr/>
                    </p:nvGrpSpPr>
                    <p:grpSpPr>
                      <a:xfrm>
                        <a:off x="3717720" y="2500560"/>
                        <a:ext cx="450360" cy="130320"/>
                        <a:chOff x="3717720" y="2500560"/>
                        <a:chExt cx="450360" cy="130320"/>
                      </a:xfrm>
                    </p:grpSpPr>
                    <p:sp>
                      <p:nvSpPr>
                        <p:cNvPr id="1482" name="Rectangle 550"/>
                        <p:cNvSpPr/>
                        <p:nvPr/>
                      </p:nvSpPr>
                      <p:spPr>
                        <a:xfrm rot="10800000">
                          <a:off x="3867840" y="250056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3" name="Freeform 551"/>
                        <p:cNvSpPr/>
                        <p:nvPr/>
                      </p:nvSpPr>
                      <p:spPr>
                        <a:xfrm rot="10800000">
                          <a:off x="3717720" y="250236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84" name=""/>
                      <p:cNvGrpSpPr/>
                      <p:nvPr/>
                    </p:nvGrpSpPr>
                    <p:grpSpPr>
                      <a:xfrm>
                        <a:off x="3710160" y="2529000"/>
                        <a:ext cx="457920" cy="360"/>
                        <a:chOff x="3710160" y="2529000"/>
                        <a:chExt cx="457920" cy="360"/>
                      </a:xfrm>
                    </p:grpSpPr>
                    <p:sp>
                      <p:nvSpPr>
                        <p:cNvPr id="1485" name="Line 552"/>
                        <p:cNvSpPr/>
                        <p:nvPr/>
                      </p:nvSpPr>
                      <p:spPr>
                        <a:xfrm flipH="1">
                          <a:off x="3710160" y="2529360"/>
                          <a:ext cx="45792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6" name=""/>
                        <p:cNvSpPr txBox="1"/>
                        <p:nvPr/>
                      </p:nvSpPr>
                      <p:spPr>
                        <a:xfrm rot="10800000">
                          <a:off x="3710160" y="252900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487" name="Oval 553"/>
                    <p:cNvSpPr/>
                    <p:nvPr/>
                  </p:nvSpPr>
                  <p:spPr>
                    <a:xfrm rot="10800000">
                      <a:off x="3996720" y="256536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8" name="Freeform 554"/>
                    <p:cNvSpPr/>
                    <p:nvPr/>
                  </p:nvSpPr>
                  <p:spPr>
                    <a:xfrm rot="552000">
                      <a:off x="3823920" y="256896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89" name="Group 555"/>
                <p:cNvGrpSpPr/>
                <p:nvPr/>
              </p:nvGrpSpPr>
              <p:grpSpPr>
                <a:xfrm>
                  <a:off x="3906000" y="3031560"/>
                  <a:ext cx="457920" cy="535680"/>
                  <a:chOff x="3906000" y="3031560"/>
                  <a:chExt cx="457920" cy="535680"/>
                </a:xfrm>
              </p:grpSpPr>
              <p:sp>
                <p:nvSpPr>
                  <p:cNvPr id="1490" name="AutoShape 556"/>
                  <p:cNvSpPr/>
                  <p:nvPr/>
                </p:nvSpPr>
                <p:spPr>
                  <a:xfrm rot="10800000">
                    <a:off x="3913200" y="3031560"/>
                    <a:ext cx="25416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91" name="Group 557"/>
                  <p:cNvGrpSpPr/>
                  <p:nvPr/>
                </p:nvGrpSpPr>
                <p:grpSpPr>
                  <a:xfrm>
                    <a:off x="3906000" y="3337560"/>
                    <a:ext cx="457920" cy="229680"/>
                    <a:chOff x="3906000" y="3337560"/>
                    <a:chExt cx="457920" cy="229680"/>
                  </a:xfrm>
                </p:grpSpPr>
                <p:grpSp>
                  <p:nvGrpSpPr>
                    <p:cNvPr id="1492" name="Group 558"/>
                    <p:cNvGrpSpPr/>
                    <p:nvPr/>
                  </p:nvGrpSpPr>
                  <p:grpSpPr>
                    <a:xfrm>
                      <a:off x="3906000" y="3436920"/>
                      <a:ext cx="457920" cy="130320"/>
                      <a:chOff x="3906000" y="3436920"/>
                      <a:chExt cx="457920" cy="130320"/>
                    </a:xfrm>
                  </p:grpSpPr>
                  <p:grpSp>
                    <p:nvGrpSpPr>
                      <p:cNvPr id="1493" name="Group 559"/>
                      <p:cNvGrpSpPr/>
                      <p:nvPr/>
                    </p:nvGrpSpPr>
                    <p:grpSpPr>
                      <a:xfrm>
                        <a:off x="3906000" y="3436920"/>
                        <a:ext cx="450360" cy="130320"/>
                        <a:chOff x="3906000" y="3436920"/>
                        <a:chExt cx="450360" cy="130320"/>
                      </a:xfrm>
                    </p:grpSpPr>
                    <p:sp>
                      <p:nvSpPr>
                        <p:cNvPr id="1494" name="Rectangle 560"/>
                        <p:cNvSpPr/>
                        <p:nvPr/>
                      </p:nvSpPr>
                      <p:spPr>
                        <a:xfrm>
                          <a:off x="3906000" y="3438000"/>
                          <a:ext cx="300240" cy="129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5" name="Freeform 561"/>
                        <p:cNvSpPr/>
                        <p:nvPr/>
                      </p:nvSpPr>
                      <p:spPr>
                        <a:xfrm>
                          <a:off x="4206240" y="3436920"/>
                          <a:ext cx="150120" cy="12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2" h="672">
                              <a:moveTo>
                                <a:pt x="0" y="0"/>
                              </a:moveTo>
                              <a:lnTo>
                                <a:pt x="672" y="528"/>
                              </a:lnTo>
                              <a:lnTo>
                                <a:pt x="672" y="672"/>
                              </a:lnTo>
                              <a:lnTo>
                                <a:pt x="0" y="6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96" name=""/>
                      <p:cNvGrpSpPr/>
                      <p:nvPr/>
                    </p:nvGrpSpPr>
                    <p:grpSpPr>
                      <a:xfrm>
                        <a:off x="3906000" y="3538440"/>
                        <a:ext cx="457920" cy="360"/>
                        <a:chOff x="3906000" y="3538440"/>
                        <a:chExt cx="457920" cy="360"/>
                      </a:xfrm>
                    </p:grpSpPr>
                    <p:sp>
                      <p:nvSpPr>
                        <p:cNvPr id="1497" name="Line 562"/>
                        <p:cNvSpPr/>
                        <p:nvPr/>
                      </p:nvSpPr>
                      <p:spPr>
                        <a:xfrm>
                          <a:off x="3906000" y="3538440"/>
                          <a:ext cx="457920" cy="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8" name=""/>
                        <p:cNvSpPr txBox="1"/>
                        <p:nvPr/>
                      </p:nvSpPr>
                      <p:spPr>
                        <a:xfrm>
                          <a:off x="3906000" y="3538440"/>
                          <a:ext cx="4579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499" name="Oval 563"/>
                    <p:cNvSpPr/>
                    <p:nvPr/>
                  </p:nvSpPr>
                  <p:spPr>
                    <a:xfrm>
                      <a:off x="3986280" y="3400920"/>
                      <a:ext cx="91080" cy="10152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0" name="Freeform 564"/>
                    <p:cNvSpPr/>
                    <p:nvPr/>
                  </p:nvSpPr>
                  <p:spPr>
                    <a:xfrm rot="11352600">
                      <a:off x="4127040" y="3346200"/>
                      <a:ext cx="1227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656">
                          <a:moveTo>
                            <a:pt x="360" y="64"/>
                          </a:moveTo>
                          <a:cubicBezTo>
                            <a:pt x="400" y="128"/>
                            <a:pt x="376" y="448"/>
                            <a:pt x="360" y="544"/>
                          </a:cubicBezTo>
                          <a:cubicBezTo>
                            <a:pt x="344" y="640"/>
                            <a:pt x="320" y="656"/>
                            <a:pt x="264" y="640"/>
                          </a:cubicBezTo>
                          <a:cubicBezTo>
                            <a:pt x="208" y="624"/>
                            <a:pt x="48" y="528"/>
                            <a:pt x="24" y="448"/>
                          </a:cubicBezTo>
                          <a:cubicBezTo>
                            <a:pt x="0" y="368"/>
                            <a:pt x="64" y="224"/>
                            <a:pt x="120" y="160"/>
                          </a:cubicBezTo>
                          <a:cubicBezTo>
                            <a:pt x="176" y="96"/>
                            <a:pt x="320" y="0"/>
                            <a:pt x="360" y="64"/>
                          </a:cubicBez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01" name="Group 565"/>
              <p:cNvGrpSpPr/>
              <p:nvPr/>
            </p:nvGrpSpPr>
            <p:grpSpPr>
              <a:xfrm>
                <a:off x="3887280" y="2935080"/>
                <a:ext cx="295920" cy="652320"/>
                <a:chOff x="3887280" y="2935080"/>
                <a:chExt cx="295920" cy="652320"/>
              </a:xfrm>
            </p:grpSpPr>
            <p:grpSp>
              <p:nvGrpSpPr>
                <p:cNvPr id="1502" name="Group 566"/>
                <p:cNvGrpSpPr/>
                <p:nvPr/>
              </p:nvGrpSpPr>
              <p:grpSpPr>
                <a:xfrm>
                  <a:off x="3887280" y="3060360"/>
                  <a:ext cx="295920" cy="527040"/>
                  <a:chOff x="3887280" y="3060360"/>
                  <a:chExt cx="295920" cy="527040"/>
                </a:xfrm>
              </p:grpSpPr>
              <p:sp>
                <p:nvSpPr>
                  <p:cNvPr id="1503" name="AutoShape 567"/>
                  <p:cNvSpPr/>
                  <p:nvPr/>
                </p:nvSpPr>
                <p:spPr>
                  <a:xfrm rot="10800000">
                    <a:off x="3887280" y="3060360"/>
                    <a:ext cx="295920" cy="40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700" y="21600"/>
                        </a:lnTo>
                        <a:lnTo>
                          <a:pt x="18900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4" name="Oval 568"/>
                  <p:cNvSpPr/>
                  <p:nvPr/>
                </p:nvSpPr>
                <p:spPr>
                  <a:xfrm rot="10800000">
                    <a:off x="3892680" y="3337920"/>
                    <a:ext cx="290520" cy="24948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5" name="Oval 569"/>
                <p:cNvSpPr/>
                <p:nvPr/>
              </p:nvSpPr>
              <p:spPr>
                <a:xfrm rot="10800000">
                  <a:off x="3910680" y="2935080"/>
                  <a:ext cx="254160" cy="2455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6" name="AutoShape 570"/>
              <p:cNvSpPr/>
              <p:nvPr/>
            </p:nvSpPr>
            <p:spPr>
              <a:xfrm rot="10800000">
                <a:off x="3982320" y="3006720"/>
                <a:ext cx="108720" cy="94320"/>
              </a:xfrm>
              <a:prstGeom prst="hexagon">
                <a:avLst>
                  <a:gd name="adj" fmla="val 28817"/>
                  <a:gd name="vf" fmla="val 1154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07" name="Group 571"/>
          <p:cNvGrpSpPr/>
          <p:nvPr/>
        </p:nvGrpSpPr>
        <p:grpSpPr>
          <a:xfrm>
            <a:off x="3611880" y="1406160"/>
            <a:ext cx="1182240" cy="2026440"/>
            <a:chOff x="3611880" y="1406160"/>
            <a:chExt cx="1182240" cy="2026440"/>
          </a:xfrm>
        </p:grpSpPr>
        <p:grpSp>
          <p:nvGrpSpPr>
            <p:cNvPr id="1508" name="Group 572"/>
            <p:cNvGrpSpPr/>
            <p:nvPr/>
          </p:nvGrpSpPr>
          <p:grpSpPr>
            <a:xfrm>
              <a:off x="4016520" y="1406160"/>
              <a:ext cx="777600" cy="1117800"/>
              <a:chOff x="4016520" y="1406160"/>
              <a:chExt cx="777600" cy="1117800"/>
            </a:xfrm>
          </p:grpSpPr>
          <p:grpSp>
            <p:nvGrpSpPr>
              <p:cNvPr id="1509" name=""/>
              <p:cNvGrpSpPr/>
              <p:nvPr/>
            </p:nvGrpSpPr>
            <p:grpSpPr>
              <a:xfrm>
                <a:off x="4273560" y="1705680"/>
                <a:ext cx="317520" cy="234000"/>
                <a:chOff x="4273560" y="1705680"/>
                <a:chExt cx="317520" cy="234000"/>
              </a:xfrm>
            </p:grpSpPr>
            <p:sp>
              <p:nvSpPr>
                <p:cNvPr id="1510" name="Line 573"/>
                <p:cNvSpPr/>
                <p:nvPr/>
              </p:nvSpPr>
              <p:spPr>
                <a:xfrm>
                  <a:off x="4320720" y="1705680"/>
                  <a:ext cx="223200" cy="234000"/>
                </a:xfrm>
                <a:prstGeom prst="line">
                  <a:avLst/>
                </a:prstGeom>
                <a:ln w="64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"/>
                <p:cNvSpPr txBox="1"/>
                <p:nvPr/>
              </p:nvSpPr>
              <p:spPr>
                <a:xfrm rot="1059000">
                  <a:off x="4290480" y="1744920"/>
                  <a:ext cx="283680" cy="15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2" name="Group 574"/>
              <p:cNvGrpSpPr/>
              <p:nvPr/>
            </p:nvGrpSpPr>
            <p:grpSpPr>
              <a:xfrm>
                <a:off x="4016520" y="1642680"/>
                <a:ext cx="777600" cy="881280"/>
                <a:chOff x="4016520" y="1642680"/>
                <a:chExt cx="777600" cy="881280"/>
              </a:xfrm>
            </p:grpSpPr>
            <p:sp>
              <p:nvSpPr>
                <p:cNvPr id="1513" name="AutoShape 575"/>
                <p:cNvSpPr/>
                <p:nvPr/>
              </p:nvSpPr>
              <p:spPr>
                <a:xfrm rot="561000">
                  <a:off x="4349520" y="1977840"/>
                  <a:ext cx="405360" cy="516240"/>
                </a:xfrm>
                <a:custGeom>
                  <a:avLst/>
                  <a:gdLst>
                    <a:gd name="textAreaLeft" fmla="*/ 0 w 405360"/>
                    <a:gd name="textAreaRight" fmla="*/ 146160 w 405360"/>
                    <a:gd name="textAreaTop" fmla="*/ 13320 h 516240"/>
                    <a:gd name="textAreaBottom" fmla="*/ 502920 h 516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1260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AutoShape 576"/>
                <p:cNvSpPr/>
                <p:nvPr/>
              </p:nvSpPr>
              <p:spPr>
                <a:xfrm rot="684600">
                  <a:off x="4064040" y="1936440"/>
                  <a:ext cx="446040" cy="526680"/>
                </a:xfrm>
                <a:custGeom>
                  <a:avLst/>
                  <a:gdLst>
                    <a:gd name="textAreaLeft" fmla="*/ 21600 w 446040"/>
                    <a:gd name="textAreaRight" fmla="*/ 424440 w 446040"/>
                    <a:gd name="textAreaTop" fmla="*/ 21600 h 526680"/>
                    <a:gd name="textAreaBottom" fmla="*/ 505080 h 526680"/>
                  </a:gdLst>
                  <a:ahLst/>
                  <a:rect l="textAreaLeft" t="textAreaTop" r="textAreaRight" b="textAreaBottom"/>
                  <a:pathLst>
                    <a:path w="21600" h="25502">
                      <a:moveTo>
                        <a:pt x="3600" y="0"/>
                      </a:moveTo>
                      <a:arcTo wR="3600" hR="3600" stAng="16200000" swAng="-5400000"/>
                      <a:lnTo>
                        <a:pt x="0" y="21902"/>
                      </a:lnTo>
                      <a:arcTo wR="3600" hR="3600" stAng="10800000" swAng="-5400000"/>
                      <a:lnTo>
                        <a:pt x="18000" y="2550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37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AutoShape 577"/>
                <p:cNvSpPr/>
                <p:nvPr/>
              </p:nvSpPr>
              <p:spPr>
                <a:xfrm rot="21109800">
                  <a:off x="4052520" y="1672560"/>
                  <a:ext cx="446040" cy="3240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20448000"/>
                </a:gra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AutoShape 578"/>
                <p:cNvSpPr/>
                <p:nvPr/>
              </p:nvSpPr>
              <p:spPr>
                <a:xfrm rot="876600">
                  <a:off x="4250880" y="2120760"/>
                  <a:ext cx="99720" cy="143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9725" y="3202"/>
                        <a:pt x="17850" y="5080"/>
                        <a:pt x="17850" y="10800"/>
                      </a:cubicBezTo>
                      <a:cubicBezTo>
                        <a:pt x="17850" y="16520"/>
                        <a:pt x="19725" y="1839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18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7" name="AutoShape 579"/>
              <p:cNvSpPr/>
              <p:nvPr/>
            </p:nvSpPr>
            <p:spPr>
              <a:xfrm rot="20190600">
                <a:off x="4165560" y="1407960"/>
                <a:ext cx="70920" cy="294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21366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Group 580"/>
            <p:cNvGrpSpPr/>
            <p:nvPr/>
          </p:nvGrpSpPr>
          <p:grpSpPr>
            <a:xfrm>
              <a:off x="3611880" y="2243160"/>
              <a:ext cx="831960" cy="1189440"/>
              <a:chOff x="3611880" y="2243160"/>
              <a:chExt cx="831960" cy="1189440"/>
            </a:xfrm>
          </p:grpSpPr>
          <p:grpSp>
            <p:nvGrpSpPr>
              <p:cNvPr id="1519" name=""/>
              <p:cNvGrpSpPr/>
              <p:nvPr/>
            </p:nvGrpSpPr>
            <p:grpSpPr>
              <a:xfrm>
                <a:off x="3776040" y="2846520"/>
                <a:ext cx="322920" cy="267120"/>
                <a:chOff x="3776040" y="2846520"/>
                <a:chExt cx="322920" cy="267120"/>
              </a:xfrm>
            </p:grpSpPr>
            <p:sp>
              <p:nvSpPr>
                <p:cNvPr id="1520" name="Line 581"/>
                <p:cNvSpPr/>
                <p:nvPr/>
              </p:nvSpPr>
              <p:spPr>
                <a:xfrm flipH="1" flipV="1">
                  <a:off x="3846600" y="2846520"/>
                  <a:ext cx="182520" cy="267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"/>
                <p:cNvSpPr txBox="1"/>
                <p:nvPr/>
              </p:nvSpPr>
              <p:spPr>
                <a:xfrm rot="12417600">
                  <a:off x="3795480" y="2901960"/>
                  <a:ext cx="283680" cy="15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2" name="Group 582"/>
              <p:cNvGrpSpPr/>
              <p:nvPr/>
            </p:nvGrpSpPr>
            <p:grpSpPr>
              <a:xfrm>
                <a:off x="3611880" y="2243160"/>
                <a:ext cx="831960" cy="916920"/>
                <a:chOff x="3611880" y="2243160"/>
                <a:chExt cx="831960" cy="916920"/>
              </a:xfrm>
            </p:grpSpPr>
            <p:sp>
              <p:nvSpPr>
                <p:cNvPr id="1523" name="AutoShape 583"/>
                <p:cNvSpPr/>
                <p:nvPr/>
              </p:nvSpPr>
              <p:spPr>
                <a:xfrm rot="11919600">
                  <a:off x="3683880" y="2294280"/>
                  <a:ext cx="405360" cy="516240"/>
                </a:xfrm>
                <a:custGeom>
                  <a:avLst/>
                  <a:gdLst>
                    <a:gd name="textAreaLeft" fmla="*/ 0 w 405360"/>
                    <a:gd name="textAreaRight" fmla="*/ 146160 w 405360"/>
                    <a:gd name="textAreaTop" fmla="*/ 13320 h 516240"/>
                    <a:gd name="textAreaBottom" fmla="*/ 502920 h 516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4" name="AutoShape 584"/>
                <p:cNvSpPr/>
                <p:nvPr/>
              </p:nvSpPr>
              <p:spPr>
                <a:xfrm rot="12043800">
                  <a:off x="3918600" y="2368080"/>
                  <a:ext cx="446040" cy="526680"/>
                </a:xfrm>
                <a:custGeom>
                  <a:avLst/>
                  <a:gdLst>
                    <a:gd name="textAreaLeft" fmla="*/ 21600 w 446040"/>
                    <a:gd name="textAreaRight" fmla="*/ 424440 w 446040"/>
                    <a:gd name="textAreaTop" fmla="*/ 21600 h 526680"/>
                    <a:gd name="textAreaBottom" fmla="*/ 505080 h 526680"/>
                  </a:gdLst>
                  <a:ahLst/>
                  <a:rect l="textAreaLeft" t="textAreaTop" r="textAreaRight" b="textAreaBottom"/>
                  <a:pathLst>
                    <a:path w="21600" h="25502">
                      <a:moveTo>
                        <a:pt x="3600" y="0"/>
                      </a:moveTo>
                      <a:arcTo wR="3600" hR="3600" stAng="16200000" swAng="-5400000"/>
                      <a:lnTo>
                        <a:pt x="0" y="21902"/>
                      </a:lnTo>
                      <a:arcTo wR="3600" hR="3600" stAng="10800000" swAng="-5400000"/>
                      <a:lnTo>
                        <a:pt x="18000" y="2550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AutoShape 585"/>
                <p:cNvSpPr/>
                <p:nvPr/>
              </p:nvSpPr>
              <p:spPr>
                <a:xfrm rot="10868400">
                  <a:off x="3871080" y="2831400"/>
                  <a:ext cx="446040" cy="324000"/>
                </a:xfrm>
                <a:prstGeom prst="triangle">
                  <a:avLst>
                    <a:gd name="adj" fmla="val 5000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6" name="AutoShape 586"/>
                <p:cNvSpPr/>
                <p:nvPr/>
              </p:nvSpPr>
              <p:spPr>
                <a:xfrm rot="12235200">
                  <a:off x="4077000" y="2564280"/>
                  <a:ext cx="99720" cy="143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9725" y="3202"/>
                        <a:pt x="17850" y="5080"/>
                        <a:pt x="17850" y="10800"/>
                      </a:cubicBezTo>
                      <a:cubicBezTo>
                        <a:pt x="17850" y="16520"/>
                        <a:pt x="19725" y="18398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7" name="AutoShape 587"/>
              <p:cNvSpPr/>
              <p:nvPr/>
            </p:nvSpPr>
            <p:spPr>
              <a:xfrm rot="9949200">
                <a:off x="4087440" y="3133440"/>
                <a:ext cx="70920" cy="294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28" name="Group 588"/>
          <p:cNvGrpSpPr/>
          <p:nvPr/>
        </p:nvGrpSpPr>
        <p:grpSpPr>
          <a:xfrm>
            <a:off x="3277080" y="1995480"/>
            <a:ext cx="1801080" cy="1222200"/>
            <a:chOff x="3277080" y="1995480"/>
            <a:chExt cx="1801080" cy="1222200"/>
          </a:xfrm>
        </p:grpSpPr>
        <p:grpSp>
          <p:nvGrpSpPr>
            <p:cNvPr id="1529" name="Group 589"/>
            <p:cNvGrpSpPr/>
            <p:nvPr/>
          </p:nvGrpSpPr>
          <p:grpSpPr>
            <a:xfrm>
              <a:off x="4038120" y="2474640"/>
              <a:ext cx="1040040" cy="743040"/>
              <a:chOff x="4038120" y="2474640"/>
              <a:chExt cx="1040040" cy="743040"/>
            </a:xfrm>
          </p:grpSpPr>
          <p:sp>
            <p:nvSpPr>
              <p:cNvPr id="1530" name="Oval 590"/>
              <p:cNvSpPr/>
              <p:nvPr/>
            </p:nvSpPr>
            <p:spPr>
              <a:xfrm>
                <a:off x="4901040" y="3099240"/>
                <a:ext cx="177120" cy="118440"/>
              </a:xfrm>
              <a:prstGeom prst="ellipse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1" name="Group 591"/>
              <p:cNvGrpSpPr/>
              <p:nvPr/>
            </p:nvGrpSpPr>
            <p:grpSpPr>
              <a:xfrm>
                <a:off x="4038120" y="2474640"/>
                <a:ext cx="548280" cy="592200"/>
                <a:chOff x="4038120" y="2474640"/>
                <a:chExt cx="548280" cy="592200"/>
              </a:xfrm>
            </p:grpSpPr>
            <p:grpSp>
              <p:nvGrpSpPr>
                <p:cNvPr id="1532" name="Group 592"/>
                <p:cNvGrpSpPr/>
                <p:nvPr/>
              </p:nvGrpSpPr>
              <p:grpSpPr>
                <a:xfrm>
                  <a:off x="4038120" y="2474640"/>
                  <a:ext cx="548280" cy="592200"/>
                  <a:chOff x="4038120" y="2474640"/>
                  <a:chExt cx="548280" cy="592200"/>
                </a:xfrm>
              </p:grpSpPr>
              <p:sp>
                <p:nvSpPr>
                  <p:cNvPr id="1533" name="AutoShape 593"/>
                  <p:cNvSpPr/>
                  <p:nvPr/>
                </p:nvSpPr>
                <p:spPr>
                  <a:xfrm rot="19143600">
                    <a:off x="4269240" y="2578320"/>
                    <a:ext cx="178560" cy="48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1556" y="21600"/>
                        </a:lnTo>
                        <a:lnTo>
                          <a:pt x="20044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18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4" name="AutoShape 594"/>
                  <p:cNvSpPr/>
                  <p:nvPr/>
                </p:nvSpPr>
                <p:spPr>
                  <a:xfrm rot="3121800">
                    <a:off x="4093920" y="2504520"/>
                    <a:ext cx="191160" cy="235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934" y="2201"/>
                          <a:pt x="12267" y="5080"/>
                          <a:pt x="12267" y="10800"/>
                        </a:cubicBezTo>
                        <a:cubicBezTo>
                          <a:pt x="12267" y="16520"/>
                          <a:pt x="16934" y="19399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dddd"/>
                      </a:gs>
                    </a:gsLst>
                    <a:lin ang="162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5" name="AutoShape 595"/>
                <p:cNvSpPr/>
                <p:nvPr/>
              </p:nvSpPr>
              <p:spPr>
                <a:xfrm rot="19144200">
                  <a:off x="4213080" y="2701080"/>
                  <a:ext cx="179280" cy="12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0" y="21600"/>
                      </a:lnTo>
                      <a:lnTo>
                        <a:pt x="216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AutoShape 596"/>
                <p:cNvSpPr/>
                <p:nvPr/>
              </p:nvSpPr>
              <p:spPr>
                <a:xfrm rot="19006800">
                  <a:off x="4236480" y="2704320"/>
                  <a:ext cx="115200" cy="109080"/>
                </a:xfrm>
                <a:custGeom>
                  <a:avLst/>
                  <a:gdLst/>
                  <a:ahLst/>
                  <a:rect l="l" t="t" r="r" b="b"/>
                  <a:pathLst>
                    <a:path w="73" h="69">
                      <a:moveTo>
                        <a:pt x="0" y="26"/>
                      </a:moveTo>
                      <a:lnTo>
                        <a:pt x="27" y="26"/>
                      </a:lnTo>
                      <a:lnTo>
                        <a:pt x="36" y="0"/>
                      </a:lnTo>
                      <a:lnTo>
                        <a:pt x="45" y="26"/>
                      </a:lnTo>
                      <a:lnTo>
                        <a:pt x="72" y="26"/>
                      </a:lnTo>
                      <a:lnTo>
                        <a:pt x="50" y="42"/>
                      </a:lnTo>
                      <a:lnTo>
                        <a:pt x="59" y="68"/>
                      </a:lnTo>
                      <a:lnTo>
                        <a:pt x="36" y="52"/>
                      </a:lnTo>
                      <a:lnTo>
                        <a:pt x="13" y="68"/>
                      </a:lnTo>
                      <a:lnTo>
                        <a:pt x="22" y="4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7" name="Group 597"/>
              <p:cNvGrpSpPr/>
              <p:nvPr/>
            </p:nvGrpSpPr>
            <p:grpSpPr>
              <a:xfrm>
                <a:off x="4390200" y="2855520"/>
                <a:ext cx="680760" cy="295200"/>
                <a:chOff x="4390200" y="2855520"/>
                <a:chExt cx="680760" cy="295200"/>
              </a:xfrm>
            </p:grpSpPr>
            <p:sp>
              <p:nvSpPr>
                <p:cNvPr id="1538" name="AutoShape 598"/>
                <p:cNvSpPr/>
                <p:nvPr/>
              </p:nvSpPr>
              <p:spPr>
                <a:xfrm rot="5883600">
                  <a:off x="4877280" y="2907360"/>
                  <a:ext cx="75600" cy="303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20250" y="3391"/>
                        <a:pt x="18900" y="5080"/>
                        <a:pt x="18900" y="10800"/>
                      </a:cubicBezTo>
                      <a:cubicBezTo>
                        <a:pt x="18900" y="16520"/>
                        <a:pt x="20250" y="1820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eaeaea"/>
                </a:soli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39" name="Group 599"/>
                <p:cNvGrpSpPr/>
                <p:nvPr/>
              </p:nvGrpSpPr>
              <p:grpSpPr>
                <a:xfrm>
                  <a:off x="4390200" y="2855520"/>
                  <a:ext cx="523080" cy="295200"/>
                  <a:chOff x="4390200" y="2855520"/>
                  <a:chExt cx="523080" cy="295200"/>
                </a:xfrm>
              </p:grpSpPr>
              <p:sp>
                <p:nvSpPr>
                  <p:cNvPr id="1540" name="AutoShape 600"/>
                  <p:cNvSpPr/>
                  <p:nvPr/>
                </p:nvSpPr>
                <p:spPr>
                  <a:xfrm rot="16916400">
                    <a:off x="4621320" y="2832120"/>
                    <a:ext cx="179640" cy="36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4308" y="21600"/>
                        </a:lnTo>
                        <a:lnTo>
                          <a:pt x="17292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ffffff"/>
                      </a:gs>
                    </a:gsLst>
                    <a:lin ang="4572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1" name="Oval 601"/>
                  <p:cNvSpPr/>
                  <p:nvPr/>
                </p:nvSpPr>
                <p:spPr>
                  <a:xfrm rot="17455200">
                    <a:off x="4418640" y="2881800"/>
                    <a:ext cx="187920" cy="190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ffffff"/>
                      </a:gs>
                    </a:gsLst>
                    <a:lin ang="403200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AutoShape 602"/>
                  <p:cNvSpPr/>
                  <p:nvPr/>
                </p:nvSpPr>
                <p:spPr>
                  <a:xfrm rot="16885200">
                    <a:off x="4464360" y="2934000"/>
                    <a:ext cx="88920" cy="75960"/>
                  </a:xfrm>
                  <a:prstGeom prst="hexagon">
                    <a:avLst>
                      <a:gd name="adj" fmla="val 29265"/>
                      <a:gd name="vf" fmla="val 115470"/>
                    </a:avLst>
                  </a:prstGeom>
                  <a:solidFill>
                    <a:srgbClr val="ff0000"/>
                  </a:solidFill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3" name="AutoShape 603"/>
                  <p:cNvSpPr/>
                  <p:nvPr/>
                </p:nvSpPr>
                <p:spPr>
                  <a:xfrm rot="16916400">
                    <a:off x="4768920" y="3021840"/>
                    <a:ext cx="1944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4308" y="21600"/>
                        </a:lnTo>
                        <a:lnTo>
                          <a:pt x="17292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44" name="Group 604"/>
            <p:cNvGrpSpPr/>
            <p:nvPr/>
          </p:nvGrpSpPr>
          <p:grpSpPr>
            <a:xfrm>
              <a:off x="3277080" y="1995480"/>
              <a:ext cx="1039680" cy="743400"/>
              <a:chOff x="3277080" y="1995480"/>
              <a:chExt cx="1039680" cy="743400"/>
            </a:xfrm>
          </p:grpSpPr>
          <p:sp>
            <p:nvSpPr>
              <p:cNvPr id="1545" name="Oval 605"/>
              <p:cNvSpPr/>
              <p:nvPr/>
            </p:nvSpPr>
            <p:spPr>
              <a:xfrm flipH="1" flipV="1">
                <a:off x="3277080" y="1995120"/>
                <a:ext cx="177120" cy="1184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6" name="Group 606"/>
              <p:cNvGrpSpPr/>
              <p:nvPr/>
            </p:nvGrpSpPr>
            <p:grpSpPr>
              <a:xfrm>
                <a:off x="3768840" y="2146680"/>
                <a:ext cx="547920" cy="592200"/>
                <a:chOff x="3768840" y="2146680"/>
                <a:chExt cx="547920" cy="592200"/>
              </a:xfrm>
            </p:grpSpPr>
            <p:grpSp>
              <p:nvGrpSpPr>
                <p:cNvPr id="1547" name="Group 607"/>
                <p:cNvGrpSpPr/>
                <p:nvPr/>
              </p:nvGrpSpPr>
              <p:grpSpPr>
                <a:xfrm>
                  <a:off x="3768840" y="2146680"/>
                  <a:ext cx="547920" cy="592200"/>
                  <a:chOff x="3768840" y="2146680"/>
                  <a:chExt cx="547920" cy="592200"/>
                </a:xfrm>
              </p:grpSpPr>
              <p:sp>
                <p:nvSpPr>
                  <p:cNvPr id="1548" name="AutoShape 608"/>
                  <p:cNvSpPr/>
                  <p:nvPr/>
                </p:nvSpPr>
                <p:spPr>
                  <a:xfrm flipH="1" flipV="1" rot="19143600">
                    <a:off x="3906720" y="2144880"/>
                    <a:ext cx="178560" cy="48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1556" y="21600"/>
                        </a:lnTo>
                        <a:lnTo>
                          <a:pt x="20044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9" name="AutoShape 609"/>
                  <p:cNvSpPr/>
                  <p:nvPr/>
                </p:nvSpPr>
                <p:spPr>
                  <a:xfrm flipH="1" flipV="1" rot="3121800">
                    <a:off x="4069440" y="2473560"/>
                    <a:ext cx="190800" cy="235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934" y="2201"/>
                          <a:pt x="12267" y="5080"/>
                          <a:pt x="12267" y="10800"/>
                        </a:cubicBezTo>
                        <a:cubicBezTo>
                          <a:pt x="12267" y="16520"/>
                          <a:pt x="16934" y="19399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50" name="AutoShape 610"/>
                <p:cNvSpPr/>
                <p:nvPr/>
              </p:nvSpPr>
              <p:spPr>
                <a:xfrm flipH="1" flipV="1" rot="19144200">
                  <a:off x="3962160" y="2390040"/>
                  <a:ext cx="179280" cy="12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0" y="21600"/>
                      </a:lnTo>
                      <a:lnTo>
                        <a:pt x="216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AutoShape 611"/>
                <p:cNvSpPr/>
                <p:nvPr/>
              </p:nvSpPr>
              <p:spPr>
                <a:xfrm flipH="1" flipV="1" rot="19006800">
                  <a:off x="4003560" y="2400120"/>
                  <a:ext cx="115200" cy="108720"/>
                </a:xfrm>
                <a:custGeom>
                  <a:avLst/>
                  <a:gdLst/>
                  <a:ahLst/>
                  <a:rect l="l" t="t" r="r" b="b"/>
                  <a:pathLst>
                    <a:path w="73" h="69">
                      <a:moveTo>
                        <a:pt x="0" y="26"/>
                      </a:moveTo>
                      <a:lnTo>
                        <a:pt x="27" y="26"/>
                      </a:lnTo>
                      <a:lnTo>
                        <a:pt x="36" y="0"/>
                      </a:lnTo>
                      <a:lnTo>
                        <a:pt x="45" y="26"/>
                      </a:lnTo>
                      <a:lnTo>
                        <a:pt x="72" y="26"/>
                      </a:lnTo>
                      <a:lnTo>
                        <a:pt x="50" y="42"/>
                      </a:lnTo>
                      <a:lnTo>
                        <a:pt x="59" y="68"/>
                      </a:lnTo>
                      <a:lnTo>
                        <a:pt x="36" y="52"/>
                      </a:lnTo>
                      <a:lnTo>
                        <a:pt x="13" y="68"/>
                      </a:lnTo>
                      <a:lnTo>
                        <a:pt x="22" y="42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2" name="Group 612"/>
              <p:cNvGrpSpPr/>
              <p:nvPr/>
            </p:nvGrpSpPr>
            <p:grpSpPr>
              <a:xfrm>
                <a:off x="3284640" y="2063160"/>
                <a:ext cx="680040" cy="295200"/>
                <a:chOff x="3284640" y="2063160"/>
                <a:chExt cx="680040" cy="295200"/>
              </a:xfrm>
            </p:grpSpPr>
            <p:sp>
              <p:nvSpPr>
                <p:cNvPr id="1553" name="AutoShape 613"/>
                <p:cNvSpPr/>
                <p:nvPr/>
              </p:nvSpPr>
              <p:spPr>
                <a:xfrm flipH="1" flipV="1" rot="5883600">
                  <a:off x="3402360" y="2001600"/>
                  <a:ext cx="75600" cy="30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20250" y="3391"/>
                        <a:pt x="18900" y="5080"/>
                        <a:pt x="18900" y="10800"/>
                      </a:cubicBezTo>
                      <a:cubicBezTo>
                        <a:pt x="18900" y="16520"/>
                        <a:pt x="20250" y="1820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54" name="Group 614"/>
                <p:cNvGrpSpPr/>
                <p:nvPr/>
              </p:nvGrpSpPr>
              <p:grpSpPr>
                <a:xfrm>
                  <a:off x="3441960" y="2063160"/>
                  <a:ext cx="522720" cy="295200"/>
                  <a:chOff x="3441960" y="2063160"/>
                  <a:chExt cx="522720" cy="295200"/>
                </a:xfrm>
              </p:grpSpPr>
              <p:sp>
                <p:nvSpPr>
                  <p:cNvPr id="1555" name="AutoShape 615"/>
                  <p:cNvSpPr/>
                  <p:nvPr/>
                </p:nvSpPr>
                <p:spPr>
                  <a:xfrm flipH="1" flipV="1" rot="16916400">
                    <a:off x="3553920" y="2018520"/>
                    <a:ext cx="179640" cy="36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4308" y="21600"/>
                        </a:lnTo>
                        <a:lnTo>
                          <a:pt x="17292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6" name="Oval 616"/>
                  <p:cNvSpPr/>
                  <p:nvPr/>
                </p:nvSpPr>
                <p:spPr>
                  <a:xfrm flipH="1" flipV="1" rot="17455200">
                    <a:off x="3747600" y="2140560"/>
                    <a:ext cx="187920" cy="19080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AutoShape 617"/>
                  <p:cNvSpPr/>
                  <p:nvPr/>
                </p:nvSpPr>
                <p:spPr>
                  <a:xfrm flipH="1" flipV="1" rot="16885200">
                    <a:off x="3801600" y="2203200"/>
                    <a:ext cx="88920" cy="75960"/>
                  </a:xfrm>
                  <a:prstGeom prst="hexagon">
                    <a:avLst>
                      <a:gd name="adj" fmla="val 29265"/>
                      <a:gd name="vf" fmla="val 115470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AutoShape 618"/>
                  <p:cNvSpPr/>
                  <p:nvPr/>
                </p:nvSpPr>
                <p:spPr>
                  <a:xfrm flipH="1" flipV="1" rot="16916400">
                    <a:off x="3391560" y="2136240"/>
                    <a:ext cx="19440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4308" y="21600"/>
                        </a:lnTo>
                        <a:lnTo>
                          <a:pt x="17292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559" name="Group 619"/>
          <p:cNvGrpSpPr/>
          <p:nvPr/>
        </p:nvGrpSpPr>
        <p:grpSpPr>
          <a:xfrm>
            <a:off x="4791240" y="2145960"/>
            <a:ext cx="1384560" cy="1130760"/>
            <a:chOff x="4791240" y="2145960"/>
            <a:chExt cx="1384560" cy="1130760"/>
          </a:xfrm>
        </p:grpSpPr>
        <p:sp>
          <p:nvSpPr>
            <p:cNvPr id="1560" name="AutoShape 620"/>
            <p:cNvSpPr/>
            <p:nvPr/>
          </p:nvSpPr>
          <p:spPr>
            <a:xfrm rot="10800000">
              <a:off x="5444640" y="3038760"/>
              <a:ext cx="476280" cy="11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1" name="Group 621"/>
            <p:cNvGrpSpPr/>
            <p:nvPr/>
          </p:nvGrpSpPr>
          <p:grpSpPr>
            <a:xfrm>
              <a:off x="5132520" y="2164680"/>
              <a:ext cx="1043280" cy="1099080"/>
              <a:chOff x="5132520" y="2164680"/>
              <a:chExt cx="1043280" cy="1099080"/>
            </a:xfrm>
          </p:grpSpPr>
          <p:sp>
            <p:nvSpPr>
              <p:cNvPr id="1562" name="AutoShape 622"/>
              <p:cNvSpPr/>
              <p:nvPr/>
            </p:nvSpPr>
            <p:spPr>
              <a:xfrm rot="17085000">
                <a:off x="5122800" y="2358000"/>
                <a:ext cx="949320" cy="712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Oval 623"/>
              <p:cNvSpPr/>
              <p:nvPr/>
            </p:nvSpPr>
            <p:spPr>
              <a:xfrm rot="5953200">
                <a:off x="5583960" y="2549160"/>
                <a:ext cx="565920" cy="53388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"/>
            <p:cNvGrpSpPr/>
            <p:nvPr/>
          </p:nvGrpSpPr>
          <p:grpSpPr>
            <a:xfrm>
              <a:off x="5081760" y="2145960"/>
              <a:ext cx="252000" cy="959760"/>
              <a:chOff x="5081760" y="2145960"/>
              <a:chExt cx="252000" cy="959760"/>
            </a:xfrm>
          </p:grpSpPr>
          <p:sp>
            <p:nvSpPr>
              <p:cNvPr id="1565" name="Line 624"/>
              <p:cNvSpPr/>
              <p:nvPr/>
            </p:nvSpPr>
            <p:spPr>
              <a:xfrm flipH="1">
                <a:off x="5081760" y="2162520"/>
                <a:ext cx="251640" cy="92664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 txBox="1"/>
              <p:nvPr/>
            </p:nvSpPr>
            <p:spPr>
              <a:xfrm rot="484200">
                <a:off x="5148000" y="2149560"/>
                <a:ext cx="119160" cy="952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7" name="Rectangle 625"/>
            <p:cNvSpPr/>
            <p:nvPr/>
          </p:nvSpPr>
          <p:spPr>
            <a:xfrm>
              <a:off x="4791240" y="3157560"/>
              <a:ext cx="1309680" cy="1191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8" name="AutoShape 626"/>
          <p:cNvSpPr/>
          <p:nvPr/>
        </p:nvSpPr>
        <p:spPr>
          <a:xfrm>
            <a:off x="5386320" y="2514600"/>
            <a:ext cx="381240" cy="38088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0">
            <a:noFill/>
          </a:ln>
          <a:effectLst>
            <a:outerShdw dist="28496" dir="922551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锐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9" name="Group 627"/>
          <p:cNvGrpSpPr/>
          <p:nvPr/>
        </p:nvGrpSpPr>
        <p:grpSpPr>
          <a:xfrm>
            <a:off x="2652840" y="-14760"/>
            <a:ext cx="4281120" cy="4863960"/>
            <a:chOff x="2652840" y="-14760"/>
            <a:chExt cx="4281120" cy="4863960"/>
          </a:xfrm>
        </p:grpSpPr>
        <p:sp>
          <p:nvSpPr>
            <p:cNvPr id="1570" name="Oval 628"/>
            <p:cNvSpPr/>
            <p:nvPr/>
          </p:nvSpPr>
          <p:spPr>
            <a:xfrm rot="16200000">
              <a:off x="4121640" y="2053800"/>
              <a:ext cx="1326600" cy="426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3137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AutoShape 629"/>
            <p:cNvSpPr/>
            <p:nvPr/>
          </p:nvSpPr>
          <p:spPr>
            <a:xfrm rot="10800000">
              <a:off x="2670120" y="-14760"/>
              <a:ext cx="4263840" cy="4346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702" y="21600"/>
                  </a:lnTo>
                  <a:lnTo>
                    <a:pt x="1289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aeaea">
                    <a:alpha val="71372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2" name=""/>
          <p:cNvGrpSpPr/>
          <p:nvPr/>
        </p:nvGrpSpPr>
        <p:grpSpPr>
          <a:xfrm>
            <a:off x="-1447920" y="5486400"/>
            <a:ext cx="304920" cy="609480"/>
            <a:chOff x="-1447920" y="5486400"/>
            <a:chExt cx="304920" cy="609480"/>
          </a:xfrm>
        </p:grpSpPr>
        <p:sp>
          <p:nvSpPr>
            <p:cNvPr id="1573" name="Line 630"/>
            <p:cNvSpPr/>
            <p:nvPr/>
          </p:nvSpPr>
          <p:spPr>
            <a:xfrm>
              <a:off x="-1447920" y="5486400"/>
              <a:ext cx="304920" cy="609480"/>
            </a:xfrm>
            <a:prstGeom prst="line">
              <a:avLst/>
            </a:prstGeom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 txBox="1"/>
            <p:nvPr/>
          </p:nvSpPr>
          <p:spPr>
            <a:xfrm>
              <a:off x="-1447920" y="5486400"/>
              <a:ext cx="30492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 thruBlk="true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41" dur="10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4" dur="20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06:30:5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5:03Z</dcterms:modified>
  <cp:revision>14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Version">
    <vt:r8>1</vt:r8>
  </property>
</Properties>
</file>