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25.png" ContentType="image/png"/>
  <Override PartName="/ppt/media/image2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9E8F-B521-410B-B26F-35377E5C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170D-C34E-4824-BD2E-809BAAF2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CB7C0-5D68-43F0-A231-BBE69A15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031DB-E45F-47E3-8DB1-31687E0E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D9932-8F28-45F9-BF94-3D7C6BF3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89967-2E45-4625-A998-7E16F655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364F5-A494-4071-A855-AE2CFEF9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AD33A-4741-49D2-ACED-113E2AFD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82ECA-1349-4027-90FA-935E6145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6DB18-9543-4EBE-94CF-C23B657B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4272F-0DCC-46FB-8412-C46A9F4A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F27D6-AD90-4CE6-A627-938DDF82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ACEC-49A8-4902-B128-DF9B8316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B2FDE-6FE7-483C-B23E-4DAE6E97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2B535-2080-42A5-AEF7-65BAD5A5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79336-D5C3-4020-B1B6-36338FB6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EE7D7-B029-4162-95DD-7FBE31DE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69412-6446-4293-844F-16BCBE80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39F10-85C1-4F52-BAE7-02B3E700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1A154-7AD3-46D7-9931-96B2B674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C80EC-4DDE-46D8-B0F1-387529CF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0C26E-E913-4549-96C1-2BD1EC5E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74F3A-3B48-480B-8A3A-0B588A33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3199-E652-4EB5-9437-CAC25A91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E3EFA-6854-4E74-A28B-A458820F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F18A5-8B2D-44B3-A9D3-3D08F7EF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83103-A71B-4D00-A144-4570E5A2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96C9D-9A8F-412E-832A-0C565B9B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6C3CC-84D5-4C7F-A655-C2F278D8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E84BB-15EF-4A70-8DCE-D596B613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6E370-78F4-4FDA-A8C7-6DFE9F03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A6DED-A20A-461F-B5B1-CFA2CEBD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2F253-6957-4016-9E08-77A7A387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0B39F-BF9D-45EE-A1F2-CE962A3D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D175-7BA5-468F-BFA4-65ACC98E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926A3-A444-4323-911A-0C41958D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26EFF-1FD7-4CB1-99D9-9AF55F09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B517D-CBA1-442E-8A44-6F1598F2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C4991-261A-4D5C-AD19-432A78D6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D8237-4B12-453C-803A-5BBC6D01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F6548-1068-425D-B119-A78C184F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D9B3E-0C12-4BD0-93C1-C692F1E4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2BB66-6A87-4692-8338-9188662B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E4D2B-9F11-4394-8F0C-7DE5702A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67D95-2F36-43C8-B383-4D064AEA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C32B-4FFB-4797-ABA3-F0930E8E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F1331-2982-4B46-BA34-65F96923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DA5FD-461D-42C0-82AB-0A84438E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B470E-E94A-40CF-BA66-8091A389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EA015-5D58-4286-9BF4-57AF0312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93D79-A5F3-47E7-B514-A3486891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FDEAF1-C1EB-42D8-B5D3-1DD27C42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52EC38-CE90-469E-BA47-50CAD684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A084C2-2A1D-4443-9CDB-1A166967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D303EA-2E6E-47CC-8CB4-4D498AF6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58E38C-3560-488B-A0F7-DDD79080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C927-F6F2-404F-9A1E-13957BEE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360422-5A71-4AB3-846C-5F3918C2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CC3FB6-5538-46BE-9B9B-AB9FF4C4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F000C1-D10D-412E-A59B-78C6AB3A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13FC0A-C78B-4733-8E10-255EF7F3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67ADE2-642B-43B7-B73F-519AD065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B28D79-0FD2-49D0-B9EA-6B1C62E6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B35058-D694-49C4-9DA0-5B27812E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C2E7-F43A-4CD3-A053-324B4EE8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FF9C-9A92-4010-A763-3ADDEA34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F498-1EBC-437E-84B2-D0E33706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8654-B545-4F72-856A-CF82A189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A78B-6099-43AD-BF4D-5D49582B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781F-2C0E-44A0-B0F5-4EB63EF7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4205-CA32-4ABB-8390-D65D2F92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122D-8CB6-4620-BAEF-44510250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CDA0-C5EB-478E-9BF7-7F6A65C6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60C0-711E-4340-B564-4CD2CD2B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87865-CAC3-4DA1-9E97-7BBEDDFB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E05C3-2B63-4EEA-A6EC-458047D3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EBF71-CDB3-473A-BA36-D7552418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8AE08-E8D1-4AC4-9BA3-06ED309A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A6280-850F-4075-85EF-2EA858C5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3DC4-5F8E-474A-8C42-9BB61510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4E5E4-D550-46C1-9229-84235A87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B90F1-FC56-4240-AB13-E2BDA8CC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A1273-52E6-49A3-817C-C4BEF034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5DAD5-A47E-49CB-8C17-9F75BED9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BF3F2-7F26-4488-B9E3-C1635FFE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62849-B632-4047-8414-D0096860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CFB50-2391-45C8-9AFB-F5C05A54C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697AF-76C7-449E-B91D-EA536743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6C30F-1288-4F36-A5F9-8AEC1AD7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191D3-B484-4812-AF22-EBD7C4D7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F41D-A0DD-47AC-9485-F0D1B66B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FA6F3-55FF-4689-B633-58998C80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46795-E852-4179-A0FF-411C21D3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985CB-8DC1-45EF-998F-A165A69C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6671F-912F-4F24-B1DC-20204C36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D775A-156E-423B-A8A9-3C8182B7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F3C39-A99B-416C-8BDB-F1493A6F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44517-9017-4DE3-98E6-A4C9CC84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58751-50F7-4BF7-80C2-A5E37D23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4E43E-0965-44EB-8EC9-4FA84F53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27B25-0968-4EDC-B2CB-31D8EF2B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524A-905A-4A9D-B875-4B772CBD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426FB-B55C-463B-87D7-C4E4C886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8A654-A807-4384-BEC4-05DE0D34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96EF4-7FB3-40AE-9AA7-E5F7E3A2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1DCB4-D6EB-4052-917B-7DAF9202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9DAE8-F6A0-482D-90B1-8BA25169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64C39-0D98-4623-B4E0-F1873F28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CD50A-F1B6-4CA6-855E-E9721A5B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E0449-5DB5-4AB3-8FCB-594DF3AF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10027-B0AC-4BC8-B647-59A7F3CF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F6060-9E1C-4391-910C-F5DF4C44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3528-2961-4D3D-BF0C-DA916360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FE701-E171-451D-9262-9E9D710B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472ED-1E30-4E57-92C5-C3271EC2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FC95D-0F40-42E0-B13C-455AD6F0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13F7B-1748-42CA-A73C-EC60C9F8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2AEF8-3812-41A5-B749-BCA55B0C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C0617-C960-4210-8CCA-2DF53BF8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4E5D3-CD04-44E6-8308-F80DA9D8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3BD93-3A4F-48ED-A096-566FAA15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64783-4A12-4248-9909-723BC7F5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63B0A-B47C-4640-8F0A-9DEF54C3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D475-8643-465E-ADFC-BF829D60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2921D-02F0-4C68-AD58-85C30E0E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F11BA-F831-4421-99BE-E2491F73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66FF1-D26D-4824-B9AC-47A03A40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936D4-086E-48FF-8A1E-DCF8D9E2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14C0F-1A70-4A62-8134-CC29E650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E4D2D-B221-4F09-A780-AAEE7222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C6E2F-857C-4602-9B60-1B95F7FB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372B2-255E-444A-A216-0909C871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8984A-13A1-4AAB-B839-C087C48B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9E768-DA4D-4BE3-91C5-CB665F97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725A-BC89-4220-9241-9ABFFED3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432DE-8516-4A1A-A7AC-C7850C07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7080E-A29F-4080-A330-88602304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76A3D-FA10-43A9-B59A-CB9B857B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54E86-96C8-404B-92AC-27842BC2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34901-7AD0-4E41-8171-5443B485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4FA29-40CB-4753-9BCD-F49AD026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2F5F5-2F16-4A67-A0F4-AE63ABBA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9E46F-3394-4F80-B022-EB5C3BD6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930CA-2562-4113-B5EA-D2BBDD59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246F3-3989-4334-995C-09DBA500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E8E1-AF0E-4C94-AFD2-870E9048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3B05B-C89E-4883-927B-60A0CD26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372F3-D739-48E5-B9E9-BBCDA067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AF814-FC69-4BF4-A571-00A35D07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63212-5517-49F9-B28A-C9E5F78C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6B11F-E571-4237-99BD-E3507709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31575-9426-440A-BCA5-FCF19DC9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682F8-A7B1-42A7-8531-6ADA99CF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E28D8-6CF3-4B9D-A343-7EECB123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1A7FC-4D42-457C-A2CA-51423A43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8FB0B-914E-4742-9FBA-8C529D73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E657-C459-4F1F-832C-65FC9C33D3F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3A32-A286-49B9-9178-6AE93EBBB1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B1FD-D5C8-4295-91EF-F4BE4629FA3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3272-3AA6-4B50-8BA1-13822CBB714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89B5-F732-4A28-8801-15655686833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7AEF-D16A-4C90-A1D4-3D28B4FA878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B6A1-A25E-4A87-B8B2-DA40F36D9B1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5861-75CF-431F-9E8D-81E5E52A057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29D6-9C6D-4421-8146-1A2DB50516A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B61B-4FAA-4882-B757-EFC0D1FAEE6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AEC5-5DAD-416E-AE6D-1F534C8913B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E8B8-8ACA-4940-81E4-9F62FC98D78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0302-6DB5-474C-A56F-C5A20A45946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F01E-0B92-4E34-9199-253A477778E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C5E1-B92C-46A3-A9A1-CB66C38A579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EF16-C5C0-4064-9F75-7A8B9ADEE55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93AA-D8AC-4645-8B09-B38B567F208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15DC-DEA3-453A-A66A-DE324E28DD7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B301-66B2-4C9C-9EA2-B69261EBDE2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B177-8EC7-4074-80B6-41B3F33CA16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D4C0-A824-4F08-98D4-A74FEDD7BDA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C6DA-41FA-43FB-B6BF-0334F2DAC45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BF2A-76D2-4190-B3B0-A9C1D10FE61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41A6-039D-4C14-B381-7C670338688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FFB6-4C95-42DC-96BE-63F8A44913A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1A95-BEC4-4699-94E5-A71108D33EE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3214800" y="4767120"/>
            <a:ext cx="48574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羊年春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2"/>
          <p:cNvSpPr/>
          <p:nvPr/>
        </p:nvSpPr>
        <p:spPr>
          <a:xfrm>
            <a:off x="5143680" y="71280"/>
            <a:ext cx="442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直接连接符 6"/>
          <p:cNvSpPr/>
          <p:nvPr/>
        </p:nvSpPr>
        <p:spPr>
          <a:xfrm>
            <a:off x="3286080" y="5267160"/>
            <a:ext cx="30006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4340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4341"/>
          <p:cNvSpPr/>
          <p:nvPr/>
        </p:nvSpPr>
        <p:spPr>
          <a:xfrm>
            <a:off x="2315880" y="42210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团团圆圆年夜饭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1E39-1789-4323-A908-5D22F182E15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图片 10" descr="1.png"/>
          <p:cNvPicPr/>
          <p:nvPr/>
        </p:nvPicPr>
        <p:blipFill>
          <a:blip r:embed="rId2"/>
          <a:stretch/>
        </p:blipFill>
        <p:spPr>
          <a:xfrm>
            <a:off x="2500200" y="785880"/>
            <a:ext cx="4857840" cy="4876560"/>
          </a:xfrm>
          <a:prstGeom prst="rect">
            <a:avLst/>
          </a:prstGeom>
          <a:ln w="0">
            <a:noFill/>
          </a:ln>
        </p:spPr>
      </p:pic>
      <p:pic>
        <p:nvPicPr>
          <p:cNvPr id="642" name="图片 11" descr="2.png"/>
          <p:cNvPicPr/>
          <p:nvPr/>
        </p:nvPicPr>
        <p:blipFill>
          <a:blip r:embed="rId3"/>
          <a:stretch/>
        </p:blipFill>
        <p:spPr>
          <a:xfrm>
            <a:off x="4127400" y="2357280"/>
            <a:ext cx="1516320" cy="1714680"/>
          </a:xfrm>
          <a:prstGeom prst="rect">
            <a:avLst/>
          </a:prstGeom>
          <a:ln w="0">
            <a:noFill/>
          </a:ln>
        </p:spPr>
      </p:pic>
      <p:sp>
        <p:nvSpPr>
          <p:cNvPr id="64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矩形 6"/>
          <p:cNvSpPr/>
          <p:nvPr/>
        </p:nvSpPr>
        <p:spPr>
          <a:xfrm>
            <a:off x="578880" y="83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11"/>
          <p:cNvSpPr/>
          <p:nvPr/>
        </p:nvSpPr>
        <p:spPr>
          <a:xfrm>
            <a:off x="449784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矩形 12"/>
          <p:cNvSpPr/>
          <p:nvPr/>
        </p:nvSpPr>
        <p:spPr>
          <a:xfrm>
            <a:off x="614088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矩形 13"/>
          <p:cNvSpPr/>
          <p:nvPr/>
        </p:nvSpPr>
        <p:spPr>
          <a:xfrm>
            <a:off x="44978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17"/>
          <p:cNvSpPr/>
          <p:nvPr/>
        </p:nvSpPr>
        <p:spPr>
          <a:xfrm>
            <a:off x="24976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图片 17" descr="1.png"/>
          <p:cNvPicPr/>
          <p:nvPr/>
        </p:nvPicPr>
        <p:blipFill>
          <a:blip r:embed="rId2"/>
          <a:stretch/>
        </p:blipFill>
        <p:spPr>
          <a:xfrm>
            <a:off x="2786040" y="4214880"/>
            <a:ext cx="4025880" cy="123192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16" descr="1.png"/>
          <p:cNvPicPr/>
          <p:nvPr/>
        </p:nvPicPr>
        <p:blipFill>
          <a:blip r:embed="rId3"/>
          <a:stretch/>
        </p:blipFill>
        <p:spPr>
          <a:xfrm>
            <a:off x="2786040" y="3197160"/>
            <a:ext cx="4025880" cy="123192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15" descr="1.png"/>
          <p:cNvPicPr/>
          <p:nvPr/>
        </p:nvPicPr>
        <p:blipFill>
          <a:blip r:embed="rId4"/>
          <a:stretch/>
        </p:blipFill>
        <p:spPr>
          <a:xfrm>
            <a:off x="2786040" y="2143080"/>
            <a:ext cx="4025880" cy="123192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14" descr="1.png"/>
          <p:cNvPicPr/>
          <p:nvPr/>
        </p:nvPicPr>
        <p:blipFill>
          <a:blip r:embed="rId5"/>
          <a:stretch/>
        </p:blipFill>
        <p:spPr>
          <a:xfrm>
            <a:off x="2786040" y="1071720"/>
            <a:ext cx="4025880" cy="1231920"/>
          </a:xfrm>
          <a:prstGeom prst="rect">
            <a:avLst/>
          </a:prstGeom>
          <a:ln w="0">
            <a:noFill/>
          </a:ln>
        </p:spPr>
      </p:pic>
      <p:sp>
        <p:nvSpPr>
          <p:cNvPr id="54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2"/>
          <p:cNvSpPr/>
          <p:nvPr/>
        </p:nvSpPr>
        <p:spPr>
          <a:xfrm>
            <a:off x="642960" y="78588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20"/>
          <p:cNvSpPr/>
          <p:nvPr/>
        </p:nvSpPr>
        <p:spPr>
          <a:xfrm flipH="1">
            <a:off x="3857760" y="25718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21"/>
          <p:cNvSpPr/>
          <p:nvPr/>
        </p:nvSpPr>
        <p:spPr>
          <a:xfrm>
            <a:off x="3786120" y="35593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29"/>
          <p:cNvSpPr/>
          <p:nvPr/>
        </p:nvSpPr>
        <p:spPr>
          <a:xfrm>
            <a:off x="3857760" y="15588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42"/>
          <p:cNvSpPr/>
          <p:nvPr/>
        </p:nvSpPr>
        <p:spPr>
          <a:xfrm>
            <a:off x="41421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图片 19" descr="3.png"/>
          <p:cNvPicPr/>
          <p:nvPr/>
        </p:nvPicPr>
        <p:blipFill>
          <a:blip r:embed="rId2"/>
          <a:stretch/>
        </p:blipFill>
        <p:spPr>
          <a:xfrm>
            <a:off x="3321000" y="142920"/>
            <a:ext cx="3679920" cy="665784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20" descr="1.png"/>
          <p:cNvPicPr/>
          <p:nvPr/>
        </p:nvPicPr>
        <p:blipFill>
          <a:blip r:embed="rId3"/>
          <a:stretch/>
        </p:blipFill>
        <p:spPr>
          <a:xfrm>
            <a:off x="5216400" y="785880"/>
            <a:ext cx="1355760" cy="111276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21" descr="1.png"/>
          <p:cNvPicPr/>
          <p:nvPr/>
        </p:nvPicPr>
        <p:blipFill>
          <a:blip r:embed="rId4"/>
          <a:stretch/>
        </p:blipFill>
        <p:spPr>
          <a:xfrm>
            <a:off x="5249880" y="3602160"/>
            <a:ext cx="1357200" cy="1112760"/>
          </a:xfrm>
          <a:prstGeom prst="rect">
            <a:avLst/>
          </a:prstGeom>
          <a:ln w="0">
            <a:noFill/>
          </a:ln>
        </p:spPr>
      </p:pic>
      <p:pic>
        <p:nvPicPr>
          <p:cNvPr id="554" name="图片 22" descr="1.png"/>
          <p:cNvPicPr/>
          <p:nvPr/>
        </p:nvPicPr>
        <p:blipFill>
          <a:blip r:embed="rId5"/>
          <a:stretch/>
        </p:blipFill>
        <p:spPr>
          <a:xfrm>
            <a:off x="3571920" y="2173320"/>
            <a:ext cx="1355760" cy="1112760"/>
          </a:xfrm>
          <a:prstGeom prst="rect">
            <a:avLst/>
          </a:prstGeom>
          <a:ln w="0">
            <a:noFill/>
          </a:ln>
        </p:spPr>
      </p:pic>
      <p:pic>
        <p:nvPicPr>
          <p:cNvPr id="555" name="图片 23" descr="1.png"/>
          <p:cNvPicPr/>
          <p:nvPr/>
        </p:nvPicPr>
        <p:blipFill>
          <a:blip r:embed="rId6"/>
          <a:stretch/>
        </p:blipFill>
        <p:spPr>
          <a:xfrm>
            <a:off x="3606840" y="4959360"/>
            <a:ext cx="1355760" cy="1112760"/>
          </a:xfrm>
          <a:prstGeom prst="rect">
            <a:avLst/>
          </a:prstGeom>
          <a:ln w="0">
            <a:noFill/>
          </a:ln>
        </p:spPr>
      </p:pic>
      <p:sp>
        <p:nvSpPr>
          <p:cNvPr id="5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6"/>
          <p:cNvSpPr/>
          <p:nvPr/>
        </p:nvSpPr>
        <p:spPr>
          <a:xfrm>
            <a:off x="5788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12"/>
          <p:cNvSpPr/>
          <p:nvPr/>
        </p:nvSpPr>
        <p:spPr>
          <a:xfrm>
            <a:off x="378360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13"/>
          <p:cNvSpPr/>
          <p:nvPr/>
        </p:nvSpPr>
        <p:spPr>
          <a:xfrm>
            <a:off x="5283720" y="1071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14"/>
          <p:cNvSpPr/>
          <p:nvPr/>
        </p:nvSpPr>
        <p:spPr>
          <a:xfrm>
            <a:off x="53550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15"/>
          <p:cNvSpPr/>
          <p:nvPr/>
        </p:nvSpPr>
        <p:spPr>
          <a:xfrm>
            <a:off x="385488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图片 15" descr="1.png"/>
          <p:cNvPicPr/>
          <p:nvPr/>
        </p:nvPicPr>
        <p:blipFill>
          <a:blip r:embed="rId2"/>
          <a:stretch/>
        </p:blipFill>
        <p:spPr>
          <a:xfrm>
            <a:off x="3714840" y="3147840"/>
            <a:ext cx="2428920" cy="328932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16" descr="1.png"/>
          <p:cNvPicPr/>
          <p:nvPr/>
        </p:nvPicPr>
        <p:blipFill>
          <a:blip r:embed="rId3"/>
          <a:stretch/>
        </p:blipFill>
        <p:spPr>
          <a:xfrm>
            <a:off x="4567320" y="2219400"/>
            <a:ext cx="3290760" cy="2428920"/>
          </a:xfrm>
          <a:prstGeom prst="rect">
            <a:avLst/>
          </a:prstGeom>
          <a:ln w="0">
            <a:noFill/>
          </a:ln>
        </p:spPr>
      </p:pic>
      <p:pic>
        <p:nvPicPr>
          <p:cNvPr id="567" name="图片 17" descr="1.png"/>
          <p:cNvPicPr/>
          <p:nvPr/>
        </p:nvPicPr>
        <p:blipFill>
          <a:blip r:embed="rId4"/>
          <a:stretch/>
        </p:blipFill>
        <p:spPr>
          <a:xfrm>
            <a:off x="1924200" y="2219400"/>
            <a:ext cx="3290760" cy="2428920"/>
          </a:xfrm>
          <a:prstGeom prst="rect">
            <a:avLst/>
          </a:prstGeom>
          <a:ln w="0">
            <a:noFill/>
          </a:ln>
        </p:spPr>
      </p:pic>
      <p:pic>
        <p:nvPicPr>
          <p:cNvPr id="568" name="图片 18" descr="1.png"/>
          <p:cNvPicPr/>
          <p:nvPr/>
        </p:nvPicPr>
        <p:blipFill>
          <a:blip r:embed="rId5"/>
          <a:stretch/>
        </p:blipFill>
        <p:spPr>
          <a:xfrm>
            <a:off x="3714840" y="500040"/>
            <a:ext cx="2428920" cy="3290760"/>
          </a:xfrm>
          <a:prstGeom prst="rect">
            <a:avLst/>
          </a:prstGeom>
          <a:ln w="0">
            <a:noFill/>
          </a:ln>
        </p:spPr>
      </p:pic>
      <p:sp>
        <p:nvSpPr>
          <p:cNvPr id="56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6"/>
          <p:cNvSpPr/>
          <p:nvPr/>
        </p:nvSpPr>
        <p:spPr>
          <a:xfrm>
            <a:off x="578880" y="83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10"/>
          <p:cNvSpPr/>
          <p:nvPr/>
        </p:nvSpPr>
        <p:spPr>
          <a:xfrm>
            <a:off x="2493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11"/>
          <p:cNvSpPr/>
          <p:nvPr/>
        </p:nvSpPr>
        <p:spPr>
          <a:xfrm>
            <a:off x="442152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15"/>
          <p:cNvSpPr/>
          <p:nvPr/>
        </p:nvSpPr>
        <p:spPr>
          <a:xfrm>
            <a:off x="5922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16"/>
          <p:cNvSpPr/>
          <p:nvPr/>
        </p:nvSpPr>
        <p:spPr>
          <a:xfrm>
            <a:off x="44233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图片 14" descr="1.png"/>
          <p:cNvPicPr/>
          <p:nvPr/>
        </p:nvPicPr>
        <p:blipFill>
          <a:blip r:embed="rId2"/>
          <a:stretch/>
        </p:blipFill>
        <p:spPr>
          <a:xfrm>
            <a:off x="2357280" y="571680"/>
            <a:ext cx="5286600" cy="5108400"/>
          </a:xfrm>
          <a:prstGeom prst="rect">
            <a:avLst/>
          </a:prstGeom>
          <a:ln w="0">
            <a:noFill/>
          </a:ln>
        </p:spPr>
      </p:pic>
      <p:sp>
        <p:nvSpPr>
          <p:cNvPr id="57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6"/>
          <p:cNvSpPr/>
          <p:nvPr/>
        </p:nvSpPr>
        <p:spPr>
          <a:xfrm>
            <a:off x="601200" y="83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18"/>
          <p:cNvSpPr/>
          <p:nvPr/>
        </p:nvSpPr>
        <p:spPr>
          <a:xfrm>
            <a:off x="31406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26"/>
          <p:cNvSpPr/>
          <p:nvPr/>
        </p:nvSpPr>
        <p:spPr>
          <a:xfrm>
            <a:off x="314064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38"/>
          <p:cNvSpPr/>
          <p:nvPr/>
        </p:nvSpPr>
        <p:spPr>
          <a:xfrm>
            <a:off x="571212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39"/>
          <p:cNvSpPr/>
          <p:nvPr/>
        </p:nvSpPr>
        <p:spPr>
          <a:xfrm>
            <a:off x="5712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18443"/>
          <p:cNvSpPr/>
          <p:nvPr/>
        </p:nvSpPr>
        <p:spPr>
          <a:xfrm>
            <a:off x="1116000" y="58053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图片 17" descr="1.png"/>
          <p:cNvPicPr/>
          <p:nvPr/>
        </p:nvPicPr>
        <p:blipFill>
          <a:blip r:embed="rId2"/>
          <a:stretch/>
        </p:blipFill>
        <p:spPr>
          <a:xfrm>
            <a:off x="1862280" y="928800"/>
            <a:ext cx="3352680" cy="2714400"/>
          </a:xfrm>
          <a:prstGeom prst="rect">
            <a:avLst/>
          </a:prstGeom>
          <a:ln w="0">
            <a:noFill/>
          </a:ln>
        </p:spPr>
      </p:pic>
      <p:pic>
        <p:nvPicPr>
          <p:cNvPr id="590" name="图片 18" descr="1.png"/>
          <p:cNvPicPr/>
          <p:nvPr/>
        </p:nvPicPr>
        <p:blipFill>
          <a:blip r:embed="rId3"/>
          <a:stretch/>
        </p:blipFill>
        <p:spPr>
          <a:xfrm>
            <a:off x="4791240" y="928800"/>
            <a:ext cx="3352680" cy="271440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19" descr="1.png"/>
          <p:cNvPicPr/>
          <p:nvPr/>
        </p:nvPicPr>
        <p:blipFill>
          <a:blip r:embed="rId4"/>
          <a:stretch/>
        </p:blipFill>
        <p:spPr>
          <a:xfrm>
            <a:off x="1862280" y="3071880"/>
            <a:ext cx="3352680" cy="2714400"/>
          </a:xfrm>
          <a:prstGeom prst="rect">
            <a:avLst/>
          </a:prstGeom>
          <a:ln w="0">
            <a:noFill/>
          </a:ln>
        </p:spPr>
      </p:pic>
      <p:pic>
        <p:nvPicPr>
          <p:cNvPr id="592" name="图片 20" descr="1.png"/>
          <p:cNvPicPr/>
          <p:nvPr/>
        </p:nvPicPr>
        <p:blipFill>
          <a:blip r:embed="rId5"/>
          <a:stretch/>
        </p:blipFill>
        <p:spPr>
          <a:xfrm>
            <a:off x="4791240" y="3071880"/>
            <a:ext cx="3352680" cy="2714400"/>
          </a:xfrm>
          <a:prstGeom prst="rect">
            <a:avLst/>
          </a:prstGeom>
          <a:ln w="0">
            <a:noFill/>
          </a:ln>
        </p:spPr>
      </p:pic>
      <p:sp>
        <p:nvSpPr>
          <p:cNvPr id="59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6"/>
          <p:cNvSpPr/>
          <p:nvPr/>
        </p:nvSpPr>
        <p:spPr>
          <a:xfrm>
            <a:off x="601200" y="83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12"/>
          <p:cNvSpPr/>
          <p:nvPr/>
        </p:nvSpPr>
        <p:spPr>
          <a:xfrm>
            <a:off x="60026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13"/>
          <p:cNvSpPr/>
          <p:nvPr/>
        </p:nvSpPr>
        <p:spPr>
          <a:xfrm>
            <a:off x="57884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14"/>
          <p:cNvSpPr/>
          <p:nvPr/>
        </p:nvSpPr>
        <p:spPr>
          <a:xfrm>
            <a:off x="30740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31"/>
          <p:cNvSpPr/>
          <p:nvPr/>
        </p:nvSpPr>
        <p:spPr>
          <a:xfrm>
            <a:off x="30740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图片 15" descr="1.png"/>
          <p:cNvPicPr/>
          <p:nvPr/>
        </p:nvPicPr>
        <p:blipFill>
          <a:blip r:embed="rId2"/>
          <a:stretch/>
        </p:blipFill>
        <p:spPr>
          <a:xfrm>
            <a:off x="1214280" y="1852560"/>
            <a:ext cx="3214800" cy="421956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16" descr="1.png"/>
          <p:cNvPicPr/>
          <p:nvPr/>
        </p:nvPicPr>
        <p:blipFill>
          <a:blip r:embed="rId3"/>
          <a:stretch/>
        </p:blipFill>
        <p:spPr>
          <a:xfrm>
            <a:off x="6000840" y="1852560"/>
            <a:ext cx="3214440" cy="421956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17" descr="1.png"/>
          <p:cNvPicPr/>
          <p:nvPr/>
        </p:nvPicPr>
        <p:blipFill>
          <a:blip r:embed="rId4"/>
          <a:stretch/>
        </p:blipFill>
        <p:spPr>
          <a:xfrm>
            <a:off x="3571920" y="495360"/>
            <a:ext cx="3214800" cy="4219560"/>
          </a:xfrm>
          <a:prstGeom prst="rect">
            <a:avLst/>
          </a:prstGeom>
          <a:ln w="0">
            <a:noFill/>
          </a:ln>
        </p:spPr>
      </p:pic>
      <p:sp>
        <p:nvSpPr>
          <p:cNvPr id="60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6"/>
          <p:cNvSpPr/>
          <p:nvPr/>
        </p:nvSpPr>
        <p:spPr>
          <a:xfrm>
            <a:off x="578880" y="83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11"/>
          <p:cNvSpPr/>
          <p:nvPr/>
        </p:nvSpPr>
        <p:spPr>
          <a:xfrm>
            <a:off x="44978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12"/>
          <p:cNvSpPr/>
          <p:nvPr/>
        </p:nvSpPr>
        <p:spPr>
          <a:xfrm>
            <a:off x="69267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17"/>
          <p:cNvSpPr/>
          <p:nvPr/>
        </p:nvSpPr>
        <p:spPr>
          <a:xfrm>
            <a:off x="21405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图片 10" descr="1.png"/>
          <p:cNvPicPr/>
          <p:nvPr/>
        </p:nvPicPr>
        <p:blipFill>
          <a:blip r:embed="rId2"/>
          <a:stretch/>
        </p:blipFill>
        <p:spPr>
          <a:xfrm>
            <a:off x="1143000" y="1571760"/>
            <a:ext cx="2643120" cy="3317760"/>
          </a:xfrm>
          <a:prstGeom prst="rect">
            <a:avLst/>
          </a:prstGeom>
          <a:ln w="0">
            <a:noFill/>
          </a:ln>
        </p:spPr>
      </p:pic>
      <p:pic>
        <p:nvPicPr>
          <p:cNvPr id="614" name="图片 11" descr="1.png"/>
          <p:cNvPicPr/>
          <p:nvPr/>
        </p:nvPicPr>
        <p:blipFill>
          <a:blip r:embed="rId3"/>
          <a:stretch/>
        </p:blipFill>
        <p:spPr>
          <a:xfrm>
            <a:off x="3500280" y="1571760"/>
            <a:ext cx="2643480" cy="3317760"/>
          </a:xfrm>
          <a:prstGeom prst="rect">
            <a:avLst/>
          </a:prstGeom>
          <a:ln w="0">
            <a:noFill/>
          </a:ln>
        </p:spPr>
      </p:pic>
      <p:pic>
        <p:nvPicPr>
          <p:cNvPr id="615" name="图片 12" descr="1.png"/>
          <p:cNvPicPr/>
          <p:nvPr/>
        </p:nvPicPr>
        <p:blipFill>
          <a:blip r:embed="rId4"/>
          <a:stretch/>
        </p:blipFill>
        <p:spPr>
          <a:xfrm>
            <a:off x="5929200" y="1571760"/>
            <a:ext cx="2643480" cy="3317760"/>
          </a:xfrm>
          <a:prstGeom prst="rect">
            <a:avLst/>
          </a:prstGeom>
          <a:ln w="0">
            <a:noFill/>
          </a:ln>
        </p:spPr>
      </p:pic>
      <p:sp>
        <p:nvSpPr>
          <p:cNvPr id="6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6"/>
          <p:cNvSpPr/>
          <p:nvPr/>
        </p:nvSpPr>
        <p:spPr>
          <a:xfrm>
            <a:off x="578880" y="83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11"/>
          <p:cNvSpPr/>
          <p:nvPr/>
        </p:nvSpPr>
        <p:spPr>
          <a:xfrm>
            <a:off x="4426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12"/>
          <p:cNvSpPr/>
          <p:nvPr/>
        </p:nvSpPr>
        <p:spPr>
          <a:xfrm>
            <a:off x="69267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17"/>
          <p:cNvSpPr/>
          <p:nvPr/>
        </p:nvSpPr>
        <p:spPr>
          <a:xfrm>
            <a:off x="20689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图片 10" descr="1.png"/>
          <p:cNvPicPr/>
          <p:nvPr/>
        </p:nvPicPr>
        <p:blipFill>
          <a:blip r:embed="rId2"/>
          <a:stretch/>
        </p:blipFill>
        <p:spPr>
          <a:xfrm>
            <a:off x="2643120" y="2689200"/>
            <a:ext cx="2286000" cy="227808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11" descr="2.png"/>
          <p:cNvPicPr/>
          <p:nvPr/>
        </p:nvPicPr>
        <p:blipFill>
          <a:blip r:embed="rId3"/>
          <a:stretch/>
        </p:blipFill>
        <p:spPr>
          <a:xfrm>
            <a:off x="5000760" y="2689200"/>
            <a:ext cx="1938240" cy="185724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12" descr="3.png"/>
          <p:cNvPicPr/>
          <p:nvPr/>
        </p:nvPicPr>
        <p:blipFill>
          <a:blip r:embed="rId4"/>
          <a:stretch/>
        </p:blipFill>
        <p:spPr>
          <a:xfrm>
            <a:off x="5000760" y="928800"/>
            <a:ext cx="1643040" cy="1689120"/>
          </a:xfrm>
          <a:prstGeom prst="rect">
            <a:avLst/>
          </a:prstGeom>
          <a:ln w="0">
            <a:noFill/>
          </a:ln>
        </p:spPr>
      </p:pic>
      <p:pic>
        <p:nvPicPr>
          <p:cNvPr id="627" name="图片 13" descr="4.png"/>
          <p:cNvPicPr/>
          <p:nvPr/>
        </p:nvPicPr>
        <p:blipFill>
          <a:blip r:embed="rId5"/>
          <a:stretch/>
        </p:blipFill>
        <p:spPr>
          <a:xfrm>
            <a:off x="3643200" y="1473120"/>
            <a:ext cx="1285920" cy="1216080"/>
          </a:xfrm>
          <a:prstGeom prst="rect">
            <a:avLst/>
          </a:prstGeom>
          <a:ln w="0">
            <a:noFill/>
          </a:ln>
        </p:spPr>
      </p:pic>
      <p:sp>
        <p:nvSpPr>
          <p:cNvPr id="62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6"/>
          <p:cNvSpPr/>
          <p:nvPr/>
        </p:nvSpPr>
        <p:spPr>
          <a:xfrm>
            <a:off x="578880" y="83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11"/>
          <p:cNvSpPr/>
          <p:nvPr/>
        </p:nvSpPr>
        <p:spPr>
          <a:xfrm>
            <a:off x="54266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12"/>
          <p:cNvSpPr/>
          <p:nvPr/>
        </p:nvSpPr>
        <p:spPr>
          <a:xfrm>
            <a:off x="55695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13"/>
          <p:cNvSpPr/>
          <p:nvPr/>
        </p:nvSpPr>
        <p:spPr>
          <a:xfrm>
            <a:off x="33548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17"/>
          <p:cNvSpPr/>
          <p:nvPr/>
        </p:nvSpPr>
        <p:spPr>
          <a:xfrm>
            <a:off x="35690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06Z</dcterms:modified>
  <cp:revision>34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