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F61-3B06-4E19-BF52-D8ABFCD1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990-4EBE-4F73-A0D5-57D56E6E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901-384E-48D6-B8EE-A2B9C4A4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6FE-F863-4E4A-82BE-D455AE0E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5B5-390A-4A8D-9752-E4F2FED6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994-7CF4-4B5E-AE34-B17FEF6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544-7AA5-4A5B-BE3F-47519D7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C80-8D3F-404D-A04A-6E13A03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906-7BE7-429C-88DC-A4E686BF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075C-9AC4-4AC9-AE80-FF5C7492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161-F211-43CE-8938-E0BADB66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98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3080" y="243828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666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98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3080" y="4667400"/>
            <a:ext cx="23551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EE2-6BE7-4D27-A8E2-ACECDB8C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466740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6524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2438280"/>
            <a:ext cx="35697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667400"/>
            <a:ext cx="7315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9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91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24382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772-B7A8-47BB-8C45-4BFC8930B4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4CF1-DB00-4D56-B6AD-5F4FD1EC23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962520"/>
            <a:ext cx="4648320" cy="70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我的求职简历</a:t>
            </a:r>
            <a:endParaRPr b="0" lang="en-US" sz="4000" spc="-1" strike="noStrike">
              <a:solidFill>
                <a:srgbClr val="86491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1760" y="4800240"/>
            <a:ext cx="1600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姓名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文本框 4100"/>
          <p:cNvSpPr/>
          <p:nvPr/>
        </p:nvSpPr>
        <p:spPr>
          <a:xfrm>
            <a:off x="1822320" y="380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椭圆形状背景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简历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FCE-CFAA-4B46-BD94-532D336D7A67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6145"/>
          <p:cNvSpPr/>
          <p:nvPr/>
        </p:nvSpPr>
        <p:spPr>
          <a:xfrm>
            <a:off x="2133720" y="15238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6491e"/>
                </a:solidFill>
                <a:uFillTx/>
                <a:latin typeface="Arial"/>
                <a:ea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05:06:43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19Z</dcterms:modified>
  <cp:revision>1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