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C0A-F5DD-4BE5-94CE-9D700AAA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EC6-9993-47D4-99FF-3D62BF00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52E-6F87-4BA6-AC9A-65A9F017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D58-A692-4A3D-9E09-DCD3B7BE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24B7-51E5-4C8F-87CC-F0338318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B09-6BF4-4D87-8CB0-E22007EC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6763-B6DB-488B-BFF0-ABC53DF6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F817-B032-44BE-A51D-4DC3CA4C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3AB5-2F17-486F-89BE-004C5DE3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D22-88A1-4D81-9115-27373F09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B906-198B-4C05-89C6-7AA451E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8F0-73A0-4F58-89E1-3424318A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B163-F781-44A2-92C7-44864F5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EA28-37F0-4E78-943A-983755F9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DC8-901B-45E5-BB8F-18205947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6187-9BC7-493C-9DDB-EE2462F6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821D-C839-444E-8B73-DDDC9435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F1C-7495-4C39-A7CC-3DEA0CD3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F44-C2EE-4F89-8ACB-148CE4CF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84B-65D1-44FD-87D3-1529107B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040-DE8E-4098-9053-FFD25440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2F8-0C19-4A87-82B6-26EFDB5D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F99-70FF-479F-A653-D8136973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69A-7DCC-4629-A7FA-FD1F3AB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BD0A-6FCE-4A72-AE36-8417F03D4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081E-DDC0-4397-8702-F3090BB40B2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4571-D862-4FFF-9564-8DCC3AD471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ic_252907"/>
          <p:cNvPicPr/>
          <p:nvPr/>
        </p:nvPicPr>
        <p:blipFill>
          <a:blip r:embed="rId1"/>
          <a:srcRect l="7396" t="4414" r="594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295280" y="838080"/>
            <a:ext cx="74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王二小课件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04920" y="5410080"/>
            <a:ext cx="19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体育东路小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林美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ic_252910"/>
          <p:cNvPicPr/>
          <p:nvPr/>
        </p:nvPicPr>
        <p:blipFill>
          <a:blip r:embed="rId1"/>
          <a:srcRect l="0" t="0" r="44168" b="0"/>
          <a:stretch/>
        </p:blipFill>
        <p:spPr>
          <a:xfrm>
            <a:off x="0" y="-17640"/>
            <a:ext cx="8839080" cy="6875640"/>
          </a:xfrm>
          <a:prstGeom prst="rect">
            <a:avLst/>
          </a:prstGeom>
          <a:ln w="0">
            <a:noFill/>
          </a:ln>
        </p:spPr>
      </p:pic>
      <p:pic>
        <p:nvPicPr>
          <p:cNvPr id="94" name="200612282248358242.mp3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52280" y="380880"/>
            <a:ext cx="8915400" cy="379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牛儿还在山坡吃草，放牛的却不知道哪儿去了，不是他贪玩耍丢了牛，那放牛的孩子王二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九月十六那天早上，敌人向一条山沟扫荡，山沟里掩护着后方机关，掩护着几千老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在那十分危急的时候，敌人来到这个山口，昏头昏脑地迷失了方向，抓住了二小要他带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小他顺从地走在前面，把敌人带进我们的埋伏圈，四下里砰砰叭叭响起了枪炮，敌人才知道了受了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敌人把二小挑在枪尖，摔死在大石头的旁边，我们的十三岁的王二小，英勇地牺牲在山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部和老乡得到了安全，他却睡在冰冷的山岭，他的脸上含着微笑，他的血染红蓝的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秋风走遍了每个村庄，它把这个动人的故事传扬，每一个村庄都含着眼泪，歌唱着二小放牛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歌唱二小放牛郎.mp3" descr=""/>
          <p:cNvPicPr/>
          <p:nvPr/>
        </p:nvPicPr>
        <p:blipFill>
          <a:blip r:embed="rId3"/>
          <a:stretch/>
        </p:blipFill>
        <p:spPr>
          <a:xfrm>
            <a:off x="83059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985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49858"/>
                            </p:stCondLst>
                            <p:childTnLst>
                              <p:par>
                                <p:cTn id="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4985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pic_77520"/>
          <p:cNvPicPr/>
          <p:nvPr/>
        </p:nvPicPr>
        <p:blipFill>
          <a:blip r:embed="rId2"/>
          <a:srcRect l="3576" t="10514" r="9824" b="76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371600" y="2971800"/>
            <a:ext cx="5181480" cy="1828800"/>
            <a:chOff x="1371600" y="2971800"/>
            <a:chExt cx="5181480" cy="1828800"/>
          </a:xfrm>
        </p:grpSpPr>
        <p:sp>
          <p:nvSpPr>
            <p:cNvPr id="103" name="Line 6"/>
            <p:cNvSpPr/>
            <p:nvPr/>
          </p:nvSpPr>
          <p:spPr>
            <a:xfrm>
              <a:off x="1371600" y="2971800"/>
              <a:ext cx="5181480" cy="18288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371600" y="2971800"/>
              <a:ext cx="518148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371600" y="1752480"/>
            <a:ext cx="304920" cy="2590920"/>
            <a:chOff x="1371600" y="1752480"/>
            <a:chExt cx="304920" cy="2590920"/>
          </a:xfrm>
        </p:grpSpPr>
        <p:sp>
          <p:nvSpPr>
            <p:cNvPr id="106" name="Line 7"/>
            <p:cNvSpPr/>
            <p:nvPr/>
          </p:nvSpPr>
          <p:spPr>
            <a:xfrm>
              <a:off x="1371600" y="1752480"/>
              <a:ext cx="304920" cy="259092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371600" y="1752480"/>
              <a:ext cx="304920" cy="259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52280" y="1828800"/>
            <a:ext cx="2819520" cy="4191120"/>
            <a:chOff x="152280" y="1828800"/>
            <a:chExt cx="2819520" cy="4191120"/>
          </a:xfrm>
        </p:grpSpPr>
        <p:sp>
          <p:nvSpPr>
            <p:cNvPr id="109" name="Line 8"/>
            <p:cNvSpPr/>
            <p:nvPr/>
          </p:nvSpPr>
          <p:spPr>
            <a:xfrm flipH="1">
              <a:off x="152280" y="1828800"/>
              <a:ext cx="2819520" cy="419112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152280" y="1828800"/>
              <a:ext cx="281952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200040" y="4038480"/>
            <a:ext cx="1600560" cy="685800"/>
            <a:chOff x="3200040" y="4038480"/>
            <a:chExt cx="1600560" cy="685800"/>
          </a:xfrm>
        </p:grpSpPr>
        <p:sp>
          <p:nvSpPr>
            <p:cNvPr id="112" name="Line 9"/>
            <p:cNvSpPr/>
            <p:nvPr/>
          </p:nvSpPr>
          <p:spPr>
            <a:xfrm flipH="1">
              <a:off x="3200040" y="4038480"/>
              <a:ext cx="1600200" cy="68580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200400" y="40384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8153280" y="4114800"/>
            <a:ext cx="76320" cy="1905120"/>
            <a:chOff x="8153280" y="4114800"/>
            <a:chExt cx="76320" cy="1905120"/>
          </a:xfrm>
        </p:grpSpPr>
        <p:sp>
          <p:nvSpPr>
            <p:cNvPr id="115" name="Line 10"/>
            <p:cNvSpPr/>
            <p:nvPr/>
          </p:nvSpPr>
          <p:spPr>
            <a:xfrm>
              <a:off x="8153280" y="4114800"/>
              <a:ext cx="76320" cy="190512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8153280" y="4114800"/>
              <a:ext cx="7632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523880" y="1752120"/>
            <a:ext cx="6400800" cy="4038840"/>
            <a:chOff x="1523880" y="1752120"/>
            <a:chExt cx="6400800" cy="4038840"/>
          </a:xfrm>
        </p:grpSpPr>
        <p:sp>
          <p:nvSpPr>
            <p:cNvPr id="118" name="Line 11"/>
            <p:cNvSpPr/>
            <p:nvPr/>
          </p:nvSpPr>
          <p:spPr>
            <a:xfrm flipV="1">
              <a:off x="1523880" y="1752120"/>
              <a:ext cx="6400800" cy="4038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10800000">
              <a:off x="1523880" y="1751760"/>
              <a:ext cx="6400800" cy="403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4120" y="2286000"/>
            <a:ext cx="304560" cy="2666880"/>
            <a:chOff x="5334120" y="2286000"/>
            <a:chExt cx="304560" cy="2666880"/>
          </a:xfrm>
        </p:grpSpPr>
        <p:sp>
          <p:nvSpPr>
            <p:cNvPr id="121" name="Line 12"/>
            <p:cNvSpPr/>
            <p:nvPr/>
          </p:nvSpPr>
          <p:spPr>
            <a:xfrm>
              <a:off x="5334120" y="2286000"/>
              <a:ext cx="304560" cy="2666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5334120" y="2286000"/>
              <a:ext cx="304560" cy="26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629400" y="3429000"/>
            <a:ext cx="990720" cy="2590920"/>
            <a:chOff x="6629400" y="3429000"/>
            <a:chExt cx="990720" cy="2590920"/>
          </a:xfrm>
        </p:grpSpPr>
        <p:sp>
          <p:nvSpPr>
            <p:cNvPr id="124" name="Line 13"/>
            <p:cNvSpPr/>
            <p:nvPr/>
          </p:nvSpPr>
          <p:spPr>
            <a:xfrm>
              <a:off x="6629400" y="3429000"/>
              <a:ext cx="990720" cy="2590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6629400" y="3429000"/>
              <a:ext cx="990720" cy="259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7760" y="3276720"/>
            <a:ext cx="686160" cy="2971800"/>
            <a:chOff x="3047760" y="3276720"/>
            <a:chExt cx="686160" cy="2971800"/>
          </a:xfrm>
        </p:grpSpPr>
        <p:sp>
          <p:nvSpPr>
            <p:cNvPr id="127" name="Line 14"/>
            <p:cNvSpPr/>
            <p:nvPr/>
          </p:nvSpPr>
          <p:spPr>
            <a:xfrm flipH="1">
              <a:off x="3047760" y="3276720"/>
              <a:ext cx="685800" cy="2971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048120" y="3276720"/>
              <a:ext cx="68580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343040" y="1676520"/>
            <a:ext cx="2134080" cy="2895480"/>
            <a:chOff x="4343040" y="1676520"/>
            <a:chExt cx="2134080" cy="2895480"/>
          </a:xfrm>
        </p:grpSpPr>
        <p:sp>
          <p:nvSpPr>
            <p:cNvPr id="130" name="Line 15"/>
            <p:cNvSpPr/>
            <p:nvPr/>
          </p:nvSpPr>
          <p:spPr>
            <a:xfrm flipH="1">
              <a:off x="4343040" y="1676520"/>
              <a:ext cx="2133720" cy="2895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343400" y="1676520"/>
              <a:ext cx="2133720" cy="289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743200" y="3962520"/>
            <a:ext cx="2895480" cy="2133360"/>
            <a:chOff x="2743200" y="3962520"/>
            <a:chExt cx="2895480" cy="2133360"/>
          </a:xfrm>
        </p:grpSpPr>
        <p:sp>
          <p:nvSpPr>
            <p:cNvPr id="133" name="Line 16"/>
            <p:cNvSpPr/>
            <p:nvPr/>
          </p:nvSpPr>
          <p:spPr>
            <a:xfrm>
              <a:off x="2743200" y="3962520"/>
              <a:ext cx="2895480" cy="2133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2743200" y="3962520"/>
              <a:ext cx="289548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8200"/>
          <p:cNvSpPr/>
          <p:nvPr/>
        </p:nvSpPr>
        <p:spPr>
          <a:xfrm>
            <a:off x="1905120" y="685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ic_77521"/>
          <p:cNvPicPr/>
          <p:nvPr/>
        </p:nvPicPr>
        <p:blipFill>
          <a:blip r:embed="rId2"/>
          <a:srcRect l="8436" t="1954" r="0" b="39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pic_77521"/>
          <p:cNvPicPr/>
          <p:nvPr/>
        </p:nvPicPr>
        <p:blipFill>
          <a:blip r:embed="rId2"/>
          <a:srcRect l="10479" t="60452" r="480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8200"/>
          <p:cNvSpPr/>
          <p:nvPr/>
        </p:nvSpPr>
        <p:spPr>
          <a:xfrm>
            <a:off x="1828800" y="762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533520" y="457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会填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9480" y="1371600"/>
            <a:ext cx="7391520" cy="42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ù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助     哨     荡      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i           ā y       x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枪    杀   英    雄     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" y="2133720"/>
            <a:ext cx="762120" cy="360"/>
            <a:chOff x="685800" y="2133720"/>
            <a:chExt cx="762120" cy="360"/>
          </a:xfrm>
        </p:grpSpPr>
        <p:sp>
          <p:nvSpPr>
            <p:cNvPr id="154" name="Line 7"/>
            <p:cNvSpPr/>
            <p:nvPr/>
          </p:nvSpPr>
          <p:spPr>
            <a:xfrm>
              <a:off x="685800" y="2133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85800" y="2133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133720"/>
            <a:ext cx="762120" cy="360"/>
            <a:chOff x="2209680" y="2133720"/>
            <a:chExt cx="762120" cy="360"/>
          </a:xfrm>
        </p:grpSpPr>
        <p:sp>
          <p:nvSpPr>
            <p:cNvPr id="157" name="Line 8"/>
            <p:cNvSpPr/>
            <p:nvPr/>
          </p:nvSpPr>
          <p:spPr>
            <a:xfrm>
              <a:off x="2209680" y="21337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209680" y="2133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14800" y="2133720"/>
            <a:ext cx="1219320" cy="360"/>
            <a:chOff x="4114800" y="2133720"/>
            <a:chExt cx="1219320" cy="360"/>
          </a:xfrm>
        </p:grpSpPr>
        <p:sp>
          <p:nvSpPr>
            <p:cNvPr id="160" name="Line 9"/>
            <p:cNvSpPr/>
            <p:nvPr/>
          </p:nvSpPr>
          <p:spPr>
            <a:xfrm>
              <a:off x="4114800" y="2133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114800" y="213372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638680" y="2133720"/>
            <a:ext cx="1447920" cy="360"/>
            <a:chOff x="5638680" y="2133720"/>
            <a:chExt cx="1447920" cy="360"/>
          </a:xfrm>
        </p:grpSpPr>
        <p:sp>
          <p:nvSpPr>
            <p:cNvPr id="163" name="Line 10"/>
            <p:cNvSpPr/>
            <p:nvPr/>
          </p:nvSpPr>
          <p:spPr>
            <a:xfrm>
              <a:off x="5638680" y="21337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638680" y="213372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4419720"/>
            <a:ext cx="838080" cy="360"/>
            <a:chOff x="1143000" y="4419720"/>
            <a:chExt cx="838080" cy="360"/>
          </a:xfrm>
        </p:grpSpPr>
        <p:sp>
          <p:nvSpPr>
            <p:cNvPr id="166" name="Line 11"/>
            <p:cNvSpPr/>
            <p:nvPr/>
          </p:nvSpPr>
          <p:spPr>
            <a:xfrm>
              <a:off x="1143000" y="4419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143000" y="44197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4419720"/>
            <a:ext cx="685800" cy="360"/>
            <a:chOff x="2209680" y="4419720"/>
            <a:chExt cx="685800" cy="360"/>
          </a:xfrm>
        </p:grpSpPr>
        <p:sp>
          <p:nvSpPr>
            <p:cNvPr id="169" name="Line 12"/>
            <p:cNvSpPr/>
            <p:nvPr/>
          </p:nvSpPr>
          <p:spPr>
            <a:xfrm>
              <a:off x="2209680" y="4419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209680" y="44197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581280" y="4495680"/>
            <a:ext cx="838440" cy="360"/>
            <a:chOff x="3581280" y="4495680"/>
            <a:chExt cx="838440" cy="360"/>
          </a:xfrm>
        </p:grpSpPr>
        <p:sp>
          <p:nvSpPr>
            <p:cNvPr id="172" name="Line 13"/>
            <p:cNvSpPr/>
            <p:nvPr/>
          </p:nvSpPr>
          <p:spPr>
            <a:xfrm>
              <a:off x="3581280" y="4495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581280" y="4495680"/>
              <a:ext cx="838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05520" y="4419720"/>
            <a:ext cx="838080" cy="360"/>
            <a:chOff x="5105520" y="4419720"/>
            <a:chExt cx="838080" cy="360"/>
          </a:xfrm>
        </p:grpSpPr>
        <p:sp>
          <p:nvSpPr>
            <p:cNvPr id="175" name="Line 14"/>
            <p:cNvSpPr/>
            <p:nvPr/>
          </p:nvSpPr>
          <p:spPr>
            <a:xfrm>
              <a:off x="5105520" y="4419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105520" y="44197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248520" y="4495680"/>
            <a:ext cx="1218960" cy="360"/>
            <a:chOff x="6248520" y="4495680"/>
            <a:chExt cx="1218960" cy="360"/>
          </a:xfrm>
        </p:grpSpPr>
        <p:sp>
          <p:nvSpPr>
            <p:cNvPr id="178" name="Line 15"/>
            <p:cNvSpPr/>
            <p:nvPr/>
          </p:nvSpPr>
          <p:spPr>
            <a:xfrm>
              <a:off x="6248520" y="4495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248520" y="449568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16"/>
          <p:cNvSpPr/>
          <p:nvPr/>
        </p:nvSpPr>
        <p:spPr>
          <a:xfrm>
            <a:off x="685800" y="15238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133720" y="14619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114800" y="14479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638680" y="13716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ù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106668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133720" y="3733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3429000" y="3809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4952880" y="373392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6019920" y="36576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hō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575F-9969-44D2-AA48-BE35FA38CD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pic_252907"/>
          <p:cNvPicPr/>
          <p:nvPr/>
        </p:nvPicPr>
        <p:blipFill>
          <a:blip r:embed="rId1"/>
          <a:srcRect l="0" t="0" r="52465" b="55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533520" y="38088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会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57200" y="1295280"/>
            <a:ext cx="8381880" cy="19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王二小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敌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带进了埋伏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敌人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王二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带进了埋伏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371600" y="43434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”字句      “被”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46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41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