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908C-989B-40BC-AB34-E9BC4342A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CA60-458C-4D61-B231-7E39C44FD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AEB0-B72D-47D2-9C5A-1A3733C8A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CBC7-0ED4-4827-BE06-5808FB272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9341A-628A-4575-9899-FB06CB360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87C59-658E-4721-A193-4A06B70D9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0E861-63B0-42B0-9B32-E7E3DBBFD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AE6C4-EBFA-482E-9BCF-A3AFB7B54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EC6A2-42C6-468F-9CF4-AC1957A8E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73A9B-CC2B-455D-B49C-8ADD91C07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D4C19-4053-4D46-B387-B87106E51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0D32-8482-463A-933B-4EFD8C909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36408-8DA2-4CCE-9DAF-EA3636150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DB59D-0D2C-4854-918C-3ADBAD0B9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3D071-9394-43B8-B4ED-D72A64209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70B2E-349A-40B8-9CD4-D1D8777CA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C0F34-D03F-4732-AE6B-4FA603420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0302-662F-41C7-8DE6-BA1E3234C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2433-DE34-4055-9B6F-D7EC52F52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6EEA-0506-438C-8C7D-B024DA221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DFCF-8888-45D0-AD97-7FE27D2DD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D455-12E3-4F2D-A91F-8EC73A2C1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8C7A-E5DC-4E8A-8783-D0127769C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AA63-3175-4168-B502-A09A09137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5539B-4073-4FDD-878C-8C4095B1ECCE}" type="slidenum">
              <a:rPr b="0" lang="zh-CN" sz="1200" spc="-1" strike="noStrike">
                <a:solidFill>
                  <a:srgbClr val="898989"/>
                </a:solidFill>
                <a:latin typeface="Arial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C8B9B-5CA9-4EC6-8BDF-F2CBE0613D44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BEEC3-B93C-482F-BE34-16B92AC453B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3"/>
          <p:cNvSpPr/>
          <p:nvPr/>
        </p:nvSpPr>
        <p:spPr>
          <a:xfrm>
            <a:off x="3000240" y="4938840"/>
            <a:ext cx="528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OWERPOI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4"/>
          <p:cNvSpPr/>
          <p:nvPr/>
        </p:nvSpPr>
        <p:spPr>
          <a:xfrm>
            <a:off x="3429000" y="5653080"/>
            <a:ext cx="414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圣诞节及相关类别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3075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3076"/>
          <p:cNvSpPr/>
          <p:nvPr/>
        </p:nvSpPr>
        <p:spPr>
          <a:xfrm>
            <a:off x="2244600" y="189000"/>
            <a:ext cx="537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唯美圣诞节节日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文本框 5121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A6B54-26D3-4E49-9847-1C2A527F3CD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1-24T03:31:01Z</dcterms:modified>
  <cp:revision>79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