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7D2-6571-42CE-85B0-B6E0B242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DA3-E973-44C3-86F1-2305D4CD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058-FA1F-433F-AFF2-F80729F0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D129-0777-4278-9E73-689AB9AF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FBBE-AEF9-42DA-83DE-BF85A05E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14C0-8847-4F1A-A74F-62F5FCAD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1950-64AD-44C2-8607-2625B5B2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5DAE-25B5-4E21-BDC7-84F193D5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A06F-FF29-4C6A-A2EA-9BC8F88D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1A8B-B995-4763-BF5B-91CB716E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B26F-765E-4F2A-AFE1-97A010B2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59D-DA94-4445-8C43-EE042318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C0E2-F06A-456D-9AE3-04F7FAC5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4414-B4AA-483D-95C0-AA39A442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BDE5-9985-486B-AAF6-AE233B72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EA58-B793-4A7B-AC83-D4F2E9EC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EF13-2E97-4EF5-A892-D3262110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13E-6090-4063-B3C4-3E623477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D19C-04CF-454C-9F6B-C8856DDA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047-B574-46FA-90EC-1118727F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3A62-E3B3-4DCE-87C7-54C9ABC1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157-75B9-42BC-9BBC-67447EA8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6FB-B542-4EFF-8677-A60E75FE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FBD0-D06E-448A-B512-356DC067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DBBA-5281-40D2-851C-E594A9AF52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394F-4085-4EE4-BFD5-C7146FD04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7ACE-0ADA-4EB6-9788-A436423E86B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DE05-EF73-491B-81F4-904083F5F09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76212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万圣节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打包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074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6A31-6C3A-4A45-8BDA-3B0996B6A0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4099"/>
          <p:cNvSpPr/>
          <p:nvPr/>
        </p:nvSpPr>
        <p:spPr>
          <a:xfrm>
            <a:off x="914400" y="2895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8:37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