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2.png" ContentType="image/png"/>
  <Override PartName="/ppt/media/image4.png" ContentType="image/png"/>
  <Override PartName="/ppt/media/image6.png" ContentType="image/png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1516-6096-44B7-B0EF-BE3DFC697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1370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B1F0-486B-4517-A952-49DC61A35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7881C5-E5FA-4CE0-8656-36B166835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AE73B5-81ED-4302-81D5-9B208376B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898200" y="263160"/>
            <a:ext cx="6102360" cy="22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C239D6-F099-43BD-B122-EFB62952E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B65972-CCCB-4FD3-BC55-54A1B018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89F5BE-BDA6-46A9-9D53-1941CE411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E16712-6C9C-4C5C-8F04-B8EB1BBD6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1370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14D740-F6A2-4605-B947-606631B30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7623EF-014A-46BA-BBAB-D1C7CB1A3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1B4816-7A75-4D8E-991D-F801C44F7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EEC9CF-D360-4276-9687-91604E091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2EAC-9FA5-49E9-A728-54895CFB8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51245F-D7BF-4908-8F03-4CFEA7B89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2559D3-515A-4CFE-A12B-5CC5C9496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1E2B53-4C7D-4DBB-AC0F-C4D02D0F6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F373E9-764D-42DB-ABE2-B2B87C56A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898200" y="263160"/>
            <a:ext cx="6102360" cy="22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F8BACF-711C-41E2-B88A-0CB638FCF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A0406A-0F2C-44F8-B9C4-7B227C54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AD5964-E3D0-45CB-8233-C92E4358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CC8F5D-8FC9-45B0-857B-456E6409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1370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3ED0D3-24AC-45DA-89AA-33E5ADDB3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8BD314-A63E-44FE-8550-4DF8B457E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274A-4065-4E88-89DF-A9FADD6E9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C2EE0A-BCEF-4E72-88F2-F73A90C69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376C37-4916-4F46-9714-CD9F59C1F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AEF112-6F87-4DA3-8E48-829F8DFB3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CF3716-4485-41D9-A1CE-D14223382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1B3A07-6A31-4F36-9FF1-DCB49654B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62D6E2-63F2-458D-B75E-7548F9129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898200" y="263160"/>
            <a:ext cx="6102360" cy="22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FE325E-BEE6-45D9-99CD-F6DD4FA00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23B57D-3835-4866-91A1-5D6453A08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3131B4-F786-46F4-877F-DFAD7AA3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FEF8AD-23D2-402D-896C-793FE38E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58BE2-CF48-4596-A2BB-81C167773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1370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A8324D-921E-4490-A216-1126E16DC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5E2E63-FE0C-4B3A-B035-E0D0EF30C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2F9EF0-3746-4526-B6C4-CD8C3D316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FE1A12-823F-4D23-88C1-9F6F3046D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AF6C5C-D35C-4421-9A79-252371C0C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926040-202F-4869-9CE5-0496C631F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E49AAC-72DD-4992-83E4-F01452CF5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8B4992-9A86-4949-B80F-6C91B9944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898200" y="263160"/>
            <a:ext cx="6102360" cy="22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6171CA-765B-4F31-8695-99E607BC9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DEC1D4-BFFF-49C3-A528-E536B85E9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4DFDC-46B4-423E-9085-E96F8FAAA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424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8AD359-F051-4BDF-9037-A98ECF55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27D164-33C0-4CBF-BBFD-B8BF64FBE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57200" y="31370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969294-A493-41CC-8282-77D646310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424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7E8C8D-EC45-44CF-BA90-F15259C60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23964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2208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5720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23964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2208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17D703-A86F-4799-9811-E35ED72F4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886B8D-FEFE-4156-AFE0-24516BB1D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419F16-8BFA-4FAD-8F3E-B04865268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4CAB57-D25C-4980-804E-C0DBEF1F3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6C7475-B869-4811-BA62-A0631794E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144CFE-649E-43B3-8477-1CB09A78C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2B8E1-39D4-4413-83A6-9AF290557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898200" y="263160"/>
            <a:ext cx="6102360" cy="22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B9DAB2-D59B-4350-A785-A2C303561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A9C21E-E77B-47D9-A213-8B6799624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67424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A66912-74C7-4825-A946-FE971345A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EECC54-9422-4130-A7AA-B3C7F7B9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57200" y="31370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B09CA6-5890-4468-B0CE-13C2307FA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67424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BFF2D5-B02F-418E-BF00-769AA1101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23964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02208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5720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23964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602208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6EE6F2-96E1-46D3-9050-E2913C70A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7C83DE-CF63-4EB0-9A29-51CFAF253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083D5F-D811-45C4-84E9-CE8C15069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CC0DB5-40B1-45CD-AB5C-BB0009420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FF07E-864E-49DD-9D77-61B009169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D5703A-A6B5-4D34-ACC7-BF97FA212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BB60B0-876F-4F3D-A36C-8F605C508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ubTitle"/>
          </p:nvPr>
        </p:nvSpPr>
        <p:spPr>
          <a:xfrm>
            <a:off x="898200" y="263160"/>
            <a:ext cx="6102360" cy="22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1C9E1F-608D-4674-B1C1-18C9AB685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4C4214-6BFC-473A-BF3E-8B84A607A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67424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75FFFC-A2BA-4288-A822-8CDF8A5B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9610F1-4F10-47DC-8D8E-E83FC13F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57200" y="31370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B14755-4EA7-49FC-A6EC-255D57074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467424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5A1FAC-EEF1-444A-8A03-58484F198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23964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02208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5720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/>
          </p:nvPr>
        </p:nvSpPr>
        <p:spPr>
          <a:xfrm>
            <a:off x="323964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7"/>
          <p:cNvSpPr>
            <a:spLocks noGrp="1"/>
          </p:cNvSpPr>
          <p:nvPr>
            <p:ph/>
          </p:nvPr>
        </p:nvSpPr>
        <p:spPr>
          <a:xfrm>
            <a:off x="602208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51682F-B5C4-4B84-B680-0E3F9ECDF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918777-120C-45E8-A568-34A1BF53F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4351F-032E-4EB3-AB5A-3B105C04A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subTitle"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CDD695-8114-4774-8C8C-66A98E287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7038BD-6738-45CB-8062-F65F351E5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04A259-FF3F-4539-915D-88D4A4E7A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3FC6FD-CD12-4313-9D88-C62D61E82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ubTitle"/>
          </p:nvPr>
        </p:nvSpPr>
        <p:spPr>
          <a:xfrm>
            <a:off x="898200" y="263160"/>
            <a:ext cx="6102360" cy="22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320DEC-3D21-4C9D-8F09-5B47C03AB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3D7521-E348-4B83-90C8-31357F5BA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67424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2F2A2C-37E9-4BFF-BA04-70069394C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5C2537-544E-4DE9-A1EC-F8BE160D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57200" y="31370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67B0B3-E3BC-4514-8BCF-BD4E4D939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67424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5EF8ED-2DA1-45A2-A62E-D1BFEBE17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98200" y="263160"/>
            <a:ext cx="6102360" cy="22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07497-8EDD-4A37-B194-E2205ACCE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323964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602208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5720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6"/>
          <p:cNvSpPr>
            <a:spLocks noGrp="1"/>
          </p:cNvSpPr>
          <p:nvPr>
            <p:ph/>
          </p:nvPr>
        </p:nvSpPr>
        <p:spPr>
          <a:xfrm>
            <a:off x="323964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7"/>
          <p:cNvSpPr>
            <a:spLocks noGrp="1"/>
          </p:cNvSpPr>
          <p:nvPr>
            <p:ph/>
          </p:nvPr>
        </p:nvSpPr>
        <p:spPr>
          <a:xfrm>
            <a:off x="602208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58339F-C38C-4016-B787-6A51435D4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E9CF8A-767F-4C36-A64B-6EADE4617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29BE74-EFF5-45D1-9585-CBDEEA42F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07E670-64BB-4A07-8249-B2AEEDDD6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DEC3B0-D42C-4265-9CBA-3940061AF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867F6D-A12B-47B1-902B-9E3B37B1A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898200" y="263160"/>
            <a:ext cx="6102360" cy="22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90641E-8AEB-4ED9-8A2E-4CEE3598C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8E9F84-DFA0-40B6-B5D7-F1663FA4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424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E39478-587E-4743-8F16-F5A4AB46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54B489-06E5-49D8-ACD9-650A11B04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E4408-E468-4CF8-987B-04EE5D0B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57200" y="31370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CA5A4E-A17A-4258-A3CE-19B0DE3AC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424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1406BA-BEE8-4D02-8E44-20ABC0DD1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3964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2208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5720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3964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2208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67DE06-6667-4BCA-B2C7-1B274936E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3446C6-3290-440E-B315-0147D5570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057FA4-70F5-452D-B8C4-D11CC3658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05C0CA-2221-48B4-AE3A-D0E5DC0C8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6F9B98-2C80-4040-AF82-29F071447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C0C435-2FE7-4302-B1C1-0F576BBF4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898200" y="263160"/>
            <a:ext cx="6102360" cy="22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DD80A3-AF31-4A88-89C9-8854D324B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8D3D36-77A1-4D4F-A2E9-11FC1C718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36C3-7D76-4D42-AC8D-11BF6FDBA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825C9-7409-4AB1-A6B3-0EB7B5824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424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D16EB4-460B-4F26-A3F4-35C045DCD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DF68B7-7CE5-41DD-945F-2433B0BF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57200" y="31370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70E206-CD4E-485F-832E-4076E0DAD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424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30D444-9682-49B9-82FA-C2D8F1356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3964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2208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5720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3964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2208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318944-4505-4348-AEC6-B53EC259F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2EB317-A302-4A3B-B1E7-D37442F56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subTitle"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7B20D4-D5F4-4A23-B487-D57478E35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891FDC-74DC-4728-B417-56162E7BE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5F6473-065A-4EB6-B794-E1E4FC504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AB37D0-3AF1-4C27-AD55-F1F2E3AD9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EB93B-38D4-4BE7-8655-3C9272A68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ubTitle"/>
          </p:nvPr>
        </p:nvSpPr>
        <p:spPr>
          <a:xfrm>
            <a:off x="898200" y="263160"/>
            <a:ext cx="6102360" cy="22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3D544D-78B7-45DE-93BF-C89349E05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DDAF9C-EB17-4553-8B83-518E1E078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67424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0772C9-4B30-4585-9957-67DAC446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C62F0D-EC43-43E2-9A52-4C7420708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57200" y="31370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536267-8A92-4A03-B7AB-26400E47A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467424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4BA748-B24C-4B5F-A0C9-819F4242C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323964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602208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45720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6"/>
          <p:cNvSpPr>
            <a:spLocks noGrp="1"/>
          </p:cNvSpPr>
          <p:nvPr>
            <p:ph/>
          </p:nvPr>
        </p:nvSpPr>
        <p:spPr>
          <a:xfrm>
            <a:off x="323964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7"/>
          <p:cNvSpPr>
            <a:spLocks noGrp="1"/>
          </p:cNvSpPr>
          <p:nvPr>
            <p:ph/>
          </p:nvPr>
        </p:nvSpPr>
        <p:spPr>
          <a:xfrm>
            <a:off x="602208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E3829A-6B2F-44A0-AE4D-D15995D5A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9A275B-C73A-490F-AD10-58AE561B8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597223-C8BB-4912-9F18-849EE985C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2BEFA2-884E-445F-9316-6F4766D37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1370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58192-0EFF-4C55-BE27-646419EB7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380433-515E-4FB1-AE48-52FCA8FC4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78272A-C243-4A78-B2B7-529CBA10E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898200" y="263160"/>
            <a:ext cx="6102360" cy="22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91F9C0-D481-4A69-875D-790C5C8F7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1AE7F9-5B0D-4FAE-B5D2-7DCF980A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424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528ADB-CB26-4177-BB6B-AC101B96E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475B7E-57E4-49C9-BB7D-89EBAEA3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57200" y="31370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F84EDA-285E-4713-9239-32AE609F4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424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452BAC-62CC-4D9E-8CB5-8D6AFEF63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3964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2208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5720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3964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2208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DF4D72-BF96-4612-AFD1-015960A1D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BAE268-D889-42DD-A6B6-8EFCE0FC4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BE01D-81D7-4F16-B618-7B3BF78FE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 type="subTitle"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CB93EB-5125-4873-80B5-8BAE6879D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9B8DAE-A0AC-4C98-9C57-4079ADAB9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5FD85B-18D6-4148-A7E9-92C1B58E0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CEAAF3-E6F3-47C7-9DEA-3DB01CF06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ubTitle"/>
          </p:nvPr>
        </p:nvSpPr>
        <p:spPr>
          <a:xfrm>
            <a:off x="898200" y="263160"/>
            <a:ext cx="6102360" cy="22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1A8C39-D3CA-4959-9A64-4A146CC60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DDEE54-F384-409D-8BE3-0165654F9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67424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7643F1-BCD8-4412-B22D-CE8EAA34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08125B-11A8-4817-ABFA-DB01E37F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57200" y="31370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D877C9-F046-4717-A9B7-52D837FC8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/>
          </p:nvPr>
        </p:nvSpPr>
        <p:spPr>
          <a:xfrm>
            <a:off x="467424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D3AD0B-27C3-4BF4-9942-7CFF5DE9D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9E80A-9786-4C98-8372-1AC99AB42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323964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602208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5"/>
          <p:cNvSpPr>
            <a:spLocks noGrp="1"/>
          </p:cNvSpPr>
          <p:nvPr>
            <p:ph/>
          </p:nvPr>
        </p:nvSpPr>
        <p:spPr>
          <a:xfrm>
            <a:off x="45720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6"/>
          <p:cNvSpPr>
            <a:spLocks noGrp="1"/>
          </p:cNvSpPr>
          <p:nvPr>
            <p:ph/>
          </p:nvPr>
        </p:nvSpPr>
        <p:spPr>
          <a:xfrm>
            <a:off x="323964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7"/>
          <p:cNvSpPr>
            <a:spLocks noGrp="1"/>
          </p:cNvSpPr>
          <p:nvPr>
            <p:ph/>
          </p:nvPr>
        </p:nvSpPr>
        <p:spPr>
          <a:xfrm>
            <a:off x="602208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7C9636-1CD5-4C3A-956E-16529A836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3282CE-3B39-4181-A216-19BE398F2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 type="subTitle"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9D5DB3-A1DB-446C-BC22-FDC34FA25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61E417-7B5F-4BCB-A5A4-2EE7CF707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982CBF-3284-4DEA-BC59-4672C61A5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01A197-1830-4AB9-90C2-0565CEA79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ubTitle"/>
          </p:nvPr>
        </p:nvSpPr>
        <p:spPr>
          <a:xfrm>
            <a:off x="898200" y="263160"/>
            <a:ext cx="6102360" cy="22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67108F-7F32-428F-A841-01759AEC9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57D93C-D0E9-447E-91B8-729DD0C12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67424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9C2D1E-18E8-4EAD-A113-05538C43D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8A2424-242E-460E-A3DB-C0C87E6F5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F006D-9152-441A-9B20-B368CB150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57200" y="31370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73EAE7-E2BA-46C2-B598-DB3C78DF6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467424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D6D3F5-27DC-4E86-9373-FDF30AD6C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323964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602208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/>
          </p:nvPr>
        </p:nvSpPr>
        <p:spPr>
          <a:xfrm>
            <a:off x="45720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6"/>
          <p:cNvSpPr>
            <a:spLocks noGrp="1"/>
          </p:cNvSpPr>
          <p:nvPr>
            <p:ph/>
          </p:nvPr>
        </p:nvSpPr>
        <p:spPr>
          <a:xfrm>
            <a:off x="323964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7"/>
          <p:cNvSpPr>
            <a:spLocks noGrp="1"/>
          </p:cNvSpPr>
          <p:nvPr>
            <p:ph/>
          </p:nvPr>
        </p:nvSpPr>
        <p:spPr>
          <a:xfrm>
            <a:off x="602208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3B5078-A0AF-4261-AC55-577FC2CC0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2D49016-EBC8-4657-B155-9BB595211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subTitle"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E9EE4FD-257C-46B8-BF8B-8AB16FF01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0B900D9-1B97-4BC0-ACDD-2C7A56C6C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DAF5221-AE0C-4CD4-8087-5E394E566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9A9C493-C685-40D6-B80A-C0384E29A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subTitle"/>
          </p:nvPr>
        </p:nvSpPr>
        <p:spPr>
          <a:xfrm>
            <a:off x="898200" y="263160"/>
            <a:ext cx="6102360" cy="22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F063810-4961-4134-9C31-E786E0597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E8DFF33-B9A9-4E0B-8684-D56D2AB7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467C2-662C-49D4-916D-BCB7B5EF1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67424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0D1E2CC-265A-4695-BA5F-C554FBB8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8732D99-2838-40BE-A28C-E87310C77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57200" y="31370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D6AD0AF-221A-4D74-9974-34FE67B21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467424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8EB9EBD-CC84-4F51-AF55-70C5A57E1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323964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602208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5720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6"/>
          <p:cNvSpPr>
            <a:spLocks noGrp="1"/>
          </p:cNvSpPr>
          <p:nvPr>
            <p:ph/>
          </p:nvPr>
        </p:nvSpPr>
        <p:spPr>
          <a:xfrm>
            <a:off x="323964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7"/>
          <p:cNvSpPr>
            <a:spLocks noGrp="1"/>
          </p:cNvSpPr>
          <p:nvPr>
            <p:ph/>
          </p:nvPr>
        </p:nvSpPr>
        <p:spPr>
          <a:xfrm>
            <a:off x="602208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4F7AC62-3892-4F0E-A3E3-42F380563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27F936E-DBE9-48BD-A82F-BE06975B4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 type="subTitle"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DC63BE1-A9E6-48B6-A5FC-7921DA45E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7A35445-7338-45D7-87BF-3B39E2A36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0E9A834-8932-4185-877A-0489E32D8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077B5F4-36F7-4FD5-AC55-474779A09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DFF46-9F4B-4290-9610-30842A0A7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subTitle"/>
          </p:nvPr>
        </p:nvSpPr>
        <p:spPr>
          <a:xfrm>
            <a:off x="898200" y="263160"/>
            <a:ext cx="6102360" cy="22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1F1C3E9-35CD-44BE-A59A-20826C8D3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7546BCA-867B-49A1-B55C-34358539A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67424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7BB5A3E-39E5-4D8A-BC16-2413756E0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1CD3A32-472D-43DC-ABFD-D35F9A2C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57200" y="31370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F7AD0BC-A1FC-4FD7-B609-E65162D5A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/>
          </p:nvPr>
        </p:nvSpPr>
        <p:spPr>
          <a:xfrm>
            <a:off x="467424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C2CCD71-0A2E-4870-8B6D-024FFFAA9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323964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602208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5"/>
          <p:cNvSpPr>
            <a:spLocks noGrp="1"/>
          </p:cNvSpPr>
          <p:nvPr>
            <p:ph/>
          </p:nvPr>
        </p:nvSpPr>
        <p:spPr>
          <a:xfrm>
            <a:off x="45720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6"/>
          <p:cNvSpPr>
            <a:spLocks noGrp="1"/>
          </p:cNvSpPr>
          <p:nvPr>
            <p:ph/>
          </p:nvPr>
        </p:nvSpPr>
        <p:spPr>
          <a:xfrm>
            <a:off x="323964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7"/>
          <p:cNvSpPr>
            <a:spLocks noGrp="1"/>
          </p:cNvSpPr>
          <p:nvPr>
            <p:ph/>
          </p:nvPr>
        </p:nvSpPr>
        <p:spPr>
          <a:xfrm>
            <a:off x="602208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E480726-989B-4A11-B04C-498280370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2523A2D-A474-4E56-9A72-80449B9CA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 type="subTitle"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105CE3C-F61E-4CB7-9416-2EC9EB858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B430900-D561-4097-AC94-8EF0CA97E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1A6B0-0324-4501-98B8-165F8AAF6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68A16C3-58C4-40AF-9CFD-01CCD502C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E4758D8-8C48-4FA0-97BD-FF764E782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subTitle"/>
          </p:nvPr>
        </p:nvSpPr>
        <p:spPr>
          <a:xfrm>
            <a:off x="898200" y="263160"/>
            <a:ext cx="6102360" cy="22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C49BAC8-D0C6-4133-83B4-70CFA14F8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1EDC5D4-D5D3-4E77-84F5-B7A033873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467424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1F3205F-24E4-41A7-A60A-E8FDBBA9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5E48EDA-1130-49FA-8431-C49CED6F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57200" y="31370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7391E14-2D27-4BC1-93B5-2653ED3D6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/>
          </p:nvPr>
        </p:nvSpPr>
        <p:spPr>
          <a:xfrm>
            <a:off x="467424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CA2F756-10DC-4144-9A45-1B09C3D8F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323964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602208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/>
          </p:nvPr>
        </p:nvSpPr>
        <p:spPr>
          <a:xfrm>
            <a:off x="45720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6"/>
          <p:cNvSpPr>
            <a:spLocks noGrp="1"/>
          </p:cNvSpPr>
          <p:nvPr>
            <p:ph/>
          </p:nvPr>
        </p:nvSpPr>
        <p:spPr>
          <a:xfrm>
            <a:off x="323964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7"/>
          <p:cNvSpPr>
            <a:spLocks noGrp="1"/>
          </p:cNvSpPr>
          <p:nvPr>
            <p:ph/>
          </p:nvPr>
        </p:nvSpPr>
        <p:spPr>
          <a:xfrm>
            <a:off x="602208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8E5BA9E-F907-46B4-AD01-9C4EC59BA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B5DF57B-07E0-4139-B21A-9B2AFA65C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532CC-E5BE-4E40-BDB4-CBB2A402D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subTitle"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0D738AA-1A2A-4189-BE9F-E57D4125A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BBE7037-E90B-4CA3-82EE-F357A112A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E471405-A582-4CB6-8255-09CC31BDD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9B907B6-55FB-4CE9-A1B8-AB21B1429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subTitle"/>
          </p:nvPr>
        </p:nvSpPr>
        <p:spPr>
          <a:xfrm>
            <a:off x="898200" y="263160"/>
            <a:ext cx="6102360" cy="22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2075470-B29C-439C-9C03-8DE56993E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28F280D-D702-4C2F-A291-E6612A57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467424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F912239-0EF2-4607-BF0B-140BD85A8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AEE292D-9B51-4D2D-8457-897992A57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57200" y="31370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E757D68-9004-448F-AF49-D7812615F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5"/>
          <p:cNvSpPr>
            <a:spLocks noGrp="1"/>
          </p:cNvSpPr>
          <p:nvPr>
            <p:ph/>
          </p:nvPr>
        </p:nvSpPr>
        <p:spPr>
          <a:xfrm>
            <a:off x="467424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054AA20-D740-46D9-B483-E4540E44E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1A2E-34B2-4CFE-A649-80563FC73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898200" y="263160"/>
            <a:ext cx="6102360" cy="22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AEA39-8651-4D62-A8CA-6BEC45CA9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323964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602208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5"/>
          <p:cNvSpPr>
            <a:spLocks noGrp="1"/>
          </p:cNvSpPr>
          <p:nvPr>
            <p:ph/>
          </p:nvPr>
        </p:nvSpPr>
        <p:spPr>
          <a:xfrm>
            <a:off x="45720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6"/>
          <p:cNvSpPr>
            <a:spLocks noGrp="1"/>
          </p:cNvSpPr>
          <p:nvPr>
            <p:ph/>
          </p:nvPr>
        </p:nvSpPr>
        <p:spPr>
          <a:xfrm>
            <a:off x="323964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7"/>
          <p:cNvSpPr>
            <a:spLocks noGrp="1"/>
          </p:cNvSpPr>
          <p:nvPr>
            <p:ph/>
          </p:nvPr>
        </p:nvSpPr>
        <p:spPr>
          <a:xfrm>
            <a:off x="602208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4B81C9C-A3B1-4B27-AA65-46679EFC9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A9155-0583-4B00-8133-3F84A40F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13B7C-8E10-4D08-93D6-3BDCABEA0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BB510-50C4-4CD7-AB59-FBE64A702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1370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D16F3-ECA5-4287-AFE5-26AB08E71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A802B-C8D0-4FC9-81B9-C7C95D686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0FD3D-F2D5-4286-B7D5-0D3FF7A00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69553-A0B4-4DB0-B100-6430F1501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942AF-69B1-4AE6-B8B6-0521767D1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1CD4B-3286-4283-B508-44D9F1099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B6E5-77E4-49D7-AE17-3D804DB89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09E3A-FA70-4804-8C11-BDFD6C661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B7072-2A67-46F2-B538-E568F4B53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898200" y="263160"/>
            <a:ext cx="6102360" cy="22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59F67-3907-4D2A-A275-FC63FAE33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146D7-F253-4DA6-B78A-60E09AF8C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82543-020E-4E98-BDA5-E0AEDFDDD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E8B01-7CE7-4F2C-95A0-6B201AB3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1370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DC6EA-01E1-44EC-A6E3-2852C5A26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E9D46-F9B9-4380-A3DD-528955367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90CC9-4629-4655-9BC9-863F42245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8D2EC-1108-4535-B159-67BD74E05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40D1-EFCB-480A-84D0-7D912CEE5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9A1074-A641-4CE6-B4DB-38CD73CF8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2CACA3-AD4F-44FB-AB90-9C59FE9F6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1DB15-084E-4125-85E1-E185BFCC5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C7EBC6-ADC5-405C-8869-F09912E98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898200" y="263160"/>
            <a:ext cx="6102360" cy="22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9FEF4A-EA68-408E-9063-86845601E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3DC2F6-2E6E-4504-AA37-187522090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AC68F4-24C2-495D-9EAD-D52045844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C1AEF1-C74E-4991-8479-4A43BB165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1370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2158AE-4381-4B75-9604-A82094E0F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261CF-A6D7-4ECA-BD8F-F7D049A76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898200" y="263160"/>
            <a:ext cx="6102360" cy="22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BE21-FD51-4B1E-9B8A-5660EA674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46BF7-8282-4211-B18A-DA84A247B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6E8258-DC25-40E0-846E-892B32953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BC576A-B502-4056-8675-746F2BCF8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CDD79D-28E0-41BD-B1B3-12630C56C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EA597F-0016-4F77-BB5F-8345D4FF8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0E4B96-53DF-4E09-BD97-91CA07A13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898200" y="263160"/>
            <a:ext cx="6102360" cy="22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2118D5-553E-42A8-9903-DBD014550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5D3344-AD13-4434-8742-33C697264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24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D8F56B-4D9F-4959-8B26-E4DDE360F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EE3E3B-E50A-49FD-A179-9CBB617BA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1E6C-5D05-4D8C-8B12-C836A17B4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200" y="31370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B698A-095C-40C0-9A56-DE4CC59AE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24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FD9C57-ADE6-4265-965C-BF684C4C7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964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2208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720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964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2208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7609EB-A7A8-469F-8156-779753F4E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4AC474-45E4-43E3-8DA1-ACA1EB4A6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FC23C6-5762-4D7D-9698-8328C426D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573A59-943D-4F5F-ACD3-9F39B0028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51E62B-1D5B-4FAD-AA07-9C83B328E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C710F7-E2C9-45BF-866C-127581D5A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898200" y="263160"/>
            <a:ext cx="6102360" cy="22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743230-9CFD-413D-9B7B-CCB5DEC51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D1D0A0-F36D-45AC-9F34-3C9ABA61E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07F4-219A-4FD3-B0F1-4B3CA11E7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E9E12B-D3DB-4E5E-9DE9-46989F9BD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4F1A31-480B-4738-B948-F1A9F8469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1370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CC5FA8-BB32-4F67-A96B-1C388EEE8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32D434-8274-43CC-85D8-2E8BD8AF6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A1B14B-A20E-4FD6-8708-B3428A9FF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EC2E4A-9A10-4DE7-BFCF-361B67353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92F171-3DE9-4D26-BEC5-D6A147CC6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121DEE-2441-4986-8D3C-6648C6515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970A8A-BAC0-4FC8-9AD4-383366830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E7630A-6228-4B71-B8A9-43F89A03C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1433-698B-4397-9C3B-75680FE12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898200" y="263160"/>
            <a:ext cx="6102360" cy="22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B32633-3000-4223-BAC4-E54FA6532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83C94A-9ED9-43A9-859F-9562FA72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EF4F0B-0045-4A84-B8F9-5C1EE0E8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64AEE6-B684-4660-8112-51F0CDDB8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1370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0D0C42-D757-4F1D-8C73-3FBF2049D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5BEDCA-A617-49C6-8C71-88AA9D015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1A7422-F5D3-4496-A2F5-CD25403C9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EABE72-8FB0-4401-BB39-312E1ACCF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15F893-EEF1-4998-AA3B-11FDA82AF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92C8B4-93D6-4877-BF6C-21BFB6E4B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-19080" y="0"/>
            <a:ext cx="9163080" cy="5715000"/>
          </a:xfrm>
          <a:prstGeom prst="rect">
            <a:avLst/>
          </a:prstGeom>
          <a:ln w="0">
            <a:noFill/>
          </a:ln>
        </p:spPr>
      </p:pic>
      <p:sp>
        <p:nvSpPr>
          <p:cNvPr id="1" name="矩形 10"/>
          <p:cNvSpPr/>
          <p:nvPr/>
        </p:nvSpPr>
        <p:spPr>
          <a:xfrm>
            <a:off x="-7920" y="912960"/>
            <a:ext cx="9140760" cy="460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2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7875720" y="3938760"/>
            <a:ext cx="1268280" cy="1704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98200" y="263160"/>
            <a:ext cx="61023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17990-99CA-4114-BE75-9EB05AFC90A2}" type="datetime">
              <a: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C73F7-5B8D-4B49-88E2-355E125BF5FF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3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0" y="58680"/>
            <a:ext cx="878040" cy="912960"/>
          </a:xfrm>
          <a:prstGeom prst="rect">
            <a:avLst/>
          </a:prstGeom>
          <a:ln w="0">
            <a:noFill/>
          </a:ln>
        </p:spPr>
      </p:pic>
      <p:pic>
        <p:nvPicPr>
          <p:cNvPr id="9" name="Picture 3" descr=""/>
          <p:cNvPicPr/>
          <p:nvPr/>
        </p:nvPicPr>
        <p:blipFill>
          <a:blip r:embed="rId5">
            <a:lum bright="70000" contrast="-70000"/>
          </a:blip>
          <a:stretch/>
        </p:blipFill>
        <p:spPr>
          <a:xfrm>
            <a:off x="365040" y="311040"/>
            <a:ext cx="608040" cy="631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"/>
          <p:cNvPicPr/>
          <p:nvPr/>
        </p:nvPicPr>
        <p:blipFill>
          <a:blip r:embed="rId2"/>
          <a:stretch/>
        </p:blipFill>
        <p:spPr>
          <a:xfrm>
            <a:off x="-19080" y="0"/>
            <a:ext cx="9163080" cy="5715000"/>
          </a:xfrm>
          <a:prstGeom prst="rect">
            <a:avLst/>
          </a:prstGeom>
          <a:ln w="0">
            <a:noFill/>
          </a:ln>
        </p:spPr>
      </p:pic>
      <p:sp>
        <p:nvSpPr>
          <p:cNvPr id="410" name="矩形 10"/>
          <p:cNvSpPr/>
          <p:nvPr/>
        </p:nvSpPr>
        <p:spPr>
          <a:xfrm>
            <a:off x="-7920" y="912960"/>
            <a:ext cx="9140760" cy="460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7875720" y="3938760"/>
            <a:ext cx="1268280" cy="170496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3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0" y="58680"/>
            <a:ext cx="878040" cy="91296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3" descr=""/>
          <p:cNvPicPr/>
          <p:nvPr/>
        </p:nvPicPr>
        <p:blipFill>
          <a:blip r:embed="rId5">
            <a:lum bright="70000" contrast="-70000"/>
          </a:blip>
          <a:stretch/>
        </p:blipFill>
        <p:spPr>
          <a:xfrm>
            <a:off x="365040" y="311040"/>
            <a:ext cx="608040" cy="63180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98200" y="263160"/>
            <a:ext cx="61023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28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659C4-3AAE-4502-B65E-24CB7C83084B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29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30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DC5C4-8CAB-4130-8F4F-F81B052DCDE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Picture 2" descr=""/>
          <p:cNvPicPr/>
          <p:nvPr/>
        </p:nvPicPr>
        <p:blipFill>
          <a:blip r:embed="rId2"/>
          <a:stretch/>
        </p:blipFill>
        <p:spPr>
          <a:xfrm>
            <a:off x="-19080" y="0"/>
            <a:ext cx="9163080" cy="5715000"/>
          </a:xfrm>
          <a:prstGeom prst="rect">
            <a:avLst/>
          </a:prstGeom>
          <a:ln w="0">
            <a:noFill/>
          </a:ln>
        </p:spPr>
      </p:pic>
      <p:sp>
        <p:nvSpPr>
          <p:cNvPr id="456" name="矩形 10"/>
          <p:cNvSpPr/>
          <p:nvPr/>
        </p:nvSpPr>
        <p:spPr>
          <a:xfrm>
            <a:off x="-7920" y="912960"/>
            <a:ext cx="9140760" cy="460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Picture 2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7875720" y="3938760"/>
            <a:ext cx="1268280" cy="170496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3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0" y="58680"/>
            <a:ext cx="878040" cy="91296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3" descr=""/>
          <p:cNvPicPr/>
          <p:nvPr/>
        </p:nvPicPr>
        <p:blipFill>
          <a:blip r:embed="rId5">
            <a:lum bright="70000" contrast="-70000"/>
          </a:blip>
          <a:stretch/>
        </p:blipFill>
        <p:spPr>
          <a:xfrm>
            <a:off x="365040" y="311040"/>
            <a:ext cx="608040" cy="631800"/>
          </a:xfrm>
          <a:prstGeom prst="rect">
            <a:avLst/>
          </a:prstGeom>
          <a:ln w="0">
            <a:noFill/>
          </a:ln>
        </p:spPr>
      </p:pic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98200" y="263160"/>
            <a:ext cx="61023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E50CA-B570-4001-8529-0625A774E271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275CF-1CA1-4916-8C9B-A49373246A7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2" descr=""/>
          <p:cNvPicPr/>
          <p:nvPr/>
        </p:nvPicPr>
        <p:blipFill>
          <a:blip r:embed="rId2"/>
          <a:stretch/>
        </p:blipFill>
        <p:spPr>
          <a:xfrm>
            <a:off x="-19080" y="0"/>
            <a:ext cx="9163080" cy="5715000"/>
          </a:xfrm>
          <a:prstGeom prst="rect">
            <a:avLst/>
          </a:prstGeom>
          <a:ln w="0">
            <a:noFill/>
          </a:ln>
        </p:spPr>
      </p:pic>
      <p:sp>
        <p:nvSpPr>
          <p:cNvPr id="502" name="矩形 10"/>
          <p:cNvSpPr/>
          <p:nvPr/>
        </p:nvSpPr>
        <p:spPr>
          <a:xfrm>
            <a:off x="-7920" y="912960"/>
            <a:ext cx="9140760" cy="460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Picture 2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7875720" y="3938760"/>
            <a:ext cx="1268280" cy="170496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3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0" y="58680"/>
            <a:ext cx="878040" cy="91296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3" descr=""/>
          <p:cNvPicPr/>
          <p:nvPr/>
        </p:nvPicPr>
        <p:blipFill>
          <a:blip r:embed="rId5">
            <a:lum bright="70000" contrast="-70000"/>
          </a:blip>
          <a:stretch/>
        </p:blipFill>
        <p:spPr>
          <a:xfrm>
            <a:off x="365040" y="311040"/>
            <a:ext cx="608040" cy="631800"/>
          </a:xfrm>
          <a:prstGeom prst="rect">
            <a:avLst/>
          </a:prstGeom>
          <a:ln w="0">
            <a:noFill/>
          </a:ln>
        </p:spPr>
      </p:pic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98200" y="263160"/>
            <a:ext cx="61023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dt" idx="3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CA86E-60E5-4F18-B288-4791078339AE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ftr" idx="3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sldNum" idx="3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D3915-0306-4507-8044-5F75A853216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2" descr=""/>
          <p:cNvPicPr/>
          <p:nvPr/>
        </p:nvPicPr>
        <p:blipFill>
          <a:blip r:embed="rId2"/>
          <a:stretch/>
        </p:blipFill>
        <p:spPr>
          <a:xfrm>
            <a:off x="-19080" y="0"/>
            <a:ext cx="9163080" cy="5715000"/>
          </a:xfrm>
          <a:prstGeom prst="rect">
            <a:avLst/>
          </a:prstGeom>
          <a:ln w="0">
            <a:noFill/>
          </a:ln>
        </p:spPr>
      </p:pic>
      <p:sp>
        <p:nvSpPr>
          <p:cNvPr id="548" name="矩形 10"/>
          <p:cNvSpPr/>
          <p:nvPr/>
        </p:nvSpPr>
        <p:spPr>
          <a:xfrm>
            <a:off x="-7920" y="912960"/>
            <a:ext cx="9140760" cy="460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2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7875720" y="3938760"/>
            <a:ext cx="1268280" cy="170496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3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0" y="58680"/>
            <a:ext cx="878040" cy="91296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3" descr=""/>
          <p:cNvPicPr/>
          <p:nvPr/>
        </p:nvPicPr>
        <p:blipFill>
          <a:blip r:embed="rId5">
            <a:lum bright="70000" contrast="-70000"/>
          </a:blip>
          <a:stretch/>
        </p:blipFill>
        <p:spPr>
          <a:xfrm>
            <a:off x="365040" y="311040"/>
            <a:ext cx="608040" cy="631800"/>
          </a:xfrm>
          <a:prstGeom prst="rect">
            <a:avLst/>
          </a:prstGeom>
          <a:ln w="0">
            <a:noFill/>
          </a:ln>
        </p:spPr>
      </p:pic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98200" y="263160"/>
            <a:ext cx="61023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 type="dt" idx="37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F2108-1B43-4938-BED9-C3D81EC63317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 type="ftr" idx="38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 type="sldNum" idx="39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59696-9B5C-4E7D-AB0B-79DAD032501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2" descr=""/>
          <p:cNvPicPr/>
          <p:nvPr/>
        </p:nvPicPr>
        <p:blipFill>
          <a:blip r:embed="rId2"/>
          <a:stretch/>
        </p:blipFill>
        <p:spPr>
          <a:xfrm>
            <a:off x="-19080" y="0"/>
            <a:ext cx="9163080" cy="5715000"/>
          </a:xfrm>
          <a:prstGeom prst="rect">
            <a:avLst/>
          </a:prstGeom>
          <a:ln w="0">
            <a:noFill/>
          </a:ln>
        </p:spPr>
      </p:pic>
      <p:sp>
        <p:nvSpPr>
          <p:cNvPr id="594" name="矩形 10"/>
          <p:cNvSpPr/>
          <p:nvPr/>
        </p:nvSpPr>
        <p:spPr>
          <a:xfrm>
            <a:off x="-7920" y="912960"/>
            <a:ext cx="9140760" cy="460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Picture 2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7875720" y="3938760"/>
            <a:ext cx="1268280" cy="170496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3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0" y="58680"/>
            <a:ext cx="878040" cy="91296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3" descr=""/>
          <p:cNvPicPr/>
          <p:nvPr/>
        </p:nvPicPr>
        <p:blipFill>
          <a:blip r:embed="rId5">
            <a:lum bright="70000" contrast="-70000"/>
          </a:blip>
          <a:stretch/>
        </p:blipFill>
        <p:spPr>
          <a:xfrm>
            <a:off x="365040" y="311040"/>
            <a:ext cx="608040" cy="631800"/>
          </a:xfrm>
          <a:prstGeom prst="rect">
            <a:avLst/>
          </a:prstGeom>
          <a:ln w="0">
            <a:noFill/>
          </a:ln>
        </p:spPr>
      </p:pic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898200" y="263160"/>
            <a:ext cx="61023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 type="dt" idx="40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B10C5-377F-4A1B-8DA0-57834ED5A730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 type="ftr" idx="41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 type="sldNum" idx="42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BBA43-3268-4B61-8771-D14EF6DB720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 type="dt" idx="43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24083-3726-4903-AA01-5EA2FA501560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 type="ftr" idx="44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 type="sldNum" idx="45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1309A-E745-4C9C-9E90-9EFF6013321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6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1BD95-1096-4F32-9F3E-C0FE531FA7CE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7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8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64363-9E23-4E3E-A0D2-DAC46F89753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 type="dt" idx="49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CE49D-7171-4CAE-9F1D-22C3E8D9B646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 type="ftr" idx="50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 type="sldNum" idx="51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46D9E-8B2D-46F4-BB68-7FC876D626E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 type="dt" idx="52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0C38B-0577-46C7-B1CE-5DE52C364313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 type="ftr" idx="53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 type="sldNum" idx="54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7C3D0-7ADD-41E4-89DA-177EB2D939E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5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AF8A7-3510-45D2-9A7A-55435D24A1D6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6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7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9D0EF-FBBA-4A53-8593-25A6F9927B5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5C53D-81AE-4CE8-8A89-19C2324AFD16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574A6-5DF2-4C78-84F9-BA824B63575A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 type="dt" idx="58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49FE6-49DC-4276-9AC0-F7A9A6706FFA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 type="ftr" idx="59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 type="sldNum" idx="60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50A9A-E189-4944-9857-BF67E2489FA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 type="dt" idx="6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9FA28-D5B8-4277-851D-2533F608E724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 type="ftr" idx="6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 type="sldNum" idx="6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B1C36-119E-4CA0-9812-26DCAF9DAF4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 type="dt" idx="6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6D7C1-7E77-4076-AF84-1771FBF38973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 type="ftr" idx="6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 type="sldNum" idx="6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921BD-4C35-4552-94F5-FEF70C2AAF2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 type="dt" idx="67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609DD-BD3A-47B4-AC40-8AC38426E83F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 type="ftr" idx="68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 type="sldNum" idx="69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AD631-CE31-482C-9090-CCDC8D21A87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 type="dt" idx="70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4D9D3-B44F-4C35-998D-7D7D26F7D178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 type="ftr" idx="71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 type="sldNum" idx="72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404BB-4312-4D7D-8795-ED92429B15A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ADF00-2C9A-4A8E-9F37-80569374A5D7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985E0-2EE2-4742-9A22-09EF9AD248F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2"/>
          <a:stretch/>
        </p:blipFill>
        <p:spPr>
          <a:xfrm>
            <a:off x="-19080" y="0"/>
            <a:ext cx="9163080" cy="5715000"/>
          </a:xfrm>
          <a:prstGeom prst="rect">
            <a:avLst/>
          </a:prstGeom>
          <a:ln w="0">
            <a:noFill/>
          </a:ln>
        </p:spPr>
      </p:pic>
      <p:sp>
        <p:nvSpPr>
          <p:cNvPr id="88" name="矩形 10"/>
          <p:cNvSpPr/>
          <p:nvPr/>
        </p:nvSpPr>
        <p:spPr>
          <a:xfrm>
            <a:off x="-7920" y="912960"/>
            <a:ext cx="9140760" cy="460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7875720" y="3938760"/>
            <a:ext cx="1268280" cy="1704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0" y="58680"/>
            <a:ext cx="878040" cy="9129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5">
            <a:lum bright="70000" contrast="-70000"/>
          </a:blip>
          <a:stretch/>
        </p:blipFill>
        <p:spPr>
          <a:xfrm>
            <a:off x="365040" y="311040"/>
            <a:ext cx="608040" cy="6318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98200" y="263160"/>
            <a:ext cx="61023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6A9B7-4536-4CE4-90CC-49984DB2EBB6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063BC-3FC2-4378-84CB-E3705D2BC4F9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2"/>
          <a:stretch/>
        </p:blipFill>
        <p:spPr>
          <a:xfrm>
            <a:off x="-19080" y="0"/>
            <a:ext cx="9163080" cy="5715000"/>
          </a:xfrm>
          <a:prstGeom prst="rect">
            <a:avLst/>
          </a:prstGeom>
          <a:ln w="0">
            <a:noFill/>
          </a:ln>
        </p:spPr>
      </p:pic>
      <p:sp>
        <p:nvSpPr>
          <p:cNvPr id="134" name="矩形 10"/>
          <p:cNvSpPr/>
          <p:nvPr/>
        </p:nvSpPr>
        <p:spPr>
          <a:xfrm>
            <a:off x="-7920" y="912960"/>
            <a:ext cx="9140760" cy="460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7875720" y="3938760"/>
            <a:ext cx="1268280" cy="1704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0" y="58680"/>
            <a:ext cx="878040" cy="9129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5">
            <a:lum bright="70000" contrast="-70000"/>
          </a:blip>
          <a:stretch/>
        </p:blipFill>
        <p:spPr>
          <a:xfrm>
            <a:off x="365040" y="311040"/>
            <a:ext cx="608040" cy="6318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98200" y="263160"/>
            <a:ext cx="61023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E6427-C8DA-450A-AC19-83976E96C6AA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7828E-6628-49CB-8093-BAE011437F3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"/>
          <p:cNvPicPr/>
          <p:nvPr/>
        </p:nvPicPr>
        <p:blipFill>
          <a:blip r:embed="rId2"/>
          <a:stretch/>
        </p:blipFill>
        <p:spPr>
          <a:xfrm>
            <a:off x="-19080" y="0"/>
            <a:ext cx="9163080" cy="5715000"/>
          </a:xfrm>
          <a:prstGeom prst="rect">
            <a:avLst/>
          </a:prstGeom>
          <a:ln w="0">
            <a:noFill/>
          </a:ln>
        </p:spPr>
      </p:pic>
      <p:sp>
        <p:nvSpPr>
          <p:cNvPr id="180" name="矩形 10"/>
          <p:cNvSpPr/>
          <p:nvPr/>
        </p:nvSpPr>
        <p:spPr>
          <a:xfrm>
            <a:off x="-7920" y="912960"/>
            <a:ext cx="9140760" cy="460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7875720" y="3938760"/>
            <a:ext cx="1268280" cy="17049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0" y="58680"/>
            <a:ext cx="878040" cy="9129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"/>
          <p:cNvPicPr/>
          <p:nvPr/>
        </p:nvPicPr>
        <p:blipFill>
          <a:blip r:embed="rId5">
            <a:lum bright="70000" contrast="-70000"/>
          </a:blip>
          <a:stretch/>
        </p:blipFill>
        <p:spPr>
          <a:xfrm>
            <a:off x="365040" y="311040"/>
            <a:ext cx="608040" cy="6318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98200" y="263160"/>
            <a:ext cx="61023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FE2C8-47DF-4434-8159-C6FE0189F040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6E724-F280-406D-8443-40C4867A3E1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"/>
          <p:cNvPicPr/>
          <p:nvPr/>
        </p:nvPicPr>
        <p:blipFill>
          <a:blip r:embed="rId2"/>
          <a:stretch/>
        </p:blipFill>
        <p:spPr>
          <a:xfrm>
            <a:off x="-19080" y="0"/>
            <a:ext cx="9163080" cy="5715000"/>
          </a:xfrm>
          <a:prstGeom prst="rect">
            <a:avLst/>
          </a:prstGeom>
          <a:ln w="0">
            <a:noFill/>
          </a:ln>
        </p:spPr>
      </p:pic>
      <p:sp>
        <p:nvSpPr>
          <p:cNvPr id="226" name="矩形 10"/>
          <p:cNvSpPr/>
          <p:nvPr/>
        </p:nvSpPr>
        <p:spPr>
          <a:xfrm>
            <a:off x="-7920" y="912960"/>
            <a:ext cx="9140760" cy="460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7875720" y="3938760"/>
            <a:ext cx="1268280" cy="17049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0" y="58680"/>
            <a:ext cx="878040" cy="9129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" descr=""/>
          <p:cNvPicPr/>
          <p:nvPr/>
        </p:nvPicPr>
        <p:blipFill>
          <a:blip r:embed="rId5">
            <a:lum bright="70000" contrast="-70000"/>
          </a:blip>
          <a:stretch/>
        </p:blipFill>
        <p:spPr>
          <a:xfrm>
            <a:off x="365040" y="311040"/>
            <a:ext cx="608040" cy="63180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98200" y="263160"/>
            <a:ext cx="61023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F2586-656D-4BB5-B4CD-26A82F0724EE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A8CA0-7189-4EA8-BBFB-4A423BAC2C2A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"/>
          <p:cNvPicPr/>
          <p:nvPr/>
        </p:nvPicPr>
        <p:blipFill>
          <a:blip r:embed="rId2"/>
          <a:stretch/>
        </p:blipFill>
        <p:spPr>
          <a:xfrm>
            <a:off x="-19080" y="0"/>
            <a:ext cx="9163080" cy="5715000"/>
          </a:xfrm>
          <a:prstGeom prst="rect">
            <a:avLst/>
          </a:prstGeom>
          <a:ln w="0">
            <a:noFill/>
          </a:ln>
        </p:spPr>
      </p:pic>
      <p:sp>
        <p:nvSpPr>
          <p:cNvPr id="272" name="矩形 10"/>
          <p:cNvSpPr/>
          <p:nvPr/>
        </p:nvSpPr>
        <p:spPr>
          <a:xfrm>
            <a:off x="-7920" y="912960"/>
            <a:ext cx="9140760" cy="460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2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7875720" y="3938760"/>
            <a:ext cx="1268280" cy="17049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3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0" y="58680"/>
            <a:ext cx="878040" cy="9129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3" descr=""/>
          <p:cNvPicPr/>
          <p:nvPr/>
        </p:nvPicPr>
        <p:blipFill>
          <a:blip r:embed="rId5">
            <a:lum bright="70000" contrast="-70000"/>
          </a:blip>
          <a:stretch/>
        </p:blipFill>
        <p:spPr>
          <a:xfrm>
            <a:off x="365040" y="311040"/>
            <a:ext cx="608040" cy="63180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98200" y="263160"/>
            <a:ext cx="61023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62C6D-DCB2-4C41-A7FF-B52A17EE1D7E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04C3B-EBE4-4E8B-9E6B-2D0548CD3F2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" descr=""/>
          <p:cNvPicPr/>
          <p:nvPr/>
        </p:nvPicPr>
        <p:blipFill>
          <a:blip r:embed="rId2"/>
          <a:stretch/>
        </p:blipFill>
        <p:spPr>
          <a:xfrm>
            <a:off x="-19080" y="0"/>
            <a:ext cx="9163080" cy="5715000"/>
          </a:xfrm>
          <a:prstGeom prst="rect">
            <a:avLst/>
          </a:prstGeom>
          <a:ln w="0">
            <a:noFill/>
          </a:ln>
        </p:spPr>
      </p:pic>
      <p:sp>
        <p:nvSpPr>
          <p:cNvPr id="318" name="矩形 10"/>
          <p:cNvSpPr/>
          <p:nvPr/>
        </p:nvSpPr>
        <p:spPr>
          <a:xfrm>
            <a:off x="-7920" y="912960"/>
            <a:ext cx="9140760" cy="460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2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7875720" y="3938760"/>
            <a:ext cx="1268280" cy="17049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3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0" y="58680"/>
            <a:ext cx="878040" cy="9129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3" descr=""/>
          <p:cNvPicPr/>
          <p:nvPr/>
        </p:nvPicPr>
        <p:blipFill>
          <a:blip r:embed="rId5">
            <a:lum bright="70000" contrast="-70000"/>
          </a:blip>
          <a:stretch/>
        </p:blipFill>
        <p:spPr>
          <a:xfrm>
            <a:off x="365040" y="311040"/>
            <a:ext cx="608040" cy="63180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98200" y="263160"/>
            <a:ext cx="61023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DF16B-2379-4BC5-98B7-351BD6FECEFC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3192E-8E5B-48EB-9202-4B05FFD8FA7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"/>
          <p:cNvPicPr/>
          <p:nvPr/>
        </p:nvPicPr>
        <p:blipFill>
          <a:blip r:embed="rId2"/>
          <a:stretch/>
        </p:blipFill>
        <p:spPr>
          <a:xfrm>
            <a:off x="-19080" y="0"/>
            <a:ext cx="9163080" cy="5715000"/>
          </a:xfrm>
          <a:prstGeom prst="rect">
            <a:avLst/>
          </a:prstGeom>
          <a:ln w="0">
            <a:noFill/>
          </a:ln>
        </p:spPr>
      </p:pic>
      <p:sp>
        <p:nvSpPr>
          <p:cNvPr id="364" name="矩形 10"/>
          <p:cNvSpPr/>
          <p:nvPr/>
        </p:nvSpPr>
        <p:spPr>
          <a:xfrm>
            <a:off x="-7920" y="912960"/>
            <a:ext cx="9140760" cy="460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2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7875720" y="3938760"/>
            <a:ext cx="1268280" cy="170496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3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0" y="58680"/>
            <a:ext cx="878040" cy="91296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3" descr=""/>
          <p:cNvPicPr/>
          <p:nvPr/>
        </p:nvPicPr>
        <p:blipFill>
          <a:blip r:embed="rId5">
            <a:lum bright="70000" contrast="-70000"/>
          </a:blip>
          <a:stretch/>
        </p:blipFill>
        <p:spPr>
          <a:xfrm>
            <a:off x="365040" y="311040"/>
            <a:ext cx="608040" cy="631800"/>
          </a:xfrm>
          <a:prstGeom prst="rect">
            <a:avLst/>
          </a:prstGeom>
          <a:ln w="0">
            <a:noFill/>
          </a:ln>
        </p:spPr>
      </p:pic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98200" y="263160"/>
            <a:ext cx="61023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25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36830-43E4-4BC0-A3CA-9F1F10A4D727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ftr" idx="26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sldNum" idx="27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BA33E-1B04-4AC4-AEAA-CFEA03E2E41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矩形 12"/>
          <p:cNvSpPr/>
          <p:nvPr/>
        </p:nvSpPr>
        <p:spPr>
          <a:xfrm>
            <a:off x="8298000" y="17640"/>
            <a:ext cx="79056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1" name="Picture 2" descr=""/>
          <p:cNvPicPr/>
          <p:nvPr/>
        </p:nvPicPr>
        <p:blipFill>
          <a:blip r:embed="rId2"/>
          <a:stretch/>
        </p:blipFill>
        <p:spPr>
          <a:xfrm>
            <a:off x="-9360" y="0"/>
            <a:ext cx="9162720" cy="5715000"/>
          </a:xfrm>
          <a:prstGeom prst="rect">
            <a:avLst/>
          </a:prstGeom>
          <a:ln w="0">
            <a:noFill/>
          </a:ln>
        </p:spPr>
      </p:pic>
      <p:pic>
        <p:nvPicPr>
          <p:cNvPr id="1092" name="Picture 3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5292720" y="1128600"/>
            <a:ext cx="3851280" cy="4586400"/>
          </a:xfrm>
          <a:prstGeom prst="rect">
            <a:avLst/>
          </a:prstGeom>
          <a:ln w="0">
            <a:noFill/>
          </a:ln>
        </p:spPr>
      </p:pic>
      <p:pic>
        <p:nvPicPr>
          <p:cNvPr id="1093" name="Picture 3" descr="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0" y="2913120"/>
            <a:ext cx="2521080" cy="2801880"/>
          </a:xfrm>
          <a:prstGeom prst="rect">
            <a:avLst/>
          </a:prstGeom>
          <a:ln w="0">
            <a:noFill/>
          </a:ln>
        </p:spPr>
      </p:pic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717480" y="213660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万圣节夜晚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在线下载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95" name="Picture 2" descr=""/>
          <p:cNvPicPr/>
          <p:nvPr/>
        </p:nvPicPr>
        <p:blipFill>
          <a:blip r:embed="rId5"/>
          <a:stretch/>
        </p:blipFill>
        <p:spPr>
          <a:xfrm rot="21107400">
            <a:off x="6392880" y="1254240"/>
            <a:ext cx="770040" cy="342720"/>
          </a:xfrm>
          <a:prstGeom prst="rect">
            <a:avLst/>
          </a:prstGeom>
          <a:ln w="0">
            <a:noFill/>
          </a:ln>
        </p:spPr>
      </p:pic>
      <p:pic>
        <p:nvPicPr>
          <p:cNvPr id="1096" name="Picture 2" descr=""/>
          <p:cNvPicPr/>
          <p:nvPr/>
        </p:nvPicPr>
        <p:blipFill>
          <a:blip r:embed="rId6"/>
          <a:stretch/>
        </p:blipFill>
        <p:spPr>
          <a:xfrm>
            <a:off x="7846920" y="3578400"/>
            <a:ext cx="1297080" cy="718920"/>
          </a:xfrm>
          <a:prstGeom prst="rect">
            <a:avLst/>
          </a:prstGeom>
          <a:ln w="0">
            <a:noFill/>
          </a:ln>
        </p:spPr>
      </p:pic>
      <p:pic>
        <p:nvPicPr>
          <p:cNvPr id="1097" name="Picture 2" descr=""/>
          <p:cNvPicPr/>
          <p:nvPr/>
        </p:nvPicPr>
        <p:blipFill>
          <a:blip r:embed="rId7"/>
          <a:stretch/>
        </p:blipFill>
        <p:spPr>
          <a:xfrm>
            <a:off x="538200" y="768240"/>
            <a:ext cx="519120" cy="432000"/>
          </a:xfrm>
          <a:prstGeom prst="rect">
            <a:avLst/>
          </a:prstGeom>
          <a:ln w="0">
            <a:noFill/>
          </a:ln>
        </p:spPr>
      </p:pic>
      <p:pic>
        <p:nvPicPr>
          <p:cNvPr id="1098" name="Picture 2" descr=""/>
          <p:cNvPicPr/>
          <p:nvPr/>
        </p:nvPicPr>
        <p:blipFill>
          <a:blip r:embed="rId8"/>
          <a:stretch/>
        </p:blipFill>
        <p:spPr>
          <a:xfrm rot="1977600">
            <a:off x="8167320" y="1181160"/>
            <a:ext cx="584280" cy="417600"/>
          </a:xfrm>
          <a:prstGeom prst="rect">
            <a:avLst/>
          </a:prstGeom>
          <a:ln w="0">
            <a:noFill/>
          </a:ln>
        </p:spPr>
      </p:pic>
      <p:pic>
        <p:nvPicPr>
          <p:cNvPr id="1099" name="Picture 2" descr=""/>
          <p:cNvPicPr/>
          <p:nvPr/>
        </p:nvPicPr>
        <p:blipFill>
          <a:blip r:embed="rId9"/>
          <a:stretch/>
        </p:blipFill>
        <p:spPr>
          <a:xfrm>
            <a:off x="8174160" y="552600"/>
            <a:ext cx="519120" cy="288720"/>
          </a:xfrm>
          <a:prstGeom prst="rect">
            <a:avLst/>
          </a:prstGeom>
          <a:ln w="0">
            <a:noFill/>
          </a:ln>
        </p:spPr>
      </p:pic>
      <p:sp>
        <p:nvSpPr>
          <p:cNvPr id="1100" name="文本框 26635"/>
          <p:cNvSpPr/>
          <p:nvPr/>
        </p:nvSpPr>
        <p:spPr>
          <a:xfrm>
            <a:off x="249120" y="51642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4 -0.10726 -0.046 -0.20011 -0.113 -0.20651 C -0.177 -0.21452 -0.237 -0.14248 -0.241 -0.03842 C -0.246 0.05763 -0.204 0.14728 -0.144 0.15369 C -0.089 0.15849 -0.037 0.09926 -0.033 0.00961 C -0.029 -0.07204 -0.064 -0.14888 -0.115 -0.15529 C -0.162 -0.16009 -0.206 -0.11046 -0.209 -0.03522 C -0.212 0.03202 -0.184 0.09765 -0.142 0.10086 C -0.104 0.10566 -0.068 0.06724 -0.065 0.0064 C -0.063 -0.04803 -0.084 -0.10086 -0.117 -0.10406 C -0.146 -0.10726 -0.175 -0.07844 -0.177 -0.03202 C -0.179 0.008 -0.164 0.04643 -0.14 0.04963 C -0.12 0.05283 -0.099 0.03522 -0.098 0.0032 C -0.096 -0.02241 -0.104 -0.04963 -0.119 -0.05283 C -0.131 -0.05283 -0.143 -0.04643 -0.145 -0.02882 C -0.146 -0.01761 -0.144 -0.0064 -0.138 -0.0016 C -0.135 0 -0.133 0 -0.13 -0.0016 E">
                                      <p:cBhvr>
                                        <p:cTn id="6" dur="5000" fill="hold"/>
                                        <p:tgtEl>
                                          <p:spTgt spid="10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path" presetID="55">
                                  <p:stCondLst>
                                    <p:cond delay="4100"/>
                                  </p:stCondLst>
                                  <p:childTnLst>
                                    <p:animMotion origin="layout" path="M 0 0 C 0.004 -0.10726 -0.046 -0.20011 -0.113 -0.20651 C -0.177 -0.21452 -0.237 -0.14248 -0.241 -0.03842 C -0.246 0.05763 -0.204 0.14728 -0.144 0.15369 C -0.089 0.15849 -0.037 0.09926 -0.033 0.00961 C -0.029 -0.07204 -0.064 -0.14888 -0.115 -0.15529 C -0.162 -0.16009 -0.206 -0.11046 -0.209 -0.03522 C -0.212 0.03202 -0.184 0.09765 -0.142 0.10086 C -0.104 0.10566 -0.068 0.06724 -0.065 0.0064 C -0.063 -0.04803 -0.084 -0.10086 -0.117 -0.10406 C -0.146 -0.10726 -0.175 -0.07844 -0.177 -0.03202 C -0.179 0.008 -0.164 0.04643 -0.14 0.04963 C -0.12 0.05283 -0.099 0.03522 -0.098 0.0032 C -0.096 -0.02241 -0.104 -0.04963 -0.119 -0.05283 C -0.131 -0.05283 -0.143 -0.04643 -0.145 -0.02882 C -0.146 -0.01761 -0.144 -0.0064 -0.138 -0.0016 C -0.135 0 -0.133 0 -0.13 -0.0016 E">
                                      <p:cBhvr>
                                        <p:cTn id="8" dur="5000" fill="hold"/>
                                        <p:tgtEl>
                                          <p:spTgt spid="10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path" presetID="55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 0 C 0.004 -0.10726 -0.046 -0.20011 -0.113 -0.20651 C -0.177 -0.21452 -0.237 -0.14248 -0.241 -0.03842 C -0.246 0.05763 -0.204 0.14728 -0.144 0.15369 C -0.089 0.15849 -0.037 0.09926 -0.033 0.00961 C -0.029 -0.07204 -0.064 -0.14888 -0.115 -0.15529 C -0.162 -0.16009 -0.206 -0.11046 -0.209 -0.03522 C -0.212 0.03202 -0.184 0.09765 -0.142 0.10086 C -0.104 0.10566 -0.068 0.06724 -0.065 0.0064 C -0.063 -0.04803 -0.084 -0.10086 -0.117 -0.10406 C -0.146 -0.10726 -0.175 -0.07844 -0.177 -0.03202 C -0.179 0.008 -0.164 0.04643 -0.14 0.04963 C -0.12 0.05283 -0.099 0.03522 -0.098 0.0032 C -0.096 -0.02241 -0.104 -0.04963 -0.119 -0.05283 C -0.131 -0.05283 -0.143 -0.04643 -0.145 -0.02882 C -0.146 -0.01761 -0.144 -0.0064 -0.138 -0.0016 C -0.135 0 -0.133 0 -0.13 -0.0016 E">
                                      <p:cBhvr>
                                        <p:cTn id="10" dur="5000" fill="hold"/>
                                        <p:tgtEl>
                                          <p:spTgt spid="10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mph" presetID="26" repeatCount="indefinite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2" dur="50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2500" autoRev="1" fill="hold"/>
                                        <p:tgtEl>
                                          <p:spTgt spid="10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mph" presetID="26" repeatCount="indefinite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5" dur="50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" dur="2500" autoRev="1" fill="hold"/>
                                        <p:tgtEl>
                                          <p:spTgt spid="10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mph" presetID="26" repeatCount="indefinite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8" dur="50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2500" autoRev="1" fill="hold"/>
                                        <p:tgtEl>
                                          <p:spTgt spid="10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21" dur="50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" dur="2500" autoRev="1" fill="hold"/>
                                        <p:tgtEl>
                                          <p:spTgt spid="10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日期占位符 2"/>
          <p:cNvSpPr/>
          <p:nvPr/>
        </p:nvSpPr>
        <p:spPr>
          <a:xfrm>
            <a:off x="457200" y="5297400"/>
            <a:ext cx="21337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A78B0-D96C-4011-8427-F9DD2E3A13E2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03" name="Picture 2" descr=""/>
          <p:cNvPicPr/>
          <p:nvPr/>
        </p:nvPicPr>
        <p:blipFill>
          <a:blip r:embed="rId1"/>
          <a:srcRect l="12672" t="63055" r="43968" b="13591"/>
          <a:stretch/>
        </p:blipFill>
        <p:spPr>
          <a:xfrm>
            <a:off x="-11160" y="903240"/>
            <a:ext cx="259236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日期占位符 2"/>
          <p:cNvSpPr/>
          <p:nvPr/>
        </p:nvSpPr>
        <p:spPr>
          <a:xfrm>
            <a:off x="457200" y="5297400"/>
            <a:ext cx="21337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FB220-0F25-4B47-8E2F-6728CD77EA97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06" name="Picture 3" descr=""/>
          <p:cNvPicPr/>
          <p:nvPr/>
        </p:nvPicPr>
        <p:blipFill>
          <a:blip r:embed="rId1"/>
          <a:srcRect l="39176" t="34086" r="9030" b="42749"/>
          <a:stretch/>
        </p:blipFill>
        <p:spPr>
          <a:xfrm>
            <a:off x="6013440" y="4370400"/>
            <a:ext cx="3097080" cy="1152360"/>
          </a:xfrm>
          <a:prstGeom prst="rect">
            <a:avLst/>
          </a:prstGeom>
          <a:ln w="0">
            <a:noFill/>
          </a:ln>
        </p:spPr>
      </p:pic>
      <p:sp>
        <p:nvSpPr>
          <p:cNvPr id="1107" name="文本框 28676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7bbfd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17bbfd"/>
                </a:solidFill>
                <a:uFillTx/>
                <a:latin typeface="Arial"/>
                <a:ea typeface="宋体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日期占位符 2"/>
          <p:cNvSpPr/>
          <p:nvPr/>
        </p:nvSpPr>
        <p:spPr>
          <a:xfrm>
            <a:off x="457200" y="5297400"/>
            <a:ext cx="21337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B1B7E-3048-4AFA-8504-312FC1E4DF72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10" name="Picture 3" descr=""/>
          <p:cNvPicPr/>
          <p:nvPr/>
        </p:nvPicPr>
        <p:blipFill>
          <a:blip r:embed="rId1"/>
          <a:srcRect l="12672" t="76060" r="46376" b="-3561"/>
          <a:stretch/>
        </p:blipFill>
        <p:spPr>
          <a:xfrm>
            <a:off x="6805440" y="912960"/>
            <a:ext cx="2449800" cy="1368360"/>
          </a:xfrm>
          <a:prstGeom prst="rect">
            <a:avLst/>
          </a:prstGeom>
          <a:ln w="0">
            <a:noFill/>
          </a:ln>
        </p:spPr>
      </p:pic>
      <p:sp>
        <p:nvSpPr>
          <p:cNvPr id="1111" name="矩形 4"/>
          <p:cNvSpPr/>
          <p:nvPr/>
        </p:nvSpPr>
        <p:spPr>
          <a:xfrm>
            <a:off x="3166920" y="26733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2" name="Picture 2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5715000"/>
          </a:xfrm>
          <a:prstGeom prst="rect">
            <a:avLst/>
          </a:prstGeom>
          <a:ln w="0">
            <a:noFill/>
          </a:ln>
        </p:spPr>
      </p:pic>
      <p:sp>
        <p:nvSpPr>
          <p:cNvPr id="1113" name="矩形 6"/>
          <p:cNvSpPr/>
          <p:nvPr/>
        </p:nvSpPr>
        <p:spPr>
          <a:xfrm>
            <a:off x="0" y="552600"/>
            <a:ext cx="9144000" cy="475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4" name="Picture 2" descr=""/>
          <p:cNvPicPr/>
          <p:nvPr/>
        </p:nvPicPr>
        <p:blipFill>
          <a:blip r:embed="rId2"/>
          <a:stretch/>
        </p:blipFill>
        <p:spPr>
          <a:xfrm>
            <a:off x="2338560" y="2281320"/>
            <a:ext cx="1081080" cy="1163520"/>
          </a:xfrm>
          <a:prstGeom prst="rect">
            <a:avLst/>
          </a:prstGeom>
          <a:ln w="0">
            <a:noFill/>
          </a:ln>
        </p:spPr>
      </p:pic>
      <p:sp>
        <p:nvSpPr>
          <p:cNvPr id="1115" name="标题 3"/>
          <p:cNvSpPr/>
          <p:nvPr/>
        </p:nvSpPr>
        <p:spPr>
          <a:xfrm>
            <a:off x="3419640" y="2425680"/>
            <a:ext cx="36018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s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日期占位符 2"/>
          <p:cNvSpPr/>
          <p:nvPr/>
        </p:nvSpPr>
        <p:spPr>
          <a:xfrm>
            <a:off x="457200" y="5297400"/>
            <a:ext cx="21337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1F6AF-E03C-4FC0-AF0F-84C68FB6BBD1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18" name="Picture 2" descr=""/>
          <p:cNvPicPr/>
          <p:nvPr/>
        </p:nvPicPr>
        <p:blipFill>
          <a:blip r:embed="rId1"/>
          <a:stretch/>
        </p:blipFill>
        <p:spPr>
          <a:xfrm>
            <a:off x="2482920" y="2136600"/>
            <a:ext cx="3889440" cy="21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日期占位符 2"/>
          <p:cNvSpPr/>
          <p:nvPr/>
        </p:nvSpPr>
        <p:spPr>
          <a:xfrm>
            <a:off x="457200" y="5297400"/>
            <a:ext cx="21337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05255-AD1E-4FD5-8C83-822BFAA39090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21" name="Picture 2" descr=""/>
          <p:cNvPicPr/>
          <p:nvPr/>
        </p:nvPicPr>
        <p:blipFill>
          <a:blip r:embed="rId1"/>
          <a:stretch/>
        </p:blipFill>
        <p:spPr>
          <a:xfrm rot="4983600">
            <a:off x="2844360" y="1307880"/>
            <a:ext cx="3332160" cy="3681360"/>
          </a:xfrm>
          <a:prstGeom prst="rect">
            <a:avLst/>
          </a:prstGeom>
          <a:ln w="0">
            <a:noFill/>
          </a:ln>
        </p:spPr>
      </p:pic>
      <p:sp>
        <p:nvSpPr>
          <p:cNvPr id="1122" name="六边形 4"/>
          <p:cNvSpPr/>
          <p:nvPr/>
        </p:nvSpPr>
        <p:spPr>
          <a:xfrm>
            <a:off x="2843280" y="1279440"/>
            <a:ext cx="576360" cy="496800"/>
          </a:xfrm>
          <a:prstGeom prst="hexagon">
            <a:avLst>
              <a:gd name="adj" fmla="val 24975"/>
              <a:gd name="vf" fmla="val 115470"/>
            </a:avLst>
          </a:prstGeom>
          <a:solidFill>
            <a:srgbClr val="ffffff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六边形 5"/>
          <p:cNvSpPr/>
          <p:nvPr/>
        </p:nvSpPr>
        <p:spPr>
          <a:xfrm>
            <a:off x="5364000" y="1279440"/>
            <a:ext cx="576360" cy="496800"/>
          </a:xfrm>
          <a:prstGeom prst="hexagon">
            <a:avLst>
              <a:gd name="adj" fmla="val 24975"/>
              <a:gd name="vf" fmla="val 115470"/>
            </a:avLst>
          </a:prstGeom>
          <a:solidFill>
            <a:srgbClr val="ffffff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六边形 6"/>
          <p:cNvSpPr/>
          <p:nvPr/>
        </p:nvSpPr>
        <p:spPr>
          <a:xfrm>
            <a:off x="6300720" y="2647800"/>
            <a:ext cx="576360" cy="497160"/>
          </a:xfrm>
          <a:prstGeom prst="hexagon">
            <a:avLst>
              <a:gd name="adj" fmla="val 24957"/>
              <a:gd name="vf" fmla="val 115470"/>
            </a:avLst>
          </a:prstGeom>
          <a:solidFill>
            <a:srgbClr val="ffffff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六边形 7"/>
          <p:cNvSpPr/>
          <p:nvPr/>
        </p:nvSpPr>
        <p:spPr>
          <a:xfrm>
            <a:off x="6156360" y="4449600"/>
            <a:ext cx="577800" cy="497160"/>
          </a:xfrm>
          <a:prstGeom prst="hexagon">
            <a:avLst>
              <a:gd name="adj" fmla="val 25020"/>
              <a:gd name="vf" fmla="val 115470"/>
            </a:avLst>
          </a:prstGeom>
          <a:solidFill>
            <a:srgbClr val="ffffff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六边形 8"/>
          <p:cNvSpPr/>
          <p:nvPr/>
        </p:nvSpPr>
        <p:spPr>
          <a:xfrm>
            <a:off x="2482920" y="4521240"/>
            <a:ext cx="576360" cy="496800"/>
          </a:xfrm>
          <a:prstGeom prst="hexagon">
            <a:avLst>
              <a:gd name="adj" fmla="val 24975"/>
              <a:gd name="vf" fmla="val 115470"/>
            </a:avLst>
          </a:prstGeom>
          <a:solidFill>
            <a:srgbClr val="ffffff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六边形 9"/>
          <p:cNvSpPr/>
          <p:nvPr/>
        </p:nvSpPr>
        <p:spPr>
          <a:xfrm>
            <a:off x="2122560" y="2720880"/>
            <a:ext cx="576360" cy="497160"/>
          </a:xfrm>
          <a:prstGeom prst="hexagon">
            <a:avLst>
              <a:gd name="adj" fmla="val 24957"/>
              <a:gd name="vf" fmla="val 115470"/>
            </a:avLst>
          </a:prstGeom>
          <a:solidFill>
            <a:srgbClr val="ffffff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TextBox 11"/>
          <p:cNvSpPr/>
          <p:nvPr/>
        </p:nvSpPr>
        <p:spPr>
          <a:xfrm>
            <a:off x="687600" y="3073320"/>
            <a:ext cx="144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1111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TextBox 12"/>
          <p:cNvSpPr/>
          <p:nvPr/>
        </p:nvSpPr>
        <p:spPr>
          <a:xfrm>
            <a:off x="1047960" y="1200240"/>
            <a:ext cx="144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1111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TextBox 13"/>
          <p:cNvSpPr/>
          <p:nvPr/>
        </p:nvSpPr>
        <p:spPr>
          <a:xfrm>
            <a:off x="759240" y="4370400"/>
            <a:ext cx="144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1111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Box 14"/>
          <p:cNvSpPr/>
          <p:nvPr/>
        </p:nvSpPr>
        <p:spPr>
          <a:xfrm>
            <a:off x="6018480" y="1273320"/>
            <a:ext cx="144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1111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TextBox 15"/>
          <p:cNvSpPr/>
          <p:nvPr/>
        </p:nvSpPr>
        <p:spPr>
          <a:xfrm>
            <a:off x="6810840" y="2857680"/>
            <a:ext cx="144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1111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TextBox 16"/>
          <p:cNvSpPr/>
          <p:nvPr/>
        </p:nvSpPr>
        <p:spPr>
          <a:xfrm>
            <a:off x="6882120" y="4586400"/>
            <a:ext cx="144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1111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矩形 16"/>
          <p:cNvSpPr/>
          <p:nvPr/>
        </p:nvSpPr>
        <p:spPr>
          <a:xfrm>
            <a:off x="3000240" y="42861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1B996-B5C2-47CA-8E2D-0278E8D0FA3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日期占位符 2"/>
          <p:cNvSpPr/>
          <p:nvPr/>
        </p:nvSpPr>
        <p:spPr>
          <a:xfrm>
            <a:off x="457200" y="5297400"/>
            <a:ext cx="21337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480E3-6817-4AC9-BB26-66E034D21B97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41" name="Picture 2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2338560" y="1273320"/>
            <a:ext cx="4109760" cy="4271760"/>
          </a:xfrm>
          <a:prstGeom prst="rect">
            <a:avLst/>
          </a:prstGeom>
          <a:ln w="0">
            <a:noFill/>
          </a:ln>
        </p:spPr>
      </p:pic>
      <p:sp>
        <p:nvSpPr>
          <p:cNvPr id="1142" name="TextBox 11"/>
          <p:cNvSpPr/>
          <p:nvPr/>
        </p:nvSpPr>
        <p:spPr>
          <a:xfrm>
            <a:off x="832320" y="3073320"/>
            <a:ext cx="144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1111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TextBox 12"/>
          <p:cNvSpPr/>
          <p:nvPr/>
        </p:nvSpPr>
        <p:spPr>
          <a:xfrm>
            <a:off x="903600" y="2065320"/>
            <a:ext cx="144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1111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TextBox 13"/>
          <p:cNvSpPr/>
          <p:nvPr/>
        </p:nvSpPr>
        <p:spPr>
          <a:xfrm>
            <a:off x="6305760" y="3794040"/>
            <a:ext cx="144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1111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TextBox 14"/>
          <p:cNvSpPr/>
          <p:nvPr/>
        </p:nvSpPr>
        <p:spPr>
          <a:xfrm>
            <a:off x="5947200" y="1488960"/>
            <a:ext cx="144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1111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TextBox 15"/>
          <p:cNvSpPr/>
          <p:nvPr/>
        </p:nvSpPr>
        <p:spPr>
          <a:xfrm>
            <a:off x="6018480" y="2641680"/>
            <a:ext cx="144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1111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矩形 14"/>
          <p:cNvSpPr/>
          <p:nvPr/>
        </p:nvSpPr>
        <p:spPr>
          <a:xfrm>
            <a:off x="3166920" y="26733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文本框 33802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7bbfd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17bbfd"/>
                </a:solidFill>
                <a:uFillTx/>
                <a:latin typeface="Arial"/>
                <a:ea typeface="宋体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9T07:35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28:42Z</dcterms:modified>
  <cp:revision>4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