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F8287-76CE-4917-8D55-8C5EFDD9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FB572-4D11-4502-ADB2-F6BEEF8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149C8-A8EB-4452-9F17-0447E1C4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7D987-533C-4F70-AEB6-2D4AD98F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EF36-6C1B-4D98-A693-5A13473F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79FD-3435-4C52-9EB1-2E250EA2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36A3-9612-4D24-AD01-3383F30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10DB-D7B4-4886-9719-2285B0E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5FF7-E2A0-434F-8841-6A18A85A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D4EE-A1BF-4CD5-A68D-907F0D5F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58A5-8E73-461C-ABDF-47CBBDBA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A4D8B-2FCD-49A2-A681-0DCFABDD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D053-0580-4461-807F-9439A51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C153-78B8-4702-9527-8FEAFED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BD45-8FC4-4031-939B-696D431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C693-75C3-421C-8D83-E3D5FD4D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A197-9A2F-4D40-95A4-F3419844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DC00A-E270-4FB1-9EFD-DAE34096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F47C-296C-45D4-BA50-36A8DC4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34112-53A3-4E6B-A262-6ACE71B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BB6F-EB7D-407E-90BA-774402D8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943D-3853-4694-853D-4E3C768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28DF4-79F1-4BC7-A59A-374D586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71659-F5D4-49D3-B849-BB5A805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10"/>
          <p:cNvSpPr/>
          <p:nvPr/>
        </p:nvSpPr>
        <p:spPr>
          <a:xfrm>
            <a:off x="-11160" y="912960"/>
            <a:ext cx="914400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C:\Users\Lois Fu\Documents\PPT模板\未标题-1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ftr" idx="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7"/>
          <p:cNvSpPr>
            <a:spLocks noGrp="1"/>
          </p:cNvSpPr>
          <p:nvPr>
            <p:ph type="sldNum" idx="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284F-D34B-4869-88E1-CACB0C8526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8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5AE-D1CA-4B63-9857-0D069C24ABF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3" descr="C:\Users\Lois Fu\Documents\PPT模板\21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" descr="C:\Users\Lois Fu\Documents\PPT模板\21.pn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AB53-3A15-4893-818B-09EB5220C7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BAF-624C-474C-AD65-DBE5A50267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571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Lois Fu\Documents\PPT模板\21.png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292720" y="1128600"/>
            <a:ext cx="3851280" cy="458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Lois Fu\Documents\PPT模板\21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0" y="2913120"/>
            <a:ext cx="2521080" cy="2801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480" y="21366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iddyup Std"/>
                <a:ea typeface="微软雅黑"/>
              </a:rPr>
              <a:t>万圣节之夜幻灯片打包下载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4120" y="3200040"/>
            <a:ext cx="7720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By:fhao199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2012-09-2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Lois Fu\Pictures\素材\shutterstock_114333283.jpg"/>
          <p:cNvPicPr/>
          <p:nvPr/>
        </p:nvPicPr>
        <p:blipFill>
          <a:blip r:embed="rId5"/>
          <a:stretch/>
        </p:blipFill>
        <p:spPr>
          <a:xfrm rot="21107400">
            <a:off x="6392520" y="1254240"/>
            <a:ext cx="770040" cy="34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Lois Fu\Pictures\素材\shutterstock_114333283.jpg"/>
          <p:cNvPicPr/>
          <p:nvPr/>
        </p:nvPicPr>
        <p:blipFill>
          <a:blip r:embed="rId6"/>
          <a:stretch/>
        </p:blipFill>
        <p:spPr>
          <a:xfrm>
            <a:off x="7846920" y="3578400"/>
            <a:ext cx="129708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Lois Fu\Pictures\素材\shutterstock_114333283.jpg"/>
          <p:cNvPicPr/>
          <p:nvPr/>
        </p:nvPicPr>
        <p:blipFill>
          <a:blip r:embed="rId7"/>
          <a:stretch/>
        </p:blipFill>
        <p:spPr>
          <a:xfrm>
            <a:off x="538200" y="768240"/>
            <a:ext cx="519120" cy="43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Lois Fu\Pictures\素材\shutterstock_114333283.jpg"/>
          <p:cNvPicPr/>
          <p:nvPr/>
        </p:nvPicPr>
        <p:blipFill>
          <a:blip r:embed="rId8"/>
          <a:stretch/>
        </p:blipFill>
        <p:spPr>
          <a:xfrm rot="1977600">
            <a:off x="8167320" y="118116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Lois Fu\Pictures\素材\shutterstock_114333283.jpg"/>
          <p:cNvPicPr/>
          <p:nvPr/>
        </p:nvPicPr>
        <p:blipFill>
          <a:blip r:embed="rId9"/>
          <a:stretch/>
        </p:blipFill>
        <p:spPr>
          <a:xfrm>
            <a:off x="8174160" y="552600"/>
            <a:ext cx="519120" cy="2872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3083"/>
          <p:cNvSpPr/>
          <p:nvPr/>
        </p:nvSpPr>
        <p:spPr>
          <a:xfrm>
            <a:off x="177840" y="52354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6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55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5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10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2" descr="C:\Users\Lois Fu\Pictures\素材\beautiful_modern_banners.jpg"/>
          <p:cNvPicPr/>
          <p:nvPr/>
        </p:nvPicPr>
        <p:blipFill>
          <a:blip r:embed="rId1"/>
          <a:srcRect l="12672" t="63055" r="43968" b="13584"/>
          <a:stretch/>
        </p:blipFill>
        <p:spPr>
          <a:xfrm>
            <a:off x="-12600" y="903240"/>
            <a:ext cx="2593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3" descr="C:\Users\Lois Fu\Pictures\素材\beautiful_modern_banners.jpg"/>
          <p:cNvPicPr/>
          <p:nvPr/>
        </p:nvPicPr>
        <p:blipFill>
          <a:blip r:embed="rId1"/>
          <a:srcRect l="39170" t="34086" r="9030" b="42749"/>
          <a:stretch/>
        </p:blipFill>
        <p:spPr>
          <a:xfrm>
            <a:off x="6013440" y="4370400"/>
            <a:ext cx="3097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3" descr="C:\Users\Lois Fu\Pictures\素材\beautiful_modern_banners.jpg"/>
          <p:cNvPicPr/>
          <p:nvPr/>
        </p:nvPicPr>
        <p:blipFill>
          <a:blip r:embed="rId1"/>
          <a:srcRect l="12672" t="76060" r="46376" b="-3561"/>
          <a:stretch/>
        </p:blipFill>
        <p:spPr>
          <a:xfrm>
            <a:off x="6805440" y="912960"/>
            <a:ext cx="244800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Lois Fu\Documents\PPT模板\未标题-2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6"/>
          <p:cNvSpPr/>
          <p:nvPr/>
        </p:nvSpPr>
        <p:spPr>
          <a:xfrm>
            <a:off x="0" y="552600"/>
            <a:ext cx="914400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Lois Fu\Pictures\素材\shutterstock_114333283.jpg"/>
          <p:cNvPicPr/>
          <p:nvPr/>
        </p:nvPicPr>
        <p:blipFill>
          <a:blip r:embed="rId2"/>
          <a:stretch/>
        </p:blipFill>
        <p:spPr>
          <a:xfrm>
            <a:off x="2338560" y="2281320"/>
            <a:ext cx="1081080" cy="1163520"/>
          </a:xfrm>
          <a:prstGeom prst="rect">
            <a:avLst/>
          </a:prstGeom>
          <a:ln w="0">
            <a:noFill/>
          </a:ln>
        </p:spPr>
      </p:pic>
      <p:sp>
        <p:nvSpPr>
          <p:cNvPr id="111" name="标题 3"/>
          <p:cNvSpPr/>
          <p:nvPr/>
        </p:nvSpPr>
        <p:spPr>
          <a:xfrm>
            <a:off x="3419640" y="2425680"/>
            <a:ext cx="360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2" descr="C:\Users\Lois Fu\Pictures\素材\shutterstock_114333283.jpg"/>
          <p:cNvPicPr/>
          <p:nvPr/>
        </p:nvPicPr>
        <p:blipFill>
          <a:blip r:embed="rId1"/>
          <a:stretch/>
        </p:blipFill>
        <p:spPr>
          <a:xfrm>
            <a:off x="2482920" y="2136600"/>
            <a:ext cx="3889440" cy="21625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6"/>
          <p:cNvSpPr/>
          <p:nvPr/>
        </p:nvSpPr>
        <p:spPr>
          <a:xfrm>
            <a:off x="825480" y="3741840"/>
            <a:ext cx="2770200" cy="628560"/>
          </a:xfrm>
          <a:custGeom>
            <a:avLst/>
            <a:gdLst/>
            <a:ahLst/>
            <a:rect l="l" t="t" r="r" b="b"/>
            <a:pathLst>
              <a:path w="1791222" h="430060">
                <a:moveTo>
                  <a:pt x="1791222" y="0"/>
                </a:moveTo>
                <a:lnTo>
                  <a:pt x="1427967" y="413359"/>
                </a:lnTo>
                <a:cubicBezTo>
                  <a:pt x="951978" y="413359"/>
                  <a:pt x="256784" y="430060"/>
                  <a:pt x="0" y="413359"/>
                </a:cubicBez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7"/>
          <p:cNvSpPr/>
          <p:nvPr/>
        </p:nvSpPr>
        <p:spPr>
          <a:xfrm>
            <a:off x="898560" y="3002040"/>
            <a:ext cx="2131920" cy="216000"/>
          </a:xfrm>
          <a:custGeom>
            <a:avLst/>
            <a:gdLst/>
            <a:ahLst/>
            <a:rect l="l" t="t" r="r" b="b"/>
            <a:pathLst>
              <a:path w="1603332" h="62630">
                <a:moveTo>
                  <a:pt x="1603332" y="62630"/>
                </a:moveTo>
                <a:lnTo>
                  <a:pt x="129018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8"/>
          <p:cNvSpPr/>
          <p:nvPr/>
        </p:nvSpPr>
        <p:spPr>
          <a:xfrm>
            <a:off x="322200" y="1776240"/>
            <a:ext cx="2449440" cy="865440"/>
          </a:xfrm>
          <a:custGeom>
            <a:avLst/>
            <a:gdLst/>
            <a:ahLst/>
            <a:rect l="l" t="t" r="r" b="b"/>
            <a:pathLst>
              <a:path w="1853852" h="488515">
                <a:moveTo>
                  <a:pt x="1853852" y="488515"/>
                </a:moveTo>
                <a:cubicBezTo>
                  <a:pt x="1747380" y="298537"/>
                  <a:pt x="1640909" y="108559"/>
                  <a:pt x="1578279" y="12526"/>
                </a:cubicBezTo>
                <a:lnTo>
                  <a:pt x="0" y="0"/>
                </a:ln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9"/>
          <p:cNvSpPr/>
          <p:nvPr/>
        </p:nvSpPr>
        <p:spPr>
          <a:xfrm flipH="1">
            <a:off x="5218920" y="3578400"/>
            <a:ext cx="2768760" cy="720720"/>
          </a:xfrm>
          <a:custGeom>
            <a:avLst/>
            <a:gdLst/>
            <a:ahLst/>
            <a:rect l="l" t="t" r="r" b="b"/>
            <a:pathLst>
              <a:path w="1791222" h="430060">
                <a:moveTo>
                  <a:pt x="1791222" y="0"/>
                </a:moveTo>
                <a:lnTo>
                  <a:pt x="1427967" y="413359"/>
                </a:lnTo>
                <a:cubicBezTo>
                  <a:pt x="951978" y="413359"/>
                  <a:pt x="256784" y="430060"/>
                  <a:pt x="0" y="413359"/>
                </a:cubicBez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0"/>
          <p:cNvSpPr/>
          <p:nvPr/>
        </p:nvSpPr>
        <p:spPr>
          <a:xfrm flipH="1" flipV="1">
            <a:off x="5580000" y="3073320"/>
            <a:ext cx="2449440" cy="216000"/>
          </a:xfrm>
          <a:custGeom>
            <a:avLst/>
            <a:gdLst/>
            <a:ahLst/>
            <a:rect l="l" t="t" r="r" b="b"/>
            <a:pathLst>
              <a:path w="1603332" h="62630">
                <a:moveTo>
                  <a:pt x="1603332" y="62630"/>
                </a:moveTo>
                <a:lnTo>
                  <a:pt x="129018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1"/>
          <p:cNvSpPr/>
          <p:nvPr/>
        </p:nvSpPr>
        <p:spPr>
          <a:xfrm flipH="1">
            <a:off x="5870520" y="1849320"/>
            <a:ext cx="2449440" cy="576360"/>
          </a:xfrm>
          <a:custGeom>
            <a:avLst/>
            <a:gdLst/>
            <a:ahLst/>
            <a:rect l="l" t="t" r="r" b="b"/>
            <a:pathLst>
              <a:path w="1853852" h="488515">
                <a:moveTo>
                  <a:pt x="1853852" y="488515"/>
                </a:moveTo>
                <a:cubicBezTo>
                  <a:pt x="1747380" y="298537"/>
                  <a:pt x="1640909" y="108559"/>
                  <a:pt x="1578279" y="12526"/>
                </a:cubicBezTo>
                <a:lnTo>
                  <a:pt x="0" y="0"/>
                </a:lnTo>
              </a:path>
            </a:pathLst>
          </a:custGeom>
          <a:noFill/>
          <a:ln w="9360">
            <a:solidFill>
              <a:srgbClr val="c00000"/>
            </a:solidFill>
            <a:prstDash val="dash"/>
            <a:bevel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2" descr="C:\Users\Lois Fu\Documents\PPT模板\未标题-1.png"/>
          <p:cNvPicPr/>
          <p:nvPr/>
        </p:nvPicPr>
        <p:blipFill>
          <a:blip r:embed="rId1"/>
          <a:stretch/>
        </p:blipFill>
        <p:spPr>
          <a:xfrm rot="4983600">
            <a:off x="2844360" y="1307880"/>
            <a:ext cx="3332160" cy="3681360"/>
          </a:xfrm>
          <a:prstGeom prst="rect">
            <a:avLst/>
          </a:prstGeom>
          <a:ln w="0">
            <a:noFill/>
          </a:ln>
        </p:spPr>
      </p:pic>
      <p:sp>
        <p:nvSpPr>
          <p:cNvPr id="122" name="六边形 4"/>
          <p:cNvSpPr/>
          <p:nvPr/>
        </p:nvSpPr>
        <p:spPr>
          <a:xfrm>
            <a:off x="2843280" y="1279440"/>
            <a:ext cx="576360" cy="496800"/>
          </a:xfrm>
          <a:prstGeom prst="hexagon">
            <a:avLst>
              <a:gd name="adj" fmla="val 25029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5"/>
          <p:cNvSpPr/>
          <p:nvPr/>
        </p:nvSpPr>
        <p:spPr>
          <a:xfrm>
            <a:off x="5364000" y="1279440"/>
            <a:ext cx="576360" cy="496800"/>
          </a:xfrm>
          <a:prstGeom prst="hexagon">
            <a:avLst>
              <a:gd name="adj" fmla="val 25029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6"/>
          <p:cNvSpPr/>
          <p:nvPr/>
        </p:nvSpPr>
        <p:spPr>
          <a:xfrm>
            <a:off x="6300720" y="2649600"/>
            <a:ext cx="576360" cy="49680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六边形 7"/>
          <p:cNvSpPr/>
          <p:nvPr/>
        </p:nvSpPr>
        <p:spPr>
          <a:xfrm>
            <a:off x="6156360" y="4449600"/>
            <a:ext cx="576360" cy="497160"/>
          </a:xfrm>
          <a:prstGeom prst="hexagon">
            <a:avLst>
              <a:gd name="adj" fmla="val 24952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六边形 8"/>
          <p:cNvSpPr/>
          <p:nvPr/>
        </p:nvSpPr>
        <p:spPr>
          <a:xfrm>
            <a:off x="2482920" y="4521240"/>
            <a:ext cx="576360" cy="4968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六边形 9"/>
          <p:cNvSpPr/>
          <p:nvPr/>
        </p:nvSpPr>
        <p:spPr>
          <a:xfrm>
            <a:off x="2122560" y="2720880"/>
            <a:ext cx="576360" cy="49716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68760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047960" y="12002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759960" y="4370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6018480" y="12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6810840" y="2857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82120" y="4586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A6F-055E-411B-8886-DC2BD31A1C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" descr="C:\Users\Lois Fu\Documents\PPT模板\21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38560" y="1273320"/>
            <a:ext cx="4109760" cy="4271760"/>
          </a:xfrm>
          <a:prstGeom prst="rect">
            <a:avLst/>
          </a:prstGeom>
          <a:ln w="0">
            <a:noFill/>
          </a:ln>
        </p:spPr>
      </p:pic>
      <p:sp>
        <p:nvSpPr>
          <p:cNvPr id="140" name="任意多边形 5"/>
          <p:cNvSpPr/>
          <p:nvPr/>
        </p:nvSpPr>
        <p:spPr>
          <a:xfrm>
            <a:off x="1546200" y="3362400"/>
            <a:ext cx="1628640" cy="287280"/>
          </a:xfrm>
          <a:custGeom>
            <a:avLst/>
            <a:gdLst/>
            <a:ahLst/>
            <a:rect l="l" t="t" r="r" b="b"/>
            <a:pathLst>
              <a:path w="1628384" h="288099">
                <a:moveTo>
                  <a:pt x="1628384" y="288099"/>
                </a:moveTo>
                <a:cubicBezTo>
                  <a:pt x="1535482" y="188934"/>
                  <a:pt x="1442581" y="89770"/>
                  <a:pt x="1352811" y="0"/>
                </a:cubicBezTo>
                <a:lnTo>
                  <a:pt x="0" y="25053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6"/>
          <p:cNvSpPr/>
          <p:nvPr/>
        </p:nvSpPr>
        <p:spPr>
          <a:xfrm>
            <a:off x="1401840" y="2496960"/>
            <a:ext cx="1628640" cy="289080"/>
          </a:xfrm>
          <a:custGeom>
            <a:avLst/>
            <a:gdLst/>
            <a:ahLst/>
            <a:rect l="l" t="t" r="r" b="b"/>
            <a:pathLst>
              <a:path w="1628384" h="288099">
                <a:moveTo>
                  <a:pt x="1628384" y="288099"/>
                </a:moveTo>
                <a:cubicBezTo>
                  <a:pt x="1535482" y="188934"/>
                  <a:pt x="1442581" y="89770"/>
                  <a:pt x="1352811" y="0"/>
                </a:cubicBezTo>
                <a:lnTo>
                  <a:pt x="0" y="25053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8"/>
          <p:cNvSpPr/>
          <p:nvPr/>
        </p:nvSpPr>
        <p:spPr>
          <a:xfrm>
            <a:off x="5086440" y="3944880"/>
            <a:ext cx="1514520" cy="363600"/>
          </a:xfrm>
          <a:custGeom>
            <a:avLst/>
            <a:gdLst/>
            <a:ahLst/>
            <a:rect l="l" t="t" r="r" b="b"/>
            <a:pathLst>
              <a:path w="1515649" h="363254">
                <a:moveTo>
                  <a:pt x="0" y="0"/>
                </a:moveTo>
                <a:cubicBezTo>
                  <a:pt x="156575" y="133610"/>
                  <a:pt x="313151" y="267221"/>
                  <a:pt x="400833" y="350728"/>
                </a:cubicBezTo>
                <a:lnTo>
                  <a:pt x="1515649" y="363254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"/>
          <p:cNvSpPr/>
          <p:nvPr/>
        </p:nvSpPr>
        <p:spPr>
          <a:xfrm flipH="1">
            <a:off x="5218920" y="1992240"/>
            <a:ext cx="1629000" cy="289080"/>
          </a:xfrm>
          <a:custGeom>
            <a:avLst/>
            <a:gdLst/>
            <a:ahLst/>
            <a:rect l="l" t="t" r="r" b="b"/>
            <a:pathLst>
              <a:path w="1628384" h="288099">
                <a:moveTo>
                  <a:pt x="1628384" y="288099"/>
                </a:moveTo>
                <a:cubicBezTo>
                  <a:pt x="1535482" y="188934"/>
                  <a:pt x="1442581" y="89770"/>
                  <a:pt x="1352811" y="0"/>
                </a:cubicBezTo>
                <a:lnTo>
                  <a:pt x="0" y="25053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10"/>
          <p:cNvSpPr/>
          <p:nvPr/>
        </p:nvSpPr>
        <p:spPr>
          <a:xfrm flipH="1">
            <a:off x="5218920" y="3073320"/>
            <a:ext cx="1629000" cy="289080"/>
          </a:xfrm>
          <a:custGeom>
            <a:avLst/>
            <a:gdLst/>
            <a:ahLst/>
            <a:rect l="l" t="t" r="r" b="b"/>
            <a:pathLst>
              <a:path w="1628384" h="288099">
                <a:moveTo>
                  <a:pt x="1628384" y="288099"/>
                </a:moveTo>
                <a:cubicBezTo>
                  <a:pt x="1535482" y="188934"/>
                  <a:pt x="1442581" y="89770"/>
                  <a:pt x="1352811" y="0"/>
                </a:cubicBezTo>
                <a:lnTo>
                  <a:pt x="0" y="25053"/>
                </a:lnTo>
              </a:path>
            </a:pathLst>
          </a:custGeom>
          <a:noFill/>
          <a:ln w="9360">
            <a:solidFill>
              <a:srgbClr val="000000"/>
            </a:solidFill>
            <a:bevel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83232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903600" y="2065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6305760" y="37940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5947200" y="14889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6018480" y="2641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7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1-24T03:28:38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