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9096-372A-4625-AC95-7EAFA4CA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E6B7-D5DA-472A-9524-3071D33D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AF76-CF16-4F2E-89C2-40EC9C85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D029-D8CD-478B-B646-EECCF75A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3440-4E3B-422A-9E5E-3E6E6C7A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1FD0-8F48-46D8-9BC5-0DB2AF3D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E526-009C-40B4-A8F6-C0BC4E6D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342E-4CA8-4EFE-BF6C-B0622BB5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A2C7-9445-4C5E-8AEF-62A1CC1D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E00C-0A4E-49AD-BDAB-AA3320C0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5CFD-B00A-4BD4-8D94-9D5940C6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88D8-F5AA-4D74-A5F2-98EC45A8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C250-F769-43AD-A101-D2EB94AE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6622-5CB3-43BB-8D0A-333B2EDC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E939-F64F-416F-A6E7-E69D8A64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9E1D-452E-42CF-B308-39159568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57FC-B0EC-440C-B711-6C1AADAD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C372-4392-4486-8479-536C9CFC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6286-0DB2-43ED-A53C-A53EDC9D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37C8-9EEF-4286-8DEF-442945DB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ABAB-9A7C-4C2E-86B6-71CE99CA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2B90-EF2D-45A9-8F77-5A28561D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1DA4-96F4-494A-823F-3C0480C1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3669-4D8C-4C00-AB9C-7BA2B5C6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F109-DE26-4FE7-B5F8-5A409932D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E739-F944-431F-AF82-F193DBFFDE3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6934-0EFE-4D7E-A9E1-E3C70ADEFB0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3073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074"/>
          <p:cNvSpPr/>
          <p:nvPr/>
        </p:nvSpPr>
        <p:spPr>
          <a:xfrm>
            <a:off x="3806640" y="3645000"/>
            <a:ext cx="37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五一促销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4DEE-CBF2-4146-91AC-091CD8D0445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4099"/>
          <p:cNvSpPr/>
          <p:nvPr/>
        </p:nvSpPr>
        <p:spPr>
          <a:xfrm>
            <a:off x="1187280" y="2852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7:34:5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39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