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27C-758B-43D7-9EBE-A2A6EF52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7E2-6936-4A0B-8987-1B876B0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B0B24-0008-4502-B813-E25D1B37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442D-85EC-4F9C-9504-90EC672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93514-6CBE-4D47-AC1D-37EC182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41374-13AB-4A6E-814A-689BE6C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A43F3-2794-405D-9753-D0EB583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DF50E-B3F9-4E18-B546-9949472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65AB8-5637-4C50-A739-557928D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7DA07-617D-4B3F-9E36-524BF7D4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1D1D4-3761-4EBC-A0E0-1394B6A4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E99D8-76FE-465C-B12D-6AD02C51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A96-F811-4231-9DCF-59130C92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C881F-6542-48AA-A574-175D91A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13514-DFC8-42CB-A12B-7E81AF0E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E53FF-500C-44D2-AD29-C1884DB7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DC7C1-CA92-42F5-BC51-B1D01B3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511A8-E7F8-454D-A20F-25EFD29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A45E3-6A32-4C73-8D99-5B25B85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AC7B8-DB20-4526-94E7-1FF4FBF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5BC31-DE55-47A5-9F9A-6B269DA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A7282-314A-4413-B0FB-3D3CFCA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4B2EE-B5C3-494E-B7DD-5D097AC4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B6E-E5F3-4041-BFBE-AD1D1089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72BD3-C07D-41BC-A812-9D91F74A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5C7ED-9815-469F-B190-A7237CD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D53E8-CF07-41CB-8D9A-C3BFC71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74E9-01A6-4105-BE5F-6EDD617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82DB-7DB6-44AF-91BA-32F8D7C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83E31-8961-4708-AF98-178905C4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3F883-1A8E-4B32-ACED-B83095D5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939C4-29CB-40FB-A269-08A1666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D204A-2097-430A-A37E-F03B1719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A7E8-F3C1-457B-91B7-A1D7DDB8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D228-EDE2-4FBE-A31A-6B2D4AE8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6931-F395-4209-9B3D-6B7E9EC9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772F5-A594-46F6-9252-6775E3AC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577A7-BFA7-4CED-9AE2-C8AA2C01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0669C-F89C-4A20-8F74-99471AD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4ED5D-E417-4C40-B3ED-FAEC3B6D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851EF-47EA-4CD3-82B1-66522D7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C077A-59F3-43EA-B205-89D0090E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4C621-C464-4CF3-9529-8E83014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3AA12-2AC3-438E-9F0D-A44C2944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C9963-EA51-4D3F-9153-0003DF3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5EDF-A990-4955-8E8C-5A149248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E7863-0BE0-4EC5-AB92-01D7E92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61DC2-CAD8-4165-B9CB-558095E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84879-FE5B-4E49-AA4C-9904AFA6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E7B19-4169-4B11-AD55-38D9D5D1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2DFAE-DEA4-4FDB-8B1D-7C8AA24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24D25-7275-47EB-893C-77DBD237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5AE09-552F-4FAE-AC4C-372296EF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E9199-674A-425B-9395-387667F0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D12C6-0E04-4B4F-A933-01FBC4CE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DC449-B3E4-4A7D-8640-E61FC2B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1F39-B534-4C86-AB00-C2622BC0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16962-F0C9-4575-85E7-875DAF4E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0ECAF-BB35-4994-9802-0AE2877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80EE0-5F6F-4061-84CC-DF36086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43823-1C6E-4B7C-A651-74D7244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FBA37-54C8-4C52-A3B2-D51A801E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F8642-C462-418A-BCF8-627D1F8E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0C2EF-30C2-49A8-936A-5EEF47DF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666-D160-467E-85C1-A9AB4FD7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D57-4D3A-41CB-A380-8AB8627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284-3808-4AA0-8A15-24B7C71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2258-ED77-4CF2-8B58-ED041C01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0C9-A65F-4240-8C1C-4BF9EC02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A62F-54E1-4FFC-88A2-610285F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996F-EFF5-4B04-A7F6-AD9ECA9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BDAB-95A4-41FA-9046-1429865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928A-3A7A-45E4-9518-1E70CF42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073-B8B8-4155-A5E0-761F310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46BE-8F35-4D74-ABF1-1010EDA3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CF63-AF2E-4CA8-8158-F5DEB306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5201-0CE8-4D18-8ECE-E5EE9A2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1A6D-A482-410B-A995-71F80A53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6D7F-07BE-4E9F-8B56-4757A94F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9FE-D253-4EBE-A9E6-DD286B8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21BA-68E3-4B12-BE9A-2E7FD517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18D3-C94A-46EE-8E95-0D3239D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8C6B-D5BF-4299-A8C1-D3EFBAB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0E16-5F0B-440B-9F23-37F6F259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752F-183B-4CCA-BD25-8A2B1EDD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A0BA-72AB-403A-9F54-D1061114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3D6E-B32D-4761-9CB3-63B2B9D5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E389-3DD3-4D1D-9ED6-6884261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74FB-354C-4D8F-8CD5-D407F5A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E5CB-B6C3-48D4-8920-EB13679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39C-0AC0-4E5C-ADA8-A98FA43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AFE5-288B-4C54-A8F1-0C4785E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5B14-C2C5-47A1-AFA3-8C6D9E5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5CA4-D106-468E-B368-7F30DE7B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3E22-D36D-4596-9ECF-4D7B2497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C039-67F1-4FE7-B59E-C156E54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406BE-E842-4650-B916-7E29619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20F4-E3AE-4EF0-B56C-E69CC63D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EA4D-E5B2-4BCA-961A-101A01C6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D3D15-EC14-4AE8-A5E0-70ABAE36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1626-AC1C-4219-9A8C-E1158AB3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F36-4396-4E01-8DF3-E28FB65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A6FE-909E-4B3E-BCEF-E3DFE2A9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67A2-2A6D-4C78-A006-AD08CFFE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B4B62-E4B3-495F-BB67-9AA71F5F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0C171-103B-4E78-9248-F24A966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7064-54C2-4A67-8A0E-643F94D1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8544-96C4-40FA-AE10-CC532D86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9F74-E480-4689-BFD7-0AFC37B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0359-45E2-49D6-8069-640B2D8D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86CC9-F99A-4531-955D-449E230F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F999-1D6B-4CED-9D27-1E1C317C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DC1-1243-4377-9044-4962B04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A331-5390-47D8-B2B3-D7570FC8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CF77-182F-4607-9661-1C74B765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0178A-BFDA-4CA9-BF24-A6B79ED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0F8FF-8C58-4246-9834-E14B848C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B234B-73C3-4570-8EA7-0A302EE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0987-1029-4709-8C10-39063006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89EC-A9A9-41E4-A60B-208820E6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96D88-970A-4FAA-980D-184F188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5E40-0037-42BB-9B86-C009F4A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2BB0C-5B62-4316-B701-BA0325E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464-DD50-4F26-AE2B-A340DF95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8269-0456-4E11-96DD-E9050719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E9B3-3576-4ABF-849D-6A522E93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633C-6550-4EF0-86D1-217D0371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93A1-7257-42B5-99C5-886EC4E5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317AD-1883-48E1-95FD-5AD71199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59C5-115E-4A1E-BBE7-724698AE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11FC-0136-4A18-9C44-4FF9CEFA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5746-448B-4030-98CE-D357B61E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8C0D-2CB8-4F09-90E1-F0A49AB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317A6-0A01-4181-9920-CD50D8A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C78-2FA9-42B4-BDF2-54C133A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72AE2-3236-4D56-B97C-8CA19A3A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AEDB-5CD1-492C-BA99-B4B8F00A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A49D-55B7-4D10-B0D7-E4A64B92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227CE-A79F-437C-8C3B-0628722D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76B5-AC66-441A-8523-F0D6DAC3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B6544-4BCA-4593-BCC0-8F32F5C4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F1153-1FF8-4F47-A389-66114DF9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0FC70-9C8A-4B9A-BF46-28E642D9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3E0E-A7D4-44CD-A1C7-F1C2E7A4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31C31-4D73-46DC-860B-C264CAF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342-F5E0-472C-BF29-A12EC432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2F1D0-8F17-43B0-AFE9-2E5D030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FEED2-467A-4564-8986-B45C341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AB2C7-3DF3-4B77-99A8-C23A3D3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3D32E-1AA0-4FBD-B157-FA6A59A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E4B3-BBBF-4F1D-8303-B8891EC8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780DA-AF59-41F5-932F-1EACF591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9B77-D3D8-4B39-958D-F7AFD0EA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D377F-FA45-47BC-8597-7982EA6E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BA19-12C8-4759-AF3E-5F03BDA5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61005-0B41-4EEB-890A-3B90D99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970-E2A7-4E8B-9BDF-BF621B1D9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FA2F-520D-429D-B530-EA9D4E034E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1042-C8DE-44EC-A080-C1E6498B87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7FD0-E3B1-4C92-8A29-CFCFDFF781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10D4-B9E3-44B2-9FE2-ACBE8DDA2C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5BDE-3A07-4BFF-84E9-827553668E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68BF-F6FF-42DE-BBEE-FAC1168F31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E66-4E4D-4B0F-9533-7F2EC27C49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C64B-13A0-491D-BECF-D10A65E3DA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4EC1-14E0-496D-93AC-7DD304D6DFD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E32D-C2B4-406E-BA4A-1E26827708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7CD-F30F-4EEB-A5AD-21D9DCAC87B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F93-052F-4390-B68D-7445153E9B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71A-E16D-491E-850D-F32C17C477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477D-BBF4-4D30-BA2B-A3034880087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1C6D-DAFA-4DA1-9DBF-70810E558E2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8825-8B11-4DF9-B8E6-34CB6691A0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2B1-4C14-4134-A77D-F6E877F3DF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9213-B884-4A4A-A955-6EB9FD5BAA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BEC-E490-4CF5-AD78-4B676D72B27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2D72-2664-4B76-9E1D-87E6775F2B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0C58-F780-4182-BC59-9D067C44CE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940F-8834-4DC4-A60A-82CF753B468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99DB-FF52-4BE6-AF6A-BC3350831F1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3F1-9CAB-4136-97C3-8639CCC5619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B76-7184-4141-B18B-B013BF85DA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1433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338"/>
          <p:cNvSpPr/>
          <p:nvPr/>
        </p:nvSpPr>
        <p:spPr>
          <a:xfrm>
            <a:off x="2455560" y="3933720"/>
            <a:ext cx="46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促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