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633-3EC6-45DB-A655-F9775FD3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AC4-D755-4D21-96AC-AAA99BFE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419-6ABF-4810-8929-6CE16DA0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9D9-D261-4079-BF6D-9DA06950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AFE8-A67C-478C-83A1-D2AE0F13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1133-8781-405F-A89B-C323589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B3AC-7CD9-4735-A87A-4B174392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A4BB-C058-4C6C-96DF-E6BC6397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7CB-4AF6-4273-B55F-2CFD22B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FFF2-9A28-42F4-99F0-20F0A4FC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4AE7-EBE1-419D-8801-D15686F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F96-6FD0-426F-AD10-97142116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5F30-F017-45A4-A5E0-949B82A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DC2B-2A8B-40A0-A93C-62E2994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99E-E3A3-4A31-817E-13E4B22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24E-F554-4D75-91E8-79EBBFD6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D55-B57E-4CF3-B5D0-B37FDB08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CA2-AD72-45AF-BF3D-0FE6E992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7FF-1667-4048-8DEF-78A9834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D52-A802-4248-AC42-71E528AF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41E-B90E-431C-98E8-01E17B56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476-C314-4DD7-8771-E3CAC77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3DA-72F4-453D-8A9A-8080B29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568-976F-4544-A8A6-E1D3FCB2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35F-EF7E-47CE-B33F-FCDCAEA8E8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7F1E-3691-4365-894A-1E87986DD47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509-4A33-4A23-B3E9-EB185E2F52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071720" y="1700280"/>
            <a:ext cx="75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乌鸦喝水语文课件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8"/>
          <p:cNvSpPr txBox="1"/>
          <p:nvPr/>
        </p:nvSpPr>
        <p:spPr>
          <a:xfrm>
            <a:off x="2411280" y="1916280"/>
            <a:ext cx="4953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你懂得了什么</a:t>
            </a:r>
            <a:r>
              <a:rPr b="0" lang="en-US" sz="60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?</a:t>
            </a:r>
            <a:endParaRPr b="0" lang="en-US" sz="60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乌鸦喝水.mpg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127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60280"/>
            <a:ext cx="91440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499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乌鸦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一只乌鸦口渴了，到处找水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乌鸦看见一个瓶子。瓶子里有水，可是瓶子很高，瓶口很小，里面的水又少，它喝不着，怎么办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乌鸦看见旁边有许多小石子，它想了想，有办法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乌鸦把小石子一个一个叼起来，放到瓶子里。瓶子的水慢慢升高，乌鸦就喝着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200"/>
          <p:cNvSpPr/>
          <p:nvPr/>
        </p:nvSpPr>
        <p:spPr>
          <a:xfrm>
            <a:off x="2050920" y="587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260280"/>
            <a:ext cx="9144000" cy="40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499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乌鸦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</a:rPr>
              <a:t>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一只乌鸦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口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了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到处找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乌鸦看见一个瓶子。瓶子里有水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可是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瓶子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很高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，瓶口很小，里面的水又少，它喝不着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怎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办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乌鸦看见旁边有许多小石子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它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想了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想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办法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乌鸦把小石子一个一个叼起来，放到瓶子里。瓶子的水慢慢升高，乌鸦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就喝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116000" y="1484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6360" y="14130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喝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414080" y="2533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651640" y="3645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42920" y="36450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724360" y="256536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到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580000" y="148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572000" y="148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284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2627280" y="3645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办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643280" y="364500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2771640" y="2565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很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908000" y="1052640"/>
            <a:ext cx="554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4360" y="5493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乌鸦把小石子一个一个叼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87280" y="256536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55640" y="162864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信送出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55640" y="285264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过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26920" y="4005360"/>
            <a:ext cx="698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200"/>
          <p:cNvSpPr/>
          <p:nvPr/>
        </p:nvSpPr>
        <p:spPr>
          <a:xfrm>
            <a:off x="1476360" y="5589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979640" y="1844640"/>
            <a:ext cx="5688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826920" y="836640"/>
            <a:ext cx="2448000" cy="1944720"/>
          </a:xfrm>
          <a:prstGeom prst="cloudCallout">
            <a:avLst>
              <a:gd name="adj1" fmla="val -41310"/>
              <a:gd name="adj2" fmla="val 7060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826920" y="314172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乌鸦是怎样喝到水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332000" y="907920"/>
            <a:ext cx="121896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？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979640" y="1844640"/>
            <a:ext cx="5688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826920" y="836640"/>
            <a:ext cx="2448000" cy="1944720"/>
          </a:xfrm>
          <a:prstGeom prst="cloudCallout">
            <a:avLst>
              <a:gd name="adj1" fmla="val -41310"/>
              <a:gd name="adj2" fmla="val 7060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292428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除了这种办法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乌鸦还有别的办法喝到水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1332000" y="907920"/>
            <a:ext cx="121896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？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0B5-7EB0-4D9A-98E6-DE759DB372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4:28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5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