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C30-57D7-4EC2-BC6A-42D29124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73A2-AE5D-48BD-A430-D7A5219F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A45-787C-47C8-A5BD-0C25AD99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BD5-0D22-471B-BDD1-8438D799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42AE-6FCF-43C6-BB6F-7AF0EA08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0841-DCD8-4BC1-A3FB-144FB965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A48C-4210-43F1-9870-B60925B8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63D6-0044-4370-B488-87E76041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51F7-00CC-4A58-B7AC-5FCB1257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A7EA-6BC5-427D-AB27-7B357661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5E0E-7978-4CE0-8B33-A43229F8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0232-9850-4D5F-B599-6DD8F000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DD1C-6EAF-443D-A590-42F71636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0D54-FAC5-401F-8438-ED163F87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8835-1999-48EF-BAB7-EF445233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6FEA-40EF-4FAA-9C99-32E41A88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46CC-162F-4B24-BD31-853CD8C7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AAA28-7D43-4259-B3CC-BB5CD6AD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317F3-AAE1-4A68-AD2F-2ED5C714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F2A7E-0FEA-4B6E-87ED-C8E7F5C2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59455-8A81-459E-9E5D-B1FA91E7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A1221-371C-435D-8AEF-D92D5155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B1E-368E-4479-BF17-1B9EA8B2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92EE-4D76-4CD3-9951-DFCE0D13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03726-581F-4C87-8B7B-0C9ACBE5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CE84-5BB8-4D64-8D85-EBCEB552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B4433-49C8-4FB0-A871-C9EB86DB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35DD-97FA-4037-8A84-345F6BAF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F989-CFB9-4873-AE3F-9574B017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41FC2-5518-4A5A-9B97-FD3D052F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971-01D0-420A-BA20-78EE9BD0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456-C0A9-41B5-BEC7-610C181C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5CE-E36D-44FA-A9DD-F48AB031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C76-91D0-46B8-A308-7E17E88B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6EC-8275-4BA5-AB92-F4C63C65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3D23-B8EF-4326-B4D3-5A41564C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1E3F-2D38-485B-B25C-FAACF78DE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591B-7CC3-436C-9F0D-0A57C2C2FD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4507-4B38-4093-8D60-20EC93449C7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70FC-F9BD-4474-BE5C-6D10793096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4097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098"/>
          <p:cNvSpPr/>
          <p:nvPr/>
        </p:nvSpPr>
        <p:spPr>
          <a:xfrm>
            <a:off x="5135760" y="476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五一劳动节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56EA-3600-4088-998E-B90C2B4075A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44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