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5AD-B278-46EC-9B75-57342BAD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F21-5CF6-4553-92EF-77C3BA9B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BE0-E656-4DE0-BC32-839C75FB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E76-E28A-44F2-8795-11D37141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A01D-498D-48F6-B6DD-3AB45E69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6C29-8715-46C2-85DF-751376A4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F293-16C3-4D2D-892B-772DF1E4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9C89-D5A3-40A8-8B51-0BAB03ED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5596-53E3-445F-AE23-50699349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B086-C279-4EAB-81A4-451529F2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4C4A-3FC7-4583-988C-D53EC78A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629-63F8-4D09-9E72-D21CCCD3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CE35-FC69-44FF-9869-05857B51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2C7E-E225-4888-AEC1-1FA4CE6B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B8C4-865B-4243-9251-39408E91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5284-49D7-4AB6-A052-D0F7C5D9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5540-FD28-4612-BEBE-0EAA1EB4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43F-BFB4-4BFD-8816-82E574B6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AE4-9ABB-4CFA-9D8C-38127BC7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0D2-93B5-4DB1-A297-EBC723C1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60E4-6782-487D-8390-25B85161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30E-0017-4BC0-AF27-BC01233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485-F53E-45A0-92E8-E97F6755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31B-48B6-450F-B5ED-0FA2A14A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A946-0B39-4A46-9FFC-2647EF0D7B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3194-6BEC-444C-8022-746A4302ACE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BE7E-284E-498B-B0B3-C978FB0730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五一劳动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D7D0-14B7-440F-928D-378AA76B107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099"/>
          <p:cNvSpPr/>
          <p:nvPr/>
        </p:nvSpPr>
        <p:spPr>
          <a:xfrm>
            <a:off x="1476360" y="4076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1:4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4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