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1B19-6F1D-4AC4-94F4-F94FA5B51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109A-C536-49A8-8B03-E1815958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1A20B0-9C2C-4A29-B084-0D5106F4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5956B-0A58-4F52-9764-E393FADB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448F4E-5BCB-4E51-ADC9-E5FF3199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E8CA4C-985B-48F7-A16C-9E7F0199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ED76E4-5905-4708-9032-915B47A7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E35E4D-3CF7-44C8-A5B9-5981C569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2983D9-9D19-4404-B6C2-552C7768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BB0C56-1646-443A-A8E1-D39881721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0EC65D-A989-4167-ADA6-C098E4DC9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BFD3D8-6A1D-48CF-896F-A8660842F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AB35-1819-4D91-96FD-C5E2A225D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828492-DA87-4981-9F6F-1164E42E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D345DE-91E8-48A5-BEC6-52F07C4D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26EAC2-7E67-4F10-AAF4-AB833E32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D17EDD-AA5B-403F-B849-D62AC374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A24343-C5A7-479C-9FA0-21D1C458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F1DEB5-A846-4558-BDF1-0A597C8F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F13EB0-D335-4C1B-B9F7-8F113F76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28F11C-D30F-4010-AC5B-1A239AC3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946EED-C8E7-4FD1-9C25-4B35206A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2746B2-E7C5-4C36-BA81-8CA00D886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C558-1B8F-4C4F-8D7C-1695CC8B8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9EAB16-76DF-40B4-8E53-25770095E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40BECF-DE8D-46C7-971C-1E9E5CF17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07424-A25F-457D-8201-61A320D7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5E2E1-C000-45A9-9DC3-66B927CB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283E3-94C2-4A9A-B2BC-4BA80970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6D5C5E-4623-4F2A-AB30-F2CA6A75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CC8AD0-9981-4BB7-8B13-7434785D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93646-F3DE-4249-9506-425A005F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AB395D-5AC4-4FF0-9738-C8A9D62F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2BEDB-5FC7-4A0B-BE43-1E2CD369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1BB71-E6A8-47B8-896E-BDB5B7CA8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33522A-7A25-4001-B30B-6B7ECDB2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B67F1-331D-4CE2-89E4-0FB57BDA3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7A75D-0EA1-4C46-8B74-3FF3B9118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097D89-7E64-4C4C-99E0-C3417BECD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73AC6D-0EB6-46BC-9E15-A97E5B9C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5C0485-8542-43C6-BE15-44CA5340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A8FD51-7673-4285-9B94-F45ADEA0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37E38C-93E7-48CE-B3B4-CEC8F49A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0AE084-D65D-402E-A45F-05BED850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29B9BC-E2F6-41E0-938E-C5FC78A5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F5241-BF8C-47D6-B434-D7D25036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1C70A7-ED7C-4930-A884-4447E9C6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0C8B2D-204F-4E30-950A-590B254F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E0A1A2-F95C-4F13-8CD7-91AAB9436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13E331-7B7B-4411-956A-8B76965C8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8633E7-6CE0-4D60-8376-7E59A6D62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E2BE25-19AA-48E4-97EC-575108E4E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6243C1-650F-481C-A71E-7504633B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863463-360D-4785-92C6-47BD45FB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1ADEAC-385E-44F1-95E4-A30747A0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51E814-005C-4A2C-9B1A-A4124D2C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7B30A-0128-45E7-A791-7BD9EEE6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CD19B4-8B20-4C22-B60D-50E6A36F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0B842D-E709-45B8-BC46-A62FDC57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CD597D-9BEB-439A-81DB-B873CFEE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7D0ACE-BDC0-4F5F-BA2B-10FEF581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A569E5-4B7C-4411-9376-C0D7BB00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E9053C-713A-4EC3-A5B0-F790F086F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3C6FD9-1993-4FA7-A0E3-BEB729666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E631-69E8-423C-BD9B-04BD0F73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55475-1743-40C5-A319-3A4472B1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499B-E789-4065-97BD-BDDEC2E8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49D22-E045-4656-8F04-E1767901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A482-582D-4F8B-AF6C-57E9677E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169C-112C-495B-86C9-83C824EC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090D-AD40-483C-9FDE-05FC5571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0422F-2FF1-4602-8479-AD2DCA75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F28B-B352-49AF-A1D1-66FC2B112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0903-5F24-49A2-8C85-BD9086186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ACB5F-CD09-4718-BAFE-C8AA6528E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AC155-A109-414A-AD02-5C63377E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5F693-A25B-4B31-951F-12344809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5A9C2-315E-4A8C-8EA7-D04D65E0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10963-57AC-4289-AAA5-5325AAEC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3C0A-2094-4B2F-BD79-80630205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917DF-1AC2-48A8-B3ED-D5CDFFB8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B3681-AF3E-46EF-AE7E-034C8628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B6F8B-71D7-42EE-87AC-DD395F48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FE85D-3B5B-4076-9CF2-20725024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3C5A2-DAAB-48FF-8DB3-8484690C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AFDB4-155E-404A-BF6C-C850ED41E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768E2-4449-4312-888F-4A22B5607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352C2-89B4-4BB5-9533-A81C57CF9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27AB7-4C38-4795-BA53-31E780D4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92770-92C3-47BE-BCC2-824F2407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8EE0-50FD-4473-B664-7C34BD7E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96482-6B7B-4E6F-808F-8097F4D1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D3DBD-BE89-4BDC-B1BD-89518566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019D1-DE31-42D9-AD2F-88D1DA19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A49F2-3965-4004-805E-C9595C8D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E9B0D-E98D-4788-9077-1C8727F6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DBAA2-573D-45CF-8F0E-C5440EF5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30D63-C8B3-4A0B-8B20-3CF9A39F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C23F0-E107-4EA9-8611-4E544A566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8F33A-C0B9-4E32-95A4-25DE088E8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793CE-C3D4-411A-858F-5E31768DE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B3AE-4650-42EF-8040-405A0937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A3B33-F1AE-418A-94D4-3B76549F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3B98F-D31F-4142-868E-BE53EEEF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7C670-971F-470B-93CB-BB3238DC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3E19E-0A38-41BD-A15A-37EF5473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7FC18-0511-4880-8E24-A5073D5B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091DD-7C13-4E0D-BB91-88725B72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1DC1F-4178-464C-A4A7-C87AFED8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CCB85-6FC1-4176-A014-EE7E105F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CDC0D-886D-4278-9D65-510C6612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D0F3E-57C1-4D65-A8FB-BA89C28B7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A4EA-38C8-43C7-820A-42B4EE4C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E9D09-5303-4745-A004-D745CB765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5B28F-E1B0-44CA-897C-065DB022A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D1186-4C55-416A-BD9E-0408BE94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9EB23-12C9-465B-BFF9-A1490F38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8BD2A-057B-41DE-81D9-6FFD685A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085BD-AE48-4D92-B631-3F9B3DA0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7427C-DB41-42B8-BE9A-71EC1C61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4E873-7F02-458C-8C95-B6BD86F0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93BDC-EC86-45FF-87FF-FFE410C5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A33C2-6684-437F-A87B-3372F15E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0952-95E5-46BD-AE0B-506110E7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FB89F-FD15-4CD3-A487-1921A5B8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D3D98-B8A4-431B-B620-F49832721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C44DF-FA6E-473A-83DE-E87A673EA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A38AE-91E2-4225-932F-938AD8B77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6C356-D243-47EC-8BDE-8E009C5C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7A425-9E0A-49AD-A731-D09A400B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90625-8E01-4CA2-88D5-5D81C430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474DF-3A3E-4AAD-99FE-6179BC89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9CB4A-3E4C-41FA-8DE1-7B112AF0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367D0-02DF-4C56-A878-4DDE9E25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ACB9-8060-456A-9875-BE1219B3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BBBCA-9B7A-4225-BE38-CA3963F5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2BFE7-A7B3-4586-95C5-9BE4B671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217BA-72DC-4002-9889-20EDBDA4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CDB32-0F8C-4453-A654-8C5CA113F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2C652-6600-498C-9E26-48051D56E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C0E79-1AD5-4170-AC0A-E0DB733D5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794F0-1FD1-41B5-8872-08385DC2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306BE-473C-4B30-BED9-7FF9EDEA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7E50D-56B2-4B4A-9F30-ABAE9E0F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340EC-3C1E-422A-98DB-F074A69B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5ADD-B9A4-44A4-8BF3-CE9AE5E9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92891-026D-4172-A507-5DD80667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E9DDD-9328-4858-93EC-795369CE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F227F-098D-4B51-A581-A40108EC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7DFD3-21FB-4C0B-823C-2D1483DF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1C3E0-1BFA-4171-A126-C41B3181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08684-7E81-4228-B4D2-9FF5861AA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89A2F-668A-488E-9272-36FB4154A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CC615E-CBA1-4D53-A1D2-881834F91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35CA7C-6011-4875-88C9-73FDEAAB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B15F46-E531-44F0-B295-23A58C4E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0F8E-8B9D-4C76-BA92-01CB3AD7B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DE8D-8CB3-42A7-9E0F-2EA59E08114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91E6-F66D-4A34-A821-C110E2417A5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EB65-5E3B-44AD-BE2F-34477862451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AD40-AE39-4C80-9F5A-059A953B2CD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C7D8-E60D-4F24-9630-A5358DFA1EB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041E-EABE-49A0-BBAE-95F96128F49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D749-B72A-40A5-834E-918B38ED854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BE1F-1456-4B67-9F0B-43E86121F27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78B8-6A3A-4AEE-8A9C-E7BE1C7307E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8BEF-3561-4556-A552-CFE9D2D2B6A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F570-1814-412C-8C45-A4C41FDBE28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B0A2-1DF1-4C2C-AFCF-EDC928EE54C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E9DA-5E22-4D7E-A252-97152D96733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F2815-9981-4534-AFB1-F8E3BB00AF2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A9A0-CDAA-496F-B58E-41592147942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443E-3432-4B89-9559-1FB78F83D6F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DF1B-25E6-497D-AB3F-1DDF4C61983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91C2-9EF2-4930-A872-B010B09A9C1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913D-79F9-450B-8C1A-2A2B359F6E2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506D-3A6B-4EC3-89BB-926746F6DFB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D65C-A9A4-4642-B2BE-99D2BECB717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526B-8129-48C3-AA79-83FDDC5FA6F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B9E3-C6F4-4B80-B4D3-EBB1711A936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B950-9E23-4055-9489-7C8613F734D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B62F-37DB-4D8E-A714-837C2217E0E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AutoShape 13"/>
          <p:cNvSpPr/>
          <p:nvPr/>
        </p:nvSpPr>
        <p:spPr>
          <a:xfrm>
            <a:off x="1476360" y="3141720"/>
            <a:ext cx="3672000" cy="533520"/>
          </a:xfrm>
          <a:prstGeom prst="bracketPair">
            <a:avLst>
              <a:gd name="adj" fmla="val 7638"/>
            </a:avLst>
          </a:pr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文本框 14338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333399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14339"/>
          <p:cNvSpPr/>
          <p:nvPr/>
        </p:nvSpPr>
        <p:spPr>
          <a:xfrm>
            <a:off x="2577960" y="2276640"/>
            <a:ext cx="374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五一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7:24:1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29:37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