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7.gif" ContentType="image/gif"/>
  <Override PartName="/ppt/media/image5.jpeg" ContentType="image/jpeg"/>
  <Override PartName="/ppt/media/image9.jpeg" ContentType="image/jpeg"/>
  <Override PartName="/ppt/media/chimes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laser.wav" ContentType="audio/x-wav"/>
  <Override PartName="/ppt/media/cashreg.wav" ContentType="audio/x-wav"/>
  <Override PartName="/ppt/media/image10.gif" ContentType="image/gif"/>
  <Override PartName="/ppt/media/applause.wav" ContentType="audio/x-wav"/>
  <Override PartName="/ppt/media/glass.wav" ContentType="audio/x-wav"/>
  <Override PartName="/ppt/media/type.wav" ContentType="audio/x-wav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5E5-A9CE-48CD-898A-3B6BF4FD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E53-32B1-4901-AE2B-BF913878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C1B-9ABF-4076-8918-8102080B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116-A9D5-44A9-BBC7-6879A3D4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A032-89E9-4FC8-A329-4DCF34D4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CA1A-6981-42A7-95BF-4ABE8CC4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B5D1-B376-40C0-AEC9-6AFAB1B3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702A-45C1-4197-B2DE-50D036EF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9B85-20EE-461B-9656-F3258780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D692-3DAB-447C-AA6C-39918655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1172-D4F2-47CC-B401-304E33CD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924-C41F-419E-81D4-A2AF90B3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9979-7BCE-47ED-B72F-4EEA1808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1DD0-72E1-41A1-98F2-8032CF0F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AD5C-4D9F-4CD9-85AE-C5BE48B8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B25A-22CF-4D7E-BE0A-A376C45A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5FF9-F47C-481C-B0A4-22634993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65D-CCA6-4786-9FD1-63490B5C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E38-3FED-4FE5-8694-978F7D5C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174-88A2-4C45-8E1E-DD36D6D7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A9F-94D9-4B69-9A84-4625B96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64B-38B2-4A38-966B-77B8C821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EAF-26AB-4340-AF0B-97D1B1B2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1CE-0AB1-4355-99BD-ED6FDD91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5114-C92C-4973-AA1E-E76E1D4FE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ED9A-EA0B-4148-BA11-AEECCDB97AA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8770-555F-4312-BF59-26100C3946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7162920" y="6056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04920" y="243828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小壁虎借尾巴语文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7162920" y="5791320"/>
            <a:ext cx="76176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"/>
          <p:cNvPicPr/>
          <p:nvPr/>
        </p:nvPicPr>
        <p:blipFill>
          <a:blip r:embed="rId1"/>
          <a:stretch/>
        </p:blipFill>
        <p:spPr>
          <a:xfrm>
            <a:off x="3505320" y="2590920"/>
            <a:ext cx="2057400" cy="1743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457200" y="4572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棒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429000" y="4572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棒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72200" y="457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棒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914400" y="48769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你真棒！！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228600" y="228600"/>
            <a:ext cx="2341440" cy="335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2"/>
          <p:cNvPicPr/>
          <p:nvPr/>
        </p:nvPicPr>
        <p:blipFill>
          <a:blip r:embed="rId3"/>
          <a:stretch/>
        </p:blipFill>
        <p:spPr>
          <a:xfrm>
            <a:off x="3200400" y="1752480"/>
            <a:ext cx="252720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3"/>
          <p:cNvPicPr/>
          <p:nvPr/>
        </p:nvPicPr>
        <p:blipFill>
          <a:blip r:embed="rId4"/>
          <a:stretch/>
        </p:blipFill>
        <p:spPr>
          <a:xfrm>
            <a:off x="6172200" y="3048120"/>
            <a:ext cx="2666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28600" y="746280"/>
            <a:ext cx="8915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8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小壁虎分别向（   ），（     ）和（   ）借尾巴，可是都（     ）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9810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小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715000" y="20574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老黄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33720" y="32306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燕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191120" y="44496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没借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33520" y="36504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99ff33"/>
                </a:solidFill>
                <a:latin typeface="Times New Roman"/>
              </a:rPr>
              <a:t>小壁虎爬到哪里，看见谁在干什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272736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99ff33"/>
                </a:solidFill>
                <a:latin typeface="Times New Roman"/>
              </a:rPr>
              <a:t>小壁虎说什么，别人怎么回答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57200" y="516564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6000" spc="-1" strike="noStrike">
                <a:solidFill>
                  <a:srgbClr val="99ff33"/>
                </a:solidFill>
                <a:latin typeface="Times New Roman"/>
              </a:rPr>
              <a:t>小壁虎怎么做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8200"/>
          <p:cNvSpPr/>
          <p:nvPr/>
        </p:nvSpPr>
        <p:spPr>
          <a:xfrm>
            <a:off x="828720" y="2205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04920" y="38088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比较句子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1600200"/>
            <a:ext cx="8229600" cy="74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鱼姐姐，您的尾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借给我行吗？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鱼，你的尾巴借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。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505680" y="17064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038480" y="17064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562720" y="1676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114800" y="31543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876920" y="315432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038480" y="457200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38088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比较句子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行啊，我要用尾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拨水呢。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行，我要用尾巴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水。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505680" y="17064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971800" y="31543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609480" y="20574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因为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……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所以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7620120" y="5943600"/>
            <a:ext cx="60948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35"/>
          <p:cNvPicPr/>
          <p:nvPr/>
        </p:nvPicPr>
        <p:blipFill>
          <a:blip r:embed="rId2"/>
          <a:stretch/>
        </p:blipFill>
        <p:spPr>
          <a:xfrm>
            <a:off x="0" y="609480"/>
            <a:ext cx="3505320" cy="441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"/>
          <p:cNvPicPr/>
          <p:nvPr/>
        </p:nvPicPr>
        <p:blipFill>
          <a:blip r:embed="rId3"/>
          <a:stretch/>
        </p:blipFill>
        <p:spPr>
          <a:xfrm>
            <a:off x="2895480" y="4419720"/>
            <a:ext cx="4191120" cy="2149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松鼠"/>
          <p:cNvPicPr/>
          <p:nvPr/>
        </p:nvPicPr>
        <p:blipFill>
          <a:blip r:embed="rId4"/>
          <a:stretch/>
        </p:blipFill>
        <p:spPr>
          <a:xfrm>
            <a:off x="3962520" y="380880"/>
            <a:ext cx="4533840" cy="3791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4CAA-633D-4BFE-8E56-7B7C911320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4:59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14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