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CC8-B2E5-4FE7-BC54-0A632BBD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D7C-0B52-4B18-9FEA-B462414F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EBA72-3FED-465F-9EC0-378B2FF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73853-C34C-4B5C-9971-17BB2CEF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8D64A-0D38-4935-B5BB-DA05A94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43CC1-EF25-479D-BEBA-07E5E9F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E1F4-B582-4B39-B40F-FECE11C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1661-DAE3-425F-AD43-8BDC8C2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6FC6-B3FF-41AD-BF13-84974815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8DAB0-CF51-44E0-A30C-E9FC6942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8735-6EF8-421B-A3BA-3253ED5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18FD0-D12A-4DC6-A59D-D7976928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E7F-BD72-41FC-848B-81D1F3B7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F4EF8-4791-4890-A5BA-D68BA65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84D6D-9EE6-4615-834F-3353C48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E5081-5A90-4D0F-929C-40B8FCA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DE2EA-0F2D-4634-BA10-ADACD66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0B87-DA77-4443-95F9-5011516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5BFC4-392D-4826-81B1-11EB479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1EDBE-0EF4-4B59-816D-2DA1DAD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89F08-94AC-4AED-A71C-FBCBC81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C502-A501-4B8F-B2D4-C777CAA0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A7F38-0B40-4FC2-A04E-3543605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88C-ECF0-4EAA-A31B-12D30EBD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9E6DB-A068-4614-B4E7-19F148AB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1890-9A16-424B-8D12-3CD8F87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F408B-DDD3-43B5-9386-B4F8EBE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5982-7FB1-43E4-8A29-360FA5AD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15EA-F89E-458F-814A-FF95CEA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3C8FE-FA1E-47A8-BEB7-BD02104C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225F-3972-40DF-86D2-8FB9334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C3BA9-BE0A-447C-B905-F4D56C1A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FCEEC-4794-409A-91BA-F35B368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90A8B-A72F-408C-AA4C-171CCED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90AB-CA78-423C-831D-EA818BCB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14ED-EED0-406C-A1AB-BC71D8F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4936-7865-49D7-8172-BE6114B7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54D7D-2447-4982-AF62-E383486B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10532-418B-4ECF-A010-1A6DC8ED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F99B7-9DC8-449A-8CC9-46E9838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BE629-0529-4FCB-A1FE-F291D1B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964A7-FCB9-4063-B777-09E7749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135BE-F463-4F95-85E0-57AE8B5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D8112-7B18-4BD9-AED7-15C9142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E5854-CB35-460A-9A75-DB6380B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0BE-05A0-4866-A93F-32F27BFE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20AFF-10C2-4C14-BF09-FE963EF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5FF67-B85E-4906-BB34-F8AFEC0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1BDC-3F37-4004-866E-70BB941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C96AF-8322-48F5-802D-310152AC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9E9E-118F-4A24-BB6E-18A56B46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4D6DD-1BC5-4B7A-944B-26BBF2A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4A9C9-DBD1-4E26-AA3D-9B0C63E1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FE2B3-AC10-4215-AE2D-A41317B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A382C-0046-4B3F-BC4A-C8817D1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396E0-EC0A-4070-92D4-9273C9E4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C74D-8D0F-47F4-BE62-AC5CA71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CAAC4-8B6E-4B85-A641-2C8778CA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3D7E6-4ACD-4E46-874B-D0DBC81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2AF8D-88D4-4110-8704-EC8F7C7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64981-15B8-45E2-9C56-DC870CD3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55C19-7F49-4EAC-877A-0DE0663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9F4D8-9B4F-4F8F-A3D2-DF358178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749CE-53E5-4C38-942A-91374018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E3E-75C2-44F0-B1BA-D258DB51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C56-407F-4631-97D3-4C0860C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04F-453F-410D-A08B-B346F61C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F75A-F487-46E2-BFED-EE29F30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BEC-ED44-4C6F-A53E-C86BD6E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D00-310A-40E8-B720-4E68E2FC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36FC-3B31-4E00-BA35-7BE090D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BDFD-8641-4E98-A1B0-846F21B4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2C54-9C3D-4A8F-918D-1AE7C331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ED0-30D6-492C-8937-15D2A0D5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D007-0243-451B-B092-13840726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7066-FBAA-4CA0-BCF6-8C91D9C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2E7A-C0CF-4379-BD7A-73BC8021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6059-CFB3-4ABB-9E66-49A327B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79FE-5C96-418D-B93C-47422C6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B42-5E2B-498F-B839-BC8272A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9915-00E7-41FF-A679-F821926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563F-6F79-4C0E-A990-87EADBD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B583-DA90-47FB-817B-D12937B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1399-63BB-4AA1-90DB-68C311E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C948-2373-4956-B1B4-48F2089C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A025-5053-4E04-81F9-ED48363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3264-D827-40C8-B5D7-82054BB3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A045-A24A-4D09-B4AB-318B5ED0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4E83-4C50-43CF-928F-9DF88E37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F1D8-D30E-437E-8A48-30514DF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086-1C65-4369-B6B6-4ABBA6CC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17FB-C124-4E11-8BD2-7372982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4786-DB22-4CF1-8343-7E9AA4DD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4EEF-C5F0-484E-8692-8A291AE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3389-E666-4E02-B531-C988315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655C-2FD6-4206-8699-6FCC314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8942-BD3A-4DB7-BE1C-015F71C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B593-1B0A-416B-B1CE-6B86F630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EBC9-6584-4A97-9AFA-C9594F7E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11DC-E49A-4BF0-8CF1-8AA4B72C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195A-700C-41F2-83BF-D39E27D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077-13FF-4D80-B075-B10E8BF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34309-DC6D-4BDF-A14E-5C024B3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0731-8E5D-4246-9670-3695C53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BC71-1C01-4A08-A1A1-7B5B1DCF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5DD8-56DB-4574-8BB9-B6E0D274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3705-DD04-420D-BE6F-C9ACF23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7612-E320-428D-8DE6-51E3BEF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1B7A-156F-4B1F-958B-2D3DD07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DA04-FC6C-4773-9C7B-89DB227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2E95-818B-4A84-B327-022C2376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9D77-1AA9-4BCF-A9E9-909E5F7C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98D-8045-4205-8279-A8BDE250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4CB8-8C75-45DF-A0FB-B3A4ACED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54BFC-F655-4743-BCC0-A530615C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DB24-322E-48CD-995E-72E55980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BA3D-96CE-46E5-A4A0-73CA692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CCD2-8D38-4E12-BFBB-9D64E956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5CFE-E0D9-43FC-B012-83AA0848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F36C-80E3-4C29-8C0F-8122D92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B589-DBB7-40CA-B07E-3C8F0C4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1240-9D7A-43FC-8E6E-8439F79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6ED9-BD34-4971-9287-965E66F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64D-9042-4BA6-A0B7-56520FC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AB2E-C016-44AB-A386-293480E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E4DC-C326-45AF-9719-0E0E1E9A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A06E9-B15A-4F3F-B406-4ECF54BD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CB9B-3C49-492B-940B-424A67F8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E041B-634B-4F73-88D7-4A7E54EB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77CC-BC53-4579-8705-7BB4ED0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BED4-5200-4507-A24F-77D61D8F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98F5-BA4D-4644-9A50-87F062D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C94D-36C2-4085-9F11-695B1D28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1D95-13C2-4601-BC2C-5735E26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0E7-1265-4348-8F8D-D8F2254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C2891-0470-42BF-B509-44C1F89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A5AB5-3033-4792-B6BE-C3F1964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FBDC-2ECF-499D-B0A5-85682351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A6BF-4D1C-45C2-B1C5-251F0EFA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67FA-1A38-480E-BB04-A89FA442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F651-2E6E-44CD-9D05-2BBE6A1E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6938-62C1-4253-95E9-A7843C0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85E8-09D8-4ABF-BCFC-B26E7561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3B92-AFCB-4443-AC19-782A69AA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0A48-36C7-4F4C-9876-D75823D8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79A-11CB-4E90-A566-1665C56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C918-4241-42B8-8E86-6489BE40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43A9-C1C9-4550-BA15-ECD2C93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2E89-E2FC-4B16-8D35-1DE390F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FDF9-28C6-4889-B753-EE624A5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AD5A-263B-4204-A360-0CB6205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FEB8-3066-48AF-92BB-3BAAA837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E9D5-4763-4260-8A9D-78B19242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9F932-D30B-4965-B9D9-B5D08615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BFD65-FF54-4596-9CA9-D77296FD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A2146-426F-4DB4-8ABC-36701B3B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8EDD-536E-4A1D-9A18-8BD0A9DA23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11E-DAF8-428F-8A4F-08DA35BDA4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F9F-BED0-41A5-B80A-85A1EA67088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65B-F20C-492D-9C6A-D37755D8B5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E55-EB90-426D-BA80-14873D2C2A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0E5-1AE6-4723-BB42-72806F182E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13E-4129-4487-95D7-440257458E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184-543A-4EAB-BDA6-3C2974A5AF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C52-0975-4E5F-A87F-C2C22F2639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DF8-B520-40C6-8D61-08034F7A95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3A0-77AB-4872-9729-CFF67BF4436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C6D-9EC0-41AC-AEA5-43746A0183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8A4-3270-4735-A29F-2F2CB677F2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4C87-7CE1-4E40-B17B-4AEC268E36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3D3A-C130-4DC3-87CA-E686379CC0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93C-6EB9-46A5-899E-5FBAA38522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44D-043F-49DE-B2EC-6ADB4D5B31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C0E-CB7C-4AE3-A484-116468A42E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1FFA-9B45-48D0-BA70-6D609CE3EB9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722-FC2B-4D44-83A1-E60F3D0713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631-E801-4A23-AF44-492D0122252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358-ECF1-4069-ACF8-9E7E255B8D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A741-7F0D-4796-AD5E-90097F0AE2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DAF-D060-4670-BAD2-28868C2AA2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EC7-4016-4FF5-82E5-89C0F345989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D3B3-BA0C-4B84-ACB6-FAD9F1B98F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071880" y="26431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消费者权益日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2786040" y="657216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143160" y="314316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79280" y="48704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1768320" y="184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消费者权益保护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2E5F-B671-40A7-AB4D-D16FF076D4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11" descr="2.png"/>
          <p:cNvPicPr/>
          <p:nvPr/>
        </p:nvPicPr>
        <p:blipFill>
          <a:blip r:embed="rId2"/>
          <a:stretch/>
        </p:blipFill>
        <p:spPr>
          <a:xfrm>
            <a:off x="3716280" y="1714680"/>
            <a:ext cx="1927440" cy="425124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10" descr="1.png"/>
          <p:cNvPicPr/>
          <p:nvPr/>
        </p:nvPicPr>
        <p:blipFill>
          <a:blip r:embed="rId3"/>
          <a:stretch/>
        </p:blipFill>
        <p:spPr>
          <a:xfrm>
            <a:off x="1962000" y="928800"/>
            <a:ext cx="5396040" cy="5599080"/>
          </a:xfrm>
          <a:prstGeom prst="rect">
            <a:avLst/>
          </a:prstGeom>
          <a:ln w="0">
            <a:noFill/>
          </a:ln>
        </p:spPr>
      </p:pic>
      <p:sp>
        <p:nvSpPr>
          <p:cNvPr id="6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5855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3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5"/>
          <p:cNvSpPr/>
          <p:nvPr/>
        </p:nvSpPr>
        <p:spPr>
          <a:xfrm>
            <a:off x="4212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3563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17" descr="1.png"/>
          <p:cNvPicPr/>
          <p:nvPr/>
        </p:nvPicPr>
        <p:blipFill>
          <a:blip r:embed="rId2"/>
          <a:stretch/>
        </p:blipFill>
        <p:spPr>
          <a:xfrm>
            <a:off x="2995560" y="2000160"/>
            <a:ext cx="3438720" cy="34797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2.png"/>
          <p:cNvPicPr/>
          <p:nvPr/>
        </p:nvPicPr>
        <p:blipFill>
          <a:blip r:embed="rId3"/>
          <a:stretch/>
        </p:blipFill>
        <p:spPr>
          <a:xfrm>
            <a:off x="5210280" y="2571840"/>
            <a:ext cx="2209680" cy="22730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2.png"/>
          <p:cNvPicPr/>
          <p:nvPr/>
        </p:nvPicPr>
        <p:blipFill>
          <a:blip r:embed="rId4"/>
          <a:stretch/>
        </p:blipFill>
        <p:spPr>
          <a:xfrm>
            <a:off x="3567240" y="1071720"/>
            <a:ext cx="2209680" cy="22730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2.png"/>
          <p:cNvPicPr/>
          <p:nvPr/>
        </p:nvPicPr>
        <p:blipFill>
          <a:blip r:embed="rId5"/>
          <a:stretch/>
        </p:blipFill>
        <p:spPr>
          <a:xfrm>
            <a:off x="2071800" y="2584440"/>
            <a:ext cx="2209680" cy="22734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21" descr="2.png"/>
          <p:cNvPicPr/>
          <p:nvPr/>
        </p:nvPicPr>
        <p:blipFill>
          <a:blip r:embed="rId6"/>
          <a:stretch/>
        </p:blipFill>
        <p:spPr>
          <a:xfrm>
            <a:off x="3643200" y="3941640"/>
            <a:ext cx="2210040" cy="22734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2"/>
          <p:cNvSpPr/>
          <p:nvPr/>
        </p:nvSpPr>
        <p:spPr>
          <a:xfrm>
            <a:off x="4143240" y="3333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0"/>
          <p:cNvSpPr/>
          <p:nvPr/>
        </p:nvSpPr>
        <p:spPr>
          <a:xfrm>
            <a:off x="27784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1"/>
          <p:cNvSpPr/>
          <p:nvPr/>
        </p:nvSpPr>
        <p:spPr>
          <a:xfrm>
            <a:off x="4278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2"/>
          <p:cNvSpPr/>
          <p:nvPr/>
        </p:nvSpPr>
        <p:spPr>
          <a:xfrm>
            <a:off x="5922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2"/>
          <p:cNvSpPr/>
          <p:nvPr/>
        </p:nvSpPr>
        <p:spPr>
          <a:xfrm>
            <a:off x="4278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5" descr="1.png"/>
          <p:cNvPicPr/>
          <p:nvPr/>
        </p:nvPicPr>
        <p:blipFill>
          <a:blip r:embed="rId2"/>
          <a:stretch/>
        </p:blipFill>
        <p:spPr>
          <a:xfrm>
            <a:off x="2725560" y="1627200"/>
            <a:ext cx="2203560" cy="25002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6" descr="2.png"/>
          <p:cNvPicPr/>
          <p:nvPr/>
        </p:nvPicPr>
        <p:blipFill>
          <a:blip r:embed="rId3"/>
          <a:stretch/>
        </p:blipFill>
        <p:spPr>
          <a:xfrm>
            <a:off x="4938840" y="1785960"/>
            <a:ext cx="2152440" cy="22035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7" descr="1.png"/>
          <p:cNvPicPr/>
          <p:nvPr/>
        </p:nvPicPr>
        <p:blipFill>
          <a:blip r:embed="rId4"/>
          <a:stretch/>
        </p:blipFill>
        <p:spPr>
          <a:xfrm>
            <a:off x="4867200" y="3643200"/>
            <a:ext cx="2203560" cy="25005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18" descr="2.png"/>
          <p:cNvPicPr/>
          <p:nvPr/>
        </p:nvPicPr>
        <p:blipFill>
          <a:blip r:embed="rId5"/>
          <a:stretch/>
        </p:blipFill>
        <p:spPr>
          <a:xfrm>
            <a:off x="2714760" y="3857760"/>
            <a:ext cx="2152440" cy="22032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2"/>
          <p:cNvSpPr/>
          <p:nvPr/>
        </p:nvSpPr>
        <p:spPr>
          <a:xfrm>
            <a:off x="5712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3"/>
          <p:cNvSpPr/>
          <p:nvPr/>
        </p:nvSpPr>
        <p:spPr>
          <a:xfrm>
            <a:off x="5712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4"/>
          <p:cNvSpPr/>
          <p:nvPr/>
        </p:nvSpPr>
        <p:spPr>
          <a:xfrm>
            <a:off x="3211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11" descr="2.png"/>
          <p:cNvPicPr/>
          <p:nvPr/>
        </p:nvPicPr>
        <p:blipFill>
          <a:blip r:embed="rId2"/>
          <a:stretch/>
        </p:blipFill>
        <p:spPr>
          <a:xfrm>
            <a:off x="3892680" y="1571760"/>
            <a:ext cx="1825560" cy="507528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4" descr="1.png"/>
          <p:cNvPicPr/>
          <p:nvPr/>
        </p:nvPicPr>
        <p:blipFill>
          <a:blip r:embed="rId3"/>
          <a:stretch/>
        </p:blipFill>
        <p:spPr>
          <a:xfrm>
            <a:off x="1432080" y="1382760"/>
            <a:ext cx="2711160" cy="58323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5" descr="1.png"/>
          <p:cNvPicPr/>
          <p:nvPr/>
        </p:nvPicPr>
        <p:blipFill>
          <a:blip r:embed="rId4"/>
          <a:stretch/>
        </p:blipFill>
        <p:spPr>
          <a:xfrm>
            <a:off x="5289480" y="1382760"/>
            <a:ext cx="2711520" cy="58323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3"/>
          <p:cNvSpPr/>
          <p:nvPr/>
        </p:nvSpPr>
        <p:spPr>
          <a:xfrm>
            <a:off x="6212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4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5"/>
          <p:cNvSpPr/>
          <p:nvPr/>
        </p:nvSpPr>
        <p:spPr>
          <a:xfrm>
            <a:off x="2426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0" descr="1.png"/>
          <p:cNvPicPr/>
          <p:nvPr/>
        </p:nvPicPr>
        <p:blipFill>
          <a:blip r:embed="rId2"/>
          <a:stretch/>
        </p:blipFill>
        <p:spPr>
          <a:xfrm>
            <a:off x="5553000" y="2805120"/>
            <a:ext cx="2019240" cy="255276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1" descr="2.png"/>
          <p:cNvPicPr/>
          <p:nvPr/>
        </p:nvPicPr>
        <p:blipFill>
          <a:blip r:embed="rId3"/>
          <a:stretch/>
        </p:blipFill>
        <p:spPr>
          <a:xfrm>
            <a:off x="1928880" y="2714760"/>
            <a:ext cx="2019240" cy="25524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2" descr="1.png"/>
          <p:cNvPicPr/>
          <p:nvPr/>
        </p:nvPicPr>
        <p:blipFill>
          <a:blip r:embed="rId4"/>
          <a:stretch/>
        </p:blipFill>
        <p:spPr>
          <a:xfrm>
            <a:off x="3376440" y="4552920"/>
            <a:ext cx="2552760" cy="2019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3" descr="2.png"/>
          <p:cNvPicPr/>
          <p:nvPr/>
        </p:nvPicPr>
        <p:blipFill>
          <a:blip r:embed="rId5"/>
          <a:stretch/>
        </p:blipFill>
        <p:spPr>
          <a:xfrm>
            <a:off x="3357720" y="1214280"/>
            <a:ext cx="2552400" cy="20196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2497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3"/>
          <p:cNvSpPr/>
          <p:nvPr/>
        </p:nvSpPr>
        <p:spPr>
          <a:xfrm>
            <a:off x="5855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4"/>
          <p:cNvSpPr/>
          <p:nvPr/>
        </p:nvSpPr>
        <p:spPr>
          <a:xfrm>
            <a:off x="421200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5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844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10" descr="1.png"/>
          <p:cNvPicPr/>
          <p:nvPr/>
        </p:nvPicPr>
        <p:blipFill>
          <a:blip r:embed="rId2"/>
          <a:stretch/>
        </p:blipFill>
        <p:spPr>
          <a:xfrm>
            <a:off x="3554280" y="1898640"/>
            <a:ext cx="2511720" cy="245916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1" descr="2.png"/>
          <p:cNvPicPr/>
          <p:nvPr/>
        </p:nvPicPr>
        <p:blipFill>
          <a:blip r:embed="rId3"/>
          <a:stretch/>
        </p:blipFill>
        <p:spPr>
          <a:xfrm>
            <a:off x="712800" y="2763720"/>
            <a:ext cx="2930400" cy="29512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2.png"/>
          <p:cNvPicPr/>
          <p:nvPr/>
        </p:nvPicPr>
        <p:blipFill>
          <a:blip r:embed="rId4"/>
          <a:stretch/>
        </p:blipFill>
        <p:spPr>
          <a:xfrm>
            <a:off x="5786280" y="2835360"/>
            <a:ext cx="2928960" cy="295092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"/>
          <p:cNvSpPr/>
          <p:nvPr/>
        </p:nvSpPr>
        <p:spPr>
          <a:xfrm>
            <a:off x="6712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4"/>
          <p:cNvSpPr/>
          <p:nvPr/>
        </p:nvSpPr>
        <p:spPr>
          <a:xfrm>
            <a:off x="4283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0" descr="1.png"/>
          <p:cNvPicPr/>
          <p:nvPr/>
        </p:nvPicPr>
        <p:blipFill>
          <a:blip r:embed="rId2"/>
          <a:stretch/>
        </p:blipFill>
        <p:spPr>
          <a:xfrm>
            <a:off x="1689120" y="2911320"/>
            <a:ext cx="5765760" cy="237492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1" descr="2.png"/>
          <p:cNvPicPr/>
          <p:nvPr/>
        </p:nvPicPr>
        <p:blipFill>
          <a:blip r:embed="rId3"/>
          <a:stretch/>
        </p:blipFill>
        <p:spPr>
          <a:xfrm>
            <a:off x="71280" y="1884240"/>
            <a:ext cx="9144000" cy="2444760"/>
          </a:xfrm>
          <a:prstGeom prst="rect">
            <a:avLst/>
          </a:prstGeom>
          <a:ln w="0">
            <a:noFill/>
          </a:ln>
        </p:spPr>
      </p:pic>
      <p:sp>
        <p:nvSpPr>
          <p:cNvPr id="6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2"/>
          <p:cNvSpPr/>
          <p:nvPr/>
        </p:nvSpPr>
        <p:spPr>
          <a:xfrm>
            <a:off x="2568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3"/>
          <p:cNvSpPr/>
          <p:nvPr/>
        </p:nvSpPr>
        <p:spPr>
          <a:xfrm>
            <a:off x="7426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4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5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925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0" descr="1.png"/>
          <p:cNvPicPr/>
          <p:nvPr/>
        </p:nvPicPr>
        <p:blipFill>
          <a:blip r:embed="rId2"/>
          <a:stretch/>
        </p:blipFill>
        <p:spPr>
          <a:xfrm>
            <a:off x="3571920" y="1187280"/>
            <a:ext cx="2284200" cy="53848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1" descr="2.png"/>
          <p:cNvPicPr/>
          <p:nvPr/>
        </p:nvPicPr>
        <p:blipFill>
          <a:blip r:embed="rId3"/>
          <a:stretch/>
        </p:blipFill>
        <p:spPr>
          <a:xfrm>
            <a:off x="2214720" y="2616120"/>
            <a:ext cx="5384520" cy="22845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2"/>
          <p:cNvSpPr/>
          <p:nvPr/>
        </p:nvSpPr>
        <p:spPr>
          <a:xfrm>
            <a:off x="39265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3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4"/>
          <p:cNvSpPr/>
          <p:nvPr/>
        </p:nvSpPr>
        <p:spPr>
          <a:xfrm>
            <a:off x="4783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5"/>
          <p:cNvSpPr/>
          <p:nvPr/>
        </p:nvSpPr>
        <p:spPr>
          <a:xfrm>
            <a:off x="3069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1" descr="2.png"/>
          <p:cNvPicPr/>
          <p:nvPr/>
        </p:nvPicPr>
        <p:blipFill>
          <a:blip r:embed="rId2"/>
          <a:stretch/>
        </p:blipFill>
        <p:spPr>
          <a:xfrm>
            <a:off x="2266920" y="819000"/>
            <a:ext cx="4943520" cy="546768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" descr="1.png"/>
          <p:cNvPicPr/>
          <p:nvPr/>
        </p:nvPicPr>
        <p:blipFill>
          <a:blip r:embed="rId3"/>
          <a:stretch/>
        </p:blipFill>
        <p:spPr>
          <a:xfrm>
            <a:off x="3722760" y="2571840"/>
            <a:ext cx="2563920" cy="241128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3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4"/>
          <p:cNvSpPr/>
          <p:nvPr/>
        </p:nvSpPr>
        <p:spPr>
          <a:xfrm>
            <a:off x="44265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5"/>
          <p:cNvSpPr/>
          <p:nvPr/>
        </p:nvSpPr>
        <p:spPr>
          <a:xfrm>
            <a:off x="2426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2Z</dcterms:modified>
  <cp:revision>2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