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30D-0BEB-415C-B616-6230EA0B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6DD-5E4F-4715-BA0C-1177236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91A-08C5-47D5-B56D-7509C438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455-F923-4921-AE62-B5EEC0C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E55-7B74-45CB-A5FD-462D12CE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E71-33FC-4905-9777-A094BF8C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407-666C-4E03-ABBC-153AFB2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B39-DC71-4AE8-9FFA-F72BB88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96A-19D9-4BAB-BF78-1C58A74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878-D1F9-424F-AAE4-175309C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2E5-5DB6-4246-8B75-B4366933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DA2-E876-4926-8510-808B1C58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FB93-672D-4BFF-9C67-8183109B68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1DA-FB38-4F1F-A52C-34997E528B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B73-A16C-424D-BCFE-929FCC1F5DA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3" descr="02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03.png"/>
          <p:cNvPicPr/>
          <p:nvPr/>
        </p:nvPicPr>
        <p:blipFill>
          <a:blip r:embed="rId2"/>
          <a:stretch/>
        </p:blipFill>
        <p:spPr>
          <a:xfrm>
            <a:off x="0" y="4478400"/>
            <a:ext cx="3011400" cy="23796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3076"/>
          <p:cNvSpPr/>
          <p:nvPr/>
        </p:nvSpPr>
        <p:spPr>
          <a:xfrm>
            <a:off x="2744640" y="1557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背景在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1:41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