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4409-7C04-4A15-A28D-2796D512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270-C526-4899-8F66-DBA29014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A1A-17D4-471C-BC55-1BBFD54D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CA10-BE73-484E-9F76-63213F4F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94A6-C798-4547-868D-A9FDBBCA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E3AF-F3C0-467D-AA5A-25BE0C97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65A0-8A48-4CB6-9909-A41847A7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D6FA-9352-4669-BAA3-49258187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4851-BE6E-4B49-BB78-B6C3B4CF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2846-6871-4BD8-98B9-22A81B63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11DC-27C5-4F81-B5C9-B862E5D6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01AB-2276-4BDA-AC6A-D8FFE8E3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D3AD-9574-46DA-ACFB-D396D2BB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2746-38F2-44F2-8A9D-720CC023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AA61-D285-4613-996E-83D895C8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F03E-C774-4965-ABDF-67E6389E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B5B6-E699-4857-922D-7E9A3028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0D7-87E9-4FEA-9C5B-E0384C35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A4B-4E6E-4DA0-B6B8-E3BC20DB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21F4-DC2C-4C5E-B31F-9649CD45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C79-0989-4EB5-9D5C-514AEAF8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163-574C-4727-B507-A88DBA4B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622-103B-4BA2-AD3E-C7B60B8F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CCF-0374-4203-AD6D-836546D7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FE90-259D-4BE0-9BF6-33B706D3B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95B5-EF7C-44BB-B72B-78B10E37AA8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8B3D-18E2-401D-88A7-907B5784D8E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5.pn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底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封面烟花01"/>
          <p:cNvPicPr/>
          <p:nvPr/>
        </p:nvPicPr>
        <p:blipFill>
          <a:blip r:embed="rId2"/>
          <a:stretch/>
        </p:blipFill>
        <p:spPr>
          <a:xfrm>
            <a:off x="250920" y="692280"/>
            <a:ext cx="7037280" cy="5943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封面烟花02"/>
          <p:cNvPicPr/>
          <p:nvPr/>
        </p:nvPicPr>
        <p:blipFill>
          <a:blip r:embed="rId3"/>
          <a:stretch/>
        </p:blipFill>
        <p:spPr>
          <a:xfrm>
            <a:off x="5219640" y="0"/>
            <a:ext cx="3924360" cy="276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封面标题"/>
          <p:cNvPicPr/>
          <p:nvPr/>
        </p:nvPicPr>
        <p:blipFill>
          <a:blip r:embed="rId4"/>
          <a:stretch/>
        </p:blipFill>
        <p:spPr>
          <a:xfrm>
            <a:off x="2700360" y="981000"/>
            <a:ext cx="3819600" cy="1914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封面老鼠"/>
          <p:cNvPicPr/>
          <p:nvPr/>
        </p:nvPicPr>
        <p:blipFill>
          <a:blip r:embed="rId5"/>
          <a:stretch/>
        </p:blipFill>
        <p:spPr>
          <a:xfrm>
            <a:off x="3157560" y="3181320"/>
            <a:ext cx="2828880" cy="204804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3078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079"/>
          <p:cNvSpPr/>
          <p:nvPr/>
        </p:nvSpPr>
        <p:spPr>
          <a:xfrm>
            <a:off x="3421800" y="1843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新年幻灯片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dur="indefinite" autoRev="1" nodeType="after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23 L 0 -0.02731 E">
                                      <p:cBhvr>
                                        <p:cTn id="25" dur="35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1797-DB94-4E67-8956-14E6B34FB23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内页底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内页标题"/>
          <p:cNvPicPr/>
          <p:nvPr/>
        </p:nvPicPr>
        <p:blipFill>
          <a:blip r:embed="rId2"/>
          <a:stretch/>
        </p:blipFill>
        <p:spPr>
          <a:xfrm>
            <a:off x="217440" y="115920"/>
            <a:ext cx="2914560" cy="145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内页烟花01"/>
          <p:cNvPicPr/>
          <p:nvPr/>
        </p:nvPicPr>
        <p:blipFill>
          <a:blip r:embed="rId3"/>
          <a:stretch/>
        </p:blipFill>
        <p:spPr>
          <a:xfrm>
            <a:off x="0" y="692280"/>
            <a:ext cx="7037280" cy="5943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内页烟花02"/>
          <p:cNvPicPr/>
          <p:nvPr/>
        </p:nvPicPr>
        <p:blipFill>
          <a:blip r:embed="rId4"/>
          <a:stretch/>
        </p:blipFill>
        <p:spPr>
          <a:xfrm>
            <a:off x="5076720" y="404640"/>
            <a:ext cx="3924360" cy="2762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内页圆角矩形"/>
          <p:cNvPicPr/>
          <p:nvPr/>
        </p:nvPicPr>
        <p:blipFill>
          <a:blip r:embed="rId5"/>
          <a:stretch/>
        </p:blipFill>
        <p:spPr>
          <a:xfrm>
            <a:off x="2529000" y="3214800"/>
            <a:ext cx="4086000" cy="428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2"/>
          <p:cNvSpPr/>
          <p:nvPr/>
        </p:nvSpPr>
        <p:spPr>
          <a:xfrm>
            <a:off x="2700360" y="321948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不 要 忘 记 我 们 自 己 的 节 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封面老鼠"/>
          <p:cNvPicPr/>
          <p:nvPr/>
        </p:nvPicPr>
        <p:blipFill>
          <a:blip r:embed="rId6"/>
          <a:stretch/>
        </p:blipFill>
        <p:spPr>
          <a:xfrm>
            <a:off x="6997680" y="5303880"/>
            <a:ext cx="2146320" cy="155412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4104"/>
          <p:cNvSpPr/>
          <p:nvPr/>
        </p:nvSpPr>
        <p:spPr>
          <a:xfrm>
            <a:off x="442800" y="18763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50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dur="indefinite" nodeType="afterEffect" fill="hold" presetClass="entr" presetID="45" repeatCount="indefinite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14:38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54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