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DC8B-115B-4BFF-B6DC-9D0008656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702600"/>
            <a:ext cx="822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5C89-2E62-47F8-8717-DE2E9186F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70260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70260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0275-6CB0-47A6-9AF9-62CDF9962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05228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05228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70260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70260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70260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A857-D5CE-4834-A454-0C16F23A7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EE0E9-E5C2-4831-9A42-0DF16A002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9450F-2085-4312-89B2-0E43F96A7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E417B-EDC9-4F8D-8755-016C9C02E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0F0E9-0CFE-44D6-A081-F3BC34BCE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3AE38-52FD-4F42-AF97-664DAB680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29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6CC3D-2E2A-4697-A341-B390D2778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70260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957AF-C2D7-429F-878F-084BCE730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B698-6C82-4773-9F36-7C1B0D2F0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70260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F76B5-9ECB-4487-BBB2-FF44CE8E9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702600"/>
            <a:ext cx="822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A4E2C-0552-459F-89B5-873ABA77F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702600"/>
            <a:ext cx="822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E903E-1222-459E-84A0-FA54729D8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0260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70260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70D8C-6D4C-45B8-A6EE-250CFC785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05228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05228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70260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70260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70260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30DED-E3AF-48E2-B5C0-96DB6A343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D0C2-6965-4E4C-9009-2B31ABFC8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510D-AEF9-487A-84F8-457A4697B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2F87-8E11-444F-AB01-5B61BB48B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29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55AB-642F-4990-9303-39EA5A444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70260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5268-93DC-46E7-BD24-28066A545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70260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C90F-4BB0-4CCB-A62E-EE702C90B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02600"/>
            <a:ext cx="822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641F-9FE2-46FE-9B41-5B369CDEE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:\Users\Administrator\Desktop\新建文件夹\未标题-1.jpg"/>
          <p:cNvPicPr/>
          <p:nvPr/>
        </p:nvPicPr>
        <p:blipFill>
          <a:blip r:embed="rId2"/>
          <a:stretch/>
        </p:blipFill>
        <p:spPr>
          <a:xfrm>
            <a:off x="-4680" y="7920"/>
            <a:ext cx="9132840" cy="685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457200">
              <a:spcBef>
                <a:spcPts val="601"/>
              </a:spcBef>
              <a:buClr>
                <a:srgbClr val="ffffff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buClr>
                <a:srgbClr val="ffffff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-457200">
              <a:spcBef>
                <a:spcPts val="601"/>
              </a:spcBef>
              <a:buClr>
                <a:srgbClr val="ffffff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-914400">
              <a:spcBef>
                <a:spcPts val="601"/>
              </a:spcBef>
              <a:buClr>
                <a:srgbClr val="ffffff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-9144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-9144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宋体"/>
              </a:rPr>
              <a:t>小田 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宋体"/>
              </a:rPr>
              <a:t>@ www.ilovepp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00989-EA4E-48D7-B40B-3D89F95B0B71}" type="slidenum">
              <a:rPr b="0" lang="zh-CN" sz="12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4EC10-59AF-4744-A795-7C4D81DC6D4E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BA9BD-0BE7-46C4-8AFD-6B99635CD9F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5280" y="2204640"/>
            <a:ext cx="835344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Verdana"/>
                <a:ea typeface="微软雅黑"/>
              </a:rPr>
              <a:t>Hell 2013 </a:t>
            </a:r>
            <a:r>
              <a:rPr b="1" lang="zh-CN" sz="6600" spc="-1" strike="noStrike">
                <a:solidFill>
                  <a:srgbClr val="ffffff"/>
                </a:solidFill>
                <a:latin typeface="Verdana"/>
                <a:ea typeface="微软雅黑"/>
              </a:rPr>
              <a:t>！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50560" y="3500280"/>
            <a:ext cx="835812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微软雅黑"/>
              </a:rPr>
              <a:t>新年幻灯片免费在线下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文本框 3075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799E5-EBF3-40D1-B3A9-8C107E3B9EA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点击此处添加标题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点击此处添加文本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856BB-87D8-454B-A728-242CD9D5AF52}" type="slidenum">
              <a:rPr b="0" lang="zh-CN" sz="12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文本框 4100"/>
          <p:cNvSpPr/>
          <p:nvPr/>
        </p:nvSpPr>
        <p:spPr>
          <a:xfrm>
            <a:off x="539640" y="227664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3T12:51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1-24T03:32:49Z</dcterms:modified>
  <cp:revision>24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