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004-A30B-4467-8F32-7A152BD9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5D7-28AD-4BF0-BFA4-3AC45AEA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E1F7-42AB-486B-8D05-8BDE84C8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95D-7C5E-49A9-BE84-172379E7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3BA3-D287-4744-88E5-839E9AE5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82C2-80E9-4E15-8DA7-EB58FC42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3F82-20D3-4DFE-80ED-8835594E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27E-EB6A-4C3F-8DB5-77F91608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5E98-9C8A-4136-8A2E-5F6BF32C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63B-82D6-40AF-B17C-0F3B3613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AA00-2BEA-4AEF-8B3E-21782963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D3B-502B-4D4D-92C8-4B0073FE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3" descr="b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110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5"/>
          <p:cNvSpPr/>
          <p:nvPr/>
        </p:nvSpPr>
        <p:spPr>
          <a:xfrm>
            <a:off x="7236000" y="6426360"/>
            <a:ext cx="14396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2975D14-0025-4D33-876F-374BEB782C0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bg3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da58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0" descr="bg1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3BD5-F44E-4F5B-AA61-4E69B4033F6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AF27-64CB-4D1B-84DF-2591507F8E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68360" y="544500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68360" y="45576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文本框 5123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i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124"/>
          <p:cNvSpPr/>
          <p:nvPr/>
        </p:nvSpPr>
        <p:spPr>
          <a:xfrm>
            <a:off x="2751120" y="3333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新年幻灯片在线下载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67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68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1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3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4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77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0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2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3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6040" y="224316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6166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963d00"/>
                </a:solidFill>
                <a:uFillTx/>
                <a:latin typeface="Arial"/>
                <a:hlinkClick r:id="rId1"/>
              </a:rPr>
              <a:t>ppt</a:t>
            </a:r>
            <a:r>
              <a:rPr b="1" i="1" lang="zh-CN" sz="1600" spc="-1" strike="noStrike" u="sng">
                <a:solidFill>
                  <a:srgbClr val="963d00"/>
                </a:solidFill>
                <a:uFillTx/>
                <a:latin typeface="Arial"/>
                <a:hlinkClick r:id="rId2"/>
              </a:rPr>
              <a:t>模板网站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C362-C77A-4355-87EC-7B1BBEB3EA4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2700360" y="429264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50Z</dcterms:modified>
  <cp:revision>28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