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CE8AE-B702-443F-9558-BE64AE09D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E069C-5705-4844-B607-E5BC19B58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4F1EF-10AA-493F-A288-FEE0CFA06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7A0EB-C515-411E-B2B8-796DA4EAD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1ABBE-D171-4695-BE49-DC5C9F1A6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26ED2-3128-42DE-8A9B-5C738A0C8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8877F-4638-4F6F-91A6-8B94C1EF8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07CA6-89EB-4117-901A-50F2B6403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61416-98A7-4EE8-8BED-D4946015A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17DD3-A1DC-4BBA-8AD4-A31DAA0BD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F0B6E-2F2D-4B9B-BE0B-F215D995B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66D15-7977-44D4-9663-199DCBDF6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B9000-315C-4BB8-8690-69760F49E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009B7-994D-45BD-A244-AEAC26B1C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60318-F8AF-4526-AC97-04D6E4615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54CD0-B669-420E-A3D9-E188450AF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62BD1-08B6-473E-820D-5FC1C08ED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E75DD-350A-4423-B081-618A031AC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0587A-C44B-4020-9753-CB2E55D6F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F33CB-12FE-4461-AB74-0D4CFD5D2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D243E-4EBE-42D8-A98A-6794AFB72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E5DA3-004D-4B16-B802-B233482CB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11AA3-F49F-4FDD-923F-F7045E141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A9102-AFD3-4C5D-98EC-2C79112A7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C82F3-BDDF-4F5A-8A0A-999C0449D876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47296-E018-4DCE-AA9B-EA6E46F98DF5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F3BA9-571A-4A4A-85B7-59892D95AE4E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C7C36-54BD-4D77-8B01-CA5BA1A30F7C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hyperlink" Target="http://www.eeppt.com" TargetMode="External"/><Relationship Id="rId6" Type="http://schemas.openxmlformats.org/officeDocument/2006/relationships/hyperlink" Target="http://www.eeppt.com" TargetMode="External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图片 3" descr="13.png"/>
          <p:cNvPicPr/>
          <p:nvPr/>
        </p:nvPicPr>
        <p:blipFill>
          <a:blip r:embed="rId1"/>
          <a:stretch/>
        </p:blipFill>
        <p:spPr>
          <a:xfrm>
            <a:off x="1440" y="0"/>
            <a:ext cx="9141120" cy="5143680"/>
          </a:xfrm>
          <a:prstGeom prst="rect">
            <a:avLst/>
          </a:prstGeom>
          <a:ln w="0">
            <a:noFill/>
          </a:ln>
        </p:spPr>
      </p:pic>
      <p:grpSp>
        <p:nvGrpSpPr>
          <p:cNvPr id="83" name="组合 3"/>
          <p:cNvGrpSpPr/>
          <p:nvPr/>
        </p:nvGrpSpPr>
        <p:grpSpPr>
          <a:xfrm>
            <a:off x="2928960" y="1577880"/>
            <a:ext cx="2398680" cy="1251360"/>
            <a:chOff x="2928960" y="1577880"/>
            <a:chExt cx="2398680" cy="1251360"/>
          </a:xfrm>
        </p:grpSpPr>
        <p:pic>
          <p:nvPicPr>
            <p:cNvPr id="84" name="图片 4" descr="2.png"/>
            <p:cNvPicPr/>
            <p:nvPr/>
          </p:nvPicPr>
          <p:blipFill>
            <a:blip r:embed="rId2"/>
            <a:srcRect l="0" t="0" r="56936" b="23833"/>
            <a:stretch/>
          </p:blipFill>
          <p:spPr>
            <a:xfrm>
              <a:off x="2928960" y="1597680"/>
              <a:ext cx="918720" cy="929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" name="图片 4" descr="2.png"/>
            <p:cNvPicPr/>
            <p:nvPr/>
          </p:nvPicPr>
          <p:blipFill>
            <a:blip r:embed="rId3"/>
            <a:srcRect l="43081" t="0" r="-10024" b="70732"/>
            <a:stretch/>
          </p:blipFill>
          <p:spPr>
            <a:xfrm>
              <a:off x="3899160" y="1577880"/>
              <a:ext cx="1428480" cy="35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TextBox 6"/>
            <p:cNvSpPr/>
            <p:nvPr/>
          </p:nvSpPr>
          <p:spPr>
            <a:xfrm>
              <a:off x="3827880" y="1863720"/>
              <a:ext cx="1428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534741"/>
                  </a:solidFill>
                  <a:latin typeface="方正华隶简体"/>
                  <a:ea typeface="方正华隶简体"/>
                </a:rPr>
                <a:t>新年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TextBox 7"/>
            <p:cNvSpPr/>
            <p:nvPr/>
          </p:nvSpPr>
          <p:spPr>
            <a:xfrm>
              <a:off x="2979360" y="2445840"/>
              <a:ext cx="2142720" cy="38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534741"/>
                  </a:solidFill>
                  <a:latin typeface="方正华隶简体"/>
                  <a:ea typeface="方正华隶简体"/>
                </a:rPr>
                <a:t>2011</a:t>
              </a:r>
              <a:r>
                <a:rPr b="0" lang="zh-CN" sz="1900" spc="-1" strike="noStrike">
                  <a:solidFill>
                    <a:srgbClr val="534741"/>
                  </a:solidFill>
                  <a:latin typeface="方正华隶简体"/>
                  <a:ea typeface="方正华隶简体"/>
                </a:rPr>
                <a:t>辛卯年</a:t>
              </a:r>
              <a:r>
                <a:rPr b="0" lang="en-US" sz="1900" spc="-1" strike="noStrike">
                  <a:solidFill>
                    <a:srgbClr val="534741"/>
                  </a:solidFill>
                  <a:latin typeface="方正华隶简体"/>
                  <a:ea typeface="方正华隶简体"/>
                </a:rPr>
                <a:t>(</a:t>
              </a:r>
              <a:r>
                <a:rPr b="0" lang="zh-CN" sz="1900" spc="-1" strike="noStrike">
                  <a:solidFill>
                    <a:srgbClr val="534741"/>
                  </a:solidFill>
                  <a:latin typeface="方正华隶简体"/>
                  <a:ea typeface="方正华隶简体"/>
                </a:rPr>
                <a:t>兔年</a:t>
              </a:r>
              <a:r>
                <a:rPr b="0" lang="en-US" sz="1900" spc="-1" strike="noStrike">
                  <a:solidFill>
                    <a:srgbClr val="534741"/>
                  </a:solidFill>
                  <a:latin typeface="方正华隶简体"/>
                  <a:ea typeface="方正华隶简体"/>
                </a:rPr>
                <a:t>)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" name="文本框 3079"/>
          <p:cNvSpPr/>
          <p:nvPr/>
        </p:nvSpPr>
        <p:spPr>
          <a:xfrm>
            <a:off x="34920" y="47322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幻灯片之家 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文本框 3080"/>
          <p:cNvSpPr/>
          <p:nvPr/>
        </p:nvSpPr>
        <p:spPr>
          <a:xfrm>
            <a:off x="2767680" y="628560"/>
            <a:ext cx="383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微软雅黑"/>
              </a:rPr>
              <a:t>新年菊幻灯片在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图片 3" descr="11.png"/>
          <p:cNvPicPr/>
          <p:nvPr/>
        </p:nvPicPr>
        <p:blipFill>
          <a:blip r:embed="rId1"/>
          <a:stretch/>
        </p:blipFill>
        <p:spPr>
          <a:xfrm>
            <a:off x="1440" y="0"/>
            <a:ext cx="9141120" cy="5143680"/>
          </a:xfrm>
          <a:prstGeom prst="rect">
            <a:avLst/>
          </a:prstGeom>
          <a:ln w="0">
            <a:noFill/>
          </a:ln>
        </p:spPr>
      </p:pic>
      <p:pic>
        <p:nvPicPr>
          <p:cNvPr id="91" name="图片 4" descr="2.png"/>
          <p:cNvPicPr/>
          <p:nvPr/>
        </p:nvPicPr>
        <p:blipFill>
          <a:blip r:embed="rId2"/>
          <a:stretch/>
        </p:blipFill>
        <p:spPr>
          <a:xfrm>
            <a:off x="7929720" y="142920"/>
            <a:ext cx="1000080" cy="571320"/>
          </a:xfrm>
          <a:prstGeom prst="rect">
            <a:avLst/>
          </a:prstGeom>
          <a:ln w="0">
            <a:noFill/>
          </a:ln>
        </p:spPr>
      </p:pic>
      <p:sp>
        <p:nvSpPr>
          <p:cNvPr id="92" name="TextBox 5"/>
          <p:cNvSpPr/>
          <p:nvPr/>
        </p:nvSpPr>
        <p:spPr>
          <a:xfrm>
            <a:off x="2035080" y="2143080"/>
            <a:ext cx="50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图片 6" descr="8.png"/>
          <p:cNvPicPr/>
          <p:nvPr/>
        </p:nvPicPr>
        <p:blipFill>
          <a:blip r:embed="rId3"/>
          <a:stretch/>
        </p:blipFill>
        <p:spPr>
          <a:xfrm>
            <a:off x="1357200" y="2676600"/>
            <a:ext cx="596880" cy="647640"/>
          </a:xfrm>
          <a:prstGeom prst="rect">
            <a:avLst/>
          </a:prstGeom>
          <a:ln w="0">
            <a:noFill/>
          </a:ln>
        </p:spPr>
      </p:pic>
      <p:pic>
        <p:nvPicPr>
          <p:cNvPr id="94" name="图片 7" descr="9.png"/>
          <p:cNvPicPr/>
          <p:nvPr/>
        </p:nvPicPr>
        <p:blipFill>
          <a:blip r:embed="rId4"/>
          <a:stretch/>
        </p:blipFill>
        <p:spPr>
          <a:xfrm>
            <a:off x="7000920" y="1857240"/>
            <a:ext cx="542880" cy="536760"/>
          </a:xfrm>
          <a:prstGeom prst="rect">
            <a:avLst/>
          </a:prstGeom>
          <a:ln w="0">
            <a:noFill/>
          </a:ln>
        </p:spPr>
      </p:pic>
      <p:sp>
        <p:nvSpPr>
          <p:cNvPr id="95" name="文本框 4102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5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6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45EEB-B143-4209-B09E-CDCB39007056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图片 3" descr="13.png"/>
          <p:cNvPicPr/>
          <p:nvPr/>
        </p:nvPicPr>
        <p:blipFill>
          <a:blip r:embed="rId1"/>
          <a:stretch/>
        </p:blipFill>
        <p:spPr>
          <a:xfrm>
            <a:off x="1440" y="0"/>
            <a:ext cx="9141120" cy="5143680"/>
          </a:xfrm>
          <a:prstGeom prst="rect">
            <a:avLst/>
          </a:prstGeom>
          <a:ln w="0">
            <a:noFill/>
          </a:ln>
        </p:spPr>
      </p:pic>
      <p:grpSp>
        <p:nvGrpSpPr>
          <p:cNvPr id="101" name="组合 5"/>
          <p:cNvGrpSpPr/>
          <p:nvPr/>
        </p:nvGrpSpPr>
        <p:grpSpPr>
          <a:xfrm>
            <a:off x="3000240" y="1863720"/>
            <a:ext cx="2643480" cy="1203480"/>
            <a:chOff x="3000240" y="1863720"/>
            <a:chExt cx="2643480" cy="1203480"/>
          </a:xfrm>
        </p:grpSpPr>
        <p:sp>
          <p:nvSpPr>
            <p:cNvPr id="102" name="TextBox 6"/>
            <p:cNvSpPr/>
            <p:nvPr/>
          </p:nvSpPr>
          <p:spPr>
            <a:xfrm>
              <a:off x="3036600" y="2363760"/>
              <a:ext cx="2215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7f7f7f"/>
                  </a:solidFill>
                  <a:latin typeface="Calibri"/>
                </a:rPr>
                <a:t>THANKS!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TextBox 7"/>
            <p:cNvSpPr/>
            <p:nvPr/>
          </p:nvSpPr>
          <p:spPr>
            <a:xfrm>
              <a:off x="3000240" y="1863720"/>
              <a:ext cx="2643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7f7f7f"/>
                  </a:solidFill>
                  <a:latin typeface="方正华隶简体"/>
                  <a:ea typeface="方正华隶简体"/>
                </a:rPr>
                <a:t>谢谢观看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31T05:44:34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1-24T03:33:01Z</dcterms:modified>
  <cp:revision>21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58</vt:lpwstr>
  </property>
</Properties>
</file>