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79B-68FE-45A1-8CFC-C0E25633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74D-FE68-4AFC-A7A8-DAEABAA6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E85A5-942E-4C75-9C80-CD3F41B4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4B642-F8A7-4576-9811-3815CABE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04F07-A600-43F9-AD80-D8A46A0A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7D0BE-6E4E-40AB-87D4-F0E3C04B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FB099-2C89-4032-A36A-8459F626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55F7D-403F-439B-8ACE-4685F0C8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D4D1E-17FD-4390-9B4C-2F889189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D5CE3-691C-467D-8A76-EB4EF9D7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07D21-748B-4802-891E-B98249D6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F02C6-69FF-44C9-A435-B533A5E0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8ED-1355-41A5-BBC9-D62EC9AD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6A6AA-6368-4C53-88AB-E331EC8C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E68C9-87B0-41C1-97CF-3FBBB28E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15B1A-7EDF-4709-AB6F-7F99DB72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FDEF9-2398-44CC-A266-9F3C211B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00283-972B-41D5-B5B8-EBA7BF49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F2A65-7B1C-47F9-B2CB-ED1A42EA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CE93A-279E-4383-A2ED-9D1F4996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7EEE2-BBE0-49A8-8E6A-A0870CB1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39284-2D48-4D34-BF48-143391DE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CE868-F48B-4236-BCE7-541FF3B9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617-A875-4B3C-AA9C-2027260C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D4486-75D9-45CD-824E-2486F3FE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A6606-1DF9-4285-AE77-47606B97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2698C-9AB7-4862-BDFC-BEBC8381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2E79D-4085-47CC-AFF0-C498E646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FB426-9647-4C7E-A7A2-5C59C447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D728E-D09A-404F-8E77-25543DA8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296AE-3545-419A-AAF9-FE76B41D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E625F-CAD6-457F-935F-7A39477B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7A2BC-DBE6-4A3F-87FE-3E168F2F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C5FC4-3C7D-462F-BDA7-EE528D0C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BF64-E71B-43A2-A013-A7EDF549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22E8F-9BE3-45D7-B6E6-AC011997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B3BB3-C58F-4D03-81F3-6A4F6786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138C0-2246-4CDB-9F4B-CDDEFE40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7EDDA-EC2E-47FA-A98F-F0F08F0F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B7742-FEAC-4499-B28F-840944A4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D8090-608C-4B9C-A530-C4B527EA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15A35-C4F1-4B65-92E1-46B88996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DF5B8-6F5D-48A4-A71E-2B2146AE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5F408-FDA7-4773-8737-99801150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5D898-207C-47F7-A927-8BB13090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2BF4-CF95-435A-9AEE-499D2DE9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CFA5F-E638-4F7A-9C3C-2CDDE477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23318-AD89-4C73-BC78-0193C347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E9C48-538C-4432-B3E6-FA40EAA3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F9D5C-89BC-40DF-83FA-A311F6EC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22426-DA1C-41C6-995A-2F6B2420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DDD81-986A-4456-AE61-CF9A1E83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6A046-8C4E-4904-ADA6-0B8EC314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13B41-0D6A-4735-9232-4D6EB00D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92D74-F85F-4242-A992-6026A294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BA2EF-BF7D-484D-8713-F28A8F63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5439-9DC2-4DC8-B878-908D4F94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E473D-3AD7-4023-B97A-A407839E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22416-65BC-4F9E-A7DD-0DBDE979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3ADAF-D55B-453C-A685-4514C2F2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C53B0-6EC2-438F-9ECD-F803438B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16221-3F84-49E9-B471-F674E67A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5FA48-797F-453F-B138-EA5B0DC4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931B7-33A4-4035-A5D7-7C7BEAC6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4034-4EEB-4A06-A075-FFB72D59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E9F4-4317-4D7A-8EF9-40D2FA1C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4BCC-2539-409E-A438-9D24999F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F35E-FC47-4708-8046-F6D4FB5C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870-B156-436C-A79E-9CB7CDE8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BE4D-89EE-43A9-9B8F-B4C04D7A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47E7-C392-4497-87CE-845E6B8D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6E84-3928-40DB-9A0A-10494113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56D5-D27C-4B3F-A9A3-7C013AA7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43BB-7AB2-42F3-AB30-4E59EE8C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5699C-C2FC-4C60-8EC3-B49EF9EE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A7B24-FA93-41CE-A5C1-B829EB55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B50D2-B828-4B4A-8D64-DBEC4A3B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C7FEA-B1F4-42FA-AEDF-25B2C5B4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62601-059B-4CB1-963F-10DF7C1F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521-8050-4E07-8C83-BA9CC630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5F228-ACA2-4242-B781-36CED38E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F05FE-6FC4-44F2-85F5-77049764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7F13F-A154-4B48-BFB2-03A5061F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3ACF-BE8E-45AA-81E2-BCF172E0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CE33D-B00A-44C2-93EF-CD626AC4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007E-B05B-4C7C-9B20-4972DC17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B6E3E-F6A7-4CC9-99E1-A64D5032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8BDB-9BC3-4961-93EA-7DF32CC2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154EB-7022-407A-8AA8-01E6CA8D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2BC63-7F84-4F8B-BBAA-338B4594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8DC-F582-481D-82C4-3B52BC1F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EB1D2-9480-4722-A5C5-1D143D43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028C1-3834-4952-B0B8-91988BDB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C18D3-91B2-42BE-B036-8DDB796B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187DD-DAA0-4ACB-AAAD-45FAE393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63BBD-7119-474B-9EA6-6D7DB9C3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CCE81-3258-440F-BD44-744785CF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1A5B2-CBD3-4E3A-AB0C-513214C3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9ECFE-99B0-4CB3-B839-C80433B2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7DC69-80F4-4AEE-AFD1-17404752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D2C17-E49C-4D2A-B2EA-36632D38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8B9-4C90-45C1-88A4-4EC777EE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C98AC-E8E3-4B42-9BED-954A1B88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7AEEC-896D-4123-AA1B-76D43E69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575D7-5281-4F8A-AC3D-A24C4D66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1B6DB-D857-42EB-B321-F190C234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007A6-6796-4007-92E4-09451658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653C9-4A70-4650-BED1-E28ADB0B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9418C-FBD0-4FC9-90A7-C4650FF0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737D8-DBDF-48D8-A07D-164308C1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4B21C-6BA6-407F-89E6-C12735E3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6513D-A256-4073-8973-D852B44A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F200-A16E-4A98-87D7-2FFFBCF4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EA1EF-9B8B-4194-859F-25DB4A73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09A3A-3FAE-4E0B-A06E-EFFC1560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4D322-B30C-4CD7-8C81-91AD4F86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B3E58-B472-40E7-B123-6A106412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CB470-EC53-4212-8FF7-284CC77F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D48EE-532B-4537-B047-EAACCF7E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02A29-BEDB-488C-99DF-6618091D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A8E77-6CB0-4AA4-9813-368A7D4E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395B9-D783-474E-8D2A-8D3E2C24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F6FCB-4A7B-48A4-B159-29F0753C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DD7-BCD0-4DD4-8FCD-CF20E58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23406-E5BA-4E42-BFCC-D2934D79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7F729-E81C-44DF-B96F-05F5DBCD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1B516-1913-42C1-959F-6F9A3AB4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07FA1-ADEA-4ED6-86BF-3D235EF4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D1245-8F3F-43AF-9C54-D17D50DC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AF3E2-6572-4A86-9FD2-98A2C5FC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A2C26-2F18-4DE9-BDE7-209DAF53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78D62-BBD6-48E1-BB15-E68710C4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16E03-FD53-449B-8E3D-4672DAA6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2A55D-FB69-4BB2-83C1-2B8E768B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685-BE17-44AF-8371-5A6427DC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05B6D-109D-4EC2-A98D-0F21CA16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CA79E-635C-405F-90F6-44F1C1B0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6D674-C178-45FF-9CF9-835A93C9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5E209-5CE6-4E06-A72F-632A159F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4A0F0-073E-42A8-8CB8-AFEEFEE6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6BF15-30AE-4505-9E0C-32311A2D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B513B-BFC2-4F04-80B3-51AFEE98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75F33-F2F9-4E11-BC3A-AD2C45BB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241C9-7196-4A78-9B8F-7974F555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246FC-AA31-421F-AE71-FE4E1DAD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DE9-03F2-45B6-B49E-5588B712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D70F9-9D26-46F4-A56C-A3C3D3FF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6ACF4-1247-4DA9-B80B-EA66B30D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FDB70-FB23-4C38-9243-9D308353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62D2D-49CB-47E7-96F9-45A405CA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718D5-439B-48E3-A7F9-C7A0E052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2C11E-ABBD-4166-B53B-C1870651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BD788-6D28-4ADD-B229-163D6C7B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C7EB1-6960-49F4-9458-229AD3D4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35322-2DEE-4D3A-82F5-A67DEA86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CF781-FAA6-4B11-83FF-A0658285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95FC-6930-46DD-98B4-08263004DAA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1FEB-0E08-400A-9982-99305A2F2D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AA54-A320-412C-87AF-DAEB9D25F16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4B7D-52A4-4654-937A-044215A90C5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66F5-D291-4DF7-AF32-D306E9143C3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E4BF-DFD4-4C70-8CB2-29AAE6C5246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B98E-4568-4A03-81FF-7C1C512AC18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3DCE-320C-47C1-AD86-8460439EB5D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2BFD-D07D-441F-806A-D273F67F351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8F4A-B633-44D1-8575-B4CF5E3D2A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C922-5866-42B8-B50E-0C338A8A9DD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2C5C-1F64-4B78-A489-C88FEAFE41D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9CE7-049B-4344-B4A6-80C8AFB215A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2A86-7FC7-4084-BFDD-81F0E14A126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B467-A413-4B2A-A6B8-1AD0F1F1112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346E-EC71-414F-B5F9-E03CF188827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7BA0-6280-458C-83C4-04B13364D07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D734-47E8-4B64-A337-3B3687B8C09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F2E4-9C42-4EEC-A5B1-6BF62511FE3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5499-E54B-4E27-B66E-272AF9389D1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A443-A2F8-4B5D-89B6-67EFE3FE719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96DF-AC9A-4EED-9335-3F27E5B9CB9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C783-52D6-4FF8-A942-92457818190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FA4B-E7AB-4110-A40F-CF32D6DF0EB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C76E-023A-460E-B966-C292FD1D56E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1122-6EBC-408B-8381-8FC8C802F24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3500280" y="3571920"/>
            <a:ext cx="52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3571920" y="4000680"/>
            <a:ext cx="414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4339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340"/>
          <p:cNvSpPr/>
          <p:nvPr/>
        </p:nvSpPr>
        <p:spPr>
          <a:xfrm>
            <a:off x="1768320" y="33336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新年节日喜庆灯笼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917E-A1F0-485D-B673-CC3E38B94E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文本框 17409"/>
          <p:cNvSpPr/>
          <p:nvPr/>
        </p:nvSpPr>
        <p:spPr>
          <a:xfrm>
            <a:off x="539640" y="3645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00Z</dcterms:modified>
  <cp:revision>8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