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89B2-2A47-472B-8A32-17E9F102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AF89-D525-4058-9D60-77FAD528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D0E-E340-4E2C-A7C8-6DC0C037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58B-6EC8-49E2-BB40-42A3C3DC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5D92-EB44-472A-B72E-8F0DB53A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909B-52FF-4D0B-B773-15D086E3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1561-219D-4D69-A261-006128E1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F96F-6578-4622-A346-C4015E4D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FE98-3563-424E-BD63-BB793FEF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AB97-CCB1-42B0-AC5B-7C9D0929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B7AA-6D1A-4185-ABFC-71F7FA94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2250-28D8-4106-A780-33089E98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A9EB-8BFA-436E-AE31-B38E4397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EE2B-DC2D-44D2-91E2-2E1488B5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59F1-81B8-43FC-BE44-95D2CEAA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445A-6058-4F9E-B531-5B4BD7E6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AF12-DDF8-423C-8F7C-5B762673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36F9-3D10-400A-809E-1AD26451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7233-9003-4783-AE58-5ECD3CFE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797-6719-4604-9304-0F70102E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3806-A63A-4129-A2DF-93D972BE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FF33-A20A-487D-B5EB-F913DE8F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175-13C1-4550-8408-15081779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756D-F098-442C-AE0E-3FE313FC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9753-0996-4BD9-8D80-884152C30EC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5834-E656-45EB-94D0-87A3F12D6B9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35EF-FA0C-4939-B02F-59F108EBFA6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971640" y="4819680"/>
            <a:ext cx="71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94429"/>
                </a:solidFill>
                <a:latin typeface="华文隶书"/>
                <a:ea typeface="华文隶书"/>
              </a:rPr>
              <a:t>新年快乐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8423280" y="0"/>
            <a:ext cx="72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4e4e4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4e4e4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3929040" y="8571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4070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41407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40708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4101"/>
          <p:cNvSpPr/>
          <p:nvPr/>
        </p:nvSpPr>
        <p:spPr>
          <a:xfrm>
            <a:off x="826920" y="2492280"/>
            <a:ext cx="5037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0F0C-63E8-4306-A723-FBE580C2978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8"/>
          <p:cNvSpPr/>
          <p:nvPr/>
        </p:nvSpPr>
        <p:spPr>
          <a:xfrm>
            <a:off x="387720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汉仪长美黑简"/>
                <a:ea typeface="汉仪长美黑简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58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