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9C0-89D4-4758-97CD-A463007E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9FB-0329-4D5F-8A9A-5EFBE610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49D-01D6-429D-89D6-9B260A39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A4E-4E49-4BFD-9DDF-37E146B8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B8F5-544C-4964-9DAD-6AC1CCD9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9776-8672-4607-9DCB-95BC8314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F586-FFB2-4F9B-A91F-FC30708B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B5D4-A865-4A62-B206-ED8A9534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F2DE-6F97-4EF0-9AE8-82819AB2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68CA-DA84-44CA-9BC5-9CD6A6C1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7092-4D35-4B7C-91A6-1DA67206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BDC-3C5F-442B-A4C9-3EE7299B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229E-304B-42F9-91BD-76BB074E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88E9-EB2D-4671-8E93-10350218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1DAE-0284-447A-AFFB-D03CAAEF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9812-1104-4078-BF7E-D990A187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97AE-46F7-48E4-800F-64E6641A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E40F7-141C-4554-A623-E5E8EAA7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13CD4-47AE-4710-B897-D0DCC1E5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CFE44-C3ED-4C35-B444-5D57C0AB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BD1C-AF38-4A8B-AFED-97BE213B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2E98A-9931-4F14-A94C-EFA31903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EDA-9283-49B5-82AA-4DAEB769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764F8-7794-4505-A98D-C2A06262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CACC5-BBBC-4D6B-A4E2-6AD52695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D9944-8EBB-448E-BDEC-9AD6CA3F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BFF1B-2A44-4DF3-9990-D77A9AD5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17CEC-0114-4BBE-94CC-3FA7C476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8BB13-5C42-469F-BBB4-83DA1EE4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37D1E-12AD-4225-9048-2B2EB5F4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3E7-CD74-4A93-9685-A885AFC0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9E0-255C-41A5-BC0D-E3239A5E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11C-72F5-4AFC-9232-F3E9E87C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214A-7418-4129-B3C8-A8D66B86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DE6-A637-48F9-B551-F8771DAB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E13-C120-4EE0-B5E2-FC2C7DC5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AC13-CAD3-40EE-9E7C-9EA65D0850B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2601-8BC7-4140-B960-B50B631374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9D64-D0D9-4B66-8108-DE25B38D689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D350-AB52-4839-9E9C-A0073A6F8F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" descr="02.png"/>
          <p:cNvPicPr/>
          <p:nvPr/>
        </p:nvPicPr>
        <p:blipFill>
          <a:blip r:embed="rId2"/>
          <a:stretch/>
        </p:blipFill>
        <p:spPr>
          <a:xfrm>
            <a:off x="-380880" y="1838160"/>
            <a:ext cx="1981080" cy="348624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3" descr="02.png"/>
          <p:cNvPicPr/>
          <p:nvPr/>
        </p:nvPicPr>
        <p:blipFill>
          <a:blip r:embed="rId3"/>
          <a:stretch/>
        </p:blipFill>
        <p:spPr>
          <a:xfrm>
            <a:off x="7620120" y="1905120"/>
            <a:ext cx="1981080" cy="34844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03.png"/>
          <p:cNvPicPr/>
          <p:nvPr/>
        </p:nvPicPr>
        <p:blipFill>
          <a:blip r:embed="rId4"/>
          <a:stretch/>
        </p:blipFill>
        <p:spPr>
          <a:xfrm>
            <a:off x="1225440" y="1219320"/>
            <a:ext cx="6921720" cy="390996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5" descr="2011.png"/>
          <p:cNvPicPr/>
          <p:nvPr/>
        </p:nvPicPr>
        <p:blipFill>
          <a:blip r:embed="rId5"/>
          <a:stretch/>
        </p:blipFill>
        <p:spPr>
          <a:xfrm>
            <a:off x="2705040" y="183816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" descr="01.png"/>
          <p:cNvPicPr/>
          <p:nvPr/>
        </p:nvPicPr>
        <p:blipFill>
          <a:blip r:embed="rId6"/>
          <a:stretch/>
        </p:blipFill>
        <p:spPr>
          <a:xfrm>
            <a:off x="3276720" y="5029200"/>
            <a:ext cx="2666880" cy="150336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4102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4103"/>
          <p:cNvSpPr/>
          <p:nvPr/>
        </p:nvSpPr>
        <p:spPr>
          <a:xfrm>
            <a:off x="2037960" y="762120"/>
            <a:ext cx="52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新年快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89B1-D986-4AB1-B10F-33CA0B8083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4" descr="未标题-3.png"/>
          <p:cNvPicPr/>
          <p:nvPr/>
        </p:nvPicPr>
        <p:blipFill>
          <a:blip r:embed="rId2"/>
          <a:stretch/>
        </p:blipFill>
        <p:spPr>
          <a:xfrm>
            <a:off x="3076560" y="380880"/>
            <a:ext cx="3857760" cy="5140440"/>
          </a:xfrm>
          <a:prstGeom prst="rect">
            <a:avLst/>
          </a:prstGeom>
          <a:ln w="0">
            <a:noFill/>
          </a:ln>
        </p:spPr>
      </p:pic>
      <p:pic>
        <p:nvPicPr>
          <p:cNvPr id="135" name="矩形 2" descr=""/>
          <p:cNvPicPr/>
          <p:nvPr/>
        </p:nvPicPr>
        <p:blipFill>
          <a:blip r:embed="rId3"/>
          <a:stretch/>
        </p:blipFill>
        <p:spPr>
          <a:xfrm>
            <a:off x="2670120" y="2060640"/>
            <a:ext cx="5559480" cy="14446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6" descr="恭贺新禧.png"/>
          <p:cNvPicPr/>
          <p:nvPr/>
        </p:nvPicPr>
        <p:blipFill>
          <a:blip r:embed="rId4"/>
          <a:stretch/>
        </p:blipFill>
        <p:spPr>
          <a:xfrm>
            <a:off x="304920" y="5486400"/>
            <a:ext cx="1092240" cy="109224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5124"/>
          <p:cNvSpPr/>
          <p:nvPr/>
        </p:nvSpPr>
        <p:spPr>
          <a:xfrm>
            <a:off x="1752480" y="594360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56Z</dcterms:modified>
  <cp:revision>5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