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22F-E811-4BD4-9240-91556283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766-F702-4BE7-900A-EE176A35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604-5016-4D43-A73F-059ED2D6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277-E59E-43DE-A10E-C55B264F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BDB4-6EC2-458C-974E-1868887E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816B-1C05-48F0-A73D-D75DD996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A665-FE69-4ED7-B0F6-8D0EC61C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C5C3-74FF-40D2-8C4A-ACC7FE64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4B12-541C-4AB0-939B-466ADBC9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739A-966D-428C-857F-CC8DBD56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0ED5-F527-4BB9-A902-E632213E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B86-7A1B-4249-9D65-39A7FD50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11EC-1426-48DA-834E-3D19818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CA8B-2B4D-4A39-9C99-BAE1BEEE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46C1-EAD5-4349-969C-D670C735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1499-CB5F-4F38-A10E-095D3F28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060A-6A81-4500-9A3C-B8D6B416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D03-1113-4344-AB76-4E4255AD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0E2-F53D-4962-A369-49BE3982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132-51B1-44AD-9841-8BA39C0C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864-8189-47B2-A3CF-3873204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585-C5EB-432A-BC62-BC0705E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ED6-224D-4ACA-BA09-B75415BC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815-349A-4973-BE95-200D6F5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69F7-3CBA-4F78-ABE5-72B31CF4F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F64B-12EF-4941-9464-E9626F67DA1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092B-D168-4B8B-A903-917F53532F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封面标题"/>
          <p:cNvPicPr/>
          <p:nvPr/>
        </p:nvPicPr>
        <p:blipFill>
          <a:blip r:embed="rId1"/>
          <a:stretch/>
        </p:blipFill>
        <p:spPr>
          <a:xfrm>
            <a:off x="3328920" y="1604880"/>
            <a:ext cx="2828880" cy="2048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611440" y="3645000"/>
            <a:ext cx="3672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ppy New Yea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封面祥云"/>
          <p:cNvPicPr/>
          <p:nvPr/>
        </p:nvPicPr>
        <p:blipFill>
          <a:blip r:embed="rId2"/>
          <a:stretch/>
        </p:blipFill>
        <p:spPr>
          <a:xfrm>
            <a:off x="2655720" y="2852640"/>
            <a:ext cx="128592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封面祥云"/>
          <p:cNvPicPr/>
          <p:nvPr/>
        </p:nvPicPr>
        <p:blipFill>
          <a:blip r:embed="rId3"/>
          <a:stretch/>
        </p:blipFill>
        <p:spPr>
          <a:xfrm>
            <a:off x="5483160" y="2205000"/>
            <a:ext cx="792360" cy="37008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2"/>
          <p:cNvGrpSpPr/>
          <p:nvPr/>
        </p:nvGrpSpPr>
        <p:grpSpPr>
          <a:xfrm>
            <a:off x="-30960" y="2384280"/>
            <a:ext cx="454680" cy="2259000"/>
            <a:chOff x="-30960" y="2384280"/>
            <a:chExt cx="454680" cy="2259000"/>
          </a:xfrm>
        </p:grpSpPr>
        <p:sp>
          <p:nvSpPr>
            <p:cNvPr id="87" name="Rectangle 8"/>
            <p:cNvSpPr/>
            <p:nvPr/>
          </p:nvSpPr>
          <p:spPr>
            <a:xfrm>
              <a:off x="0" y="2384280"/>
              <a:ext cx="360360" cy="1908000"/>
            </a:xfrm>
            <a:prstGeom prst="rect">
              <a:avLst/>
            </a:prstGeom>
            <a:solidFill>
              <a:srgbClr val="9d2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-30960" y="2508120"/>
              <a:ext cx="454680" cy="21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人  喜  盛  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3"/>
          <p:cNvGrpSpPr/>
          <p:nvPr/>
        </p:nvGrpSpPr>
        <p:grpSpPr>
          <a:xfrm>
            <a:off x="8760600" y="2384280"/>
            <a:ext cx="454680" cy="2259000"/>
            <a:chOff x="8760600" y="2384280"/>
            <a:chExt cx="454680" cy="2259000"/>
          </a:xfrm>
        </p:grpSpPr>
        <p:sp>
          <p:nvSpPr>
            <p:cNvPr id="90" name="Rectangle 9"/>
            <p:cNvSpPr/>
            <p:nvPr/>
          </p:nvSpPr>
          <p:spPr>
            <a:xfrm>
              <a:off x="8783640" y="2384280"/>
              <a:ext cx="360360" cy="1908000"/>
            </a:xfrm>
            <a:prstGeom prst="rect">
              <a:avLst/>
            </a:prstGeom>
            <a:solidFill>
              <a:srgbClr val="9d2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8760600" y="2508120"/>
              <a:ext cx="454680" cy="21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鼠  兆  丰  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5" descr="封面标题-2"/>
          <p:cNvPicPr/>
          <p:nvPr/>
        </p:nvPicPr>
        <p:blipFill>
          <a:blip r:embed="rId4"/>
          <a:stretch/>
        </p:blipFill>
        <p:spPr>
          <a:xfrm>
            <a:off x="3429000" y="3186000"/>
            <a:ext cx="2629080" cy="4860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308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085"/>
          <p:cNvSpPr/>
          <p:nvPr/>
        </p:nvSpPr>
        <p:spPr>
          <a:xfrm>
            <a:off x="2752560" y="7761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2222E-006 L -0.02813 -0.00092 E">
                                      <p:cBhvr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autoRev="1" nodeType="withEffect" fill="hold" presetClass="pat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18 3.7037E-007 L -0.01736 3.7037E-007 E">
                                      <p:cBhvr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1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autoRev="1" nodeType="withEffect" fill="hold" presetClass="path" presetID="64" repeatCount="indefinite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-3.33333E-006 L 0 -0.02083 E">
                                      <p:cBhvr>
                                        <p:cTn id="35" dur="35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D0C3-D165-4C80-AA0D-21FC5AFE39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内页烟花"/>
          <p:cNvPicPr/>
          <p:nvPr/>
        </p:nvPicPr>
        <p:blipFill>
          <a:blip r:embed="rId1"/>
          <a:stretch/>
        </p:blipFill>
        <p:spPr>
          <a:xfrm>
            <a:off x="557280" y="700200"/>
            <a:ext cx="7037280" cy="5943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内页标题"/>
          <p:cNvPicPr/>
          <p:nvPr/>
        </p:nvPicPr>
        <p:blipFill>
          <a:blip r:embed="rId2"/>
          <a:stretch/>
        </p:blipFill>
        <p:spPr>
          <a:xfrm>
            <a:off x="1728720" y="642960"/>
            <a:ext cx="2629080" cy="48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内页老鼠01"/>
          <p:cNvPicPr/>
          <p:nvPr/>
        </p:nvPicPr>
        <p:blipFill>
          <a:blip r:embed="rId3"/>
          <a:stretch/>
        </p:blipFill>
        <p:spPr>
          <a:xfrm>
            <a:off x="0" y="-157320"/>
            <a:ext cx="2409840" cy="18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内页老鼠01"/>
          <p:cNvPicPr/>
          <p:nvPr/>
        </p:nvPicPr>
        <p:blipFill>
          <a:blip r:embed="rId4"/>
          <a:stretch/>
        </p:blipFill>
        <p:spPr>
          <a:xfrm>
            <a:off x="7719840" y="5794200"/>
            <a:ext cx="1424160" cy="1063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内页圆角矩形-2"/>
          <p:cNvPicPr/>
          <p:nvPr/>
        </p:nvPicPr>
        <p:blipFill>
          <a:blip r:embed="rId5"/>
          <a:stretch/>
        </p:blipFill>
        <p:spPr>
          <a:xfrm>
            <a:off x="6148440" y="5614920"/>
            <a:ext cx="2133720" cy="514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内页圆角矩形"/>
          <p:cNvPicPr/>
          <p:nvPr/>
        </p:nvPicPr>
        <p:blipFill>
          <a:blip r:embed="rId6"/>
          <a:stretch/>
        </p:blipFill>
        <p:spPr>
          <a:xfrm>
            <a:off x="2529000" y="3214800"/>
            <a:ext cx="4086000" cy="42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内页祥云"/>
          <p:cNvPicPr/>
          <p:nvPr/>
        </p:nvPicPr>
        <p:blipFill>
          <a:blip r:embed="rId7"/>
          <a:stretch/>
        </p:blipFill>
        <p:spPr>
          <a:xfrm>
            <a:off x="4632480" y="642960"/>
            <a:ext cx="1285560" cy="6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内页祥云"/>
          <p:cNvPicPr/>
          <p:nvPr/>
        </p:nvPicPr>
        <p:blipFill>
          <a:blip r:embed="rId8"/>
          <a:stretch/>
        </p:blipFill>
        <p:spPr>
          <a:xfrm>
            <a:off x="4043520" y="220680"/>
            <a:ext cx="691920" cy="322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6256440" y="563076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y New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700360" y="321948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 要 忘 记 我 们 自 己 的 节 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4"/>
          <p:cNvGrpSpPr/>
          <p:nvPr/>
        </p:nvGrpSpPr>
        <p:grpSpPr>
          <a:xfrm>
            <a:off x="-30960" y="2384280"/>
            <a:ext cx="454680" cy="2259000"/>
            <a:chOff x="-30960" y="2384280"/>
            <a:chExt cx="454680" cy="2259000"/>
          </a:xfrm>
        </p:grpSpPr>
        <p:sp>
          <p:nvSpPr>
            <p:cNvPr id="110" name="Rectangle 15"/>
            <p:cNvSpPr/>
            <p:nvPr/>
          </p:nvSpPr>
          <p:spPr>
            <a:xfrm>
              <a:off x="0" y="2384280"/>
              <a:ext cx="360360" cy="1908000"/>
            </a:xfrm>
            <a:prstGeom prst="rect">
              <a:avLst/>
            </a:prstGeom>
            <a:solidFill>
              <a:srgbClr val="9d2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-30960" y="2508120"/>
              <a:ext cx="454680" cy="21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人  喜  盛  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8760600" y="2384280"/>
            <a:ext cx="454680" cy="2259000"/>
            <a:chOff x="8760600" y="2384280"/>
            <a:chExt cx="454680" cy="2259000"/>
          </a:xfrm>
        </p:grpSpPr>
        <p:sp>
          <p:nvSpPr>
            <p:cNvPr id="113" name="Rectangle 18"/>
            <p:cNvSpPr/>
            <p:nvPr/>
          </p:nvSpPr>
          <p:spPr>
            <a:xfrm>
              <a:off x="8783640" y="2384280"/>
              <a:ext cx="360360" cy="1908000"/>
            </a:xfrm>
            <a:prstGeom prst="rect">
              <a:avLst/>
            </a:prstGeom>
            <a:solidFill>
              <a:srgbClr val="9d2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9"/>
            <p:cNvSpPr/>
            <p:nvPr/>
          </p:nvSpPr>
          <p:spPr>
            <a:xfrm>
              <a:off x="8760600" y="2508120"/>
              <a:ext cx="454680" cy="21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鼠  兆  丰  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4113"/>
          <p:cNvSpPr/>
          <p:nvPr/>
        </p:nvSpPr>
        <p:spPr>
          <a:xfrm>
            <a:off x="669960" y="1222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autoRev="1" nodeType="withEffect" fill="hold" presetClass="path" presetID="35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8.33333E-007 0 L -0.01806 0 E">
                                      <p:cBhvr>
                                        <p:cTn id="6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4.44444E-006 L -0.01458 4.44444E-006 E">
                                      <p:cBhvr>
                                        <p:cTn id="6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501"/>
                            </p:stCondLst>
                            <p:childTnLst>
                              <p:par>
                                <p:cTn id="76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701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701"/>
                            </p:stCondLst>
                            <p:childTnLst>
                              <p:par>
                                <p:cTn id="88" dur="indefinite" nodeType="after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8701"/>
                            </p:stCondLst>
                            <p:childTnLst>
                              <p:par>
                                <p:cTn id="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5:22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4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