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612-78C7-4480-A442-CFE37C63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E94-C974-4951-A1A2-EF492BC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3B5-08FD-4758-9BEC-F125D950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0C9-0738-46DB-BE25-0D987760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F1E-82CC-4CFC-8032-5FBC5438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CCD-ADE7-439A-85F2-C866DCC5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F35-DC3C-4D09-AE24-D03D6CE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8FC-DB10-4DBA-A9A2-ACEED19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DE3-7CD1-4CCD-91F0-D3A18F6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F37-9C87-4AD3-9616-0C05135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AEA-9AE4-48FB-8DAA-EABFE0A2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C0C-C0B6-495B-A82E-866D3F7F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04640"/>
            <a:ext cx="1388880" cy="34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A4CA1F5-38E1-42F9-8407-358CC90C6B0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100" descr="powerbar_update_light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101" descr="powerstore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102" descr="tm_logo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11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07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08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09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10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11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349800" y="1125360"/>
            <a:ext cx="360" cy="576360"/>
            <a:chOff x="3349800" y="1125360"/>
            <a:chExt cx="360" cy="576360"/>
          </a:xfrm>
        </p:grpSpPr>
        <p:sp>
          <p:nvSpPr>
            <p:cNvPr id="97" name="直接连接符 4113"/>
            <p:cNvSpPr/>
            <p:nvPr/>
          </p:nvSpPr>
          <p:spPr>
            <a:xfrm>
              <a:off x="3349800" y="1125360"/>
              <a:ext cx="0" cy="57636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349800" y="112536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4114" descr="tm_logo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4115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BFD-D117-4C24-9184-2E97A14880A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A72-AB3A-4B6B-AA2F-2C95669069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049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8360" y="23619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新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免费在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614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7170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224" name="组合 7171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225" name="矩形 7172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7173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7174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7175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7176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7177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7178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7179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7180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234" name="矩形 7181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7182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矩形 7183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7184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矩形 7185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7186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矩形 7187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7188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604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7190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1ED5-0916-4C33-88AA-523318FF3D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479600" y="177336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36Z</dcterms:modified>
  <cp:revision>2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