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2A21-B785-4385-A007-6AD68B92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096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19264-0F55-4B52-8CE2-6F6E96C3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096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5288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A9D6-2A36-4A50-A55E-A62505C72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992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8980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0968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992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8980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3AF-6D07-4F36-9F72-325D02DBE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79AA-1C52-4852-947D-FE5507DD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67137-5CE5-4EE8-A07C-25E095C5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7C1EC-7688-400F-8D3D-81457126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B7049-36D0-48E2-8457-8774C5D1D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E42C-2B65-47DF-A561-FD328E1EF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32120-DB0F-44AC-825C-08A1ADD49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096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9E7B8-5857-475F-8013-6E206464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E685-6B1B-4827-B501-578720BA9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5288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9197-D7BA-4306-8738-06432578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096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4CE3-2824-49E0-885C-63D3D018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096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42F7B-3076-4610-BAE9-114616E01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096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5288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2443-0F54-4DAF-9E83-25D1ECD4A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992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89800" y="12193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0968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992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89800" y="3782520"/>
            <a:ext cx="208548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8804D-C498-499E-8E5B-DEC1084BB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3B18-8F20-4F7C-A00C-474C09EC9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0784-1882-4906-BEDA-F4D60399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E42F-C3B7-4FD0-A5CA-8B8A7A73A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-360"/>
            <a:ext cx="83818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6728-298E-445F-B7C8-7901D9F9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096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B4BA-481B-4C9C-997C-8B47086C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528880" y="37825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6917-071E-47FA-9A47-E5578E12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28880" y="1219320"/>
            <a:ext cx="3160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09680" y="3782520"/>
            <a:ext cx="647712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97C-9E26-43D6-8C34-5AFD256BA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33565-3E61-4D06-960C-438FDB51D1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C2FF-818D-45FD-80CD-CB88A30FFA11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D85D-7805-406C-9F6C-62257B0E0B9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gi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8720" y="1599840"/>
            <a:ext cx="8238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新年庆典节日烟花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723920" y="2819520"/>
            <a:ext cx="43434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3075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father_time_partying_hg_clr"/>
          <p:cNvPicPr/>
          <p:nvPr/>
        </p:nvPicPr>
        <p:blipFill>
          <a:blip r:embed="rId1"/>
          <a:stretch/>
        </p:blipFill>
        <p:spPr>
          <a:xfrm>
            <a:off x="228600" y="3886200"/>
            <a:ext cx="18669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Your Topic Goes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647712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father_time_partying_hg_clr"/>
          <p:cNvPicPr/>
          <p:nvPr/>
        </p:nvPicPr>
        <p:blipFill>
          <a:blip r:embed="rId2"/>
          <a:stretch/>
        </p:blipFill>
        <p:spPr>
          <a:xfrm>
            <a:off x="228600" y="3886200"/>
            <a:ext cx="1866960" cy="2800440"/>
          </a:xfrm>
          <a:prstGeom prst="rect">
            <a:avLst/>
          </a:prstGeom>
          <a:ln w="0">
            <a:noFill/>
          </a:ln>
        </p:spPr>
      </p:pic>
      <p:sp>
        <p:nvSpPr>
          <p:cNvPr id="91" name="文本框 5124"/>
          <p:cNvSpPr/>
          <p:nvPr/>
        </p:nvSpPr>
        <p:spPr>
          <a:xfrm>
            <a:off x="684360" y="3429000"/>
            <a:ext cx="503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B764-8B98-4108-99CD-57D43AA129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0" y="26665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9T02:4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2:5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