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10439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2B8-CD23-4E57-8A81-632BC9F3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F98-7707-44DA-92FA-372975B5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34EBC-6000-434F-9F65-3170E034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8899E-9E58-47D9-8437-8B1469ED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885F8-5C58-48E3-AA8B-0B853D39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B25AF-BB0F-4947-AED4-16C9B95E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34F27-6F06-4DD7-B003-75C3E106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DBAC5-29D2-4037-9203-36B71A64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71B42-2F3A-4A05-8701-C6FEEF83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9676F-8F1A-4852-823D-F6980928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92476-D0A8-4B57-9287-B7DC5529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73498-14F4-4EAF-9699-66B87D3C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835-71B1-48D3-9E4F-BA7754D4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F60FE-50E2-47D3-A831-5DB9432A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B3267-3E6E-47C9-9CD1-CF2026CC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2447D-E0AE-46D6-BF01-9E3C1B2D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87229-F426-4B09-955E-EF43B370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C8CD8-E046-4177-9E97-F666A8CB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468AF-8668-492A-B91B-F327D1AD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059EE-9F53-47E6-A4E1-4AE6F22D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44B5B-20BF-4FA9-9002-68E9E725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03D51-2CF1-4FC3-981E-FFD1955B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CFAE7-13EE-42F6-8E12-B51AAECE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10C-12B4-46CE-A8A6-B1A12692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1CA71-F839-4CA6-8ABA-A71B1C9A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99F84-23CD-45CB-BBBA-766565AA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13D63-3FF9-4085-B189-0B439A74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62C5C-9D56-42EF-9B4B-BDCD3B91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B1F7F-D630-4A57-B619-D86F597F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27801-6A58-48B8-9A73-47F1A4B7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FDC41-A1C5-4FFC-95B3-9FFBBE3C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A8E44-9D27-4067-BD32-2218887F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3B77A-70EC-40D5-B8E9-242C4E18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8D80A-4E2D-49B1-8FCF-7DF525AF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42A3-AE9A-4EEB-AA4C-781C435A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07958-9DEC-4405-88DB-034CCA60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46089-32A2-42F6-9583-27C15DDE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C3834-43EB-4F34-8938-6676CCA1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06886-6B56-47D7-9608-DB60F95E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59F48-D973-40CF-9408-B232630C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49A14-8FD2-4C75-BF1B-6209F1E7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64E09-1CCA-4EA5-9FAB-D4589BF6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EFEAB-7971-43D0-9CFB-97A52C19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0D75C-ACB6-454C-A460-2B8D168F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48432-C597-4E93-A06D-AE28B7E3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DBBA-09DE-48CC-8039-1B5E41DE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3A356-74B1-4A79-A0DB-FD2BD1C7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FACBE-B2C2-4635-A7B9-8E779928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46E71-37E1-4BDE-908C-E1B3F24A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A5696-E826-4999-816F-2FBB660C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9330F-2033-451A-9AF6-71F6E515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9CD93D-6571-4230-9104-310AB9B8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DA5F6-AB81-4662-B3D9-048CF5B2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1D385-4752-4D0E-9545-724FC832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8FEAE1-E4E6-41B5-A0BA-1BF87216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8C8CF6-E787-4323-AAF3-BB775F56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D1E9-5A67-4199-872C-4EC259CA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BA1BE-D143-445E-9ABB-71FD1E52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C6806-7EAC-418F-9A36-868143D3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5AF76-0CD9-493E-BA81-D0FE3FBE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AA5AC-20AF-4B80-AE5D-9592D974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0DE52-6962-49B1-BB1B-E0606645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58A95-BD73-40A8-B967-90EF9CF8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5AB38-9E40-4175-9D54-F47508D4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2BCF-9336-4868-8FDF-66F16C56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4E23-F0BC-44FF-ABFF-1345EA02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4E2B-CC47-4B5A-8FB4-C22433DF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A91F-24B8-44C9-9315-F58471DF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A0A-F894-4615-ACCB-638D62B8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5282-38FA-4D0C-B83C-E3D06CCF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1E71-D7E4-45B4-9681-EBB65F1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8406-2E7E-4378-BD38-0A064C74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2407-B1B8-479E-AC6A-27AC3B49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74C0-C3ED-40A7-AA2D-323CF349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E879-44F9-4303-8EBE-AB2EDE3E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3874-C726-48BD-B578-C4A59E64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E806-931D-4009-832C-049B6E15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490F2-C695-4731-939B-2CBF737D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94E84-ED66-4FF0-AAD7-28375A6C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D69-4A7B-49D9-90F3-14CF0955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EF519-59CA-42AF-8DF2-6814F4B9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D19E7-DFE2-461B-AD26-CC809A12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C843-BA6E-4DB1-9FA1-CE668EA7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50709-44CB-4A05-A529-D19C57D6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3707A-1B10-4A94-8F8B-5224DE1E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6A316-8BE1-4531-A957-B3C87000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C605C-26E8-40B2-A4E7-98A04C02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4E40-246C-49E1-A4BF-F7C03A807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21F65-1E3C-4C08-940B-EDCF09CD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A51E1-F0D0-421A-81D9-6FAA6C9E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7B9-D191-440B-8271-1D1A2B9A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B4AD7-E290-4E71-BBB0-F0DB3B5B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AABCD-A64D-41A1-AB5C-7902B698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3DB35-0169-4BC3-9379-201EAC53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6838-57AB-4245-BD6F-0D4AF3B5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F750C-AC6A-4480-9943-DEB7C105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342A0-5651-4B66-9E5F-6915D8A5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8CCA-FB23-4C67-8751-D1849555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E1762-579F-4353-99FC-31CD3E8A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63B5D-3374-4616-A0FA-618D0C5D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CD9D0-D5FB-4CF7-8934-930CACF7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153-0D91-4340-8F70-333D2494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5BB55-EE5B-4588-9653-A8FE611E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4FDB0-280F-4FCF-97C6-D8D39738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0A7AF-E1D5-4EB2-BB58-19669410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11F7A-4D34-4629-9B54-17A90F87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05993-60DC-43D4-9DC6-AE002AFE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F7D9-8F67-409A-BB24-6C3D75EC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CED71-0DB9-47D5-AC07-0E98AE79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D5D88-F9E8-495A-88E3-C2D856BF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65CB8-E046-45A6-A764-A854EE44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831F1-E7AC-4244-884A-415B7CB0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ADC6-E4A0-4B6B-9721-87627A00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39334-2BCA-4F14-A8C9-787CCA38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FD235-AECD-4C1F-8673-457A6E7C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EAC5-2DC3-40C3-98B4-BF41C697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DB47C-12EC-4239-93D0-0F5B8810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347B-631F-45C3-A14A-380146BA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8CF35-AD0F-4EC2-A882-B4DD4BCB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BD227-7082-4024-8FDC-64CEDB06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8D179-1085-4552-92BF-AB987A0B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1236E-8A61-46AC-92B3-275B8361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52655-4256-4387-86DB-184BC4C2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2A94-7290-4D72-B68C-BF3B22AD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68287-5D0F-43F5-84E9-719BABD4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47608-B3BF-4880-81D9-C46DCF85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4A96C-216B-4293-B444-4058A5DC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0F1F0-6455-4A1F-905E-F04CA4B0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EFF43-5E5E-447C-96C0-CBD5E005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1D098-CC08-4CCC-8D69-198D6B79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52F83-523A-4D1A-97D4-3BB5AEA3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60C81-4F3C-43B2-ABAB-0763EE90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B494E-C27C-4DA0-A485-45D6FE0A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BE25E-7ABF-4FC7-9D2A-5F45A5E2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CD1-56B5-4D50-8D98-487EA83E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3396B-F2F4-4F55-86EE-858425C1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AA064-C30D-4DCB-AF04-700F0845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662A2-0814-4B87-9176-AC22F6CD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1DAB6-D541-43EC-8B43-4786C596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F606D-4B7A-4648-8076-9DCD203C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53862-4CB4-4372-83B9-20166095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224EB-A644-4344-BC7B-BC20FAAF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C4ABD-ABD5-4FC6-A008-A6DB78B7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96755-DBE4-44F7-81D0-9EE30A13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BCA77-E71D-492A-88A4-BE52A8A2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8A9-BB5D-4FB4-85F2-0A6584D2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22000" y="274320"/>
            <a:ext cx="939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86210-D864-4E34-844A-9C79A922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EB7B5-510E-47A2-855B-0356425C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CDD32-D751-44E8-8C65-3F20C9E1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A7E89-F397-41B5-902E-D87EAF0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2000" y="3964320"/>
            <a:ext cx="939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FC46B-E05F-4A51-A3E5-96B40100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7000" y="160020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22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7000" y="3964320"/>
            <a:ext cx="4585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A0DCE-444C-410E-9CD8-F98CB9F37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9900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76360" y="160020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22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9900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876360" y="3964320"/>
            <a:ext cx="302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3618B-2CCA-4AA1-B03F-4CF3D36C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8527A-1FA3-479F-8349-917A0387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5E630-54E7-4CFA-A7B7-C4114FC7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7B20E-8655-4D93-9AAC-8FE44F79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9B59-56E6-444C-8029-AC1AACF2B22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ECD6-F7D8-4372-8781-2010D01E17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D542-56C2-4590-A626-524A6C67288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5B1B-4A7E-4402-885E-4266F57D1B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59BA-EC92-4C15-9C34-3F9C0BED099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A3CB-D329-4C89-BC59-1F6581879FE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9C5C-D7B1-4CBD-B10C-B452879D981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EAF2-4555-4E3D-BB61-8F153BF4286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9C55-4A8D-450E-BEBD-B86C7213AF9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6FF8-FA04-45C3-8232-D7B34884CD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55C8-92ED-4067-AEF4-3B60AB31678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B80B-C8E2-48DF-9908-6CF375BC2A6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157E-29A5-43B2-8248-F2FB85B5D0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6321-F4F5-4716-8EDF-188BDB0E62D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B354-188E-40F4-A1C2-45AFDCCEF45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B10B-D553-4FA4-9F18-1D2A70D24E7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E422-D4F3-4FA6-AFF3-F54DB39FD63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C93E-5A6B-41EF-B144-073C3FA0C0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B740-78A1-454A-91D6-C57550F52A1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2D37-1431-42D6-9BC4-708E215838C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B89A-0DDC-4C87-99DF-BBB26511EED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7DAF-A391-439E-8C60-78A9439305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FF2E-4CA4-4BB5-A936-42F23B5D394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103C-2BA4-4643-8FF3-D64621A475B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22000" y="2743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2200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22360" y="6356520"/>
            <a:ext cx="2435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1CDF-951F-4A92-881C-CFD8DADAB2F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66880" y="6356520"/>
            <a:ext cx="330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482960" y="6356520"/>
            <a:ext cx="243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104B-4B43-4269-8F37-9F6415C912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B887-17D8-4BFC-8882-DA5ABBF06A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9"/>
          <p:cNvSpPr/>
          <p:nvPr/>
        </p:nvSpPr>
        <p:spPr>
          <a:xfrm>
            <a:off x="30240" y="17002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4" descr=""/>
          <p:cNvPicPr/>
          <p:nvPr/>
        </p:nvPicPr>
        <p:blipFill>
          <a:blip r:embed="rId17"/>
          <a:stretch/>
        </p:blipFill>
        <p:spPr>
          <a:xfrm>
            <a:off x="9061560" y="2637000"/>
            <a:ext cx="1379520" cy="127476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5" descr=""/>
          <p:cNvPicPr/>
          <p:nvPr/>
        </p:nvPicPr>
        <p:blipFill>
          <a:blip r:embed="rId18"/>
          <a:stretch/>
        </p:blipFill>
        <p:spPr>
          <a:xfrm>
            <a:off x="5396040" y="969840"/>
            <a:ext cx="3868560" cy="460872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7" descr=""/>
          <p:cNvPicPr/>
          <p:nvPr/>
        </p:nvPicPr>
        <p:blipFill>
          <a:blip r:embed="rId19"/>
          <a:stretch/>
        </p:blipFill>
        <p:spPr>
          <a:xfrm>
            <a:off x="0" y="620640"/>
            <a:ext cx="1457280" cy="189396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8" descr=""/>
          <p:cNvPicPr/>
          <p:nvPr/>
        </p:nvPicPr>
        <p:blipFill>
          <a:blip r:embed="rId20"/>
          <a:stretch/>
        </p:blipFill>
        <p:spPr>
          <a:xfrm>
            <a:off x="8086680" y="-98280"/>
            <a:ext cx="2354400" cy="30956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6" descr=""/>
          <p:cNvPicPr/>
          <p:nvPr/>
        </p:nvPicPr>
        <p:blipFill>
          <a:blip r:embed="rId21"/>
          <a:stretch/>
        </p:blipFill>
        <p:spPr>
          <a:xfrm>
            <a:off x="6804000" y="1957320"/>
            <a:ext cx="2567160" cy="111600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9" descr=""/>
          <p:cNvPicPr/>
          <p:nvPr/>
        </p:nvPicPr>
        <p:blipFill>
          <a:blip r:embed="rId22"/>
          <a:stretch/>
        </p:blipFill>
        <p:spPr>
          <a:xfrm>
            <a:off x="0" y="4167360"/>
            <a:ext cx="5221440" cy="2646360"/>
          </a:xfrm>
          <a:prstGeom prst="rect">
            <a:avLst/>
          </a:prstGeom>
          <a:ln w="0">
            <a:noFill/>
          </a:ln>
        </p:spPr>
      </p:pic>
      <p:pic>
        <p:nvPicPr>
          <p:cNvPr id="544" name="TextBox 10" descr=""/>
          <p:cNvPicPr/>
          <p:nvPr/>
        </p:nvPicPr>
        <p:blipFill>
          <a:blip r:embed="rId23"/>
          <a:stretch/>
        </p:blipFill>
        <p:spPr>
          <a:xfrm>
            <a:off x="1805040" y="1298520"/>
            <a:ext cx="3614760" cy="4084560"/>
          </a:xfrm>
          <a:prstGeom prst="rect">
            <a:avLst/>
          </a:prstGeom>
          <a:ln w="0">
            <a:noFill/>
          </a:ln>
        </p:spPr>
      </p:pic>
      <p:sp>
        <p:nvSpPr>
          <p:cNvPr id="545" name="文本框 14345"/>
          <p:cNvSpPr/>
          <p:nvPr/>
        </p:nvSpPr>
        <p:spPr>
          <a:xfrm>
            <a:off x="1476360" y="501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文本框 14346"/>
          <p:cNvSpPr/>
          <p:nvPr/>
        </p:nvSpPr>
        <p:spPr>
          <a:xfrm>
            <a:off x="3079800" y="620640"/>
            <a:ext cx="485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Calibri"/>
              </a:rPr>
              <a:t>喜庆中秋祝福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5:28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02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