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5.gif" ContentType="image/gif"/>
  <Override PartName="/ppt/media/image14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F57-89C4-487F-98BE-44775591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059-BFEE-449B-A8BA-668F0310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906-3D48-4DD7-B21C-761C1303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7895-149D-426A-9FF2-79A1BF95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6B08-24C6-41A5-8313-BC6903B5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F7F9-3ADC-4F1D-9101-8A3CFA5F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BAEC-B6E6-4315-96E8-DE168FB0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EEAF-5D8E-4D80-9842-1017B1AA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DDD5-F7DB-4A17-9D48-A6AD2C4E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706A-1712-45A5-9F67-C27557B2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1643-82DA-4534-BA91-5B0C5E86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90B-A154-4628-A0A2-A89336EE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A05E-8B68-4399-AFCD-4C71943D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5DA5-B305-451B-949B-D8B69FA1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301C-C2A2-4BD3-968C-13B43AA2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8C77-7166-4407-A2AE-F19462FA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C77B-C9B9-43C5-9084-C8F62DB5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6A6-E0AE-4C1E-B510-432962A2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2D1-EF79-409D-A499-68DEB46A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593-53A2-4D53-982A-B3E04326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E76-40CF-49A0-A84D-8988450C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AB1-392E-472B-AF6A-F3631A55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8F3-C1CE-44D2-8BE2-56D1747B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426-1303-4964-B855-CB3B0029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BFA0-AE33-4F0D-A547-D2DE6F89C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62F7-598B-4997-97D6-65E9FC6AD17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D809-FDAC-4D04-993F-EB8EBEBBD6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bs.xxyw.com/UploadFile/2006-3/2006326135559339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hyperlink" Target="http://www.n318.com/edu/pic/cz/jnj/rjbxkbywsc/200605/edu_372951.html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jy.gd.vnet.cn/it/soft/200610/it_76599.shtml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www.fx.edu.sh.cn/ziyuan/zongheziyuan/tupian/dwtp/dwtp_8.htm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8cn.com/hua/moli.html" TargetMode="External"/><Relationship Id="rId2" Type="http://schemas.openxmlformats.org/officeDocument/2006/relationships/hyperlink" Target="http://www.t8cn.com/hua/moli.htm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g88.net/A003/G0042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8cn.com/hua/moli.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8cn.com/hua/moli.htm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gg88.net/A003/G0042/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t8cn.com/hua/moli.html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dipan8.com/Article/dqsj/200610/12089.html" TargetMode="External"/><Relationship Id="rId8" Type="http://schemas.openxmlformats.org/officeDocument/2006/relationships/image" Target="../media/image15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7.png"/><Relationship Id="rId4" Type="http://schemas.openxmlformats.org/officeDocument/2006/relationships/hyperlink" Target="http://www.t8cn.com/hua/moli.html" TargetMode="External"/><Relationship Id="rId5" Type="http://schemas.openxmlformats.org/officeDocument/2006/relationships/image" Target="../media/image14.jpe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bs.xxyw.com/UploadFile/2006-3/2006326135559339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bbs.xxyw.com/UploadFile/2006-3/2006326135612493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1547640" y="1700280"/>
            <a:ext cx="669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1709640" y="1700280"/>
            <a:ext cx="6251760" cy="16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小学课件识字</a:t>
            </a:r>
            <a:r>
              <a:rPr b="0" lang="en-US" sz="4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模板在线下载</a:t>
            </a:r>
            <a:endParaRPr b="0" lang="en-US" sz="40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-22320"/>
            <a:ext cx="8961480" cy="2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-22320"/>
            <a:ext cx="9144000" cy="267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9668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133720"/>
            <a:ext cx="9296280" cy="8991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0" y="2133720"/>
            <a:ext cx="9448920" cy="822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青</a:t>
            </a:r>
            <a:r>
              <a:rPr b="1" lang="zh-CN" sz="8000" spc="-1" strike="noStrike">
                <a:solidFill>
                  <a:srgbClr val="a50021"/>
                </a:solidFill>
                <a:latin typeface="Arial"/>
              </a:rPr>
              <a:t>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茉莉花.mp3" descr=""/>
          <p:cNvPicPr/>
          <p:nvPr/>
        </p:nvPicPr>
        <p:blipFill>
          <a:blip r:embed="rId1"/>
          <a:stretch/>
        </p:blipFill>
        <p:spPr>
          <a:xfrm>
            <a:off x="8001000" y="5562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0"/>
          <p:cNvSpPr/>
          <p:nvPr/>
        </p:nvSpPr>
        <p:spPr>
          <a:xfrm>
            <a:off x="457200" y="609480"/>
            <a:ext cx="3962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ò i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茉  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蝈蝈"/>
          <p:cNvPicPr/>
          <p:nvPr/>
        </p:nvPicPr>
        <p:blipFill>
          <a:blip r:embed="rId1"/>
          <a:stretch/>
        </p:blipFill>
        <p:spPr>
          <a:xfrm>
            <a:off x="324000" y="692280"/>
            <a:ext cx="2879640" cy="2243160"/>
          </a:xfrm>
          <a:prstGeom prst="rect">
            <a:avLst/>
          </a:prstGeom>
          <a:ln w="0">
            <a:noFill/>
          </a:ln>
        </p:spPr>
      </p:pic>
      <p:pic>
        <p:nvPicPr>
          <p:cNvPr id="134" name="zhiliao.mp3" descr=""/>
          <p:cNvPicPr/>
          <p:nvPr/>
        </p:nvPicPr>
        <p:blipFill>
          <a:blip r:embed="rId2"/>
          <a:stretch/>
        </p:blipFill>
        <p:spPr>
          <a:xfrm>
            <a:off x="781200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0" y="350532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蝈蝈       青</a:t>
            </a:r>
            <a:r>
              <a:rPr b="1" lang="zh-CN" sz="5400" spc="-1" strike="noStrike">
                <a:solidFill>
                  <a:srgbClr val="a50021"/>
                </a:solidFill>
                <a:latin typeface="Arial"/>
              </a:rPr>
              <a:t>蛙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知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20065872348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200610914593324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58080" y="0"/>
            <a:ext cx="3085920" cy="3352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p00000049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52680" y="228600"/>
            <a:ext cx="2379960" cy="28656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8200"/>
          <p:cNvSpPr/>
          <p:nvPr/>
        </p:nvSpPr>
        <p:spPr>
          <a:xfrm>
            <a:off x="900000" y="5229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1_GG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279440" y="-960480"/>
            <a:ext cx="11704680" cy="877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20057815955204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857160"/>
            <a:ext cx="7315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971800" cy="4191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1_GG8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0"/>
            <a:ext cx="2743200" cy="419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200578159552043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0"/>
            <a:ext cx="3048120" cy="2895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20061017556238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350532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1676520" y="4267080"/>
            <a:ext cx="2286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ò i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茉  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荷花"/>
          <p:cNvPicPr/>
          <p:nvPr/>
        </p:nvPicPr>
        <p:blipFill>
          <a:blip r:embed="rId1"/>
          <a:stretch/>
        </p:blipFill>
        <p:spPr>
          <a:xfrm>
            <a:off x="2971800" y="0"/>
            <a:ext cx="2879640" cy="259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葵花"/>
          <p:cNvPicPr/>
          <p:nvPr/>
        </p:nvPicPr>
        <p:blipFill>
          <a:blip r:embed="rId2"/>
          <a:stretch/>
        </p:blipFill>
        <p:spPr>
          <a:xfrm>
            <a:off x="0" y="0"/>
            <a:ext cx="2819520" cy="2590920"/>
          </a:xfrm>
          <a:prstGeom prst="rect">
            <a:avLst/>
          </a:prstGeom>
          <a:ln w="0">
            <a:noFill/>
          </a:ln>
        </p:spPr>
      </p:pic>
      <p:pic>
        <p:nvPicPr>
          <p:cNvPr id="153" name="茉莉花.mp3" descr=""/>
          <p:cNvPicPr/>
          <p:nvPr/>
        </p:nvPicPr>
        <p:blipFill>
          <a:blip r:embed="rId3"/>
          <a:stretch/>
        </p:blipFill>
        <p:spPr>
          <a:xfrm>
            <a:off x="800100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20057815955204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5880" y="0"/>
            <a:ext cx="3048120" cy="26668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6875640" y="3733920"/>
            <a:ext cx="149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茉  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04920" y="2743200"/>
            <a:ext cx="220968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u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葵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5320" y="2819520"/>
            <a:ext cx="182880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Arial"/>
              </a:rPr>
              <a:t>荷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-22320"/>
            <a:ext cx="8961480" cy="2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267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9668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"/>
          <p:cNvSpPr/>
          <p:nvPr/>
        </p:nvSpPr>
        <p:spPr>
          <a:xfrm>
            <a:off x="0" y="-22320"/>
            <a:ext cx="8961480" cy="2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495680" y="-22320"/>
            <a:ext cx="4648320" cy="267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9668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图片点击可在新窗口打开查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0" y="3048120"/>
            <a:ext cx="5715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    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风     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桃子     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子     西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蝈蝈     青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知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葵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花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茉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   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5715000" y="4038480"/>
            <a:ext cx="3429000" cy="28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8200"/>
          <p:cNvSpPr/>
          <p:nvPr/>
        </p:nvSpPr>
        <p:spPr>
          <a:xfrm>
            <a:off x="395280" y="3718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201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了          葵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茉                  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167652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梅            瓜               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蛙            荷            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045440" y="44956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743200" y="44956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Arial"/>
                <a:ea typeface="楷体_GB2312"/>
              </a:rPr>
              <a:t>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514600" y="5410080"/>
            <a:ext cx="1676520" cy="7855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4724280" y="4572000"/>
            <a:ext cx="2210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Arial"/>
                <a:ea typeface="楷体_GB2312"/>
              </a:rPr>
              <a:t>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581280" y="5334120"/>
            <a:ext cx="381240" cy="3664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eng.mp3" descr=""/>
          <p:cNvPicPr/>
          <p:nvPr/>
        </p:nvPicPr>
        <p:blipFill>
          <a:blip r:embed="rId1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SFXTHUND.wav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547640" y="1700280"/>
            <a:ext cx="669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2987640" y="1700280"/>
            <a:ext cx="3279960" cy="16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识字</a:t>
            </a:r>
            <a:r>
              <a:rPr b="0" lang="en-US" sz="66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5</a:t>
            </a:r>
            <a:endParaRPr b="0" lang="en-US" sz="66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362320" y="1066680"/>
            <a:ext cx="61722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0" y="0"/>
            <a:ext cx="9144000" cy="45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xià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a50021"/>
                </a:solidFill>
                <a:latin typeface="Arial"/>
              </a:rPr>
              <a:t>夏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天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200400" y="0"/>
            <a:ext cx="228600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á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a50021"/>
                </a:solidFill>
                <a:latin typeface="Arial"/>
              </a:rPr>
              <a:t>台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324480" y="0"/>
            <a:ext cx="23623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é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a50021"/>
                </a:solidFill>
                <a:latin typeface="Arial"/>
              </a:rPr>
              <a:t>雷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29052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59A4-AD12-4F83-A9A2-DD54C5CFA8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91440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a50021"/>
                </a:solidFill>
                <a:latin typeface="Times New Roman"/>
                <a:ea typeface="永中楷体"/>
              </a:rPr>
              <a:t>夏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夏天      夏日      春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a50021"/>
                </a:solidFill>
                <a:latin typeface="Times New Roman"/>
                <a:ea typeface="永中楷体"/>
              </a:rPr>
              <a:t>台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台风      阳台      讲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a50021"/>
                </a:solidFill>
                <a:latin typeface="Times New Roman"/>
                <a:ea typeface="永中楷体"/>
              </a:rPr>
              <a:t>雷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雷雨      打雷      雷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a50021"/>
                </a:solidFill>
                <a:latin typeface="Times New Roman"/>
                <a:ea typeface="永中楷体"/>
              </a:rPr>
              <a:t>梅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梅花      梅园      梅子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a50021"/>
                </a:solidFill>
                <a:latin typeface="Times New Roman"/>
                <a:ea typeface="永中楷体"/>
              </a:rPr>
              <a:t>瓜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西瓜      瓜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地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       南瓜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a50021"/>
                </a:solidFill>
                <a:latin typeface="Times New Roman"/>
                <a:ea typeface="永中楷体"/>
              </a:rPr>
              <a:t>蛙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青蛙      蛙泳       蛙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a50021"/>
                </a:solidFill>
                <a:latin typeface="Arial"/>
                <a:ea typeface="永中楷体"/>
              </a:rPr>
              <a:t>荷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永中楷体"/>
              </a:rPr>
              <a:t>荷花     荷叶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DSC004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3200400" y="0"/>
            <a:ext cx="2286000" cy="267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á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a50021"/>
                </a:solidFill>
                <a:latin typeface="Arial"/>
              </a:rPr>
              <a:t>台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324480" y="0"/>
            <a:ext cx="2362320" cy="261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é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a50021"/>
                </a:solidFill>
                <a:latin typeface="Arial"/>
              </a:rPr>
              <a:t>雷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2590920" cy="34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xià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a50021"/>
                </a:solidFill>
                <a:latin typeface="Arial"/>
              </a:rPr>
              <a:t>夏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DSC004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0" y="152280"/>
            <a:ext cx="88520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a50021"/>
                </a:solidFill>
                <a:latin typeface="Arial"/>
              </a:rPr>
              <a:t>夏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天   </a:t>
            </a:r>
            <a:r>
              <a:rPr b="1" lang="zh-CN" sz="8000" spc="-1" strike="noStrike">
                <a:solidFill>
                  <a:srgbClr val="a50021"/>
                </a:solidFill>
                <a:latin typeface="Arial"/>
              </a:rPr>
              <a:t>台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风    </a:t>
            </a:r>
            <a:r>
              <a:rPr b="1" lang="zh-CN" sz="8000" spc="-1" strike="noStrike">
                <a:solidFill>
                  <a:srgbClr val="a50021"/>
                </a:solidFill>
                <a:latin typeface="Arial"/>
              </a:rPr>
              <a:t>雷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雨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8200"/>
          <p:cNvSpPr/>
          <p:nvPr/>
        </p:nvSpPr>
        <p:spPr>
          <a:xfrm>
            <a:off x="2050920" y="5877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DSC005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05" name="zhiliao.mp3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1600200" y="3733920"/>
            <a:ext cx="16002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桃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447920" y="4952880"/>
            <a:ext cx="1676160" cy="169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Arial"/>
              </a:rPr>
              <a:t>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419720" y="3809880"/>
            <a:ext cx="1447560" cy="169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西</a:t>
            </a:r>
            <a:r>
              <a:rPr b="1" lang="zh-CN" sz="4800" spc="-1" strike="noStrike">
                <a:solidFill>
                  <a:srgbClr val="a50021"/>
                </a:solidFill>
                <a:latin typeface="Arial"/>
              </a:rPr>
              <a:t>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DSC005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1" name="zhiliao.mp3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6858000" y="0"/>
            <a:ext cx="1600200" cy="169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l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知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547640" y="1700280"/>
            <a:ext cx="669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362320" y="1066680"/>
            <a:ext cx="61722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04920" y="304920"/>
            <a:ext cx="86104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l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知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（        ）（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581280" y="10666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477120" y="228600"/>
            <a:ext cx="15238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80880" y="2438280"/>
            <a:ext cx="83059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       ）（         ）（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26" descr="DSC005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1" name="zhiliao.mp3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28"/>
          <p:cNvSpPr/>
          <p:nvPr/>
        </p:nvSpPr>
        <p:spPr>
          <a:xfrm>
            <a:off x="6858000" y="0"/>
            <a:ext cx="1600200" cy="169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l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知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29"/>
          <p:cNvSpPr/>
          <p:nvPr/>
        </p:nvSpPr>
        <p:spPr>
          <a:xfrm>
            <a:off x="3276720" y="457200"/>
            <a:ext cx="2133360" cy="169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ō  g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蝈  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26" descr="青蛙"/>
          <p:cNvPicPr/>
          <p:nvPr/>
        </p:nvPicPr>
        <p:blipFill>
          <a:blip r:embed="rId1"/>
          <a:stretch/>
        </p:blipFill>
        <p:spPr>
          <a:xfrm>
            <a:off x="0" y="1790640"/>
            <a:ext cx="9144000" cy="39830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0:49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17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