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BB1-A76C-433E-86E8-73B8EECB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021-457F-4071-A645-AF927643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A51-758D-4938-B72F-A12D2F09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285-8481-4C11-9181-31FB3038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C971-701B-40B7-91C0-DA8FDD58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C4E8-7EA5-4AF6-B95D-E51F0FA3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C279-4B3C-4F54-BBD1-BB9AFDB3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538B-5162-417C-836B-F19DDBC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2F9-C531-4F2A-8B66-836A14A1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A4B-E8CF-44E1-8AD2-DF839121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4113-CEC4-4DB1-AA50-8CBBF35F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52C-8D5B-4FA4-B771-0FFDE13C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5BC0-B8F1-4265-98E8-C883757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7B34-FE51-4D34-803F-31E834D0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C73E-6078-4C8F-8205-79CEA658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9B32-733A-4AE4-9790-E011B55B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21C2-8B65-4678-8A2F-41B65A0C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477-994D-4089-97D6-201B0C81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FBE-67DD-49F7-ABF4-44DEE662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071-180E-4277-9017-2ED80EDC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785-13C4-428E-991D-719B2BF6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BC9-B0C1-4E8B-87DB-40BAFF0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589-2C2C-4782-9F2A-90CCA953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6FA-44EB-4E36-B217-6CBA94F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EBAC-5F06-4CC5-B752-237E33FCA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9360-29F1-47E2-A7EE-3B662BCA461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9AD-64AD-4296-9194-7647857C4E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../Local%20Settings/Temp/Rar$DI01.438/&#36830;&#25509;&#26448;&#26009;/&#32982;&#20046;&#20046;&#30340;&#23567;&#25163;&#32508;&#21512;&#29983;&#23383;.swf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D:\&#24037;&#20316;&#36164;&#26009;&#22841;\&#23454;&#39564;&#23567;&#23398;2005&#24180;8&#26376;&#24320;&#22987;\&#25945;&#23398;&#27719;&#24635;\&#19968;&#24180;&#32423;&#19979;&#20876;\&#35838;&#22530;&#22791;&#35838;\&#31532;&#20108;&#21333;&#20803;\6&#32982;&#20046;&#20046;&#30340;&#23567;&#25163;\&#36830;&#25509;&#26448;&#26009;\&#12298;&#32982;&#20046;&#20046;&#30340;&#23567;&#25163;&#12299;&#35829;&#35835;.swf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D:\&#24037;&#20316;&#36164;&#26009;&#22841;\&#23454;&#39564;&#23567;&#23398;2005&#24180;8&#26376;&#24320;&#22987;\&#25945;&#23398;&#27719;&#24635;\&#19968;&#24180;&#32423;&#19979;&#20876;\&#35838;&#22530;&#22791;&#35838;\&#31532;&#20108;&#21333;&#20803;\6&#32982;&#20046;&#20046;&#30340;&#23567;&#25163;\&#36830;&#25509;&#26448;&#26009;\&#25105;&#20026;&#23478;&#24237;&#28155;&#27426;&#20048;.sw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019"/>
          <p:cNvPicPr/>
          <p:nvPr/>
        </p:nvPicPr>
        <p:blipFill>
          <a:blip r:embed="rId16">
            <a:lum bright="24000"/>
          </a:blip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143000" y="25146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Arial"/>
              </a:rPr>
              <a:t>人人都有两棵树，一棵左来一棵右。不长叶子不开花，天天干活不说话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844720" y="0"/>
            <a:ext cx="381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9900"/>
                </a:solidFill>
                <a:latin typeface="Arial"/>
                <a:ea typeface="幼圆"/>
              </a:rPr>
              <a:t>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1972440" y="1844640"/>
            <a:ext cx="56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小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胖乎乎的小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做家务：洗碗"/>
          <p:cNvPicPr/>
          <p:nvPr/>
        </p:nvPicPr>
        <p:blipFill>
          <a:blip r:embed="rId2"/>
          <a:stretch/>
        </p:blipFill>
        <p:spPr>
          <a:xfrm>
            <a:off x="1403280" y="2060640"/>
            <a:ext cx="6337440" cy="4375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课中休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181160" y="1220760"/>
            <a:ext cx="678168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56000" y="1125360"/>
            <a:ext cx="42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劳动最光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劳动最光荣.MP3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1589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胖乎乎的小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700000" y="5867280"/>
            <a:ext cx="6519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Arial"/>
              </a:rPr>
              <a:t>人教课标版小学语文一年级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200"/>
          <p:cNvSpPr/>
          <p:nvPr/>
        </p:nvSpPr>
        <p:spPr>
          <a:xfrm>
            <a:off x="2771640" y="4653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019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cc6600"/>
                </a:solidFill>
                <a:uFillTx/>
                <a:latin typeface="Arial"/>
              </a:rPr>
              <a:t>猜一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这个字有两个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射箭的弓拉长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有两位夫人偷偷跑到太阳上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皮革老板拉来两堆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05520" y="2438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181480" y="3048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00100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79132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11001615"/>
          <p:cNvPicPr/>
          <p:nvPr/>
        </p:nvPicPr>
        <p:blipFill>
          <a:blip r:embed="rId1">
            <a:lum bright="70000" contrast="-70000"/>
          </a:blip>
          <a:srcRect l="0" t="0" r="0" b="29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2286000" y="1295280"/>
            <a:ext cx="51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刚 贴 墙 等 变 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pic_25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611280" y="404640"/>
            <a:ext cx="9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六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24000" y="1844640"/>
            <a:ext cx="632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兰兰明白了全家人为什么都喜欢这张画。她高兴地说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等我长大了，小手变成了大手，它会帮你们做更多的事情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09480" y="2101680"/>
            <a:ext cx="8077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33520" y="2300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胖很喜欢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画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今天，他在家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下班。见妈妈还没回来，小胖就坐在窗前认真地画河边的柳树。画好后，把它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看了又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天慢慢变黑了，仍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见妈妈，他就起身帮妈妈洗拖鞋，还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擦了一双皮鞋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完这些事情，妈妈回来了，高兴地夸小胖是个懂事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019"/>
          <p:cNvPicPr/>
          <p:nvPr/>
        </p:nvPicPr>
        <p:blipFill>
          <a:blip r:embed="rId1">
            <a:lum bright="24000"/>
          </a:blip>
          <a:srcRect l="0" t="0" r="1465" b="5925"/>
          <a:stretch/>
        </p:blipFill>
        <p:spPr>
          <a:xfrm>
            <a:off x="-304920" y="0"/>
            <a:ext cx="9610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455840" y="3578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01440" y="13413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1413000"/>
            <a:ext cx="8353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高兴地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我长大了，小手变成了大手，它会帮你们做更多的事情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87480" y="329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500720" y="3141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3419640" y="3284640"/>
            <a:ext cx="5040000" cy="2160360"/>
          </a:xfrm>
          <a:prstGeom prst="wedgeEllipseCallout">
            <a:avLst>
              <a:gd name="adj1" fmla="val -61148"/>
              <a:gd name="adj2" fmla="val 4111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708360" y="3573360"/>
            <a:ext cx="4608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兰兰长大以后，会帮家人做哪些事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N_067"/>
          <p:cNvPicPr/>
          <p:nvPr/>
        </p:nvPicPr>
        <p:blipFill>
          <a:blip r:embed="rId2"/>
          <a:stretch/>
        </p:blipFill>
        <p:spPr>
          <a:xfrm>
            <a:off x="1042920" y="4724280"/>
            <a:ext cx="1338480" cy="1727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1908000" y="15238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高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19"/>
          <p:cNvPicPr/>
          <p:nvPr/>
        </p:nvPicPr>
        <p:blipFill>
          <a:blip r:embed="rId1">
            <a:lum bright="24000"/>
          </a:blip>
          <a:srcRect l="0" t="0" r="196" b="5281"/>
          <a:stretch/>
        </p:blipFill>
        <p:spPr>
          <a:xfrm>
            <a:off x="-304920" y="0"/>
            <a:ext cx="9734760" cy="6958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1219320" y="249804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我替爸爸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_______________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我给妈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_______________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我帮老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我为大家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457200" y="609480"/>
            <a:ext cx="2438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说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7" name="文本框 8200"/>
          <p:cNvSpPr/>
          <p:nvPr/>
        </p:nvSpPr>
        <p:spPr>
          <a:xfrm>
            <a:off x="684360" y="5157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ff99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50920" y="0"/>
            <a:ext cx="8569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 鸦 爱 妈 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wū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鸦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yā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十分喜欢小乌鸦，每天都抓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uā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ě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虫子给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ěi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吃，小乌鸦长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ǎng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胖乎乎的，非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ēi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爱。小乌鸦在心里说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我长大了，一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妈妈，要帮妈妈做很多事情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慢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地长大了，变成了大乌鸦，乌鸦妈妈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q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了，飞不动了。大乌鸦就天天替妈妈抓虫子吃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天刚亮，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ē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里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ū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发生了大火。乌鸦妈妈说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！你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ǎ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逃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吧！不要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uǎ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了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乌鸦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！我不能丢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iū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妈妈！我要救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j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乌鸦拖着树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枝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ī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hǐ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劲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ū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，但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点用也没有，大火越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y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越猛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měng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在这时候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òu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q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í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m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事情发生了：天空中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ū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乌云密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哗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uā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哗哗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场大雨，把森林大火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jiāo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灭了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乌鸦飞回窝里，乌鸦妈妈张开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膀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ǎng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紧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jǐ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地抱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它，说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孩子，你真是个孝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x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乌鸦把头贴在妈妈的怀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，幸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笑了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44F-5A43-4EFE-AB53-1E7F521CBE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胖乎乎的小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00000" y="5867280"/>
            <a:ext cx="6519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Arial"/>
              </a:rPr>
              <a:t>人教课标版小学语文一年级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3564000" y="371628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cc66"/>
              </a:gs>
              <a:gs pos="100000">
                <a:srgbClr val="005e2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>
            <a:hlinkClick r:id="rId2"/>
          </p:cNvPr>
          <p:cNvSpPr/>
          <p:nvPr/>
        </p:nvSpPr>
        <p:spPr>
          <a:xfrm>
            <a:off x="250920" y="6380280"/>
            <a:ext cx="1512720" cy="477720"/>
          </a:xfrm>
          <a:prstGeom prst="cloudCallout">
            <a:avLst>
              <a:gd name="adj1" fmla="val -63745"/>
              <a:gd name="adj2" fmla="val 49004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课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pic_25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>
            <a:hlinkClick r:id="rId2"/>
          </p:cNvPr>
          <p:cNvSpPr/>
          <p:nvPr/>
        </p:nvSpPr>
        <p:spPr>
          <a:xfrm>
            <a:off x="250920" y="5805360"/>
            <a:ext cx="2438280" cy="838440"/>
          </a:xfrm>
          <a:prstGeom prst="cloudCallout">
            <a:avLst>
              <a:gd name="adj1" fmla="val 177800"/>
              <a:gd name="adj2" fmla="val -112120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走进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桃子"/>
          <p:cNvPicPr/>
          <p:nvPr/>
        </p:nvPicPr>
        <p:blipFill>
          <a:blip r:embed="rId1"/>
          <a:srcRect l="0" t="126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26668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胖 乎 乎  喜 欢  这 张  刚 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贴 在   墙 上   替 我   拖 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帮 助   等 我   变 成   事 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00000" y="20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64000" y="213372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zhā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859280" y="364500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716360" y="5141880"/>
            <a:ext cx="107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042920" y="51418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ā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042920" y="3573360"/>
            <a:ext cx="8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i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700360" y="3573360"/>
            <a:ext cx="128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qiá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502080" y="21384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588000" y="2060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ɡā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516720" y="364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uō x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916360" y="514188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ě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7236000" y="5157720"/>
            <a:ext cx="107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zypyyb"/>
                <a:ea typeface="zypyyb"/>
              </a:rPr>
              <a:t>q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桃子"/>
          <p:cNvPicPr/>
          <p:nvPr/>
        </p:nvPicPr>
        <p:blipFill>
          <a:blip r:embed="rId1"/>
          <a:srcRect l="0" t="12107" r="1734" b="0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21333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胖 乎 乎  喜 欢  这 张  刚 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贴 在   墙 上   替 我   拖 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帮 助   等 我   变 成   事 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ic_25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759600" y="166392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第一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0" y="2208240"/>
            <a:ext cx="588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家人都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喜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兰兰画的这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019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09480" y="517680"/>
            <a:ext cx="82296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这胖乎乎的小手替我拿过拖鞋呀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姥姥从厨房出来，一眼就看见了画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红润润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的小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兰兰明白了全家人为什么都喜欢这张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ic_25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2592360" y="20574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210240" y="1700280"/>
            <a:ext cx="139932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五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547640" y="1125360"/>
            <a:ext cx="741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爸爸说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胖乎乎的小手替我拿过拖鞋呀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妈妈下班回来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见画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笑着说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胖乎乎的小手给我洗过手绢啊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姥姥从厨房出来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眼就看见了画上红润润的小手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胖乎乎的小手帮我挠过痒痒啊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ic_25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066680" y="1981080"/>
            <a:ext cx="9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981080" y="12193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爸爸刚下班回来，拿起画，看了又看，把画贴在了墙上。兰兰不明白，问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我只是画了自己的小手啊！我有那么多画，您为什么只贴这一张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pic_253070"/>
          <p:cNvPicPr/>
          <p:nvPr/>
        </p:nvPicPr>
        <p:blipFill>
          <a:blip r:embed="rId1"/>
          <a:stretch/>
        </p:blipFill>
        <p:spPr>
          <a:xfrm>
            <a:off x="0" y="-103500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187280" y="4724280"/>
            <a:ext cx="6840720" cy="188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这胖乎乎的小手替我拿过拖鞋呀！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这胖乎乎的小手给我洗过手绢啊！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这胖乎乎的小手帮我挠过痒痒啊！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3:30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5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