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114-E6C6-46D7-AFA9-15A12CC9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025-A1BD-4AFC-A046-206A8F59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F34-FF45-466D-B0B6-03157F5D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0C6-88B4-485B-A608-5F8EE473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EA70-0397-4D77-9C94-E362EF7B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A909-CB7E-4404-88F7-CB78C818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120D-C15B-460D-BBA5-062ADC8C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F3C9-D793-45FB-A027-81151C38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2EB2-0489-4394-BB5D-B54654C5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294E-F432-4437-8606-4A3213AD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E3F7-5224-41B4-AC57-88608C9B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7B9-3132-4C90-B486-345E0F1A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5F12-FA67-41E1-9CE0-B61EB580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DD68-F654-408B-9C5F-583EE111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172E-0B0A-46DE-8C92-E0A02058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4FE7-5D20-432B-89F3-0D6D53F9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230E-D744-4253-B870-19600F0E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4D5-BF1D-487B-8F07-4A2248A2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D73-897F-4116-BB94-38E74D16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ACF-93F7-43B0-A2CF-96FD5A31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77A-4842-487D-9ABF-5CBB4733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C0A-4BC9-4994-8E89-1EB1492C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E97-93E1-4550-A902-549EA9C3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A0E-86C5-42B6-B0A5-416BEE3D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28BE-9E57-4630-8CF3-9B1C26B2F9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49B-46AD-4E0C-A398-E6CB86DC802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2D9D-B02B-4028-BBAF-761EFA9849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90600" y="9842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小小童话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模板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免费下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266920" y="35733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8198"/>
          <p:cNvSpPr/>
          <p:nvPr/>
        </p:nvSpPr>
        <p:spPr>
          <a:xfrm>
            <a:off x="1835280" y="213372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B3D6-DC16-46C9-BD8A-EDC6ABF66A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8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