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0C0-82CE-4EA0-87DD-CEA2E6CD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6EC-7951-42B9-9768-DE2C6FB8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88D-9610-49AC-9C5A-6FBA5111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D61-CE85-48BC-8F61-CBA784F6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FA0C-DF17-4DD1-A41E-80F02FF7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97B8-A2F3-48F0-A8CF-96F7B2D4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AAF0-7E3E-4D0B-A068-87BA29DB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099D-E5BF-488B-84A4-B25391F8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D81C-D3A3-4F26-85B0-6FD666C0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5741-7F14-4E9F-8335-2E7E33C9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B8A5-379D-4FDD-A737-53B548FC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5D2-4C7F-41BA-8332-B64F93A3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6011-FA30-431B-A463-6C568A2E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43BC-4173-4EEE-9D3D-47E0C30B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6922-018F-45B5-B71A-AFF1238C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B416-16FB-45DC-8CE6-906AD7CB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CA35-7CEE-41DD-8853-C4C85D5C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4AC-111B-4311-896D-FAE49E6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648-B7A3-48C6-BCFC-CE9469DD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9F8-A226-426A-901A-FE2EA148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BB5-3F15-4A9E-AF2D-D13F6F1B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450-91E9-4777-96BC-2541D8E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983-3244-460C-BD65-6A812E81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AEB-898A-4651-B752-8AF9827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975F-9BCA-4A53-A26C-157ACA43AF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8DE-B986-4D41-97CC-8617748F117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AF5C-8C2C-44D2-9735-CA3407C9D8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9280" y="52610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宋体"/>
              </a:rPr>
              <a:t>Click to edit Master title sty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9280" y="480348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863a"/>
                </a:solidFill>
                <a:latin typeface="Calibri"/>
                <a:ea typeface="宋体"/>
              </a:rPr>
              <a:t>Click to edit Master sub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2892600" y="3276720"/>
            <a:ext cx="777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547640" y="4192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鲜艳玫瑰淡雅背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9280" y="144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1320" y="27432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1320" y="1444320"/>
            <a:ext cx="6710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123"/>
          <p:cNvSpPr/>
          <p:nvPr/>
        </p:nvSpPr>
        <p:spPr>
          <a:xfrm>
            <a:off x="1824120" y="4498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807-DA3C-4292-94E3-F7F0CFB721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44320"/>
            <a:ext cx="40402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23c"/>
                </a:solidFill>
                <a:latin typeface="Arial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2072880"/>
            <a:ext cx="40402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4720" y="144432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23c"/>
                </a:solidFill>
                <a:latin typeface="Arial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5:59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