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EDD-8BA5-4E7E-9403-893ED1EB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44A-7A0A-4AF6-BB97-FFA8C23A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F96-64FD-45F1-964B-955F7335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EE2-15D1-4181-BF59-C0C484D6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C89E-38AF-48D4-BBD9-1134CB68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5C85-96BB-4963-8FBE-81A41EB3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3437-5607-4A55-B7AC-A4A5D808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35A0-893D-476E-8A3C-348D6993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B6F0-BA3E-4A5F-AD96-4DA80F00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45D3-39FA-4F5E-9029-43692888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6B7E-4448-4E8E-91BE-72A134E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192-DEFB-4789-B893-C0F040DE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8338-1149-4F78-9D6C-F730EB60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16EE-6733-47BF-B22E-7F06CA04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016D-0D79-4A3D-A9B3-5955CD27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589F-BBA8-4BFE-A1EA-237F7615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63BA-D7FF-4F19-8477-0785821C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3E5-E7B6-44FD-84F0-7A6E4EAD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756-BAFE-420D-A0D9-55E12521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166-EA69-4C90-8E2C-14780759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32F-06BF-4BF7-B0AF-0FCE57AE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BB9-55A4-4BAB-BFAC-EF5990F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F1A-7188-4A73-A4B3-6AD9E659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2D3-3E7A-4356-B552-FC33F45B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A699-B748-4145-A0B1-0C26D46C2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94B4-2325-4C7F-B28F-AF55271477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E405-C940-4C74-B400-5069C5C1BC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2287080" y="479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蝌蚪找妈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4339" t="13669" r="4520" b="44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3"/>
          <p:cNvSpPr/>
          <p:nvPr/>
        </p:nvSpPr>
        <p:spPr>
          <a:xfrm flipV="1">
            <a:off x="0" y="2003040"/>
            <a:ext cx="4716360" cy="1936800"/>
          </a:xfrm>
          <a:prstGeom prst="wedgeEllipseCallout">
            <a:avLst>
              <a:gd name="adj1" fmla="val 17416"/>
              <a:gd name="adj2" fmla="val -96967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8360" y="234936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鲤鱼阿姨，我们的妈妈在哪里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 flipH="1">
            <a:off x="3132000" y="4869000"/>
            <a:ext cx="6012000" cy="1989000"/>
          </a:xfrm>
          <a:prstGeom prst="wedgeEllipseCallout">
            <a:avLst>
              <a:gd name="adj1" fmla="val 12685"/>
              <a:gd name="adj2" fmla="val -61574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419640" y="522936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们的妈妈四条腿，宽嘴巴。你们到那边去找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rcRect l="4340" t="15760" r="6690" b="62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5940360" y="69228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乌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4340" t="15760" r="6690" b="62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395280" y="33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Arial"/>
              </a:rPr>
              <a:t>小蝌蚪游哇游，过了几天，长出两条后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867280" y="162864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追上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23083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4340" t="15760" r="6690" b="62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4"/>
          <p:cNvSpPr/>
          <p:nvPr/>
        </p:nvSpPr>
        <p:spPr>
          <a:xfrm flipH="1" flipV="1">
            <a:off x="4716360" y="0"/>
            <a:ext cx="3702240" cy="1295280"/>
          </a:xfrm>
          <a:prstGeom prst="wedgeEllipseCallout">
            <a:avLst>
              <a:gd name="adj1" fmla="val 41208"/>
              <a:gd name="adj2" fmla="val -54291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0" y="4560840"/>
            <a:ext cx="5435640" cy="2297160"/>
          </a:xfrm>
          <a:prstGeom prst="wedgeEllipseCallout">
            <a:avLst>
              <a:gd name="adj1" fmla="val 30986"/>
              <a:gd name="adj2" fmla="val -55319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932360" y="476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妈妈，妈妈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24000" y="4724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不是你们的妈妈。你们的妈妈头顶上有两只大眼睛，披着绿衣裳。你们到那边去找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4340" t="15842" r="4522" b="6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Arial"/>
              </a:rPr>
              <a:t>小蝌蚪游哇游，过了几天，尾巴变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4340" t="15842" r="4522" b="6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0" y="476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</a:rPr>
              <a:t>荷叶上蹲着一只大青蛙，披着碧绿的衣裳，露着雪白的肚皮，鼓着一对大眼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4340" t="15842" r="4522" b="6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0" y="0"/>
            <a:ext cx="867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</a:rPr>
              <a:t>荷叶上蹲着一只大青蛙，披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碧绿的衣裳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</a:rPr>
              <a:t>，露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雪白的肚皮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</a:rPr>
              <a:t>，鼓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一对大眼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rcRect l="4340" t="15842" r="4522" b="6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0" y="0"/>
            <a:ext cx="87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</a:rPr>
              <a:t>荷叶上蹲着一只大青蛙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披着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</a:rPr>
              <a:t>碧绿的衣裳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露着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</a:rPr>
              <a:t>雪白的肚皮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鼓着</a:t>
            </a:r>
            <a:r>
              <a:rPr b="0" lang="zh-CN" sz="4000" spc="-1" strike="noStrike">
                <a:solidFill>
                  <a:srgbClr val="66ff66"/>
                </a:solidFill>
                <a:latin typeface="Arial"/>
              </a:rPr>
              <a:t>一对大眼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rcRect l="4340" t="15842" r="4522" b="6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 flipV="1">
            <a:off x="755640" y="2780280"/>
            <a:ext cx="3086280" cy="1431720"/>
          </a:xfrm>
          <a:prstGeom prst="wedgeEllipseCallout">
            <a:avLst>
              <a:gd name="adj1" fmla="val -32356"/>
              <a:gd name="adj2" fmla="val -65189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 flipV="1">
            <a:off x="468360" y="0"/>
            <a:ext cx="6191280" cy="1936800"/>
          </a:xfrm>
          <a:prstGeom prst="wedgeEllipseCallout">
            <a:avLst>
              <a:gd name="adj1" fmla="val 30050"/>
              <a:gd name="adj2" fmla="val -5074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26920" y="3068640"/>
            <a:ext cx="43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妈妈，妈妈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84160" y="333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孩子，你们已经长成青蛙了，快跳上来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254448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3512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95280" y="4221000"/>
            <a:ext cx="87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后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向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蹦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荷叶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灰"/>
          <p:cNvPicPr/>
          <p:nvPr/>
        </p:nvPicPr>
        <p:blipFill>
          <a:blip r:embed="rId1"/>
          <a:srcRect l="0" t="0" r="0" b="80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95280" y="62064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自学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、借助图画读课文，自学不认识的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、想一想：小蝌蚪找妈妈的过程中，他自己有什么变化？谁帮助了他？他们是怎么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rcRect l="-9086" t="0" r="0" b="13386"/>
          <a:stretch/>
        </p:blipFill>
        <p:spPr>
          <a:xfrm>
            <a:off x="-1116000" y="0"/>
            <a:ext cx="10260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0" y="5157720"/>
            <a:ext cx="81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0" y="436572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知什么时候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青蛙的尾巴已经不见了</a:t>
            </a: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跟着妈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天去捉害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-9086" t="0" r="0" b="13386"/>
          <a:stretch/>
        </p:blipFill>
        <p:spPr>
          <a:xfrm>
            <a:off x="-1116000" y="0"/>
            <a:ext cx="10260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0" y="1844640"/>
            <a:ext cx="716436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保护青蛙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!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保护动物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保护环境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EA29-4323-4DB2-9E82-971A9425FF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-9086" t="0" r="0" b="13386"/>
          <a:stretch/>
        </p:blipFill>
        <p:spPr>
          <a:xfrm>
            <a:off x="-1116000" y="0"/>
            <a:ext cx="10260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1547640" y="1628640"/>
            <a:ext cx="4680000" cy="26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灰"/>
          <p:cNvPicPr/>
          <p:nvPr/>
        </p:nvPicPr>
        <p:blipFill>
          <a:blip r:embed="rId1"/>
          <a:srcRect l="0" t="0" r="0" b="80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3"/>
          <p:cNvGrpSpPr/>
          <p:nvPr/>
        </p:nvGrpSpPr>
        <p:grpSpPr>
          <a:xfrm>
            <a:off x="395280" y="260280"/>
            <a:ext cx="8458200" cy="3768840"/>
            <a:chOff x="395280" y="260280"/>
            <a:chExt cx="8458200" cy="3768840"/>
          </a:xfrm>
        </p:grpSpPr>
        <p:sp>
          <p:nvSpPr>
            <p:cNvPr id="93" name="Text Box 4"/>
            <p:cNvSpPr/>
            <p:nvPr/>
          </p:nvSpPr>
          <p:spPr>
            <a:xfrm>
              <a:off x="547920" y="643320"/>
              <a:ext cx="830556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灰       迎         阿         姨       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追       顶         披         鼓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"/>
            <p:cNvSpPr/>
            <p:nvPr/>
          </p:nvSpPr>
          <p:spPr>
            <a:xfrm>
              <a:off x="701640" y="260280"/>
              <a:ext cx="105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huī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2071800" y="26028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yín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4205520" y="2602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567480" y="33660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yí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95280" y="217656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zhuī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2071800" y="217656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dǐn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4586400" y="2176560"/>
              <a:ext cx="121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pī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6872400" y="217656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gǔ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4339" t="14893" r="4520" b="100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4762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池塘里有一群小蝌蚪，大大的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脑袋，黑灰色的身子，甩着长长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尾巴，快活地游来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124000" y="1125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u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4339" t="14893" r="4520" b="100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4762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池塘里有一群小蝌蚪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大的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脑袋，黑灰色的身子，</a:t>
            </a: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甩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长长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尾巴</a:t>
            </a: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，快活地游来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4339" t="14893" r="4520" b="100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4762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池塘里有一群小蝌蚪，大大的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脑袋，黑灰色的身子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长长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尾巴，快活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游来游去</a:t>
            </a:r>
            <a:r>
              <a:rPr b="1" lang="zh-CN" sz="4000" spc="-1" strike="noStrike">
                <a:solidFill>
                  <a:srgbClr val="66ff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200"/>
          <p:cNvSpPr/>
          <p:nvPr/>
        </p:nvSpPr>
        <p:spPr>
          <a:xfrm>
            <a:off x="395280" y="4869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rcRect l="4339" t="14893" r="4520" b="100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0" y="47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66ff66"/>
                </a:solidFill>
                <a:latin typeface="Arial"/>
              </a:rPr>
              <a:t>寻人启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Arial"/>
              </a:rPr>
              <a:t>大家好！</a:t>
            </a:r>
            <a:br>
              <a:rPr sz="3600"/>
            </a:br>
            <a:r>
              <a:rPr b="1" lang="zh-CN" sz="3600" spc="-1" strike="noStrike">
                <a:solidFill>
                  <a:srgbClr val="66ff66"/>
                </a:solidFill>
                <a:latin typeface="Arial"/>
              </a:rPr>
              <a:t>       我是小蝌蚪，每当我看见其它的小朋友和妈妈一起玩耍时，我羡慕极了。可是，我不知道我的妈妈在哪里？听说 一</a:t>
            </a: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(4)</a:t>
            </a:r>
            <a:r>
              <a:rPr b="1" lang="zh-CN" sz="3600" spc="-1" strike="noStrike">
                <a:solidFill>
                  <a:srgbClr val="66ff66"/>
                </a:solidFill>
                <a:latin typeface="Arial"/>
              </a:rPr>
              <a:t>班的小朋友最聪明，爱帮助人，请你们帮助我找找妈妈吧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4339" t="13669" r="4520" b="44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692360" y="98100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鲤  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4339" t="13669" r="4520" b="44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95280" y="54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66"/>
                </a:solidFill>
                <a:latin typeface="Arial"/>
              </a:rPr>
              <a:t>小蝌蚪游哇游，过了几天，长出两条后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979640" y="249228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迎上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3:05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