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D90-580F-454F-874C-739B906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C0D-7A87-4BD0-92C1-0417042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890-4EF9-4063-ACA8-E21F54FA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48A-8F33-4AE1-BF47-68F7957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38D8-6921-41C3-9296-5E0F192A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FA7-C173-4E1A-AFDC-44B8AE63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64E9-1731-4A8B-88C6-8B88198B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B70-B40D-4483-A546-3E7177E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87D-D02B-44D2-8EF9-96DF89B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EBE-E37F-4A4E-BEE0-0EC187B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50B-4340-478C-AE6D-D0E7490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AEC-C624-4A94-A496-3ED8B69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44AC-2BFD-4E27-8706-18A1BCFA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DC1-13FA-46BD-80A7-91DEC1C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3746-D79C-45C2-A0DD-F674BF7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C23-8F20-4E6C-BE54-18461895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D069-C29F-4C0B-A36D-FE5E1D15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C3B-C1AA-4377-9576-EFA0870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AF5-7ECB-434D-8936-BBFD323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496-F696-4747-8512-340DCF6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9CC-9D96-43B5-ADCB-948218D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3A9-7C08-4372-A8E4-B834BFA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A9C-5139-40CD-BFBA-0248A56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303-8EE7-4453-8C41-1A280D1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21A82-79A9-4844-9F1A-90E892B13B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B2B42-5D7E-46C6-8F55-1A2EA1E70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D9794-39C6-4252-9FA6-162AD04C58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33284-A3BB-4DD1-9BF9-17A5AAEDDC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76320" y="4781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809360" y="133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迎春納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87F9E-AD68-4AAE-BE83-DAB401FB5D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097"/>
          <p:cNvSpPr/>
          <p:nvPr/>
        </p:nvSpPr>
        <p:spPr>
          <a:xfrm>
            <a:off x="1371600" y="59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