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5E2-B4FB-4CA4-9A1B-22E5C6DA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8D4-4FF8-402F-9493-CE8960EC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FA975-5AD6-4CB9-8615-02F23FF2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6F511-6CA0-4CC1-8C5A-653562B8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805F4-AB9A-4AF8-A8A4-4679D2EB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65A6E-4DCF-4A11-913F-DCE98D05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A71D0-2468-4246-821D-50503BFB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CA759-6D20-4F21-A5E7-214F8D88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7704E-8D42-48F9-A9FA-F4719564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D93C1-DB68-44FB-B211-B1D23144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27459-4E5B-4184-9BB7-BAD9B658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D499B-9727-4D67-A981-6D231B4C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495-8800-44DC-B34F-A6F593FD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23251-C5F3-4447-9CED-7A76A4D7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A6C61-B6E1-49E2-8BE3-4ACF6AF9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AB8A2-E3C4-4DAF-82CA-1C8475F5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B3BC6-B3E5-476A-B7C0-9C3EBD41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31ABD-C48A-440A-8233-879ED065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B55E5-FEAE-4F45-B2E6-25BF91D3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7688A-DA9E-49BD-AF01-1626EF17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F0F16-1B5C-4FDC-8DCE-5445913E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55639-429C-4899-AB1A-9B2162C2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30A01-CED9-4D47-B20C-80BC986D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25F-B998-4C33-886B-CF3AB8E5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CDA3E-D7D5-4D46-85D6-F123CD93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05726-40CF-4A5E-B96B-2EDE795F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53A96-72F2-479A-A8B6-F62C9ED5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58F3A-44DC-421B-8AE5-16CEEC87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816E6-881A-419F-8BB0-FFEDA530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6AAD1-2FBD-4510-91E5-61F69259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A3638-9821-4B10-85DD-76003D67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B6B87-E9DE-470D-A8E7-E0D8A4FF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D103E-CBE0-497A-AB5C-3DEBB12F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67C80-07D2-4008-B12D-2DA3529E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0187-E3BF-40F8-9577-5927B49C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14E09-8D69-450C-AE0F-086DC04B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42918-A985-4E55-BA34-57F8B448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E4196-7E2C-40E4-BEA3-EFF072CD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2DE23-28CC-4C22-8C1C-4AD6BA16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A0B96-EE0E-4A7B-A355-772D3EBD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C1848-5020-4A4D-91DF-CC089C6A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9E8F8-EA3E-4E52-B227-44DAC041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58AE2-C0DA-4C68-9A01-FD0E4911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62A94-478D-4C5A-B646-CA941407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FAECA-1B29-4BAA-9A0E-42309051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C38E-6D67-4FF2-90B4-8AC6BF54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4DB38-3D64-47A4-BF61-6E98A89D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1CD51-D6C7-401C-AB7D-B0BBE308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94568-C7F4-4DEC-8208-3047B83D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C390C-B2B0-4AC9-9947-BEB497CC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147CC-962C-4919-BCF9-C8E7CCDE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3EBE9-F95D-49BD-9916-EC512F5D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8C627-396C-49B2-9817-30451BDB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F3A0E-1DF0-4593-B3A5-14C87128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89320-76D2-4F7F-B9DC-0E09380A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E5551-ACEC-4D42-93BA-D5AB9BD7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60A5-ED16-4971-8132-53DC3CA9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3991C-C339-42B4-B91D-E47E7D11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3739A-2D67-44EA-A3B5-0681926A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5E1BE-BA66-494F-A77B-6469E41E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F4F08-CA03-4B0E-89EC-86196FE9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0B8FF-4781-4D2B-890D-824F88C6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35833-DEF1-4CA4-86B9-C7B2666C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4F717-17B8-49F7-BF46-1F4649E9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374A-0F72-4434-9231-575A53B3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54C1-1CB0-4CA9-9F93-3887BED3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037F-8077-4811-BEF0-1A524272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A967-AE6F-4FE3-A48A-A006B78B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911-FA32-402D-B2E3-AC1A3749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B06F-61E4-4D93-A287-A5205F20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0E56-D806-4584-B157-55790D87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19F5-B516-4CB1-8224-A40DFE97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0920-F284-4BEF-95F3-932FC9BD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D622-2C94-4CFE-8675-A6585739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03EC8-6C21-48C3-AE66-2A2F3762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D3C9E-F95E-4173-99EB-441DCA05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A0559-7F4B-49C5-9A1D-3399E8DC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4CF3A-7EDF-4896-BF55-F0339334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A084B-91D0-4D41-A746-17009AC1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638-BD44-4C10-8666-45C16557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B51D9-E891-492C-99DE-2DD4A99D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164AB-E507-4016-947D-9903B66B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80FD-4655-460E-8076-6A65F07E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3ADCA-0783-41A3-BB17-1A27DE9B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4861-77FA-4DFA-9E13-0CCE6388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05EB-4229-470B-B6F5-6FF08AC1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259B7-001A-4E67-8D04-BE4D41B5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6ECD4-7D82-4495-8FAF-DA9143FD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31CE7-4D34-4CDC-A719-82F008D4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75F67-E3CB-4121-A51E-D1E4A6D6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27F-45A7-45FD-B792-59AE6B40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551A2-67AA-44B4-8451-AE99B1C4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7BF90-2A7D-4BB6-8149-48F5BA80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6B6E4-A277-4388-B826-AD03C54A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A3C18-8BF8-47DA-8E9F-F7216C8C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8F16C-28E2-42C4-9E3A-26B26DE4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4DCDA-DE0C-4852-9F44-33FD16F1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82D3B-4AE0-4A39-A069-8BFA8EF8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4FF3B-947B-497E-B388-F4E00524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02A49-C143-4960-AE4F-EB5FADBC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D8900-799C-49DB-ACC9-F4E1F0E0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7F2-866D-4824-A9FB-BA9AE3E8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6D742-8967-495A-96B6-78BA0272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41FFE-A494-44A7-911E-18FC8E99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C522A-1BE3-4735-A70D-AAC8A8C0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B46AA-ADAA-4B28-9A68-B1BF66C7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7AA34-EB94-4078-A5BA-013B5C3E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5A0AD-377F-4B1E-B9FD-BA58E06C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84239-41C0-43CD-8FFB-F41D9035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46FD3-A698-44F3-8CAF-E4578D1D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583B6-D014-4DF5-A64F-90C4EFBC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9B30E-CC38-463A-9638-C3981482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E1E4-5E55-4019-A363-93D2CFD0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690A7-FE5D-46ED-AC3A-77FBE56D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ADE8B-2BBD-4DCE-8A43-C46B0337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381CD-3B14-442C-BC21-116E6EA2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D7924-0123-484E-9B2A-CDCAED9E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A4172-6AB2-4410-9273-2F7A2A6C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0F643-9134-4C03-9104-324A9FB9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EAC4A-9CB4-48D2-BCCB-FECDD26E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8E2D2-A2D1-4F3B-8D02-AA08ECFB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7B195-1216-4C9B-BF4A-5FA0C34F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74F18-E920-45C1-AE28-77CA29FF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456-F222-45AC-8F0E-67BAB037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630C7-EC44-40FE-87ED-B47072F0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86997-9EBB-4C47-AAA0-7246F25B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C7150-7BF3-4016-A712-AFDE7DFA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8416E-4A4D-49AB-8346-372BAB26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3C221-BFDD-4AB4-8847-F743CC2C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C3179-CF60-4EA8-ABBA-BC67D225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393AA-1329-4CDD-B0C8-F14CAB0C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115A0-1E5D-4A08-891E-E98BE68A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0F027-6EAF-458D-99C2-831578C5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2E148-0944-428F-871F-723A52DC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3C0B-62A4-4201-984E-59580858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C29CC-CD4B-4080-8326-ADA56B13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1C01D-7F01-49B1-A496-93F95A49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8C922-421C-4E59-916B-CB2DA83A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D98D8-51A8-4868-B3DC-9111370C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EAFF0-B07D-4195-9F3A-14DB73A8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01DD8-3414-43F8-A22C-9FD269F9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F02E0-B963-498B-A021-1BED6861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6B590-4800-42DE-B4F2-CA892AD1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EA6DA-0988-4F7B-A22E-45220674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B712B-C74C-480F-8049-0E819D8D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8D6B-9EC3-47FC-B7D0-DBD30E94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47D55-30E2-4D81-AA13-1162BE08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D9199-B50A-4A15-8C48-CE6EB212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3E9E8-2A47-41A7-8B6D-77F95D60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A57A6-0FFB-4CB1-94AC-8C6D38AF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C3EE6-B6D4-4312-92C6-A4D862DC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4D319-92D1-4608-835F-10730DA1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08E16-6EAD-4261-BB68-76D890AE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918B8-6DED-452F-924D-1821E397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E3A1E-AF31-44FA-8F91-23372411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0EF84-A2E9-4E6E-A071-2630F68B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DAAB-4F82-445F-B3AC-A911492A7CF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3C4C-BA17-4BF0-98A6-7BAF47DC99B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FA14-4084-43B0-AAD7-5E9234869BF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C51F-9299-4D3F-991A-506AFAC8488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AB2E-1EA8-4D4B-9838-79BEF3C022F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878A-2D1F-42E3-9B7D-C109CF5E93C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650B-BDDC-44B8-8498-8A73C94F0EB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11D1-48C3-4FAA-99D5-4DEC80591A0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0D76-EA46-4E42-9557-D07B98C5376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437D-96C0-4C62-81D3-DBD5DB846B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8881-DB61-42A2-AE18-D1896231E3E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0439-8EA0-4A83-AFD6-D90E1B2E13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70AF-0881-4361-A9BF-53A887FF583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108E-64FE-4A91-8ADD-F5004797F08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BD33-3D3E-4061-8825-6C5136F1769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60FA-60F7-4CED-82F2-5D6121F4AB3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D29D-AF94-4DF7-B56C-E7A4FEA5122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458C-9A57-4EB9-9B21-2AC8837B77D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E101-3732-49D3-BC01-5CA2226B7F1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8DD4-BEDB-4B22-A3EF-6C75540ED15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674F-0B88-45E2-B843-4A2541A9F53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60F8-CF31-406F-969A-C2D804E71ED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25A5-69DA-4C1E-B914-2A0A8B7066D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796A-07E6-46F7-9432-ECF343DDA12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4F83-7A71-45F1-97F2-83DB4788090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BECF-521F-489E-90AE-E50AD4DE6FF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5" descr="背景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帘子" descr="帘子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2876400"/>
          </a:xfrm>
          <a:prstGeom prst="rect">
            <a:avLst/>
          </a:prstGeom>
          <a:ln w="0">
            <a:noFill/>
          </a:ln>
        </p:spPr>
      </p:pic>
      <p:pic>
        <p:nvPicPr>
          <p:cNvPr id="535" name="恭" descr=""/>
          <p:cNvPicPr/>
          <p:nvPr/>
        </p:nvPicPr>
        <p:blipFill>
          <a:blip r:embed="rId3"/>
          <a:stretch/>
        </p:blipFill>
        <p:spPr>
          <a:xfrm>
            <a:off x="-826920" y="2876400"/>
            <a:ext cx="717480" cy="717840"/>
          </a:xfrm>
          <a:prstGeom prst="rect">
            <a:avLst/>
          </a:prstGeom>
          <a:ln w="0">
            <a:noFill/>
          </a:ln>
        </p:spPr>
      </p:pic>
      <p:pic>
        <p:nvPicPr>
          <p:cNvPr id="536" name="新" descr=""/>
          <p:cNvPicPr/>
          <p:nvPr/>
        </p:nvPicPr>
        <p:blipFill>
          <a:blip r:embed="rId4"/>
          <a:stretch/>
        </p:blipFill>
        <p:spPr>
          <a:xfrm>
            <a:off x="9655200" y="2879640"/>
            <a:ext cx="716040" cy="717480"/>
          </a:xfrm>
          <a:prstGeom prst="rect">
            <a:avLst/>
          </a:prstGeom>
          <a:ln w="0">
            <a:noFill/>
          </a:ln>
        </p:spPr>
      </p:pic>
      <p:pic>
        <p:nvPicPr>
          <p:cNvPr id="537" name="禧" descr=""/>
          <p:cNvPicPr/>
          <p:nvPr/>
        </p:nvPicPr>
        <p:blipFill>
          <a:blip r:embed="rId5"/>
          <a:stretch/>
        </p:blipFill>
        <p:spPr>
          <a:xfrm>
            <a:off x="10185480" y="2876400"/>
            <a:ext cx="716040" cy="717840"/>
          </a:xfrm>
          <a:prstGeom prst="rect">
            <a:avLst/>
          </a:prstGeom>
          <a:ln w="0">
            <a:noFill/>
          </a:ln>
        </p:spPr>
      </p:pic>
      <p:pic>
        <p:nvPicPr>
          <p:cNvPr id="538" name="贺" descr=""/>
          <p:cNvPicPr/>
          <p:nvPr/>
        </p:nvPicPr>
        <p:blipFill>
          <a:blip r:embed="rId6"/>
          <a:stretch/>
        </p:blipFill>
        <p:spPr>
          <a:xfrm>
            <a:off x="2725560" y="1711440"/>
            <a:ext cx="2216160" cy="2514600"/>
          </a:xfrm>
          <a:prstGeom prst="rect">
            <a:avLst/>
          </a:prstGeom>
          <a:ln w="0">
            <a:noFill/>
          </a:ln>
        </p:spPr>
      </p:pic>
      <p:pic>
        <p:nvPicPr>
          <p:cNvPr id="539" name="钱币" descr=""/>
          <p:cNvPicPr/>
          <p:nvPr/>
        </p:nvPicPr>
        <p:blipFill>
          <a:blip r:embed="rId7"/>
          <a:stretch/>
        </p:blipFill>
        <p:spPr>
          <a:xfrm rot="17587800">
            <a:off x="6600600" y="3282840"/>
            <a:ext cx="1819440" cy="1222200"/>
          </a:xfrm>
          <a:prstGeom prst="rect">
            <a:avLst/>
          </a:prstGeom>
          <a:ln w="0">
            <a:noFill/>
          </a:ln>
        </p:spPr>
      </p:pic>
      <p:sp>
        <p:nvSpPr>
          <p:cNvPr id="540" name="文本框 14344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4345"/>
          <p:cNvSpPr/>
          <p:nvPr/>
        </p:nvSpPr>
        <p:spPr>
          <a:xfrm>
            <a:off x="2522520" y="8841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元旦动画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xit" presetID="4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8" repeatCount="10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624 -7.40741E-007 C 0.00954 -0.01458 0.0125 -0.02917 0.01875 -0.03704 C 0.02483 -0.04514 0.03594 -0.05046 0.0441 -0.04768 C 0.05105 -0.04468 0.05799 -0.02778 0.06268 -0.01968 C 0.06754 -0.01157 0.06615 -0.00324 0.07205 -7.40741E-007 C 0.07813 0.00347 0.08994 0.00671 0.09723 -7.40741E-007 C 0.10435 -0.00648 0.10764 -0.03241 0.11476 -0.03935 C 0.12205 -0.04653 0.13334 -0.04977 0.14098 -0.04282 C 0.14896 -0.03611 0.15348 -0.00579 0.16251 0.00116 C 0.17136 0.00833 0.18629 0.00718 0.19462 -7.40741E-007 C 0.20296 -0.00694 0.20539 -0.03449 0.21355 -0.04167 C 0.22188 -0.04907 0.23646 -0.05139 0.24323 -0.04398 C 0.24983 -0.03657 0.24827 -0.00625 0.25382 0.00232 C 0.26025 0.01111 0.27362 0.0088 0.28004 0.00718 C 0.28664 0.00532 0.2915 -0.00393 0.29428 -0.0081 C 0.2974 -0.01204 0.29844 -0.01481 0.29931 -0.01736 E">
                                      <p:cBhvr>
                                        <p:cTn id="13" dur="3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mph" presetID="8" repeatCount="9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5E-006 0.0007 C -0.00868 -0.0118 -0.01666 -0.02453 -0.02656 -0.03194 C -0.03628 -0.03958 -0.04982 -0.04652 -0.05885 -0.04467 C -0.06771 -0.04328 -0.075 -0.03125 -0.08003 -0.02268 C -0.08489 -0.01481 -0.08437 -0.00046 -0.08975 0.0044 C -0.09531 0.00926 -0.10486 0.01297 -0.1125 0.00602 C -0.12014 -0.00046 -0.12743 -0.02847 -0.13489 -0.03541 C -0.14288 -0.04282 -0.1526 -0.04444 -0.15955 -0.03703 C -0.16666 -0.03009 -0.16909 0.0007 -0.17725 0.00811 C -0.18559 0.01482 -0.20087 0.01158 -0.20989 0.0044 C -0.21857 -0.00277 -0.22343 -0.0287 -0.2309 -0.03541 C -0.23871 -0.04213 -0.24757 -0.04328 -0.25503 -0.03541 C -0.26284 -0.02824 -0.26666 0.00371 -0.27604 0.00996 C -0.28611 0.0169 -0.30312 0.01042 -0.31337 0.00255 C -0.32413 -0.00555 -0.33073 -0.03194 -0.33784 -0.03912 C -0.34531 -0.04652 -0.35173 -0.04282 -0.35746 -0.04097 C -0.36284 -0.03912 -0.36666 -0.03634 -0.3717 -0.02824 C -0.37673 -0.02014 -0.37847 0.00209 -0.38646 0.00811 C -0.39427 0.01389 -0.41093 0.01574 -0.41875 0.00811 C -0.42656 0.00047 -0.42656 -0.02847 -0.43333 -0.03703 C -0.43993 -0.04629 -0.45278 -0.04745 -0.4592 -0.04467 C -0.46597 -0.0412 -0.47031 -0.02615 -0.47378 -0.01736 C -0.47778 -0.00879 -0.47812 0.00139 -0.48194 0.00602 C -0.48628 0.01088 -0.49305 0.01621 -0.49826 0.01158 C -0.50382 0.00741 -0.51041 -0.01435 -0.51389 -0.01921 E">
                                      <p:cBhvr>
                                        <p:cTn id="17" dur="5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mph" presetID="8" repeatCount="9000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1736 -7.40741E-007 C -0.02482 -0.00995 -0.03107 -0.01991 -0.04045 -0.0243 C -0.0493 -0.0287 -0.06354 -0.03102 -0.07205 -0.02824 C -0.08038 -0.02593 -0.08541 -0.01435 -0.09062 -0.0081 C -0.096 -0.00208 -0.09774 0.00625 -0.10416 0.00926 C -0.11041 0.0125 -0.12135 0.01574 -0.12916 0.01065 C -0.13732 0.00556 -0.14305 -0.01412 -0.15104 -0.02014 C -0.15885 -0.02639 -0.1684 -0.02824 -0.17621 -0.02708 C -0.1842 -0.02593 -0.19253 -0.01805 -0.19826 -0.01204 C -0.20347 -0.00625 -0.20382 0.00394 -0.20816 0.0081 C -0.2125 0.01227 -0.21962 0.01296 -0.22482 0.01296 C -0.22986 0.01389 -0.23594 0.01806 -0.24149 0.01204 C -0.24757 0.00602 -0.25312 -0.0162 -0.26024 -0.02292 C -0.26701 -0.02986 -0.27621 -0.03148 -0.28368 -0.0294 C -0.29097 -0.02708 -0.29809 -0.01528 -0.30382 -0.0081 C -0.30972 -0.00093 -0.31232 0.00926 -0.3191 0.01296 C -0.32517 0.01713 -0.33298 0.02222 -0.34201 0.01574 C -0.35104 0.01042 -0.36441 -0.01227 -0.37239 -0.02014 C -0.38107 -0.02824 -0.38628 -0.02963 -0.39253 -0.03102 C -0.39844 -0.03148 -0.40503 -0.03079 -0.40972 -0.02708 C -0.41406 -0.02292 -0.4158 -0.01412 -0.41927 -0.0081 C -0.42326 -0.00208 -0.42587 0.00625 -0.43125 0.00926 C -0.4368 0.0125 -0.44583 0.01574 -0.45295 0.01065 C -0.46007 0.00532 -0.46666 -0.0088 -0.47205 -0.02292 E">
                                      <p:cBhvr>
                                        <p:cTn id="21" dur="5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" presetSubtype="16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C86E-E978-4846-AEAF-1003E16372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图片 3" descr="背景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7" name="帘子" descr="帘子.png"/>
          <p:cNvPicPr/>
          <p:nvPr/>
        </p:nvPicPr>
        <p:blipFill>
          <a:blip r:embed="rId2"/>
          <a:stretch/>
        </p:blipFill>
        <p:spPr>
          <a:xfrm>
            <a:off x="6480" y="0"/>
            <a:ext cx="9137520" cy="2876400"/>
          </a:xfrm>
          <a:prstGeom prst="rect">
            <a:avLst/>
          </a:prstGeom>
          <a:ln w="0">
            <a:noFill/>
          </a:ln>
        </p:spPr>
      </p:pic>
      <p:pic>
        <p:nvPicPr>
          <p:cNvPr id="548" name="帘子2" descr="帘子.png"/>
          <p:cNvPicPr/>
          <p:nvPr/>
        </p:nvPicPr>
        <p:blipFill>
          <a:blip r:embed="rId3"/>
          <a:stretch/>
        </p:blipFill>
        <p:spPr>
          <a:xfrm>
            <a:off x="6480" y="6081840"/>
            <a:ext cx="9137520" cy="631800"/>
          </a:xfrm>
          <a:prstGeom prst="rect">
            <a:avLst/>
          </a:prstGeom>
          <a:ln w="0">
            <a:noFill/>
          </a:ln>
        </p:spPr>
      </p:pic>
      <p:pic>
        <p:nvPicPr>
          <p:cNvPr id="549" name="帘子2" descr="帘子.png"/>
          <p:cNvPicPr/>
          <p:nvPr/>
        </p:nvPicPr>
        <p:blipFill>
          <a:blip r:embed="rId4"/>
          <a:stretch/>
        </p:blipFill>
        <p:spPr>
          <a:xfrm>
            <a:off x="6480" y="6270480"/>
            <a:ext cx="9137520" cy="587520"/>
          </a:xfrm>
          <a:prstGeom prst="rect">
            <a:avLst/>
          </a:prstGeom>
          <a:ln w="0">
            <a:noFill/>
          </a:ln>
        </p:spPr>
      </p:pic>
      <p:sp>
        <p:nvSpPr>
          <p:cNvPr id="550" name="文本框 15365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xit" presetID="4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1:39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29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