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D2-8A8A-4545-B9BA-7356D2F9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5A7-F9A0-42C5-B5AD-5F498E7E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5F759-8AEF-469F-B18A-37A466B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E3A7C-B5DF-4460-82AD-25E8697B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3CCB-F0CF-48AE-AB27-A7455E2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A5F99-1166-4ACC-94C1-76657F0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ACC9F-F543-44C5-8CB6-389EF81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FF625-4D0C-4B51-9743-FC799F6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90B1-2FF0-48C4-8B4A-DD4F086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FEF9A-9285-419F-92A6-583DC85F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13917-893E-49EA-B33D-B20D8A35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A6B8A-F1E7-4155-9E54-C1041854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04E-3850-4D35-8312-C88803A8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5C20-48EC-46C6-ABA1-2D9A7DA9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269A4-8824-4543-9E64-CE4C534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DD4F7-86CA-44E3-9524-FAFF962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80A77-96C7-4FEA-9A40-711E338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5FDCF-0250-4397-84B6-78A1E1B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27B24-E486-494D-9AEB-8E19B3C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02C47-9A33-466C-9F7B-36DC947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636C5-DEBC-45D8-B0C8-606A225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A1CA6-1C1E-4351-9E45-2693B4D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DE83C-3B13-4256-A89E-53770EF7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46E-96C8-401E-825F-7358D0B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7182B-6F78-45CE-9ECC-9307505F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232E3-F3DF-45A7-A0A6-9F10FD5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5449-E23D-48EC-AC3C-3E7457B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5348F-FEF5-440E-9DD9-F1AE30CF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74AA0-8634-43F2-AB65-02C5B2B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4E6C0-3CFC-4AF4-B09B-BAA4690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581DB-1FD3-467D-AC0C-9332054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7B82-B813-44D4-A950-6754EFDE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7C3E-16F5-4475-B161-23E3A0E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0AB2E-7318-4E49-9BB7-68C2B4A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8809-4D69-481D-835A-EB5A1AB0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5BA82-A246-42D6-BE17-71A300D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1425-D719-47D8-97D3-01332D4F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298AD-3AB8-44E8-A652-DA579E5E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E3EC4-183B-4747-8362-ED3741D1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9C84B-89DB-413D-8C5D-F27A7891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BD658-810D-44FE-93B7-A2C0CC6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C027E-3498-461B-A359-1075C28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05570-2742-4C5D-B58E-D9935E3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F016A-8A3A-4156-95BC-138B861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FAED1-4B9D-4329-BB1D-E59B9BF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4E0-F497-4EC4-9BB9-CDE51B7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B9A19-65B9-4D90-9CA3-8993C93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ACF56-6797-47A8-B54A-B62FB0A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09792-D316-44F0-998D-4289468A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B7162-F028-42F0-9D73-8977567D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7E7E1-8049-4FC3-8BF8-1D0BC152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813BB-1C75-46FE-A701-9FEEF9EF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EFF73-8206-458F-B7AC-DE35C8F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A6175-1616-4736-A688-2B10CF2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7F1D0-2D6F-428B-8D1F-A6629C5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CC03C-1FCD-47E2-9C22-C64DE17A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3A1-4935-4564-B82C-ADEF1C90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80143-BFBB-49E0-B8BA-AD590E4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36F14-D451-4309-9FE8-C0D00D1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A5710-86DA-4D0E-A56B-AED37BD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D4124-DF73-4A62-87C4-29CFE85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3B8C1-8D53-45FF-9D64-2D72D2E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7DF75-588F-4964-82CD-F4F333E8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62B72-2357-4D03-9D10-8293058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FF8-727F-48BA-AFA0-AFA6CC82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C72E-13B2-4C47-B1E8-A12CFBB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DB3-FAF7-4374-B800-2AE2462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3C1F-13FA-4981-9316-1B602DE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45C-1266-40C4-B110-A1B2ADEE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176-4269-43CF-A964-3F72B52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E58C-9850-401D-9E69-A741A84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9513-1285-4A22-98A9-49DF1254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EC9-A35D-4EF6-B49C-8C8D0FDF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9C6-7C64-4BCC-BEB7-41035BCB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46C8-B178-423C-8FE5-1B90BA19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05C8-9B65-4B19-8D30-127386D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0566-44A8-4926-B0ED-2C7B0AB3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DF10-BBE1-42F3-A7D4-CB8945B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8A21-F503-43BB-9301-7EEABBA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1A5-639A-45AB-A675-C387CDFE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6603-CF24-4786-9267-D01042D0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E86E-1782-45E1-A7EA-8974027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287A-377C-4AAF-94CD-150FAF5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8C6A-834A-4FB1-B283-A340345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BD77-9D6B-456A-9AEB-EB86B4B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60D5-01AE-4FA5-9664-39FB907E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2F7C-19FF-4BDF-AA15-7047C418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EC94-2165-45D5-B48A-CF2AADE3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58D8-B197-42E3-BC76-912117C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14CF-A147-4CC2-B162-8A16715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199-9924-48C7-907B-A59974D7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E7FF-C613-48D0-8BFC-19A3E13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2FF8-FDFF-4B30-BD30-828B991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D04D-0438-4A8F-843B-F8ABF6B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00C5-65BC-4A67-9726-BA3B5D2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5369F-DC84-4BF4-9DD7-B078265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A706-5C97-4481-ADF8-5E322B7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BD1F-6F8D-4329-9926-70395081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B755-92D1-4614-940F-B9DCABAA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54BB-C948-4FD8-8D2C-780AD174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83D8-CA89-49F5-9C3B-25D86E2F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203-8ACE-43CB-AF9A-89173E3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4C38-E053-42EF-8C98-FAB9E39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FFB8-BABF-46B7-BB55-3CB03F5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7D43-189B-48FE-AFF6-27B8B15B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1E8E6-D2A7-4DF2-A5ED-9E5698D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895C-EE3D-4893-9DD6-C071812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2CEC-DF26-4D22-9C8C-DDCCEBF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4360-DEB8-4385-9096-B7A662F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04B2-F6C9-4F8D-9FF7-EF51E90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2963-6C5C-4433-995B-B961948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A5A3E-5814-49A8-9746-D37E5062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1FA-66B9-4FCF-B46E-A3B9BCD3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EC08-D476-4013-A794-DB5CEC1B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CE43-1B45-4D47-ABB1-E90E14B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F4E9-BF9D-468F-93D6-3C1E55E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0E0A-465F-48A8-8785-43619D6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0785-C074-44C0-9613-2B25B51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63239-0699-4D49-9771-BCAC4D1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EE28-0DBD-4BB4-BD21-CB334993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D260-FFEA-4746-BAFE-157B7872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B0D36-2EB7-4D9D-B4D5-EC95622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1DC5-B6C5-4237-A3AA-CF808FF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218-7571-4940-9075-50163F9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DF3DE-C0FC-4FD8-8535-1F975D3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02CD9-3C52-4EEA-BC6C-5CFD9BFB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89D7-01D8-48A0-A9E0-DC1DEFDD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9968-52AB-4249-A8B8-9F0344DC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A56F-66CF-4263-9A60-06184A8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B0D4-0960-43C7-B915-77FD766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6854C-FEDB-4601-859E-0F7FB7B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BB38-48A9-4AA2-BF7A-DB3DB51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CF1A-9DB2-405B-B12C-4DC03445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7C71-3E13-4AC3-9EDA-C4C7D07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D2D-4A6A-41C0-8A2D-C37D4A1D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DDA9-94A8-4EA8-A5A0-36AECBD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C005-BA2E-453E-82A8-EF53FC3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D41D-6B1D-4DE6-8900-EFF59082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ECB6-A777-4BFB-92C9-7E9E82A6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AD12-EADC-49D4-90CF-649C26A3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55FA-9440-4981-ABC6-04FCB64D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650F-9B8A-4212-9F17-A1B0CF56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B71C-DCB4-46A2-A8D4-76E8EAE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E2FA2-6169-4DA6-8806-A8ED10E7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32C5-7501-4908-B1A5-563B549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851-5B93-4C4C-8979-E220AD5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9BD57-2039-45A7-A038-A188C2E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4ECA-1E6D-4EB8-AD09-8D36CE2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1837-B9DB-48F4-A45A-913E1C3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6E00F-C1D8-4351-8F96-66FE1BD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F60F-0852-4BC7-A9A2-7F51B04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1F3F-FF74-45A6-8B8D-FB58F122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E837-CB60-4904-BE1A-3B61C1C5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F33E9-817F-4798-BD5A-8479B8EB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4669-3757-46DA-9B6C-4D9B862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3B601-9ECE-4EC7-856A-FC94D0FE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3C02-EE21-4B9B-8ABD-8A6BFBD744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2AB0-1652-4EEA-8BC3-C9C37990FF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8DF-9C14-4036-8AC7-9C7D10DD6F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C533-59F8-4EF6-88D6-7CE5AAE39F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3A99-C7E3-4F00-AE54-41756DFA811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B096-DE86-404C-901D-F3B5C8BBC3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73A-2C52-42F8-BC74-7602DAFBD3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1B39-E715-4E3E-8CE2-E3AA6C4C6E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135-F059-4D6F-BADB-278575AD22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B568-160E-48A5-80FD-4F0F72C108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4D5-16B3-4325-8D4C-F6131B9328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322-E3AE-42B2-841A-F02F6E8240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D76-C675-4A21-97AC-F18C5A9DA29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A85-85C7-425D-8848-48F6F5A1FD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EBC2-2EB6-4263-8153-25EC0782B2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F0F4-B062-4691-9400-6F12D2E8D7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1B3-2AB9-439C-9958-1BD3664C23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6E1-D683-43E4-BA50-3EA8043B43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F51-FB9E-4665-962A-8A547BCB73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F869-77BA-451D-AB71-8A155F5828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2D71-13CE-4913-8117-6765CB0DC7E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4303-DA01-4DF2-802E-7CA86A6BC3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0CF-EB05-4747-85F8-876958E1B1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621-2284-496D-8A28-87A3CCECCE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D5AD-139D-4040-82D4-704CAF2893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393-5F46-47E3-8086-CDBBA2551B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5882040" y="71424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054480" y="3207600"/>
            <a:ext cx="1033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6730920" y="785880"/>
            <a:ext cx="606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元旦快乐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134928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旦快乐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A96-C87C-4F3A-A208-850E429797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"/>
          <p:cNvSpPr/>
          <p:nvPr/>
        </p:nvSpPr>
        <p:spPr>
          <a:xfrm>
            <a:off x="1640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49266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8"/>
          <p:cNvSpPr/>
          <p:nvPr/>
        </p:nvSpPr>
        <p:spPr>
          <a:xfrm>
            <a:off x="4712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5069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"/>
          <p:cNvSpPr/>
          <p:nvPr/>
        </p:nvSpPr>
        <p:spPr>
          <a:xfrm>
            <a:off x="442908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4783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"/>
          <p:cNvSpPr/>
          <p:nvPr/>
        </p:nvSpPr>
        <p:spPr>
          <a:xfrm>
            <a:off x="4783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"/>
          <p:cNvSpPr/>
          <p:nvPr/>
        </p:nvSpPr>
        <p:spPr>
          <a:xfrm>
            <a:off x="4426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5"/>
          <p:cNvSpPr/>
          <p:nvPr/>
        </p:nvSpPr>
        <p:spPr>
          <a:xfrm>
            <a:off x="6712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8437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2926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"/>
          <p:cNvSpPr/>
          <p:nvPr/>
        </p:nvSpPr>
        <p:spPr>
          <a:xfrm>
            <a:off x="36406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"/>
          <p:cNvSpPr/>
          <p:nvPr/>
        </p:nvSpPr>
        <p:spPr>
          <a:xfrm>
            <a:off x="5283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9"/>
          <p:cNvSpPr/>
          <p:nvPr/>
        </p:nvSpPr>
        <p:spPr>
          <a:xfrm>
            <a:off x="58550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40690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9"/>
          <p:cNvSpPr/>
          <p:nvPr/>
        </p:nvSpPr>
        <p:spPr>
          <a:xfrm>
            <a:off x="6783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9"/>
          <p:cNvSpPr/>
          <p:nvPr/>
        </p:nvSpPr>
        <p:spPr>
          <a:xfrm>
            <a:off x="22831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2568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"/>
          <p:cNvSpPr/>
          <p:nvPr/>
        </p:nvSpPr>
        <p:spPr>
          <a:xfrm>
            <a:off x="6355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2253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31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