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92-5375-4329-96A8-F51F30F7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76C-BA17-4D7B-A428-5A293FF1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E00-F916-4643-98DD-27E3909A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184-3F70-45B5-8052-C740D352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C6E-E2B5-4594-B1C2-48F6D376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6D48-A5B1-48EF-9703-488ECD4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989-72E1-4294-B9B5-F493092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771B-CE8A-4400-A774-AEFFFC8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FFBD-3D73-496C-8E1F-7F1E6BC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190-B8EF-497A-B964-3D831BE0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DBB-1827-46EB-9993-29BFB92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BBD-4D85-4CE2-94E9-FBB7238A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E22A-6E43-4C9A-BBDF-B4E7163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2C41-678D-47F4-BC30-266E098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73A8-BFC8-4A35-B403-9558C83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BDF7-5928-4A50-99D4-0949E5EC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393-5C07-4430-87FD-A4A44149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4660-1E9C-4403-91E6-00850BAB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D518-3E32-4FCF-8612-176D3DB8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7092-06A1-4BD7-A1F6-7434EC7A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AA3F-7358-49CF-A7F0-4FB1C8A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D204-00E3-41B4-9FBE-561DF602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CED-AC75-4B59-89D7-D630FE7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A172-B12D-4D0C-B5EC-1246926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E048-AC51-49BE-9A38-8F67D17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675E-56F8-48BB-9541-4AB46CA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6C47-3C6C-4081-A947-CED21FC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C238-A5AA-4E9F-9D8D-742AC180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40BF-35CA-4648-BD6E-7A864938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0BAD-D99A-426D-A2CE-8E043A7F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C8B-F16C-4AF2-84A9-CCC1058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4C8-9075-4B88-8076-64DB4B4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206-BF58-49FC-BE1A-F93AC025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432-5FFF-48BE-969F-910CB7C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7E1-1A5F-4568-B2FD-FA9C3FC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D4D-E2BF-48AE-BB5E-66CB419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0DE-271D-4BBC-9021-21D2CA79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ffffff"/>
            </a:gs>
            <a:gs pos="100000">
              <a:srgbClr val="00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BF7B-AAAA-469F-A076-E486140E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000-F42D-4223-9181-4E0FF406EB8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231-B3CA-4274-988D-734619A2BE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3652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155760" y="609480"/>
            <a:ext cx="40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的心愿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429000" cy="3362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419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52C-405D-420C-9582-C0F5714009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63600" y="685800"/>
            <a:ext cx="635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  女儿  儿女  女同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  太好了 太累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  早晨   很早  早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  天气   生气  空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  明亮   光亮  亮晶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  回去   来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3772080" cy="2031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665360" y="28954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深了，月亮透过窗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见一个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睡在床上，身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，里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水果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855800" y="22096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自言自语地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去郊游，得去跟太阳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商量商量，让明天有个好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4_23"/>
          <p:cNvPicPr/>
          <p:nvPr/>
        </p:nvPicPr>
        <p:blipFill>
          <a:blip r:embed="rId1"/>
          <a:stretch/>
        </p:blipFill>
        <p:spPr>
          <a:xfrm>
            <a:off x="1066680" y="228600"/>
            <a:ext cx="19051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47040" y="3124080"/>
            <a:ext cx="459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又来到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家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前，只见一个小女孩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照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妈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4952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3886200" cy="17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6320" y="2209680"/>
            <a:ext cx="89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珍珍，早点儿睡吧，不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，明天你还要去郊游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，我不想去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天还是和大家一起去玩玩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是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说您的病还没好呢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200"/>
          <p:cNvSpPr/>
          <p:nvPr/>
        </p:nvSpPr>
        <p:spPr>
          <a:xfrm>
            <a:off x="10800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13320" y="1752480"/>
            <a:ext cx="7312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珍珍，早点儿睡吧，不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太累了，明天你还要去郊游呢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妈妈，我不想去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明天还是和大家一起去玩玩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可是，医生说您的病还没好呢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120320" y="304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清是谁说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228600"/>
            <a:ext cx="388620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53080" y="1828800"/>
            <a:ext cx="691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亮悄悄地离开了窗户，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想：“我去跟雷公公说说，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还是下雨吧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4_23"/>
          <p:cNvPicPr/>
          <p:nvPr/>
        </p:nvPicPr>
        <p:blipFill>
          <a:blip r:embed="rId1"/>
          <a:stretch/>
        </p:blipFill>
        <p:spPr>
          <a:xfrm>
            <a:off x="914400" y="177840"/>
            <a:ext cx="1752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861640" y="1600200"/>
            <a:ext cx="34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天后的一个艳阳天，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们一个都不少，排着队，愉快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在郊游的路上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200"/>
          <p:cNvSpPr/>
          <p:nvPr/>
        </p:nvSpPr>
        <p:spPr>
          <a:xfrm>
            <a:off x="10800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78720" y="1905120"/>
            <a:ext cx="67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  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g     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zh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90120" y="3505320"/>
            <a:ext cx="78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   户   帘   病   装   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09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66680" y="2438280"/>
            <a:ext cx="2743200" cy="1143000"/>
            <a:chOff x="1066680" y="2438280"/>
            <a:chExt cx="2743200" cy="1143000"/>
          </a:xfrm>
        </p:grpSpPr>
        <p:sp>
          <p:nvSpPr>
            <p:cNvPr id="147" name="Line 5"/>
            <p:cNvSpPr/>
            <p:nvPr/>
          </p:nvSpPr>
          <p:spPr>
            <a:xfrm>
              <a:off x="1066680" y="2438280"/>
              <a:ext cx="274320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066680" y="2438280"/>
              <a:ext cx="27432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37720" y="2438280"/>
            <a:ext cx="1676880" cy="1067040"/>
            <a:chOff x="837720" y="2438280"/>
            <a:chExt cx="1676880" cy="1067040"/>
          </a:xfrm>
        </p:grpSpPr>
        <p:sp>
          <p:nvSpPr>
            <p:cNvPr id="150" name="Line 6"/>
            <p:cNvSpPr/>
            <p:nvPr/>
          </p:nvSpPr>
          <p:spPr>
            <a:xfrm flipH="1">
              <a:off x="837720" y="2438280"/>
              <a:ext cx="1676520" cy="1067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838080" y="2438280"/>
              <a:ext cx="167652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362320" y="2438280"/>
            <a:ext cx="1295280" cy="1143000"/>
            <a:chOff x="2362320" y="2438280"/>
            <a:chExt cx="1295280" cy="1143000"/>
          </a:xfrm>
        </p:grpSpPr>
        <p:sp>
          <p:nvSpPr>
            <p:cNvPr id="153" name="Line 7"/>
            <p:cNvSpPr/>
            <p:nvPr/>
          </p:nvSpPr>
          <p:spPr>
            <a:xfrm flipH="1">
              <a:off x="2362320" y="2438280"/>
              <a:ext cx="129528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362320" y="2438280"/>
              <a:ext cx="12952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48320" y="2514600"/>
            <a:ext cx="838080" cy="1066680"/>
            <a:chOff x="4648320" y="2514600"/>
            <a:chExt cx="838080" cy="1066680"/>
          </a:xfrm>
        </p:grpSpPr>
        <p:sp>
          <p:nvSpPr>
            <p:cNvPr id="156" name="Line 8"/>
            <p:cNvSpPr/>
            <p:nvPr/>
          </p:nvSpPr>
          <p:spPr>
            <a:xfrm>
              <a:off x="4648320" y="2514600"/>
              <a:ext cx="838080" cy="10666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648320" y="251460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77120" y="2590920"/>
            <a:ext cx="1828800" cy="914400"/>
            <a:chOff x="6477120" y="2590920"/>
            <a:chExt cx="1828800" cy="914400"/>
          </a:xfrm>
        </p:grpSpPr>
        <p:sp>
          <p:nvSpPr>
            <p:cNvPr id="159" name="Line 9"/>
            <p:cNvSpPr/>
            <p:nvPr/>
          </p:nvSpPr>
          <p:spPr>
            <a:xfrm>
              <a:off x="6477120" y="2590920"/>
              <a:ext cx="1828800" cy="9144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477120" y="2590920"/>
              <a:ext cx="18288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781680" y="2438280"/>
            <a:ext cx="1067040" cy="1219320"/>
            <a:chOff x="6781680" y="2438280"/>
            <a:chExt cx="1067040" cy="1219320"/>
          </a:xfrm>
        </p:grpSpPr>
        <p:sp>
          <p:nvSpPr>
            <p:cNvPr id="162" name="Line 10"/>
            <p:cNvSpPr/>
            <p:nvPr/>
          </p:nvSpPr>
          <p:spPr>
            <a:xfrm flipH="1">
              <a:off x="6781680" y="2438280"/>
              <a:ext cx="1067040" cy="1219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6781680" y="2438280"/>
              <a:ext cx="106704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2:5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