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4DD-AAE2-4000-92F2-499C802D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499-ECC2-4236-ACB8-5D8AD021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6AE36-93EC-4F99-844A-5E2D3EAA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A1863-8F9F-4AD4-B22E-33ACA643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7F717-ABCB-4907-985F-AA400011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96190-9191-4486-9D40-7C2DC3EC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D2453-1719-4846-9078-1392A0E6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7D770-4B98-40B2-982D-7B843F3F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8AA5A-67C8-46BA-BB7D-7A455D04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BF2DB-04CF-4C3C-B23D-367166BA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E1B18-ABA1-44F1-A5A6-CF3331B5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46BA5-0E49-4464-B070-E66822A4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E18-8FF5-402E-AB94-2D9F2710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3EE04-C0F0-46B9-907A-F1331A6E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1BF43-CB20-4D4E-A4C4-33FEC949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809E0-4CCC-4F89-B20E-0367E7E5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8F2A6-201F-49A9-A9B2-110E495A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E1000-020E-4333-B269-8F164545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BE824-442F-45DD-9DA4-75FB5DF9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B4873-4054-4DC8-BBC0-B7B233D2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6FCE5-56E5-4ED0-9F5B-9786FF41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9B1C7-C8DE-4DD2-BBC5-1FD0C63B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ABF86-90A4-4E4B-891B-E0291780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7C9-0F94-4624-9C9E-A84BB036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2B268-32E1-4C1D-96FD-B0304229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E927A-7798-4157-B169-0103CF58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A63A2-F83F-4539-914F-45B49AF6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15619-763B-4E72-9123-A7541939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485DC-BCD2-4E0B-BBC5-C5BD1958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4C621-E4BF-462E-BD0A-FC6275B1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0825C-4BB1-4CA0-8F53-4321287D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FDEA9-F6E0-402F-8A55-6DC67228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1CF7A-5B71-4D7E-BB29-41FE4A70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F7435-7F74-492C-A4B5-0545D523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3944-A7DA-460F-80F4-006BE293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279B4-7FC3-4EAF-A96C-E6C34F13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1002A-D0F1-46F0-AB4E-D15FA31C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FE579-719C-4618-9E6B-0515D5FA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71F2F-9E50-473A-97B0-9F4C3329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F1520-2915-471C-B42B-3184265B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C9EA8-E35C-4C4D-896A-1BCCF9D2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2550-C656-45C8-82D7-0FB06059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814FF-FF31-49B3-A31B-5D30A82B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D2787-C843-4CF6-9676-943BE95C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6CA47-E5C8-4587-A702-12BC403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7362-5D88-4B09-9F2A-6B2B23FF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A4380-A032-44FE-95B5-044C6C98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66E09-9FE8-4A30-9186-3E76B88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888EF-7BC1-40CA-8651-E94B32AD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E54FF-BF35-4BFB-B111-BF5AD28B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C27D6-9FB3-466A-A95F-62CC6C94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BD472-56B7-4D33-B9A4-4F9FAC5F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94B42-DC00-4E40-9D6A-B5D589A9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04E65-D771-4C3E-9406-F23DA069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7D3D0-BC72-4636-B441-CAA55D3C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258CE-9C32-4125-9F3F-B523D438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8DCA-2931-404B-85AF-38CFFBC6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F024A-D215-4EC9-93BE-85E0C451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FDB11-4C33-499B-8C34-787E50F2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0AEC1-01F3-4C0E-94FE-A87DB45A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25213-11E5-441E-8A88-4C711A3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12465-1883-4708-850F-422C1C83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B09EF-179F-4D04-8D09-91EFEB96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3F875-0A5E-4BA4-9F11-87240368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3329-D00D-4765-AE37-CE163CD8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9B20-5F90-4857-924C-CC51A412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40B0-3FBA-462A-BDD2-81DB2130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6970-511C-4F64-A5D1-6069595B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78B-C0E0-41EE-85B4-EFD068E7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8773-089B-4E77-8020-912DD561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1D28-CC55-4F8F-8914-9B1CBD14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C446-AB33-490C-8F70-2510E4AE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7B72-A614-4620-8D10-8C46DEEB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4D05-5C18-4DAC-B3AB-BB335440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9369-744B-4881-8CFC-12158986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5FD1-3496-413B-BFBA-E8DD2684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2067-8F29-461F-9FFB-6AF75C6F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856D-311E-4179-871B-A2B4FD9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CF1C-B172-4639-803B-A5C4216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FEA-20F0-4AE8-87DD-8C98E4E9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02F6-AB6A-4CF8-AD0B-23601436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432B-B0B4-4C72-8BA9-C5B02D9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F250-CF00-443D-89EB-68C9E490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FCF1-C727-4ACC-AA84-988EF89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7086-C4C2-4AF2-B400-609C4346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1EEF-0F54-4BFD-8F49-A9B76800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0408-6C5F-4F92-B9E2-72955092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FCD3-894D-4FBB-BAD8-7E0FEE17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0932-84C7-44A2-8DE2-FCE6673F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9E2A5-E664-45BA-8902-518B02AB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4F0-5B7D-4E69-A22D-1BB1B6C0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88A4D-0358-4E28-A8C3-A2E37ACE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DC05-F82F-46F8-BAA8-43021C52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1BFBF-C343-4955-BA56-F6FD1473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54924-1CAC-45DC-BC2F-19C0E40D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8595-C52B-496F-9C84-6407373D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C685C-9AF7-4D55-A984-FE9AD0F2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C3ED-F61C-4600-A27A-854164EC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505BF-340B-411D-8480-CC5E17B1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1857B-E7EB-471D-B277-7304EBE6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A2D49-C1BB-4EB3-8CB3-12A0BC93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E56-6084-4090-93A7-481FE279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391D-906B-4FFF-9212-FBAE93B9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2BD66-5BEB-43C3-9D6A-31FD4985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2558D-9F42-4926-8E9D-B4E8A11D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60B17-7184-400E-918F-DBA99F10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7FB1-EF29-4D70-ADD3-953133BC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4AA87-D730-4BB3-8578-08DA54B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9383-7FBF-4A11-992B-D9B2856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BBAC8-8BFD-4590-A585-C2316182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B362-1D2B-420B-9587-520D7ADE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0283-5179-431F-9D68-01ECACF5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679-329B-4423-8C57-207142A0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B94D-354F-456F-BBEE-0E4F44C6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6DD8C-643F-4239-9224-23A5F32C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67A01-316B-448C-9589-44CB8410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5167-2C8D-4AA0-820B-FF23E8D3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89036-FEAF-4611-865B-D7AF5B7E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8179F-5AC3-4CA2-9DD0-00D5DADD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78EE1-D976-4CB3-85EE-9EA0F61F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EC41E-B683-4636-973B-9086ED36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1E30D-C93B-4E71-8C5E-8FE27476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3B401-738E-451B-B973-4F6024D7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E60-E51E-4516-A3F5-EF487D9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729FE-4AAC-4192-B2C8-4B5FD943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56D50-7F9A-4FAB-9EF6-FDAA5241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06F1-80A2-425D-BF08-7160ECD2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A5F39-7C9B-4787-BC5D-8055EE6E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2066A-21E0-4FCA-B1B6-1BB897F4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0CDC0-927F-4419-869A-27578685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DA9A2-5492-46BA-99F5-2C6C0AB5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5536A-0B76-4D55-848B-3DE00AB0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BAF9-5BCA-408B-9D92-235DF68E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62A1F-AB51-4F87-8EC8-35CA21A1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415-B07A-4031-A8C8-D6C70138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ADE34-C1ED-4C61-9A11-B86DC2B5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B44A8-E250-4306-9A35-F43B0A6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9B785-258D-4B1E-AA2D-0D6A87BA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3E4C4-B92F-461E-B705-DD610C62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193F4-E997-46F0-A631-E1EEC716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C22CD-3408-427B-B45C-BF84994D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42ADE-A576-45FC-990B-660CCD48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1B33-4DD7-4D94-AE1B-B8D5CEE0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76B56-E4AF-452F-8AF9-B093ECBB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5EF94-AC55-40C5-8CF3-CB057110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8FA-7138-473A-934C-DC1540C5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E5762-D9E4-4996-A1D2-0E416F72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01A57-6283-41F7-8426-83D6C73A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0AF38-A34B-472E-A5FD-FDB9013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A096-F788-4820-B30D-676B119B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D9B13-6CBC-48A1-8EE1-AA1BEBE9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12ED4-27A6-48A1-84EE-C1224CE1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52FBF-777F-4B24-BA1B-EFD741CE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25061-A537-46DB-B533-278BC87D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FC958-A4A5-4F6F-A9BF-0168D97C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63A1F-83FD-4C77-ABC3-0129670E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8A7E-556C-4216-BA3B-DE0A274053B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AA9A-6E16-4936-954F-B53DC18F12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8233-55BB-4000-A0A7-D28CCF4F593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1B82-10BB-46DF-80B8-882432F8392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3FA0-F1AE-481E-8468-CD462242254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BDC5-764E-43DF-A642-BFEB1C7E32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1346-8FE5-489E-98DF-6784D08EA9A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5E62-B068-4514-9C00-E2382D731B6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C902-74C8-4CD5-A72A-D9B1B15FAC3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869A-4D70-4A24-BD49-5678C8DCEF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6AC8-6C42-4587-8EEF-3DDA7CA59B4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AEB5-8C11-4E5D-9D5A-E2C0CFB5F1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4E2B-A36F-488B-9713-88361A3BC56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EC6E-1FCF-403C-B89C-479716D8603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16BA-37B8-4330-9849-1451C4809AF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45AD-AC20-4352-8EF6-11F2B4F5BA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BA4D-4BCC-4848-BA94-3666E2E6206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A29D-3824-4987-ADA1-706B09AE613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F1F3-7923-40A6-84FF-5A25C434141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9787-AEAA-48FB-A502-24DD96FE40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BE09-DEFA-4BC7-B9B4-0887C4A69E8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ADF7-DB83-4C17-B04D-1159A3092D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BBBE-9E4E-4AB6-A321-DAFC16305C5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35D2-1373-47EC-853E-4FF1D6A92C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6751-1C3A-43D3-AE0C-073C2720154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FA59-6EB4-41CF-9676-2ABFF710CC5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9.wmf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jieri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5" descr=""/>
          <p:cNvPicPr/>
          <p:nvPr/>
        </p:nvPicPr>
        <p:blipFill>
          <a:blip r:embed="rId1"/>
          <a:srcRect l="0" t="7211" r="0" b="7211"/>
          <a:stretch/>
        </p:blipFill>
        <p:spPr>
          <a:xfrm>
            <a:off x="-8748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Oval 8"/>
          <p:cNvSpPr/>
          <p:nvPr/>
        </p:nvSpPr>
        <p:spPr>
          <a:xfrm>
            <a:off x="2201760" y="1720800"/>
            <a:ext cx="3251160" cy="3247920"/>
          </a:xfrm>
          <a:prstGeom prst="ellipse">
            <a:avLst/>
          </a:pr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9"/>
          <p:cNvSpPr/>
          <p:nvPr/>
        </p:nvSpPr>
        <p:spPr>
          <a:xfrm>
            <a:off x="1955880" y="1370160"/>
            <a:ext cx="3722760" cy="3879720"/>
          </a:xfrm>
          <a:custGeom>
            <a:avLst/>
            <a:gdLst/>
            <a:ahLst/>
            <a:rect l="l" t="t" r="r" b="b"/>
            <a:pathLst>
              <a:path w="1411" h="1471">
                <a:moveTo>
                  <a:pt x="1406" y="743"/>
                </a:moveTo>
                <a:cubicBezTo>
                  <a:pt x="1408" y="589"/>
                  <a:pt x="1351" y="446"/>
                  <a:pt x="1251" y="322"/>
                </a:cubicBezTo>
                <a:cubicBezTo>
                  <a:pt x="1152" y="200"/>
                  <a:pt x="1032" y="121"/>
                  <a:pt x="882" y="79"/>
                </a:cubicBezTo>
                <a:cubicBezTo>
                  <a:pt x="574" y="0"/>
                  <a:pt x="248" y="132"/>
                  <a:pt x="94" y="421"/>
                </a:cubicBezTo>
                <a:cubicBezTo>
                  <a:pt x="87" y="436"/>
                  <a:pt x="61" y="481"/>
                  <a:pt x="39" y="556"/>
                </a:cubicBezTo>
                <a:cubicBezTo>
                  <a:pt x="17" y="630"/>
                  <a:pt x="0" y="736"/>
                  <a:pt x="18" y="856"/>
                </a:cubicBezTo>
                <a:cubicBezTo>
                  <a:pt x="35" y="976"/>
                  <a:pt x="90" y="1111"/>
                  <a:pt x="189" y="1221"/>
                </a:cubicBezTo>
                <a:cubicBezTo>
                  <a:pt x="287" y="1331"/>
                  <a:pt x="428" y="1414"/>
                  <a:pt x="582" y="1442"/>
                </a:cubicBezTo>
                <a:cubicBezTo>
                  <a:pt x="735" y="1471"/>
                  <a:pt x="895" y="1446"/>
                  <a:pt x="1024" y="1380"/>
                </a:cubicBezTo>
                <a:cubicBezTo>
                  <a:pt x="1154" y="1316"/>
                  <a:pt x="1251" y="1215"/>
                  <a:pt x="1310" y="1117"/>
                </a:cubicBezTo>
                <a:cubicBezTo>
                  <a:pt x="1370" y="1018"/>
                  <a:pt x="1394" y="923"/>
                  <a:pt x="1403" y="856"/>
                </a:cubicBezTo>
                <a:cubicBezTo>
                  <a:pt x="1411" y="790"/>
                  <a:pt x="1406" y="751"/>
                  <a:pt x="1404" y="749"/>
                </a:cubicBezTo>
                <a:cubicBezTo>
                  <a:pt x="1401" y="747"/>
                  <a:pt x="1401" y="841"/>
                  <a:pt x="1374" y="932"/>
                </a:cubicBezTo>
                <a:cubicBezTo>
                  <a:pt x="1349" y="1024"/>
                  <a:pt x="1297" y="1107"/>
                  <a:pt x="1291" y="1114"/>
                </a:cubicBezTo>
                <a:cubicBezTo>
                  <a:pt x="1242" y="1188"/>
                  <a:pt x="1131" y="1317"/>
                  <a:pt x="948" y="1382"/>
                </a:cubicBezTo>
                <a:cubicBezTo>
                  <a:pt x="768" y="1450"/>
                  <a:pt x="523" y="1433"/>
                  <a:pt x="341" y="1307"/>
                </a:cubicBezTo>
                <a:cubicBezTo>
                  <a:pt x="156" y="1185"/>
                  <a:pt x="55" y="972"/>
                  <a:pt x="48" y="797"/>
                </a:cubicBezTo>
                <a:cubicBezTo>
                  <a:pt x="36" y="620"/>
                  <a:pt x="96" y="489"/>
                  <a:pt x="124" y="436"/>
                </a:cubicBezTo>
                <a:cubicBezTo>
                  <a:pt x="229" y="230"/>
                  <a:pt x="434" y="98"/>
                  <a:pt x="651" y="78"/>
                </a:cubicBezTo>
                <a:cubicBezTo>
                  <a:pt x="868" y="55"/>
                  <a:pt x="1099" y="143"/>
                  <a:pt x="1248" y="328"/>
                </a:cubicBezTo>
                <a:cubicBezTo>
                  <a:pt x="1345" y="449"/>
                  <a:pt x="1404" y="589"/>
                  <a:pt x="1403" y="743"/>
                </a:cubicBezTo>
                <a:cubicBezTo>
                  <a:pt x="1403" y="746"/>
                  <a:pt x="1404" y="749"/>
                  <a:pt x="1405" y="749"/>
                </a:cubicBezTo>
                <a:cubicBezTo>
                  <a:pt x="1406" y="749"/>
                  <a:pt x="1406" y="747"/>
                  <a:pt x="1406" y="743"/>
                </a:cubicBezTo>
                <a:close/>
              </a:path>
            </a:pathLst>
          </a:cu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0"/>
          <p:cNvSpPr/>
          <p:nvPr/>
        </p:nvSpPr>
        <p:spPr>
          <a:xfrm>
            <a:off x="2049480" y="1467000"/>
            <a:ext cx="3537000" cy="3690720"/>
          </a:xfrm>
          <a:custGeom>
            <a:avLst/>
            <a:gdLst/>
            <a:ahLst/>
            <a:rect l="l" t="t" r="r" b="b"/>
            <a:pathLst>
              <a:path w="1341" h="1399">
                <a:moveTo>
                  <a:pt x="1337" y="707"/>
                </a:moveTo>
                <a:cubicBezTo>
                  <a:pt x="1339" y="560"/>
                  <a:pt x="1284" y="424"/>
                  <a:pt x="1189" y="306"/>
                </a:cubicBezTo>
                <a:cubicBezTo>
                  <a:pt x="1095" y="190"/>
                  <a:pt x="981" y="115"/>
                  <a:pt x="838" y="76"/>
                </a:cubicBezTo>
                <a:cubicBezTo>
                  <a:pt x="546" y="0"/>
                  <a:pt x="236" y="125"/>
                  <a:pt x="89" y="401"/>
                </a:cubicBezTo>
                <a:cubicBezTo>
                  <a:pt x="83" y="414"/>
                  <a:pt x="58" y="457"/>
                  <a:pt x="37" y="528"/>
                </a:cubicBezTo>
                <a:cubicBezTo>
                  <a:pt x="15" y="599"/>
                  <a:pt x="0" y="699"/>
                  <a:pt x="16" y="814"/>
                </a:cubicBezTo>
                <a:cubicBezTo>
                  <a:pt x="33" y="928"/>
                  <a:pt x="85" y="1056"/>
                  <a:pt x="179" y="1161"/>
                </a:cubicBezTo>
                <a:cubicBezTo>
                  <a:pt x="272" y="1265"/>
                  <a:pt x="407" y="1345"/>
                  <a:pt x="553" y="1371"/>
                </a:cubicBezTo>
                <a:cubicBezTo>
                  <a:pt x="698" y="1399"/>
                  <a:pt x="851" y="1375"/>
                  <a:pt x="974" y="1313"/>
                </a:cubicBezTo>
                <a:cubicBezTo>
                  <a:pt x="1098" y="1251"/>
                  <a:pt x="1190" y="1156"/>
                  <a:pt x="1246" y="1062"/>
                </a:cubicBezTo>
                <a:cubicBezTo>
                  <a:pt x="1303" y="968"/>
                  <a:pt x="1326" y="877"/>
                  <a:pt x="1334" y="814"/>
                </a:cubicBezTo>
                <a:cubicBezTo>
                  <a:pt x="1341" y="751"/>
                  <a:pt x="1337" y="714"/>
                  <a:pt x="1335" y="712"/>
                </a:cubicBezTo>
                <a:cubicBezTo>
                  <a:pt x="1332" y="710"/>
                  <a:pt x="1332" y="799"/>
                  <a:pt x="1306" y="886"/>
                </a:cubicBezTo>
                <a:cubicBezTo>
                  <a:pt x="1282" y="973"/>
                  <a:pt x="1233" y="1052"/>
                  <a:pt x="1227" y="1059"/>
                </a:cubicBezTo>
                <a:cubicBezTo>
                  <a:pt x="1180" y="1129"/>
                  <a:pt x="1075" y="1251"/>
                  <a:pt x="901" y="1313"/>
                </a:cubicBezTo>
                <a:cubicBezTo>
                  <a:pt x="730" y="1378"/>
                  <a:pt x="497" y="1362"/>
                  <a:pt x="325" y="1241"/>
                </a:cubicBezTo>
                <a:cubicBezTo>
                  <a:pt x="149" y="1125"/>
                  <a:pt x="54" y="923"/>
                  <a:pt x="47" y="758"/>
                </a:cubicBezTo>
                <a:cubicBezTo>
                  <a:pt x="35" y="590"/>
                  <a:pt x="93" y="466"/>
                  <a:pt x="119" y="415"/>
                </a:cubicBezTo>
                <a:cubicBezTo>
                  <a:pt x="219" y="220"/>
                  <a:pt x="413" y="94"/>
                  <a:pt x="619" y="75"/>
                </a:cubicBezTo>
                <a:cubicBezTo>
                  <a:pt x="825" y="53"/>
                  <a:pt x="1044" y="136"/>
                  <a:pt x="1186" y="312"/>
                </a:cubicBezTo>
                <a:cubicBezTo>
                  <a:pt x="1279" y="427"/>
                  <a:pt x="1335" y="559"/>
                  <a:pt x="1334" y="706"/>
                </a:cubicBezTo>
                <a:cubicBezTo>
                  <a:pt x="1334" y="709"/>
                  <a:pt x="1335" y="712"/>
                  <a:pt x="1335" y="712"/>
                </a:cubicBezTo>
                <a:cubicBezTo>
                  <a:pt x="1336" y="712"/>
                  <a:pt x="1337" y="710"/>
                  <a:pt x="1337" y="707"/>
                </a:cubicBezTo>
                <a:close/>
              </a:path>
            </a:pathLst>
          </a:cu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2141640" y="1565280"/>
            <a:ext cx="3403440" cy="3498840"/>
          </a:xfrm>
          <a:custGeom>
            <a:avLst/>
            <a:gdLst/>
            <a:ahLst/>
            <a:rect l="l" t="t" r="r" b="b"/>
            <a:pathLst>
              <a:path w="1290" h="1327">
                <a:moveTo>
                  <a:pt x="1268" y="670"/>
                </a:moveTo>
                <a:cubicBezTo>
                  <a:pt x="1269" y="530"/>
                  <a:pt x="1217" y="402"/>
                  <a:pt x="1128" y="290"/>
                </a:cubicBezTo>
                <a:cubicBezTo>
                  <a:pt x="1038" y="181"/>
                  <a:pt x="930" y="109"/>
                  <a:pt x="795" y="72"/>
                </a:cubicBezTo>
                <a:cubicBezTo>
                  <a:pt x="518" y="0"/>
                  <a:pt x="223" y="118"/>
                  <a:pt x="84" y="380"/>
                </a:cubicBezTo>
                <a:cubicBezTo>
                  <a:pt x="78" y="393"/>
                  <a:pt x="54" y="433"/>
                  <a:pt x="35" y="501"/>
                </a:cubicBezTo>
                <a:cubicBezTo>
                  <a:pt x="14" y="568"/>
                  <a:pt x="0" y="663"/>
                  <a:pt x="15" y="772"/>
                </a:cubicBezTo>
                <a:cubicBezTo>
                  <a:pt x="31" y="880"/>
                  <a:pt x="80" y="1001"/>
                  <a:pt x="170" y="1101"/>
                </a:cubicBezTo>
                <a:cubicBezTo>
                  <a:pt x="258" y="1200"/>
                  <a:pt x="386" y="1276"/>
                  <a:pt x="524" y="1301"/>
                </a:cubicBezTo>
                <a:cubicBezTo>
                  <a:pt x="662" y="1327"/>
                  <a:pt x="807" y="1305"/>
                  <a:pt x="924" y="1245"/>
                </a:cubicBezTo>
                <a:cubicBezTo>
                  <a:pt x="1041" y="1187"/>
                  <a:pt x="1129" y="1096"/>
                  <a:pt x="1182" y="1007"/>
                </a:cubicBezTo>
                <a:cubicBezTo>
                  <a:pt x="1290" y="825"/>
                  <a:pt x="1268" y="675"/>
                  <a:pt x="1265" y="675"/>
                </a:cubicBezTo>
                <a:cubicBezTo>
                  <a:pt x="1263" y="674"/>
                  <a:pt x="1263" y="758"/>
                  <a:pt x="1238" y="840"/>
                </a:cubicBezTo>
                <a:cubicBezTo>
                  <a:pt x="1215" y="922"/>
                  <a:pt x="1168" y="997"/>
                  <a:pt x="1163" y="1004"/>
                </a:cubicBezTo>
                <a:cubicBezTo>
                  <a:pt x="1118" y="1070"/>
                  <a:pt x="1018" y="1186"/>
                  <a:pt x="853" y="1244"/>
                </a:cubicBezTo>
                <a:cubicBezTo>
                  <a:pt x="692" y="1305"/>
                  <a:pt x="472" y="1290"/>
                  <a:pt x="309" y="1176"/>
                </a:cubicBezTo>
                <a:cubicBezTo>
                  <a:pt x="143" y="1066"/>
                  <a:pt x="53" y="875"/>
                  <a:pt x="46" y="718"/>
                </a:cubicBezTo>
                <a:cubicBezTo>
                  <a:pt x="35" y="559"/>
                  <a:pt x="89" y="442"/>
                  <a:pt x="114" y="394"/>
                </a:cubicBezTo>
                <a:cubicBezTo>
                  <a:pt x="209" y="210"/>
                  <a:pt x="392" y="91"/>
                  <a:pt x="587" y="72"/>
                </a:cubicBezTo>
                <a:cubicBezTo>
                  <a:pt x="782" y="51"/>
                  <a:pt x="989" y="130"/>
                  <a:pt x="1124" y="296"/>
                </a:cubicBezTo>
                <a:cubicBezTo>
                  <a:pt x="1212" y="405"/>
                  <a:pt x="1266" y="530"/>
                  <a:pt x="1265" y="669"/>
                </a:cubicBezTo>
                <a:cubicBezTo>
                  <a:pt x="1265" y="672"/>
                  <a:pt x="1265" y="675"/>
                  <a:pt x="1266" y="675"/>
                </a:cubicBezTo>
                <a:cubicBezTo>
                  <a:pt x="1267" y="675"/>
                  <a:pt x="1268" y="673"/>
                  <a:pt x="1268" y="670"/>
                </a:cubicBezTo>
                <a:close/>
              </a:path>
            </a:pathLst>
          </a:cu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12"/>
          <p:cNvSpPr/>
          <p:nvPr/>
        </p:nvSpPr>
        <p:spPr>
          <a:xfrm>
            <a:off x="2193840" y="1662120"/>
            <a:ext cx="3259080" cy="3309840"/>
          </a:xfrm>
          <a:custGeom>
            <a:avLst/>
            <a:gdLst/>
            <a:ahLst/>
            <a:rect l="l" t="t" r="r" b="b"/>
            <a:pathLst>
              <a:path w="1235" h="1255">
                <a:moveTo>
                  <a:pt x="1214" y="633"/>
                </a:moveTo>
                <a:cubicBezTo>
                  <a:pt x="1215" y="501"/>
                  <a:pt x="1166" y="380"/>
                  <a:pt x="1081" y="275"/>
                </a:cubicBezTo>
                <a:cubicBezTo>
                  <a:pt x="996" y="171"/>
                  <a:pt x="894" y="103"/>
                  <a:pt x="766" y="68"/>
                </a:cubicBezTo>
                <a:cubicBezTo>
                  <a:pt x="504" y="0"/>
                  <a:pt x="226" y="111"/>
                  <a:pt x="94" y="359"/>
                </a:cubicBezTo>
                <a:cubicBezTo>
                  <a:pt x="85" y="381"/>
                  <a:pt x="0" y="520"/>
                  <a:pt x="29" y="730"/>
                </a:cubicBezTo>
                <a:cubicBezTo>
                  <a:pt x="44" y="832"/>
                  <a:pt x="90" y="947"/>
                  <a:pt x="175" y="1041"/>
                </a:cubicBezTo>
                <a:cubicBezTo>
                  <a:pt x="259" y="1135"/>
                  <a:pt x="379" y="1206"/>
                  <a:pt x="510" y="1230"/>
                </a:cubicBezTo>
                <a:cubicBezTo>
                  <a:pt x="641" y="1255"/>
                  <a:pt x="778" y="1234"/>
                  <a:pt x="888" y="1178"/>
                </a:cubicBezTo>
                <a:cubicBezTo>
                  <a:pt x="999" y="1123"/>
                  <a:pt x="1083" y="1037"/>
                  <a:pt x="1133" y="952"/>
                </a:cubicBezTo>
                <a:cubicBezTo>
                  <a:pt x="1235" y="780"/>
                  <a:pt x="1214" y="638"/>
                  <a:pt x="1211" y="638"/>
                </a:cubicBezTo>
                <a:cubicBezTo>
                  <a:pt x="1208" y="637"/>
                  <a:pt x="1209" y="716"/>
                  <a:pt x="1185" y="794"/>
                </a:cubicBezTo>
                <a:cubicBezTo>
                  <a:pt x="1164" y="872"/>
                  <a:pt x="1119" y="943"/>
                  <a:pt x="1114" y="949"/>
                </a:cubicBezTo>
                <a:cubicBezTo>
                  <a:pt x="1072" y="1011"/>
                  <a:pt x="977" y="1120"/>
                  <a:pt x="821" y="1175"/>
                </a:cubicBezTo>
                <a:cubicBezTo>
                  <a:pt x="669" y="1232"/>
                  <a:pt x="461" y="1218"/>
                  <a:pt x="308" y="1110"/>
                </a:cubicBezTo>
                <a:cubicBezTo>
                  <a:pt x="151" y="1007"/>
                  <a:pt x="66" y="826"/>
                  <a:pt x="60" y="679"/>
                </a:cubicBezTo>
                <a:cubicBezTo>
                  <a:pt x="50" y="529"/>
                  <a:pt x="101" y="419"/>
                  <a:pt x="124" y="373"/>
                </a:cubicBezTo>
                <a:cubicBezTo>
                  <a:pt x="213" y="199"/>
                  <a:pt x="386" y="87"/>
                  <a:pt x="570" y="69"/>
                </a:cubicBezTo>
                <a:cubicBezTo>
                  <a:pt x="754" y="49"/>
                  <a:pt x="950" y="123"/>
                  <a:pt x="1077" y="280"/>
                </a:cubicBezTo>
                <a:cubicBezTo>
                  <a:pt x="1160" y="383"/>
                  <a:pt x="1212" y="501"/>
                  <a:pt x="1210" y="633"/>
                </a:cubicBezTo>
                <a:cubicBezTo>
                  <a:pt x="1210" y="635"/>
                  <a:pt x="1211" y="638"/>
                  <a:pt x="1212" y="638"/>
                </a:cubicBezTo>
                <a:cubicBezTo>
                  <a:pt x="1213" y="638"/>
                  <a:pt x="1214" y="636"/>
                  <a:pt x="1214" y="633"/>
                </a:cubicBezTo>
                <a:close/>
              </a:path>
            </a:pathLst>
          </a:cu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F:\胡桃1\个人素材\龙外.png"/>
          <p:cNvPicPr/>
          <p:nvPr/>
        </p:nvPicPr>
        <p:blipFill>
          <a:blip r:embed="rId2"/>
          <a:stretch/>
        </p:blipFill>
        <p:spPr>
          <a:xfrm>
            <a:off x="1604880" y="743040"/>
            <a:ext cx="4919760" cy="4832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F:\胡桃1\个人素材\金龙.png"/>
          <p:cNvPicPr/>
          <p:nvPr/>
        </p:nvPicPr>
        <p:blipFill>
          <a:blip r:embed="rId3"/>
          <a:stretch/>
        </p:blipFill>
        <p:spPr>
          <a:xfrm>
            <a:off x="2460600" y="1700280"/>
            <a:ext cx="3251160" cy="3298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F:\胡桃1\个人素材\环.png"/>
          <p:cNvPicPr/>
          <p:nvPr/>
        </p:nvPicPr>
        <p:blipFill>
          <a:blip r:embed="rId4"/>
          <a:stretch/>
        </p:blipFill>
        <p:spPr>
          <a:xfrm>
            <a:off x="2298600" y="1562040"/>
            <a:ext cx="35434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11"/>
          <p:cNvGrpSpPr/>
          <p:nvPr/>
        </p:nvGrpSpPr>
        <p:grpSpPr>
          <a:xfrm>
            <a:off x="2808360" y="1954080"/>
            <a:ext cx="2612880" cy="2749680"/>
            <a:chOff x="2808360" y="1954080"/>
            <a:chExt cx="2612880" cy="2749680"/>
          </a:xfrm>
        </p:grpSpPr>
        <p:pic>
          <p:nvPicPr>
            <p:cNvPr id="543" name="Picture 3" descr="F:\胡桃1\个人素材\心.png"/>
            <p:cNvPicPr/>
            <p:nvPr/>
          </p:nvPicPr>
          <p:blipFill>
            <a:blip r:embed="rId5"/>
            <a:stretch/>
          </p:blipFill>
          <p:spPr>
            <a:xfrm>
              <a:off x="2808360" y="1954080"/>
              <a:ext cx="2612880" cy="27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3" descr=""/>
            <p:cNvPicPr/>
            <p:nvPr/>
          </p:nvPicPr>
          <p:blipFill>
            <a:blip r:embed="rId6"/>
            <a:stretch/>
          </p:blipFill>
          <p:spPr>
            <a:xfrm>
              <a:off x="3371760" y="2339640"/>
              <a:ext cx="1536480" cy="2075040"/>
            </a:xfrm>
            <a:prstGeom prst="rect">
              <a:avLst/>
            </a:prstGeom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</p:pic>
      </p:grpSp>
      <p:pic>
        <p:nvPicPr>
          <p:cNvPr id="545" name="Picture 4" descr="C:\Documents and Settings\Administrator.402FF8F93AC34C9\桌面\dai.png"/>
          <p:cNvPicPr/>
          <p:nvPr/>
        </p:nvPicPr>
        <p:blipFill>
          <a:blip r:embed="rId7"/>
          <a:stretch/>
        </p:blipFill>
        <p:spPr>
          <a:xfrm>
            <a:off x="-30240" y="3467160"/>
            <a:ext cx="4448160" cy="15714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C:\Documents and Settings\Administrator.402FF8F93AC34C9\桌面\å«¦å¨¥-15.png"/>
          <p:cNvPicPr/>
          <p:nvPr/>
        </p:nvPicPr>
        <p:blipFill>
          <a:blip r:embed="rId8"/>
          <a:stretch/>
        </p:blipFill>
        <p:spPr>
          <a:xfrm>
            <a:off x="-190440" y="1266840"/>
            <a:ext cx="4343400" cy="60879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9"/>
          <a:stretch/>
        </p:blipFill>
        <p:spPr>
          <a:xfrm>
            <a:off x="-971640" y="5613480"/>
            <a:ext cx="10631520" cy="130176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17"/>
          <p:cNvGrpSpPr/>
          <p:nvPr/>
        </p:nvGrpSpPr>
        <p:grpSpPr>
          <a:xfrm>
            <a:off x="5749200" y="-712800"/>
            <a:ext cx="347040" cy="391680"/>
            <a:chOff x="5749200" y="-712800"/>
            <a:chExt cx="347040" cy="391680"/>
          </a:xfrm>
        </p:grpSpPr>
        <p:pic>
          <p:nvPicPr>
            <p:cNvPr id="549" name="任意多边形 20" descr=""/>
            <p:cNvPicPr/>
            <p:nvPr/>
          </p:nvPicPr>
          <p:blipFill>
            <a:blip r:embed="rId10"/>
            <a:stretch/>
          </p:blipFill>
          <p:spPr>
            <a:xfrm>
              <a:off x="5797440" y="-686880"/>
              <a:ext cx="2253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 Box 19"/>
            <p:cNvSpPr/>
            <p:nvPr/>
          </p:nvSpPr>
          <p:spPr>
            <a:xfrm rot="7567200">
              <a:off x="5739120" y="-597960"/>
              <a:ext cx="3668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1" name="Group 20"/>
          <p:cNvGrpSpPr/>
          <p:nvPr/>
        </p:nvGrpSpPr>
        <p:grpSpPr>
          <a:xfrm>
            <a:off x="5297040" y="-1364400"/>
            <a:ext cx="338400" cy="256680"/>
            <a:chOff x="5297040" y="-1364400"/>
            <a:chExt cx="338400" cy="256680"/>
          </a:xfrm>
        </p:grpSpPr>
        <p:pic>
          <p:nvPicPr>
            <p:cNvPr id="552" name="任意多边形 21" descr=""/>
            <p:cNvPicPr/>
            <p:nvPr/>
          </p:nvPicPr>
          <p:blipFill>
            <a:blip r:embed="rId11"/>
            <a:stretch/>
          </p:blipFill>
          <p:spPr>
            <a:xfrm>
              <a:off x="5303880" y="-1326960"/>
              <a:ext cx="3157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 Box 22"/>
            <p:cNvSpPr/>
            <p:nvPr/>
          </p:nvSpPr>
          <p:spPr>
            <a:xfrm rot="760200">
              <a:off x="5314680" y="-1333440"/>
              <a:ext cx="3027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4" name="Group 23"/>
          <p:cNvGrpSpPr/>
          <p:nvPr/>
        </p:nvGrpSpPr>
        <p:grpSpPr>
          <a:xfrm>
            <a:off x="8302680" y="-441000"/>
            <a:ext cx="169200" cy="363240"/>
            <a:chOff x="8302680" y="-441000"/>
            <a:chExt cx="169200" cy="363240"/>
          </a:xfrm>
        </p:grpSpPr>
        <p:pic>
          <p:nvPicPr>
            <p:cNvPr id="555" name="任意多边形 22" descr=""/>
            <p:cNvPicPr/>
            <p:nvPr/>
          </p:nvPicPr>
          <p:blipFill>
            <a:blip r:embed="rId12"/>
            <a:stretch/>
          </p:blipFill>
          <p:spPr>
            <a:xfrm>
              <a:off x="8315280" y="-435240"/>
              <a:ext cx="14616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 Box 25"/>
            <p:cNvSpPr/>
            <p:nvPr/>
          </p:nvSpPr>
          <p:spPr>
            <a:xfrm rot="5646600">
              <a:off x="8211600" y="-332640"/>
              <a:ext cx="351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7" name="Group 26"/>
          <p:cNvGrpSpPr/>
          <p:nvPr/>
        </p:nvGrpSpPr>
        <p:grpSpPr>
          <a:xfrm>
            <a:off x="975600" y="-1045800"/>
            <a:ext cx="544680" cy="310680"/>
            <a:chOff x="975600" y="-1045800"/>
            <a:chExt cx="544680" cy="310680"/>
          </a:xfrm>
        </p:grpSpPr>
        <p:pic>
          <p:nvPicPr>
            <p:cNvPr id="558" name="任意多边形 23" descr=""/>
            <p:cNvPicPr/>
            <p:nvPr/>
          </p:nvPicPr>
          <p:blipFill>
            <a:blip r:embed="rId13"/>
            <a:stretch/>
          </p:blipFill>
          <p:spPr>
            <a:xfrm>
              <a:off x="987480" y="-985680"/>
              <a:ext cx="5126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28"/>
            <p:cNvSpPr/>
            <p:nvPr/>
          </p:nvSpPr>
          <p:spPr>
            <a:xfrm rot="760200">
              <a:off x="991440" y="-991800"/>
              <a:ext cx="512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0" name="Group 29"/>
          <p:cNvGrpSpPr/>
          <p:nvPr/>
        </p:nvGrpSpPr>
        <p:grpSpPr>
          <a:xfrm>
            <a:off x="7103160" y="-417600"/>
            <a:ext cx="344520" cy="280080"/>
            <a:chOff x="7103160" y="-417600"/>
            <a:chExt cx="344520" cy="280080"/>
          </a:xfrm>
        </p:grpSpPr>
        <p:pic>
          <p:nvPicPr>
            <p:cNvPr id="561" name="任意多边形 24" descr=""/>
            <p:cNvPicPr/>
            <p:nvPr/>
          </p:nvPicPr>
          <p:blipFill>
            <a:blip r:embed="rId14"/>
            <a:stretch/>
          </p:blipFill>
          <p:spPr>
            <a:xfrm>
              <a:off x="7149600" y="-395280"/>
              <a:ext cx="2635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31"/>
            <p:cNvSpPr/>
            <p:nvPr/>
          </p:nvSpPr>
          <p:spPr>
            <a:xfrm rot="19881600">
              <a:off x="7119720" y="-352080"/>
              <a:ext cx="311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Group 32"/>
          <p:cNvGrpSpPr/>
          <p:nvPr/>
        </p:nvGrpSpPr>
        <p:grpSpPr>
          <a:xfrm>
            <a:off x="4134600" y="-672840"/>
            <a:ext cx="504360" cy="530280"/>
            <a:chOff x="4134600" y="-672840"/>
            <a:chExt cx="504360" cy="530280"/>
          </a:xfrm>
        </p:grpSpPr>
        <p:pic>
          <p:nvPicPr>
            <p:cNvPr id="564" name="任意多边形 25" descr=""/>
            <p:cNvPicPr/>
            <p:nvPr/>
          </p:nvPicPr>
          <p:blipFill>
            <a:blip r:embed="rId15"/>
            <a:stretch/>
          </p:blipFill>
          <p:spPr>
            <a:xfrm>
              <a:off x="4200480" y="-633600"/>
              <a:ext cx="352440" cy="43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 Box 34"/>
            <p:cNvSpPr/>
            <p:nvPr/>
          </p:nvSpPr>
          <p:spPr>
            <a:xfrm rot="7863000">
              <a:off x="4136760" y="-524160"/>
              <a:ext cx="500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Group 35"/>
          <p:cNvGrpSpPr/>
          <p:nvPr/>
        </p:nvGrpSpPr>
        <p:grpSpPr>
          <a:xfrm>
            <a:off x="3184200" y="-717840"/>
            <a:ext cx="599400" cy="437040"/>
            <a:chOff x="3184200" y="-717840"/>
            <a:chExt cx="599400" cy="437040"/>
          </a:xfrm>
        </p:grpSpPr>
        <p:pic>
          <p:nvPicPr>
            <p:cNvPr id="567" name="任意多边形 26" descr=""/>
            <p:cNvPicPr/>
            <p:nvPr/>
          </p:nvPicPr>
          <p:blipFill>
            <a:blip r:embed="rId16"/>
            <a:stretch/>
          </p:blipFill>
          <p:spPr>
            <a:xfrm>
              <a:off x="3206880" y="-620640"/>
              <a:ext cx="541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37"/>
            <p:cNvSpPr/>
            <p:nvPr/>
          </p:nvSpPr>
          <p:spPr>
            <a:xfrm rot="1454400">
              <a:off x="3206880" y="-614160"/>
              <a:ext cx="554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Group 38"/>
          <p:cNvGrpSpPr/>
          <p:nvPr/>
        </p:nvGrpSpPr>
        <p:grpSpPr>
          <a:xfrm>
            <a:off x="7243920" y="-1484640"/>
            <a:ext cx="428760" cy="337320"/>
            <a:chOff x="7243920" y="-1484640"/>
            <a:chExt cx="428760" cy="337320"/>
          </a:xfrm>
        </p:grpSpPr>
        <p:pic>
          <p:nvPicPr>
            <p:cNvPr id="570" name="任意多边形 27" descr=""/>
            <p:cNvPicPr/>
            <p:nvPr/>
          </p:nvPicPr>
          <p:blipFill>
            <a:blip r:embed="rId17"/>
            <a:stretch/>
          </p:blipFill>
          <p:spPr>
            <a:xfrm>
              <a:off x="7260840" y="-1406520"/>
              <a:ext cx="3798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40"/>
            <p:cNvSpPr/>
            <p:nvPr/>
          </p:nvSpPr>
          <p:spPr>
            <a:xfrm rot="1714200">
              <a:off x="7259760" y="-1399680"/>
              <a:ext cx="39672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Group 41"/>
          <p:cNvGrpSpPr/>
          <p:nvPr/>
        </p:nvGrpSpPr>
        <p:grpSpPr>
          <a:xfrm>
            <a:off x="-311040" y="-876240"/>
            <a:ext cx="446400" cy="469800"/>
            <a:chOff x="-311040" y="-876240"/>
            <a:chExt cx="446400" cy="469800"/>
          </a:xfrm>
        </p:grpSpPr>
        <p:pic>
          <p:nvPicPr>
            <p:cNvPr id="573" name="任意多边形 28" descr=""/>
            <p:cNvPicPr/>
            <p:nvPr/>
          </p:nvPicPr>
          <p:blipFill>
            <a:blip r:embed="rId18"/>
            <a:stretch/>
          </p:blipFill>
          <p:spPr>
            <a:xfrm>
              <a:off x="-260280" y="-842760"/>
              <a:ext cx="31572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43"/>
            <p:cNvSpPr/>
            <p:nvPr/>
          </p:nvSpPr>
          <p:spPr>
            <a:xfrm rot="7863000">
              <a:off x="-309960" y="-743400"/>
              <a:ext cx="4446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Group 44"/>
          <p:cNvGrpSpPr/>
          <p:nvPr/>
        </p:nvGrpSpPr>
        <p:grpSpPr>
          <a:xfrm>
            <a:off x="4942440" y="-1275120"/>
            <a:ext cx="312120" cy="328320"/>
            <a:chOff x="4942440" y="-1275120"/>
            <a:chExt cx="312120" cy="328320"/>
          </a:xfrm>
        </p:grpSpPr>
        <p:pic>
          <p:nvPicPr>
            <p:cNvPr id="576" name="任意多边形 29" descr=""/>
            <p:cNvPicPr/>
            <p:nvPr/>
          </p:nvPicPr>
          <p:blipFill>
            <a:blip r:embed="rId19"/>
            <a:stretch/>
          </p:blipFill>
          <p:spPr>
            <a:xfrm>
              <a:off x="4998960" y="-1252800"/>
              <a:ext cx="21924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46"/>
            <p:cNvSpPr/>
            <p:nvPr/>
          </p:nvSpPr>
          <p:spPr>
            <a:xfrm rot="13736400">
              <a:off x="4942800" y="-1182240"/>
              <a:ext cx="311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8" name="musi3625.wav" descr=""/>
          <p:cNvPicPr/>
          <p:nvPr/>
        </p:nvPicPr>
        <p:blipFill>
          <a:blip r:embed="rId20"/>
          <a:stretch/>
        </p:blipFill>
        <p:spPr>
          <a:xfrm>
            <a:off x="3848040" y="-9064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1438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14384"/>
          <p:cNvSpPr/>
          <p:nvPr/>
        </p:nvSpPr>
        <p:spPr>
          <a:xfrm>
            <a:off x="1595520" y="40464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月满经纶寄思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7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9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path" presetID="63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1.38889E-006 2.86067E-006 L 0.03316 2.86067E-006 E">
                                      <p:cBhvr>
                                        <p:cTn id="1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1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1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1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4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7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7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7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5.55556E-007 1.7341E-006 C 0.0125 0.00277 0.02552 0.003 0.0375 0.00832 C 0.04462 0.01156 0.05625 0.02497 0.05625 0.0252 C 0.05347 0.04 0.07431 0.0985 0.03316 0.13433 C 0.00955 0.16693 -0.04254 0.2037 -0.0717 0.24231 C -0.10139 0.29295 -0.13681 0.32462 -0.1526 0.38589 C -0.1783 0.47653 -0.20538 0.53433 -0.21302 0.70104 C -0.22083 0.80023 -0.26007 0.87422 -0.27344 0.8941 C -0.29444 0.91977 -0.31076 0.94774 -0.32934 0.95306 C -0.3566 0.96878 -0.39427 0.99167 -0.41754 1.00115 C -0.44861 1.04601 -0.48438 1.09063 -0.49705 1.13433 L -0.49375 1.26358 E">
                                      <p:cBhvr>
                                        <p:cTn id="38" dur="7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45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6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6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6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2.77778E-007 -3.7037E-006 C 0.01181 0.00278 0.02552 0.00301 0.03681 0.00834 C 0.04444 0.01158 0.05625 0.025 0.05625 0.02524 C 0.05347 0.03982 0.04687 0.08102 0.03681 0.09167 C 0.0184 0.12547 -0.0191 0.16783 -0.05399 0.22778 C -0.07639 0.28195 -0.15122 0.3875 -0.1724 0.45301 C -0.18819 0.49352 -0.20399 0.54329 -0.21233 0.61528 C -0.21198 0.65903 -0.19392 0.83635 -0.22205 0.88565 C -0.24878 0.9257 -0.34201 0.94838 -0.38594 0.9875 C -0.41163 0.99977 -0.47118 1.11135 -0.48594 1.12084 C -0.50486 1.15417 -0.52604 1.17153 -0.53125 1.20417 C -0.51337 1.22709 -0.52969 1.21551 -0.51563 1.225 L -0.49375 1.26667 E">
                                      <p:cBhvr>
                                        <p:cTn id="45" dur="7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5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6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6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 repeatCount="indefinite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11806 -0.00834 C 0.13056 -0.00556 0.14358 -0.00533 0.15556 1.85185E-006 C 0.16268 0.00324 0.17431 0.01666 0.17431 0.0169 C 0.17153 0.03148 0.16563 0.07268 0.15556 0.08333 C 0.13994 0.10046 0.10938 0.08403 0.08021 0.12222 C 0.0507 0.15324 -0.01145 0.21296 -0.02187 0.26991 C -0.04427 0.32338 -0.00607 0.42592 0.01771 0.46435 C 0.03369 0.53403 0.06059 0.65254 0.06372 0.73032 C 0.06684 0.79514 0.08056 0.81713 0.06546 0.85972 C 0.05035 0.90208 0.02014 0.96157 -0.02673 0.98634 C -0.0875 1.00856 -0.16163 1.00509 -0.21562 1.00764 C -0.27586 1.01782 -0.35538 1.06875 -0.37743 1.09838 C -0.40781 1.13287 -0.39791 1.1875 -0.39756 1.21366 L -0.37569 1.25532 E">
                                      <p:cBhvr>
                                        <p:cTn id="52" dur="7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6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6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2.77778E-007 -5.78035E-007 C 0.0125 0.00278 0.02552 0.00301 0.0375 0.00832 C 0.04462 0.01156 0.05625 0.02497 0.05625 0.0252 C 0.05347 0.03977 0.04757 0.08093 0.0375 0.09156 C 0.02187 0.10913 -0.01181 0.10752 -0.03785 0.13087 C -0.05833 0.15237 -0.06858 0.18913 -0.08524 0.22127 C -0.0941 0.24786 -0.14271 0.29757 -0.1375 0.32416 C -0.13854 0.34821 -0.13594 0.37249 -0.14063 0.39538 C -0.1434 0.40809 -0.16406 0.43977 -0.17188 0.45249 C -0.1849 0.47653 -0.19167 0.52763 -0.20052 0.54428 C -0.21719 0.57688 -0.21024 0.59769 -0.22431 0.61873 C -0.22865 0.62613 -0.21337 0.68578 -0.21753 0.69087 C -0.21528 0.71145 -0.23958 0.73734 -0.23958 0.76532 C -0.22674 0.79168 -0.26007 0.87538 -0.27344 0.89503 C -0.29444 0.92116 -0.31076 0.9489 -0.32934 0.95422 C -0.3566 0.96994 -0.39427 0.99283 -0.41753 1.00231 C -0.42865 1.01225 -0.45608 1.00578 -0.46875 1.01133 C -0.48663 1.04717 -0.46285 1.00509 -0.48438 1.02798 C -0.49236 1.03653 -0.49896 1.0474 -0.50625 1.05711 C -0.5125 1.06543 -0.52188 1.0696 -0.52813 1.07769 C -0.53281 1.08416 -0.53715 1.0911 -0.54063 1.09873 C -0.54549 1.10936 -0.55313 1.13179 -0.55313 1.13179 C -0.55208 1.14867 -0.5533 1.16578 -0.55 1.18127 C -0.54809 1.19098 -0.53559 1.19607 -0.53125 1.20278 C -0.51337 1.22567 -0.52969 1.2141 -0.51563 1.22358 L -0.49375 1.2652 E">
                                      <p:cBhvr>
                                        <p:cTn id="59" dur="7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6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6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6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path" presetID="0" repeatCount="indefinite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05712 2.96296E-006 C 0.0533 0.00347 0.04914 0.0037 0.04532 0.01018 C 0.04306 0.01412 0.03941 0.03009 0.03941 0.03032 C 0.04028 0.04768 0.04202 0.09699 0.04532 0.10972 C 0.05278 0.14884 0.08039 0.1993 0.08959 0.2449 C 0.09914 0.30625 0.11164 0.425 0.11164 0.48125 C 0.11164 0.60717 0.10486 0.73657 0.12066 0.8625 C 0.13351 0.95787 0.18282 1.09977 0.19723 1.23078 C 0.20591 1.29282 0.21042 1.45879 0.21459 1.5125 E">
                                      <p:cBhvr>
                                        <p:cTn id="66" dur="7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5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46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6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6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path" presetID="0" repeatCount="indefinite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1.94444E-006 -5.55112E-017 C 0.00816 0.00301 0.01632 0.00347 0.0243 0.00903 C 0.02882 0.0125 -0.1625 0.15972 -0.1625 0.15995 C -0.19566 0.24051 -0.25625 0.37222 -0.22813 0.49884 C -0.23715 0.57037 -0.10695 0.74514 -0.14375 0.84838 C -0.17257 0.91806 -0.30156 1.01366 -0.33125 1.09444 C -0.35139 1.1419 -0.32483 1.24653 -0.33299 1.29329 L -0.31893 1.3375 E">
                                      <p:cBhvr>
                                        <p:cTn id="73" dur="7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45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49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9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9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0" repeatCount="indefinite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1.66667E-006 3.64162E-006 C 0.0125 0.00277 0.02552 0.003 0.0375 0.00832 C 0.04462 0.01156 0.05625 0.0252 0.05625 0.02543 C 0.04375 0.04555 0.08542 0.08346 0.08299 0.13364 C 0.08056 0.18381 0.06997 0.27537 0.04167 0.32601 C 0.00434 0.36948 -0.05121 0.41711 -0.0868 0.43815 C -0.12726 0.47445 -0.15677 0.53086 -0.17743 0.56485 C -0.20851 0.64092 -0.18698 0.75815 -0.21232 0.82289 C -0.275 0.91722 -0.41059 1.04693 -0.47257 1.08277 C -0.52569 1.14589 -0.52465 1.17872 -0.53125 1.20115 C -0.51337 1.22404 -0.52969 1.21248 -0.51562 1.22196 L -0.49375 1.26358 E">
                                      <p:cBhvr>
                                        <p:cTn id="80" dur="7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5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47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7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7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0" repeatCount="indefinite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4.72222E-006 2.59259E-006 C 0.0125 0.00278 0.02552 0.00301 0.0375 0.00833 C 0.04461 0.01157 0.05625 0.025 0.05625 0.02523 C 0.05347 0.03981 0.04756 0.08102 0.0375 0.09166 C 0.02187 0.10926 -0.00869 0.09213 -0.03785 0.13102 C -0.05313 0.16342 -0.04011 0.23125 -0.05469 0.28912 C -0.07709 0.3419 -0.10122 0.43541 -0.12553 0.47754 C -0.1658 0.5243 -0.19549 0.57407 -0.21459 0.62245 C -0.24844 0.70208 -0.19028 0.86435 -0.22431 0.92569 C -0.25712 0.99097 -0.30452 1.02407 -0.35886 1.0669 C -0.39671 1.11296 -0.42327 1.17986 -0.45191 1.20208 C -0.47448 1.23565 -0.49445 1.25231 -0.49375 1.26666 E">
                                      <p:cBhvr>
                                        <p:cTn id="87" dur="7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5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 repeatCount="indefinite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8.33333E-007 -2.59259E-006 C 0.00556 0.02408 0.0309 0.04028 0.04549 0.08195 C 0.05243 0.09769 0.08785 0.13727 0.09913 0.18935 C 0.11076 0.24121 0.11667 0.33079 0.11441 0.39375 C 0.12031 0.42685 0.08195 0.52894 0.08542 0.56482 C 0.09288 0.63033 0.10486 0.69838 0.13264 0.7382 C 0.14583 0.77315 0.18125 0.78218 0.19653 0.83403 C 0.20365 0.84329 0.22708 0.97477 0.22361 1.04746 C 0.22031 1.12014 0.18646 1.22431 0.17674 1.2706 E">
                                      <p:cBhvr>
                                        <p:cTn id="94" dur="7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5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6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36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6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path" presetID="0" repeatCount="indefinite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.59149 -0.12569 C 0.58767 -0.12222 0.5835 -0.12199 0.57968 -0.1155 C 0.57743 -0.11157 0.57378 -0.0956 0.57378 -0.09537 C 0.57465 -0.078 0.57638 -0.0287 0.57968 -0.01597 C 0.58715 0.02315 0.61475 0.07362 0.62395 0.11922 C 0.6335 0.18056 0.646 0.29931 0.646 0.35556 C 0.646 0.48149 0.63923 0.61088 0.65503 0.73681 C 0.66788 0.83218 0.71718 0.97408 0.73159 1.1051 C 0.74027 1.16713 0.74479 1.33311 0.74895 1.38681 E">
                                      <p:cBhvr>
                                        <p:cTn id="101" dur="7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10">
                                  <p:stCondLst>
                                    <p:cond delay="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10">
                                  <p:stCondLst>
                                    <p:cond delay="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10">
                                  <p:stCondLst>
                                    <p:cond delay="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10">
                                  <p:stCondLst>
                                    <p:cond delay="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10">
                                  <p:stCondLst>
                                    <p:cond delay="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autoRev="1" nodeType="withEffect" fill="hold" presetClass="path" presetID="63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00312 -0.02384 L -0.00174 -0.05301 E">
                                      <p:cBhvr>
                                        <p:cTn id="123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42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9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autoRev="1" nodeType="withEffect" fill="hold" presetClass="path" presetID="63" repeatCount="indefinite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0.00312 -0.02384 L -0.00174 -0.05301 E">
                                      <p:cBhvr>
                                        <p:cTn id="130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49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8">
                                  <p:stCondLst>
                                    <p:cond delay="7500"/>
                                  </p:stCondLst>
                                  <p:childTnLst>
                                    <p:animRot by="-21599879">
                                      <p:cBhvr>
                                        <p:cTn id="141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8">
                                  <p:stCondLst>
                                    <p:cond delay="750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mph" presetID="8">
                                  <p:stCondLst>
                                    <p:cond delay="7500"/>
                                  </p:stCondLst>
                                  <p:childTnLst>
                                    <p:animRot by="-21599879">
                                      <p:cBhvr>
                                        <p:cTn id="151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5" descr=""/>
          <p:cNvPicPr/>
          <p:nvPr/>
        </p:nvPicPr>
        <p:blipFill>
          <a:blip r:embed="rId1"/>
          <a:srcRect l="0" t="7211" r="0" b="7211"/>
          <a:stretch/>
        </p:blipFill>
        <p:spPr>
          <a:xfrm>
            <a:off x="-87480" y="0"/>
            <a:ext cx="9282240" cy="685800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5" descr="C:\Documents and Settings\Administrator\桌面\中秋材料\卷轴-5.png"/>
          <p:cNvPicPr/>
          <p:nvPr/>
        </p:nvPicPr>
        <p:blipFill>
          <a:blip r:embed="rId2"/>
          <a:srcRect l="12198" t="0" r="0" b="6882"/>
          <a:stretch/>
        </p:blipFill>
        <p:spPr>
          <a:xfrm>
            <a:off x="6550200" y="54000"/>
            <a:ext cx="24033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4"/>
          <p:cNvGrpSpPr/>
          <p:nvPr/>
        </p:nvGrpSpPr>
        <p:grpSpPr>
          <a:xfrm>
            <a:off x="1585800" y="744480"/>
            <a:ext cx="4919760" cy="4832280"/>
            <a:chOff x="1585800" y="744480"/>
            <a:chExt cx="4919760" cy="4832280"/>
          </a:xfrm>
        </p:grpSpPr>
        <p:sp>
          <p:nvSpPr>
            <p:cNvPr id="584" name="Freeform 12"/>
            <p:cNvSpPr/>
            <p:nvPr/>
          </p:nvSpPr>
          <p:spPr>
            <a:xfrm>
              <a:off x="2174760" y="1664280"/>
              <a:ext cx="3258720" cy="3309840"/>
            </a:xfrm>
            <a:custGeom>
              <a:avLst/>
              <a:gdLst/>
              <a:ahLst/>
              <a:rect l="l" t="t" r="r" b="b"/>
              <a:pathLst>
                <a:path w="1235" h="1255">
                  <a:moveTo>
                    <a:pt x="1214" y="633"/>
                  </a:moveTo>
                  <a:cubicBezTo>
                    <a:pt x="1215" y="501"/>
                    <a:pt x="1166" y="380"/>
                    <a:pt x="1081" y="275"/>
                  </a:cubicBezTo>
                  <a:cubicBezTo>
                    <a:pt x="996" y="171"/>
                    <a:pt x="894" y="103"/>
                    <a:pt x="766" y="68"/>
                  </a:cubicBezTo>
                  <a:cubicBezTo>
                    <a:pt x="504" y="0"/>
                    <a:pt x="226" y="111"/>
                    <a:pt x="94" y="359"/>
                  </a:cubicBezTo>
                  <a:cubicBezTo>
                    <a:pt x="85" y="381"/>
                    <a:pt x="0" y="520"/>
                    <a:pt x="29" y="730"/>
                  </a:cubicBezTo>
                  <a:cubicBezTo>
                    <a:pt x="44" y="832"/>
                    <a:pt x="90" y="947"/>
                    <a:pt x="175" y="1041"/>
                  </a:cubicBezTo>
                  <a:cubicBezTo>
                    <a:pt x="259" y="1135"/>
                    <a:pt x="379" y="1206"/>
                    <a:pt x="510" y="1230"/>
                  </a:cubicBezTo>
                  <a:cubicBezTo>
                    <a:pt x="641" y="1255"/>
                    <a:pt x="778" y="1234"/>
                    <a:pt x="888" y="1178"/>
                  </a:cubicBezTo>
                  <a:cubicBezTo>
                    <a:pt x="999" y="1123"/>
                    <a:pt x="1083" y="1037"/>
                    <a:pt x="1133" y="952"/>
                  </a:cubicBezTo>
                  <a:cubicBezTo>
                    <a:pt x="1235" y="780"/>
                    <a:pt x="1214" y="638"/>
                    <a:pt x="1211" y="638"/>
                  </a:cubicBezTo>
                  <a:cubicBezTo>
                    <a:pt x="1208" y="637"/>
                    <a:pt x="1209" y="716"/>
                    <a:pt x="1185" y="794"/>
                  </a:cubicBezTo>
                  <a:cubicBezTo>
                    <a:pt x="1164" y="872"/>
                    <a:pt x="1119" y="943"/>
                    <a:pt x="1114" y="949"/>
                  </a:cubicBezTo>
                  <a:cubicBezTo>
                    <a:pt x="1072" y="1011"/>
                    <a:pt x="977" y="1120"/>
                    <a:pt x="821" y="1175"/>
                  </a:cubicBezTo>
                  <a:cubicBezTo>
                    <a:pt x="669" y="1232"/>
                    <a:pt x="461" y="1218"/>
                    <a:pt x="308" y="1110"/>
                  </a:cubicBezTo>
                  <a:cubicBezTo>
                    <a:pt x="151" y="1007"/>
                    <a:pt x="66" y="826"/>
                    <a:pt x="60" y="679"/>
                  </a:cubicBezTo>
                  <a:cubicBezTo>
                    <a:pt x="50" y="529"/>
                    <a:pt x="101" y="419"/>
                    <a:pt x="124" y="373"/>
                  </a:cubicBezTo>
                  <a:cubicBezTo>
                    <a:pt x="213" y="199"/>
                    <a:pt x="386" y="87"/>
                    <a:pt x="570" y="69"/>
                  </a:cubicBezTo>
                  <a:cubicBezTo>
                    <a:pt x="754" y="49"/>
                    <a:pt x="950" y="123"/>
                    <a:pt x="1077" y="280"/>
                  </a:cubicBezTo>
                  <a:cubicBezTo>
                    <a:pt x="1160" y="383"/>
                    <a:pt x="1212" y="501"/>
                    <a:pt x="1210" y="633"/>
                  </a:cubicBezTo>
                  <a:cubicBezTo>
                    <a:pt x="1210" y="635"/>
                    <a:pt x="1211" y="638"/>
                    <a:pt x="1212" y="638"/>
                  </a:cubicBezTo>
                  <a:cubicBezTo>
                    <a:pt x="1213" y="638"/>
                    <a:pt x="1214" y="636"/>
                    <a:pt x="1214" y="633"/>
                  </a:cubicBezTo>
                  <a:close/>
                </a:path>
              </a:pathLst>
            </a:custGeom>
            <a:solidFill>
              <a:srgbClr val="f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5" name="Picture 2" descr="F:\胡桃1\个人素材\龙外.png"/>
            <p:cNvPicPr/>
            <p:nvPr/>
          </p:nvPicPr>
          <p:blipFill>
            <a:blip r:embed="rId3"/>
            <a:stretch/>
          </p:blipFill>
          <p:spPr>
            <a:xfrm>
              <a:off x="1585800" y="744480"/>
              <a:ext cx="4919760" cy="48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4" descr="F:\胡桃1\个人素材\金龙.png"/>
            <p:cNvPicPr/>
            <p:nvPr/>
          </p:nvPicPr>
          <p:blipFill>
            <a:blip r:embed="rId4"/>
            <a:stretch/>
          </p:blipFill>
          <p:spPr>
            <a:xfrm>
              <a:off x="2441880" y="1701720"/>
              <a:ext cx="3250800" cy="32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F:\胡桃1\个人素材\环.png"/>
            <p:cNvPicPr/>
            <p:nvPr/>
          </p:nvPicPr>
          <p:blipFill>
            <a:blip r:embed="rId5"/>
            <a:stretch/>
          </p:blipFill>
          <p:spPr>
            <a:xfrm>
              <a:off x="2279160" y="1564200"/>
              <a:ext cx="3544200" cy="352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8" name="Group 9"/>
            <p:cNvGrpSpPr/>
            <p:nvPr/>
          </p:nvGrpSpPr>
          <p:grpSpPr>
            <a:xfrm>
              <a:off x="2777400" y="1955520"/>
              <a:ext cx="2625120" cy="2763000"/>
              <a:chOff x="2777400" y="1955520"/>
              <a:chExt cx="2625120" cy="2763000"/>
            </a:xfrm>
          </p:grpSpPr>
          <p:pic>
            <p:nvPicPr>
              <p:cNvPr id="589" name="Picture 3" descr="F:\胡桃1\个人素材\心.png"/>
              <p:cNvPicPr/>
              <p:nvPr/>
            </p:nvPicPr>
            <p:blipFill>
              <a:blip r:embed="rId6"/>
              <a:stretch/>
            </p:blipFill>
            <p:spPr>
              <a:xfrm>
                <a:off x="2789640" y="1955520"/>
                <a:ext cx="2612880" cy="275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0" name="Pictur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7400" y="1960200"/>
                <a:ext cx="2612160" cy="2758320"/>
              </a:xfrm>
              <a:prstGeom prst="rect">
                <a:avLst/>
              </a:prstGeom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</p:pic>
        </p:grpSp>
      </p:grpSp>
      <p:pic>
        <p:nvPicPr>
          <p:cNvPr id="591" name="图片 15" descr="C:\Documents and Settings\Administrator\桌面\中秋材料\卷轴-5.png"/>
          <p:cNvPicPr/>
          <p:nvPr/>
        </p:nvPicPr>
        <p:blipFill>
          <a:blip r:embed="rId8"/>
          <a:srcRect l="12198" t="0" r="0" b="6882"/>
          <a:stretch/>
        </p:blipFill>
        <p:spPr>
          <a:xfrm>
            <a:off x="9088560" y="1019160"/>
            <a:ext cx="2401920" cy="21859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"/>
          <p:cNvPicPr/>
          <p:nvPr/>
        </p:nvPicPr>
        <p:blipFill>
          <a:blip r:embed="rId9"/>
          <a:stretch/>
        </p:blipFill>
        <p:spPr>
          <a:xfrm>
            <a:off x="-971640" y="5613480"/>
            <a:ext cx="10631520" cy="1301760"/>
          </a:xfrm>
          <a:prstGeom prst="rect">
            <a:avLst/>
          </a:prstGeom>
          <a:ln w="0">
            <a:noFill/>
          </a:ln>
        </p:spPr>
      </p:pic>
      <p:sp>
        <p:nvSpPr>
          <p:cNvPr id="593" name="圆角矩形 15"/>
          <p:cNvSpPr/>
          <p:nvPr/>
        </p:nvSpPr>
        <p:spPr>
          <a:xfrm>
            <a:off x="628560" y="1378080"/>
            <a:ext cx="7886880" cy="4375080"/>
          </a:xfrm>
          <a:prstGeom prst="roundRect">
            <a:avLst>
              <a:gd name="adj" fmla="val 5389"/>
            </a:avLst>
          </a:prstGeom>
          <a:solidFill>
            <a:srgbClr val="f2f2f2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.402FF8F93AC34C9\桌面\生日卡片（中国风）.png"/>
          <p:cNvPicPr/>
          <p:nvPr/>
        </p:nvPicPr>
        <p:blipFill>
          <a:blip r:embed="rId10"/>
          <a:srcRect l="0" t="54179" r="0" b="37453"/>
          <a:stretch/>
        </p:blipFill>
        <p:spPr>
          <a:xfrm>
            <a:off x="628560" y="3206880"/>
            <a:ext cx="7886880" cy="465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595" name="Picture 4" descr="C:\Documents and Settings\Administrator.402FF8F93AC34C9\桌面\生日卡片（中国风）.png"/>
          <p:cNvPicPr/>
          <p:nvPr/>
        </p:nvPicPr>
        <p:blipFill>
          <a:blip r:embed="rId11"/>
          <a:srcRect l="0" t="37453" r="0" b="54179"/>
          <a:stretch/>
        </p:blipFill>
        <p:spPr>
          <a:xfrm>
            <a:off x="633240" y="3578400"/>
            <a:ext cx="7886880" cy="465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96" name="矩形​​ 7"/>
          <p:cNvSpPr/>
          <p:nvPr/>
        </p:nvSpPr>
        <p:spPr>
          <a:xfrm>
            <a:off x="1357200" y="2462040"/>
            <a:ext cx="645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每年农历八月十五日，是传统的中秋佳节。这时是一年秋季的中期，所以被称为中秋。八月十五的月亮比其他几个月的满月更圆，更明亮，此夜，人们仰望天空如玉如盘的朗朗明月，自然会期盼家人团聚。远在他乡的游子，也借此寄托自己对故乡和亲人的思念之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7" name="Group 18"/>
          <p:cNvGrpSpPr/>
          <p:nvPr/>
        </p:nvGrpSpPr>
        <p:grpSpPr>
          <a:xfrm>
            <a:off x="-420840" y="905040"/>
            <a:ext cx="4609080" cy="6087960"/>
            <a:chOff x="-420840" y="905040"/>
            <a:chExt cx="4609080" cy="6087960"/>
          </a:xfrm>
        </p:grpSpPr>
        <p:pic>
          <p:nvPicPr>
            <p:cNvPr id="598" name="Picture 4" descr="C:\Documents and Settings\Administrator.402FF8F93AC34C9\桌面\dai.png"/>
            <p:cNvPicPr/>
            <p:nvPr/>
          </p:nvPicPr>
          <p:blipFill>
            <a:blip r:embed="rId12"/>
            <a:stretch/>
          </p:blipFill>
          <p:spPr>
            <a:xfrm>
              <a:off x="-260640" y="3105720"/>
              <a:ext cx="444888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3" descr="C:\Documents and Settings\Administrator.402FF8F93AC34C9\桌面\å«¦å¨¥-15.png"/>
            <p:cNvPicPr/>
            <p:nvPr/>
          </p:nvPicPr>
          <p:blipFill>
            <a:blip r:embed="rId13"/>
            <a:stretch/>
          </p:blipFill>
          <p:spPr>
            <a:xfrm>
              <a:off x="-420840" y="905040"/>
              <a:ext cx="4343400" cy="608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0" name="Picture 4" descr="C:\Documents and Settings\Administrator.402FF8F93AC34C9\桌面\dai.png"/>
          <p:cNvPicPr/>
          <p:nvPr/>
        </p:nvPicPr>
        <p:blipFill>
          <a:blip r:embed="rId14"/>
          <a:stretch/>
        </p:blipFill>
        <p:spPr>
          <a:xfrm>
            <a:off x="7448400" y="695160"/>
            <a:ext cx="1400400" cy="446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C:\Documents and Settings\Administrator.402FF8F93AC34C9\桌面\å«¦å¨¥-15.png"/>
          <p:cNvPicPr/>
          <p:nvPr/>
        </p:nvPicPr>
        <p:blipFill>
          <a:blip r:embed="rId15"/>
          <a:stretch/>
        </p:blipFill>
        <p:spPr>
          <a:xfrm>
            <a:off x="7545240" y="165240"/>
            <a:ext cx="13003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2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0382 -0.05 C -0.00053 -0.05324 -0.00539 -0.05578 -0.00903 -0.05925 C -0.02344 -0.07291 -0.00643 -0.0655 -0.025 -0.07175 C -0.03455 -0.0787 -0.04428 -0.08564 -0.05382 -0.09305 C -0.0573 -0.0956 -0.05973 -0.09976 -0.06337 -0.10208 C -0.06615 -0.10393 -0.0698 -0.10416 -0.07292 -0.10509 C -0.08073 -0.11064 -0.08716 -0.11828 -0.09532 -0.12338 C -0.10209 -0.12777 -0.11059 -0.1287 -0.11771 -0.13287 C -0.13993 -0.14467 -0.1632 -0.1574 -0.18803 -0.16319 C -0.2125 -0.16226 -0.2375 -0.16458 -0.26146 -0.16018 C -0.26615 -0.15925 -0.26493 -0.15138 -0.26789 -0.14791 C -0.27049 -0.14513 -0.27743 -0.14166 -0.27743 -0.14143 E">
                                      <p:cBhvr>
                                        <p:cTn id="163" dur="3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4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9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5.55556E-007 4.73988E-006 C 0.00087 -0.00324 0.00069 -0.00602 0.00295 -0.0081 C 0.00521 -0.00948 0.00955 -0.00925 0.01267 -0.00995 C 0.02344 -0.01434 0.03524 -0.0192 0.04496 -0.02451 C 0.06128 -0.0333 0.07847 -0.04185 0.09392 -0.0511 C 0.10694 -0.05827 0.11858 -0.06729 0.13316 -0.07261 C 0.15156 -0.07931 0.17031 -0.08625 0.18854 -0.09434 C 0.21163 -0.10428 0.23403 -0.11677 0.26024 -0.1207 C 0.26371 -0.12209 0.26667 -0.12394 0.26996 -0.12532 C 0.27309 -0.12671 0.27656 -0.12671 0.27986 -0.12787 C 0.28681 -0.13064 0.29201 -0.13526 0.29931 -0.13711 C 0.30746 -0.13943 0.3151 -0.14081 0.32222 -0.14474 C 0.32587 -0.14659 0.32795 -0.15006 0.33212 -0.15168 C 0.33559 -0.15353 0.34097 -0.15284 0.34496 -0.15422 C 0.34931 -0.15538 0.35365 -0.15769 0.35799 -0.15885 C 0.37743 -0.17804 0.35608 -0.16047 0.3842 -0.17365 C 0.38802 -0.17526 0.39028 -0.17827 0.3941 -0.18081 C 0.40312 -0.1859 0.41476 -0.18914 0.42309 -0.19515 C 0.43594 -0.2044 0.45017 -0.21133 0.46545 -0.21896 C 0.47014 -0.22128 0.47448 -0.22359 0.4783 -0.22636 C 0.48212 -0.22844 0.48455 -0.23122 0.48819 -0.2333 C 0.49201 -0.23538 0.4974 -0.23631 0.50121 -0.23792 C 0.51042 -0.24324 0.52465 -0.25596 0.53403 -0.25989 C 0.53802 -0.26128 0.54253 -0.26128 0.54705 -0.26197 C 0.5533 -0.27607 0.54601 -0.26197 0.56024 -0.27908 C 0.5625 -0.28185 0.56371 -0.28579 0.56667 -0.28879 C 0.58594 -0.30729 0.57431 -0.28995 0.58628 -0.30521 C 0.59774 -0.32 0.60174 -0.33735 0.60903 -0.35353 C 0.61215 -0.36047 0.61962 -0.36209 0.62569 -0.36787 C 0.63333 -0.37573 0.63819 -0.38683 0.64809 -0.39422 C 0.65087 -0.39607 0.65486 -0.39677 0.65799 -0.39885 C 0.66146 -0.40116 0.66406 -0.40394 0.66753 -0.40602 C 0.70121 -0.42428 0.67726 -0.40833 0.69375 -0.42035 E">
                                      <p:cBhvr>
                                        <p:cTn id="171" dur="37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73" dur="3700" fill="hold"/>
                                        <p:tgtEl>
                                          <p:spTgt spid="597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3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2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2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path" presetID="64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-0.28657 E">
                                      <p:cBhvr>
                                        <p:cTn id="191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66667E-006 3.33333E-006 L -1.66667E-006 0.27268 E">
                                      <p:cBhvr>
                                        <p:cTn id="193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21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9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19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78B3-1375-4FB2-A313-CE17DAF77B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矩形 2"/>
          <p:cNvSpPr/>
          <p:nvPr/>
        </p:nvSpPr>
        <p:spPr>
          <a:xfrm>
            <a:off x="2049840" y="4944960"/>
            <a:ext cx="30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图片 5" descr=""/>
          <p:cNvPicPr/>
          <p:nvPr/>
        </p:nvPicPr>
        <p:blipFill>
          <a:blip r:embed="rId2"/>
          <a:srcRect l="0" t="7211" r="0" b="7211"/>
          <a:stretch/>
        </p:blipFill>
        <p:spPr>
          <a:xfrm>
            <a:off x="-87480" y="0"/>
            <a:ext cx="9282240" cy="68580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15" descr="C:\Documents and Settings\Administrator\桌面\中秋材料\卷轴-5.png"/>
          <p:cNvPicPr/>
          <p:nvPr/>
        </p:nvPicPr>
        <p:blipFill>
          <a:blip r:embed="rId3"/>
          <a:srcRect l="12198" t="0" r="0" b="6882"/>
          <a:stretch/>
        </p:blipFill>
        <p:spPr>
          <a:xfrm>
            <a:off x="6550200" y="54000"/>
            <a:ext cx="2403360" cy="2185920"/>
          </a:xfrm>
          <a:prstGeom prst="rect">
            <a:avLst/>
          </a:prstGeom>
          <a:ln w="0">
            <a:noFill/>
          </a:ln>
        </p:spPr>
      </p:pic>
      <p:sp>
        <p:nvSpPr>
          <p:cNvPr id="609" name="圆角矩形 5"/>
          <p:cNvSpPr/>
          <p:nvPr/>
        </p:nvSpPr>
        <p:spPr>
          <a:xfrm>
            <a:off x="611280" y="1339920"/>
            <a:ext cx="7886520" cy="4375080"/>
          </a:xfrm>
          <a:prstGeom prst="roundRect">
            <a:avLst>
              <a:gd name="adj" fmla="val 5389"/>
            </a:avLst>
          </a:prstGeom>
          <a:solidFill>
            <a:srgbClr val="f2f2f2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4" descr="C:\Documents and Settings\Administrator.402FF8F93AC34C9\桌面\生日卡片（中国风）.png"/>
          <p:cNvPicPr/>
          <p:nvPr/>
        </p:nvPicPr>
        <p:blipFill>
          <a:blip r:embed="rId4"/>
          <a:srcRect l="0" t="54179" r="0" b="37453"/>
          <a:stretch/>
        </p:blipFill>
        <p:spPr>
          <a:xfrm>
            <a:off x="628560" y="1241280"/>
            <a:ext cx="7886880" cy="465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611" name="Picture 4" descr="C:\Documents and Settings\Administrator.402FF8F93AC34C9\桌面\生日卡片（中国风）.png"/>
          <p:cNvPicPr/>
          <p:nvPr/>
        </p:nvPicPr>
        <p:blipFill>
          <a:blip r:embed="rId5"/>
          <a:srcRect l="0" t="37453" r="0" b="54179"/>
          <a:stretch/>
        </p:blipFill>
        <p:spPr>
          <a:xfrm>
            <a:off x="633240" y="5446800"/>
            <a:ext cx="7886880" cy="465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612" name="Picture 4" descr="C:\Documents and Settings\Administrator.402FF8F93AC34C9\桌面\dai.png"/>
          <p:cNvPicPr/>
          <p:nvPr/>
        </p:nvPicPr>
        <p:blipFill>
          <a:blip r:embed="rId6"/>
          <a:stretch/>
        </p:blipFill>
        <p:spPr>
          <a:xfrm>
            <a:off x="7448400" y="695160"/>
            <a:ext cx="1400400" cy="446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C:\Documents and Settings\Administrator.402FF8F93AC34C9\桌面\å«¦å¨¥-15.png"/>
          <p:cNvPicPr/>
          <p:nvPr/>
        </p:nvPicPr>
        <p:blipFill>
          <a:blip r:embed="rId7"/>
          <a:stretch/>
        </p:blipFill>
        <p:spPr>
          <a:xfrm>
            <a:off x="7545240" y="165240"/>
            <a:ext cx="1300320" cy="1819080"/>
          </a:xfrm>
          <a:prstGeom prst="rect">
            <a:avLst/>
          </a:prstGeom>
          <a:ln w="0">
            <a:noFill/>
          </a:ln>
        </p:spPr>
      </p:pic>
      <p:sp>
        <p:nvSpPr>
          <p:cNvPr id="614" name="TextBox 11"/>
          <p:cNvSpPr/>
          <p:nvPr/>
        </p:nvSpPr>
        <p:spPr>
          <a:xfrm>
            <a:off x="2052720" y="3108240"/>
            <a:ext cx="50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年圆满如意，月月事事顺心，日日喜悦无忧，时时高兴欢喜，刻刻充满朝气，月圆人圆花好，事顺业顺家兴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7"/>
          <p:cNvSpPr/>
          <p:nvPr/>
        </p:nvSpPr>
        <p:spPr>
          <a:xfrm>
            <a:off x="6112800" y="43448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方正黄草简体"/>
                <a:ea typeface="方正黄草简体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1639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6:27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1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