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855575" cy="7235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B92-3222-48E8-A379-237F631B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912-4BEA-4AD4-8D6F-39C816A1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88C-5BE3-4B8E-BF88-F236D860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0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654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40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654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EEA-0B4C-45F0-A608-9E506E5D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4E4E-AAF3-4D98-890E-602C14DB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7222-3FAA-4306-9FD0-08D04D3D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864E-E724-473B-AEBE-18FA5E7F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96EB-EEEA-4616-BF12-4687428E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3FA5-983F-41B5-8E34-2E4A5939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960" y="288720"/>
            <a:ext cx="115682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CC6E-9F48-4702-8B2E-7B694A82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13BC-9C6A-4D72-9D6C-50308F0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9CA-E92D-4561-9F50-4FB1D646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38CB-AE19-46B7-9777-A3D2FC09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9096-B666-4DF0-B38A-AA0589C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EAB8-6E75-4994-82B6-3D1EBE00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7362-AC42-47C9-AB2C-5C825AF0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40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4654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40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4654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5330-CAE8-43DA-9C46-09F816D5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8BD-6C37-456C-B026-96F78A24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9BA-0036-4259-A0E0-1CD215B2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17A-43F1-48B6-AC00-1B02C2E2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960" y="288720"/>
            <a:ext cx="115682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33B-614F-40DD-AD80-34CD5F1E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26E-9EF7-45B9-8879-8AF8EC1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392-E271-42CF-9432-9B1CCA6D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3C1-5FE1-440C-A132-769D7D88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5270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14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584720" indent="-5288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2960" y="6708600"/>
            <a:ext cx="2998800" cy="3844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90560" y="6708600"/>
            <a:ext cx="4070520" cy="3844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12400" y="6708600"/>
            <a:ext cx="2998800" cy="3844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lstStyle>
            <a:lvl1pPr indent="0" algn="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5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3F0F2E8A-CDB0-4D20-8BE6-22064ED634A9}" type="slidenum">
              <a:rPr b="0" lang="zh-CN" sz="15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546D7E9A-692C-47DF-A476-21A3A7BC519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5C569459-2ED5-4F20-A611-554BE3A73A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0" r="0" b="988"/>
          <a:stretch/>
        </p:blipFill>
        <p:spPr>
          <a:xfrm>
            <a:off x="-3240" y="-25560"/>
            <a:ext cx="12857400" cy="4435560"/>
          </a:xfrm>
          <a:prstGeom prst="rect">
            <a:avLst/>
          </a:prstGeom>
          <a:ln w="0">
            <a:noFill/>
          </a:ln>
        </p:spPr>
      </p:pic>
      <p:sp>
        <p:nvSpPr>
          <p:cNvPr id="83" name="矩形 10"/>
          <p:cNvSpPr/>
          <p:nvPr/>
        </p:nvSpPr>
        <p:spPr>
          <a:xfrm>
            <a:off x="5632560" y="1819440"/>
            <a:ext cx="1584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造字工房劲黑（非商用）常规体"/>
                <a:ea typeface="造字工房劲黑（非商用）常规体"/>
              </a:rPr>
              <a:t>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4444920" y="102564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造字工房朗倩（非商用）粗体"/>
                <a:ea typeface="造字工房朗倩（非商用）粗体"/>
              </a:rPr>
              <a:t>春节送礼那点事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4876920" y="4626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造字工房朗倩（非商用）粗体"/>
                <a:ea typeface="造字工房朗倩（非商用）粗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造字工房朗倩（非商用）粗体"/>
                <a:ea typeface="造字工房朗倩（非商用）粗体"/>
              </a:rPr>
              <a:t>领导篇 </a:t>
            </a:r>
            <a:r>
              <a:rPr b="0" lang="en-US" sz="36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4824360" y="5275440"/>
            <a:ext cx="3205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造字工房朗倩（非商用）常规体"/>
                <a:ea typeface="造字工房朗倩（非商用）常规体"/>
              </a:rPr>
              <a:t>送什么？    怎么送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4572000" y="5851440"/>
            <a:ext cx="370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牛人教你</a:t>
            </a:r>
            <a:r>
              <a:rPr b="0" lang="en-US" sz="23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8</a:t>
            </a:r>
            <a:r>
              <a:rPr b="0" lang="zh-CN" sz="23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招吃遍天下领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7"/>
          <p:cNvGrpSpPr/>
          <p:nvPr/>
        </p:nvGrpSpPr>
        <p:grpSpPr>
          <a:xfrm>
            <a:off x="2736720" y="5497560"/>
            <a:ext cx="7380360" cy="1440"/>
            <a:chOff x="2736720" y="5497560"/>
            <a:chExt cx="7380360" cy="1440"/>
          </a:xfrm>
        </p:grpSpPr>
        <p:grpSp>
          <p:nvGrpSpPr>
            <p:cNvPr id="89" name=""/>
            <p:cNvGrpSpPr/>
            <p:nvPr/>
          </p:nvGrpSpPr>
          <p:grpSpPr>
            <a:xfrm>
              <a:off x="2736720" y="5497560"/>
              <a:ext cx="2088000" cy="1440"/>
              <a:chOff x="2736720" y="5497560"/>
              <a:chExt cx="2088000" cy="1440"/>
            </a:xfrm>
          </p:grpSpPr>
          <p:sp>
            <p:nvSpPr>
              <p:cNvPr id="90" name="直接连接符 16"/>
              <p:cNvSpPr/>
              <p:nvPr/>
            </p:nvSpPr>
            <p:spPr>
              <a:xfrm>
                <a:off x="2736720" y="5497560"/>
                <a:ext cx="208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2736720" y="5497560"/>
                <a:ext cx="2088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8137080" y="5497560"/>
              <a:ext cx="1980000" cy="1440"/>
              <a:chOff x="8137080" y="5497560"/>
              <a:chExt cx="1980000" cy="1440"/>
            </a:xfrm>
          </p:grpSpPr>
          <p:sp>
            <p:nvSpPr>
              <p:cNvPr id="93" name="直接连接符 18"/>
              <p:cNvSpPr/>
              <p:nvPr/>
            </p:nvSpPr>
            <p:spPr>
              <a:xfrm>
                <a:off x="8137080" y="5497560"/>
                <a:ext cx="1980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8137080" y="5497560"/>
                <a:ext cx="1980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文本框 3082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083"/>
          <p:cNvSpPr/>
          <p:nvPr/>
        </p:nvSpPr>
        <p:spPr>
          <a:xfrm>
            <a:off x="3166920" y="23508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羊年春节给领导送礼的艺术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8" descr=""/>
          <p:cNvPicPr/>
          <p:nvPr/>
        </p:nvPicPr>
        <p:blipFill>
          <a:blip r:embed="rId1"/>
          <a:srcRect l="0" t="0" r="0" b="10265"/>
          <a:stretch/>
        </p:blipFill>
        <p:spPr>
          <a:xfrm>
            <a:off x="-7920" y="0"/>
            <a:ext cx="6595920" cy="4438800"/>
          </a:xfrm>
          <a:prstGeom prst="rect">
            <a:avLst/>
          </a:prstGeom>
          <a:ln w="0">
            <a:noFill/>
          </a:ln>
        </p:spPr>
      </p:pic>
      <p:sp>
        <p:nvSpPr>
          <p:cNvPr id="202" name="等腰三角形 3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等腰三角形 4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205" name="直接连接符 5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208" name="直接连接符 6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7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八招    偷梁换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你可以在送礼的时候对受礼者说是出厂价，批发价，优惠价买下的，象征性的向受礼者收一些费用，收到的效果与送礼一般无二，受礼者因交了钱，收东西时会心安理得一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9"/>
          <p:cNvGrpSpPr/>
          <p:nvPr/>
        </p:nvGrpSpPr>
        <p:grpSpPr>
          <a:xfrm>
            <a:off x="1260360" y="4843440"/>
            <a:ext cx="10333080" cy="1612800"/>
            <a:chOff x="1260360" y="4843440"/>
            <a:chExt cx="10333080" cy="1612800"/>
          </a:xfrm>
        </p:grpSpPr>
        <p:pic>
          <p:nvPicPr>
            <p:cNvPr id="212" name="图片 10" descr=""/>
            <p:cNvPicPr/>
            <p:nvPr/>
          </p:nvPicPr>
          <p:blipFill>
            <a:blip r:embed="rId2"/>
            <a:stretch/>
          </p:blipFill>
          <p:spPr>
            <a:xfrm>
              <a:off x="1260360" y="4843440"/>
              <a:ext cx="161388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11"/>
            <p:cNvSpPr/>
            <p:nvPr/>
          </p:nvSpPr>
          <p:spPr>
            <a:xfrm>
              <a:off x="3127680" y="5461560"/>
              <a:ext cx="84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此方法要非常注意尺度，虽然收了钱，也要让对方领情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6" descr=""/>
          <p:cNvPicPr/>
          <p:nvPr/>
        </p:nvPicPr>
        <p:blipFill>
          <a:blip r:embed="rId1"/>
          <a:stretch/>
        </p:blipFill>
        <p:spPr>
          <a:xfrm>
            <a:off x="19080" y="0"/>
            <a:ext cx="6643800" cy="4438800"/>
          </a:xfrm>
          <a:prstGeom prst="rect">
            <a:avLst/>
          </a:prstGeom>
          <a:ln w="0">
            <a:noFill/>
          </a:ln>
        </p:spPr>
      </p:pic>
      <p:sp>
        <p:nvSpPr>
          <p:cNvPr id="99" name="等腰三角形 7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8"/>
          <p:cNvSpPr/>
          <p:nvPr/>
        </p:nvSpPr>
        <p:spPr>
          <a:xfrm flipH="1" flipV="1">
            <a:off x="1800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一招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借花献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Calibri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如果你送土特产品，可以说是老家来人捎来的，分一些给对方尝尝鲜，东西不多，自己又没花钱，不是特意买的。请他收下，一般来说受礼者那种因为害怕你目的性太强的拒礼心态，可望缓和</a:t>
            </a:r>
            <a:r>
              <a:rPr b="1" lang="zh-CN" sz="23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21"/>
          <p:cNvGrpSpPr/>
          <p:nvPr/>
        </p:nvGrpSpPr>
        <p:grpSpPr>
          <a:xfrm>
            <a:off x="2825640" y="4843440"/>
            <a:ext cx="7201080" cy="1612800"/>
            <a:chOff x="2825640" y="4843440"/>
            <a:chExt cx="7201080" cy="1612800"/>
          </a:xfrm>
        </p:grpSpPr>
        <p:pic>
          <p:nvPicPr>
            <p:cNvPr id="103" name="图片 12" descr=""/>
            <p:cNvPicPr/>
            <p:nvPr/>
          </p:nvPicPr>
          <p:blipFill>
            <a:blip r:embed="rId2"/>
            <a:stretch/>
          </p:blipFill>
          <p:spPr>
            <a:xfrm>
              <a:off x="282564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3"/>
            <p:cNvSpPr/>
            <p:nvPr/>
          </p:nvSpPr>
          <p:spPr>
            <a:xfrm>
              <a:off x="4692960" y="5357520"/>
              <a:ext cx="53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土特产类礼品适合朴实老领导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92000" y="2340000"/>
            <a:ext cx="3170880" cy="2082600"/>
            <a:chOff x="3492000" y="2340000"/>
            <a:chExt cx="3170880" cy="2082600"/>
          </a:xfrm>
        </p:grpSpPr>
        <p:sp>
          <p:nvSpPr>
            <p:cNvPr id="106" name="直接连接符 17"/>
            <p:cNvSpPr/>
            <p:nvPr/>
          </p:nvSpPr>
          <p:spPr>
            <a:xfrm flipH="1">
              <a:off x="3492000" y="234000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492360" y="234000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4560" y="15840"/>
            <a:ext cx="3172320" cy="2082960"/>
            <a:chOff x="34560" y="15840"/>
            <a:chExt cx="3172320" cy="2082960"/>
          </a:xfrm>
        </p:grpSpPr>
        <p:sp>
          <p:nvSpPr>
            <p:cNvPr id="109" name="直接连接符 20"/>
            <p:cNvSpPr/>
            <p:nvPr/>
          </p:nvSpPr>
          <p:spPr>
            <a:xfrm flipH="1">
              <a:off x="34560" y="1584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34920" y="1584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2" descr=""/>
          <p:cNvPicPr/>
          <p:nvPr/>
        </p:nvPicPr>
        <p:blipFill>
          <a:blip r:embed="rId1"/>
          <a:srcRect l="7795" t="0" r="0" b="6880"/>
          <a:stretch/>
        </p:blipFill>
        <p:spPr>
          <a:xfrm>
            <a:off x="0" y="0"/>
            <a:ext cx="6597720" cy="4438800"/>
          </a:xfrm>
          <a:prstGeom prst="rect">
            <a:avLst/>
          </a:prstGeom>
          <a:ln w="0">
            <a:noFill/>
          </a:ln>
        </p:spPr>
      </p:pic>
      <p:sp>
        <p:nvSpPr>
          <p:cNvPr id="113" name="等腰三角形 3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4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16" name="直接连接符 5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19" name="直接连接符 6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7"/>
          <p:cNvSpPr/>
          <p:nvPr/>
        </p:nvSpPr>
        <p:spPr>
          <a:xfrm>
            <a:off x="7075440" y="66672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二招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暗度陈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Calibri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如果你送的是酒一类的东西，不妨假借说是别人送你两瓶酒，来和对方对饮小酌，这样喝一瓶送一瓶，礼也送了，关系也近了，还不露痕迹，岂不妙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10"/>
          <p:cNvGrpSpPr/>
          <p:nvPr/>
        </p:nvGrpSpPr>
        <p:grpSpPr>
          <a:xfrm>
            <a:off x="1965240" y="4843440"/>
            <a:ext cx="8923320" cy="1612800"/>
            <a:chOff x="1965240" y="4843440"/>
            <a:chExt cx="8923320" cy="1612800"/>
          </a:xfrm>
        </p:grpSpPr>
        <p:pic>
          <p:nvPicPr>
            <p:cNvPr id="123" name="图片 8" descr=""/>
            <p:cNvPicPr/>
            <p:nvPr/>
          </p:nvPicPr>
          <p:blipFill>
            <a:blip r:embed="rId2"/>
            <a:stretch/>
          </p:blipFill>
          <p:spPr>
            <a:xfrm>
              <a:off x="196524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9"/>
            <p:cNvSpPr/>
            <p:nvPr/>
          </p:nvSpPr>
          <p:spPr>
            <a:xfrm>
              <a:off x="3832200" y="523440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这里的酒最好是比较特殊的，如茅台特供等，领导没喝过，自然会和你共酌，喝一瓶，留一瓶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0" descr=""/>
          <p:cNvPicPr/>
          <p:nvPr/>
        </p:nvPicPr>
        <p:blipFill>
          <a:blip r:embed="rId1"/>
          <a:srcRect l="8868" t="7432" r="0" b="0"/>
          <a:stretch/>
        </p:blipFill>
        <p:spPr>
          <a:xfrm flipH="1">
            <a:off x="9000" y="0"/>
            <a:ext cx="6564600" cy="4438800"/>
          </a:xfrm>
          <a:prstGeom prst="rect">
            <a:avLst/>
          </a:prstGeom>
          <a:ln w="0">
            <a:noFill/>
          </a:ln>
        </p:spPr>
      </p:pic>
      <p:sp>
        <p:nvSpPr>
          <p:cNvPr id="127" name="等腰三角形 2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3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30" name="直接连接符 4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33" name="直接连接符 5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8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三招    隔山打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Calibri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如果你找不到好的理由给领导送礼，何尝不通过给领导孩子买礼物的方式进而把意思传达，不过这里有个小窍门，送给孩子的礼品最好是时常使用的，如儿童卫士手表，点读机等，让领导看到孩子，就能提起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1"/>
          <p:cNvGrpSpPr/>
          <p:nvPr/>
        </p:nvGrpSpPr>
        <p:grpSpPr>
          <a:xfrm>
            <a:off x="1965240" y="4843440"/>
            <a:ext cx="8923320" cy="1612800"/>
            <a:chOff x="1965240" y="4843440"/>
            <a:chExt cx="8923320" cy="1612800"/>
          </a:xfrm>
        </p:grpSpPr>
        <p:pic>
          <p:nvPicPr>
            <p:cNvPr id="137" name="图片 12" descr=""/>
            <p:cNvPicPr/>
            <p:nvPr/>
          </p:nvPicPr>
          <p:blipFill>
            <a:blip r:embed="rId2"/>
            <a:stretch/>
          </p:blipFill>
          <p:spPr>
            <a:xfrm>
              <a:off x="196524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13"/>
            <p:cNvSpPr/>
            <p:nvPr/>
          </p:nvSpPr>
          <p:spPr>
            <a:xfrm>
              <a:off x="3832200" y="523440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送给孩子的礼物一定是孩子喜欢，爱用的，如</a:t>
              </a:r>
              <a:r>
                <a:rPr b="0" lang="en-US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360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儿童卫士手表，让领导看到孩子会想起你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6" descr=""/>
          <p:cNvPicPr/>
          <p:nvPr/>
        </p:nvPicPr>
        <p:blipFill>
          <a:blip r:embed="rId1"/>
          <a:srcRect l="7069" t="16764" r="27664" b="16764"/>
          <a:stretch/>
        </p:blipFill>
        <p:spPr>
          <a:xfrm>
            <a:off x="9360" y="0"/>
            <a:ext cx="6564600" cy="4438800"/>
          </a:xfrm>
          <a:prstGeom prst="rect">
            <a:avLst/>
          </a:prstGeom>
          <a:ln w="0">
            <a:noFill/>
          </a:ln>
        </p:spPr>
      </p:pic>
      <p:sp>
        <p:nvSpPr>
          <p:cNvPr id="141" name="等腰三角形 2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3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44" name="直接连接符 4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47" name="直接连接符 5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8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四招    借马引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如果你送礼而对方却又是八竿子打不着的关系，你不妨选受礼者的生诞婚日，邀上几位熟人同去祝贺，那样受礼者便不好拒收了，当时候知道这个主意是你出的时，必然改变对你的看法借助大家的力量达到送礼联谊的目的，实为上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9"/>
          <p:cNvGrpSpPr/>
          <p:nvPr/>
        </p:nvGrpSpPr>
        <p:grpSpPr>
          <a:xfrm>
            <a:off x="1747800" y="4843440"/>
            <a:ext cx="9358200" cy="1612800"/>
            <a:chOff x="1747800" y="4843440"/>
            <a:chExt cx="9358200" cy="1612800"/>
          </a:xfrm>
        </p:grpSpPr>
        <p:pic>
          <p:nvPicPr>
            <p:cNvPr id="151" name="图片 10" descr=""/>
            <p:cNvPicPr/>
            <p:nvPr/>
          </p:nvPicPr>
          <p:blipFill>
            <a:blip r:embed="rId2"/>
            <a:stretch/>
          </p:blipFill>
          <p:spPr>
            <a:xfrm>
              <a:off x="174780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11"/>
            <p:cNvSpPr/>
            <p:nvPr/>
          </p:nvSpPr>
          <p:spPr>
            <a:xfrm>
              <a:off x="3614760" y="5461560"/>
              <a:ext cx="749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选择朋友时，一定注意这个人能帮你道破天机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7179"/>
          <p:cNvSpPr/>
          <p:nvPr/>
        </p:nvSpPr>
        <p:spPr>
          <a:xfrm>
            <a:off x="1314360" y="6354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7" descr=""/>
          <p:cNvPicPr/>
          <p:nvPr/>
        </p:nvPicPr>
        <p:blipFill>
          <a:blip r:embed="rId1"/>
          <a:srcRect l="12949" t="10262" r="21787" b="23477"/>
          <a:stretch/>
        </p:blipFill>
        <p:spPr>
          <a:xfrm>
            <a:off x="9360" y="0"/>
            <a:ext cx="6564600" cy="4438800"/>
          </a:xfrm>
          <a:prstGeom prst="rect">
            <a:avLst/>
          </a:prstGeom>
          <a:ln w="0">
            <a:noFill/>
          </a:ln>
        </p:spPr>
      </p:pic>
      <p:sp>
        <p:nvSpPr>
          <p:cNvPr id="156" name="等腰三角形 2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等腰三角形 3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59" name="直接连接符 4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62" name="直接连接符 5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8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五招    移花接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张先生有事委托刘先生去办，想送点礼物疏通一下，又怕刘先生拒绝。张先生的太太与刘先生的女朋友很熟，张先生便用起了夫人外交，让夫人带点礼物去拜访，一举成功，看来有时直接出击不如迂回运动能收奇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2"/>
          <p:cNvGrpSpPr/>
          <p:nvPr/>
        </p:nvGrpSpPr>
        <p:grpSpPr>
          <a:xfrm>
            <a:off x="1747800" y="4843440"/>
            <a:ext cx="9358200" cy="1612800"/>
            <a:chOff x="1747800" y="4843440"/>
            <a:chExt cx="9358200" cy="1612800"/>
          </a:xfrm>
        </p:grpSpPr>
        <p:pic>
          <p:nvPicPr>
            <p:cNvPr id="166" name="图片 13" descr=""/>
            <p:cNvPicPr/>
            <p:nvPr/>
          </p:nvPicPr>
          <p:blipFill>
            <a:blip r:embed="rId2"/>
            <a:stretch/>
          </p:blipFill>
          <p:spPr>
            <a:xfrm>
              <a:off x="174780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14"/>
            <p:cNvSpPr/>
            <p:nvPr/>
          </p:nvSpPr>
          <p:spPr>
            <a:xfrm>
              <a:off x="3614760" y="5419080"/>
              <a:ext cx="749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虽然是夫人外交，但礼品也要投双方所好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7" descr=""/>
          <p:cNvPicPr/>
          <p:nvPr/>
        </p:nvPicPr>
        <p:blipFill>
          <a:blip r:embed="rId1"/>
          <a:srcRect l="0" t="0" r="0" b="5010"/>
          <a:stretch/>
        </p:blipFill>
        <p:spPr>
          <a:xfrm flipH="1">
            <a:off x="-8280" y="0"/>
            <a:ext cx="6581880" cy="4438800"/>
          </a:xfrm>
          <a:prstGeom prst="rect">
            <a:avLst/>
          </a:prstGeom>
          <a:ln w="0">
            <a:noFill/>
          </a:ln>
        </p:spPr>
      </p:pic>
      <p:sp>
        <p:nvSpPr>
          <p:cNvPr id="170" name="等腰三角形 3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等腰三角形 4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73" name="直接连接符 5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76" name="直接连接符 6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8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六招    草船借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如果对方不肯收，不妨说，我家里搁着也是搁着，让他拿去用，日后买了再还，只要你不催着他还，天长地久也变成了送，这样也可以减少受礼者的心理负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2"/>
          <p:cNvGrpSpPr/>
          <p:nvPr/>
        </p:nvGrpSpPr>
        <p:grpSpPr>
          <a:xfrm>
            <a:off x="1747800" y="4843440"/>
            <a:ext cx="9358200" cy="1612800"/>
            <a:chOff x="1747800" y="4843440"/>
            <a:chExt cx="9358200" cy="1612800"/>
          </a:xfrm>
        </p:grpSpPr>
        <p:pic>
          <p:nvPicPr>
            <p:cNvPr id="180" name="图片 13" descr=""/>
            <p:cNvPicPr/>
            <p:nvPr/>
          </p:nvPicPr>
          <p:blipFill>
            <a:blip r:embed="rId2"/>
            <a:stretch/>
          </p:blipFill>
          <p:spPr>
            <a:xfrm>
              <a:off x="174780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14"/>
            <p:cNvSpPr/>
            <p:nvPr/>
          </p:nvSpPr>
          <p:spPr>
            <a:xfrm>
              <a:off x="3614760" y="5236200"/>
              <a:ext cx="749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这种替对方找借口的方式适用于爱占小便宜，却胆子又小的领导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8" descr=""/>
          <p:cNvPicPr/>
          <p:nvPr/>
        </p:nvPicPr>
        <p:blipFill>
          <a:blip r:embed="rId1"/>
          <a:srcRect l="3781" t="21353" r="0" b="0"/>
          <a:stretch/>
        </p:blipFill>
        <p:spPr>
          <a:xfrm>
            <a:off x="-7920" y="0"/>
            <a:ext cx="6602400" cy="4437000"/>
          </a:xfrm>
          <a:prstGeom prst="rect">
            <a:avLst/>
          </a:prstGeom>
          <a:ln w="0">
            <a:noFill/>
          </a:ln>
        </p:spPr>
      </p:pic>
      <p:sp>
        <p:nvSpPr>
          <p:cNvPr id="184" name="等腰三角形 3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4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87" name="直接连接符 5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90" name="直接连接符 6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7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七招    斗转星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一位下属想回报上司栽培但怕上司不接受，偶然发现上司镜框镶的字画是一副拓片，跟家里雅致的陈设不太协调。正好他叔父是全国小有名气的书法家，手里还有他赠送的字画他马上把字画拿来主动放到镜框里，上司不但没有反对，反而十分喜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2"/>
          <p:cNvGrpSpPr/>
          <p:nvPr/>
        </p:nvGrpSpPr>
        <p:grpSpPr>
          <a:xfrm>
            <a:off x="1639800" y="4843440"/>
            <a:ext cx="9574200" cy="1612800"/>
            <a:chOff x="1639800" y="4843440"/>
            <a:chExt cx="9574200" cy="1612800"/>
          </a:xfrm>
        </p:grpSpPr>
        <p:pic>
          <p:nvPicPr>
            <p:cNvPr id="194" name="图片 13" descr=""/>
            <p:cNvPicPr/>
            <p:nvPr/>
          </p:nvPicPr>
          <p:blipFill>
            <a:blip r:embed="rId2"/>
            <a:stretch/>
          </p:blipFill>
          <p:spPr>
            <a:xfrm>
              <a:off x="163980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14"/>
            <p:cNvSpPr/>
            <p:nvPr/>
          </p:nvSpPr>
          <p:spPr>
            <a:xfrm>
              <a:off x="3506760" y="5461560"/>
              <a:ext cx="770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往往此类投其所好要独具慧眼否则容易弄巧成拙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AA7E08F0-A17D-45EC-9533-34DF8AA44C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6:3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10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