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5C7-A928-4FEE-B156-6983632C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BF1-2C4E-48A7-894B-02CF8539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8927B-72DB-4D79-9E1B-B06091E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EAFF8-BB0A-443F-9A3E-781746A1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35D3-D184-4AEF-938C-1BD325BE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AF63B-A230-4A19-90F3-E46E1E43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A7283-6B1F-4244-8CEB-CEED42F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9A0A4-9151-4528-A89B-5C7BBE10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BCB6F-AF53-48BB-855F-8B010CFC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853A9-1F69-47EF-928C-DCCD12F0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883C-8703-4454-BE1D-793B8DBF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2C479-54B3-40C6-932B-912D818E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DA1-1A00-484E-A218-27B1A277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B681-4742-4628-A526-5607DC11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5B55E-34F9-4A79-9B17-3D6877D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FC113-0126-42E4-94FE-FD21570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365D2-86C2-4842-A8DA-00E7C75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96EB1-58CF-44DC-A022-209BE26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E3550-D768-45A1-808C-C856FE6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8251-7E45-44FD-A2E8-A91A133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C87A-FE07-4622-9FA7-99B1AE1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3BD41-848E-4EFD-B6B4-444619B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B3BE-4E9E-4ECD-A841-28F1D0E4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BCF-5D95-4555-8178-588FEDE0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E26D2-1E06-42AA-BCB2-360BE1D1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3D66-468C-4A95-8EBE-D85B2C96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695FD-1816-4F0B-9E4F-265928B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1BF9-9EFB-4F48-A2B4-B9DF104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DE5B9-9735-4F2B-87CE-229FB40F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90F6-9CDC-4666-B6C0-5AEDDC6F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C6C14-A6EF-42ED-9EFC-1BAC46A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866F5-6D9B-4F2F-8948-0838B2F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1CC20-28D3-4D6F-8760-120936F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76D32-F086-4473-928B-15FDE88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649-99BA-4EB4-8050-904CFF86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B50D7-C77C-4A3F-B6CB-F495BE77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5F33B-DF25-432C-AD65-6F0201E4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2AC2E-0952-4C70-B858-3BF91AF3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1D8B1-C6C6-432D-9C46-F0BB4D7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4F0D-F1A2-498D-8EB5-5C381970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83BF2-3AEF-42BC-B5D9-48E5DB2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65255-B78D-4EB3-9B02-BAE244F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95D5B-A59B-4D02-810B-BED3759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007E2-923F-4E47-BD69-91A8D5D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3ED71-7163-4090-8173-5D476F2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9E15-1AD9-41E2-9614-F828025D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8340B-5219-4126-BC88-9642439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82CBB-596F-408B-B96B-A88B5A5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53515-56AC-4E04-B3E0-3DEDB51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178F9-8D0D-410D-BD87-81EF4417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F06D9-9DED-4E20-B4DA-5F054408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B3E6D-DF42-4A19-A9EA-79CCF312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4FFBE-EFD6-4B4E-8BAC-C35E165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28633-ED82-4D1B-93BF-3EFA4F5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A82C3-E715-446E-A1F6-4EE3CF93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814D1-C577-4413-827D-6D5E8AC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05F-C064-44AC-AAFA-7AD5AA6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DCEDE-9B01-4FD0-87AA-F6F34C3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3208A-AA96-443A-A029-0BAB595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B085F-59B4-41E2-B17F-31BE317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8B24F-427E-47C7-A45C-615A920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5006-0546-4459-9529-19C9E9DA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E9309-D51E-436C-BB94-B6775916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5848B-5373-41AD-BDEE-A7C40D3B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2F5A-EC14-4375-AB15-866B59EB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1234-6018-4D8B-86C5-93DE6526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DC5-67EA-4C60-8C8C-90363574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6606-F185-42B8-8E43-4959296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BEC-F97D-44B4-86D2-DCC8540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50E-9B4D-4F63-B949-92590B6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52AA-2330-4A3E-8168-722F672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C8F0-5E90-4365-A390-5FDCF29E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ABDA-23AC-4BAC-9444-769D75C6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E906-6F25-4CA8-BC30-5E823E34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D28F-AF6D-4896-98F1-E148DB78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D968-E3BD-488D-B1D6-2716DC7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B54B-69CC-4E27-BD3A-A6E0743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857E-A141-484D-B624-432474A7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63C4-62CA-4279-B4B5-CB50327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31D-29D6-4BB2-90B2-2D7D720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CFDB-0B1E-4078-B6AE-4376ABF1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7EEF-8FAD-4E73-9A46-3692266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3246-AD63-401B-951D-5534D62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51DC-2BC4-444E-BA68-A66F9A3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195D-7FF6-4CC2-BF82-22AB409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B84E-305B-403D-B70A-C080BF0C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51C2-4E4B-4E03-A71A-5219517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F30C-6833-40F6-8055-619F1F9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B85B-0E0E-4E76-AB7E-DC1A6AAC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7D4C-3DD9-4D3B-8EFE-98CD6CD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CFB-E2D3-475D-8706-5115AF49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8868-0A32-4ECF-A42E-0CFE5094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C9EE-BD8F-4B41-B486-D707C1F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B1DA-9082-4152-BE90-B27DAFC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5E8C-5725-4620-BAF8-4DA4259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DFCE-C664-4484-9551-8A62848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89C7-D018-461D-A017-356CFB6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6156-D7DD-49F8-9CF9-2846210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106B-6F61-4B2C-9858-6B71C0A3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4AD4-48E6-429C-A1DB-E55CE031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C02A-376D-4CD1-82F4-73DF7554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2E-056C-4B6B-B7C5-A16CB986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2849-83AE-4549-8399-4860BB0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8F564-88A3-4144-AFC4-2DF9999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D29F-714B-4A97-982C-9C9AA9E3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7522-2B9C-42E0-ACD9-68D63E3A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2A2C-559E-41C6-9D55-26D0E4D1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B08CB-7353-4487-871A-6EA7F42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7429-6EFE-43B2-9E74-2F8B403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5213-D044-451B-99F2-7B217C1C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0222-92F3-42EB-9DCF-9BA1CB14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28A9-7F73-47F3-B6C3-A55F740B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336-DD56-40AF-8EFD-5591437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DD7F-CB07-4B66-9535-E5542088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663A9-5402-4932-BE20-050DE4C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D4C7-D7D0-4DE6-92A1-75378F08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C4AC-62BF-4FF1-8A43-02F6B9B3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4813-79B3-4364-877B-3FEF6C3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582D-C033-41AC-B95C-56982C27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BBA9E-D8F8-4D1A-9295-6AAB8F70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105C-6EF6-4A32-8835-9A73635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DE2E-933B-4BA7-9377-C2B7004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772E-0AE8-49C8-AF14-575549BB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11F-F1B8-4BDB-8FFF-5B4FDDB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1DD6-5DB1-4D8D-9ACB-C8915565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D0D3-838D-4E99-99C6-B6AA4166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2192-5947-479D-9001-EA37168A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4A1D6-FF3A-417E-BD48-405E5718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9D80D-CDB9-41F6-B2A5-AFE9259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E1136-0C9D-4449-BDAD-3781B89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12CB7-E782-45F2-95E0-BF5803D2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218A3-CB16-4E06-9AD5-9851C799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F0B3-ED80-4A36-ADE0-7DE70A9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D3923-0D0E-4DD0-9BF1-95AA365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660-B636-46DA-B7CE-AE67E87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EE64-3BD0-4CB5-BD0A-C0B58E1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1AA2-CC93-4D82-8BC2-AFBA212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F64E-4806-4892-B30A-BFFB140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EC096-8FC1-49A4-AACE-5ECDD762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C1623-4D87-40B3-BEB5-DAE371F7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5ADD8-DA8D-4942-9884-EACA2220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C8EF7-0B7E-4ED6-A5A6-86469AE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E7F04-4990-4C48-BABE-0E776E20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82C1-72B6-42F3-9CF4-4E4AF8B3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5D36-5A8C-46D2-B91F-63CB7532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440-2758-4101-9290-A44F1FA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89781-DD9B-4E71-A6D0-4F57B14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01BB-FB2E-4538-BF57-5B08500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C2ABE-9BCD-4013-AB63-DADDD14A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9155-B99D-4323-94E8-6F69611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ABF62-4E6F-4856-B22C-3CDDD0CC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D5F13-318A-46EB-9F19-4455AD35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2D0D8-90FC-48DD-83DB-2424736F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D678-085E-4CBE-86CA-D3131054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2568-8283-4107-89AB-4029C79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9DA94-5A02-43A5-9427-70B81459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368A-416F-474F-A1C9-2B339801EB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051E-E304-4ACB-8890-0963FD50FA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837-9F72-46A4-8F7C-30549E51FDF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C38-55EE-4B85-89CC-E97711AC16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E42C-D99E-4DD1-B24B-1E884F9B19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7DE-96AC-4B87-BBA5-D288623E20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B4FD-925F-49E8-AF64-43A7122B10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448-A08D-44C1-824B-0A7CAAEE63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C67-EF6F-4302-AD84-9DBEF1910C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AAC-A28D-4EF2-A722-4B598C1CB8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987-E92F-422F-8977-83AFA92537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C30-1E80-4D53-9F21-D2D9DD97AA0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9D3-9BB6-4CE8-808A-F0E08354DA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5F1-763A-40D5-9A99-0014F05442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C7C-AA85-4119-A737-0F618B6E52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1DC-7C96-4ECB-8890-96A1DBA48E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4CBE-0E40-411E-A59C-5D7A8FEF543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DB13-16EB-4D80-929F-F9FBF2E9239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DBA8-6AE4-463B-BF18-A8F9003CA03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78B-8A2D-402F-B691-0F46F93EC5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7E8-3399-483D-84BD-09394152F24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74A-EE59-448F-891A-4EA8DC22DD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07C-3D06-4A01-999F-264588B332B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EE8F-C6E4-482E-807C-1FD585009D4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0153-0DB1-483C-9EB9-6208E8472A6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690-F42D-4530-BAB4-292B46554A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1143000" y="4786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121428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1143000" y="42861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1768320" y="1173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年新年大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4497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3997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3497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3569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27118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"/>
          <p:cNvSpPr/>
          <p:nvPr/>
        </p:nvSpPr>
        <p:spPr>
          <a:xfrm>
            <a:off x="3497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41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2140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4354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6426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4354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3354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9"/>
          <p:cNvSpPr/>
          <p:nvPr/>
        </p:nvSpPr>
        <p:spPr>
          <a:xfrm>
            <a:off x="3711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"/>
          <p:cNvSpPr/>
          <p:nvPr/>
        </p:nvSpPr>
        <p:spPr>
          <a:xfrm>
            <a:off x="6640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5783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3354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77D-7473-4BEB-ADF2-5047391071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9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5783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5283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21510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09Z</dcterms:modified>
  <cp:revision>1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