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WHOOSH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E33-7385-4F17-A07E-7EEB1C42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66A-7391-4F49-936C-C46CC5F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942-E01B-4C0F-8B3F-CACD4F77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F57-7D8C-4CD4-A67D-9FB92FAB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AC3-F984-4563-BEA5-89C2587A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1DE-3286-4A7C-8539-DE5BA6E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ACC8-103D-4507-8C65-A8EB5A3D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4081-9739-484A-94D3-77456973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B000-2E91-413E-BD5C-FD48B0CE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B901-8898-4102-8DAE-917204F5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5F9E-89C5-4A1B-B8CA-8E895FD9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973-58DF-4088-9B9F-5BDF5278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706B-8E87-433B-89FD-0937805B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AC87-9A5F-4DE2-9204-8E2C3CA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FA42-75BB-4A77-97F8-35DAE504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F634-CB3C-449E-971C-8747BBFA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DFED-AB63-4B00-A095-A8A348AC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16F-A3B7-4325-B208-4DA3280A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D1A-1C46-4FD7-9438-D23BD879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98F-D602-4717-AC49-E4DCD0E3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428-D14E-4FB5-B4C7-31521F1B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8F6-3C5D-4237-AF3C-7E2B1E9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E9A-2A13-4DA8-B82B-ED391A24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1A9-E153-41C1-BDB4-4AE959CA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9359-28CE-47E9-B7EA-D5E76E22BA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B27-8EB2-41BD-8356-917F633282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9C9F-B2E2-470C-85C7-2F58C017C7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4"/>
          <p:cNvSpPr/>
          <p:nvPr/>
        </p:nvSpPr>
        <p:spPr>
          <a:xfrm>
            <a:off x="228600" y="5734080"/>
            <a:ext cx="41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乌江中心小学    李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50920" y="549360"/>
            <a:ext cx="28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649520" y="0"/>
            <a:ext cx="54612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一年中的节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中国的传统节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2931120" y="4797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年中的节日端午节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d4a9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1265"/>
          <p:cNvSpPr/>
          <p:nvPr/>
        </p:nvSpPr>
        <p:spPr>
          <a:xfrm>
            <a:off x="0" y="0"/>
            <a:ext cx="91440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端午节的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午节的第一个意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就是纪念历史上伟大的民族诗人屈原。屈原，名平，是战国时代的楚国人，生于楚威王五年夏历正月初七，或谓生于楚宣王二十七年，卒于楚襄王九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午节的第二个意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伍子胥的忌辰。伍子胥名员，楚国人，父兄均为楚王所杀，后来子胥弃暗投明，奔向吴国，助吴伐楚，五战而入楚都郢城。当时楚平王已死，子胥掘墓鞭尸三百，以报杀父兄之仇。吴王阖庐死后，其子夫差继位，吴军士气高昂，百战百胜，越国大败，越王勾践请和，夫差许之。子胥建议，应彻底消灭越国，夫差不听，吴国大宰，受越国贿赂，谗言陷害子胥，夫差信之，赐子胥宝剑，子胥以此死。子胥本为忠良，视死如归，在死前对邻舍人说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我死后，将我眼睛挖出悬挂在吴京之东门上，以看越国军队入城灭吴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便自刎而死，夫差闻言大怒，令取子胥之尸体装在皮革里于五月五日投入大江，因此相传端午节亦为纪念伍子胥之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午节第三个意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为纪念东汉孝女曹娥救父投江而死。曹娥是东汉上虞人，父亲溺于江中，数日不见尸体，当时孝女曹娥年仅十四岁，昼夜沿江号哭。过了十七天，在五月五日也投江，五日后抱出父尸。就此传为神话，继而相传至县府知事，令度尚为之立碑，让他的弟子邯郸淳作诔辞颂扬。孝女曹娥之墓，在今浙江绍兴，后传曹娥碑为晋王义所书。后人为纪念曹娥的孝节，在曹娥投江之处兴建曹娥庙，她所居住的村镇改名为曹娥镇，曹娥殉父之处定名为曹娥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午节第四个意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纪念现代革命女诗人秋瑾。秋瑾是六月五日殉国，后人为敬仰其诗，复哀其忠勇事迹，乃与诗人节合并举行纪念，而诗人节亦因纪念爱国诗人屈原而定为端午节。秋瑾字睿卿竞雄，号鉴湖女侠，小字玉姑，浙江绍兴人，幼年擅长诗、词、歌、赋，且喜骑马击剑，有花木兰、秦良玉在世之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岁时参加革命，影响极大，预谋起义，开会时为清兵所捕，不屈，于光绪三十三年六月五日在绍兴轩亨口英勇就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4097"/>
          <p:cNvSpPr/>
          <p:nvPr/>
        </p:nvSpPr>
        <p:spPr>
          <a:xfrm>
            <a:off x="0" y="0"/>
            <a:ext cx="9144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屈原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端午节的由来，一定会让大家联想到的传说之一，是诗人屈原的故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屈原是战国时代楚国的三闾大夫，他是一位爱民而且又受到尊崇的官吏，但是由于一位充满嫉妒的官吏陷害，从此在朝廷中被皇帝所冷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心怀大志，一直为国家大事担心的屈原，因为眼看着国家急难而无法拯救他的国家、无法实现他的理想，整天都非常忧愁，常常独自在江边徘徊叹息。有一天，一位在江边钓鱼的渔夫                                       问他为什麽这麽失意落魄，屈原叹气的说：「举世皆醉唯                                         我独醒，举世皆浊唯我独清。」心中的感叹和无奈，在这两                                        句话中都说得很明白了。 不久，这位怀才不遇的诗人就投汨                                        罗江自杀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楚国的人民知道这个消                                        息之後，都不约而同的赶到江边来，想找寻他们所敬爱的                                      屈原，可是一直都找不到屈原的身体。为了不让水中的鱼                                         虾把屈原的身体吃掉，他们就在江上划着龙舟、敲锣打鼓                                      ，希望能将鱼虾赶跑；还用粽叶包米饭，作成粽子，投到                                      江里喂给鱼虾吃，希望屈原的身体不要受到伤害。一老医师则拿了一坛雄黄酒倒进江里，说是要药晕了蛟龙，使它不能伤害屈大夫。过不了多久，水面上浮起了一条昏晕的蛟龙，龙须上还沾着一片屈大夫的衣襟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端午节最重要的活动是龙舟竞赛，比赛的队伍在热烈的鼓声中划着他们多彩的龙舟前进。这项活动的灵感是来自于当时汩罗江畔的居民，在江中划船救屈原，而这个传统也一直保持了数个世纪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4098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205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1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ffff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6145"/>
          <p:cNvSpPr/>
          <p:nvPr/>
        </p:nvSpPr>
        <p:spPr>
          <a:xfrm>
            <a:off x="0" y="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端午节的由来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端午节，又称为五五节，因为端午节是在农历的五月五日，是三个重要的中国节庆之一，其他两个分別是中秋节和农历新年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农历五月初五为端午节，又称端阳节、午日节、五月节、艾节、端五、重午、午日、夏节。虽然名称不同，但各地人民过节的习俗是相同的。端午节是我国二千多年的旧习俗，每到这一天，家家户户都悬钟馗像，挂艾叶菖蒲，赛龙舟，吃粽子，饮雄黄酒，游百病，佩香囊，备牲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614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7169"/>
          <p:cNvSpPr/>
          <p:nvPr/>
        </p:nvSpPr>
        <p:spPr>
          <a:xfrm>
            <a:off x="0" y="0"/>
            <a:ext cx="39625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午别称知多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荆楚岁时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因仲夏登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顺阳在上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五月正是仲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它的第一个午日正是登高顺阳天气好的日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故称五月初五为“端阳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菖蒲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古人认为“重午”是犯禁忌的日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时五毒尽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此端午风俗多为驱邢避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在门上悬挂菖蒲、艾叶等，故端午节也称“菖蒲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浴兰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端午时值仲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皮肤病多发季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古人以兰草汤沐浴去污为俗。汉代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大戴礼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午日以兰汤沐浴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棕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古人端午吃棕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比较各人解下粽叶的长度、长者为胜的游戏，故又有“解粽节”之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图片 7170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657600" cy="23414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7171"/>
          <p:cNvSpPr/>
          <p:nvPr/>
        </p:nvSpPr>
        <p:spPr>
          <a:xfrm>
            <a:off x="4343400" y="0"/>
            <a:ext cx="4800600" cy="26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儿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沈榜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杂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燕京自五月一日至五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家家饰小闺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尽态极妍。已出嫁之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亦归宁簪以榴花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曰女儿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中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古人认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五月五日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太阳重人中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故称这一天为“天中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重午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属十二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农历五月为午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五、午同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五、五相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故端午节又名“重午节”或“重五节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 些地方也叫“五月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8193"/>
          <p:cNvSpPr/>
          <p:nvPr/>
        </p:nvSpPr>
        <p:spPr>
          <a:xfrm>
            <a:off x="0" y="0"/>
            <a:ext cx="91440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粽子由来久、花样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粽子是端午节的节日食品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粽子是端午节的节日食品，世界各地的华人，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论是本地、中国、台湾、香港，还是海外的唐人街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会按传统，在农历五月初五前准备各式粽子应节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但你知道吗，粽子的由来已久，汉代许慎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文解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书中，已有“粽子”的记载，是一种用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叶裹米的食品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不过，在古代，粽子可是称为角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明清以后，粽子多用糯米包裹，这时就不叫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黍，而称粽子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8194"/>
          <p:cNvSpPr/>
          <p:nvPr/>
        </p:nvSpPr>
        <p:spPr>
          <a:xfrm>
            <a:off x="5943600" y="0"/>
            <a:ext cx="3200400" cy="1252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粽子的名称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西晋周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风土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说，端午节用菰叶裹黍米栗枣，叫做筒粽，也叫角黍。明代李时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本草纲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，清楚说明用菰叶裹黍米，煮成尖角或棕榈叶形状食物，所以称“角黍”或“粽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片 8195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3733560" cy="274176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196"/>
          <p:cNvSpPr/>
          <p:nvPr/>
        </p:nvSpPr>
        <p:spPr>
          <a:xfrm>
            <a:off x="4495680" y="3809880"/>
            <a:ext cx="4648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地区不同， 由材料以至粽叶， 都有着很大的差别，连“裹” 的形状，也有很大的不同，如早期人们盛行以牛角祭天，因此汉晋 时 的 粽子，多做成角形， 作为祭祖用品之一。此外，一般还有正三角形、正四角形、尖三角形、方形、长形等各种形状。 而粽子的口味，也依地方的不同，而有差异，唐代时，长安街有许多粽子铺，有多种果仁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9217"/>
          <p:cNvSpPr/>
          <p:nvPr/>
        </p:nvSpPr>
        <p:spPr>
          <a:xfrm>
            <a:off x="0" y="0"/>
            <a:ext cx="91440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午节诗词赏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卯重五诗</a:t>
            </a:r>
            <a:r>
              <a:rPr b="0" lang="zh-CN" sz="2800" spc="-1" strike="noStrike">
                <a:solidFill>
                  <a:srgbClr val="000000"/>
                </a:solidFill>
                <a:latin typeface="FZKT"/>
              </a:rPr>
              <a:t>　　陆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重五山村好，榴花忽已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粽包分两髻，艾束著危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旧俗方储药，羸躯亦点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斜吾事毕，一笑向杯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图片 9218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3124080" cy="22687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9219"/>
          <p:cNvSpPr/>
          <p:nvPr/>
        </p:nvSpPr>
        <p:spPr>
          <a:xfrm>
            <a:off x="4419720" y="685800"/>
            <a:ext cx="472428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五律具体描写了南宋在端午节这天的生活习惯。作者吃了两角的粽子，高冠上插着艾枝。依旧俗，又忙着储药、配药方，为的是这一年能平安无病。到了晚上，他身心愉快地喝起酒来。从中可以反映出，江南端午风俗，既有纪念屈原的意思，又有卫生保健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7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0241"/>
          <p:cNvSpPr/>
          <p:nvPr/>
        </p:nvSpPr>
        <p:spPr>
          <a:xfrm>
            <a:off x="0" y="0"/>
            <a:ext cx="914400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竞渡曲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FZKT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沅江五月平堤流，邑人相将浮彩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灵均何年歌已矣，哀谣振楫从此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扬桴击节雷阗阗，乱流齐进声轰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蛟龙得雨耆鬣动，螮蝀饮河形影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刺史临流褰翠帏，揭竿命爵分雄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先鸣余勇争鼓舞，未至衔枚颜色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百胜本自有前期，一飞由来无定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风俗如狂重此时，纵观云委江之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彩旗夹岸照蛟室，罗袜凌波呈水嬉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曲终人散空愁暮，招屈亭前水车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禹锡这首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竞渡曲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叙的是沅江一次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龙舟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动。在州刺史的主持下，各队龙舟决一胜负。胜者欢欣，败者沮丧。赛后女子在水中嬉戏，与岸边彩旗相映生辉，为节日增添了无限的生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1024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8320" y="1143000"/>
            <a:ext cx="41907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925C-4B3D-4C0E-AA45-342D8529CA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3:24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8:35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NXTAG2">
    <vt:lpwstr>000800e801000000000001024120</vt:lpwstr>
  </property>
</Properties>
</file>