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8B4B-5E9D-48E5-8F5E-342CEED7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DF5E8-8DBF-43E2-9D1D-0579A712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737E-35D9-496B-BB7E-35E4E28D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4904E-EF05-43CC-BD93-47590B2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6020-BCDF-4103-8496-FE1DAC4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874D0-49E4-4FB8-94FB-E6F9BE21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278A4-B522-4DF6-B67B-A6F4212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7EE69-6EA0-44EF-9F1F-ABDD640F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4FCE5-F39C-4013-9864-F91E0864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720ED-5FC0-499E-88CE-8BF7E88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3BD9E-1424-4615-AD19-FFE41BB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98847-3609-41B8-8DBB-39BA57D8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ADEB-5286-435A-861F-60EC5F1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2C927-71AB-4608-BE5C-BEABCAAF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118CF-6365-4935-811A-DF075294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D8A7-5257-40EC-ACD8-10783094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7C290-8517-494A-8356-BFA0543E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32794-5792-4A5D-B4A6-9545750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5AD4B-88A8-48F9-9B94-D8604530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DC6C6-E956-48A4-BDA3-8D531EEF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9813-E5CD-47B4-90AA-A6DC40C6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DA088-EA25-49E5-905C-6606C81F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43EEC-5717-4F62-9B54-D0F19453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06C36-18DA-48B7-991D-110992DF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F6BD9-2A51-40F4-AB78-6FFC1D97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72903-5481-4D3E-AF87-ED916469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A1F73-C7C0-41DA-A074-531AA9CE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0339A-05F0-4CA0-BC95-0F90E390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D1F6E-EB3D-4C5A-B6FE-296B5D21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7716F-3BBA-4F75-9FF1-B1390B5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D5E-54C5-4004-A962-4496FE4E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4D2B-D615-4E14-A910-ED9B070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A85C-0B1C-4C3E-8DC6-E7E77353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303D4-00F0-4672-87F0-2395F1F7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1D07F-3ABB-4A43-B361-A359269C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62D9B-6267-499B-9438-3757A62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86B0C-1495-495C-91B9-3233FF90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0114E-5550-413C-8B15-0A65DCAE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3C232-D69A-4FBA-A010-1996F251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901DF-2E71-4A4A-BFC9-E53559D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EA862-922E-465E-B40B-DAF87A52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A30-6F36-4248-8BD0-E0882EEC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EE7E1-1AD4-4DA6-9E35-248BABE1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BD4C0-4635-490D-AAE7-BC283332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56DDF-5F41-42DD-8033-CE1EAD0C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F6A99-A8AA-4FC9-80B2-9F5601A1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15813-43A5-4B08-B9E0-3A67B3D4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6A0BB-EE86-46B0-B9F8-57228C84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07E54-2AF7-4D24-A909-0C4DE11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44C44-D73D-4C38-ACD0-9AB43362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AA374-F85E-46E6-B13A-ADF59AB8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541DF-5679-4CEE-8845-693769BF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1DA-3A94-4600-853D-E67AB62F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87E6E-4D78-499D-8756-2FB8CECB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17931-C45A-4013-9111-909854D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F4591-1B9A-4012-9936-F7D1BBDD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A4D1F-6210-4DB4-854D-B3B0BB3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037AF-0565-4659-8083-5D180418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220B3-A817-4C0F-8E96-D205D212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082C9-D85F-4849-9B0B-AA1D226F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55268-91F0-40CD-8CAA-339534D6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62C09-1C53-4540-A5B2-AD59A2C6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0EB5-4851-4FA8-AEC5-6186511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5B2-6D29-422E-9E35-2DF2A25D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F6EC3-6EB5-42A1-BA8B-7EA6F8E1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167AC-BE66-4A40-AABE-1B2E744B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09B7-890B-403F-95E1-41D29376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22068-D448-4B10-9BA8-211A7CD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BE926-BC17-43B8-BBE0-20426E9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56002-4C96-495A-BCC3-E72C2687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82B32-03F9-4F6F-978F-38660426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DFF4C-CAB0-4F2B-A1B0-26B41837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B0966-8B81-4C3A-BF53-3CF3EF31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492E2-2247-4B43-ADF2-DAADB975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1E1-2D76-468F-ACD6-EA02779E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DA052-4496-48AC-A66E-F28F1DE7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975D9-F6F6-4593-8FF3-2374330D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57D99-ED15-433C-B164-1002704E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865B4-F235-4482-AC70-181F468C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FD3D5-81E2-438C-8CB9-87605D0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2ED24-AAF3-417F-B965-84E985F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BBFC1-FCCD-4576-BB56-A9334720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6BFB6-5DF1-4E88-8886-D424243A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38890-E636-4900-B2ED-15A0F56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D2BB3-99DB-4139-9B9D-B52DD9DC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310-192A-4149-967E-992DC873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A375A-D1B0-4B0E-B78C-0001C0C6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D32-82B8-4F34-82BF-92CCB8CB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8C5-6313-401C-8FEA-CF16C6A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C2E-A7BD-4058-803B-C7332EB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423-2531-46B7-A8C0-A03FA18F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CCC-3A64-4F9F-A3FA-F9BAA977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513-5734-4C35-B728-DA529BDD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9B31-D4A5-487F-82E1-F1171D56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58C5-EC31-4403-9BF4-0E8D8856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69B8-5044-4F27-BC33-BC30733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9F99-702B-464F-92F5-7945611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3F23-3A6E-4567-B3E3-B71C7284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57BD-1B99-4F15-91EE-115BA4AA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69C8-C798-4F36-88C2-269F2A4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C1A5-9AC4-4F22-B7C8-83674DD6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9695-CA4F-4821-8719-27668D50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D84-B10E-43E7-A369-861F87B2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8B98-2FBD-4B43-992D-FD0AD1D3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6BA6-E741-4585-9CDA-7C2D17640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965B-2608-400C-B20B-5BD6CB2C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83667-8991-4492-9863-3A46E2B1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D0F64-3E78-4722-B2FC-364E16A2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29B5-F1A5-451F-98FA-80A07C1D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1B2E-EAC3-4EBF-9E75-9A136CD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0BFA0-BCBE-480E-8BD7-73ECE63C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D9337-1AF0-4F6B-889C-0497A39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E114-DB1B-4C4C-B0F1-1FC908E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13A2-98D2-4BD1-B314-81EAB1D4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50CA-BBDE-40AE-87E4-AAE09242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6377F-C1D4-4CF5-8412-1BA1E148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BCB78-7194-4E6D-BDD0-96DFD431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8FBC1-925D-43E5-A492-C45B12F1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2E32D-BF73-43DE-8035-B84DA1D1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EF3A-46F0-4256-B019-7419A2B6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468F9-1CAA-44AC-9843-67207C98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6932-225C-46BA-A0F1-469D59C3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16068-8C55-4CA2-98BA-68038A15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8CD87-20ED-460E-A407-BED1882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F64E-6A64-4B0B-9AFD-04C84DDC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A3C9-ACBD-453C-AB97-310C2F0B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9DD8B-23CF-4739-92AF-27C4B120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5093-9C09-4AD6-AC4C-A129D31F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3C48-5856-446A-9AED-8DF44655F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8425E-3650-4FE5-B5E5-3F06ED08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59F25-CD70-41FC-9A64-C5456881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7E9B-B347-458C-B8CA-C502408F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51AD-B4E9-4FBF-AC7C-ECE8F79C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F6648-2FC3-4D59-B454-AA460F8A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6C3E8-34C3-4AF4-97BA-EE43682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F52DB-5F6F-477B-B7ED-7B7BC7E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418D-D9CB-44C9-A6B1-DE057C56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0B7E-0F9A-4811-BBF9-AB9B1C72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6CCB-F9C0-4E08-A94E-21493AB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22D0B-E539-419B-9E91-849E38CB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06E04-384F-41D5-B531-A508F76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F35C-48FF-43E6-95EF-28651FD93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F179D-61A0-4934-A128-0EE7C970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F6F79-FC4E-46F4-88B2-AF54EC88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FE0E-ADA6-48DB-9386-92B7CBE4E01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32FB-6845-4328-9C8E-86F90ED25F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77EA-D161-4BD9-9D62-924E74D500D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356E-C6A7-4B73-AC7F-1ED2AA84CC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2945-2E34-4D5F-91C9-73D2EF37D9A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AFF-B1CB-4370-9AF6-416898612C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9563-6298-4036-83B2-A2518F0D2E0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ADC-ED6A-4976-B764-B0518C14D20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54B3-3585-49A3-B7F0-5AFCF783982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9650-4E20-4B02-811E-ABAB39797D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462B-485D-4631-8CDA-9C8D27F9103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622B-729C-453F-A71F-A44C721D6E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2D1-64B6-4E84-920C-4427EAD3FC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E6C3-C896-4312-B3D6-B34C913D13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6" descr="图片2.png"/>
          <p:cNvPicPr/>
          <p:nvPr/>
        </p:nvPicPr>
        <p:blipFill>
          <a:blip r:embed="rId3"/>
          <a:stretch/>
        </p:blipFill>
        <p:spPr>
          <a:xfrm>
            <a:off x="0" y="0"/>
            <a:ext cx="3500280" cy="4772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图片2-.png"/>
          <p:cNvPicPr/>
          <p:nvPr/>
        </p:nvPicPr>
        <p:blipFill>
          <a:blip r:embed="rId4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10"/>
          <p:cNvGrpSpPr/>
          <p:nvPr/>
        </p:nvGrpSpPr>
        <p:grpSpPr>
          <a:xfrm>
            <a:off x="2214720" y="1185840"/>
            <a:ext cx="2450880" cy="1600200"/>
            <a:chOff x="2214720" y="1185840"/>
            <a:chExt cx="2450880" cy="1600200"/>
          </a:xfrm>
        </p:grpSpPr>
        <p:pic>
          <p:nvPicPr>
            <p:cNvPr id="80" name="Picture 2" descr="C:\Documents and Settings\Administrator\桌面\情人节\情人节\情人节模板\12\未标题-3 .png"/>
            <p:cNvPicPr/>
            <p:nvPr/>
          </p:nvPicPr>
          <p:blipFill>
            <a:blip r:embed="rId5"/>
            <a:stretch/>
          </p:blipFill>
          <p:spPr>
            <a:xfrm>
              <a:off x="2214720" y="1253160"/>
              <a:ext cx="2450880" cy="15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矩形 5" descr=""/>
            <p:cNvPicPr/>
            <p:nvPr/>
          </p:nvPicPr>
          <p:blipFill>
            <a:blip r:embed="rId6"/>
            <a:stretch/>
          </p:blipFill>
          <p:spPr>
            <a:xfrm>
              <a:off x="2261520" y="1185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"/>
          <p:cNvGrpSpPr/>
          <p:nvPr/>
        </p:nvGrpSpPr>
        <p:grpSpPr>
          <a:xfrm>
            <a:off x="6550200" y="4857840"/>
            <a:ext cx="2450880" cy="1600200"/>
            <a:chOff x="6550200" y="4857840"/>
            <a:chExt cx="2450880" cy="1600200"/>
          </a:xfrm>
        </p:grpSpPr>
        <p:pic>
          <p:nvPicPr>
            <p:cNvPr id="121" name="Picture 2" descr="C:\Documents and Settings\Administrator\桌面\情人节\情人节\情人节模板\12\未标题-3 .png"/>
            <p:cNvPicPr/>
            <p:nvPr/>
          </p:nvPicPr>
          <p:blipFill>
            <a:blip r:embed="rId3"/>
            <a:stretch/>
          </p:blipFill>
          <p:spPr>
            <a:xfrm>
              <a:off x="6550200" y="4926600"/>
              <a:ext cx="2450880" cy="15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矩形 3" descr=""/>
            <p:cNvPicPr/>
            <p:nvPr/>
          </p:nvPicPr>
          <p:blipFill>
            <a:blip r:embed="rId4"/>
            <a:stretch/>
          </p:blipFill>
          <p:spPr>
            <a:xfrm>
              <a:off x="6595920" y="4857840"/>
              <a:ext cx="2383560" cy="160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图片 9" descr="图片2-.png"/>
          <p:cNvPicPr/>
          <p:nvPr/>
        </p:nvPicPr>
        <p:blipFill>
          <a:blip r:embed="rId5"/>
          <a:stretch/>
        </p:blipFill>
        <p:spPr>
          <a:xfrm>
            <a:off x="7629480" y="5505480"/>
            <a:ext cx="1514520" cy="135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9A83-D3D5-4BC2-85A8-E704E20817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3E06-8D2B-43F6-BB2D-9C685313EC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D3C-7B1E-4FD2-A13B-DC0FF67C4EB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86FD-6502-467B-9435-B522F22FA9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2F4-CD71-44D0-9D5F-3B4E59B8656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B683-9EF5-4EFB-8FB3-EC92C87009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C74F-5F7E-4434-AC20-3DF41F5C5B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571A-CE66-4837-A18D-872E208209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9BCD-B223-49C0-8D61-43827CB1B4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1F5B-3127-4D1A-AC00-99FB4D33DFC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标题 1"/>
          <p:cNvSpPr/>
          <p:nvPr/>
        </p:nvSpPr>
        <p:spPr>
          <a:xfrm>
            <a:off x="250920" y="4221000"/>
            <a:ext cx="8375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圆圈心形情人节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PPT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386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标题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lick to edit Master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圆角矩形 2" descr=""/>
          <p:cNvPicPr/>
          <p:nvPr/>
        </p:nvPicPr>
        <p:blipFill>
          <a:blip r:embed="rId1"/>
          <a:stretch/>
        </p:blipFill>
        <p:spPr>
          <a:xfrm>
            <a:off x="1133640" y="1542960"/>
            <a:ext cx="2176200" cy="4529160"/>
          </a:xfrm>
          <a:prstGeom prst="rect">
            <a:avLst/>
          </a:prstGeom>
          <a:ln w="0">
            <a:noFill/>
          </a:ln>
        </p:spPr>
      </p:pic>
      <p:pic>
        <p:nvPicPr>
          <p:cNvPr id="615" name="圆角矩形 3" descr=""/>
          <p:cNvPicPr/>
          <p:nvPr/>
        </p:nvPicPr>
        <p:blipFill>
          <a:blip r:embed="rId2"/>
          <a:stretch/>
        </p:blipFill>
        <p:spPr>
          <a:xfrm>
            <a:off x="3486240" y="1542960"/>
            <a:ext cx="2182680" cy="4529160"/>
          </a:xfrm>
          <a:prstGeom prst="rect">
            <a:avLst/>
          </a:prstGeom>
          <a:ln w="0">
            <a:noFill/>
          </a:ln>
        </p:spPr>
      </p:pic>
      <p:pic>
        <p:nvPicPr>
          <p:cNvPr id="616" name="圆角矩形 4" descr=""/>
          <p:cNvPicPr/>
          <p:nvPr/>
        </p:nvPicPr>
        <p:blipFill>
          <a:blip r:embed="rId3"/>
          <a:stretch/>
        </p:blipFill>
        <p:spPr>
          <a:xfrm>
            <a:off x="5772240" y="1542960"/>
            <a:ext cx="2182680" cy="4529160"/>
          </a:xfrm>
          <a:prstGeom prst="rect">
            <a:avLst/>
          </a:prstGeom>
          <a:ln w="0">
            <a:noFill/>
          </a:ln>
        </p:spPr>
      </p:pic>
      <p:sp>
        <p:nvSpPr>
          <p:cNvPr id="617" name="流程图: 摘录 5"/>
          <p:cNvSpPr/>
          <p:nvPr/>
        </p:nvSpPr>
        <p:spPr>
          <a:xfrm rot="5400000">
            <a:off x="3246120" y="324972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流程图: 摘录 6"/>
          <p:cNvSpPr/>
          <p:nvPr/>
        </p:nvSpPr>
        <p:spPr>
          <a:xfrm rot="5400000">
            <a:off x="5602320" y="3275640"/>
            <a:ext cx="322560" cy="298440"/>
          </a:xfrm>
          <a:prstGeom prst="flowChartExtra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35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7"/>
          <p:cNvSpPr/>
          <p:nvPr/>
        </p:nvSpPr>
        <p:spPr>
          <a:xfrm>
            <a:off x="928800" y="4214880"/>
            <a:ext cx="7072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2880">
              <a:lnSpc>
                <a:spcPct val="100000"/>
              </a:lnSpc>
              <a:buClr>
                <a:srgbClr val="000000"/>
              </a:buClr>
              <a:buFont typeface="Calibri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appy Valentine's da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I could save time in a bottle the first thing that I'd like to do is to save everyday until eternity passes away just to spend them with you if I could make days last forever if words could make wishes come true I'd save everyday like a treasure and then again I would spend them with y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文本框 18440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9114-4587-47AB-82C8-4A83CB3C3A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副标题 2"/>
          <p:cNvSpPr/>
          <p:nvPr/>
        </p:nvSpPr>
        <p:spPr>
          <a:xfrm>
            <a:off x="3514680" y="5214960"/>
            <a:ext cx="49863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Wondershar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标题 1"/>
          <p:cNvSpPr/>
          <p:nvPr/>
        </p:nvSpPr>
        <p:spPr>
          <a:xfrm>
            <a:off x="1371600" y="39290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  <a:ea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5"/>
          <p:cNvSpPr/>
          <p:nvPr/>
        </p:nvSpPr>
        <p:spPr>
          <a:xfrm rot="20268000">
            <a:off x="3818880" y="17442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07:09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51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