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E01-EC5D-42A3-9AC6-EE0A41BC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9BD-F086-4F8A-AD70-6347564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6C0-DA10-414C-A544-937464C9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6DF-C772-437C-82D6-F524EE36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D8A-380B-4854-B4E2-0AB43682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8555-6F6E-478F-AC97-C965A75A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1CAF-EB6F-4135-9FD3-5BA6BBB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FF9B-3D6B-48E2-87F1-AAA3146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39AE-D1B8-45D0-ABDA-9E5FB3BC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2A72-E4FD-43E5-982B-A31FE330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4A2A-6FB5-451C-B25D-66D2C97C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FAA-9464-49BA-83B8-1190C2CD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223F-915C-4F14-BF1E-C636005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9AED-20BC-4B7C-B646-169D382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523E-D1B5-4133-8090-AA01222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509F-BA2F-40C4-AEFF-832AD982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8065-01D2-428F-8837-091358D7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CCD-E85D-4A3B-9C7B-BC266482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6E4-07A6-4BC8-9DCE-391E404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F13-CEBE-4D14-A87F-918C7990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614-D74D-482A-B4A7-CEDAC5D4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285-CB12-4CD4-A896-1400D641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454-E4AD-408E-8755-464B8F90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9C1-B3BF-413A-BD48-F88E4C6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E1E8-E84C-4F23-B1F6-86A807C758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A29B-195A-440D-A242-6799D419C35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877D-ACEC-4219-AFE9-89EE34A395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041120" cy="453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506520" y="5646600"/>
            <a:ext cx="10160280" cy="125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684360" y="5715000"/>
            <a:ext cx="7848360" cy="8827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680840" y="333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愚人节面具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292720" y="692280"/>
            <a:ext cx="29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17080" y="189000"/>
            <a:ext cx="561960" cy="244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0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7468-CABF-4D28-B4DE-B74B68E0AB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8388360" y="4149720"/>
            <a:ext cx="561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32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