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A489-FE17-45FA-9C34-E023D5C0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3F8-A6C1-41DF-9353-D128B5BF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C1E-1B6F-4357-B5BB-7BEC67D5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C0A-3652-42BD-BCD9-B5C6A47F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271B-7C59-4C79-9C52-9C9BF93F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462E-3E42-4722-9147-A13DB4F1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55DB-510C-405A-9A97-989FE7DE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BCD1-52C0-49CD-8406-BD2D0E38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792F-2FE0-426F-AD99-9DC114BA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5BFF-A58A-4C82-819F-319C005B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B67F-02EB-4EF6-AE29-13C39774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150-279B-4A5D-9C60-C6F17794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8CC0-F94A-4A3F-8817-93D25654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A197-9208-4931-B82C-10B305A3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6D47-2125-4397-B855-F7F06533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4979-F751-4636-8A6F-D5D9D030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F224-85C3-43F9-A86D-7CFBFBEB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A77-24AF-4509-9F93-93FDBDB2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97D7-A15A-4FA4-B2CA-04D4C809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B65-49E4-4BD6-B2AC-E77137CC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4787-9859-4497-A7D9-8007D93F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584-34A5-4E5B-BCCF-FA76D5C6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06E-7317-4CF5-8F7A-8381E115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599-C5CA-45BF-8E9A-F6A3E011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1AD6-9C82-498C-9271-1363D1FF25C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946F-8ED8-479B-A89C-7510D1BD9F3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376E-0C15-4B02-A8AF-35425858B9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 rot="10800000">
            <a:off x="0" y="3860280"/>
            <a:ext cx="6696000" cy="1283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4754520" y="750960"/>
            <a:ext cx="4389480" cy="4392720"/>
          </a:xfrm>
          <a:prstGeom prst="rect">
            <a:avLst/>
          </a:prstGeom>
          <a:ln w="0">
            <a:noFill/>
          </a:ln>
        </p:spPr>
      </p:pic>
      <p:sp>
        <p:nvSpPr>
          <p:cNvPr id="84" name="椭圆 3"/>
          <p:cNvSpPr/>
          <p:nvPr/>
        </p:nvSpPr>
        <p:spPr>
          <a:xfrm>
            <a:off x="317520" y="463680"/>
            <a:ext cx="574560" cy="574560"/>
          </a:xfrm>
          <a:prstGeom prst="ellips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5"/>
          <p:cNvSpPr/>
          <p:nvPr/>
        </p:nvSpPr>
        <p:spPr>
          <a:xfrm>
            <a:off x="538200" y="942840"/>
            <a:ext cx="360360" cy="360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7"/>
          <p:cNvSpPr/>
          <p:nvPr/>
        </p:nvSpPr>
        <p:spPr>
          <a:xfrm>
            <a:off x="514440" y="1297080"/>
            <a:ext cx="573120" cy="573120"/>
          </a:xfrm>
          <a:prstGeom prst="ellips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6"/>
          <p:cNvSpPr/>
          <p:nvPr/>
        </p:nvSpPr>
        <p:spPr>
          <a:xfrm>
            <a:off x="826920" y="627120"/>
            <a:ext cx="992520" cy="992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8"/>
          <p:cNvSpPr/>
          <p:nvPr/>
        </p:nvSpPr>
        <p:spPr>
          <a:xfrm>
            <a:off x="514440" y="-614520"/>
            <a:ext cx="1365120" cy="1366920"/>
          </a:xfrm>
          <a:prstGeom prst="ellipse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689120" y="1924200"/>
            <a:ext cx="40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愚人节</a:t>
            </a:r>
            <a:r>
              <a:rPr b="1" lang="zh-CN" sz="40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模板打包在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848160" y="2932200"/>
            <a:ext cx="20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April Fool's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5435640" y="1870200"/>
            <a:ext cx="4319640" cy="2871720"/>
          </a:xfrm>
          <a:prstGeom prst="rect">
            <a:avLst/>
          </a:prstGeom>
          <a:ln w="0">
            <a:noFill/>
          </a:ln>
        </p:spPr>
      </p:pic>
      <p:sp>
        <p:nvSpPr>
          <p:cNvPr id="92" name="椭圆 16"/>
          <p:cNvSpPr/>
          <p:nvPr/>
        </p:nvSpPr>
        <p:spPr>
          <a:xfrm>
            <a:off x="600120" y="1870200"/>
            <a:ext cx="168120" cy="1681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17"/>
          <p:cNvSpPr/>
          <p:nvPr/>
        </p:nvSpPr>
        <p:spPr>
          <a:xfrm>
            <a:off x="1592280" y="369720"/>
            <a:ext cx="573120" cy="573120"/>
          </a:xfrm>
          <a:prstGeom prst="ellipse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085"/>
          <p:cNvSpPr/>
          <p:nvPr/>
        </p:nvSpPr>
        <p:spPr>
          <a:xfrm>
            <a:off x="10800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10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dur="indefinite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50"/>
                            </p:stCondLst>
                            <p:childTnLst>
                              <p:par>
                                <p:cTn id="64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6"/>
          <p:cNvSpPr/>
          <p:nvPr/>
        </p:nvSpPr>
        <p:spPr>
          <a:xfrm>
            <a:off x="0" y="3724200"/>
            <a:ext cx="9144000" cy="1419480"/>
          </a:xfrm>
          <a:custGeom>
            <a:avLst/>
            <a:gdLst/>
            <a:ahLst/>
            <a:rect l="l" t="t" r="r" b="b"/>
            <a:pathLst>
              <a:path w="9144000" h="1419622">
                <a:moveTo>
                  <a:pt x="495300" y="0"/>
                </a:moveTo>
                <a:lnTo>
                  <a:pt x="8674100" y="6626"/>
                </a:lnTo>
                <a:lnTo>
                  <a:pt x="9144000" y="1419622"/>
                </a:lnTo>
                <a:lnTo>
                  <a:pt x="0" y="1419622"/>
                </a:lnTo>
                <a:lnTo>
                  <a:pt x="49530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35"/>
          <p:cNvSpPr/>
          <p:nvPr/>
        </p:nvSpPr>
        <p:spPr>
          <a:xfrm>
            <a:off x="3995640" y="843120"/>
            <a:ext cx="1152720" cy="115236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34"/>
          <p:cNvSpPr/>
          <p:nvPr/>
        </p:nvSpPr>
        <p:spPr>
          <a:xfrm>
            <a:off x="5843520" y="1971720"/>
            <a:ext cx="912960" cy="911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1"/>
          <p:cNvSpPr/>
          <p:nvPr/>
        </p:nvSpPr>
        <p:spPr>
          <a:xfrm>
            <a:off x="1835280" y="2063880"/>
            <a:ext cx="5329080" cy="532908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3"/>
          <p:cNvSpPr/>
          <p:nvPr/>
        </p:nvSpPr>
        <p:spPr>
          <a:xfrm>
            <a:off x="317520" y="366840"/>
            <a:ext cx="272880" cy="274680"/>
          </a:xfrm>
          <a:prstGeom prst="ellips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5"/>
          <p:cNvSpPr/>
          <p:nvPr/>
        </p:nvSpPr>
        <p:spPr>
          <a:xfrm>
            <a:off x="422280" y="595440"/>
            <a:ext cx="171360" cy="171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7"/>
          <p:cNvSpPr/>
          <p:nvPr/>
        </p:nvSpPr>
        <p:spPr>
          <a:xfrm>
            <a:off x="411120" y="763560"/>
            <a:ext cx="273240" cy="273240"/>
          </a:xfrm>
          <a:prstGeom prst="ellips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6"/>
          <p:cNvSpPr/>
          <p:nvPr/>
        </p:nvSpPr>
        <p:spPr>
          <a:xfrm>
            <a:off x="560520" y="444600"/>
            <a:ext cx="471240" cy="4730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8"/>
          <p:cNvSpPr/>
          <p:nvPr/>
        </p:nvSpPr>
        <p:spPr>
          <a:xfrm>
            <a:off x="411120" y="-146160"/>
            <a:ext cx="649440" cy="650880"/>
          </a:xfrm>
          <a:prstGeom prst="ellipse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16"/>
          <p:cNvSpPr/>
          <p:nvPr/>
        </p:nvSpPr>
        <p:spPr>
          <a:xfrm>
            <a:off x="450720" y="1035000"/>
            <a:ext cx="81000" cy="810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17"/>
          <p:cNvSpPr/>
          <p:nvPr/>
        </p:nvSpPr>
        <p:spPr>
          <a:xfrm>
            <a:off x="923760" y="322200"/>
            <a:ext cx="273240" cy="273240"/>
          </a:xfrm>
          <a:prstGeom prst="ellipse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132000" y="2565360"/>
            <a:ext cx="2592360" cy="2594160"/>
          </a:xfrm>
          <a:prstGeom prst="rect">
            <a:avLst/>
          </a:prstGeom>
          <a:ln w="0">
            <a:noFill/>
          </a:ln>
        </p:spPr>
      </p:pic>
      <p:sp>
        <p:nvSpPr>
          <p:cNvPr id="107" name="椭圆 4"/>
          <p:cNvSpPr/>
          <p:nvPr/>
        </p:nvSpPr>
        <p:spPr>
          <a:xfrm>
            <a:off x="1260360" y="3363840"/>
            <a:ext cx="1150920" cy="115092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8"/>
          <p:cNvSpPr/>
          <p:nvPr/>
        </p:nvSpPr>
        <p:spPr>
          <a:xfrm>
            <a:off x="6588000" y="3363840"/>
            <a:ext cx="1152720" cy="115092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21"/>
          <p:cNvSpPr/>
          <p:nvPr/>
        </p:nvSpPr>
        <p:spPr>
          <a:xfrm>
            <a:off x="2124000" y="1851120"/>
            <a:ext cx="1150920" cy="115236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28"/>
          <p:cNvSpPr/>
          <p:nvPr/>
        </p:nvSpPr>
        <p:spPr>
          <a:xfrm>
            <a:off x="1379520" y="3483000"/>
            <a:ext cx="912960" cy="91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29"/>
          <p:cNvSpPr/>
          <p:nvPr/>
        </p:nvSpPr>
        <p:spPr>
          <a:xfrm>
            <a:off x="2243160" y="1971720"/>
            <a:ext cx="912960" cy="911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30"/>
          <p:cNvSpPr/>
          <p:nvPr/>
        </p:nvSpPr>
        <p:spPr>
          <a:xfrm>
            <a:off x="4114800" y="963720"/>
            <a:ext cx="912960" cy="9126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32"/>
          <p:cNvSpPr/>
          <p:nvPr/>
        </p:nvSpPr>
        <p:spPr>
          <a:xfrm>
            <a:off x="6708600" y="3483000"/>
            <a:ext cx="911520" cy="91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33"/>
          <p:cNvSpPr/>
          <p:nvPr/>
        </p:nvSpPr>
        <p:spPr>
          <a:xfrm>
            <a:off x="5724360" y="1851120"/>
            <a:ext cx="1151280" cy="115236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0"/>
          <p:cNvSpPr/>
          <p:nvPr/>
        </p:nvSpPr>
        <p:spPr>
          <a:xfrm>
            <a:off x="7821000" y="-1144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目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3"/>
          <p:cNvSpPr/>
          <p:nvPr/>
        </p:nvSpPr>
        <p:spPr>
          <a:xfrm>
            <a:off x="0" y="4587840"/>
            <a:ext cx="9144000" cy="555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3"/>
          <p:cNvSpPr/>
          <p:nvPr/>
        </p:nvSpPr>
        <p:spPr>
          <a:xfrm>
            <a:off x="317520" y="366840"/>
            <a:ext cx="272880" cy="274680"/>
          </a:xfrm>
          <a:prstGeom prst="ellips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5"/>
          <p:cNvSpPr/>
          <p:nvPr/>
        </p:nvSpPr>
        <p:spPr>
          <a:xfrm>
            <a:off x="422280" y="595440"/>
            <a:ext cx="171360" cy="171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7"/>
          <p:cNvSpPr/>
          <p:nvPr/>
        </p:nvSpPr>
        <p:spPr>
          <a:xfrm>
            <a:off x="411120" y="763560"/>
            <a:ext cx="273240" cy="273240"/>
          </a:xfrm>
          <a:prstGeom prst="ellips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6"/>
          <p:cNvSpPr/>
          <p:nvPr/>
        </p:nvSpPr>
        <p:spPr>
          <a:xfrm>
            <a:off x="560520" y="444600"/>
            <a:ext cx="471240" cy="4730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8"/>
          <p:cNvSpPr/>
          <p:nvPr/>
        </p:nvSpPr>
        <p:spPr>
          <a:xfrm>
            <a:off x="411120" y="-146160"/>
            <a:ext cx="649440" cy="650880"/>
          </a:xfrm>
          <a:prstGeom prst="ellipse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16"/>
          <p:cNvSpPr/>
          <p:nvPr/>
        </p:nvSpPr>
        <p:spPr>
          <a:xfrm>
            <a:off x="450720" y="1035000"/>
            <a:ext cx="81000" cy="810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17"/>
          <p:cNvSpPr/>
          <p:nvPr/>
        </p:nvSpPr>
        <p:spPr>
          <a:xfrm>
            <a:off x="923760" y="322200"/>
            <a:ext cx="273240" cy="273240"/>
          </a:xfrm>
          <a:prstGeom prst="ellipse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 rot="10800000">
            <a:off x="0" y="3860280"/>
            <a:ext cx="6696000" cy="1283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3924360" y="750960"/>
            <a:ext cx="4389480" cy="4392720"/>
          </a:xfrm>
          <a:prstGeom prst="rect">
            <a:avLst/>
          </a:prstGeom>
          <a:ln w="0">
            <a:noFill/>
          </a:ln>
        </p:spPr>
      </p:pic>
      <p:sp>
        <p:nvSpPr>
          <p:cNvPr id="126" name="椭圆形标注 1"/>
          <p:cNvSpPr/>
          <p:nvPr/>
        </p:nvSpPr>
        <p:spPr>
          <a:xfrm>
            <a:off x="893880" y="322200"/>
            <a:ext cx="3395520" cy="3402000"/>
          </a:xfrm>
          <a:prstGeom prst="wedgeEllipseCallout">
            <a:avLst>
              <a:gd name="adj1" fmla="val 59018"/>
              <a:gd name="adj2" fmla="val 1901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愚人节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ril Fool's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ril Fool's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Fools'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也称万愚节、幽默节，是西方社会民间传统节日，节期在每年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。愚人节与古罗马的嬉乐节和印度的欢悦节有相似之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时间的选择上看与“春分”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）有关，因为这期间天气常常突然变化，恰似是大自然在愚弄人类。这一天，人们以多种方式开周围的人的玩笑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7821000" y="-1144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介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3"/>
          <p:cNvSpPr/>
          <p:nvPr/>
        </p:nvSpPr>
        <p:spPr>
          <a:xfrm>
            <a:off x="0" y="4587840"/>
            <a:ext cx="9144000" cy="555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3"/>
          <p:cNvSpPr/>
          <p:nvPr/>
        </p:nvSpPr>
        <p:spPr>
          <a:xfrm>
            <a:off x="317520" y="366840"/>
            <a:ext cx="272880" cy="274680"/>
          </a:xfrm>
          <a:prstGeom prst="ellips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5"/>
          <p:cNvSpPr/>
          <p:nvPr/>
        </p:nvSpPr>
        <p:spPr>
          <a:xfrm>
            <a:off x="422280" y="595440"/>
            <a:ext cx="171360" cy="171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411120" y="763560"/>
            <a:ext cx="273240" cy="273240"/>
          </a:xfrm>
          <a:prstGeom prst="ellips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6"/>
          <p:cNvSpPr/>
          <p:nvPr/>
        </p:nvSpPr>
        <p:spPr>
          <a:xfrm>
            <a:off x="560520" y="444600"/>
            <a:ext cx="471240" cy="4730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8"/>
          <p:cNvSpPr/>
          <p:nvPr/>
        </p:nvSpPr>
        <p:spPr>
          <a:xfrm>
            <a:off x="411120" y="-146160"/>
            <a:ext cx="649440" cy="650880"/>
          </a:xfrm>
          <a:prstGeom prst="ellipse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16"/>
          <p:cNvSpPr/>
          <p:nvPr/>
        </p:nvSpPr>
        <p:spPr>
          <a:xfrm>
            <a:off x="450720" y="1035000"/>
            <a:ext cx="81000" cy="810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17"/>
          <p:cNvSpPr/>
          <p:nvPr/>
        </p:nvSpPr>
        <p:spPr>
          <a:xfrm>
            <a:off x="923760" y="322200"/>
            <a:ext cx="273240" cy="273240"/>
          </a:xfrm>
          <a:prstGeom prst="ellipse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7148880" y="-127080"/>
            <a:ext cx="1643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整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奇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泪滴形 23"/>
          <p:cNvSpPr/>
          <p:nvPr/>
        </p:nvSpPr>
        <p:spPr>
          <a:xfrm rot="8100000">
            <a:off x="1501200" y="1025280"/>
            <a:ext cx="1863720" cy="1863720"/>
          </a:xfrm>
          <a:custGeom>
            <a:avLst/>
            <a:gdLst/>
            <a:ahLst/>
            <a:rect l="l" t="t" r="r" b="b"/>
            <a:pathLst>
              <a:path w="2934" h="2934">
                <a:moveTo>
                  <a:pt x="0" y="1467"/>
                </a:moveTo>
                <a:cubicBezTo>
                  <a:pt x="0" y="657"/>
                  <a:pt x="657" y="0"/>
                  <a:pt x="1467" y="0"/>
                </a:cubicBezTo>
                <a:cubicBezTo>
                  <a:pt x="2224" y="0"/>
                  <a:pt x="2981" y="-268"/>
                  <a:pt x="3739" y="-805"/>
                </a:cubicBezTo>
                <a:cubicBezTo>
                  <a:pt x="3202" y="-48"/>
                  <a:pt x="2934" y="709"/>
                  <a:pt x="2934" y="1467"/>
                </a:cubicBezTo>
                <a:cubicBezTo>
                  <a:pt x="2934" y="2277"/>
                  <a:pt x="2277" y="2934"/>
                  <a:pt x="1467" y="2934"/>
                </a:cubicBezTo>
                <a:cubicBezTo>
                  <a:pt x="657" y="2934"/>
                  <a:pt x="0" y="2277"/>
                  <a:pt x="0" y="1467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163600" y="4049640"/>
            <a:ext cx="538200" cy="538200"/>
          </a:xfrm>
          <a:prstGeom prst="rect">
            <a:avLst/>
          </a:prstGeom>
          <a:ln w="0">
            <a:noFill/>
          </a:ln>
        </p:spPr>
      </p:pic>
      <p:sp>
        <p:nvSpPr>
          <p:cNvPr id="139" name="椭圆 25"/>
          <p:cNvSpPr/>
          <p:nvPr/>
        </p:nvSpPr>
        <p:spPr>
          <a:xfrm>
            <a:off x="1558800" y="1084320"/>
            <a:ext cx="1746360" cy="1746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愚人节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ril Fool's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ril Fool's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Fools'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也称万愚节、幽默节，是西方社会民间传统节日，节期在每年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泪滴形 26"/>
          <p:cNvSpPr/>
          <p:nvPr/>
        </p:nvSpPr>
        <p:spPr>
          <a:xfrm rot="8100000">
            <a:off x="3501360" y="1025280"/>
            <a:ext cx="1863720" cy="1863720"/>
          </a:xfrm>
          <a:custGeom>
            <a:avLst/>
            <a:gdLst/>
            <a:ahLst/>
            <a:rect l="l" t="t" r="r" b="b"/>
            <a:pathLst>
              <a:path w="2934" h="2934">
                <a:moveTo>
                  <a:pt x="0" y="1467"/>
                </a:moveTo>
                <a:cubicBezTo>
                  <a:pt x="0" y="657"/>
                  <a:pt x="657" y="0"/>
                  <a:pt x="1467" y="0"/>
                </a:cubicBezTo>
                <a:cubicBezTo>
                  <a:pt x="2224" y="0"/>
                  <a:pt x="2981" y="-268"/>
                  <a:pt x="3739" y="-805"/>
                </a:cubicBezTo>
                <a:cubicBezTo>
                  <a:pt x="3202" y="-48"/>
                  <a:pt x="2934" y="709"/>
                  <a:pt x="2934" y="1467"/>
                </a:cubicBezTo>
                <a:cubicBezTo>
                  <a:pt x="2934" y="2277"/>
                  <a:pt x="2277" y="2934"/>
                  <a:pt x="1467" y="2934"/>
                </a:cubicBezTo>
                <a:cubicBezTo>
                  <a:pt x="657" y="2934"/>
                  <a:pt x="0" y="2277"/>
                  <a:pt x="0" y="1467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4165560" y="4049640"/>
            <a:ext cx="536760" cy="538200"/>
          </a:xfrm>
          <a:prstGeom prst="rect">
            <a:avLst/>
          </a:prstGeom>
          <a:ln w="0">
            <a:noFill/>
          </a:ln>
        </p:spPr>
      </p:pic>
      <p:sp>
        <p:nvSpPr>
          <p:cNvPr id="142" name="椭圆 28"/>
          <p:cNvSpPr/>
          <p:nvPr/>
        </p:nvSpPr>
        <p:spPr>
          <a:xfrm>
            <a:off x="3559320" y="1084320"/>
            <a:ext cx="1746000" cy="1746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愚人节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ril Fool's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ril Fool's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Fools'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也称万愚节、幽默节，是西方社会民间传统节日，节期在每年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泪滴形 29"/>
          <p:cNvSpPr/>
          <p:nvPr/>
        </p:nvSpPr>
        <p:spPr>
          <a:xfrm rot="8100000">
            <a:off x="5517360" y="1025280"/>
            <a:ext cx="1863720" cy="1863720"/>
          </a:xfrm>
          <a:custGeom>
            <a:avLst/>
            <a:gdLst/>
            <a:ahLst/>
            <a:rect l="l" t="t" r="r" b="b"/>
            <a:pathLst>
              <a:path w="2934" h="2934">
                <a:moveTo>
                  <a:pt x="0" y="1467"/>
                </a:moveTo>
                <a:cubicBezTo>
                  <a:pt x="0" y="657"/>
                  <a:pt x="657" y="0"/>
                  <a:pt x="1467" y="0"/>
                </a:cubicBezTo>
                <a:cubicBezTo>
                  <a:pt x="2224" y="0"/>
                  <a:pt x="2981" y="-268"/>
                  <a:pt x="3739" y="-805"/>
                </a:cubicBezTo>
                <a:cubicBezTo>
                  <a:pt x="3202" y="-48"/>
                  <a:pt x="2934" y="709"/>
                  <a:pt x="2934" y="1467"/>
                </a:cubicBezTo>
                <a:cubicBezTo>
                  <a:pt x="2934" y="2277"/>
                  <a:pt x="2277" y="2934"/>
                  <a:pt x="1467" y="2934"/>
                </a:cubicBezTo>
                <a:cubicBezTo>
                  <a:pt x="657" y="2934"/>
                  <a:pt x="0" y="2277"/>
                  <a:pt x="0" y="1467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6181560" y="4049640"/>
            <a:ext cx="536760" cy="538200"/>
          </a:xfrm>
          <a:prstGeom prst="rect">
            <a:avLst/>
          </a:prstGeom>
          <a:ln w="0">
            <a:noFill/>
          </a:ln>
        </p:spPr>
      </p:pic>
      <p:sp>
        <p:nvSpPr>
          <p:cNvPr id="145" name="椭圆 31"/>
          <p:cNvSpPr/>
          <p:nvPr/>
        </p:nvSpPr>
        <p:spPr>
          <a:xfrm>
            <a:off x="5575320" y="1084320"/>
            <a:ext cx="1746360" cy="1746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愚人节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ril Fool's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ril Fool's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Fools'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也称万愚节、幽默节，是西方社会民间传统节日，节期在每年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1F59-99E2-49D9-BE7A-8F20EA4737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3"/>
          <p:cNvSpPr/>
          <p:nvPr/>
        </p:nvSpPr>
        <p:spPr>
          <a:xfrm>
            <a:off x="0" y="4587840"/>
            <a:ext cx="9144000" cy="555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3"/>
          <p:cNvSpPr/>
          <p:nvPr/>
        </p:nvSpPr>
        <p:spPr>
          <a:xfrm>
            <a:off x="317520" y="366840"/>
            <a:ext cx="272880" cy="274680"/>
          </a:xfrm>
          <a:prstGeom prst="ellips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5"/>
          <p:cNvSpPr/>
          <p:nvPr/>
        </p:nvSpPr>
        <p:spPr>
          <a:xfrm>
            <a:off x="422280" y="595440"/>
            <a:ext cx="171360" cy="171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7"/>
          <p:cNvSpPr/>
          <p:nvPr/>
        </p:nvSpPr>
        <p:spPr>
          <a:xfrm>
            <a:off x="411120" y="763560"/>
            <a:ext cx="273240" cy="273240"/>
          </a:xfrm>
          <a:prstGeom prst="ellips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6"/>
          <p:cNvSpPr/>
          <p:nvPr/>
        </p:nvSpPr>
        <p:spPr>
          <a:xfrm>
            <a:off x="560520" y="444600"/>
            <a:ext cx="471240" cy="4730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8"/>
          <p:cNvSpPr/>
          <p:nvPr/>
        </p:nvSpPr>
        <p:spPr>
          <a:xfrm>
            <a:off x="411120" y="-146160"/>
            <a:ext cx="649440" cy="650880"/>
          </a:xfrm>
          <a:prstGeom prst="ellipse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6"/>
          <p:cNvSpPr/>
          <p:nvPr/>
        </p:nvSpPr>
        <p:spPr>
          <a:xfrm>
            <a:off x="450720" y="1035000"/>
            <a:ext cx="81000" cy="810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7"/>
          <p:cNvSpPr/>
          <p:nvPr/>
        </p:nvSpPr>
        <p:spPr>
          <a:xfrm>
            <a:off x="923760" y="322200"/>
            <a:ext cx="273240" cy="273240"/>
          </a:xfrm>
          <a:prstGeom prst="ellipse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7887600" y="-1270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广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36"/>
          <p:cNvSpPr/>
          <p:nvPr/>
        </p:nvSpPr>
        <p:spPr>
          <a:xfrm>
            <a:off x="1116000" y="1779480"/>
            <a:ext cx="1150920" cy="115272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50920" y="2932200"/>
            <a:ext cx="1441440" cy="1728720"/>
            <a:chOff x="250920" y="2932200"/>
            <a:chExt cx="1441440" cy="1728720"/>
          </a:xfrm>
        </p:grpSpPr>
        <p:sp>
          <p:nvSpPr>
            <p:cNvPr id="161" name="直接连接符 39"/>
            <p:cNvSpPr/>
            <p:nvPr/>
          </p:nvSpPr>
          <p:spPr>
            <a:xfrm flipV="1">
              <a:off x="250920" y="2932200"/>
              <a:ext cx="1441440" cy="1728720"/>
            </a:xfrm>
            <a:prstGeom prst="line">
              <a:avLst/>
            </a:prstGeom>
            <a:ln w="3240">
              <a:solidFill>
                <a:srgbClr val="ffc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0800000">
              <a:off x="250920" y="2932200"/>
              <a:ext cx="1441440" cy="172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椭圆 42"/>
          <p:cNvSpPr/>
          <p:nvPr/>
        </p:nvSpPr>
        <p:spPr>
          <a:xfrm>
            <a:off x="2700360" y="843120"/>
            <a:ext cx="1789200" cy="179064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98440" y="1738440"/>
            <a:ext cx="601920" cy="209520"/>
            <a:chOff x="2098440" y="1738440"/>
            <a:chExt cx="601920" cy="209520"/>
          </a:xfrm>
        </p:grpSpPr>
        <p:sp>
          <p:nvSpPr>
            <p:cNvPr id="165" name="直接连接符 43"/>
            <p:cNvSpPr/>
            <p:nvPr/>
          </p:nvSpPr>
          <p:spPr>
            <a:xfrm flipV="1">
              <a:off x="2098800" y="1738440"/>
              <a:ext cx="601560" cy="209520"/>
            </a:xfrm>
            <a:prstGeom prst="line">
              <a:avLst/>
            </a:prstGeom>
            <a:ln w="3240">
              <a:solidFill>
                <a:srgbClr val="ffc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 rot="10800000">
              <a:off x="2098440" y="1738440"/>
              <a:ext cx="601560" cy="2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椭圆 50"/>
          <p:cNvSpPr/>
          <p:nvPr/>
        </p:nvSpPr>
        <p:spPr>
          <a:xfrm>
            <a:off x="2803680" y="955800"/>
            <a:ext cx="1584000" cy="1584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分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227480" y="2371680"/>
            <a:ext cx="241200" cy="331920"/>
            <a:chOff x="4227480" y="2371680"/>
            <a:chExt cx="241200" cy="331920"/>
          </a:xfrm>
        </p:grpSpPr>
        <p:sp>
          <p:nvSpPr>
            <p:cNvPr id="169" name="直接连接符 51"/>
            <p:cNvSpPr/>
            <p:nvPr/>
          </p:nvSpPr>
          <p:spPr>
            <a:xfrm>
              <a:off x="4227480" y="2371680"/>
              <a:ext cx="241200" cy="331920"/>
            </a:xfrm>
            <a:prstGeom prst="line">
              <a:avLst/>
            </a:prstGeom>
            <a:ln w="3240">
              <a:solidFill>
                <a:srgbClr val="ffc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4227480" y="2371680"/>
              <a:ext cx="2412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椭圆 55"/>
          <p:cNvSpPr/>
          <p:nvPr/>
        </p:nvSpPr>
        <p:spPr>
          <a:xfrm>
            <a:off x="4282920" y="2517840"/>
            <a:ext cx="1265400" cy="126504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56"/>
          <p:cNvSpPr/>
          <p:nvPr/>
        </p:nvSpPr>
        <p:spPr>
          <a:xfrm>
            <a:off x="4387680" y="2611440"/>
            <a:ext cx="1079640" cy="1081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选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61"/>
          <p:cNvSpPr/>
          <p:nvPr/>
        </p:nvSpPr>
        <p:spPr>
          <a:xfrm>
            <a:off x="4824360" y="393840"/>
            <a:ext cx="2146320" cy="214632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2"/>
          <p:cNvSpPr/>
          <p:nvPr/>
        </p:nvSpPr>
        <p:spPr>
          <a:xfrm>
            <a:off x="4927680" y="485640"/>
            <a:ext cx="1941480" cy="194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授权发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创大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新免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549760" y="2540160"/>
            <a:ext cx="347760" cy="610920"/>
            <a:chOff x="5549760" y="2540160"/>
            <a:chExt cx="347760" cy="610920"/>
          </a:xfrm>
        </p:grpSpPr>
        <p:sp>
          <p:nvSpPr>
            <p:cNvPr id="176" name="直接连接符 63"/>
            <p:cNvSpPr/>
            <p:nvPr/>
          </p:nvSpPr>
          <p:spPr>
            <a:xfrm flipH="1">
              <a:off x="5549760" y="2540160"/>
              <a:ext cx="347760" cy="610920"/>
            </a:xfrm>
            <a:prstGeom prst="line">
              <a:avLst/>
            </a:prstGeom>
            <a:ln w="3240">
              <a:solidFill>
                <a:srgbClr val="ffc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5549760" y="2540160"/>
              <a:ext cx="347760" cy="61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椭圆 70"/>
          <p:cNvSpPr/>
          <p:nvPr/>
        </p:nvSpPr>
        <p:spPr>
          <a:xfrm>
            <a:off x="6413400" y="2611440"/>
            <a:ext cx="897120" cy="89676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71"/>
          <p:cNvSpPr/>
          <p:nvPr/>
        </p:nvSpPr>
        <p:spPr>
          <a:xfrm>
            <a:off x="6486480" y="2676600"/>
            <a:ext cx="765360" cy="7668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常更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656400" y="2225520"/>
            <a:ext cx="204840" cy="384480"/>
            <a:chOff x="6656400" y="2225520"/>
            <a:chExt cx="204840" cy="384480"/>
          </a:xfrm>
        </p:grpSpPr>
        <p:sp>
          <p:nvSpPr>
            <p:cNvPr id="181" name="直接连接符 72"/>
            <p:cNvSpPr/>
            <p:nvPr/>
          </p:nvSpPr>
          <p:spPr>
            <a:xfrm>
              <a:off x="6656400" y="2225520"/>
              <a:ext cx="204840" cy="384480"/>
            </a:xfrm>
            <a:prstGeom prst="line">
              <a:avLst/>
            </a:prstGeom>
            <a:ln w="3240">
              <a:solidFill>
                <a:srgbClr val="ffc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6656400" y="2225520"/>
              <a:ext cx="204840" cy="38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178760" y="3376440"/>
            <a:ext cx="633240" cy="1355760"/>
            <a:chOff x="7178760" y="3376440"/>
            <a:chExt cx="633240" cy="1355760"/>
          </a:xfrm>
        </p:grpSpPr>
        <p:sp>
          <p:nvSpPr>
            <p:cNvPr id="184" name="直接连接符 76"/>
            <p:cNvSpPr/>
            <p:nvPr/>
          </p:nvSpPr>
          <p:spPr>
            <a:xfrm>
              <a:off x="7178760" y="3376440"/>
              <a:ext cx="633240" cy="1355760"/>
            </a:xfrm>
            <a:prstGeom prst="line">
              <a:avLst/>
            </a:prstGeom>
            <a:ln w="3240">
              <a:solidFill>
                <a:srgbClr val="ffc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7178760" y="3376440"/>
              <a:ext cx="633240" cy="135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2058"/>
          <p:cNvSpPr/>
          <p:nvPr/>
        </p:nvSpPr>
        <p:spPr>
          <a:xfrm>
            <a:off x="1668600" y="335592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0"/>
          <p:cNvSpPr/>
          <p:nvPr/>
        </p:nvSpPr>
        <p:spPr>
          <a:xfrm>
            <a:off x="1647720" y="3859200"/>
            <a:ext cx="30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7195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8:4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27Z</dcterms:modified>
  <cp:revision>5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