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75B8-E619-4EE3-8A8A-AAE9A7613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559E-9374-474F-8142-CED8AD00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5418-4FB5-47AF-9545-853F9AF24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2DB2-61BA-4D2F-AFD1-7F126785B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5BAF-9092-4332-BD4E-6A3AED5CF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84C6-864E-40F1-BE85-08DB88E2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0C36-2EF6-41FD-BCA8-C4834C97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A171-AF62-4F9F-9AC6-1E108E15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7E62-FDF1-4B8F-B3F6-E921FAFC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60C2-2BEE-42BF-9B2D-D8112C68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C692-F9B7-40ED-82A1-47B926D5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19B8-9552-4CA1-A8FE-DBE63D58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8C81F-0A17-4C5B-A0A9-78BBBD93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82130-62E5-49DB-AF47-0F7F73FF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F7C0-3F27-4DC9-A9A6-ACABBB9B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0D8E2-90E7-48ED-98F2-13467A5D5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59613-C7F8-469C-A8D3-9CAF84601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E864-98AD-44D3-A8F9-259BD268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710B-C873-4A63-9C8D-C984A2B4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2376-CD2B-445F-90BC-B409A76B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7B34-C28E-4B21-8F63-A9737CC1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6ECA-91A0-45F6-8914-3B8EEFF7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B0A3-C724-4B89-B401-20115BA6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FDE7-3CA5-4EA1-B811-1E70B711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0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C07A-BCD2-495A-86D2-17DC1E5AF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FA84-5ACE-4047-8B32-61876F18801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7F7C-819F-4028-A631-A9098E4257A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hyperlink" Target="http://www.eeppt.com" TargetMode="External"/><Relationship Id="rId9" Type="http://schemas.openxmlformats.org/officeDocument/2006/relationships/hyperlink" Target="http://www.eeppt.com" TargetMode="Externa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209520" y="476280"/>
            <a:ext cx="8934480" cy="5546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"/>
          <p:cNvPicPr/>
          <p:nvPr/>
        </p:nvPicPr>
        <p:blipFill>
          <a:blip r:embed="rId2"/>
          <a:stretch/>
        </p:blipFill>
        <p:spPr>
          <a:xfrm>
            <a:off x="4284720" y="2293920"/>
            <a:ext cx="4843440" cy="453852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3075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3076"/>
          <p:cNvSpPr/>
          <p:nvPr/>
        </p:nvSpPr>
        <p:spPr>
          <a:xfrm>
            <a:off x="2701440" y="11736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愚人节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324000" y="-39600"/>
            <a:ext cx="2095200" cy="1955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4878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3"/>
          <a:stretch/>
        </p:blipFill>
        <p:spPr>
          <a:xfrm>
            <a:off x="2525760" y="6597720"/>
            <a:ext cx="4091040" cy="1522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7"/>
          <p:cNvSpPr/>
          <p:nvPr/>
        </p:nvSpPr>
        <p:spPr>
          <a:xfrm>
            <a:off x="1476360" y="288144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愚人（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pril Fool's Day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）节  愚人节较普遍的说法是起源于法国。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1564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年；法国首先采用新改革的纪年法格里历（即目前通用的公历），以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月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日为一年之始。但一些因循守旧的人反对这种改革，依然按照旧历固执地在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月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日这一天送礼品，庆祝新年。主张改革的人对这些守旧者的做法大加嘲弄。聪明滑稽的人在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月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日就给他们送假礼品，邀请他们参加假招待会，并把上当受骗的保守分子称为“四月傻瓜”或“上钩的鱼”。从此人们在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月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日便互相愚弄，成为法国流行的风俗。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世纪初，愚人节习俗传到英国，接着又被英国的早期移民带到了美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"/>
          <p:cNvPicPr/>
          <p:nvPr/>
        </p:nvPicPr>
        <p:blipFill>
          <a:blip r:embed="rId4"/>
          <a:stretch/>
        </p:blipFill>
        <p:spPr>
          <a:xfrm>
            <a:off x="684360" y="1916280"/>
            <a:ext cx="7723080" cy="9252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1"/>
          <p:cNvSpPr/>
          <p:nvPr/>
        </p:nvSpPr>
        <p:spPr>
          <a:xfrm>
            <a:off x="3647160" y="1963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愚人节的介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324000" y="-39600"/>
            <a:ext cx="2095200" cy="1955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4878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3"/>
          <a:stretch/>
        </p:blipFill>
        <p:spPr>
          <a:xfrm>
            <a:off x="2525760" y="6597720"/>
            <a:ext cx="4091040" cy="152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4"/>
          <a:stretch/>
        </p:blipFill>
        <p:spPr>
          <a:xfrm>
            <a:off x="539640" y="1916280"/>
            <a:ext cx="3959280" cy="9252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1072440" y="1989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整蛊妙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539640" y="263700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的愚人节又要到了，愚人节最典型的活动就是大家互相开玩笑，用假话捉弄对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有的人把细线拴着的钱包丢在大街上，自己在暗处拉着线的另一端。一旦有人捡起钱包，他们就出其不意地猛然把钱包拽走。还有人把砖头放在破帽子下面搁在马路当中，然后等着看谁来了会踢它。小孩儿们会告诉父母说自己的书包破了个洞，或者脸上有个黑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等大人俯身来看时，他们就一边喊着“四月傻瓜”，一边笑着跑开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"/>
          <p:cNvPicPr/>
          <p:nvPr/>
        </p:nvPicPr>
        <p:blipFill>
          <a:blip r:embed="rId5"/>
          <a:stretch/>
        </p:blipFill>
        <p:spPr>
          <a:xfrm>
            <a:off x="5148360" y="1967040"/>
            <a:ext cx="3430440" cy="3767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"/>
          <p:cNvPicPr/>
          <p:nvPr/>
        </p:nvPicPr>
        <p:blipFill>
          <a:blip r:embed="rId6"/>
          <a:stretch/>
        </p:blipFill>
        <p:spPr>
          <a:xfrm>
            <a:off x="5213520" y="2205000"/>
            <a:ext cx="3174840" cy="2583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1"/>
          <p:cNvSpPr/>
          <p:nvPr/>
        </p:nvSpPr>
        <p:spPr>
          <a:xfrm>
            <a:off x="2742840" y="5746680"/>
            <a:ext cx="148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Arial"/>
              </a:rPr>
              <a:t>新招 奇招 怪招 请问度娘去吧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24000" y="-39600"/>
            <a:ext cx="2095200" cy="1955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4878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3"/>
          <a:stretch/>
        </p:blipFill>
        <p:spPr>
          <a:xfrm>
            <a:off x="2525760" y="6597720"/>
            <a:ext cx="4091040" cy="152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"/>
          <p:cNvPicPr/>
          <p:nvPr/>
        </p:nvPicPr>
        <p:blipFill>
          <a:blip r:embed="rId4"/>
          <a:stretch/>
        </p:blipFill>
        <p:spPr>
          <a:xfrm>
            <a:off x="539640" y="1916280"/>
            <a:ext cx="3959280" cy="9252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8"/>
          <p:cNvSpPr/>
          <p:nvPr/>
        </p:nvSpPr>
        <p:spPr>
          <a:xfrm>
            <a:off x="1072440" y="1989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整蛊图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5"/>
          <a:stretch/>
        </p:blipFill>
        <p:spPr>
          <a:xfrm>
            <a:off x="1671480" y="3164040"/>
            <a:ext cx="2324160" cy="2209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"/>
          <p:cNvPicPr/>
          <p:nvPr/>
        </p:nvPicPr>
        <p:blipFill>
          <a:blip r:embed="rId6"/>
          <a:stretch/>
        </p:blipFill>
        <p:spPr>
          <a:xfrm>
            <a:off x="5043600" y="3078000"/>
            <a:ext cx="2336760" cy="2222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"/>
          <p:cNvPicPr/>
          <p:nvPr/>
        </p:nvPicPr>
        <p:blipFill>
          <a:blip r:embed="rId7"/>
          <a:stretch/>
        </p:blipFill>
        <p:spPr>
          <a:xfrm>
            <a:off x="-684360" y="2997360"/>
            <a:ext cx="10161720" cy="2603520"/>
          </a:xfrm>
          <a:prstGeom prst="rect">
            <a:avLst/>
          </a:prstGeom>
          <a:ln w="0">
            <a:noFill/>
          </a:ln>
        </p:spPr>
      </p:pic>
      <p:sp>
        <p:nvSpPr>
          <p:cNvPr id="110" name="文本框 6154"/>
          <p:cNvSpPr/>
          <p:nvPr/>
        </p:nvSpPr>
        <p:spPr>
          <a:xfrm>
            <a:off x="826920" y="14860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A0A0-A9D4-4E78-B912-3DFEE0DB3E3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324000" y="-39600"/>
            <a:ext cx="2095200" cy="1955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4878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3"/>
          <a:stretch/>
        </p:blipFill>
        <p:spPr>
          <a:xfrm>
            <a:off x="2525760" y="6597720"/>
            <a:ext cx="4091040" cy="152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4"/>
          <a:stretch/>
        </p:blipFill>
        <p:spPr>
          <a:xfrm>
            <a:off x="539640" y="1916280"/>
            <a:ext cx="3959280" cy="9252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7"/>
          <p:cNvSpPr/>
          <p:nvPr/>
        </p:nvSpPr>
        <p:spPr>
          <a:xfrm>
            <a:off x="1072440" y="1989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整蛊图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"/>
          <p:cNvPicPr/>
          <p:nvPr/>
        </p:nvPicPr>
        <p:blipFill>
          <a:blip r:embed="rId5"/>
          <a:stretch/>
        </p:blipFill>
        <p:spPr>
          <a:xfrm>
            <a:off x="1658880" y="3068640"/>
            <a:ext cx="2336760" cy="2336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"/>
          <p:cNvPicPr/>
          <p:nvPr/>
        </p:nvPicPr>
        <p:blipFill>
          <a:blip r:embed="rId6"/>
          <a:stretch/>
        </p:blipFill>
        <p:spPr>
          <a:xfrm>
            <a:off x="5076720" y="3068640"/>
            <a:ext cx="2336760" cy="2336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"/>
          <p:cNvPicPr/>
          <p:nvPr/>
        </p:nvPicPr>
        <p:blipFill>
          <a:blip r:embed="rId7"/>
          <a:stretch/>
        </p:blipFill>
        <p:spPr>
          <a:xfrm>
            <a:off x="-684360" y="2997360"/>
            <a:ext cx="1016172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0T10:28:5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2:26Z</dcterms:modified>
  <cp:revision>8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