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RICOCHET.WAV" ContentType="audio/x-wav"/>
  <Override PartName="/ppt/media/image6.png" ContentType="image/png"/>
  <Override PartName="/ppt/media/CHIMES.WAV" ContentType="audio/x-wav"/>
  <Override PartName="/ppt/media/image7.png" ContentType="image/pn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  <p:custShowLst>
    <p:custShow name="自定义放映2" id="0">
      <p:sldLst>
        <p:sld r:id="rId9"/>
        <p:sld r:id="rId10"/>
        <p:sld r:id="rId11"/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F6D-83B3-4B4C-A6C0-87C46FC6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A45-A7A0-4D88-9C6F-1B7BAA45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835-B369-483D-83F7-77384528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D7B-E9E1-49D2-886C-4ABDA5F4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DEAA-C57D-4800-972D-95B1D6AF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3152-A879-47E3-836E-0A7297B5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13F8-3B0C-4B32-991D-7A5A030A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756E-FFCC-4A5E-ACC9-50F14A7C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508F-6E6B-43D0-B7C2-B7F2D29E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C923-597E-4ADC-BF45-9E4C8CD8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4C3F-F12D-4926-99D2-E496164B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20E-377C-4D7A-9258-5F22344B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4B7A-1EE8-4352-98BD-2230E659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BB6E-280B-4C38-AD24-E0AF0603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AFFD-9306-4245-A0E9-F5413867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511C-04E8-4A3A-AC15-F98B2662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7FF7-7969-4D81-B849-F04B1BDD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F73D3-38E1-4489-8C11-6A3E1F51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0F579-61E6-423C-9F35-7AB37CAE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C97EE-8065-437C-8B93-FEF60C04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04538-2BB5-42A6-AF85-D82B8337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C43D-5E28-4AE2-8159-74A65297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17E-D1D0-4BD4-BA6E-765B37BB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047F1-76F7-4B74-9CB2-C425B455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04B2-E5F6-48CE-A5E8-F92B2028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88554-5BFD-431C-9674-FF133A6C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F6F72-7528-42C2-8BE3-5F66ECEB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F80F-6109-451E-B8D7-7D22C419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F5C4-D65D-4A66-81C8-AD74E74B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08CAB-FAFD-4CDE-8528-C32BED92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122-E20B-4EE2-93E6-AC45D81A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E93-1363-4886-92B0-B537A27A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6D2-6C0C-4166-B8D6-547C4BAC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8C0-F6CC-4567-8FCE-38A06B69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EE3-58F0-4F8D-B686-A5F8C30B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879-7E6D-4304-B6DF-BA05315D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Picture 17" descr="education 2-2"/>
          <p:cNvPicPr/>
          <p:nvPr/>
        </p:nvPicPr>
        <p:blipFill>
          <a:blip r:embed="rId3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D52C-E7EB-4712-A2D7-AA7A3F81F7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FE2F-7EAE-4C0E-9C13-39F056E28C4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DED2-BAF5-4558-88D4-A7EDC5DB50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7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5" name="Picture 16" descr="education 2-2"/>
          <p:cNvPicPr/>
          <p:nvPr/>
        </p:nvPicPr>
        <p:blipFill>
          <a:blip r:embed="rId2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education 2-1"/>
          <p:cNvPicPr/>
          <p:nvPr/>
        </p:nvPicPr>
        <p:blipFill>
          <a:blip r:embed="rId3"/>
          <a:stretch/>
        </p:blipFill>
        <p:spPr>
          <a:xfrm>
            <a:off x="0" y="2743200"/>
            <a:ext cx="9144000" cy="1504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D998-25D0-4960-9493-9C44B7D008B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5" descr="《称象》曹冲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360" y="620280"/>
            <a:ext cx="3816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称 象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7002a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7002a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文本框 1"/>
          <p:cNvSpPr/>
          <p:nvPr/>
        </p:nvSpPr>
        <p:spPr>
          <a:xfrm>
            <a:off x="2351880" y="1890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幼圆"/>
              </a:rPr>
              <a:t>语文曹冲称象课件幻灯片免费下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0" y="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先把大象（               ）一艘大船上，看船身下沉多少，就（               ）水面，在船舷上（              ）。再把大象（                 ），往船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。等船下沉到画线的地方，（                  ）船上的石头。这样，就称出了大象的重量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708360" y="1159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  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156360" y="105264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沿  着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4067280" y="1989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画  线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11280" y="299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上岸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508720" y="299736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装石头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227640" y="3860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称 一 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0" y="0"/>
            <a:ext cx="90360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冒号、引号的用法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曹操问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谁有办法把这头大象称一称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有的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得造一杆大秤，砍一棵大树做秤杆。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有的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有了大秤也不成啊，谁有那么大的力气提得起这杆大秤呢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2688-B87F-48CB-81B7-874F1A3BCB7A}" type="slidenum">
              <a:rPr b="0" lang="zh-CN" sz="1400" spc="-1" strike="noStrike">
                <a:solidFill>
                  <a:srgbClr val="eaeaea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44784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08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0" y="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练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）曹操问      谁有办法把这头大象称一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(2)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曹冲站出来说       我有办法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）他大声喊       快回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203640" y="907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987640" y="620640"/>
            <a:ext cx="15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413080" y="13413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95640" y="256536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7451640" y="263700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。</a:t>
            </a:r>
            <a:r>
              <a:rPr b="0" lang="zh-CN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3564000" y="3860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372360" y="4005360"/>
            <a:ext cx="16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!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读读下面的词语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称象    柱子    议论      大秤   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一艘    船舷    官员们    宰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割        线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048200" y="5667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08000" y="5445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得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(děi)</a:t>
            </a: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造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杆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(gǎn)</a:t>
            </a: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大秤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3184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63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735120" y="98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0" y="115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读一读，比较每组中的两句话意思有什么不同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曹操听了摇头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曹操听了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</a:rPr>
              <a:t>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摇头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3860640"/>
            <a:ext cx="70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675080" y="3933720"/>
            <a:ext cx="4184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七岁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七岁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660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听到称大象的方法，曹冲想：</a:t>
            </a: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0" y="31082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听到宰大象的方法，曹冲想：                     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680760" y="1808280"/>
            <a:ext cx="269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用船当大称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08000" y="3860640"/>
            <a:ext cx="1297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用石头代替大象，可以一块一块地称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0" y="4797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我是曹冲，还会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(                        )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一步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赶象上船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沿水面画线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49" name="曹冲称象.avi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400800" cy="465768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8200"/>
          <p:cNvSpPr/>
          <p:nvPr/>
        </p:nvSpPr>
        <p:spPr>
          <a:xfrm>
            <a:off x="971640" y="1125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二步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赶象上岸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,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船装石头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52" name="曹冲称象1.avi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1722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三步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船沉画线处，称石头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54" name="曹冲称象2.avi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5257800" cy="385272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8200"/>
          <p:cNvSpPr/>
          <p:nvPr/>
        </p:nvSpPr>
        <p:spPr>
          <a:xfrm>
            <a:off x="1547640" y="12682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四步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计算石头总重量</a:t>
            </a:r>
            <a:endParaRPr b="0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57" name="Picture 6" descr="秤"/>
          <p:cNvPicPr/>
          <p:nvPr/>
        </p:nvPicPr>
        <p:blipFill>
          <a:blip r:embed="rId1"/>
          <a:stretch/>
        </p:blipFill>
        <p:spPr>
          <a:xfrm>
            <a:off x="1523880" y="1676520"/>
            <a:ext cx="5791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73512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0" y="260280"/>
            <a:ext cx="91440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觉得曹冲是一个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)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人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长大了，要做一个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(                                                          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人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120920" y="1052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聪明、爱动脑筋，遇到问题善于动脑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05:2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23Z</dcterms:modified>
  <cp:revision>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