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03B2-8DAB-4791-90E9-AB39C8A5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F578-867A-4FB1-9E06-72715558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0948-3A04-4B94-8388-C0FF3E31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12B5-234A-493F-A6E5-DF22E604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EEF2-2FE2-408D-BD6C-4939B22A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B2D3-7DF8-4D04-B992-BB4F34D0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A9D8-6047-4174-9EE7-725DACFA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A728-82BA-463B-99B2-A23AE264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5EF7-BD5D-4F62-B0A1-04A9A445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1816-942A-43FA-8A0E-9B7395EB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32DE-0F7A-4FD7-86D1-B1EEC322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B6B1-5D2C-44FA-87C3-AEAFCD0D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B28C-20BC-495D-AC5F-15ED5C03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1A3F-09EC-43A5-8C2F-569120CD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E4FB-DAF5-4B2A-B5D2-A10A3653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378F-6638-4D2C-95D4-0B5CE87E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245B-60E6-4CF8-AFA0-CE31F1B6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C7A8-4386-4EDF-A3F5-EAEE9DE9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F3C6-0939-4B25-A50E-BFF609B4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1AA5-5C8A-4C79-90B5-0E53AC57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DF0F-F17C-42BB-B3B2-B6720E10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AECE-D7E7-405E-AA23-4F8035E4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87A1-8201-46ED-A23F-22331FAC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7BAC-648E-40B5-8877-2EFA5C04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7DF1-FF0F-45B0-8270-1FB75F20A0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2E87-647A-48E9-968C-5B47CBB8A0C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B542-5C68-4013-B93C-FC7F30EA0FD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&#25152;&#35265;.swf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9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《所见》插图"/>
          <p:cNvPicPr/>
          <p:nvPr/>
        </p:nvPicPr>
        <p:blipFill>
          <a:blip r:embed="rId17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1447920" y="11430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所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914400" y="19810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牧  童  骑   黄    牛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990720" y="2743200"/>
            <a:ext cx="350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歌  声     振   林 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990720" y="3581280"/>
            <a:ext cx="350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意  欲  捕   鸣    蝉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990720" y="4419720"/>
            <a:ext cx="350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忽  然   闭   口  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1600200" y="838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zypyyb"/>
                <a:ea typeface="zypyyb"/>
              </a:rPr>
              <a:t>suo j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990720" y="16765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zypyyb"/>
                <a:ea typeface="zypyyb"/>
              </a:rPr>
              <a:t>mu tong qi huang ni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990720" y="24382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zypyyb"/>
                <a:ea typeface="zypyyb"/>
              </a:rPr>
              <a:t>ge sheng zhen lin y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990720" y="3276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zypyyb"/>
                <a:ea typeface="zypyyb"/>
              </a:rPr>
              <a:t>yi  yu  bu  ming c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990720" y="4114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zypyyb"/>
                <a:ea typeface="zypyyb"/>
              </a:rPr>
              <a:t>hu  ran  bi  kou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3"/>
          <p:cNvSpPr/>
          <p:nvPr/>
        </p:nvSpPr>
        <p:spPr>
          <a:xfrm>
            <a:off x="6629400" y="1523880"/>
            <a:ext cx="1447920" cy="609840"/>
          </a:xfrm>
          <a:prstGeom prst="horizontalScroll">
            <a:avLst>
              <a:gd name="adj" fmla="val 12500"/>
            </a:avLst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课文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4"/>
          <p:cNvSpPr/>
          <p:nvPr/>
        </p:nvSpPr>
        <p:spPr>
          <a:xfrm>
            <a:off x="6629400" y="2590920"/>
            <a:ext cx="1447920" cy="609480"/>
          </a:xfrm>
          <a:prstGeom prst="horizontalScroll">
            <a:avLst>
              <a:gd name="adj" fmla="val 12500"/>
            </a:avLst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作者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15"/>
          <p:cNvSpPr/>
          <p:nvPr/>
        </p:nvSpPr>
        <p:spPr>
          <a:xfrm>
            <a:off x="6629400" y="3657600"/>
            <a:ext cx="1447920" cy="609480"/>
          </a:xfrm>
          <a:prstGeom prst="horizontalScroll">
            <a:avLst>
              <a:gd name="adj" fmla="val 12500"/>
            </a:avLst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课堂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6">
            <a:hlinkClick r:id="" action="ppaction://hlinkshowjump?jump=endshow"/>
          </p:cNvPr>
          <p:cNvSpPr/>
          <p:nvPr/>
        </p:nvSpPr>
        <p:spPr>
          <a:xfrm>
            <a:off x="6629400" y="50292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056" h="21600">
                <a:moveTo>
                  <a:pt x="44527" y="10800"/>
                </a:moveTo>
                <a:lnTo>
                  <a:pt x="34021" y="17806"/>
                </a:lnTo>
                <a:lnTo>
                  <a:pt x="34021" y="3794"/>
                </a:lnTo>
                <a:close/>
              </a:path>
              <a:path fill="darken" w="82056" h="21600">
                <a:moveTo>
                  <a:pt x="46372" y="3794"/>
                </a:moveTo>
                <a:lnTo>
                  <a:pt x="46372" y="17806"/>
                </a:lnTo>
                <a:lnTo>
                  <a:pt x="48034" y="17806"/>
                </a:lnTo>
                <a:lnTo>
                  <a:pt x="48034" y="3794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文本框 2"/>
          <p:cNvSpPr/>
          <p:nvPr/>
        </p:nvSpPr>
        <p:spPr>
          <a:xfrm>
            <a:off x="1568160" y="44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语文课件古诗两首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PM_001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>
            <a:hlinkClick r:id="rId2"/>
          </p:cNvPr>
          <p:cNvSpPr/>
          <p:nvPr/>
        </p:nvSpPr>
        <p:spPr>
          <a:xfrm>
            <a:off x="1828800" y="19051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生字学习与朗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1828800" y="2743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诗意解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方正彩云简体"/>
                <a:ea typeface="方正彩云简体"/>
              </a:rPr>
              <a:t>所 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807732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PM_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514600" y="1676520"/>
            <a:ext cx="4572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牧童骑在黄牛背上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歌声在树林中回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心想捕捉鸣叫的知了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马上站在树下一声不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676520" y="914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诗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8305920" y="6019920"/>
            <a:ext cx="585720" cy="509400"/>
          </a:xfrm>
          <a:custGeom>
            <a:avLst/>
            <a:gdLst>
              <a:gd name="textAreaLeft" fmla="*/ 32760 w 585720"/>
              <a:gd name="textAreaRight" fmla="*/ 552960 w 58572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4834" h="21600">
                <a:moveTo>
                  <a:pt x="0" y="0"/>
                </a:moveTo>
                <a:lnTo>
                  <a:pt x="24834" y="0"/>
                </a:lnTo>
                <a:lnTo>
                  <a:pt x="24834" y="21600"/>
                </a:lnTo>
                <a:lnTo>
                  <a:pt x="0" y="21600"/>
                </a:lnTo>
                <a:close/>
              </a:path>
              <a:path fill="lightenLess" w="24834" h="21600">
                <a:moveTo>
                  <a:pt x="0" y="0"/>
                </a:moveTo>
                <a:lnTo>
                  <a:pt x="24834" y="0"/>
                </a:lnTo>
                <a:lnTo>
                  <a:pt x="23434" y="1400"/>
                </a:lnTo>
                <a:lnTo>
                  <a:pt x="1400" y="1400"/>
                </a:lnTo>
                <a:close/>
              </a:path>
              <a:path fill="darken" w="24834" h="21600">
                <a:moveTo>
                  <a:pt x="24834" y="0"/>
                </a:moveTo>
                <a:lnTo>
                  <a:pt x="24834" y="21600"/>
                </a:lnTo>
                <a:lnTo>
                  <a:pt x="23434" y="20200"/>
                </a:lnTo>
                <a:lnTo>
                  <a:pt x="23434" y="1400"/>
                </a:lnTo>
                <a:close/>
              </a:path>
              <a:path fill="darkenLess" w="24834" h="21600">
                <a:moveTo>
                  <a:pt x="24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4" y="20200"/>
                </a:lnTo>
                <a:close/>
              </a:path>
              <a:path fill="lighten" w="24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4" h="21600">
                <a:moveTo>
                  <a:pt x="5410" y="10800"/>
                </a:moveTo>
                <a:lnTo>
                  <a:pt x="19423" y="3794"/>
                </a:lnTo>
                <a:lnTo>
                  <a:pt x="19423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文本框 8200"/>
          <p:cNvSpPr/>
          <p:nvPr/>
        </p:nvSpPr>
        <p:spPr>
          <a:xfrm>
            <a:off x="2340000" y="6453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6" descr="PM_0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3581280" y="152388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作者简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581280" y="259092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补充诗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3581280" y="3657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补充诗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78487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袁枚简介.wav" descr=""/>
          <p:cNvPicPr/>
          <p:nvPr/>
        </p:nvPicPr>
        <p:blipFill>
          <a:blip r:embed="rId2"/>
          <a:stretch/>
        </p:blipFill>
        <p:spPr>
          <a:xfrm>
            <a:off x="5638680" y="16765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PM_015"/>
          <p:cNvPicPr/>
          <p:nvPr/>
        </p:nvPicPr>
        <p:blipFill>
          <a:blip r:embed="rId1"/>
          <a:stretch/>
        </p:blipFill>
        <p:spPr>
          <a:xfrm>
            <a:off x="-380880" y="0"/>
            <a:ext cx="9905760" cy="72057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4277880" y="1523880"/>
            <a:ext cx="2905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</a:rPr>
              <a:t>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993300"/>
                </a:solidFill>
                <a:latin typeface="楷体_GB2312"/>
              </a:rPr>
              <a:t>袁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</a:rPr>
              <a:t>养鸡纵鸡食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</a:rPr>
              <a:t>鸡肥乃烹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</a:rPr>
              <a:t>主人计固佳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</a:rPr>
              <a:t>不可与鸡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8153280" y="571500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文本框 8200"/>
          <p:cNvSpPr/>
          <p:nvPr/>
        </p:nvSpPr>
        <p:spPr>
          <a:xfrm>
            <a:off x="2916360" y="5229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PM_001"/>
          <p:cNvPicPr/>
          <p:nvPr/>
        </p:nvPicPr>
        <p:blipFill>
          <a:blip r:embed="rId1"/>
          <a:stretch/>
        </p:blipFill>
        <p:spPr>
          <a:xfrm>
            <a:off x="533520" y="173160"/>
            <a:ext cx="8610480" cy="65293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990720" y="1371600"/>
            <a:ext cx="655308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箴作诗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               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袁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倚马休夸速藻佳，相如终竟压邹枚。</a:t>
            </a:r>
            <a:br>
              <a:rPr sz="2800"/>
            </a:b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物须见少方为贵，诗到能迟转是才。</a:t>
            </a:r>
            <a:br>
              <a:rPr sz="2800"/>
            </a:b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清角声高非易奏，优昙花好不轻开。</a:t>
            </a:r>
            <a:br>
              <a:rPr sz="2800"/>
            </a:b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须知极乐神仙境，修炼多从苦处来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8229600" y="6095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5763-BF5D-438E-B669-91C7F0517DB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PM_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133720" y="12193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想一想：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牧童是怎样捉蝉的呢？他捉到了蝉吗？把这些编成一个故事，讲给大家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8077320" y="60199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06:44:1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24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