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DD1-5873-4C1D-9948-8B601317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8BF-E702-4E8A-B49E-5EC92497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A9E-1357-4918-AE40-DB82D84D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C0D-F49E-4EE5-AAD6-A132F2AF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BFDA-E872-48BA-B7AA-81810270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9F09-AF27-43AD-8635-4397A424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BD08-A9A1-4697-99A8-D278DEAD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22B-D1E6-4F66-B01F-B44932D4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1097-F98B-41D7-A76D-DC98CF6F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6DC9-9E25-4042-AE2A-1CA90ED3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89BF-410E-4C27-8AB0-4BF3511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7BC-B7FE-4171-A523-1C92957A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EA9D-4CA4-422A-AF72-B91EB15E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1079-947A-4CBC-A0A2-484EE6FC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59B9-44C9-4738-BEE2-B04DBC59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9C7F-863A-449B-BBC2-B2B54A2A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B434-F444-4313-8D03-EC9A561C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6C81-F208-466F-BC18-4896C8AB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34ED-C5C0-4581-A93D-501F028D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402E-06CC-446D-A852-20D2940F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3410-E195-4492-951B-8F13460E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6365-267E-4C0E-A786-83A7587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9F0-71C6-4AF0-A0CF-0F7BBAA4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5323-DB9F-44D0-82DD-9F0AAD4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4BBE-E711-4410-8B1E-0B69286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029B-F024-4D4F-8294-3FF6CECF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ACBD-7CAE-40E2-A64F-F14D993A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B72E9-0708-4FBE-B856-6B1CDBE5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B116-9B8D-4DCA-944B-8E851B1E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B934-7971-4539-BEA5-D8B5DD83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5FD-639F-4854-ABFF-9943A26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D11-8DF9-4A2F-9FF6-598091B6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B92-DF2C-4CBE-A2B0-4D1FAAC3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067-1F29-48BE-AA62-9405455F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CBE-4FE5-42BB-AC17-A056BC5E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8BF-1532-4971-B969-E555BCD8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F6D8-BBB0-472E-9BE5-5FB777D93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CE85-CBAD-47D8-8A37-DFD6EE36F16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50C7-0A03-48B4-8CD3-08C5D28CA6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E377-308C-4EEA-BE7B-2841F9498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b76a03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b76a03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语文课件四个太阳幻灯片下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冻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脸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该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因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34C9-986A-4345-92D3-B7A80D5C2A4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季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46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eec94"/>
                </a:solidFill>
                <a:latin typeface="Times New Roman"/>
              </a:rPr>
              <a:t>挂</a:t>
            </a:r>
            <a:endParaRPr b="1" lang="en-US" sz="30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街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熟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伙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拌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甜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尝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ffffff"/>
                </a:solidFill>
                <a:latin typeface="Times New Roman"/>
              </a:rPr>
              <a:t>温</a:t>
            </a:r>
            <a:endParaRPr b="0" lang="en-US" sz="3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6:17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6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