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2B8-AA13-4FD5-A089-F5C0EFD0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1DC-44FC-4D4B-8350-097AE087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C30-6927-46A6-B789-6B5B689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C79-74BD-4499-A9B1-BA092481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58C-DEF0-4009-B59E-802CA0EC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20F6-A17F-4A0D-A532-B75A1F1A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7786-7B44-48A2-BC37-F285265F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AD1F-9917-4243-BCE7-B25A67A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EC5-4BA6-414E-9BFA-F12D3FEB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195-5E12-46D9-8E1F-BE74FE5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DBE-D612-461F-8D07-8100F1F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CE1-2258-48E6-8DB1-1CA50203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0B8-4E1C-48BD-BC1E-1CDEB31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F28-F0A0-438C-960B-46EE71F1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0754-10EB-4BD5-AD35-2B5F66B0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65CB-2883-441D-A0B5-6CA8AC48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60D5-8FE6-429D-9E11-A4705415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619-83B3-4694-B8E4-831B4D0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E51-C4FB-4AE0-96F6-BB53A475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594-C3B2-408A-B448-988E7B8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125-99D6-4D01-9187-7BDA404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6EC-2999-453C-96E5-FD721DEC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DC8-FF2D-4C69-B66C-3BEDF30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BCD-0D16-4A67-AA93-D98780E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5B7-2929-4E82-8DF4-55233C2BB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D3DA-5E06-4BDB-BC92-1BFAE579C7D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111D-25BA-4464-A5B3-5D5EDED46B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059280" y="4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68440" y="1192320"/>
            <a:ext cx="760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文课件司马光幻灯片下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908000" y="4653000"/>
            <a:ext cx="49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关回小　　马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765000"/>
            <a:ext cx="92520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黑体"/>
              </a:rPr>
              <a:t>拓展思维 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50920" y="2349360"/>
            <a:ext cx="88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小朋友都谎了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司马光为什么不跑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知道他在想什么吗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如果当时你也在花园玩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有什么办法救小伙伴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0" y="8640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板书设计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没有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──举石头砸缸救人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想办法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92C8-0F9F-4B1E-BB52-F28CE63A4D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250920" y="-27000"/>
            <a:ext cx="8532720" cy="74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选字填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友   有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）我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许多好朋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块   快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我们一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儿玩得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乐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42920" y="549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8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270920"/>
          </a:xfrm>
          <a:prstGeom prst="rect">
            <a:avLst/>
          </a:prstGeom>
          <a:ln w="0">
            <a:noFill/>
          </a:ln>
        </p:spPr>
      </p:pic>
      <p:pic>
        <p:nvPicPr>
          <p:cNvPr id="93" name="Object 5" descr=""/>
          <p:cNvPicPr/>
          <p:nvPr/>
        </p:nvPicPr>
        <p:blipFill>
          <a:blip r:embed="rId2"/>
          <a:stretch/>
        </p:blipFill>
        <p:spPr>
          <a:xfrm>
            <a:off x="3419640" y="1557360"/>
            <a:ext cx="109980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200"/>
          <p:cNvSpPr/>
          <p:nvPr/>
        </p:nvSpPr>
        <p:spPr>
          <a:xfrm>
            <a:off x="2268360" y="63817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68360" y="47628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要求：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95280" y="1628640"/>
            <a:ext cx="87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１）自由读课文，注意读准字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２）听老师范读，学生边听边画出生字新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３）同桌互读生字词，纠正错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４）检查生字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0"/>
            <a:ext cx="913464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ɡǔ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ā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jǐ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éng     yǒu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古　　他　　几　　朋　　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ǎn     xín     bié     dōu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满　　心　　别　　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kū      zhǎo     kuài     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哭　　找     　快　　得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41864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ō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51404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95280" y="549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认一认　读一读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220500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几个　小朋友　小心　石头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出来　古时候　 孩子　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得救　砸破　   花园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学习课文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170028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●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发生了什么危险的事？别的小朋友看到小伙伴掉进水缸，他们的表现怎样？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●司马光的表现与别的孩子有什么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不同？结果怎么样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162864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别的小朋友都慌了，有的吓哭了有的叫着喊着，跑去找大人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没有慌，他举起一块石头，使劲砸那口缸，几下子就砸破了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3280" y="4221000"/>
            <a:ext cx="3384720" cy="360"/>
            <a:chOff x="4643280" y="4221000"/>
            <a:chExt cx="3384720" cy="360"/>
          </a:xfrm>
        </p:grpSpPr>
        <p:sp>
          <p:nvSpPr>
            <p:cNvPr id="109" name="Line 5"/>
            <p:cNvSpPr/>
            <p:nvPr/>
          </p:nvSpPr>
          <p:spPr>
            <a:xfrm>
              <a:off x="4643280" y="42210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4643280" y="4221000"/>
              <a:ext cx="33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95280" y="5013360"/>
            <a:ext cx="8064360" cy="360"/>
            <a:chOff x="395280" y="5013360"/>
            <a:chExt cx="8064360" cy="360"/>
          </a:xfrm>
        </p:grpSpPr>
        <p:sp>
          <p:nvSpPr>
            <p:cNvPr id="112" name="Line 6"/>
            <p:cNvSpPr/>
            <p:nvPr/>
          </p:nvSpPr>
          <p:spPr>
            <a:xfrm>
              <a:off x="395280" y="5013360"/>
              <a:ext cx="8064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95280" y="501336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5734080"/>
            <a:ext cx="826920" cy="360"/>
            <a:chOff x="0" y="5734080"/>
            <a:chExt cx="826920" cy="360"/>
          </a:xfrm>
        </p:grpSpPr>
        <p:sp>
          <p:nvSpPr>
            <p:cNvPr id="115" name="Line 7"/>
            <p:cNvSpPr/>
            <p:nvPr/>
          </p:nvSpPr>
          <p:spPr>
            <a:xfrm>
              <a:off x="0" y="5734080"/>
              <a:ext cx="826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0" y="5734080"/>
              <a:ext cx="82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1280" y="2349360"/>
            <a:ext cx="4897440" cy="360"/>
            <a:chOff x="3851280" y="2349360"/>
            <a:chExt cx="4897440" cy="360"/>
          </a:xfrm>
        </p:grpSpPr>
        <p:sp>
          <p:nvSpPr>
            <p:cNvPr id="118" name="Line 9"/>
            <p:cNvSpPr/>
            <p:nvPr/>
          </p:nvSpPr>
          <p:spPr>
            <a:xfrm>
              <a:off x="3851280" y="2349360"/>
              <a:ext cx="4897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851280" y="234936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0" y="3141720"/>
            <a:ext cx="7093080" cy="360"/>
            <a:chOff x="0" y="3141720"/>
            <a:chExt cx="7093080" cy="360"/>
          </a:xfrm>
        </p:grpSpPr>
        <p:sp>
          <p:nvSpPr>
            <p:cNvPr id="121" name="Line 10"/>
            <p:cNvSpPr/>
            <p:nvPr/>
          </p:nvSpPr>
          <p:spPr>
            <a:xfrm>
              <a:off x="0" y="3141720"/>
              <a:ext cx="7093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0" y="3141720"/>
              <a:ext cx="70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23" name="Text Box 11"/>
          <p:cNvSpPr/>
          <p:nvPr/>
        </p:nvSpPr>
        <p:spPr>
          <a:xfrm>
            <a:off x="684360" y="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答案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06:39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