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7.gif" ContentType="image/gif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080B-2EEB-4A7D-A22A-04C324EE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C51-D813-4EF5-91EE-58D1AE21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80B-C484-4B61-B489-426E3269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02F-B831-4930-BAC9-FBC3779A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6F9D-7D4D-420B-AD25-E6E3B39E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70BE-36AD-44C7-85A9-56F70B9C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CF37-D580-48CE-B3DA-984D4AF8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8906-60BB-4F8C-B8F4-8114211D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8FB9-02D4-4B2E-990B-A896D54B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EA5A-D953-4E45-A4BB-0E658D80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9A23-F57A-49B8-BE5F-440DB353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324-F671-4DD2-B2B6-4881FCD9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2CE0-7934-4BAD-9A46-F6F290DF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BE3B-D1E6-4D5F-A4AC-82E1E040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7900-F1CE-45BD-8434-8275A365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3EB4-E684-4309-82C2-0B584F4F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F125-19C3-4F60-9EC3-4924CB7C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893B-81D3-408B-A508-ABFF0947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1011-3075-4F72-9E9B-04E1BED0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F0D-BC3E-483E-9452-D972BAD6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A11-F59E-4BA1-803C-5485C2AE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29B-9DF8-467C-84C1-4E36430B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4BA-B1C3-49B2-994A-9E16F7C9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F745-608A-4B40-9C27-55BF57CD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8122-5DC1-4503-BFC4-53B1DF0F7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98F4-DB4D-405F-BE9E-9BFE3C095E1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FF48-ED4A-4308-B8E4-1070AB1C3B7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28_htekUv7ILgcx"/>
          <p:cNvPicPr/>
          <p:nvPr/>
        </p:nvPicPr>
        <p:blipFill>
          <a:blip r:embed="rId1"/>
          <a:srcRect l="0" t="0" r="1122" b="68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2496600" y="10666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语文课件识字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8153280" y="64008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20001222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2433600" y="699840"/>
            <a:ext cx="25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根据课文内容填空，并写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个字谜的谜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1828800" y="2666880"/>
            <a:ext cx="762120" cy="65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3"/>
          <a:stretch/>
        </p:blipFill>
        <p:spPr>
          <a:xfrm>
            <a:off x="3352680" y="2666880"/>
            <a:ext cx="762120" cy="655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1206720" y="25898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2578320" y="25898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4381560" y="2589840"/>
            <a:ext cx="148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里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1130400" y="34279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4" descr=""/>
          <p:cNvPicPr/>
          <p:nvPr/>
        </p:nvPicPr>
        <p:blipFill>
          <a:blip r:embed="rId4"/>
          <a:stretch/>
        </p:blipFill>
        <p:spPr>
          <a:xfrm>
            <a:off x="1828800" y="3505320"/>
            <a:ext cx="762120" cy="655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"/>
          <p:cNvPicPr/>
          <p:nvPr/>
        </p:nvPicPr>
        <p:blipFill>
          <a:blip r:embed="rId5"/>
          <a:stretch/>
        </p:blipFill>
        <p:spPr>
          <a:xfrm>
            <a:off x="1828800" y="5410080"/>
            <a:ext cx="762120" cy="65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"/>
          <p:cNvPicPr/>
          <p:nvPr/>
        </p:nvPicPr>
        <p:blipFill>
          <a:blip r:embed="rId6"/>
          <a:stretch/>
        </p:blipFill>
        <p:spPr>
          <a:xfrm>
            <a:off x="1828800" y="4419720"/>
            <a:ext cx="762120" cy="655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"/>
          <p:cNvPicPr/>
          <p:nvPr/>
        </p:nvPicPr>
        <p:blipFill>
          <a:blip r:embed="rId7"/>
          <a:stretch/>
        </p:blipFill>
        <p:spPr>
          <a:xfrm>
            <a:off x="4191120" y="4419720"/>
            <a:ext cx="761760" cy="655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"/>
          <p:cNvPicPr/>
          <p:nvPr/>
        </p:nvPicPr>
        <p:blipFill>
          <a:blip r:embed="rId8"/>
          <a:stretch/>
        </p:blipFill>
        <p:spPr>
          <a:xfrm>
            <a:off x="3352680" y="3505320"/>
            <a:ext cx="762120" cy="655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"/>
          <p:cNvPicPr/>
          <p:nvPr/>
        </p:nvPicPr>
        <p:blipFill>
          <a:blip r:embed="rId9"/>
          <a:stretch/>
        </p:blipFill>
        <p:spPr>
          <a:xfrm>
            <a:off x="5105520" y="4419720"/>
            <a:ext cx="761760" cy="655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0" descr=""/>
          <p:cNvPicPr/>
          <p:nvPr/>
        </p:nvPicPr>
        <p:blipFill>
          <a:blip r:embed="rId10"/>
          <a:stretch/>
        </p:blipFill>
        <p:spPr>
          <a:xfrm>
            <a:off x="4191120" y="5334120"/>
            <a:ext cx="76176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1"/>
          <p:cNvSpPr/>
          <p:nvPr/>
        </p:nvSpPr>
        <p:spPr>
          <a:xfrm>
            <a:off x="2597400" y="335160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4435200" y="141516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打一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1130400" y="426600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1130400" y="52567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2871000" y="5333040"/>
            <a:ext cx="10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能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2871000" y="4266000"/>
            <a:ext cx="10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8" descr=""/>
          <p:cNvPicPr/>
          <p:nvPr/>
        </p:nvPicPr>
        <p:blipFill>
          <a:blip r:embed="rId11"/>
          <a:stretch/>
        </p:blipFill>
        <p:spPr>
          <a:xfrm>
            <a:off x="5105520" y="5364000"/>
            <a:ext cx="761760" cy="6559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0"/>
          <p:cNvSpPr/>
          <p:nvPr/>
        </p:nvSpPr>
        <p:spPr>
          <a:xfrm>
            <a:off x="1893240" y="25898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1"/>
          <p:cNvSpPr/>
          <p:nvPr/>
        </p:nvSpPr>
        <p:spPr>
          <a:xfrm>
            <a:off x="3417120" y="25898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2"/>
          <p:cNvSpPr/>
          <p:nvPr/>
        </p:nvSpPr>
        <p:spPr>
          <a:xfrm>
            <a:off x="1893240" y="34279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3"/>
          <p:cNvSpPr/>
          <p:nvPr/>
        </p:nvSpPr>
        <p:spPr>
          <a:xfrm>
            <a:off x="4457880" y="3427920"/>
            <a:ext cx="148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庄稼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4"/>
          <p:cNvSpPr/>
          <p:nvPr/>
        </p:nvSpPr>
        <p:spPr>
          <a:xfrm>
            <a:off x="3417120" y="34279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5"/>
          <p:cNvSpPr/>
          <p:nvPr/>
        </p:nvSpPr>
        <p:spPr>
          <a:xfrm>
            <a:off x="1893240" y="43423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4255560" y="43423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7"/>
          <p:cNvSpPr/>
          <p:nvPr/>
        </p:nvSpPr>
        <p:spPr>
          <a:xfrm>
            <a:off x="5169960" y="43423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8"/>
          <p:cNvSpPr/>
          <p:nvPr/>
        </p:nvSpPr>
        <p:spPr>
          <a:xfrm>
            <a:off x="1893240" y="53330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9"/>
          <p:cNvSpPr/>
          <p:nvPr/>
        </p:nvSpPr>
        <p:spPr>
          <a:xfrm>
            <a:off x="4255560" y="53330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0"/>
          <p:cNvSpPr/>
          <p:nvPr/>
        </p:nvSpPr>
        <p:spPr>
          <a:xfrm>
            <a:off x="5169960" y="53330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1"/>
          <p:cNvSpPr/>
          <p:nvPr/>
        </p:nvSpPr>
        <p:spPr>
          <a:xfrm>
            <a:off x="5627160" y="129420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8200"/>
          <p:cNvSpPr/>
          <p:nvPr/>
        </p:nvSpPr>
        <p:spPr>
          <a:xfrm>
            <a:off x="1447920" y="17524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20001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2012760" y="837000"/>
            <a:ext cx="157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四、猜一猜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3063240" y="2894040"/>
            <a:ext cx="2785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空中一只鸟，老是跟你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长长线牵牢，跟你来赛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风来飞得高，雨来往下掉。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谜底：（      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2817360" y="49197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风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DF8F-CFC6-4B0D-AE2B-22C321FE18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20001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2012760" y="837000"/>
            <a:ext cx="157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五、读一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710360" y="2607120"/>
            <a:ext cx="4368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骆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萝卜，一大箩， 路上走来小骆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伙一起用力拖。 “别再拖，别再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拖呀拖，汗水落， 再拖箩筐就要破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拖得累了坐一坐。 小骆驼，驮萝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坐一坐，再来拖。 他说干活最快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喜欢小骆驼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733920" y="3200400"/>
            <a:ext cx="360" cy="2362320"/>
            <a:chOff x="3733920" y="3200400"/>
            <a:chExt cx="360" cy="2362320"/>
          </a:xfrm>
        </p:grpSpPr>
        <p:sp>
          <p:nvSpPr>
            <p:cNvPr id="173" name="Line 6"/>
            <p:cNvSpPr/>
            <p:nvPr/>
          </p:nvSpPr>
          <p:spPr>
            <a:xfrm>
              <a:off x="3733920" y="3200400"/>
              <a:ext cx="0" cy="23623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3733920" y="3200400"/>
              <a:ext cx="360" cy="2362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20069821212349557"/>
          <p:cNvPicPr/>
          <p:nvPr/>
        </p:nvPicPr>
        <p:blipFill>
          <a:blip r:embed="rId1"/>
          <a:srcRect l="0" t="2584" r="0" b="66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152000" y="914400"/>
            <a:ext cx="2009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奔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驰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田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你我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池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545977"/>
          <p:cNvPicPr/>
          <p:nvPr/>
        </p:nvPicPr>
        <p:blipFill>
          <a:blip r:embed="rId1"/>
          <a:srcRect l="0" t="6529" r="244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1870560" y="533412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有马能行千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上传的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946520" y="45720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ff"/>
                </a:solidFill>
                <a:latin typeface="Arial"/>
              </a:rPr>
              <a:t>有人不是你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8200"/>
          <p:cNvSpPr/>
          <p:nvPr/>
        </p:nvSpPr>
        <p:spPr>
          <a:xfrm>
            <a:off x="2362320" y="63244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06072300231429"/>
          <p:cNvPicPr/>
          <p:nvPr/>
        </p:nvPicPr>
        <p:blipFill>
          <a:blip r:embed="rId1"/>
          <a:srcRect l="0" t="0" r="1043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2022840" y="76212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有土能种庄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xin_2512022615510752684261"/>
          <p:cNvPicPr/>
          <p:nvPr/>
        </p:nvPicPr>
        <p:blipFill>
          <a:blip r:embed="rId1"/>
          <a:stretch/>
        </p:blipFill>
        <p:spPr>
          <a:xfrm>
            <a:off x="2476440" y="0"/>
            <a:ext cx="6667560" cy="6676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1413360" y="403848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有水能养鱼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20001204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1590120" y="2819520"/>
            <a:ext cx="418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奔驰 池塘 行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千里 庄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稼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养育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鱼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1240920" y="434880"/>
            <a:ext cx="45856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0000"/>
                </a:solidFill>
                <a:latin typeface="Arial"/>
              </a:rPr>
              <a:t>驰</a:t>
            </a:r>
            <a:r>
              <a:rPr b="1" lang="zh-CN" sz="5700" spc="-1" strike="noStrike">
                <a:solidFill>
                  <a:srgbClr val="ff0000"/>
                </a:solidFill>
                <a:latin typeface="Arial"/>
              </a:rPr>
              <a:t>马</a:t>
            </a:r>
            <a:r>
              <a:rPr b="1" lang="zh-CN" sz="5700" spc="-1" strike="noStrike">
                <a:solidFill>
                  <a:srgbClr val="000000"/>
                </a:solidFill>
                <a:latin typeface="Arial"/>
              </a:rPr>
              <a:t> 奔</a:t>
            </a:r>
            <a:r>
              <a:rPr b="1" lang="zh-CN" sz="5700" spc="-1" strike="noStrike">
                <a:solidFill>
                  <a:srgbClr val="ff0000"/>
                </a:solidFill>
                <a:latin typeface="Arial"/>
              </a:rPr>
              <a:t>大</a:t>
            </a:r>
            <a:r>
              <a:rPr b="1" lang="zh-CN" sz="5700" spc="-1" strike="noStrike">
                <a:solidFill>
                  <a:srgbClr val="000000"/>
                </a:solidFill>
                <a:latin typeface="Arial"/>
              </a:rPr>
              <a:t> 池 塘</a:t>
            </a:r>
            <a:r>
              <a:rPr b="1" lang="zh-CN" sz="5700" spc="-1" strike="noStrike">
                <a:solidFill>
                  <a:srgbClr val="ff0000"/>
                </a:solidFill>
                <a:latin typeface="Arial"/>
              </a:rPr>
              <a:t>土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700" spc="-1" strike="noStrike">
                <a:solidFill>
                  <a:srgbClr val="000000"/>
                </a:solidFill>
                <a:latin typeface="Arial"/>
              </a:rPr>
              <a:t>行</a:t>
            </a:r>
            <a:r>
              <a:rPr b="1" lang="zh-CN" sz="5700" spc="-1" strike="noStrike">
                <a:solidFill>
                  <a:srgbClr val="ff0000"/>
                </a:solidFill>
                <a:latin typeface="Arial"/>
              </a:rPr>
              <a:t>彳</a:t>
            </a:r>
            <a:r>
              <a:rPr b="1" lang="zh-CN" sz="5700" spc="-1" strike="noStrike">
                <a:solidFill>
                  <a:srgbClr val="000000"/>
                </a:solidFill>
                <a:latin typeface="Arial"/>
              </a:rPr>
              <a:t>千 庄</a:t>
            </a:r>
            <a:r>
              <a:rPr b="1" lang="zh-CN" sz="5700" spc="-1" strike="noStrike">
                <a:solidFill>
                  <a:srgbClr val="ff0000"/>
                </a:solidFill>
                <a:latin typeface="Arial"/>
              </a:rPr>
              <a:t>广</a:t>
            </a:r>
            <a:r>
              <a:rPr b="1" lang="zh-CN" sz="5700" spc="-1" strike="noStrike">
                <a:solidFill>
                  <a:srgbClr val="000000"/>
                </a:solidFill>
                <a:latin typeface="Arial"/>
              </a:rPr>
              <a:t> 养 虾</a:t>
            </a:r>
            <a:r>
              <a:rPr b="1" lang="zh-CN" sz="5700" spc="-1" strike="noStrike">
                <a:solidFill>
                  <a:srgbClr val="ff0000"/>
                </a:solidFill>
                <a:latin typeface="Arial"/>
              </a:rPr>
              <a:t>虫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8200"/>
          <p:cNvSpPr/>
          <p:nvPr/>
        </p:nvSpPr>
        <p:spPr>
          <a:xfrm>
            <a:off x="1600200" y="60199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20001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2190240" y="837000"/>
            <a:ext cx="19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、选字填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31920" y="2817720"/>
            <a:ext cx="5200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池    地    他    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奔（    ）  田（    ）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）塘   你我（    ）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121480" y="3581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321880" y="3581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131120" y="4419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779080" y="4419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20001222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3504960" y="837000"/>
            <a:ext cx="88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二、看拼音，写词语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390960" y="2209320"/>
            <a:ext cx="667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ēn   chí     chí  tánɡ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644040" y="4266720"/>
            <a:ext cx="609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iān   lǐ      tián   dì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293760" y="3200040"/>
            <a:ext cx="68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ǎnɡ  xiā    cūn zhuā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16680" y="5333400"/>
            <a:ext cx="562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xínɡ  rén     yú   xi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02:51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28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